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6.png" ContentType="image/png"/>
  <Override PartName="/ppt/media/image29.png" ContentType="image/png"/>
  <Override PartName="/ppt/media/image7.png" ContentType="image/png"/>
  <Override PartName="/ppt/media/image12.png" ContentType="image/png"/>
  <Override PartName="/ppt/media/image8.png" ContentType="image/png"/>
  <Override PartName="/ppt/media/image13.png" ContentType="image/png"/>
  <Override PartName="/ppt/media/image17.wmf" ContentType="image/x-wmf"/>
  <Override PartName="/ppt/media/image9.png" ContentType="image/png"/>
  <Override PartName="/ppt/media/image14.png" ContentType="image/png"/>
  <Override PartName="/ppt/media/image11.gif" ContentType="image/gif"/>
  <Override PartName="/ppt/media/image30.png" ContentType="image/png"/>
  <Override PartName="/ppt/media/applause.wav" ContentType="audio/x-wav"/>
  <Override PartName="/ppt/media/image5.png" ContentType="image/png"/>
  <Override PartName="/ppt/media/image28.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png" ContentType="image/png"/>
  <Override PartName="/ppt/media/image31.gif" ContentType="image/gif"/>
  <Override PartName="/ppt/media/image24.png" ContentType="image/png"/>
  <Override PartName="/ppt/media/image15.png" ContentType="image/png"/>
  <Override PartName="/ppt/media/image16.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0F10B0-DA22-484F-BF09-594541640D6E}"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0846B-6AA5-4489-9199-B15E581A79A4}"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Calibri"/>
              </a:rPr>
              <a:t>操作说明：点击生字格中的字，会出现笔顺演示。</a:t>
            </a:r>
            <a:endParaRPr b="0" lang="en-US" sz="1200" spc="-1" strike="noStrike">
              <a:solidFill>
                <a:srgbClr val="000000"/>
              </a:solidFill>
              <a:latin typeface="Calibri"/>
            </a:endParaRPr>
          </a:p>
        </p:txBody>
      </p:sp>
      <p:sp>
        <p:nvSpPr>
          <p:cNvPr id="4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90FCC5-72D1-4DB1-A391-1AD31177303A}"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B4FDD-372D-49F7-AD46-98764D0A4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8DA65-205A-417E-8FFD-26BEE762B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EFC77-F199-4598-8733-B2186DA7D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33BDA-AF8B-4EA8-9470-D9DCD319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F1AFB-BDD0-45AE-A221-67035BF30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4CFD4-1EF9-48D4-A3B8-A73B7FF56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68E2-301F-4210-8179-1F201D94D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EE0A5-57A8-41F1-9844-9F0C901E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3DEFE-9438-43BB-A4CB-7E8AFA6D9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3E70-D546-4C67-AED4-F2041F00D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F3E3B-11EB-4FAD-83D0-250183A4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A30A-D7B4-4069-909B-71B6E506C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Calibri"/>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4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ED40A-B8FC-4728-894B-55D41769EAA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28.pn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gif"/><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1" descr="屏幕剪辑"/>
          <p:cNvPicPr/>
          <p:nvPr/>
        </p:nvPicPr>
        <p:blipFill>
          <a:blip r:embed="rId1"/>
          <a:stretch/>
        </p:blipFill>
        <p:spPr>
          <a:xfrm>
            <a:off x="2200320" y="2206800"/>
            <a:ext cx="5035680" cy="315720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963720" y="905040"/>
            <a:ext cx="8291520" cy="1180800"/>
            <a:chOff x="963720" y="905040"/>
            <a:chExt cx="8291520" cy="1180800"/>
          </a:xfrm>
        </p:grpSpPr>
        <p:sp>
          <p:nvSpPr>
            <p:cNvPr id="65" name="Text Box 2"/>
            <p:cNvSpPr/>
            <p:nvPr/>
          </p:nvSpPr>
          <p:spPr>
            <a:xfrm>
              <a:off x="1762200" y="1031760"/>
              <a:ext cx="7493040" cy="947520"/>
            </a:xfrm>
            <a:prstGeom prst="rect">
              <a:avLst/>
            </a:prstGeom>
            <a:noFill/>
            <a:ln w="0">
              <a:noFill/>
            </a:ln>
          </p:spPr>
          <p:style>
            <a:lnRef idx="0"/>
            <a:fillRef idx="0"/>
            <a:effectRef idx="0"/>
            <a:fontRef idx="minor"/>
          </p:style>
          <p:txBody>
            <a:bodyPr lIns="90000" rIns="90000" tIns="46800" bIns="46800" anchor="t">
              <a:spAutoFit/>
            </a:bodyPr>
            <a:p>
              <a:pPr>
                <a:spcBef>
                  <a:spcPts val="35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cc0000"/>
                  </a:solidFill>
                  <a:latin typeface="Calibri"/>
                  <a:ea typeface="黑体"/>
                </a:rPr>
                <a:t>《</a:t>
              </a:r>
              <a:r>
                <a:rPr b="1" lang="zh-CN" sz="5600" spc="-1" strike="noStrike">
                  <a:solidFill>
                    <a:srgbClr val="cc0000"/>
                  </a:solidFill>
                  <a:latin typeface="Calibri"/>
                  <a:ea typeface="黑体"/>
                </a:rPr>
                <a:t>二泉映月</a:t>
              </a:r>
              <a:r>
                <a:rPr b="1" lang="en-US" sz="5600" spc="-1" strike="noStrike">
                  <a:solidFill>
                    <a:srgbClr val="cc0000"/>
                  </a:solidFill>
                  <a:latin typeface="Calibri"/>
                  <a:ea typeface="黑体"/>
                </a:rPr>
                <a:t>》</a:t>
              </a:r>
              <a:r>
                <a:rPr b="1" lang="zh-CN" sz="5600" spc="-1" strike="noStrike">
                  <a:solidFill>
                    <a:srgbClr val="cc0000"/>
                  </a:solidFill>
                  <a:latin typeface="Calibri"/>
                  <a:ea typeface="黑体"/>
                </a:rPr>
                <a:t>的诞生</a:t>
              </a:r>
              <a:endParaRPr b="0" lang="en-US" sz="5600" spc="-1" strike="noStrike">
                <a:solidFill>
                  <a:srgbClr val="000000"/>
                </a:solidFill>
                <a:latin typeface="Calibri"/>
              </a:endParaRPr>
            </a:p>
          </p:txBody>
        </p:sp>
        <p:grpSp>
          <p:nvGrpSpPr>
            <p:cNvPr id="66" name="组合 13337"/>
            <p:cNvGrpSpPr/>
            <p:nvPr/>
          </p:nvGrpSpPr>
          <p:grpSpPr>
            <a:xfrm>
              <a:off x="963720" y="905040"/>
              <a:ext cx="1195920" cy="1180800"/>
              <a:chOff x="963720" y="905040"/>
              <a:chExt cx="1195920" cy="1180800"/>
            </a:xfrm>
          </p:grpSpPr>
          <p:sp>
            <p:nvSpPr>
              <p:cNvPr id="67" name="AutoShape 11"/>
              <p:cNvSpPr/>
              <p:nvPr/>
            </p:nvSpPr>
            <p:spPr>
              <a:xfrm>
                <a:off x="963720" y="905040"/>
                <a:ext cx="119592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022400" y="1032480"/>
                <a:ext cx="1034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600" spc="-1" strike="noStrike">
                    <a:solidFill>
                      <a:srgbClr val="ffffff"/>
                    </a:solidFill>
                    <a:latin typeface="方正大黑简体"/>
                    <a:ea typeface="方正大黑简体"/>
                  </a:rPr>
                  <a:t>16</a:t>
                </a:r>
                <a:endParaRPr b="0" lang="en-US" sz="56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患</a:t>
            </a:r>
            <a:endParaRPr b="0" lang="en-US" sz="8000" spc="-1" strike="noStrike">
              <a:solidFill>
                <a:srgbClr val="000000"/>
              </a:solidFill>
              <a:latin typeface="Calibri"/>
            </a:endParaRPr>
          </a:p>
        </p:txBody>
      </p:sp>
      <p:graphicFrame>
        <p:nvGraphicFramePr>
          <p:cNvPr id="187"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88" name="组合 3"/>
          <p:cNvGrpSpPr/>
          <p:nvPr/>
        </p:nvGrpSpPr>
        <p:grpSpPr>
          <a:xfrm>
            <a:off x="1241280" y="3975120"/>
            <a:ext cx="2840040" cy="1571760"/>
            <a:chOff x="1241280" y="3975120"/>
            <a:chExt cx="2840040" cy="1571760"/>
          </a:xfrm>
        </p:grpSpPr>
        <p:pic>
          <p:nvPicPr>
            <p:cNvPr id="189" name="图示 4" descr=""/>
            <p:cNvPicPr/>
            <p:nvPr/>
          </p:nvPicPr>
          <p:blipFill>
            <a:blip r:embed="rId1"/>
            <a:stretch/>
          </p:blipFill>
          <p:spPr>
            <a:xfrm>
              <a:off x="1241280" y="3975120"/>
              <a:ext cx="2840040" cy="1571760"/>
            </a:xfrm>
            <a:prstGeom prst="rect">
              <a:avLst/>
            </a:prstGeom>
            <a:ln w="0">
              <a:noFill/>
            </a:ln>
          </p:spPr>
        </p:pic>
        <p:sp>
          <p:nvSpPr>
            <p:cNvPr id="190" name="矩形 2"/>
            <p:cNvSpPr/>
            <p:nvPr/>
          </p:nvSpPr>
          <p:spPr>
            <a:xfrm>
              <a:off x="1251000" y="458784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两个“口”要扁，“心”卧钩要平稳。</a:t>
              </a:r>
              <a:endParaRPr b="0" lang="en-US" sz="2000" spc="-1" strike="noStrike">
                <a:solidFill>
                  <a:srgbClr val="000000"/>
                </a:solidFill>
                <a:latin typeface="Calibri"/>
              </a:endParaRPr>
            </a:p>
          </p:txBody>
        </p:sp>
      </p:grpSp>
      <p:sp>
        <p:nvSpPr>
          <p:cNvPr id="191" name="矩形 2"/>
          <p:cNvSpPr/>
          <p:nvPr/>
        </p:nvSpPr>
        <p:spPr>
          <a:xfrm>
            <a:off x="1935000" y="1855800"/>
            <a:ext cx="1690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huàn</a:t>
            </a:r>
            <a:endParaRPr b="0" lang="en-US" sz="4800" spc="-1" strike="noStrike">
              <a:solidFill>
                <a:srgbClr val="000000"/>
              </a:solidFill>
              <a:latin typeface="Calibri"/>
            </a:endParaRPr>
          </a:p>
        </p:txBody>
      </p:sp>
      <p:sp>
        <p:nvSpPr>
          <p:cNvPr id="192" name="Freeform 118"/>
          <p:cNvSpPr/>
          <p:nvPr/>
        </p:nvSpPr>
        <p:spPr>
          <a:xfrm>
            <a:off x="7238880" y="4195800"/>
            <a:ext cx="588960" cy="284040"/>
          </a:xfrm>
          <a:custGeom>
            <a:avLst/>
            <a:gdLst/>
            <a:ahLst/>
            <a:rect l="l" t="t" r="r" b="b"/>
            <a:pathLst>
              <a:path w="741" h="357">
                <a:moveTo>
                  <a:pt x="0" y="0"/>
                </a:moveTo>
                <a:lnTo>
                  <a:pt x="24" y="0"/>
                </a:lnTo>
                <a:lnTo>
                  <a:pt x="48" y="0"/>
                </a:lnTo>
                <a:lnTo>
                  <a:pt x="73" y="0"/>
                </a:lnTo>
                <a:lnTo>
                  <a:pt x="96" y="0"/>
                </a:lnTo>
                <a:lnTo>
                  <a:pt x="118" y="0"/>
                </a:lnTo>
                <a:lnTo>
                  <a:pt x="141" y="0"/>
                </a:lnTo>
                <a:lnTo>
                  <a:pt x="162" y="0"/>
                </a:lnTo>
                <a:lnTo>
                  <a:pt x="183" y="0"/>
                </a:lnTo>
                <a:lnTo>
                  <a:pt x="202" y="0"/>
                </a:lnTo>
                <a:lnTo>
                  <a:pt x="223" y="0"/>
                </a:lnTo>
                <a:lnTo>
                  <a:pt x="242" y="2"/>
                </a:lnTo>
                <a:lnTo>
                  <a:pt x="260" y="2"/>
                </a:lnTo>
                <a:lnTo>
                  <a:pt x="279" y="2"/>
                </a:lnTo>
                <a:lnTo>
                  <a:pt x="296" y="2"/>
                </a:lnTo>
                <a:lnTo>
                  <a:pt x="313" y="2"/>
                </a:lnTo>
                <a:lnTo>
                  <a:pt x="329" y="2"/>
                </a:lnTo>
                <a:lnTo>
                  <a:pt x="344" y="2"/>
                </a:lnTo>
                <a:lnTo>
                  <a:pt x="359" y="2"/>
                </a:lnTo>
                <a:lnTo>
                  <a:pt x="375" y="4"/>
                </a:lnTo>
                <a:lnTo>
                  <a:pt x="388" y="4"/>
                </a:lnTo>
                <a:lnTo>
                  <a:pt x="402" y="4"/>
                </a:lnTo>
                <a:lnTo>
                  <a:pt x="413" y="4"/>
                </a:lnTo>
                <a:lnTo>
                  <a:pt x="427" y="6"/>
                </a:lnTo>
                <a:lnTo>
                  <a:pt x="438" y="6"/>
                </a:lnTo>
                <a:lnTo>
                  <a:pt x="448" y="6"/>
                </a:lnTo>
                <a:lnTo>
                  <a:pt x="459" y="8"/>
                </a:lnTo>
                <a:lnTo>
                  <a:pt x="469" y="8"/>
                </a:lnTo>
                <a:lnTo>
                  <a:pt x="478" y="10"/>
                </a:lnTo>
                <a:lnTo>
                  <a:pt x="486" y="10"/>
                </a:lnTo>
                <a:lnTo>
                  <a:pt x="496" y="12"/>
                </a:lnTo>
                <a:lnTo>
                  <a:pt x="501" y="12"/>
                </a:lnTo>
                <a:lnTo>
                  <a:pt x="509" y="14"/>
                </a:lnTo>
                <a:lnTo>
                  <a:pt x="523" y="16"/>
                </a:lnTo>
                <a:lnTo>
                  <a:pt x="534" y="20"/>
                </a:lnTo>
                <a:lnTo>
                  <a:pt x="546" y="22"/>
                </a:lnTo>
                <a:lnTo>
                  <a:pt x="557" y="25"/>
                </a:lnTo>
                <a:lnTo>
                  <a:pt x="569" y="29"/>
                </a:lnTo>
                <a:lnTo>
                  <a:pt x="578" y="33"/>
                </a:lnTo>
                <a:lnTo>
                  <a:pt x="597" y="43"/>
                </a:lnTo>
                <a:lnTo>
                  <a:pt x="617" y="52"/>
                </a:lnTo>
                <a:lnTo>
                  <a:pt x="632" y="64"/>
                </a:lnTo>
                <a:lnTo>
                  <a:pt x="649" y="75"/>
                </a:lnTo>
                <a:lnTo>
                  <a:pt x="665" y="89"/>
                </a:lnTo>
                <a:lnTo>
                  <a:pt x="672" y="96"/>
                </a:lnTo>
                <a:lnTo>
                  <a:pt x="680" y="104"/>
                </a:lnTo>
                <a:lnTo>
                  <a:pt x="686" y="112"/>
                </a:lnTo>
                <a:lnTo>
                  <a:pt x="691" y="119"/>
                </a:lnTo>
                <a:lnTo>
                  <a:pt x="703" y="137"/>
                </a:lnTo>
                <a:lnTo>
                  <a:pt x="711" y="156"/>
                </a:lnTo>
                <a:lnTo>
                  <a:pt x="718" y="175"/>
                </a:lnTo>
                <a:lnTo>
                  <a:pt x="724" y="196"/>
                </a:lnTo>
                <a:lnTo>
                  <a:pt x="730" y="217"/>
                </a:lnTo>
                <a:lnTo>
                  <a:pt x="736" y="240"/>
                </a:lnTo>
                <a:lnTo>
                  <a:pt x="738" y="252"/>
                </a:lnTo>
                <a:lnTo>
                  <a:pt x="739" y="263"/>
                </a:lnTo>
                <a:lnTo>
                  <a:pt x="741" y="273"/>
                </a:lnTo>
                <a:lnTo>
                  <a:pt x="741" y="283"/>
                </a:lnTo>
                <a:lnTo>
                  <a:pt x="741" y="292"/>
                </a:lnTo>
                <a:lnTo>
                  <a:pt x="741" y="302"/>
                </a:lnTo>
                <a:lnTo>
                  <a:pt x="739" y="309"/>
                </a:lnTo>
                <a:lnTo>
                  <a:pt x="739" y="317"/>
                </a:lnTo>
                <a:lnTo>
                  <a:pt x="738" y="323"/>
                </a:lnTo>
                <a:lnTo>
                  <a:pt x="736" y="329"/>
                </a:lnTo>
                <a:lnTo>
                  <a:pt x="734" y="334"/>
                </a:lnTo>
                <a:lnTo>
                  <a:pt x="732" y="340"/>
                </a:lnTo>
                <a:lnTo>
                  <a:pt x="730" y="344"/>
                </a:lnTo>
                <a:lnTo>
                  <a:pt x="726" y="348"/>
                </a:lnTo>
                <a:lnTo>
                  <a:pt x="724" y="352"/>
                </a:lnTo>
                <a:lnTo>
                  <a:pt x="722" y="354"/>
                </a:lnTo>
                <a:lnTo>
                  <a:pt x="716" y="356"/>
                </a:lnTo>
                <a:lnTo>
                  <a:pt x="709" y="357"/>
                </a:lnTo>
                <a:lnTo>
                  <a:pt x="699" y="356"/>
                </a:lnTo>
                <a:lnTo>
                  <a:pt x="690" y="356"/>
                </a:lnTo>
                <a:lnTo>
                  <a:pt x="678" y="352"/>
                </a:lnTo>
                <a:lnTo>
                  <a:pt x="665" y="350"/>
                </a:lnTo>
                <a:lnTo>
                  <a:pt x="651" y="344"/>
                </a:lnTo>
                <a:lnTo>
                  <a:pt x="634" y="338"/>
                </a:lnTo>
                <a:lnTo>
                  <a:pt x="617" y="333"/>
                </a:lnTo>
                <a:lnTo>
                  <a:pt x="599" y="325"/>
                </a:lnTo>
                <a:lnTo>
                  <a:pt x="578" y="317"/>
                </a:lnTo>
                <a:lnTo>
                  <a:pt x="557" y="309"/>
                </a:lnTo>
                <a:lnTo>
                  <a:pt x="532" y="300"/>
                </a:lnTo>
                <a:lnTo>
                  <a:pt x="507" y="288"/>
                </a:lnTo>
                <a:lnTo>
                  <a:pt x="480" y="277"/>
                </a:lnTo>
                <a:lnTo>
                  <a:pt x="453" y="265"/>
                </a:lnTo>
                <a:lnTo>
                  <a:pt x="425" y="254"/>
                </a:lnTo>
                <a:lnTo>
                  <a:pt x="396" y="242"/>
                </a:lnTo>
                <a:lnTo>
                  <a:pt x="369" y="231"/>
                </a:lnTo>
                <a:lnTo>
                  <a:pt x="344" y="221"/>
                </a:lnTo>
                <a:lnTo>
                  <a:pt x="319" y="210"/>
                </a:lnTo>
                <a:lnTo>
                  <a:pt x="296" y="200"/>
                </a:lnTo>
                <a:lnTo>
                  <a:pt x="273" y="189"/>
                </a:lnTo>
                <a:lnTo>
                  <a:pt x="250" y="179"/>
                </a:lnTo>
                <a:lnTo>
                  <a:pt x="231" y="169"/>
                </a:lnTo>
                <a:lnTo>
                  <a:pt x="210" y="160"/>
                </a:lnTo>
                <a:lnTo>
                  <a:pt x="191" y="150"/>
                </a:lnTo>
                <a:lnTo>
                  <a:pt x="173" y="141"/>
                </a:lnTo>
                <a:lnTo>
                  <a:pt x="156" y="131"/>
                </a:lnTo>
                <a:lnTo>
                  <a:pt x="141" y="121"/>
                </a:lnTo>
                <a:lnTo>
                  <a:pt x="127" y="112"/>
                </a:lnTo>
                <a:lnTo>
                  <a:pt x="114" y="102"/>
                </a:lnTo>
                <a:lnTo>
                  <a:pt x="100" y="95"/>
                </a:lnTo>
                <a:lnTo>
                  <a:pt x="87" y="87"/>
                </a:lnTo>
                <a:lnTo>
                  <a:pt x="75" y="81"/>
                </a:lnTo>
                <a:lnTo>
                  <a:pt x="66" y="73"/>
                </a:lnTo>
                <a:lnTo>
                  <a:pt x="56" y="66"/>
                </a:lnTo>
                <a:lnTo>
                  <a:pt x="47" y="60"/>
                </a:lnTo>
                <a:lnTo>
                  <a:pt x="37" y="52"/>
                </a:lnTo>
                <a:lnTo>
                  <a:pt x="29" y="47"/>
                </a:lnTo>
                <a:lnTo>
                  <a:pt x="24" y="41"/>
                </a:lnTo>
                <a:lnTo>
                  <a:pt x="16" y="33"/>
                </a:lnTo>
                <a:lnTo>
                  <a:pt x="12" y="27"/>
                </a:lnTo>
                <a:lnTo>
                  <a:pt x="8" y="22"/>
                </a:lnTo>
                <a:lnTo>
                  <a:pt x="4" y="16"/>
                </a:lnTo>
                <a:lnTo>
                  <a:pt x="2" y="12"/>
                </a:lnTo>
                <a:lnTo>
                  <a:pt x="0" y="6"/>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Freeform 119"/>
          <p:cNvSpPr/>
          <p:nvPr/>
        </p:nvSpPr>
        <p:spPr>
          <a:xfrm>
            <a:off x="6485040" y="4302000"/>
            <a:ext cx="360360" cy="265320"/>
          </a:xfrm>
          <a:custGeom>
            <a:avLst/>
            <a:gdLst/>
            <a:ahLst/>
            <a:rect l="l" t="t" r="r" b="b"/>
            <a:pathLst>
              <a:path w="453" h="334">
                <a:moveTo>
                  <a:pt x="185" y="194"/>
                </a:moveTo>
                <a:lnTo>
                  <a:pt x="162" y="178"/>
                </a:lnTo>
                <a:lnTo>
                  <a:pt x="141" y="161"/>
                </a:lnTo>
                <a:lnTo>
                  <a:pt x="121" y="148"/>
                </a:lnTo>
                <a:lnTo>
                  <a:pt x="102" y="132"/>
                </a:lnTo>
                <a:lnTo>
                  <a:pt x="87" y="119"/>
                </a:lnTo>
                <a:lnTo>
                  <a:pt x="71" y="105"/>
                </a:lnTo>
                <a:lnTo>
                  <a:pt x="58" y="94"/>
                </a:lnTo>
                <a:lnTo>
                  <a:pt x="45" y="82"/>
                </a:lnTo>
                <a:lnTo>
                  <a:pt x="35" y="71"/>
                </a:lnTo>
                <a:lnTo>
                  <a:pt x="25" y="61"/>
                </a:lnTo>
                <a:lnTo>
                  <a:pt x="18" y="52"/>
                </a:lnTo>
                <a:lnTo>
                  <a:pt x="12" y="42"/>
                </a:lnTo>
                <a:lnTo>
                  <a:pt x="6" y="34"/>
                </a:lnTo>
                <a:lnTo>
                  <a:pt x="2" y="29"/>
                </a:lnTo>
                <a:lnTo>
                  <a:pt x="0" y="23"/>
                </a:lnTo>
                <a:lnTo>
                  <a:pt x="0" y="17"/>
                </a:lnTo>
                <a:lnTo>
                  <a:pt x="0" y="15"/>
                </a:lnTo>
                <a:lnTo>
                  <a:pt x="2" y="13"/>
                </a:lnTo>
                <a:lnTo>
                  <a:pt x="6" y="9"/>
                </a:lnTo>
                <a:lnTo>
                  <a:pt x="10" y="7"/>
                </a:lnTo>
                <a:lnTo>
                  <a:pt x="16" y="6"/>
                </a:lnTo>
                <a:lnTo>
                  <a:pt x="23" y="4"/>
                </a:lnTo>
                <a:lnTo>
                  <a:pt x="31" y="2"/>
                </a:lnTo>
                <a:lnTo>
                  <a:pt x="41" y="2"/>
                </a:lnTo>
                <a:lnTo>
                  <a:pt x="52" y="0"/>
                </a:lnTo>
                <a:lnTo>
                  <a:pt x="64" y="0"/>
                </a:lnTo>
                <a:lnTo>
                  <a:pt x="75" y="0"/>
                </a:lnTo>
                <a:lnTo>
                  <a:pt x="91" y="0"/>
                </a:lnTo>
                <a:lnTo>
                  <a:pt x="106" y="0"/>
                </a:lnTo>
                <a:lnTo>
                  <a:pt x="121" y="2"/>
                </a:lnTo>
                <a:lnTo>
                  <a:pt x="139" y="2"/>
                </a:lnTo>
                <a:lnTo>
                  <a:pt x="156" y="6"/>
                </a:lnTo>
                <a:lnTo>
                  <a:pt x="175" y="7"/>
                </a:lnTo>
                <a:lnTo>
                  <a:pt x="192" y="11"/>
                </a:lnTo>
                <a:lnTo>
                  <a:pt x="210" y="15"/>
                </a:lnTo>
                <a:lnTo>
                  <a:pt x="225" y="19"/>
                </a:lnTo>
                <a:lnTo>
                  <a:pt x="242" y="23"/>
                </a:lnTo>
                <a:lnTo>
                  <a:pt x="258" y="29"/>
                </a:lnTo>
                <a:lnTo>
                  <a:pt x="271" y="34"/>
                </a:lnTo>
                <a:lnTo>
                  <a:pt x="286" y="40"/>
                </a:lnTo>
                <a:lnTo>
                  <a:pt x="300" y="46"/>
                </a:lnTo>
                <a:lnTo>
                  <a:pt x="313" y="52"/>
                </a:lnTo>
                <a:lnTo>
                  <a:pt x="338" y="65"/>
                </a:lnTo>
                <a:lnTo>
                  <a:pt x="361" y="79"/>
                </a:lnTo>
                <a:lnTo>
                  <a:pt x="382" y="94"/>
                </a:lnTo>
                <a:lnTo>
                  <a:pt x="398" y="107"/>
                </a:lnTo>
                <a:lnTo>
                  <a:pt x="411" y="125"/>
                </a:lnTo>
                <a:lnTo>
                  <a:pt x="425" y="142"/>
                </a:lnTo>
                <a:lnTo>
                  <a:pt x="428" y="150"/>
                </a:lnTo>
                <a:lnTo>
                  <a:pt x="434" y="159"/>
                </a:lnTo>
                <a:lnTo>
                  <a:pt x="438" y="169"/>
                </a:lnTo>
                <a:lnTo>
                  <a:pt x="442" y="178"/>
                </a:lnTo>
                <a:lnTo>
                  <a:pt x="446" y="190"/>
                </a:lnTo>
                <a:lnTo>
                  <a:pt x="450" y="199"/>
                </a:lnTo>
                <a:lnTo>
                  <a:pt x="451" y="211"/>
                </a:lnTo>
                <a:lnTo>
                  <a:pt x="453" y="221"/>
                </a:lnTo>
                <a:lnTo>
                  <a:pt x="453" y="232"/>
                </a:lnTo>
                <a:lnTo>
                  <a:pt x="453" y="246"/>
                </a:lnTo>
                <a:lnTo>
                  <a:pt x="453" y="255"/>
                </a:lnTo>
                <a:lnTo>
                  <a:pt x="453" y="267"/>
                </a:lnTo>
                <a:lnTo>
                  <a:pt x="453" y="276"/>
                </a:lnTo>
                <a:lnTo>
                  <a:pt x="451" y="286"/>
                </a:lnTo>
                <a:lnTo>
                  <a:pt x="450" y="293"/>
                </a:lnTo>
                <a:lnTo>
                  <a:pt x="450" y="299"/>
                </a:lnTo>
                <a:lnTo>
                  <a:pt x="448" y="307"/>
                </a:lnTo>
                <a:lnTo>
                  <a:pt x="446" y="313"/>
                </a:lnTo>
                <a:lnTo>
                  <a:pt x="442" y="317"/>
                </a:lnTo>
                <a:lnTo>
                  <a:pt x="440" y="322"/>
                </a:lnTo>
                <a:lnTo>
                  <a:pt x="438" y="324"/>
                </a:lnTo>
                <a:lnTo>
                  <a:pt x="436" y="328"/>
                </a:lnTo>
                <a:lnTo>
                  <a:pt x="432" y="330"/>
                </a:lnTo>
                <a:lnTo>
                  <a:pt x="430" y="332"/>
                </a:lnTo>
                <a:lnTo>
                  <a:pt x="428" y="332"/>
                </a:lnTo>
                <a:lnTo>
                  <a:pt x="425" y="334"/>
                </a:lnTo>
                <a:lnTo>
                  <a:pt x="419" y="332"/>
                </a:lnTo>
                <a:lnTo>
                  <a:pt x="411" y="330"/>
                </a:lnTo>
                <a:lnTo>
                  <a:pt x="403" y="328"/>
                </a:lnTo>
                <a:lnTo>
                  <a:pt x="394" y="324"/>
                </a:lnTo>
                <a:lnTo>
                  <a:pt x="382" y="318"/>
                </a:lnTo>
                <a:lnTo>
                  <a:pt x="371" y="313"/>
                </a:lnTo>
                <a:lnTo>
                  <a:pt x="357" y="305"/>
                </a:lnTo>
                <a:lnTo>
                  <a:pt x="342" y="297"/>
                </a:lnTo>
                <a:lnTo>
                  <a:pt x="327" y="288"/>
                </a:lnTo>
                <a:lnTo>
                  <a:pt x="309" y="278"/>
                </a:lnTo>
                <a:lnTo>
                  <a:pt x="290" y="267"/>
                </a:lnTo>
                <a:lnTo>
                  <a:pt x="271" y="253"/>
                </a:lnTo>
                <a:lnTo>
                  <a:pt x="252" y="240"/>
                </a:lnTo>
                <a:lnTo>
                  <a:pt x="231" y="226"/>
                </a:lnTo>
                <a:lnTo>
                  <a:pt x="208" y="211"/>
                </a:lnTo>
                <a:lnTo>
                  <a:pt x="185" y="19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20"/>
          <p:cNvSpPr/>
          <p:nvPr/>
        </p:nvSpPr>
        <p:spPr>
          <a:xfrm>
            <a:off x="6054840" y="4316400"/>
            <a:ext cx="1565280" cy="701640"/>
          </a:xfrm>
          <a:custGeom>
            <a:avLst/>
            <a:gdLst/>
            <a:ahLst/>
            <a:rect l="l" t="t" r="r" b="b"/>
            <a:pathLst>
              <a:path w="1973" h="883">
                <a:moveTo>
                  <a:pt x="175" y="430"/>
                </a:moveTo>
                <a:lnTo>
                  <a:pt x="156" y="392"/>
                </a:lnTo>
                <a:lnTo>
                  <a:pt x="135" y="353"/>
                </a:lnTo>
                <a:lnTo>
                  <a:pt x="117" y="317"/>
                </a:lnTo>
                <a:lnTo>
                  <a:pt x="100" y="278"/>
                </a:lnTo>
                <a:lnTo>
                  <a:pt x="83" y="244"/>
                </a:lnTo>
                <a:lnTo>
                  <a:pt x="65" y="207"/>
                </a:lnTo>
                <a:lnTo>
                  <a:pt x="50" y="173"/>
                </a:lnTo>
                <a:lnTo>
                  <a:pt x="35" y="140"/>
                </a:lnTo>
                <a:lnTo>
                  <a:pt x="27" y="123"/>
                </a:lnTo>
                <a:lnTo>
                  <a:pt x="19" y="108"/>
                </a:lnTo>
                <a:lnTo>
                  <a:pt x="14" y="94"/>
                </a:lnTo>
                <a:lnTo>
                  <a:pt x="10" y="83"/>
                </a:lnTo>
                <a:lnTo>
                  <a:pt x="6" y="71"/>
                </a:lnTo>
                <a:lnTo>
                  <a:pt x="4" y="60"/>
                </a:lnTo>
                <a:lnTo>
                  <a:pt x="2" y="50"/>
                </a:lnTo>
                <a:lnTo>
                  <a:pt x="0" y="40"/>
                </a:lnTo>
                <a:lnTo>
                  <a:pt x="0" y="33"/>
                </a:lnTo>
                <a:lnTo>
                  <a:pt x="0" y="27"/>
                </a:lnTo>
                <a:lnTo>
                  <a:pt x="2" y="21"/>
                </a:lnTo>
                <a:lnTo>
                  <a:pt x="4" y="15"/>
                </a:lnTo>
                <a:lnTo>
                  <a:pt x="6" y="10"/>
                </a:lnTo>
                <a:lnTo>
                  <a:pt x="10" y="6"/>
                </a:lnTo>
                <a:lnTo>
                  <a:pt x="14" y="2"/>
                </a:lnTo>
                <a:lnTo>
                  <a:pt x="19" y="0"/>
                </a:lnTo>
                <a:lnTo>
                  <a:pt x="23" y="0"/>
                </a:lnTo>
                <a:lnTo>
                  <a:pt x="27" y="4"/>
                </a:lnTo>
                <a:lnTo>
                  <a:pt x="33" y="6"/>
                </a:lnTo>
                <a:lnTo>
                  <a:pt x="41" y="12"/>
                </a:lnTo>
                <a:lnTo>
                  <a:pt x="48" y="19"/>
                </a:lnTo>
                <a:lnTo>
                  <a:pt x="58" y="27"/>
                </a:lnTo>
                <a:lnTo>
                  <a:pt x="69" y="37"/>
                </a:lnTo>
                <a:lnTo>
                  <a:pt x="81" y="48"/>
                </a:lnTo>
                <a:lnTo>
                  <a:pt x="92" y="62"/>
                </a:lnTo>
                <a:lnTo>
                  <a:pt x="106" y="77"/>
                </a:lnTo>
                <a:lnTo>
                  <a:pt x="121" y="94"/>
                </a:lnTo>
                <a:lnTo>
                  <a:pt x="137" y="111"/>
                </a:lnTo>
                <a:lnTo>
                  <a:pt x="152" y="133"/>
                </a:lnTo>
                <a:lnTo>
                  <a:pt x="169" y="154"/>
                </a:lnTo>
                <a:lnTo>
                  <a:pt x="186" y="177"/>
                </a:lnTo>
                <a:lnTo>
                  <a:pt x="204" y="202"/>
                </a:lnTo>
                <a:lnTo>
                  <a:pt x="223" y="229"/>
                </a:lnTo>
                <a:lnTo>
                  <a:pt x="242" y="253"/>
                </a:lnTo>
                <a:lnTo>
                  <a:pt x="263" y="278"/>
                </a:lnTo>
                <a:lnTo>
                  <a:pt x="284" y="301"/>
                </a:lnTo>
                <a:lnTo>
                  <a:pt x="305" y="324"/>
                </a:lnTo>
                <a:lnTo>
                  <a:pt x="328" y="348"/>
                </a:lnTo>
                <a:lnTo>
                  <a:pt x="351" y="371"/>
                </a:lnTo>
                <a:lnTo>
                  <a:pt x="376" y="392"/>
                </a:lnTo>
                <a:lnTo>
                  <a:pt x="403" y="413"/>
                </a:lnTo>
                <a:lnTo>
                  <a:pt x="430" y="432"/>
                </a:lnTo>
                <a:lnTo>
                  <a:pt x="457" y="453"/>
                </a:lnTo>
                <a:lnTo>
                  <a:pt x="486" y="472"/>
                </a:lnTo>
                <a:lnTo>
                  <a:pt x="517" y="490"/>
                </a:lnTo>
                <a:lnTo>
                  <a:pt x="547" y="509"/>
                </a:lnTo>
                <a:lnTo>
                  <a:pt x="580" y="526"/>
                </a:lnTo>
                <a:lnTo>
                  <a:pt x="614" y="543"/>
                </a:lnTo>
                <a:lnTo>
                  <a:pt x="649" y="559"/>
                </a:lnTo>
                <a:lnTo>
                  <a:pt x="682" y="574"/>
                </a:lnTo>
                <a:lnTo>
                  <a:pt x="714" y="589"/>
                </a:lnTo>
                <a:lnTo>
                  <a:pt x="747" y="603"/>
                </a:lnTo>
                <a:lnTo>
                  <a:pt x="778" y="614"/>
                </a:lnTo>
                <a:lnTo>
                  <a:pt x="808" y="626"/>
                </a:lnTo>
                <a:lnTo>
                  <a:pt x="839" y="637"/>
                </a:lnTo>
                <a:lnTo>
                  <a:pt x="870" y="645"/>
                </a:lnTo>
                <a:lnTo>
                  <a:pt x="898" y="655"/>
                </a:lnTo>
                <a:lnTo>
                  <a:pt x="925" y="660"/>
                </a:lnTo>
                <a:lnTo>
                  <a:pt x="954" y="668"/>
                </a:lnTo>
                <a:lnTo>
                  <a:pt x="981" y="672"/>
                </a:lnTo>
                <a:lnTo>
                  <a:pt x="1008" y="676"/>
                </a:lnTo>
                <a:lnTo>
                  <a:pt x="1033" y="680"/>
                </a:lnTo>
                <a:lnTo>
                  <a:pt x="1058" y="682"/>
                </a:lnTo>
                <a:lnTo>
                  <a:pt x="1083" y="682"/>
                </a:lnTo>
                <a:lnTo>
                  <a:pt x="1106" y="682"/>
                </a:lnTo>
                <a:lnTo>
                  <a:pt x="1127" y="682"/>
                </a:lnTo>
                <a:lnTo>
                  <a:pt x="1150" y="682"/>
                </a:lnTo>
                <a:lnTo>
                  <a:pt x="1169" y="682"/>
                </a:lnTo>
                <a:lnTo>
                  <a:pt x="1190" y="682"/>
                </a:lnTo>
                <a:lnTo>
                  <a:pt x="1209" y="682"/>
                </a:lnTo>
                <a:lnTo>
                  <a:pt x="1227" y="682"/>
                </a:lnTo>
                <a:lnTo>
                  <a:pt x="1244" y="680"/>
                </a:lnTo>
                <a:lnTo>
                  <a:pt x="1261" y="680"/>
                </a:lnTo>
                <a:lnTo>
                  <a:pt x="1279" y="680"/>
                </a:lnTo>
                <a:lnTo>
                  <a:pt x="1294" y="678"/>
                </a:lnTo>
                <a:lnTo>
                  <a:pt x="1309" y="676"/>
                </a:lnTo>
                <a:lnTo>
                  <a:pt x="1323" y="676"/>
                </a:lnTo>
                <a:lnTo>
                  <a:pt x="1338" y="674"/>
                </a:lnTo>
                <a:lnTo>
                  <a:pt x="1365" y="670"/>
                </a:lnTo>
                <a:lnTo>
                  <a:pt x="1378" y="666"/>
                </a:lnTo>
                <a:lnTo>
                  <a:pt x="1390" y="664"/>
                </a:lnTo>
                <a:lnTo>
                  <a:pt x="1401" y="662"/>
                </a:lnTo>
                <a:lnTo>
                  <a:pt x="1413" y="658"/>
                </a:lnTo>
                <a:lnTo>
                  <a:pt x="1422" y="657"/>
                </a:lnTo>
                <a:lnTo>
                  <a:pt x="1434" y="655"/>
                </a:lnTo>
                <a:lnTo>
                  <a:pt x="1444" y="651"/>
                </a:lnTo>
                <a:lnTo>
                  <a:pt x="1451" y="649"/>
                </a:lnTo>
                <a:lnTo>
                  <a:pt x="1461" y="645"/>
                </a:lnTo>
                <a:lnTo>
                  <a:pt x="1469" y="643"/>
                </a:lnTo>
                <a:lnTo>
                  <a:pt x="1482" y="635"/>
                </a:lnTo>
                <a:lnTo>
                  <a:pt x="1495" y="628"/>
                </a:lnTo>
                <a:lnTo>
                  <a:pt x="1507" y="618"/>
                </a:lnTo>
                <a:lnTo>
                  <a:pt x="1511" y="616"/>
                </a:lnTo>
                <a:lnTo>
                  <a:pt x="1515" y="610"/>
                </a:lnTo>
                <a:lnTo>
                  <a:pt x="1518" y="605"/>
                </a:lnTo>
                <a:lnTo>
                  <a:pt x="1520" y="597"/>
                </a:lnTo>
                <a:lnTo>
                  <a:pt x="1520" y="589"/>
                </a:lnTo>
                <a:lnTo>
                  <a:pt x="1520" y="580"/>
                </a:lnTo>
                <a:lnTo>
                  <a:pt x="1520" y="568"/>
                </a:lnTo>
                <a:lnTo>
                  <a:pt x="1518" y="555"/>
                </a:lnTo>
                <a:lnTo>
                  <a:pt x="1517" y="541"/>
                </a:lnTo>
                <a:lnTo>
                  <a:pt x="1513" y="528"/>
                </a:lnTo>
                <a:lnTo>
                  <a:pt x="1509" y="511"/>
                </a:lnTo>
                <a:lnTo>
                  <a:pt x="1505" y="495"/>
                </a:lnTo>
                <a:lnTo>
                  <a:pt x="1499" y="476"/>
                </a:lnTo>
                <a:lnTo>
                  <a:pt x="1493" y="457"/>
                </a:lnTo>
                <a:lnTo>
                  <a:pt x="1486" y="438"/>
                </a:lnTo>
                <a:lnTo>
                  <a:pt x="1478" y="417"/>
                </a:lnTo>
                <a:lnTo>
                  <a:pt x="1470" y="396"/>
                </a:lnTo>
                <a:lnTo>
                  <a:pt x="1465" y="376"/>
                </a:lnTo>
                <a:lnTo>
                  <a:pt x="1457" y="357"/>
                </a:lnTo>
                <a:lnTo>
                  <a:pt x="1451" y="342"/>
                </a:lnTo>
                <a:lnTo>
                  <a:pt x="1447" y="324"/>
                </a:lnTo>
                <a:lnTo>
                  <a:pt x="1444" y="311"/>
                </a:lnTo>
                <a:lnTo>
                  <a:pt x="1440" y="296"/>
                </a:lnTo>
                <a:lnTo>
                  <a:pt x="1436" y="284"/>
                </a:lnTo>
                <a:lnTo>
                  <a:pt x="1434" y="273"/>
                </a:lnTo>
                <a:lnTo>
                  <a:pt x="1432" y="263"/>
                </a:lnTo>
                <a:lnTo>
                  <a:pt x="1430" y="253"/>
                </a:lnTo>
                <a:lnTo>
                  <a:pt x="1430" y="246"/>
                </a:lnTo>
                <a:lnTo>
                  <a:pt x="1430" y="240"/>
                </a:lnTo>
                <a:lnTo>
                  <a:pt x="1432" y="234"/>
                </a:lnTo>
                <a:lnTo>
                  <a:pt x="1434" y="230"/>
                </a:lnTo>
                <a:lnTo>
                  <a:pt x="1436" y="229"/>
                </a:lnTo>
                <a:lnTo>
                  <a:pt x="1440" y="227"/>
                </a:lnTo>
                <a:lnTo>
                  <a:pt x="1444" y="227"/>
                </a:lnTo>
                <a:lnTo>
                  <a:pt x="1449" y="227"/>
                </a:lnTo>
                <a:lnTo>
                  <a:pt x="1457" y="230"/>
                </a:lnTo>
                <a:lnTo>
                  <a:pt x="1465" y="234"/>
                </a:lnTo>
                <a:lnTo>
                  <a:pt x="1474" y="240"/>
                </a:lnTo>
                <a:lnTo>
                  <a:pt x="1484" y="248"/>
                </a:lnTo>
                <a:lnTo>
                  <a:pt x="1495" y="255"/>
                </a:lnTo>
                <a:lnTo>
                  <a:pt x="1509" y="265"/>
                </a:lnTo>
                <a:lnTo>
                  <a:pt x="1522" y="276"/>
                </a:lnTo>
                <a:lnTo>
                  <a:pt x="1536" y="290"/>
                </a:lnTo>
                <a:lnTo>
                  <a:pt x="1551" y="305"/>
                </a:lnTo>
                <a:lnTo>
                  <a:pt x="1568" y="321"/>
                </a:lnTo>
                <a:lnTo>
                  <a:pt x="1584" y="340"/>
                </a:lnTo>
                <a:lnTo>
                  <a:pt x="1601" y="359"/>
                </a:lnTo>
                <a:lnTo>
                  <a:pt x="1620" y="378"/>
                </a:lnTo>
                <a:lnTo>
                  <a:pt x="1637" y="399"/>
                </a:lnTo>
                <a:lnTo>
                  <a:pt x="1657" y="420"/>
                </a:lnTo>
                <a:lnTo>
                  <a:pt x="1674" y="440"/>
                </a:lnTo>
                <a:lnTo>
                  <a:pt x="1691" y="459"/>
                </a:lnTo>
                <a:lnTo>
                  <a:pt x="1708" y="478"/>
                </a:lnTo>
                <a:lnTo>
                  <a:pt x="1726" y="495"/>
                </a:lnTo>
                <a:lnTo>
                  <a:pt x="1741" y="511"/>
                </a:lnTo>
                <a:lnTo>
                  <a:pt x="1758" y="528"/>
                </a:lnTo>
                <a:lnTo>
                  <a:pt x="1774" y="541"/>
                </a:lnTo>
                <a:lnTo>
                  <a:pt x="1789" y="557"/>
                </a:lnTo>
                <a:lnTo>
                  <a:pt x="1804" y="568"/>
                </a:lnTo>
                <a:lnTo>
                  <a:pt x="1820" y="582"/>
                </a:lnTo>
                <a:lnTo>
                  <a:pt x="1833" y="591"/>
                </a:lnTo>
                <a:lnTo>
                  <a:pt x="1847" y="603"/>
                </a:lnTo>
                <a:lnTo>
                  <a:pt x="1862" y="610"/>
                </a:lnTo>
                <a:lnTo>
                  <a:pt x="1875" y="618"/>
                </a:lnTo>
                <a:lnTo>
                  <a:pt x="1887" y="628"/>
                </a:lnTo>
                <a:lnTo>
                  <a:pt x="1898" y="637"/>
                </a:lnTo>
                <a:lnTo>
                  <a:pt x="1910" y="645"/>
                </a:lnTo>
                <a:lnTo>
                  <a:pt x="1920" y="655"/>
                </a:lnTo>
                <a:lnTo>
                  <a:pt x="1929" y="662"/>
                </a:lnTo>
                <a:lnTo>
                  <a:pt x="1937" y="670"/>
                </a:lnTo>
                <a:lnTo>
                  <a:pt x="1945" y="678"/>
                </a:lnTo>
                <a:lnTo>
                  <a:pt x="1950" y="685"/>
                </a:lnTo>
                <a:lnTo>
                  <a:pt x="1956" y="691"/>
                </a:lnTo>
                <a:lnTo>
                  <a:pt x="1962" y="699"/>
                </a:lnTo>
                <a:lnTo>
                  <a:pt x="1966" y="705"/>
                </a:lnTo>
                <a:lnTo>
                  <a:pt x="1968" y="710"/>
                </a:lnTo>
                <a:lnTo>
                  <a:pt x="1971" y="716"/>
                </a:lnTo>
                <a:lnTo>
                  <a:pt x="1973" y="722"/>
                </a:lnTo>
                <a:lnTo>
                  <a:pt x="1973" y="728"/>
                </a:lnTo>
                <a:lnTo>
                  <a:pt x="1973" y="731"/>
                </a:lnTo>
                <a:lnTo>
                  <a:pt x="1973" y="735"/>
                </a:lnTo>
                <a:lnTo>
                  <a:pt x="1971" y="737"/>
                </a:lnTo>
                <a:lnTo>
                  <a:pt x="1969" y="741"/>
                </a:lnTo>
                <a:lnTo>
                  <a:pt x="1966" y="743"/>
                </a:lnTo>
                <a:lnTo>
                  <a:pt x="1962" y="747"/>
                </a:lnTo>
                <a:lnTo>
                  <a:pt x="1956" y="751"/>
                </a:lnTo>
                <a:lnTo>
                  <a:pt x="1950" y="756"/>
                </a:lnTo>
                <a:lnTo>
                  <a:pt x="1945" y="760"/>
                </a:lnTo>
                <a:lnTo>
                  <a:pt x="1937" y="766"/>
                </a:lnTo>
                <a:lnTo>
                  <a:pt x="1927" y="770"/>
                </a:lnTo>
                <a:lnTo>
                  <a:pt x="1918" y="776"/>
                </a:lnTo>
                <a:lnTo>
                  <a:pt x="1908" y="781"/>
                </a:lnTo>
                <a:lnTo>
                  <a:pt x="1897" y="787"/>
                </a:lnTo>
                <a:lnTo>
                  <a:pt x="1885" y="795"/>
                </a:lnTo>
                <a:lnTo>
                  <a:pt x="1874" y="801"/>
                </a:lnTo>
                <a:lnTo>
                  <a:pt x="1860" y="808"/>
                </a:lnTo>
                <a:lnTo>
                  <a:pt x="1847" y="812"/>
                </a:lnTo>
                <a:lnTo>
                  <a:pt x="1833" y="818"/>
                </a:lnTo>
                <a:lnTo>
                  <a:pt x="1818" y="822"/>
                </a:lnTo>
                <a:lnTo>
                  <a:pt x="1803" y="827"/>
                </a:lnTo>
                <a:lnTo>
                  <a:pt x="1787" y="831"/>
                </a:lnTo>
                <a:lnTo>
                  <a:pt x="1770" y="835"/>
                </a:lnTo>
                <a:lnTo>
                  <a:pt x="1737" y="845"/>
                </a:lnTo>
                <a:lnTo>
                  <a:pt x="1701" y="852"/>
                </a:lnTo>
                <a:lnTo>
                  <a:pt x="1666" y="860"/>
                </a:lnTo>
                <a:lnTo>
                  <a:pt x="1628" y="866"/>
                </a:lnTo>
                <a:lnTo>
                  <a:pt x="1591" y="872"/>
                </a:lnTo>
                <a:lnTo>
                  <a:pt x="1572" y="873"/>
                </a:lnTo>
                <a:lnTo>
                  <a:pt x="1553" y="875"/>
                </a:lnTo>
                <a:lnTo>
                  <a:pt x="1534" y="877"/>
                </a:lnTo>
                <a:lnTo>
                  <a:pt x="1513" y="879"/>
                </a:lnTo>
                <a:lnTo>
                  <a:pt x="1492" y="879"/>
                </a:lnTo>
                <a:lnTo>
                  <a:pt x="1469" y="881"/>
                </a:lnTo>
                <a:lnTo>
                  <a:pt x="1446" y="881"/>
                </a:lnTo>
                <a:lnTo>
                  <a:pt x="1422" y="881"/>
                </a:lnTo>
                <a:lnTo>
                  <a:pt x="1399" y="883"/>
                </a:lnTo>
                <a:lnTo>
                  <a:pt x="1376" y="883"/>
                </a:lnTo>
                <a:lnTo>
                  <a:pt x="1327" y="883"/>
                </a:lnTo>
                <a:lnTo>
                  <a:pt x="1277" y="883"/>
                </a:lnTo>
                <a:lnTo>
                  <a:pt x="1223" y="883"/>
                </a:lnTo>
                <a:lnTo>
                  <a:pt x="1194" y="883"/>
                </a:lnTo>
                <a:lnTo>
                  <a:pt x="1165" y="883"/>
                </a:lnTo>
                <a:lnTo>
                  <a:pt x="1136" y="881"/>
                </a:lnTo>
                <a:lnTo>
                  <a:pt x="1110" y="879"/>
                </a:lnTo>
                <a:lnTo>
                  <a:pt x="1081" y="877"/>
                </a:lnTo>
                <a:lnTo>
                  <a:pt x="1054" y="873"/>
                </a:lnTo>
                <a:lnTo>
                  <a:pt x="1025" y="870"/>
                </a:lnTo>
                <a:lnTo>
                  <a:pt x="998" y="866"/>
                </a:lnTo>
                <a:lnTo>
                  <a:pt x="945" y="858"/>
                </a:lnTo>
                <a:lnTo>
                  <a:pt x="891" y="847"/>
                </a:lnTo>
                <a:lnTo>
                  <a:pt x="837" y="835"/>
                </a:lnTo>
                <a:lnTo>
                  <a:pt x="785" y="820"/>
                </a:lnTo>
                <a:lnTo>
                  <a:pt x="758" y="812"/>
                </a:lnTo>
                <a:lnTo>
                  <a:pt x="733" y="804"/>
                </a:lnTo>
                <a:lnTo>
                  <a:pt x="707" y="797"/>
                </a:lnTo>
                <a:lnTo>
                  <a:pt x="684" y="789"/>
                </a:lnTo>
                <a:lnTo>
                  <a:pt x="659" y="781"/>
                </a:lnTo>
                <a:lnTo>
                  <a:pt x="636" y="772"/>
                </a:lnTo>
                <a:lnTo>
                  <a:pt x="613" y="762"/>
                </a:lnTo>
                <a:lnTo>
                  <a:pt x="591" y="753"/>
                </a:lnTo>
                <a:lnTo>
                  <a:pt x="570" y="743"/>
                </a:lnTo>
                <a:lnTo>
                  <a:pt x="547" y="731"/>
                </a:lnTo>
                <a:lnTo>
                  <a:pt x="528" y="720"/>
                </a:lnTo>
                <a:lnTo>
                  <a:pt x="507" y="708"/>
                </a:lnTo>
                <a:lnTo>
                  <a:pt x="488" y="697"/>
                </a:lnTo>
                <a:lnTo>
                  <a:pt x="469" y="683"/>
                </a:lnTo>
                <a:lnTo>
                  <a:pt x="449" y="670"/>
                </a:lnTo>
                <a:lnTo>
                  <a:pt x="430" y="657"/>
                </a:lnTo>
                <a:lnTo>
                  <a:pt x="394" y="632"/>
                </a:lnTo>
                <a:lnTo>
                  <a:pt x="359" y="607"/>
                </a:lnTo>
                <a:lnTo>
                  <a:pt x="325" y="580"/>
                </a:lnTo>
                <a:lnTo>
                  <a:pt x="292" y="553"/>
                </a:lnTo>
                <a:lnTo>
                  <a:pt x="261" y="524"/>
                </a:lnTo>
                <a:lnTo>
                  <a:pt x="231" y="493"/>
                </a:lnTo>
                <a:lnTo>
                  <a:pt x="202" y="463"/>
                </a:lnTo>
                <a:lnTo>
                  <a:pt x="175" y="43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121"/>
          <p:cNvSpPr/>
          <p:nvPr/>
        </p:nvSpPr>
        <p:spPr>
          <a:xfrm>
            <a:off x="5553000" y="4297320"/>
            <a:ext cx="254160" cy="569880"/>
          </a:xfrm>
          <a:custGeom>
            <a:avLst/>
            <a:gdLst/>
            <a:ahLst/>
            <a:rect l="l" t="t" r="r" b="b"/>
            <a:pathLst>
              <a:path w="320" h="720">
                <a:moveTo>
                  <a:pt x="311" y="165"/>
                </a:moveTo>
                <a:lnTo>
                  <a:pt x="315" y="202"/>
                </a:lnTo>
                <a:lnTo>
                  <a:pt x="318" y="238"/>
                </a:lnTo>
                <a:lnTo>
                  <a:pt x="320" y="273"/>
                </a:lnTo>
                <a:lnTo>
                  <a:pt x="320" y="307"/>
                </a:lnTo>
                <a:lnTo>
                  <a:pt x="320" y="342"/>
                </a:lnTo>
                <a:lnTo>
                  <a:pt x="318" y="374"/>
                </a:lnTo>
                <a:lnTo>
                  <a:pt x="315" y="409"/>
                </a:lnTo>
                <a:lnTo>
                  <a:pt x="311" y="442"/>
                </a:lnTo>
                <a:lnTo>
                  <a:pt x="305" y="459"/>
                </a:lnTo>
                <a:lnTo>
                  <a:pt x="299" y="474"/>
                </a:lnTo>
                <a:lnTo>
                  <a:pt x="293" y="490"/>
                </a:lnTo>
                <a:lnTo>
                  <a:pt x="288" y="503"/>
                </a:lnTo>
                <a:lnTo>
                  <a:pt x="280" y="518"/>
                </a:lnTo>
                <a:lnTo>
                  <a:pt x="274" y="532"/>
                </a:lnTo>
                <a:lnTo>
                  <a:pt x="267" y="543"/>
                </a:lnTo>
                <a:lnTo>
                  <a:pt x="259" y="557"/>
                </a:lnTo>
                <a:lnTo>
                  <a:pt x="244" y="582"/>
                </a:lnTo>
                <a:lnTo>
                  <a:pt x="228" y="603"/>
                </a:lnTo>
                <a:lnTo>
                  <a:pt x="213" y="624"/>
                </a:lnTo>
                <a:lnTo>
                  <a:pt x="197" y="643"/>
                </a:lnTo>
                <a:lnTo>
                  <a:pt x="190" y="653"/>
                </a:lnTo>
                <a:lnTo>
                  <a:pt x="182" y="662"/>
                </a:lnTo>
                <a:lnTo>
                  <a:pt x="174" y="670"/>
                </a:lnTo>
                <a:lnTo>
                  <a:pt x="169" y="678"/>
                </a:lnTo>
                <a:lnTo>
                  <a:pt x="161" y="683"/>
                </a:lnTo>
                <a:lnTo>
                  <a:pt x="155" y="689"/>
                </a:lnTo>
                <a:lnTo>
                  <a:pt x="149" y="695"/>
                </a:lnTo>
                <a:lnTo>
                  <a:pt x="144" y="701"/>
                </a:lnTo>
                <a:lnTo>
                  <a:pt x="140" y="705"/>
                </a:lnTo>
                <a:lnTo>
                  <a:pt x="134" y="708"/>
                </a:lnTo>
                <a:lnTo>
                  <a:pt x="130" y="712"/>
                </a:lnTo>
                <a:lnTo>
                  <a:pt x="126" y="714"/>
                </a:lnTo>
                <a:lnTo>
                  <a:pt x="123" y="716"/>
                </a:lnTo>
                <a:lnTo>
                  <a:pt x="119" y="718"/>
                </a:lnTo>
                <a:lnTo>
                  <a:pt x="115" y="720"/>
                </a:lnTo>
                <a:lnTo>
                  <a:pt x="113" y="720"/>
                </a:lnTo>
                <a:lnTo>
                  <a:pt x="109" y="720"/>
                </a:lnTo>
                <a:lnTo>
                  <a:pt x="107" y="718"/>
                </a:lnTo>
                <a:lnTo>
                  <a:pt x="103" y="716"/>
                </a:lnTo>
                <a:lnTo>
                  <a:pt x="100" y="714"/>
                </a:lnTo>
                <a:lnTo>
                  <a:pt x="96" y="712"/>
                </a:lnTo>
                <a:lnTo>
                  <a:pt x="92" y="708"/>
                </a:lnTo>
                <a:lnTo>
                  <a:pt x="86" y="705"/>
                </a:lnTo>
                <a:lnTo>
                  <a:pt x="82" y="699"/>
                </a:lnTo>
                <a:lnTo>
                  <a:pt x="77" y="693"/>
                </a:lnTo>
                <a:lnTo>
                  <a:pt x="73" y="687"/>
                </a:lnTo>
                <a:lnTo>
                  <a:pt x="67" y="680"/>
                </a:lnTo>
                <a:lnTo>
                  <a:pt x="63" y="672"/>
                </a:lnTo>
                <a:lnTo>
                  <a:pt x="57" y="662"/>
                </a:lnTo>
                <a:lnTo>
                  <a:pt x="52" y="653"/>
                </a:lnTo>
                <a:lnTo>
                  <a:pt x="46" y="643"/>
                </a:lnTo>
                <a:lnTo>
                  <a:pt x="42" y="632"/>
                </a:lnTo>
                <a:lnTo>
                  <a:pt x="32" y="612"/>
                </a:lnTo>
                <a:lnTo>
                  <a:pt x="23" y="595"/>
                </a:lnTo>
                <a:lnTo>
                  <a:pt x="15" y="580"/>
                </a:lnTo>
                <a:lnTo>
                  <a:pt x="9" y="564"/>
                </a:lnTo>
                <a:lnTo>
                  <a:pt x="6" y="551"/>
                </a:lnTo>
                <a:lnTo>
                  <a:pt x="2" y="540"/>
                </a:lnTo>
                <a:lnTo>
                  <a:pt x="0" y="528"/>
                </a:lnTo>
                <a:lnTo>
                  <a:pt x="0" y="518"/>
                </a:lnTo>
                <a:lnTo>
                  <a:pt x="0" y="515"/>
                </a:lnTo>
                <a:lnTo>
                  <a:pt x="0" y="511"/>
                </a:lnTo>
                <a:lnTo>
                  <a:pt x="0" y="507"/>
                </a:lnTo>
                <a:lnTo>
                  <a:pt x="2" y="503"/>
                </a:lnTo>
                <a:lnTo>
                  <a:pt x="4" y="499"/>
                </a:lnTo>
                <a:lnTo>
                  <a:pt x="6" y="493"/>
                </a:lnTo>
                <a:lnTo>
                  <a:pt x="9" y="486"/>
                </a:lnTo>
                <a:lnTo>
                  <a:pt x="11" y="480"/>
                </a:lnTo>
                <a:lnTo>
                  <a:pt x="15" y="472"/>
                </a:lnTo>
                <a:lnTo>
                  <a:pt x="19" y="465"/>
                </a:lnTo>
                <a:lnTo>
                  <a:pt x="25" y="455"/>
                </a:lnTo>
                <a:lnTo>
                  <a:pt x="29" y="447"/>
                </a:lnTo>
                <a:lnTo>
                  <a:pt x="34" y="438"/>
                </a:lnTo>
                <a:lnTo>
                  <a:pt x="42" y="426"/>
                </a:lnTo>
                <a:lnTo>
                  <a:pt x="48" y="415"/>
                </a:lnTo>
                <a:lnTo>
                  <a:pt x="55" y="403"/>
                </a:lnTo>
                <a:lnTo>
                  <a:pt x="63" y="394"/>
                </a:lnTo>
                <a:lnTo>
                  <a:pt x="71" y="384"/>
                </a:lnTo>
                <a:lnTo>
                  <a:pt x="80" y="373"/>
                </a:lnTo>
                <a:lnTo>
                  <a:pt x="88" y="361"/>
                </a:lnTo>
                <a:lnTo>
                  <a:pt x="96" y="349"/>
                </a:lnTo>
                <a:lnTo>
                  <a:pt x="103" y="336"/>
                </a:lnTo>
                <a:lnTo>
                  <a:pt x="111" y="323"/>
                </a:lnTo>
                <a:lnTo>
                  <a:pt x="119" y="307"/>
                </a:lnTo>
                <a:lnTo>
                  <a:pt x="128" y="292"/>
                </a:lnTo>
                <a:lnTo>
                  <a:pt x="136" y="277"/>
                </a:lnTo>
                <a:lnTo>
                  <a:pt x="144" y="259"/>
                </a:lnTo>
                <a:lnTo>
                  <a:pt x="151" y="242"/>
                </a:lnTo>
                <a:lnTo>
                  <a:pt x="159" y="225"/>
                </a:lnTo>
                <a:lnTo>
                  <a:pt x="167" y="206"/>
                </a:lnTo>
                <a:lnTo>
                  <a:pt x="174" y="184"/>
                </a:lnTo>
                <a:lnTo>
                  <a:pt x="184" y="165"/>
                </a:lnTo>
                <a:lnTo>
                  <a:pt x="192" y="144"/>
                </a:lnTo>
                <a:lnTo>
                  <a:pt x="197" y="125"/>
                </a:lnTo>
                <a:lnTo>
                  <a:pt x="205" y="108"/>
                </a:lnTo>
                <a:lnTo>
                  <a:pt x="213" y="90"/>
                </a:lnTo>
                <a:lnTo>
                  <a:pt x="219" y="75"/>
                </a:lnTo>
                <a:lnTo>
                  <a:pt x="224" y="62"/>
                </a:lnTo>
                <a:lnTo>
                  <a:pt x="230" y="50"/>
                </a:lnTo>
                <a:lnTo>
                  <a:pt x="236" y="40"/>
                </a:lnTo>
                <a:lnTo>
                  <a:pt x="242" y="31"/>
                </a:lnTo>
                <a:lnTo>
                  <a:pt x="245" y="21"/>
                </a:lnTo>
                <a:lnTo>
                  <a:pt x="251" y="15"/>
                </a:lnTo>
                <a:lnTo>
                  <a:pt x="255" y="10"/>
                </a:lnTo>
                <a:lnTo>
                  <a:pt x="259" y="6"/>
                </a:lnTo>
                <a:lnTo>
                  <a:pt x="263" y="2"/>
                </a:lnTo>
                <a:lnTo>
                  <a:pt x="265" y="0"/>
                </a:lnTo>
                <a:lnTo>
                  <a:pt x="268" y="0"/>
                </a:lnTo>
                <a:lnTo>
                  <a:pt x="270" y="4"/>
                </a:lnTo>
                <a:lnTo>
                  <a:pt x="274" y="6"/>
                </a:lnTo>
                <a:lnTo>
                  <a:pt x="276" y="12"/>
                </a:lnTo>
                <a:lnTo>
                  <a:pt x="278" y="17"/>
                </a:lnTo>
                <a:lnTo>
                  <a:pt x="282" y="23"/>
                </a:lnTo>
                <a:lnTo>
                  <a:pt x="284" y="31"/>
                </a:lnTo>
                <a:lnTo>
                  <a:pt x="286" y="40"/>
                </a:lnTo>
                <a:lnTo>
                  <a:pt x="290" y="50"/>
                </a:lnTo>
                <a:lnTo>
                  <a:pt x="292" y="60"/>
                </a:lnTo>
                <a:lnTo>
                  <a:pt x="295" y="71"/>
                </a:lnTo>
                <a:lnTo>
                  <a:pt x="297" y="85"/>
                </a:lnTo>
                <a:lnTo>
                  <a:pt x="301" y="98"/>
                </a:lnTo>
                <a:lnTo>
                  <a:pt x="303" y="113"/>
                </a:lnTo>
                <a:lnTo>
                  <a:pt x="305" y="129"/>
                </a:lnTo>
                <a:lnTo>
                  <a:pt x="309" y="146"/>
                </a:lnTo>
                <a:lnTo>
                  <a:pt x="311" y="16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122"/>
          <p:cNvSpPr/>
          <p:nvPr/>
        </p:nvSpPr>
        <p:spPr>
          <a:xfrm>
            <a:off x="6421320" y="2736720"/>
            <a:ext cx="247680" cy="1509840"/>
          </a:xfrm>
          <a:custGeom>
            <a:avLst/>
            <a:gdLst/>
            <a:ahLst/>
            <a:rect l="l" t="t" r="r" b="b"/>
            <a:pathLst>
              <a:path w="313" h="1902">
                <a:moveTo>
                  <a:pt x="25" y="111"/>
                </a:moveTo>
                <a:lnTo>
                  <a:pt x="19" y="103"/>
                </a:lnTo>
                <a:lnTo>
                  <a:pt x="15" y="96"/>
                </a:lnTo>
                <a:lnTo>
                  <a:pt x="11" y="90"/>
                </a:lnTo>
                <a:lnTo>
                  <a:pt x="7" y="82"/>
                </a:lnTo>
                <a:lnTo>
                  <a:pt x="6" y="76"/>
                </a:lnTo>
                <a:lnTo>
                  <a:pt x="4" y="69"/>
                </a:lnTo>
                <a:lnTo>
                  <a:pt x="2" y="61"/>
                </a:lnTo>
                <a:lnTo>
                  <a:pt x="2" y="55"/>
                </a:lnTo>
                <a:lnTo>
                  <a:pt x="0" y="50"/>
                </a:lnTo>
                <a:lnTo>
                  <a:pt x="0" y="42"/>
                </a:lnTo>
                <a:lnTo>
                  <a:pt x="2" y="30"/>
                </a:lnTo>
                <a:lnTo>
                  <a:pt x="6" y="21"/>
                </a:lnTo>
                <a:lnTo>
                  <a:pt x="9" y="9"/>
                </a:lnTo>
                <a:lnTo>
                  <a:pt x="13" y="7"/>
                </a:lnTo>
                <a:lnTo>
                  <a:pt x="17" y="5"/>
                </a:lnTo>
                <a:lnTo>
                  <a:pt x="21" y="3"/>
                </a:lnTo>
                <a:lnTo>
                  <a:pt x="27" y="2"/>
                </a:lnTo>
                <a:lnTo>
                  <a:pt x="32" y="2"/>
                </a:lnTo>
                <a:lnTo>
                  <a:pt x="38" y="2"/>
                </a:lnTo>
                <a:lnTo>
                  <a:pt x="48" y="0"/>
                </a:lnTo>
                <a:lnTo>
                  <a:pt x="55" y="0"/>
                </a:lnTo>
                <a:lnTo>
                  <a:pt x="65" y="0"/>
                </a:lnTo>
                <a:lnTo>
                  <a:pt x="77" y="2"/>
                </a:lnTo>
                <a:lnTo>
                  <a:pt x="88" y="2"/>
                </a:lnTo>
                <a:lnTo>
                  <a:pt x="102" y="2"/>
                </a:lnTo>
                <a:lnTo>
                  <a:pt x="115" y="3"/>
                </a:lnTo>
                <a:lnTo>
                  <a:pt x="130" y="5"/>
                </a:lnTo>
                <a:lnTo>
                  <a:pt x="148" y="7"/>
                </a:lnTo>
                <a:lnTo>
                  <a:pt x="165" y="9"/>
                </a:lnTo>
                <a:lnTo>
                  <a:pt x="180" y="15"/>
                </a:lnTo>
                <a:lnTo>
                  <a:pt x="196" y="19"/>
                </a:lnTo>
                <a:lnTo>
                  <a:pt x="209" y="25"/>
                </a:lnTo>
                <a:lnTo>
                  <a:pt x="221" y="28"/>
                </a:lnTo>
                <a:lnTo>
                  <a:pt x="234" y="32"/>
                </a:lnTo>
                <a:lnTo>
                  <a:pt x="244" y="38"/>
                </a:lnTo>
                <a:lnTo>
                  <a:pt x="253" y="42"/>
                </a:lnTo>
                <a:lnTo>
                  <a:pt x="263" y="46"/>
                </a:lnTo>
                <a:lnTo>
                  <a:pt x="270" y="50"/>
                </a:lnTo>
                <a:lnTo>
                  <a:pt x="278" y="53"/>
                </a:lnTo>
                <a:lnTo>
                  <a:pt x="286" y="57"/>
                </a:lnTo>
                <a:lnTo>
                  <a:pt x="292" y="61"/>
                </a:lnTo>
                <a:lnTo>
                  <a:pt x="295" y="65"/>
                </a:lnTo>
                <a:lnTo>
                  <a:pt x="301" y="67"/>
                </a:lnTo>
                <a:lnTo>
                  <a:pt x="303" y="71"/>
                </a:lnTo>
                <a:lnTo>
                  <a:pt x="307" y="73"/>
                </a:lnTo>
                <a:lnTo>
                  <a:pt x="309" y="76"/>
                </a:lnTo>
                <a:lnTo>
                  <a:pt x="311" y="80"/>
                </a:lnTo>
                <a:lnTo>
                  <a:pt x="313" y="88"/>
                </a:lnTo>
                <a:lnTo>
                  <a:pt x="313" y="96"/>
                </a:lnTo>
                <a:lnTo>
                  <a:pt x="313" y="107"/>
                </a:lnTo>
                <a:lnTo>
                  <a:pt x="313" y="119"/>
                </a:lnTo>
                <a:lnTo>
                  <a:pt x="313" y="132"/>
                </a:lnTo>
                <a:lnTo>
                  <a:pt x="311" y="149"/>
                </a:lnTo>
                <a:lnTo>
                  <a:pt x="309" y="167"/>
                </a:lnTo>
                <a:lnTo>
                  <a:pt x="307" y="186"/>
                </a:lnTo>
                <a:lnTo>
                  <a:pt x="305" y="207"/>
                </a:lnTo>
                <a:lnTo>
                  <a:pt x="303" y="228"/>
                </a:lnTo>
                <a:lnTo>
                  <a:pt x="301" y="253"/>
                </a:lnTo>
                <a:lnTo>
                  <a:pt x="297" y="280"/>
                </a:lnTo>
                <a:lnTo>
                  <a:pt x="295" y="307"/>
                </a:lnTo>
                <a:lnTo>
                  <a:pt x="293" y="337"/>
                </a:lnTo>
                <a:lnTo>
                  <a:pt x="292" y="353"/>
                </a:lnTo>
                <a:lnTo>
                  <a:pt x="290" y="370"/>
                </a:lnTo>
                <a:lnTo>
                  <a:pt x="290" y="387"/>
                </a:lnTo>
                <a:lnTo>
                  <a:pt x="288" y="405"/>
                </a:lnTo>
                <a:lnTo>
                  <a:pt x="286" y="422"/>
                </a:lnTo>
                <a:lnTo>
                  <a:pt x="286" y="441"/>
                </a:lnTo>
                <a:lnTo>
                  <a:pt x="284" y="462"/>
                </a:lnTo>
                <a:lnTo>
                  <a:pt x="282" y="481"/>
                </a:lnTo>
                <a:lnTo>
                  <a:pt x="282" y="502"/>
                </a:lnTo>
                <a:lnTo>
                  <a:pt x="280" y="526"/>
                </a:lnTo>
                <a:lnTo>
                  <a:pt x="280" y="547"/>
                </a:lnTo>
                <a:lnTo>
                  <a:pt x="278" y="570"/>
                </a:lnTo>
                <a:lnTo>
                  <a:pt x="276" y="595"/>
                </a:lnTo>
                <a:lnTo>
                  <a:pt x="276" y="618"/>
                </a:lnTo>
                <a:lnTo>
                  <a:pt x="274" y="643"/>
                </a:lnTo>
                <a:lnTo>
                  <a:pt x="274" y="669"/>
                </a:lnTo>
                <a:lnTo>
                  <a:pt x="272" y="694"/>
                </a:lnTo>
                <a:lnTo>
                  <a:pt x="272" y="721"/>
                </a:lnTo>
                <a:lnTo>
                  <a:pt x="270" y="750"/>
                </a:lnTo>
                <a:lnTo>
                  <a:pt x="270" y="779"/>
                </a:lnTo>
                <a:lnTo>
                  <a:pt x="269" y="808"/>
                </a:lnTo>
                <a:lnTo>
                  <a:pt x="269" y="836"/>
                </a:lnTo>
                <a:lnTo>
                  <a:pt x="269" y="867"/>
                </a:lnTo>
                <a:lnTo>
                  <a:pt x="267" y="898"/>
                </a:lnTo>
                <a:lnTo>
                  <a:pt x="267" y="931"/>
                </a:lnTo>
                <a:lnTo>
                  <a:pt x="267" y="963"/>
                </a:lnTo>
                <a:lnTo>
                  <a:pt x="267" y="996"/>
                </a:lnTo>
                <a:lnTo>
                  <a:pt x="265" y="1028"/>
                </a:lnTo>
                <a:lnTo>
                  <a:pt x="265" y="1063"/>
                </a:lnTo>
                <a:lnTo>
                  <a:pt x="265" y="1099"/>
                </a:lnTo>
                <a:lnTo>
                  <a:pt x="265" y="1134"/>
                </a:lnTo>
                <a:lnTo>
                  <a:pt x="265" y="1170"/>
                </a:lnTo>
                <a:lnTo>
                  <a:pt x="265" y="1207"/>
                </a:lnTo>
                <a:lnTo>
                  <a:pt x="265" y="1241"/>
                </a:lnTo>
                <a:lnTo>
                  <a:pt x="265" y="1276"/>
                </a:lnTo>
                <a:lnTo>
                  <a:pt x="265" y="1309"/>
                </a:lnTo>
                <a:lnTo>
                  <a:pt x="265" y="1341"/>
                </a:lnTo>
                <a:lnTo>
                  <a:pt x="263" y="1374"/>
                </a:lnTo>
                <a:lnTo>
                  <a:pt x="263" y="1403"/>
                </a:lnTo>
                <a:lnTo>
                  <a:pt x="263" y="1433"/>
                </a:lnTo>
                <a:lnTo>
                  <a:pt x="261" y="1460"/>
                </a:lnTo>
                <a:lnTo>
                  <a:pt x="261" y="1489"/>
                </a:lnTo>
                <a:lnTo>
                  <a:pt x="261" y="1514"/>
                </a:lnTo>
                <a:lnTo>
                  <a:pt x="259" y="1539"/>
                </a:lnTo>
                <a:lnTo>
                  <a:pt x="259" y="1564"/>
                </a:lnTo>
                <a:lnTo>
                  <a:pt x="257" y="1587"/>
                </a:lnTo>
                <a:lnTo>
                  <a:pt x="257" y="1610"/>
                </a:lnTo>
                <a:lnTo>
                  <a:pt x="255" y="1631"/>
                </a:lnTo>
                <a:lnTo>
                  <a:pt x="255" y="1650"/>
                </a:lnTo>
                <a:lnTo>
                  <a:pt x="253" y="1670"/>
                </a:lnTo>
                <a:lnTo>
                  <a:pt x="253" y="1689"/>
                </a:lnTo>
                <a:lnTo>
                  <a:pt x="251" y="1706"/>
                </a:lnTo>
                <a:lnTo>
                  <a:pt x="251" y="1721"/>
                </a:lnTo>
                <a:lnTo>
                  <a:pt x="249" y="1737"/>
                </a:lnTo>
                <a:lnTo>
                  <a:pt x="247" y="1750"/>
                </a:lnTo>
                <a:lnTo>
                  <a:pt x="247" y="1764"/>
                </a:lnTo>
                <a:lnTo>
                  <a:pt x="245" y="1775"/>
                </a:lnTo>
                <a:lnTo>
                  <a:pt x="244" y="1785"/>
                </a:lnTo>
                <a:lnTo>
                  <a:pt x="244" y="1794"/>
                </a:lnTo>
                <a:lnTo>
                  <a:pt x="242" y="1804"/>
                </a:lnTo>
                <a:lnTo>
                  <a:pt x="240" y="1812"/>
                </a:lnTo>
                <a:lnTo>
                  <a:pt x="240" y="1817"/>
                </a:lnTo>
                <a:lnTo>
                  <a:pt x="238" y="1823"/>
                </a:lnTo>
                <a:lnTo>
                  <a:pt x="236" y="1827"/>
                </a:lnTo>
                <a:lnTo>
                  <a:pt x="232" y="1837"/>
                </a:lnTo>
                <a:lnTo>
                  <a:pt x="226" y="1844"/>
                </a:lnTo>
                <a:lnTo>
                  <a:pt x="221" y="1852"/>
                </a:lnTo>
                <a:lnTo>
                  <a:pt x="215" y="1860"/>
                </a:lnTo>
                <a:lnTo>
                  <a:pt x="211" y="1867"/>
                </a:lnTo>
                <a:lnTo>
                  <a:pt x="205" y="1873"/>
                </a:lnTo>
                <a:lnTo>
                  <a:pt x="199" y="1879"/>
                </a:lnTo>
                <a:lnTo>
                  <a:pt x="194" y="1883"/>
                </a:lnTo>
                <a:lnTo>
                  <a:pt x="188" y="1888"/>
                </a:lnTo>
                <a:lnTo>
                  <a:pt x="184" y="1892"/>
                </a:lnTo>
                <a:lnTo>
                  <a:pt x="178" y="1894"/>
                </a:lnTo>
                <a:lnTo>
                  <a:pt x="173" y="1898"/>
                </a:lnTo>
                <a:lnTo>
                  <a:pt x="167" y="1900"/>
                </a:lnTo>
                <a:lnTo>
                  <a:pt x="163" y="1900"/>
                </a:lnTo>
                <a:lnTo>
                  <a:pt x="157" y="1902"/>
                </a:lnTo>
                <a:lnTo>
                  <a:pt x="151" y="1902"/>
                </a:lnTo>
                <a:lnTo>
                  <a:pt x="150" y="1902"/>
                </a:lnTo>
                <a:lnTo>
                  <a:pt x="146" y="1900"/>
                </a:lnTo>
                <a:lnTo>
                  <a:pt x="144" y="1898"/>
                </a:lnTo>
                <a:lnTo>
                  <a:pt x="142" y="1894"/>
                </a:lnTo>
                <a:lnTo>
                  <a:pt x="140" y="1890"/>
                </a:lnTo>
                <a:lnTo>
                  <a:pt x="136" y="1886"/>
                </a:lnTo>
                <a:lnTo>
                  <a:pt x="134" y="1881"/>
                </a:lnTo>
                <a:lnTo>
                  <a:pt x="132" y="1873"/>
                </a:lnTo>
                <a:lnTo>
                  <a:pt x="130" y="1865"/>
                </a:lnTo>
                <a:lnTo>
                  <a:pt x="128" y="1858"/>
                </a:lnTo>
                <a:lnTo>
                  <a:pt x="126" y="1848"/>
                </a:lnTo>
                <a:lnTo>
                  <a:pt x="125" y="1837"/>
                </a:lnTo>
                <a:lnTo>
                  <a:pt x="125" y="1827"/>
                </a:lnTo>
                <a:lnTo>
                  <a:pt x="123" y="1813"/>
                </a:lnTo>
                <a:lnTo>
                  <a:pt x="121" y="1800"/>
                </a:lnTo>
                <a:lnTo>
                  <a:pt x="119" y="1787"/>
                </a:lnTo>
                <a:lnTo>
                  <a:pt x="119" y="1771"/>
                </a:lnTo>
                <a:lnTo>
                  <a:pt x="117" y="1756"/>
                </a:lnTo>
                <a:lnTo>
                  <a:pt x="115" y="1739"/>
                </a:lnTo>
                <a:lnTo>
                  <a:pt x="115" y="1721"/>
                </a:lnTo>
                <a:lnTo>
                  <a:pt x="113" y="1702"/>
                </a:lnTo>
                <a:lnTo>
                  <a:pt x="113" y="1683"/>
                </a:lnTo>
                <a:lnTo>
                  <a:pt x="113" y="1662"/>
                </a:lnTo>
                <a:lnTo>
                  <a:pt x="111" y="1641"/>
                </a:lnTo>
                <a:lnTo>
                  <a:pt x="111" y="1620"/>
                </a:lnTo>
                <a:lnTo>
                  <a:pt x="111" y="1595"/>
                </a:lnTo>
                <a:lnTo>
                  <a:pt x="109" y="1572"/>
                </a:lnTo>
                <a:lnTo>
                  <a:pt x="109" y="1547"/>
                </a:lnTo>
                <a:lnTo>
                  <a:pt x="109" y="1520"/>
                </a:lnTo>
                <a:lnTo>
                  <a:pt x="109" y="1493"/>
                </a:lnTo>
                <a:lnTo>
                  <a:pt x="109" y="1464"/>
                </a:lnTo>
                <a:lnTo>
                  <a:pt x="109" y="1435"/>
                </a:lnTo>
                <a:lnTo>
                  <a:pt x="103" y="1322"/>
                </a:lnTo>
                <a:lnTo>
                  <a:pt x="102" y="1211"/>
                </a:lnTo>
                <a:lnTo>
                  <a:pt x="98" y="1099"/>
                </a:lnTo>
                <a:lnTo>
                  <a:pt x="96" y="990"/>
                </a:lnTo>
                <a:lnTo>
                  <a:pt x="96" y="883"/>
                </a:lnTo>
                <a:lnTo>
                  <a:pt x="96" y="775"/>
                </a:lnTo>
                <a:lnTo>
                  <a:pt x="96" y="669"/>
                </a:lnTo>
                <a:lnTo>
                  <a:pt x="96" y="566"/>
                </a:lnTo>
                <a:lnTo>
                  <a:pt x="94" y="541"/>
                </a:lnTo>
                <a:lnTo>
                  <a:pt x="92" y="516"/>
                </a:lnTo>
                <a:lnTo>
                  <a:pt x="90" y="493"/>
                </a:lnTo>
                <a:lnTo>
                  <a:pt x="90" y="470"/>
                </a:lnTo>
                <a:lnTo>
                  <a:pt x="88" y="449"/>
                </a:lnTo>
                <a:lnTo>
                  <a:pt x="86" y="428"/>
                </a:lnTo>
                <a:lnTo>
                  <a:pt x="86" y="407"/>
                </a:lnTo>
                <a:lnTo>
                  <a:pt x="84" y="387"/>
                </a:lnTo>
                <a:lnTo>
                  <a:pt x="82" y="368"/>
                </a:lnTo>
                <a:lnTo>
                  <a:pt x="80" y="349"/>
                </a:lnTo>
                <a:lnTo>
                  <a:pt x="78" y="332"/>
                </a:lnTo>
                <a:lnTo>
                  <a:pt x="77" y="314"/>
                </a:lnTo>
                <a:lnTo>
                  <a:pt x="77" y="299"/>
                </a:lnTo>
                <a:lnTo>
                  <a:pt x="75" y="282"/>
                </a:lnTo>
                <a:lnTo>
                  <a:pt x="73" y="266"/>
                </a:lnTo>
                <a:lnTo>
                  <a:pt x="71" y="253"/>
                </a:lnTo>
                <a:lnTo>
                  <a:pt x="67" y="240"/>
                </a:lnTo>
                <a:lnTo>
                  <a:pt x="65" y="226"/>
                </a:lnTo>
                <a:lnTo>
                  <a:pt x="63" y="213"/>
                </a:lnTo>
                <a:lnTo>
                  <a:pt x="61" y="201"/>
                </a:lnTo>
                <a:lnTo>
                  <a:pt x="59" y="190"/>
                </a:lnTo>
                <a:lnTo>
                  <a:pt x="55" y="180"/>
                </a:lnTo>
                <a:lnTo>
                  <a:pt x="54" y="170"/>
                </a:lnTo>
                <a:lnTo>
                  <a:pt x="52" y="161"/>
                </a:lnTo>
                <a:lnTo>
                  <a:pt x="48" y="151"/>
                </a:lnTo>
                <a:lnTo>
                  <a:pt x="44" y="144"/>
                </a:lnTo>
                <a:lnTo>
                  <a:pt x="42" y="136"/>
                </a:lnTo>
                <a:lnTo>
                  <a:pt x="38" y="130"/>
                </a:lnTo>
                <a:lnTo>
                  <a:pt x="34" y="124"/>
                </a:lnTo>
                <a:lnTo>
                  <a:pt x="31" y="119"/>
                </a:lnTo>
                <a:lnTo>
                  <a:pt x="29" y="115"/>
                </a:lnTo>
                <a:lnTo>
                  <a:pt x="25" y="1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123"/>
          <p:cNvSpPr/>
          <p:nvPr/>
        </p:nvSpPr>
        <p:spPr>
          <a:xfrm>
            <a:off x="5923080" y="3544920"/>
            <a:ext cx="1460520" cy="412560"/>
          </a:xfrm>
          <a:custGeom>
            <a:avLst/>
            <a:gdLst/>
            <a:ahLst/>
            <a:rect l="l" t="t" r="r" b="b"/>
            <a:pathLst>
              <a:path w="1841" h="518">
                <a:moveTo>
                  <a:pt x="1701" y="88"/>
                </a:moveTo>
                <a:lnTo>
                  <a:pt x="1718" y="96"/>
                </a:lnTo>
                <a:lnTo>
                  <a:pt x="1733" y="102"/>
                </a:lnTo>
                <a:lnTo>
                  <a:pt x="1749" y="109"/>
                </a:lnTo>
                <a:lnTo>
                  <a:pt x="1764" y="117"/>
                </a:lnTo>
                <a:lnTo>
                  <a:pt x="1776" y="123"/>
                </a:lnTo>
                <a:lnTo>
                  <a:pt x="1787" y="130"/>
                </a:lnTo>
                <a:lnTo>
                  <a:pt x="1799" y="136"/>
                </a:lnTo>
                <a:lnTo>
                  <a:pt x="1808" y="142"/>
                </a:lnTo>
                <a:lnTo>
                  <a:pt x="1816" y="148"/>
                </a:lnTo>
                <a:lnTo>
                  <a:pt x="1824" y="153"/>
                </a:lnTo>
                <a:lnTo>
                  <a:pt x="1829" y="157"/>
                </a:lnTo>
                <a:lnTo>
                  <a:pt x="1833" y="163"/>
                </a:lnTo>
                <a:lnTo>
                  <a:pt x="1837" y="167"/>
                </a:lnTo>
                <a:lnTo>
                  <a:pt x="1839" y="171"/>
                </a:lnTo>
                <a:lnTo>
                  <a:pt x="1841" y="175"/>
                </a:lnTo>
                <a:lnTo>
                  <a:pt x="1841" y="176"/>
                </a:lnTo>
                <a:lnTo>
                  <a:pt x="1835" y="182"/>
                </a:lnTo>
                <a:lnTo>
                  <a:pt x="1827" y="188"/>
                </a:lnTo>
                <a:lnTo>
                  <a:pt x="1820" y="196"/>
                </a:lnTo>
                <a:lnTo>
                  <a:pt x="1810" y="201"/>
                </a:lnTo>
                <a:lnTo>
                  <a:pt x="1799" y="209"/>
                </a:lnTo>
                <a:lnTo>
                  <a:pt x="1785" y="215"/>
                </a:lnTo>
                <a:lnTo>
                  <a:pt x="1772" y="222"/>
                </a:lnTo>
                <a:lnTo>
                  <a:pt x="1756" y="226"/>
                </a:lnTo>
                <a:lnTo>
                  <a:pt x="1745" y="232"/>
                </a:lnTo>
                <a:lnTo>
                  <a:pt x="1733" y="240"/>
                </a:lnTo>
                <a:lnTo>
                  <a:pt x="1720" y="247"/>
                </a:lnTo>
                <a:lnTo>
                  <a:pt x="1706" y="257"/>
                </a:lnTo>
                <a:lnTo>
                  <a:pt x="1691" y="269"/>
                </a:lnTo>
                <a:lnTo>
                  <a:pt x="1676" y="282"/>
                </a:lnTo>
                <a:lnTo>
                  <a:pt x="1658" y="297"/>
                </a:lnTo>
                <a:lnTo>
                  <a:pt x="1641" y="313"/>
                </a:lnTo>
                <a:lnTo>
                  <a:pt x="1622" y="332"/>
                </a:lnTo>
                <a:lnTo>
                  <a:pt x="1603" y="351"/>
                </a:lnTo>
                <a:lnTo>
                  <a:pt x="1584" y="372"/>
                </a:lnTo>
                <a:lnTo>
                  <a:pt x="1563" y="395"/>
                </a:lnTo>
                <a:lnTo>
                  <a:pt x="1541" y="420"/>
                </a:lnTo>
                <a:lnTo>
                  <a:pt x="1518" y="447"/>
                </a:lnTo>
                <a:lnTo>
                  <a:pt x="1497" y="474"/>
                </a:lnTo>
                <a:lnTo>
                  <a:pt x="1474" y="505"/>
                </a:lnTo>
                <a:lnTo>
                  <a:pt x="1417" y="510"/>
                </a:lnTo>
                <a:lnTo>
                  <a:pt x="1361" y="518"/>
                </a:lnTo>
                <a:lnTo>
                  <a:pt x="1367" y="497"/>
                </a:lnTo>
                <a:lnTo>
                  <a:pt x="1373" y="476"/>
                </a:lnTo>
                <a:lnTo>
                  <a:pt x="1378" y="457"/>
                </a:lnTo>
                <a:lnTo>
                  <a:pt x="1384" y="437"/>
                </a:lnTo>
                <a:lnTo>
                  <a:pt x="1390" y="418"/>
                </a:lnTo>
                <a:lnTo>
                  <a:pt x="1396" y="401"/>
                </a:lnTo>
                <a:lnTo>
                  <a:pt x="1401" y="384"/>
                </a:lnTo>
                <a:lnTo>
                  <a:pt x="1407" y="368"/>
                </a:lnTo>
                <a:lnTo>
                  <a:pt x="1413" y="353"/>
                </a:lnTo>
                <a:lnTo>
                  <a:pt x="1417" y="338"/>
                </a:lnTo>
                <a:lnTo>
                  <a:pt x="1420" y="322"/>
                </a:lnTo>
                <a:lnTo>
                  <a:pt x="1426" y="309"/>
                </a:lnTo>
                <a:lnTo>
                  <a:pt x="1430" y="295"/>
                </a:lnTo>
                <a:lnTo>
                  <a:pt x="1434" y="284"/>
                </a:lnTo>
                <a:lnTo>
                  <a:pt x="1438" y="270"/>
                </a:lnTo>
                <a:lnTo>
                  <a:pt x="1442" y="261"/>
                </a:lnTo>
                <a:lnTo>
                  <a:pt x="1444" y="249"/>
                </a:lnTo>
                <a:lnTo>
                  <a:pt x="1447" y="240"/>
                </a:lnTo>
                <a:lnTo>
                  <a:pt x="1449" y="230"/>
                </a:lnTo>
                <a:lnTo>
                  <a:pt x="1453" y="221"/>
                </a:lnTo>
                <a:lnTo>
                  <a:pt x="1455" y="213"/>
                </a:lnTo>
                <a:lnTo>
                  <a:pt x="1457" y="205"/>
                </a:lnTo>
                <a:lnTo>
                  <a:pt x="1459" y="199"/>
                </a:lnTo>
                <a:lnTo>
                  <a:pt x="1459" y="192"/>
                </a:lnTo>
                <a:lnTo>
                  <a:pt x="1461" y="186"/>
                </a:lnTo>
                <a:lnTo>
                  <a:pt x="1461" y="182"/>
                </a:lnTo>
                <a:lnTo>
                  <a:pt x="1461" y="176"/>
                </a:lnTo>
                <a:lnTo>
                  <a:pt x="1461" y="173"/>
                </a:lnTo>
                <a:lnTo>
                  <a:pt x="1461" y="171"/>
                </a:lnTo>
                <a:lnTo>
                  <a:pt x="1461" y="167"/>
                </a:lnTo>
                <a:lnTo>
                  <a:pt x="1461" y="165"/>
                </a:lnTo>
                <a:lnTo>
                  <a:pt x="1459" y="165"/>
                </a:lnTo>
                <a:lnTo>
                  <a:pt x="1457" y="163"/>
                </a:lnTo>
                <a:lnTo>
                  <a:pt x="1455" y="161"/>
                </a:lnTo>
                <a:lnTo>
                  <a:pt x="1453" y="161"/>
                </a:lnTo>
                <a:lnTo>
                  <a:pt x="1449" y="161"/>
                </a:lnTo>
                <a:lnTo>
                  <a:pt x="1445" y="159"/>
                </a:lnTo>
                <a:lnTo>
                  <a:pt x="1442" y="159"/>
                </a:lnTo>
                <a:lnTo>
                  <a:pt x="1436" y="159"/>
                </a:lnTo>
                <a:lnTo>
                  <a:pt x="1430" y="159"/>
                </a:lnTo>
                <a:lnTo>
                  <a:pt x="1424" y="159"/>
                </a:lnTo>
                <a:lnTo>
                  <a:pt x="1417" y="159"/>
                </a:lnTo>
                <a:lnTo>
                  <a:pt x="1411" y="159"/>
                </a:lnTo>
                <a:lnTo>
                  <a:pt x="1403" y="159"/>
                </a:lnTo>
                <a:lnTo>
                  <a:pt x="1394" y="161"/>
                </a:lnTo>
                <a:lnTo>
                  <a:pt x="1386" y="161"/>
                </a:lnTo>
                <a:lnTo>
                  <a:pt x="1376" y="163"/>
                </a:lnTo>
                <a:lnTo>
                  <a:pt x="1367" y="163"/>
                </a:lnTo>
                <a:lnTo>
                  <a:pt x="1357" y="165"/>
                </a:lnTo>
                <a:lnTo>
                  <a:pt x="1346" y="167"/>
                </a:lnTo>
                <a:lnTo>
                  <a:pt x="1334" y="167"/>
                </a:lnTo>
                <a:lnTo>
                  <a:pt x="1323" y="169"/>
                </a:lnTo>
                <a:lnTo>
                  <a:pt x="1298" y="173"/>
                </a:lnTo>
                <a:lnTo>
                  <a:pt x="1271" y="178"/>
                </a:lnTo>
                <a:lnTo>
                  <a:pt x="1244" y="182"/>
                </a:lnTo>
                <a:lnTo>
                  <a:pt x="1213" y="188"/>
                </a:lnTo>
                <a:lnTo>
                  <a:pt x="1181" y="196"/>
                </a:lnTo>
                <a:lnTo>
                  <a:pt x="1148" y="201"/>
                </a:lnTo>
                <a:lnTo>
                  <a:pt x="1079" y="215"/>
                </a:lnTo>
                <a:lnTo>
                  <a:pt x="1008" y="228"/>
                </a:lnTo>
                <a:lnTo>
                  <a:pt x="935" y="240"/>
                </a:lnTo>
                <a:lnTo>
                  <a:pt x="860" y="253"/>
                </a:lnTo>
                <a:lnTo>
                  <a:pt x="785" y="265"/>
                </a:lnTo>
                <a:lnTo>
                  <a:pt x="708" y="276"/>
                </a:lnTo>
                <a:lnTo>
                  <a:pt x="632" y="290"/>
                </a:lnTo>
                <a:lnTo>
                  <a:pt x="553" y="303"/>
                </a:lnTo>
                <a:lnTo>
                  <a:pt x="513" y="309"/>
                </a:lnTo>
                <a:lnTo>
                  <a:pt x="474" y="317"/>
                </a:lnTo>
                <a:lnTo>
                  <a:pt x="436" y="322"/>
                </a:lnTo>
                <a:lnTo>
                  <a:pt x="399" y="326"/>
                </a:lnTo>
                <a:lnTo>
                  <a:pt x="361" y="332"/>
                </a:lnTo>
                <a:lnTo>
                  <a:pt x="326" y="336"/>
                </a:lnTo>
                <a:lnTo>
                  <a:pt x="290" y="340"/>
                </a:lnTo>
                <a:lnTo>
                  <a:pt x="255" y="342"/>
                </a:lnTo>
                <a:lnTo>
                  <a:pt x="221" y="345"/>
                </a:lnTo>
                <a:lnTo>
                  <a:pt x="188" y="347"/>
                </a:lnTo>
                <a:lnTo>
                  <a:pt x="156" y="349"/>
                </a:lnTo>
                <a:lnTo>
                  <a:pt x="123" y="351"/>
                </a:lnTo>
                <a:lnTo>
                  <a:pt x="90" y="351"/>
                </a:lnTo>
                <a:lnTo>
                  <a:pt x="60" y="353"/>
                </a:lnTo>
                <a:lnTo>
                  <a:pt x="29" y="353"/>
                </a:lnTo>
                <a:lnTo>
                  <a:pt x="0" y="353"/>
                </a:lnTo>
                <a:lnTo>
                  <a:pt x="0" y="309"/>
                </a:lnTo>
                <a:lnTo>
                  <a:pt x="0" y="265"/>
                </a:lnTo>
                <a:lnTo>
                  <a:pt x="48" y="265"/>
                </a:lnTo>
                <a:lnTo>
                  <a:pt x="94" y="263"/>
                </a:lnTo>
                <a:lnTo>
                  <a:pt x="138" y="261"/>
                </a:lnTo>
                <a:lnTo>
                  <a:pt x="183" y="257"/>
                </a:lnTo>
                <a:lnTo>
                  <a:pt x="227" y="253"/>
                </a:lnTo>
                <a:lnTo>
                  <a:pt x="269" y="249"/>
                </a:lnTo>
                <a:lnTo>
                  <a:pt x="355" y="240"/>
                </a:lnTo>
                <a:lnTo>
                  <a:pt x="365" y="238"/>
                </a:lnTo>
                <a:lnTo>
                  <a:pt x="376" y="238"/>
                </a:lnTo>
                <a:lnTo>
                  <a:pt x="388" y="236"/>
                </a:lnTo>
                <a:lnTo>
                  <a:pt x="401" y="234"/>
                </a:lnTo>
                <a:lnTo>
                  <a:pt x="413" y="232"/>
                </a:lnTo>
                <a:lnTo>
                  <a:pt x="426" y="230"/>
                </a:lnTo>
                <a:lnTo>
                  <a:pt x="442" y="228"/>
                </a:lnTo>
                <a:lnTo>
                  <a:pt x="455" y="226"/>
                </a:lnTo>
                <a:lnTo>
                  <a:pt x="470" y="222"/>
                </a:lnTo>
                <a:lnTo>
                  <a:pt x="486" y="221"/>
                </a:lnTo>
                <a:lnTo>
                  <a:pt x="501" y="219"/>
                </a:lnTo>
                <a:lnTo>
                  <a:pt x="518" y="215"/>
                </a:lnTo>
                <a:lnTo>
                  <a:pt x="536" y="213"/>
                </a:lnTo>
                <a:lnTo>
                  <a:pt x="553" y="209"/>
                </a:lnTo>
                <a:lnTo>
                  <a:pt x="572" y="205"/>
                </a:lnTo>
                <a:lnTo>
                  <a:pt x="589" y="201"/>
                </a:lnTo>
                <a:lnTo>
                  <a:pt x="609" y="199"/>
                </a:lnTo>
                <a:lnTo>
                  <a:pt x="630" y="196"/>
                </a:lnTo>
                <a:lnTo>
                  <a:pt x="649" y="192"/>
                </a:lnTo>
                <a:lnTo>
                  <a:pt x="670" y="186"/>
                </a:lnTo>
                <a:lnTo>
                  <a:pt x="691" y="182"/>
                </a:lnTo>
                <a:lnTo>
                  <a:pt x="714" y="178"/>
                </a:lnTo>
                <a:lnTo>
                  <a:pt x="735" y="175"/>
                </a:lnTo>
                <a:lnTo>
                  <a:pt x="758" y="169"/>
                </a:lnTo>
                <a:lnTo>
                  <a:pt x="783" y="165"/>
                </a:lnTo>
                <a:lnTo>
                  <a:pt x="806" y="159"/>
                </a:lnTo>
                <a:lnTo>
                  <a:pt x="831" y="153"/>
                </a:lnTo>
                <a:lnTo>
                  <a:pt x="856" y="150"/>
                </a:lnTo>
                <a:lnTo>
                  <a:pt x="883" y="144"/>
                </a:lnTo>
                <a:lnTo>
                  <a:pt x="908" y="138"/>
                </a:lnTo>
                <a:lnTo>
                  <a:pt x="935" y="132"/>
                </a:lnTo>
                <a:lnTo>
                  <a:pt x="964" y="127"/>
                </a:lnTo>
                <a:lnTo>
                  <a:pt x="989" y="121"/>
                </a:lnTo>
                <a:lnTo>
                  <a:pt x="1016" y="117"/>
                </a:lnTo>
                <a:lnTo>
                  <a:pt x="1040" y="111"/>
                </a:lnTo>
                <a:lnTo>
                  <a:pt x="1063" y="107"/>
                </a:lnTo>
                <a:lnTo>
                  <a:pt x="1087" y="103"/>
                </a:lnTo>
                <a:lnTo>
                  <a:pt x="1110" y="100"/>
                </a:lnTo>
                <a:lnTo>
                  <a:pt x="1131" y="94"/>
                </a:lnTo>
                <a:lnTo>
                  <a:pt x="1152" y="90"/>
                </a:lnTo>
                <a:lnTo>
                  <a:pt x="1171" y="86"/>
                </a:lnTo>
                <a:lnTo>
                  <a:pt x="1192" y="82"/>
                </a:lnTo>
                <a:lnTo>
                  <a:pt x="1209" y="79"/>
                </a:lnTo>
                <a:lnTo>
                  <a:pt x="1229" y="75"/>
                </a:lnTo>
                <a:lnTo>
                  <a:pt x="1246" y="71"/>
                </a:lnTo>
                <a:lnTo>
                  <a:pt x="1261" y="67"/>
                </a:lnTo>
                <a:lnTo>
                  <a:pt x="1277" y="65"/>
                </a:lnTo>
                <a:lnTo>
                  <a:pt x="1292" y="61"/>
                </a:lnTo>
                <a:lnTo>
                  <a:pt x="1307" y="57"/>
                </a:lnTo>
                <a:lnTo>
                  <a:pt x="1321" y="56"/>
                </a:lnTo>
                <a:lnTo>
                  <a:pt x="1332" y="52"/>
                </a:lnTo>
                <a:lnTo>
                  <a:pt x="1346" y="50"/>
                </a:lnTo>
                <a:lnTo>
                  <a:pt x="1355" y="46"/>
                </a:lnTo>
                <a:lnTo>
                  <a:pt x="1367" y="44"/>
                </a:lnTo>
                <a:lnTo>
                  <a:pt x="1376" y="42"/>
                </a:lnTo>
                <a:lnTo>
                  <a:pt x="1386" y="38"/>
                </a:lnTo>
                <a:lnTo>
                  <a:pt x="1394" y="36"/>
                </a:lnTo>
                <a:lnTo>
                  <a:pt x="1401" y="34"/>
                </a:lnTo>
                <a:lnTo>
                  <a:pt x="1407" y="32"/>
                </a:lnTo>
                <a:lnTo>
                  <a:pt x="1415" y="31"/>
                </a:lnTo>
                <a:lnTo>
                  <a:pt x="1419" y="29"/>
                </a:lnTo>
                <a:lnTo>
                  <a:pt x="1424" y="29"/>
                </a:lnTo>
                <a:lnTo>
                  <a:pt x="1428" y="27"/>
                </a:lnTo>
                <a:lnTo>
                  <a:pt x="1430" y="25"/>
                </a:lnTo>
                <a:lnTo>
                  <a:pt x="1451" y="15"/>
                </a:lnTo>
                <a:lnTo>
                  <a:pt x="1463" y="11"/>
                </a:lnTo>
                <a:lnTo>
                  <a:pt x="1472" y="8"/>
                </a:lnTo>
                <a:lnTo>
                  <a:pt x="1484" y="4"/>
                </a:lnTo>
                <a:lnTo>
                  <a:pt x="1493" y="2"/>
                </a:lnTo>
                <a:lnTo>
                  <a:pt x="1505" y="0"/>
                </a:lnTo>
                <a:lnTo>
                  <a:pt x="1516" y="0"/>
                </a:lnTo>
                <a:lnTo>
                  <a:pt x="1520" y="2"/>
                </a:lnTo>
                <a:lnTo>
                  <a:pt x="1528" y="6"/>
                </a:lnTo>
                <a:lnTo>
                  <a:pt x="1534" y="8"/>
                </a:lnTo>
                <a:lnTo>
                  <a:pt x="1543" y="11"/>
                </a:lnTo>
                <a:lnTo>
                  <a:pt x="1551" y="15"/>
                </a:lnTo>
                <a:lnTo>
                  <a:pt x="1561" y="19"/>
                </a:lnTo>
                <a:lnTo>
                  <a:pt x="1570" y="25"/>
                </a:lnTo>
                <a:lnTo>
                  <a:pt x="1582" y="31"/>
                </a:lnTo>
                <a:lnTo>
                  <a:pt x="1593" y="34"/>
                </a:lnTo>
                <a:lnTo>
                  <a:pt x="1605" y="40"/>
                </a:lnTo>
                <a:lnTo>
                  <a:pt x="1618" y="48"/>
                </a:lnTo>
                <a:lnTo>
                  <a:pt x="1634" y="54"/>
                </a:lnTo>
                <a:lnTo>
                  <a:pt x="1649" y="61"/>
                </a:lnTo>
                <a:lnTo>
                  <a:pt x="1664" y="71"/>
                </a:lnTo>
                <a:lnTo>
                  <a:pt x="1682" y="79"/>
                </a:lnTo>
                <a:lnTo>
                  <a:pt x="1701" y="8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124"/>
          <p:cNvSpPr/>
          <p:nvPr/>
        </p:nvSpPr>
        <p:spPr>
          <a:xfrm>
            <a:off x="6068880" y="3895560"/>
            <a:ext cx="1135080" cy="241560"/>
          </a:xfrm>
          <a:custGeom>
            <a:avLst/>
            <a:gdLst/>
            <a:ahLst/>
            <a:rect l="l" t="t" r="r" b="b"/>
            <a:pathLst>
              <a:path w="1430" h="304">
                <a:moveTo>
                  <a:pt x="0" y="215"/>
                </a:moveTo>
                <a:lnTo>
                  <a:pt x="14" y="211"/>
                </a:lnTo>
                <a:lnTo>
                  <a:pt x="29" y="210"/>
                </a:lnTo>
                <a:lnTo>
                  <a:pt x="43" y="206"/>
                </a:lnTo>
                <a:lnTo>
                  <a:pt x="58" y="204"/>
                </a:lnTo>
                <a:lnTo>
                  <a:pt x="75" y="200"/>
                </a:lnTo>
                <a:lnTo>
                  <a:pt x="93" y="196"/>
                </a:lnTo>
                <a:lnTo>
                  <a:pt x="110" y="192"/>
                </a:lnTo>
                <a:lnTo>
                  <a:pt x="127" y="190"/>
                </a:lnTo>
                <a:lnTo>
                  <a:pt x="146" y="187"/>
                </a:lnTo>
                <a:lnTo>
                  <a:pt x="165" y="183"/>
                </a:lnTo>
                <a:lnTo>
                  <a:pt x="187" y="179"/>
                </a:lnTo>
                <a:lnTo>
                  <a:pt x="208" y="177"/>
                </a:lnTo>
                <a:lnTo>
                  <a:pt x="229" y="173"/>
                </a:lnTo>
                <a:lnTo>
                  <a:pt x="252" y="169"/>
                </a:lnTo>
                <a:lnTo>
                  <a:pt x="275" y="167"/>
                </a:lnTo>
                <a:lnTo>
                  <a:pt x="298" y="165"/>
                </a:lnTo>
                <a:lnTo>
                  <a:pt x="323" y="162"/>
                </a:lnTo>
                <a:lnTo>
                  <a:pt x="350" y="158"/>
                </a:lnTo>
                <a:lnTo>
                  <a:pt x="377" y="154"/>
                </a:lnTo>
                <a:lnTo>
                  <a:pt x="407" y="150"/>
                </a:lnTo>
                <a:lnTo>
                  <a:pt x="438" y="146"/>
                </a:lnTo>
                <a:lnTo>
                  <a:pt x="471" y="140"/>
                </a:lnTo>
                <a:lnTo>
                  <a:pt x="505" y="135"/>
                </a:lnTo>
                <a:lnTo>
                  <a:pt x="542" y="129"/>
                </a:lnTo>
                <a:lnTo>
                  <a:pt x="580" y="121"/>
                </a:lnTo>
                <a:lnTo>
                  <a:pt x="620" y="115"/>
                </a:lnTo>
                <a:lnTo>
                  <a:pt x="661" y="108"/>
                </a:lnTo>
                <a:lnTo>
                  <a:pt x="705" y="100"/>
                </a:lnTo>
                <a:lnTo>
                  <a:pt x="749" y="91"/>
                </a:lnTo>
                <a:lnTo>
                  <a:pt x="795" y="83"/>
                </a:lnTo>
                <a:lnTo>
                  <a:pt x="843" y="73"/>
                </a:lnTo>
                <a:lnTo>
                  <a:pt x="893" y="64"/>
                </a:lnTo>
                <a:lnTo>
                  <a:pt x="916" y="60"/>
                </a:lnTo>
                <a:lnTo>
                  <a:pt x="939" y="56"/>
                </a:lnTo>
                <a:lnTo>
                  <a:pt x="962" y="54"/>
                </a:lnTo>
                <a:lnTo>
                  <a:pt x="983" y="50"/>
                </a:lnTo>
                <a:lnTo>
                  <a:pt x="1004" y="46"/>
                </a:lnTo>
                <a:lnTo>
                  <a:pt x="1025" y="43"/>
                </a:lnTo>
                <a:lnTo>
                  <a:pt x="1045" y="41"/>
                </a:lnTo>
                <a:lnTo>
                  <a:pt x="1066" y="37"/>
                </a:lnTo>
                <a:lnTo>
                  <a:pt x="1083" y="35"/>
                </a:lnTo>
                <a:lnTo>
                  <a:pt x="1102" y="31"/>
                </a:lnTo>
                <a:lnTo>
                  <a:pt x="1119" y="29"/>
                </a:lnTo>
                <a:lnTo>
                  <a:pt x="1137" y="27"/>
                </a:lnTo>
                <a:lnTo>
                  <a:pt x="1154" y="23"/>
                </a:lnTo>
                <a:lnTo>
                  <a:pt x="1169" y="21"/>
                </a:lnTo>
                <a:lnTo>
                  <a:pt x="1185" y="20"/>
                </a:lnTo>
                <a:lnTo>
                  <a:pt x="1198" y="18"/>
                </a:lnTo>
                <a:lnTo>
                  <a:pt x="1213" y="16"/>
                </a:lnTo>
                <a:lnTo>
                  <a:pt x="1227" y="14"/>
                </a:lnTo>
                <a:lnTo>
                  <a:pt x="1238" y="12"/>
                </a:lnTo>
                <a:lnTo>
                  <a:pt x="1250" y="10"/>
                </a:lnTo>
                <a:lnTo>
                  <a:pt x="1261" y="8"/>
                </a:lnTo>
                <a:lnTo>
                  <a:pt x="1273" y="8"/>
                </a:lnTo>
                <a:lnTo>
                  <a:pt x="1283" y="6"/>
                </a:lnTo>
                <a:lnTo>
                  <a:pt x="1292" y="4"/>
                </a:lnTo>
                <a:lnTo>
                  <a:pt x="1302" y="4"/>
                </a:lnTo>
                <a:lnTo>
                  <a:pt x="1309" y="2"/>
                </a:lnTo>
                <a:lnTo>
                  <a:pt x="1317" y="2"/>
                </a:lnTo>
                <a:lnTo>
                  <a:pt x="1325" y="2"/>
                </a:lnTo>
                <a:lnTo>
                  <a:pt x="1331" y="0"/>
                </a:lnTo>
                <a:lnTo>
                  <a:pt x="1336" y="0"/>
                </a:lnTo>
                <a:lnTo>
                  <a:pt x="1342" y="0"/>
                </a:lnTo>
                <a:lnTo>
                  <a:pt x="1346" y="0"/>
                </a:lnTo>
                <a:lnTo>
                  <a:pt x="1361" y="0"/>
                </a:lnTo>
                <a:lnTo>
                  <a:pt x="1375" y="2"/>
                </a:lnTo>
                <a:lnTo>
                  <a:pt x="1388" y="6"/>
                </a:lnTo>
                <a:lnTo>
                  <a:pt x="1400" y="10"/>
                </a:lnTo>
                <a:lnTo>
                  <a:pt x="1409" y="16"/>
                </a:lnTo>
                <a:lnTo>
                  <a:pt x="1417" y="21"/>
                </a:lnTo>
                <a:lnTo>
                  <a:pt x="1425" y="29"/>
                </a:lnTo>
                <a:lnTo>
                  <a:pt x="1430" y="39"/>
                </a:lnTo>
                <a:lnTo>
                  <a:pt x="1430" y="44"/>
                </a:lnTo>
                <a:lnTo>
                  <a:pt x="1428" y="52"/>
                </a:lnTo>
                <a:lnTo>
                  <a:pt x="1425" y="58"/>
                </a:lnTo>
                <a:lnTo>
                  <a:pt x="1421" y="64"/>
                </a:lnTo>
                <a:lnTo>
                  <a:pt x="1415" y="71"/>
                </a:lnTo>
                <a:lnTo>
                  <a:pt x="1407" y="77"/>
                </a:lnTo>
                <a:lnTo>
                  <a:pt x="1398" y="81"/>
                </a:lnTo>
                <a:lnTo>
                  <a:pt x="1388" y="87"/>
                </a:lnTo>
                <a:lnTo>
                  <a:pt x="1377" y="92"/>
                </a:lnTo>
                <a:lnTo>
                  <a:pt x="1365" y="98"/>
                </a:lnTo>
                <a:lnTo>
                  <a:pt x="1350" y="102"/>
                </a:lnTo>
                <a:lnTo>
                  <a:pt x="1334" y="108"/>
                </a:lnTo>
                <a:lnTo>
                  <a:pt x="1319" y="112"/>
                </a:lnTo>
                <a:lnTo>
                  <a:pt x="1302" y="117"/>
                </a:lnTo>
                <a:lnTo>
                  <a:pt x="1281" y="121"/>
                </a:lnTo>
                <a:lnTo>
                  <a:pt x="1261" y="127"/>
                </a:lnTo>
                <a:lnTo>
                  <a:pt x="1250" y="129"/>
                </a:lnTo>
                <a:lnTo>
                  <a:pt x="1236" y="133"/>
                </a:lnTo>
                <a:lnTo>
                  <a:pt x="1221" y="135"/>
                </a:lnTo>
                <a:lnTo>
                  <a:pt x="1204" y="139"/>
                </a:lnTo>
                <a:lnTo>
                  <a:pt x="1185" y="140"/>
                </a:lnTo>
                <a:lnTo>
                  <a:pt x="1164" y="144"/>
                </a:lnTo>
                <a:lnTo>
                  <a:pt x="1142" y="148"/>
                </a:lnTo>
                <a:lnTo>
                  <a:pt x="1117" y="152"/>
                </a:lnTo>
                <a:lnTo>
                  <a:pt x="1093" y="156"/>
                </a:lnTo>
                <a:lnTo>
                  <a:pt x="1064" y="162"/>
                </a:lnTo>
                <a:lnTo>
                  <a:pt x="1035" y="165"/>
                </a:lnTo>
                <a:lnTo>
                  <a:pt x="1002" y="169"/>
                </a:lnTo>
                <a:lnTo>
                  <a:pt x="970" y="175"/>
                </a:lnTo>
                <a:lnTo>
                  <a:pt x="935" y="181"/>
                </a:lnTo>
                <a:lnTo>
                  <a:pt x="897" y="185"/>
                </a:lnTo>
                <a:lnTo>
                  <a:pt x="858" y="190"/>
                </a:lnTo>
                <a:lnTo>
                  <a:pt x="818" y="196"/>
                </a:lnTo>
                <a:lnTo>
                  <a:pt x="776" y="202"/>
                </a:lnTo>
                <a:lnTo>
                  <a:pt x="732" y="208"/>
                </a:lnTo>
                <a:lnTo>
                  <a:pt x="688" y="215"/>
                </a:lnTo>
                <a:lnTo>
                  <a:pt x="640" y="221"/>
                </a:lnTo>
                <a:lnTo>
                  <a:pt x="590" y="227"/>
                </a:lnTo>
                <a:lnTo>
                  <a:pt x="540" y="234"/>
                </a:lnTo>
                <a:lnTo>
                  <a:pt x="486" y="242"/>
                </a:lnTo>
                <a:lnTo>
                  <a:pt x="432" y="248"/>
                </a:lnTo>
                <a:lnTo>
                  <a:pt x="375" y="256"/>
                </a:lnTo>
                <a:lnTo>
                  <a:pt x="317" y="263"/>
                </a:lnTo>
                <a:lnTo>
                  <a:pt x="258" y="271"/>
                </a:lnTo>
                <a:lnTo>
                  <a:pt x="196" y="279"/>
                </a:lnTo>
                <a:lnTo>
                  <a:pt x="133" y="286"/>
                </a:lnTo>
                <a:lnTo>
                  <a:pt x="68" y="294"/>
                </a:lnTo>
                <a:lnTo>
                  <a:pt x="0" y="304"/>
                </a:lnTo>
                <a:lnTo>
                  <a:pt x="0" y="259"/>
                </a:lnTo>
                <a:lnTo>
                  <a:pt x="0" y="2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125"/>
          <p:cNvSpPr/>
          <p:nvPr/>
        </p:nvSpPr>
        <p:spPr>
          <a:xfrm>
            <a:off x="5796000" y="3735360"/>
            <a:ext cx="330120" cy="450720"/>
          </a:xfrm>
          <a:custGeom>
            <a:avLst/>
            <a:gdLst/>
            <a:ahLst/>
            <a:rect l="l" t="t" r="r" b="b"/>
            <a:pathLst>
              <a:path w="414" h="568">
                <a:moveTo>
                  <a:pt x="61" y="113"/>
                </a:moveTo>
                <a:lnTo>
                  <a:pt x="46" y="100"/>
                </a:lnTo>
                <a:lnTo>
                  <a:pt x="38" y="92"/>
                </a:lnTo>
                <a:lnTo>
                  <a:pt x="32" y="86"/>
                </a:lnTo>
                <a:lnTo>
                  <a:pt x="25" y="80"/>
                </a:lnTo>
                <a:lnTo>
                  <a:pt x="21" y="75"/>
                </a:lnTo>
                <a:lnTo>
                  <a:pt x="15" y="69"/>
                </a:lnTo>
                <a:lnTo>
                  <a:pt x="11" y="63"/>
                </a:lnTo>
                <a:lnTo>
                  <a:pt x="8" y="59"/>
                </a:lnTo>
                <a:lnTo>
                  <a:pt x="4" y="54"/>
                </a:lnTo>
                <a:lnTo>
                  <a:pt x="2" y="50"/>
                </a:lnTo>
                <a:lnTo>
                  <a:pt x="0" y="44"/>
                </a:lnTo>
                <a:lnTo>
                  <a:pt x="0" y="38"/>
                </a:lnTo>
                <a:lnTo>
                  <a:pt x="0" y="34"/>
                </a:lnTo>
                <a:lnTo>
                  <a:pt x="2" y="30"/>
                </a:lnTo>
                <a:lnTo>
                  <a:pt x="4" y="25"/>
                </a:lnTo>
                <a:lnTo>
                  <a:pt x="4" y="23"/>
                </a:lnTo>
                <a:lnTo>
                  <a:pt x="6" y="21"/>
                </a:lnTo>
                <a:lnTo>
                  <a:pt x="8" y="17"/>
                </a:lnTo>
                <a:lnTo>
                  <a:pt x="9" y="15"/>
                </a:lnTo>
                <a:lnTo>
                  <a:pt x="11" y="13"/>
                </a:lnTo>
                <a:lnTo>
                  <a:pt x="15" y="11"/>
                </a:lnTo>
                <a:lnTo>
                  <a:pt x="19" y="9"/>
                </a:lnTo>
                <a:lnTo>
                  <a:pt x="25" y="7"/>
                </a:lnTo>
                <a:lnTo>
                  <a:pt x="31" y="6"/>
                </a:lnTo>
                <a:lnTo>
                  <a:pt x="36" y="4"/>
                </a:lnTo>
                <a:lnTo>
                  <a:pt x="44" y="4"/>
                </a:lnTo>
                <a:lnTo>
                  <a:pt x="52" y="2"/>
                </a:lnTo>
                <a:lnTo>
                  <a:pt x="59" y="2"/>
                </a:lnTo>
                <a:lnTo>
                  <a:pt x="69" y="0"/>
                </a:lnTo>
                <a:lnTo>
                  <a:pt x="79" y="0"/>
                </a:lnTo>
                <a:lnTo>
                  <a:pt x="88" y="0"/>
                </a:lnTo>
                <a:lnTo>
                  <a:pt x="121" y="0"/>
                </a:lnTo>
                <a:lnTo>
                  <a:pt x="136" y="0"/>
                </a:lnTo>
                <a:lnTo>
                  <a:pt x="151" y="2"/>
                </a:lnTo>
                <a:lnTo>
                  <a:pt x="169" y="2"/>
                </a:lnTo>
                <a:lnTo>
                  <a:pt x="184" y="6"/>
                </a:lnTo>
                <a:lnTo>
                  <a:pt x="199" y="7"/>
                </a:lnTo>
                <a:lnTo>
                  <a:pt x="217" y="13"/>
                </a:lnTo>
                <a:lnTo>
                  <a:pt x="224" y="15"/>
                </a:lnTo>
                <a:lnTo>
                  <a:pt x="232" y="21"/>
                </a:lnTo>
                <a:lnTo>
                  <a:pt x="240" y="27"/>
                </a:lnTo>
                <a:lnTo>
                  <a:pt x="247" y="34"/>
                </a:lnTo>
                <a:lnTo>
                  <a:pt x="255" y="42"/>
                </a:lnTo>
                <a:lnTo>
                  <a:pt x="265" y="54"/>
                </a:lnTo>
                <a:lnTo>
                  <a:pt x="272" y="65"/>
                </a:lnTo>
                <a:lnTo>
                  <a:pt x="280" y="78"/>
                </a:lnTo>
                <a:lnTo>
                  <a:pt x="288" y="94"/>
                </a:lnTo>
                <a:lnTo>
                  <a:pt x="295" y="109"/>
                </a:lnTo>
                <a:lnTo>
                  <a:pt x="303" y="128"/>
                </a:lnTo>
                <a:lnTo>
                  <a:pt x="313" y="148"/>
                </a:lnTo>
                <a:lnTo>
                  <a:pt x="320" y="169"/>
                </a:lnTo>
                <a:lnTo>
                  <a:pt x="328" y="190"/>
                </a:lnTo>
                <a:lnTo>
                  <a:pt x="336" y="215"/>
                </a:lnTo>
                <a:lnTo>
                  <a:pt x="343" y="240"/>
                </a:lnTo>
                <a:lnTo>
                  <a:pt x="351" y="265"/>
                </a:lnTo>
                <a:lnTo>
                  <a:pt x="359" y="290"/>
                </a:lnTo>
                <a:lnTo>
                  <a:pt x="366" y="313"/>
                </a:lnTo>
                <a:lnTo>
                  <a:pt x="372" y="334"/>
                </a:lnTo>
                <a:lnTo>
                  <a:pt x="378" y="355"/>
                </a:lnTo>
                <a:lnTo>
                  <a:pt x="384" y="374"/>
                </a:lnTo>
                <a:lnTo>
                  <a:pt x="389" y="393"/>
                </a:lnTo>
                <a:lnTo>
                  <a:pt x="395" y="411"/>
                </a:lnTo>
                <a:lnTo>
                  <a:pt x="399" y="426"/>
                </a:lnTo>
                <a:lnTo>
                  <a:pt x="403" y="441"/>
                </a:lnTo>
                <a:lnTo>
                  <a:pt x="407" y="455"/>
                </a:lnTo>
                <a:lnTo>
                  <a:pt x="409" y="466"/>
                </a:lnTo>
                <a:lnTo>
                  <a:pt x="411" y="478"/>
                </a:lnTo>
                <a:lnTo>
                  <a:pt x="413" y="487"/>
                </a:lnTo>
                <a:lnTo>
                  <a:pt x="414" y="497"/>
                </a:lnTo>
                <a:lnTo>
                  <a:pt x="414" y="505"/>
                </a:lnTo>
                <a:lnTo>
                  <a:pt x="414" y="518"/>
                </a:lnTo>
                <a:lnTo>
                  <a:pt x="413" y="530"/>
                </a:lnTo>
                <a:lnTo>
                  <a:pt x="409" y="541"/>
                </a:lnTo>
                <a:lnTo>
                  <a:pt x="403" y="551"/>
                </a:lnTo>
                <a:lnTo>
                  <a:pt x="401" y="554"/>
                </a:lnTo>
                <a:lnTo>
                  <a:pt x="397" y="558"/>
                </a:lnTo>
                <a:lnTo>
                  <a:pt x="393" y="560"/>
                </a:lnTo>
                <a:lnTo>
                  <a:pt x="389" y="562"/>
                </a:lnTo>
                <a:lnTo>
                  <a:pt x="386" y="564"/>
                </a:lnTo>
                <a:lnTo>
                  <a:pt x="382" y="566"/>
                </a:lnTo>
                <a:lnTo>
                  <a:pt x="376" y="568"/>
                </a:lnTo>
                <a:lnTo>
                  <a:pt x="372" y="568"/>
                </a:lnTo>
                <a:lnTo>
                  <a:pt x="366" y="566"/>
                </a:lnTo>
                <a:lnTo>
                  <a:pt x="361" y="564"/>
                </a:lnTo>
                <a:lnTo>
                  <a:pt x="355" y="560"/>
                </a:lnTo>
                <a:lnTo>
                  <a:pt x="347" y="556"/>
                </a:lnTo>
                <a:lnTo>
                  <a:pt x="340" y="549"/>
                </a:lnTo>
                <a:lnTo>
                  <a:pt x="334" y="541"/>
                </a:lnTo>
                <a:lnTo>
                  <a:pt x="324" y="530"/>
                </a:lnTo>
                <a:lnTo>
                  <a:pt x="317" y="518"/>
                </a:lnTo>
                <a:lnTo>
                  <a:pt x="307" y="505"/>
                </a:lnTo>
                <a:lnTo>
                  <a:pt x="297" y="491"/>
                </a:lnTo>
                <a:lnTo>
                  <a:pt x="288" y="474"/>
                </a:lnTo>
                <a:lnTo>
                  <a:pt x="278" y="457"/>
                </a:lnTo>
                <a:lnTo>
                  <a:pt x="267" y="435"/>
                </a:lnTo>
                <a:lnTo>
                  <a:pt x="255" y="414"/>
                </a:lnTo>
                <a:lnTo>
                  <a:pt x="244" y="391"/>
                </a:lnTo>
                <a:lnTo>
                  <a:pt x="230" y="366"/>
                </a:lnTo>
                <a:lnTo>
                  <a:pt x="217" y="340"/>
                </a:lnTo>
                <a:lnTo>
                  <a:pt x="205" y="316"/>
                </a:lnTo>
                <a:lnTo>
                  <a:pt x="192" y="293"/>
                </a:lnTo>
                <a:lnTo>
                  <a:pt x="180" y="272"/>
                </a:lnTo>
                <a:lnTo>
                  <a:pt x="169" y="253"/>
                </a:lnTo>
                <a:lnTo>
                  <a:pt x="157" y="234"/>
                </a:lnTo>
                <a:lnTo>
                  <a:pt x="146" y="217"/>
                </a:lnTo>
                <a:lnTo>
                  <a:pt x="134" y="201"/>
                </a:lnTo>
                <a:lnTo>
                  <a:pt x="125" y="186"/>
                </a:lnTo>
                <a:lnTo>
                  <a:pt x="115" y="173"/>
                </a:lnTo>
                <a:lnTo>
                  <a:pt x="104" y="161"/>
                </a:lnTo>
                <a:lnTo>
                  <a:pt x="96" y="149"/>
                </a:lnTo>
                <a:lnTo>
                  <a:pt x="86" y="138"/>
                </a:lnTo>
                <a:lnTo>
                  <a:pt x="77" y="128"/>
                </a:lnTo>
                <a:lnTo>
                  <a:pt x="69" y="121"/>
                </a:lnTo>
                <a:lnTo>
                  <a:pt x="61" y="11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126"/>
          <p:cNvSpPr/>
          <p:nvPr/>
        </p:nvSpPr>
        <p:spPr>
          <a:xfrm>
            <a:off x="6013440" y="2960640"/>
            <a:ext cx="1327320" cy="374760"/>
          </a:xfrm>
          <a:custGeom>
            <a:avLst/>
            <a:gdLst/>
            <a:ahLst/>
            <a:rect l="l" t="t" r="r" b="b"/>
            <a:pathLst>
              <a:path w="1672" h="472">
                <a:moveTo>
                  <a:pt x="1388" y="6"/>
                </a:moveTo>
                <a:lnTo>
                  <a:pt x="1394" y="7"/>
                </a:lnTo>
                <a:lnTo>
                  <a:pt x="1400" y="11"/>
                </a:lnTo>
                <a:lnTo>
                  <a:pt x="1407" y="13"/>
                </a:lnTo>
                <a:lnTo>
                  <a:pt x="1415" y="17"/>
                </a:lnTo>
                <a:lnTo>
                  <a:pt x="1423" y="21"/>
                </a:lnTo>
                <a:lnTo>
                  <a:pt x="1432" y="25"/>
                </a:lnTo>
                <a:lnTo>
                  <a:pt x="1442" y="29"/>
                </a:lnTo>
                <a:lnTo>
                  <a:pt x="1451" y="34"/>
                </a:lnTo>
                <a:lnTo>
                  <a:pt x="1461" y="38"/>
                </a:lnTo>
                <a:lnTo>
                  <a:pt x="1473" y="44"/>
                </a:lnTo>
                <a:lnTo>
                  <a:pt x="1494" y="55"/>
                </a:lnTo>
                <a:lnTo>
                  <a:pt x="1519" y="67"/>
                </a:lnTo>
                <a:lnTo>
                  <a:pt x="1545" y="80"/>
                </a:lnTo>
                <a:lnTo>
                  <a:pt x="1557" y="88"/>
                </a:lnTo>
                <a:lnTo>
                  <a:pt x="1570" y="96"/>
                </a:lnTo>
                <a:lnTo>
                  <a:pt x="1582" y="101"/>
                </a:lnTo>
                <a:lnTo>
                  <a:pt x="1592" y="109"/>
                </a:lnTo>
                <a:lnTo>
                  <a:pt x="1603" y="115"/>
                </a:lnTo>
                <a:lnTo>
                  <a:pt x="1613" y="123"/>
                </a:lnTo>
                <a:lnTo>
                  <a:pt x="1620" y="128"/>
                </a:lnTo>
                <a:lnTo>
                  <a:pt x="1630" y="134"/>
                </a:lnTo>
                <a:lnTo>
                  <a:pt x="1638" y="140"/>
                </a:lnTo>
                <a:lnTo>
                  <a:pt x="1643" y="146"/>
                </a:lnTo>
                <a:lnTo>
                  <a:pt x="1651" y="151"/>
                </a:lnTo>
                <a:lnTo>
                  <a:pt x="1655" y="155"/>
                </a:lnTo>
                <a:lnTo>
                  <a:pt x="1661" y="159"/>
                </a:lnTo>
                <a:lnTo>
                  <a:pt x="1664" y="163"/>
                </a:lnTo>
                <a:lnTo>
                  <a:pt x="1668" y="167"/>
                </a:lnTo>
                <a:lnTo>
                  <a:pt x="1672" y="169"/>
                </a:lnTo>
                <a:lnTo>
                  <a:pt x="1672" y="174"/>
                </a:lnTo>
                <a:lnTo>
                  <a:pt x="1670" y="178"/>
                </a:lnTo>
                <a:lnTo>
                  <a:pt x="1668" y="182"/>
                </a:lnTo>
                <a:lnTo>
                  <a:pt x="1666" y="186"/>
                </a:lnTo>
                <a:lnTo>
                  <a:pt x="1664" y="190"/>
                </a:lnTo>
                <a:lnTo>
                  <a:pt x="1661" y="194"/>
                </a:lnTo>
                <a:lnTo>
                  <a:pt x="1657" y="196"/>
                </a:lnTo>
                <a:lnTo>
                  <a:pt x="1653" y="199"/>
                </a:lnTo>
                <a:lnTo>
                  <a:pt x="1647" y="201"/>
                </a:lnTo>
                <a:lnTo>
                  <a:pt x="1641" y="205"/>
                </a:lnTo>
                <a:lnTo>
                  <a:pt x="1630" y="209"/>
                </a:lnTo>
                <a:lnTo>
                  <a:pt x="1617" y="215"/>
                </a:lnTo>
                <a:lnTo>
                  <a:pt x="1601" y="220"/>
                </a:lnTo>
                <a:lnTo>
                  <a:pt x="1593" y="222"/>
                </a:lnTo>
                <a:lnTo>
                  <a:pt x="1586" y="226"/>
                </a:lnTo>
                <a:lnTo>
                  <a:pt x="1576" y="230"/>
                </a:lnTo>
                <a:lnTo>
                  <a:pt x="1569" y="234"/>
                </a:lnTo>
                <a:lnTo>
                  <a:pt x="1561" y="238"/>
                </a:lnTo>
                <a:lnTo>
                  <a:pt x="1553" y="244"/>
                </a:lnTo>
                <a:lnTo>
                  <a:pt x="1538" y="255"/>
                </a:lnTo>
                <a:lnTo>
                  <a:pt x="1521" y="270"/>
                </a:lnTo>
                <a:lnTo>
                  <a:pt x="1505" y="286"/>
                </a:lnTo>
                <a:lnTo>
                  <a:pt x="1490" y="301"/>
                </a:lnTo>
                <a:lnTo>
                  <a:pt x="1474" y="320"/>
                </a:lnTo>
                <a:lnTo>
                  <a:pt x="1459" y="343"/>
                </a:lnTo>
                <a:lnTo>
                  <a:pt x="1446" y="366"/>
                </a:lnTo>
                <a:lnTo>
                  <a:pt x="1432" y="386"/>
                </a:lnTo>
                <a:lnTo>
                  <a:pt x="1426" y="397"/>
                </a:lnTo>
                <a:lnTo>
                  <a:pt x="1423" y="407"/>
                </a:lnTo>
                <a:lnTo>
                  <a:pt x="1419" y="414"/>
                </a:lnTo>
                <a:lnTo>
                  <a:pt x="1413" y="424"/>
                </a:lnTo>
                <a:lnTo>
                  <a:pt x="1411" y="434"/>
                </a:lnTo>
                <a:lnTo>
                  <a:pt x="1407" y="441"/>
                </a:lnTo>
                <a:lnTo>
                  <a:pt x="1405" y="449"/>
                </a:lnTo>
                <a:lnTo>
                  <a:pt x="1403" y="457"/>
                </a:lnTo>
                <a:lnTo>
                  <a:pt x="1403" y="464"/>
                </a:lnTo>
                <a:lnTo>
                  <a:pt x="1403" y="472"/>
                </a:lnTo>
                <a:lnTo>
                  <a:pt x="1248" y="472"/>
                </a:lnTo>
                <a:lnTo>
                  <a:pt x="1252" y="439"/>
                </a:lnTo>
                <a:lnTo>
                  <a:pt x="1258" y="409"/>
                </a:lnTo>
                <a:lnTo>
                  <a:pt x="1261" y="380"/>
                </a:lnTo>
                <a:lnTo>
                  <a:pt x="1265" y="355"/>
                </a:lnTo>
                <a:lnTo>
                  <a:pt x="1269" y="330"/>
                </a:lnTo>
                <a:lnTo>
                  <a:pt x="1271" y="307"/>
                </a:lnTo>
                <a:lnTo>
                  <a:pt x="1275" y="284"/>
                </a:lnTo>
                <a:lnTo>
                  <a:pt x="1277" y="265"/>
                </a:lnTo>
                <a:lnTo>
                  <a:pt x="1279" y="257"/>
                </a:lnTo>
                <a:lnTo>
                  <a:pt x="1279" y="247"/>
                </a:lnTo>
                <a:lnTo>
                  <a:pt x="1279" y="240"/>
                </a:lnTo>
                <a:lnTo>
                  <a:pt x="1281" y="232"/>
                </a:lnTo>
                <a:lnTo>
                  <a:pt x="1281" y="226"/>
                </a:lnTo>
                <a:lnTo>
                  <a:pt x="1281" y="219"/>
                </a:lnTo>
                <a:lnTo>
                  <a:pt x="1281" y="213"/>
                </a:lnTo>
                <a:lnTo>
                  <a:pt x="1281" y="207"/>
                </a:lnTo>
                <a:lnTo>
                  <a:pt x="1281" y="203"/>
                </a:lnTo>
                <a:lnTo>
                  <a:pt x="1281" y="197"/>
                </a:lnTo>
                <a:lnTo>
                  <a:pt x="1281" y="194"/>
                </a:lnTo>
                <a:lnTo>
                  <a:pt x="1279" y="190"/>
                </a:lnTo>
                <a:lnTo>
                  <a:pt x="1279" y="188"/>
                </a:lnTo>
                <a:lnTo>
                  <a:pt x="1277" y="186"/>
                </a:lnTo>
                <a:lnTo>
                  <a:pt x="1277" y="184"/>
                </a:lnTo>
                <a:lnTo>
                  <a:pt x="1275" y="182"/>
                </a:lnTo>
                <a:lnTo>
                  <a:pt x="1269" y="178"/>
                </a:lnTo>
                <a:lnTo>
                  <a:pt x="1263" y="174"/>
                </a:lnTo>
                <a:lnTo>
                  <a:pt x="1256" y="173"/>
                </a:lnTo>
                <a:lnTo>
                  <a:pt x="1248" y="171"/>
                </a:lnTo>
                <a:lnTo>
                  <a:pt x="1238" y="171"/>
                </a:lnTo>
                <a:lnTo>
                  <a:pt x="1231" y="169"/>
                </a:lnTo>
                <a:lnTo>
                  <a:pt x="1225" y="169"/>
                </a:lnTo>
                <a:lnTo>
                  <a:pt x="1219" y="169"/>
                </a:lnTo>
                <a:lnTo>
                  <a:pt x="1215" y="169"/>
                </a:lnTo>
                <a:lnTo>
                  <a:pt x="1212" y="169"/>
                </a:lnTo>
                <a:lnTo>
                  <a:pt x="1206" y="171"/>
                </a:lnTo>
                <a:lnTo>
                  <a:pt x="1200" y="171"/>
                </a:lnTo>
                <a:lnTo>
                  <a:pt x="1192" y="173"/>
                </a:lnTo>
                <a:lnTo>
                  <a:pt x="1185" y="173"/>
                </a:lnTo>
                <a:lnTo>
                  <a:pt x="1175" y="174"/>
                </a:lnTo>
                <a:lnTo>
                  <a:pt x="1165" y="176"/>
                </a:lnTo>
                <a:lnTo>
                  <a:pt x="1154" y="178"/>
                </a:lnTo>
                <a:lnTo>
                  <a:pt x="1142" y="180"/>
                </a:lnTo>
                <a:lnTo>
                  <a:pt x="1129" y="182"/>
                </a:lnTo>
                <a:lnTo>
                  <a:pt x="1114" y="184"/>
                </a:lnTo>
                <a:lnTo>
                  <a:pt x="1098" y="186"/>
                </a:lnTo>
                <a:lnTo>
                  <a:pt x="1083" y="190"/>
                </a:lnTo>
                <a:lnTo>
                  <a:pt x="1066" y="192"/>
                </a:lnTo>
                <a:lnTo>
                  <a:pt x="1046" y="196"/>
                </a:lnTo>
                <a:lnTo>
                  <a:pt x="1027" y="199"/>
                </a:lnTo>
                <a:lnTo>
                  <a:pt x="1006" y="203"/>
                </a:lnTo>
                <a:lnTo>
                  <a:pt x="985" y="205"/>
                </a:lnTo>
                <a:lnTo>
                  <a:pt x="962" y="209"/>
                </a:lnTo>
                <a:lnTo>
                  <a:pt x="939" y="215"/>
                </a:lnTo>
                <a:lnTo>
                  <a:pt x="914" y="219"/>
                </a:lnTo>
                <a:lnTo>
                  <a:pt x="889" y="222"/>
                </a:lnTo>
                <a:lnTo>
                  <a:pt x="862" y="226"/>
                </a:lnTo>
                <a:lnTo>
                  <a:pt x="833" y="232"/>
                </a:lnTo>
                <a:lnTo>
                  <a:pt x="805" y="236"/>
                </a:lnTo>
                <a:lnTo>
                  <a:pt x="776" y="242"/>
                </a:lnTo>
                <a:lnTo>
                  <a:pt x="745" y="247"/>
                </a:lnTo>
                <a:lnTo>
                  <a:pt x="712" y="253"/>
                </a:lnTo>
                <a:lnTo>
                  <a:pt x="680" y="259"/>
                </a:lnTo>
                <a:lnTo>
                  <a:pt x="645" y="265"/>
                </a:lnTo>
                <a:lnTo>
                  <a:pt x="611" y="270"/>
                </a:lnTo>
                <a:lnTo>
                  <a:pt x="574" y="276"/>
                </a:lnTo>
                <a:lnTo>
                  <a:pt x="540" y="282"/>
                </a:lnTo>
                <a:lnTo>
                  <a:pt x="507" y="288"/>
                </a:lnTo>
                <a:lnTo>
                  <a:pt x="476" y="292"/>
                </a:lnTo>
                <a:lnTo>
                  <a:pt x="446" y="297"/>
                </a:lnTo>
                <a:lnTo>
                  <a:pt x="415" y="301"/>
                </a:lnTo>
                <a:lnTo>
                  <a:pt x="386" y="307"/>
                </a:lnTo>
                <a:lnTo>
                  <a:pt x="359" y="311"/>
                </a:lnTo>
                <a:lnTo>
                  <a:pt x="334" y="315"/>
                </a:lnTo>
                <a:lnTo>
                  <a:pt x="309" y="318"/>
                </a:lnTo>
                <a:lnTo>
                  <a:pt x="284" y="322"/>
                </a:lnTo>
                <a:lnTo>
                  <a:pt x="261" y="326"/>
                </a:lnTo>
                <a:lnTo>
                  <a:pt x="240" y="328"/>
                </a:lnTo>
                <a:lnTo>
                  <a:pt x="219" y="332"/>
                </a:lnTo>
                <a:lnTo>
                  <a:pt x="200" y="334"/>
                </a:lnTo>
                <a:lnTo>
                  <a:pt x="181" y="338"/>
                </a:lnTo>
                <a:lnTo>
                  <a:pt x="164" y="340"/>
                </a:lnTo>
                <a:lnTo>
                  <a:pt x="148" y="341"/>
                </a:lnTo>
                <a:lnTo>
                  <a:pt x="133" y="343"/>
                </a:lnTo>
                <a:lnTo>
                  <a:pt x="117" y="345"/>
                </a:lnTo>
                <a:lnTo>
                  <a:pt x="104" y="345"/>
                </a:lnTo>
                <a:lnTo>
                  <a:pt x="93" y="347"/>
                </a:lnTo>
                <a:lnTo>
                  <a:pt x="81" y="347"/>
                </a:lnTo>
                <a:lnTo>
                  <a:pt x="71" y="349"/>
                </a:lnTo>
                <a:lnTo>
                  <a:pt x="64" y="349"/>
                </a:lnTo>
                <a:lnTo>
                  <a:pt x="54" y="349"/>
                </a:lnTo>
                <a:lnTo>
                  <a:pt x="48" y="349"/>
                </a:lnTo>
                <a:lnTo>
                  <a:pt x="43" y="349"/>
                </a:lnTo>
                <a:lnTo>
                  <a:pt x="37" y="349"/>
                </a:lnTo>
                <a:lnTo>
                  <a:pt x="33" y="347"/>
                </a:lnTo>
                <a:lnTo>
                  <a:pt x="31" y="347"/>
                </a:lnTo>
                <a:lnTo>
                  <a:pt x="29" y="345"/>
                </a:lnTo>
                <a:lnTo>
                  <a:pt x="23" y="340"/>
                </a:lnTo>
                <a:lnTo>
                  <a:pt x="18" y="334"/>
                </a:lnTo>
                <a:lnTo>
                  <a:pt x="14" y="326"/>
                </a:lnTo>
                <a:lnTo>
                  <a:pt x="10" y="316"/>
                </a:lnTo>
                <a:lnTo>
                  <a:pt x="6" y="307"/>
                </a:lnTo>
                <a:lnTo>
                  <a:pt x="2" y="295"/>
                </a:lnTo>
                <a:lnTo>
                  <a:pt x="0" y="284"/>
                </a:lnTo>
                <a:lnTo>
                  <a:pt x="0" y="270"/>
                </a:lnTo>
                <a:lnTo>
                  <a:pt x="18" y="270"/>
                </a:lnTo>
                <a:lnTo>
                  <a:pt x="35" y="270"/>
                </a:lnTo>
                <a:lnTo>
                  <a:pt x="54" y="268"/>
                </a:lnTo>
                <a:lnTo>
                  <a:pt x="75" y="268"/>
                </a:lnTo>
                <a:lnTo>
                  <a:pt x="96" y="267"/>
                </a:lnTo>
                <a:lnTo>
                  <a:pt x="119" y="265"/>
                </a:lnTo>
                <a:lnTo>
                  <a:pt x="144" y="261"/>
                </a:lnTo>
                <a:lnTo>
                  <a:pt x="171" y="257"/>
                </a:lnTo>
                <a:lnTo>
                  <a:pt x="177" y="257"/>
                </a:lnTo>
                <a:lnTo>
                  <a:pt x="185" y="255"/>
                </a:lnTo>
                <a:lnTo>
                  <a:pt x="192" y="253"/>
                </a:lnTo>
                <a:lnTo>
                  <a:pt x="202" y="251"/>
                </a:lnTo>
                <a:lnTo>
                  <a:pt x="210" y="251"/>
                </a:lnTo>
                <a:lnTo>
                  <a:pt x="219" y="249"/>
                </a:lnTo>
                <a:lnTo>
                  <a:pt x="229" y="247"/>
                </a:lnTo>
                <a:lnTo>
                  <a:pt x="240" y="245"/>
                </a:lnTo>
                <a:lnTo>
                  <a:pt x="252" y="244"/>
                </a:lnTo>
                <a:lnTo>
                  <a:pt x="263" y="242"/>
                </a:lnTo>
                <a:lnTo>
                  <a:pt x="275" y="240"/>
                </a:lnTo>
                <a:lnTo>
                  <a:pt x="288" y="238"/>
                </a:lnTo>
                <a:lnTo>
                  <a:pt x="302" y="234"/>
                </a:lnTo>
                <a:lnTo>
                  <a:pt x="315" y="232"/>
                </a:lnTo>
                <a:lnTo>
                  <a:pt x="329" y="230"/>
                </a:lnTo>
                <a:lnTo>
                  <a:pt x="344" y="226"/>
                </a:lnTo>
                <a:lnTo>
                  <a:pt x="359" y="222"/>
                </a:lnTo>
                <a:lnTo>
                  <a:pt x="377" y="220"/>
                </a:lnTo>
                <a:lnTo>
                  <a:pt x="392" y="217"/>
                </a:lnTo>
                <a:lnTo>
                  <a:pt x="409" y="213"/>
                </a:lnTo>
                <a:lnTo>
                  <a:pt x="428" y="209"/>
                </a:lnTo>
                <a:lnTo>
                  <a:pt x="446" y="205"/>
                </a:lnTo>
                <a:lnTo>
                  <a:pt x="465" y="201"/>
                </a:lnTo>
                <a:lnTo>
                  <a:pt x="486" y="197"/>
                </a:lnTo>
                <a:lnTo>
                  <a:pt x="505" y="194"/>
                </a:lnTo>
                <a:lnTo>
                  <a:pt x="526" y="188"/>
                </a:lnTo>
                <a:lnTo>
                  <a:pt x="549" y="184"/>
                </a:lnTo>
                <a:lnTo>
                  <a:pt x="570" y="178"/>
                </a:lnTo>
                <a:lnTo>
                  <a:pt x="593" y="174"/>
                </a:lnTo>
                <a:lnTo>
                  <a:pt x="617" y="169"/>
                </a:lnTo>
                <a:lnTo>
                  <a:pt x="641" y="163"/>
                </a:lnTo>
                <a:lnTo>
                  <a:pt x="666" y="157"/>
                </a:lnTo>
                <a:lnTo>
                  <a:pt x="691" y="151"/>
                </a:lnTo>
                <a:lnTo>
                  <a:pt x="716" y="148"/>
                </a:lnTo>
                <a:lnTo>
                  <a:pt x="739" y="144"/>
                </a:lnTo>
                <a:lnTo>
                  <a:pt x="762" y="138"/>
                </a:lnTo>
                <a:lnTo>
                  <a:pt x="784" y="134"/>
                </a:lnTo>
                <a:lnTo>
                  <a:pt x="807" y="130"/>
                </a:lnTo>
                <a:lnTo>
                  <a:pt x="828" y="126"/>
                </a:lnTo>
                <a:lnTo>
                  <a:pt x="847" y="123"/>
                </a:lnTo>
                <a:lnTo>
                  <a:pt x="866" y="119"/>
                </a:lnTo>
                <a:lnTo>
                  <a:pt x="885" y="115"/>
                </a:lnTo>
                <a:lnTo>
                  <a:pt x="904" y="113"/>
                </a:lnTo>
                <a:lnTo>
                  <a:pt x="922" y="109"/>
                </a:lnTo>
                <a:lnTo>
                  <a:pt x="939" y="105"/>
                </a:lnTo>
                <a:lnTo>
                  <a:pt x="956" y="103"/>
                </a:lnTo>
                <a:lnTo>
                  <a:pt x="972" y="100"/>
                </a:lnTo>
                <a:lnTo>
                  <a:pt x="987" y="98"/>
                </a:lnTo>
                <a:lnTo>
                  <a:pt x="1000" y="96"/>
                </a:lnTo>
                <a:lnTo>
                  <a:pt x="1016" y="92"/>
                </a:lnTo>
                <a:lnTo>
                  <a:pt x="1029" y="90"/>
                </a:lnTo>
                <a:lnTo>
                  <a:pt x="1041" y="88"/>
                </a:lnTo>
                <a:lnTo>
                  <a:pt x="1054" y="86"/>
                </a:lnTo>
                <a:lnTo>
                  <a:pt x="1066" y="84"/>
                </a:lnTo>
                <a:lnTo>
                  <a:pt x="1075" y="82"/>
                </a:lnTo>
                <a:lnTo>
                  <a:pt x="1087" y="80"/>
                </a:lnTo>
                <a:lnTo>
                  <a:pt x="1096" y="78"/>
                </a:lnTo>
                <a:lnTo>
                  <a:pt x="1106" y="77"/>
                </a:lnTo>
                <a:lnTo>
                  <a:pt x="1114" y="75"/>
                </a:lnTo>
                <a:lnTo>
                  <a:pt x="1121" y="75"/>
                </a:lnTo>
                <a:lnTo>
                  <a:pt x="1129" y="73"/>
                </a:lnTo>
                <a:lnTo>
                  <a:pt x="1137" y="71"/>
                </a:lnTo>
                <a:lnTo>
                  <a:pt x="1142" y="69"/>
                </a:lnTo>
                <a:lnTo>
                  <a:pt x="1148" y="69"/>
                </a:lnTo>
                <a:lnTo>
                  <a:pt x="1164" y="63"/>
                </a:lnTo>
                <a:lnTo>
                  <a:pt x="1183" y="59"/>
                </a:lnTo>
                <a:lnTo>
                  <a:pt x="1200" y="54"/>
                </a:lnTo>
                <a:lnTo>
                  <a:pt x="1219" y="48"/>
                </a:lnTo>
                <a:lnTo>
                  <a:pt x="1236" y="42"/>
                </a:lnTo>
                <a:lnTo>
                  <a:pt x="1256" y="34"/>
                </a:lnTo>
                <a:lnTo>
                  <a:pt x="1273" y="27"/>
                </a:lnTo>
                <a:lnTo>
                  <a:pt x="1290" y="17"/>
                </a:lnTo>
                <a:lnTo>
                  <a:pt x="1306" y="13"/>
                </a:lnTo>
                <a:lnTo>
                  <a:pt x="1319" y="9"/>
                </a:lnTo>
                <a:lnTo>
                  <a:pt x="1332" y="6"/>
                </a:lnTo>
                <a:lnTo>
                  <a:pt x="1344" y="2"/>
                </a:lnTo>
                <a:lnTo>
                  <a:pt x="1355" y="0"/>
                </a:lnTo>
                <a:lnTo>
                  <a:pt x="1367" y="0"/>
                </a:lnTo>
                <a:lnTo>
                  <a:pt x="1373" y="0"/>
                </a:lnTo>
                <a:lnTo>
                  <a:pt x="1379" y="2"/>
                </a:lnTo>
                <a:lnTo>
                  <a:pt x="1384" y="4"/>
                </a:lnTo>
                <a:lnTo>
                  <a:pt x="1388" y="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Freeform 127"/>
          <p:cNvSpPr/>
          <p:nvPr/>
        </p:nvSpPr>
        <p:spPr>
          <a:xfrm>
            <a:off x="6135840" y="3295800"/>
            <a:ext cx="1012680" cy="209520"/>
          </a:xfrm>
          <a:custGeom>
            <a:avLst/>
            <a:gdLst/>
            <a:ahLst/>
            <a:rect l="l" t="t" r="r" b="b"/>
            <a:pathLst>
              <a:path w="1274" h="265">
                <a:moveTo>
                  <a:pt x="0" y="188"/>
                </a:moveTo>
                <a:lnTo>
                  <a:pt x="34" y="182"/>
                </a:lnTo>
                <a:lnTo>
                  <a:pt x="67" y="177"/>
                </a:lnTo>
                <a:lnTo>
                  <a:pt x="100" y="171"/>
                </a:lnTo>
                <a:lnTo>
                  <a:pt x="132" y="165"/>
                </a:lnTo>
                <a:lnTo>
                  <a:pt x="163" y="159"/>
                </a:lnTo>
                <a:lnTo>
                  <a:pt x="194" y="154"/>
                </a:lnTo>
                <a:lnTo>
                  <a:pt x="224" y="150"/>
                </a:lnTo>
                <a:lnTo>
                  <a:pt x="255" y="144"/>
                </a:lnTo>
                <a:lnTo>
                  <a:pt x="284" y="138"/>
                </a:lnTo>
                <a:lnTo>
                  <a:pt x="315" y="132"/>
                </a:lnTo>
                <a:lnTo>
                  <a:pt x="342" y="129"/>
                </a:lnTo>
                <a:lnTo>
                  <a:pt x="370" y="123"/>
                </a:lnTo>
                <a:lnTo>
                  <a:pt x="399" y="119"/>
                </a:lnTo>
                <a:lnTo>
                  <a:pt x="426" y="113"/>
                </a:lnTo>
                <a:lnTo>
                  <a:pt x="453" y="109"/>
                </a:lnTo>
                <a:lnTo>
                  <a:pt x="478" y="106"/>
                </a:lnTo>
                <a:lnTo>
                  <a:pt x="505" y="100"/>
                </a:lnTo>
                <a:lnTo>
                  <a:pt x="530" y="96"/>
                </a:lnTo>
                <a:lnTo>
                  <a:pt x="553" y="92"/>
                </a:lnTo>
                <a:lnTo>
                  <a:pt x="578" y="88"/>
                </a:lnTo>
                <a:lnTo>
                  <a:pt x="601" y="85"/>
                </a:lnTo>
                <a:lnTo>
                  <a:pt x="624" y="81"/>
                </a:lnTo>
                <a:lnTo>
                  <a:pt x="647" y="77"/>
                </a:lnTo>
                <a:lnTo>
                  <a:pt x="670" y="73"/>
                </a:lnTo>
                <a:lnTo>
                  <a:pt x="691" y="69"/>
                </a:lnTo>
                <a:lnTo>
                  <a:pt x="712" y="65"/>
                </a:lnTo>
                <a:lnTo>
                  <a:pt x="733" y="61"/>
                </a:lnTo>
                <a:lnTo>
                  <a:pt x="752" y="58"/>
                </a:lnTo>
                <a:lnTo>
                  <a:pt x="773" y="56"/>
                </a:lnTo>
                <a:lnTo>
                  <a:pt x="793" y="52"/>
                </a:lnTo>
                <a:lnTo>
                  <a:pt x="810" y="48"/>
                </a:lnTo>
                <a:lnTo>
                  <a:pt x="829" y="46"/>
                </a:lnTo>
                <a:lnTo>
                  <a:pt x="846" y="42"/>
                </a:lnTo>
                <a:lnTo>
                  <a:pt x="864" y="40"/>
                </a:lnTo>
                <a:lnTo>
                  <a:pt x="881" y="38"/>
                </a:lnTo>
                <a:lnTo>
                  <a:pt x="896" y="35"/>
                </a:lnTo>
                <a:lnTo>
                  <a:pt x="912" y="33"/>
                </a:lnTo>
                <a:lnTo>
                  <a:pt x="927" y="31"/>
                </a:lnTo>
                <a:lnTo>
                  <a:pt x="942" y="27"/>
                </a:lnTo>
                <a:lnTo>
                  <a:pt x="956" y="25"/>
                </a:lnTo>
                <a:lnTo>
                  <a:pt x="969" y="23"/>
                </a:lnTo>
                <a:lnTo>
                  <a:pt x="983" y="21"/>
                </a:lnTo>
                <a:lnTo>
                  <a:pt x="996" y="19"/>
                </a:lnTo>
                <a:lnTo>
                  <a:pt x="1008" y="17"/>
                </a:lnTo>
                <a:lnTo>
                  <a:pt x="1019" y="15"/>
                </a:lnTo>
                <a:lnTo>
                  <a:pt x="1031" y="13"/>
                </a:lnTo>
                <a:lnTo>
                  <a:pt x="1042" y="13"/>
                </a:lnTo>
                <a:lnTo>
                  <a:pt x="1052" y="12"/>
                </a:lnTo>
                <a:lnTo>
                  <a:pt x="1061" y="10"/>
                </a:lnTo>
                <a:lnTo>
                  <a:pt x="1071" y="8"/>
                </a:lnTo>
                <a:lnTo>
                  <a:pt x="1079" y="8"/>
                </a:lnTo>
                <a:lnTo>
                  <a:pt x="1088" y="6"/>
                </a:lnTo>
                <a:lnTo>
                  <a:pt x="1096" y="6"/>
                </a:lnTo>
                <a:lnTo>
                  <a:pt x="1104" y="4"/>
                </a:lnTo>
                <a:lnTo>
                  <a:pt x="1109" y="4"/>
                </a:lnTo>
                <a:lnTo>
                  <a:pt x="1115" y="2"/>
                </a:lnTo>
                <a:lnTo>
                  <a:pt x="1121" y="2"/>
                </a:lnTo>
                <a:lnTo>
                  <a:pt x="1127" y="2"/>
                </a:lnTo>
                <a:lnTo>
                  <a:pt x="1130" y="0"/>
                </a:lnTo>
                <a:lnTo>
                  <a:pt x="1136" y="0"/>
                </a:lnTo>
                <a:lnTo>
                  <a:pt x="1140" y="0"/>
                </a:lnTo>
                <a:lnTo>
                  <a:pt x="1142" y="0"/>
                </a:lnTo>
                <a:lnTo>
                  <a:pt x="1146" y="0"/>
                </a:lnTo>
                <a:lnTo>
                  <a:pt x="1148" y="0"/>
                </a:lnTo>
                <a:lnTo>
                  <a:pt x="1159" y="0"/>
                </a:lnTo>
                <a:lnTo>
                  <a:pt x="1169" y="2"/>
                </a:lnTo>
                <a:lnTo>
                  <a:pt x="1180" y="4"/>
                </a:lnTo>
                <a:lnTo>
                  <a:pt x="1190" y="8"/>
                </a:lnTo>
                <a:lnTo>
                  <a:pt x="1201" y="12"/>
                </a:lnTo>
                <a:lnTo>
                  <a:pt x="1211" y="15"/>
                </a:lnTo>
                <a:lnTo>
                  <a:pt x="1232" y="25"/>
                </a:lnTo>
                <a:lnTo>
                  <a:pt x="1242" y="31"/>
                </a:lnTo>
                <a:lnTo>
                  <a:pt x="1251" y="37"/>
                </a:lnTo>
                <a:lnTo>
                  <a:pt x="1259" y="44"/>
                </a:lnTo>
                <a:lnTo>
                  <a:pt x="1265" y="52"/>
                </a:lnTo>
                <a:lnTo>
                  <a:pt x="1269" y="60"/>
                </a:lnTo>
                <a:lnTo>
                  <a:pt x="1272" y="69"/>
                </a:lnTo>
                <a:lnTo>
                  <a:pt x="1274" y="79"/>
                </a:lnTo>
                <a:lnTo>
                  <a:pt x="1274" y="88"/>
                </a:lnTo>
                <a:lnTo>
                  <a:pt x="1205" y="98"/>
                </a:lnTo>
                <a:lnTo>
                  <a:pt x="1138" y="109"/>
                </a:lnTo>
                <a:lnTo>
                  <a:pt x="1105" y="113"/>
                </a:lnTo>
                <a:lnTo>
                  <a:pt x="1073" y="119"/>
                </a:lnTo>
                <a:lnTo>
                  <a:pt x="1040" y="125"/>
                </a:lnTo>
                <a:lnTo>
                  <a:pt x="1009" y="129"/>
                </a:lnTo>
                <a:lnTo>
                  <a:pt x="979" y="132"/>
                </a:lnTo>
                <a:lnTo>
                  <a:pt x="948" y="138"/>
                </a:lnTo>
                <a:lnTo>
                  <a:pt x="917" y="142"/>
                </a:lnTo>
                <a:lnTo>
                  <a:pt x="887" y="148"/>
                </a:lnTo>
                <a:lnTo>
                  <a:pt x="858" y="152"/>
                </a:lnTo>
                <a:lnTo>
                  <a:pt x="829" y="156"/>
                </a:lnTo>
                <a:lnTo>
                  <a:pt x="802" y="159"/>
                </a:lnTo>
                <a:lnTo>
                  <a:pt x="773" y="165"/>
                </a:lnTo>
                <a:lnTo>
                  <a:pt x="747" y="169"/>
                </a:lnTo>
                <a:lnTo>
                  <a:pt x="720" y="173"/>
                </a:lnTo>
                <a:lnTo>
                  <a:pt x="693" y="177"/>
                </a:lnTo>
                <a:lnTo>
                  <a:pt x="668" y="180"/>
                </a:lnTo>
                <a:lnTo>
                  <a:pt x="643" y="184"/>
                </a:lnTo>
                <a:lnTo>
                  <a:pt x="618" y="188"/>
                </a:lnTo>
                <a:lnTo>
                  <a:pt x="593" y="192"/>
                </a:lnTo>
                <a:lnTo>
                  <a:pt x="570" y="194"/>
                </a:lnTo>
                <a:lnTo>
                  <a:pt x="547" y="198"/>
                </a:lnTo>
                <a:lnTo>
                  <a:pt x="524" y="202"/>
                </a:lnTo>
                <a:lnTo>
                  <a:pt x="501" y="205"/>
                </a:lnTo>
                <a:lnTo>
                  <a:pt x="480" y="207"/>
                </a:lnTo>
                <a:lnTo>
                  <a:pt x="459" y="211"/>
                </a:lnTo>
                <a:lnTo>
                  <a:pt x="437" y="213"/>
                </a:lnTo>
                <a:lnTo>
                  <a:pt x="416" y="217"/>
                </a:lnTo>
                <a:lnTo>
                  <a:pt x="397" y="219"/>
                </a:lnTo>
                <a:lnTo>
                  <a:pt x="378" y="223"/>
                </a:lnTo>
                <a:lnTo>
                  <a:pt x="359" y="225"/>
                </a:lnTo>
                <a:lnTo>
                  <a:pt x="342" y="228"/>
                </a:lnTo>
                <a:lnTo>
                  <a:pt x="322" y="230"/>
                </a:lnTo>
                <a:lnTo>
                  <a:pt x="305" y="232"/>
                </a:lnTo>
                <a:lnTo>
                  <a:pt x="288" y="234"/>
                </a:lnTo>
                <a:lnTo>
                  <a:pt x="272" y="236"/>
                </a:lnTo>
                <a:lnTo>
                  <a:pt x="257" y="240"/>
                </a:lnTo>
                <a:lnTo>
                  <a:pt x="242" y="242"/>
                </a:lnTo>
                <a:lnTo>
                  <a:pt x="226" y="244"/>
                </a:lnTo>
                <a:lnTo>
                  <a:pt x="213" y="246"/>
                </a:lnTo>
                <a:lnTo>
                  <a:pt x="198" y="248"/>
                </a:lnTo>
                <a:lnTo>
                  <a:pt x="184" y="248"/>
                </a:lnTo>
                <a:lnTo>
                  <a:pt x="173" y="250"/>
                </a:lnTo>
                <a:lnTo>
                  <a:pt x="159" y="251"/>
                </a:lnTo>
                <a:lnTo>
                  <a:pt x="148" y="253"/>
                </a:lnTo>
                <a:lnTo>
                  <a:pt x="136" y="255"/>
                </a:lnTo>
                <a:lnTo>
                  <a:pt x="127" y="255"/>
                </a:lnTo>
                <a:lnTo>
                  <a:pt x="115" y="257"/>
                </a:lnTo>
                <a:lnTo>
                  <a:pt x="105" y="257"/>
                </a:lnTo>
                <a:lnTo>
                  <a:pt x="96" y="259"/>
                </a:lnTo>
                <a:lnTo>
                  <a:pt x="88" y="259"/>
                </a:lnTo>
                <a:lnTo>
                  <a:pt x="80" y="261"/>
                </a:lnTo>
                <a:lnTo>
                  <a:pt x="73" y="261"/>
                </a:lnTo>
                <a:lnTo>
                  <a:pt x="65" y="263"/>
                </a:lnTo>
                <a:lnTo>
                  <a:pt x="57" y="263"/>
                </a:lnTo>
                <a:lnTo>
                  <a:pt x="52" y="263"/>
                </a:lnTo>
                <a:lnTo>
                  <a:pt x="46" y="263"/>
                </a:lnTo>
                <a:lnTo>
                  <a:pt x="40" y="263"/>
                </a:lnTo>
                <a:lnTo>
                  <a:pt x="36" y="265"/>
                </a:lnTo>
                <a:lnTo>
                  <a:pt x="33" y="265"/>
                </a:lnTo>
                <a:lnTo>
                  <a:pt x="29" y="265"/>
                </a:lnTo>
                <a:lnTo>
                  <a:pt x="15" y="227"/>
                </a:lnTo>
                <a:lnTo>
                  <a:pt x="0" y="18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Freeform 128"/>
          <p:cNvSpPr/>
          <p:nvPr/>
        </p:nvSpPr>
        <p:spPr>
          <a:xfrm>
            <a:off x="5878440" y="3157560"/>
            <a:ext cx="303120" cy="419040"/>
          </a:xfrm>
          <a:custGeom>
            <a:avLst/>
            <a:gdLst/>
            <a:ahLst/>
            <a:rect l="l" t="t" r="r" b="b"/>
            <a:pathLst>
              <a:path w="381" h="528">
                <a:moveTo>
                  <a:pt x="0" y="37"/>
                </a:moveTo>
                <a:lnTo>
                  <a:pt x="1" y="29"/>
                </a:lnTo>
                <a:lnTo>
                  <a:pt x="7" y="23"/>
                </a:lnTo>
                <a:lnTo>
                  <a:pt x="15" y="18"/>
                </a:lnTo>
                <a:lnTo>
                  <a:pt x="23" y="12"/>
                </a:lnTo>
                <a:lnTo>
                  <a:pt x="32" y="8"/>
                </a:lnTo>
                <a:lnTo>
                  <a:pt x="46" y="4"/>
                </a:lnTo>
                <a:lnTo>
                  <a:pt x="59" y="2"/>
                </a:lnTo>
                <a:lnTo>
                  <a:pt x="74" y="0"/>
                </a:lnTo>
                <a:lnTo>
                  <a:pt x="92" y="0"/>
                </a:lnTo>
                <a:lnTo>
                  <a:pt x="111" y="0"/>
                </a:lnTo>
                <a:lnTo>
                  <a:pt x="132" y="0"/>
                </a:lnTo>
                <a:lnTo>
                  <a:pt x="157" y="4"/>
                </a:lnTo>
                <a:lnTo>
                  <a:pt x="168" y="4"/>
                </a:lnTo>
                <a:lnTo>
                  <a:pt x="182" y="6"/>
                </a:lnTo>
                <a:lnTo>
                  <a:pt x="193" y="8"/>
                </a:lnTo>
                <a:lnTo>
                  <a:pt x="209" y="10"/>
                </a:lnTo>
                <a:lnTo>
                  <a:pt x="222" y="14"/>
                </a:lnTo>
                <a:lnTo>
                  <a:pt x="238" y="16"/>
                </a:lnTo>
                <a:lnTo>
                  <a:pt x="253" y="20"/>
                </a:lnTo>
                <a:lnTo>
                  <a:pt x="268" y="23"/>
                </a:lnTo>
                <a:lnTo>
                  <a:pt x="274" y="45"/>
                </a:lnTo>
                <a:lnTo>
                  <a:pt x="280" y="64"/>
                </a:lnTo>
                <a:lnTo>
                  <a:pt x="287" y="85"/>
                </a:lnTo>
                <a:lnTo>
                  <a:pt x="293" y="104"/>
                </a:lnTo>
                <a:lnTo>
                  <a:pt x="299" y="123"/>
                </a:lnTo>
                <a:lnTo>
                  <a:pt x="305" y="142"/>
                </a:lnTo>
                <a:lnTo>
                  <a:pt x="310" y="160"/>
                </a:lnTo>
                <a:lnTo>
                  <a:pt x="314" y="177"/>
                </a:lnTo>
                <a:lnTo>
                  <a:pt x="320" y="194"/>
                </a:lnTo>
                <a:lnTo>
                  <a:pt x="326" y="210"/>
                </a:lnTo>
                <a:lnTo>
                  <a:pt x="330" y="227"/>
                </a:lnTo>
                <a:lnTo>
                  <a:pt x="333" y="242"/>
                </a:lnTo>
                <a:lnTo>
                  <a:pt x="339" y="256"/>
                </a:lnTo>
                <a:lnTo>
                  <a:pt x="343" y="271"/>
                </a:lnTo>
                <a:lnTo>
                  <a:pt x="347" y="284"/>
                </a:lnTo>
                <a:lnTo>
                  <a:pt x="351" y="298"/>
                </a:lnTo>
                <a:lnTo>
                  <a:pt x="355" y="311"/>
                </a:lnTo>
                <a:lnTo>
                  <a:pt x="357" y="323"/>
                </a:lnTo>
                <a:lnTo>
                  <a:pt x="360" y="334"/>
                </a:lnTo>
                <a:lnTo>
                  <a:pt x="364" y="346"/>
                </a:lnTo>
                <a:lnTo>
                  <a:pt x="366" y="355"/>
                </a:lnTo>
                <a:lnTo>
                  <a:pt x="368" y="367"/>
                </a:lnTo>
                <a:lnTo>
                  <a:pt x="372" y="377"/>
                </a:lnTo>
                <a:lnTo>
                  <a:pt x="374" y="384"/>
                </a:lnTo>
                <a:lnTo>
                  <a:pt x="376" y="394"/>
                </a:lnTo>
                <a:lnTo>
                  <a:pt x="376" y="402"/>
                </a:lnTo>
                <a:lnTo>
                  <a:pt x="378" y="409"/>
                </a:lnTo>
                <a:lnTo>
                  <a:pt x="380" y="417"/>
                </a:lnTo>
                <a:lnTo>
                  <a:pt x="380" y="423"/>
                </a:lnTo>
                <a:lnTo>
                  <a:pt x="381" y="428"/>
                </a:lnTo>
                <a:lnTo>
                  <a:pt x="381" y="434"/>
                </a:lnTo>
                <a:lnTo>
                  <a:pt x="381" y="440"/>
                </a:lnTo>
                <a:lnTo>
                  <a:pt x="381" y="451"/>
                </a:lnTo>
                <a:lnTo>
                  <a:pt x="380" y="461"/>
                </a:lnTo>
                <a:lnTo>
                  <a:pt x="380" y="471"/>
                </a:lnTo>
                <a:lnTo>
                  <a:pt x="378" y="480"/>
                </a:lnTo>
                <a:lnTo>
                  <a:pt x="378" y="488"/>
                </a:lnTo>
                <a:lnTo>
                  <a:pt x="376" y="496"/>
                </a:lnTo>
                <a:lnTo>
                  <a:pt x="374" y="501"/>
                </a:lnTo>
                <a:lnTo>
                  <a:pt x="370" y="507"/>
                </a:lnTo>
                <a:lnTo>
                  <a:pt x="368" y="513"/>
                </a:lnTo>
                <a:lnTo>
                  <a:pt x="364" y="517"/>
                </a:lnTo>
                <a:lnTo>
                  <a:pt x="360" y="521"/>
                </a:lnTo>
                <a:lnTo>
                  <a:pt x="357" y="522"/>
                </a:lnTo>
                <a:lnTo>
                  <a:pt x="353" y="524"/>
                </a:lnTo>
                <a:lnTo>
                  <a:pt x="349" y="526"/>
                </a:lnTo>
                <a:lnTo>
                  <a:pt x="343" y="528"/>
                </a:lnTo>
                <a:lnTo>
                  <a:pt x="339" y="528"/>
                </a:lnTo>
                <a:lnTo>
                  <a:pt x="333" y="526"/>
                </a:lnTo>
                <a:lnTo>
                  <a:pt x="328" y="524"/>
                </a:lnTo>
                <a:lnTo>
                  <a:pt x="322" y="521"/>
                </a:lnTo>
                <a:lnTo>
                  <a:pt x="314" y="517"/>
                </a:lnTo>
                <a:lnTo>
                  <a:pt x="309" y="509"/>
                </a:lnTo>
                <a:lnTo>
                  <a:pt x="301" y="501"/>
                </a:lnTo>
                <a:lnTo>
                  <a:pt x="295" y="492"/>
                </a:lnTo>
                <a:lnTo>
                  <a:pt x="287" y="480"/>
                </a:lnTo>
                <a:lnTo>
                  <a:pt x="280" y="469"/>
                </a:lnTo>
                <a:lnTo>
                  <a:pt x="272" y="453"/>
                </a:lnTo>
                <a:lnTo>
                  <a:pt x="264" y="438"/>
                </a:lnTo>
                <a:lnTo>
                  <a:pt x="257" y="421"/>
                </a:lnTo>
                <a:lnTo>
                  <a:pt x="249" y="403"/>
                </a:lnTo>
                <a:lnTo>
                  <a:pt x="241" y="382"/>
                </a:lnTo>
                <a:lnTo>
                  <a:pt x="234" y="361"/>
                </a:lnTo>
                <a:lnTo>
                  <a:pt x="226" y="338"/>
                </a:lnTo>
                <a:lnTo>
                  <a:pt x="214" y="315"/>
                </a:lnTo>
                <a:lnTo>
                  <a:pt x="205" y="294"/>
                </a:lnTo>
                <a:lnTo>
                  <a:pt x="193" y="273"/>
                </a:lnTo>
                <a:lnTo>
                  <a:pt x="184" y="254"/>
                </a:lnTo>
                <a:lnTo>
                  <a:pt x="172" y="235"/>
                </a:lnTo>
                <a:lnTo>
                  <a:pt x="163" y="217"/>
                </a:lnTo>
                <a:lnTo>
                  <a:pt x="153" y="202"/>
                </a:lnTo>
                <a:lnTo>
                  <a:pt x="142" y="187"/>
                </a:lnTo>
                <a:lnTo>
                  <a:pt x="132" y="173"/>
                </a:lnTo>
                <a:lnTo>
                  <a:pt x="122" y="162"/>
                </a:lnTo>
                <a:lnTo>
                  <a:pt x="113" y="150"/>
                </a:lnTo>
                <a:lnTo>
                  <a:pt x="103" y="140"/>
                </a:lnTo>
                <a:lnTo>
                  <a:pt x="95" y="131"/>
                </a:lnTo>
                <a:lnTo>
                  <a:pt x="86" y="123"/>
                </a:lnTo>
                <a:lnTo>
                  <a:pt x="78" y="117"/>
                </a:lnTo>
                <a:lnTo>
                  <a:pt x="71" y="112"/>
                </a:lnTo>
                <a:lnTo>
                  <a:pt x="55" y="106"/>
                </a:lnTo>
                <a:lnTo>
                  <a:pt x="40" y="100"/>
                </a:lnTo>
                <a:lnTo>
                  <a:pt x="28" y="93"/>
                </a:lnTo>
                <a:lnTo>
                  <a:pt x="23" y="87"/>
                </a:lnTo>
                <a:lnTo>
                  <a:pt x="19" y="83"/>
                </a:lnTo>
                <a:lnTo>
                  <a:pt x="13" y="77"/>
                </a:lnTo>
                <a:lnTo>
                  <a:pt x="9" y="73"/>
                </a:lnTo>
                <a:lnTo>
                  <a:pt x="7" y="68"/>
                </a:lnTo>
                <a:lnTo>
                  <a:pt x="3" y="62"/>
                </a:lnTo>
                <a:lnTo>
                  <a:pt x="1" y="56"/>
                </a:lnTo>
                <a:lnTo>
                  <a:pt x="0" y="50"/>
                </a:lnTo>
                <a:lnTo>
                  <a:pt x="0" y="43"/>
                </a:lnTo>
                <a:lnTo>
                  <a:pt x="0"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191"/>
                                        </p:tgtEl>
                                        <p:attrNameLst>
                                          <p:attrName>style.visibility</p:attrName>
                                        </p:attrNameLst>
                                      </p:cBhvr>
                                      <p:to>
                                        <p:strVal val="visible"/>
                                      </p:to>
                                    </p:set>
                                    <p:anim calcmode="lin" valueType="num">
                                      <p:cBhvr additive="base">
                                        <p:cTn id="422" dur="500" fill="hold"/>
                                        <p:tgtEl>
                                          <p:spTgt spid="191"/>
                                        </p:tgtEl>
                                        <p:attrNameLst>
                                          <p:attrName>ppt_x</p:attrName>
                                        </p:attrNameLst>
                                      </p:cBhvr>
                                      <p:tavLst>
                                        <p:tav tm="0">
                                          <p:val>
                                            <p:strVal val="0-#ppt_w/2"/>
                                          </p:val>
                                        </p:tav>
                                        <p:tav tm="100000">
                                          <p:val>
                                            <p:strVal val="#ppt_x"/>
                                          </p:val>
                                        </p:tav>
                                      </p:tavLst>
                                    </p:anim>
                                    <p:anim calcmode="lin" valueType="num">
                                      <p:cBhvr additive="base">
                                        <p:cTn id="423"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202"/>
                                        </p:tgtEl>
                                        <p:attrNameLst>
                                          <p:attrName>style.visibility</p:attrName>
                                        </p:attrNameLst>
                                      </p:cBhvr>
                                      <p:to>
                                        <p:strVal val="visible"/>
                                      </p:to>
                                    </p:set>
                                    <p:animEffect filter="wipe(up)" transition="in">
                                      <p:cBhvr additive="repl">
                                        <p:cTn id="428" dur="500"/>
                                        <p:tgtEl>
                                          <p:spTgt spid="202"/>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00"/>
                                        </p:tgtEl>
                                        <p:attrNameLst>
                                          <p:attrName>style.visibility</p:attrName>
                                        </p:attrNameLst>
                                      </p:cBhvr>
                                      <p:to>
                                        <p:strVal val="visible"/>
                                      </p:to>
                                    </p:set>
                                    <p:animEffect filter="wipe(left)" transition="in">
                                      <p:cBhvr additive="repl">
                                        <p:cTn id="433" dur="500"/>
                                        <p:tgtEl>
                                          <p:spTgt spid="20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201"/>
                                        </p:tgtEl>
                                        <p:attrNameLst>
                                          <p:attrName>style.visibility</p:attrName>
                                        </p:attrNameLst>
                                      </p:cBhvr>
                                      <p:to>
                                        <p:strVal val="visible"/>
                                      </p:to>
                                    </p:set>
                                    <p:animEffect filter="wipe(left)" transition="in">
                                      <p:cBhvr additive="repl">
                                        <p:cTn id="438" dur="500"/>
                                        <p:tgtEl>
                                          <p:spTgt spid="20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199"/>
                                        </p:tgtEl>
                                        <p:attrNameLst>
                                          <p:attrName>style.visibility</p:attrName>
                                        </p:attrNameLst>
                                      </p:cBhvr>
                                      <p:to>
                                        <p:strVal val="visible"/>
                                      </p:to>
                                    </p:set>
                                    <p:animEffect filter="wipe(up)" transition="in">
                                      <p:cBhvr additive="repl">
                                        <p:cTn id="443" dur="500"/>
                                        <p:tgtEl>
                                          <p:spTgt spid="199"/>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97"/>
                                        </p:tgtEl>
                                        <p:attrNameLst>
                                          <p:attrName>style.visibility</p:attrName>
                                        </p:attrNameLst>
                                      </p:cBhvr>
                                      <p:to>
                                        <p:strVal val="visible"/>
                                      </p:to>
                                    </p:set>
                                    <p:animEffect filter="wipe(left)" transition="in">
                                      <p:cBhvr additive="repl">
                                        <p:cTn id="448" dur="500"/>
                                        <p:tgtEl>
                                          <p:spTgt spid="197"/>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198"/>
                                        </p:tgtEl>
                                        <p:attrNameLst>
                                          <p:attrName>style.visibility</p:attrName>
                                        </p:attrNameLst>
                                      </p:cBhvr>
                                      <p:to>
                                        <p:strVal val="visible"/>
                                      </p:to>
                                    </p:set>
                                    <p:animEffect filter="wipe(left)" transition="in">
                                      <p:cBhvr additive="repl">
                                        <p:cTn id="453" dur="500"/>
                                        <p:tgtEl>
                                          <p:spTgt spid="198"/>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96"/>
                                        </p:tgtEl>
                                        <p:attrNameLst>
                                          <p:attrName>style.visibility</p:attrName>
                                        </p:attrNameLst>
                                      </p:cBhvr>
                                      <p:to>
                                        <p:strVal val="visible"/>
                                      </p:to>
                                    </p:set>
                                    <p:animEffect filter="wipe(up)" transition="in">
                                      <p:cBhvr additive="repl">
                                        <p:cTn id="458" dur="500"/>
                                        <p:tgtEl>
                                          <p:spTgt spid="196"/>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95"/>
                                        </p:tgtEl>
                                        <p:attrNameLst>
                                          <p:attrName>style.visibility</p:attrName>
                                        </p:attrNameLst>
                                      </p:cBhvr>
                                      <p:to>
                                        <p:strVal val="visible"/>
                                      </p:to>
                                    </p:set>
                                    <p:animEffect filter="wipe(up)" transition="in">
                                      <p:cBhvr additive="repl">
                                        <p:cTn id="463" dur="500"/>
                                        <p:tgtEl>
                                          <p:spTgt spid="19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94"/>
                                        </p:tgtEl>
                                        <p:attrNameLst>
                                          <p:attrName>style.visibility</p:attrName>
                                        </p:attrNameLst>
                                      </p:cBhvr>
                                      <p:to>
                                        <p:strVal val="visible"/>
                                      </p:to>
                                    </p:set>
                                    <p:animEffect filter="wipe(left)" transition="in">
                                      <p:cBhvr additive="repl">
                                        <p:cTn id="468" dur="500"/>
                                        <p:tgtEl>
                                          <p:spTgt spid="194"/>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93"/>
                                        </p:tgtEl>
                                        <p:attrNameLst>
                                          <p:attrName>style.visibility</p:attrName>
                                        </p:attrNameLst>
                                      </p:cBhvr>
                                      <p:to>
                                        <p:strVal val="visible"/>
                                      </p:to>
                                    </p:set>
                                    <p:animEffect filter="wipe(left)" transition="in">
                                      <p:cBhvr additive="repl">
                                        <p:cTn id="473" dur="500"/>
                                        <p:tgtEl>
                                          <p:spTgt spid="193"/>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92"/>
                                        </p:tgtEl>
                                        <p:attrNameLst>
                                          <p:attrName>style.visibility</p:attrName>
                                        </p:attrNameLst>
                                      </p:cBhvr>
                                      <p:to>
                                        <p:strVal val="visible"/>
                                      </p:to>
                                    </p:set>
                                    <p:animEffect filter="wipe(left)" transition="in">
                                      <p:cBhvr additive="repl">
                                        <p:cTn id="478" dur="500"/>
                                        <p:tgtEl>
                                          <p:spTgt spid="192"/>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53" presetSubtype="16">
                                  <p:stCondLst>
                                    <p:cond delay="0"/>
                                  </p:stCondLst>
                                  <p:childTnLst>
                                    <p:set>
                                      <p:cBhvr>
                                        <p:cTn id="482" dur="1" fill="hold">
                                          <p:stCondLst>
                                            <p:cond delay="0"/>
                                          </p:stCondLst>
                                        </p:cTn>
                                        <p:tgtEl>
                                          <p:spTgt spid="188"/>
                                        </p:tgtEl>
                                        <p:attrNameLst>
                                          <p:attrName>style.visibility</p:attrName>
                                        </p:attrNameLst>
                                      </p:cBhvr>
                                      <p:to>
                                        <p:strVal val="visible"/>
                                      </p:to>
                                    </p:set>
                                    <p:anim calcmode="lin" valueType="num">
                                      <p:cBhvr additive="repl">
                                        <p:cTn id="483" dur="500" fill="hold"/>
                                        <p:tgtEl>
                                          <p:spTgt spid="188"/>
                                        </p:tgtEl>
                                        <p:attrNameLst>
                                          <p:attrName>ppt_w</p:attrName>
                                        </p:attrNameLst>
                                      </p:cBhvr>
                                      <p:tavLst>
                                        <p:tav tm="0">
                                          <p:val>
                                            <p:fltVal val="0"/>
                                          </p:val>
                                        </p:tav>
                                        <p:tav tm="100000">
                                          <p:val>
                                            <p:strVal val="#ppt_w"/>
                                          </p:val>
                                        </p:tav>
                                      </p:tavLst>
                                    </p:anim>
                                    <p:anim calcmode="lin" valueType="num">
                                      <p:cBhvr additive="repl">
                                        <p:cTn id="484" dur="500" fill="hold"/>
                                        <p:tgtEl>
                                          <p:spTgt spid="188"/>
                                        </p:tgtEl>
                                        <p:attrNameLst>
                                          <p:attrName>ppt_h</p:attrName>
                                        </p:attrNameLst>
                                      </p:cBhvr>
                                      <p:tavLst>
                                        <p:tav tm="0">
                                          <p:val>
                                            <p:fltVal val="0"/>
                                          </p:val>
                                        </p:tav>
                                        <p:tav tm="100000">
                                          <p:val>
                                            <p:strVal val="#ppt_h"/>
                                          </p:val>
                                        </p:tav>
                                      </p:tavLst>
                                    </p:anim>
                                    <p:animEffect filter="fade" transition="in">
                                      <p:cBhvr additive="repl">
                                        <p:cTn id="485"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弦</a:t>
            </a:r>
            <a:endParaRPr b="0" lang="en-US" sz="8000" spc="-1" strike="noStrike">
              <a:solidFill>
                <a:srgbClr val="000000"/>
              </a:solidFill>
              <a:latin typeface="Calibri"/>
            </a:endParaRPr>
          </a:p>
        </p:txBody>
      </p:sp>
      <p:graphicFrame>
        <p:nvGraphicFramePr>
          <p:cNvPr id="204"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05" name="组合 3"/>
          <p:cNvGrpSpPr/>
          <p:nvPr/>
        </p:nvGrpSpPr>
        <p:grpSpPr>
          <a:xfrm>
            <a:off x="1230480" y="3975120"/>
            <a:ext cx="2840040" cy="1571760"/>
            <a:chOff x="1230480" y="3975120"/>
            <a:chExt cx="2840040" cy="1571760"/>
          </a:xfrm>
        </p:grpSpPr>
        <p:pic>
          <p:nvPicPr>
            <p:cNvPr id="206" name="图示 4" descr=""/>
            <p:cNvPicPr/>
            <p:nvPr/>
          </p:nvPicPr>
          <p:blipFill>
            <a:blip r:embed="rId1"/>
            <a:stretch/>
          </p:blipFill>
          <p:spPr>
            <a:xfrm>
              <a:off x="1230480" y="3975120"/>
              <a:ext cx="2840040" cy="1571760"/>
            </a:xfrm>
            <a:prstGeom prst="rect">
              <a:avLst/>
            </a:prstGeom>
            <a:ln w="0">
              <a:noFill/>
            </a:ln>
          </p:spPr>
        </p:pic>
        <p:sp>
          <p:nvSpPr>
            <p:cNvPr id="207" name="矩形 2"/>
            <p:cNvSpPr/>
            <p:nvPr/>
          </p:nvSpPr>
          <p:spPr>
            <a:xfrm>
              <a:off x="1241280" y="458784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长右宽短，“弓”字取斜势 。</a:t>
              </a:r>
              <a:endParaRPr b="0" lang="en-US" sz="2000" spc="-1" strike="noStrike">
                <a:solidFill>
                  <a:srgbClr val="000000"/>
                </a:solidFill>
                <a:latin typeface="Calibri"/>
              </a:endParaRPr>
            </a:p>
          </p:txBody>
        </p:sp>
      </p:grpSp>
      <p:sp>
        <p:nvSpPr>
          <p:cNvPr id="208" name="矩形 2"/>
          <p:cNvSpPr/>
          <p:nvPr/>
        </p:nvSpPr>
        <p:spPr>
          <a:xfrm>
            <a:off x="1935000" y="1855800"/>
            <a:ext cx="16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ián</a:t>
            </a:r>
            <a:endParaRPr b="0" lang="en-US" sz="4800" spc="-1" strike="noStrike">
              <a:solidFill>
                <a:srgbClr val="000000"/>
              </a:solidFill>
              <a:latin typeface="Calibri"/>
            </a:endParaRPr>
          </a:p>
        </p:txBody>
      </p:sp>
      <p:sp>
        <p:nvSpPr>
          <p:cNvPr id="209" name="Freeform 89"/>
          <p:cNvSpPr/>
          <p:nvPr/>
        </p:nvSpPr>
        <p:spPr>
          <a:xfrm>
            <a:off x="6369120" y="3722760"/>
            <a:ext cx="1049400" cy="1098360"/>
          </a:xfrm>
          <a:custGeom>
            <a:avLst/>
            <a:gdLst/>
            <a:ahLst/>
            <a:rect l="l" t="t" r="r" b="b"/>
            <a:pathLst>
              <a:path w="1323" h="1384">
                <a:moveTo>
                  <a:pt x="138" y="1384"/>
                </a:moveTo>
                <a:lnTo>
                  <a:pt x="133" y="1384"/>
                </a:lnTo>
                <a:lnTo>
                  <a:pt x="129" y="1384"/>
                </a:lnTo>
                <a:lnTo>
                  <a:pt x="123" y="1382"/>
                </a:lnTo>
                <a:lnTo>
                  <a:pt x="117" y="1380"/>
                </a:lnTo>
                <a:lnTo>
                  <a:pt x="113" y="1376"/>
                </a:lnTo>
                <a:lnTo>
                  <a:pt x="108" y="1372"/>
                </a:lnTo>
                <a:lnTo>
                  <a:pt x="102" y="1368"/>
                </a:lnTo>
                <a:lnTo>
                  <a:pt x="96" y="1362"/>
                </a:lnTo>
                <a:lnTo>
                  <a:pt x="90" y="1359"/>
                </a:lnTo>
                <a:lnTo>
                  <a:pt x="85" y="1351"/>
                </a:lnTo>
                <a:lnTo>
                  <a:pt x="79" y="1345"/>
                </a:lnTo>
                <a:lnTo>
                  <a:pt x="73" y="1338"/>
                </a:lnTo>
                <a:lnTo>
                  <a:pt x="65" y="1330"/>
                </a:lnTo>
                <a:lnTo>
                  <a:pt x="60" y="1320"/>
                </a:lnTo>
                <a:lnTo>
                  <a:pt x="52" y="1311"/>
                </a:lnTo>
                <a:lnTo>
                  <a:pt x="44" y="1301"/>
                </a:lnTo>
                <a:lnTo>
                  <a:pt x="39" y="1290"/>
                </a:lnTo>
                <a:lnTo>
                  <a:pt x="31" y="1280"/>
                </a:lnTo>
                <a:lnTo>
                  <a:pt x="25" y="1270"/>
                </a:lnTo>
                <a:lnTo>
                  <a:pt x="19" y="1261"/>
                </a:lnTo>
                <a:lnTo>
                  <a:pt x="16" y="1251"/>
                </a:lnTo>
                <a:lnTo>
                  <a:pt x="12" y="1243"/>
                </a:lnTo>
                <a:lnTo>
                  <a:pt x="8" y="1234"/>
                </a:lnTo>
                <a:lnTo>
                  <a:pt x="6" y="1226"/>
                </a:lnTo>
                <a:lnTo>
                  <a:pt x="2" y="1217"/>
                </a:lnTo>
                <a:lnTo>
                  <a:pt x="2" y="1209"/>
                </a:lnTo>
                <a:lnTo>
                  <a:pt x="0" y="1201"/>
                </a:lnTo>
                <a:lnTo>
                  <a:pt x="0" y="1192"/>
                </a:lnTo>
                <a:lnTo>
                  <a:pt x="0" y="1184"/>
                </a:lnTo>
                <a:lnTo>
                  <a:pt x="2" y="1176"/>
                </a:lnTo>
                <a:lnTo>
                  <a:pt x="2" y="1169"/>
                </a:lnTo>
                <a:lnTo>
                  <a:pt x="6" y="1161"/>
                </a:lnTo>
                <a:lnTo>
                  <a:pt x="6" y="1155"/>
                </a:lnTo>
                <a:lnTo>
                  <a:pt x="6" y="1151"/>
                </a:lnTo>
                <a:lnTo>
                  <a:pt x="10" y="1146"/>
                </a:lnTo>
                <a:lnTo>
                  <a:pt x="12" y="1140"/>
                </a:lnTo>
                <a:lnTo>
                  <a:pt x="16" y="1134"/>
                </a:lnTo>
                <a:lnTo>
                  <a:pt x="21" y="1130"/>
                </a:lnTo>
                <a:lnTo>
                  <a:pt x="27" y="1124"/>
                </a:lnTo>
                <a:lnTo>
                  <a:pt x="33" y="1119"/>
                </a:lnTo>
                <a:lnTo>
                  <a:pt x="40" y="1115"/>
                </a:lnTo>
                <a:lnTo>
                  <a:pt x="48" y="1109"/>
                </a:lnTo>
                <a:lnTo>
                  <a:pt x="58" y="1103"/>
                </a:lnTo>
                <a:lnTo>
                  <a:pt x="67" y="1098"/>
                </a:lnTo>
                <a:lnTo>
                  <a:pt x="77" y="1094"/>
                </a:lnTo>
                <a:lnTo>
                  <a:pt x="88" y="1088"/>
                </a:lnTo>
                <a:lnTo>
                  <a:pt x="100" y="1082"/>
                </a:lnTo>
                <a:lnTo>
                  <a:pt x="111" y="1076"/>
                </a:lnTo>
                <a:lnTo>
                  <a:pt x="125" y="1073"/>
                </a:lnTo>
                <a:lnTo>
                  <a:pt x="138" y="1069"/>
                </a:lnTo>
                <a:lnTo>
                  <a:pt x="154" y="1061"/>
                </a:lnTo>
                <a:lnTo>
                  <a:pt x="169" y="1053"/>
                </a:lnTo>
                <a:lnTo>
                  <a:pt x="184" y="1044"/>
                </a:lnTo>
                <a:lnTo>
                  <a:pt x="204" y="1032"/>
                </a:lnTo>
                <a:lnTo>
                  <a:pt x="221" y="1021"/>
                </a:lnTo>
                <a:lnTo>
                  <a:pt x="240" y="1005"/>
                </a:lnTo>
                <a:lnTo>
                  <a:pt x="259" y="990"/>
                </a:lnTo>
                <a:lnTo>
                  <a:pt x="280" y="973"/>
                </a:lnTo>
                <a:lnTo>
                  <a:pt x="301" y="954"/>
                </a:lnTo>
                <a:lnTo>
                  <a:pt x="323" y="934"/>
                </a:lnTo>
                <a:lnTo>
                  <a:pt x="346" y="913"/>
                </a:lnTo>
                <a:lnTo>
                  <a:pt x="369" y="890"/>
                </a:lnTo>
                <a:lnTo>
                  <a:pt x="394" y="865"/>
                </a:lnTo>
                <a:lnTo>
                  <a:pt x="419" y="840"/>
                </a:lnTo>
                <a:lnTo>
                  <a:pt x="442" y="815"/>
                </a:lnTo>
                <a:lnTo>
                  <a:pt x="467" y="790"/>
                </a:lnTo>
                <a:lnTo>
                  <a:pt x="492" y="766"/>
                </a:lnTo>
                <a:lnTo>
                  <a:pt x="518" y="741"/>
                </a:lnTo>
                <a:lnTo>
                  <a:pt x="543" y="714"/>
                </a:lnTo>
                <a:lnTo>
                  <a:pt x="568" y="687"/>
                </a:lnTo>
                <a:lnTo>
                  <a:pt x="593" y="658"/>
                </a:lnTo>
                <a:lnTo>
                  <a:pt x="618" y="631"/>
                </a:lnTo>
                <a:lnTo>
                  <a:pt x="645" y="602"/>
                </a:lnTo>
                <a:lnTo>
                  <a:pt x="670" y="572"/>
                </a:lnTo>
                <a:lnTo>
                  <a:pt x="697" y="541"/>
                </a:lnTo>
                <a:lnTo>
                  <a:pt x="724" y="510"/>
                </a:lnTo>
                <a:lnTo>
                  <a:pt x="751" y="480"/>
                </a:lnTo>
                <a:lnTo>
                  <a:pt x="776" y="447"/>
                </a:lnTo>
                <a:lnTo>
                  <a:pt x="802" y="412"/>
                </a:lnTo>
                <a:lnTo>
                  <a:pt x="831" y="380"/>
                </a:lnTo>
                <a:lnTo>
                  <a:pt x="856" y="349"/>
                </a:lnTo>
                <a:lnTo>
                  <a:pt x="881" y="320"/>
                </a:lnTo>
                <a:lnTo>
                  <a:pt x="904" y="291"/>
                </a:lnTo>
                <a:lnTo>
                  <a:pt x="925" y="266"/>
                </a:lnTo>
                <a:lnTo>
                  <a:pt x="943" y="242"/>
                </a:lnTo>
                <a:lnTo>
                  <a:pt x="960" y="218"/>
                </a:lnTo>
                <a:lnTo>
                  <a:pt x="975" y="197"/>
                </a:lnTo>
                <a:lnTo>
                  <a:pt x="989" y="178"/>
                </a:lnTo>
                <a:lnTo>
                  <a:pt x="1000" y="159"/>
                </a:lnTo>
                <a:lnTo>
                  <a:pt x="1010" y="144"/>
                </a:lnTo>
                <a:lnTo>
                  <a:pt x="1019" y="128"/>
                </a:lnTo>
                <a:lnTo>
                  <a:pt x="1025" y="115"/>
                </a:lnTo>
                <a:lnTo>
                  <a:pt x="1029" y="101"/>
                </a:lnTo>
                <a:lnTo>
                  <a:pt x="1031" y="90"/>
                </a:lnTo>
                <a:lnTo>
                  <a:pt x="1031" y="80"/>
                </a:lnTo>
                <a:lnTo>
                  <a:pt x="1031" y="73"/>
                </a:lnTo>
                <a:lnTo>
                  <a:pt x="1027" y="65"/>
                </a:lnTo>
                <a:lnTo>
                  <a:pt x="1025" y="57"/>
                </a:lnTo>
                <a:lnTo>
                  <a:pt x="1023" y="52"/>
                </a:lnTo>
                <a:lnTo>
                  <a:pt x="1023" y="46"/>
                </a:lnTo>
                <a:lnTo>
                  <a:pt x="1021" y="40"/>
                </a:lnTo>
                <a:lnTo>
                  <a:pt x="1021" y="36"/>
                </a:lnTo>
                <a:lnTo>
                  <a:pt x="1021" y="27"/>
                </a:lnTo>
                <a:lnTo>
                  <a:pt x="1023" y="23"/>
                </a:lnTo>
                <a:lnTo>
                  <a:pt x="1023" y="19"/>
                </a:lnTo>
                <a:lnTo>
                  <a:pt x="1025" y="17"/>
                </a:lnTo>
                <a:lnTo>
                  <a:pt x="1029" y="13"/>
                </a:lnTo>
                <a:lnTo>
                  <a:pt x="1031" y="11"/>
                </a:lnTo>
                <a:lnTo>
                  <a:pt x="1035" y="7"/>
                </a:lnTo>
                <a:lnTo>
                  <a:pt x="1039" y="5"/>
                </a:lnTo>
                <a:lnTo>
                  <a:pt x="1044" y="4"/>
                </a:lnTo>
                <a:lnTo>
                  <a:pt x="1048" y="0"/>
                </a:lnTo>
                <a:lnTo>
                  <a:pt x="1054" y="0"/>
                </a:lnTo>
                <a:lnTo>
                  <a:pt x="1060" y="0"/>
                </a:lnTo>
                <a:lnTo>
                  <a:pt x="1065" y="0"/>
                </a:lnTo>
                <a:lnTo>
                  <a:pt x="1073" y="0"/>
                </a:lnTo>
                <a:lnTo>
                  <a:pt x="1079" y="4"/>
                </a:lnTo>
                <a:lnTo>
                  <a:pt x="1087" y="5"/>
                </a:lnTo>
                <a:lnTo>
                  <a:pt x="1094" y="9"/>
                </a:lnTo>
                <a:lnTo>
                  <a:pt x="1104" y="13"/>
                </a:lnTo>
                <a:lnTo>
                  <a:pt x="1111" y="19"/>
                </a:lnTo>
                <a:lnTo>
                  <a:pt x="1121" y="25"/>
                </a:lnTo>
                <a:lnTo>
                  <a:pt x="1131" y="30"/>
                </a:lnTo>
                <a:lnTo>
                  <a:pt x="1142" y="36"/>
                </a:lnTo>
                <a:lnTo>
                  <a:pt x="1152" y="44"/>
                </a:lnTo>
                <a:lnTo>
                  <a:pt x="1163" y="50"/>
                </a:lnTo>
                <a:lnTo>
                  <a:pt x="1177" y="59"/>
                </a:lnTo>
                <a:lnTo>
                  <a:pt x="1186" y="69"/>
                </a:lnTo>
                <a:lnTo>
                  <a:pt x="1194" y="78"/>
                </a:lnTo>
                <a:lnTo>
                  <a:pt x="1204" y="88"/>
                </a:lnTo>
                <a:lnTo>
                  <a:pt x="1211" y="98"/>
                </a:lnTo>
                <a:lnTo>
                  <a:pt x="1219" y="107"/>
                </a:lnTo>
                <a:lnTo>
                  <a:pt x="1225" y="117"/>
                </a:lnTo>
                <a:lnTo>
                  <a:pt x="1230" y="124"/>
                </a:lnTo>
                <a:lnTo>
                  <a:pt x="1236" y="134"/>
                </a:lnTo>
                <a:lnTo>
                  <a:pt x="1240" y="142"/>
                </a:lnTo>
                <a:lnTo>
                  <a:pt x="1246" y="149"/>
                </a:lnTo>
                <a:lnTo>
                  <a:pt x="1248" y="159"/>
                </a:lnTo>
                <a:lnTo>
                  <a:pt x="1252" y="167"/>
                </a:lnTo>
                <a:lnTo>
                  <a:pt x="1254" y="174"/>
                </a:lnTo>
                <a:lnTo>
                  <a:pt x="1255" y="182"/>
                </a:lnTo>
                <a:lnTo>
                  <a:pt x="1255" y="190"/>
                </a:lnTo>
                <a:lnTo>
                  <a:pt x="1257" y="197"/>
                </a:lnTo>
                <a:lnTo>
                  <a:pt x="1255" y="207"/>
                </a:lnTo>
                <a:lnTo>
                  <a:pt x="1254" y="215"/>
                </a:lnTo>
                <a:lnTo>
                  <a:pt x="1248" y="226"/>
                </a:lnTo>
                <a:lnTo>
                  <a:pt x="1242" y="238"/>
                </a:lnTo>
                <a:lnTo>
                  <a:pt x="1232" y="249"/>
                </a:lnTo>
                <a:lnTo>
                  <a:pt x="1223" y="263"/>
                </a:lnTo>
                <a:lnTo>
                  <a:pt x="1211" y="276"/>
                </a:lnTo>
                <a:lnTo>
                  <a:pt x="1198" y="291"/>
                </a:lnTo>
                <a:lnTo>
                  <a:pt x="1183" y="307"/>
                </a:lnTo>
                <a:lnTo>
                  <a:pt x="1165" y="324"/>
                </a:lnTo>
                <a:lnTo>
                  <a:pt x="1146" y="343"/>
                </a:lnTo>
                <a:lnTo>
                  <a:pt x="1127" y="362"/>
                </a:lnTo>
                <a:lnTo>
                  <a:pt x="1106" y="382"/>
                </a:lnTo>
                <a:lnTo>
                  <a:pt x="1081" y="403"/>
                </a:lnTo>
                <a:lnTo>
                  <a:pt x="1056" y="426"/>
                </a:lnTo>
                <a:lnTo>
                  <a:pt x="1031" y="449"/>
                </a:lnTo>
                <a:lnTo>
                  <a:pt x="971" y="503"/>
                </a:lnTo>
                <a:lnTo>
                  <a:pt x="912" y="554"/>
                </a:lnTo>
                <a:lnTo>
                  <a:pt x="856" y="606"/>
                </a:lnTo>
                <a:lnTo>
                  <a:pt x="799" y="656"/>
                </a:lnTo>
                <a:lnTo>
                  <a:pt x="743" y="708"/>
                </a:lnTo>
                <a:lnTo>
                  <a:pt x="687" y="756"/>
                </a:lnTo>
                <a:lnTo>
                  <a:pt x="632" y="806"/>
                </a:lnTo>
                <a:lnTo>
                  <a:pt x="578" y="854"/>
                </a:lnTo>
                <a:lnTo>
                  <a:pt x="564" y="867"/>
                </a:lnTo>
                <a:lnTo>
                  <a:pt x="551" y="879"/>
                </a:lnTo>
                <a:lnTo>
                  <a:pt x="540" y="892"/>
                </a:lnTo>
                <a:lnTo>
                  <a:pt x="528" y="904"/>
                </a:lnTo>
                <a:lnTo>
                  <a:pt x="516" y="915"/>
                </a:lnTo>
                <a:lnTo>
                  <a:pt x="505" y="925"/>
                </a:lnTo>
                <a:lnTo>
                  <a:pt x="495" y="936"/>
                </a:lnTo>
                <a:lnTo>
                  <a:pt x="486" y="946"/>
                </a:lnTo>
                <a:lnTo>
                  <a:pt x="476" y="956"/>
                </a:lnTo>
                <a:lnTo>
                  <a:pt x="467" y="965"/>
                </a:lnTo>
                <a:lnTo>
                  <a:pt x="459" y="975"/>
                </a:lnTo>
                <a:lnTo>
                  <a:pt x="451" y="982"/>
                </a:lnTo>
                <a:lnTo>
                  <a:pt x="444" y="990"/>
                </a:lnTo>
                <a:lnTo>
                  <a:pt x="438" y="998"/>
                </a:lnTo>
                <a:lnTo>
                  <a:pt x="424" y="1013"/>
                </a:lnTo>
                <a:lnTo>
                  <a:pt x="415" y="1027"/>
                </a:lnTo>
                <a:lnTo>
                  <a:pt x="405" y="1038"/>
                </a:lnTo>
                <a:lnTo>
                  <a:pt x="399" y="1048"/>
                </a:lnTo>
                <a:lnTo>
                  <a:pt x="394" y="1055"/>
                </a:lnTo>
                <a:lnTo>
                  <a:pt x="390" y="1063"/>
                </a:lnTo>
                <a:lnTo>
                  <a:pt x="390" y="1069"/>
                </a:lnTo>
                <a:lnTo>
                  <a:pt x="390" y="1075"/>
                </a:lnTo>
                <a:lnTo>
                  <a:pt x="392" y="1076"/>
                </a:lnTo>
                <a:lnTo>
                  <a:pt x="394" y="1078"/>
                </a:lnTo>
                <a:lnTo>
                  <a:pt x="397" y="1078"/>
                </a:lnTo>
                <a:lnTo>
                  <a:pt x="403" y="1080"/>
                </a:lnTo>
                <a:lnTo>
                  <a:pt x="409" y="1080"/>
                </a:lnTo>
                <a:lnTo>
                  <a:pt x="419" y="1080"/>
                </a:lnTo>
                <a:lnTo>
                  <a:pt x="430" y="1080"/>
                </a:lnTo>
                <a:lnTo>
                  <a:pt x="442" y="1080"/>
                </a:lnTo>
                <a:lnTo>
                  <a:pt x="455" y="1080"/>
                </a:lnTo>
                <a:lnTo>
                  <a:pt x="472" y="1078"/>
                </a:lnTo>
                <a:lnTo>
                  <a:pt x="490" y="1078"/>
                </a:lnTo>
                <a:lnTo>
                  <a:pt x="509" y="1076"/>
                </a:lnTo>
                <a:lnTo>
                  <a:pt x="530" y="1076"/>
                </a:lnTo>
                <a:lnTo>
                  <a:pt x="553" y="1075"/>
                </a:lnTo>
                <a:lnTo>
                  <a:pt x="578" y="1073"/>
                </a:lnTo>
                <a:lnTo>
                  <a:pt x="605" y="1069"/>
                </a:lnTo>
                <a:lnTo>
                  <a:pt x="632" y="1067"/>
                </a:lnTo>
                <a:lnTo>
                  <a:pt x="662" y="1065"/>
                </a:lnTo>
                <a:lnTo>
                  <a:pt x="693" y="1061"/>
                </a:lnTo>
                <a:lnTo>
                  <a:pt x="728" y="1059"/>
                </a:lnTo>
                <a:lnTo>
                  <a:pt x="762" y="1055"/>
                </a:lnTo>
                <a:lnTo>
                  <a:pt x="799" y="1052"/>
                </a:lnTo>
                <a:lnTo>
                  <a:pt x="837" y="1048"/>
                </a:lnTo>
                <a:lnTo>
                  <a:pt x="879" y="1044"/>
                </a:lnTo>
                <a:lnTo>
                  <a:pt x="921" y="1038"/>
                </a:lnTo>
                <a:lnTo>
                  <a:pt x="966" y="1034"/>
                </a:lnTo>
                <a:lnTo>
                  <a:pt x="1010" y="1028"/>
                </a:lnTo>
                <a:lnTo>
                  <a:pt x="1058" y="1023"/>
                </a:lnTo>
                <a:lnTo>
                  <a:pt x="1108" y="1019"/>
                </a:lnTo>
                <a:lnTo>
                  <a:pt x="1159" y="1013"/>
                </a:lnTo>
                <a:lnTo>
                  <a:pt x="1211" y="1005"/>
                </a:lnTo>
                <a:lnTo>
                  <a:pt x="1267" y="1000"/>
                </a:lnTo>
                <a:lnTo>
                  <a:pt x="1323" y="994"/>
                </a:lnTo>
                <a:lnTo>
                  <a:pt x="1323" y="1050"/>
                </a:lnTo>
                <a:lnTo>
                  <a:pt x="1323" y="1105"/>
                </a:lnTo>
                <a:lnTo>
                  <a:pt x="1294" y="1107"/>
                </a:lnTo>
                <a:lnTo>
                  <a:pt x="1265" y="1111"/>
                </a:lnTo>
                <a:lnTo>
                  <a:pt x="1236" y="1115"/>
                </a:lnTo>
                <a:lnTo>
                  <a:pt x="1206" y="1121"/>
                </a:lnTo>
                <a:lnTo>
                  <a:pt x="1173" y="1124"/>
                </a:lnTo>
                <a:lnTo>
                  <a:pt x="1140" y="1130"/>
                </a:lnTo>
                <a:lnTo>
                  <a:pt x="1106" y="1136"/>
                </a:lnTo>
                <a:lnTo>
                  <a:pt x="1069" y="1144"/>
                </a:lnTo>
                <a:lnTo>
                  <a:pt x="1033" y="1149"/>
                </a:lnTo>
                <a:lnTo>
                  <a:pt x="994" y="1157"/>
                </a:lnTo>
                <a:lnTo>
                  <a:pt x="956" y="1165"/>
                </a:lnTo>
                <a:lnTo>
                  <a:pt x="914" y="1171"/>
                </a:lnTo>
                <a:lnTo>
                  <a:pt x="872" y="1178"/>
                </a:lnTo>
                <a:lnTo>
                  <a:pt x="829" y="1186"/>
                </a:lnTo>
                <a:lnTo>
                  <a:pt x="783" y="1195"/>
                </a:lnTo>
                <a:lnTo>
                  <a:pt x="737" y="1203"/>
                </a:lnTo>
                <a:lnTo>
                  <a:pt x="714" y="1207"/>
                </a:lnTo>
                <a:lnTo>
                  <a:pt x="691" y="1211"/>
                </a:lnTo>
                <a:lnTo>
                  <a:pt x="668" y="1215"/>
                </a:lnTo>
                <a:lnTo>
                  <a:pt x="647" y="1219"/>
                </a:lnTo>
                <a:lnTo>
                  <a:pt x="626" y="1222"/>
                </a:lnTo>
                <a:lnTo>
                  <a:pt x="605" y="1226"/>
                </a:lnTo>
                <a:lnTo>
                  <a:pt x="586" y="1230"/>
                </a:lnTo>
                <a:lnTo>
                  <a:pt x="564" y="1234"/>
                </a:lnTo>
                <a:lnTo>
                  <a:pt x="545" y="1238"/>
                </a:lnTo>
                <a:lnTo>
                  <a:pt x="528" y="1242"/>
                </a:lnTo>
                <a:lnTo>
                  <a:pt x="511" y="1245"/>
                </a:lnTo>
                <a:lnTo>
                  <a:pt x="493" y="1249"/>
                </a:lnTo>
                <a:lnTo>
                  <a:pt x="476" y="1253"/>
                </a:lnTo>
                <a:lnTo>
                  <a:pt x="459" y="1257"/>
                </a:lnTo>
                <a:lnTo>
                  <a:pt x="444" y="1261"/>
                </a:lnTo>
                <a:lnTo>
                  <a:pt x="430" y="1267"/>
                </a:lnTo>
                <a:lnTo>
                  <a:pt x="415" y="1270"/>
                </a:lnTo>
                <a:lnTo>
                  <a:pt x="401" y="1274"/>
                </a:lnTo>
                <a:lnTo>
                  <a:pt x="388" y="1278"/>
                </a:lnTo>
                <a:lnTo>
                  <a:pt x="374" y="1282"/>
                </a:lnTo>
                <a:lnTo>
                  <a:pt x="363" y="1286"/>
                </a:lnTo>
                <a:lnTo>
                  <a:pt x="351" y="1290"/>
                </a:lnTo>
                <a:lnTo>
                  <a:pt x="340" y="1293"/>
                </a:lnTo>
                <a:lnTo>
                  <a:pt x="330" y="1297"/>
                </a:lnTo>
                <a:lnTo>
                  <a:pt x="321" y="1301"/>
                </a:lnTo>
                <a:lnTo>
                  <a:pt x="311" y="1305"/>
                </a:lnTo>
                <a:lnTo>
                  <a:pt x="303" y="1309"/>
                </a:lnTo>
                <a:lnTo>
                  <a:pt x="296" y="1313"/>
                </a:lnTo>
                <a:lnTo>
                  <a:pt x="288" y="1316"/>
                </a:lnTo>
                <a:lnTo>
                  <a:pt x="282" y="1320"/>
                </a:lnTo>
                <a:lnTo>
                  <a:pt x="277" y="1324"/>
                </a:lnTo>
                <a:lnTo>
                  <a:pt x="271" y="1328"/>
                </a:lnTo>
                <a:lnTo>
                  <a:pt x="259" y="1336"/>
                </a:lnTo>
                <a:lnTo>
                  <a:pt x="248" y="1343"/>
                </a:lnTo>
                <a:lnTo>
                  <a:pt x="236" y="1349"/>
                </a:lnTo>
                <a:lnTo>
                  <a:pt x="227" y="1355"/>
                </a:lnTo>
                <a:lnTo>
                  <a:pt x="217" y="1361"/>
                </a:lnTo>
                <a:lnTo>
                  <a:pt x="207" y="1364"/>
                </a:lnTo>
                <a:lnTo>
                  <a:pt x="198" y="1368"/>
                </a:lnTo>
                <a:lnTo>
                  <a:pt x="190" y="1372"/>
                </a:lnTo>
                <a:lnTo>
                  <a:pt x="182" y="1376"/>
                </a:lnTo>
                <a:lnTo>
                  <a:pt x="175" y="1378"/>
                </a:lnTo>
                <a:lnTo>
                  <a:pt x="161" y="1382"/>
                </a:lnTo>
                <a:lnTo>
                  <a:pt x="148" y="1384"/>
                </a:lnTo>
                <a:lnTo>
                  <a:pt x="138" y="138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0" name="Freeform 90"/>
          <p:cNvSpPr/>
          <p:nvPr/>
        </p:nvSpPr>
        <p:spPr>
          <a:xfrm>
            <a:off x="7197840" y="4308480"/>
            <a:ext cx="415800" cy="558720"/>
          </a:xfrm>
          <a:custGeom>
            <a:avLst/>
            <a:gdLst/>
            <a:ahLst/>
            <a:rect l="l" t="t" r="r" b="b"/>
            <a:pathLst>
              <a:path w="524" h="704">
                <a:moveTo>
                  <a:pt x="505" y="620"/>
                </a:moveTo>
                <a:lnTo>
                  <a:pt x="501" y="629"/>
                </a:lnTo>
                <a:lnTo>
                  <a:pt x="496" y="639"/>
                </a:lnTo>
                <a:lnTo>
                  <a:pt x="492" y="649"/>
                </a:lnTo>
                <a:lnTo>
                  <a:pt x="488" y="656"/>
                </a:lnTo>
                <a:lnTo>
                  <a:pt x="484" y="664"/>
                </a:lnTo>
                <a:lnTo>
                  <a:pt x="480" y="670"/>
                </a:lnTo>
                <a:lnTo>
                  <a:pt x="476" y="677"/>
                </a:lnTo>
                <a:lnTo>
                  <a:pt x="474" y="683"/>
                </a:lnTo>
                <a:lnTo>
                  <a:pt x="471" y="687"/>
                </a:lnTo>
                <a:lnTo>
                  <a:pt x="469" y="691"/>
                </a:lnTo>
                <a:lnTo>
                  <a:pt x="465" y="695"/>
                </a:lnTo>
                <a:lnTo>
                  <a:pt x="463" y="698"/>
                </a:lnTo>
                <a:lnTo>
                  <a:pt x="459" y="700"/>
                </a:lnTo>
                <a:lnTo>
                  <a:pt x="457" y="702"/>
                </a:lnTo>
                <a:lnTo>
                  <a:pt x="455" y="702"/>
                </a:lnTo>
                <a:lnTo>
                  <a:pt x="451" y="704"/>
                </a:lnTo>
                <a:lnTo>
                  <a:pt x="446" y="702"/>
                </a:lnTo>
                <a:lnTo>
                  <a:pt x="440" y="700"/>
                </a:lnTo>
                <a:lnTo>
                  <a:pt x="430" y="696"/>
                </a:lnTo>
                <a:lnTo>
                  <a:pt x="426" y="695"/>
                </a:lnTo>
                <a:lnTo>
                  <a:pt x="423" y="691"/>
                </a:lnTo>
                <a:lnTo>
                  <a:pt x="417" y="687"/>
                </a:lnTo>
                <a:lnTo>
                  <a:pt x="411" y="683"/>
                </a:lnTo>
                <a:lnTo>
                  <a:pt x="405" y="679"/>
                </a:lnTo>
                <a:lnTo>
                  <a:pt x="400" y="673"/>
                </a:lnTo>
                <a:lnTo>
                  <a:pt x="394" y="668"/>
                </a:lnTo>
                <a:lnTo>
                  <a:pt x="386" y="662"/>
                </a:lnTo>
                <a:lnTo>
                  <a:pt x="380" y="654"/>
                </a:lnTo>
                <a:lnTo>
                  <a:pt x="373" y="647"/>
                </a:lnTo>
                <a:lnTo>
                  <a:pt x="365" y="639"/>
                </a:lnTo>
                <a:lnTo>
                  <a:pt x="355" y="629"/>
                </a:lnTo>
                <a:lnTo>
                  <a:pt x="346" y="618"/>
                </a:lnTo>
                <a:lnTo>
                  <a:pt x="336" y="604"/>
                </a:lnTo>
                <a:lnTo>
                  <a:pt x="327" y="591"/>
                </a:lnTo>
                <a:lnTo>
                  <a:pt x="315" y="576"/>
                </a:lnTo>
                <a:lnTo>
                  <a:pt x="304" y="558"/>
                </a:lnTo>
                <a:lnTo>
                  <a:pt x="290" y="539"/>
                </a:lnTo>
                <a:lnTo>
                  <a:pt x="277" y="518"/>
                </a:lnTo>
                <a:lnTo>
                  <a:pt x="261" y="497"/>
                </a:lnTo>
                <a:lnTo>
                  <a:pt x="246" y="472"/>
                </a:lnTo>
                <a:lnTo>
                  <a:pt x="231" y="447"/>
                </a:lnTo>
                <a:lnTo>
                  <a:pt x="213" y="420"/>
                </a:lnTo>
                <a:lnTo>
                  <a:pt x="206" y="405"/>
                </a:lnTo>
                <a:lnTo>
                  <a:pt x="196" y="391"/>
                </a:lnTo>
                <a:lnTo>
                  <a:pt x="188" y="376"/>
                </a:lnTo>
                <a:lnTo>
                  <a:pt x="179" y="359"/>
                </a:lnTo>
                <a:lnTo>
                  <a:pt x="169" y="343"/>
                </a:lnTo>
                <a:lnTo>
                  <a:pt x="160" y="326"/>
                </a:lnTo>
                <a:lnTo>
                  <a:pt x="150" y="309"/>
                </a:lnTo>
                <a:lnTo>
                  <a:pt x="140" y="293"/>
                </a:lnTo>
                <a:lnTo>
                  <a:pt x="131" y="276"/>
                </a:lnTo>
                <a:lnTo>
                  <a:pt x="121" y="261"/>
                </a:lnTo>
                <a:lnTo>
                  <a:pt x="114" y="247"/>
                </a:lnTo>
                <a:lnTo>
                  <a:pt x="106" y="232"/>
                </a:lnTo>
                <a:lnTo>
                  <a:pt x="98" y="219"/>
                </a:lnTo>
                <a:lnTo>
                  <a:pt x="91" y="205"/>
                </a:lnTo>
                <a:lnTo>
                  <a:pt x="75" y="180"/>
                </a:lnTo>
                <a:lnTo>
                  <a:pt x="62" y="155"/>
                </a:lnTo>
                <a:lnTo>
                  <a:pt x="50" y="134"/>
                </a:lnTo>
                <a:lnTo>
                  <a:pt x="41" y="115"/>
                </a:lnTo>
                <a:lnTo>
                  <a:pt x="31" y="96"/>
                </a:lnTo>
                <a:lnTo>
                  <a:pt x="21" y="80"/>
                </a:lnTo>
                <a:lnTo>
                  <a:pt x="16" y="65"/>
                </a:lnTo>
                <a:lnTo>
                  <a:pt x="10" y="53"/>
                </a:lnTo>
                <a:lnTo>
                  <a:pt x="6" y="42"/>
                </a:lnTo>
                <a:lnTo>
                  <a:pt x="2" y="32"/>
                </a:lnTo>
                <a:lnTo>
                  <a:pt x="0" y="25"/>
                </a:lnTo>
                <a:lnTo>
                  <a:pt x="0" y="19"/>
                </a:lnTo>
                <a:lnTo>
                  <a:pt x="0" y="17"/>
                </a:lnTo>
                <a:lnTo>
                  <a:pt x="0" y="13"/>
                </a:lnTo>
                <a:lnTo>
                  <a:pt x="2" y="11"/>
                </a:lnTo>
                <a:lnTo>
                  <a:pt x="4" y="9"/>
                </a:lnTo>
                <a:lnTo>
                  <a:pt x="8" y="7"/>
                </a:lnTo>
                <a:lnTo>
                  <a:pt x="10" y="5"/>
                </a:lnTo>
                <a:lnTo>
                  <a:pt x="14" y="4"/>
                </a:lnTo>
                <a:lnTo>
                  <a:pt x="20" y="2"/>
                </a:lnTo>
                <a:lnTo>
                  <a:pt x="25" y="0"/>
                </a:lnTo>
                <a:lnTo>
                  <a:pt x="31" y="0"/>
                </a:lnTo>
                <a:lnTo>
                  <a:pt x="37" y="0"/>
                </a:lnTo>
                <a:lnTo>
                  <a:pt x="44" y="0"/>
                </a:lnTo>
                <a:lnTo>
                  <a:pt x="52" y="0"/>
                </a:lnTo>
                <a:lnTo>
                  <a:pt x="60" y="2"/>
                </a:lnTo>
                <a:lnTo>
                  <a:pt x="69" y="4"/>
                </a:lnTo>
                <a:lnTo>
                  <a:pt x="79" y="5"/>
                </a:lnTo>
                <a:lnTo>
                  <a:pt x="87" y="7"/>
                </a:lnTo>
                <a:lnTo>
                  <a:pt x="96" y="13"/>
                </a:lnTo>
                <a:lnTo>
                  <a:pt x="106" y="17"/>
                </a:lnTo>
                <a:lnTo>
                  <a:pt x="115" y="23"/>
                </a:lnTo>
                <a:lnTo>
                  <a:pt x="129" y="30"/>
                </a:lnTo>
                <a:lnTo>
                  <a:pt x="140" y="38"/>
                </a:lnTo>
                <a:lnTo>
                  <a:pt x="154" y="46"/>
                </a:lnTo>
                <a:lnTo>
                  <a:pt x="167" y="55"/>
                </a:lnTo>
                <a:lnTo>
                  <a:pt x="183" y="65"/>
                </a:lnTo>
                <a:lnTo>
                  <a:pt x="198" y="77"/>
                </a:lnTo>
                <a:lnTo>
                  <a:pt x="213" y="88"/>
                </a:lnTo>
                <a:lnTo>
                  <a:pt x="231" y="101"/>
                </a:lnTo>
                <a:lnTo>
                  <a:pt x="248" y="115"/>
                </a:lnTo>
                <a:lnTo>
                  <a:pt x="267" y="128"/>
                </a:lnTo>
                <a:lnTo>
                  <a:pt x="286" y="144"/>
                </a:lnTo>
                <a:lnTo>
                  <a:pt x="306" y="159"/>
                </a:lnTo>
                <a:lnTo>
                  <a:pt x="325" y="174"/>
                </a:lnTo>
                <a:lnTo>
                  <a:pt x="344" y="190"/>
                </a:lnTo>
                <a:lnTo>
                  <a:pt x="361" y="205"/>
                </a:lnTo>
                <a:lnTo>
                  <a:pt x="378" y="222"/>
                </a:lnTo>
                <a:lnTo>
                  <a:pt x="394" y="238"/>
                </a:lnTo>
                <a:lnTo>
                  <a:pt x="409" y="253"/>
                </a:lnTo>
                <a:lnTo>
                  <a:pt x="423" y="268"/>
                </a:lnTo>
                <a:lnTo>
                  <a:pt x="436" y="284"/>
                </a:lnTo>
                <a:lnTo>
                  <a:pt x="448" y="297"/>
                </a:lnTo>
                <a:lnTo>
                  <a:pt x="459" y="313"/>
                </a:lnTo>
                <a:lnTo>
                  <a:pt x="469" y="328"/>
                </a:lnTo>
                <a:lnTo>
                  <a:pt x="478" y="341"/>
                </a:lnTo>
                <a:lnTo>
                  <a:pt x="486" y="355"/>
                </a:lnTo>
                <a:lnTo>
                  <a:pt x="494" y="370"/>
                </a:lnTo>
                <a:lnTo>
                  <a:pt x="499" y="384"/>
                </a:lnTo>
                <a:lnTo>
                  <a:pt x="505" y="397"/>
                </a:lnTo>
                <a:lnTo>
                  <a:pt x="509" y="412"/>
                </a:lnTo>
                <a:lnTo>
                  <a:pt x="515" y="428"/>
                </a:lnTo>
                <a:lnTo>
                  <a:pt x="517" y="441"/>
                </a:lnTo>
                <a:lnTo>
                  <a:pt x="520" y="457"/>
                </a:lnTo>
                <a:lnTo>
                  <a:pt x="522" y="470"/>
                </a:lnTo>
                <a:lnTo>
                  <a:pt x="524" y="485"/>
                </a:lnTo>
                <a:lnTo>
                  <a:pt x="524" y="499"/>
                </a:lnTo>
                <a:lnTo>
                  <a:pt x="524" y="512"/>
                </a:lnTo>
                <a:lnTo>
                  <a:pt x="524" y="526"/>
                </a:lnTo>
                <a:lnTo>
                  <a:pt x="524" y="539"/>
                </a:lnTo>
                <a:lnTo>
                  <a:pt x="522" y="553"/>
                </a:lnTo>
                <a:lnTo>
                  <a:pt x="520" y="566"/>
                </a:lnTo>
                <a:lnTo>
                  <a:pt x="517" y="579"/>
                </a:lnTo>
                <a:lnTo>
                  <a:pt x="515" y="593"/>
                </a:lnTo>
                <a:lnTo>
                  <a:pt x="509" y="606"/>
                </a:lnTo>
                <a:lnTo>
                  <a:pt x="505" y="6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1" name="Freeform 91"/>
          <p:cNvSpPr/>
          <p:nvPr/>
        </p:nvSpPr>
        <p:spPr>
          <a:xfrm>
            <a:off x="6415200" y="3449520"/>
            <a:ext cx="664920" cy="757440"/>
          </a:xfrm>
          <a:custGeom>
            <a:avLst/>
            <a:gdLst/>
            <a:ahLst/>
            <a:rect l="l" t="t" r="r" b="b"/>
            <a:pathLst>
              <a:path w="839" h="954">
                <a:moveTo>
                  <a:pt x="746" y="167"/>
                </a:moveTo>
                <a:lnTo>
                  <a:pt x="748" y="175"/>
                </a:lnTo>
                <a:lnTo>
                  <a:pt x="748" y="184"/>
                </a:lnTo>
                <a:lnTo>
                  <a:pt x="748" y="192"/>
                </a:lnTo>
                <a:lnTo>
                  <a:pt x="746" y="202"/>
                </a:lnTo>
                <a:lnTo>
                  <a:pt x="743" y="211"/>
                </a:lnTo>
                <a:lnTo>
                  <a:pt x="739" y="221"/>
                </a:lnTo>
                <a:lnTo>
                  <a:pt x="735" y="232"/>
                </a:lnTo>
                <a:lnTo>
                  <a:pt x="729" y="244"/>
                </a:lnTo>
                <a:lnTo>
                  <a:pt x="721" y="255"/>
                </a:lnTo>
                <a:lnTo>
                  <a:pt x="714" y="269"/>
                </a:lnTo>
                <a:lnTo>
                  <a:pt x="706" y="282"/>
                </a:lnTo>
                <a:lnTo>
                  <a:pt x="696" y="296"/>
                </a:lnTo>
                <a:lnTo>
                  <a:pt x="687" y="311"/>
                </a:lnTo>
                <a:lnTo>
                  <a:pt x="675" y="328"/>
                </a:lnTo>
                <a:lnTo>
                  <a:pt x="664" y="344"/>
                </a:lnTo>
                <a:lnTo>
                  <a:pt x="652" y="363"/>
                </a:lnTo>
                <a:lnTo>
                  <a:pt x="637" y="380"/>
                </a:lnTo>
                <a:lnTo>
                  <a:pt x="624" y="398"/>
                </a:lnTo>
                <a:lnTo>
                  <a:pt x="608" y="415"/>
                </a:lnTo>
                <a:lnTo>
                  <a:pt x="593" y="432"/>
                </a:lnTo>
                <a:lnTo>
                  <a:pt x="577" y="447"/>
                </a:lnTo>
                <a:lnTo>
                  <a:pt x="564" y="463"/>
                </a:lnTo>
                <a:lnTo>
                  <a:pt x="535" y="492"/>
                </a:lnTo>
                <a:lnTo>
                  <a:pt x="506" y="520"/>
                </a:lnTo>
                <a:lnTo>
                  <a:pt x="478" y="547"/>
                </a:lnTo>
                <a:lnTo>
                  <a:pt x="451" y="574"/>
                </a:lnTo>
                <a:lnTo>
                  <a:pt x="426" y="599"/>
                </a:lnTo>
                <a:lnTo>
                  <a:pt x="412" y="612"/>
                </a:lnTo>
                <a:lnTo>
                  <a:pt x="399" y="624"/>
                </a:lnTo>
                <a:lnTo>
                  <a:pt x="387" y="636"/>
                </a:lnTo>
                <a:lnTo>
                  <a:pt x="376" y="647"/>
                </a:lnTo>
                <a:lnTo>
                  <a:pt x="366" y="657"/>
                </a:lnTo>
                <a:lnTo>
                  <a:pt x="359" y="666"/>
                </a:lnTo>
                <a:lnTo>
                  <a:pt x="353" y="676"/>
                </a:lnTo>
                <a:lnTo>
                  <a:pt x="347" y="684"/>
                </a:lnTo>
                <a:lnTo>
                  <a:pt x="341" y="691"/>
                </a:lnTo>
                <a:lnTo>
                  <a:pt x="339" y="697"/>
                </a:lnTo>
                <a:lnTo>
                  <a:pt x="338" y="705"/>
                </a:lnTo>
                <a:lnTo>
                  <a:pt x="336" y="710"/>
                </a:lnTo>
                <a:lnTo>
                  <a:pt x="338" y="714"/>
                </a:lnTo>
                <a:lnTo>
                  <a:pt x="339" y="718"/>
                </a:lnTo>
                <a:lnTo>
                  <a:pt x="341" y="722"/>
                </a:lnTo>
                <a:lnTo>
                  <a:pt x="347" y="726"/>
                </a:lnTo>
                <a:lnTo>
                  <a:pt x="349" y="726"/>
                </a:lnTo>
                <a:lnTo>
                  <a:pt x="353" y="728"/>
                </a:lnTo>
                <a:lnTo>
                  <a:pt x="357" y="730"/>
                </a:lnTo>
                <a:lnTo>
                  <a:pt x="363" y="730"/>
                </a:lnTo>
                <a:lnTo>
                  <a:pt x="368" y="731"/>
                </a:lnTo>
                <a:lnTo>
                  <a:pt x="376" y="731"/>
                </a:lnTo>
                <a:lnTo>
                  <a:pt x="384" y="733"/>
                </a:lnTo>
                <a:lnTo>
                  <a:pt x="391" y="733"/>
                </a:lnTo>
                <a:lnTo>
                  <a:pt x="401" y="733"/>
                </a:lnTo>
                <a:lnTo>
                  <a:pt x="410" y="735"/>
                </a:lnTo>
                <a:lnTo>
                  <a:pt x="422" y="735"/>
                </a:lnTo>
                <a:lnTo>
                  <a:pt x="434" y="735"/>
                </a:lnTo>
                <a:lnTo>
                  <a:pt x="445" y="735"/>
                </a:lnTo>
                <a:lnTo>
                  <a:pt x="458" y="735"/>
                </a:lnTo>
                <a:lnTo>
                  <a:pt x="472" y="735"/>
                </a:lnTo>
                <a:lnTo>
                  <a:pt x="487" y="735"/>
                </a:lnTo>
                <a:lnTo>
                  <a:pt x="503" y="735"/>
                </a:lnTo>
                <a:lnTo>
                  <a:pt x="520" y="735"/>
                </a:lnTo>
                <a:lnTo>
                  <a:pt x="537" y="735"/>
                </a:lnTo>
                <a:lnTo>
                  <a:pt x="554" y="735"/>
                </a:lnTo>
                <a:lnTo>
                  <a:pt x="574" y="735"/>
                </a:lnTo>
                <a:lnTo>
                  <a:pt x="595" y="735"/>
                </a:lnTo>
                <a:lnTo>
                  <a:pt x="614" y="733"/>
                </a:lnTo>
                <a:lnTo>
                  <a:pt x="637" y="733"/>
                </a:lnTo>
                <a:lnTo>
                  <a:pt x="658" y="733"/>
                </a:lnTo>
                <a:lnTo>
                  <a:pt x="681" y="731"/>
                </a:lnTo>
                <a:lnTo>
                  <a:pt x="706" y="731"/>
                </a:lnTo>
                <a:lnTo>
                  <a:pt x="731" y="730"/>
                </a:lnTo>
                <a:lnTo>
                  <a:pt x="756" y="730"/>
                </a:lnTo>
                <a:lnTo>
                  <a:pt x="783" y="728"/>
                </a:lnTo>
                <a:lnTo>
                  <a:pt x="812" y="726"/>
                </a:lnTo>
                <a:lnTo>
                  <a:pt x="839" y="726"/>
                </a:lnTo>
                <a:lnTo>
                  <a:pt x="839" y="824"/>
                </a:lnTo>
                <a:lnTo>
                  <a:pt x="792" y="826"/>
                </a:lnTo>
                <a:lnTo>
                  <a:pt x="746" y="829"/>
                </a:lnTo>
                <a:lnTo>
                  <a:pt x="704" y="833"/>
                </a:lnTo>
                <a:lnTo>
                  <a:pt x="662" y="835"/>
                </a:lnTo>
                <a:lnTo>
                  <a:pt x="622" y="841"/>
                </a:lnTo>
                <a:lnTo>
                  <a:pt x="581" y="845"/>
                </a:lnTo>
                <a:lnTo>
                  <a:pt x="545" y="849"/>
                </a:lnTo>
                <a:lnTo>
                  <a:pt x="508" y="854"/>
                </a:lnTo>
                <a:lnTo>
                  <a:pt x="476" y="860"/>
                </a:lnTo>
                <a:lnTo>
                  <a:pt x="443" y="866"/>
                </a:lnTo>
                <a:lnTo>
                  <a:pt x="410" y="872"/>
                </a:lnTo>
                <a:lnTo>
                  <a:pt x="382" y="877"/>
                </a:lnTo>
                <a:lnTo>
                  <a:pt x="353" y="885"/>
                </a:lnTo>
                <a:lnTo>
                  <a:pt x="328" y="891"/>
                </a:lnTo>
                <a:lnTo>
                  <a:pt x="303" y="898"/>
                </a:lnTo>
                <a:lnTo>
                  <a:pt x="280" y="906"/>
                </a:lnTo>
                <a:lnTo>
                  <a:pt x="257" y="914"/>
                </a:lnTo>
                <a:lnTo>
                  <a:pt x="236" y="922"/>
                </a:lnTo>
                <a:lnTo>
                  <a:pt x="217" y="927"/>
                </a:lnTo>
                <a:lnTo>
                  <a:pt x="197" y="933"/>
                </a:lnTo>
                <a:lnTo>
                  <a:pt x="180" y="939"/>
                </a:lnTo>
                <a:lnTo>
                  <a:pt x="163" y="943"/>
                </a:lnTo>
                <a:lnTo>
                  <a:pt x="148" y="946"/>
                </a:lnTo>
                <a:lnTo>
                  <a:pt x="134" y="948"/>
                </a:lnTo>
                <a:lnTo>
                  <a:pt x="121" y="950"/>
                </a:lnTo>
                <a:lnTo>
                  <a:pt x="109" y="952"/>
                </a:lnTo>
                <a:lnTo>
                  <a:pt x="98" y="954"/>
                </a:lnTo>
                <a:lnTo>
                  <a:pt x="88" y="954"/>
                </a:lnTo>
                <a:lnTo>
                  <a:pt x="80" y="954"/>
                </a:lnTo>
                <a:lnTo>
                  <a:pt x="75" y="952"/>
                </a:lnTo>
                <a:lnTo>
                  <a:pt x="69" y="950"/>
                </a:lnTo>
                <a:lnTo>
                  <a:pt x="67" y="948"/>
                </a:lnTo>
                <a:lnTo>
                  <a:pt x="63" y="948"/>
                </a:lnTo>
                <a:lnTo>
                  <a:pt x="61" y="946"/>
                </a:lnTo>
                <a:lnTo>
                  <a:pt x="59" y="946"/>
                </a:lnTo>
                <a:lnTo>
                  <a:pt x="57" y="943"/>
                </a:lnTo>
                <a:lnTo>
                  <a:pt x="53" y="941"/>
                </a:lnTo>
                <a:lnTo>
                  <a:pt x="52" y="937"/>
                </a:lnTo>
                <a:lnTo>
                  <a:pt x="50" y="933"/>
                </a:lnTo>
                <a:lnTo>
                  <a:pt x="46" y="929"/>
                </a:lnTo>
                <a:lnTo>
                  <a:pt x="44" y="925"/>
                </a:lnTo>
                <a:lnTo>
                  <a:pt x="42" y="920"/>
                </a:lnTo>
                <a:lnTo>
                  <a:pt x="36" y="908"/>
                </a:lnTo>
                <a:lnTo>
                  <a:pt x="32" y="895"/>
                </a:lnTo>
                <a:lnTo>
                  <a:pt x="27" y="879"/>
                </a:lnTo>
                <a:lnTo>
                  <a:pt x="21" y="864"/>
                </a:lnTo>
                <a:lnTo>
                  <a:pt x="17" y="850"/>
                </a:lnTo>
                <a:lnTo>
                  <a:pt x="13" y="837"/>
                </a:lnTo>
                <a:lnTo>
                  <a:pt x="9" y="826"/>
                </a:lnTo>
                <a:lnTo>
                  <a:pt x="5" y="814"/>
                </a:lnTo>
                <a:lnTo>
                  <a:pt x="2" y="803"/>
                </a:lnTo>
                <a:lnTo>
                  <a:pt x="2" y="791"/>
                </a:lnTo>
                <a:lnTo>
                  <a:pt x="0" y="781"/>
                </a:lnTo>
                <a:lnTo>
                  <a:pt x="0" y="776"/>
                </a:lnTo>
                <a:lnTo>
                  <a:pt x="2" y="772"/>
                </a:lnTo>
                <a:lnTo>
                  <a:pt x="4" y="766"/>
                </a:lnTo>
                <a:lnTo>
                  <a:pt x="5" y="762"/>
                </a:lnTo>
                <a:lnTo>
                  <a:pt x="7" y="758"/>
                </a:lnTo>
                <a:lnTo>
                  <a:pt x="11" y="755"/>
                </a:lnTo>
                <a:lnTo>
                  <a:pt x="15" y="751"/>
                </a:lnTo>
                <a:lnTo>
                  <a:pt x="21" y="749"/>
                </a:lnTo>
                <a:lnTo>
                  <a:pt x="25" y="745"/>
                </a:lnTo>
                <a:lnTo>
                  <a:pt x="30" y="741"/>
                </a:lnTo>
                <a:lnTo>
                  <a:pt x="38" y="739"/>
                </a:lnTo>
                <a:lnTo>
                  <a:pt x="46" y="735"/>
                </a:lnTo>
                <a:lnTo>
                  <a:pt x="53" y="733"/>
                </a:lnTo>
                <a:lnTo>
                  <a:pt x="61" y="731"/>
                </a:lnTo>
                <a:lnTo>
                  <a:pt x="71" y="728"/>
                </a:lnTo>
                <a:lnTo>
                  <a:pt x="80" y="726"/>
                </a:lnTo>
                <a:lnTo>
                  <a:pt x="90" y="722"/>
                </a:lnTo>
                <a:lnTo>
                  <a:pt x="101" y="718"/>
                </a:lnTo>
                <a:lnTo>
                  <a:pt x="111" y="714"/>
                </a:lnTo>
                <a:lnTo>
                  <a:pt x="123" y="708"/>
                </a:lnTo>
                <a:lnTo>
                  <a:pt x="134" y="703"/>
                </a:lnTo>
                <a:lnTo>
                  <a:pt x="146" y="697"/>
                </a:lnTo>
                <a:lnTo>
                  <a:pt x="157" y="689"/>
                </a:lnTo>
                <a:lnTo>
                  <a:pt x="169" y="682"/>
                </a:lnTo>
                <a:lnTo>
                  <a:pt x="180" y="672"/>
                </a:lnTo>
                <a:lnTo>
                  <a:pt x="192" y="662"/>
                </a:lnTo>
                <a:lnTo>
                  <a:pt x="205" y="653"/>
                </a:lnTo>
                <a:lnTo>
                  <a:pt x="217" y="641"/>
                </a:lnTo>
                <a:lnTo>
                  <a:pt x="228" y="628"/>
                </a:lnTo>
                <a:lnTo>
                  <a:pt x="242" y="614"/>
                </a:lnTo>
                <a:lnTo>
                  <a:pt x="253" y="601"/>
                </a:lnTo>
                <a:lnTo>
                  <a:pt x="267" y="586"/>
                </a:lnTo>
                <a:lnTo>
                  <a:pt x="291" y="553"/>
                </a:lnTo>
                <a:lnTo>
                  <a:pt x="316" y="520"/>
                </a:lnTo>
                <a:lnTo>
                  <a:pt x="341" y="486"/>
                </a:lnTo>
                <a:lnTo>
                  <a:pt x="366" y="449"/>
                </a:lnTo>
                <a:lnTo>
                  <a:pt x="391" y="413"/>
                </a:lnTo>
                <a:lnTo>
                  <a:pt x="416" y="374"/>
                </a:lnTo>
                <a:lnTo>
                  <a:pt x="441" y="334"/>
                </a:lnTo>
                <a:lnTo>
                  <a:pt x="466" y="292"/>
                </a:lnTo>
                <a:lnTo>
                  <a:pt x="476" y="275"/>
                </a:lnTo>
                <a:lnTo>
                  <a:pt x="485" y="255"/>
                </a:lnTo>
                <a:lnTo>
                  <a:pt x="493" y="238"/>
                </a:lnTo>
                <a:lnTo>
                  <a:pt x="501" y="219"/>
                </a:lnTo>
                <a:lnTo>
                  <a:pt x="508" y="202"/>
                </a:lnTo>
                <a:lnTo>
                  <a:pt x="516" y="183"/>
                </a:lnTo>
                <a:lnTo>
                  <a:pt x="522" y="163"/>
                </a:lnTo>
                <a:lnTo>
                  <a:pt x="528" y="146"/>
                </a:lnTo>
                <a:lnTo>
                  <a:pt x="537" y="110"/>
                </a:lnTo>
                <a:lnTo>
                  <a:pt x="547" y="73"/>
                </a:lnTo>
                <a:lnTo>
                  <a:pt x="554" y="37"/>
                </a:lnTo>
                <a:lnTo>
                  <a:pt x="560" y="0"/>
                </a:lnTo>
                <a:lnTo>
                  <a:pt x="581" y="14"/>
                </a:lnTo>
                <a:lnTo>
                  <a:pt x="601" y="25"/>
                </a:lnTo>
                <a:lnTo>
                  <a:pt x="620" y="39"/>
                </a:lnTo>
                <a:lnTo>
                  <a:pt x="637" y="50"/>
                </a:lnTo>
                <a:lnTo>
                  <a:pt x="652" y="62"/>
                </a:lnTo>
                <a:lnTo>
                  <a:pt x="668" y="73"/>
                </a:lnTo>
                <a:lnTo>
                  <a:pt x="681" y="83"/>
                </a:lnTo>
                <a:lnTo>
                  <a:pt x="693" y="94"/>
                </a:lnTo>
                <a:lnTo>
                  <a:pt x="702" y="104"/>
                </a:lnTo>
                <a:lnTo>
                  <a:pt x="712" y="113"/>
                </a:lnTo>
                <a:lnTo>
                  <a:pt x="721" y="123"/>
                </a:lnTo>
                <a:lnTo>
                  <a:pt x="727" y="133"/>
                </a:lnTo>
                <a:lnTo>
                  <a:pt x="733" y="142"/>
                </a:lnTo>
                <a:lnTo>
                  <a:pt x="739" y="150"/>
                </a:lnTo>
                <a:lnTo>
                  <a:pt x="743" y="160"/>
                </a:lnTo>
                <a:lnTo>
                  <a:pt x="746" y="1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Freeform 92"/>
          <p:cNvSpPr/>
          <p:nvPr/>
        </p:nvSpPr>
        <p:spPr>
          <a:xfrm>
            <a:off x="6330960" y="3246480"/>
            <a:ext cx="1450800" cy="290520"/>
          </a:xfrm>
          <a:custGeom>
            <a:avLst/>
            <a:gdLst/>
            <a:ahLst/>
            <a:rect l="l" t="t" r="r" b="b"/>
            <a:pathLst>
              <a:path w="1827" h="367">
                <a:moveTo>
                  <a:pt x="0" y="269"/>
                </a:moveTo>
                <a:lnTo>
                  <a:pt x="0" y="263"/>
                </a:lnTo>
                <a:lnTo>
                  <a:pt x="2" y="259"/>
                </a:lnTo>
                <a:lnTo>
                  <a:pt x="6" y="253"/>
                </a:lnTo>
                <a:lnTo>
                  <a:pt x="12" y="249"/>
                </a:lnTo>
                <a:lnTo>
                  <a:pt x="16" y="248"/>
                </a:lnTo>
                <a:lnTo>
                  <a:pt x="19" y="246"/>
                </a:lnTo>
                <a:lnTo>
                  <a:pt x="23" y="244"/>
                </a:lnTo>
                <a:lnTo>
                  <a:pt x="27" y="244"/>
                </a:lnTo>
                <a:lnTo>
                  <a:pt x="33" y="242"/>
                </a:lnTo>
                <a:lnTo>
                  <a:pt x="39" y="242"/>
                </a:lnTo>
                <a:lnTo>
                  <a:pt x="46" y="240"/>
                </a:lnTo>
                <a:lnTo>
                  <a:pt x="54" y="240"/>
                </a:lnTo>
                <a:lnTo>
                  <a:pt x="62" y="240"/>
                </a:lnTo>
                <a:lnTo>
                  <a:pt x="71" y="240"/>
                </a:lnTo>
                <a:lnTo>
                  <a:pt x="83" y="240"/>
                </a:lnTo>
                <a:lnTo>
                  <a:pt x="96" y="238"/>
                </a:lnTo>
                <a:lnTo>
                  <a:pt x="110" y="236"/>
                </a:lnTo>
                <a:lnTo>
                  <a:pt x="127" y="234"/>
                </a:lnTo>
                <a:lnTo>
                  <a:pt x="144" y="232"/>
                </a:lnTo>
                <a:lnTo>
                  <a:pt x="163" y="230"/>
                </a:lnTo>
                <a:lnTo>
                  <a:pt x="183" y="226"/>
                </a:lnTo>
                <a:lnTo>
                  <a:pt x="206" y="224"/>
                </a:lnTo>
                <a:lnTo>
                  <a:pt x="230" y="221"/>
                </a:lnTo>
                <a:lnTo>
                  <a:pt x="255" y="217"/>
                </a:lnTo>
                <a:lnTo>
                  <a:pt x="282" y="213"/>
                </a:lnTo>
                <a:lnTo>
                  <a:pt x="311" y="209"/>
                </a:lnTo>
                <a:lnTo>
                  <a:pt x="340" y="203"/>
                </a:lnTo>
                <a:lnTo>
                  <a:pt x="373" y="200"/>
                </a:lnTo>
                <a:lnTo>
                  <a:pt x="405" y="196"/>
                </a:lnTo>
                <a:lnTo>
                  <a:pt x="440" y="192"/>
                </a:lnTo>
                <a:lnTo>
                  <a:pt x="476" y="188"/>
                </a:lnTo>
                <a:lnTo>
                  <a:pt x="515" y="182"/>
                </a:lnTo>
                <a:lnTo>
                  <a:pt x="555" y="178"/>
                </a:lnTo>
                <a:lnTo>
                  <a:pt x="595" y="171"/>
                </a:lnTo>
                <a:lnTo>
                  <a:pt x="637" y="165"/>
                </a:lnTo>
                <a:lnTo>
                  <a:pt x="682" y="157"/>
                </a:lnTo>
                <a:lnTo>
                  <a:pt x="728" y="150"/>
                </a:lnTo>
                <a:lnTo>
                  <a:pt x="776" y="140"/>
                </a:lnTo>
                <a:lnTo>
                  <a:pt x="824" y="130"/>
                </a:lnTo>
                <a:lnTo>
                  <a:pt x="873" y="121"/>
                </a:lnTo>
                <a:lnTo>
                  <a:pt x="925" y="109"/>
                </a:lnTo>
                <a:lnTo>
                  <a:pt x="979" y="98"/>
                </a:lnTo>
                <a:lnTo>
                  <a:pt x="1035" y="86"/>
                </a:lnTo>
                <a:lnTo>
                  <a:pt x="1092" y="73"/>
                </a:lnTo>
                <a:lnTo>
                  <a:pt x="1119" y="67"/>
                </a:lnTo>
                <a:lnTo>
                  <a:pt x="1144" y="63"/>
                </a:lnTo>
                <a:lnTo>
                  <a:pt x="1171" y="57"/>
                </a:lnTo>
                <a:lnTo>
                  <a:pt x="1196" y="54"/>
                </a:lnTo>
                <a:lnTo>
                  <a:pt x="1219" y="48"/>
                </a:lnTo>
                <a:lnTo>
                  <a:pt x="1244" y="44"/>
                </a:lnTo>
                <a:lnTo>
                  <a:pt x="1267" y="40"/>
                </a:lnTo>
                <a:lnTo>
                  <a:pt x="1288" y="36"/>
                </a:lnTo>
                <a:lnTo>
                  <a:pt x="1311" y="33"/>
                </a:lnTo>
                <a:lnTo>
                  <a:pt x="1330" y="29"/>
                </a:lnTo>
                <a:lnTo>
                  <a:pt x="1351" y="25"/>
                </a:lnTo>
                <a:lnTo>
                  <a:pt x="1371" y="23"/>
                </a:lnTo>
                <a:lnTo>
                  <a:pt x="1390" y="19"/>
                </a:lnTo>
                <a:lnTo>
                  <a:pt x="1407" y="17"/>
                </a:lnTo>
                <a:lnTo>
                  <a:pt x="1426" y="13"/>
                </a:lnTo>
                <a:lnTo>
                  <a:pt x="1442" y="11"/>
                </a:lnTo>
                <a:lnTo>
                  <a:pt x="1459" y="10"/>
                </a:lnTo>
                <a:lnTo>
                  <a:pt x="1474" y="8"/>
                </a:lnTo>
                <a:lnTo>
                  <a:pt x="1490" y="6"/>
                </a:lnTo>
                <a:lnTo>
                  <a:pt x="1503" y="4"/>
                </a:lnTo>
                <a:lnTo>
                  <a:pt x="1517" y="2"/>
                </a:lnTo>
                <a:lnTo>
                  <a:pt x="1530" y="2"/>
                </a:lnTo>
                <a:lnTo>
                  <a:pt x="1541" y="0"/>
                </a:lnTo>
                <a:lnTo>
                  <a:pt x="1553" y="0"/>
                </a:lnTo>
                <a:lnTo>
                  <a:pt x="1564" y="0"/>
                </a:lnTo>
                <a:lnTo>
                  <a:pt x="1576" y="0"/>
                </a:lnTo>
                <a:lnTo>
                  <a:pt x="1586" y="0"/>
                </a:lnTo>
                <a:lnTo>
                  <a:pt x="1593" y="0"/>
                </a:lnTo>
                <a:lnTo>
                  <a:pt x="1603" y="0"/>
                </a:lnTo>
                <a:lnTo>
                  <a:pt x="1611" y="2"/>
                </a:lnTo>
                <a:lnTo>
                  <a:pt x="1618" y="2"/>
                </a:lnTo>
                <a:lnTo>
                  <a:pt x="1624" y="4"/>
                </a:lnTo>
                <a:lnTo>
                  <a:pt x="1643" y="10"/>
                </a:lnTo>
                <a:lnTo>
                  <a:pt x="1664" y="17"/>
                </a:lnTo>
                <a:lnTo>
                  <a:pt x="1683" y="25"/>
                </a:lnTo>
                <a:lnTo>
                  <a:pt x="1703" y="34"/>
                </a:lnTo>
                <a:lnTo>
                  <a:pt x="1720" y="46"/>
                </a:lnTo>
                <a:lnTo>
                  <a:pt x="1737" y="57"/>
                </a:lnTo>
                <a:lnTo>
                  <a:pt x="1755" y="73"/>
                </a:lnTo>
                <a:lnTo>
                  <a:pt x="1770" y="88"/>
                </a:lnTo>
                <a:lnTo>
                  <a:pt x="1785" y="102"/>
                </a:lnTo>
                <a:lnTo>
                  <a:pt x="1797" y="117"/>
                </a:lnTo>
                <a:lnTo>
                  <a:pt x="1802" y="123"/>
                </a:lnTo>
                <a:lnTo>
                  <a:pt x="1808" y="129"/>
                </a:lnTo>
                <a:lnTo>
                  <a:pt x="1812" y="134"/>
                </a:lnTo>
                <a:lnTo>
                  <a:pt x="1816" y="140"/>
                </a:lnTo>
                <a:lnTo>
                  <a:pt x="1820" y="144"/>
                </a:lnTo>
                <a:lnTo>
                  <a:pt x="1824" y="150"/>
                </a:lnTo>
                <a:lnTo>
                  <a:pt x="1826" y="153"/>
                </a:lnTo>
                <a:lnTo>
                  <a:pt x="1826" y="157"/>
                </a:lnTo>
                <a:lnTo>
                  <a:pt x="1827" y="161"/>
                </a:lnTo>
                <a:lnTo>
                  <a:pt x="1827" y="165"/>
                </a:lnTo>
                <a:lnTo>
                  <a:pt x="1826" y="169"/>
                </a:lnTo>
                <a:lnTo>
                  <a:pt x="1824" y="171"/>
                </a:lnTo>
                <a:lnTo>
                  <a:pt x="1822" y="176"/>
                </a:lnTo>
                <a:lnTo>
                  <a:pt x="1818" y="180"/>
                </a:lnTo>
                <a:lnTo>
                  <a:pt x="1814" y="184"/>
                </a:lnTo>
                <a:lnTo>
                  <a:pt x="1808" y="190"/>
                </a:lnTo>
                <a:lnTo>
                  <a:pt x="1802" y="192"/>
                </a:lnTo>
                <a:lnTo>
                  <a:pt x="1797" y="196"/>
                </a:lnTo>
                <a:lnTo>
                  <a:pt x="1789" y="200"/>
                </a:lnTo>
                <a:lnTo>
                  <a:pt x="1779" y="201"/>
                </a:lnTo>
                <a:lnTo>
                  <a:pt x="1772" y="205"/>
                </a:lnTo>
                <a:lnTo>
                  <a:pt x="1760" y="207"/>
                </a:lnTo>
                <a:lnTo>
                  <a:pt x="1751" y="209"/>
                </a:lnTo>
                <a:lnTo>
                  <a:pt x="1737" y="209"/>
                </a:lnTo>
                <a:lnTo>
                  <a:pt x="1724" y="211"/>
                </a:lnTo>
                <a:lnTo>
                  <a:pt x="1710" y="211"/>
                </a:lnTo>
                <a:lnTo>
                  <a:pt x="1695" y="213"/>
                </a:lnTo>
                <a:lnTo>
                  <a:pt x="1678" y="213"/>
                </a:lnTo>
                <a:lnTo>
                  <a:pt x="1668" y="213"/>
                </a:lnTo>
                <a:lnTo>
                  <a:pt x="1659" y="213"/>
                </a:lnTo>
                <a:lnTo>
                  <a:pt x="1647" y="213"/>
                </a:lnTo>
                <a:lnTo>
                  <a:pt x="1634" y="213"/>
                </a:lnTo>
                <a:lnTo>
                  <a:pt x="1620" y="215"/>
                </a:lnTo>
                <a:lnTo>
                  <a:pt x="1607" y="215"/>
                </a:lnTo>
                <a:lnTo>
                  <a:pt x="1591" y="217"/>
                </a:lnTo>
                <a:lnTo>
                  <a:pt x="1576" y="217"/>
                </a:lnTo>
                <a:lnTo>
                  <a:pt x="1559" y="219"/>
                </a:lnTo>
                <a:lnTo>
                  <a:pt x="1540" y="221"/>
                </a:lnTo>
                <a:lnTo>
                  <a:pt x="1520" y="223"/>
                </a:lnTo>
                <a:lnTo>
                  <a:pt x="1501" y="223"/>
                </a:lnTo>
                <a:lnTo>
                  <a:pt x="1480" y="224"/>
                </a:lnTo>
                <a:lnTo>
                  <a:pt x="1457" y="226"/>
                </a:lnTo>
                <a:lnTo>
                  <a:pt x="1434" y="230"/>
                </a:lnTo>
                <a:lnTo>
                  <a:pt x="1411" y="232"/>
                </a:lnTo>
                <a:lnTo>
                  <a:pt x="1386" y="234"/>
                </a:lnTo>
                <a:lnTo>
                  <a:pt x="1361" y="236"/>
                </a:lnTo>
                <a:lnTo>
                  <a:pt x="1334" y="240"/>
                </a:lnTo>
                <a:lnTo>
                  <a:pt x="1305" y="242"/>
                </a:lnTo>
                <a:lnTo>
                  <a:pt x="1277" y="244"/>
                </a:lnTo>
                <a:lnTo>
                  <a:pt x="1248" y="248"/>
                </a:lnTo>
                <a:lnTo>
                  <a:pt x="1217" y="251"/>
                </a:lnTo>
                <a:lnTo>
                  <a:pt x="1186" y="253"/>
                </a:lnTo>
                <a:lnTo>
                  <a:pt x="1154" y="257"/>
                </a:lnTo>
                <a:lnTo>
                  <a:pt x="1121" y="261"/>
                </a:lnTo>
                <a:lnTo>
                  <a:pt x="1087" y="263"/>
                </a:lnTo>
                <a:lnTo>
                  <a:pt x="1052" y="267"/>
                </a:lnTo>
                <a:lnTo>
                  <a:pt x="1017" y="271"/>
                </a:lnTo>
                <a:lnTo>
                  <a:pt x="981" y="274"/>
                </a:lnTo>
                <a:lnTo>
                  <a:pt x="943" y="278"/>
                </a:lnTo>
                <a:lnTo>
                  <a:pt x="904" y="282"/>
                </a:lnTo>
                <a:lnTo>
                  <a:pt x="866" y="288"/>
                </a:lnTo>
                <a:lnTo>
                  <a:pt x="829" y="294"/>
                </a:lnTo>
                <a:lnTo>
                  <a:pt x="793" y="297"/>
                </a:lnTo>
                <a:lnTo>
                  <a:pt x="758" y="303"/>
                </a:lnTo>
                <a:lnTo>
                  <a:pt x="726" y="307"/>
                </a:lnTo>
                <a:lnTo>
                  <a:pt x="693" y="311"/>
                </a:lnTo>
                <a:lnTo>
                  <a:pt x="660" y="315"/>
                </a:lnTo>
                <a:lnTo>
                  <a:pt x="630" y="320"/>
                </a:lnTo>
                <a:lnTo>
                  <a:pt x="601" y="324"/>
                </a:lnTo>
                <a:lnTo>
                  <a:pt x="572" y="326"/>
                </a:lnTo>
                <a:lnTo>
                  <a:pt x="545" y="330"/>
                </a:lnTo>
                <a:lnTo>
                  <a:pt x="518" y="334"/>
                </a:lnTo>
                <a:lnTo>
                  <a:pt x="493" y="338"/>
                </a:lnTo>
                <a:lnTo>
                  <a:pt x="470" y="340"/>
                </a:lnTo>
                <a:lnTo>
                  <a:pt x="447" y="343"/>
                </a:lnTo>
                <a:lnTo>
                  <a:pt x="426" y="345"/>
                </a:lnTo>
                <a:lnTo>
                  <a:pt x="405" y="347"/>
                </a:lnTo>
                <a:lnTo>
                  <a:pt x="386" y="351"/>
                </a:lnTo>
                <a:lnTo>
                  <a:pt x="367" y="353"/>
                </a:lnTo>
                <a:lnTo>
                  <a:pt x="349" y="355"/>
                </a:lnTo>
                <a:lnTo>
                  <a:pt x="332" y="357"/>
                </a:lnTo>
                <a:lnTo>
                  <a:pt x="319" y="359"/>
                </a:lnTo>
                <a:lnTo>
                  <a:pt x="303" y="359"/>
                </a:lnTo>
                <a:lnTo>
                  <a:pt x="290" y="361"/>
                </a:lnTo>
                <a:lnTo>
                  <a:pt x="278" y="363"/>
                </a:lnTo>
                <a:lnTo>
                  <a:pt x="267" y="363"/>
                </a:lnTo>
                <a:lnTo>
                  <a:pt x="257" y="365"/>
                </a:lnTo>
                <a:lnTo>
                  <a:pt x="250" y="365"/>
                </a:lnTo>
                <a:lnTo>
                  <a:pt x="242" y="365"/>
                </a:lnTo>
                <a:lnTo>
                  <a:pt x="236" y="367"/>
                </a:lnTo>
                <a:lnTo>
                  <a:pt x="230" y="367"/>
                </a:lnTo>
                <a:lnTo>
                  <a:pt x="227" y="367"/>
                </a:lnTo>
                <a:lnTo>
                  <a:pt x="209" y="365"/>
                </a:lnTo>
                <a:lnTo>
                  <a:pt x="194" y="363"/>
                </a:lnTo>
                <a:lnTo>
                  <a:pt x="177" y="361"/>
                </a:lnTo>
                <a:lnTo>
                  <a:pt x="158" y="355"/>
                </a:lnTo>
                <a:lnTo>
                  <a:pt x="138" y="349"/>
                </a:lnTo>
                <a:lnTo>
                  <a:pt x="119" y="343"/>
                </a:lnTo>
                <a:lnTo>
                  <a:pt x="100" y="334"/>
                </a:lnTo>
                <a:lnTo>
                  <a:pt x="79" y="324"/>
                </a:lnTo>
                <a:lnTo>
                  <a:pt x="69" y="319"/>
                </a:lnTo>
                <a:lnTo>
                  <a:pt x="62" y="315"/>
                </a:lnTo>
                <a:lnTo>
                  <a:pt x="52" y="309"/>
                </a:lnTo>
                <a:lnTo>
                  <a:pt x="44" y="305"/>
                </a:lnTo>
                <a:lnTo>
                  <a:pt x="37" y="301"/>
                </a:lnTo>
                <a:lnTo>
                  <a:pt x="31" y="297"/>
                </a:lnTo>
                <a:lnTo>
                  <a:pt x="25" y="294"/>
                </a:lnTo>
                <a:lnTo>
                  <a:pt x="19" y="292"/>
                </a:lnTo>
                <a:lnTo>
                  <a:pt x="16" y="288"/>
                </a:lnTo>
                <a:lnTo>
                  <a:pt x="12" y="284"/>
                </a:lnTo>
                <a:lnTo>
                  <a:pt x="8" y="282"/>
                </a:lnTo>
                <a:lnTo>
                  <a:pt x="4" y="280"/>
                </a:lnTo>
                <a:lnTo>
                  <a:pt x="2" y="276"/>
                </a:lnTo>
                <a:lnTo>
                  <a:pt x="0" y="274"/>
                </a:lnTo>
                <a:lnTo>
                  <a:pt x="0" y="271"/>
                </a:lnTo>
                <a:lnTo>
                  <a:pt x="0" y="26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Freeform 93"/>
          <p:cNvSpPr/>
          <p:nvPr/>
        </p:nvSpPr>
        <p:spPr>
          <a:xfrm>
            <a:off x="5506920" y="3503520"/>
            <a:ext cx="717840" cy="1575000"/>
          </a:xfrm>
          <a:custGeom>
            <a:avLst/>
            <a:gdLst/>
            <a:ahLst/>
            <a:rect l="l" t="t" r="r" b="b"/>
            <a:pathLst>
              <a:path w="904" h="1983">
                <a:moveTo>
                  <a:pt x="199" y="1689"/>
                </a:moveTo>
                <a:lnTo>
                  <a:pt x="182" y="1676"/>
                </a:lnTo>
                <a:lnTo>
                  <a:pt x="167" y="1664"/>
                </a:lnTo>
                <a:lnTo>
                  <a:pt x="151" y="1653"/>
                </a:lnTo>
                <a:lnTo>
                  <a:pt x="136" y="1641"/>
                </a:lnTo>
                <a:lnTo>
                  <a:pt x="125" y="1632"/>
                </a:lnTo>
                <a:lnTo>
                  <a:pt x="111" y="1622"/>
                </a:lnTo>
                <a:lnTo>
                  <a:pt x="101" y="1613"/>
                </a:lnTo>
                <a:lnTo>
                  <a:pt x="90" y="1605"/>
                </a:lnTo>
                <a:lnTo>
                  <a:pt x="82" y="1597"/>
                </a:lnTo>
                <a:lnTo>
                  <a:pt x="75" y="1591"/>
                </a:lnTo>
                <a:lnTo>
                  <a:pt x="67" y="1584"/>
                </a:lnTo>
                <a:lnTo>
                  <a:pt x="61" y="1580"/>
                </a:lnTo>
                <a:lnTo>
                  <a:pt x="57" y="1574"/>
                </a:lnTo>
                <a:lnTo>
                  <a:pt x="55" y="1570"/>
                </a:lnTo>
                <a:lnTo>
                  <a:pt x="54" y="1567"/>
                </a:lnTo>
                <a:lnTo>
                  <a:pt x="52" y="1565"/>
                </a:lnTo>
                <a:lnTo>
                  <a:pt x="54" y="1561"/>
                </a:lnTo>
                <a:lnTo>
                  <a:pt x="55" y="1559"/>
                </a:lnTo>
                <a:lnTo>
                  <a:pt x="57" y="1557"/>
                </a:lnTo>
                <a:lnTo>
                  <a:pt x="63" y="1555"/>
                </a:lnTo>
                <a:lnTo>
                  <a:pt x="69" y="1555"/>
                </a:lnTo>
                <a:lnTo>
                  <a:pt x="75" y="1553"/>
                </a:lnTo>
                <a:lnTo>
                  <a:pt x="84" y="1553"/>
                </a:lnTo>
                <a:lnTo>
                  <a:pt x="94" y="1553"/>
                </a:lnTo>
                <a:lnTo>
                  <a:pt x="105" y="1553"/>
                </a:lnTo>
                <a:lnTo>
                  <a:pt x="117" y="1553"/>
                </a:lnTo>
                <a:lnTo>
                  <a:pt x="132" y="1555"/>
                </a:lnTo>
                <a:lnTo>
                  <a:pt x="148" y="1555"/>
                </a:lnTo>
                <a:lnTo>
                  <a:pt x="165" y="1557"/>
                </a:lnTo>
                <a:lnTo>
                  <a:pt x="184" y="1559"/>
                </a:lnTo>
                <a:lnTo>
                  <a:pt x="203" y="1561"/>
                </a:lnTo>
                <a:lnTo>
                  <a:pt x="226" y="1565"/>
                </a:lnTo>
                <a:lnTo>
                  <a:pt x="247" y="1568"/>
                </a:lnTo>
                <a:lnTo>
                  <a:pt x="268" y="1572"/>
                </a:lnTo>
                <a:lnTo>
                  <a:pt x="288" y="1576"/>
                </a:lnTo>
                <a:lnTo>
                  <a:pt x="305" y="1580"/>
                </a:lnTo>
                <a:lnTo>
                  <a:pt x="322" y="1582"/>
                </a:lnTo>
                <a:lnTo>
                  <a:pt x="339" y="1582"/>
                </a:lnTo>
                <a:lnTo>
                  <a:pt x="355" y="1584"/>
                </a:lnTo>
                <a:lnTo>
                  <a:pt x="368" y="1584"/>
                </a:lnTo>
                <a:lnTo>
                  <a:pt x="382" y="1582"/>
                </a:lnTo>
                <a:lnTo>
                  <a:pt x="395" y="1580"/>
                </a:lnTo>
                <a:lnTo>
                  <a:pt x="407" y="1578"/>
                </a:lnTo>
                <a:lnTo>
                  <a:pt x="416" y="1574"/>
                </a:lnTo>
                <a:lnTo>
                  <a:pt x="426" y="1568"/>
                </a:lnTo>
                <a:lnTo>
                  <a:pt x="435" y="1563"/>
                </a:lnTo>
                <a:lnTo>
                  <a:pt x="443" y="1557"/>
                </a:lnTo>
                <a:lnTo>
                  <a:pt x="453" y="1549"/>
                </a:lnTo>
                <a:lnTo>
                  <a:pt x="458" y="1542"/>
                </a:lnTo>
                <a:lnTo>
                  <a:pt x="466" y="1532"/>
                </a:lnTo>
                <a:lnTo>
                  <a:pt x="472" y="1520"/>
                </a:lnTo>
                <a:lnTo>
                  <a:pt x="480" y="1509"/>
                </a:lnTo>
                <a:lnTo>
                  <a:pt x="485" y="1497"/>
                </a:lnTo>
                <a:lnTo>
                  <a:pt x="493" y="1484"/>
                </a:lnTo>
                <a:lnTo>
                  <a:pt x="499" y="1469"/>
                </a:lnTo>
                <a:lnTo>
                  <a:pt x="505" y="1453"/>
                </a:lnTo>
                <a:lnTo>
                  <a:pt x="512" y="1436"/>
                </a:lnTo>
                <a:lnTo>
                  <a:pt x="518" y="1419"/>
                </a:lnTo>
                <a:lnTo>
                  <a:pt x="524" y="1400"/>
                </a:lnTo>
                <a:lnTo>
                  <a:pt x="531" y="1378"/>
                </a:lnTo>
                <a:lnTo>
                  <a:pt x="537" y="1357"/>
                </a:lnTo>
                <a:lnTo>
                  <a:pt x="545" y="1334"/>
                </a:lnTo>
                <a:lnTo>
                  <a:pt x="551" y="1309"/>
                </a:lnTo>
                <a:lnTo>
                  <a:pt x="558" y="1284"/>
                </a:lnTo>
                <a:lnTo>
                  <a:pt x="568" y="1233"/>
                </a:lnTo>
                <a:lnTo>
                  <a:pt x="576" y="1183"/>
                </a:lnTo>
                <a:lnTo>
                  <a:pt x="583" y="1133"/>
                </a:lnTo>
                <a:lnTo>
                  <a:pt x="587" y="1085"/>
                </a:lnTo>
                <a:lnTo>
                  <a:pt x="593" y="1039"/>
                </a:lnTo>
                <a:lnTo>
                  <a:pt x="595" y="995"/>
                </a:lnTo>
                <a:lnTo>
                  <a:pt x="597" y="950"/>
                </a:lnTo>
                <a:lnTo>
                  <a:pt x="599" y="908"/>
                </a:lnTo>
                <a:lnTo>
                  <a:pt x="599" y="887"/>
                </a:lnTo>
                <a:lnTo>
                  <a:pt x="599" y="868"/>
                </a:lnTo>
                <a:lnTo>
                  <a:pt x="599" y="851"/>
                </a:lnTo>
                <a:lnTo>
                  <a:pt x="599" y="833"/>
                </a:lnTo>
                <a:lnTo>
                  <a:pt x="599" y="818"/>
                </a:lnTo>
                <a:lnTo>
                  <a:pt x="597" y="805"/>
                </a:lnTo>
                <a:lnTo>
                  <a:pt x="597" y="791"/>
                </a:lnTo>
                <a:lnTo>
                  <a:pt x="597" y="780"/>
                </a:lnTo>
                <a:lnTo>
                  <a:pt x="597" y="770"/>
                </a:lnTo>
                <a:lnTo>
                  <a:pt x="595" y="760"/>
                </a:lnTo>
                <a:lnTo>
                  <a:pt x="593" y="753"/>
                </a:lnTo>
                <a:lnTo>
                  <a:pt x="593" y="745"/>
                </a:lnTo>
                <a:lnTo>
                  <a:pt x="591" y="739"/>
                </a:lnTo>
                <a:lnTo>
                  <a:pt x="589" y="734"/>
                </a:lnTo>
                <a:lnTo>
                  <a:pt x="587" y="730"/>
                </a:lnTo>
                <a:lnTo>
                  <a:pt x="585" y="726"/>
                </a:lnTo>
                <a:lnTo>
                  <a:pt x="579" y="722"/>
                </a:lnTo>
                <a:lnTo>
                  <a:pt x="572" y="718"/>
                </a:lnTo>
                <a:lnTo>
                  <a:pt x="564" y="716"/>
                </a:lnTo>
                <a:lnTo>
                  <a:pt x="554" y="714"/>
                </a:lnTo>
                <a:lnTo>
                  <a:pt x="545" y="712"/>
                </a:lnTo>
                <a:lnTo>
                  <a:pt x="533" y="712"/>
                </a:lnTo>
                <a:lnTo>
                  <a:pt x="520" y="712"/>
                </a:lnTo>
                <a:lnTo>
                  <a:pt x="505" y="712"/>
                </a:lnTo>
                <a:lnTo>
                  <a:pt x="495" y="712"/>
                </a:lnTo>
                <a:lnTo>
                  <a:pt x="483" y="714"/>
                </a:lnTo>
                <a:lnTo>
                  <a:pt x="472" y="716"/>
                </a:lnTo>
                <a:lnTo>
                  <a:pt x="460" y="720"/>
                </a:lnTo>
                <a:lnTo>
                  <a:pt x="447" y="724"/>
                </a:lnTo>
                <a:lnTo>
                  <a:pt x="434" y="728"/>
                </a:lnTo>
                <a:lnTo>
                  <a:pt x="418" y="735"/>
                </a:lnTo>
                <a:lnTo>
                  <a:pt x="403" y="741"/>
                </a:lnTo>
                <a:lnTo>
                  <a:pt x="387" y="749"/>
                </a:lnTo>
                <a:lnTo>
                  <a:pt x="370" y="757"/>
                </a:lnTo>
                <a:lnTo>
                  <a:pt x="353" y="766"/>
                </a:lnTo>
                <a:lnTo>
                  <a:pt x="334" y="776"/>
                </a:lnTo>
                <a:lnTo>
                  <a:pt x="315" y="787"/>
                </a:lnTo>
                <a:lnTo>
                  <a:pt x="295" y="799"/>
                </a:lnTo>
                <a:lnTo>
                  <a:pt x="274" y="810"/>
                </a:lnTo>
                <a:lnTo>
                  <a:pt x="253" y="824"/>
                </a:lnTo>
                <a:lnTo>
                  <a:pt x="230" y="837"/>
                </a:lnTo>
                <a:lnTo>
                  <a:pt x="209" y="849"/>
                </a:lnTo>
                <a:lnTo>
                  <a:pt x="190" y="858"/>
                </a:lnTo>
                <a:lnTo>
                  <a:pt x="171" y="868"/>
                </a:lnTo>
                <a:lnTo>
                  <a:pt x="153" y="877"/>
                </a:lnTo>
                <a:lnTo>
                  <a:pt x="136" y="885"/>
                </a:lnTo>
                <a:lnTo>
                  <a:pt x="121" y="893"/>
                </a:lnTo>
                <a:lnTo>
                  <a:pt x="105" y="897"/>
                </a:lnTo>
                <a:lnTo>
                  <a:pt x="92" y="902"/>
                </a:lnTo>
                <a:lnTo>
                  <a:pt x="80" y="906"/>
                </a:lnTo>
                <a:lnTo>
                  <a:pt x="71" y="908"/>
                </a:lnTo>
                <a:lnTo>
                  <a:pt x="61" y="910"/>
                </a:lnTo>
                <a:lnTo>
                  <a:pt x="54" y="912"/>
                </a:lnTo>
                <a:lnTo>
                  <a:pt x="48" y="910"/>
                </a:lnTo>
                <a:lnTo>
                  <a:pt x="42" y="910"/>
                </a:lnTo>
                <a:lnTo>
                  <a:pt x="40" y="908"/>
                </a:lnTo>
                <a:lnTo>
                  <a:pt x="30" y="902"/>
                </a:lnTo>
                <a:lnTo>
                  <a:pt x="21" y="895"/>
                </a:lnTo>
                <a:lnTo>
                  <a:pt x="15" y="885"/>
                </a:lnTo>
                <a:lnTo>
                  <a:pt x="11" y="879"/>
                </a:lnTo>
                <a:lnTo>
                  <a:pt x="9" y="874"/>
                </a:lnTo>
                <a:lnTo>
                  <a:pt x="7" y="868"/>
                </a:lnTo>
                <a:lnTo>
                  <a:pt x="4" y="862"/>
                </a:lnTo>
                <a:lnTo>
                  <a:pt x="4" y="854"/>
                </a:lnTo>
                <a:lnTo>
                  <a:pt x="2" y="847"/>
                </a:lnTo>
                <a:lnTo>
                  <a:pt x="0" y="839"/>
                </a:lnTo>
                <a:lnTo>
                  <a:pt x="0" y="829"/>
                </a:lnTo>
                <a:lnTo>
                  <a:pt x="0" y="820"/>
                </a:lnTo>
                <a:lnTo>
                  <a:pt x="0" y="810"/>
                </a:lnTo>
                <a:lnTo>
                  <a:pt x="0" y="803"/>
                </a:lnTo>
                <a:lnTo>
                  <a:pt x="0" y="795"/>
                </a:lnTo>
                <a:lnTo>
                  <a:pt x="2" y="787"/>
                </a:lnTo>
                <a:lnTo>
                  <a:pt x="4" y="778"/>
                </a:lnTo>
                <a:lnTo>
                  <a:pt x="6" y="770"/>
                </a:lnTo>
                <a:lnTo>
                  <a:pt x="9" y="762"/>
                </a:lnTo>
                <a:lnTo>
                  <a:pt x="13" y="755"/>
                </a:lnTo>
                <a:lnTo>
                  <a:pt x="17" y="747"/>
                </a:lnTo>
                <a:lnTo>
                  <a:pt x="27" y="732"/>
                </a:lnTo>
                <a:lnTo>
                  <a:pt x="38" y="716"/>
                </a:lnTo>
                <a:lnTo>
                  <a:pt x="52" y="701"/>
                </a:lnTo>
                <a:lnTo>
                  <a:pt x="65" y="684"/>
                </a:lnTo>
                <a:lnTo>
                  <a:pt x="73" y="676"/>
                </a:lnTo>
                <a:lnTo>
                  <a:pt x="80" y="666"/>
                </a:lnTo>
                <a:lnTo>
                  <a:pt x="86" y="657"/>
                </a:lnTo>
                <a:lnTo>
                  <a:pt x="94" y="647"/>
                </a:lnTo>
                <a:lnTo>
                  <a:pt x="100" y="636"/>
                </a:lnTo>
                <a:lnTo>
                  <a:pt x="105" y="624"/>
                </a:lnTo>
                <a:lnTo>
                  <a:pt x="111" y="611"/>
                </a:lnTo>
                <a:lnTo>
                  <a:pt x="115" y="597"/>
                </a:lnTo>
                <a:lnTo>
                  <a:pt x="121" y="582"/>
                </a:lnTo>
                <a:lnTo>
                  <a:pt x="125" y="567"/>
                </a:lnTo>
                <a:lnTo>
                  <a:pt x="128" y="549"/>
                </a:lnTo>
                <a:lnTo>
                  <a:pt x="132" y="532"/>
                </a:lnTo>
                <a:lnTo>
                  <a:pt x="136" y="513"/>
                </a:lnTo>
                <a:lnTo>
                  <a:pt x="140" y="492"/>
                </a:lnTo>
                <a:lnTo>
                  <a:pt x="144" y="471"/>
                </a:lnTo>
                <a:lnTo>
                  <a:pt x="146" y="448"/>
                </a:lnTo>
                <a:lnTo>
                  <a:pt x="148" y="424"/>
                </a:lnTo>
                <a:lnTo>
                  <a:pt x="151" y="401"/>
                </a:lnTo>
                <a:lnTo>
                  <a:pt x="153" y="378"/>
                </a:lnTo>
                <a:lnTo>
                  <a:pt x="155" y="357"/>
                </a:lnTo>
                <a:lnTo>
                  <a:pt x="157" y="336"/>
                </a:lnTo>
                <a:lnTo>
                  <a:pt x="159" y="315"/>
                </a:lnTo>
                <a:lnTo>
                  <a:pt x="163" y="277"/>
                </a:lnTo>
                <a:lnTo>
                  <a:pt x="163" y="236"/>
                </a:lnTo>
                <a:lnTo>
                  <a:pt x="165" y="200"/>
                </a:lnTo>
                <a:lnTo>
                  <a:pt x="163" y="181"/>
                </a:lnTo>
                <a:lnTo>
                  <a:pt x="163" y="163"/>
                </a:lnTo>
                <a:lnTo>
                  <a:pt x="161" y="144"/>
                </a:lnTo>
                <a:lnTo>
                  <a:pt x="159" y="127"/>
                </a:lnTo>
                <a:lnTo>
                  <a:pt x="157" y="112"/>
                </a:lnTo>
                <a:lnTo>
                  <a:pt x="155" y="96"/>
                </a:lnTo>
                <a:lnTo>
                  <a:pt x="153" y="83"/>
                </a:lnTo>
                <a:lnTo>
                  <a:pt x="153" y="71"/>
                </a:lnTo>
                <a:lnTo>
                  <a:pt x="153" y="60"/>
                </a:lnTo>
                <a:lnTo>
                  <a:pt x="155" y="50"/>
                </a:lnTo>
                <a:lnTo>
                  <a:pt x="155" y="41"/>
                </a:lnTo>
                <a:lnTo>
                  <a:pt x="157" y="31"/>
                </a:lnTo>
                <a:lnTo>
                  <a:pt x="159" y="25"/>
                </a:lnTo>
                <a:lnTo>
                  <a:pt x="161" y="18"/>
                </a:lnTo>
                <a:lnTo>
                  <a:pt x="165" y="12"/>
                </a:lnTo>
                <a:lnTo>
                  <a:pt x="169" y="8"/>
                </a:lnTo>
                <a:lnTo>
                  <a:pt x="173" y="4"/>
                </a:lnTo>
                <a:lnTo>
                  <a:pt x="176" y="2"/>
                </a:lnTo>
                <a:lnTo>
                  <a:pt x="180" y="0"/>
                </a:lnTo>
                <a:lnTo>
                  <a:pt x="186" y="0"/>
                </a:lnTo>
                <a:lnTo>
                  <a:pt x="190" y="0"/>
                </a:lnTo>
                <a:lnTo>
                  <a:pt x="196" y="2"/>
                </a:lnTo>
                <a:lnTo>
                  <a:pt x="201" y="2"/>
                </a:lnTo>
                <a:lnTo>
                  <a:pt x="209" y="6"/>
                </a:lnTo>
                <a:lnTo>
                  <a:pt x="215" y="8"/>
                </a:lnTo>
                <a:lnTo>
                  <a:pt x="222" y="12"/>
                </a:lnTo>
                <a:lnTo>
                  <a:pt x="230" y="16"/>
                </a:lnTo>
                <a:lnTo>
                  <a:pt x="238" y="19"/>
                </a:lnTo>
                <a:lnTo>
                  <a:pt x="245" y="23"/>
                </a:lnTo>
                <a:lnTo>
                  <a:pt x="255" y="29"/>
                </a:lnTo>
                <a:lnTo>
                  <a:pt x="263" y="35"/>
                </a:lnTo>
                <a:lnTo>
                  <a:pt x="274" y="41"/>
                </a:lnTo>
                <a:lnTo>
                  <a:pt x="284" y="48"/>
                </a:lnTo>
                <a:lnTo>
                  <a:pt x="295" y="54"/>
                </a:lnTo>
                <a:lnTo>
                  <a:pt x="307" y="62"/>
                </a:lnTo>
                <a:lnTo>
                  <a:pt x="318" y="69"/>
                </a:lnTo>
                <a:lnTo>
                  <a:pt x="318" y="117"/>
                </a:lnTo>
                <a:lnTo>
                  <a:pt x="316" y="163"/>
                </a:lnTo>
                <a:lnTo>
                  <a:pt x="313" y="211"/>
                </a:lnTo>
                <a:lnTo>
                  <a:pt x="311" y="259"/>
                </a:lnTo>
                <a:lnTo>
                  <a:pt x="307" y="305"/>
                </a:lnTo>
                <a:lnTo>
                  <a:pt x="301" y="353"/>
                </a:lnTo>
                <a:lnTo>
                  <a:pt x="292" y="448"/>
                </a:lnTo>
                <a:lnTo>
                  <a:pt x="288" y="471"/>
                </a:lnTo>
                <a:lnTo>
                  <a:pt x="282" y="492"/>
                </a:lnTo>
                <a:lnTo>
                  <a:pt x="278" y="511"/>
                </a:lnTo>
                <a:lnTo>
                  <a:pt x="274" y="528"/>
                </a:lnTo>
                <a:lnTo>
                  <a:pt x="272" y="545"/>
                </a:lnTo>
                <a:lnTo>
                  <a:pt x="268" y="561"/>
                </a:lnTo>
                <a:lnTo>
                  <a:pt x="267" y="574"/>
                </a:lnTo>
                <a:lnTo>
                  <a:pt x="265" y="586"/>
                </a:lnTo>
                <a:lnTo>
                  <a:pt x="263" y="597"/>
                </a:lnTo>
                <a:lnTo>
                  <a:pt x="261" y="607"/>
                </a:lnTo>
                <a:lnTo>
                  <a:pt x="261" y="616"/>
                </a:lnTo>
                <a:lnTo>
                  <a:pt x="261" y="624"/>
                </a:lnTo>
                <a:lnTo>
                  <a:pt x="261" y="630"/>
                </a:lnTo>
                <a:lnTo>
                  <a:pt x="261" y="636"/>
                </a:lnTo>
                <a:lnTo>
                  <a:pt x="263" y="639"/>
                </a:lnTo>
                <a:lnTo>
                  <a:pt x="265" y="643"/>
                </a:lnTo>
                <a:lnTo>
                  <a:pt x="268" y="645"/>
                </a:lnTo>
                <a:lnTo>
                  <a:pt x="272" y="647"/>
                </a:lnTo>
                <a:lnTo>
                  <a:pt x="276" y="649"/>
                </a:lnTo>
                <a:lnTo>
                  <a:pt x="280" y="651"/>
                </a:lnTo>
                <a:lnTo>
                  <a:pt x="286" y="651"/>
                </a:lnTo>
                <a:lnTo>
                  <a:pt x="293" y="651"/>
                </a:lnTo>
                <a:lnTo>
                  <a:pt x="301" y="651"/>
                </a:lnTo>
                <a:lnTo>
                  <a:pt x="309" y="651"/>
                </a:lnTo>
                <a:lnTo>
                  <a:pt x="318" y="651"/>
                </a:lnTo>
                <a:lnTo>
                  <a:pt x="328" y="649"/>
                </a:lnTo>
                <a:lnTo>
                  <a:pt x="339" y="647"/>
                </a:lnTo>
                <a:lnTo>
                  <a:pt x="351" y="645"/>
                </a:lnTo>
                <a:lnTo>
                  <a:pt x="364" y="641"/>
                </a:lnTo>
                <a:lnTo>
                  <a:pt x="380" y="638"/>
                </a:lnTo>
                <a:lnTo>
                  <a:pt x="395" y="634"/>
                </a:lnTo>
                <a:lnTo>
                  <a:pt x="412" y="628"/>
                </a:lnTo>
                <a:lnTo>
                  <a:pt x="426" y="626"/>
                </a:lnTo>
                <a:lnTo>
                  <a:pt x="441" y="622"/>
                </a:lnTo>
                <a:lnTo>
                  <a:pt x="455" y="618"/>
                </a:lnTo>
                <a:lnTo>
                  <a:pt x="466" y="616"/>
                </a:lnTo>
                <a:lnTo>
                  <a:pt x="478" y="613"/>
                </a:lnTo>
                <a:lnTo>
                  <a:pt x="489" y="609"/>
                </a:lnTo>
                <a:lnTo>
                  <a:pt x="501" y="605"/>
                </a:lnTo>
                <a:lnTo>
                  <a:pt x="510" y="601"/>
                </a:lnTo>
                <a:lnTo>
                  <a:pt x="520" y="597"/>
                </a:lnTo>
                <a:lnTo>
                  <a:pt x="528" y="593"/>
                </a:lnTo>
                <a:lnTo>
                  <a:pt x="535" y="590"/>
                </a:lnTo>
                <a:lnTo>
                  <a:pt x="541" y="586"/>
                </a:lnTo>
                <a:lnTo>
                  <a:pt x="547" y="582"/>
                </a:lnTo>
                <a:lnTo>
                  <a:pt x="551" y="578"/>
                </a:lnTo>
                <a:lnTo>
                  <a:pt x="554" y="576"/>
                </a:lnTo>
                <a:lnTo>
                  <a:pt x="558" y="572"/>
                </a:lnTo>
                <a:lnTo>
                  <a:pt x="564" y="567"/>
                </a:lnTo>
                <a:lnTo>
                  <a:pt x="570" y="563"/>
                </a:lnTo>
                <a:lnTo>
                  <a:pt x="579" y="557"/>
                </a:lnTo>
                <a:lnTo>
                  <a:pt x="589" y="553"/>
                </a:lnTo>
                <a:lnTo>
                  <a:pt x="599" y="549"/>
                </a:lnTo>
                <a:lnTo>
                  <a:pt x="610" y="547"/>
                </a:lnTo>
                <a:lnTo>
                  <a:pt x="624" y="545"/>
                </a:lnTo>
                <a:lnTo>
                  <a:pt x="639" y="545"/>
                </a:lnTo>
                <a:lnTo>
                  <a:pt x="643" y="545"/>
                </a:lnTo>
                <a:lnTo>
                  <a:pt x="649" y="545"/>
                </a:lnTo>
                <a:lnTo>
                  <a:pt x="656" y="545"/>
                </a:lnTo>
                <a:lnTo>
                  <a:pt x="664" y="547"/>
                </a:lnTo>
                <a:lnTo>
                  <a:pt x="672" y="549"/>
                </a:lnTo>
                <a:lnTo>
                  <a:pt x="679" y="551"/>
                </a:lnTo>
                <a:lnTo>
                  <a:pt x="687" y="553"/>
                </a:lnTo>
                <a:lnTo>
                  <a:pt x="697" y="557"/>
                </a:lnTo>
                <a:lnTo>
                  <a:pt x="706" y="561"/>
                </a:lnTo>
                <a:lnTo>
                  <a:pt x="716" y="565"/>
                </a:lnTo>
                <a:lnTo>
                  <a:pt x="727" y="568"/>
                </a:lnTo>
                <a:lnTo>
                  <a:pt x="737" y="574"/>
                </a:lnTo>
                <a:lnTo>
                  <a:pt x="748" y="580"/>
                </a:lnTo>
                <a:lnTo>
                  <a:pt x="760" y="586"/>
                </a:lnTo>
                <a:lnTo>
                  <a:pt x="771" y="593"/>
                </a:lnTo>
                <a:lnTo>
                  <a:pt x="785" y="601"/>
                </a:lnTo>
                <a:lnTo>
                  <a:pt x="796" y="609"/>
                </a:lnTo>
                <a:lnTo>
                  <a:pt x="808" y="616"/>
                </a:lnTo>
                <a:lnTo>
                  <a:pt x="819" y="624"/>
                </a:lnTo>
                <a:lnTo>
                  <a:pt x="829" y="632"/>
                </a:lnTo>
                <a:lnTo>
                  <a:pt x="839" y="639"/>
                </a:lnTo>
                <a:lnTo>
                  <a:pt x="848" y="647"/>
                </a:lnTo>
                <a:lnTo>
                  <a:pt x="856" y="653"/>
                </a:lnTo>
                <a:lnTo>
                  <a:pt x="863" y="661"/>
                </a:lnTo>
                <a:lnTo>
                  <a:pt x="871" y="666"/>
                </a:lnTo>
                <a:lnTo>
                  <a:pt x="879" y="672"/>
                </a:lnTo>
                <a:lnTo>
                  <a:pt x="885" y="678"/>
                </a:lnTo>
                <a:lnTo>
                  <a:pt x="890" y="684"/>
                </a:lnTo>
                <a:lnTo>
                  <a:pt x="894" y="687"/>
                </a:lnTo>
                <a:lnTo>
                  <a:pt x="898" y="691"/>
                </a:lnTo>
                <a:lnTo>
                  <a:pt x="902" y="695"/>
                </a:lnTo>
                <a:lnTo>
                  <a:pt x="904" y="699"/>
                </a:lnTo>
                <a:lnTo>
                  <a:pt x="904" y="709"/>
                </a:lnTo>
                <a:lnTo>
                  <a:pt x="902" y="716"/>
                </a:lnTo>
                <a:lnTo>
                  <a:pt x="900" y="724"/>
                </a:lnTo>
                <a:lnTo>
                  <a:pt x="896" y="732"/>
                </a:lnTo>
                <a:lnTo>
                  <a:pt x="892" y="737"/>
                </a:lnTo>
                <a:lnTo>
                  <a:pt x="888" y="743"/>
                </a:lnTo>
                <a:lnTo>
                  <a:pt x="879" y="755"/>
                </a:lnTo>
                <a:lnTo>
                  <a:pt x="873" y="758"/>
                </a:lnTo>
                <a:lnTo>
                  <a:pt x="869" y="762"/>
                </a:lnTo>
                <a:lnTo>
                  <a:pt x="863" y="770"/>
                </a:lnTo>
                <a:lnTo>
                  <a:pt x="860" y="778"/>
                </a:lnTo>
                <a:lnTo>
                  <a:pt x="856" y="787"/>
                </a:lnTo>
                <a:lnTo>
                  <a:pt x="852" y="799"/>
                </a:lnTo>
                <a:lnTo>
                  <a:pt x="850" y="812"/>
                </a:lnTo>
                <a:lnTo>
                  <a:pt x="846" y="826"/>
                </a:lnTo>
                <a:lnTo>
                  <a:pt x="842" y="841"/>
                </a:lnTo>
                <a:lnTo>
                  <a:pt x="840" y="858"/>
                </a:lnTo>
                <a:lnTo>
                  <a:pt x="837" y="877"/>
                </a:lnTo>
                <a:lnTo>
                  <a:pt x="835" y="897"/>
                </a:lnTo>
                <a:lnTo>
                  <a:pt x="833" y="918"/>
                </a:lnTo>
                <a:lnTo>
                  <a:pt x="829" y="941"/>
                </a:lnTo>
                <a:lnTo>
                  <a:pt x="827" y="966"/>
                </a:lnTo>
                <a:lnTo>
                  <a:pt x="825" y="991"/>
                </a:lnTo>
                <a:lnTo>
                  <a:pt x="821" y="1018"/>
                </a:lnTo>
                <a:lnTo>
                  <a:pt x="819" y="1044"/>
                </a:lnTo>
                <a:lnTo>
                  <a:pt x="816" y="1073"/>
                </a:lnTo>
                <a:lnTo>
                  <a:pt x="812" y="1100"/>
                </a:lnTo>
                <a:lnTo>
                  <a:pt x="808" y="1131"/>
                </a:lnTo>
                <a:lnTo>
                  <a:pt x="804" y="1160"/>
                </a:lnTo>
                <a:lnTo>
                  <a:pt x="800" y="1188"/>
                </a:lnTo>
                <a:lnTo>
                  <a:pt x="794" y="1219"/>
                </a:lnTo>
                <a:lnTo>
                  <a:pt x="789" y="1252"/>
                </a:lnTo>
                <a:lnTo>
                  <a:pt x="783" y="1282"/>
                </a:lnTo>
                <a:lnTo>
                  <a:pt x="771" y="1346"/>
                </a:lnTo>
                <a:lnTo>
                  <a:pt x="758" y="1413"/>
                </a:lnTo>
                <a:lnTo>
                  <a:pt x="744" y="1480"/>
                </a:lnTo>
                <a:lnTo>
                  <a:pt x="737" y="1513"/>
                </a:lnTo>
                <a:lnTo>
                  <a:pt x="729" y="1545"/>
                </a:lnTo>
                <a:lnTo>
                  <a:pt x="720" y="1578"/>
                </a:lnTo>
                <a:lnTo>
                  <a:pt x="710" y="1607"/>
                </a:lnTo>
                <a:lnTo>
                  <a:pt x="700" y="1638"/>
                </a:lnTo>
                <a:lnTo>
                  <a:pt x="691" y="1664"/>
                </a:lnTo>
                <a:lnTo>
                  <a:pt x="679" y="1691"/>
                </a:lnTo>
                <a:lnTo>
                  <a:pt x="668" y="1716"/>
                </a:lnTo>
                <a:lnTo>
                  <a:pt x="656" y="1741"/>
                </a:lnTo>
                <a:lnTo>
                  <a:pt x="645" y="1764"/>
                </a:lnTo>
                <a:lnTo>
                  <a:pt x="633" y="1785"/>
                </a:lnTo>
                <a:lnTo>
                  <a:pt x="622" y="1805"/>
                </a:lnTo>
                <a:lnTo>
                  <a:pt x="608" y="1824"/>
                </a:lnTo>
                <a:lnTo>
                  <a:pt x="597" y="1841"/>
                </a:lnTo>
                <a:lnTo>
                  <a:pt x="583" y="1856"/>
                </a:lnTo>
                <a:lnTo>
                  <a:pt x="572" y="1870"/>
                </a:lnTo>
                <a:lnTo>
                  <a:pt x="556" y="1883"/>
                </a:lnTo>
                <a:lnTo>
                  <a:pt x="543" y="1895"/>
                </a:lnTo>
                <a:lnTo>
                  <a:pt x="530" y="1906"/>
                </a:lnTo>
                <a:lnTo>
                  <a:pt x="516" y="1918"/>
                </a:lnTo>
                <a:lnTo>
                  <a:pt x="505" y="1927"/>
                </a:lnTo>
                <a:lnTo>
                  <a:pt x="493" y="1937"/>
                </a:lnTo>
                <a:lnTo>
                  <a:pt x="482" y="1945"/>
                </a:lnTo>
                <a:lnTo>
                  <a:pt x="470" y="1952"/>
                </a:lnTo>
                <a:lnTo>
                  <a:pt x="460" y="1960"/>
                </a:lnTo>
                <a:lnTo>
                  <a:pt x="451" y="1966"/>
                </a:lnTo>
                <a:lnTo>
                  <a:pt x="441" y="1970"/>
                </a:lnTo>
                <a:lnTo>
                  <a:pt x="432" y="1975"/>
                </a:lnTo>
                <a:lnTo>
                  <a:pt x="422" y="1977"/>
                </a:lnTo>
                <a:lnTo>
                  <a:pt x="414" y="1981"/>
                </a:lnTo>
                <a:lnTo>
                  <a:pt x="407" y="1981"/>
                </a:lnTo>
                <a:lnTo>
                  <a:pt x="399" y="1983"/>
                </a:lnTo>
                <a:lnTo>
                  <a:pt x="391" y="1981"/>
                </a:lnTo>
                <a:lnTo>
                  <a:pt x="384" y="1981"/>
                </a:lnTo>
                <a:lnTo>
                  <a:pt x="378" y="1979"/>
                </a:lnTo>
                <a:lnTo>
                  <a:pt x="372" y="1977"/>
                </a:lnTo>
                <a:lnTo>
                  <a:pt x="366" y="1973"/>
                </a:lnTo>
                <a:lnTo>
                  <a:pt x="361" y="1970"/>
                </a:lnTo>
                <a:lnTo>
                  <a:pt x="357" y="1966"/>
                </a:lnTo>
                <a:lnTo>
                  <a:pt x="353" y="1960"/>
                </a:lnTo>
                <a:lnTo>
                  <a:pt x="349" y="1952"/>
                </a:lnTo>
                <a:lnTo>
                  <a:pt x="345" y="1947"/>
                </a:lnTo>
                <a:lnTo>
                  <a:pt x="343" y="1939"/>
                </a:lnTo>
                <a:lnTo>
                  <a:pt x="343" y="1929"/>
                </a:lnTo>
                <a:lnTo>
                  <a:pt x="341" y="1920"/>
                </a:lnTo>
                <a:lnTo>
                  <a:pt x="341" y="1908"/>
                </a:lnTo>
                <a:lnTo>
                  <a:pt x="343" y="1897"/>
                </a:lnTo>
                <a:lnTo>
                  <a:pt x="345" y="1885"/>
                </a:lnTo>
                <a:lnTo>
                  <a:pt x="347" y="1872"/>
                </a:lnTo>
                <a:lnTo>
                  <a:pt x="347" y="1858"/>
                </a:lnTo>
                <a:lnTo>
                  <a:pt x="345" y="1845"/>
                </a:lnTo>
                <a:lnTo>
                  <a:pt x="343" y="1833"/>
                </a:lnTo>
                <a:lnTo>
                  <a:pt x="338" y="1820"/>
                </a:lnTo>
                <a:lnTo>
                  <a:pt x="332" y="1806"/>
                </a:lnTo>
                <a:lnTo>
                  <a:pt x="326" y="1795"/>
                </a:lnTo>
                <a:lnTo>
                  <a:pt x="316" y="1782"/>
                </a:lnTo>
                <a:lnTo>
                  <a:pt x="307" y="1770"/>
                </a:lnTo>
                <a:lnTo>
                  <a:pt x="295" y="1757"/>
                </a:lnTo>
                <a:lnTo>
                  <a:pt x="282" y="1745"/>
                </a:lnTo>
                <a:lnTo>
                  <a:pt x="268" y="1734"/>
                </a:lnTo>
                <a:lnTo>
                  <a:pt x="253" y="1722"/>
                </a:lnTo>
                <a:lnTo>
                  <a:pt x="236" y="1710"/>
                </a:lnTo>
                <a:lnTo>
                  <a:pt x="219" y="1699"/>
                </a:lnTo>
                <a:lnTo>
                  <a:pt x="199" y="168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4" name="Freeform 94"/>
          <p:cNvSpPr/>
          <p:nvPr/>
        </p:nvSpPr>
        <p:spPr>
          <a:xfrm>
            <a:off x="6838920" y="2795760"/>
            <a:ext cx="371520" cy="387000"/>
          </a:xfrm>
          <a:custGeom>
            <a:avLst/>
            <a:gdLst/>
            <a:ahLst/>
            <a:rect l="l" t="t" r="r" b="b"/>
            <a:pathLst>
              <a:path w="469" h="487">
                <a:moveTo>
                  <a:pt x="413" y="487"/>
                </a:moveTo>
                <a:lnTo>
                  <a:pt x="409" y="487"/>
                </a:lnTo>
                <a:lnTo>
                  <a:pt x="407" y="485"/>
                </a:lnTo>
                <a:lnTo>
                  <a:pt x="401" y="485"/>
                </a:lnTo>
                <a:lnTo>
                  <a:pt x="398" y="482"/>
                </a:lnTo>
                <a:lnTo>
                  <a:pt x="392" y="480"/>
                </a:lnTo>
                <a:lnTo>
                  <a:pt x="386" y="476"/>
                </a:lnTo>
                <a:lnTo>
                  <a:pt x="380" y="472"/>
                </a:lnTo>
                <a:lnTo>
                  <a:pt x="375" y="468"/>
                </a:lnTo>
                <a:lnTo>
                  <a:pt x="367" y="464"/>
                </a:lnTo>
                <a:lnTo>
                  <a:pt x="359" y="458"/>
                </a:lnTo>
                <a:lnTo>
                  <a:pt x="344" y="447"/>
                </a:lnTo>
                <a:lnTo>
                  <a:pt x="325" y="434"/>
                </a:lnTo>
                <a:lnTo>
                  <a:pt x="306" y="418"/>
                </a:lnTo>
                <a:lnTo>
                  <a:pt x="294" y="409"/>
                </a:lnTo>
                <a:lnTo>
                  <a:pt x="281" y="401"/>
                </a:lnTo>
                <a:lnTo>
                  <a:pt x="269" y="391"/>
                </a:lnTo>
                <a:lnTo>
                  <a:pt x="256" y="382"/>
                </a:lnTo>
                <a:lnTo>
                  <a:pt x="244" y="370"/>
                </a:lnTo>
                <a:lnTo>
                  <a:pt x="231" y="359"/>
                </a:lnTo>
                <a:lnTo>
                  <a:pt x="219" y="347"/>
                </a:lnTo>
                <a:lnTo>
                  <a:pt x="206" y="334"/>
                </a:lnTo>
                <a:lnTo>
                  <a:pt x="194" y="320"/>
                </a:lnTo>
                <a:lnTo>
                  <a:pt x="181" y="307"/>
                </a:lnTo>
                <a:lnTo>
                  <a:pt x="167" y="292"/>
                </a:lnTo>
                <a:lnTo>
                  <a:pt x="156" y="276"/>
                </a:lnTo>
                <a:lnTo>
                  <a:pt x="142" y="261"/>
                </a:lnTo>
                <a:lnTo>
                  <a:pt x="131" y="244"/>
                </a:lnTo>
                <a:lnTo>
                  <a:pt x="117" y="226"/>
                </a:lnTo>
                <a:lnTo>
                  <a:pt x="106" y="209"/>
                </a:lnTo>
                <a:lnTo>
                  <a:pt x="94" y="190"/>
                </a:lnTo>
                <a:lnTo>
                  <a:pt x="83" y="173"/>
                </a:lnTo>
                <a:lnTo>
                  <a:pt x="71" y="157"/>
                </a:lnTo>
                <a:lnTo>
                  <a:pt x="62" y="140"/>
                </a:lnTo>
                <a:lnTo>
                  <a:pt x="52" y="125"/>
                </a:lnTo>
                <a:lnTo>
                  <a:pt x="44" y="109"/>
                </a:lnTo>
                <a:lnTo>
                  <a:pt x="35" y="96"/>
                </a:lnTo>
                <a:lnTo>
                  <a:pt x="29" y="82"/>
                </a:lnTo>
                <a:lnTo>
                  <a:pt x="21" y="71"/>
                </a:lnTo>
                <a:lnTo>
                  <a:pt x="16" y="57"/>
                </a:lnTo>
                <a:lnTo>
                  <a:pt x="12" y="46"/>
                </a:lnTo>
                <a:lnTo>
                  <a:pt x="6" y="36"/>
                </a:lnTo>
                <a:lnTo>
                  <a:pt x="4" y="25"/>
                </a:lnTo>
                <a:lnTo>
                  <a:pt x="2" y="15"/>
                </a:lnTo>
                <a:lnTo>
                  <a:pt x="0" y="7"/>
                </a:lnTo>
                <a:lnTo>
                  <a:pt x="0" y="0"/>
                </a:lnTo>
                <a:lnTo>
                  <a:pt x="21" y="0"/>
                </a:lnTo>
                <a:lnTo>
                  <a:pt x="44" y="0"/>
                </a:lnTo>
                <a:lnTo>
                  <a:pt x="66" y="2"/>
                </a:lnTo>
                <a:lnTo>
                  <a:pt x="87" y="4"/>
                </a:lnTo>
                <a:lnTo>
                  <a:pt x="108" y="7"/>
                </a:lnTo>
                <a:lnTo>
                  <a:pt x="129" y="11"/>
                </a:lnTo>
                <a:lnTo>
                  <a:pt x="150" y="15"/>
                </a:lnTo>
                <a:lnTo>
                  <a:pt x="171" y="21"/>
                </a:lnTo>
                <a:lnTo>
                  <a:pt x="192" y="29"/>
                </a:lnTo>
                <a:lnTo>
                  <a:pt x="211" y="34"/>
                </a:lnTo>
                <a:lnTo>
                  <a:pt x="233" y="42"/>
                </a:lnTo>
                <a:lnTo>
                  <a:pt x="252" y="52"/>
                </a:lnTo>
                <a:lnTo>
                  <a:pt x="273" y="61"/>
                </a:lnTo>
                <a:lnTo>
                  <a:pt x="292" y="73"/>
                </a:lnTo>
                <a:lnTo>
                  <a:pt x="313" y="84"/>
                </a:lnTo>
                <a:lnTo>
                  <a:pt x="332" y="98"/>
                </a:lnTo>
                <a:lnTo>
                  <a:pt x="352" y="109"/>
                </a:lnTo>
                <a:lnTo>
                  <a:pt x="369" y="123"/>
                </a:lnTo>
                <a:lnTo>
                  <a:pt x="386" y="136"/>
                </a:lnTo>
                <a:lnTo>
                  <a:pt x="400" y="149"/>
                </a:lnTo>
                <a:lnTo>
                  <a:pt x="413" y="163"/>
                </a:lnTo>
                <a:lnTo>
                  <a:pt x="425" y="176"/>
                </a:lnTo>
                <a:lnTo>
                  <a:pt x="434" y="192"/>
                </a:lnTo>
                <a:lnTo>
                  <a:pt x="444" y="205"/>
                </a:lnTo>
                <a:lnTo>
                  <a:pt x="451" y="220"/>
                </a:lnTo>
                <a:lnTo>
                  <a:pt x="457" y="234"/>
                </a:lnTo>
                <a:lnTo>
                  <a:pt x="461" y="249"/>
                </a:lnTo>
                <a:lnTo>
                  <a:pt x="465" y="267"/>
                </a:lnTo>
                <a:lnTo>
                  <a:pt x="467" y="282"/>
                </a:lnTo>
                <a:lnTo>
                  <a:pt x="469" y="299"/>
                </a:lnTo>
                <a:lnTo>
                  <a:pt x="467" y="316"/>
                </a:lnTo>
                <a:lnTo>
                  <a:pt x="465" y="334"/>
                </a:lnTo>
                <a:lnTo>
                  <a:pt x="463" y="351"/>
                </a:lnTo>
                <a:lnTo>
                  <a:pt x="459" y="368"/>
                </a:lnTo>
                <a:lnTo>
                  <a:pt x="457" y="384"/>
                </a:lnTo>
                <a:lnTo>
                  <a:pt x="453" y="397"/>
                </a:lnTo>
                <a:lnTo>
                  <a:pt x="449" y="411"/>
                </a:lnTo>
                <a:lnTo>
                  <a:pt x="446" y="422"/>
                </a:lnTo>
                <a:lnTo>
                  <a:pt x="442" y="432"/>
                </a:lnTo>
                <a:lnTo>
                  <a:pt x="440" y="441"/>
                </a:lnTo>
                <a:lnTo>
                  <a:pt x="436" y="451"/>
                </a:lnTo>
                <a:lnTo>
                  <a:pt x="432" y="458"/>
                </a:lnTo>
                <a:lnTo>
                  <a:pt x="428" y="466"/>
                </a:lnTo>
                <a:lnTo>
                  <a:pt x="425" y="472"/>
                </a:lnTo>
                <a:lnTo>
                  <a:pt x="421" y="476"/>
                </a:lnTo>
                <a:lnTo>
                  <a:pt x="419" y="482"/>
                </a:lnTo>
                <a:lnTo>
                  <a:pt x="415" y="483"/>
                </a:lnTo>
                <a:lnTo>
                  <a:pt x="413" y="4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5" name="Freeform 95"/>
          <p:cNvSpPr/>
          <p:nvPr/>
        </p:nvSpPr>
        <p:spPr>
          <a:xfrm>
            <a:off x="5708520" y="3489480"/>
            <a:ext cx="498600" cy="169560"/>
          </a:xfrm>
          <a:custGeom>
            <a:avLst/>
            <a:gdLst/>
            <a:ahLst/>
            <a:rect l="l" t="t" r="r" b="b"/>
            <a:pathLst>
              <a:path w="630" h="215">
                <a:moveTo>
                  <a:pt x="0" y="88"/>
                </a:moveTo>
                <a:lnTo>
                  <a:pt x="44" y="88"/>
                </a:lnTo>
                <a:lnTo>
                  <a:pt x="88" y="86"/>
                </a:lnTo>
                <a:lnTo>
                  <a:pt x="134" y="83"/>
                </a:lnTo>
                <a:lnTo>
                  <a:pt x="156" y="81"/>
                </a:lnTo>
                <a:lnTo>
                  <a:pt x="179" y="77"/>
                </a:lnTo>
                <a:lnTo>
                  <a:pt x="202" y="73"/>
                </a:lnTo>
                <a:lnTo>
                  <a:pt x="225" y="69"/>
                </a:lnTo>
                <a:lnTo>
                  <a:pt x="246" y="65"/>
                </a:lnTo>
                <a:lnTo>
                  <a:pt x="269" y="60"/>
                </a:lnTo>
                <a:lnTo>
                  <a:pt x="292" y="54"/>
                </a:lnTo>
                <a:lnTo>
                  <a:pt x="313" y="48"/>
                </a:lnTo>
                <a:lnTo>
                  <a:pt x="336" y="40"/>
                </a:lnTo>
                <a:lnTo>
                  <a:pt x="359" y="33"/>
                </a:lnTo>
                <a:lnTo>
                  <a:pt x="380" y="25"/>
                </a:lnTo>
                <a:lnTo>
                  <a:pt x="401" y="19"/>
                </a:lnTo>
                <a:lnTo>
                  <a:pt x="420" y="14"/>
                </a:lnTo>
                <a:lnTo>
                  <a:pt x="440" y="10"/>
                </a:lnTo>
                <a:lnTo>
                  <a:pt x="457" y="6"/>
                </a:lnTo>
                <a:lnTo>
                  <a:pt x="472" y="2"/>
                </a:lnTo>
                <a:lnTo>
                  <a:pt x="488" y="0"/>
                </a:lnTo>
                <a:lnTo>
                  <a:pt x="501" y="0"/>
                </a:lnTo>
                <a:lnTo>
                  <a:pt x="515" y="0"/>
                </a:lnTo>
                <a:lnTo>
                  <a:pt x="528" y="0"/>
                </a:lnTo>
                <a:lnTo>
                  <a:pt x="539" y="2"/>
                </a:lnTo>
                <a:lnTo>
                  <a:pt x="549" y="4"/>
                </a:lnTo>
                <a:lnTo>
                  <a:pt x="559" y="6"/>
                </a:lnTo>
                <a:lnTo>
                  <a:pt x="568" y="10"/>
                </a:lnTo>
                <a:lnTo>
                  <a:pt x="578" y="14"/>
                </a:lnTo>
                <a:lnTo>
                  <a:pt x="586" y="19"/>
                </a:lnTo>
                <a:lnTo>
                  <a:pt x="591" y="25"/>
                </a:lnTo>
                <a:lnTo>
                  <a:pt x="599" y="31"/>
                </a:lnTo>
                <a:lnTo>
                  <a:pt x="605" y="35"/>
                </a:lnTo>
                <a:lnTo>
                  <a:pt x="610" y="40"/>
                </a:lnTo>
                <a:lnTo>
                  <a:pt x="614" y="46"/>
                </a:lnTo>
                <a:lnTo>
                  <a:pt x="618" y="50"/>
                </a:lnTo>
                <a:lnTo>
                  <a:pt x="622" y="56"/>
                </a:lnTo>
                <a:lnTo>
                  <a:pt x="624" y="62"/>
                </a:lnTo>
                <a:lnTo>
                  <a:pt x="626" y="67"/>
                </a:lnTo>
                <a:lnTo>
                  <a:pt x="628" y="71"/>
                </a:lnTo>
                <a:lnTo>
                  <a:pt x="630" y="77"/>
                </a:lnTo>
                <a:lnTo>
                  <a:pt x="630" y="83"/>
                </a:lnTo>
                <a:lnTo>
                  <a:pt x="630" y="86"/>
                </a:lnTo>
                <a:lnTo>
                  <a:pt x="628" y="92"/>
                </a:lnTo>
                <a:lnTo>
                  <a:pt x="628" y="98"/>
                </a:lnTo>
                <a:lnTo>
                  <a:pt x="626" y="104"/>
                </a:lnTo>
                <a:lnTo>
                  <a:pt x="624" y="106"/>
                </a:lnTo>
                <a:lnTo>
                  <a:pt x="620" y="108"/>
                </a:lnTo>
                <a:lnTo>
                  <a:pt x="616" y="111"/>
                </a:lnTo>
                <a:lnTo>
                  <a:pt x="610" y="113"/>
                </a:lnTo>
                <a:lnTo>
                  <a:pt x="605" y="117"/>
                </a:lnTo>
                <a:lnTo>
                  <a:pt x="597" y="119"/>
                </a:lnTo>
                <a:lnTo>
                  <a:pt x="587" y="123"/>
                </a:lnTo>
                <a:lnTo>
                  <a:pt x="578" y="127"/>
                </a:lnTo>
                <a:lnTo>
                  <a:pt x="566" y="129"/>
                </a:lnTo>
                <a:lnTo>
                  <a:pt x="555" y="133"/>
                </a:lnTo>
                <a:lnTo>
                  <a:pt x="541" y="136"/>
                </a:lnTo>
                <a:lnTo>
                  <a:pt x="526" y="140"/>
                </a:lnTo>
                <a:lnTo>
                  <a:pt x="511" y="142"/>
                </a:lnTo>
                <a:lnTo>
                  <a:pt x="493" y="146"/>
                </a:lnTo>
                <a:lnTo>
                  <a:pt x="476" y="150"/>
                </a:lnTo>
                <a:lnTo>
                  <a:pt x="457" y="154"/>
                </a:lnTo>
                <a:lnTo>
                  <a:pt x="436" y="157"/>
                </a:lnTo>
                <a:lnTo>
                  <a:pt x="415" y="161"/>
                </a:lnTo>
                <a:lnTo>
                  <a:pt x="394" y="165"/>
                </a:lnTo>
                <a:lnTo>
                  <a:pt x="369" y="167"/>
                </a:lnTo>
                <a:lnTo>
                  <a:pt x="344" y="171"/>
                </a:lnTo>
                <a:lnTo>
                  <a:pt x="319" y="175"/>
                </a:lnTo>
                <a:lnTo>
                  <a:pt x="292" y="179"/>
                </a:lnTo>
                <a:lnTo>
                  <a:pt x="263" y="182"/>
                </a:lnTo>
                <a:lnTo>
                  <a:pt x="234" y="186"/>
                </a:lnTo>
                <a:lnTo>
                  <a:pt x="204" y="190"/>
                </a:lnTo>
                <a:lnTo>
                  <a:pt x="173" y="194"/>
                </a:lnTo>
                <a:lnTo>
                  <a:pt x="140" y="198"/>
                </a:lnTo>
                <a:lnTo>
                  <a:pt x="106" y="204"/>
                </a:lnTo>
                <a:lnTo>
                  <a:pt x="71" y="207"/>
                </a:lnTo>
                <a:lnTo>
                  <a:pt x="37" y="211"/>
                </a:lnTo>
                <a:lnTo>
                  <a:pt x="0" y="215"/>
                </a:lnTo>
                <a:lnTo>
                  <a:pt x="0" y="152"/>
                </a:lnTo>
                <a:lnTo>
                  <a:pt x="0" y="8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Freeform 96"/>
          <p:cNvSpPr/>
          <p:nvPr/>
        </p:nvSpPr>
        <p:spPr>
          <a:xfrm>
            <a:off x="5568840" y="2927520"/>
            <a:ext cx="824040" cy="631800"/>
          </a:xfrm>
          <a:custGeom>
            <a:avLst/>
            <a:gdLst/>
            <a:ahLst/>
            <a:rect l="l" t="t" r="r" b="b"/>
            <a:pathLst>
              <a:path w="1039" h="794">
                <a:moveTo>
                  <a:pt x="680" y="794"/>
                </a:moveTo>
                <a:lnTo>
                  <a:pt x="607" y="794"/>
                </a:lnTo>
                <a:lnTo>
                  <a:pt x="534" y="794"/>
                </a:lnTo>
                <a:lnTo>
                  <a:pt x="544" y="762"/>
                </a:lnTo>
                <a:lnTo>
                  <a:pt x="555" y="731"/>
                </a:lnTo>
                <a:lnTo>
                  <a:pt x="565" y="700"/>
                </a:lnTo>
                <a:lnTo>
                  <a:pt x="574" y="672"/>
                </a:lnTo>
                <a:lnTo>
                  <a:pt x="584" y="643"/>
                </a:lnTo>
                <a:lnTo>
                  <a:pt x="594" y="614"/>
                </a:lnTo>
                <a:lnTo>
                  <a:pt x="601" y="589"/>
                </a:lnTo>
                <a:lnTo>
                  <a:pt x="611" y="562"/>
                </a:lnTo>
                <a:lnTo>
                  <a:pt x="619" y="537"/>
                </a:lnTo>
                <a:lnTo>
                  <a:pt x="626" y="514"/>
                </a:lnTo>
                <a:lnTo>
                  <a:pt x="632" y="491"/>
                </a:lnTo>
                <a:lnTo>
                  <a:pt x="640" y="468"/>
                </a:lnTo>
                <a:lnTo>
                  <a:pt x="645" y="447"/>
                </a:lnTo>
                <a:lnTo>
                  <a:pt x="651" y="428"/>
                </a:lnTo>
                <a:lnTo>
                  <a:pt x="657" y="409"/>
                </a:lnTo>
                <a:lnTo>
                  <a:pt x="663" y="389"/>
                </a:lnTo>
                <a:lnTo>
                  <a:pt x="666" y="372"/>
                </a:lnTo>
                <a:lnTo>
                  <a:pt x="672" y="357"/>
                </a:lnTo>
                <a:lnTo>
                  <a:pt x="676" y="341"/>
                </a:lnTo>
                <a:lnTo>
                  <a:pt x="680" y="328"/>
                </a:lnTo>
                <a:lnTo>
                  <a:pt x="684" y="315"/>
                </a:lnTo>
                <a:lnTo>
                  <a:pt x="686" y="303"/>
                </a:lnTo>
                <a:lnTo>
                  <a:pt x="688" y="291"/>
                </a:lnTo>
                <a:lnTo>
                  <a:pt x="690" y="280"/>
                </a:lnTo>
                <a:lnTo>
                  <a:pt x="691" y="272"/>
                </a:lnTo>
                <a:lnTo>
                  <a:pt x="693" y="263"/>
                </a:lnTo>
                <a:lnTo>
                  <a:pt x="695" y="257"/>
                </a:lnTo>
                <a:lnTo>
                  <a:pt x="695" y="251"/>
                </a:lnTo>
                <a:lnTo>
                  <a:pt x="695" y="245"/>
                </a:lnTo>
                <a:lnTo>
                  <a:pt x="695" y="242"/>
                </a:lnTo>
                <a:lnTo>
                  <a:pt x="695" y="238"/>
                </a:lnTo>
                <a:lnTo>
                  <a:pt x="693" y="238"/>
                </a:lnTo>
                <a:lnTo>
                  <a:pt x="690" y="234"/>
                </a:lnTo>
                <a:lnTo>
                  <a:pt x="686" y="232"/>
                </a:lnTo>
                <a:lnTo>
                  <a:pt x="678" y="230"/>
                </a:lnTo>
                <a:lnTo>
                  <a:pt x="670" y="230"/>
                </a:lnTo>
                <a:lnTo>
                  <a:pt x="661" y="228"/>
                </a:lnTo>
                <a:lnTo>
                  <a:pt x="651" y="228"/>
                </a:lnTo>
                <a:lnTo>
                  <a:pt x="638" y="228"/>
                </a:lnTo>
                <a:lnTo>
                  <a:pt x="624" y="230"/>
                </a:lnTo>
                <a:lnTo>
                  <a:pt x="611" y="232"/>
                </a:lnTo>
                <a:lnTo>
                  <a:pt x="594" y="234"/>
                </a:lnTo>
                <a:lnTo>
                  <a:pt x="576" y="236"/>
                </a:lnTo>
                <a:lnTo>
                  <a:pt x="557" y="240"/>
                </a:lnTo>
                <a:lnTo>
                  <a:pt x="536" y="245"/>
                </a:lnTo>
                <a:lnTo>
                  <a:pt x="515" y="251"/>
                </a:lnTo>
                <a:lnTo>
                  <a:pt x="492" y="257"/>
                </a:lnTo>
                <a:lnTo>
                  <a:pt x="467" y="265"/>
                </a:lnTo>
                <a:lnTo>
                  <a:pt x="440" y="272"/>
                </a:lnTo>
                <a:lnTo>
                  <a:pt x="415" y="280"/>
                </a:lnTo>
                <a:lnTo>
                  <a:pt x="392" y="286"/>
                </a:lnTo>
                <a:lnTo>
                  <a:pt x="369" y="291"/>
                </a:lnTo>
                <a:lnTo>
                  <a:pt x="348" y="297"/>
                </a:lnTo>
                <a:lnTo>
                  <a:pt x="329" y="301"/>
                </a:lnTo>
                <a:lnTo>
                  <a:pt x="311" y="305"/>
                </a:lnTo>
                <a:lnTo>
                  <a:pt x="294" y="309"/>
                </a:lnTo>
                <a:lnTo>
                  <a:pt x="279" y="311"/>
                </a:lnTo>
                <a:lnTo>
                  <a:pt x="263" y="315"/>
                </a:lnTo>
                <a:lnTo>
                  <a:pt x="250" y="316"/>
                </a:lnTo>
                <a:lnTo>
                  <a:pt x="238" y="318"/>
                </a:lnTo>
                <a:lnTo>
                  <a:pt x="227" y="318"/>
                </a:lnTo>
                <a:lnTo>
                  <a:pt x="217" y="320"/>
                </a:lnTo>
                <a:lnTo>
                  <a:pt x="208" y="320"/>
                </a:lnTo>
                <a:lnTo>
                  <a:pt x="200" y="320"/>
                </a:lnTo>
                <a:lnTo>
                  <a:pt x="192" y="320"/>
                </a:lnTo>
                <a:lnTo>
                  <a:pt x="185" y="318"/>
                </a:lnTo>
                <a:lnTo>
                  <a:pt x="175" y="316"/>
                </a:lnTo>
                <a:lnTo>
                  <a:pt x="166" y="313"/>
                </a:lnTo>
                <a:lnTo>
                  <a:pt x="156" y="309"/>
                </a:lnTo>
                <a:lnTo>
                  <a:pt x="144" y="303"/>
                </a:lnTo>
                <a:lnTo>
                  <a:pt x="133" y="297"/>
                </a:lnTo>
                <a:lnTo>
                  <a:pt x="121" y="291"/>
                </a:lnTo>
                <a:lnTo>
                  <a:pt x="108" y="284"/>
                </a:lnTo>
                <a:lnTo>
                  <a:pt x="95" y="276"/>
                </a:lnTo>
                <a:lnTo>
                  <a:pt x="81" y="267"/>
                </a:lnTo>
                <a:lnTo>
                  <a:pt x="66" y="257"/>
                </a:lnTo>
                <a:lnTo>
                  <a:pt x="50" y="245"/>
                </a:lnTo>
                <a:lnTo>
                  <a:pt x="35" y="234"/>
                </a:lnTo>
                <a:lnTo>
                  <a:pt x="18" y="222"/>
                </a:lnTo>
                <a:lnTo>
                  <a:pt x="0" y="209"/>
                </a:lnTo>
                <a:lnTo>
                  <a:pt x="33" y="203"/>
                </a:lnTo>
                <a:lnTo>
                  <a:pt x="64" y="197"/>
                </a:lnTo>
                <a:lnTo>
                  <a:pt x="96" y="194"/>
                </a:lnTo>
                <a:lnTo>
                  <a:pt x="125" y="188"/>
                </a:lnTo>
                <a:lnTo>
                  <a:pt x="187" y="178"/>
                </a:lnTo>
                <a:lnTo>
                  <a:pt x="244" y="167"/>
                </a:lnTo>
                <a:lnTo>
                  <a:pt x="300" y="157"/>
                </a:lnTo>
                <a:lnTo>
                  <a:pt x="357" y="146"/>
                </a:lnTo>
                <a:lnTo>
                  <a:pt x="411" y="136"/>
                </a:lnTo>
                <a:lnTo>
                  <a:pt x="467" y="125"/>
                </a:lnTo>
                <a:lnTo>
                  <a:pt x="494" y="121"/>
                </a:lnTo>
                <a:lnTo>
                  <a:pt x="519" y="115"/>
                </a:lnTo>
                <a:lnTo>
                  <a:pt x="542" y="109"/>
                </a:lnTo>
                <a:lnTo>
                  <a:pt x="565" y="103"/>
                </a:lnTo>
                <a:lnTo>
                  <a:pt x="586" y="100"/>
                </a:lnTo>
                <a:lnTo>
                  <a:pt x="605" y="94"/>
                </a:lnTo>
                <a:lnTo>
                  <a:pt x="622" y="88"/>
                </a:lnTo>
                <a:lnTo>
                  <a:pt x="638" y="82"/>
                </a:lnTo>
                <a:lnTo>
                  <a:pt x="653" y="78"/>
                </a:lnTo>
                <a:lnTo>
                  <a:pt x="666" y="73"/>
                </a:lnTo>
                <a:lnTo>
                  <a:pt x="678" y="67"/>
                </a:lnTo>
                <a:lnTo>
                  <a:pt x="690" y="63"/>
                </a:lnTo>
                <a:lnTo>
                  <a:pt x="699" y="57"/>
                </a:lnTo>
                <a:lnTo>
                  <a:pt x="707" y="52"/>
                </a:lnTo>
                <a:lnTo>
                  <a:pt x="714" y="46"/>
                </a:lnTo>
                <a:lnTo>
                  <a:pt x="720" y="42"/>
                </a:lnTo>
                <a:lnTo>
                  <a:pt x="730" y="32"/>
                </a:lnTo>
                <a:lnTo>
                  <a:pt x="741" y="23"/>
                </a:lnTo>
                <a:lnTo>
                  <a:pt x="755" y="15"/>
                </a:lnTo>
                <a:lnTo>
                  <a:pt x="768" y="9"/>
                </a:lnTo>
                <a:lnTo>
                  <a:pt x="782" y="6"/>
                </a:lnTo>
                <a:lnTo>
                  <a:pt x="797" y="2"/>
                </a:lnTo>
                <a:lnTo>
                  <a:pt x="810" y="0"/>
                </a:lnTo>
                <a:lnTo>
                  <a:pt x="826" y="0"/>
                </a:lnTo>
                <a:lnTo>
                  <a:pt x="841" y="6"/>
                </a:lnTo>
                <a:lnTo>
                  <a:pt x="857" y="11"/>
                </a:lnTo>
                <a:lnTo>
                  <a:pt x="872" y="17"/>
                </a:lnTo>
                <a:lnTo>
                  <a:pt x="887" y="25"/>
                </a:lnTo>
                <a:lnTo>
                  <a:pt x="905" y="32"/>
                </a:lnTo>
                <a:lnTo>
                  <a:pt x="914" y="38"/>
                </a:lnTo>
                <a:lnTo>
                  <a:pt x="922" y="42"/>
                </a:lnTo>
                <a:lnTo>
                  <a:pt x="931" y="48"/>
                </a:lnTo>
                <a:lnTo>
                  <a:pt x="941" y="55"/>
                </a:lnTo>
                <a:lnTo>
                  <a:pt x="951" y="61"/>
                </a:lnTo>
                <a:lnTo>
                  <a:pt x="960" y="69"/>
                </a:lnTo>
                <a:lnTo>
                  <a:pt x="970" y="77"/>
                </a:lnTo>
                <a:lnTo>
                  <a:pt x="977" y="84"/>
                </a:lnTo>
                <a:lnTo>
                  <a:pt x="987" y="92"/>
                </a:lnTo>
                <a:lnTo>
                  <a:pt x="995" y="98"/>
                </a:lnTo>
                <a:lnTo>
                  <a:pt x="1002" y="105"/>
                </a:lnTo>
                <a:lnTo>
                  <a:pt x="1008" y="111"/>
                </a:lnTo>
                <a:lnTo>
                  <a:pt x="1014" y="117"/>
                </a:lnTo>
                <a:lnTo>
                  <a:pt x="1020" y="123"/>
                </a:lnTo>
                <a:lnTo>
                  <a:pt x="1024" y="130"/>
                </a:lnTo>
                <a:lnTo>
                  <a:pt x="1027" y="134"/>
                </a:lnTo>
                <a:lnTo>
                  <a:pt x="1031" y="140"/>
                </a:lnTo>
                <a:lnTo>
                  <a:pt x="1035" y="146"/>
                </a:lnTo>
                <a:lnTo>
                  <a:pt x="1037" y="151"/>
                </a:lnTo>
                <a:lnTo>
                  <a:pt x="1039" y="157"/>
                </a:lnTo>
                <a:lnTo>
                  <a:pt x="1039" y="163"/>
                </a:lnTo>
                <a:lnTo>
                  <a:pt x="1039" y="167"/>
                </a:lnTo>
                <a:lnTo>
                  <a:pt x="1039" y="178"/>
                </a:lnTo>
                <a:lnTo>
                  <a:pt x="1037" y="188"/>
                </a:lnTo>
                <a:lnTo>
                  <a:pt x="1033" y="197"/>
                </a:lnTo>
                <a:lnTo>
                  <a:pt x="1027" y="207"/>
                </a:lnTo>
                <a:lnTo>
                  <a:pt x="1024" y="211"/>
                </a:lnTo>
                <a:lnTo>
                  <a:pt x="1020" y="217"/>
                </a:lnTo>
                <a:lnTo>
                  <a:pt x="1016" y="220"/>
                </a:lnTo>
                <a:lnTo>
                  <a:pt x="1012" y="224"/>
                </a:lnTo>
                <a:lnTo>
                  <a:pt x="1006" y="228"/>
                </a:lnTo>
                <a:lnTo>
                  <a:pt x="1000" y="230"/>
                </a:lnTo>
                <a:lnTo>
                  <a:pt x="993" y="234"/>
                </a:lnTo>
                <a:lnTo>
                  <a:pt x="987" y="238"/>
                </a:lnTo>
                <a:lnTo>
                  <a:pt x="981" y="240"/>
                </a:lnTo>
                <a:lnTo>
                  <a:pt x="977" y="244"/>
                </a:lnTo>
                <a:lnTo>
                  <a:pt x="974" y="249"/>
                </a:lnTo>
                <a:lnTo>
                  <a:pt x="968" y="255"/>
                </a:lnTo>
                <a:lnTo>
                  <a:pt x="962" y="261"/>
                </a:lnTo>
                <a:lnTo>
                  <a:pt x="956" y="268"/>
                </a:lnTo>
                <a:lnTo>
                  <a:pt x="951" y="278"/>
                </a:lnTo>
                <a:lnTo>
                  <a:pt x="943" y="288"/>
                </a:lnTo>
                <a:lnTo>
                  <a:pt x="937" y="297"/>
                </a:lnTo>
                <a:lnTo>
                  <a:pt x="929" y="309"/>
                </a:lnTo>
                <a:lnTo>
                  <a:pt x="922" y="320"/>
                </a:lnTo>
                <a:lnTo>
                  <a:pt x="912" y="334"/>
                </a:lnTo>
                <a:lnTo>
                  <a:pt x="905" y="347"/>
                </a:lnTo>
                <a:lnTo>
                  <a:pt x="895" y="363"/>
                </a:lnTo>
                <a:lnTo>
                  <a:pt x="887" y="378"/>
                </a:lnTo>
                <a:lnTo>
                  <a:pt x="878" y="395"/>
                </a:lnTo>
                <a:lnTo>
                  <a:pt x="866" y="412"/>
                </a:lnTo>
                <a:lnTo>
                  <a:pt x="857" y="432"/>
                </a:lnTo>
                <a:lnTo>
                  <a:pt x="847" y="451"/>
                </a:lnTo>
                <a:lnTo>
                  <a:pt x="835" y="472"/>
                </a:lnTo>
                <a:lnTo>
                  <a:pt x="824" y="493"/>
                </a:lnTo>
                <a:lnTo>
                  <a:pt x="812" y="516"/>
                </a:lnTo>
                <a:lnTo>
                  <a:pt x="801" y="539"/>
                </a:lnTo>
                <a:lnTo>
                  <a:pt x="789" y="564"/>
                </a:lnTo>
                <a:lnTo>
                  <a:pt x="776" y="589"/>
                </a:lnTo>
                <a:lnTo>
                  <a:pt x="762" y="616"/>
                </a:lnTo>
                <a:lnTo>
                  <a:pt x="749" y="643"/>
                </a:lnTo>
                <a:lnTo>
                  <a:pt x="736" y="672"/>
                </a:lnTo>
                <a:lnTo>
                  <a:pt x="722" y="700"/>
                </a:lnTo>
                <a:lnTo>
                  <a:pt x="709" y="731"/>
                </a:lnTo>
                <a:lnTo>
                  <a:pt x="695" y="762"/>
                </a:lnTo>
                <a:lnTo>
                  <a:pt x="680" y="79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08"/>
                                        </p:tgtEl>
                                        <p:attrNameLst>
                                          <p:attrName>style.visibility</p:attrName>
                                        </p:attrNameLst>
                                      </p:cBhvr>
                                      <p:to>
                                        <p:strVal val="visible"/>
                                      </p:to>
                                    </p:set>
                                    <p:anim calcmode="lin" valueType="num">
                                      <p:cBhvr additive="base">
                                        <p:cTn id="492" dur="500" fill="hold"/>
                                        <p:tgtEl>
                                          <p:spTgt spid="208"/>
                                        </p:tgtEl>
                                        <p:attrNameLst>
                                          <p:attrName>ppt_x</p:attrName>
                                        </p:attrNameLst>
                                      </p:cBhvr>
                                      <p:tavLst>
                                        <p:tav tm="0">
                                          <p:val>
                                            <p:strVal val="0-#ppt_w/2"/>
                                          </p:val>
                                        </p:tav>
                                        <p:tav tm="100000">
                                          <p:val>
                                            <p:strVal val="#ppt_x"/>
                                          </p:val>
                                        </p:tav>
                                      </p:tavLst>
                                    </p:anim>
                                    <p:anim calcmode="lin" valueType="num">
                                      <p:cBhvr additive="base">
                                        <p:cTn id="493"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16"/>
                                        </p:tgtEl>
                                        <p:attrNameLst>
                                          <p:attrName>style.visibility</p:attrName>
                                        </p:attrNameLst>
                                      </p:cBhvr>
                                      <p:to>
                                        <p:strVal val="visible"/>
                                      </p:to>
                                    </p:set>
                                    <p:animEffect filter="wipe(left)" transition="in">
                                      <p:cBhvr additive="repl">
                                        <p:cTn id="498" dur="500"/>
                                        <p:tgtEl>
                                          <p:spTgt spid="216"/>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15"/>
                                        </p:tgtEl>
                                        <p:attrNameLst>
                                          <p:attrName>style.visibility</p:attrName>
                                        </p:attrNameLst>
                                      </p:cBhvr>
                                      <p:to>
                                        <p:strVal val="visible"/>
                                      </p:to>
                                    </p:set>
                                    <p:animEffect filter="wipe(left)" transition="in">
                                      <p:cBhvr additive="repl">
                                        <p:cTn id="503" dur="500"/>
                                        <p:tgtEl>
                                          <p:spTgt spid="215"/>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1">
                                  <p:stCondLst>
                                    <p:cond delay="0"/>
                                  </p:stCondLst>
                                  <p:childTnLst>
                                    <p:set>
                                      <p:cBhvr>
                                        <p:cTn id="507" dur="1" fill="hold">
                                          <p:stCondLst>
                                            <p:cond delay="0"/>
                                          </p:stCondLst>
                                        </p:cTn>
                                        <p:tgtEl>
                                          <p:spTgt spid="213"/>
                                        </p:tgtEl>
                                        <p:attrNameLst>
                                          <p:attrName>style.visibility</p:attrName>
                                        </p:attrNameLst>
                                      </p:cBhvr>
                                      <p:to>
                                        <p:strVal val="visible"/>
                                      </p:to>
                                    </p:set>
                                    <p:animEffect filter="wipe(up)" transition="in">
                                      <p:cBhvr additive="repl">
                                        <p:cTn id="508" dur="500"/>
                                        <p:tgtEl>
                                          <p:spTgt spid="213"/>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14"/>
                                        </p:tgtEl>
                                        <p:attrNameLst>
                                          <p:attrName>style.visibility</p:attrName>
                                        </p:attrNameLst>
                                      </p:cBhvr>
                                      <p:to>
                                        <p:strVal val="visible"/>
                                      </p:to>
                                    </p:set>
                                    <p:animEffect filter="wipe(up)" transition="in">
                                      <p:cBhvr additive="repl">
                                        <p:cTn id="513" dur="500"/>
                                        <p:tgtEl>
                                          <p:spTgt spid="214"/>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212"/>
                                        </p:tgtEl>
                                        <p:attrNameLst>
                                          <p:attrName>style.visibility</p:attrName>
                                        </p:attrNameLst>
                                      </p:cBhvr>
                                      <p:to>
                                        <p:strVal val="visible"/>
                                      </p:to>
                                    </p:set>
                                    <p:animEffect filter="wipe(left)" transition="in">
                                      <p:cBhvr additive="repl">
                                        <p:cTn id="518" dur="500"/>
                                        <p:tgtEl>
                                          <p:spTgt spid="212"/>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211"/>
                                        </p:tgtEl>
                                        <p:attrNameLst>
                                          <p:attrName>style.visibility</p:attrName>
                                        </p:attrNameLst>
                                      </p:cBhvr>
                                      <p:to>
                                        <p:strVal val="visible"/>
                                      </p:to>
                                    </p:set>
                                    <p:animEffect filter="wipe(up)" transition="in">
                                      <p:cBhvr additive="repl">
                                        <p:cTn id="523" dur="500"/>
                                        <p:tgtEl>
                                          <p:spTgt spid="211"/>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1">
                                  <p:stCondLst>
                                    <p:cond delay="0"/>
                                  </p:stCondLst>
                                  <p:childTnLst>
                                    <p:set>
                                      <p:cBhvr>
                                        <p:cTn id="527" dur="1" fill="hold">
                                          <p:stCondLst>
                                            <p:cond delay="0"/>
                                          </p:stCondLst>
                                        </p:cTn>
                                        <p:tgtEl>
                                          <p:spTgt spid="209"/>
                                        </p:tgtEl>
                                        <p:attrNameLst>
                                          <p:attrName>style.visibility</p:attrName>
                                        </p:attrNameLst>
                                      </p:cBhvr>
                                      <p:to>
                                        <p:strVal val="visible"/>
                                      </p:to>
                                    </p:set>
                                    <p:animEffect filter="wipe(up)" transition="in">
                                      <p:cBhvr additive="repl">
                                        <p:cTn id="528" dur="500"/>
                                        <p:tgtEl>
                                          <p:spTgt spid="209"/>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1">
                                  <p:stCondLst>
                                    <p:cond delay="0"/>
                                  </p:stCondLst>
                                  <p:childTnLst>
                                    <p:set>
                                      <p:cBhvr>
                                        <p:cTn id="532" dur="1" fill="hold">
                                          <p:stCondLst>
                                            <p:cond delay="0"/>
                                          </p:stCondLst>
                                        </p:cTn>
                                        <p:tgtEl>
                                          <p:spTgt spid="210"/>
                                        </p:tgtEl>
                                        <p:attrNameLst>
                                          <p:attrName>style.visibility</p:attrName>
                                        </p:attrNameLst>
                                      </p:cBhvr>
                                      <p:to>
                                        <p:strVal val="visible"/>
                                      </p:to>
                                    </p:set>
                                    <p:animEffect filter="wipe(up)" transition="in">
                                      <p:cBhvr additive="repl">
                                        <p:cTn id="533" dur="500"/>
                                        <p:tgtEl>
                                          <p:spTgt spid="210"/>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53" presetSubtype="16">
                                  <p:stCondLst>
                                    <p:cond delay="0"/>
                                  </p:stCondLst>
                                  <p:childTnLst>
                                    <p:set>
                                      <p:cBhvr>
                                        <p:cTn id="537" dur="1" fill="hold">
                                          <p:stCondLst>
                                            <p:cond delay="0"/>
                                          </p:stCondLst>
                                        </p:cTn>
                                        <p:tgtEl>
                                          <p:spTgt spid="205"/>
                                        </p:tgtEl>
                                        <p:attrNameLst>
                                          <p:attrName>style.visibility</p:attrName>
                                        </p:attrNameLst>
                                      </p:cBhvr>
                                      <p:to>
                                        <p:strVal val="visible"/>
                                      </p:to>
                                    </p:set>
                                    <p:anim calcmode="lin" valueType="num">
                                      <p:cBhvr additive="repl">
                                        <p:cTn id="538" dur="500" fill="hold"/>
                                        <p:tgtEl>
                                          <p:spTgt spid="205"/>
                                        </p:tgtEl>
                                        <p:attrNameLst>
                                          <p:attrName>ppt_w</p:attrName>
                                        </p:attrNameLst>
                                      </p:cBhvr>
                                      <p:tavLst>
                                        <p:tav tm="0">
                                          <p:val>
                                            <p:fltVal val="0"/>
                                          </p:val>
                                        </p:tav>
                                        <p:tav tm="100000">
                                          <p:val>
                                            <p:strVal val="#ppt_w"/>
                                          </p:val>
                                        </p:tav>
                                      </p:tavLst>
                                    </p:anim>
                                    <p:anim calcmode="lin" valueType="num">
                                      <p:cBhvr additive="repl">
                                        <p:cTn id="539" dur="500" fill="hold"/>
                                        <p:tgtEl>
                                          <p:spTgt spid="205"/>
                                        </p:tgtEl>
                                        <p:attrNameLst>
                                          <p:attrName>ppt_h</p:attrName>
                                        </p:attrNameLst>
                                      </p:cBhvr>
                                      <p:tavLst>
                                        <p:tav tm="0">
                                          <p:val>
                                            <p:fltVal val="0"/>
                                          </p:val>
                                        </p:tav>
                                        <p:tav tm="100000">
                                          <p:val>
                                            <p:strVal val="#ppt_h"/>
                                          </p:val>
                                        </p:tav>
                                      </p:tavLst>
                                    </p:anim>
                                    <p:animEffect filter="fade" transition="in">
                                      <p:cBhvr additive="repl">
                                        <p:cTn id="54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粥</a:t>
            </a:r>
            <a:endParaRPr b="0" lang="en-US" sz="8000" spc="-1" strike="noStrike">
              <a:solidFill>
                <a:srgbClr val="000000"/>
              </a:solidFill>
              <a:latin typeface="Calibri"/>
            </a:endParaRPr>
          </a:p>
        </p:txBody>
      </p:sp>
      <p:graphicFrame>
        <p:nvGraphicFramePr>
          <p:cNvPr id="218"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19" name="组合 3"/>
          <p:cNvGrpSpPr/>
          <p:nvPr/>
        </p:nvGrpSpPr>
        <p:grpSpPr>
          <a:xfrm>
            <a:off x="1187280" y="3975120"/>
            <a:ext cx="2840040" cy="1571760"/>
            <a:chOff x="1187280" y="3975120"/>
            <a:chExt cx="2840040" cy="1571760"/>
          </a:xfrm>
        </p:grpSpPr>
        <p:pic>
          <p:nvPicPr>
            <p:cNvPr id="220" name="图示 4" descr=""/>
            <p:cNvPicPr/>
            <p:nvPr/>
          </p:nvPicPr>
          <p:blipFill>
            <a:blip r:embed="rId1"/>
            <a:stretch/>
          </p:blipFill>
          <p:spPr>
            <a:xfrm>
              <a:off x="1187280" y="3975120"/>
              <a:ext cx="2840040" cy="1571760"/>
            </a:xfrm>
            <a:prstGeom prst="rect">
              <a:avLst/>
            </a:prstGeom>
            <a:ln w="0">
              <a:noFill/>
            </a:ln>
          </p:spPr>
        </p:pic>
        <p:sp>
          <p:nvSpPr>
            <p:cNvPr id="221" name="矩形 2"/>
            <p:cNvSpPr/>
            <p:nvPr/>
          </p:nvSpPr>
          <p:spPr>
            <a:xfrm>
              <a:off x="1198080" y="458784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中间部分“米”的横竖分别写在中线上。</a:t>
              </a:r>
              <a:endParaRPr b="0" lang="en-US" sz="2000" spc="-1" strike="noStrike">
                <a:solidFill>
                  <a:srgbClr val="000000"/>
                </a:solidFill>
                <a:latin typeface="Calibri"/>
              </a:endParaRPr>
            </a:p>
          </p:txBody>
        </p:sp>
      </p:grpSp>
      <p:sp>
        <p:nvSpPr>
          <p:cNvPr id="222" name="矩形 2"/>
          <p:cNvSpPr/>
          <p:nvPr/>
        </p:nvSpPr>
        <p:spPr>
          <a:xfrm>
            <a:off x="1935000" y="1855800"/>
            <a:ext cx="16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zhōu</a:t>
            </a:r>
            <a:endParaRPr b="0" lang="en-US" sz="4800" spc="-1" strike="noStrike">
              <a:solidFill>
                <a:srgbClr val="000000"/>
              </a:solidFill>
              <a:latin typeface="Calibri"/>
            </a:endParaRPr>
          </a:p>
        </p:txBody>
      </p:sp>
      <p:sp>
        <p:nvSpPr>
          <p:cNvPr id="223" name="Freeform 186"/>
          <p:cNvSpPr/>
          <p:nvPr/>
        </p:nvSpPr>
        <p:spPr>
          <a:xfrm>
            <a:off x="7016760" y="3497400"/>
            <a:ext cx="797040" cy="1528560"/>
          </a:xfrm>
          <a:custGeom>
            <a:avLst/>
            <a:gdLst/>
            <a:ahLst/>
            <a:rect l="l" t="t" r="r" b="b"/>
            <a:pathLst>
              <a:path w="1004" h="1925">
                <a:moveTo>
                  <a:pt x="618" y="1844"/>
                </a:moveTo>
                <a:lnTo>
                  <a:pt x="609" y="1854"/>
                </a:lnTo>
                <a:lnTo>
                  <a:pt x="599" y="1864"/>
                </a:lnTo>
                <a:lnTo>
                  <a:pt x="589" y="1871"/>
                </a:lnTo>
                <a:lnTo>
                  <a:pt x="580" y="1881"/>
                </a:lnTo>
                <a:lnTo>
                  <a:pt x="570" y="1887"/>
                </a:lnTo>
                <a:lnTo>
                  <a:pt x="563" y="1894"/>
                </a:lnTo>
                <a:lnTo>
                  <a:pt x="555" y="1900"/>
                </a:lnTo>
                <a:lnTo>
                  <a:pt x="545" y="1906"/>
                </a:lnTo>
                <a:lnTo>
                  <a:pt x="538" y="1910"/>
                </a:lnTo>
                <a:lnTo>
                  <a:pt x="532" y="1914"/>
                </a:lnTo>
                <a:lnTo>
                  <a:pt x="524" y="1917"/>
                </a:lnTo>
                <a:lnTo>
                  <a:pt x="518" y="1919"/>
                </a:lnTo>
                <a:lnTo>
                  <a:pt x="511" y="1921"/>
                </a:lnTo>
                <a:lnTo>
                  <a:pt x="505" y="1923"/>
                </a:lnTo>
                <a:lnTo>
                  <a:pt x="499" y="1925"/>
                </a:lnTo>
                <a:lnTo>
                  <a:pt x="495" y="1925"/>
                </a:lnTo>
                <a:lnTo>
                  <a:pt x="488" y="1921"/>
                </a:lnTo>
                <a:lnTo>
                  <a:pt x="480" y="1919"/>
                </a:lnTo>
                <a:lnTo>
                  <a:pt x="474" y="1915"/>
                </a:lnTo>
                <a:lnTo>
                  <a:pt x="469" y="1912"/>
                </a:lnTo>
                <a:lnTo>
                  <a:pt x="465" y="1908"/>
                </a:lnTo>
                <a:lnTo>
                  <a:pt x="459" y="1904"/>
                </a:lnTo>
                <a:lnTo>
                  <a:pt x="457" y="1898"/>
                </a:lnTo>
                <a:lnTo>
                  <a:pt x="453" y="1892"/>
                </a:lnTo>
                <a:lnTo>
                  <a:pt x="451" y="1887"/>
                </a:lnTo>
                <a:lnTo>
                  <a:pt x="449" y="1881"/>
                </a:lnTo>
                <a:lnTo>
                  <a:pt x="449" y="1873"/>
                </a:lnTo>
                <a:lnTo>
                  <a:pt x="447" y="1867"/>
                </a:lnTo>
                <a:lnTo>
                  <a:pt x="449" y="1858"/>
                </a:lnTo>
                <a:lnTo>
                  <a:pt x="449" y="1850"/>
                </a:lnTo>
                <a:lnTo>
                  <a:pt x="451" y="1841"/>
                </a:lnTo>
                <a:lnTo>
                  <a:pt x="453" y="1831"/>
                </a:lnTo>
                <a:lnTo>
                  <a:pt x="455" y="1821"/>
                </a:lnTo>
                <a:lnTo>
                  <a:pt x="455" y="1812"/>
                </a:lnTo>
                <a:lnTo>
                  <a:pt x="453" y="1800"/>
                </a:lnTo>
                <a:lnTo>
                  <a:pt x="451" y="1789"/>
                </a:lnTo>
                <a:lnTo>
                  <a:pt x="445" y="1777"/>
                </a:lnTo>
                <a:lnTo>
                  <a:pt x="440" y="1766"/>
                </a:lnTo>
                <a:lnTo>
                  <a:pt x="432" y="1754"/>
                </a:lnTo>
                <a:lnTo>
                  <a:pt x="424" y="1743"/>
                </a:lnTo>
                <a:lnTo>
                  <a:pt x="413" y="1729"/>
                </a:lnTo>
                <a:lnTo>
                  <a:pt x="401" y="1716"/>
                </a:lnTo>
                <a:lnTo>
                  <a:pt x="388" y="1704"/>
                </a:lnTo>
                <a:lnTo>
                  <a:pt x="373" y="1689"/>
                </a:lnTo>
                <a:lnTo>
                  <a:pt x="357" y="1676"/>
                </a:lnTo>
                <a:lnTo>
                  <a:pt x="340" y="1662"/>
                </a:lnTo>
                <a:lnTo>
                  <a:pt x="321" y="1647"/>
                </a:lnTo>
                <a:lnTo>
                  <a:pt x="302" y="1631"/>
                </a:lnTo>
                <a:lnTo>
                  <a:pt x="282" y="1618"/>
                </a:lnTo>
                <a:lnTo>
                  <a:pt x="263" y="1603"/>
                </a:lnTo>
                <a:lnTo>
                  <a:pt x="246" y="1589"/>
                </a:lnTo>
                <a:lnTo>
                  <a:pt x="230" y="1578"/>
                </a:lnTo>
                <a:lnTo>
                  <a:pt x="215" y="1564"/>
                </a:lnTo>
                <a:lnTo>
                  <a:pt x="202" y="1553"/>
                </a:lnTo>
                <a:lnTo>
                  <a:pt x="190" y="1543"/>
                </a:lnTo>
                <a:lnTo>
                  <a:pt x="181" y="1533"/>
                </a:lnTo>
                <a:lnTo>
                  <a:pt x="171" y="1524"/>
                </a:lnTo>
                <a:lnTo>
                  <a:pt x="163" y="1516"/>
                </a:lnTo>
                <a:lnTo>
                  <a:pt x="158" y="1509"/>
                </a:lnTo>
                <a:lnTo>
                  <a:pt x="154" y="1503"/>
                </a:lnTo>
                <a:lnTo>
                  <a:pt x="150" y="1497"/>
                </a:lnTo>
                <a:lnTo>
                  <a:pt x="148" y="1493"/>
                </a:lnTo>
                <a:lnTo>
                  <a:pt x="148" y="1489"/>
                </a:lnTo>
                <a:lnTo>
                  <a:pt x="150" y="1485"/>
                </a:lnTo>
                <a:lnTo>
                  <a:pt x="152" y="1484"/>
                </a:lnTo>
                <a:lnTo>
                  <a:pt x="154" y="1482"/>
                </a:lnTo>
                <a:lnTo>
                  <a:pt x="156" y="1480"/>
                </a:lnTo>
                <a:lnTo>
                  <a:pt x="161" y="1478"/>
                </a:lnTo>
                <a:lnTo>
                  <a:pt x="167" y="1478"/>
                </a:lnTo>
                <a:lnTo>
                  <a:pt x="175" y="1478"/>
                </a:lnTo>
                <a:lnTo>
                  <a:pt x="183" y="1478"/>
                </a:lnTo>
                <a:lnTo>
                  <a:pt x="194" y="1478"/>
                </a:lnTo>
                <a:lnTo>
                  <a:pt x="206" y="1480"/>
                </a:lnTo>
                <a:lnTo>
                  <a:pt x="219" y="1482"/>
                </a:lnTo>
                <a:lnTo>
                  <a:pt x="232" y="1485"/>
                </a:lnTo>
                <a:lnTo>
                  <a:pt x="250" y="1489"/>
                </a:lnTo>
                <a:lnTo>
                  <a:pt x="267" y="1493"/>
                </a:lnTo>
                <a:lnTo>
                  <a:pt x="286" y="1499"/>
                </a:lnTo>
                <a:lnTo>
                  <a:pt x="307" y="1505"/>
                </a:lnTo>
                <a:lnTo>
                  <a:pt x="330" y="1512"/>
                </a:lnTo>
                <a:lnTo>
                  <a:pt x="350" y="1520"/>
                </a:lnTo>
                <a:lnTo>
                  <a:pt x="369" y="1526"/>
                </a:lnTo>
                <a:lnTo>
                  <a:pt x="386" y="1532"/>
                </a:lnTo>
                <a:lnTo>
                  <a:pt x="403" y="1537"/>
                </a:lnTo>
                <a:lnTo>
                  <a:pt x="421" y="1543"/>
                </a:lnTo>
                <a:lnTo>
                  <a:pt x="434" y="1547"/>
                </a:lnTo>
                <a:lnTo>
                  <a:pt x="449" y="1551"/>
                </a:lnTo>
                <a:lnTo>
                  <a:pt x="461" y="1555"/>
                </a:lnTo>
                <a:lnTo>
                  <a:pt x="472" y="1557"/>
                </a:lnTo>
                <a:lnTo>
                  <a:pt x="484" y="1558"/>
                </a:lnTo>
                <a:lnTo>
                  <a:pt x="493" y="1560"/>
                </a:lnTo>
                <a:lnTo>
                  <a:pt x="501" y="1562"/>
                </a:lnTo>
                <a:lnTo>
                  <a:pt x="509" y="1564"/>
                </a:lnTo>
                <a:lnTo>
                  <a:pt x="515" y="1564"/>
                </a:lnTo>
                <a:lnTo>
                  <a:pt x="518" y="1564"/>
                </a:lnTo>
                <a:lnTo>
                  <a:pt x="522" y="1566"/>
                </a:lnTo>
                <a:lnTo>
                  <a:pt x="528" y="1564"/>
                </a:lnTo>
                <a:lnTo>
                  <a:pt x="534" y="1562"/>
                </a:lnTo>
                <a:lnTo>
                  <a:pt x="543" y="1558"/>
                </a:lnTo>
                <a:lnTo>
                  <a:pt x="551" y="1555"/>
                </a:lnTo>
                <a:lnTo>
                  <a:pt x="557" y="1551"/>
                </a:lnTo>
                <a:lnTo>
                  <a:pt x="561" y="1547"/>
                </a:lnTo>
                <a:lnTo>
                  <a:pt x="564" y="1543"/>
                </a:lnTo>
                <a:lnTo>
                  <a:pt x="570" y="1537"/>
                </a:lnTo>
                <a:lnTo>
                  <a:pt x="576" y="1532"/>
                </a:lnTo>
                <a:lnTo>
                  <a:pt x="580" y="1526"/>
                </a:lnTo>
                <a:lnTo>
                  <a:pt x="586" y="1520"/>
                </a:lnTo>
                <a:lnTo>
                  <a:pt x="591" y="1512"/>
                </a:lnTo>
                <a:lnTo>
                  <a:pt x="593" y="1505"/>
                </a:lnTo>
                <a:lnTo>
                  <a:pt x="597" y="1495"/>
                </a:lnTo>
                <a:lnTo>
                  <a:pt x="599" y="1487"/>
                </a:lnTo>
                <a:lnTo>
                  <a:pt x="603" y="1478"/>
                </a:lnTo>
                <a:lnTo>
                  <a:pt x="607" y="1466"/>
                </a:lnTo>
                <a:lnTo>
                  <a:pt x="611" y="1457"/>
                </a:lnTo>
                <a:lnTo>
                  <a:pt x="616" y="1445"/>
                </a:lnTo>
                <a:lnTo>
                  <a:pt x="620" y="1432"/>
                </a:lnTo>
                <a:lnTo>
                  <a:pt x="624" y="1420"/>
                </a:lnTo>
                <a:lnTo>
                  <a:pt x="630" y="1407"/>
                </a:lnTo>
                <a:lnTo>
                  <a:pt x="634" y="1391"/>
                </a:lnTo>
                <a:lnTo>
                  <a:pt x="639" y="1378"/>
                </a:lnTo>
                <a:lnTo>
                  <a:pt x="645" y="1363"/>
                </a:lnTo>
                <a:lnTo>
                  <a:pt x="649" y="1345"/>
                </a:lnTo>
                <a:lnTo>
                  <a:pt x="655" y="1330"/>
                </a:lnTo>
                <a:lnTo>
                  <a:pt x="660" y="1313"/>
                </a:lnTo>
                <a:lnTo>
                  <a:pt x="668" y="1276"/>
                </a:lnTo>
                <a:lnTo>
                  <a:pt x="678" y="1240"/>
                </a:lnTo>
                <a:lnTo>
                  <a:pt x="685" y="1203"/>
                </a:lnTo>
                <a:lnTo>
                  <a:pt x="691" y="1167"/>
                </a:lnTo>
                <a:lnTo>
                  <a:pt x="699" y="1128"/>
                </a:lnTo>
                <a:lnTo>
                  <a:pt x="705" y="1092"/>
                </a:lnTo>
                <a:lnTo>
                  <a:pt x="710" y="1056"/>
                </a:lnTo>
                <a:lnTo>
                  <a:pt x="714" y="1019"/>
                </a:lnTo>
                <a:lnTo>
                  <a:pt x="720" y="985"/>
                </a:lnTo>
                <a:lnTo>
                  <a:pt x="722" y="952"/>
                </a:lnTo>
                <a:lnTo>
                  <a:pt x="726" y="919"/>
                </a:lnTo>
                <a:lnTo>
                  <a:pt x="726" y="889"/>
                </a:lnTo>
                <a:lnTo>
                  <a:pt x="728" y="858"/>
                </a:lnTo>
                <a:lnTo>
                  <a:pt x="728" y="827"/>
                </a:lnTo>
                <a:lnTo>
                  <a:pt x="728" y="768"/>
                </a:lnTo>
                <a:lnTo>
                  <a:pt x="728" y="752"/>
                </a:lnTo>
                <a:lnTo>
                  <a:pt x="728" y="739"/>
                </a:lnTo>
                <a:lnTo>
                  <a:pt x="728" y="725"/>
                </a:lnTo>
                <a:lnTo>
                  <a:pt x="726" y="712"/>
                </a:lnTo>
                <a:lnTo>
                  <a:pt x="724" y="700"/>
                </a:lnTo>
                <a:lnTo>
                  <a:pt x="724" y="689"/>
                </a:lnTo>
                <a:lnTo>
                  <a:pt x="722" y="677"/>
                </a:lnTo>
                <a:lnTo>
                  <a:pt x="720" y="668"/>
                </a:lnTo>
                <a:lnTo>
                  <a:pt x="718" y="660"/>
                </a:lnTo>
                <a:lnTo>
                  <a:pt x="716" y="651"/>
                </a:lnTo>
                <a:lnTo>
                  <a:pt x="712" y="643"/>
                </a:lnTo>
                <a:lnTo>
                  <a:pt x="710" y="637"/>
                </a:lnTo>
                <a:lnTo>
                  <a:pt x="708" y="631"/>
                </a:lnTo>
                <a:lnTo>
                  <a:pt x="707" y="627"/>
                </a:lnTo>
                <a:lnTo>
                  <a:pt x="703" y="624"/>
                </a:lnTo>
                <a:lnTo>
                  <a:pt x="701" y="620"/>
                </a:lnTo>
                <a:lnTo>
                  <a:pt x="697" y="618"/>
                </a:lnTo>
                <a:lnTo>
                  <a:pt x="693" y="614"/>
                </a:lnTo>
                <a:lnTo>
                  <a:pt x="689" y="612"/>
                </a:lnTo>
                <a:lnTo>
                  <a:pt x="683" y="610"/>
                </a:lnTo>
                <a:lnTo>
                  <a:pt x="676" y="608"/>
                </a:lnTo>
                <a:lnTo>
                  <a:pt x="670" y="606"/>
                </a:lnTo>
                <a:lnTo>
                  <a:pt x="660" y="604"/>
                </a:lnTo>
                <a:lnTo>
                  <a:pt x="653" y="603"/>
                </a:lnTo>
                <a:lnTo>
                  <a:pt x="643" y="601"/>
                </a:lnTo>
                <a:lnTo>
                  <a:pt x="634" y="599"/>
                </a:lnTo>
                <a:lnTo>
                  <a:pt x="622" y="597"/>
                </a:lnTo>
                <a:lnTo>
                  <a:pt x="612" y="595"/>
                </a:lnTo>
                <a:lnTo>
                  <a:pt x="588" y="595"/>
                </a:lnTo>
                <a:lnTo>
                  <a:pt x="563" y="593"/>
                </a:lnTo>
                <a:lnTo>
                  <a:pt x="532" y="599"/>
                </a:lnTo>
                <a:lnTo>
                  <a:pt x="501" y="604"/>
                </a:lnTo>
                <a:lnTo>
                  <a:pt x="470" y="610"/>
                </a:lnTo>
                <a:lnTo>
                  <a:pt x="442" y="616"/>
                </a:lnTo>
                <a:lnTo>
                  <a:pt x="411" y="626"/>
                </a:lnTo>
                <a:lnTo>
                  <a:pt x="397" y="629"/>
                </a:lnTo>
                <a:lnTo>
                  <a:pt x="382" y="635"/>
                </a:lnTo>
                <a:lnTo>
                  <a:pt x="369" y="641"/>
                </a:lnTo>
                <a:lnTo>
                  <a:pt x="355" y="647"/>
                </a:lnTo>
                <a:lnTo>
                  <a:pt x="342" y="652"/>
                </a:lnTo>
                <a:lnTo>
                  <a:pt x="330" y="660"/>
                </a:lnTo>
                <a:lnTo>
                  <a:pt x="278" y="691"/>
                </a:lnTo>
                <a:lnTo>
                  <a:pt x="254" y="704"/>
                </a:lnTo>
                <a:lnTo>
                  <a:pt x="229" y="720"/>
                </a:lnTo>
                <a:lnTo>
                  <a:pt x="204" y="735"/>
                </a:lnTo>
                <a:lnTo>
                  <a:pt x="181" y="750"/>
                </a:lnTo>
                <a:lnTo>
                  <a:pt x="158" y="764"/>
                </a:lnTo>
                <a:lnTo>
                  <a:pt x="136" y="779"/>
                </a:lnTo>
                <a:lnTo>
                  <a:pt x="125" y="787"/>
                </a:lnTo>
                <a:lnTo>
                  <a:pt x="113" y="794"/>
                </a:lnTo>
                <a:lnTo>
                  <a:pt x="102" y="800"/>
                </a:lnTo>
                <a:lnTo>
                  <a:pt x="92" y="808"/>
                </a:lnTo>
                <a:lnTo>
                  <a:pt x="83" y="814"/>
                </a:lnTo>
                <a:lnTo>
                  <a:pt x="75" y="818"/>
                </a:lnTo>
                <a:lnTo>
                  <a:pt x="67" y="823"/>
                </a:lnTo>
                <a:lnTo>
                  <a:pt x="62" y="827"/>
                </a:lnTo>
                <a:lnTo>
                  <a:pt x="54" y="831"/>
                </a:lnTo>
                <a:lnTo>
                  <a:pt x="50" y="833"/>
                </a:lnTo>
                <a:lnTo>
                  <a:pt x="44" y="835"/>
                </a:lnTo>
                <a:lnTo>
                  <a:pt x="40" y="837"/>
                </a:lnTo>
                <a:lnTo>
                  <a:pt x="37" y="837"/>
                </a:lnTo>
                <a:lnTo>
                  <a:pt x="33" y="837"/>
                </a:lnTo>
                <a:lnTo>
                  <a:pt x="29" y="835"/>
                </a:lnTo>
                <a:lnTo>
                  <a:pt x="27" y="833"/>
                </a:lnTo>
                <a:lnTo>
                  <a:pt x="21" y="827"/>
                </a:lnTo>
                <a:lnTo>
                  <a:pt x="17" y="819"/>
                </a:lnTo>
                <a:lnTo>
                  <a:pt x="12" y="812"/>
                </a:lnTo>
                <a:lnTo>
                  <a:pt x="8" y="802"/>
                </a:lnTo>
                <a:lnTo>
                  <a:pt x="6" y="796"/>
                </a:lnTo>
                <a:lnTo>
                  <a:pt x="4" y="789"/>
                </a:lnTo>
                <a:lnTo>
                  <a:pt x="2" y="783"/>
                </a:lnTo>
                <a:lnTo>
                  <a:pt x="2" y="775"/>
                </a:lnTo>
                <a:lnTo>
                  <a:pt x="0" y="768"/>
                </a:lnTo>
                <a:lnTo>
                  <a:pt x="0" y="758"/>
                </a:lnTo>
                <a:lnTo>
                  <a:pt x="0" y="750"/>
                </a:lnTo>
                <a:lnTo>
                  <a:pt x="0" y="741"/>
                </a:lnTo>
                <a:lnTo>
                  <a:pt x="0" y="733"/>
                </a:lnTo>
                <a:lnTo>
                  <a:pt x="0" y="723"/>
                </a:lnTo>
                <a:lnTo>
                  <a:pt x="2" y="716"/>
                </a:lnTo>
                <a:lnTo>
                  <a:pt x="4" y="708"/>
                </a:lnTo>
                <a:lnTo>
                  <a:pt x="8" y="699"/>
                </a:lnTo>
                <a:lnTo>
                  <a:pt x="12" y="689"/>
                </a:lnTo>
                <a:lnTo>
                  <a:pt x="16" y="679"/>
                </a:lnTo>
                <a:lnTo>
                  <a:pt x="19" y="670"/>
                </a:lnTo>
                <a:lnTo>
                  <a:pt x="25" y="660"/>
                </a:lnTo>
                <a:lnTo>
                  <a:pt x="31" y="651"/>
                </a:lnTo>
                <a:lnTo>
                  <a:pt x="39" y="639"/>
                </a:lnTo>
                <a:lnTo>
                  <a:pt x="46" y="627"/>
                </a:lnTo>
                <a:lnTo>
                  <a:pt x="54" y="616"/>
                </a:lnTo>
                <a:lnTo>
                  <a:pt x="62" y="604"/>
                </a:lnTo>
                <a:lnTo>
                  <a:pt x="71" y="593"/>
                </a:lnTo>
                <a:lnTo>
                  <a:pt x="83" y="579"/>
                </a:lnTo>
                <a:lnTo>
                  <a:pt x="96" y="560"/>
                </a:lnTo>
                <a:lnTo>
                  <a:pt x="110" y="539"/>
                </a:lnTo>
                <a:lnTo>
                  <a:pt x="123" y="520"/>
                </a:lnTo>
                <a:lnTo>
                  <a:pt x="133" y="501"/>
                </a:lnTo>
                <a:lnTo>
                  <a:pt x="142" y="480"/>
                </a:lnTo>
                <a:lnTo>
                  <a:pt x="152" y="460"/>
                </a:lnTo>
                <a:lnTo>
                  <a:pt x="159" y="439"/>
                </a:lnTo>
                <a:lnTo>
                  <a:pt x="165" y="420"/>
                </a:lnTo>
                <a:lnTo>
                  <a:pt x="169" y="405"/>
                </a:lnTo>
                <a:lnTo>
                  <a:pt x="173" y="391"/>
                </a:lnTo>
                <a:lnTo>
                  <a:pt x="175" y="376"/>
                </a:lnTo>
                <a:lnTo>
                  <a:pt x="177" y="363"/>
                </a:lnTo>
                <a:lnTo>
                  <a:pt x="177" y="349"/>
                </a:lnTo>
                <a:lnTo>
                  <a:pt x="177" y="336"/>
                </a:lnTo>
                <a:lnTo>
                  <a:pt x="179" y="324"/>
                </a:lnTo>
                <a:lnTo>
                  <a:pt x="179" y="315"/>
                </a:lnTo>
                <a:lnTo>
                  <a:pt x="179" y="311"/>
                </a:lnTo>
                <a:lnTo>
                  <a:pt x="179" y="307"/>
                </a:lnTo>
                <a:lnTo>
                  <a:pt x="177" y="301"/>
                </a:lnTo>
                <a:lnTo>
                  <a:pt x="177" y="295"/>
                </a:lnTo>
                <a:lnTo>
                  <a:pt x="177" y="290"/>
                </a:lnTo>
                <a:lnTo>
                  <a:pt x="177" y="282"/>
                </a:lnTo>
                <a:lnTo>
                  <a:pt x="177" y="272"/>
                </a:lnTo>
                <a:lnTo>
                  <a:pt x="177" y="265"/>
                </a:lnTo>
                <a:lnTo>
                  <a:pt x="175" y="253"/>
                </a:lnTo>
                <a:lnTo>
                  <a:pt x="175" y="242"/>
                </a:lnTo>
                <a:lnTo>
                  <a:pt x="173" y="230"/>
                </a:lnTo>
                <a:lnTo>
                  <a:pt x="173" y="217"/>
                </a:lnTo>
                <a:lnTo>
                  <a:pt x="171" y="201"/>
                </a:lnTo>
                <a:lnTo>
                  <a:pt x="169" y="188"/>
                </a:lnTo>
                <a:lnTo>
                  <a:pt x="167" y="171"/>
                </a:lnTo>
                <a:lnTo>
                  <a:pt x="165" y="153"/>
                </a:lnTo>
                <a:lnTo>
                  <a:pt x="161" y="140"/>
                </a:lnTo>
                <a:lnTo>
                  <a:pt x="161" y="125"/>
                </a:lnTo>
                <a:lnTo>
                  <a:pt x="159" y="111"/>
                </a:lnTo>
                <a:lnTo>
                  <a:pt x="159" y="100"/>
                </a:lnTo>
                <a:lnTo>
                  <a:pt x="159" y="88"/>
                </a:lnTo>
                <a:lnTo>
                  <a:pt x="159" y="77"/>
                </a:lnTo>
                <a:lnTo>
                  <a:pt x="161" y="65"/>
                </a:lnTo>
                <a:lnTo>
                  <a:pt x="163" y="55"/>
                </a:lnTo>
                <a:lnTo>
                  <a:pt x="165" y="48"/>
                </a:lnTo>
                <a:lnTo>
                  <a:pt x="167" y="38"/>
                </a:lnTo>
                <a:lnTo>
                  <a:pt x="171" y="31"/>
                </a:lnTo>
                <a:lnTo>
                  <a:pt x="175" y="25"/>
                </a:lnTo>
                <a:lnTo>
                  <a:pt x="179" y="19"/>
                </a:lnTo>
                <a:lnTo>
                  <a:pt x="183" y="15"/>
                </a:lnTo>
                <a:lnTo>
                  <a:pt x="186" y="11"/>
                </a:lnTo>
                <a:lnTo>
                  <a:pt x="192" y="7"/>
                </a:lnTo>
                <a:lnTo>
                  <a:pt x="194" y="6"/>
                </a:lnTo>
                <a:lnTo>
                  <a:pt x="198" y="4"/>
                </a:lnTo>
                <a:lnTo>
                  <a:pt x="204" y="2"/>
                </a:lnTo>
                <a:lnTo>
                  <a:pt x="209" y="0"/>
                </a:lnTo>
                <a:lnTo>
                  <a:pt x="215" y="0"/>
                </a:lnTo>
                <a:lnTo>
                  <a:pt x="223" y="0"/>
                </a:lnTo>
                <a:lnTo>
                  <a:pt x="230" y="0"/>
                </a:lnTo>
                <a:lnTo>
                  <a:pt x="240" y="0"/>
                </a:lnTo>
                <a:lnTo>
                  <a:pt x="250" y="2"/>
                </a:lnTo>
                <a:lnTo>
                  <a:pt x="259" y="4"/>
                </a:lnTo>
                <a:lnTo>
                  <a:pt x="269" y="7"/>
                </a:lnTo>
                <a:lnTo>
                  <a:pt x="280" y="11"/>
                </a:lnTo>
                <a:lnTo>
                  <a:pt x="292" y="15"/>
                </a:lnTo>
                <a:lnTo>
                  <a:pt x="303" y="21"/>
                </a:lnTo>
                <a:lnTo>
                  <a:pt x="317" y="27"/>
                </a:lnTo>
                <a:lnTo>
                  <a:pt x="330" y="34"/>
                </a:lnTo>
                <a:lnTo>
                  <a:pt x="330" y="69"/>
                </a:lnTo>
                <a:lnTo>
                  <a:pt x="328" y="102"/>
                </a:lnTo>
                <a:lnTo>
                  <a:pt x="328" y="132"/>
                </a:lnTo>
                <a:lnTo>
                  <a:pt x="328" y="161"/>
                </a:lnTo>
                <a:lnTo>
                  <a:pt x="328" y="190"/>
                </a:lnTo>
                <a:lnTo>
                  <a:pt x="328" y="217"/>
                </a:lnTo>
                <a:lnTo>
                  <a:pt x="328" y="242"/>
                </a:lnTo>
                <a:lnTo>
                  <a:pt x="328" y="265"/>
                </a:lnTo>
                <a:lnTo>
                  <a:pt x="326" y="288"/>
                </a:lnTo>
                <a:lnTo>
                  <a:pt x="326" y="309"/>
                </a:lnTo>
                <a:lnTo>
                  <a:pt x="325" y="328"/>
                </a:lnTo>
                <a:lnTo>
                  <a:pt x="323" y="347"/>
                </a:lnTo>
                <a:lnTo>
                  <a:pt x="323" y="365"/>
                </a:lnTo>
                <a:lnTo>
                  <a:pt x="321" y="380"/>
                </a:lnTo>
                <a:lnTo>
                  <a:pt x="319" y="393"/>
                </a:lnTo>
                <a:lnTo>
                  <a:pt x="315" y="407"/>
                </a:lnTo>
                <a:lnTo>
                  <a:pt x="313" y="418"/>
                </a:lnTo>
                <a:lnTo>
                  <a:pt x="311" y="430"/>
                </a:lnTo>
                <a:lnTo>
                  <a:pt x="309" y="439"/>
                </a:lnTo>
                <a:lnTo>
                  <a:pt x="307" y="449"/>
                </a:lnTo>
                <a:lnTo>
                  <a:pt x="307" y="459"/>
                </a:lnTo>
                <a:lnTo>
                  <a:pt x="305" y="466"/>
                </a:lnTo>
                <a:lnTo>
                  <a:pt x="305" y="474"/>
                </a:lnTo>
                <a:lnTo>
                  <a:pt x="305" y="480"/>
                </a:lnTo>
                <a:lnTo>
                  <a:pt x="305" y="485"/>
                </a:lnTo>
                <a:lnTo>
                  <a:pt x="305" y="491"/>
                </a:lnTo>
                <a:lnTo>
                  <a:pt x="307" y="497"/>
                </a:lnTo>
                <a:lnTo>
                  <a:pt x="307" y="501"/>
                </a:lnTo>
                <a:lnTo>
                  <a:pt x="311" y="508"/>
                </a:lnTo>
                <a:lnTo>
                  <a:pt x="315" y="514"/>
                </a:lnTo>
                <a:lnTo>
                  <a:pt x="319" y="516"/>
                </a:lnTo>
                <a:lnTo>
                  <a:pt x="323" y="518"/>
                </a:lnTo>
                <a:lnTo>
                  <a:pt x="326" y="518"/>
                </a:lnTo>
                <a:lnTo>
                  <a:pt x="330" y="520"/>
                </a:lnTo>
                <a:lnTo>
                  <a:pt x="338" y="520"/>
                </a:lnTo>
                <a:lnTo>
                  <a:pt x="344" y="518"/>
                </a:lnTo>
                <a:lnTo>
                  <a:pt x="351" y="518"/>
                </a:lnTo>
                <a:lnTo>
                  <a:pt x="361" y="518"/>
                </a:lnTo>
                <a:lnTo>
                  <a:pt x="369" y="516"/>
                </a:lnTo>
                <a:lnTo>
                  <a:pt x="380" y="514"/>
                </a:lnTo>
                <a:lnTo>
                  <a:pt x="392" y="512"/>
                </a:lnTo>
                <a:lnTo>
                  <a:pt x="405" y="510"/>
                </a:lnTo>
                <a:lnTo>
                  <a:pt x="419" y="508"/>
                </a:lnTo>
                <a:lnTo>
                  <a:pt x="434" y="505"/>
                </a:lnTo>
                <a:lnTo>
                  <a:pt x="449" y="503"/>
                </a:lnTo>
                <a:lnTo>
                  <a:pt x="467" y="501"/>
                </a:lnTo>
                <a:lnTo>
                  <a:pt x="484" y="497"/>
                </a:lnTo>
                <a:lnTo>
                  <a:pt x="501" y="495"/>
                </a:lnTo>
                <a:lnTo>
                  <a:pt x="517" y="491"/>
                </a:lnTo>
                <a:lnTo>
                  <a:pt x="532" y="487"/>
                </a:lnTo>
                <a:lnTo>
                  <a:pt x="545" y="485"/>
                </a:lnTo>
                <a:lnTo>
                  <a:pt x="557" y="482"/>
                </a:lnTo>
                <a:lnTo>
                  <a:pt x="570" y="478"/>
                </a:lnTo>
                <a:lnTo>
                  <a:pt x="580" y="474"/>
                </a:lnTo>
                <a:lnTo>
                  <a:pt x="589" y="470"/>
                </a:lnTo>
                <a:lnTo>
                  <a:pt x="599" y="466"/>
                </a:lnTo>
                <a:lnTo>
                  <a:pt x="607" y="462"/>
                </a:lnTo>
                <a:lnTo>
                  <a:pt x="614" y="459"/>
                </a:lnTo>
                <a:lnTo>
                  <a:pt x="620" y="457"/>
                </a:lnTo>
                <a:lnTo>
                  <a:pt x="624" y="453"/>
                </a:lnTo>
                <a:lnTo>
                  <a:pt x="628" y="449"/>
                </a:lnTo>
                <a:lnTo>
                  <a:pt x="632" y="447"/>
                </a:lnTo>
                <a:lnTo>
                  <a:pt x="637" y="441"/>
                </a:lnTo>
                <a:lnTo>
                  <a:pt x="645" y="437"/>
                </a:lnTo>
                <a:lnTo>
                  <a:pt x="653" y="434"/>
                </a:lnTo>
                <a:lnTo>
                  <a:pt x="660" y="428"/>
                </a:lnTo>
                <a:lnTo>
                  <a:pt x="670" y="426"/>
                </a:lnTo>
                <a:lnTo>
                  <a:pt x="680" y="422"/>
                </a:lnTo>
                <a:lnTo>
                  <a:pt x="691" y="420"/>
                </a:lnTo>
                <a:lnTo>
                  <a:pt x="701" y="420"/>
                </a:lnTo>
                <a:lnTo>
                  <a:pt x="705" y="420"/>
                </a:lnTo>
                <a:lnTo>
                  <a:pt x="708" y="422"/>
                </a:lnTo>
                <a:lnTo>
                  <a:pt x="712" y="422"/>
                </a:lnTo>
                <a:lnTo>
                  <a:pt x="718" y="424"/>
                </a:lnTo>
                <a:lnTo>
                  <a:pt x="726" y="428"/>
                </a:lnTo>
                <a:lnTo>
                  <a:pt x="733" y="430"/>
                </a:lnTo>
                <a:lnTo>
                  <a:pt x="743" y="434"/>
                </a:lnTo>
                <a:lnTo>
                  <a:pt x="753" y="437"/>
                </a:lnTo>
                <a:lnTo>
                  <a:pt x="764" y="443"/>
                </a:lnTo>
                <a:lnTo>
                  <a:pt x="776" y="447"/>
                </a:lnTo>
                <a:lnTo>
                  <a:pt x="787" y="453"/>
                </a:lnTo>
                <a:lnTo>
                  <a:pt x="803" y="459"/>
                </a:lnTo>
                <a:lnTo>
                  <a:pt x="816" y="466"/>
                </a:lnTo>
                <a:lnTo>
                  <a:pt x="831" y="472"/>
                </a:lnTo>
                <a:lnTo>
                  <a:pt x="849" y="480"/>
                </a:lnTo>
                <a:lnTo>
                  <a:pt x="866" y="487"/>
                </a:lnTo>
                <a:lnTo>
                  <a:pt x="881" y="497"/>
                </a:lnTo>
                <a:lnTo>
                  <a:pt x="895" y="507"/>
                </a:lnTo>
                <a:lnTo>
                  <a:pt x="908" y="516"/>
                </a:lnTo>
                <a:lnTo>
                  <a:pt x="920" y="524"/>
                </a:lnTo>
                <a:lnTo>
                  <a:pt x="931" y="533"/>
                </a:lnTo>
                <a:lnTo>
                  <a:pt x="943" y="541"/>
                </a:lnTo>
                <a:lnTo>
                  <a:pt x="952" y="549"/>
                </a:lnTo>
                <a:lnTo>
                  <a:pt x="960" y="555"/>
                </a:lnTo>
                <a:lnTo>
                  <a:pt x="968" y="562"/>
                </a:lnTo>
                <a:lnTo>
                  <a:pt x="975" y="568"/>
                </a:lnTo>
                <a:lnTo>
                  <a:pt x="983" y="574"/>
                </a:lnTo>
                <a:lnTo>
                  <a:pt x="989" y="579"/>
                </a:lnTo>
                <a:lnTo>
                  <a:pt x="993" y="583"/>
                </a:lnTo>
                <a:lnTo>
                  <a:pt x="996" y="587"/>
                </a:lnTo>
                <a:lnTo>
                  <a:pt x="1000" y="591"/>
                </a:lnTo>
                <a:lnTo>
                  <a:pt x="1004" y="593"/>
                </a:lnTo>
                <a:lnTo>
                  <a:pt x="1002" y="603"/>
                </a:lnTo>
                <a:lnTo>
                  <a:pt x="1002" y="614"/>
                </a:lnTo>
                <a:lnTo>
                  <a:pt x="998" y="622"/>
                </a:lnTo>
                <a:lnTo>
                  <a:pt x="994" y="631"/>
                </a:lnTo>
                <a:lnTo>
                  <a:pt x="991" y="641"/>
                </a:lnTo>
                <a:lnTo>
                  <a:pt x="987" y="649"/>
                </a:lnTo>
                <a:lnTo>
                  <a:pt x="981" y="654"/>
                </a:lnTo>
                <a:lnTo>
                  <a:pt x="975" y="660"/>
                </a:lnTo>
                <a:lnTo>
                  <a:pt x="971" y="666"/>
                </a:lnTo>
                <a:lnTo>
                  <a:pt x="966" y="674"/>
                </a:lnTo>
                <a:lnTo>
                  <a:pt x="962" y="681"/>
                </a:lnTo>
                <a:lnTo>
                  <a:pt x="958" y="691"/>
                </a:lnTo>
                <a:lnTo>
                  <a:pt x="954" y="700"/>
                </a:lnTo>
                <a:lnTo>
                  <a:pt x="950" y="712"/>
                </a:lnTo>
                <a:lnTo>
                  <a:pt x="948" y="725"/>
                </a:lnTo>
                <a:lnTo>
                  <a:pt x="945" y="739"/>
                </a:lnTo>
                <a:lnTo>
                  <a:pt x="943" y="754"/>
                </a:lnTo>
                <a:lnTo>
                  <a:pt x="941" y="770"/>
                </a:lnTo>
                <a:lnTo>
                  <a:pt x="939" y="787"/>
                </a:lnTo>
                <a:lnTo>
                  <a:pt x="937" y="804"/>
                </a:lnTo>
                <a:lnTo>
                  <a:pt x="937" y="823"/>
                </a:lnTo>
                <a:lnTo>
                  <a:pt x="935" y="842"/>
                </a:lnTo>
                <a:lnTo>
                  <a:pt x="935" y="864"/>
                </a:lnTo>
                <a:lnTo>
                  <a:pt x="935" y="887"/>
                </a:lnTo>
                <a:lnTo>
                  <a:pt x="929" y="933"/>
                </a:lnTo>
                <a:lnTo>
                  <a:pt x="923" y="979"/>
                </a:lnTo>
                <a:lnTo>
                  <a:pt x="920" y="1027"/>
                </a:lnTo>
                <a:lnTo>
                  <a:pt x="914" y="1077"/>
                </a:lnTo>
                <a:lnTo>
                  <a:pt x="908" y="1127"/>
                </a:lnTo>
                <a:lnTo>
                  <a:pt x="904" y="1178"/>
                </a:lnTo>
                <a:lnTo>
                  <a:pt x="898" y="1232"/>
                </a:lnTo>
                <a:lnTo>
                  <a:pt x="893" y="1286"/>
                </a:lnTo>
                <a:lnTo>
                  <a:pt x="889" y="1313"/>
                </a:lnTo>
                <a:lnTo>
                  <a:pt x="883" y="1340"/>
                </a:lnTo>
                <a:lnTo>
                  <a:pt x="877" y="1365"/>
                </a:lnTo>
                <a:lnTo>
                  <a:pt x="870" y="1388"/>
                </a:lnTo>
                <a:lnTo>
                  <a:pt x="864" y="1413"/>
                </a:lnTo>
                <a:lnTo>
                  <a:pt x="858" y="1434"/>
                </a:lnTo>
                <a:lnTo>
                  <a:pt x="850" y="1457"/>
                </a:lnTo>
                <a:lnTo>
                  <a:pt x="843" y="1478"/>
                </a:lnTo>
                <a:lnTo>
                  <a:pt x="837" y="1497"/>
                </a:lnTo>
                <a:lnTo>
                  <a:pt x="829" y="1516"/>
                </a:lnTo>
                <a:lnTo>
                  <a:pt x="822" y="1535"/>
                </a:lnTo>
                <a:lnTo>
                  <a:pt x="814" y="1553"/>
                </a:lnTo>
                <a:lnTo>
                  <a:pt x="806" y="1570"/>
                </a:lnTo>
                <a:lnTo>
                  <a:pt x="799" y="1587"/>
                </a:lnTo>
                <a:lnTo>
                  <a:pt x="791" y="1603"/>
                </a:lnTo>
                <a:lnTo>
                  <a:pt x="783" y="1618"/>
                </a:lnTo>
                <a:lnTo>
                  <a:pt x="776" y="1635"/>
                </a:lnTo>
                <a:lnTo>
                  <a:pt x="768" y="1652"/>
                </a:lnTo>
                <a:lnTo>
                  <a:pt x="758" y="1668"/>
                </a:lnTo>
                <a:lnTo>
                  <a:pt x="751" y="1683"/>
                </a:lnTo>
                <a:lnTo>
                  <a:pt x="741" y="1699"/>
                </a:lnTo>
                <a:lnTo>
                  <a:pt x="731" y="1714"/>
                </a:lnTo>
                <a:lnTo>
                  <a:pt x="710" y="1741"/>
                </a:lnTo>
                <a:lnTo>
                  <a:pt x="689" y="1768"/>
                </a:lnTo>
                <a:lnTo>
                  <a:pt x="666" y="1795"/>
                </a:lnTo>
                <a:lnTo>
                  <a:pt x="643" y="1819"/>
                </a:lnTo>
                <a:lnTo>
                  <a:pt x="618" y="184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Freeform 187"/>
          <p:cNvSpPr/>
          <p:nvPr/>
        </p:nvSpPr>
        <p:spPr>
          <a:xfrm>
            <a:off x="7223040" y="3471840"/>
            <a:ext cx="382680" cy="115920"/>
          </a:xfrm>
          <a:custGeom>
            <a:avLst/>
            <a:gdLst/>
            <a:ahLst/>
            <a:rect l="l" t="t" r="r" b="b"/>
            <a:pathLst>
              <a:path w="482" h="148">
                <a:moveTo>
                  <a:pt x="344" y="121"/>
                </a:moveTo>
                <a:lnTo>
                  <a:pt x="328" y="123"/>
                </a:lnTo>
                <a:lnTo>
                  <a:pt x="311" y="125"/>
                </a:lnTo>
                <a:lnTo>
                  <a:pt x="294" y="129"/>
                </a:lnTo>
                <a:lnTo>
                  <a:pt x="277" y="131"/>
                </a:lnTo>
                <a:lnTo>
                  <a:pt x="257" y="133"/>
                </a:lnTo>
                <a:lnTo>
                  <a:pt x="238" y="135"/>
                </a:lnTo>
                <a:lnTo>
                  <a:pt x="219" y="136"/>
                </a:lnTo>
                <a:lnTo>
                  <a:pt x="198" y="138"/>
                </a:lnTo>
                <a:lnTo>
                  <a:pt x="175" y="140"/>
                </a:lnTo>
                <a:lnTo>
                  <a:pt x="154" y="142"/>
                </a:lnTo>
                <a:lnTo>
                  <a:pt x="129" y="144"/>
                </a:lnTo>
                <a:lnTo>
                  <a:pt x="106" y="144"/>
                </a:lnTo>
                <a:lnTo>
                  <a:pt x="81" y="146"/>
                </a:lnTo>
                <a:lnTo>
                  <a:pt x="54" y="146"/>
                </a:lnTo>
                <a:lnTo>
                  <a:pt x="27" y="146"/>
                </a:lnTo>
                <a:lnTo>
                  <a:pt x="0" y="148"/>
                </a:lnTo>
                <a:lnTo>
                  <a:pt x="0" y="108"/>
                </a:lnTo>
                <a:lnTo>
                  <a:pt x="0" y="67"/>
                </a:lnTo>
                <a:lnTo>
                  <a:pt x="17" y="64"/>
                </a:lnTo>
                <a:lnTo>
                  <a:pt x="35" y="60"/>
                </a:lnTo>
                <a:lnTo>
                  <a:pt x="52" y="56"/>
                </a:lnTo>
                <a:lnTo>
                  <a:pt x="67" y="52"/>
                </a:lnTo>
                <a:lnTo>
                  <a:pt x="83" y="50"/>
                </a:lnTo>
                <a:lnTo>
                  <a:pt x="98" y="46"/>
                </a:lnTo>
                <a:lnTo>
                  <a:pt x="113" y="42"/>
                </a:lnTo>
                <a:lnTo>
                  <a:pt x="129" y="40"/>
                </a:lnTo>
                <a:lnTo>
                  <a:pt x="142" y="37"/>
                </a:lnTo>
                <a:lnTo>
                  <a:pt x="156" y="35"/>
                </a:lnTo>
                <a:lnTo>
                  <a:pt x="169" y="31"/>
                </a:lnTo>
                <a:lnTo>
                  <a:pt x="181" y="29"/>
                </a:lnTo>
                <a:lnTo>
                  <a:pt x="194" y="25"/>
                </a:lnTo>
                <a:lnTo>
                  <a:pt x="206" y="23"/>
                </a:lnTo>
                <a:lnTo>
                  <a:pt x="215" y="21"/>
                </a:lnTo>
                <a:lnTo>
                  <a:pt x="227" y="19"/>
                </a:lnTo>
                <a:lnTo>
                  <a:pt x="236" y="17"/>
                </a:lnTo>
                <a:lnTo>
                  <a:pt x="246" y="16"/>
                </a:lnTo>
                <a:lnTo>
                  <a:pt x="256" y="14"/>
                </a:lnTo>
                <a:lnTo>
                  <a:pt x="263" y="12"/>
                </a:lnTo>
                <a:lnTo>
                  <a:pt x="273" y="10"/>
                </a:lnTo>
                <a:lnTo>
                  <a:pt x="280" y="8"/>
                </a:lnTo>
                <a:lnTo>
                  <a:pt x="286" y="6"/>
                </a:lnTo>
                <a:lnTo>
                  <a:pt x="294" y="6"/>
                </a:lnTo>
                <a:lnTo>
                  <a:pt x="300" y="4"/>
                </a:lnTo>
                <a:lnTo>
                  <a:pt x="305" y="4"/>
                </a:lnTo>
                <a:lnTo>
                  <a:pt x="311" y="2"/>
                </a:lnTo>
                <a:lnTo>
                  <a:pt x="315" y="2"/>
                </a:lnTo>
                <a:lnTo>
                  <a:pt x="319" y="2"/>
                </a:lnTo>
                <a:lnTo>
                  <a:pt x="323" y="0"/>
                </a:lnTo>
                <a:lnTo>
                  <a:pt x="327" y="0"/>
                </a:lnTo>
                <a:lnTo>
                  <a:pt x="330" y="0"/>
                </a:lnTo>
                <a:lnTo>
                  <a:pt x="350" y="0"/>
                </a:lnTo>
                <a:lnTo>
                  <a:pt x="361" y="2"/>
                </a:lnTo>
                <a:lnTo>
                  <a:pt x="373" y="2"/>
                </a:lnTo>
                <a:lnTo>
                  <a:pt x="384" y="4"/>
                </a:lnTo>
                <a:lnTo>
                  <a:pt x="398" y="6"/>
                </a:lnTo>
                <a:lnTo>
                  <a:pt x="411" y="10"/>
                </a:lnTo>
                <a:lnTo>
                  <a:pt x="426" y="14"/>
                </a:lnTo>
                <a:lnTo>
                  <a:pt x="434" y="17"/>
                </a:lnTo>
                <a:lnTo>
                  <a:pt x="440" y="19"/>
                </a:lnTo>
                <a:lnTo>
                  <a:pt x="446" y="23"/>
                </a:lnTo>
                <a:lnTo>
                  <a:pt x="451" y="27"/>
                </a:lnTo>
                <a:lnTo>
                  <a:pt x="457" y="29"/>
                </a:lnTo>
                <a:lnTo>
                  <a:pt x="461" y="33"/>
                </a:lnTo>
                <a:lnTo>
                  <a:pt x="465" y="37"/>
                </a:lnTo>
                <a:lnTo>
                  <a:pt x="469" y="40"/>
                </a:lnTo>
                <a:lnTo>
                  <a:pt x="472" y="44"/>
                </a:lnTo>
                <a:lnTo>
                  <a:pt x="474" y="48"/>
                </a:lnTo>
                <a:lnTo>
                  <a:pt x="478" y="56"/>
                </a:lnTo>
                <a:lnTo>
                  <a:pt x="480" y="62"/>
                </a:lnTo>
                <a:lnTo>
                  <a:pt x="482" y="67"/>
                </a:lnTo>
                <a:lnTo>
                  <a:pt x="480" y="69"/>
                </a:lnTo>
                <a:lnTo>
                  <a:pt x="478" y="73"/>
                </a:lnTo>
                <a:lnTo>
                  <a:pt x="476" y="75"/>
                </a:lnTo>
                <a:lnTo>
                  <a:pt x="472" y="79"/>
                </a:lnTo>
                <a:lnTo>
                  <a:pt x="469" y="83"/>
                </a:lnTo>
                <a:lnTo>
                  <a:pt x="463" y="87"/>
                </a:lnTo>
                <a:lnTo>
                  <a:pt x="457" y="90"/>
                </a:lnTo>
                <a:lnTo>
                  <a:pt x="447" y="94"/>
                </a:lnTo>
                <a:lnTo>
                  <a:pt x="440" y="98"/>
                </a:lnTo>
                <a:lnTo>
                  <a:pt x="430" y="102"/>
                </a:lnTo>
                <a:lnTo>
                  <a:pt x="419" y="104"/>
                </a:lnTo>
                <a:lnTo>
                  <a:pt x="405" y="108"/>
                </a:lnTo>
                <a:lnTo>
                  <a:pt x="392" y="112"/>
                </a:lnTo>
                <a:lnTo>
                  <a:pt x="376" y="115"/>
                </a:lnTo>
                <a:lnTo>
                  <a:pt x="361" y="117"/>
                </a:lnTo>
                <a:lnTo>
                  <a:pt x="344" y="12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Freeform 188"/>
          <p:cNvSpPr/>
          <p:nvPr/>
        </p:nvSpPr>
        <p:spPr>
          <a:xfrm>
            <a:off x="7102440" y="2901960"/>
            <a:ext cx="700200" cy="622440"/>
          </a:xfrm>
          <a:custGeom>
            <a:avLst/>
            <a:gdLst/>
            <a:ahLst/>
            <a:rect l="l" t="t" r="r" b="b"/>
            <a:pathLst>
              <a:path w="881" h="785">
                <a:moveTo>
                  <a:pt x="535" y="54"/>
                </a:moveTo>
                <a:lnTo>
                  <a:pt x="543" y="46"/>
                </a:lnTo>
                <a:lnTo>
                  <a:pt x="550" y="39"/>
                </a:lnTo>
                <a:lnTo>
                  <a:pt x="558" y="33"/>
                </a:lnTo>
                <a:lnTo>
                  <a:pt x="564" y="27"/>
                </a:lnTo>
                <a:lnTo>
                  <a:pt x="570" y="23"/>
                </a:lnTo>
                <a:lnTo>
                  <a:pt x="575" y="18"/>
                </a:lnTo>
                <a:lnTo>
                  <a:pt x="581" y="14"/>
                </a:lnTo>
                <a:lnTo>
                  <a:pt x="587" y="12"/>
                </a:lnTo>
                <a:lnTo>
                  <a:pt x="597" y="6"/>
                </a:lnTo>
                <a:lnTo>
                  <a:pt x="606" y="2"/>
                </a:lnTo>
                <a:lnTo>
                  <a:pt x="612" y="0"/>
                </a:lnTo>
                <a:lnTo>
                  <a:pt x="618" y="0"/>
                </a:lnTo>
                <a:lnTo>
                  <a:pt x="621" y="0"/>
                </a:lnTo>
                <a:lnTo>
                  <a:pt x="625" y="0"/>
                </a:lnTo>
                <a:lnTo>
                  <a:pt x="629" y="2"/>
                </a:lnTo>
                <a:lnTo>
                  <a:pt x="633" y="4"/>
                </a:lnTo>
                <a:lnTo>
                  <a:pt x="639" y="8"/>
                </a:lnTo>
                <a:lnTo>
                  <a:pt x="646" y="10"/>
                </a:lnTo>
                <a:lnTo>
                  <a:pt x="654" y="14"/>
                </a:lnTo>
                <a:lnTo>
                  <a:pt x="662" y="18"/>
                </a:lnTo>
                <a:lnTo>
                  <a:pt x="669" y="23"/>
                </a:lnTo>
                <a:lnTo>
                  <a:pt x="679" y="27"/>
                </a:lnTo>
                <a:lnTo>
                  <a:pt x="691" y="33"/>
                </a:lnTo>
                <a:lnTo>
                  <a:pt x="702" y="39"/>
                </a:lnTo>
                <a:lnTo>
                  <a:pt x="714" y="44"/>
                </a:lnTo>
                <a:lnTo>
                  <a:pt x="727" y="52"/>
                </a:lnTo>
                <a:lnTo>
                  <a:pt x="740" y="58"/>
                </a:lnTo>
                <a:lnTo>
                  <a:pt x="756" y="66"/>
                </a:lnTo>
                <a:lnTo>
                  <a:pt x="771" y="75"/>
                </a:lnTo>
                <a:lnTo>
                  <a:pt x="785" y="85"/>
                </a:lnTo>
                <a:lnTo>
                  <a:pt x="798" y="94"/>
                </a:lnTo>
                <a:lnTo>
                  <a:pt x="810" y="104"/>
                </a:lnTo>
                <a:lnTo>
                  <a:pt x="821" y="112"/>
                </a:lnTo>
                <a:lnTo>
                  <a:pt x="831" y="119"/>
                </a:lnTo>
                <a:lnTo>
                  <a:pt x="840" y="127"/>
                </a:lnTo>
                <a:lnTo>
                  <a:pt x="848" y="135"/>
                </a:lnTo>
                <a:lnTo>
                  <a:pt x="856" y="142"/>
                </a:lnTo>
                <a:lnTo>
                  <a:pt x="861" y="148"/>
                </a:lnTo>
                <a:lnTo>
                  <a:pt x="867" y="154"/>
                </a:lnTo>
                <a:lnTo>
                  <a:pt x="871" y="158"/>
                </a:lnTo>
                <a:lnTo>
                  <a:pt x="875" y="163"/>
                </a:lnTo>
                <a:lnTo>
                  <a:pt x="879" y="167"/>
                </a:lnTo>
                <a:lnTo>
                  <a:pt x="879" y="169"/>
                </a:lnTo>
                <a:lnTo>
                  <a:pt x="881" y="173"/>
                </a:lnTo>
                <a:lnTo>
                  <a:pt x="875" y="183"/>
                </a:lnTo>
                <a:lnTo>
                  <a:pt x="867" y="192"/>
                </a:lnTo>
                <a:lnTo>
                  <a:pt x="858" y="204"/>
                </a:lnTo>
                <a:lnTo>
                  <a:pt x="848" y="213"/>
                </a:lnTo>
                <a:lnTo>
                  <a:pt x="838" y="225"/>
                </a:lnTo>
                <a:lnTo>
                  <a:pt x="825" y="238"/>
                </a:lnTo>
                <a:lnTo>
                  <a:pt x="812" y="252"/>
                </a:lnTo>
                <a:lnTo>
                  <a:pt x="798" y="267"/>
                </a:lnTo>
                <a:lnTo>
                  <a:pt x="792" y="271"/>
                </a:lnTo>
                <a:lnTo>
                  <a:pt x="787" y="275"/>
                </a:lnTo>
                <a:lnTo>
                  <a:pt x="781" y="281"/>
                </a:lnTo>
                <a:lnTo>
                  <a:pt x="773" y="288"/>
                </a:lnTo>
                <a:lnTo>
                  <a:pt x="767" y="294"/>
                </a:lnTo>
                <a:lnTo>
                  <a:pt x="760" y="304"/>
                </a:lnTo>
                <a:lnTo>
                  <a:pt x="754" y="311"/>
                </a:lnTo>
                <a:lnTo>
                  <a:pt x="746" y="321"/>
                </a:lnTo>
                <a:lnTo>
                  <a:pt x="739" y="330"/>
                </a:lnTo>
                <a:lnTo>
                  <a:pt x="729" y="342"/>
                </a:lnTo>
                <a:lnTo>
                  <a:pt x="721" y="353"/>
                </a:lnTo>
                <a:lnTo>
                  <a:pt x="712" y="367"/>
                </a:lnTo>
                <a:lnTo>
                  <a:pt x="704" y="380"/>
                </a:lnTo>
                <a:lnTo>
                  <a:pt x="694" y="396"/>
                </a:lnTo>
                <a:lnTo>
                  <a:pt x="685" y="409"/>
                </a:lnTo>
                <a:lnTo>
                  <a:pt x="673" y="426"/>
                </a:lnTo>
                <a:lnTo>
                  <a:pt x="664" y="442"/>
                </a:lnTo>
                <a:lnTo>
                  <a:pt x="654" y="459"/>
                </a:lnTo>
                <a:lnTo>
                  <a:pt x="643" y="478"/>
                </a:lnTo>
                <a:lnTo>
                  <a:pt x="631" y="497"/>
                </a:lnTo>
                <a:lnTo>
                  <a:pt x="621" y="517"/>
                </a:lnTo>
                <a:lnTo>
                  <a:pt x="610" y="538"/>
                </a:lnTo>
                <a:lnTo>
                  <a:pt x="597" y="559"/>
                </a:lnTo>
                <a:lnTo>
                  <a:pt x="585" y="580"/>
                </a:lnTo>
                <a:lnTo>
                  <a:pt x="573" y="603"/>
                </a:lnTo>
                <a:lnTo>
                  <a:pt x="560" y="626"/>
                </a:lnTo>
                <a:lnTo>
                  <a:pt x="549" y="651"/>
                </a:lnTo>
                <a:lnTo>
                  <a:pt x="535" y="676"/>
                </a:lnTo>
                <a:lnTo>
                  <a:pt x="522" y="703"/>
                </a:lnTo>
                <a:lnTo>
                  <a:pt x="508" y="730"/>
                </a:lnTo>
                <a:lnTo>
                  <a:pt x="495" y="757"/>
                </a:lnTo>
                <a:lnTo>
                  <a:pt x="481" y="785"/>
                </a:lnTo>
                <a:lnTo>
                  <a:pt x="426" y="785"/>
                </a:lnTo>
                <a:lnTo>
                  <a:pt x="370" y="785"/>
                </a:lnTo>
                <a:lnTo>
                  <a:pt x="382" y="753"/>
                </a:lnTo>
                <a:lnTo>
                  <a:pt x="393" y="720"/>
                </a:lnTo>
                <a:lnTo>
                  <a:pt x="403" y="689"/>
                </a:lnTo>
                <a:lnTo>
                  <a:pt x="412" y="659"/>
                </a:lnTo>
                <a:lnTo>
                  <a:pt x="422" y="630"/>
                </a:lnTo>
                <a:lnTo>
                  <a:pt x="431" y="603"/>
                </a:lnTo>
                <a:lnTo>
                  <a:pt x="439" y="576"/>
                </a:lnTo>
                <a:lnTo>
                  <a:pt x="447" y="549"/>
                </a:lnTo>
                <a:lnTo>
                  <a:pt x="454" y="526"/>
                </a:lnTo>
                <a:lnTo>
                  <a:pt x="462" y="501"/>
                </a:lnTo>
                <a:lnTo>
                  <a:pt x="470" y="480"/>
                </a:lnTo>
                <a:lnTo>
                  <a:pt x="476" y="457"/>
                </a:lnTo>
                <a:lnTo>
                  <a:pt x="481" y="438"/>
                </a:lnTo>
                <a:lnTo>
                  <a:pt x="487" y="419"/>
                </a:lnTo>
                <a:lnTo>
                  <a:pt x="493" y="400"/>
                </a:lnTo>
                <a:lnTo>
                  <a:pt x="497" y="382"/>
                </a:lnTo>
                <a:lnTo>
                  <a:pt x="501" y="365"/>
                </a:lnTo>
                <a:lnTo>
                  <a:pt x="506" y="352"/>
                </a:lnTo>
                <a:lnTo>
                  <a:pt x="508" y="336"/>
                </a:lnTo>
                <a:lnTo>
                  <a:pt x="512" y="323"/>
                </a:lnTo>
                <a:lnTo>
                  <a:pt x="514" y="311"/>
                </a:lnTo>
                <a:lnTo>
                  <a:pt x="518" y="300"/>
                </a:lnTo>
                <a:lnTo>
                  <a:pt x="520" y="288"/>
                </a:lnTo>
                <a:lnTo>
                  <a:pt x="522" y="281"/>
                </a:lnTo>
                <a:lnTo>
                  <a:pt x="522" y="271"/>
                </a:lnTo>
                <a:lnTo>
                  <a:pt x="524" y="263"/>
                </a:lnTo>
                <a:lnTo>
                  <a:pt x="524" y="258"/>
                </a:lnTo>
                <a:lnTo>
                  <a:pt x="524" y="252"/>
                </a:lnTo>
                <a:lnTo>
                  <a:pt x="524" y="248"/>
                </a:lnTo>
                <a:lnTo>
                  <a:pt x="524" y="244"/>
                </a:lnTo>
                <a:lnTo>
                  <a:pt x="524" y="240"/>
                </a:lnTo>
                <a:lnTo>
                  <a:pt x="522" y="240"/>
                </a:lnTo>
                <a:lnTo>
                  <a:pt x="516" y="236"/>
                </a:lnTo>
                <a:lnTo>
                  <a:pt x="510" y="236"/>
                </a:lnTo>
                <a:lnTo>
                  <a:pt x="502" y="234"/>
                </a:lnTo>
                <a:lnTo>
                  <a:pt x="497" y="234"/>
                </a:lnTo>
                <a:lnTo>
                  <a:pt x="487" y="234"/>
                </a:lnTo>
                <a:lnTo>
                  <a:pt x="479" y="234"/>
                </a:lnTo>
                <a:lnTo>
                  <a:pt x="468" y="234"/>
                </a:lnTo>
                <a:lnTo>
                  <a:pt x="458" y="236"/>
                </a:lnTo>
                <a:lnTo>
                  <a:pt x="447" y="238"/>
                </a:lnTo>
                <a:lnTo>
                  <a:pt x="435" y="238"/>
                </a:lnTo>
                <a:lnTo>
                  <a:pt x="422" y="240"/>
                </a:lnTo>
                <a:lnTo>
                  <a:pt x="408" y="242"/>
                </a:lnTo>
                <a:lnTo>
                  <a:pt x="393" y="246"/>
                </a:lnTo>
                <a:lnTo>
                  <a:pt x="378" y="248"/>
                </a:lnTo>
                <a:lnTo>
                  <a:pt x="360" y="250"/>
                </a:lnTo>
                <a:lnTo>
                  <a:pt x="343" y="254"/>
                </a:lnTo>
                <a:lnTo>
                  <a:pt x="326" y="256"/>
                </a:lnTo>
                <a:lnTo>
                  <a:pt x="309" y="258"/>
                </a:lnTo>
                <a:lnTo>
                  <a:pt x="291" y="259"/>
                </a:lnTo>
                <a:lnTo>
                  <a:pt x="276" y="263"/>
                </a:lnTo>
                <a:lnTo>
                  <a:pt x="261" y="265"/>
                </a:lnTo>
                <a:lnTo>
                  <a:pt x="247" y="267"/>
                </a:lnTo>
                <a:lnTo>
                  <a:pt x="234" y="269"/>
                </a:lnTo>
                <a:lnTo>
                  <a:pt x="220" y="271"/>
                </a:lnTo>
                <a:lnTo>
                  <a:pt x="209" y="273"/>
                </a:lnTo>
                <a:lnTo>
                  <a:pt x="197" y="275"/>
                </a:lnTo>
                <a:lnTo>
                  <a:pt x="188" y="275"/>
                </a:lnTo>
                <a:lnTo>
                  <a:pt x="178" y="277"/>
                </a:lnTo>
                <a:lnTo>
                  <a:pt x="170" y="279"/>
                </a:lnTo>
                <a:lnTo>
                  <a:pt x="163" y="279"/>
                </a:lnTo>
                <a:lnTo>
                  <a:pt x="155" y="279"/>
                </a:lnTo>
                <a:lnTo>
                  <a:pt x="151" y="279"/>
                </a:lnTo>
                <a:lnTo>
                  <a:pt x="144" y="281"/>
                </a:lnTo>
                <a:lnTo>
                  <a:pt x="136" y="282"/>
                </a:lnTo>
                <a:lnTo>
                  <a:pt x="128" y="284"/>
                </a:lnTo>
                <a:lnTo>
                  <a:pt x="122" y="284"/>
                </a:lnTo>
                <a:lnTo>
                  <a:pt x="115" y="284"/>
                </a:lnTo>
                <a:lnTo>
                  <a:pt x="109" y="284"/>
                </a:lnTo>
                <a:lnTo>
                  <a:pt x="103" y="282"/>
                </a:lnTo>
                <a:lnTo>
                  <a:pt x="97" y="281"/>
                </a:lnTo>
                <a:lnTo>
                  <a:pt x="86" y="277"/>
                </a:lnTo>
                <a:lnTo>
                  <a:pt x="74" y="271"/>
                </a:lnTo>
                <a:lnTo>
                  <a:pt x="65" y="261"/>
                </a:lnTo>
                <a:lnTo>
                  <a:pt x="55" y="254"/>
                </a:lnTo>
                <a:lnTo>
                  <a:pt x="48" y="250"/>
                </a:lnTo>
                <a:lnTo>
                  <a:pt x="40" y="248"/>
                </a:lnTo>
                <a:lnTo>
                  <a:pt x="34" y="244"/>
                </a:lnTo>
                <a:lnTo>
                  <a:pt x="28" y="240"/>
                </a:lnTo>
                <a:lnTo>
                  <a:pt x="23" y="236"/>
                </a:lnTo>
                <a:lnTo>
                  <a:pt x="19" y="233"/>
                </a:lnTo>
                <a:lnTo>
                  <a:pt x="15" y="229"/>
                </a:lnTo>
                <a:lnTo>
                  <a:pt x="11" y="225"/>
                </a:lnTo>
                <a:lnTo>
                  <a:pt x="9" y="219"/>
                </a:lnTo>
                <a:lnTo>
                  <a:pt x="5" y="215"/>
                </a:lnTo>
                <a:lnTo>
                  <a:pt x="1" y="206"/>
                </a:lnTo>
                <a:lnTo>
                  <a:pt x="0" y="196"/>
                </a:lnTo>
                <a:lnTo>
                  <a:pt x="0" y="186"/>
                </a:lnTo>
                <a:lnTo>
                  <a:pt x="13" y="186"/>
                </a:lnTo>
                <a:lnTo>
                  <a:pt x="26" y="185"/>
                </a:lnTo>
                <a:lnTo>
                  <a:pt x="40" y="185"/>
                </a:lnTo>
                <a:lnTo>
                  <a:pt x="55" y="183"/>
                </a:lnTo>
                <a:lnTo>
                  <a:pt x="73" y="183"/>
                </a:lnTo>
                <a:lnTo>
                  <a:pt x="88" y="181"/>
                </a:lnTo>
                <a:lnTo>
                  <a:pt x="105" y="177"/>
                </a:lnTo>
                <a:lnTo>
                  <a:pt x="122" y="175"/>
                </a:lnTo>
                <a:lnTo>
                  <a:pt x="142" y="171"/>
                </a:lnTo>
                <a:lnTo>
                  <a:pt x="161" y="167"/>
                </a:lnTo>
                <a:lnTo>
                  <a:pt x="180" y="163"/>
                </a:lnTo>
                <a:lnTo>
                  <a:pt x="201" y="158"/>
                </a:lnTo>
                <a:lnTo>
                  <a:pt x="222" y="152"/>
                </a:lnTo>
                <a:lnTo>
                  <a:pt x="243" y="146"/>
                </a:lnTo>
                <a:lnTo>
                  <a:pt x="264" y="140"/>
                </a:lnTo>
                <a:lnTo>
                  <a:pt x="287" y="133"/>
                </a:lnTo>
                <a:lnTo>
                  <a:pt x="311" y="127"/>
                </a:lnTo>
                <a:lnTo>
                  <a:pt x="332" y="123"/>
                </a:lnTo>
                <a:lnTo>
                  <a:pt x="353" y="117"/>
                </a:lnTo>
                <a:lnTo>
                  <a:pt x="374" y="114"/>
                </a:lnTo>
                <a:lnTo>
                  <a:pt x="391" y="108"/>
                </a:lnTo>
                <a:lnTo>
                  <a:pt x="410" y="102"/>
                </a:lnTo>
                <a:lnTo>
                  <a:pt x="428" y="98"/>
                </a:lnTo>
                <a:lnTo>
                  <a:pt x="443" y="92"/>
                </a:lnTo>
                <a:lnTo>
                  <a:pt x="458" y="89"/>
                </a:lnTo>
                <a:lnTo>
                  <a:pt x="472" y="83"/>
                </a:lnTo>
                <a:lnTo>
                  <a:pt x="485" y="79"/>
                </a:lnTo>
                <a:lnTo>
                  <a:pt x="497" y="73"/>
                </a:lnTo>
                <a:lnTo>
                  <a:pt x="508" y="67"/>
                </a:lnTo>
                <a:lnTo>
                  <a:pt x="518" y="64"/>
                </a:lnTo>
                <a:lnTo>
                  <a:pt x="527" y="58"/>
                </a:lnTo>
                <a:lnTo>
                  <a:pt x="535" y="5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Freeform 189"/>
          <p:cNvSpPr/>
          <p:nvPr/>
        </p:nvSpPr>
        <p:spPr>
          <a:xfrm>
            <a:off x="6643800" y="4148280"/>
            <a:ext cx="349200" cy="199800"/>
          </a:xfrm>
          <a:custGeom>
            <a:avLst/>
            <a:gdLst/>
            <a:ahLst/>
            <a:rect l="l" t="t" r="r" b="b"/>
            <a:pathLst>
              <a:path w="439" h="254">
                <a:moveTo>
                  <a:pt x="0" y="0"/>
                </a:moveTo>
                <a:lnTo>
                  <a:pt x="32" y="0"/>
                </a:lnTo>
                <a:lnTo>
                  <a:pt x="63" y="2"/>
                </a:lnTo>
                <a:lnTo>
                  <a:pt x="92" y="2"/>
                </a:lnTo>
                <a:lnTo>
                  <a:pt x="121" y="2"/>
                </a:lnTo>
                <a:lnTo>
                  <a:pt x="148" y="4"/>
                </a:lnTo>
                <a:lnTo>
                  <a:pt x="173" y="6"/>
                </a:lnTo>
                <a:lnTo>
                  <a:pt x="196" y="8"/>
                </a:lnTo>
                <a:lnTo>
                  <a:pt x="217" y="10"/>
                </a:lnTo>
                <a:lnTo>
                  <a:pt x="236" y="12"/>
                </a:lnTo>
                <a:lnTo>
                  <a:pt x="253" y="14"/>
                </a:lnTo>
                <a:lnTo>
                  <a:pt x="270" y="16"/>
                </a:lnTo>
                <a:lnTo>
                  <a:pt x="286" y="18"/>
                </a:lnTo>
                <a:lnTo>
                  <a:pt x="299" y="20"/>
                </a:lnTo>
                <a:lnTo>
                  <a:pt x="311" y="22"/>
                </a:lnTo>
                <a:lnTo>
                  <a:pt x="320" y="25"/>
                </a:lnTo>
                <a:lnTo>
                  <a:pt x="330" y="27"/>
                </a:lnTo>
                <a:lnTo>
                  <a:pt x="345" y="37"/>
                </a:lnTo>
                <a:lnTo>
                  <a:pt x="361" y="46"/>
                </a:lnTo>
                <a:lnTo>
                  <a:pt x="374" y="58"/>
                </a:lnTo>
                <a:lnTo>
                  <a:pt x="388" y="68"/>
                </a:lnTo>
                <a:lnTo>
                  <a:pt x="401" y="77"/>
                </a:lnTo>
                <a:lnTo>
                  <a:pt x="405" y="83"/>
                </a:lnTo>
                <a:lnTo>
                  <a:pt x="411" y="87"/>
                </a:lnTo>
                <a:lnTo>
                  <a:pt x="416" y="93"/>
                </a:lnTo>
                <a:lnTo>
                  <a:pt x="420" y="98"/>
                </a:lnTo>
                <a:lnTo>
                  <a:pt x="422" y="102"/>
                </a:lnTo>
                <a:lnTo>
                  <a:pt x="426" y="108"/>
                </a:lnTo>
                <a:lnTo>
                  <a:pt x="430" y="118"/>
                </a:lnTo>
                <a:lnTo>
                  <a:pt x="434" y="127"/>
                </a:lnTo>
                <a:lnTo>
                  <a:pt x="436" y="139"/>
                </a:lnTo>
                <a:lnTo>
                  <a:pt x="437" y="148"/>
                </a:lnTo>
                <a:lnTo>
                  <a:pt x="439" y="160"/>
                </a:lnTo>
                <a:lnTo>
                  <a:pt x="439" y="173"/>
                </a:lnTo>
                <a:lnTo>
                  <a:pt x="439" y="187"/>
                </a:lnTo>
                <a:lnTo>
                  <a:pt x="439" y="200"/>
                </a:lnTo>
                <a:lnTo>
                  <a:pt x="439" y="208"/>
                </a:lnTo>
                <a:lnTo>
                  <a:pt x="439" y="213"/>
                </a:lnTo>
                <a:lnTo>
                  <a:pt x="437" y="221"/>
                </a:lnTo>
                <a:lnTo>
                  <a:pt x="437" y="225"/>
                </a:lnTo>
                <a:lnTo>
                  <a:pt x="436" y="231"/>
                </a:lnTo>
                <a:lnTo>
                  <a:pt x="434" y="235"/>
                </a:lnTo>
                <a:lnTo>
                  <a:pt x="430" y="238"/>
                </a:lnTo>
                <a:lnTo>
                  <a:pt x="428" y="242"/>
                </a:lnTo>
                <a:lnTo>
                  <a:pt x="424" y="244"/>
                </a:lnTo>
                <a:lnTo>
                  <a:pt x="420" y="248"/>
                </a:lnTo>
                <a:lnTo>
                  <a:pt x="416" y="250"/>
                </a:lnTo>
                <a:lnTo>
                  <a:pt x="411" y="252"/>
                </a:lnTo>
                <a:lnTo>
                  <a:pt x="405" y="252"/>
                </a:lnTo>
                <a:lnTo>
                  <a:pt x="399" y="254"/>
                </a:lnTo>
                <a:lnTo>
                  <a:pt x="391" y="254"/>
                </a:lnTo>
                <a:lnTo>
                  <a:pt x="386" y="254"/>
                </a:lnTo>
                <a:lnTo>
                  <a:pt x="380" y="254"/>
                </a:lnTo>
                <a:lnTo>
                  <a:pt x="376" y="254"/>
                </a:lnTo>
                <a:lnTo>
                  <a:pt x="370" y="252"/>
                </a:lnTo>
                <a:lnTo>
                  <a:pt x="365" y="250"/>
                </a:lnTo>
                <a:lnTo>
                  <a:pt x="359" y="248"/>
                </a:lnTo>
                <a:lnTo>
                  <a:pt x="353" y="246"/>
                </a:lnTo>
                <a:lnTo>
                  <a:pt x="345" y="242"/>
                </a:lnTo>
                <a:lnTo>
                  <a:pt x="338" y="238"/>
                </a:lnTo>
                <a:lnTo>
                  <a:pt x="330" y="235"/>
                </a:lnTo>
                <a:lnTo>
                  <a:pt x="320" y="231"/>
                </a:lnTo>
                <a:lnTo>
                  <a:pt x="313" y="225"/>
                </a:lnTo>
                <a:lnTo>
                  <a:pt x="303" y="219"/>
                </a:lnTo>
                <a:lnTo>
                  <a:pt x="292" y="213"/>
                </a:lnTo>
                <a:lnTo>
                  <a:pt x="282" y="208"/>
                </a:lnTo>
                <a:lnTo>
                  <a:pt x="270" y="200"/>
                </a:lnTo>
                <a:lnTo>
                  <a:pt x="259" y="192"/>
                </a:lnTo>
                <a:lnTo>
                  <a:pt x="246" y="185"/>
                </a:lnTo>
                <a:lnTo>
                  <a:pt x="234" y="177"/>
                </a:lnTo>
                <a:lnTo>
                  <a:pt x="221" y="167"/>
                </a:lnTo>
                <a:lnTo>
                  <a:pt x="207" y="158"/>
                </a:lnTo>
                <a:lnTo>
                  <a:pt x="192" y="148"/>
                </a:lnTo>
                <a:lnTo>
                  <a:pt x="176" y="137"/>
                </a:lnTo>
                <a:lnTo>
                  <a:pt x="161" y="125"/>
                </a:lnTo>
                <a:lnTo>
                  <a:pt x="146" y="114"/>
                </a:lnTo>
                <a:lnTo>
                  <a:pt x="130" y="102"/>
                </a:lnTo>
                <a:lnTo>
                  <a:pt x="113" y="89"/>
                </a:lnTo>
                <a:lnTo>
                  <a:pt x="96" y="75"/>
                </a:lnTo>
                <a:lnTo>
                  <a:pt x="77" y="62"/>
                </a:lnTo>
                <a:lnTo>
                  <a:pt x="57" y="48"/>
                </a:lnTo>
                <a:lnTo>
                  <a:pt x="40" y="33"/>
                </a:lnTo>
                <a:lnTo>
                  <a:pt x="19" y="18"/>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Freeform 190"/>
          <p:cNvSpPr/>
          <p:nvPr/>
        </p:nvSpPr>
        <p:spPr>
          <a:xfrm>
            <a:off x="6149880" y="3809880"/>
            <a:ext cx="515880" cy="752760"/>
          </a:xfrm>
          <a:custGeom>
            <a:avLst/>
            <a:gdLst/>
            <a:ahLst/>
            <a:rect l="l" t="t" r="r" b="b"/>
            <a:pathLst>
              <a:path w="649" h="949">
                <a:moveTo>
                  <a:pt x="2" y="947"/>
                </a:moveTo>
                <a:lnTo>
                  <a:pt x="0" y="943"/>
                </a:lnTo>
                <a:lnTo>
                  <a:pt x="0" y="939"/>
                </a:lnTo>
                <a:lnTo>
                  <a:pt x="2" y="933"/>
                </a:lnTo>
                <a:lnTo>
                  <a:pt x="4" y="925"/>
                </a:lnTo>
                <a:lnTo>
                  <a:pt x="10" y="918"/>
                </a:lnTo>
                <a:lnTo>
                  <a:pt x="15" y="908"/>
                </a:lnTo>
                <a:lnTo>
                  <a:pt x="21" y="899"/>
                </a:lnTo>
                <a:lnTo>
                  <a:pt x="31" y="887"/>
                </a:lnTo>
                <a:lnTo>
                  <a:pt x="40" y="874"/>
                </a:lnTo>
                <a:lnTo>
                  <a:pt x="50" y="858"/>
                </a:lnTo>
                <a:lnTo>
                  <a:pt x="63" y="843"/>
                </a:lnTo>
                <a:lnTo>
                  <a:pt x="77" y="828"/>
                </a:lnTo>
                <a:lnTo>
                  <a:pt x="90" y="808"/>
                </a:lnTo>
                <a:lnTo>
                  <a:pt x="105" y="789"/>
                </a:lnTo>
                <a:lnTo>
                  <a:pt x="123" y="768"/>
                </a:lnTo>
                <a:lnTo>
                  <a:pt x="140" y="747"/>
                </a:lnTo>
                <a:lnTo>
                  <a:pt x="150" y="735"/>
                </a:lnTo>
                <a:lnTo>
                  <a:pt x="157" y="722"/>
                </a:lnTo>
                <a:lnTo>
                  <a:pt x="167" y="709"/>
                </a:lnTo>
                <a:lnTo>
                  <a:pt x="178" y="695"/>
                </a:lnTo>
                <a:lnTo>
                  <a:pt x="188" y="682"/>
                </a:lnTo>
                <a:lnTo>
                  <a:pt x="198" y="666"/>
                </a:lnTo>
                <a:lnTo>
                  <a:pt x="209" y="651"/>
                </a:lnTo>
                <a:lnTo>
                  <a:pt x="221" y="634"/>
                </a:lnTo>
                <a:lnTo>
                  <a:pt x="232" y="616"/>
                </a:lnTo>
                <a:lnTo>
                  <a:pt x="244" y="597"/>
                </a:lnTo>
                <a:lnTo>
                  <a:pt x="255" y="580"/>
                </a:lnTo>
                <a:lnTo>
                  <a:pt x="267" y="559"/>
                </a:lnTo>
                <a:lnTo>
                  <a:pt x="280" y="540"/>
                </a:lnTo>
                <a:lnTo>
                  <a:pt x="294" y="519"/>
                </a:lnTo>
                <a:lnTo>
                  <a:pt x="305" y="496"/>
                </a:lnTo>
                <a:lnTo>
                  <a:pt x="319" y="474"/>
                </a:lnTo>
                <a:lnTo>
                  <a:pt x="334" y="449"/>
                </a:lnTo>
                <a:lnTo>
                  <a:pt x="347" y="426"/>
                </a:lnTo>
                <a:lnTo>
                  <a:pt x="361" y="401"/>
                </a:lnTo>
                <a:lnTo>
                  <a:pt x="376" y="375"/>
                </a:lnTo>
                <a:lnTo>
                  <a:pt x="391" y="348"/>
                </a:lnTo>
                <a:lnTo>
                  <a:pt x="407" y="321"/>
                </a:lnTo>
                <a:lnTo>
                  <a:pt x="422" y="292"/>
                </a:lnTo>
                <a:lnTo>
                  <a:pt x="439" y="263"/>
                </a:lnTo>
                <a:lnTo>
                  <a:pt x="455" y="234"/>
                </a:lnTo>
                <a:lnTo>
                  <a:pt x="472" y="204"/>
                </a:lnTo>
                <a:lnTo>
                  <a:pt x="489" y="171"/>
                </a:lnTo>
                <a:lnTo>
                  <a:pt x="507" y="139"/>
                </a:lnTo>
                <a:lnTo>
                  <a:pt x="524" y="106"/>
                </a:lnTo>
                <a:lnTo>
                  <a:pt x="543" y="71"/>
                </a:lnTo>
                <a:lnTo>
                  <a:pt x="560" y="37"/>
                </a:lnTo>
                <a:lnTo>
                  <a:pt x="580" y="0"/>
                </a:lnTo>
                <a:lnTo>
                  <a:pt x="580" y="6"/>
                </a:lnTo>
                <a:lnTo>
                  <a:pt x="582" y="12"/>
                </a:lnTo>
                <a:lnTo>
                  <a:pt x="583" y="20"/>
                </a:lnTo>
                <a:lnTo>
                  <a:pt x="585" y="27"/>
                </a:lnTo>
                <a:lnTo>
                  <a:pt x="587" y="37"/>
                </a:lnTo>
                <a:lnTo>
                  <a:pt x="591" y="48"/>
                </a:lnTo>
                <a:lnTo>
                  <a:pt x="595" y="58"/>
                </a:lnTo>
                <a:lnTo>
                  <a:pt x="599" y="71"/>
                </a:lnTo>
                <a:lnTo>
                  <a:pt x="605" y="83"/>
                </a:lnTo>
                <a:lnTo>
                  <a:pt x="608" y="96"/>
                </a:lnTo>
                <a:lnTo>
                  <a:pt x="614" y="112"/>
                </a:lnTo>
                <a:lnTo>
                  <a:pt x="622" y="127"/>
                </a:lnTo>
                <a:lnTo>
                  <a:pt x="628" y="144"/>
                </a:lnTo>
                <a:lnTo>
                  <a:pt x="633" y="162"/>
                </a:lnTo>
                <a:lnTo>
                  <a:pt x="641" y="181"/>
                </a:lnTo>
                <a:lnTo>
                  <a:pt x="649" y="200"/>
                </a:lnTo>
                <a:lnTo>
                  <a:pt x="631" y="231"/>
                </a:lnTo>
                <a:lnTo>
                  <a:pt x="616" y="259"/>
                </a:lnTo>
                <a:lnTo>
                  <a:pt x="601" y="288"/>
                </a:lnTo>
                <a:lnTo>
                  <a:pt x="583" y="315"/>
                </a:lnTo>
                <a:lnTo>
                  <a:pt x="568" y="342"/>
                </a:lnTo>
                <a:lnTo>
                  <a:pt x="553" y="369"/>
                </a:lnTo>
                <a:lnTo>
                  <a:pt x="537" y="394"/>
                </a:lnTo>
                <a:lnTo>
                  <a:pt x="520" y="419"/>
                </a:lnTo>
                <a:lnTo>
                  <a:pt x="507" y="442"/>
                </a:lnTo>
                <a:lnTo>
                  <a:pt x="491" y="465"/>
                </a:lnTo>
                <a:lnTo>
                  <a:pt x="476" y="488"/>
                </a:lnTo>
                <a:lnTo>
                  <a:pt x="461" y="511"/>
                </a:lnTo>
                <a:lnTo>
                  <a:pt x="447" y="532"/>
                </a:lnTo>
                <a:lnTo>
                  <a:pt x="432" y="553"/>
                </a:lnTo>
                <a:lnTo>
                  <a:pt x="418" y="572"/>
                </a:lnTo>
                <a:lnTo>
                  <a:pt x="403" y="592"/>
                </a:lnTo>
                <a:lnTo>
                  <a:pt x="390" y="611"/>
                </a:lnTo>
                <a:lnTo>
                  <a:pt x="376" y="628"/>
                </a:lnTo>
                <a:lnTo>
                  <a:pt x="363" y="645"/>
                </a:lnTo>
                <a:lnTo>
                  <a:pt x="349" y="663"/>
                </a:lnTo>
                <a:lnTo>
                  <a:pt x="336" y="678"/>
                </a:lnTo>
                <a:lnTo>
                  <a:pt x="324" y="693"/>
                </a:lnTo>
                <a:lnTo>
                  <a:pt x="311" y="709"/>
                </a:lnTo>
                <a:lnTo>
                  <a:pt x="299" y="722"/>
                </a:lnTo>
                <a:lnTo>
                  <a:pt x="286" y="735"/>
                </a:lnTo>
                <a:lnTo>
                  <a:pt x="274" y="749"/>
                </a:lnTo>
                <a:lnTo>
                  <a:pt x="263" y="760"/>
                </a:lnTo>
                <a:lnTo>
                  <a:pt x="251" y="772"/>
                </a:lnTo>
                <a:lnTo>
                  <a:pt x="240" y="783"/>
                </a:lnTo>
                <a:lnTo>
                  <a:pt x="230" y="793"/>
                </a:lnTo>
                <a:lnTo>
                  <a:pt x="219" y="805"/>
                </a:lnTo>
                <a:lnTo>
                  <a:pt x="209" y="812"/>
                </a:lnTo>
                <a:lnTo>
                  <a:pt x="186" y="830"/>
                </a:lnTo>
                <a:lnTo>
                  <a:pt x="165" y="847"/>
                </a:lnTo>
                <a:lnTo>
                  <a:pt x="146" y="862"/>
                </a:lnTo>
                <a:lnTo>
                  <a:pt x="127" y="876"/>
                </a:lnTo>
                <a:lnTo>
                  <a:pt x="109" y="889"/>
                </a:lnTo>
                <a:lnTo>
                  <a:pt x="92" y="901"/>
                </a:lnTo>
                <a:lnTo>
                  <a:pt x="79" y="910"/>
                </a:lnTo>
                <a:lnTo>
                  <a:pt x="65" y="920"/>
                </a:lnTo>
                <a:lnTo>
                  <a:pt x="52" y="927"/>
                </a:lnTo>
                <a:lnTo>
                  <a:pt x="40" y="935"/>
                </a:lnTo>
                <a:lnTo>
                  <a:pt x="31" y="941"/>
                </a:lnTo>
                <a:lnTo>
                  <a:pt x="23" y="945"/>
                </a:lnTo>
                <a:lnTo>
                  <a:pt x="15" y="947"/>
                </a:lnTo>
                <a:lnTo>
                  <a:pt x="10" y="949"/>
                </a:lnTo>
                <a:lnTo>
                  <a:pt x="6" y="949"/>
                </a:lnTo>
                <a:lnTo>
                  <a:pt x="2" y="94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Freeform 191"/>
          <p:cNvSpPr/>
          <p:nvPr/>
        </p:nvSpPr>
        <p:spPr>
          <a:xfrm>
            <a:off x="6519960" y="2749680"/>
            <a:ext cx="234720" cy="2160360"/>
          </a:xfrm>
          <a:custGeom>
            <a:avLst/>
            <a:gdLst/>
            <a:ahLst/>
            <a:rect l="l" t="t" r="r" b="b"/>
            <a:pathLst>
              <a:path w="296" h="2722">
                <a:moveTo>
                  <a:pt x="89" y="298"/>
                </a:moveTo>
                <a:lnTo>
                  <a:pt x="85" y="277"/>
                </a:lnTo>
                <a:lnTo>
                  <a:pt x="83" y="256"/>
                </a:lnTo>
                <a:lnTo>
                  <a:pt x="81" y="236"/>
                </a:lnTo>
                <a:lnTo>
                  <a:pt x="77" y="219"/>
                </a:lnTo>
                <a:lnTo>
                  <a:pt x="75" y="202"/>
                </a:lnTo>
                <a:lnTo>
                  <a:pt x="71" y="187"/>
                </a:lnTo>
                <a:lnTo>
                  <a:pt x="70" y="171"/>
                </a:lnTo>
                <a:lnTo>
                  <a:pt x="66" y="158"/>
                </a:lnTo>
                <a:lnTo>
                  <a:pt x="64" y="146"/>
                </a:lnTo>
                <a:lnTo>
                  <a:pt x="60" y="137"/>
                </a:lnTo>
                <a:lnTo>
                  <a:pt x="56" y="127"/>
                </a:lnTo>
                <a:lnTo>
                  <a:pt x="52" y="119"/>
                </a:lnTo>
                <a:lnTo>
                  <a:pt x="48" y="112"/>
                </a:lnTo>
                <a:lnTo>
                  <a:pt x="43" y="106"/>
                </a:lnTo>
                <a:lnTo>
                  <a:pt x="39" y="102"/>
                </a:lnTo>
                <a:lnTo>
                  <a:pt x="33" y="98"/>
                </a:lnTo>
                <a:lnTo>
                  <a:pt x="23" y="92"/>
                </a:lnTo>
                <a:lnTo>
                  <a:pt x="16" y="89"/>
                </a:lnTo>
                <a:lnTo>
                  <a:pt x="10" y="81"/>
                </a:lnTo>
                <a:lnTo>
                  <a:pt x="4" y="75"/>
                </a:lnTo>
                <a:lnTo>
                  <a:pt x="2" y="71"/>
                </a:lnTo>
                <a:lnTo>
                  <a:pt x="2" y="68"/>
                </a:lnTo>
                <a:lnTo>
                  <a:pt x="0" y="62"/>
                </a:lnTo>
                <a:lnTo>
                  <a:pt x="0" y="58"/>
                </a:lnTo>
                <a:lnTo>
                  <a:pt x="0" y="52"/>
                </a:lnTo>
                <a:lnTo>
                  <a:pt x="2" y="46"/>
                </a:lnTo>
                <a:lnTo>
                  <a:pt x="4" y="39"/>
                </a:lnTo>
                <a:lnTo>
                  <a:pt x="6" y="33"/>
                </a:lnTo>
                <a:lnTo>
                  <a:pt x="6" y="27"/>
                </a:lnTo>
                <a:lnTo>
                  <a:pt x="6" y="23"/>
                </a:lnTo>
                <a:lnTo>
                  <a:pt x="8" y="18"/>
                </a:lnTo>
                <a:lnTo>
                  <a:pt x="12" y="14"/>
                </a:lnTo>
                <a:lnTo>
                  <a:pt x="14" y="12"/>
                </a:lnTo>
                <a:lnTo>
                  <a:pt x="18" y="8"/>
                </a:lnTo>
                <a:lnTo>
                  <a:pt x="23" y="6"/>
                </a:lnTo>
                <a:lnTo>
                  <a:pt x="27" y="4"/>
                </a:lnTo>
                <a:lnTo>
                  <a:pt x="35" y="2"/>
                </a:lnTo>
                <a:lnTo>
                  <a:pt x="41" y="0"/>
                </a:lnTo>
                <a:lnTo>
                  <a:pt x="50" y="0"/>
                </a:lnTo>
                <a:lnTo>
                  <a:pt x="58" y="0"/>
                </a:lnTo>
                <a:lnTo>
                  <a:pt x="68" y="0"/>
                </a:lnTo>
                <a:lnTo>
                  <a:pt x="79" y="2"/>
                </a:lnTo>
                <a:lnTo>
                  <a:pt x="91" y="2"/>
                </a:lnTo>
                <a:lnTo>
                  <a:pt x="102" y="6"/>
                </a:lnTo>
                <a:lnTo>
                  <a:pt x="121" y="10"/>
                </a:lnTo>
                <a:lnTo>
                  <a:pt x="141" y="18"/>
                </a:lnTo>
                <a:lnTo>
                  <a:pt x="160" y="25"/>
                </a:lnTo>
                <a:lnTo>
                  <a:pt x="177" y="31"/>
                </a:lnTo>
                <a:lnTo>
                  <a:pt x="192" y="39"/>
                </a:lnTo>
                <a:lnTo>
                  <a:pt x="210" y="46"/>
                </a:lnTo>
                <a:lnTo>
                  <a:pt x="225" y="52"/>
                </a:lnTo>
                <a:lnTo>
                  <a:pt x="240" y="58"/>
                </a:lnTo>
                <a:lnTo>
                  <a:pt x="248" y="64"/>
                </a:lnTo>
                <a:lnTo>
                  <a:pt x="254" y="69"/>
                </a:lnTo>
                <a:lnTo>
                  <a:pt x="260" y="73"/>
                </a:lnTo>
                <a:lnTo>
                  <a:pt x="265" y="79"/>
                </a:lnTo>
                <a:lnTo>
                  <a:pt x="271" y="83"/>
                </a:lnTo>
                <a:lnTo>
                  <a:pt x="275" y="89"/>
                </a:lnTo>
                <a:lnTo>
                  <a:pt x="279" y="94"/>
                </a:lnTo>
                <a:lnTo>
                  <a:pt x="283" y="98"/>
                </a:lnTo>
                <a:lnTo>
                  <a:pt x="288" y="108"/>
                </a:lnTo>
                <a:lnTo>
                  <a:pt x="292" y="119"/>
                </a:lnTo>
                <a:lnTo>
                  <a:pt x="294" y="129"/>
                </a:lnTo>
                <a:lnTo>
                  <a:pt x="296" y="139"/>
                </a:lnTo>
                <a:lnTo>
                  <a:pt x="294" y="158"/>
                </a:lnTo>
                <a:lnTo>
                  <a:pt x="294" y="169"/>
                </a:lnTo>
                <a:lnTo>
                  <a:pt x="294" y="181"/>
                </a:lnTo>
                <a:lnTo>
                  <a:pt x="292" y="192"/>
                </a:lnTo>
                <a:lnTo>
                  <a:pt x="288" y="204"/>
                </a:lnTo>
                <a:lnTo>
                  <a:pt x="286" y="217"/>
                </a:lnTo>
                <a:lnTo>
                  <a:pt x="281" y="233"/>
                </a:lnTo>
                <a:lnTo>
                  <a:pt x="279" y="240"/>
                </a:lnTo>
                <a:lnTo>
                  <a:pt x="277" y="248"/>
                </a:lnTo>
                <a:lnTo>
                  <a:pt x="275" y="258"/>
                </a:lnTo>
                <a:lnTo>
                  <a:pt x="273" y="269"/>
                </a:lnTo>
                <a:lnTo>
                  <a:pt x="271" y="281"/>
                </a:lnTo>
                <a:lnTo>
                  <a:pt x="271" y="294"/>
                </a:lnTo>
                <a:lnTo>
                  <a:pt x="269" y="307"/>
                </a:lnTo>
                <a:lnTo>
                  <a:pt x="267" y="323"/>
                </a:lnTo>
                <a:lnTo>
                  <a:pt x="265" y="340"/>
                </a:lnTo>
                <a:lnTo>
                  <a:pt x="265" y="357"/>
                </a:lnTo>
                <a:lnTo>
                  <a:pt x="263" y="375"/>
                </a:lnTo>
                <a:lnTo>
                  <a:pt x="261" y="394"/>
                </a:lnTo>
                <a:lnTo>
                  <a:pt x="260" y="415"/>
                </a:lnTo>
                <a:lnTo>
                  <a:pt x="258" y="438"/>
                </a:lnTo>
                <a:lnTo>
                  <a:pt x="256" y="461"/>
                </a:lnTo>
                <a:lnTo>
                  <a:pt x="254" y="484"/>
                </a:lnTo>
                <a:lnTo>
                  <a:pt x="252" y="497"/>
                </a:lnTo>
                <a:lnTo>
                  <a:pt x="252" y="513"/>
                </a:lnTo>
                <a:lnTo>
                  <a:pt x="250" y="528"/>
                </a:lnTo>
                <a:lnTo>
                  <a:pt x="250" y="545"/>
                </a:lnTo>
                <a:lnTo>
                  <a:pt x="248" y="565"/>
                </a:lnTo>
                <a:lnTo>
                  <a:pt x="248" y="584"/>
                </a:lnTo>
                <a:lnTo>
                  <a:pt x="246" y="607"/>
                </a:lnTo>
                <a:lnTo>
                  <a:pt x="246" y="630"/>
                </a:lnTo>
                <a:lnTo>
                  <a:pt x="244" y="653"/>
                </a:lnTo>
                <a:lnTo>
                  <a:pt x="244" y="680"/>
                </a:lnTo>
                <a:lnTo>
                  <a:pt x="244" y="707"/>
                </a:lnTo>
                <a:lnTo>
                  <a:pt x="244" y="736"/>
                </a:lnTo>
                <a:lnTo>
                  <a:pt x="242" y="764"/>
                </a:lnTo>
                <a:lnTo>
                  <a:pt x="242" y="795"/>
                </a:lnTo>
                <a:lnTo>
                  <a:pt x="242" y="828"/>
                </a:lnTo>
                <a:lnTo>
                  <a:pt x="242" y="862"/>
                </a:lnTo>
                <a:lnTo>
                  <a:pt x="242" y="899"/>
                </a:lnTo>
                <a:lnTo>
                  <a:pt x="240" y="935"/>
                </a:lnTo>
                <a:lnTo>
                  <a:pt x="240" y="972"/>
                </a:lnTo>
                <a:lnTo>
                  <a:pt x="240" y="1012"/>
                </a:lnTo>
                <a:lnTo>
                  <a:pt x="240" y="1052"/>
                </a:lnTo>
                <a:lnTo>
                  <a:pt x="240" y="1094"/>
                </a:lnTo>
                <a:lnTo>
                  <a:pt x="240" y="1139"/>
                </a:lnTo>
                <a:lnTo>
                  <a:pt x="240" y="1183"/>
                </a:lnTo>
                <a:lnTo>
                  <a:pt x="240" y="1229"/>
                </a:lnTo>
                <a:lnTo>
                  <a:pt x="240" y="1277"/>
                </a:lnTo>
                <a:lnTo>
                  <a:pt x="240" y="1325"/>
                </a:lnTo>
                <a:lnTo>
                  <a:pt x="240" y="1375"/>
                </a:lnTo>
                <a:lnTo>
                  <a:pt x="240" y="1427"/>
                </a:lnTo>
                <a:lnTo>
                  <a:pt x="240" y="1480"/>
                </a:lnTo>
                <a:lnTo>
                  <a:pt x="240" y="1534"/>
                </a:lnTo>
                <a:lnTo>
                  <a:pt x="240" y="1590"/>
                </a:lnTo>
                <a:lnTo>
                  <a:pt x="238" y="1647"/>
                </a:lnTo>
                <a:lnTo>
                  <a:pt x="237" y="1701"/>
                </a:lnTo>
                <a:lnTo>
                  <a:pt x="237" y="1755"/>
                </a:lnTo>
                <a:lnTo>
                  <a:pt x="235" y="1807"/>
                </a:lnTo>
                <a:lnTo>
                  <a:pt x="233" y="1856"/>
                </a:lnTo>
                <a:lnTo>
                  <a:pt x="233" y="1906"/>
                </a:lnTo>
                <a:lnTo>
                  <a:pt x="231" y="1952"/>
                </a:lnTo>
                <a:lnTo>
                  <a:pt x="229" y="1999"/>
                </a:lnTo>
                <a:lnTo>
                  <a:pt x="229" y="2043"/>
                </a:lnTo>
                <a:lnTo>
                  <a:pt x="227" y="2085"/>
                </a:lnTo>
                <a:lnTo>
                  <a:pt x="225" y="2127"/>
                </a:lnTo>
                <a:lnTo>
                  <a:pt x="225" y="2166"/>
                </a:lnTo>
                <a:lnTo>
                  <a:pt x="223" y="2204"/>
                </a:lnTo>
                <a:lnTo>
                  <a:pt x="221" y="2238"/>
                </a:lnTo>
                <a:lnTo>
                  <a:pt x="221" y="2273"/>
                </a:lnTo>
                <a:lnTo>
                  <a:pt x="219" y="2308"/>
                </a:lnTo>
                <a:lnTo>
                  <a:pt x="217" y="2338"/>
                </a:lnTo>
                <a:lnTo>
                  <a:pt x="217" y="2367"/>
                </a:lnTo>
                <a:lnTo>
                  <a:pt x="215" y="2396"/>
                </a:lnTo>
                <a:lnTo>
                  <a:pt x="213" y="2423"/>
                </a:lnTo>
                <a:lnTo>
                  <a:pt x="213" y="2448"/>
                </a:lnTo>
                <a:lnTo>
                  <a:pt x="212" y="2471"/>
                </a:lnTo>
                <a:lnTo>
                  <a:pt x="210" y="2492"/>
                </a:lnTo>
                <a:lnTo>
                  <a:pt x="210" y="2513"/>
                </a:lnTo>
                <a:lnTo>
                  <a:pt x="208" y="2530"/>
                </a:lnTo>
                <a:lnTo>
                  <a:pt x="206" y="2547"/>
                </a:lnTo>
                <a:lnTo>
                  <a:pt x="206" y="2563"/>
                </a:lnTo>
                <a:lnTo>
                  <a:pt x="204" y="2576"/>
                </a:lnTo>
                <a:lnTo>
                  <a:pt x="202" y="2588"/>
                </a:lnTo>
                <a:lnTo>
                  <a:pt x="202" y="2599"/>
                </a:lnTo>
                <a:lnTo>
                  <a:pt x="200" y="2607"/>
                </a:lnTo>
                <a:lnTo>
                  <a:pt x="198" y="2615"/>
                </a:lnTo>
                <a:lnTo>
                  <a:pt x="194" y="2626"/>
                </a:lnTo>
                <a:lnTo>
                  <a:pt x="189" y="2638"/>
                </a:lnTo>
                <a:lnTo>
                  <a:pt x="185" y="2649"/>
                </a:lnTo>
                <a:lnTo>
                  <a:pt x="181" y="2659"/>
                </a:lnTo>
                <a:lnTo>
                  <a:pt x="177" y="2668"/>
                </a:lnTo>
                <a:lnTo>
                  <a:pt x="173" y="2678"/>
                </a:lnTo>
                <a:lnTo>
                  <a:pt x="169" y="2686"/>
                </a:lnTo>
                <a:lnTo>
                  <a:pt x="165" y="2693"/>
                </a:lnTo>
                <a:lnTo>
                  <a:pt x="164" y="2699"/>
                </a:lnTo>
                <a:lnTo>
                  <a:pt x="160" y="2705"/>
                </a:lnTo>
                <a:lnTo>
                  <a:pt x="158" y="2711"/>
                </a:lnTo>
                <a:lnTo>
                  <a:pt x="154" y="2714"/>
                </a:lnTo>
                <a:lnTo>
                  <a:pt x="152" y="2716"/>
                </a:lnTo>
                <a:lnTo>
                  <a:pt x="148" y="2720"/>
                </a:lnTo>
                <a:lnTo>
                  <a:pt x="146" y="2720"/>
                </a:lnTo>
                <a:lnTo>
                  <a:pt x="144" y="2722"/>
                </a:lnTo>
                <a:lnTo>
                  <a:pt x="139" y="2720"/>
                </a:lnTo>
                <a:lnTo>
                  <a:pt x="131" y="2718"/>
                </a:lnTo>
                <a:lnTo>
                  <a:pt x="123" y="2714"/>
                </a:lnTo>
                <a:lnTo>
                  <a:pt x="116" y="2711"/>
                </a:lnTo>
                <a:lnTo>
                  <a:pt x="112" y="2707"/>
                </a:lnTo>
                <a:lnTo>
                  <a:pt x="108" y="2703"/>
                </a:lnTo>
                <a:lnTo>
                  <a:pt x="104" y="2699"/>
                </a:lnTo>
                <a:lnTo>
                  <a:pt x="100" y="2693"/>
                </a:lnTo>
                <a:lnTo>
                  <a:pt x="96" y="2688"/>
                </a:lnTo>
                <a:lnTo>
                  <a:pt x="94" y="2682"/>
                </a:lnTo>
                <a:lnTo>
                  <a:pt x="91" y="2676"/>
                </a:lnTo>
                <a:lnTo>
                  <a:pt x="89" y="2668"/>
                </a:lnTo>
                <a:lnTo>
                  <a:pt x="79" y="2653"/>
                </a:lnTo>
                <a:lnTo>
                  <a:pt x="71" y="2638"/>
                </a:lnTo>
                <a:lnTo>
                  <a:pt x="64" y="2622"/>
                </a:lnTo>
                <a:lnTo>
                  <a:pt x="58" y="2609"/>
                </a:lnTo>
                <a:lnTo>
                  <a:pt x="52" y="2594"/>
                </a:lnTo>
                <a:lnTo>
                  <a:pt x="50" y="2578"/>
                </a:lnTo>
                <a:lnTo>
                  <a:pt x="48" y="2563"/>
                </a:lnTo>
                <a:lnTo>
                  <a:pt x="46" y="2549"/>
                </a:lnTo>
                <a:lnTo>
                  <a:pt x="46" y="2544"/>
                </a:lnTo>
                <a:lnTo>
                  <a:pt x="46" y="2540"/>
                </a:lnTo>
                <a:lnTo>
                  <a:pt x="46" y="2534"/>
                </a:lnTo>
                <a:lnTo>
                  <a:pt x="48" y="2528"/>
                </a:lnTo>
                <a:lnTo>
                  <a:pt x="48" y="2523"/>
                </a:lnTo>
                <a:lnTo>
                  <a:pt x="48" y="2515"/>
                </a:lnTo>
                <a:lnTo>
                  <a:pt x="48" y="2507"/>
                </a:lnTo>
                <a:lnTo>
                  <a:pt x="50" y="2500"/>
                </a:lnTo>
                <a:lnTo>
                  <a:pt x="50" y="2490"/>
                </a:lnTo>
                <a:lnTo>
                  <a:pt x="50" y="2480"/>
                </a:lnTo>
                <a:lnTo>
                  <a:pt x="52" y="2471"/>
                </a:lnTo>
                <a:lnTo>
                  <a:pt x="52" y="2459"/>
                </a:lnTo>
                <a:lnTo>
                  <a:pt x="54" y="2448"/>
                </a:lnTo>
                <a:lnTo>
                  <a:pt x="54" y="2436"/>
                </a:lnTo>
                <a:lnTo>
                  <a:pt x="56" y="2423"/>
                </a:lnTo>
                <a:lnTo>
                  <a:pt x="58" y="2409"/>
                </a:lnTo>
                <a:lnTo>
                  <a:pt x="58" y="2396"/>
                </a:lnTo>
                <a:lnTo>
                  <a:pt x="60" y="2382"/>
                </a:lnTo>
                <a:lnTo>
                  <a:pt x="62" y="2367"/>
                </a:lnTo>
                <a:lnTo>
                  <a:pt x="64" y="2352"/>
                </a:lnTo>
                <a:lnTo>
                  <a:pt x="66" y="2336"/>
                </a:lnTo>
                <a:lnTo>
                  <a:pt x="68" y="2319"/>
                </a:lnTo>
                <a:lnTo>
                  <a:pt x="70" y="2302"/>
                </a:lnTo>
                <a:lnTo>
                  <a:pt x="71" y="2285"/>
                </a:lnTo>
                <a:lnTo>
                  <a:pt x="73" y="2265"/>
                </a:lnTo>
                <a:lnTo>
                  <a:pt x="75" y="2248"/>
                </a:lnTo>
                <a:lnTo>
                  <a:pt x="77" y="2227"/>
                </a:lnTo>
                <a:lnTo>
                  <a:pt x="79" y="2208"/>
                </a:lnTo>
                <a:lnTo>
                  <a:pt x="81" y="2187"/>
                </a:lnTo>
                <a:lnTo>
                  <a:pt x="83" y="2166"/>
                </a:lnTo>
                <a:lnTo>
                  <a:pt x="85" y="2144"/>
                </a:lnTo>
                <a:lnTo>
                  <a:pt x="89" y="2123"/>
                </a:lnTo>
                <a:lnTo>
                  <a:pt x="89" y="2100"/>
                </a:lnTo>
                <a:lnTo>
                  <a:pt x="91" y="2077"/>
                </a:lnTo>
                <a:lnTo>
                  <a:pt x="93" y="2052"/>
                </a:lnTo>
                <a:lnTo>
                  <a:pt x="93" y="2027"/>
                </a:lnTo>
                <a:lnTo>
                  <a:pt x="94" y="2002"/>
                </a:lnTo>
                <a:lnTo>
                  <a:pt x="96" y="1977"/>
                </a:lnTo>
                <a:lnTo>
                  <a:pt x="96" y="1951"/>
                </a:lnTo>
                <a:lnTo>
                  <a:pt x="98" y="1926"/>
                </a:lnTo>
                <a:lnTo>
                  <a:pt x="100" y="1897"/>
                </a:lnTo>
                <a:lnTo>
                  <a:pt x="100" y="1870"/>
                </a:lnTo>
                <a:lnTo>
                  <a:pt x="102" y="1841"/>
                </a:lnTo>
                <a:lnTo>
                  <a:pt x="104" y="1812"/>
                </a:lnTo>
                <a:lnTo>
                  <a:pt x="104" y="1784"/>
                </a:lnTo>
                <a:lnTo>
                  <a:pt x="106" y="1753"/>
                </a:lnTo>
                <a:lnTo>
                  <a:pt x="106" y="1722"/>
                </a:lnTo>
                <a:lnTo>
                  <a:pt x="108" y="1691"/>
                </a:lnTo>
                <a:lnTo>
                  <a:pt x="108" y="1659"/>
                </a:lnTo>
                <a:lnTo>
                  <a:pt x="110" y="1626"/>
                </a:lnTo>
                <a:lnTo>
                  <a:pt x="110" y="1594"/>
                </a:lnTo>
                <a:lnTo>
                  <a:pt x="112" y="1561"/>
                </a:lnTo>
                <a:lnTo>
                  <a:pt x="112" y="1526"/>
                </a:lnTo>
                <a:lnTo>
                  <a:pt x="112" y="1492"/>
                </a:lnTo>
                <a:lnTo>
                  <a:pt x="114" y="1455"/>
                </a:lnTo>
                <a:lnTo>
                  <a:pt x="114" y="1421"/>
                </a:lnTo>
                <a:lnTo>
                  <a:pt x="114" y="1384"/>
                </a:lnTo>
                <a:lnTo>
                  <a:pt x="116" y="1346"/>
                </a:lnTo>
                <a:lnTo>
                  <a:pt x="116" y="1309"/>
                </a:lnTo>
                <a:lnTo>
                  <a:pt x="116" y="1271"/>
                </a:lnTo>
                <a:lnTo>
                  <a:pt x="116" y="1231"/>
                </a:lnTo>
                <a:lnTo>
                  <a:pt x="116" y="1192"/>
                </a:lnTo>
                <a:lnTo>
                  <a:pt x="116" y="1152"/>
                </a:lnTo>
                <a:lnTo>
                  <a:pt x="116" y="1110"/>
                </a:lnTo>
                <a:lnTo>
                  <a:pt x="116" y="1070"/>
                </a:lnTo>
                <a:lnTo>
                  <a:pt x="114" y="1029"/>
                </a:lnTo>
                <a:lnTo>
                  <a:pt x="112" y="991"/>
                </a:lnTo>
                <a:lnTo>
                  <a:pt x="112" y="954"/>
                </a:lnTo>
                <a:lnTo>
                  <a:pt x="110" y="918"/>
                </a:lnTo>
                <a:lnTo>
                  <a:pt x="110" y="881"/>
                </a:lnTo>
                <a:lnTo>
                  <a:pt x="110" y="847"/>
                </a:lnTo>
                <a:lnTo>
                  <a:pt x="108" y="812"/>
                </a:lnTo>
                <a:lnTo>
                  <a:pt x="108" y="780"/>
                </a:lnTo>
                <a:lnTo>
                  <a:pt x="106" y="749"/>
                </a:lnTo>
                <a:lnTo>
                  <a:pt x="106" y="718"/>
                </a:lnTo>
                <a:lnTo>
                  <a:pt x="106" y="688"/>
                </a:lnTo>
                <a:lnTo>
                  <a:pt x="104" y="659"/>
                </a:lnTo>
                <a:lnTo>
                  <a:pt x="104" y="632"/>
                </a:lnTo>
                <a:lnTo>
                  <a:pt x="102" y="605"/>
                </a:lnTo>
                <a:lnTo>
                  <a:pt x="102" y="580"/>
                </a:lnTo>
                <a:lnTo>
                  <a:pt x="102" y="555"/>
                </a:lnTo>
                <a:lnTo>
                  <a:pt x="100" y="530"/>
                </a:lnTo>
                <a:lnTo>
                  <a:pt x="100" y="509"/>
                </a:lnTo>
                <a:lnTo>
                  <a:pt x="100" y="486"/>
                </a:lnTo>
                <a:lnTo>
                  <a:pt x="98" y="465"/>
                </a:lnTo>
                <a:lnTo>
                  <a:pt x="98" y="446"/>
                </a:lnTo>
                <a:lnTo>
                  <a:pt x="98" y="426"/>
                </a:lnTo>
                <a:lnTo>
                  <a:pt x="96" y="409"/>
                </a:lnTo>
                <a:lnTo>
                  <a:pt x="96" y="392"/>
                </a:lnTo>
                <a:lnTo>
                  <a:pt x="94" y="375"/>
                </a:lnTo>
                <a:lnTo>
                  <a:pt x="94" y="359"/>
                </a:lnTo>
                <a:lnTo>
                  <a:pt x="93" y="346"/>
                </a:lnTo>
                <a:lnTo>
                  <a:pt x="93" y="332"/>
                </a:lnTo>
                <a:lnTo>
                  <a:pt x="91" y="321"/>
                </a:lnTo>
                <a:lnTo>
                  <a:pt x="89" y="309"/>
                </a:lnTo>
                <a:lnTo>
                  <a:pt x="89" y="29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Freeform 192"/>
          <p:cNvSpPr/>
          <p:nvPr/>
        </p:nvSpPr>
        <p:spPr>
          <a:xfrm>
            <a:off x="6157800" y="3693960"/>
            <a:ext cx="824040" cy="252720"/>
          </a:xfrm>
          <a:custGeom>
            <a:avLst/>
            <a:gdLst/>
            <a:ahLst/>
            <a:rect l="l" t="t" r="r" b="b"/>
            <a:pathLst>
              <a:path w="1038" h="319">
                <a:moveTo>
                  <a:pt x="433" y="119"/>
                </a:moveTo>
                <a:lnTo>
                  <a:pt x="456" y="112"/>
                </a:lnTo>
                <a:lnTo>
                  <a:pt x="479" y="106"/>
                </a:lnTo>
                <a:lnTo>
                  <a:pt x="502" y="98"/>
                </a:lnTo>
                <a:lnTo>
                  <a:pt x="525" y="91"/>
                </a:lnTo>
                <a:lnTo>
                  <a:pt x="547" y="85"/>
                </a:lnTo>
                <a:lnTo>
                  <a:pt x="566" y="79"/>
                </a:lnTo>
                <a:lnTo>
                  <a:pt x="587" y="73"/>
                </a:lnTo>
                <a:lnTo>
                  <a:pt x="606" y="68"/>
                </a:lnTo>
                <a:lnTo>
                  <a:pt x="623" y="62"/>
                </a:lnTo>
                <a:lnTo>
                  <a:pt x="643" y="56"/>
                </a:lnTo>
                <a:lnTo>
                  <a:pt x="660" y="50"/>
                </a:lnTo>
                <a:lnTo>
                  <a:pt x="675" y="46"/>
                </a:lnTo>
                <a:lnTo>
                  <a:pt x="691" y="43"/>
                </a:lnTo>
                <a:lnTo>
                  <a:pt x="706" y="37"/>
                </a:lnTo>
                <a:lnTo>
                  <a:pt x="721" y="33"/>
                </a:lnTo>
                <a:lnTo>
                  <a:pt x="735" y="29"/>
                </a:lnTo>
                <a:lnTo>
                  <a:pt x="748" y="25"/>
                </a:lnTo>
                <a:lnTo>
                  <a:pt x="762" y="23"/>
                </a:lnTo>
                <a:lnTo>
                  <a:pt x="773" y="20"/>
                </a:lnTo>
                <a:lnTo>
                  <a:pt x="785" y="18"/>
                </a:lnTo>
                <a:lnTo>
                  <a:pt x="794" y="14"/>
                </a:lnTo>
                <a:lnTo>
                  <a:pt x="806" y="12"/>
                </a:lnTo>
                <a:lnTo>
                  <a:pt x="815" y="10"/>
                </a:lnTo>
                <a:lnTo>
                  <a:pt x="823" y="8"/>
                </a:lnTo>
                <a:lnTo>
                  <a:pt x="833" y="6"/>
                </a:lnTo>
                <a:lnTo>
                  <a:pt x="840" y="4"/>
                </a:lnTo>
                <a:lnTo>
                  <a:pt x="846" y="2"/>
                </a:lnTo>
                <a:lnTo>
                  <a:pt x="854" y="2"/>
                </a:lnTo>
                <a:lnTo>
                  <a:pt x="859" y="2"/>
                </a:lnTo>
                <a:lnTo>
                  <a:pt x="863" y="0"/>
                </a:lnTo>
                <a:lnTo>
                  <a:pt x="869" y="0"/>
                </a:lnTo>
                <a:lnTo>
                  <a:pt x="873" y="0"/>
                </a:lnTo>
                <a:lnTo>
                  <a:pt x="888" y="0"/>
                </a:lnTo>
                <a:lnTo>
                  <a:pt x="902" y="0"/>
                </a:lnTo>
                <a:lnTo>
                  <a:pt x="915" y="0"/>
                </a:lnTo>
                <a:lnTo>
                  <a:pt x="929" y="2"/>
                </a:lnTo>
                <a:lnTo>
                  <a:pt x="940" y="4"/>
                </a:lnTo>
                <a:lnTo>
                  <a:pt x="953" y="6"/>
                </a:lnTo>
                <a:lnTo>
                  <a:pt x="969" y="8"/>
                </a:lnTo>
                <a:lnTo>
                  <a:pt x="982" y="14"/>
                </a:lnTo>
                <a:lnTo>
                  <a:pt x="990" y="16"/>
                </a:lnTo>
                <a:lnTo>
                  <a:pt x="998" y="20"/>
                </a:lnTo>
                <a:lnTo>
                  <a:pt x="1003" y="22"/>
                </a:lnTo>
                <a:lnTo>
                  <a:pt x="1009" y="25"/>
                </a:lnTo>
                <a:lnTo>
                  <a:pt x="1013" y="29"/>
                </a:lnTo>
                <a:lnTo>
                  <a:pt x="1019" y="33"/>
                </a:lnTo>
                <a:lnTo>
                  <a:pt x="1023" y="37"/>
                </a:lnTo>
                <a:lnTo>
                  <a:pt x="1026" y="41"/>
                </a:lnTo>
                <a:lnTo>
                  <a:pt x="1028" y="45"/>
                </a:lnTo>
                <a:lnTo>
                  <a:pt x="1032" y="48"/>
                </a:lnTo>
                <a:lnTo>
                  <a:pt x="1036" y="54"/>
                </a:lnTo>
                <a:lnTo>
                  <a:pt x="1038" y="62"/>
                </a:lnTo>
                <a:lnTo>
                  <a:pt x="1038" y="68"/>
                </a:lnTo>
                <a:lnTo>
                  <a:pt x="1036" y="68"/>
                </a:lnTo>
                <a:lnTo>
                  <a:pt x="1034" y="70"/>
                </a:lnTo>
                <a:lnTo>
                  <a:pt x="1030" y="71"/>
                </a:lnTo>
                <a:lnTo>
                  <a:pt x="1026" y="73"/>
                </a:lnTo>
                <a:lnTo>
                  <a:pt x="1023" y="75"/>
                </a:lnTo>
                <a:lnTo>
                  <a:pt x="1017" y="77"/>
                </a:lnTo>
                <a:lnTo>
                  <a:pt x="1011" y="81"/>
                </a:lnTo>
                <a:lnTo>
                  <a:pt x="1003" y="83"/>
                </a:lnTo>
                <a:lnTo>
                  <a:pt x="996" y="87"/>
                </a:lnTo>
                <a:lnTo>
                  <a:pt x="988" y="91"/>
                </a:lnTo>
                <a:lnTo>
                  <a:pt x="978" y="93"/>
                </a:lnTo>
                <a:lnTo>
                  <a:pt x="969" y="96"/>
                </a:lnTo>
                <a:lnTo>
                  <a:pt x="959" y="100"/>
                </a:lnTo>
                <a:lnTo>
                  <a:pt x="948" y="104"/>
                </a:lnTo>
                <a:lnTo>
                  <a:pt x="936" y="108"/>
                </a:lnTo>
                <a:lnTo>
                  <a:pt x="923" y="114"/>
                </a:lnTo>
                <a:lnTo>
                  <a:pt x="909" y="118"/>
                </a:lnTo>
                <a:lnTo>
                  <a:pt x="894" y="121"/>
                </a:lnTo>
                <a:lnTo>
                  <a:pt x="879" y="127"/>
                </a:lnTo>
                <a:lnTo>
                  <a:pt x="863" y="131"/>
                </a:lnTo>
                <a:lnTo>
                  <a:pt x="846" y="137"/>
                </a:lnTo>
                <a:lnTo>
                  <a:pt x="829" y="142"/>
                </a:lnTo>
                <a:lnTo>
                  <a:pt x="811" y="146"/>
                </a:lnTo>
                <a:lnTo>
                  <a:pt x="792" y="152"/>
                </a:lnTo>
                <a:lnTo>
                  <a:pt x="773" y="158"/>
                </a:lnTo>
                <a:lnTo>
                  <a:pt x="752" y="164"/>
                </a:lnTo>
                <a:lnTo>
                  <a:pt x="731" y="169"/>
                </a:lnTo>
                <a:lnTo>
                  <a:pt x="708" y="175"/>
                </a:lnTo>
                <a:lnTo>
                  <a:pt x="685" y="181"/>
                </a:lnTo>
                <a:lnTo>
                  <a:pt x="662" y="187"/>
                </a:lnTo>
                <a:lnTo>
                  <a:pt x="637" y="194"/>
                </a:lnTo>
                <a:lnTo>
                  <a:pt x="612" y="200"/>
                </a:lnTo>
                <a:lnTo>
                  <a:pt x="587" y="208"/>
                </a:lnTo>
                <a:lnTo>
                  <a:pt x="562" y="215"/>
                </a:lnTo>
                <a:lnTo>
                  <a:pt x="537" y="221"/>
                </a:lnTo>
                <a:lnTo>
                  <a:pt x="514" y="229"/>
                </a:lnTo>
                <a:lnTo>
                  <a:pt x="491" y="235"/>
                </a:lnTo>
                <a:lnTo>
                  <a:pt x="468" y="240"/>
                </a:lnTo>
                <a:lnTo>
                  <a:pt x="447" y="248"/>
                </a:lnTo>
                <a:lnTo>
                  <a:pt x="426" y="254"/>
                </a:lnTo>
                <a:lnTo>
                  <a:pt x="406" y="258"/>
                </a:lnTo>
                <a:lnTo>
                  <a:pt x="385" y="263"/>
                </a:lnTo>
                <a:lnTo>
                  <a:pt x="368" y="269"/>
                </a:lnTo>
                <a:lnTo>
                  <a:pt x="349" y="273"/>
                </a:lnTo>
                <a:lnTo>
                  <a:pt x="332" y="279"/>
                </a:lnTo>
                <a:lnTo>
                  <a:pt x="314" y="283"/>
                </a:lnTo>
                <a:lnTo>
                  <a:pt x="299" y="286"/>
                </a:lnTo>
                <a:lnTo>
                  <a:pt x="284" y="290"/>
                </a:lnTo>
                <a:lnTo>
                  <a:pt x="268" y="294"/>
                </a:lnTo>
                <a:lnTo>
                  <a:pt x="255" y="298"/>
                </a:lnTo>
                <a:lnTo>
                  <a:pt x="241" y="300"/>
                </a:lnTo>
                <a:lnTo>
                  <a:pt x="228" y="304"/>
                </a:lnTo>
                <a:lnTo>
                  <a:pt x="216" y="306"/>
                </a:lnTo>
                <a:lnTo>
                  <a:pt x="205" y="308"/>
                </a:lnTo>
                <a:lnTo>
                  <a:pt x="193" y="309"/>
                </a:lnTo>
                <a:lnTo>
                  <a:pt x="184" y="311"/>
                </a:lnTo>
                <a:lnTo>
                  <a:pt x="174" y="313"/>
                </a:lnTo>
                <a:lnTo>
                  <a:pt x="166" y="315"/>
                </a:lnTo>
                <a:lnTo>
                  <a:pt x="159" y="317"/>
                </a:lnTo>
                <a:lnTo>
                  <a:pt x="151" y="317"/>
                </a:lnTo>
                <a:lnTo>
                  <a:pt x="145" y="319"/>
                </a:lnTo>
                <a:lnTo>
                  <a:pt x="140" y="319"/>
                </a:lnTo>
                <a:lnTo>
                  <a:pt x="134" y="319"/>
                </a:lnTo>
                <a:lnTo>
                  <a:pt x="130" y="319"/>
                </a:lnTo>
                <a:lnTo>
                  <a:pt x="109" y="319"/>
                </a:lnTo>
                <a:lnTo>
                  <a:pt x="92" y="317"/>
                </a:lnTo>
                <a:lnTo>
                  <a:pt x="74" y="315"/>
                </a:lnTo>
                <a:lnTo>
                  <a:pt x="67" y="313"/>
                </a:lnTo>
                <a:lnTo>
                  <a:pt x="59" y="311"/>
                </a:lnTo>
                <a:lnTo>
                  <a:pt x="53" y="309"/>
                </a:lnTo>
                <a:lnTo>
                  <a:pt x="46" y="308"/>
                </a:lnTo>
                <a:lnTo>
                  <a:pt x="40" y="306"/>
                </a:lnTo>
                <a:lnTo>
                  <a:pt x="34" y="304"/>
                </a:lnTo>
                <a:lnTo>
                  <a:pt x="30" y="300"/>
                </a:lnTo>
                <a:lnTo>
                  <a:pt x="26" y="298"/>
                </a:lnTo>
                <a:lnTo>
                  <a:pt x="23" y="296"/>
                </a:lnTo>
                <a:lnTo>
                  <a:pt x="21" y="294"/>
                </a:lnTo>
                <a:lnTo>
                  <a:pt x="15" y="290"/>
                </a:lnTo>
                <a:lnTo>
                  <a:pt x="11" y="288"/>
                </a:lnTo>
                <a:lnTo>
                  <a:pt x="7" y="286"/>
                </a:lnTo>
                <a:lnTo>
                  <a:pt x="5" y="283"/>
                </a:lnTo>
                <a:lnTo>
                  <a:pt x="1" y="281"/>
                </a:lnTo>
                <a:lnTo>
                  <a:pt x="1" y="279"/>
                </a:lnTo>
                <a:lnTo>
                  <a:pt x="0" y="275"/>
                </a:lnTo>
                <a:lnTo>
                  <a:pt x="0" y="273"/>
                </a:lnTo>
                <a:lnTo>
                  <a:pt x="0" y="271"/>
                </a:lnTo>
                <a:lnTo>
                  <a:pt x="1" y="269"/>
                </a:lnTo>
                <a:lnTo>
                  <a:pt x="1" y="265"/>
                </a:lnTo>
                <a:lnTo>
                  <a:pt x="5" y="263"/>
                </a:lnTo>
                <a:lnTo>
                  <a:pt x="7" y="261"/>
                </a:lnTo>
                <a:lnTo>
                  <a:pt x="11" y="258"/>
                </a:lnTo>
                <a:lnTo>
                  <a:pt x="15" y="256"/>
                </a:lnTo>
                <a:lnTo>
                  <a:pt x="21" y="254"/>
                </a:lnTo>
                <a:lnTo>
                  <a:pt x="21" y="252"/>
                </a:lnTo>
                <a:lnTo>
                  <a:pt x="24" y="250"/>
                </a:lnTo>
                <a:lnTo>
                  <a:pt x="26" y="248"/>
                </a:lnTo>
                <a:lnTo>
                  <a:pt x="30" y="248"/>
                </a:lnTo>
                <a:lnTo>
                  <a:pt x="36" y="246"/>
                </a:lnTo>
                <a:lnTo>
                  <a:pt x="40" y="242"/>
                </a:lnTo>
                <a:lnTo>
                  <a:pt x="46" y="240"/>
                </a:lnTo>
                <a:lnTo>
                  <a:pt x="53" y="238"/>
                </a:lnTo>
                <a:lnTo>
                  <a:pt x="61" y="237"/>
                </a:lnTo>
                <a:lnTo>
                  <a:pt x="69" y="233"/>
                </a:lnTo>
                <a:lnTo>
                  <a:pt x="78" y="231"/>
                </a:lnTo>
                <a:lnTo>
                  <a:pt x="88" y="227"/>
                </a:lnTo>
                <a:lnTo>
                  <a:pt x="97" y="223"/>
                </a:lnTo>
                <a:lnTo>
                  <a:pt x="109" y="219"/>
                </a:lnTo>
                <a:lnTo>
                  <a:pt x="120" y="215"/>
                </a:lnTo>
                <a:lnTo>
                  <a:pt x="134" y="212"/>
                </a:lnTo>
                <a:lnTo>
                  <a:pt x="147" y="208"/>
                </a:lnTo>
                <a:lnTo>
                  <a:pt x="161" y="204"/>
                </a:lnTo>
                <a:lnTo>
                  <a:pt x="176" y="200"/>
                </a:lnTo>
                <a:lnTo>
                  <a:pt x="191" y="194"/>
                </a:lnTo>
                <a:lnTo>
                  <a:pt x="207" y="190"/>
                </a:lnTo>
                <a:lnTo>
                  <a:pt x="224" y="185"/>
                </a:lnTo>
                <a:lnTo>
                  <a:pt x="241" y="179"/>
                </a:lnTo>
                <a:lnTo>
                  <a:pt x="261" y="173"/>
                </a:lnTo>
                <a:lnTo>
                  <a:pt x="278" y="167"/>
                </a:lnTo>
                <a:lnTo>
                  <a:pt x="299" y="162"/>
                </a:lnTo>
                <a:lnTo>
                  <a:pt x="318" y="156"/>
                </a:lnTo>
                <a:lnTo>
                  <a:pt x="341" y="148"/>
                </a:lnTo>
                <a:lnTo>
                  <a:pt x="362" y="142"/>
                </a:lnTo>
                <a:lnTo>
                  <a:pt x="385" y="135"/>
                </a:lnTo>
                <a:lnTo>
                  <a:pt x="408" y="127"/>
                </a:lnTo>
                <a:lnTo>
                  <a:pt x="433" y="1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Freeform 193"/>
          <p:cNvSpPr/>
          <p:nvPr/>
        </p:nvSpPr>
        <p:spPr>
          <a:xfrm>
            <a:off x="6783480" y="3249720"/>
            <a:ext cx="318960" cy="323640"/>
          </a:xfrm>
          <a:custGeom>
            <a:avLst/>
            <a:gdLst/>
            <a:ahLst/>
            <a:rect l="l" t="t" r="r" b="b"/>
            <a:pathLst>
              <a:path w="404" h="407">
                <a:moveTo>
                  <a:pt x="212" y="52"/>
                </a:moveTo>
                <a:lnTo>
                  <a:pt x="208" y="46"/>
                </a:lnTo>
                <a:lnTo>
                  <a:pt x="206" y="38"/>
                </a:lnTo>
                <a:lnTo>
                  <a:pt x="204" y="32"/>
                </a:lnTo>
                <a:lnTo>
                  <a:pt x="204" y="27"/>
                </a:lnTo>
                <a:lnTo>
                  <a:pt x="202" y="23"/>
                </a:lnTo>
                <a:lnTo>
                  <a:pt x="202" y="17"/>
                </a:lnTo>
                <a:lnTo>
                  <a:pt x="202" y="13"/>
                </a:lnTo>
                <a:lnTo>
                  <a:pt x="202" y="11"/>
                </a:lnTo>
                <a:lnTo>
                  <a:pt x="202" y="8"/>
                </a:lnTo>
                <a:lnTo>
                  <a:pt x="204" y="6"/>
                </a:lnTo>
                <a:lnTo>
                  <a:pt x="206" y="4"/>
                </a:lnTo>
                <a:lnTo>
                  <a:pt x="208" y="2"/>
                </a:lnTo>
                <a:lnTo>
                  <a:pt x="212" y="0"/>
                </a:lnTo>
                <a:lnTo>
                  <a:pt x="215" y="0"/>
                </a:lnTo>
                <a:lnTo>
                  <a:pt x="219" y="0"/>
                </a:lnTo>
                <a:lnTo>
                  <a:pt x="225" y="0"/>
                </a:lnTo>
                <a:lnTo>
                  <a:pt x="235" y="0"/>
                </a:lnTo>
                <a:lnTo>
                  <a:pt x="248" y="2"/>
                </a:lnTo>
                <a:lnTo>
                  <a:pt x="260" y="6"/>
                </a:lnTo>
                <a:lnTo>
                  <a:pt x="275" y="11"/>
                </a:lnTo>
                <a:lnTo>
                  <a:pt x="281" y="13"/>
                </a:lnTo>
                <a:lnTo>
                  <a:pt x="288" y="17"/>
                </a:lnTo>
                <a:lnTo>
                  <a:pt x="296" y="23"/>
                </a:lnTo>
                <a:lnTo>
                  <a:pt x="304" y="27"/>
                </a:lnTo>
                <a:lnTo>
                  <a:pt x="311" y="32"/>
                </a:lnTo>
                <a:lnTo>
                  <a:pt x="319" y="38"/>
                </a:lnTo>
                <a:lnTo>
                  <a:pt x="327" y="44"/>
                </a:lnTo>
                <a:lnTo>
                  <a:pt x="334" y="52"/>
                </a:lnTo>
                <a:lnTo>
                  <a:pt x="350" y="67"/>
                </a:lnTo>
                <a:lnTo>
                  <a:pt x="363" y="80"/>
                </a:lnTo>
                <a:lnTo>
                  <a:pt x="375" y="94"/>
                </a:lnTo>
                <a:lnTo>
                  <a:pt x="384" y="105"/>
                </a:lnTo>
                <a:lnTo>
                  <a:pt x="388" y="111"/>
                </a:lnTo>
                <a:lnTo>
                  <a:pt x="392" y="119"/>
                </a:lnTo>
                <a:lnTo>
                  <a:pt x="396" y="125"/>
                </a:lnTo>
                <a:lnTo>
                  <a:pt x="398" y="130"/>
                </a:lnTo>
                <a:lnTo>
                  <a:pt x="400" y="138"/>
                </a:lnTo>
                <a:lnTo>
                  <a:pt x="402" y="144"/>
                </a:lnTo>
                <a:lnTo>
                  <a:pt x="404" y="152"/>
                </a:lnTo>
                <a:lnTo>
                  <a:pt x="404" y="159"/>
                </a:lnTo>
                <a:lnTo>
                  <a:pt x="404" y="167"/>
                </a:lnTo>
                <a:lnTo>
                  <a:pt x="402" y="173"/>
                </a:lnTo>
                <a:lnTo>
                  <a:pt x="400" y="180"/>
                </a:lnTo>
                <a:lnTo>
                  <a:pt x="398" y="186"/>
                </a:lnTo>
                <a:lnTo>
                  <a:pt x="396" y="194"/>
                </a:lnTo>
                <a:lnTo>
                  <a:pt x="392" y="199"/>
                </a:lnTo>
                <a:lnTo>
                  <a:pt x="386" y="205"/>
                </a:lnTo>
                <a:lnTo>
                  <a:pt x="382" y="211"/>
                </a:lnTo>
                <a:lnTo>
                  <a:pt x="377" y="219"/>
                </a:lnTo>
                <a:lnTo>
                  <a:pt x="371" y="224"/>
                </a:lnTo>
                <a:lnTo>
                  <a:pt x="363" y="230"/>
                </a:lnTo>
                <a:lnTo>
                  <a:pt x="358" y="238"/>
                </a:lnTo>
                <a:lnTo>
                  <a:pt x="348" y="244"/>
                </a:lnTo>
                <a:lnTo>
                  <a:pt x="340" y="251"/>
                </a:lnTo>
                <a:lnTo>
                  <a:pt x="331" y="257"/>
                </a:lnTo>
                <a:lnTo>
                  <a:pt x="321" y="265"/>
                </a:lnTo>
                <a:lnTo>
                  <a:pt x="300" y="280"/>
                </a:lnTo>
                <a:lnTo>
                  <a:pt x="277" y="295"/>
                </a:lnTo>
                <a:lnTo>
                  <a:pt x="254" y="309"/>
                </a:lnTo>
                <a:lnTo>
                  <a:pt x="229" y="324"/>
                </a:lnTo>
                <a:lnTo>
                  <a:pt x="204" y="338"/>
                </a:lnTo>
                <a:lnTo>
                  <a:pt x="179" y="349"/>
                </a:lnTo>
                <a:lnTo>
                  <a:pt x="154" y="361"/>
                </a:lnTo>
                <a:lnTo>
                  <a:pt x="129" y="372"/>
                </a:lnTo>
                <a:lnTo>
                  <a:pt x="114" y="380"/>
                </a:lnTo>
                <a:lnTo>
                  <a:pt x="98" y="386"/>
                </a:lnTo>
                <a:lnTo>
                  <a:pt x="87" y="391"/>
                </a:lnTo>
                <a:lnTo>
                  <a:pt x="73" y="395"/>
                </a:lnTo>
                <a:lnTo>
                  <a:pt x="64" y="399"/>
                </a:lnTo>
                <a:lnTo>
                  <a:pt x="52" y="401"/>
                </a:lnTo>
                <a:lnTo>
                  <a:pt x="43" y="403"/>
                </a:lnTo>
                <a:lnTo>
                  <a:pt x="35" y="405"/>
                </a:lnTo>
                <a:lnTo>
                  <a:pt x="27" y="407"/>
                </a:lnTo>
                <a:lnTo>
                  <a:pt x="22" y="407"/>
                </a:lnTo>
                <a:lnTo>
                  <a:pt x="16" y="407"/>
                </a:lnTo>
                <a:lnTo>
                  <a:pt x="12" y="405"/>
                </a:lnTo>
                <a:lnTo>
                  <a:pt x="8" y="405"/>
                </a:lnTo>
                <a:lnTo>
                  <a:pt x="6" y="403"/>
                </a:lnTo>
                <a:lnTo>
                  <a:pt x="4" y="401"/>
                </a:lnTo>
                <a:lnTo>
                  <a:pt x="4" y="399"/>
                </a:lnTo>
                <a:lnTo>
                  <a:pt x="2" y="395"/>
                </a:lnTo>
                <a:lnTo>
                  <a:pt x="0" y="393"/>
                </a:lnTo>
                <a:lnTo>
                  <a:pt x="0" y="388"/>
                </a:lnTo>
                <a:lnTo>
                  <a:pt x="2" y="384"/>
                </a:lnTo>
                <a:lnTo>
                  <a:pt x="2" y="378"/>
                </a:lnTo>
                <a:lnTo>
                  <a:pt x="6" y="374"/>
                </a:lnTo>
                <a:lnTo>
                  <a:pt x="8" y="366"/>
                </a:lnTo>
                <a:lnTo>
                  <a:pt x="12" y="361"/>
                </a:lnTo>
                <a:lnTo>
                  <a:pt x="18" y="353"/>
                </a:lnTo>
                <a:lnTo>
                  <a:pt x="24" y="345"/>
                </a:lnTo>
                <a:lnTo>
                  <a:pt x="29" y="338"/>
                </a:lnTo>
                <a:lnTo>
                  <a:pt x="37" y="330"/>
                </a:lnTo>
                <a:lnTo>
                  <a:pt x="45" y="320"/>
                </a:lnTo>
                <a:lnTo>
                  <a:pt x="54" y="311"/>
                </a:lnTo>
                <a:lnTo>
                  <a:pt x="64" y="301"/>
                </a:lnTo>
                <a:lnTo>
                  <a:pt x="73" y="292"/>
                </a:lnTo>
                <a:lnTo>
                  <a:pt x="93" y="272"/>
                </a:lnTo>
                <a:lnTo>
                  <a:pt x="112" y="251"/>
                </a:lnTo>
                <a:lnTo>
                  <a:pt x="129" y="232"/>
                </a:lnTo>
                <a:lnTo>
                  <a:pt x="144" y="213"/>
                </a:lnTo>
                <a:lnTo>
                  <a:pt x="160" y="196"/>
                </a:lnTo>
                <a:lnTo>
                  <a:pt x="173" y="178"/>
                </a:lnTo>
                <a:lnTo>
                  <a:pt x="187" y="161"/>
                </a:lnTo>
                <a:lnTo>
                  <a:pt x="196" y="146"/>
                </a:lnTo>
                <a:lnTo>
                  <a:pt x="202" y="138"/>
                </a:lnTo>
                <a:lnTo>
                  <a:pt x="206" y="130"/>
                </a:lnTo>
                <a:lnTo>
                  <a:pt x="210" y="125"/>
                </a:lnTo>
                <a:lnTo>
                  <a:pt x="212" y="117"/>
                </a:lnTo>
                <a:lnTo>
                  <a:pt x="215" y="111"/>
                </a:lnTo>
                <a:lnTo>
                  <a:pt x="217" y="105"/>
                </a:lnTo>
                <a:lnTo>
                  <a:pt x="217" y="100"/>
                </a:lnTo>
                <a:lnTo>
                  <a:pt x="219" y="94"/>
                </a:lnTo>
                <a:lnTo>
                  <a:pt x="219" y="82"/>
                </a:lnTo>
                <a:lnTo>
                  <a:pt x="217" y="73"/>
                </a:lnTo>
                <a:lnTo>
                  <a:pt x="215" y="63"/>
                </a:lnTo>
                <a:lnTo>
                  <a:pt x="212" y="5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Freeform 194"/>
          <p:cNvSpPr/>
          <p:nvPr/>
        </p:nvSpPr>
        <p:spPr>
          <a:xfrm>
            <a:off x="6226200" y="3481560"/>
            <a:ext cx="243000" cy="264960"/>
          </a:xfrm>
          <a:custGeom>
            <a:avLst/>
            <a:gdLst/>
            <a:ahLst/>
            <a:rect l="l" t="t" r="r" b="b"/>
            <a:pathLst>
              <a:path w="305" h="334">
                <a:moveTo>
                  <a:pt x="2" y="40"/>
                </a:moveTo>
                <a:lnTo>
                  <a:pt x="8" y="34"/>
                </a:lnTo>
                <a:lnTo>
                  <a:pt x="15" y="30"/>
                </a:lnTo>
                <a:lnTo>
                  <a:pt x="23" y="25"/>
                </a:lnTo>
                <a:lnTo>
                  <a:pt x="33" y="21"/>
                </a:lnTo>
                <a:lnTo>
                  <a:pt x="44" y="15"/>
                </a:lnTo>
                <a:lnTo>
                  <a:pt x="57" y="9"/>
                </a:lnTo>
                <a:lnTo>
                  <a:pt x="71" y="5"/>
                </a:lnTo>
                <a:lnTo>
                  <a:pt x="84" y="0"/>
                </a:lnTo>
                <a:lnTo>
                  <a:pt x="102" y="2"/>
                </a:lnTo>
                <a:lnTo>
                  <a:pt x="119" y="3"/>
                </a:lnTo>
                <a:lnTo>
                  <a:pt x="136" y="5"/>
                </a:lnTo>
                <a:lnTo>
                  <a:pt x="155" y="11"/>
                </a:lnTo>
                <a:lnTo>
                  <a:pt x="165" y="15"/>
                </a:lnTo>
                <a:lnTo>
                  <a:pt x="175" y="19"/>
                </a:lnTo>
                <a:lnTo>
                  <a:pt x="186" y="23"/>
                </a:lnTo>
                <a:lnTo>
                  <a:pt x="196" y="28"/>
                </a:lnTo>
                <a:lnTo>
                  <a:pt x="205" y="34"/>
                </a:lnTo>
                <a:lnTo>
                  <a:pt x="217" y="40"/>
                </a:lnTo>
                <a:lnTo>
                  <a:pt x="226" y="46"/>
                </a:lnTo>
                <a:lnTo>
                  <a:pt x="236" y="53"/>
                </a:lnTo>
                <a:lnTo>
                  <a:pt x="251" y="69"/>
                </a:lnTo>
                <a:lnTo>
                  <a:pt x="265" y="84"/>
                </a:lnTo>
                <a:lnTo>
                  <a:pt x="276" y="99"/>
                </a:lnTo>
                <a:lnTo>
                  <a:pt x="286" y="115"/>
                </a:lnTo>
                <a:lnTo>
                  <a:pt x="290" y="122"/>
                </a:lnTo>
                <a:lnTo>
                  <a:pt x="294" y="132"/>
                </a:lnTo>
                <a:lnTo>
                  <a:pt x="297" y="140"/>
                </a:lnTo>
                <a:lnTo>
                  <a:pt x="299" y="149"/>
                </a:lnTo>
                <a:lnTo>
                  <a:pt x="303" y="157"/>
                </a:lnTo>
                <a:lnTo>
                  <a:pt x="303" y="167"/>
                </a:lnTo>
                <a:lnTo>
                  <a:pt x="305" y="176"/>
                </a:lnTo>
                <a:lnTo>
                  <a:pt x="305" y="186"/>
                </a:lnTo>
                <a:lnTo>
                  <a:pt x="305" y="199"/>
                </a:lnTo>
                <a:lnTo>
                  <a:pt x="305" y="211"/>
                </a:lnTo>
                <a:lnTo>
                  <a:pt x="303" y="220"/>
                </a:lnTo>
                <a:lnTo>
                  <a:pt x="303" y="232"/>
                </a:lnTo>
                <a:lnTo>
                  <a:pt x="301" y="241"/>
                </a:lnTo>
                <a:lnTo>
                  <a:pt x="299" y="249"/>
                </a:lnTo>
                <a:lnTo>
                  <a:pt x="297" y="259"/>
                </a:lnTo>
                <a:lnTo>
                  <a:pt x="297" y="266"/>
                </a:lnTo>
                <a:lnTo>
                  <a:pt x="294" y="274"/>
                </a:lnTo>
                <a:lnTo>
                  <a:pt x="292" y="280"/>
                </a:lnTo>
                <a:lnTo>
                  <a:pt x="290" y="286"/>
                </a:lnTo>
                <a:lnTo>
                  <a:pt x="288" y="291"/>
                </a:lnTo>
                <a:lnTo>
                  <a:pt x="286" y="295"/>
                </a:lnTo>
                <a:lnTo>
                  <a:pt x="282" y="301"/>
                </a:lnTo>
                <a:lnTo>
                  <a:pt x="280" y="303"/>
                </a:lnTo>
                <a:lnTo>
                  <a:pt x="278" y="307"/>
                </a:lnTo>
                <a:lnTo>
                  <a:pt x="267" y="316"/>
                </a:lnTo>
                <a:lnTo>
                  <a:pt x="263" y="320"/>
                </a:lnTo>
                <a:lnTo>
                  <a:pt x="257" y="324"/>
                </a:lnTo>
                <a:lnTo>
                  <a:pt x="251" y="328"/>
                </a:lnTo>
                <a:lnTo>
                  <a:pt x="247" y="330"/>
                </a:lnTo>
                <a:lnTo>
                  <a:pt x="242" y="332"/>
                </a:lnTo>
                <a:lnTo>
                  <a:pt x="236" y="334"/>
                </a:lnTo>
                <a:lnTo>
                  <a:pt x="234" y="332"/>
                </a:lnTo>
                <a:lnTo>
                  <a:pt x="230" y="330"/>
                </a:lnTo>
                <a:lnTo>
                  <a:pt x="224" y="328"/>
                </a:lnTo>
                <a:lnTo>
                  <a:pt x="219" y="322"/>
                </a:lnTo>
                <a:lnTo>
                  <a:pt x="213" y="318"/>
                </a:lnTo>
                <a:lnTo>
                  <a:pt x="205" y="311"/>
                </a:lnTo>
                <a:lnTo>
                  <a:pt x="198" y="303"/>
                </a:lnTo>
                <a:lnTo>
                  <a:pt x="188" y="295"/>
                </a:lnTo>
                <a:lnTo>
                  <a:pt x="178" y="286"/>
                </a:lnTo>
                <a:lnTo>
                  <a:pt x="169" y="274"/>
                </a:lnTo>
                <a:lnTo>
                  <a:pt x="157" y="263"/>
                </a:lnTo>
                <a:lnTo>
                  <a:pt x="148" y="249"/>
                </a:lnTo>
                <a:lnTo>
                  <a:pt x="136" y="236"/>
                </a:lnTo>
                <a:lnTo>
                  <a:pt x="123" y="220"/>
                </a:lnTo>
                <a:lnTo>
                  <a:pt x="111" y="203"/>
                </a:lnTo>
                <a:lnTo>
                  <a:pt x="100" y="186"/>
                </a:lnTo>
                <a:lnTo>
                  <a:pt x="86" y="169"/>
                </a:lnTo>
                <a:lnTo>
                  <a:pt x="75" y="153"/>
                </a:lnTo>
                <a:lnTo>
                  <a:pt x="63" y="140"/>
                </a:lnTo>
                <a:lnTo>
                  <a:pt x="54" y="126"/>
                </a:lnTo>
                <a:lnTo>
                  <a:pt x="44" y="113"/>
                </a:lnTo>
                <a:lnTo>
                  <a:pt x="34" y="101"/>
                </a:lnTo>
                <a:lnTo>
                  <a:pt x="27" y="92"/>
                </a:lnTo>
                <a:lnTo>
                  <a:pt x="21" y="82"/>
                </a:lnTo>
                <a:lnTo>
                  <a:pt x="13" y="74"/>
                </a:lnTo>
                <a:lnTo>
                  <a:pt x="9" y="67"/>
                </a:lnTo>
                <a:lnTo>
                  <a:pt x="6" y="61"/>
                </a:lnTo>
                <a:lnTo>
                  <a:pt x="2" y="55"/>
                </a:lnTo>
                <a:lnTo>
                  <a:pt x="0" y="50"/>
                </a:lnTo>
                <a:lnTo>
                  <a:pt x="0" y="46"/>
                </a:lnTo>
                <a:lnTo>
                  <a:pt x="0" y="42"/>
                </a:lnTo>
                <a:lnTo>
                  <a:pt x="2"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Freeform 195"/>
          <p:cNvSpPr/>
          <p:nvPr/>
        </p:nvSpPr>
        <p:spPr>
          <a:xfrm>
            <a:off x="5530680" y="3562200"/>
            <a:ext cx="579600" cy="1347840"/>
          </a:xfrm>
          <a:custGeom>
            <a:avLst/>
            <a:gdLst/>
            <a:ahLst/>
            <a:rect l="l" t="t" r="r" b="b"/>
            <a:pathLst>
              <a:path w="729" h="1697">
                <a:moveTo>
                  <a:pt x="660" y="991"/>
                </a:moveTo>
                <a:lnTo>
                  <a:pt x="660" y="1025"/>
                </a:lnTo>
                <a:lnTo>
                  <a:pt x="658" y="1058"/>
                </a:lnTo>
                <a:lnTo>
                  <a:pt x="658" y="1091"/>
                </a:lnTo>
                <a:lnTo>
                  <a:pt x="656" y="1123"/>
                </a:lnTo>
                <a:lnTo>
                  <a:pt x="654" y="1154"/>
                </a:lnTo>
                <a:lnTo>
                  <a:pt x="652" y="1183"/>
                </a:lnTo>
                <a:lnTo>
                  <a:pt x="650" y="1212"/>
                </a:lnTo>
                <a:lnTo>
                  <a:pt x="647" y="1240"/>
                </a:lnTo>
                <a:lnTo>
                  <a:pt x="643" y="1267"/>
                </a:lnTo>
                <a:lnTo>
                  <a:pt x="639" y="1294"/>
                </a:lnTo>
                <a:lnTo>
                  <a:pt x="635" y="1319"/>
                </a:lnTo>
                <a:lnTo>
                  <a:pt x="629" y="1342"/>
                </a:lnTo>
                <a:lnTo>
                  <a:pt x="624" y="1365"/>
                </a:lnTo>
                <a:lnTo>
                  <a:pt x="618" y="1388"/>
                </a:lnTo>
                <a:lnTo>
                  <a:pt x="612" y="1409"/>
                </a:lnTo>
                <a:lnTo>
                  <a:pt x="604" y="1430"/>
                </a:lnTo>
                <a:lnTo>
                  <a:pt x="597" y="1450"/>
                </a:lnTo>
                <a:lnTo>
                  <a:pt x="589" y="1469"/>
                </a:lnTo>
                <a:lnTo>
                  <a:pt x="581" y="1486"/>
                </a:lnTo>
                <a:lnTo>
                  <a:pt x="574" y="1503"/>
                </a:lnTo>
                <a:lnTo>
                  <a:pt x="566" y="1519"/>
                </a:lnTo>
                <a:lnTo>
                  <a:pt x="558" y="1534"/>
                </a:lnTo>
                <a:lnTo>
                  <a:pt x="551" y="1547"/>
                </a:lnTo>
                <a:lnTo>
                  <a:pt x="545" y="1561"/>
                </a:lnTo>
                <a:lnTo>
                  <a:pt x="537" y="1574"/>
                </a:lnTo>
                <a:lnTo>
                  <a:pt x="529" y="1586"/>
                </a:lnTo>
                <a:lnTo>
                  <a:pt x="524" y="1597"/>
                </a:lnTo>
                <a:lnTo>
                  <a:pt x="518" y="1609"/>
                </a:lnTo>
                <a:lnTo>
                  <a:pt x="510" y="1618"/>
                </a:lnTo>
                <a:lnTo>
                  <a:pt x="504" y="1626"/>
                </a:lnTo>
                <a:lnTo>
                  <a:pt x="499" y="1636"/>
                </a:lnTo>
                <a:lnTo>
                  <a:pt x="495" y="1643"/>
                </a:lnTo>
                <a:lnTo>
                  <a:pt x="487" y="1651"/>
                </a:lnTo>
                <a:lnTo>
                  <a:pt x="480" y="1657"/>
                </a:lnTo>
                <a:lnTo>
                  <a:pt x="472" y="1663"/>
                </a:lnTo>
                <a:lnTo>
                  <a:pt x="466" y="1668"/>
                </a:lnTo>
                <a:lnTo>
                  <a:pt x="458" y="1674"/>
                </a:lnTo>
                <a:lnTo>
                  <a:pt x="453" y="1678"/>
                </a:lnTo>
                <a:lnTo>
                  <a:pt x="447" y="1682"/>
                </a:lnTo>
                <a:lnTo>
                  <a:pt x="441" y="1686"/>
                </a:lnTo>
                <a:lnTo>
                  <a:pt x="430" y="1689"/>
                </a:lnTo>
                <a:lnTo>
                  <a:pt x="418" y="1693"/>
                </a:lnTo>
                <a:lnTo>
                  <a:pt x="409" y="1695"/>
                </a:lnTo>
                <a:lnTo>
                  <a:pt x="399" y="1697"/>
                </a:lnTo>
                <a:lnTo>
                  <a:pt x="391" y="1695"/>
                </a:lnTo>
                <a:lnTo>
                  <a:pt x="384" y="1695"/>
                </a:lnTo>
                <a:lnTo>
                  <a:pt x="378" y="1693"/>
                </a:lnTo>
                <a:lnTo>
                  <a:pt x="372" y="1691"/>
                </a:lnTo>
                <a:lnTo>
                  <a:pt x="368" y="1688"/>
                </a:lnTo>
                <a:lnTo>
                  <a:pt x="362" y="1686"/>
                </a:lnTo>
                <a:lnTo>
                  <a:pt x="361" y="1682"/>
                </a:lnTo>
                <a:lnTo>
                  <a:pt x="357" y="1676"/>
                </a:lnTo>
                <a:lnTo>
                  <a:pt x="355" y="1670"/>
                </a:lnTo>
                <a:lnTo>
                  <a:pt x="353" y="1665"/>
                </a:lnTo>
                <a:lnTo>
                  <a:pt x="353" y="1659"/>
                </a:lnTo>
                <a:lnTo>
                  <a:pt x="351" y="1651"/>
                </a:lnTo>
                <a:lnTo>
                  <a:pt x="353" y="1643"/>
                </a:lnTo>
                <a:lnTo>
                  <a:pt x="353" y="1636"/>
                </a:lnTo>
                <a:lnTo>
                  <a:pt x="355" y="1626"/>
                </a:lnTo>
                <a:lnTo>
                  <a:pt x="357" y="1617"/>
                </a:lnTo>
                <a:lnTo>
                  <a:pt x="357" y="1609"/>
                </a:lnTo>
                <a:lnTo>
                  <a:pt x="355" y="1601"/>
                </a:lnTo>
                <a:lnTo>
                  <a:pt x="353" y="1592"/>
                </a:lnTo>
                <a:lnTo>
                  <a:pt x="349" y="1582"/>
                </a:lnTo>
                <a:lnTo>
                  <a:pt x="345" y="1572"/>
                </a:lnTo>
                <a:lnTo>
                  <a:pt x="339" y="1561"/>
                </a:lnTo>
                <a:lnTo>
                  <a:pt x="334" y="1549"/>
                </a:lnTo>
                <a:lnTo>
                  <a:pt x="326" y="1538"/>
                </a:lnTo>
                <a:lnTo>
                  <a:pt x="316" y="1526"/>
                </a:lnTo>
                <a:lnTo>
                  <a:pt x="309" y="1515"/>
                </a:lnTo>
                <a:lnTo>
                  <a:pt x="297" y="1501"/>
                </a:lnTo>
                <a:lnTo>
                  <a:pt x="288" y="1488"/>
                </a:lnTo>
                <a:lnTo>
                  <a:pt x="274" y="1475"/>
                </a:lnTo>
                <a:lnTo>
                  <a:pt x="261" y="1459"/>
                </a:lnTo>
                <a:lnTo>
                  <a:pt x="247" y="1446"/>
                </a:lnTo>
                <a:lnTo>
                  <a:pt x="234" y="1430"/>
                </a:lnTo>
                <a:lnTo>
                  <a:pt x="218" y="1415"/>
                </a:lnTo>
                <a:lnTo>
                  <a:pt x="205" y="1402"/>
                </a:lnTo>
                <a:lnTo>
                  <a:pt x="194" y="1388"/>
                </a:lnTo>
                <a:lnTo>
                  <a:pt x="182" y="1375"/>
                </a:lnTo>
                <a:lnTo>
                  <a:pt x="172" y="1363"/>
                </a:lnTo>
                <a:lnTo>
                  <a:pt x="163" y="1352"/>
                </a:lnTo>
                <a:lnTo>
                  <a:pt x="155" y="1342"/>
                </a:lnTo>
                <a:lnTo>
                  <a:pt x="149" y="1332"/>
                </a:lnTo>
                <a:lnTo>
                  <a:pt x="144" y="1323"/>
                </a:lnTo>
                <a:lnTo>
                  <a:pt x="140" y="1315"/>
                </a:lnTo>
                <a:lnTo>
                  <a:pt x="136" y="1308"/>
                </a:lnTo>
                <a:lnTo>
                  <a:pt x="134" y="1300"/>
                </a:lnTo>
                <a:lnTo>
                  <a:pt x="134" y="1296"/>
                </a:lnTo>
                <a:lnTo>
                  <a:pt x="134" y="1290"/>
                </a:lnTo>
                <a:lnTo>
                  <a:pt x="134" y="1286"/>
                </a:lnTo>
                <a:lnTo>
                  <a:pt x="136" y="1284"/>
                </a:lnTo>
                <a:lnTo>
                  <a:pt x="140" y="1281"/>
                </a:lnTo>
                <a:lnTo>
                  <a:pt x="144" y="1281"/>
                </a:lnTo>
                <a:lnTo>
                  <a:pt x="147" y="1279"/>
                </a:lnTo>
                <a:lnTo>
                  <a:pt x="153" y="1279"/>
                </a:lnTo>
                <a:lnTo>
                  <a:pt x="161" y="1279"/>
                </a:lnTo>
                <a:lnTo>
                  <a:pt x="169" y="1279"/>
                </a:lnTo>
                <a:lnTo>
                  <a:pt x="176" y="1281"/>
                </a:lnTo>
                <a:lnTo>
                  <a:pt x="184" y="1283"/>
                </a:lnTo>
                <a:lnTo>
                  <a:pt x="194" y="1284"/>
                </a:lnTo>
                <a:lnTo>
                  <a:pt x="203" y="1286"/>
                </a:lnTo>
                <a:lnTo>
                  <a:pt x="215" y="1290"/>
                </a:lnTo>
                <a:lnTo>
                  <a:pt x="226" y="1292"/>
                </a:lnTo>
                <a:lnTo>
                  <a:pt x="249" y="1302"/>
                </a:lnTo>
                <a:lnTo>
                  <a:pt x="274" y="1311"/>
                </a:lnTo>
                <a:lnTo>
                  <a:pt x="288" y="1317"/>
                </a:lnTo>
                <a:lnTo>
                  <a:pt x="299" y="1323"/>
                </a:lnTo>
                <a:lnTo>
                  <a:pt x="311" y="1329"/>
                </a:lnTo>
                <a:lnTo>
                  <a:pt x="322" y="1332"/>
                </a:lnTo>
                <a:lnTo>
                  <a:pt x="334" y="1336"/>
                </a:lnTo>
                <a:lnTo>
                  <a:pt x="345" y="1340"/>
                </a:lnTo>
                <a:lnTo>
                  <a:pt x="355" y="1342"/>
                </a:lnTo>
                <a:lnTo>
                  <a:pt x="364" y="1342"/>
                </a:lnTo>
                <a:lnTo>
                  <a:pt x="374" y="1342"/>
                </a:lnTo>
                <a:lnTo>
                  <a:pt x="384" y="1342"/>
                </a:lnTo>
                <a:lnTo>
                  <a:pt x="391" y="1340"/>
                </a:lnTo>
                <a:lnTo>
                  <a:pt x="399" y="1338"/>
                </a:lnTo>
                <a:lnTo>
                  <a:pt x="407" y="1336"/>
                </a:lnTo>
                <a:lnTo>
                  <a:pt x="414" y="1332"/>
                </a:lnTo>
                <a:lnTo>
                  <a:pt x="420" y="1329"/>
                </a:lnTo>
                <a:lnTo>
                  <a:pt x="426" y="1323"/>
                </a:lnTo>
                <a:lnTo>
                  <a:pt x="428" y="1321"/>
                </a:lnTo>
                <a:lnTo>
                  <a:pt x="432" y="1315"/>
                </a:lnTo>
                <a:lnTo>
                  <a:pt x="435" y="1309"/>
                </a:lnTo>
                <a:lnTo>
                  <a:pt x="437" y="1302"/>
                </a:lnTo>
                <a:lnTo>
                  <a:pt x="441" y="1292"/>
                </a:lnTo>
                <a:lnTo>
                  <a:pt x="445" y="1281"/>
                </a:lnTo>
                <a:lnTo>
                  <a:pt x="449" y="1267"/>
                </a:lnTo>
                <a:lnTo>
                  <a:pt x="453" y="1254"/>
                </a:lnTo>
                <a:lnTo>
                  <a:pt x="457" y="1238"/>
                </a:lnTo>
                <a:lnTo>
                  <a:pt x="460" y="1221"/>
                </a:lnTo>
                <a:lnTo>
                  <a:pt x="464" y="1202"/>
                </a:lnTo>
                <a:lnTo>
                  <a:pt x="468" y="1181"/>
                </a:lnTo>
                <a:lnTo>
                  <a:pt x="472" y="1160"/>
                </a:lnTo>
                <a:lnTo>
                  <a:pt x="476" y="1135"/>
                </a:lnTo>
                <a:lnTo>
                  <a:pt x="478" y="1110"/>
                </a:lnTo>
                <a:lnTo>
                  <a:pt x="481" y="1085"/>
                </a:lnTo>
                <a:lnTo>
                  <a:pt x="483" y="1060"/>
                </a:lnTo>
                <a:lnTo>
                  <a:pt x="485" y="1035"/>
                </a:lnTo>
                <a:lnTo>
                  <a:pt x="487" y="1012"/>
                </a:lnTo>
                <a:lnTo>
                  <a:pt x="491" y="989"/>
                </a:lnTo>
                <a:lnTo>
                  <a:pt x="493" y="966"/>
                </a:lnTo>
                <a:lnTo>
                  <a:pt x="495" y="945"/>
                </a:lnTo>
                <a:lnTo>
                  <a:pt x="497" y="924"/>
                </a:lnTo>
                <a:lnTo>
                  <a:pt x="497" y="903"/>
                </a:lnTo>
                <a:lnTo>
                  <a:pt x="499" y="862"/>
                </a:lnTo>
                <a:lnTo>
                  <a:pt x="501" y="824"/>
                </a:lnTo>
                <a:lnTo>
                  <a:pt x="499" y="805"/>
                </a:lnTo>
                <a:lnTo>
                  <a:pt x="499" y="787"/>
                </a:lnTo>
                <a:lnTo>
                  <a:pt x="497" y="768"/>
                </a:lnTo>
                <a:lnTo>
                  <a:pt x="495" y="751"/>
                </a:lnTo>
                <a:lnTo>
                  <a:pt x="491" y="736"/>
                </a:lnTo>
                <a:lnTo>
                  <a:pt x="489" y="722"/>
                </a:lnTo>
                <a:lnTo>
                  <a:pt x="487" y="711"/>
                </a:lnTo>
                <a:lnTo>
                  <a:pt x="483" y="699"/>
                </a:lnTo>
                <a:lnTo>
                  <a:pt x="481" y="688"/>
                </a:lnTo>
                <a:lnTo>
                  <a:pt x="478" y="678"/>
                </a:lnTo>
                <a:lnTo>
                  <a:pt x="474" y="668"/>
                </a:lnTo>
                <a:lnTo>
                  <a:pt x="470" y="661"/>
                </a:lnTo>
                <a:lnTo>
                  <a:pt x="466" y="655"/>
                </a:lnTo>
                <a:lnTo>
                  <a:pt x="462" y="649"/>
                </a:lnTo>
                <a:lnTo>
                  <a:pt x="457" y="643"/>
                </a:lnTo>
                <a:lnTo>
                  <a:pt x="451" y="640"/>
                </a:lnTo>
                <a:lnTo>
                  <a:pt x="445" y="636"/>
                </a:lnTo>
                <a:lnTo>
                  <a:pt x="439" y="634"/>
                </a:lnTo>
                <a:lnTo>
                  <a:pt x="433" y="632"/>
                </a:lnTo>
                <a:lnTo>
                  <a:pt x="426" y="632"/>
                </a:lnTo>
                <a:lnTo>
                  <a:pt x="418" y="632"/>
                </a:lnTo>
                <a:lnTo>
                  <a:pt x="409" y="632"/>
                </a:lnTo>
                <a:lnTo>
                  <a:pt x="401" y="634"/>
                </a:lnTo>
                <a:lnTo>
                  <a:pt x="391" y="636"/>
                </a:lnTo>
                <a:lnTo>
                  <a:pt x="382" y="640"/>
                </a:lnTo>
                <a:lnTo>
                  <a:pt x="372" y="643"/>
                </a:lnTo>
                <a:lnTo>
                  <a:pt x="362" y="647"/>
                </a:lnTo>
                <a:lnTo>
                  <a:pt x="351" y="651"/>
                </a:lnTo>
                <a:lnTo>
                  <a:pt x="339" y="657"/>
                </a:lnTo>
                <a:lnTo>
                  <a:pt x="328" y="663"/>
                </a:lnTo>
                <a:lnTo>
                  <a:pt x="316" y="668"/>
                </a:lnTo>
                <a:lnTo>
                  <a:pt x="303" y="676"/>
                </a:lnTo>
                <a:lnTo>
                  <a:pt x="290" y="684"/>
                </a:lnTo>
                <a:lnTo>
                  <a:pt x="276" y="691"/>
                </a:lnTo>
                <a:lnTo>
                  <a:pt x="263" y="701"/>
                </a:lnTo>
                <a:lnTo>
                  <a:pt x="247" y="711"/>
                </a:lnTo>
                <a:lnTo>
                  <a:pt x="230" y="724"/>
                </a:lnTo>
                <a:lnTo>
                  <a:pt x="213" y="734"/>
                </a:lnTo>
                <a:lnTo>
                  <a:pt x="199" y="745"/>
                </a:lnTo>
                <a:lnTo>
                  <a:pt x="184" y="755"/>
                </a:lnTo>
                <a:lnTo>
                  <a:pt x="172" y="762"/>
                </a:lnTo>
                <a:lnTo>
                  <a:pt x="161" y="770"/>
                </a:lnTo>
                <a:lnTo>
                  <a:pt x="149" y="778"/>
                </a:lnTo>
                <a:lnTo>
                  <a:pt x="140" y="783"/>
                </a:lnTo>
                <a:lnTo>
                  <a:pt x="132" y="787"/>
                </a:lnTo>
                <a:lnTo>
                  <a:pt x="124" y="793"/>
                </a:lnTo>
                <a:lnTo>
                  <a:pt x="117" y="797"/>
                </a:lnTo>
                <a:lnTo>
                  <a:pt x="111" y="799"/>
                </a:lnTo>
                <a:lnTo>
                  <a:pt x="105" y="801"/>
                </a:lnTo>
                <a:lnTo>
                  <a:pt x="101" y="803"/>
                </a:lnTo>
                <a:lnTo>
                  <a:pt x="98" y="805"/>
                </a:lnTo>
                <a:lnTo>
                  <a:pt x="96" y="805"/>
                </a:lnTo>
                <a:lnTo>
                  <a:pt x="90" y="803"/>
                </a:lnTo>
                <a:lnTo>
                  <a:pt x="82" y="801"/>
                </a:lnTo>
                <a:lnTo>
                  <a:pt x="75" y="799"/>
                </a:lnTo>
                <a:lnTo>
                  <a:pt x="67" y="793"/>
                </a:lnTo>
                <a:lnTo>
                  <a:pt x="63" y="789"/>
                </a:lnTo>
                <a:lnTo>
                  <a:pt x="59" y="785"/>
                </a:lnTo>
                <a:lnTo>
                  <a:pt x="55" y="782"/>
                </a:lnTo>
                <a:lnTo>
                  <a:pt x="53" y="776"/>
                </a:lnTo>
                <a:lnTo>
                  <a:pt x="50" y="770"/>
                </a:lnTo>
                <a:lnTo>
                  <a:pt x="46" y="764"/>
                </a:lnTo>
                <a:lnTo>
                  <a:pt x="42" y="759"/>
                </a:lnTo>
                <a:lnTo>
                  <a:pt x="40" y="751"/>
                </a:lnTo>
                <a:lnTo>
                  <a:pt x="30" y="741"/>
                </a:lnTo>
                <a:lnTo>
                  <a:pt x="23" y="732"/>
                </a:lnTo>
                <a:lnTo>
                  <a:pt x="15" y="722"/>
                </a:lnTo>
                <a:lnTo>
                  <a:pt x="9" y="712"/>
                </a:lnTo>
                <a:lnTo>
                  <a:pt x="5" y="705"/>
                </a:lnTo>
                <a:lnTo>
                  <a:pt x="2" y="697"/>
                </a:lnTo>
                <a:lnTo>
                  <a:pt x="0" y="689"/>
                </a:lnTo>
                <a:lnTo>
                  <a:pt x="0" y="686"/>
                </a:lnTo>
                <a:lnTo>
                  <a:pt x="0" y="682"/>
                </a:lnTo>
                <a:lnTo>
                  <a:pt x="0" y="680"/>
                </a:lnTo>
                <a:lnTo>
                  <a:pt x="2" y="676"/>
                </a:lnTo>
                <a:lnTo>
                  <a:pt x="4" y="672"/>
                </a:lnTo>
                <a:lnTo>
                  <a:pt x="7" y="668"/>
                </a:lnTo>
                <a:lnTo>
                  <a:pt x="11" y="663"/>
                </a:lnTo>
                <a:lnTo>
                  <a:pt x="15" y="659"/>
                </a:lnTo>
                <a:lnTo>
                  <a:pt x="19" y="653"/>
                </a:lnTo>
                <a:lnTo>
                  <a:pt x="25" y="647"/>
                </a:lnTo>
                <a:lnTo>
                  <a:pt x="32" y="641"/>
                </a:lnTo>
                <a:lnTo>
                  <a:pt x="38" y="634"/>
                </a:lnTo>
                <a:lnTo>
                  <a:pt x="46" y="626"/>
                </a:lnTo>
                <a:lnTo>
                  <a:pt x="53" y="618"/>
                </a:lnTo>
                <a:lnTo>
                  <a:pt x="63" y="611"/>
                </a:lnTo>
                <a:lnTo>
                  <a:pt x="71" y="601"/>
                </a:lnTo>
                <a:lnTo>
                  <a:pt x="82" y="592"/>
                </a:lnTo>
                <a:lnTo>
                  <a:pt x="88" y="584"/>
                </a:lnTo>
                <a:lnTo>
                  <a:pt x="96" y="574"/>
                </a:lnTo>
                <a:lnTo>
                  <a:pt x="103" y="563"/>
                </a:lnTo>
                <a:lnTo>
                  <a:pt x="109" y="551"/>
                </a:lnTo>
                <a:lnTo>
                  <a:pt x="117" y="538"/>
                </a:lnTo>
                <a:lnTo>
                  <a:pt x="123" y="524"/>
                </a:lnTo>
                <a:lnTo>
                  <a:pt x="128" y="511"/>
                </a:lnTo>
                <a:lnTo>
                  <a:pt x="132" y="494"/>
                </a:lnTo>
                <a:lnTo>
                  <a:pt x="138" y="478"/>
                </a:lnTo>
                <a:lnTo>
                  <a:pt x="144" y="461"/>
                </a:lnTo>
                <a:lnTo>
                  <a:pt x="147" y="442"/>
                </a:lnTo>
                <a:lnTo>
                  <a:pt x="151" y="423"/>
                </a:lnTo>
                <a:lnTo>
                  <a:pt x="155" y="403"/>
                </a:lnTo>
                <a:lnTo>
                  <a:pt x="159" y="382"/>
                </a:lnTo>
                <a:lnTo>
                  <a:pt x="161" y="361"/>
                </a:lnTo>
                <a:lnTo>
                  <a:pt x="165" y="338"/>
                </a:lnTo>
                <a:lnTo>
                  <a:pt x="167" y="317"/>
                </a:lnTo>
                <a:lnTo>
                  <a:pt x="169" y="296"/>
                </a:lnTo>
                <a:lnTo>
                  <a:pt x="169" y="275"/>
                </a:lnTo>
                <a:lnTo>
                  <a:pt x="169" y="256"/>
                </a:lnTo>
                <a:lnTo>
                  <a:pt x="169" y="236"/>
                </a:lnTo>
                <a:lnTo>
                  <a:pt x="169" y="219"/>
                </a:lnTo>
                <a:lnTo>
                  <a:pt x="167" y="202"/>
                </a:lnTo>
                <a:lnTo>
                  <a:pt x="165" y="187"/>
                </a:lnTo>
                <a:lnTo>
                  <a:pt x="163" y="171"/>
                </a:lnTo>
                <a:lnTo>
                  <a:pt x="161" y="158"/>
                </a:lnTo>
                <a:lnTo>
                  <a:pt x="157" y="144"/>
                </a:lnTo>
                <a:lnTo>
                  <a:pt x="155" y="131"/>
                </a:lnTo>
                <a:lnTo>
                  <a:pt x="149" y="117"/>
                </a:lnTo>
                <a:lnTo>
                  <a:pt x="146" y="106"/>
                </a:lnTo>
                <a:lnTo>
                  <a:pt x="142" y="96"/>
                </a:lnTo>
                <a:lnTo>
                  <a:pt x="136" y="85"/>
                </a:lnTo>
                <a:lnTo>
                  <a:pt x="132" y="77"/>
                </a:lnTo>
                <a:lnTo>
                  <a:pt x="128" y="71"/>
                </a:lnTo>
                <a:lnTo>
                  <a:pt x="124" y="64"/>
                </a:lnTo>
                <a:lnTo>
                  <a:pt x="121" y="58"/>
                </a:lnTo>
                <a:lnTo>
                  <a:pt x="119" y="52"/>
                </a:lnTo>
                <a:lnTo>
                  <a:pt x="117" y="46"/>
                </a:lnTo>
                <a:lnTo>
                  <a:pt x="117" y="41"/>
                </a:lnTo>
                <a:lnTo>
                  <a:pt x="117" y="35"/>
                </a:lnTo>
                <a:lnTo>
                  <a:pt x="117" y="31"/>
                </a:lnTo>
                <a:lnTo>
                  <a:pt x="117" y="25"/>
                </a:lnTo>
                <a:lnTo>
                  <a:pt x="119" y="21"/>
                </a:lnTo>
                <a:lnTo>
                  <a:pt x="121" y="18"/>
                </a:lnTo>
                <a:lnTo>
                  <a:pt x="124" y="14"/>
                </a:lnTo>
                <a:lnTo>
                  <a:pt x="128" y="12"/>
                </a:lnTo>
                <a:lnTo>
                  <a:pt x="132" y="8"/>
                </a:lnTo>
                <a:lnTo>
                  <a:pt x="136" y="6"/>
                </a:lnTo>
                <a:lnTo>
                  <a:pt x="142" y="4"/>
                </a:lnTo>
                <a:lnTo>
                  <a:pt x="147" y="2"/>
                </a:lnTo>
                <a:lnTo>
                  <a:pt x="155" y="0"/>
                </a:lnTo>
                <a:lnTo>
                  <a:pt x="163" y="0"/>
                </a:lnTo>
                <a:lnTo>
                  <a:pt x="171" y="0"/>
                </a:lnTo>
                <a:lnTo>
                  <a:pt x="178" y="0"/>
                </a:lnTo>
                <a:lnTo>
                  <a:pt x="188" y="0"/>
                </a:lnTo>
                <a:lnTo>
                  <a:pt x="197" y="2"/>
                </a:lnTo>
                <a:lnTo>
                  <a:pt x="207" y="4"/>
                </a:lnTo>
                <a:lnTo>
                  <a:pt x="217" y="4"/>
                </a:lnTo>
                <a:lnTo>
                  <a:pt x="240" y="8"/>
                </a:lnTo>
                <a:lnTo>
                  <a:pt x="263" y="14"/>
                </a:lnTo>
                <a:lnTo>
                  <a:pt x="288" y="20"/>
                </a:lnTo>
                <a:lnTo>
                  <a:pt x="288" y="43"/>
                </a:lnTo>
                <a:lnTo>
                  <a:pt x="288" y="68"/>
                </a:lnTo>
                <a:lnTo>
                  <a:pt x="288" y="91"/>
                </a:lnTo>
                <a:lnTo>
                  <a:pt x="288" y="114"/>
                </a:lnTo>
                <a:lnTo>
                  <a:pt x="288" y="135"/>
                </a:lnTo>
                <a:lnTo>
                  <a:pt x="288" y="156"/>
                </a:lnTo>
                <a:lnTo>
                  <a:pt x="288" y="177"/>
                </a:lnTo>
                <a:lnTo>
                  <a:pt x="288" y="196"/>
                </a:lnTo>
                <a:lnTo>
                  <a:pt x="288" y="215"/>
                </a:lnTo>
                <a:lnTo>
                  <a:pt x="288" y="235"/>
                </a:lnTo>
                <a:lnTo>
                  <a:pt x="288" y="252"/>
                </a:lnTo>
                <a:lnTo>
                  <a:pt x="288" y="269"/>
                </a:lnTo>
                <a:lnTo>
                  <a:pt x="288" y="284"/>
                </a:lnTo>
                <a:lnTo>
                  <a:pt x="286" y="300"/>
                </a:lnTo>
                <a:lnTo>
                  <a:pt x="286" y="315"/>
                </a:lnTo>
                <a:lnTo>
                  <a:pt x="286" y="331"/>
                </a:lnTo>
                <a:lnTo>
                  <a:pt x="286" y="344"/>
                </a:lnTo>
                <a:lnTo>
                  <a:pt x="286" y="357"/>
                </a:lnTo>
                <a:lnTo>
                  <a:pt x="286" y="369"/>
                </a:lnTo>
                <a:lnTo>
                  <a:pt x="284" y="380"/>
                </a:lnTo>
                <a:lnTo>
                  <a:pt x="284" y="392"/>
                </a:lnTo>
                <a:lnTo>
                  <a:pt x="284" y="402"/>
                </a:lnTo>
                <a:lnTo>
                  <a:pt x="282" y="413"/>
                </a:lnTo>
                <a:lnTo>
                  <a:pt x="282" y="421"/>
                </a:lnTo>
                <a:lnTo>
                  <a:pt x="282" y="430"/>
                </a:lnTo>
                <a:lnTo>
                  <a:pt x="280" y="438"/>
                </a:lnTo>
                <a:lnTo>
                  <a:pt x="280" y="446"/>
                </a:lnTo>
                <a:lnTo>
                  <a:pt x="278" y="451"/>
                </a:lnTo>
                <a:lnTo>
                  <a:pt x="278" y="457"/>
                </a:lnTo>
                <a:lnTo>
                  <a:pt x="276" y="463"/>
                </a:lnTo>
                <a:lnTo>
                  <a:pt x="276" y="467"/>
                </a:lnTo>
                <a:lnTo>
                  <a:pt x="274" y="473"/>
                </a:lnTo>
                <a:lnTo>
                  <a:pt x="272" y="478"/>
                </a:lnTo>
                <a:lnTo>
                  <a:pt x="270" y="486"/>
                </a:lnTo>
                <a:lnTo>
                  <a:pt x="268" y="492"/>
                </a:lnTo>
                <a:lnTo>
                  <a:pt x="266" y="497"/>
                </a:lnTo>
                <a:lnTo>
                  <a:pt x="265" y="507"/>
                </a:lnTo>
                <a:lnTo>
                  <a:pt x="265" y="515"/>
                </a:lnTo>
                <a:lnTo>
                  <a:pt x="265" y="521"/>
                </a:lnTo>
                <a:lnTo>
                  <a:pt x="266" y="528"/>
                </a:lnTo>
                <a:lnTo>
                  <a:pt x="270" y="532"/>
                </a:lnTo>
                <a:lnTo>
                  <a:pt x="274" y="538"/>
                </a:lnTo>
                <a:lnTo>
                  <a:pt x="278" y="540"/>
                </a:lnTo>
                <a:lnTo>
                  <a:pt x="280" y="542"/>
                </a:lnTo>
                <a:lnTo>
                  <a:pt x="286" y="544"/>
                </a:lnTo>
                <a:lnTo>
                  <a:pt x="290" y="545"/>
                </a:lnTo>
                <a:lnTo>
                  <a:pt x="295" y="545"/>
                </a:lnTo>
                <a:lnTo>
                  <a:pt x="303" y="545"/>
                </a:lnTo>
                <a:lnTo>
                  <a:pt x="311" y="545"/>
                </a:lnTo>
                <a:lnTo>
                  <a:pt x="318" y="545"/>
                </a:lnTo>
                <a:lnTo>
                  <a:pt x="328" y="544"/>
                </a:lnTo>
                <a:lnTo>
                  <a:pt x="339" y="542"/>
                </a:lnTo>
                <a:lnTo>
                  <a:pt x="351" y="538"/>
                </a:lnTo>
                <a:lnTo>
                  <a:pt x="362" y="534"/>
                </a:lnTo>
                <a:lnTo>
                  <a:pt x="378" y="530"/>
                </a:lnTo>
                <a:lnTo>
                  <a:pt x="391" y="524"/>
                </a:lnTo>
                <a:lnTo>
                  <a:pt x="409" y="519"/>
                </a:lnTo>
                <a:lnTo>
                  <a:pt x="426" y="511"/>
                </a:lnTo>
                <a:lnTo>
                  <a:pt x="441" y="503"/>
                </a:lnTo>
                <a:lnTo>
                  <a:pt x="455" y="497"/>
                </a:lnTo>
                <a:lnTo>
                  <a:pt x="468" y="492"/>
                </a:lnTo>
                <a:lnTo>
                  <a:pt x="481" y="486"/>
                </a:lnTo>
                <a:lnTo>
                  <a:pt x="495" y="482"/>
                </a:lnTo>
                <a:lnTo>
                  <a:pt x="506" y="478"/>
                </a:lnTo>
                <a:lnTo>
                  <a:pt x="516" y="474"/>
                </a:lnTo>
                <a:lnTo>
                  <a:pt x="528" y="471"/>
                </a:lnTo>
                <a:lnTo>
                  <a:pt x="537" y="469"/>
                </a:lnTo>
                <a:lnTo>
                  <a:pt x="545" y="467"/>
                </a:lnTo>
                <a:lnTo>
                  <a:pt x="552" y="467"/>
                </a:lnTo>
                <a:lnTo>
                  <a:pt x="558" y="467"/>
                </a:lnTo>
                <a:lnTo>
                  <a:pt x="564" y="467"/>
                </a:lnTo>
                <a:lnTo>
                  <a:pt x="570" y="469"/>
                </a:lnTo>
                <a:lnTo>
                  <a:pt x="574" y="469"/>
                </a:lnTo>
                <a:lnTo>
                  <a:pt x="577" y="473"/>
                </a:lnTo>
                <a:lnTo>
                  <a:pt x="579" y="474"/>
                </a:lnTo>
                <a:lnTo>
                  <a:pt x="583" y="476"/>
                </a:lnTo>
                <a:lnTo>
                  <a:pt x="587" y="478"/>
                </a:lnTo>
                <a:lnTo>
                  <a:pt x="593" y="482"/>
                </a:lnTo>
                <a:lnTo>
                  <a:pt x="597" y="484"/>
                </a:lnTo>
                <a:lnTo>
                  <a:pt x="602" y="488"/>
                </a:lnTo>
                <a:lnTo>
                  <a:pt x="614" y="494"/>
                </a:lnTo>
                <a:lnTo>
                  <a:pt x="627" y="499"/>
                </a:lnTo>
                <a:lnTo>
                  <a:pt x="643" y="507"/>
                </a:lnTo>
                <a:lnTo>
                  <a:pt x="658" y="515"/>
                </a:lnTo>
                <a:lnTo>
                  <a:pt x="673" y="524"/>
                </a:lnTo>
                <a:lnTo>
                  <a:pt x="681" y="530"/>
                </a:lnTo>
                <a:lnTo>
                  <a:pt x="687" y="536"/>
                </a:lnTo>
                <a:lnTo>
                  <a:pt x="693" y="540"/>
                </a:lnTo>
                <a:lnTo>
                  <a:pt x="698" y="545"/>
                </a:lnTo>
                <a:lnTo>
                  <a:pt x="704" y="549"/>
                </a:lnTo>
                <a:lnTo>
                  <a:pt x="708" y="555"/>
                </a:lnTo>
                <a:lnTo>
                  <a:pt x="712" y="561"/>
                </a:lnTo>
                <a:lnTo>
                  <a:pt x="716" y="565"/>
                </a:lnTo>
                <a:lnTo>
                  <a:pt x="719" y="570"/>
                </a:lnTo>
                <a:lnTo>
                  <a:pt x="721" y="574"/>
                </a:lnTo>
                <a:lnTo>
                  <a:pt x="725" y="584"/>
                </a:lnTo>
                <a:lnTo>
                  <a:pt x="727" y="595"/>
                </a:lnTo>
                <a:lnTo>
                  <a:pt x="729" y="605"/>
                </a:lnTo>
                <a:lnTo>
                  <a:pt x="727" y="615"/>
                </a:lnTo>
                <a:lnTo>
                  <a:pt x="725" y="624"/>
                </a:lnTo>
                <a:lnTo>
                  <a:pt x="723" y="634"/>
                </a:lnTo>
                <a:lnTo>
                  <a:pt x="719" y="643"/>
                </a:lnTo>
                <a:lnTo>
                  <a:pt x="716" y="651"/>
                </a:lnTo>
                <a:lnTo>
                  <a:pt x="710" y="659"/>
                </a:lnTo>
                <a:lnTo>
                  <a:pt x="706" y="666"/>
                </a:lnTo>
                <a:lnTo>
                  <a:pt x="700" y="672"/>
                </a:lnTo>
                <a:lnTo>
                  <a:pt x="698" y="672"/>
                </a:lnTo>
                <a:lnTo>
                  <a:pt x="696" y="674"/>
                </a:lnTo>
                <a:lnTo>
                  <a:pt x="693" y="678"/>
                </a:lnTo>
                <a:lnTo>
                  <a:pt x="691" y="680"/>
                </a:lnTo>
                <a:lnTo>
                  <a:pt x="689" y="684"/>
                </a:lnTo>
                <a:lnTo>
                  <a:pt x="687" y="689"/>
                </a:lnTo>
                <a:lnTo>
                  <a:pt x="685" y="693"/>
                </a:lnTo>
                <a:lnTo>
                  <a:pt x="683" y="699"/>
                </a:lnTo>
                <a:lnTo>
                  <a:pt x="681" y="705"/>
                </a:lnTo>
                <a:lnTo>
                  <a:pt x="679" y="711"/>
                </a:lnTo>
                <a:lnTo>
                  <a:pt x="677" y="718"/>
                </a:lnTo>
                <a:lnTo>
                  <a:pt x="675" y="726"/>
                </a:lnTo>
                <a:lnTo>
                  <a:pt x="673" y="734"/>
                </a:lnTo>
                <a:lnTo>
                  <a:pt x="673" y="743"/>
                </a:lnTo>
                <a:lnTo>
                  <a:pt x="671" y="751"/>
                </a:lnTo>
                <a:lnTo>
                  <a:pt x="670" y="760"/>
                </a:lnTo>
                <a:lnTo>
                  <a:pt x="670" y="772"/>
                </a:lnTo>
                <a:lnTo>
                  <a:pt x="668" y="782"/>
                </a:lnTo>
                <a:lnTo>
                  <a:pt x="666" y="793"/>
                </a:lnTo>
                <a:lnTo>
                  <a:pt x="666" y="805"/>
                </a:lnTo>
                <a:lnTo>
                  <a:pt x="664" y="818"/>
                </a:lnTo>
                <a:lnTo>
                  <a:pt x="664" y="831"/>
                </a:lnTo>
                <a:lnTo>
                  <a:pt x="662" y="845"/>
                </a:lnTo>
                <a:lnTo>
                  <a:pt x="662" y="858"/>
                </a:lnTo>
                <a:lnTo>
                  <a:pt x="662" y="874"/>
                </a:lnTo>
                <a:lnTo>
                  <a:pt x="662" y="889"/>
                </a:lnTo>
                <a:lnTo>
                  <a:pt x="660" y="904"/>
                </a:lnTo>
                <a:lnTo>
                  <a:pt x="660" y="920"/>
                </a:lnTo>
                <a:lnTo>
                  <a:pt x="660" y="937"/>
                </a:lnTo>
                <a:lnTo>
                  <a:pt x="660" y="954"/>
                </a:lnTo>
                <a:lnTo>
                  <a:pt x="660" y="972"/>
                </a:lnTo>
                <a:lnTo>
                  <a:pt x="660" y="99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Freeform 196"/>
          <p:cNvSpPr/>
          <p:nvPr/>
        </p:nvSpPr>
        <p:spPr>
          <a:xfrm>
            <a:off x="5703840" y="3492360"/>
            <a:ext cx="438120" cy="179640"/>
          </a:xfrm>
          <a:custGeom>
            <a:avLst/>
            <a:gdLst/>
            <a:ahLst/>
            <a:rect l="l" t="t" r="r" b="b"/>
            <a:pathLst>
              <a:path w="551" h="227">
                <a:moveTo>
                  <a:pt x="0" y="227"/>
                </a:moveTo>
                <a:lnTo>
                  <a:pt x="0" y="167"/>
                </a:lnTo>
                <a:lnTo>
                  <a:pt x="0" y="108"/>
                </a:lnTo>
                <a:lnTo>
                  <a:pt x="27" y="100"/>
                </a:lnTo>
                <a:lnTo>
                  <a:pt x="54" y="94"/>
                </a:lnTo>
                <a:lnTo>
                  <a:pt x="79" y="88"/>
                </a:lnTo>
                <a:lnTo>
                  <a:pt x="104" y="83"/>
                </a:lnTo>
                <a:lnTo>
                  <a:pt x="127" y="77"/>
                </a:lnTo>
                <a:lnTo>
                  <a:pt x="150" y="71"/>
                </a:lnTo>
                <a:lnTo>
                  <a:pt x="173" y="67"/>
                </a:lnTo>
                <a:lnTo>
                  <a:pt x="194" y="61"/>
                </a:lnTo>
                <a:lnTo>
                  <a:pt x="215" y="56"/>
                </a:lnTo>
                <a:lnTo>
                  <a:pt x="235" y="52"/>
                </a:lnTo>
                <a:lnTo>
                  <a:pt x="256" y="48"/>
                </a:lnTo>
                <a:lnTo>
                  <a:pt x="273" y="42"/>
                </a:lnTo>
                <a:lnTo>
                  <a:pt x="292" y="38"/>
                </a:lnTo>
                <a:lnTo>
                  <a:pt x="310" y="35"/>
                </a:lnTo>
                <a:lnTo>
                  <a:pt x="325" y="31"/>
                </a:lnTo>
                <a:lnTo>
                  <a:pt x="342" y="29"/>
                </a:lnTo>
                <a:lnTo>
                  <a:pt x="358" y="25"/>
                </a:lnTo>
                <a:lnTo>
                  <a:pt x="371" y="21"/>
                </a:lnTo>
                <a:lnTo>
                  <a:pt x="384" y="19"/>
                </a:lnTo>
                <a:lnTo>
                  <a:pt x="398" y="15"/>
                </a:lnTo>
                <a:lnTo>
                  <a:pt x="409" y="13"/>
                </a:lnTo>
                <a:lnTo>
                  <a:pt x="421" y="12"/>
                </a:lnTo>
                <a:lnTo>
                  <a:pt x="432" y="10"/>
                </a:lnTo>
                <a:lnTo>
                  <a:pt x="442" y="8"/>
                </a:lnTo>
                <a:lnTo>
                  <a:pt x="452" y="6"/>
                </a:lnTo>
                <a:lnTo>
                  <a:pt x="459" y="4"/>
                </a:lnTo>
                <a:lnTo>
                  <a:pt x="467" y="2"/>
                </a:lnTo>
                <a:lnTo>
                  <a:pt x="475" y="2"/>
                </a:lnTo>
                <a:lnTo>
                  <a:pt x="482" y="2"/>
                </a:lnTo>
                <a:lnTo>
                  <a:pt x="486" y="0"/>
                </a:lnTo>
                <a:lnTo>
                  <a:pt x="492" y="0"/>
                </a:lnTo>
                <a:lnTo>
                  <a:pt x="496" y="0"/>
                </a:lnTo>
                <a:lnTo>
                  <a:pt x="503" y="0"/>
                </a:lnTo>
                <a:lnTo>
                  <a:pt x="511" y="0"/>
                </a:lnTo>
                <a:lnTo>
                  <a:pt x="517" y="2"/>
                </a:lnTo>
                <a:lnTo>
                  <a:pt x="523" y="2"/>
                </a:lnTo>
                <a:lnTo>
                  <a:pt x="526" y="4"/>
                </a:lnTo>
                <a:lnTo>
                  <a:pt x="532" y="6"/>
                </a:lnTo>
                <a:lnTo>
                  <a:pt x="536" y="8"/>
                </a:lnTo>
                <a:lnTo>
                  <a:pt x="540" y="10"/>
                </a:lnTo>
                <a:lnTo>
                  <a:pt x="542" y="13"/>
                </a:lnTo>
                <a:lnTo>
                  <a:pt x="546" y="15"/>
                </a:lnTo>
                <a:lnTo>
                  <a:pt x="549" y="23"/>
                </a:lnTo>
                <a:lnTo>
                  <a:pt x="551" y="31"/>
                </a:lnTo>
                <a:lnTo>
                  <a:pt x="551" y="40"/>
                </a:lnTo>
                <a:lnTo>
                  <a:pt x="551" y="48"/>
                </a:lnTo>
                <a:lnTo>
                  <a:pt x="551" y="54"/>
                </a:lnTo>
                <a:lnTo>
                  <a:pt x="549" y="60"/>
                </a:lnTo>
                <a:lnTo>
                  <a:pt x="549" y="65"/>
                </a:lnTo>
                <a:lnTo>
                  <a:pt x="548" y="71"/>
                </a:lnTo>
                <a:lnTo>
                  <a:pt x="546" y="75"/>
                </a:lnTo>
                <a:lnTo>
                  <a:pt x="544" y="79"/>
                </a:lnTo>
                <a:lnTo>
                  <a:pt x="544" y="83"/>
                </a:lnTo>
                <a:lnTo>
                  <a:pt x="538" y="86"/>
                </a:lnTo>
                <a:lnTo>
                  <a:pt x="534" y="90"/>
                </a:lnTo>
                <a:lnTo>
                  <a:pt x="528" y="92"/>
                </a:lnTo>
                <a:lnTo>
                  <a:pt x="525" y="94"/>
                </a:lnTo>
                <a:lnTo>
                  <a:pt x="523" y="94"/>
                </a:lnTo>
                <a:lnTo>
                  <a:pt x="519" y="96"/>
                </a:lnTo>
                <a:lnTo>
                  <a:pt x="515" y="98"/>
                </a:lnTo>
                <a:lnTo>
                  <a:pt x="511" y="100"/>
                </a:lnTo>
                <a:lnTo>
                  <a:pt x="505" y="102"/>
                </a:lnTo>
                <a:lnTo>
                  <a:pt x="500" y="104"/>
                </a:lnTo>
                <a:lnTo>
                  <a:pt x="492" y="106"/>
                </a:lnTo>
                <a:lnTo>
                  <a:pt x="482" y="109"/>
                </a:lnTo>
                <a:lnTo>
                  <a:pt x="473" y="111"/>
                </a:lnTo>
                <a:lnTo>
                  <a:pt x="463" y="113"/>
                </a:lnTo>
                <a:lnTo>
                  <a:pt x="452" y="117"/>
                </a:lnTo>
                <a:lnTo>
                  <a:pt x="440" y="121"/>
                </a:lnTo>
                <a:lnTo>
                  <a:pt x="427" y="123"/>
                </a:lnTo>
                <a:lnTo>
                  <a:pt x="411" y="127"/>
                </a:lnTo>
                <a:lnTo>
                  <a:pt x="398" y="131"/>
                </a:lnTo>
                <a:lnTo>
                  <a:pt x="381" y="134"/>
                </a:lnTo>
                <a:lnTo>
                  <a:pt x="363" y="138"/>
                </a:lnTo>
                <a:lnTo>
                  <a:pt x="346" y="142"/>
                </a:lnTo>
                <a:lnTo>
                  <a:pt x="327" y="148"/>
                </a:lnTo>
                <a:lnTo>
                  <a:pt x="308" y="152"/>
                </a:lnTo>
                <a:lnTo>
                  <a:pt x="286" y="157"/>
                </a:lnTo>
                <a:lnTo>
                  <a:pt x="265" y="163"/>
                </a:lnTo>
                <a:lnTo>
                  <a:pt x="242" y="167"/>
                </a:lnTo>
                <a:lnTo>
                  <a:pt x="219" y="173"/>
                </a:lnTo>
                <a:lnTo>
                  <a:pt x="196" y="179"/>
                </a:lnTo>
                <a:lnTo>
                  <a:pt x="171" y="184"/>
                </a:lnTo>
                <a:lnTo>
                  <a:pt x="144" y="192"/>
                </a:lnTo>
                <a:lnTo>
                  <a:pt x="118" y="198"/>
                </a:lnTo>
                <a:lnTo>
                  <a:pt x="91" y="205"/>
                </a:lnTo>
                <a:lnTo>
                  <a:pt x="62" y="211"/>
                </a:lnTo>
                <a:lnTo>
                  <a:pt x="31" y="219"/>
                </a:lnTo>
                <a:lnTo>
                  <a:pt x="0" y="2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Freeform 197"/>
          <p:cNvSpPr/>
          <p:nvPr/>
        </p:nvSpPr>
        <p:spPr>
          <a:xfrm>
            <a:off x="5683320" y="2975040"/>
            <a:ext cx="611280" cy="581040"/>
          </a:xfrm>
          <a:custGeom>
            <a:avLst/>
            <a:gdLst/>
            <a:ahLst/>
            <a:rect l="l" t="t" r="r" b="b"/>
            <a:pathLst>
              <a:path w="769" h="734">
                <a:moveTo>
                  <a:pt x="468" y="68"/>
                </a:moveTo>
                <a:lnTo>
                  <a:pt x="481" y="52"/>
                </a:lnTo>
                <a:lnTo>
                  <a:pt x="497" y="41"/>
                </a:lnTo>
                <a:lnTo>
                  <a:pt x="508" y="29"/>
                </a:lnTo>
                <a:lnTo>
                  <a:pt x="520" y="20"/>
                </a:lnTo>
                <a:lnTo>
                  <a:pt x="526" y="16"/>
                </a:lnTo>
                <a:lnTo>
                  <a:pt x="531" y="12"/>
                </a:lnTo>
                <a:lnTo>
                  <a:pt x="537" y="8"/>
                </a:lnTo>
                <a:lnTo>
                  <a:pt x="543" y="6"/>
                </a:lnTo>
                <a:lnTo>
                  <a:pt x="549" y="4"/>
                </a:lnTo>
                <a:lnTo>
                  <a:pt x="552" y="2"/>
                </a:lnTo>
                <a:lnTo>
                  <a:pt x="558" y="0"/>
                </a:lnTo>
                <a:lnTo>
                  <a:pt x="564" y="0"/>
                </a:lnTo>
                <a:lnTo>
                  <a:pt x="566" y="0"/>
                </a:lnTo>
                <a:lnTo>
                  <a:pt x="570" y="2"/>
                </a:lnTo>
                <a:lnTo>
                  <a:pt x="574" y="4"/>
                </a:lnTo>
                <a:lnTo>
                  <a:pt x="579" y="6"/>
                </a:lnTo>
                <a:lnTo>
                  <a:pt x="585" y="8"/>
                </a:lnTo>
                <a:lnTo>
                  <a:pt x="591" y="12"/>
                </a:lnTo>
                <a:lnTo>
                  <a:pt x="599" y="16"/>
                </a:lnTo>
                <a:lnTo>
                  <a:pt x="604" y="20"/>
                </a:lnTo>
                <a:lnTo>
                  <a:pt x="614" y="23"/>
                </a:lnTo>
                <a:lnTo>
                  <a:pt x="622" y="29"/>
                </a:lnTo>
                <a:lnTo>
                  <a:pt x="631" y="35"/>
                </a:lnTo>
                <a:lnTo>
                  <a:pt x="641" y="41"/>
                </a:lnTo>
                <a:lnTo>
                  <a:pt x="652" y="47"/>
                </a:lnTo>
                <a:lnTo>
                  <a:pt x="664" y="52"/>
                </a:lnTo>
                <a:lnTo>
                  <a:pt x="675" y="60"/>
                </a:lnTo>
                <a:lnTo>
                  <a:pt x="687" y="68"/>
                </a:lnTo>
                <a:lnTo>
                  <a:pt x="696" y="77"/>
                </a:lnTo>
                <a:lnTo>
                  <a:pt x="706" y="87"/>
                </a:lnTo>
                <a:lnTo>
                  <a:pt x="716" y="96"/>
                </a:lnTo>
                <a:lnTo>
                  <a:pt x="723" y="106"/>
                </a:lnTo>
                <a:lnTo>
                  <a:pt x="731" y="114"/>
                </a:lnTo>
                <a:lnTo>
                  <a:pt x="737" y="121"/>
                </a:lnTo>
                <a:lnTo>
                  <a:pt x="744" y="129"/>
                </a:lnTo>
                <a:lnTo>
                  <a:pt x="748" y="137"/>
                </a:lnTo>
                <a:lnTo>
                  <a:pt x="754" y="142"/>
                </a:lnTo>
                <a:lnTo>
                  <a:pt x="758" y="148"/>
                </a:lnTo>
                <a:lnTo>
                  <a:pt x="762" y="154"/>
                </a:lnTo>
                <a:lnTo>
                  <a:pt x="765" y="160"/>
                </a:lnTo>
                <a:lnTo>
                  <a:pt x="767" y="164"/>
                </a:lnTo>
                <a:lnTo>
                  <a:pt x="769" y="167"/>
                </a:lnTo>
                <a:lnTo>
                  <a:pt x="769" y="171"/>
                </a:lnTo>
                <a:lnTo>
                  <a:pt x="769" y="175"/>
                </a:lnTo>
                <a:lnTo>
                  <a:pt x="765" y="183"/>
                </a:lnTo>
                <a:lnTo>
                  <a:pt x="760" y="192"/>
                </a:lnTo>
                <a:lnTo>
                  <a:pt x="754" y="198"/>
                </a:lnTo>
                <a:lnTo>
                  <a:pt x="748" y="206"/>
                </a:lnTo>
                <a:lnTo>
                  <a:pt x="741" y="212"/>
                </a:lnTo>
                <a:lnTo>
                  <a:pt x="733" y="217"/>
                </a:lnTo>
                <a:lnTo>
                  <a:pt x="725" y="223"/>
                </a:lnTo>
                <a:lnTo>
                  <a:pt x="716" y="227"/>
                </a:lnTo>
                <a:lnTo>
                  <a:pt x="712" y="229"/>
                </a:lnTo>
                <a:lnTo>
                  <a:pt x="708" y="231"/>
                </a:lnTo>
                <a:lnTo>
                  <a:pt x="702" y="235"/>
                </a:lnTo>
                <a:lnTo>
                  <a:pt x="698" y="238"/>
                </a:lnTo>
                <a:lnTo>
                  <a:pt x="694" y="244"/>
                </a:lnTo>
                <a:lnTo>
                  <a:pt x="689" y="250"/>
                </a:lnTo>
                <a:lnTo>
                  <a:pt x="683" y="258"/>
                </a:lnTo>
                <a:lnTo>
                  <a:pt x="679" y="265"/>
                </a:lnTo>
                <a:lnTo>
                  <a:pt x="673" y="273"/>
                </a:lnTo>
                <a:lnTo>
                  <a:pt x="668" y="283"/>
                </a:lnTo>
                <a:lnTo>
                  <a:pt x="662" y="294"/>
                </a:lnTo>
                <a:lnTo>
                  <a:pt x="654" y="304"/>
                </a:lnTo>
                <a:lnTo>
                  <a:pt x="648" y="317"/>
                </a:lnTo>
                <a:lnTo>
                  <a:pt x="643" y="331"/>
                </a:lnTo>
                <a:lnTo>
                  <a:pt x="635" y="344"/>
                </a:lnTo>
                <a:lnTo>
                  <a:pt x="629" y="359"/>
                </a:lnTo>
                <a:lnTo>
                  <a:pt x="622" y="375"/>
                </a:lnTo>
                <a:lnTo>
                  <a:pt x="614" y="390"/>
                </a:lnTo>
                <a:lnTo>
                  <a:pt x="606" y="407"/>
                </a:lnTo>
                <a:lnTo>
                  <a:pt x="599" y="427"/>
                </a:lnTo>
                <a:lnTo>
                  <a:pt x="589" y="446"/>
                </a:lnTo>
                <a:lnTo>
                  <a:pt x="581" y="467"/>
                </a:lnTo>
                <a:lnTo>
                  <a:pt x="572" y="488"/>
                </a:lnTo>
                <a:lnTo>
                  <a:pt x="564" y="509"/>
                </a:lnTo>
                <a:lnTo>
                  <a:pt x="554" y="532"/>
                </a:lnTo>
                <a:lnTo>
                  <a:pt x="545" y="557"/>
                </a:lnTo>
                <a:lnTo>
                  <a:pt x="535" y="582"/>
                </a:lnTo>
                <a:lnTo>
                  <a:pt x="524" y="607"/>
                </a:lnTo>
                <a:lnTo>
                  <a:pt x="514" y="634"/>
                </a:lnTo>
                <a:lnTo>
                  <a:pt x="503" y="661"/>
                </a:lnTo>
                <a:lnTo>
                  <a:pt x="493" y="690"/>
                </a:lnTo>
                <a:lnTo>
                  <a:pt x="481" y="720"/>
                </a:lnTo>
                <a:lnTo>
                  <a:pt x="426" y="726"/>
                </a:lnTo>
                <a:lnTo>
                  <a:pt x="372" y="734"/>
                </a:lnTo>
                <a:lnTo>
                  <a:pt x="378" y="707"/>
                </a:lnTo>
                <a:lnTo>
                  <a:pt x="385" y="680"/>
                </a:lnTo>
                <a:lnTo>
                  <a:pt x="393" y="655"/>
                </a:lnTo>
                <a:lnTo>
                  <a:pt x="401" y="630"/>
                </a:lnTo>
                <a:lnTo>
                  <a:pt x="408" y="607"/>
                </a:lnTo>
                <a:lnTo>
                  <a:pt x="416" y="584"/>
                </a:lnTo>
                <a:lnTo>
                  <a:pt x="422" y="561"/>
                </a:lnTo>
                <a:lnTo>
                  <a:pt x="430" y="540"/>
                </a:lnTo>
                <a:lnTo>
                  <a:pt x="435" y="519"/>
                </a:lnTo>
                <a:lnTo>
                  <a:pt x="441" y="500"/>
                </a:lnTo>
                <a:lnTo>
                  <a:pt x="447" y="478"/>
                </a:lnTo>
                <a:lnTo>
                  <a:pt x="453" y="459"/>
                </a:lnTo>
                <a:lnTo>
                  <a:pt x="456" y="440"/>
                </a:lnTo>
                <a:lnTo>
                  <a:pt x="460" y="423"/>
                </a:lnTo>
                <a:lnTo>
                  <a:pt x="464" y="404"/>
                </a:lnTo>
                <a:lnTo>
                  <a:pt x="468" y="386"/>
                </a:lnTo>
                <a:lnTo>
                  <a:pt x="470" y="373"/>
                </a:lnTo>
                <a:lnTo>
                  <a:pt x="472" y="359"/>
                </a:lnTo>
                <a:lnTo>
                  <a:pt x="474" y="346"/>
                </a:lnTo>
                <a:lnTo>
                  <a:pt x="476" y="334"/>
                </a:lnTo>
                <a:lnTo>
                  <a:pt x="476" y="323"/>
                </a:lnTo>
                <a:lnTo>
                  <a:pt x="478" y="313"/>
                </a:lnTo>
                <a:lnTo>
                  <a:pt x="478" y="304"/>
                </a:lnTo>
                <a:lnTo>
                  <a:pt x="478" y="296"/>
                </a:lnTo>
                <a:lnTo>
                  <a:pt x="478" y="288"/>
                </a:lnTo>
                <a:lnTo>
                  <a:pt x="478" y="281"/>
                </a:lnTo>
                <a:lnTo>
                  <a:pt x="476" y="275"/>
                </a:lnTo>
                <a:lnTo>
                  <a:pt x="476" y="269"/>
                </a:lnTo>
                <a:lnTo>
                  <a:pt x="474" y="263"/>
                </a:lnTo>
                <a:lnTo>
                  <a:pt x="472" y="260"/>
                </a:lnTo>
                <a:lnTo>
                  <a:pt x="470" y="256"/>
                </a:lnTo>
                <a:lnTo>
                  <a:pt x="468" y="254"/>
                </a:lnTo>
                <a:lnTo>
                  <a:pt x="464" y="252"/>
                </a:lnTo>
                <a:lnTo>
                  <a:pt x="460" y="250"/>
                </a:lnTo>
                <a:lnTo>
                  <a:pt x="455" y="248"/>
                </a:lnTo>
                <a:lnTo>
                  <a:pt x="449" y="248"/>
                </a:lnTo>
                <a:lnTo>
                  <a:pt x="443" y="248"/>
                </a:lnTo>
                <a:lnTo>
                  <a:pt x="435" y="248"/>
                </a:lnTo>
                <a:lnTo>
                  <a:pt x="428" y="250"/>
                </a:lnTo>
                <a:lnTo>
                  <a:pt x="418" y="250"/>
                </a:lnTo>
                <a:lnTo>
                  <a:pt x="407" y="252"/>
                </a:lnTo>
                <a:lnTo>
                  <a:pt x="397" y="254"/>
                </a:lnTo>
                <a:lnTo>
                  <a:pt x="385" y="256"/>
                </a:lnTo>
                <a:lnTo>
                  <a:pt x="372" y="258"/>
                </a:lnTo>
                <a:lnTo>
                  <a:pt x="359" y="260"/>
                </a:lnTo>
                <a:lnTo>
                  <a:pt x="345" y="261"/>
                </a:lnTo>
                <a:lnTo>
                  <a:pt x="332" y="265"/>
                </a:lnTo>
                <a:lnTo>
                  <a:pt x="316" y="267"/>
                </a:lnTo>
                <a:lnTo>
                  <a:pt x="299" y="273"/>
                </a:lnTo>
                <a:lnTo>
                  <a:pt x="282" y="277"/>
                </a:lnTo>
                <a:lnTo>
                  <a:pt x="266" y="281"/>
                </a:lnTo>
                <a:lnTo>
                  <a:pt x="251" y="285"/>
                </a:lnTo>
                <a:lnTo>
                  <a:pt x="238" y="288"/>
                </a:lnTo>
                <a:lnTo>
                  <a:pt x="224" y="292"/>
                </a:lnTo>
                <a:lnTo>
                  <a:pt x="213" y="294"/>
                </a:lnTo>
                <a:lnTo>
                  <a:pt x="201" y="298"/>
                </a:lnTo>
                <a:lnTo>
                  <a:pt x="190" y="300"/>
                </a:lnTo>
                <a:lnTo>
                  <a:pt x="180" y="302"/>
                </a:lnTo>
                <a:lnTo>
                  <a:pt x="172" y="304"/>
                </a:lnTo>
                <a:lnTo>
                  <a:pt x="163" y="304"/>
                </a:lnTo>
                <a:lnTo>
                  <a:pt x="155" y="306"/>
                </a:lnTo>
                <a:lnTo>
                  <a:pt x="149" y="306"/>
                </a:lnTo>
                <a:lnTo>
                  <a:pt x="142" y="308"/>
                </a:lnTo>
                <a:lnTo>
                  <a:pt x="138" y="308"/>
                </a:lnTo>
                <a:lnTo>
                  <a:pt x="126" y="306"/>
                </a:lnTo>
                <a:lnTo>
                  <a:pt x="117" y="304"/>
                </a:lnTo>
                <a:lnTo>
                  <a:pt x="105" y="302"/>
                </a:lnTo>
                <a:lnTo>
                  <a:pt x="96" y="298"/>
                </a:lnTo>
                <a:lnTo>
                  <a:pt x="86" y="292"/>
                </a:lnTo>
                <a:lnTo>
                  <a:pt x="74" y="285"/>
                </a:lnTo>
                <a:lnTo>
                  <a:pt x="65" y="277"/>
                </a:lnTo>
                <a:lnTo>
                  <a:pt x="55" y="267"/>
                </a:lnTo>
                <a:lnTo>
                  <a:pt x="48" y="265"/>
                </a:lnTo>
                <a:lnTo>
                  <a:pt x="40" y="261"/>
                </a:lnTo>
                <a:lnTo>
                  <a:pt x="34" y="258"/>
                </a:lnTo>
                <a:lnTo>
                  <a:pt x="28" y="256"/>
                </a:lnTo>
                <a:lnTo>
                  <a:pt x="25" y="252"/>
                </a:lnTo>
                <a:lnTo>
                  <a:pt x="19" y="248"/>
                </a:lnTo>
                <a:lnTo>
                  <a:pt x="15" y="244"/>
                </a:lnTo>
                <a:lnTo>
                  <a:pt x="11" y="240"/>
                </a:lnTo>
                <a:lnTo>
                  <a:pt x="9" y="237"/>
                </a:lnTo>
                <a:lnTo>
                  <a:pt x="5" y="233"/>
                </a:lnTo>
                <a:lnTo>
                  <a:pt x="2" y="227"/>
                </a:lnTo>
                <a:lnTo>
                  <a:pt x="0" y="219"/>
                </a:lnTo>
                <a:lnTo>
                  <a:pt x="0" y="213"/>
                </a:lnTo>
                <a:lnTo>
                  <a:pt x="0" y="210"/>
                </a:lnTo>
                <a:lnTo>
                  <a:pt x="2" y="206"/>
                </a:lnTo>
                <a:lnTo>
                  <a:pt x="5" y="204"/>
                </a:lnTo>
                <a:lnTo>
                  <a:pt x="9" y="204"/>
                </a:lnTo>
                <a:lnTo>
                  <a:pt x="11" y="202"/>
                </a:lnTo>
                <a:lnTo>
                  <a:pt x="15" y="202"/>
                </a:lnTo>
                <a:lnTo>
                  <a:pt x="19" y="202"/>
                </a:lnTo>
                <a:lnTo>
                  <a:pt x="25" y="200"/>
                </a:lnTo>
                <a:lnTo>
                  <a:pt x="28" y="200"/>
                </a:lnTo>
                <a:lnTo>
                  <a:pt x="34" y="200"/>
                </a:lnTo>
                <a:lnTo>
                  <a:pt x="40" y="200"/>
                </a:lnTo>
                <a:lnTo>
                  <a:pt x="48" y="200"/>
                </a:lnTo>
                <a:lnTo>
                  <a:pt x="55" y="200"/>
                </a:lnTo>
                <a:lnTo>
                  <a:pt x="63" y="200"/>
                </a:lnTo>
                <a:lnTo>
                  <a:pt x="71" y="200"/>
                </a:lnTo>
                <a:lnTo>
                  <a:pt x="80" y="200"/>
                </a:lnTo>
                <a:lnTo>
                  <a:pt x="92" y="198"/>
                </a:lnTo>
                <a:lnTo>
                  <a:pt x="101" y="196"/>
                </a:lnTo>
                <a:lnTo>
                  <a:pt x="113" y="194"/>
                </a:lnTo>
                <a:lnTo>
                  <a:pt x="126" y="192"/>
                </a:lnTo>
                <a:lnTo>
                  <a:pt x="140" y="190"/>
                </a:lnTo>
                <a:lnTo>
                  <a:pt x="153" y="189"/>
                </a:lnTo>
                <a:lnTo>
                  <a:pt x="167" y="185"/>
                </a:lnTo>
                <a:lnTo>
                  <a:pt x="184" y="183"/>
                </a:lnTo>
                <a:lnTo>
                  <a:pt x="199" y="179"/>
                </a:lnTo>
                <a:lnTo>
                  <a:pt x="217" y="175"/>
                </a:lnTo>
                <a:lnTo>
                  <a:pt x="236" y="169"/>
                </a:lnTo>
                <a:lnTo>
                  <a:pt x="255" y="166"/>
                </a:lnTo>
                <a:lnTo>
                  <a:pt x="274" y="162"/>
                </a:lnTo>
                <a:lnTo>
                  <a:pt x="293" y="156"/>
                </a:lnTo>
                <a:lnTo>
                  <a:pt x="309" y="150"/>
                </a:lnTo>
                <a:lnTo>
                  <a:pt x="326" y="146"/>
                </a:lnTo>
                <a:lnTo>
                  <a:pt x="341" y="141"/>
                </a:lnTo>
                <a:lnTo>
                  <a:pt x="357" y="135"/>
                </a:lnTo>
                <a:lnTo>
                  <a:pt x="370" y="129"/>
                </a:lnTo>
                <a:lnTo>
                  <a:pt x="384" y="125"/>
                </a:lnTo>
                <a:lnTo>
                  <a:pt x="397" y="119"/>
                </a:lnTo>
                <a:lnTo>
                  <a:pt x="408" y="114"/>
                </a:lnTo>
                <a:lnTo>
                  <a:pt x="420" y="108"/>
                </a:lnTo>
                <a:lnTo>
                  <a:pt x="430" y="102"/>
                </a:lnTo>
                <a:lnTo>
                  <a:pt x="439" y="94"/>
                </a:lnTo>
                <a:lnTo>
                  <a:pt x="449" y="89"/>
                </a:lnTo>
                <a:lnTo>
                  <a:pt x="455" y="81"/>
                </a:lnTo>
                <a:lnTo>
                  <a:pt x="462" y="75"/>
                </a:lnTo>
                <a:lnTo>
                  <a:pt x="468" y="6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22"/>
                                        </p:tgtEl>
                                        <p:attrNameLst>
                                          <p:attrName>style.visibility</p:attrName>
                                        </p:attrNameLst>
                                      </p:cBhvr>
                                      <p:to>
                                        <p:strVal val="visible"/>
                                      </p:to>
                                    </p:set>
                                    <p:anim calcmode="lin" valueType="num">
                                      <p:cBhvr additive="base">
                                        <p:cTn id="547" dur="500" fill="hold"/>
                                        <p:tgtEl>
                                          <p:spTgt spid="222"/>
                                        </p:tgtEl>
                                        <p:attrNameLst>
                                          <p:attrName>ppt_x</p:attrName>
                                        </p:attrNameLst>
                                      </p:cBhvr>
                                      <p:tavLst>
                                        <p:tav tm="0">
                                          <p:val>
                                            <p:strVal val="0-#ppt_w/2"/>
                                          </p:val>
                                        </p:tav>
                                        <p:tav tm="100000">
                                          <p:val>
                                            <p:strVal val="#ppt_x"/>
                                          </p:val>
                                        </p:tav>
                                      </p:tavLst>
                                    </p:anim>
                                    <p:anim calcmode="lin" valueType="num">
                                      <p:cBhvr additive="base">
                                        <p:cTn id="548"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34"/>
                                        </p:tgtEl>
                                        <p:attrNameLst>
                                          <p:attrName>style.visibility</p:attrName>
                                        </p:attrNameLst>
                                      </p:cBhvr>
                                      <p:to>
                                        <p:strVal val="visible"/>
                                      </p:to>
                                    </p:set>
                                    <p:animEffect filter="wipe(left)" transition="in">
                                      <p:cBhvr additive="repl">
                                        <p:cTn id="553" dur="500"/>
                                        <p:tgtEl>
                                          <p:spTgt spid="234"/>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33"/>
                                        </p:tgtEl>
                                        <p:attrNameLst>
                                          <p:attrName>style.visibility</p:attrName>
                                        </p:attrNameLst>
                                      </p:cBhvr>
                                      <p:to>
                                        <p:strVal val="visible"/>
                                      </p:to>
                                    </p:set>
                                    <p:animEffect filter="wipe(left)" transition="in">
                                      <p:cBhvr additive="repl">
                                        <p:cTn id="558" dur="500"/>
                                        <p:tgtEl>
                                          <p:spTgt spid="233"/>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1">
                                  <p:stCondLst>
                                    <p:cond delay="0"/>
                                  </p:stCondLst>
                                  <p:childTnLst>
                                    <p:set>
                                      <p:cBhvr>
                                        <p:cTn id="562" dur="1" fill="hold">
                                          <p:stCondLst>
                                            <p:cond delay="0"/>
                                          </p:stCondLst>
                                        </p:cTn>
                                        <p:tgtEl>
                                          <p:spTgt spid="232"/>
                                        </p:tgtEl>
                                        <p:attrNameLst>
                                          <p:attrName>style.visibility</p:attrName>
                                        </p:attrNameLst>
                                      </p:cBhvr>
                                      <p:to>
                                        <p:strVal val="visible"/>
                                      </p:to>
                                    </p:set>
                                    <p:animEffect filter="wipe(up)" transition="in">
                                      <p:cBhvr additive="repl">
                                        <p:cTn id="563" dur="500"/>
                                        <p:tgtEl>
                                          <p:spTgt spid="232"/>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1">
                                  <p:stCondLst>
                                    <p:cond delay="0"/>
                                  </p:stCondLst>
                                  <p:childTnLst>
                                    <p:set>
                                      <p:cBhvr>
                                        <p:cTn id="567" dur="1" fill="hold">
                                          <p:stCondLst>
                                            <p:cond delay="0"/>
                                          </p:stCondLst>
                                        </p:cTn>
                                        <p:tgtEl>
                                          <p:spTgt spid="231"/>
                                        </p:tgtEl>
                                        <p:attrNameLst>
                                          <p:attrName>style.visibility</p:attrName>
                                        </p:attrNameLst>
                                      </p:cBhvr>
                                      <p:to>
                                        <p:strVal val="visible"/>
                                      </p:to>
                                    </p:set>
                                    <p:animEffect filter="wipe(up)" transition="in">
                                      <p:cBhvr additive="repl">
                                        <p:cTn id="568" dur="500"/>
                                        <p:tgtEl>
                                          <p:spTgt spid="231"/>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1">
                                  <p:stCondLst>
                                    <p:cond delay="0"/>
                                  </p:stCondLst>
                                  <p:childTnLst>
                                    <p:set>
                                      <p:cBhvr>
                                        <p:cTn id="572" dur="1" fill="hold">
                                          <p:stCondLst>
                                            <p:cond delay="0"/>
                                          </p:stCondLst>
                                        </p:cTn>
                                        <p:tgtEl>
                                          <p:spTgt spid="230"/>
                                        </p:tgtEl>
                                        <p:attrNameLst>
                                          <p:attrName>style.visibility</p:attrName>
                                        </p:attrNameLst>
                                      </p:cBhvr>
                                      <p:to>
                                        <p:strVal val="visible"/>
                                      </p:to>
                                    </p:set>
                                    <p:animEffect filter="wipe(up)" transition="in">
                                      <p:cBhvr additive="repl">
                                        <p:cTn id="573" dur="500"/>
                                        <p:tgtEl>
                                          <p:spTgt spid="230"/>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9"/>
                                        </p:tgtEl>
                                        <p:attrNameLst>
                                          <p:attrName>style.visibility</p:attrName>
                                        </p:attrNameLst>
                                      </p:cBhvr>
                                      <p:to>
                                        <p:strVal val="visible"/>
                                      </p:to>
                                    </p:set>
                                    <p:animEffect filter="wipe(left)" transition="in">
                                      <p:cBhvr additive="repl">
                                        <p:cTn id="578" dur="500"/>
                                        <p:tgtEl>
                                          <p:spTgt spid="229"/>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1">
                                  <p:stCondLst>
                                    <p:cond delay="0"/>
                                  </p:stCondLst>
                                  <p:childTnLst>
                                    <p:set>
                                      <p:cBhvr>
                                        <p:cTn id="582" dur="1" fill="hold">
                                          <p:stCondLst>
                                            <p:cond delay="0"/>
                                          </p:stCondLst>
                                        </p:cTn>
                                        <p:tgtEl>
                                          <p:spTgt spid="228"/>
                                        </p:tgtEl>
                                        <p:attrNameLst>
                                          <p:attrName>style.visibility</p:attrName>
                                        </p:attrNameLst>
                                      </p:cBhvr>
                                      <p:to>
                                        <p:strVal val="visible"/>
                                      </p:to>
                                    </p:set>
                                    <p:animEffect filter="wipe(up)" transition="in">
                                      <p:cBhvr additive="repl">
                                        <p:cTn id="583" dur="500"/>
                                        <p:tgtEl>
                                          <p:spTgt spid="228"/>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2" presetSubtype="1">
                                  <p:stCondLst>
                                    <p:cond delay="0"/>
                                  </p:stCondLst>
                                  <p:childTnLst>
                                    <p:set>
                                      <p:cBhvr>
                                        <p:cTn id="587" dur="1" fill="hold">
                                          <p:stCondLst>
                                            <p:cond delay="0"/>
                                          </p:stCondLst>
                                        </p:cTn>
                                        <p:tgtEl>
                                          <p:spTgt spid="227"/>
                                        </p:tgtEl>
                                        <p:attrNameLst>
                                          <p:attrName>style.visibility</p:attrName>
                                        </p:attrNameLst>
                                      </p:cBhvr>
                                      <p:to>
                                        <p:strVal val="visible"/>
                                      </p:to>
                                    </p:set>
                                    <p:animEffect filter="wipe(up)" transition="in">
                                      <p:cBhvr additive="repl">
                                        <p:cTn id="588" dur="500"/>
                                        <p:tgtEl>
                                          <p:spTgt spid="227"/>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226"/>
                                        </p:tgtEl>
                                        <p:attrNameLst>
                                          <p:attrName>style.visibility</p:attrName>
                                        </p:attrNameLst>
                                      </p:cBhvr>
                                      <p:to>
                                        <p:strVal val="visible"/>
                                      </p:to>
                                    </p:set>
                                    <p:animEffect filter="wipe(up)" transition="in">
                                      <p:cBhvr additive="repl">
                                        <p:cTn id="593" dur="500"/>
                                        <p:tgtEl>
                                          <p:spTgt spid="226"/>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25"/>
                                        </p:tgtEl>
                                        <p:attrNameLst>
                                          <p:attrName>style.visibility</p:attrName>
                                        </p:attrNameLst>
                                      </p:cBhvr>
                                      <p:to>
                                        <p:strVal val="visible"/>
                                      </p:to>
                                    </p:set>
                                    <p:animEffect filter="wipe(left)" transition="in">
                                      <p:cBhvr additive="repl">
                                        <p:cTn id="598" dur="500"/>
                                        <p:tgtEl>
                                          <p:spTgt spid="225"/>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24"/>
                                        </p:tgtEl>
                                        <p:attrNameLst>
                                          <p:attrName>style.visibility</p:attrName>
                                        </p:attrNameLst>
                                      </p:cBhvr>
                                      <p:to>
                                        <p:strVal val="visible"/>
                                      </p:to>
                                    </p:set>
                                    <p:animEffect filter="wipe(left)" transition="in">
                                      <p:cBhvr additive="repl">
                                        <p:cTn id="603" dur="500"/>
                                        <p:tgtEl>
                                          <p:spTgt spid="224"/>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1">
                                  <p:stCondLst>
                                    <p:cond delay="0"/>
                                  </p:stCondLst>
                                  <p:childTnLst>
                                    <p:set>
                                      <p:cBhvr>
                                        <p:cTn id="607" dur="1" fill="hold">
                                          <p:stCondLst>
                                            <p:cond delay="0"/>
                                          </p:stCondLst>
                                        </p:cTn>
                                        <p:tgtEl>
                                          <p:spTgt spid="223"/>
                                        </p:tgtEl>
                                        <p:attrNameLst>
                                          <p:attrName>style.visibility</p:attrName>
                                        </p:attrNameLst>
                                      </p:cBhvr>
                                      <p:to>
                                        <p:strVal val="visible"/>
                                      </p:to>
                                    </p:set>
                                    <p:animEffect filter="wipe(up)" transition="in">
                                      <p:cBhvr additive="repl">
                                        <p:cTn id="608" dur="500"/>
                                        <p:tgtEl>
                                          <p:spTgt spid="223"/>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219"/>
                                        </p:tgtEl>
                                        <p:attrNameLst>
                                          <p:attrName>style.visibility</p:attrName>
                                        </p:attrNameLst>
                                      </p:cBhvr>
                                      <p:to>
                                        <p:strVal val="visible"/>
                                      </p:to>
                                    </p:set>
                                    <p:anim calcmode="lin" valueType="num">
                                      <p:cBhvr additive="repl">
                                        <p:cTn id="613" dur="500" fill="hold"/>
                                        <p:tgtEl>
                                          <p:spTgt spid="219"/>
                                        </p:tgtEl>
                                        <p:attrNameLst>
                                          <p:attrName>ppt_w</p:attrName>
                                        </p:attrNameLst>
                                      </p:cBhvr>
                                      <p:tavLst>
                                        <p:tav tm="0">
                                          <p:val>
                                            <p:fltVal val="0"/>
                                          </p:val>
                                        </p:tav>
                                        <p:tav tm="100000">
                                          <p:val>
                                            <p:strVal val="#ppt_w"/>
                                          </p:val>
                                        </p:tav>
                                      </p:tavLst>
                                    </p:anim>
                                    <p:anim calcmode="lin" valueType="num">
                                      <p:cBhvr additive="repl">
                                        <p:cTn id="614" dur="500" fill="hold"/>
                                        <p:tgtEl>
                                          <p:spTgt spid="219"/>
                                        </p:tgtEl>
                                        <p:attrNameLst>
                                          <p:attrName>ppt_h</p:attrName>
                                        </p:attrNameLst>
                                      </p:cBhvr>
                                      <p:tavLst>
                                        <p:tav tm="0">
                                          <p:val>
                                            <p:fltVal val="0"/>
                                          </p:val>
                                        </p:tav>
                                        <p:tav tm="100000">
                                          <p:val>
                                            <p:strVal val="#ppt_h"/>
                                          </p:val>
                                        </p:tav>
                                      </p:tavLst>
                                    </p:anim>
                                    <p:animEffect filter="fade" transition="in">
                                      <p:cBhvr additive="repl">
                                        <p:cTn id="61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煎</a:t>
            </a:r>
            <a:endParaRPr b="0" lang="en-US" sz="8000" spc="-1" strike="noStrike">
              <a:solidFill>
                <a:srgbClr val="000000"/>
              </a:solidFill>
              <a:latin typeface="Calibri"/>
            </a:endParaRPr>
          </a:p>
        </p:txBody>
      </p:sp>
      <p:graphicFrame>
        <p:nvGraphicFramePr>
          <p:cNvPr id="236"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37" name="组合 3"/>
          <p:cNvGrpSpPr/>
          <p:nvPr/>
        </p:nvGrpSpPr>
        <p:grpSpPr>
          <a:xfrm>
            <a:off x="1198440" y="3975120"/>
            <a:ext cx="2840040" cy="1621080"/>
            <a:chOff x="1198440" y="3975120"/>
            <a:chExt cx="2840040" cy="1621080"/>
          </a:xfrm>
        </p:grpSpPr>
        <p:pic>
          <p:nvPicPr>
            <p:cNvPr id="238" name="图示 4" descr=""/>
            <p:cNvPicPr/>
            <p:nvPr/>
          </p:nvPicPr>
          <p:blipFill>
            <a:blip r:embed="rId1"/>
            <a:stretch/>
          </p:blipFill>
          <p:spPr>
            <a:xfrm>
              <a:off x="1198440" y="3975120"/>
              <a:ext cx="2840040" cy="1571760"/>
            </a:xfrm>
            <a:prstGeom prst="rect">
              <a:avLst/>
            </a:prstGeom>
            <a:ln w="0">
              <a:noFill/>
            </a:ln>
          </p:spPr>
        </p:pic>
        <p:sp>
          <p:nvSpPr>
            <p:cNvPr id="239" name="矩形 2"/>
            <p:cNvSpPr/>
            <p:nvPr/>
          </p:nvSpPr>
          <p:spPr>
            <a:xfrm>
              <a:off x="1208160" y="4587840"/>
              <a:ext cx="28152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前”上横宜长。</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240" name="矩形 2"/>
          <p:cNvSpPr/>
          <p:nvPr/>
        </p:nvSpPr>
        <p:spPr>
          <a:xfrm>
            <a:off x="2116080" y="1855800"/>
            <a:ext cx="169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jiān</a:t>
            </a:r>
            <a:endParaRPr b="0" lang="en-US" sz="4800" spc="-1" strike="noStrike">
              <a:solidFill>
                <a:srgbClr val="000000"/>
              </a:solidFill>
              <a:latin typeface="Calibri"/>
            </a:endParaRPr>
          </a:p>
        </p:txBody>
      </p:sp>
      <p:sp>
        <p:nvSpPr>
          <p:cNvPr id="241" name="Freeform 137"/>
          <p:cNvSpPr/>
          <p:nvPr/>
        </p:nvSpPr>
        <p:spPr>
          <a:xfrm>
            <a:off x="7412040" y="4498920"/>
            <a:ext cx="452520" cy="430200"/>
          </a:xfrm>
          <a:custGeom>
            <a:avLst/>
            <a:gdLst/>
            <a:ahLst/>
            <a:rect l="l" t="t" r="r" b="b"/>
            <a:pathLst>
              <a:path w="568" h="544">
                <a:moveTo>
                  <a:pt x="462" y="217"/>
                </a:moveTo>
                <a:lnTo>
                  <a:pt x="474" y="231"/>
                </a:lnTo>
                <a:lnTo>
                  <a:pt x="486" y="244"/>
                </a:lnTo>
                <a:lnTo>
                  <a:pt x="497" y="259"/>
                </a:lnTo>
                <a:lnTo>
                  <a:pt x="507" y="273"/>
                </a:lnTo>
                <a:lnTo>
                  <a:pt x="516" y="286"/>
                </a:lnTo>
                <a:lnTo>
                  <a:pt x="524" y="298"/>
                </a:lnTo>
                <a:lnTo>
                  <a:pt x="533" y="311"/>
                </a:lnTo>
                <a:lnTo>
                  <a:pt x="539" y="325"/>
                </a:lnTo>
                <a:lnTo>
                  <a:pt x="547" y="338"/>
                </a:lnTo>
                <a:lnTo>
                  <a:pt x="553" y="350"/>
                </a:lnTo>
                <a:lnTo>
                  <a:pt x="557" y="363"/>
                </a:lnTo>
                <a:lnTo>
                  <a:pt x="560" y="375"/>
                </a:lnTo>
                <a:lnTo>
                  <a:pt x="564" y="388"/>
                </a:lnTo>
                <a:lnTo>
                  <a:pt x="566" y="400"/>
                </a:lnTo>
                <a:lnTo>
                  <a:pt x="568" y="411"/>
                </a:lnTo>
                <a:lnTo>
                  <a:pt x="568" y="423"/>
                </a:lnTo>
                <a:lnTo>
                  <a:pt x="568" y="434"/>
                </a:lnTo>
                <a:lnTo>
                  <a:pt x="568" y="444"/>
                </a:lnTo>
                <a:lnTo>
                  <a:pt x="568" y="453"/>
                </a:lnTo>
                <a:lnTo>
                  <a:pt x="568" y="463"/>
                </a:lnTo>
                <a:lnTo>
                  <a:pt x="568" y="473"/>
                </a:lnTo>
                <a:lnTo>
                  <a:pt x="568" y="480"/>
                </a:lnTo>
                <a:lnTo>
                  <a:pt x="566" y="488"/>
                </a:lnTo>
                <a:lnTo>
                  <a:pt x="566" y="494"/>
                </a:lnTo>
                <a:lnTo>
                  <a:pt x="566" y="501"/>
                </a:lnTo>
                <a:lnTo>
                  <a:pt x="564" y="507"/>
                </a:lnTo>
                <a:lnTo>
                  <a:pt x="564" y="513"/>
                </a:lnTo>
                <a:lnTo>
                  <a:pt x="562" y="517"/>
                </a:lnTo>
                <a:lnTo>
                  <a:pt x="560" y="520"/>
                </a:lnTo>
                <a:lnTo>
                  <a:pt x="558" y="524"/>
                </a:lnTo>
                <a:lnTo>
                  <a:pt x="557" y="528"/>
                </a:lnTo>
                <a:lnTo>
                  <a:pt x="555" y="530"/>
                </a:lnTo>
                <a:lnTo>
                  <a:pt x="549" y="534"/>
                </a:lnTo>
                <a:lnTo>
                  <a:pt x="543" y="538"/>
                </a:lnTo>
                <a:lnTo>
                  <a:pt x="535" y="540"/>
                </a:lnTo>
                <a:lnTo>
                  <a:pt x="528" y="542"/>
                </a:lnTo>
                <a:lnTo>
                  <a:pt x="522" y="542"/>
                </a:lnTo>
                <a:lnTo>
                  <a:pt x="514" y="542"/>
                </a:lnTo>
                <a:lnTo>
                  <a:pt x="509" y="544"/>
                </a:lnTo>
                <a:lnTo>
                  <a:pt x="503" y="544"/>
                </a:lnTo>
                <a:lnTo>
                  <a:pt x="497" y="542"/>
                </a:lnTo>
                <a:lnTo>
                  <a:pt x="491" y="540"/>
                </a:lnTo>
                <a:lnTo>
                  <a:pt x="484" y="536"/>
                </a:lnTo>
                <a:lnTo>
                  <a:pt x="476" y="532"/>
                </a:lnTo>
                <a:lnTo>
                  <a:pt x="466" y="524"/>
                </a:lnTo>
                <a:lnTo>
                  <a:pt x="457" y="517"/>
                </a:lnTo>
                <a:lnTo>
                  <a:pt x="445" y="509"/>
                </a:lnTo>
                <a:lnTo>
                  <a:pt x="434" y="497"/>
                </a:lnTo>
                <a:lnTo>
                  <a:pt x="420" y="486"/>
                </a:lnTo>
                <a:lnTo>
                  <a:pt x="407" y="473"/>
                </a:lnTo>
                <a:lnTo>
                  <a:pt x="391" y="457"/>
                </a:lnTo>
                <a:lnTo>
                  <a:pt x="376" y="442"/>
                </a:lnTo>
                <a:lnTo>
                  <a:pt x="361" y="425"/>
                </a:lnTo>
                <a:lnTo>
                  <a:pt x="343" y="405"/>
                </a:lnTo>
                <a:lnTo>
                  <a:pt x="324" y="384"/>
                </a:lnTo>
                <a:lnTo>
                  <a:pt x="305" y="363"/>
                </a:lnTo>
                <a:lnTo>
                  <a:pt x="284" y="340"/>
                </a:lnTo>
                <a:lnTo>
                  <a:pt x="263" y="319"/>
                </a:lnTo>
                <a:lnTo>
                  <a:pt x="244" y="298"/>
                </a:lnTo>
                <a:lnTo>
                  <a:pt x="224" y="279"/>
                </a:lnTo>
                <a:lnTo>
                  <a:pt x="207" y="259"/>
                </a:lnTo>
                <a:lnTo>
                  <a:pt x="190" y="242"/>
                </a:lnTo>
                <a:lnTo>
                  <a:pt x="173" y="225"/>
                </a:lnTo>
                <a:lnTo>
                  <a:pt x="157" y="208"/>
                </a:lnTo>
                <a:lnTo>
                  <a:pt x="144" y="192"/>
                </a:lnTo>
                <a:lnTo>
                  <a:pt x="130" y="179"/>
                </a:lnTo>
                <a:lnTo>
                  <a:pt x="117" y="165"/>
                </a:lnTo>
                <a:lnTo>
                  <a:pt x="105" y="152"/>
                </a:lnTo>
                <a:lnTo>
                  <a:pt x="96" y="140"/>
                </a:lnTo>
                <a:lnTo>
                  <a:pt x="86" y="129"/>
                </a:lnTo>
                <a:lnTo>
                  <a:pt x="77" y="119"/>
                </a:lnTo>
                <a:lnTo>
                  <a:pt x="69" y="110"/>
                </a:lnTo>
                <a:lnTo>
                  <a:pt x="59" y="102"/>
                </a:lnTo>
                <a:lnTo>
                  <a:pt x="50" y="96"/>
                </a:lnTo>
                <a:lnTo>
                  <a:pt x="42" y="89"/>
                </a:lnTo>
                <a:lnTo>
                  <a:pt x="34" y="83"/>
                </a:lnTo>
                <a:lnTo>
                  <a:pt x="29" y="75"/>
                </a:lnTo>
                <a:lnTo>
                  <a:pt x="21" y="69"/>
                </a:lnTo>
                <a:lnTo>
                  <a:pt x="17" y="64"/>
                </a:lnTo>
                <a:lnTo>
                  <a:pt x="11" y="58"/>
                </a:lnTo>
                <a:lnTo>
                  <a:pt x="8" y="52"/>
                </a:lnTo>
                <a:lnTo>
                  <a:pt x="4" y="48"/>
                </a:lnTo>
                <a:lnTo>
                  <a:pt x="2" y="43"/>
                </a:lnTo>
                <a:lnTo>
                  <a:pt x="0" y="39"/>
                </a:lnTo>
                <a:lnTo>
                  <a:pt x="0" y="35"/>
                </a:lnTo>
                <a:lnTo>
                  <a:pt x="0" y="31"/>
                </a:lnTo>
                <a:lnTo>
                  <a:pt x="2" y="27"/>
                </a:lnTo>
                <a:lnTo>
                  <a:pt x="4" y="25"/>
                </a:lnTo>
                <a:lnTo>
                  <a:pt x="4" y="20"/>
                </a:lnTo>
                <a:lnTo>
                  <a:pt x="6" y="16"/>
                </a:lnTo>
                <a:lnTo>
                  <a:pt x="9" y="12"/>
                </a:lnTo>
                <a:lnTo>
                  <a:pt x="15" y="8"/>
                </a:lnTo>
                <a:lnTo>
                  <a:pt x="17" y="6"/>
                </a:lnTo>
                <a:lnTo>
                  <a:pt x="21" y="6"/>
                </a:lnTo>
                <a:lnTo>
                  <a:pt x="27" y="4"/>
                </a:lnTo>
                <a:lnTo>
                  <a:pt x="31" y="2"/>
                </a:lnTo>
                <a:lnTo>
                  <a:pt x="36" y="2"/>
                </a:lnTo>
                <a:lnTo>
                  <a:pt x="42" y="2"/>
                </a:lnTo>
                <a:lnTo>
                  <a:pt x="50" y="0"/>
                </a:lnTo>
                <a:lnTo>
                  <a:pt x="56" y="0"/>
                </a:lnTo>
                <a:lnTo>
                  <a:pt x="71" y="2"/>
                </a:lnTo>
                <a:lnTo>
                  <a:pt x="88" y="4"/>
                </a:lnTo>
                <a:lnTo>
                  <a:pt x="98" y="4"/>
                </a:lnTo>
                <a:lnTo>
                  <a:pt x="107" y="6"/>
                </a:lnTo>
                <a:lnTo>
                  <a:pt x="117" y="8"/>
                </a:lnTo>
                <a:lnTo>
                  <a:pt x="129" y="12"/>
                </a:lnTo>
                <a:lnTo>
                  <a:pt x="140" y="14"/>
                </a:lnTo>
                <a:lnTo>
                  <a:pt x="152" y="18"/>
                </a:lnTo>
                <a:lnTo>
                  <a:pt x="165" y="21"/>
                </a:lnTo>
                <a:lnTo>
                  <a:pt x="178" y="25"/>
                </a:lnTo>
                <a:lnTo>
                  <a:pt x="192" y="31"/>
                </a:lnTo>
                <a:lnTo>
                  <a:pt x="207" y="37"/>
                </a:lnTo>
                <a:lnTo>
                  <a:pt x="223" y="43"/>
                </a:lnTo>
                <a:lnTo>
                  <a:pt x="240" y="50"/>
                </a:lnTo>
                <a:lnTo>
                  <a:pt x="257" y="56"/>
                </a:lnTo>
                <a:lnTo>
                  <a:pt x="272" y="64"/>
                </a:lnTo>
                <a:lnTo>
                  <a:pt x="290" y="71"/>
                </a:lnTo>
                <a:lnTo>
                  <a:pt x="305" y="79"/>
                </a:lnTo>
                <a:lnTo>
                  <a:pt x="319" y="87"/>
                </a:lnTo>
                <a:lnTo>
                  <a:pt x="334" y="96"/>
                </a:lnTo>
                <a:lnTo>
                  <a:pt x="347" y="106"/>
                </a:lnTo>
                <a:lnTo>
                  <a:pt x="361" y="115"/>
                </a:lnTo>
                <a:lnTo>
                  <a:pt x="374" y="125"/>
                </a:lnTo>
                <a:lnTo>
                  <a:pt x="388" y="137"/>
                </a:lnTo>
                <a:lnTo>
                  <a:pt x="401" y="148"/>
                </a:lnTo>
                <a:lnTo>
                  <a:pt x="414" y="162"/>
                </a:lnTo>
                <a:lnTo>
                  <a:pt x="426" y="173"/>
                </a:lnTo>
                <a:lnTo>
                  <a:pt x="439" y="188"/>
                </a:lnTo>
                <a:lnTo>
                  <a:pt x="451" y="202"/>
                </a:lnTo>
                <a:lnTo>
                  <a:pt x="462" y="2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38"/>
          <p:cNvSpPr/>
          <p:nvPr/>
        </p:nvSpPr>
        <p:spPr>
          <a:xfrm>
            <a:off x="6834240" y="4502160"/>
            <a:ext cx="270000" cy="351000"/>
          </a:xfrm>
          <a:custGeom>
            <a:avLst/>
            <a:gdLst/>
            <a:ahLst/>
            <a:rect l="l" t="t" r="r" b="b"/>
            <a:pathLst>
              <a:path w="339" h="444">
                <a:moveTo>
                  <a:pt x="299" y="430"/>
                </a:moveTo>
                <a:lnTo>
                  <a:pt x="293" y="434"/>
                </a:lnTo>
                <a:lnTo>
                  <a:pt x="287" y="438"/>
                </a:lnTo>
                <a:lnTo>
                  <a:pt x="280" y="440"/>
                </a:lnTo>
                <a:lnTo>
                  <a:pt x="272" y="442"/>
                </a:lnTo>
                <a:lnTo>
                  <a:pt x="266" y="442"/>
                </a:lnTo>
                <a:lnTo>
                  <a:pt x="259" y="442"/>
                </a:lnTo>
                <a:lnTo>
                  <a:pt x="251" y="444"/>
                </a:lnTo>
                <a:lnTo>
                  <a:pt x="247" y="444"/>
                </a:lnTo>
                <a:lnTo>
                  <a:pt x="241" y="442"/>
                </a:lnTo>
                <a:lnTo>
                  <a:pt x="236" y="440"/>
                </a:lnTo>
                <a:lnTo>
                  <a:pt x="230" y="438"/>
                </a:lnTo>
                <a:lnTo>
                  <a:pt x="224" y="434"/>
                </a:lnTo>
                <a:lnTo>
                  <a:pt x="218" y="428"/>
                </a:lnTo>
                <a:lnTo>
                  <a:pt x="211" y="422"/>
                </a:lnTo>
                <a:lnTo>
                  <a:pt x="205" y="415"/>
                </a:lnTo>
                <a:lnTo>
                  <a:pt x="197" y="407"/>
                </a:lnTo>
                <a:lnTo>
                  <a:pt x="190" y="397"/>
                </a:lnTo>
                <a:lnTo>
                  <a:pt x="182" y="386"/>
                </a:lnTo>
                <a:lnTo>
                  <a:pt x="174" y="374"/>
                </a:lnTo>
                <a:lnTo>
                  <a:pt x="165" y="361"/>
                </a:lnTo>
                <a:lnTo>
                  <a:pt x="157" y="348"/>
                </a:lnTo>
                <a:lnTo>
                  <a:pt x="147" y="332"/>
                </a:lnTo>
                <a:lnTo>
                  <a:pt x="138" y="315"/>
                </a:lnTo>
                <a:lnTo>
                  <a:pt x="128" y="298"/>
                </a:lnTo>
                <a:lnTo>
                  <a:pt x="117" y="282"/>
                </a:lnTo>
                <a:lnTo>
                  <a:pt x="105" y="267"/>
                </a:lnTo>
                <a:lnTo>
                  <a:pt x="94" y="252"/>
                </a:lnTo>
                <a:lnTo>
                  <a:pt x="84" y="236"/>
                </a:lnTo>
                <a:lnTo>
                  <a:pt x="74" y="223"/>
                </a:lnTo>
                <a:lnTo>
                  <a:pt x="67" y="209"/>
                </a:lnTo>
                <a:lnTo>
                  <a:pt x="57" y="196"/>
                </a:lnTo>
                <a:lnTo>
                  <a:pt x="49" y="183"/>
                </a:lnTo>
                <a:lnTo>
                  <a:pt x="42" y="169"/>
                </a:lnTo>
                <a:lnTo>
                  <a:pt x="36" y="158"/>
                </a:lnTo>
                <a:lnTo>
                  <a:pt x="30" y="144"/>
                </a:lnTo>
                <a:lnTo>
                  <a:pt x="24" y="135"/>
                </a:lnTo>
                <a:lnTo>
                  <a:pt x="21" y="123"/>
                </a:lnTo>
                <a:lnTo>
                  <a:pt x="17" y="111"/>
                </a:lnTo>
                <a:lnTo>
                  <a:pt x="13" y="102"/>
                </a:lnTo>
                <a:lnTo>
                  <a:pt x="11" y="94"/>
                </a:lnTo>
                <a:lnTo>
                  <a:pt x="5" y="81"/>
                </a:lnTo>
                <a:lnTo>
                  <a:pt x="3" y="67"/>
                </a:lnTo>
                <a:lnTo>
                  <a:pt x="1" y="54"/>
                </a:lnTo>
                <a:lnTo>
                  <a:pt x="0" y="42"/>
                </a:lnTo>
                <a:lnTo>
                  <a:pt x="1" y="31"/>
                </a:lnTo>
                <a:lnTo>
                  <a:pt x="3" y="23"/>
                </a:lnTo>
                <a:lnTo>
                  <a:pt x="3" y="17"/>
                </a:lnTo>
                <a:lnTo>
                  <a:pt x="5" y="16"/>
                </a:lnTo>
                <a:lnTo>
                  <a:pt x="7" y="12"/>
                </a:lnTo>
                <a:lnTo>
                  <a:pt x="11" y="10"/>
                </a:lnTo>
                <a:lnTo>
                  <a:pt x="15" y="4"/>
                </a:lnTo>
                <a:lnTo>
                  <a:pt x="23" y="2"/>
                </a:lnTo>
                <a:lnTo>
                  <a:pt x="30" y="0"/>
                </a:lnTo>
                <a:lnTo>
                  <a:pt x="42" y="0"/>
                </a:lnTo>
                <a:lnTo>
                  <a:pt x="48" y="0"/>
                </a:lnTo>
                <a:lnTo>
                  <a:pt x="53" y="0"/>
                </a:lnTo>
                <a:lnTo>
                  <a:pt x="59" y="0"/>
                </a:lnTo>
                <a:lnTo>
                  <a:pt x="67" y="2"/>
                </a:lnTo>
                <a:lnTo>
                  <a:pt x="74" y="4"/>
                </a:lnTo>
                <a:lnTo>
                  <a:pt x="84" y="4"/>
                </a:lnTo>
                <a:lnTo>
                  <a:pt x="92" y="6"/>
                </a:lnTo>
                <a:lnTo>
                  <a:pt x="101" y="10"/>
                </a:lnTo>
                <a:lnTo>
                  <a:pt x="109" y="14"/>
                </a:lnTo>
                <a:lnTo>
                  <a:pt x="117" y="19"/>
                </a:lnTo>
                <a:lnTo>
                  <a:pt x="126" y="25"/>
                </a:lnTo>
                <a:lnTo>
                  <a:pt x="134" y="31"/>
                </a:lnTo>
                <a:lnTo>
                  <a:pt x="143" y="39"/>
                </a:lnTo>
                <a:lnTo>
                  <a:pt x="151" y="46"/>
                </a:lnTo>
                <a:lnTo>
                  <a:pt x="170" y="62"/>
                </a:lnTo>
                <a:lnTo>
                  <a:pt x="191" y="79"/>
                </a:lnTo>
                <a:lnTo>
                  <a:pt x="213" y="98"/>
                </a:lnTo>
                <a:lnTo>
                  <a:pt x="236" y="119"/>
                </a:lnTo>
                <a:lnTo>
                  <a:pt x="261" y="142"/>
                </a:lnTo>
                <a:lnTo>
                  <a:pt x="268" y="152"/>
                </a:lnTo>
                <a:lnTo>
                  <a:pt x="278" y="163"/>
                </a:lnTo>
                <a:lnTo>
                  <a:pt x="286" y="175"/>
                </a:lnTo>
                <a:lnTo>
                  <a:pt x="293" y="186"/>
                </a:lnTo>
                <a:lnTo>
                  <a:pt x="301" y="198"/>
                </a:lnTo>
                <a:lnTo>
                  <a:pt x="307" y="209"/>
                </a:lnTo>
                <a:lnTo>
                  <a:pt x="312" y="221"/>
                </a:lnTo>
                <a:lnTo>
                  <a:pt x="318" y="232"/>
                </a:lnTo>
                <a:lnTo>
                  <a:pt x="324" y="244"/>
                </a:lnTo>
                <a:lnTo>
                  <a:pt x="328" y="254"/>
                </a:lnTo>
                <a:lnTo>
                  <a:pt x="330" y="265"/>
                </a:lnTo>
                <a:lnTo>
                  <a:pt x="333" y="277"/>
                </a:lnTo>
                <a:lnTo>
                  <a:pt x="335" y="288"/>
                </a:lnTo>
                <a:lnTo>
                  <a:pt x="337" y="300"/>
                </a:lnTo>
                <a:lnTo>
                  <a:pt x="337" y="311"/>
                </a:lnTo>
                <a:lnTo>
                  <a:pt x="339" y="323"/>
                </a:lnTo>
                <a:lnTo>
                  <a:pt x="337" y="332"/>
                </a:lnTo>
                <a:lnTo>
                  <a:pt x="337" y="344"/>
                </a:lnTo>
                <a:lnTo>
                  <a:pt x="337" y="353"/>
                </a:lnTo>
                <a:lnTo>
                  <a:pt x="335" y="363"/>
                </a:lnTo>
                <a:lnTo>
                  <a:pt x="335" y="371"/>
                </a:lnTo>
                <a:lnTo>
                  <a:pt x="333" y="380"/>
                </a:lnTo>
                <a:lnTo>
                  <a:pt x="332" y="388"/>
                </a:lnTo>
                <a:lnTo>
                  <a:pt x="328" y="394"/>
                </a:lnTo>
                <a:lnTo>
                  <a:pt x="326" y="401"/>
                </a:lnTo>
                <a:lnTo>
                  <a:pt x="324" y="407"/>
                </a:lnTo>
                <a:lnTo>
                  <a:pt x="320" y="411"/>
                </a:lnTo>
                <a:lnTo>
                  <a:pt x="316" y="417"/>
                </a:lnTo>
                <a:lnTo>
                  <a:pt x="312" y="421"/>
                </a:lnTo>
                <a:lnTo>
                  <a:pt x="309" y="424"/>
                </a:lnTo>
                <a:lnTo>
                  <a:pt x="305" y="428"/>
                </a:lnTo>
                <a:lnTo>
                  <a:pt x="299" y="43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139"/>
          <p:cNvSpPr/>
          <p:nvPr/>
        </p:nvSpPr>
        <p:spPr>
          <a:xfrm>
            <a:off x="6292800" y="4538520"/>
            <a:ext cx="260280" cy="320760"/>
          </a:xfrm>
          <a:custGeom>
            <a:avLst/>
            <a:gdLst/>
            <a:ahLst/>
            <a:rect l="l" t="t" r="r" b="b"/>
            <a:pathLst>
              <a:path w="328" h="405">
                <a:moveTo>
                  <a:pt x="10" y="96"/>
                </a:moveTo>
                <a:lnTo>
                  <a:pt x="8" y="85"/>
                </a:lnTo>
                <a:lnTo>
                  <a:pt x="6" y="75"/>
                </a:lnTo>
                <a:lnTo>
                  <a:pt x="4" y="65"/>
                </a:lnTo>
                <a:lnTo>
                  <a:pt x="2" y="56"/>
                </a:lnTo>
                <a:lnTo>
                  <a:pt x="0" y="48"/>
                </a:lnTo>
                <a:lnTo>
                  <a:pt x="0" y="42"/>
                </a:lnTo>
                <a:lnTo>
                  <a:pt x="0" y="35"/>
                </a:lnTo>
                <a:lnTo>
                  <a:pt x="0" y="29"/>
                </a:lnTo>
                <a:lnTo>
                  <a:pt x="0" y="23"/>
                </a:lnTo>
                <a:lnTo>
                  <a:pt x="0" y="19"/>
                </a:lnTo>
                <a:lnTo>
                  <a:pt x="0" y="16"/>
                </a:lnTo>
                <a:lnTo>
                  <a:pt x="2" y="12"/>
                </a:lnTo>
                <a:lnTo>
                  <a:pt x="6" y="4"/>
                </a:lnTo>
                <a:lnTo>
                  <a:pt x="10" y="0"/>
                </a:lnTo>
                <a:lnTo>
                  <a:pt x="12" y="0"/>
                </a:lnTo>
                <a:lnTo>
                  <a:pt x="15" y="0"/>
                </a:lnTo>
                <a:lnTo>
                  <a:pt x="19" y="0"/>
                </a:lnTo>
                <a:lnTo>
                  <a:pt x="23" y="2"/>
                </a:lnTo>
                <a:lnTo>
                  <a:pt x="29" y="2"/>
                </a:lnTo>
                <a:lnTo>
                  <a:pt x="35" y="4"/>
                </a:lnTo>
                <a:lnTo>
                  <a:pt x="40" y="6"/>
                </a:lnTo>
                <a:lnTo>
                  <a:pt x="46" y="8"/>
                </a:lnTo>
                <a:lnTo>
                  <a:pt x="62" y="14"/>
                </a:lnTo>
                <a:lnTo>
                  <a:pt x="77" y="19"/>
                </a:lnTo>
                <a:lnTo>
                  <a:pt x="96" y="27"/>
                </a:lnTo>
                <a:lnTo>
                  <a:pt x="115" y="35"/>
                </a:lnTo>
                <a:lnTo>
                  <a:pt x="133" y="44"/>
                </a:lnTo>
                <a:lnTo>
                  <a:pt x="152" y="54"/>
                </a:lnTo>
                <a:lnTo>
                  <a:pt x="169" y="64"/>
                </a:lnTo>
                <a:lnTo>
                  <a:pt x="184" y="73"/>
                </a:lnTo>
                <a:lnTo>
                  <a:pt x="200" y="83"/>
                </a:lnTo>
                <a:lnTo>
                  <a:pt x="215" y="94"/>
                </a:lnTo>
                <a:lnTo>
                  <a:pt x="230" y="106"/>
                </a:lnTo>
                <a:lnTo>
                  <a:pt x="246" y="119"/>
                </a:lnTo>
                <a:lnTo>
                  <a:pt x="259" y="135"/>
                </a:lnTo>
                <a:lnTo>
                  <a:pt x="273" y="150"/>
                </a:lnTo>
                <a:lnTo>
                  <a:pt x="284" y="165"/>
                </a:lnTo>
                <a:lnTo>
                  <a:pt x="296" y="183"/>
                </a:lnTo>
                <a:lnTo>
                  <a:pt x="303" y="202"/>
                </a:lnTo>
                <a:lnTo>
                  <a:pt x="313" y="221"/>
                </a:lnTo>
                <a:lnTo>
                  <a:pt x="319" y="242"/>
                </a:lnTo>
                <a:lnTo>
                  <a:pt x="325" y="265"/>
                </a:lnTo>
                <a:lnTo>
                  <a:pt x="326" y="275"/>
                </a:lnTo>
                <a:lnTo>
                  <a:pt x="328" y="286"/>
                </a:lnTo>
                <a:lnTo>
                  <a:pt x="328" y="296"/>
                </a:lnTo>
                <a:lnTo>
                  <a:pt x="328" y="307"/>
                </a:lnTo>
                <a:lnTo>
                  <a:pt x="328" y="317"/>
                </a:lnTo>
                <a:lnTo>
                  <a:pt x="328" y="327"/>
                </a:lnTo>
                <a:lnTo>
                  <a:pt x="326" y="334"/>
                </a:lnTo>
                <a:lnTo>
                  <a:pt x="325" y="344"/>
                </a:lnTo>
                <a:lnTo>
                  <a:pt x="321" y="351"/>
                </a:lnTo>
                <a:lnTo>
                  <a:pt x="319" y="359"/>
                </a:lnTo>
                <a:lnTo>
                  <a:pt x="315" y="367"/>
                </a:lnTo>
                <a:lnTo>
                  <a:pt x="309" y="375"/>
                </a:lnTo>
                <a:lnTo>
                  <a:pt x="303" y="380"/>
                </a:lnTo>
                <a:lnTo>
                  <a:pt x="298" y="386"/>
                </a:lnTo>
                <a:lnTo>
                  <a:pt x="292" y="392"/>
                </a:lnTo>
                <a:lnTo>
                  <a:pt x="286" y="398"/>
                </a:lnTo>
                <a:lnTo>
                  <a:pt x="278" y="401"/>
                </a:lnTo>
                <a:lnTo>
                  <a:pt x="271" y="403"/>
                </a:lnTo>
                <a:lnTo>
                  <a:pt x="263" y="405"/>
                </a:lnTo>
                <a:lnTo>
                  <a:pt x="255" y="405"/>
                </a:lnTo>
                <a:lnTo>
                  <a:pt x="248" y="405"/>
                </a:lnTo>
                <a:lnTo>
                  <a:pt x="240" y="403"/>
                </a:lnTo>
                <a:lnTo>
                  <a:pt x="230" y="399"/>
                </a:lnTo>
                <a:lnTo>
                  <a:pt x="223" y="396"/>
                </a:lnTo>
                <a:lnTo>
                  <a:pt x="213" y="390"/>
                </a:lnTo>
                <a:lnTo>
                  <a:pt x="204" y="382"/>
                </a:lnTo>
                <a:lnTo>
                  <a:pt x="194" y="375"/>
                </a:lnTo>
                <a:lnTo>
                  <a:pt x="184" y="365"/>
                </a:lnTo>
                <a:lnTo>
                  <a:pt x="175" y="353"/>
                </a:lnTo>
                <a:lnTo>
                  <a:pt x="163" y="342"/>
                </a:lnTo>
                <a:lnTo>
                  <a:pt x="152" y="327"/>
                </a:lnTo>
                <a:lnTo>
                  <a:pt x="140" y="313"/>
                </a:lnTo>
                <a:lnTo>
                  <a:pt x="117" y="280"/>
                </a:lnTo>
                <a:lnTo>
                  <a:pt x="94" y="252"/>
                </a:lnTo>
                <a:lnTo>
                  <a:pt x="85" y="236"/>
                </a:lnTo>
                <a:lnTo>
                  <a:pt x="73" y="223"/>
                </a:lnTo>
                <a:lnTo>
                  <a:pt x="63" y="208"/>
                </a:lnTo>
                <a:lnTo>
                  <a:pt x="56" y="194"/>
                </a:lnTo>
                <a:lnTo>
                  <a:pt x="46" y="181"/>
                </a:lnTo>
                <a:lnTo>
                  <a:pt x="39" y="167"/>
                </a:lnTo>
                <a:lnTo>
                  <a:pt x="33" y="156"/>
                </a:lnTo>
                <a:lnTo>
                  <a:pt x="27" y="142"/>
                </a:lnTo>
                <a:lnTo>
                  <a:pt x="21" y="131"/>
                </a:lnTo>
                <a:lnTo>
                  <a:pt x="15" y="119"/>
                </a:lnTo>
                <a:lnTo>
                  <a:pt x="12" y="106"/>
                </a:lnTo>
                <a:lnTo>
                  <a:pt x="10"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40"/>
          <p:cNvSpPr/>
          <p:nvPr/>
        </p:nvSpPr>
        <p:spPr>
          <a:xfrm>
            <a:off x="5638680" y="4527720"/>
            <a:ext cx="290520" cy="506160"/>
          </a:xfrm>
          <a:custGeom>
            <a:avLst/>
            <a:gdLst/>
            <a:ahLst/>
            <a:rect l="l" t="t" r="r" b="b"/>
            <a:pathLst>
              <a:path w="364" h="639">
                <a:moveTo>
                  <a:pt x="361" y="96"/>
                </a:moveTo>
                <a:lnTo>
                  <a:pt x="362" y="107"/>
                </a:lnTo>
                <a:lnTo>
                  <a:pt x="362" y="121"/>
                </a:lnTo>
                <a:lnTo>
                  <a:pt x="364" y="132"/>
                </a:lnTo>
                <a:lnTo>
                  <a:pt x="364" y="146"/>
                </a:lnTo>
                <a:lnTo>
                  <a:pt x="364" y="159"/>
                </a:lnTo>
                <a:lnTo>
                  <a:pt x="362" y="174"/>
                </a:lnTo>
                <a:lnTo>
                  <a:pt x="361" y="190"/>
                </a:lnTo>
                <a:lnTo>
                  <a:pt x="359" y="205"/>
                </a:lnTo>
                <a:lnTo>
                  <a:pt x="357" y="221"/>
                </a:lnTo>
                <a:lnTo>
                  <a:pt x="353" y="238"/>
                </a:lnTo>
                <a:lnTo>
                  <a:pt x="349" y="255"/>
                </a:lnTo>
                <a:lnTo>
                  <a:pt x="343" y="272"/>
                </a:lnTo>
                <a:lnTo>
                  <a:pt x="339" y="292"/>
                </a:lnTo>
                <a:lnTo>
                  <a:pt x="334" y="309"/>
                </a:lnTo>
                <a:lnTo>
                  <a:pt x="326" y="330"/>
                </a:lnTo>
                <a:lnTo>
                  <a:pt x="320" y="349"/>
                </a:lnTo>
                <a:lnTo>
                  <a:pt x="313" y="366"/>
                </a:lnTo>
                <a:lnTo>
                  <a:pt x="305" y="384"/>
                </a:lnTo>
                <a:lnTo>
                  <a:pt x="297" y="401"/>
                </a:lnTo>
                <a:lnTo>
                  <a:pt x="290" y="416"/>
                </a:lnTo>
                <a:lnTo>
                  <a:pt x="280" y="432"/>
                </a:lnTo>
                <a:lnTo>
                  <a:pt x="272" y="447"/>
                </a:lnTo>
                <a:lnTo>
                  <a:pt x="263" y="462"/>
                </a:lnTo>
                <a:lnTo>
                  <a:pt x="255" y="476"/>
                </a:lnTo>
                <a:lnTo>
                  <a:pt x="245" y="489"/>
                </a:lnTo>
                <a:lnTo>
                  <a:pt x="238" y="501"/>
                </a:lnTo>
                <a:lnTo>
                  <a:pt x="228" y="514"/>
                </a:lnTo>
                <a:lnTo>
                  <a:pt x="220" y="526"/>
                </a:lnTo>
                <a:lnTo>
                  <a:pt x="213" y="535"/>
                </a:lnTo>
                <a:lnTo>
                  <a:pt x="203" y="547"/>
                </a:lnTo>
                <a:lnTo>
                  <a:pt x="195" y="556"/>
                </a:lnTo>
                <a:lnTo>
                  <a:pt x="190" y="566"/>
                </a:lnTo>
                <a:lnTo>
                  <a:pt x="178" y="576"/>
                </a:lnTo>
                <a:lnTo>
                  <a:pt x="171" y="583"/>
                </a:lnTo>
                <a:lnTo>
                  <a:pt x="161" y="591"/>
                </a:lnTo>
                <a:lnTo>
                  <a:pt x="151" y="599"/>
                </a:lnTo>
                <a:lnTo>
                  <a:pt x="144" y="604"/>
                </a:lnTo>
                <a:lnTo>
                  <a:pt x="136" y="610"/>
                </a:lnTo>
                <a:lnTo>
                  <a:pt x="128" y="616"/>
                </a:lnTo>
                <a:lnTo>
                  <a:pt x="121" y="620"/>
                </a:lnTo>
                <a:lnTo>
                  <a:pt x="115" y="624"/>
                </a:lnTo>
                <a:lnTo>
                  <a:pt x="109" y="627"/>
                </a:lnTo>
                <a:lnTo>
                  <a:pt x="103" y="631"/>
                </a:lnTo>
                <a:lnTo>
                  <a:pt x="98" y="633"/>
                </a:lnTo>
                <a:lnTo>
                  <a:pt x="94" y="635"/>
                </a:lnTo>
                <a:lnTo>
                  <a:pt x="90" y="637"/>
                </a:lnTo>
                <a:lnTo>
                  <a:pt x="86" y="637"/>
                </a:lnTo>
                <a:lnTo>
                  <a:pt x="84" y="639"/>
                </a:lnTo>
                <a:lnTo>
                  <a:pt x="78" y="637"/>
                </a:lnTo>
                <a:lnTo>
                  <a:pt x="75" y="637"/>
                </a:lnTo>
                <a:lnTo>
                  <a:pt x="69" y="635"/>
                </a:lnTo>
                <a:lnTo>
                  <a:pt x="65" y="633"/>
                </a:lnTo>
                <a:lnTo>
                  <a:pt x="59" y="631"/>
                </a:lnTo>
                <a:lnTo>
                  <a:pt x="55" y="627"/>
                </a:lnTo>
                <a:lnTo>
                  <a:pt x="50" y="624"/>
                </a:lnTo>
                <a:lnTo>
                  <a:pt x="46" y="618"/>
                </a:lnTo>
                <a:lnTo>
                  <a:pt x="42" y="614"/>
                </a:lnTo>
                <a:lnTo>
                  <a:pt x="38" y="606"/>
                </a:lnTo>
                <a:lnTo>
                  <a:pt x="34" y="601"/>
                </a:lnTo>
                <a:lnTo>
                  <a:pt x="30" y="593"/>
                </a:lnTo>
                <a:lnTo>
                  <a:pt x="27" y="583"/>
                </a:lnTo>
                <a:lnTo>
                  <a:pt x="23" y="576"/>
                </a:lnTo>
                <a:lnTo>
                  <a:pt x="21" y="564"/>
                </a:lnTo>
                <a:lnTo>
                  <a:pt x="19" y="555"/>
                </a:lnTo>
                <a:lnTo>
                  <a:pt x="13" y="531"/>
                </a:lnTo>
                <a:lnTo>
                  <a:pt x="9" y="512"/>
                </a:lnTo>
                <a:lnTo>
                  <a:pt x="7" y="503"/>
                </a:lnTo>
                <a:lnTo>
                  <a:pt x="5" y="493"/>
                </a:lnTo>
                <a:lnTo>
                  <a:pt x="4" y="483"/>
                </a:lnTo>
                <a:lnTo>
                  <a:pt x="2" y="476"/>
                </a:lnTo>
                <a:lnTo>
                  <a:pt x="2" y="468"/>
                </a:lnTo>
                <a:lnTo>
                  <a:pt x="0" y="460"/>
                </a:lnTo>
                <a:lnTo>
                  <a:pt x="0" y="455"/>
                </a:lnTo>
                <a:lnTo>
                  <a:pt x="0" y="449"/>
                </a:lnTo>
                <a:lnTo>
                  <a:pt x="0" y="443"/>
                </a:lnTo>
                <a:lnTo>
                  <a:pt x="2" y="439"/>
                </a:lnTo>
                <a:lnTo>
                  <a:pt x="4" y="436"/>
                </a:lnTo>
                <a:lnTo>
                  <a:pt x="5" y="434"/>
                </a:lnTo>
                <a:lnTo>
                  <a:pt x="5" y="432"/>
                </a:lnTo>
                <a:lnTo>
                  <a:pt x="5" y="428"/>
                </a:lnTo>
                <a:lnTo>
                  <a:pt x="7" y="424"/>
                </a:lnTo>
                <a:lnTo>
                  <a:pt x="9" y="420"/>
                </a:lnTo>
                <a:lnTo>
                  <a:pt x="13" y="416"/>
                </a:lnTo>
                <a:lnTo>
                  <a:pt x="17" y="411"/>
                </a:lnTo>
                <a:lnTo>
                  <a:pt x="21" y="405"/>
                </a:lnTo>
                <a:lnTo>
                  <a:pt x="27" y="397"/>
                </a:lnTo>
                <a:lnTo>
                  <a:pt x="32" y="391"/>
                </a:lnTo>
                <a:lnTo>
                  <a:pt x="40" y="384"/>
                </a:lnTo>
                <a:lnTo>
                  <a:pt x="46" y="374"/>
                </a:lnTo>
                <a:lnTo>
                  <a:pt x="55" y="366"/>
                </a:lnTo>
                <a:lnTo>
                  <a:pt x="65" y="357"/>
                </a:lnTo>
                <a:lnTo>
                  <a:pt x="75" y="347"/>
                </a:lnTo>
                <a:lnTo>
                  <a:pt x="84" y="336"/>
                </a:lnTo>
                <a:lnTo>
                  <a:pt x="98" y="326"/>
                </a:lnTo>
                <a:lnTo>
                  <a:pt x="115" y="303"/>
                </a:lnTo>
                <a:lnTo>
                  <a:pt x="134" y="280"/>
                </a:lnTo>
                <a:lnTo>
                  <a:pt x="151" y="255"/>
                </a:lnTo>
                <a:lnTo>
                  <a:pt x="167" y="232"/>
                </a:lnTo>
                <a:lnTo>
                  <a:pt x="184" y="207"/>
                </a:lnTo>
                <a:lnTo>
                  <a:pt x="199" y="180"/>
                </a:lnTo>
                <a:lnTo>
                  <a:pt x="205" y="165"/>
                </a:lnTo>
                <a:lnTo>
                  <a:pt x="213" y="151"/>
                </a:lnTo>
                <a:lnTo>
                  <a:pt x="220" y="136"/>
                </a:lnTo>
                <a:lnTo>
                  <a:pt x="228" y="121"/>
                </a:lnTo>
                <a:lnTo>
                  <a:pt x="236" y="105"/>
                </a:lnTo>
                <a:lnTo>
                  <a:pt x="242" y="90"/>
                </a:lnTo>
                <a:lnTo>
                  <a:pt x="249" y="78"/>
                </a:lnTo>
                <a:lnTo>
                  <a:pt x="255" y="65"/>
                </a:lnTo>
                <a:lnTo>
                  <a:pt x="261" y="55"/>
                </a:lnTo>
                <a:lnTo>
                  <a:pt x="266" y="46"/>
                </a:lnTo>
                <a:lnTo>
                  <a:pt x="272" y="36"/>
                </a:lnTo>
                <a:lnTo>
                  <a:pt x="278" y="29"/>
                </a:lnTo>
                <a:lnTo>
                  <a:pt x="284" y="21"/>
                </a:lnTo>
                <a:lnTo>
                  <a:pt x="290" y="15"/>
                </a:lnTo>
                <a:lnTo>
                  <a:pt x="295" y="11"/>
                </a:lnTo>
                <a:lnTo>
                  <a:pt x="299" y="7"/>
                </a:lnTo>
                <a:lnTo>
                  <a:pt x="305" y="4"/>
                </a:lnTo>
                <a:lnTo>
                  <a:pt x="311" y="2"/>
                </a:lnTo>
                <a:lnTo>
                  <a:pt x="314" y="0"/>
                </a:lnTo>
                <a:lnTo>
                  <a:pt x="320" y="0"/>
                </a:lnTo>
                <a:lnTo>
                  <a:pt x="322" y="0"/>
                </a:lnTo>
                <a:lnTo>
                  <a:pt x="324" y="2"/>
                </a:lnTo>
                <a:lnTo>
                  <a:pt x="328" y="4"/>
                </a:lnTo>
                <a:lnTo>
                  <a:pt x="330" y="7"/>
                </a:lnTo>
                <a:lnTo>
                  <a:pt x="332" y="11"/>
                </a:lnTo>
                <a:lnTo>
                  <a:pt x="336" y="15"/>
                </a:lnTo>
                <a:lnTo>
                  <a:pt x="338" y="21"/>
                </a:lnTo>
                <a:lnTo>
                  <a:pt x="339" y="27"/>
                </a:lnTo>
                <a:lnTo>
                  <a:pt x="343" y="32"/>
                </a:lnTo>
                <a:lnTo>
                  <a:pt x="345" y="40"/>
                </a:lnTo>
                <a:lnTo>
                  <a:pt x="347" y="48"/>
                </a:lnTo>
                <a:lnTo>
                  <a:pt x="349" y="55"/>
                </a:lnTo>
                <a:lnTo>
                  <a:pt x="353" y="65"/>
                </a:lnTo>
                <a:lnTo>
                  <a:pt x="355" y="75"/>
                </a:lnTo>
                <a:lnTo>
                  <a:pt x="357" y="86"/>
                </a:lnTo>
                <a:lnTo>
                  <a:pt x="361"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141"/>
          <p:cNvSpPr/>
          <p:nvPr/>
        </p:nvSpPr>
        <p:spPr>
          <a:xfrm>
            <a:off x="7048440" y="3373560"/>
            <a:ext cx="331920" cy="1125360"/>
          </a:xfrm>
          <a:custGeom>
            <a:avLst/>
            <a:gdLst/>
            <a:ahLst/>
            <a:rect l="l" t="t" r="r" b="b"/>
            <a:pathLst>
              <a:path w="419" h="1416">
                <a:moveTo>
                  <a:pt x="384" y="261"/>
                </a:moveTo>
                <a:lnTo>
                  <a:pt x="384" y="267"/>
                </a:lnTo>
                <a:lnTo>
                  <a:pt x="386" y="272"/>
                </a:lnTo>
                <a:lnTo>
                  <a:pt x="388" y="278"/>
                </a:lnTo>
                <a:lnTo>
                  <a:pt x="388" y="286"/>
                </a:lnTo>
                <a:lnTo>
                  <a:pt x="390" y="293"/>
                </a:lnTo>
                <a:lnTo>
                  <a:pt x="390" y="301"/>
                </a:lnTo>
                <a:lnTo>
                  <a:pt x="390" y="311"/>
                </a:lnTo>
                <a:lnTo>
                  <a:pt x="392" y="320"/>
                </a:lnTo>
                <a:lnTo>
                  <a:pt x="392" y="330"/>
                </a:lnTo>
                <a:lnTo>
                  <a:pt x="394" y="341"/>
                </a:lnTo>
                <a:lnTo>
                  <a:pt x="394" y="353"/>
                </a:lnTo>
                <a:lnTo>
                  <a:pt x="394" y="366"/>
                </a:lnTo>
                <a:lnTo>
                  <a:pt x="396" y="380"/>
                </a:lnTo>
                <a:lnTo>
                  <a:pt x="396" y="393"/>
                </a:lnTo>
                <a:lnTo>
                  <a:pt x="396" y="409"/>
                </a:lnTo>
                <a:lnTo>
                  <a:pt x="397" y="424"/>
                </a:lnTo>
                <a:lnTo>
                  <a:pt x="397" y="439"/>
                </a:lnTo>
                <a:lnTo>
                  <a:pt x="397" y="457"/>
                </a:lnTo>
                <a:lnTo>
                  <a:pt x="399" y="474"/>
                </a:lnTo>
                <a:lnTo>
                  <a:pt x="399" y="493"/>
                </a:lnTo>
                <a:lnTo>
                  <a:pt x="399" y="512"/>
                </a:lnTo>
                <a:lnTo>
                  <a:pt x="401" y="531"/>
                </a:lnTo>
                <a:lnTo>
                  <a:pt x="401" y="553"/>
                </a:lnTo>
                <a:lnTo>
                  <a:pt x="401" y="574"/>
                </a:lnTo>
                <a:lnTo>
                  <a:pt x="403" y="595"/>
                </a:lnTo>
                <a:lnTo>
                  <a:pt x="403" y="618"/>
                </a:lnTo>
                <a:lnTo>
                  <a:pt x="405" y="641"/>
                </a:lnTo>
                <a:lnTo>
                  <a:pt x="405" y="664"/>
                </a:lnTo>
                <a:lnTo>
                  <a:pt x="407" y="689"/>
                </a:lnTo>
                <a:lnTo>
                  <a:pt x="407" y="714"/>
                </a:lnTo>
                <a:lnTo>
                  <a:pt x="409" y="741"/>
                </a:lnTo>
                <a:lnTo>
                  <a:pt x="411" y="768"/>
                </a:lnTo>
                <a:lnTo>
                  <a:pt x="411" y="794"/>
                </a:lnTo>
                <a:lnTo>
                  <a:pt x="413" y="819"/>
                </a:lnTo>
                <a:lnTo>
                  <a:pt x="413" y="846"/>
                </a:lnTo>
                <a:lnTo>
                  <a:pt x="413" y="871"/>
                </a:lnTo>
                <a:lnTo>
                  <a:pt x="413" y="894"/>
                </a:lnTo>
                <a:lnTo>
                  <a:pt x="413" y="917"/>
                </a:lnTo>
                <a:lnTo>
                  <a:pt x="413" y="940"/>
                </a:lnTo>
                <a:lnTo>
                  <a:pt x="413" y="963"/>
                </a:lnTo>
                <a:lnTo>
                  <a:pt x="413" y="984"/>
                </a:lnTo>
                <a:lnTo>
                  <a:pt x="411" y="1006"/>
                </a:lnTo>
                <a:lnTo>
                  <a:pt x="411" y="1027"/>
                </a:lnTo>
                <a:lnTo>
                  <a:pt x="409" y="1046"/>
                </a:lnTo>
                <a:lnTo>
                  <a:pt x="407" y="1065"/>
                </a:lnTo>
                <a:lnTo>
                  <a:pt x="407" y="1084"/>
                </a:lnTo>
                <a:lnTo>
                  <a:pt x="405" y="1102"/>
                </a:lnTo>
                <a:lnTo>
                  <a:pt x="403" y="1119"/>
                </a:lnTo>
                <a:lnTo>
                  <a:pt x="401" y="1136"/>
                </a:lnTo>
                <a:lnTo>
                  <a:pt x="399" y="1151"/>
                </a:lnTo>
                <a:lnTo>
                  <a:pt x="397" y="1167"/>
                </a:lnTo>
                <a:lnTo>
                  <a:pt x="394" y="1182"/>
                </a:lnTo>
                <a:lnTo>
                  <a:pt x="392" y="1196"/>
                </a:lnTo>
                <a:lnTo>
                  <a:pt x="390" y="1209"/>
                </a:lnTo>
                <a:lnTo>
                  <a:pt x="386" y="1222"/>
                </a:lnTo>
                <a:lnTo>
                  <a:pt x="384" y="1234"/>
                </a:lnTo>
                <a:lnTo>
                  <a:pt x="380" y="1245"/>
                </a:lnTo>
                <a:lnTo>
                  <a:pt x="378" y="1257"/>
                </a:lnTo>
                <a:lnTo>
                  <a:pt x="374" y="1267"/>
                </a:lnTo>
                <a:lnTo>
                  <a:pt x="371" y="1276"/>
                </a:lnTo>
                <a:lnTo>
                  <a:pt x="369" y="1286"/>
                </a:lnTo>
                <a:lnTo>
                  <a:pt x="365" y="1293"/>
                </a:lnTo>
                <a:lnTo>
                  <a:pt x="361" y="1301"/>
                </a:lnTo>
                <a:lnTo>
                  <a:pt x="357" y="1309"/>
                </a:lnTo>
                <a:lnTo>
                  <a:pt x="349" y="1322"/>
                </a:lnTo>
                <a:lnTo>
                  <a:pt x="342" y="1334"/>
                </a:lnTo>
                <a:lnTo>
                  <a:pt x="336" y="1345"/>
                </a:lnTo>
                <a:lnTo>
                  <a:pt x="328" y="1357"/>
                </a:lnTo>
                <a:lnTo>
                  <a:pt x="321" y="1366"/>
                </a:lnTo>
                <a:lnTo>
                  <a:pt x="315" y="1374"/>
                </a:lnTo>
                <a:lnTo>
                  <a:pt x="307" y="1384"/>
                </a:lnTo>
                <a:lnTo>
                  <a:pt x="302" y="1389"/>
                </a:lnTo>
                <a:lnTo>
                  <a:pt x="296" y="1397"/>
                </a:lnTo>
                <a:lnTo>
                  <a:pt x="290" y="1401"/>
                </a:lnTo>
                <a:lnTo>
                  <a:pt x="284" y="1407"/>
                </a:lnTo>
                <a:lnTo>
                  <a:pt x="280" y="1411"/>
                </a:lnTo>
                <a:lnTo>
                  <a:pt x="275" y="1412"/>
                </a:lnTo>
                <a:lnTo>
                  <a:pt x="271" y="1414"/>
                </a:lnTo>
                <a:lnTo>
                  <a:pt x="269" y="1416"/>
                </a:lnTo>
                <a:lnTo>
                  <a:pt x="265" y="1416"/>
                </a:lnTo>
                <a:lnTo>
                  <a:pt x="261" y="1416"/>
                </a:lnTo>
                <a:lnTo>
                  <a:pt x="255" y="1416"/>
                </a:lnTo>
                <a:lnTo>
                  <a:pt x="252" y="1414"/>
                </a:lnTo>
                <a:lnTo>
                  <a:pt x="248" y="1412"/>
                </a:lnTo>
                <a:lnTo>
                  <a:pt x="244" y="1409"/>
                </a:lnTo>
                <a:lnTo>
                  <a:pt x="240" y="1407"/>
                </a:lnTo>
                <a:lnTo>
                  <a:pt x="238" y="1403"/>
                </a:lnTo>
                <a:lnTo>
                  <a:pt x="234" y="1397"/>
                </a:lnTo>
                <a:lnTo>
                  <a:pt x="230" y="1391"/>
                </a:lnTo>
                <a:lnTo>
                  <a:pt x="229" y="1386"/>
                </a:lnTo>
                <a:lnTo>
                  <a:pt x="225" y="1380"/>
                </a:lnTo>
                <a:lnTo>
                  <a:pt x="223" y="1372"/>
                </a:lnTo>
                <a:lnTo>
                  <a:pt x="221" y="1363"/>
                </a:lnTo>
                <a:lnTo>
                  <a:pt x="217" y="1353"/>
                </a:lnTo>
                <a:lnTo>
                  <a:pt x="215" y="1343"/>
                </a:lnTo>
                <a:lnTo>
                  <a:pt x="213" y="1334"/>
                </a:lnTo>
                <a:lnTo>
                  <a:pt x="209" y="1324"/>
                </a:lnTo>
                <a:lnTo>
                  <a:pt x="207" y="1315"/>
                </a:lnTo>
                <a:lnTo>
                  <a:pt x="204" y="1305"/>
                </a:lnTo>
                <a:lnTo>
                  <a:pt x="198" y="1297"/>
                </a:lnTo>
                <a:lnTo>
                  <a:pt x="192" y="1288"/>
                </a:lnTo>
                <a:lnTo>
                  <a:pt x="186" y="1278"/>
                </a:lnTo>
                <a:lnTo>
                  <a:pt x="181" y="1270"/>
                </a:lnTo>
                <a:lnTo>
                  <a:pt x="173" y="1261"/>
                </a:lnTo>
                <a:lnTo>
                  <a:pt x="165" y="1251"/>
                </a:lnTo>
                <a:lnTo>
                  <a:pt x="158" y="1244"/>
                </a:lnTo>
                <a:lnTo>
                  <a:pt x="148" y="1234"/>
                </a:lnTo>
                <a:lnTo>
                  <a:pt x="138" y="1224"/>
                </a:lnTo>
                <a:lnTo>
                  <a:pt x="129" y="1215"/>
                </a:lnTo>
                <a:lnTo>
                  <a:pt x="117" y="1207"/>
                </a:lnTo>
                <a:lnTo>
                  <a:pt x="106" y="1197"/>
                </a:lnTo>
                <a:lnTo>
                  <a:pt x="94" y="1188"/>
                </a:lnTo>
                <a:lnTo>
                  <a:pt x="83" y="1182"/>
                </a:lnTo>
                <a:lnTo>
                  <a:pt x="71" y="1174"/>
                </a:lnTo>
                <a:lnTo>
                  <a:pt x="62" y="1169"/>
                </a:lnTo>
                <a:lnTo>
                  <a:pt x="50" y="1161"/>
                </a:lnTo>
                <a:lnTo>
                  <a:pt x="42" y="1155"/>
                </a:lnTo>
                <a:lnTo>
                  <a:pt x="33" y="1150"/>
                </a:lnTo>
                <a:lnTo>
                  <a:pt x="25" y="1142"/>
                </a:lnTo>
                <a:lnTo>
                  <a:pt x="19" y="1136"/>
                </a:lnTo>
                <a:lnTo>
                  <a:pt x="14" y="1132"/>
                </a:lnTo>
                <a:lnTo>
                  <a:pt x="10" y="1126"/>
                </a:lnTo>
                <a:lnTo>
                  <a:pt x="6" y="1121"/>
                </a:lnTo>
                <a:lnTo>
                  <a:pt x="2" y="1117"/>
                </a:lnTo>
                <a:lnTo>
                  <a:pt x="0" y="1113"/>
                </a:lnTo>
                <a:lnTo>
                  <a:pt x="0" y="1109"/>
                </a:lnTo>
                <a:lnTo>
                  <a:pt x="0" y="1107"/>
                </a:lnTo>
                <a:lnTo>
                  <a:pt x="2" y="1103"/>
                </a:lnTo>
                <a:lnTo>
                  <a:pt x="6" y="1102"/>
                </a:lnTo>
                <a:lnTo>
                  <a:pt x="8" y="1100"/>
                </a:lnTo>
                <a:lnTo>
                  <a:pt x="14" y="1098"/>
                </a:lnTo>
                <a:lnTo>
                  <a:pt x="17" y="1098"/>
                </a:lnTo>
                <a:lnTo>
                  <a:pt x="23" y="1096"/>
                </a:lnTo>
                <a:lnTo>
                  <a:pt x="29" y="1096"/>
                </a:lnTo>
                <a:lnTo>
                  <a:pt x="35" y="1096"/>
                </a:lnTo>
                <a:lnTo>
                  <a:pt x="42" y="1096"/>
                </a:lnTo>
                <a:lnTo>
                  <a:pt x="50" y="1096"/>
                </a:lnTo>
                <a:lnTo>
                  <a:pt x="58" y="1096"/>
                </a:lnTo>
                <a:lnTo>
                  <a:pt x="67" y="1096"/>
                </a:lnTo>
                <a:lnTo>
                  <a:pt x="77" y="1098"/>
                </a:lnTo>
                <a:lnTo>
                  <a:pt x="87" y="1098"/>
                </a:lnTo>
                <a:lnTo>
                  <a:pt x="98" y="1100"/>
                </a:lnTo>
                <a:lnTo>
                  <a:pt x="110" y="1102"/>
                </a:lnTo>
                <a:lnTo>
                  <a:pt x="121" y="1103"/>
                </a:lnTo>
                <a:lnTo>
                  <a:pt x="133" y="1105"/>
                </a:lnTo>
                <a:lnTo>
                  <a:pt x="144" y="1109"/>
                </a:lnTo>
                <a:lnTo>
                  <a:pt x="156" y="1111"/>
                </a:lnTo>
                <a:lnTo>
                  <a:pt x="165" y="1113"/>
                </a:lnTo>
                <a:lnTo>
                  <a:pt x="175" y="1115"/>
                </a:lnTo>
                <a:lnTo>
                  <a:pt x="184" y="1117"/>
                </a:lnTo>
                <a:lnTo>
                  <a:pt x="192" y="1119"/>
                </a:lnTo>
                <a:lnTo>
                  <a:pt x="200" y="1119"/>
                </a:lnTo>
                <a:lnTo>
                  <a:pt x="207" y="1121"/>
                </a:lnTo>
                <a:lnTo>
                  <a:pt x="213" y="1121"/>
                </a:lnTo>
                <a:lnTo>
                  <a:pt x="219" y="1121"/>
                </a:lnTo>
                <a:lnTo>
                  <a:pt x="225" y="1121"/>
                </a:lnTo>
                <a:lnTo>
                  <a:pt x="229" y="1121"/>
                </a:lnTo>
                <a:lnTo>
                  <a:pt x="232" y="1119"/>
                </a:lnTo>
                <a:lnTo>
                  <a:pt x="236" y="1119"/>
                </a:lnTo>
                <a:lnTo>
                  <a:pt x="240" y="1117"/>
                </a:lnTo>
                <a:lnTo>
                  <a:pt x="240" y="1115"/>
                </a:lnTo>
                <a:lnTo>
                  <a:pt x="242" y="1113"/>
                </a:lnTo>
                <a:lnTo>
                  <a:pt x="242" y="1109"/>
                </a:lnTo>
                <a:lnTo>
                  <a:pt x="244" y="1105"/>
                </a:lnTo>
                <a:lnTo>
                  <a:pt x="244" y="1102"/>
                </a:lnTo>
                <a:lnTo>
                  <a:pt x="246" y="1096"/>
                </a:lnTo>
                <a:lnTo>
                  <a:pt x="246" y="1090"/>
                </a:lnTo>
                <a:lnTo>
                  <a:pt x="246" y="1084"/>
                </a:lnTo>
                <a:lnTo>
                  <a:pt x="248" y="1077"/>
                </a:lnTo>
                <a:lnTo>
                  <a:pt x="248" y="1069"/>
                </a:lnTo>
                <a:lnTo>
                  <a:pt x="248" y="1061"/>
                </a:lnTo>
                <a:lnTo>
                  <a:pt x="250" y="1052"/>
                </a:lnTo>
                <a:lnTo>
                  <a:pt x="250" y="1040"/>
                </a:lnTo>
                <a:lnTo>
                  <a:pt x="250" y="1030"/>
                </a:lnTo>
                <a:lnTo>
                  <a:pt x="250" y="1019"/>
                </a:lnTo>
                <a:lnTo>
                  <a:pt x="250" y="1006"/>
                </a:lnTo>
                <a:lnTo>
                  <a:pt x="252" y="992"/>
                </a:lnTo>
                <a:lnTo>
                  <a:pt x="252" y="979"/>
                </a:lnTo>
                <a:lnTo>
                  <a:pt x="252" y="965"/>
                </a:lnTo>
                <a:lnTo>
                  <a:pt x="252" y="950"/>
                </a:lnTo>
                <a:lnTo>
                  <a:pt x="252" y="933"/>
                </a:lnTo>
                <a:lnTo>
                  <a:pt x="252" y="917"/>
                </a:lnTo>
                <a:lnTo>
                  <a:pt x="252" y="898"/>
                </a:lnTo>
                <a:lnTo>
                  <a:pt x="252" y="881"/>
                </a:lnTo>
                <a:lnTo>
                  <a:pt x="252" y="862"/>
                </a:lnTo>
                <a:lnTo>
                  <a:pt x="252" y="842"/>
                </a:lnTo>
                <a:lnTo>
                  <a:pt x="252" y="821"/>
                </a:lnTo>
                <a:lnTo>
                  <a:pt x="252" y="800"/>
                </a:lnTo>
                <a:lnTo>
                  <a:pt x="252" y="777"/>
                </a:lnTo>
                <a:lnTo>
                  <a:pt x="252" y="754"/>
                </a:lnTo>
                <a:lnTo>
                  <a:pt x="252" y="731"/>
                </a:lnTo>
                <a:lnTo>
                  <a:pt x="252" y="706"/>
                </a:lnTo>
                <a:lnTo>
                  <a:pt x="252" y="683"/>
                </a:lnTo>
                <a:lnTo>
                  <a:pt x="252" y="660"/>
                </a:lnTo>
                <a:lnTo>
                  <a:pt x="252" y="637"/>
                </a:lnTo>
                <a:lnTo>
                  <a:pt x="252" y="616"/>
                </a:lnTo>
                <a:lnTo>
                  <a:pt x="252" y="595"/>
                </a:lnTo>
                <a:lnTo>
                  <a:pt x="252" y="574"/>
                </a:lnTo>
                <a:lnTo>
                  <a:pt x="252" y="553"/>
                </a:lnTo>
                <a:lnTo>
                  <a:pt x="252" y="533"/>
                </a:lnTo>
                <a:lnTo>
                  <a:pt x="252" y="514"/>
                </a:lnTo>
                <a:lnTo>
                  <a:pt x="252" y="495"/>
                </a:lnTo>
                <a:lnTo>
                  <a:pt x="252" y="476"/>
                </a:lnTo>
                <a:lnTo>
                  <a:pt x="252" y="458"/>
                </a:lnTo>
                <a:lnTo>
                  <a:pt x="252" y="441"/>
                </a:lnTo>
                <a:lnTo>
                  <a:pt x="252" y="424"/>
                </a:lnTo>
                <a:lnTo>
                  <a:pt x="252" y="409"/>
                </a:lnTo>
                <a:lnTo>
                  <a:pt x="250" y="391"/>
                </a:lnTo>
                <a:lnTo>
                  <a:pt x="250" y="376"/>
                </a:lnTo>
                <a:lnTo>
                  <a:pt x="250" y="363"/>
                </a:lnTo>
                <a:lnTo>
                  <a:pt x="250" y="347"/>
                </a:lnTo>
                <a:lnTo>
                  <a:pt x="250" y="334"/>
                </a:lnTo>
                <a:lnTo>
                  <a:pt x="248" y="322"/>
                </a:lnTo>
                <a:lnTo>
                  <a:pt x="248" y="309"/>
                </a:lnTo>
                <a:lnTo>
                  <a:pt x="248" y="297"/>
                </a:lnTo>
                <a:lnTo>
                  <a:pt x="246" y="286"/>
                </a:lnTo>
                <a:lnTo>
                  <a:pt x="246" y="274"/>
                </a:lnTo>
                <a:lnTo>
                  <a:pt x="246" y="265"/>
                </a:lnTo>
                <a:lnTo>
                  <a:pt x="244" y="255"/>
                </a:lnTo>
                <a:lnTo>
                  <a:pt x="244" y="245"/>
                </a:lnTo>
                <a:lnTo>
                  <a:pt x="242" y="236"/>
                </a:lnTo>
                <a:lnTo>
                  <a:pt x="242" y="228"/>
                </a:lnTo>
                <a:lnTo>
                  <a:pt x="240" y="220"/>
                </a:lnTo>
                <a:lnTo>
                  <a:pt x="240" y="213"/>
                </a:lnTo>
                <a:lnTo>
                  <a:pt x="234" y="192"/>
                </a:lnTo>
                <a:lnTo>
                  <a:pt x="227" y="171"/>
                </a:lnTo>
                <a:lnTo>
                  <a:pt x="219" y="151"/>
                </a:lnTo>
                <a:lnTo>
                  <a:pt x="211" y="134"/>
                </a:lnTo>
                <a:lnTo>
                  <a:pt x="202" y="117"/>
                </a:lnTo>
                <a:lnTo>
                  <a:pt x="198" y="109"/>
                </a:lnTo>
                <a:lnTo>
                  <a:pt x="192" y="103"/>
                </a:lnTo>
                <a:lnTo>
                  <a:pt x="188" y="98"/>
                </a:lnTo>
                <a:lnTo>
                  <a:pt x="183" y="92"/>
                </a:lnTo>
                <a:lnTo>
                  <a:pt x="179" y="86"/>
                </a:lnTo>
                <a:lnTo>
                  <a:pt x="173" y="80"/>
                </a:lnTo>
                <a:lnTo>
                  <a:pt x="165" y="73"/>
                </a:lnTo>
                <a:lnTo>
                  <a:pt x="156" y="63"/>
                </a:lnTo>
                <a:lnTo>
                  <a:pt x="150" y="53"/>
                </a:lnTo>
                <a:lnTo>
                  <a:pt x="144" y="44"/>
                </a:lnTo>
                <a:lnTo>
                  <a:pt x="140" y="36"/>
                </a:lnTo>
                <a:lnTo>
                  <a:pt x="136" y="27"/>
                </a:lnTo>
                <a:lnTo>
                  <a:pt x="135" y="17"/>
                </a:lnTo>
                <a:lnTo>
                  <a:pt x="135" y="9"/>
                </a:lnTo>
                <a:lnTo>
                  <a:pt x="135" y="6"/>
                </a:lnTo>
                <a:lnTo>
                  <a:pt x="136" y="4"/>
                </a:lnTo>
                <a:lnTo>
                  <a:pt x="138" y="4"/>
                </a:lnTo>
                <a:lnTo>
                  <a:pt x="142" y="2"/>
                </a:lnTo>
                <a:lnTo>
                  <a:pt x="146" y="0"/>
                </a:lnTo>
                <a:lnTo>
                  <a:pt x="152" y="0"/>
                </a:lnTo>
                <a:lnTo>
                  <a:pt x="158" y="0"/>
                </a:lnTo>
                <a:lnTo>
                  <a:pt x="165" y="0"/>
                </a:lnTo>
                <a:lnTo>
                  <a:pt x="173" y="0"/>
                </a:lnTo>
                <a:lnTo>
                  <a:pt x="184" y="0"/>
                </a:lnTo>
                <a:lnTo>
                  <a:pt x="194" y="0"/>
                </a:lnTo>
                <a:lnTo>
                  <a:pt x="206" y="2"/>
                </a:lnTo>
                <a:lnTo>
                  <a:pt x="219" y="4"/>
                </a:lnTo>
                <a:lnTo>
                  <a:pt x="234" y="4"/>
                </a:lnTo>
                <a:lnTo>
                  <a:pt x="250" y="6"/>
                </a:lnTo>
                <a:lnTo>
                  <a:pt x="265" y="9"/>
                </a:lnTo>
                <a:lnTo>
                  <a:pt x="280" y="13"/>
                </a:lnTo>
                <a:lnTo>
                  <a:pt x="294" y="17"/>
                </a:lnTo>
                <a:lnTo>
                  <a:pt x="307" y="23"/>
                </a:lnTo>
                <a:lnTo>
                  <a:pt x="319" y="27"/>
                </a:lnTo>
                <a:lnTo>
                  <a:pt x="330" y="30"/>
                </a:lnTo>
                <a:lnTo>
                  <a:pt x="342" y="34"/>
                </a:lnTo>
                <a:lnTo>
                  <a:pt x="353" y="40"/>
                </a:lnTo>
                <a:lnTo>
                  <a:pt x="363" y="44"/>
                </a:lnTo>
                <a:lnTo>
                  <a:pt x="371" y="48"/>
                </a:lnTo>
                <a:lnTo>
                  <a:pt x="378" y="52"/>
                </a:lnTo>
                <a:lnTo>
                  <a:pt x="386" y="53"/>
                </a:lnTo>
                <a:lnTo>
                  <a:pt x="394" y="57"/>
                </a:lnTo>
                <a:lnTo>
                  <a:pt x="399" y="61"/>
                </a:lnTo>
                <a:lnTo>
                  <a:pt x="403" y="63"/>
                </a:lnTo>
                <a:lnTo>
                  <a:pt x="407" y="67"/>
                </a:lnTo>
                <a:lnTo>
                  <a:pt x="411" y="69"/>
                </a:lnTo>
                <a:lnTo>
                  <a:pt x="415" y="75"/>
                </a:lnTo>
                <a:lnTo>
                  <a:pt x="417" y="80"/>
                </a:lnTo>
                <a:lnTo>
                  <a:pt x="419" y="88"/>
                </a:lnTo>
                <a:lnTo>
                  <a:pt x="419" y="96"/>
                </a:lnTo>
                <a:lnTo>
                  <a:pt x="419" y="105"/>
                </a:lnTo>
                <a:lnTo>
                  <a:pt x="417" y="117"/>
                </a:lnTo>
                <a:lnTo>
                  <a:pt x="415" y="128"/>
                </a:lnTo>
                <a:lnTo>
                  <a:pt x="411" y="142"/>
                </a:lnTo>
                <a:lnTo>
                  <a:pt x="401" y="169"/>
                </a:lnTo>
                <a:lnTo>
                  <a:pt x="396" y="182"/>
                </a:lnTo>
                <a:lnTo>
                  <a:pt x="392" y="197"/>
                </a:lnTo>
                <a:lnTo>
                  <a:pt x="388" y="211"/>
                </a:lnTo>
                <a:lnTo>
                  <a:pt x="386" y="228"/>
                </a:lnTo>
                <a:lnTo>
                  <a:pt x="384" y="244"/>
                </a:lnTo>
                <a:lnTo>
                  <a:pt x="384" y="2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142"/>
          <p:cNvSpPr/>
          <p:nvPr/>
        </p:nvSpPr>
        <p:spPr>
          <a:xfrm>
            <a:off x="6827760" y="3595680"/>
            <a:ext cx="181080" cy="617400"/>
          </a:xfrm>
          <a:custGeom>
            <a:avLst/>
            <a:gdLst/>
            <a:ahLst/>
            <a:rect l="l" t="t" r="r" b="b"/>
            <a:pathLst>
              <a:path w="228" h="779">
                <a:moveTo>
                  <a:pt x="71" y="309"/>
                </a:moveTo>
                <a:lnTo>
                  <a:pt x="69" y="286"/>
                </a:lnTo>
                <a:lnTo>
                  <a:pt x="65" y="265"/>
                </a:lnTo>
                <a:lnTo>
                  <a:pt x="63" y="246"/>
                </a:lnTo>
                <a:lnTo>
                  <a:pt x="61" y="227"/>
                </a:lnTo>
                <a:lnTo>
                  <a:pt x="57" y="209"/>
                </a:lnTo>
                <a:lnTo>
                  <a:pt x="56" y="192"/>
                </a:lnTo>
                <a:lnTo>
                  <a:pt x="54" y="177"/>
                </a:lnTo>
                <a:lnTo>
                  <a:pt x="52" y="163"/>
                </a:lnTo>
                <a:lnTo>
                  <a:pt x="48" y="148"/>
                </a:lnTo>
                <a:lnTo>
                  <a:pt x="46" y="136"/>
                </a:lnTo>
                <a:lnTo>
                  <a:pt x="44" y="125"/>
                </a:lnTo>
                <a:lnTo>
                  <a:pt x="40" y="113"/>
                </a:lnTo>
                <a:lnTo>
                  <a:pt x="38" y="104"/>
                </a:lnTo>
                <a:lnTo>
                  <a:pt x="36" y="94"/>
                </a:lnTo>
                <a:lnTo>
                  <a:pt x="34" y="86"/>
                </a:lnTo>
                <a:lnTo>
                  <a:pt x="31" y="81"/>
                </a:lnTo>
                <a:lnTo>
                  <a:pt x="23" y="71"/>
                </a:lnTo>
                <a:lnTo>
                  <a:pt x="15" y="61"/>
                </a:lnTo>
                <a:lnTo>
                  <a:pt x="8" y="52"/>
                </a:lnTo>
                <a:lnTo>
                  <a:pt x="4" y="44"/>
                </a:lnTo>
                <a:lnTo>
                  <a:pt x="2" y="38"/>
                </a:lnTo>
                <a:lnTo>
                  <a:pt x="0" y="35"/>
                </a:lnTo>
                <a:lnTo>
                  <a:pt x="0" y="31"/>
                </a:lnTo>
                <a:lnTo>
                  <a:pt x="0" y="25"/>
                </a:lnTo>
                <a:lnTo>
                  <a:pt x="0" y="21"/>
                </a:lnTo>
                <a:lnTo>
                  <a:pt x="2" y="17"/>
                </a:lnTo>
                <a:lnTo>
                  <a:pt x="2" y="12"/>
                </a:lnTo>
                <a:lnTo>
                  <a:pt x="6" y="8"/>
                </a:lnTo>
                <a:lnTo>
                  <a:pt x="8" y="6"/>
                </a:lnTo>
                <a:lnTo>
                  <a:pt x="11" y="4"/>
                </a:lnTo>
                <a:lnTo>
                  <a:pt x="15" y="2"/>
                </a:lnTo>
                <a:lnTo>
                  <a:pt x="19" y="0"/>
                </a:lnTo>
                <a:lnTo>
                  <a:pt x="25" y="0"/>
                </a:lnTo>
                <a:lnTo>
                  <a:pt x="31" y="0"/>
                </a:lnTo>
                <a:lnTo>
                  <a:pt x="38" y="0"/>
                </a:lnTo>
                <a:lnTo>
                  <a:pt x="44" y="2"/>
                </a:lnTo>
                <a:lnTo>
                  <a:pt x="52" y="2"/>
                </a:lnTo>
                <a:lnTo>
                  <a:pt x="61" y="4"/>
                </a:lnTo>
                <a:lnTo>
                  <a:pt x="69" y="8"/>
                </a:lnTo>
                <a:lnTo>
                  <a:pt x="79" y="10"/>
                </a:lnTo>
                <a:lnTo>
                  <a:pt x="90" y="15"/>
                </a:lnTo>
                <a:lnTo>
                  <a:pt x="100" y="19"/>
                </a:lnTo>
                <a:lnTo>
                  <a:pt x="111" y="25"/>
                </a:lnTo>
                <a:lnTo>
                  <a:pt x="123" y="31"/>
                </a:lnTo>
                <a:lnTo>
                  <a:pt x="134" y="38"/>
                </a:lnTo>
                <a:lnTo>
                  <a:pt x="146" y="44"/>
                </a:lnTo>
                <a:lnTo>
                  <a:pt x="155" y="50"/>
                </a:lnTo>
                <a:lnTo>
                  <a:pt x="165" y="56"/>
                </a:lnTo>
                <a:lnTo>
                  <a:pt x="175" y="61"/>
                </a:lnTo>
                <a:lnTo>
                  <a:pt x="182" y="67"/>
                </a:lnTo>
                <a:lnTo>
                  <a:pt x="188" y="73"/>
                </a:lnTo>
                <a:lnTo>
                  <a:pt x="196" y="77"/>
                </a:lnTo>
                <a:lnTo>
                  <a:pt x="201" y="81"/>
                </a:lnTo>
                <a:lnTo>
                  <a:pt x="207" y="85"/>
                </a:lnTo>
                <a:lnTo>
                  <a:pt x="211" y="88"/>
                </a:lnTo>
                <a:lnTo>
                  <a:pt x="215" y="92"/>
                </a:lnTo>
                <a:lnTo>
                  <a:pt x="222" y="98"/>
                </a:lnTo>
                <a:lnTo>
                  <a:pt x="228" y="104"/>
                </a:lnTo>
                <a:lnTo>
                  <a:pt x="228" y="109"/>
                </a:lnTo>
                <a:lnTo>
                  <a:pt x="228" y="115"/>
                </a:lnTo>
                <a:lnTo>
                  <a:pt x="228" y="123"/>
                </a:lnTo>
                <a:lnTo>
                  <a:pt x="228" y="131"/>
                </a:lnTo>
                <a:lnTo>
                  <a:pt x="228" y="140"/>
                </a:lnTo>
                <a:lnTo>
                  <a:pt x="228" y="152"/>
                </a:lnTo>
                <a:lnTo>
                  <a:pt x="228" y="163"/>
                </a:lnTo>
                <a:lnTo>
                  <a:pt x="228" y="177"/>
                </a:lnTo>
                <a:lnTo>
                  <a:pt x="228" y="190"/>
                </a:lnTo>
                <a:lnTo>
                  <a:pt x="228" y="205"/>
                </a:lnTo>
                <a:lnTo>
                  <a:pt x="228" y="221"/>
                </a:lnTo>
                <a:lnTo>
                  <a:pt x="228" y="238"/>
                </a:lnTo>
                <a:lnTo>
                  <a:pt x="228" y="257"/>
                </a:lnTo>
                <a:lnTo>
                  <a:pt x="228" y="276"/>
                </a:lnTo>
                <a:lnTo>
                  <a:pt x="228" y="298"/>
                </a:lnTo>
                <a:lnTo>
                  <a:pt x="228" y="321"/>
                </a:lnTo>
                <a:lnTo>
                  <a:pt x="222" y="365"/>
                </a:lnTo>
                <a:lnTo>
                  <a:pt x="219" y="409"/>
                </a:lnTo>
                <a:lnTo>
                  <a:pt x="213" y="451"/>
                </a:lnTo>
                <a:lnTo>
                  <a:pt x="207" y="491"/>
                </a:lnTo>
                <a:lnTo>
                  <a:pt x="199" y="532"/>
                </a:lnTo>
                <a:lnTo>
                  <a:pt x="194" y="570"/>
                </a:lnTo>
                <a:lnTo>
                  <a:pt x="184" y="609"/>
                </a:lnTo>
                <a:lnTo>
                  <a:pt x="176" y="645"/>
                </a:lnTo>
                <a:lnTo>
                  <a:pt x="171" y="662"/>
                </a:lnTo>
                <a:lnTo>
                  <a:pt x="167" y="680"/>
                </a:lnTo>
                <a:lnTo>
                  <a:pt x="161" y="695"/>
                </a:lnTo>
                <a:lnTo>
                  <a:pt x="157" y="708"/>
                </a:lnTo>
                <a:lnTo>
                  <a:pt x="151" y="722"/>
                </a:lnTo>
                <a:lnTo>
                  <a:pt x="148" y="733"/>
                </a:lnTo>
                <a:lnTo>
                  <a:pt x="142" y="743"/>
                </a:lnTo>
                <a:lnTo>
                  <a:pt x="138" y="752"/>
                </a:lnTo>
                <a:lnTo>
                  <a:pt x="134" y="760"/>
                </a:lnTo>
                <a:lnTo>
                  <a:pt x="130" y="766"/>
                </a:lnTo>
                <a:lnTo>
                  <a:pt x="127" y="772"/>
                </a:lnTo>
                <a:lnTo>
                  <a:pt x="123" y="776"/>
                </a:lnTo>
                <a:lnTo>
                  <a:pt x="119" y="779"/>
                </a:lnTo>
                <a:lnTo>
                  <a:pt x="115" y="779"/>
                </a:lnTo>
                <a:lnTo>
                  <a:pt x="113" y="779"/>
                </a:lnTo>
                <a:lnTo>
                  <a:pt x="109" y="777"/>
                </a:lnTo>
                <a:lnTo>
                  <a:pt x="107" y="776"/>
                </a:lnTo>
                <a:lnTo>
                  <a:pt x="105" y="772"/>
                </a:lnTo>
                <a:lnTo>
                  <a:pt x="103" y="768"/>
                </a:lnTo>
                <a:lnTo>
                  <a:pt x="100" y="762"/>
                </a:lnTo>
                <a:lnTo>
                  <a:pt x="98" y="756"/>
                </a:lnTo>
                <a:lnTo>
                  <a:pt x="96" y="749"/>
                </a:lnTo>
                <a:lnTo>
                  <a:pt x="94" y="741"/>
                </a:lnTo>
                <a:lnTo>
                  <a:pt x="92" y="731"/>
                </a:lnTo>
                <a:lnTo>
                  <a:pt x="90" y="722"/>
                </a:lnTo>
                <a:lnTo>
                  <a:pt x="88" y="710"/>
                </a:lnTo>
                <a:lnTo>
                  <a:pt x="88" y="699"/>
                </a:lnTo>
                <a:lnTo>
                  <a:pt x="86" y="685"/>
                </a:lnTo>
                <a:lnTo>
                  <a:pt x="84" y="670"/>
                </a:lnTo>
                <a:lnTo>
                  <a:pt x="84" y="655"/>
                </a:lnTo>
                <a:lnTo>
                  <a:pt x="84" y="639"/>
                </a:lnTo>
                <a:lnTo>
                  <a:pt x="84" y="622"/>
                </a:lnTo>
                <a:lnTo>
                  <a:pt x="84" y="605"/>
                </a:lnTo>
                <a:lnTo>
                  <a:pt x="84" y="589"/>
                </a:lnTo>
                <a:lnTo>
                  <a:pt x="84" y="572"/>
                </a:lnTo>
                <a:lnTo>
                  <a:pt x="84" y="555"/>
                </a:lnTo>
                <a:lnTo>
                  <a:pt x="84" y="536"/>
                </a:lnTo>
                <a:lnTo>
                  <a:pt x="82" y="516"/>
                </a:lnTo>
                <a:lnTo>
                  <a:pt x="82" y="478"/>
                </a:lnTo>
                <a:lnTo>
                  <a:pt x="80" y="438"/>
                </a:lnTo>
                <a:lnTo>
                  <a:pt x="79" y="395"/>
                </a:lnTo>
                <a:lnTo>
                  <a:pt x="75" y="353"/>
                </a:lnTo>
                <a:lnTo>
                  <a:pt x="71" y="3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143"/>
          <p:cNvSpPr/>
          <p:nvPr/>
        </p:nvSpPr>
        <p:spPr>
          <a:xfrm>
            <a:off x="6132600" y="3429000"/>
            <a:ext cx="542880" cy="1041480"/>
          </a:xfrm>
          <a:custGeom>
            <a:avLst/>
            <a:gdLst/>
            <a:ahLst/>
            <a:rect l="l" t="t" r="r" b="b"/>
            <a:pathLst>
              <a:path w="683" h="1313">
                <a:moveTo>
                  <a:pt x="407" y="1023"/>
                </a:moveTo>
                <a:lnTo>
                  <a:pt x="416" y="1017"/>
                </a:lnTo>
                <a:lnTo>
                  <a:pt x="426" y="1011"/>
                </a:lnTo>
                <a:lnTo>
                  <a:pt x="435" y="1004"/>
                </a:lnTo>
                <a:lnTo>
                  <a:pt x="445" y="994"/>
                </a:lnTo>
                <a:lnTo>
                  <a:pt x="453" y="983"/>
                </a:lnTo>
                <a:lnTo>
                  <a:pt x="456" y="977"/>
                </a:lnTo>
                <a:lnTo>
                  <a:pt x="460" y="971"/>
                </a:lnTo>
                <a:lnTo>
                  <a:pt x="464" y="963"/>
                </a:lnTo>
                <a:lnTo>
                  <a:pt x="468" y="956"/>
                </a:lnTo>
                <a:lnTo>
                  <a:pt x="470" y="948"/>
                </a:lnTo>
                <a:lnTo>
                  <a:pt x="474" y="938"/>
                </a:lnTo>
                <a:lnTo>
                  <a:pt x="476" y="929"/>
                </a:lnTo>
                <a:lnTo>
                  <a:pt x="478" y="917"/>
                </a:lnTo>
                <a:lnTo>
                  <a:pt x="479" y="904"/>
                </a:lnTo>
                <a:lnTo>
                  <a:pt x="481" y="889"/>
                </a:lnTo>
                <a:lnTo>
                  <a:pt x="481" y="873"/>
                </a:lnTo>
                <a:lnTo>
                  <a:pt x="483" y="854"/>
                </a:lnTo>
                <a:lnTo>
                  <a:pt x="485" y="835"/>
                </a:lnTo>
                <a:lnTo>
                  <a:pt x="485" y="814"/>
                </a:lnTo>
                <a:lnTo>
                  <a:pt x="487" y="791"/>
                </a:lnTo>
                <a:lnTo>
                  <a:pt x="489" y="766"/>
                </a:lnTo>
                <a:lnTo>
                  <a:pt x="489" y="741"/>
                </a:lnTo>
                <a:lnTo>
                  <a:pt x="491" y="714"/>
                </a:lnTo>
                <a:lnTo>
                  <a:pt x="493" y="685"/>
                </a:lnTo>
                <a:lnTo>
                  <a:pt x="495" y="654"/>
                </a:lnTo>
                <a:lnTo>
                  <a:pt x="497" y="624"/>
                </a:lnTo>
                <a:lnTo>
                  <a:pt x="499" y="589"/>
                </a:lnTo>
                <a:lnTo>
                  <a:pt x="499" y="556"/>
                </a:lnTo>
                <a:lnTo>
                  <a:pt x="499" y="526"/>
                </a:lnTo>
                <a:lnTo>
                  <a:pt x="499" y="495"/>
                </a:lnTo>
                <a:lnTo>
                  <a:pt x="499" y="468"/>
                </a:lnTo>
                <a:lnTo>
                  <a:pt x="499" y="441"/>
                </a:lnTo>
                <a:lnTo>
                  <a:pt x="499" y="416"/>
                </a:lnTo>
                <a:lnTo>
                  <a:pt x="499" y="393"/>
                </a:lnTo>
                <a:lnTo>
                  <a:pt x="497" y="372"/>
                </a:lnTo>
                <a:lnTo>
                  <a:pt x="497" y="353"/>
                </a:lnTo>
                <a:lnTo>
                  <a:pt x="497" y="336"/>
                </a:lnTo>
                <a:lnTo>
                  <a:pt x="495" y="320"/>
                </a:lnTo>
                <a:lnTo>
                  <a:pt x="493" y="305"/>
                </a:lnTo>
                <a:lnTo>
                  <a:pt x="493" y="294"/>
                </a:lnTo>
                <a:lnTo>
                  <a:pt x="491" y="282"/>
                </a:lnTo>
                <a:lnTo>
                  <a:pt x="489" y="272"/>
                </a:lnTo>
                <a:lnTo>
                  <a:pt x="487" y="265"/>
                </a:lnTo>
                <a:lnTo>
                  <a:pt x="476" y="238"/>
                </a:lnTo>
                <a:lnTo>
                  <a:pt x="472" y="224"/>
                </a:lnTo>
                <a:lnTo>
                  <a:pt x="466" y="211"/>
                </a:lnTo>
                <a:lnTo>
                  <a:pt x="462" y="199"/>
                </a:lnTo>
                <a:lnTo>
                  <a:pt x="456" y="188"/>
                </a:lnTo>
                <a:lnTo>
                  <a:pt x="451" y="178"/>
                </a:lnTo>
                <a:lnTo>
                  <a:pt x="447" y="169"/>
                </a:lnTo>
                <a:lnTo>
                  <a:pt x="443" y="167"/>
                </a:lnTo>
                <a:lnTo>
                  <a:pt x="439" y="163"/>
                </a:lnTo>
                <a:lnTo>
                  <a:pt x="435" y="161"/>
                </a:lnTo>
                <a:lnTo>
                  <a:pt x="430" y="159"/>
                </a:lnTo>
                <a:lnTo>
                  <a:pt x="422" y="157"/>
                </a:lnTo>
                <a:lnTo>
                  <a:pt x="414" y="155"/>
                </a:lnTo>
                <a:lnTo>
                  <a:pt x="407" y="153"/>
                </a:lnTo>
                <a:lnTo>
                  <a:pt x="395" y="153"/>
                </a:lnTo>
                <a:lnTo>
                  <a:pt x="385" y="151"/>
                </a:lnTo>
                <a:lnTo>
                  <a:pt x="372" y="151"/>
                </a:lnTo>
                <a:lnTo>
                  <a:pt x="360" y="151"/>
                </a:lnTo>
                <a:lnTo>
                  <a:pt x="345" y="151"/>
                </a:lnTo>
                <a:lnTo>
                  <a:pt x="330" y="151"/>
                </a:lnTo>
                <a:lnTo>
                  <a:pt x="312" y="153"/>
                </a:lnTo>
                <a:lnTo>
                  <a:pt x="295" y="153"/>
                </a:lnTo>
                <a:lnTo>
                  <a:pt x="276" y="157"/>
                </a:lnTo>
                <a:lnTo>
                  <a:pt x="238" y="161"/>
                </a:lnTo>
                <a:lnTo>
                  <a:pt x="199" y="165"/>
                </a:lnTo>
                <a:lnTo>
                  <a:pt x="163" y="169"/>
                </a:lnTo>
                <a:lnTo>
                  <a:pt x="128" y="175"/>
                </a:lnTo>
                <a:lnTo>
                  <a:pt x="94" y="178"/>
                </a:lnTo>
                <a:lnTo>
                  <a:pt x="61" y="182"/>
                </a:lnTo>
                <a:lnTo>
                  <a:pt x="30" y="188"/>
                </a:lnTo>
                <a:lnTo>
                  <a:pt x="0" y="192"/>
                </a:lnTo>
                <a:lnTo>
                  <a:pt x="13" y="96"/>
                </a:lnTo>
                <a:lnTo>
                  <a:pt x="38" y="94"/>
                </a:lnTo>
                <a:lnTo>
                  <a:pt x="61" y="92"/>
                </a:lnTo>
                <a:lnTo>
                  <a:pt x="84" y="88"/>
                </a:lnTo>
                <a:lnTo>
                  <a:pt x="105" y="86"/>
                </a:lnTo>
                <a:lnTo>
                  <a:pt x="128" y="84"/>
                </a:lnTo>
                <a:lnTo>
                  <a:pt x="147" y="82"/>
                </a:lnTo>
                <a:lnTo>
                  <a:pt x="168" y="80"/>
                </a:lnTo>
                <a:lnTo>
                  <a:pt x="188" y="79"/>
                </a:lnTo>
                <a:lnTo>
                  <a:pt x="207" y="75"/>
                </a:lnTo>
                <a:lnTo>
                  <a:pt x="224" y="73"/>
                </a:lnTo>
                <a:lnTo>
                  <a:pt x="241" y="71"/>
                </a:lnTo>
                <a:lnTo>
                  <a:pt x="259" y="69"/>
                </a:lnTo>
                <a:lnTo>
                  <a:pt x="274" y="67"/>
                </a:lnTo>
                <a:lnTo>
                  <a:pt x="289" y="65"/>
                </a:lnTo>
                <a:lnTo>
                  <a:pt x="303" y="61"/>
                </a:lnTo>
                <a:lnTo>
                  <a:pt x="316" y="59"/>
                </a:lnTo>
                <a:lnTo>
                  <a:pt x="330" y="57"/>
                </a:lnTo>
                <a:lnTo>
                  <a:pt x="341" y="56"/>
                </a:lnTo>
                <a:lnTo>
                  <a:pt x="353" y="54"/>
                </a:lnTo>
                <a:lnTo>
                  <a:pt x="364" y="52"/>
                </a:lnTo>
                <a:lnTo>
                  <a:pt x="374" y="48"/>
                </a:lnTo>
                <a:lnTo>
                  <a:pt x="383" y="46"/>
                </a:lnTo>
                <a:lnTo>
                  <a:pt x="391" y="44"/>
                </a:lnTo>
                <a:lnTo>
                  <a:pt x="399" y="42"/>
                </a:lnTo>
                <a:lnTo>
                  <a:pt x="407" y="40"/>
                </a:lnTo>
                <a:lnTo>
                  <a:pt x="412" y="38"/>
                </a:lnTo>
                <a:lnTo>
                  <a:pt x="418" y="34"/>
                </a:lnTo>
                <a:lnTo>
                  <a:pt x="422" y="32"/>
                </a:lnTo>
                <a:lnTo>
                  <a:pt x="426" y="31"/>
                </a:lnTo>
                <a:lnTo>
                  <a:pt x="430" y="29"/>
                </a:lnTo>
                <a:lnTo>
                  <a:pt x="431" y="27"/>
                </a:lnTo>
                <a:lnTo>
                  <a:pt x="433" y="25"/>
                </a:lnTo>
                <a:lnTo>
                  <a:pt x="443" y="15"/>
                </a:lnTo>
                <a:lnTo>
                  <a:pt x="449" y="11"/>
                </a:lnTo>
                <a:lnTo>
                  <a:pt x="454" y="8"/>
                </a:lnTo>
                <a:lnTo>
                  <a:pt x="462" y="4"/>
                </a:lnTo>
                <a:lnTo>
                  <a:pt x="468" y="2"/>
                </a:lnTo>
                <a:lnTo>
                  <a:pt x="478" y="0"/>
                </a:lnTo>
                <a:lnTo>
                  <a:pt x="487" y="0"/>
                </a:lnTo>
                <a:lnTo>
                  <a:pt x="489" y="0"/>
                </a:lnTo>
                <a:lnTo>
                  <a:pt x="493" y="0"/>
                </a:lnTo>
                <a:lnTo>
                  <a:pt x="497" y="2"/>
                </a:lnTo>
                <a:lnTo>
                  <a:pt x="501" y="2"/>
                </a:lnTo>
                <a:lnTo>
                  <a:pt x="506" y="4"/>
                </a:lnTo>
                <a:lnTo>
                  <a:pt x="512" y="6"/>
                </a:lnTo>
                <a:lnTo>
                  <a:pt x="518" y="8"/>
                </a:lnTo>
                <a:lnTo>
                  <a:pt x="526" y="9"/>
                </a:lnTo>
                <a:lnTo>
                  <a:pt x="533" y="13"/>
                </a:lnTo>
                <a:lnTo>
                  <a:pt x="541" y="17"/>
                </a:lnTo>
                <a:lnTo>
                  <a:pt x="550" y="21"/>
                </a:lnTo>
                <a:lnTo>
                  <a:pt x="560" y="25"/>
                </a:lnTo>
                <a:lnTo>
                  <a:pt x="570" y="31"/>
                </a:lnTo>
                <a:lnTo>
                  <a:pt x="581" y="34"/>
                </a:lnTo>
                <a:lnTo>
                  <a:pt x="593" y="42"/>
                </a:lnTo>
                <a:lnTo>
                  <a:pt x="604" y="48"/>
                </a:lnTo>
                <a:lnTo>
                  <a:pt x="614" y="56"/>
                </a:lnTo>
                <a:lnTo>
                  <a:pt x="623" y="61"/>
                </a:lnTo>
                <a:lnTo>
                  <a:pt x="631" y="67"/>
                </a:lnTo>
                <a:lnTo>
                  <a:pt x="639" y="73"/>
                </a:lnTo>
                <a:lnTo>
                  <a:pt x="646" y="79"/>
                </a:lnTo>
                <a:lnTo>
                  <a:pt x="652" y="84"/>
                </a:lnTo>
                <a:lnTo>
                  <a:pt x="658" y="88"/>
                </a:lnTo>
                <a:lnTo>
                  <a:pt x="664" y="94"/>
                </a:lnTo>
                <a:lnTo>
                  <a:pt x="668" y="98"/>
                </a:lnTo>
                <a:lnTo>
                  <a:pt x="671" y="102"/>
                </a:lnTo>
                <a:lnTo>
                  <a:pt x="675" y="105"/>
                </a:lnTo>
                <a:lnTo>
                  <a:pt x="677" y="109"/>
                </a:lnTo>
                <a:lnTo>
                  <a:pt x="681" y="111"/>
                </a:lnTo>
                <a:lnTo>
                  <a:pt x="681" y="115"/>
                </a:lnTo>
                <a:lnTo>
                  <a:pt x="683" y="117"/>
                </a:lnTo>
                <a:lnTo>
                  <a:pt x="683" y="121"/>
                </a:lnTo>
                <a:lnTo>
                  <a:pt x="683" y="128"/>
                </a:lnTo>
                <a:lnTo>
                  <a:pt x="681" y="138"/>
                </a:lnTo>
                <a:lnTo>
                  <a:pt x="677" y="146"/>
                </a:lnTo>
                <a:lnTo>
                  <a:pt x="675" y="155"/>
                </a:lnTo>
                <a:lnTo>
                  <a:pt x="671" y="163"/>
                </a:lnTo>
                <a:lnTo>
                  <a:pt x="666" y="169"/>
                </a:lnTo>
                <a:lnTo>
                  <a:pt x="662" y="175"/>
                </a:lnTo>
                <a:lnTo>
                  <a:pt x="656" y="180"/>
                </a:lnTo>
                <a:lnTo>
                  <a:pt x="652" y="184"/>
                </a:lnTo>
                <a:lnTo>
                  <a:pt x="648" y="188"/>
                </a:lnTo>
                <a:lnTo>
                  <a:pt x="645" y="194"/>
                </a:lnTo>
                <a:lnTo>
                  <a:pt x="643" y="203"/>
                </a:lnTo>
                <a:lnTo>
                  <a:pt x="639" y="213"/>
                </a:lnTo>
                <a:lnTo>
                  <a:pt x="637" y="223"/>
                </a:lnTo>
                <a:lnTo>
                  <a:pt x="637" y="236"/>
                </a:lnTo>
                <a:lnTo>
                  <a:pt x="635" y="249"/>
                </a:lnTo>
                <a:lnTo>
                  <a:pt x="635" y="265"/>
                </a:lnTo>
                <a:lnTo>
                  <a:pt x="635" y="282"/>
                </a:lnTo>
                <a:lnTo>
                  <a:pt x="635" y="299"/>
                </a:lnTo>
                <a:lnTo>
                  <a:pt x="637" y="318"/>
                </a:lnTo>
                <a:lnTo>
                  <a:pt x="637" y="340"/>
                </a:lnTo>
                <a:lnTo>
                  <a:pt x="639" y="361"/>
                </a:lnTo>
                <a:lnTo>
                  <a:pt x="641" y="384"/>
                </a:lnTo>
                <a:lnTo>
                  <a:pt x="645" y="409"/>
                </a:lnTo>
                <a:lnTo>
                  <a:pt x="646" y="434"/>
                </a:lnTo>
                <a:lnTo>
                  <a:pt x="648" y="461"/>
                </a:lnTo>
                <a:lnTo>
                  <a:pt x="650" y="487"/>
                </a:lnTo>
                <a:lnTo>
                  <a:pt x="650" y="514"/>
                </a:lnTo>
                <a:lnTo>
                  <a:pt x="652" y="543"/>
                </a:lnTo>
                <a:lnTo>
                  <a:pt x="652" y="572"/>
                </a:lnTo>
                <a:lnTo>
                  <a:pt x="654" y="603"/>
                </a:lnTo>
                <a:lnTo>
                  <a:pt x="654" y="633"/>
                </a:lnTo>
                <a:lnTo>
                  <a:pt x="654" y="664"/>
                </a:lnTo>
                <a:lnTo>
                  <a:pt x="652" y="697"/>
                </a:lnTo>
                <a:lnTo>
                  <a:pt x="652" y="729"/>
                </a:lnTo>
                <a:lnTo>
                  <a:pt x="650" y="764"/>
                </a:lnTo>
                <a:lnTo>
                  <a:pt x="650" y="796"/>
                </a:lnTo>
                <a:lnTo>
                  <a:pt x="648" y="831"/>
                </a:lnTo>
                <a:lnTo>
                  <a:pt x="646" y="867"/>
                </a:lnTo>
                <a:lnTo>
                  <a:pt x="645" y="902"/>
                </a:lnTo>
                <a:lnTo>
                  <a:pt x="641" y="938"/>
                </a:lnTo>
                <a:lnTo>
                  <a:pt x="639" y="971"/>
                </a:lnTo>
                <a:lnTo>
                  <a:pt x="635" y="1004"/>
                </a:lnTo>
                <a:lnTo>
                  <a:pt x="631" y="1033"/>
                </a:lnTo>
                <a:lnTo>
                  <a:pt x="627" y="1061"/>
                </a:lnTo>
                <a:lnTo>
                  <a:pt x="623" y="1088"/>
                </a:lnTo>
                <a:lnTo>
                  <a:pt x="620" y="1113"/>
                </a:lnTo>
                <a:lnTo>
                  <a:pt x="614" y="1136"/>
                </a:lnTo>
                <a:lnTo>
                  <a:pt x="608" y="1157"/>
                </a:lnTo>
                <a:lnTo>
                  <a:pt x="604" y="1176"/>
                </a:lnTo>
                <a:lnTo>
                  <a:pt x="598" y="1194"/>
                </a:lnTo>
                <a:lnTo>
                  <a:pt x="593" y="1209"/>
                </a:lnTo>
                <a:lnTo>
                  <a:pt x="585" y="1223"/>
                </a:lnTo>
                <a:lnTo>
                  <a:pt x="583" y="1228"/>
                </a:lnTo>
                <a:lnTo>
                  <a:pt x="579" y="1234"/>
                </a:lnTo>
                <a:lnTo>
                  <a:pt x="575" y="1240"/>
                </a:lnTo>
                <a:lnTo>
                  <a:pt x="572" y="1244"/>
                </a:lnTo>
                <a:lnTo>
                  <a:pt x="568" y="1247"/>
                </a:lnTo>
                <a:lnTo>
                  <a:pt x="566" y="1251"/>
                </a:lnTo>
                <a:lnTo>
                  <a:pt x="550" y="1265"/>
                </a:lnTo>
                <a:lnTo>
                  <a:pt x="535" y="1276"/>
                </a:lnTo>
                <a:lnTo>
                  <a:pt x="522" y="1288"/>
                </a:lnTo>
                <a:lnTo>
                  <a:pt x="508" y="1295"/>
                </a:lnTo>
                <a:lnTo>
                  <a:pt x="497" y="1303"/>
                </a:lnTo>
                <a:lnTo>
                  <a:pt x="493" y="1305"/>
                </a:lnTo>
                <a:lnTo>
                  <a:pt x="487" y="1307"/>
                </a:lnTo>
                <a:lnTo>
                  <a:pt x="483" y="1309"/>
                </a:lnTo>
                <a:lnTo>
                  <a:pt x="479" y="1311"/>
                </a:lnTo>
                <a:lnTo>
                  <a:pt x="476" y="1311"/>
                </a:lnTo>
                <a:lnTo>
                  <a:pt x="474" y="1313"/>
                </a:lnTo>
                <a:lnTo>
                  <a:pt x="468" y="1311"/>
                </a:lnTo>
                <a:lnTo>
                  <a:pt x="464" y="1311"/>
                </a:lnTo>
                <a:lnTo>
                  <a:pt x="458" y="1309"/>
                </a:lnTo>
                <a:lnTo>
                  <a:pt x="454" y="1307"/>
                </a:lnTo>
                <a:lnTo>
                  <a:pt x="451" y="1305"/>
                </a:lnTo>
                <a:lnTo>
                  <a:pt x="449" y="1301"/>
                </a:lnTo>
                <a:lnTo>
                  <a:pt x="445" y="1297"/>
                </a:lnTo>
                <a:lnTo>
                  <a:pt x="441" y="1292"/>
                </a:lnTo>
                <a:lnTo>
                  <a:pt x="439" y="1286"/>
                </a:lnTo>
                <a:lnTo>
                  <a:pt x="435" y="1280"/>
                </a:lnTo>
                <a:lnTo>
                  <a:pt x="433" y="1274"/>
                </a:lnTo>
                <a:lnTo>
                  <a:pt x="430" y="1267"/>
                </a:lnTo>
                <a:lnTo>
                  <a:pt x="428" y="1257"/>
                </a:lnTo>
                <a:lnTo>
                  <a:pt x="426" y="1247"/>
                </a:lnTo>
                <a:lnTo>
                  <a:pt x="422" y="1238"/>
                </a:lnTo>
                <a:lnTo>
                  <a:pt x="420" y="1228"/>
                </a:lnTo>
                <a:lnTo>
                  <a:pt x="418" y="1219"/>
                </a:lnTo>
                <a:lnTo>
                  <a:pt x="414" y="1209"/>
                </a:lnTo>
                <a:lnTo>
                  <a:pt x="410" y="1201"/>
                </a:lnTo>
                <a:lnTo>
                  <a:pt x="407" y="1192"/>
                </a:lnTo>
                <a:lnTo>
                  <a:pt x="401" y="1182"/>
                </a:lnTo>
                <a:lnTo>
                  <a:pt x="395" y="1175"/>
                </a:lnTo>
                <a:lnTo>
                  <a:pt x="389" y="1165"/>
                </a:lnTo>
                <a:lnTo>
                  <a:pt x="382" y="1157"/>
                </a:lnTo>
                <a:lnTo>
                  <a:pt x="368" y="1140"/>
                </a:lnTo>
                <a:lnTo>
                  <a:pt x="353" y="1125"/>
                </a:lnTo>
                <a:lnTo>
                  <a:pt x="334" y="1109"/>
                </a:lnTo>
                <a:lnTo>
                  <a:pt x="316" y="1096"/>
                </a:lnTo>
                <a:lnTo>
                  <a:pt x="303" y="1088"/>
                </a:lnTo>
                <a:lnTo>
                  <a:pt x="293" y="1082"/>
                </a:lnTo>
                <a:lnTo>
                  <a:pt x="282" y="1077"/>
                </a:lnTo>
                <a:lnTo>
                  <a:pt x="274" y="1071"/>
                </a:lnTo>
                <a:lnTo>
                  <a:pt x="264" y="1065"/>
                </a:lnTo>
                <a:lnTo>
                  <a:pt x="257" y="1059"/>
                </a:lnTo>
                <a:lnTo>
                  <a:pt x="251" y="1054"/>
                </a:lnTo>
                <a:lnTo>
                  <a:pt x="245" y="1050"/>
                </a:lnTo>
                <a:lnTo>
                  <a:pt x="240" y="1046"/>
                </a:lnTo>
                <a:lnTo>
                  <a:pt x="236" y="1042"/>
                </a:lnTo>
                <a:lnTo>
                  <a:pt x="232" y="1038"/>
                </a:lnTo>
                <a:lnTo>
                  <a:pt x="228" y="1034"/>
                </a:lnTo>
                <a:lnTo>
                  <a:pt x="226" y="1031"/>
                </a:lnTo>
                <a:lnTo>
                  <a:pt x="224" y="1029"/>
                </a:lnTo>
                <a:lnTo>
                  <a:pt x="224" y="1025"/>
                </a:lnTo>
                <a:lnTo>
                  <a:pt x="224" y="1023"/>
                </a:lnTo>
                <a:lnTo>
                  <a:pt x="224" y="1021"/>
                </a:lnTo>
                <a:lnTo>
                  <a:pt x="224" y="1019"/>
                </a:lnTo>
                <a:lnTo>
                  <a:pt x="226" y="1017"/>
                </a:lnTo>
                <a:lnTo>
                  <a:pt x="228" y="1013"/>
                </a:lnTo>
                <a:lnTo>
                  <a:pt x="232" y="1011"/>
                </a:lnTo>
                <a:lnTo>
                  <a:pt x="234" y="1011"/>
                </a:lnTo>
                <a:lnTo>
                  <a:pt x="238" y="1009"/>
                </a:lnTo>
                <a:lnTo>
                  <a:pt x="243" y="1008"/>
                </a:lnTo>
                <a:lnTo>
                  <a:pt x="249" y="1008"/>
                </a:lnTo>
                <a:lnTo>
                  <a:pt x="255" y="1006"/>
                </a:lnTo>
                <a:lnTo>
                  <a:pt x="261" y="1006"/>
                </a:lnTo>
                <a:lnTo>
                  <a:pt x="268" y="1006"/>
                </a:lnTo>
                <a:lnTo>
                  <a:pt x="276" y="1006"/>
                </a:lnTo>
                <a:lnTo>
                  <a:pt x="284" y="1008"/>
                </a:lnTo>
                <a:lnTo>
                  <a:pt x="293" y="1009"/>
                </a:lnTo>
                <a:lnTo>
                  <a:pt x="303" y="1011"/>
                </a:lnTo>
                <a:lnTo>
                  <a:pt x="320" y="1015"/>
                </a:lnTo>
                <a:lnTo>
                  <a:pt x="339" y="1019"/>
                </a:lnTo>
                <a:lnTo>
                  <a:pt x="355" y="1023"/>
                </a:lnTo>
                <a:lnTo>
                  <a:pt x="370" y="1027"/>
                </a:lnTo>
                <a:lnTo>
                  <a:pt x="376" y="1027"/>
                </a:lnTo>
                <a:lnTo>
                  <a:pt x="382" y="1027"/>
                </a:lnTo>
                <a:lnTo>
                  <a:pt x="387" y="1029"/>
                </a:lnTo>
                <a:lnTo>
                  <a:pt x="393" y="1029"/>
                </a:lnTo>
                <a:lnTo>
                  <a:pt x="397" y="1027"/>
                </a:lnTo>
                <a:lnTo>
                  <a:pt x="401" y="1027"/>
                </a:lnTo>
                <a:lnTo>
                  <a:pt x="405" y="1025"/>
                </a:lnTo>
                <a:lnTo>
                  <a:pt x="407" y="10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Freeform 144"/>
          <p:cNvSpPr/>
          <p:nvPr/>
        </p:nvSpPr>
        <p:spPr>
          <a:xfrm>
            <a:off x="5987880" y="3473280"/>
            <a:ext cx="176400" cy="949320"/>
          </a:xfrm>
          <a:custGeom>
            <a:avLst/>
            <a:gdLst/>
            <a:ahLst/>
            <a:rect l="l" t="t" r="r" b="b"/>
            <a:pathLst>
              <a:path w="223" h="1195">
                <a:moveTo>
                  <a:pt x="66" y="101"/>
                </a:moveTo>
                <a:lnTo>
                  <a:pt x="64" y="90"/>
                </a:lnTo>
                <a:lnTo>
                  <a:pt x="62" y="80"/>
                </a:lnTo>
                <a:lnTo>
                  <a:pt x="60" y="71"/>
                </a:lnTo>
                <a:lnTo>
                  <a:pt x="58" y="61"/>
                </a:lnTo>
                <a:lnTo>
                  <a:pt x="58" y="53"/>
                </a:lnTo>
                <a:lnTo>
                  <a:pt x="56" y="46"/>
                </a:lnTo>
                <a:lnTo>
                  <a:pt x="56" y="40"/>
                </a:lnTo>
                <a:lnTo>
                  <a:pt x="56" y="34"/>
                </a:lnTo>
                <a:lnTo>
                  <a:pt x="58" y="28"/>
                </a:lnTo>
                <a:lnTo>
                  <a:pt x="60" y="24"/>
                </a:lnTo>
                <a:lnTo>
                  <a:pt x="62" y="19"/>
                </a:lnTo>
                <a:lnTo>
                  <a:pt x="64" y="15"/>
                </a:lnTo>
                <a:lnTo>
                  <a:pt x="66" y="13"/>
                </a:lnTo>
                <a:lnTo>
                  <a:pt x="69" y="9"/>
                </a:lnTo>
                <a:lnTo>
                  <a:pt x="73" y="7"/>
                </a:lnTo>
                <a:lnTo>
                  <a:pt x="79" y="3"/>
                </a:lnTo>
                <a:lnTo>
                  <a:pt x="83" y="1"/>
                </a:lnTo>
                <a:lnTo>
                  <a:pt x="89" y="1"/>
                </a:lnTo>
                <a:lnTo>
                  <a:pt x="96" y="0"/>
                </a:lnTo>
                <a:lnTo>
                  <a:pt x="102" y="0"/>
                </a:lnTo>
                <a:lnTo>
                  <a:pt x="110" y="0"/>
                </a:lnTo>
                <a:lnTo>
                  <a:pt x="117" y="0"/>
                </a:lnTo>
                <a:lnTo>
                  <a:pt x="127" y="1"/>
                </a:lnTo>
                <a:lnTo>
                  <a:pt x="135" y="3"/>
                </a:lnTo>
                <a:lnTo>
                  <a:pt x="144" y="5"/>
                </a:lnTo>
                <a:lnTo>
                  <a:pt x="156" y="9"/>
                </a:lnTo>
                <a:lnTo>
                  <a:pt x="165" y="13"/>
                </a:lnTo>
                <a:lnTo>
                  <a:pt x="177" y="17"/>
                </a:lnTo>
                <a:lnTo>
                  <a:pt x="186" y="23"/>
                </a:lnTo>
                <a:lnTo>
                  <a:pt x="198" y="28"/>
                </a:lnTo>
                <a:lnTo>
                  <a:pt x="209" y="34"/>
                </a:lnTo>
                <a:lnTo>
                  <a:pt x="223" y="40"/>
                </a:lnTo>
                <a:lnTo>
                  <a:pt x="221" y="80"/>
                </a:lnTo>
                <a:lnTo>
                  <a:pt x="217" y="120"/>
                </a:lnTo>
                <a:lnTo>
                  <a:pt x="215" y="159"/>
                </a:lnTo>
                <a:lnTo>
                  <a:pt x="213" y="197"/>
                </a:lnTo>
                <a:lnTo>
                  <a:pt x="211" y="234"/>
                </a:lnTo>
                <a:lnTo>
                  <a:pt x="209" y="268"/>
                </a:lnTo>
                <a:lnTo>
                  <a:pt x="208" y="301"/>
                </a:lnTo>
                <a:lnTo>
                  <a:pt x="206" y="333"/>
                </a:lnTo>
                <a:lnTo>
                  <a:pt x="204" y="364"/>
                </a:lnTo>
                <a:lnTo>
                  <a:pt x="202" y="395"/>
                </a:lnTo>
                <a:lnTo>
                  <a:pt x="200" y="422"/>
                </a:lnTo>
                <a:lnTo>
                  <a:pt x="198" y="451"/>
                </a:lnTo>
                <a:lnTo>
                  <a:pt x="198" y="476"/>
                </a:lnTo>
                <a:lnTo>
                  <a:pt x="196" y="500"/>
                </a:lnTo>
                <a:lnTo>
                  <a:pt x="194" y="524"/>
                </a:lnTo>
                <a:lnTo>
                  <a:pt x="192" y="547"/>
                </a:lnTo>
                <a:lnTo>
                  <a:pt x="192" y="566"/>
                </a:lnTo>
                <a:lnTo>
                  <a:pt x="190" y="587"/>
                </a:lnTo>
                <a:lnTo>
                  <a:pt x="190" y="604"/>
                </a:lnTo>
                <a:lnTo>
                  <a:pt x="188" y="621"/>
                </a:lnTo>
                <a:lnTo>
                  <a:pt x="188" y="637"/>
                </a:lnTo>
                <a:lnTo>
                  <a:pt x="186" y="652"/>
                </a:lnTo>
                <a:lnTo>
                  <a:pt x="186" y="664"/>
                </a:lnTo>
                <a:lnTo>
                  <a:pt x="186" y="677"/>
                </a:lnTo>
                <a:lnTo>
                  <a:pt x="185" y="687"/>
                </a:lnTo>
                <a:lnTo>
                  <a:pt x="185" y="696"/>
                </a:lnTo>
                <a:lnTo>
                  <a:pt x="185" y="704"/>
                </a:lnTo>
                <a:lnTo>
                  <a:pt x="185" y="712"/>
                </a:lnTo>
                <a:lnTo>
                  <a:pt x="183" y="717"/>
                </a:lnTo>
                <a:lnTo>
                  <a:pt x="183" y="721"/>
                </a:lnTo>
                <a:lnTo>
                  <a:pt x="183" y="725"/>
                </a:lnTo>
                <a:lnTo>
                  <a:pt x="183" y="727"/>
                </a:lnTo>
                <a:lnTo>
                  <a:pt x="183" y="729"/>
                </a:lnTo>
                <a:lnTo>
                  <a:pt x="183" y="733"/>
                </a:lnTo>
                <a:lnTo>
                  <a:pt x="183" y="739"/>
                </a:lnTo>
                <a:lnTo>
                  <a:pt x="181" y="746"/>
                </a:lnTo>
                <a:lnTo>
                  <a:pt x="179" y="756"/>
                </a:lnTo>
                <a:lnTo>
                  <a:pt x="179" y="765"/>
                </a:lnTo>
                <a:lnTo>
                  <a:pt x="177" y="777"/>
                </a:lnTo>
                <a:lnTo>
                  <a:pt x="175" y="788"/>
                </a:lnTo>
                <a:lnTo>
                  <a:pt x="173" y="804"/>
                </a:lnTo>
                <a:lnTo>
                  <a:pt x="171" y="819"/>
                </a:lnTo>
                <a:lnTo>
                  <a:pt x="169" y="836"/>
                </a:lnTo>
                <a:lnTo>
                  <a:pt x="167" y="856"/>
                </a:lnTo>
                <a:lnTo>
                  <a:pt x="163" y="875"/>
                </a:lnTo>
                <a:lnTo>
                  <a:pt x="161" y="896"/>
                </a:lnTo>
                <a:lnTo>
                  <a:pt x="160" y="919"/>
                </a:lnTo>
                <a:lnTo>
                  <a:pt x="158" y="944"/>
                </a:lnTo>
                <a:lnTo>
                  <a:pt x="152" y="969"/>
                </a:lnTo>
                <a:lnTo>
                  <a:pt x="148" y="994"/>
                </a:lnTo>
                <a:lnTo>
                  <a:pt x="142" y="1017"/>
                </a:lnTo>
                <a:lnTo>
                  <a:pt x="138" y="1040"/>
                </a:lnTo>
                <a:lnTo>
                  <a:pt x="133" y="1061"/>
                </a:lnTo>
                <a:lnTo>
                  <a:pt x="129" y="1080"/>
                </a:lnTo>
                <a:lnTo>
                  <a:pt x="123" y="1097"/>
                </a:lnTo>
                <a:lnTo>
                  <a:pt x="119" y="1113"/>
                </a:lnTo>
                <a:lnTo>
                  <a:pt x="115" y="1128"/>
                </a:lnTo>
                <a:lnTo>
                  <a:pt x="112" y="1140"/>
                </a:lnTo>
                <a:lnTo>
                  <a:pt x="108" y="1151"/>
                </a:lnTo>
                <a:lnTo>
                  <a:pt x="104" y="1161"/>
                </a:lnTo>
                <a:lnTo>
                  <a:pt x="100" y="1168"/>
                </a:lnTo>
                <a:lnTo>
                  <a:pt x="96" y="1176"/>
                </a:lnTo>
                <a:lnTo>
                  <a:pt x="94" y="1180"/>
                </a:lnTo>
                <a:lnTo>
                  <a:pt x="90" y="1184"/>
                </a:lnTo>
                <a:lnTo>
                  <a:pt x="87" y="1188"/>
                </a:lnTo>
                <a:lnTo>
                  <a:pt x="81" y="1191"/>
                </a:lnTo>
                <a:lnTo>
                  <a:pt x="77" y="1193"/>
                </a:lnTo>
                <a:lnTo>
                  <a:pt x="71" y="1195"/>
                </a:lnTo>
                <a:lnTo>
                  <a:pt x="67" y="1195"/>
                </a:lnTo>
                <a:lnTo>
                  <a:pt x="62" y="1195"/>
                </a:lnTo>
                <a:lnTo>
                  <a:pt x="58" y="1193"/>
                </a:lnTo>
                <a:lnTo>
                  <a:pt x="54" y="1191"/>
                </a:lnTo>
                <a:lnTo>
                  <a:pt x="48" y="1188"/>
                </a:lnTo>
                <a:lnTo>
                  <a:pt x="44" y="1184"/>
                </a:lnTo>
                <a:lnTo>
                  <a:pt x="41" y="1178"/>
                </a:lnTo>
                <a:lnTo>
                  <a:pt x="37" y="1172"/>
                </a:lnTo>
                <a:lnTo>
                  <a:pt x="35" y="1165"/>
                </a:lnTo>
                <a:lnTo>
                  <a:pt x="31" y="1155"/>
                </a:lnTo>
                <a:lnTo>
                  <a:pt x="27" y="1145"/>
                </a:lnTo>
                <a:lnTo>
                  <a:pt x="25" y="1136"/>
                </a:lnTo>
                <a:lnTo>
                  <a:pt x="23" y="1124"/>
                </a:lnTo>
                <a:lnTo>
                  <a:pt x="21" y="1115"/>
                </a:lnTo>
                <a:lnTo>
                  <a:pt x="18" y="1103"/>
                </a:lnTo>
                <a:lnTo>
                  <a:pt x="16" y="1096"/>
                </a:lnTo>
                <a:lnTo>
                  <a:pt x="14" y="1086"/>
                </a:lnTo>
                <a:lnTo>
                  <a:pt x="12" y="1078"/>
                </a:lnTo>
                <a:lnTo>
                  <a:pt x="10" y="1071"/>
                </a:lnTo>
                <a:lnTo>
                  <a:pt x="8" y="1063"/>
                </a:lnTo>
                <a:lnTo>
                  <a:pt x="6" y="1057"/>
                </a:lnTo>
                <a:lnTo>
                  <a:pt x="4" y="1051"/>
                </a:lnTo>
                <a:lnTo>
                  <a:pt x="2" y="1046"/>
                </a:lnTo>
                <a:lnTo>
                  <a:pt x="2" y="1040"/>
                </a:lnTo>
                <a:lnTo>
                  <a:pt x="0" y="1036"/>
                </a:lnTo>
                <a:lnTo>
                  <a:pt x="0" y="1032"/>
                </a:lnTo>
                <a:lnTo>
                  <a:pt x="0" y="1030"/>
                </a:lnTo>
                <a:lnTo>
                  <a:pt x="0" y="1026"/>
                </a:lnTo>
                <a:lnTo>
                  <a:pt x="0" y="1025"/>
                </a:lnTo>
                <a:lnTo>
                  <a:pt x="0" y="1021"/>
                </a:lnTo>
                <a:lnTo>
                  <a:pt x="0" y="1019"/>
                </a:lnTo>
                <a:lnTo>
                  <a:pt x="0" y="1011"/>
                </a:lnTo>
                <a:lnTo>
                  <a:pt x="2" y="1003"/>
                </a:lnTo>
                <a:lnTo>
                  <a:pt x="4" y="992"/>
                </a:lnTo>
                <a:lnTo>
                  <a:pt x="6" y="978"/>
                </a:lnTo>
                <a:lnTo>
                  <a:pt x="8" y="965"/>
                </a:lnTo>
                <a:lnTo>
                  <a:pt x="12" y="950"/>
                </a:lnTo>
                <a:lnTo>
                  <a:pt x="14" y="930"/>
                </a:lnTo>
                <a:lnTo>
                  <a:pt x="18" y="911"/>
                </a:lnTo>
                <a:lnTo>
                  <a:pt x="23" y="890"/>
                </a:lnTo>
                <a:lnTo>
                  <a:pt x="27" y="869"/>
                </a:lnTo>
                <a:lnTo>
                  <a:pt x="33" y="844"/>
                </a:lnTo>
                <a:lnTo>
                  <a:pt x="39" y="819"/>
                </a:lnTo>
                <a:lnTo>
                  <a:pt x="44" y="790"/>
                </a:lnTo>
                <a:lnTo>
                  <a:pt x="52" y="763"/>
                </a:lnTo>
                <a:lnTo>
                  <a:pt x="56" y="733"/>
                </a:lnTo>
                <a:lnTo>
                  <a:pt x="62" y="704"/>
                </a:lnTo>
                <a:lnTo>
                  <a:pt x="66" y="677"/>
                </a:lnTo>
                <a:lnTo>
                  <a:pt x="69" y="648"/>
                </a:lnTo>
                <a:lnTo>
                  <a:pt x="73" y="621"/>
                </a:lnTo>
                <a:lnTo>
                  <a:pt x="75" y="596"/>
                </a:lnTo>
                <a:lnTo>
                  <a:pt x="81" y="545"/>
                </a:lnTo>
                <a:lnTo>
                  <a:pt x="85" y="495"/>
                </a:lnTo>
                <a:lnTo>
                  <a:pt x="89" y="445"/>
                </a:lnTo>
                <a:lnTo>
                  <a:pt x="90" y="399"/>
                </a:lnTo>
                <a:lnTo>
                  <a:pt x="90" y="353"/>
                </a:lnTo>
                <a:lnTo>
                  <a:pt x="90" y="332"/>
                </a:lnTo>
                <a:lnTo>
                  <a:pt x="90" y="309"/>
                </a:lnTo>
                <a:lnTo>
                  <a:pt x="90" y="289"/>
                </a:lnTo>
                <a:lnTo>
                  <a:pt x="89" y="270"/>
                </a:lnTo>
                <a:lnTo>
                  <a:pt x="87" y="251"/>
                </a:lnTo>
                <a:lnTo>
                  <a:pt x="87" y="234"/>
                </a:lnTo>
                <a:lnTo>
                  <a:pt x="85" y="216"/>
                </a:lnTo>
                <a:lnTo>
                  <a:pt x="83" y="199"/>
                </a:lnTo>
                <a:lnTo>
                  <a:pt x="81" y="184"/>
                </a:lnTo>
                <a:lnTo>
                  <a:pt x="79" y="170"/>
                </a:lnTo>
                <a:lnTo>
                  <a:pt x="77" y="157"/>
                </a:lnTo>
                <a:lnTo>
                  <a:pt x="75" y="143"/>
                </a:lnTo>
                <a:lnTo>
                  <a:pt x="71" y="132"/>
                </a:lnTo>
                <a:lnTo>
                  <a:pt x="69" y="120"/>
                </a:lnTo>
                <a:lnTo>
                  <a:pt x="67" y="109"/>
                </a:lnTo>
                <a:lnTo>
                  <a:pt x="66" y="1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145"/>
          <p:cNvSpPr/>
          <p:nvPr/>
        </p:nvSpPr>
        <p:spPr>
          <a:xfrm>
            <a:off x="6113520" y="3963960"/>
            <a:ext cx="301680" cy="104760"/>
          </a:xfrm>
          <a:custGeom>
            <a:avLst/>
            <a:gdLst/>
            <a:ahLst/>
            <a:rect l="l" t="t" r="r" b="b"/>
            <a:pathLst>
              <a:path w="380" h="132">
                <a:moveTo>
                  <a:pt x="288" y="109"/>
                </a:moveTo>
                <a:lnTo>
                  <a:pt x="278" y="111"/>
                </a:lnTo>
                <a:lnTo>
                  <a:pt x="266" y="113"/>
                </a:lnTo>
                <a:lnTo>
                  <a:pt x="253" y="115"/>
                </a:lnTo>
                <a:lnTo>
                  <a:pt x="241" y="117"/>
                </a:lnTo>
                <a:lnTo>
                  <a:pt x="226" y="119"/>
                </a:lnTo>
                <a:lnTo>
                  <a:pt x="211" y="121"/>
                </a:lnTo>
                <a:lnTo>
                  <a:pt x="195" y="122"/>
                </a:lnTo>
                <a:lnTo>
                  <a:pt x="178" y="124"/>
                </a:lnTo>
                <a:lnTo>
                  <a:pt x="159" y="126"/>
                </a:lnTo>
                <a:lnTo>
                  <a:pt x="140" y="128"/>
                </a:lnTo>
                <a:lnTo>
                  <a:pt x="119" y="128"/>
                </a:lnTo>
                <a:lnTo>
                  <a:pt x="98" y="130"/>
                </a:lnTo>
                <a:lnTo>
                  <a:pt x="74" y="130"/>
                </a:lnTo>
                <a:lnTo>
                  <a:pt x="50" y="132"/>
                </a:lnTo>
                <a:lnTo>
                  <a:pt x="25" y="132"/>
                </a:lnTo>
                <a:lnTo>
                  <a:pt x="0" y="132"/>
                </a:lnTo>
                <a:lnTo>
                  <a:pt x="0" y="84"/>
                </a:lnTo>
                <a:lnTo>
                  <a:pt x="0" y="36"/>
                </a:lnTo>
                <a:lnTo>
                  <a:pt x="23" y="36"/>
                </a:lnTo>
                <a:lnTo>
                  <a:pt x="46" y="34"/>
                </a:lnTo>
                <a:lnTo>
                  <a:pt x="67" y="32"/>
                </a:lnTo>
                <a:lnTo>
                  <a:pt x="88" y="28"/>
                </a:lnTo>
                <a:lnTo>
                  <a:pt x="107" y="25"/>
                </a:lnTo>
                <a:lnTo>
                  <a:pt x="124" y="21"/>
                </a:lnTo>
                <a:lnTo>
                  <a:pt x="142" y="17"/>
                </a:lnTo>
                <a:lnTo>
                  <a:pt x="157" y="13"/>
                </a:lnTo>
                <a:lnTo>
                  <a:pt x="170" y="7"/>
                </a:lnTo>
                <a:lnTo>
                  <a:pt x="184" y="5"/>
                </a:lnTo>
                <a:lnTo>
                  <a:pt x="195" y="3"/>
                </a:lnTo>
                <a:lnTo>
                  <a:pt x="207" y="1"/>
                </a:lnTo>
                <a:lnTo>
                  <a:pt x="218" y="0"/>
                </a:lnTo>
                <a:lnTo>
                  <a:pt x="228" y="0"/>
                </a:lnTo>
                <a:lnTo>
                  <a:pt x="249" y="0"/>
                </a:lnTo>
                <a:lnTo>
                  <a:pt x="253" y="0"/>
                </a:lnTo>
                <a:lnTo>
                  <a:pt x="261" y="0"/>
                </a:lnTo>
                <a:lnTo>
                  <a:pt x="268" y="0"/>
                </a:lnTo>
                <a:lnTo>
                  <a:pt x="278" y="1"/>
                </a:lnTo>
                <a:lnTo>
                  <a:pt x="288" y="3"/>
                </a:lnTo>
                <a:lnTo>
                  <a:pt x="299" y="5"/>
                </a:lnTo>
                <a:lnTo>
                  <a:pt x="313" y="7"/>
                </a:lnTo>
                <a:lnTo>
                  <a:pt x="328" y="13"/>
                </a:lnTo>
                <a:lnTo>
                  <a:pt x="334" y="15"/>
                </a:lnTo>
                <a:lnTo>
                  <a:pt x="341" y="17"/>
                </a:lnTo>
                <a:lnTo>
                  <a:pt x="347" y="21"/>
                </a:lnTo>
                <a:lnTo>
                  <a:pt x="351" y="23"/>
                </a:lnTo>
                <a:lnTo>
                  <a:pt x="357" y="26"/>
                </a:lnTo>
                <a:lnTo>
                  <a:pt x="360" y="30"/>
                </a:lnTo>
                <a:lnTo>
                  <a:pt x="364" y="32"/>
                </a:lnTo>
                <a:lnTo>
                  <a:pt x="368" y="36"/>
                </a:lnTo>
                <a:lnTo>
                  <a:pt x="374" y="44"/>
                </a:lnTo>
                <a:lnTo>
                  <a:pt x="378" y="49"/>
                </a:lnTo>
                <a:lnTo>
                  <a:pt x="380" y="55"/>
                </a:lnTo>
                <a:lnTo>
                  <a:pt x="380" y="61"/>
                </a:lnTo>
                <a:lnTo>
                  <a:pt x="380" y="63"/>
                </a:lnTo>
                <a:lnTo>
                  <a:pt x="378" y="65"/>
                </a:lnTo>
                <a:lnTo>
                  <a:pt x="378" y="69"/>
                </a:lnTo>
                <a:lnTo>
                  <a:pt x="374" y="71"/>
                </a:lnTo>
                <a:lnTo>
                  <a:pt x="372" y="74"/>
                </a:lnTo>
                <a:lnTo>
                  <a:pt x="368" y="78"/>
                </a:lnTo>
                <a:lnTo>
                  <a:pt x="364" y="80"/>
                </a:lnTo>
                <a:lnTo>
                  <a:pt x="359" y="84"/>
                </a:lnTo>
                <a:lnTo>
                  <a:pt x="353" y="88"/>
                </a:lnTo>
                <a:lnTo>
                  <a:pt x="345" y="92"/>
                </a:lnTo>
                <a:lnTo>
                  <a:pt x="337" y="94"/>
                </a:lnTo>
                <a:lnTo>
                  <a:pt x="330" y="97"/>
                </a:lnTo>
                <a:lnTo>
                  <a:pt x="320" y="99"/>
                </a:lnTo>
                <a:lnTo>
                  <a:pt x="311" y="103"/>
                </a:lnTo>
                <a:lnTo>
                  <a:pt x="299" y="105"/>
                </a:lnTo>
                <a:lnTo>
                  <a:pt x="288" y="1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Freeform 146"/>
          <p:cNvSpPr/>
          <p:nvPr/>
        </p:nvSpPr>
        <p:spPr>
          <a:xfrm>
            <a:off x="6113520" y="3735360"/>
            <a:ext cx="301680" cy="93600"/>
          </a:xfrm>
          <a:custGeom>
            <a:avLst/>
            <a:gdLst/>
            <a:ahLst/>
            <a:rect l="l" t="t" r="r" b="b"/>
            <a:pathLst>
              <a:path w="380" h="119">
                <a:moveTo>
                  <a:pt x="0" y="36"/>
                </a:moveTo>
                <a:lnTo>
                  <a:pt x="23" y="34"/>
                </a:lnTo>
                <a:lnTo>
                  <a:pt x="46" y="32"/>
                </a:lnTo>
                <a:lnTo>
                  <a:pt x="67" y="30"/>
                </a:lnTo>
                <a:lnTo>
                  <a:pt x="88" y="28"/>
                </a:lnTo>
                <a:lnTo>
                  <a:pt x="107" y="25"/>
                </a:lnTo>
                <a:lnTo>
                  <a:pt x="124" y="21"/>
                </a:lnTo>
                <a:lnTo>
                  <a:pt x="142" y="15"/>
                </a:lnTo>
                <a:lnTo>
                  <a:pt x="157" y="11"/>
                </a:lnTo>
                <a:lnTo>
                  <a:pt x="170" y="7"/>
                </a:lnTo>
                <a:lnTo>
                  <a:pt x="186" y="3"/>
                </a:lnTo>
                <a:lnTo>
                  <a:pt x="203" y="2"/>
                </a:lnTo>
                <a:lnTo>
                  <a:pt x="218" y="0"/>
                </a:lnTo>
                <a:lnTo>
                  <a:pt x="238" y="0"/>
                </a:lnTo>
                <a:lnTo>
                  <a:pt x="257" y="0"/>
                </a:lnTo>
                <a:lnTo>
                  <a:pt x="266" y="0"/>
                </a:lnTo>
                <a:lnTo>
                  <a:pt x="278" y="0"/>
                </a:lnTo>
                <a:lnTo>
                  <a:pt x="289" y="0"/>
                </a:lnTo>
                <a:lnTo>
                  <a:pt x="301" y="0"/>
                </a:lnTo>
                <a:lnTo>
                  <a:pt x="311" y="0"/>
                </a:lnTo>
                <a:lnTo>
                  <a:pt x="320" y="0"/>
                </a:lnTo>
                <a:lnTo>
                  <a:pt x="328" y="0"/>
                </a:lnTo>
                <a:lnTo>
                  <a:pt x="336" y="2"/>
                </a:lnTo>
                <a:lnTo>
                  <a:pt x="343" y="2"/>
                </a:lnTo>
                <a:lnTo>
                  <a:pt x="349" y="3"/>
                </a:lnTo>
                <a:lnTo>
                  <a:pt x="355" y="5"/>
                </a:lnTo>
                <a:lnTo>
                  <a:pt x="360" y="5"/>
                </a:lnTo>
                <a:lnTo>
                  <a:pt x="364" y="7"/>
                </a:lnTo>
                <a:lnTo>
                  <a:pt x="368" y="9"/>
                </a:lnTo>
                <a:lnTo>
                  <a:pt x="372" y="11"/>
                </a:lnTo>
                <a:lnTo>
                  <a:pt x="374" y="13"/>
                </a:lnTo>
                <a:lnTo>
                  <a:pt x="378" y="17"/>
                </a:lnTo>
                <a:lnTo>
                  <a:pt x="378" y="19"/>
                </a:lnTo>
                <a:lnTo>
                  <a:pt x="380" y="21"/>
                </a:lnTo>
                <a:lnTo>
                  <a:pt x="380" y="23"/>
                </a:lnTo>
                <a:lnTo>
                  <a:pt x="380" y="30"/>
                </a:lnTo>
                <a:lnTo>
                  <a:pt x="378" y="38"/>
                </a:lnTo>
                <a:lnTo>
                  <a:pt x="374" y="46"/>
                </a:lnTo>
                <a:lnTo>
                  <a:pt x="368" y="51"/>
                </a:lnTo>
                <a:lnTo>
                  <a:pt x="364" y="53"/>
                </a:lnTo>
                <a:lnTo>
                  <a:pt x="360" y="57"/>
                </a:lnTo>
                <a:lnTo>
                  <a:pt x="357" y="59"/>
                </a:lnTo>
                <a:lnTo>
                  <a:pt x="351" y="61"/>
                </a:lnTo>
                <a:lnTo>
                  <a:pt x="347" y="65"/>
                </a:lnTo>
                <a:lnTo>
                  <a:pt x="341" y="67"/>
                </a:lnTo>
                <a:lnTo>
                  <a:pt x="334" y="69"/>
                </a:lnTo>
                <a:lnTo>
                  <a:pt x="328" y="71"/>
                </a:lnTo>
                <a:lnTo>
                  <a:pt x="318" y="75"/>
                </a:lnTo>
                <a:lnTo>
                  <a:pt x="309" y="76"/>
                </a:lnTo>
                <a:lnTo>
                  <a:pt x="297" y="78"/>
                </a:lnTo>
                <a:lnTo>
                  <a:pt x="286" y="82"/>
                </a:lnTo>
                <a:lnTo>
                  <a:pt x="270" y="86"/>
                </a:lnTo>
                <a:lnTo>
                  <a:pt x="255" y="88"/>
                </a:lnTo>
                <a:lnTo>
                  <a:pt x="236" y="92"/>
                </a:lnTo>
                <a:lnTo>
                  <a:pt x="217" y="96"/>
                </a:lnTo>
                <a:lnTo>
                  <a:pt x="195" y="99"/>
                </a:lnTo>
                <a:lnTo>
                  <a:pt x="172" y="101"/>
                </a:lnTo>
                <a:lnTo>
                  <a:pt x="147" y="105"/>
                </a:lnTo>
                <a:lnTo>
                  <a:pt x="122" y="109"/>
                </a:lnTo>
                <a:lnTo>
                  <a:pt x="94" y="111"/>
                </a:lnTo>
                <a:lnTo>
                  <a:pt x="65" y="115"/>
                </a:lnTo>
                <a:lnTo>
                  <a:pt x="32" y="117"/>
                </a:lnTo>
                <a:lnTo>
                  <a:pt x="0" y="119"/>
                </a:lnTo>
                <a:lnTo>
                  <a:pt x="0" y="76"/>
                </a:lnTo>
                <a:lnTo>
                  <a:pt x="0" y="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Freeform 147"/>
          <p:cNvSpPr/>
          <p:nvPr/>
        </p:nvSpPr>
        <p:spPr>
          <a:xfrm>
            <a:off x="6265800" y="2898720"/>
            <a:ext cx="263520" cy="273240"/>
          </a:xfrm>
          <a:custGeom>
            <a:avLst/>
            <a:gdLst/>
            <a:ahLst/>
            <a:rect l="l" t="t" r="r" b="b"/>
            <a:pathLst>
              <a:path w="332" h="343">
                <a:moveTo>
                  <a:pt x="3" y="17"/>
                </a:moveTo>
                <a:lnTo>
                  <a:pt x="9" y="13"/>
                </a:lnTo>
                <a:lnTo>
                  <a:pt x="17" y="9"/>
                </a:lnTo>
                <a:lnTo>
                  <a:pt x="21" y="8"/>
                </a:lnTo>
                <a:lnTo>
                  <a:pt x="26" y="6"/>
                </a:lnTo>
                <a:lnTo>
                  <a:pt x="30" y="4"/>
                </a:lnTo>
                <a:lnTo>
                  <a:pt x="36" y="2"/>
                </a:lnTo>
                <a:lnTo>
                  <a:pt x="44" y="2"/>
                </a:lnTo>
                <a:lnTo>
                  <a:pt x="49" y="0"/>
                </a:lnTo>
                <a:lnTo>
                  <a:pt x="59" y="0"/>
                </a:lnTo>
                <a:lnTo>
                  <a:pt x="67" y="0"/>
                </a:lnTo>
                <a:lnTo>
                  <a:pt x="76" y="2"/>
                </a:lnTo>
                <a:lnTo>
                  <a:pt x="86" y="2"/>
                </a:lnTo>
                <a:lnTo>
                  <a:pt x="97" y="4"/>
                </a:lnTo>
                <a:lnTo>
                  <a:pt x="109" y="6"/>
                </a:lnTo>
                <a:lnTo>
                  <a:pt x="128" y="11"/>
                </a:lnTo>
                <a:lnTo>
                  <a:pt x="147" y="17"/>
                </a:lnTo>
                <a:lnTo>
                  <a:pt x="168" y="25"/>
                </a:lnTo>
                <a:lnTo>
                  <a:pt x="188" y="32"/>
                </a:lnTo>
                <a:lnTo>
                  <a:pt x="207" y="42"/>
                </a:lnTo>
                <a:lnTo>
                  <a:pt x="228" y="54"/>
                </a:lnTo>
                <a:lnTo>
                  <a:pt x="247" y="65"/>
                </a:lnTo>
                <a:lnTo>
                  <a:pt x="266" y="79"/>
                </a:lnTo>
                <a:lnTo>
                  <a:pt x="280" y="92"/>
                </a:lnTo>
                <a:lnTo>
                  <a:pt x="293" y="107"/>
                </a:lnTo>
                <a:lnTo>
                  <a:pt x="305" y="123"/>
                </a:lnTo>
                <a:lnTo>
                  <a:pt x="314" y="142"/>
                </a:lnTo>
                <a:lnTo>
                  <a:pt x="318" y="150"/>
                </a:lnTo>
                <a:lnTo>
                  <a:pt x="322" y="159"/>
                </a:lnTo>
                <a:lnTo>
                  <a:pt x="324" y="169"/>
                </a:lnTo>
                <a:lnTo>
                  <a:pt x="328" y="180"/>
                </a:lnTo>
                <a:lnTo>
                  <a:pt x="330" y="190"/>
                </a:lnTo>
                <a:lnTo>
                  <a:pt x="332" y="199"/>
                </a:lnTo>
                <a:lnTo>
                  <a:pt x="332" y="211"/>
                </a:lnTo>
                <a:lnTo>
                  <a:pt x="332" y="223"/>
                </a:lnTo>
                <a:lnTo>
                  <a:pt x="332" y="234"/>
                </a:lnTo>
                <a:lnTo>
                  <a:pt x="332" y="244"/>
                </a:lnTo>
                <a:lnTo>
                  <a:pt x="332" y="253"/>
                </a:lnTo>
                <a:lnTo>
                  <a:pt x="330" y="263"/>
                </a:lnTo>
                <a:lnTo>
                  <a:pt x="328" y="272"/>
                </a:lnTo>
                <a:lnTo>
                  <a:pt x="328" y="280"/>
                </a:lnTo>
                <a:lnTo>
                  <a:pt x="326" y="288"/>
                </a:lnTo>
                <a:lnTo>
                  <a:pt x="324" y="294"/>
                </a:lnTo>
                <a:lnTo>
                  <a:pt x="322" y="301"/>
                </a:lnTo>
                <a:lnTo>
                  <a:pt x="320" y="307"/>
                </a:lnTo>
                <a:lnTo>
                  <a:pt x="318" y="313"/>
                </a:lnTo>
                <a:lnTo>
                  <a:pt x="316" y="317"/>
                </a:lnTo>
                <a:lnTo>
                  <a:pt x="312" y="320"/>
                </a:lnTo>
                <a:lnTo>
                  <a:pt x="311" y="324"/>
                </a:lnTo>
                <a:lnTo>
                  <a:pt x="309" y="328"/>
                </a:lnTo>
                <a:lnTo>
                  <a:pt x="307" y="330"/>
                </a:lnTo>
                <a:lnTo>
                  <a:pt x="297" y="334"/>
                </a:lnTo>
                <a:lnTo>
                  <a:pt x="289" y="338"/>
                </a:lnTo>
                <a:lnTo>
                  <a:pt x="282" y="340"/>
                </a:lnTo>
                <a:lnTo>
                  <a:pt x="274" y="342"/>
                </a:lnTo>
                <a:lnTo>
                  <a:pt x="268" y="342"/>
                </a:lnTo>
                <a:lnTo>
                  <a:pt x="263" y="342"/>
                </a:lnTo>
                <a:lnTo>
                  <a:pt x="253" y="343"/>
                </a:lnTo>
                <a:lnTo>
                  <a:pt x="251" y="342"/>
                </a:lnTo>
                <a:lnTo>
                  <a:pt x="247" y="342"/>
                </a:lnTo>
                <a:lnTo>
                  <a:pt x="243" y="340"/>
                </a:lnTo>
                <a:lnTo>
                  <a:pt x="240" y="336"/>
                </a:lnTo>
                <a:lnTo>
                  <a:pt x="234" y="332"/>
                </a:lnTo>
                <a:lnTo>
                  <a:pt x="228" y="328"/>
                </a:lnTo>
                <a:lnTo>
                  <a:pt x="222" y="322"/>
                </a:lnTo>
                <a:lnTo>
                  <a:pt x="215" y="317"/>
                </a:lnTo>
                <a:lnTo>
                  <a:pt x="209" y="309"/>
                </a:lnTo>
                <a:lnTo>
                  <a:pt x="201" y="301"/>
                </a:lnTo>
                <a:lnTo>
                  <a:pt x="193" y="292"/>
                </a:lnTo>
                <a:lnTo>
                  <a:pt x="184" y="282"/>
                </a:lnTo>
                <a:lnTo>
                  <a:pt x="176" y="271"/>
                </a:lnTo>
                <a:lnTo>
                  <a:pt x="167" y="259"/>
                </a:lnTo>
                <a:lnTo>
                  <a:pt x="159" y="247"/>
                </a:lnTo>
                <a:lnTo>
                  <a:pt x="149" y="234"/>
                </a:lnTo>
                <a:lnTo>
                  <a:pt x="136" y="223"/>
                </a:lnTo>
                <a:lnTo>
                  <a:pt x="124" y="213"/>
                </a:lnTo>
                <a:lnTo>
                  <a:pt x="115" y="201"/>
                </a:lnTo>
                <a:lnTo>
                  <a:pt x="103" y="192"/>
                </a:lnTo>
                <a:lnTo>
                  <a:pt x="94" y="180"/>
                </a:lnTo>
                <a:lnTo>
                  <a:pt x="86" y="171"/>
                </a:lnTo>
                <a:lnTo>
                  <a:pt x="76" y="161"/>
                </a:lnTo>
                <a:lnTo>
                  <a:pt x="69" y="153"/>
                </a:lnTo>
                <a:lnTo>
                  <a:pt x="63" y="144"/>
                </a:lnTo>
                <a:lnTo>
                  <a:pt x="55" y="136"/>
                </a:lnTo>
                <a:lnTo>
                  <a:pt x="49" y="127"/>
                </a:lnTo>
                <a:lnTo>
                  <a:pt x="44" y="119"/>
                </a:lnTo>
                <a:lnTo>
                  <a:pt x="40" y="111"/>
                </a:lnTo>
                <a:lnTo>
                  <a:pt x="36" y="104"/>
                </a:lnTo>
                <a:lnTo>
                  <a:pt x="32" y="96"/>
                </a:lnTo>
                <a:lnTo>
                  <a:pt x="30" y="90"/>
                </a:lnTo>
                <a:lnTo>
                  <a:pt x="21" y="77"/>
                </a:lnTo>
                <a:lnTo>
                  <a:pt x="13" y="65"/>
                </a:lnTo>
                <a:lnTo>
                  <a:pt x="7" y="54"/>
                </a:lnTo>
                <a:lnTo>
                  <a:pt x="1" y="44"/>
                </a:lnTo>
                <a:lnTo>
                  <a:pt x="1" y="40"/>
                </a:lnTo>
                <a:lnTo>
                  <a:pt x="0" y="36"/>
                </a:lnTo>
                <a:lnTo>
                  <a:pt x="0" y="32"/>
                </a:lnTo>
                <a:lnTo>
                  <a:pt x="0" y="29"/>
                </a:lnTo>
                <a:lnTo>
                  <a:pt x="0" y="25"/>
                </a:lnTo>
                <a:lnTo>
                  <a:pt x="0" y="23"/>
                </a:lnTo>
                <a:lnTo>
                  <a:pt x="1" y="21"/>
                </a:lnTo>
                <a:lnTo>
                  <a:pt x="3" y="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Freeform 148"/>
          <p:cNvSpPr/>
          <p:nvPr/>
        </p:nvSpPr>
        <p:spPr>
          <a:xfrm>
            <a:off x="5581800" y="3095640"/>
            <a:ext cx="2251080" cy="274680"/>
          </a:xfrm>
          <a:custGeom>
            <a:avLst/>
            <a:gdLst/>
            <a:ahLst/>
            <a:rect l="l" t="t" r="r" b="b"/>
            <a:pathLst>
              <a:path w="2837" h="348">
                <a:moveTo>
                  <a:pt x="1457" y="119"/>
                </a:moveTo>
                <a:lnTo>
                  <a:pt x="1487" y="116"/>
                </a:lnTo>
                <a:lnTo>
                  <a:pt x="1518" y="112"/>
                </a:lnTo>
                <a:lnTo>
                  <a:pt x="1547" y="110"/>
                </a:lnTo>
                <a:lnTo>
                  <a:pt x="1576" y="106"/>
                </a:lnTo>
                <a:lnTo>
                  <a:pt x="1604" y="102"/>
                </a:lnTo>
                <a:lnTo>
                  <a:pt x="1631" y="98"/>
                </a:lnTo>
                <a:lnTo>
                  <a:pt x="1658" y="96"/>
                </a:lnTo>
                <a:lnTo>
                  <a:pt x="1685" y="93"/>
                </a:lnTo>
                <a:lnTo>
                  <a:pt x="1712" y="89"/>
                </a:lnTo>
                <a:lnTo>
                  <a:pt x="1737" y="87"/>
                </a:lnTo>
                <a:lnTo>
                  <a:pt x="1762" y="83"/>
                </a:lnTo>
                <a:lnTo>
                  <a:pt x="1787" y="79"/>
                </a:lnTo>
                <a:lnTo>
                  <a:pt x="1810" y="77"/>
                </a:lnTo>
                <a:lnTo>
                  <a:pt x="1833" y="73"/>
                </a:lnTo>
                <a:lnTo>
                  <a:pt x="1856" y="70"/>
                </a:lnTo>
                <a:lnTo>
                  <a:pt x="1879" y="68"/>
                </a:lnTo>
                <a:lnTo>
                  <a:pt x="1900" y="64"/>
                </a:lnTo>
                <a:lnTo>
                  <a:pt x="1921" y="62"/>
                </a:lnTo>
                <a:lnTo>
                  <a:pt x="1942" y="58"/>
                </a:lnTo>
                <a:lnTo>
                  <a:pt x="1961" y="54"/>
                </a:lnTo>
                <a:lnTo>
                  <a:pt x="1981" y="52"/>
                </a:lnTo>
                <a:lnTo>
                  <a:pt x="2000" y="48"/>
                </a:lnTo>
                <a:lnTo>
                  <a:pt x="2017" y="47"/>
                </a:lnTo>
                <a:lnTo>
                  <a:pt x="2034" y="45"/>
                </a:lnTo>
                <a:lnTo>
                  <a:pt x="2052" y="41"/>
                </a:lnTo>
                <a:lnTo>
                  <a:pt x="2069" y="39"/>
                </a:lnTo>
                <a:lnTo>
                  <a:pt x="2084" y="35"/>
                </a:lnTo>
                <a:lnTo>
                  <a:pt x="2100" y="33"/>
                </a:lnTo>
                <a:lnTo>
                  <a:pt x="2113" y="31"/>
                </a:lnTo>
                <a:lnTo>
                  <a:pt x="2126" y="27"/>
                </a:lnTo>
                <a:lnTo>
                  <a:pt x="2140" y="25"/>
                </a:lnTo>
                <a:lnTo>
                  <a:pt x="2153" y="24"/>
                </a:lnTo>
                <a:lnTo>
                  <a:pt x="2201" y="20"/>
                </a:lnTo>
                <a:lnTo>
                  <a:pt x="2249" y="14"/>
                </a:lnTo>
                <a:lnTo>
                  <a:pt x="2295" y="10"/>
                </a:lnTo>
                <a:lnTo>
                  <a:pt x="2341" y="6"/>
                </a:lnTo>
                <a:lnTo>
                  <a:pt x="2388" y="4"/>
                </a:lnTo>
                <a:lnTo>
                  <a:pt x="2432" y="2"/>
                </a:lnTo>
                <a:lnTo>
                  <a:pt x="2476" y="0"/>
                </a:lnTo>
                <a:lnTo>
                  <a:pt x="2520" y="0"/>
                </a:lnTo>
                <a:lnTo>
                  <a:pt x="2543" y="0"/>
                </a:lnTo>
                <a:lnTo>
                  <a:pt x="2562" y="0"/>
                </a:lnTo>
                <a:lnTo>
                  <a:pt x="2583" y="0"/>
                </a:lnTo>
                <a:lnTo>
                  <a:pt x="2602" y="2"/>
                </a:lnTo>
                <a:lnTo>
                  <a:pt x="2620" y="2"/>
                </a:lnTo>
                <a:lnTo>
                  <a:pt x="2637" y="4"/>
                </a:lnTo>
                <a:lnTo>
                  <a:pt x="2654" y="8"/>
                </a:lnTo>
                <a:lnTo>
                  <a:pt x="2670" y="10"/>
                </a:lnTo>
                <a:lnTo>
                  <a:pt x="2685" y="12"/>
                </a:lnTo>
                <a:lnTo>
                  <a:pt x="2698" y="16"/>
                </a:lnTo>
                <a:lnTo>
                  <a:pt x="2712" y="20"/>
                </a:lnTo>
                <a:lnTo>
                  <a:pt x="2725" y="25"/>
                </a:lnTo>
                <a:lnTo>
                  <a:pt x="2737" y="29"/>
                </a:lnTo>
                <a:lnTo>
                  <a:pt x="2748" y="35"/>
                </a:lnTo>
                <a:lnTo>
                  <a:pt x="2760" y="41"/>
                </a:lnTo>
                <a:lnTo>
                  <a:pt x="2769" y="48"/>
                </a:lnTo>
                <a:lnTo>
                  <a:pt x="2777" y="54"/>
                </a:lnTo>
                <a:lnTo>
                  <a:pt x="2785" y="60"/>
                </a:lnTo>
                <a:lnTo>
                  <a:pt x="2791" y="66"/>
                </a:lnTo>
                <a:lnTo>
                  <a:pt x="2796" y="71"/>
                </a:lnTo>
                <a:lnTo>
                  <a:pt x="2808" y="79"/>
                </a:lnTo>
                <a:lnTo>
                  <a:pt x="2817" y="87"/>
                </a:lnTo>
                <a:lnTo>
                  <a:pt x="2821" y="91"/>
                </a:lnTo>
                <a:lnTo>
                  <a:pt x="2825" y="93"/>
                </a:lnTo>
                <a:lnTo>
                  <a:pt x="2829" y="96"/>
                </a:lnTo>
                <a:lnTo>
                  <a:pt x="2831" y="98"/>
                </a:lnTo>
                <a:lnTo>
                  <a:pt x="2833" y="100"/>
                </a:lnTo>
                <a:lnTo>
                  <a:pt x="2835" y="102"/>
                </a:lnTo>
                <a:lnTo>
                  <a:pt x="2835" y="106"/>
                </a:lnTo>
                <a:lnTo>
                  <a:pt x="2837" y="108"/>
                </a:lnTo>
                <a:lnTo>
                  <a:pt x="2835" y="116"/>
                </a:lnTo>
                <a:lnTo>
                  <a:pt x="2835" y="121"/>
                </a:lnTo>
                <a:lnTo>
                  <a:pt x="2835" y="125"/>
                </a:lnTo>
                <a:lnTo>
                  <a:pt x="2833" y="131"/>
                </a:lnTo>
                <a:lnTo>
                  <a:pt x="2831" y="135"/>
                </a:lnTo>
                <a:lnTo>
                  <a:pt x="2827" y="139"/>
                </a:lnTo>
                <a:lnTo>
                  <a:pt x="2823" y="144"/>
                </a:lnTo>
                <a:lnTo>
                  <a:pt x="2821" y="144"/>
                </a:lnTo>
                <a:lnTo>
                  <a:pt x="2819" y="146"/>
                </a:lnTo>
                <a:lnTo>
                  <a:pt x="2816" y="146"/>
                </a:lnTo>
                <a:lnTo>
                  <a:pt x="2814" y="148"/>
                </a:lnTo>
                <a:lnTo>
                  <a:pt x="2810" y="148"/>
                </a:lnTo>
                <a:lnTo>
                  <a:pt x="2806" y="150"/>
                </a:lnTo>
                <a:lnTo>
                  <a:pt x="2800" y="150"/>
                </a:lnTo>
                <a:lnTo>
                  <a:pt x="2796" y="150"/>
                </a:lnTo>
                <a:lnTo>
                  <a:pt x="2791" y="152"/>
                </a:lnTo>
                <a:lnTo>
                  <a:pt x="2783" y="152"/>
                </a:lnTo>
                <a:lnTo>
                  <a:pt x="2777" y="152"/>
                </a:lnTo>
                <a:lnTo>
                  <a:pt x="2769" y="152"/>
                </a:lnTo>
                <a:lnTo>
                  <a:pt x="2762" y="154"/>
                </a:lnTo>
                <a:lnTo>
                  <a:pt x="2754" y="154"/>
                </a:lnTo>
                <a:lnTo>
                  <a:pt x="2745" y="154"/>
                </a:lnTo>
                <a:lnTo>
                  <a:pt x="2735" y="154"/>
                </a:lnTo>
                <a:lnTo>
                  <a:pt x="2725" y="154"/>
                </a:lnTo>
                <a:lnTo>
                  <a:pt x="2716" y="154"/>
                </a:lnTo>
                <a:lnTo>
                  <a:pt x="2704" y="156"/>
                </a:lnTo>
                <a:lnTo>
                  <a:pt x="2693" y="156"/>
                </a:lnTo>
                <a:lnTo>
                  <a:pt x="2681" y="156"/>
                </a:lnTo>
                <a:lnTo>
                  <a:pt x="2670" y="156"/>
                </a:lnTo>
                <a:lnTo>
                  <a:pt x="2656" y="156"/>
                </a:lnTo>
                <a:lnTo>
                  <a:pt x="2643" y="156"/>
                </a:lnTo>
                <a:lnTo>
                  <a:pt x="2629" y="156"/>
                </a:lnTo>
                <a:lnTo>
                  <a:pt x="2616" y="156"/>
                </a:lnTo>
                <a:lnTo>
                  <a:pt x="2585" y="156"/>
                </a:lnTo>
                <a:lnTo>
                  <a:pt x="2555" y="156"/>
                </a:lnTo>
                <a:lnTo>
                  <a:pt x="2520" y="156"/>
                </a:lnTo>
                <a:lnTo>
                  <a:pt x="2453" y="156"/>
                </a:lnTo>
                <a:lnTo>
                  <a:pt x="2386" y="156"/>
                </a:lnTo>
                <a:lnTo>
                  <a:pt x="2320" y="156"/>
                </a:lnTo>
                <a:lnTo>
                  <a:pt x="2257" y="158"/>
                </a:lnTo>
                <a:lnTo>
                  <a:pt x="2224" y="158"/>
                </a:lnTo>
                <a:lnTo>
                  <a:pt x="2194" y="158"/>
                </a:lnTo>
                <a:lnTo>
                  <a:pt x="2165" y="160"/>
                </a:lnTo>
                <a:lnTo>
                  <a:pt x="2134" y="162"/>
                </a:lnTo>
                <a:lnTo>
                  <a:pt x="2105" y="162"/>
                </a:lnTo>
                <a:lnTo>
                  <a:pt x="2077" y="164"/>
                </a:lnTo>
                <a:lnTo>
                  <a:pt x="2050" y="166"/>
                </a:lnTo>
                <a:lnTo>
                  <a:pt x="2021" y="167"/>
                </a:lnTo>
                <a:lnTo>
                  <a:pt x="2006" y="169"/>
                </a:lnTo>
                <a:lnTo>
                  <a:pt x="1990" y="171"/>
                </a:lnTo>
                <a:lnTo>
                  <a:pt x="1973" y="171"/>
                </a:lnTo>
                <a:lnTo>
                  <a:pt x="1954" y="173"/>
                </a:lnTo>
                <a:lnTo>
                  <a:pt x="1935" y="175"/>
                </a:lnTo>
                <a:lnTo>
                  <a:pt x="1915" y="177"/>
                </a:lnTo>
                <a:lnTo>
                  <a:pt x="1894" y="179"/>
                </a:lnTo>
                <a:lnTo>
                  <a:pt x="1871" y="181"/>
                </a:lnTo>
                <a:lnTo>
                  <a:pt x="1848" y="183"/>
                </a:lnTo>
                <a:lnTo>
                  <a:pt x="1823" y="187"/>
                </a:lnTo>
                <a:lnTo>
                  <a:pt x="1798" y="189"/>
                </a:lnTo>
                <a:lnTo>
                  <a:pt x="1771" y="191"/>
                </a:lnTo>
                <a:lnTo>
                  <a:pt x="1745" y="194"/>
                </a:lnTo>
                <a:lnTo>
                  <a:pt x="1716" y="196"/>
                </a:lnTo>
                <a:lnTo>
                  <a:pt x="1687" y="198"/>
                </a:lnTo>
                <a:lnTo>
                  <a:pt x="1656" y="202"/>
                </a:lnTo>
                <a:lnTo>
                  <a:pt x="1626" y="206"/>
                </a:lnTo>
                <a:lnTo>
                  <a:pt x="1593" y="208"/>
                </a:lnTo>
                <a:lnTo>
                  <a:pt x="1560" y="212"/>
                </a:lnTo>
                <a:lnTo>
                  <a:pt x="1526" y="215"/>
                </a:lnTo>
                <a:lnTo>
                  <a:pt x="1491" y="219"/>
                </a:lnTo>
                <a:lnTo>
                  <a:pt x="1455" y="223"/>
                </a:lnTo>
                <a:lnTo>
                  <a:pt x="1416" y="227"/>
                </a:lnTo>
                <a:lnTo>
                  <a:pt x="1378" y="231"/>
                </a:lnTo>
                <a:lnTo>
                  <a:pt x="1340" y="235"/>
                </a:lnTo>
                <a:lnTo>
                  <a:pt x="1299" y="238"/>
                </a:lnTo>
                <a:lnTo>
                  <a:pt x="1257" y="242"/>
                </a:lnTo>
                <a:lnTo>
                  <a:pt x="1215" y="246"/>
                </a:lnTo>
                <a:lnTo>
                  <a:pt x="1173" y="250"/>
                </a:lnTo>
                <a:lnTo>
                  <a:pt x="1128" y="256"/>
                </a:lnTo>
                <a:lnTo>
                  <a:pt x="1082" y="260"/>
                </a:lnTo>
                <a:lnTo>
                  <a:pt x="1036" y="263"/>
                </a:lnTo>
                <a:lnTo>
                  <a:pt x="988" y="269"/>
                </a:lnTo>
                <a:lnTo>
                  <a:pt x="942" y="275"/>
                </a:lnTo>
                <a:lnTo>
                  <a:pt x="898" y="281"/>
                </a:lnTo>
                <a:lnTo>
                  <a:pt x="856" y="285"/>
                </a:lnTo>
                <a:lnTo>
                  <a:pt x="814" y="290"/>
                </a:lnTo>
                <a:lnTo>
                  <a:pt x="773" y="294"/>
                </a:lnTo>
                <a:lnTo>
                  <a:pt x="735" y="298"/>
                </a:lnTo>
                <a:lnTo>
                  <a:pt x="697" y="304"/>
                </a:lnTo>
                <a:lnTo>
                  <a:pt x="660" y="308"/>
                </a:lnTo>
                <a:lnTo>
                  <a:pt x="625" y="311"/>
                </a:lnTo>
                <a:lnTo>
                  <a:pt x="593" y="315"/>
                </a:lnTo>
                <a:lnTo>
                  <a:pt x="560" y="317"/>
                </a:lnTo>
                <a:lnTo>
                  <a:pt x="530" y="321"/>
                </a:lnTo>
                <a:lnTo>
                  <a:pt x="501" y="323"/>
                </a:lnTo>
                <a:lnTo>
                  <a:pt x="472" y="327"/>
                </a:lnTo>
                <a:lnTo>
                  <a:pt x="445" y="329"/>
                </a:lnTo>
                <a:lnTo>
                  <a:pt x="420" y="333"/>
                </a:lnTo>
                <a:lnTo>
                  <a:pt x="397" y="334"/>
                </a:lnTo>
                <a:lnTo>
                  <a:pt x="374" y="336"/>
                </a:lnTo>
                <a:lnTo>
                  <a:pt x="353" y="338"/>
                </a:lnTo>
                <a:lnTo>
                  <a:pt x="334" y="340"/>
                </a:lnTo>
                <a:lnTo>
                  <a:pt x="315" y="342"/>
                </a:lnTo>
                <a:lnTo>
                  <a:pt x="299" y="342"/>
                </a:lnTo>
                <a:lnTo>
                  <a:pt x="284" y="344"/>
                </a:lnTo>
                <a:lnTo>
                  <a:pt x="268" y="344"/>
                </a:lnTo>
                <a:lnTo>
                  <a:pt x="257" y="346"/>
                </a:lnTo>
                <a:lnTo>
                  <a:pt x="245" y="346"/>
                </a:lnTo>
                <a:lnTo>
                  <a:pt x="234" y="348"/>
                </a:lnTo>
                <a:lnTo>
                  <a:pt x="226" y="348"/>
                </a:lnTo>
                <a:lnTo>
                  <a:pt x="219" y="348"/>
                </a:lnTo>
                <a:lnTo>
                  <a:pt x="213" y="348"/>
                </a:lnTo>
                <a:lnTo>
                  <a:pt x="209" y="348"/>
                </a:lnTo>
                <a:lnTo>
                  <a:pt x="194" y="348"/>
                </a:lnTo>
                <a:lnTo>
                  <a:pt x="178" y="346"/>
                </a:lnTo>
                <a:lnTo>
                  <a:pt x="161" y="342"/>
                </a:lnTo>
                <a:lnTo>
                  <a:pt x="144" y="338"/>
                </a:lnTo>
                <a:lnTo>
                  <a:pt x="126" y="333"/>
                </a:lnTo>
                <a:lnTo>
                  <a:pt x="117" y="327"/>
                </a:lnTo>
                <a:lnTo>
                  <a:pt x="109" y="323"/>
                </a:lnTo>
                <a:lnTo>
                  <a:pt x="101" y="319"/>
                </a:lnTo>
                <a:lnTo>
                  <a:pt x="94" y="313"/>
                </a:lnTo>
                <a:lnTo>
                  <a:pt x="86" y="308"/>
                </a:lnTo>
                <a:lnTo>
                  <a:pt x="78" y="300"/>
                </a:lnTo>
                <a:lnTo>
                  <a:pt x="69" y="294"/>
                </a:lnTo>
                <a:lnTo>
                  <a:pt x="59" y="288"/>
                </a:lnTo>
                <a:lnTo>
                  <a:pt x="52" y="283"/>
                </a:lnTo>
                <a:lnTo>
                  <a:pt x="44" y="277"/>
                </a:lnTo>
                <a:lnTo>
                  <a:pt x="36" y="273"/>
                </a:lnTo>
                <a:lnTo>
                  <a:pt x="30" y="267"/>
                </a:lnTo>
                <a:lnTo>
                  <a:pt x="25" y="263"/>
                </a:lnTo>
                <a:lnTo>
                  <a:pt x="19" y="262"/>
                </a:lnTo>
                <a:lnTo>
                  <a:pt x="13" y="258"/>
                </a:lnTo>
                <a:lnTo>
                  <a:pt x="9" y="254"/>
                </a:lnTo>
                <a:lnTo>
                  <a:pt x="7" y="252"/>
                </a:lnTo>
                <a:lnTo>
                  <a:pt x="4" y="250"/>
                </a:lnTo>
                <a:lnTo>
                  <a:pt x="2" y="246"/>
                </a:lnTo>
                <a:lnTo>
                  <a:pt x="0" y="244"/>
                </a:lnTo>
                <a:lnTo>
                  <a:pt x="0" y="242"/>
                </a:lnTo>
                <a:lnTo>
                  <a:pt x="0" y="240"/>
                </a:lnTo>
                <a:lnTo>
                  <a:pt x="0" y="238"/>
                </a:lnTo>
                <a:lnTo>
                  <a:pt x="2" y="237"/>
                </a:lnTo>
                <a:lnTo>
                  <a:pt x="7" y="235"/>
                </a:lnTo>
                <a:lnTo>
                  <a:pt x="13" y="233"/>
                </a:lnTo>
                <a:lnTo>
                  <a:pt x="21" y="231"/>
                </a:lnTo>
                <a:lnTo>
                  <a:pt x="32" y="231"/>
                </a:lnTo>
                <a:lnTo>
                  <a:pt x="44" y="229"/>
                </a:lnTo>
                <a:lnTo>
                  <a:pt x="57" y="229"/>
                </a:lnTo>
                <a:lnTo>
                  <a:pt x="71" y="227"/>
                </a:lnTo>
                <a:lnTo>
                  <a:pt x="88" y="225"/>
                </a:lnTo>
                <a:lnTo>
                  <a:pt x="107" y="225"/>
                </a:lnTo>
                <a:lnTo>
                  <a:pt x="126" y="223"/>
                </a:lnTo>
                <a:lnTo>
                  <a:pt x="148" y="221"/>
                </a:lnTo>
                <a:lnTo>
                  <a:pt x="171" y="219"/>
                </a:lnTo>
                <a:lnTo>
                  <a:pt x="196" y="217"/>
                </a:lnTo>
                <a:lnTo>
                  <a:pt x="222" y="215"/>
                </a:lnTo>
                <a:lnTo>
                  <a:pt x="278" y="215"/>
                </a:lnTo>
                <a:lnTo>
                  <a:pt x="334" y="214"/>
                </a:lnTo>
                <a:lnTo>
                  <a:pt x="391" y="212"/>
                </a:lnTo>
                <a:lnTo>
                  <a:pt x="449" y="208"/>
                </a:lnTo>
                <a:lnTo>
                  <a:pt x="508" y="206"/>
                </a:lnTo>
                <a:lnTo>
                  <a:pt x="570" y="200"/>
                </a:lnTo>
                <a:lnTo>
                  <a:pt x="631" y="196"/>
                </a:lnTo>
                <a:lnTo>
                  <a:pt x="695" y="192"/>
                </a:lnTo>
                <a:lnTo>
                  <a:pt x="712" y="191"/>
                </a:lnTo>
                <a:lnTo>
                  <a:pt x="729" y="189"/>
                </a:lnTo>
                <a:lnTo>
                  <a:pt x="746" y="189"/>
                </a:lnTo>
                <a:lnTo>
                  <a:pt x="764" y="187"/>
                </a:lnTo>
                <a:lnTo>
                  <a:pt x="781" y="185"/>
                </a:lnTo>
                <a:lnTo>
                  <a:pt x="800" y="185"/>
                </a:lnTo>
                <a:lnTo>
                  <a:pt x="819" y="183"/>
                </a:lnTo>
                <a:lnTo>
                  <a:pt x="840" y="181"/>
                </a:lnTo>
                <a:lnTo>
                  <a:pt x="860" y="179"/>
                </a:lnTo>
                <a:lnTo>
                  <a:pt x="881" y="177"/>
                </a:lnTo>
                <a:lnTo>
                  <a:pt x="902" y="175"/>
                </a:lnTo>
                <a:lnTo>
                  <a:pt x="925" y="173"/>
                </a:lnTo>
                <a:lnTo>
                  <a:pt x="946" y="171"/>
                </a:lnTo>
                <a:lnTo>
                  <a:pt x="969" y="169"/>
                </a:lnTo>
                <a:lnTo>
                  <a:pt x="1017" y="166"/>
                </a:lnTo>
                <a:lnTo>
                  <a:pt x="1065" y="160"/>
                </a:lnTo>
                <a:lnTo>
                  <a:pt x="1117" y="156"/>
                </a:lnTo>
                <a:lnTo>
                  <a:pt x="1169" y="150"/>
                </a:lnTo>
                <a:lnTo>
                  <a:pt x="1222" y="144"/>
                </a:lnTo>
                <a:lnTo>
                  <a:pt x="1280" y="139"/>
                </a:lnTo>
                <a:lnTo>
                  <a:pt x="1338" y="133"/>
                </a:lnTo>
                <a:lnTo>
                  <a:pt x="1395" y="127"/>
                </a:lnTo>
                <a:lnTo>
                  <a:pt x="1457" y="1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Freeform 149"/>
          <p:cNvSpPr/>
          <p:nvPr/>
        </p:nvSpPr>
        <p:spPr>
          <a:xfrm>
            <a:off x="6718320" y="2757600"/>
            <a:ext cx="458640" cy="480960"/>
          </a:xfrm>
          <a:custGeom>
            <a:avLst/>
            <a:gdLst/>
            <a:ahLst/>
            <a:rect l="l" t="t" r="r" b="b"/>
            <a:pathLst>
              <a:path w="577" h="607">
                <a:moveTo>
                  <a:pt x="288" y="77"/>
                </a:moveTo>
                <a:lnTo>
                  <a:pt x="284" y="68"/>
                </a:lnTo>
                <a:lnTo>
                  <a:pt x="278" y="58"/>
                </a:lnTo>
                <a:lnTo>
                  <a:pt x="274" y="48"/>
                </a:lnTo>
                <a:lnTo>
                  <a:pt x="270" y="41"/>
                </a:lnTo>
                <a:lnTo>
                  <a:pt x="268" y="31"/>
                </a:lnTo>
                <a:lnTo>
                  <a:pt x="268" y="21"/>
                </a:lnTo>
                <a:lnTo>
                  <a:pt x="270" y="18"/>
                </a:lnTo>
                <a:lnTo>
                  <a:pt x="270" y="14"/>
                </a:lnTo>
                <a:lnTo>
                  <a:pt x="272" y="8"/>
                </a:lnTo>
                <a:lnTo>
                  <a:pt x="274" y="4"/>
                </a:lnTo>
                <a:lnTo>
                  <a:pt x="278" y="2"/>
                </a:lnTo>
                <a:lnTo>
                  <a:pt x="282" y="0"/>
                </a:lnTo>
                <a:lnTo>
                  <a:pt x="286" y="0"/>
                </a:lnTo>
                <a:lnTo>
                  <a:pt x="291" y="0"/>
                </a:lnTo>
                <a:lnTo>
                  <a:pt x="297" y="0"/>
                </a:lnTo>
                <a:lnTo>
                  <a:pt x="305" y="0"/>
                </a:lnTo>
                <a:lnTo>
                  <a:pt x="314" y="2"/>
                </a:lnTo>
                <a:lnTo>
                  <a:pt x="324" y="4"/>
                </a:lnTo>
                <a:lnTo>
                  <a:pt x="334" y="6"/>
                </a:lnTo>
                <a:lnTo>
                  <a:pt x="345" y="10"/>
                </a:lnTo>
                <a:lnTo>
                  <a:pt x="357" y="14"/>
                </a:lnTo>
                <a:lnTo>
                  <a:pt x="370" y="18"/>
                </a:lnTo>
                <a:lnTo>
                  <a:pt x="385" y="21"/>
                </a:lnTo>
                <a:lnTo>
                  <a:pt x="399" y="27"/>
                </a:lnTo>
                <a:lnTo>
                  <a:pt x="416" y="33"/>
                </a:lnTo>
                <a:lnTo>
                  <a:pt x="432" y="41"/>
                </a:lnTo>
                <a:lnTo>
                  <a:pt x="449" y="46"/>
                </a:lnTo>
                <a:lnTo>
                  <a:pt x="464" y="54"/>
                </a:lnTo>
                <a:lnTo>
                  <a:pt x="479" y="60"/>
                </a:lnTo>
                <a:lnTo>
                  <a:pt x="493" y="68"/>
                </a:lnTo>
                <a:lnTo>
                  <a:pt x="506" y="73"/>
                </a:lnTo>
                <a:lnTo>
                  <a:pt x="518" y="81"/>
                </a:lnTo>
                <a:lnTo>
                  <a:pt x="529" y="89"/>
                </a:lnTo>
                <a:lnTo>
                  <a:pt x="539" y="94"/>
                </a:lnTo>
                <a:lnTo>
                  <a:pt x="547" y="102"/>
                </a:lnTo>
                <a:lnTo>
                  <a:pt x="554" y="108"/>
                </a:lnTo>
                <a:lnTo>
                  <a:pt x="562" y="116"/>
                </a:lnTo>
                <a:lnTo>
                  <a:pt x="566" y="121"/>
                </a:lnTo>
                <a:lnTo>
                  <a:pt x="572" y="129"/>
                </a:lnTo>
                <a:lnTo>
                  <a:pt x="574" y="135"/>
                </a:lnTo>
                <a:lnTo>
                  <a:pt x="575" y="142"/>
                </a:lnTo>
                <a:lnTo>
                  <a:pt x="577" y="148"/>
                </a:lnTo>
                <a:lnTo>
                  <a:pt x="575" y="156"/>
                </a:lnTo>
                <a:lnTo>
                  <a:pt x="575" y="164"/>
                </a:lnTo>
                <a:lnTo>
                  <a:pt x="572" y="171"/>
                </a:lnTo>
                <a:lnTo>
                  <a:pt x="568" y="181"/>
                </a:lnTo>
                <a:lnTo>
                  <a:pt x="564" y="188"/>
                </a:lnTo>
                <a:lnTo>
                  <a:pt x="558" y="198"/>
                </a:lnTo>
                <a:lnTo>
                  <a:pt x="552" y="208"/>
                </a:lnTo>
                <a:lnTo>
                  <a:pt x="545" y="219"/>
                </a:lnTo>
                <a:lnTo>
                  <a:pt x="537" y="231"/>
                </a:lnTo>
                <a:lnTo>
                  <a:pt x="527" y="240"/>
                </a:lnTo>
                <a:lnTo>
                  <a:pt x="516" y="252"/>
                </a:lnTo>
                <a:lnTo>
                  <a:pt x="504" y="265"/>
                </a:lnTo>
                <a:lnTo>
                  <a:pt x="491" y="277"/>
                </a:lnTo>
                <a:lnTo>
                  <a:pt x="478" y="290"/>
                </a:lnTo>
                <a:lnTo>
                  <a:pt x="462" y="304"/>
                </a:lnTo>
                <a:lnTo>
                  <a:pt x="445" y="317"/>
                </a:lnTo>
                <a:lnTo>
                  <a:pt x="410" y="350"/>
                </a:lnTo>
                <a:lnTo>
                  <a:pt x="391" y="365"/>
                </a:lnTo>
                <a:lnTo>
                  <a:pt x="374" y="382"/>
                </a:lnTo>
                <a:lnTo>
                  <a:pt x="355" y="400"/>
                </a:lnTo>
                <a:lnTo>
                  <a:pt x="336" y="417"/>
                </a:lnTo>
                <a:lnTo>
                  <a:pt x="314" y="434"/>
                </a:lnTo>
                <a:lnTo>
                  <a:pt x="293" y="451"/>
                </a:lnTo>
                <a:lnTo>
                  <a:pt x="272" y="471"/>
                </a:lnTo>
                <a:lnTo>
                  <a:pt x="251" y="488"/>
                </a:lnTo>
                <a:lnTo>
                  <a:pt x="228" y="507"/>
                </a:lnTo>
                <a:lnTo>
                  <a:pt x="205" y="526"/>
                </a:lnTo>
                <a:lnTo>
                  <a:pt x="180" y="545"/>
                </a:lnTo>
                <a:lnTo>
                  <a:pt x="155" y="565"/>
                </a:lnTo>
                <a:lnTo>
                  <a:pt x="130" y="586"/>
                </a:lnTo>
                <a:lnTo>
                  <a:pt x="103" y="607"/>
                </a:lnTo>
                <a:lnTo>
                  <a:pt x="51" y="607"/>
                </a:lnTo>
                <a:lnTo>
                  <a:pt x="0" y="607"/>
                </a:lnTo>
                <a:lnTo>
                  <a:pt x="15" y="584"/>
                </a:lnTo>
                <a:lnTo>
                  <a:pt x="32" y="565"/>
                </a:lnTo>
                <a:lnTo>
                  <a:pt x="48" y="544"/>
                </a:lnTo>
                <a:lnTo>
                  <a:pt x="63" y="524"/>
                </a:lnTo>
                <a:lnTo>
                  <a:pt x="78" y="505"/>
                </a:lnTo>
                <a:lnTo>
                  <a:pt x="94" y="486"/>
                </a:lnTo>
                <a:lnTo>
                  <a:pt x="107" y="469"/>
                </a:lnTo>
                <a:lnTo>
                  <a:pt x="121" y="451"/>
                </a:lnTo>
                <a:lnTo>
                  <a:pt x="134" y="434"/>
                </a:lnTo>
                <a:lnTo>
                  <a:pt x="147" y="419"/>
                </a:lnTo>
                <a:lnTo>
                  <a:pt x="159" y="402"/>
                </a:lnTo>
                <a:lnTo>
                  <a:pt x="170" y="386"/>
                </a:lnTo>
                <a:lnTo>
                  <a:pt x="182" y="373"/>
                </a:lnTo>
                <a:lnTo>
                  <a:pt x="194" y="357"/>
                </a:lnTo>
                <a:lnTo>
                  <a:pt x="203" y="344"/>
                </a:lnTo>
                <a:lnTo>
                  <a:pt x="213" y="331"/>
                </a:lnTo>
                <a:lnTo>
                  <a:pt x="222" y="319"/>
                </a:lnTo>
                <a:lnTo>
                  <a:pt x="232" y="306"/>
                </a:lnTo>
                <a:lnTo>
                  <a:pt x="240" y="294"/>
                </a:lnTo>
                <a:lnTo>
                  <a:pt x="247" y="283"/>
                </a:lnTo>
                <a:lnTo>
                  <a:pt x="255" y="273"/>
                </a:lnTo>
                <a:lnTo>
                  <a:pt x="261" y="263"/>
                </a:lnTo>
                <a:lnTo>
                  <a:pt x="268" y="252"/>
                </a:lnTo>
                <a:lnTo>
                  <a:pt x="274" y="244"/>
                </a:lnTo>
                <a:lnTo>
                  <a:pt x="278" y="235"/>
                </a:lnTo>
                <a:lnTo>
                  <a:pt x="284" y="227"/>
                </a:lnTo>
                <a:lnTo>
                  <a:pt x="288" y="217"/>
                </a:lnTo>
                <a:lnTo>
                  <a:pt x="291" y="210"/>
                </a:lnTo>
                <a:lnTo>
                  <a:pt x="295" y="204"/>
                </a:lnTo>
                <a:lnTo>
                  <a:pt x="297" y="196"/>
                </a:lnTo>
                <a:lnTo>
                  <a:pt x="299" y="190"/>
                </a:lnTo>
                <a:lnTo>
                  <a:pt x="301" y="185"/>
                </a:lnTo>
                <a:lnTo>
                  <a:pt x="303" y="175"/>
                </a:lnTo>
                <a:lnTo>
                  <a:pt x="305" y="167"/>
                </a:lnTo>
                <a:lnTo>
                  <a:pt x="305" y="160"/>
                </a:lnTo>
                <a:lnTo>
                  <a:pt x="305" y="150"/>
                </a:lnTo>
                <a:lnTo>
                  <a:pt x="305" y="135"/>
                </a:lnTo>
                <a:lnTo>
                  <a:pt x="303" y="121"/>
                </a:lnTo>
                <a:lnTo>
                  <a:pt x="301" y="108"/>
                </a:lnTo>
                <a:lnTo>
                  <a:pt x="297" y="96"/>
                </a:lnTo>
                <a:lnTo>
                  <a:pt x="291" y="87"/>
                </a:lnTo>
                <a:lnTo>
                  <a:pt x="288" y="7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40"/>
                                        </p:tgtEl>
                                        <p:attrNameLst>
                                          <p:attrName>style.visibility</p:attrName>
                                        </p:attrNameLst>
                                      </p:cBhvr>
                                      <p:to>
                                        <p:strVal val="visible"/>
                                      </p:to>
                                    </p:set>
                                    <p:anim calcmode="lin" valueType="num">
                                      <p:cBhvr additive="base">
                                        <p:cTn id="622" dur="500" fill="hold"/>
                                        <p:tgtEl>
                                          <p:spTgt spid="240"/>
                                        </p:tgtEl>
                                        <p:attrNameLst>
                                          <p:attrName>ppt_x</p:attrName>
                                        </p:attrNameLst>
                                      </p:cBhvr>
                                      <p:tavLst>
                                        <p:tav tm="0">
                                          <p:val>
                                            <p:strVal val="0-#ppt_w/2"/>
                                          </p:val>
                                        </p:tav>
                                        <p:tav tm="100000">
                                          <p:val>
                                            <p:strVal val="#ppt_x"/>
                                          </p:val>
                                        </p:tav>
                                      </p:tavLst>
                                    </p:anim>
                                    <p:anim calcmode="lin" valueType="num">
                                      <p:cBhvr additive="base">
                                        <p:cTn id="62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251"/>
                                        </p:tgtEl>
                                        <p:attrNameLst>
                                          <p:attrName>style.visibility</p:attrName>
                                        </p:attrNameLst>
                                      </p:cBhvr>
                                      <p:to>
                                        <p:strVal val="visible"/>
                                      </p:to>
                                    </p:set>
                                    <p:animEffect filter="wipe(up)" transition="in">
                                      <p:cBhvr additive="repl">
                                        <p:cTn id="628" dur="500"/>
                                        <p:tgtEl>
                                          <p:spTgt spid="251"/>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1">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500"/>
                                        <p:tgtEl>
                                          <p:spTgt spid="253"/>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252"/>
                                        </p:tgtEl>
                                        <p:attrNameLst>
                                          <p:attrName>style.visibility</p:attrName>
                                        </p:attrNameLst>
                                      </p:cBhvr>
                                      <p:to>
                                        <p:strVal val="visible"/>
                                      </p:to>
                                    </p:set>
                                    <p:animEffect filter="wipe(left)" transition="in">
                                      <p:cBhvr additive="repl">
                                        <p:cTn id="638" dur="500"/>
                                        <p:tgtEl>
                                          <p:spTgt spid="252"/>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248"/>
                                        </p:tgtEl>
                                        <p:attrNameLst>
                                          <p:attrName>style.visibility</p:attrName>
                                        </p:attrNameLst>
                                      </p:cBhvr>
                                      <p:to>
                                        <p:strVal val="visible"/>
                                      </p:to>
                                    </p:set>
                                    <p:animEffect filter="wipe(up)" transition="in">
                                      <p:cBhvr additive="repl">
                                        <p:cTn id="643" dur="500"/>
                                        <p:tgtEl>
                                          <p:spTgt spid="248"/>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1">
                                  <p:stCondLst>
                                    <p:cond delay="0"/>
                                  </p:stCondLst>
                                  <p:childTnLst>
                                    <p:set>
                                      <p:cBhvr>
                                        <p:cTn id="647" dur="1" fill="hold">
                                          <p:stCondLst>
                                            <p:cond delay="0"/>
                                          </p:stCondLst>
                                        </p:cTn>
                                        <p:tgtEl>
                                          <p:spTgt spid="247"/>
                                        </p:tgtEl>
                                        <p:attrNameLst>
                                          <p:attrName>style.visibility</p:attrName>
                                        </p:attrNameLst>
                                      </p:cBhvr>
                                      <p:to>
                                        <p:strVal val="visible"/>
                                      </p:to>
                                    </p:set>
                                    <p:animEffect filter="wipe(up)" transition="in">
                                      <p:cBhvr additive="repl">
                                        <p:cTn id="648" dur="500"/>
                                        <p:tgtEl>
                                          <p:spTgt spid="247"/>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250"/>
                                        </p:tgtEl>
                                        <p:attrNameLst>
                                          <p:attrName>style.visibility</p:attrName>
                                        </p:attrNameLst>
                                      </p:cBhvr>
                                      <p:to>
                                        <p:strVal val="visible"/>
                                      </p:to>
                                    </p:set>
                                    <p:animEffect filter="wipe(left)" transition="in">
                                      <p:cBhvr additive="repl">
                                        <p:cTn id="653" dur="500"/>
                                        <p:tgtEl>
                                          <p:spTgt spid="250"/>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49"/>
                                        </p:tgtEl>
                                        <p:attrNameLst>
                                          <p:attrName>style.visibility</p:attrName>
                                        </p:attrNameLst>
                                      </p:cBhvr>
                                      <p:to>
                                        <p:strVal val="visible"/>
                                      </p:to>
                                    </p:set>
                                    <p:animEffect filter="wipe(left)" transition="in">
                                      <p:cBhvr additive="repl">
                                        <p:cTn id="658" dur="500"/>
                                        <p:tgtEl>
                                          <p:spTgt spid="249"/>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1">
                                  <p:stCondLst>
                                    <p:cond delay="0"/>
                                  </p:stCondLst>
                                  <p:childTnLst>
                                    <p:set>
                                      <p:cBhvr>
                                        <p:cTn id="662" dur="1" fill="hold">
                                          <p:stCondLst>
                                            <p:cond delay="0"/>
                                          </p:stCondLst>
                                        </p:cTn>
                                        <p:tgtEl>
                                          <p:spTgt spid="246"/>
                                        </p:tgtEl>
                                        <p:attrNameLst>
                                          <p:attrName>style.visibility</p:attrName>
                                        </p:attrNameLst>
                                      </p:cBhvr>
                                      <p:to>
                                        <p:strVal val="visible"/>
                                      </p:to>
                                    </p:set>
                                    <p:animEffect filter="wipe(up)" transition="in">
                                      <p:cBhvr additive="repl">
                                        <p:cTn id="663" dur="500"/>
                                        <p:tgtEl>
                                          <p:spTgt spid="246"/>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245"/>
                                        </p:tgtEl>
                                        <p:attrNameLst>
                                          <p:attrName>style.visibility</p:attrName>
                                        </p:attrNameLst>
                                      </p:cBhvr>
                                      <p:to>
                                        <p:strVal val="visible"/>
                                      </p:to>
                                    </p:set>
                                    <p:animEffect filter="wipe(up)" transition="in">
                                      <p:cBhvr additive="repl">
                                        <p:cTn id="668" dur="500"/>
                                        <p:tgtEl>
                                          <p:spTgt spid="245"/>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1">
                                  <p:stCondLst>
                                    <p:cond delay="0"/>
                                  </p:stCondLst>
                                  <p:childTnLst>
                                    <p:set>
                                      <p:cBhvr>
                                        <p:cTn id="672" dur="1" fill="hold">
                                          <p:stCondLst>
                                            <p:cond delay="0"/>
                                          </p:stCondLst>
                                        </p:cTn>
                                        <p:tgtEl>
                                          <p:spTgt spid="244"/>
                                        </p:tgtEl>
                                        <p:attrNameLst>
                                          <p:attrName>style.visibility</p:attrName>
                                        </p:attrNameLst>
                                      </p:cBhvr>
                                      <p:to>
                                        <p:strVal val="visible"/>
                                      </p:to>
                                    </p:set>
                                    <p:animEffect filter="wipe(up)" transition="in">
                                      <p:cBhvr additive="repl">
                                        <p:cTn id="673" dur="500"/>
                                        <p:tgtEl>
                                          <p:spTgt spid="244"/>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2" presetSubtype="1">
                                  <p:stCondLst>
                                    <p:cond delay="0"/>
                                  </p:stCondLst>
                                  <p:childTnLst>
                                    <p:set>
                                      <p:cBhvr>
                                        <p:cTn id="677" dur="1" fill="hold">
                                          <p:stCondLst>
                                            <p:cond delay="0"/>
                                          </p:stCondLst>
                                        </p:cTn>
                                        <p:tgtEl>
                                          <p:spTgt spid="243"/>
                                        </p:tgtEl>
                                        <p:attrNameLst>
                                          <p:attrName>style.visibility</p:attrName>
                                        </p:attrNameLst>
                                      </p:cBhvr>
                                      <p:to>
                                        <p:strVal val="visible"/>
                                      </p:to>
                                    </p:set>
                                    <p:animEffect filter="wipe(up)" transition="in">
                                      <p:cBhvr additive="repl">
                                        <p:cTn id="678" dur="500"/>
                                        <p:tgtEl>
                                          <p:spTgt spid="243"/>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242"/>
                                        </p:tgtEl>
                                        <p:attrNameLst>
                                          <p:attrName>style.visibility</p:attrName>
                                        </p:attrNameLst>
                                      </p:cBhvr>
                                      <p:to>
                                        <p:strVal val="visible"/>
                                      </p:to>
                                    </p:set>
                                    <p:animEffect filter="wipe(up)" transition="in">
                                      <p:cBhvr additive="repl">
                                        <p:cTn id="683" dur="500"/>
                                        <p:tgtEl>
                                          <p:spTgt spid="242"/>
                                        </p:tgtEl>
                                      </p:cBhvr>
                                    </p:animEffec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241"/>
                                        </p:tgtEl>
                                        <p:attrNameLst>
                                          <p:attrName>style.visibility</p:attrName>
                                        </p:attrNameLst>
                                      </p:cBhvr>
                                      <p:to>
                                        <p:strVal val="visible"/>
                                      </p:to>
                                    </p:set>
                                    <p:animEffect filter="wipe(up)" transition="in">
                                      <p:cBhvr additive="repl">
                                        <p:cTn id="688" dur="500"/>
                                        <p:tgtEl>
                                          <p:spTgt spid="241"/>
                                        </p:tgtEl>
                                      </p:cBhvr>
                                    </p:animEffec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53" presetSubtype="16">
                                  <p:stCondLst>
                                    <p:cond delay="0"/>
                                  </p:stCondLst>
                                  <p:childTnLst>
                                    <p:set>
                                      <p:cBhvr>
                                        <p:cTn id="692" dur="1" fill="hold">
                                          <p:stCondLst>
                                            <p:cond delay="0"/>
                                          </p:stCondLst>
                                        </p:cTn>
                                        <p:tgtEl>
                                          <p:spTgt spid="237"/>
                                        </p:tgtEl>
                                        <p:attrNameLst>
                                          <p:attrName>style.visibility</p:attrName>
                                        </p:attrNameLst>
                                      </p:cBhvr>
                                      <p:to>
                                        <p:strVal val="visible"/>
                                      </p:to>
                                    </p:set>
                                    <p:anim calcmode="lin" valueType="num">
                                      <p:cBhvr additive="repl">
                                        <p:cTn id="693" dur="500" fill="hold"/>
                                        <p:tgtEl>
                                          <p:spTgt spid="237"/>
                                        </p:tgtEl>
                                        <p:attrNameLst>
                                          <p:attrName>ppt_w</p:attrName>
                                        </p:attrNameLst>
                                      </p:cBhvr>
                                      <p:tavLst>
                                        <p:tav tm="0">
                                          <p:val>
                                            <p:fltVal val="0"/>
                                          </p:val>
                                        </p:tav>
                                        <p:tav tm="100000">
                                          <p:val>
                                            <p:strVal val="#ppt_w"/>
                                          </p:val>
                                        </p:tav>
                                      </p:tavLst>
                                    </p:anim>
                                    <p:anim calcmode="lin" valueType="num">
                                      <p:cBhvr additive="repl">
                                        <p:cTn id="694" dur="500" fill="hold"/>
                                        <p:tgtEl>
                                          <p:spTgt spid="237"/>
                                        </p:tgtEl>
                                        <p:attrNameLst>
                                          <p:attrName>ppt_h</p:attrName>
                                        </p:attrNameLst>
                                      </p:cBhvr>
                                      <p:tavLst>
                                        <p:tav tm="0">
                                          <p:val>
                                            <p:fltVal val="0"/>
                                          </p:val>
                                        </p:tav>
                                        <p:tav tm="100000">
                                          <p:val>
                                            <p:strVal val="#ppt_h"/>
                                          </p:val>
                                        </p:tav>
                                      </p:tavLst>
                                    </p:anim>
                                    <p:animEffect filter="fade" transition="in">
                                      <p:cBhvr additive="repl">
                                        <p:cTn id="69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宵</a:t>
            </a:r>
            <a:endParaRPr b="0" lang="en-US" sz="8000" spc="-1" strike="noStrike">
              <a:solidFill>
                <a:srgbClr val="000000"/>
              </a:solidFill>
              <a:latin typeface="Calibri"/>
            </a:endParaRPr>
          </a:p>
        </p:txBody>
      </p:sp>
      <p:graphicFrame>
        <p:nvGraphicFramePr>
          <p:cNvPr id="255"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56" name="组合 3"/>
          <p:cNvGrpSpPr/>
          <p:nvPr/>
        </p:nvGrpSpPr>
        <p:grpSpPr>
          <a:xfrm>
            <a:off x="1176480" y="3975120"/>
            <a:ext cx="2840040" cy="1571760"/>
            <a:chOff x="1176480" y="3975120"/>
            <a:chExt cx="2840040" cy="1571760"/>
          </a:xfrm>
        </p:grpSpPr>
        <p:pic>
          <p:nvPicPr>
            <p:cNvPr id="257" name="图示 4" descr=""/>
            <p:cNvPicPr/>
            <p:nvPr/>
          </p:nvPicPr>
          <p:blipFill>
            <a:blip r:embed="rId1"/>
            <a:stretch/>
          </p:blipFill>
          <p:spPr>
            <a:xfrm>
              <a:off x="1176480" y="3975120"/>
              <a:ext cx="2840040" cy="1571760"/>
            </a:xfrm>
            <a:prstGeom prst="rect">
              <a:avLst/>
            </a:prstGeom>
            <a:ln w="0">
              <a:noFill/>
            </a:ln>
          </p:spPr>
        </p:pic>
        <p:sp>
          <p:nvSpPr>
            <p:cNvPr id="258" name="矩形 2"/>
            <p:cNvSpPr/>
            <p:nvPr/>
          </p:nvSpPr>
          <p:spPr>
            <a:xfrm>
              <a:off x="1188360" y="458784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上宽下窄。下部“月”撇变竖。</a:t>
              </a:r>
              <a:endParaRPr b="0" lang="en-US" sz="2000" spc="-1" strike="noStrike">
                <a:solidFill>
                  <a:srgbClr val="000000"/>
                </a:solidFill>
                <a:latin typeface="Calibri"/>
              </a:endParaRPr>
            </a:p>
          </p:txBody>
        </p:sp>
      </p:grpSp>
      <p:sp>
        <p:nvSpPr>
          <p:cNvPr id="259" name="矩形 2"/>
          <p:cNvSpPr/>
          <p:nvPr/>
        </p:nvSpPr>
        <p:spPr>
          <a:xfrm>
            <a:off x="2036880" y="1855800"/>
            <a:ext cx="16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iāo</a:t>
            </a:r>
            <a:endParaRPr b="0" lang="en-US" sz="4800" spc="-1" strike="noStrike">
              <a:solidFill>
                <a:srgbClr val="000000"/>
              </a:solidFill>
              <a:latin typeface="Calibri"/>
            </a:endParaRPr>
          </a:p>
        </p:txBody>
      </p:sp>
      <p:sp>
        <p:nvSpPr>
          <p:cNvPr id="260" name="Freeform 94"/>
          <p:cNvSpPr/>
          <p:nvPr/>
        </p:nvSpPr>
        <p:spPr>
          <a:xfrm>
            <a:off x="6122880" y="3665520"/>
            <a:ext cx="1027080" cy="1327320"/>
          </a:xfrm>
          <a:custGeom>
            <a:avLst/>
            <a:gdLst/>
            <a:ahLst/>
            <a:rect l="l" t="t" r="r" b="b"/>
            <a:pathLst>
              <a:path w="1293" h="1672">
                <a:moveTo>
                  <a:pt x="0" y="156"/>
                </a:moveTo>
                <a:lnTo>
                  <a:pt x="30" y="156"/>
                </a:lnTo>
                <a:lnTo>
                  <a:pt x="61" y="154"/>
                </a:lnTo>
                <a:lnTo>
                  <a:pt x="92" y="154"/>
                </a:lnTo>
                <a:lnTo>
                  <a:pt x="125" y="152"/>
                </a:lnTo>
                <a:lnTo>
                  <a:pt x="157" y="148"/>
                </a:lnTo>
                <a:lnTo>
                  <a:pt x="190" y="146"/>
                </a:lnTo>
                <a:lnTo>
                  <a:pt x="224" y="142"/>
                </a:lnTo>
                <a:lnTo>
                  <a:pt x="259" y="138"/>
                </a:lnTo>
                <a:lnTo>
                  <a:pt x="293" y="135"/>
                </a:lnTo>
                <a:lnTo>
                  <a:pt x="330" y="131"/>
                </a:lnTo>
                <a:lnTo>
                  <a:pt x="366" y="125"/>
                </a:lnTo>
                <a:lnTo>
                  <a:pt x="405" y="119"/>
                </a:lnTo>
                <a:lnTo>
                  <a:pt x="441" y="113"/>
                </a:lnTo>
                <a:lnTo>
                  <a:pt x="482" y="108"/>
                </a:lnTo>
                <a:lnTo>
                  <a:pt x="520" y="102"/>
                </a:lnTo>
                <a:lnTo>
                  <a:pt x="560" y="96"/>
                </a:lnTo>
                <a:lnTo>
                  <a:pt x="579" y="92"/>
                </a:lnTo>
                <a:lnTo>
                  <a:pt x="599" y="88"/>
                </a:lnTo>
                <a:lnTo>
                  <a:pt x="618" y="85"/>
                </a:lnTo>
                <a:lnTo>
                  <a:pt x="637" y="83"/>
                </a:lnTo>
                <a:lnTo>
                  <a:pt x="654" y="79"/>
                </a:lnTo>
                <a:lnTo>
                  <a:pt x="672" y="77"/>
                </a:lnTo>
                <a:lnTo>
                  <a:pt x="687" y="73"/>
                </a:lnTo>
                <a:lnTo>
                  <a:pt x="704" y="71"/>
                </a:lnTo>
                <a:lnTo>
                  <a:pt x="718" y="67"/>
                </a:lnTo>
                <a:lnTo>
                  <a:pt x="733" y="65"/>
                </a:lnTo>
                <a:lnTo>
                  <a:pt x="748" y="62"/>
                </a:lnTo>
                <a:lnTo>
                  <a:pt x="762" y="60"/>
                </a:lnTo>
                <a:lnTo>
                  <a:pt x="773" y="58"/>
                </a:lnTo>
                <a:lnTo>
                  <a:pt x="787" y="54"/>
                </a:lnTo>
                <a:lnTo>
                  <a:pt x="798" y="52"/>
                </a:lnTo>
                <a:lnTo>
                  <a:pt x="810" y="50"/>
                </a:lnTo>
                <a:lnTo>
                  <a:pt x="821" y="48"/>
                </a:lnTo>
                <a:lnTo>
                  <a:pt x="831" y="46"/>
                </a:lnTo>
                <a:lnTo>
                  <a:pt x="840" y="44"/>
                </a:lnTo>
                <a:lnTo>
                  <a:pt x="850" y="42"/>
                </a:lnTo>
                <a:lnTo>
                  <a:pt x="860" y="40"/>
                </a:lnTo>
                <a:lnTo>
                  <a:pt x="867" y="39"/>
                </a:lnTo>
                <a:lnTo>
                  <a:pt x="875" y="37"/>
                </a:lnTo>
                <a:lnTo>
                  <a:pt x="881" y="35"/>
                </a:lnTo>
                <a:lnTo>
                  <a:pt x="888" y="33"/>
                </a:lnTo>
                <a:lnTo>
                  <a:pt x="894" y="31"/>
                </a:lnTo>
                <a:lnTo>
                  <a:pt x="900" y="31"/>
                </a:lnTo>
                <a:lnTo>
                  <a:pt x="906" y="29"/>
                </a:lnTo>
                <a:lnTo>
                  <a:pt x="910" y="27"/>
                </a:lnTo>
                <a:lnTo>
                  <a:pt x="913" y="27"/>
                </a:lnTo>
                <a:lnTo>
                  <a:pt x="917" y="25"/>
                </a:lnTo>
                <a:lnTo>
                  <a:pt x="919" y="23"/>
                </a:lnTo>
                <a:lnTo>
                  <a:pt x="942" y="16"/>
                </a:lnTo>
                <a:lnTo>
                  <a:pt x="954" y="12"/>
                </a:lnTo>
                <a:lnTo>
                  <a:pt x="965" y="8"/>
                </a:lnTo>
                <a:lnTo>
                  <a:pt x="977" y="4"/>
                </a:lnTo>
                <a:lnTo>
                  <a:pt x="990" y="2"/>
                </a:lnTo>
                <a:lnTo>
                  <a:pt x="1006" y="0"/>
                </a:lnTo>
                <a:lnTo>
                  <a:pt x="1021" y="0"/>
                </a:lnTo>
                <a:lnTo>
                  <a:pt x="1027" y="2"/>
                </a:lnTo>
                <a:lnTo>
                  <a:pt x="1032" y="4"/>
                </a:lnTo>
                <a:lnTo>
                  <a:pt x="1040" y="8"/>
                </a:lnTo>
                <a:lnTo>
                  <a:pt x="1048" y="12"/>
                </a:lnTo>
                <a:lnTo>
                  <a:pt x="1055" y="16"/>
                </a:lnTo>
                <a:lnTo>
                  <a:pt x="1063" y="17"/>
                </a:lnTo>
                <a:lnTo>
                  <a:pt x="1073" y="23"/>
                </a:lnTo>
                <a:lnTo>
                  <a:pt x="1082" y="27"/>
                </a:lnTo>
                <a:lnTo>
                  <a:pt x="1094" y="31"/>
                </a:lnTo>
                <a:lnTo>
                  <a:pt x="1105" y="37"/>
                </a:lnTo>
                <a:lnTo>
                  <a:pt x="1128" y="46"/>
                </a:lnTo>
                <a:lnTo>
                  <a:pt x="1151" y="58"/>
                </a:lnTo>
                <a:lnTo>
                  <a:pt x="1178" y="71"/>
                </a:lnTo>
                <a:lnTo>
                  <a:pt x="1192" y="81"/>
                </a:lnTo>
                <a:lnTo>
                  <a:pt x="1203" y="88"/>
                </a:lnTo>
                <a:lnTo>
                  <a:pt x="1215" y="98"/>
                </a:lnTo>
                <a:lnTo>
                  <a:pt x="1226" y="106"/>
                </a:lnTo>
                <a:lnTo>
                  <a:pt x="1236" y="113"/>
                </a:lnTo>
                <a:lnTo>
                  <a:pt x="1245" y="119"/>
                </a:lnTo>
                <a:lnTo>
                  <a:pt x="1255" y="127"/>
                </a:lnTo>
                <a:lnTo>
                  <a:pt x="1263" y="133"/>
                </a:lnTo>
                <a:lnTo>
                  <a:pt x="1270" y="138"/>
                </a:lnTo>
                <a:lnTo>
                  <a:pt x="1276" y="144"/>
                </a:lnTo>
                <a:lnTo>
                  <a:pt x="1282" y="150"/>
                </a:lnTo>
                <a:lnTo>
                  <a:pt x="1286" y="154"/>
                </a:lnTo>
                <a:lnTo>
                  <a:pt x="1290" y="158"/>
                </a:lnTo>
                <a:lnTo>
                  <a:pt x="1291" y="161"/>
                </a:lnTo>
                <a:lnTo>
                  <a:pt x="1293" y="165"/>
                </a:lnTo>
                <a:lnTo>
                  <a:pt x="1293" y="167"/>
                </a:lnTo>
                <a:lnTo>
                  <a:pt x="1293" y="177"/>
                </a:lnTo>
                <a:lnTo>
                  <a:pt x="1291" y="184"/>
                </a:lnTo>
                <a:lnTo>
                  <a:pt x="1288" y="194"/>
                </a:lnTo>
                <a:lnTo>
                  <a:pt x="1284" y="204"/>
                </a:lnTo>
                <a:lnTo>
                  <a:pt x="1280" y="211"/>
                </a:lnTo>
                <a:lnTo>
                  <a:pt x="1274" y="221"/>
                </a:lnTo>
                <a:lnTo>
                  <a:pt x="1265" y="238"/>
                </a:lnTo>
                <a:lnTo>
                  <a:pt x="1255" y="254"/>
                </a:lnTo>
                <a:lnTo>
                  <a:pt x="1245" y="267"/>
                </a:lnTo>
                <a:lnTo>
                  <a:pt x="1238" y="284"/>
                </a:lnTo>
                <a:lnTo>
                  <a:pt x="1232" y="302"/>
                </a:lnTo>
                <a:lnTo>
                  <a:pt x="1228" y="321"/>
                </a:lnTo>
                <a:lnTo>
                  <a:pt x="1224" y="340"/>
                </a:lnTo>
                <a:lnTo>
                  <a:pt x="1222" y="359"/>
                </a:lnTo>
                <a:lnTo>
                  <a:pt x="1222" y="382"/>
                </a:lnTo>
                <a:lnTo>
                  <a:pt x="1222" y="388"/>
                </a:lnTo>
                <a:lnTo>
                  <a:pt x="1222" y="394"/>
                </a:lnTo>
                <a:lnTo>
                  <a:pt x="1222" y="401"/>
                </a:lnTo>
                <a:lnTo>
                  <a:pt x="1222" y="409"/>
                </a:lnTo>
                <a:lnTo>
                  <a:pt x="1222" y="417"/>
                </a:lnTo>
                <a:lnTo>
                  <a:pt x="1222" y="426"/>
                </a:lnTo>
                <a:lnTo>
                  <a:pt x="1224" y="434"/>
                </a:lnTo>
                <a:lnTo>
                  <a:pt x="1224" y="444"/>
                </a:lnTo>
                <a:lnTo>
                  <a:pt x="1224" y="455"/>
                </a:lnTo>
                <a:lnTo>
                  <a:pt x="1226" y="467"/>
                </a:lnTo>
                <a:lnTo>
                  <a:pt x="1226" y="478"/>
                </a:lnTo>
                <a:lnTo>
                  <a:pt x="1228" y="490"/>
                </a:lnTo>
                <a:lnTo>
                  <a:pt x="1228" y="501"/>
                </a:lnTo>
                <a:lnTo>
                  <a:pt x="1230" y="515"/>
                </a:lnTo>
                <a:lnTo>
                  <a:pt x="1232" y="528"/>
                </a:lnTo>
                <a:lnTo>
                  <a:pt x="1232" y="543"/>
                </a:lnTo>
                <a:lnTo>
                  <a:pt x="1234" y="559"/>
                </a:lnTo>
                <a:lnTo>
                  <a:pt x="1236" y="574"/>
                </a:lnTo>
                <a:lnTo>
                  <a:pt x="1238" y="589"/>
                </a:lnTo>
                <a:lnTo>
                  <a:pt x="1238" y="605"/>
                </a:lnTo>
                <a:lnTo>
                  <a:pt x="1240" y="622"/>
                </a:lnTo>
                <a:lnTo>
                  <a:pt x="1242" y="641"/>
                </a:lnTo>
                <a:lnTo>
                  <a:pt x="1244" y="659"/>
                </a:lnTo>
                <a:lnTo>
                  <a:pt x="1245" y="678"/>
                </a:lnTo>
                <a:lnTo>
                  <a:pt x="1247" y="697"/>
                </a:lnTo>
                <a:lnTo>
                  <a:pt x="1249" y="716"/>
                </a:lnTo>
                <a:lnTo>
                  <a:pt x="1253" y="737"/>
                </a:lnTo>
                <a:lnTo>
                  <a:pt x="1255" y="758"/>
                </a:lnTo>
                <a:lnTo>
                  <a:pt x="1257" y="779"/>
                </a:lnTo>
                <a:lnTo>
                  <a:pt x="1259" y="803"/>
                </a:lnTo>
                <a:lnTo>
                  <a:pt x="1263" y="824"/>
                </a:lnTo>
                <a:lnTo>
                  <a:pt x="1265" y="849"/>
                </a:lnTo>
                <a:lnTo>
                  <a:pt x="1267" y="895"/>
                </a:lnTo>
                <a:lnTo>
                  <a:pt x="1270" y="939"/>
                </a:lnTo>
                <a:lnTo>
                  <a:pt x="1272" y="981"/>
                </a:lnTo>
                <a:lnTo>
                  <a:pt x="1274" y="1021"/>
                </a:lnTo>
                <a:lnTo>
                  <a:pt x="1276" y="1062"/>
                </a:lnTo>
                <a:lnTo>
                  <a:pt x="1278" y="1098"/>
                </a:lnTo>
                <a:lnTo>
                  <a:pt x="1280" y="1135"/>
                </a:lnTo>
                <a:lnTo>
                  <a:pt x="1282" y="1169"/>
                </a:lnTo>
                <a:lnTo>
                  <a:pt x="1284" y="1200"/>
                </a:lnTo>
                <a:lnTo>
                  <a:pt x="1284" y="1231"/>
                </a:lnTo>
                <a:lnTo>
                  <a:pt x="1284" y="1259"/>
                </a:lnTo>
                <a:lnTo>
                  <a:pt x="1284" y="1286"/>
                </a:lnTo>
                <a:lnTo>
                  <a:pt x="1284" y="1309"/>
                </a:lnTo>
                <a:lnTo>
                  <a:pt x="1284" y="1323"/>
                </a:lnTo>
                <a:lnTo>
                  <a:pt x="1284" y="1332"/>
                </a:lnTo>
                <a:lnTo>
                  <a:pt x="1282" y="1344"/>
                </a:lnTo>
                <a:lnTo>
                  <a:pt x="1282" y="1353"/>
                </a:lnTo>
                <a:lnTo>
                  <a:pt x="1280" y="1363"/>
                </a:lnTo>
                <a:lnTo>
                  <a:pt x="1280" y="1373"/>
                </a:lnTo>
                <a:lnTo>
                  <a:pt x="1276" y="1390"/>
                </a:lnTo>
                <a:lnTo>
                  <a:pt x="1272" y="1407"/>
                </a:lnTo>
                <a:lnTo>
                  <a:pt x="1268" y="1424"/>
                </a:lnTo>
                <a:lnTo>
                  <a:pt x="1265" y="1440"/>
                </a:lnTo>
                <a:lnTo>
                  <a:pt x="1261" y="1455"/>
                </a:lnTo>
                <a:lnTo>
                  <a:pt x="1257" y="1471"/>
                </a:lnTo>
                <a:lnTo>
                  <a:pt x="1247" y="1499"/>
                </a:lnTo>
                <a:lnTo>
                  <a:pt x="1236" y="1526"/>
                </a:lnTo>
                <a:lnTo>
                  <a:pt x="1222" y="1553"/>
                </a:lnTo>
                <a:lnTo>
                  <a:pt x="1209" y="1576"/>
                </a:lnTo>
                <a:lnTo>
                  <a:pt x="1194" y="1599"/>
                </a:lnTo>
                <a:lnTo>
                  <a:pt x="1184" y="1609"/>
                </a:lnTo>
                <a:lnTo>
                  <a:pt x="1176" y="1616"/>
                </a:lnTo>
                <a:lnTo>
                  <a:pt x="1169" y="1624"/>
                </a:lnTo>
                <a:lnTo>
                  <a:pt x="1161" y="1632"/>
                </a:lnTo>
                <a:lnTo>
                  <a:pt x="1153" y="1637"/>
                </a:lnTo>
                <a:lnTo>
                  <a:pt x="1146" y="1643"/>
                </a:lnTo>
                <a:lnTo>
                  <a:pt x="1138" y="1649"/>
                </a:lnTo>
                <a:lnTo>
                  <a:pt x="1130" y="1653"/>
                </a:lnTo>
                <a:lnTo>
                  <a:pt x="1123" y="1659"/>
                </a:lnTo>
                <a:lnTo>
                  <a:pt x="1115" y="1661"/>
                </a:lnTo>
                <a:lnTo>
                  <a:pt x="1109" y="1664"/>
                </a:lnTo>
                <a:lnTo>
                  <a:pt x="1101" y="1666"/>
                </a:lnTo>
                <a:lnTo>
                  <a:pt x="1096" y="1668"/>
                </a:lnTo>
                <a:lnTo>
                  <a:pt x="1088" y="1670"/>
                </a:lnTo>
                <a:lnTo>
                  <a:pt x="1082" y="1670"/>
                </a:lnTo>
                <a:lnTo>
                  <a:pt x="1078" y="1672"/>
                </a:lnTo>
                <a:lnTo>
                  <a:pt x="1069" y="1670"/>
                </a:lnTo>
                <a:lnTo>
                  <a:pt x="1063" y="1670"/>
                </a:lnTo>
                <a:lnTo>
                  <a:pt x="1055" y="1668"/>
                </a:lnTo>
                <a:lnTo>
                  <a:pt x="1050" y="1664"/>
                </a:lnTo>
                <a:lnTo>
                  <a:pt x="1044" y="1661"/>
                </a:lnTo>
                <a:lnTo>
                  <a:pt x="1040" y="1657"/>
                </a:lnTo>
                <a:lnTo>
                  <a:pt x="1034" y="1651"/>
                </a:lnTo>
                <a:lnTo>
                  <a:pt x="1030" y="1645"/>
                </a:lnTo>
                <a:lnTo>
                  <a:pt x="1027" y="1639"/>
                </a:lnTo>
                <a:lnTo>
                  <a:pt x="1023" y="1632"/>
                </a:lnTo>
                <a:lnTo>
                  <a:pt x="1021" y="1624"/>
                </a:lnTo>
                <a:lnTo>
                  <a:pt x="1017" y="1616"/>
                </a:lnTo>
                <a:lnTo>
                  <a:pt x="1013" y="1607"/>
                </a:lnTo>
                <a:lnTo>
                  <a:pt x="1011" y="1597"/>
                </a:lnTo>
                <a:lnTo>
                  <a:pt x="1009" y="1586"/>
                </a:lnTo>
                <a:lnTo>
                  <a:pt x="1006" y="1576"/>
                </a:lnTo>
                <a:lnTo>
                  <a:pt x="1004" y="1565"/>
                </a:lnTo>
                <a:lnTo>
                  <a:pt x="998" y="1553"/>
                </a:lnTo>
                <a:lnTo>
                  <a:pt x="992" y="1542"/>
                </a:lnTo>
                <a:lnTo>
                  <a:pt x="984" y="1532"/>
                </a:lnTo>
                <a:lnTo>
                  <a:pt x="977" y="1520"/>
                </a:lnTo>
                <a:lnTo>
                  <a:pt x="967" y="1509"/>
                </a:lnTo>
                <a:lnTo>
                  <a:pt x="956" y="1499"/>
                </a:lnTo>
                <a:lnTo>
                  <a:pt x="944" y="1488"/>
                </a:lnTo>
                <a:lnTo>
                  <a:pt x="933" y="1478"/>
                </a:lnTo>
                <a:lnTo>
                  <a:pt x="919" y="1467"/>
                </a:lnTo>
                <a:lnTo>
                  <a:pt x="904" y="1457"/>
                </a:lnTo>
                <a:lnTo>
                  <a:pt x="888" y="1447"/>
                </a:lnTo>
                <a:lnTo>
                  <a:pt x="873" y="1438"/>
                </a:lnTo>
                <a:lnTo>
                  <a:pt x="856" y="1426"/>
                </a:lnTo>
                <a:lnTo>
                  <a:pt x="837" y="1419"/>
                </a:lnTo>
                <a:lnTo>
                  <a:pt x="819" y="1409"/>
                </a:lnTo>
                <a:lnTo>
                  <a:pt x="800" y="1399"/>
                </a:lnTo>
                <a:lnTo>
                  <a:pt x="783" y="1392"/>
                </a:lnTo>
                <a:lnTo>
                  <a:pt x="768" y="1382"/>
                </a:lnTo>
                <a:lnTo>
                  <a:pt x="752" y="1375"/>
                </a:lnTo>
                <a:lnTo>
                  <a:pt x="739" y="1367"/>
                </a:lnTo>
                <a:lnTo>
                  <a:pt x="725" y="1361"/>
                </a:lnTo>
                <a:lnTo>
                  <a:pt x="714" y="1353"/>
                </a:lnTo>
                <a:lnTo>
                  <a:pt x="704" y="1348"/>
                </a:lnTo>
                <a:lnTo>
                  <a:pt x="695" y="1342"/>
                </a:lnTo>
                <a:lnTo>
                  <a:pt x="689" y="1336"/>
                </a:lnTo>
                <a:lnTo>
                  <a:pt x="683" y="1330"/>
                </a:lnTo>
                <a:lnTo>
                  <a:pt x="677" y="1327"/>
                </a:lnTo>
                <a:lnTo>
                  <a:pt x="675" y="1323"/>
                </a:lnTo>
                <a:lnTo>
                  <a:pt x="673" y="1319"/>
                </a:lnTo>
                <a:lnTo>
                  <a:pt x="673" y="1315"/>
                </a:lnTo>
                <a:lnTo>
                  <a:pt x="675" y="1313"/>
                </a:lnTo>
                <a:lnTo>
                  <a:pt x="679" y="1311"/>
                </a:lnTo>
                <a:lnTo>
                  <a:pt x="683" y="1309"/>
                </a:lnTo>
                <a:lnTo>
                  <a:pt x="689" y="1307"/>
                </a:lnTo>
                <a:lnTo>
                  <a:pt x="695" y="1307"/>
                </a:lnTo>
                <a:lnTo>
                  <a:pt x="702" y="1305"/>
                </a:lnTo>
                <a:lnTo>
                  <a:pt x="710" y="1305"/>
                </a:lnTo>
                <a:lnTo>
                  <a:pt x="720" y="1304"/>
                </a:lnTo>
                <a:lnTo>
                  <a:pt x="729" y="1304"/>
                </a:lnTo>
                <a:lnTo>
                  <a:pt x="741" y="1304"/>
                </a:lnTo>
                <a:lnTo>
                  <a:pt x="752" y="1305"/>
                </a:lnTo>
                <a:lnTo>
                  <a:pt x="766" y="1305"/>
                </a:lnTo>
                <a:lnTo>
                  <a:pt x="781" y="1307"/>
                </a:lnTo>
                <a:lnTo>
                  <a:pt x="796" y="1307"/>
                </a:lnTo>
                <a:lnTo>
                  <a:pt x="812" y="1309"/>
                </a:lnTo>
                <a:lnTo>
                  <a:pt x="829" y="1311"/>
                </a:lnTo>
                <a:lnTo>
                  <a:pt x="848" y="1313"/>
                </a:lnTo>
                <a:lnTo>
                  <a:pt x="865" y="1315"/>
                </a:lnTo>
                <a:lnTo>
                  <a:pt x="885" y="1317"/>
                </a:lnTo>
                <a:lnTo>
                  <a:pt x="902" y="1319"/>
                </a:lnTo>
                <a:lnTo>
                  <a:pt x="917" y="1321"/>
                </a:lnTo>
                <a:lnTo>
                  <a:pt x="933" y="1321"/>
                </a:lnTo>
                <a:lnTo>
                  <a:pt x="948" y="1321"/>
                </a:lnTo>
                <a:lnTo>
                  <a:pt x="961" y="1323"/>
                </a:lnTo>
                <a:lnTo>
                  <a:pt x="973" y="1323"/>
                </a:lnTo>
                <a:lnTo>
                  <a:pt x="984" y="1323"/>
                </a:lnTo>
                <a:lnTo>
                  <a:pt x="996" y="1321"/>
                </a:lnTo>
                <a:lnTo>
                  <a:pt x="1006" y="1321"/>
                </a:lnTo>
                <a:lnTo>
                  <a:pt x="1013" y="1321"/>
                </a:lnTo>
                <a:lnTo>
                  <a:pt x="1021" y="1319"/>
                </a:lnTo>
                <a:lnTo>
                  <a:pt x="1027" y="1317"/>
                </a:lnTo>
                <a:lnTo>
                  <a:pt x="1030" y="1315"/>
                </a:lnTo>
                <a:lnTo>
                  <a:pt x="1034" y="1313"/>
                </a:lnTo>
                <a:lnTo>
                  <a:pt x="1036" y="1311"/>
                </a:lnTo>
                <a:lnTo>
                  <a:pt x="1036" y="1309"/>
                </a:lnTo>
                <a:lnTo>
                  <a:pt x="1038" y="1307"/>
                </a:lnTo>
                <a:lnTo>
                  <a:pt x="1040" y="1305"/>
                </a:lnTo>
                <a:lnTo>
                  <a:pt x="1042" y="1302"/>
                </a:lnTo>
                <a:lnTo>
                  <a:pt x="1042" y="1298"/>
                </a:lnTo>
                <a:lnTo>
                  <a:pt x="1046" y="1288"/>
                </a:lnTo>
                <a:lnTo>
                  <a:pt x="1048" y="1279"/>
                </a:lnTo>
                <a:lnTo>
                  <a:pt x="1050" y="1265"/>
                </a:lnTo>
                <a:lnTo>
                  <a:pt x="1052" y="1250"/>
                </a:lnTo>
                <a:lnTo>
                  <a:pt x="1053" y="1234"/>
                </a:lnTo>
                <a:lnTo>
                  <a:pt x="1055" y="1215"/>
                </a:lnTo>
                <a:lnTo>
                  <a:pt x="1057" y="1196"/>
                </a:lnTo>
                <a:lnTo>
                  <a:pt x="1059" y="1173"/>
                </a:lnTo>
                <a:lnTo>
                  <a:pt x="1061" y="1150"/>
                </a:lnTo>
                <a:lnTo>
                  <a:pt x="1061" y="1125"/>
                </a:lnTo>
                <a:lnTo>
                  <a:pt x="1063" y="1098"/>
                </a:lnTo>
                <a:lnTo>
                  <a:pt x="1063" y="1069"/>
                </a:lnTo>
                <a:lnTo>
                  <a:pt x="1063" y="1039"/>
                </a:lnTo>
                <a:lnTo>
                  <a:pt x="1063" y="1010"/>
                </a:lnTo>
                <a:lnTo>
                  <a:pt x="1063" y="979"/>
                </a:lnTo>
                <a:lnTo>
                  <a:pt x="1061" y="948"/>
                </a:lnTo>
                <a:lnTo>
                  <a:pt x="1061" y="918"/>
                </a:lnTo>
                <a:lnTo>
                  <a:pt x="1059" y="887"/>
                </a:lnTo>
                <a:lnTo>
                  <a:pt x="1057" y="854"/>
                </a:lnTo>
                <a:lnTo>
                  <a:pt x="1053" y="789"/>
                </a:lnTo>
                <a:lnTo>
                  <a:pt x="1050" y="722"/>
                </a:lnTo>
                <a:lnTo>
                  <a:pt x="1046" y="655"/>
                </a:lnTo>
                <a:lnTo>
                  <a:pt x="1040" y="584"/>
                </a:lnTo>
                <a:lnTo>
                  <a:pt x="1034" y="513"/>
                </a:lnTo>
                <a:lnTo>
                  <a:pt x="1032" y="495"/>
                </a:lnTo>
                <a:lnTo>
                  <a:pt x="1029" y="478"/>
                </a:lnTo>
                <a:lnTo>
                  <a:pt x="1027" y="461"/>
                </a:lnTo>
                <a:lnTo>
                  <a:pt x="1025" y="446"/>
                </a:lnTo>
                <a:lnTo>
                  <a:pt x="1021" y="430"/>
                </a:lnTo>
                <a:lnTo>
                  <a:pt x="1019" y="415"/>
                </a:lnTo>
                <a:lnTo>
                  <a:pt x="1015" y="399"/>
                </a:lnTo>
                <a:lnTo>
                  <a:pt x="1013" y="386"/>
                </a:lnTo>
                <a:lnTo>
                  <a:pt x="1011" y="373"/>
                </a:lnTo>
                <a:lnTo>
                  <a:pt x="1007" y="359"/>
                </a:lnTo>
                <a:lnTo>
                  <a:pt x="1006" y="346"/>
                </a:lnTo>
                <a:lnTo>
                  <a:pt x="1004" y="334"/>
                </a:lnTo>
                <a:lnTo>
                  <a:pt x="1000" y="323"/>
                </a:lnTo>
                <a:lnTo>
                  <a:pt x="998" y="311"/>
                </a:lnTo>
                <a:lnTo>
                  <a:pt x="996" y="300"/>
                </a:lnTo>
                <a:lnTo>
                  <a:pt x="994" y="290"/>
                </a:lnTo>
                <a:lnTo>
                  <a:pt x="990" y="280"/>
                </a:lnTo>
                <a:lnTo>
                  <a:pt x="988" y="271"/>
                </a:lnTo>
                <a:lnTo>
                  <a:pt x="986" y="261"/>
                </a:lnTo>
                <a:lnTo>
                  <a:pt x="984" y="254"/>
                </a:lnTo>
                <a:lnTo>
                  <a:pt x="982" y="246"/>
                </a:lnTo>
                <a:lnTo>
                  <a:pt x="981" y="238"/>
                </a:lnTo>
                <a:lnTo>
                  <a:pt x="979" y="231"/>
                </a:lnTo>
                <a:lnTo>
                  <a:pt x="977" y="225"/>
                </a:lnTo>
                <a:lnTo>
                  <a:pt x="975" y="219"/>
                </a:lnTo>
                <a:lnTo>
                  <a:pt x="973" y="213"/>
                </a:lnTo>
                <a:lnTo>
                  <a:pt x="971" y="207"/>
                </a:lnTo>
                <a:lnTo>
                  <a:pt x="969" y="204"/>
                </a:lnTo>
                <a:lnTo>
                  <a:pt x="967" y="200"/>
                </a:lnTo>
                <a:lnTo>
                  <a:pt x="965" y="196"/>
                </a:lnTo>
                <a:lnTo>
                  <a:pt x="963" y="194"/>
                </a:lnTo>
                <a:lnTo>
                  <a:pt x="963" y="190"/>
                </a:lnTo>
                <a:lnTo>
                  <a:pt x="958" y="188"/>
                </a:lnTo>
                <a:lnTo>
                  <a:pt x="950" y="186"/>
                </a:lnTo>
                <a:lnTo>
                  <a:pt x="944" y="184"/>
                </a:lnTo>
                <a:lnTo>
                  <a:pt x="936" y="183"/>
                </a:lnTo>
                <a:lnTo>
                  <a:pt x="929" y="181"/>
                </a:lnTo>
                <a:lnTo>
                  <a:pt x="919" y="179"/>
                </a:lnTo>
                <a:lnTo>
                  <a:pt x="910" y="177"/>
                </a:lnTo>
                <a:lnTo>
                  <a:pt x="900" y="175"/>
                </a:lnTo>
                <a:lnTo>
                  <a:pt x="890" y="173"/>
                </a:lnTo>
                <a:lnTo>
                  <a:pt x="879" y="171"/>
                </a:lnTo>
                <a:lnTo>
                  <a:pt x="856" y="169"/>
                </a:lnTo>
                <a:lnTo>
                  <a:pt x="831" y="167"/>
                </a:lnTo>
                <a:lnTo>
                  <a:pt x="804" y="167"/>
                </a:lnTo>
                <a:lnTo>
                  <a:pt x="791" y="167"/>
                </a:lnTo>
                <a:lnTo>
                  <a:pt x="777" y="167"/>
                </a:lnTo>
                <a:lnTo>
                  <a:pt x="762" y="169"/>
                </a:lnTo>
                <a:lnTo>
                  <a:pt x="744" y="169"/>
                </a:lnTo>
                <a:lnTo>
                  <a:pt x="729" y="171"/>
                </a:lnTo>
                <a:lnTo>
                  <a:pt x="712" y="173"/>
                </a:lnTo>
                <a:lnTo>
                  <a:pt x="695" y="173"/>
                </a:lnTo>
                <a:lnTo>
                  <a:pt x="675" y="175"/>
                </a:lnTo>
                <a:lnTo>
                  <a:pt x="656" y="179"/>
                </a:lnTo>
                <a:lnTo>
                  <a:pt x="637" y="181"/>
                </a:lnTo>
                <a:lnTo>
                  <a:pt x="616" y="184"/>
                </a:lnTo>
                <a:lnTo>
                  <a:pt x="595" y="186"/>
                </a:lnTo>
                <a:lnTo>
                  <a:pt x="572" y="190"/>
                </a:lnTo>
                <a:lnTo>
                  <a:pt x="551" y="194"/>
                </a:lnTo>
                <a:lnTo>
                  <a:pt x="526" y="198"/>
                </a:lnTo>
                <a:lnTo>
                  <a:pt x="503" y="204"/>
                </a:lnTo>
                <a:lnTo>
                  <a:pt x="478" y="207"/>
                </a:lnTo>
                <a:lnTo>
                  <a:pt x="453" y="211"/>
                </a:lnTo>
                <a:lnTo>
                  <a:pt x="426" y="217"/>
                </a:lnTo>
                <a:lnTo>
                  <a:pt x="397" y="221"/>
                </a:lnTo>
                <a:lnTo>
                  <a:pt x="370" y="225"/>
                </a:lnTo>
                <a:lnTo>
                  <a:pt x="339" y="229"/>
                </a:lnTo>
                <a:lnTo>
                  <a:pt x="309" y="232"/>
                </a:lnTo>
                <a:lnTo>
                  <a:pt x="278" y="236"/>
                </a:lnTo>
                <a:lnTo>
                  <a:pt x="245" y="240"/>
                </a:lnTo>
                <a:lnTo>
                  <a:pt x="213" y="244"/>
                </a:lnTo>
                <a:lnTo>
                  <a:pt x="180" y="248"/>
                </a:lnTo>
                <a:lnTo>
                  <a:pt x="146" y="252"/>
                </a:lnTo>
                <a:lnTo>
                  <a:pt x="109" y="255"/>
                </a:lnTo>
                <a:lnTo>
                  <a:pt x="75" y="257"/>
                </a:lnTo>
                <a:lnTo>
                  <a:pt x="36" y="259"/>
                </a:lnTo>
                <a:lnTo>
                  <a:pt x="0" y="263"/>
                </a:lnTo>
                <a:lnTo>
                  <a:pt x="0" y="209"/>
                </a:lnTo>
                <a:lnTo>
                  <a:pt x="0" y="1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Freeform 95"/>
          <p:cNvSpPr/>
          <p:nvPr/>
        </p:nvSpPr>
        <p:spPr>
          <a:xfrm>
            <a:off x="6122880" y="3986280"/>
            <a:ext cx="638280" cy="133200"/>
          </a:xfrm>
          <a:custGeom>
            <a:avLst/>
            <a:gdLst/>
            <a:ahLst/>
            <a:rect l="l" t="t" r="r" b="b"/>
            <a:pathLst>
              <a:path w="804" h="167">
                <a:moveTo>
                  <a:pt x="301" y="37"/>
                </a:moveTo>
                <a:lnTo>
                  <a:pt x="339" y="29"/>
                </a:lnTo>
                <a:lnTo>
                  <a:pt x="376" y="21"/>
                </a:lnTo>
                <a:lnTo>
                  <a:pt x="412" y="14"/>
                </a:lnTo>
                <a:lnTo>
                  <a:pt x="449" y="10"/>
                </a:lnTo>
                <a:lnTo>
                  <a:pt x="483" y="6"/>
                </a:lnTo>
                <a:lnTo>
                  <a:pt x="499" y="4"/>
                </a:lnTo>
                <a:lnTo>
                  <a:pt x="516" y="2"/>
                </a:lnTo>
                <a:lnTo>
                  <a:pt x="531" y="2"/>
                </a:lnTo>
                <a:lnTo>
                  <a:pt x="547" y="2"/>
                </a:lnTo>
                <a:lnTo>
                  <a:pt x="560" y="0"/>
                </a:lnTo>
                <a:lnTo>
                  <a:pt x="576" y="0"/>
                </a:lnTo>
                <a:lnTo>
                  <a:pt x="601" y="2"/>
                </a:lnTo>
                <a:lnTo>
                  <a:pt x="625" y="2"/>
                </a:lnTo>
                <a:lnTo>
                  <a:pt x="650" y="6"/>
                </a:lnTo>
                <a:lnTo>
                  <a:pt x="672" y="8"/>
                </a:lnTo>
                <a:lnTo>
                  <a:pt x="693" y="12"/>
                </a:lnTo>
                <a:lnTo>
                  <a:pt x="712" y="16"/>
                </a:lnTo>
                <a:lnTo>
                  <a:pt x="731" y="19"/>
                </a:lnTo>
                <a:lnTo>
                  <a:pt x="746" y="25"/>
                </a:lnTo>
                <a:lnTo>
                  <a:pt x="754" y="27"/>
                </a:lnTo>
                <a:lnTo>
                  <a:pt x="762" y="29"/>
                </a:lnTo>
                <a:lnTo>
                  <a:pt x="768" y="31"/>
                </a:lnTo>
                <a:lnTo>
                  <a:pt x="773" y="33"/>
                </a:lnTo>
                <a:lnTo>
                  <a:pt x="779" y="37"/>
                </a:lnTo>
                <a:lnTo>
                  <a:pt x="785" y="39"/>
                </a:lnTo>
                <a:lnTo>
                  <a:pt x="789" y="41"/>
                </a:lnTo>
                <a:lnTo>
                  <a:pt x="792" y="42"/>
                </a:lnTo>
                <a:lnTo>
                  <a:pt x="794" y="44"/>
                </a:lnTo>
                <a:lnTo>
                  <a:pt x="798" y="46"/>
                </a:lnTo>
                <a:lnTo>
                  <a:pt x="802" y="52"/>
                </a:lnTo>
                <a:lnTo>
                  <a:pt x="804" y="56"/>
                </a:lnTo>
                <a:lnTo>
                  <a:pt x="804" y="62"/>
                </a:lnTo>
                <a:lnTo>
                  <a:pt x="804" y="64"/>
                </a:lnTo>
                <a:lnTo>
                  <a:pt x="804" y="65"/>
                </a:lnTo>
                <a:lnTo>
                  <a:pt x="802" y="67"/>
                </a:lnTo>
                <a:lnTo>
                  <a:pt x="798" y="69"/>
                </a:lnTo>
                <a:lnTo>
                  <a:pt x="796" y="71"/>
                </a:lnTo>
                <a:lnTo>
                  <a:pt x="792" y="73"/>
                </a:lnTo>
                <a:lnTo>
                  <a:pt x="789" y="77"/>
                </a:lnTo>
                <a:lnTo>
                  <a:pt x="783" y="79"/>
                </a:lnTo>
                <a:lnTo>
                  <a:pt x="777" y="81"/>
                </a:lnTo>
                <a:lnTo>
                  <a:pt x="771" y="83"/>
                </a:lnTo>
                <a:lnTo>
                  <a:pt x="764" y="85"/>
                </a:lnTo>
                <a:lnTo>
                  <a:pt x="756" y="87"/>
                </a:lnTo>
                <a:lnTo>
                  <a:pt x="748" y="90"/>
                </a:lnTo>
                <a:lnTo>
                  <a:pt x="739" y="92"/>
                </a:lnTo>
                <a:lnTo>
                  <a:pt x="729" y="94"/>
                </a:lnTo>
                <a:lnTo>
                  <a:pt x="720" y="96"/>
                </a:lnTo>
                <a:lnTo>
                  <a:pt x="712" y="98"/>
                </a:lnTo>
                <a:lnTo>
                  <a:pt x="706" y="98"/>
                </a:lnTo>
                <a:lnTo>
                  <a:pt x="698" y="100"/>
                </a:lnTo>
                <a:lnTo>
                  <a:pt x="689" y="102"/>
                </a:lnTo>
                <a:lnTo>
                  <a:pt x="677" y="102"/>
                </a:lnTo>
                <a:lnTo>
                  <a:pt x="666" y="104"/>
                </a:lnTo>
                <a:lnTo>
                  <a:pt x="654" y="106"/>
                </a:lnTo>
                <a:lnTo>
                  <a:pt x="641" y="108"/>
                </a:lnTo>
                <a:lnTo>
                  <a:pt x="625" y="110"/>
                </a:lnTo>
                <a:lnTo>
                  <a:pt x="610" y="112"/>
                </a:lnTo>
                <a:lnTo>
                  <a:pt x="593" y="113"/>
                </a:lnTo>
                <a:lnTo>
                  <a:pt x="576" y="115"/>
                </a:lnTo>
                <a:lnTo>
                  <a:pt x="556" y="117"/>
                </a:lnTo>
                <a:lnTo>
                  <a:pt x="537" y="119"/>
                </a:lnTo>
                <a:lnTo>
                  <a:pt x="516" y="121"/>
                </a:lnTo>
                <a:lnTo>
                  <a:pt x="493" y="123"/>
                </a:lnTo>
                <a:lnTo>
                  <a:pt x="470" y="125"/>
                </a:lnTo>
                <a:lnTo>
                  <a:pt x="447" y="127"/>
                </a:lnTo>
                <a:lnTo>
                  <a:pt x="422" y="131"/>
                </a:lnTo>
                <a:lnTo>
                  <a:pt x="395" y="133"/>
                </a:lnTo>
                <a:lnTo>
                  <a:pt x="368" y="135"/>
                </a:lnTo>
                <a:lnTo>
                  <a:pt x="339" y="138"/>
                </a:lnTo>
                <a:lnTo>
                  <a:pt x="311" y="140"/>
                </a:lnTo>
                <a:lnTo>
                  <a:pt x="280" y="142"/>
                </a:lnTo>
                <a:lnTo>
                  <a:pt x="247" y="146"/>
                </a:lnTo>
                <a:lnTo>
                  <a:pt x="217" y="148"/>
                </a:lnTo>
                <a:lnTo>
                  <a:pt x="182" y="152"/>
                </a:lnTo>
                <a:lnTo>
                  <a:pt x="148" y="154"/>
                </a:lnTo>
                <a:lnTo>
                  <a:pt x="113" y="158"/>
                </a:lnTo>
                <a:lnTo>
                  <a:pt x="77" y="161"/>
                </a:lnTo>
                <a:lnTo>
                  <a:pt x="38" y="165"/>
                </a:lnTo>
                <a:lnTo>
                  <a:pt x="0" y="167"/>
                </a:lnTo>
                <a:lnTo>
                  <a:pt x="0" y="119"/>
                </a:lnTo>
                <a:lnTo>
                  <a:pt x="0" y="73"/>
                </a:lnTo>
                <a:lnTo>
                  <a:pt x="151" y="54"/>
                </a:lnTo>
                <a:lnTo>
                  <a:pt x="301"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Freeform 96"/>
          <p:cNvSpPr/>
          <p:nvPr/>
        </p:nvSpPr>
        <p:spPr>
          <a:xfrm>
            <a:off x="6089760" y="4248000"/>
            <a:ext cx="671400" cy="146160"/>
          </a:xfrm>
          <a:custGeom>
            <a:avLst/>
            <a:gdLst/>
            <a:ahLst/>
            <a:rect l="l" t="t" r="r" b="b"/>
            <a:pathLst>
              <a:path w="846" h="185">
                <a:moveTo>
                  <a:pt x="0" y="185"/>
                </a:moveTo>
                <a:lnTo>
                  <a:pt x="0" y="137"/>
                </a:lnTo>
                <a:lnTo>
                  <a:pt x="0" y="89"/>
                </a:lnTo>
                <a:lnTo>
                  <a:pt x="57" y="89"/>
                </a:lnTo>
                <a:lnTo>
                  <a:pt x="117" y="87"/>
                </a:lnTo>
                <a:lnTo>
                  <a:pt x="178" y="83"/>
                </a:lnTo>
                <a:lnTo>
                  <a:pt x="238" y="79"/>
                </a:lnTo>
                <a:lnTo>
                  <a:pt x="299" y="71"/>
                </a:lnTo>
                <a:lnTo>
                  <a:pt x="330" y="68"/>
                </a:lnTo>
                <a:lnTo>
                  <a:pt x="360" y="64"/>
                </a:lnTo>
                <a:lnTo>
                  <a:pt x="391" y="58"/>
                </a:lnTo>
                <a:lnTo>
                  <a:pt x="424" y="54"/>
                </a:lnTo>
                <a:lnTo>
                  <a:pt x="454" y="46"/>
                </a:lnTo>
                <a:lnTo>
                  <a:pt x="487" y="41"/>
                </a:lnTo>
                <a:lnTo>
                  <a:pt x="516" y="35"/>
                </a:lnTo>
                <a:lnTo>
                  <a:pt x="545" y="29"/>
                </a:lnTo>
                <a:lnTo>
                  <a:pt x="570" y="23"/>
                </a:lnTo>
                <a:lnTo>
                  <a:pt x="595" y="18"/>
                </a:lnTo>
                <a:lnTo>
                  <a:pt x="619" y="14"/>
                </a:lnTo>
                <a:lnTo>
                  <a:pt x="641" y="10"/>
                </a:lnTo>
                <a:lnTo>
                  <a:pt x="662" y="8"/>
                </a:lnTo>
                <a:lnTo>
                  <a:pt x="681" y="4"/>
                </a:lnTo>
                <a:lnTo>
                  <a:pt x="700" y="2"/>
                </a:lnTo>
                <a:lnTo>
                  <a:pt x="715" y="2"/>
                </a:lnTo>
                <a:lnTo>
                  <a:pt x="733" y="0"/>
                </a:lnTo>
                <a:lnTo>
                  <a:pt x="746" y="0"/>
                </a:lnTo>
                <a:lnTo>
                  <a:pt x="760" y="0"/>
                </a:lnTo>
                <a:lnTo>
                  <a:pt x="771" y="2"/>
                </a:lnTo>
                <a:lnTo>
                  <a:pt x="781" y="2"/>
                </a:lnTo>
                <a:lnTo>
                  <a:pt x="788" y="6"/>
                </a:lnTo>
                <a:lnTo>
                  <a:pt x="796" y="8"/>
                </a:lnTo>
                <a:lnTo>
                  <a:pt x="804" y="10"/>
                </a:lnTo>
                <a:lnTo>
                  <a:pt x="810" y="14"/>
                </a:lnTo>
                <a:lnTo>
                  <a:pt x="815" y="16"/>
                </a:lnTo>
                <a:lnTo>
                  <a:pt x="821" y="20"/>
                </a:lnTo>
                <a:lnTo>
                  <a:pt x="827" y="21"/>
                </a:lnTo>
                <a:lnTo>
                  <a:pt x="831" y="25"/>
                </a:lnTo>
                <a:lnTo>
                  <a:pt x="834" y="29"/>
                </a:lnTo>
                <a:lnTo>
                  <a:pt x="836" y="33"/>
                </a:lnTo>
                <a:lnTo>
                  <a:pt x="840" y="35"/>
                </a:lnTo>
                <a:lnTo>
                  <a:pt x="844" y="43"/>
                </a:lnTo>
                <a:lnTo>
                  <a:pt x="846" y="48"/>
                </a:lnTo>
                <a:lnTo>
                  <a:pt x="846" y="52"/>
                </a:lnTo>
                <a:lnTo>
                  <a:pt x="846" y="62"/>
                </a:lnTo>
                <a:lnTo>
                  <a:pt x="844" y="69"/>
                </a:lnTo>
                <a:lnTo>
                  <a:pt x="840" y="75"/>
                </a:lnTo>
                <a:lnTo>
                  <a:pt x="836" y="79"/>
                </a:lnTo>
                <a:lnTo>
                  <a:pt x="834" y="81"/>
                </a:lnTo>
                <a:lnTo>
                  <a:pt x="831" y="83"/>
                </a:lnTo>
                <a:lnTo>
                  <a:pt x="827" y="87"/>
                </a:lnTo>
                <a:lnTo>
                  <a:pt x="821" y="89"/>
                </a:lnTo>
                <a:lnTo>
                  <a:pt x="815" y="91"/>
                </a:lnTo>
                <a:lnTo>
                  <a:pt x="810" y="94"/>
                </a:lnTo>
                <a:lnTo>
                  <a:pt x="804" y="96"/>
                </a:lnTo>
                <a:lnTo>
                  <a:pt x="796" y="98"/>
                </a:lnTo>
                <a:lnTo>
                  <a:pt x="788" y="100"/>
                </a:lnTo>
                <a:lnTo>
                  <a:pt x="781" y="104"/>
                </a:lnTo>
                <a:lnTo>
                  <a:pt x="769" y="106"/>
                </a:lnTo>
                <a:lnTo>
                  <a:pt x="758" y="108"/>
                </a:lnTo>
                <a:lnTo>
                  <a:pt x="746" y="112"/>
                </a:lnTo>
                <a:lnTo>
                  <a:pt x="731" y="116"/>
                </a:lnTo>
                <a:lnTo>
                  <a:pt x="715" y="117"/>
                </a:lnTo>
                <a:lnTo>
                  <a:pt x="696" y="121"/>
                </a:lnTo>
                <a:lnTo>
                  <a:pt x="677" y="125"/>
                </a:lnTo>
                <a:lnTo>
                  <a:pt x="656" y="127"/>
                </a:lnTo>
                <a:lnTo>
                  <a:pt x="635" y="131"/>
                </a:lnTo>
                <a:lnTo>
                  <a:pt x="610" y="135"/>
                </a:lnTo>
                <a:lnTo>
                  <a:pt x="583" y="137"/>
                </a:lnTo>
                <a:lnTo>
                  <a:pt x="554" y="140"/>
                </a:lnTo>
                <a:lnTo>
                  <a:pt x="539" y="142"/>
                </a:lnTo>
                <a:lnTo>
                  <a:pt x="525" y="142"/>
                </a:lnTo>
                <a:lnTo>
                  <a:pt x="508" y="144"/>
                </a:lnTo>
                <a:lnTo>
                  <a:pt x="493" y="146"/>
                </a:lnTo>
                <a:lnTo>
                  <a:pt x="476" y="146"/>
                </a:lnTo>
                <a:lnTo>
                  <a:pt x="458" y="148"/>
                </a:lnTo>
                <a:lnTo>
                  <a:pt x="424" y="152"/>
                </a:lnTo>
                <a:lnTo>
                  <a:pt x="389" y="156"/>
                </a:lnTo>
                <a:lnTo>
                  <a:pt x="357" y="160"/>
                </a:lnTo>
                <a:lnTo>
                  <a:pt x="324" y="163"/>
                </a:lnTo>
                <a:lnTo>
                  <a:pt x="291" y="167"/>
                </a:lnTo>
                <a:lnTo>
                  <a:pt x="261" y="171"/>
                </a:lnTo>
                <a:lnTo>
                  <a:pt x="232" y="173"/>
                </a:lnTo>
                <a:lnTo>
                  <a:pt x="201" y="175"/>
                </a:lnTo>
                <a:lnTo>
                  <a:pt x="172" y="177"/>
                </a:lnTo>
                <a:lnTo>
                  <a:pt x="145" y="179"/>
                </a:lnTo>
                <a:lnTo>
                  <a:pt x="119" y="181"/>
                </a:lnTo>
                <a:lnTo>
                  <a:pt x="94" y="183"/>
                </a:lnTo>
                <a:lnTo>
                  <a:pt x="69" y="183"/>
                </a:lnTo>
                <a:lnTo>
                  <a:pt x="44" y="183"/>
                </a:lnTo>
                <a:lnTo>
                  <a:pt x="21" y="185"/>
                </a:lnTo>
                <a:lnTo>
                  <a:pt x="0" y="18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Freeform 97"/>
          <p:cNvSpPr/>
          <p:nvPr/>
        </p:nvSpPr>
        <p:spPr>
          <a:xfrm>
            <a:off x="5975280" y="3765600"/>
            <a:ext cx="206280" cy="1131840"/>
          </a:xfrm>
          <a:custGeom>
            <a:avLst/>
            <a:gdLst/>
            <a:ahLst/>
            <a:rect l="l" t="t" r="r" b="b"/>
            <a:pathLst>
              <a:path w="259" h="1426">
                <a:moveTo>
                  <a:pt x="57" y="100"/>
                </a:moveTo>
                <a:lnTo>
                  <a:pt x="53" y="88"/>
                </a:lnTo>
                <a:lnTo>
                  <a:pt x="51" y="79"/>
                </a:lnTo>
                <a:lnTo>
                  <a:pt x="49" y="69"/>
                </a:lnTo>
                <a:lnTo>
                  <a:pt x="49" y="61"/>
                </a:lnTo>
                <a:lnTo>
                  <a:pt x="48" y="54"/>
                </a:lnTo>
                <a:lnTo>
                  <a:pt x="48" y="46"/>
                </a:lnTo>
                <a:lnTo>
                  <a:pt x="48" y="40"/>
                </a:lnTo>
                <a:lnTo>
                  <a:pt x="48" y="34"/>
                </a:lnTo>
                <a:lnTo>
                  <a:pt x="48" y="29"/>
                </a:lnTo>
                <a:lnTo>
                  <a:pt x="49" y="25"/>
                </a:lnTo>
                <a:lnTo>
                  <a:pt x="51" y="19"/>
                </a:lnTo>
                <a:lnTo>
                  <a:pt x="55" y="15"/>
                </a:lnTo>
                <a:lnTo>
                  <a:pt x="57" y="13"/>
                </a:lnTo>
                <a:lnTo>
                  <a:pt x="61" y="9"/>
                </a:lnTo>
                <a:lnTo>
                  <a:pt x="65" y="8"/>
                </a:lnTo>
                <a:lnTo>
                  <a:pt x="71" y="4"/>
                </a:lnTo>
                <a:lnTo>
                  <a:pt x="74" y="2"/>
                </a:lnTo>
                <a:lnTo>
                  <a:pt x="78" y="0"/>
                </a:lnTo>
                <a:lnTo>
                  <a:pt x="84" y="0"/>
                </a:lnTo>
                <a:lnTo>
                  <a:pt x="92" y="0"/>
                </a:lnTo>
                <a:lnTo>
                  <a:pt x="99" y="0"/>
                </a:lnTo>
                <a:lnTo>
                  <a:pt x="109" y="0"/>
                </a:lnTo>
                <a:lnTo>
                  <a:pt x="121" y="2"/>
                </a:lnTo>
                <a:lnTo>
                  <a:pt x="132" y="2"/>
                </a:lnTo>
                <a:lnTo>
                  <a:pt x="144" y="4"/>
                </a:lnTo>
                <a:lnTo>
                  <a:pt x="159" y="8"/>
                </a:lnTo>
                <a:lnTo>
                  <a:pt x="172" y="9"/>
                </a:lnTo>
                <a:lnTo>
                  <a:pt x="188" y="13"/>
                </a:lnTo>
                <a:lnTo>
                  <a:pt x="205" y="15"/>
                </a:lnTo>
                <a:lnTo>
                  <a:pt x="222" y="19"/>
                </a:lnTo>
                <a:lnTo>
                  <a:pt x="240" y="23"/>
                </a:lnTo>
                <a:lnTo>
                  <a:pt x="259" y="29"/>
                </a:lnTo>
                <a:lnTo>
                  <a:pt x="259" y="71"/>
                </a:lnTo>
                <a:lnTo>
                  <a:pt x="257" y="115"/>
                </a:lnTo>
                <a:lnTo>
                  <a:pt x="257" y="159"/>
                </a:lnTo>
                <a:lnTo>
                  <a:pt x="257" y="205"/>
                </a:lnTo>
                <a:lnTo>
                  <a:pt x="257" y="251"/>
                </a:lnTo>
                <a:lnTo>
                  <a:pt x="257" y="297"/>
                </a:lnTo>
                <a:lnTo>
                  <a:pt x="257" y="343"/>
                </a:lnTo>
                <a:lnTo>
                  <a:pt x="255" y="391"/>
                </a:lnTo>
                <a:lnTo>
                  <a:pt x="255" y="441"/>
                </a:lnTo>
                <a:lnTo>
                  <a:pt x="255" y="489"/>
                </a:lnTo>
                <a:lnTo>
                  <a:pt x="253" y="539"/>
                </a:lnTo>
                <a:lnTo>
                  <a:pt x="251" y="589"/>
                </a:lnTo>
                <a:lnTo>
                  <a:pt x="247" y="689"/>
                </a:lnTo>
                <a:lnTo>
                  <a:pt x="243" y="793"/>
                </a:lnTo>
                <a:lnTo>
                  <a:pt x="241" y="818"/>
                </a:lnTo>
                <a:lnTo>
                  <a:pt x="241" y="843"/>
                </a:lnTo>
                <a:lnTo>
                  <a:pt x="240" y="867"/>
                </a:lnTo>
                <a:lnTo>
                  <a:pt x="238" y="891"/>
                </a:lnTo>
                <a:lnTo>
                  <a:pt x="236" y="914"/>
                </a:lnTo>
                <a:lnTo>
                  <a:pt x="234" y="937"/>
                </a:lnTo>
                <a:lnTo>
                  <a:pt x="232" y="958"/>
                </a:lnTo>
                <a:lnTo>
                  <a:pt x="230" y="981"/>
                </a:lnTo>
                <a:lnTo>
                  <a:pt x="228" y="1000"/>
                </a:lnTo>
                <a:lnTo>
                  <a:pt x="226" y="1021"/>
                </a:lnTo>
                <a:lnTo>
                  <a:pt x="224" y="1040"/>
                </a:lnTo>
                <a:lnTo>
                  <a:pt x="222" y="1059"/>
                </a:lnTo>
                <a:lnTo>
                  <a:pt x="220" y="1079"/>
                </a:lnTo>
                <a:lnTo>
                  <a:pt x="216" y="1096"/>
                </a:lnTo>
                <a:lnTo>
                  <a:pt x="215" y="1113"/>
                </a:lnTo>
                <a:lnTo>
                  <a:pt x="213" y="1130"/>
                </a:lnTo>
                <a:lnTo>
                  <a:pt x="211" y="1148"/>
                </a:lnTo>
                <a:lnTo>
                  <a:pt x="207" y="1163"/>
                </a:lnTo>
                <a:lnTo>
                  <a:pt x="205" y="1178"/>
                </a:lnTo>
                <a:lnTo>
                  <a:pt x="203" y="1192"/>
                </a:lnTo>
                <a:lnTo>
                  <a:pt x="201" y="1205"/>
                </a:lnTo>
                <a:lnTo>
                  <a:pt x="197" y="1219"/>
                </a:lnTo>
                <a:lnTo>
                  <a:pt x="195" y="1232"/>
                </a:lnTo>
                <a:lnTo>
                  <a:pt x="193" y="1244"/>
                </a:lnTo>
                <a:lnTo>
                  <a:pt x="190" y="1255"/>
                </a:lnTo>
                <a:lnTo>
                  <a:pt x="188" y="1267"/>
                </a:lnTo>
                <a:lnTo>
                  <a:pt x="184" y="1276"/>
                </a:lnTo>
                <a:lnTo>
                  <a:pt x="182" y="1286"/>
                </a:lnTo>
                <a:lnTo>
                  <a:pt x="180" y="1296"/>
                </a:lnTo>
                <a:lnTo>
                  <a:pt x="176" y="1303"/>
                </a:lnTo>
                <a:lnTo>
                  <a:pt x="174" y="1311"/>
                </a:lnTo>
                <a:lnTo>
                  <a:pt x="172" y="1319"/>
                </a:lnTo>
                <a:lnTo>
                  <a:pt x="167" y="1330"/>
                </a:lnTo>
                <a:lnTo>
                  <a:pt x="161" y="1344"/>
                </a:lnTo>
                <a:lnTo>
                  <a:pt x="157" y="1355"/>
                </a:lnTo>
                <a:lnTo>
                  <a:pt x="153" y="1365"/>
                </a:lnTo>
                <a:lnTo>
                  <a:pt x="149" y="1374"/>
                </a:lnTo>
                <a:lnTo>
                  <a:pt x="145" y="1384"/>
                </a:lnTo>
                <a:lnTo>
                  <a:pt x="142" y="1391"/>
                </a:lnTo>
                <a:lnTo>
                  <a:pt x="138" y="1397"/>
                </a:lnTo>
                <a:lnTo>
                  <a:pt x="134" y="1405"/>
                </a:lnTo>
                <a:lnTo>
                  <a:pt x="130" y="1411"/>
                </a:lnTo>
                <a:lnTo>
                  <a:pt x="128" y="1415"/>
                </a:lnTo>
                <a:lnTo>
                  <a:pt x="124" y="1418"/>
                </a:lnTo>
                <a:lnTo>
                  <a:pt x="122" y="1422"/>
                </a:lnTo>
                <a:lnTo>
                  <a:pt x="119" y="1424"/>
                </a:lnTo>
                <a:lnTo>
                  <a:pt x="117" y="1424"/>
                </a:lnTo>
                <a:lnTo>
                  <a:pt x="115" y="1426"/>
                </a:lnTo>
                <a:lnTo>
                  <a:pt x="111" y="1424"/>
                </a:lnTo>
                <a:lnTo>
                  <a:pt x="107" y="1424"/>
                </a:lnTo>
                <a:lnTo>
                  <a:pt x="105" y="1422"/>
                </a:lnTo>
                <a:lnTo>
                  <a:pt x="101" y="1418"/>
                </a:lnTo>
                <a:lnTo>
                  <a:pt x="96" y="1415"/>
                </a:lnTo>
                <a:lnTo>
                  <a:pt x="92" y="1409"/>
                </a:lnTo>
                <a:lnTo>
                  <a:pt x="88" y="1403"/>
                </a:lnTo>
                <a:lnTo>
                  <a:pt x="82" y="1397"/>
                </a:lnTo>
                <a:lnTo>
                  <a:pt x="78" y="1390"/>
                </a:lnTo>
                <a:lnTo>
                  <a:pt x="73" y="1380"/>
                </a:lnTo>
                <a:lnTo>
                  <a:pt x="69" y="1370"/>
                </a:lnTo>
                <a:lnTo>
                  <a:pt x="63" y="1359"/>
                </a:lnTo>
                <a:lnTo>
                  <a:pt x="57" y="1347"/>
                </a:lnTo>
                <a:lnTo>
                  <a:pt x="53" y="1334"/>
                </a:lnTo>
                <a:lnTo>
                  <a:pt x="48" y="1320"/>
                </a:lnTo>
                <a:lnTo>
                  <a:pt x="42" y="1305"/>
                </a:lnTo>
                <a:lnTo>
                  <a:pt x="36" y="1290"/>
                </a:lnTo>
                <a:lnTo>
                  <a:pt x="32" y="1274"/>
                </a:lnTo>
                <a:lnTo>
                  <a:pt x="26" y="1261"/>
                </a:lnTo>
                <a:lnTo>
                  <a:pt x="23" y="1248"/>
                </a:lnTo>
                <a:lnTo>
                  <a:pt x="19" y="1234"/>
                </a:lnTo>
                <a:lnTo>
                  <a:pt x="15" y="1223"/>
                </a:lnTo>
                <a:lnTo>
                  <a:pt x="13" y="1211"/>
                </a:lnTo>
                <a:lnTo>
                  <a:pt x="9" y="1200"/>
                </a:lnTo>
                <a:lnTo>
                  <a:pt x="7" y="1190"/>
                </a:lnTo>
                <a:lnTo>
                  <a:pt x="5" y="1180"/>
                </a:lnTo>
                <a:lnTo>
                  <a:pt x="3" y="1171"/>
                </a:lnTo>
                <a:lnTo>
                  <a:pt x="2" y="1163"/>
                </a:lnTo>
                <a:lnTo>
                  <a:pt x="0" y="1155"/>
                </a:lnTo>
                <a:lnTo>
                  <a:pt x="0" y="1150"/>
                </a:lnTo>
                <a:lnTo>
                  <a:pt x="0" y="1144"/>
                </a:lnTo>
                <a:lnTo>
                  <a:pt x="0" y="1138"/>
                </a:lnTo>
                <a:lnTo>
                  <a:pt x="0" y="1136"/>
                </a:lnTo>
                <a:lnTo>
                  <a:pt x="0" y="1130"/>
                </a:lnTo>
                <a:lnTo>
                  <a:pt x="0" y="1125"/>
                </a:lnTo>
                <a:lnTo>
                  <a:pt x="2" y="1119"/>
                </a:lnTo>
                <a:lnTo>
                  <a:pt x="3" y="1109"/>
                </a:lnTo>
                <a:lnTo>
                  <a:pt x="5" y="1100"/>
                </a:lnTo>
                <a:lnTo>
                  <a:pt x="7" y="1088"/>
                </a:lnTo>
                <a:lnTo>
                  <a:pt x="9" y="1077"/>
                </a:lnTo>
                <a:lnTo>
                  <a:pt x="13" y="1061"/>
                </a:lnTo>
                <a:lnTo>
                  <a:pt x="15" y="1046"/>
                </a:lnTo>
                <a:lnTo>
                  <a:pt x="19" y="1029"/>
                </a:lnTo>
                <a:lnTo>
                  <a:pt x="23" y="1011"/>
                </a:lnTo>
                <a:lnTo>
                  <a:pt x="26" y="992"/>
                </a:lnTo>
                <a:lnTo>
                  <a:pt x="32" y="969"/>
                </a:lnTo>
                <a:lnTo>
                  <a:pt x="36" y="948"/>
                </a:lnTo>
                <a:lnTo>
                  <a:pt x="42" y="923"/>
                </a:lnTo>
                <a:lnTo>
                  <a:pt x="44" y="900"/>
                </a:lnTo>
                <a:lnTo>
                  <a:pt x="48" y="877"/>
                </a:lnTo>
                <a:lnTo>
                  <a:pt x="49" y="852"/>
                </a:lnTo>
                <a:lnTo>
                  <a:pt x="53" y="827"/>
                </a:lnTo>
                <a:lnTo>
                  <a:pt x="55" y="800"/>
                </a:lnTo>
                <a:lnTo>
                  <a:pt x="59" y="773"/>
                </a:lnTo>
                <a:lnTo>
                  <a:pt x="61" y="747"/>
                </a:lnTo>
                <a:lnTo>
                  <a:pt x="63" y="718"/>
                </a:lnTo>
                <a:lnTo>
                  <a:pt x="67" y="687"/>
                </a:lnTo>
                <a:lnTo>
                  <a:pt x="69" y="658"/>
                </a:lnTo>
                <a:lnTo>
                  <a:pt x="73" y="626"/>
                </a:lnTo>
                <a:lnTo>
                  <a:pt x="74" y="595"/>
                </a:lnTo>
                <a:lnTo>
                  <a:pt x="76" y="562"/>
                </a:lnTo>
                <a:lnTo>
                  <a:pt x="80" y="528"/>
                </a:lnTo>
                <a:lnTo>
                  <a:pt x="82" y="493"/>
                </a:lnTo>
                <a:lnTo>
                  <a:pt x="86" y="459"/>
                </a:lnTo>
                <a:lnTo>
                  <a:pt x="88" y="424"/>
                </a:lnTo>
                <a:lnTo>
                  <a:pt x="90" y="393"/>
                </a:lnTo>
                <a:lnTo>
                  <a:pt x="90" y="363"/>
                </a:lnTo>
                <a:lnTo>
                  <a:pt x="90" y="334"/>
                </a:lnTo>
                <a:lnTo>
                  <a:pt x="90" y="307"/>
                </a:lnTo>
                <a:lnTo>
                  <a:pt x="90" y="282"/>
                </a:lnTo>
                <a:lnTo>
                  <a:pt x="88" y="257"/>
                </a:lnTo>
                <a:lnTo>
                  <a:pt x="86" y="234"/>
                </a:lnTo>
                <a:lnTo>
                  <a:pt x="84" y="213"/>
                </a:lnTo>
                <a:lnTo>
                  <a:pt x="82" y="192"/>
                </a:lnTo>
                <a:lnTo>
                  <a:pt x="78" y="173"/>
                </a:lnTo>
                <a:lnTo>
                  <a:pt x="74" y="155"/>
                </a:lnTo>
                <a:lnTo>
                  <a:pt x="71" y="140"/>
                </a:lnTo>
                <a:lnTo>
                  <a:pt x="67" y="125"/>
                </a:lnTo>
                <a:lnTo>
                  <a:pt x="61" y="111"/>
                </a:lnTo>
                <a:lnTo>
                  <a:pt x="57" y="10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Freeform 98"/>
          <p:cNvSpPr/>
          <p:nvPr/>
        </p:nvSpPr>
        <p:spPr>
          <a:xfrm>
            <a:off x="6691320" y="3255840"/>
            <a:ext cx="493560" cy="300240"/>
          </a:xfrm>
          <a:custGeom>
            <a:avLst/>
            <a:gdLst/>
            <a:ahLst/>
            <a:rect l="l" t="t" r="r" b="b"/>
            <a:pathLst>
              <a:path w="622" h="378">
                <a:moveTo>
                  <a:pt x="622" y="155"/>
                </a:moveTo>
                <a:lnTo>
                  <a:pt x="620" y="161"/>
                </a:lnTo>
                <a:lnTo>
                  <a:pt x="618" y="165"/>
                </a:lnTo>
                <a:lnTo>
                  <a:pt x="616" y="171"/>
                </a:lnTo>
                <a:lnTo>
                  <a:pt x="612" y="176"/>
                </a:lnTo>
                <a:lnTo>
                  <a:pt x="608" y="182"/>
                </a:lnTo>
                <a:lnTo>
                  <a:pt x="602" y="186"/>
                </a:lnTo>
                <a:lnTo>
                  <a:pt x="595" y="194"/>
                </a:lnTo>
                <a:lnTo>
                  <a:pt x="587" y="199"/>
                </a:lnTo>
                <a:lnTo>
                  <a:pt x="577" y="205"/>
                </a:lnTo>
                <a:lnTo>
                  <a:pt x="566" y="211"/>
                </a:lnTo>
                <a:lnTo>
                  <a:pt x="554" y="219"/>
                </a:lnTo>
                <a:lnTo>
                  <a:pt x="541" y="224"/>
                </a:lnTo>
                <a:lnTo>
                  <a:pt x="528" y="230"/>
                </a:lnTo>
                <a:lnTo>
                  <a:pt x="512" y="238"/>
                </a:lnTo>
                <a:lnTo>
                  <a:pt x="495" y="244"/>
                </a:lnTo>
                <a:lnTo>
                  <a:pt x="478" y="251"/>
                </a:lnTo>
                <a:lnTo>
                  <a:pt x="439" y="265"/>
                </a:lnTo>
                <a:lnTo>
                  <a:pt x="399" y="278"/>
                </a:lnTo>
                <a:lnTo>
                  <a:pt x="359" y="292"/>
                </a:lnTo>
                <a:lnTo>
                  <a:pt x="318" y="303"/>
                </a:lnTo>
                <a:lnTo>
                  <a:pt x="278" y="315"/>
                </a:lnTo>
                <a:lnTo>
                  <a:pt x="238" y="326"/>
                </a:lnTo>
                <a:lnTo>
                  <a:pt x="199" y="338"/>
                </a:lnTo>
                <a:lnTo>
                  <a:pt x="161" y="347"/>
                </a:lnTo>
                <a:lnTo>
                  <a:pt x="142" y="353"/>
                </a:lnTo>
                <a:lnTo>
                  <a:pt x="124" y="359"/>
                </a:lnTo>
                <a:lnTo>
                  <a:pt x="109" y="364"/>
                </a:lnTo>
                <a:lnTo>
                  <a:pt x="94" y="368"/>
                </a:lnTo>
                <a:lnTo>
                  <a:pt x="80" y="370"/>
                </a:lnTo>
                <a:lnTo>
                  <a:pt x="67" y="374"/>
                </a:lnTo>
                <a:lnTo>
                  <a:pt x="55" y="376"/>
                </a:lnTo>
                <a:lnTo>
                  <a:pt x="44" y="376"/>
                </a:lnTo>
                <a:lnTo>
                  <a:pt x="34" y="378"/>
                </a:lnTo>
                <a:lnTo>
                  <a:pt x="27" y="378"/>
                </a:lnTo>
                <a:lnTo>
                  <a:pt x="19" y="378"/>
                </a:lnTo>
                <a:lnTo>
                  <a:pt x="13" y="378"/>
                </a:lnTo>
                <a:lnTo>
                  <a:pt x="9" y="376"/>
                </a:lnTo>
                <a:lnTo>
                  <a:pt x="5" y="374"/>
                </a:lnTo>
                <a:lnTo>
                  <a:pt x="4" y="372"/>
                </a:lnTo>
                <a:lnTo>
                  <a:pt x="4" y="370"/>
                </a:lnTo>
                <a:lnTo>
                  <a:pt x="0" y="368"/>
                </a:lnTo>
                <a:lnTo>
                  <a:pt x="0" y="366"/>
                </a:lnTo>
                <a:lnTo>
                  <a:pt x="0" y="363"/>
                </a:lnTo>
                <a:lnTo>
                  <a:pt x="4" y="359"/>
                </a:lnTo>
                <a:lnTo>
                  <a:pt x="5" y="355"/>
                </a:lnTo>
                <a:lnTo>
                  <a:pt x="11" y="351"/>
                </a:lnTo>
                <a:lnTo>
                  <a:pt x="17" y="347"/>
                </a:lnTo>
                <a:lnTo>
                  <a:pt x="25" y="341"/>
                </a:lnTo>
                <a:lnTo>
                  <a:pt x="32" y="336"/>
                </a:lnTo>
                <a:lnTo>
                  <a:pt x="44" y="328"/>
                </a:lnTo>
                <a:lnTo>
                  <a:pt x="55" y="322"/>
                </a:lnTo>
                <a:lnTo>
                  <a:pt x="67" y="315"/>
                </a:lnTo>
                <a:lnTo>
                  <a:pt x="82" y="305"/>
                </a:lnTo>
                <a:lnTo>
                  <a:pt x="98" y="295"/>
                </a:lnTo>
                <a:lnTo>
                  <a:pt x="113" y="286"/>
                </a:lnTo>
                <a:lnTo>
                  <a:pt x="132" y="276"/>
                </a:lnTo>
                <a:lnTo>
                  <a:pt x="163" y="253"/>
                </a:lnTo>
                <a:lnTo>
                  <a:pt x="194" y="232"/>
                </a:lnTo>
                <a:lnTo>
                  <a:pt x="222" y="213"/>
                </a:lnTo>
                <a:lnTo>
                  <a:pt x="236" y="203"/>
                </a:lnTo>
                <a:lnTo>
                  <a:pt x="249" y="194"/>
                </a:lnTo>
                <a:lnTo>
                  <a:pt x="261" y="186"/>
                </a:lnTo>
                <a:lnTo>
                  <a:pt x="272" y="176"/>
                </a:lnTo>
                <a:lnTo>
                  <a:pt x="284" y="169"/>
                </a:lnTo>
                <a:lnTo>
                  <a:pt x="295" y="161"/>
                </a:lnTo>
                <a:lnTo>
                  <a:pt x="305" y="153"/>
                </a:lnTo>
                <a:lnTo>
                  <a:pt x="314" y="146"/>
                </a:lnTo>
                <a:lnTo>
                  <a:pt x="324" y="138"/>
                </a:lnTo>
                <a:lnTo>
                  <a:pt x="334" y="132"/>
                </a:lnTo>
                <a:lnTo>
                  <a:pt x="349" y="119"/>
                </a:lnTo>
                <a:lnTo>
                  <a:pt x="355" y="111"/>
                </a:lnTo>
                <a:lnTo>
                  <a:pt x="362" y="105"/>
                </a:lnTo>
                <a:lnTo>
                  <a:pt x="368" y="98"/>
                </a:lnTo>
                <a:lnTo>
                  <a:pt x="374" y="92"/>
                </a:lnTo>
                <a:lnTo>
                  <a:pt x="378" y="86"/>
                </a:lnTo>
                <a:lnTo>
                  <a:pt x="384" y="80"/>
                </a:lnTo>
                <a:lnTo>
                  <a:pt x="387" y="73"/>
                </a:lnTo>
                <a:lnTo>
                  <a:pt x="389" y="67"/>
                </a:lnTo>
                <a:lnTo>
                  <a:pt x="391" y="61"/>
                </a:lnTo>
                <a:lnTo>
                  <a:pt x="393" y="55"/>
                </a:lnTo>
                <a:lnTo>
                  <a:pt x="393" y="52"/>
                </a:lnTo>
                <a:lnTo>
                  <a:pt x="393" y="46"/>
                </a:lnTo>
                <a:lnTo>
                  <a:pt x="393" y="40"/>
                </a:lnTo>
                <a:lnTo>
                  <a:pt x="391" y="36"/>
                </a:lnTo>
                <a:lnTo>
                  <a:pt x="385" y="29"/>
                </a:lnTo>
                <a:lnTo>
                  <a:pt x="384" y="25"/>
                </a:lnTo>
                <a:lnTo>
                  <a:pt x="384" y="21"/>
                </a:lnTo>
                <a:lnTo>
                  <a:pt x="382" y="17"/>
                </a:lnTo>
                <a:lnTo>
                  <a:pt x="382" y="15"/>
                </a:lnTo>
                <a:lnTo>
                  <a:pt x="382" y="11"/>
                </a:lnTo>
                <a:lnTo>
                  <a:pt x="384" y="9"/>
                </a:lnTo>
                <a:lnTo>
                  <a:pt x="385" y="7"/>
                </a:lnTo>
                <a:lnTo>
                  <a:pt x="387" y="6"/>
                </a:lnTo>
                <a:lnTo>
                  <a:pt x="391" y="4"/>
                </a:lnTo>
                <a:lnTo>
                  <a:pt x="395" y="2"/>
                </a:lnTo>
                <a:lnTo>
                  <a:pt x="399" y="2"/>
                </a:lnTo>
                <a:lnTo>
                  <a:pt x="405" y="2"/>
                </a:lnTo>
                <a:lnTo>
                  <a:pt x="412" y="0"/>
                </a:lnTo>
                <a:lnTo>
                  <a:pt x="420" y="0"/>
                </a:lnTo>
                <a:lnTo>
                  <a:pt x="424" y="0"/>
                </a:lnTo>
                <a:lnTo>
                  <a:pt x="432" y="2"/>
                </a:lnTo>
                <a:lnTo>
                  <a:pt x="437" y="4"/>
                </a:lnTo>
                <a:lnTo>
                  <a:pt x="443" y="4"/>
                </a:lnTo>
                <a:lnTo>
                  <a:pt x="451" y="7"/>
                </a:lnTo>
                <a:lnTo>
                  <a:pt x="458" y="9"/>
                </a:lnTo>
                <a:lnTo>
                  <a:pt x="474" y="17"/>
                </a:lnTo>
                <a:lnTo>
                  <a:pt x="491" y="25"/>
                </a:lnTo>
                <a:lnTo>
                  <a:pt x="508" y="36"/>
                </a:lnTo>
                <a:lnTo>
                  <a:pt x="528" y="48"/>
                </a:lnTo>
                <a:lnTo>
                  <a:pt x="549" y="61"/>
                </a:lnTo>
                <a:lnTo>
                  <a:pt x="564" y="75"/>
                </a:lnTo>
                <a:lnTo>
                  <a:pt x="577" y="86"/>
                </a:lnTo>
                <a:lnTo>
                  <a:pt x="591" y="100"/>
                </a:lnTo>
                <a:lnTo>
                  <a:pt x="597" y="107"/>
                </a:lnTo>
                <a:lnTo>
                  <a:pt x="600" y="113"/>
                </a:lnTo>
                <a:lnTo>
                  <a:pt x="604" y="119"/>
                </a:lnTo>
                <a:lnTo>
                  <a:pt x="610" y="125"/>
                </a:lnTo>
                <a:lnTo>
                  <a:pt x="612" y="130"/>
                </a:lnTo>
                <a:lnTo>
                  <a:pt x="616" y="136"/>
                </a:lnTo>
                <a:lnTo>
                  <a:pt x="618" y="142"/>
                </a:lnTo>
                <a:lnTo>
                  <a:pt x="620" y="146"/>
                </a:lnTo>
                <a:lnTo>
                  <a:pt x="620" y="151"/>
                </a:lnTo>
                <a:lnTo>
                  <a:pt x="622" y="15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Freeform 99"/>
          <p:cNvSpPr/>
          <p:nvPr/>
        </p:nvSpPr>
        <p:spPr>
          <a:xfrm>
            <a:off x="6310440" y="3209760"/>
            <a:ext cx="269640" cy="587520"/>
          </a:xfrm>
          <a:custGeom>
            <a:avLst/>
            <a:gdLst/>
            <a:ahLst/>
            <a:rect l="l" t="t" r="r" b="b"/>
            <a:pathLst>
              <a:path w="340" h="741">
                <a:moveTo>
                  <a:pt x="324" y="156"/>
                </a:moveTo>
                <a:lnTo>
                  <a:pt x="322" y="162"/>
                </a:lnTo>
                <a:lnTo>
                  <a:pt x="320" y="167"/>
                </a:lnTo>
                <a:lnTo>
                  <a:pt x="318" y="173"/>
                </a:lnTo>
                <a:lnTo>
                  <a:pt x="317" y="181"/>
                </a:lnTo>
                <a:lnTo>
                  <a:pt x="315" y="188"/>
                </a:lnTo>
                <a:lnTo>
                  <a:pt x="313" y="198"/>
                </a:lnTo>
                <a:lnTo>
                  <a:pt x="313" y="208"/>
                </a:lnTo>
                <a:lnTo>
                  <a:pt x="311" y="219"/>
                </a:lnTo>
                <a:lnTo>
                  <a:pt x="311" y="231"/>
                </a:lnTo>
                <a:lnTo>
                  <a:pt x="311" y="242"/>
                </a:lnTo>
                <a:lnTo>
                  <a:pt x="311" y="256"/>
                </a:lnTo>
                <a:lnTo>
                  <a:pt x="311" y="271"/>
                </a:lnTo>
                <a:lnTo>
                  <a:pt x="311" y="284"/>
                </a:lnTo>
                <a:lnTo>
                  <a:pt x="311" y="302"/>
                </a:lnTo>
                <a:lnTo>
                  <a:pt x="311" y="317"/>
                </a:lnTo>
                <a:lnTo>
                  <a:pt x="311" y="336"/>
                </a:lnTo>
                <a:lnTo>
                  <a:pt x="307" y="353"/>
                </a:lnTo>
                <a:lnTo>
                  <a:pt x="305" y="373"/>
                </a:lnTo>
                <a:lnTo>
                  <a:pt x="303" y="392"/>
                </a:lnTo>
                <a:lnTo>
                  <a:pt x="301" y="411"/>
                </a:lnTo>
                <a:lnTo>
                  <a:pt x="301" y="432"/>
                </a:lnTo>
                <a:lnTo>
                  <a:pt x="299" y="453"/>
                </a:lnTo>
                <a:lnTo>
                  <a:pt x="297" y="474"/>
                </a:lnTo>
                <a:lnTo>
                  <a:pt x="297" y="497"/>
                </a:lnTo>
                <a:lnTo>
                  <a:pt x="297" y="520"/>
                </a:lnTo>
                <a:lnTo>
                  <a:pt x="295" y="545"/>
                </a:lnTo>
                <a:lnTo>
                  <a:pt x="295" y="570"/>
                </a:lnTo>
                <a:lnTo>
                  <a:pt x="295" y="595"/>
                </a:lnTo>
                <a:lnTo>
                  <a:pt x="295" y="622"/>
                </a:lnTo>
                <a:lnTo>
                  <a:pt x="295" y="649"/>
                </a:lnTo>
                <a:lnTo>
                  <a:pt x="295" y="676"/>
                </a:lnTo>
                <a:lnTo>
                  <a:pt x="295" y="705"/>
                </a:lnTo>
                <a:lnTo>
                  <a:pt x="217" y="724"/>
                </a:lnTo>
                <a:lnTo>
                  <a:pt x="138" y="741"/>
                </a:lnTo>
                <a:lnTo>
                  <a:pt x="138" y="716"/>
                </a:lnTo>
                <a:lnTo>
                  <a:pt x="138" y="693"/>
                </a:lnTo>
                <a:lnTo>
                  <a:pt x="138" y="670"/>
                </a:lnTo>
                <a:lnTo>
                  <a:pt x="136" y="647"/>
                </a:lnTo>
                <a:lnTo>
                  <a:pt x="136" y="624"/>
                </a:lnTo>
                <a:lnTo>
                  <a:pt x="136" y="603"/>
                </a:lnTo>
                <a:lnTo>
                  <a:pt x="136" y="580"/>
                </a:lnTo>
                <a:lnTo>
                  <a:pt x="134" y="561"/>
                </a:lnTo>
                <a:lnTo>
                  <a:pt x="134" y="540"/>
                </a:lnTo>
                <a:lnTo>
                  <a:pt x="134" y="520"/>
                </a:lnTo>
                <a:lnTo>
                  <a:pt x="132" y="499"/>
                </a:lnTo>
                <a:lnTo>
                  <a:pt x="132" y="482"/>
                </a:lnTo>
                <a:lnTo>
                  <a:pt x="130" y="463"/>
                </a:lnTo>
                <a:lnTo>
                  <a:pt x="130" y="446"/>
                </a:lnTo>
                <a:lnTo>
                  <a:pt x="130" y="428"/>
                </a:lnTo>
                <a:lnTo>
                  <a:pt x="128" y="411"/>
                </a:lnTo>
                <a:lnTo>
                  <a:pt x="127" y="396"/>
                </a:lnTo>
                <a:lnTo>
                  <a:pt x="127" y="378"/>
                </a:lnTo>
                <a:lnTo>
                  <a:pt x="125" y="365"/>
                </a:lnTo>
                <a:lnTo>
                  <a:pt x="125" y="350"/>
                </a:lnTo>
                <a:lnTo>
                  <a:pt x="123" y="336"/>
                </a:lnTo>
                <a:lnTo>
                  <a:pt x="121" y="321"/>
                </a:lnTo>
                <a:lnTo>
                  <a:pt x="121" y="309"/>
                </a:lnTo>
                <a:lnTo>
                  <a:pt x="119" y="296"/>
                </a:lnTo>
                <a:lnTo>
                  <a:pt x="119" y="284"/>
                </a:lnTo>
                <a:lnTo>
                  <a:pt x="117" y="273"/>
                </a:lnTo>
                <a:lnTo>
                  <a:pt x="115" y="261"/>
                </a:lnTo>
                <a:lnTo>
                  <a:pt x="113" y="252"/>
                </a:lnTo>
                <a:lnTo>
                  <a:pt x="113" y="242"/>
                </a:lnTo>
                <a:lnTo>
                  <a:pt x="111" y="233"/>
                </a:lnTo>
                <a:lnTo>
                  <a:pt x="109" y="223"/>
                </a:lnTo>
                <a:lnTo>
                  <a:pt x="109" y="215"/>
                </a:lnTo>
                <a:lnTo>
                  <a:pt x="105" y="200"/>
                </a:lnTo>
                <a:lnTo>
                  <a:pt x="103" y="186"/>
                </a:lnTo>
                <a:lnTo>
                  <a:pt x="100" y="173"/>
                </a:lnTo>
                <a:lnTo>
                  <a:pt x="96" y="160"/>
                </a:lnTo>
                <a:lnTo>
                  <a:pt x="92" y="148"/>
                </a:lnTo>
                <a:lnTo>
                  <a:pt x="88" y="137"/>
                </a:lnTo>
                <a:lnTo>
                  <a:pt x="82" y="127"/>
                </a:lnTo>
                <a:lnTo>
                  <a:pt x="79" y="117"/>
                </a:lnTo>
                <a:lnTo>
                  <a:pt x="73" y="110"/>
                </a:lnTo>
                <a:lnTo>
                  <a:pt x="69" y="102"/>
                </a:lnTo>
                <a:lnTo>
                  <a:pt x="63" y="94"/>
                </a:lnTo>
                <a:lnTo>
                  <a:pt x="57" y="89"/>
                </a:lnTo>
                <a:lnTo>
                  <a:pt x="54" y="83"/>
                </a:lnTo>
                <a:lnTo>
                  <a:pt x="48" y="79"/>
                </a:lnTo>
                <a:lnTo>
                  <a:pt x="42" y="75"/>
                </a:lnTo>
                <a:lnTo>
                  <a:pt x="36" y="73"/>
                </a:lnTo>
                <a:lnTo>
                  <a:pt x="29" y="69"/>
                </a:lnTo>
                <a:lnTo>
                  <a:pt x="23" y="67"/>
                </a:lnTo>
                <a:lnTo>
                  <a:pt x="17" y="64"/>
                </a:lnTo>
                <a:lnTo>
                  <a:pt x="11" y="62"/>
                </a:lnTo>
                <a:lnTo>
                  <a:pt x="8" y="58"/>
                </a:lnTo>
                <a:lnTo>
                  <a:pt x="6" y="56"/>
                </a:lnTo>
                <a:lnTo>
                  <a:pt x="2" y="52"/>
                </a:lnTo>
                <a:lnTo>
                  <a:pt x="2" y="48"/>
                </a:lnTo>
                <a:lnTo>
                  <a:pt x="0" y="44"/>
                </a:lnTo>
                <a:lnTo>
                  <a:pt x="0" y="42"/>
                </a:lnTo>
                <a:lnTo>
                  <a:pt x="0" y="39"/>
                </a:lnTo>
                <a:lnTo>
                  <a:pt x="0" y="35"/>
                </a:lnTo>
                <a:lnTo>
                  <a:pt x="2" y="33"/>
                </a:lnTo>
                <a:lnTo>
                  <a:pt x="4" y="29"/>
                </a:lnTo>
                <a:lnTo>
                  <a:pt x="8" y="25"/>
                </a:lnTo>
                <a:lnTo>
                  <a:pt x="13" y="19"/>
                </a:lnTo>
                <a:lnTo>
                  <a:pt x="21" y="16"/>
                </a:lnTo>
                <a:lnTo>
                  <a:pt x="31" y="12"/>
                </a:lnTo>
                <a:lnTo>
                  <a:pt x="36" y="10"/>
                </a:lnTo>
                <a:lnTo>
                  <a:pt x="42" y="8"/>
                </a:lnTo>
                <a:lnTo>
                  <a:pt x="48" y="6"/>
                </a:lnTo>
                <a:lnTo>
                  <a:pt x="56" y="6"/>
                </a:lnTo>
                <a:lnTo>
                  <a:pt x="63" y="4"/>
                </a:lnTo>
                <a:lnTo>
                  <a:pt x="71" y="2"/>
                </a:lnTo>
                <a:lnTo>
                  <a:pt x="79" y="2"/>
                </a:lnTo>
                <a:lnTo>
                  <a:pt x="88" y="2"/>
                </a:lnTo>
                <a:lnTo>
                  <a:pt x="98" y="0"/>
                </a:lnTo>
                <a:lnTo>
                  <a:pt x="109" y="0"/>
                </a:lnTo>
                <a:lnTo>
                  <a:pt x="127" y="2"/>
                </a:lnTo>
                <a:lnTo>
                  <a:pt x="144" y="2"/>
                </a:lnTo>
                <a:lnTo>
                  <a:pt x="161" y="6"/>
                </a:lnTo>
                <a:lnTo>
                  <a:pt x="180" y="8"/>
                </a:lnTo>
                <a:lnTo>
                  <a:pt x="199" y="12"/>
                </a:lnTo>
                <a:lnTo>
                  <a:pt x="219" y="16"/>
                </a:lnTo>
                <a:lnTo>
                  <a:pt x="236" y="19"/>
                </a:lnTo>
                <a:lnTo>
                  <a:pt x="253" y="25"/>
                </a:lnTo>
                <a:lnTo>
                  <a:pt x="269" y="33"/>
                </a:lnTo>
                <a:lnTo>
                  <a:pt x="282" y="42"/>
                </a:lnTo>
                <a:lnTo>
                  <a:pt x="295" y="50"/>
                </a:lnTo>
                <a:lnTo>
                  <a:pt x="307" y="60"/>
                </a:lnTo>
                <a:lnTo>
                  <a:pt x="317" y="67"/>
                </a:lnTo>
                <a:lnTo>
                  <a:pt x="324" y="73"/>
                </a:lnTo>
                <a:lnTo>
                  <a:pt x="332" y="79"/>
                </a:lnTo>
                <a:lnTo>
                  <a:pt x="340" y="85"/>
                </a:lnTo>
                <a:lnTo>
                  <a:pt x="338" y="102"/>
                </a:lnTo>
                <a:lnTo>
                  <a:pt x="338" y="112"/>
                </a:lnTo>
                <a:lnTo>
                  <a:pt x="338" y="119"/>
                </a:lnTo>
                <a:lnTo>
                  <a:pt x="336" y="129"/>
                </a:lnTo>
                <a:lnTo>
                  <a:pt x="332" y="138"/>
                </a:lnTo>
                <a:lnTo>
                  <a:pt x="328" y="146"/>
                </a:lnTo>
                <a:lnTo>
                  <a:pt x="324" y="1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Freeform 100"/>
          <p:cNvSpPr/>
          <p:nvPr/>
        </p:nvSpPr>
        <p:spPr>
          <a:xfrm>
            <a:off x="5872320" y="3465360"/>
            <a:ext cx="274320" cy="200160"/>
          </a:xfrm>
          <a:custGeom>
            <a:avLst/>
            <a:gdLst/>
            <a:ahLst/>
            <a:rect l="l" t="t" r="r" b="b"/>
            <a:pathLst>
              <a:path w="346" h="251">
                <a:moveTo>
                  <a:pt x="0" y="36"/>
                </a:moveTo>
                <a:lnTo>
                  <a:pt x="0" y="32"/>
                </a:lnTo>
                <a:lnTo>
                  <a:pt x="2" y="27"/>
                </a:lnTo>
                <a:lnTo>
                  <a:pt x="4" y="25"/>
                </a:lnTo>
                <a:lnTo>
                  <a:pt x="6" y="21"/>
                </a:lnTo>
                <a:lnTo>
                  <a:pt x="10" y="17"/>
                </a:lnTo>
                <a:lnTo>
                  <a:pt x="14" y="15"/>
                </a:lnTo>
                <a:lnTo>
                  <a:pt x="17" y="11"/>
                </a:lnTo>
                <a:lnTo>
                  <a:pt x="23" y="9"/>
                </a:lnTo>
                <a:lnTo>
                  <a:pt x="29" y="7"/>
                </a:lnTo>
                <a:lnTo>
                  <a:pt x="35" y="5"/>
                </a:lnTo>
                <a:lnTo>
                  <a:pt x="42" y="4"/>
                </a:lnTo>
                <a:lnTo>
                  <a:pt x="50" y="2"/>
                </a:lnTo>
                <a:lnTo>
                  <a:pt x="58" y="2"/>
                </a:lnTo>
                <a:lnTo>
                  <a:pt x="67" y="2"/>
                </a:lnTo>
                <a:lnTo>
                  <a:pt x="77" y="0"/>
                </a:lnTo>
                <a:lnTo>
                  <a:pt x="86" y="0"/>
                </a:lnTo>
                <a:lnTo>
                  <a:pt x="104" y="2"/>
                </a:lnTo>
                <a:lnTo>
                  <a:pt x="121" y="2"/>
                </a:lnTo>
                <a:lnTo>
                  <a:pt x="140" y="5"/>
                </a:lnTo>
                <a:lnTo>
                  <a:pt x="159" y="7"/>
                </a:lnTo>
                <a:lnTo>
                  <a:pt x="177" y="11"/>
                </a:lnTo>
                <a:lnTo>
                  <a:pt x="196" y="15"/>
                </a:lnTo>
                <a:lnTo>
                  <a:pt x="213" y="19"/>
                </a:lnTo>
                <a:lnTo>
                  <a:pt x="230" y="25"/>
                </a:lnTo>
                <a:lnTo>
                  <a:pt x="246" y="32"/>
                </a:lnTo>
                <a:lnTo>
                  <a:pt x="263" y="42"/>
                </a:lnTo>
                <a:lnTo>
                  <a:pt x="278" y="52"/>
                </a:lnTo>
                <a:lnTo>
                  <a:pt x="292" y="59"/>
                </a:lnTo>
                <a:lnTo>
                  <a:pt x="305" y="69"/>
                </a:lnTo>
                <a:lnTo>
                  <a:pt x="311" y="73"/>
                </a:lnTo>
                <a:lnTo>
                  <a:pt x="315" y="78"/>
                </a:lnTo>
                <a:lnTo>
                  <a:pt x="321" y="82"/>
                </a:lnTo>
                <a:lnTo>
                  <a:pt x="324" y="86"/>
                </a:lnTo>
                <a:lnTo>
                  <a:pt x="328" y="92"/>
                </a:lnTo>
                <a:lnTo>
                  <a:pt x="332" y="96"/>
                </a:lnTo>
                <a:lnTo>
                  <a:pt x="336" y="105"/>
                </a:lnTo>
                <a:lnTo>
                  <a:pt x="340" y="115"/>
                </a:lnTo>
                <a:lnTo>
                  <a:pt x="342" y="126"/>
                </a:lnTo>
                <a:lnTo>
                  <a:pt x="344" y="140"/>
                </a:lnTo>
                <a:lnTo>
                  <a:pt x="346" y="151"/>
                </a:lnTo>
                <a:lnTo>
                  <a:pt x="346" y="165"/>
                </a:lnTo>
                <a:lnTo>
                  <a:pt x="346" y="192"/>
                </a:lnTo>
                <a:lnTo>
                  <a:pt x="346" y="203"/>
                </a:lnTo>
                <a:lnTo>
                  <a:pt x="342" y="217"/>
                </a:lnTo>
                <a:lnTo>
                  <a:pt x="338" y="226"/>
                </a:lnTo>
                <a:lnTo>
                  <a:pt x="336" y="230"/>
                </a:lnTo>
                <a:lnTo>
                  <a:pt x="332" y="234"/>
                </a:lnTo>
                <a:lnTo>
                  <a:pt x="330" y="238"/>
                </a:lnTo>
                <a:lnTo>
                  <a:pt x="324" y="242"/>
                </a:lnTo>
                <a:lnTo>
                  <a:pt x="321" y="244"/>
                </a:lnTo>
                <a:lnTo>
                  <a:pt x="315" y="247"/>
                </a:lnTo>
                <a:lnTo>
                  <a:pt x="309" y="249"/>
                </a:lnTo>
                <a:lnTo>
                  <a:pt x="303" y="249"/>
                </a:lnTo>
                <a:lnTo>
                  <a:pt x="296" y="251"/>
                </a:lnTo>
                <a:lnTo>
                  <a:pt x="288" y="251"/>
                </a:lnTo>
                <a:lnTo>
                  <a:pt x="280" y="251"/>
                </a:lnTo>
                <a:lnTo>
                  <a:pt x="271" y="249"/>
                </a:lnTo>
                <a:lnTo>
                  <a:pt x="263" y="247"/>
                </a:lnTo>
                <a:lnTo>
                  <a:pt x="253" y="244"/>
                </a:lnTo>
                <a:lnTo>
                  <a:pt x="244" y="242"/>
                </a:lnTo>
                <a:lnTo>
                  <a:pt x="232" y="236"/>
                </a:lnTo>
                <a:lnTo>
                  <a:pt x="223" y="232"/>
                </a:lnTo>
                <a:lnTo>
                  <a:pt x="213" y="226"/>
                </a:lnTo>
                <a:lnTo>
                  <a:pt x="202" y="219"/>
                </a:lnTo>
                <a:lnTo>
                  <a:pt x="190" y="213"/>
                </a:lnTo>
                <a:lnTo>
                  <a:pt x="179" y="205"/>
                </a:lnTo>
                <a:lnTo>
                  <a:pt x="167" y="196"/>
                </a:lnTo>
                <a:lnTo>
                  <a:pt x="154" y="186"/>
                </a:lnTo>
                <a:lnTo>
                  <a:pt x="142" y="176"/>
                </a:lnTo>
                <a:lnTo>
                  <a:pt x="129" y="167"/>
                </a:lnTo>
                <a:lnTo>
                  <a:pt x="115" y="155"/>
                </a:lnTo>
                <a:lnTo>
                  <a:pt x="102" y="144"/>
                </a:lnTo>
                <a:lnTo>
                  <a:pt x="90" y="134"/>
                </a:lnTo>
                <a:lnTo>
                  <a:pt x="79" y="123"/>
                </a:lnTo>
                <a:lnTo>
                  <a:pt x="67" y="113"/>
                </a:lnTo>
                <a:lnTo>
                  <a:pt x="58" y="103"/>
                </a:lnTo>
                <a:lnTo>
                  <a:pt x="48" y="94"/>
                </a:lnTo>
                <a:lnTo>
                  <a:pt x="38" y="86"/>
                </a:lnTo>
                <a:lnTo>
                  <a:pt x="31" y="77"/>
                </a:lnTo>
                <a:lnTo>
                  <a:pt x="25" y="71"/>
                </a:lnTo>
                <a:lnTo>
                  <a:pt x="17" y="63"/>
                </a:lnTo>
                <a:lnTo>
                  <a:pt x="14" y="57"/>
                </a:lnTo>
                <a:lnTo>
                  <a:pt x="8" y="52"/>
                </a:lnTo>
                <a:lnTo>
                  <a:pt x="6" y="46"/>
                </a:lnTo>
                <a:lnTo>
                  <a:pt x="2" y="42"/>
                </a:lnTo>
                <a:lnTo>
                  <a:pt x="2" y="38"/>
                </a:lnTo>
                <a:lnTo>
                  <a:pt x="0" y="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Freeform 101"/>
          <p:cNvSpPr/>
          <p:nvPr/>
        </p:nvSpPr>
        <p:spPr>
          <a:xfrm>
            <a:off x="5689440" y="2906640"/>
            <a:ext cx="2054520" cy="409680"/>
          </a:xfrm>
          <a:custGeom>
            <a:avLst/>
            <a:gdLst/>
            <a:ahLst/>
            <a:rect l="l" t="t" r="r" b="b"/>
            <a:pathLst>
              <a:path w="2587" h="517">
                <a:moveTo>
                  <a:pt x="2199" y="419"/>
                </a:moveTo>
                <a:lnTo>
                  <a:pt x="2178" y="434"/>
                </a:lnTo>
                <a:lnTo>
                  <a:pt x="2159" y="448"/>
                </a:lnTo>
                <a:lnTo>
                  <a:pt x="2142" y="459"/>
                </a:lnTo>
                <a:lnTo>
                  <a:pt x="2124" y="471"/>
                </a:lnTo>
                <a:lnTo>
                  <a:pt x="2109" y="480"/>
                </a:lnTo>
                <a:lnTo>
                  <a:pt x="2094" y="490"/>
                </a:lnTo>
                <a:lnTo>
                  <a:pt x="2080" y="497"/>
                </a:lnTo>
                <a:lnTo>
                  <a:pt x="2069" y="503"/>
                </a:lnTo>
                <a:lnTo>
                  <a:pt x="2057" y="507"/>
                </a:lnTo>
                <a:lnTo>
                  <a:pt x="2048" y="511"/>
                </a:lnTo>
                <a:lnTo>
                  <a:pt x="2040" y="515"/>
                </a:lnTo>
                <a:lnTo>
                  <a:pt x="2032" y="517"/>
                </a:lnTo>
                <a:lnTo>
                  <a:pt x="2025" y="517"/>
                </a:lnTo>
                <a:lnTo>
                  <a:pt x="2021" y="517"/>
                </a:lnTo>
                <a:lnTo>
                  <a:pt x="2015" y="517"/>
                </a:lnTo>
                <a:lnTo>
                  <a:pt x="2013" y="515"/>
                </a:lnTo>
                <a:lnTo>
                  <a:pt x="2011" y="511"/>
                </a:lnTo>
                <a:lnTo>
                  <a:pt x="2009" y="509"/>
                </a:lnTo>
                <a:lnTo>
                  <a:pt x="2007" y="503"/>
                </a:lnTo>
                <a:lnTo>
                  <a:pt x="2007" y="499"/>
                </a:lnTo>
                <a:lnTo>
                  <a:pt x="2007" y="492"/>
                </a:lnTo>
                <a:lnTo>
                  <a:pt x="2009" y="486"/>
                </a:lnTo>
                <a:lnTo>
                  <a:pt x="2011" y="478"/>
                </a:lnTo>
                <a:lnTo>
                  <a:pt x="2015" y="469"/>
                </a:lnTo>
                <a:lnTo>
                  <a:pt x="2019" y="461"/>
                </a:lnTo>
                <a:lnTo>
                  <a:pt x="2023" y="449"/>
                </a:lnTo>
                <a:lnTo>
                  <a:pt x="2029" y="438"/>
                </a:lnTo>
                <a:lnTo>
                  <a:pt x="2036" y="426"/>
                </a:lnTo>
                <a:lnTo>
                  <a:pt x="2042" y="415"/>
                </a:lnTo>
                <a:lnTo>
                  <a:pt x="2052" y="401"/>
                </a:lnTo>
                <a:lnTo>
                  <a:pt x="2059" y="386"/>
                </a:lnTo>
                <a:lnTo>
                  <a:pt x="2071" y="371"/>
                </a:lnTo>
                <a:lnTo>
                  <a:pt x="2078" y="355"/>
                </a:lnTo>
                <a:lnTo>
                  <a:pt x="2086" y="340"/>
                </a:lnTo>
                <a:lnTo>
                  <a:pt x="2092" y="327"/>
                </a:lnTo>
                <a:lnTo>
                  <a:pt x="2100" y="313"/>
                </a:lnTo>
                <a:lnTo>
                  <a:pt x="2105" y="300"/>
                </a:lnTo>
                <a:lnTo>
                  <a:pt x="2111" y="288"/>
                </a:lnTo>
                <a:lnTo>
                  <a:pt x="2115" y="277"/>
                </a:lnTo>
                <a:lnTo>
                  <a:pt x="2121" y="265"/>
                </a:lnTo>
                <a:lnTo>
                  <a:pt x="2124" y="254"/>
                </a:lnTo>
                <a:lnTo>
                  <a:pt x="2126" y="246"/>
                </a:lnTo>
                <a:lnTo>
                  <a:pt x="2128" y="236"/>
                </a:lnTo>
                <a:lnTo>
                  <a:pt x="2130" y="229"/>
                </a:lnTo>
                <a:lnTo>
                  <a:pt x="2132" y="221"/>
                </a:lnTo>
                <a:lnTo>
                  <a:pt x="2130" y="215"/>
                </a:lnTo>
                <a:lnTo>
                  <a:pt x="2130" y="210"/>
                </a:lnTo>
                <a:lnTo>
                  <a:pt x="2128" y="204"/>
                </a:lnTo>
                <a:lnTo>
                  <a:pt x="2123" y="200"/>
                </a:lnTo>
                <a:lnTo>
                  <a:pt x="2115" y="194"/>
                </a:lnTo>
                <a:lnTo>
                  <a:pt x="2107" y="190"/>
                </a:lnTo>
                <a:lnTo>
                  <a:pt x="2098" y="186"/>
                </a:lnTo>
                <a:lnTo>
                  <a:pt x="2088" y="181"/>
                </a:lnTo>
                <a:lnTo>
                  <a:pt x="2076" y="177"/>
                </a:lnTo>
                <a:lnTo>
                  <a:pt x="2055" y="167"/>
                </a:lnTo>
                <a:lnTo>
                  <a:pt x="2048" y="165"/>
                </a:lnTo>
                <a:lnTo>
                  <a:pt x="2038" y="163"/>
                </a:lnTo>
                <a:lnTo>
                  <a:pt x="2027" y="162"/>
                </a:lnTo>
                <a:lnTo>
                  <a:pt x="2015" y="162"/>
                </a:lnTo>
                <a:lnTo>
                  <a:pt x="2004" y="160"/>
                </a:lnTo>
                <a:lnTo>
                  <a:pt x="1988" y="160"/>
                </a:lnTo>
                <a:lnTo>
                  <a:pt x="1975" y="160"/>
                </a:lnTo>
                <a:lnTo>
                  <a:pt x="1959" y="160"/>
                </a:lnTo>
                <a:lnTo>
                  <a:pt x="1942" y="160"/>
                </a:lnTo>
                <a:lnTo>
                  <a:pt x="1925" y="160"/>
                </a:lnTo>
                <a:lnTo>
                  <a:pt x="1906" y="160"/>
                </a:lnTo>
                <a:lnTo>
                  <a:pt x="1886" y="162"/>
                </a:lnTo>
                <a:lnTo>
                  <a:pt x="1865" y="162"/>
                </a:lnTo>
                <a:lnTo>
                  <a:pt x="1844" y="163"/>
                </a:lnTo>
                <a:lnTo>
                  <a:pt x="1821" y="165"/>
                </a:lnTo>
                <a:lnTo>
                  <a:pt x="1798" y="167"/>
                </a:lnTo>
                <a:lnTo>
                  <a:pt x="1785" y="169"/>
                </a:lnTo>
                <a:lnTo>
                  <a:pt x="1771" y="171"/>
                </a:lnTo>
                <a:lnTo>
                  <a:pt x="1756" y="171"/>
                </a:lnTo>
                <a:lnTo>
                  <a:pt x="1741" y="173"/>
                </a:lnTo>
                <a:lnTo>
                  <a:pt x="1725" y="175"/>
                </a:lnTo>
                <a:lnTo>
                  <a:pt x="1708" y="177"/>
                </a:lnTo>
                <a:lnTo>
                  <a:pt x="1689" y="179"/>
                </a:lnTo>
                <a:lnTo>
                  <a:pt x="1670" y="181"/>
                </a:lnTo>
                <a:lnTo>
                  <a:pt x="1650" y="183"/>
                </a:lnTo>
                <a:lnTo>
                  <a:pt x="1629" y="186"/>
                </a:lnTo>
                <a:lnTo>
                  <a:pt x="1608" y="188"/>
                </a:lnTo>
                <a:lnTo>
                  <a:pt x="1585" y="190"/>
                </a:lnTo>
                <a:lnTo>
                  <a:pt x="1562" y="194"/>
                </a:lnTo>
                <a:lnTo>
                  <a:pt x="1537" y="196"/>
                </a:lnTo>
                <a:lnTo>
                  <a:pt x="1510" y="200"/>
                </a:lnTo>
                <a:lnTo>
                  <a:pt x="1485" y="202"/>
                </a:lnTo>
                <a:lnTo>
                  <a:pt x="1457" y="206"/>
                </a:lnTo>
                <a:lnTo>
                  <a:pt x="1430" y="208"/>
                </a:lnTo>
                <a:lnTo>
                  <a:pt x="1399" y="211"/>
                </a:lnTo>
                <a:lnTo>
                  <a:pt x="1370" y="215"/>
                </a:lnTo>
                <a:lnTo>
                  <a:pt x="1338" y="219"/>
                </a:lnTo>
                <a:lnTo>
                  <a:pt x="1307" y="223"/>
                </a:lnTo>
                <a:lnTo>
                  <a:pt x="1274" y="227"/>
                </a:lnTo>
                <a:lnTo>
                  <a:pt x="1240" y="231"/>
                </a:lnTo>
                <a:lnTo>
                  <a:pt x="1205" y="234"/>
                </a:lnTo>
                <a:lnTo>
                  <a:pt x="1169" y="238"/>
                </a:lnTo>
                <a:lnTo>
                  <a:pt x="1132" y="242"/>
                </a:lnTo>
                <a:lnTo>
                  <a:pt x="1094" y="246"/>
                </a:lnTo>
                <a:lnTo>
                  <a:pt x="1055" y="250"/>
                </a:lnTo>
                <a:lnTo>
                  <a:pt x="1017" y="254"/>
                </a:lnTo>
                <a:lnTo>
                  <a:pt x="977" y="259"/>
                </a:lnTo>
                <a:lnTo>
                  <a:pt x="934" y="263"/>
                </a:lnTo>
                <a:lnTo>
                  <a:pt x="894" y="269"/>
                </a:lnTo>
                <a:lnTo>
                  <a:pt x="854" y="275"/>
                </a:lnTo>
                <a:lnTo>
                  <a:pt x="814" y="279"/>
                </a:lnTo>
                <a:lnTo>
                  <a:pt x="775" y="284"/>
                </a:lnTo>
                <a:lnTo>
                  <a:pt x="737" y="288"/>
                </a:lnTo>
                <a:lnTo>
                  <a:pt x="698" y="294"/>
                </a:lnTo>
                <a:lnTo>
                  <a:pt x="662" y="298"/>
                </a:lnTo>
                <a:lnTo>
                  <a:pt x="627" y="302"/>
                </a:lnTo>
                <a:lnTo>
                  <a:pt x="593" y="305"/>
                </a:lnTo>
                <a:lnTo>
                  <a:pt x="558" y="309"/>
                </a:lnTo>
                <a:lnTo>
                  <a:pt x="526" y="313"/>
                </a:lnTo>
                <a:lnTo>
                  <a:pt x="493" y="317"/>
                </a:lnTo>
                <a:lnTo>
                  <a:pt x="460" y="319"/>
                </a:lnTo>
                <a:lnTo>
                  <a:pt x="430" y="323"/>
                </a:lnTo>
                <a:lnTo>
                  <a:pt x="401" y="325"/>
                </a:lnTo>
                <a:lnTo>
                  <a:pt x="370" y="329"/>
                </a:lnTo>
                <a:lnTo>
                  <a:pt x="341" y="330"/>
                </a:lnTo>
                <a:lnTo>
                  <a:pt x="315" y="332"/>
                </a:lnTo>
                <a:lnTo>
                  <a:pt x="288" y="334"/>
                </a:lnTo>
                <a:lnTo>
                  <a:pt x="261" y="336"/>
                </a:lnTo>
                <a:lnTo>
                  <a:pt x="236" y="338"/>
                </a:lnTo>
                <a:lnTo>
                  <a:pt x="211" y="340"/>
                </a:lnTo>
                <a:lnTo>
                  <a:pt x="186" y="342"/>
                </a:lnTo>
                <a:lnTo>
                  <a:pt x="163" y="342"/>
                </a:lnTo>
                <a:lnTo>
                  <a:pt x="140" y="344"/>
                </a:lnTo>
                <a:lnTo>
                  <a:pt x="119" y="344"/>
                </a:lnTo>
                <a:lnTo>
                  <a:pt x="96" y="346"/>
                </a:lnTo>
                <a:lnTo>
                  <a:pt x="77" y="346"/>
                </a:lnTo>
                <a:lnTo>
                  <a:pt x="55" y="346"/>
                </a:lnTo>
                <a:lnTo>
                  <a:pt x="36" y="346"/>
                </a:lnTo>
                <a:lnTo>
                  <a:pt x="19" y="346"/>
                </a:lnTo>
                <a:lnTo>
                  <a:pt x="0" y="348"/>
                </a:lnTo>
                <a:lnTo>
                  <a:pt x="0" y="300"/>
                </a:lnTo>
                <a:lnTo>
                  <a:pt x="0" y="252"/>
                </a:lnTo>
                <a:lnTo>
                  <a:pt x="46" y="250"/>
                </a:lnTo>
                <a:lnTo>
                  <a:pt x="90" y="246"/>
                </a:lnTo>
                <a:lnTo>
                  <a:pt x="134" y="244"/>
                </a:lnTo>
                <a:lnTo>
                  <a:pt x="176" y="242"/>
                </a:lnTo>
                <a:lnTo>
                  <a:pt x="219" y="240"/>
                </a:lnTo>
                <a:lnTo>
                  <a:pt x="259" y="238"/>
                </a:lnTo>
                <a:lnTo>
                  <a:pt x="299" y="234"/>
                </a:lnTo>
                <a:lnTo>
                  <a:pt x="338" y="233"/>
                </a:lnTo>
                <a:lnTo>
                  <a:pt x="378" y="229"/>
                </a:lnTo>
                <a:lnTo>
                  <a:pt x="414" y="227"/>
                </a:lnTo>
                <a:lnTo>
                  <a:pt x="453" y="223"/>
                </a:lnTo>
                <a:lnTo>
                  <a:pt x="489" y="219"/>
                </a:lnTo>
                <a:lnTo>
                  <a:pt x="526" y="217"/>
                </a:lnTo>
                <a:lnTo>
                  <a:pt x="562" y="211"/>
                </a:lnTo>
                <a:lnTo>
                  <a:pt x="633" y="204"/>
                </a:lnTo>
                <a:lnTo>
                  <a:pt x="650" y="202"/>
                </a:lnTo>
                <a:lnTo>
                  <a:pt x="666" y="200"/>
                </a:lnTo>
                <a:lnTo>
                  <a:pt x="685" y="196"/>
                </a:lnTo>
                <a:lnTo>
                  <a:pt x="702" y="194"/>
                </a:lnTo>
                <a:lnTo>
                  <a:pt x="721" y="192"/>
                </a:lnTo>
                <a:lnTo>
                  <a:pt x="741" y="188"/>
                </a:lnTo>
                <a:lnTo>
                  <a:pt x="762" y="186"/>
                </a:lnTo>
                <a:lnTo>
                  <a:pt x="781" y="185"/>
                </a:lnTo>
                <a:lnTo>
                  <a:pt x="802" y="181"/>
                </a:lnTo>
                <a:lnTo>
                  <a:pt x="825" y="179"/>
                </a:lnTo>
                <a:lnTo>
                  <a:pt x="846" y="175"/>
                </a:lnTo>
                <a:lnTo>
                  <a:pt x="871" y="173"/>
                </a:lnTo>
                <a:lnTo>
                  <a:pt x="894" y="169"/>
                </a:lnTo>
                <a:lnTo>
                  <a:pt x="919" y="167"/>
                </a:lnTo>
                <a:lnTo>
                  <a:pt x="944" y="163"/>
                </a:lnTo>
                <a:lnTo>
                  <a:pt x="969" y="160"/>
                </a:lnTo>
                <a:lnTo>
                  <a:pt x="996" y="158"/>
                </a:lnTo>
                <a:lnTo>
                  <a:pt x="1023" y="154"/>
                </a:lnTo>
                <a:lnTo>
                  <a:pt x="1050" y="152"/>
                </a:lnTo>
                <a:lnTo>
                  <a:pt x="1078" y="148"/>
                </a:lnTo>
                <a:lnTo>
                  <a:pt x="1107" y="144"/>
                </a:lnTo>
                <a:lnTo>
                  <a:pt x="1136" y="142"/>
                </a:lnTo>
                <a:lnTo>
                  <a:pt x="1167" y="138"/>
                </a:lnTo>
                <a:lnTo>
                  <a:pt x="1197" y="135"/>
                </a:lnTo>
                <a:lnTo>
                  <a:pt x="1228" y="133"/>
                </a:lnTo>
                <a:lnTo>
                  <a:pt x="1261" y="129"/>
                </a:lnTo>
                <a:lnTo>
                  <a:pt x="1293" y="125"/>
                </a:lnTo>
                <a:lnTo>
                  <a:pt x="1326" y="121"/>
                </a:lnTo>
                <a:lnTo>
                  <a:pt x="1361" y="119"/>
                </a:lnTo>
                <a:lnTo>
                  <a:pt x="1395" y="115"/>
                </a:lnTo>
                <a:lnTo>
                  <a:pt x="1430" y="112"/>
                </a:lnTo>
                <a:lnTo>
                  <a:pt x="1466" y="108"/>
                </a:lnTo>
                <a:lnTo>
                  <a:pt x="1501" y="106"/>
                </a:lnTo>
                <a:lnTo>
                  <a:pt x="1535" y="102"/>
                </a:lnTo>
                <a:lnTo>
                  <a:pt x="1568" y="98"/>
                </a:lnTo>
                <a:lnTo>
                  <a:pt x="1599" y="94"/>
                </a:lnTo>
                <a:lnTo>
                  <a:pt x="1629" y="92"/>
                </a:lnTo>
                <a:lnTo>
                  <a:pt x="1658" y="89"/>
                </a:lnTo>
                <a:lnTo>
                  <a:pt x="1687" y="87"/>
                </a:lnTo>
                <a:lnTo>
                  <a:pt x="1714" y="83"/>
                </a:lnTo>
                <a:lnTo>
                  <a:pt x="1741" y="81"/>
                </a:lnTo>
                <a:lnTo>
                  <a:pt x="1767" y="77"/>
                </a:lnTo>
                <a:lnTo>
                  <a:pt x="1791" y="75"/>
                </a:lnTo>
                <a:lnTo>
                  <a:pt x="1814" y="71"/>
                </a:lnTo>
                <a:lnTo>
                  <a:pt x="1837" y="69"/>
                </a:lnTo>
                <a:lnTo>
                  <a:pt x="1858" y="67"/>
                </a:lnTo>
                <a:lnTo>
                  <a:pt x="1879" y="64"/>
                </a:lnTo>
                <a:lnTo>
                  <a:pt x="1898" y="62"/>
                </a:lnTo>
                <a:lnTo>
                  <a:pt x="1917" y="60"/>
                </a:lnTo>
                <a:lnTo>
                  <a:pt x="1934" y="58"/>
                </a:lnTo>
                <a:lnTo>
                  <a:pt x="1950" y="54"/>
                </a:lnTo>
                <a:lnTo>
                  <a:pt x="1965" y="52"/>
                </a:lnTo>
                <a:lnTo>
                  <a:pt x="1981" y="50"/>
                </a:lnTo>
                <a:lnTo>
                  <a:pt x="1994" y="48"/>
                </a:lnTo>
                <a:lnTo>
                  <a:pt x="2005" y="44"/>
                </a:lnTo>
                <a:lnTo>
                  <a:pt x="2017" y="43"/>
                </a:lnTo>
                <a:lnTo>
                  <a:pt x="2027" y="41"/>
                </a:lnTo>
                <a:lnTo>
                  <a:pt x="2036" y="39"/>
                </a:lnTo>
                <a:lnTo>
                  <a:pt x="2044" y="37"/>
                </a:lnTo>
                <a:lnTo>
                  <a:pt x="2052" y="33"/>
                </a:lnTo>
                <a:lnTo>
                  <a:pt x="2057" y="31"/>
                </a:lnTo>
                <a:lnTo>
                  <a:pt x="2063" y="29"/>
                </a:lnTo>
                <a:lnTo>
                  <a:pt x="2067" y="27"/>
                </a:lnTo>
                <a:lnTo>
                  <a:pt x="2071" y="25"/>
                </a:lnTo>
                <a:lnTo>
                  <a:pt x="2092" y="16"/>
                </a:lnTo>
                <a:lnTo>
                  <a:pt x="2103" y="12"/>
                </a:lnTo>
                <a:lnTo>
                  <a:pt x="2113" y="8"/>
                </a:lnTo>
                <a:lnTo>
                  <a:pt x="2124" y="6"/>
                </a:lnTo>
                <a:lnTo>
                  <a:pt x="2136" y="2"/>
                </a:lnTo>
                <a:lnTo>
                  <a:pt x="2146" y="2"/>
                </a:lnTo>
                <a:lnTo>
                  <a:pt x="2157" y="0"/>
                </a:lnTo>
                <a:lnTo>
                  <a:pt x="2161" y="0"/>
                </a:lnTo>
                <a:lnTo>
                  <a:pt x="2165" y="2"/>
                </a:lnTo>
                <a:lnTo>
                  <a:pt x="2172" y="4"/>
                </a:lnTo>
                <a:lnTo>
                  <a:pt x="2180" y="8"/>
                </a:lnTo>
                <a:lnTo>
                  <a:pt x="2190" y="12"/>
                </a:lnTo>
                <a:lnTo>
                  <a:pt x="2201" y="16"/>
                </a:lnTo>
                <a:lnTo>
                  <a:pt x="2215" y="21"/>
                </a:lnTo>
                <a:lnTo>
                  <a:pt x="2228" y="27"/>
                </a:lnTo>
                <a:lnTo>
                  <a:pt x="2243" y="35"/>
                </a:lnTo>
                <a:lnTo>
                  <a:pt x="2261" y="43"/>
                </a:lnTo>
                <a:lnTo>
                  <a:pt x="2280" y="50"/>
                </a:lnTo>
                <a:lnTo>
                  <a:pt x="2299" y="60"/>
                </a:lnTo>
                <a:lnTo>
                  <a:pt x="2318" y="71"/>
                </a:lnTo>
                <a:lnTo>
                  <a:pt x="2339" y="83"/>
                </a:lnTo>
                <a:lnTo>
                  <a:pt x="2362" y="94"/>
                </a:lnTo>
                <a:lnTo>
                  <a:pt x="2387" y="108"/>
                </a:lnTo>
                <a:lnTo>
                  <a:pt x="2410" y="121"/>
                </a:lnTo>
                <a:lnTo>
                  <a:pt x="2432" y="135"/>
                </a:lnTo>
                <a:lnTo>
                  <a:pt x="2453" y="146"/>
                </a:lnTo>
                <a:lnTo>
                  <a:pt x="2472" y="158"/>
                </a:lnTo>
                <a:lnTo>
                  <a:pt x="2491" y="169"/>
                </a:lnTo>
                <a:lnTo>
                  <a:pt x="2506" y="179"/>
                </a:lnTo>
                <a:lnTo>
                  <a:pt x="2522" y="188"/>
                </a:lnTo>
                <a:lnTo>
                  <a:pt x="2535" y="196"/>
                </a:lnTo>
                <a:lnTo>
                  <a:pt x="2547" y="206"/>
                </a:lnTo>
                <a:lnTo>
                  <a:pt x="2558" y="211"/>
                </a:lnTo>
                <a:lnTo>
                  <a:pt x="2566" y="219"/>
                </a:lnTo>
                <a:lnTo>
                  <a:pt x="2574" y="225"/>
                </a:lnTo>
                <a:lnTo>
                  <a:pt x="2579" y="229"/>
                </a:lnTo>
                <a:lnTo>
                  <a:pt x="2585" y="234"/>
                </a:lnTo>
                <a:lnTo>
                  <a:pt x="2587" y="236"/>
                </a:lnTo>
                <a:lnTo>
                  <a:pt x="2587" y="240"/>
                </a:lnTo>
                <a:lnTo>
                  <a:pt x="2587" y="244"/>
                </a:lnTo>
                <a:lnTo>
                  <a:pt x="2587" y="248"/>
                </a:lnTo>
                <a:lnTo>
                  <a:pt x="2585" y="252"/>
                </a:lnTo>
                <a:lnTo>
                  <a:pt x="2581" y="256"/>
                </a:lnTo>
                <a:lnTo>
                  <a:pt x="2579" y="259"/>
                </a:lnTo>
                <a:lnTo>
                  <a:pt x="2576" y="261"/>
                </a:lnTo>
                <a:lnTo>
                  <a:pt x="2570" y="265"/>
                </a:lnTo>
                <a:lnTo>
                  <a:pt x="2564" y="267"/>
                </a:lnTo>
                <a:lnTo>
                  <a:pt x="2558" y="271"/>
                </a:lnTo>
                <a:lnTo>
                  <a:pt x="2551" y="273"/>
                </a:lnTo>
                <a:lnTo>
                  <a:pt x="2543" y="275"/>
                </a:lnTo>
                <a:lnTo>
                  <a:pt x="2533" y="279"/>
                </a:lnTo>
                <a:lnTo>
                  <a:pt x="2524" y="281"/>
                </a:lnTo>
                <a:lnTo>
                  <a:pt x="2512" y="282"/>
                </a:lnTo>
                <a:lnTo>
                  <a:pt x="2501" y="284"/>
                </a:lnTo>
                <a:lnTo>
                  <a:pt x="2487" y="288"/>
                </a:lnTo>
                <a:lnTo>
                  <a:pt x="2474" y="290"/>
                </a:lnTo>
                <a:lnTo>
                  <a:pt x="2458" y="292"/>
                </a:lnTo>
                <a:lnTo>
                  <a:pt x="2443" y="296"/>
                </a:lnTo>
                <a:lnTo>
                  <a:pt x="2428" y="302"/>
                </a:lnTo>
                <a:lnTo>
                  <a:pt x="2412" y="305"/>
                </a:lnTo>
                <a:lnTo>
                  <a:pt x="2395" y="311"/>
                </a:lnTo>
                <a:lnTo>
                  <a:pt x="2378" y="319"/>
                </a:lnTo>
                <a:lnTo>
                  <a:pt x="2359" y="327"/>
                </a:lnTo>
                <a:lnTo>
                  <a:pt x="2341" y="334"/>
                </a:lnTo>
                <a:lnTo>
                  <a:pt x="2322" y="344"/>
                </a:lnTo>
                <a:lnTo>
                  <a:pt x="2303" y="353"/>
                </a:lnTo>
                <a:lnTo>
                  <a:pt x="2282" y="365"/>
                </a:lnTo>
                <a:lnTo>
                  <a:pt x="2263" y="377"/>
                </a:lnTo>
                <a:lnTo>
                  <a:pt x="2242" y="390"/>
                </a:lnTo>
                <a:lnTo>
                  <a:pt x="2220" y="403"/>
                </a:lnTo>
                <a:lnTo>
                  <a:pt x="2199" y="4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Freeform 102"/>
          <p:cNvSpPr/>
          <p:nvPr/>
        </p:nvSpPr>
        <p:spPr>
          <a:xfrm>
            <a:off x="5468760" y="3011400"/>
            <a:ext cx="293760" cy="550800"/>
          </a:xfrm>
          <a:custGeom>
            <a:avLst/>
            <a:gdLst/>
            <a:ahLst/>
            <a:rect l="l" t="t" r="r" b="b"/>
            <a:pathLst>
              <a:path w="371" h="695">
                <a:moveTo>
                  <a:pt x="265" y="585"/>
                </a:moveTo>
                <a:lnTo>
                  <a:pt x="258" y="597"/>
                </a:lnTo>
                <a:lnTo>
                  <a:pt x="250" y="610"/>
                </a:lnTo>
                <a:lnTo>
                  <a:pt x="242" y="622"/>
                </a:lnTo>
                <a:lnTo>
                  <a:pt x="233" y="631"/>
                </a:lnTo>
                <a:lnTo>
                  <a:pt x="225" y="641"/>
                </a:lnTo>
                <a:lnTo>
                  <a:pt x="217" y="650"/>
                </a:lnTo>
                <a:lnTo>
                  <a:pt x="210" y="658"/>
                </a:lnTo>
                <a:lnTo>
                  <a:pt x="202" y="666"/>
                </a:lnTo>
                <a:lnTo>
                  <a:pt x="194" y="672"/>
                </a:lnTo>
                <a:lnTo>
                  <a:pt x="189" y="677"/>
                </a:lnTo>
                <a:lnTo>
                  <a:pt x="181" y="681"/>
                </a:lnTo>
                <a:lnTo>
                  <a:pt x="175" y="685"/>
                </a:lnTo>
                <a:lnTo>
                  <a:pt x="167" y="689"/>
                </a:lnTo>
                <a:lnTo>
                  <a:pt x="162" y="691"/>
                </a:lnTo>
                <a:lnTo>
                  <a:pt x="156" y="691"/>
                </a:lnTo>
                <a:lnTo>
                  <a:pt x="150" y="693"/>
                </a:lnTo>
                <a:lnTo>
                  <a:pt x="144" y="693"/>
                </a:lnTo>
                <a:lnTo>
                  <a:pt x="139" y="695"/>
                </a:lnTo>
                <a:lnTo>
                  <a:pt x="135" y="695"/>
                </a:lnTo>
                <a:lnTo>
                  <a:pt x="129" y="695"/>
                </a:lnTo>
                <a:lnTo>
                  <a:pt x="123" y="693"/>
                </a:lnTo>
                <a:lnTo>
                  <a:pt x="118" y="691"/>
                </a:lnTo>
                <a:lnTo>
                  <a:pt x="112" y="687"/>
                </a:lnTo>
                <a:lnTo>
                  <a:pt x="104" y="683"/>
                </a:lnTo>
                <a:lnTo>
                  <a:pt x="98" y="677"/>
                </a:lnTo>
                <a:lnTo>
                  <a:pt x="93" y="672"/>
                </a:lnTo>
                <a:lnTo>
                  <a:pt x="87" y="666"/>
                </a:lnTo>
                <a:lnTo>
                  <a:pt x="79" y="658"/>
                </a:lnTo>
                <a:lnTo>
                  <a:pt x="71" y="650"/>
                </a:lnTo>
                <a:lnTo>
                  <a:pt x="66" y="641"/>
                </a:lnTo>
                <a:lnTo>
                  <a:pt x="58" y="631"/>
                </a:lnTo>
                <a:lnTo>
                  <a:pt x="50" y="620"/>
                </a:lnTo>
                <a:lnTo>
                  <a:pt x="43" y="608"/>
                </a:lnTo>
                <a:lnTo>
                  <a:pt x="35" y="599"/>
                </a:lnTo>
                <a:lnTo>
                  <a:pt x="29" y="589"/>
                </a:lnTo>
                <a:lnTo>
                  <a:pt x="23" y="579"/>
                </a:lnTo>
                <a:lnTo>
                  <a:pt x="18" y="570"/>
                </a:lnTo>
                <a:lnTo>
                  <a:pt x="14" y="562"/>
                </a:lnTo>
                <a:lnTo>
                  <a:pt x="10" y="554"/>
                </a:lnTo>
                <a:lnTo>
                  <a:pt x="6" y="547"/>
                </a:lnTo>
                <a:lnTo>
                  <a:pt x="4" y="539"/>
                </a:lnTo>
                <a:lnTo>
                  <a:pt x="2" y="533"/>
                </a:lnTo>
                <a:lnTo>
                  <a:pt x="2" y="528"/>
                </a:lnTo>
                <a:lnTo>
                  <a:pt x="0" y="520"/>
                </a:lnTo>
                <a:lnTo>
                  <a:pt x="2" y="516"/>
                </a:lnTo>
                <a:lnTo>
                  <a:pt x="2" y="510"/>
                </a:lnTo>
                <a:lnTo>
                  <a:pt x="4" y="505"/>
                </a:lnTo>
                <a:lnTo>
                  <a:pt x="6" y="501"/>
                </a:lnTo>
                <a:lnTo>
                  <a:pt x="6" y="497"/>
                </a:lnTo>
                <a:lnTo>
                  <a:pt x="8" y="495"/>
                </a:lnTo>
                <a:lnTo>
                  <a:pt x="10" y="489"/>
                </a:lnTo>
                <a:lnTo>
                  <a:pt x="12" y="485"/>
                </a:lnTo>
                <a:lnTo>
                  <a:pt x="14" y="480"/>
                </a:lnTo>
                <a:lnTo>
                  <a:pt x="18" y="474"/>
                </a:lnTo>
                <a:lnTo>
                  <a:pt x="22" y="466"/>
                </a:lnTo>
                <a:lnTo>
                  <a:pt x="27" y="458"/>
                </a:lnTo>
                <a:lnTo>
                  <a:pt x="31" y="451"/>
                </a:lnTo>
                <a:lnTo>
                  <a:pt x="37" y="443"/>
                </a:lnTo>
                <a:lnTo>
                  <a:pt x="43" y="434"/>
                </a:lnTo>
                <a:lnTo>
                  <a:pt x="48" y="424"/>
                </a:lnTo>
                <a:lnTo>
                  <a:pt x="64" y="403"/>
                </a:lnTo>
                <a:lnTo>
                  <a:pt x="79" y="382"/>
                </a:lnTo>
                <a:lnTo>
                  <a:pt x="87" y="370"/>
                </a:lnTo>
                <a:lnTo>
                  <a:pt x="94" y="357"/>
                </a:lnTo>
                <a:lnTo>
                  <a:pt x="102" y="341"/>
                </a:lnTo>
                <a:lnTo>
                  <a:pt x="110" y="324"/>
                </a:lnTo>
                <a:lnTo>
                  <a:pt x="119" y="307"/>
                </a:lnTo>
                <a:lnTo>
                  <a:pt x="127" y="288"/>
                </a:lnTo>
                <a:lnTo>
                  <a:pt x="135" y="267"/>
                </a:lnTo>
                <a:lnTo>
                  <a:pt x="142" y="244"/>
                </a:lnTo>
                <a:lnTo>
                  <a:pt x="152" y="219"/>
                </a:lnTo>
                <a:lnTo>
                  <a:pt x="160" y="194"/>
                </a:lnTo>
                <a:lnTo>
                  <a:pt x="167" y="165"/>
                </a:lnTo>
                <a:lnTo>
                  <a:pt x="175" y="136"/>
                </a:lnTo>
                <a:lnTo>
                  <a:pt x="185" y="105"/>
                </a:lnTo>
                <a:lnTo>
                  <a:pt x="192" y="71"/>
                </a:lnTo>
                <a:lnTo>
                  <a:pt x="196" y="53"/>
                </a:lnTo>
                <a:lnTo>
                  <a:pt x="200" y="36"/>
                </a:lnTo>
                <a:lnTo>
                  <a:pt x="204" y="19"/>
                </a:lnTo>
                <a:lnTo>
                  <a:pt x="208" y="0"/>
                </a:lnTo>
                <a:lnTo>
                  <a:pt x="229" y="9"/>
                </a:lnTo>
                <a:lnTo>
                  <a:pt x="248" y="19"/>
                </a:lnTo>
                <a:lnTo>
                  <a:pt x="265" y="30"/>
                </a:lnTo>
                <a:lnTo>
                  <a:pt x="283" y="44"/>
                </a:lnTo>
                <a:lnTo>
                  <a:pt x="298" y="57"/>
                </a:lnTo>
                <a:lnTo>
                  <a:pt x="313" y="73"/>
                </a:lnTo>
                <a:lnTo>
                  <a:pt x="325" y="90"/>
                </a:lnTo>
                <a:lnTo>
                  <a:pt x="336" y="107"/>
                </a:lnTo>
                <a:lnTo>
                  <a:pt x="342" y="117"/>
                </a:lnTo>
                <a:lnTo>
                  <a:pt x="346" y="126"/>
                </a:lnTo>
                <a:lnTo>
                  <a:pt x="352" y="136"/>
                </a:lnTo>
                <a:lnTo>
                  <a:pt x="356" y="148"/>
                </a:lnTo>
                <a:lnTo>
                  <a:pt x="359" y="159"/>
                </a:lnTo>
                <a:lnTo>
                  <a:pt x="361" y="171"/>
                </a:lnTo>
                <a:lnTo>
                  <a:pt x="365" y="184"/>
                </a:lnTo>
                <a:lnTo>
                  <a:pt x="367" y="196"/>
                </a:lnTo>
                <a:lnTo>
                  <a:pt x="369" y="209"/>
                </a:lnTo>
                <a:lnTo>
                  <a:pt x="371" y="224"/>
                </a:lnTo>
                <a:lnTo>
                  <a:pt x="371" y="240"/>
                </a:lnTo>
                <a:lnTo>
                  <a:pt x="371" y="255"/>
                </a:lnTo>
                <a:lnTo>
                  <a:pt x="371" y="270"/>
                </a:lnTo>
                <a:lnTo>
                  <a:pt x="369" y="286"/>
                </a:lnTo>
                <a:lnTo>
                  <a:pt x="369" y="303"/>
                </a:lnTo>
                <a:lnTo>
                  <a:pt x="365" y="322"/>
                </a:lnTo>
                <a:lnTo>
                  <a:pt x="363" y="339"/>
                </a:lnTo>
                <a:lnTo>
                  <a:pt x="359" y="357"/>
                </a:lnTo>
                <a:lnTo>
                  <a:pt x="356" y="374"/>
                </a:lnTo>
                <a:lnTo>
                  <a:pt x="350" y="391"/>
                </a:lnTo>
                <a:lnTo>
                  <a:pt x="344" y="409"/>
                </a:lnTo>
                <a:lnTo>
                  <a:pt x="338" y="424"/>
                </a:lnTo>
                <a:lnTo>
                  <a:pt x="327" y="457"/>
                </a:lnTo>
                <a:lnTo>
                  <a:pt x="311" y="489"/>
                </a:lnTo>
                <a:lnTo>
                  <a:pt x="296" y="522"/>
                </a:lnTo>
                <a:lnTo>
                  <a:pt x="281" y="553"/>
                </a:lnTo>
                <a:lnTo>
                  <a:pt x="265" y="58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Freeform 103"/>
          <p:cNvSpPr/>
          <p:nvPr/>
        </p:nvSpPr>
        <p:spPr>
          <a:xfrm>
            <a:off x="6329520" y="2708280"/>
            <a:ext cx="365040" cy="255600"/>
          </a:xfrm>
          <a:custGeom>
            <a:avLst/>
            <a:gdLst/>
            <a:ahLst/>
            <a:rect l="l" t="t" r="r" b="b"/>
            <a:pathLst>
              <a:path w="461" h="322">
                <a:moveTo>
                  <a:pt x="0" y="23"/>
                </a:moveTo>
                <a:lnTo>
                  <a:pt x="0" y="21"/>
                </a:lnTo>
                <a:lnTo>
                  <a:pt x="2" y="19"/>
                </a:lnTo>
                <a:lnTo>
                  <a:pt x="4" y="17"/>
                </a:lnTo>
                <a:lnTo>
                  <a:pt x="8" y="13"/>
                </a:lnTo>
                <a:lnTo>
                  <a:pt x="13" y="11"/>
                </a:lnTo>
                <a:lnTo>
                  <a:pt x="19" y="9"/>
                </a:lnTo>
                <a:lnTo>
                  <a:pt x="25" y="7"/>
                </a:lnTo>
                <a:lnTo>
                  <a:pt x="34" y="6"/>
                </a:lnTo>
                <a:lnTo>
                  <a:pt x="42" y="6"/>
                </a:lnTo>
                <a:lnTo>
                  <a:pt x="54" y="4"/>
                </a:lnTo>
                <a:lnTo>
                  <a:pt x="65" y="2"/>
                </a:lnTo>
                <a:lnTo>
                  <a:pt x="79" y="2"/>
                </a:lnTo>
                <a:lnTo>
                  <a:pt x="92" y="0"/>
                </a:lnTo>
                <a:lnTo>
                  <a:pt x="107" y="0"/>
                </a:lnTo>
                <a:lnTo>
                  <a:pt x="125" y="0"/>
                </a:lnTo>
                <a:lnTo>
                  <a:pt x="144" y="0"/>
                </a:lnTo>
                <a:lnTo>
                  <a:pt x="159" y="0"/>
                </a:lnTo>
                <a:lnTo>
                  <a:pt x="175" y="0"/>
                </a:lnTo>
                <a:lnTo>
                  <a:pt x="190" y="2"/>
                </a:lnTo>
                <a:lnTo>
                  <a:pt x="205" y="4"/>
                </a:lnTo>
                <a:lnTo>
                  <a:pt x="221" y="6"/>
                </a:lnTo>
                <a:lnTo>
                  <a:pt x="236" y="7"/>
                </a:lnTo>
                <a:lnTo>
                  <a:pt x="263" y="15"/>
                </a:lnTo>
                <a:lnTo>
                  <a:pt x="292" y="25"/>
                </a:lnTo>
                <a:lnTo>
                  <a:pt x="318" y="34"/>
                </a:lnTo>
                <a:lnTo>
                  <a:pt x="347" y="46"/>
                </a:lnTo>
                <a:lnTo>
                  <a:pt x="374" y="59"/>
                </a:lnTo>
                <a:lnTo>
                  <a:pt x="384" y="67"/>
                </a:lnTo>
                <a:lnTo>
                  <a:pt x="393" y="77"/>
                </a:lnTo>
                <a:lnTo>
                  <a:pt x="403" y="84"/>
                </a:lnTo>
                <a:lnTo>
                  <a:pt x="411" y="94"/>
                </a:lnTo>
                <a:lnTo>
                  <a:pt x="418" y="101"/>
                </a:lnTo>
                <a:lnTo>
                  <a:pt x="426" y="109"/>
                </a:lnTo>
                <a:lnTo>
                  <a:pt x="432" y="117"/>
                </a:lnTo>
                <a:lnTo>
                  <a:pt x="437" y="123"/>
                </a:lnTo>
                <a:lnTo>
                  <a:pt x="443" y="130"/>
                </a:lnTo>
                <a:lnTo>
                  <a:pt x="447" y="138"/>
                </a:lnTo>
                <a:lnTo>
                  <a:pt x="451" y="144"/>
                </a:lnTo>
                <a:lnTo>
                  <a:pt x="455" y="151"/>
                </a:lnTo>
                <a:lnTo>
                  <a:pt x="457" y="157"/>
                </a:lnTo>
                <a:lnTo>
                  <a:pt x="459" y="165"/>
                </a:lnTo>
                <a:lnTo>
                  <a:pt x="459" y="173"/>
                </a:lnTo>
                <a:lnTo>
                  <a:pt x="461" y="178"/>
                </a:lnTo>
                <a:lnTo>
                  <a:pt x="459" y="192"/>
                </a:lnTo>
                <a:lnTo>
                  <a:pt x="459" y="203"/>
                </a:lnTo>
                <a:lnTo>
                  <a:pt x="459" y="215"/>
                </a:lnTo>
                <a:lnTo>
                  <a:pt x="457" y="226"/>
                </a:lnTo>
                <a:lnTo>
                  <a:pt x="457" y="238"/>
                </a:lnTo>
                <a:lnTo>
                  <a:pt x="453" y="249"/>
                </a:lnTo>
                <a:lnTo>
                  <a:pt x="449" y="261"/>
                </a:lnTo>
                <a:lnTo>
                  <a:pt x="445" y="274"/>
                </a:lnTo>
                <a:lnTo>
                  <a:pt x="443" y="280"/>
                </a:lnTo>
                <a:lnTo>
                  <a:pt x="439" y="286"/>
                </a:lnTo>
                <a:lnTo>
                  <a:pt x="436" y="292"/>
                </a:lnTo>
                <a:lnTo>
                  <a:pt x="432" y="297"/>
                </a:lnTo>
                <a:lnTo>
                  <a:pt x="428" y="301"/>
                </a:lnTo>
                <a:lnTo>
                  <a:pt x="424" y="305"/>
                </a:lnTo>
                <a:lnTo>
                  <a:pt x="416" y="311"/>
                </a:lnTo>
                <a:lnTo>
                  <a:pt x="409" y="316"/>
                </a:lnTo>
                <a:lnTo>
                  <a:pt x="401" y="318"/>
                </a:lnTo>
                <a:lnTo>
                  <a:pt x="393" y="320"/>
                </a:lnTo>
                <a:lnTo>
                  <a:pt x="388" y="322"/>
                </a:lnTo>
                <a:lnTo>
                  <a:pt x="382" y="320"/>
                </a:lnTo>
                <a:lnTo>
                  <a:pt x="376" y="320"/>
                </a:lnTo>
                <a:lnTo>
                  <a:pt x="370" y="318"/>
                </a:lnTo>
                <a:lnTo>
                  <a:pt x="363" y="316"/>
                </a:lnTo>
                <a:lnTo>
                  <a:pt x="357" y="315"/>
                </a:lnTo>
                <a:lnTo>
                  <a:pt x="349" y="311"/>
                </a:lnTo>
                <a:lnTo>
                  <a:pt x="342" y="309"/>
                </a:lnTo>
                <a:lnTo>
                  <a:pt x="334" y="303"/>
                </a:lnTo>
                <a:lnTo>
                  <a:pt x="324" y="299"/>
                </a:lnTo>
                <a:lnTo>
                  <a:pt x="317" y="293"/>
                </a:lnTo>
                <a:lnTo>
                  <a:pt x="307" y="288"/>
                </a:lnTo>
                <a:lnTo>
                  <a:pt x="299" y="282"/>
                </a:lnTo>
                <a:lnTo>
                  <a:pt x="290" y="274"/>
                </a:lnTo>
                <a:lnTo>
                  <a:pt x="278" y="267"/>
                </a:lnTo>
                <a:lnTo>
                  <a:pt x="269" y="259"/>
                </a:lnTo>
                <a:lnTo>
                  <a:pt x="259" y="249"/>
                </a:lnTo>
                <a:lnTo>
                  <a:pt x="232" y="236"/>
                </a:lnTo>
                <a:lnTo>
                  <a:pt x="207" y="220"/>
                </a:lnTo>
                <a:lnTo>
                  <a:pt x="184" y="205"/>
                </a:lnTo>
                <a:lnTo>
                  <a:pt x="161" y="188"/>
                </a:lnTo>
                <a:lnTo>
                  <a:pt x="140" y="173"/>
                </a:lnTo>
                <a:lnTo>
                  <a:pt x="121" y="153"/>
                </a:lnTo>
                <a:lnTo>
                  <a:pt x="102" y="136"/>
                </a:lnTo>
                <a:lnTo>
                  <a:pt x="86" y="119"/>
                </a:lnTo>
                <a:lnTo>
                  <a:pt x="75" y="109"/>
                </a:lnTo>
                <a:lnTo>
                  <a:pt x="65" y="101"/>
                </a:lnTo>
                <a:lnTo>
                  <a:pt x="57" y="92"/>
                </a:lnTo>
                <a:lnTo>
                  <a:pt x="48" y="84"/>
                </a:lnTo>
                <a:lnTo>
                  <a:pt x="40" y="77"/>
                </a:lnTo>
                <a:lnTo>
                  <a:pt x="33" y="71"/>
                </a:lnTo>
                <a:lnTo>
                  <a:pt x="27" y="63"/>
                </a:lnTo>
                <a:lnTo>
                  <a:pt x="21" y="57"/>
                </a:lnTo>
                <a:lnTo>
                  <a:pt x="15" y="52"/>
                </a:lnTo>
                <a:lnTo>
                  <a:pt x="11" y="46"/>
                </a:lnTo>
                <a:lnTo>
                  <a:pt x="8" y="40"/>
                </a:lnTo>
                <a:lnTo>
                  <a:pt x="6" y="36"/>
                </a:lnTo>
                <a:lnTo>
                  <a:pt x="2" y="32"/>
                </a:lnTo>
                <a:lnTo>
                  <a:pt x="0" y="29"/>
                </a:lnTo>
                <a:lnTo>
                  <a:pt x="0" y="25"/>
                </a:lnTo>
                <a:lnTo>
                  <a:pt x="0"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259"/>
                                        </p:tgtEl>
                                        <p:attrNameLst>
                                          <p:attrName>style.visibility</p:attrName>
                                        </p:attrNameLst>
                                      </p:cBhvr>
                                      <p:to>
                                        <p:strVal val="visible"/>
                                      </p:to>
                                    </p:set>
                                    <p:anim calcmode="lin" valueType="num">
                                      <p:cBhvr additive="base">
                                        <p:cTn id="702" dur="500" fill="hold"/>
                                        <p:tgtEl>
                                          <p:spTgt spid="259"/>
                                        </p:tgtEl>
                                        <p:attrNameLst>
                                          <p:attrName>ppt_x</p:attrName>
                                        </p:attrNameLst>
                                      </p:cBhvr>
                                      <p:tavLst>
                                        <p:tav tm="0">
                                          <p:val>
                                            <p:strVal val="0-#ppt_w/2"/>
                                          </p:val>
                                        </p:tav>
                                        <p:tav tm="100000">
                                          <p:val>
                                            <p:strVal val="#ppt_x"/>
                                          </p:val>
                                        </p:tav>
                                      </p:tavLst>
                                    </p:anim>
                                    <p:anim calcmode="lin" valueType="num">
                                      <p:cBhvr additive="base">
                                        <p:cTn id="703"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2" presetSubtype="1">
                                  <p:stCondLst>
                                    <p:cond delay="0"/>
                                  </p:stCondLst>
                                  <p:childTnLst>
                                    <p:set>
                                      <p:cBhvr>
                                        <p:cTn id="707" dur="1" fill="hold">
                                          <p:stCondLst>
                                            <p:cond delay="0"/>
                                          </p:stCondLst>
                                        </p:cTn>
                                        <p:tgtEl>
                                          <p:spTgt spid="269"/>
                                        </p:tgtEl>
                                        <p:attrNameLst>
                                          <p:attrName>style.visibility</p:attrName>
                                        </p:attrNameLst>
                                      </p:cBhvr>
                                      <p:to>
                                        <p:strVal val="visible"/>
                                      </p:to>
                                    </p:set>
                                    <p:animEffect filter="wipe(up)" transition="in">
                                      <p:cBhvr additive="repl">
                                        <p:cTn id="708" dur="500"/>
                                        <p:tgtEl>
                                          <p:spTgt spid="269"/>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2" presetSubtype="1">
                                  <p:stCondLst>
                                    <p:cond delay="0"/>
                                  </p:stCondLst>
                                  <p:childTnLst>
                                    <p:set>
                                      <p:cBhvr>
                                        <p:cTn id="712" dur="1" fill="hold">
                                          <p:stCondLst>
                                            <p:cond delay="0"/>
                                          </p:stCondLst>
                                        </p:cTn>
                                        <p:tgtEl>
                                          <p:spTgt spid="268"/>
                                        </p:tgtEl>
                                        <p:attrNameLst>
                                          <p:attrName>style.visibility</p:attrName>
                                        </p:attrNameLst>
                                      </p:cBhvr>
                                      <p:to>
                                        <p:strVal val="visible"/>
                                      </p:to>
                                    </p:set>
                                    <p:animEffect filter="wipe(up)" transition="in">
                                      <p:cBhvr additive="repl">
                                        <p:cTn id="713" dur="500"/>
                                        <p:tgtEl>
                                          <p:spTgt spid="268"/>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67"/>
                                        </p:tgtEl>
                                        <p:attrNameLst>
                                          <p:attrName>style.visibility</p:attrName>
                                        </p:attrNameLst>
                                      </p:cBhvr>
                                      <p:to>
                                        <p:strVal val="visible"/>
                                      </p:to>
                                    </p:set>
                                    <p:animEffect filter="wipe(left)" transition="in">
                                      <p:cBhvr additive="repl">
                                        <p:cTn id="718" dur="500"/>
                                        <p:tgtEl>
                                          <p:spTgt spid="267"/>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1">
                                  <p:stCondLst>
                                    <p:cond delay="0"/>
                                  </p:stCondLst>
                                  <p:childTnLst>
                                    <p:set>
                                      <p:cBhvr>
                                        <p:cTn id="722" dur="1" fill="hold">
                                          <p:stCondLst>
                                            <p:cond delay="0"/>
                                          </p:stCondLst>
                                        </p:cTn>
                                        <p:tgtEl>
                                          <p:spTgt spid="265"/>
                                        </p:tgtEl>
                                        <p:attrNameLst>
                                          <p:attrName>style.visibility</p:attrName>
                                        </p:attrNameLst>
                                      </p:cBhvr>
                                      <p:to>
                                        <p:strVal val="visible"/>
                                      </p:to>
                                    </p:set>
                                    <p:animEffect filter="wipe(up)" transition="in">
                                      <p:cBhvr additive="repl">
                                        <p:cTn id="723" dur="500"/>
                                        <p:tgtEl>
                                          <p:spTgt spid="26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2" presetSubtype="1">
                                  <p:stCondLst>
                                    <p:cond delay="0"/>
                                  </p:stCondLst>
                                  <p:childTnLst>
                                    <p:set>
                                      <p:cBhvr>
                                        <p:cTn id="727" dur="1" fill="hold">
                                          <p:stCondLst>
                                            <p:cond delay="0"/>
                                          </p:stCondLst>
                                        </p:cTn>
                                        <p:tgtEl>
                                          <p:spTgt spid="266"/>
                                        </p:tgtEl>
                                        <p:attrNameLst>
                                          <p:attrName>style.visibility</p:attrName>
                                        </p:attrNameLst>
                                      </p:cBhvr>
                                      <p:to>
                                        <p:strVal val="visible"/>
                                      </p:to>
                                    </p:set>
                                    <p:animEffect filter="wipe(up)" transition="in">
                                      <p:cBhvr additive="repl">
                                        <p:cTn id="728" dur="500"/>
                                        <p:tgtEl>
                                          <p:spTgt spid="266"/>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2" presetSubtype="1">
                                  <p:stCondLst>
                                    <p:cond delay="0"/>
                                  </p:stCondLst>
                                  <p:childTnLst>
                                    <p:set>
                                      <p:cBhvr>
                                        <p:cTn id="732" dur="1" fill="hold">
                                          <p:stCondLst>
                                            <p:cond delay="0"/>
                                          </p:stCondLst>
                                        </p:cTn>
                                        <p:tgtEl>
                                          <p:spTgt spid="264"/>
                                        </p:tgtEl>
                                        <p:attrNameLst>
                                          <p:attrName>style.visibility</p:attrName>
                                        </p:attrNameLst>
                                      </p:cBhvr>
                                      <p:to>
                                        <p:strVal val="visible"/>
                                      </p:to>
                                    </p:set>
                                    <p:animEffect filter="wipe(up)" transition="in">
                                      <p:cBhvr additive="repl">
                                        <p:cTn id="733" dur="500"/>
                                        <p:tgtEl>
                                          <p:spTgt spid="264"/>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1">
                                  <p:stCondLst>
                                    <p:cond delay="0"/>
                                  </p:stCondLst>
                                  <p:childTnLst>
                                    <p:set>
                                      <p:cBhvr>
                                        <p:cTn id="737" dur="1" fill="hold">
                                          <p:stCondLst>
                                            <p:cond delay="0"/>
                                          </p:stCondLst>
                                        </p:cTn>
                                        <p:tgtEl>
                                          <p:spTgt spid="263"/>
                                        </p:tgtEl>
                                        <p:attrNameLst>
                                          <p:attrName>style.visibility</p:attrName>
                                        </p:attrNameLst>
                                      </p:cBhvr>
                                      <p:to>
                                        <p:strVal val="visible"/>
                                      </p:to>
                                    </p:set>
                                    <p:animEffect filter="wipe(up)" transition="in">
                                      <p:cBhvr additive="repl">
                                        <p:cTn id="738" dur="500"/>
                                        <p:tgtEl>
                                          <p:spTgt spid="263"/>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260"/>
                                        </p:tgtEl>
                                        <p:attrNameLst>
                                          <p:attrName>style.visibility</p:attrName>
                                        </p:attrNameLst>
                                      </p:cBhvr>
                                      <p:to>
                                        <p:strVal val="visible"/>
                                      </p:to>
                                    </p:set>
                                    <p:animEffect filter="wipe(up)" transition="in">
                                      <p:cBhvr additive="repl">
                                        <p:cTn id="743" dur="500"/>
                                        <p:tgtEl>
                                          <p:spTgt spid="260"/>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61"/>
                                        </p:tgtEl>
                                        <p:attrNameLst>
                                          <p:attrName>style.visibility</p:attrName>
                                        </p:attrNameLst>
                                      </p:cBhvr>
                                      <p:to>
                                        <p:strVal val="visible"/>
                                      </p:to>
                                    </p:set>
                                    <p:animEffect filter="wipe(left)" transition="in">
                                      <p:cBhvr additive="repl">
                                        <p:cTn id="748" dur="500"/>
                                        <p:tgtEl>
                                          <p:spTgt spid="261"/>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62"/>
                                        </p:tgtEl>
                                        <p:attrNameLst>
                                          <p:attrName>style.visibility</p:attrName>
                                        </p:attrNameLst>
                                      </p:cBhvr>
                                      <p:to>
                                        <p:strVal val="visible"/>
                                      </p:to>
                                    </p:set>
                                    <p:animEffect filter="wipe(left)" transition="in">
                                      <p:cBhvr additive="repl">
                                        <p:cTn id="753" dur="500"/>
                                        <p:tgtEl>
                                          <p:spTgt spid="262"/>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53" presetSubtype="16">
                                  <p:stCondLst>
                                    <p:cond delay="0"/>
                                  </p:stCondLst>
                                  <p:childTnLst>
                                    <p:set>
                                      <p:cBhvr>
                                        <p:cTn id="757" dur="1" fill="hold">
                                          <p:stCondLst>
                                            <p:cond delay="0"/>
                                          </p:stCondLst>
                                        </p:cTn>
                                        <p:tgtEl>
                                          <p:spTgt spid="256"/>
                                        </p:tgtEl>
                                        <p:attrNameLst>
                                          <p:attrName>style.visibility</p:attrName>
                                        </p:attrNameLst>
                                      </p:cBhvr>
                                      <p:to>
                                        <p:strVal val="visible"/>
                                      </p:to>
                                    </p:set>
                                    <p:anim calcmode="lin" valueType="num">
                                      <p:cBhvr additive="repl">
                                        <p:cTn id="758" dur="500" fill="hold"/>
                                        <p:tgtEl>
                                          <p:spTgt spid="256"/>
                                        </p:tgtEl>
                                        <p:attrNameLst>
                                          <p:attrName>ppt_w</p:attrName>
                                        </p:attrNameLst>
                                      </p:cBhvr>
                                      <p:tavLst>
                                        <p:tav tm="0">
                                          <p:val>
                                            <p:fltVal val="0"/>
                                          </p:val>
                                        </p:tav>
                                        <p:tav tm="100000">
                                          <p:val>
                                            <p:strVal val="#ppt_w"/>
                                          </p:val>
                                        </p:tav>
                                      </p:tavLst>
                                    </p:anim>
                                    <p:anim calcmode="lin" valueType="num">
                                      <p:cBhvr additive="repl">
                                        <p:cTn id="759" dur="500" fill="hold"/>
                                        <p:tgtEl>
                                          <p:spTgt spid="256"/>
                                        </p:tgtEl>
                                        <p:attrNameLst>
                                          <p:attrName>ppt_h</p:attrName>
                                        </p:attrNameLst>
                                      </p:cBhvr>
                                      <p:tavLst>
                                        <p:tav tm="0">
                                          <p:val>
                                            <p:fltVal val="0"/>
                                          </p:val>
                                        </p:tav>
                                        <p:tav tm="100000">
                                          <p:val>
                                            <p:strVal val="#ppt_h"/>
                                          </p:val>
                                        </p:tav>
                                      </p:tavLst>
                                    </p:anim>
                                    <p:animEffect filter="fade" transition="in">
                                      <p:cBhvr additive="repl">
                                        <p:cTn id="760"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愤</a:t>
            </a:r>
            <a:endParaRPr b="0" lang="en-US" sz="8000" spc="-1" strike="noStrike">
              <a:solidFill>
                <a:srgbClr val="000000"/>
              </a:solidFill>
              <a:latin typeface="Calibri"/>
            </a:endParaRPr>
          </a:p>
        </p:txBody>
      </p:sp>
      <p:graphicFrame>
        <p:nvGraphicFramePr>
          <p:cNvPr id="271"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272" name="组合 3"/>
          <p:cNvGrpSpPr/>
          <p:nvPr/>
        </p:nvGrpSpPr>
        <p:grpSpPr>
          <a:xfrm>
            <a:off x="1282680" y="3975120"/>
            <a:ext cx="2840040" cy="1621440"/>
            <a:chOff x="1282680" y="3975120"/>
            <a:chExt cx="2840040" cy="1621440"/>
          </a:xfrm>
        </p:grpSpPr>
        <p:pic>
          <p:nvPicPr>
            <p:cNvPr id="273" name="图示 4" descr=""/>
            <p:cNvPicPr/>
            <p:nvPr/>
          </p:nvPicPr>
          <p:blipFill>
            <a:blip r:embed="rId1"/>
            <a:stretch/>
          </p:blipFill>
          <p:spPr>
            <a:xfrm>
              <a:off x="1282680" y="3975120"/>
              <a:ext cx="2840040" cy="1572480"/>
            </a:xfrm>
            <a:prstGeom prst="rect">
              <a:avLst/>
            </a:prstGeom>
            <a:ln w="0">
              <a:noFill/>
            </a:ln>
          </p:spPr>
        </p:pic>
        <p:sp>
          <p:nvSpPr>
            <p:cNvPr id="274" name="矩形 2"/>
            <p:cNvSpPr/>
            <p:nvPr/>
          </p:nvSpPr>
          <p:spPr>
            <a:xfrm>
              <a:off x="1297080" y="4588200"/>
              <a:ext cx="28152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愤”字右部上横短，下横长，末笔点顿笔有力。</a:t>
              </a:r>
              <a:endParaRPr b="0" lang="en-US" sz="2000" spc="-1" strike="noStrike">
                <a:solidFill>
                  <a:srgbClr val="000000"/>
                </a:solidFill>
                <a:latin typeface="Calibri"/>
              </a:endParaRPr>
            </a:p>
          </p:txBody>
        </p:sp>
      </p:grpSp>
      <p:sp>
        <p:nvSpPr>
          <p:cNvPr id="275" name="矩形 2"/>
          <p:cNvSpPr/>
          <p:nvPr/>
        </p:nvSpPr>
        <p:spPr>
          <a:xfrm>
            <a:off x="2168640" y="1855800"/>
            <a:ext cx="16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fèn</a:t>
            </a:r>
            <a:endParaRPr b="0" lang="en-US" sz="4800" spc="-1" strike="noStrike">
              <a:solidFill>
                <a:srgbClr val="000000"/>
              </a:solidFill>
              <a:latin typeface="Calibri"/>
            </a:endParaRPr>
          </a:p>
        </p:txBody>
      </p:sp>
      <p:sp>
        <p:nvSpPr>
          <p:cNvPr id="276" name="Freeform 131"/>
          <p:cNvSpPr/>
          <p:nvPr/>
        </p:nvSpPr>
        <p:spPr>
          <a:xfrm>
            <a:off x="6278400" y="4059360"/>
            <a:ext cx="784440" cy="1008000"/>
          </a:xfrm>
          <a:custGeom>
            <a:avLst/>
            <a:gdLst/>
            <a:ahLst/>
            <a:rect l="l" t="t" r="r" b="b"/>
            <a:pathLst>
              <a:path w="988" h="1268">
                <a:moveTo>
                  <a:pt x="900" y="40"/>
                </a:moveTo>
                <a:lnTo>
                  <a:pt x="911" y="46"/>
                </a:lnTo>
                <a:lnTo>
                  <a:pt x="923" y="53"/>
                </a:lnTo>
                <a:lnTo>
                  <a:pt x="933" y="59"/>
                </a:lnTo>
                <a:lnTo>
                  <a:pt x="942" y="67"/>
                </a:lnTo>
                <a:lnTo>
                  <a:pt x="950" y="73"/>
                </a:lnTo>
                <a:lnTo>
                  <a:pt x="958" y="80"/>
                </a:lnTo>
                <a:lnTo>
                  <a:pt x="965" y="88"/>
                </a:lnTo>
                <a:lnTo>
                  <a:pt x="971" y="96"/>
                </a:lnTo>
                <a:lnTo>
                  <a:pt x="977" y="103"/>
                </a:lnTo>
                <a:lnTo>
                  <a:pt x="981" y="111"/>
                </a:lnTo>
                <a:lnTo>
                  <a:pt x="984" y="121"/>
                </a:lnTo>
                <a:lnTo>
                  <a:pt x="986" y="128"/>
                </a:lnTo>
                <a:lnTo>
                  <a:pt x="988" y="138"/>
                </a:lnTo>
                <a:lnTo>
                  <a:pt x="988" y="147"/>
                </a:lnTo>
                <a:lnTo>
                  <a:pt x="988" y="159"/>
                </a:lnTo>
                <a:lnTo>
                  <a:pt x="986" y="169"/>
                </a:lnTo>
                <a:lnTo>
                  <a:pt x="984" y="180"/>
                </a:lnTo>
                <a:lnTo>
                  <a:pt x="981" y="194"/>
                </a:lnTo>
                <a:lnTo>
                  <a:pt x="977" y="209"/>
                </a:lnTo>
                <a:lnTo>
                  <a:pt x="973" y="224"/>
                </a:lnTo>
                <a:lnTo>
                  <a:pt x="967" y="242"/>
                </a:lnTo>
                <a:lnTo>
                  <a:pt x="963" y="259"/>
                </a:lnTo>
                <a:lnTo>
                  <a:pt x="958" y="280"/>
                </a:lnTo>
                <a:lnTo>
                  <a:pt x="952" y="301"/>
                </a:lnTo>
                <a:lnTo>
                  <a:pt x="944" y="322"/>
                </a:lnTo>
                <a:lnTo>
                  <a:pt x="936" y="345"/>
                </a:lnTo>
                <a:lnTo>
                  <a:pt x="931" y="370"/>
                </a:lnTo>
                <a:lnTo>
                  <a:pt x="923" y="397"/>
                </a:lnTo>
                <a:lnTo>
                  <a:pt x="913" y="424"/>
                </a:lnTo>
                <a:lnTo>
                  <a:pt x="906" y="451"/>
                </a:lnTo>
                <a:lnTo>
                  <a:pt x="896" y="480"/>
                </a:lnTo>
                <a:lnTo>
                  <a:pt x="888" y="510"/>
                </a:lnTo>
                <a:lnTo>
                  <a:pt x="877" y="541"/>
                </a:lnTo>
                <a:lnTo>
                  <a:pt x="865" y="572"/>
                </a:lnTo>
                <a:lnTo>
                  <a:pt x="852" y="600"/>
                </a:lnTo>
                <a:lnTo>
                  <a:pt x="840" y="627"/>
                </a:lnTo>
                <a:lnTo>
                  <a:pt x="827" y="656"/>
                </a:lnTo>
                <a:lnTo>
                  <a:pt x="814" y="683"/>
                </a:lnTo>
                <a:lnTo>
                  <a:pt x="800" y="708"/>
                </a:lnTo>
                <a:lnTo>
                  <a:pt x="785" y="733"/>
                </a:lnTo>
                <a:lnTo>
                  <a:pt x="769" y="758"/>
                </a:lnTo>
                <a:lnTo>
                  <a:pt x="756" y="781"/>
                </a:lnTo>
                <a:lnTo>
                  <a:pt x="739" y="804"/>
                </a:lnTo>
                <a:lnTo>
                  <a:pt x="723" y="827"/>
                </a:lnTo>
                <a:lnTo>
                  <a:pt x="706" y="850"/>
                </a:lnTo>
                <a:lnTo>
                  <a:pt x="691" y="871"/>
                </a:lnTo>
                <a:lnTo>
                  <a:pt x="672" y="892"/>
                </a:lnTo>
                <a:lnTo>
                  <a:pt x="654" y="911"/>
                </a:lnTo>
                <a:lnTo>
                  <a:pt x="635" y="934"/>
                </a:lnTo>
                <a:lnTo>
                  <a:pt x="616" y="956"/>
                </a:lnTo>
                <a:lnTo>
                  <a:pt x="595" y="975"/>
                </a:lnTo>
                <a:lnTo>
                  <a:pt x="574" y="994"/>
                </a:lnTo>
                <a:lnTo>
                  <a:pt x="553" y="1013"/>
                </a:lnTo>
                <a:lnTo>
                  <a:pt x="529" y="1030"/>
                </a:lnTo>
                <a:lnTo>
                  <a:pt x="505" y="1048"/>
                </a:lnTo>
                <a:lnTo>
                  <a:pt x="481" y="1065"/>
                </a:lnTo>
                <a:lnTo>
                  <a:pt x="457" y="1082"/>
                </a:lnTo>
                <a:lnTo>
                  <a:pt x="430" y="1098"/>
                </a:lnTo>
                <a:lnTo>
                  <a:pt x="403" y="1113"/>
                </a:lnTo>
                <a:lnTo>
                  <a:pt x="376" y="1126"/>
                </a:lnTo>
                <a:lnTo>
                  <a:pt x="347" y="1142"/>
                </a:lnTo>
                <a:lnTo>
                  <a:pt x="320" y="1155"/>
                </a:lnTo>
                <a:lnTo>
                  <a:pt x="290" y="1169"/>
                </a:lnTo>
                <a:lnTo>
                  <a:pt x="261" y="1184"/>
                </a:lnTo>
                <a:lnTo>
                  <a:pt x="232" y="1196"/>
                </a:lnTo>
                <a:lnTo>
                  <a:pt x="205" y="1207"/>
                </a:lnTo>
                <a:lnTo>
                  <a:pt x="178" y="1219"/>
                </a:lnTo>
                <a:lnTo>
                  <a:pt x="155" y="1228"/>
                </a:lnTo>
                <a:lnTo>
                  <a:pt x="132" y="1236"/>
                </a:lnTo>
                <a:lnTo>
                  <a:pt x="113" y="1243"/>
                </a:lnTo>
                <a:lnTo>
                  <a:pt x="94" y="1251"/>
                </a:lnTo>
                <a:lnTo>
                  <a:pt x="77" y="1255"/>
                </a:lnTo>
                <a:lnTo>
                  <a:pt x="61" y="1261"/>
                </a:lnTo>
                <a:lnTo>
                  <a:pt x="48" y="1265"/>
                </a:lnTo>
                <a:lnTo>
                  <a:pt x="36" y="1267"/>
                </a:lnTo>
                <a:lnTo>
                  <a:pt x="27" y="1268"/>
                </a:lnTo>
                <a:lnTo>
                  <a:pt x="17" y="1268"/>
                </a:lnTo>
                <a:lnTo>
                  <a:pt x="11" y="1268"/>
                </a:lnTo>
                <a:lnTo>
                  <a:pt x="5" y="1267"/>
                </a:lnTo>
                <a:lnTo>
                  <a:pt x="4" y="1267"/>
                </a:lnTo>
                <a:lnTo>
                  <a:pt x="2" y="1263"/>
                </a:lnTo>
                <a:lnTo>
                  <a:pt x="0" y="1261"/>
                </a:lnTo>
                <a:lnTo>
                  <a:pt x="2" y="1257"/>
                </a:lnTo>
                <a:lnTo>
                  <a:pt x="4" y="1253"/>
                </a:lnTo>
                <a:lnTo>
                  <a:pt x="5" y="1247"/>
                </a:lnTo>
                <a:lnTo>
                  <a:pt x="11" y="1243"/>
                </a:lnTo>
                <a:lnTo>
                  <a:pt x="17" y="1238"/>
                </a:lnTo>
                <a:lnTo>
                  <a:pt x="23" y="1232"/>
                </a:lnTo>
                <a:lnTo>
                  <a:pt x="30" y="1226"/>
                </a:lnTo>
                <a:lnTo>
                  <a:pt x="40" y="1219"/>
                </a:lnTo>
                <a:lnTo>
                  <a:pt x="52" y="1213"/>
                </a:lnTo>
                <a:lnTo>
                  <a:pt x="63" y="1205"/>
                </a:lnTo>
                <a:lnTo>
                  <a:pt x="77" y="1197"/>
                </a:lnTo>
                <a:lnTo>
                  <a:pt x="92" y="1188"/>
                </a:lnTo>
                <a:lnTo>
                  <a:pt x="109" y="1180"/>
                </a:lnTo>
                <a:lnTo>
                  <a:pt x="126" y="1172"/>
                </a:lnTo>
                <a:lnTo>
                  <a:pt x="144" y="1161"/>
                </a:lnTo>
                <a:lnTo>
                  <a:pt x="163" y="1148"/>
                </a:lnTo>
                <a:lnTo>
                  <a:pt x="182" y="1136"/>
                </a:lnTo>
                <a:lnTo>
                  <a:pt x="201" y="1123"/>
                </a:lnTo>
                <a:lnTo>
                  <a:pt x="220" y="1109"/>
                </a:lnTo>
                <a:lnTo>
                  <a:pt x="242" y="1096"/>
                </a:lnTo>
                <a:lnTo>
                  <a:pt x="261" y="1080"/>
                </a:lnTo>
                <a:lnTo>
                  <a:pt x="282" y="1065"/>
                </a:lnTo>
                <a:lnTo>
                  <a:pt x="301" y="1050"/>
                </a:lnTo>
                <a:lnTo>
                  <a:pt x="322" y="1034"/>
                </a:lnTo>
                <a:lnTo>
                  <a:pt x="343" y="1017"/>
                </a:lnTo>
                <a:lnTo>
                  <a:pt x="362" y="1000"/>
                </a:lnTo>
                <a:lnTo>
                  <a:pt x="384" y="981"/>
                </a:lnTo>
                <a:lnTo>
                  <a:pt x="405" y="963"/>
                </a:lnTo>
                <a:lnTo>
                  <a:pt x="426" y="944"/>
                </a:lnTo>
                <a:lnTo>
                  <a:pt x="445" y="923"/>
                </a:lnTo>
                <a:lnTo>
                  <a:pt x="466" y="904"/>
                </a:lnTo>
                <a:lnTo>
                  <a:pt x="485" y="883"/>
                </a:lnTo>
                <a:lnTo>
                  <a:pt x="505" y="862"/>
                </a:lnTo>
                <a:lnTo>
                  <a:pt x="524" y="840"/>
                </a:lnTo>
                <a:lnTo>
                  <a:pt x="541" y="819"/>
                </a:lnTo>
                <a:lnTo>
                  <a:pt x="558" y="798"/>
                </a:lnTo>
                <a:lnTo>
                  <a:pt x="576" y="777"/>
                </a:lnTo>
                <a:lnTo>
                  <a:pt x="591" y="756"/>
                </a:lnTo>
                <a:lnTo>
                  <a:pt x="606" y="733"/>
                </a:lnTo>
                <a:lnTo>
                  <a:pt x="622" y="710"/>
                </a:lnTo>
                <a:lnTo>
                  <a:pt x="635" y="689"/>
                </a:lnTo>
                <a:lnTo>
                  <a:pt x="648" y="666"/>
                </a:lnTo>
                <a:lnTo>
                  <a:pt x="660" y="641"/>
                </a:lnTo>
                <a:lnTo>
                  <a:pt x="672" y="618"/>
                </a:lnTo>
                <a:lnTo>
                  <a:pt x="681" y="595"/>
                </a:lnTo>
                <a:lnTo>
                  <a:pt x="691" y="570"/>
                </a:lnTo>
                <a:lnTo>
                  <a:pt x="700" y="545"/>
                </a:lnTo>
                <a:lnTo>
                  <a:pt x="708" y="522"/>
                </a:lnTo>
                <a:lnTo>
                  <a:pt x="718" y="499"/>
                </a:lnTo>
                <a:lnTo>
                  <a:pt x="725" y="476"/>
                </a:lnTo>
                <a:lnTo>
                  <a:pt x="733" y="455"/>
                </a:lnTo>
                <a:lnTo>
                  <a:pt x="741" y="433"/>
                </a:lnTo>
                <a:lnTo>
                  <a:pt x="754" y="391"/>
                </a:lnTo>
                <a:lnTo>
                  <a:pt x="766" y="351"/>
                </a:lnTo>
                <a:lnTo>
                  <a:pt x="771" y="332"/>
                </a:lnTo>
                <a:lnTo>
                  <a:pt x="775" y="313"/>
                </a:lnTo>
                <a:lnTo>
                  <a:pt x="781" y="293"/>
                </a:lnTo>
                <a:lnTo>
                  <a:pt x="785" y="276"/>
                </a:lnTo>
                <a:lnTo>
                  <a:pt x="787" y="257"/>
                </a:lnTo>
                <a:lnTo>
                  <a:pt x="791" y="240"/>
                </a:lnTo>
                <a:lnTo>
                  <a:pt x="792" y="222"/>
                </a:lnTo>
                <a:lnTo>
                  <a:pt x="792" y="205"/>
                </a:lnTo>
                <a:lnTo>
                  <a:pt x="794" y="190"/>
                </a:lnTo>
                <a:lnTo>
                  <a:pt x="794" y="174"/>
                </a:lnTo>
                <a:lnTo>
                  <a:pt x="794" y="161"/>
                </a:lnTo>
                <a:lnTo>
                  <a:pt x="794" y="147"/>
                </a:lnTo>
                <a:lnTo>
                  <a:pt x="792" y="136"/>
                </a:lnTo>
                <a:lnTo>
                  <a:pt x="791" y="122"/>
                </a:lnTo>
                <a:lnTo>
                  <a:pt x="789" y="113"/>
                </a:lnTo>
                <a:lnTo>
                  <a:pt x="787" y="101"/>
                </a:lnTo>
                <a:lnTo>
                  <a:pt x="785" y="92"/>
                </a:lnTo>
                <a:lnTo>
                  <a:pt x="781" y="82"/>
                </a:lnTo>
                <a:lnTo>
                  <a:pt x="777" y="73"/>
                </a:lnTo>
                <a:lnTo>
                  <a:pt x="773" y="65"/>
                </a:lnTo>
                <a:lnTo>
                  <a:pt x="769" y="57"/>
                </a:lnTo>
                <a:lnTo>
                  <a:pt x="766" y="51"/>
                </a:lnTo>
                <a:lnTo>
                  <a:pt x="762" y="48"/>
                </a:lnTo>
                <a:lnTo>
                  <a:pt x="758" y="42"/>
                </a:lnTo>
                <a:lnTo>
                  <a:pt x="754" y="38"/>
                </a:lnTo>
                <a:lnTo>
                  <a:pt x="752" y="36"/>
                </a:lnTo>
                <a:lnTo>
                  <a:pt x="750" y="32"/>
                </a:lnTo>
                <a:lnTo>
                  <a:pt x="748" y="28"/>
                </a:lnTo>
                <a:lnTo>
                  <a:pt x="748" y="27"/>
                </a:lnTo>
                <a:lnTo>
                  <a:pt x="748" y="23"/>
                </a:lnTo>
                <a:lnTo>
                  <a:pt x="748" y="21"/>
                </a:lnTo>
                <a:lnTo>
                  <a:pt x="750" y="17"/>
                </a:lnTo>
                <a:lnTo>
                  <a:pt x="754" y="15"/>
                </a:lnTo>
                <a:lnTo>
                  <a:pt x="756" y="13"/>
                </a:lnTo>
                <a:lnTo>
                  <a:pt x="760" y="11"/>
                </a:lnTo>
                <a:lnTo>
                  <a:pt x="766" y="9"/>
                </a:lnTo>
                <a:lnTo>
                  <a:pt x="771" y="5"/>
                </a:lnTo>
                <a:lnTo>
                  <a:pt x="777" y="3"/>
                </a:lnTo>
                <a:lnTo>
                  <a:pt x="781" y="2"/>
                </a:lnTo>
                <a:lnTo>
                  <a:pt x="787" y="0"/>
                </a:lnTo>
                <a:lnTo>
                  <a:pt x="792" y="0"/>
                </a:lnTo>
                <a:lnTo>
                  <a:pt x="798" y="0"/>
                </a:lnTo>
                <a:lnTo>
                  <a:pt x="804" y="0"/>
                </a:lnTo>
                <a:lnTo>
                  <a:pt x="812" y="0"/>
                </a:lnTo>
                <a:lnTo>
                  <a:pt x="817" y="2"/>
                </a:lnTo>
                <a:lnTo>
                  <a:pt x="825" y="3"/>
                </a:lnTo>
                <a:lnTo>
                  <a:pt x="833" y="5"/>
                </a:lnTo>
                <a:lnTo>
                  <a:pt x="840" y="9"/>
                </a:lnTo>
                <a:lnTo>
                  <a:pt x="850" y="13"/>
                </a:lnTo>
                <a:lnTo>
                  <a:pt x="860" y="17"/>
                </a:lnTo>
                <a:lnTo>
                  <a:pt x="869" y="21"/>
                </a:lnTo>
                <a:lnTo>
                  <a:pt x="879" y="27"/>
                </a:lnTo>
                <a:lnTo>
                  <a:pt x="888" y="32"/>
                </a:lnTo>
                <a:lnTo>
                  <a:pt x="900"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Freeform 132"/>
          <p:cNvSpPr/>
          <p:nvPr/>
        </p:nvSpPr>
        <p:spPr>
          <a:xfrm>
            <a:off x="7024680" y="4578480"/>
            <a:ext cx="495360" cy="488880"/>
          </a:xfrm>
          <a:custGeom>
            <a:avLst/>
            <a:gdLst/>
            <a:ahLst/>
            <a:rect l="l" t="t" r="r" b="b"/>
            <a:pathLst>
              <a:path w="624" h="616">
                <a:moveTo>
                  <a:pt x="501" y="296"/>
                </a:moveTo>
                <a:lnTo>
                  <a:pt x="515" y="311"/>
                </a:lnTo>
                <a:lnTo>
                  <a:pt x="526" y="327"/>
                </a:lnTo>
                <a:lnTo>
                  <a:pt x="540" y="340"/>
                </a:lnTo>
                <a:lnTo>
                  <a:pt x="549" y="355"/>
                </a:lnTo>
                <a:lnTo>
                  <a:pt x="559" y="369"/>
                </a:lnTo>
                <a:lnTo>
                  <a:pt x="568" y="384"/>
                </a:lnTo>
                <a:lnTo>
                  <a:pt x="578" y="398"/>
                </a:lnTo>
                <a:lnTo>
                  <a:pt x="586" y="411"/>
                </a:lnTo>
                <a:lnTo>
                  <a:pt x="593" y="424"/>
                </a:lnTo>
                <a:lnTo>
                  <a:pt x="599" y="436"/>
                </a:lnTo>
                <a:lnTo>
                  <a:pt x="605" y="449"/>
                </a:lnTo>
                <a:lnTo>
                  <a:pt x="611" y="461"/>
                </a:lnTo>
                <a:lnTo>
                  <a:pt x="614" y="472"/>
                </a:lnTo>
                <a:lnTo>
                  <a:pt x="618" y="484"/>
                </a:lnTo>
                <a:lnTo>
                  <a:pt x="622" y="496"/>
                </a:lnTo>
                <a:lnTo>
                  <a:pt x="624" y="507"/>
                </a:lnTo>
                <a:lnTo>
                  <a:pt x="624" y="519"/>
                </a:lnTo>
                <a:lnTo>
                  <a:pt x="624" y="528"/>
                </a:lnTo>
                <a:lnTo>
                  <a:pt x="622" y="538"/>
                </a:lnTo>
                <a:lnTo>
                  <a:pt x="622" y="547"/>
                </a:lnTo>
                <a:lnTo>
                  <a:pt x="620" y="555"/>
                </a:lnTo>
                <a:lnTo>
                  <a:pt x="620" y="565"/>
                </a:lnTo>
                <a:lnTo>
                  <a:pt x="618" y="570"/>
                </a:lnTo>
                <a:lnTo>
                  <a:pt x="616" y="578"/>
                </a:lnTo>
                <a:lnTo>
                  <a:pt x="614" y="584"/>
                </a:lnTo>
                <a:lnTo>
                  <a:pt x="613" y="590"/>
                </a:lnTo>
                <a:lnTo>
                  <a:pt x="611" y="595"/>
                </a:lnTo>
                <a:lnTo>
                  <a:pt x="609" y="601"/>
                </a:lnTo>
                <a:lnTo>
                  <a:pt x="607" y="605"/>
                </a:lnTo>
                <a:lnTo>
                  <a:pt x="605" y="609"/>
                </a:lnTo>
                <a:lnTo>
                  <a:pt x="601" y="611"/>
                </a:lnTo>
                <a:lnTo>
                  <a:pt x="599" y="615"/>
                </a:lnTo>
                <a:lnTo>
                  <a:pt x="595" y="615"/>
                </a:lnTo>
                <a:lnTo>
                  <a:pt x="590" y="616"/>
                </a:lnTo>
                <a:lnTo>
                  <a:pt x="584" y="616"/>
                </a:lnTo>
                <a:lnTo>
                  <a:pt x="578" y="616"/>
                </a:lnTo>
                <a:lnTo>
                  <a:pt x="572" y="615"/>
                </a:lnTo>
                <a:lnTo>
                  <a:pt x="566" y="613"/>
                </a:lnTo>
                <a:lnTo>
                  <a:pt x="561" y="611"/>
                </a:lnTo>
                <a:lnTo>
                  <a:pt x="553" y="609"/>
                </a:lnTo>
                <a:lnTo>
                  <a:pt x="545" y="605"/>
                </a:lnTo>
                <a:lnTo>
                  <a:pt x="540" y="601"/>
                </a:lnTo>
                <a:lnTo>
                  <a:pt x="532" y="595"/>
                </a:lnTo>
                <a:lnTo>
                  <a:pt x="524" y="591"/>
                </a:lnTo>
                <a:lnTo>
                  <a:pt x="507" y="580"/>
                </a:lnTo>
                <a:lnTo>
                  <a:pt x="490" y="567"/>
                </a:lnTo>
                <a:lnTo>
                  <a:pt x="480" y="559"/>
                </a:lnTo>
                <a:lnTo>
                  <a:pt x="469" y="551"/>
                </a:lnTo>
                <a:lnTo>
                  <a:pt x="457" y="540"/>
                </a:lnTo>
                <a:lnTo>
                  <a:pt x="446" y="528"/>
                </a:lnTo>
                <a:lnTo>
                  <a:pt x="432" y="517"/>
                </a:lnTo>
                <a:lnTo>
                  <a:pt x="417" y="503"/>
                </a:lnTo>
                <a:lnTo>
                  <a:pt x="401" y="488"/>
                </a:lnTo>
                <a:lnTo>
                  <a:pt x="386" y="471"/>
                </a:lnTo>
                <a:lnTo>
                  <a:pt x="369" y="453"/>
                </a:lnTo>
                <a:lnTo>
                  <a:pt x="350" y="434"/>
                </a:lnTo>
                <a:lnTo>
                  <a:pt x="330" y="415"/>
                </a:lnTo>
                <a:lnTo>
                  <a:pt x="311" y="394"/>
                </a:lnTo>
                <a:lnTo>
                  <a:pt x="288" y="371"/>
                </a:lnTo>
                <a:lnTo>
                  <a:pt x="267" y="346"/>
                </a:lnTo>
                <a:lnTo>
                  <a:pt x="244" y="321"/>
                </a:lnTo>
                <a:lnTo>
                  <a:pt x="219" y="296"/>
                </a:lnTo>
                <a:lnTo>
                  <a:pt x="194" y="269"/>
                </a:lnTo>
                <a:lnTo>
                  <a:pt x="171" y="244"/>
                </a:lnTo>
                <a:lnTo>
                  <a:pt x="150" y="221"/>
                </a:lnTo>
                <a:lnTo>
                  <a:pt x="131" y="200"/>
                </a:lnTo>
                <a:lnTo>
                  <a:pt x="113" y="179"/>
                </a:lnTo>
                <a:lnTo>
                  <a:pt x="96" y="160"/>
                </a:lnTo>
                <a:lnTo>
                  <a:pt x="81" y="142"/>
                </a:lnTo>
                <a:lnTo>
                  <a:pt x="67" y="127"/>
                </a:lnTo>
                <a:lnTo>
                  <a:pt x="56" y="112"/>
                </a:lnTo>
                <a:lnTo>
                  <a:pt x="46" y="98"/>
                </a:lnTo>
                <a:lnTo>
                  <a:pt x="37" y="87"/>
                </a:lnTo>
                <a:lnTo>
                  <a:pt x="29" y="77"/>
                </a:lnTo>
                <a:lnTo>
                  <a:pt x="21" y="67"/>
                </a:lnTo>
                <a:lnTo>
                  <a:pt x="16" y="60"/>
                </a:lnTo>
                <a:lnTo>
                  <a:pt x="12" y="52"/>
                </a:lnTo>
                <a:lnTo>
                  <a:pt x="10" y="48"/>
                </a:lnTo>
                <a:lnTo>
                  <a:pt x="6" y="39"/>
                </a:lnTo>
                <a:lnTo>
                  <a:pt x="2" y="33"/>
                </a:lnTo>
                <a:lnTo>
                  <a:pt x="0" y="25"/>
                </a:lnTo>
                <a:lnTo>
                  <a:pt x="0" y="19"/>
                </a:lnTo>
                <a:lnTo>
                  <a:pt x="0" y="14"/>
                </a:lnTo>
                <a:lnTo>
                  <a:pt x="2" y="10"/>
                </a:lnTo>
                <a:lnTo>
                  <a:pt x="6" y="4"/>
                </a:lnTo>
                <a:lnTo>
                  <a:pt x="10" y="0"/>
                </a:lnTo>
                <a:lnTo>
                  <a:pt x="12" y="0"/>
                </a:lnTo>
                <a:lnTo>
                  <a:pt x="16" y="2"/>
                </a:lnTo>
                <a:lnTo>
                  <a:pt x="21" y="2"/>
                </a:lnTo>
                <a:lnTo>
                  <a:pt x="29" y="4"/>
                </a:lnTo>
                <a:lnTo>
                  <a:pt x="37" y="8"/>
                </a:lnTo>
                <a:lnTo>
                  <a:pt x="46" y="10"/>
                </a:lnTo>
                <a:lnTo>
                  <a:pt x="56" y="14"/>
                </a:lnTo>
                <a:lnTo>
                  <a:pt x="67" y="19"/>
                </a:lnTo>
                <a:lnTo>
                  <a:pt x="81" y="25"/>
                </a:lnTo>
                <a:lnTo>
                  <a:pt x="96" y="31"/>
                </a:lnTo>
                <a:lnTo>
                  <a:pt x="113" y="37"/>
                </a:lnTo>
                <a:lnTo>
                  <a:pt x="131" y="44"/>
                </a:lnTo>
                <a:lnTo>
                  <a:pt x="150" y="52"/>
                </a:lnTo>
                <a:lnTo>
                  <a:pt x="171" y="62"/>
                </a:lnTo>
                <a:lnTo>
                  <a:pt x="194" y="71"/>
                </a:lnTo>
                <a:lnTo>
                  <a:pt x="219" y="83"/>
                </a:lnTo>
                <a:lnTo>
                  <a:pt x="242" y="94"/>
                </a:lnTo>
                <a:lnTo>
                  <a:pt x="263" y="106"/>
                </a:lnTo>
                <a:lnTo>
                  <a:pt x="284" y="117"/>
                </a:lnTo>
                <a:lnTo>
                  <a:pt x="305" y="129"/>
                </a:lnTo>
                <a:lnTo>
                  <a:pt x="327" y="142"/>
                </a:lnTo>
                <a:lnTo>
                  <a:pt x="346" y="154"/>
                </a:lnTo>
                <a:lnTo>
                  <a:pt x="365" y="167"/>
                </a:lnTo>
                <a:lnTo>
                  <a:pt x="382" y="181"/>
                </a:lnTo>
                <a:lnTo>
                  <a:pt x="401" y="194"/>
                </a:lnTo>
                <a:lnTo>
                  <a:pt x="417" y="208"/>
                </a:lnTo>
                <a:lnTo>
                  <a:pt x="434" y="221"/>
                </a:lnTo>
                <a:lnTo>
                  <a:pt x="449" y="236"/>
                </a:lnTo>
                <a:lnTo>
                  <a:pt x="463" y="250"/>
                </a:lnTo>
                <a:lnTo>
                  <a:pt x="476" y="265"/>
                </a:lnTo>
                <a:lnTo>
                  <a:pt x="490" y="281"/>
                </a:lnTo>
                <a:lnTo>
                  <a:pt x="501" y="2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Freeform 133"/>
          <p:cNvSpPr/>
          <p:nvPr/>
        </p:nvSpPr>
        <p:spPr>
          <a:xfrm>
            <a:off x="6573960" y="3800520"/>
            <a:ext cx="888840" cy="787320"/>
          </a:xfrm>
          <a:custGeom>
            <a:avLst/>
            <a:gdLst/>
            <a:ahLst/>
            <a:rect l="l" t="t" r="r" b="b"/>
            <a:pathLst>
              <a:path w="1119" h="993">
                <a:moveTo>
                  <a:pt x="1019" y="390"/>
                </a:moveTo>
                <a:lnTo>
                  <a:pt x="1019" y="532"/>
                </a:lnTo>
                <a:lnTo>
                  <a:pt x="1019" y="672"/>
                </a:lnTo>
                <a:lnTo>
                  <a:pt x="1019" y="707"/>
                </a:lnTo>
                <a:lnTo>
                  <a:pt x="1017" y="741"/>
                </a:lnTo>
                <a:lnTo>
                  <a:pt x="1015" y="774"/>
                </a:lnTo>
                <a:lnTo>
                  <a:pt x="1010" y="805"/>
                </a:lnTo>
                <a:lnTo>
                  <a:pt x="1006" y="833"/>
                </a:lnTo>
                <a:lnTo>
                  <a:pt x="1000" y="860"/>
                </a:lnTo>
                <a:lnTo>
                  <a:pt x="996" y="874"/>
                </a:lnTo>
                <a:lnTo>
                  <a:pt x="992" y="885"/>
                </a:lnTo>
                <a:lnTo>
                  <a:pt x="989" y="897"/>
                </a:lnTo>
                <a:lnTo>
                  <a:pt x="983" y="908"/>
                </a:lnTo>
                <a:lnTo>
                  <a:pt x="979" y="920"/>
                </a:lnTo>
                <a:lnTo>
                  <a:pt x="973" y="929"/>
                </a:lnTo>
                <a:lnTo>
                  <a:pt x="969" y="939"/>
                </a:lnTo>
                <a:lnTo>
                  <a:pt x="966" y="949"/>
                </a:lnTo>
                <a:lnTo>
                  <a:pt x="960" y="956"/>
                </a:lnTo>
                <a:lnTo>
                  <a:pt x="956" y="964"/>
                </a:lnTo>
                <a:lnTo>
                  <a:pt x="952" y="972"/>
                </a:lnTo>
                <a:lnTo>
                  <a:pt x="948" y="977"/>
                </a:lnTo>
                <a:lnTo>
                  <a:pt x="944" y="981"/>
                </a:lnTo>
                <a:lnTo>
                  <a:pt x="941" y="987"/>
                </a:lnTo>
                <a:lnTo>
                  <a:pt x="937" y="989"/>
                </a:lnTo>
                <a:lnTo>
                  <a:pt x="933" y="993"/>
                </a:lnTo>
                <a:lnTo>
                  <a:pt x="929" y="993"/>
                </a:lnTo>
                <a:lnTo>
                  <a:pt x="927" y="993"/>
                </a:lnTo>
                <a:lnTo>
                  <a:pt x="923" y="993"/>
                </a:lnTo>
                <a:lnTo>
                  <a:pt x="921" y="991"/>
                </a:lnTo>
                <a:lnTo>
                  <a:pt x="914" y="987"/>
                </a:lnTo>
                <a:lnTo>
                  <a:pt x="906" y="983"/>
                </a:lnTo>
                <a:lnTo>
                  <a:pt x="898" y="977"/>
                </a:lnTo>
                <a:lnTo>
                  <a:pt x="895" y="974"/>
                </a:lnTo>
                <a:lnTo>
                  <a:pt x="891" y="970"/>
                </a:lnTo>
                <a:lnTo>
                  <a:pt x="887" y="964"/>
                </a:lnTo>
                <a:lnTo>
                  <a:pt x="885" y="960"/>
                </a:lnTo>
                <a:lnTo>
                  <a:pt x="885" y="956"/>
                </a:lnTo>
                <a:lnTo>
                  <a:pt x="885" y="950"/>
                </a:lnTo>
                <a:lnTo>
                  <a:pt x="885" y="945"/>
                </a:lnTo>
                <a:lnTo>
                  <a:pt x="885" y="937"/>
                </a:lnTo>
                <a:lnTo>
                  <a:pt x="883" y="927"/>
                </a:lnTo>
                <a:lnTo>
                  <a:pt x="881" y="916"/>
                </a:lnTo>
                <a:lnTo>
                  <a:pt x="881" y="910"/>
                </a:lnTo>
                <a:lnTo>
                  <a:pt x="879" y="904"/>
                </a:lnTo>
                <a:lnTo>
                  <a:pt x="877" y="897"/>
                </a:lnTo>
                <a:lnTo>
                  <a:pt x="877" y="889"/>
                </a:lnTo>
                <a:lnTo>
                  <a:pt x="875" y="881"/>
                </a:lnTo>
                <a:lnTo>
                  <a:pt x="873" y="874"/>
                </a:lnTo>
                <a:lnTo>
                  <a:pt x="864" y="847"/>
                </a:lnTo>
                <a:lnTo>
                  <a:pt x="860" y="833"/>
                </a:lnTo>
                <a:lnTo>
                  <a:pt x="856" y="822"/>
                </a:lnTo>
                <a:lnTo>
                  <a:pt x="852" y="810"/>
                </a:lnTo>
                <a:lnTo>
                  <a:pt x="850" y="799"/>
                </a:lnTo>
                <a:lnTo>
                  <a:pt x="848" y="787"/>
                </a:lnTo>
                <a:lnTo>
                  <a:pt x="848" y="780"/>
                </a:lnTo>
                <a:lnTo>
                  <a:pt x="848" y="776"/>
                </a:lnTo>
                <a:lnTo>
                  <a:pt x="848" y="774"/>
                </a:lnTo>
                <a:lnTo>
                  <a:pt x="848" y="770"/>
                </a:lnTo>
                <a:lnTo>
                  <a:pt x="850" y="766"/>
                </a:lnTo>
                <a:lnTo>
                  <a:pt x="850" y="760"/>
                </a:lnTo>
                <a:lnTo>
                  <a:pt x="852" y="757"/>
                </a:lnTo>
                <a:lnTo>
                  <a:pt x="854" y="749"/>
                </a:lnTo>
                <a:lnTo>
                  <a:pt x="856" y="743"/>
                </a:lnTo>
                <a:lnTo>
                  <a:pt x="858" y="737"/>
                </a:lnTo>
                <a:lnTo>
                  <a:pt x="860" y="730"/>
                </a:lnTo>
                <a:lnTo>
                  <a:pt x="862" y="722"/>
                </a:lnTo>
                <a:lnTo>
                  <a:pt x="864" y="712"/>
                </a:lnTo>
                <a:lnTo>
                  <a:pt x="866" y="703"/>
                </a:lnTo>
                <a:lnTo>
                  <a:pt x="868" y="693"/>
                </a:lnTo>
                <a:lnTo>
                  <a:pt x="870" y="684"/>
                </a:lnTo>
                <a:lnTo>
                  <a:pt x="873" y="672"/>
                </a:lnTo>
                <a:lnTo>
                  <a:pt x="875" y="663"/>
                </a:lnTo>
                <a:lnTo>
                  <a:pt x="877" y="653"/>
                </a:lnTo>
                <a:lnTo>
                  <a:pt x="877" y="641"/>
                </a:lnTo>
                <a:lnTo>
                  <a:pt x="879" y="628"/>
                </a:lnTo>
                <a:lnTo>
                  <a:pt x="881" y="615"/>
                </a:lnTo>
                <a:lnTo>
                  <a:pt x="881" y="601"/>
                </a:lnTo>
                <a:lnTo>
                  <a:pt x="883" y="584"/>
                </a:lnTo>
                <a:lnTo>
                  <a:pt x="883" y="569"/>
                </a:lnTo>
                <a:lnTo>
                  <a:pt x="883" y="551"/>
                </a:lnTo>
                <a:lnTo>
                  <a:pt x="885" y="532"/>
                </a:lnTo>
                <a:lnTo>
                  <a:pt x="885" y="513"/>
                </a:lnTo>
                <a:lnTo>
                  <a:pt x="885" y="492"/>
                </a:lnTo>
                <a:lnTo>
                  <a:pt x="885" y="471"/>
                </a:lnTo>
                <a:lnTo>
                  <a:pt x="885" y="448"/>
                </a:lnTo>
                <a:lnTo>
                  <a:pt x="885" y="425"/>
                </a:lnTo>
                <a:lnTo>
                  <a:pt x="885" y="402"/>
                </a:lnTo>
                <a:lnTo>
                  <a:pt x="885" y="378"/>
                </a:lnTo>
                <a:lnTo>
                  <a:pt x="885" y="355"/>
                </a:lnTo>
                <a:lnTo>
                  <a:pt x="883" y="334"/>
                </a:lnTo>
                <a:lnTo>
                  <a:pt x="883" y="313"/>
                </a:lnTo>
                <a:lnTo>
                  <a:pt x="881" y="294"/>
                </a:lnTo>
                <a:lnTo>
                  <a:pt x="881" y="277"/>
                </a:lnTo>
                <a:lnTo>
                  <a:pt x="879" y="259"/>
                </a:lnTo>
                <a:lnTo>
                  <a:pt x="877" y="244"/>
                </a:lnTo>
                <a:lnTo>
                  <a:pt x="875" y="229"/>
                </a:lnTo>
                <a:lnTo>
                  <a:pt x="873" y="217"/>
                </a:lnTo>
                <a:lnTo>
                  <a:pt x="872" y="206"/>
                </a:lnTo>
                <a:lnTo>
                  <a:pt x="870" y="194"/>
                </a:lnTo>
                <a:lnTo>
                  <a:pt x="868" y="185"/>
                </a:lnTo>
                <a:lnTo>
                  <a:pt x="864" y="177"/>
                </a:lnTo>
                <a:lnTo>
                  <a:pt x="862" y="171"/>
                </a:lnTo>
                <a:lnTo>
                  <a:pt x="860" y="165"/>
                </a:lnTo>
                <a:lnTo>
                  <a:pt x="854" y="163"/>
                </a:lnTo>
                <a:lnTo>
                  <a:pt x="850" y="162"/>
                </a:lnTo>
                <a:lnTo>
                  <a:pt x="845" y="160"/>
                </a:lnTo>
                <a:lnTo>
                  <a:pt x="837" y="158"/>
                </a:lnTo>
                <a:lnTo>
                  <a:pt x="829" y="156"/>
                </a:lnTo>
                <a:lnTo>
                  <a:pt x="822" y="154"/>
                </a:lnTo>
                <a:lnTo>
                  <a:pt x="814" y="152"/>
                </a:lnTo>
                <a:lnTo>
                  <a:pt x="804" y="150"/>
                </a:lnTo>
                <a:lnTo>
                  <a:pt x="795" y="148"/>
                </a:lnTo>
                <a:lnTo>
                  <a:pt x="785" y="146"/>
                </a:lnTo>
                <a:lnTo>
                  <a:pt x="776" y="144"/>
                </a:lnTo>
                <a:lnTo>
                  <a:pt x="764" y="144"/>
                </a:lnTo>
                <a:lnTo>
                  <a:pt x="753" y="142"/>
                </a:lnTo>
                <a:lnTo>
                  <a:pt x="739" y="142"/>
                </a:lnTo>
                <a:lnTo>
                  <a:pt x="726" y="142"/>
                </a:lnTo>
                <a:lnTo>
                  <a:pt x="712" y="142"/>
                </a:lnTo>
                <a:lnTo>
                  <a:pt x="705" y="142"/>
                </a:lnTo>
                <a:lnTo>
                  <a:pt x="695" y="144"/>
                </a:lnTo>
                <a:lnTo>
                  <a:pt x="685" y="146"/>
                </a:lnTo>
                <a:lnTo>
                  <a:pt x="674" y="146"/>
                </a:lnTo>
                <a:lnTo>
                  <a:pt x="662" y="148"/>
                </a:lnTo>
                <a:lnTo>
                  <a:pt x="651" y="150"/>
                </a:lnTo>
                <a:lnTo>
                  <a:pt x="637" y="152"/>
                </a:lnTo>
                <a:lnTo>
                  <a:pt x="622" y="154"/>
                </a:lnTo>
                <a:lnTo>
                  <a:pt x="609" y="156"/>
                </a:lnTo>
                <a:lnTo>
                  <a:pt x="593" y="158"/>
                </a:lnTo>
                <a:lnTo>
                  <a:pt x="576" y="160"/>
                </a:lnTo>
                <a:lnTo>
                  <a:pt x="559" y="162"/>
                </a:lnTo>
                <a:lnTo>
                  <a:pt x="541" y="163"/>
                </a:lnTo>
                <a:lnTo>
                  <a:pt x="522" y="165"/>
                </a:lnTo>
                <a:lnTo>
                  <a:pt x="503" y="169"/>
                </a:lnTo>
                <a:lnTo>
                  <a:pt x="482" y="171"/>
                </a:lnTo>
                <a:lnTo>
                  <a:pt x="461" y="175"/>
                </a:lnTo>
                <a:lnTo>
                  <a:pt x="440" y="177"/>
                </a:lnTo>
                <a:lnTo>
                  <a:pt x="417" y="181"/>
                </a:lnTo>
                <a:lnTo>
                  <a:pt x="394" y="183"/>
                </a:lnTo>
                <a:lnTo>
                  <a:pt x="369" y="187"/>
                </a:lnTo>
                <a:lnTo>
                  <a:pt x="344" y="190"/>
                </a:lnTo>
                <a:lnTo>
                  <a:pt x="317" y="194"/>
                </a:lnTo>
                <a:lnTo>
                  <a:pt x="290" y="198"/>
                </a:lnTo>
                <a:lnTo>
                  <a:pt x="263" y="202"/>
                </a:lnTo>
                <a:lnTo>
                  <a:pt x="234" y="206"/>
                </a:lnTo>
                <a:lnTo>
                  <a:pt x="205" y="211"/>
                </a:lnTo>
                <a:lnTo>
                  <a:pt x="177" y="215"/>
                </a:lnTo>
                <a:lnTo>
                  <a:pt x="146" y="221"/>
                </a:lnTo>
                <a:lnTo>
                  <a:pt x="113" y="225"/>
                </a:lnTo>
                <a:lnTo>
                  <a:pt x="81" y="231"/>
                </a:lnTo>
                <a:lnTo>
                  <a:pt x="48" y="236"/>
                </a:lnTo>
                <a:lnTo>
                  <a:pt x="25" y="183"/>
                </a:lnTo>
                <a:lnTo>
                  <a:pt x="0" y="131"/>
                </a:lnTo>
                <a:lnTo>
                  <a:pt x="25" y="131"/>
                </a:lnTo>
                <a:lnTo>
                  <a:pt x="52" y="129"/>
                </a:lnTo>
                <a:lnTo>
                  <a:pt x="79" y="129"/>
                </a:lnTo>
                <a:lnTo>
                  <a:pt x="106" y="129"/>
                </a:lnTo>
                <a:lnTo>
                  <a:pt x="134" y="127"/>
                </a:lnTo>
                <a:lnTo>
                  <a:pt x="163" y="125"/>
                </a:lnTo>
                <a:lnTo>
                  <a:pt x="192" y="123"/>
                </a:lnTo>
                <a:lnTo>
                  <a:pt x="223" y="121"/>
                </a:lnTo>
                <a:lnTo>
                  <a:pt x="253" y="117"/>
                </a:lnTo>
                <a:lnTo>
                  <a:pt x="284" y="114"/>
                </a:lnTo>
                <a:lnTo>
                  <a:pt x="317" y="110"/>
                </a:lnTo>
                <a:lnTo>
                  <a:pt x="351" y="106"/>
                </a:lnTo>
                <a:lnTo>
                  <a:pt x="384" y="100"/>
                </a:lnTo>
                <a:lnTo>
                  <a:pt x="419" y="96"/>
                </a:lnTo>
                <a:lnTo>
                  <a:pt x="455" y="91"/>
                </a:lnTo>
                <a:lnTo>
                  <a:pt x="491" y="83"/>
                </a:lnTo>
                <a:lnTo>
                  <a:pt x="509" y="81"/>
                </a:lnTo>
                <a:lnTo>
                  <a:pt x="528" y="77"/>
                </a:lnTo>
                <a:lnTo>
                  <a:pt x="545" y="73"/>
                </a:lnTo>
                <a:lnTo>
                  <a:pt x="561" y="69"/>
                </a:lnTo>
                <a:lnTo>
                  <a:pt x="578" y="68"/>
                </a:lnTo>
                <a:lnTo>
                  <a:pt x="593" y="64"/>
                </a:lnTo>
                <a:lnTo>
                  <a:pt x="609" y="62"/>
                </a:lnTo>
                <a:lnTo>
                  <a:pt x="622" y="58"/>
                </a:lnTo>
                <a:lnTo>
                  <a:pt x="637" y="56"/>
                </a:lnTo>
                <a:lnTo>
                  <a:pt x="651" y="54"/>
                </a:lnTo>
                <a:lnTo>
                  <a:pt x="678" y="48"/>
                </a:lnTo>
                <a:lnTo>
                  <a:pt x="701" y="43"/>
                </a:lnTo>
                <a:lnTo>
                  <a:pt x="724" y="39"/>
                </a:lnTo>
                <a:lnTo>
                  <a:pt x="743" y="35"/>
                </a:lnTo>
                <a:lnTo>
                  <a:pt x="762" y="31"/>
                </a:lnTo>
                <a:lnTo>
                  <a:pt x="779" y="27"/>
                </a:lnTo>
                <a:lnTo>
                  <a:pt x="795" y="23"/>
                </a:lnTo>
                <a:lnTo>
                  <a:pt x="806" y="20"/>
                </a:lnTo>
                <a:lnTo>
                  <a:pt x="818" y="18"/>
                </a:lnTo>
                <a:lnTo>
                  <a:pt x="827" y="16"/>
                </a:lnTo>
                <a:lnTo>
                  <a:pt x="835" y="12"/>
                </a:lnTo>
                <a:lnTo>
                  <a:pt x="848" y="8"/>
                </a:lnTo>
                <a:lnTo>
                  <a:pt x="862" y="6"/>
                </a:lnTo>
                <a:lnTo>
                  <a:pt x="873" y="4"/>
                </a:lnTo>
                <a:lnTo>
                  <a:pt x="883" y="2"/>
                </a:lnTo>
                <a:lnTo>
                  <a:pt x="893" y="2"/>
                </a:lnTo>
                <a:lnTo>
                  <a:pt x="902" y="0"/>
                </a:lnTo>
                <a:lnTo>
                  <a:pt x="921" y="0"/>
                </a:lnTo>
                <a:lnTo>
                  <a:pt x="931" y="6"/>
                </a:lnTo>
                <a:lnTo>
                  <a:pt x="943" y="12"/>
                </a:lnTo>
                <a:lnTo>
                  <a:pt x="956" y="20"/>
                </a:lnTo>
                <a:lnTo>
                  <a:pt x="969" y="27"/>
                </a:lnTo>
                <a:lnTo>
                  <a:pt x="985" y="37"/>
                </a:lnTo>
                <a:lnTo>
                  <a:pt x="994" y="41"/>
                </a:lnTo>
                <a:lnTo>
                  <a:pt x="1004" y="46"/>
                </a:lnTo>
                <a:lnTo>
                  <a:pt x="1014" y="52"/>
                </a:lnTo>
                <a:lnTo>
                  <a:pt x="1023" y="58"/>
                </a:lnTo>
                <a:lnTo>
                  <a:pt x="1033" y="66"/>
                </a:lnTo>
                <a:lnTo>
                  <a:pt x="1044" y="71"/>
                </a:lnTo>
                <a:lnTo>
                  <a:pt x="1054" y="79"/>
                </a:lnTo>
                <a:lnTo>
                  <a:pt x="1062" y="85"/>
                </a:lnTo>
                <a:lnTo>
                  <a:pt x="1069" y="91"/>
                </a:lnTo>
                <a:lnTo>
                  <a:pt x="1077" y="98"/>
                </a:lnTo>
                <a:lnTo>
                  <a:pt x="1083" y="104"/>
                </a:lnTo>
                <a:lnTo>
                  <a:pt x="1088" y="112"/>
                </a:lnTo>
                <a:lnTo>
                  <a:pt x="1094" y="117"/>
                </a:lnTo>
                <a:lnTo>
                  <a:pt x="1100" y="123"/>
                </a:lnTo>
                <a:lnTo>
                  <a:pt x="1104" y="129"/>
                </a:lnTo>
                <a:lnTo>
                  <a:pt x="1108" y="135"/>
                </a:lnTo>
                <a:lnTo>
                  <a:pt x="1111" y="140"/>
                </a:lnTo>
                <a:lnTo>
                  <a:pt x="1113" y="146"/>
                </a:lnTo>
                <a:lnTo>
                  <a:pt x="1115" y="152"/>
                </a:lnTo>
                <a:lnTo>
                  <a:pt x="1117" y="156"/>
                </a:lnTo>
                <a:lnTo>
                  <a:pt x="1117" y="162"/>
                </a:lnTo>
                <a:lnTo>
                  <a:pt x="1119" y="165"/>
                </a:lnTo>
                <a:lnTo>
                  <a:pt x="1117" y="175"/>
                </a:lnTo>
                <a:lnTo>
                  <a:pt x="1115" y="181"/>
                </a:lnTo>
                <a:lnTo>
                  <a:pt x="1113" y="188"/>
                </a:lnTo>
                <a:lnTo>
                  <a:pt x="1110" y="194"/>
                </a:lnTo>
                <a:lnTo>
                  <a:pt x="1104" y="200"/>
                </a:lnTo>
                <a:lnTo>
                  <a:pt x="1098" y="204"/>
                </a:lnTo>
                <a:lnTo>
                  <a:pt x="1090" y="208"/>
                </a:lnTo>
                <a:lnTo>
                  <a:pt x="1083" y="213"/>
                </a:lnTo>
                <a:lnTo>
                  <a:pt x="1075" y="215"/>
                </a:lnTo>
                <a:lnTo>
                  <a:pt x="1069" y="219"/>
                </a:lnTo>
                <a:lnTo>
                  <a:pt x="1063" y="225"/>
                </a:lnTo>
                <a:lnTo>
                  <a:pt x="1058" y="231"/>
                </a:lnTo>
                <a:lnTo>
                  <a:pt x="1054" y="238"/>
                </a:lnTo>
                <a:lnTo>
                  <a:pt x="1050" y="246"/>
                </a:lnTo>
                <a:lnTo>
                  <a:pt x="1046" y="256"/>
                </a:lnTo>
                <a:lnTo>
                  <a:pt x="1042" y="265"/>
                </a:lnTo>
                <a:lnTo>
                  <a:pt x="1038" y="277"/>
                </a:lnTo>
                <a:lnTo>
                  <a:pt x="1035" y="290"/>
                </a:lnTo>
                <a:lnTo>
                  <a:pt x="1033" y="304"/>
                </a:lnTo>
                <a:lnTo>
                  <a:pt x="1029" y="319"/>
                </a:lnTo>
                <a:lnTo>
                  <a:pt x="1027" y="334"/>
                </a:lnTo>
                <a:lnTo>
                  <a:pt x="1025" y="352"/>
                </a:lnTo>
                <a:lnTo>
                  <a:pt x="1021" y="371"/>
                </a:lnTo>
                <a:lnTo>
                  <a:pt x="1019" y="39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Freeform 134"/>
          <p:cNvSpPr/>
          <p:nvPr/>
        </p:nvSpPr>
        <p:spPr>
          <a:xfrm>
            <a:off x="6508800" y="3882960"/>
            <a:ext cx="142920" cy="763560"/>
          </a:xfrm>
          <a:custGeom>
            <a:avLst/>
            <a:gdLst/>
            <a:ahLst/>
            <a:rect l="l" t="t" r="r" b="b"/>
            <a:pathLst>
              <a:path w="180" h="962">
                <a:moveTo>
                  <a:pt x="21" y="121"/>
                </a:moveTo>
                <a:lnTo>
                  <a:pt x="17" y="113"/>
                </a:lnTo>
                <a:lnTo>
                  <a:pt x="13" y="107"/>
                </a:lnTo>
                <a:lnTo>
                  <a:pt x="9" y="102"/>
                </a:lnTo>
                <a:lnTo>
                  <a:pt x="5" y="96"/>
                </a:lnTo>
                <a:lnTo>
                  <a:pt x="3" y="90"/>
                </a:lnTo>
                <a:lnTo>
                  <a:pt x="1" y="84"/>
                </a:lnTo>
                <a:lnTo>
                  <a:pt x="0" y="73"/>
                </a:lnTo>
                <a:lnTo>
                  <a:pt x="0" y="63"/>
                </a:lnTo>
                <a:lnTo>
                  <a:pt x="1" y="52"/>
                </a:lnTo>
                <a:lnTo>
                  <a:pt x="3" y="38"/>
                </a:lnTo>
                <a:lnTo>
                  <a:pt x="7" y="27"/>
                </a:lnTo>
                <a:lnTo>
                  <a:pt x="11" y="21"/>
                </a:lnTo>
                <a:lnTo>
                  <a:pt x="15" y="15"/>
                </a:lnTo>
                <a:lnTo>
                  <a:pt x="19" y="10"/>
                </a:lnTo>
                <a:lnTo>
                  <a:pt x="25" y="6"/>
                </a:lnTo>
                <a:lnTo>
                  <a:pt x="30" y="4"/>
                </a:lnTo>
                <a:lnTo>
                  <a:pt x="38" y="2"/>
                </a:lnTo>
                <a:lnTo>
                  <a:pt x="48" y="0"/>
                </a:lnTo>
                <a:lnTo>
                  <a:pt x="57" y="0"/>
                </a:lnTo>
                <a:lnTo>
                  <a:pt x="69" y="0"/>
                </a:lnTo>
                <a:lnTo>
                  <a:pt x="80" y="2"/>
                </a:lnTo>
                <a:lnTo>
                  <a:pt x="94" y="4"/>
                </a:lnTo>
                <a:lnTo>
                  <a:pt x="109" y="6"/>
                </a:lnTo>
                <a:lnTo>
                  <a:pt x="124" y="10"/>
                </a:lnTo>
                <a:lnTo>
                  <a:pt x="142" y="15"/>
                </a:lnTo>
                <a:lnTo>
                  <a:pt x="161" y="19"/>
                </a:lnTo>
                <a:lnTo>
                  <a:pt x="180" y="27"/>
                </a:lnTo>
                <a:lnTo>
                  <a:pt x="180" y="67"/>
                </a:lnTo>
                <a:lnTo>
                  <a:pt x="180" y="106"/>
                </a:lnTo>
                <a:lnTo>
                  <a:pt x="180" y="144"/>
                </a:lnTo>
                <a:lnTo>
                  <a:pt x="180" y="182"/>
                </a:lnTo>
                <a:lnTo>
                  <a:pt x="180" y="219"/>
                </a:lnTo>
                <a:lnTo>
                  <a:pt x="180" y="253"/>
                </a:lnTo>
                <a:lnTo>
                  <a:pt x="180" y="288"/>
                </a:lnTo>
                <a:lnTo>
                  <a:pt x="180" y="322"/>
                </a:lnTo>
                <a:lnTo>
                  <a:pt x="180" y="355"/>
                </a:lnTo>
                <a:lnTo>
                  <a:pt x="180" y="386"/>
                </a:lnTo>
                <a:lnTo>
                  <a:pt x="180" y="417"/>
                </a:lnTo>
                <a:lnTo>
                  <a:pt x="180" y="445"/>
                </a:lnTo>
                <a:lnTo>
                  <a:pt x="180" y="474"/>
                </a:lnTo>
                <a:lnTo>
                  <a:pt x="178" y="503"/>
                </a:lnTo>
                <a:lnTo>
                  <a:pt x="178" y="528"/>
                </a:lnTo>
                <a:lnTo>
                  <a:pt x="178" y="555"/>
                </a:lnTo>
                <a:lnTo>
                  <a:pt x="178" y="578"/>
                </a:lnTo>
                <a:lnTo>
                  <a:pt x="178" y="601"/>
                </a:lnTo>
                <a:lnTo>
                  <a:pt x="178" y="624"/>
                </a:lnTo>
                <a:lnTo>
                  <a:pt x="176" y="645"/>
                </a:lnTo>
                <a:lnTo>
                  <a:pt x="176" y="666"/>
                </a:lnTo>
                <a:lnTo>
                  <a:pt x="176" y="685"/>
                </a:lnTo>
                <a:lnTo>
                  <a:pt x="174" y="703"/>
                </a:lnTo>
                <a:lnTo>
                  <a:pt x="174" y="720"/>
                </a:lnTo>
                <a:lnTo>
                  <a:pt x="174" y="735"/>
                </a:lnTo>
                <a:lnTo>
                  <a:pt x="172" y="751"/>
                </a:lnTo>
                <a:lnTo>
                  <a:pt x="172" y="764"/>
                </a:lnTo>
                <a:lnTo>
                  <a:pt x="172" y="777"/>
                </a:lnTo>
                <a:lnTo>
                  <a:pt x="170" y="789"/>
                </a:lnTo>
                <a:lnTo>
                  <a:pt x="170" y="799"/>
                </a:lnTo>
                <a:lnTo>
                  <a:pt x="168" y="808"/>
                </a:lnTo>
                <a:lnTo>
                  <a:pt x="168" y="816"/>
                </a:lnTo>
                <a:lnTo>
                  <a:pt x="165" y="831"/>
                </a:lnTo>
                <a:lnTo>
                  <a:pt x="163" y="846"/>
                </a:lnTo>
                <a:lnTo>
                  <a:pt x="161" y="860"/>
                </a:lnTo>
                <a:lnTo>
                  <a:pt x="159" y="871"/>
                </a:lnTo>
                <a:lnTo>
                  <a:pt x="157" y="883"/>
                </a:lnTo>
                <a:lnTo>
                  <a:pt x="153" y="894"/>
                </a:lnTo>
                <a:lnTo>
                  <a:pt x="151" y="904"/>
                </a:lnTo>
                <a:lnTo>
                  <a:pt x="149" y="914"/>
                </a:lnTo>
                <a:lnTo>
                  <a:pt x="147" y="921"/>
                </a:lnTo>
                <a:lnTo>
                  <a:pt x="145" y="929"/>
                </a:lnTo>
                <a:lnTo>
                  <a:pt x="142" y="937"/>
                </a:lnTo>
                <a:lnTo>
                  <a:pt x="140" y="942"/>
                </a:lnTo>
                <a:lnTo>
                  <a:pt x="138" y="948"/>
                </a:lnTo>
                <a:lnTo>
                  <a:pt x="136" y="952"/>
                </a:lnTo>
                <a:lnTo>
                  <a:pt x="132" y="956"/>
                </a:lnTo>
                <a:lnTo>
                  <a:pt x="130" y="958"/>
                </a:lnTo>
                <a:lnTo>
                  <a:pt x="126" y="960"/>
                </a:lnTo>
                <a:lnTo>
                  <a:pt x="120" y="960"/>
                </a:lnTo>
                <a:lnTo>
                  <a:pt x="117" y="962"/>
                </a:lnTo>
                <a:lnTo>
                  <a:pt x="113" y="960"/>
                </a:lnTo>
                <a:lnTo>
                  <a:pt x="107" y="958"/>
                </a:lnTo>
                <a:lnTo>
                  <a:pt x="103" y="956"/>
                </a:lnTo>
                <a:lnTo>
                  <a:pt x="97" y="954"/>
                </a:lnTo>
                <a:lnTo>
                  <a:pt x="94" y="950"/>
                </a:lnTo>
                <a:lnTo>
                  <a:pt x="90" y="944"/>
                </a:lnTo>
                <a:lnTo>
                  <a:pt x="84" y="939"/>
                </a:lnTo>
                <a:lnTo>
                  <a:pt x="80" y="933"/>
                </a:lnTo>
                <a:lnTo>
                  <a:pt x="74" y="925"/>
                </a:lnTo>
                <a:lnTo>
                  <a:pt x="71" y="918"/>
                </a:lnTo>
                <a:lnTo>
                  <a:pt x="67" y="908"/>
                </a:lnTo>
                <a:lnTo>
                  <a:pt x="61" y="898"/>
                </a:lnTo>
                <a:lnTo>
                  <a:pt x="57" y="887"/>
                </a:lnTo>
                <a:lnTo>
                  <a:pt x="49" y="870"/>
                </a:lnTo>
                <a:lnTo>
                  <a:pt x="42" y="854"/>
                </a:lnTo>
                <a:lnTo>
                  <a:pt x="34" y="839"/>
                </a:lnTo>
                <a:lnTo>
                  <a:pt x="30" y="825"/>
                </a:lnTo>
                <a:lnTo>
                  <a:pt x="25" y="812"/>
                </a:lnTo>
                <a:lnTo>
                  <a:pt x="23" y="800"/>
                </a:lnTo>
                <a:lnTo>
                  <a:pt x="21" y="791"/>
                </a:lnTo>
                <a:lnTo>
                  <a:pt x="21" y="781"/>
                </a:lnTo>
                <a:lnTo>
                  <a:pt x="21" y="779"/>
                </a:lnTo>
                <a:lnTo>
                  <a:pt x="21" y="775"/>
                </a:lnTo>
                <a:lnTo>
                  <a:pt x="21" y="772"/>
                </a:lnTo>
                <a:lnTo>
                  <a:pt x="21" y="768"/>
                </a:lnTo>
                <a:lnTo>
                  <a:pt x="21" y="764"/>
                </a:lnTo>
                <a:lnTo>
                  <a:pt x="21" y="758"/>
                </a:lnTo>
                <a:lnTo>
                  <a:pt x="23" y="747"/>
                </a:lnTo>
                <a:lnTo>
                  <a:pt x="23" y="733"/>
                </a:lnTo>
                <a:lnTo>
                  <a:pt x="25" y="720"/>
                </a:lnTo>
                <a:lnTo>
                  <a:pt x="28" y="704"/>
                </a:lnTo>
                <a:lnTo>
                  <a:pt x="32" y="687"/>
                </a:lnTo>
                <a:lnTo>
                  <a:pt x="34" y="678"/>
                </a:lnTo>
                <a:lnTo>
                  <a:pt x="36" y="666"/>
                </a:lnTo>
                <a:lnTo>
                  <a:pt x="38" y="655"/>
                </a:lnTo>
                <a:lnTo>
                  <a:pt x="40" y="643"/>
                </a:lnTo>
                <a:lnTo>
                  <a:pt x="42" y="628"/>
                </a:lnTo>
                <a:lnTo>
                  <a:pt x="42" y="612"/>
                </a:lnTo>
                <a:lnTo>
                  <a:pt x="44" y="597"/>
                </a:lnTo>
                <a:lnTo>
                  <a:pt x="46" y="580"/>
                </a:lnTo>
                <a:lnTo>
                  <a:pt x="46" y="560"/>
                </a:lnTo>
                <a:lnTo>
                  <a:pt x="48" y="539"/>
                </a:lnTo>
                <a:lnTo>
                  <a:pt x="49" y="518"/>
                </a:lnTo>
                <a:lnTo>
                  <a:pt x="49" y="495"/>
                </a:lnTo>
                <a:lnTo>
                  <a:pt x="51" y="472"/>
                </a:lnTo>
                <a:lnTo>
                  <a:pt x="53" y="447"/>
                </a:lnTo>
                <a:lnTo>
                  <a:pt x="55" y="420"/>
                </a:lnTo>
                <a:lnTo>
                  <a:pt x="57" y="392"/>
                </a:lnTo>
                <a:lnTo>
                  <a:pt x="57" y="365"/>
                </a:lnTo>
                <a:lnTo>
                  <a:pt x="57" y="338"/>
                </a:lnTo>
                <a:lnTo>
                  <a:pt x="55" y="313"/>
                </a:lnTo>
                <a:lnTo>
                  <a:pt x="55" y="290"/>
                </a:lnTo>
                <a:lnTo>
                  <a:pt x="53" y="269"/>
                </a:lnTo>
                <a:lnTo>
                  <a:pt x="51" y="248"/>
                </a:lnTo>
                <a:lnTo>
                  <a:pt x="49" y="230"/>
                </a:lnTo>
                <a:lnTo>
                  <a:pt x="48" y="213"/>
                </a:lnTo>
                <a:lnTo>
                  <a:pt x="46" y="196"/>
                </a:lnTo>
                <a:lnTo>
                  <a:pt x="42" y="182"/>
                </a:lnTo>
                <a:lnTo>
                  <a:pt x="40" y="169"/>
                </a:lnTo>
                <a:lnTo>
                  <a:pt x="36" y="157"/>
                </a:lnTo>
                <a:lnTo>
                  <a:pt x="32" y="146"/>
                </a:lnTo>
                <a:lnTo>
                  <a:pt x="28" y="136"/>
                </a:lnTo>
                <a:lnTo>
                  <a:pt x="25" y="129"/>
                </a:lnTo>
                <a:lnTo>
                  <a:pt x="21" y="12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Freeform 135"/>
          <p:cNvSpPr/>
          <p:nvPr/>
        </p:nvSpPr>
        <p:spPr>
          <a:xfrm>
            <a:off x="7101000" y="3254400"/>
            <a:ext cx="328680" cy="593640"/>
          </a:xfrm>
          <a:custGeom>
            <a:avLst/>
            <a:gdLst/>
            <a:ahLst/>
            <a:rect l="l" t="t" r="r" b="b"/>
            <a:pathLst>
              <a:path w="415" h="749">
                <a:moveTo>
                  <a:pt x="319" y="336"/>
                </a:moveTo>
                <a:lnTo>
                  <a:pt x="303" y="365"/>
                </a:lnTo>
                <a:lnTo>
                  <a:pt x="288" y="392"/>
                </a:lnTo>
                <a:lnTo>
                  <a:pt x="275" y="417"/>
                </a:lnTo>
                <a:lnTo>
                  <a:pt x="259" y="442"/>
                </a:lnTo>
                <a:lnTo>
                  <a:pt x="246" y="467"/>
                </a:lnTo>
                <a:lnTo>
                  <a:pt x="232" y="488"/>
                </a:lnTo>
                <a:lnTo>
                  <a:pt x="221" y="511"/>
                </a:lnTo>
                <a:lnTo>
                  <a:pt x="209" y="530"/>
                </a:lnTo>
                <a:lnTo>
                  <a:pt x="198" y="549"/>
                </a:lnTo>
                <a:lnTo>
                  <a:pt x="186" y="568"/>
                </a:lnTo>
                <a:lnTo>
                  <a:pt x="177" y="586"/>
                </a:lnTo>
                <a:lnTo>
                  <a:pt x="167" y="601"/>
                </a:lnTo>
                <a:lnTo>
                  <a:pt x="158" y="616"/>
                </a:lnTo>
                <a:lnTo>
                  <a:pt x="150" y="630"/>
                </a:lnTo>
                <a:lnTo>
                  <a:pt x="142" y="643"/>
                </a:lnTo>
                <a:lnTo>
                  <a:pt x="135" y="655"/>
                </a:lnTo>
                <a:lnTo>
                  <a:pt x="127" y="664"/>
                </a:lnTo>
                <a:lnTo>
                  <a:pt x="121" y="676"/>
                </a:lnTo>
                <a:lnTo>
                  <a:pt x="113" y="685"/>
                </a:lnTo>
                <a:lnTo>
                  <a:pt x="106" y="693"/>
                </a:lnTo>
                <a:lnTo>
                  <a:pt x="98" y="703"/>
                </a:lnTo>
                <a:lnTo>
                  <a:pt x="89" y="710"/>
                </a:lnTo>
                <a:lnTo>
                  <a:pt x="81" y="716"/>
                </a:lnTo>
                <a:lnTo>
                  <a:pt x="71" y="724"/>
                </a:lnTo>
                <a:lnTo>
                  <a:pt x="64" y="730"/>
                </a:lnTo>
                <a:lnTo>
                  <a:pt x="54" y="733"/>
                </a:lnTo>
                <a:lnTo>
                  <a:pt x="46" y="739"/>
                </a:lnTo>
                <a:lnTo>
                  <a:pt x="37" y="741"/>
                </a:lnTo>
                <a:lnTo>
                  <a:pt x="27" y="745"/>
                </a:lnTo>
                <a:lnTo>
                  <a:pt x="17" y="747"/>
                </a:lnTo>
                <a:lnTo>
                  <a:pt x="8" y="749"/>
                </a:lnTo>
                <a:lnTo>
                  <a:pt x="0" y="749"/>
                </a:lnTo>
                <a:lnTo>
                  <a:pt x="12" y="716"/>
                </a:lnTo>
                <a:lnTo>
                  <a:pt x="23" y="684"/>
                </a:lnTo>
                <a:lnTo>
                  <a:pt x="35" y="653"/>
                </a:lnTo>
                <a:lnTo>
                  <a:pt x="46" y="622"/>
                </a:lnTo>
                <a:lnTo>
                  <a:pt x="56" y="593"/>
                </a:lnTo>
                <a:lnTo>
                  <a:pt x="67" y="565"/>
                </a:lnTo>
                <a:lnTo>
                  <a:pt x="77" y="538"/>
                </a:lnTo>
                <a:lnTo>
                  <a:pt x="87" y="511"/>
                </a:lnTo>
                <a:lnTo>
                  <a:pt x="96" y="486"/>
                </a:lnTo>
                <a:lnTo>
                  <a:pt x="104" y="461"/>
                </a:lnTo>
                <a:lnTo>
                  <a:pt x="113" y="438"/>
                </a:lnTo>
                <a:lnTo>
                  <a:pt x="121" y="415"/>
                </a:lnTo>
                <a:lnTo>
                  <a:pt x="129" y="394"/>
                </a:lnTo>
                <a:lnTo>
                  <a:pt x="136" y="373"/>
                </a:lnTo>
                <a:lnTo>
                  <a:pt x="142" y="351"/>
                </a:lnTo>
                <a:lnTo>
                  <a:pt x="150" y="332"/>
                </a:lnTo>
                <a:lnTo>
                  <a:pt x="156" y="315"/>
                </a:lnTo>
                <a:lnTo>
                  <a:pt x="161" y="296"/>
                </a:lnTo>
                <a:lnTo>
                  <a:pt x="167" y="280"/>
                </a:lnTo>
                <a:lnTo>
                  <a:pt x="173" y="265"/>
                </a:lnTo>
                <a:lnTo>
                  <a:pt x="177" y="250"/>
                </a:lnTo>
                <a:lnTo>
                  <a:pt x="181" y="236"/>
                </a:lnTo>
                <a:lnTo>
                  <a:pt x="186" y="223"/>
                </a:lnTo>
                <a:lnTo>
                  <a:pt x="190" y="211"/>
                </a:lnTo>
                <a:lnTo>
                  <a:pt x="192" y="200"/>
                </a:lnTo>
                <a:lnTo>
                  <a:pt x="196" y="190"/>
                </a:lnTo>
                <a:lnTo>
                  <a:pt x="200" y="181"/>
                </a:lnTo>
                <a:lnTo>
                  <a:pt x="202" y="171"/>
                </a:lnTo>
                <a:lnTo>
                  <a:pt x="204" y="165"/>
                </a:lnTo>
                <a:lnTo>
                  <a:pt x="206" y="158"/>
                </a:lnTo>
                <a:lnTo>
                  <a:pt x="208" y="152"/>
                </a:lnTo>
                <a:lnTo>
                  <a:pt x="209" y="148"/>
                </a:lnTo>
                <a:lnTo>
                  <a:pt x="211" y="140"/>
                </a:lnTo>
                <a:lnTo>
                  <a:pt x="211" y="135"/>
                </a:lnTo>
                <a:lnTo>
                  <a:pt x="213" y="127"/>
                </a:lnTo>
                <a:lnTo>
                  <a:pt x="213" y="121"/>
                </a:lnTo>
                <a:lnTo>
                  <a:pt x="213" y="108"/>
                </a:lnTo>
                <a:lnTo>
                  <a:pt x="211" y="96"/>
                </a:lnTo>
                <a:lnTo>
                  <a:pt x="209" y="87"/>
                </a:lnTo>
                <a:lnTo>
                  <a:pt x="206" y="77"/>
                </a:lnTo>
                <a:lnTo>
                  <a:pt x="200" y="69"/>
                </a:lnTo>
                <a:lnTo>
                  <a:pt x="198" y="67"/>
                </a:lnTo>
                <a:lnTo>
                  <a:pt x="196" y="65"/>
                </a:lnTo>
                <a:lnTo>
                  <a:pt x="192" y="62"/>
                </a:lnTo>
                <a:lnTo>
                  <a:pt x="188" y="60"/>
                </a:lnTo>
                <a:lnTo>
                  <a:pt x="184" y="58"/>
                </a:lnTo>
                <a:lnTo>
                  <a:pt x="183" y="56"/>
                </a:lnTo>
                <a:lnTo>
                  <a:pt x="181" y="54"/>
                </a:lnTo>
                <a:lnTo>
                  <a:pt x="179" y="50"/>
                </a:lnTo>
                <a:lnTo>
                  <a:pt x="177" y="46"/>
                </a:lnTo>
                <a:lnTo>
                  <a:pt x="177" y="41"/>
                </a:lnTo>
                <a:lnTo>
                  <a:pt x="177" y="33"/>
                </a:lnTo>
                <a:lnTo>
                  <a:pt x="181" y="25"/>
                </a:lnTo>
                <a:lnTo>
                  <a:pt x="184" y="17"/>
                </a:lnTo>
                <a:lnTo>
                  <a:pt x="188" y="14"/>
                </a:lnTo>
                <a:lnTo>
                  <a:pt x="196" y="10"/>
                </a:lnTo>
                <a:lnTo>
                  <a:pt x="200" y="8"/>
                </a:lnTo>
                <a:lnTo>
                  <a:pt x="204" y="6"/>
                </a:lnTo>
                <a:lnTo>
                  <a:pt x="209" y="4"/>
                </a:lnTo>
                <a:lnTo>
                  <a:pt x="215" y="2"/>
                </a:lnTo>
                <a:lnTo>
                  <a:pt x="221" y="2"/>
                </a:lnTo>
                <a:lnTo>
                  <a:pt x="227" y="0"/>
                </a:lnTo>
                <a:lnTo>
                  <a:pt x="234" y="0"/>
                </a:lnTo>
                <a:lnTo>
                  <a:pt x="242" y="0"/>
                </a:lnTo>
                <a:lnTo>
                  <a:pt x="252" y="0"/>
                </a:lnTo>
                <a:lnTo>
                  <a:pt x="261" y="2"/>
                </a:lnTo>
                <a:lnTo>
                  <a:pt x="271" y="4"/>
                </a:lnTo>
                <a:lnTo>
                  <a:pt x="282" y="6"/>
                </a:lnTo>
                <a:lnTo>
                  <a:pt x="300" y="10"/>
                </a:lnTo>
                <a:lnTo>
                  <a:pt x="317" y="16"/>
                </a:lnTo>
                <a:lnTo>
                  <a:pt x="332" y="23"/>
                </a:lnTo>
                <a:lnTo>
                  <a:pt x="348" y="31"/>
                </a:lnTo>
                <a:lnTo>
                  <a:pt x="363" y="39"/>
                </a:lnTo>
                <a:lnTo>
                  <a:pt x="378" y="46"/>
                </a:lnTo>
                <a:lnTo>
                  <a:pt x="405" y="65"/>
                </a:lnTo>
                <a:lnTo>
                  <a:pt x="409" y="69"/>
                </a:lnTo>
                <a:lnTo>
                  <a:pt x="413" y="77"/>
                </a:lnTo>
                <a:lnTo>
                  <a:pt x="413" y="85"/>
                </a:lnTo>
                <a:lnTo>
                  <a:pt x="415" y="96"/>
                </a:lnTo>
                <a:lnTo>
                  <a:pt x="413" y="108"/>
                </a:lnTo>
                <a:lnTo>
                  <a:pt x="411" y="121"/>
                </a:lnTo>
                <a:lnTo>
                  <a:pt x="407" y="135"/>
                </a:lnTo>
                <a:lnTo>
                  <a:pt x="403" y="152"/>
                </a:lnTo>
                <a:lnTo>
                  <a:pt x="398" y="169"/>
                </a:lnTo>
                <a:lnTo>
                  <a:pt x="390" y="188"/>
                </a:lnTo>
                <a:lnTo>
                  <a:pt x="382" y="209"/>
                </a:lnTo>
                <a:lnTo>
                  <a:pt x="373" y="232"/>
                </a:lnTo>
                <a:lnTo>
                  <a:pt x="361" y="256"/>
                </a:lnTo>
                <a:lnTo>
                  <a:pt x="348" y="280"/>
                </a:lnTo>
                <a:lnTo>
                  <a:pt x="334" y="307"/>
                </a:lnTo>
                <a:lnTo>
                  <a:pt x="319" y="3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1" name="Freeform 136"/>
          <p:cNvSpPr/>
          <p:nvPr/>
        </p:nvSpPr>
        <p:spPr>
          <a:xfrm>
            <a:off x="6512040" y="3390840"/>
            <a:ext cx="198360" cy="449280"/>
          </a:xfrm>
          <a:custGeom>
            <a:avLst/>
            <a:gdLst/>
            <a:ahLst/>
            <a:rect l="l" t="t" r="r" b="b"/>
            <a:pathLst>
              <a:path w="252" h="566">
                <a:moveTo>
                  <a:pt x="29" y="81"/>
                </a:moveTo>
                <a:lnTo>
                  <a:pt x="22" y="71"/>
                </a:lnTo>
                <a:lnTo>
                  <a:pt x="14" y="63"/>
                </a:lnTo>
                <a:lnTo>
                  <a:pt x="8" y="54"/>
                </a:lnTo>
                <a:lnTo>
                  <a:pt x="4" y="44"/>
                </a:lnTo>
                <a:lnTo>
                  <a:pt x="0" y="36"/>
                </a:lnTo>
                <a:lnTo>
                  <a:pt x="0" y="33"/>
                </a:lnTo>
                <a:lnTo>
                  <a:pt x="0" y="27"/>
                </a:lnTo>
                <a:lnTo>
                  <a:pt x="0" y="23"/>
                </a:lnTo>
                <a:lnTo>
                  <a:pt x="2" y="19"/>
                </a:lnTo>
                <a:lnTo>
                  <a:pt x="2" y="13"/>
                </a:lnTo>
                <a:lnTo>
                  <a:pt x="4" y="10"/>
                </a:lnTo>
                <a:lnTo>
                  <a:pt x="8" y="8"/>
                </a:lnTo>
                <a:lnTo>
                  <a:pt x="10" y="6"/>
                </a:lnTo>
                <a:lnTo>
                  <a:pt x="14" y="4"/>
                </a:lnTo>
                <a:lnTo>
                  <a:pt x="20" y="4"/>
                </a:lnTo>
                <a:lnTo>
                  <a:pt x="23" y="2"/>
                </a:lnTo>
                <a:lnTo>
                  <a:pt x="29" y="2"/>
                </a:lnTo>
                <a:lnTo>
                  <a:pt x="35" y="0"/>
                </a:lnTo>
                <a:lnTo>
                  <a:pt x="43" y="0"/>
                </a:lnTo>
                <a:lnTo>
                  <a:pt x="48" y="0"/>
                </a:lnTo>
                <a:lnTo>
                  <a:pt x="56" y="2"/>
                </a:lnTo>
                <a:lnTo>
                  <a:pt x="66" y="2"/>
                </a:lnTo>
                <a:lnTo>
                  <a:pt x="73" y="4"/>
                </a:lnTo>
                <a:lnTo>
                  <a:pt x="83" y="4"/>
                </a:lnTo>
                <a:lnTo>
                  <a:pt x="94" y="6"/>
                </a:lnTo>
                <a:lnTo>
                  <a:pt x="104" y="8"/>
                </a:lnTo>
                <a:lnTo>
                  <a:pt x="116" y="10"/>
                </a:lnTo>
                <a:lnTo>
                  <a:pt x="139" y="17"/>
                </a:lnTo>
                <a:lnTo>
                  <a:pt x="160" y="25"/>
                </a:lnTo>
                <a:lnTo>
                  <a:pt x="169" y="29"/>
                </a:lnTo>
                <a:lnTo>
                  <a:pt x="179" y="33"/>
                </a:lnTo>
                <a:lnTo>
                  <a:pt x="187" y="35"/>
                </a:lnTo>
                <a:lnTo>
                  <a:pt x="196" y="38"/>
                </a:lnTo>
                <a:lnTo>
                  <a:pt x="204" y="40"/>
                </a:lnTo>
                <a:lnTo>
                  <a:pt x="210" y="42"/>
                </a:lnTo>
                <a:lnTo>
                  <a:pt x="217" y="46"/>
                </a:lnTo>
                <a:lnTo>
                  <a:pt x="223" y="48"/>
                </a:lnTo>
                <a:lnTo>
                  <a:pt x="229" y="50"/>
                </a:lnTo>
                <a:lnTo>
                  <a:pt x="233" y="52"/>
                </a:lnTo>
                <a:lnTo>
                  <a:pt x="236" y="54"/>
                </a:lnTo>
                <a:lnTo>
                  <a:pt x="238" y="58"/>
                </a:lnTo>
                <a:lnTo>
                  <a:pt x="240" y="58"/>
                </a:lnTo>
                <a:lnTo>
                  <a:pt x="240" y="59"/>
                </a:lnTo>
                <a:lnTo>
                  <a:pt x="242" y="65"/>
                </a:lnTo>
                <a:lnTo>
                  <a:pt x="244" y="71"/>
                </a:lnTo>
                <a:lnTo>
                  <a:pt x="246" y="81"/>
                </a:lnTo>
                <a:lnTo>
                  <a:pt x="246" y="92"/>
                </a:lnTo>
                <a:lnTo>
                  <a:pt x="248" y="104"/>
                </a:lnTo>
                <a:lnTo>
                  <a:pt x="248" y="117"/>
                </a:lnTo>
                <a:lnTo>
                  <a:pt x="250" y="132"/>
                </a:lnTo>
                <a:lnTo>
                  <a:pt x="250" y="152"/>
                </a:lnTo>
                <a:lnTo>
                  <a:pt x="250" y="169"/>
                </a:lnTo>
                <a:lnTo>
                  <a:pt x="250" y="190"/>
                </a:lnTo>
                <a:lnTo>
                  <a:pt x="250" y="213"/>
                </a:lnTo>
                <a:lnTo>
                  <a:pt x="250" y="236"/>
                </a:lnTo>
                <a:lnTo>
                  <a:pt x="250" y="261"/>
                </a:lnTo>
                <a:lnTo>
                  <a:pt x="252" y="288"/>
                </a:lnTo>
                <a:lnTo>
                  <a:pt x="252" y="317"/>
                </a:lnTo>
                <a:lnTo>
                  <a:pt x="250" y="344"/>
                </a:lnTo>
                <a:lnTo>
                  <a:pt x="250" y="370"/>
                </a:lnTo>
                <a:lnTo>
                  <a:pt x="250" y="395"/>
                </a:lnTo>
                <a:lnTo>
                  <a:pt x="248" y="418"/>
                </a:lnTo>
                <a:lnTo>
                  <a:pt x="248" y="440"/>
                </a:lnTo>
                <a:lnTo>
                  <a:pt x="246" y="459"/>
                </a:lnTo>
                <a:lnTo>
                  <a:pt x="244" y="476"/>
                </a:lnTo>
                <a:lnTo>
                  <a:pt x="242" y="493"/>
                </a:lnTo>
                <a:lnTo>
                  <a:pt x="238" y="507"/>
                </a:lnTo>
                <a:lnTo>
                  <a:pt x="236" y="520"/>
                </a:lnTo>
                <a:lnTo>
                  <a:pt x="233" y="532"/>
                </a:lnTo>
                <a:lnTo>
                  <a:pt x="231" y="541"/>
                </a:lnTo>
                <a:lnTo>
                  <a:pt x="227" y="549"/>
                </a:lnTo>
                <a:lnTo>
                  <a:pt x="223" y="557"/>
                </a:lnTo>
                <a:lnTo>
                  <a:pt x="219" y="560"/>
                </a:lnTo>
                <a:lnTo>
                  <a:pt x="213" y="564"/>
                </a:lnTo>
                <a:lnTo>
                  <a:pt x="210" y="566"/>
                </a:lnTo>
                <a:lnTo>
                  <a:pt x="206" y="566"/>
                </a:lnTo>
                <a:lnTo>
                  <a:pt x="202" y="566"/>
                </a:lnTo>
                <a:lnTo>
                  <a:pt x="198" y="564"/>
                </a:lnTo>
                <a:lnTo>
                  <a:pt x="194" y="562"/>
                </a:lnTo>
                <a:lnTo>
                  <a:pt x="190" y="559"/>
                </a:lnTo>
                <a:lnTo>
                  <a:pt x="188" y="555"/>
                </a:lnTo>
                <a:lnTo>
                  <a:pt x="185" y="549"/>
                </a:lnTo>
                <a:lnTo>
                  <a:pt x="181" y="543"/>
                </a:lnTo>
                <a:lnTo>
                  <a:pt x="179" y="537"/>
                </a:lnTo>
                <a:lnTo>
                  <a:pt x="177" y="530"/>
                </a:lnTo>
                <a:lnTo>
                  <a:pt x="173" y="520"/>
                </a:lnTo>
                <a:lnTo>
                  <a:pt x="171" y="512"/>
                </a:lnTo>
                <a:lnTo>
                  <a:pt x="169" y="503"/>
                </a:lnTo>
                <a:lnTo>
                  <a:pt x="167" y="491"/>
                </a:lnTo>
                <a:lnTo>
                  <a:pt x="165" y="482"/>
                </a:lnTo>
                <a:lnTo>
                  <a:pt x="160" y="459"/>
                </a:lnTo>
                <a:lnTo>
                  <a:pt x="154" y="434"/>
                </a:lnTo>
                <a:lnTo>
                  <a:pt x="146" y="409"/>
                </a:lnTo>
                <a:lnTo>
                  <a:pt x="139" y="382"/>
                </a:lnTo>
                <a:lnTo>
                  <a:pt x="131" y="353"/>
                </a:lnTo>
                <a:lnTo>
                  <a:pt x="125" y="340"/>
                </a:lnTo>
                <a:lnTo>
                  <a:pt x="121" y="324"/>
                </a:lnTo>
                <a:lnTo>
                  <a:pt x="117" y="307"/>
                </a:lnTo>
                <a:lnTo>
                  <a:pt x="112" y="292"/>
                </a:lnTo>
                <a:lnTo>
                  <a:pt x="108" y="274"/>
                </a:lnTo>
                <a:lnTo>
                  <a:pt x="104" y="257"/>
                </a:lnTo>
                <a:lnTo>
                  <a:pt x="98" y="240"/>
                </a:lnTo>
                <a:lnTo>
                  <a:pt x="94" y="223"/>
                </a:lnTo>
                <a:lnTo>
                  <a:pt x="89" y="207"/>
                </a:lnTo>
                <a:lnTo>
                  <a:pt x="85" y="194"/>
                </a:lnTo>
                <a:lnTo>
                  <a:pt x="81" y="178"/>
                </a:lnTo>
                <a:lnTo>
                  <a:pt x="75" y="165"/>
                </a:lnTo>
                <a:lnTo>
                  <a:pt x="71" y="154"/>
                </a:lnTo>
                <a:lnTo>
                  <a:pt x="66" y="142"/>
                </a:lnTo>
                <a:lnTo>
                  <a:pt x="62" y="132"/>
                </a:lnTo>
                <a:lnTo>
                  <a:pt x="58" y="121"/>
                </a:lnTo>
                <a:lnTo>
                  <a:pt x="52" y="113"/>
                </a:lnTo>
                <a:lnTo>
                  <a:pt x="48" y="106"/>
                </a:lnTo>
                <a:lnTo>
                  <a:pt x="43" y="98"/>
                </a:lnTo>
                <a:lnTo>
                  <a:pt x="39" y="90"/>
                </a:lnTo>
                <a:lnTo>
                  <a:pt x="33" y="84"/>
                </a:lnTo>
                <a:lnTo>
                  <a:pt x="29" y="8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Freeform 137"/>
          <p:cNvSpPr/>
          <p:nvPr/>
        </p:nvSpPr>
        <p:spPr>
          <a:xfrm>
            <a:off x="6170760" y="3427560"/>
            <a:ext cx="1622160" cy="250560"/>
          </a:xfrm>
          <a:custGeom>
            <a:avLst/>
            <a:gdLst/>
            <a:ahLst/>
            <a:rect l="l" t="t" r="r" b="b"/>
            <a:pathLst>
              <a:path w="2044" h="317">
                <a:moveTo>
                  <a:pt x="1008" y="106"/>
                </a:moveTo>
                <a:lnTo>
                  <a:pt x="1054" y="98"/>
                </a:lnTo>
                <a:lnTo>
                  <a:pt x="1100" y="92"/>
                </a:lnTo>
                <a:lnTo>
                  <a:pt x="1144" y="86"/>
                </a:lnTo>
                <a:lnTo>
                  <a:pt x="1186" y="81"/>
                </a:lnTo>
                <a:lnTo>
                  <a:pt x="1229" y="75"/>
                </a:lnTo>
                <a:lnTo>
                  <a:pt x="1269" y="69"/>
                </a:lnTo>
                <a:lnTo>
                  <a:pt x="1309" y="63"/>
                </a:lnTo>
                <a:lnTo>
                  <a:pt x="1346" y="58"/>
                </a:lnTo>
                <a:lnTo>
                  <a:pt x="1382" y="54"/>
                </a:lnTo>
                <a:lnTo>
                  <a:pt x="1419" y="48"/>
                </a:lnTo>
                <a:lnTo>
                  <a:pt x="1453" y="44"/>
                </a:lnTo>
                <a:lnTo>
                  <a:pt x="1486" y="40"/>
                </a:lnTo>
                <a:lnTo>
                  <a:pt x="1517" y="37"/>
                </a:lnTo>
                <a:lnTo>
                  <a:pt x="1547" y="33"/>
                </a:lnTo>
                <a:lnTo>
                  <a:pt x="1576" y="29"/>
                </a:lnTo>
                <a:lnTo>
                  <a:pt x="1605" y="25"/>
                </a:lnTo>
                <a:lnTo>
                  <a:pt x="1630" y="21"/>
                </a:lnTo>
                <a:lnTo>
                  <a:pt x="1655" y="19"/>
                </a:lnTo>
                <a:lnTo>
                  <a:pt x="1680" y="15"/>
                </a:lnTo>
                <a:lnTo>
                  <a:pt x="1703" y="13"/>
                </a:lnTo>
                <a:lnTo>
                  <a:pt x="1724" y="12"/>
                </a:lnTo>
                <a:lnTo>
                  <a:pt x="1743" y="10"/>
                </a:lnTo>
                <a:lnTo>
                  <a:pt x="1762" y="8"/>
                </a:lnTo>
                <a:lnTo>
                  <a:pt x="1779" y="6"/>
                </a:lnTo>
                <a:lnTo>
                  <a:pt x="1795" y="4"/>
                </a:lnTo>
                <a:lnTo>
                  <a:pt x="1810" y="2"/>
                </a:lnTo>
                <a:lnTo>
                  <a:pt x="1822" y="2"/>
                </a:lnTo>
                <a:lnTo>
                  <a:pt x="1835" y="0"/>
                </a:lnTo>
                <a:lnTo>
                  <a:pt x="1845" y="0"/>
                </a:lnTo>
                <a:lnTo>
                  <a:pt x="1854" y="0"/>
                </a:lnTo>
                <a:lnTo>
                  <a:pt x="1862" y="0"/>
                </a:lnTo>
                <a:lnTo>
                  <a:pt x="1868" y="0"/>
                </a:lnTo>
                <a:lnTo>
                  <a:pt x="1891" y="0"/>
                </a:lnTo>
                <a:lnTo>
                  <a:pt x="1912" y="2"/>
                </a:lnTo>
                <a:lnTo>
                  <a:pt x="1933" y="4"/>
                </a:lnTo>
                <a:lnTo>
                  <a:pt x="1952" y="10"/>
                </a:lnTo>
                <a:lnTo>
                  <a:pt x="1970" y="15"/>
                </a:lnTo>
                <a:lnTo>
                  <a:pt x="1977" y="19"/>
                </a:lnTo>
                <a:lnTo>
                  <a:pt x="1987" y="23"/>
                </a:lnTo>
                <a:lnTo>
                  <a:pt x="1994" y="29"/>
                </a:lnTo>
                <a:lnTo>
                  <a:pt x="2002" y="35"/>
                </a:lnTo>
                <a:lnTo>
                  <a:pt x="2010" y="40"/>
                </a:lnTo>
                <a:lnTo>
                  <a:pt x="2016" y="46"/>
                </a:lnTo>
                <a:lnTo>
                  <a:pt x="2023" y="52"/>
                </a:lnTo>
                <a:lnTo>
                  <a:pt x="2029" y="60"/>
                </a:lnTo>
                <a:lnTo>
                  <a:pt x="2033" y="65"/>
                </a:lnTo>
                <a:lnTo>
                  <a:pt x="2037" y="71"/>
                </a:lnTo>
                <a:lnTo>
                  <a:pt x="2041" y="75"/>
                </a:lnTo>
                <a:lnTo>
                  <a:pt x="2042" y="81"/>
                </a:lnTo>
                <a:lnTo>
                  <a:pt x="2042" y="86"/>
                </a:lnTo>
                <a:lnTo>
                  <a:pt x="2044" y="90"/>
                </a:lnTo>
                <a:lnTo>
                  <a:pt x="2042" y="94"/>
                </a:lnTo>
                <a:lnTo>
                  <a:pt x="2042" y="98"/>
                </a:lnTo>
                <a:lnTo>
                  <a:pt x="2041" y="102"/>
                </a:lnTo>
                <a:lnTo>
                  <a:pt x="2037" y="106"/>
                </a:lnTo>
                <a:lnTo>
                  <a:pt x="2033" y="109"/>
                </a:lnTo>
                <a:lnTo>
                  <a:pt x="2029" y="111"/>
                </a:lnTo>
                <a:lnTo>
                  <a:pt x="2023" y="115"/>
                </a:lnTo>
                <a:lnTo>
                  <a:pt x="2016" y="117"/>
                </a:lnTo>
                <a:lnTo>
                  <a:pt x="2008" y="121"/>
                </a:lnTo>
                <a:lnTo>
                  <a:pt x="2000" y="125"/>
                </a:lnTo>
                <a:lnTo>
                  <a:pt x="1991" y="129"/>
                </a:lnTo>
                <a:lnTo>
                  <a:pt x="1979" y="132"/>
                </a:lnTo>
                <a:lnTo>
                  <a:pt x="1968" y="136"/>
                </a:lnTo>
                <a:lnTo>
                  <a:pt x="1954" y="138"/>
                </a:lnTo>
                <a:lnTo>
                  <a:pt x="1939" y="140"/>
                </a:lnTo>
                <a:lnTo>
                  <a:pt x="1922" y="144"/>
                </a:lnTo>
                <a:lnTo>
                  <a:pt x="1904" y="146"/>
                </a:lnTo>
                <a:lnTo>
                  <a:pt x="1887" y="148"/>
                </a:lnTo>
                <a:lnTo>
                  <a:pt x="1866" y="148"/>
                </a:lnTo>
                <a:lnTo>
                  <a:pt x="1845" y="150"/>
                </a:lnTo>
                <a:lnTo>
                  <a:pt x="1822" y="152"/>
                </a:lnTo>
                <a:lnTo>
                  <a:pt x="1799" y="152"/>
                </a:lnTo>
                <a:lnTo>
                  <a:pt x="1772" y="152"/>
                </a:lnTo>
                <a:lnTo>
                  <a:pt x="1745" y="152"/>
                </a:lnTo>
                <a:lnTo>
                  <a:pt x="1730" y="152"/>
                </a:lnTo>
                <a:lnTo>
                  <a:pt x="1714" y="152"/>
                </a:lnTo>
                <a:lnTo>
                  <a:pt x="1697" y="154"/>
                </a:lnTo>
                <a:lnTo>
                  <a:pt x="1680" y="154"/>
                </a:lnTo>
                <a:lnTo>
                  <a:pt x="1660" y="154"/>
                </a:lnTo>
                <a:lnTo>
                  <a:pt x="1641" y="156"/>
                </a:lnTo>
                <a:lnTo>
                  <a:pt x="1622" y="156"/>
                </a:lnTo>
                <a:lnTo>
                  <a:pt x="1601" y="157"/>
                </a:lnTo>
                <a:lnTo>
                  <a:pt x="1578" y="157"/>
                </a:lnTo>
                <a:lnTo>
                  <a:pt x="1557" y="159"/>
                </a:lnTo>
                <a:lnTo>
                  <a:pt x="1532" y="161"/>
                </a:lnTo>
                <a:lnTo>
                  <a:pt x="1509" y="163"/>
                </a:lnTo>
                <a:lnTo>
                  <a:pt x="1484" y="165"/>
                </a:lnTo>
                <a:lnTo>
                  <a:pt x="1459" y="167"/>
                </a:lnTo>
                <a:lnTo>
                  <a:pt x="1432" y="169"/>
                </a:lnTo>
                <a:lnTo>
                  <a:pt x="1405" y="171"/>
                </a:lnTo>
                <a:lnTo>
                  <a:pt x="1376" y="173"/>
                </a:lnTo>
                <a:lnTo>
                  <a:pt x="1348" y="177"/>
                </a:lnTo>
                <a:lnTo>
                  <a:pt x="1317" y="179"/>
                </a:lnTo>
                <a:lnTo>
                  <a:pt x="1288" y="182"/>
                </a:lnTo>
                <a:lnTo>
                  <a:pt x="1255" y="186"/>
                </a:lnTo>
                <a:lnTo>
                  <a:pt x="1225" y="188"/>
                </a:lnTo>
                <a:lnTo>
                  <a:pt x="1192" y="192"/>
                </a:lnTo>
                <a:lnTo>
                  <a:pt x="1158" y="196"/>
                </a:lnTo>
                <a:lnTo>
                  <a:pt x="1123" y="200"/>
                </a:lnTo>
                <a:lnTo>
                  <a:pt x="1088" y="205"/>
                </a:lnTo>
                <a:lnTo>
                  <a:pt x="1052" y="209"/>
                </a:lnTo>
                <a:lnTo>
                  <a:pt x="1016" y="213"/>
                </a:lnTo>
                <a:lnTo>
                  <a:pt x="977" y="219"/>
                </a:lnTo>
                <a:lnTo>
                  <a:pt x="939" y="225"/>
                </a:lnTo>
                <a:lnTo>
                  <a:pt x="900" y="228"/>
                </a:lnTo>
                <a:lnTo>
                  <a:pt x="860" y="234"/>
                </a:lnTo>
                <a:lnTo>
                  <a:pt x="820" y="240"/>
                </a:lnTo>
                <a:lnTo>
                  <a:pt x="779" y="246"/>
                </a:lnTo>
                <a:lnTo>
                  <a:pt x="741" y="251"/>
                </a:lnTo>
                <a:lnTo>
                  <a:pt x="703" y="255"/>
                </a:lnTo>
                <a:lnTo>
                  <a:pt x="668" y="261"/>
                </a:lnTo>
                <a:lnTo>
                  <a:pt x="632" y="265"/>
                </a:lnTo>
                <a:lnTo>
                  <a:pt x="599" y="269"/>
                </a:lnTo>
                <a:lnTo>
                  <a:pt x="564" y="273"/>
                </a:lnTo>
                <a:lnTo>
                  <a:pt x="534" y="276"/>
                </a:lnTo>
                <a:lnTo>
                  <a:pt x="503" y="280"/>
                </a:lnTo>
                <a:lnTo>
                  <a:pt x="474" y="284"/>
                </a:lnTo>
                <a:lnTo>
                  <a:pt x="445" y="288"/>
                </a:lnTo>
                <a:lnTo>
                  <a:pt x="419" y="290"/>
                </a:lnTo>
                <a:lnTo>
                  <a:pt x="394" y="294"/>
                </a:lnTo>
                <a:lnTo>
                  <a:pt x="369" y="296"/>
                </a:lnTo>
                <a:lnTo>
                  <a:pt x="346" y="298"/>
                </a:lnTo>
                <a:lnTo>
                  <a:pt x="323" y="301"/>
                </a:lnTo>
                <a:lnTo>
                  <a:pt x="302" y="303"/>
                </a:lnTo>
                <a:lnTo>
                  <a:pt x="282" y="305"/>
                </a:lnTo>
                <a:lnTo>
                  <a:pt x="263" y="307"/>
                </a:lnTo>
                <a:lnTo>
                  <a:pt x="246" y="309"/>
                </a:lnTo>
                <a:lnTo>
                  <a:pt x="231" y="311"/>
                </a:lnTo>
                <a:lnTo>
                  <a:pt x="215" y="311"/>
                </a:lnTo>
                <a:lnTo>
                  <a:pt x="202" y="313"/>
                </a:lnTo>
                <a:lnTo>
                  <a:pt x="188" y="315"/>
                </a:lnTo>
                <a:lnTo>
                  <a:pt x="179" y="315"/>
                </a:lnTo>
                <a:lnTo>
                  <a:pt x="167" y="315"/>
                </a:lnTo>
                <a:lnTo>
                  <a:pt x="160" y="317"/>
                </a:lnTo>
                <a:lnTo>
                  <a:pt x="152" y="317"/>
                </a:lnTo>
                <a:lnTo>
                  <a:pt x="144" y="317"/>
                </a:lnTo>
                <a:lnTo>
                  <a:pt x="138" y="317"/>
                </a:lnTo>
                <a:lnTo>
                  <a:pt x="135" y="317"/>
                </a:lnTo>
                <a:lnTo>
                  <a:pt x="125" y="317"/>
                </a:lnTo>
                <a:lnTo>
                  <a:pt x="117" y="317"/>
                </a:lnTo>
                <a:lnTo>
                  <a:pt x="108" y="315"/>
                </a:lnTo>
                <a:lnTo>
                  <a:pt x="98" y="313"/>
                </a:lnTo>
                <a:lnTo>
                  <a:pt x="88" y="311"/>
                </a:lnTo>
                <a:lnTo>
                  <a:pt x="81" y="307"/>
                </a:lnTo>
                <a:lnTo>
                  <a:pt x="71" y="303"/>
                </a:lnTo>
                <a:lnTo>
                  <a:pt x="62" y="299"/>
                </a:lnTo>
                <a:lnTo>
                  <a:pt x="54" y="296"/>
                </a:lnTo>
                <a:lnTo>
                  <a:pt x="46" y="290"/>
                </a:lnTo>
                <a:lnTo>
                  <a:pt x="37" y="284"/>
                </a:lnTo>
                <a:lnTo>
                  <a:pt x="29" y="278"/>
                </a:lnTo>
                <a:lnTo>
                  <a:pt x="21" y="271"/>
                </a:lnTo>
                <a:lnTo>
                  <a:pt x="14" y="263"/>
                </a:lnTo>
                <a:lnTo>
                  <a:pt x="6" y="255"/>
                </a:lnTo>
                <a:lnTo>
                  <a:pt x="0" y="248"/>
                </a:lnTo>
                <a:lnTo>
                  <a:pt x="16" y="244"/>
                </a:lnTo>
                <a:lnTo>
                  <a:pt x="33" y="242"/>
                </a:lnTo>
                <a:lnTo>
                  <a:pt x="50" y="240"/>
                </a:lnTo>
                <a:lnTo>
                  <a:pt x="67" y="236"/>
                </a:lnTo>
                <a:lnTo>
                  <a:pt x="88" y="234"/>
                </a:lnTo>
                <a:lnTo>
                  <a:pt x="110" y="230"/>
                </a:lnTo>
                <a:lnTo>
                  <a:pt x="131" y="228"/>
                </a:lnTo>
                <a:lnTo>
                  <a:pt x="154" y="225"/>
                </a:lnTo>
                <a:lnTo>
                  <a:pt x="179" y="221"/>
                </a:lnTo>
                <a:lnTo>
                  <a:pt x="204" y="217"/>
                </a:lnTo>
                <a:lnTo>
                  <a:pt x="229" y="213"/>
                </a:lnTo>
                <a:lnTo>
                  <a:pt x="255" y="209"/>
                </a:lnTo>
                <a:lnTo>
                  <a:pt x="284" y="205"/>
                </a:lnTo>
                <a:lnTo>
                  <a:pt x="313" y="202"/>
                </a:lnTo>
                <a:lnTo>
                  <a:pt x="344" y="198"/>
                </a:lnTo>
                <a:lnTo>
                  <a:pt x="374" y="194"/>
                </a:lnTo>
                <a:lnTo>
                  <a:pt x="407" y="190"/>
                </a:lnTo>
                <a:lnTo>
                  <a:pt x="440" y="184"/>
                </a:lnTo>
                <a:lnTo>
                  <a:pt x="474" y="180"/>
                </a:lnTo>
                <a:lnTo>
                  <a:pt x="509" y="175"/>
                </a:lnTo>
                <a:lnTo>
                  <a:pt x="545" y="171"/>
                </a:lnTo>
                <a:lnTo>
                  <a:pt x="584" y="165"/>
                </a:lnTo>
                <a:lnTo>
                  <a:pt x="622" y="159"/>
                </a:lnTo>
                <a:lnTo>
                  <a:pt x="660" y="154"/>
                </a:lnTo>
                <a:lnTo>
                  <a:pt x="701" y="148"/>
                </a:lnTo>
                <a:lnTo>
                  <a:pt x="741" y="142"/>
                </a:lnTo>
                <a:lnTo>
                  <a:pt x="783" y="136"/>
                </a:lnTo>
                <a:lnTo>
                  <a:pt x="826" y="131"/>
                </a:lnTo>
                <a:lnTo>
                  <a:pt x="870" y="125"/>
                </a:lnTo>
                <a:lnTo>
                  <a:pt x="916" y="119"/>
                </a:lnTo>
                <a:lnTo>
                  <a:pt x="962" y="111"/>
                </a:lnTo>
                <a:lnTo>
                  <a:pt x="1008" y="10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3" name="Freeform 138"/>
          <p:cNvSpPr/>
          <p:nvPr/>
        </p:nvSpPr>
        <p:spPr>
          <a:xfrm>
            <a:off x="6889680" y="2792520"/>
            <a:ext cx="204840" cy="680760"/>
          </a:xfrm>
          <a:custGeom>
            <a:avLst/>
            <a:gdLst/>
            <a:ahLst/>
            <a:rect l="l" t="t" r="r" b="b"/>
            <a:pathLst>
              <a:path w="260" h="858">
                <a:moveTo>
                  <a:pt x="22" y="80"/>
                </a:moveTo>
                <a:lnTo>
                  <a:pt x="16" y="73"/>
                </a:lnTo>
                <a:lnTo>
                  <a:pt x="12" y="67"/>
                </a:lnTo>
                <a:lnTo>
                  <a:pt x="10" y="61"/>
                </a:lnTo>
                <a:lnTo>
                  <a:pt x="6" y="55"/>
                </a:lnTo>
                <a:lnTo>
                  <a:pt x="4" y="50"/>
                </a:lnTo>
                <a:lnTo>
                  <a:pt x="2" y="44"/>
                </a:lnTo>
                <a:lnTo>
                  <a:pt x="0" y="36"/>
                </a:lnTo>
                <a:lnTo>
                  <a:pt x="0" y="26"/>
                </a:lnTo>
                <a:lnTo>
                  <a:pt x="2" y="21"/>
                </a:lnTo>
                <a:lnTo>
                  <a:pt x="4" y="13"/>
                </a:lnTo>
                <a:lnTo>
                  <a:pt x="8" y="9"/>
                </a:lnTo>
                <a:lnTo>
                  <a:pt x="10" y="7"/>
                </a:lnTo>
                <a:lnTo>
                  <a:pt x="14" y="5"/>
                </a:lnTo>
                <a:lnTo>
                  <a:pt x="18" y="3"/>
                </a:lnTo>
                <a:lnTo>
                  <a:pt x="22" y="2"/>
                </a:lnTo>
                <a:lnTo>
                  <a:pt x="27" y="2"/>
                </a:lnTo>
                <a:lnTo>
                  <a:pt x="33" y="0"/>
                </a:lnTo>
                <a:lnTo>
                  <a:pt x="39" y="0"/>
                </a:lnTo>
                <a:lnTo>
                  <a:pt x="46" y="0"/>
                </a:lnTo>
                <a:lnTo>
                  <a:pt x="54" y="0"/>
                </a:lnTo>
                <a:lnTo>
                  <a:pt x="64" y="0"/>
                </a:lnTo>
                <a:lnTo>
                  <a:pt x="73" y="2"/>
                </a:lnTo>
                <a:lnTo>
                  <a:pt x="83" y="2"/>
                </a:lnTo>
                <a:lnTo>
                  <a:pt x="94" y="3"/>
                </a:lnTo>
                <a:lnTo>
                  <a:pt x="106" y="5"/>
                </a:lnTo>
                <a:lnTo>
                  <a:pt x="117" y="7"/>
                </a:lnTo>
                <a:lnTo>
                  <a:pt x="131" y="9"/>
                </a:lnTo>
                <a:lnTo>
                  <a:pt x="154" y="17"/>
                </a:lnTo>
                <a:lnTo>
                  <a:pt x="175" y="26"/>
                </a:lnTo>
                <a:lnTo>
                  <a:pt x="185" y="30"/>
                </a:lnTo>
                <a:lnTo>
                  <a:pt x="194" y="34"/>
                </a:lnTo>
                <a:lnTo>
                  <a:pt x="202" y="38"/>
                </a:lnTo>
                <a:lnTo>
                  <a:pt x="212" y="42"/>
                </a:lnTo>
                <a:lnTo>
                  <a:pt x="219" y="46"/>
                </a:lnTo>
                <a:lnTo>
                  <a:pt x="227" y="50"/>
                </a:lnTo>
                <a:lnTo>
                  <a:pt x="233" y="53"/>
                </a:lnTo>
                <a:lnTo>
                  <a:pt x="238" y="57"/>
                </a:lnTo>
                <a:lnTo>
                  <a:pt x="244" y="59"/>
                </a:lnTo>
                <a:lnTo>
                  <a:pt x="248" y="63"/>
                </a:lnTo>
                <a:lnTo>
                  <a:pt x="252" y="65"/>
                </a:lnTo>
                <a:lnTo>
                  <a:pt x="254" y="69"/>
                </a:lnTo>
                <a:lnTo>
                  <a:pt x="256" y="73"/>
                </a:lnTo>
                <a:lnTo>
                  <a:pt x="258" y="80"/>
                </a:lnTo>
                <a:lnTo>
                  <a:pt x="260" y="88"/>
                </a:lnTo>
                <a:lnTo>
                  <a:pt x="260" y="96"/>
                </a:lnTo>
                <a:lnTo>
                  <a:pt x="260" y="107"/>
                </a:lnTo>
                <a:lnTo>
                  <a:pt x="260" y="119"/>
                </a:lnTo>
                <a:lnTo>
                  <a:pt x="258" y="132"/>
                </a:lnTo>
                <a:lnTo>
                  <a:pt x="258" y="145"/>
                </a:lnTo>
                <a:lnTo>
                  <a:pt x="256" y="161"/>
                </a:lnTo>
                <a:lnTo>
                  <a:pt x="254" y="178"/>
                </a:lnTo>
                <a:lnTo>
                  <a:pt x="252" y="195"/>
                </a:lnTo>
                <a:lnTo>
                  <a:pt x="250" y="215"/>
                </a:lnTo>
                <a:lnTo>
                  <a:pt x="248" y="236"/>
                </a:lnTo>
                <a:lnTo>
                  <a:pt x="246" y="257"/>
                </a:lnTo>
                <a:lnTo>
                  <a:pt x="244" y="280"/>
                </a:lnTo>
                <a:lnTo>
                  <a:pt x="242" y="303"/>
                </a:lnTo>
                <a:lnTo>
                  <a:pt x="233" y="357"/>
                </a:lnTo>
                <a:lnTo>
                  <a:pt x="223" y="407"/>
                </a:lnTo>
                <a:lnTo>
                  <a:pt x="215" y="456"/>
                </a:lnTo>
                <a:lnTo>
                  <a:pt x="206" y="506"/>
                </a:lnTo>
                <a:lnTo>
                  <a:pt x="198" y="552"/>
                </a:lnTo>
                <a:lnTo>
                  <a:pt x="194" y="575"/>
                </a:lnTo>
                <a:lnTo>
                  <a:pt x="192" y="597"/>
                </a:lnTo>
                <a:lnTo>
                  <a:pt x="189" y="620"/>
                </a:lnTo>
                <a:lnTo>
                  <a:pt x="185" y="641"/>
                </a:lnTo>
                <a:lnTo>
                  <a:pt x="183" y="662"/>
                </a:lnTo>
                <a:lnTo>
                  <a:pt x="181" y="681"/>
                </a:lnTo>
                <a:lnTo>
                  <a:pt x="175" y="702"/>
                </a:lnTo>
                <a:lnTo>
                  <a:pt x="171" y="723"/>
                </a:lnTo>
                <a:lnTo>
                  <a:pt x="167" y="741"/>
                </a:lnTo>
                <a:lnTo>
                  <a:pt x="162" y="758"/>
                </a:lnTo>
                <a:lnTo>
                  <a:pt x="158" y="775"/>
                </a:lnTo>
                <a:lnTo>
                  <a:pt x="154" y="789"/>
                </a:lnTo>
                <a:lnTo>
                  <a:pt x="148" y="802"/>
                </a:lnTo>
                <a:lnTo>
                  <a:pt x="144" y="813"/>
                </a:lnTo>
                <a:lnTo>
                  <a:pt x="139" y="823"/>
                </a:lnTo>
                <a:lnTo>
                  <a:pt x="135" y="833"/>
                </a:lnTo>
                <a:lnTo>
                  <a:pt x="129" y="840"/>
                </a:lnTo>
                <a:lnTo>
                  <a:pt x="125" y="846"/>
                </a:lnTo>
                <a:lnTo>
                  <a:pt x="121" y="852"/>
                </a:lnTo>
                <a:lnTo>
                  <a:pt x="116" y="856"/>
                </a:lnTo>
                <a:lnTo>
                  <a:pt x="112" y="858"/>
                </a:lnTo>
                <a:lnTo>
                  <a:pt x="106" y="858"/>
                </a:lnTo>
                <a:lnTo>
                  <a:pt x="104" y="858"/>
                </a:lnTo>
                <a:lnTo>
                  <a:pt x="102" y="856"/>
                </a:lnTo>
                <a:lnTo>
                  <a:pt x="100" y="854"/>
                </a:lnTo>
                <a:lnTo>
                  <a:pt x="98" y="852"/>
                </a:lnTo>
                <a:lnTo>
                  <a:pt x="96" y="848"/>
                </a:lnTo>
                <a:lnTo>
                  <a:pt x="94" y="844"/>
                </a:lnTo>
                <a:lnTo>
                  <a:pt x="93" y="838"/>
                </a:lnTo>
                <a:lnTo>
                  <a:pt x="91" y="833"/>
                </a:lnTo>
                <a:lnTo>
                  <a:pt x="89" y="827"/>
                </a:lnTo>
                <a:lnTo>
                  <a:pt x="87" y="819"/>
                </a:lnTo>
                <a:lnTo>
                  <a:pt x="85" y="812"/>
                </a:lnTo>
                <a:lnTo>
                  <a:pt x="85" y="804"/>
                </a:lnTo>
                <a:lnTo>
                  <a:pt x="83" y="794"/>
                </a:lnTo>
                <a:lnTo>
                  <a:pt x="81" y="785"/>
                </a:lnTo>
                <a:lnTo>
                  <a:pt x="81" y="773"/>
                </a:lnTo>
                <a:lnTo>
                  <a:pt x="79" y="762"/>
                </a:lnTo>
                <a:lnTo>
                  <a:pt x="77" y="750"/>
                </a:lnTo>
                <a:lnTo>
                  <a:pt x="77" y="737"/>
                </a:lnTo>
                <a:lnTo>
                  <a:pt x="75" y="723"/>
                </a:lnTo>
                <a:lnTo>
                  <a:pt x="75" y="708"/>
                </a:lnTo>
                <a:lnTo>
                  <a:pt x="73" y="694"/>
                </a:lnTo>
                <a:lnTo>
                  <a:pt x="73" y="677"/>
                </a:lnTo>
                <a:lnTo>
                  <a:pt x="73" y="662"/>
                </a:lnTo>
                <a:lnTo>
                  <a:pt x="71" y="645"/>
                </a:lnTo>
                <a:lnTo>
                  <a:pt x="71" y="625"/>
                </a:lnTo>
                <a:lnTo>
                  <a:pt x="71" y="608"/>
                </a:lnTo>
                <a:lnTo>
                  <a:pt x="71" y="587"/>
                </a:lnTo>
                <a:lnTo>
                  <a:pt x="71" y="568"/>
                </a:lnTo>
                <a:lnTo>
                  <a:pt x="70" y="547"/>
                </a:lnTo>
                <a:lnTo>
                  <a:pt x="70" y="526"/>
                </a:lnTo>
                <a:lnTo>
                  <a:pt x="70" y="503"/>
                </a:lnTo>
                <a:lnTo>
                  <a:pt x="70" y="481"/>
                </a:lnTo>
                <a:lnTo>
                  <a:pt x="70" y="458"/>
                </a:lnTo>
                <a:lnTo>
                  <a:pt x="70" y="435"/>
                </a:lnTo>
                <a:lnTo>
                  <a:pt x="70" y="414"/>
                </a:lnTo>
                <a:lnTo>
                  <a:pt x="70" y="393"/>
                </a:lnTo>
                <a:lnTo>
                  <a:pt x="70" y="374"/>
                </a:lnTo>
                <a:lnTo>
                  <a:pt x="70" y="353"/>
                </a:lnTo>
                <a:lnTo>
                  <a:pt x="68" y="336"/>
                </a:lnTo>
                <a:lnTo>
                  <a:pt x="68" y="316"/>
                </a:lnTo>
                <a:lnTo>
                  <a:pt x="68" y="299"/>
                </a:lnTo>
                <a:lnTo>
                  <a:pt x="66" y="282"/>
                </a:lnTo>
                <a:lnTo>
                  <a:pt x="66" y="266"/>
                </a:lnTo>
                <a:lnTo>
                  <a:pt x="64" y="251"/>
                </a:lnTo>
                <a:lnTo>
                  <a:pt x="64" y="236"/>
                </a:lnTo>
                <a:lnTo>
                  <a:pt x="62" y="222"/>
                </a:lnTo>
                <a:lnTo>
                  <a:pt x="60" y="209"/>
                </a:lnTo>
                <a:lnTo>
                  <a:pt x="60" y="195"/>
                </a:lnTo>
                <a:lnTo>
                  <a:pt x="58" y="184"/>
                </a:lnTo>
                <a:lnTo>
                  <a:pt x="56" y="172"/>
                </a:lnTo>
                <a:lnTo>
                  <a:pt x="54" y="161"/>
                </a:lnTo>
                <a:lnTo>
                  <a:pt x="52" y="151"/>
                </a:lnTo>
                <a:lnTo>
                  <a:pt x="50" y="142"/>
                </a:lnTo>
                <a:lnTo>
                  <a:pt x="48" y="134"/>
                </a:lnTo>
                <a:lnTo>
                  <a:pt x="46" y="124"/>
                </a:lnTo>
                <a:lnTo>
                  <a:pt x="45" y="117"/>
                </a:lnTo>
                <a:lnTo>
                  <a:pt x="41" y="111"/>
                </a:lnTo>
                <a:lnTo>
                  <a:pt x="39" y="103"/>
                </a:lnTo>
                <a:lnTo>
                  <a:pt x="37" y="97"/>
                </a:lnTo>
                <a:lnTo>
                  <a:pt x="33" y="94"/>
                </a:lnTo>
                <a:lnTo>
                  <a:pt x="31" y="88"/>
                </a:lnTo>
                <a:lnTo>
                  <a:pt x="27" y="86"/>
                </a:lnTo>
                <a:lnTo>
                  <a:pt x="23" y="82"/>
                </a:lnTo>
                <a:lnTo>
                  <a:pt x="22" y="8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4" name="Freeform 139"/>
          <p:cNvSpPr/>
          <p:nvPr/>
        </p:nvSpPr>
        <p:spPr>
          <a:xfrm>
            <a:off x="6589800" y="3079800"/>
            <a:ext cx="842760" cy="181080"/>
          </a:xfrm>
          <a:custGeom>
            <a:avLst/>
            <a:gdLst/>
            <a:ahLst/>
            <a:rect l="l" t="t" r="r" b="b"/>
            <a:pathLst>
              <a:path w="1064" h="229">
                <a:moveTo>
                  <a:pt x="595" y="177"/>
                </a:moveTo>
                <a:lnTo>
                  <a:pt x="567" y="183"/>
                </a:lnTo>
                <a:lnTo>
                  <a:pt x="540" y="187"/>
                </a:lnTo>
                <a:lnTo>
                  <a:pt x="513" y="190"/>
                </a:lnTo>
                <a:lnTo>
                  <a:pt x="486" y="194"/>
                </a:lnTo>
                <a:lnTo>
                  <a:pt x="461" y="198"/>
                </a:lnTo>
                <a:lnTo>
                  <a:pt x="436" y="200"/>
                </a:lnTo>
                <a:lnTo>
                  <a:pt x="413" y="204"/>
                </a:lnTo>
                <a:lnTo>
                  <a:pt x="390" y="208"/>
                </a:lnTo>
                <a:lnTo>
                  <a:pt x="369" y="210"/>
                </a:lnTo>
                <a:lnTo>
                  <a:pt x="348" y="212"/>
                </a:lnTo>
                <a:lnTo>
                  <a:pt x="327" y="215"/>
                </a:lnTo>
                <a:lnTo>
                  <a:pt x="307" y="217"/>
                </a:lnTo>
                <a:lnTo>
                  <a:pt x="288" y="219"/>
                </a:lnTo>
                <a:lnTo>
                  <a:pt x="269" y="221"/>
                </a:lnTo>
                <a:lnTo>
                  <a:pt x="252" y="221"/>
                </a:lnTo>
                <a:lnTo>
                  <a:pt x="236" y="223"/>
                </a:lnTo>
                <a:lnTo>
                  <a:pt x="221" y="225"/>
                </a:lnTo>
                <a:lnTo>
                  <a:pt x="206" y="225"/>
                </a:lnTo>
                <a:lnTo>
                  <a:pt x="190" y="227"/>
                </a:lnTo>
                <a:lnTo>
                  <a:pt x="177" y="227"/>
                </a:lnTo>
                <a:lnTo>
                  <a:pt x="165" y="229"/>
                </a:lnTo>
                <a:lnTo>
                  <a:pt x="154" y="229"/>
                </a:lnTo>
                <a:lnTo>
                  <a:pt x="142" y="229"/>
                </a:lnTo>
                <a:lnTo>
                  <a:pt x="133" y="229"/>
                </a:lnTo>
                <a:lnTo>
                  <a:pt x="123" y="229"/>
                </a:lnTo>
                <a:lnTo>
                  <a:pt x="114" y="229"/>
                </a:lnTo>
                <a:lnTo>
                  <a:pt x="106" y="229"/>
                </a:lnTo>
                <a:lnTo>
                  <a:pt x="100" y="229"/>
                </a:lnTo>
                <a:lnTo>
                  <a:pt x="92" y="227"/>
                </a:lnTo>
                <a:lnTo>
                  <a:pt x="87" y="227"/>
                </a:lnTo>
                <a:lnTo>
                  <a:pt x="83" y="225"/>
                </a:lnTo>
                <a:lnTo>
                  <a:pt x="79" y="225"/>
                </a:lnTo>
                <a:lnTo>
                  <a:pt x="66" y="219"/>
                </a:lnTo>
                <a:lnTo>
                  <a:pt x="54" y="215"/>
                </a:lnTo>
                <a:lnTo>
                  <a:pt x="43" y="212"/>
                </a:lnTo>
                <a:lnTo>
                  <a:pt x="33" y="206"/>
                </a:lnTo>
                <a:lnTo>
                  <a:pt x="23" y="200"/>
                </a:lnTo>
                <a:lnTo>
                  <a:pt x="16" y="192"/>
                </a:lnTo>
                <a:lnTo>
                  <a:pt x="10" y="187"/>
                </a:lnTo>
                <a:lnTo>
                  <a:pt x="6" y="177"/>
                </a:lnTo>
                <a:lnTo>
                  <a:pt x="2" y="175"/>
                </a:lnTo>
                <a:lnTo>
                  <a:pt x="2" y="173"/>
                </a:lnTo>
                <a:lnTo>
                  <a:pt x="0" y="171"/>
                </a:lnTo>
                <a:lnTo>
                  <a:pt x="0" y="169"/>
                </a:lnTo>
                <a:lnTo>
                  <a:pt x="2" y="165"/>
                </a:lnTo>
                <a:lnTo>
                  <a:pt x="2" y="164"/>
                </a:lnTo>
                <a:lnTo>
                  <a:pt x="4" y="162"/>
                </a:lnTo>
                <a:lnTo>
                  <a:pt x="6" y="160"/>
                </a:lnTo>
                <a:lnTo>
                  <a:pt x="10" y="158"/>
                </a:lnTo>
                <a:lnTo>
                  <a:pt x="14" y="156"/>
                </a:lnTo>
                <a:lnTo>
                  <a:pt x="19" y="154"/>
                </a:lnTo>
                <a:lnTo>
                  <a:pt x="25" y="150"/>
                </a:lnTo>
                <a:lnTo>
                  <a:pt x="31" y="148"/>
                </a:lnTo>
                <a:lnTo>
                  <a:pt x="39" y="146"/>
                </a:lnTo>
                <a:lnTo>
                  <a:pt x="46" y="144"/>
                </a:lnTo>
                <a:lnTo>
                  <a:pt x="54" y="142"/>
                </a:lnTo>
                <a:lnTo>
                  <a:pt x="60" y="141"/>
                </a:lnTo>
                <a:lnTo>
                  <a:pt x="66" y="141"/>
                </a:lnTo>
                <a:lnTo>
                  <a:pt x="71" y="139"/>
                </a:lnTo>
                <a:lnTo>
                  <a:pt x="77" y="137"/>
                </a:lnTo>
                <a:lnTo>
                  <a:pt x="85" y="135"/>
                </a:lnTo>
                <a:lnTo>
                  <a:pt x="92" y="135"/>
                </a:lnTo>
                <a:lnTo>
                  <a:pt x="100" y="133"/>
                </a:lnTo>
                <a:lnTo>
                  <a:pt x="110" y="131"/>
                </a:lnTo>
                <a:lnTo>
                  <a:pt x="119" y="129"/>
                </a:lnTo>
                <a:lnTo>
                  <a:pt x="129" y="127"/>
                </a:lnTo>
                <a:lnTo>
                  <a:pt x="140" y="125"/>
                </a:lnTo>
                <a:lnTo>
                  <a:pt x="150" y="123"/>
                </a:lnTo>
                <a:lnTo>
                  <a:pt x="162" y="121"/>
                </a:lnTo>
                <a:lnTo>
                  <a:pt x="175" y="119"/>
                </a:lnTo>
                <a:lnTo>
                  <a:pt x="186" y="117"/>
                </a:lnTo>
                <a:lnTo>
                  <a:pt x="200" y="114"/>
                </a:lnTo>
                <a:lnTo>
                  <a:pt x="213" y="112"/>
                </a:lnTo>
                <a:lnTo>
                  <a:pt x="229" y="110"/>
                </a:lnTo>
                <a:lnTo>
                  <a:pt x="244" y="106"/>
                </a:lnTo>
                <a:lnTo>
                  <a:pt x="259" y="104"/>
                </a:lnTo>
                <a:lnTo>
                  <a:pt x="275" y="100"/>
                </a:lnTo>
                <a:lnTo>
                  <a:pt x="292" y="98"/>
                </a:lnTo>
                <a:lnTo>
                  <a:pt x="307" y="94"/>
                </a:lnTo>
                <a:lnTo>
                  <a:pt x="327" y="91"/>
                </a:lnTo>
                <a:lnTo>
                  <a:pt x="344" y="87"/>
                </a:lnTo>
                <a:lnTo>
                  <a:pt x="363" y="83"/>
                </a:lnTo>
                <a:lnTo>
                  <a:pt x="382" y="81"/>
                </a:lnTo>
                <a:lnTo>
                  <a:pt x="401" y="77"/>
                </a:lnTo>
                <a:lnTo>
                  <a:pt x="421" y="71"/>
                </a:lnTo>
                <a:lnTo>
                  <a:pt x="442" y="68"/>
                </a:lnTo>
                <a:lnTo>
                  <a:pt x="463" y="64"/>
                </a:lnTo>
                <a:lnTo>
                  <a:pt x="484" y="60"/>
                </a:lnTo>
                <a:lnTo>
                  <a:pt x="507" y="56"/>
                </a:lnTo>
                <a:lnTo>
                  <a:pt x="528" y="52"/>
                </a:lnTo>
                <a:lnTo>
                  <a:pt x="547" y="50"/>
                </a:lnTo>
                <a:lnTo>
                  <a:pt x="568" y="46"/>
                </a:lnTo>
                <a:lnTo>
                  <a:pt x="588" y="43"/>
                </a:lnTo>
                <a:lnTo>
                  <a:pt x="607" y="41"/>
                </a:lnTo>
                <a:lnTo>
                  <a:pt x="626" y="37"/>
                </a:lnTo>
                <a:lnTo>
                  <a:pt x="643" y="35"/>
                </a:lnTo>
                <a:lnTo>
                  <a:pt x="661" y="33"/>
                </a:lnTo>
                <a:lnTo>
                  <a:pt x="678" y="29"/>
                </a:lnTo>
                <a:lnTo>
                  <a:pt x="695" y="27"/>
                </a:lnTo>
                <a:lnTo>
                  <a:pt x="710" y="25"/>
                </a:lnTo>
                <a:lnTo>
                  <a:pt x="726" y="23"/>
                </a:lnTo>
                <a:lnTo>
                  <a:pt x="741" y="20"/>
                </a:lnTo>
                <a:lnTo>
                  <a:pt x="757" y="18"/>
                </a:lnTo>
                <a:lnTo>
                  <a:pt x="770" y="16"/>
                </a:lnTo>
                <a:lnTo>
                  <a:pt x="783" y="14"/>
                </a:lnTo>
                <a:lnTo>
                  <a:pt x="797" y="12"/>
                </a:lnTo>
                <a:lnTo>
                  <a:pt x="810" y="12"/>
                </a:lnTo>
                <a:lnTo>
                  <a:pt x="822" y="10"/>
                </a:lnTo>
                <a:lnTo>
                  <a:pt x="833" y="8"/>
                </a:lnTo>
                <a:lnTo>
                  <a:pt x="845" y="6"/>
                </a:lnTo>
                <a:lnTo>
                  <a:pt x="854" y="6"/>
                </a:lnTo>
                <a:lnTo>
                  <a:pt x="866" y="4"/>
                </a:lnTo>
                <a:lnTo>
                  <a:pt x="876" y="4"/>
                </a:lnTo>
                <a:lnTo>
                  <a:pt x="883" y="2"/>
                </a:lnTo>
                <a:lnTo>
                  <a:pt x="893" y="2"/>
                </a:lnTo>
                <a:lnTo>
                  <a:pt x="900" y="2"/>
                </a:lnTo>
                <a:lnTo>
                  <a:pt x="908" y="0"/>
                </a:lnTo>
                <a:lnTo>
                  <a:pt x="914" y="0"/>
                </a:lnTo>
                <a:lnTo>
                  <a:pt x="922" y="0"/>
                </a:lnTo>
                <a:lnTo>
                  <a:pt x="927" y="0"/>
                </a:lnTo>
                <a:lnTo>
                  <a:pt x="950" y="0"/>
                </a:lnTo>
                <a:lnTo>
                  <a:pt x="972" y="0"/>
                </a:lnTo>
                <a:lnTo>
                  <a:pt x="981" y="0"/>
                </a:lnTo>
                <a:lnTo>
                  <a:pt x="991" y="0"/>
                </a:lnTo>
                <a:lnTo>
                  <a:pt x="998" y="2"/>
                </a:lnTo>
                <a:lnTo>
                  <a:pt x="1008" y="2"/>
                </a:lnTo>
                <a:lnTo>
                  <a:pt x="1016" y="2"/>
                </a:lnTo>
                <a:lnTo>
                  <a:pt x="1021" y="4"/>
                </a:lnTo>
                <a:lnTo>
                  <a:pt x="1029" y="4"/>
                </a:lnTo>
                <a:lnTo>
                  <a:pt x="1035" y="6"/>
                </a:lnTo>
                <a:lnTo>
                  <a:pt x="1041" y="6"/>
                </a:lnTo>
                <a:lnTo>
                  <a:pt x="1044" y="8"/>
                </a:lnTo>
                <a:lnTo>
                  <a:pt x="1048" y="10"/>
                </a:lnTo>
                <a:lnTo>
                  <a:pt x="1050" y="12"/>
                </a:lnTo>
                <a:lnTo>
                  <a:pt x="1054" y="18"/>
                </a:lnTo>
                <a:lnTo>
                  <a:pt x="1058" y="23"/>
                </a:lnTo>
                <a:lnTo>
                  <a:pt x="1060" y="31"/>
                </a:lnTo>
                <a:lnTo>
                  <a:pt x="1062" y="37"/>
                </a:lnTo>
                <a:lnTo>
                  <a:pt x="1062" y="46"/>
                </a:lnTo>
                <a:lnTo>
                  <a:pt x="1062" y="54"/>
                </a:lnTo>
                <a:lnTo>
                  <a:pt x="1064" y="71"/>
                </a:lnTo>
                <a:lnTo>
                  <a:pt x="1062" y="73"/>
                </a:lnTo>
                <a:lnTo>
                  <a:pt x="1062" y="75"/>
                </a:lnTo>
                <a:lnTo>
                  <a:pt x="1058" y="79"/>
                </a:lnTo>
                <a:lnTo>
                  <a:pt x="1056" y="81"/>
                </a:lnTo>
                <a:lnTo>
                  <a:pt x="1050" y="83"/>
                </a:lnTo>
                <a:lnTo>
                  <a:pt x="1046" y="87"/>
                </a:lnTo>
                <a:lnTo>
                  <a:pt x="1041" y="89"/>
                </a:lnTo>
                <a:lnTo>
                  <a:pt x="1033" y="91"/>
                </a:lnTo>
                <a:lnTo>
                  <a:pt x="1025" y="94"/>
                </a:lnTo>
                <a:lnTo>
                  <a:pt x="1016" y="96"/>
                </a:lnTo>
                <a:lnTo>
                  <a:pt x="1006" y="100"/>
                </a:lnTo>
                <a:lnTo>
                  <a:pt x="996" y="102"/>
                </a:lnTo>
                <a:lnTo>
                  <a:pt x="985" y="106"/>
                </a:lnTo>
                <a:lnTo>
                  <a:pt x="972" y="110"/>
                </a:lnTo>
                <a:lnTo>
                  <a:pt x="958" y="112"/>
                </a:lnTo>
                <a:lnTo>
                  <a:pt x="945" y="116"/>
                </a:lnTo>
                <a:lnTo>
                  <a:pt x="929" y="119"/>
                </a:lnTo>
                <a:lnTo>
                  <a:pt x="914" y="121"/>
                </a:lnTo>
                <a:lnTo>
                  <a:pt x="897" y="125"/>
                </a:lnTo>
                <a:lnTo>
                  <a:pt x="877" y="129"/>
                </a:lnTo>
                <a:lnTo>
                  <a:pt x="860" y="133"/>
                </a:lnTo>
                <a:lnTo>
                  <a:pt x="839" y="137"/>
                </a:lnTo>
                <a:lnTo>
                  <a:pt x="820" y="141"/>
                </a:lnTo>
                <a:lnTo>
                  <a:pt x="799" y="144"/>
                </a:lnTo>
                <a:lnTo>
                  <a:pt x="776" y="148"/>
                </a:lnTo>
                <a:lnTo>
                  <a:pt x="753" y="152"/>
                </a:lnTo>
                <a:lnTo>
                  <a:pt x="728" y="156"/>
                </a:lnTo>
                <a:lnTo>
                  <a:pt x="703" y="160"/>
                </a:lnTo>
                <a:lnTo>
                  <a:pt x="678" y="164"/>
                </a:lnTo>
                <a:lnTo>
                  <a:pt x="651" y="169"/>
                </a:lnTo>
                <a:lnTo>
                  <a:pt x="624" y="173"/>
                </a:lnTo>
                <a:lnTo>
                  <a:pt x="595" y="17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Freeform 140"/>
          <p:cNvSpPr/>
          <p:nvPr/>
        </p:nvSpPr>
        <p:spPr>
          <a:xfrm>
            <a:off x="6006960" y="3379680"/>
            <a:ext cx="281160" cy="179640"/>
          </a:xfrm>
          <a:custGeom>
            <a:avLst/>
            <a:gdLst/>
            <a:ahLst/>
            <a:rect l="l" t="t" r="r" b="b"/>
            <a:pathLst>
              <a:path w="353" h="224">
                <a:moveTo>
                  <a:pt x="0" y="23"/>
                </a:moveTo>
                <a:lnTo>
                  <a:pt x="0" y="21"/>
                </a:lnTo>
                <a:lnTo>
                  <a:pt x="2" y="19"/>
                </a:lnTo>
                <a:lnTo>
                  <a:pt x="4" y="17"/>
                </a:lnTo>
                <a:lnTo>
                  <a:pt x="6" y="13"/>
                </a:lnTo>
                <a:lnTo>
                  <a:pt x="8" y="11"/>
                </a:lnTo>
                <a:lnTo>
                  <a:pt x="12" y="9"/>
                </a:lnTo>
                <a:lnTo>
                  <a:pt x="15" y="7"/>
                </a:lnTo>
                <a:lnTo>
                  <a:pt x="19" y="7"/>
                </a:lnTo>
                <a:lnTo>
                  <a:pt x="23" y="5"/>
                </a:lnTo>
                <a:lnTo>
                  <a:pt x="29" y="3"/>
                </a:lnTo>
                <a:lnTo>
                  <a:pt x="35" y="1"/>
                </a:lnTo>
                <a:lnTo>
                  <a:pt x="42" y="1"/>
                </a:lnTo>
                <a:lnTo>
                  <a:pt x="50" y="0"/>
                </a:lnTo>
                <a:lnTo>
                  <a:pt x="58" y="0"/>
                </a:lnTo>
                <a:lnTo>
                  <a:pt x="65" y="0"/>
                </a:lnTo>
                <a:lnTo>
                  <a:pt x="75" y="0"/>
                </a:lnTo>
                <a:lnTo>
                  <a:pt x="83" y="0"/>
                </a:lnTo>
                <a:lnTo>
                  <a:pt x="90" y="0"/>
                </a:lnTo>
                <a:lnTo>
                  <a:pt x="98" y="0"/>
                </a:lnTo>
                <a:lnTo>
                  <a:pt x="106" y="1"/>
                </a:lnTo>
                <a:lnTo>
                  <a:pt x="125" y="3"/>
                </a:lnTo>
                <a:lnTo>
                  <a:pt x="146" y="7"/>
                </a:lnTo>
                <a:lnTo>
                  <a:pt x="167" y="9"/>
                </a:lnTo>
                <a:lnTo>
                  <a:pt x="188" y="13"/>
                </a:lnTo>
                <a:lnTo>
                  <a:pt x="211" y="19"/>
                </a:lnTo>
                <a:lnTo>
                  <a:pt x="234" y="23"/>
                </a:lnTo>
                <a:lnTo>
                  <a:pt x="246" y="26"/>
                </a:lnTo>
                <a:lnTo>
                  <a:pt x="255" y="32"/>
                </a:lnTo>
                <a:lnTo>
                  <a:pt x="267" y="38"/>
                </a:lnTo>
                <a:lnTo>
                  <a:pt x="276" y="42"/>
                </a:lnTo>
                <a:lnTo>
                  <a:pt x="284" y="48"/>
                </a:lnTo>
                <a:lnTo>
                  <a:pt x="294" y="53"/>
                </a:lnTo>
                <a:lnTo>
                  <a:pt x="301" y="59"/>
                </a:lnTo>
                <a:lnTo>
                  <a:pt x="307" y="65"/>
                </a:lnTo>
                <a:lnTo>
                  <a:pt x="315" y="71"/>
                </a:lnTo>
                <a:lnTo>
                  <a:pt x="321" y="78"/>
                </a:lnTo>
                <a:lnTo>
                  <a:pt x="326" y="84"/>
                </a:lnTo>
                <a:lnTo>
                  <a:pt x="330" y="90"/>
                </a:lnTo>
                <a:lnTo>
                  <a:pt x="336" y="97"/>
                </a:lnTo>
                <a:lnTo>
                  <a:pt x="340" y="103"/>
                </a:lnTo>
                <a:lnTo>
                  <a:pt x="342" y="111"/>
                </a:lnTo>
                <a:lnTo>
                  <a:pt x="346" y="117"/>
                </a:lnTo>
                <a:lnTo>
                  <a:pt x="347" y="126"/>
                </a:lnTo>
                <a:lnTo>
                  <a:pt x="349" y="134"/>
                </a:lnTo>
                <a:lnTo>
                  <a:pt x="349" y="142"/>
                </a:lnTo>
                <a:lnTo>
                  <a:pt x="351" y="147"/>
                </a:lnTo>
                <a:lnTo>
                  <a:pt x="353" y="155"/>
                </a:lnTo>
                <a:lnTo>
                  <a:pt x="353" y="161"/>
                </a:lnTo>
                <a:lnTo>
                  <a:pt x="353" y="172"/>
                </a:lnTo>
                <a:lnTo>
                  <a:pt x="353" y="180"/>
                </a:lnTo>
                <a:lnTo>
                  <a:pt x="351" y="188"/>
                </a:lnTo>
                <a:lnTo>
                  <a:pt x="349" y="193"/>
                </a:lnTo>
                <a:lnTo>
                  <a:pt x="346" y="199"/>
                </a:lnTo>
                <a:lnTo>
                  <a:pt x="336" y="209"/>
                </a:lnTo>
                <a:lnTo>
                  <a:pt x="330" y="213"/>
                </a:lnTo>
                <a:lnTo>
                  <a:pt x="324" y="216"/>
                </a:lnTo>
                <a:lnTo>
                  <a:pt x="319" y="218"/>
                </a:lnTo>
                <a:lnTo>
                  <a:pt x="313" y="220"/>
                </a:lnTo>
                <a:lnTo>
                  <a:pt x="305" y="222"/>
                </a:lnTo>
                <a:lnTo>
                  <a:pt x="296" y="224"/>
                </a:lnTo>
                <a:lnTo>
                  <a:pt x="290" y="222"/>
                </a:lnTo>
                <a:lnTo>
                  <a:pt x="286" y="222"/>
                </a:lnTo>
                <a:lnTo>
                  <a:pt x="278" y="220"/>
                </a:lnTo>
                <a:lnTo>
                  <a:pt x="273" y="216"/>
                </a:lnTo>
                <a:lnTo>
                  <a:pt x="265" y="213"/>
                </a:lnTo>
                <a:lnTo>
                  <a:pt x="257" y="209"/>
                </a:lnTo>
                <a:lnTo>
                  <a:pt x="248" y="205"/>
                </a:lnTo>
                <a:lnTo>
                  <a:pt x="238" y="199"/>
                </a:lnTo>
                <a:lnTo>
                  <a:pt x="228" y="191"/>
                </a:lnTo>
                <a:lnTo>
                  <a:pt x="217" y="186"/>
                </a:lnTo>
                <a:lnTo>
                  <a:pt x="205" y="178"/>
                </a:lnTo>
                <a:lnTo>
                  <a:pt x="194" y="168"/>
                </a:lnTo>
                <a:lnTo>
                  <a:pt x="180" y="159"/>
                </a:lnTo>
                <a:lnTo>
                  <a:pt x="167" y="149"/>
                </a:lnTo>
                <a:lnTo>
                  <a:pt x="152" y="140"/>
                </a:lnTo>
                <a:lnTo>
                  <a:pt x="136" y="128"/>
                </a:lnTo>
                <a:lnTo>
                  <a:pt x="121" y="119"/>
                </a:lnTo>
                <a:lnTo>
                  <a:pt x="106" y="107"/>
                </a:lnTo>
                <a:lnTo>
                  <a:pt x="92" y="97"/>
                </a:lnTo>
                <a:lnTo>
                  <a:pt x="79" y="88"/>
                </a:lnTo>
                <a:lnTo>
                  <a:pt x="67" y="80"/>
                </a:lnTo>
                <a:lnTo>
                  <a:pt x="56" y="72"/>
                </a:lnTo>
                <a:lnTo>
                  <a:pt x="46" y="65"/>
                </a:lnTo>
                <a:lnTo>
                  <a:pt x="37" y="57"/>
                </a:lnTo>
                <a:lnTo>
                  <a:pt x="29" y="51"/>
                </a:lnTo>
                <a:lnTo>
                  <a:pt x="21" y="46"/>
                </a:lnTo>
                <a:lnTo>
                  <a:pt x="15" y="40"/>
                </a:lnTo>
                <a:lnTo>
                  <a:pt x="10" y="36"/>
                </a:lnTo>
                <a:lnTo>
                  <a:pt x="6" y="32"/>
                </a:lnTo>
                <a:lnTo>
                  <a:pt x="2" y="28"/>
                </a:lnTo>
                <a:lnTo>
                  <a:pt x="2" y="24"/>
                </a:lnTo>
                <a:lnTo>
                  <a:pt x="0" y="2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Freeform 141"/>
          <p:cNvSpPr/>
          <p:nvPr/>
        </p:nvSpPr>
        <p:spPr>
          <a:xfrm>
            <a:off x="5872320" y="2960640"/>
            <a:ext cx="228600" cy="2038320"/>
          </a:xfrm>
          <a:custGeom>
            <a:avLst/>
            <a:gdLst/>
            <a:ahLst/>
            <a:rect l="l" t="t" r="r" b="b"/>
            <a:pathLst>
              <a:path w="288" h="2568">
                <a:moveTo>
                  <a:pt x="23" y="90"/>
                </a:moveTo>
                <a:lnTo>
                  <a:pt x="19" y="84"/>
                </a:lnTo>
                <a:lnTo>
                  <a:pt x="16" y="78"/>
                </a:lnTo>
                <a:lnTo>
                  <a:pt x="14" y="73"/>
                </a:lnTo>
                <a:lnTo>
                  <a:pt x="10" y="67"/>
                </a:lnTo>
                <a:lnTo>
                  <a:pt x="8" y="61"/>
                </a:lnTo>
                <a:lnTo>
                  <a:pt x="6" y="55"/>
                </a:lnTo>
                <a:lnTo>
                  <a:pt x="4" y="46"/>
                </a:lnTo>
                <a:lnTo>
                  <a:pt x="4" y="34"/>
                </a:lnTo>
                <a:lnTo>
                  <a:pt x="6" y="27"/>
                </a:lnTo>
                <a:lnTo>
                  <a:pt x="8" y="17"/>
                </a:lnTo>
                <a:lnTo>
                  <a:pt x="12" y="7"/>
                </a:lnTo>
                <a:lnTo>
                  <a:pt x="14" y="5"/>
                </a:lnTo>
                <a:lnTo>
                  <a:pt x="18" y="4"/>
                </a:lnTo>
                <a:lnTo>
                  <a:pt x="21" y="4"/>
                </a:lnTo>
                <a:lnTo>
                  <a:pt x="25" y="2"/>
                </a:lnTo>
                <a:lnTo>
                  <a:pt x="31" y="0"/>
                </a:lnTo>
                <a:lnTo>
                  <a:pt x="37" y="0"/>
                </a:lnTo>
                <a:lnTo>
                  <a:pt x="44" y="0"/>
                </a:lnTo>
                <a:lnTo>
                  <a:pt x="52" y="0"/>
                </a:lnTo>
                <a:lnTo>
                  <a:pt x="60" y="0"/>
                </a:lnTo>
                <a:lnTo>
                  <a:pt x="69" y="0"/>
                </a:lnTo>
                <a:lnTo>
                  <a:pt x="79" y="0"/>
                </a:lnTo>
                <a:lnTo>
                  <a:pt x="90" y="2"/>
                </a:lnTo>
                <a:lnTo>
                  <a:pt x="104" y="2"/>
                </a:lnTo>
                <a:lnTo>
                  <a:pt x="117" y="4"/>
                </a:lnTo>
                <a:lnTo>
                  <a:pt x="131" y="5"/>
                </a:lnTo>
                <a:lnTo>
                  <a:pt x="148" y="7"/>
                </a:lnTo>
                <a:lnTo>
                  <a:pt x="161" y="13"/>
                </a:lnTo>
                <a:lnTo>
                  <a:pt x="173" y="17"/>
                </a:lnTo>
                <a:lnTo>
                  <a:pt x="186" y="21"/>
                </a:lnTo>
                <a:lnTo>
                  <a:pt x="198" y="27"/>
                </a:lnTo>
                <a:lnTo>
                  <a:pt x="209" y="30"/>
                </a:lnTo>
                <a:lnTo>
                  <a:pt x="219" y="34"/>
                </a:lnTo>
                <a:lnTo>
                  <a:pt x="229" y="38"/>
                </a:lnTo>
                <a:lnTo>
                  <a:pt x="238" y="44"/>
                </a:lnTo>
                <a:lnTo>
                  <a:pt x="246" y="48"/>
                </a:lnTo>
                <a:lnTo>
                  <a:pt x="254" y="51"/>
                </a:lnTo>
                <a:lnTo>
                  <a:pt x="259" y="57"/>
                </a:lnTo>
                <a:lnTo>
                  <a:pt x="267" y="61"/>
                </a:lnTo>
                <a:lnTo>
                  <a:pt x="271" y="65"/>
                </a:lnTo>
                <a:lnTo>
                  <a:pt x="277" y="71"/>
                </a:lnTo>
                <a:lnTo>
                  <a:pt x="280" y="75"/>
                </a:lnTo>
                <a:lnTo>
                  <a:pt x="282" y="78"/>
                </a:lnTo>
                <a:lnTo>
                  <a:pt x="284" y="84"/>
                </a:lnTo>
                <a:lnTo>
                  <a:pt x="286" y="88"/>
                </a:lnTo>
                <a:lnTo>
                  <a:pt x="286" y="94"/>
                </a:lnTo>
                <a:lnTo>
                  <a:pt x="288" y="99"/>
                </a:lnTo>
                <a:lnTo>
                  <a:pt x="286" y="109"/>
                </a:lnTo>
                <a:lnTo>
                  <a:pt x="284" y="123"/>
                </a:lnTo>
                <a:lnTo>
                  <a:pt x="282" y="134"/>
                </a:lnTo>
                <a:lnTo>
                  <a:pt x="279" y="147"/>
                </a:lnTo>
                <a:lnTo>
                  <a:pt x="275" y="159"/>
                </a:lnTo>
                <a:lnTo>
                  <a:pt x="271" y="172"/>
                </a:lnTo>
                <a:lnTo>
                  <a:pt x="267" y="182"/>
                </a:lnTo>
                <a:lnTo>
                  <a:pt x="265" y="192"/>
                </a:lnTo>
                <a:lnTo>
                  <a:pt x="263" y="203"/>
                </a:lnTo>
                <a:lnTo>
                  <a:pt x="261" y="215"/>
                </a:lnTo>
                <a:lnTo>
                  <a:pt x="259" y="228"/>
                </a:lnTo>
                <a:lnTo>
                  <a:pt x="256" y="240"/>
                </a:lnTo>
                <a:lnTo>
                  <a:pt x="254" y="255"/>
                </a:lnTo>
                <a:lnTo>
                  <a:pt x="252" y="268"/>
                </a:lnTo>
                <a:lnTo>
                  <a:pt x="250" y="284"/>
                </a:lnTo>
                <a:lnTo>
                  <a:pt x="246" y="301"/>
                </a:lnTo>
                <a:lnTo>
                  <a:pt x="244" y="316"/>
                </a:lnTo>
                <a:lnTo>
                  <a:pt x="242" y="334"/>
                </a:lnTo>
                <a:lnTo>
                  <a:pt x="240" y="353"/>
                </a:lnTo>
                <a:lnTo>
                  <a:pt x="238" y="370"/>
                </a:lnTo>
                <a:lnTo>
                  <a:pt x="234" y="389"/>
                </a:lnTo>
                <a:lnTo>
                  <a:pt x="232" y="409"/>
                </a:lnTo>
                <a:lnTo>
                  <a:pt x="232" y="420"/>
                </a:lnTo>
                <a:lnTo>
                  <a:pt x="231" y="430"/>
                </a:lnTo>
                <a:lnTo>
                  <a:pt x="231" y="441"/>
                </a:lnTo>
                <a:lnTo>
                  <a:pt x="229" y="455"/>
                </a:lnTo>
                <a:lnTo>
                  <a:pt x="227" y="468"/>
                </a:lnTo>
                <a:lnTo>
                  <a:pt x="227" y="481"/>
                </a:lnTo>
                <a:lnTo>
                  <a:pt x="225" y="495"/>
                </a:lnTo>
                <a:lnTo>
                  <a:pt x="225" y="510"/>
                </a:lnTo>
                <a:lnTo>
                  <a:pt x="223" y="526"/>
                </a:lnTo>
                <a:lnTo>
                  <a:pt x="223" y="543"/>
                </a:lnTo>
                <a:lnTo>
                  <a:pt x="221" y="560"/>
                </a:lnTo>
                <a:lnTo>
                  <a:pt x="219" y="577"/>
                </a:lnTo>
                <a:lnTo>
                  <a:pt x="219" y="597"/>
                </a:lnTo>
                <a:lnTo>
                  <a:pt x="217" y="616"/>
                </a:lnTo>
                <a:lnTo>
                  <a:pt x="217" y="635"/>
                </a:lnTo>
                <a:lnTo>
                  <a:pt x="217" y="654"/>
                </a:lnTo>
                <a:lnTo>
                  <a:pt x="215" y="675"/>
                </a:lnTo>
                <a:lnTo>
                  <a:pt x="215" y="698"/>
                </a:lnTo>
                <a:lnTo>
                  <a:pt x="213" y="719"/>
                </a:lnTo>
                <a:lnTo>
                  <a:pt x="213" y="743"/>
                </a:lnTo>
                <a:lnTo>
                  <a:pt x="213" y="767"/>
                </a:lnTo>
                <a:lnTo>
                  <a:pt x="211" y="791"/>
                </a:lnTo>
                <a:lnTo>
                  <a:pt x="211" y="815"/>
                </a:lnTo>
                <a:lnTo>
                  <a:pt x="211" y="842"/>
                </a:lnTo>
                <a:lnTo>
                  <a:pt x="209" y="867"/>
                </a:lnTo>
                <a:lnTo>
                  <a:pt x="209" y="894"/>
                </a:lnTo>
                <a:lnTo>
                  <a:pt x="209" y="923"/>
                </a:lnTo>
                <a:lnTo>
                  <a:pt x="209" y="950"/>
                </a:lnTo>
                <a:lnTo>
                  <a:pt x="209" y="979"/>
                </a:lnTo>
                <a:lnTo>
                  <a:pt x="209" y="1009"/>
                </a:lnTo>
                <a:lnTo>
                  <a:pt x="209" y="1038"/>
                </a:lnTo>
                <a:lnTo>
                  <a:pt x="209" y="1069"/>
                </a:lnTo>
                <a:lnTo>
                  <a:pt x="208" y="1101"/>
                </a:lnTo>
                <a:lnTo>
                  <a:pt x="206" y="1132"/>
                </a:lnTo>
                <a:lnTo>
                  <a:pt x="206" y="1163"/>
                </a:lnTo>
                <a:lnTo>
                  <a:pt x="204" y="1194"/>
                </a:lnTo>
                <a:lnTo>
                  <a:pt x="204" y="1253"/>
                </a:lnTo>
                <a:lnTo>
                  <a:pt x="202" y="1311"/>
                </a:lnTo>
                <a:lnTo>
                  <a:pt x="200" y="1366"/>
                </a:lnTo>
                <a:lnTo>
                  <a:pt x="200" y="1420"/>
                </a:lnTo>
                <a:lnTo>
                  <a:pt x="198" y="1472"/>
                </a:lnTo>
                <a:lnTo>
                  <a:pt x="198" y="1522"/>
                </a:lnTo>
                <a:lnTo>
                  <a:pt x="198" y="1570"/>
                </a:lnTo>
                <a:lnTo>
                  <a:pt x="196" y="1616"/>
                </a:lnTo>
                <a:lnTo>
                  <a:pt x="196" y="1662"/>
                </a:lnTo>
                <a:lnTo>
                  <a:pt x="196" y="1704"/>
                </a:lnTo>
                <a:lnTo>
                  <a:pt x="196" y="1746"/>
                </a:lnTo>
                <a:lnTo>
                  <a:pt x="196" y="1785"/>
                </a:lnTo>
                <a:lnTo>
                  <a:pt x="196" y="1823"/>
                </a:lnTo>
                <a:lnTo>
                  <a:pt x="196" y="1860"/>
                </a:lnTo>
                <a:lnTo>
                  <a:pt x="196" y="1896"/>
                </a:lnTo>
                <a:lnTo>
                  <a:pt x="196" y="1933"/>
                </a:lnTo>
                <a:lnTo>
                  <a:pt x="194" y="1969"/>
                </a:lnTo>
                <a:lnTo>
                  <a:pt x="194" y="2004"/>
                </a:lnTo>
                <a:lnTo>
                  <a:pt x="192" y="2038"/>
                </a:lnTo>
                <a:lnTo>
                  <a:pt x="192" y="2071"/>
                </a:lnTo>
                <a:lnTo>
                  <a:pt x="190" y="2103"/>
                </a:lnTo>
                <a:lnTo>
                  <a:pt x="188" y="2134"/>
                </a:lnTo>
                <a:lnTo>
                  <a:pt x="186" y="2167"/>
                </a:lnTo>
                <a:lnTo>
                  <a:pt x="185" y="2198"/>
                </a:lnTo>
                <a:lnTo>
                  <a:pt x="183" y="2226"/>
                </a:lnTo>
                <a:lnTo>
                  <a:pt x="181" y="2255"/>
                </a:lnTo>
                <a:lnTo>
                  <a:pt x="179" y="2284"/>
                </a:lnTo>
                <a:lnTo>
                  <a:pt x="177" y="2313"/>
                </a:lnTo>
                <a:lnTo>
                  <a:pt x="173" y="2340"/>
                </a:lnTo>
                <a:lnTo>
                  <a:pt x="171" y="2366"/>
                </a:lnTo>
                <a:lnTo>
                  <a:pt x="169" y="2389"/>
                </a:lnTo>
                <a:lnTo>
                  <a:pt x="167" y="2413"/>
                </a:lnTo>
                <a:lnTo>
                  <a:pt x="163" y="2434"/>
                </a:lnTo>
                <a:lnTo>
                  <a:pt x="160" y="2453"/>
                </a:lnTo>
                <a:lnTo>
                  <a:pt x="158" y="2470"/>
                </a:lnTo>
                <a:lnTo>
                  <a:pt x="154" y="2487"/>
                </a:lnTo>
                <a:lnTo>
                  <a:pt x="150" y="2503"/>
                </a:lnTo>
                <a:lnTo>
                  <a:pt x="146" y="2516"/>
                </a:lnTo>
                <a:lnTo>
                  <a:pt x="142" y="2528"/>
                </a:lnTo>
                <a:lnTo>
                  <a:pt x="137" y="2537"/>
                </a:lnTo>
                <a:lnTo>
                  <a:pt x="133" y="2547"/>
                </a:lnTo>
                <a:lnTo>
                  <a:pt x="129" y="2555"/>
                </a:lnTo>
                <a:lnTo>
                  <a:pt x="123" y="2560"/>
                </a:lnTo>
                <a:lnTo>
                  <a:pt x="119" y="2564"/>
                </a:lnTo>
                <a:lnTo>
                  <a:pt x="115" y="2566"/>
                </a:lnTo>
                <a:lnTo>
                  <a:pt x="110" y="2568"/>
                </a:lnTo>
                <a:lnTo>
                  <a:pt x="106" y="2564"/>
                </a:lnTo>
                <a:lnTo>
                  <a:pt x="100" y="2562"/>
                </a:lnTo>
                <a:lnTo>
                  <a:pt x="96" y="2558"/>
                </a:lnTo>
                <a:lnTo>
                  <a:pt x="92" y="2553"/>
                </a:lnTo>
                <a:lnTo>
                  <a:pt x="87" y="2549"/>
                </a:lnTo>
                <a:lnTo>
                  <a:pt x="83" y="2543"/>
                </a:lnTo>
                <a:lnTo>
                  <a:pt x="77" y="2537"/>
                </a:lnTo>
                <a:lnTo>
                  <a:pt x="73" y="2530"/>
                </a:lnTo>
                <a:lnTo>
                  <a:pt x="69" y="2522"/>
                </a:lnTo>
                <a:lnTo>
                  <a:pt x="64" y="2514"/>
                </a:lnTo>
                <a:lnTo>
                  <a:pt x="60" y="2505"/>
                </a:lnTo>
                <a:lnTo>
                  <a:pt x="54" y="2495"/>
                </a:lnTo>
                <a:lnTo>
                  <a:pt x="50" y="2485"/>
                </a:lnTo>
                <a:lnTo>
                  <a:pt x="44" y="2474"/>
                </a:lnTo>
                <a:lnTo>
                  <a:pt x="41" y="2462"/>
                </a:lnTo>
                <a:lnTo>
                  <a:pt x="37" y="2449"/>
                </a:lnTo>
                <a:lnTo>
                  <a:pt x="31" y="2436"/>
                </a:lnTo>
                <a:lnTo>
                  <a:pt x="27" y="2424"/>
                </a:lnTo>
                <a:lnTo>
                  <a:pt x="23" y="2413"/>
                </a:lnTo>
                <a:lnTo>
                  <a:pt x="19" y="2403"/>
                </a:lnTo>
                <a:lnTo>
                  <a:pt x="18" y="2393"/>
                </a:lnTo>
                <a:lnTo>
                  <a:pt x="14" y="2384"/>
                </a:lnTo>
                <a:lnTo>
                  <a:pt x="12" y="2374"/>
                </a:lnTo>
                <a:lnTo>
                  <a:pt x="8" y="2366"/>
                </a:lnTo>
                <a:lnTo>
                  <a:pt x="6" y="2359"/>
                </a:lnTo>
                <a:lnTo>
                  <a:pt x="4" y="2353"/>
                </a:lnTo>
                <a:lnTo>
                  <a:pt x="2" y="2345"/>
                </a:lnTo>
                <a:lnTo>
                  <a:pt x="2" y="2340"/>
                </a:lnTo>
                <a:lnTo>
                  <a:pt x="0" y="2328"/>
                </a:lnTo>
                <a:lnTo>
                  <a:pt x="0" y="2320"/>
                </a:lnTo>
                <a:lnTo>
                  <a:pt x="0" y="2318"/>
                </a:lnTo>
                <a:lnTo>
                  <a:pt x="0" y="2317"/>
                </a:lnTo>
                <a:lnTo>
                  <a:pt x="0" y="2313"/>
                </a:lnTo>
                <a:lnTo>
                  <a:pt x="0" y="2309"/>
                </a:lnTo>
                <a:lnTo>
                  <a:pt x="0" y="2305"/>
                </a:lnTo>
                <a:lnTo>
                  <a:pt x="0" y="2301"/>
                </a:lnTo>
                <a:lnTo>
                  <a:pt x="0" y="2295"/>
                </a:lnTo>
                <a:lnTo>
                  <a:pt x="2" y="2288"/>
                </a:lnTo>
                <a:lnTo>
                  <a:pt x="2" y="2282"/>
                </a:lnTo>
                <a:lnTo>
                  <a:pt x="2" y="2274"/>
                </a:lnTo>
                <a:lnTo>
                  <a:pt x="4" y="2265"/>
                </a:lnTo>
                <a:lnTo>
                  <a:pt x="4" y="2255"/>
                </a:lnTo>
                <a:lnTo>
                  <a:pt x="6" y="2246"/>
                </a:lnTo>
                <a:lnTo>
                  <a:pt x="6" y="2236"/>
                </a:lnTo>
                <a:lnTo>
                  <a:pt x="8" y="2224"/>
                </a:lnTo>
                <a:lnTo>
                  <a:pt x="8" y="2211"/>
                </a:lnTo>
                <a:lnTo>
                  <a:pt x="10" y="2199"/>
                </a:lnTo>
                <a:lnTo>
                  <a:pt x="12" y="2186"/>
                </a:lnTo>
                <a:lnTo>
                  <a:pt x="12" y="2171"/>
                </a:lnTo>
                <a:lnTo>
                  <a:pt x="14" y="2155"/>
                </a:lnTo>
                <a:lnTo>
                  <a:pt x="16" y="2140"/>
                </a:lnTo>
                <a:lnTo>
                  <a:pt x="18" y="2125"/>
                </a:lnTo>
                <a:lnTo>
                  <a:pt x="19" y="2107"/>
                </a:lnTo>
                <a:lnTo>
                  <a:pt x="19" y="2088"/>
                </a:lnTo>
                <a:lnTo>
                  <a:pt x="21" y="2071"/>
                </a:lnTo>
                <a:lnTo>
                  <a:pt x="23" y="2050"/>
                </a:lnTo>
                <a:lnTo>
                  <a:pt x="25" y="2031"/>
                </a:lnTo>
                <a:lnTo>
                  <a:pt x="27" y="2009"/>
                </a:lnTo>
                <a:lnTo>
                  <a:pt x="29" y="1988"/>
                </a:lnTo>
                <a:lnTo>
                  <a:pt x="31" y="1965"/>
                </a:lnTo>
                <a:lnTo>
                  <a:pt x="35" y="1942"/>
                </a:lnTo>
                <a:lnTo>
                  <a:pt x="37" y="1919"/>
                </a:lnTo>
                <a:lnTo>
                  <a:pt x="41" y="1821"/>
                </a:lnTo>
                <a:lnTo>
                  <a:pt x="46" y="1725"/>
                </a:lnTo>
                <a:lnTo>
                  <a:pt x="50" y="1631"/>
                </a:lnTo>
                <a:lnTo>
                  <a:pt x="54" y="1539"/>
                </a:lnTo>
                <a:lnTo>
                  <a:pt x="60" y="1445"/>
                </a:lnTo>
                <a:lnTo>
                  <a:pt x="64" y="1355"/>
                </a:lnTo>
                <a:lnTo>
                  <a:pt x="69" y="1265"/>
                </a:lnTo>
                <a:lnTo>
                  <a:pt x="73" y="1176"/>
                </a:lnTo>
                <a:lnTo>
                  <a:pt x="75" y="1134"/>
                </a:lnTo>
                <a:lnTo>
                  <a:pt x="77" y="1092"/>
                </a:lnTo>
                <a:lnTo>
                  <a:pt x="79" y="1052"/>
                </a:lnTo>
                <a:lnTo>
                  <a:pt x="81" y="1011"/>
                </a:lnTo>
                <a:lnTo>
                  <a:pt x="81" y="973"/>
                </a:lnTo>
                <a:lnTo>
                  <a:pt x="83" y="934"/>
                </a:lnTo>
                <a:lnTo>
                  <a:pt x="83" y="896"/>
                </a:lnTo>
                <a:lnTo>
                  <a:pt x="85" y="860"/>
                </a:lnTo>
                <a:lnTo>
                  <a:pt x="85" y="823"/>
                </a:lnTo>
                <a:lnTo>
                  <a:pt x="85" y="789"/>
                </a:lnTo>
                <a:lnTo>
                  <a:pt x="85" y="754"/>
                </a:lnTo>
                <a:lnTo>
                  <a:pt x="85" y="721"/>
                </a:lnTo>
                <a:lnTo>
                  <a:pt x="85" y="689"/>
                </a:lnTo>
                <a:lnTo>
                  <a:pt x="85" y="658"/>
                </a:lnTo>
                <a:lnTo>
                  <a:pt x="87" y="627"/>
                </a:lnTo>
                <a:lnTo>
                  <a:pt x="87" y="599"/>
                </a:lnTo>
                <a:lnTo>
                  <a:pt x="83" y="570"/>
                </a:lnTo>
                <a:lnTo>
                  <a:pt x="81" y="541"/>
                </a:lnTo>
                <a:lnTo>
                  <a:pt x="81" y="516"/>
                </a:lnTo>
                <a:lnTo>
                  <a:pt x="79" y="489"/>
                </a:lnTo>
                <a:lnTo>
                  <a:pt x="77" y="464"/>
                </a:lnTo>
                <a:lnTo>
                  <a:pt x="77" y="441"/>
                </a:lnTo>
                <a:lnTo>
                  <a:pt x="75" y="416"/>
                </a:lnTo>
                <a:lnTo>
                  <a:pt x="75" y="395"/>
                </a:lnTo>
                <a:lnTo>
                  <a:pt x="75" y="372"/>
                </a:lnTo>
                <a:lnTo>
                  <a:pt x="73" y="351"/>
                </a:lnTo>
                <a:lnTo>
                  <a:pt x="73" y="332"/>
                </a:lnTo>
                <a:lnTo>
                  <a:pt x="73" y="313"/>
                </a:lnTo>
                <a:lnTo>
                  <a:pt x="73" y="293"/>
                </a:lnTo>
                <a:lnTo>
                  <a:pt x="73" y="276"/>
                </a:lnTo>
                <a:lnTo>
                  <a:pt x="73" y="261"/>
                </a:lnTo>
                <a:lnTo>
                  <a:pt x="73" y="243"/>
                </a:lnTo>
                <a:lnTo>
                  <a:pt x="71" y="228"/>
                </a:lnTo>
                <a:lnTo>
                  <a:pt x="69" y="215"/>
                </a:lnTo>
                <a:lnTo>
                  <a:pt x="65" y="201"/>
                </a:lnTo>
                <a:lnTo>
                  <a:pt x="64" y="188"/>
                </a:lnTo>
                <a:lnTo>
                  <a:pt x="62" y="176"/>
                </a:lnTo>
                <a:lnTo>
                  <a:pt x="58" y="165"/>
                </a:lnTo>
                <a:lnTo>
                  <a:pt x="56" y="155"/>
                </a:lnTo>
                <a:lnTo>
                  <a:pt x="54" y="146"/>
                </a:lnTo>
                <a:lnTo>
                  <a:pt x="50" y="136"/>
                </a:lnTo>
                <a:lnTo>
                  <a:pt x="46" y="128"/>
                </a:lnTo>
                <a:lnTo>
                  <a:pt x="44" y="121"/>
                </a:lnTo>
                <a:lnTo>
                  <a:pt x="41" y="113"/>
                </a:lnTo>
                <a:lnTo>
                  <a:pt x="37" y="107"/>
                </a:lnTo>
                <a:lnTo>
                  <a:pt x="33" y="101"/>
                </a:lnTo>
                <a:lnTo>
                  <a:pt x="29" y="96"/>
                </a:lnTo>
                <a:lnTo>
                  <a:pt x="23" y="9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Freeform 142"/>
          <p:cNvSpPr/>
          <p:nvPr/>
        </p:nvSpPr>
        <p:spPr>
          <a:xfrm>
            <a:off x="5559480" y="3473280"/>
            <a:ext cx="214200" cy="588960"/>
          </a:xfrm>
          <a:custGeom>
            <a:avLst/>
            <a:gdLst/>
            <a:ahLst/>
            <a:rect l="l" t="t" r="r" b="b"/>
            <a:pathLst>
              <a:path w="270" h="742">
                <a:moveTo>
                  <a:pt x="159" y="696"/>
                </a:moveTo>
                <a:lnTo>
                  <a:pt x="153" y="702"/>
                </a:lnTo>
                <a:lnTo>
                  <a:pt x="146" y="708"/>
                </a:lnTo>
                <a:lnTo>
                  <a:pt x="140" y="714"/>
                </a:lnTo>
                <a:lnTo>
                  <a:pt x="136" y="718"/>
                </a:lnTo>
                <a:lnTo>
                  <a:pt x="130" y="723"/>
                </a:lnTo>
                <a:lnTo>
                  <a:pt x="126" y="727"/>
                </a:lnTo>
                <a:lnTo>
                  <a:pt x="119" y="733"/>
                </a:lnTo>
                <a:lnTo>
                  <a:pt x="113" y="737"/>
                </a:lnTo>
                <a:lnTo>
                  <a:pt x="107" y="741"/>
                </a:lnTo>
                <a:lnTo>
                  <a:pt x="101" y="742"/>
                </a:lnTo>
                <a:lnTo>
                  <a:pt x="98" y="742"/>
                </a:lnTo>
                <a:lnTo>
                  <a:pt x="96" y="742"/>
                </a:lnTo>
                <a:lnTo>
                  <a:pt x="92" y="742"/>
                </a:lnTo>
                <a:lnTo>
                  <a:pt x="90" y="741"/>
                </a:lnTo>
                <a:lnTo>
                  <a:pt x="86" y="739"/>
                </a:lnTo>
                <a:lnTo>
                  <a:pt x="82" y="737"/>
                </a:lnTo>
                <a:lnTo>
                  <a:pt x="78" y="733"/>
                </a:lnTo>
                <a:lnTo>
                  <a:pt x="75" y="729"/>
                </a:lnTo>
                <a:lnTo>
                  <a:pt x="71" y="725"/>
                </a:lnTo>
                <a:lnTo>
                  <a:pt x="67" y="721"/>
                </a:lnTo>
                <a:lnTo>
                  <a:pt x="63" y="716"/>
                </a:lnTo>
                <a:lnTo>
                  <a:pt x="59" y="710"/>
                </a:lnTo>
                <a:lnTo>
                  <a:pt x="54" y="702"/>
                </a:lnTo>
                <a:lnTo>
                  <a:pt x="50" y="696"/>
                </a:lnTo>
                <a:lnTo>
                  <a:pt x="46" y="689"/>
                </a:lnTo>
                <a:lnTo>
                  <a:pt x="40" y="681"/>
                </a:lnTo>
                <a:lnTo>
                  <a:pt x="36" y="671"/>
                </a:lnTo>
                <a:lnTo>
                  <a:pt x="27" y="654"/>
                </a:lnTo>
                <a:lnTo>
                  <a:pt x="19" y="639"/>
                </a:lnTo>
                <a:lnTo>
                  <a:pt x="13" y="623"/>
                </a:lnTo>
                <a:lnTo>
                  <a:pt x="7" y="612"/>
                </a:lnTo>
                <a:lnTo>
                  <a:pt x="4" y="600"/>
                </a:lnTo>
                <a:lnTo>
                  <a:pt x="2" y="595"/>
                </a:lnTo>
                <a:lnTo>
                  <a:pt x="2" y="591"/>
                </a:lnTo>
                <a:lnTo>
                  <a:pt x="0" y="587"/>
                </a:lnTo>
                <a:lnTo>
                  <a:pt x="0" y="583"/>
                </a:lnTo>
                <a:lnTo>
                  <a:pt x="0" y="581"/>
                </a:lnTo>
                <a:lnTo>
                  <a:pt x="0" y="577"/>
                </a:lnTo>
                <a:lnTo>
                  <a:pt x="0" y="575"/>
                </a:lnTo>
                <a:lnTo>
                  <a:pt x="0" y="572"/>
                </a:lnTo>
                <a:lnTo>
                  <a:pt x="2" y="568"/>
                </a:lnTo>
                <a:lnTo>
                  <a:pt x="4" y="562"/>
                </a:lnTo>
                <a:lnTo>
                  <a:pt x="6" y="556"/>
                </a:lnTo>
                <a:lnTo>
                  <a:pt x="9" y="549"/>
                </a:lnTo>
                <a:lnTo>
                  <a:pt x="13" y="541"/>
                </a:lnTo>
                <a:lnTo>
                  <a:pt x="17" y="531"/>
                </a:lnTo>
                <a:lnTo>
                  <a:pt x="21" y="522"/>
                </a:lnTo>
                <a:lnTo>
                  <a:pt x="25" y="512"/>
                </a:lnTo>
                <a:lnTo>
                  <a:pt x="30" y="499"/>
                </a:lnTo>
                <a:lnTo>
                  <a:pt x="36" y="487"/>
                </a:lnTo>
                <a:lnTo>
                  <a:pt x="42" y="472"/>
                </a:lnTo>
                <a:lnTo>
                  <a:pt x="48" y="458"/>
                </a:lnTo>
                <a:lnTo>
                  <a:pt x="54" y="441"/>
                </a:lnTo>
                <a:lnTo>
                  <a:pt x="61" y="424"/>
                </a:lnTo>
                <a:lnTo>
                  <a:pt x="75" y="393"/>
                </a:lnTo>
                <a:lnTo>
                  <a:pt x="86" y="360"/>
                </a:lnTo>
                <a:lnTo>
                  <a:pt x="96" y="328"/>
                </a:lnTo>
                <a:lnTo>
                  <a:pt x="105" y="293"/>
                </a:lnTo>
                <a:lnTo>
                  <a:pt x="113" y="259"/>
                </a:lnTo>
                <a:lnTo>
                  <a:pt x="115" y="241"/>
                </a:lnTo>
                <a:lnTo>
                  <a:pt x="117" y="224"/>
                </a:lnTo>
                <a:lnTo>
                  <a:pt x="119" y="207"/>
                </a:lnTo>
                <a:lnTo>
                  <a:pt x="121" y="188"/>
                </a:lnTo>
                <a:lnTo>
                  <a:pt x="123" y="170"/>
                </a:lnTo>
                <a:lnTo>
                  <a:pt x="123" y="153"/>
                </a:lnTo>
                <a:lnTo>
                  <a:pt x="123" y="136"/>
                </a:lnTo>
                <a:lnTo>
                  <a:pt x="123" y="121"/>
                </a:lnTo>
                <a:lnTo>
                  <a:pt x="123" y="105"/>
                </a:lnTo>
                <a:lnTo>
                  <a:pt x="125" y="92"/>
                </a:lnTo>
                <a:lnTo>
                  <a:pt x="125" y="78"/>
                </a:lnTo>
                <a:lnTo>
                  <a:pt x="126" y="67"/>
                </a:lnTo>
                <a:lnTo>
                  <a:pt x="128" y="55"/>
                </a:lnTo>
                <a:lnTo>
                  <a:pt x="130" y="46"/>
                </a:lnTo>
                <a:lnTo>
                  <a:pt x="132" y="36"/>
                </a:lnTo>
                <a:lnTo>
                  <a:pt x="134" y="28"/>
                </a:lnTo>
                <a:lnTo>
                  <a:pt x="136" y="21"/>
                </a:lnTo>
                <a:lnTo>
                  <a:pt x="138" y="15"/>
                </a:lnTo>
                <a:lnTo>
                  <a:pt x="140" y="11"/>
                </a:lnTo>
                <a:lnTo>
                  <a:pt x="142" y="5"/>
                </a:lnTo>
                <a:lnTo>
                  <a:pt x="144" y="2"/>
                </a:lnTo>
                <a:lnTo>
                  <a:pt x="148" y="0"/>
                </a:lnTo>
                <a:lnTo>
                  <a:pt x="151" y="0"/>
                </a:lnTo>
                <a:lnTo>
                  <a:pt x="157" y="2"/>
                </a:lnTo>
                <a:lnTo>
                  <a:pt x="161" y="5"/>
                </a:lnTo>
                <a:lnTo>
                  <a:pt x="169" y="9"/>
                </a:lnTo>
                <a:lnTo>
                  <a:pt x="176" y="17"/>
                </a:lnTo>
                <a:lnTo>
                  <a:pt x="180" y="21"/>
                </a:lnTo>
                <a:lnTo>
                  <a:pt x="184" y="25"/>
                </a:lnTo>
                <a:lnTo>
                  <a:pt x="190" y="30"/>
                </a:lnTo>
                <a:lnTo>
                  <a:pt x="196" y="34"/>
                </a:lnTo>
                <a:lnTo>
                  <a:pt x="201" y="40"/>
                </a:lnTo>
                <a:lnTo>
                  <a:pt x="209" y="48"/>
                </a:lnTo>
                <a:lnTo>
                  <a:pt x="217" y="61"/>
                </a:lnTo>
                <a:lnTo>
                  <a:pt x="224" y="74"/>
                </a:lnTo>
                <a:lnTo>
                  <a:pt x="232" y="88"/>
                </a:lnTo>
                <a:lnTo>
                  <a:pt x="238" y="103"/>
                </a:lnTo>
                <a:lnTo>
                  <a:pt x="244" y="119"/>
                </a:lnTo>
                <a:lnTo>
                  <a:pt x="247" y="136"/>
                </a:lnTo>
                <a:lnTo>
                  <a:pt x="249" y="146"/>
                </a:lnTo>
                <a:lnTo>
                  <a:pt x="253" y="155"/>
                </a:lnTo>
                <a:lnTo>
                  <a:pt x="255" y="167"/>
                </a:lnTo>
                <a:lnTo>
                  <a:pt x="257" y="176"/>
                </a:lnTo>
                <a:lnTo>
                  <a:pt x="261" y="199"/>
                </a:lnTo>
                <a:lnTo>
                  <a:pt x="265" y="218"/>
                </a:lnTo>
                <a:lnTo>
                  <a:pt x="267" y="240"/>
                </a:lnTo>
                <a:lnTo>
                  <a:pt x="268" y="259"/>
                </a:lnTo>
                <a:lnTo>
                  <a:pt x="268" y="280"/>
                </a:lnTo>
                <a:lnTo>
                  <a:pt x="268" y="299"/>
                </a:lnTo>
                <a:lnTo>
                  <a:pt x="270" y="320"/>
                </a:lnTo>
                <a:lnTo>
                  <a:pt x="270" y="341"/>
                </a:lnTo>
                <a:lnTo>
                  <a:pt x="268" y="364"/>
                </a:lnTo>
                <a:lnTo>
                  <a:pt x="267" y="387"/>
                </a:lnTo>
                <a:lnTo>
                  <a:pt x="265" y="412"/>
                </a:lnTo>
                <a:lnTo>
                  <a:pt x="261" y="435"/>
                </a:lnTo>
                <a:lnTo>
                  <a:pt x="259" y="460"/>
                </a:lnTo>
                <a:lnTo>
                  <a:pt x="253" y="485"/>
                </a:lnTo>
                <a:lnTo>
                  <a:pt x="249" y="508"/>
                </a:lnTo>
                <a:lnTo>
                  <a:pt x="245" y="531"/>
                </a:lnTo>
                <a:lnTo>
                  <a:pt x="242" y="543"/>
                </a:lnTo>
                <a:lnTo>
                  <a:pt x="240" y="556"/>
                </a:lnTo>
                <a:lnTo>
                  <a:pt x="236" y="570"/>
                </a:lnTo>
                <a:lnTo>
                  <a:pt x="232" y="581"/>
                </a:lnTo>
                <a:lnTo>
                  <a:pt x="222" y="604"/>
                </a:lnTo>
                <a:lnTo>
                  <a:pt x="211" y="625"/>
                </a:lnTo>
                <a:lnTo>
                  <a:pt x="199" y="647"/>
                </a:lnTo>
                <a:lnTo>
                  <a:pt x="186" y="664"/>
                </a:lnTo>
                <a:lnTo>
                  <a:pt x="180" y="673"/>
                </a:lnTo>
                <a:lnTo>
                  <a:pt x="173" y="681"/>
                </a:lnTo>
                <a:lnTo>
                  <a:pt x="167" y="689"/>
                </a:lnTo>
                <a:lnTo>
                  <a:pt x="159" y="6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75"/>
                                        </p:tgtEl>
                                        <p:attrNameLst>
                                          <p:attrName>style.visibility</p:attrName>
                                        </p:attrNameLst>
                                      </p:cBhvr>
                                      <p:to>
                                        <p:strVal val="visible"/>
                                      </p:to>
                                    </p:set>
                                    <p:anim calcmode="lin" valueType="num">
                                      <p:cBhvr additive="base">
                                        <p:cTn id="767" dur="500" fill="hold"/>
                                        <p:tgtEl>
                                          <p:spTgt spid="275"/>
                                        </p:tgtEl>
                                        <p:attrNameLst>
                                          <p:attrName>ppt_x</p:attrName>
                                        </p:attrNameLst>
                                      </p:cBhvr>
                                      <p:tavLst>
                                        <p:tav tm="0">
                                          <p:val>
                                            <p:strVal val="0-#ppt_w/2"/>
                                          </p:val>
                                        </p:tav>
                                        <p:tav tm="100000">
                                          <p:val>
                                            <p:strVal val="#ppt_x"/>
                                          </p:val>
                                        </p:tav>
                                      </p:tavLst>
                                    </p:anim>
                                    <p:anim calcmode="lin" valueType="num">
                                      <p:cBhvr additive="base">
                                        <p:cTn id="76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22" presetSubtype="1">
                                  <p:stCondLst>
                                    <p:cond delay="0"/>
                                  </p:stCondLst>
                                  <p:childTnLst>
                                    <p:set>
                                      <p:cBhvr>
                                        <p:cTn id="772" dur="1" fill="hold">
                                          <p:stCondLst>
                                            <p:cond delay="0"/>
                                          </p:stCondLst>
                                        </p:cTn>
                                        <p:tgtEl>
                                          <p:spTgt spid="287"/>
                                        </p:tgtEl>
                                        <p:attrNameLst>
                                          <p:attrName>style.visibility</p:attrName>
                                        </p:attrNameLst>
                                      </p:cBhvr>
                                      <p:to>
                                        <p:strVal val="visible"/>
                                      </p:to>
                                    </p:set>
                                    <p:animEffect filter="wipe(up)" transition="in">
                                      <p:cBhvr additive="repl">
                                        <p:cTn id="773" dur="500"/>
                                        <p:tgtEl>
                                          <p:spTgt spid="287"/>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1">
                                  <p:stCondLst>
                                    <p:cond delay="0"/>
                                  </p:stCondLst>
                                  <p:childTnLst>
                                    <p:set>
                                      <p:cBhvr>
                                        <p:cTn id="777" dur="1" fill="hold">
                                          <p:stCondLst>
                                            <p:cond delay="0"/>
                                          </p:stCondLst>
                                        </p:cTn>
                                        <p:tgtEl>
                                          <p:spTgt spid="285"/>
                                        </p:tgtEl>
                                        <p:attrNameLst>
                                          <p:attrName>style.visibility</p:attrName>
                                        </p:attrNameLst>
                                      </p:cBhvr>
                                      <p:to>
                                        <p:strVal val="visible"/>
                                      </p:to>
                                    </p:set>
                                    <p:animEffect filter="wipe(up)" transition="in">
                                      <p:cBhvr additive="repl">
                                        <p:cTn id="778" dur="500"/>
                                        <p:tgtEl>
                                          <p:spTgt spid="285"/>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1">
                                  <p:stCondLst>
                                    <p:cond delay="0"/>
                                  </p:stCondLst>
                                  <p:childTnLst>
                                    <p:set>
                                      <p:cBhvr>
                                        <p:cTn id="782" dur="1" fill="hold">
                                          <p:stCondLst>
                                            <p:cond delay="0"/>
                                          </p:stCondLst>
                                        </p:cTn>
                                        <p:tgtEl>
                                          <p:spTgt spid="286"/>
                                        </p:tgtEl>
                                        <p:attrNameLst>
                                          <p:attrName>style.visibility</p:attrName>
                                        </p:attrNameLst>
                                      </p:cBhvr>
                                      <p:to>
                                        <p:strVal val="visible"/>
                                      </p:to>
                                    </p:set>
                                    <p:animEffect filter="wipe(up)" transition="in">
                                      <p:cBhvr additive="repl">
                                        <p:cTn id="783" dur="500"/>
                                        <p:tgtEl>
                                          <p:spTgt spid="286"/>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84"/>
                                        </p:tgtEl>
                                        <p:attrNameLst>
                                          <p:attrName>style.visibility</p:attrName>
                                        </p:attrNameLst>
                                      </p:cBhvr>
                                      <p:to>
                                        <p:strVal val="visible"/>
                                      </p:to>
                                    </p:set>
                                    <p:animEffect filter="wipe(left)" transition="in">
                                      <p:cBhvr additive="repl">
                                        <p:cTn id="788" dur="500"/>
                                        <p:tgtEl>
                                          <p:spTgt spid="284"/>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283"/>
                                        </p:tgtEl>
                                        <p:attrNameLst>
                                          <p:attrName>style.visibility</p:attrName>
                                        </p:attrNameLst>
                                      </p:cBhvr>
                                      <p:to>
                                        <p:strVal val="visible"/>
                                      </p:to>
                                    </p:set>
                                    <p:animEffect filter="wipe(up)" transition="in">
                                      <p:cBhvr additive="repl">
                                        <p:cTn id="793" dur="500"/>
                                        <p:tgtEl>
                                          <p:spTgt spid="283"/>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82"/>
                                        </p:tgtEl>
                                        <p:attrNameLst>
                                          <p:attrName>style.visibility</p:attrName>
                                        </p:attrNameLst>
                                      </p:cBhvr>
                                      <p:to>
                                        <p:strVal val="visible"/>
                                      </p:to>
                                    </p:set>
                                    <p:animEffect filter="wipe(left)" transition="in">
                                      <p:cBhvr additive="repl">
                                        <p:cTn id="798" dur="500"/>
                                        <p:tgtEl>
                                          <p:spTgt spid="28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281"/>
                                        </p:tgtEl>
                                        <p:attrNameLst>
                                          <p:attrName>style.visibility</p:attrName>
                                        </p:attrNameLst>
                                      </p:cBhvr>
                                      <p:to>
                                        <p:strVal val="visible"/>
                                      </p:to>
                                    </p:set>
                                    <p:animEffect filter="wipe(up)" transition="in">
                                      <p:cBhvr additive="repl">
                                        <p:cTn id="803" dur="500"/>
                                        <p:tgtEl>
                                          <p:spTgt spid="281"/>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280"/>
                                        </p:tgtEl>
                                        <p:attrNameLst>
                                          <p:attrName>style.visibility</p:attrName>
                                        </p:attrNameLst>
                                      </p:cBhvr>
                                      <p:to>
                                        <p:strVal val="visible"/>
                                      </p:to>
                                    </p:set>
                                    <p:animEffect filter="wipe(up)" transition="in">
                                      <p:cBhvr additive="repl">
                                        <p:cTn id="808" dur="500"/>
                                        <p:tgtEl>
                                          <p:spTgt spid="280"/>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2" presetSubtype="1">
                                  <p:stCondLst>
                                    <p:cond delay="0"/>
                                  </p:stCondLst>
                                  <p:childTnLst>
                                    <p:set>
                                      <p:cBhvr>
                                        <p:cTn id="812" dur="1" fill="hold">
                                          <p:stCondLst>
                                            <p:cond delay="0"/>
                                          </p:stCondLst>
                                        </p:cTn>
                                        <p:tgtEl>
                                          <p:spTgt spid="279"/>
                                        </p:tgtEl>
                                        <p:attrNameLst>
                                          <p:attrName>style.visibility</p:attrName>
                                        </p:attrNameLst>
                                      </p:cBhvr>
                                      <p:to>
                                        <p:strVal val="visible"/>
                                      </p:to>
                                    </p:set>
                                    <p:animEffect filter="wipe(up)" transition="in">
                                      <p:cBhvr additive="repl">
                                        <p:cTn id="813" dur="500"/>
                                        <p:tgtEl>
                                          <p:spTgt spid="279"/>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278"/>
                                        </p:tgtEl>
                                        <p:attrNameLst>
                                          <p:attrName>style.visibility</p:attrName>
                                        </p:attrNameLst>
                                      </p:cBhvr>
                                      <p:to>
                                        <p:strVal val="visible"/>
                                      </p:to>
                                    </p:set>
                                    <p:animEffect filter="wipe(left)" transition="in">
                                      <p:cBhvr additive="repl">
                                        <p:cTn id="818" dur="500"/>
                                        <p:tgtEl>
                                          <p:spTgt spid="278"/>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276"/>
                                        </p:tgtEl>
                                        <p:attrNameLst>
                                          <p:attrName>style.visibility</p:attrName>
                                        </p:attrNameLst>
                                      </p:cBhvr>
                                      <p:to>
                                        <p:strVal val="visible"/>
                                      </p:to>
                                    </p:set>
                                    <p:animEffect filter="wipe(up)" transition="in">
                                      <p:cBhvr additive="repl">
                                        <p:cTn id="823" dur="500"/>
                                        <p:tgtEl>
                                          <p:spTgt spid="276"/>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277"/>
                                        </p:tgtEl>
                                        <p:attrNameLst>
                                          <p:attrName>style.visibility</p:attrName>
                                        </p:attrNameLst>
                                      </p:cBhvr>
                                      <p:to>
                                        <p:strVal val="visible"/>
                                      </p:to>
                                    </p:set>
                                    <p:animEffect filter="wipe(up)" transition="in">
                                      <p:cBhvr additive="repl">
                                        <p:cTn id="828" dur="500"/>
                                        <p:tgtEl>
                                          <p:spTgt spid="277"/>
                                        </p:tgtEl>
                                      </p:cBhvr>
                                    </p:animEffec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53" presetSubtype="16">
                                  <p:stCondLst>
                                    <p:cond delay="0"/>
                                  </p:stCondLst>
                                  <p:childTnLst>
                                    <p:set>
                                      <p:cBhvr>
                                        <p:cTn id="832" dur="1" fill="hold">
                                          <p:stCondLst>
                                            <p:cond delay="0"/>
                                          </p:stCondLst>
                                        </p:cTn>
                                        <p:tgtEl>
                                          <p:spTgt spid="272"/>
                                        </p:tgtEl>
                                        <p:attrNameLst>
                                          <p:attrName>style.visibility</p:attrName>
                                        </p:attrNameLst>
                                      </p:cBhvr>
                                      <p:to>
                                        <p:strVal val="visible"/>
                                      </p:to>
                                    </p:set>
                                    <p:anim calcmode="lin" valueType="num">
                                      <p:cBhvr additive="repl">
                                        <p:cTn id="833" dur="500" fill="hold"/>
                                        <p:tgtEl>
                                          <p:spTgt spid="272"/>
                                        </p:tgtEl>
                                        <p:attrNameLst>
                                          <p:attrName>ppt_w</p:attrName>
                                        </p:attrNameLst>
                                      </p:cBhvr>
                                      <p:tavLst>
                                        <p:tav tm="0">
                                          <p:val>
                                            <p:fltVal val="0"/>
                                          </p:val>
                                        </p:tav>
                                        <p:tav tm="100000">
                                          <p:val>
                                            <p:strVal val="#ppt_w"/>
                                          </p:val>
                                        </p:tav>
                                      </p:tavLst>
                                    </p:anim>
                                    <p:anim calcmode="lin" valueType="num">
                                      <p:cBhvr additive="repl">
                                        <p:cTn id="834" dur="500" fill="hold"/>
                                        <p:tgtEl>
                                          <p:spTgt spid="272"/>
                                        </p:tgtEl>
                                        <p:attrNameLst>
                                          <p:attrName>ppt_h</p:attrName>
                                        </p:attrNameLst>
                                      </p:cBhvr>
                                      <p:tavLst>
                                        <p:tav tm="0">
                                          <p:val>
                                            <p:fltVal val="0"/>
                                          </p:val>
                                        </p:tav>
                                        <p:tav tm="100000">
                                          <p:val>
                                            <p:strVal val="#ppt_h"/>
                                          </p:val>
                                        </p:tav>
                                      </p:tavLst>
                                    </p:anim>
                                    <p:animEffect filter="fade" transition="in">
                                      <p:cBhvr additive="repl">
                                        <p:cTn id="83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惠</a:t>
            </a:r>
            <a:endParaRPr b="0" lang="en-US" sz="8000" spc="-1" strike="noStrike">
              <a:solidFill>
                <a:srgbClr val="000000"/>
              </a:solidFill>
              <a:latin typeface="Calibri"/>
            </a:endParaRPr>
          </a:p>
        </p:txBody>
      </p:sp>
      <p:grpSp>
        <p:nvGrpSpPr>
          <p:cNvPr id="290" name="组合 3"/>
          <p:cNvGrpSpPr/>
          <p:nvPr/>
        </p:nvGrpSpPr>
        <p:grpSpPr>
          <a:xfrm>
            <a:off x="1400040" y="3975120"/>
            <a:ext cx="2840040" cy="1571760"/>
            <a:chOff x="1400040" y="3975120"/>
            <a:chExt cx="2840040" cy="1571760"/>
          </a:xfrm>
        </p:grpSpPr>
        <p:pic>
          <p:nvPicPr>
            <p:cNvPr id="291" name="图示 4" descr=""/>
            <p:cNvPicPr/>
            <p:nvPr/>
          </p:nvPicPr>
          <p:blipFill>
            <a:blip r:embed="rId1"/>
            <a:stretch/>
          </p:blipFill>
          <p:spPr>
            <a:xfrm>
              <a:off x="1400040" y="3975120"/>
              <a:ext cx="2840040" cy="1571760"/>
            </a:xfrm>
            <a:prstGeom prst="rect">
              <a:avLst/>
            </a:prstGeom>
            <a:ln w="0">
              <a:noFill/>
            </a:ln>
          </p:spPr>
        </p:pic>
        <p:sp>
          <p:nvSpPr>
            <p:cNvPr id="292"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上部横画间隔匀称，“心”重心偏右。</a:t>
              </a:r>
              <a:endParaRPr b="0" lang="en-US" sz="2000" spc="-1" strike="noStrike">
                <a:solidFill>
                  <a:srgbClr val="000000"/>
                </a:solidFill>
                <a:latin typeface="Calibri"/>
              </a:endParaRPr>
            </a:p>
          </p:txBody>
        </p:sp>
      </p:grpSp>
      <p:sp>
        <p:nvSpPr>
          <p:cNvPr id="293" name="矩形 2"/>
          <p:cNvSpPr/>
          <p:nvPr/>
        </p:nvSpPr>
        <p:spPr>
          <a:xfrm>
            <a:off x="2192400" y="1825560"/>
            <a:ext cx="1360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huì</a:t>
            </a:r>
            <a:endParaRPr b="0" lang="en-US" sz="4800" spc="-1" strike="noStrike">
              <a:solidFill>
                <a:srgbClr val="000000"/>
              </a:solidFill>
              <a:latin typeface="Calibri"/>
            </a:endParaRPr>
          </a:p>
        </p:txBody>
      </p:sp>
      <p:sp>
        <p:nvSpPr>
          <p:cNvPr id="294" name="Freeform 72"/>
          <p:cNvSpPr/>
          <p:nvPr/>
        </p:nvSpPr>
        <p:spPr>
          <a:xfrm>
            <a:off x="6108840" y="3011400"/>
            <a:ext cx="1006200" cy="244440"/>
          </a:xfrm>
          <a:custGeom>
            <a:avLst/>
            <a:gdLst/>
            <a:ahLst/>
            <a:rect l="l" t="t" r="r" b="b"/>
            <a:pathLst>
              <a:path w="1903" h="460">
                <a:moveTo>
                  <a:pt x="55" y="403"/>
                </a:moveTo>
                <a:lnTo>
                  <a:pt x="43" y="393"/>
                </a:lnTo>
                <a:lnTo>
                  <a:pt x="33" y="385"/>
                </a:lnTo>
                <a:lnTo>
                  <a:pt x="26" y="376"/>
                </a:lnTo>
                <a:lnTo>
                  <a:pt x="19" y="369"/>
                </a:lnTo>
                <a:lnTo>
                  <a:pt x="13" y="362"/>
                </a:lnTo>
                <a:lnTo>
                  <a:pt x="9" y="354"/>
                </a:lnTo>
                <a:lnTo>
                  <a:pt x="6" y="349"/>
                </a:lnTo>
                <a:lnTo>
                  <a:pt x="3" y="344"/>
                </a:lnTo>
                <a:lnTo>
                  <a:pt x="1" y="339"/>
                </a:lnTo>
                <a:lnTo>
                  <a:pt x="0" y="334"/>
                </a:lnTo>
                <a:lnTo>
                  <a:pt x="1" y="330"/>
                </a:lnTo>
                <a:lnTo>
                  <a:pt x="1" y="327"/>
                </a:lnTo>
                <a:lnTo>
                  <a:pt x="4" y="323"/>
                </a:lnTo>
                <a:lnTo>
                  <a:pt x="6" y="318"/>
                </a:lnTo>
                <a:lnTo>
                  <a:pt x="9" y="316"/>
                </a:lnTo>
                <a:lnTo>
                  <a:pt x="13" y="313"/>
                </a:lnTo>
                <a:lnTo>
                  <a:pt x="17" y="313"/>
                </a:lnTo>
                <a:lnTo>
                  <a:pt x="22" y="311"/>
                </a:lnTo>
                <a:lnTo>
                  <a:pt x="26" y="311"/>
                </a:lnTo>
                <a:lnTo>
                  <a:pt x="32" y="311"/>
                </a:lnTo>
                <a:lnTo>
                  <a:pt x="37" y="311"/>
                </a:lnTo>
                <a:lnTo>
                  <a:pt x="45" y="311"/>
                </a:lnTo>
                <a:lnTo>
                  <a:pt x="52" y="310"/>
                </a:lnTo>
                <a:lnTo>
                  <a:pt x="59" y="310"/>
                </a:lnTo>
                <a:lnTo>
                  <a:pt x="66" y="308"/>
                </a:lnTo>
                <a:lnTo>
                  <a:pt x="75" y="307"/>
                </a:lnTo>
                <a:lnTo>
                  <a:pt x="83" y="306"/>
                </a:lnTo>
                <a:lnTo>
                  <a:pt x="94" y="304"/>
                </a:lnTo>
                <a:lnTo>
                  <a:pt x="104" y="303"/>
                </a:lnTo>
                <a:lnTo>
                  <a:pt x="114" y="300"/>
                </a:lnTo>
                <a:lnTo>
                  <a:pt x="125" y="297"/>
                </a:lnTo>
                <a:lnTo>
                  <a:pt x="137" y="294"/>
                </a:lnTo>
                <a:lnTo>
                  <a:pt x="142" y="291"/>
                </a:lnTo>
                <a:lnTo>
                  <a:pt x="150" y="290"/>
                </a:lnTo>
                <a:lnTo>
                  <a:pt x="158" y="287"/>
                </a:lnTo>
                <a:lnTo>
                  <a:pt x="168" y="285"/>
                </a:lnTo>
                <a:lnTo>
                  <a:pt x="178" y="282"/>
                </a:lnTo>
                <a:lnTo>
                  <a:pt x="190" y="280"/>
                </a:lnTo>
                <a:lnTo>
                  <a:pt x="203" y="277"/>
                </a:lnTo>
                <a:lnTo>
                  <a:pt x="217" y="272"/>
                </a:lnTo>
                <a:lnTo>
                  <a:pt x="232" y="270"/>
                </a:lnTo>
                <a:lnTo>
                  <a:pt x="248" y="265"/>
                </a:lnTo>
                <a:lnTo>
                  <a:pt x="265" y="262"/>
                </a:lnTo>
                <a:lnTo>
                  <a:pt x="284" y="258"/>
                </a:lnTo>
                <a:lnTo>
                  <a:pt x="302" y="254"/>
                </a:lnTo>
                <a:lnTo>
                  <a:pt x="322" y="249"/>
                </a:lnTo>
                <a:lnTo>
                  <a:pt x="344" y="244"/>
                </a:lnTo>
                <a:lnTo>
                  <a:pt x="367" y="239"/>
                </a:lnTo>
                <a:lnTo>
                  <a:pt x="390" y="234"/>
                </a:lnTo>
                <a:lnTo>
                  <a:pt x="416" y="228"/>
                </a:lnTo>
                <a:lnTo>
                  <a:pt x="440" y="222"/>
                </a:lnTo>
                <a:lnTo>
                  <a:pt x="468" y="216"/>
                </a:lnTo>
                <a:lnTo>
                  <a:pt x="497" y="211"/>
                </a:lnTo>
                <a:lnTo>
                  <a:pt x="525" y="205"/>
                </a:lnTo>
                <a:lnTo>
                  <a:pt x="556" y="198"/>
                </a:lnTo>
                <a:lnTo>
                  <a:pt x="586" y="192"/>
                </a:lnTo>
                <a:lnTo>
                  <a:pt x="619" y="185"/>
                </a:lnTo>
                <a:lnTo>
                  <a:pt x="652" y="177"/>
                </a:lnTo>
                <a:lnTo>
                  <a:pt x="687" y="169"/>
                </a:lnTo>
                <a:lnTo>
                  <a:pt x="723" y="162"/>
                </a:lnTo>
                <a:lnTo>
                  <a:pt x="759" y="154"/>
                </a:lnTo>
                <a:lnTo>
                  <a:pt x="796" y="146"/>
                </a:lnTo>
                <a:lnTo>
                  <a:pt x="835" y="137"/>
                </a:lnTo>
                <a:lnTo>
                  <a:pt x="875" y="128"/>
                </a:lnTo>
                <a:lnTo>
                  <a:pt x="915" y="120"/>
                </a:lnTo>
                <a:lnTo>
                  <a:pt x="954" y="111"/>
                </a:lnTo>
                <a:lnTo>
                  <a:pt x="992" y="104"/>
                </a:lnTo>
                <a:lnTo>
                  <a:pt x="1029" y="97"/>
                </a:lnTo>
                <a:lnTo>
                  <a:pt x="1065" y="88"/>
                </a:lnTo>
                <a:lnTo>
                  <a:pt x="1101" y="82"/>
                </a:lnTo>
                <a:lnTo>
                  <a:pt x="1134" y="75"/>
                </a:lnTo>
                <a:lnTo>
                  <a:pt x="1167" y="69"/>
                </a:lnTo>
                <a:lnTo>
                  <a:pt x="1201" y="62"/>
                </a:lnTo>
                <a:lnTo>
                  <a:pt x="1232" y="56"/>
                </a:lnTo>
                <a:lnTo>
                  <a:pt x="1262" y="52"/>
                </a:lnTo>
                <a:lnTo>
                  <a:pt x="1293" y="46"/>
                </a:lnTo>
                <a:lnTo>
                  <a:pt x="1321" y="42"/>
                </a:lnTo>
                <a:lnTo>
                  <a:pt x="1349" y="38"/>
                </a:lnTo>
                <a:lnTo>
                  <a:pt x="1376" y="33"/>
                </a:lnTo>
                <a:lnTo>
                  <a:pt x="1402" y="29"/>
                </a:lnTo>
                <a:lnTo>
                  <a:pt x="1427" y="25"/>
                </a:lnTo>
                <a:lnTo>
                  <a:pt x="1451" y="22"/>
                </a:lnTo>
                <a:lnTo>
                  <a:pt x="1474" y="19"/>
                </a:lnTo>
                <a:lnTo>
                  <a:pt x="1497" y="16"/>
                </a:lnTo>
                <a:lnTo>
                  <a:pt x="1517" y="13"/>
                </a:lnTo>
                <a:lnTo>
                  <a:pt x="1539" y="10"/>
                </a:lnTo>
                <a:lnTo>
                  <a:pt x="1559" y="9"/>
                </a:lnTo>
                <a:lnTo>
                  <a:pt x="1578" y="6"/>
                </a:lnTo>
                <a:lnTo>
                  <a:pt x="1595" y="5"/>
                </a:lnTo>
                <a:lnTo>
                  <a:pt x="1612" y="3"/>
                </a:lnTo>
                <a:lnTo>
                  <a:pt x="1628" y="2"/>
                </a:lnTo>
                <a:lnTo>
                  <a:pt x="1644" y="2"/>
                </a:lnTo>
                <a:lnTo>
                  <a:pt x="1658" y="0"/>
                </a:lnTo>
                <a:lnTo>
                  <a:pt x="1673" y="0"/>
                </a:lnTo>
                <a:lnTo>
                  <a:pt x="1686" y="0"/>
                </a:lnTo>
                <a:lnTo>
                  <a:pt x="1697" y="0"/>
                </a:lnTo>
                <a:lnTo>
                  <a:pt x="1720" y="0"/>
                </a:lnTo>
                <a:lnTo>
                  <a:pt x="1740" y="0"/>
                </a:lnTo>
                <a:lnTo>
                  <a:pt x="1761" y="2"/>
                </a:lnTo>
                <a:lnTo>
                  <a:pt x="1778" y="3"/>
                </a:lnTo>
                <a:lnTo>
                  <a:pt x="1795" y="5"/>
                </a:lnTo>
                <a:lnTo>
                  <a:pt x="1811" y="8"/>
                </a:lnTo>
                <a:lnTo>
                  <a:pt x="1825" y="10"/>
                </a:lnTo>
                <a:lnTo>
                  <a:pt x="1838" y="13"/>
                </a:lnTo>
                <a:lnTo>
                  <a:pt x="1850" y="18"/>
                </a:lnTo>
                <a:lnTo>
                  <a:pt x="1861" y="20"/>
                </a:lnTo>
                <a:lnTo>
                  <a:pt x="1870" y="26"/>
                </a:lnTo>
                <a:lnTo>
                  <a:pt x="1879" y="31"/>
                </a:lnTo>
                <a:lnTo>
                  <a:pt x="1886" y="36"/>
                </a:lnTo>
                <a:lnTo>
                  <a:pt x="1893" y="42"/>
                </a:lnTo>
                <a:lnTo>
                  <a:pt x="1899" y="48"/>
                </a:lnTo>
                <a:lnTo>
                  <a:pt x="1903" y="55"/>
                </a:lnTo>
                <a:lnTo>
                  <a:pt x="1902" y="61"/>
                </a:lnTo>
                <a:lnTo>
                  <a:pt x="1902" y="65"/>
                </a:lnTo>
                <a:lnTo>
                  <a:pt x="1900" y="69"/>
                </a:lnTo>
                <a:lnTo>
                  <a:pt x="1897" y="75"/>
                </a:lnTo>
                <a:lnTo>
                  <a:pt x="1894" y="80"/>
                </a:lnTo>
                <a:lnTo>
                  <a:pt x="1892" y="84"/>
                </a:lnTo>
                <a:lnTo>
                  <a:pt x="1887" y="88"/>
                </a:lnTo>
                <a:lnTo>
                  <a:pt x="1883" y="94"/>
                </a:lnTo>
                <a:lnTo>
                  <a:pt x="1879" y="98"/>
                </a:lnTo>
                <a:lnTo>
                  <a:pt x="1873" y="103"/>
                </a:lnTo>
                <a:lnTo>
                  <a:pt x="1866" y="107"/>
                </a:lnTo>
                <a:lnTo>
                  <a:pt x="1858" y="111"/>
                </a:lnTo>
                <a:lnTo>
                  <a:pt x="1851" y="115"/>
                </a:lnTo>
                <a:lnTo>
                  <a:pt x="1844" y="120"/>
                </a:lnTo>
                <a:lnTo>
                  <a:pt x="1834" y="124"/>
                </a:lnTo>
                <a:lnTo>
                  <a:pt x="1825" y="128"/>
                </a:lnTo>
                <a:lnTo>
                  <a:pt x="1815" y="133"/>
                </a:lnTo>
                <a:lnTo>
                  <a:pt x="1805" y="137"/>
                </a:lnTo>
                <a:lnTo>
                  <a:pt x="1794" y="141"/>
                </a:lnTo>
                <a:lnTo>
                  <a:pt x="1782" y="146"/>
                </a:lnTo>
                <a:lnTo>
                  <a:pt x="1769" y="150"/>
                </a:lnTo>
                <a:lnTo>
                  <a:pt x="1756" y="154"/>
                </a:lnTo>
                <a:lnTo>
                  <a:pt x="1743" y="159"/>
                </a:lnTo>
                <a:lnTo>
                  <a:pt x="1729" y="163"/>
                </a:lnTo>
                <a:lnTo>
                  <a:pt x="1714" y="167"/>
                </a:lnTo>
                <a:lnTo>
                  <a:pt x="1699" y="172"/>
                </a:lnTo>
                <a:lnTo>
                  <a:pt x="1683" y="177"/>
                </a:lnTo>
                <a:lnTo>
                  <a:pt x="1667" y="182"/>
                </a:lnTo>
                <a:lnTo>
                  <a:pt x="1650" y="186"/>
                </a:lnTo>
                <a:lnTo>
                  <a:pt x="1631" y="192"/>
                </a:lnTo>
                <a:lnTo>
                  <a:pt x="1614" y="196"/>
                </a:lnTo>
                <a:lnTo>
                  <a:pt x="1595" y="202"/>
                </a:lnTo>
                <a:lnTo>
                  <a:pt x="1575" y="208"/>
                </a:lnTo>
                <a:lnTo>
                  <a:pt x="1555" y="212"/>
                </a:lnTo>
                <a:lnTo>
                  <a:pt x="1535" y="218"/>
                </a:lnTo>
                <a:lnTo>
                  <a:pt x="1514" y="223"/>
                </a:lnTo>
                <a:lnTo>
                  <a:pt x="1494" y="228"/>
                </a:lnTo>
                <a:lnTo>
                  <a:pt x="1473" y="234"/>
                </a:lnTo>
                <a:lnTo>
                  <a:pt x="1451" y="238"/>
                </a:lnTo>
                <a:lnTo>
                  <a:pt x="1429" y="244"/>
                </a:lnTo>
                <a:lnTo>
                  <a:pt x="1406" y="248"/>
                </a:lnTo>
                <a:lnTo>
                  <a:pt x="1383" y="254"/>
                </a:lnTo>
                <a:lnTo>
                  <a:pt x="1360" y="259"/>
                </a:lnTo>
                <a:lnTo>
                  <a:pt x="1337" y="264"/>
                </a:lnTo>
                <a:lnTo>
                  <a:pt x="1313" y="270"/>
                </a:lnTo>
                <a:lnTo>
                  <a:pt x="1290" y="274"/>
                </a:lnTo>
                <a:lnTo>
                  <a:pt x="1265" y="280"/>
                </a:lnTo>
                <a:lnTo>
                  <a:pt x="1239" y="284"/>
                </a:lnTo>
                <a:lnTo>
                  <a:pt x="1215" y="290"/>
                </a:lnTo>
                <a:lnTo>
                  <a:pt x="1189" y="294"/>
                </a:lnTo>
                <a:lnTo>
                  <a:pt x="1137" y="304"/>
                </a:lnTo>
                <a:lnTo>
                  <a:pt x="1082" y="316"/>
                </a:lnTo>
                <a:lnTo>
                  <a:pt x="1028" y="326"/>
                </a:lnTo>
                <a:lnTo>
                  <a:pt x="972" y="336"/>
                </a:lnTo>
                <a:lnTo>
                  <a:pt x="914" y="346"/>
                </a:lnTo>
                <a:lnTo>
                  <a:pt x="854" y="356"/>
                </a:lnTo>
                <a:lnTo>
                  <a:pt x="793" y="367"/>
                </a:lnTo>
                <a:lnTo>
                  <a:pt x="763" y="372"/>
                </a:lnTo>
                <a:lnTo>
                  <a:pt x="733" y="378"/>
                </a:lnTo>
                <a:lnTo>
                  <a:pt x="705" y="382"/>
                </a:lnTo>
                <a:lnTo>
                  <a:pt x="677" y="388"/>
                </a:lnTo>
                <a:lnTo>
                  <a:pt x="649" y="392"/>
                </a:lnTo>
                <a:lnTo>
                  <a:pt x="623" y="396"/>
                </a:lnTo>
                <a:lnTo>
                  <a:pt x="599" y="401"/>
                </a:lnTo>
                <a:lnTo>
                  <a:pt x="573" y="405"/>
                </a:lnTo>
                <a:lnTo>
                  <a:pt x="550" y="409"/>
                </a:lnTo>
                <a:lnTo>
                  <a:pt x="527" y="413"/>
                </a:lnTo>
                <a:lnTo>
                  <a:pt x="505" y="418"/>
                </a:lnTo>
                <a:lnTo>
                  <a:pt x="484" y="421"/>
                </a:lnTo>
                <a:lnTo>
                  <a:pt x="462" y="425"/>
                </a:lnTo>
                <a:lnTo>
                  <a:pt x="443" y="428"/>
                </a:lnTo>
                <a:lnTo>
                  <a:pt x="425" y="431"/>
                </a:lnTo>
                <a:lnTo>
                  <a:pt x="406" y="434"/>
                </a:lnTo>
                <a:lnTo>
                  <a:pt x="389" y="437"/>
                </a:lnTo>
                <a:lnTo>
                  <a:pt x="371" y="439"/>
                </a:lnTo>
                <a:lnTo>
                  <a:pt x="356" y="442"/>
                </a:lnTo>
                <a:lnTo>
                  <a:pt x="341" y="445"/>
                </a:lnTo>
                <a:lnTo>
                  <a:pt x="327" y="447"/>
                </a:lnTo>
                <a:lnTo>
                  <a:pt x="312" y="449"/>
                </a:lnTo>
                <a:lnTo>
                  <a:pt x="299" y="451"/>
                </a:lnTo>
                <a:lnTo>
                  <a:pt x="288" y="452"/>
                </a:lnTo>
                <a:lnTo>
                  <a:pt x="276" y="454"/>
                </a:lnTo>
                <a:lnTo>
                  <a:pt x="266" y="455"/>
                </a:lnTo>
                <a:lnTo>
                  <a:pt x="256" y="457"/>
                </a:lnTo>
                <a:lnTo>
                  <a:pt x="248" y="457"/>
                </a:lnTo>
                <a:lnTo>
                  <a:pt x="239" y="458"/>
                </a:lnTo>
                <a:lnTo>
                  <a:pt x="232" y="458"/>
                </a:lnTo>
                <a:lnTo>
                  <a:pt x="225" y="458"/>
                </a:lnTo>
                <a:lnTo>
                  <a:pt x="219" y="460"/>
                </a:lnTo>
                <a:lnTo>
                  <a:pt x="207" y="458"/>
                </a:lnTo>
                <a:lnTo>
                  <a:pt x="196" y="458"/>
                </a:lnTo>
                <a:lnTo>
                  <a:pt x="186" y="457"/>
                </a:lnTo>
                <a:lnTo>
                  <a:pt x="176" y="455"/>
                </a:lnTo>
                <a:lnTo>
                  <a:pt x="165" y="454"/>
                </a:lnTo>
                <a:lnTo>
                  <a:pt x="155" y="451"/>
                </a:lnTo>
                <a:lnTo>
                  <a:pt x="145" y="448"/>
                </a:lnTo>
                <a:lnTo>
                  <a:pt x="135" y="445"/>
                </a:lnTo>
                <a:lnTo>
                  <a:pt x="127" y="441"/>
                </a:lnTo>
                <a:lnTo>
                  <a:pt x="117" y="438"/>
                </a:lnTo>
                <a:lnTo>
                  <a:pt x="106" y="432"/>
                </a:lnTo>
                <a:lnTo>
                  <a:pt x="96" y="428"/>
                </a:lnTo>
                <a:lnTo>
                  <a:pt x="86" y="422"/>
                </a:lnTo>
                <a:lnTo>
                  <a:pt x="76" y="416"/>
                </a:lnTo>
                <a:lnTo>
                  <a:pt x="65" y="411"/>
                </a:lnTo>
                <a:lnTo>
                  <a:pt x="55" y="4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Freeform 73"/>
          <p:cNvSpPr/>
          <p:nvPr/>
        </p:nvSpPr>
        <p:spPr>
          <a:xfrm>
            <a:off x="5899320" y="3471840"/>
            <a:ext cx="345960" cy="569880"/>
          </a:xfrm>
          <a:custGeom>
            <a:avLst/>
            <a:gdLst/>
            <a:ahLst/>
            <a:rect l="l" t="t" r="r" b="b"/>
            <a:pathLst>
              <a:path w="656" h="1077">
                <a:moveTo>
                  <a:pt x="0" y="104"/>
                </a:moveTo>
                <a:lnTo>
                  <a:pt x="0" y="96"/>
                </a:lnTo>
                <a:lnTo>
                  <a:pt x="0" y="89"/>
                </a:lnTo>
                <a:lnTo>
                  <a:pt x="1" y="82"/>
                </a:lnTo>
                <a:lnTo>
                  <a:pt x="2" y="76"/>
                </a:lnTo>
                <a:lnTo>
                  <a:pt x="4" y="69"/>
                </a:lnTo>
                <a:lnTo>
                  <a:pt x="7" y="63"/>
                </a:lnTo>
                <a:lnTo>
                  <a:pt x="13" y="50"/>
                </a:lnTo>
                <a:lnTo>
                  <a:pt x="18" y="39"/>
                </a:lnTo>
                <a:lnTo>
                  <a:pt x="26" y="29"/>
                </a:lnTo>
                <a:lnTo>
                  <a:pt x="33" y="19"/>
                </a:lnTo>
                <a:lnTo>
                  <a:pt x="36" y="16"/>
                </a:lnTo>
                <a:lnTo>
                  <a:pt x="40" y="11"/>
                </a:lnTo>
                <a:lnTo>
                  <a:pt x="43" y="10"/>
                </a:lnTo>
                <a:lnTo>
                  <a:pt x="44" y="8"/>
                </a:lnTo>
                <a:lnTo>
                  <a:pt x="47" y="7"/>
                </a:lnTo>
                <a:lnTo>
                  <a:pt x="51" y="6"/>
                </a:lnTo>
                <a:lnTo>
                  <a:pt x="56" y="4"/>
                </a:lnTo>
                <a:lnTo>
                  <a:pt x="60" y="3"/>
                </a:lnTo>
                <a:lnTo>
                  <a:pt x="64" y="3"/>
                </a:lnTo>
                <a:lnTo>
                  <a:pt x="70" y="1"/>
                </a:lnTo>
                <a:lnTo>
                  <a:pt x="76" y="1"/>
                </a:lnTo>
                <a:lnTo>
                  <a:pt x="83" y="0"/>
                </a:lnTo>
                <a:lnTo>
                  <a:pt x="89" y="0"/>
                </a:lnTo>
                <a:lnTo>
                  <a:pt x="96" y="0"/>
                </a:lnTo>
                <a:lnTo>
                  <a:pt x="105" y="0"/>
                </a:lnTo>
                <a:lnTo>
                  <a:pt x="112" y="0"/>
                </a:lnTo>
                <a:lnTo>
                  <a:pt x="121" y="1"/>
                </a:lnTo>
                <a:lnTo>
                  <a:pt x="129" y="1"/>
                </a:lnTo>
                <a:lnTo>
                  <a:pt x="139" y="3"/>
                </a:lnTo>
                <a:lnTo>
                  <a:pt x="149" y="4"/>
                </a:lnTo>
                <a:lnTo>
                  <a:pt x="159" y="6"/>
                </a:lnTo>
                <a:lnTo>
                  <a:pt x="169" y="7"/>
                </a:lnTo>
                <a:lnTo>
                  <a:pt x="181" y="8"/>
                </a:lnTo>
                <a:lnTo>
                  <a:pt x="193" y="11"/>
                </a:lnTo>
                <a:lnTo>
                  <a:pt x="204" y="13"/>
                </a:lnTo>
                <a:lnTo>
                  <a:pt x="216" y="16"/>
                </a:lnTo>
                <a:lnTo>
                  <a:pt x="229" y="19"/>
                </a:lnTo>
                <a:lnTo>
                  <a:pt x="241" y="23"/>
                </a:lnTo>
                <a:lnTo>
                  <a:pt x="254" y="26"/>
                </a:lnTo>
                <a:lnTo>
                  <a:pt x="269" y="30"/>
                </a:lnTo>
                <a:lnTo>
                  <a:pt x="283" y="34"/>
                </a:lnTo>
                <a:lnTo>
                  <a:pt x="298" y="39"/>
                </a:lnTo>
                <a:lnTo>
                  <a:pt x="328" y="49"/>
                </a:lnTo>
                <a:lnTo>
                  <a:pt x="348" y="99"/>
                </a:lnTo>
                <a:lnTo>
                  <a:pt x="368" y="148"/>
                </a:lnTo>
                <a:lnTo>
                  <a:pt x="387" y="197"/>
                </a:lnTo>
                <a:lnTo>
                  <a:pt x="406" y="243"/>
                </a:lnTo>
                <a:lnTo>
                  <a:pt x="423" y="289"/>
                </a:lnTo>
                <a:lnTo>
                  <a:pt x="440" y="334"/>
                </a:lnTo>
                <a:lnTo>
                  <a:pt x="456" y="376"/>
                </a:lnTo>
                <a:lnTo>
                  <a:pt x="472" y="417"/>
                </a:lnTo>
                <a:lnTo>
                  <a:pt x="488" y="456"/>
                </a:lnTo>
                <a:lnTo>
                  <a:pt x="495" y="476"/>
                </a:lnTo>
                <a:lnTo>
                  <a:pt x="502" y="495"/>
                </a:lnTo>
                <a:lnTo>
                  <a:pt x="509" y="514"/>
                </a:lnTo>
                <a:lnTo>
                  <a:pt x="516" y="531"/>
                </a:lnTo>
                <a:lnTo>
                  <a:pt x="522" y="550"/>
                </a:lnTo>
                <a:lnTo>
                  <a:pt x="529" y="567"/>
                </a:lnTo>
                <a:lnTo>
                  <a:pt x="535" y="584"/>
                </a:lnTo>
                <a:lnTo>
                  <a:pt x="541" y="600"/>
                </a:lnTo>
                <a:lnTo>
                  <a:pt x="548" y="617"/>
                </a:lnTo>
                <a:lnTo>
                  <a:pt x="554" y="633"/>
                </a:lnTo>
                <a:lnTo>
                  <a:pt x="560" y="649"/>
                </a:lnTo>
                <a:lnTo>
                  <a:pt x="564" y="664"/>
                </a:lnTo>
                <a:lnTo>
                  <a:pt x="570" y="679"/>
                </a:lnTo>
                <a:lnTo>
                  <a:pt x="575" y="694"/>
                </a:lnTo>
                <a:lnTo>
                  <a:pt x="580" y="708"/>
                </a:lnTo>
                <a:lnTo>
                  <a:pt x="586" y="721"/>
                </a:lnTo>
                <a:lnTo>
                  <a:pt x="590" y="735"/>
                </a:lnTo>
                <a:lnTo>
                  <a:pt x="594" y="748"/>
                </a:lnTo>
                <a:lnTo>
                  <a:pt x="598" y="761"/>
                </a:lnTo>
                <a:lnTo>
                  <a:pt x="603" y="773"/>
                </a:lnTo>
                <a:lnTo>
                  <a:pt x="607" y="786"/>
                </a:lnTo>
                <a:lnTo>
                  <a:pt x="610" y="797"/>
                </a:lnTo>
                <a:lnTo>
                  <a:pt x="614" y="809"/>
                </a:lnTo>
                <a:lnTo>
                  <a:pt x="619" y="819"/>
                </a:lnTo>
                <a:lnTo>
                  <a:pt x="622" y="829"/>
                </a:lnTo>
                <a:lnTo>
                  <a:pt x="624" y="841"/>
                </a:lnTo>
                <a:lnTo>
                  <a:pt x="627" y="849"/>
                </a:lnTo>
                <a:lnTo>
                  <a:pt x="630" y="859"/>
                </a:lnTo>
                <a:lnTo>
                  <a:pt x="633" y="868"/>
                </a:lnTo>
                <a:lnTo>
                  <a:pt x="636" y="877"/>
                </a:lnTo>
                <a:lnTo>
                  <a:pt x="639" y="885"/>
                </a:lnTo>
                <a:lnTo>
                  <a:pt x="640" y="894"/>
                </a:lnTo>
                <a:lnTo>
                  <a:pt x="643" y="901"/>
                </a:lnTo>
                <a:lnTo>
                  <a:pt x="645" y="908"/>
                </a:lnTo>
                <a:lnTo>
                  <a:pt x="646" y="915"/>
                </a:lnTo>
                <a:lnTo>
                  <a:pt x="649" y="921"/>
                </a:lnTo>
                <a:lnTo>
                  <a:pt x="650" y="927"/>
                </a:lnTo>
                <a:lnTo>
                  <a:pt x="652" y="933"/>
                </a:lnTo>
                <a:lnTo>
                  <a:pt x="652" y="938"/>
                </a:lnTo>
                <a:lnTo>
                  <a:pt x="653" y="944"/>
                </a:lnTo>
                <a:lnTo>
                  <a:pt x="655" y="949"/>
                </a:lnTo>
                <a:lnTo>
                  <a:pt x="655" y="953"/>
                </a:lnTo>
                <a:lnTo>
                  <a:pt x="656" y="957"/>
                </a:lnTo>
                <a:lnTo>
                  <a:pt x="656" y="960"/>
                </a:lnTo>
                <a:lnTo>
                  <a:pt x="656" y="963"/>
                </a:lnTo>
                <a:lnTo>
                  <a:pt x="656" y="966"/>
                </a:lnTo>
                <a:lnTo>
                  <a:pt x="656" y="979"/>
                </a:lnTo>
                <a:lnTo>
                  <a:pt x="655" y="992"/>
                </a:lnTo>
                <a:lnTo>
                  <a:pt x="653" y="1003"/>
                </a:lnTo>
                <a:lnTo>
                  <a:pt x="652" y="1013"/>
                </a:lnTo>
                <a:lnTo>
                  <a:pt x="650" y="1023"/>
                </a:lnTo>
                <a:lnTo>
                  <a:pt x="647" y="1033"/>
                </a:lnTo>
                <a:lnTo>
                  <a:pt x="645" y="1041"/>
                </a:lnTo>
                <a:lnTo>
                  <a:pt x="640" y="1048"/>
                </a:lnTo>
                <a:lnTo>
                  <a:pt x="636" y="1055"/>
                </a:lnTo>
                <a:lnTo>
                  <a:pt x="632" y="1061"/>
                </a:lnTo>
                <a:lnTo>
                  <a:pt x="627" y="1065"/>
                </a:lnTo>
                <a:lnTo>
                  <a:pt x="622" y="1069"/>
                </a:lnTo>
                <a:lnTo>
                  <a:pt x="616" y="1072"/>
                </a:lnTo>
                <a:lnTo>
                  <a:pt x="609" y="1074"/>
                </a:lnTo>
                <a:lnTo>
                  <a:pt x="601" y="1075"/>
                </a:lnTo>
                <a:lnTo>
                  <a:pt x="594" y="1077"/>
                </a:lnTo>
                <a:lnTo>
                  <a:pt x="590" y="1075"/>
                </a:lnTo>
                <a:lnTo>
                  <a:pt x="587" y="1075"/>
                </a:lnTo>
                <a:lnTo>
                  <a:pt x="583" y="1074"/>
                </a:lnTo>
                <a:lnTo>
                  <a:pt x="578" y="1072"/>
                </a:lnTo>
                <a:lnTo>
                  <a:pt x="574" y="1069"/>
                </a:lnTo>
                <a:lnTo>
                  <a:pt x="570" y="1067"/>
                </a:lnTo>
                <a:lnTo>
                  <a:pt x="564" y="1064"/>
                </a:lnTo>
                <a:lnTo>
                  <a:pt x="560" y="1059"/>
                </a:lnTo>
                <a:lnTo>
                  <a:pt x="555" y="1055"/>
                </a:lnTo>
                <a:lnTo>
                  <a:pt x="550" y="1049"/>
                </a:lnTo>
                <a:lnTo>
                  <a:pt x="545" y="1044"/>
                </a:lnTo>
                <a:lnTo>
                  <a:pt x="541" y="1038"/>
                </a:lnTo>
                <a:lnTo>
                  <a:pt x="535" y="1032"/>
                </a:lnTo>
                <a:lnTo>
                  <a:pt x="529" y="1025"/>
                </a:lnTo>
                <a:lnTo>
                  <a:pt x="525" y="1018"/>
                </a:lnTo>
                <a:lnTo>
                  <a:pt x="519" y="1009"/>
                </a:lnTo>
                <a:lnTo>
                  <a:pt x="514" y="1002"/>
                </a:lnTo>
                <a:lnTo>
                  <a:pt x="509" y="992"/>
                </a:lnTo>
                <a:lnTo>
                  <a:pt x="503" y="983"/>
                </a:lnTo>
                <a:lnTo>
                  <a:pt x="498" y="973"/>
                </a:lnTo>
                <a:lnTo>
                  <a:pt x="492" y="963"/>
                </a:lnTo>
                <a:lnTo>
                  <a:pt x="486" y="951"/>
                </a:lnTo>
                <a:lnTo>
                  <a:pt x="480" y="941"/>
                </a:lnTo>
                <a:lnTo>
                  <a:pt x="476" y="928"/>
                </a:lnTo>
                <a:lnTo>
                  <a:pt x="470" y="917"/>
                </a:lnTo>
                <a:lnTo>
                  <a:pt x="465" y="904"/>
                </a:lnTo>
                <a:lnTo>
                  <a:pt x="459" y="891"/>
                </a:lnTo>
                <a:lnTo>
                  <a:pt x="453" y="878"/>
                </a:lnTo>
                <a:lnTo>
                  <a:pt x="447" y="864"/>
                </a:lnTo>
                <a:lnTo>
                  <a:pt x="442" y="849"/>
                </a:lnTo>
                <a:lnTo>
                  <a:pt x="436" y="835"/>
                </a:lnTo>
                <a:lnTo>
                  <a:pt x="430" y="819"/>
                </a:lnTo>
                <a:lnTo>
                  <a:pt x="414" y="789"/>
                </a:lnTo>
                <a:lnTo>
                  <a:pt x="400" y="759"/>
                </a:lnTo>
                <a:lnTo>
                  <a:pt x="384" y="728"/>
                </a:lnTo>
                <a:lnTo>
                  <a:pt x="368" y="698"/>
                </a:lnTo>
                <a:lnTo>
                  <a:pt x="336" y="640"/>
                </a:lnTo>
                <a:lnTo>
                  <a:pt x="305" y="583"/>
                </a:lnTo>
                <a:lnTo>
                  <a:pt x="270" y="527"/>
                </a:lnTo>
                <a:lnTo>
                  <a:pt x="236" y="471"/>
                </a:lnTo>
                <a:lnTo>
                  <a:pt x="200" y="416"/>
                </a:lnTo>
                <a:lnTo>
                  <a:pt x="182" y="389"/>
                </a:lnTo>
                <a:lnTo>
                  <a:pt x="164" y="361"/>
                </a:lnTo>
                <a:lnTo>
                  <a:pt x="145" y="337"/>
                </a:lnTo>
                <a:lnTo>
                  <a:pt x="128" y="314"/>
                </a:lnTo>
                <a:lnTo>
                  <a:pt x="112" y="292"/>
                </a:lnTo>
                <a:lnTo>
                  <a:pt x="98" y="270"/>
                </a:lnTo>
                <a:lnTo>
                  <a:pt x="85" y="250"/>
                </a:lnTo>
                <a:lnTo>
                  <a:pt x="72" y="232"/>
                </a:lnTo>
                <a:lnTo>
                  <a:pt x="60" y="214"/>
                </a:lnTo>
                <a:lnTo>
                  <a:pt x="50" y="197"/>
                </a:lnTo>
                <a:lnTo>
                  <a:pt x="41" y="181"/>
                </a:lnTo>
                <a:lnTo>
                  <a:pt x="33" y="167"/>
                </a:lnTo>
                <a:lnTo>
                  <a:pt x="26" y="152"/>
                </a:lnTo>
                <a:lnTo>
                  <a:pt x="18" y="141"/>
                </a:lnTo>
                <a:lnTo>
                  <a:pt x="13" y="129"/>
                </a:lnTo>
                <a:lnTo>
                  <a:pt x="8" y="119"/>
                </a:lnTo>
                <a:lnTo>
                  <a:pt x="2" y="111"/>
                </a:lnTo>
                <a:lnTo>
                  <a:pt x="0" y="10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74"/>
          <p:cNvSpPr/>
          <p:nvPr/>
        </p:nvSpPr>
        <p:spPr>
          <a:xfrm>
            <a:off x="5985000" y="3294000"/>
            <a:ext cx="1390680" cy="654120"/>
          </a:xfrm>
          <a:custGeom>
            <a:avLst/>
            <a:gdLst/>
            <a:ahLst/>
            <a:rect l="l" t="t" r="r" b="b"/>
            <a:pathLst>
              <a:path w="2628" h="1237">
                <a:moveTo>
                  <a:pt x="1972" y="36"/>
                </a:moveTo>
                <a:lnTo>
                  <a:pt x="1986" y="29"/>
                </a:lnTo>
                <a:lnTo>
                  <a:pt x="2002" y="23"/>
                </a:lnTo>
                <a:lnTo>
                  <a:pt x="2017" y="16"/>
                </a:lnTo>
                <a:lnTo>
                  <a:pt x="2032" y="10"/>
                </a:lnTo>
                <a:lnTo>
                  <a:pt x="2048" y="6"/>
                </a:lnTo>
                <a:lnTo>
                  <a:pt x="2064" y="3"/>
                </a:lnTo>
                <a:lnTo>
                  <a:pt x="2071" y="1"/>
                </a:lnTo>
                <a:lnTo>
                  <a:pt x="2078" y="0"/>
                </a:lnTo>
                <a:lnTo>
                  <a:pt x="2087" y="0"/>
                </a:lnTo>
                <a:lnTo>
                  <a:pt x="2094" y="0"/>
                </a:lnTo>
                <a:lnTo>
                  <a:pt x="2099" y="0"/>
                </a:lnTo>
                <a:lnTo>
                  <a:pt x="2103" y="0"/>
                </a:lnTo>
                <a:lnTo>
                  <a:pt x="2107" y="0"/>
                </a:lnTo>
                <a:lnTo>
                  <a:pt x="2113" y="1"/>
                </a:lnTo>
                <a:lnTo>
                  <a:pt x="2119" y="1"/>
                </a:lnTo>
                <a:lnTo>
                  <a:pt x="2125" y="3"/>
                </a:lnTo>
                <a:lnTo>
                  <a:pt x="2130" y="4"/>
                </a:lnTo>
                <a:lnTo>
                  <a:pt x="2137" y="6"/>
                </a:lnTo>
                <a:lnTo>
                  <a:pt x="2143" y="9"/>
                </a:lnTo>
                <a:lnTo>
                  <a:pt x="2150" y="10"/>
                </a:lnTo>
                <a:lnTo>
                  <a:pt x="2159" y="13"/>
                </a:lnTo>
                <a:lnTo>
                  <a:pt x="2166" y="16"/>
                </a:lnTo>
                <a:lnTo>
                  <a:pt x="2175" y="19"/>
                </a:lnTo>
                <a:lnTo>
                  <a:pt x="2184" y="22"/>
                </a:lnTo>
                <a:lnTo>
                  <a:pt x="2202" y="29"/>
                </a:lnTo>
                <a:lnTo>
                  <a:pt x="2222" y="37"/>
                </a:lnTo>
                <a:lnTo>
                  <a:pt x="2244" y="46"/>
                </a:lnTo>
                <a:lnTo>
                  <a:pt x="2267" y="56"/>
                </a:lnTo>
                <a:lnTo>
                  <a:pt x="2292" y="69"/>
                </a:lnTo>
                <a:lnTo>
                  <a:pt x="2317" y="82"/>
                </a:lnTo>
                <a:lnTo>
                  <a:pt x="2343" y="96"/>
                </a:lnTo>
                <a:lnTo>
                  <a:pt x="2372" y="111"/>
                </a:lnTo>
                <a:lnTo>
                  <a:pt x="2402" y="128"/>
                </a:lnTo>
                <a:lnTo>
                  <a:pt x="2428" y="145"/>
                </a:lnTo>
                <a:lnTo>
                  <a:pt x="2441" y="154"/>
                </a:lnTo>
                <a:lnTo>
                  <a:pt x="2453" y="161"/>
                </a:lnTo>
                <a:lnTo>
                  <a:pt x="2464" y="170"/>
                </a:lnTo>
                <a:lnTo>
                  <a:pt x="2476" y="178"/>
                </a:lnTo>
                <a:lnTo>
                  <a:pt x="2487" y="186"/>
                </a:lnTo>
                <a:lnTo>
                  <a:pt x="2497" y="193"/>
                </a:lnTo>
                <a:lnTo>
                  <a:pt x="2507" y="202"/>
                </a:lnTo>
                <a:lnTo>
                  <a:pt x="2518" y="209"/>
                </a:lnTo>
                <a:lnTo>
                  <a:pt x="2528" y="214"/>
                </a:lnTo>
                <a:lnTo>
                  <a:pt x="2536" y="222"/>
                </a:lnTo>
                <a:lnTo>
                  <a:pt x="2545" y="229"/>
                </a:lnTo>
                <a:lnTo>
                  <a:pt x="2554" y="235"/>
                </a:lnTo>
                <a:lnTo>
                  <a:pt x="2561" y="242"/>
                </a:lnTo>
                <a:lnTo>
                  <a:pt x="2569" y="248"/>
                </a:lnTo>
                <a:lnTo>
                  <a:pt x="2577" y="253"/>
                </a:lnTo>
                <a:lnTo>
                  <a:pt x="2582" y="259"/>
                </a:lnTo>
                <a:lnTo>
                  <a:pt x="2588" y="265"/>
                </a:lnTo>
                <a:lnTo>
                  <a:pt x="2594" y="269"/>
                </a:lnTo>
                <a:lnTo>
                  <a:pt x="2600" y="275"/>
                </a:lnTo>
                <a:lnTo>
                  <a:pt x="2605" y="279"/>
                </a:lnTo>
                <a:lnTo>
                  <a:pt x="2610" y="284"/>
                </a:lnTo>
                <a:lnTo>
                  <a:pt x="2613" y="288"/>
                </a:lnTo>
                <a:lnTo>
                  <a:pt x="2617" y="292"/>
                </a:lnTo>
                <a:lnTo>
                  <a:pt x="2620" y="295"/>
                </a:lnTo>
                <a:lnTo>
                  <a:pt x="2623" y="299"/>
                </a:lnTo>
                <a:lnTo>
                  <a:pt x="2624" y="302"/>
                </a:lnTo>
                <a:lnTo>
                  <a:pt x="2627" y="305"/>
                </a:lnTo>
                <a:lnTo>
                  <a:pt x="2627" y="308"/>
                </a:lnTo>
                <a:lnTo>
                  <a:pt x="2628" y="309"/>
                </a:lnTo>
                <a:lnTo>
                  <a:pt x="2628" y="312"/>
                </a:lnTo>
                <a:lnTo>
                  <a:pt x="2628" y="315"/>
                </a:lnTo>
                <a:lnTo>
                  <a:pt x="2627" y="320"/>
                </a:lnTo>
                <a:lnTo>
                  <a:pt x="2624" y="324"/>
                </a:lnTo>
                <a:lnTo>
                  <a:pt x="2621" y="328"/>
                </a:lnTo>
                <a:lnTo>
                  <a:pt x="2617" y="334"/>
                </a:lnTo>
                <a:lnTo>
                  <a:pt x="2613" y="340"/>
                </a:lnTo>
                <a:lnTo>
                  <a:pt x="2607" y="345"/>
                </a:lnTo>
                <a:lnTo>
                  <a:pt x="2600" y="353"/>
                </a:lnTo>
                <a:lnTo>
                  <a:pt x="2592" y="360"/>
                </a:lnTo>
                <a:lnTo>
                  <a:pt x="2585" y="367"/>
                </a:lnTo>
                <a:lnTo>
                  <a:pt x="2577" y="376"/>
                </a:lnTo>
                <a:lnTo>
                  <a:pt x="2568" y="383"/>
                </a:lnTo>
                <a:lnTo>
                  <a:pt x="2558" y="393"/>
                </a:lnTo>
                <a:lnTo>
                  <a:pt x="2548" y="402"/>
                </a:lnTo>
                <a:lnTo>
                  <a:pt x="2536" y="412"/>
                </a:lnTo>
                <a:lnTo>
                  <a:pt x="2526" y="422"/>
                </a:lnTo>
                <a:lnTo>
                  <a:pt x="2518" y="428"/>
                </a:lnTo>
                <a:lnTo>
                  <a:pt x="2510" y="433"/>
                </a:lnTo>
                <a:lnTo>
                  <a:pt x="2503" y="441"/>
                </a:lnTo>
                <a:lnTo>
                  <a:pt x="2494" y="446"/>
                </a:lnTo>
                <a:lnTo>
                  <a:pt x="2487" y="455"/>
                </a:lnTo>
                <a:lnTo>
                  <a:pt x="2480" y="462"/>
                </a:lnTo>
                <a:lnTo>
                  <a:pt x="2471" y="471"/>
                </a:lnTo>
                <a:lnTo>
                  <a:pt x="2464" y="481"/>
                </a:lnTo>
                <a:lnTo>
                  <a:pt x="2456" y="489"/>
                </a:lnTo>
                <a:lnTo>
                  <a:pt x="2448" y="501"/>
                </a:lnTo>
                <a:lnTo>
                  <a:pt x="2441" y="511"/>
                </a:lnTo>
                <a:lnTo>
                  <a:pt x="2433" y="523"/>
                </a:lnTo>
                <a:lnTo>
                  <a:pt x="2425" y="534"/>
                </a:lnTo>
                <a:lnTo>
                  <a:pt x="2418" y="547"/>
                </a:lnTo>
                <a:lnTo>
                  <a:pt x="2410" y="560"/>
                </a:lnTo>
                <a:lnTo>
                  <a:pt x="2402" y="573"/>
                </a:lnTo>
                <a:lnTo>
                  <a:pt x="2394" y="587"/>
                </a:lnTo>
                <a:lnTo>
                  <a:pt x="2387" y="602"/>
                </a:lnTo>
                <a:lnTo>
                  <a:pt x="2379" y="618"/>
                </a:lnTo>
                <a:lnTo>
                  <a:pt x="2371" y="632"/>
                </a:lnTo>
                <a:lnTo>
                  <a:pt x="2363" y="649"/>
                </a:lnTo>
                <a:lnTo>
                  <a:pt x="2356" y="665"/>
                </a:lnTo>
                <a:lnTo>
                  <a:pt x="2348" y="682"/>
                </a:lnTo>
                <a:lnTo>
                  <a:pt x="2340" y="701"/>
                </a:lnTo>
                <a:lnTo>
                  <a:pt x="2333" y="718"/>
                </a:lnTo>
                <a:lnTo>
                  <a:pt x="2325" y="737"/>
                </a:lnTo>
                <a:lnTo>
                  <a:pt x="2317" y="757"/>
                </a:lnTo>
                <a:lnTo>
                  <a:pt x="2310" y="777"/>
                </a:lnTo>
                <a:lnTo>
                  <a:pt x="2302" y="798"/>
                </a:lnTo>
                <a:lnTo>
                  <a:pt x="2294" y="819"/>
                </a:lnTo>
                <a:lnTo>
                  <a:pt x="2287" y="841"/>
                </a:lnTo>
                <a:lnTo>
                  <a:pt x="2280" y="862"/>
                </a:lnTo>
                <a:lnTo>
                  <a:pt x="2270" y="884"/>
                </a:lnTo>
                <a:lnTo>
                  <a:pt x="2261" y="905"/>
                </a:lnTo>
                <a:lnTo>
                  <a:pt x="2251" y="927"/>
                </a:lnTo>
                <a:lnTo>
                  <a:pt x="2243" y="947"/>
                </a:lnTo>
                <a:lnTo>
                  <a:pt x="2234" y="966"/>
                </a:lnTo>
                <a:lnTo>
                  <a:pt x="2227" y="985"/>
                </a:lnTo>
                <a:lnTo>
                  <a:pt x="2218" y="1003"/>
                </a:lnTo>
                <a:lnTo>
                  <a:pt x="2211" y="1021"/>
                </a:lnTo>
                <a:lnTo>
                  <a:pt x="2202" y="1038"/>
                </a:lnTo>
                <a:lnTo>
                  <a:pt x="2195" y="1054"/>
                </a:lnTo>
                <a:lnTo>
                  <a:pt x="2188" y="1070"/>
                </a:lnTo>
                <a:lnTo>
                  <a:pt x="2182" y="1084"/>
                </a:lnTo>
                <a:lnTo>
                  <a:pt x="2175" y="1098"/>
                </a:lnTo>
                <a:lnTo>
                  <a:pt x="2168" y="1111"/>
                </a:lnTo>
                <a:lnTo>
                  <a:pt x="2162" y="1124"/>
                </a:lnTo>
                <a:lnTo>
                  <a:pt x="2156" y="1136"/>
                </a:lnTo>
                <a:lnTo>
                  <a:pt x="2150" y="1147"/>
                </a:lnTo>
                <a:lnTo>
                  <a:pt x="2145" y="1157"/>
                </a:lnTo>
                <a:lnTo>
                  <a:pt x="2140" y="1168"/>
                </a:lnTo>
                <a:lnTo>
                  <a:pt x="2135" y="1176"/>
                </a:lnTo>
                <a:lnTo>
                  <a:pt x="2130" y="1185"/>
                </a:lnTo>
                <a:lnTo>
                  <a:pt x="2126" y="1192"/>
                </a:lnTo>
                <a:lnTo>
                  <a:pt x="2122" y="1199"/>
                </a:lnTo>
                <a:lnTo>
                  <a:pt x="2117" y="1206"/>
                </a:lnTo>
                <a:lnTo>
                  <a:pt x="2113" y="1211"/>
                </a:lnTo>
                <a:lnTo>
                  <a:pt x="2110" y="1216"/>
                </a:lnTo>
                <a:lnTo>
                  <a:pt x="2107" y="1221"/>
                </a:lnTo>
                <a:lnTo>
                  <a:pt x="2104" y="1224"/>
                </a:lnTo>
                <a:lnTo>
                  <a:pt x="2101" y="1227"/>
                </a:lnTo>
                <a:lnTo>
                  <a:pt x="2099" y="1228"/>
                </a:lnTo>
                <a:lnTo>
                  <a:pt x="2096" y="1229"/>
                </a:lnTo>
                <a:lnTo>
                  <a:pt x="2094" y="1229"/>
                </a:lnTo>
                <a:lnTo>
                  <a:pt x="2090" y="1232"/>
                </a:lnTo>
                <a:lnTo>
                  <a:pt x="2086" y="1235"/>
                </a:lnTo>
                <a:lnTo>
                  <a:pt x="2081" y="1237"/>
                </a:lnTo>
                <a:lnTo>
                  <a:pt x="2076" y="1237"/>
                </a:lnTo>
                <a:lnTo>
                  <a:pt x="2068" y="1237"/>
                </a:lnTo>
                <a:lnTo>
                  <a:pt x="2063" y="1235"/>
                </a:lnTo>
                <a:lnTo>
                  <a:pt x="2055" y="1232"/>
                </a:lnTo>
                <a:lnTo>
                  <a:pt x="2048" y="1229"/>
                </a:lnTo>
                <a:lnTo>
                  <a:pt x="2040" y="1227"/>
                </a:lnTo>
                <a:lnTo>
                  <a:pt x="2031" y="1221"/>
                </a:lnTo>
                <a:lnTo>
                  <a:pt x="2022" y="1216"/>
                </a:lnTo>
                <a:lnTo>
                  <a:pt x="2014" y="1209"/>
                </a:lnTo>
                <a:lnTo>
                  <a:pt x="2004" y="1202"/>
                </a:lnTo>
                <a:lnTo>
                  <a:pt x="1994" y="1193"/>
                </a:lnTo>
                <a:lnTo>
                  <a:pt x="1982" y="1185"/>
                </a:lnTo>
                <a:lnTo>
                  <a:pt x="1972" y="1175"/>
                </a:lnTo>
                <a:lnTo>
                  <a:pt x="1960" y="1168"/>
                </a:lnTo>
                <a:lnTo>
                  <a:pt x="1950" y="1160"/>
                </a:lnTo>
                <a:lnTo>
                  <a:pt x="1940" y="1155"/>
                </a:lnTo>
                <a:lnTo>
                  <a:pt x="1933" y="1147"/>
                </a:lnTo>
                <a:lnTo>
                  <a:pt x="1926" y="1140"/>
                </a:lnTo>
                <a:lnTo>
                  <a:pt x="1919" y="1134"/>
                </a:lnTo>
                <a:lnTo>
                  <a:pt x="1914" y="1127"/>
                </a:lnTo>
                <a:lnTo>
                  <a:pt x="1910" y="1121"/>
                </a:lnTo>
                <a:lnTo>
                  <a:pt x="1906" y="1116"/>
                </a:lnTo>
                <a:lnTo>
                  <a:pt x="1904" y="1110"/>
                </a:lnTo>
                <a:lnTo>
                  <a:pt x="1903" y="1104"/>
                </a:lnTo>
                <a:lnTo>
                  <a:pt x="1901" y="1100"/>
                </a:lnTo>
                <a:lnTo>
                  <a:pt x="1903" y="1096"/>
                </a:lnTo>
                <a:lnTo>
                  <a:pt x="1904" y="1090"/>
                </a:lnTo>
                <a:lnTo>
                  <a:pt x="1906" y="1087"/>
                </a:lnTo>
                <a:lnTo>
                  <a:pt x="1910" y="1083"/>
                </a:lnTo>
                <a:lnTo>
                  <a:pt x="1911" y="1081"/>
                </a:lnTo>
                <a:lnTo>
                  <a:pt x="1913" y="1078"/>
                </a:lnTo>
                <a:lnTo>
                  <a:pt x="1916" y="1074"/>
                </a:lnTo>
                <a:lnTo>
                  <a:pt x="1917" y="1071"/>
                </a:lnTo>
                <a:lnTo>
                  <a:pt x="1920" y="1065"/>
                </a:lnTo>
                <a:lnTo>
                  <a:pt x="1923" y="1061"/>
                </a:lnTo>
                <a:lnTo>
                  <a:pt x="1926" y="1055"/>
                </a:lnTo>
                <a:lnTo>
                  <a:pt x="1929" y="1048"/>
                </a:lnTo>
                <a:lnTo>
                  <a:pt x="1932" y="1042"/>
                </a:lnTo>
                <a:lnTo>
                  <a:pt x="1935" y="1034"/>
                </a:lnTo>
                <a:lnTo>
                  <a:pt x="1937" y="1026"/>
                </a:lnTo>
                <a:lnTo>
                  <a:pt x="1942" y="1018"/>
                </a:lnTo>
                <a:lnTo>
                  <a:pt x="1945" y="1008"/>
                </a:lnTo>
                <a:lnTo>
                  <a:pt x="1949" y="999"/>
                </a:lnTo>
                <a:lnTo>
                  <a:pt x="1952" y="988"/>
                </a:lnTo>
                <a:lnTo>
                  <a:pt x="1956" y="977"/>
                </a:lnTo>
                <a:lnTo>
                  <a:pt x="1960" y="966"/>
                </a:lnTo>
                <a:lnTo>
                  <a:pt x="1963" y="954"/>
                </a:lnTo>
                <a:lnTo>
                  <a:pt x="1968" y="941"/>
                </a:lnTo>
                <a:lnTo>
                  <a:pt x="1972" y="929"/>
                </a:lnTo>
                <a:lnTo>
                  <a:pt x="1976" y="914"/>
                </a:lnTo>
                <a:lnTo>
                  <a:pt x="1981" y="901"/>
                </a:lnTo>
                <a:lnTo>
                  <a:pt x="1986" y="887"/>
                </a:lnTo>
                <a:lnTo>
                  <a:pt x="1991" y="871"/>
                </a:lnTo>
                <a:lnTo>
                  <a:pt x="1995" y="855"/>
                </a:lnTo>
                <a:lnTo>
                  <a:pt x="2001" y="839"/>
                </a:lnTo>
                <a:lnTo>
                  <a:pt x="2005" y="823"/>
                </a:lnTo>
                <a:lnTo>
                  <a:pt x="2011" y="806"/>
                </a:lnTo>
                <a:lnTo>
                  <a:pt x="2017" y="789"/>
                </a:lnTo>
                <a:lnTo>
                  <a:pt x="2021" y="770"/>
                </a:lnTo>
                <a:lnTo>
                  <a:pt x="2027" y="753"/>
                </a:lnTo>
                <a:lnTo>
                  <a:pt x="2032" y="734"/>
                </a:lnTo>
                <a:lnTo>
                  <a:pt x="2038" y="715"/>
                </a:lnTo>
                <a:lnTo>
                  <a:pt x="2044" y="697"/>
                </a:lnTo>
                <a:lnTo>
                  <a:pt x="2048" y="679"/>
                </a:lnTo>
                <a:lnTo>
                  <a:pt x="2054" y="662"/>
                </a:lnTo>
                <a:lnTo>
                  <a:pt x="2060" y="645"/>
                </a:lnTo>
                <a:lnTo>
                  <a:pt x="2064" y="629"/>
                </a:lnTo>
                <a:lnTo>
                  <a:pt x="2070" y="613"/>
                </a:lnTo>
                <a:lnTo>
                  <a:pt x="2074" y="599"/>
                </a:lnTo>
                <a:lnTo>
                  <a:pt x="2078" y="584"/>
                </a:lnTo>
                <a:lnTo>
                  <a:pt x="2083" y="570"/>
                </a:lnTo>
                <a:lnTo>
                  <a:pt x="2087" y="556"/>
                </a:lnTo>
                <a:lnTo>
                  <a:pt x="2091" y="543"/>
                </a:lnTo>
                <a:lnTo>
                  <a:pt x="2096" y="530"/>
                </a:lnTo>
                <a:lnTo>
                  <a:pt x="2100" y="518"/>
                </a:lnTo>
                <a:lnTo>
                  <a:pt x="2103" y="507"/>
                </a:lnTo>
                <a:lnTo>
                  <a:pt x="2107" y="495"/>
                </a:lnTo>
                <a:lnTo>
                  <a:pt x="2110" y="484"/>
                </a:lnTo>
                <a:lnTo>
                  <a:pt x="2113" y="474"/>
                </a:lnTo>
                <a:lnTo>
                  <a:pt x="2116" y="464"/>
                </a:lnTo>
                <a:lnTo>
                  <a:pt x="2119" y="453"/>
                </a:lnTo>
                <a:lnTo>
                  <a:pt x="2122" y="445"/>
                </a:lnTo>
                <a:lnTo>
                  <a:pt x="2123" y="435"/>
                </a:lnTo>
                <a:lnTo>
                  <a:pt x="2126" y="428"/>
                </a:lnTo>
                <a:lnTo>
                  <a:pt x="2127" y="419"/>
                </a:lnTo>
                <a:lnTo>
                  <a:pt x="2129" y="410"/>
                </a:lnTo>
                <a:lnTo>
                  <a:pt x="2132" y="403"/>
                </a:lnTo>
                <a:lnTo>
                  <a:pt x="2133" y="390"/>
                </a:lnTo>
                <a:lnTo>
                  <a:pt x="2135" y="377"/>
                </a:lnTo>
                <a:lnTo>
                  <a:pt x="2136" y="367"/>
                </a:lnTo>
                <a:lnTo>
                  <a:pt x="2132" y="357"/>
                </a:lnTo>
                <a:lnTo>
                  <a:pt x="2127" y="347"/>
                </a:lnTo>
                <a:lnTo>
                  <a:pt x="2125" y="337"/>
                </a:lnTo>
                <a:lnTo>
                  <a:pt x="2120" y="328"/>
                </a:lnTo>
                <a:lnTo>
                  <a:pt x="2116" y="321"/>
                </a:lnTo>
                <a:lnTo>
                  <a:pt x="2113" y="312"/>
                </a:lnTo>
                <a:lnTo>
                  <a:pt x="2109" y="305"/>
                </a:lnTo>
                <a:lnTo>
                  <a:pt x="2104" y="298"/>
                </a:lnTo>
                <a:lnTo>
                  <a:pt x="2101" y="291"/>
                </a:lnTo>
                <a:lnTo>
                  <a:pt x="2097" y="285"/>
                </a:lnTo>
                <a:lnTo>
                  <a:pt x="2093" y="279"/>
                </a:lnTo>
                <a:lnTo>
                  <a:pt x="2089" y="274"/>
                </a:lnTo>
                <a:lnTo>
                  <a:pt x="2086" y="269"/>
                </a:lnTo>
                <a:lnTo>
                  <a:pt x="2081" y="263"/>
                </a:lnTo>
                <a:lnTo>
                  <a:pt x="2077" y="261"/>
                </a:lnTo>
                <a:lnTo>
                  <a:pt x="2074" y="256"/>
                </a:lnTo>
                <a:lnTo>
                  <a:pt x="2066" y="253"/>
                </a:lnTo>
                <a:lnTo>
                  <a:pt x="2057" y="250"/>
                </a:lnTo>
                <a:lnTo>
                  <a:pt x="2048" y="248"/>
                </a:lnTo>
                <a:lnTo>
                  <a:pt x="2038" y="246"/>
                </a:lnTo>
                <a:lnTo>
                  <a:pt x="2028" y="243"/>
                </a:lnTo>
                <a:lnTo>
                  <a:pt x="2018" y="242"/>
                </a:lnTo>
                <a:lnTo>
                  <a:pt x="2006" y="242"/>
                </a:lnTo>
                <a:lnTo>
                  <a:pt x="1994" y="240"/>
                </a:lnTo>
                <a:lnTo>
                  <a:pt x="1981" y="239"/>
                </a:lnTo>
                <a:lnTo>
                  <a:pt x="1968" y="239"/>
                </a:lnTo>
                <a:lnTo>
                  <a:pt x="1953" y="239"/>
                </a:lnTo>
                <a:lnTo>
                  <a:pt x="1937" y="239"/>
                </a:lnTo>
                <a:lnTo>
                  <a:pt x="1922" y="239"/>
                </a:lnTo>
                <a:lnTo>
                  <a:pt x="1906" y="239"/>
                </a:lnTo>
                <a:lnTo>
                  <a:pt x="1887" y="239"/>
                </a:lnTo>
                <a:lnTo>
                  <a:pt x="1868" y="239"/>
                </a:lnTo>
                <a:lnTo>
                  <a:pt x="1858" y="240"/>
                </a:lnTo>
                <a:lnTo>
                  <a:pt x="1847" y="242"/>
                </a:lnTo>
                <a:lnTo>
                  <a:pt x="1834" y="243"/>
                </a:lnTo>
                <a:lnTo>
                  <a:pt x="1821" y="246"/>
                </a:lnTo>
                <a:lnTo>
                  <a:pt x="1805" y="249"/>
                </a:lnTo>
                <a:lnTo>
                  <a:pt x="1789" y="250"/>
                </a:lnTo>
                <a:lnTo>
                  <a:pt x="1772" y="253"/>
                </a:lnTo>
                <a:lnTo>
                  <a:pt x="1753" y="256"/>
                </a:lnTo>
                <a:lnTo>
                  <a:pt x="1733" y="259"/>
                </a:lnTo>
                <a:lnTo>
                  <a:pt x="1711" y="262"/>
                </a:lnTo>
                <a:lnTo>
                  <a:pt x="1690" y="265"/>
                </a:lnTo>
                <a:lnTo>
                  <a:pt x="1665" y="268"/>
                </a:lnTo>
                <a:lnTo>
                  <a:pt x="1641" y="272"/>
                </a:lnTo>
                <a:lnTo>
                  <a:pt x="1615" y="275"/>
                </a:lnTo>
                <a:lnTo>
                  <a:pt x="1589" y="279"/>
                </a:lnTo>
                <a:lnTo>
                  <a:pt x="1560" y="284"/>
                </a:lnTo>
                <a:lnTo>
                  <a:pt x="1530" y="288"/>
                </a:lnTo>
                <a:lnTo>
                  <a:pt x="1500" y="292"/>
                </a:lnTo>
                <a:lnTo>
                  <a:pt x="1468" y="298"/>
                </a:lnTo>
                <a:lnTo>
                  <a:pt x="1435" y="302"/>
                </a:lnTo>
                <a:lnTo>
                  <a:pt x="1400" y="308"/>
                </a:lnTo>
                <a:lnTo>
                  <a:pt x="1364" y="314"/>
                </a:lnTo>
                <a:lnTo>
                  <a:pt x="1328" y="320"/>
                </a:lnTo>
                <a:lnTo>
                  <a:pt x="1291" y="325"/>
                </a:lnTo>
                <a:lnTo>
                  <a:pt x="1252" y="331"/>
                </a:lnTo>
                <a:lnTo>
                  <a:pt x="1212" y="338"/>
                </a:lnTo>
                <a:lnTo>
                  <a:pt x="1170" y="345"/>
                </a:lnTo>
                <a:lnTo>
                  <a:pt x="1127" y="353"/>
                </a:lnTo>
                <a:lnTo>
                  <a:pt x="1084" y="360"/>
                </a:lnTo>
                <a:lnTo>
                  <a:pt x="1038" y="369"/>
                </a:lnTo>
                <a:lnTo>
                  <a:pt x="992" y="377"/>
                </a:lnTo>
                <a:lnTo>
                  <a:pt x="944" y="386"/>
                </a:lnTo>
                <a:lnTo>
                  <a:pt x="897" y="394"/>
                </a:lnTo>
                <a:lnTo>
                  <a:pt x="851" y="402"/>
                </a:lnTo>
                <a:lnTo>
                  <a:pt x="806" y="410"/>
                </a:lnTo>
                <a:lnTo>
                  <a:pt x="761" y="419"/>
                </a:lnTo>
                <a:lnTo>
                  <a:pt x="718" y="426"/>
                </a:lnTo>
                <a:lnTo>
                  <a:pt x="676" y="433"/>
                </a:lnTo>
                <a:lnTo>
                  <a:pt x="636" y="441"/>
                </a:lnTo>
                <a:lnTo>
                  <a:pt x="597" y="448"/>
                </a:lnTo>
                <a:lnTo>
                  <a:pt x="560" y="455"/>
                </a:lnTo>
                <a:lnTo>
                  <a:pt x="522" y="461"/>
                </a:lnTo>
                <a:lnTo>
                  <a:pt x="488" y="468"/>
                </a:lnTo>
                <a:lnTo>
                  <a:pt x="453" y="474"/>
                </a:lnTo>
                <a:lnTo>
                  <a:pt x="420" y="479"/>
                </a:lnTo>
                <a:lnTo>
                  <a:pt x="388" y="485"/>
                </a:lnTo>
                <a:lnTo>
                  <a:pt x="357" y="491"/>
                </a:lnTo>
                <a:lnTo>
                  <a:pt x="328" y="495"/>
                </a:lnTo>
                <a:lnTo>
                  <a:pt x="299" y="501"/>
                </a:lnTo>
                <a:lnTo>
                  <a:pt x="272" y="505"/>
                </a:lnTo>
                <a:lnTo>
                  <a:pt x="247" y="510"/>
                </a:lnTo>
                <a:lnTo>
                  <a:pt x="221" y="514"/>
                </a:lnTo>
                <a:lnTo>
                  <a:pt x="198" y="518"/>
                </a:lnTo>
                <a:lnTo>
                  <a:pt x="177" y="523"/>
                </a:lnTo>
                <a:lnTo>
                  <a:pt x="155" y="525"/>
                </a:lnTo>
                <a:lnTo>
                  <a:pt x="135" y="530"/>
                </a:lnTo>
                <a:lnTo>
                  <a:pt x="116" y="533"/>
                </a:lnTo>
                <a:lnTo>
                  <a:pt x="99" y="536"/>
                </a:lnTo>
                <a:lnTo>
                  <a:pt x="83" y="538"/>
                </a:lnTo>
                <a:lnTo>
                  <a:pt x="67" y="541"/>
                </a:lnTo>
                <a:lnTo>
                  <a:pt x="54" y="544"/>
                </a:lnTo>
                <a:lnTo>
                  <a:pt x="41" y="546"/>
                </a:lnTo>
                <a:lnTo>
                  <a:pt x="30" y="548"/>
                </a:lnTo>
                <a:lnTo>
                  <a:pt x="20" y="550"/>
                </a:lnTo>
                <a:lnTo>
                  <a:pt x="10" y="468"/>
                </a:lnTo>
                <a:lnTo>
                  <a:pt x="0" y="386"/>
                </a:lnTo>
                <a:lnTo>
                  <a:pt x="160" y="364"/>
                </a:lnTo>
                <a:lnTo>
                  <a:pt x="319" y="343"/>
                </a:lnTo>
                <a:lnTo>
                  <a:pt x="478" y="321"/>
                </a:lnTo>
                <a:lnTo>
                  <a:pt x="636" y="298"/>
                </a:lnTo>
                <a:lnTo>
                  <a:pt x="794" y="274"/>
                </a:lnTo>
                <a:lnTo>
                  <a:pt x="953" y="246"/>
                </a:lnTo>
                <a:lnTo>
                  <a:pt x="1111" y="216"/>
                </a:lnTo>
                <a:lnTo>
                  <a:pt x="1192" y="200"/>
                </a:lnTo>
                <a:lnTo>
                  <a:pt x="1272" y="183"/>
                </a:lnTo>
                <a:lnTo>
                  <a:pt x="1313" y="176"/>
                </a:lnTo>
                <a:lnTo>
                  <a:pt x="1351" y="168"/>
                </a:lnTo>
                <a:lnTo>
                  <a:pt x="1389" y="163"/>
                </a:lnTo>
                <a:lnTo>
                  <a:pt x="1425" y="155"/>
                </a:lnTo>
                <a:lnTo>
                  <a:pt x="1459" y="150"/>
                </a:lnTo>
                <a:lnTo>
                  <a:pt x="1494" y="143"/>
                </a:lnTo>
                <a:lnTo>
                  <a:pt x="1526" y="137"/>
                </a:lnTo>
                <a:lnTo>
                  <a:pt x="1557" y="131"/>
                </a:lnTo>
                <a:lnTo>
                  <a:pt x="1588" y="125"/>
                </a:lnTo>
                <a:lnTo>
                  <a:pt x="1618" y="119"/>
                </a:lnTo>
                <a:lnTo>
                  <a:pt x="1645" y="114"/>
                </a:lnTo>
                <a:lnTo>
                  <a:pt x="1673" y="108"/>
                </a:lnTo>
                <a:lnTo>
                  <a:pt x="1698" y="104"/>
                </a:lnTo>
                <a:lnTo>
                  <a:pt x="1723" y="98"/>
                </a:lnTo>
                <a:lnTo>
                  <a:pt x="1746" y="94"/>
                </a:lnTo>
                <a:lnTo>
                  <a:pt x="1768" y="88"/>
                </a:lnTo>
                <a:lnTo>
                  <a:pt x="1789" y="83"/>
                </a:lnTo>
                <a:lnTo>
                  <a:pt x="1809" y="79"/>
                </a:lnTo>
                <a:lnTo>
                  <a:pt x="1828" y="75"/>
                </a:lnTo>
                <a:lnTo>
                  <a:pt x="1845" y="71"/>
                </a:lnTo>
                <a:lnTo>
                  <a:pt x="1863" y="68"/>
                </a:lnTo>
                <a:lnTo>
                  <a:pt x="1878" y="63"/>
                </a:lnTo>
                <a:lnTo>
                  <a:pt x="1893" y="59"/>
                </a:lnTo>
                <a:lnTo>
                  <a:pt x="1906" y="56"/>
                </a:lnTo>
                <a:lnTo>
                  <a:pt x="1917" y="53"/>
                </a:lnTo>
                <a:lnTo>
                  <a:pt x="1929" y="50"/>
                </a:lnTo>
                <a:lnTo>
                  <a:pt x="1939" y="47"/>
                </a:lnTo>
                <a:lnTo>
                  <a:pt x="1947" y="45"/>
                </a:lnTo>
                <a:lnTo>
                  <a:pt x="1955" y="42"/>
                </a:lnTo>
                <a:lnTo>
                  <a:pt x="1962" y="40"/>
                </a:lnTo>
                <a:lnTo>
                  <a:pt x="1966" y="37"/>
                </a:lnTo>
                <a:lnTo>
                  <a:pt x="1972" y="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75"/>
          <p:cNvSpPr/>
          <p:nvPr/>
        </p:nvSpPr>
        <p:spPr>
          <a:xfrm>
            <a:off x="6310440" y="3576600"/>
            <a:ext cx="609480" cy="168480"/>
          </a:xfrm>
          <a:custGeom>
            <a:avLst/>
            <a:gdLst/>
            <a:ahLst/>
            <a:rect l="l" t="t" r="r" b="b"/>
            <a:pathLst>
              <a:path w="1152" h="318">
                <a:moveTo>
                  <a:pt x="3" y="275"/>
                </a:moveTo>
                <a:lnTo>
                  <a:pt x="1" y="272"/>
                </a:lnTo>
                <a:lnTo>
                  <a:pt x="0" y="267"/>
                </a:lnTo>
                <a:lnTo>
                  <a:pt x="1" y="263"/>
                </a:lnTo>
                <a:lnTo>
                  <a:pt x="3" y="260"/>
                </a:lnTo>
                <a:lnTo>
                  <a:pt x="6" y="256"/>
                </a:lnTo>
                <a:lnTo>
                  <a:pt x="10" y="252"/>
                </a:lnTo>
                <a:lnTo>
                  <a:pt x="14" y="247"/>
                </a:lnTo>
                <a:lnTo>
                  <a:pt x="22" y="243"/>
                </a:lnTo>
                <a:lnTo>
                  <a:pt x="27" y="239"/>
                </a:lnTo>
                <a:lnTo>
                  <a:pt x="36" y="234"/>
                </a:lnTo>
                <a:lnTo>
                  <a:pt x="45" y="230"/>
                </a:lnTo>
                <a:lnTo>
                  <a:pt x="55" y="226"/>
                </a:lnTo>
                <a:lnTo>
                  <a:pt x="66" y="221"/>
                </a:lnTo>
                <a:lnTo>
                  <a:pt x="78" y="216"/>
                </a:lnTo>
                <a:lnTo>
                  <a:pt x="91" y="211"/>
                </a:lnTo>
                <a:lnTo>
                  <a:pt x="105" y="206"/>
                </a:lnTo>
                <a:lnTo>
                  <a:pt x="119" y="201"/>
                </a:lnTo>
                <a:lnTo>
                  <a:pt x="135" y="195"/>
                </a:lnTo>
                <a:lnTo>
                  <a:pt x="153" y="190"/>
                </a:lnTo>
                <a:lnTo>
                  <a:pt x="170" y="184"/>
                </a:lnTo>
                <a:lnTo>
                  <a:pt x="189" y="178"/>
                </a:lnTo>
                <a:lnTo>
                  <a:pt x="209" y="172"/>
                </a:lnTo>
                <a:lnTo>
                  <a:pt x="229" y="167"/>
                </a:lnTo>
                <a:lnTo>
                  <a:pt x="250" y="161"/>
                </a:lnTo>
                <a:lnTo>
                  <a:pt x="273" y="155"/>
                </a:lnTo>
                <a:lnTo>
                  <a:pt x="297" y="149"/>
                </a:lnTo>
                <a:lnTo>
                  <a:pt x="321" y="142"/>
                </a:lnTo>
                <a:lnTo>
                  <a:pt x="345" y="136"/>
                </a:lnTo>
                <a:lnTo>
                  <a:pt x="371" y="129"/>
                </a:lnTo>
                <a:lnTo>
                  <a:pt x="399" y="123"/>
                </a:lnTo>
                <a:lnTo>
                  <a:pt x="426" y="116"/>
                </a:lnTo>
                <a:lnTo>
                  <a:pt x="455" y="109"/>
                </a:lnTo>
                <a:lnTo>
                  <a:pt x="482" y="102"/>
                </a:lnTo>
                <a:lnTo>
                  <a:pt x="510" y="96"/>
                </a:lnTo>
                <a:lnTo>
                  <a:pt x="537" y="89"/>
                </a:lnTo>
                <a:lnTo>
                  <a:pt x="563" y="83"/>
                </a:lnTo>
                <a:lnTo>
                  <a:pt x="589" y="77"/>
                </a:lnTo>
                <a:lnTo>
                  <a:pt x="613" y="72"/>
                </a:lnTo>
                <a:lnTo>
                  <a:pt x="636" y="66"/>
                </a:lnTo>
                <a:lnTo>
                  <a:pt x="659" y="60"/>
                </a:lnTo>
                <a:lnTo>
                  <a:pt x="681" y="56"/>
                </a:lnTo>
                <a:lnTo>
                  <a:pt x="702" y="50"/>
                </a:lnTo>
                <a:lnTo>
                  <a:pt x="723" y="46"/>
                </a:lnTo>
                <a:lnTo>
                  <a:pt x="743" y="41"/>
                </a:lnTo>
                <a:lnTo>
                  <a:pt x="762" y="37"/>
                </a:lnTo>
                <a:lnTo>
                  <a:pt x="779" y="33"/>
                </a:lnTo>
                <a:lnTo>
                  <a:pt x="798" y="30"/>
                </a:lnTo>
                <a:lnTo>
                  <a:pt x="813" y="26"/>
                </a:lnTo>
                <a:lnTo>
                  <a:pt x="829" y="23"/>
                </a:lnTo>
                <a:lnTo>
                  <a:pt x="845" y="20"/>
                </a:lnTo>
                <a:lnTo>
                  <a:pt x="859" y="17"/>
                </a:lnTo>
                <a:lnTo>
                  <a:pt x="874" y="14"/>
                </a:lnTo>
                <a:lnTo>
                  <a:pt x="887" y="11"/>
                </a:lnTo>
                <a:lnTo>
                  <a:pt x="900" y="10"/>
                </a:lnTo>
                <a:lnTo>
                  <a:pt x="911" y="7"/>
                </a:lnTo>
                <a:lnTo>
                  <a:pt x="923" y="5"/>
                </a:lnTo>
                <a:lnTo>
                  <a:pt x="933" y="4"/>
                </a:lnTo>
                <a:lnTo>
                  <a:pt x="943" y="3"/>
                </a:lnTo>
                <a:lnTo>
                  <a:pt x="952" y="1"/>
                </a:lnTo>
                <a:lnTo>
                  <a:pt x="960" y="1"/>
                </a:lnTo>
                <a:lnTo>
                  <a:pt x="969" y="0"/>
                </a:lnTo>
                <a:lnTo>
                  <a:pt x="976" y="0"/>
                </a:lnTo>
                <a:lnTo>
                  <a:pt x="982" y="0"/>
                </a:lnTo>
                <a:lnTo>
                  <a:pt x="989" y="0"/>
                </a:lnTo>
                <a:lnTo>
                  <a:pt x="999" y="0"/>
                </a:lnTo>
                <a:lnTo>
                  <a:pt x="1011" y="0"/>
                </a:lnTo>
                <a:lnTo>
                  <a:pt x="1021" y="1"/>
                </a:lnTo>
                <a:lnTo>
                  <a:pt x="1031" y="3"/>
                </a:lnTo>
                <a:lnTo>
                  <a:pt x="1041" y="4"/>
                </a:lnTo>
                <a:lnTo>
                  <a:pt x="1051" y="5"/>
                </a:lnTo>
                <a:lnTo>
                  <a:pt x="1068" y="10"/>
                </a:lnTo>
                <a:lnTo>
                  <a:pt x="1085" y="15"/>
                </a:lnTo>
                <a:lnTo>
                  <a:pt x="1101" y="23"/>
                </a:lnTo>
                <a:lnTo>
                  <a:pt x="1117" y="28"/>
                </a:lnTo>
                <a:lnTo>
                  <a:pt x="1133" y="36"/>
                </a:lnTo>
                <a:lnTo>
                  <a:pt x="1136" y="39"/>
                </a:lnTo>
                <a:lnTo>
                  <a:pt x="1139" y="43"/>
                </a:lnTo>
                <a:lnTo>
                  <a:pt x="1142" y="46"/>
                </a:lnTo>
                <a:lnTo>
                  <a:pt x="1144" y="50"/>
                </a:lnTo>
                <a:lnTo>
                  <a:pt x="1147" y="53"/>
                </a:lnTo>
                <a:lnTo>
                  <a:pt x="1149" y="56"/>
                </a:lnTo>
                <a:lnTo>
                  <a:pt x="1150" y="60"/>
                </a:lnTo>
                <a:lnTo>
                  <a:pt x="1150" y="63"/>
                </a:lnTo>
                <a:lnTo>
                  <a:pt x="1152" y="66"/>
                </a:lnTo>
                <a:lnTo>
                  <a:pt x="1152" y="70"/>
                </a:lnTo>
                <a:lnTo>
                  <a:pt x="1152" y="73"/>
                </a:lnTo>
                <a:lnTo>
                  <a:pt x="1152" y="77"/>
                </a:lnTo>
                <a:lnTo>
                  <a:pt x="1150" y="80"/>
                </a:lnTo>
                <a:lnTo>
                  <a:pt x="1149" y="83"/>
                </a:lnTo>
                <a:lnTo>
                  <a:pt x="1147" y="87"/>
                </a:lnTo>
                <a:lnTo>
                  <a:pt x="1144" y="90"/>
                </a:lnTo>
                <a:lnTo>
                  <a:pt x="1142" y="93"/>
                </a:lnTo>
                <a:lnTo>
                  <a:pt x="1139" y="98"/>
                </a:lnTo>
                <a:lnTo>
                  <a:pt x="1136" y="100"/>
                </a:lnTo>
                <a:lnTo>
                  <a:pt x="1131" y="105"/>
                </a:lnTo>
                <a:lnTo>
                  <a:pt x="1127" y="108"/>
                </a:lnTo>
                <a:lnTo>
                  <a:pt x="1123" y="110"/>
                </a:lnTo>
                <a:lnTo>
                  <a:pt x="1117" y="115"/>
                </a:lnTo>
                <a:lnTo>
                  <a:pt x="1111" y="118"/>
                </a:lnTo>
                <a:lnTo>
                  <a:pt x="1106" y="122"/>
                </a:lnTo>
                <a:lnTo>
                  <a:pt x="1100" y="125"/>
                </a:lnTo>
                <a:lnTo>
                  <a:pt x="1093" y="128"/>
                </a:lnTo>
                <a:lnTo>
                  <a:pt x="1085" y="132"/>
                </a:lnTo>
                <a:lnTo>
                  <a:pt x="1077" y="135"/>
                </a:lnTo>
                <a:lnTo>
                  <a:pt x="1068" y="139"/>
                </a:lnTo>
                <a:lnTo>
                  <a:pt x="1060" y="142"/>
                </a:lnTo>
                <a:lnTo>
                  <a:pt x="1051" y="146"/>
                </a:lnTo>
                <a:lnTo>
                  <a:pt x="1041" y="149"/>
                </a:lnTo>
                <a:lnTo>
                  <a:pt x="1031" y="152"/>
                </a:lnTo>
                <a:lnTo>
                  <a:pt x="1019" y="157"/>
                </a:lnTo>
                <a:lnTo>
                  <a:pt x="1009" y="159"/>
                </a:lnTo>
                <a:lnTo>
                  <a:pt x="998" y="164"/>
                </a:lnTo>
                <a:lnTo>
                  <a:pt x="986" y="167"/>
                </a:lnTo>
                <a:lnTo>
                  <a:pt x="973" y="170"/>
                </a:lnTo>
                <a:lnTo>
                  <a:pt x="962" y="174"/>
                </a:lnTo>
                <a:lnTo>
                  <a:pt x="949" y="177"/>
                </a:lnTo>
                <a:lnTo>
                  <a:pt x="934" y="181"/>
                </a:lnTo>
                <a:lnTo>
                  <a:pt x="921" y="184"/>
                </a:lnTo>
                <a:lnTo>
                  <a:pt x="907" y="187"/>
                </a:lnTo>
                <a:lnTo>
                  <a:pt x="893" y="191"/>
                </a:lnTo>
                <a:lnTo>
                  <a:pt x="878" y="194"/>
                </a:lnTo>
                <a:lnTo>
                  <a:pt x="862" y="197"/>
                </a:lnTo>
                <a:lnTo>
                  <a:pt x="846" y="201"/>
                </a:lnTo>
                <a:lnTo>
                  <a:pt x="831" y="204"/>
                </a:lnTo>
                <a:lnTo>
                  <a:pt x="815" y="208"/>
                </a:lnTo>
                <a:lnTo>
                  <a:pt x="798" y="211"/>
                </a:lnTo>
                <a:lnTo>
                  <a:pt x="780" y="214"/>
                </a:lnTo>
                <a:lnTo>
                  <a:pt x="762" y="218"/>
                </a:lnTo>
                <a:lnTo>
                  <a:pt x="744" y="221"/>
                </a:lnTo>
                <a:lnTo>
                  <a:pt x="726" y="224"/>
                </a:lnTo>
                <a:lnTo>
                  <a:pt x="705" y="229"/>
                </a:lnTo>
                <a:lnTo>
                  <a:pt x="687" y="231"/>
                </a:lnTo>
                <a:lnTo>
                  <a:pt x="666" y="236"/>
                </a:lnTo>
                <a:lnTo>
                  <a:pt x="646" y="239"/>
                </a:lnTo>
                <a:lnTo>
                  <a:pt x="625" y="241"/>
                </a:lnTo>
                <a:lnTo>
                  <a:pt x="603" y="246"/>
                </a:lnTo>
                <a:lnTo>
                  <a:pt x="582" y="249"/>
                </a:lnTo>
                <a:lnTo>
                  <a:pt x="559" y="253"/>
                </a:lnTo>
                <a:lnTo>
                  <a:pt x="537" y="256"/>
                </a:lnTo>
                <a:lnTo>
                  <a:pt x="514" y="262"/>
                </a:lnTo>
                <a:lnTo>
                  <a:pt x="491" y="266"/>
                </a:lnTo>
                <a:lnTo>
                  <a:pt x="469" y="270"/>
                </a:lnTo>
                <a:lnTo>
                  <a:pt x="449" y="275"/>
                </a:lnTo>
                <a:lnTo>
                  <a:pt x="429" y="279"/>
                </a:lnTo>
                <a:lnTo>
                  <a:pt x="409" y="283"/>
                </a:lnTo>
                <a:lnTo>
                  <a:pt x="389" y="288"/>
                </a:lnTo>
                <a:lnTo>
                  <a:pt x="371" y="290"/>
                </a:lnTo>
                <a:lnTo>
                  <a:pt x="353" y="295"/>
                </a:lnTo>
                <a:lnTo>
                  <a:pt x="335" y="298"/>
                </a:lnTo>
                <a:lnTo>
                  <a:pt x="318" y="301"/>
                </a:lnTo>
                <a:lnTo>
                  <a:pt x="302" y="303"/>
                </a:lnTo>
                <a:lnTo>
                  <a:pt x="286" y="305"/>
                </a:lnTo>
                <a:lnTo>
                  <a:pt x="272" y="308"/>
                </a:lnTo>
                <a:lnTo>
                  <a:pt x="258" y="309"/>
                </a:lnTo>
                <a:lnTo>
                  <a:pt x="243" y="312"/>
                </a:lnTo>
                <a:lnTo>
                  <a:pt x="230" y="313"/>
                </a:lnTo>
                <a:lnTo>
                  <a:pt x="217" y="315"/>
                </a:lnTo>
                <a:lnTo>
                  <a:pt x="206" y="316"/>
                </a:lnTo>
                <a:lnTo>
                  <a:pt x="194" y="316"/>
                </a:lnTo>
                <a:lnTo>
                  <a:pt x="184" y="318"/>
                </a:lnTo>
                <a:lnTo>
                  <a:pt x="174" y="318"/>
                </a:lnTo>
                <a:lnTo>
                  <a:pt x="164" y="318"/>
                </a:lnTo>
                <a:lnTo>
                  <a:pt x="155" y="318"/>
                </a:lnTo>
                <a:lnTo>
                  <a:pt x="147" y="318"/>
                </a:lnTo>
                <a:lnTo>
                  <a:pt x="140" y="318"/>
                </a:lnTo>
                <a:lnTo>
                  <a:pt x="132" y="318"/>
                </a:lnTo>
                <a:lnTo>
                  <a:pt x="125" y="316"/>
                </a:lnTo>
                <a:lnTo>
                  <a:pt x="119" y="316"/>
                </a:lnTo>
                <a:lnTo>
                  <a:pt x="114" y="315"/>
                </a:lnTo>
                <a:lnTo>
                  <a:pt x="109" y="313"/>
                </a:lnTo>
                <a:lnTo>
                  <a:pt x="105" y="312"/>
                </a:lnTo>
                <a:lnTo>
                  <a:pt x="98" y="311"/>
                </a:lnTo>
                <a:lnTo>
                  <a:pt x="89" y="311"/>
                </a:lnTo>
                <a:lnTo>
                  <a:pt x="82" y="309"/>
                </a:lnTo>
                <a:lnTo>
                  <a:pt x="75" y="308"/>
                </a:lnTo>
                <a:lnTo>
                  <a:pt x="60" y="305"/>
                </a:lnTo>
                <a:lnTo>
                  <a:pt x="46" y="299"/>
                </a:lnTo>
                <a:lnTo>
                  <a:pt x="33" y="295"/>
                </a:lnTo>
                <a:lnTo>
                  <a:pt x="22" y="288"/>
                </a:lnTo>
                <a:lnTo>
                  <a:pt x="16" y="285"/>
                </a:lnTo>
                <a:lnTo>
                  <a:pt x="11" y="282"/>
                </a:lnTo>
                <a:lnTo>
                  <a:pt x="6" y="277"/>
                </a:lnTo>
                <a:lnTo>
                  <a:pt x="3" y="2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Freeform 76"/>
          <p:cNvSpPr/>
          <p:nvPr/>
        </p:nvSpPr>
        <p:spPr>
          <a:xfrm>
            <a:off x="5904000" y="4140360"/>
            <a:ext cx="1179360" cy="241200"/>
          </a:xfrm>
          <a:custGeom>
            <a:avLst/>
            <a:gdLst/>
            <a:ahLst/>
            <a:rect l="l" t="t" r="r" b="b"/>
            <a:pathLst>
              <a:path w="2227" h="458">
                <a:moveTo>
                  <a:pt x="975" y="348"/>
                </a:moveTo>
                <a:lnTo>
                  <a:pt x="937" y="354"/>
                </a:lnTo>
                <a:lnTo>
                  <a:pt x="903" y="361"/>
                </a:lnTo>
                <a:lnTo>
                  <a:pt x="868" y="367"/>
                </a:lnTo>
                <a:lnTo>
                  <a:pt x="835" y="374"/>
                </a:lnTo>
                <a:lnTo>
                  <a:pt x="803" y="380"/>
                </a:lnTo>
                <a:lnTo>
                  <a:pt x="772" y="386"/>
                </a:lnTo>
                <a:lnTo>
                  <a:pt x="742" y="392"/>
                </a:lnTo>
                <a:lnTo>
                  <a:pt x="713" y="396"/>
                </a:lnTo>
                <a:lnTo>
                  <a:pt x="684" y="402"/>
                </a:lnTo>
                <a:lnTo>
                  <a:pt x="657" y="406"/>
                </a:lnTo>
                <a:lnTo>
                  <a:pt x="629" y="412"/>
                </a:lnTo>
                <a:lnTo>
                  <a:pt x="605" y="416"/>
                </a:lnTo>
                <a:lnTo>
                  <a:pt x="580" y="419"/>
                </a:lnTo>
                <a:lnTo>
                  <a:pt x="556" y="423"/>
                </a:lnTo>
                <a:lnTo>
                  <a:pt x="534" y="428"/>
                </a:lnTo>
                <a:lnTo>
                  <a:pt x="513" y="430"/>
                </a:lnTo>
                <a:lnTo>
                  <a:pt x="491" y="435"/>
                </a:lnTo>
                <a:lnTo>
                  <a:pt x="471" y="438"/>
                </a:lnTo>
                <a:lnTo>
                  <a:pt x="452" y="440"/>
                </a:lnTo>
                <a:lnTo>
                  <a:pt x="435" y="443"/>
                </a:lnTo>
                <a:lnTo>
                  <a:pt x="418" y="445"/>
                </a:lnTo>
                <a:lnTo>
                  <a:pt x="402" y="448"/>
                </a:lnTo>
                <a:lnTo>
                  <a:pt x="387" y="449"/>
                </a:lnTo>
                <a:lnTo>
                  <a:pt x="373" y="451"/>
                </a:lnTo>
                <a:lnTo>
                  <a:pt x="360" y="452"/>
                </a:lnTo>
                <a:lnTo>
                  <a:pt x="349" y="453"/>
                </a:lnTo>
                <a:lnTo>
                  <a:pt x="337" y="455"/>
                </a:lnTo>
                <a:lnTo>
                  <a:pt x="327" y="456"/>
                </a:lnTo>
                <a:lnTo>
                  <a:pt x="318" y="456"/>
                </a:lnTo>
                <a:lnTo>
                  <a:pt x="310" y="458"/>
                </a:lnTo>
                <a:lnTo>
                  <a:pt x="302" y="458"/>
                </a:lnTo>
                <a:lnTo>
                  <a:pt x="297" y="458"/>
                </a:lnTo>
                <a:lnTo>
                  <a:pt x="285" y="458"/>
                </a:lnTo>
                <a:lnTo>
                  <a:pt x="274" y="456"/>
                </a:lnTo>
                <a:lnTo>
                  <a:pt x="264" y="456"/>
                </a:lnTo>
                <a:lnTo>
                  <a:pt x="252" y="455"/>
                </a:lnTo>
                <a:lnTo>
                  <a:pt x="242" y="452"/>
                </a:lnTo>
                <a:lnTo>
                  <a:pt x="233" y="449"/>
                </a:lnTo>
                <a:lnTo>
                  <a:pt x="223" y="446"/>
                </a:lnTo>
                <a:lnTo>
                  <a:pt x="213" y="442"/>
                </a:lnTo>
                <a:lnTo>
                  <a:pt x="203" y="438"/>
                </a:lnTo>
                <a:lnTo>
                  <a:pt x="194" y="432"/>
                </a:lnTo>
                <a:lnTo>
                  <a:pt x="184" y="426"/>
                </a:lnTo>
                <a:lnTo>
                  <a:pt x="174" y="419"/>
                </a:lnTo>
                <a:lnTo>
                  <a:pt x="164" y="412"/>
                </a:lnTo>
                <a:lnTo>
                  <a:pt x="154" y="403"/>
                </a:lnTo>
                <a:lnTo>
                  <a:pt x="143" y="394"/>
                </a:lnTo>
                <a:lnTo>
                  <a:pt x="133" y="384"/>
                </a:lnTo>
                <a:lnTo>
                  <a:pt x="121" y="377"/>
                </a:lnTo>
                <a:lnTo>
                  <a:pt x="110" y="370"/>
                </a:lnTo>
                <a:lnTo>
                  <a:pt x="99" y="364"/>
                </a:lnTo>
                <a:lnTo>
                  <a:pt x="89" y="357"/>
                </a:lnTo>
                <a:lnTo>
                  <a:pt x="81" y="350"/>
                </a:lnTo>
                <a:lnTo>
                  <a:pt x="71" y="343"/>
                </a:lnTo>
                <a:lnTo>
                  <a:pt x="63" y="337"/>
                </a:lnTo>
                <a:lnTo>
                  <a:pt x="55" y="330"/>
                </a:lnTo>
                <a:lnTo>
                  <a:pt x="48" y="322"/>
                </a:lnTo>
                <a:lnTo>
                  <a:pt x="40" y="315"/>
                </a:lnTo>
                <a:lnTo>
                  <a:pt x="33" y="309"/>
                </a:lnTo>
                <a:lnTo>
                  <a:pt x="27" y="302"/>
                </a:lnTo>
                <a:lnTo>
                  <a:pt x="22" y="295"/>
                </a:lnTo>
                <a:lnTo>
                  <a:pt x="17" y="288"/>
                </a:lnTo>
                <a:lnTo>
                  <a:pt x="12" y="281"/>
                </a:lnTo>
                <a:lnTo>
                  <a:pt x="9" y="275"/>
                </a:lnTo>
                <a:lnTo>
                  <a:pt x="4" y="268"/>
                </a:lnTo>
                <a:lnTo>
                  <a:pt x="3" y="262"/>
                </a:lnTo>
                <a:lnTo>
                  <a:pt x="0" y="255"/>
                </a:lnTo>
                <a:lnTo>
                  <a:pt x="0" y="250"/>
                </a:lnTo>
                <a:lnTo>
                  <a:pt x="0" y="245"/>
                </a:lnTo>
                <a:lnTo>
                  <a:pt x="0" y="240"/>
                </a:lnTo>
                <a:lnTo>
                  <a:pt x="2" y="235"/>
                </a:lnTo>
                <a:lnTo>
                  <a:pt x="3" y="230"/>
                </a:lnTo>
                <a:lnTo>
                  <a:pt x="6" y="226"/>
                </a:lnTo>
                <a:lnTo>
                  <a:pt x="9" y="223"/>
                </a:lnTo>
                <a:lnTo>
                  <a:pt x="15" y="214"/>
                </a:lnTo>
                <a:lnTo>
                  <a:pt x="22" y="207"/>
                </a:lnTo>
                <a:lnTo>
                  <a:pt x="29" y="201"/>
                </a:lnTo>
                <a:lnTo>
                  <a:pt x="33" y="197"/>
                </a:lnTo>
                <a:lnTo>
                  <a:pt x="39" y="194"/>
                </a:lnTo>
                <a:lnTo>
                  <a:pt x="45" y="193"/>
                </a:lnTo>
                <a:lnTo>
                  <a:pt x="52" y="190"/>
                </a:lnTo>
                <a:lnTo>
                  <a:pt x="59" y="189"/>
                </a:lnTo>
                <a:lnTo>
                  <a:pt x="66" y="187"/>
                </a:lnTo>
                <a:lnTo>
                  <a:pt x="76" y="187"/>
                </a:lnTo>
                <a:lnTo>
                  <a:pt x="85" y="187"/>
                </a:lnTo>
                <a:lnTo>
                  <a:pt x="95" y="187"/>
                </a:lnTo>
                <a:lnTo>
                  <a:pt x="105" y="187"/>
                </a:lnTo>
                <a:lnTo>
                  <a:pt x="117" y="189"/>
                </a:lnTo>
                <a:lnTo>
                  <a:pt x="127" y="190"/>
                </a:lnTo>
                <a:lnTo>
                  <a:pt x="138" y="193"/>
                </a:lnTo>
                <a:lnTo>
                  <a:pt x="150" y="194"/>
                </a:lnTo>
                <a:lnTo>
                  <a:pt x="161" y="197"/>
                </a:lnTo>
                <a:lnTo>
                  <a:pt x="173" y="201"/>
                </a:lnTo>
                <a:lnTo>
                  <a:pt x="184" y="204"/>
                </a:lnTo>
                <a:lnTo>
                  <a:pt x="194" y="207"/>
                </a:lnTo>
                <a:lnTo>
                  <a:pt x="206" y="210"/>
                </a:lnTo>
                <a:lnTo>
                  <a:pt x="215" y="212"/>
                </a:lnTo>
                <a:lnTo>
                  <a:pt x="235" y="214"/>
                </a:lnTo>
                <a:lnTo>
                  <a:pt x="252" y="217"/>
                </a:lnTo>
                <a:lnTo>
                  <a:pt x="269" y="219"/>
                </a:lnTo>
                <a:lnTo>
                  <a:pt x="285" y="219"/>
                </a:lnTo>
                <a:lnTo>
                  <a:pt x="301" y="219"/>
                </a:lnTo>
                <a:lnTo>
                  <a:pt x="317" y="220"/>
                </a:lnTo>
                <a:lnTo>
                  <a:pt x="321" y="219"/>
                </a:lnTo>
                <a:lnTo>
                  <a:pt x="325" y="219"/>
                </a:lnTo>
                <a:lnTo>
                  <a:pt x="333" y="219"/>
                </a:lnTo>
                <a:lnTo>
                  <a:pt x="340" y="217"/>
                </a:lnTo>
                <a:lnTo>
                  <a:pt x="350" y="217"/>
                </a:lnTo>
                <a:lnTo>
                  <a:pt x="359" y="216"/>
                </a:lnTo>
                <a:lnTo>
                  <a:pt x="370" y="214"/>
                </a:lnTo>
                <a:lnTo>
                  <a:pt x="382" y="213"/>
                </a:lnTo>
                <a:lnTo>
                  <a:pt x="396" y="212"/>
                </a:lnTo>
                <a:lnTo>
                  <a:pt x="410" y="210"/>
                </a:lnTo>
                <a:lnTo>
                  <a:pt x="425" y="207"/>
                </a:lnTo>
                <a:lnTo>
                  <a:pt x="442" y="206"/>
                </a:lnTo>
                <a:lnTo>
                  <a:pt x="459" y="203"/>
                </a:lnTo>
                <a:lnTo>
                  <a:pt x="478" y="200"/>
                </a:lnTo>
                <a:lnTo>
                  <a:pt x="498" y="197"/>
                </a:lnTo>
                <a:lnTo>
                  <a:pt x="520" y="194"/>
                </a:lnTo>
                <a:lnTo>
                  <a:pt x="541" y="191"/>
                </a:lnTo>
                <a:lnTo>
                  <a:pt x="566" y="189"/>
                </a:lnTo>
                <a:lnTo>
                  <a:pt x="590" y="184"/>
                </a:lnTo>
                <a:lnTo>
                  <a:pt x="615" y="181"/>
                </a:lnTo>
                <a:lnTo>
                  <a:pt x="642" y="177"/>
                </a:lnTo>
                <a:lnTo>
                  <a:pt x="671" y="174"/>
                </a:lnTo>
                <a:lnTo>
                  <a:pt x="700" y="170"/>
                </a:lnTo>
                <a:lnTo>
                  <a:pt x="730" y="165"/>
                </a:lnTo>
                <a:lnTo>
                  <a:pt x="762" y="161"/>
                </a:lnTo>
                <a:lnTo>
                  <a:pt x="793" y="157"/>
                </a:lnTo>
                <a:lnTo>
                  <a:pt x="828" y="153"/>
                </a:lnTo>
                <a:lnTo>
                  <a:pt x="862" y="147"/>
                </a:lnTo>
                <a:lnTo>
                  <a:pt x="900" y="142"/>
                </a:lnTo>
                <a:lnTo>
                  <a:pt x="937" y="138"/>
                </a:lnTo>
                <a:lnTo>
                  <a:pt x="975" y="132"/>
                </a:lnTo>
                <a:lnTo>
                  <a:pt x="1015" y="128"/>
                </a:lnTo>
                <a:lnTo>
                  <a:pt x="1169" y="108"/>
                </a:lnTo>
                <a:lnTo>
                  <a:pt x="1323" y="89"/>
                </a:lnTo>
                <a:lnTo>
                  <a:pt x="1476" y="72"/>
                </a:lnTo>
                <a:lnTo>
                  <a:pt x="1628" y="56"/>
                </a:lnTo>
                <a:lnTo>
                  <a:pt x="1779" y="42"/>
                </a:lnTo>
                <a:lnTo>
                  <a:pt x="1931" y="27"/>
                </a:lnTo>
                <a:lnTo>
                  <a:pt x="2079" y="13"/>
                </a:lnTo>
                <a:lnTo>
                  <a:pt x="2227" y="0"/>
                </a:lnTo>
                <a:lnTo>
                  <a:pt x="2227" y="45"/>
                </a:lnTo>
                <a:lnTo>
                  <a:pt x="2227" y="91"/>
                </a:lnTo>
                <a:lnTo>
                  <a:pt x="1903" y="160"/>
                </a:lnTo>
                <a:lnTo>
                  <a:pt x="1743" y="193"/>
                </a:lnTo>
                <a:lnTo>
                  <a:pt x="1585" y="226"/>
                </a:lnTo>
                <a:lnTo>
                  <a:pt x="1428" y="258"/>
                </a:lnTo>
                <a:lnTo>
                  <a:pt x="1274" y="289"/>
                </a:lnTo>
                <a:lnTo>
                  <a:pt x="1122" y="320"/>
                </a:lnTo>
                <a:lnTo>
                  <a:pt x="1048" y="334"/>
                </a:lnTo>
                <a:lnTo>
                  <a:pt x="975" y="34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77"/>
          <p:cNvSpPr/>
          <p:nvPr/>
        </p:nvSpPr>
        <p:spPr>
          <a:xfrm>
            <a:off x="6908760" y="4029120"/>
            <a:ext cx="353880" cy="333360"/>
          </a:xfrm>
          <a:custGeom>
            <a:avLst/>
            <a:gdLst/>
            <a:ahLst/>
            <a:rect l="l" t="t" r="r" b="b"/>
            <a:pathLst>
              <a:path w="668" h="632">
                <a:moveTo>
                  <a:pt x="554" y="632"/>
                </a:moveTo>
                <a:lnTo>
                  <a:pt x="551" y="630"/>
                </a:lnTo>
                <a:lnTo>
                  <a:pt x="548" y="630"/>
                </a:lnTo>
                <a:lnTo>
                  <a:pt x="546" y="629"/>
                </a:lnTo>
                <a:lnTo>
                  <a:pt x="543" y="627"/>
                </a:lnTo>
                <a:lnTo>
                  <a:pt x="538" y="625"/>
                </a:lnTo>
                <a:lnTo>
                  <a:pt x="534" y="622"/>
                </a:lnTo>
                <a:lnTo>
                  <a:pt x="528" y="617"/>
                </a:lnTo>
                <a:lnTo>
                  <a:pt x="522" y="614"/>
                </a:lnTo>
                <a:lnTo>
                  <a:pt x="517" y="609"/>
                </a:lnTo>
                <a:lnTo>
                  <a:pt x="511" y="604"/>
                </a:lnTo>
                <a:lnTo>
                  <a:pt x="504" y="599"/>
                </a:lnTo>
                <a:lnTo>
                  <a:pt x="497" y="591"/>
                </a:lnTo>
                <a:lnTo>
                  <a:pt x="489" y="584"/>
                </a:lnTo>
                <a:lnTo>
                  <a:pt x="481" y="577"/>
                </a:lnTo>
                <a:lnTo>
                  <a:pt x="472" y="570"/>
                </a:lnTo>
                <a:lnTo>
                  <a:pt x="463" y="561"/>
                </a:lnTo>
                <a:lnTo>
                  <a:pt x="453" y="551"/>
                </a:lnTo>
                <a:lnTo>
                  <a:pt x="443" y="541"/>
                </a:lnTo>
                <a:lnTo>
                  <a:pt x="433" y="531"/>
                </a:lnTo>
                <a:lnTo>
                  <a:pt x="423" y="519"/>
                </a:lnTo>
                <a:lnTo>
                  <a:pt x="412" y="508"/>
                </a:lnTo>
                <a:lnTo>
                  <a:pt x="400" y="496"/>
                </a:lnTo>
                <a:lnTo>
                  <a:pt x="389" y="483"/>
                </a:lnTo>
                <a:lnTo>
                  <a:pt x="377" y="469"/>
                </a:lnTo>
                <a:lnTo>
                  <a:pt x="364" y="455"/>
                </a:lnTo>
                <a:lnTo>
                  <a:pt x="351" y="440"/>
                </a:lnTo>
                <a:lnTo>
                  <a:pt x="338" y="424"/>
                </a:lnTo>
                <a:lnTo>
                  <a:pt x="324" y="409"/>
                </a:lnTo>
                <a:lnTo>
                  <a:pt x="311" y="391"/>
                </a:lnTo>
                <a:lnTo>
                  <a:pt x="296" y="374"/>
                </a:lnTo>
                <a:lnTo>
                  <a:pt x="281" y="357"/>
                </a:lnTo>
                <a:lnTo>
                  <a:pt x="266" y="338"/>
                </a:lnTo>
                <a:lnTo>
                  <a:pt x="249" y="321"/>
                </a:lnTo>
                <a:lnTo>
                  <a:pt x="233" y="304"/>
                </a:lnTo>
                <a:lnTo>
                  <a:pt x="217" y="288"/>
                </a:lnTo>
                <a:lnTo>
                  <a:pt x="201" y="272"/>
                </a:lnTo>
                <a:lnTo>
                  <a:pt x="187" y="256"/>
                </a:lnTo>
                <a:lnTo>
                  <a:pt x="174" y="242"/>
                </a:lnTo>
                <a:lnTo>
                  <a:pt x="160" y="227"/>
                </a:lnTo>
                <a:lnTo>
                  <a:pt x="147" y="213"/>
                </a:lnTo>
                <a:lnTo>
                  <a:pt x="135" y="200"/>
                </a:lnTo>
                <a:lnTo>
                  <a:pt x="122" y="187"/>
                </a:lnTo>
                <a:lnTo>
                  <a:pt x="112" y="174"/>
                </a:lnTo>
                <a:lnTo>
                  <a:pt x="101" y="162"/>
                </a:lnTo>
                <a:lnTo>
                  <a:pt x="91" y="151"/>
                </a:lnTo>
                <a:lnTo>
                  <a:pt x="82" y="139"/>
                </a:lnTo>
                <a:lnTo>
                  <a:pt x="72" y="129"/>
                </a:lnTo>
                <a:lnTo>
                  <a:pt x="63" y="119"/>
                </a:lnTo>
                <a:lnTo>
                  <a:pt x="56" y="109"/>
                </a:lnTo>
                <a:lnTo>
                  <a:pt x="49" y="101"/>
                </a:lnTo>
                <a:lnTo>
                  <a:pt x="42" y="92"/>
                </a:lnTo>
                <a:lnTo>
                  <a:pt x="36" y="83"/>
                </a:lnTo>
                <a:lnTo>
                  <a:pt x="30" y="76"/>
                </a:lnTo>
                <a:lnTo>
                  <a:pt x="24" y="69"/>
                </a:lnTo>
                <a:lnTo>
                  <a:pt x="20" y="62"/>
                </a:lnTo>
                <a:lnTo>
                  <a:pt x="16" y="56"/>
                </a:lnTo>
                <a:lnTo>
                  <a:pt x="11" y="50"/>
                </a:lnTo>
                <a:lnTo>
                  <a:pt x="9" y="44"/>
                </a:lnTo>
                <a:lnTo>
                  <a:pt x="6" y="40"/>
                </a:lnTo>
                <a:lnTo>
                  <a:pt x="3" y="36"/>
                </a:lnTo>
                <a:lnTo>
                  <a:pt x="1" y="33"/>
                </a:lnTo>
                <a:lnTo>
                  <a:pt x="0" y="30"/>
                </a:lnTo>
                <a:lnTo>
                  <a:pt x="0" y="27"/>
                </a:lnTo>
                <a:lnTo>
                  <a:pt x="0" y="26"/>
                </a:lnTo>
                <a:lnTo>
                  <a:pt x="0" y="21"/>
                </a:lnTo>
                <a:lnTo>
                  <a:pt x="1" y="18"/>
                </a:lnTo>
                <a:lnTo>
                  <a:pt x="4" y="16"/>
                </a:lnTo>
                <a:lnTo>
                  <a:pt x="7" y="11"/>
                </a:lnTo>
                <a:lnTo>
                  <a:pt x="11" y="8"/>
                </a:lnTo>
                <a:lnTo>
                  <a:pt x="17" y="7"/>
                </a:lnTo>
                <a:lnTo>
                  <a:pt x="23" y="4"/>
                </a:lnTo>
                <a:lnTo>
                  <a:pt x="30" y="3"/>
                </a:lnTo>
                <a:lnTo>
                  <a:pt x="39" y="1"/>
                </a:lnTo>
                <a:lnTo>
                  <a:pt x="47" y="0"/>
                </a:lnTo>
                <a:lnTo>
                  <a:pt x="58" y="0"/>
                </a:lnTo>
                <a:lnTo>
                  <a:pt x="69" y="0"/>
                </a:lnTo>
                <a:lnTo>
                  <a:pt x="81" y="0"/>
                </a:lnTo>
                <a:lnTo>
                  <a:pt x="93" y="1"/>
                </a:lnTo>
                <a:lnTo>
                  <a:pt x="108" y="4"/>
                </a:lnTo>
                <a:lnTo>
                  <a:pt x="122" y="7"/>
                </a:lnTo>
                <a:lnTo>
                  <a:pt x="153" y="14"/>
                </a:lnTo>
                <a:lnTo>
                  <a:pt x="184" y="21"/>
                </a:lnTo>
                <a:lnTo>
                  <a:pt x="216" y="29"/>
                </a:lnTo>
                <a:lnTo>
                  <a:pt x="248" y="37"/>
                </a:lnTo>
                <a:lnTo>
                  <a:pt x="281" y="46"/>
                </a:lnTo>
                <a:lnTo>
                  <a:pt x="298" y="50"/>
                </a:lnTo>
                <a:lnTo>
                  <a:pt x="315" y="56"/>
                </a:lnTo>
                <a:lnTo>
                  <a:pt x="334" y="62"/>
                </a:lnTo>
                <a:lnTo>
                  <a:pt x="351" y="67"/>
                </a:lnTo>
                <a:lnTo>
                  <a:pt x="370" y="73"/>
                </a:lnTo>
                <a:lnTo>
                  <a:pt x="390" y="80"/>
                </a:lnTo>
                <a:lnTo>
                  <a:pt x="409" y="88"/>
                </a:lnTo>
                <a:lnTo>
                  <a:pt x="426" y="95"/>
                </a:lnTo>
                <a:lnTo>
                  <a:pt x="443" y="103"/>
                </a:lnTo>
                <a:lnTo>
                  <a:pt x="459" y="112"/>
                </a:lnTo>
                <a:lnTo>
                  <a:pt x="475" y="121"/>
                </a:lnTo>
                <a:lnTo>
                  <a:pt x="489" y="131"/>
                </a:lnTo>
                <a:lnTo>
                  <a:pt x="504" y="141"/>
                </a:lnTo>
                <a:lnTo>
                  <a:pt x="518" y="152"/>
                </a:lnTo>
                <a:lnTo>
                  <a:pt x="531" y="162"/>
                </a:lnTo>
                <a:lnTo>
                  <a:pt x="544" y="175"/>
                </a:lnTo>
                <a:lnTo>
                  <a:pt x="557" y="188"/>
                </a:lnTo>
                <a:lnTo>
                  <a:pt x="569" y="201"/>
                </a:lnTo>
                <a:lnTo>
                  <a:pt x="580" y="216"/>
                </a:lnTo>
                <a:lnTo>
                  <a:pt x="592" y="232"/>
                </a:lnTo>
                <a:lnTo>
                  <a:pt x="605" y="247"/>
                </a:lnTo>
                <a:lnTo>
                  <a:pt x="616" y="265"/>
                </a:lnTo>
                <a:lnTo>
                  <a:pt x="626" y="280"/>
                </a:lnTo>
                <a:lnTo>
                  <a:pt x="635" y="298"/>
                </a:lnTo>
                <a:lnTo>
                  <a:pt x="643" y="314"/>
                </a:lnTo>
                <a:lnTo>
                  <a:pt x="651" y="329"/>
                </a:lnTo>
                <a:lnTo>
                  <a:pt x="656" y="345"/>
                </a:lnTo>
                <a:lnTo>
                  <a:pt x="661" y="361"/>
                </a:lnTo>
                <a:lnTo>
                  <a:pt x="664" y="375"/>
                </a:lnTo>
                <a:lnTo>
                  <a:pt x="666" y="390"/>
                </a:lnTo>
                <a:lnTo>
                  <a:pt x="668" y="404"/>
                </a:lnTo>
                <a:lnTo>
                  <a:pt x="668" y="419"/>
                </a:lnTo>
                <a:lnTo>
                  <a:pt x="668" y="433"/>
                </a:lnTo>
                <a:lnTo>
                  <a:pt x="666" y="447"/>
                </a:lnTo>
                <a:lnTo>
                  <a:pt x="665" y="462"/>
                </a:lnTo>
                <a:lnTo>
                  <a:pt x="664" y="475"/>
                </a:lnTo>
                <a:lnTo>
                  <a:pt x="659" y="489"/>
                </a:lnTo>
                <a:lnTo>
                  <a:pt x="656" y="504"/>
                </a:lnTo>
                <a:lnTo>
                  <a:pt x="652" y="519"/>
                </a:lnTo>
                <a:lnTo>
                  <a:pt x="648" y="535"/>
                </a:lnTo>
                <a:lnTo>
                  <a:pt x="643" y="548"/>
                </a:lnTo>
                <a:lnTo>
                  <a:pt x="638" y="561"/>
                </a:lnTo>
                <a:lnTo>
                  <a:pt x="632" y="573"/>
                </a:lnTo>
                <a:lnTo>
                  <a:pt x="626" y="584"/>
                </a:lnTo>
                <a:lnTo>
                  <a:pt x="619" y="593"/>
                </a:lnTo>
                <a:lnTo>
                  <a:pt x="613" y="602"/>
                </a:lnTo>
                <a:lnTo>
                  <a:pt x="606" y="609"/>
                </a:lnTo>
                <a:lnTo>
                  <a:pt x="599" y="614"/>
                </a:lnTo>
                <a:lnTo>
                  <a:pt x="592" y="620"/>
                </a:lnTo>
                <a:lnTo>
                  <a:pt x="584" y="625"/>
                </a:lnTo>
                <a:lnTo>
                  <a:pt x="577" y="627"/>
                </a:lnTo>
                <a:lnTo>
                  <a:pt x="569" y="629"/>
                </a:lnTo>
                <a:lnTo>
                  <a:pt x="561" y="630"/>
                </a:lnTo>
                <a:lnTo>
                  <a:pt x="554" y="6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Freeform 78"/>
          <p:cNvSpPr/>
          <p:nvPr/>
        </p:nvSpPr>
        <p:spPr>
          <a:xfrm>
            <a:off x="5583240" y="4430880"/>
            <a:ext cx="282600" cy="514080"/>
          </a:xfrm>
          <a:custGeom>
            <a:avLst/>
            <a:gdLst/>
            <a:ahLst/>
            <a:rect l="l" t="t" r="r" b="b"/>
            <a:pathLst>
              <a:path w="534" h="973">
                <a:moveTo>
                  <a:pt x="308" y="845"/>
                </a:moveTo>
                <a:lnTo>
                  <a:pt x="296" y="862"/>
                </a:lnTo>
                <a:lnTo>
                  <a:pt x="285" y="877"/>
                </a:lnTo>
                <a:lnTo>
                  <a:pt x="273" y="891"/>
                </a:lnTo>
                <a:lnTo>
                  <a:pt x="262" y="904"/>
                </a:lnTo>
                <a:lnTo>
                  <a:pt x="252" y="915"/>
                </a:lnTo>
                <a:lnTo>
                  <a:pt x="240" y="926"/>
                </a:lnTo>
                <a:lnTo>
                  <a:pt x="230" y="936"/>
                </a:lnTo>
                <a:lnTo>
                  <a:pt x="220" y="944"/>
                </a:lnTo>
                <a:lnTo>
                  <a:pt x="211" y="950"/>
                </a:lnTo>
                <a:lnTo>
                  <a:pt x="203" y="957"/>
                </a:lnTo>
                <a:lnTo>
                  <a:pt x="194" y="962"/>
                </a:lnTo>
                <a:lnTo>
                  <a:pt x="187" y="966"/>
                </a:lnTo>
                <a:lnTo>
                  <a:pt x="180" y="969"/>
                </a:lnTo>
                <a:lnTo>
                  <a:pt x="174" y="972"/>
                </a:lnTo>
                <a:lnTo>
                  <a:pt x="168" y="973"/>
                </a:lnTo>
                <a:lnTo>
                  <a:pt x="164" y="973"/>
                </a:lnTo>
                <a:lnTo>
                  <a:pt x="157" y="973"/>
                </a:lnTo>
                <a:lnTo>
                  <a:pt x="148" y="972"/>
                </a:lnTo>
                <a:lnTo>
                  <a:pt x="141" y="969"/>
                </a:lnTo>
                <a:lnTo>
                  <a:pt x="134" y="966"/>
                </a:lnTo>
                <a:lnTo>
                  <a:pt x="126" y="962"/>
                </a:lnTo>
                <a:lnTo>
                  <a:pt x="119" y="957"/>
                </a:lnTo>
                <a:lnTo>
                  <a:pt x="112" y="950"/>
                </a:lnTo>
                <a:lnTo>
                  <a:pt x="105" y="943"/>
                </a:lnTo>
                <a:lnTo>
                  <a:pt x="98" y="936"/>
                </a:lnTo>
                <a:lnTo>
                  <a:pt x="92" y="926"/>
                </a:lnTo>
                <a:lnTo>
                  <a:pt x="86" y="915"/>
                </a:lnTo>
                <a:lnTo>
                  <a:pt x="80" y="904"/>
                </a:lnTo>
                <a:lnTo>
                  <a:pt x="74" y="891"/>
                </a:lnTo>
                <a:lnTo>
                  <a:pt x="69" y="877"/>
                </a:lnTo>
                <a:lnTo>
                  <a:pt x="64" y="861"/>
                </a:lnTo>
                <a:lnTo>
                  <a:pt x="62" y="845"/>
                </a:lnTo>
                <a:lnTo>
                  <a:pt x="53" y="832"/>
                </a:lnTo>
                <a:lnTo>
                  <a:pt x="47" y="818"/>
                </a:lnTo>
                <a:lnTo>
                  <a:pt x="40" y="806"/>
                </a:lnTo>
                <a:lnTo>
                  <a:pt x="34" y="793"/>
                </a:lnTo>
                <a:lnTo>
                  <a:pt x="28" y="782"/>
                </a:lnTo>
                <a:lnTo>
                  <a:pt x="24" y="770"/>
                </a:lnTo>
                <a:lnTo>
                  <a:pt x="18" y="760"/>
                </a:lnTo>
                <a:lnTo>
                  <a:pt x="15" y="750"/>
                </a:lnTo>
                <a:lnTo>
                  <a:pt x="11" y="741"/>
                </a:lnTo>
                <a:lnTo>
                  <a:pt x="8" y="733"/>
                </a:lnTo>
                <a:lnTo>
                  <a:pt x="5" y="725"/>
                </a:lnTo>
                <a:lnTo>
                  <a:pt x="3" y="718"/>
                </a:lnTo>
                <a:lnTo>
                  <a:pt x="1" y="711"/>
                </a:lnTo>
                <a:lnTo>
                  <a:pt x="0" y="707"/>
                </a:lnTo>
                <a:lnTo>
                  <a:pt x="0" y="701"/>
                </a:lnTo>
                <a:lnTo>
                  <a:pt x="0" y="698"/>
                </a:lnTo>
                <a:lnTo>
                  <a:pt x="0" y="694"/>
                </a:lnTo>
                <a:lnTo>
                  <a:pt x="1" y="689"/>
                </a:lnTo>
                <a:lnTo>
                  <a:pt x="4" y="684"/>
                </a:lnTo>
                <a:lnTo>
                  <a:pt x="7" y="678"/>
                </a:lnTo>
                <a:lnTo>
                  <a:pt x="11" y="671"/>
                </a:lnTo>
                <a:lnTo>
                  <a:pt x="15" y="662"/>
                </a:lnTo>
                <a:lnTo>
                  <a:pt x="21" y="653"/>
                </a:lnTo>
                <a:lnTo>
                  <a:pt x="28" y="645"/>
                </a:lnTo>
                <a:lnTo>
                  <a:pt x="34" y="635"/>
                </a:lnTo>
                <a:lnTo>
                  <a:pt x="43" y="625"/>
                </a:lnTo>
                <a:lnTo>
                  <a:pt x="51" y="613"/>
                </a:lnTo>
                <a:lnTo>
                  <a:pt x="60" y="602"/>
                </a:lnTo>
                <a:lnTo>
                  <a:pt x="70" y="590"/>
                </a:lnTo>
                <a:lnTo>
                  <a:pt x="80" y="577"/>
                </a:lnTo>
                <a:lnTo>
                  <a:pt x="90" y="564"/>
                </a:lnTo>
                <a:lnTo>
                  <a:pt x="102" y="551"/>
                </a:lnTo>
                <a:lnTo>
                  <a:pt x="108" y="545"/>
                </a:lnTo>
                <a:lnTo>
                  <a:pt x="113" y="538"/>
                </a:lnTo>
                <a:lnTo>
                  <a:pt x="121" y="531"/>
                </a:lnTo>
                <a:lnTo>
                  <a:pt x="126" y="524"/>
                </a:lnTo>
                <a:lnTo>
                  <a:pt x="134" y="515"/>
                </a:lnTo>
                <a:lnTo>
                  <a:pt x="141" y="507"/>
                </a:lnTo>
                <a:lnTo>
                  <a:pt x="148" y="497"/>
                </a:lnTo>
                <a:lnTo>
                  <a:pt x="155" y="485"/>
                </a:lnTo>
                <a:lnTo>
                  <a:pt x="162" y="474"/>
                </a:lnTo>
                <a:lnTo>
                  <a:pt x="171" y="462"/>
                </a:lnTo>
                <a:lnTo>
                  <a:pt x="178" y="449"/>
                </a:lnTo>
                <a:lnTo>
                  <a:pt x="187" y="435"/>
                </a:lnTo>
                <a:lnTo>
                  <a:pt x="195" y="420"/>
                </a:lnTo>
                <a:lnTo>
                  <a:pt x="204" y="404"/>
                </a:lnTo>
                <a:lnTo>
                  <a:pt x="211" y="389"/>
                </a:lnTo>
                <a:lnTo>
                  <a:pt x="220" y="371"/>
                </a:lnTo>
                <a:lnTo>
                  <a:pt x="230" y="354"/>
                </a:lnTo>
                <a:lnTo>
                  <a:pt x="239" y="335"/>
                </a:lnTo>
                <a:lnTo>
                  <a:pt x="247" y="317"/>
                </a:lnTo>
                <a:lnTo>
                  <a:pt x="256" y="296"/>
                </a:lnTo>
                <a:lnTo>
                  <a:pt x="266" y="276"/>
                </a:lnTo>
                <a:lnTo>
                  <a:pt x="275" y="255"/>
                </a:lnTo>
                <a:lnTo>
                  <a:pt x="283" y="233"/>
                </a:lnTo>
                <a:lnTo>
                  <a:pt x="293" y="210"/>
                </a:lnTo>
                <a:lnTo>
                  <a:pt x="303" y="187"/>
                </a:lnTo>
                <a:lnTo>
                  <a:pt x="312" y="163"/>
                </a:lnTo>
                <a:lnTo>
                  <a:pt x="322" y="137"/>
                </a:lnTo>
                <a:lnTo>
                  <a:pt x="331" y="111"/>
                </a:lnTo>
                <a:lnTo>
                  <a:pt x="341" y="85"/>
                </a:lnTo>
                <a:lnTo>
                  <a:pt x="349" y="57"/>
                </a:lnTo>
                <a:lnTo>
                  <a:pt x="360" y="29"/>
                </a:lnTo>
                <a:lnTo>
                  <a:pt x="370" y="0"/>
                </a:lnTo>
                <a:lnTo>
                  <a:pt x="377" y="0"/>
                </a:lnTo>
                <a:lnTo>
                  <a:pt x="384" y="1"/>
                </a:lnTo>
                <a:lnTo>
                  <a:pt x="393" y="4"/>
                </a:lnTo>
                <a:lnTo>
                  <a:pt x="400" y="7"/>
                </a:lnTo>
                <a:lnTo>
                  <a:pt x="407" y="10"/>
                </a:lnTo>
                <a:lnTo>
                  <a:pt x="416" y="14"/>
                </a:lnTo>
                <a:lnTo>
                  <a:pt x="423" y="19"/>
                </a:lnTo>
                <a:lnTo>
                  <a:pt x="430" y="24"/>
                </a:lnTo>
                <a:lnTo>
                  <a:pt x="439" y="32"/>
                </a:lnTo>
                <a:lnTo>
                  <a:pt x="446" y="39"/>
                </a:lnTo>
                <a:lnTo>
                  <a:pt x="455" y="46"/>
                </a:lnTo>
                <a:lnTo>
                  <a:pt x="462" y="53"/>
                </a:lnTo>
                <a:lnTo>
                  <a:pt x="469" y="62"/>
                </a:lnTo>
                <a:lnTo>
                  <a:pt x="476" y="72"/>
                </a:lnTo>
                <a:lnTo>
                  <a:pt x="485" y="80"/>
                </a:lnTo>
                <a:lnTo>
                  <a:pt x="492" y="92"/>
                </a:lnTo>
                <a:lnTo>
                  <a:pt x="499" y="119"/>
                </a:lnTo>
                <a:lnTo>
                  <a:pt x="506" y="147"/>
                </a:lnTo>
                <a:lnTo>
                  <a:pt x="514" y="174"/>
                </a:lnTo>
                <a:lnTo>
                  <a:pt x="521" y="201"/>
                </a:lnTo>
                <a:lnTo>
                  <a:pt x="525" y="230"/>
                </a:lnTo>
                <a:lnTo>
                  <a:pt x="528" y="243"/>
                </a:lnTo>
                <a:lnTo>
                  <a:pt x="529" y="258"/>
                </a:lnTo>
                <a:lnTo>
                  <a:pt x="531" y="271"/>
                </a:lnTo>
                <a:lnTo>
                  <a:pt x="532" y="285"/>
                </a:lnTo>
                <a:lnTo>
                  <a:pt x="532" y="298"/>
                </a:lnTo>
                <a:lnTo>
                  <a:pt x="534" y="312"/>
                </a:lnTo>
                <a:lnTo>
                  <a:pt x="532" y="327"/>
                </a:lnTo>
                <a:lnTo>
                  <a:pt x="532" y="341"/>
                </a:lnTo>
                <a:lnTo>
                  <a:pt x="531" y="355"/>
                </a:lnTo>
                <a:lnTo>
                  <a:pt x="529" y="370"/>
                </a:lnTo>
                <a:lnTo>
                  <a:pt x="528" y="386"/>
                </a:lnTo>
                <a:lnTo>
                  <a:pt x="525" y="402"/>
                </a:lnTo>
                <a:lnTo>
                  <a:pt x="521" y="433"/>
                </a:lnTo>
                <a:lnTo>
                  <a:pt x="514" y="466"/>
                </a:lnTo>
                <a:lnTo>
                  <a:pt x="506" y="501"/>
                </a:lnTo>
                <a:lnTo>
                  <a:pt x="499" y="535"/>
                </a:lnTo>
                <a:lnTo>
                  <a:pt x="492" y="570"/>
                </a:lnTo>
                <a:lnTo>
                  <a:pt x="485" y="587"/>
                </a:lnTo>
                <a:lnTo>
                  <a:pt x="476" y="603"/>
                </a:lnTo>
                <a:lnTo>
                  <a:pt x="467" y="620"/>
                </a:lnTo>
                <a:lnTo>
                  <a:pt x="457" y="638"/>
                </a:lnTo>
                <a:lnTo>
                  <a:pt x="447" y="655"/>
                </a:lnTo>
                <a:lnTo>
                  <a:pt x="437" y="672"/>
                </a:lnTo>
                <a:lnTo>
                  <a:pt x="426" y="689"/>
                </a:lnTo>
                <a:lnTo>
                  <a:pt x="414" y="707"/>
                </a:lnTo>
                <a:lnTo>
                  <a:pt x="403" y="724"/>
                </a:lnTo>
                <a:lnTo>
                  <a:pt x="391" y="741"/>
                </a:lnTo>
                <a:lnTo>
                  <a:pt x="378" y="759"/>
                </a:lnTo>
                <a:lnTo>
                  <a:pt x="364" y="776"/>
                </a:lnTo>
                <a:lnTo>
                  <a:pt x="351" y="793"/>
                </a:lnTo>
                <a:lnTo>
                  <a:pt x="336" y="810"/>
                </a:lnTo>
                <a:lnTo>
                  <a:pt x="322" y="828"/>
                </a:lnTo>
                <a:lnTo>
                  <a:pt x="308" y="84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1" name="Freeform 79"/>
          <p:cNvSpPr/>
          <p:nvPr/>
        </p:nvSpPr>
        <p:spPr>
          <a:xfrm>
            <a:off x="6086520" y="4489560"/>
            <a:ext cx="1517760" cy="595080"/>
          </a:xfrm>
          <a:custGeom>
            <a:avLst/>
            <a:gdLst/>
            <a:ahLst/>
            <a:rect l="l" t="t" r="r" b="b"/>
            <a:pathLst>
              <a:path w="2870" h="1124">
                <a:moveTo>
                  <a:pt x="1904" y="1120"/>
                </a:moveTo>
                <a:lnTo>
                  <a:pt x="1874" y="1121"/>
                </a:lnTo>
                <a:lnTo>
                  <a:pt x="1844" y="1123"/>
                </a:lnTo>
                <a:lnTo>
                  <a:pt x="1783" y="1124"/>
                </a:lnTo>
                <a:lnTo>
                  <a:pt x="1726" y="1124"/>
                </a:lnTo>
                <a:lnTo>
                  <a:pt x="1668" y="1124"/>
                </a:lnTo>
                <a:lnTo>
                  <a:pt x="1614" y="1121"/>
                </a:lnTo>
                <a:lnTo>
                  <a:pt x="1559" y="1118"/>
                </a:lnTo>
                <a:lnTo>
                  <a:pt x="1507" y="1115"/>
                </a:lnTo>
                <a:lnTo>
                  <a:pt x="1455" y="1111"/>
                </a:lnTo>
                <a:lnTo>
                  <a:pt x="1405" y="1105"/>
                </a:lnTo>
                <a:lnTo>
                  <a:pt x="1354" y="1098"/>
                </a:lnTo>
                <a:lnTo>
                  <a:pt x="1307" y="1091"/>
                </a:lnTo>
                <a:lnTo>
                  <a:pt x="1259" y="1084"/>
                </a:lnTo>
                <a:lnTo>
                  <a:pt x="1213" y="1075"/>
                </a:lnTo>
                <a:lnTo>
                  <a:pt x="1169" y="1065"/>
                </a:lnTo>
                <a:lnTo>
                  <a:pt x="1125" y="1056"/>
                </a:lnTo>
                <a:lnTo>
                  <a:pt x="1082" y="1046"/>
                </a:lnTo>
                <a:lnTo>
                  <a:pt x="1041" y="1035"/>
                </a:lnTo>
                <a:lnTo>
                  <a:pt x="1000" y="1023"/>
                </a:lnTo>
                <a:lnTo>
                  <a:pt x="960" y="1010"/>
                </a:lnTo>
                <a:lnTo>
                  <a:pt x="921" y="997"/>
                </a:lnTo>
                <a:lnTo>
                  <a:pt x="882" y="984"/>
                </a:lnTo>
                <a:lnTo>
                  <a:pt x="846" y="970"/>
                </a:lnTo>
                <a:lnTo>
                  <a:pt x="810" y="956"/>
                </a:lnTo>
                <a:lnTo>
                  <a:pt x="774" y="940"/>
                </a:lnTo>
                <a:lnTo>
                  <a:pt x="740" y="925"/>
                </a:lnTo>
                <a:lnTo>
                  <a:pt x="707" y="908"/>
                </a:lnTo>
                <a:lnTo>
                  <a:pt x="675" y="892"/>
                </a:lnTo>
                <a:lnTo>
                  <a:pt x="643" y="876"/>
                </a:lnTo>
                <a:lnTo>
                  <a:pt x="613" y="859"/>
                </a:lnTo>
                <a:lnTo>
                  <a:pt x="584" y="842"/>
                </a:lnTo>
                <a:lnTo>
                  <a:pt x="555" y="825"/>
                </a:lnTo>
                <a:lnTo>
                  <a:pt x="528" y="807"/>
                </a:lnTo>
                <a:lnTo>
                  <a:pt x="501" y="786"/>
                </a:lnTo>
                <a:lnTo>
                  <a:pt x="475" y="763"/>
                </a:lnTo>
                <a:lnTo>
                  <a:pt x="447" y="740"/>
                </a:lnTo>
                <a:lnTo>
                  <a:pt x="422" y="714"/>
                </a:lnTo>
                <a:lnTo>
                  <a:pt x="394" y="688"/>
                </a:lnTo>
                <a:lnTo>
                  <a:pt x="368" y="661"/>
                </a:lnTo>
                <a:lnTo>
                  <a:pt x="342" y="632"/>
                </a:lnTo>
                <a:lnTo>
                  <a:pt x="318" y="603"/>
                </a:lnTo>
                <a:lnTo>
                  <a:pt x="292" y="573"/>
                </a:lnTo>
                <a:lnTo>
                  <a:pt x="268" y="541"/>
                </a:lnTo>
                <a:lnTo>
                  <a:pt x="244" y="508"/>
                </a:lnTo>
                <a:lnTo>
                  <a:pt x="221" y="473"/>
                </a:lnTo>
                <a:lnTo>
                  <a:pt x="200" y="439"/>
                </a:lnTo>
                <a:lnTo>
                  <a:pt x="178" y="404"/>
                </a:lnTo>
                <a:lnTo>
                  <a:pt x="158" y="367"/>
                </a:lnTo>
                <a:lnTo>
                  <a:pt x="138" y="329"/>
                </a:lnTo>
                <a:lnTo>
                  <a:pt x="126" y="311"/>
                </a:lnTo>
                <a:lnTo>
                  <a:pt x="116" y="292"/>
                </a:lnTo>
                <a:lnTo>
                  <a:pt x="106" y="275"/>
                </a:lnTo>
                <a:lnTo>
                  <a:pt x="96" y="257"/>
                </a:lnTo>
                <a:lnTo>
                  <a:pt x="86" y="242"/>
                </a:lnTo>
                <a:lnTo>
                  <a:pt x="77" y="226"/>
                </a:lnTo>
                <a:lnTo>
                  <a:pt x="69" y="210"/>
                </a:lnTo>
                <a:lnTo>
                  <a:pt x="62" y="196"/>
                </a:lnTo>
                <a:lnTo>
                  <a:pt x="54" y="181"/>
                </a:lnTo>
                <a:lnTo>
                  <a:pt x="47" y="167"/>
                </a:lnTo>
                <a:lnTo>
                  <a:pt x="40" y="154"/>
                </a:lnTo>
                <a:lnTo>
                  <a:pt x="34" y="141"/>
                </a:lnTo>
                <a:lnTo>
                  <a:pt x="29" y="128"/>
                </a:lnTo>
                <a:lnTo>
                  <a:pt x="24" y="116"/>
                </a:lnTo>
                <a:lnTo>
                  <a:pt x="20" y="106"/>
                </a:lnTo>
                <a:lnTo>
                  <a:pt x="16" y="95"/>
                </a:lnTo>
                <a:lnTo>
                  <a:pt x="11" y="85"/>
                </a:lnTo>
                <a:lnTo>
                  <a:pt x="8" y="76"/>
                </a:lnTo>
                <a:lnTo>
                  <a:pt x="6" y="67"/>
                </a:lnTo>
                <a:lnTo>
                  <a:pt x="4" y="59"/>
                </a:lnTo>
                <a:lnTo>
                  <a:pt x="3" y="50"/>
                </a:lnTo>
                <a:lnTo>
                  <a:pt x="1" y="43"/>
                </a:lnTo>
                <a:lnTo>
                  <a:pt x="0" y="36"/>
                </a:lnTo>
                <a:lnTo>
                  <a:pt x="0" y="30"/>
                </a:lnTo>
                <a:lnTo>
                  <a:pt x="0" y="24"/>
                </a:lnTo>
                <a:lnTo>
                  <a:pt x="1" y="18"/>
                </a:lnTo>
                <a:lnTo>
                  <a:pt x="1" y="14"/>
                </a:lnTo>
                <a:lnTo>
                  <a:pt x="4" y="10"/>
                </a:lnTo>
                <a:lnTo>
                  <a:pt x="6" y="7"/>
                </a:lnTo>
                <a:lnTo>
                  <a:pt x="8" y="4"/>
                </a:lnTo>
                <a:lnTo>
                  <a:pt x="11" y="1"/>
                </a:lnTo>
                <a:lnTo>
                  <a:pt x="16" y="0"/>
                </a:lnTo>
                <a:lnTo>
                  <a:pt x="17" y="0"/>
                </a:lnTo>
                <a:lnTo>
                  <a:pt x="20" y="0"/>
                </a:lnTo>
                <a:lnTo>
                  <a:pt x="23" y="1"/>
                </a:lnTo>
                <a:lnTo>
                  <a:pt x="26" y="3"/>
                </a:lnTo>
                <a:lnTo>
                  <a:pt x="30" y="5"/>
                </a:lnTo>
                <a:lnTo>
                  <a:pt x="34" y="8"/>
                </a:lnTo>
                <a:lnTo>
                  <a:pt x="40" y="13"/>
                </a:lnTo>
                <a:lnTo>
                  <a:pt x="46" y="16"/>
                </a:lnTo>
                <a:lnTo>
                  <a:pt x="52" y="20"/>
                </a:lnTo>
                <a:lnTo>
                  <a:pt x="57" y="26"/>
                </a:lnTo>
                <a:lnTo>
                  <a:pt x="65" y="31"/>
                </a:lnTo>
                <a:lnTo>
                  <a:pt x="72" y="37"/>
                </a:lnTo>
                <a:lnTo>
                  <a:pt x="79" y="44"/>
                </a:lnTo>
                <a:lnTo>
                  <a:pt x="88" y="52"/>
                </a:lnTo>
                <a:lnTo>
                  <a:pt x="96" y="59"/>
                </a:lnTo>
                <a:lnTo>
                  <a:pt x="105" y="67"/>
                </a:lnTo>
                <a:lnTo>
                  <a:pt x="115" y="76"/>
                </a:lnTo>
                <a:lnTo>
                  <a:pt x="124" y="86"/>
                </a:lnTo>
                <a:lnTo>
                  <a:pt x="135" y="95"/>
                </a:lnTo>
                <a:lnTo>
                  <a:pt x="145" y="106"/>
                </a:lnTo>
                <a:lnTo>
                  <a:pt x="157" y="116"/>
                </a:lnTo>
                <a:lnTo>
                  <a:pt x="167" y="128"/>
                </a:lnTo>
                <a:lnTo>
                  <a:pt x="180" y="141"/>
                </a:lnTo>
                <a:lnTo>
                  <a:pt x="191" y="154"/>
                </a:lnTo>
                <a:lnTo>
                  <a:pt x="204" y="167"/>
                </a:lnTo>
                <a:lnTo>
                  <a:pt x="217" y="180"/>
                </a:lnTo>
                <a:lnTo>
                  <a:pt x="230" y="194"/>
                </a:lnTo>
                <a:lnTo>
                  <a:pt x="244" y="210"/>
                </a:lnTo>
                <a:lnTo>
                  <a:pt x="257" y="224"/>
                </a:lnTo>
                <a:lnTo>
                  <a:pt x="272" y="242"/>
                </a:lnTo>
                <a:lnTo>
                  <a:pt x="288" y="257"/>
                </a:lnTo>
                <a:lnTo>
                  <a:pt x="302" y="275"/>
                </a:lnTo>
                <a:lnTo>
                  <a:pt x="315" y="293"/>
                </a:lnTo>
                <a:lnTo>
                  <a:pt x="329" y="312"/>
                </a:lnTo>
                <a:lnTo>
                  <a:pt x="344" y="329"/>
                </a:lnTo>
                <a:lnTo>
                  <a:pt x="357" y="347"/>
                </a:lnTo>
                <a:lnTo>
                  <a:pt x="371" y="364"/>
                </a:lnTo>
                <a:lnTo>
                  <a:pt x="387" y="381"/>
                </a:lnTo>
                <a:lnTo>
                  <a:pt x="401" y="397"/>
                </a:lnTo>
                <a:lnTo>
                  <a:pt x="417" y="413"/>
                </a:lnTo>
                <a:lnTo>
                  <a:pt x="432" y="429"/>
                </a:lnTo>
                <a:lnTo>
                  <a:pt x="447" y="443"/>
                </a:lnTo>
                <a:lnTo>
                  <a:pt x="463" y="459"/>
                </a:lnTo>
                <a:lnTo>
                  <a:pt x="479" y="473"/>
                </a:lnTo>
                <a:lnTo>
                  <a:pt x="512" y="501"/>
                </a:lnTo>
                <a:lnTo>
                  <a:pt x="545" y="527"/>
                </a:lnTo>
                <a:lnTo>
                  <a:pt x="580" y="553"/>
                </a:lnTo>
                <a:lnTo>
                  <a:pt x="614" y="576"/>
                </a:lnTo>
                <a:lnTo>
                  <a:pt x="650" y="599"/>
                </a:lnTo>
                <a:lnTo>
                  <a:pt x="686" y="620"/>
                </a:lnTo>
                <a:lnTo>
                  <a:pt x="722" y="640"/>
                </a:lnTo>
                <a:lnTo>
                  <a:pt x="760" y="661"/>
                </a:lnTo>
                <a:lnTo>
                  <a:pt x="799" y="679"/>
                </a:lnTo>
                <a:lnTo>
                  <a:pt x="836" y="696"/>
                </a:lnTo>
                <a:lnTo>
                  <a:pt x="875" y="714"/>
                </a:lnTo>
                <a:lnTo>
                  <a:pt x="914" y="730"/>
                </a:lnTo>
                <a:lnTo>
                  <a:pt x="953" y="743"/>
                </a:lnTo>
                <a:lnTo>
                  <a:pt x="993" y="756"/>
                </a:lnTo>
                <a:lnTo>
                  <a:pt x="1033" y="768"/>
                </a:lnTo>
                <a:lnTo>
                  <a:pt x="1074" y="779"/>
                </a:lnTo>
                <a:lnTo>
                  <a:pt x="1115" y="787"/>
                </a:lnTo>
                <a:lnTo>
                  <a:pt x="1157" y="796"/>
                </a:lnTo>
                <a:lnTo>
                  <a:pt x="1199" y="803"/>
                </a:lnTo>
                <a:lnTo>
                  <a:pt x="1241" y="809"/>
                </a:lnTo>
                <a:lnTo>
                  <a:pt x="1282" y="815"/>
                </a:lnTo>
                <a:lnTo>
                  <a:pt x="1324" y="819"/>
                </a:lnTo>
                <a:lnTo>
                  <a:pt x="1366" y="822"/>
                </a:lnTo>
                <a:lnTo>
                  <a:pt x="1409" y="823"/>
                </a:lnTo>
                <a:lnTo>
                  <a:pt x="1451" y="825"/>
                </a:lnTo>
                <a:lnTo>
                  <a:pt x="1494" y="826"/>
                </a:lnTo>
                <a:lnTo>
                  <a:pt x="1514" y="825"/>
                </a:lnTo>
                <a:lnTo>
                  <a:pt x="1534" y="825"/>
                </a:lnTo>
                <a:lnTo>
                  <a:pt x="1575" y="825"/>
                </a:lnTo>
                <a:lnTo>
                  <a:pt x="1614" y="823"/>
                </a:lnTo>
                <a:lnTo>
                  <a:pt x="1652" y="822"/>
                </a:lnTo>
                <a:lnTo>
                  <a:pt x="1688" y="820"/>
                </a:lnTo>
                <a:lnTo>
                  <a:pt x="1724" y="819"/>
                </a:lnTo>
                <a:lnTo>
                  <a:pt x="1757" y="816"/>
                </a:lnTo>
                <a:lnTo>
                  <a:pt x="1791" y="815"/>
                </a:lnTo>
                <a:lnTo>
                  <a:pt x="1824" y="812"/>
                </a:lnTo>
                <a:lnTo>
                  <a:pt x="1855" y="809"/>
                </a:lnTo>
                <a:lnTo>
                  <a:pt x="1886" y="806"/>
                </a:lnTo>
                <a:lnTo>
                  <a:pt x="1914" y="802"/>
                </a:lnTo>
                <a:lnTo>
                  <a:pt x="1945" y="799"/>
                </a:lnTo>
                <a:lnTo>
                  <a:pt x="1972" y="796"/>
                </a:lnTo>
                <a:lnTo>
                  <a:pt x="2001" y="792"/>
                </a:lnTo>
                <a:lnTo>
                  <a:pt x="2028" y="789"/>
                </a:lnTo>
                <a:lnTo>
                  <a:pt x="2050" y="784"/>
                </a:lnTo>
                <a:lnTo>
                  <a:pt x="2071" y="781"/>
                </a:lnTo>
                <a:lnTo>
                  <a:pt x="2093" y="777"/>
                </a:lnTo>
                <a:lnTo>
                  <a:pt x="2112" y="771"/>
                </a:lnTo>
                <a:lnTo>
                  <a:pt x="2130" y="767"/>
                </a:lnTo>
                <a:lnTo>
                  <a:pt x="2148" y="763"/>
                </a:lnTo>
                <a:lnTo>
                  <a:pt x="2163" y="757"/>
                </a:lnTo>
                <a:lnTo>
                  <a:pt x="2179" y="753"/>
                </a:lnTo>
                <a:lnTo>
                  <a:pt x="2192" y="747"/>
                </a:lnTo>
                <a:lnTo>
                  <a:pt x="2205" y="741"/>
                </a:lnTo>
                <a:lnTo>
                  <a:pt x="2217" y="737"/>
                </a:lnTo>
                <a:lnTo>
                  <a:pt x="2227" y="732"/>
                </a:lnTo>
                <a:lnTo>
                  <a:pt x="2235" y="727"/>
                </a:lnTo>
                <a:lnTo>
                  <a:pt x="2243" y="722"/>
                </a:lnTo>
                <a:lnTo>
                  <a:pt x="2248" y="720"/>
                </a:lnTo>
                <a:lnTo>
                  <a:pt x="2251" y="717"/>
                </a:lnTo>
                <a:lnTo>
                  <a:pt x="2254" y="715"/>
                </a:lnTo>
                <a:lnTo>
                  <a:pt x="2256" y="714"/>
                </a:lnTo>
                <a:lnTo>
                  <a:pt x="2257" y="711"/>
                </a:lnTo>
                <a:lnTo>
                  <a:pt x="2257" y="708"/>
                </a:lnTo>
                <a:lnTo>
                  <a:pt x="2258" y="704"/>
                </a:lnTo>
                <a:lnTo>
                  <a:pt x="2258" y="699"/>
                </a:lnTo>
                <a:lnTo>
                  <a:pt x="2258" y="695"/>
                </a:lnTo>
                <a:lnTo>
                  <a:pt x="2258" y="689"/>
                </a:lnTo>
                <a:lnTo>
                  <a:pt x="2257" y="684"/>
                </a:lnTo>
                <a:lnTo>
                  <a:pt x="2256" y="678"/>
                </a:lnTo>
                <a:lnTo>
                  <a:pt x="2254" y="671"/>
                </a:lnTo>
                <a:lnTo>
                  <a:pt x="2253" y="663"/>
                </a:lnTo>
                <a:lnTo>
                  <a:pt x="2251" y="656"/>
                </a:lnTo>
                <a:lnTo>
                  <a:pt x="2248" y="648"/>
                </a:lnTo>
                <a:lnTo>
                  <a:pt x="2245" y="639"/>
                </a:lnTo>
                <a:lnTo>
                  <a:pt x="2243" y="629"/>
                </a:lnTo>
                <a:lnTo>
                  <a:pt x="2240" y="619"/>
                </a:lnTo>
                <a:lnTo>
                  <a:pt x="2237" y="609"/>
                </a:lnTo>
                <a:lnTo>
                  <a:pt x="2233" y="597"/>
                </a:lnTo>
                <a:lnTo>
                  <a:pt x="2228" y="586"/>
                </a:lnTo>
                <a:lnTo>
                  <a:pt x="2224" y="573"/>
                </a:lnTo>
                <a:lnTo>
                  <a:pt x="2220" y="561"/>
                </a:lnTo>
                <a:lnTo>
                  <a:pt x="2214" y="547"/>
                </a:lnTo>
                <a:lnTo>
                  <a:pt x="2209" y="534"/>
                </a:lnTo>
                <a:lnTo>
                  <a:pt x="2204" y="519"/>
                </a:lnTo>
                <a:lnTo>
                  <a:pt x="2198" y="504"/>
                </a:lnTo>
                <a:lnTo>
                  <a:pt x="2192" y="489"/>
                </a:lnTo>
                <a:lnTo>
                  <a:pt x="2185" y="473"/>
                </a:lnTo>
                <a:lnTo>
                  <a:pt x="2179" y="456"/>
                </a:lnTo>
                <a:lnTo>
                  <a:pt x="2172" y="439"/>
                </a:lnTo>
                <a:lnTo>
                  <a:pt x="2165" y="422"/>
                </a:lnTo>
                <a:lnTo>
                  <a:pt x="2158" y="404"/>
                </a:lnTo>
                <a:lnTo>
                  <a:pt x="2150" y="386"/>
                </a:lnTo>
                <a:lnTo>
                  <a:pt x="2142" y="365"/>
                </a:lnTo>
                <a:lnTo>
                  <a:pt x="2133" y="348"/>
                </a:lnTo>
                <a:lnTo>
                  <a:pt x="2125" y="331"/>
                </a:lnTo>
                <a:lnTo>
                  <a:pt x="2116" y="314"/>
                </a:lnTo>
                <a:lnTo>
                  <a:pt x="2109" y="296"/>
                </a:lnTo>
                <a:lnTo>
                  <a:pt x="2102" y="280"/>
                </a:lnTo>
                <a:lnTo>
                  <a:pt x="2096" y="265"/>
                </a:lnTo>
                <a:lnTo>
                  <a:pt x="2089" y="250"/>
                </a:lnTo>
                <a:lnTo>
                  <a:pt x="2083" y="236"/>
                </a:lnTo>
                <a:lnTo>
                  <a:pt x="2078" y="221"/>
                </a:lnTo>
                <a:lnTo>
                  <a:pt x="2073" y="208"/>
                </a:lnTo>
                <a:lnTo>
                  <a:pt x="2068" y="196"/>
                </a:lnTo>
                <a:lnTo>
                  <a:pt x="2064" y="184"/>
                </a:lnTo>
                <a:lnTo>
                  <a:pt x="2060" y="172"/>
                </a:lnTo>
                <a:lnTo>
                  <a:pt x="2057" y="161"/>
                </a:lnTo>
                <a:lnTo>
                  <a:pt x="2054" y="151"/>
                </a:lnTo>
                <a:lnTo>
                  <a:pt x="2051" y="141"/>
                </a:lnTo>
                <a:lnTo>
                  <a:pt x="2048" y="131"/>
                </a:lnTo>
                <a:lnTo>
                  <a:pt x="2047" y="122"/>
                </a:lnTo>
                <a:lnTo>
                  <a:pt x="2045" y="113"/>
                </a:lnTo>
                <a:lnTo>
                  <a:pt x="2044" y="105"/>
                </a:lnTo>
                <a:lnTo>
                  <a:pt x="2042" y="98"/>
                </a:lnTo>
                <a:lnTo>
                  <a:pt x="2041" y="92"/>
                </a:lnTo>
                <a:lnTo>
                  <a:pt x="2041" y="85"/>
                </a:lnTo>
                <a:lnTo>
                  <a:pt x="2041" y="79"/>
                </a:lnTo>
                <a:lnTo>
                  <a:pt x="2041" y="75"/>
                </a:lnTo>
                <a:lnTo>
                  <a:pt x="2042" y="70"/>
                </a:lnTo>
                <a:lnTo>
                  <a:pt x="2042" y="66"/>
                </a:lnTo>
                <a:lnTo>
                  <a:pt x="2044" y="62"/>
                </a:lnTo>
                <a:lnTo>
                  <a:pt x="2045" y="59"/>
                </a:lnTo>
                <a:lnTo>
                  <a:pt x="2047" y="56"/>
                </a:lnTo>
                <a:lnTo>
                  <a:pt x="2048" y="54"/>
                </a:lnTo>
                <a:lnTo>
                  <a:pt x="2051" y="53"/>
                </a:lnTo>
                <a:lnTo>
                  <a:pt x="2053" y="52"/>
                </a:lnTo>
                <a:lnTo>
                  <a:pt x="2057" y="52"/>
                </a:lnTo>
                <a:lnTo>
                  <a:pt x="2060" y="53"/>
                </a:lnTo>
                <a:lnTo>
                  <a:pt x="2064" y="53"/>
                </a:lnTo>
                <a:lnTo>
                  <a:pt x="2068" y="56"/>
                </a:lnTo>
                <a:lnTo>
                  <a:pt x="2074" y="57"/>
                </a:lnTo>
                <a:lnTo>
                  <a:pt x="2080" y="60"/>
                </a:lnTo>
                <a:lnTo>
                  <a:pt x="2086" y="65"/>
                </a:lnTo>
                <a:lnTo>
                  <a:pt x="2091" y="69"/>
                </a:lnTo>
                <a:lnTo>
                  <a:pt x="2099" y="75"/>
                </a:lnTo>
                <a:lnTo>
                  <a:pt x="2106" y="79"/>
                </a:lnTo>
                <a:lnTo>
                  <a:pt x="2114" y="86"/>
                </a:lnTo>
                <a:lnTo>
                  <a:pt x="2123" y="93"/>
                </a:lnTo>
                <a:lnTo>
                  <a:pt x="2132" y="100"/>
                </a:lnTo>
                <a:lnTo>
                  <a:pt x="2142" y="109"/>
                </a:lnTo>
                <a:lnTo>
                  <a:pt x="2152" y="118"/>
                </a:lnTo>
                <a:lnTo>
                  <a:pt x="2162" y="126"/>
                </a:lnTo>
                <a:lnTo>
                  <a:pt x="2172" y="136"/>
                </a:lnTo>
                <a:lnTo>
                  <a:pt x="2184" y="148"/>
                </a:lnTo>
                <a:lnTo>
                  <a:pt x="2195" y="160"/>
                </a:lnTo>
                <a:lnTo>
                  <a:pt x="2208" y="171"/>
                </a:lnTo>
                <a:lnTo>
                  <a:pt x="2221" y="184"/>
                </a:lnTo>
                <a:lnTo>
                  <a:pt x="2234" y="198"/>
                </a:lnTo>
                <a:lnTo>
                  <a:pt x="2247" y="211"/>
                </a:lnTo>
                <a:lnTo>
                  <a:pt x="2261" y="227"/>
                </a:lnTo>
                <a:lnTo>
                  <a:pt x="2276" y="242"/>
                </a:lnTo>
                <a:lnTo>
                  <a:pt x="2292" y="259"/>
                </a:lnTo>
                <a:lnTo>
                  <a:pt x="2307" y="275"/>
                </a:lnTo>
                <a:lnTo>
                  <a:pt x="2323" y="292"/>
                </a:lnTo>
                <a:lnTo>
                  <a:pt x="2339" y="311"/>
                </a:lnTo>
                <a:lnTo>
                  <a:pt x="2356" y="329"/>
                </a:lnTo>
                <a:lnTo>
                  <a:pt x="2374" y="348"/>
                </a:lnTo>
                <a:lnTo>
                  <a:pt x="2389" y="367"/>
                </a:lnTo>
                <a:lnTo>
                  <a:pt x="2407" y="384"/>
                </a:lnTo>
                <a:lnTo>
                  <a:pt x="2423" y="401"/>
                </a:lnTo>
                <a:lnTo>
                  <a:pt x="2437" y="419"/>
                </a:lnTo>
                <a:lnTo>
                  <a:pt x="2453" y="434"/>
                </a:lnTo>
                <a:lnTo>
                  <a:pt x="2469" y="450"/>
                </a:lnTo>
                <a:lnTo>
                  <a:pt x="2483" y="465"/>
                </a:lnTo>
                <a:lnTo>
                  <a:pt x="2497" y="479"/>
                </a:lnTo>
                <a:lnTo>
                  <a:pt x="2510" y="494"/>
                </a:lnTo>
                <a:lnTo>
                  <a:pt x="2525" y="506"/>
                </a:lnTo>
                <a:lnTo>
                  <a:pt x="2538" y="519"/>
                </a:lnTo>
                <a:lnTo>
                  <a:pt x="2551" y="532"/>
                </a:lnTo>
                <a:lnTo>
                  <a:pt x="2564" y="544"/>
                </a:lnTo>
                <a:lnTo>
                  <a:pt x="2577" y="555"/>
                </a:lnTo>
                <a:lnTo>
                  <a:pt x="2590" y="567"/>
                </a:lnTo>
                <a:lnTo>
                  <a:pt x="2601" y="577"/>
                </a:lnTo>
                <a:lnTo>
                  <a:pt x="2613" y="587"/>
                </a:lnTo>
                <a:lnTo>
                  <a:pt x="2624" y="596"/>
                </a:lnTo>
                <a:lnTo>
                  <a:pt x="2636" y="606"/>
                </a:lnTo>
                <a:lnTo>
                  <a:pt x="2646" y="614"/>
                </a:lnTo>
                <a:lnTo>
                  <a:pt x="2656" y="622"/>
                </a:lnTo>
                <a:lnTo>
                  <a:pt x="2666" y="630"/>
                </a:lnTo>
                <a:lnTo>
                  <a:pt x="2676" y="637"/>
                </a:lnTo>
                <a:lnTo>
                  <a:pt x="2686" y="643"/>
                </a:lnTo>
                <a:lnTo>
                  <a:pt x="2696" y="650"/>
                </a:lnTo>
                <a:lnTo>
                  <a:pt x="2705" y="656"/>
                </a:lnTo>
                <a:lnTo>
                  <a:pt x="2713" y="661"/>
                </a:lnTo>
                <a:lnTo>
                  <a:pt x="2722" y="666"/>
                </a:lnTo>
                <a:lnTo>
                  <a:pt x="2731" y="671"/>
                </a:lnTo>
                <a:lnTo>
                  <a:pt x="2739" y="675"/>
                </a:lnTo>
                <a:lnTo>
                  <a:pt x="2746" y="679"/>
                </a:lnTo>
                <a:lnTo>
                  <a:pt x="2761" y="689"/>
                </a:lnTo>
                <a:lnTo>
                  <a:pt x="2775" y="699"/>
                </a:lnTo>
                <a:lnTo>
                  <a:pt x="2788" y="708"/>
                </a:lnTo>
                <a:lnTo>
                  <a:pt x="2800" y="718"/>
                </a:lnTo>
                <a:lnTo>
                  <a:pt x="2811" y="727"/>
                </a:lnTo>
                <a:lnTo>
                  <a:pt x="2821" y="735"/>
                </a:lnTo>
                <a:lnTo>
                  <a:pt x="2830" y="744"/>
                </a:lnTo>
                <a:lnTo>
                  <a:pt x="2839" y="753"/>
                </a:lnTo>
                <a:lnTo>
                  <a:pt x="2846" y="761"/>
                </a:lnTo>
                <a:lnTo>
                  <a:pt x="2852" y="770"/>
                </a:lnTo>
                <a:lnTo>
                  <a:pt x="2857" y="779"/>
                </a:lnTo>
                <a:lnTo>
                  <a:pt x="2862" y="787"/>
                </a:lnTo>
                <a:lnTo>
                  <a:pt x="2864" y="796"/>
                </a:lnTo>
                <a:lnTo>
                  <a:pt x="2867" y="806"/>
                </a:lnTo>
                <a:lnTo>
                  <a:pt x="2869" y="816"/>
                </a:lnTo>
                <a:lnTo>
                  <a:pt x="2870" y="826"/>
                </a:lnTo>
                <a:lnTo>
                  <a:pt x="2869" y="829"/>
                </a:lnTo>
                <a:lnTo>
                  <a:pt x="2869" y="832"/>
                </a:lnTo>
                <a:lnTo>
                  <a:pt x="2867" y="836"/>
                </a:lnTo>
                <a:lnTo>
                  <a:pt x="2866" y="840"/>
                </a:lnTo>
                <a:lnTo>
                  <a:pt x="2863" y="843"/>
                </a:lnTo>
                <a:lnTo>
                  <a:pt x="2862" y="848"/>
                </a:lnTo>
                <a:lnTo>
                  <a:pt x="2857" y="852"/>
                </a:lnTo>
                <a:lnTo>
                  <a:pt x="2854" y="856"/>
                </a:lnTo>
                <a:lnTo>
                  <a:pt x="2850" y="861"/>
                </a:lnTo>
                <a:lnTo>
                  <a:pt x="2846" y="865"/>
                </a:lnTo>
                <a:lnTo>
                  <a:pt x="2841" y="869"/>
                </a:lnTo>
                <a:lnTo>
                  <a:pt x="2836" y="874"/>
                </a:lnTo>
                <a:lnTo>
                  <a:pt x="2830" y="879"/>
                </a:lnTo>
                <a:lnTo>
                  <a:pt x="2824" y="884"/>
                </a:lnTo>
                <a:lnTo>
                  <a:pt x="2817" y="889"/>
                </a:lnTo>
                <a:lnTo>
                  <a:pt x="2810" y="894"/>
                </a:lnTo>
                <a:lnTo>
                  <a:pt x="2803" y="899"/>
                </a:lnTo>
                <a:lnTo>
                  <a:pt x="2795" y="904"/>
                </a:lnTo>
                <a:lnTo>
                  <a:pt x="2787" y="910"/>
                </a:lnTo>
                <a:lnTo>
                  <a:pt x="2778" y="915"/>
                </a:lnTo>
                <a:lnTo>
                  <a:pt x="2769" y="921"/>
                </a:lnTo>
                <a:lnTo>
                  <a:pt x="2759" y="927"/>
                </a:lnTo>
                <a:lnTo>
                  <a:pt x="2749" y="933"/>
                </a:lnTo>
                <a:lnTo>
                  <a:pt x="2739" y="938"/>
                </a:lnTo>
                <a:lnTo>
                  <a:pt x="2729" y="944"/>
                </a:lnTo>
                <a:lnTo>
                  <a:pt x="2718" y="951"/>
                </a:lnTo>
                <a:lnTo>
                  <a:pt x="2706" y="957"/>
                </a:lnTo>
                <a:lnTo>
                  <a:pt x="2695" y="964"/>
                </a:lnTo>
                <a:lnTo>
                  <a:pt x="2682" y="970"/>
                </a:lnTo>
                <a:lnTo>
                  <a:pt x="2670" y="977"/>
                </a:lnTo>
                <a:lnTo>
                  <a:pt x="2657" y="984"/>
                </a:lnTo>
                <a:lnTo>
                  <a:pt x="2644" y="992"/>
                </a:lnTo>
                <a:lnTo>
                  <a:pt x="2630" y="996"/>
                </a:lnTo>
                <a:lnTo>
                  <a:pt x="2615" y="1002"/>
                </a:lnTo>
                <a:lnTo>
                  <a:pt x="2601" y="1006"/>
                </a:lnTo>
                <a:lnTo>
                  <a:pt x="2585" y="1012"/>
                </a:lnTo>
                <a:lnTo>
                  <a:pt x="2569" y="1018"/>
                </a:lnTo>
                <a:lnTo>
                  <a:pt x="2552" y="1022"/>
                </a:lnTo>
                <a:lnTo>
                  <a:pt x="2535" y="1028"/>
                </a:lnTo>
                <a:lnTo>
                  <a:pt x="2516" y="1032"/>
                </a:lnTo>
                <a:lnTo>
                  <a:pt x="2499" y="1036"/>
                </a:lnTo>
                <a:lnTo>
                  <a:pt x="2479" y="1042"/>
                </a:lnTo>
                <a:lnTo>
                  <a:pt x="2459" y="1046"/>
                </a:lnTo>
                <a:lnTo>
                  <a:pt x="2438" y="1051"/>
                </a:lnTo>
                <a:lnTo>
                  <a:pt x="2418" y="1056"/>
                </a:lnTo>
                <a:lnTo>
                  <a:pt x="2397" y="1061"/>
                </a:lnTo>
                <a:lnTo>
                  <a:pt x="2374" y="1065"/>
                </a:lnTo>
                <a:lnTo>
                  <a:pt x="2351" y="1069"/>
                </a:lnTo>
                <a:lnTo>
                  <a:pt x="2328" y="1074"/>
                </a:lnTo>
                <a:lnTo>
                  <a:pt x="2303" y="1078"/>
                </a:lnTo>
                <a:lnTo>
                  <a:pt x="2279" y="1081"/>
                </a:lnTo>
                <a:lnTo>
                  <a:pt x="2254" y="1085"/>
                </a:lnTo>
                <a:lnTo>
                  <a:pt x="2228" y="1088"/>
                </a:lnTo>
                <a:lnTo>
                  <a:pt x="2202" y="1092"/>
                </a:lnTo>
                <a:lnTo>
                  <a:pt x="2175" y="1095"/>
                </a:lnTo>
                <a:lnTo>
                  <a:pt x="2148" y="1100"/>
                </a:lnTo>
                <a:lnTo>
                  <a:pt x="2119" y="1102"/>
                </a:lnTo>
                <a:lnTo>
                  <a:pt x="2090" y="1105"/>
                </a:lnTo>
                <a:lnTo>
                  <a:pt x="2060" y="1108"/>
                </a:lnTo>
                <a:lnTo>
                  <a:pt x="2031" y="1111"/>
                </a:lnTo>
                <a:lnTo>
                  <a:pt x="1999" y="1113"/>
                </a:lnTo>
                <a:lnTo>
                  <a:pt x="1969" y="1115"/>
                </a:lnTo>
                <a:lnTo>
                  <a:pt x="1937" y="1117"/>
                </a:lnTo>
                <a:lnTo>
                  <a:pt x="1904" y="11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2" name="Freeform 80"/>
          <p:cNvSpPr/>
          <p:nvPr/>
        </p:nvSpPr>
        <p:spPr>
          <a:xfrm>
            <a:off x="6504120" y="4387680"/>
            <a:ext cx="317520" cy="276480"/>
          </a:xfrm>
          <a:custGeom>
            <a:avLst/>
            <a:gdLst/>
            <a:ahLst/>
            <a:rect l="l" t="t" r="r" b="b"/>
            <a:pathLst>
              <a:path w="600" h="521">
                <a:moveTo>
                  <a:pt x="314" y="393"/>
                </a:moveTo>
                <a:lnTo>
                  <a:pt x="295" y="376"/>
                </a:lnTo>
                <a:lnTo>
                  <a:pt x="276" y="359"/>
                </a:lnTo>
                <a:lnTo>
                  <a:pt x="259" y="343"/>
                </a:lnTo>
                <a:lnTo>
                  <a:pt x="243" y="327"/>
                </a:lnTo>
                <a:lnTo>
                  <a:pt x="228" y="311"/>
                </a:lnTo>
                <a:lnTo>
                  <a:pt x="213" y="297"/>
                </a:lnTo>
                <a:lnTo>
                  <a:pt x="199" y="281"/>
                </a:lnTo>
                <a:lnTo>
                  <a:pt x="184" y="267"/>
                </a:lnTo>
                <a:lnTo>
                  <a:pt x="171" y="252"/>
                </a:lnTo>
                <a:lnTo>
                  <a:pt x="158" y="238"/>
                </a:lnTo>
                <a:lnTo>
                  <a:pt x="145" y="223"/>
                </a:lnTo>
                <a:lnTo>
                  <a:pt x="134" y="210"/>
                </a:lnTo>
                <a:lnTo>
                  <a:pt x="111" y="182"/>
                </a:lnTo>
                <a:lnTo>
                  <a:pt x="88" y="154"/>
                </a:lnTo>
                <a:lnTo>
                  <a:pt x="76" y="144"/>
                </a:lnTo>
                <a:lnTo>
                  <a:pt x="65" y="134"/>
                </a:lnTo>
                <a:lnTo>
                  <a:pt x="55" y="124"/>
                </a:lnTo>
                <a:lnTo>
                  <a:pt x="46" y="114"/>
                </a:lnTo>
                <a:lnTo>
                  <a:pt x="37" y="104"/>
                </a:lnTo>
                <a:lnTo>
                  <a:pt x="29" y="94"/>
                </a:lnTo>
                <a:lnTo>
                  <a:pt x="22" y="85"/>
                </a:lnTo>
                <a:lnTo>
                  <a:pt x="16" y="77"/>
                </a:lnTo>
                <a:lnTo>
                  <a:pt x="10" y="68"/>
                </a:lnTo>
                <a:lnTo>
                  <a:pt x="6" y="59"/>
                </a:lnTo>
                <a:lnTo>
                  <a:pt x="3" y="52"/>
                </a:lnTo>
                <a:lnTo>
                  <a:pt x="2" y="46"/>
                </a:lnTo>
                <a:lnTo>
                  <a:pt x="0" y="39"/>
                </a:lnTo>
                <a:lnTo>
                  <a:pt x="0" y="35"/>
                </a:lnTo>
                <a:lnTo>
                  <a:pt x="2" y="29"/>
                </a:lnTo>
                <a:lnTo>
                  <a:pt x="6" y="26"/>
                </a:lnTo>
                <a:lnTo>
                  <a:pt x="6" y="23"/>
                </a:lnTo>
                <a:lnTo>
                  <a:pt x="6" y="22"/>
                </a:lnTo>
                <a:lnTo>
                  <a:pt x="7" y="20"/>
                </a:lnTo>
                <a:lnTo>
                  <a:pt x="9" y="19"/>
                </a:lnTo>
                <a:lnTo>
                  <a:pt x="10" y="18"/>
                </a:lnTo>
                <a:lnTo>
                  <a:pt x="12" y="16"/>
                </a:lnTo>
                <a:lnTo>
                  <a:pt x="14" y="15"/>
                </a:lnTo>
                <a:lnTo>
                  <a:pt x="17" y="12"/>
                </a:lnTo>
                <a:lnTo>
                  <a:pt x="20" y="10"/>
                </a:lnTo>
                <a:lnTo>
                  <a:pt x="25" y="9"/>
                </a:lnTo>
                <a:lnTo>
                  <a:pt x="27" y="9"/>
                </a:lnTo>
                <a:lnTo>
                  <a:pt x="32" y="7"/>
                </a:lnTo>
                <a:lnTo>
                  <a:pt x="37" y="6"/>
                </a:lnTo>
                <a:lnTo>
                  <a:pt x="42" y="5"/>
                </a:lnTo>
                <a:lnTo>
                  <a:pt x="48" y="3"/>
                </a:lnTo>
                <a:lnTo>
                  <a:pt x="53" y="3"/>
                </a:lnTo>
                <a:lnTo>
                  <a:pt x="61" y="2"/>
                </a:lnTo>
                <a:lnTo>
                  <a:pt x="68" y="2"/>
                </a:lnTo>
                <a:lnTo>
                  <a:pt x="75" y="0"/>
                </a:lnTo>
                <a:lnTo>
                  <a:pt x="82" y="0"/>
                </a:lnTo>
                <a:lnTo>
                  <a:pt x="91" y="0"/>
                </a:lnTo>
                <a:lnTo>
                  <a:pt x="99" y="0"/>
                </a:lnTo>
                <a:lnTo>
                  <a:pt x="108" y="0"/>
                </a:lnTo>
                <a:lnTo>
                  <a:pt x="118" y="0"/>
                </a:lnTo>
                <a:lnTo>
                  <a:pt x="128" y="0"/>
                </a:lnTo>
                <a:lnTo>
                  <a:pt x="138" y="0"/>
                </a:lnTo>
                <a:lnTo>
                  <a:pt x="148" y="2"/>
                </a:lnTo>
                <a:lnTo>
                  <a:pt x="160" y="2"/>
                </a:lnTo>
                <a:lnTo>
                  <a:pt x="173" y="3"/>
                </a:lnTo>
                <a:lnTo>
                  <a:pt x="184" y="5"/>
                </a:lnTo>
                <a:lnTo>
                  <a:pt x="197" y="6"/>
                </a:lnTo>
                <a:lnTo>
                  <a:pt x="210" y="7"/>
                </a:lnTo>
                <a:lnTo>
                  <a:pt x="233" y="12"/>
                </a:lnTo>
                <a:lnTo>
                  <a:pt x="255" y="15"/>
                </a:lnTo>
                <a:lnTo>
                  <a:pt x="278" y="20"/>
                </a:lnTo>
                <a:lnTo>
                  <a:pt x="298" y="25"/>
                </a:lnTo>
                <a:lnTo>
                  <a:pt x="320" y="30"/>
                </a:lnTo>
                <a:lnTo>
                  <a:pt x="340" y="36"/>
                </a:lnTo>
                <a:lnTo>
                  <a:pt x="359" y="42"/>
                </a:lnTo>
                <a:lnTo>
                  <a:pt x="377" y="49"/>
                </a:lnTo>
                <a:lnTo>
                  <a:pt x="396" y="56"/>
                </a:lnTo>
                <a:lnTo>
                  <a:pt x="413" y="64"/>
                </a:lnTo>
                <a:lnTo>
                  <a:pt x="429" y="71"/>
                </a:lnTo>
                <a:lnTo>
                  <a:pt x="445" y="79"/>
                </a:lnTo>
                <a:lnTo>
                  <a:pt x="459" y="88"/>
                </a:lnTo>
                <a:lnTo>
                  <a:pt x="474" y="98"/>
                </a:lnTo>
                <a:lnTo>
                  <a:pt x="487" y="107"/>
                </a:lnTo>
                <a:lnTo>
                  <a:pt x="498" y="118"/>
                </a:lnTo>
                <a:lnTo>
                  <a:pt x="510" y="128"/>
                </a:lnTo>
                <a:lnTo>
                  <a:pt x="520" y="140"/>
                </a:lnTo>
                <a:lnTo>
                  <a:pt x="530" y="151"/>
                </a:lnTo>
                <a:lnTo>
                  <a:pt x="540" y="163"/>
                </a:lnTo>
                <a:lnTo>
                  <a:pt x="549" y="176"/>
                </a:lnTo>
                <a:lnTo>
                  <a:pt x="557" y="189"/>
                </a:lnTo>
                <a:lnTo>
                  <a:pt x="566" y="202"/>
                </a:lnTo>
                <a:lnTo>
                  <a:pt x="572" y="216"/>
                </a:lnTo>
                <a:lnTo>
                  <a:pt x="579" y="232"/>
                </a:lnTo>
                <a:lnTo>
                  <a:pt x="585" y="248"/>
                </a:lnTo>
                <a:lnTo>
                  <a:pt x="589" y="264"/>
                </a:lnTo>
                <a:lnTo>
                  <a:pt x="593" y="281"/>
                </a:lnTo>
                <a:lnTo>
                  <a:pt x="596" y="298"/>
                </a:lnTo>
                <a:lnTo>
                  <a:pt x="599" y="317"/>
                </a:lnTo>
                <a:lnTo>
                  <a:pt x="600" y="336"/>
                </a:lnTo>
                <a:lnTo>
                  <a:pt x="600" y="357"/>
                </a:lnTo>
                <a:lnTo>
                  <a:pt x="600" y="376"/>
                </a:lnTo>
                <a:lnTo>
                  <a:pt x="599" y="395"/>
                </a:lnTo>
                <a:lnTo>
                  <a:pt x="599" y="412"/>
                </a:lnTo>
                <a:lnTo>
                  <a:pt x="596" y="429"/>
                </a:lnTo>
                <a:lnTo>
                  <a:pt x="595" y="444"/>
                </a:lnTo>
                <a:lnTo>
                  <a:pt x="592" y="457"/>
                </a:lnTo>
                <a:lnTo>
                  <a:pt x="589" y="470"/>
                </a:lnTo>
                <a:lnTo>
                  <a:pt x="585" y="480"/>
                </a:lnTo>
                <a:lnTo>
                  <a:pt x="582" y="490"/>
                </a:lnTo>
                <a:lnTo>
                  <a:pt x="576" y="498"/>
                </a:lnTo>
                <a:lnTo>
                  <a:pt x="572" y="506"/>
                </a:lnTo>
                <a:lnTo>
                  <a:pt x="566" y="511"/>
                </a:lnTo>
                <a:lnTo>
                  <a:pt x="560" y="516"/>
                </a:lnTo>
                <a:lnTo>
                  <a:pt x="554" y="519"/>
                </a:lnTo>
                <a:lnTo>
                  <a:pt x="547" y="521"/>
                </a:lnTo>
                <a:lnTo>
                  <a:pt x="540" y="521"/>
                </a:lnTo>
                <a:lnTo>
                  <a:pt x="531" y="521"/>
                </a:lnTo>
                <a:lnTo>
                  <a:pt x="521" y="520"/>
                </a:lnTo>
                <a:lnTo>
                  <a:pt x="511" y="517"/>
                </a:lnTo>
                <a:lnTo>
                  <a:pt x="501" y="514"/>
                </a:lnTo>
                <a:lnTo>
                  <a:pt x="490" y="510"/>
                </a:lnTo>
                <a:lnTo>
                  <a:pt x="477" y="506"/>
                </a:lnTo>
                <a:lnTo>
                  <a:pt x="464" y="500"/>
                </a:lnTo>
                <a:lnTo>
                  <a:pt x="449" y="493"/>
                </a:lnTo>
                <a:lnTo>
                  <a:pt x="433" y="484"/>
                </a:lnTo>
                <a:lnTo>
                  <a:pt x="419" y="475"/>
                </a:lnTo>
                <a:lnTo>
                  <a:pt x="402" y="464"/>
                </a:lnTo>
                <a:lnTo>
                  <a:pt x="386" y="452"/>
                </a:lnTo>
                <a:lnTo>
                  <a:pt x="369" y="439"/>
                </a:lnTo>
                <a:lnTo>
                  <a:pt x="350" y="425"/>
                </a:lnTo>
                <a:lnTo>
                  <a:pt x="333" y="411"/>
                </a:lnTo>
                <a:lnTo>
                  <a:pt x="314" y="39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3" name="Freeform 81"/>
          <p:cNvSpPr/>
          <p:nvPr/>
        </p:nvSpPr>
        <p:spPr>
          <a:xfrm>
            <a:off x="7375680" y="4255920"/>
            <a:ext cx="487080" cy="311400"/>
          </a:xfrm>
          <a:custGeom>
            <a:avLst/>
            <a:gdLst/>
            <a:ahLst/>
            <a:rect l="l" t="t" r="r" b="b"/>
            <a:pathLst>
              <a:path w="919" h="588">
                <a:moveTo>
                  <a:pt x="0" y="36"/>
                </a:moveTo>
                <a:lnTo>
                  <a:pt x="0" y="33"/>
                </a:lnTo>
                <a:lnTo>
                  <a:pt x="2" y="29"/>
                </a:lnTo>
                <a:lnTo>
                  <a:pt x="5" y="26"/>
                </a:lnTo>
                <a:lnTo>
                  <a:pt x="8" y="23"/>
                </a:lnTo>
                <a:lnTo>
                  <a:pt x="12" y="19"/>
                </a:lnTo>
                <a:lnTo>
                  <a:pt x="18" y="16"/>
                </a:lnTo>
                <a:lnTo>
                  <a:pt x="23" y="13"/>
                </a:lnTo>
                <a:lnTo>
                  <a:pt x="31" y="10"/>
                </a:lnTo>
                <a:lnTo>
                  <a:pt x="39" y="9"/>
                </a:lnTo>
                <a:lnTo>
                  <a:pt x="48" y="6"/>
                </a:lnTo>
                <a:lnTo>
                  <a:pt x="58" y="5"/>
                </a:lnTo>
                <a:lnTo>
                  <a:pt x="69" y="3"/>
                </a:lnTo>
                <a:lnTo>
                  <a:pt x="81" y="2"/>
                </a:lnTo>
                <a:lnTo>
                  <a:pt x="94" y="0"/>
                </a:lnTo>
                <a:lnTo>
                  <a:pt x="108" y="0"/>
                </a:lnTo>
                <a:lnTo>
                  <a:pt x="124" y="0"/>
                </a:lnTo>
                <a:lnTo>
                  <a:pt x="136" y="0"/>
                </a:lnTo>
                <a:lnTo>
                  <a:pt x="149" y="0"/>
                </a:lnTo>
                <a:lnTo>
                  <a:pt x="162" y="0"/>
                </a:lnTo>
                <a:lnTo>
                  <a:pt x="176" y="0"/>
                </a:lnTo>
                <a:lnTo>
                  <a:pt x="192" y="0"/>
                </a:lnTo>
                <a:lnTo>
                  <a:pt x="208" y="0"/>
                </a:lnTo>
                <a:lnTo>
                  <a:pt x="225" y="0"/>
                </a:lnTo>
                <a:lnTo>
                  <a:pt x="241" y="2"/>
                </a:lnTo>
                <a:lnTo>
                  <a:pt x="259" y="3"/>
                </a:lnTo>
                <a:lnTo>
                  <a:pt x="277" y="3"/>
                </a:lnTo>
                <a:lnTo>
                  <a:pt x="295" y="5"/>
                </a:lnTo>
                <a:lnTo>
                  <a:pt x="314" y="7"/>
                </a:lnTo>
                <a:lnTo>
                  <a:pt x="333" y="9"/>
                </a:lnTo>
                <a:lnTo>
                  <a:pt x="352" y="12"/>
                </a:lnTo>
                <a:lnTo>
                  <a:pt x="372" y="15"/>
                </a:lnTo>
                <a:lnTo>
                  <a:pt x="390" y="17"/>
                </a:lnTo>
                <a:lnTo>
                  <a:pt x="411" y="22"/>
                </a:lnTo>
                <a:lnTo>
                  <a:pt x="429" y="26"/>
                </a:lnTo>
                <a:lnTo>
                  <a:pt x="450" y="32"/>
                </a:lnTo>
                <a:lnTo>
                  <a:pt x="471" y="38"/>
                </a:lnTo>
                <a:lnTo>
                  <a:pt x="491" y="45"/>
                </a:lnTo>
                <a:lnTo>
                  <a:pt x="513" y="52"/>
                </a:lnTo>
                <a:lnTo>
                  <a:pt x="533" y="61"/>
                </a:lnTo>
                <a:lnTo>
                  <a:pt x="555" y="71"/>
                </a:lnTo>
                <a:lnTo>
                  <a:pt x="576" y="79"/>
                </a:lnTo>
                <a:lnTo>
                  <a:pt x="598" y="91"/>
                </a:lnTo>
                <a:lnTo>
                  <a:pt x="618" y="101"/>
                </a:lnTo>
                <a:lnTo>
                  <a:pt x="640" y="112"/>
                </a:lnTo>
                <a:lnTo>
                  <a:pt x="660" y="125"/>
                </a:lnTo>
                <a:lnTo>
                  <a:pt x="680" y="137"/>
                </a:lnTo>
                <a:lnTo>
                  <a:pt x="700" y="151"/>
                </a:lnTo>
                <a:lnTo>
                  <a:pt x="719" y="164"/>
                </a:lnTo>
                <a:lnTo>
                  <a:pt x="737" y="182"/>
                </a:lnTo>
                <a:lnTo>
                  <a:pt x="755" y="199"/>
                </a:lnTo>
                <a:lnTo>
                  <a:pt x="772" y="215"/>
                </a:lnTo>
                <a:lnTo>
                  <a:pt x="788" y="231"/>
                </a:lnTo>
                <a:lnTo>
                  <a:pt x="802" y="246"/>
                </a:lnTo>
                <a:lnTo>
                  <a:pt x="817" y="261"/>
                </a:lnTo>
                <a:lnTo>
                  <a:pt x="830" y="277"/>
                </a:lnTo>
                <a:lnTo>
                  <a:pt x="843" y="291"/>
                </a:lnTo>
                <a:lnTo>
                  <a:pt x="853" y="305"/>
                </a:lnTo>
                <a:lnTo>
                  <a:pt x="863" y="320"/>
                </a:lnTo>
                <a:lnTo>
                  <a:pt x="873" y="334"/>
                </a:lnTo>
                <a:lnTo>
                  <a:pt x="881" y="349"/>
                </a:lnTo>
                <a:lnTo>
                  <a:pt x="889" y="362"/>
                </a:lnTo>
                <a:lnTo>
                  <a:pt x="894" y="376"/>
                </a:lnTo>
                <a:lnTo>
                  <a:pt x="900" y="389"/>
                </a:lnTo>
                <a:lnTo>
                  <a:pt x="904" y="403"/>
                </a:lnTo>
                <a:lnTo>
                  <a:pt x="907" y="421"/>
                </a:lnTo>
                <a:lnTo>
                  <a:pt x="910" y="435"/>
                </a:lnTo>
                <a:lnTo>
                  <a:pt x="913" y="449"/>
                </a:lnTo>
                <a:lnTo>
                  <a:pt x="914" y="462"/>
                </a:lnTo>
                <a:lnTo>
                  <a:pt x="917" y="474"/>
                </a:lnTo>
                <a:lnTo>
                  <a:pt x="917" y="485"/>
                </a:lnTo>
                <a:lnTo>
                  <a:pt x="919" y="495"/>
                </a:lnTo>
                <a:lnTo>
                  <a:pt x="919" y="504"/>
                </a:lnTo>
                <a:lnTo>
                  <a:pt x="919" y="513"/>
                </a:lnTo>
                <a:lnTo>
                  <a:pt x="917" y="520"/>
                </a:lnTo>
                <a:lnTo>
                  <a:pt x="917" y="526"/>
                </a:lnTo>
                <a:lnTo>
                  <a:pt x="914" y="533"/>
                </a:lnTo>
                <a:lnTo>
                  <a:pt x="913" y="537"/>
                </a:lnTo>
                <a:lnTo>
                  <a:pt x="910" y="543"/>
                </a:lnTo>
                <a:lnTo>
                  <a:pt x="907" y="546"/>
                </a:lnTo>
                <a:lnTo>
                  <a:pt x="904" y="550"/>
                </a:lnTo>
                <a:lnTo>
                  <a:pt x="896" y="557"/>
                </a:lnTo>
                <a:lnTo>
                  <a:pt x="889" y="563"/>
                </a:lnTo>
                <a:lnTo>
                  <a:pt x="880" y="570"/>
                </a:lnTo>
                <a:lnTo>
                  <a:pt x="870" y="576"/>
                </a:lnTo>
                <a:lnTo>
                  <a:pt x="860" y="580"/>
                </a:lnTo>
                <a:lnTo>
                  <a:pt x="848" y="583"/>
                </a:lnTo>
                <a:lnTo>
                  <a:pt x="843" y="585"/>
                </a:lnTo>
                <a:lnTo>
                  <a:pt x="837" y="586"/>
                </a:lnTo>
                <a:lnTo>
                  <a:pt x="830" y="586"/>
                </a:lnTo>
                <a:lnTo>
                  <a:pt x="822" y="588"/>
                </a:lnTo>
                <a:lnTo>
                  <a:pt x="818" y="586"/>
                </a:lnTo>
                <a:lnTo>
                  <a:pt x="812" y="586"/>
                </a:lnTo>
                <a:lnTo>
                  <a:pt x="808" y="585"/>
                </a:lnTo>
                <a:lnTo>
                  <a:pt x="801" y="583"/>
                </a:lnTo>
                <a:lnTo>
                  <a:pt x="795" y="580"/>
                </a:lnTo>
                <a:lnTo>
                  <a:pt x="788" y="577"/>
                </a:lnTo>
                <a:lnTo>
                  <a:pt x="779" y="575"/>
                </a:lnTo>
                <a:lnTo>
                  <a:pt x="772" y="570"/>
                </a:lnTo>
                <a:lnTo>
                  <a:pt x="762" y="566"/>
                </a:lnTo>
                <a:lnTo>
                  <a:pt x="753" y="560"/>
                </a:lnTo>
                <a:lnTo>
                  <a:pt x="743" y="554"/>
                </a:lnTo>
                <a:lnTo>
                  <a:pt x="732" y="549"/>
                </a:lnTo>
                <a:lnTo>
                  <a:pt x="720" y="541"/>
                </a:lnTo>
                <a:lnTo>
                  <a:pt x="709" y="534"/>
                </a:lnTo>
                <a:lnTo>
                  <a:pt x="696" y="527"/>
                </a:lnTo>
                <a:lnTo>
                  <a:pt x="683" y="518"/>
                </a:lnTo>
                <a:lnTo>
                  <a:pt x="668" y="510"/>
                </a:lnTo>
                <a:lnTo>
                  <a:pt x="654" y="501"/>
                </a:lnTo>
                <a:lnTo>
                  <a:pt x="640" y="491"/>
                </a:lnTo>
                <a:lnTo>
                  <a:pt x="624" y="481"/>
                </a:lnTo>
                <a:lnTo>
                  <a:pt x="608" y="470"/>
                </a:lnTo>
                <a:lnTo>
                  <a:pt x="591" y="458"/>
                </a:lnTo>
                <a:lnTo>
                  <a:pt x="573" y="445"/>
                </a:lnTo>
                <a:lnTo>
                  <a:pt x="556" y="434"/>
                </a:lnTo>
                <a:lnTo>
                  <a:pt x="537" y="419"/>
                </a:lnTo>
                <a:lnTo>
                  <a:pt x="517" y="406"/>
                </a:lnTo>
                <a:lnTo>
                  <a:pt x="498" y="392"/>
                </a:lnTo>
                <a:lnTo>
                  <a:pt x="478" y="376"/>
                </a:lnTo>
                <a:lnTo>
                  <a:pt x="457" y="362"/>
                </a:lnTo>
                <a:lnTo>
                  <a:pt x="435" y="346"/>
                </a:lnTo>
                <a:lnTo>
                  <a:pt x="414" y="328"/>
                </a:lnTo>
                <a:lnTo>
                  <a:pt x="390" y="311"/>
                </a:lnTo>
                <a:lnTo>
                  <a:pt x="366" y="295"/>
                </a:lnTo>
                <a:lnTo>
                  <a:pt x="343" y="281"/>
                </a:lnTo>
                <a:lnTo>
                  <a:pt x="320" y="267"/>
                </a:lnTo>
                <a:lnTo>
                  <a:pt x="297" y="252"/>
                </a:lnTo>
                <a:lnTo>
                  <a:pt x="277" y="238"/>
                </a:lnTo>
                <a:lnTo>
                  <a:pt x="255" y="225"/>
                </a:lnTo>
                <a:lnTo>
                  <a:pt x="236" y="212"/>
                </a:lnTo>
                <a:lnTo>
                  <a:pt x="218" y="200"/>
                </a:lnTo>
                <a:lnTo>
                  <a:pt x="199" y="189"/>
                </a:lnTo>
                <a:lnTo>
                  <a:pt x="182" y="177"/>
                </a:lnTo>
                <a:lnTo>
                  <a:pt x="166" y="166"/>
                </a:lnTo>
                <a:lnTo>
                  <a:pt x="150" y="156"/>
                </a:lnTo>
                <a:lnTo>
                  <a:pt x="136" y="146"/>
                </a:lnTo>
                <a:lnTo>
                  <a:pt x="121" y="136"/>
                </a:lnTo>
                <a:lnTo>
                  <a:pt x="108" y="127"/>
                </a:lnTo>
                <a:lnTo>
                  <a:pt x="95" y="118"/>
                </a:lnTo>
                <a:lnTo>
                  <a:pt x="84" y="110"/>
                </a:lnTo>
                <a:lnTo>
                  <a:pt x="74" y="101"/>
                </a:lnTo>
                <a:lnTo>
                  <a:pt x="64" y="94"/>
                </a:lnTo>
                <a:lnTo>
                  <a:pt x="54" y="87"/>
                </a:lnTo>
                <a:lnTo>
                  <a:pt x="45" y="81"/>
                </a:lnTo>
                <a:lnTo>
                  <a:pt x="38" y="74"/>
                </a:lnTo>
                <a:lnTo>
                  <a:pt x="31" y="68"/>
                </a:lnTo>
                <a:lnTo>
                  <a:pt x="23" y="64"/>
                </a:lnTo>
                <a:lnTo>
                  <a:pt x="19" y="58"/>
                </a:lnTo>
                <a:lnTo>
                  <a:pt x="13" y="53"/>
                </a:lnTo>
                <a:lnTo>
                  <a:pt x="9" y="51"/>
                </a:lnTo>
                <a:lnTo>
                  <a:pt x="6" y="46"/>
                </a:lnTo>
                <a:lnTo>
                  <a:pt x="3" y="43"/>
                </a:lnTo>
                <a:lnTo>
                  <a:pt x="2" y="41"/>
                </a:lnTo>
                <a:lnTo>
                  <a:pt x="0" y="38"/>
                </a:lnTo>
                <a:lnTo>
                  <a:pt x="0" y="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4" name="Freeform 82"/>
          <p:cNvSpPr/>
          <p:nvPr/>
        </p:nvSpPr>
        <p:spPr>
          <a:xfrm>
            <a:off x="6181560" y="3838680"/>
            <a:ext cx="890640" cy="183960"/>
          </a:xfrm>
          <a:custGeom>
            <a:avLst/>
            <a:gdLst/>
            <a:ahLst/>
            <a:rect l="l" t="t" r="r" b="b"/>
            <a:pathLst>
              <a:path w="1684" h="348">
                <a:moveTo>
                  <a:pt x="0" y="201"/>
                </a:moveTo>
                <a:lnTo>
                  <a:pt x="8" y="201"/>
                </a:lnTo>
                <a:lnTo>
                  <a:pt x="20" y="201"/>
                </a:lnTo>
                <a:lnTo>
                  <a:pt x="31" y="200"/>
                </a:lnTo>
                <a:lnTo>
                  <a:pt x="44" y="200"/>
                </a:lnTo>
                <a:lnTo>
                  <a:pt x="57" y="199"/>
                </a:lnTo>
                <a:lnTo>
                  <a:pt x="72" y="197"/>
                </a:lnTo>
                <a:lnTo>
                  <a:pt x="86" y="196"/>
                </a:lnTo>
                <a:lnTo>
                  <a:pt x="102" y="194"/>
                </a:lnTo>
                <a:lnTo>
                  <a:pt x="119" y="193"/>
                </a:lnTo>
                <a:lnTo>
                  <a:pt x="136" y="191"/>
                </a:lnTo>
                <a:lnTo>
                  <a:pt x="155" y="188"/>
                </a:lnTo>
                <a:lnTo>
                  <a:pt x="174" y="187"/>
                </a:lnTo>
                <a:lnTo>
                  <a:pt x="194" y="184"/>
                </a:lnTo>
                <a:lnTo>
                  <a:pt x="214" y="181"/>
                </a:lnTo>
                <a:lnTo>
                  <a:pt x="236" y="178"/>
                </a:lnTo>
                <a:lnTo>
                  <a:pt x="259" y="174"/>
                </a:lnTo>
                <a:lnTo>
                  <a:pt x="282" y="171"/>
                </a:lnTo>
                <a:lnTo>
                  <a:pt x="305" y="167"/>
                </a:lnTo>
                <a:lnTo>
                  <a:pt x="329" y="163"/>
                </a:lnTo>
                <a:lnTo>
                  <a:pt x="355" y="160"/>
                </a:lnTo>
                <a:lnTo>
                  <a:pt x="381" y="155"/>
                </a:lnTo>
                <a:lnTo>
                  <a:pt x="409" y="150"/>
                </a:lnTo>
                <a:lnTo>
                  <a:pt x="436" y="145"/>
                </a:lnTo>
                <a:lnTo>
                  <a:pt x="465" y="140"/>
                </a:lnTo>
                <a:lnTo>
                  <a:pt x="493" y="135"/>
                </a:lnTo>
                <a:lnTo>
                  <a:pt x="524" y="129"/>
                </a:lnTo>
                <a:lnTo>
                  <a:pt x="554" y="124"/>
                </a:lnTo>
                <a:lnTo>
                  <a:pt x="586" y="118"/>
                </a:lnTo>
                <a:lnTo>
                  <a:pt x="617" y="111"/>
                </a:lnTo>
                <a:lnTo>
                  <a:pt x="650" y="105"/>
                </a:lnTo>
                <a:lnTo>
                  <a:pt x="683" y="98"/>
                </a:lnTo>
                <a:lnTo>
                  <a:pt x="718" y="92"/>
                </a:lnTo>
                <a:lnTo>
                  <a:pt x="783" y="80"/>
                </a:lnTo>
                <a:lnTo>
                  <a:pt x="848" y="72"/>
                </a:lnTo>
                <a:lnTo>
                  <a:pt x="912" y="62"/>
                </a:lnTo>
                <a:lnTo>
                  <a:pt x="976" y="53"/>
                </a:lnTo>
                <a:lnTo>
                  <a:pt x="1038" y="46"/>
                </a:lnTo>
                <a:lnTo>
                  <a:pt x="1101" y="37"/>
                </a:lnTo>
                <a:lnTo>
                  <a:pt x="1163" y="30"/>
                </a:lnTo>
                <a:lnTo>
                  <a:pt x="1223" y="24"/>
                </a:lnTo>
                <a:lnTo>
                  <a:pt x="1284" y="19"/>
                </a:lnTo>
                <a:lnTo>
                  <a:pt x="1343" y="14"/>
                </a:lnTo>
                <a:lnTo>
                  <a:pt x="1402" y="10"/>
                </a:lnTo>
                <a:lnTo>
                  <a:pt x="1459" y="6"/>
                </a:lnTo>
                <a:lnTo>
                  <a:pt x="1517" y="4"/>
                </a:lnTo>
                <a:lnTo>
                  <a:pt x="1573" y="1"/>
                </a:lnTo>
                <a:lnTo>
                  <a:pt x="1629" y="0"/>
                </a:lnTo>
                <a:lnTo>
                  <a:pt x="1684" y="0"/>
                </a:lnTo>
                <a:lnTo>
                  <a:pt x="1684" y="65"/>
                </a:lnTo>
                <a:lnTo>
                  <a:pt x="1684" y="128"/>
                </a:lnTo>
                <a:lnTo>
                  <a:pt x="1272" y="184"/>
                </a:lnTo>
                <a:lnTo>
                  <a:pt x="862" y="239"/>
                </a:lnTo>
                <a:lnTo>
                  <a:pt x="450" y="292"/>
                </a:lnTo>
                <a:lnTo>
                  <a:pt x="40" y="348"/>
                </a:lnTo>
                <a:lnTo>
                  <a:pt x="0" y="2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Freeform 83"/>
          <p:cNvSpPr/>
          <p:nvPr/>
        </p:nvSpPr>
        <p:spPr>
          <a:xfrm>
            <a:off x="6405480" y="2811600"/>
            <a:ext cx="271440" cy="1414440"/>
          </a:xfrm>
          <a:custGeom>
            <a:avLst/>
            <a:gdLst/>
            <a:ahLst/>
            <a:rect l="l" t="t" r="r" b="b"/>
            <a:pathLst>
              <a:path w="515" h="2675">
                <a:moveTo>
                  <a:pt x="193" y="399"/>
                </a:moveTo>
                <a:lnTo>
                  <a:pt x="189" y="372"/>
                </a:lnTo>
                <a:lnTo>
                  <a:pt x="184" y="346"/>
                </a:lnTo>
                <a:lnTo>
                  <a:pt x="178" y="321"/>
                </a:lnTo>
                <a:lnTo>
                  <a:pt x="173" y="298"/>
                </a:lnTo>
                <a:lnTo>
                  <a:pt x="167" y="277"/>
                </a:lnTo>
                <a:lnTo>
                  <a:pt x="161" y="257"/>
                </a:lnTo>
                <a:lnTo>
                  <a:pt x="154" y="236"/>
                </a:lnTo>
                <a:lnTo>
                  <a:pt x="145" y="219"/>
                </a:lnTo>
                <a:lnTo>
                  <a:pt x="138" y="203"/>
                </a:lnTo>
                <a:lnTo>
                  <a:pt x="129" y="187"/>
                </a:lnTo>
                <a:lnTo>
                  <a:pt x="121" y="173"/>
                </a:lnTo>
                <a:lnTo>
                  <a:pt x="111" y="160"/>
                </a:lnTo>
                <a:lnTo>
                  <a:pt x="101" y="150"/>
                </a:lnTo>
                <a:lnTo>
                  <a:pt x="91" y="140"/>
                </a:lnTo>
                <a:lnTo>
                  <a:pt x="81" y="130"/>
                </a:lnTo>
                <a:lnTo>
                  <a:pt x="69" y="123"/>
                </a:lnTo>
                <a:lnTo>
                  <a:pt x="58" y="118"/>
                </a:lnTo>
                <a:lnTo>
                  <a:pt x="47" y="115"/>
                </a:lnTo>
                <a:lnTo>
                  <a:pt x="39" y="111"/>
                </a:lnTo>
                <a:lnTo>
                  <a:pt x="30" y="105"/>
                </a:lnTo>
                <a:lnTo>
                  <a:pt x="23" y="101"/>
                </a:lnTo>
                <a:lnTo>
                  <a:pt x="17" y="95"/>
                </a:lnTo>
                <a:lnTo>
                  <a:pt x="11" y="90"/>
                </a:lnTo>
                <a:lnTo>
                  <a:pt x="7" y="84"/>
                </a:lnTo>
                <a:lnTo>
                  <a:pt x="4" y="78"/>
                </a:lnTo>
                <a:lnTo>
                  <a:pt x="1" y="71"/>
                </a:lnTo>
                <a:lnTo>
                  <a:pt x="0" y="65"/>
                </a:lnTo>
                <a:lnTo>
                  <a:pt x="0" y="58"/>
                </a:lnTo>
                <a:lnTo>
                  <a:pt x="0" y="51"/>
                </a:lnTo>
                <a:lnTo>
                  <a:pt x="1" y="45"/>
                </a:lnTo>
                <a:lnTo>
                  <a:pt x="4" y="38"/>
                </a:lnTo>
                <a:lnTo>
                  <a:pt x="7" y="31"/>
                </a:lnTo>
                <a:lnTo>
                  <a:pt x="11" y="25"/>
                </a:lnTo>
                <a:lnTo>
                  <a:pt x="17" y="19"/>
                </a:lnTo>
                <a:lnTo>
                  <a:pt x="23" y="13"/>
                </a:lnTo>
                <a:lnTo>
                  <a:pt x="30" y="9"/>
                </a:lnTo>
                <a:lnTo>
                  <a:pt x="39" y="6"/>
                </a:lnTo>
                <a:lnTo>
                  <a:pt x="49" y="3"/>
                </a:lnTo>
                <a:lnTo>
                  <a:pt x="60" y="2"/>
                </a:lnTo>
                <a:lnTo>
                  <a:pt x="68" y="2"/>
                </a:lnTo>
                <a:lnTo>
                  <a:pt x="73" y="0"/>
                </a:lnTo>
                <a:lnTo>
                  <a:pt x="81" y="0"/>
                </a:lnTo>
                <a:lnTo>
                  <a:pt x="88" y="0"/>
                </a:lnTo>
                <a:lnTo>
                  <a:pt x="95" y="0"/>
                </a:lnTo>
                <a:lnTo>
                  <a:pt x="104" y="0"/>
                </a:lnTo>
                <a:lnTo>
                  <a:pt x="112" y="0"/>
                </a:lnTo>
                <a:lnTo>
                  <a:pt x="121" y="2"/>
                </a:lnTo>
                <a:lnTo>
                  <a:pt x="131" y="2"/>
                </a:lnTo>
                <a:lnTo>
                  <a:pt x="140" y="2"/>
                </a:lnTo>
                <a:lnTo>
                  <a:pt x="150" y="3"/>
                </a:lnTo>
                <a:lnTo>
                  <a:pt x="161" y="5"/>
                </a:lnTo>
                <a:lnTo>
                  <a:pt x="171" y="5"/>
                </a:lnTo>
                <a:lnTo>
                  <a:pt x="183" y="6"/>
                </a:lnTo>
                <a:lnTo>
                  <a:pt x="194" y="7"/>
                </a:lnTo>
                <a:lnTo>
                  <a:pt x="207" y="9"/>
                </a:lnTo>
                <a:lnTo>
                  <a:pt x="220" y="10"/>
                </a:lnTo>
                <a:lnTo>
                  <a:pt x="233" y="13"/>
                </a:lnTo>
                <a:lnTo>
                  <a:pt x="246" y="15"/>
                </a:lnTo>
                <a:lnTo>
                  <a:pt x="259" y="16"/>
                </a:lnTo>
                <a:lnTo>
                  <a:pt x="285" y="20"/>
                </a:lnTo>
                <a:lnTo>
                  <a:pt x="308" y="25"/>
                </a:lnTo>
                <a:lnTo>
                  <a:pt x="330" y="29"/>
                </a:lnTo>
                <a:lnTo>
                  <a:pt x="351" y="33"/>
                </a:lnTo>
                <a:lnTo>
                  <a:pt x="370" y="39"/>
                </a:lnTo>
                <a:lnTo>
                  <a:pt x="389" y="43"/>
                </a:lnTo>
                <a:lnTo>
                  <a:pt x="406" y="49"/>
                </a:lnTo>
                <a:lnTo>
                  <a:pt x="422" y="55"/>
                </a:lnTo>
                <a:lnTo>
                  <a:pt x="436" y="59"/>
                </a:lnTo>
                <a:lnTo>
                  <a:pt x="449" y="65"/>
                </a:lnTo>
                <a:lnTo>
                  <a:pt x="462" y="69"/>
                </a:lnTo>
                <a:lnTo>
                  <a:pt x="472" y="74"/>
                </a:lnTo>
                <a:lnTo>
                  <a:pt x="482" y="78"/>
                </a:lnTo>
                <a:lnTo>
                  <a:pt x="492" y="82"/>
                </a:lnTo>
                <a:lnTo>
                  <a:pt x="501" y="87"/>
                </a:lnTo>
                <a:lnTo>
                  <a:pt x="502" y="88"/>
                </a:lnTo>
                <a:lnTo>
                  <a:pt x="504" y="92"/>
                </a:lnTo>
                <a:lnTo>
                  <a:pt x="505" y="97"/>
                </a:lnTo>
                <a:lnTo>
                  <a:pt x="507" y="102"/>
                </a:lnTo>
                <a:lnTo>
                  <a:pt x="508" y="110"/>
                </a:lnTo>
                <a:lnTo>
                  <a:pt x="510" y="118"/>
                </a:lnTo>
                <a:lnTo>
                  <a:pt x="511" y="127"/>
                </a:lnTo>
                <a:lnTo>
                  <a:pt x="511" y="137"/>
                </a:lnTo>
                <a:lnTo>
                  <a:pt x="512" y="149"/>
                </a:lnTo>
                <a:lnTo>
                  <a:pt x="514" y="162"/>
                </a:lnTo>
                <a:lnTo>
                  <a:pt x="514" y="176"/>
                </a:lnTo>
                <a:lnTo>
                  <a:pt x="514" y="192"/>
                </a:lnTo>
                <a:lnTo>
                  <a:pt x="515" y="208"/>
                </a:lnTo>
                <a:lnTo>
                  <a:pt x="515" y="225"/>
                </a:lnTo>
                <a:lnTo>
                  <a:pt x="515" y="244"/>
                </a:lnTo>
                <a:lnTo>
                  <a:pt x="515" y="262"/>
                </a:lnTo>
                <a:lnTo>
                  <a:pt x="515" y="284"/>
                </a:lnTo>
                <a:lnTo>
                  <a:pt x="515" y="305"/>
                </a:lnTo>
                <a:lnTo>
                  <a:pt x="515" y="329"/>
                </a:lnTo>
                <a:lnTo>
                  <a:pt x="514" y="353"/>
                </a:lnTo>
                <a:lnTo>
                  <a:pt x="514" y="377"/>
                </a:lnTo>
                <a:lnTo>
                  <a:pt x="514" y="405"/>
                </a:lnTo>
                <a:lnTo>
                  <a:pt x="512" y="432"/>
                </a:lnTo>
                <a:lnTo>
                  <a:pt x="511" y="461"/>
                </a:lnTo>
                <a:lnTo>
                  <a:pt x="511" y="490"/>
                </a:lnTo>
                <a:lnTo>
                  <a:pt x="510" y="521"/>
                </a:lnTo>
                <a:lnTo>
                  <a:pt x="508" y="553"/>
                </a:lnTo>
                <a:lnTo>
                  <a:pt x="507" y="586"/>
                </a:lnTo>
                <a:lnTo>
                  <a:pt x="505" y="621"/>
                </a:lnTo>
                <a:lnTo>
                  <a:pt x="504" y="655"/>
                </a:lnTo>
                <a:lnTo>
                  <a:pt x="502" y="691"/>
                </a:lnTo>
                <a:lnTo>
                  <a:pt x="501" y="729"/>
                </a:lnTo>
                <a:lnTo>
                  <a:pt x="497" y="769"/>
                </a:lnTo>
                <a:lnTo>
                  <a:pt x="492" y="811"/>
                </a:lnTo>
                <a:lnTo>
                  <a:pt x="489" y="854"/>
                </a:lnTo>
                <a:lnTo>
                  <a:pt x="486" y="897"/>
                </a:lnTo>
                <a:lnTo>
                  <a:pt x="482" y="943"/>
                </a:lnTo>
                <a:lnTo>
                  <a:pt x="479" y="989"/>
                </a:lnTo>
                <a:lnTo>
                  <a:pt x="476" y="1038"/>
                </a:lnTo>
                <a:lnTo>
                  <a:pt x="474" y="1087"/>
                </a:lnTo>
                <a:lnTo>
                  <a:pt x="471" y="1138"/>
                </a:lnTo>
                <a:lnTo>
                  <a:pt x="468" y="1189"/>
                </a:lnTo>
                <a:lnTo>
                  <a:pt x="465" y="1243"/>
                </a:lnTo>
                <a:lnTo>
                  <a:pt x="463" y="1297"/>
                </a:lnTo>
                <a:lnTo>
                  <a:pt x="461" y="1354"/>
                </a:lnTo>
                <a:lnTo>
                  <a:pt x="458" y="1411"/>
                </a:lnTo>
                <a:lnTo>
                  <a:pt x="456" y="1470"/>
                </a:lnTo>
                <a:lnTo>
                  <a:pt x="455" y="1531"/>
                </a:lnTo>
                <a:lnTo>
                  <a:pt x="452" y="1591"/>
                </a:lnTo>
                <a:lnTo>
                  <a:pt x="451" y="1654"/>
                </a:lnTo>
                <a:lnTo>
                  <a:pt x="449" y="1718"/>
                </a:lnTo>
                <a:lnTo>
                  <a:pt x="448" y="1784"/>
                </a:lnTo>
                <a:lnTo>
                  <a:pt x="446" y="1850"/>
                </a:lnTo>
                <a:lnTo>
                  <a:pt x="445" y="1918"/>
                </a:lnTo>
                <a:lnTo>
                  <a:pt x="443" y="1988"/>
                </a:lnTo>
                <a:lnTo>
                  <a:pt x="442" y="2059"/>
                </a:lnTo>
                <a:lnTo>
                  <a:pt x="442" y="2131"/>
                </a:lnTo>
                <a:lnTo>
                  <a:pt x="440" y="2204"/>
                </a:lnTo>
                <a:lnTo>
                  <a:pt x="440" y="2279"/>
                </a:lnTo>
                <a:lnTo>
                  <a:pt x="439" y="2355"/>
                </a:lnTo>
                <a:lnTo>
                  <a:pt x="439" y="2433"/>
                </a:lnTo>
                <a:lnTo>
                  <a:pt x="439" y="2512"/>
                </a:lnTo>
                <a:lnTo>
                  <a:pt x="439" y="2593"/>
                </a:lnTo>
                <a:lnTo>
                  <a:pt x="439" y="2675"/>
                </a:lnTo>
                <a:lnTo>
                  <a:pt x="233" y="2675"/>
                </a:lnTo>
                <a:lnTo>
                  <a:pt x="233" y="2548"/>
                </a:lnTo>
                <a:lnTo>
                  <a:pt x="233" y="2425"/>
                </a:lnTo>
                <a:lnTo>
                  <a:pt x="233" y="2304"/>
                </a:lnTo>
                <a:lnTo>
                  <a:pt x="232" y="2188"/>
                </a:lnTo>
                <a:lnTo>
                  <a:pt x="232" y="2075"/>
                </a:lnTo>
                <a:lnTo>
                  <a:pt x="232" y="1967"/>
                </a:lnTo>
                <a:lnTo>
                  <a:pt x="230" y="1860"/>
                </a:lnTo>
                <a:lnTo>
                  <a:pt x="230" y="1759"/>
                </a:lnTo>
                <a:lnTo>
                  <a:pt x="229" y="1662"/>
                </a:lnTo>
                <a:lnTo>
                  <a:pt x="227" y="1567"/>
                </a:lnTo>
                <a:lnTo>
                  <a:pt x="226" y="1476"/>
                </a:lnTo>
                <a:lnTo>
                  <a:pt x="226" y="1388"/>
                </a:lnTo>
                <a:lnTo>
                  <a:pt x="224" y="1305"/>
                </a:lnTo>
                <a:lnTo>
                  <a:pt x="223" y="1224"/>
                </a:lnTo>
                <a:lnTo>
                  <a:pt x="222" y="1148"/>
                </a:lnTo>
                <a:lnTo>
                  <a:pt x="220" y="1076"/>
                </a:lnTo>
                <a:lnTo>
                  <a:pt x="219" y="1007"/>
                </a:lnTo>
                <a:lnTo>
                  <a:pt x="217" y="940"/>
                </a:lnTo>
                <a:lnTo>
                  <a:pt x="216" y="878"/>
                </a:lnTo>
                <a:lnTo>
                  <a:pt x="214" y="821"/>
                </a:lnTo>
                <a:lnTo>
                  <a:pt x="213" y="765"/>
                </a:lnTo>
                <a:lnTo>
                  <a:pt x="210" y="714"/>
                </a:lnTo>
                <a:lnTo>
                  <a:pt x="209" y="667"/>
                </a:lnTo>
                <a:lnTo>
                  <a:pt x="207" y="622"/>
                </a:lnTo>
                <a:lnTo>
                  <a:pt x="206" y="582"/>
                </a:lnTo>
                <a:lnTo>
                  <a:pt x="203" y="544"/>
                </a:lnTo>
                <a:lnTo>
                  <a:pt x="201" y="511"/>
                </a:lnTo>
                <a:lnTo>
                  <a:pt x="200" y="483"/>
                </a:lnTo>
                <a:lnTo>
                  <a:pt x="197" y="455"/>
                </a:lnTo>
                <a:lnTo>
                  <a:pt x="196" y="434"/>
                </a:lnTo>
                <a:lnTo>
                  <a:pt x="194" y="413"/>
                </a:lnTo>
                <a:lnTo>
                  <a:pt x="193" y="39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2" presetSubtype="8">
                                  <p:stCondLst>
                                    <p:cond delay="0"/>
                                  </p:stCondLst>
                                  <p:childTnLst>
                                    <p:set>
                                      <p:cBhvr>
                                        <p:cTn id="841" dur="1" fill="hold">
                                          <p:stCondLst>
                                            <p:cond delay="0"/>
                                          </p:stCondLst>
                                        </p:cTn>
                                        <p:tgtEl>
                                          <p:spTgt spid="293"/>
                                        </p:tgtEl>
                                        <p:attrNameLst>
                                          <p:attrName>style.visibility</p:attrName>
                                        </p:attrNameLst>
                                      </p:cBhvr>
                                      <p:to>
                                        <p:strVal val="visible"/>
                                      </p:to>
                                    </p:set>
                                    <p:anim calcmode="lin" valueType="num">
                                      <p:cBhvr additive="base">
                                        <p:cTn id="842" dur="500" fill="hold"/>
                                        <p:tgtEl>
                                          <p:spTgt spid="293"/>
                                        </p:tgtEl>
                                        <p:attrNameLst>
                                          <p:attrName>ppt_x</p:attrName>
                                        </p:attrNameLst>
                                      </p:cBhvr>
                                      <p:tavLst>
                                        <p:tav tm="0">
                                          <p:val>
                                            <p:strVal val="0-#ppt_w/2"/>
                                          </p:val>
                                        </p:tav>
                                        <p:tav tm="100000">
                                          <p:val>
                                            <p:strVal val="#ppt_x"/>
                                          </p:val>
                                        </p:tav>
                                      </p:tavLst>
                                    </p:anim>
                                    <p:anim calcmode="lin" valueType="num">
                                      <p:cBhvr additive="base">
                                        <p:cTn id="843"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8">
                                  <p:stCondLst>
                                    <p:cond delay="0"/>
                                  </p:stCondLst>
                                  <p:childTnLst>
                                    <p:set>
                                      <p:cBhvr>
                                        <p:cTn id="847" dur="1" fill="hold">
                                          <p:stCondLst>
                                            <p:cond delay="0"/>
                                          </p:stCondLst>
                                        </p:cTn>
                                        <p:tgtEl>
                                          <p:spTgt spid="294"/>
                                        </p:tgtEl>
                                        <p:attrNameLst>
                                          <p:attrName>style.visibility</p:attrName>
                                        </p:attrNameLst>
                                      </p:cBhvr>
                                      <p:to>
                                        <p:strVal val="visible"/>
                                      </p:to>
                                    </p:set>
                                    <p:animEffect filter="wipe(left)" transition="in">
                                      <p:cBhvr additive="repl">
                                        <p:cTn id="848" dur="500"/>
                                        <p:tgtEl>
                                          <p:spTgt spid="294"/>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1">
                                  <p:stCondLst>
                                    <p:cond delay="0"/>
                                  </p:stCondLst>
                                  <p:childTnLst>
                                    <p:set>
                                      <p:cBhvr>
                                        <p:cTn id="852" dur="1" fill="hold">
                                          <p:stCondLst>
                                            <p:cond delay="0"/>
                                          </p:stCondLst>
                                        </p:cTn>
                                        <p:tgtEl>
                                          <p:spTgt spid="295"/>
                                        </p:tgtEl>
                                        <p:attrNameLst>
                                          <p:attrName>style.visibility</p:attrName>
                                        </p:attrNameLst>
                                      </p:cBhvr>
                                      <p:to>
                                        <p:strVal val="visible"/>
                                      </p:to>
                                    </p:set>
                                    <p:animEffect filter="wipe(up)" transition="in">
                                      <p:cBhvr additive="repl">
                                        <p:cTn id="853" dur="500"/>
                                        <p:tgtEl>
                                          <p:spTgt spid="295"/>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8" presetSubtype="6">
                                  <p:stCondLst>
                                    <p:cond delay="0"/>
                                  </p:stCondLst>
                                  <p:childTnLst>
                                    <p:set>
                                      <p:cBhvr>
                                        <p:cTn id="857" dur="1" fill="hold">
                                          <p:stCondLst>
                                            <p:cond delay="0"/>
                                          </p:stCondLst>
                                        </p:cTn>
                                        <p:tgtEl>
                                          <p:spTgt spid="296"/>
                                        </p:tgtEl>
                                        <p:attrNameLst>
                                          <p:attrName>style.visibility</p:attrName>
                                        </p:attrNameLst>
                                      </p:cBhvr>
                                      <p:to>
                                        <p:strVal val="visible"/>
                                      </p:to>
                                    </p:set>
                                    <p:animEffect filter="strips(downRight)" transition="in">
                                      <p:cBhvr additive="repl">
                                        <p:cTn id="858" dur="500"/>
                                        <p:tgtEl>
                                          <p:spTgt spid="296"/>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297"/>
                                        </p:tgtEl>
                                        <p:attrNameLst>
                                          <p:attrName>style.visibility</p:attrName>
                                        </p:attrNameLst>
                                      </p:cBhvr>
                                      <p:to>
                                        <p:strVal val="visible"/>
                                      </p:to>
                                    </p:set>
                                    <p:animEffect filter="wipe(left)" transition="in">
                                      <p:cBhvr additive="repl">
                                        <p:cTn id="863" dur="500"/>
                                        <p:tgtEl>
                                          <p:spTgt spid="297"/>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2" presetSubtype="8">
                                  <p:stCondLst>
                                    <p:cond delay="0"/>
                                  </p:stCondLst>
                                  <p:childTnLst>
                                    <p:set>
                                      <p:cBhvr>
                                        <p:cTn id="867" dur="1" fill="hold">
                                          <p:stCondLst>
                                            <p:cond delay="0"/>
                                          </p:stCondLst>
                                        </p:cTn>
                                        <p:tgtEl>
                                          <p:spTgt spid="304"/>
                                        </p:tgtEl>
                                        <p:attrNameLst>
                                          <p:attrName>style.visibility</p:attrName>
                                        </p:attrNameLst>
                                      </p:cBhvr>
                                      <p:to>
                                        <p:strVal val="visible"/>
                                      </p:to>
                                    </p:set>
                                    <p:animEffect filter="wipe(left)" transition="in">
                                      <p:cBhvr additive="repl">
                                        <p:cTn id="868" dur="500"/>
                                        <p:tgtEl>
                                          <p:spTgt spid="304"/>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2" presetSubtype="1">
                                  <p:stCondLst>
                                    <p:cond delay="0"/>
                                  </p:stCondLst>
                                  <p:childTnLst>
                                    <p:set>
                                      <p:cBhvr>
                                        <p:cTn id="872" dur="1" fill="hold">
                                          <p:stCondLst>
                                            <p:cond delay="0"/>
                                          </p:stCondLst>
                                        </p:cTn>
                                        <p:tgtEl>
                                          <p:spTgt spid="305"/>
                                        </p:tgtEl>
                                        <p:attrNameLst>
                                          <p:attrName>style.visibility</p:attrName>
                                        </p:attrNameLst>
                                      </p:cBhvr>
                                      <p:to>
                                        <p:strVal val="visible"/>
                                      </p:to>
                                    </p:set>
                                    <p:animEffect filter="wipe(up)" transition="in">
                                      <p:cBhvr additive="repl">
                                        <p:cTn id="873" dur="500"/>
                                        <p:tgtEl>
                                          <p:spTgt spid="305"/>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298"/>
                                        </p:tgtEl>
                                        <p:attrNameLst>
                                          <p:attrName>style.visibility</p:attrName>
                                        </p:attrNameLst>
                                      </p:cBhvr>
                                      <p:to>
                                        <p:strVal val="visible"/>
                                      </p:to>
                                    </p:set>
                                    <p:animEffect filter="wipe(left)" transition="in">
                                      <p:cBhvr additive="repl">
                                        <p:cTn id="878" dur="500"/>
                                        <p:tgtEl>
                                          <p:spTgt spid="29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299"/>
                                        </p:tgtEl>
                                        <p:attrNameLst>
                                          <p:attrName>style.visibility</p:attrName>
                                        </p:attrNameLst>
                                      </p:cBhvr>
                                      <p:to>
                                        <p:strVal val="visible"/>
                                      </p:to>
                                    </p:set>
                                    <p:animEffect filter="wipe(left)" transition="in">
                                      <p:cBhvr additive="repl">
                                        <p:cTn id="883" dur="500"/>
                                        <p:tgtEl>
                                          <p:spTgt spid="299"/>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2" presetSubtype="1">
                                  <p:stCondLst>
                                    <p:cond delay="0"/>
                                  </p:stCondLst>
                                  <p:childTnLst>
                                    <p:set>
                                      <p:cBhvr>
                                        <p:cTn id="887" dur="1" fill="hold">
                                          <p:stCondLst>
                                            <p:cond delay="0"/>
                                          </p:stCondLst>
                                        </p:cTn>
                                        <p:tgtEl>
                                          <p:spTgt spid="300"/>
                                        </p:tgtEl>
                                        <p:attrNameLst>
                                          <p:attrName>style.visibility</p:attrName>
                                        </p:attrNameLst>
                                      </p:cBhvr>
                                      <p:to>
                                        <p:strVal val="visible"/>
                                      </p:to>
                                    </p:set>
                                    <p:animEffect filter="wipe(up)" transition="in">
                                      <p:cBhvr additive="repl">
                                        <p:cTn id="888" dur="500"/>
                                        <p:tgtEl>
                                          <p:spTgt spid="300"/>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2" presetSubtype="8">
                                  <p:stCondLst>
                                    <p:cond delay="0"/>
                                  </p:stCondLst>
                                  <p:childTnLst>
                                    <p:set>
                                      <p:cBhvr>
                                        <p:cTn id="892" dur="1" fill="hold">
                                          <p:stCondLst>
                                            <p:cond delay="0"/>
                                          </p:stCondLst>
                                        </p:cTn>
                                        <p:tgtEl>
                                          <p:spTgt spid="301"/>
                                        </p:tgtEl>
                                        <p:attrNameLst>
                                          <p:attrName>style.visibility</p:attrName>
                                        </p:attrNameLst>
                                      </p:cBhvr>
                                      <p:to>
                                        <p:strVal val="visible"/>
                                      </p:to>
                                    </p:set>
                                    <p:animEffect filter="wipe(left)" transition="in">
                                      <p:cBhvr additive="repl">
                                        <p:cTn id="893" dur="500"/>
                                        <p:tgtEl>
                                          <p:spTgt spid="301"/>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2" presetSubtype="8">
                                  <p:stCondLst>
                                    <p:cond delay="0"/>
                                  </p:stCondLst>
                                  <p:childTnLst>
                                    <p:set>
                                      <p:cBhvr>
                                        <p:cTn id="897" dur="1" fill="hold">
                                          <p:stCondLst>
                                            <p:cond delay="0"/>
                                          </p:stCondLst>
                                        </p:cTn>
                                        <p:tgtEl>
                                          <p:spTgt spid="302"/>
                                        </p:tgtEl>
                                        <p:attrNameLst>
                                          <p:attrName>style.visibility</p:attrName>
                                        </p:attrNameLst>
                                      </p:cBhvr>
                                      <p:to>
                                        <p:strVal val="visible"/>
                                      </p:to>
                                    </p:set>
                                    <p:animEffect filter="wipe(left)" transition="in">
                                      <p:cBhvr additive="repl">
                                        <p:cTn id="898" dur="500"/>
                                        <p:tgtEl>
                                          <p:spTgt spid="302"/>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1">
                                  <p:stCondLst>
                                    <p:cond delay="0"/>
                                  </p:stCondLst>
                                  <p:childTnLst>
                                    <p:set>
                                      <p:cBhvr>
                                        <p:cTn id="902" dur="1" fill="hold">
                                          <p:stCondLst>
                                            <p:cond delay="0"/>
                                          </p:stCondLst>
                                        </p:cTn>
                                        <p:tgtEl>
                                          <p:spTgt spid="303"/>
                                        </p:tgtEl>
                                        <p:attrNameLst>
                                          <p:attrName>style.visibility</p:attrName>
                                        </p:attrNameLst>
                                      </p:cBhvr>
                                      <p:to>
                                        <p:strVal val="visible"/>
                                      </p:to>
                                    </p:set>
                                    <p:animEffect filter="wipe(up)" transition="in">
                                      <p:cBhvr additive="repl">
                                        <p:cTn id="903" dur="500"/>
                                        <p:tgtEl>
                                          <p:spTgt spid="303"/>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3" presetSubtype="16">
                                  <p:stCondLst>
                                    <p:cond delay="0"/>
                                  </p:stCondLst>
                                  <p:childTnLst>
                                    <p:set>
                                      <p:cBhvr>
                                        <p:cTn id="907" dur="1" fill="hold">
                                          <p:stCondLst>
                                            <p:cond delay="0"/>
                                          </p:stCondLst>
                                        </p:cTn>
                                        <p:tgtEl>
                                          <p:spTgt spid="290"/>
                                        </p:tgtEl>
                                        <p:attrNameLst>
                                          <p:attrName>style.visibility</p:attrName>
                                        </p:attrNameLst>
                                      </p:cBhvr>
                                      <p:to>
                                        <p:strVal val="visible"/>
                                      </p:to>
                                    </p:set>
                                    <p:anim calcmode="lin" valueType="num">
                                      <p:cBhvr additive="repl">
                                        <p:cTn id="908" dur="500" fill="hold"/>
                                        <p:tgtEl>
                                          <p:spTgt spid="290"/>
                                        </p:tgtEl>
                                        <p:attrNameLst>
                                          <p:attrName>ppt_w</p:attrName>
                                        </p:attrNameLst>
                                      </p:cBhvr>
                                      <p:tavLst>
                                        <p:tav tm="0">
                                          <p:val>
                                            <p:fltVal val="0"/>
                                          </p:val>
                                        </p:tav>
                                        <p:tav tm="100000">
                                          <p:val>
                                            <p:strVal val="#ppt_w"/>
                                          </p:val>
                                        </p:tav>
                                      </p:tavLst>
                                    </p:anim>
                                    <p:anim calcmode="lin" valueType="num">
                                      <p:cBhvr additive="repl">
                                        <p:cTn id="909" dur="500" fill="hold"/>
                                        <p:tgtEl>
                                          <p:spTgt spid="290"/>
                                        </p:tgtEl>
                                        <p:attrNameLst>
                                          <p:attrName>ppt_h</p:attrName>
                                        </p:attrNameLst>
                                      </p:cBhvr>
                                      <p:tavLst>
                                        <p:tav tm="0">
                                          <p:val>
                                            <p:fltVal val="0"/>
                                          </p:val>
                                        </p:tav>
                                        <p:tav tm="100000">
                                          <p:val>
                                            <p:strVal val="#ppt_h"/>
                                          </p:val>
                                        </p:tav>
                                      </p:tavLst>
                                    </p:anim>
                                    <p:animEffect filter="fade" transition="in">
                                      <p:cBhvr additive="repl">
                                        <p:cTn id="91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6"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7"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湛</a:t>
            </a:r>
            <a:endParaRPr b="0" lang="en-US" sz="8000" spc="-1" strike="noStrike">
              <a:solidFill>
                <a:srgbClr val="000000"/>
              </a:solidFill>
              <a:latin typeface="Calibri"/>
            </a:endParaRPr>
          </a:p>
        </p:txBody>
      </p:sp>
      <p:grpSp>
        <p:nvGrpSpPr>
          <p:cNvPr id="308" name="组合 3"/>
          <p:cNvGrpSpPr/>
          <p:nvPr/>
        </p:nvGrpSpPr>
        <p:grpSpPr>
          <a:xfrm>
            <a:off x="1400040" y="3975120"/>
            <a:ext cx="2840040" cy="1571760"/>
            <a:chOff x="1400040" y="3975120"/>
            <a:chExt cx="2840040" cy="1571760"/>
          </a:xfrm>
        </p:grpSpPr>
        <p:pic>
          <p:nvPicPr>
            <p:cNvPr id="309" name="图示 4" descr=""/>
            <p:cNvPicPr/>
            <p:nvPr/>
          </p:nvPicPr>
          <p:blipFill>
            <a:blip r:embed="rId1"/>
            <a:stretch/>
          </p:blipFill>
          <p:spPr>
            <a:xfrm>
              <a:off x="1400040" y="3975120"/>
              <a:ext cx="2840040" cy="1571760"/>
            </a:xfrm>
            <a:prstGeom prst="rect">
              <a:avLst/>
            </a:prstGeom>
            <a:ln w="0">
              <a:noFill/>
            </a:ln>
          </p:spPr>
        </p:pic>
        <p:sp>
          <p:nvSpPr>
            <p:cNvPr id="310" name="矩形 2"/>
            <p:cNvSpPr/>
            <p:nvPr/>
          </p:nvSpPr>
          <p:spPr>
            <a:xfrm>
              <a:off x="1444680" y="4587840"/>
              <a:ext cx="27666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甚”竖折起笔偏左。</a:t>
              </a:r>
              <a:endParaRPr b="0" lang="en-US" sz="2000" spc="-1" strike="noStrike">
                <a:solidFill>
                  <a:srgbClr val="000000"/>
                </a:solidFill>
                <a:latin typeface="Calibri"/>
              </a:endParaRPr>
            </a:p>
          </p:txBody>
        </p:sp>
      </p:grpSp>
      <p:sp>
        <p:nvSpPr>
          <p:cNvPr id="311" name="矩形 2"/>
          <p:cNvSpPr/>
          <p:nvPr/>
        </p:nvSpPr>
        <p:spPr>
          <a:xfrm>
            <a:off x="1955880" y="1825560"/>
            <a:ext cx="1455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zhàn</a:t>
            </a:r>
            <a:endParaRPr b="0" lang="en-US" sz="4800" spc="-1" strike="noStrike">
              <a:solidFill>
                <a:srgbClr val="000000"/>
              </a:solidFill>
              <a:latin typeface="Calibri"/>
            </a:endParaRPr>
          </a:p>
        </p:txBody>
      </p:sp>
      <p:sp>
        <p:nvSpPr>
          <p:cNvPr id="312" name="Freeform 84"/>
          <p:cNvSpPr/>
          <p:nvPr/>
        </p:nvSpPr>
        <p:spPr>
          <a:xfrm>
            <a:off x="6440400" y="2971800"/>
            <a:ext cx="231840" cy="1306440"/>
          </a:xfrm>
          <a:custGeom>
            <a:avLst/>
            <a:gdLst/>
            <a:ahLst/>
            <a:rect l="l" t="t" r="r" b="b"/>
            <a:pathLst>
              <a:path w="437" h="2470">
                <a:moveTo>
                  <a:pt x="164" y="497"/>
                </a:moveTo>
                <a:lnTo>
                  <a:pt x="162" y="477"/>
                </a:lnTo>
                <a:lnTo>
                  <a:pt x="159" y="456"/>
                </a:lnTo>
                <a:lnTo>
                  <a:pt x="158" y="438"/>
                </a:lnTo>
                <a:lnTo>
                  <a:pt x="155" y="420"/>
                </a:lnTo>
                <a:lnTo>
                  <a:pt x="154" y="402"/>
                </a:lnTo>
                <a:lnTo>
                  <a:pt x="151" y="384"/>
                </a:lnTo>
                <a:lnTo>
                  <a:pt x="148" y="369"/>
                </a:lnTo>
                <a:lnTo>
                  <a:pt x="145" y="351"/>
                </a:lnTo>
                <a:lnTo>
                  <a:pt x="144" y="336"/>
                </a:lnTo>
                <a:lnTo>
                  <a:pt x="141" y="321"/>
                </a:lnTo>
                <a:lnTo>
                  <a:pt x="138" y="305"/>
                </a:lnTo>
                <a:lnTo>
                  <a:pt x="135" y="292"/>
                </a:lnTo>
                <a:lnTo>
                  <a:pt x="132" y="278"/>
                </a:lnTo>
                <a:lnTo>
                  <a:pt x="128" y="265"/>
                </a:lnTo>
                <a:lnTo>
                  <a:pt x="125" y="252"/>
                </a:lnTo>
                <a:lnTo>
                  <a:pt x="122" y="240"/>
                </a:lnTo>
                <a:lnTo>
                  <a:pt x="119" y="229"/>
                </a:lnTo>
                <a:lnTo>
                  <a:pt x="116" y="217"/>
                </a:lnTo>
                <a:lnTo>
                  <a:pt x="112" y="207"/>
                </a:lnTo>
                <a:lnTo>
                  <a:pt x="109" y="197"/>
                </a:lnTo>
                <a:lnTo>
                  <a:pt x="105" y="189"/>
                </a:lnTo>
                <a:lnTo>
                  <a:pt x="102" y="180"/>
                </a:lnTo>
                <a:lnTo>
                  <a:pt x="99" y="171"/>
                </a:lnTo>
                <a:lnTo>
                  <a:pt x="95" y="164"/>
                </a:lnTo>
                <a:lnTo>
                  <a:pt x="92" y="158"/>
                </a:lnTo>
                <a:lnTo>
                  <a:pt x="87" y="151"/>
                </a:lnTo>
                <a:lnTo>
                  <a:pt x="85" y="147"/>
                </a:lnTo>
                <a:lnTo>
                  <a:pt x="80" y="141"/>
                </a:lnTo>
                <a:lnTo>
                  <a:pt x="77" y="137"/>
                </a:lnTo>
                <a:lnTo>
                  <a:pt x="73" y="134"/>
                </a:lnTo>
                <a:lnTo>
                  <a:pt x="70" y="131"/>
                </a:lnTo>
                <a:lnTo>
                  <a:pt x="66" y="130"/>
                </a:lnTo>
                <a:lnTo>
                  <a:pt x="56" y="125"/>
                </a:lnTo>
                <a:lnTo>
                  <a:pt x="46" y="121"/>
                </a:lnTo>
                <a:lnTo>
                  <a:pt x="37" y="118"/>
                </a:lnTo>
                <a:lnTo>
                  <a:pt x="30" y="114"/>
                </a:lnTo>
                <a:lnTo>
                  <a:pt x="23" y="109"/>
                </a:lnTo>
                <a:lnTo>
                  <a:pt x="17" y="105"/>
                </a:lnTo>
                <a:lnTo>
                  <a:pt x="11" y="99"/>
                </a:lnTo>
                <a:lnTo>
                  <a:pt x="8" y="95"/>
                </a:lnTo>
                <a:lnTo>
                  <a:pt x="4" y="89"/>
                </a:lnTo>
                <a:lnTo>
                  <a:pt x="3" y="82"/>
                </a:lnTo>
                <a:lnTo>
                  <a:pt x="1" y="76"/>
                </a:lnTo>
                <a:lnTo>
                  <a:pt x="0" y="69"/>
                </a:lnTo>
                <a:lnTo>
                  <a:pt x="1" y="61"/>
                </a:lnTo>
                <a:lnTo>
                  <a:pt x="3" y="52"/>
                </a:lnTo>
                <a:lnTo>
                  <a:pt x="4" y="42"/>
                </a:lnTo>
                <a:lnTo>
                  <a:pt x="8" y="32"/>
                </a:lnTo>
                <a:lnTo>
                  <a:pt x="11" y="25"/>
                </a:lnTo>
                <a:lnTo>
                  <a:pt x="17" y="19"/>
                </a:lnTo>
                <a:lnTo>
                  <a:pt x="23" y="14"/>
                </a:lnTo>
                <a:lnTo>
                  <a:pt x="30" y="10"/>
                </a:lnTo>
                <a:lnTo>
                  <a:pt x="39" y="6"/>
                </a:lnTo>
                <a:lnTo>
                  <a:pt x="49" y="3"/>
                </a:lnTo>
                <a:lnTo>
                  <a:pt x="59" y="2"/>
                </a:lnTo>
                <a:lnTo>
                  <a:pt x="70" y="0"/>
                </a:lnTo>
                <a:lnTo>
                  <a:pt x="85" y="0"/>
                </a:lnTo>
                <a:lnTo>
                  <a:pt x="92" y="0"/>
                </a:lnTo>
                <a:lnTo>
                  <a:pt x="99" y="0"/>
                </a:lnTo>
                <a:lnTo>
                  <a:pt x="108" y="0"/>
                </a:lnTo>
                <a:lnTo>
                  <a:pt x="116" y="0"/>
                </a:lnTo>
                <a:lnTo>
                  <a:pt x="125" y="2"/>
                </a:lnTo>
                <a:lnTo>
                  <a:pt x="134" y="2"/>
                </a:lnTo>
                <a:lnTo>
                  <a:pt x="144" y="3"/>
                </a:lnTo>
                <a:lnTo>
                  <a:pt x="154" y="4"/>
                </a:lnTo>
                <a:lnTo>
                  <a:pt x="164" y="6"/>
                </a:lnTo>
                <a:lnTo>
                  <a:pt x="174" y="6"/>
                </a:lnTo>
                <a:lnTo>
                  <a:pt x="185" y="7"/>
                </a:lnTo>
                <a:lnTo>
                  <a:pt x="197" y="10"/>
                </a:lnTo>
                <a:lnTo>
                  <a:pt x="210" y="12"/>
                </a:lnTo>
                <a:lnTo>
                  <a:pt x="223" y="13"/>
                </a:lnTo>
                <a:lnTo>
                  <a:pt x="243" y="20"/>
                </a:lnTo>
                <a:lnTo>
                  <a:pt x="263" y="27"/>
                </a:lnTo>
                <a:lnTo>
                  <a:pt x="282" y="35"/>
                </a:lnTo>
                <a:lnTo>
                  <a:pt x="299" y="42"/>
                </a:lnTo>
                <a:lnTo>
                  <a:pt x="315" y="49"/>
                </a:lnTo>
                <a:lnTo>
                  <a:pt x="331" y="56"/>
                </a:lnTo>
                <a:lnTo>
                  <a:pt x="344" y="62"/>
                </a:lnTo>
                <a:lnTo>
                  <a:pt x="357" y="69"/>
                </a:lnTo>
                <a:lnTo>
                  <a:pt x="368" y="75"/>
                </a:lnTo>
                <a:lnTo>
                  <a:pt x="378" y="81"/>
                </a:lnTo>
                <a:lnTo>
                  <a:pt x="387" y="86"/>
                </a:lnTo>
                <a:lnTo>
                  <a:pt x="396" y="92"/>
                </a:lnTo>
                <a:lnTo>
                  <a:pt x="403" y="97"/>
                </a:lnTo>
                <a:lnTo>
                  <a:pt x="409" y="101"/>
                </a:lnTo>
                <a:lnTo>
                  <a:pt x="413" y="105"/>
                </a:lnTo>
                <a:lnTo>
                  <a:pt x="417" y="109"/>
                </a:lnTo>
                <a:lnTo>
                  <a:pt x="419" y="114"/>
                </a:lnTo>
                <a:lnTo>
                  <a:pt x="420" y="118"/>
                </a:lnTo>
                <a:lnTo>
                  <a:pt x="421" y="122"/>
                </a:lnTo>
                <a:lnTo>
                  <a:pt x="423" y="128"/>
                </a:lnTo>
                <a:lnTo>
                  <a:pt x="424" y="134"/>
                </a:lnTo>
                <a:lnTo>
                  <a:pt x="426" y="140"/>
                </a:lnTo>
                <a:lnTo>
                  <a:pt x="427" y="147"/>
                </a:lnTo>
                <a:lnTo>
                  <a:pt x="429" y="154"/>
                </a:lnTo>
                <a:lnTo>
                  <a:pt x="430" y="161"/>
                </a:lnTo>
                <a:lnTo>
                  <a:pt x="430" y="169"/>
                </a:lnTo>
                <a:lnTo>
                  <a:pt x="432" y="177"/>
                </a:lnTo>
                <a:lnTo>
                  <a:pt x="432" y="187"/>
                </a:lnTo>
                <a:lnTo>
                  <a:pt x="433" y="196"/>
                </a:lnTo>
                <a:lnTo>
                  <a:pt x="433" y="206"/>
                </a:lnTo>
                <a:lnTo>
                  <a:pt x="434" y="217"/>
                </a:lnTo>
                <a:lnTo>
                  <a:pt x="434" y="228"/>
                </a:lnTo>
                <a:lnTo>
                  <a:pt x="434" y="239"/>
                </a:lnTo>
                <a:lnTo>
                  <a:pt x="436" y="252"/>
                </a:lnTo>
                <a:lnTo>
                  <a:pt x="436" y="265"/>
                </a:lnTo>
                <a:lnTo>
                  <a:pt x="436" y="278"/>
                </a:lnTo>
                <a:lnTo>
                  <a:pt x="436" y="291"/>
                </a:lnTo>
                <a:lnTo>
                  <a:pt x="436" y="305"/>
                </a:lnTo>
                <a:lnTo>
                  <a:pt x="437" y="320"/>
                </a:lnTo>
                <a:lnTo>
                  <a:pt x="437" y="336"/>
                </a:lnTo>
                <a:lnTo>
                  <a:pt x="437" y="351"/>
                </a:lnTo>
                <a:lnTo>
                  <a:pt x="437" y="367"/>
                </a:lnTo>
                <a:lnTo>
                  <a:pt x="437" y="384"/>
                </a:lnTo>
                <a:lnTo>
                  <a:pt x="437" y="402"/>
                </a:lnTo>
                <a:lnTo>
                  <a:pt x="437" y="420"/>
                </a:lnTo>
                <a:lnTo>
                  <a:pt x="437" y="439"/>
                </a:lnTo>
                <a:lnTo>
                  <a:pt x="437" y="458"/>
                </a:lnTo>
                <a:lnTo>
                  <a:pt x="437" y="478"/>
                </a:lnTo>
                <a:lnTo>
                  <a:pt x="436" y="498"/>
                </a:lnTo>
                <a:lnTo>
                  <a:pt x="434" y="523"/>
                </a:lnTo>
                <a:lnTo>
                  <a:pt x="433" y="549"/>
                </a:lnTo>
                <a:lnTo>
                  <a:pt x="432" y="577"/>
                </a:lnTo>
                <a:lnTo>
                  <a:pt x="430" y="609"/>
                </a:lnTo>
                <a:lnTo>
                  <a:pt x="429" y="644"/>
                </a:lnTo>
                <a:lnTo>
                  <a:pt x="427" y="681"/>
                </a:lnTo>
                <a:lnTo>
                  <a:pt x="426" y="720"/>
                </a:lnTo>
                <a:lnTo>
                  <a:pt x="424" y="763"/>
                </a:lnTo>
                <a:lnTo>
                  <a:pt x="424" y="808"/>
                </a:lnTo>
                <a:lnTo>
                  <a:pt x="423" y="855"/>
                </a:lnTo>
                <a:lnTo>
                  <a:pt x="423" y="906"/>
                </a:lnTo>
                <a:lnTo>
                  <a:pt x="421" y="957"/>
                </a:lnTo>
                <a:lnTo>
                  <a:pt x="421" y="1014"/>
                </a:lnTo>
                <a:lnTo>
                  <a:pt x="420" y="1071"/>
                </a:lnTo>
                <a:lnTo>
                  <a:pt x="420" y="1133"/>
                </a:lnTo>
                <a:lnTo>
                  <a:pt x="420" y="1196"/>
                </a:lnTo>
                <a:lnTo>
                  <a:pt x="419" y="1263"/>
                </a:lnTo>
                <a:lnTo>
                  <a:pt x="419" y="1330"/>
                </a:lnTo>
                <a:lnTo>
                  <a:pt x="419" y="1402"/>
                </a:lnTo>
                <a:lnTo>
                  <a:pt x="419" y="1476"/>
                </a:lnTo>
                <a:lnTo>
                  <a:pt x="419" y="1553"/>
                </a:lnTo>
                <a:lnTo>
                  <a:pt x="417" y="1633"/>
                </a:lnTo>
                <a:lnTo>
                  <a:pt x="417" y="1715"/>
                </a:lnTo>
                <a:lnTo>
                  <a:pt x="417" y="1800"/>
                </a:lnTo>
                <a:lnTo>
                  <a:pt x="417" y="1887"/>
                </a:lnTo>
                <a:lnTo>
                  <a:pt x="417" y="1978"/>
                </a:lnTo>
                <a:lnTo>
                  <a:pt x="417" y="2070"/>
                </a:lnTo>
                <a:lnTo>
                  <a:pt x="417" y="2167"/>
                </a:lnTo>
                <a:lnTo>
                  <a:pt x="417" y="2265"/>
                </a:lnTo>
                <a:lnTo>
                  <a:pt x="417" y="2365"/>
                </a:lnTo>
                <a:lnTo>
                  <a:pt x="417" y="2470"/>
                </a:lnTo>
                <a:lnTo>
                  <a:pt x="319" y="2470"/>
                </a:lnTo>
                <a:lnTo>
                  <a:pt x="223" y="2470"/>
                </a:lnTo>
                <a:lnTo>
                  <a:pt x="221" y="2368"/>
                </a:lnTo>
                <a:lnTo>
                  <a:pt x="221" y="2269"/>
                </a:lnTo>
                <a:lnTo>
                  <a:pt x="221" y="2171"/>
                </a:lnTo>
                <a:lnTo>
                  <a:pt x="221" y="2077"/>
                </a:lnTo>
                <a:lnTo>
                  <a:pt x="221" y="1985"/>
                </a:lnTo>
                <a:lnTo>
                  <a:pt x="220" y="1896"/>
                </a:lnTo>
                <a:lnTo>
                  <a:pt x="220" y="1810"/>
                </a:lnTo>
                <a:lnTo>
                  <a:pt x="218" y="1726"/>
                </a:lnTo>
                <a:lnTo>
                  <a:pt x="217" y="1646"/>
                </a:lnTo>
                <a:lnTo>
                  <a:pt x="216" y="1566"/>
                </a:lnTo>
                <a:lnTo>
                  <a:pt x="216" y="1490"/>
                </a:lnTo>
                <a:lnTo>
                  <a:pt x="214" y="1417"/>
                </a:lnTo>
                <a:lnTo>
                  <a:pt x="213" y="1346"/>
                </a:lnTo>
                <a:lnTo>
                  <a:pt x="211" y="1278"/>
                </a:lnTo>
                <a:lnTo>
                  <a:pt x="208" y="1212"/>
                </a:lnTo>
                <a:lnTo>
                  <a:pt x="207" y="1149"/>
                </a:lnTo>
                <a:lnTo>
                  <a:pt x="206" y="1088"/>
                </a:lnTo>
                <a:lnTo>
                  <a:pt x="203" y="1031"/>
                </a:lnTo>
                <a:lnTo>
                  <a:pt x="201" y="976"/>
                </a:lnTo>
                <a:lnTo>
                  <a:pt x="198" y="923"/>
                </a:lnTo>
                <a:lnTo>
                  <a:pt x="197" y="874"/>
                </a:lnTo>
                <a:lnTo>
                  <a:pt x="194" y="826"/>
                </a:lnTo>
                <a:lnTo>
                  <a:pt x="191" y="782"/>
                </a:lnTo>
                <a:lnTo>
                  <a:pt x="190" y="739"/>
                </a:lnTo>
                <a:lnTo>
                  <a:pt x="187" y="700"/>
                </a:lnTo>
                <a:lnTo>
                  <a:pt x="184" y="662"/>
                </a:lnTo>
                <a:lnTo>
                  <a:pt x="181" y="629"/>
                </a:lnTo>
                <a:lnTo>
                  <a:pt x="177" y="598"/>
                </a:lnTo>
                <a:lnTo>
                  <a:pt x="174" y="567"/>
                </a:lnTo>
                <a:lnTo>
                  <a:pt x="171" y="541"/>
                </a:lnTo>
                <a:lnTo>
                  <a:pt x="167" y="517"/>
                </a:lnTo>
                <a:lnTo>
                  <a:pt x="164" y="49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Freeform 85"/>
          <p:cNvSpPr/>
          <p:nvPr/>
        </p:nvSpPr>
        <p:spPr>
          <a:xfrm>
            <a:off x="7016760" y="2819520"/>
            <a:ext cx="223920" cy="1407960"/>
          </a:xfrm>
          <a:custGeom>
            <a:avLst/>
            <a:gdLst/>
            <a:ahLst/>
            <a:rect l="l" t="t" r="r" b="b"/>
            <a:pathLst>
              <a:path w="423" h="2662">
                <a:moveTo>
                  <a:pt x="33" y="127"/>
                </a:moveTo>
                <a:lnTo>
                  <a:pt x="26" y="123"/>
                </a:lnTo>
                <a:lnTo>
                  <a:pt x="20" y="118"/>
                </a:lnTo>
                <a:lnTo>
                  <a:pt x="14" y="114"/>
                </a:lnTo>
                <a:lnTo>
                  <a:pt x="10" y="108"/>
                </a:lnTo>
                <a:lnTo>
                  <a:pt x="7" y="104"/>
                </a:lnTo>
                <a:lnTo>
                  <a:pt x="4" y="98"/>
                </a:lnTo>
                <a:lnTo>
                  <a:pt x="1" y="91"/>
                </a:lnTo>
                <a:lnTo>
                  <a:pt x="1" y="85"/>
                </a:lnTo>
                <a:lnTo>
                  <a:pt x="0" y="79"/>
                </a:lnTo>
                <a:lnTo>
                  <a:pt x="0" y="72"/>
                </a:lnTo>
                <a:lnTo>
                  <a:pt x="1" y="65"/>
                </a:lnTo>
                <a:lnTo>
                  <a:pt x="3" y="58"/>
                </a:lnTo>
                <a:lnTo>
                  <a:pt x="4" y="52"/>
                </a:lnTo>
                <a:lnTo>
                  <a:pt x="7" y="45"/>
                </a:lnTo>
                <a:lnTo>
                  <a:pt x="10" y="38"/>
                </a:lnTo>
                <a:lnTo>
                  <a:pt x="13" y="30"/>
                </a:lnTo>
                <a:lnTo>
                  <a:pt x="17" y="23"/>
                </a:lnTo>
                <a:lnTo>
                  <a:pt x="22" y="17"/>
                </a:lnTo>
                <a:lnTo>
                  <a:pt x="27" y="12"/>
                </a:lnTo>
                <a:lnTo>
                  <a:pt x="35" y="7"/>
                </a:lnTo>
                <a:lnTo>
                  <a:pt x="43" y="4"/>
                </a:lnTo>
                <a:lnTo>
                  <a:pt x="53" y="2"/>
                </a:lnTo>
                <a:lnTo>
                  <a:pt x="63" y="0"/>
                </a:lnTo>
                <a:lnTo>
                  <a:pt x="76" y="0"/>
                </a:lnTo>
                <a:lnTo>
                  <a:pt x="89" y="0"/>
                </a:lnTo>
                <a:lnTo>
                  <a:pt x="96" y="2"/>
                </a:lnTo>
                <a:lnTo>
                  <a:pt x="105" y="2"/>
                </a:lnTo>
                <a:lnTo>
                  <a:pt x="112" y="3"/>
                </a:lnTo>
                <a:lnTo>
                  <a:pt x="121" y="4"/>
                </a:lnTo>
                <a:lnTo>
                  <a:pt x="130" y="6"/>
                </a:lnTo>
                <a:lnTo>
                  <a:pt x="138" y="7"/>
                </a:lnTo>
                <a:lnTo>
                  <a:pt x="148" y="9"/>
                </a:lnTo>
                <a:lnTo>
                  <a:pt x="158" y="12"/>
                </a:lnTo>
                <a:lnTo>
                  <a:pt x="168" y="15"/>
                </a:lnTo>
                <a:lnTo>
                  <a:pt x="180" y="17"/>
                </a:lnTo>
                <a:lnTo>
                  <a:pt x="191" y="20"/>
                </a:lnTo>
                <a:lnTo>
                  <a:pt x="203" y="23"/>
                </a:lnTo>
                <a:lnTo>
                  <a:pt x="214" y="26"/>
                </a:lnTo>
                <a:lnTo>
                  <a:pt x="227" y="30"/>
                </a:lnTo>
                <a:lnTo>
                  <a:pt x="240" y="35"/>
                </a:lnTo>
                <a:lnTo>
                  <a:pt x="252" y="40"/>
                </a:lnTo>
                <a:lnTo>
                  <a:pt x="263" y="46"/>
                </a:lnTo>
                <a:lnTo>
                  <a:pt x="275" y="51"/>
                </a:lnTo>
                <a:lnTo>
                  <a:pt x="285" y="56"/>
                </a:lnTo>
                <a:lnTo>
                  <a:pt x="297" y="61"/>
                </a:lnTo>
                <a:lnTo>
                  <a:pt x="305" y="65"/>
                </a:lnTo>
                <a:lnTo>
                  <a:pt x="315" y="71"/>
                </a:lnTo>
                <a:lnTo>
                  <a:pt x="324" y="75"/>
                </a:lnTo>
                <a:lnTo>
                  <a:pt x="333" y="79"/>
                </a:lnTo>
                <a:lnTo>
                  <a:pt x="341" y="84"/>
                </a:lnTo>
                <a:lnTo>
                  <a:pt x="348" y="88"/>
                </a:lnTo>
                <a:lnTo>
                  <a:pt x="357" y="91"/>
                </a:lnTo>
                <a:lnTo>
                  <a:pt x="363" y="95"/>
                </a:lnTo>
                <a:lnTo>
                  <a:pt x="370" y="99"/>
                </a:lnTo>
                <a:lnTo>
                  <a:pt x="376" y="102"/>
                </a:lnTo>
                <a:lnTo>
                  <a:pt x="381" y="107"/>
                </a:lnTo>
                <a:lnTo>
                  <a:pt x="387" y="110"/>
                </a:lnTo>
                <a:lnTo>
                  <a:pt x="392" y="112"/>
                </a:lnTo>
                <a:lnTo>
                  <a:pt x="397" y="117"/>
                </a:lnTo>
                <a:lnTo>
                  <a:pt x="400" y="120"/>
                </a:lnTo>
                <a:lnTo>
                  <a:pt x="405" y="123"/>
                </a:lnTo>
                <a:lnTo>
                  <a:pt x="409" y="125"/>
                </a:lnTo>
                <a:lnTo>
                  <a:pt x="412" y="128"/>
                </a:lnTo>
                <a:lnTo>
                  <a:pt x="415" y="131"/>
                </a:lnTo>
                <a:lnTo>
                  <a:pt x="416" y="133"/>
                </a:lnTo>
                <a:lnTo>
                  <a:pt x="417" y="135"/>
                </a:lnTo>
                <a:lnTo>
                  <a:pt x="420" y="138"/>
                </a:lnTo>
                <a:lnTo>
                  <a:pt x="422" y="141"/>
                </a:lnTo>
                <a:lnTo>
                  <a:pt x="423" y="146"/>
                </a:lnTo>
                <a:lnTo>
                  <a:pt x="423" y="153"/>
                </a:lnTo>
                <a:lnTo>
                  <a:pt x="422" y="161"/>
                </a:lnTo>
                <a:lnTo>
                  <a:pt x="422" y="171"/>
                </a:lnTo>
                <a:lnTo>
                  <a:pt x="422" y="182"/>
                </a:lnTo>
                <a:lnTo>
                  <a:pt x="422" y="193"/>
                </a:lnTo>
                <a:lnTo>
                  <a:pt x="422" y="206"/>
                </a:lnTo>
                <a:lnTo>
                  <a:pt x="420" y="219"/>
                </a:lnTo>
                <a:lnTo>
                  <a:pt x="420" y="233"/>
                </a:lnTo>
                <a:lnTo>
                  <a:pt x="419" y="248"/>
                </a:lnTo>
                <a:lnTo>
                  <a:pt x="417" y="264"/>
                </a:lnTo>
                <a:lnTo>
                  <a:pt x="416" y="281"/>
                </a:lnTo>
                <a:lnTo>
                  <a:pt x="415" y="298"/>
                </a:lnTo>
                <a:lnTo>
                  <a:pt x="412" y="317"/>
                </a:lnTo>
                <a:lnTo>
                  <a:pt x="409" y="337"/>
                </a:lnTo>
                <a:lnTo>
                  <a:pt x="406" y="357"/>
                </a:lnTo>
                <a:lnTo>
                  <a:pt x="403" y="379"/>
                </a:lnTo>
                <a:lnTo>
                  <a:pt x="402" y="393"/>
                </a:lnTo>
                <a:lnTo>
                  <a:pt x="399" y="410"/>
                </a:lnTo>
                <a:lnTo>
                  <a:pt x="397" y="432"/>
                </a:lnTo>
                <a:lnTo>
                  <a:pt x="394" y="458"/>
                </a:lnTo>
                <a:lnTo>
                  <a:pt x="392" y="487"/>
                </a:lnTo>
                <a:lnTo>
                  <a:pt x="389" y="520"/>
                </a:lnTo>
                <a:lnTo>
                  <a:pt x="386" y="556"/>
                </a:lnTo>
                <a:lnTo>
                  <a:pt x="381" y="596"/>
                </a:lnTo>
                <a:lnTo>
                  <a:pt x="379" y="639"/>
                </a:lnTo>
                <a:lnTo>
                  <a:pt x="374" y="687"/>
                </a:lnTo>
                <a:lnTo>
                  <a:pt x="371" y="737"/>
                </a:lnTo>
                <a:lnTo>
                  <a:pt x="367" y="792"/>
                </a:lnTo>
                <a:lnTo>
                  <a:pt x="363" y="851"/>
                </a:lnTo>
                <a:lnTo>
                  <a:pt x="358" y="913"/>
                </a:lnTo>
                <a:lnTo>
                  <a:pt x="354" y="979"/>
                </a:lnTo>
                <a:lnTo>
                  <a:pt x="350" y="1048"/>
                </a:lnTo>
                <a:lnTo>
                  <a:pt x="344" y="1122"/>
                </a:lnTo>
                <a:lnTo>
                  <a:pt x="340" y="1198"/>
                </a:lnTo>
                <a:lnTo>
                  <a:pt x="335" y="1279"/>
                </a:lnTo>
                <a:lnTo>
                  <a:pt x="330" y="1362"/>
                </a:lnTo>
                <a:lnTo>
                  <a:pt x="325" y="1450"/>
                </a:lnTo>
                <a:lnTo>
                  <a:pt x="320" y="1542"/>
                </a:lnTo>
                <a:lnTo>
                  <a:pt x="315" y="1637"/>
                </a:lnTo>
                <a:lnTo>
                  <a:pt x="310" y="1736"/>
                </a:lnTo>
                <a:lnTo>
                  <a:pt x="304" y="1839"/>
                </a:lnTo>
                <a:lnTo>
                  <a:pt x="299" y="1945"/>
                </a:lnTo>
                <a:lnTo>
                  <a:pt x="294" y="2054"/>
                </a:lnTo>
                <a:lnTo>
                  <a:pt x="288" y="2168"/>
                </a:lnTo>
                <a:lnTo>
                  <a:pt x="282" y="2286"/>
                </a:lnTo>
                <a:lnTo>
                  <a:pt x="278" y="2407"/>
                </a:lnTo>
                <a:lnTo>
                  <a:pt x="272" y="2532"/>
                </a:lnTo>
                <a:lnTo>
                  <a:pt x="266" y="2662"/>
                </a:lnTo>
                <a:lnTo>
                  <a:pt x="168" y="2662"/>
                </a:lnTo>
                <a:lnTo>
                  <a:pt x="72" y="2662"/>
                </a:lnTo>
                <a:lnTo>
                  <a:pt x="72" y="2658"/>
                </a:lnTo>
                <a:lnTo>
                  <a:pt x="72" y="2653"/>
                </a:lnTo>
                <a:lnTo>
                  <a:pt x="72" y="2648"/>
                </a:lnTo>
                <a:lnTo>
                  <a:pt x="72" y="2642"/>
                </a:lnTo>
                <a:lnTo>
                  <a:pt x="72" y="2635"/>
                </a:lnTo>
                <a:lnTo>
                  <a:pt x="72" y="2627"/>
                </a:lnTo>
                <a:lnTo>
                  <a:pt x="72" y="2619"/>
                </a:lnTo>
                <a:lnTo>
                  <a:pt x="72" y="2610"/>
                </a:lnTo>
                <a:lnTo>
                  <a:pt x="72" y="2600"/>
                </a:lnTo>
                <a:lnTo>
                  <a:pt x="72" y="2590"/>
                </a:lnTo>
                <a:lnTo>
                  <a:pt x="72" y="2580"/>
                </a:lnTo>
                <a:lnTo>
                  <a:pt x="72" y="2567"/>
                </a:lnTo>
                <a:lnTo>
                  <a:pt x="73" y="2555"/>
                </a:lnTo>
                <a:lnTo>
                  <a:pt x="73" y="2542"/>
                </a:lnTo>
                <a:lnTo>
                  <a:pt x="73" y="2528"/>
                </a:lnTo>
                <a:lnTo>
                  <a:pt x="73" y="2514"/>
                </a:lnTo>
                <a:lnTo>
                  <a:pt x="75" y="2498"/>
                </a:lnTo>
                <a:lnTo>
                  <a:pt x="75" y="2482"/>
                </a:lnTo>
                <a:lnTo>
                  <a:pt x="76" y="2465"/>
                </a:lnTo>
                <a:lnTo>
                  <a:pt x="76" y="2447"/>
                </a:lnTo>
                <a:lnTo>
                  <a:pt x="78" y="2430"/>
                </a:lnTo>
                <a:lnTo>
                  <a:pt x="78" y="2410"/>
                </a:lnTo>
                <a:lnTo>
                  <a:pt x="79" y="2391"/>
                </a:lnTo>
                <a:lnTo>
                  <a:pt x="79" y="2370"/>
                </a:lnTo>
                <a:lnTo>
                  <a:pt x="81" y="2348"/>
                </a:lnTo>
                <a:lnTo>
                  <a:pt x="82" y="2327"/>
                </a:lnTo>
                <a:lnTo>
                  <a:pt x="83" y="2304"/>
                </a:lnTo>
                <a:lnTo>
                  <a:pt x="85" y="2280"/>
                </a:lnTo>
                <a:lnTo>
                  <a:pt x="86" y="2256"/>
                </a:lnTo>
                <a:lnTo>
                  <a:pt x="88" y="2230"/>
                </a:lnTo>
                <a:lnTo>
                  <a:pt x="89" y="2204"/>
                </a:lnTo>
                <a:lnTo>
                  <a:pt x="91" y="2178"/>
                </a:lnTo>
                <a:lnTo>
                  <a:pt x="91" y="2125"/>
                </a:lnTo>
                <a:lnTo>
                  <a:pt x="91" y="2069"/>
                </a:lnTo>
                <a:lnTo>
                  <a:pt x="91" y="2011"/>
                </a:lnTo>
                <a:lnTo>
                  <a:pt x="91" y="1949"/>
                </a:lnTo>
                <a:lnTo>
                  <a:pt x="92" y="1883"/>
                </a:lnTo>
                <a:lnTo>
                  <a:pt x="92" y="1815"/>
                </a:lnTo>
                <a:lnTo>
                  <a:pt x="92" y="1744"/>
                </a:lnTo>
                <a:lnTo>
                  <a:pt x="94" y="1670"/>
                </a:lnTo>
                <a:lnTo>
                  <a:pt x="95" y="1591"/>
                </a:lnTo>
                <a:lnTo>
                  <a:pt x="96" y="1510"/>
                </a:lnTo>
                <a:lnTo>
                  <a:pt x="98" y="1427"/>
                </a:lnTo>
                <a:lnTo>
                  <a:pt x="99" y="1339"/>
                </a:lnTo>
                <a:lnTo>
                  <a:pt x="101" y="1248"/>
                </a:lnTo>
                <a:lnTo>
                  <a:pt x="104" y="1155"/>
                </a:lnTo>
                <a:lnTo>
                  <a:pt x="107" y="1058"/>
                </a:lnTo>
                <a:lnTo>
                  <a:pt x="111" y="959"/>
                </a:lnTo>
                <a:lnTo>
                  <a:pt x="109" y="910"/>
                </a:lnTo>
                <a:lnTo>
                  <a:pt x="109" y="862"/>
                </a:lnTo>
                <a:lnTo>
                  <a:pt x="109" y="818"/>
                </a:lnTo>
                <a:lnTo>
                  <a:pt x="109" y="773"/>
                </a:lnTo>
                <a:lnTo>
                  <a:pt x="108" y="730"/>
                </a:lnTo>
                <a:lnTo>
                  <a:pt x="108" y="690"/>
                </a:lnTo>
                <a:lnTo>
                  <a:pt x="107" y="649"/>
                </a:lnTo>
                <a:lnTo>
                  <a:pt x="107" y="611"/>
                </a:lnTo>
                <a:lnTo>
                  <a:pt x="105" y="573"/>
                </a:lnTo>
                <a:lnTo>
                  <a:pt x="104" y="539"/>
                </a:lnTo>
                <a:lnTo>
                  <a:pt x="102" y="504"/>
                </a:lnTo>
                <a:lnTo>
                  <a:pt x="102" y="487"/>
                </a:lnTo>
                <a:lnTo>
                  <a:pt x="101" y="471"/>
                </a:lnTo>
                <a:lnTo>
                  <a:pt x="101" y="455"/>
                </a:lnTo>
                <a:lnTo>
                  <a:pt x="99" y="439"/>
                </a:lnTo>
                <a:lnTo>
                  <a:pt x="98" y="425"/>
                </a:lnTo>
                <a:lnTo>
                  <a:pt x="98" y="409"/>
                </a:lnTo>
                <a:lnTo>
                  <a:pt x="96" y="395"/>
                </a:lnTo>
                <a:lnTo>
                  <a:pt x="95" y="382"/>
                </a:lnTo>
                <a:lnTo>
                  <a:pt x="94" y="367"/>
                </a:lnTo>
                <a:lnTo>
                  <a:pt x="94" y="354"/>
                </a:lnTo>
                <a:lnTo>
                  <a:pt x="92" y="341"/>
                </a:lnTo>
                <a:lnTo>
                  <a:pt x="91" y="328"/>
                </a:lnTo>
                <a:lnTo>
                  <a:pt x="89" y="317"/>
                </a:lnTo>
                <a:lnTo>
                  <a:pt x="88" y="304"/>
                </a:lnTo>
                <a:lnTo>
                  <a:pt x="86" y="292"/>
                </a:lnTo>
                <a:lnTo>
                  <a:pt x="85" y="282"/>
                </a:lnTo>
                <a:lnTo>
                  <a:pt x="83" y="271"/>
                </a:lnTo>
                <a:lnTo>
                  <a:pt x="82" y="261"/>
                </a:lnTo>
                <a:lnTo>
                  <a:pt x="81" y="251"/>
                </a:lnTo>
                <a:lnTo>
                  <a:pt x="79" y="241"/>
                </a:lnTo>
                <a:lnTo>
                  <a:pt x="78" y="232"/>
                </a:lnTo>
                <a:lnTo>
                  <a:pt x="76" y="223"/>
                </a:lnTo>
                <a:lnTo>
                  <a:pt x="75" y="215"/>
                </a:lnTo>
                <a:lnTo>
                  <a:pt x="73" y="206"/>
                </a:lnTo>
                <a:lnTo>
                  <a:pt x="71" y="199"/>
                </a:lnTo>
                <a:lnTo>
                  <a:pt x="69" y="192"/>
                </a:lnTo>
                <a:lnTo>
                  <a:pt x="68" y="184"/>
                </a:lnTo>
                <a:lnTo>
                  <a:pt x="65" y="179"/>
                </a:lnTo>
                <a:lnTo>
                  <a:pt x="63" y="171"/>
                </a:lnTo>
                <a:lnTo>
                  <a:pt x="62" y="166"/>
                </a:lnTo>
                <a:lnTo>
                  <a:pt x="59" y="160"/>
                </a:lnTo>
                <a:lnTo>
                  <a:pt x="58" y="156"/>
                </a:lnTo>
                <a:lnTo>
                  <a:pt x="55" y="151"/>
                </a:lnTo>
                <a:lnTo>
                  <a:pt x="52" y="147"/>
                </a:lnTo>
                <a:lnTo>
                  <a:pt x="50" y="143"/>
                </a:lnTo>
                <a:lnTo>
                  <a:pt x="48" y="140"/>
                </a:lnTo>
                <a:lnTo>
                  <a:pt x="46" y="137"/>
                </a:lnTo>
                <a:lnTo>
                  <a:pt x="43" y="134"/>
                </a:lnTo>
                <a:lnTo>
                  <a:pt x="40" y="131"/>
                </a:lnTo>
                <a:lnTo>
                  <a:pt x="37" y="130"/>
                </a:lnTo>
                <a:lnTo>
                  <a:pt x="35" y="128"/>
                </a:lnTo>
                <a:lnTo>
                  <a:pt x="33" y="1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Freeform 86"/>
          <p:cNvSpPr/>
          <p:nvPr/>
        </p:nvSpPr>
        <p:spPr>
          <a:xfrm>
            <a:off x="6269040" y="3182760"/>
            <a:ext cx="1285920" cy="300240"/>
          </a:xfrm>
          <a:custGeom>
            <a:avLst/>
            <a:gdLst/>
            <a:ahLst/>
            <a:rect l="l" t="t" r="r" b="b"/>
            <a:pathLst>
              <a:path w="2428" h="566">
                <a:moveTo>
                  <a:pt x="2421" y="174"/>
                </a:moveTo>
                <a:lnTo>
                  <a:pt x="2420" y="176"/>
                </a:lnTo>
                <a:lnTo>
                  <a:pt x="2420" y="177"/>
                </a:lnTo>
                <a:lnTo>
                  <a:pt x="2418" y="180"/>
                </a:lnTo>
                <a:lnTo>
                  <a:pt x="2415" y="182"/>
                </a:lnTo>
                <a:lnTo>
                  <a:pt x="2414" y="185"/>
                </a:lnTo>
                <a:lnTo>
                  <a:pt x="2410" y="186"/>
                </a:lnTo>
                <a:lnTo>
                  <a:pt x="2407" y="189"/>
                </a:lnTo>
                <a:lnTo>
                  <a:pt x="2402" y="192"/>
                </a:lnTo>
                <a:lnTo>
                  <a:pt x="2398" y="193"/>
                </a:lnTo>
                <a:lnTo>
                  <a:pt x="2392" y="196"/>
                </a:lnTo>
                <a:lnTo>
                  <a:pt x="2387" y="199"/>
                </a:lnTo>
                <a:lnTo>
                  <a:pt x="2381" y="202"/>
                </a:lnTo>
                <a:lnTo>
                  <a:pt x="2374" y="205"/>
                </a:lnTo>
                <a:lnTo>
                  <a:pt x="2366" y="208"/>
                </a:lnTo>
                <a:lnTo>
                  <a:pt x="2358" y="209"/>
                </a:lnTo>
                <a:lnTo>
                  <a:pt x="2349" y="212"/>
                </a:lnTo>
                <a:lnTo>
                  <a:pt x="2341" y="215"/>
                </a:lnTo>
                <a:lnTo>
                  <a:pt x="2330" y="218"/>
                </a:lnTo>
                <a:lnTo>
                  <a:pt x="2322" y="221"/>
                </a:lnTo>
                <a:lnTo>
                  <a:pt x="2310" y="223"/>
                </a:lnTo>
                <a:lnTo>
                  <a:pt x="2300" y="226"/>
                </a:lnTo>
                <a:lnTo>
                  <a:pt x="2289" y="228"/>
                </a:lnTo>
                <a:lnTo>
                  <a:pt x="2276" y="231"/>
                </a:lnTo>
                <a:lnTo>
                  <a:pt x="2264" y="234"/>
                </a:lnTo>
                <a:lnTo>
                  <a:pt x="2251" y="236"/>
                </a:lnTo>
                <a:lnTo>
                  <a:pt x="2237" y="238"/>
                </a:lnTo>
                <a:lnTo>
                  <a:pt x="2224" y="241"/>
                </a:lnTo>
                <a:lnTo>
                  <a:pt x="2210" y="242"/>
                </a:lnTo>
                <a:lnTo>
                  <a:pt x="2194" y="245"/>
                </a:lnTo>
                <a:lnTo>
                  <a:pt x="2179" y="246"/>
                </a:lnTo>
                <a:lnTo>
                  <a:pt x="2163" y="249"/>
                </a:lnTo>
                <a:lnTo>
                  <a:pt x="2148" y="251"/>
                </a:lnTo>
                <a:lnTo>
                  <a:pt x="2109" y="258"/>
                </a:lnTo>
                <a:lnTo>
                  <a:pt x="2067" y="267"/>
                </a:lnTo>
                <a:lnTo>
                  <a:pt x="2021" y="275"/>
                </a:lnTo>
                <a:lnTo>
                  <a:pt x="1971" y="284"/>
                </a:lnTo>
                <a:lnTo>
                  <a:pt x="1919" y="294"/>
                </a:lnTo>
                <a:lnTo>
                  <a:pt x="1861" y="304"/>
                </a:lnTo>
                <a:lnTo>
                  <a:pt x="1801" y="314"/>
                </a:lnTo>
                <a:lnTo>
                  <a:pt x="1737" y="326"/>
                </a:lnTo>
                <a:lnTo>
                  <a:pt x="1670" y="337"/>
                </a:lnTo>
                <a:lnTo>
                  <a:pt x="1598" y="350"/>
                </a:lnTo>
                <a:lnTo>
                  <a:pt x="1523" y="365"/>
                </a:lnTo>
                <a:lnTo>
                  <a:pt x="1444" y="377"/>
                </a:lnTo>
                <a:lnTo>
                  <a:pt x="1362" y="393"/>
                </a:lnTo>
                <a:lnTo>
                  <a:pt x="1275" y="409"/>
                </a:lnTo>
                <a:lnTo>
                  <a:pt x="1186" y="426"/>
                </a:lnTo>
                <a:lnTo>
                  <a:pt x="1094" y="445"/>
                </a:lnTo>
                <a:lnTo>
                  <a:pt x="1068" y="449"/>
                </a:lnTo>
                <a:lnTo>
                  <a:pt x="1045" y="454"/>
                </a:lnTo>
                <a:lnTo>
                  <a:pt x="1020" y="458"/>
                </a:lnTo>
                <a:lnTo>
                  <a:pt x="997" y="462"/>
                </a:lnTo>
                <a:lnTo>
                  <a:pt x="974" y="467"/>
                </a:lnTo>
                <a:lnTo>
                  <a:pt x="951" y="471"/>
                </a:lnTo>
                <a:lnTo>
                  <a:pt x="930" y="474"/>
                </a:lnTo>
                <a:lnTo>
                  <a:pt x="907" y="478"/>
                </a:lnTo>
                <a:lnTo>
                  <a:pt x="885" y="483"/>
                </a:lnTo>
                <a:lnTo>
                  <a:pt x="865" y="487"/>
                </a:lnTo>
                <a:lnTo>
                  <a:pt x="843" y="490"/>
                </a:lnTo>
                <a:lnTo>
                  <a:pt x="823" y="494"/>
                </a:lnTo>
                <a:lnTo>
                  <a:pt x="803" y="497"/>
                </a:lnTo>
                <a:lnTo>
                  <a:pt x="783" y="500"/>
                </a:lnTo>
                <a:lnTo>
                  <a:pt x="745" y="507"/>
                </a:lnTo>
                <a:lnTo>
                  <a:pt x="708" y="513"/>
                </a:lnTo>
                <a:lnTo>
                  <a:pt x="672" y="519"/>
                </a:lnTo>
                <a:lnTo>
                  <a:pt x="638" y="524"/>
                </a:lnTo>
                <a:lnTo>
                  <a:pt x="606" y="530"/>
                </a:lnTo>
                <a:lnTo>
                  <a:pt x="574" y="534"/>
                </a:lnTo>
                <a:lnTo>
                  <a:pt x="544" y="539"/>
                </a:lnTo>
                <a:lnTo>
                  <a:pt x="515" y="543"/>
                </a:lnTo>
                <a:lnTo>
                  <a:pt x="488" y="547"/>
                </a:lnTo>
                <a:lnTo>
                  <a:pt x="462" y="550"/>
                </a:lnTo>
                <a:lnTo>
                  <a:pt x="437" y="553"/>
                </a:lnTo>
                <a:lnTo>
                  <a:pt x="414" y="556"/>
                </a:lnTo>
                <a:lnTo>
                  <a:pt x="393" y="559"/>
                </a:lnTo>
                <a:lnTo>
                  <a:pt x="373" y="560"/>
                </a:lnTo>
                <a:lnTo>
                  <a:pt x="352" y="562"/>
                </a:lnTo>
                <a:lnTo>
                  <a:pt x="335" y="563"/>
                </a:lnTo>
                <a:lnTo>
                  <a:pt x="319" y="565"/>
                </a:lnTo>
                <a:lnTo>
                  <a:pt x="304" y="566"/>
                </a:lnTo>
                <a:lnTo>
                  <a:pt x="289" y="566"/>
                </a:lnTo>
                <a:lnTo>
                  <a:pt x="278" y="566"/>
                </a:lnTo>
                <a:lnTo>
                  <a:pt x="266" y="566"/>
                </a:lnTo>
                <a:lnTo>
                  <a:pt x="256" y="565"/>
                </a:lnTo>
                <a:lnTo>
                  <a:pt x="247" y="563"/>
                </a:lnTo>
                <a:lnTo>
                  <a:pt x="240" y="563"/>
                </a:lnTo>
                <a:lnTo>
                  <a:pt x="233" y="560"/>
                </a:lnTo>
                <a:lnTo>
                  <a:pt x="223" y="560"/>
                </a:lnTo>
                <a:lnTo>
                  <a:pt x="211" y="559"/>
                </a:lnTo>
                <a:lnTo>
                  <a:pt x="198" y="555"/>
                </a:lnTo>
                <a:lnTo>
                  <a:pt x="185" y="550"/>
                </a:lnTo>
                <a:lnTo>
                  <a:pt x="173" y="544"/>
                </a:lnTo>
                <a:lnTo>
                  <a:pt x="160" y="537"/>
                </a:lnTo>
                <a:lnTo>
                  <a:pt x="145" y="530"/>
                </a:lnTo>
                <a:lnTo>
                  <a:pt x="131" y="520"/>
                </a:lnTo>
                <a:lnTo>
                  <a:pt x="116" y="510"/>
                </a:lnTo>
                <a:lnTo>
                  <a:pt x="101" y="498"/>
                </a:lnTo>
                <a:lnTo>
                  <a:pt x="85" y="485"/>
                </a:lnTo>
                <a:lnTo>
                  <a:pt x="69" y="471"/>
                </a:lnTo>
                <a:lnTo>
                  <a:pt x="52" y="457"/>
                </a:lnTo>
                <a:lnTo>
                  <a:pt x="36" y="441"/>
                </a:lnTo>
                <a:lnTo>
                  <a:pt x="17" y="424"/>
                </a:lnTo>
                <a:lnTo>
                  <a:pt x="0" y="406"/>
                </a:lnTo>
                <a:lnTo>
                  <a:pt x="21" y="405"/>
                </a:lnTo>
                <a:lnTo>
                  <a:pt x="43" y="402"/>
                </a:lnTo>
                <a:lnTo>
                  <a:pt x="63" y="400"/>
                </a:lnTo>
                <a:lnTo>
                  <a:pt x="83" y="399"/>
                </a:lnTo>
                <a:lnTo>
                  <a:pt x="102" y="398"/>
                </a:lnTo>
                <a:lnTo>
                  <a:pt x="121" y="395"/>
                </a:lnTo>
                <a:lnTo>
                  <a:pt x="139" y="393"/>
                </a:lnTo>
                <a:lnTo>
                  <a:pt x="157" y="392"/>
                </a:lnTo>
                <a:lnTo>
                  <a:pt x="174" y="390"/>
                </a:lnTo>
                <a:lnTo>
                  <a:pt x="191" y="389"/>
                </a:lnTo>
                <a:lnTo>
                  <a:pt x="207" y="386"/>
                </a:lnTo>
                <a:lnTo>
                  <a:pt x="221" y="385"/>
                </a:lnTo>
                <a:lnTo>
                  <a:pt x="237" y="383"/>
                </a:lnTo>
                <a:lnTo>
                  <a:pt x="252" y="382"/>
                </a:lnTo>
                <a:lnTo>
                  <a:pt x="265" y="380"/>
                </a:lnTo>
                <a:lnTo>
                  <a:pt x="278" y="379"/>
                </a:lnTo>
                <a:lnTo>
                  <a:pt x="291" y="377"/>
                </a:lnTo>
                <a:lnTo>
                  <a:pt x="302" y="376"/>
                </a:lnTo>
                <a:lnTo>
                  <a:pt x="314" y="376"/>
                </a:lnTo>
                <a:lnTo>
                  <a:pt x="324" y="375"/>
                </a:lnTo>
                <a:lnTo>
                  <a:pt x="335" y="373"/>
                </a:lnTo>
                <a:lnTo>
                  <a:pt x="344" y="372"/>
                </a:lnTo>
                <a:lnTo>
                  <a:pt x="354" y="372"/>
                </a:lnTo>
                <a:lnTo>
                  <a:pt x="363" y="370"/>
                </a:lnTo>
                <a:lnTo>
                  <a:pt x="370" y="370"/>
                </a:lnTo>
                <a:lnTo>
                  <a:pt x="377" y="369"/>
                </a:lnTo>
                <a:lnTo>
                  <a:pt x="384" y="369"/>
                </a:lnTo>
                <a:lnTo>
                  <a:pt x="390" y="369"/>
                </a:lnTo>
                <a:lnTo>
                  <a:pt x="396" y="367"/>
                </a:lnTo>
                <a:lnTo>
                  <a:pt x="401" y="367"/>
                </a:lnTo>
                <a:lnTo>
                  <a:pt x="406" y="367"/>
                </a:lnTo>
                <a:lnTo>
                  <a:pt x="410" y="367"/>
                </a:lnTo>
                <a:lnTo>
                  <a:pt x="411" y="367"/>
                </a:lnTo>
                <a:lnTo>
                  <a:pt x="414" y="367"/>
                </a:lnTo>
                <a:lnTo>
                  <a:pt x="416" y="367"/>
                </a:lnTo>
                <a:lnTo>
                  <a:pt x="419" y="366"/>
                </a:lnTo>
                <a:lnTo>
                  <a:pt x="422" y="366"/>
                </a:lnTo>
                <a:lnTo>
                  <a:pt x="426" y="366"/>
                </a:lnTo>
                <a:lnTo>
                  <a:pt x="430" y="365"/>
                </a:lnTo>
                <a:lnTo>
                  <a:pt x="435" y="365"/>
                </a:lnTo>
                <a:lnTo>
                  <a:pt x="439" y="363"/>
                </a:lnTo>
                <a:lnTo>
                  <a:pt x="445" y="363"/>
                </a:lnTo>
                <a:lnTo>
                  <a:pt x="449" y="362"/>
                </a:lnTo>
                <a:lnTo>
                  <a:pt x="456" y="360"/>
                </a:lnTo>
                <a:lnTo>
                  <a:pt x="462" y="359"/>
                </a:lnTo>
                <a:lnTo>
                  <a:pt x="469" y="357"/>
                </a:lnTo>
                <a:lnTo>
                  <a:pt x="476" y="357"/>
                </a:lnTo>
                <a:lnTo>
                  <a:pt x="483" y="356"/>
                </a:lnTo>
                <a:lnTo>
                  <a:pt x="491" y="353"/>
                </a:lnTo>
                <a:lnTo>
                  <a:pt x="499" y="352"/>
                </a:lnTo>
                <a:lnTo>
                  <a:pt x="508" y="350"/>
                </a:lnTo>
                <a:lnTo>
                  <a:pt x="518" y="349"/>
                </a:lnTo>
                <a:lnTo>
                  <a:pt x="527" y="347"/>
                </a:lnTo>
                <a:lnTo>
                  <a:pt x="537" y="344"/>
                </a:lnTo>
                <a:lnTo>
                  <a:pt x="547" y="343"/>
                </a:lnTo>
                <a:lnTo>
                  <a:pt x="558" y="340"/>
                </a:lnTo>
                <a:lnTo>
                  <a:pt x="568" y="339"/>
                </a:lnTo>
                <a:lnTo>
                  <a:pt x="580" y="336"/>
                </a:lnTo>
                <a:lnTo>
                  <a:pt x="593" y="333"/>
                </a:lnTo>
                <a:lnTo>
                  <a:pt x="604" y="331"/>
                </a:lnTo>
                <a:lnTo>
                  <a:pt x="617" y="329"/>
                </a:lnTo>
                <a:lnTo>
                  <a:pt x="630" y="326"/>
                </a:lnTo>
                <a:lnTo>
                  <a:pt x="645" y="323"/>
                </a:lnTo>
                <a:lnTo>
                  <a:pt x="658" y="320"/>
                </a:lnTo>
                <a:lnTo>
                  <a:pt x="672" y="317"/>
                </a:lnTo>
                <a:lnTo>
                  <a:pt x="688" y="313"/>
                </a:lnTo>
                <a:lnTo>
                  <a:pt x="702" y="310"/>
                </a:lnTo>
                <a:lnTo>
                  <a:pt x="718" y="307"/>
                </a:lnTo>
                <a:lnTo>
                  <a:pt x="734" y="303"/>
                </a:lnTo>
                <a:lnTo>
                  <a:pt x="750" y="300"/>
                </a:lnTo>
                <a:lnTo>
                  <a:pt x="767" y="295"/>
                </a:lnTo>
                <a:lnTo>
                  <a:pt x="784" y="293"/>
                </a:lnTo>
                <a:lnTo>
                  <a:pt x="802" y="288"/>
                </a:lnTo>
                <a:lnTo>
                  <a:pt x="819" y="284"/>
                </a:lnTo>
                <a:lnTo>
                  <a:pt x="838" y="280"/>
                </a:lnTo>
                <a:lnTo>
                  <a:pt x="856" y="275"/>
                </a:lnTo>
                <a:lnTo>
                  <a:pt x="875" y="271"/>
                </a:lnTo>
                <a:lnTo>
                  <a:pt x="895" y="267"/>
                </a:lnTo>
                <a:lnTo>
                  <a:pt x="915" y="262"/>
                </a:lnTo>
                <a:lnTo>
                  <a:pt x="936" y="258"/>
                </a:lnTo>
                <a:lnTo>
                  <a:pt x="956" y="252"/>
                </a:lnTo>
                <a:lnTo>
                  <a:pt x="977" y="248"/>
                </a:lnTo>
                <a:lnTo>
                  <a:pt x="999" y="244"/>
                </a:lnTo>
                <a:lnTo>
                  <a:pt x="1020" y="238"/>
                </a:lnTo>
                <a:lnTo>
                  <a:pt x="1043" y="232"/>
                </a:lnTo>
                <a:lnTo>
                  <a:pt x="1065" y="228"/>
                </a:lnTo>
                <a:lnTo>
                  <a:pt x="1090" y="222"/>
                </a:lnTo>
                <a:lnTo>
                  <a:pt x="1113" y="216"/>
                </a:lnTo>
                <a:lnTo>
                  <a:pt x="1136" y="210"/>
                </a:lnTo>
                <a:lnTo>
                  <a:pt x="1160" y="205"/>
                </a:lnTo>
                <a:lnTo>
                  <a:pt x="1186" y="199"/>
                </a:lnTo>
                <a:lnTo>
                  <a:pt x="1210" y="193"/>
                </a:lnTo>
                <a:lnTo>
                  <a:pt x="1236" y="186"/>
                </a:lnTo>
                <a:lnTo>
                  <a:pt x="1262" y="180"/>
                </a:lnTo>
                <a:lnTo>
                  <a:pt x="1288" y="173"/>
                </a:lnTo>
                <a:lnTo>
                  <a:pt x="1314" y="169"/>
                </a:lnTo>
                <a:lnTo>
                  <a:pt x="1339" y="163"/>
                </a:lnTo>
                <a:lnTo>
                  <a:pt x="1363" y="157"/>
                </a:lnTo>
                <a:lnTo>
                  <a:pt x="1388" y="153"/>
                </a:lnTo>
                <a:lnTo>
                  <a:pt x="1412" y="147"/>
                </a:lnTo>
                <a:lnTo>
                  <a:pt x="1435" y="143"/>
                </a:lnTo>
                <a:lnTo>
                  <a:pt x="1458" y="137"/>
                </a:lnTo>
                <a:lnTo>
                  <a:pt x="1481" y="133"/>
                </a:lnTo>
                <a:lnTo>
                  <a:pt x="1504" y="127"/>
                </a:lnTo>
                <a:lnTo>
                  <a:pt x="1526" y="123"/>
                </a:lnTo>
                <a:lnTo>
                  <a:pt x="1547" y="118"/>
                </a:lnTo>
                <a:lnTo>
                  <a:pt x="1569" y="114"/>
                </a:lnTo>
                <a:lnTo>
                  <a:pt x="1591" y="110"/>
                </a:lnTo>
                <a:lnTo>
                  <a:pt x="1611" y="105"/>
                </a:lnTo>
                <a:lnTo>
                  <a:pt x="1631" y="101"/>
                </a:lnTo>
                <a:lnTo>
                  <a:pt x="1651" y="97"/>
                </a:lnTo>
                <a:lnTo>
                  <a:pt x="1670" y="92"/>
                </a:lnTo>
                <a:lnTo>
                  <a:pt x="1690" y="88"/>
                </a:lnTo>
                <a:lnTo>
                  <a:pt x="1709" y="85"/>
                </a:lnTo>
                <a:lnTo>
                  <a:pt x="1727" y="81"/>
                </a:lnTo>
                <a:lnTo>
                  <a:pt x="1745" y="78"/>
                </a:lnTo>
                <a:lnTo>
                  <a:pt x="1763" y="74"/>
                </a:lnTo>
                <a:lnTo>
                  <a:pt x="1781" y="71"/>
                </a:lnTo>
                <a:lnTo>
                  <a:pt x="1796" y="67"/>
                </a:lnTo>
                <a:lnTo>
                  <a:pt x="1814" y="64"/>
                </a:lnTo>
                <a:lnTo>
                  <a:pt x="1829" y="61"/>
                </a:lnTo>
                <a:lnTo>
                  <a:pt x="1845" y="56"/>
                </a:lnTo>
                <a:lnTo>
                  <a:pt x="1861" y="54"/>
                </a:lnTo>
                <a:lnTo>
                  <a:pt x="1891" y="48"/>
                </a:lnTo>
                <a:lnTo>
                  <a:pt x="1920" y="42"/>
                </a:lnTo>
                <a:lnTo>
                  <a:pt x="1948" y="38"/>
                </a:lnTo>
                <a:lnTo>
                  <a:pt x="1973" y="32"/>
                </a:lnTo>
                <a:lnTo>
                  <a:pt x="1998" y="28"/>
                </a:lnTo>
                <a:lnTo>
                  <a:pt x="2019" y="23"/>
                </a:lnTo>
                <a:lnTo>
                  <a:pt x="2041" y="20"/>
                </a:lnTo>
                <a:lnTo>
                  <a:pt x="2061" y="16"/>
                </a:lnTo>
                <a:lnTo>
                  <a:pt x="2080" y="13"/>
                </a:lnTo>
                <a:lnTo>
                  <a:pt x="2097" y="10"/>
                </a:lnTo>
                <a:lnTo>
                  <a:pt x="2113" y="7"/>
                </a:lnTo>
                <a:lnTo>
                  <a:pt x="2127" y="6"/>
                </a:lnTo>
                <a:lnTo>
                  <a:pt x="2140" y="3"/>
                </a:lnTo>
                <a:lnTo>
                  <a:pt x="2153" y="2"/>
                </a:lnTo>
                <a:lnTo>
                  <a:pt x="2163" y="2"/>
                </a:lnTo>
                <a:lnTo>
                  <a:pt x="2172" y="0"/>
                </a:lnTo>
                <a:lnTo>
                  <a:pt x="2179" y="0"/>
                </a:lnTo>
                <a:lnTo>
                  <a:pt x="2185" y="0"/>
                </a:lnTo>
                <a:lnTo>
                  <a:pt x="2197" y="0"/>
                </a:lnTo>
                <a:lnTo>
                  <a:pt x="2208" y="0"/>
                </a:lnTo>
                <a:lnTo>
                  <a:pt x="2220" y="2"/>
                </a:lnTo>
                <a:lnTo>
                  <a:pt x="2230" y="3"/>
                </a:lnTo>
                <a:lnTo>
                  <a:pt x="2241" y="5"/>
                </a:lnTo>
                <a:lnTo>
                  <a:pt x="2253" y="7"/>
                </a:lnTo>
                <a:lnTo>
                  <a:pt x="2263" y="10"/>
                </a:lnTo>
                <a:lnTo>
                  <a:pt x="2274" y="13"/>
                </a:lnTo>
                <a:lnTo>
                  <a:pt x="2286" y="18"/>
                </a:lnTo>
                <a:lnTo>
                  <a:pt x="2296" y="22"/>
                </a:lnTo>
                <a:lnTo>
                  <a:pt x="2307" y="26"/>
                </a:lnTo>
                <a:lnTo>
                  <a:pt x="2319" y="32"/>
                </a:lnTo>
                <a:lnTo>
                  <a:pt x="2329" y="38"/>
                </a:lnTo>
                <a:lnTo>
                  <a:pt x="2341" y="43"/>
                </a:lnTo>
                <a:lnTo>
                  <a:pt x="2351" y="51"/>
                </a:lnTo>
                <a:lnTo>
                  <a:pt x="2362" y="58"/>
                </a:lnTo>
                <a:lnTo>
                  <a:pt x="2372" y="65"/>
                </a:lnTo>
                <a:lnTo>
                  <a:pt x="2382" y="72"/>
                </a:lnTo>
                <a:lnTo>
                  <a:pt x="2391" y="79"/>
                </a:lnTo>
                <a:lnTo>
                  <a:pt x="2398" y="87"/>
                </a:lnTo>
                <a:lnTo>
                  <a:pt x="2405" y="94"/>
                </a:lnTo>
                <a:lnTo>
                  <a:pt x="2411" y="101"/>
                </a:lnTo>
                <a:lnTo>
                  <a:pt x="2415" y="108"/>
                </a:lnTo>
                <a:lnTo>
                  <a:pt x="2420" y="115"/>
                </a:lnTo>
                <a:lnTo>
                  <a:pt x="2424" y="123"/>
                </a:lnTo>
                <a:lnTo>
                  <a:pt x="2425" y="130"/>
                </a:lnTo>
                <a:lnTo>
                  <a:pt x="2427" y="137"/>
                </a:lnTo>
                <a:lnTo>
                  <a:pt x="2428" y="144"/>
                </a:lnTo>
                <a:lnTo>
                  <a:pt x="2427" y="151"/>
                </a:lnTo>
                <a:lnTo>
                  <a:pt x="2425" y="159"/>
                </a:lnTo>
                <a:lnTo>
                  <a:pt x="2424" y="166"/>
                </a:lnTo>
                <a:lnTo>
                  <a:pt x="2421" y="17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Freeform 87"/>
          <p:cNvSpPr/>
          <p:nvPr/>
        </p:nvSpPr>
        <p:spPr>
          <a:xfrm>
            <a:off x="6605640" y="3592440"/>
            <a:ext cx="366840" cy="112680"/>
          </a:xfrm>
          <a:custGeom>
            <a:avLst/>
            <a:gdLst/>
            <a:ahLst/>
            <a:rect l="l" t="t" r="r" b="b"/>
            <a:pathLst>
              <a:path w="691" h="213">
                <a:moveTo>
                  <a:pt x="477" y="175"/>
                </a:moveTo>
                <a:lnTo>
                  <a:pt x="452" y="179"/>
                </a:lnTo>
                <a:lnTo>
                  <a:pt x="428" y="182"/>
                </a:lnTo>
                <a:lnTo>
                  <a:pt x="406" y="186"/>
                </a:lnTo>
                <a:lnTo>
                  <a:pt x="384" y="189"/>
                </a:lnTo>
                <a:lnTo>
                  <a:pt x="364" y="192"/>
                </a:lnTo>
                <a:lnTo>
                  <a:pt x="346" y="195"/>
                </a:lnTo>
                <a:lnTo>
                  <a:pt x="327" y="199"/>
                </a:lnTo>
                <a:lnTo>
                  <a:pt x="311" y="202"/>
                </a:lnTo>
                <a:lnTo>
                  <a:pt x="294" y="203"/>
                </a:lnTo>
                <a:lnTo>
                  <a:pt x="279" y="206"/>
                </a:lnTo>
                <a:lnTo>
                  <a:pt x="265" y="208"/>
                </a:lnTo>
                <a:lnTo>
                  <a:pt x="251" y="211"/>
                </a:lnTo>
                <a:lnTo>
                  <a:pt x="238" y="212"/>
                </a:lnTo>
                <a:lnTo>
                  <a:pt x="226" y="212"/>
                </a:lnTo>
                <a:lnTo>
                  <a:pt x="215" y="213"/>
                </a:lnTo>
                <a:lnTo>
                  <a:pt x="203" y="213"/>
                </a:lnTo>
                <a:lnTo>
                  <a:pt x="192" y="213"/>
                </a:lnTo>
                <a:lnTo>
                  <a:pt x="181" y="212"/>
                </a:lnTo>
                <a:lnTo>
                  <a:pt x="170" y="212"/>
                </a:lnTo>
                <a:lnTo>
                  <a:pt x="160" y="211"/>
                </a:lnTo>
                <a:lnTo>
                  <a:pt x="140" y="206"/>
                </a:lnTo>
                <a:lnTo>
                  <a:pt x="130" y="203"/>
                </a:lnTo>
                <a:lnTo>
                  <a:pt x="120" y="202"/>
                </a:lnTo>
                <a:lnTo>
                  <a:pt x="111" y="199"/>
                </a:lnTo>
                <a:lnTo>
                  <a:pt x="102" y="195"/>
                </a:lnTo>
                <a:lnTo>
                  <a:pt x="95" y="192"/>
                </a:lnTo>
                <a:lnTo>
                  <a:pt x="88" y="189"/>
                </a:lnTo>
                <a:lnTo>
                  <a:pt x="81" y="186"/>
                </a:lnTo>
                <a:lnTo>
                  <a:pt x="75" y="182"/>
                </a:lnTo>
                <a:lnTo>
                  <a:pt x="71" y="179"/>
                </a:lnTo>
                <a:lnTo>
                  <a:pt x="66" y="175"/>
                </a:lnTo>
                <a:lnTo>
                  <a:pt x="62" y="170"/>
                </a:lnTo>
                <a:lnTo>
                  <a:pt x="59" y="166"/>
                </a:lnTo>
                <a:lnTo>
                  <a:pt x="52" y="157"/>
                </a:lnTo>
                <a:lnTo>
                  <a:pt x="45" y="147"/>
                </a:lnTo>
                <a:lnTo>
                  <a:pt x="37" y="136"/>
                </a:lnTo>
                <a:lnTo>
                  <a:pt x="30" y="126"/>
                </a:lnTo>
                <a:lnTo>
                  <a:pt x="23" y="116"/>
                </a:lnTo>
                <a:lnTo>
                  <a:pt x="16" y="105"/>
                </a:lnTo>
                <a:lnTo>
                  <a:pt x="12" y="101"/>
                </a:lnTo>
                <a:lnTo>
                  <a:pt x="9" y="98"/>
                </a:lnTo>
                <a:lnTo>
                  <a:pt x="4" y="94"/>
                </a:lnTo>
                <a:lnTo>
                  <a:pt x="3" y="90"/>
                </a:lnTo>
                <a:lnTo>
                  <a:pt x="2" y="87"/>
                </a:lnTo>
                <a:lnTo>
                  <a:pt x="0" y="82"/>
                </a:lnTo>
                <a:lnTo>
                  <a:pt x="2" y="80"/>
                </a:lnTo>
                <a:lnTo>
                  <a:pt x="3" y="77"/>
                </a:lnTo>
                <a:lnTo>
                  <a:pt x="4" y="74"/>
                </a:lnTo>
                <a:lnTo>
                  <a:pt x="9" y="71"/>
                </a:lnTo>
                <a:lnTo>
                  <a:pt x="12" y="68"/>
                </a:lnTo>
                <a:lnTo>
                  <a:pt x="17" y="65"/>
                </a:lnTo>
                <a:lnTo>
                  <a:pt x="23" y="64"/>
                </a:lnTo>
                <a:lnTo>
                  <a:pt x="30" y="62"/>
                </a:lnTo>
                <a:lnTo>
                  <a:pt x="37" y="61"/>
                </a:lnTo>
                <a:lnTo>
                  <a:pt x="46" y="59"/>
                </a:lnTo>
                <a:lnTo>
                  <a:pt x="56" y="59"/>
                </a:lnTo>
                <a:lnTo>
                  <a:pt x="66" y="59"/>
                </a:lnTo>
                <a:lnTo>
                  <a:pt x="73" y="58"/>
                </a:lnTo>
                <a:lnTo>
                  <a:pt x="82" y="58"/>
                </a:lnTo>
                <a:lnTo>
                  <a:pt x="92" y="56"/>
                </a:lnTo>
                <a:lnTo>
                  <a:pt x="104" y="55"/>
                </a:lnTo>
                <a:lnTo>
                  <a:pt x="115" y="54"/>
                </a:lnTo>
                <a:lnTo>
                  <a:pt x="128" y="52"/>
                </a:lnTo>
                <a:lnTo>
                  <a:pt x="141" y="49"/>
                </a:lnTo>
                <a:lnTo>
                  <a:pt x="157" y="46"/>
                </a:lnTo>
                <a:lnTo>
                  <a:pt x="173" y="44"/>
                </a:lnTo>
                <a:lnTo>
                  <a:pt x="190" y="41"/>
                </a:lnTo>
                <a:lnTo>
                  <a:pt x="209" y="38"/>
                </a:lnTo>
                <a:lnTo>
                  <a:pt x="229" y="35"/>
                </a:lnTo>
                <a:lnTo>
                  <a:pt x="249" y="31"/>
                </a:lnTo>
                <a:lnTo>
                  <a:pt x="272" y="28"/>
                </a:lnTo>
                <a:lnTo>
                  <a:pt x="295" y="23"/>
                </a:lnTo>
                <a:lnTo>
                  <a:pt x="321" y="21"/>
                </a:lnTo>
                <a:lnTo>
                  <a:pt x="341" y="16"/>
                </a:lnTo>
                <a:lnTo>
                  <a:pt x="363" y="13"/>
                </a:lnTo>
                <a:lnTo>
                  <a:pt x="382" y="10"/>
                </a:lnTo>
                <a:lnTo>
                  <a:pt x="400" y="9"/>
                </a:lnTo>
                <a:lnTo>
                  <a:pt x="419" y="6"/>
                </a:lnTo>
                <a:lnTo>
                  <a:pt x="436" y="5"/>
                </a:lnTo>
                <a:lnTo>
                  <a:pt x="454" y="3"/>
                </a:lnTo>
                <a:lnTo>
                  <a:pt x="469" y="3"/>
                </a:lnTo>
                <a:lnTo>
                  <a:pt x="484" y="2"/>
                </a:lnTo>
                <a:lnTo>
                  <a:pt x="498" y="2"/>
                </a:lnTo>
                <a:lnTo>
                  <a:pt x="513" y="0"/>
                </a:lnTo>
                <a:lnTo>
                  <a:pt x="526" y="0"/>
                </a:lnTo>
                <a:lnTo>
                  <a:pt x="538" y="0"/>
                </a:lnTo>
                <a:lnTo>
                  <a:pt x="551" y="0"/>
                </a:lnTo>
                <a:lnTo>
                  <a:pt x="563" y="0"/>
                </a:lnTo>
                <a:lnTo>
                  <a:pt x="574" y="0"/>
                </a:lnTo>
                <a:lnTo>
                  <a:pt x="585" y="0"/>
                </a:lnTo>
                <a:lnTo>
                  <a:pt x="595" y="2"/>
                </a:lnTo>
                <a:lnTo>
                  <a:pt x="603" y="2"/>
                </a:lnTo>
                <a:lnTo>
                  <a:pt x="612" y="3"/>
                </a:lnTo>
                <a:lnTo>
                  <a:pt x="619" y="6"/>
                </a:lnTo>
                <a:lnTo>
                  <a:pt x="625" y="8"/>
                </a:lnTo>
                <a:lnTo>
                  <a:pt x="632" y="10"/>
                </a:lnTo>
                <a:lnTo>
                  <a:pt x="638" y="12"/>
                </a:lnTo>
                <a:lnTo>
                  <a:pt x="642" y="15"/>
                </a:lnTo>
                <a:lnTo>
                  <a:pt x="648" y="19"/>
                </a:lnTo>
                <a:lnTo>
                  <a:pt x="657" y="25"/>
                </a:lnTo>
                <a:lnTo>
                  <a:pt x="664" y="32"/>
                </a:lnTo>
                <a:lnTo>
                  <a:pt x="672" y="39"/>
                </a:lnTo>
                <a:lnTo>
                  <a:pt x="675" y="44"/>
                </a:lnTo>
                <a:lnTo>
                  <a:pt x="678" y="46"/>
                </a:lnTo>
                <a:lnTo>
                  <a:pt x="681" y="51"/>
                </a:lnTo>
                <a:lnTo>
                  <a:pt x="682" y="54"/>
                </a:lnTo>
                <a:lnTo>
                  <a:pt x="687" y="61"/>
                </a:lnTo>
                <a:lnTo>
                  <a:pt x="688" y="68"/>
                </a:lnTo>
                <a:lnTo>
                  <a:pt x="690" y="75"/>
                </a:lnTo>
                <a:lnTo>
                  <a:pt x="691" y="82"/>
                </a:lnTo>
                <a:lnTo>
                  <a:pt x="691" y="90"/>
                </a:lnTo>
                <a:lnTo>
                  <a:pt x="691" y="98"/>
                </a:lnTo>
                <a:lnTo>
                  <a:pt x="691" y="100"/>
                </a:lnTo>
                <a:lnTo>
                  <a:pt x="690" y="101"/>
                </a:lnTo>
                <a:lnTo>
                  <a:pt x="690" y="104"/>
                </a:lnTo>
                <a:lnTo>
                  <a:pt x="688" y="105"/>
                </a:lnTo>
                <a:lnTo>
                  <a:pt x="685" y="108"/>
                </a:lnTo>
                <a:lnTo>
                  <a:pt x="682" y="110"/>
                </a:lnTo>
                <a:lnTo>
                  <a:pt x="680" y="113"/>
                </a:lnTo>
                <a:lnTo>
                  <a:pt x="677" y="114"/>
                </a:lnTo>
                <a:lnTo>
                  <a:pt x="672" y="117"/>
                </a:lnTo>
                <a:lnTo>
                  <a:pt x="669" y="120"/>
                </a:lnTo>
                <a:lnTo>
                  <a:pt x="664" y="123"/>
                </a:lnTo>
                <a:lnTo>
                  <a:pt x="659" y="126"/>
                </a:lnTo>
                <a:lnTo>
                  <a:pt x="654" y="127"/>
                </a:lnTo>
                <a:lnTo>
                  <a:pt x="648" y="130"/>
                </a:lnTo>
                <a:lnTo>
                  <a:pt x="642" y="133"/>
                </a:lnTo>
                <a:lnTo>
                  <a:pt x="635" y="136"/>
                </a:lnTo>
                <a:lnTo>
                  <a:pt x="628" y="139"/>
                </a:lnTo>
                <a:lnTo>
                  <a:pt x="621" y="141"/>
                </a:lnTo>
                <a:lnTo>
                  <a:pt x="613" y="144"/>
                </a:lnTo>
                <a:lnTo>
                  <a:pt x="605" y="147"/>
                </a:lnTo>
                <a:lnTo>
                  <a:pt x="596" y="149"/>
                </a:lnTo>
                <a:lnTo>
                  <a:pt x="587" y="152"/>
                </a:lnTo>
                <a:lnTo>
                  <a:pt x="577" y="154"/>
                </a:lnTo>
                <a:lnTo>
                  <a:pt x="567" y="157"/>
                </a:lnTo>
                <a:lnTo>
                  <a:pt x="557" y="160"/>
                </a:lnTo>
                <a:lnTo>
                  <a:pt x="547" y="162"/>
                </a:lnTo>
                <a:lnTo>
                  <a:pt x="536" y="164"/>
                </a:lnTo>
                <a:lnTo>
                  <a:pt x="526" y="166"/>
                </a:lnTo>
                <a:lnTo>
                  <a:pt x="501" y="170"/>
                </a:lnTo>
                <a:lnTo>
                  <a:pt x="477" y="17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Freeform 88"/>
          <p:cNvSpPr/>
          <p:nvPr/>
        </p:nvSpPr>
        <p:spPr>
          <a:xfrm>
            <a:off x="6620040" y="3868560"/>
            <a:ext cx="320400" cy="113040"/>
          </a:xfrm>
          <a:custGeom>
            <a:avLst/>
            <a:gdLst/>
            <a:ahLst/>
            <a:rect l="l" t="t" r="r" b="b"/>
            <a:pathLst>
              <a:path w="606" h="213">
                <a:moveTo>
                  <a:pt x="0" y="78"/>
                </a:moveTo>
                <a:lnTo>
                  <a:pt x="22" y="72"/>
                </a:lnTo>
                <a:lnTo>
                  <a:pt x="44" y="66"/>
                </a:lnTo>
                <a:lnTo>
                  <a:pt x="64" y="62"/>
                </a:lnTo>
                <a:lnTo>
                  <a:pt x="84" y="56"/>
                </a:lnTo>
                <a:lnTo>
                  <a:pt x="104" y="52"/>
                </a:lnTo>
                <a:lnTo>
                  <a:pt x="124" y="47"/>
                </a:lnTo>
                <a:lnTo>
                  <a:pt x="143" y="45"/>
                </a:lnTo>
                <a:lnTo>
                  <a:pt x="162" y="40"/>
                </a:lnTo>
                <a:lnTo>
                  <a:pt x="180" y="36"/>
                </a:lnTo>
                <a:lnTo>
                  <a:pt x="198" y="33"/>
                </a:lnTo>
                <a:lnTo>
                  <a:pt x="215" y="30"/>
                </a:lnTo>
                <a:lnTo>
                  <a:pt x="232" y="27"/>
                </a:lnTo>
                <a:lnTo>
                  <a:pt x="248" y="24"/>
                </a:lnTo>
                <a:lnTo>
                  <a:pt x="264" y="22"/>
                </a:lnTo>
                <a:lnTo>
                  <a:pt x="280" y="19"/>
                </a:lnTo>
                <a:lnTo>
                  <a:pt x="296" y="16"/>
                </a:lnTo>
                <a:lnTo>
                  <a:pt x="310" y="14"/>
                </a:lnTo>
                <a:lnTo>
                  <a:pt x="324" y="13"/>
                </a:lnTo>
                <a:lnTo>
                  <a:pt x="339" y="10"/>
                </a:lnTo>
                <a:lnTo>
                  <a:pt x="353" y="9"/>
                </a:lnTo>
                <a:lnTo>
                  <a:pt x="366" y="7"/>
                </a:lnTo>
                <a:lnTo>
                  <a:pt x="379" y="6"/>
                </a:lnTo>
                <a:lnTo>
                  <a:pt x="392" y="4"/>
                </a:lnTo>
                <a:lnTo>
                  <a:pt x="404" y="4"/>
                </a:lnTo>
                <a:lnTo>
                  <a:pt x="415" y="3"/>
                </a:lnTo>
                <a:lnTo>
                  <a:pt x="427" y="1"/>
                </a:lnTo>
                <a:lnTo>
                  <a:pt x="438" y="1"/>
                </a:lnTo>
                <a:lnTo>
                  <a:pt x="450" y="1"/>
                </a:lnTo>
                <a:lnTo>
                  <a:pt x="470" y="0"/>
                </a:lnTo>
                <a:lnTo>
                  <a:pt x="488" y="0"/>
                </a:lnTo>
                <a:lnTo>
                  <a:pt x="503" y="0"/>
                </a:lnTo>
                <a:lnTo>
                  <a:pt x="516" y="1"/>
                </a:lnTo>
                <a:lnTo>
                  <a:pt x="529" y="1"/>
                </a:lnTo>
                <a:lnTo>
                  <a:pt x="540" y="3"/>
                </a:lnTo>
                <a:lnTo>
                  <a:pt x="550" y="6"/>
                </a:lnTo>
                <a:lnTo>
                  <a:pt x="560" y="7"/>
                </a:lnTo>
                <a:lnTo>
                  <a:pt x="569" y="10"/>
                </a:lnTo>
                <a:lnTo>
                  <a:pt x="576" y="11"/>
                </a:lnTo>
                <a:lnTo>
                  <a:pt x="583" y="14"/>
                </a:lnTo>
                <a:lnTo>
                  <a:pt x="589" y="19"/>
                </a:lnTo>
                <a:lnTo>
                  <a:pt x="594" y="22"/>
                </a:lnTo>
                <a:lnTo>
                  <a:pt x="598" y="24"/>
                </a:lnTo>
                <a:lnTo>
                  <a:pt x="602" y="29"/>
                </a:lnTo>
                <a:lnTo>
                  <a:pt x="604" y="32"/>
                </a:lnTo>
                <a:lnTo>
                  <a:pt x="605" y="34"/>
                </a:lnTo>
                <a:lnTo>
                  <a:pt x="606" y="39"/>
                </a:lnTo>
                <a:lnTo>
                  <a:pt x="605" y="46"/>
                </a:lnTo>
                <a:lnTo>
                  <a:pt x="605" y="53"/>
                </a:lnTo>
                <a:lnTo>
                  <a:pt x="604" y="60"/>
                </a:lnTo>
                <a:lnTo>
                  <a:pt x="602" y="68"/>
                </a:lnTo>
                <a:lnTo>
                  <a:pt x="599" y="75"/>
                </a:lnTo>
                <a:lnTo>
                  <a:pt x="596" y="82"/>
                </a:lnTo>
                <a:lnTo>
                  <a:pt x="592" y="89"/>
                </a:lnTo>
                <a:lnTo>
                  <a:pt x="588" y="96"/>
                </a:lnTo>
                <a:lnTo>
                  <a:pt x="583" y="104"/>
                </a:lnTo>
                <a:lnTo>
                  <a:pt x="578" y="111"/>
                </a:lnTo>
                <a:lnTo>
                  <a:pt x="572" y="118"/>
                </a:lnTo>
                <a:lnTo>
                  <a:pt x="565" y="125"/>
                </a:lnTo>
                <a:lnTo>
                  <a:pt x="556" y="132"/>
                </a:lnTo>
                <a:lnTo>
                  <a:pt x="547" y="140"/>
                </a:lnTo>
                <a:lnTo>
                  <a:pt x="537" y="147"/>
                </a:lnTo>
                <a:lnTo>
                  <a:pt x="527" y="155"/>
                </a:lnTo>
                <a:lnTo>
                  <a:pt x="522" y="158"/>
                </a:lnTo>
                <a:lnTo>
                  <a:pt x="514" y="161"/>
                </a:lnTo>
                <a:lnTo>
                  <a:pt x="507" y="165"/>
                </a:lnTo>
                <a:lnTo>
                  <a:pt x="500" y="168"/>
                </a:lnTo>
                <a:lnTo>
                  <a:pt x="491" y="171"/>
                </a:lnTo>
                <a:lnTo>
                  <a:pt x="483" y="174"/>
                </a:lnTo>
                <a:lnTo>
                  <a:pt x="473" y="177"/>
                </a:lnTo>
                <a:lnTo>
                  <a:pt x="461" y="180"/>
                </a:lnTo>
                <a:lnTo>
                  <a:pt x="451" y="183"/>
                </a:lnTo>
                <a:lnTo>
                  <a:pt x="438" y="186"/>
                </a:lnTo>
                <a:lnTo>
                  <a:pt x="425" y="189"/>
                </a:lnTo>
                <a:lnTo>
                  <a:pt x="412" y="190"/>
                </a:lnTo>
                <a:lnTo>
                  <a:pt x="398" y="193"/>
                </a:lnTo>
                <a:lnTo>
                  <a:pt x="383" y="194"/>
                </a:lnTo>
                <a:lnTo>
                  <a:pt x="368" y="197"/>
                </a:lnTo>
                <a:lnTo>
                  <a:pt x="352" y="199"/>
                </a:lnTo>
                <a:lnTo>
                  <a:pt x="334" y="200"/>
                </a:lnTo>
                <a:lnTo>
                  <a:pt x="317" y="201"/>
                </a:lnTo>
                <a:lnTo>
                  <a:pt x="300" y="203"/>
                </a:lnTo>
                <a:lnTo>
                  <a:pt x="281" y="204"/>
                </a:lnTo>
                <a:lnTo>
                  <a:pt x="261" y="206"/>
                </a:lnTo>
                <a:lnTo>
                  <a:pt x="241" y="207"/>
                </a:lnTo>
                <a:lnTo>
                  <a:pt x="219" y="209"/>
                </a:lnTo>
                <a:lnTo>
                  <a:pt x="198" y="209"/>
                </a:lnTo>
                <a:lnTo>
                  <a:pt x="176" y="210"/>
                </a:lnTo>
                <a:lnTo>
                  <a:pt x="153" y="212"/>
                </a:lnTo>
                <a:lnTo>
                  <a:pt x="129" y="212"/>
                </a:lnTo>
                <a:lnTo>
                  <a:pt x="106" y="212"/>
                </a:lnTo>
                <a:lnTo>
                  <a:pt x="80" y="213"/>
                </a:lnTo>
                <a:lnTo>
                  <a:pt x="54" y="213"/>
                </a:lnTo>
                <a:lnTo>
                  <a:pt x="28" y="213"/>
                </a:lnTo>
                <a:lnTo>
                  <a:pt x="0" y="213"/>
                </a:lnTo>
                <a:lnTo>
                  <a:pt x="0" y="7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Freeform 89"/>
          <p:cNvSpPr/>
          <p:nvPr/>
        </p:nvSpPr>
        <p:spPr>
          <a:xfrm>
            <a:off x="5546880" y="3735360"/>
            <a:ext cx="314280" cy="297000"/>
          </a:xfrm>
          <a:custGeom>
            <a:avLst/>
            <a:gdLst/>
            <a:ahLst/>
            <a:rect l="l" t="t" r="r" b="b"/>
            <a:pathLst>
              <a:path w="593" h="560">
                <a:moveTo>
                  <a:pt x="565" y="271"/>
                </a:moveTo>
                <a:lnTo>
                  <a:pt x="570" y="281"/>
                </a:lnTo>
                <a:lnTo>
                  <a:pt x="573" y="293"/>
                </a:lnTo>
                <a:lnTo>
                  <a:pt x="580" y="317"/>
                </a:lnTo>
                <a:lnTo>
                  <a:pt x="586" y="342"/>
                </a:lnTo>
                <a:lnTo>
                  <a:pt x="587" y="355"/>
                </a:lnTo>
                <a:lnTo>
                  <a:pt x="590" y="368"/>
                </a:lnTo>
                <a:lnTo>
                  <a:pt x="591" y="380"/>
                </a:lnTo>
                <a:lnTo>
                  <a:pt x="593" y="392"/>
                </a:lnTo>
                <a:lnTo>
                  <a:pt x="593" y="405"/>
                </a:lnTo>
                <a:lnTo>
                  <a:pt x="593" y="418"/>
                </a:lnTo>
                <a:lnTo>
                  <a:pt x="591" y="429"/>
                </a:lnTo>
                <a:lnTo>
                  <a:pt x="590" y="441"/>
                </a:lnTo>
                <a:lnTo>
                  <a:pt x="588" y="452"/>
                </a:lnTo>
                <a:lnTo>
                  <a:pt x="586" y="464"/>
                </a:lnTo>
                <a:lnTo>
                  <a:pt x="581" y="474"/>
                </a:lnTo>
                <a:lnTo>
                  <a:pt x="577" y="484"/>
                </a:lnTo>
                <a:lnTo>
                  <a:pt x="571" y="494"/>
                </a:lnTo>
                <a:lnTo>
                  <a:pt x="567" y="503"/>
                </a:lnTo>
                <a:lnTo>
                  <a:pt x="561" y="511"/>
                </a:lnTo>
                <a:lnTo>
                  <a:pt x="555" y="520"/>
                </a:lnTo>
                <a:lnTo>
                  <a:pt x="548" y="527"/>
                </a:lnTo>
                <a:lnTo>
                  <a:pt x="541" y="535"/>
                </a:lnTo>
                <a:lnTo>
                  <a:pt x="534" y="540"/>
                </a:lnTo>
                <a:lnTo>
                  <a:pt x="525" y="545"/>
                </a:lnTo>
                <a:lnTo>
                  <a:pt x="516" y="550"/>
                </a:lnTo>
                <a:lnTo>
                  <a:pt x="508" y="553"/>
                </a:lnTo>
                <a:lnTo>
                  <a:pt x="499" y="556"/>
                </a:lnTo>
                <a:lnTo>
                  <a:pt x="489" y="559"/>
                </a:lnTo>
                <a:lnTo>
                  <a:pt x="479" y="560"/>
                </a:lnTo>
                <a:lnTo>
                  <a:pt x="467" y="560"/>
                </a:lnTo>
                <a:lnTo>
                  <a:pt x="462" y="560"/>
                </a:lnTo>
                <a:lnTo>
                  <a:pt x="456" y="559"/>
                </a:lnTo>
                <a:lnTo>
                  <a:pt x="450" y="559"/>
                </a:lnTo>
                <a:lnTo>
                  <a:pt x="444" y="558"/>
                </a:lnTo>
                <a:lnTo>
                  <a:pt x="439" y="555"/>
                </a:lnTo>
                <a:lnTo>
                  <a:pt x="433" y="552"/>
                </a:lnTo>
                <a:lnTo>
                  <a:pt x="426" y="549"/>
                </a:lnTo>
                <a:lnTo>
                  <a:pt x="419" y="546"/>
                </a:lnTo>
                <a:lnTo>
                  <a:pt x="413" y="542"/>
                </a:lnTo>
                <a:lnTo>
                  <a:pt x="406" y="537"/>
                </a:lnTo>
                <a:lnTo>
                  <a:pt x="398" y="533"/>
                </a:lnTo>
                <a:lnTo>
                  <a:pt x="391" y="529"/>
                </a:lnTo>
                <a:lnTo>
                  <a:pt x="384" y="523"/>
                </a:lnTo>
                <a:lnTo>
                  <a:pt x="375" y="516"/>
                </a:lnTo>
                <a:lnTo>
                  <a:pt x="368" y="510"/>
                </a:lnTo>
                <a:lnTo>
                  <a:pt x="360" y="503"/>
                </a:lnTo>
                <a:lnTo>
                  <a:pt x="351" y="496"/>
                </a:lnTo>
                <a:lnTo>
                  <a:pt x="342" y="487"/>
                </a:lnTo>
                <a:lnTo>
                  <a:pt x="334" y="478"/>
                </a:lnTo>
                <a:lnTo>
                  <a:pt x="325" y="470"/>
                </a:lnTo>
                <a:lnTo>
                  <a:pt x="315" y="461"/>
                </a:lnTo>
                <a:lnTo>
                  <a:pt x="306" y="451"/>
                </a:lnTo>
                <a:lnTo>
                  <a:pt x="296" y="441"/>
                </a:lnTo>
                <a:lnTo>
                  <a:pt x="286" y="431"/>
                </a:lnTo>
                <a:lnTo>
                  <a:pt x="276" y="419"/>
                </a:lnTo>
                <a:lnTo>
                  <a:pt x="265" y="408"/>
                </a:lnTo>
                <a:lnTo>
                  <a:pt x="254" y="395"/>
                </a:lnTo>
                <a:lnTo>
                  <a:pt x="243" y="383"/>
                </a:lnTo>
                <a:lnTo>
                  <a:pt x="231" y="370"/>
                </a:lnTo>
                <a:lnTo>
                  <a:pt x="220" y="356"/>
                </a:lnTo>
                <a:lnTo>
                  <a:pt x="207" y="343"/>
                </a:lnTo>
                <a:lnTo>
                  <a:pt x="195" y="329"/>
                </a:lnTo>
                <a:lnTo>
                  <a:pt x="182" y="314"/>
                </a:lnTo>
                <a:lnTo>
                  <a:pt x="171" y="300"/>
                </a:lnTo>
                <a:lnTo>
                  <a:pt x="158" y="285"/>
                </a:lnTo>
                <a:lnTo>
                  <a:pt x="148" y="273"/>
                </a:lnTo>
                <a:lnTo>
                  <a:pt x="136" y="260"/>
                </a:lnTo>
                <a:lnTo>
                  <a:pt x="126" y="247"/>
                </a:lnTo>
                <a:lnTo>
                  <a:pt x="116" y="235"/>
                </a:lnTo>
                <a:lnTo>
                  <a:pt x="108" y="222"/>
                </a:lnTo>
                <a:lnTo>
                  <a:pt x="98" y="211"/>
                </a:lnTo>
                <a:lnTo>
                  <a:pt x="89" y="199"/>
                </a:lnTo>
                <a:lnTo>
                  <a:pt x="82" y="189"/>
                </a:lnTo>
                <a:lnTo>
                  <a:pt x="73" y="178"/>
                </a:lnTo>
                <a:lnTo>
                  <a:pt x="66" y="167"/>
                </a:lnTo>
                <a:lnTo>
                  <a:pt x="59" y="157"/>
                </a:lnTo>
                <a:lnTo>
                  <a:pt x="53" y="149"/>
                </a:lnTo>
                <a:lnTo>
                  <a:pt x="46" y="139"/>
                </a:lnTo>
                <a:lnTo>
                  <a:pt x="40" y="130"/>
                </a:lnTo>
                <a:lnTo>
                  <a:pt x="34" y="121"/>
                </a:lnTo>
                <a:lnTo>
                  <a:pt x="30" y="114"/>
                </a:lnTo>
                <a:lnTo>
                  <a:pt x="26" y="106"/>
                </a:lnTo>
                <a:lnTo>
                  <a:pt x="21" y="98"/>
                </a:lnTo>
                <a:lnTo>
                  <a:pt x="17" y="91"/>
                </a:lnTo>
                <a:lnTo>
                  <a:pt x="14" y="84"/>
                </a:lnTo>
                <a:lnTo>
                  <a:pt x="11" y="78"/>
                </a:lnTo>
                <a:lnTo>
                  <a:pt x="8" y="71"/>
                </a:lnTo>
                <a:lnTo>
                  <a:pt x="5" y="65"/>
                </a:lnTo>
                <a:lnTo>
                  <a:pt x="4" y="61"/>
                </a:lnTo>
                <a:lnTo>
                  <a:pt x="3" y="55"/>
                </a:lnTo>
                <a:lnTo>
                  <a:pt x="1" y="51"/>
                </a:lnTo>
                <a:lnTo>
                  <a:pt x="0" y="47"/>
                </a:lnTo>
                <a:lnTo>
                  <a:pt x="0" y="38"/>
                </a:lnTo>
                <a:lnTo>
                  <a:pt x="0" y="34"/>
                </a:lnTo>
                <a:lnTo>
                  <a:pt x="1" y="31"/>
                </a:lnTo>
                <a:lnTo>
                  <a:pt x="3" y="28"/>
                </a:lnTo>
                <a:lnTo>
                  <a:pt x="5" y="23"/>
                </a:lnTo>
                <a:lnTo>
                  <a:pt x="10" y="21"/>
                </a:lnTo>
                <a:lnTo>
                  <a:pt x="14" y="18"/>
                </a:lnTo>
                <a:lnTo>
                  <a:pt x="20" y="15"/>
                </a:lnTo>
                <a:lnTo>
                  <a:pt x="26" y="12"/>
                </a:lnTo>
                <a:lnTo>
                  <a:pt x="33" y="9"/>
                </a:lnTo>
                <a:lnTo>
                  <a:pt x="40" y="6"/>
                </a:lnTo>
                <a:lnTo>
                  <a:pt x="49" y="5"/>
                </a:lnTo>
                <a:lnTo>
                  <a:pt x="57" y="3"/>
                </a:lnTo>
                <a:lnTo>
                  <a:pt x="66" y="2"/>
                </a:lnTo>
                <a:lnTo>
                  <a:pt x="76" y="0"/>
                </a:lnTo>
                <a:lnTo>
                  <a:pt x="86" y="0"/>
                </a:lnTo>
                <a:lnTo>
                  <a:pt x="98" y="0"/>
                </a:lnTo>
                <a:lnTo>
                  <a:pt x="108" y="0"/>
                </a:lnTo>
                <a:lnTo>
                  <a:pt x="119" y="0"/>
                </a:lnTo>
                <a:lnTo>
                  <a:pt x="132" y="2"/>
                </a:lnTo>
                <a:lnTo>
                  <a:pt x="145" y="3"/>
                </a:lnTo>
                <a:lnTo>
                  <a:pt x="158" y="6"/>
                </a:lnTo>
                <a:lnTo>
                  <a:pt x="172" y="9"/>
                </a:lnTo>
                <a:lnTo>
                  <a:pt x="187" y="12"/>
                </a:lnTo>
                <a:lnTo>
                  <a:pt x="203" y="16"/>
                </a:lnTo>
                <a:lnTo>
                  <a:pt x="218" y="21"/>
                </a:lnTo>
                <a:lnTo>
                  <a:pt x="234" y="26"/>
                </a:lnTo>
                <a:lnTo>
                  <a:pt x="252" y="32"/>
                </a:lnTo>
                <a:lnTo>
                  <a:pt x="270" y="39"/>
                </a:lnTo>
                <a:lnTo>
                  <a:pt x="289" y="48"/>
                </a:lnTo>
                <a:lnTo>
                  <a:pt x="309" y="57"/>
                </a:lnTo>
                <a:lnTo>
                  <a:pt x="329" y="67"/>
                </a:lnTo>
                <a:lnTo>
                  <a:pt x="351" y="77"/>
                </a:lnTo>
                <a:lnTo>
                  <a:pt x="372" y="88"/>
                </a:lnTo>
                <a:lnTo>
                  <a:pt x="393" y="98"/>
                </a:lnTo>
                <a:lnTo>
                  <a:pt x="413" y="110"/>
                </a:lnTo>
                <a:lnTo>
                  <a:pt x="432" y="121"/>
                </a:lnTo>
                <a:lnTo>
                  <a:pt x="449" y="133"/>
                </a:lnTo>
                <a:lnTo>
                  <a:pt x="465" y="143"/>
                </a:lnTo>
                <a:lnTo>
                  <a:pt x="480" y="154"/>
                </a:lnTo>
                <a:lnTo>
                  <a:pt x="495" y="166"/>
                </a:lnTo>
                <a:lnTo>
                  <a:pt x="508" y="179"/>
                </a:lnTo>
                <a:lnTo>
                  <a:pt x="519" y="190"/>
                </a:lnTo>
                <a:lnTo>
                  <a:pt x="531" y="203"/>
                </a:lnTo>
                <a:lnTo>
                  <a:pt x="539" y="215"/>
                </a:lnTo>
                <a:lnTo>
                  <a:pt x="548" y="229"/>
                </a:lnTo>
                <a:lnTo>
                  <a:pt x="555" y="242"/>
                </a:lnTo>
                <a:lnTo>
                  <a:pt x="561" y="257"/>
                </a:lnTo>
                <a:lnTo>
                  <a:pt x="565" y="2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Freeform 90"/>
          <p:cNvSpPr/>
          <p:nvPr/>
        </p:nvSpPr>
        <p:spPr>
          <a:xfrm>
            <a:off x="5743440" y="3132000"/>
            <a:ext cx="347760" cy="297000"/>
          </a:xfrm>
          <a:custGeom>
            <a:avLst/>
            <a:gdLst/>
            <a:ahLst/>
            <a:rect l="l" t="t" r="r" b="b"/>
            <a:pathLst>
              <a:path w="658" h="560">
                <a:moveTo>
                  <a:pt x="507" y="560"/>
                </a:moveTo>
                <a:lnTo>
                  <a:pt x="501" y="560"/>
                </a:lnTo>
                <a:lnTo>
                  <a:pt x="495" y="558"/>
                </a:lnTo>
                <a:lnTo>
                  <a:pt x="489" y="558"/>
                </a:lnTo>
                <a:lnTo>
                  <a:pt x="482" y="557"/>
                </a:lnTo>
                <a:lnTo>
                  <a:pt x="477" y="554"/>
                </a:lnTo>
                <a:lnTo>
                  <a:pt x="469" y="551"/>
                </a:lnTo>
                <a:lnTo>
                  <a:pt x="462" y="548"/>
                </a:lnTo>
                <a:lnTo>
                  <a:pt x="455" y="545"/>
                </a:lnTo>
                <a:lnTo>
                  <a:pt x="448" y="541"/>
                </a:lnTo>
                <a:lnTo>
                  <a:pt x="439" y="537"/>
                </a:lnTo>
                <a:lnTo>
                  <a:pt x="432" y="532"/>
                </a:lnTo>
                <a:lnTo>
                  <a:pt x="423" y="527"/>
                </a:lnTo>
                <a:lnTo>
                  <a:pt x="415" y="521"/>
                </a:lnTo>
                <a:lnTo>
                  <a:pt x="406" y="514"/>
                </a:lnTo>
                <a:lnTo>
                  <a:pt x="397" y="508"/>
                </a:lnTo>
                <a:lnTo>
                  <a:pt x="389" y="501"/>
                </a:lnTo>
                <a:lnTo>
                  <a:pt x="379" y="492"/>
                </a:lnTo>
                <a:lnTo>
                  <a:pt x="370" y="484"/>
                </a:lnTo>
                <a:lnTo>
                  <a:pt x="360" y="475"/>
                </a:lnTo>
                <a:lnTo>
                  <a:pt x="350" y="465"/>
                </a:lnTo>
                <a:lnTo>
                  <a:pt x="340" y="455"/>
                </a:lnTo>
                <a:lnTo>
                  <a:pt x="330" y="445"/>
                </a:lnTo>
                <a:lnTo>
                  <a:pt x="320" y="433"/>
                </a:lnTo>
                <a:lnTo>
                  <a:pt x="308" y="422"/>
                </a:lnTo>
                <a:lnTo>
                  <a:pt x="297" y="410"/>
                </a:lnTo>
                <a:lnTo>
                  <a:pt x="287" y="397"/>
                </a:lnTo>
                <a:lnTo>
                  <a:pt x="275" y="384"/>
                </a:lnTo>
                <a:lnTo>
                  <a:pt x="262" y="370"/>
                </a:lnTo>
                <a:lnTo>
                  <a:pt x="251" y="355"/>
                </a:lnTo>
                <a:lnTo>
                  <a:pt x="239" y="341"/>
                </a:lnTo>
                <a:lnTo>
                  <a:pt x="226" y="325"/>
                </a:lnTo>
                <a:lnTo>
                  <a:pt x="215" y="309"/>
                </a:lnTo>
                <a:lnTo>
                  <a:pt x="202" y="294"/>
                </a:lnTo>
                <a:lnTo>
                  <a:pt x="189" y="281"/>
                </a:lnTo>
                <a:lnTo>
                  <a:pt x="177" y="266"/>
                </a:lnTo>
                <a:lnTo>
                  <a:pt x="166" y="253"/>
                </a:lnTo>
                <a:lnTo>
                  <a:pt x="154" y="240"/>
                </a:lnTo>
                <a:lnTo>
                  <a:pt x="144" y="227"/>
                </a:lnTo>
                <a:lnTo>
                  <a:pt x="134" y="214"/>
                </a:lnTo>
                <a:lnTo>
                  <a:pt x="124" y="203"/>
                </a:lnTo>
                <a:lnTo>
                  <a:pt x="114" y="191"/>
                </a:lnTo>
                <a:lnTo>
                  <a:pt x="104" y="180"/>
                </a:lnTo>
                <a:lnTo>
                  <a:pt x="95" y="170"/>
                </a:lnTo>
                <a:lnTo>
                  <a:pt x="86" y="160"/>
                </a:lnTo>
                <a:lnTo>
                  <a:pt x="78" y="150"/>
                </a:lnTo>
                <a:lnTo>
                  <a:pt x="71" y="139"/>
                </a:lnTo>
                <a:lnTo>
                  <a:pt x="63" y="131"/>
                </a:lnTo>
                <a:lnTo>
                  <a:pt x="56" y="122"/>
                </a:lnTo>
                <a:lnTo>
                  <a:pt x="49" y="114"/>
                </a:lnTo>
                <a:lnTo>
                  <a:pt x="43" y="105"/>
                </a:lnTo>
                <a:lnTo>
                  <a:pt x="37" y="98"/>
                </a:lnTo>
                <a:lnTo>
                  <a:pt x="32" y="91"/>
                </a:lnTo>
                <a:lnTo>
                  <a:pt x="26" y="83"/>
                </a:lnTo>
                <a:lnTo>
                  <a:pt x="22" y="78"/>
                </a:lnTo>
                <a:lnTo>
                  <a:pt x="17" y="72"/>
                </a:lnTo>
                <a:lnTo>
                  <a:pt x="14" y="66"/>
                </a:lnTo>
                <a:lnTo>
                  <a:pt x="10" y="60"/>
                </a:lnTo>
                <a:lnTo>
                  <a:pt x="7" y="56"/>
                </a:lnTo>
                <a:lnTo>
                  <a:pt x="4" y="52"/>
                </a:lnTo>
                <a:lnTo>
                  <a:pt x="3" y="49"/>
                </a:lnTo>
                <a:lnTo>
                  <a:pt x="1" y="44"/>
                </a:lnTo>
                <a:lnTo>
                  <a:pt x="0" y="42"/>
                </a:lnTo>
                <a:lnTo>
                  <a:pt x="0" y="39"/>
                </a:lnTo>
                <a:lnTo>
                  <a:pt x="0" y="37"/>
                </a:lnTo>
                <a:lnTo>
                  <a:pt x="0" y="34"/>
                </a:lnTo>
                <a:lnTo>
                  <a:pt x="1" y="32"/>
                </a:lnTo>
                <a:lnTo>
                  <a:pt x="3" y="29"/>
                </a:lnTo>
                <a:lnTo>
                  <a:pt x="6" y="26"/>
                </a:lnTo>
                <a:lnTo>
                  <a:pt x="10" y="24"/>
                </a:lnTo>
                <a:lnTo>
                  <a:pt x="14" y="21"/>
                </a:lnTo>
                <a:lnTo>
                  <a:pt x="20" y="20"/>
                </a:lnTo>
                <a:lnTo>
                  <a:pt x="26" y="19"/>
                </a:lnTo>
                <a:lnTo>
                  <a:pt x="33" y="17"/>
                </a:lnTo>
                <a:lnTo>
                  <a:pt x="40" y="14"/>
                </a:lnTo>
                <a:lnTo>
                  <a:pt x="48" y="13"/>
                </a:lnTo>
                <a:lnTo>
                  <a:pt x="56" y="11"/>
                </a:lnTo>
                <a:lnTo>
                  <a:pt x="66" y="8"/>
                </a:lnTo>
                <a:lnTo>
                  <a:pt x="75" y="6"/>
                </a:lnTo>
                <a:lnTo>
                  <a:pt x="86" y="3"/>
                </a:lnTo>
                <a:lnTo>
                  <a:pt x="96" y="0"/>
                </a:lnTo>
                <a:lnTo>
                  <a:pt x="108" y="0"/>
                </a:lnTo>
                <a:lnTo>
                  <a:pt x="121" y="0"/>
                </a:lnTo>
                <a:lnTo>
                  <a:pt x="134" y="1"/>
                </a:lnTo>
                <a:lnTo>
                  <a:pt x="148" y="3"/>
                </a:lnTo>
                <a:lnTo>
                  <a:pt x="163" y="6"/>
                </a:lnTo>
                <a:lnTo>
                  <a:pt x="180" y="8"/>
                </a:lnTo>
                <a:lnTo>
                  <a:pt x="196" y="11"/>
                </a:lnTo>
                <a:lnTo>
                  <a:pt x="215" y="16"/>
                </a:lnTo>
                <a:lnTo>
                  <a:pt x="233" y="20"/>
                </a:lnTo>
                <a:lnTo>
                  <a:pt x="252" y="26"/>
                </a:lnTo>
                <a:lnTo>
                  <a:pt x="274" y="32"/>
                </a:lnTo>
                <a:lnTo>
                  <a:pt x="295" y="39"/>
                </a:lnTo>
                <a:lnTo>
                  <a:pt x="317" y="47"/>
                </a:lnTo>
                <a:lnTo>
                  <a:pt x="340" y="56"/>
                </a:lnTo>
                <a:lnTo>
                  <a:pt x="364" y="66"/>
                </a:lnTo>
                <a:lnTo>
                  <a:pt x="390" y="76"/>
                </a:lnTo>
                <a:lnTo>
                  <a:pt x="415" y="88"/>
                </a:lnTo>
                <a:lnTo>
                  <a:pt x="439" y="98"/>
                </a:lnTo>
                <a:lnTo>
                  <a:pt x="462" y="109"/>
                </a:lnTo>
                <a:lnTo>
                  <a:pt x="484" y="121"/>
                </a:lnTo>
                <a:lnTo>
                  <a:pt x="505" y="132"/>
                </a:lnTo>
                <a:lnTo>
                  <a:pt x="524" y="144"/>
                </a:lnTo>
                <a:lnTo>
                  <a:pt x="543" y="155"/>
                </a:lnTo>
                <a:lnTo>
                  <a:pt x="560" y="168"/>
                </a:lnTo>
                <a:lnTo>
                  <a:pt x="576" y="181"/>
                </a:lnTo>
                <a:lnTo>
                  <a:pt x="583" y="188"/>
                </a:lnTo>
                <a:lnTo>
                  <a:pt x="590" y="194"/>
                </a:lnTo>
                <a:lnTo>
                  <a:pt x="597" y="201"/>
                </a:lnTo>
                <a:lnTo>
                  <a:pt x="603" y="209"/>
                </a:lnTo>
                <a:lnTo>
                  <a:pt x="609" y="216"/>
                </a:lnTo>
                <a:lnTo>
                  <a:pt x="615" y="223"/>
                </a:lnTo>
                <a:lnTo>
                  <a:pt x="620" y="230"/>
                </a:lnTo>
                <a:lnTo>
                  <a:pt x="625" y="239"/>
                </a:lnTo>
                <a:lnTo>
                  <a:pt x="629" y="246"/>
                </a:lnTo>
                <a:lnTo>
                  <a:pt x="632" y="255"/>
                </a:lnTo>
                <a:lnTo>
                  <a:pt x="636" y="263"/>
                </a:lnTo>
                <a:lnTo>
                  <a:pt x="639" y="272"/>
                </a:lnTo>
                <a:lnTo>
                  <a:pt x="642" y="281"/>
                </a:lnTo>
                <a:lnTo>
                  <a:pt x="644" y="289"/>
                </a:lnTo>
                <a:lnTo>
                  <a:pt x="646" y="306"/>
                </a:lnTo>
                <a:lnTo>
                  <a:pt x="649" y="324"/>
                </a:lnTo>
                <a:lnTo>
                  <a:pt x="652" y="340"/>
                </a:lnTo>
                <a:lnTo>
                  <a:pt x="654" y="355"/>
                </a:lnTo>
                <a:lnTo>
                  <a:pt x="655" y="368"/>
                </a:lnTo>
                <a:lnTo>
                  <a:pt x="656" y="383"/>
                </a:lnTo>
                <a:lnTo>
                  <a:pt x="658" y="396"/>
                </a:lnTo>
                <a:lnTo>
                  <a:pt x="658" y="407"/>
                </a:lnTo>
                <a:lnTo>
                  <a:pt x="658" y="419"/>
                </a:lnTo>
                <a:lnTo>
                  <a:pt x="656" y="430"/>
                </a:lnTo>
                <a:lnTo>
                  <a:pt x="655" y="440"/>
                </a:lnTo>
                <a:lnTo>
                  <a:pt x="654" y="450"/>
                </a:lnTo>
                <a:lnTo>
                  <a:pt x="652" y="459"/>
                </a:lnTo>
                <a:lnTo>
                  <a:pt x="649" y="468"/>
                </a:lnTo>
                <a:lnTo>
                  <a:pt x="646" y="475"/>
                </a:lnTo>
                <a:lnTo>
                  <a:pt x="644" y="484"/>
                </a:lnTo>
                <a:lnTo>
                  <a:pt x="639" y="494"/>
                </a:lnTo>
                <a:lnTo>
                  <a:pt x="635" y="502"/>
                </a:lnTo>
                <a:lnTo>
                  <a:pt x="629" y="511"/>
                </a:lnTo>
                <a:lnTo>
                  <a:pt x="622" y="520"/>
                </a:lnTo>
                <a:lnTo>
                  <a:pt x="615" y="527"/>
                </a:lnTo>
                <a:lnTo>
                  <a:pt x="608" y="532"/>
                </a:lnTo>
                <a:lnTo>
                  <a:pt x="599" y="538"/>
                </a:lnTo>
                <a:lnTo>
                  <a:pt x="590" y="543"/>
                </a:lnTo>
                <a:lnTo>
                  <a:pt x="580" y="547"/>
                </a:lnTo>
                <a:lnTo>
                  <a:pt x="570" y="551"/>
                </a:lnTo>
                <a:lnTo>
                  <a:pt x="560" y="554"/>
                </a:lnTo>
                <a:lnTo>
                  <a:pt x="550" y="556"/>
                </a:lnTo>
                <a:lnTo>
                  <a:pt x="540" y="558"/>
                </a:lnTo>
                <a:lnTo>
                  <a:pt x="528" y="558"/>
                </a:lnTo>
                <a:lnTo>
                  <a:pt x="518" y="560"/>
                </a:lnTo>
                <a:lnTo>
                  <a:pt x="507" y="56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Freeform 91"/>
          <p:cNvSpPr/>
          <p:nvPr/>
        </p:nvSpPr>
        <p:spPr>
          <a:xfrm>
            <a:off x="5584680" y="4011480"/>
            <a:ext cx="534960" cy="1003320"/>
          </a:xfrm>
          <a:custGeom>
            <a:avLst/>
            <a:gdLst/>
            <a:ahLst/>
            <a:rect l="l" t="t" r="r" b="b"/>
            <a:pathLst>
              <a:path w="1009" h="1898">
                <a:moveTo>
                  <a:pt x="63" y="1453"/>
                </a:moveTo>
                <a:lnTo>
                  <a:pt x="73" y="1453"/>
                </a:lnTo>
                <a:lnTo>
                  <a:pt x="84" y="1451"/>
                </a:lnTo>
                <a:lnTo>
                  <a:pt x="94" y="1451"/>
                </a:lnTo>
                <a:lnTo>
                  <a:pt x="104" y="1450"/>
                </a:lnTo>
                <a:lnTo>
                  <a:pt x="112" y="1448"/>
                </a:lnTo>
                <a:lnTo>
                  <a:pt x="121" y="1445"/>
                </a:lnTo>
                <a:lnTo>
                  <a:pt x="128" y="1444"/>
                </a:lnTo>
                <a:lnTo>
                  <a:pt x="137" y="1441"/>
                </a:lnTo>
                <a:lnTo>
                  <a:pt x="144" y="1438"/>
                </a:lnTo>
                <a:lnTo>
                  <a:pt x="150" y="1435"/>
                </a:lnTo>
                <a:lnTo>
                  <a:pt x="156" y="1431"/>
                </a:lnTo>
                <a:lnTo>
                  <a:pt x="161" y="1428"/>
                </a:lnTo>
                <a:lnTo>
                  <a:pt x="167" y="1425"/>
                </a:lnTo>
                <a:lnTo>
                  <a:pt x="171" y="1421"/>
                </a:lnTo>
                <a:lnTo>
                  <a:pt x="176" y="1418"/>
                </a:lnTo>
                <a:lnTo>
                  <a:pt x="180" y="1414"/>
                </a:lnTo>
                <a:lnTo>
                  <a:pt x="183" y="1411"/>
                </a:lnTo>
                <a:lnTo>
                  <a:pt x="186" y="1408"/>
                </a:lnTo>
                <a:lnTo>
                  <a:pt x="189" y="1402"/>
                </a:lnTo>
                <a:lnTo>
                  <a:pt x="193" y="1397"/>
                </a:lnTo>
                <a:lnTo>
                  <a:pt x="197" y="1389"/>
                </a:lnTo>
                <a:lnTo>
                  <a:pt x="203" y="1381"/>
                </a:lnTo>
                <a:lnTo>
                  <a:pt x="210" y="1371"/>
                </a:lnTo>
                <a:lnTo>
                  <a:pt x="217" y="1359"/>
                </a:lnTo>
                <a:lnTo>
                  <a:pt x="225" y="1346"/>
                </a:lnTo>
                <a:lnTo>
                  <a:pt x="233" y="1333"/>
                </a:lnTo>
                <a:lnTo>
                  <a:pt x="242" y="1317"/>
                </a:lnTo>
                <a:lnTo>
                  <a:pt x="252" y="1302"/>
                </a:lnTo>
                <a:lnTo>
                  <a:pt x="263" y="1283"/>
                </a:lnTo>
                <a:lnTo>
                  <a:pt x="274" y="1264"/>
                </a:lnTo>
                <a:lnTo>
                  <a:pt x="287" y="1244"/>
                </a:lnTo>
                <a:lnTo>
                  <a:pt x="298" y="1221"/>
                </a:lnTo>
                <a:lnTo>
                  <a:pt x="312" y="1198"/>
                </a:lnTo>
                <a:lnTo>
                  <a:pt x="325" y="1173"/>
                </a:lnTo>
                <a:lnTo>
                  <a:pt x="340" y="1147"/>
                </a:lnTo>
                <a:lnTo>
                  <a:pt x="356" y="1120"/>
                </a:lnTo>
                <a:lnTo>
                  <a:pt x="371" y="1091"/>
                </a:lnTo>
                <a:lnTo>
                  <a:pt x="389" y="1061"/>
                </a:lnTo>
                <a:lnTo>
                  <a:pt x="406" y="1029"/>
                </a:lnTo>
                <a:lnTo>
                  <a:pt x="423" y="996"/>
                </a:lnTo>
                <a:lnTo>
                  <a:pt x="432" y="979"/>
                </a:lnTo>
                <a:lnTo>
                  <a:pt x="442" y="962"/>
                </a:lnTo>
                <a:lnTo>
                  <a:pt x="452" y="943"/>
                </a:lnTo>
                <a:lnTo>
                  <a:pt x="461" y="926"/>
                </a:lnTo>
                <a:lnTo>
                  <a:pt x="471" y="907"/>
                </a:lnTo>
                <a:lnTo>
                  <a:pt x="481" y="888"/>
                </a:lnTo>
                <a:lnTo>
                  <a:pt x="491" y="868"/>
                </a:lnTo>
                <a:lnTo>
                  <a:pt x="501" y="850"/>
                </a:lnTo>
                <a:lnTo>
                  <a:pt x="513" y="829"/>
                </a:lnTo>
                <a:lnTo>
                  <a:pt x="523" y="809"/>
                </a:lnTo>
                <a:lnTo>
                  <a:pt x="534" y="788"/>
                </a:lnTo>
                <a:lnTo>
                  <a:pt x="544" y="767"/>
                </a:lnTo>
                <a:lnTo>
                  <a:pt x="556" y="746"/>
                </a:lnTo>
                <a:lnTo>
                  <a:pt x="567" y="724"/>
                </a:lnTo>
                <a:lnTo>
                  <a:pt x="579" y="701"/>
                </a:lnTo>
                <a:lnTo>
                  <a:pt x="590" y="680"/>
                </a:lnTo>
                <a:lnTo>
                  <a:pt x="612" y="636"/>
                </a:lnTo>
                <a:lnTo>
                  <a:pt x="632" y="595"/>
                </a:lnTo>
                <a:lnTo>
                  <a:pt x="652" y="554"/>
                </a:lnTo>
                <a:lnTo>
                  <a:pt x="672" y="516"/>
                </a:lnTo>
                <a:lnTo>
                  <a:pt x="691" y="478"/>
                </a:lnTo>
                <a:lnTo>
                  <a:pt x="710" y="442"/>
                </a:lnTo>
                <a:lnTo>
                  <a:pt x="728" y="408"/>
                </a:lnTo>
                <a:lnTo>
                  <a:pt x="746" y="373"/>
                </a:lnTo>
                <a:lnTo>
                  <a:pt x="763" y="341"/>
                </a:lnTo>
                <a:lnTo>
                  <a:pt x="779" y="311"/>
                </a:lnTo>
                <a:lnTo>
                  <a:pt x="796" y="282"/>
                </a:lnTo>
                <a:lnTo>
                  <a:pt x="811" y="255"/>
                </a:lnTo>
                <a:lnTo>
                  <a:pt x="826" y="228"/>
                </a:lnTo>
                <a:lnTo>
                  <a:pt x="839" y="203"/>
                </a:lnTo>
                <a:lnTo>
                  <a:pt x="854" y="180"/>
                </a:lnTo>
                <a:lnTo>
                  <a:pt x="867" y="158"/>
                </a:lnTo>
                <a:lnTo>
                  <a:pt x="880" y="137"/>
                </a:lnTo>
                <a:lnTo>
                  <a:pt x="891" y="118"/>
                </a:lnTo>
                <a:lnTo>
                  <a:pt x="903" y="101"/>
                </a:lnTo>
                <a:lnTo>
                  <a:pt x="914" y="85"/>
                </a:lnTo>
                <a:lnTo>
                  <a:pt x="924" y="69"/>
                </a:lnTo>
                <a:lnTo>
                  <a:pt x="934" y="56"/>
                </a:lnTo>
                <a:lnTo>
                  <a:pt x="939" y="51"/>
                </a:lnTo>
                <a:lnTo>
                  <a:pt x="943" y="45"/>
                </a:lnTo>
                <a:lnTo>
                  <a:pt x="947" y="39"/>
                </a:lnTo>
                <a:lnTo>
                  <a:pt x="952" y="33"/>
                </a:lnTo>
                <a:lnTo>
                  <a:pt x="956" y="29"/>
                </a:lnTo>
                <a:lnTo>
                  <a:pt x="960" y="25"/>
                </a:lnTo>
                <a:lnTo>
                  <a:pt x="963" y="20"/>
                </a:lnTo>
                <a:lnTo>
                  <a:pt x="967" y="17"/>
                </a:lnTo>
                <a:lnTo>
                  <a:pt x="970" y="13"/>
                </a:lnTo>
                <a:lnTo>
                  <a:pt x="975" y="10"/>
                </a:lnTo>
                <a:lnTo>
                  <a:pt x="978" y="9"/>
                </a:lnTo>
                <a:lnTo>
                  <a:pt x="980" y="6"/>
                </a:lnTo>
                <a:lnTo>
                  <a:pt x="983" y="4"/>
                </a:lnTo>
                <a:lnTo>
                  <a:pt x="986" y="3"/>
                </a:lnTo>
                <a:lnTo>
                  <a:pt x="989" y="2"/>
                </a:lnTo>
                <a:lnTo>
                  <a:pt x="992" y="2"/>
                </a:lnTo>
                <a:lnTo>
                  <a:pt x="993" y="0"/>
                </a:lnTo>
                <a:lnTo>
                  <a:pt x="996" y="0"/>
                </a:lnTo>
                <a:lnTo>
                  <a:pt x="998" y="2"/>
                </a:lnTo>
                <a:lnTo>
                  <a:pt x="1001" y="2"/>
                </a:lnTo>
                <a:lnTo>
                  <a:pt x="1002" y="3"/>
                </a:lnTo>
                <a:lnTo>
                  <a:pt x="1003" y="4"/>
                </a:lnTo>
                <a:lnTo>
                  <a:pt x="1005" y="6"/>
                </a:lnTo>
                <a:lnTo>
                  <a:pt x="1006" y="9"/>
                </a:lnTo>
                <a:lnTo>
                  <a:pt x="1006" y="12"/>
                </a:lnTo>
                <a:lnTo>
                  <a:pt x="1008" y="16"/>
                </a:lnTo>
                <a:lnTo>
                  <a:pt x="1008" y="19"/>
                </a:lnTo>
                <a:lnTo>
                  <a:pt x="1009" y="23"/>
                </a:lnTo>
                <a:lnTo>
                  <a:pt x="1009" y="29"/>
                </a:lnTo>
                <a:lnTo>
                  <a:pt x="1009" y="33"/>
                </a:lnTo>
                <a:lnTo>
                  <a:pt x="1009" y="39"/>
                </a:lnTo>
                <a:lnTo>
                  <a:pt x="1009" y="45"/>
                </a:lnTo>
                <a:lnTo>
                  <a:pt x="1009" y="52"/>
                </a:lnTo>
                <a:lnTo>
                  <a:pt x="1008" y="59"/>
                </a:lnTo>
                <a:lnTo>
                  <a:pt x="1008" y="66"/>
                </a:lnTo>
                <a:lnTo>
                  <a:pt x="1006" y="74"/>
                </a:lnTo>
                <a:lnTo>
                  <a:pt x="1005" y="82"/>
                </a:lnTo>
                <a:lnTo>
                  <a:pt x="1005" y="91"/>
                </a:lnTo>
                <a:lnTo>
                  <a:pt x="1003" y="99"/>
                </a:lnTo>
                <a:lnTo>
                  <a:pt x="1002" y="110"/>
                </a:lnTo>
                <a:lnTo>
                  <a:pt x="999" y="120"/>
                </a:lnTo>
                <a:lnTo>
                  <a:pt x="998" y="130"/>
                </a:lnTo>
                <a:lnTo>
                  <a:pt x="996" y="141"/>
                </a:lnTo>
                <a:lnTo>
                  <a:pt x="993" y="151"/>
                </a:lnTo>
                <a:lnTo>
                  <a:pt x="990" y="164"/>
                </a:lnTo>
                <a:lnTo>
                  <a:pt x="989" y="176"/>
                </a:lnTo>
                <a:lnTo>
                  <a:pt x="986" y="189"/>
                </a:lnTo>
                <a:lnTo>
                  <a:pt x="983" y="202"/>
                </a:lnTo>
                <a:lnTo>
                  <a:pt x="979" y="215"/>
                </a:lnTo>
                <a:lnTo>
                  <a:pt x="976" y="229"/>
                </a:lnTo>
                <a:lnTo>
                  <a:pt x="973" y="243"/>
                </a:lnTo>
                <a:lnTo>
                  <a:pt x="969" y="258"/>
                </a:lnTo>
                <a:lnTo>
                  <a:pt x="966" y="272"/>
                </a:lnTo>
                <a:lnTo>
                  <a:pt x="962" y="288"/>
                </a:lnTo>
                <a:lnTo>
                  <a:pt x="957" y="304"/>
                </a:lnTo>
                <a:lnTo>
                  <a:pt x="953" y="321"/>
                </a:lnTo>
                <a:lnTo>
                  <a:pt x="949" y="337"/>
                </a:lnTo>
                <a:lnTo>
                  <a:pt x="944" y="354"/>
                </a:lnTo>
                <a:lnTo>
                  <a:pt x="939" y="373"/>
                </a:lnTo>
                <a:lnTo>
                  <a:pt x="934" y="390"/>
                </a:lnTo>
                <a:lnTo>
                  <a:pt x="929" y="409"/>
                </a:lnTo>
                <a:lnTo>
                  <a:pt x="924" y="428"/>
                </a:lnTo>
                <a:lnTo>
                  <a:pt x="918" y="448"/>
                </a:lnTo>
                <a:lnTo>
                  <a:pt x="913" y="468"/>
                </a:lnTo>
                <a:lnTo>
                  <a:pt x="907" y="488"/>
                </a:lnTo>
                <a:lnTo>
                  <a:pt x="901" y="508"/>
                </a:lnTo>
                <a:lnTo>
                  <a:pt x="895" y="530"/>
                </a:lnTo>
                <a:lnTo>
                  <a:pt x="888" y="550"/>
                </a:lnTo>
                <a:lnTo>
                  <a:pt x="883" y="573"/>
                </a:lnTo>
                <a:lnTo>
                  <a:pt x="875" y="595"/>
                </a:lnTo>
                <a:lnTo>
                  <a:pt x="868" y="618"/>
                </a:lnTo>
                <a:lnTo>
                  <a:pt x="862" y="641"/>
                </a:lnTo>
                <a:lnTo>
                  <a:pt x="855" y="664"/>
                </a:lnTo>
                <a:lnTo>
                  <a:pt x="848" y="688"/>
                </a:lnTo>
                <a:lnTo>
                  <a:pt x="841" y="713"/>
                </a:lnTo>
                <a:lnTo>
                  <a:pt x="832" y="737"/>
                </a:lnTo>
                <a:lnTo>
                  <a:pt x="825" y="762"/>
                </a:lnTo>
                <a:lnTo>
                  <a:pt x="816" y="788"/>
                </a:lnTo>
                <a:lnTo>
                  <a:pt x="809" y="814"/>
                </a:lnTo>
                <a:lnTo>
                  <a:pt x="800" y="839"/>
                </a:lnTo>
                <a:lnTo>
                  <a:pt x="792" y="867"/>
                </a:lnTo>
                <a:lnTo>
                  <a:pt x="783" y="894"/>
                </a:lnTo>
                <a:lnTo>
                  <a:pt x="775" y="921"/>
                </a:lnTo>
                <a:lnTo>
                  <a:pt x="766" y="949"/>
                </a:lnTo>
                <a:lnTo>
                  <a:pt x="756" y="979"/>
                </a:lnTo>
                <a:lnTo>
                  <a:pt x="746" y="1006"/>
                </a:lnTo>
                <a:lnTo>
                  <a:pt x="737" y="1035"/>
                </a:lnTo>
                <a:lnTo>
                  <a:pt x="727" y="1063"/>
                </a:lnTo>
                <a:lnTo>
                  <a:pt x="718" y="1090"/>
                </a:lnTo>
                <a:lnTo>
                  <a:pt x="708" y="1116"/>
                </a:lnTo>
                <a:lnTo>
                  <a:pt x="700" y="1142"/>
                </a:lnTo>
                <a:lnTo>
                  <a:pt x="690" y="1168"/>
                </a:lnTo>
                <a:lnTo>
                  <a:pt x="681" y="1194"/>
                </a:lnTo>
                <a:lnTo>
                  <a:pt x="672" y="1218"/>
                </a:lnTo>
                <a:lnTo>
                  <a:pt x="664" y="1243"/>
                </a:lnTo>
                <a:lnTo>
                  <a:pt x="655" y="1266"/>
                </a:lnTo>
                <a:lnTo>
                  <a:pt x="646" y="1289"/>
                </a:lnTo>
                <a:lnTo>
                  <a:pt x="638" y="1312"/>
                </a:lnTo>
                <a:lnTo>
                  <a:pt x="629" y="1335"/>
                </a:lnTo>
                <a:lnTo>
                  <a:pt x="621" y="1356"/>
                </a:lnTo>
                <a:lnTo>
                  <a:pt x="613" y="1378"/>
                </a:lnTo>
                <a:lnTo>
                  <a:pt x="605" y="1399"/>
                </a:lnTo>
                <a:lnTo>
                  <a:pt x="597" y="1420"/>
                </a:lnTo>
                <a:lnTo>
                  <a:pt x="589" y="1441"/>
                </a:lnTo>
                <a:lnTo>
                  <a:pt x="582" y="1460"/>
                </a:lnTo>
                <a:lnTo>
                  <a:pt x="573" y="1480"/>
                </a:lnTo>
                <a:lnTo>
                  <a:pt x="566" y="1499"/>
                </a:lnTo>
                <a:lnTo>
                  <a:pt x="559" y="1517"/>
                </a:lnTo>
                <a:lnTo>
                  <a:pt x="551" y="1535"/>
                </a:lnTo>
                <a:lnTo>
                  <a:pt x="544" y="1552"/>
                </a:lnTo>
                <a:lnTo>
                  <a:pt x="537" y="1569"/>
                </a:lnTo>
                <a:lnTo>
                  <a:pt x="530" y="1587"/>
                </a:lnTo>
                <a:lnTo>
                  <a:pt x="524" y="1602"/>
                </a:lnTo>
                <a:lnTo>
                  <a:pt x="517" y="1618"/>
                </a:lnTo>
                <a:lnTo>
                  <a:pt x="510" y="1634"/>
                </a:lnTo>
                <a:lnTo>
                  <a:pt x="504" y="1648"/>
                </a:lnTo>
                <a:lnTo>
                  <a:pt x="497" y="1663"/>
                </a:lnTo>
                <a:lnTo>
                  <a:pt x="491" y="1677"/>
                </a:lnTo>
                <a:lnTo>
                  <a:pt x="485" y="1692"/>
                </a:lnTo>
                <a:lnTo>
                  <a:pt x="478" y="1705"/>
                </a:lnTo>
                <a:lnTo>
                  <a:pt x="472" y="1718"/>
                </a:lnTo>
                <a:lnTo>
                  <a:pt x="466" y="1729"/>
                </a:lnTo>
                <a:lnTo>
                  <a:pt x="461" y="1741"/>
                </a:lnTo>
                <a:lnTo>
                  <a:pt x="455" y="1752"/>
                </a:lnTo>
                <a:lnTo>
                  <a:pt x="451" y="1764"/>
                </a:lnTo>
                <a:lnTo>
                  <a:pt x="445" y="1774"/>
                </a:lnTo>
                <a:lnTo>
                  <a:pt x="439" y="1784"/>
                </a:lnTo>
                <a:lnTo>
                  <a:pt x="435" y="1794"/>
                </a:lnTo>
                <a:lnTo>
                  <a:pt x="429" y="1804"/>
                </a:lnTo>
                <a:lnTo>
                  <a:pt x="425" y="1813"/>
                </a:lnTo>
                <a:lnTo>
                  <a:pt x="419" y="1820"/>
                </a:lnTo>
                <a:lnTo>
                  <a:pt x="415" y="1828"/>
                </a:lnTo>
                <a:lnTo>
                  <a:pt x="410" y="1836"/>
                </a:lnTo>
                <a:lnTo>
                  <a:pt x="406" y="1843"/>
                </a:lnTo>
                <a:lnTo>
                  <a:pt x="402" y="1850"/>
                </a:lnTo>
                <a:lnTo>
                  <a:pt x="397" y="1856"/>
                </a:lnTo>
                <a:lnTo>
                  <a:pt x="393" y="1862"/>
                </a:lnTo>
                <a:lnTo>
                  <a:pt x="389" y="1867"/>
                </a:lnTo>
                <a:lnTo>
                  <a:pt x="384" y="1872"/>
                </a:lnTo>
                <a:lnTo>
                  <a:pt x="382" y="1876"/>
                </a:lnTo>
                <a:lnTo>
                  <a:pt x="377" y="1880"/>
                </a:lnTo>
                <a:lnTo>
                  <a:pt x="374" y="1885"/>
                </a:lnTo>
                <a:lnTo>
                  <a:pt x="370" y="1887"/>
                </a:lnTo>
                <a:lnTo>
                  <a:pt x="367" y="1890"/>
                </a:lnTo>
                <a:lnTo>
                  <a:pt x="364" y="1893"/>
                </a:lnTo>
                <a:lnTo>
                  <a:pt x="361" y="1895"/>
                </a:lnTo>
                <a:lnTo>
                  <a:pt x="359" y="1896"/>
                </a:lnTo>
                <a:lnTo>
                  <a:pt x="356" y="1898"/>
                </a:lnTo>
                <a:lnTo>
                  <a:pt x="344" y="1898"/>
                </a:lnTo>
                <a:lnTo>
                  <a:pt x="333" y="1895"/>
                </a:lnTo>
                <a:lnTo>
                  <a:pt x="321" y="1892"/>
                </a:lnTo>
                <a:lnTo>
                  <a:pt x="308" y="1887"/>
                </a:lnTo>
                <a:lnTo>
                  <a:pt x="295" y="1880"/>
                </a:lnTo>
                <a:lnTo>
                  <a:pt x="281" y="1873"/>
                </a:lnTo>
                <a:lnTo>
                  <a:pt x="268" y="1864"/>
                </a:lnTo>
                <a:lnTo>
                  <a:pt x="253" y="1854"/>
                </a:lnTo>
                <a:lnTo>
                  <a:pt x="238" y="1843"/>
                </a:lnTo>
                <a:lnTo>
                  <a:pt x="223" y="1830"/>
                </a:lnTo>
                <a:lnTo>
                  <a:pt x="207" y="1815"/>
                </a:lnTo>
                <a:lnTo>
                  <a:pt x="190" y="1800"/>
                </a:lnTo>
                <a:lnTo>
                  <a:pt x="174" y="1782"/>
                </a:lnTo>
                <a:lnTo>
                  <a:pt x="157" y="1765"/>
                </a:lnTo>
                <a:lnTo>
                  <a:pt x="140" y="1745"/>
                </a:lnTo>
                <a:lnTo>
                  <a:pt x="122" y="1723"/>
                </a:lnTo>
                <a:lnTo>
                  <a:pt x="104" y="1706"/>
                </a:lnTo>
                <a:lnTo>
                  <a:pt x="88" y="1687"/>
                </a:lnTo>
                <a:lnTo>
                  <a:pt x="73" y="1672"/>
                </a:lnTo>
                <a:lnTo>
                  <a:pt x="59" y="1654"/>
                </a:lnTo>
                <a:lnTo>
                  <a:pt x="48" y="1638"/>
                </a:lnTo>
                <a:lnTo>
                  <a:pt x="37" y="1623"/>
                </a:lnTo>
                <a:lnTo>
                  <a:pt x="27" y="1608"/>
                </a:lnTo>
                <a:lnTo>
                  <a:pt x="19" y="1592"/>
                </a:lnTo>
                <a:lnTo>
                  <a:pt x="13" y="1579"/>
                </a:lnTo>
                <a:lnTo>
                  <a:pt x="7" y="1565"/>
                </a:lnTo>
                <a:lnTo>
                  <a:pt x="3" y="1552"/>
                </a:lnTo>
                <a:lnTo>
                  <a:pt x="1" y="1539"/>
                </a:lnTo>
                <a:lnTo>
                  <a:pt x="0" y="1526"/>
                </a:lnTo>
                <a:lnTo>
                  <a:pt x="0" y="1515"/>
                </a:lnTo>
                <a:lnTo>
                  <a:pt x="1" y="1503"/>
                </a:lnTo>
                <a:lnTo>
                  <a:pt x="4" y="1492"/>
                </a:lnTo>
                <a:lnTo>
                  <a:pt x="4" y="1484"/>
                </a:lnTo>
                <a:lnTo>
                  <a:pt x="6" y="1479"/>
                </a:lnTo>
                <a:lnTo>
                  <a:pt x="6" y="1471"/>
                </a:lnTo>
                <a:lnTo>
                  <a:pt x="9" y="1467"/>
                </a:lnTo>
                <a:lnTo>
                  <a:pt x="10" y="1461"/>
                </a:lnTo>
                <a:lnTo>
                  <a:pt x="13" y="1457"/>
                </a:lnTo>
                <a:lnTo>
                  <a:pt x="16" y="1453"/>
                </a:lnTo>
                <a:lnTo>
                  <a:pt x="19" y="1450"/>
                </a:lnTo>
                <a:lnTo>
                  <a:pt x="23" y="1448"/>
                </a:lnTo>
                <a:lnTo>
                  <a:pt x="27" y="1447"/>
                </a:lnTo>
                <a:lnTo>
                  <a:pt x="32" y="1445"/>
                </a:lnTo>
                <a:lnTo>
                  <a:pt x="37" y="1445"/>
                </a:lnTo>
                <a:lnTo>
                  <a:pt x="43" y="1445"/>
                </a:lnTo>
                <a:lnTo>
                  <a:pt x="49" y="1447"/>
                </a:lnTo>
                <a:lnTo>
                  <a:pt x="56" y="1450"/>
                </a:lnTo>
                <a:lnTo>
                  <a:pt x="63" y="145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Freeform 92"/>
          <p:cNvSpPr/>
          <p:nvPr/>
        </p:nvSpPr>
        <p:spPr>
          <a:xfrm>
            <a:off x="6238800" y="4319640"/>
            <a:ext cx="1379520" cy="777960"/>
          </a:xfrm>
          <a:custGeom>
            <a:avLst/>
            <a:gdLst/>
            <a:ahLst/>
            <a:rect l="l" t="t" r="r" b="b"/>
            <a:pathLst>
              <a:path w="2608" h="1470">
                <a:moveTo>
                  <a:pt x="371" y="1392"/>
                </a:moveTo>
                <a:lnTo>
                  <a:pt x="360" y="1399"/>
                </a:lnTo>
                <a:lnTo>
                  <a:pt x="350" y="1407"/>
                </a:lnTo>
                <a:lnTo>
                  <a:pt x="338" y="1412"/>
                </a:lnTo>
                <a:lnTo>
                  <a:pt x="328" y="1418"/>
                </a:lnTo>
                <a:lnTo>
                  <a:pt x="306" y="1428"/>
                </a:lnTo>
                <a:lnTo>
                  <a:pt x="286" y="1438"/>
                </a:lnTo>
                <a:lnTo>
                  <a:pt x="266" y="1447"/>
                </a:lnTo>
                <a:lnTo>
                  <a:pt x="247" y="1454"/>
                </a:lnTo>
                <a:lnTo>
                  <a:pt x="239" y="1458"/>
                </a:lnTo>
                <a:lnTo>
                  <a:pt x="230" y="1461"/>
                </a:lnTo>
                <a:lnTo>
                  <a:pt x="223" y="1466"/>
                </a:lnTo>
                <a:lnTo>
                  <a:pt x="216" y="1470"/>
                </a:lnTo>
                <a:lnTo>
                  <a:pt x="207" y="1469"/>
                </a:lnTo>
                <a:lnTo>
                  <a:pt x="200" y="1469"/>
                </a:lnTo>
                <a:lnTo>
                  <a:pt x="193" y="1467"/>
                </a:lnTo>
                <a:lnTo>
                  <a:pt x="185" y="1466"/>
                </a:lnTo>
                <a:lnTo>
                  <a:pt x="178" y="1463"/>
                </a:lnTo>
                <a:lnTo>
                  <a:pt x="170" y="1460"/>
                </a:lnTo>
                <a:lnTo>
                  <a:pt x="162" y="1457"/>
                </a:lnTo>
                <a:lnTo>
                  <a:pt x="154" y="1453"/>
                </a:lnTo>
                <a:lnTo>
                  <a:pt x="145" y="1448"/>
                </a:lnTo>
                <a:lnTo>
                  <a:pt x="137" y="1443"/>
                </a:lnTo>
                <a:lnTo>
                  <a:pt x="128" y="1435"/>
                </a:lnTo>
                <a:lnTo>
                  <a:pt x="119" y="1428"/>
                </a:lnTo>
                <a:lnTo>
                  <a:pt x="109" y="1421"/>
                </a:lnTo>
                <a:lnTo>
                  <a:pt x="99" y="1412"/>
                </a:lnTo>
                <a:lnTo>
                  <a:pt x="89" y="1402"/>
                </a:lnTo>
                <a:lnTo>
                  <a:pt x="79" y="1392"/>
                </a:lnTo>
                <a:lnTo>
                  <a:pt x="67" y="1381"/>
                </a:lnTo>
                <a:lnTo>
                  <a:pt x="59" y="1371"/>
                </a:lnTo>
                <a:lnTo>
                  <a:pt x="50" y="1359"/>
                </a:lnTo>
                <a:lnTo>
                  <a:pt x="42" y="1349"/>
                </a:lnTo>
                <a:lnTo>
                  <a:pt x="34" y="1339"/>
                </a:lnTo>
                <a:lnTo>
                  <a:pt x="29" y="1329"/>
                </a:lnTo>
                <a:lnTo>
                  <a:pt x="23" y="1319"/>
                </a:lnTo>
                <a:lnTo>
                  <a:pt x="17" y="1310"/>
                </a:lnTo>
                <a:lnTo>
                  <a:pt x="13" y="1302"/>
                </a:lnTo>
                <a:lnTo>
                  <a:pt x="10" y="1293"/>
                </a:lnTo>
                <a:lnTo>
                  <a:pt x="7" y="1286"/>
                </a:lnTo>
                <a:lnTo>
                  <a:pt x="4" y="1279"/>
                </a:lnTo>
                <a:lnTo>
                  <a:pt x="3" y="1271"/>
                </a:lnTo>
                <a:lnTo>
                  <a:pt x="1" y="1266"/>
                </a:lnTo>
                <a:lnTo>
                  <a:pt x="0" y="1261"/>
                </a:lnTo>
                <a:lnTo>
                  <a:pt x="0" y="1257"/>
                </a:lnTo>
                <a:lnTo>
                  <a:pt x="0" y="1250"/>
                </a:lnTo>
                <a:lnTo>
                  <a:pt x="1" y="1243"/>
                </a:lnTo>
                <a:lnTo>
                  <a:pt x="1" y="1235"/>
                </a:lnTo>
                <a:lnTo>
                  <a:pt x="4" y="1228"/>
                </a:lnTo>
                <a:lnTo>
                  <a:pt x="6" y="1221"/>
                </a:lnTo>
                <a:lnTo>
                  <a:pt x="8" y="1214"/>
                </a:lnTo>
                <a:lnTo>
                  <a:pt x="11" y="1207"/>
                </a:lnTo>
                <a:lnTo>
                  <a:pt x="14" y="1199"/>
                </a:lnTo>
                <a:lnTo>
                  <a:pt x="18" y="1192"/>
                </a:lnTo>
                <a:lnTo>
                  <a:pt x="23" y="1185"/>
                </a:lnTo>
                <a:lnTo>
                  <a:pt x="29" y="1178"/>
                </a:lnTo>
                <a:lnTo>
                  <a:pt x="33" y="1169"/>
                </a:lnTo>
                <a:lnTo>
                  <a:pt x="39" y="1162"/>
                </a:lnTo>
                <a:lnTo>
                  <a:pt x="46" y="1155"/>
                </a:lnTo>
                <a:lnTo>
                  <a:pt x="52" y="1148"/>
                </a:lnTo>
                <a:lnTo>
                  <a:pt x="59" y="1140"/>
                </a:lnTo>
                <a:lnTo>
                  <a:pt x="63" y="1139"/>
                </a:lnTo>
                <a:lnTo>
                  <a:pt x="66" y="1136"/>
                </a:lnTo>
                <a:lnTo>
                  <a:pt x="70" y="1132"/>
                </a:lnTo>
                <a:lnTo>
                  <a:pt x="73" y="1129"/>
                </a:lnTo>
                <a:lnTo>
                  <a:pt x="77" y="1125"/>
                </a:lnTo>
                <a:lnTo>
                  <a:pt x="80" y="1119"/>
                </a:lnTo>
                <a:lnTo>
                  <a:pt x="85" y="1114"/>
                </a:lnTo>
                <a:lnTo>
                  <a:pt x="88" y="1107"/>
                </a:lnTo>
                <a:lnTo>
                  <a:pt x="92" y="1101"/>
                </a:lnTo>
                <a:lnTo>
                  <a:pt x="95" y="1094"/>
                </a:lnTo>
                <a:lnTo>
                  <a:pt x="98" y="1086"/>
                </a:lnTo>
                <a:lnTo>
                  <a:pt x="102" y="1078"/>
                </a:lnTo>
                <a:lnTo>
                  <a:pt x="105" y="1068"/>
                </a:lnTo>
                <a:lnTo>
                  <a:pt x="108" y="1060"/>
                </a:lnTo>
                <a:lnTo>
                  <a:pt x="112" y="1050"/>
                </a:lnTo>
                <a:lnTo>
                  <a:pt x="115" y="1040"/>
                </a:lnTo>
                <a:lnTo>
                  <a:pt x="118" y="1028"/>
                </a:lnTo>
                <a:lnTo>
                  <a:pt x="121" y="1017"/>
                </a:lnTo>
                <a:lnTo>
                  <a:pt x="125" y="1004"/>
                </a:lnTo>
                <a:lnTo>
                  <a:pt x="128" y="991"/>
                </a:lnTo>
                <a:lnTo>
                  <a:pt x="131" y="978"/>
                </a:lnTo>
                <a:lnTo>
                  <a:pt x="134" y="963"/>
                </a:lnTo>
                <a:lnTo>
                  <a:pt x="135" y="949"/>
                </a:lnTo>
                <a:lnTo>
                  <a:pt x="138" y="934"/>
                </a:lnTo>
                <a:lnTo>
                  <a:pt x="141" y="919"/>
                </a:lnTo>
                <a:lnTo>
                  <a:pt x="144" y="901"/>
                </a:lnTo>
                <a:lnTo>
                  <a:pt x="145" y="886"/>
                </a:lnTo>
                <a:lnTo>
                  <a:pt x="148" y="868"/>
                </a:lnTo>
                <a:lnTo>
                  <a:pt x="149" y="850"/>
                </a:lnTo>
                <a:lnTo>
                  <a:pt x="152" y="831"/>
                </a:lnTo>
                <a:lnTo>
                  <a:pt x="154" y="812"/>
                </a:lnTo>
                <a:lnTo>
                  <a:pt x="157" y="793"/>
                </a:lnTo>
                <a:lnTo>
                  <a:pt x="158" y="775"/>
                </a:lnTo>
                <a:lnTo>
                  <a:pt x="160" y="756"/>
                </a:lnTo>
                <a:lnTo>
                  <a:pt x="161" y="736"/>
                </a:lnTo>
                <a:lnTo>
                  <a:pt x="162" y="717"/>
                </a:lnTo>
                <a:lnTo>
                  <a:pt x="164" y="697"/>
                </a:lnTo>
                <a:lnTo>
                  <a:pt x="165" y="675"/>
                </a:lnTo>
                <a:lnTo>
                  <a:pt x="165" y="655"/>
                </a:lnTo>
                <a:lnTo>
                  <a:pt x="167" y="634"/>
                </a:lnTo>
                <a:lnTo>
                  <a:pt x="167" y="612"/>
                </a:lnTo>
                <a:lnTo>
                  <a:pt x="168" y="589"/>
                </a:lnTo>
                <a:lnTo>
                  <a:pt x="168" y="566"/>
                </a:lnTo>
                <a:lnTo>
                  <a:pt x="168" y="543"/>
                </a:lnTo>
                <a:lnTo>
                  <a:pt x="168" y="520"/>
                </a:lnTo>
                <a:lnTo>
                  <a:pt x="168" y="495"/>
                </a:lnTo>
                <a:lnTo>
                  <a:pt x="168" y="471"/>
                </a:lnTo>
                <a:lnTo>
                  <a:pt x="168" y="446"/>
                </a:lnTo>
                <a:lnTo>
                  <a:pt x="168" y="422"/>
                </a:lnTo>
                <a:lnTo>
                  <a:pt x="167" y="396"/>
                </a:lnTo>
                <a:lnTo>
                  <a:pt x="165" y="370"/>
                </a:lnTo>
                <a:lnTo>
                  <a:pt x="165" y="344"/>
                </a:lnTo>
                <a:lnTo>
                  <a:pt x="164" y="317"/>
                </a:lnTo>
                <a:lnTo>
                  <a:pt x="162" y="290"/>
                </a:lnTo>
                <a:lnTo>
                  <a:pt x="161" y="262"/>
                </a:lnTo>
                <a:lnTo>
                  <a:pt x="158" y="235"/>
                </a:lnTo>
                <a:lnTo>
                  <a:pt x="157" y="207"/>
                </a:lnTo>
                <a:lnTo>
                  <a:pt x="154" y="179"/>
                </a:lnTo>
                <a:lnTo>
                  <a:pt x="152" y="150"/>
                </a:lnTo>
                <a:lnTo>
                  <a:pt x="149" y="120"/>
                </a:lnTo>
                <a:lnTo>
                  <a:pt x="144" y="61"/>
                </a:lnTo>
                <a:lnTo>
                  <a:pt x="137" y="0"/>
                </a:lnTo>
                <a:lnTo>
                  <a:pt x="152" y="9"/>
                </a:lnTo>
                <a:lnTo>
                  <a:pt x="168" y="17"/>
                </a:lnTo>
                <a:lnTo>
                  <a:pt x="184" y="26"/>
                </a:lnTo>
                <a:lnTo>
                  <a:pt x="198" y="35"/>
                </a:lnTo>
                <a:lnTo>
                  <a:pt x="213" y="42"/>
                </a:lnTo>
                <a:lnTo>
                  <a:pt x="227" y="51"/>
                </a:lnTo>
                <a:lnTo>
                  <a:pt x="240" y="58"/>
                </a:lnTo>
                <a:lnTo>
                  <a:pt x="253" y="65"/>
                </a:lnTo>
                <a:lnTo>
                  <a:pt x="266" y="72"/>
                </a:lnTo>
                <a:lnTo>
                  <a:pt x="278" y="79"/>
                </a:lnTo>
                <a:lnTo>
                  <a:pt x="289" y="87"/>
                </a:lnTo>
                <a:lnTo>
                  <a:pt x="301" y="92"/>
                </a:lnTo>
                <a:lnTo>
                  <a:pt x="311" y="98"/>
                </a:lnTo>
                <a:lnTo>
                  <a:pt x="321" y="105"/>
                </a:lnTo>
                <a:lnTo>
                  <a:pt x="329" y="111"/>
                </a:lnTo>
                <a:lnTo>
                  <a:pt x="339" y="115"/>
                </a:lnTo>
                <a:lnTo>
                  <a:pt x="347" y="121"/>
                </a:lnTo>
                <a:lnTo>
                  <a:pt x="355" y="127"/>
                </a:lnTo>
                <a:lnTo>
                  <a:pt x="363" y="131"/>
                </a:lnTo>
                <a:lnTo>
                  <a:pt x="370" y="135"/>
                </a:lnTo>
                <a:lnTo>
                  <a:pt x="375" y="140"/>
                </a:lnTo>
                <a:lnTo>
                  <a:pt x="381" y="144"/>
                </a:lnTo>
                <a:lnTo>
                  <a:pt x="387" y="148"/>
                </a:lnTo>
                <a:lnTo>
                  <a:pt x="391" y="151"/>
                </a:lnTo>
                <a:lnTo>
                  <a:pt x="396" y="156"/>
                </a:lnTo>
                <a:lnTo>
                  <a:pt x="400" y="159"/>
                </a:lnTo>
                <a:lnTo>
                  <a:pt x="403" y="161"/>
                </a:lnTo>
                <a:lnTo>
                  <a:pt x="406" y="164"/>
                </a:lnTo>
                <a:lnTo>
                  <a:pt x="407" y="167"/>
                </a:lnTo>
                <a:lnTo>
                  <a:pt x="409" y="170"/>
                </a:lnTo>
                <a:lnTo>
                  <a:pt x="410" y="171"/>
                </a:lnTo>
                <a:lnTo>
                  <a:pt x="410" y="174"/>
                </a:lnTo>
                <a:lnTo>
                  <a:pt x="410" y="177"/>
                </a:lnTo>
                <a:lnTo>
                  <a:pt x="410" y="183"/>
                </a:lnTo>
                <a:lnTo>
                  <a:pt x="410" y="190"/>
                </a:lnTo>
                <a:lnTo>
                  <a:pt x="410" y="199"/>
                </a:lnTo>
                <a:lnTo>
                  <a:pt x="410" y="209"/>
                </a:lnTo>
                <a:lnTo>
                  <a:pt x="409" y="219"/>
                </a:lnTo>
                <a:lnTo>
                  <a:pt x="409" y="232"/>
                </a:lnTo>
                <a:lnTo>
                  <a:pt x="407" y="246"/>
                </a:lnTo>
                <a:lnTo>
                  <a:pt x="407" y="261"/>
                </a:lnTo>
                <a:lnTo>
                  <a:pt x="406" y="278"/>
                </a:lnTo>
                <a:lnTo>
                  <a:pt x="404" y="295"/>
                </a:lnTo>
                <a:lnTo>
                  <a:pt x="401" y="315"/>
                </a:lnTo>
                <a:lnTo>
                  <a:pt x="400" y="336"/>
                </a:lnTo>
                <a:lnTo>
                  <a:pt x="397" y="357"/>
                </a:lnTo>
                <a:lnTo>
                  <a:pt x="394" y="380"/>
                </a:lnTo>
                <a:lnTo>
                  <a:pt x="391" y="406"/>
                </a:lnTo>
                <a:lnTo>
                  <a:pt x="383" y="457"/>
                </a:lnTo>
                <a:lnTo>
                  <a:pt x="377" y="507"/>
                </a:lnTo>
                <a:lnTo>
                  <a:pt x="370" y="559"/>
                </a:lnTo>
                <a:lnTo>
                  <a:pt x="364" y="611"/>
                </a:lnTo>
                <a:lnTo>
                  <a:pt x="360" y="664"/>
                </a:lnTo>
                <a:lnTo>
                  <a:pt x="355" y="719"/>
                </a:lnTo>
                <a:lnTo>
                  <a:pt x="354" y="746"/>
                </a:lnTo>
                <a:lnTo>
                  <a:pt x="352" y="773"/>
                </a:lnTo>
                <a:lnTo>
                  <a:pt x="352" y="802"/>
                </a:lnTo>
                <a:lnTo>
                  <a:pt x="352" y="831"/>
                </a:lnTo>
                <a:lnTo>
                  <a:pt x="352" y="845"/>
                </a:lnTo>
                <a:lnTo>
                  <a:pt x="352" y="860"/>
                </a:lnTo>
                <a:lnTo>
                  <a:pt x="352" y="873"/>
                </a:lnTo>
                <a:lnTo>
                  <a:pt x="352" y="886"/>
                </a:lnTo>
                <a:lnTo>
                  <a:pt x="352" y="898"/>
                </a:lnTo>
                <a:lnTo>
                  <a:pt x="352" y="910"/>
                </a:lnTo>
                <a:lnTo>
                  <a:pt x="352" y="922"/>
                </a:lnTo>
                <a:lnTo>
                  <a:pt x="352" y="933"/>
                </a:lnTo>
                <a:lnTo>
                  <a:pt x="352" y="943"/>
                </a:lnTo>
                <a:lnTo>
                  <a:pt x="352" y="955"/>
                </a:lnTo>
                <a:lnTo>
                  <a:pt x="352" y="963"/>
                </a:lnTo>
                <a:lnTo>
                  <a:pt x="352" y="973"/>
                </a:lnTo>
                <a:lnTo>
                  <a:pt x="352" y="982"/>
                </a:lnTo>
                <a:lnTo>
                  <a:pt x="354" y="991"/>
                </a:lnTo>
                <a:lnTo>
                  <a:pt x="354" y="999"/>
                </a:lnTo>
                <a:lnTo>
                  <a:pt x="354" y="1008"/>
                </a:lnTo>
                <a:lnTo>
                  <a:pt x="355" y="1015"/>
                </a:lnTo>
                <a:lnTo>
                  <a:pt x="355" y="1022"/>
                </a:lnTo>
                <a:lnTo>
                  <a:pt x="355" y="1029"/>
                </a:lnTo>
                <a:lnTo>
                  <a:pt x="357" y="1035"/>
                </a:lnTo>
                <a:lnTo>
                  <a:pt x="357" y="1041"/>
                </a:lnTo>
                <a:lnTo>
                  <a:pt x="358" y="1047"/>
                </a:lnTo>
                <a:lnTo>
                  <a:pt x="360" y="1053"/>
                </a:lnTo>
                <a:lnTo>
                  <a:pt x="360" y="1057"/>
                </a:lnTo>
                <a:lnTo>
                  <a:pt x="361" y="1061"/>
                </a:lnTo>
                <a:lnTo>
                  <a:pt x="363" y="1065"/>
                </a:lnTo>
                <a:lnTo>
                  <a:pt x="364" y="1070"/>
                </a:lnTo>
                <a:lnTo>
                  <a:pt x="365" y="1073"/>
                </a:lnTo>
                <a:lnTo>
                  <a:pt x="368" y="1078"/>
                </a:lnTo>
                <a:lnTo>
                  <a:pt x="371" y="1083"/>
                </a:lnTo>
                <a:lnTo>
                  <a:pt x="374" y="1084"/>
                </a:lnTo>
                <a:lnTo>
                  <a:pt x="377" y="1086"/>
                </a:lnTo>
                <a:lnTo>
                  <a:pt x="380" y="1087"/>
                </a:lnTo>
                <a:lnTo>
                  <a:pt x="384" y="1089"/>
                </a:lnTo>
                <a:lnTo>
                  <a:pt x="388" y="1090"/>
                </a:lnTo>
                <a:lnTo>
                  <a:pt x="394" y="1091"/>
                </a:lnTo>
                <a:lnTo>
                  <a:pt x="401" y="1093"/>
                </a:lnTo>
                <a:lnTo>
                  <a:pt x="409" y="1093"/>
                </a:lnTo>
                <a:lnTo>
                  <a:pt x="416" y="1094"/>
                </a:lnTo>
                <a:lnTo>
                  <a:pt x="424" y="1094"/>
                </a:lnTo>
                <a:lnTo>
                  <a:pt x="435" y="1096"/>
                </a:lnTo>
                <a:lnTo>
                  <a:pt x="445" y="1096"/>
                </a:lnTo>
                <a:lnTo>
                  <a:pt x="456" y="1096"/>
                </a:lnTo>
                <a:lnTo>
                  <a:pt x="468" y="1096"/>
                </a:lnTo>
                <a:lnTo>
                  <a:pt x="481" y="1096"/>
                </a:lnTo>
                <a:lnTo>
                  <a:pt x="494" y="1096"/>
                </a:lnTo>
                <a:lnTo>
                  <a:pt x="508" y="1094"/>
                </a:lnTo>
                <a:lnTo>
                  <a:pt x="522" y="1094"/>
                </a:lnTo>
                <a:lnTo>
                  <a:pt x="538" y="1093"/>
                </a:lnTo>
                <a:lnTo>
                  <a:pt x="554" y="1091"/>
                </a:lnTo>
                <a:lnTo>
                  <a:pt x="573" y="1091"/>
                </a:lnTo>
                <a:lnTo>
                  <a:pt x="590" y="1090"/>
                </a:lnTo>
                <a:lnTo>
                  <a:pt x="609" y="1087"/>
                </a:lnTo>
                <a:lnTo>
                  <a:pt x="629" y="1086"/>
                </a:lnTo>
                <a:lnTo>
                  <a:pt x="650" y="1084"/>
                </a:lnTo>
                <a:lnTo>
                  <a:pt x="672" y="1081"/>
                </a:lnTo>
                <a:lnTo>
                  <a:pt x="694" y="1078"/>
                </a:lnTo>
                <a:lnTo>
                  <a:pt x="718" y="1077"/>
                </a:lnTo>
                <a:lnTo>
                  <a:pt x="743" y="1074"/>
                </a:lnTo>
                <a:lnTo>
                  <a:pt x="767" y="1070"/>
                </a:lnTo>
                <a:lnTo>
                  <a:pt x="793" y="1067"/>
                </a:lnTo>
                <a:lnTo>
                  <a:pt x="820" y="1064"/>
                </a:lnTo>
                <a:lnTo>
                  <a:pt x="872" y="1055"/>
                </a:lnTo>
                <a:lnTo>
                  <a:pt x="924" y="1048"/>
                </a:lnTo>
                <a:lnTo>
                  <a:pt x="976" y="1041"/>
                </a:lnTo>
                <a:lnTo>
                  <a:pt x="1029" y="1034"/>
                </a:lnTo>
                <a:lnTo>
                  <a:pt x="1134" y="1019"/>
                </a:lnTo>
                <a:lnTo>
                  <a:pt x="1242" y="1005"/>
                </a:lnTo>
                <a:lnTo>
                  <a:pt x="1350" y="991"/>
                </a:lnTo>
                <a:lnTo>
                  <a:pt x="1459" y="976"/>
                </a:lnTo>
                <a:lnTo>
                  <a:pt x="1569" y="962"/>
                </a:lnTo>
                <a:lnTo>
                  <a:pt x="1680" y="947"/>
                </a:lnTo>
                <a:lnTo>
                  <a:pt x="1706" y="946"/>
                </a:lnTo>
                <a:lnTo>
                  <a:pt x="1733" y="943"/>
                </a:lnTo>
                <a:lnTo>
                  <a:pt x="1757" y="942"/>
                </a:lnTo>
                <a:lnTo>
                  <a:pt x="1782" y="940"/>
                </a:lnTo>
                <a:lnTo>
                  <a:pt x="1806" y="939"/>
                </a:lnTo>
                <a:lnTo>
                  <a:pt x="1829" y="936"/>
                </a:lnTo>
                <a:lnTo>
                  <a:pt x="1852" y="934"/>
                </a:lnTo>
                <a:lnTo>
                  <a:pt x="1874" y="933"/>
                </a:lnTo>
                <a:lnTo>
                  <a:pt x="1894" y="932"/>
                </a:lnTo>
                <a:lnTo>
                  <a:pt x="1914" y="930"/>
                </a:lnTo>
                <a:lnTo>
                  <a:pt x="1935" y="927"/>
                </a:lnTo>
                <a:lnTo>
                  <a:pt x="1953" y="926"/>
                </a:lnTo>
                <a:lnTo>
                  <a:pt x="1971" y="924"/>
                </a:lnTo>
                <a:lnTo>
                  <a:pt x="1988" y="923"/>
                </a:lnTo>
                <a:lnTo>
                  <a:pt x="2005" y="922"/>
                </a:lnTo>
                <a:lnTo>
                  <a:pt x="2021" y="920"/>
                </a:lnTo>
                <a:lnTo>
                  <a:pt x="2035" y="919"/>
                </a:lnTo>
                <a:lnTo>
                  <a:pt x="2051" y="917"/>
                </a:lnTo>
                <a:lnTo>
                  <a:pt x="2064" y="917"/>
                </a:lnTo>
                <a:lnTo>
                  <a:pt x="2077" y="916"/>
                </a:lnTo>
                <a:lnTo>
                  <a:pt x="2090" y="914"/>
                </a:lnTo>
                <a:lnTo>
                  <a:pt x="2102" y="913"/>
                </a:lnTo>
                <a:lnTo>
                  <a:pt x="2113" y="913"/>
                </a:lnTo>
                <a:lnTo>
                  <a:pt x="2123" y="911"/>
                </a:lnTo>
                <a:lnTo>
                  <a:pt x="2133" y="911"/>
                </a:lnTo>
                <a:lnTo>
                  <a:pt x="2143" y="910"/>
                </a:lnTo>
                <a:lnTo>
                  <a:pt x="2152" y="910"/>
                </a:lnTo>
                <a:lnTo>
                  <a:pt x="2161" y="910"/>
                </a:lnTo>
                <a:lnTo>
                  <a:pt x="2168" y="909"/>
                </a:lnTo>
                <a:lnTo>
                  <a:pt x="2175" y="909"/>
                </a:lnTo>
                <a:lnTo>
                  <a:pt x="2181" y="909"/>
                </a:lnTo>
                <a:lnTo>
                  <a:pt x="2186" y="909"/>
                </a:lnTo>
                <a:lnTo>
                  <a:pt x="2198" y="909"/>
                </a:lnTo>
                <a:lnTo>
                  <a:pt x="2208" y="910"/>
                </a:lnTo>
                <a:lnTo>
                  <a:pt x="2220" y="910"/>
                </a:lnTo>
                <a:lnTo>
                  <a:pt x="2231" y="911"/>
                </a:lnTo>
                <a:lnTo>
                  <a:pt x="2243" y="914"/>
                </a:lnTo>
                <a:lnTo>
                  <a:pt x="2254" y="917"/>
                </a:lnTo>
                <a:lnTo>
                  <a:pt x="2267" y="920"/>
                </a:lnTo>
                <a:lnTo>
                  <a:pt x="2279" y="923"/>
                </a:lnTo>
                <a:lnTo>
                  <a:pt x="2292" y="927"/>
                </a:lnTo>
                <a:lnTo>
                  <a:pt x="2306" y="932"/>
                </a:lnTo>
                <a:lnTo>
                  <a:pt x="2320" y="936"/>
                </a:lnTo>
                <a:lnTo>
                  <a:pt x="2335" y="942"/>
                </a:lnTo>
                <a:lnTo>
                  <a:pt x="2351" y="947"/>
                </a:lnTo>
                <a:lnTo>
                  <a:pt x="2366" y="953"/>
                </a:lnTo>
                <a:lnTo>
                  <a:pt x="2384" y="960"/>
                </a:lnTo>
                <a:lnTo>
                  <a:pt x="2401" y="968"/>
                </a:lnTo>
                <a:lnTo>
                  <a:pt x="2415" y="975"/>
                </a:lnTo>
                <a:lnTo>
                  <a:pt x="2430" y="982"/>
                </a:lnTo>
                <a:lnTo>
                  <a:pt x="2443" y="989"/>
                </a:lnTo>
                <a:lnTo>
                  <a:pt x="2456" y="996"/>
                </a:lnTo>
                <a:lnTo>
                  <a:pt x="2469" y="1004"/>
                </a:lnTo>
                <a:lnTo>
                  <a:pt x="2480" y="1011"/>
                </a:lnTo>
                <a:lnTo>
                  <a:pt x="2493" y="1018"/>
                </a:lnTo>
                <a:lnTo>
                  <a:pt x="2503" y="1025"/>
                </a:lnTo>
                <a:lnTo>
                  <a:pt x="2515" y="1032"/>
                </a:lnTo>
                <a:lnTo>
                  <a:pt x="2525" y="1040"/>
                </a:lnTo>
                <a:lnTo>
                  <a:pt x="2535" y="1047"/>
                </a:lnTo>
                <a:lnTo>
                  <a:pt x="2545" y="1054"/>
                </a:lnTo>
                <a:lnTo>
                  <a:pt x="2554" y="1061"/>
                </a:lnTo>
                <a:lnTo>
                  <a:pt x="2562" y="1068"/>
                </a:lnTo>
                <a:lnTo>
                  <a:pt x="2569" y="1076"/>
                </a:lnTo>
                <a:lnTo>
                  <a:pt x="2578" y="1083"/>
                </a:lnTo>
                <a:lnTo>
                  <a:pt x="2584" y="1093"/>
                </a:lnTo>
                <a:lnTo>
                  <a:pt x="2590" y="1103"/>
                </a:lnTo>
                <a:lnTo>
                  <a:pt x="2595" y="1112"/>
                </a:lnTo>
                <a:lnTo>
                  <a:pt x="2600" y="1120"/>
                </a:lnTo>
                <a:lnTo>
                  <a:pt x="2602" y="1127"/>
                </a:lnTo>
                <a:lnTo>
                  <a:pt x="2605" y="1133"/>
                </a:lnTo>
                <a:lnTo>
                  <a:pt x="2607" y="1140"/>
                </a:lnTo>
                <a:lnTo>
                  <a:pt x="2608" y="1146"/>
                </a:lnTo>
                <a:lnTo>
                  <a:pt x="2608" y="1150"/>
                </a:lnTo>
                <a:lnTo>
                  <a:pt x="2608" y="1156"/>
                </a:lnTo>
                <a:lnTo>
                  <a:pt x="2608" y="1160"/>
                </a:lnTo>
                <a:lnTo>
                  <a:pt x="2607" y="1165"/>
                </a:lnTo>
                <a:lnTo>
                  <a:pt x="2605" y="1168"/>
                </a:lnTo>
                <a:lnTo>
                  <a:pt x="2602" y="1172"/>
                </a:lnTo>
                <a:lnTo>
                  <a:pt x="2600" y="1175"/>
                </a:lnTo>
                <a:lnTo>
                  <a:pt x="2597" y="1179"/>
                </a:lnTo>
                <a:lnTo>
                  <a:pt x="2592" y="1181"/>
                </a:lnTo>
                <a:lnTo>
                  <a:pt x="2587" y="1184"/>
                </a:lnTo>
                <a:lnTo>
                  <a:pt x="2579" y="1185"/>
                </a:lnTo>
                <a:lnTo>
                  <a:pt x="2572" y="1186"/>
                </a:lnTo>
                <a:lnTo>
                  <a:pt x="2562" y="1188"/>
                </a:lnTo>
                <a:lnTo>
                  <a:pt x="2552" y="1191"/>
                </a:lnTo>
                <a:lnTo>
                  <a:pt x="2541" y="1192"/>
                </a:lnTo>
                <a:lnTo>
                  <a:pt x="2528" y="1194"/>
                </a:lnTo>
                <a:lnTo>
                  <a:pt x="2513" y="1195"/>
                </a:lnTo>
                <a:lnTo>
                  <a:pt x="2497" y="1196"/>
                </a:lnTo>
                <a:lnTo>
                  <a:pt x="2482" y="1199"/>
                </a:lnTo>
                <a:lnTo>
                  <a:pt x="2463" y="1201"/>
                </a:lnTo>
                <a:lnTo>
                  <a:pt x="2444" y="1202"/>
                </a:lnTo>
                <a:lnTo>
                  <a:pt x="2424" y="1204"/>
                </a:lnTo>
                <a:lnTo>
                  <a:pt x="2402" y="1205"/>
                </a:lnTo>
                <a:lnTo>
                  <a:pt x="2379" y="1207"/>
                </a:lnTo>
                <a:lnTo>
                  <a:pt x="2356" y="1208"/>
                </a:lnTo>
                <a:lnTo>
                  <a:pt x="2330" y="1209"/>
                </a:lnTo>
                <a:lnTo>
                  <a:pt x="2305" y="1209"/>
                </a:lnTo>
                <a:lnTo>
                  <a:pt x="2277" y="1211"/>
                </a:lnTo>
                <a:lnTo>
                  <a:pt x="2248" y="1212"/>
                </a:lnTo>
                <a:lnTo>
                  <a:pt x="2218" y="1214"/>
                </a:lnTo>
                <a:lnTo>
                  <a:pt x="2186" y="1214"/>
                </a:lnTo>
                <a:lnTo>
                  <a:pt x="2155" y="1215"/>
                </a:lnTo>
                <a:lnTo>
                  <a:pt x="2122" y="1215"/>
                </a:lnTo>
                <a:lnTo>
                  <a:pt x="2087" y="1217"/>
                </a:lnTo>
                <a:lnTo>
                  <a:pt x="2051" y="1217"/>
                </a:lnTo>
                <a:lnTo>
                  <a:pt x="2014" y="1217"/>
                </a:lnTo>
                <a:lnTo>
                  <a:pt x="1976" y="1218"/>
                </a:lnTo>
                <a:lnTo>
                  <a:pt x="1936" y="1218"/>
                </a:lnTo>
                <a:lnTo>
                  <a:pt x="1896" y="1218"/>
                </a:lnTo>
                <a:lnTo>
                  <a:pt x="1855" y="1218"/>
                </a:lnTo>
                <a:lnTo>
                  <a:pt x="1772" y="1218"/>
                </a:lnTo>
                <a:lnTo>
                  <a:pt x="1691" y="1220"/>
                </a:lnTo>
                <a:lnTo>
                  <a:pt x="1612" y="1220"/>
                </a:lnTo>
                <a:lnTo>
                  <a:pt x="1537" y="1221"/>
                </a:lnTo>
                <a:lnTo>
                  <a:pt x="1464" y="1224"/>
                </a:lnTo>
                <a:lnTo>
                  <a:pt x="1393" y="1227"/>
                </a:lnTo>
                <a:lnTo>
                  <a:pt x="1324" y="1230"/>
                </a:lnTo>
                <a:lnTo>
                  <a:pt x="1259" y="1232"/>
                </a:lnTo>
                <a:lnTo>
                  <a:pt x="1196" y="1237"/>
                </a:lnTo>
                <a:lnTo>
                  <a:pt x="1137" y="1241"/>
                </a:lnTo>
                <a:lnTo>
                  <a:pt x="1079" y="1245"/>
                </a:lnTo>
                <a:lnTo>
                  <a:pt x="1026" y="1251"/>
                </a:lnTo>
                <a:lnTo>
                  <a:pt x="974" y="1257"/>
                </a:lnTo>
                <a:lnTo>
                  <a:pt x="927" y="1263"/>
                </a:lnTo>
                <a:lnTo>
                  <a:pt x="882" y="1270"/>
                </a:lnTo>
                <a:lnTo>
                  <a:pt x="840" y="1277"/>
                </a:lnTo>
                <a:lnTo>
                  <a:pt x="817" y="1279"/>
                </a:lnTo>
                <a:lnTo>
                  <a:pt x="797" y="1280"/>
                </a:lnTo>
                <a:lnTo>
                  <a:pt x="776" y="1283"/>
                </a:lnTo>
                <a:lnTo>
                  <a:pt x="756" y="1284"/>
                </a:lnTo>
                <a:lnTo>
                  <a:pt x="735" y="1287"/>
                </a:lnTo>
                <a:lnTo>
                  <a:pt x="717" y="1289"/>
                </a:lnTo>
                <a:lnTo>
                  <a:pt x="697" y="1291"/>
                </a:lnTo>
                <a:lnTo>
                  <a:pt x="678" y="1294"/>
                </a:lnTo>
                <a:lnTo>
                  <a:pt x="661" y="1297"/>
                </a:lnTo>
                <a:lnTo>
                  <a:pt x="643" y="1300"/>
                </a:lnTo>
                <a:lnTo>
                  <a:pt x="626" y="1303"/>
                </a:lnTo>
                <a:lnTo>
                  <a:pt x="609" y="1306"/>
                </a:lnTo>
                <a:lnTo>
                  <a:pt x="593" y="1309"/>
                </a:lnTo>
                <a:lnTo>
                  <a:pt x="577" y="1313"/>
                </a:lnTo>
                <a:lnTo>
                  <a:pt x="561" y="1316"/>
                </a:lnTo>
                <a:lnTo>
                  <a:pt x="547" y="1319"/>
                </a:lnTo>
                <a:lnTo>
                  <a:pt x="532" y="1323"/>
                </a:lnTo>
                <a:lnTo>
                  <a:pt x="518" y="1327"/>
                </a:lnTo>
                <a:lnTo>
                  <a:pt x="505" y="1330"/>
                </a:lnTo>
                <a:lnTo>
                  <a:pt x="492" y="1335"/>
                </a:lnTo>
                <a:lnTo>
                  <a:pt x="479" y="1339"/>
                </a:lnTo>
                <a:lnTo>
                  <a:pt x="468" y="1343"/>
                </a:lnTo>
                <a:lnTo>
                  <a:pt x="456" y="1348"/>
                </a:lnTo>
                <a:lnTo>
                  <a:pt x="445" y="1352"/>
                </a:lnTo>
                <a:lnTo>
                  <a:pt x="433" y="1356"/>
                </a:lnTo>
                <a:lnTo>
                  <a:pt x="423" y="1362"/>
                </a:lnTo>
                <a:lnTo>
                  <a:pt x="413" y="1366"/>
                </a:lnTo>
                <a:lnTo>
                  <a:pt x="404" y="1371"/>
                </a:lnTo>
                <a:lnTo>
                  <a:pt x="396" y="1376"/>
                </a:lnTo>
                <a:lnTo>
                  <a:pt x="387" y="1382"/>
                </a:lnTo>
                <a:lnTo>
                  <a:pt x="378" y="1387"/>
                </a:lnTo>
                <a:lnTo>
                  <a:pt x="371" y="13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Freeform 93"/>
          <p:cNvSpPr/>
          <p:nvPr/>
        </p:nvSpPr>
        <p:spPr>
          <a:xfrm>
            <a:off x="6494400" y="4335480"/>
            <a:ext cx="363600" cy="487440"/>
          </a:xfrm>
          <a:custGeom>
            <a:avLst/>
            <a:gdLst/>
            <a:ahLst/>
            <a:rect l="l" t="t" r="r" b="b"/>
            <a:pathLst>
              <a:path w="689" h="922">
                <a:moveTo>
                  <a:pt x="6" y="917"/>
                </a:moveTo>
                <a:lnTo>
                  <a:pt x="3" y="916"/>
                </a:lnTo>
                <a:lnTo>
                  <a:pt x="2" y="913"/>
                </a:lnTo>
                <a:lnTo>
                  <a:pt x="2" y="910"/>
                </a:lnTo>
                <a:lnTo>
                  <a:pt x="0" y="906"/>
                </a:lnTo>
                <a:lnTo>
                  <a:pt x="0" y="903"/>
                </a:lnTo>
                <a:lnTo>
                  <a:pt x="0" y="899"/>
                </a:lnTo>
                <a:lnTo>
                  <a:pt x="2" y="894"/>
                </a:lnTo>
                <a:lnTo>
                  <a:pt x="2" y="889"/>
                </a:lnTo>
                <a:lnTo>
                  <a:pt x="3" y="883"/>
                </a:lnTo>
                <a:lnTo>
                  <a:pt x="5" y="877"/>
                </a:lnTo>
                <a:lnTo>
                  <a:pt x="6" y="871"/>
                </a:lnTo>
                <a:lnTo>
                  <a:pt x="9" y="864"/>
                </a:lnTo>
                <a:lnTo>
                  <a:pt x="11" y="857"/>
                </a:lnTo>
                <a:lnTo>
                  <a:pt x="13" y="850"/>
                </a:lnTo>
                <a:lnTo>
                  <a:pt x="18" y="841"/>
                </a:lnTo>
                <a:lnTo>
                  <a:pt x="21" y="832"/>
                </a:lnTo>
                <a:lnTo>
                  <a:pt x="25" y="824"/>
                </a:lnTo>
                <a:lnTo>
                  <a:pt x="29" y="815"/>
                </a:lnTo>
                <a:lnTo>
                  <a:pt x="34" y="805"/>
                </a:lnTo>
                <a:lnTo>
                  <a:pt x="38" y="795"/>
                </a:lnTo>
                <a:lnTo>
                  <a:pt x="44" y="785"/>
                </a:lnTo>
                <a:lnTo>
                  <a:pt x="49" y="775"/>
                </a:lnTo>
                <a:lnTo>
                  <a:pt x="55" y="763"/>
                </a:lnTo>
                <a:lnTo>
                  <a:pt x="61" y="752"/>
                </a:lnTo>
                <a:lnTo>
                  <a:pt x="67" y="740"/>
                </a:lnTo>
                <a:lnTo>
                  <a:pt x="74" y="727"/>
                </a:lnTo>
                <a:lnTo>
                  <a:pt x="81" y="714"/>
                </a:lnTo>
                <a:lnTo>
                  <a:pt x="88" y="701"/>
                </a:lnTo>
                <a:lnTo>
                  <a:pt x="97" y="689"/>
                </a:lnTo>
                <a:lnTo>
                  <a:pt x="106" y="674"/>
                </a:lnTo>
                <a:lnTo>
                  <a:pt x="113" y="661"/>
                </a:lnTo>
                <a:lnTo>
                  <a:pt x="123" y="647"/>
                </a:lnTo>
                <a:lnTo>
                  <a:pt x="140" y="618"/>
                </a:lnTo>
                <a:lnTo>
                  <a:pt x="157" y="589"/>
                </a:lnTo>
                <a:lnTo>
                  <a:pt x="175" y="563"/>
                </a:lnTo>
                <a:lnTo>
                  <a:pt x="190" y="537"/>
                </a:lnTo>
                <a:lnTo>
                  <a:pt x="206" y="511"/>
                </a:lnTo>
                <a:lnTo>
                  <a:pt x="222" y="487"/>
                </a:lnTo>
                <a:lnTo>
                  <a:pt x="237" y="464"/>
                </a:lnTo>
                <a:lnTo>
                  <a:pt x="251" y="441"/>
                </a:lnTo>
                <a:lnTo>
                  <a:pt x="265" y="418"/>
                </a:lnTo>
                <a:lnTo>
                  <a:pt x="278" y="396"/>
                </a:lnTo>
                <a:lnTo>
                  <a:pt x="290" y="376"/>
                </a:lnTo>
                <a:lnTo>
                  <a:pt x="301" y="355"/>
                </a:lnTo>
                <a:lnTo>
                  <a:pt x="311" y="336"/>
                </a:lnTo>
                <a:lnTo>
                  <a:pt x="321" y="316"/>
                </a:lnTo>
                <a:lnTo>
                  <a:pt x="330" y="297"/>
                </a:lnTo>
                <a:lnTo>
                  <a:pt x="337" y="280"/>
                </a:lnTo>
                <a:lnTo>
                  <a:pt x="340" y="261"/>
                </a:lnTo>
                <a:lnTo>
                  <a:pt x="343" y="244"/>
                </a:lnTo>
                <a:lnTo>
                  <a:pt x="346" y="228"/>
                </a:lnTo>
                <a:lnTo>
                  <a:pt x="347" y="213"/>
                </a:lnTo>
                <a:lnTo>
                  <a:pt x="349" y="199"/>
                </a:lnTo>
                <a:lnTo>
                  <a:pt x="350" y="185"/>
                </a:lnTo>
                <a:lnTo>
                  <a:pt x="352" y="173"/>
                </a:lnTo>
                <a:lnTo>
                  <a:pt x="352" y="160"/>
                </a:lnTo>
                <a:lnTo>
                  <a:pt x="352" y="149"/>
                </a:lnTo>
                <a:lnTo>
                  <a:pt x="350" y="139"/>
                </a:lnTo>
                <a:lnTo>
                  <a:pt x="349" y="129"/>
                </a:lnTo>
                <a:lnTo>
                  <a:pt x="347" y="118"/>
                </a:lnTo>
                <a:lnTo>
                  <a:pt x="346" y="110"/>
                </a:lnTo>
                <a:lnTo>
                  <a:pt x="343" y="101"/>
                </a:lnTo>
                <a:lnTo>
                  <a:pt x="340" y="93"/>
                </a:lnTo>
                <a:lnTo>
                  <a:pt x="337" y="85"/>
                </a:lnTo>
                <a:lnTo>
                  <a:pt x="334" y="81"/>
                </a:lnTo>
                <a:lnTo>
                  <a:pt x="332" y="77"/>
                </a:lnTo>
                <a:lnTo>
                  <a:pt x="329" y="72"/>
                </a:lnTo>
                <a:lnTo>
                  <a:pt x="327" y="68"/>
                </a:lnTo>
                <a:lnTo>
                  <a:pt x="326" y="62"/>
                </a:lnTo>
                <a:lnTo>
                  <a:pt x="324" y="58"/>
                </a:lnTo>
                <a:lnTo>
                  <a:pt x="324" y="52"/>
                </a:lnTo>
                <a:lnTo>
                  <a:pt x="326" y="46"/>
                </a:lnTo>
                <a:lnTo>
                  <a:pt x="326" y="41"/>
                </a:lnTo>
                <a:lnTo>
                  <a:pt x="329" y="36"/>
                </a:lnTo>
                <a:lnTo>
                  <a:pt x="332" y="31"/>
                </a:lnTo>
                <a:lnTo>
                  <a:pt x="334" y="25"/>
                </a:lnTo>
                <a:lnTo>
                  <a:pt x="339" y="21"/>
                </a:lnTo>
                <a:lnTo>
                  <a:pt x="345" y="16"/>
                </a:lnTo>
                <a:lnTo>
                  <a:pt x="350" y="12"/>
                </a:lnTo>
                <a:lnTo>
                  <a:pt x="357" y="8"/>
                </a:lnTo>
                <a:lnTo>
                  <a:pt x="360" y="5"/>
                </a:lnTo>
                <a:lnTo>
                  <a:pt x="366" y="2"/>
                </a:lnTo>
                <a:lnTo>
                  <a:pt x="372" y="0"/>
                </a:lnTo>
                <a:lnTo>
                  <a:pt x="379" y="0"/>
                </a:lnTo>
                <a:lnTo>
                  <a:pt x="386" y="0"/>
                </a:lnTo>
                <a:lnTo>
                  <a:pt x="395" y="0"/>
                </a:lnTo>
                <a:lnTo>
                  <a:pt x="405" y="3"/>
                </a:lnTo>
                <a:lnTo>
                  <a:pt x="415" y="5"/>
                </a:lnTo>
                <a:lnTo>
                  <a:pt x="427" y="8"/>
                </a:lnTo>
                <a:lnTo>
                  <a:pt x="440" y="12"/>
                </a:lnTo>
                <a:lnTo>
                  <a:pt x="452" y="16"/>
                </a:lnTo>
                <a:lnTo>
                  <a:pt x="467" y="21"/>
                </a:lnTo>
                <a:lnTo>
                  <a:pt x="481" y="26"/>
                </a:lnTo>
                <a:lnTo>
                  <a:pt x="497" y="32"/>
                </a:lnTo>
                <a:lnTo>
                  <a:pt x="514" y="39"/>
                </a:lnTo>
                <a:lnTo>
                  <a:pt x="533" y="46"/>
                </a:lnTo>
                <a:lnTo>
                  <a:pt x="550" y="58"/>
                </a:lnTo>
                <a:lnTo>
                  <a:pt x="566" y="68"/>
                </a:lnTo>
                <a:lnTo>
                  <a:pt x="581" y="78"/>
                </a:lnTo>
                <a:lnTo>
                  <a:pt x="595" y="87"/>
                </a:lnTo>
                <a:lnTo>
                  <a:pt x="608" y="95"/>
                </a:lnTo>
                <a:lnTo>
                  <a:pt x="619" y="104"/>
                </a:lnTo>
                <a:lnTo>
                  <a:pt x="630" y="111"/>
                </a:lnTo>
                <a:lnTo>
                  <a:pt x="640" y="120"/>
                </a:lnTo>
                <a:lnTo>
                  <a:pt x="648" y="126"/>
                </a:lnTo>
                <a:lnTo>
                  <a:pt x="657" y="133"/>
                </a:lnTo>
                <a:lnTo>
                  <a:pt x="663" y="139"/>
                </a:lnTo>
                <a:lnTo>
                  <a:pt x="670" y="144"/>
                </a:lnTo>
                <a:lnTo>
                  <a:pt x="676" y="150"/>
                </a:lnTo>
                <a:lnTo>
                  <a:pt x="680" y="154"/>
                </a:lnTo>
                <a:lnTo>
                  <a:pt x="684" y="159"/>
                </a:lnTo>
                <a:lnTo>
                  <a:pt x="689" y="163"/>
                </a:lnTo>
                <a:lnTo>
                  <a:pt x="689" y="167"/>
                </a:lnTo>
                <a:lnTo>
                  <a:pt x="687" y="172"/>
                </a:lnTo>
                <a:lnTo>
                  <a:pt x="684" y="179"/>
                </a:lnTo>
                <a:lnTo>
                  <a:pt x="681" y="188"/>
                </a:lnTo>
                <a:lnTo>
                  <a:pt x="677" y="198"/>
                </a:lnTo>
                <a:lnTo>
                  <a:pt x="671" y="208"/>
                </a:lnTo>
                <a:lnTo>
                  <a:pt x="666" y="219"/>
                </a:lnTo>
                <a:lnTo>
                  <a:pt x="658" y="232"/>
                </a:lnTo>
                <a:lnTo>
                  <a:pt x="651" y="247"/>
                </a:lnTo>
                <a:lnTo>
                  <a:pt x="643" y="262"/>
                </a:lnTo>
                <a:lnTo>
                  <a:pt x="632" y="278"/>
                </a:lnTo>
                <a:lnTo>
                  <a:pt x="622" y="296"/>
                </a:lnTo>
                <a:lnTo>
                  <a:pt x="611" y="314"/>
                </a:lnTo>
                <a:lnTo>
                  <a:pt x="598" y="333"/>
                </a:lnTo>
                <a:lnTo>
                  <a:pt x="585" y="355"/>
                </a:lnTo>
                <a:lnTo>
                  <a:pt x="572" y="376"/>
                </a:lnTo>
                <a:lnTo>
                  <a:pt x="535" y="419"/>
                </a:lnTo>
                <a:lnTo>
                  <a:pt x="497" y="463"/>
                </a:lnTo>
                <a:lnTo>
                  <a:pt x="478" y="486"/>
                </a:lnTo>
                <a:lnTo>
                  <a:pt x="460" y="507"/>
                </a:lnTo>
                <a:lnTo>
                  <a:pt x="440" y="530"/>
                </a:lnTo>
                <a:lnTo>
                  <a:pt x="419" y="552"/>
                </a:lnTo>
                <a:lnTo>
                  <a:pt x="399" y="575"/>
                </a:lnTo>
                <a:lnTo>
                  <a:pt x="379" y="598"/>
                </a:lnTo>
                <a:lnTo>
                  <a:pt x="357" y="621"/>
                </a:lnTo>
                <a:lnTo>
                  <a:pt x="334" y="644"/>
                </a:lnTo>
                <a:lnTo>
                  <a:pt x="311" y="668"/>
                </a:lnTo>
                <a:lnTo>
                  <a:pt x="288" y="693"/>
                </a:lnTo>
                <a:lnTo>
                  <a:pt x="264" y="717"/>
                </a:lnTo>
                <a:lnTo>
                  <a:pt x="239" y="743"/>
                </a:lnTo>
                <a:lnTo>
                  <a:pt x="226" y="756"/>
                </a:lnTo>
                <a:lnTo>
                  <a:pt x="215" y="768"/>
                </a:lnTo>
                <a:lnTo>
                  <a:pt x="203" y="779"/>
                </a:lnTo>
                <a:lnTo>
                  <a:pt x="192" y="791"/>
                </a:lnTo>
                <a:lnTo>
                  <a:pt x="180" y="801"/>
                </a:lnTo>
                <a:lnTo>
                  <a:pt x="169" y="812"/>
                </a:lnTo>
                <a:lnTo>
                  <a:pt x="159" y="821"/>
                </a:lnTo>
                <a:lnTo>
                  <a:pt x="149" y="831"/>
                </a:lnTo>
                <a:lnTo>
                  <a:pt x="139" y="840"/>
                </a:lnTo>
                <a:lnTo>
                  <a:pt x="129" y="848"/>
                </a:lnTo>
                <a:lnTo>
                  <a:pt x="120" y="856"/>
                </a:lnTo>
                <a:lnTo>
                  <a:pt x="111" y="864"/>
                </a:lnTo>
                <a:lnTo>
                  <a:pt x="103" y="870"/>
                </a:lnTo>
                <a:lnTo>
                  <a:pt x="94" y="877"/>
                </a:lnTo>
                <a:lnTo>
                  <a:pt x="87" y="883"/>
                </a:lnTo>
                <a:lnTo>
                  <a:pt x="78" y="889"/>
                </a:lnTo>
                <a:lnTo>
                  <a:pt x="71" y="894"/>
                </a:lnTo>
                <a:lnTo>
                  <a:pt x="65" y="899"/>
                </a:lnTo>
                <a:lnTo>
                  <a:pt x="58" y="903"/>
                </a:lnTo>
                <a:lnTo>
                  <a:pt x="52" y="907"/>
                </a:lnTo>
                <a:lnTo>
                  <a:pt x="47" y="910"/>
                </a:lnTo>
                <a:lnTo>
                  <a:pt x="41" y="913"/>
                </a:lnTo>
                <a:lnTo>
                  <a:pt x="35" y="916"/>
                </a:lnTo>
                <a:lnTo>
                  <a:pt x="31" y="917"/>
                </a:lnTo>
                <a:lnTo>
                  <a:pt x="26" y="919"/>
                </a:lnTo>
                <a:lnTo>
                  <a:pt x="22" y="920"/>
                </a:lnTo>
                <a:lnTo>
                  <a:pt x="19" y="920"/>
                </a:lnTo>
                <a:lnTo>
                  <a:pt x="15" y="922"/>
                </a:lnTo>
                <a:lnTo>
                  <a:pt x="12" y="920"/>
                </a:lnTo>
                <a:lnTo>
                  <a:pt x="9" y="920"/>
                </a:lnTo>
                <a:lnTo>
                  <a:pt x="8" y="919"/>
                </a:lnTo>
                <a:lnTo>
                  <a:pt x="6" y="91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Freeform 94"/>
          <p:cNvSpPr/>
          <p:nvPr/>
        </p:nvSpPr>
        <p:spPr>
          <a:xfrm>
            <a:off x="7013520" y="4356000"/>
            <a:ext cx="393840" cy="301680"/>
          </a:xfrm>
          <a:custGeom>
            <a:avLst/>
            <a:gdLst/>
            <a:ahLst/>
            <a:rect l="l" t="t" r="r" b="b"/>
            <a:pathLst>
              <a:path w="744" h="570">
                <a:moveTo>
                  <a:pt x="585" y="203"/>
                </a:moveTo>
                <a:lnTo>
                  <a:pt x="606" y="220"/>
                </a:lnTo>
                <a:lnTo>
                  <a:pt x="625" y="239"/>
                </a:lnTo>
                <a:lnTo>
                  <a:pt x="635" y="247"/>
                </a:lnTo>
                <a:lnTo>
                  <a:pt x="644" y="256"/>
                </a:lnTo>
                <a:lnTo>
                  <a:pt x="652" y="266"/>
                </a:lnTo>
                <a:lnTo>
                  <a:pt x="661" y="275"/>
                </a:lnTo>
                <a:lnTo>
                  <a:pt x="670" y="283"/>
                </a:lnTo>
                <a:lnTo>
                  <a:pt x="677" y="292"/>
                </a:lnTo>
                <a:lnTo>
                  <a:pt x="684" y="301"/>
                </a:lnTo>
                <a:lnTo>
                  <a:pt x="691" y="309"/>
                </a:lnTo>
                <a:lnTo>
                  <a:pt x="697" y="318"/>
                </a:lnTo>
                <a:lnTo>
                  <a:pt x="703" y="327"/>
                </a:lnTo>
                <a:lnTo>
                  <a:pt x="709" y="334"/>
                </a:lnTo>
                <a:lnTo>
                  <a:pt x="714" y="342"/>
                </a:lnTo>
                <a:lnTo>
                  <a:pt x="719" y="351"/>
                </a:lnTo>
                <a:lnTo>
                  <a:pt x="723" y="358"/>
                </a:lnTo>
                <a:lnTo>
                  <a:pt x="727" y="367"/>
                </a:lnTo>
                <a:lnTo>
                  <a:pt x="730" y="374"/>
                </a:lnTo>
                <a:lnTo>
                  <a:pt x="734" y="381"/>
                </a:lnTo>
                <a:lnTo>
                  <a:pt x="737" y="389"/>
                </a:lnTo>
                <a:lnTo>
                  <a:pt x="739" y="396"/>
                </a:lnTo>
                <a:lnTo>
                  <a:pt x="742" y="403"/>
                </a:lnTo>
                <a:lnTo>
                  <a:pt x="743" y="410"/>
                </a:lnTo>
                <a:lnTo>
                  <a:pt x="743" y="417"/>
                </a:lnTo>
                <a:lnTo>
                  <a:pt x="744" y="423"/>
                </a:lnTo>
                <a:lnTo>
                  <a:pt x="744" y="430"/>
                </a:lnTo>
                <a:lnTo>
                  <a:pt x="744" y="436"/>
                </a:lnTo>
                <a:lnTo>
                  <a:pt x="743" y="442"/>
                </a:lnTo>
                <a:lnTo>
                  <a:pt x="743" y="448"/>
                </a:lnTo>
                <a:lnTo>
                  <a:pt x="742" y="453"/>
                </a:lnTo>
                <a:lnTo>
                  <a:pt x="737" y="468"/>
                </a:lnTo>
                <a:lnTo>
                  <a:pt x="733" y="481"/>
                </a:lnTo>
                <a:lnTo>
                  <a:pt x="729" y="494"/>
                </a:lnTo>
                <a:lnTo>
                  <a:pt x="723" y="504"/>
                </a:lnTo>
                <a:lnTo>
                  <a:pt x="717" y="515"/>
                </a:lnTo>
                <a:lnTo>
                  <a:pt x="711" y="524"/>
                </a:lnTo>
                <a:lnTo>
                  <a:pt x="704" y="532"/>
                </a:lnTo>
                <a:lnTo>
                  <a:pt x="697" y="541"/>
                </a:lnTo>
                <a:lnTo>
                  <a:pt x="690" y="548"/>
                </a:lnTo>
                <a:lnTo>
                  <a:pt x="681" y="554"/>
                </a:lnTo>
                <a:lnTo>
                  <a:pt x="673" y="558"/>
                </a:lnTo>
                <a:lnTo>
                  <a:pt x="664" y="563"/>
                </a:lnTo>
                <a:lnTo>
                  <a:pt x="655" y="566"/>
                </a:lnTo>
                <a:lnTo>
                  <a:pt x="645" y="568"/>
                </a:lnTo>
                <a:lnTo>
                  <a:pt x="635" y="570"/>
                </a:lnTo>
                <a:lnTo>
                  <a:pt x="624" y="570"/>
                </a:lnTo>
                <a:lnTo>
                  <a:pt x="618" y="570"/>
                </a:lnTo>
                <a:lnTo>
                  <a:pt x="612" y="568"/>
                </a:lnTo>
                <a:lnTo>
                  <a:pt x="606" y="568"/>
                </a:lnTo>
                <a:lnTo>
                  <a:pt x="599" y="567"/>
                </a:lnTo>
                <a:lnTo>
                  <a:pt x="592" y="564"/>
                </a:lnTo>
                <a:lnTo>
                  <a:pt x="585" y="561"/>
                </a:lnTo>
                <a:lnTo>
                  <a:pt x="576" y="558"/>
                </a:lnTo>
                <a:lnTo>
                  <a:pt x="569" y="556"/>
                </a:lnTo>
                <a:lnTo>
                  <a:pt x="560" y="551"/>
                </a:lnTo>
                <a:lnTo>
                  <a:pt x="552" y="547"/>
                </a:lnTo>
                <a:lnTo>
                  <a:pt x="543" y="543"/>
                </a:lnTo>
                <a:lnTo>
                  <a:pt x="533" y="537"/>
                </a:lnTo>
                <a:lnTo>
                  <a:pt x="523" y="531"/>
                </a:lnTo>
                <a:lnTo>
                  <a:pt x="513" y="524"/>
                </a:lnTo>
                <a:lnTo>
                  <a:pt x="503" y="518"/>
                </a:lnTo>
                <a:lnTo>
                  <a:pt x="491" y="509"/>
                </a:lnTo>
                <a:lnTo>
                  <a:pt x="480" y="502"/>
                </a:lnTo>
                <a:lnTo>
                  <a:pt x="468" y="494"/>
                </a:lnTo>
                <a:lnTo>
                  <a:pt x="457" y="485"/>
                </a:lnTo>
                <a:lnTo>
                  <a:pt x="445" y="475"/>
                </a:lnTo>
                <a:lnTo>
                  <a:pt x="432" y="465"/>
                </a:lnTo>
                <a:lnTo>
                  <a:pt x="419" y="455"/>
                </a:lnTo>
                <a:lnTo>
                  <a:pt x="406" y="443"/>
                </a:lnTo>
                <a:lnTo>
                  <a:pt x="392" y="432"/>
                </a:lnTo>
                <a:lnTo>
                  <a:pt x="379" y="420"/>
                </a:lnTo>
                <a:lnTo>
                  <a:pt x="364" y="407"/>
                </a:lnTo>
                <a:lnTo>
                  <a:pt x="350" y="393"/>
                </a:lnTo>
                <a:lnTo>
                  <a:pt x="336" y="380"/>
                </a:lnTo>
                <a:lnTo>
                  <a:pt x="320" y="365"/>
                </a:lnTo>
                <a:lnTo>
                  <a:pt x="304" y="350"/>
                </a:lnTo>
                <a:lnTo>
                  <a:pt x="288" y="334"/>
                </a:lnTo>
                <a:lnTo>
                  <a:pt x="272" y="318"/>
                </a:lnTo>
                <a:lnTo>
                  <a:pt x="256" y="304"/>
                </a:lnTo>
                <a:lnTo>
                  <a:pt x="241" y="289"/>
                </a:lnTo>
                <a:lnTo>
                  <a:pt x="225" y="276"/>
                </a:lnTo>
                <a:lnTo>
                  <a:pt x="210" y="262"/>
                </a:lnTo>
                <a:lnTo>
                  <a:pt x="196" y="249"/>
                </a:lnTo>
                <a:lnTo>
                  <a:pt x="183" y="236"/>
                </a:lnTo>
                <a:lnTo>
                  <a:pt x="169" y="224"/>
                </a:lnTo>
                <a:lnTo>
                  <a:pt x="156" y="213"/>
                </a:lnTo>
                <a:lnTo>
                  <a:pt x="144" y="200"/>
                </a:lnTo>
                <a:lnTo>
                  <a:pt x="131" y="190"/>
                </a:lnTo>
                <a:lnTo>
                  <a:pt x="121" y="178"/>
                </a:lnTo>
                <a:lnTo>
                  <a:pt x="110" y="168"/>
                </a:lnTo>
                <a:lnTo>
                  <a:pt x="100" y="158"/>
                </a:lnTo>
                <a:lnTo>
                  <a:pt x="89" y="148"/>
                </a:lnTo>
                <a:lnTo>
                  <a:pt x="79" y="138"/>
                </a:lnTo>
                <a:lnTo>
                  <a:pt x="71" y="129"/>
                </a:lnTo>
                <a:lnTo>
                  <a:pt x="62" y="121"/>
                </a:lnTo>
                <a:lnTo>
                  <a:pt x="55" y="112"/>
                </a:lnTo>
                <a:lnTo>
                  <a:pt x="46" y="103"/>
                </a:lnTo>
                <a:lnTo>
                  <a:pt x="41" y="96"/>
                </a:lnTo>
                <a:lnTo>
                  <a:pt x="33" y="88"/>
                </a:lnTo>
                <a:lnTo>
                  <a:pt x="28" y="80"/>
                </a:lnTo>
                <a:lnTo>
                  <a:pt x="22" y="75"/>
                </a:lnTo>
                <a:lnTo>
                  <a:pt x="18" y="67"/>
                </a:lnTo>
                <a:lnTo>
                  <a:pt x="13" y="62"/>
                </a:lnTo>
                <a:lnTo>
                  <a:pt x="10" y="56"/>
                </a:lnTo>
                <a:lnTo>
                  <a:pt x="6" y="50"/>
                </a:lnTo>
                <a:lnTo>
                  <a:pt x="5" y="44"/>
                </a:lnTo>
                <a:lnTo>
                  <a:pt x="2" y="40"/>
                </a:lnTo>
                <a:lnTo>
                  <a:pt x="0" y="36"/>
                </a:lnTo>
                <a:lnTo>
                  <a:pt x="0" y="32"/>
                </a:lnTo>
                <a:lnTo>
                  <a:pt x="0" y="29"/>
                </a:lnTo>
                <a:lnTo>
                  <a:pt x="0" y="26"/>
                </a:lnTo>
                <a:lnTo>
                  <a:pt x="0" y="24"/>
                </a:lnTo>
                <a:lnTo>
                  <a:pt x="2" y="23"/>
                </a:lnTo>
                <a:lnTo>
                  <a:pt x="3" y="21"/>
                </a:lnTo>
                <a:lnTo>
                  <a:pt x="5" y="19"/>
                </a:lnTo>
                <a:lnTo>
                  <a:pt x="7" y="17"/>
                </a:lnTo>
                <a:lnTo>
                  <a:pt x="10" y="16"/>
                </a:lnTo>
                <a:lnTo>
                  <a:pt x="13" y="14"/>
                </a:lnTo>
                <a:lnTo>
                  <a:pt x="18" y="13"/>
                </a:lnTo>
                <a:lnTo>
                  <a:pt x="22" y="11"/>
                </a:lnTo>
                <a:lnTo>
                  <a:pt x="26" y="10"/>
                </a:lnTo>
                <a:lnTo>
                  <a:pt x="32" y="8"/>
                </a:lnTo>
                <a:lnTo>
                  <a:pt x="36" y="7"/>
                </a:lnTo>
                <a:lnTo>
                  <a:pt x="42" y="6"/>
                </a:lnTo>
                <a:lnTo>
                  <a:pt x="49" y="4"/>
                </a:lnTo>
                <a:lnTo>
                  <a:pt x="55" y="4"/>
                </a:lnTo>
                <a:lnTo>
                  <a:pt x="62" y="3"/>
                </a:lnTo>
                <a:lnTo>
                  <a:pt x="69" y="3"/>
                </a:lnTo>
                <a:lnTo>
                  <a:pt x="78" y="1"/>
                </a:lnTo>
                <a:lnTo>
                  <a:pt x="87" y="1"/>
                </a:lnTo>
                <a:lnTo>
                  <a:pt x="95" y="1"/>
                </a:lnTo>
                <a:lnTo>
                  <a:pt x="104" y="0"/>
                </a:lnTo>
                <a:lnTo>
                  <a:pt x="113" y="0"/>
                </a:lnTo>
                <a:lnTo>
                  <a:pt x="123" y="1"/>
                </a:lnTo>
                <a:lnTo>
                  <a:pt x="133" y="1"/>
                </a:lnTo>
                <a:lnTo>
                  <a:pt x="143" y="1"/>
                </a:lnTo>
                <a:lnTo>
                  <a:pt x="154" y="3"/>
                </a:lnTo>
                <a:lnTo>
                  <a:pt x="166" y="3"/>
                </a:lnTo>
                <a:lnTo>
                  <a:pt x="189" y="6"/>
                </a:lnTo>
                <a:lnTo>
                  <a:pt x="215" y="8"/>
                </a:lnTo>
                <a:lnTo>
                  <a:pt x="239" y="13"/>
                </a:lnTo>
                <a:lnTo>
                  <a:pt x="265" y="19"/>
                </a:lnTo>
                <a:lnTo>
                  <a:pt x="290" y="26"/>
                </a:lnTo>
                <a:lnTo>
                  <a:pt x="314" y="33"/>
                </a:lnTo>
                <a:lnTo>
                  <a:pt x="337" y="43"/>
                </a:lnTo>
                <a:lnTo>
                  <a:pt x="362" y="53"/>
                </a:lnTo>
                <a:lnTo>
                  <a:pt x="385" y="65"/>
                </a:lnTo>
                <a:lnTo>
                  <a:pt x="408" y="76"/>
                </a:lnTo>
                <a:lnTo>
                  <a:pt x="431" y="89"/>
                </a:lnTo>
                <a:lnTo>
                  <a:pt x="452" y="103"/>
                </a:lnTo>
                <a:lnTo>
                  <a:pt x="475" y="118"/>
                </a:lnTo>
                <a:lnTo>
                  <a:pt x="497" y="134"/>
                </a:lnTo>
                <a:lnTo>
                  <a:pt x="520" y="150"/>
                </a:lnTo>
                <a:lnTo>
                  <a:pt x="542" y="167"/>
                </a:lnTo>
                <a:lnTo>
                  <a:pt x="563" y="184"/>
                </a:lnTo>
                <a:lnTo>
                  <a:pt x="585" y="2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Freeform 95"/>
          <p:cNvSpPr/>
          <p:nvPr/>
        </p:nvSpPr>
        <p:spPr>
          <a:xfrm>
            <a:off x="6073920" y="4083120"/>
            <a:ext cx="1755720" cy="314280"/>
          </a:xfrm>
          <a:custGeom>
            <a:avLst/>
            <a:gdLst/>
            <a:ahLst/>
            <a:rect l="l" t="t" r="r" b="b"/>
            <a:pathLst>
              <a:path w="3318" h="594">
                <a:moveTo>
                  <a:pt x="545" y="561"/>
                </a:moveTo>
                <a:lnTo>
                  <a:pt x="514" y="569"/>
                </a:lnTo>
                <a:lnTo>
                  <a:pt x="482" y="574"/>
                </a:lnTo>
                <a:lnTo>
                  <a:pt x="468" y="577"/>
                </a:lnTo>
                <a:lnTo>
                  <a:pt x="453" y="580"/>
                </a:lnTo>
                <a:lnTo>
                  <a:pt x="439" y="581"/>
                </a:lnTo>
                <a:lnTo>
                  <a:pt x="424" y="584"/>
                </a:lnTo>
                <a:lnTo>
                  <a:pt x="412" y="586"/>
                </a:lnTo>
                <a:lnTo>
                  <a:pt x="399" y="587"/>
                </a:lnTo>
                <a:lnTo>
                  <a:pt x="386" y="589"/>
                </a:lnTo>
                <a:lnTo>
                  <a:pt x="374" y="590"/>
                </a:lnTo>
                <a:lnTo>
                  <a:pt x="361" y="592"/>
                </a:lnTo>
                <a:lnTo>
                  <a:pt x="350" y="592"/>
                </a:lnTo>
                <a:lnTo>
                  <a:pt x="340" y="593"/>
                </a:lnTo>
                <a:lnTo>
                  <a:pt x="328" y="593"/>
                </a:lnTo>
                <a:lnTo>
                  <a:pt x="318" y="593"/>
                </a:lnTo>
                <a:lnTo>
                  <a:pt x="308" y="594"/>
                </a:lnTo>
                <a:lnTo>
                  <a:pt x="298" y="594"/>
                </a:lnTo>
                <a:lnTo>
                  <a:pt x="289" y="593"/>
                </a:lnTo>
                <a:lnTo>
                  <a:pt x="281" y="593"/>
                </a:lnTo>
                <a:lnTo>
                  <a:pt x="272" y="593"/>
                </a:lnTo>
                <a:lnTo>
                  <a:pt x="265" y="592"/>
                </a:lnTo>
                <a:lnTo>
                  <a:pt x="257" y="592"/>
                </a:lnTo>
                <a:lnTo>
                  <a:pt x="250" y="590"/>
                </a:lnTo>
                <a:lnTo>
                  <a:pt x="243" y="590"/>
                </a:lnTo>
                <a:lnTo>
                  <a:pt x="237" y="589"/>
                </a:lnTo>
                <a:lnTo>
                  <a:pt x="232" y="587"/>
                </a:lnTo>
                <a:lnTo>
                  <a:pt x="227" y="586"/>
                </a:lnTo>
                <a:lnTo>
                  <a:pt x="222" y="584"/>
                </a:lnTo>
                <a:lnTo>
                  <a:pt x="217" y="583"/>
                </a:lnTo>
                <a:lnTo>
                  <a:pt x="214" y="581"/>
                </a:lnTo>
                <a:lnTo>
                  <a:pt x="203" y="577"/>
                </a:lnTo>
                <a:lnTo>
                  <a:pt x="191" y="571"/>
                </a:lnTo>
                <a:lnTo>
                  <a:pt x="180" y="566"/>
                </a:lnTo>
                <a:lnTo>
                  <a:pt x="170" y="558"/>
                </a:lnTo>
                <a:lnTo>
                  <a:pt x="158" y="551"/>
                </a:lnTo>
                <a:lnTo>
                  <a:pt x="145" y="543"/>
                </a:lnTo>
                <a:lnTo>
                  <a:pt x="134" y="533"/>
                </a:lnTo>
                <a:lnTo>
                  <a:pt x="121" y="522"/>
                </a:lnTo>
                <a:lnTo>
                  <a:pt x="108" y="511"/>
                </a:lnTo>
                <a:lnTo>
                  <a:pt x="93" y="499"/>
                </a:lnTo>
                <a:lnTo>
                  <a:pt x="80" y="486"/>
                </a:lnTo>
                <a:lnTo>
                  <a:pt x="65" y="472"/>
                </a:lnTo>
                <a:lnTo>
                  <a:pt x="50" y="458"/>
                </a:lnTo>
                <a:lnTo>
                  <a:pt x="33" y="442"/>
                </a:lnTo>
                <a:lnTo>
                  <a:pt x="17" y="425"/>
                </a:lnTo>
                <a:lnTo>
                  <a:pt x="0" y="407"/>
                </a:lnTo>
                <a:lnTo>
                  <a:pt x="13" y="406"/>
                </a:lnTo>
                <a:lnTo>
                  <a:pt x="26" y="406"/>
                </a:lnTo>
                <a:lnTo>
                  <a:pt x="40" y="406"/>
                </a:lnTo>
                <a:lnTo>
                  <a:pt x="55" y="406"/>
                </a:lnTo>
                <a:lnTo>
                  <a:pt x="70" y="406"/>
                </a:lnTo>
                <a:lnTo>
                  <a:pt x="86" y="404"/>
                </a:lnTo>
                <a:lnTo>
                  <a:pt x="103" y="404"/>
                </a:lnTo>
                <a:lnTo>
                  <a:pt x="121" y="403"/>
                </a:lnTo>
                <a:lnTo>
                  <a:pt x="138" y="402"/>
                </a:lnTo>
                <a:lnTo>
                  <a:pt x="157" y="400"/>
                </a:lnTo>
                <a:lnTo>
                  <a:pt x="175" y="399"/>
                </a:lnTo>
                <a:lnTo>
                  <a:pt x="196" y="397"/>
                </a:lnTo>
                <a:lnTo>
                  <a:pt x="216" y="396"/>
                </a:lnTo>
                <a:lnTo>
                  <a:pt x="237" y="394"/>
                </a:lnTo>
                <a:lnTo>
                  <a:pt x="259" y="393"/>
                </a:lnTo>
                <a:lnTo>
                  <a:pt x="282" y="390"/>
                </a:lnTo>
                <a:lnTo>
                  <a:pt x="305" y="387"/>
                </a:lnTo>
                <a:lnTo>
                  <a:pt x="329" y="386"/>
                </a:lnTo>
                <a:lnTo>
                  <a:pt x="354" y="383"/>
                </a:lnTo>
                <a:lnTo>
                  <a:pt x="378" y="380"/>
                </a:lnTo>
                <a:lnTo>
                  <a:pt x="404" y="377"/>
                </a:lnTo>
                <a:lnTo>
                  <a:pt x="432" y="373"/>
                </a:lnTo>
                <a:lnTo>
                  <a:pt x="459" y="370"/>
                </a:lnTo>
                <a:lnTo>
                  <a:pt x="488" y="366"/>
                </a:lnTo>
                <a:lnTo>
                  <a:pt x="517" y="363"/>
                </a:lnTo>
                <a:lnTo>
                  <a:pt x="545" y="358"/>
                </a:lnTo>
                <a:lnTo>
                  <a:pt x="577" y="354"/>
                </a:lnTo>
                <a:lnTo>
                  <a:pt x="607" y="350"/>
                </a:lnTo>
                <a:lnTo>
                  <a:pt x="640" y="344"/>
                </a:lnTo>
                <a:lnTo>
                  <a:pt x="672" y="340"/>
                </a:lnTo>
                <a:lnTo>
                  <a:pt x="707" y="334"/>
                </a:lnTo>
                <a:lnTo>
                  <a:pt x="741" y="330"/>
                </a:lnTo>
                <a:lnTo>
                  <a:pt x="810" y="318"/>
                </a:lnTo>
                <a:lnTo>
                  <a:pt x="882" y="307"/>
                </a:lnTo>
                <a:lnTo>
                  <a:pt x="956" y="296"/>
                </a:lnTo>
                <a:lnTo>
                  <a:pt x="1031" y="285"/>
                </a:lnTo>
                <a:lnTo>
                  <a:pt x="1105" y="273"/>
                </a:lnTo>
                <a:lnTo>
                  <a:pt x="1183" y="262"/>
                </a:lnTo>
                <a:lnTo>
                  <a:pt x="1262" y="250"/>
                </a:lnTo>
                <a:lnTo>
                  <a:pt x="1343" y="237"/>
                </a:lnTo>
                <a:lnTo>
                  <a:pt x="1425" y="224"/>
                </a:lnTo>
                <a:lnTo>
                  <a:pt x="1510" y="212"/>
                </a:lnTo>
                <a:lnTo>
                  <a:pt x="1595" y="197"/>
                </a:lnTo>
                <a:lnTo>
                  <a:pt x="1683" y="183"/>
                </a:lnTo>
                <a:lnTo>
                  <a:pt x="1772" y="168"/>
                </a:lnTo>
                <a:lnTo>
                  <a:pt x="1861" y="151"/>
                </a:lnTo>
                <a:lnTo>
                  <a:pt x="1955" y="135"/>
                </a:lnTo>
                <a:lnTo>
                  <a:pt x="2048" y="117"/>
                </a:lnTo>
                <a:lnTo>
                  <a:pt x="2093" y="109"/>
                </a:lnTo>
                <a:lnTo>
                  <a:pt x="2138" y="102"/>
                </a:lnTo>
                <a:lnTo>
                  <a:pt x="2181" y="95"/>
                </a:lnTo>
                <a:lnTo>
                  <a:pt x="2223" y="89"/>
                </a:lnTo>
                <a:lnTo>
                  <a:pt x="2264" y="82"/>
                </a:lnTo>
                <a:lnTo>
                  <a:pt x="2305" y="76"/>
                </a:lnTo>
                <a:lnTo>
                  <a:pt x="2343" y="70"/>
                </a:lnTo>
                <a:lnTo>
                  <a:pt x="2381" y="65"/>
                </a:lnTo>
                <a:lnTo>
                  <a:pt x="2418" y="59"/>
                </a:lnTo>
                <a:lnTo>
                  <a:pt x="2453" y="55"/>
                </a:lnTo>
                <a:lnTo>
                  <a:pt x="2487" y="49"/>
                </a:lnTo>
                <a:lnTo>
                  <a:pt x="2522" y="45"/>
                </a:lnTo>
                <a:lnTo>
                  <a:pt x="2554" y="40"/>
                </a:lnTo>
                <a:lnTo>
                  <a:pt x="2585" y="36"/>
                </a:lnTo>
                <a:lnTo>
                  <a:pt x="2616" y="32"/>
                </a:lnTo>
                <a:lnTo>
                  <a:pt x="2644" y="29"/>
                </a:lnTo>
                <a:lnTo>
                  <a:pt x="2672" y="24"/>
                </a:lnTo>
                <a:lnTo>
                  <a:pt x="2698" y="21"/>
                </a:lnTo>
                <a:lnTo>
                  <a:pt x="2723" y="19"/>
                </a:lnTo>
                <a:lnTo>
                  <a:pt x="2748" y="16"/>
                </a:lnTo>
                <a:lnTo>
                  <a:pt x="2771" y="13"/>
                </a:lnTo>
                <a:lnTo>
                  <a:pt x="2793" y="11"/>
                </a:lnTo>
                <a:lnTo>
                  <a:pt x="2814" y="9"/>
                </a:lnTo>
                <a:lnTo>
                  <a:pt x="2834" y="7"/>
                </a:lnTo>
                <a:lnTo>
                  <a:pt x="2852" y="6"/>
                </a:lnTo>
                <a:lnTo>
                  <a:pt x="2869" y="4"/>
                </a:lnTo>
                <a:lnTo>
                  <a:pt x="2885" y="3"/>
                </a:lnTo>
                <a:lnTo>
                  <a:pt x="2901" y="1"/>
                </a:lnTo>
                <a:lnTo>
                  <a:pt x="2913" y="1"/>
                </a:lnTo>
                <a:lnTo>
                  <a:pt x="2926" y="0"/>
                </a:lnTo>
                <a:lnTo>
                  <a:pt x="2937" y="0"/>
                </a:lnTo>
                <a:lnTo>
                  <a:pt x="2947" y="0"/>
                </a:lnTo>
                <a:lnTo>
                  <a:pt x="2965" y="0"/>
                </a:lnTo>
                <a:lnTo>
                  <a:pt x="2983" y="1"/>
                </a:lnTo>
                <a:lnTo>
                  <a:pt x="3001" y="1"/>
                </a:lnTo>
                <a:lnTo>
                  <a:pt x="3020" y="3"/>
                </a:lnTo>
                <a:lnTo>
                  <a:pt x="3055" y="7"/>
                </a:lnTo>
                <a:lnTo>
                  <a:pt x="3091" y="11"/>
                </a:lnTo>
                <a:lnTo>
                  <a:pt x="3125" y="19"/>
                </a:lnTo>
                <a:lnTo>
                  <a:pt x="3158" y="24"/>
                </a:lnTo>
                <a:lnTo>
                  <a:pt x="3174" y="29"/>
                </a:lnTo>
                <a:lnTo>
                  <a:pt x="3190" y="32"/>
                </a:lnTo>
                <a:lnTo>
                  <a:pt x="3206" y="34"/>
                </a:lnTo>
                <a:lnTo>
                  <a:pt x="3220" y="39"/>
                </a:lnTo>
                <a:lnTo>
                  <a:pt x="3230" y="46"/>
                </a:lnTo>
                <a:lnTo>
                  <a:pt x="3240" y="53"/>
                </a:lnTo>
                <a:lnTo>
                  <a:pt x="3250" y="60"/>
                </a:lnTo>
                <a:lnTo>
                  <a:pt x="3259" y="68"/>
                </a:lnTo>
                <a:lnTo>
                  <a:pt x="3268" y="76"/>
                </a:lnTo>
                <a:lnTo>
                  <a:pt x="3276" y="83"/>
                </a:lnTo>
                <a:lnTo>
                  <a:pt x="3283" y="91"/>
                </a:lnTo>
                <a:lnTo>
                  <a:pt x="3291" y="98"/>
                </a:lnTo>
                <a:lnTo>
                  <a:pt x="3296" y="105"/>
                </a:lnTo>
                <a:lnTo>
                  <a:pt x="3302" y="112"/>
                </a:lnTo>
                <a:lnTo>
                  <a:pt x="3306" y="119"/>
                </a:lnTo>
                <a:lnTo>
                  <a:pt x="3311" y="127"/>
                </a:lnTo>
                <a:lnTo>
                  <a:pt x="3314" y="134"/>
                </a:lnTo>
                <a:lnTo>
                  <a:pt x="3315" y="141"/>
                </a:lnTo>
                <a:lnTo>
                  <a:pt x="3317" y="148"/>
                </a:lnTo>
                <a:lnTo>
                  <a:pt x="3318" y="155"/>
                </a:lnTo>
                <a:lnTo>
                  <a:pt x="3317" y="163"/>
                </a:lnTo>
                <a:lnTo>
                  <a:pt x="3315" y="170"/>
                </a:lnTo>
                <a:lnTo>
                  <a:pt x="3311" y="177"/>
                </a:lnTo>
                <a:lnTo>
                  <a:pt x="3306" y="183"/>
                </a:lnTo>
                <a:lnTo>
                  <a:pt x="3301" y="190"/>
                </a:lnTo>
                <a:lnTo>
                  <a:pt x="3292" y="197"/>
                </a:lnTo>
                <a:lnTo>
                  <a:pt x="3283" y="204"/>
                </a:lnTo>
                <a:lnTo>
                  <a:pt x="3273" y="210"/>
                </a:lnTo>
                <a:lnTo>
                  <a:pt x="3262" y="216"/>
                </a:lnTo>
                <a:lnTo>
                  <a:pt x="3249" y="223"/>
                </a:lnTo>
                <a:lnTo>
                  <a:pt x="3235" y="229"/>
                </a:lnTo>
                <a:lnTo>
                  <a:pt x="3219" y="233"/>
                </a:lnTo>
                <a:lnTo>
                  <a:pt x="3201" y="239"/>
                </a:lnTo>
                <a:lnTo>
                  <a:pt x="3183" y="243"/>
                </a:lnTo>
                <a:lnTo>
                  <a:pt x="3163" y="248"/>
                </a:lnTo>
                <a:lnTo>
                  <a:pt x="3142" y="252"/>
                </a:lnTo>
                <a:lnTo>
                  <a:pt x="3116" y="259"/>
                </a:lnTo>
                <a:lnTo>
                  <a:pt x="3091" y="266"/>
                </a:lnTo>
                <a:lnTo>
                  <a:pt x="3065" y="272"/>
                </a:lnTo>
                <a:lnTo>
                  <a:pt x="3039" y="278"/>
                </a:lnTo>
                <a:lnTo>
                  <a:pt x="3013" y="282"/>
                </a:lnTo>
                <a:lnTo>
                  <a:pt x="2987" y="288"/>
                </a:lnTo>
                <a:lnTo>
                  <a:pt x="2961" y="292"/>
                </a:lnTo>
                <a:lnTo>
                  <a:pt x="2934" y="295"/>
                </a:lnTo>
                <a:lnTo>
                  <a:pt x="2908" y="299"/>
                </a:lnTo>
                <a:lnTo>
                  <a:pt x="2880" y="302"/>
                </a:lnTo>
                <a:lnTo>
                  <a:pt x="2853" y="304"/>
                </a:lnTo>
                <a:lnTo>
                  <a:pt x="2826" y="307"/>
                </a:lnTo>
                <a:lnTo>
                  <a:pt x="2798" y="308"/>
                </a:lnTo>
                <a:lnTo>
                  <a:pt x="2770" y="308"/>
                </a:lnTo>
                <a:lnTo>
                  <a:pt x="2741" y="309"/>
                </a:lnTo>
                <a:lnTo>
                  <a:pt x="2712" y="309"/>
                </a:lnTo>
                <a:lnTo>
                  <a:pt x="2682" y="309"/>
                </a:lnTo>
                <a:lnTo>
                  <a:pt x="2651" y="309"/>
                </a:lnTo>
                <a:lnTo>
                  <a:pt x="2620" y="309"/>
                </a:lnTo>
                <a:lnTo>
                  <a:pt x="2588" y="309"/>
                </a:lnTo>
                <a:lnTo>
                  <a:pt x="2554" y="309"/>
                </a:lnTo>
                <a:lnTo>
                  <a:pt x="2520" y="311"/>
                </a:lnTo>
                <a:lnTo>
                  <a:pt x="2485" y="311"/>
                </a:lnTo>
                <a:lnTo>
                  <a:pt x="2449" y="312"/>
                </a:lnTo>
                <a:lnTo>
                  <a:pt x="2411" y="312"/>
                </a:lnTo>
                <a:lnTo>
                  <a:pt x="2374" y="314"/>
                </a:lnTo>
                <a:lnTo>
                  <a:pt x="2335" y="315"/>
                </a:lnTo>
                <a:lnTo>
                  <a:pt x="2294" y="318"/>
                </a:lnTo>
                <a:lnTo>
                  <a:pt x="2254" y="319"/>
                </a:lnTo>
                <a:lnTo>
                  <a:pt x="2212" y="322"/>
                </a:lnTo>
                <a:lnTo>
                  <a:pt x="2171" y="325"/>
                </a:lnTo>
                <a:lnTo>
                  <a:pt x="2127" y="330"/>
                </a:lnTo>
                <a:lnTo>
                  <a:pt x="2079" y="332"/>
                </a:lnTo>
                <a:lnTo>
                  <a:pt x="2031" y="337"/>
                </a:lnTo>
                <a:lnTo>
                  <a:pt x="1982" y="343"/>
                </a:lnTo>
                <a:lnTo>
                  <a:pt x="1933" y="347"/>
                </a:lnTo>
                <a:lnTo>
                  <a:pt x="1883" y="353"/>
                </a:lnTo>
                <a:lnTo>
                  <a:pt x="1832" y="358"/>
                </a:lnTo>
                <a:lnTo>
                  <a:pt x="1782" y="364"/>
                </a:lnTo>
                <a:lnTo>
                  <a:pt x="1732" y="370"/>
                </a:lnTo>
                <a:lnTo>
                  <a:pt x="1680" y="377"/>
                </a:lnTo>
                <a:lnTo>
                  <a:pt x="1628" y="383"/>
                </a:lnTo>
                <a:lnTo>
                  <a:pt x="1576" y="390"/>
                </a:lnTo>
                <a:lnTo>
                  <a:pt x="1523" y="397"/>
                </a:lnTo>
                <a:lnTo>
                  <a:pt x="1470" y="404"/>
                </a:lnTo>
                <a:lnTo>
                  <a:pt x="1416" y="412"/>
                </a:lnTo>
                <a:lnTo>
                  <a:pt x="1362" y="419"/>
                </a:lnTo>
                <a:lnTo>
                  <a:pt x="1307" y="426"/>
                </a:lnTo>
                <a:lnTo>
                  <a:pt x="1249" y="438"/>
                </a:lnTo>
                <a:lnTo>
                  <a:pt x="1193" y="448"/>
                </a:lnTo>
                <a:lnTo>
                  <a:pt x="1137" y="458"/>
                </a:lnTo>
                <a:lnTo>
                  <a:pt x="1084" y="466"/>
                </a:lnTo>
                <a:lnTo>
                  <a:pt x="1031" y="475"/>
                </a:lnTo>
                <a:lnTo>
                  <a:pt x="980" y="485"/>
                </a:lnTo>
                <a:lnTo>
                  <a:pt x="931" y="492"/>
                </a:lnTo>
                <a:lnTo>
                  <a:pt x="882" y="501"/>
                </a:lnTo>
                <a:lnTo>
                  <a:pt x="835" y="510"/>
                </a:lnTo>
                <a:lnTo>
                  <a:pt x="790" y="517"/>
                </a:lnTo>
                <a:lnTo>
                  <a:pt x="746" y="524"/>
                </a:lnTo>
                <a:lnTo>
                  <a:pt x="702" y="531"/>
                </a:lnTo>
                <a:lnTo>
                  <a:pt x="662" y="540"/>
                </a:lnTo>
                <a:lnTo>
                  <a:pt x="622" y="547"/>
                </a:lnTo>
                <a:lnTo>
                  <a:pt x="583" y="554"/>
                </a:lnTo>
                <a:lnTo>
                  <a:pt x="545" y="5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311"/>
                                        </p:tgtEl>
                                        <p:attrNameLst>
                                          <p:attrName>style.visibility</p:attrName>
                                        </p:attrNameLst>
                                      </p:cBhvr>
                                      <p:to>
                                        <p:strVal val="visible"/>
                                      </p:to>
                                    </p:set>
                                    <p:anim calcmode="lin" valueType="num">
                                      <p:cBhvr additive="base">
                                        <p:cTn id="917" dur="500" fill="hold"/>
                                        <p:tgtEl>
                                          <p:spTgt spid="311"/>
                                        </p:tgtEl>
                                        <p:attrNameLst>
                                          <p:attrName>ppt_x</p:attrName>
                                        </p:attrNameLst>
                                      </p:cBhvr>
                                      <p:tavLst>
                                        <p:tav tm="0">
                                          <p:val>
                                            <p:strVal val="0-#ppt_w/2"/>
                                          </p:val>
                                        </p:tav>
                                        <p:tav tm="100000">
                                          <p:val>
                                            <p:strVal val="#ppt_x"/>
                                          </p:val>
                                        </p:tav>
                                      </p:tavLst>
                                    </p:anim>
                                    <p:anim calcmode="lin" valueType="num">
                                      <p:cBhvr additive="base">
                                        <p:cTn id="918"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2" presetSubtype="1">
                                  <p:stCondLst>
                                    <p:cond delay="0"/>
                                  </p:stCondLst>
                                  <p:childTnLst>
                                    <p:set>
                                      <p:cBhvr>
                                        <p:cTn id="922" dur="1" fill="hold">
                                          <p:stCondLst>
                                            <p:cond delay="0"/>
                                          </p:stCondLst>
                                        </p:cTn>
                                        <p:tgtEl>
                                          <p:spTgt spid="318"/>
                                        </p:tgtEl>
                                        <p:attrNameLst>
                                          <p:attrName>style.visibility</p:attrName>
                                        </p:attrNameLst>
                                      </p:cBhvr>
                                      <p:to>
                                        <p:strVal val="visible"/>
                                      </p:to>
                                    </p:set>
                                    <p:animEffect filter="wipe(up)" transition="in">
                                      <p:cBhvr additive="repl">
                                        <p:cTn id="923" dur="500"/>
                                        <p:tgtEl>
                                          <p:spTgt spid="318"/>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2" presetSubtype="1">
                                  <p:stCondLst>
                                    <p:cond delay="0"/>
                                  </p:stCondLst>
                                  <p:childTnLst>
                                    <p:set>
                                      <p:cBhvr>
                                        <p:cTn id="927" dur="1" fill="hold">
                                          <p:stCondLst>
                                            <p:cond delay="0"/>
                                          </p:stCondLst>
                                        </p:cTn>
                                        <p:tgtEl>
                                          <p:spTgt spid="317"/>
                                        </p:tgtEl>
                                        <p:attrNameLst>
                                          <p:attrName>style.visibility</p:attrName>
                                        </p:attrNameLst>
                                      </p:cBhvr>
                                      <p:to>
                                        <p:strVal val="visible"/>
                                      </p:to>
                                    </p:set>
                                    <p:animEffect filter="wipe(up)" transition="in">
                                      <p:cBhvr additive="repl">
                                        <p:cTn id="928" dur="500"/>
                                        <p:tgtEl>
                                          <p:spTgt spid="317"/>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22" presetSubtype="4">
                                  <p:stCondLst>
                                    <p:cond delay="0"/>
                                  </p:stCondLst>
                                  <p:childTnLst>
                                    <p:set>
                                      <p:cBhvr>
                                        <p:cTn id="932" dur="1" fill="hold">
                                          <p:stCondLst>
                                            <p:cond delay="0"/>
                                          </p:stCondLst>
                                        </p:cTn>
                                        <p:tgtEl>
                                          <p:spTgt spid="319"/>
                                        </p:tgtEl>
                                        <p:attrNameLst>
                                          <p:attrName>style.visibility</p:attrName>
                                        </p:attrNameLst>
                                      </p:cBhvr>
                                      <p:to>
                                        <p:strVal val="visible"/>
                                      </p:to>
                                    </p:set>
                                    <p:animEffect filter="wipe(down)" transition="in">
                                      <p:cBhvr additive="repl">
                                        <p:cTn id="933" dur="500"/>
                                        <p:tgtEl>
                                          <p:spTgt spid="319"/>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314"/>
                                        </p:tgtEl>
                                        <p:attrNameLst>
                                          <p:attrName>style.visibility</p:attrName>
                                        </p:attrNameLst>
                                      </p:cBhvr>
                                      <p:to>
                                        <p:strVal val="visible"/>
                                      </p:to>
                                    </p:set>
                                    <p:animEffect filter="wipe(left)" transition="in">
                                      <p:cBhvr additive="repl">
                                        <p:cTn id="938" dur="500"/>
                                        <p:tgtEl>
                                          <p:spTgt spid="314"/>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312"/>
                                        </p:tgtEl>
                                        <p:attrNameLst>
                                          <p:attrName>style.visibility</p:attrName>
                                        </p:attrNameLst>
                                      </p:cBhvr>
                                      <p:to>
                                        <p:strVal val="visible"/>
                                      </p:to>
                                    </p:set>
                                    <p:animEffect filter="wipe(up)" transition="in">
                                      <p:cBhvr additive="repl">
                                        <p:cTn id="943" dur="500"/>
                                        <p:tgtEl>
                                          <p:spTgt spid="312"/>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2" presetSubtype="1">
                                  <p:stCondLst>
                                    <p:cond delay="0"/>
                                  </p:stCondLst>
                                  <p:childTnLst>
                                    <p:set>
                                      <p:cBhvr>
                                        <p:cTn id="947" dur="1" fill="hold">
                                          <p:stCondLst>
                                            <p:cond delay="0"/>
                                          </p:stCondLst>
                                        </p:cTn>
                                        <p:tgtEl>
                                          <p:spTgt spid="313"/>
                                        </p:tgtEl>
                                        <p:attrNameLst>
                                          <p:attrName>style.visibility</p:attrName>
                                        </p:attrNameLst>
                                      </p:cBhvr>
                                      <p:to>
                                        <p:strVal val="visible"/>
                                      </p:to>
                                    </p:set>
                                    <p:animEffect filter="wipe(up)" transition="in">
                                      <p:cBhvr additive="repl">
                                        <p:cTn id="948" dur="500"/>
                                        <p:tgtEl>
                                          <p:spTgt spid="313"/>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2" presetSubtype="8">
                                  <p:stCondLst>
                                    <p:cond delay="0"/>
                                  </p:stCondLst>
                                  <p:childTnLst>
                                    <p:set>
                                      <p:cBhvr>
                                        <p:cTn id="952" dur="1" fill="hold">
                                          <p:stCondLst>
                                            <p:cond delay="0"/>
                                          </p:stCondLst>
                                        </p:cTn>
                                        <p:tgtEl>
                                          <p:spTgt spid="315"/>
                                        </p:tgtEl>
                                        <p:attrNameLst>
                                          <p:attrName>style.visibility</p:attrName>
                                        </p:attrNameLst>
                                      </p:cBhvr>
                                      <p:to>
                                        <p:strVal val="visible"/>
                                      </p:to>
                                    </p:set>
                                    <p:animEffect filter="wipe(left)" transition="in">
                                      <p:cBhvr additive="repl">
                                        <p:cTn id="953" dur="500"/>
                                        <p:tgtEl>
                                          <p:spTgt spid="315"/>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316"/>
                                        </p:tgtEl>
                                        <p:attrNameLst>
                                          <p:attrName>style.visibility</p:attrName>
                                        </p:attrNameLst>
                                      </p:cBhvr>
                                      <p:to>
                                        <p:strVal val="visible"/>
                                      </p:to>
                                    </p:set>
                                    <p:animEffect filter="wipe(left)" transition="in">
                                      <p:cBhvr additive="repl">
                                        <p:cTn id="958" dur="500"/>
                                        <p:tgtEl>
                                          <p:spTgt spid="316"/>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323"/>
                                        </p:tgtEl>
                                        <p:attrNameLst>
                                          <p:attrName>style.visibility</p:attrName>
                                        </p:attrNameLst>
                                      </p:cBhvr>
                                      <p:to>
                                        <p:strVal val="visible"/>
                                      </p:to>
                                    </p:set>
                                    <p:animEffect filter="wipe(left)" transition="in">
                                      <p:cBhvr additive="repl">
                                        <p:cTn id="963" dur="500"/>
                                        <p:tgtEl>
                                          <p:spTgt spid="323"/>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1">
                                  <p:stCondLst>
                                    <p:cond delay="0"/>
                                  </p:stCondLst>
                                  <p:childTnLst>
                                    <p:set>
                                      <p:cBhvr>
                                        <p:cTn id="967" dur="1" fill="hold">
                                          <p:stCondLst>
                                            <p:cond delay="0"/>
                                          </p:stCondLst>
                                        </p:cTn>
                                        <p:tgtEl>
                                          <p:spTgt spid="321"/>
                                        </p:tgtEl>
                                        <p:attrNameLst>
                                          <p:attrName>style.visibility</p:attrName>
                                        </p:attrNameLst>
                                      </p:cBhvr>
                                      <p:to>
                                        <p:strVal val="visible"/>
                                      </p:to>
                                    </p:set>
                                    <p:animEffect filter="wipe(up)" transition="in">
                                      <p:cBhvr additive="repl">
                                        <p:cTn id="968" dur="500"/>
                                        <p:tgtEl>
                                          <p:spTgt spid="321"/>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322"/>
                                        </p:tgtEl>
                                        <p:attrNameLst>
                                          <p:attrName>style.visibility</p:attrName>
                                        </p:attrNameLst>
                                      </p:cBhvr>
                                      <p:to>
                                        <p:strVal val="visible"/>
                                      </p:to>
                                    </p:set>
                                    <p:animEffect filter="wipe(left)" transition="in">
                                      <p:cBhvr additive="repl">
                                        <p:cTn id="973" dur="500"/>
                                        <p:tgtEl>
                                          <p:spTgt spid="322"/>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8" presetSubtype="6">
                                  <p:stCondLst>
                                    <p:cond delay="0"/>
                                  </p:stCondLst>
                                  <p:childTnLst>
                                    <p:set>
                                      <p:cBhvr>
                                        <p:cTn id="977" dur="1" fill="hold">
                                          <p:stCondLst>
                                            <p:cond delay="0"/>
                                          </p:stCondLst>
                                        </p:cTn>
                                        <p:tgtEl>
                                          <p:spTgt spid="320"/>
                                        </p:tgtEl>
                                        <p:attrNameLst>
                                          <p:attrName>style.visibility</p:attrName>
                                        </p:attrNameLst>
                                      </p:cBhvr>
                                      <p:to>
                                        <p:strVal val="visible"/>
                                      </p:to>
                                    </p:set>
                                    <p:animEffect filter="strips(downRight)" transition="in">
                                      <p:cBhvr additive="repl">
                                        <p:cTn id="978" dur="500"/>
                                        <p:tgtEl>
                                          <p:spTgt spid="320"/>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53" presetSubtype="16">
                                  <p:stCondLst>
                                    <p:cond delay="0"/>
                                  </p:stCondLst>
                                  <p:childTnLst>
                                    <p:set>
                                      <p:cBhvr>
                                        <p:cTn id="982" dur="1" fill="hold">
                                          <p:stCondLst>
                                            <p:cond delay="0"/>
                                          </p:stCondLst>
                                        </p:cTn>
                                        <p:tgtEl>
                                          <p:spTgt spid="308"/>
                                        </p:tgtEl>
                                        <p:attrNameLst>
                                          <p:attrName>style.visibility</p:attrName>
                                        </p:attrNameLst>
                                      </p:cBhvr>
                                      <p:to>
                                        <p:strVal val="visible"/>
                                      </p:to>
                                    </p:set>
                                    <p:anim calcmode="lin" valueType="num">
                                      <p:cBhvr additive="repl">
                                        <p:cTn id="983" dur="500" fill="hold"/>
                                        <p:tgtEl>
                                          <p:spTgt spid="308"/>
                                        </p:tgtEl>
                                        <p:attrNameLst>
                                          <p:attrName>ppt_w</p:attrName>
                                        </p:attrNameLst>
                                      </p:cBhvr>
                                      <p:tavLst>
                                        <p:tav tm="0">
                                          <p:val>
                                            <p:fltVal val="0"/>
                                          </p:val>
                                        </p:tav>
                                        <p:tav tm="100000">
                                          <p:val>
                                            <p:strVal val="#ppt_w"/>
                                          </p:val>
                                        </p:tav>
                                      </p:tavLst>
                                    </p:anim>
                                    <p:anim calcmode="lin" valueType="num">
                                      <p:cBhvr additive="repl">
                                        <p:cTn id="984" dur="500" fill="hold"/>
                                        <p:tgtEl>
                                          <p:spTgt spid="308"/>
                                        </p:tgtEl>
                                        <p:attrNameLst>
                                          <p:attrName>ppt_h</p:attrName>
                                        </p:attrNameLst>
                                      </p:cBhvr>
                                      <p:tavLst>
                                        <p:tav tm="0">
                                          <p:val>
                                            <p:fltVal val="0"/>
                                          </p:val>
                                        </p:tav>
                                        <p:tav tm="100000">
                                          <p:val>
                                            <p:strVal val="#ppt_h"/>
                                          </p:val>
                                        </p:tav>
                                      </p:tavLst>
                                    </p:anim>
                                    <p:animEffect filter="fade" transition="in">
                                      <p:cBhvr additive="repl">
                                        <p:cTn id="985"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任意多边形 8"/>
          <p:cNvSpPr/>
          <p:nvPr/>
        </p:nvSpPr>
        <p:spPr>
          <a:xfrm>
            <a:off x="1706400" y="2789280"/>
            <a:ext cx="6337440" cy="1195200"/>
          </a:xfrm>
          <a:prstGeom prst="pie">
            <a:avLst/>
          </a:prstGeom>
          <a:noFill/>
          <a:ln w="0">
            <a:noFill/>
          </a:ln>
        </p:spPr>
        <p:style>
          <a:lnRef idx="0"/>
          <a:fillRef idx="0"/>
          <a:effectRef idx="0"/>
          <a:fontRef idx="minor"/>
        </p:style>
        <p:txBody>
          <a:bodyPr lIns="90000" rIns="90000" tIns="91440" bIns="91440" anchor="t">
            <a:noAutofit/>
          </a:bodyPr>
          <a:p>
            <a:pPr>
              <a:lnSpc>
                <a:spcPct val="150000"/>
              </a:lnSpc>
              <a:spcAft>
                <a:spcPts val="2100"/>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4800" spc="-1" strike="noStrike">
                <a:solidFill>
                  <a:srgbClr val="000000"/>
                </a:solidFill>
                <a:latin typeface="楷体"/>
                <a:ea typeface="楷体"/>
              </a:rPr>
              <a:t>惠   观   淙   湛</a:t>
            </a:r>
            <a:endParaRPr b="0" lang="en-US" sz="4800" spc="-1" strike="noStrike">
              <a:solidFill>
                <a:srgbClr val="000000"/>
              </a:solidFill>
              <a:latin typeface="Calibri"/>
            </a:endParaRPr>
          </a:p>
        </p:txBody>
      </p:sp>
      <p:sp>
        <p:nvSpPr>
          <p:cNvPr id="325" name="矩形 3"/>
          <p:cNvSpPr/>
          <p:nvPr/>
        </p:nvSpPr>
        <p:spPr>
          <a:xfrm>
            <a:off x="1617480" y="2490840"/>
            <a:ext cx="92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huì</a:t>
            </a:r>
            <a:endParaRPr b="0" lang="en-US" sz="3600" spc="-1" strike="noStrike">
              <a:solidFill>
                <a:srgbClr val="000000"/>
              </a:solidFill>
              <a:latin typeface="Calibri"/>
            </a:endParaRPr>
          </a:p>
        </p:txBody>
      </p:sp>
      <p:sp>
        <p:nvSpPr>
          <p:cNvPr id="326" name="矩形 6"/>
          <p:cNvSpPr/>
          <p:nvPr/>
        </p:nvSpPr>
        <p:spPr>
          <a:xfrm>
            <a:off x="3055680" y="253044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guàn</a:t>
            </a:r>
            <a:endParaRPr b="0" lang="en-US" sz="3600" spc="-1" strike="noStrike">
              <a:solidFill>
                <a:srgbClr val="000000"/>
              </a:solidFill>
              <a:latin typeface="Calibri"/>
            </a:endParaRPr>
          </a:p>
        </p:txBody>
      </p:sp>
      <p:sp>
        <p:nvSpPr>
          <p:cNvPr id="327" name="矩形 9"/>
          <p:cNvSpPr/>
          <p:nvPr/>
        </p:nvSpPr>
        <p:spPr>
          <a:xfrm>
            <a:off x="4541400" y="2536920"/>
            <a:ext cx="128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cóng</a:t>
            </a:r>
            <a:endParaRPr b="0" lang="en-US" sz="3600" spc="-1" strike="noStrike">
              <a:solidFill>
                <a:srgbClr val="000000"/>
              </a:solidFill>
              <a:latin typeface="Calibri"/>
            </a:endParaRPr>
          </a:p>
        </p:txBody>
      </p:sp>
      <p:sp>
        <p:nvSpPr>
          <p:cNvPr id="328" name="矩形 10"/>
          <p:cNvSpPr/>
          <p:nvPr/>
        </p:nvSpPr>
        <p:spPr>
          <a:xfrm>
            <a:off x="6131160" y="2541600"/>
            <a:ext cx="127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方正姚体"/>
                <a:ea typeface="方正姚体"/>
              </a:rPr>
              <a:t>zhàn</a:t>
            </a:r>
            <a:endParaRPr b="0" lang="en-US" sz="3600" spc="-1" strike="noStrike">
              <a:solidFill>
                <a:srgbClr val="000000"/>
              </a:solidFill>
              <a:latin typeface="Calibri"/>
            </a:endParaRPr>
          </a:p>
        </p:txBody>
      </p:sp>
      <p:grpSp>
        <p:nvGrpSpPr>
          <p:cNvPr id="329" name="组合 2"/>
          <p:cNvGrpSpPr/>
          <p:nvPr/>
        </p:nvGrpSpPr>
        <p:grpSpPr>
          <a:xfrm>
            <a:off x="730080" y="1200240"/>
            <a:ext cx="2905200" cy="666720"/>
            <a:chOff x="730080" y="1200240"/>
            <a:chExt cx="2905200" cy="666720"/>
          </a:xfrm>
        </p:grpSpPr>
        <p:sp>
          <p:nvSpPr>
            <p:cNvPr id="330" name="圆角矩形 2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31" name="图片 9" descr="book.gif"/>
            <p:cNvPicPr/>
            <p:nvPr/>
          </p:nvPicPr>
          <p:blipFill>
            <a:blip r:embed="rId1"/>
            <a:stretch/>
          </p:blipFill>
          <p:spPr>
            <a:xfrm>
              <a:off x="730080" y="1200240"/>
              <a:ext cx="1087200" cy="666720"/>
            </a:xfrm>
            <a:prstGeom prst="rect">
              <a:avLst/>
            </a:prstGeom>
            <a:ln w="0">
              <a:noFill/>
            </a:ln>
          </p:spPr>
        </p:pic>
        <p:sp>
          <p:nvSpPr>
            <p:cNvPr id="332"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认</a:t>
              </a:r>
              <a:endParaRPr b="0" lang="en-US" sz="2400" spc="-1" strike="noStrike">
                <a:solidFill>
                  <a:srgbClr val="000000"/>
                </a:solidFill>
                <a:latin typeface="Calibri"/>
              </a:endParaRPr>
            </a:p>
          </p:txBody>
        </p:sp>
      </p:grpSp>
      <p:pic>
        <p:nvPicPr>
          <p:cNvPr id="333" name="Picture 2" descr="C:\Users\Administrator\Desktop\赞扬.jpg"/>
          <p:cNvPicPr/>
          <p:nvPr/>
        </p:nvPicPr>
        <p:blipFill>
          <a:blip r:embed="rId2"/>
          <a:stretch/>
        </p:blipFill>
        <p:spPr>
          <a:xfrm>
            <a:off x="6853320" y="4807080"/>
            <a:ext cx="1752480" cy="1477800"/>
          </a:xfrm>
          <a:prstGeom prst="rect">
            <a:avLst/>
          </a:prstGeom>
          <a:ln w="0">
            <a:noFill/>
          </a:ln>
        </p:spPr>
      </p:pic>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nodeType="clickEffect" fill="hold">
                      <p:stCondLst>
                        <p:cond delay="indefinite"/>
                      </p:stCondLst>
                      <p:childTnLst>
                        <p:par>
                          <p:cTn id="989" nodeType="withEffect" fill="hold">
                            <p:stCondLst>
                              <p:cond delay="0"/>
                            </p:stCondLst>
                            <p:childTnLst>
                              <p:par>
                                <p:cTn id="990" nodeType="clickEffect" fill="hold" presetClass="entr" presetID="53" presetSubtype="16">
                                  <p:stCondLst>
                                    <p:cond delay="0"/>
                                  </p:stCondLst>
                                  <p:childTnLst>
                                    <p:set>
                                      <p:cBhvr>
                                        <p:cTn id="991" dur="1" fill="hold">
                                          <p:stCondLst>
                                            <p:cond delay="0"/>
                                          </p:stCondLst>
                                        </p:cTn>
                                        <p:tgtEl>
                                          <p:spTgt spid="325"/>
                                        </p:tgtEl>
                                        <p:attrNameLst>
                                          <p:attrName>style.visibility</p:attrName>
                                        </p:attrNameLst>
                                      </p:cBhvr>
                                      <p:to>
                                        <p:strVal val="visible"/>
                                      </p:to>
                                    </p:set>
                                    <p:anim calcmode="lin" valueType="num">
                                      <p:cBhvr additive="repl">
                                        <p:cTn id="992" dur="500" fill="hold"/>
                                        <p:tgtEl>
                                          <p:spTgt spid="325"/>
                                        </p:tgtEl>
                                        <p:attrNameLst>
                                          <p:attrName>ppt_w</p:attrName>
                                        </p:attrNameLst>
                                      </p:cBhvr>
                                      <p:tavLst>
                                        <p:tav tm="0">
                                          <p:val>
                                            <p:fltVal val="0"/>
                                          </p:val>
                                        </p:tav>
                                        <p:tav tm="100000">
                                          <p:val>
                                            <p:strVal val="#ppt_w"/>
                                          </p:val>
                                        </p:tav>
                                      </p:tavLst>
                                    </p:anim>
                                    <p:anim calcmode="lin" valueType="num">
                                      <p:cBhvr additive="repl">
                                        <p:cTn id="993" dur="500" fill="hold"/>
                                        <p:tgtEl>
                                          <p:spTgt spid="325"/>
                                        </p:tgtEl>
                                        <p:attrNameLst>
                                          <p:attrName>ppt_h</p:attrName>
                                        </p:attrNameLst>
                                      </p:cBhvr>
                                      <p:tavLst>
                                        <p:tav tm="0">
                                          <p:val>
                                            <p:fltVal val="0"/>
                                          </p:val>
                                        </p:tav>
                                        <p:tav tm="100000">
                                          <p:val>
                                            <p:strVal val="#ppt_h"/>
                                          </p:val>
                                        </p:tav>
                                      </p:tavLst>
                                    </p:anim>
                                    <p:animEffect filter="fade" transition="in">
                                      <p:cBhvr additive="repl">
                                        <p:cTn id="994" dur="500"/>
                                        <p:tgtEl>
                                          <p:spTgt spid="325"/>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53" presetSubtype="16">
                                  <p:stCondLst>
                                    <p:cond delay="0"/>
                                  </p:stCondLst>
                                  <p:childTnLst>
                                    <p:set>
                                      <p:cBhvr>
                                        <p:cTn id="998" dur="1" fill="hold">
                                          <p:stCondLst>
                                            <p:cond delay="0"/>
                                          </p:stCondLst>
                                        </p:cTn>
                                        <p:tgtEl>
                                          <p:spTgt spid="326"/>
                                        </p:tgtEl>
                                        <p:attrNameLst>
                                          <p:attrName>style.visibility</p:attrName>
                                        </p:attrNameLst>
                                      </p:cBhvr>
                                      <p:to>
                                        <p:strVal val="visible"/>
                                      </p:to>
                                    </p:set>
                                    <p:anim calcmode="lin" valueType="num">
                                      <p:cBhvr additive="repl">
                                        <p:cTn id="999" dur="500" fill="hold"/>
                                        <p:tgtEl>
                                          <p:spTgt spid="326"/>
                                        </p:tgtEl>
                                        <p:attrNameLst>
                                          <p:attrName>ppt_w</p:attrName>
                                        </p:attrNameLst>
                                      </p:cBhvr>
                                      <p:tavLst>
                                        <p:tav tm="0">
                                          <p:val>
                                            <p:fltVal val="0"/>
                                          </p:val>
                                        </p:tav>
                                        <p:tav tm="100000">
                                          <p:val>
                                            <p:strVal val="#ppt_w"/>
                                          </p:val>
                                        </p:tav>
                                      </p:tavLst>
                                    </p:anim>
                                    <p:anim calcmode="lin" valueType="num">
                                      <p:cBhvr additive="repl">
                                        <p:cTn id="1000" dur="500" fill="hold"/>
                                        <p:tgtEl>
                                          <p:spTgt spid="326"/>
                                        </p:tgtEl>
                                        <p:attrNameLst>
                                          <p:attrName>ppt_h</p:attrName>
                                        </p:attrNameLst>
                                      </p:cBhvr>
                                      <p:tavLst>
                                        <p:tav tm="0">
                                          <p:val>
                                            <p:fltVal val="0"/>
                                          </p:val>
                                        </p:tav>
                                        <p:tav tm="100000">
                                          <p:val>
                                            <p:strVal val="#ppt_h"/>
                                          </p:val>
                                        </p:tav>
                                      </p:tavLst>
                                    </p:anim>
                                    <p:animEffect filter="fade" transition="in">
                                      <p:cBhvr additive="repl">
                                        <p:cTn id="1001" dur="500"/>
                                        <p:tgtEl>
                                          <p:spTgt spid="326"/>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53" presetSubtype="16">
                                  <p:stCondLst>
                                    <p:cond delay="0"/>
                                  </p:stCondLst>
                                  <p:childTnLst>
                                    <p:set>
                                      <p:cBhvr>
                                        <p:cTn id="1005" dur="1" fill="hold">
                                          <p:stCondLst>
                                            <p:cond delay="0"/>
                                          </p:stCondLst>
                                        </p:cTn>
                                        <p:tgtEl>
                                          <p:spTgt spid="327"/>
                                        </p:tgtEl>
                                        <p:attrNameLst>
                                          <p:attrName>style.visibility</p:attrName>
                                        </p:attrNameLst>
                                      </p:cBhvr>
                                      <p:to>
                                        <p:strVal val="visible"/>
                                      </p:to>
                                    </p:set>
                                    <p:anim calcmode="lin" valueType="num">
                                      <p:cBhvr additive="repl">
                                        <p:cTn id="1006" dur="500" fill="hold"/>
                                        <p:tgtEl>
                                          <p:spTgt spid="327"/>
                                        </p:tgtEl>
                                        <p:attrNameLst>
                                          <p:attrName>ppt_w</p:attrName>
                                        </p:attrNameLst>
                                      </p:cBhvr>
                                      <p:tavLst>
                                        <p:tav tm="0">
                                          <p:val>
                                            <p:fltVal val="0"/>
                                          </p:val>
                                        </p:tav>
                                        <p:tav tm="100000">
                                          <p:val>
                                            <p:strVal val="#ppt_w"/>
                                          </p:val>
                                        </p:tav>
                                      </p:tavLst>
                                    </p:anim>
                                    <p:anim calcmode="lin" valueType="num">
                                      <p:cBhvr additive="repl">
                                        <p:cTn id="1007" dur="500" fill="hold"/>
                                        <p:tgtEl>
                                          <p:spTgt spid="327"/>
                                        </p:tgtEl>
                                        <p:attrNameLst>
                                          <p:attrName>ppt_h</p:attrName>
                                        </p:attrNameLst>
                                      </p:cBhvr>
                                      <p:tavLst>
                                        <p:tav tm="0">
                                          <p:val>
                                            <p:fltVal val="0"/>
                                          </p:val>
                                        </p:tav>
                                        <p:tav tm="100000">
                                          <p:val>
                                            <p:strVal val="#ppt_h"/>
                                          </p:val>
                                        </p:tav>
                                      </p:tavLst>
                                    </p:anim>
                                    <p:animEffect filter="fade" transition="in">
                                      <p:cBhvr additive="repl">
                                        <p:cTn id="1008" dur="500"/>
                                        <p:tgtEl>
                                          <p:spTgt spid="327"/>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3" presetSubtype="16">
                                  <p:stCondLst>
                                    <p:cond delay="0"/>
                                  </p:stCondLst>
                                  <p:childTnLst>
                                    <p:set>
                                      <p:cBhvr>
                                        <p:cTn id="1012" dur="1" fill="hold">
                                          <p:stCondLst>
                                            <p:cond delay="0"/>
                                          </p:stCondLst>
                                        </p:cTn>
                                        <p:tgtEl>
                                          <p:spTgt spid="328"/>
                                        </p:tgtEl>
                                        <p:attrNameLst>
                                          <p:attrName>style.visibility</p:attrName>
                                        </p:attrNameLst>
                                      </p:cBhvr>
                                      <p:to>
                                        <p:strVal val="visible"/>
                                      </p:to>
                                    </p:set>
                                    <p:anim calcmode="lin" valueType="num">
                                      <p:cBhvr additive="repl">
                                        <p:cTn id="1013" dur="500" fill="hold"/>
                                        <p:tgtEl>
                                          <p:spTgt spid="328"/>
                                        </p:tgtEl>
                                        <p:attrNameLst>
                                          <p:attrName>ppt_w</p:attrName>
                                        </p:attrNameLst>
                                      </p:cBhvr>
                                      <p:tavLst>
                                        <p:tav tm="0">
                                          <p:val>
                                            <p:fltVal val="0"/>
                                          </p:val>
                                        </p:tav>
                                        <p:tav tm="100000">
                                          <p:val>
                                            <p:strVal val="#ppt_w"/>
                                          </p:val>
                                        </p:tav>
                                      </p:tavLst>
                                    </p:anim>
                                    <p:anim calcmode="lin" valueType="num">
                                      <p:cBhvr additive="repl">
                                        <p:cTn id="1014" dur="500" fill="hold"/>
                                        <p:tgtEl>
                                          <p:spTgt spid="328"/>
                                        </p:tgtEl>
                                        <p:attrNameLst>
                                          <p:attrName>ppt_h</p:attrName>
                                        </p:attrNameLst>
                                      </p:cBhvr>
                                      <p:tavLst>
                                        <p:tav tm="0">
                                          <p:val>
                                            <p:fltVal val="0"/>
                                          </p:val>
                                        </p:tav>
                                        <p:tav tm="100000">
                                          <p:val>
                                            <p:strVal val="#ppt_h"/>
                                          </p:val>
                                        </p:tav>
                                      </p:tavLst>
                                    </p:anim>
                                    <p:animEffect filter="fade" transition="in">
                                      <p:cBhvr additive="repl">
                                        <p:cTn id="1015" dur="500"/>
                                        <p:tgtEl>
                                          <p:spTgt spid="328"/>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4">
                                  <p:stCondLst>
                                    <p:cond delay="0"/>
                                  </p:stCondLst>
                                  <p:childTnLst>
                                    <p:audio isNarration="0">
                                      <p:cMediaNode showWhenStopped="1">
                                        <p:cTn/>
                                        <p:tgtEl>
                                          <p:sndTgt r:embed="rId3" name="applause.wav"/>
                                        </p:tgtEl>
                                      </p:cMediaNode>
                                    </p:audio>
                                    <p:set>
                                      <p:cBhvr>
                                        <p:cTn id="1019" dur="1" fill="hold">
                                          <p:stCondLst>
                                            <p:cond delay="0"/>
                                          </p:stCondLst>
                                        </p:cTn>
                                        <p:tgtEl>
                                          <p:spTgt spid="333"/>
                                        </p:tgtEl>
                                        <p:attrNameLst>
                                          <p:attrName>style.visibility</p:attrName>
                                        </p:attrNameLst>
                                      </p:cBhvr>
                                      <p:to>
                                        <p:strVal val="visible"/>
                                      </p:to>
                                    </p:set>
                                    <p:anim calcmode="lin" valueType="num">
                                      <p:cBhvr additive="base">
                                        <p:cTn id="1020" dur="500" fill="hold"/>
                                        <p:tgtEl>
                                          <p:spTgt spid="333"/>
                                        </p:tgtEl>
                                        <p:attrNameLst>
                                          <p:attrName>ppt_x</p:attrName>
                                        </p:attrNameLst>
                                      </p:cBhvr>
                                      <p:tavLst>
                                        <p:tav tm="0">
                                          <p:val>
                                            <p:strVal val="#ppt_x"/>
                                          </p:val>
                                        </p:tav>
                                        <p:tav tm="100000">
                                          <p:val>
                                            <p:strVal val="#ppt_x"/>
                                          </p:val>
                                        </p:tav>
                                      </p:tavLst>
                                    </p:anim>
                                    <p:anim calcmode="lin" valueType="num">
                                      <p:cBhvr additive="base">
                                        <p:cTn id="1021"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781280" y="2790720"/>
            <a:ext cx="703404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宋体"/>
              </a:rPr>
              <a:t>道</a:t>
            </a:r>
            <a:r>
              <a:rPr b="1" lang="zh-CN" sz="3200" spc="-1" strike="noStrike">
                <a:solidFill>
                  <a:srgbClr val="0000ff"/>
                </a:solidFill>
                <a:latin typeface="宋体"/>
              </a:rPr>
              <a:t>观       淙</a:t>
            </a:r>
            <a:r>
              <a:rPr b="1" lang="zh-CN" sz="3200" spc="-1" strike="noStrike">
                <a:solidFill>
                  <a:srgbClr val="000000"/>
                </a:solidFill>
                <a:latin typeface="宋体"/>
              </a:rPr>
              <a:t>淙</a:t>
            </a:r>
            <a:r>
              <a:rPr b="1" lang="zh-CN" sz="3200" spc="-1" strike="noStrike">
                <a:solidFill>
                  <a:srgbClr val="0000ff"/>
                </a:solidFill>
                <a:latin typeface="宋体"/>
              </a:rPr>
              <a:t>　　   褴</a:t>
            </a:r>
            <a:r>
              <a:rPr b="1" lang="zh-CN" sz="3200" spc="-1" strike="noStrike">
                <a:solidFill>
                  <a:srgbClr val="000000"/>
                </a:solidFill>
                <a:latin typeface="宋体"/>
              </a:rPr>
              <a:t>褛</a:t>
            </a: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宋体"/>
              </a:rPr>
              <a:t>精</a:t>
            </a:r>
            <a:r>
              <a:rPr b="1" lang="zh-CN" sz="3200" spc="-1" strike="noStrike">
                <a:solidFill>
                  <a:srgbClr val="0000ff"/>
                </a:solidFill>
                <a:latin typeface="宋体"/>
              </a:rPr>
              <a:t>湛</a:t>
            </a:r>
            <a:r>
              <a:rPr b="1" lang="en-US" sz="3200" spc="-1" strike="noStrike">
                <a:solidFill>
                  <a:srgbClr val="0000ff"/>
                </a:solidFill>
                <a:latin typeface="宋体"/>
              </a:rPr>
              <a:t>       </a:t>
            </a:r>
            <a:r>
              <a:rPr b="1" lang="zh-CN" sz="3200" spc="-1" strike="noStrike">
                <a:solidFill>
                  <a:srgbClr val="0000ff"/>
                </a:solidFill>
                <a:latin typeface="宋体"/>
              </a:rPr>
              <a:t>唏</a:t>
            </a:r>
            <a:r>
              <a:rPr b="1" lang="zh-CN" sz="3200" spc="-1" strike="noStrike">
                <a:solidFill>
                  <a:srgbClr val="000000"/>
                </a:solidFill>
                <a:latin typeface="宋体"/>
              </a:rPr>
              <a:t>嘘</a:t>
            </a:r>
            <a:r>
              <a:rPr b="1" lang="zh-CN" sz="3200" spc="-1" strike="noStrike">
                <a:solidFill>
                  <a:srgbClr val="0000ff"/>
                </a:solidFill>
                <a:latin typeface="宋体"/>
              </a:rPr>
              <a:t>     </a:t>
            </a:r>
            <a:r>
              <a:rPr b="1" lang="zh-CN" sz="3200" spc="-1" strike="noStrike">
                <a:solidFill>
                  <a:srgbClr val="000000"/>
                </a:solidFill>
                <a:latin typeface="宋体"/>
              </a:rPr>
              <a:t>密密</a:t>
            </a:r>
            <a:r>
              <a:rPr b="1" lang="zh-CN" sz="3200" spc="-1" strike="noStrike">
                <a:solidFill>
                  <a:srgbClr val="0000ff"/>
                </a:solidFill>
                <a:latin typeface="宋体"/>
              </a:rPr>
              <a:t>匝</a:t>
            </a:r>
            <a:r>
              <a:rPr b="1" lang="zh-CN" sz="3200" spc="-1" strike="noStrike">
                <a:solidFill>
                  <a:srgbClr val="000000"/>
                </a:solidFill>
                <a:latin typeface="宋体"/>
              </a:rPr>
              <a:t>匝</a:t>
            </a:r>
            <a:endParaRPr b="0" lang="en-US" sz="3200" spc="-1" strike="noStrike">
              <a:solidFill>
                <a:srgbClr val="000000"/>
              </a:solidFill>
              <a:latin typeface="Calibri"/>
            </a:endParaRPr>
          </a:p>
        </p:txBody>
      </p:sp>
      <p:sp>
        <p:nvSpPr>
          <p:cNvPr id="335" name="矩形 2"/>
          <p:cNvSpPr/>
          <p:nvPr/>
        </p:nvSpPr>
        <p:spPr>
          <a:xfrm>
            <a:off x="1830960" y="2435400"/>
            <a:ext cx="172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guàn</a:t>
            </a:r>
            <a:r>
              <a:rPr b="1" lang="zh-CN" sz="3200" spc="-1" strike="noStrike">
                <a:solidFill>
                  <a:srgbClr val="ff0000"/>
                </a:solidFill>
                <a:latin typeface="方正姚体"/>
                <a:ea typeface="方正姚体"/>
              </a:rPr>
              <a:t>　</a:t>
            </a:r>
            <a:endParaRPr b="0" lang="en-US" sz="3200" spc="-1" strike="noStrike">
              <a:solidFill>
                <a:srgbClr val="000000"/>
              </a:solidFill>
              <a:latin typeface="Calibri"/>
            </a:endParaRPr>
          </a:p>
        </p:txBody>
      </p:sp>
      <p:sp>
        <p:nvSpPr>
          <p:cNvPr id="336" name="矩形 4"/>
          <p:cNvSpPr/>
          <p:nvPr/>
        </p:nvSpPr>
        <p:spPr>
          <a:xfrm>
            <a:off x="3674520" y="2446200"/>
            <a:ext cx="1375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 </a:t>
            </a:r>
            <a:r>
              <a:rPr b="1" lang="en-US" sz="3200" spc="-1" strike="noStrike">
                <a:solidFill>
                  <a:srgbClr val="ff0000"/>
                </a:solidFill>
                <a:latin typeface="方正姚体"/>
                <a:ea typeface="方正姚体"/>
              </a:rPr>
              <a:t>cóng </a:t>
            </a:r>
            <a:endParaRPr b="0" lang="en-US" sz="3200" spc="-1" strike="noStrike">
              <a:solidFill>
                <a:srgbClr val="000000"/>
              </a:solidFill>
              <a:latin typeface="Calibri"/>
            </a:endParaRPr>
          </a:p>
        </p:txBody>
      </p:sp>
      <p:grpSp>
        <p:nvGrpSpPr>
          <p:cNvPr id="337" name="组合 2"/>
          <p:cNvGrpSpPr/>
          <p:nvPr/>
        </p:nvGrpSpPr>
        <p:grpSpPr>
          <a:xfrm>
            <a:off x="882720" y="1352520"/>
            <a:ext cx="2905200" cy="666720"/>
            <a:chOff x="882720" y="1352520"/>
            <a:chExt cx="2905200" cy="666720"/>
          </a:xfrm>
        </p:grpSpPr>
        <p:sp>
          <p:nvSpPr>
            <p:cNvPr id="338" name="圆角矩形 11"/>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39" name="图片 9" descr="book.gif"/>
            <p:cNvPicPr/>
            <p:nvPr/>
          </p:nvPicPr>
          <p:blipFill>
            <a:blip r:embed="rId1"/>
            <a:stretch/>
          </p:blipFill>
          <p:spPr>
            <a:xfrm>
              <a:off x="882720" y="1352520"/>
              <a:ext cx="1087200" cy="666720"/>
            </a:xfrm>
            <a:prstGeom prst="rect">
              <a:avLst/>
            </a:prstGeom>
            <a:ln w="0">
              <a:noFill/>
            </a:ln>
          </p:spPr>
        </p:pic>
        <p:sp>
          <p:nvSpPr>
            <p:cNvPr id="340"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易读错字</a:t>
              </a:r>
              <a:endParaRPr b="0" lang="en-US" sz="2400" spc="-1" strike="noStrike">
                <a:solidFill>
                  <a:srgbClr val="000000"/>
                </a:solidFill>
                <a:latin typeface="Calibri"/>
              </a:endParaRPr>
            </a:p>
          </p:txBody>
        </p:sp>
      </p:grpSp>
      <p:sp>
        <p:nvSpPr>
          <p:cNvPr id="341" name="矩形 1"/>
          <p:cNvSpPr/>
          <p:nvPr/>
        </p:nvSpPr>
        <p:spPr>
          <a:xfrm>
            <a:off x="6647760" y="3932280"/>
            <a:ext cx="62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zā</a:t>
            </a:r>
            <a:endParaRPr b="0" lang="en-US" sz="3200" spc="-1" strike="noStrike">
              <a:solidFill>
                <a:srgbClr val="000000"/>
              </a:solidFill>
              <a:latin typeface="Calibri"/>
            </a:endParaRPr>
          </a:p>
        </p:txBody>
      </p:sp>
      <p:sp>
        <p:nvSpPr>
          <p:cNvPr id="342" name="矩形 3"/>
          <p:cNvSpPr/>
          <p:nvPr/>
        </p:nvSpPr>
        <p:spPr>
          <a:xfrm>
            <a:off x="4046400" y="3932280"/>
            <a:ext cx="5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xī</a:t>
            </a:r>
            <a:endParaRPr b="0" lang="en-US" sz="3200" spc="-1" strike="noStrike">
              <a:solidFill>
                <a:srgbClr val="000000"/>
              </a:solidFill>
              <a:latin typeface="Calibri"/>
            </a:endParaRPr>
          </a:p>
        </p:txBody>
      </p:sp>
      <p:sp>
        <p:nvSpPr>
          <p:cNvPr id="343" name="矩形 5"/>
          <p:cNvSpPr/>
          <p:nvPr/>
        </p:nvSpPr>
        <p:spPr>
          <a:xfrm>
            <a:off x="1919880" y="3941640"/>
            <a:ext cx="115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zhàn</a:t>
            </a:r>
            <a:endParaRPr b="0" lang="en-US" sz="3200" spc="-1" strike="noStrike">
              <a:solidFill>
                <a:srgbClr val="000000"/>
              </a:solidFill>
              <a:latin typeface="Calibri"/>
            </a:endParaRPr>
          </a:p>
        </p:txBody>
      </p:sp>
      <p:sp>
        <p:nvSpPr>
          <p:cNvPr id="344" name="矩形 6"/>
          <p:cNvSpPr/>
          <p:nvPr/>
        </p:nvSpPr>
        <p:spPr>
          <a:xfrm>
            <a:off x="6159600" y="2489040"/>
            <a:ext cx="81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0000"/>
                </a:solidFill>
                <a:latin typeface="方正姚体"/>
                <a:ea typeface="方正姚体"/>
              </a:rPr>
              <a:t>l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335"/>
                                        </p:tgtEl>
                                        <p:attrNameLst>
                                          <p:attrName>style.visibility</p:attrName>
                                        </p:attrNameLst>
                                      </p:cBhvr>
                                      <p:to>
                                        <p:strVal val="visible"/>
                                      </p:to>
                                    </p:set>
                                    <p:anim calcmode="lin" valueType="num">
                                      <p:cBhvr additive="base">
                                        <p:cTn id="1028" dur="500" fill="hold"/>
                                        <p:tgtEl>
                                          <p:spTgt spid="335"/>
                                        </p:tgtEl>
                                        <p:attrNameLst>
                                          <p:attrName>ppt_x</p:attrName>
                                        </p:attrNameLst>
                                      </p:cBhvr>
                                      <p:tavLst>
                                        <p:tav tm="0">
                                          <p:val>
                                            <p:strVal val="#ppt_x"/>
                                          </p:val>
                                        </p:tav>
                                        <p:tav tm="100000">
                                          <p:val>
                                            <p:strVal val="#ppt_x"/>
                                          </p:val>
                                        </p:tav>
                                      </p:tavLst>
                                    </p:anim>
                                    <p:anim calcmode="lin" valueType="num">
                                      <p:cBhvr additive="base">
                                        <p:cTn id="102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 presetSubtype="4">
                                  <p:stCondLst>
                                    <p:cond delay="0"/>
                                  </p:stCondLst>
                                  <p:childTnLst>
                                    <p:set>
                                      <p:cBhvr>
                                        <p:cTn id="1033" dur="1" fill="hold">
                                          <p:stCondLst>
                                            <p:cond delay="0"/>
                                          </p:stCondLst>
                                        </p:cTn>
                                        <p:tgtEl>
                                          <p:spTgt spid="336"/>
                                        </p:tgtEl>
                                        <p:attrNameLst>
                                          <p:attrName>style.visibility</p:attrName>
                                        </p:attrNameLst>
                                      </p:cBhvr>
                                      <p:to>
                                        <p:strVal val="visible"/>
                                      </p:to>
                                    </p:set>
                                    <p:anim calcmode="lin" valueType="num">
                                      <p:cBhvr additive="base">
                                        <p:cTn id="1034" dur="500" fill="hold"/>
                                        <p:tgtEl>
                                          <p:spTgt spid="336"/>
                                        </p:tgtEl>
                                        <p:attrNameLst>
                                          <p:attrName>ppt_x</p:attrName>
                                        </p:attrNameLst>
                                      </p:cBhvr>
                                      <p:tavLst>
                                        <p:tav tm="0">
                                          <p:val>
                                            <p:strVal val="#ppt_x"/>
                                          </p:val>
                                        </p:tav>
                                        <p:tav tm="100000">
                                          <p:val>
                                            <p:strVal val="#ppt_x"/>
                                          </p:val>
                                        </p:tav>
                                      </p:tavLst>
                                    </p:anim>
                                    <p:anim calcmode="lin" valueType="num">
                                      <p:cBhvr additive="base">
                                        <p:cTn id="1035"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 presetSubtype="4">
                                  <p:stCondLst>
                                    <p:cond delay="0"/>
                                  </p:stCondLst>
                                  <p:childTnLst>
                                    <p:set>
                                      <p:cBhvr>
                                        <p:cTn id="1039" dur="1" fill="hold">
                                          <p:stCondLst>
                                            <p:cond delay="0"/>
                                          </p:stCondLst>
                                        </p:cTn>
                                        <p:tgtEl>
                                          <p:spTgt spid="344"/>
                                        </p:tgtEl>
                                        <p:attrNameLst>
                                          <p:attrName>style.visibility</p:attrName>
                                        </p:attrNameLst>
                                      </p:cBhvr>
                                      <p:to>
                                        <p:strVal val="visible"/>
                                      </p:to>
                                    </p:set>
                                    <p:anim calcmode="lin" valueType="num">
                                      <p:cBhvr additive="base">
                                        <p:cTn id="1040" dur="500" fill="hold"/>
                                        <p:tgtEl>
                                          <p:spTgt spid="344"/>
                                        </p:tgtEl>
                                        <p:attrNameLst>
                                          <p:attrName>ppt_x</p:attrName>
                                        </p:attrNameLst>
                                      </p:cBhvr>
                                      <p:tavLst>
                                        <p:tav tm="0">
                                          <p:val>
                                            <p:strVal val="#ppt_x"/>
                                          </p:val>
                                        </p:tav>
                                        <p:tav tm="100000">
                                          <p:val>
                                            <p:strVal val="#ppt_x"/>
                                          </p:val>
                                        </p:tav>
                                      </p:tavLst>
                                    </p:anim>
                                    <p:anim calcmode="lin" valueType="num">
                                      <p:cBhvr additive="base">
                                        <p:cTn id="1041"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343"/>
                                        </p:tgtEl>
                                        <p:attrNameLst>
                                          <p:attrName>style.visibility</p:attrName>
                                        </p:attrNameLst>
                                      </p:cBhvr>
                                      <p:to>
                                        <p:strVal val="visible"/>
                                      </p:to>
                                    </p:set>
                                    <p:anim calcmode="lin" valueType="num">
                                      <p:cBhvr additive="base">
                                        <p:cTn id="1046" dur="500" fill="hold"/>
                                        <p:tgtEl>
                                          <p:spTgt spid="343"/>
                                        </p:tgtEl>
                                        <p:attrNameLst>
                                          <p:attrName>ppt_x</p:attrName>
                                        </p:attrNameLst>
                                      </p:cBhvr>
                                      <p:tavLst>
                                        <p:tav tm="0">
                                          <p:val>
                                            <p:strVal val="#ppt_x"/>
                                          </p:val>
                                        </p:tav>
                                        <p:tav tm="100000">
                                          <p:val>
                                            <p:strVal val="#ppt_x"/>
                                          </p:val>
                                        </p:tav>
                                      </p:tavLst>
                                    </p:anim>
                                    <p:anim calcmode="lin" valueType="num">
                                      <p:cBhvr additive="base">
                                        <p:cTn id="1047"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 presetSubtype="4">
                                  <p:stCondLst>
                                    <p:cond delay="0"/>
                                  </p:stCondLst>
                                  <p:childTnLst>
                                    <p:set>
                                      <p:cBhvr>
                                        <p:cTn id="1051" dur="1" fill="hold">
                                          <p:stCondLst>
                                            <p:cond delay="0"/>
                                          </p:stCondLst>
                                        </p:cTn>
                                        <p:tgtEl>
                                          <p:spTgt spid="342"/>
                                        </p:tgtEl>
                                        <p:attrNameLst>
                                          <p:attrName>style.visibility</p:attrName>
                                        </p:attrNameLst>
                                      </p:cBhvr>
                                      <p:to>
                                        <p:strVal val="visible"/>
                                      </p:to>
                                    </p:set>
                                    <p:anim calcmode="lin" valueType="num">
                                      <p:cBhvr additive="base">
                                        <p:cTn id="1052" dur="500" fill="hold"/>
                                        <p:tgtEl>
                                          <p:spTgt spid="342"/>
                                        </p:tgtEl>
                                        <p:attrNameLst>
                                          <p:attrName>ppt_x</p:attrName>
                                        </p:attrNameLst>
                                      </p:cBhvr>
                                      <p:tavLst>
                                        <p:tav tm="0">
                                          <p:val>
                                            <p:strVal val="#ppt_x"/>
                                          </p:val>
                                        </p:tav>
                                        <p:tav tm="100000">
                                          <p:val>
                                            <p:strVal val="#ppt_x"/>
                                          </p:val>
                                        </p:tav>
                                      </p:tavLst>
                                    </p:anim>
                                    <p:anim calcmode="lin" valueType="num">
                                      <p:cBhvr additive="base">
                                        <p:cTn id="1053"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2" presetSubtype="4">
                                  <p:stCondLst>
                                    <p:cond delay="0"/>
                                  </p:stCondLst>
                                  <p:childTnLst>
                                    <p:set>
                                      <p:cBhvr>
                                        <p:cTn id="1057" dur="1" fill="hold">
                                          <p:stCondLst>
                                            <p:cond delay="0"/>
                                          </p:stCondLst>
                                        </p:cTn>
                                        <p:tgtEl>
                                          <p:spTgt spid="341"/>
                                        </p:tgtEl>
                                        <p:attrNameLst>
                                          <p:attrName>style.visibility</p:attrName>
                                        </p:attrNameLst>
                                      </p:cBhvr>
                                      <p:to>
                                        <p:strVal val="visible"/>
                                      </p:to>
                                    </p:set>
                                    <p:anim calcmode="lin" valueType="num">
                                      <p:cBhvr additive="base">
                                        <p:cTn id="1058" dur="500" fill="hold"/>
                                        <p:tgtEl>
                                          <p:spTgt spid="341"/>
                                        </p:tgtEl>
                                        <p:attrNameLst>
                                          <p:attrName>ppt_x</p:attrName>
                                        </p:attrNameLst>
                                      </p:cBhvr>
                                      <p:tavLst>
                                        <p:tav tm="0">
                                          <p:val>
                                            <p:strVal val="#ppt_x"/>
                                          </p:val>
                                        </p:tav>
                                        <p:tav tm="100000">
                                          <p:val>
                                            <p:strVal val="#ppt_x"/>
                                          </p:val>
                                        </p:tav>
                                      </p:tavLst>
                                    </p:anim>
                                    <p:anim calcmode="lin" valueType="num">
                                      <p:cBhvr additive="base">
                                        <p:cTn id="1059"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90640" y="2585880"/>
            <a:ext cx="7267680" cy="173988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会认</a:t>
            </a:r>
            <a:r>
              <a:rPr b="1" lang="en-US" sz="2400" spc="-1" strike="noStrike">
                <a:solidFill>
                  <a:srgbClr val="000000"/>
                </a:solidFill>
                <a:latin typeface="宋体"/>
              </a:rPr>
              <a:t>4</a:t>
            </a:r>
            <a:r>
              <a:rPr b="1" lang="zh-CN" sz="2400" spc="-1" strike="noStrike">
                <a:solidFill>
                  <a:srgbClr val="000000"/>
                </a:solidFill>
                <a:latin typeface="宋体"/>
              </a:rPr>
              <a:t>个生字，会写</a:t>
            </a:r>
            <a:r>
              <a:rPr b="1" lang="en-US" sz="2400" spc="-1" strike="noStrike">
                <a:solidFill>
                  <a:srgbClr val="000000"/>
                </a:solidFill>
                <a:latin typeface="宋体"/>
              </a:rPr>
              <a:t>12</a:t>
            </a:r>
            <a:r>
              <a:rPr b="1" lang="zh-CN" sz="2400" spc="-1" strike="noStrike">
                <a:solidFill>
                  <a:srgbClr val="000000"/>
                </a:solidFill>
                <a:latin typeface="宋体"/>
              </a:rPr>
              <a:t>个生字；理解由生字组成的词语。</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有感情地朗读课文，理解课文内容，了解</a:t>
            </a:r>
            <a:r>
              <a:rPr b="1" lang="en-US" sz="2400" spc="-1" strike="noStrike">
                <a:solidFill>
                  <a:srgbClr val="000000"/>
                </a:solidFill>
                <a:latin typeface="宋体"/>
              </a:rPr>
              <a:t>《</a:t>
            </a:r>
            <a:r>
              <a:rPr b="1" lang="zh-CN" sz="2400" spc="-1" strike="noStrike">
                <a:solidFill>
                  <a:srgbClr val="000000"/>
                </a:solidFill>
                <a:latin typeface="宋体"/>
              </a:rPr>
              <a:t>二泉映月</a:t>
            </a:r>
            <a:r>
              <a:rPr b="1" lang="en-US" sz="2400" spc="-1" strike="noStrike">
                <a:solidFill>
                  <a:srgbClr val="000000"/>
                </a:solidFill>
                <a:latin typeface="宋体"/>
              </a:rPr>
              <a:t>》</a:t>
            </a:r>
            <a:r>
              <a:rPr b="1" lang="zh-CN" sz="2400" spc="-1" strike="noStrike">
                <a:solidFill>
                  <a:srgbClr val="000000"/>
                </a:solidFill>
                <a:latin typeface="宋体"/>
              </a:rPr>
              <a:t>的诞生过程，体会文中的优美词句。</a:t>
            </a:r>
            <a:r>
              <a:rPr b="1" lang="zh-CN" sz="2400" spc="-1" strike="noStrike">
                <a:solidFill>
                  <a:srgbClr val="ff0000"/>
                </a:solidFill>
                <a:latin typeface="宋体"/>
              </a:rPr>
              <a:t>（重点）</a:t>
            </a:r>
            <a:endParaRPr b="0" lang="en-US" sz="2400" spc="-1" strike="noStrike">
              <a:solidFill>
                <a:srgbClr val="000000"/>
              </a:solidFill>
              <a:latin typeface="Calibri"/>
            </a:endParaRPr>
          </a:p>
        </p:txBody>
      </p:sp>
      <p:pic>
        <p:nvPicPr>
          <p:cNvPr id="70" name="图示 4" descr=""/>
          <p:cNvPicPr/>
          <p:nvPr/>
        </p:nvPicPr>
        <p:blipFill>
          <a:blip r:embed="rId1"/>
          <a:stretch/>
        </p:blipFill>
        <p:spPr>
          <a:xfrm>
            <a:off x="878040" y="1090440"/>
            <a:ext cx="3090600" cy="1470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TextBox 1"/>
          <p:cNvSpPr/>
          <p:nvPr/>
        </p:nvSpPr>
        <p:spPr>
          <a:xfrm>
            <a:off x="2273400" y="3233880"/>
            <a:ext cx="56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Calibri"/>
              </a:rPr>
              <a:t>观</a:t>
            </a:r>
            <a:endParaRPr b="0" lang="en-US" sz="2800" spc="-1" strike="noStrike">
              <a:solidFill>
                <a:srgbClr val="000000"/>
              </a:solidFill>
              <a:latin typeface="Calibri"/>
            </a:endParaRPr>
          </a:p>
        </p:txBody>
      </p:sp>
      <p:grpSp>
        <p:nvGrpSpPr>
          <p:cNvPr id="346" name="组合 4"/>
          <p:cNvGrpSpPr/>
          <p:nvPr/>
        </p:nvGrpSpPr>
        <p:grpSpPr>
          <a:xfrm>
            <a:off x="2787480" y="2801880"/>
            <a:ext cx="2832120" cy="1373400"/>
            <a:chOff x="2787480" y="2801880"/>
            <a:chExt cx="2832120" cy="1373400"/>
          </a:xfrm>
        </p:grpSpPr>
        <p:sp>
          <p:nvSpPr>
            <p:cNvPr id="347" name="左大括号 2"/>
            <p:cNvSpPr/>
            <p:nvPr/>
          </p:nvSpPr>
          <p:spPr>
            <a:xfrm>
              <a:off x="2787480" y="3044520"/>
              <a:ext cx="218880" cy="928800"/>
            </a:xfrm>
            <a:custGeom>
              <a:avLst/>
              <a:gdLst>
                <a:gd name="textAreaLeft" fmla="*/ 140040 w 218880"/>
                <a:gd name="textAreaRight" fmla="*/ 219240 w 218880"/>
                <a:gd name="textAreaTop" fmla="*/ 5400 h 928800"/>
                <a:gd name="textAreaBottom" fmla="*/ 923400 h 928800"/>
              </a:gdLst>
              <a:ahLst/>
              <a:rect l="textAreaLeft" t="textAreaTop" r="textAreaRight" b="textAreaBottom"/>
              <a:pathLst>
                <a:path w="21600" h="21600">
                  <a:moveTo>
                    <a:pt x="21600" y="0"/>
                  </a:moveTo>
                  <a:cubicBezTo>
                    <a:pt x="16200" y="0"/>
                    <a:pt x="10800" y="213"/>
                    <a:pt x="10800" y="425"/>
                  </a:cubicBezTo>
                  <a:lnTo>
                    <a:pt x="10800" y="10375"/>
                  </a:lnTo>
                  <a:cubicBezTo>
                    <a:pt x="10800" y="10588"/>
                    <a:pt x="5400" y="10800"/>
                    <a:pt x="0" y="10800"/>
                  </a:cubicBezTo>
                  <a:cubicBezTo>
                    <a:pt x="5400" y="10800"/>
                    <a:pt x="10800" y="11013"/>
                    <a:pt x="10800" y="11225"/>
                  </a:cubicBezTo>
                  <a:lnTo>
                    <a:pt x="10800" y="21175"/>
                  </a:lnTo>
                  <a:cubicBezTo>
                    <a:pt x="10800" y="21388"/>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TextBox 3"/>
            <p:cNvSpPr/>
            <p:nvPr/>
          </p:nvSpPr>
          <p:spPr>
            <a:xfrm>
              <a:off x="3012840" y="2801880"/>
              <a:ext cx="26067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方正姚体"/>
                  <a:ea typeface="方正姚体"/>
                </a:rPr>
                <a:t>guān</a:t>
              </a:r>
              <a:r>
                <a:rPr b="1" lang="zh-CN" sz="2800" spc="-1" strike="noStrike">
                  <a:solidFill>
                    <a:srgbClr val="ff0000"/>
                  </a:solidFill>
                  <a:latin typeface="宋体"/>
                </a:rPr>
                <a:t>（观看）</a:t>
              </a:r>
              <a:r>
                <a:rPr b="1" lang="en-US" sz="2800" spc="-1" strike="noStrike">
                  <a:solidFill>
                    <a:srgbClr val="ff0000"/>
                  </a:solidFill>
                  <a:latin typeface="方正姚体"/>
                  <a:ea typeface="方正姚体"/>
                </a:rPr>
                <a:t>guàn</a:t>
              </a:r>
              <a:r>
                <a:rPr b="1" lang="zh-CN" sz="2800" spc="-1" strike="noStrike">
                  <a:solidFill>
                    <a:srgbClr val="ff0000"/>
                  </a:solidFill>
                  <a:latin typeface="宋体"/>
                </a:rPr>
                <a:t>（道观）</a:t>
              </a:r>
              <a:endParaRPr b="0" lang="en-US" sz="2800" spc="-1" strike="noStrike">
                <a:solidFill>
                  <a:srgbClr val="000000"/>
                </a:solidFill>
                <a:latin typeface="Calibri"/>
              </a:endParaRPr>
            </a:p>
          </p:txBody>
        </p:sp>
      </p:grpSp>
      <p:grpSp>
        <p:nvGrpSpPr>
          <p:cNvPr id="349" name="组合 2"/>
          <p:cNvGrpSpPr/>
          <p:nvPr/>
        </p:nvGrpSpPr>
        <p:grpSpPr>
          <a:xfrm>
            <a:off x="882720" y="1352520"/>
            <a:ext cx="2905200" cy="666720"/>
            <a:chOff x="882720" y="1352520"/>
            <a:chExt cx="2905200" cy="666720"/>
          </a:xfrm>
        </p:grpSpPr>
        <p:sp>
          <p:nvSpPr>
            <p:cNvPr id="350" name="圆角矩形 17"/>
            <p:cNvSpPr/>
            <p:nvPr/>
          </p:nvSpPr>
          <p:spPr>
            <a:xfrm>
              <a:off x="1698480" y="14904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1" name="图片 9" descr="book.gif"/>
            <p:cNvPicPr/>
            <p:nvPr/>
          </p:nvPicPr>
          <p:blipFill>
            <a:blip r:embed="rId1"/>
            <a:stretch/>
          </p:blipFill>
          <p:spPr>
            <a:xfrm>
              <a:off x="882720" y="1352520"/>
              <a:ext cx="1087200" cy="666720"/>
            </a:xfrm>
            <a:prstGeom prst="rect">
              <a:avLst/>
            </a:prstGeom>
            <a:ln w="0">
              <a:noFill/>
            </a:ln>
          </p:spPr>
        </p:pic>
        <p:sp>
          <p:nvSpPr>
            <p:cNvPr id="352" name="文本框 16"/>
            <p:cNvSpPr/>
            <p:nvPr/>
          </p:nvSpPr>
          <p:spPr>
            <a:xfrm>
              <a:off x="1958040" y="15094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多音字</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22" presetSubtype="8">
                                  <p:stCondLst>
                                    <p:cond delay="0"/>
                                  </p:stCondLst>
                                  <p:childTnLst>
                                    <p:set>
                                      <p:cBhvr>
                                        <p:cTn id="1065" dur="1" fill="hold">
                                          <p:stCondLst>
                                            <p:cond delay="0"/>
                                          </p:stCondLst>
                                        </p:cTn>
                                        <p:tgtEl>
                                          <p:spTgt spid="346"/>
                                        </p:tgtEl>
                                        <p:attrNameLst>
                                          <p:attrName>style.visibility</p:attrName>
                                        </p:attrNameLst>
                                      </p:cBhvr>
                                      <p:to>
                                        <p:strVal val="visible"/>
                                      </p:to>
                                    </p:set>
                                    <p:animEffect filter="wipe(left)" transition="in">
                                      <p:cBhvr additive="repl">
                                        <p:cTn id="106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矩形 1"/>
          <p:cNvSpPr/>
          <p:nvPr/>
        </p:nvSpPr>
        <p:spPr>
          <a:xfrm>
            <a:off x="407880" y="1824120"/>
            <a:ext cx="7456680" cy="461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清澈：</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沉浸：</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谛听：</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唏嘘：</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grpSp>
        <p:nvGrpSpPr>
          <p:cNvPr id="354" name="组合 1"/>
          <p:cNvGrpSpPr/>
          <p:nvPr/>
        </p:nvGrpSpPr>
        <p:grpSpPr>
          <a:xfrm>
            <a:off x="558720" y="1190520"/>
            <a:ext cx="2594160" cy="666720"/>
            <a:chOff x="558720" y="1190520"/>
            <a:chExt cx="2594160" cy="666720"/>
          </a:xfrm>
        </p:grpSpPr>
        <p:sp>
          <p:nvSpPr>
            <p:cNvPr id="355"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6" name="图片 9" descr="book.gif"/>
            <p:cNvPicPr/>
            <p:nvPr/>
          </p:nvPicPr>
          <p:blipFill>
            <a:blip r:embed="rId1"/>
            <a:stretch/>
          </p:blipFill>
          <p:spPr>
            <a:xfrm>
              <a:off x="558720" y="1190520"/>
              <a:ext cx="1087560" cy="666720"/>
            </a:xfrm>
            <a:prstGeom prst="rect">
              <a:avLst/>
            </a:prstGeom>
            <a:ln w="0">
              <a:noFill/>
            </a:ln>
          </p:spPr>
        </p:pic>
        <p:sp>
          <p:nvSpPr>
            <p:cNvPr id="35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358" name="矩形 1"/>
          <p:cNvSpPr/>
          <p:nvPr/>
        </p:nvSpPr>
        <p:spPr>
          <a:xfrm>
            <a:off x="1219320" y="1830240"/>
            <a:ext cx="762480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清而透明。文中指无锡锡惠公园的龙光塔下的泉水清而透明。</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这里的山泉特别</a:t>
            </a:r>
            <a:r>
              <a:rPr b="1" lang="zh-CN" sz="2200" spc="-1" strike="noStrike" u="sng">
                <a:solidFill>
                  <a:srgbClr val="000000"/>
                </a:solidFill>
                <a:uFillTx/>
                <a:latin typeface="Calibri"/>
              </a:rPr>
              <a:t>清澈</a:t>
            </a:r>
            <a:r>
              <a:rPr b="1" lang="zh-CN" sz="2200" spc="-1" strike="noStrike">
                <a:solidFill>
                  <a:srgbClr val="000000"/>
                </a:solidFill>
                <a:latin typeface="Calibri"/>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浸入水中，多比喻处于某种境界或思想活动中。文中指阿炳全神贯注的样子。</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大家完全</a:t>
            </a:r>
            <a:r>
              <a:rPr b="1" lang="zh-CN" sz="2200" spc="-1" strike="noStrike" u="sng">
                <a:solidFill>
                  <a:srgbClr val="000000"/>
                </a:solidFill>
                <a:uFillTx/>
                <a:latin typeface="Calibri"/>
              </a:rPr>
              <a:t>沉浸</a:t>
            </a:r>
            <a:r>
              <a:rPr b="1" lang="zh-CN" sz="2200" spc="-1" strike="noStrike">
                <a:solidFill>
                  <a:srgbClr val="000000"/>
                </a:solidFill>
                <a:latin typeface="Calibri"/>
              </a:rPr>
              <a:t>在美妙的音乐中。</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仔细地听。</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丽丽把耳朵贴在门上，</a:t>
            </a:r>
            <a:r>
              <a:rPr b="1" lang="zh-CN" sz="2200" spc="-1" strike="noStrike" u="sng">
                <a:solidFill>
                  <a:srgbClr val="000000"/>
                </a:solidFill>
                <a:uFillTx/>
                <a:latin typeface="Calibri"/>
              </a:rPr>
              <a:t>谛听</a:t>
            </a:r>
            <a:r>
              <a:rPr b="1" lang="zh-CN" sz="2200" spc="-1" strike="noStrike">
                <a:solidFill>
                  <a:srgbClr val="000000"/>
                </a:solidFill>
                <a:latin typeface="Calibri"/>
              </a:rPr>
              <a:t>起来。</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哭泣后不由自主地急促呼吸；抽搭。</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人们听了他讲的这个凄惨的故事后，</a:t>
            </a:r>
            <a:r>
              <a:rPr b="1" lang="zh-CN" sz="2200" spc="-1" strike="noStrike" u="sng">
                <a:solidFill>
                  <a:srgbClr val="000000"/>
                </a:solidFill>
                <a:uFillTx/>
                <a:latin typeface="Calibri"/>
              </a:rPr>
              <a:t>唏嘘</a:t>
            </a:r>
            <a:r>
              <a:rPr b="1" lang="zh-CN" sz="2200" spc="-1" strike="noStrike">
                <a:solidFill>
                  <a:srgbClr val="000000"/>
                </a:solidFill>
                <a:latin typeface="Calibri"/>
              </a:rPr>
              <a:t>不已。</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nodeType="clickEffect" fill="hold">
                      <p:stCondLst>
                        <p:cond delay="indefinite"/>
                      </p:stCondLst>
                      <p:childTnLst>
                        <p:par>
                          <p:cTn id="1070" nodeType="withEffect"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358">
                                            <p:txEl>
                                              <p:pRg st="0" end="0"/>
                                            </p:txEl>
                                          </p:spTgt>
                                        </p:tgtEl>
                                        <p:attrNameLst>
                                          <p:attrName>style.visibility</p:attrName>
                                        </p:attrNameLst>
                                      </p:cBhvr>
                                      <p:to>
                                        <p:strVal val="visible"/>
                                      </p:to>
                                    </p:set>
                                    <p:animEffect filter="wipe(left)" transition="in">
                                      <p:cBhvr additive="repl">
                                        <p:cTn id="1073" dur="500"/>
                                        <p:tgtEl>
                                          <p:spTgt spid="358">
                                            <p:txEl>
                                              <p:pRg st="0" end="0"/>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358">
                                            <p:txEl>
                                              <p:pRg st="1" end="1"/>
                                            </p:txEl>
                                          </p:spTgt>
                                        </p:tgtEl>
                                        <p:attrNameLst>
                                          <p:attrName>style.visibility</p:attrName>
                                        </p:attrNameLst>
                                      </p:cBhvr>
                                      <p:to>
                                        <p:strVal val="visible"/>
                                      </p:to>
                                    </p:set>
                                    <p:animEffect filter="wipe(left)" transition="in">
                                      <p:cBhvr additive="repl">
                                        <p:cTn id="1078" dur="500"/>
                                        <p:tgtEl>
                                          <p:spTgt spid="358">
                                            <p:txEl>
                                              <p:pRg st="1" end="1"/>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2" presetSubtype="8">
                                  <p:stCondLst>
                                    <p:cond delay="0"/>
                                  </p:stCondLst>
                                  <p:childTnLst>
                                    <p:set>
                                      <p:cBhvr>
                                        <p:cTn id="1082" dur="1" fill="hold">
                                          <p:stCondLst>
                                            <p:cond delay="0"/>
                                          </p:stCondLst>
                                        </p:cTn>
                                        <p:tgtEl>
                                          <p:spTgt spid="358">
                                            <p:txEl>
                                              <p:pRg st="2" end="2"/>
                                            </p:txEl>
                                          </p:spTgt>
                                        </p:tgtEl>
                                        <p:attrNameLst>
                                          <p:attrName>style.visibility</p:attrName>
                                        </p:attrNameLst>
                                      </p:cBhvr>
                                      <p:to>
                                        <p:strVal val="visible"/>
                                      </p:to>
                                    </p:set>
                                    <p:animEffect filter="wipe(left)" transition="in">
                                      <p:cBhvr additive="repl">
                                        <p:cTn id="1083" dur="500"/>
                                        <p:tgtEl>
                                          <p:spTgt spid="358">
                                            <p:txEl>
                                              <p:pRg st="2" end="2"/>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58">
                                            <p:txEl>
                                              <p:pRg st="3" end="3"/>
                                            </p:txEl>
                                          </p:spTgt>
                                        </p:tgtEl>
                                        <p:attrNameLst>
                                          <p:attrName>style.visibility</p:attrName>
                                        </p:attrNameLst>
                                      </p:cBhvr>
                                      <p:to>
                                        <p:strVal val="visible"/>
                                      </p:to>
                                    </p:set>
                                    <p:animEffect filter="wipe(left)" transition="in">
                                      <p:cBhvr additive="repl">
                                        <p:cTn id="1088" dur="500"/>
                                        <p:tgtEl>
                                          <p:spTgt spid="358">
                                            <p:txEl>
                                              <p:pRg st="3" end="3"/>
                                            </p:txEl>
                                          </p:spTgt>
                                        </p:tgtEl>
                                      </p:cBhvr>
                                    </p:animEffect>
                                  </p:childTnLst>
                                </p:cTn>
                              </p:par>
                            </p:childTnLst>
                          </p:cTn>
                        </p:par>
                      </p:childTnLst>
                    </p:cTn>
                  </p:par>
                  <p:par>
                    <p:cTn id="1089" nodeType="clickEffect" fill="hold">
                      <p:stCondLst>
                        <p:cond delay="indefinite"/>
                      </p:stCondLst>
                      <p:childTnLst>
                        <p:par>
                          <p:cTn id="1090" nodeType="withEffect" fill="hold">
                            <p:stCondLst>
                              <p:cond delay="0"/>
                            </p:stCondLst>
                            <p:childTnLst>
                              <p:par>
                                <p:cTn id="1091" nodeType="clickEffect" fill="hold" presetClass="entr" presetID="22" presetSubtype="8">
                                  <p:stCondLst>
                                    <p:cond delay="0"/>
                                  </p:stCondLst>
                                  <p:childTnLst>
                                    <p:set>
                                      <p:cBhvr>
                                        <p:cTn id="1092" dur="1" fill="hold">
                                          <p:stCondLst>
                                            <p:cond delay="0"/>
                                          </p:stCondLst>
                                        </p:cTn>
                                        <p:tgtEl>
                                          <p:spTgt spid="358">
                                            <p:txEl>
                                              <p:pRg st="4" end="4"/>
                                            </p:txEl>
                                          </p:spTgt>
                                        </p:tgtEl>
                                        <p:attrNameLst>
                                          <p:attrName>style.visibility</p:attrName>
                                        </p:attrNameLst>
                                      </p:cBhvr>
                                      <p:to>
                                        <p:strVal val="visible"/>
                                      </p:to>
                                    </p:set>
                                    <p:animEffect filter="wipe(left)" transition="in">
                                      <p:cBhvr additive="repl">
                                        <p:cTn id="1093" dur="500"/>
                                        <p:tgtEl>
                                          <p:spTgt spid="358">
                                            <p:txEl>
                                              <p:pRg st="4" end="4"/>
                                            </p:txEl>
                                          </p:spTgt>
                                        </p:tgtEl>
                                      </p:cBhvr>
                                    </p:animEffect>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2" presetSubtype="8">
                                  <p:stCondLst>
                                    <p:cond delay="0"/>
                                  </p:stCondLst>
                                  <p:childTnLst>
                                    <p:set>
                                      <p:cBhvr>
                                        <p:cTn id="1097" dur="1" fill="hold">
                                          <p:stCondLst>
                                            <p:cond delay="0"/>
                                          </p:stCondLst>
                                        </p:cTn>
                                        <p:tgtEl>
                                          <p:spTgt spid="358">
                                            <p:txEl>
                                              <p:pRg st="5" end="5"/>
                                            </p:txEl>
                                          </p:spTgt>
                                        </p:tgtEl>
                                        <p:attrNameLst>
                                          <p:attrName>style.visibility</p:attrName>
                                        </p:attrNameLst>
                                      </p:cBhvr>
                                      <p:to>
                                        <p:strVal val="visible"/>
                                      </p:to>
                                    </p:set>
                                    <p:animEffect filter="wipe(left)" transition="in">
                                      <p:cBhvr additive="repl">
                                        <p:cTn id="1098" dur="500"/>
                                        <p:tgtEl>
                                          <p:spTgt spid="358">
                                            <p:txEl>
                                              <p:pRg st="5" end="5"/>
                                            </p:txEl>
                                          </p:spTgt>
                                        </p:tgtEl>
                                      </p:cBhvr>
                                    </p:animEffec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358">
                                            <p:txEl>
                                              <p:pRg st="6" end="6"/>
                                            </p:txEl>
                                          </p:spTgt>
                                        </p:tgtEl>
                                        <p:attrNameLst>
                                          <p:attrName>style.visibility</p:attrName>
                                        </p:attrNameLst>
                                      </p:cBhvr>
                                      <p:to>
                                        <p:strVal val="visible"/>
                                      </p:to>
                                    </p:set>
                                    <p:animEffect filter="wipe(left)" transition="in">
                                      <p:cBhvr additive="repl">
                                        <p:cTn id="1103" dur="500"/>
                                        <p:tgtEl>
                                          <p:spTgt spid="358">
                                            <p:txEl>
                                              <p:pRg st="6" end="6"/>
                                            </p:txEl>
                                          </p:spTgt>
                                        </p:tgtEl>
                                      </p:cBhvr>
                                    </p:animEffect>
                                  </p:childTnLst>
                                </p:cTn>
                              </p:par>
                            </p:childTnLst>
                          </p:cTn>
                        </p:par>
                      </p:childTnLst>
                    </p:cTn>
                  </p:par>
                  <p:par>
                    <p:cTn id="1104" nodeType="clickEffect" fill="hold">
                      <p:stCondLst>
                        <p:cond delay="indefinite"/>
                      </p:stCondLst>
                      <p:childTnLst>
                        <p:par>
                          <p:cTn id="1105" nodeType="withEffect"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358">
                                            <p:txEl>
                                              <p:pRg st="7" end="7"/>
                                            </p:txEl>
                                          </p:spTgt>
                                        </p:tgtEl>
                                        <p:attrNameLst>
                                          <p:attrName>style.visibility</p:attrName>
                                        </p:attrNameLst>
                                      </p:cBhvr>
                                      <p:to>
                                        <p:strVal val="visible"/>
                                      </p:to>
                                    </p:set>
                                    <p:animEffect filter="wipe(left)" transition="in">
                                      <p:cBhvr additive="repl">
                                        <p:cTn id="1108" dur="500"/>
                                        <p:tgtEl>
                                          <p:spTgt spid="3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矩形 1"/>
          <p:cNvSpPr/>
          <p:nvPr/>
        </p:nvSpPr>
        <p:spPr>
          <a:xfrm>
            <a:off x="565200" y="1808280"/>
            <a:ext cx="745632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清越：</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激荡：</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遍体鳞伤：</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密密匝匝：</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grpSp>
        <p:nvGrpSpPr>
          <p:cNvPr id="360" name="组合 1"/>
          <p:cNvGrpSpPr/>
          <p:nvPr/>
        </p:nvGrpSpPr>
        <p:grpSpPr>
          <a:xfrm>
            <a:off x="558720" y="1190520"/>
            <a:ext cx="2594160" cy="666720"/>
            <a:chOff x="558720" y="1190520"/>
            <a:chExt cx="2594160" cy="666720"/>
          </a:xfrm>
        </p:grpSpPr>
        <p:sp>
          <p:nvSpPr>
            <p:cNvPr id="361" name="圆角矩形 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2" name="图片 9" descr="book.gif"/>
            <p:cNvPicPr/>
            <p:nvPr/>
          </p:nvPicPr>
          <p:blipFill>
            <a:blip r:embed="rId1"/>
            <a:stretch/>
          </p:blipFill>
          <p:spPr>
            <a:xfrm>
              <a:off x="558720" y="1190520"/>
              <a:ext cx="1087560" cy="666720"/>
            </a:xfrm>
            <a:prstGeom prst="rect">
              <a:avLst/>
            </a:prstGeom>
            <a:ln w="0">
              <a:noFill/>
            </a:ln>
          </p:spPr>
        </p:pic>
        <p:sp>
          <p:nvSpPr>
            <p:cNvPr id="36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理解词语</a:t>
              </a:r>
              <a:endParaRPr b="0" lang="en-US" sz="2400" spc="-1" strike="noStrike">
                <a:solidFill>
                  <a:srgbClr val="000000"/>
                </a:solidFill>
                <a:latin typeface="Calibri"/>
              </a:endParaRPr>
            </a:p>
          </p:txBody>
        </p:sp>
      </p:grpSp>
      <p:sp>
        <p:nvSpPr>
          <p:cNvPr id="364" name="矩形 1"/>
          <p:cNvSpPr/>
          <p:nvPr/>
        </p:nvSpPr>
        <p:spPr>
          <a:xfrm>
            <a:off x="1376280" y="1830240"/>
            <a:ext cx="7467840" cy="3611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0000"/>
                </a:solidFill>
                <a:latin typeface="Calibri"/>
              </a:rPr>
              <a:t>(</a:t>
            </a:r>
            <a:r>
              <a:rPr b="1" lang="zh-CN" sz="2200" spc="-1" strike="noStrike">
                <a:solidFill>
                  <a:srgbClr val="ff0000"/>
                </a:solidFill>
                <a:latin typeface="Calibri"/>
              </a:rPr>
              <a:t>声音</a:t>
            </a:r>
            <a:r>
              <a:rPr b="1" lang="en-US" sz="2200" spc="-1" strike="noStrike">
                <a:solidFill>
                  <a:srgbClr val="ff0000"/>
                </a:solidFill>
                <a:latin typeface="Calibri"/>
              </a:rPr>
              <a:t>)</a:t>
            </a:r>
            <a:r>
              <a:rPr b="1" lang="zh-CN" sz="2200" spc="-1" strike="noStrike">
                <a:solidFill>
                  <a:srgbClr val="ff0000"/>
                </a:solidFill>
                <a:latin typeface="Calibri"/>
              </a:rPr>
              <a:t>清脆悠扬。文中指阿炳拉二胡的声音动听。</a:t>
            </a:r>
            <a:r>
              <a:rPr b="1" lang="zh-CN" sz="2200" spc="-1" strike="noStrike">
                <a:solidFill>
                  <a:srgbClr val="ff0000"/>
                </a:solidFill>
                <a:latin typeface="Calibri"/>
              </a:rPr>
              <a:t>	</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她的耳边传来一阵</a:t>
            </a:r>
            <a:r>
              <a:rPr b="1" lang="zh-CN" sz="2200" spc="-1" strike="noStrike" u="sng">
                <a:solidFill>
                  <a:srgbClr val="000000"/>
                </a:solidFill>
                <a:uFillTx/>
                <a:latin typeface="Calibri"/>
              </a:rPr>
              <a:t>清越</a:t>
            </a:r>
            <a:r>
              <a:rPr b="1" lang="zh-CN" sz="2200" spc="-1" strike="noStrike">
                <a:solidFill>
                  <a:srgbClr val="000000"/>
                </a:solidFill>
                <a:latin typeface="Calibri"/>
              </a:rPr>
              <a:t>的小提琴声。</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①</a:t>
            </a:r>
            <a:r>
              <a:rPr b="1" lang="zh-CN" sz="2200" spc="-1" strike="noStrike">
                <a:solidFill>
                  <a:srgbClr val="ff0000"/>
                </a:solidFill>
                <a:latin typeface="Calibri"/>
              </a:rPr>
              <a:t>因受冲击而动荡。②冲击使动荡。</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满身都是像鱼鳞一样密集的伤痕，形容伤势重。文中指阿炳伤得很厉害。</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司机惨遭车祸，被摔得</a:t>
            </a:r>
            <a:r>
              <a:rPr b="1" lang="zh-CN" sz="2200" spc="-1" strike="noStrike" u="sng">
                <a:solidFill>
                  <a:srgbClr val="000000"/>
                </a:solidFill>
                <a:uFillTx/>
                <a:latin typeface="Calibri"/>
              </a:rPr>
              <a:t>遍体鳞伤</a:t>
            </a:r>
            <a:r>
              <a:rPr b="1" lang="zh-CN" sz="2200" spc="-1" strike="noStrike">
                <a:solidFill>
                  <a:srgbClr val="000000"/>
                </a:solidFill>
                <a:latin typeface="Calibri"/>
              </a:rPr>
              <a:t>。</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ff0000"/>
                </a:solidFill>
                <a:latin typeface="Calibri"/>
              </a:rPr>
              <a:t>很稠密的样子。文中指阿炳作为一个民间音乐家受人们欢迎的程度。</a:t>
            </a:r>
            <a:endParaRPr b="0" lang="en-US" sz="22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Calibri"/>
              </a:rPr>
              <a:t>造句：前来参加集会的人真多，</a:t>
            </a:r>
            <a:r>
              <a:rPr b="1" lang="zh-CN" sz="2200" spc="-1" strike="noStrike" u="sng">
                <a:solidFill>
                  <a:srgbClr val="000000"/>
                </a:solidFill>
                <a:uFillTx/>
                <a:latin typeface="Calibri"/>
              </a:rPr>
              <a:t>密密匝匝</a:t>
            </a:r>
            <a:r>
              <a:rPr b="1" lang="zh-CN" sz="2200" spc="-1" strike="noStrike">
                <a:solidFill>
                  <a:srgbClr val="000000"/>
                </a:solidFill>
                <a:latin typeface="Calibri"/>
              </a:rPr>
              <a:t>数也数不清。</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22" presetSubtype="8">
                                  <p:stCondLst>
                                    <p:cond delay="0"/>
                                  </p:stCondLst>
                                  <p:childTnLst>
                                    <p:set>
                                      <p:cBhvr>
                                        <p:cTn id="1114" dur="1" fill="hold">
                                          <p:stCondLst>
                                            <p:cond delay="0"/>
                                          </p:stCondLst>
                                        </p:cTn>
                                        <p:tgtEl>
                                          <p:spTgt spid="364">
                                            <p:txEl>
                                              <p:pRg st="0" end="0"/>
                                            </p:txEl>
                                          </p:spTgt>
                                        </p:tgtEl>
                                        <p:attrNameLst>
                                          <p:attrName>style.visibility</p:attrName>
                                        </p:attrNameLst>
                                      </p:cBhvr>
                                      <p:to>
                                        <p:strVal val="visible"/>
                                      </p:to>
                                    </p:set>
                                    <p:animEffect filter="wipe(left)" transition="in">
                                      <p:cBhvr additive="repl">
                                        <p:cTn id="1115" dur="500"/>
                                        <p:tgtEl>
                                          <p:spTgt spid="364">
                                            <p:txEl>
                                              <p:pRg st="0" end="0"/>
                                            </p:txEl>
                                          </p:spTgt>
                                        </p:tgtEl>
                                      </p:cBhvr>
                                    </p:animEffect>
                                  </p:childTnLst>
                                </p:cTn>
                              </p:par>
                            </p:childTnLst>
                          </p:cTn>
                        </p:par>
                      </p:childTnLst>
                    </p:cTn>
                  </p:par>
                  <p:par>
                    <p:cTn id="1116" nodeType="clickEffect" fill="hold">
                      <p:stCondLst>
                        <p:cond delay="indefinite"/>
                      </p:stCondLst>
                      <p:childTnLst>
                        <p:par>
                          <p:cTn id="1117" nodeType="withEffect" fill="hold">
                            <p:stCondLst>
                              <p:cond delay="0"/>
                            </p:stCondLst>
                            <p:childTnLst>
                              <p:par>
                                <p:cTn id="1118" nodeType="clickEffect" fill="hold" presetClass="entr" presetID="22" presetSubtype="8">
                                  <p:stCondLst>
                                    <p:cond delay="0"/>
                                  </p:stCondLst>
                                  <p:childTnLst>
                                    <p:set>
                                      <p:cBhvr>
                                        <p:cTn id="1119" dur="1" fill="hold">
                                          <p:stCondLst>
                                            <p:cond delay="0"/>
                                          </p:stCondLst>
                                        </p:cTn>
                                        <p:tgtEl>
                                          <p:spTgt spid="364">
                                            <p:txEl>
                                              <p:pRg st="1" end="1"/>
                                            </p:txEl>
                                          </p:spTgt>
                                        </p:tgtEl>
                                        <p:attrNameLst>
                                          <p:attrName>style.visibility</p:attrName>
                                        </p:attrNameLst>
                                      </p:cBhvr>
                                      <p:to>
                                        <p:strVal val="visible"/>
                                      </p:to>
                                    </p:set>
                                    <p:animEffect filter="wipe(left)" transition="in">
                                      <p:cBhvr additive="repl">
                                        <p:cTn id="1120" dur="500"/>
                                        <p:tgtEl>
                                          <p:spTgt spid="364">
                                            <p:txEl>
                                              <p:pRg st="1" end="1"/>
                                            </p:txEl>
                                          </p:spTgt>
                                        </p:tgtEl>
                                      </p:cBhvr>
                                    </p:animEffec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22" presetSubtype="8">
                                  <p:stCondLst>
                                    <p:cond delay="0"/>
                                  </p:stCondLst>
                                  <p:childTnLst>
                                    <p:set>
                                      <p:cBhvr>
                                        <p:cTn id="1124" dur="1" fill="hold">
                                          <p:stCondLst>
                                            <p:cond delay="0"/>
                                          </p:stCondLst>
                                        </p:cTn>
                                        <p:tgtEl>
                                          <p:spTgt spid="364">
                                            <p:txEl>
                                              <p:pRg st="2" end="2"/>
                                            </p:txEl>
                                          </p:spTgt>
                                        </p:tgtEl>
                                        <p:attrNameLst>
                                          <p:attrName>style.visibility</p:attrName>
                                        </p:attrNameLst>
                                      </p:cBhvr>
                                      <p:to>
                                        <p:strVal val="visible"/>
                                      </p:to>
                                    </p:set>
                                    <p:animEffect filter="wipe(left)" transition="in">
                                      <p:cBhvr additive="repl">
                                        <p:cTn id="1125" dur="500"/>
                                        <p:tgtEl>
                                          <p:spTgt spid="364">
                                            <p:txEl>
                                              <p:pRg st="2" end="2"/>
                                            </p:txEl>
                                          </p:spTgt>
                                        </p:tgtEl>
                                      </p:cBhvr>
                                    </p:animEffect>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364">
                                            <p:txEl>
                                              <p:pRg st="3" end="3"/>
                                            </p:txEl>
                                          </p:spTgt>
                                        </p:tgtEl>
                                        <p:attrNameLst>
                                          <p:attrName>style.visibility</p:attrName>
                                        </p:attrNameLst>
                                      </p:cBhvr>
                                      <p:to>
                                        <p:strVal val="visible"/>
                                      </p:to>
                                    </p:set>
                                    <p:animEffect filter="wipe(left)" transition="in">
                                      <p:cBhvr additive="repl">
                                        <p:cTn id="1130" dur="500"/>
                                        <p:tgtEl>
                                          <p:spTgt spid="364">
                                            <p:txEl>
                                              <p:pRg st="3" end="3"/>
                                            </p:txEl>
                                          </p:spTgt>
                                        </p:tgtEl>
                                      </p:cBhvr>
                                    </p:animEffec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22" presetSubtype="8">
                                  <p:stCondLst>
                                    <p:cond delay="0"/>
                                  </p:stCondLst>
                                  <p:childTnLst>
                                    <p:set>
                                      <p:cBhvr>
                                        <p:cTn id="1134" dur="1" fill="hold">
                                          <p:stCondLst>
                                            <p:cond delay="0"/>
                                          </p:stCondLst>
                                        </p:cTn>
                                        <p:tgtEl>
                                          <p:spTgt spid="364">
                                            <p:txEl>
                                              <p:pRg st="4" end="4"/>
                                            </p:txEl>
                                          </p:spTgt>
                                        </p:tgtEl>
                                        <p:attrNameLst>
                                          <p:attrName>style.visibility</p:attrName>
                                        </p:attrNameLst>
                                      </p:cBhvr>
                                      <p:to>
                                        <p:strVal val="visible"/>
                                      </p:to>
                                    </p:set>
                                    <p:animEffect filter="wipe(left)" transition="in">
                                      <p:cBhvr additive="repl">
                                        <p:cTn id="1135" dur="500"/>
                                        <p:tgtEl>
                                          <p:spTgt spid="364">
                                            <p:txEl>
                                              <p:pRg st="4" end="4"/>
                                            </p:txEl>
                                          </p:spTgt>
                                        </p:tgtEl>
                                      </p:cBhvr>
                                    </p:animEffect>
                                  </p:childTnLst>
                                </p:cTn>
                              </p:par>
                            </p:childTnLst>
                          </p:cTn>
                        </p:par>
                      </p:childTnLst>
                    </p:cTn>
                  </p:par>
                  <p:par>
                    <p:cTn id="1136" nodeType="clickEffect" fill="hold">
                      <p:stCondLst>
                        <p:cond delay="indefinite"/>
                      </p:stCondLst>
                      <p:childTnLst>
                        <p:par>
                          <p:cTn id="1137" nodeType="withEffect" fill="hold">
                            <p:stCondLst>
                              <p:cond delay="0"/>
                            </p:stCondLst>
                            <p:childTnLst>
                              <p:par>
                                <p:cTn id="1138" nodeType="clickEffect" fill="hold" presetClass="entr" presetID="22" presetSubtype="8">
                                  <p:stCondLst>
                                    <p:cond delay="0"/>
                                  </p:stCondLst>
                                  <p:childTnLst>
                                    <p:set>
                                      <p:cBhvr>
                                        <p:cTn id="1139" dur="1" fill="hold">
                                          <p:stCondLst>
                                            <p:cond delay="0"/>
                                          </p:stCondLst>
                                        </p:cTn>
                                        <p:tgtEl>
                                          <p:spTgt spid="364">
                                            <p:txEl>
                                              <p:pRg st="5" end="5"/>
                                            </p:txEl>
                                          </p:spTgt>
                                        </p:tgtEl>
                                        <p:attrNameLst>
                                          <p:attrName>style.visibility</p:attrName>
                                        </p:attrNameLst>
                                      </p:cBhvr>
                                      <p:to>
                                        <p:strVal val="visible"/>
                                      </p:to>
                                    </p:set>
                                    <p:animEffect filter="wipe(left)" transition="in">
                                      <p:cBhvr additive="repl">
                                        <p:cTn id="1140" dur="500"/>
                                        <p:tgtEl>
                                          <p:spTgt spid="364">
                                            <p:txEl>
                                              <p:pRg st="5" end="5"/>
                                            </p:txEl>
                                          </p:spTgt>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364">
                                            <p:txEl>
                                              <p:pRg st="6" end="6"/>
                                            </p:txEl>
                                          </p:spTgt>
                                        </p:tgtEl>
                                        <p:attrNameLst>
                                          <p:attrName>style.visibility</p:attrName>
                                        </p:attrNameLst>
                                      </p:cBhvr>
                                      <p:to>
                                        <p:strVal val="visible"/>
                                      </p:to>
                                    </p:set>
                                    <p:animEffect filter="wipe(left)" transition="in">
                                      <p:cBhvr additive="repl">
                                        <p:cTn id="1145" dur="5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矩形 1"/>
          <p:cNvSpPr/>
          <p:nvPr/>
        </p:nvSpPr>
        <p:spPr>
          <a:xfrm>
            <a:off x="3963240" y="1982880"/>
            <a:ext cx="121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依恋　留恋</a:t>
            </a:r>
            <a:endParaRPr b="0" lang="en-US" sz="2400" spc="-1" strike="noStrike">
              <a:solidFill>
                <a:srgbClr val="000000"/>
              </a:solidFill>
              <a:latin typeface="Calibri"/>
            </a:endParaRPr>
          </a:p>
        </p:txBody>
      </p:sp>
      <p:sp>
        <p:nvSpPr>
          <p:cNvPr id="366" name="矩形 2"/>
          <p:cNvSpPr/>
          <p:nvPr/>
        </p:nvSpPr>
        <p:spPr>
          <a:xfrm>
            <a:off x="2162160" y="2543040"/>
            <a:ext cx="6257880" cy="24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都有不忍分离的意思。</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300" spc="-1" strike="noStrike">
                <a:solidFill>
                  <a:srgbClr val="000000"/>
                </a:solidFill>
                <a:latin typeface="宋体"/>
              </a:rPr>
              <a:t>“</a:t>
            </a:r>
            <a:r>
              <a:rPr b="1" lang="zh-CN" sz="2300" spc="-1" strike="noStrike">
                <a:solidFill>
                  <a:srgbClr val="000000"/>
                </a:solidFill>
                <a:latin typeface="宋体"/>
              </a:rPr>
              <a:t>依恋”侧重离不开。“留恋”侧重不忍舍弃或离开。</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1.</a:t>
            </a:r>
            <a:r>
              <a:rPr b="1" lang="zh-CN" sz="2300" spc="-1" strike="noStrike">
                <a:solidFill>
                  <a:srgbClr val="000000"/>
                </a:solidFill>
                <a:latin typeface="宋体"/>
              </a:rPr>
              <a:t>不离开家，就永远不知道自己是多么</a:t>
            </a:r>
            <a:r>
              <a:rPr b="1" lang="zh-CN" sz="2300" spc="-1" strike="noStrike">
                <a:solidFill>
                  <a:srgbClr val="ff00ff"/>
                </a:solidFill>
                <a:latin typeface="宋体"/>
              </a:rPr>
              <a:t>依恋</a:t>
            </a:r>
            <a:r>
              <a:rPr b="1" lang="zh-CN" sz="2300" spc="-1" strike="noStrike">
                <a:solidFill>
                  <a:srgbClr val="000000"/>
                </a:solidFill>
                <a:latin typeface="宋体"/>
              </a:rPr>
              <a:t>妈妈的怀抱。</a:t>
            </a:r>
            <a:endParaRPr b="0" lang="en-US" sz="23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宋体"/>
              </a:rPr>
              <a:t>2.</a:t>
            </a:r>
            <a:r>
              <a:rPr b="1" lang="zh-CN" sz="2300" spc="-1" strike="noStrike">
                <a:solidFill>
                  <a:srgbClr val="000000"/>
                </a:solidFill>
                <a:latin typeface="宋体"/>
              </a:rPr>
              <a:t>毕业之际，同学们对校园里的一切都很</a:t>
            </a:r>
            <a:r>
              <a:rPr b="1" lang="zh-CN" sz="2300" spc="-1" strike="noStrike">
                <a:solidFill>
                  <a:srgbClr val="ff00ff"/>
                </a:solidFill>
                <a:latin typeface="宋体"/>
              </a:rPr>
              <a:t>留恋</a:t>
            </a:r>
            <a:r>
              <a:rPr b="1" lang="zh-CN" sz="2300" spc="-1" strike="noStrike">
                <a:solidFill>
                  <a:srgbClr val="000000"/>
                </a:solidFill>
                <a:latin typeface="宋体"/>
              </a:rPr>
              <a:t>。</a:t>
            </a:r>
            <a:endParaRPr b="0" lang="en-US" sz="2300" spc="-1" strike="noStrike">
              <a:solidFill>
                <a:srgbClr val="000000"/>
              </a:solidFill>
              <a:latin typeface="Calibri"/>
            </a:endParaRPr>
          </a:p>
        </p:txBody>
      </p:sp>
      <p:grpSp>
        <p:nvGrpSpPr>
          <p:cNvPr id="367" name="组合 13"/>
          <p:cNvGrpSpPr/>
          <p:nvPr/>
        </p:nvGrpSpPr>
        <p:grpSpPr>
          <a:xfrm>
            <a:off x="558720" y="1190520"/>
            <a:ext cx="2594160" cy="666720"/>
            <a:chOff x="558720" y="1190520"/>
            <a:chExt cx="2594160" cy="666720"/>
          </a:xfrm>
        </p:grpSpPr>
        <p:sp>
          <p:nvSpPr>
            <p:cNvPr id="368" name="圆角矩形 1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9" name="图片 9" descr="book.gif"/>
            <p:cNvPicPr/>
            <p:nvPr/>
          </p:nvPicPr>
          <p:blipFill>
            <a:blip r:embed="rId1"/>
            <a:stretch/>
          </p:blipFill>
          <p:spPr>
            <a:xfrm>
              <a:off x="558720" y="1190520"/>
              <a:ext cx="1087560" cy="666720"/>
            </a:xfrm>
            <a:prstGeom prst="rect">
              <a:avLst/>
            </a:prstGeom>
            <a:ln w="0">
              <a:noFill/>
            </a:ln>
          </p:spPr>
        </p:pic>
        <p:sp>
          <p:nvSpPr>
            <p:cNvPr id="370"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辨析词语</a:t>
              </a:r>
              <a:endParaRPr b="0" lang="en-US" sz="2400" spc="-1" strike="noStrike">
                <a:solidFill>
                  <a:srgbClr val="000000"/>
                </a:solidFill>
                <a:latin typeface="Calibri"/>
              </a:endParaRPr>
            </a:p>
          </p:txBody>
        </p:sp>
      </p:grpSp>
      <p:grpSp>
        <p:nvGrpSpPr>
          <p:cNvPr id="371" name="组合 4"/>
          <p:cNvGrpSpPr/>
          <p:nvPr/>
        </p:nvGrpSpPr>
        <p:grpSpPr>
          <a:xfrm>
            <a:off x="681120" y="2587680"/>
            <a:ext cx="1670040" cy="459720"/>
            <a:chOff x="681120" y="2587680"/>
            <a:chExt cx="1670040" cy="459720"/>
          </a:xfrm>
        </p:grpSpPr>
        <p:pic>
          <p:nvPicPr>
            <p:cNvPr id="372" name="Picture 9" descr="E:\各版本共用文件\0未分类文件\图片\课件制作所需图片\星星.jpg"/>
            <p:cNvPicPr/>
            <p:nvPr/>
          </p:nvPicPr>
          <p:blipFill>
            <a:blip r:embed="rId2"/>
            <a:stretch/>
          </p:blipFill>
          <p:spPr>
            <a:xfrm>
              <a:off x="681120" y="2642040"/>
              <a:ext cx="366120" cy="348480"/>
            </a:xfrm>
            <a:prstGeom prst="rect">
              <a:avLst/>
            </a:prstGeom>
            <a:ln w="0">
              <a:noFill/>
            </a:ln>
          </p:spPr>
        </p:pic>
        <p:sp>
          <p:nvSpPr>
            <p:cNvPr id="373" name="TextBox 3"/>
            <p:cNvSpPr/>
            <p:nvPr/>
          </p:nvSpPr>
          <p:spPr>
            <a:xfrm>
              <a:off x="1024200" y="258768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相同点：</a:t>
              </a:r>
              <a:endParaRPr b="0" lang="en-US" sz="2400" spc="-1" strike="noStrike">
                <a:solidFill>
                  <a:srgbClr val="000000"/>
                </a:solidFill>
                <a:latin typeface="Calibri"/>
              </a:endParaRPr>
            </a:p>
          </p:txBody>
        </p:sp>
      </p:grpSp>
      <p:grpSp>
        <p:nvGrpSpPr>
          <p:cNvPr id="374" name="组合 20"/>
          <p:cNvGrpSpPr/>
          <p:nvPr/>
        </p:nvGrpSpPr>
        <p:grpSpPr>
          <a:xfrm>
            <a:off x="681120" y="3218040"/>
            <a:ext cx="1670040" cy="459720"/>
            <a:chOff x="681120" y="3218040"/>
            <a:chExt cx="1670040" cy="459720"/>
          </a:xfrm>
        </p:grpSpPr>
        <p:pic>
          <p:nvPicPr>
            <p:cNvPr id="375" name="Picture 9" descr="E:\各版本共用文件\0未分类文件\图片\课件制作所需图片\星星.jpg"/>
            <p:cNvPicPr/>
            <p:nvPr/>
          </p:nvPicPr>
          <p:blipFill>
            <a:blip r:embed="rId3"/>
            <a:stretch/>
          </p:blipFill>
          <p:spPr>
            <a:xfrm>
              <a:off x="681120" y="3272400"/>
              <a:ext cx="366120" cy="348480"/>
            </a:xfrm>
            <a:prstGeom prst="rect">
              <a:avLst/>
            </a:prstGeom>
            <a:ln w="0">
              <a:noFill/>
            </a:ln>
          </p:spPr>
        </p:pic>
        <p:sp>
          <p:nvSpPr>
            <p:cNvPr id="376" name="TextBox 22"/>
            <p:cNvSpPr/>
            <p:nvPr/>
          </p:nvSpPr>
          <p:spPr>
            <a:xfrm>
              <a:off x="1024200" y="321804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不同点：</a:t>
              </a:r>
              <a:endParaRPr b="0" lang="en-US" sz="2400" spc="-1" strike="noStrike">
                <a:solidFill>
                  <a:srgbClr val="000000"/>
                </a:solidFill>
                <a:latin typeface="Calibri"/>
              </a:endParaRPr>
            </a:p>
          </p:txBody>
        </p:sp>
      </p:grpSp>
      <p:grpSp>
        <p:nvGrpSpPr>
          <p:cNvPr id="377" name="组合 23"/>
          <p:cNvGrpSpPr/>
          <p:nvPr/>
        </p:nvGrpSpPr>
        <p:grpSpPr>
          <a:xfrm>
            <a:off x="681120" y="4338720"/>
            <a:ext cx="1670040" cy="459720"/>
            <a:chOff x="681120" y="4338720"/>
            <a:chExt cx="1670040" cy="459720"/>
          </a:xfrm>
        </p:grpSpPr>
        <p:pic>
          <p:nvPicPr>
            <p:cNvPr id="378" name="Picture 9" descr="E:\各版本共用文件\0未分类文件\图片\课件制作所需图片\星星.jpg"/>
            <p:cNvPicPr/>
            <p:nvPr/>
          </p:nvPicPr>
          <p:blipFill>
            <a:blip r:embed="rId4"/>
            <a:stretch/>
          </p:blipFill>
          <p:spPr>
            <a:xfrm>
              <a:off x="681120" y="4393080"/>
              <a:ext cx="366120" cy="348480"/>
            </a:xfrm>
            <a:prstGeom prst="rect">
              <a:avLst/>
            </a:prstGeom>
            <a:ln w="0">
              <a:noFill/>
            </a:ln>
          </p:spPr>
        </p:pic>
        <p:sp>
          <p:nvSpPr>
            <p:cNvPr id="379" name="TextBox 25"/>
            <p:cNvSpPr/>
            <p:nvPr/>
          </p:nvSpPr>
          <p:spPr>
            <a:xfrm>
              <a:off x="1024200" y="4338720"/>
              <a:ext cx="13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造  句：</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nodeType="clickEffect" fill="hold">
                      <p:stCondLst>
                        <p:cond delay="indefinite"/>
                      </p:stCondLst>
                      <p:childTnLst>
                        <p:par>
                          <p:cTn id="1149" nodeType="withEffect" fill="hold">
                            <p:stCondLst>
                              <p:cond delay="0"/>
                            </p:stCondLst>
                            <p:childTnLst>
                              <p:par>
                                <p:cTn id="1150" nodeType="clickEffect" fill="hold" presetClass="entr" presetID="22" presetSubtype="8">
                                  <p:stCondLst>
                                    <p:cond delay="0"/>
                                  </p:stCondLst>
                                  <p:childTnLst>
                                    <p:set>
                                      <p:cBhvr>
                                        <p:cTn id="1151"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152" dur="500"/>
                                        <p:tgtEl>
                                          <p:spTgt spid="366">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366">
                                            <p:txEl>
                                              <p:pRg st="1" end="1"/>
                                            </p:txEl>
                                          </p:spTgt>
                                        </p:tgtEl>
                                        <p:attrNameLst>
                                          <p:attrName>style.visibility</p:attrName>
                                        </p:attrNameLst>
                                      </p:cBhvr>
                                      <p:to>
                                        <p:strVal val="visible"/>
                                      </p:to>
                                    </p:set>
                                    <p:animEffect filter="wipe(left)" transition="in">
                                      <p:cBhvr additive="repl">
                                        <p:cTn id="1157" dur="500"/>
                                        <p:tgtEl>
                                          <p:spTgt spid="366">
                                            <p:txEl>
                                              <p:pRg st="1" end="1"/>
                                            </p:txEl>
                                          </p:spTgt>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366">
                                            <p:txEl>
                                              <p:pRg st="2" end="2"/>
                                            </p:txEl>
                                          </p:spTgt>
                                        </p:tgtEl>
                                        <p:attrNameLst>
                                          <p:attrName>style.visibility</p:attrName>
                                        </p:attrNameLst>
                                      </p:cBhvr>
                                      <p:to>
                                        <p:strVal val="visible"/>
                                      </p:to>
                                    </p:set>
                                    <p:animEffect filter="wipe(left)" transition="in">
                                      <p:cBhvr additive="repl">
                                        <p:cTn id="1162" dur="500"/>
                                        <p:tgtEl>
                                          <p:spTgt spid="366">
                                            <p:txEl>
                                              <p:pRg st="2" end="2"/>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366">
                                            <p:txEl>
                                              <p:pRg st="3" end="3"/>
                                            </p:txEl>
                                          </p:spTgt>
                                        </p:tgtEl>
                                        <p:attrNameLst>
                                          <p:attrName>style.visibility</p:attrName>
                                        </p:attrNameLst>
                                      </p:cBhvr>
                                      <p:to>
                                        <p:strVal val="visible"/>
                                      </p:to>
                                    </p:set>
                                    <p:animEffect filter="wipe(left)" transition="in">
                                      <p:cBhvr additive="repl">
                                        <p:cTn id="1167" dur="5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1"/>
          <p:cNvSpPr/>
          <p:nvPr/>
        </p:nvSpPr>
        <p:spPr>
          <a:xfrm>
            <a:off x="887400" y="1882800"/>
            <a:ext cx="74376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一部分（第</a:t>
            </a:r>
            <a:r>
              <a:rPr b="1" lang="en-US" sz="2400" spc="-1" strike="noStrike">
                <a:solidFill>
                  <a:srgbClr val="00b0f0"/>
                </a:solidFill>
                <a:latin typeface="黑体"/>
                <a:ea typeface="黑体"/>
              </a:rPr>
              <a:t>1</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2</a:t>
            </a:r>
            <a:r>
              <a:rPr b="1" lang="zh-CN" sz="2400" spc="-1" strike="noStrike">
                <a:solidFill>
                  <a:srgbClr val="00b0f0"/>
                </a:solidFill>
                <a:latin typeface="黑体"/>
                <a:ea typeface="黑体"/>
              </a:rPr>
              <a:t>自然段）</a:t>
            </a:r>
            <a:r>
              <a:rPr b="1" lang="zh-CN" sz="2400" spc="-1" strike="noStrike">
                <a:solidFill>
                  <a:srgbClr val="c00000"/>
                </a:solidFill>
                <a:latin typeface="Calibri"/>
              </a:rPr>
              <a:t>爱音乐。</a:t>
            </a:r>
            <a:r>
              <a:rPr b="1" lang="zh-CN" sz="2400" spc="-1" strike="noStrike">
                <a:solidFill>
                  <a:srgbClr val="000000"/>
                </a:solidFill>
                <a:latin typeface="Calibri"/>
              </a:rPr>
              <a:t>写阿炳从小喜爱大自然的音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二部分（第</a:t>
            </a:r>
            <a:r>
              <a:rPr b="1" lang="en-US" sz="2400" spc="-1" strike="noStrike">
                <a:solidFill>
                  <a:srgbClr val="00b0f0"/>
                </a:solidFill>
                <a:latin typeface="黑体"/>
                <a:ea typeface="黑体"/>
              </a:rPr>
              <a:t>3</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7</a:t>
            </a:r>
            <a:r>
              <a:rPr b="1" lang="zh-CN" sz="2400" spc="-1" strike="noStrike">
                <a:solidFill>
                  <a:srgbClr val="00b0f0"/>
                </a:solidFill>
                <a:latin typeface="黑体"/>
                <a:ea typeface="黑体"/>
              </a:rPr>
              <a:t>自然段）</a:t>
            </a:r>
            <a:r>
              <a:rPr b="1" lang="zh-CN" sz="2400" spc="-1" strike="noStrike">
                <a:solidFill>
                  <a:srgbClr val="c00000"/>
                </a:solidFill>
                <a:latin typeface="Calibri"/>
              </a:rPr>
              <a:t>成琴师。</a:t>
            </a:r>
            <a:r>
              <a:rPr b="1" lang="zh-CN" sz="2400" spc="-1" strike="noStrike">
                <a:solidFill>
                  <a:srgbClr val="000000"/>
                </a:solidFill>
                <a:latin typeface="Calibri"/>
              </a:rPr>
              <a:t>写瞎子阿炳成了当地著名的二胡琴师。</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b0f0"/>
                </a:solidFill>
                <a:latin typeface="黑体"/>
                <a:ea typeface="黑体"/>
              </a:rPr>
              <a:t>第三部分（第</a:t>
            </a:r>
            <a:r>
              <a:rPr b="1" lang="en-US" sz="2400" spc="-1" strike="noStrike">
                <a:solidFill>
                  <a:srgbClr val="00b0f0"/>
                </a:solidFill>
                <a:latin typeface="黑体"/>
                <a:ea typeface="黑体"/>
              </a:rPr>
              <a:t>8</a:t>
            </a:r>
            <a:r>
              <a:rPr b="1" lang="zh-CN" sz="2400" spc="-1" strike="noStrike">
                <a:solidFill>
                  <a:srgbClr val="00b0f0"/>
                </a:solidFill>
                <a:latin typeface="黑体"/>
                <a:ea typeface="黑体"/>
              </a:rPr>
              <a:t>－</a:t>
            </a:r>
            <a:r>
              <a:rPr b="1" lang="en-US" sz="2400" spc="-1" strike="noStrike">
                <a:solidFill>
                  <a:srgbClr val="00b0f0"/>
                </a:solidFill>
                <a:latin typeface="黑体"/>
                <a:ea typeface="黑体"/>
              </a:rPr>
              <a:t>14</a:t>
            </a:r>
            <a:r>
              <a:rPr b="1" lang="zh-CN" sz="2400" spc="-1" strike="noStrike">
                <a:solidFill>
                  <a:srgbClr val="00b0f0"/>
                </a:solidFill>
                <a:latin typeface="黑体"/>
                <a:ea typeface="黑体"/>
              </a:rPr>
              <a:t>自然段）</a:t>
            </a:r>
            <a:r>
              <a:rPr b="1" lang="en-US" sz="2400" spc="-1" strike="noStrike">
                <a:solidFill>
                  <a:srgbClr val="c00000"/>
                </a:solidFill>
                <a:latin typeface="Calibri"/>
              </a:rPr>
              <a:t>“</a:t>
            </a:r>
            <a:r>
              <a:rPr b="1" lang="zh-CN" sz="2400" spc="-1" strike="noStrike">
                <a:solidFill>
                  <a:srgbClr val="c00000"/>
                </a:solidFill>
                <a:latin typeface="Calibri"/>
              </a:rPr>
              <a:t>二泉”生。</a:t>
            </a:r>
            <a:r>
              <a:rPr b="1" lang="zh-CN" sz="2400" spc="-1" strike="noStrike">
                <a:solidFill>
                  <a:srgbClr val="000000"/>
                </a:solidFill>
                <a:latin typeface="Calibri"/>
              </a:rPr>
              <a:t>写</a:t>
            </a:r>
            <a:r>
              <a:rPr b="1" lang="en-US" sz="2400" spc="-1" strike="noStrike">
                <a:solidFill>
                  <a:srgbClr val="000000"/>
                </a:solidFill>
                <a:latin typeface="Calibri"/>
              </a:rPr>
              <a:t>《</a:t>
            </a:r>
            <a:r>
              <a:rPr b="1" lang="zh-CN" sz="2400" spc="-1" strike="noStrike">
                <a:solidFill>
                  <a:srgbClr val="000000"/>
                </a:solidFill>
                <a:latin typeface="Calibri"/>
              </a:rPr>
              <a:t>二泉映月</a:t>
            </a:r>
            <a:r>
              <a:rPr b="1" lang="en-US" sz="2400" spc="-1" strike="noStrike">
                <a:solidFill>
                  <a:srgbClr val="000000"/>
                </a:solidFill>
                <a:latin typeface="Calibri"/>
              </a:rPr>
              <a:t>》</a:t>
            </a:r>
            <a:r>
              <a:rPr b="1" lang="zh-CN" sz="2400" spc="-1" strike="noStrike">
                <a:solidFill>
                  <a:srgbClr val="000000"/>
                </a:solidFill>
                <a:latin typeface="Calibri"/>
              </a:rPr>
              <a:t>的诞生。</a:t>
            </a:r>
            <a:endParaRPr b="0" lang="en-US" sz="2400" spc="-1" strike="noStrike">
              <a:solidFill>
                <a:srgbClr val="000000"/>
              </a:solidFill>
              <a:latin typeface="Calibri"/>
            </a:endParaRPr>
          </a:p>
        </p:txBody>
      </p:sp>
      <p:pic>
        <p:nvPicPr>
          <p:cNvPr id="381" name="Picture 2" descr="C:\Users\Administrator\Desktop\3333\初读感知.png"/>
          <p:cNvPicPr/>
          <p:nvPr/>
        </p:nvPicPr>
        <p:blipFill>
          <a:blip r:embed="rId1"/>
          <a:stretch/>
        </p:blipFill>
        <p:spPr>
          <a:xfrm>
            <a:off x="3467160" y="306360"/>
            <a:ext cx="2473200" cy="64764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68" dur="indefinite" restart="never" nodeType="tmRoot">
          <p:childTnLst>
            <p:seq>
              <p:cTn id="1169" dur="indefinite" nodeType="mainSeq">
                <p:childTnLst>
                  <p:par>
                    <p:cTn id="1170" nodeType="clickEffect" fill="hold">
                      <p:stCondLst>
                        <p:cond delay="indefinite"/>
                      </p:stCondLst>
                      <p:childTnLst>
                        <p:par>
                          <p:cTn id="1171" nodeType="withEffect" fill="hold">
                            <p:stCondLst>
                              <p:cond delay="0"/>
                            </p:stCondLst>
                            <p:childTnLst>
                              <p:par>
                                <p:cTn id="1172" nodeType="clickEffect" fill="hold" presetClass="entr" presetID="22" presetSubtype="8">
                                  <p:stCondLst>
                                    <p:cond delay="0"/>
                                  </p:stCondLst>
                                  <p:childTnLst>
                                    <p:set>
                                      <p:cBhvr>
                                        <p:cTn id="1173"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74" dur="500"/>
                                        <p:tgtEl>
                                          <p:spTgt spid="380">
                                            <p:txEl>
                                              <p:pRg st="0" end="0"/>
                                            </p:txEl>
                                          </p:spTgt>
                                        </p:tgtEl>
                                      </p:cBhvr>
                                    </p:animEffect>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22" presetSubtype="8">
                                  <p:stCondLst>
                                    <p:cond delay="0"/>
                                  </p:stCondLst>
                                  <p:childTnLst>
                                    <p:set>
                                      <p:cBhvr>
                                        <p:cTn id="1178" dur="1" fill="hold">
                                          <p:stCondLst>
                                            <p:cond delay="0"/>
                                          </p:stCondLst>
                                        </p:cTn>
                                        <p:tgtEl>
                                          <p:spTgt spid="380">
                                            <p:txEl>
                                              <p:pRg st="1" end="1"/>
                                            </p:txEl>
                                          </p:spTgt>
                                        </p:tgtEl>
                                        <p:attrNameLst>
                                          <p:attrName>style.visibility</p:attrName>
                                        </p:attrNameLst>
                                      </p:cBhvr>
                                      <p:to>
                                        <p:strVal val="visible"/>
                                      </p:to>
                                    </p:set>
                                    <p:animEffect filter="wipe(left)" transition="in">
                                      <p:cBhvr additive="repl">
                                        <p:cTn id="1179" dur="500"/>
                                        <p:tgtEl>
                                          <p:spTgt spid="380">
                                            <p:txEl>
                                              <p:pRg st="1" end="1"/>
                                            </p:txEl>
                                          </p:spTgt>
                                        </p:tgtEl>
                                      </p:cBhvr>
                                    </p:animEffect>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2" presetSubtype="8">
                                  <p:stCondLst>
                                    <p:cond delay="0"/>
                                  </p:stCondLst>
                                  <p:childTnLst>
                                    <p:set>
                                      <p:cBhvr>
                                        <p:cTn id="1183" dur="1" fill="hold">
                                          <p:stCondLst>
                                            <p:cond delay="0"/>
                                          </p:stCondLst>
                                        </p:cTn>
                                        <p:tgtEl>
                                          <p:spTgt spid="380">
                                            <p:txEl>
                                              <p:pRg st="2" end="2"/>
                                            </p:txEl>
                                          </p:spTgt>
                                        </p:tgtEl>
                                        <p:attrNameLst>
                                          <p:attrName>style.visibility</p:attrName>
                                        </p:attrNameLst>
                                      </p:cBhvr>
                                      <p:to>
                                        <p:strVal val="visible"/>
                                      </p:to>
                                    </p:set>
                                    <p:animEffect filter="wipe(left)" transition="in">
                                      <p:cBhvr additive="repl">
                                        <p:cTn id="118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矩形 5"/>
          <p:cNvSpPr/>
          <p:nvPr/>
        </p:nvSpPr>
        <p:spPr>
          <a:xfrm>
            <a:off x="797040" y="1666800"/>
            <a:ext cx="73119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3200" spc="-1" strike="noStrike">
                <a:solidFill>
                  <a:srgbClr val="000000"/>
                </a:solidFill>
                <a:latin typeface="黑体"/>
                <a:ea typeface="黑体"/>
              </a:rPr>
              <a:t>说一说</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泉映月</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的诞生过程。</a:t>
            </a:r>
            <a:endParaRPr b="0" lang="en-US" sz="3200" spc="-1" strike="noStrike">
              <a:solidFill>
                <a:srgbClr val="000000"/>
              </a:solidFill>
              <a:latin typeface="Calibri"/>
            </a:endParaRPr>
          </a:p>
        </p:txBody>
      </p:sp>
      <p:sp>
        <p:nvSpPr>
          <p:cNvPr id="383" name="TextBox 1"/>
          <p:cNvSpPr/>
          <p:nvPr/>
        </p:nvSpPr>
        <p:spPr>
          <a:xfrm>
            <a:off x="1100160" y="2465280"/>
            <a:ext cx="7094520" cy="2013120"/>
          </a:xfrm>
          <a:prstGeom prst="rect">
            <a:avLst/>
          </a:prstGeom>
          <a:noFill/>
          <a:ln w="0">
            <a:noFill/>
          </a:ln>
        </p:spPr>
        <p:style>
          <a:lnRef idx="0"/>
          <a:fillRef idx="0"/>
          <a:effectRef idx="0"/>
          <a:fontRef idx="minor"/>
        </p:style>
        <p:txBody>
          <a:bodyPr lIns="90000" rIns="90000" tIns="46800" bIns="46800" anchor="t">
            <a:spAutoFit/>
          </a:bodyPr>
          <a:p>
            <a:pPr marL="712800" indent="-712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a:t>
            </a:r>
            <a:r>
              <a:rPr b="1" lang="zh-CN" sz="2800" spc="-1" strike="noStrike">
                <a:solidFill>
                  <a:srgbClr val="0070c0"/>
                </a:solidFill>
                <a:latin typeface="楷体"/>
                <a:ea typeface="楷体"/>
              </a:rPr>
              <a:t>“二泉”</a:t>
            </a:r>
            <a:r>
              <a:rPr b="1" lang="zh-CN" sz="2800" spc="-1" strike="noStrike">
                <a:solidFill>
                  <a:srgbClr val="000000"/>
                </a:solidFill>
                <a:latin typeface="楷体"/>
                <a:ea typeface="楷体"/>
              </a:rPr>
              <a:t>和周围的各种自然声响都带给了阿炳极大的乐趣，</a:t>
            </a:r>
            <a:r>
              <a:rPr b="1" lang="zh-CN" sz="2800" spc="-1" strike="noStrike">
                <a:solidFill>
                  <a:srgbClr val="0070c0"/>
                </a:solidFill>
                <a:latin typeface="楷体"/>
                <a:ea typeface="楷体"/>
              </a:rPr>
              <a:t>大自然的声音</a:t>
            </a:r>
            <a:r>
              <a:rPr b="1" lang="zh-CN" sz="2800" spc="-1" strike="noStrike">
                <a:solidFill>
                  <a:srgbClr val="000000"/>
                </a:solidFill>
                <a:latin typeface="楷体"/>
                <a:ea typeface="楷体"/>
              </a:rPr>
              <a:t>给了阿炳无限灵感。</a:t>
            </a:r>
            <a:endParaRPr b="0" lang="en-US" sz="2800" spc="-1" strike="noStrike">
              <a:solidFill>
                <a:srgbClr val="000000"/>
              </a:solidFill>
              <a:latin typeface="Calibri"/>
            </a:endParaRPr>
          </a:p>
          <a:p>
            <a:pPr marL="712800" indent="-71280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a:t>
            </a:r>
            <a:r>
              <a:rPr b="1" lang="zh-CN" sz="2800" spc="-1" strike="noStrike">
                <a:solidFill>
                  <a:srgbClr val="0070c0"/>
                </a:solidFill>
                <a:latin typeface="楷体"/>
                <a:ea typeface="楷体"/>
              </a:rPr>
              <a:t>生活的苦难</a:t>
            </a:r>
            <a:r>
              <a:rPr b="1" lang="zh-CN" sz="2800" spc="-1" strike="noStrike">
                <a:solidFill>
                  <a:srgbClr val="000000"/>
                </a:solidFill>
                <a:latin typeface="楷体"/>
                <a:ea typeface="楷体"/>
              </a:rPr>
              <a:t>让阿炳的二胡变得激越、悲愤、苍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二泉映月</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诞生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14" presetSubtype="10">
                                  <p:stCondLst>
                                    <p:cond delay="0"/>
                                  </p:stCondLst>
                                  <p:childTnLst>
                                    <p:set>
                                      <p:cBhvr>
                                        <p:cTn id="1190" dur="1" fill="hold">
                                          <p:stCondLst>
                                            <p:cond delay="0"/>
                                          </p:stCondLst>
                                        </p:cTn>
                                        <p:tgtEl>
                                          <p:spTgt spid="383"/>
                                        </p:tgtEl>
                                        <p:attrNameLst>
                                          <p:attrName>style.visibility</p:attrName>
                                        </p:attrNameLst>
                                      </p:cBhvr>
                                      <p:to>
                                        <p:strVal val="visible"/>
                                      </p:to>
                                    </p:set>
                                    <p:animEffect filter="randombar(horizontal)" transition="in">
                                      <p:cBhvr additive="repl">
                                        <p:cTn id="1191"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组合 2"/>
          <p:cNvGrpSpPr/>
          <p:nvPr/>
        </p:nvGrpSpPr>
        <p:grpSpPr>
          <a:xfrm>
            <a:off x="4784760" y="1908000"/>
            <a:ext cx="3645000" cy="3502080"/>
            <a:chOff x="4784760" y="1908000"/>
            <a:chExt cx="3645000" cy="3502080"/>
          </a:xfrm>
        </p:grpSpPr>
        <p:sp>
          <p:nvSpPr>
            <p:cNvPr id="385" name="云形标注 4"/>
            <p:cNvSpPr/>
            <p:nvPr/>
          </p:nvSpPr>
          <p:spPr>
            <a:xfrm>
              <a:off x="4784760" y="1908000"/>
              <a:ext cx="3645000" cy="2544840"/>
            </a:xfrm>
            <a:prstGeom prst="cloudCallout">
              <a:avLst>
                <a:gd name="adj1" fmla="val 24824"/>
                <a:gd name="adj2" fmla="val 55953"/>
              </a:avLst>
            </a:prstGeom>
            <a:solidFill>
              <a:srgbClr val="ffffff"/>
            </a:solidFill>
            <a:ln w="25560">
              <a:solidFill>
                <a:srgbClr val="632523"/>
              </a:solidFill>
              <a:miter/>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阿炳的音乐灵感来自哪里？</a:t>
              </a:r>
              <a:endParaRPr b="0" lang="en-US" sz="2400" spc="-1" strike="noStrike">
                <a:solidFill>
                  <a:srgbClr val="000000"/>
                </a:solidFill>
                <a:latin typeface="Calibri"/>
              </a:endParaRPr>
            </a:p>
          </p:txBody>
        </p:sp>
        <p:pic>
          <p:nvPicPr>
            <p:cNvPr id="386" name="Picture 5" descr="https://timgsa.baidu.com/timg?image&amp;quality=80&amp;size=b9999_10000&amp;sec=1492580636370&amp;di=bdc3dce87615abae23f895891dfd0168&amp;imgtype=0&amp;src=http%3A%2F%2Fwww.qqtu8.com%2Ff%2F20141014215328.gif"/>
            <p:cNvPicPr/>
            <p:nvPr/>
          </p:nvPicPr>
          <p:blipFill>
            <a:blip r:embed="rId1"/>
            <a:stretch/>
          </p:blipFill>
          <p:spPr>
            <a:xfrm>
              <a:off x="7472520" y="4552920"/>
              <a:ext cx="773640" cy="857160"/>
            </a:xfrm>
            <a:prstGeom prst="rect">
              <a:avLst/>
            </a:prstGeom>
            <a:ln w="0">
              <a:noFill/>
            </a:ln>
          </p:spPr>
        </p:pic>
      </p:grpSp>
      <p:sp>
        <p:nvSpPr>
          <p:cNvPr id="387" name="TextBox 7"/>
          <p:cNvSpPr/>
          <p:nvPr/>
        </p:nvSpPr>
        <p:spPr>
          <a:xfrm>
            <a:off x="685800" y="2022480"/>
            <a:ext cx="39304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阿炳演奏的许多二胡曲都是自己编的，他的音乐灵感来自于多年来对心灵的陶冶。在他的乐曲中，有他的生活经历和对生活的深刻感受，还有他的梦想和情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2">
                                  <p:stCondLst>
                                    <p:cond delay="0"/>
                                  </p:stCondLst>
                                  <p:childTnLst>
                                    <p:set>
                                      <p:cBhvr>
                                        <p:cTn id="1197" dur="1" fill="hold">
                                          <p:stCondLst>
                                            <p:cond delay="0"/>
                                          </p:stCondLst>
                                        </p:cTn>
                                        <p:tgtEl>
                                          <p:spTgt spid="384"/>
                                        </p:tgtEl>
                                        <p:attrNameLst>
                                          <p:attrName>style.visibility</p:attrName>
                                        </p:attrNameLst>
                                      </p:cBhvr>
                                      <p:to>
                                        <p:strVal val="visible"/>
                                      </p:to>
                                    </p:set>
                                    <p:anim calcmode="lin" valueType="num">
                                      <p:cBhvr additive="base">
                                        <p:cTn id="1198" dur="500" fill="hold"/>
                                        <p:tgtEl>
                                          <p:spTgt spid="384"/>
                                        </p:tgtEl>
                                        <p:attrNameLst>
                                          <p:attrName>ppt_x</p:attrName>
                                        </p:attrNameLst>
                                      </p:cBhvr>
                                      <p:tavLst>
                                        <p:tav tm="0">
                                          <p:val>
                                            <p:strVal val="1+#ppt_w/2"/>
                                          </p:val>
                                        </p:tav>
                                        <p:tav tm="100000">
                                          <p:val>
                                            <p:strVal val="#ppt_x"/>
                                          </p:val>
                                        </p:tav>
                                      </p:tavLst>
                                    </p:anim>
                                    <p:anim calcmode="lin" valueType="num">
                                      <p:cBhvr additive="base">
                                        <p:cTn id="1199" dur="5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7">
                                            <p:txEl>
                                              <p:pRg st="0" end="0"/>
                                            </p:txEl>
                                          </p:spTgt>
                                        </p:tgtEl>
                                        <p:attrNameLst>
                                          <p:attrName>style.visibility</p:attrName>
                                        </p:attrNameLst>
                                      </p:cBhvr>
                                      <p:to>
                                        <p:strVal val="visible"/>
                                      </p:to>
                                    </p:set>
                                    <p:animEffect filter="wipe(left)" transition="in">
                                      <p:cBhvr additive="repl">
                                        <p:cTn id="1204" dur="500"/>
                                        <p:tgtEl>
                                          <p:spTgt spid="3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图示 7" descr=""/>
          <p:cNvPicPr/>
          <p:nvPr/>
        </p:nvPicPr>
        <p:blipFill>
          <a:blip r:embed="rId1"/>
          <a:stretch/>
        </p:blipFill>
        <p:spPr>
          <a:xfrm>
            <a:off x="878040" y="1090440"/>
            <a:ext cx="3090600" cy="1470240"/>
          </a:xfrm>
          <a:prstGeom prst="rect">
            <a:avLst/>
          </a:prstGeom>
          <a:ln w="0">
            <a:noFill/>
          </a:ln>
        </p:spPr>
      </p:pic>
      <p:sp>
        <p:nvSpPr>
          <p:cNvPr id="389" name="矩形 11"/>
          <p:cNvSpPr/>
          <p:nvPr/>
        </p:nvSpPr>
        <p:spPr>
          <a:xfrm>
            <a:off x="743040" y="2363760"/>
            <a:ext cx="7754760" cy="733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800" spc="-1" strike="noStrike">
                <a:solidFill>
                  <a:srgbClr val="000000"/>
                </a:solidFill>
                <a:latin typeface="黑体"/>
                <a:ea typeface="黑体"/>
              </a:rPr>
              <a:t>初读课文，说一说课文的主要内容？</a:t>
            </a:r>
            <a:endParaRPr b="0" lang="en-US" sz="2800" spc="-1" strike="noStrike">
              <a:solidFill>
                <a:srgbClr val="000000"/>
              </a:solidFill>
              <a:latin typeface="Calibri"/>
            </a:endParaRPr>
          </a:p>
        </p:txBody>
      </p:sp>
      <p:sp>
        <p:nvSpPr>
          <p:cNvPr id="390" name="矩形 11"/>
          <p:cNvSpPr/>
          <p:nvPr/>
        </p:nvSpPr>
        <p:spPr>
          <a:xfrm>
            <a:off x="1117440" y="3046320"/>
            <a:ext cx="7380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    </a:t>
            </a:r>
            <a:r>
              <a:rPr b="1" lang="zh-CN" sz="2800" spc="-1" strike="noStrike">
                <a:solidFill>
                  <a:srgbClr val="000000"/>
                </a:solidFill>
                <a:latin typeface="宋体"/>
              </a:rPr>
              <a:t>民间音乐家阿炳从小喜爱大自然的音乐，苦练二胡，成了当地著名的琴师。他因拒绝为富豪岳母祝寿被打伤，伤好后创作了著名的</a:t>
            </a:r>
            <a:r>
              <a:rPr b="1" lang="en-US" sz="2800" spc="-1" strike="noStrike">
                <a:solidFill>
                  <a:srgbClr val="000000"/>
                </a:solidFill>
                <a:latin typeface="宋体"/>
              </a:rPr>
              <a:t>《</a:t>
            </a:r>
            <a:r>
              <a:rPr b="1" lang="zh-CN" sz="2800" spc="-1" strike="noStrike">
                <a:solidFill>
                  <a:srgbClr val="000000"/>
                </a:solidFill>
                <a:latin typeface="宋体"/>
              </a:rPr>
              <a:t>二泉映月</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nodeType="clickEffect" fill="hold">
                      <p:stCondLst>
                        <p:cond delay="indefinite"/>
                      </p:stCondLst>
                      <p:childTnLst>
                        <p:par>
                          <p:cTn id="1208" nodeType="withEffect" fill="hold">
                            <p:stCondLst>
                              <p:cond delay="0"/>
                            </p:stCondLst>
                            <p:childTnLst>
                              <p:par>
                                <p:cTn id="1209" nodeType="clickEffect" fill="hold" presetClass="entr" presetID="53" presetSubtype="16">
                                  <p:stCondLst>
                                    <p:cond delay="0"/>
                                  </p:stCondLst>
                                  <p:childTnLst>
                                    <p:set>
                                      <p:cBhvr>
                                        <p:cTn id="1210" dur="1" fill="hold">
                                          <p:stCondLst>
                                            <p:cond delay="0"/>
                                          </p:stCondLst>
                                        </p:cTn>
                                        <p:tgtEl>
                                          <p:spTgt spid="390"/>
                                        </p:tgtEl>
                                        <p:attrNameLst>
                                          <p:attrName>style.visibility</p:attrName>
                                        </p:attrNameLst>
                                      </p:cBhvr>
                                      <p:to>
                                        <p:strVal val="visible"/>
                                      </p:to>
                                    </p:set>
                                    <p:anim calcmode="lin" valueType="num">
                                      <p:cBhvr additive="repl">
                                        <p:cTn id="1211" dur="500" fill="hold"/>
                                        <p:tgtEl>
                                          <p:spTgt spid="390"/>
                                        </p:tgtEl>
                                        <p:attrNameLst>
                                          <p:attrName>ppt_w</p:attrName>
                                        </p:attrNameLst>
                                      </p:cBhvr>
                                      <p:tavLst>
                                        <p:tav tm="0">
                                          <p:val>
                                            <p:fltVal val="0"/>
                                          </p:val>
                                        </p:tav>
                                        <p:tav tm="100000">
                                          <p:val>
                                            <p:strVal val="#ppt_w"/>
                                          </p:val>
                                        </p:tav>
                                      </p:tavLst>
                                    </p:anim>
                                    <p:anim calcmode="lin" valueType="num">
                                      <p:cBhvr additive="repl">
                                        <p:cTn id="1212" dur="500" fill="hold"/>
                                        <p:tgtEl>
                                          <p:spTgt spid="390"/>
                                        </p:tgtEl>
                                        <p:attrNameLst>
                                          <p:attrName>ppt_h</p:attrName>
                                        </p:attrNameLst>
                                      </p:cBhvr>
                                      <p:tavLst>
                                        <p:tav tm="0">
                                          <p:val>
                                            <p:fltVal val="0"/>
                                          </p:val>
                                        </p:tav>
                                        <p:tav tm="100000">
                                          <p:val>
                                            <p:strVal val="#ppt_h"/>
                                          </p:val>
                                        </p:tav>
                                      </p:tavLst>
                                    </p:anim>
                                    <p:animEffect filter="fade" transition="in">
                                      <p:cBhvr additive="repl">
                                        <p:cTn id="1213"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
        <p:nvSpPr>
          <p:cNvPr id="392" name="矩形 13"/>
          <p:cNvSpPr/>
          <p:nvPr/>
        </p:nvSpPr>
        <p:spPr>
          <a:xfrm>
            <a:off x="1662120" y="2570040"/>
            <a:ext cx="68547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给下面的多音字注音并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_______</a:t>
            </a:r>
            <a:r>
              <a:rPr b="1" lang="zh-CN" sz="2400" spc="-1" strike="noStrike">
                <a:solidFill>
                  <a:srgbClr val="000000"/>
                </a:solidFill>
                <a:latin typeface="宋体"/>
              </a:rPr>
              <a:t>　      （　　　）</a:t>
            </a:r>
            <a:r>
              <a:rPr b="1" lang="en-US" sz="2400" spc="-1" strike="noStrike">
                <a:solidFill>
                  <a:srgbClr val="000000"/>
                </a:solidFill>
                <a:latin typeface="宋体"/>
              </a:rPr>
              <a:t>_______ </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en-US" sz="2400" spc="-1" strike="noStrike">
                <a:solidFill>
                  <a:srgbClr val="000000"/>
                </a:solidFill>
                <a:latin typeface="宋体"/>
              </a:rPr>
              <a:t>_______</a:t>
            </a:r>
            <a:r>
              <a:rPr b="1" lang="zh-CN" sz="2400" spc="-1" strike="noStrike">
                <a:solidFill>
                  <a:srgbClr val="000000"/>
                </a:solidFill>
                <a:latin typeface="宋体"/>
              </a:rPr>
              <a:t>　　    （　　　）</a:t>
            </a:r>
            <a:r>
              <a:rPr b="1" lang="en-US" sz="2400" spc="-1" strike="noStrike">
                <a:solidFill>
                  <a:srgbClr val="000000"/>
                </a:solidFill>
                <a:latin typeface="宋体"/>
              </a:rPr>
              <a:t>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393" name="矩形 1"/>
          <p:cNvSpPr/>
          <p:nvPr/>
        </p:nvSpPr>
        <p:spPr>
          <a:xfrm>
            <a:off x="5021280" y="35654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磨</a:t>
            </a:r>
            <a:endParaRPr b="0" lang="en-US" sz="2400" spc="-1" strike="noStrike">
              <a:solidFill>
                <a:srgbClr val="000000"/>
              </a:solidFill>
              <a:latin typeface="Calibri"/>
            </a:endParaRPr>
          </a:p>
        </p:txBody>
      </p:sp>
      <p:sp>
        <p:nvSpPr>
          <p:cNvPr id="394" name="矩形 3"/>
          <p:cNvSpPr/>
          <p:nvPr/>
        </p:nvSpPr>
        <p:spPr>
          <a:xfrm>
            <a:off x="1274040" y="3551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乐</a:t>
            </a:r>
            <a:endParaRPr b="0" lang="en-US" sz="2400" spc="-1" strike="noStrike">
              <a:solidFill>
                <a:srgbClr val="000000"/>
              </a:solidFill>
              <a:latin typeface="Calibri"/>
            </a:endParaRPr>
          </a:p>
        </p:txBody>
      </p:sp>
      <p:sp>
        <p:nvSpPr>
          <p:cNvPr id="395" name="左大括号 16"/>
          <p:cNvSpPr/>
          <p:nvPr/>
        </p:nvSpPr>
        <p:spPr>
          <a:xfrm>
            <a:off x="1662120" y="3409920"/>
            <a:ext cx="154080" cy="792360"/>
          </a:xfrm>
          <a:custGeom>
            <a:avLst/>
            <a:gdLst>
              <a:gd name="textAreaLeft" fmla="*/ 98640 w 154080"/>
              <a:gd name="textAreaRight" fmla="*/ 154440 w 154080"/>
              <a:gd name="textAreaTop" fmla="*/ 3960 h 792360"/>
              <a:gd name="textAreaBottom" fmla="*/ 788400 h 792360"/>
            </a:gdLst>
            <a:ahLst/>
            <a:rect l="textAreaLeft" t="textAreaTop" r="textAreaRight" b="textAreaBottom"/>
            <a:pathLst>
              <a:path w="21600" h="21600">
                <a:moveTo>
                  <a:pt x="21600" y="0"/>
                </a:moveTo>
                <a:cubicBezTo>
                  <a:pt x="16200" y="0"/>
                  <a:pt x="10800" y="175"/>
                  <a:pt x="10800" y="350"/>
                </a:cubicBezTo>
                <a:lnTo>
                  <a:pt x="10800" y="10450"/>
                </a:lnTo>
                <a:cubicBezTo>
                  <a:pt x="10800" y="10625"/>
                  <a:pt x="5400" y="10800"/>
                  <a:pt x="0" y="10800"/>
                </a:cubicBezTo>
                <a:cubicBezTo>
                  <a:pt x="5400" y="10800"/>
                  <a:pt x="10800" y="10975"/>
                  <a:pt x="10800" y="11150"/>
                </a:cubicBezTo>
                <a:lnTo>
                  <a:pt x="10800" y="21250"/>
                </a:lnTo>
                <a:cubicBezTo>
                  <a:pt x="10800" y="21425"/>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6" name="左大括号 17"/>
          <p:cNvSpPr/>
          <p:nvPr/>
        </p:nvSpPr>
        <p:spPr>
          <a:xfrm>
            <a:off x="5460840" y="3409920"/>
            <a:ext cx="154080" cy="792360"/>
          </a:xfrm>
          <a:custGeom>
            <a:avLst/>
            <a:gdLst>
              <a:gd name="textAreaLeft" fmla="*/ 98640 w 154080"/>
              <a:gd name="textAreaRight" fmla="*/ 154440 w 154080"/>
              <a:gd name="textAreaTop" fmla="*/ 3960 h 792360"/>
              <a:gd name="textAreaBottom" fmla="*/ 788400 h 792360"/>
            </a:gdLst>
            <a:ahLst/>
            <a:rect l="textAreaLeft" t="textAreaTop" r="textAreaRight" b="textAreaBottom"/>
            <a:pathLst>
              <a:path w="21600" h="21600">
                <a:moveTo>
                  <a:pt x="21600" y="0"/>
                </a:moveTo>
                <a:cubicBezTo>
                  <a:pt x="16200" y="0"/>
                  <a:pt x="10800" y="175"/>
                  <a:pt x="10800" y="350"/>
                </a:cubicBezTo>
                <a:lnTo>
                  <a:pt x="10800" y="10450"/>
                </a:lnTo>
                <a:cubicBezTo>
                  <a:pt x="10800" y="10625"/>
                  <a:pt x="5400" y="10800"/>
                  <a:pt x="0" y="10800"/>
                </a:cubicBezTo>
                <a:cubicBezTo>
                  <a:pt x="5400" y="10800"/>
                  <a:pt x="10800" y="10975"/>
                  <a:pt x="10800" y="11150"/>
                </a:cubicBezTo>
                <a:lnTo>
                  <a:pt x="10800" y="21250"/>
                </a:lnTo>
                <a:cubicBezTo>
                  <a:pt x="10800" y="21425"/>
                  <a:pt x="16200" y="21600"/>
                  <a:pt x="21600" y="21600"/>
                </a:cubicBezTo>
              </a:path>
            </a:pathLst>
          </a:custGeom>
          <a:no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7" name="矩形 21"/>
          <p:cNvSpPr/>
          <p:nvPr/>
        </p:nvSpPr>
        <p:spPr>
          <a:xfrm>
            <a:off x="7238880" y="3848040"/>
            <a:ext cx="824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石磨　　　　</a:t>
            </a:r>
            <a:endParaRPr b="0" lang="en-US" sz="2400" spc="-1" strike="noStrike">
              <a:solidFill>
                <a:srgbClr val="000000"/>
              </a:solidFill>
              <a:latin typeface="Calibri"/>
            </a:endParaRPr>
          </a:p>
        </p:txBody>
      </p:sp>
      <p:sp>
        <p:nvSpPr>
          <p:cNvPr id="398" name="矩形 22"/>
          <p:cNvSpPr/>
          <p:nvPr/>
        </p:nvSpPr>
        <p:spPr>
          <a:xfrm>
            <a:off x="2129760" y="3260880"/>
            <a:ext cx="83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lè</a:t>
            </a:r>
            <a:r>
              <a:rPr b="1" lang="zh-CN" sz="2400" spc="-1" strike="noStrike">
                <a:solidFill>
                  <a:srgbClr val="ff0000"/>
                </a:solidFill>
                <a:latin typeface="方正姚体"/>
                <a:ea typeface="方正姚体"/>
              </a:rPr>
              <a:t>　</a:t>
            </a:r>
            <a:endParaRPr b="0" lang="en-US" sz="2400" spc="-1" strike="noStrike">
              <a:solidFill>
                <a:srgbClr val="000000"/>
              </a:solidFill>
              <a:latin typeface="Calibri"/>
            </a:endParaRPr>
          </a:p>
        </p:txBody>
      </p:sp>
      <p:sp>
        <p:nvSpPr>
          <p:cNvPr id="399" name="矩形 23"/>
          <p:cNvSpPr/>
          <p:nvPr/>
        </p:nvSpPr>
        <p:spPr>
          <a:xfrm>
            <a:off x="3525480" y="3298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快乐</a:t>
            </a:r>
            <a:endParaRPr b="0" lang="en-US" sz="2400" spc="-1" strike="noStrike">
              <a:solidFill>
                <a:srgbClr val="000000"/>
              </a:solidFill>
              <a:latin typeface="Calibri"/>
            </a:endParaRPr>
          </a:p>
        </p:txBody>
      </p:sp>
      <p:sp>
        <p:nvSpPr>
          <p:cNvPr id="400" name="矩形 24"/>
          <p:cNvSpPr/>
          <p:nvPr/>
        </p:nvSpPr>
        <p:spPr>
          <a:xfrm>
            <a:off x="2074680" y="3828960"/>
            <a:ext cx="7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yuè</a:t>
            </a:r>
            <a:endParaRPr b="0" lang="en-US" sz="2400" spc="-1" strike="noStrike">
              <a:solidFill>
                <a:srgbClr val="000000"/>
              </a:solidFill>
              <a:latin typeface="Calibri"/>
            </a:endParaRPr>
          </a:p>
        </p:txBody>
      </p:sp>
      <p:sp>
        <p:nvSpPr>
          <p:cNvPr id="401" name="矩形 25"/>
          <p:cNvSpPr/>
          <p:nvPr/>
        </p:nvSpPr>
        <p:spPr>
          <a:xfrm>
            <a:off x="3525480" y="3848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音乐</a:t>
            </a:r>
            <a:endParaRPr b="0" lang="en-US" sz="2400" spc="-1" strike="noStrike">
              <a:solidFill>
                <a:srgbClr val="000000"/>
              </a:solidFill>
              <a:latin typeface="Calibri"/>
            </a:endParaRPr>
          </a:p>
        </p:txBody>
      </p:sp>
      <p:sp>
        <p:nvSpPr>
          <p:cNvPr id="402" name="矩形 26"/>
          <p:cNvSpPr/>
          <p:nvPr/>
        </p:nvSpPr>
        <p:spPr>
          <a:xfrm>
            <a:off x="5996880" y="324972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mó</a:t>
            </a:r>
            <a:endParaRPr b="0" lang="en-US" sz="2400" spc="-1" strike="noStrike">
              <a:solidFill>
                <a:srgbClr val="000000"/>
              </a:solidFill>
              <a:latin typeface="Calibri"/>
            </a:endParaRPr>
          </a:p>
        </p:txBody>
      </p:sp>
      <p:sp>
        <p:nvSpPr>
          <p:cNvPr id="403" name="矩形 27"/>
          <p:cNvSpPr/>
          <p:nvPr/>
        </p:nvSpPr>
        <p:spPr>
          <a:xfrm>
            <a:off x="7353000" y="32972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磨难</a:t>
            </a:r>
            <a:endParaRPr b="0" lang="en-US" sz="2400" spc="-1" strike="noStrike">
              <a:solidFill>
                <a:srgbClr val="000000"/>
              </a:solidFill>
              <a:latin typeface="Calibri"/>
            </a:endParaRPr>
          </a:p>
        </p:txBody>
      </p:sp>
      <p:sp>
        <p:nvSpPr>
          <p:cNvPr id="404" name="矩形 28"/>
          <p:cNvSpPr/>
          <p:nvPr/>
        </p:nvSpPr>
        <p:spPr>
          <a:xfrm>
            <a:off x="6008040" y="3848040"/>
            <a:ext cx="66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方正姚体"/>
                <a:ea typeface="方正姚体"/>
              </a:rPr>
              <a:t>mò</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398"/>
                                        </p:tgtEl>
                                        <p:attrNameLst>
                                          <p:attrName>style.visibility</p:attrName>
                                        </p:attrNameLst>
                                      </p:cBhvr>
                                      <p:to>
                                        <p:strVal val="visible"/>
                                      </p:to>
                                    </p:set>
                                    <p:animEffect filter="wipe(left)" transition="in">
                                      <p:cBhvr additive="repl">
                                        <p:cTn id="1220" dur="500"/>
                                        <p:tgtEl>
                                          <p:spTgt spid="398"/>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399"/>
                                        </p:tgtEl>
                                        <p:attrNameLst>
                                          <p:attrName>style.visibility</p:attrName>
                                        </p:attrNameLst>
                                      </p:cBhvr>
                                      <p:to>
                                        <p:strVal val="visible"/>
                                      </p:to>
                                    </p:set>
                                    <p:animEffect filter="wipe(left)" transition="in">
                                      <p:cBhvr additive="repl">
                                        <p:cTn id="1225" dur="500"/>
                                        <p:tgtEl>
                                          <p:spTgt spid="399"/>
                                        </p:tgtEl>
                                      </p:cBhvr>
                                    </p:animEffect>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2" presetSubtype="8">
                                  <p:stCondLst>
                                    <p:cond delay="0"/>
                                  </p:stCondLst>
                                  <p:childTnLst>
                                    <p:set>
                                      <p:cBhvr>
                                        <p:cTn id="1229" dur="1" fill="hold">
                                          <p:stCondLst>
                                            <p:cond delay="0"/>
                                          </p:stCondLst>
                                        </p:cTn>
                                        <p:tgtEl>
                                          <p:spTgt spid="400"/>
                                        </p:tgtEl>
                                        <p:attrNameLst>
                                          <p:attrName>style.visibility</p:attrName>
                                        </p:attrNameLst>
                                      </p:cBhvr>
                                      <p:to>
                                        <p:strVal val="visible"/>
                                      </p:to>
                                    </p:set>
                                    <p:animEffect filter="wipe(left)" transition="in">
                                      <p:cBhvr additive="repl">
                                        <p:cTn id="1230" dur="500"/>
                                        <p:tgtEl>
                                          <p:spTgt spid="400"/>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401"/>
                                        </p:tgtEl>
                                        <p:attrNameLst>
                                          <p:attrName>style.visibility</p:attrName>
                                        </p:attrNameLst>
                                      </p:cBhvr>
                                      <p:to>
                                        <p:strVal val="visible"/>
                                      </p:to>
                                    </p:set>
                                    <p:animEffect filter="wipe(left)" transition="in">
                                      <p:cBhvr additive="repl">
                                        <p:cTn id="1235" dur="500"/>
                                        <p:tgtEl>
                                          <p:spTgt spid="401"/>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2" presetSubtype="8">
                                  <p:stCondLst>
                                    <p:cond delay="0"/>
                                  </p:stCondLst>
                                  <p:childTnLst>
                                    <p:set>
                                      <p:cBhvr>
                                        <p:cTn id="1239" dur="1" fill="hold">
                                          <p:stCondLst>
                                            <p:cond delay="0"/>
                                          </p:stCondLst>
                                        </p:cTn>
                                        <p:tgtEl>
                                          <p:spTgt spid="402"/>
                                        </p:tgtEl>
                                        <p:attrNameLst>
                                          <p:attrName>style.visibility</p:attrName>
                                        </p:attrNameLst>
                                      </p:cBhvr>
                                      <p:to>
                                        <p:strVal val="visible"/>
                                      </p:to>
                                    </p:set>
                                    <p:animEffect filter="wipe(left)" transition="in">
                                      <p:cBhvr additive="repl">
                                        <p:cTn id="1240" dur="500"/>
                                        <p:tgtEl>
                                          <p:spTgt spid="402"/>
                                        </p:tgtEl>
                                      </p:cBhvr>
                                    </p:animEffec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22" presetSubtype="8">
                                  <p:stCondLst>
                                    <p:cond delay="0"/>
                                  </p:stCondLst>
                                  <p:childTnLst>
                                    <p:set>
                                      <p:cBhvr>
                                        <p:cTn id="1244" dur="1" fill="hold">
                                          <p:stCondLst>
                                            <p:cond delay="0"/>
                                          </p:stCondLst>
                                        </p:cTn>
                                        <p:tgtEl>
                                          <p:spTgt spid="403"/>
                                        </p:tgtEl>
                                        <p:attrNameLst>
                                          <p:attrName>style.visibility</p:attrName>
                                        </p:attrNameLst>
                                      </p:cBhvr>
                                      <p:to>
                                        <p:strVal val="visible"/>
                                      </p:to>
                                    </p:set>
                                    <p:animEffect filter="wipe(left)" transition="in">
                                      <p:cBhvr additive="repl">
                                        <p:cTn id="1245" dur="500"/>
                                        <p:tgtEl>
                                          <p:spTgt spid="403"/>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22" presetSubtype="8">
                                  <p:stCondLst>
                                    <p:cond delay="0"/>
                                  </p:stCondLst>
                                  <p:childTnLst>
                                    <p:set>
                                      <p:cBhvr>
                                        <p:cTn id="1249" dur="1" fill="hold">
                                          <p:stCondLst>
                                            <p:cond delay="0"/>
                                          </p:stCondLst>
                                        </p:cTn>
                                        <p:tgtEl>
                                          <p:spTgt spid="404"/>
                                        </p:tgtEl>
                                        <p:attrNameLst>
                                          <p:attrName>style.visibility</p:attrName>
                                        </p:attrNameLst>
                                      </p:cBhvr>
                                      <p:to>
                                        <p:strVal val="visible"/>
                                      </p:to>
                                    </p:set>
                                    <p:animEffect filter="wipe(left)" transition="in">
                                      <p:cBhvr additive="repl">
                                        <p:cTn id="1250" dur="500"/>
                                        <p:tgtEl>
                                          <p:spTgt spid="404"/>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22" presetSubtype="8">
                                  <p:stCondLst>
                                    <p:cond delay="0"/>
                                  </p:stCondLst>
                                  <p:childTnLst>
                                    <p:set>
                                      <p:cBhvr>
                                        <p:cTn id="1254" dur="1" fill="hold">
                                          <p:stCondLst>
                                            <p:cond delay="0"/>
                                          </p:stCondLst>
                                        </p:cTn>
                                        <p:tgtEl>
                                          <p:spTgt spid="397"/>
                                        </p:tgtEl>
                                        <p:attrNameLst>
                                          <p:attrName>style.visibility</p:attrName>
                                        </p:attrNameLst>
                                      </p:cBhvr>
                                      <p:to>
                                        <p:strVal val="visible"/>
                                      </p:to>
                                    </p:set>
                                    <p:animEffect filter="wipe(left)" transition="in">
                                      <p:cBhvr additive="repl">
                                        <p:cTn id="125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矩形 21"/>
          <p:cNvSpPr/>
          <p:nvPr/>
        </p:nvSpPr>
        <p:spPr>
          <a:xfrm>
            <a:off x="1047600" y="1519200"/>
            <a:ext cx="763272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读拼音，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方正姚体"/>
                <a:ea typeface="方正姚体"/>
              </a:rPr>
              <a:t>wú    xī           bǎo    tǎ         qīng   chè         chén   jìn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yín  yǒng       chūn  xiāo      hóng  zhǒng      huàn  bìng</a:t>
            </a:r>
            <a:r>
              <a:rPr b="1" lang="en-US" sz="2400" spc="-1" strike="noStrike">
                <a:solidFill>
                  <a:srgbClr val="000000"/>
                </a:solidFill>
                <a:latin typeface="方正姚体"/>
                <a:ea typeface="方正姚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ín  xián          mǐ  zhōu        jiān    yào         bēi     fèn</a:t>
            </a:r>
            <a:r>
              <a:rPr b="1" lang="en-US" sz="2400" spc="-1" strike="noStrike">
                <a:solidFill>
                  <a:srgbClr val="000000"/>
                </a:solidFill>
                <a:latin typeface="宋体"/>
              </a:rPr>
              <a:t>	</a:t>
            </a:r>
            <a:r>
              <a:rPr b="1" lang="en-US" sz="2400" spc="-1" strike="noStrike">
                <a:solidFill>
                  <a:srgbClr val="000000"/>
                </a:solidFill>
                <a:latin typeface="宋体"/>
              </a:rPr>
              <a:t>	</a:t>
            </a:r>
            <a:endParaRPr b="0" lang="en-US" sz="2400" spc="-1" strike="noStrike">
              <a:solidFill>
                <a:srgbClr val="000000"/>
              </a:solidFill>
              <a:latin typeface="Calibri"/>
            </a:endParaRPr>
          </a:p>
        </p:txBody>
      </p:sp>
      <p:graphicFrame>
        <p:nvGraphicFramePr>
          <p:cNvPr id="406" name=""/>
          <p:cNvGraphicFramePr/>
          <p:nvPr/>
        </p:nvGraphicFramePr>
        <p:xfrm>
          <a:off x="3008160" y="25956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07" name=""/>
          <p:cNvGraphicFramePr/>
          <p:nvPr/>
        </p:nvGraphicFramePr>
        <p:xfrm>
          <a:off x="3008160" y="3722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08" name=""/>
          <p:cNvGraphicFramePr/>
          <p:nvPr/>
        </p:nvGraphicFramePr>
        <p:xfrm>
          <a:off x="1249200" y="25956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09" name=""/>
          <p:cNvGraphicFramePr/>
          <p:nvPr/>
        </p:nvGraphicFramePr>
        <p:xfrm>
          <a:off x="1249200" y="3722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0" name="矩形 29"/>
          <p:cNvSpPr/>
          <p:nvPr/>
        </p:nvSpPr>
        <p:spPr>
          <a:xfrm>
            <a:off x="1466640" y="26384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无 锡</a:t>
            </a:r>
            <a:endParaRPr b="0" lang="en-US" sz="3600" spc="-1" strike="noStrike">
              <a:solidFill>
                <a:srgbClr val="000000"/>
              </a:solidFill>
              <a:latin typeface="Calibri"/>
            </a:endParaRPr>
          </a:p>
        </p:txBody>
      </p:sp>
      <p:sp>
        <p:nvSpPr>
          <p:cNvPr id="411" name="矩形 30"/>
          <p:cNvSpPr/>
          <p:nvPr/>
        </p:nvSpPr>
        <p:spPr>
          <a:xfrm>
            <a:off x="1466640" y="3765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吟 咏</a:t>
            </a:r>
            <a:endParaRPr b="0" lang="en-US" sz="3600" spc="-1" strike="noStrike">
              <a:solidFill>
                <a:srgbClr val="000000"/>
              </a:solidFill>
              <a:latin typeface="Calibri"/>
            </a:endParaRPr>
          </a:p>
        </p:txBody>
      </p:sp>
      <p:sp>
        <p:nvSpPr>
          <p:cNvPr id="412" name="矩形 31"/>
          <p:cNvSpPr/>
          <p:nvPr/>
        </p:nvSpPr>
        <p:spPr>
          <a:xfrm>
            <a:off x="3223800" y="2644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宝 塔</a:t>
            </a:r>
            <a:endParaRPr b="0" lang="en-US" sz="3600" spc="-1" strike="noStrike">
              <a:solidFill>
                <a:srgbClr val="000000"/>
              </a:solidFill>
              <a:latin typeface="Calibri"/>
            </a:endParaRPr>
          </a:p>
        </p:txBody>
      </p:sp>
      <p:sp>
        <p:nvSpPr>
          <p:cNvPr id="413" name="矩形 32"/>
          <p:cNvSpPr/>
          <p:nvPr/>
        </p:nvSpPr>
        <p:spPr>
          <a:xfrm>
            <a:off x="3233520" y="3749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春 宵</a:t>
            </a:r>
            <a:endParaRPr b="0" lang="en-US" sz="3600" spc="-1" strike="noStrike">
              <a:solidFill>
                <a:srgbClr val="000000"/>
              </a:solidFill>
              <a:latin typeface="Calibri"/>
            </a:endParaRPr>
          </a:p>
        </p:txBody>
      </p:sp>
      <p:graphicFrame>
        <p:nvGraphicFramePr>
          <p:cNvPr id="414" name=""/>
          <p:cNvGraphicFramePr/>
          <p:nvPr/>
        </p:nvGraphicFramePr>
        <p:xfrm>
          <a:off x="4808520" y="25923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5" name=""/>
          <p:cNvGraphicFramePr/>
          <p:nvPr/>
        </p:nvGraphicFramePr>
        <p:xfrm>
          <a:off x="4808520" y="37195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6" name="矩形 35"/>
          <p:cNvSpPr/>
          <p:nvPr/>
        </p:nvSpPr>
        <p:spPr>
          <a:xfrm>
            <a:off x="5024160" y="26416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清 澈</a:t>
            </a:r>
            <a:endParaRPr b="0" lang="en-US" sz="3600" spc="-1" strike="noStrike">
              <a:solidFill>
                <a:srgbClr val="000000"/>
              </a:solidFill>
              <a:latin typeface="Calibri"/>
            </a:endParaRPr>
          </a:p>
        </p:txBody>
      </p:sp>
      <p:sp>
        <p:nvSpPr>
          <p:cNvPr id="417" name="矩形 36"/>
          <p:cNvSpPr/>
          <p:nvPr/>
        </p:nvSpPr>
        <p:spPr>
          <a:xfrm>
            <a:off x="5033520" y="37465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红 肿</a:t>
            </a:r>
            <a:endParaRPr b="0" lang="en-US" sz="3600" spc="-1" strike="noStrike">
              <a:solidFill>
                <a:srgbClr val="000000"/>
              </a:solidFill>
              <a:latin typeface="Calibri"/>
            </a:endParaRPr>
          </a:p>
        </p:txBody>
      </p:sp>
      <p:graphicFrame>
        <p:nvGraphicFramePr>
          <p:cNvPr id="418" name=""/>
          <p:cNvGraphicFramePr/>
          <p:nvPr/>
        </p:nvGraphicFramePr>
        <p:xfrm>
          <a:off x="6595920" y="256860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9" name=""/>
          <p:cNvGraphicFramePr/>
          <p:nvPr/>
        </p:nvGraphicFramePr>
        <p:xfrm>
          <a:off x="6595920" y="369576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0" name="矩形 39"/>
          <p:cNvSpPr/>
          <p:nvPr/>
        </p:nvSpPr>
        <p:spPr>
          <a:xfrm>
            <a:off x="6811560" y="2617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沉 浸</a:t>
            </a:r>
            <a:endParaRPr b="0" lang="en-US" sz="3600" spc="-1" strike="noStrike">
              <a:solidFill>
                <a:srgbClr val="000000"/>
              </a:solidFill>
              <a:latin typeface="Calibri"/>
            </a:endParaRPr>
          </a:p>
        </p:txBody>
      </p:sp>
      <p:sp>
        <p:nvSpPr>
          <p:cNvPr id="421" name="矩形 40"/>
          <p:cNvSpPr/>
          <p:nvPr/>
        </p:nvSpPr>
        <p:spPr>
          <a:xfrm>
            <a:off x="6821280" y="3722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患 病</a:t>
            </a:r>
            <a:endParaRPr b="0" lang="en-US" sz="3600" spc="-1" strike="noStrike">
              <a:solidFill>
                <a:srgbClr val="000000"/>
              </a:solidFill>
              <a:latin typeface="Calibri"/>
            </a:endParaRPr>
          </a:p>
        </p:txBody>
      </p:sp>
      <p:graphicFrame>
        <p:nvGraphicFramePr>
          <p:cNvPr id="422" name=""/>
          <p:cNvGraphicFramePr/>
          <p:nvPr/>
        </p:nvGraphicFramePr>
        <p:xfrm>
          <a:off x="2995560" y="4768920"/>
          <a:ext cx="1440000" cy="731880"/>
        </p:xfrm>
        <a:graphic>
          <a:graphicData uri="http://schemas.openxmlformats.org/drawingml/2006/table">
            <a:tbl>
              <a:tblPr/>
              <a:tblGrid>
                <a:gridCol w="360360"/>
                <a:gridCol w="360360"/>
                <a:gridCol w="35892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23" name=""/>
          <p:cNvGraphicFramePr/>
          <p:nvPr/>
        </p:nvGraphicFramePr>
        <p:xfrm>
          <a:off x="1235160" y="47689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矩形 43"/>
          <p:cNvSpPr/>
          <p:nvPr/>
        </p:nvSpPr>
        <p:spPr>
          <a:xfrm>
            <a:off x="1452240" y="48117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琴 弦</a:t>
            </a:r>
            <a:endParaRPr b="0" lang="en-US" sz="3600" spc="-1" strike="noStrike">
              <a:solidFill>
                <a:srgbClr val="000000"/>
              </a:solidFill>
              <a:latin typeface="Calibri"/>
            </a:endParaRPr>
          </a:p>
        </p:txBody>
      </p:sp>
      <p:sp>
        <p:nvSpPr>
          <p:cNvPr id="425" name="矩形 44"/>
          <p:cNvSpPr/>
          <p:nvPr/>
        </p:nvSpPr>
        <p:spPr>
          <a:xfrm>
            <a:off x="3220560" y="4795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米 粥</a:t>
            </a:r>
            <a:endParaRPr b="0" lang="en-US" sz="3600" spc="-1" strike="noStrike">
              <a:solidFill>
                <a:srgbClr val="000000"/>
              </a:solidFill>
              <a:latin typeface="Calibri"/>
            </a:endParaRPr>
          </a:p>
        </p:txBody>
      </p:sp>
      <p:graphicFrame>
        <p:nvGraphicFramePr>
          <p:cNvPr id="426" name=""/>
          <p:cNvGraphicFramePr/>
          <p:nvPr/>
        </p:nvGraphicFramePr>
        <p:xfrm>
          <a:off x="4795920" y="476568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矩形 46"/>
          <p:cNvSpPr/>
          <p:nvPr/>
        </p:nvSpPr>
        <p:spPr>
          <a:xfrm>
            <a:off x="5020920" y="47926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煎 药</a:t>
            </a:r>
            <a:endParaRPr b="0" lang="en-US" sz="3600" spc="-1" strike="noStrike">
              <a:solidFill>
                <a:srgbClr val="000000"/>
              </a:solidFill>
              <a:latin typeface="Calibri"/>
            </a:endParaRPr>
          </a:p>
        </p:txBody>
      </p:sp>
      <p:graphicFrame>
        <p:nvGraphicFramePr>
          <p:cNvPr id="428" name=""/>
          <p:cNvGraphicFramePr/>
          <p:nvPr/>
        </p:nvGraphicFramePr>
        <p:xfrm>
          <a:off x="6581880" y="4741920"/>
          <a:ext cx="1439640" cy="731880"/>
        </p:xfrm>
        <a:graphic>
          <a:graphicData uri="http://schemas.openxmlformats.org/drawingml/2006/table">
            <a:tbl>
              <a:tblPr/>
              <a:tblGrid>
                <a:gridCol w="360360"/>
                <a:gridCol w="360360"/>
                <a:gridCol w="358560"/>
                <a:gridCol w="36036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矩形 48"/>
          <p:cNvSpPr/>
          <p:nvPr/>
        </p:nvSpPr>
        <p:spPr>
          <a:xfrm>
            <a:off x="6806880" y="47689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0000"/>
                </a:solidFill>
                <a:latin typeface="楷体_GB2312"/>
                <a:ea typeface="楷体_GB2312"/>
              </a:rPr>
              <a:t>悲 愤</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56" dur="indefinite" restart="never" nodeType="tmRoot">
          <p:childTnLst>
            <p:seq>
              <p:cTn id="1257" dur="indefinite" nodeType="mainSeq">
                <p:childTnLst>
                  <p:par>
                    <p:cTn id="1258" nodeType="clickEffect" fill="hold">
                      <p:stCondLst>
                        <p:cond delay="indefinite"/>
                      </p:stCondLst>
                      <p:childTnLst>
                        <p:par>
                          <p:cTn id="1259" nodeType="withEffect"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410"/>
                                        </p:tgtEl>
                                        <p:attrNameLst>
                                          <p:attrName>style.visibility</p:attrName>
                                        </p:attrNameLst>
                                      </p:cBhvr>
                                      <p:to>
                                        <p:strVal val="visible"/>
                                      </p:to>
                                    </p:set>
                                    <p:animEffect filter="wipe(left)" transition="in">
                                      <p:cBhvr additive="repl">
                                        <p:cTn id="1262" dur="500"/>
                                        <p:tgtEl>
                                          <p:spTgt spid="410"/>
                                        </p:tgtEl>
                                      </p:cBhvr>
                                    </p:animEffect>
                                  </p:childTnLst>
                                </p:cTn>
                              </p:par>
                            </p:childTnLst>
                          </p:cTn>
                        </p:par>
                      </p:childTnLst>
                    </p:cTn>
                  </p:par>
                  <p:par>
                    <p:cTn id="1263" nodeType="clickEffect" fill="hold">
                      <p:stCondLst>
                        <p:cond delay="indefinite"/>
                      </p:stCondLst>
                      <p:childTnLst>
                        <p:par>
                          <p:cTn id="1264" nodeType="withEffect"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412"/>
                                        </p:tgtEl>
                                        <p:attrNameLst>
                                          <p:attrName>style.visibility</p:attrName>
                                        </p:attrNameLst>
                                      </p:cBhvr>
                                      <p:to>
                                        <p:strVal val="visible"/>
                                      </p:to>
                                    </p:set>
                                    <p:animEffect filter="wipe(left)" transition="in">
                                      <p:cBhvr additive="repl">
                                        <p:cTn id="1267" dur="500"/>
                                        <p:tgtEl>
                                          <p:spTgt spid="412"/>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416"/>
                                        </p:tgtEl>
                                        <p:attrNameLst>
                                          <p:attrName>style.visibility</p:attrName>
                                        </p:attrNameLst>
                                      </p:cBhvr>
                                      <p:to>
                                        <p:strVal val="visible"/>
                                      </p:to>
                                    </p:set>
                                    <p:animEffect filter="wipe(left)" transition="in">
                                      <p:cBhvr additive="repl">
                                        <p:cTn id="1272" dur="500"/>
                                        <p:tgtEl>
                                          <p:spTgt spid="416"/>
                                        </p:tgtEl>
                                      </p:cBhvr>
                                    </p:animEffec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420"/>
                                        </p:tgtEl>
                                        <p:attrNameLst>
                                          <p:attrName>style.visibility</p:attrName>
                                        </p:attrNameLst>
                                      </p:cBhvr>
                                      <p:to>
                                        <p:strVal val="visible"/>
                                      </p:to>
                                    </p:set>
                                    <p:animEffect filter="wipe(left)" transition="in">
                                      <p:cBhvr additive="repl">
                                        <p:cTn id="1277" dur="500"/>
                                        <p:tgtEl>
                                          <p:spTgt spid="420"/>
                                        </p:tgtEl>
                                      </p:cBhvr>
                                    </p:animEffect>
                                  </p:childTnLst>
                                </p:cTn>
                              </p:par>
                            </p:childTnLst>
                          </p:cTn>
                        </p:par>
                      </p:childTnLst>
                    </p:cTn>
                  </p:par>
                  <p:par>
                    <p:cTn id="1278" nodeType="clickEffect" fill="hold">
                      <p:stCondLst>
                        <p:cond delay="indefinite"/>
                      </p:stCondLst>
                      <p:childTnLst>
                        <p:par>
                          <p:cTn id="1279" nodeType="withEffect" fill="hold">
                            <p:stCondLst>
                              <p:cond delay="0"/>
                            </p:stCondLst>
                            <p:childTnLst>
                              <p:par>
                                <p:cTn id="1280" nodeType="clickEffect" fill="hold" presetClass="entr" presetID="22" presetSubtype="8">
                                  <p:stCondLst>
                                    <p:cond delay="0"/>
                                  </p:stCondLst>
                                  <p:childTnLst>
                                    <p:set>
                                      <p:cBhvr>
                                        <p:cTn id="1281" dur="1" fill="hold">
                                          <p:stCondLst>
                                            <p:cond delay="0"/>
                                          </p:stCondLst>
                                        </p:cTn>
                                        <p:tgtEl>
                                          <p:spTgt spid="411"/>
                                        </p:tgtEl>
                                        <p:attrNameLst>
                                          <p:attrName>style.visibility</p:attrName>
                                        </p:attrNameLst>
                                      </p:cBhvr>
                                      <p:to>
                                        <p:strVal val="visible"/>
                                      </p:to>
                                    </p:set>
                                    <p:animEffect filter="wipe(left)" transition="in">
                                      <p:cBhvr additive="repl">
                                        <p:cTn id="1282" dur="500"/>
                                        <p:tgtEl>
                                          <p:spTgt spid="411"/>
                                        </p:tgtEl>
                                      </p:cBhvr>
                                    </p:animEffec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22" presetSubtype="8">
                                  <p:stCondLst>
                                    <p:cond delay="0"/>
                                  </p:stCondLst>
                                  <p:childTnLst>
                                    <p:set>
                                      <p:cBhvr>
                                        <p:cTn id="1286" dur="1" fill="hold">
                                          <p:stCondLst>
                                            <p:cond delay="0"/>
                                          </p:stCondLst>
                                        </p:cTn>
                                        <p:tgtEl>
                                          <p:spTgt spid="413"/>
                                        </p:tgtEl>
                                        <p:attrNameLst>
                                          <p:attrName>style.visibility</p:attrName>
                                        </p:attrNameLst>
                                      </p:cBhvr>
                                      <p:to>
                                        <p:strVal val="visible"/>
                                      </p:to>
                                    </p:set>
                                    <p:animEffect filter="wipe(left)" transition="in">
                                      <p:cBhvr additive="repl">
                                        <p:cTn id="1287" dur="500"/>
                                        <p:tgtEl>
                                          <p:spTgt spid="413"/>
                                        </p:tgtEl>
                                      </p:cBhvr>
                                    </p:animEffect>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2" presetSubtype="8">
                                  <p:stCondLst>
                                    <p:cond delay="0"/>
                                  </p:stCondLst>
                                  <p:childTnLst>
                                    <p:set>
                                      <p:cBhvr>
                                        <p:cTn id="1291" dur="1" fill="hold">
                                          <p:stCondLst>
                                            <p:cond delay="0"/>
                                          </p:stCondLst>
                                        </p:cTn>
                                        <p:tgtEl>
                                          <p:spTgt spid="417"/>
                                        </p:tgtEl>
                                        <p:attrNameLst>
                                          <p:attrName>style.visibility</p:attrName>
                                        </p:attrNameLst>
                                      </p:cBhvr>
                                      <p:to>
                                        <p:strVal val="visible"/>
                                      </p:to>
                                    </p:set>
                                    <p:animEffect filter="wipe(left)" transition="in">
                                      <p:cBhvr additive="repl">
                                        <p:cTn id="1292" dur="500"/>
                                        <p:tgtEl>
                                          <p:spTgt spid="417"/>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421"/>
                                        </p:tgtEl>
                                        <p:attrNameLst>
                                          <p:attrName>style.visibility</p:attrName>
                                        </p:attrNameLst>
                                      </p:cBhvr>
                                      <p:to>
                                        <p:strVal val="visible"/>
                                      </p:to>
                                    </p:set>
                                    <p:animEffect filter="wipe(left)" transition="in">
                                      <p:cBhvr additive="repl">
                                        <p:cTn id="1297" dur="500"/>
                                        <p:tgtEl>
                                          <p:spTgt spid="421"/>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22" presetSubtype="8">
                                  <p:stCondLst>
                                    <p:cond delay="0"/>
                                  </p:stCondLst>
                                  <p:childTnLst>
                                    <p:set>
                                      <p:cBhvr>
                                        <p:cTn id="1301" dur="1" fill="hold">
                                          <p:stCondLst>
                                            <p:cond delay="0"/>
                                          </p:stCondLst>
                                        </p:cTn>
                                        <p:tgtEl>
                                          <p:spTgt spid="424"/>
                                        </p:tgtEl>
                                        <p:attrNameLst>
                                          <p:attrName>style.visibility</p:attrName>
                                        </p:attrNameLst>
                                      </p:cBhvr>
                                      <p:to>
                                        <p:strVal val="visible"/>
                                      </p:to>
                                    </p:set>
                                    <p:animEffect filter="wipe(left)" transition="in">
                                      <p:cBhvr additive="repl">
                                        <p:cTn id="1302" dur="500"/>
                                        <p:tgtEl>
                                          <p:spTgt spid="424"/>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22" presetSubtype="8">
                                  <p:stCondLst>
                                    <p:cond delay="0"/>
                                  </p:stCondLst>
                                  <p:childTnLst>
                                    <p:set>
                                      <p:cBhvr>
                                        <p:cTn id="1306" dur="1" fill="hold">
                                          <p:stCondLst>
                                            <p:cond delay="0"/>
                                          </p:stCondLst>
                                        </p:cTn>
                                        <p:tgtEl>
                                          <p:spTgt spid="425"/>
                                        </p:tgtEl>
                                        <p:attrNameLst>
                                          <p:attrName>style.visibility</p:attrName>
                                        </p:attrNameLst>
                                      </p:cBhvr>
                                      <p:to>
                                        <p:strVal val="visible"/>
                                      </p:to>
                                    </p:set>
                                    <p:animEffect filter="wipe(left)" transition="in">
                                      <p:cBhvr additive="repl">
                                        <p:cTn id="1307" dur="500"/>
                                        <p:tgtEl>
                                          <p:spTgt spid="425"/>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2" presetSubtype="8">
                                  <p:stCondLst>
                                    <p:cond delay="0"/>
                                  </p:stCondLst>
                                  <p:childTnLst>
                                    <p:set>
                                      <p:cBhvr>
                                        <p:cTn id="1311" dur="1" fill="hold">
                                          <p:stCondLst>
                                            <p:cond delay="0"/>
                                          </p:stCondLst>
                                        </p:cTn>
                                        <p:tgtEl>
                                          <p:spTgt spid="427"/>
                                        </p:tgtEl>
                                        <p:attrNameLst>
                                          <p:attrName>style.visibility</p:attrName>
                                        </p:attrNameLst>
                                      </p:cBhvr>
                                      <p:to>
                                        <p:strVal val="visible"/>
                                      </p:to>
                                    </p:set>
                                    <p:animEffect filter="wipe(left)" transition="in">
                                      <p:cBhvr additive="repl">
                                        <p:cTn id="1312" dur="500"/>
                                        <p:tgtEl>
                                          <p:spTgt spid="427"/>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429"/>
                                        </p:tgtEl>
                                        <p:attrNameLst>
                                          <p:attrName>style.visibility</p:attrName>
                                        </p:attrNameLst>
                                      </p:cBhvr>
                                      <p:to>
                                        <p:strVal val="visible"/>
                                      </p:to>
                                    </p:set>
                                    <p:animEffect filter="wipe(left)" transition="in">
                                      <p:cBhvr additive="repl">
                                        <p:cTn id="1317"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矩形 2"/>
          <p:cNvSpPr/>
          <p:nvPr/>
        </p:nvSpPr>
        <p:spPr>
          <a:xfrm>
            <a:off x="647640" y="1793880"/>
            <a:ext cx="79153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阿炳：</a:t>
            </a:r>
            <a:r>
              <a:rPr b="1" lang="en-US" sz="2000" spc="-1" strike="noStrike">
                <a:solidFill>
                  <a:srgbClr val="000000"/>
                </a:solidFill>
                <a:latin typeface="宋体"/>
              </a:rPr>
              <a:t>(1893</a:t>
            </a:r>
            <a:r>
              <a:rPr b="1" lang="zh-CN" sz="2000" spc="-1" strike="noStrike">
                <a:solidFill>
                  <a:srgbClr val="000000"/>
                </a:solidFill>
                <a:latin typeface="宋体"/>
              </a:rPr>
              <a:t>－</a:t>
            </a:r>
            <a:r>
              <a:rPr b="1" lang="en-US" sz="2000" spc="-1" strike="noStrike">
                <a:solidFill>
                  <a:srgbClr val="000000"/>
                </a:solidFill>
                <a:latin typeface="宋体"/>
              </a:rPr>
              <a:t>1950)</a:t>
            </a:r>
            <a:r>
              <a:rPr b="1" lang="zh-CN" sz="2000" spc="-1" strike="noStrike">
                <a:solidFill>
                  <a:srgbClr val="000000"/>
                </a:solidFill>
                <a:latin typeface="宋体"/>
              </a:rPr>
              <a:t>，原名华彦钧，民间音乐家。因患眼疾而双目失明。现留存有二胡曲</a:t>
            </a:r>
            <a:r>
              <a:rPr b="1" lang="en-US" sz="2000" spc="-1" strike="noStrike">
                <a:solidFill>
                  <a:srgbClr val="000000"/>
                </a:solidFill>
                <a:latin typeface="宋体"/>
              </a:rPr>
              <a:t>《</a:t>
            </a:r>
            <a:r>
              <a:rPr b="1" lang="zh-CN" sz="2000" spc="-1" strike="noStrike">
                <a:solidFill>
                  <a:srgbClr val="000000"/>
                </a:solidFill>
                <a:latin typeface="宋体"/>
              </a:rPr>
              <a:t>二泉映月</a:t>
            </a:r>
            <a:r>
              <a:rPr b="1" lang="en-US" sz="2000" spc="-1" strike="noStrike">
                <a:solidFill>
                  <a:srgbClr val="000000"/>
                </a:solidFill>
                <a:latin typeface="宋体"/>
              </a:rPr>
              <a:t>》《</a:t>
            </a:r>
            <a:r>
              <a:rPr b="1" lang="zh-CN" sz="2000" spc="-1" strike="noStrike">
                <a:solidFill>
                  <a:srgbClr val="000000"/>
                </a:solidFill>
                <a:latin typeface="宋体"/>
              </a:rPr>
              <a:t>听松</a:t>
            </a:r>
            <a:r>
              <a:rPr b="1" lang="en-US" sz="2000" spc="-1" strike="noStrike">
                <a:solidFill>
                  <a:srgbClr val="000000"/>
                </a:solidFill>
                <a:latin typeface="宋体"/>
              </a:rPr>
              <a:t>》</a:t>
            </a:r>
            <a:r>
              <a:rPr b="1" lang="zh-CN" sz="2000" spc="-1" strike="noStrike">
                <a:solidFill>
                  <a:srgbClr val="000000"/>
                </a:solidFill>
                <a:latin typeface="宋体"/>
              </a:rPr>
              <a:t>和琵琶曲</a:t>
            </a:r>
            <a:r>
              <a:rPr b="1" lang="en-US" sz="2000" spc="-1" strike="noStrike">
                <a:solidFill>
                  <a:srgbClr val="000000"/>
                </a:solidFill>
                <a:latin typeface="宋体"/>
              </a:rPr>
              <a:t>《</a:t>
            </a:r>
            <a:r>
              <a:rPr b="1" lang="zh-CN" sz="2000" spc="-1" strike="noStrike">
                <a:solidFill>
                  <a:srgbClr val="000000"/>
                </a:solidFill>
                <a:latin typeface="宋体"/>
              </a:rPr>
              <a:t>大浪淘沙</a:t>
            </a:r>
            <a:r>
              <a:rPr b="1" lang="en-US" sz="2000" spc="-1" strike="noStrike">
                <a:solidFill>
                  <a:srgbClr val="000000"/>
                </a:solidFill>
                <a:latin typeface="宋体"/>
              </a:rPr>
              <a:t>》《</a:t>
            </a:r>
            <a:r>
              <a:rPr b="1" lang="zh-CN" sz="2000" spc="-1" strike="noStrike">
                <a:solidFill>
                  <a:srgbClr val="000000"/>
                </a:solidFill>
                <a:latin typeface="宋体"/>
              </a:rPr>
              <a:t>龙船</a:t>
            </a:r>
            <a:r>
              <a:rPr b="1" lang="en-US" sz="2000" spc="-1" strike="noStrike">
                <a:solidFill>
                  <a:srgbClr val="000000"/>
                </a:solidFill>
                <a:latin typeface="宋体"/>
              </a:rPr>
              <a:t>》《</a:t>
            </a:r>
            <a:r>
              <a:rPr b="1" lang="zh-CN" sz="2000" spc="-1" strike="noStrike">
                <a:solidFill>
                  <a:srgbClr val="000000"/>
                </a:solidFill>
                <a:latin typeface="宋体"/>
              </a:rPr>
              <a:t>昭君出塞</a:t>
            </a:r>
            <a:r>
              <a:rPr b="1" lang="en-US" sz="2000" spc="-1" strike="noStrike">
                <a:solidFill>
                  <a:srgbClr val="000000"/>
                </a:solidFill>
                <a:latin typeface="宋体"/>
              </a:rPr>
              <a:t>》</a:t>
            </a:r>
            <a:r>
              <a:rPr b="1" lang="zh-CN" sz="2000" spc="-1" strike="noStrike">
                <a:solidFill>
                  <a:srgbClr val="000000"/>
                </a:solidFill>
                <a:latin typeface="宋体"/>
              </a:rPr>
              <a:t>等名曲。</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a:t>
            </a:r>
            <a:r>
              <a:rPr b="1" lang="zh-CN" sz="2000" spc="-1" strike="noStrike">
                <a:solidFill>
                  <a:srgbClr val="000000"/>
                </a:solidFill>
                <a:latin typeface="宋体"/>
              </a:rPr>
              <a:t>二泉映月</a:t>
            </a:r>
            <a:r>
              <a:rPr b="1" lang="en-US" sz="2000" spc="-1" strike="noStrike">
                <a:solidFill>
                  <a:srgbClr val="000000"/>
                </a:solidFill>
                <a:latin typeface="宋体"/>
              </a:rPr>
              <a:t>》</a:t>
            </a:r>
            <a:r>
              <a:rPr b="1" lang="zh-CN" sz="2000" spc="-1" strike="noStrike">
                <a:solidFill>
                  <a:srgbClr val="000000"/>
                </a:solidFill>
                <a:latin typeface="宋体"/>
              </a:rPr>
              <a:t>二胡名曲，是中国民间音乐家华彦钧</a:t>
            </a:r>
            <a:r>
              <a:rPr b="1" lang="en-US" sz="2000" spc="-1" strike="noStrike">
                <a:solidFill>
                  <a:srgbClr val="000000"/>
                </a:solidFill>
                <a:latin typeface="宋体"/>
              </a:rPr>
              <a:t>(</a:t>
            </a:r>
            <a:r>
              <a:rPr b="1" lang="zh-CN" sz="2000" spc="-1" strike="noStrike">
                <a:solidFill>
                  <a:srgbClr val="000000"/>
                </a:solidFill>
                <a:latin typeface="宋体"/>
              </a:rPr>
              <a:t>阿炳</a:t>
            </a:r>
            <a:r>
              <a:rPr b="1" lang="en-US" sz="2000" spc="-1" strike="noStrike">
                <a:solidFill>
                  <a:srgbClr val="000000"/>
                </a:solidFill>
                <a:latin typeface="宋体"/>
              </a:rPr>
              <a:t>)</a:t>
            </a:r>
            <a:r>
              <a:rPr b="1" lang="zh-CN" sz="2000" spc="-1" strike="noStrike">
                <a:solidFill>
                  <a:srgbClr val="000000"/>
                </a:solidFill>
                <a:latin typeface="宋体"/>
              </a:rPr>
              <a:t>的代表作。作品于</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50</a:t>
            </a:r>
            <a:r>
              <a:rPr b="1" lang="zh-CN" sz="2000" spc="-1" strike="noStrike">
                <a:solidFill>
                  <a:srgbClr val="000000"/>
                </a:solidFill>
                <a:latin typeface="宋体"/>
              </a:rPr>
              <a:t>年代初由音乐家杨荫浏先生根据阿炳的演奏、录音记谱整理，灌制成唱片后很快风靡全国。这首乐曲自始至终流露的是一位饱尝人间辛酸和痛苦的盲艺人的思绪情感，作品展示了独特的民间演奏技巧与风格，以及无与伦比的深邃意境，显示了中国二胡艺术的独特魅力，它拓宽了二胡艺术的表现力，曾获“</a:t>
            </a:r>
            <a:r>
              <a:rPr b="1" lang="en-US" sz="2000" spc="-1" strike="noStrike">
                <a:solidFill>
                  <a:srgbClr val="000000"/>
                </a:solidFill>
                <a:latin typeface="宋体"/>
              </a:rPr>
              <a:t>20</a:t>
            </a:r>
            <a:r>
              <a:rPr b="1" lang="zh-CN" sz="2000" spc="-1" strike="noStrike">
                <a:solidFill>
                  <a:srgbClr val="000000"/>
                </a:solidFill>
                <a:latin typeface="宋体"/>
              </a:rPr>
              <a:t>世纪华人音乐经典作品奖”。</a:t>
            </a:r>
            <a:endParaRPr b="0" lang="en-US" sz="2000" spc="-1" strike="noStrike">
              <a:solidFill>
                <a:srgbClr val="000000"/>
              </a:solidFill>
              <a:latin typeface="Calibri"/>
            </a:endParaRPr>
          </a:p>
        </p:txBody>
      </p:sp>
      <p:grpSp>
        <p:nvGrpSpPr>
          <p:cNvPr id="72" name="组合 2"/>
          <p:cNvGrpSpPr/>
          <p:nvPr/>
        </p:nvGrpSpPr>
        <p:grpSpPr>
          <a:xfrm>
            <a:off x="647640" y="1069920"/>
            <a:ext cx="2905200" cy="666720"/>
            <a:chOff x="647640" y="1069920"/>
            <a:chExt cx="2905200" cy="666720"/>
          </a:xfrm>
        </p:grpSpPr>
        <p:sp>
          <p:nvSpPr>
            <p:cNvPr id="73" name="圆角矩形 5"/>
            <p:cNvSpPr/>
            <p:nvPr/>
          </p:nvSpPr>
          <p:spPr>
            <a:xfrm>
              <a:off x="1463400" y="120780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4" name="图片 9" descr="book.gif"/>
            <p:cNvPicPr/>
            <p:nvPr/>
          </p:nvPicPr>
          <p:blipFill>
            <a:blip r:embed="rId1"/>
            <a:stretch/>
          </p:blipFill>
          <p:spPr>
            <a:xfrm>
              <a:off x="647640" y="1069920"/>
              <a:ext cx="1087200" cy="666720"/>
            </a:xfrm>
            <a:prstGeom prst="rect">
              <a:avLst/>
            </a:prstGeom>
            <a:ln w="0">
              <a:noFill/>
            </a:ln>
          </p:spPr>
        </p:pic>
        <p:sp>
          <p:nvSpPr>
            <p:cNvPr id="75" name="文本框 16"/>
            <p:cNvSpPr/>
            <p:nvPr/>
          </p:nvSpPr>
          <p:spPr>
            <a:xfrm>
              <a:off x="1722960" y="122688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相关资料</a:t>
              </a:r>
              <a:endParaRPr b="0" lang="en-US" sz="2400" spc="-1" strike="noStrike">
                <a:solidFill>
                  <a:srgbClr val="000000"/>
                </a:solidFill>
                <a:latin typeface="Calibri"/>
              </a:endParaRPr>
            </a:p>
          </p:txBody>
        </p:sp>
      </p:grpSp>
      <p:pic>
        <p:nvPicPr>
          <p:cNvPr id="76" name="Picture 2" descr="C:\Users\Administrator\Desktop\3333\助读资料.png"/>
          <p:cNvPicPr/>
          <p:nvPr/>
        </p:nvPicPr>
        <p:blipFill>
          <a:blip r:embed="rId2"/>
          <a:stretch/>
        </p:blipFill>
        <p:spPr>
          <a:xfrm>
            <a:off x="3200400" y="241200"/>
            <a:ext cx="2712960" cy="71280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矩形 9"/>
          <p:cNvSpPr/>
          <p:nvPr/>
        </p:nvSpPr>
        <p:spPr>
          <a:xfrm>
            <a:off x="324000" y="2133720"/>
            <a:ext cx="8532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照样子写词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四面八方　</a:t>
            </a:r>
            <a:r>
              <a:rPr b="1" lang="en-US" sz="2400" spc="-1" strike="noStrike">
                <a:solidFill>
                  <a:srgbClr val="000000"/>
                </a:solidFill>
                <a:latin typeface="宋体"/>
              </a:rPr>
              <a:t>____________</a:t>
            </a:r>
            <a:r>
              <a:rPr b="1" lang="zh-CN" sz="2400" spc="-1" strike="noStrike">
                <a:solidFill>
                  <a:srgbClr val="000000"/>
                </a:solidFill>
                <a:latin typeface="宋体"/>
              </a:rPr>
              <a:t>　</a:t>
            </a:r>
            <a:r>
              <a:rPr b="1" lang="en-US" sz="2400" spc="-1" strike="noStrike">
                <a:solidFill>
                  <a:srgbClr val="000000"/>
                </a:solidFill>
                <a:latin typeface="宋体"/>
              </a:rPr>
              <a:t>____________</a:t>
            </a:r>
            <a:r>
              <a:rPr b="1" lang="zh-CN" sz="2400" spc="-1" strike="noStrike">
                <a:solidFill>
                  <a:srgbClr val="000000"/>
                </a:solidFill>
                <a:latin typeface="宋体"/>
              </a:rPr>
              <a:t>  </a:t>
            </a:r>
            <a:r>
              <a:rPr b="1" lang="en-US" sz="2400" spc="-1" strike="noStrike">
                <a:solidFill>
                  <a:srgbClr val="000000"/>
                </a:solidFill>
                <a:latin typeface="宋体"/>
              </a:rPr>
              <a:t>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密密匝匝　</a:t>
            </a:r>
            <a:r>
              <a:rPr b="1" lang="en-US" sz="2400" spc="-1" strike="noStrike">
                <a:solidFill>
                  <a:srgbClr val="000000"/>
                </a:solidFill>
                <a:latin typeface="宋体"/>
              </a:rPr>
              <a:t>____________</a:t>
            </a:r>
            <a:r>
              <a:rPr b="1" lang="zh-CN" sz="2400" spc="-1" strike="noStrike">
                <a:solidFill>
                  <a:srgbClr val="000000"/>
                </a:solidFill>
                <a:latin typeface="宋体"/>
              </a:rPr>
              <a:t>　</a:t>
            </a:r>
            <a:r>
              <a:rPr b="1" lang="en-US" sz="2400" spc="-1" strike="noStrike">
                <a:solidFill>
                  <a:srgbClr val="000000"/>
                </a:solidFill>
                <a:latin typeface="宋体"/>
              </a:rPr>
              <a:t>____________</a:t>
            </a:r>
            <a:r>
              <a:rPr b="1" lang="zh-CN" sz="2400" spc="-1" strike="noStrike">
                <a:solidFill>
                  <a:srgbClr val="000000"/>
                </a:solidFill>
                <a:latin typeface="宋体"/>
              </a:rPr>
              <a:t>　</a:t>
            </a:r>
            <a:r>
              <a:rPr b="1" lang="en-US" sz="2400" spc="-1" strike="noStrike">
                <a:solidFill>
                  <a:srgbClr val="000000"/>
                </a:solidFill>
                <a:latin typeface="宋体"/>
              </a:rPr>
              <a:t>____________</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31" name="矩形 4"/>
          <p:cNvSpPr/>
          <p:nvPr/>
        </p:nvSpPr>
        <p:spPr>
          <a:xfrm>
            <a:off x="939960" y="2879640"/>
            <a:ext cx="147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endParaRPr b="0" lang="en-US" sz="2400" spc="-1" strike="noStrike">
              <a:solidFill>
                <a:srgbClr val="000000"/>
              </a:solidFill>
              <a:latin typeface="Calibri"/>
            </a:endParaRPr>
          </a:p>
        </p:txBody>
      </p:sp>
      <p:sp>
        <p:nvSpPr>
          <p:cNvPr id="432" name="矩形 15"/>
          <p:cNvSpPr/>
          <p:nvPr/>
        </p:nvSpPr>
        <p:spPr>
          <a:xfrm>
            <a:off x="7032600" y="32115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高高兴兴</a:t>
            </a:r>
            <a:endParaRPr b="0" lang="en-US" sz="2400" spc="-1" strike="noStrike">
              <a:solidFill>
                <a:srgbClr val="000000"/>
              </a:solidFill>
              <a:latin typeface="Calibri"/>
            </a:endParaRPr>
          </a:p>
        </p:txBody>
      </p:sp>
      <p:sp>
        <p:nvSpPr>
          <p:cNvPr id="433" name="矩形 16"/>
          <p:cNvSpPr/>
          <p:nvPr/>
        </p:nvSpPr>
        <p:spPr>
          <a:xfrm>
            <a:off x="2918160" y="27781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七上八下</a:t>
            </a:r>
            <a:endParaRPr b="0" lang="en-US" sz="2400" spc="-1" strike="noStrike">
              <a:solidFill>
                <a:srgbClr val="000000"/>
              </a:solidFill>
              <a:latin typeface="Calibri"/>
            </a:endParaRPr>
          </a:p>
        </p:txBody>
      </p:sp>
      <p:sp>
        <p:nvSpPr>
          <p:cNvPr id="434" name="矩形 17"/>
          <p:cNvSpPr/>
          <p:nvPr/>
        </p:nvSpPr>
        <p:spPr>
          <a:xfrm>
            <a:off x="5114160" y="2789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五颜六色</a:t>
            </a:r>
            <a:endParaRPr b="0" lang="en-US" sz="2400" spc="-1" strike="noStrike">
              <a:solidFill>
                <a:srgbClr val="000000"/>
              </a:solidFill>
              <a:latin typeface="Calibri"/>
            </a:endParaRPr>
          </a:p>
        </p:txBody>
      </p:sp>
      <p:sp>
        <p:nvSpPr>
          <p:cNvPr id="435" name="矩形 18"/>
          <p:cNvSpPr/>
          <p:nvPr/>
        </p:nvSpPr>
        <p:spPr>
          <a:xfrm>
            <a:off x="7274880" y="2695680"/>
            <a:ext cx="912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三心二意</a:t>
            </a:r>
            <a:endParaRPr b="0" lang="en-US" sz="2400" spc="-1" strike="noStrike">
              <a:solidFill>
                <a:srgbClr val="000000"/>
              </a:solidFill>
              <a:latin typeface="Calibri"/>
            </a:endParaRPr>
          </a:p>
        </p:txBody>
      </p:sp>
      <p:sp>
        <p:nvSpPr>
          <p:cNvPr id="436" name="矩形 19"/>
          <p:cNvSpPr/>
          <p:nvPr/>
        </p:nvSpPr>
        <p:spPr>
          <a:xfrm>
            <a:off x="2955240" y="3322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郁郁葱葱</a:t>
            </a:r>
            <a:endParaRPr b="0" lang="en-US" sz="2400" spc="-1" strike="noStrike">
              <a:solidFill>
                <a:srgbClr val="000000"/>
              </a:solidFill>
              <a:latin typeface="Calibri"/>
            </a:endParaRPr>
          </a:p>
        </p:txBody>
      </p:sp>
      <p:sp>
        <p:nvSpPr>
          <p:cNvPr id="437" name="矩形 20"/>
          <p:cNvSpPr/>
          <p:nvPr/>
        </p:nvSpPr>
        <p:spPr>
          <a:xfrm>
            <a:off x="5150880" y="3328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恍恍惚惚</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nodeType="clickEffect" fill="hold">
                      <p:stCondLst>
                        <p:cond delay="indefinite"/>
                      </p:stCondLst>
                      <p:childTnLst>
                        <p:par>
                          <p:cTn id="1321" nodeType="withEffect" fill="hold">
                            <p:stCondLst>
                              <p:cond delay="0"/>
                            </p:stCondLst>
                            <p:childTnLst>
                              <p:par>
                                <p:cTn id="1322" nodeType="clickEffect" fill="hold" presetClass="entr" presetID="22" presetSubtype="8">
                                  <p:stCondLst>
                                    <p:cond delay="0"/>
                                  </p:stCondLst>
                                  <p:childTnLst>
                                    <p:set>
                                      <p:cBhvr>
                                        <p:cTn id="1323" dur="1" fill="hold">
                                          <p:stCondLst>
                                            <p:cond delay="0"/>
                                          </p:stCondLst>
                                        </p:cTn>
                                        <p:tgtEl>
                                          <p:spTgt spid="433"/>
                                        </p:tgtEl>
                                        <p:attrNameLst>
                                          <p:attrName>style.visibility</p:attrName>
                                        </p:attrNameLst>
                                      </p:cBhvr>
                                      <p:to>
                                        <p:strVal val="visible"/>
                                      </p:to>
                                    </p:set>
                                    <p:animEffect filter="wipe(left)" transition="in">
                                      <p:cBhvr additive="repl">
                                        <p:cTn id="1324" dur="500"/>
                                        <p:tgtEl>
                                          <p:spTgt spid="433"/>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8">
                                  <p:stCondLst>
                                    <p:cond delay="0"/>
                                  </p:stCondLst>
                                  <p:childTnLst>
                                    <p:set>
                                      <p:cBhvr>
                                        <p:cTn id="1328" dur="1" fill="hold">
                                          <p:stCondLst>
                                            <p:cond delay="0"/>
                                          </p:stCondLst>
                                        </p:cTn>
                                        <p:tgtEl>
                                          <p:spTgt spid="434"/>
                                        </p:tgtEl>
                                        <p:attrNameLst>
                                          <p:attrName>style.visibility</p:attrName>
                                        </p:attrNameLst>
                                      </p:cBhvr>
                                      <p:to>
                                        <p:strVal val="visible"/>
                                      </p:to>
                                    </p:set>
                                    <p:animEffect filter="wipe(left)" transition="in">
                                      <p:cBhvr additive="repl">
                                        <p:cTn id="1329" dur="500"/>
                                        <p:tgtEl>
                                          <p:spTgt spid="434"/>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8">
                                  <p:stCondLst>
                                    <p:cond delay="0"/>
                                  </p:stCondLst>
                                  <p:childTnLst>
                                    <p:set>
                                      <p:cBhvr>
                                        <p:cTn id="1333" dur="1" fill="hold">
                                          <p:stCondLst>
                                            <p:cond delay="0"/>
                                          </p:stCondLst>
                                        </p:cTn>
                                        <p:tgtEl>
                                          <p:spTgt spid="435"/>
                                        </p:tgtEl>
                                        <p:attrNameLst>
                                          <p:attrName>style.visibility</p:attrName>
                                        </p:attrNameLst>
                                      </p:cBhvr>
                                      <p:to>
                                        <p:strVal val="visible"/>
                                      </p:to>
                                    </p:set>
                                    <p:animEffect filter="wipe(left)" transition="in">
                                      <p:cBhvr additive="repl">
                                        <p:cTn id="1334" dur="500"/>
                                        <p:tgtEl>
                                          <p:spTgt spid="435"/>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2" presetSubtype="8">
                                  <p:stCondLst>
                                    <p:cond delay="0"/>
                                  </p:stCondLst>
                                  <p:childTnLst>
                                    <p:set>
                                      <p:cBhvr>
                                        <p:cTn id="1338" dur="1" fill="hold">
                                          <p:stCondLst>
                                            <p:cond delay="0"/>
                                          </p:stCondLst>
                                        </p:cTn>
                                        <p:tgtEl>
                                          <p:spTgt spid="436"/>
                                        </p:tgtEl>
                                        <p:attrNameLst>
                                          <p:attrName>style.visibility</p:attrName>
                                        </p:attrNameLst>
                                      </p:cBhvr>
                                      <p:to>
                                        <p:strVal val="visible"/>
                                      </p:to>
                                    </p:set>
                                    <p:animEffect filter="wipe(left)" transition="in">
                                      <p:cBhvr additive="repl">
                                        <p:cTn id="1339" dur="500"/>
                                        <p:tgtEl>
                                          <p:spTgt spid="436"/>
                                        </p:tgtEl>
                                      </p:cBhvr>
                                    </p:animEffect>
                                  </p:childTnLst>
                                </p:cTn>
                              </p:par>
                            </p:childTnLst>
                          </p:cTn>
                        </p:par>
                      </p:childTnLst>
                    </p:cTn>
                  </p:par>
                  <p:par>
                    <p:cTn id="1340" nodeType="clickEffect" fill="hold">
                      <p:stCondLst>
                        <p:cond delay="indefinite"/>
                      </p:stCondLst>
                      <p:childTnLst>
                        <p:par>
                          <p:cTn id="1341" nodeType="withEffect" fill="hold">
                            <p:stCondLst>
                              <p:cond delay="0"/>
                            </p:stCondLst>
                            <p:childTnLst>
                              <p:par>
                                <p:cTn id="1342" nodeType="clickEffect" fill="hold" presetClass="entr" presetID="22" presetSubtype="8">
                                  <p:stCondLst>
                                    <p:cond delay="0"/>
                                  </p:stCondLst>
                                  <p:childTnLst>
                                    <p:set>
                                      <p:cBhvr>
                                        <p:cTn id="1343" dur="1" fill="hold">
                                          <p:stCondLst>
                                            <p:cond delay="0"/>
                                          </p:stCondLst>
                                        </p:cTn>
                                        <p:tgtEl>
                                          <p:spTgt spid="437"/>
                                        </p:tgtEl>
                                        <p:attrNameLst>
                                          <p:attrName>style.visibility</p:attrName>
                                        </p:attrNameLst>
                                      </p:cBhvr>
                                      <p:to>
                                        <p:strVal val="visible"/>
                                      </p:to>
                                    </p:set>
                                    <p:animEffect filter="wipe(left)" transition="in">
                                      <p:cBhvr additive="repl">
                                        <p:cTn id="1344" dur="500"/>
                                        <p:tgtEl>
                                          <p:spTgt spid="437"/>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22" presetSubtype="8">
                                  <p:stCondLst>
                                    <p:cond delay="0"/>
                                  </p:stCondLst>
                                  <p:childTnLst>
                                    <p:set>
                                      <p:cBhvr>
                                        <p:cTn id="1348" dur="1" fill="hold">
                                          <p:stCondLst>
                                            <p:cond delay="0"/>
                                          </p:stCondLst>
                                        </p:cTn>
                                        <p:tgtEl>
                                          <p:spTgt spid="432"/>
                                        </p:tgtEl>
                                        <p:attrNameLst>
                                          <p:attrName>style.visibility</p:attrName>
                                        </p:attrNameLst>
                                      </p:cBhvr>
                                      <p:to>
                                        <p:strVal val="visible"/>
                                      </p:to>
                                    </p:set>
                                    <p:animEffect filter="wipe(left)" transition="in">
                                      <p:cBhvr additive="repl">
                                        <p:cTn id="134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矩形 8"/>
          <p:cNvSpPr/>
          <p:nvPr/>
        </p:nvSpPr>
        <p:spPr>
          <a:xfrm>
            <a:off x="755640" y="1430280"/>
            <a:ext cx="777708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给加点字选择正确的解释。</a:t>
            </a:r>
            <a:r>
              <a:rPr b="1" lang="en-US" sz="2400" spc="-1" strike="noStrike">
                <a:solidFill>
                  <a:srgbClr val="000000"/>
                </a:solidFill>
                <a:latin typeface="宋体"/>
              </a:rPr>
              <a:t>(</a:t>
            </a:r>
            <a:r>
              <a:rPr b="1" lang="zh-CN" sz="2400" spc="-1" strike="noStrike">
                <a:solidFill>
                  <a:srgbClr val="000000"/>
                </a:solidFill>
                <a:latin typeface="宋体"/>
              </a:rPr>
              <a:t>填序号</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深：</a:t>
            </a:r>
            <a:r>
              <a:rPr b="1" lang="en-US" sz="2400" spc="-1" strike="noStrike">
                <a:solidFill>
                  <a:srgbClr val="000000"/>
                </a:solidFill>
                <a:latin typeface="宋体"/>
              </a:rPr>
              <a:t>A.</a:t>
            </a:r>
            <a:r>
              <a:rPr b="1" lang="zh-CN" sz="2400" spc="-1" strike="noStrike">
                <a:solidFill>
                  <a:srgbClr val="000000"/>
                </a:solidFill>
                <a:latin typeface="宋体"/>
              </a:rPr>
              <a:t>从上到下的距离大。   </a:t>
            </a:r>
            <a:r>
              <a:rPr b="1" lang="en-US" sz="2400" spc="-1" strike="noStrike">
                <a:solidFill>
                  <a:srgbClr val="000000"/>
                </a:solidFill>
                <a:latin typeface="宋体"/>
              </a:rPr>
              <a:t>B.</a:t>
            </a:r>
            <a:r>
              <a:rPr b="1" lang="zh-CN" sz="2400" spc="-1" strike="noStrike">
                <a:solidFill>
                  <a:srgbClr val="000000"/>
                </a:solidFill>
                <a:latin typeface="宋体"/>
              </a:rPr>
              <a:t>距离开始时间久。</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C.</a:t>
            </a:r>
            <a:r>
              <a:rPr b="1" lang="zh-CN" sz="2400" spc="-1" strike="noStrike">
                <a:solidFill>
                  <a:srgbClr val="000000"/>
                </a:solidFill>
                <a:latin typeface="宋体"/>
              </a:rPr>
              <a:t>深奥。   </a:t>
            </a:r>
            <a:r>
              <a:rPr b="1" lang="en-US" sz="2400" spc="-1" strike="noStrike">
                <a:solidFill>
                  <a:srgbClr val="000000"/>
                </a:solidFill>
                <a:latin typeface="宋体"/>
              </a:rPr>
              <a:t>D.</a:t>
            </a:r>
            <a:r>
              <a:rPr b="1" lang="zh-CN" sz="2400" spc="-1" strike="noStrike">
                <a:solidFill>
                  <a:srgbClr val="000000"/>
                </a:solidFill>
                <a:latin typeface="宋体"/>
              </a:rPr>
              <a:t>颜色浓。   </a:t>
            </a:r>
            <a:r>
              <a:rPr b="1" lang="en-US" sz="2400" spc="-1" strike="noStrike">
                <a:solidFill>
                  <a:srgbClr val="000000"/>
                </a:solidFill>
                <a:latin typeface="宋体"/>
              </a:rPr>
              <a:t>E.</a:t>
            </a:r>
            <a:r>
              <a:rPr b="1" lang="zh-CN" sz="2400" spc="-1" strike="noStrike">
                <a:solidFill>
                  <a:srgbClr val="000000"/>
                </a:solidFill>
                <a:latin typeface="宋体"/>
              </a:rPr>
              <a:t>感情厚。</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他们的感情很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夜深了，老师还在工作。</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000000"/>
                </a:solidFill>
                <a:latin typeface="宋体"/>
              </a:rPr>
              <a:t>这本书的内容很深。</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000000"/>
                </a:solidFill>
                <a:latin typeface="宋体"/>
              </a:rPr>
              <a:t>莲花湖的水很深，见不到底。</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5)</a:t>
            </a:r>
            <a:r>
              <a:rPr b="1" lang="zh-CN" sz="2400" spc="-1" strike="noStrike">
                <a:solidFill>
                  <a:srgbClr val="000000"/>
                </a:solidFill>
                <a:latin typeface="宋体"/>
              </a:rPr>
              <a:t>今天老师穿了一件深色的衣服。</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439" name="矩形 2"/>
          <p:cNvSpPr/>
          <p:nvPr/>
        </p:nvSpPr>
        <p:spPr>
          <a:xfrm>
            <a:off x="3292200" y="3294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440" name="矩形 8"/>
          <p:cNvSpPr/>
          <p:nvPr/>
        </p:nvSpPr>
        <p:spPr>
          <a:xfrm>
            <a:off x="1722240" y="38401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441" name="矩形 9"/>
          <p:cNvSpPr/>
          <p:nvPr/>
        </p:nvSpPr>
        <p:spPr>
          <a:xfrm>
            <a:off x="3292200" y="49309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442" name="矩形 10"/>
          <p:cNvSpPr/>
          <p:nvPr/>
        </p:nvSpPr>
        <p:spPr>
          <a:xfrm>
            <a:off x="3543120" y="4386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443" name="矩形 11"/>
          <p:cNvSpPr/>
          <p:nvPr/>
        </p:nvSpPr>
        <p:spPr>
          <a:xfrm>
            <a:off x="3859200" y="5487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a:t>
            </a:r>
            <a:endParaRPr b="0" lang="en-US" sz="2400" spc="-1" strike="noStrike">
              <a:solidFill>
                <a:srgbClr val="000000"/>
              </a:solidFill>
              <a:latin typeface="Calibri"/>
            </a:endParaRPr>
          </a:p>
        </p:txBody>
      </p:sp>
      <p:sp>
        <p:nvSpPr>
          <p:cNvPr id="444" name="矩形 14"/>
          <p:cNvSpPr/>
          <p:nvPr/>
        </p:nvSpPr>
        <p:spPr>
          <a:xfrm>
            <a:off x="4223520" y="3176640"/>
            <a:ext cx="3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E</a:t>
            </a:r>
            <a:endParaRPr b="0" lang="en-US" sz="2400" spc="-1" strike="noStrike">
              <a:solidFill>
                <a:srgbClr val="000000"/>
              </a:solidFill>
              <a:latin typeface="Calibri"/>
            </a:endParaRPr>
          </a:p>
        </p:txBody>
      </p:sp>
      <p:sp>
        <p:nvSpPr>
          <p:cNvPr id="445" name="矩形 15"/>
          <p:cNvSpPr/>
          <p:nvPr/>
        </p:nvSpPr>
        <p:spPr>
          <a:xfrm>
            <a:off x="5125680" y="37321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B</a:t>
            </a:r>
            <a:endParaRPr b="0" lang="en-US" sz="2400" spc="-1" strike="noStrike">
              <a:solidFill>
                <a:srgbClr val="000000"/>
              </a:solidFill>
              <a:latin typeface="Calibri"/>
            </a:endParaRPr>
          </a:p>
        </p:txBody>
      </p:sp>
      <p:sp>
        <p:nvSpPr>
          <p:cNvPr id="446" name="矩形 16"/>
          <p:cNvSpPr/>
          <p:nvPr/>
        </p:nvSpPr>
        <p:spPr>
          <a:xfrm>
            <a:off x="4480200" y="427824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C</a:t>
            </a:r>
            <a:endParaRPr b="0" lang="en-US" sz="2400" spc="-1" strike="noStrike">
              <a:solidFill>
                <a:srgbClr val="000000"/>
              </a:solidFill>
              <a:latin typeface="Calibri"/>
            </a:endParaRPr>
          </a:p>
        </p:txBody>
      </p:sp>
      <p:sp>
        <p:nvSpPr>
          <p:cNvPr id="447" name="矩形 17"/>
          <p:cNvSpPr/>
          <p:nvPr/>
        </p:nvSpPr>
        <p:spPr>
          <a:xfrm>
            <a:off x="5698800" y="484668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a:t>
            </a:r>
            <a:endParaRPr b="0" lang="en-US" sz="2400" spc="-1" strike="noStrike">
              <a:solidFill>
                <a:srgbClr val="000000"/>
              </a:solidFill>
              <a:latin typeface="Calibri"/>
            </a:endParaRPr>
          </a:p>
        </p:txBody>
      </p:sp>
      <p:sp>
        <p:nvSpPr>
          <p:cNvPr id="448" name="矩形 18"/>
          <p:cNvSpPr/>
          <p:nvPr/>
        </p:nvSpPr>
        <p:spPr>
          <a:xfrm>
            <a:off x="5515200" y="5259240"/>
            <a:ext cx="1469880" cy="642600"/>
          </a:xfrm>
          <a:prstGeom prst="rect">
            <a:avLst/>
          </a:prstGeom>
          <a:noFill/>
          <a:ln w="0">
            <a:noFill/>
          </a:ln>
        </p:spPr>
        <p:style>
          <a:lnRef idx="0"/>
          <a:fillRef idx="0"/>
          <a:effectRef idx="0"/>
          <a:fontRef idx="minor"/>
        </p:style>
        <p:txBody>
          <a:bodyPr wrap="none"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宋体"/>
              </a:rPr>
              <a:t>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22" presetSubtype="8">
                                  <p:stCondLst>
                                    <p:cond delay="0"/>
                                  </p:stCondLst>
                                  <p:childTnLst>
                                    <p:set>
                                      <p:cBhvr>
                                        <p:cTn id="1355" dur="1" fill="hold">
                                          <p:stCondLst>
                                            <p:cond delay="0"/>
                                          </p:stCondLst>
                                        </p:cTn>
                                        <p:tgtEl>
                                          <p:spTgt spid="444"/>
                                        </p:tgtEl>
                                        <p:attrNameLst>
                                          <p:attrName>style.visibility</p:attrName>
                                        </p:attrNameLst>
                                      </p:cBhvr>
                                      <p:to>
                                        <p:strVal val="visible"/>
                                      </p:to>
                                    </p:set>
                                    <p:animEffect filter="wipe(left)" transition="in">
                                      <p:cBhvr additive="repl">
                                        <p:cTn id="1356" dur="500"/>
                                        <p:tgtEl>
                                          <p:spTgt spid="444"/>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22" presetSubtype="8">
                                  <p:stCondLst>
                                    <p:cond delay="0"/>
                                  </p:stCondLst>
                                  <p:childTnLst>
                                    <p:set>
                                      <p:cBhvr>
                                        <p:cTn id="1360" dur="1" fill="hold">
                                          <p:stCondLst>
                                            <p:cond delay="0"/>
                                          </p:stCondLst>
                                        </p:cTn>
                                        <p:tgtEl>
                                          <p:spTgt spid="445"/>
                                        </p:tgtEl>
                                        <p:attrNameLst>
                                          <p:attrName>style.visibility</p:attrName>
                                        </p:attrNameLst>
                                      </p:cBhvr>
                                      <p:to>
                                        <p:strVal val="visible"/>
                                      </p:to>
                                    </p:set>
                                    <p:animEffect filter="wipe(left)" transition="in">
                                      <p:cBhvr additive="repl">
                                        <p:cTn id="1361" dur="500"/>
                                        <p:tgtEl>
                                          <p:spTgt spid="445"/>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22" presetSubtype="8">
                                  <p:stCondLst>
                                    <p:cond delay="0"/>
                                  </p:stCondLst>
                                  <p:childTnLst>
                                    <p:set>
                                      <p:cBhvr>
                                        <p:cTn id="1365" dur="1" fill="hold">
                                          <p:stCondLst>
                                            <p:cond delay="0"/>
                                          </p:stCondLst>
                                        </p:cTn>
                                        <p:tgtEl>
                                          <p:spTgt spid="446"/>
                                        </p:tgtEl>
                                        <p:attrNameLst>
                                          <p:attrName>style.visibility</p:attrName>
                                        </p:attrNameLst>
                                      </p:cBhvr>
                                      <p:to>
                                        <p:strVal val="visible"/>
                                      </p:to>
                                    </p:set>
                                    <p:animEffect filter="wipe(left)" transition="in">
                                      <p:cBhvr additive="repl">
                                        <p:cTn id="1366" dur="500"/>
                                        <p:tgtEl>
                                          <p:spTgt spid="446"/>
                                        </p:tgtEl>
                                      </p:cBhvr>
                                    </p:animEffec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447"/>
                                        </p:tgtEl>
                                        <p:attrNameLst>
                                          <p:attrName>style.visibility</p:attrName>
                                        </p:attrNameLst>
                                      </p:cBhvr>
                                      <p:to>
                                        <p:strVal val="visible"/>
                                      </p:to>
                                    </p:set>
                                    <p:animEffect filter="wipe(left)" transition="in">
                                      <p:cBhvr additive="repl">
                                        <p:cTn id="1371" dur="500"/>
                                        <p:tgtEl>
                                          <p:spTgt spid="447"/>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2" presetSubtype="8">
                                  <p:stCondLst>
                                    <p:cond delay="0"/>
                                  </p:stCondLst>
                                  <p:childTnLst>
                                    <p:set>
                                      <p:cBhvr>
                                        <p:cTn id="1375" dur="1" fill="hold">
                                          <p:stCondLst>
                                            <p:cond delay="0"/>
                                          </p:stCondLst>
                                        </p:cTn>
                                        <p:tgtEl>
                                          <p:spTgt spid="448"/>
                                        </p:tgtEl>
                                        <p:attrNameLst>
                                          <p:attrName>style.visibility</p:attrName>
                                        </p:attrNameLst>
                                      </p:cBhvr>
                                      <p:to>
                                        <p:strVal val="visible"/>
                                      </p:to>
                                    </p:set>
                                    <p:animEffect filter="wipe(left)" transition="in">
                                      <p:cBhvr additive="repl">
                                        <p:cTn id="13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矩形 9"/>
          <p:cNvSpPr/>
          <p:nvPr/>
        </p:nvSpPr>
        <p:spPr>
          <a:xfrm>
            <a:off x="755640" y="1557360"/>
            <a:ext cx="7561440" cy="33858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5</a:t>
            </a:r>
            <a:r>
              <a:rPr b="1" lang="zh-CN" sz="2400" spc="-1" strike="noStrike">
                <a:solidFill>
                  <a:srgbClr val="000000"/>
                </a:solidFill>
                <a:latin typeface="宋体"/>
              </a:rPr>
              <a:t>．按要求改写句子。</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阿炳因为眼疾被迫在街头流浪。阿炳没有放弃追求自己的音乐理想。</a:t>
            </a:r>
            <a:r>
              <a:rPr b="1" lang="en-US" sz="2400" spc="-1" strike="noStrike">
                <a:solidFill>
                  <a:srgbClr val="000000"/>
                </a:solidFill>
                <a:latin typeface="宋体"/>
              </a:rPr>
              <a:t>(</a:t>
            </a:r>
            <a:r>
              <a:rPr b="1" lang="zh-CN" sz="2400" spc="-1" strike="noStrike">
                <a:solidFill>
                  <a:srgbClr val="000000"/>
                </a:solidFill>
                <a:latin typeface="仿宋"/>
                <a:ea typeface="仿宋"/>
              </a:rPr>
              <a:t>用关联词语连成一句话</a:t>
            </a:r>
            <a:r>
              <a:rPr b="1" lang="en-US"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____________________________________________</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红色的宫墙下秋虫在鸣叫。</a:t>
            </a:r>
            <a:r>
              <a:rPr b="1" lang="en-US" sz="2400" spc="-1" strike="noStrike">
                <a:solidFill>
                  <a:srgbClr val="000000"/>
                </a:solidFill>
                <a:latin typeface="宋体"/>
              </a:rPr>
              <a:t>(</a:t>
            </a:r>
            <a:r>
              <a:rPr b="1" lang="zh-CN" sz="2400" spc="-1" strike="noStrike">
                <a:solidFill>
                  <a:srgbClr val="000000"/>
                </a:solidFill>
                <a:latin typeface="仿宋"/>
                <a:ea typeface="仿宋"/>
              </a:rPr>
              <a:t>改成拟人句</a:t>
            </a:r>
            <a:r>
              <a:rPr b="1" lang="en-US" sz="2400" spc="-1" strike="noStrike">
                <a:solidFill>
                  <a:srgbClr val="000000"/>
                </a:solidFill>
                <a:latin typeface="宋体"/>
              </a:rPr>
              <a:t>)</a:t>
            </a:r>
            <a:endParaRPr b="0" lang="en-US" sz="2400" spc="-1" strike="noStrike">
              <a:solidFill>
                <a:srgbClr val="000000"/>
              </a:solidFill>
              <a:latin typeface="Calibri"/>
            </a:endParaRPr>
          </a:p>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____________________________________________</a:t>
            </a:r>
            <a:endParaRPr b="0" lang="en-US" sz="2400" spc="-1" strike="noStrike">
              <a:solidFill>
                <a:srgbClr val="000000"/>
              </a:solidFill>
              <a:latin typeface="Calibri"/>
            </a:endParaRPr>
          </a:p>
        </p:txBody>
      </p:sp>
      <p:sp>
        <p:nvSpPr>
          <p:cNvPr id="450" name="矩形 10"/>
          <p:cNvSpPr/>
          <p:nvPr/>
        </p:nvSpPr>
        <p:spPr>
          <a:xfrm>
            <a:off x="1249200" y="4821120"/>
            <a:ext cx="4997520" cy="642600"/>
          </a:xfrm>
          <a:prstGeom prst="rect">
            <a:avLst/>
          </a:prstGeom>
          <a:noFill/>
          <a:ln w="0">
            <a:noFill/>
          </a:ln>
        </p:spPr>
        <p:style>
          <a:lnRef idx="0"/>
          <a:fillRef idx="0"/>
          <a:effectRef idx="0"/>
          <a:fontRef idx="minor"/>
        </p:style>
        <p:txBody>
          <a:bodyPr lIns="90000" rIns="90000" tIns="46800" bIns="46800" anchor="t">
            <a:spAutoFit/>
          </a:bodyPr>
          <a:p>
            <a:pPr marL="531720" indent="-5317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ff0000"/>
                </a:solidFill>
                <a:latin typeface="宋体"/>
              </a:rPr>
              <a:t>红色的宫墙下秋虫在开音乐会。</a:t>
            </a:r>
            <a:endParaRPr b="0" lang="en-US" sz="2400" spc="-1" strike="noStrike">
              <a:solidFill>
                <a:srgbClr val="000000"/>
              </a:solidFill>
              <a:latin typeface="Calibri"/>
            </a:endParaRPr>
          </a:p>
        </p:txBody>
      </p:sp>
      <p:sp>
        <p:nvSpPr>
          <p:cNvPr id="451" name="矩形 11"/>
          <p:cNvSpPr/>
          <p:nvPr/>
        </p:nvSpPr>
        <p:spPr>
          <a:xfrm>
            <a:off x="1258920" y="320040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阿炳虽然因为眼疾被迫在街头流浪，但是没有放弃追求自己的音乐理想。</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7" dur="indefinite" restart="never" nodeType="tmRoot">
          <p:childTnLst>
            <p:seq>
              <p:cTn id="1378" dur="indefinite" nodeType="mainSeq">
                <p:childTnLst>
                  <p:par>
                    <p:cTn id="1379" nodeType="clickEffect" fill="hold">
                      <p:stCondLst>
                        <p:cond delay="indefinite"/>
                      </p:stCondLst>
                      <p:childTnLst>
                        <p:par>
                          <p:cTn id="1380" nodeType="withEffect" fill="hold">
                            <p:stCondLst>
                              <p:cond delay="0"/>
                            </p:stCondLst>
                            <p:childTnLst>
                              <p:par>
                                <p:cTn id="1381" nodeType="clickEffect" fill="hold" presetClass="entr" presetID="22" presetSubtype="8">
                                  <p:stCondLst>
                                    <p:cond delay="0"/>
                                  </p:stCondLst>
                                  <p:childTnLst>
                                    <p:set>
                                      <p:cBhvr>
                                        <p:cTn id="1382" dur="1" fill="hold">
                                          <p:stCondLst>
                                            <p:cond delay="0"/>
                                          </p:stCondLst>
                                        </p:cTn>
                                        <p:tgtEl>
                                          <p:spTgt spid="451"/>
                                        </p:tgtEl>
                                        <p:attrNameLst>
                                          <p:attrName>style.visibility</p:attrName>
                                        </p:attrNameLst>
                                      </p:cBhvr>
                                      <p:to>
                                        <p:strVal val="visible"/>
                                      </p:to>
                                    </p:set>
                                    <p:animEffect filter="wipe(left)" transition="in">
                                      <p:cBhvr additive="repl">
                                        <p:cTn id="1383" dur="500"/>
                                        <p:tgtEl>
                                          <p:spTgt spid="451"/>
                                        </p:tgtEl>
                                      </p:cBhvr>
                                    </p:animEffect>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2" presetSubtype="8">
                                  <p:stCondLst>
                                    <p:cond delay="0"/>
                                  </p:stCondLst>
                                  <p:childTnLst>
                                    <p:set>
                                      <p:cBhvr>
                                        <p:cTn id="1387" dur="1" fill="hold">
                                          <p:stCondLst>
                                            <p:cond delay="0"/>
                                          </p:stCondLst>
                                        </p:cTn>
                                        <p:tgtEl>
                                          <p:spTgt spid="450"/>
                                        </p:tgtEl>
                                        <p:attrNameLst>
                                          <p:attrName>style.visibility</p:attrName>
                                        </p:attrNameLst>
                                      </p:cBhvr>
                                      <p:to>
                                        <p:strVal val="visible"/>
                                      </p:to>
                                    </p:set>
                                    <p:animEffect filter="wipe(left)" transition="in">
                                      <p:cBhvr additive="repl">
                                        <p:cTn id="1388"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锡</a:t>
            </a:r>
            <a:endParaRPr b="0" lang="en-US" sz="8000" spc="-1" strike="noStrike">
              <a:solidFill>
                <a:srgbClr val="000000"/>
              </a:solidFill>
              <a:latin typeface="Calibri"/>
            </a:endParaRPr>
          </a:p>
        </p:txBody>
      </p:sp>
      <p:graphicFrame>
        <p:nvGraphicFramePr>
          <p:cNvPr id="78"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 name="图片 10" descr=""/>
          <p:cNvPicPr/>
          <p:nvPr/>
        </p:nvPicPr>
        <p:blipFill>
          <a:blip r:embed="rId1"/>
          <a:stretch/>
        </p:blipFill>
        <p:spPr>
          <a:xfrm>
            <a:off x="3284640" y="322200"/>
            <a:ext cx="2585880" cy="601560"/>
          </a:xfrm>
          <a:prstGeom prst="rect">
            <a:avLst/>
          </a:prstGeom>
          <a:ln w="0">
            <a:noFill/>
          </a:ln>
          <a:effectLst>
            <a:outerShdw dist="153753" dir="2700000" blurRad="0" rotWithShape="0">
              <a:srgbClr val="000000">
                <a:alpha val="40000"/>
              </a:srgbClr>
            </a:outerShdw>
          </a:effectLst>
        </p:spPr>
      </p:pic>
      <p:grpSp>
        <p:nvGrpSpPr>
          <p:cNvPr id="80" name="组合 2"/>
          <p:cNvGrpSpPr/>
          <p:nvPr/>
        </p:nvGrpSpPr>
        <p:grpSpPr>
          <a:xfrm>
            <a:off x="730080" y="1200240"/>
            <a:ext cx="2905200" cy="666720"/>
            <a:chOff x="730080" y="1200240"/>
            <a:chExt cx="2905200" cy="666720"/>
          </a:xfrm>
        </p:grpSpPr>
        <p:sp>
          <p:nvSpPr>
            <p:cNvPr id="81" name="圆角矩形 17"/>
            <p:cNvSpPr/>
            <p:nvPr/>
          </p:nvSpPr>
          <p:spPr>
            <a:xfrm>
              <a:off x="1545840" y="1338120"/>
              <a:ext cx="20894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2" name="图片 9" descr="book.gif"/>
            <p:cNvPicPr/>
            <p:nvPr/>
          </p:nvPicPr>
          <p:blipFill>
            <a:blip r:embed="rId2"/>
            <a:stretch/>
          </p:blipFill>
          <p:spPr>
            <a:xfrm>
              <a:off x="730080" y="1200240"/>
              <a:ext cx="1087200" cy="666720"/>
            </a:xfrm>
            <a:prstGeom prst="rect">
              <a:avLst/>
            </a:prstGeom>
            <a:ln w="0">
              <a:noFill/>
            </a:ln>
          </p:spPr>
        </p:pic>
        <p:sp>
          <p:nvSpPr>
            <p:cNvPr id="83" name="文本框 16"/>
            <p:cNvSpPr/>
            <p:nvPr/>
          </p:nvSpPr>
          <p:spPr>
            <a:xfrm>
              <a:off x="1805400" y="1357200"/>
              <a:ext cx="1752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我会写</a:t>
              </a:r>
              <a:endParaRPr b="0" lang="en-US" sz="2400" spc="-1" strike="noStrike">
                <a:solidFill>
                  <a:srgbClr val="000000"/>
                </a:solidFill>
                <a:latin typeface="Calibri"/>
              </a:endParaRPr>
            </a:p>
          </p:txBody>
        </p:sp>
      </p:grpSp>
      <p:grpSp>
        <p:nvGrpSpPr>
          <p:cNvPr id="84" name="组合 8"/>
          <p:cNvGrpSpPr/>
          <p:nvPr/>
        </p:nvGrpSpPr>
        <p:grpSpPr>
          <a:xfrm>
            <a:off x="1273320" y="3975120"/>
            <a:ext cx="2840040" cy="1572480"/>
            <a:chOff x="1273320" y="3975120"/>
            <a:chExt cx="2840040" cy="1572480"/>
          </a:xfrm>
        </p:grpSpPr>
        <p:pic>
          <p:nvPicPr>
            <p:cNvPr id="85" name="图示 4" descr=""/>
            <p:cNvPicPr/>
            <p:nvPr/>
          </p:nvPicPr>
          <p:blipFill>
            <a:blip r:embed="rId3"/>
            <a:stretch/>
          </p:blipFill>
          <p:spPr>
            <a:xfrm>
              <a:off x="1273320" y="3975120"/>
              <a:ext cx="2840040" cy="1572480"/>
            </a:xfrm>
            <a:prstGeom prst="rect">
              <a:avLst/>
            </a:prstGeom>
            <a:ln w="0">
              <a:noFill/>
            </a:ln>
          </p:spPr>
        </p:pic>
        <p:sp>
          <p:nvSpPr>
            <p:cNvPr id="86" name="矩形 2"/>
            <p:cNvSpPr/>
            <p:nvPr/>
          </p:nvSpPr>
          <p:spPr>
            <a:xfrm>
              <a:off x="1284480" y="458820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勿”字要大一些，托住上部的“日”。</a:t>
              </a:r>
              <a:endParaRPr b="0" lang="en-US" sz="2000" spc="-1" strike="noStrike">
                <a:solidFill>
                  <a:srgbClr val="000000"/>
                </a:solidFill>
                <a:latin typeface="Calibri"/>
              </a:endParaRPr>
            </a:p>
          </p:txBody>
        </p:sp>
      </p:grpSp>
      <p:sp>
        <p:nvSpPr>
          <p:cNvPr id="87" name="矩形 3"/>
          <p:cNvSpPr/>
          <p:nvPr/>
        </p:nvSpPr>
        <p:spPr>
          <a:xfrm>
            <a:off x="2346480" y="1868400"/>
            <a:ext cx="917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xī</a:t>
            </a:r>
            <a:endParaRPr b="0" lang="en-US" sz="4800" spc="-1" strike="noStrike">
              <a:solidFill>
                <a:srgbClr val="000000"/>
              </a:solidFill>
              <a:latin typeface="Calibri"/>
            </a:endParaRPr>
          </a:p>
        </p:txBody>
      </p:sp>
      <p:sp>
        <p:nvSpPr>
          <p:cNvPr id="88" name="Freeform 174"/>
          <p:cNvSpPr/>
          <p:nvPr/>
        </p:nvSpPr>
        <p:spPr>
          <a:xfrm>
            <a:off x="6283440" y="3851280"/>
            <a:ext cx="927000" cy="915840"/>
          </a:xfrm>
          <a:custGeom>
            <a:avLst/>
            <a:gdLst/>
            <a:ahLst/>
            <a:rect l="l" t="t" r="r" b="b"/>
            <a:pathLst>
              <a:path w="1167" h="1153">
                <a:moveTo>
                  <a:pt x="881" y="587"/>
                </a:moveTo>
                <a:lnTo>
                  <a:pt x="868" y="604"/>
                </a:lnTo>
                <a:lnTo>
                  <a:pt x="854" y="621"/>
                </a:lnTo>
                <a:lnTo>
                  <a:pt x="839" y="637"/>
                </a:lnTo>
                <a:lnTo>
                  <a:pt x="823" y="652"/>
                </a:lnTo>
                <a:lnTo>
                  <a:pt x="808" y="668"/>
                </a:lnTo>
                <a:lnTo>
                  <a:pt x="791" y="685"/>
                </a:lnTo>
                <a:lnTo>
                  <a:pt x="774" y="700"/>
                </a:lnTo>
                <a:lnTo>
                  <a:pt x="754" y="716"/>
                </a:lnTo>
                <a:lnTo>
                  <a:pt x="737" y="731"/>
                </a:lnTo>
                <a:lnTo>
                  <a:pt x="716" y="746"/>
                </a:lnTo>
                <a:lnTo>
                  <a:pt x="697" y="762"/>
                </a:lnTo>
                <a:lnTo>
                  <a:pt x="676" y="777"/>
                </a:lnTo>
                <a:lnTo>
                  <a:pt x="655" y="794"/>
                </a:lnTo>
                <a:lnTo>
                  <a:pt x="631" y="810"/>
                </a:lnTo>
                <a:lnTo>
                  <a:pt x="608" y="827"/>
                </a:lnTo>
                <a:lnTo>
                  <a:pt x="585" y="844"/>
                </a:lnTo>
                <a:lnTo>
                  <a:pt x="536" y="877"/>
                </a:lnTo>
                <a:lnTo>
                  <a:pt x="488" y="907"/>
                </a:lnTo>
                <a:lnTo>
                  <a:pt x="441" y="938"/>
                </a:lnTo>
                <a:lnTo>
                  <a:pt x="393" y="967"/>
                </a:lnTo>
                <a:lnTo>
                  <a:pt x="347" y="996"/>
                </a:lnTo>
                <a:lnTo>
                  <a:pt x="299" y="1023"/>
                </a:lnTo>
                <a:lnTo>
                  <a:pt x="251" y="1048"/>
                </a:lnTo>
                <a:lnTo>
                  <a:pt x="203" y="1073"/>
                </a:lnTo>
                <a:lnTo>
                  <a:pt x="180" y="1084"/>
                </a:lnTo>
                <a:lnTo>
                  <a:pt x="157" y="1096"/>
                </a:lnTo>
                <a:lnTo>
                  <a:pt x="138" y="1105"/>
                </a:lnTo>
                <a:lnTo>
                  <a:pt x="119" y="1115"/>
                </a:lnTo>
                <a:lnTo>
                  <a:pt x="102" y="1122"/>
                </a:lnTo>
                <a:lnTo>
                  <a:pt x="86" y="1130"/>
                </a:lnTo>
                <a:lnTo>
                  <a:pt x="71" y="1136"/>
                </a:lnTo>
                <a:lnTo>
                  <a:pt x="58" y="1142"/>
                </a:lnTo>
                <a:lnTo>
                  <a:pt x="46" y="1145"/>
                </a:lnTo>
                <a:lnTo>
                  <a:pt x="36" y="1149"/>
                </a:lnTo>
                <a:lnTo>
                  <a:pt x="27" y="1151"/>
                </a:lnTo>
                <a:lnTo>
                  <a:pt x="19" y="1153"/>
                </a:lnTo>
                <a:lnTo>
                  <a:pt x="13" y="1153"/>
                </a:lnTo>
                <a:lnTo>
                  <a:pt x="8" y="1153"/>
                </a:lnTo>
                <a:lnTo>
                  <a:pt x="4" y="1151"/>
                </a:lnTo>
                <a:lnTo>
                  <a:pt x="2" y="1149"/>
                </a:lnTo>
                <a:lnTo>
                  <a:pt x="0" y="1147"/>
                </a:lnTo>
                <a:lnTo>
                  <a:pt x="0" y="1145"/>
                </a:lnTo>
                <a:lnTo>
                  <a:pt x="0" y="1142"/>
                </a:lnTo>
                <a:lnTo>
                  <a:pt x="2" y="1140"/>
                </a:lnTo>
                <a:lnTo>
                  <a:pt x="4" y="1134"/>
                </a:lnTo>
                <a:lnTo>
                  <a:pt x="8" y="1128"/>
                </a:lnTo>
                <a:lnTo>
                  <a:pt x="13" y="1121"/>
                </a:lnTo>
                <a:lnTo>
                  <a:pt x="23" y="1115"/>
                </a:lnTo>
                <a:lnTo>
                  <a:pt x="33" y="1107"/>
                </a:lnTo>
                <a:lnTo>
                  <a:pt x="44" y="1097"/>
                </a:lnTo>
                <a:lnTo>
                  <a:pt x="58" y="1088"/>
                </a:lnTo>
                <a:lnTo>
                  <a:pt x="71" y="1078"/>
                </a:lnTo>
                <a:lnTo>
                  <a:pt x="88" y="1067"/>
                </a:lnTo>
                <a:lnTo>
                  <a:pt x="106" y="1055"/>
                </a:lnTo>
                <a:lnTo>
                  <a:pt x="125" y="1042"/>
                </a:lnTo>
                <a:lnTo>
                  <a:pt x="146" y="1028"/>
                </a:lnTo>
                <a:lnTo>
                  <a:pt x="169" y="1013"/>
                </a:lnTo>
                <a:lnTo>
                  <a:pt x="192" y="996"/>
                </a:lnTo>
                <a:lnTo>
                  <a:pt x="217" y="980"/>
                </a:lnTo>
                <a:lnTo>
                  <a:pt x="242" y="965"/>
                </a:lnTo>
                <a:lnTo>
                  <a:pt x="269" y="950"/>
                </a:lnTo>
                <a:lnTo>
                  <a:pt x="294" y="931"/>
                </a:lnTo>
                <a:lnTo>
                  <a:pt x="321" y="913"/>
                </a:lnTo>
                <a:lnTo>
                  <a:pt x="347" y="894"/>
                </a:lnTo>
                <a:lnTo>
                  <a:pt x="376" y="873"/>
                </a:lnTo>
                <a:lnTo>
                  <a:pt x="403" y="852"/>
                </a:lnTo>
                <a:lnTo>
                  <a:pt x="432" y="831"/>
                </a:lnTo>
                <a:lnTo>
                  <a:pt x="461" y="808"/>
                </a:lnTo>
                <a:lnTo>
                  <a:pt x="488" y="785"/>
                </a:lnTo>
                <a:lnTo>
                  <a:pt x="516" y="760"/>
                </a:lnTo>
                <a:lnTo>
                  <a:pt x="545" y="735"/>
                </a:lnTo>
                <a:lnTo>
                  <a:pt x="574" y="708"/>
                </a:lnTo>
                <a:lnTo>
                  <a:pt x="603" y="679"/>
                </a:lnTo>
                <a:lnTo>
                  <a:pt x="631" y="652"/>
                </a:lnTo>
                <a:lnTo>
                  <a:pt x="660" y="623"/>
                </a:lnTo>
                <a:lnTo>
                  <a:pt x="689" y="595"/>
                </a:lnTo>
                <a:lnTo>
                  <a:pt x="718" y="564"/>
                </a:lnTo>
                <a:lnTo>
                  <a:pt x="745" y="531"/>
                </a:lnTo>
                <a:lnTo>
                  <a:pt x="774" y="497"/>
                </a:lnTo>
                <a:lnTo>
                  <a:pt x="800" y="460"/>
                </a:lnTo>
                <a:lnTo>
                  <a:pt x="827" y="422"/>
                </a:lnTo>
                <a:lnTo>
                  <a:pt x="856" y="383"/>
                </a:lnTo>
                <a:lnTo>
                  <a:pt x="883" y="341"/>
                </a:lnTo>
                <a:lnTo>
                  <a:pt x="908" y="297"/>
                </a:lnTo>
                <a:lnTo>
                  <a:pt x="935" y="253"/>
                </a:lnTo>
                <a:lnTo>
                  <a:pt x="960" y="205"/>
                </a:lnTo>
                <a:lnTo>
                  <a:pt x="987" y="157"/>
                </a:lnTo>
                <a:lnTo>
                  <a:pt x="1012" y="105"/>
                </a:lnTo>
                <a:lnTo>
                  <a:pt x="1036" y="53"/>
                </a:lnTo>
                <a:lnTo>
                  <a:pt x="1060" y="0"/>
                </a:lnTo>
                <a:lnTo>
                  <a:pt x="1073" y="21"/>
                </a:lnTo>
                <a:lnTo>
                  <a:pt x="1084" y="40"/>
                </a:lnTo>
                <a:lnTo>
                  <a:pt x="1096" y="59"/>
                </a:lnTo>
                <a:lnTo>
                  <a:pt x="1106" y="76"/>
                </a:lnTo>
                <a:lnTo>
                  <a:pt x="1115" y="94"/>
                </a:lnTo>
                <a:lnTo>
                  <a:pt x="1125" y="109"/>
                </a:lnTo>
                <a:lnTo>
                  <a:pt x="1132" y="122"/>
                </a:lnTo>
                <a:lnTo>
                  <a:pt x="1140" y="136"/>
                </a:lnTo>
                <a:lnTo>
                  <a:pt x="1146" y="147"/>
                </a:lnTo>
                <a:lnTo>
                  <a:pt x="1152" y="159"/>
                </a:lnTo>
                <a:lnTo>
                  <a:pt x="1155" y="168"/>
                </a:lnTo>
                <a:lnTo>
                  <a:pt x="1159" y="178"/>
                </a:lnTo>
                <a:lnTo>
                  <a:pt x="1163" y="186"/>
                </a:lnTo>
                <a:lnTo>
                  <a:pt x="1165" y="193"/>
                </a:lnTo>
                <a:lnTo>
                  <a:pt x="1167" y="199"/>
                </a:lnTo>
                <a:lnTo>
                  <a:pt x="1167" y="205"/>
                </a:lnTo>
                <a:lnTo>
                  <a:pt x="1165" y="209"/>
                </a:lnTo>
                <a:lnTo>
                  <a:pt x="1161" y="215"/>
                </a:lnTo>
                <a:lnTo>
                  <a:pt x="1159" y="220"/>
                </a:lnTo>
                <a:lnTo>
                  <a:pt x="1155" y="228"/>
                </a:lnTo>
                <a:lnTo>
                  <a:pt x="1152" y="236"/>
                </a:lnTo>
                <a:lnTo>
                  <a:pt x="1148" y="243"/>
                </a:lnTo>
                <a:lnTo>
                  <a:pt x="1144" y="251"/>
                </a:lnTo>
                <a:lnTo>
                  <a:pt x="1138" y="261"/>
                </a:lnTo>
                <a:lnTo>
                  <a:pt x="1127" y="278"/>
                </a:lnTo>
                <a:lnTo>
                  <a:pt x="1115" y="299"/>
                </a:lnTo>
                <a:lnTo>
                  <a:pt x="1108" y="311"/>
                </a:lnTo>
                <a:lnTo>
                  <a:pt x="1100" y="322"/>
                </a:lnTo>
                <a:lnTo>
                  <a:pt x="1092" y="334"/>
                </a:lnTo>
                <a:lnTo>
                  <a:pt x="1084" y="345"/>
                </a:lnTo>
                <a:lnTo>
                  <a:pt x="1061" y="374"/>
                </a:lnTo>
                <a:lnTo>
                  <a:pt x="1038" y="403"/>
                </a:lnTo>
                <a:lnTo>
                  <a:pt x="1015" y="431"/>
                </a:lnTo>
                <a:lnTo>
                  <a:pt x="992" y="460"/>
                </a:lnTo>
                <a:lnTo>
                  <a:pt x="965" y="491"/>
                </a:lnTo>
                <a:lnTo>
                  <a:pt x="941" y="522"/>
                </a:lnTo>
                <a:lnTo>
                  <a:pt x="912" y="554"/>
                </a:lnTo>
                <a:lnTo>
                  <a:pt x="896" y="572"/>
                </a:lnTo>
                <a:lnTo>
                  <a:pt x="881" y="58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Freeform 175"/>
          <p:cNvSpPr/>
          <p:nvPr/>
        </p:nvSpPr>
        <p:spPr>
          <a:xfrm>
            <a:off x="6415200" y="3902040"/>
            <a:ext cx="455400" cy="514440"/>
          </a:xfrm>
          <a:custGeom>
            <a:avLst/>
            <a:gdLst/>
            <a:ahLst/>
            <a:rect l="l" t="t" r="r" b="b"/>
            <a:pathLst>
              <a:path w="574" h="649">
                <a:moveTo>
                  <a:pt x="443" y="320"/>
                </a:moveTo>
                <a:lnTo>
                  <a:pt x="411" y="353"/>
                </a:lnTo>
                <a:lnTo>
                  <a:pt x="378" y="388"/>
                </a:lnTo>
                <a:lnTo>
                  <a:pt x="346" y="420"/>
                </a:lnTo>
                <a:lnTo>
                  <a:pt x="311" y="451"/>
                </a:lnTo>
                <a:lnTo>
                  <a:pt x="276" y="482"/>
                </a:lnTo>
                <a:lnTo>
                  <a:pt x="240" y="510"/>
                </a:lnTo>
                <a:lnTo>
                  <a:pt x="205" y="537"/>
                </a:lnTo>
                <a:lnTo>
                  <a:pt x="188" y="551"/>
                </a:lnTo>
                <a:lnTo>
                  <a:pt x="169" y="562"/>
                </a:lnTo>
                <a:lnTo>
                  <a:pt x="150" y="578"/>
                </a:lnTo>
                <a:lnTo>
                  <a:pt x="132" y="589"/>
                </a:lnTo>
                <a:lnTo>
                  <a:pt x="115" y="601"/>
                </a:lnTo>
                <a:lnTo>
                  <a:pt x="100" y="610"/>
                </a:lnTo>
                <a:lnTo>
                  <a:pt x="86" y="620"/>
                </a:lnTo>
                <a:lnTo>
                  <a:pt x="73" y="628"/>
                </a:lnTo>
                <a:lnTo>
                  <a:pt x="61" y="635"/>
                </a:lnTo>
                <a:lnTo>
                  <a:pt x="52" y="639"/>
                </a:lnTo>
                <a:lnTo>
                  <a:pt x="42" y="645"/>
                </a:lnTo>
                <a:lnTo>
                  <a:pt x="33" y="647"/>
                </a:lnTo>
                <a:lnTo>
                  <a:pt x="25" y="649"/>
                </a:lnTo>
                <a:lnTo>
                  <a:pt x="19" y="649"/>
                </a:lnTo>
                <a:lnTo>
                  <a:pt x="13" y="649"/>
                </a:lnTo>
                <a:lnTo>
                  <a:pt x="10" y="647"/>
                </a:lnTo>
                <a:lnTo>
                  <a:pt x="6" y="643"/>
                </a:lnTo>
                <a:lnTo>
                  <a:pt x="4" y="639"/>
                </a:lnTo>
                <a:lnTo>
                  <a:pt x="2" y="637"/>
                </a:lnTo>
                <a:lnTo>
                  <a:pt x="0" y="633"/>
                </a:lnTo>
                <a:lnTo>
                  <a:pt x="2" y="628"/>
                </a:lnTo>
                <a:lnTo>
                  <a:pt x="4" y="624"/>
                </a:lnTo>
                <a:lnTo>
                  <a:pt x="6" y="618"/>
                </a:lnTo>
                <a:lnTo>
                  <a:pt x="10" y="610"/>
                </a:lnTo>
                <a:lnTo>
                  <a:pt x="15" y="603"/>
                </a:lnTo>
                <a:lnTo>
                  <a:pt x="21" y="595"/>
                </a:lnTo>
                <a:lnTo>
                  <a:pt x="29" y="587"/>
                </a:lnTo>
                <a:lnTo>
                  <a:pt x="37" y="578"/>
                </a:lnTo>
                <a:lnTo>
                  <a:pt x="46" y="568"/>
                </a:lnTo>
                <a:lnTo>
                  <a:pt x="58" y="557"/>
                </a:lnTo>
                <a:lnTo>
                  <a:pt x="69" y="547"/>
                </a:lnTo>
                <a:lnTo>
                  <a:pt x="81" y="535"/>
                </a:lnTo>
                <a:lnTo>
                  <a:pt x="94" y="524"/>
                </a:lnTo>
                <a:lnTo>
                  <a:pt x="109" y="512"/>
                </a:lnTo>
                <a:lnTo>
                  <a:pt x="117" y="505"/>
                </a:lnTo>
                <a:lnTo>
                  <a:pt x="127" y="499"/>
                </a:lnTo>
                <a:lnTo>
                  <a:pt x="134" y="491"/>
                </a:lnTo>
                <a:lnTo>
                  <a:pt x="142" y="482"/>
                </a:lnTo>
                <a:lnTo>
                  <a:pt x="152" y="474"/>
                </a:lnTo>
                <a:lnTo>
                  <a:pt x="161" y="464"/>
                </a:lnTo>
                <a:lnTo>
                  <a:pt x="169" y="455"/>
                </a:lnTo>
                <a:lnTo>
                  <a:pt x="179" y="443"/>
                </a:lnTo>
                <a:lnTo>
                  <a:pt x="188" y="434"/>
                </a:lnTo>
                <a:lnTo>
                  <a:pt x="200" y="420"/>
                </a:lnTo>
                <a:lnTo>
                  <a:pt x="209" y="409"/>
                </a:lnTo>
                <a:lnTo>
                  <a:pt x="219" y="395"/>
                </a:lnTo>
                <a:lnTo>
                  <a:pt x="230" y="382"/>
                </a:lnTo>
                <a:lnTo>
                  <a:pt x="242" y="368"/>
                </a:lnTo>
                <a:lnTo>
                  <a:pt x="251" y="353"/>
                </a:lnTo>
                <a:lnTo>
                  <a:pt x="263" y="338"/>
                </a:lnTo>
                <a:lnTo>
                  <a:pt x="275" y="322"/>
                </a:lnTo>
                <a:lnTo>
                  <a:pt x="288" y="305"/>
                </a:lnTo>
                <a:lnTo>
                  <a:pt x="299" y="288"/>
                </a:lnTo>
                <a:lnTo>
                  <a:pt x="311" y="269"/>
                </a:lnTo>
                <a:lnTo>
                  <a:pt x="324" y="251"/>
                </a:lnTo>
                <a:lnTo>
                  <a:pt x="338" y="230"/>
                </a:lnTo>
                <a:lnTo>
                  <a:pt x="349" y="211"/>
                </a:lnTo>
                <a:lnTo>
                  <a:pt x="363" y="190"/>
                </a:lnTo>
                <a:lnTo>
                  <a:pt x="376" y="169"/>
                </a:lnTo>
                <a:lnTo>
                  <a:pt x="392" y="148"/>
                </a:lnTo>
                <a:lnTo>
                  <a:pt x="405" y="125"/>
                </a:lnTo>
                <a:lnTo>
                  <a:pt x="418" y="102"/>
                </a:lnTo>
                <a:lnTo>
                  <a:pt x="434" y="77"/>
                </a:lnTo>
                <a:lnTo>
                  <a:pt x="449" y="52"/>
                </a:lnTo>
                <a:lnTo>
                  <a:pt x="463" y="27"/>
                </a:lnTo>
                <a:lnTo>
                  <a:pt x="478" y="0"/>
                </a:lnTo>
                <a:lnTo>
                  <a:pt x="490" y="11"/>
                </a:lnTo>
                <a:lnTo>
                  <a:pt x="499" y="23"/>
                </a:lnTo>
                <a:lnTo>
                  <a:pt x="509" y="34"/>
                </a:lnTo>
                <a:lnTo>
                  <a:pt x="518" y="46"/>
                </a:lnTo>
                <a:lnTo>
                  <a:pt x="526" y="56"/>
                </a:lnTo>
                <a:lnTo>
                  <a:pt x="536" y="65"/>
                </a:lnTo>
                <a:lnTo>
                  <a:pt x="541" y="75"/>
                </a:lnTo>
                <a:lnTo>
                  <a:pt x="549" y="84"/>
                </a:lnTo>
                <a:lnTo>
                  <a:pt x="555" y="92"/>
                </a:lnTo>
                <a:lnTo>
                  <a:pt x="559" y="100"/>
                </a:lnTo>
                <a:lnTo>
                  <a:pt x="564" y="105"/>
                </a:lnTo>
                <a:lnTo>
                  <a:pt x="568" y="111"/>
                </a:lnTo>
                <a:lnTo>
                  <a:pt x="570" y="117"/>
                </a:lnTo>
                <a:lnTo>
                  <a:pt x="572" y="121"/>
                </a:lnTo>
                <a:lnTo>
                  <a:pt x="574" y="125"/>
                </a:lnTo>
                <a:lnTo>
                  <a:pt x="574" y="129"/>
                </a:lnTo>
                <a:lnTo>
                  <a:pt x="574" y="132"/>
                </a:lnTo>
                <a:lnTo>
                  <a:pt x="572" y="140"/>
                </a:lnTo>
                <a:lnTo>
                  <a:pt x="568" y="146"/>
                </a:lnTo>
                <a:lnTo>
                  <a:pt x="564" y="153"/>
                </a:lnTo>
                <a:lnTo>
                  <a:pt x="561" y="163"/>
                </a:lnTo>
                <a:lnTo>
                  <a:pt x="555" y="173"/>
                </a:lnTo>
                <a:lnTo>
                  <a:pt x="547" y="184"/>
                </a:lnTo>
                <a:lnTo>
                  <a:pt x="539" y="196"/>
                </a:lnTo>
                <a:lnTo>
                  <a:pt x="530" y="207"/>
                </a:lnTo>
                <a:lnTo>
                  <a:pt x="520" y="221"/>
                </a:lnTo>
                <a:lnTo>
                  <a:pt x="511" y="234"/>
                </a:lnTo>
                <a:lnTo>
                  <a:pt x="497" y="249"/>
                </a:lnTo>
                <a:lnTo>
                  <a:pt x="486" y="267"/>
                </a:lnTo>
                <a:lnTo>
                  <a:pt x="472" y="284"/>
                </a:lnTo>
                <a:lnTo>
                  <a:pt x="459" y="301"/>
                </a:lnTo>
                <a:lnTo>
                  <a:pt x="443" y="32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Freeform 176"/>
          <p:cNvSpPr/>
          <p:nvPr/>
        </p:nvSpPr>
        <p:spPr>
          <a:xfrm>
            <a:off x="6462720" y="3611520"/>
            <a:ext cx="398520" cy="415800"/>
          </a:xfrm>
          <a:custGeom>
            <a:avLst/>
            <a:gdLst/>
            <a:ahLst/>
            <a:rect l="l" t="t" r="r" b="b"/>
            <a:pathLst>
              <a:path w="502" h="524">
                <a:moveTo>
                  <a:pt x="372" y="279"/>
                </a:moveTo>
                <a:lnTo>
                  <a:pt x="341" y="302"/>
                </a:lnTo>
                <a:lnTo>
                  <a:pt x="311" y="327"/>
                </a:lnTo>
                <a:lnTo>
                  <a:pt x="282" y="350"/>
                </a:lnTo>
                <a:lnTo>
                  <a:pt x="253" y="373"/>
                </a:lnTo>
                <a:lnTo>
                  <a:pt x="226" y="394"/>
                </a:lnTo>
                <a:lnTo>
                  <a:pt x="199" y="417"/>
                </a:lnTo>
                <a:lnTo>
                  <a:pt x="172" y="436"/>
                </a:lnTo>
                <a:lnTo>
                  <a:pt x="145" y="457"/>
                </a:lnTo>
                <a:lnTo>
                  <a:pt x="130" y="469"/>
                </a:lnTo>
                <a:lnTo>
                  <a:pt x="117" y="478"/>
                </a:lnTo>
                <a:lnTo>
                  <a:pt x="103" y="488"/>
                </a:lnTo>
                <a:lnTo>
                  <a:pt x="90" y="496"/>
                </a:lnTo>
                <a:lnTo>
                  <a:pt x="78" y="503"/>
                </a:lnTo>
                <a:lnTo>
                  <a:pt x="67" y="509"/>
                </a:lnTo>
                <a:lnTo>
                  <a:pt x="57" y="513"/>
                </a:lnTo>
                <a:lnTo>
                  <a:pt x="48" y="519"/>
                </a:lnTo>
                <a:lnTo>
                  <a:pt x="38" y="520"/>
                </a:lnTo>
                <a:lnTo>
                  <a:pt x="30" y="522"/>
                </a:lnTo>
                <a:lnTo>
                  <a:pt x="25" y="524"/>
                </a:lnTo>
                <a:lnTo>
                  <a:pt x="19" y="524"/>
                </a:lnTo>
                <a:lnTo>
                  <a:pt x="13" y="524"/>
                </a:lnTo>
                <a:lnTo>
                  <a:pt x="9" y="524"/>
                </a:lnTo>
                <a:lnTo>
                  <a:pt x="5" y="522"/>
                </a:lnTo>
                <a:lnTo>
                  <a:pt x="3" y="520"/>
                </a:lnTo>
                <a:lnTo>
                  <a:pt x="1" y="519"/>
                </a:lnTo>
                <a:lnTo>
                  <a:pt x="0" y="515"/>
                </a:lnTo>
                <a:lnTo>
                  <a:pt x="0" y="511"/>
                </a:lnTo>
                <a:lnTo>
                  <a:pt x="1" y="507"/>
                </a:lnTo>
                <a:lnTo>
                  <a:pt x="1" y="501"/>
                </a:lnTo>
                <a:lnTo>
                  <a:pt x="5" y="496"/>
                </a:lnTo>
                <a:lnTo>
                  <a:pt x="9" y="490"/>
                </a:lnTo>
                <a:lnTo>
                  <a:pt x="13" y="482"/>
                </a:lnTo>
                <a:lnTo>
                  <a:pt x="19" y="474"/>
                </a:lnTo>
                <a:lnTo>
                  <a:pt x="25" y="467"/>
                </a:lnTo>
                <a:lnTo>
                  <a:pt x="32" y="459"/>
                </a:lnTo>
                <a:lnTo>
                  <a:pt x="42" y="449"/>
                </a:lnTo>
                <a:lnTo>
                  <a:pt x="51" y="440"/>
                </a:lnTo>
                <a:lnTo>
                  <a:pt x="61" y="428"/>
                </a:lnTo>
                <a:lnTo>
                  <a:pt x="72" y="417"/>
                </a:lnTo>
                <a:lnTo>
                  <a:pt x="86" y="405"/>
                </a:lnTo>
                <a:lnTo>
                  <a:pt x="113" y="380"/>
                </a:lnTo>
                <a:lnTo>
                  <a:pt x="138" y="355"/>
                </a:lnTo>
                <a:lnTo>
                  <a:pt x="161" y="330"/>
                </a:lnTo>
                <a:lnTo>
                  <a:pt x="184" y="304"/>
                </a:lnTo>
                <a:lnTo>
                  <a:pt x="205" y="277"/>
                </a:lnTo>
                <a:lnTo>
                  <a:pt x="226" y="252"/>
                </a:lnTo>
                <a:lnTo>
                  <a:pt x="245" y="225"/>
                </a:lnTo>
                <a:lnTo>
                  <a:pt x="264" y="202"/>
                </a:lnTo>
                <a:lnTo>
                  <a:pt x="272" y="188"/>
                </a:lnTo>
                <a:lnTo>
                  <a:pt x="280" y="179"/>
                </a:lnTo>
                <a:lnTo>
                  <a:pt x="287" y="167"/>
                </a:lnTo>
                <a:lnTo>
                  <a:pt x="295" y="158"/>
                </a:lnTo>
                <a:lnTo>
                  <a:pt x="301" y="148"/>
                </a:lnTo>
                <a:lnTo>
                  <a:pt x="307" y="138"/>
                </a:lnTo>
                <a:lnTo>
                  <a:pt x="312" y="131"/>
                </a:lnTo>
                <a:lnTo>
                  <a:pt x="316" y="123"/>
                </a:lnTo>
                <a:lnTo>
                  <a:pt x="320" y="115"/>
                </a:lnTo>
                <a:lnTo>
                  <a:pt x="322" y="108"/>
                </a:lnTo>
                <a:lnTo>
                  <a:pt x="324" y="102"/>
                </a:lnTo>
                <a:lnTo>
                  <a:pt x="326" y="94"/>
                </a:lnTo>
                <a:lnTo>
                  <a:pt x="326" y="89"/>
                </a:lnTo>
                <a:lnTo>
                  <a:pt x="326" y="83"/>
                </a:lnTo>
                <a:lnTo>
                  <a:pt x="326" y="79"/>
                </a:lnTo>
                <a:lnTo>
                  <a:pt x="324" y="73"/>
                </a:lnTo>
                <a:lnTo>
                  <a:pt x="320" y="64"/>
                </a:lnTo>
                <a:lnTo>
                  <a:pt x="316" y="54"/>
                </a:lnTo>
                <a:lnTo>
                  <a:pt x="316" y="44"/>
                </a:lnTo>
                <a:lnTo>
                  <a:pt x="314" y="37"/>
                </a:lnTo>
                <a:lnTo>
                  <a:pt x="316" y="29"/>
                </a:lnTo>
                <a:lnTo>
                  <a:pt x="316" y="21"/>
                </a:lnTo>
                <a:lnTo>
                  <a:pt x="320" y="16"/>
                </a:lnTo>
                <a:lnTo>
                  <a:pt x="324" y="10"/>
                </a:lnTo>
                <a:lnTo>
                  <a:pt x="328" y="6"/>
                </a:lnTo>
                <a:lnTo>
                  <a:pt x="335" y="2"/>
                </a:lnTo>
                <a:lnTo>
                  <a:pt x="341" y="0"/>
                </a:lnTo>
                <a:lnTo>
                  <a:pt x="349" y="0"/>
                </a:lnTo>
                <a:lnTo>
                  <a:pt x="357" y="0"/>
                </a:lnTo>
                <a:lnTo>
                  <a:pt x="366" y="2"/>
                </a:lnTo>
                <a:lnTo>
                  <a:pt x="374" y="6"/>
                </a:lnTo>
                <a:lnTo>
                  <a:pt x="383" y="10"/>
                </a:lnTo>
                <a:lnTo>
                  <a:pt x="391" y="16"/>
                </a:lnTo>
                <a:lnTo>
                  <a:pt x="401" y="21"/>
                </a:lnTo>
                <a:lnTo>
                  <a:pt x="410" y="27"/>
                </a:lnTo>
                <a:lnTo>
                  <a:pt x="420" y="35"/>
                </a:lnTo>
                <a:lnTo>
                  <a:pt x="430" y="43"/>
                </a:lnTo>
                <a:lnTo>
                  <a:pt x="441" y="48"/>
                </a:lnTo>
                <a:lnTo>
                  <a:pt x="454" y="54"/>
                </a:lnTo>
                <a:lnTo>
                  <a:pt x="466" y="60"/>
                </a:lnTo>
                <a:lnTo>
                  <a:pt x="476" y="69"/>
                </a:lnTo>
                <a:lnTo>
                  <a:pt x="481" y="79"/>
                </a:lnTo>
                <a:lnTo>
                  <a:pt x="489" y="89"/>
                </a:lnTo>
                <a:lnTo>
                  <a:pt x="493" y="98"/>
                </a:lnTo>
                <a:lnTo>
                  <a:pt x="497" y="108"/>
                </a:lnTo>
                <a:lnTo>
                  <a:pt x="501" y="117"/>
                </a:lnTo>
                <a:lnTo>
                  <a:pt x="501" y="127"/>
                </a:lnTo>
                <a:lnTo>
                  <a:pt x="502" y="137"/>
                </a:lnTo>
                <a:lnTo>
                  <a:pt x="501" y="142"/>
                </a:lnTo>
                <a:lnTo>
                  <a:pt x="501" y="148"/>
                </a:lnTo>
                <a:lnTo>
                  <a:pt x="497" y="154"/>
                </a:lnTo>
                <a:lnTo>
                  <a:pt x="493" y="162"/>
                </a:lnTo>
                <a:lnTo>
                  <a:pt x="489" y="167"/>
                </a:lnTo>
                <a:lnTo>
                  <a:pt x="483" y="175"/>
                </a:lnTo>
                <a:lnTo>
                  <a:pt x="476" y="185"/>
                </a:lnTo>
                <a:lnTo>
                  <a:pt x="468" y="192"/>
                </a:lnTo>
                <a:lnTo>
                  <a:pt x="458" y="202"/>
                </a:lnTo>
                <a:lnTo>
                  <a:pt x="449" y="211"/>
                </a:lnTo>
                <a:lnTo>
                  <a:pt x="437" y="221"/>
                </a:lnTo>
                <a:lnTo>
                  <a:pt x="426" y="233"/>
                </a:lnTo>
                <a:lnTo>
                  <a:pt x="414" y="242"/>
                </a:lnTo>
                <a:lnTo>
                  <a:pt x="401" y="254"/>
                </a:lnTo>
                <a:lnTo>
                  <a:pt x="385" y="265"/>
                </a:lnTo>
                <a:lnTo>
                  <a:pt x="372" y="2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Freeform 177"/>
          <p:cNvSpPr/>
          <p:nvPr/>
        </p:nvSpPr>
        <p:spPr>
          <a:xfrm>
            <a:off x="6643800" y="3710160"/>
            <a:ext cx="1039680" cy="1260360"/>
          </a:xfrm>
          <a:custGeom>
            <a:avLst/>
            <a:gdLst/>
            <a:ahLst/>
            <a:rect l="l" t="t" r="r" b="b"/>
            <a:pathLst>
              <a:path w="1309" h="1587">
                <a:moveTo>
                  <a:pt x="975" y="25"/>
                </a:moveTo>
                <a:lnTo>
                  <a:pt x="981" y="21"/>
                </a:lnTo>
                <a:lnTo>
                  <a:pt x="987" y="15"/>
                </a:lnTo>
                <a:lnTo>
                  <a:pt x="994" y="12"/>
                </a:lnTo>
                <a:lnTo>
                  <a:pt x="1002" y="8"/>
                </a:lnTo>
                <a:lnTo>
                  <a:pt x="1012" y="4"/>
                </a:lnTo>
                <a:lnTo>
                  <a:pt x="1023" y="2"/>
                </a:lnTo>
                <a:lnTo>
                  <a:pt x="1035" y="0"/>
                </a:lnTo>
                <a:lnTo>
                  <a:pt x="1046" y="0"/>
                </a:lnTo>
                <a:lnTo>
                  <a:pt x="1052" y="2"/>
                </a:lnTo>
                <a:lnTo>
                  <a:pt x="1058" y="6"/>
                </a:lnTo>
                <a:lnTo>
                  <a:pt x="1063" y="8"/>
                </a:lnTo>
                <a:lnTo>
                  <a:pt x="1069" y="12"/>
                </a:lnTo>
                <a:lnTo>
                  <a:pt x="1077" y="15"/>
                </a:lnTo>
                <a:lnTo>
                  <a:pt x="1084" y="19"/>
                </a:lnTo>
                <a:lnTo>
                  <a:pt x="1092" y="25"/>
                </a:lnTo>
                <a:lnTo>
                  <a:pt x="1100" y="29"/>
                </a:lnTo>
                <a:lnTo>
                  <a:pt x="1109" y="35"/>
                </a:lnTo>
                <a:lnTo>
                  <a:pt x="1119" y="40"/>
                </a:lnTo>
                <a:lnTo>
                  <a:pt x="1131" y="48"/>
                </a:lnTo>
                <a:lnTo>
                  <a:pt x="1140" y="56"/>
                </a:lnTo>
                <a:lnTo>
                  <a:pt x="1152" y="63"/>
                </a:lnTo>
                <a:lnTo>
                  <a:pt x="1163" y="71"/>
                </a:lnTo>
                <a:lnTo>
                  <a:pt x="1177" y="79"/>
                </a:lnTo>
                <a:lnTo>
                  <a:pt x="1190" y="88"/>
                </a:lnTo>
                <a:lnTo>
                  <a:pt x="1202" y="100"/>
                </a:lnTo>
                <a:lnTo>
                  <a:pt x="1215" y="111"/>
                </a:lnTo>
                <a:lnTo>
                  <a:pt x="1227" y="123"/>
                </a:lnTo>
                <a:lnTo>
                  <a:pt x="1236" y="132"/>
                </a:lnTo>
                <a:lnTo>
                  <a:pt x="1246" y="142"/>
                </a:lnTo>
                <a:lnTo>
                  <a:pt x="1255" y="150"/>
                </a:lnTo>
                <a:lnTo>
                  <a:pt x="1263" y="159"/>
                </a:lnTo>
                <a:lnTo>
                  <a:pt x="1271" y="165"/>
                </a:lnTo>
                <a:lnTo>
                  <a:pt x="1278" y="173"/>
                </a:lnTo>
                <a:lnTo>
                  <a:pt x="1284" y="179"/>
                </a:lnTo>
                <a:lnTo>
                  <a:pt x="1290" y="184"/>
                </a:lnTo>
                <a:lnTo>
                  <a:pt x="1296" y="190"/>
                </a:lnTo>
                <a:lnTo>
                  <a:pt x="1299" y="194"/>
                </a:lnTo>
                <a:lnTo>
                  <a:pt x="1303" y="198"/>
                </a:lnTo>
                <a:lnTo>
                  <a:pt x="1305" y="202"/>
                </a:lnTo>
                <a:lnTo>
                  <a:pt x="1309" y="204"/>
                </a:lnTo>
                <a:lnTo>
                  <a:pt x="1307" y="213"/>
                </a:lnTo>
                <a:lnTo>
                  <a:pt x="1305" y="221"/>
                </a:lnTo>
                <a:lnTo>
                  <a:pt x="1303" y="228"/>
                </a:lnTo>
                <a:lnTo>
                  <a:pt x="1299" y="234"/>
                </a:lnTo>
                <a:lnTo>
                  <a:pt x="1294" y="240"/>
                </a:lnTo>
                <a:lnTo>
                  <a:pt x="1288" y="246"/>
                </a:lnTo>
                <a:lnTo>
                  <a:pt x="1280" y="250"/>
                </a:lnTo>
                <a:lnTo>
                  <a:pt x="1273" y="255"/>
                </a:lnTo>
                <a:lnTo>
                  <a:pt x="1269" y="257"/>
                </a:lnTo>
                <a:lnTo>
                  <a:pt x="1267" y="259"/>
                </a:lnTo>
                <a:lnTo>
                  <a:pt x="1263" y="261"/>
                </a:lnTo>
                <a:lnTo>
                  <a:pt x="1259" y="265"/>
                </a:lnTo>
                <a:lnTo>
                  <a:pt x="1255" y="269"/>
                </a:lnTo>
                <a:lnTo>
                  <a:pt x="1253" y="273"/>
                </a:lnTo>
                <a:lnTo>
                  <a:pt x="1250" y="278"/>
                </a:lnTo>
                <a:lnTo>
                  <a:pt x="1246" y="284"/>
                </a:lnTo>
                <a:lnTo>
                  <a:pt x="1242" y="290"/>
                </a:lnTo>
                <a:lnTo>
                  <a:pt x="1240" y="296"/>
                </a:lnTo>
                <a:lnTo>
                  <a:pt x="1236" y="303"/>
                </a:lnTo>
                <a:lnTo>
                  <a:pt x="1232" y="311"/>
                </a:lnTo>
                <a:lnTo>
                  <a:pt x="1228" y="321"/>
                </a:lnTo>
                <a:lnTo>
                  <a:pt x="1227" y="330"/>
                </a:lnTo>
                <a:lnTo>
                  <a:pt x="1223" y="340"/>
                </a:lnTo>
                <a:lnTo>
                  <a:pt x="1219" y="349"/>
                </a:lnTo>
                <a:lnTo>
                  <a:pt x="1215" y="361"/>
                </a:lnTo>
                <a:lnTo>
                  <a:pt x="1213" y="371"/>
                </a:lnTo>
                <a:lnTo>
                  <a:pt x="1209" y="384"/>
                </a:lnTo>
                <a:lnTo>
                  <a:pt x="1205" y="395"/>
                </a:lnTo>
                <a:lnTo>
                  <a:pt x="1202" y="409"/>
                </a:lnTo>
                <a:lnTo>
                  <a:pt x="1200" y="422"/>
                </a:lnTo>
                <a:lnTo>
                  <a:pt x="1196" y="436"/>
                </a:lnTo>
                <a:lnTo>
                  <a:pt x="1192" y="451"/>
                </a:lnTo>
                <a:lnTo>
                  <a:pt x="1188" y="466"/>
                </a:lnTo>
                <a:lnTo>
                  <a:pt x="1186" y="482"/>
                </a:lnTo>
                <a:lnTo>
                  <a:pt x="1182" y="497"/>
                </a:lnTo>
                <a:lnTo>
                  <a:pt x="1179" y="514"/>
                </a:lnTo>
                <a:lnTo>
                  <a:pt x="1175" y="532"/>
                </a:lnTo>
                <a:lnTo>
                  <a:pt x="1173" y="551"/>
                </a:lnTo>
                <a:lnTo>
                  <a:pt x="1169" y="568"/>
                </a:lnTo>
                <a:lnTo>
                  <a:pt x="1165" y="587"/>
                </a:lnTo>
                <a:lnTo>
                  <a:pt x="1157" y="626"/>
                </a:lnTo>
                <a:lnTo>
                  <a:pt x="1148" y="664"/>
                </a:lnTo>
                <a:lnTo>
                  <a:pt x="1136" y="701"/>
                </a:lnTo>
                <a:lnTo>
                  <a:pt x="1125" y="739"/>
                </a:lnTo>
                <a:lnTo>
                  <a:pt x="1113" y="776"/>
                </a:lnTo>
                <a:lnTo>
                  <a:pt x="1102" y="812"/>
                </a:lnTo>
                <a:lnTo>
                  <a:pt x="1090" y="848"/>
                </a:lnTo>
                <a:lnTo>
                  <a:pt x="1077" y="885"/>
                </a:lnTo>
                <a:lnTo>
                  <a:pt x="1063" y="919"/>
                </a:lnTo>
                <a:lnTo>
                  <a:pt x="1048" y="956"/>
                </a:lnTo>
                <a:lnTo>
                  <a:pt x="1033" y="990"/>
                </a:lnTo>
                <a:lnTo>
                  <a:pt x="1017" y="1025"/>
                </a:lnTo>
                <a:lnTo>
                  <a:pt x="1002" y="1060"/>
                </a:lnTo>
                <a:lnTo>
                  <a:pt x="987" y="1094"/>
                </a:lnTo>
                <a:lnTo>
                  <a:pt x="969" y="1129"/>
                </a:lnTo>
                <a:lnTo>
                  <a:pt x="952" y="1163"/>
                </a:lnTo>
                <a:lnTo>
                  <a:pt x="933" y="1196"/>
                </a:lnTo>
                <a:lnTo>
                  <a:pt x="914" y="1227"/>
                </a:lnTo>
                <a:lnTo>
                  <a:pt x="894" y="1257"/>
                </a:lnTo>
                <a:lnTo>
                  <a:pt x="875" y="1286"/>
                </a:lnTo>
                <a:lnTo>
                  <a:pt x="858" y="1313"/>
                </a:lnTo>
                <a:lnTo>
                  <a:pt x="841" y="1338"/>
                </a:lnTo>
                <a:lnTo>
                  <a:pt x="823" y="1363"/>
                </a:lnTo>
                <a:lnTo>
                  <a:pt x="806" y="1386"/>
                </a:lnTo>
                <a:lnTo>
                  <a:pt x="789" y="1407"/>
                </a:lnTo>
                <a:lnTo>
                  <a:pt x="774" y="1426"/>
                </a:lnTo>
                <a:lnTo>
                  <a:pt x="756" y="1445"/>
                </a:lnTo>
                <a:lnTo>
                  <a:pt x="741" y="1463"/>
                </a:lnTo>
                <a:lnTo>
                  <a:pt x="726" y="1480"/>
                </a:lnTo>
                <a:lnTo>
                  <a:pt x="708" y="1493"/>
                </a:lnTo>
                <a:lnTo>
                  <a:pt x="693" y="1509"/>
                </a:lnTo>
                <a:lnTo>
                  <a:pt x="678" y="1520"/>
                </a:lnTo>
                <a:lnTo>
                  <a:pt x="662" y="1530"/>
                </a:lnTo>
                <a:lnTo>
                  <a:pt x="649" y="1539"/>
                </a:lnTo>
                <a:lnTo>
                  <a:pt x="635" y="1547"/>
                </a:lnTo>
                <a:lnTo>
                  <a:pt x="622" y="1555"/>
                </a:lnTo>
                <a:lnTo>
                  <a:pt x="610" y="1561"/>
                </a:lnTo>
                <a:lnTo>
                  <a:pt x="599" y="1566"/>
                </a:lnTo>
                <a:lnTo>
                  <a:pt x="587" y="1572"/>
                </a:lnTo>
                <a:lnTo>
                  <a:pt x="578" y="1578"/>
                </a:lnTo>
                <a:lnTo>
                  <a:pt x="568" y="1582"/>
                </a:lnTo>
                <a:lnTo>
                  <a:pt x="559" y="1584"/>
                </a:lnTo>
                <a:lnTo>
                  <a:pt x="549" y="1586"/>
                </a:lnTo>
                <a:lnTo>
                  <a:pt x="541" y="1587"/>
                </a:lnTo>
                <a:lnTo>
                  <a:pt x="534" y="1587"/>
                </a:lnTo>
                <a:lnTo>
                  <a:pt x="526" y="1587"/>
                </a:lnTo>
                <a:lnTo>
                  <a:pt x="518" y="1587"/>
                </a:lnTo>
                <a:lnTo>
                  <a:pt x="512" y="1586"/>
                </a:lnTo>
                <a:lnTo>
                  <a:pt x="505" y="1582"/>
                </a:lnTo>
                <a:lnTo>
                  <a:pt x="499" y="1578"/>
                </a:lnTo>
                <a:lnTo>
                  <a:pt x="495" y="1574"/>
                </a:lnTo>
                <a:lnTo>
                  <a:pt x="491" y="1570"/>
                </a:lnTo>
                <a:lnTo>
                  <a:pt x="488" y="1566"/>
                </a:lnTo>
                <a:lnTo>
                  <a:pt x="486" y="1561"/>
                </a:lnTo>
                <a:lnTo>
                  <a:pt x="484" y="1555"/>
                </a:lnTo>
                <a:lnTo>
                  <a:pt x="484" y="1547"/>
                </a:lnTo>
                <a:lnTo>
                  <a:pt x="484" y="1541"/>
                </a:lnTo>
                <a:lnTo>
                  <a:pt x="484" y="1534"/>
                </a:lnTo>
                <a:lnTo>
                  <a:pt x="486" y="1526"/>
                </a:lnTo>
                <a:lnTo>
                  <a:pt x="488" y="1518"/>
                </a:lnTo>
                <a:lnTo>
                  <a:pt x="489" y="1511"/>
                </a:lnTo>
                <a:lnTo>
                  <a:pt x="493" y="1501"/>
                </a:lnTo>
                <a:lnTo>
                  <a:pt x="495" y="1491"/>
                </a:lnTo>
                <a:lnTo>
                  <a:pt x="501" y="1482"/>
                </a:lnTo>
                <a:lnTo>
                  <a:pt x="501" y="1470"/>
                </a:lnTo>
                <a:lnTo>
                  <a:pt x="503" y="1459"/>
                </a:lnTo>
                <a:lnTo>
                  <a:pt x="505" y="1445"/>
                </a:lnTo>
                <a:lnTo>
                  <a:pt x="505" y="1434"/>
                </a:lnTo>
                <a:lnTo>
                  <a:pt x="503" y="1422"/>
                </a:lnTo>
                <a:lnTo>
                  <a:pt x="503" y="1409"/>
                </a:lnTo>
                <a:lnTo>
                  <a:pt x="501" y="1396"/>
                </a:lnTo>
                <a:lnTo>
                  <a:pt x="497" y="1384"/>
                </a:lnTo>
                <a:lnTo>
                  <a:pt x="495" y="1371"/>
                </a:lnTo>
                <a:lnTo>
                  <a:pt x="491" y="1357"/>
                </a:lnTo>
                <a:lnTo>
                  <a:pt x="486" y="1342"/>
                </a:lnTo>
                <a:lnTo>
                  <a:pt x="482" y="1328"/>
                </a:lnTo>
                <a:lnTo>
                  <a:pt x="476" y="1313"/>
                </a:lnTo>
                <a:lnTo>
                  <a:pt x="468" y="1298"/>
                </a:lnTo>
                <a:lnTo>
                  <a:pt x="461" y="1282"/>
                </a:lnTo>
                <a:lnTo>
                  <a:pt x="453" y="1265"/>
                </a:lnTo>
                <a:lnTo>
                  <a:pt x="443" y="1250"/>
                </a:lnTo>
                <a:lnTo>
                  <a:pt x="436" y="1234"/>
                </a:lnTo>
                <a:lnTo>
                  <a:pt x="430" y="1219"/>
                </a:lnTo>
                <a:lnTo>
                  <a:pt x="424" y="1207"/>
                </a:lnTo>
                <a:lnTo>
                  <a:pt x="418" y="1196"/>
                </a:lnTo>
                <a:lnTo>
                  <a:pt x="415" y="1184"/>
                </a:lnTo>
                <a:lnTo>
                  <a:pt x="409" y="1175"/>
                </a:lnTo>
                <a:lnTo>
                  <a:pt x="407" y="1165"/>
                </a:lnTo>
                <a:lnTo>
                  <a:pt x="405" y="1157"/>
                </a:lnTo>
                <a:lnTo>
                  <a:pt x="403" y="1152"/>
                </a:lnTo>
                <a:lnTo>
                  <a:pt x="401" y="1144"/>
                </a:lnTo>
                <a:lnTo>
                  <a:pt x="401" y="1138"/>
                </a:lnTo>
                <a:lnTo>
                  <a:pt x="401" y="1134"/>
                </a:lnTo>
                <a:lnTo>
                  <a:pt x="401" y="1131"/>
                </a:lnTo>
                <a:lnTo>
                  <a:pt x="403" y="1127"/>
                </a:lnTo>
                <a:lnTo>
                  <a:pt x="405" y="1125"/>
                </a:lnTo>
                <a:lnTo>
                  <a:pt x="407" y="1123"/>
                </a:lnTo>
                <a:lnTo>
                  <a:pt x="411" y="1121"/>
                </a:lnTo>
                <a:lnTo>
                  <a:pt x="415" y="1121"/>
                </a:lnTo>
                <a:lnTo>
                  <a:pt x="418" y="1121"/>
                </a:lnTo>
                <a:lnTo>
                  <a:pt x="422" y="1123"/>
                </a:lnTo>
                <a:lnTo>
                  <a:pt x="428" y="1125"/>
                </a:lnTo>
                <a:lnTo>
                  <a:pt x="434" y="1127"/>
                </a:lnTo>
                <a:lnTo>
                  <a:pt x="440" y="1131"/>
                </a:lnTo>
                <a:lnTo>
                  <a:pt x="447" y="1134"/>
                </a:lnTo>
                <a:lnTo>
                  <a:pt x="455" y="1138"/>
                </a:lnTo>
                <a:lnTo>
                  <a:pt x="463" y="1144"/>
                </a:lnTo>
                <a:lnTo>
                  <a:pt x="472" y="1150"/>
                </a:lnTo>
                <a:lnTo>
                  <a:pt x="480" y="1156"/>
                </a:lnTo>
                <a:lnTo>
                  <a:pt x="491" y="1161"/>
                </a:lnTo>
                <a:lnTo>
                  <a:pt x="501" y="1169"/>
                </a:lnTo>
                <a:lnTo>
                  <a:pt x="512" y="1175"/>
                </a:lnTo>
                <a:lnTo>
                  <a:pt x="522" y="1184"/>
                </a:lnTo>
                <a:lnTo>
                  <a:pt x="534" y="1192"/>
                </a:lnTo>
                <a:lnTo>
                  <a:pt x="543" y="1200"/>
                </a:lnTo>
                <a:lnTo>
                  <a:pt x="555" y="1207"/>
                </a:lnTo>
                <a:lnTo>
                  <a:pt x="564" y="1213"/>
                </a:lnTo>
                <a:lnTo>
                  <a:pt x="574" y="1217"/>
                </a:lnTo>
                <a:lnTo>
                  <a:pt x="583" y="1221"/>
                </a:lnTo>
                <a:lnTo>
                  <a:pt x="591" y="1223"/>
                </a:lnTo>
                <a:lnTo>
                  <a:pt x="601" y="1225"/>
                </a:lnTo>
                <a:lnTo>
                  <a:pt x="608" y="1227"/>
                </a:lnTo>
                <a:lnTo>
                  <a:pt x="618" y="1227"/>
                </a:lnTo>
                <a:lnTo>
                  <a:pt x="626" y="1227"/>
                </a:lnTo>
                <a:lnTo>
                  <a:pt x="633" y="1225"/>
                </a:lnTo>
                <a:lnTo>
                  <a:pt x="641" y="1221"/>
                </a:lnTo>
                <a:lnTo>
                  <a:pt x="647" y="1219"/>
                </a:lnTo>
                <a:lnTo>
                  <a:pt x="655" y="1213"/>
                </a:lnTo>
                <a:lnTo>
                  <a:pt x="662" y="1211"/>
                </a:lnTo>
                <a:lnTo>
                  <a:pt x="670" y="1205"/>
                </a:lnTo>
                <a:lnTo>
                  <a:pt x="678" y="1198"/>
                </a:lnTo>
                <a:lnTo>
                  <a:pt x="685" y="1190"/>
                </a:lnTo>
                <a:lnTo>
                  <a:pt x="695" y="1181"/>
                </a:lnTo>
                <a:lnTo>
                  <a:pt x="704" y="1169"/>
                </a:lnTo>
                <a:lnTo>
                  <a:pt x="714" y="1156"/>
                </a:lnTo>
                <a:lnTo>
                  <a:pt x="726" y="1140"/>
                </a:lnTo>
                <a:lnTo>
                  <a:pt x="735" y="1125"/>
                </a:lnTo>
                <a:lnTo>
                  <a:pt x="747" y="1106"/>
                </a:lnTo>
                <a:lnTo>
                  <a:pt x="758" y="1086"/>
                </a:lnTo>
                <a:lnTo>
                  <a:pt x="770" y="1067"/>
                </a:lnTo>
                <a:lnTo>
                  <a:pt x="783" y="1044"/>
                </a:lnTo>
                <a:lnTo>
                  <a:pt x="795" y="1021"/>
                </a:lnTo>
                <a:lnTo>
                  <a:pt x="808" y="996"/>
                </a:lnTo>
                <a:lnTo>
                  <a:pt x="822" y="971"/>
                </a:lnTo>
                <a:lnTo>
                  <a:pt x="843" y="918"/>
                </a:lnTo>
                <a:lnTo>
                  <a:pt x="864" y="866"/>
                </a:lnTo>
                <a:lnTo>
                  <a:pt x="883" y="812"/>
                </a:lnTo>
                <a:lnTo>
                  <a:pt x="900" y="758"/>
                </a:lnTo>
                <a:lnTo>
                  <a:pt x="917" y="704"/>
                </a:lnTo>
                <a:lnTo>
                  <a:pt x="935" y="649"/>
                </a:lnTo>
                <a:lnTo>
                  <a:pt x="950" y="593"/>
                </a:lnTo>
                <a:lnTo>
                  <a:pt x="964" y="536"/>
                </a:lnTo>
                <a:lnTo>
                  <a:pt x="969" y="511"/>
                </a:lnTo>
                <a:lnTo>
                  <a:pt x="975" y="486"/>
                </a:lnTo>
                <a:lnTo>
                  <a:pt x="981" y="463"/>
                </a:lnTo>
                <a:lnTo>
                  <a:pt x="987" y="440"/>
                </a:lnTo>
                <a:lnTo>
                  <a:pt x="990" y="418"/>
                </a:lnTo>
                <a:lnTo>
                  <a:pt x="994" y="399"/>
                </a:lnTo>
                <a:lnTo>
                  <a:pt x="998" y="380"/>
                </a:lnTo>
                <a:lnTo>
                  <a:pt x="1000" y="363"/>
                </a:lnTo>
                <a:lnTo>
                  <a:pt x="1004" y="347"/>
                </a:lnTo>
                <a:lnTo>
                  <a:pt x="1006" y="332"/>
                </a:lnTo>
                <a:lnTo>
                  <a:pt x="1008" y="319"/>
                </a:lnTo>
                <a:lnTo>
                  <a:pt x="1008" y="305"/>
                </a:lnTo>
                <a:lnTo>
                  <a:pt x="1010" y="296"/>
                </a:lnTo>
                <a:lnTo>
                  <a:pt x="1010" y="284"/>
                </a:lnTo>
                <a:lnTo>
                  <a:pt x="1012" y="276"/>
                </a:lnTo>
                <a:lnTo>
                  <a:pt x="1012" y="269"/>
                </a:lnTo>
                <a:lnTo>
                  <a:pt x="1012" y="253"/>
                </a:lnTo>
                <a:lnTo>
                  <a:pt x="1012" y="242"/>
                </a:lnTo>
                <a:lnTo>
                  <a:pt x="1010" y="230"/>
                </a:lnTo>
                <a:lnTo>
                  <a:pt x="1010" y="221"/>
                </a:lnTo>
                <a:lnTo>
                  <a:pt x="1008" y="211"/>
                </a:lnTo>
                <a:lnTo>
                  <a:pt x="1006" y="204"/>
                </a:lnTo>
                <a:lnTo>
                  <a:pt x="1004" y="196"/>
                </a:lnTo>
                <a:lnTo>
                  <a:pt x="1000" y="192"/>
                </a:lnTo>
                <a:lnTo>
                  <a:pt x="994" y="186"/>
                </a:lnTo>
                <a:lnTo>
                  <a:pt x="988" y="184"/>
                </a:lnTo>
                <a:lnTo>
                  <a:pt x="981" y="180"/>
                </a:lnTo>
                <a:lnTo>
                  <a:pt x="973" y="180"/>
                </a:lnTo>
                <a:lnTo>
                  <a:pt x="964" y="179"/>
                </a:lnTo>
                <a:lnTo>
                  <a:pt x="952" y="179"/>
                </a:lnTo>
                <a:lnTo>
                  <a:pt x="941" y="179"/>
                </a:lnTo>
                <a:lnTo>
                  <a:pt x="929" y="179"/>
                </a:lnTo>
                <a:lnTo>
                  <a:pt x="923" y="179"/>
                </a:lnTo>
                <a:lnTo>
                  <a:pt x="917" y="179"/>
                </a:lnTo>
                <a:lnTo>
                  <a:pt x="912" y="179"/>
                </a:lnTo>
                <a:lnTo>
                  <a:pt x="906" y="179"/>
                </a:lnTo>
                <a:lnTo>
                  <a:pt x="898" y="179"/>
                </a:lnTo>
                <a:lnTo>
                  <a:pt x="891" y="180"/>
                </a:lnTo>
                <a:lnTo>
                  <a:pt x="883" y="180"/>
                </a:lnTo>
                <a:lnTo>
                  <a:pt x="875" y="180"/>
                </a:lnTo>
                <a:lnTo>
                  <a:pt x="866" y="180"/>
                </a:lnTo>
                <a:lnTo>
                  <a:pt x="856" y="182"/>
                </a:lnTo>
                <a:lnTo>
                  <a:pt x="846" y="182"/>
                </a:lnTo>
                <a:lnTo>
                  <a:pt x="835" y="184"/>
                </a:lnTo>
                <a:lnTo>
                  <a:pt x="823" y="184"/>
                </a:lnTo>
                <a:lnTo>
                  <a:pt x="812" y="186"/>
                </a:lnTo>
                <a:lnTo>
                  <a:pt x="800" y="188"/>
                </a:lnTo>
                <a:lnTo>
                  <a:pt x="787" y="190"/>
                </a:lnTo>
                <a:lnTo>
                  <a:pt x="774" y="190"/>
                </a:lnTo>
                <a:lnTo>
                  <a:pt x="760" y="192"/>
                </a:lnTo>
                <a:lnTo>
                  <a:pt x="745" y="194"/>
                </a:lnTo>
                <a:lnTo>
                  <a:pt x="729" y="196"/>
                </a:lnTo>
                <a:lnTo>
                  <a:pt x="714" y="198"/>
                </a:lnTo>
                <a:lnTo>
                  <a:pt x="699" y="200"/>
                </a:lnTo>
                <a:lnTo>
                  <a:pt x="681" y="204"/>
                </a:lnTo>
                <a:lnTo>
                  <a:pt x="666" y="205"/>
                </a:lnTo>
                <a:lnTo>
                  <a:pt x="649" y="207"/>
                </a:lnTo>
                <a:lnTo>
                  <a:pt x="630" y="211"/>
                </a:lnTo>
                <a:lnTo>
                  <a:pt x="612" y="213"/>
                </a:lnTo>
                <a:lnTo>
                  <a:pt x="593" y="217"/>
                </a:lnTo>
                <a:lnTo>
                  <a:pt x="572" y="219"/>
                </a:lnTo>
                <a:lnTo>
                  <a:pt x="553" y="223"/>
                </a:lnTo>
                <a:lnTo>
                  <a:pt x="532" y="227"/>
                </a:lnTo>
                <a:lnTo>
                  <a:pt x="512" y="230"/>
                </a:lnTo>
                <a:lnTo>
                  <a:pt x="491" y="232"/>
                </a:lnTo>
                <a:lnTo>
                  <a:pt x="470" y="236"/>
                </a:lnTo>
                <a:lnTo>
                  <a:pt x="451" y="240"/>
                </a:lnTo>
                <a:lnTo>
                  <a:pt x="430" y="244"/>
                </a:lnTo>
                <a:lnTo>
                  <a:pt x="413" y="246"/>
                </a:lnTo>
                <a:lnTo>
                  <a:pt x="393" y="250"/>
                </a:lnTo>
                <a:lnTo>
                  <a:pt x="376" y="251"/>
                </a:lnTo>
                <a:lnTo>
                  <a:pt x="359" y="253"/>
                </a:lnTo>
                <a:lnTo>
                  <a:pt x="342" y="255"/>
                </a:lnTo>
                <a:lnTo>
                  <a:pt x="324" y="259"/>
                </a:lnTo>
                <a:lnTo>
                  <a:pt x="309" y="261"/>
                </a:lnTo>
                <a:lnTo>
                  <a:pt x="294" y="263"/>
                </a:lnTo>
                <a:lnTo>
                  <a:pt x="278" y="265"/>
                </a:lnTo>
                <a:lnTo>
                  <a:pt x="265" y="265"/>
                </a:lnTo>
                <a:lnTo>
                  <a:pt x="251" y="267"/>
                </a:lnTo>
                <a:lnTo>
                  <a:pt x="238" y="269"/>
                </a:lnTo>
                <a:lnTo>
                  <a:pt x="226" y="269"/>
                </a:lnTo>
                <a:lnTo>
                  <a:pt x="213" y="271"/>
                </a:lnTo>
                <a:lnTo>
                  <a:pt x="202" y="271"/>
                </a:lnTo>
                <a:lnTo>
                  <a:pt x="192" y="273"/>
                </a:lnTo>
                <a:lnTo>
                  <a:pt x="180" y="273"/>
                </a:lnTo>
                <a:lnTo>
                  <a:pt x="171" y="273"/>
                </a:lnTo>
                <a:lnTo>
                  <a:pt x="163" y="273"/>
                </a:lnTo>
                <a:lnTo>
                  <a:pt x="154" y="273"/>
                </a:lnTo>
                <a:lnTo>
                  <a:pt x="146" y="273"/>
                </a:lnTo>
                <a:lnTo>
                  <a:pt x="138" y="273"/>
                </a:lnTo>
                <a:lnTo>
                  <a:pt x="132" y="273"/>
                </a:lnTo>
                <a:lnTo>
                  <a:pt x="127" y="271"/>
                </a:lnTo>
                <a:lnTo>
                  <a:pt x="121" y="271"/>
                </a:lnTo>
                <a:lnTo>
                  <a:pt x="115" y="271"/>
                </a:lnTo>
                <a:lnTo>
                  <a:pt x="111" y="269"/>
                </a:lnTo>
                <a:lnTo>
                  <a:pt x="107" y="269"/>
                </a:lnTo>
                <a:lnTo>
                  <a:pt x="94" y="263"/>
                </a:lnTo>
                <a:lnTo>
                  <a:pt x="81" y="255"/>
                </a:lnTo>
                <a:lnTo>
                  <a:pt x="75" y="251"/>
                </a:lnTo>
                <a:lnTo>
                  <a:pt x="67" y="248"/>
                </a:lnTo>
                <a:lnTo>
                  <a:pt x="61" y="242"/>
                </a:lnTo>
                <a:lnTo>
                  <a:pt x="54" y="236"/>
                </a:lnTo>
                <a:lnTo>
                  <a:pt x="48" y="230"/>
                </a:lnTo>
                <a:lnTo>
                  <a:pt x="40" y="223"/>
                </a:lnTo>
                <a:lnTo>
                  <a:pt x="35" y="215"/>
                </a:lnTo>
                <a:lnTo>
                  <a:pt x="27" y="207"/>
                </a:lnTo>
                <a:lnTo>
                  <a:pt x="21" y="198"/>
                </a:lnTo>
                <a:lnTo>
                  <a:pt x="13" y="188"/>
                </a:lnTo>
                <a:lnTo>
                  <a:pt x="8" y="177"/>
                </a:lnTo>
                <a:lnTo>
                  <a:pt x="0" y="165"/>
                </a:lnTo>
                <a:lnTo>
                  <a:pt x="31" y="163"/>
                </a:lnTo>
                <a:lnTo>
                  <a:pt x="61" y="161"/>
                </a:lnTo>
                <a:lnTo>
                  <a:pt x="90" y="157"/>
                </a:lnTo>
                <a:lnTo>
                  <a:pt x="119" y="156"/>
                </a:lnTo>
                <a:lnTo>
                  <a:pt x="146" y="154"/>
                </a:lnTo>
                <a:lnTo>
                  <a:pt x="173" y="152"/>
                </a:lnTo>
                <a:lnTo>
                  <a:pt x="198" y="150"/>
                </a:lnTo>
                <a:lnTo>
                  <a:pt x="223" y="146"/>
                </a:lnTo>
                <a:lnTo>
                  <a:pt x="246" y="144"/>
                </a:lnTo>
                <a:lnTo>
                  <a:pt x="269" y="142"/>
                </a:lnTo>
                <a:lnTo>
                  <a:pt x="290" y="140"/>
                </a:lnTo>
                <a:lnTo>
                  <a:pt x="309" y="136"/>
                </a:lnTo>
                <a:lnTo>
                  <a:pt x="330" y="134"/>
                </a:lnTo>
                <a:lnTo>
                  <a:pt x="347" y="132"/>
                </a:lnTo>
                <a:lnTo>
                  <a:pt x="365" y="131"/>
                </a:lnTo>
                <a:lnTo>
                  <a:pt x="382" y="127"/>
                </a:lnTo>
                <a:lnTo>
                  <a:pt x="397" y="125"/>
                </a:lnTo>
                <a:lnTo>
                  <a:pt x="413" y="123"/>
                </a:lnTo>
                <a:lnTo>
                  <a:pt x="430" y="119"/>
                </a:lnTo>
                <a:lnTo>
                  <a:pt x="449" y="117"/>
                </a:lnTo>
                <a:lnTo>
                  <a:pt x="466" y="115"/>
                </a:lnTo>
                <a:lnTo>
                  <a:pt x="486" y="111"/>
                </a:lnTo>
                <a:lnTo>
                  <a:pt x="507" y="109"/>
                </a:lnTo>
                <a:lnTo>
                  <a:pt x="526" y="108"/>
                </a:lnTo>
                <a:lnTo>
                  <a:pt x="549" y="104"/>
                </a:lnTo>
                <a:lnTo>
                  <a:pt x="570" y="100"/>
                </a:lnTo>
                <a:lnTo>
                  <a:pt x="595" y="96"/>
                </a:lnTo>
                <a:lnTo>
                  <a:pt x="618" y="94"/>
                </a:lnTo>
                <a:lnTo>
                  <a:pt x="643" y="90"/>
                </a:lnTo>
                <a:lnTo>
                  <a:pt x="670" y="85"/>
                </a:lnTo>
                <a:lnTo>
                  <a:pt x="697" y="81"/>
                </a:lnTo>
                <a:lnTo>
                  <a:pt x="726" y="77"/>
                </a:lnTo>
                <a:lnTo>
                  <a:pt x="754" y="73"/>
                </a:lnTo>
                <a:lnTo>
                  <a:pt x="779" y="71"/>
                </a:lnTo>
                <a:lnTo>
                  <a:pt x="804" y="67"/>
                </a:lnTo>
                <a:lnTo>
                  <a:pt x="827" y="63"/>
                </a:lnTo>
                <a:lnTo>
                  <a:pt x="850" y="61"/>
                </a:lnTo>
                <a:lnTo>
                  <a:pt x="869" y="58"/>
                </a:lnTo>
                <a:lnTo>
                  <a:pt x="887" y="54"/>
                </a:lnTo>
                <a:lnTo>
                  <a:pt x="904" y="50"/>
                </a:lnTo>
                <a:lnTo>
                  <a:pt x="919" y="46"/>
                </a:lnTo>
                <a:lnTo>
                  <a:pt x="933" y="44"/>
                </a:lnTo>
                <a:lnTo>
                  <a:pt x="944" y="40"/>
                </a:lnTo>
                <a:lnTo>
                  <a:pt x="954" y="37"/>
                </a:lnTo>
                <a:lnTo>
                  <a:pt x="962" y="33"/>
                </a:lnTo>
                <a:lnTo>
                  <a:pt x="967" y="31"/>
                </a:lnTo>
                <a:lnTo>
                  <a:pt x="973" y="27"/>
                </a:lnTo>
                <a:lnTo>
                  <a:pt x="975"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Freeform 178"/>
          <p:cNvSpPr/>
          <p:nvPr/>
        </p:nvSpPr>
        <p:spPr>
          <a:xfrm>
            <a:off x="6642000" y="2813040"/>
            <a:ext cx="200160" cy="816120"/>
          </a:xfrm>
          <a:custGeom>
            <a:avLst/>
            <a:gdLst/>
            <a:ahLst/>
            <a:rect l="l" t="t" r="r" b="b"/>
            <a:pathLst>
              <a:path w="251" h="1029">
                <a:moveTo>
                  <a:pt x="109" y="492"/>
                </a:moveTo>
                <a:lnTo>
                  <a:pt x="106" y="455"/>
                </a:lnTo>
                <a:lnTo>
                  <a:pt x="100" y="423"/>
                </a:lnTo>
                <a:lnTo>
                  <a:pt x="96" y="392"/>
                </a:lnTo>
                <a:lnTo>
                  <a:pt x="92" y="361"/>
                </a:lnTo>
                <a:lnTo>
                  <a:pt x="86" y="333"/>
                </a:lnTo>
                <a:lnTo>
                  <a:pt x="83" y="308"/>
                </a:lnTo>
                <a:lnTo>
                  <a:pt x="77" y="281"/>
                </a:lnTo>
                <a:lnTo>
                  <a:pt x="73" y="258"/>
                </a:lnTo>
                <a:lnTo>
                  <a:pt x="67" y="237"/>
                </a:lnTo>
                <a:lnTo>
                  <a:pt x="61" y="215"/>
                </a:lnTo>
                <a:lnTo>
                  <a:pt x="56" y="196"/>
                </a:lnTo>
                <a:lnTo>
                  <a:pt x="52" y="179"/>
                </a:lnTo>
                <a:lnTo>
                  <a:pt x="44" y="162"/>
                </a:lnTo>
                <a:lnTo>
                  <a:pt x="38" y="146"/>
                </a:lnTo>
                <a:lnTo>
                  <a:pt x="33" y="133"/>
                </a:lnTo>
                <a:lnTo>
                  <a:pt x="27" y="121"/>
                </a:lnTo>
                <a:lnTo>
                  <a:pt x="21" y="112"/>
                </a:lnTo>
                <a:lnTo>
                  <a:pt x="15" y="102"/>
                </a:lnTo>
                <a:lnTo>
                  <a:pt x="10" y="93"/>
                </a:lnTo>
                <a:lnTo>
                  <a:pt x="6" y="85"/>
                </a:lnTo>
                <a:lnTo>
                  <a:pt x="4" y="75"/>
                </a:lnTo>
                <a:lnTo>
                  <a:pt x="2" y="68"/>
                </a:lnTo>
                <a:lnTo>
                  <a:pt x="0" y="60"/>
                </a:lnTo>
                <a:lnTo>
                  <a:pt x="0" y="54"/>
                </a:lnTo>
                <a:lnTo>
                  <a:pt x="0" y="47"/>
                </a:lnTo>
                <a:lnTo>
                  <a:pt x="2" y="39"/>
                </a:lnTo>
                <a:lnTo>
                  <a:pt x="4" y="33"/>
                </a:lnTo>
                <a:lnTo>
                  <a:pt x="6" y="27"/>
                </a:lnTo>
                <a:lnTo>
                  <a:pt x="10" y="22"/>
                </a:lnTo>
                <a:lnTo>
                  <a:pt x="15" y="16"/>
                </a:lnTo>
                <a:lnTo>
                  <a:pt x="21" y="10"/>
                </a:lnTo>
                <a:lnTo>
                  <a:pt x="27" y="6"/>
                </a:lnTo>
                <a:lnTo>
                  <a:pt x="33" y="2"/>
                </a:lnTo>
                <a:lnTo>
                  <a:pt x="40" y="2"/>
                </a:lnTo>
                <a:lnTo>
                  <a:pt x="48" y="0"/>
                </a:lnTo>
                <a:lnTo>
                  <a:pt x="56" y="0"/>
                </a:lnTo>
                <a:lnTo>
                  <a:pt x="63" y="0"/>
                </a:lnTo>
                <a:lnTo>
                  <a:pt x="73" y="2"/>
                </a:lnTo>
                <a:lnTo>
                  <a:pt x="83" y="4"/>
                </a:lnTo>
                <a:lnTo>
                  <a:pt x="92" y="6"/>
                </a:lnTo>
                <a:lnTo>
                  <a:pt x="102" y="10"/>
                </a:lnTo>
                <a:lnTo>
                  <a:pt x="113" y="14"/>
                </a:lnTo>
                <a:lnTo>
                  <a:pt x="125" y="20"/>
                </a:lnTo>
                <a:lnTo>
                  <a:pt x="136" y="25"/>
                </a:lnTo>
                <a:lnTo>
                  <a:pt x="150" y="31"/>
                </a:lnTo>
                <a:lnTo>
                  <a:pt x="163" y="39"/>
                </a:lnTo>
                <a:lnTo>
                  <a:pt x="177" y="47"/>
                </a:lnTo>
                <a:lnTo>
                  <a:pt x="192" y="56"/>
                </a:lnTo>
                <a:lnTo>
                  <a:pt x="196" y="89"/>
                </a:lnTo>
                <a:lnTo>
                  <a:pt x="200" y="119"/>
                </a:lnTo>
                <a:lnTo>
                  <a:pt x="202" y="150"/>
                </a:lnTo>
                <a:lnTo>
                  <a:pt x="205" y="181"/>
                </a:lnTo>
                <a:lnTo>
                  <a:pt x="207" y="210"/>
                </a:lnTo>
                <a:lnTo>
                  <a:pt x="211" y="238"/>
                </a:lnTo>
                <a:lnTo>
                  <a:pt x="213" y="267"/>
                </a:lnTo>
                <a:lnTo>
                  <a:pt x="217" y="294"/>
                </a:lnTo>
                <a:lnTo>
                  <a:pt x="219" y="321"/>
                </a:lnTo>
                <a:lnTo>
                  <a:pt x="223" y="346"/>
                </a:lnTo>
                <a:lnTo>
                  <a:pt x="225" y="371"/>
                </a:lnTo>
                <a:lnTo>
                  <a:pt x="227" y="396"/>
                </a:lnTo>
                <a:lnTo>
                  <a:pt x="228" y="421"/>
                </a:lnTo>
                <a:lnTo>
                  <a:pt x="230" y="444"/>
                </a:lnTo>
                <a:lnTo>
                  <a:pt x="234" y="467"/>
                </a:lnTo>
                <a:lnTo>
                  <a:pt x="236" y="488"/>
                </a:lnTo>
                <a:lnTo>
                  <a:pt x="238" y="509"/>
                </a:lnTo>
                <a:lnTo>
                  <a:pt x="240" y="530"/>
                </a:lnTo>
                <a:lnTo>
                  <a:pt x="240" y="549"/>
                </a:lnTo>
                <a:lnTo>
                  <a:pt x="242" y="569"/>
                </a:lnTo>
                <a:lnTo>
                  <a:pt x="244" y="588"/>
                </a:lnTo>
                <a:lnTo>
                  <a:pt x="246" y="605"/>
                </a:lnTo>
                <a:lnTo>
                  <a:pt x="246" y="622"/>
                </a:lnTo>
                <a:lnTo>
                  <a:pt x="248" y="640"/>
                </a:lnTo>
                <a:lnTo>
                  <a:pt x="250" y="655"/>
                </a:lnTo>
                <a:lnTo>
                  <a:pt x="250" y="670"/>
                </a:lnTo>
                <a:lnTo>
                  <a:pt x="250" y="684"/>
                </a:lnTo>
                <a:lnTo>
                  <a:pt x="251" y="697"/>
                </a:lnTo>
                <a:lnTo>
                  <a:pt x="251" y="711"/>
                </a:lnTo>
                <a:lnTo>
                  <a:pt x="251" y="724"/>
                </a:lnTo>
                <a:lnTo>
                  <a:pt x="251" y="736"/>
                </a:lnTo>
                <a:lnTo>
                  <a:pt x="251" y="747"/>
                </a:lnTo>
                <a:lnTo>
                  <a:pt x="251" y="770"/>
                </a:lnTo>
                <a:lnTo>
                  <a:pt x="251" y="793"/>
                </a:lnTo>
                <a:lnTo>
                  <a:pt x="251" y="812"/>
                </a:lnTo>
                <a:lnTo>
                  <a:pt x="251" y="834"/>
                </a:lnTo>
                <a:lnTo>
                  <a:pt x="251" y="853"/>
                </a:lnTo>
                <a:lnTo>
                  <a:pt x="251" y="870"/>
                </a:lnTo>
                <a:lnTo>
                  <a:pt x="251" y="885"/>
                </a:lnTo>
                <a:lnTo>
                  <a:pt x="251" y="901"/>
                </a:lnTo>
                <a:lnTo>
                  <a:pt x="251" y="914"/>
                </a:lnTo>
                <a:lnTo>
                  <a:pt x="251" y="928"/>
                </a:lnTo>
                <a:lnTo>
                  <a:pt x="251" y="939"/>
                </a:lnTo>
                <a:lnTo>
                  <a:pt x="251" y="949"/>
                </a:lnTo>
                <a:lnTo>
                  <a:pt x="251" y="956"/>
                </a:lnTo>
                <a:lnTo>
                  <a:pt x="251" y="966"/>
                </a:lnTo>
                <a:lnTo>
                  <a:pt x="251" y="972"/>
                </a:lnTo>
                <a:lnTo>
                  <a:pt x="251" y="977"/>
                </a:lnTo>
                <a:lnTo>
                  <a:pt x="248" y="985"/>
                </a:lnTo>
                <a:lnTo>
                  <a:pt x="244" y="995"/>
                </a:lnTo>
                <a:lnTo>
                  <a:pt x="238" y="1001"/>
                </a:lnTo>
                <a:lnTo>
                  <a:pt x="234" y="1006"/>
                </a:lnTo>
                <a:lnTo>
                  <a:pt x="230" y="1012"/>
                </a:lnTo>
                <a:lnTo>
                  <a:pt x="225" y="1018"/>
                </a:lnTo>
                <a:lnTo>
                  <a:pt x="217" y="1027"/>
                </a:lnTo>
                <a:lnTo>
                  <a:pt x="213" y="1029"/>
                </a:lnTo>
                <a:lnTo>
                  <a:pt x="207" y="1029"/>
                </a:lnTo>
                <a:lnTo>
                  <a:pt x="204" y="1029"/>
                </a:lnTo>
                <a:lnTo>
                  <a:pt x="202" y="1025"/>
                </a:lnTo>
                <a:lnTo>
                  <a:pt x="198" y="1022"/>
                </a:lnTo>
                <a:lnTo>
                  <a:pt x="194" y="1018"/>
                </a:lnTo>
                <a:lnTo>
                  <a:pt x="192" y="1010"/>
                </a:lnTo>
                <a:lnTo>
                  <a:pt x="188" y="1002"/>
                </a:lnTo>
                <a:lnTo>
                  <a:pt x="186" y="993"/>
                </a:lnTo>
                <a:lnTo>
                  <a:pt x="182" y="983"/>
                </a:lnTo>
                <a:lnTo>
                  <a:pt x="180" y="972"/>
                </a:lnTo>
                <a:lnTo>
                  <a:pt x="179" y="960"/>
                </a:lnTo>
                <a:lnTo>
                  <a:pt x="175" y="947"/>
                </a:lnTo>
                <a:lnTo>
                  <a:pt x="173" y="931"/>
                </a:lnTo>
                <a:lnTo>
                  <a:pt x="171" y="916"/>
                </a:lnTo>
                <a:lnTo>
                  <a:pt x="169" y="901"/>
                </a:lnTo>
                <a:lnTo>
                  <a:pt x="167" y="883"/>
                </a:lnTo>
                <a:lnTo>
                  <a:pt x="163" y="864"/>
                </a:lnTo>
                <a:lnTo>
                  <a:pt x="161" y="845"/>
                </a:lnTo>
                <a:lnTo>
                  <a:pt x="157" y="826"/>
                </a:lnTo>
                <a:lnTo>
                  <a:pt x="156" y="805"/>
                </a:lnTo>
                <a:lnTo>
                  <a:pt x="152" y="782"/>
                </a:lnTo>
                <a:lnTo>
                  <a:pt x="148" y="759"/>
                </a:lnTo>
                <a:lnTo>
                  <a:pt x="144" y="734"/>
                </a:lnTo>
                <a:lnTo>
                  <a:pt x="140" y="709"/>
                </a:lnTo>
                <a:lnTo>
                  <a:pt x="136" y="682"/>
                </a:lnTo>
                <a:lnTo>
                  <a:pt x="131" y="653"/>
                </a:lnTo>
                <a:lnTo>
                  <a:pt x="127" y="624"/>
                </a:lnTo>
                <a:lnTo>
                  <a:pt x="123" y="592"/>
                </a:lnTo>
                <a:lnTo>
                  <a:pt x="119" y="561"/>
                </a:lnTo>
                <a:lnTo>
                  <a:pt x="113" y="526"/>
                </a:lnTo>
                <a:lnTo>
                  <a:pt x="109" y="4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Freeform 179"/>
          <p:cNvSpPr/>
          <p:nvPr/>
        </p:nvSpPr>
        <p:spPr>
          <a:xfrm>
            <a:off x="6805440" y="3416400"/>
            <a:ext cx="376560" cy="122040"/>
          </a:xfrm>
          <a:custGeom>
            <a:avLst/>
            <a:gdLst/>
            <a:ahLst/>
            <a:rect l="l" t="t" r="r" b="b"/>
            <a:pathLst>
              <a:path w="475" h="153">
                <a:moveTo>
                  <a:pt x="463" y="115"/>
                </a:moveTo>
                <a:lnTo>
                  <a:pt x="409" y="115"/>
                </a:lnTo>
                <a:lnTo>
                  <a:pt x="354" y="117"/>
                </a:lnTo>
                <a:lnTo>
                  <a:pt x="298" y="119"/>
                </a:lnTo>
                <a:lnTo>
                  <a:pt x="240" y="122"/>
                </a:lnTo>
                <a:lnTo>
                  <a:pt x="181" y="128"/>
                </a:lnTo>
                <a:lnTo>
                  <a:pt x="121" y="136"/>
                </a:lnTo>
                <a:lnTo>
                  <a:pt x="62" y="144"/>
                </a:lnTo>
                <a:lnTo>
                  <a:pt x="0" y="153"/>
                </a:lnTo>
                <a:lnTo>
                  <a:pt x="0" y="101"/>
                </a:lnTo>
                <a:lnTo>
                  <a:pt x="0" y="49"/>
                </a:lnTo>
                <a:lnTo>
                  <a:pt x="6" y="48"/>
                </a:lnTo>
                <a:lnTo>
                  <a:pt x="12" y="48"/>
                </a:lnTo>
                <a:lnTo>
                  <a:pt x="20" y="46"/>
                </a:lnTo>
                <a:lnTo>
                  <a:pt x="25" y="44"/>
                </a:lnTo>
                <a:lnTo>
                  <a:pt x="35" y="44"/>
                </a:lnTo>
                <a:lnTo>
                  <a:pt x="43" y="42"/>
                </a:lnTo>
                <a:lnTo>
                  <a:pt x="52" y="42"/>
                </a:lnTo>
                <a:lnTo>
                  <a:pt x="62" y="40"/>
                </a:lnTo>
                <a:lnTo>
                  <a:pt x="73" y="38"/>
                </a:lnTo>
                <a:lnTo>
                  <a:pt x="83" y="38"/>
                </a:lnTo>
                <a:lnTo>
                  <a:pt x="94" y="36"/>
                </a:lnTo>
                <a:lnTo>
                  <a:pt x="108" y="34"/>
                </a:lnTo>
                <a:lnTo>
                  <a:pt x="119" y="34"/>
                </a:lnTo>
                <a:lnTo>
                  <a:pt x="133" y="32"/>
                </a:lnTo>
                <a:lnTo>
                  <a:pt x="146" y="30"/>
                </a:lnTo>
                <a:lnTo>
                  <a:pt x="162" y="28"/>
                </a:lnTo>
                <a:lnTo>
                  <a:pt x="177" y="28"/>
                </a:lnTo>
                <a:lnTo>
                  <a:pt x="192" y="26"/>
                </a:lnTo>
                <a:lnTo>
                  <a:pt x="208" y="25"/>
                </a:lnTo>
                <a:lnTo>
                  <a:pt x="225" y="23"/>
                </a:lnTo>
                <a:lnTo>
                  <a:pt x="242" y="21"/>
                </a:lnTo>
                <a:lnTo>
                  <a:pt x="261" y="19"/>
                </a:lnTo>
                <a:lnTo>
                  <a:pt x="279" y="17"/>
                </a:lnTo>
                <a:lnTo>
                  <a:pt x="298" y="15"/>
                </a:lnTo>
                <a:lnTo>
                  <a:pt x="319" y="13"/>
                </a:lnTo>
                <a:lnTo>
                  <a:pt x="338" y="11"/>
                </a:lnTo>
                <a:lnTo>
                  <a:pt x="359" y="9"/>
                </a:lnTo>
                <a:lnTo>
                  <a:pt x="382" y="7"/>
                </a:lnTo>
                <a:lnTo>
                  <a:pt x="404" y="5"/>
                </a:lnTo>
                <a:lnTo>
                  <a:pt x="427" y="3"/>
                </a:lnTo>
                <a:lnTo>
                  <a:pt x="452" y="2"/>
                </a:lnTo>
                <a:lnTo>
                  <a:pt x="475" y="0"/>
                </a:lnTo>
                <a:lnTo>
                  <a:pt x="469" y="57"/>
                </a:lnTo>
                <a:lnTo>
                  <a:pt x="463"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180"/>
          <p:cNvSpPr/>
          <p:nvPr/>
        </p:nvSpPr>
        <p:spPr>
          <a:xfrm>
            <a:off x="6794640" y="3089160"/>
            <a:ext cx="311040" cy="112680"/>
          </a:xfrm>
          <a:custGeom>
            <a:avLst/>
            <a:gdLst/>
            <a:ahLst/>
            <a:rect l="l" t="t" r="r" b="b"/>
            <a:pathLst>
              <a:path w="392" h="142">
                <a:moveTo>
                  <a:pt x="192" y="38"/>
                </a:moveTo>
                <a:lnTo>
                  <a:pt x="213" y="31"/>
                </a:lnTo>
                <a:lnTo>
                  <a:pt x="232" y="21"/>
                </a:lnTo>
                <a:lnTo>
                  <a:pt x="251" y="15"/>
                </a:lnTo>
                <a:lnTo>
                  <a:pt x="269" y="9"/>
                </a:lnTo>
                <a:lnTo>
                  <a:pt x="286" y="6"/>
                </a:lnTo>
                <a:lnTo>
                  <a:pt x="294" y="4"/>
                </a:lnTo>
                <a:lnTo>
                  <a:pt x="299" y="2"/>
                </a:lnTo>
                <a:lnTo>
                  <a:pt x="305" y="2"/>
                </a:lnTo>
                <a:lnTo>
                  <a:pt x="311" y="2"/>
                </a:lnTo>
                <a:lnTo>
                  <a:pt x="317" y="0"/>
                </a:lnTo>
                <a:lnTo>
                  <a:pt x="322" y="0"/>
                </a:lnTo>
                <a:lnTo>
                  <a:pt x="326" y="2"/>
                </a:lnTo>
                <a:lnTo>
                  <a:pt x="332" y="2"/>
                </a:lnTo>
                <a:lnTo>
                  <a:pt x="340" y="6"/>
                </a:lnTo>
                <a:lnTo>
                  <a:pt x="347" y="7"/>
                </a:lnTo>
                <a:lnTo>
                  <a:pt x="355" y="13"/>
                </a:lnTo>
                <a:lnTo>
                  <a:pt x="363" y="17"/>
                </a:lnTo>
                <a:lnTo>
                  <a:pt x="382" y="27"/>
                </a:lnTo>
                <a:lnTo>
                  <a:pt x="386" y="31"/>
                </a:lnTo>
                <a:lnTo>
                  <a:pt x="388" y="36"/>
                </a:lnTo>
                <a:lnTo>
                  <a:pt x="390" y="40"/>
                </a:lnTo>
                <a:lnTo>
                  <a:pt x="392" y="46"/>
                </a:lnTo>
                <a:lnTo>
                  <a:pt x="392" y="50"/>
                </a:lnTo>
                <a:lnTo>
                  <a:pt x="392" y="55"/>
                </a:lnTo>
                <a:lnTo>
                  <a:pt x="392" y="59"/>
                </a:lnTo>
                <a:lnTo>
                  <a:pt x="388" y="65"/>
                </a:lnTo>
                <a:lnTo>
                  <a:pt x="386" y="69"/>
                </a:lnTo>
                <a:lnTo>
                  <a:pt x="380" y="75"/>
                </a:lnTo>
                <a:lnTo>
                  <a:pt x="376" y="79"/>
                </a:lnTo>
                <a:lnTo>
                  <a:pt x="369" y="84"/>
                </a:lnTo>
                <a:lnTo>
                  <a:pt x="363" y="88"/>
                </a:lnTo>
                <a:lnTo>
                  <a:pt x="353" y="94"/>
                </a:lnTo>
                <a:lnTo>
                  <a:pt x="344" y="98"/>
                </a:lnTo>
                <a:lnTo>
                  <a:pt x="334" y="103"/>
                </a:lnTo>
                <a:lnTo>
                  <a:pt x="322" y="107"/>
                </a:lnTo>
                <a:lnTo>
                  <a:pt x="309" y="113"/>
                </a:lnTo>
                <a:lnTo>
                  <a:pt x="296" y="117"/>
                </a:lnTo>
                <a:lnTo>
                  <a:pt x="280" y="121"/>
                </a:lnTo>
                <a:lnTo>
                  <a:pt x="263" y="123"/>
                </a:lnTo>
                <a:lnTo>
                  <a:pt x="246" y="127"/>
                </a:lnTo>
                <a:lnTo>
                  <a:pt x="226" y="130"/>
                </a:lnTo>
                <a:lnTo>
                  <a:pt x="207" y="132"/>
                </a:lnTo>
                <a:lnTo>
                  <a:pt x="186" y="134"/>
                </a:lnTo>
                <a:lnTo>
                  <a:pt x="163" y="136"/>
                </a:lnTo>
                <a:lnTo>
                  <a:pt x="140" y="138"/>
                </a:lnTo>
                <a:lnTo>
                  <a:pt x="115" y="140"/>
                </a:lnTo>
                <a:lnTo>
                  <a:pt x="88" y="140"/>
                </a:lnTo>
                <a:lnTo>
                  <a:pt x="59" y="140"/>
                </a:lnTo>
                <a:lnTo>
                  <a:pt x="31" y="142"/>
                </a:lnTo>
                <a:lnTo>
                  <a:pt x="0" y="142"/>
                </a:lnTo>
                <a:lnTo>
                  <a:pt x="0" y="103"/>
                </a:lnTo>
                <a:lnTo>
                  <a:pt x="0" y="65"/>
                </a:lnTo>
                <a:lnTo>
                  <a:pt x="23" y="63"/>
                </a:lnTo>
                <a:lnTo>
                  <a:pt x="46" y="63"/>
                </a:lnTo>
                <a:lnTo>
                  <a:pt x="71" y="59"/>
                </a:lnTo>
                <a:lnTo>
                  <a:pt x="96" y="57"/>
                </a:lnTo>
                <a:lnTo>
                  <a:pt x="121" y="54"/>
                </a:lnTo>
                <a:lnTo>
                  <a:pt x="144" y="48"/>
                </a:lnTo>
                <a:lnTo>
                  <a:pt x="169" y="44"/>
                </a:lnTo>
                <a:lnTo>
                  <a:pt x="192" y="3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181"/>
          <p:cNvSpPr/>
          <p:nvPr/>
        </p:nvSpPr>
        <p:spPr>
          <a:xfrm>
            <a:off x="6748560" y="2755800"/>
            <a:ext cx="677880" cy="882720"/>
          </a:xfrm>
          <a:custGeom>
            <a:avLst/>
            <a:gdLst/>
            <a:ahLst/>
            <a:rect l="l" t="t" r="r" b="b"/>
            <a:pathLst>
              <a:path w="855" h="1112">
                <a:moveTo>
                  <a:pt x="559" y="204"/>
                </a:moveTo>
                <a:lnTo>
                  <a:pt x="557" y="202"/>
                </a:lnTo>
                <a:lnTo>
                  <a:pt x="553" y="200"/>
                </a:lnTo>
                <a:lnTo>
                  <a:pt x="549" y="198"/>
                </a:lnTo>
                <a:lnTo>
                  <a:pt x="546" y="196"/>
                </a:lnTo>
                <a:lnTo>
                  <a:pt x="540" y="194"/>
                </a:lnTo>
                <a:lnTo>
                  <a:pt x="532" y="194"/>
                </a:lnTo>
                <a:lnTo>
                  <a:pt x="524" y="192"/>
                </a:lnTo>
                <a:lnTo>
                  <a:pt x="517" y="192"/>
                </a:lnTo>
                <a:lnTo>
                  <a:pt x="505" y="190"/>
                </a:lnTo>
                <a:lnTo>
                  <a:pt x="496" y="190"/>
                </a:lnTo>
                <a:lnTo>
                  <a:pt x="484" y="190"/>
                </a:lnTo>
                <a:lnTo>
                  <a:pt x="471" y="190"/>
                </a:lnTo>
                <a:lnTo>
                  <a:pt x="455" y="190"/>
                </a:lnTo>
                <a:lnTo>
                  <a:pt x="442" y="190"/>
                </a:lnTo>
                <a:lnTo>
                  <a:pt x="425" y="192"/>
                </a:lnTo>
                <a:lnTo>
                  <a:pt x="407" y="192"/>
                </a:lnTo>
                <a:lnTo>
                  <a:pt x="390" y="194"/>
                </a:lnTo>
                <a:lnTo>
                  <a:pt x="371" y="194"/>
                </a:lnTo>
                <a:lnTo>
                  <a:pt x="352" y="196"/>
                </a:lnTo>
                <a:lnTo>
                  <a:pt x="331" y="198"/>
                </a:lnTo>
                <a:lnTo>
                  <a:pt x="308" y="200"/>
                </a:lnTo>
                <a:lnTo>
                  <a:pt x="284" y="202"/>
                </a:lnTo>
                <a:lnTo>
                  <a:pt x="261" y="204"/>
                </a:lnTo>
                <a:lnTo>
                  <a:pt x="237" y="206"/>
                </a:lnTo>
                <a:lnTo>
                  <a:pt x="210" y="208"/>
                </a:lnTo>
                <a:lnTo>
                  <a:pt x="183" y="212"/>
                </a:lnTo>
                <a:lnTo>
                  <a:pt x="154" y="214"/>
                </a:lnTo>
                <a:lnTo>
                  <a:pt x="125" y="217"/>
                </a:lnTo>
                <a:lnTo>
                  <a:pt x="94" y="219"/>
                </a:lnTo>
                <a:lnTo>
                  <a:pt x="64" y="223"/>
                </a:lnTo>
                <a:lnTo>
                  <a:pt x="33" y="227"/>
                </a:lnTo>
                <a:lnTo>
                  <a:pt x="0" y="231"/>
                </a:lnTo>
                <a:lnTo>
                  <a:pt x="0" y="127"/>
                </a:lnTo>
                <a:lnTo>
                  <a:pt x="39" y="127"/>
                </a:lnTo>
                <a:lnTo>
                  <a:pt x="79" y="125"/>
                </a:lnTo>
                <a:lnTo>
                  <a:pt x="121" y="123"/>
                </a:lnTo>
                <a:lnTo>
                  <a:pt x="162" y="118"/>
                </a:lnTo>
                <a:lnTo>
                  <a:pt x="204" y="114"/>
                </a:lnTo>
                <a:lnTo>
                  <a:pt x="244" y="106"/>
                </a:lnTo>
                <a:lnTo>
                  <a:pt x="288" y="98"/>
                </a:lnTo>
                <a:lnTo>
                  <a:pt x="332" y="89"/>
                </a:lnTo>
                <a:lnTo>
                  <a:pt x="354" y="85"/>
                </a:lnTo>
                <a:lnTo>
                  <a:pt x="375" y="79"/>
                </a:lnTo>
                <a:lnTo>
                  <a:pt x="394" y="75"/>
                </a:lnTo>
                <a:lnTo>
                  <a:pt x="413" y="70"/>
                </a:lnTo>
                <a:lnTo>
                  <a:pt x="430" y="66"/>
                </a:lnTo>
                <a:lnTo>
                  <a:pt x="446" y="60"/>
                </a:lnTo>
                <a:lnTo>
                  <a:pt x="461" y="56"/>
                </a:lnTo>
                <a:lnTo>
                  <a:pt x="475" y="52"/>
                </a:lnTo>
                <a:lnTo>
                  <a:pt x="488" y="48"/>
                </a:lnTo>
                <a:lnTo>
                  <a:pt x="499" y="45"/>
                </a:lnTo>
                <a:lnTo>
                  <a:pt x="509" y="41"/>
                </a:lnTo>
                <a:lnTo>
                  <a:pt x="519" y="37"/>
                </a:lnTo>
                <a:lnTo>
                  <a:pt x="528" y="33"/>
                </a:lnTo>
                <a:lnTo>
                  <a:pt x="536" y="31"/>
                </a:lnTo>
                <a:lnTo>
                  <a:pt x="542" y="27"/>
                </a:lnTo>
                <a:lnTo>
                  <a:pt x="546" y="25"/>
                </a:lnTo>
                <a:lnTo>
                  <a:pt x="551" y="22"/>
                </a:lnTo>
                <a:lnTo>
                  <a:pt x="557" y="16"/>
                </a:lnTo>
                <a:lnTo>
                  <a:pt x="563" y="12"/>
                </a:lnTo>
                <a:lnTo>
                  <a:pt x="570" y="8"/>
                </a:lnTo>
                <a:lnTo>
                  <a:pt x="576" y="4"/>
                </a:lnTo>
                <a:lnTo>
                  <a:pt x="584" y="2"/>
                </a:lnTo>
                <a:lnTo>
                  <a:pt x="588" y="0"/>
                </a:lnTo>
                <a:lnTo>
                  <a:pt x="594" y="0"/>
                </a:lnTo>
                <a:lnTo>
                  <a:pt x="595" y="2"/>
                </a:lnTo>
                <a:lnTo>
                  <a:pt x="599" y="4"/>
                </a:lnTo>
                <a:lnTo>
                  <a:pt x="605" y="8"/>
                </a:lnTo>
                <a:lnTo>
                  <a:pt x="609" y="12"/>
                </a:lnTo>
                <a:lnTo>
                  <a:pt x="615" y="16"/>
                </a:lnTo>
                <a:lnTo>
                  <a:pt x="622" y="20"/>
                </a:lnTo>
                <a:lnTo>
                  <a:pt x="630" y="23"/>
                </a:lnTo>
                <a:lnTo>
                  <a:pt x="638" y="27"/>
                </a:lnTo>
                <a:lnTo>
                  <a:pt x="647" y="33"/>
                </a:lnTo>
                <a:lnTo>
                  <a:pt x="659" y="39"/>
                </a:lnTo>
                <a:lnTo>
                  <a:pt x="668" y="45"/>
                </a:lnTo>
                <a:lnTo>
                  <a:pt x="682" y="50"/>
                </a:lnTo>
                <a:lnTo>
                  <a:pt x="693" y="56"/>
                </a:lnTo>
                <a:lnTo>
                  <a:pt x="707" y="62"/>
                </a:lnTo>
                <a:lnTo>
                  <a:pt x="722" y="70"/>
                </a:lnTo>
                <a:lnTo>
                  <a:pt x="737" y="77"/>
                </a:lnTo>
                <a:lnTo>
                  <a:pt x="751" y="85"/>
                </a:lnTo>
                <a:lnTo>
                  <a:pt x="766" y="95"/>
                </a:lnTo>
                <a:lnTo>
                  <a:pt x="778" y="104"/>
                </a:lnTo>
                <a:lnTo>
                  <a:pt x="789" y="112"/>
                </a:lnTo>
                <a:lnTo>
                  <a:pt x="801" y="121"/>
                </a:lnTo>
                <a:lnTo>
                  <a:pt x="810" y="129"/>
                </a:lnTo>
                <a:lnTo>
                  <a:pt x="818" y="137"/>
                </a:lnTo>
                <a:lnTo>
                  <a:pt x="828" y="144"/>
                </a:lnTo>
                <a:lnTo>
                  <a:pt x="833" y="150"/>
                </a:lnTo>
                <a:lnTo>
                  <a:pt x="839" y="158"/>
                </a:lnTo>
                <a:lnTo>
                  <a:pt x="845" y="164"/>
                </a:lnTo>
                <a:lnTo>
                  <a:pt x="849" y="169"/>
                </a:lnTo>
                <a:lnTo>
                  <a:pt x="851" y="175"/>
                </a:lnTo>
                <a:lnTo>
                  <a:pt x="853" y="181"/>
                </a:lnTo>
                <a:lnTo>
                  <a:pt x="855" y="187"/>
                </a:lnTo>
                <a:lnTo>
                  <a:pt x="855" y="192"/>
                </a:lnTo>
                <a:lnTo>
                  <a:pt x="855" y="200"/>
                </a:lnTo>
                <a:lnTo>
                  <a:pt x="853" y="210"/>
                </a:lnTo>
                <a:lnTo>
                  <a:pt x="849" y="219"/>
                </a:lnTo>
                <a:lnTo>
                  <a:pt x="845" y="229"/>
                </a:lnTo>
                <a:lnTo>
                  <a:pt x="839" y="237"/>
                </a:lnTo>
                <a:lnTo>
                  <a:pt x="835" y="240"/>
                </a:lnTo>
                <a:lnTo>
                  <a:pt x="830" y="244"/>
                </a:lnTo>
                <a:lnTo>
                  <a:pt x="826" y="246"/>
                </a:lnTo>
                <a:lnTo>
                  <a:pt x="820" y="250"/>
                </a:lnTo>
                <a:lnTo>
                  <a:pt x="814" y="252"/>
                </a:lnTo>
                <a:lnTo>
                  <a:pt x="809" y="256"/>
                </a:lnTo>
                <a:lnTo>
                  <a:pt x="805" y="258"/>
                </a:lnTo>
                <a:lnTo>
                  <a:pt x="801" y="260"/>
                </a:lnTo>
                <a:lnTo>
                  <a:pt x="797" y="263"/>
                </a:lnTo>
                <a:lnTo>
                  <a:pt x="793" y="267"/>
                </a:lnTo>
                <a:lnTo>
                  <a:pt x="789" y="271"/>
                </a:lnTo>
                <a:lnTo>
                  <a:pt x="785" y="277"/>
                </a:lnTo>
                <a:lnTo>
                  <a:pt x="782" y="285"/>
                </a:lnTo>
                <a:lnTo>
                  <a:pt x="778" y="290"/>
                </a:lnTo>
                <a:lnTo>
                  <a:pt x="774" y="300"/>
                </a:lnTo>
                <a:lnTo>
                  <a:pt x="770" y="308"/>
                </a:lnTo>
                <a:lnTo>
                  <a:pt x="766" y="317"/>
                </a:lnTo>
                <a:lnTo>
                  <a:pt x="762" y="327"/>
                </a:lnTo>
                <a:lnTo>
                  <a:pt x="759" y="338"/>
                </a:lnTo>
                <a:lnTo>
                  <a:pt x="753" y="350"/>
                </a:lnTo>
                <a:lnTo>
                  <a:pt x="749" y="363"/>
                </a:lnTo>
                <a:lnTo>
                  <a:pt x="745" y="377"/>
                </a:lnTo>
                <a:lnTo>
                  <a:pt x="741" y="390"/>
                </a:lnTo>
                <a:lnTo>
                  <a:pt x="736" y="405"/>
                </a:lnTo>
                <a:lnTo>
                  <a:pt x="732" y="421"/>
                </a:lnTo>
                <a:lnTo>
                  <a:pt x="726" y="438"/>
                </a:lnTo>
                <a:lnTo>
                  <a:pt x="722" y="455"/>
                </a:lnTo>
                <a:lnTo>
                  <a:pt x="716" y="473"/>
                </a:lnTo>
                <a:lnTo>
                  <a:pt x="713" y="492"/>
                </a:lnTo>
                <a:lnTo>
                  <a:pt x="707" y="511"/>
                </a:lnTo>
                <a:lnTo>
                  <a:pt x="703" y="530"/>
                </a:lnTo>
                <a:lnTo>
                  <a:pt x="697" y="551"/>
                </a:lnTo>
                <a:lnTo>
                  <a:pt x="691" y="572"/>
                </a:lnTo>
                <a:lnTo>
                  <a:pt x="686" y="595"/>
                </a:lnTo>
                <a:lnTo>
                  <a:pt x="682" y="617"/>
                </a:lnTo>
                <a:lnTo>
                  <a:pt x="676" y="642"/>
                </a:lnTo>
                <a:lnTo>
                  <a:pt x="670" y="665"/>
                </a:lnTo>
                <a:lnTo>
                  <a:pt x="665" y="690"/>
                </a:lnTo>
                <a:lnTo>
                  <a:pt x="659" y="716"/>
                </a:lnTo>
                <a:lnTo>
                  <a:pt x="653" y="741"/>
                </a:lnTo>
                <a:lnTo>
                  <a:pt x="645" y="766"/>
                </a:lnTo>
                <a:lnTo>
                  <a:pt x="640" y="789"/>
                </a:lnTo>
                <a:lnTo>
                  <a:pt x="634" y="812"/>
                </a:lnTo>
                <a:lnTo>
                  <a:pt x="628" y="834"/>
                </a:lnTo>
                <a:lnTo>
                  <a:pt x="622" y="855"/>
                </a:lnTo>
                <a:lnTo>
                  <a:pt x="617" y="876"/>
                </a:lnTo>
                <a:lnTo>
                  <a:pt x="611" y="895"/>
                </a:lnTo>
                <a:lnTo>
                  <a:pt x="607" y="912"/>
                </a:lnTo>
                <a:lnTo>
                  <a:pt x="601" y="929"/>
                </a:lnTo>
                <a:lnTo>
                  <a:pt x="595" y="947"/>
                </a:lnTo>
                <a:lnTo>
                  <a:pt x="592" y="964"/>
                </a:lnTo>
                <a:lnTo>
                  <a:pt x="586" y="979"/>
                </a:lnTo>
                <a:lnTo>
                  <a:pt x="582" y="993"/>
                </a:lnTo>
                <a:lnTo>
                  <a:pt x="578" y="1006"/>
                </a:lnTo>
                <a:lnTo>
                  <a:pt x="574" y="1020"/>
                </a:lnTo>
                <a:lnTo>
                  <a:pt x="570" y="1031"/>
                </a:lnTo>
                <a:lnTo>
                  <a:pt x="567" y="1043"/>
                </a:lnTo>
                <a:lnTo>
                  <a:pt x="563" y="1052"/>
                </a:lnTo>
                <a:lnTo>
                  <a:pt x="559" y="1062"/>
                </a:lnTo>
                <a:lnTo>
                  <a:pt x="555" y="1072"/>
                </a:lnTo>
                <a:lnTo>
                  <a:pt x="553" y="1079"/>
                </a:lnTo>
                <a:lnTo>
                  <a:pt x="549" y="1085"/>
                </a:lnTo>
                <a:lnTo>
                  <a:pt x="547" y="1093"/>
                </a:lnTo>
                <a:lnTo>
                  <a:pt x="546" y="1096"/>
                </a:lnTo>
                <a:lnTo>
                  <a:pt x="542" y="1102"/>
                </a:lnTo>
                <a:lnTo>
                  <a:pt x="540" y="1106"/>
                </a:lnTo>
                <a:lnTo>
                  <a:pt x="538" y="1108"/>
                </a:lnTo>
                <a:lnTo>
                  <a:pt x="536" y="1110"/>
                </a:lnTo>
                <a:lnTo>
                  <a:pt x="536" y="1112"/>
                </a:lnTo>
                <a:lnTo>
                  <a:pt x="534" y="1112"/>
                </a:lnTo>
                <a:lnTo>
                  <a:pt x="532" y="1112"/>
                </a:lnTo>
                <a:lnTo>
                  <a:pt x="530" y="1110"/>
                </a:lnTo>
                <a:lnTo>
                  <a:pt x="528" y="1110"/>
                </a:lnTo>
                <a:lnTo>
                  <a:pt x="524" y="1108"/>
                </a:lnTo>
                <a:lnTo>
                  <a:pt x="523" y="1104"/>
                </a:lnTo>
                <a:lnTo>
                  <a:pt x="521" y="1100"/>
                </a:lnTo>
                <a:lnTo>
                  <a:pt x="519" y="1096"/>
                </a:lnTo>
                <a:lnTo>
                  <a:pt x="517" y="1093"/>
                </a:lnTo>
                <a:lnTo>
                  <a:pt x="515" y="1087"/>
                </a:lnTo>
                <a:lnTo>
                  <a:pt x="513" y="1081"/>
                </a:lnTo>
                <a:lnTo>
                  <a:pt x="509" y="1075"/>
                </a:lnTo>
                <a:lnTo>
                  <a:pt x="507" y="1070"/>
                </a:lnTo>
                <a:lnTo>
                  <a:pt x="505" y="1062"/>
                </a:lnTo>
                <a:lnTo>
                  <a:pt x="503" y="1052"/>
                </a:lnTo>
                <a:lnTo>
                  <a:pt x="501" y="1045"/>
                </a:lnTo>
                <a:lnTo>
                  <a:pt x="499" y="1035"/>
                </a:lnTo>
                <a:lnTo>
                  <a:pt x="494" y="1022"/>
                </a:lnTo>
                <a:lnTo>
                  <a:pt x="490" y="1006"/>
                </a:lnTo>
                <a:lnTo>
                  <a:pt x="486" y="993"/>
                </a:lnTo>
                <a:lnTo>
                  <a:pt x="484" y="977"/>
                </a:lnTo>
                <a:lnTo>
                  <a:pt x="482" y="964"/>
                </a:lnTo>
                <a:lnTo>
                  <a:pt x="482" y="949"/>
                </a:lnTo>
                <a:lnTo>
                  <a:pt x="482" y="941"/>
                </a:lnTo>
                <a:lnTo>
                  <a:pt x="484" y="935"/>
                </a:lnTo>
                <a:lnTo>
                  <a:pt x="484" y="928"/>
                </a:lnTo>
                <a:lnTo>
                  <a:pt x="486" y="920"/>
                </a:lnTo>
                <a:lnTo>
                  <a:pt x="486" y="912"/>
                </a:lnTo>
                <a:lnTo>
                  <a:pt x="488" y="903"/>
                </a:lnTo>
                <a:lnTo>
                  <a:pt x="490" y="889"/>
                </a:lnTo>
                <a:lnTo>
                  <a:pt x="490" y="883"/>
                </a:lnTo>
                <a:lnTo>
                  <a:pt x="492" y="876"/>
                </a:lnTo>
                <a:lnTo>
                  <a:pt x="492" y="868"/>
                </a:lnTo>
                <a:lnTo>
                  <a:pt x="494" y="860"/>
                </a:lnTo>
                <a:lnTo>
                  <a:pt x="494" y="853"/>
                </a:lnTo>
                <a:lnTo>
                  <a:pt x="496" y="843"/>
                </a:lnTo>
                <a:lnTo>
                  <a:pt x="498" y="834"/>
                </a:lnTo>
                <a:lnTo>
                  <a:pt x="499" y="824"/>
                </a:lnTo>
                <a:lnTo>
                  <a:pt x="501" y="812"/>
                </a:lnTo>
                <a:lnTo>
                  <a:pt x="503" y="801"/>
                </a:lnTo>
                <a:lnTo>
                  <a:pt x="505" y="789"/>
                </a:lnTo>
                <a:lnTo>
                  <a:pt x="507" y="778"/>
                </a:lnTo>
                <a:lnTo>
                  <a:pt x="509" y="764"/>
                </a:lnTo>
                <a:lnTo>
                  <a:pt x="511" y="753"/>
                </a:lnTo>
                <a:lnTo>
                  <a:pt x="515" y="738"/>
                </a:lnTo>
                <a:lnTo>
                  <a:pt x="517" y="724"/>
                </a:lnTo>
                <a:lnTo>
                  <a:pt x="519" y="709"/>
                </a:lnTo>
                <a:lnTo>
                  <a:pt x="523" y="693"/>
                </a:lnTo>
                <a:lnTo>
                  <a:pt x="524" y="678"/>
                </a:lnTo>
                <a:lnTo>
                  <a:pt x="528" y="661"/>
                </a:lnTo>
                <a:lnTo>
                  <a:pt x="530" y="643"/>
                </a:lnTo>
                <a:lnTo>
                  <a:pt x="534" y="626"/>
                </a:lnTo>
                <a:lnTo>
                  <a:pt x="536" y="607"/>
                </a:lnTo>
                <a:lnTo>
                  <a:pt x="540" y="590"/>
                </a:lnTo>
                <a:lnTo>
                  <a:pt x="544" y="569"/>
                </a:lnTo>
                <a:lnTo>
                  <a:pt x="546" y="549"/>
                </a:lnTo>
                <a:lnTo>
                  <a:pt x="549" y="530"/>
                </a:lnTo>
                <a:lnTo>
                  <a:pt x="551" y="509"/>
                </a:lnTo>
                <a:lnTo>
                  <a:pt x="555" y="492"/>
                </a:lnTo>
                <a:lnTo>
                  <a:pt x="557" y="473"/>
                </a:lnTo>
                <a:lnTo>
                  <a:pt x="561" y="455"/>
                </a:lnTo>
                <a:lnTo>
                  <a:pt x="563" y="438"/>
                </a:lnTo>
                <a:lnTo>
                  <a:pt x="565" y="421"/>
                </a:lnTo>
                <a:lnTo>
                  <a:pt x="567" y="405"/>
                </a:lnTo>
                <a:lnTo>
                  <a:pt x="569" y="390"/>
                </a:lnTo>
                <a:lnTo>
                  <a:pt x="569" y="377"/>
                </a:lnTo>
                <a:lnTo>
                  <a:pt x="570" y="361"/>
                </a:lnTo>
                <a:lnTo>
                  <a:pt x="570" y="348"/>
                </a:lnTo>
                <a:lnTo>
                  <a:pt x="572" y="334"/>
                </a:lnTo>
                <a:lnTo>
                  <a:pt x="572" y="323"/>
                </a:lnTo>
                <a:lnTo>
                  <a:pt x="574" y="311"/>
                </a:lnTo>
                <a:lnTo>
                  <a:pt x="574" y="300"/>
                </a:lnTo>
                <a:lnTo>
                  <a:pt x="574" y="290"/>
                </a:lnTo>
                <a:lnTo>
                  <a:pt x="574" y="281"/>
                </a:lnTo>
                <a:lnTo>
                  <a:pt x="574" y="271"/>
                </a:lnTo>
                <a:lnTo>
                  <a:pt x="574" y="262"/>
                </a:lnTo>
                <a:lnTo>
                  <a:pt x="572" y="254"/>
                </a:lnTo>
                <a:lnTo>
                  <a:pt x="572" y="246"/>
                </a:lnTo>
                <a:lnTo>
                  <a:pt x="572" y="240"/>
                </a:lnTo>
                <a:lnTo>
                  <a:pt x="570" y="233"/>
                </a:lnTo>
                <a:lnTo>
                  <a:pt x="570" y="227"/>
                </a:lnTo>
                <a:lnTo>
                  <a:pt x="569" y="223"/>
                </a:lnTo>
                <a:lnTo>
                  <a:pt x="567" y="217"/>
                </a:lnTo>
                <a:lnTo>
                  <a:pt x="567" y="214"/>
                </a:lnTo>
                <a:lnTo>
                  <a:pt x="565" y="212"/>
                </a:lnTo>
                <a:lnTo>
                  <a:pt x="563" y="208"/>
                </a:lnTo>
                <a:lnTo>
                  <a:pt x="561" y="206"/>
                </a:lnTo>
                <a:lnTo>
                  <a:pt x="559" y="20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182"/>
          <p:cNvSpPr/>
          <p:nvPr/>
        </p:nvSpPr>
        <p:spPr>
          <a:xfrm>
            <a:off x="5937120" y="3578400"/>
            <a:ext cx="500040" cy="1108080"/>
          </a:xfrm>
          <a:custGeom>
            <a:avLst/>
            <a:gdLst/>
            <a:ahLst/>
            <a:rect l="l" t="t" r="r" b="b"/>
            <a:pathLst>
              <a:path w="632" h="1397">
                <a:moveTo>
                  <a:pt x="298" y="13"/>
                </a:moveTo>
                <a:lnTo>
                  <a:pt x="296" y="23"/>
                </a:lnTo>
                <a:lnTo>
                  <a:pt x="294" y="33"/>
                </a:lnTo>
                <a:lnTo>
                  <a:pt x="294" y="44"/>
                </a:lnTo>
                <a:lnTo>
                  <a:pt x="294" y="56"/>
                </a:lnTo>
                <a:lnTo>
                  <a:pt x="292" y="67"/>
                </a:lnTo>
                <a:lnTo>
                  <a:pt x="292" y="81"/>
                </a:lnTo>
                <a:lnTo>
                  <a:pt x="290" y="92"/>
                </a:lnTo>
                <a:lnTo>
                  <a:pt x="290" y="106"/>
                </a:lnTo>
                <a:lnTo>
                  <a:pt x="290" y="121"/>
                </a:lnTo>
                <a:lnTo>
                  <a:pt x="288" y="134"/>
                </a:lnTo>
                <a:lnTo>
                  <a:pt x="288" y="150"/>
                </a:lnTo>
                <a:lnTo>
                  <a:pt x="288" y="165"/>
                </a:lnTo>
                <a:lnTo>
                  <a:pt x="286" y="180"/>
                </a:lnTo>
                <a:lnTo>
                  <a:pt x="286" y="198"/>
                </a:lnTo>
                <a:lnTo>
                  <a:pt x="286" y="215"/>
                </a:lnTo>
                <a:lnTo>
                  <a:pt x="284" y="232"/>
                </a:lnTo>
                <a:lnTo>
                  <a:pt x="284" y="250"/>
                </a:lnTo>
                <a:lnTo>
                  <a:pt x="284" y="269"/>
                </a:lnTo>
                <a:lnTo>
                  <a:pt x="284" y="288"/>
                </a:lnTo>
                <a:lnTo>
                  <a:pt x="282" y="307"/>
                </a:lnTo>
                <a:lnTo>
                  <a:pt x="282" y="347"/>
                </a:lnTo>
                <a:lnTo>
                  <a:pt x="281" y="390"/>
                </a:lnTo>
                <a:lnTo>
                  <a:pt x="279" y="432"/>
                </a:lnTo>
                <a:lnTo>
                  <a:pt x="277" y="478"/>
                </a:lnTo>
                <a:lnTo>
                  <a:pt x="275" y="526"/>
                </a:lnTo>
                <a:lnTo>
                  <a:pt x="273" y="576"/>
                </a:lnTo>
                <a:lnTo>
                  <a:pt x="273" y="601"/>
                </a:lnTo>
                <a:lnTo>
                  <a:pt x="271" y="624"/>
                </a:lnTo>
                <a:lnTo>
                  <a:pt x="271" y="647"/>
                </a:lnTo>
                <a:lnTo>
                  <a:pt x="269" y="670"/>
                </a:lnTo>
                <a:lnTo>
                  <a:pt x="269" y="691"/>
                </a:lnTo>
                <a:lnTo>
                  <a:pt x="267" y="712"/>
                </a:lnTo>
                <a:lnTo>
                  <a:pt x="267" y="733"/>
                </a:lnTo>
                <a:lnTo>
                  <a:pt x="267" y="752"/>
                </a:lnTo>
                <a:lnTo>
                  <a:pt x="265" y="772"/>
                </a:lnTo>
                <a:lnTo>
                  <a:pt x="265" y="789"/>
                </a:lnTo>
                <a:lnTo>
                  <a:pt x="265" y="806"/>
                </a:lnTo>
                <a:lnTo>
                  <a:pt x="265" y="824"/>
                </a:lnTo>
                <a:lnTo>
                  <a:pt x="265" y="839"/>
                </a:lnTo>
                <a:lnTo>
                  <a:pt x="265" y="854"/>
                </a:lnTo>
                <a:lnTo>
                  <a:pt x="265" y="868"/>
                </a:lnTo>
                <a:lnTo>
                  <a:pt x="265" y="883"/>
                </a:lnTo>
                <a:lnTo>
                  <a:pt x="265" y="895"/>
                </a:lnTo>
                <a:lnTo>
                  <a:pt x="265" y="906"/>
                </a:lnTo>
                <a:lnTo>
                  <a:pt x="265" y="918"/>
                </a:lnTo>
                <a:lnTo>
                  <a:pt x="265" y="929"/>
                </a:lnTo>
                <a:lnTo>
                  <a:pt x="265" y="939"/>
                </a:lnTo>
                <a:lnTo>
                  <a:pt x="265" y="948"/>
                </a:lnTo>
                <a:lnTo>
                  <a:pt x="265" y="956"/>
                </a:lnTo>
                <a:lnTo>
                  <a:pt x="267" y="964"/>
                </a:lnTo>
                <a:lnTo>
                  <a:pt x="267" y="971"/>
                </a:lnTo>
                <a:lnTo>
                  <a:pt x="267" y="977"/>
                </a:lnTo>
                <a:lnTo>
                  <a:pt x="269" y="981"/>
                </a:lnTo>
                <a:lnTo>
                  <a:pt x="269" y="987"/>
                </a:lnTo>
                <a:lnTo>
                  <a:pt x="271" y="990"/>
                </a:lnTo>
                <a:lnTo>
                  <a:pt x="271" y="992"/>
                </a:lnTo>
                <a:lnTo>
                  <a:pt x="273" y="996"/>
                </a:lnTo>
                <a:lnTo>
                  <a:pt x="273" y="998"/>
                </a:lnTo>
                <a:lnTo>
                  <a:pt x="277" y="1000"/>
                </a:lnTo>
                <a:lnTo>
                  <a:pt x="281" y="1000"/>
                </a:lnTo>
                <a:lnTo>
                  <a:pt x="284" y="1000"/>
                </a:lnTo>
                <a:lnTo>
                  <a:pt x="290" y="1000"/>
                </a:lnTo>
                <a:lnTo>
                  <a:pt x="298" y="998"/>
                </a:lnTo>
                <a:lnTo>
                  <a:pt x="307" y="996"/>
                </a:lnTo>
                <a:lnTo>
                  <a:pt x="317" y="992"/>
                </a:lnTo>
                <a:lnTo>
                  <a:pt x="327" y="989"/>
                </a:lnTo>
                <a:lnTo>
                  <a:pt x="338" y="983"/>
                </a:lnTo>
                <a:lnTo>
                  <a:pt x="352" y="977"/>
                </a:lnTo>
                <a:lnTo>
                  <a:pt x="365" y="969"/>
                </a:lnTo>
                <a:lnTo>
                  <a:pt x="380" y="962"/>
                </a:lnTo>
                <a:lnTo>
                  <a:pt x="396" y="952"/>
                </a:lnTo>
                <a:lnTo>
                  <a:pt x="413" y="943"/>
                </a:lnTo>
                <a:lnTo>
                  <a:pt x="432" y="933"/>
                </a:lnTo>
                <a:lnTo>
                  <a:pt x="451" y="921"/>
                </a:lnTo>
                <a:lnTo>
                  <a:pt x="471" y="908"/>
                </a:lnTo>
                <a:lnTo>
                  <a:pt x="490" y="898"/>
                </a:lnTo>
                <a:lnTo>
                  <a:pt x="507" y="887"/>
                </a:lnTo>
                <a:lnTo>
                  <a:pt x="522" y="877"/>
                </a:lnTo>
                <a:lnTo>
                  <a:pt x="538" y="868"/>
                </a:lnTo>
                <a:lnTo>
                  <a:pt x="551" y="860"/>
                </a:lnTo>
                <a:lnTo>
                  <a:pt x="565" y="852"/>
                </a:lnTo>
                <a:lnTo>
                  <a:pt x="576" y="847"/>
                </a:lnTo>
                <a:lnTo>
                  <a:pt x="588" y="841"/>
                </a:lnTo>
                <a:lnTo>
                  <a:pt x="595" y="837"/>
                </a:lnTo>
                <a:lnTo>
                  <a:pt x="605" y="833"/>
                </a:lnTo>
                <a:lnTo>
                  <a:pt x="613" y="831"/>
                </a:lnTo>
                <a:lnTo>
                  <a:pt x="618" y="829"/>
                </a:lnTo>
                <a:lnTo>
                  <a:pt x="624" y="829"/>
                </a:lnTo>
                <a:lnTo>
                  <a:pt x="628" y="829"/>
                </a:lnTo>
                <a:lnTo>
                  <a:pt x="630" y="831"/>
                </a:lnTo>
                <a:lnTo>
                  <a:pt x="630" y="833"/>
                </a:lnTo>
                <a:lnTo>
                  <a:pt x="632" y="835"/>
                </a:lnTo>
                <a:lnTo>
                  <a:pt x="632" y="837"/>
                </a:lnTo>
                <a:lnTo>
                  <a:pt x="630" y="839"/>
                </a:lnTo>
                <a:lnTo>
                  <a:pt x="628" y="845"/>
                </a:lnTo>
                <a:lnTo>
                  <a:pt x="624" y="852"/>
                </a:lnTo>
                <a:lnTo>
                  <a:pt x="616" y="862"/>
                </a:lnTo>
                <a:lnTo>
                  <a:pt x="609" y="871"/>
                </a:lnTo>
                <a:lnTo>
                  <a:pt x="599" y="883"/>
                </a:lnTo>
                <a:lnTo>
                  <a:pt x="588" y="896"/>
                </a:lnTo>
                <a:lnTo>
                  <a:pt x="574" y="910"/>
                </a:lnTo>
                <a:lnTo>
                  <a:pt x="559" y="927"/>
                </a:lnTo>
                <a:lnTo>
                  <a:pt x="544" y="944"/>
                </a:lnTo>
                <a:lnTo>
                  <a:pt x="526" y="962"/>
                </a:lnTo>
                <a:lnTo>
                  <a:pt x="507" y="981"/>
                </a:lnTo>
                <a:lnTo>
                  <a:pt x="486" y="1002"/>
                </a:lnTo>
                <a:lnTo>
                  <a:pt x="463" y="1025"/>
                </a:lnTo>
                <a:lnTo>
                  <a:pt x="440" y="1048"/>
                </a:lnTo>
                <a:lnTo>
                  <a:pt x="413" y="1075"/>
                </a:lnTo>
                <a:lnTo>
                  <a:pt x="390" y="1100"/>
                </a:lnTo>
                <a:lnTo>
                  <a:pt x="367" y="1123"/>
                </a:lnTo>
                <a:lnTo>
                  <a:pt x="344" y="1146"/>
                </a:lnTo>
                <a:lnTo>
                  <a:pt x="325" y="1165"/>
                </a:lnTo>
                <a:lnTo>
                  <a:pt x="306" y="1186"/>
                </a:lnTo>
                <a:lnTo>
                  <a:pt x="288" y="1204"/>
                </a:lnTo>
                <a:lnTo>
                  <a:pt x="273" y="1221"/>
                </a:lnTo>
                <a:lnTo>
                  <a:pt x="258" y="1238"/>
                </a:lnTo>
                <a:lnTo>
                  <a:pt x="244" y="1253"/>
                </a:lnTo>
                <a:lnTo>
                  <a:pt x="235" y="1267"/>
                </a:lnTo>
                <a:lnTo>
                  <a:pt x="225" y="1278"/>
                </a:lnTo>
                <a:lnTo>
                  <a:pt x="215" y="1290"/>
                </a:lnTo>
                <a:lnTo>
                  <a:pt x="210" y="1300"/>
                </a:lnTo>
                <a:lnTo>
                  <a:pt x="206" y="1309"/>
                </a:lnTo>
                <a:lnTo>
                  <a:pt x="202" y="1317"/>
                </a:lnTo>
                <a:lnTo>
                  <a:pt x="198" y="1326"/>
                </a:lnTo>
                <a:lnTo>
                  <a:pt x="192" y="1334"/>
                </a:lnTo>
                <a:lnTo>
                  <a:pt x="188" y="1344"/>
                </a:lnTo>
                <a:lnTo>
                  <a:pt x="185" y="1351"/>
                </a:lnTo>
                <a:lnTo>
                  <a:pt x="181" y="1357"/>
                </a:lnTo>
                <a:lnTo>
                  <a:pt x="175" y="1363"/>
                </a:lnTo>
                <a:lnTo>
                  <a:pt x="171" y="1369"/>
                </a:lnTo>
                <a:lnTo>
                  <a:pt x="167" y="1374"/>
                </a:lnTo>
                <a:lnTo>
                  <a:pt x="163" y="1378"/>
                </a:lnTo>
                <a:lnTo>
                  <a:pt x="160" y="1382"/>
                </a:lnTo>
                <a:lnTo>
                  <a:pt x="158" y="1386"/>
                </a:lnTo>
                <a:lnTo>
                  <a:pt x="154" y="1390"/>
                </a:lnTo>
                <a:lnTo>
                  <a:pt x="150" y="1392"/>
                </a:lnTo>
                <a:lnTo>
                  <a:pt x="148" y="1392"/>
                </a:lnTo>
                <a:lnTo>
                  <a:pt x="144" y="1394"/>
                </a:lnTo>
                <a:lnTo>
                  <a:pt x="142" y="1394"/>
                </a:lnTo>
                <a:lnTo>
                  <a:pt x="139" y="1396"/>
                </a:lnTo>
                <a:lnTo>
                  <a:pt x="133" y="1397"/>
                </a:lnTo>
                <a:lnTo>
                  <a:pt x="129" y="1397"/>
                </a:lnTo>
                <a:lnTo>
                  <a:pt x="125" y="1396"/>
                </a:lnTo>
                <a:lnTo>
                  <a:pt x="119" y="1396"/>
                </a:lnTo>
                <a:lnTo>
                  <a:pt x="116" y="1394"/>
                </a:lnTo>
                <a:lnTo>
                  <a:pt x="110" y="1390"/>
                </a:lnTo>
                <a:lnTo>
                  <a:pt x="106" y="1386"/>
                </a:lnTo>
                <a:lnTo>
                  <a:pt x="100" y="1382"/>
                </a:lnTo>
                <a:lnTo>
                  <a:pt x="94" y="1376"/>
                </a:lnTo>
                <a:lnTo>
                  <a:pt x="89" y="1371"/>
                </a:lnTo>
                <a:lnTo>
                  <a:pt x="85" y="1363"/>
                </a:lnTo>
                <a:lnTo>
                  <a:pt x="77" y="1355"/>
                </a:lnTo>
                <a:lnTo>
                  <a:pt x="71" y="1348"/>
                </a:lnTo>
                <a:lnTo>
                  <a:pt x="66" y="1340"/>
                </a:lnTo>
                <a:lnTo>
                  <a:pt x="60" y="1330"/>
                </a:lnTo>
                <a:lnTo>
                  <a:pt x="46" y="1315"/>
                </a:lnTo>
                <a:lnTo>
                  <a:pt x="35" y="1301"/>
                </a:lnTo>
                <a:lnTo>
                  <a:pt x="25" y="1288"/>
                </a:lnTo>
                <a:lnTo>
                  <a:pt x="16" y="1275"/>
                </a:lnTo>
                <a:lnTo>
                  <a:pt x="10" y="1263"/>
                </a:lnTo>
                <a:lnTo>
                  <a:pt x="6" y="1259"/>
                </a:lnTo>
                <a:lnTo>
                  <a:pt x="4" y="1253"/>
                </a:lnTo>
                <a:lnTo>
                  <a:pt x="2" y="1250"/>
                </a:lnTo>
                <a:lnTo>
                  <a:pt x="0" y="1246"/>
                </a:lnTo>
                <a:lnTo>
                  <a:pt x="0" y="1242"/>
                </a:lnTo>
                <a:lnTo>
                  <a:pt x="0" y="1240"/>
                </a:lnTo>
                <a:lnTo>
                  <a:pt x="0" y="1238"/>
                </a:lnTo>
                <a:lnTo>
                  <a:pt x="0" y="1234"/>
                </a:lnTo>
                <a:lnTo>
                  <a:pt x="2" y="1232"/>
                </a:lnTo>
                <a:lnTo>
                  <a:pt x="4" y="1229"/>
                </a:lnTo>
                <a:lnTo>
                  <a:pt x="6" y="1225"/>
                </a:lnTo>
                <a:lnTo>
                  <a:pt x="10" y="1219"/>
                </a:lnTo>
                <a:lnTo>
                  <a:pt x="12" y="1213"/>
                </a:lnTo>
                <a:lnTo>
                  <a:pt x="16" y="1209"/>
                </a:lnTo>
                <a:lnTo>
                  <a:pt x="20" y="1202"/>
                </a:lnTo>
                <a:lnTo>
                  <a:pt x="25" y="1196"/>
                </a:lnTo>
                <a:lnTo>
                  <a:pt x="29" y="1188"/>
                </a:lnTo>
                <a:lnTo>
                  <a:pt x="35" y="1179"/>
                </a:lnTo>
                <a:lnTo>
                  <a:pt x="41" y="1171"/>
                </a:lnTo>
                <a:lnTo>
                  <a:pt x="46" y="1159"/>
                </a:lnTo>
                <a:lnTo>
                  <a:pt x="52" y="1150"/>
                </a:lnTo>
                <a:lnTo>
                  <a:pt x="60" y="1138"/>
                </a:lnTo>
                <a:lnTo>
                  <a:pt x="62" y="1131"/>
                </a:lnTo>
                <a:lnTo>
                  <a:pt x="66" y="1125"/>
                </a:lnTo>
                <a:lnTo>
                  <a:pt x="69" y="1117"/>
                </a:lnTo>
                <a:lnTo>
                  <a:pt x="71" y="1108"/>
                </a:lnTo>
                <a:lnTo>
                  <a:pt x="75" y="1100"/>
                </a:lnTo>
                <a:lnTo>
                  <a:pt x="77" y="1090"/>
                </a:lnTo>
                <a:lnTo>
                  <a:pt x="81" y="1079"/>
                </a:lnTo>
                <a:lnTo>
                  <a:pt x="83" y="1067"/>
                </a:lnTo>
                <a:lnTo>
                  <a:pt x="87" y="1056"/>
                </a:lnTo>
                <a:lnTo>
                  <a:pt x="89" y="1044"/>
                </a:lnTo>
                <a:lnTo>
                  <a:pt x="92" y="1031"/>
                </a:lnTo>
                <a:lnTo>
                  <a:pt x="94" y="1017"/>
                </a:lnTo>
                <a:lnTo>
                  <a:pt x="96" y="1002"/>
                </a:lnTo>
                <a:lnTo>
                  <a:pt x="98" y="989"/>
                </a:lnTo>
                <a:lnTo>
                  <a:pt x="102" y="971"/>
                </a:lnTo>
                <a:lnTo>
                  <a:pt x="104" y="956"/>
                </a:lnTo>
                <a:lnTo>
                  <a:pt x="106" y="939"/>
                </a:lnTo>
                <a:lnTo>
                  <a:pt x="108" y="921"/>
                </a:lnTo>
                <a:lnTo>
                  <a:pt x="110" y="902"/>
                </a:lnTo>
                <a:lnTo>
                  <a:pt x="112" y="883"/>
                </a:lnTo>
                <a:lnTo>
                  <a:pt x="114" y="864"/>
                </a:lnTo>
                <a:lnTo>
                  <a:pt x="116" y="843"/>
                </a:lnTo>
                <a:lnTo>
                  <a:pt x="117" y="822"/>
                </a:lnTo>
                <a:lnTo>
                  <a:pt x="119" y="800"/>
                </a:lnTo>
                <a:lnTo>
                  <a:pt x="121" y="777"/>
                </a:lnTo>
                <a:lnTo>
                  <a:pt x="123" y="754"/>
                </a:lnTo>
                <a:lnTo>
                  <a:pt x="123" y="729"/>
                </a:lnTo>
                <a:lnTo>
                  <a:pt x="125" y="706"/>
                </a:lnTo>
                <a:lnTo>
                  <a:pt x="127" y="681"/>
                </a:lnTo>
                <a:lnTo>
                  <a:pt x="129" y="655"/>
                </a:lnTo>
                <a:lnTo>
                  <a:pt x="129" y="628"/>
                </a:lnTo>
                <a:lnTo>
                  <a:pt x="131" y="601"/>
                </a:lnTo>
                <a:lnTo>
                  <a:pt x="131" y="574"/>
                </a:lnTo>
                <a:lnTo>
                  <a:pt x="133" y="547"/>
                </a:lnTo>
                <a:lnTo>
                  <a:pt x="133" y="520"/>
                </a:lnTo>
                <a:lnTo>
                  <a:pt x="135" y="495"/>
                </a:lnTo>
                <a:lnTo>
                  <a:pt x="135" y="470"/>
                </a:lnTo>
                <a:lnTo>
                  <a:pt x="137" y="445"/>
                </a:lnTo>
                <a:lnTo>
                  <a:pt x="137" y="422"/>
                </a:lnTo>
                <a:lnTo>
                  <a:pt x="137" y="399"/>
                </a:lnTo>
                <a:lnTo>
                  <a:pt x="137" y="376"/>
                </a:lnTo>
                <a:lnTo>
                  <a:pt x="137" y="355"/>
                </a:lnTo>
                <a:lnTo>
                  <a:pt x="137" y="332"/>
                </a:lnTo>
                <a:lnTo>
                  <a:pt x="137" y="313"/>
                </a:lnTo>
                <a:lnTo>
                  <a:pt x="137" y="292"/>
                </a:lnTo>
                <a:lnTo>
                  <a:pt x="137" y="273"/>
                </a:lnTo>
                <a:lnTo>
                  <a:pt x="137" y="252"/>
                </a:lnTo>
                <a:lnTo>
                  <a:pt x="137" y="234"/>
                </a:lnTo>
                <a:lnTo>
                  <a:pt x="137" y="215"/>
                </a:lnTo>
                <a:lnTo>
                  <a:pt x="135" y="198"/>
                </a:lnTo>
                <a:lnTo>
                  <a:pt x="135" y="180"/>
                </a:lnTo>
                <a:lnTo>
                  <a:pt x="133" y="163"/>
                </a:lnTo>
                <a:lnTo>
                  <a:pt x="131" y="148"/>
                </a:lnTo>
                <a:lnTo>
                  <a:pt x="131" y="131"/>
                </a:lnTo>
                <a:lnTo>
                  <a:pt x="129" y="115"/>
                </a:lnTo>
                <a:lnTo>
                  <a:pt x="127" y="102"/>
                </a:lnTo>
                <a:lnTo>
                  <a:pt x="125" y="86"/>
                </a:lnTo>
                <a:lnTo>
                  <a:pt x="123" y="73"/>
                </a:lnTo>
                <a:lnTo>
                  <a:pt x="119" y="46"/>
                </a:lnTo>
                <a:lnTo>
                  <a:pt x="114" y="23"/>
                </a:lnTo>
                <a:lnTo>
                  <a:pt x="108" y="0"/>
                </a:lnTo>
                <a:lnTo>
                  <a:pt x="298" y="1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183"/>
          <p:cNvSpPr/>
          <p:nvPr/>
        </p:nvSpPr>
        <p:spPr>
          <a:xfrm>
            <a:off x="5710320" y="3801960"/>
            <a:ext cx="725400" cy="225360"/>
          </a:xfrm>
          <a:custGeom>
            <a:avLst/>
            <a:gdLst/>
            <a:ahLst/>
            <a:rect l="l" t="t" r="r" b="b"/>
            <a:pathLst>
              <a:path w="916" h="284">
                <a:moveTo>
                  <a:pt x="48" y="256"/>
                </a:moveTo>
                <a:lnTo>
                  <a:pt x="41" y="252"/>
                </a:lnTo>
                <a:lnTo>
                  <a:pt x="35" y="250"/>
                </a:lnTo>
                <a:lnTo>
                  <a:pt x="31" y="246"/>
                </a:lnTo>
                <a:lnTo>
                  <a:pt x="25" y="244"/>
                </a:lnTo>
                <a:lnTo>
                  <a:pt x="21" y="240"/>
                </a:lnTo>
                <a:lnTo>
                  <a:pt x="18" y="236"/>
                </a:lnTo>
                <a:lnTo>
                  <a:pt x="10" y="229"/>
                </a:lnTo>
                <a:lnTo>
                  <a:pt x="6" y="219"/>
                </a:lnTo>
                <a:lnTo>
                  <a:pt x="2" y="209"/>
                </a:lnTo>
                <a:lnTo>
                  <a:pt x="0" y="200"/>
                </a:lnTo>
                <a:lnTo>
                  <a:pt x="0" y="192"/>
                </a:lnTo>
                <a:lnTo>
                  <a:pt x="50" y="179"/>
                </a:lnTo>
                <a:lnTo>
                  <a:pt x="100" y="167"/>
                </a:lnTo>
                <a:lnTo>
                  <a:pt x="148" y="156"/>
                </a:lnTo>
                <a:lnTo>
                  <a:pt x="192" y="146"/>
                </a:lnTo>
                <a:lnTo>
                  <a:pt x="238" y="135"/>
                </a:lnTo>
                <a:lnTo>
                  <a:pt x="281" y="125"/>
                </a:lnTo>
                <a:lnTo>
                  <a:pt x="321" y="115"/>
                </a:lnTo>
                <a:lnTo>
                  <a:pt x="361" y="106"/>
                </a:lnTo>
                <a:lnTo>
                  <a:pt x="400" y="98"/>
                </a:lnTo>
                <a:lnTo>
                  <a:pt x="436" y="89"/>
                </a:lnTo>
                <a:lnTo>
                  <a:pt x="473" y="81"/>
                </a:lnTo>
                <a:lnTo>
                  <a:pt x="505" y="73"/>
                </a:lnTo>
                <a:lnTo>
                  <a:pt x="538" y="65"/>
                </a:lnTo>
                <a:lnTo>
                  <a:pt x="568" y="60"/>
                </a:lnTo>
                <a:lnTo>
                  <a:pt x="597" y="52"/>
                </a:lnTo>
                <a:lnTo>
                  <a:pt x="626" y="46"/>
                </a:lnTo>
                <a:lnTo>
                  <a:pt x="653" y="41"/>
                </a:lnTo>
                <a:lnTo>
                  <a:pt x="678" y="35"/>
                </a:lnTo>
                <a:lnTo>
                  <a:pt x="701" y="31"/>
                </a:lnTo>
                <a:lnTo>
                  <a:pt x="722" y="25"/>
                </a:lnTo>
                <a:lnTo>
                  <a:pt x="743" y="21"/>
                </a:lnTo>
                <a:lnTo>
                  <a:pt x="760" y="17"/>
                </a:lnTo>
                <a:lnTo>
                  <a:pt x="778" y="14"/>
                </a:lnTo>
                <a:lnTo>
                  <a:pt x="795" y="12"/>
                </a:lnTo>
                <a:lnTo>
                  <a:pt x="808" y="8"/>
                </a:lnTo>
                <a:lnTo>
                  <a:pt x="822" y="6"/>
                </a:lnTo>
                <a:lnTo>
                  <a:pt x="833" y="4"/>
                </a:lnTo>
                <a:lnTo>
                  <a:pt x="843" y="2"/>
                </a:lnTo>
                <a:lnTo>
                  <a:pt x="853" y="0"/>
                </a:lnTo>
                <a:lnTo>
                  <a:pt x="858" y="0"/>
                </a:lnTo>
                <a:lnTo>
                  <a:pt x="864" y="0"/>
                </a:lnTo>
                <a:lnTo>
                  <a:pt x="868" y="0"/>
                </a:lnTo>
                <a:lnTo>
                  <a:pt x="876" y="0"/>
                </a:lnTo>
                <a:lnTo>
                  <a:pt x="881" y="0"/>
                </a:lnTo>
                <a:lnTo>
                  <a:pt x="885" y="0"/>
                </a:lnTo>
                <a:lnTo>
                  <a:pt x="891" y="2"/>
                </a:lnTo>
                <a:lnTo>
                  <a:pt x="895" y="2"/>
                </a:lnTo>
                <a:lnTo>
                  <a:pt x="899" y="4"/>
                </a:lnTo>
                <a:lnTo>
                  <a:pt x="906" y="8"/>
                </a:lnTo>
                <a:lnTo>
                  <a:pt x="910" y="12"/>
                </a:lnTo>
                <a:lnTo>
                  <a:pt x="914" y="16"/>
                </a:lnTo>
                <a:lnTo>
                  <a:pt x="916" y="21"/>
                </a:lnTo>
                <a:lnTo>
                  <a:pt x="916" y="25"/>
                </a:lnTo>
                <a:lnTo>
                  <a:pt x="916" y="35"/>
                </a:lnTo>
                <a:lnTo>
                  <a:pt x="914" y="44"/>
                </a:lnTo>
                <a:lnTo>
                  <a:pt x="912" y="54"/>
                </a:lnTo>
                <a:lnTo>
                  <a:pt x="908" y="64"/>
                </a:lnTo>
                <a:lnTo>
                  <a:pt x="904" y="73"/>
                </a:lnTo>
                <a:lnTo>
                  <a:pt x="901" y="83"/>
                </a:lnTo>
                <a:lnTo>
                  <a:pt x="893" y="102"/>
                </a:lnTo>
                <a:lnTo>
                  <a:pt x="889" y="104"/>
                </a:lnTo>
                <a:lnTo>
                  <a:pt x="887" y="106"/>
                </a:lnTo>
                <a:lnTo>
                  <a:pt x="883" y="110"/>
                </a:lnTo>
                <a:lnTo>
                  <a:pt x="879" y="112"/>
                </a:lnTo>
                <a:lnTo>
                  <a:pt x="876" y="115"/>
                </a:lnTo>
                <a:lnTo>
                  <a:pt x="870" y="117"/>
                </a:lnTo>
                <a:lnTo>
                  <a:pt x="864" y="121"/>
                </a:lnTo>
                <a:lnTo>
                  <a:pt x="858" y="123"/>
                </a:lnTo>
                <a:lnTo>
                  <a:pt x="853" y="127"/>
                </a:lnTo>
                <a:lnTo>
                  <a:pt x="845" y="129"/>
                </a:lnTo>
                <a:lnTo>
                  <a:pt x="837" y="133"/>
                </a:lnTo>
                <a:lnTo>
                  <a:pt x="830" y="136"/>
                </a:lnTo>
                <a:lnTo>
                  <a:pt x="822" y="138"/>
                </a:lnTo>
                <a:lnTo>
                  <a:pt x="812" y="142"/>
                </a:lnTo>
                <a:lnTo>
                  <a:pt x="805" y="146"/>
                </a:lnTo>
                <a:lnTo>
                  <a:pt x="793" y="150"/>
                </a:lnTo>
                <a:lnTo>
                  <a:pt x="783" y="154"/>
                </a:lnTo>
                <a:lnTo>
                  <a:pt x="772" y="158"/>
                </a:lnTo>
                <a:lnTo>
                  <a:pt x="762" y="160"/>
                </a:lnTo>
                <a:lnTo>
                  <a:pt x="749" y="163"/>
                </a:lnTo>
                <a:lnTo>
                  <a:pt x="737" y="169"/>
                </a:lnTo>
                <a:lnTo>
                  <a:pt x="724" y="173"/>
                </a:lnTo>
                <a:lnTo>
                  <a:pt x="712" y="177"/>
                </a:lnTo>
                <a:lnTo>
                  <a:pt x="697" y="181"/>
                </a:lnTo>
                <a:lnTo>
                  <a:pt x="684" y="184"/>
                </a:lnTo>
                <a:lnTo>
                  <a:pt x="668" y="188"/>
                </a:lnTo>
                <a:lnTo>
                  <a:pt x="655" y="194"/>
                </a:lnTo>
                <a:lnTo>
                  <a:pt x="638" y="198"/>
                </a:lnTo>
                <a:lnTo>
                  <a:pt x="622" y="202"/>
                </a:lnTo>
                <a:lnTo>
                  <a:pt x="605" y="208"/>
                </a:lnTo>
                <a:lnTo>
                  <a:pt x="588" y="211"/>
                </a:lnTo>
                <a:lnTo>
                  <a:pt x="570" y="217"/>
                </a:lnTo>
                <a:lnTo>
                  <a:pt x="553" y="221"/>
                </a:lnTo>
                <a:lnTo>
                  <a:pt x="534" y="227"/>
                </a:lnTo>
                <a:lnTo>
                  <a:pt x="499" y="234"/>
                </a:lnTo>
                <a:lnTo>
                  <a:pt x="467" y="244"/>
                </a:lnTo>
                <a:lnTo>
                  <a:pt x="434" y="250"/>
                </a:lnTo>
                <a:lnTo>
                  <a:pt x="405" y="257"/>
                </a:lnTo>
                <a:lnTo>
                  <a:pt x="378" y="263"/>
                </a:lnTo>
                <a:lnTo>
                  <a:pt x="352" y="269"/>
                </a:lnTo>
                <a:lnTo>
                  <a:pt x="327" y="273"/>
                </a:lnTo>
                <a:lnTo>
                  <a:pt x="306" y="277"/>
                </a:lnTo>
                <a:lnTo>
                  <a:pt x="284" y="280"/>
                </a:lnTo>
                <a:lnTo>
                  <a:pt x="265" y="282"/>
                </a:lnTo>
                <a:lnTo>
                  <a:pt x="246" y="284"/>
                </a:lnTo>
                <a:lnTo>
                  <a:pt x="231" y="284"/>
                </a:lnTo>
                <a:lnTo>
                  <a:pt x="215" y="284"/>
                </a:lnTo>
                <a:lnTo>
                  <a:pt x="202" y="282"/>
                </a:lnTo>
                <a:lnTo>
                  <a:pt x="190" y="280"/>
                </a:lnTo>
                <a:lnTo>
                  <a:pt x="169" y="280"/>
                </a:lnTo>
                <a:lnTo>
                  <a:pt x="148" y="279"/>
                </a:lnTo>
                <a:lnTo>
                  <a:pt x="129" y="277"/>
                </a:lnTo>
                <a:lnTo>
                  <a:pt x="110" y="273"/>
                </a:lnTo>
                <a:lnTo>
                  <a:pt x="92" y="269"/>
                </a:lnTo>
                <a:lnTo>
                  <a:pt x="77" y="265"/>
                </a:lnTo>
                <a:lnTo>
                  <a:pt x="62" y="259"/>
                </a:lnTo>
                <a:lnTo>
                  <a:pt x="48" y="25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4"/>
          <p:cNvSpPr/>
          <p:nvPr/>
        </p:nvSpPr>
        <p:spPr>
          <a:xfrm>
            <a:off x="6012000" y="3125880"/>
            <a:ext cx="500040" cy="187200"/>
          </a:xfrm>
          <a:custGeom>
            <a:avLst/>
            <a:gdLst/>
            <a:ahLst/>
            <a:rect l="l" t="t" r="r" b="b"/>
            <a:pathLst>
              <a:path w="632" h="236">
                <a:moveTo>
                  <a:pt x="0" y="236"/>
                </a:moveTo>
                <a:lnTo>
                  <a:pt x="0" y="178"/>
                </a:lnTo>
                <a:lnTo>
                  <a:pt x="0" y="121"/>
                </a:lnTo>
                <a:lnTo>
                  <a:pt x="25" y="121"/>
                </a:lnTo>
                <a:lnTo>
                  <a:pt x="48" y="119"/>
                </a:lnTo>
                <a:lnTo>
                  <a:pt x="73" y="119"/>
                </a:lnTo>
                <a:lnTo>
                  <a:pt x="96" y="117"/>
                </a:lnTo>
                <a:lnTo>
                  <a:pt x="119" y="113"/>
                </a:lnTo>
                <a:lnTo>
                  <a:pt x="142" y="109"/>
                </a:lnTo>
                <a:lnTo>
                  <a:pt x="165" y="105"/>
                </a:lnTo>
                <a:lnTo>
                  <a:pt x="188" y="102"/>
                </a:lnTo>
                <a:lnTo>
                  <a:pt x="210" y="98"/>
                </a:lnTo>
                <a:lnTo>
                  <a:pt x="233" y="92"/>
                </a:lnTo>
                <a:lnTo>
                  <a:pt x="254" y="84"/>
                </a:lnTo>
                <a:lnTo>
                  <a:pt x="275" y="79"/>
                </a:lnTo>
                <a:lnTo>
                  <a:pt x="296" y="71"/>
                </a:lnTo>
                <a:lnTo>
                  <a:pt x="317" y="61"/>
                </a:lnTo>
                <a:lnTo>
                  <a:pt x="338" y="54"/>
                </a:lnTo>
                <a:lnTo>
                  <a:pt x="357" y="44"/>
                </a:lnTo>
                <a:lnTo>
                  <a:pt x="377" y="36"/>
                </a:lnTo>
                <a:lnTo>
                  <a:pt x="396" y="31"/>
                </a:lnTo>
                <a:lnTo>
                  <a:pt x="413" y="25"/>
                </a:lnTo>
                <a:lnTo>
                  <a:pt x="430" y="19"/>
                </a:lnTo>
                <a:lnTo>
                  <a:pt x="448" y="15"/>
                </a:lnTo>
                <a:lnTo>
                  <a:pt x="463" y="11"/>
                </a:lnTo>
                <a:lnTo>
                  <a:pt x="478" y="8"/>
                </a:lnTo>
                <a:lnTo>
                  <a:pt x="492" y="6"/>
                </a:lnTo>
                <a:lnTo>
                  <a:pt x="503" y="4"/>
                </a:lnTo>
                <a:lnTo>
                  <a:pt x="517" y="2"/>
                </a:lnTo>
                <a:lnTo>
                  <a:pt x="528" y="2"/>
                </a:lnTo>
                <a:lnTo>
                  <a:pt x="538" y="0"/>
                </a:lnTo>
                <a:lnTo>
                  <a:pt x="547" y="2"/>
                </a:lnTo>
                <a:lnTo>
                  <a:pt x="557" y="2"/>
                </a:lnTo>
                <a:lnTo>
                  <a:pt x="565" y="4"/>
                </a:lnTo>
                <a:lnTo>
                  <a:pt x="572" y="6"/>
                </a:lnTo>
                <a:lnTo>
                  <a:pt x="584" y="11"/>
                </a:lnTo>
                <a:lnTo>
                  <a:pt x="595" y="17"/>
                </a:lnTo>
                <a:lnTo>
                  <a:pt x="605" y="25"/>
                </a:lnTo>
                <a:lnTo>
                  <a:pt x="615" y="31"/>
                </a:lnTo>
                <a:lnTo>
                  <a:pt x="622" y="38"/>
                </a:lnTo>
                <a:lnTo>
                  <a:pt x="624" y="42"/>
                </a:lnTo>
                <a:lnTo>
                  <a:pt x="626" y="46"/>
                </a:lnTo>
                <a:lnTo>
                  <a:pt x="628" y="48"/>
                </a:lnTo>
                <a:lnTo>
                  <a:pt x="630" y="52"/>
                </a:lnTo>
                <a:lnTo>
                  <a:pt x="630" y="54"/>
                </a:lnTo>
                <a:lnTo>
                  <a:pt x="632" y="57"/>
                </a:lnTo>
                <a:lnTo>
                  <a:pt x="630" y="67"/>
                </a:lnTo>
                <a:lnTo>
                  <a:pt x="628" y="77"/>
                </a:lnTo>
                <a:lnTo>
                  <a:pt x="626" y="84"/>
                </a:lnTo>
                <a:lnTo>
                  <a:pt x="620" y="94"/>
                </a:lnTo>
                <a:lnTo>
                  <a:pt x="615" y="102"/>
                </a:lnTo>
                <a:lnTo>
                  <a:pt x="611" y="105"/>
                </a:lnTo>
                <a:lnTo>
                  <a:pt x="605" y="109"/>
                </a:lnTo>
                <a:lnTo>
                  <a:pt x="601" y="113"/>
                </a:lnTo>
                <a:lnTo>
                  <a:pt x="595" y="115"/>
                </a:lnTo>
                <a:lnTo>
                  <a:pt x="590" y="119"/>
                </a:lnTo>
                <a:lnTo>
                  <a:pt x="584" y="121"/>
                </a:lnTo>
                <a:lnTo>
                  <a:pt x="576" y="127"/>
                </a:lnTo>
                <a:lnTo>
                  <a:pt x="569" y="130"/>
                </a:lnTo>
                <a:lnTo>
                  <a:pt x="559" y="136"/>
                </a:lnTo>
                <a:lnTo>
                  <a:pt x="547" y="140"/>
                </a:lnTo>
                <a:lnTo>
                  <a:pt x="536" y="146"/>
                </a:lnTo>
                <a:lnTo>
                  <a:pt x="522" y="150"/>
                </a:lnTo>
                <a:lnTo>
                  <a:pt x="509" y="153"/>
                </a:lnTo>
                <a:lnTo>
                  <a:pt x="494" y="159"/>
                </a:lnTo>
                <a:lnTo>
                  <a:pt x="478" y="163"/>
                </a:lnTo>
                <a:lnTo>
                  <a:pt x="461" y="169"/>
                </a:lnTo>
                <a:lnTo>
                  <a:pt x="442" y="173"/>
                </a:lnTo>
                <a:lnTo>
                  <a:pt x="423" y="178"/>
                </a:lnTo>
                <a:lnTo>
                  <a:pt x="402" y="182"/>
                </a:lnTo>
                <a:lnTo>
                  <a:pt x="380" y="188"/>
                </a:lnTo>
                <a:lnTo>
                  <a:pt x="357" y="192"/>
                </a:lnTo>
                <a:lnTo>
                  <a:pt x="334" y="198"/>
                </a:lnTo>
                <a:lnTo>
                  <a:pt x="284" y="207"/>
                </a:lnTo>
                <a:lnTo>
                  <a:pt x="238" y="215"/>
                </a:lnTo>
                <a:lnTo>
                  <a:pt x="215" y="219"/>
                </a:lnTo>
                <a:lnTo>
                  <a:pt x="192" y="221"/>
                </a:lnTo>
                <a:lnTo>
                  <a:pt x="171" y="224"/>
                </a:lnTo>
                <a:lnTo>
                  <a:pt x="150" y="226"/>
                </a:lnTo>
                <a:lnTo>
                  <a:pt x="129" y="228"/>
                </a:lnTo>
                <a:lnTo>
                  <a:pt x="108" y="230"/>
                </a:lnTo>
                <a:lnTo>
                  <a:pt x="89" y="232"/>
                </a:lnTo>
                <a:lnTo>
                  <a:pt x="69" y="234"/>
                </a:lnTo>
                <a:lnTo>
                  <a:pt x="50" y="234"/>
                </a:lnTo>
                <a:lnTo>
                  <a:pt x="33" y="234"/>
                </a:lnTo>
                <a:lnTo>
                  <a:pt x="18" y="236"/>
                </a:lnTo>
                <a:lnTo>
                  <a:pt x="0" y="23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85"/>
          <p:cNvSpPr/>
          <p:nvPr/>
        </p:nvSpPr>
        <p:spPr>
          <a:xfrm>
            <a:off x="5842080" y="3486240"/>
            <a:ext cx="576360" cy="182520"/>
          </a:xfrm>
          <a:custGeom>
            <a:avLst/>
            <a:gdLst/>
            <a:ahLst/>
            <a:rect l="l" t="t" r="r" b="b"/>
            <a:pathLst>
              <a:path w="726" h="230">
                <a:moveTo>
                  <a:pt x="440" y="167"/>
                </a:moveTo>
                <a:lnTo>
                  <a:pt x="423" y="171"/>
                </a:lnTo>
                <a:lnTo>
                  <a:pt x="405" y="173"/>
                </a:lnTo>
                <a:lnTo>
                  <a:pt x="373" y="180"/>
                </a:lnTo>
                <a:lnTo>
                  <a:pt x="342" y="186"/>
                </a:lnTo>
                <a:lnTo>
                  <a:pt x="313" y="194"/>
                </a:lnTo>
                <a:lnTo>
                  <a:pt x="286" y="198"/>
                </a:lnTo>
                <a:lnTo>
                  <a:pt x="259" y="203"/>
                </a:lnTo>
                <a:lnTo>
                  <a:pt x="236" y="209"/>
                </a:lnTo>
                <a:lnTo>
                  <a:pt x="215" y="213"/>
                </a:lnTo>
                <a:lnTo>
                  <a:pt x="196" y="217"/>
                </a:lnTo>
                <a:lnTo>
                  <a:pt x="177" y="221"/>
                </a:lnTo>
                <a:lnTo>
                  <a:pt x="162" y="223"/>
                </a:lnTo>
                <a:lnTo>
                  <a:pt x="148" y="226"/>
                </a:lnTo>
                <a:lnTo>
                  <a:pt x="135" y="228"/>
                </a:lnTo>
                <a:lnTo>
                  <a:pt x="123" y="228"/>
                </a:lnTo>
                <a:lnTo>
                  <a:pt x="114" y="230"/>
                </a:lnTo>
                <a:lnTo>
                  <a:pt x="108" y="230"/>
                </a:lnTo>
                <a:lnTo>
                  <a:pt x="100" y="230"/>
                </a:lnTo>
                <a:lnTo>
                  <a:pt x="94" y="228"/>
                </a:lnTo>
                <a:lnTo>
                  <a:pt x="87" y="226"/>
                </a:lnTo>
                <a:lnTo>
                  <a:pt x="81" y="223"/>
                </a:lnTo>
                <a:lnTo>
                  <a:pt x="73" y="219"/>
                </a:lnTo>
                <a:lnTo>
                  <a:pt x="68" y="215"/>
                </a:lnTo>
                <a:lnTo>
                  <a:pt x="60" y="209"/>
                </a:lnTo>
                <a:lnTo>
                  <a:pt x="54" y="201"/>
                </a:lnTo>
                <a:lnTo>
                  <a:pt x="46" y="194"/>
                </a:lnTo>
                <a:lnTo>
                  <a:pt x="41" y="186"/>
                </a:lnTo>
                <a:lnTo>
                  <a:pt x="33" y="176"/>
                </a:lnTo>
                <a:lnTo>
                  <a:pt x="27" y="165"/>
                </a:lnTo>
                <a:lnTo>
                  <a:pt x="20" y="155"/>
                </a:lnTo>
                <a:lnTo>
                  <a:pt x="14" y="142"/>
                </a:lnTo>
                <a:lnTo>
                  <a:pt x="6" y="128"/>
                </a:lnTo>
                <a:lnTo>
                  <a:pt x="0" y="115"/>
                </a:lnTo>
                <a:lnTo>
                  <a:pt x="16" y="115"/>
                </a:lnTo>
                <a:lnTo>
                  <a:pt x="33" y="113"/>
                </a:lnTo>
                <a:lnTo>
                  <a:pt x="50" y="113"/>
                </a:lnTo>
                <a:lnTo>
                  <a:pt x="69" y="111"/>
                </a:lnTo>
                <a:lnTo>
                  <a:pt x="87" y="107"/>
                </a:lnTo>
                <a:lnTo>
                  <a:pt x="108" y="105"/>
                </a:lnTo>
                <a:lnTo>
                  <a:pt x="127" y="102"/>
                </a:lnTo>
                <a:lnTo>
                  <a:pt x="148" y="98"/>
                </a:lnTo>
                <a:lnTo>
                  <a:pt x="169" y="94"/>
                </a:lnTo>
                <a:lnTo>
                  <a:pt x="192" y="88"/>
                </a:lnTo>
                <a:lnTo>
                  <a:pt x="215" y="82"/>
                </a:lnTo>
                <a:lnTo>
                  <a:pt x="238" y="79"/>
                </a:lnTo>
                <a:lnTo>
                  <a:pt x="284" y="65"/>
                </a:lnTo>
                <a:lnTo>
                  <a:pt x="332" y="52"/>
                </a:lnTo>
                <a:lnTo>
                  <a:pt x="357" y="44"/>
                </a:lnTo>
                <a:lnTo>
                  <a:pt x="380" y="38"/>
                </a:lnTo>
                <a:lnTo>
                  <a:pt x="403" y="33"/>
                </a:lnTo>
                <a:lnTo>
                  <a:pt x="426" y="27"/>
                </a:lnTo>
                <a:lnTo>
                  <a:pt x="448" y="23"/>
                </a:lnTo>
                <a:lnTo>
                  <a:pt x="469" y="17"/>
                </a:lnTo>
                <a:lnTo>
                  <a:pt x="488" y="13"/>
                </a:lnTo>
                <a:lnTo>
                  <a:pt x="509" y="11"/>
                </a:lnTo>
                <a:lnTo>
                  <a:pt x="526" y="8"/>
                </a:lnTo>
                <a:lnTo>
                  <a:pt x="544" y="6"/>
                </a:lnTo>
                <a:lnTo>
                  <a:pt x="561" y="4"/>
                </a:lnTo>
                <a:lnTo>
                  <a:pt x="576" y="2"/>
                </a:lnTo>
                <a:lnTo>
                  <a:pt x="592" y="2"/>
                </a:lnTo>
                <a:lnTo>
                  <a:pt x="605" y="0"/>
                </a:lnTo>
                <a:lnTo>
                  <a:pt x="618" y="0"/>
                </a:lnTo>
                <a:lnTo>
                  <a:pt x="630" y="0"/>
                </a:lnTo>
                <a:lnTo>
                  <a:pt x="641" y="0"/>
                </a:lnTo>
                <a:lnTo>
                  <a:pt x="651" y="0"/>
                </a:lnTo>
                <a:lnTo>
                  <a:pt x="661" y="2"/>
                </a:lnTo>
                <a:lnTo>
                  <a:pt x="670" y="2"/>
                </a:lnTo>
                <a:lnTo>
                  <a:pt x="678" y="4"/>
                </a:lnTo>
                <a:lnTo>
                  <a:pt x="686" y="6"/>
                </a:lnTo>
                <a:lnTo>
                  <a:pt x="693" y="8"/>
                </a:lnTo>
                <a:lnTo>
                  <a:pt x="699" y="11"/>
                </a:lnTo>
                <a:lnTo>
                  <a:pt x="705" y="15"/>
                </a:lnTo>
                <a:lnTo>
                  <a:pt x="711" y="19"/>
                </a:lnTo>
                <a:lnTo>
                  <a:pt x="714" y="23"/>
                </a:lnTo>
                <a:lnTo>
                  <a:pt x="718" y="27"/>
                </a:lnTo>
                <a:lnTo>
                  <a:pt x="722" y="33"/>
                </a:lnTo>
                <a:lnTo>
                  <a:pt x="724" y="38"/>
                </a:lnTo>
                <a:lnTo>
                  <a:pt x="724" y="44"/>
                </a:lnTo>
                <a:lnTo>
                  <a:pt x="726" y="52"/>
                </a:lnTo>
                <a:lnTo>
                  <a:pt x="724" y="56"/>
                </a:lnTo>
                <a:lnTo>
                  <a:pt x="724" y="59"/>
                </a:lnTo>
                <a:lnTo>
                  <a:pt x="722" y="61"/>
                </a:lnTo>
                <a:lnTo>
                  <a:pt x="720" y="65"/>
                </a:lnTo>
                <a:lnTo>
                  <a:pt x="718" y="69"/>
                </a:lnTo>
                <a:lnTo>
                  <a:pt x="714" y="73"/>
                </a:lnTo>
                <a:lnTo>
                  <a:pt x="711" y="77"/>
                </a:lnTo>
                <a:lnTo>
                  <a:pt x="707" y="81"/>
                </a:lnTo>
                <a:lnTo>
                  <a:pt x="703" y="84"/>
                </a:lnTo>
                <a:lnTo>
                  <a:pt x="697" y="86"/>
                </a:lnTo>
                <a:lnTo>
                  <a:pt x="691" y="90"/>
                </a:lnTo>
                <a:lnTo>
                  <a:pt x="686" y="94"/>
                </a:lnTo>
                <a:lnTo>
                  <a:pt x="678" y="98"/>
                </a:lnTo>
                <a:lnTo>
                  <a:pt x="670" y="102"/>
                </a:lnTo>
                <a:lnTo>
                  <a:pt x="663" y="105"/>
                </a:lnTo>
                <a:lnTo>
                  <a:pt x="653" y="109"/>
                </a:lnTo>
                <a:lnTo>
                  <a:pt x="645" y="111"/>
                </a:lnTo>
                <a:lnTo>
                  <a:pt x="636" y="115"/>
                </a:lnTo>
                <a:lnTo>
                  <a:pt x="624" y="119"/>
                </a:lnTo>
                <a:lnTo>
                  <a:pt x="615" y="123"/>
                </a:lnTo>
                <a:lnTo>
                  <a:pt x="603" y="127"/>
                </a:lnTo>
                <a:lnTo>
                  <a:pt x="590" y="130"/>
                </a:lnTo>
                <a:lnTo>
                  <a:pt x="578" y="134"/>
                </a:lnTo>
                <a:lnTo>
                  <a:pt x="565" y="138"/>
                </a:lnTo>
                <a:lnTo>
                  <a:pt x="551" y="140"/>
                </a:lnTo>
                <a:lnTo>
                  <a:pt x="536" y="144"/>
                </a:lnTo>
                <a:lnTo>
                  <a:pt x="522" y="148"/>
                </a:lnTo>
                <a:lnTo>
                  <a:pt x="507" y="152"/>
                </a:lnTo>
                <a:lnTo>
                  <a:pt x="492" y="155"/>
                </a:lnTo>
                <a:lnTo>
                  <a:pt x="474" y="159"/>
                </a:lnTo>
                <a:lnTo>
                  <a:pt x="457" y="163"/>
                </a:lnTo>
                <a:lnTo>
                  <a:pt x="440" y="16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186"/>
          <p:cNvSpPr/>
          <p:nvPr/>
        </p:nvSpPr>
        <p:spPr>
          <a:xfrm>
            <a:off x="5405400" y="2698920"/>
            <a:ext cx="871560" cy="1387440"/>
          </a:xfrm>
          <a:custGeom>
            <a:avLst/>
            <a:gdLst/>
            <a:ahLst/>
            <a:rect l="l" t="t" r="r" b="b"/>
            <a:pathLst>
              <a:path w="1098" h="1748">
                <a:moveTo>
                  <a:pt x="194" y="1631"/>
                </a:moveTo>
                <a:lnTo>
                  <a:pt x="175" y="1648"/>
                </a:lnTo>
                <a:lnTo>
                  <a:pt x="156" y="1662"/>
                </a:lnTo>
                <a:lnTo>
                  <a:pt x="139" y="1677"/>
                </a:lnTo>
                <a:lnTo>
                  <a:pt x="121" y="1689"/>
                </a:lnTo>
                <a:lnTo>
                  <a:pt x="106" y="1700"/>
                </a:lnTo>
                <a:lnTo>
                  <a:pt x="91" y="1712"/>
                </a:lnTo>
                <a:lnTo>
                  <a:pt x="77" y="1719"/>
                </a:lnTo>
                <a:lnTo>
                  <a:pt x="64" y="1727"/>
                </a:lnTo>
                <a:lnTo>
                  <a:pt x="52" y="1735"/>
                </a:lnTo>
                <a:lnTo>
                  <a:pt x="41" y="1739"/>
                </a:lnTo>
                <a:lnTo>
                  <a:pt x="31" y="1744"/>
                </a:lnTo>
                <a:lnTo>
                  <a:pt x="23" y="1746"/>
                </a:lnTo>
                <a:lnTo>
                  <a:pt x="16" y="1748"/>
                </a:lnTo>
                <a:lnTo>
                  <a:pt x="12" y="1748"/>
                </a:lnTo>
                <a:lnTo>
                  <a:pt x="6" y="1748"/>
                </a:lnTo>
                <a:lnTo>
                  <a:pt x="4" y="1746"/>
                </a:lnTo>
                <a:lnTo>
                  <a:pt x="2" y="1744"/>
                </a:lnTo>
                <a:lnTo>
                  <a:pt x="0" y="1740"/>
                </a:lnTo>
                <a:lnTo>
                  <a:pt x="0" y="1735"/>
                </a:lnTo>
                <a:lnTo>
                  <a:pt x="2" y="1729"/>
                </a:lnTo>
                <a:lnTo>
                  <a:pt x="4" y="1723"/>
                </a:lnTo>
                <a:lnTo>
                  <a:pt x="6" y="1717"/>
                </a:lnTo>
                <a:lnTo>
                  <a:pt x="10" y="1710"/>
                </a:lnTo>
                <a:lnTo>
                  <a:pt x="14" y="1702"/>
                </a:lnTo>
                <a:lnTo>
                  <a:pt x="20" y="1692"/>
                </a:lnTo>
                <a:lnTo>
                  <a:pt x="27" y="1685"/>
                </a:lnTo>
                <a:lnTo>
                  <a:pt x="35" y="1673"/>
                </a:lnTo>
                <a:lnTo>
                  <a:pt x="43" y="1664"/>
                </a:lnTo>
                <a:lnTo>
                  <a:pt x="52" y="1654"/>
                </a:lnTo>
                <a:lnTo>
                  <a:pt x="64" y="1643"/>
                </a:lnTo>
                <a:lnTo>
                  <a:pt x="75" y="1631"/>
                </a:lnTo>
                <a:lnTo>
                  <a:pt x="87" y="1620"/>
                </a:lnTo>
                <a:lnTo>
                  <a:pt x="98" y="1606"/>
                </a:lnTo>
                <a:lnTo>
                  <a:pt x="112" y="1593"/>
                </a:lnTo>
                <a:lnTo>
                  <a:pt x="123" y="1577"/>
                </a:lnTo>
                <a:lnTo>
                  <a:pt x="139" y="1562"/>
                </a:lnTo>
                <a:lnTo>
                  <a:pt x="152" y="1545"/>
                </a:lnTo>
                <a:lnTo>
                  <a:pt x="167" y="1525"/>
                </a:lnTo>
                <a:lnTo>
                  <a:pt x="185" y="1506"/>
                </a:lnTo>
                <a:lnTo>
                  <a:pt x="200" y="1485"/>
                </a:lnTo>
                <a:lnTo>
                  <a:pt x="217" y="1464"/>
                </a:lnTo>
                <a:lnTo>
                  <a:pt x="235" y="1443"/>
                </a:lnTo>
                <a:lnTo>
                  <a:pt x="254" y="1418"/>
                </a:lnTo>
                <a:lnTo>
                  <a:pt x="271" y="1395"/>
                </a:lnTo>
                <a:lnTo>
                  <a:pt x="290" y="1368"/>
                </a:lnTo>
                <a:lnTo>
                  <a:pt x="309" y="1341"/>
                </a:lnTo>
                <a:lnTo>
                  <a:pt x="329" y="1314"/>
                </a:lnTo>
                <a:lnTo>
                  <a:pt x="350" y="1286"/>
                </a:lnTo>
                <a:lnTo>
                  <a:pt x="388" y="1228"/>
                </a:lnTo>
                <a:lnTo>
                  <a:pt x="427" y="1168"/>
                </a:lnTo>
                <a:lnTo>
                  <a:pt x="463" y="1107"/>
                </a:lnTo>
                <a:lnTo>
                  <a:pt x="499" y="1044"/>
                </a:lnTo>
                <a:lnTo>
                  <a:pt x="519" y="1013"/>
                </a:lnTo>
                <a:lnTo>
                  <a:pt x="536" y="980"/>
                </a:lnTo>
                <a:lnTo>
                  <a:pt x="553" y="948"/>
                </a:lnTo>
                <a:lnTo>
                  <a:pt x="571" y="913"/>
                </a:lnTo>
                <a:lnTo>
                  <a:pt x="586" y="881"/>
                </a:lnTo>
                <a:lnTo>
                  <a:pt x="603" y="846"/>
                </a:lnTo>
                <a:lnTo>
                  <a:pt x="619" y="810"/>
                </a:lnTo>
                <a:lnTo>
                  <a:pt x="634" y="775"/>
                </a:lnTo>
                <a:lnTo>
                  <a:pt x="649" y="739"/>
                </a:lnTo>
                <a:lnTo>
                  <a:pt x="665" y="704"/>
                </a:lnTo>
                <a:lnTo>
                  <a:pt x="678" y="671"/>
                </a:lnTo>
                <a:lnTo>
                  <a:pt x="693" y="637"/>
                </a:lnTo>
                <a:lnTo>
                  <a:pt x="707" y="606"/>
                </a:lnTo>
                <a:lnTo>
                  <a:pt x="720" y="575"/>
                </a:lnTo>
                <a:lnTo>
                  <a:pt x="734" y="545"/>
                </a:lnTo>
                <a:lnTo>
                  <a:pt x="747" y="514"/>
                </a:lnTo>
                <a:lnTo>
                  <a:pt x="759" y="485"/>
                </a:lnTo>
                <a:lnTo>
                  <a:pt x="770" y="456"/>
                </a:lnTo>
                <a:lnTo>
                  <a:pt x="782" y="429"/>
                </a:lnTo>
                <a:lnTo>
                  <a:pt x="791" y="403"/>
                </a:lnTo>
                <a:lnTo>
                  <a:pt x="801" y="376"/>
                </a:lnTo>
                <a:lnTo>
                  <a:pt x="810" y="351"/>
                </a:lnTo>
                <a:lnTo>
                  <a:pt x="818" y="326"/>
                </a:lnTo>
                <a:lnTo>
                  <a:pt x="824" y="303"/>
                </a:lnTo>
                <a:lnTo>
                  <a:pt x="830" y="278"/>
                </a:lnTo>
                <a:lnTo>
                  <a:pt x="835" y="257"/>
                </a:lnTo>
                <a:lnTo>
                  <a:pt x="841" y="236"/>
                </a:lnTo>
                <a:lnTo>
                  <a:pt x="845" y="216"/>
                </a:lnTo>
                <a:lnTo>
                  <a:pt x="847" y="197"/>
                </a:lnTo>
                <a:lnTo>
                  <a:pt x="851" y="180"/>
                </a:lnTo>
                <a:lnTo>
                  <a:pt x="853" y="163"/>
                </a:lnTo>
                <a:lnTo>
                  <a:pt x="855" y="149"/>
                </a:lnTo>
                <a:lnTo>
                  <a:pt x="855" y="134"/>
                </a:lnTo>
                <a:lnTo>
                  <a:pt x="855" y="122"/>
                </a:lnTo>
                <a:lnTo>
                  <a:pt x="855" y="111"/>
                </a:lnTo>
                <a:lnTo>
                  <a:pt x="855" y="101"/>
                </a:lnTo>
                <a:lnTo>
                  <a:pt x="853" y="92"/>
                </a:lnTo>
                <a:lnTo>
                  <a:pt x="853" y="84"/>
                </a:lnTo>
                <a:lnTo>
                  <a:pt x="851" y="76"/>
                </a:lnTo>
                <a:lnTo>
                  <a:pt x="849" y="72"/>
                </a:lnTo>
                <a:lnTo>
                  <a:pt x="845" y="63"/>
                </a:lnTo>
                <a:lnTo>
                  <a:pt x="841" y="53"/>
                </a:lnTo>
                <a:lnTo>
                  <a:pt x="839" y="44"/>
                </a:lnTo>
                <a:lnTo>
                  <a:pt x="839" y="34"/>
                </a:lnTo>
                <a:lnTo>
                  <a:pt x="839" y="26"/>
                </a:lnTo>
                <a:lnTo>
                  <a:pt x="841" y="19"/>
                </a:lnTo>
                <a:lnTo>
                  <a:pt x="845" y="13"/>
                </a:lnTo>
                <a:lnTo>
                  <a:pt x="849" y="7"/>
                </a:lnTo>
                <a:lnTo>
                  <a:pt x="851" y="5"/>
                </a:lnTo>
                <a:lnTo>
                  <a:pt x="855" y="3"/>
                </a:lnTo>
                <a:lnTo>
                  <a:pt x="858" y="1"/>
                </a:lnTo>
                <a:lnTo>
                  <a:pt x="864" y="1"/>
                </a:lnTo>
                <a:lnTo>
                  <a:pt x="870" y="0"/>
                </a:lnTo>
                <a:lnTo>
                  <a:pt x="876" y="0"/>
                </a:lnTo>
                <a:lnTo>
                  <a:pt x="883" y="0"/>
                </a:lnTo>
                <a:lnTo>
                  <a:pt x="891" y="1"/>
                </a:lnTo>
                <a:lnTo>
                  <a:pt x="901" y="3"/>
                </a:lnTo>
                <a:lnTo>
                  <a:pt x="910" y="5"/>
                </a:lnTo>
                <a:lnTo>
                  <a:pt x="920" y="7"/>
                </a:lnTo>
                <a:lnTo>
                  <a:pt x="929" y="11"/>
                </a:lnTo>
                <a:lnTo>
                  <a:pt x="941" y="15"/>
                </a:lnTo>
                <a:lnTo>
                  <a:pt x="952" y="21"/>
                </a:lnTo>
                <a:lnTo>
                  <a:pt x="966" y="26"/>
                </a:lnTo>
                <a:lnTo>
                  <a:pt x="979" y="34"/>
                </a:lnTo>
                <a:lnTo>
                  <a:pt x="991" y="40"/>
                </a:lnTo>
                <a:lnTo>
                  <a:pt x="1004" y="48"/>
                </a:lnTo>
                <a:lnTo>
                  <a:pt x="1016" y="53"/>
                </a:lnTo>
                <a:lnTo>
                  <a:pt x="1025" y="61"/>
                </a:lnTo>
                <a:lnTo>
                  <a:pt x="1035" y="67"/>
                </a:lnTo>
                <a:lnTo>
                  <a:pt x="1045" y="72"/>
                </a:lnTo>
                <a:lnTo>
                  <a:pt x="1052" y="78"/>
                </a:lnTo>
                <a:lnTo>
                  <a:pt x="1060" y="84"/>
                </a:lnTo>
                <a:lnTo>
                  <a:pt x="1068" y="88"/>
                </a:lnTo>
                <a:lnTo>
                  <a:pt x="1073" y="94"/>
                </a:lnTo>
                <a:lnTo>
                  <a:pt x="1079" y="99"/>
                </a:lnTo>
                <a:lnTo>
                  <a:pt x="1085" y="103"/>
                </a:lnTo>
                <a:lnTo>
                  <a:pt x="1089" y="109"/>
                </a:lnTo>
                <a:lnTo>
                  <a:pt x="1093" y="113"/>
                </a:lnTo>
                <a:lnTo>
                  <a:pt x="1095" y="119"/>
                </a:lnTo>
                <a:lnTo>
                  <a:pt x="1098" y="122"/>
                </a:lnTo>
                <a:lnTo>
                  <a:pt x="1098" y="126"/>
                </a:lnTo>
                <a:lnTo>
                  <a:pt x="1096" y="132"/>
                </a:lnTo>
                <a:lnTo>
                  <a:pt x="1096" y="136"/>
                </a:lnTo>
                <a:lnTo>
                  <a:pt x="1095" y="142"/>
                </a:lnTo>
                <a:lnTo>
                  <a:pt x="1093" y="147"/>
                </a:lnTo>
                <a:lnTo>
                  <a:pt x="1091" y="153"/>
                </a:lnTo>
                <a:lnTo>
                  <a:pt x="1089" y="161"/>
                </a:lnTo>
                <a:lnTo>
                  <a:pt x="1087" y="168"/>
                </a:lnTo>
                <a:lnTo>
                  <a:pt x="1083" y="176"/>
                </a:lnTo>
                <a:lnTo>
                  <a:pt x="1081" y="186"/>
                </a:lnTo>
                <a:lnTo>
                  <a:pt x="1077" y="195"/>
                </a:lnTo>
                <a:lnTo>
                  <a:pt x="1073" y="205"/>
                </a:lnTo>
                <a:lnTo>
                  <a:pt x="1070" y="216"/>
                </a:lnTo>
                <a:lnTo>
                  <a:pt x="1064" y="226"/>
                </a:lnTo>
                <a:lnTo>
                  <a:pt x="1060" y="238"/>
                </a:lnTo>
                <a:lnTo>
                  <a:pt x="1054" y="251"/>
                </a:lnTo>
                <a:lnTo>
                  <a:pt x="1048" y="262"/>
                </a:lnTo>
                <a:lnTo>
                  <a:pt x="1043" y="276"/>
                </a:lnTo>
                <a:lnTo>
                  <a:pt x="1037" y="291"/>
                </a:lnTo>
                <a:lnTo>
                  <a:pt x="1031" y="305"/>
                </a:lnTo>
                <a:lnTo>
                  <a:pt x="1024" y="320"/>
                </a:lnTo>
                <a:lnTo>
                  <a:pt x="1016" y="337"/>
                </a:lnTo>
                <a:lnTo>
                  <a:pt x="1010" y="353"/>
                </a:lnTo>
                <a:lnTo>
                  <a:pt x="1002" y="370"/>
                </a:lnTo>
                <a:lnTo>
                  <a:pt x="995" y="389"/>
                </a:lnTo>
                <a:lnTo>
                  <a:pt x="985" y="406"/>
                </a:lnTo>
                <a:lnTo>
                  <a:pt x="977" y="426"/>
                </a:lnTo>
                <a:lnTo>
                  <a:pt x="968" y="447"/>
                </a:lnTo>
                <a:lnTo>
                  <a:pt x="960" y="466"/>
                </a:lnTo>
                <a:lnTo>
                  <a:pt x="951" y="487"/>
                </a:lnTo>
                <a:lnTo>
                  <a:pt x="941" y="510"/>
                </a:lnTo>
                <a:lnTo>
                  <a:pt x="931" y="531"/>
                </a:lnTo>
                <a:lnTo>
                  <a:pt x="912" y="577"/>
                </a:lnTo>
                <a:lnTo>
                  <a:pt x="891" y="621"/>
                </a:lnTo>
                <a:lnTo>
                  <a:pt x="870" y="666"/>
                </a:lnTo>
                <a:lnTo>
                  <a:pt x="847" y="710"/>
                </a:lnTo>
                <a:lnTo>
                  <a:pt x="826" y="752"/>
                </a:lnTo>
                <a:lnTo>
                  <a:pt x="803" y="794"/>
                </a:lnTo>
                <a:lnTo>
                  <a:pt x="780" y="836"/>
                </a:lnTo>
                <a:lnTo>
                  <a:pt x="757" y="877"/>
                </a:lnTo>
                <a:lnTo>
                  <a:pt x="732" y="917"/>
                </a:lnTo>
                <a:lnTo>
                  <a:pt x="709" y="957"/>
                </a:lnTo>
                <a:lnTo>
                  <a:pt x="684" y="996"/>
                </a:lnTo>
                <a:lnTo>
                  <a:pt x="661" y="1034"/>
                </a:lnTo>
                <a:lnTo>
                  <a:pt x="636" y="1073"/>
                </a:lnTo>
                <a:lnTo>
                  <a:pt x="611" y="1111"/>
                </a:lnTo>
                <a:lnTo>
                  <a:pt x="588" y="1147"/>
                </a:lnTo>
                <a:lnTo>
                  <a:pt x="563" y="1184"/>
                </a:lnTo>
                <a:lnTo>
                  <a:pt x="538" y="1222"/>
                </a:lnTo>
                <a:lnTo>
                  <a:pt x="515" y="1259"/>
                </a:lnTo>
                <a:lnTo>
                  <a:pt x="490" y="1293"/>
                </a:lnTo>
                <a:lnTo>
                  <a:pt x="465" y="1328"/>
                </a:lnTo>
                <a:lnTo>
                  <a:pt x="442" y="1360"/>
                </a:lnTo>
                <a:lnTo>
                  <a:pt x="417" y="1391"/>
                </a:lnTo>
                <a:lnTo>
                  <a:pt x="394" y="1422"/>
                </a:lnTo>
                <a:lnTo>
                  <a:pt x="371" y="1451"/>
                </a:lnTo>
                <a:lnTo>
                  <a:pt x="346" y="1478"/>
                </a:lnTo>
                <a:lnTo>
                  <a:pt x="323" y="1504"/>
                </a:lnTo>
                <a:lnTo>
                  <a:pt x="300" y="1529"/>
                </a:lnTo>
                <a:lnTo>
                  <a:pt x="279" y="1552"/>
                </a:lnTo>
                <a:lnTo>
                  <a:pt x="256" y="1573"/>
                </a:lnTo>
                <a:lnTo>
                  <a:pt x="235" y="1595"/>
                </a:lnTo>
                <a:lnTo>
                  <a:pt x="215" y="1614"/>
                </a:lnTo>
                <a:lnTo>
                  <a:pt x="194" y="163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500" fill="hold"/>
                                        <p:tgtEl>
                                          <p:spTgt spid="87"/>
                                        </p:tgtEl>
                                        <p:attrNameLst>
                                          <p:attrName>ppt_x</p:attrName>
                                        </p:attrNameLst>
                                      </p:cBhvr>
                                      <p:tavLst>
                                        <p:tav tm="0">
                                          <p:val>
                                            <p:strVal val="0-#ppt_w/2"/>
                                          </p:val>
                                        </p:tav>
                                        <p:tav tm="100000">
                                          <p:val>
                                            <p:strVal val="#ppt_x"/>
                                          </p:val>
                                        </p:tav>
                                      </p:tavLst>
                                    </p:anim>
                                    <p:anim calcmode="lin" valueType="num">
                                      <p:cBhvr additive="base">
                                        <p:cTn id="8"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100"/>
                                        </p:tgtEl>
                                        <p:attrNameLst>
                                          <p:attrName>style.visibility</p:attrName>
                                        </p:attrNameLst>
                                      </p:cBhvr>
                                      <p:to>
                                        <p:strVal val="visible"/>
                                      </p:to>
                                    </p:set>
                                    <p:animEffect filter="wipe(up)" transition="in">
                                      <p:cBhvr additive="repl">
                                        <p:cTn id="13" dur="500"/>
                                        <p:tgtEl>
                                          <p:spTgt spid="10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8"/>
                                        </p:tgtEl>
                                        <p:attrNameLst>
                                          <p:attrName>style.visibility</p:attrName>
                                        </p:attrNameLst>
                                      </p:cBhvr>
                                      <p:to>
                                        <p:strVal val="visible"/>
                                      </p:to>
                                    </p:set>
                                    <p:animEffect filter="wipe(left)" transition="in">
                                      <p:cBhvr additive="repl">
                                        <p:cTn id="18" dur="500"/>
                                        <p:tgtEl>
                                          <p:spTgt spid="9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99"/>
                                        </p:tgtEl>
                                        <p:attrNameLst>
                                          <p:attrName>style.visibility</p:attrName>
                                        </p:attrNameLst>
                                      </p:cBhvr>
                                      <p:to>
                                        <p:strVal val="visible"/>
                                      </p:to>
                                    </p:set>
                                    <p:animEffect filter="wipe(left)" transition="in">
                                      <p:cBhvr additive="repl">
                                        <p:cTn id="23" dur="500"/>
                                        <p:tgtEl>
                                          <p:spTgt spid="99"/>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7"/>
                                        </p:tgtEl>
                                        <p:attrNameLst>
                                          <p:attrName>style.visibility</p:attrName>
                                        </p:attrNameLst>
                                      </p:cBhvr>
                                      <p:to>
                                        <p:strVal val="visible"/>
                                      </p:to>
                                    </p:set>
                                    <p:animEffect filter="wipe(left)" transition="in">
                                      <p:cBhvr additive="repl">
                                        <p:cTn id="28" dur="500"/>
                                        <p:tgtEl>
                                          <p:spTgt spid="97"/>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96"/>
                                        </p:tgtEl>
                                        <p:attrNameLst>
                                          <p:attrName>style.visibility</p:attrName>
                                        </p:attrNameLst>
                                      </p:cBhvr>
                                      <p:to>
                                        <p:strVal val="visible"/>
                                      </p:to>
                                    </p:set>
                                    <p:animEffect filter="wipe(up)" transition="in">
                                      <p:cBhvr additive="repl">
                                        <p:cTn id="33" dur="500"/>
                                        <p:tgtEl>
                                          <p:spTgt spid="96"/>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92"/>
                                        </p:tgtEl>
                                        <p:attrNameLst>
                                          <p:attrName>style.visibility</p:attrName>
                                        </p:attrNameLst>
                                      </p:cBhvr>
                                      <p:to>
                                        <p:strVal val="visible"/>
                                      </p:to>
                                    </p:set>
                                    <p:animEffect filter="wipe(up)" transition="in">
                                      <p:cBhvr additive="repl">
                                        <p:cTn id="38" dur="500"/>
                                        <p:tgtEl>
                                          <p:spTgt spid="92"/>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95"/>
                                        </p:tgtEl>
                                        <p:attrNameLst>
                                          <p:attrName>style.visibility</p:attrName>
                                        </p:attrNameLst>
                                      </p:cBhvr>
                                      <p:to>
                                        <p:strVal val="visible"/>
                                      </p:to>
                                    </p:set>
                                    <p:animEffect filter="wipe(left)" transition="in">
                                      <p:cBhvr additive="repl">
                                        <p:cTn id="43" dur="500"/>
                                        <p:tgtEl>
                                          <p:spTgt spid="95"/>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4"/>
                                        </p:tgtEl>
                                        <p:attrNameLst>
                                          <p:attrName>style.visibility</p:attrName>
                                        </p:attrNameLst>
                                      </p:cBhvr>
                                      <p:to>
                                        <p:strVal val="visible"/>
                                      </p:to>
                                    </p:set>
                                    <p:animEffect filter="wipe(left)" transition="in">
                                      <p:cBhvr additive="repl">
                                        <p:cTn id="48" dur="500"/>
                                        <p:tgtEl>
                                          <p:spTgt spid="94"/>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3"/>
                                        </p:tgtEl>
                                        <p:attrNameLst>
                                          <p:attrName>style.visibility</p:attrName>
                                        </p:attrNameLst>
                                      </p:cBhvr>
                                      <p:to>
                                        <p:strVal val="visible"/>
                                      </p:to>
                                    </p:set>
                                    <p:animEffect filter="wipe(left)" transition="in">
                                      <p:cBhvr additive="repl">
                                        <p:cTn id="53" dur="500"/>
                                        <p:tgtEl>
                                          <p:spTgt spid="9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90"/>
                                        </p:tgtEl>
                                        <p:attrNameLst>
                                          <p:attrName>style.visibility</p:attrName>
                                        </p:attrNameLst>
                                      </p:cBhvr>
                                      <p:to>
                                        <p:strVal val="visible"/>
                                      </p:to>
                                    </p:set>
                                    <p:animEffect filter="wipe(up)" transition="in">
                                      <p:cBhvr additive="repl">
                                        <p:cTn id="58" dur="500"/>
                                        <p:tgtEl>
                                          <p:spTgt spid="9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91"/>
                                        </p:tgtEl>
                                        <p:attrNameLst>
                                          <p:attrName>style.visibility</p:attrName>
                                        </p:attrNameLst>
                                      </p:cBhvr>
                                      <p:to>
                                        <p:strVal val="visible"/>
                                      </p:to>
                                    </p:set>
                                    <p:animEffect filter="wipe(up)" transition="in">
                                      <p:cBhvr additive="repl">
                                        <p:cTn id="63" dur="500"/>
                                        <p:tgtEl>
                                          <p:spTgt spid="9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89"/>
                                        </p:tgtEl>
                                        <p:attrNameLst>
                                          <p:attrName>style.visibility</p:attrName>
                                        </p:attrNameLst>
                                      </p:cBhvr>
                                      <p:to>
                                        <p:strVal val="visible"/>
                                      </p:to>
                                    </p:set>
                                    <p:animEffect filter="wipe(up)" transition="in">
                                      <p:cBhvr additive="repl">
                                        <p:cTn id="68" dur="500"/>
                                        <p:tgtEl>
                                          <p:spTgt spid="89"/>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8"/>
                                        </p:tgtEl>
                                        <p:attrNameLst>
                                          <p:attrName>style.visibility</p:attrName>
                                        </p:attrNameLst>
                                      </p:cBhvr>
                                      <p:to>
                                        <p:strVal val="visible"/>
                                      </p:to>
                                    </p:set>
                                    <p:animEffect filter="wipe(up)" transition="in">
                                      <p:cBhvr additive="repl">
                                        <p:cTn id="73" dur="500"/>
                                        <p:tgtEl>
                                          <p:spTgt spid="8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3" presetSubtype="16">
                                  <p:stCondLst>
                                    <p:cond delay="0"/>
                                  </p:stCondLst>
                                  <p:childTnLst>
                                    <p:set>
                                      <p:cBhvr>
                                        <p:cTn id="77" dur="1" fill="hold">
                                          <p:stCondLst>
                                            <p:cond delay="0"/>
                                          </p:stCondLst>
                                        </p:cTn>
                                        <p:tgtEl>
                                          <p:spTgt spid="84"/>
                                        </p:tgtEl>
                                        <p:attrNameLst>
                                          <p:attrName>style.visibility</p:attrName>
                                        </p:attrNameLst>
                                      </p:cBhvr>
                                      <p:to>
                                        <p:strVal val="visible"/>
                                      </p:to>
                                    </p:set>
                                    <p:anim calcmode="lin" valueType="num">
                                      <p:cBhvr additive="repl">
                                        <p:cTn id="78" dur="500" fill="hold"/>
                                        <p:tgtEl>
                                          <p:spTgt spid="84"/>
                                        </p:tgtEl>
                                        <p:attrNameLst>
                                          <p:attrName>ppt_w</p:attrName>
                                        </p:attrNameLst>
                                      </p:cBhvr>
                                      <p:tavLst>
                                        <p:tav tm="0">
                                          <p:val>
                                            <p:fltVal val="0"/>
                                          </p:val>
                                        </p:tav>
                                        <p:tav tm="100000">
                                          <p:val>
                                            <p:strVal val="#ppt_w"/>
                                          </p:val>
                                        </p:tav>
                                      </p:tavLst>
                                    </p:anim>
                                    <p:anim calcmode="lin" valueType="num">
                                      <p:cBhvr additive="repl">
                                        <p:cTn id="79" dur="500" fill="hold"/>
                                        <p:tgtEl>
                                          <p:spTgt spid="84"/>
                                        </p:tgtEl>
                                        <p:attrNameLst>
                                          <p:attrName>ppt_h</p:attrName>
                                        </p:attrNameLst>
                                      </p:cBhvr>
                                      <p:tavLst>
                                        <p:tav tm="0">
                                          <p:val>
                                            <p:fltVal val="0"/>
                                          </p:val>
                                        </p:tav>
                                        <p:tav tm="100000">
                                          <p:val>
                                            <p:strVal val="#ppt_h"/>
                                          </p:val>
                                        </p:tav>
                                      </p:tavLst>
                                    </p:anim>
                                    <p:animEffect filter="fade" transition="in">
                                      <p:cBhvr additive="repl">
                                        <p:cTn id="8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2"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塔</a:t>
            </a:r>
            <a:endParaRPr b="0" lang="en-US" sz="8000" spc="-1" strike="noStrike">
              <a:solidFill>
                <a:srgbClr val="000000"/>
              </a:solidFill>
              <a:latin typeface="Calibri"/>
            </a:endParaRPr>
          </a:p>
        </p:txBody>
      </p:sp>
      <p:grpSp>
        <p:nvGrpSpPr>
          <p:cNvPr id="103" name="组合 3"/>
          <p:cNvGrpSpPr/>
          <p:nvPr/>
        </p:nvGrpSpPr>
        <p:grpSpPr>
          <a:xfrm>
            <a:off x="1262160" y="3975120"/>
            <a:ext cx="2840040" cy="1621440"/>
            <a:chOff x="1262160" y="3975120"/>
            <a:chExt cx="2840040" cy="1621440"/>
          </a:xfrm>
        </p:grpSpPr>
        <p:pic>
          <p:nvPicPr>
            <p:cNvPr id="104" name="图示 4" descr=""/>
            <p:cNvPicPr/>
            <p:nvPr/>
          </p:nvPicPr>
          <p:blipFill>
            <a:blip r:embed="rId1"/>
            <a:stretch/>
          </p:blipFill>
          <p:spPr>
            <a:xfrm>
              <a:off x="1262160" y="3975120"/>
              <a:ext cx="2840040" cy="1572480"/>
            </a:xfrm>
            <a:prstGeom prst="rect">
              <a:avLst/>
            </a:prstGeom>
            <a:ln w="0">
              <a:noFill/>
            </a:ln>
          </p:spPr>
        </p:pic>
        <p:sp>
          <p:nvSpPr>
            <p:cNvPr id="105" name="矩形 2"/>
            <p:cNvSpPr/>
            <p:nvPr/>
          </p:nvSpPr>
          <p:spPr>
            <a:xfrm>
              <a:off x="1274400" y="4588200"/>
              <a:ext cx="28152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部偏窄且短，右部稍长。</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06" name="矩形 2"/>
          <p:cNvSpPr/>
          <p:nvPr/>
        </p:nvSpPr>
        <p:spPr>
          <a:xfrm>
            <a:off x="2319480" y="1825560"/>
            <a:ext cx="866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tǎ </a:t>
            </a:r>
            <a:endParaRPr b="0" lang="en-US" sz="4800" spc="-1" strike="noStrike">
              <a:solidFill>
                <a:srgbClr val="000000"/>
              </a:solidFill>
              <a:latin typeface="Calibri"/>
            </a:endParaRPr>
          </a:p>
        </p:txBody>
      </p:sp>
      <p:sp>
        <p:nvSpPr>
          <p:cNvPr id="107" name="Freeform 120"/>
          <p:cNvSpPr/>
          <p:nvPr/>
        </p:nvSpPr>
        <p:spPr>
          <a:xfrm>
            <a:off x="6431040" y="4414680"/>
            <a:ext cx="803160" cy="484200"/>
          </a:xfrm>
          <a:custGeom>
            <a:avLst/>
            <a:gdLst/>
            <a:ahLst/>
            <a:rect l="l" t="t" r="r" b="b"/>
            <a:pathLst>
              <a:path w="1014" h="608">
                <a:moveTo>
                  <a:pt x="703" y="608"/>
                </a:moveTo>
                <a:lnTo>
                  <a:pt x="587" y="608"/>
                </a:lnTo>
                <a:lnTo>
                  <a:pt x="599" y="575"/>
                </a:lnTo>
                <a:lnTo>
                  <a:pt x="612" y="545"/>
                </a:lnTo>
                <a:lnTo>
                  <a:pt x="622" y="516"/>
                </a:lnTo>
                <a:lnTo>
                  <a:pt x="634" y="487"/>
                </a:lnTo>
                <a:lnTo>
                  <a:pt x="643" y="462"/>
                </a:lnTo>
                <a:lnTo>
                  <a:pt x="651" y="437"/>
                </a:lnTo>
                <a:lnTo>
                  <a:pt x="658" y="412"/>
                </a:lnTo>
                <a:lnTo>
                  <a:pt x="666" y="391"/>
                </a:lnTo>
                <a:lnTo>
                  <a:pt x="674" y="370"/>
                </a:lnTo>
                <a:lnTo>
                  <a:pt x="680" y="351"/>
                </a:lnTo>
                <a:lnTo>
                  <a:pt x="685" y="334"/>
                </a:lnTo>
                <a:lnTo>
                  <a:pt x="689" y="318"/>
                </a:lnTo>
                <a:lnTo>
                  <a:pt x="693" y="303"/>
                </a:lnTo>
                <a:lnTo>
                  <a:pt x="697" y="291"/>
                </a:lnTo>
                <a:lnTo>
                  <a:pt x="701" y="280"/>
                </a:lnTo>
                <a:lnTo>
                  <a:pt x="703" y="268"/>
                </a:lnTo>
                <a:lnTo>
                  <a:pt x="703" y="255"/>
                </a:lnTo>
                <a:lnTo>
                  <a:pt x="703" y="241"/>
                </a:lnTo>
                <a:lnTo>
                  <a:pt x="703" y="228"/>
                </a:lnTo>
                <a:lnTo>
                  <a:pt x="701" y="215"/>
                </a:lnTo>
                <a:lnTo>
                  <a:pt x="701" y="205"/>
                </a:lnTo>
                <a:lnTo>
                  <a:pt x="697" y="195"/>
                </a:lnTo>
                <a:lnTo>
                  <a:pt x="697" y="190"/>
                </a:lnTo>
                <a:lnTo>
                  <a:pt x="695" y="188"/>
                </a:lnTo>
                <a:lnTo>
                  <a:pt x="693" y="184"/>
                </a:lnTo>
                <a:lnTo>
                  <a:pt x="691" y="182"/>
                </a:lnTo>
                <a:lnTo>
                  <a:pt x="687" y="176"/>
                </a:lnTo>
                <a:lnTo>
                  <a:pt x="680" y="174"/>
                </a:lnTo>
                <a:lnTo>
                  <a:pt x="676" y="172"/>
                </a:lnTo>
                <a:lnTo>
                  <a:pt x="672" y="170"/>
                </a:lnTo>
                <a:lnTo>
                  <a:pt x="668" y="170"/>
                </a:lnTo>
                <a:lnTo>
                  <a:pt x="662" y="170"/>
                </a:lnTo>
                <a:lnTo>
                  <a:pt x="657" y="168"/>
                </a:lnTo>
                <a:lnTo>
                  <a:pt x="651" y="168"/>
                </a:lnTo>
                <a:lnTo>
                  <a:pt x="643" y="168"/>
                </a:lnTo>
                <a:lnTo>
                  <a:pt x="635" y="168"/>
                </a:lnTo>
                <a:lnTo>
                  <a:pt x="628" y="168"/>
                </a:lnTo>
                <a:lnTo>
                  <a:pt x="618" y="168"/>
                </a:lnTo>
                <a:lnTo>
                  <a:pt x="609" y="168"/>
                </a:lnTo>
                <a:lnTo>
                  <a:pt x="599" y="168"/>
                </a:lnTo>
                <a:lnTo>
                  <a:pt x="593" y="168"/>
                </a:lnTo>
                <a:lnTo>
                  <a:pt x="587" y="168"/>
                </a:lnTo>
                <a:lnTo>
                  <a:pt x="580" y="168"/>
                </a:lnTo>
                <a:lnTo>
                  <a:pt x="570" y="170"/>
                </a:lnTo>
                <a:lnTo>
                  <a:pt x="563" y="170"/>
                </a:lnTo>
                <a:lnTo>
                  <a:pt x="553" y="170"/>
                </a:lnTo>
                <a:lnTo>
                  <a:pt x="541" y="172"/>
                </a:lnTo>
                <a:lnTo>
                  <a:pt x="530" y="172"/>
                </a:lnTo>
                <a:lnTo>
                  <a:pt x="518" y="174"/>
                </a:lnTo>
                <a:lnTo>
                  <a:pt x="505" y="176"/>
                </a:lnTo>
                <a:lnTo>
                  <a:pt x="490" y="178"/>
                </a:lnTo>
                <a:lnTo>
                  <a:pt x="476" y="180"/>
                </a:lnTo>
                <a:lnTo>
                  <a:pt x="461" y="182"/>
                </a:lnTo>
                <a:lnTo>
                  <a:pt x="444" y="184"/>
                </a:lnTo>
                <a:lnTo>
                  <a:pt x="426" y="186"/>
                </a:lnTo>
                <a:lnTo>
                  <a:pt x="407" y="188"/>
                </a:lnTo>
                <a:lnTo>
                  <a:pt x="388" y="192"/>
                </a:lnTo>
                <a:lnTo>
                  <a:pt x="369" y="193"/>
                </a:lnTo>
                <a:lnTo>
                  <a:pt x="348" y="197"/>
                </a:lnTo>
                <a:lnTo>
                  <a:pt x="326" y="201"/>
                </a:lnTo>
                <a:lnTo>
                  <a:pt x="303" y="203"/>
                </a:lnTo>
                <a:lnTo>
                  <a:pt x="280" y="207"/>
                </a:lnTo>
                <a:lnTo>
                  <a:pt x="257" y="211"/>
                </a:lnTo>
                <a:lnTo>
                  <a:pt x="232" y="215"/>
                </a:lnTo>
                <a:lnTo>
                  <a:pt x="205" y="220"/>
                </a:lnTo>
                <a:lnTo>
                  <a:pt x="179" y="224"/>
                </a:lnTo>
                <a:lnTo>
                  <a:pt x="152" y="230"/>
                </a:lnTo>
                <a:lnTo>
                  <a:pt x="123" y="234"/>
                </a:lnTo>
                <a:lnTo>
                  <a:pt x="94" y="239"/>
                </a:lnTo>
                <a:lnTo>
                  <a:pt x="63" y="245"/>
                </a:lnTo>
                <a:lnTo>
                  <a:pt x="33" y="251"/>
                </a:lnTo>
                <a:lnTo>
                  <a:pt x="0" y="257"/>
                </a:lnTo>
                <a:lnTo>
                  <a:pt x="0" y="199"/>
                </a:lnTo>
                <a:lnTo>
                  <a:pt x="0" y="144"/>
                </a:lnTo>
                <a:lnTo>
                  <a:pt x="21" y="144"/>
                </a:lnTo>
                <a:lnTo>
                  <a:pt x="40" y="142"/>
                </a:lnTo>
                <a:lnTo>
                  <a:pt x="62" y="142"/>
                </a:lnTo>
                <a:lnTo>
                  <a:pt x="83" y="142"/>
                </a:lnTo>
                <a:lnTo>
                  <a:pt x="106" y="140"/>
                </a:lnTo>
                <a:lnTo>
                  <a:pt x="129" y="138"/>
                </a:lnTo>
                <a:lnTo>
                  <a:pt x="152" y="136"/>
                </a:lnTo>
                <a:lnTo>
                  <a:pt x="177" y="132"/>
                </a:lnTo>
                <a:lnTo>
                  <a:pt x="202" y="130"/>
                </a:lnTo>
                <a:lnTo>
                  <a:pt x="229" y="126"/>
                </a:lnTo>
                <a:lnTo>
                  <a:pt x="255" y="122"/>
                </a:lnTo>
                <a:lnTo>
                  <a:pt x="282" y="117"/>
                </a:lnTo>
                <a:lnTo>
                  <a:pt x="311" y="111"/>
                </a:lnTo>
                <a:lnTo>
                  <a:pt x="342" y="105"/>
                </a:lnTo>
                <a:lnTo>
                  <a:pt x="372" y="99"/>
                </a:lnTo>
                <a:lnTo>
                  <a:pt x="403" y="94"/>
                </a:lnTo>
                <a:lnTo>
                  <a:pt x="434" y="86"/>
                </a:lnTo>
                <a:lnTo>
                  <a:pt x="461" y="78"/>
                </a:lnTo>
                <a:lnTo>
                  <a:pt x="488" y="72"/>
                </a:lnTo>
                <a:lnTo>
                  <a:pt x="511" y="67"/>
                </a:lnTo>
                <a:lnTo>
                  <a:pt x="534" y="61"/>
                </a:lnTo>
                <a:lnTo>
                  <a:pt x="555" y="55"/>
                </a:lnTo>
                <a:lnTo>
                  <a:pt x="576" y="49"/>
                </a:lnTo>
                <a:lnTo>
                  <a:pt x="593" y="46"/>
                </a:lnTo>
                <a:lnTo>
                  <a:pt x="610" y="42"/>
                </a:lnTo>
                <a:lnTo>
                  <a:pt x="624" y="36"/>
                </a:lnTo>
                <a:lnTo>
                  <a:pt x="637" y="32"/>
                </a:lnTo>
                <a:lnTo>
                  <a:pt x="649" y="28"/>
                </a:lnTo>
                <a:lnTo>
                  <a:pt x="660" y="26"/>
                </a:lnTo>
                <a:lnTo>
                  <a:pt x="668" y="23"/>
                </a:lnTo>
                <a:lnTo>
                  <a:pt x="674" y="21"/>
                </a:lnTo>
                <a:lnTo>
                  <a:pt x="680" y="17"/>
                </a:lnTo>
                <a:lnTo>
                  <a:pt x="689" y="13"/>
                </a:lnTo>
                <a:lnTo>
                  <a:pt x="697" y="9"/>
                </a:lnTo>
                <a:lnTo>
                  <a:pt x="706" y="5"/>
                </a:lnTo>
                <a:lnTo>
                  <a:pt x="716" y="1"/>
                </a:lnTo>
                <a:lnTo>
                  <a:pt x="726" y="0"/>
                </a:lnTo>
                <a:lnTo>
                  <a:pt x="737" y="0"/>
                </a:lnTo>
                <a:lnTo>
                  <a:pt x="741" y="0"/>
                </a:lnTo>
                <a:lnTo>
                  <a:pt x="749" y="1"/>
                </a:lnTo>
                <a:lnTo>
                  <a:pt x="754" y="3"/>
                </a:lnTo>
                <a:lnTo>
                  <a:pt x="760" y="5"/>
                </a:lnTo>
                <a:lnTo>
                  <a:pt x="774" y="11"/>
                </a:lnTo>
                <a:lnTo>
                  <a:pt x="789" y="17"/>
                </a:lnTo>
                <a:lnTo>
                  <a:pt x="804" y="25"/>
                </a:lnTo>
                <a:lnTo>
                  <a:pt x="822" y="34"/>
                </a:lnTo>
                <a:lnTo>
                  <a:pt x="831" y="40"/>
                </a:lnTo>
                <a:lnTo>
                  <a:pt x="841" y="46"/>
                </a:lnTo>
                <a:lnTo>
                  <a:pt x="852" y="53"/>
                </a:lnTo>
                <a:lnTo>
                  <a:pt x="862" y="59"/>
                </a:lnTo>
                <a:lnTo>
                  <a:pt x="873" y="67"/>
                </a:lnTo>
                <a:lnTo>
                  <a:pt x="885" y="74"/>
                </a:lnTo>
                <a:lnTo>
                  <a:pt x="896" y="84"/>
                </a:lnTo>
                <a:lnTo>
                  <a:pt x="910" y="94"/>
                </a:lnTo>
                <a:lnTo>
                  <a:pt x="923" y="101"/>
                </a:lnTo>
                <a:lnTo>
                  <a:pt x="935" y="111"/>
                </a:lnTo>
                <a:lnTo>
                  <a:pt x="944" y="120"/>
                </a:lnTo>
                <a:lnTo>
                  <a:pt x="956" y="128"/>
                </a:lnTo>
                <a:lnTo>
                  <a:pt x="964" y="136"/>
                </a:lnTo>
                <a:lnTo>
                  <a:pt x="973" y="145"/>
                </a:lnTo>
                <a:lnTo>
                  <a:pt x="981" y="151"/>
                </a:lnTo>
                <a:lnTo>
                  <a:pt x="987" y="159"/>
                </a:lnTo>
                <a:lnTo>
                  <a:pt x="994" y="167"/>
                </a:lnTo>
                <a:lnTo>
                  <a:pt x="998" y="172"/>
                </a:lnTo>
                <a:lnTo>
                  <a:pt x="1004" y="178"/>
                </a:lnTo>
                <a:lnTo>
                  <a:pt x="1008" y="186"/>
                </a:lnTo>
                <a:lnTo>
                  <a:pt x="1010" y="192"/>
                </a:lnTo>
                <a:lnTo>
                  <a:pt x="1012" y="195"/>
                </a:lnTo>
                <a:lnTo>
                  <a:pt x="1014" y="201"/>
                </a:lnTo>
                <a:lnTo>
                  <a:pt x="1014" y="207"/>
                </a:lnTo>
                <a:lnTo>
                  <a:pt x="1008" y="215"/>
                </a:lnTo>
                <a:lnTo>
                  <a:pt x="1002" y="222"/>
                </a:lnTo>
                <a:lnTo>
                  <a:pt x="996" y="230"/>
                </a:lnTo>
                <a:lnTo>
                  <a:pt x="989" y="236"/>
                </a:lnTo>
                <a:lnTo>
                  <a:pt x="979" y="241"/>
                </a:lnTo>
                <a:lnTo>
                  <a:pt x="968" y="247"/>
                </a:lnTo>
                <a:lnTo>
                  <a:pt x="956" y="251"/>
                </a:lnTo>
                <a:lnTo>
                  <a:pt x="944" y="257"/>
                </a:lnTo>
                <a:lnTo>
                  <a:pt x="941" y="259"/>
                </a:lnTo>
                <a:lnTo>
                  <a:pt x="937" y="261"/>
                </a:lnTo>
                <a:lnTo>
                  <a:pt x="933" y="263"/>
                </a:lnTo>
                <a:lnTo>
                  <a:pt x="929" y="266"/>
                </a:lnTo>
                <a:lnTo>
                  <a:pt x="925" y="270"/>
                </a:lnTo>
                <a:lnTo>
                  <a:pt x="920" y="274"/>
                </a:lnTo>
                <a:lnTo>
                  <a:pt x="916" y="280"/>
                </a:lnTo>
                <a:lnTo>
                  <a:pt x="910" y="286"/>
                </a:lnTo>
                <a:lnTo>
                  <a:pt x="904" y="293"/>
                </a:lnTo>
                <a:lnTo>
                  <a:pt x="898" y="301"/>
                </a:lnTo>
                <a:lnTo>
                  <a:pt x="893" y="309"/>
                </a:lnTo>
                <a:lnTo>
                  <a:pt x="885" y="316"/>
                </a:lnTo>
                <a:lnTo>
                  <a:pt x="879" y="326"/>
                </a:lnTo>
                <a:lnTo>
                  <a:pt x="872" y="335"/>
                </a:lnTo>
                <a:lnTo>
                  <a:pt x="866" y="345"/>
                </a:lnTo>
                <a:lnTo>
                  <a:pt x="858" y="357"/>
                </a:lnTo>
                <a:lnTo>
                  <a:pt x="850" y="368"/>
                </a:lnTo>
                <a:lnTo>
                  <a:pt x="841" y="380"/>
                </a:lnTo>
                <a:lnTo>
                  <a:pt x="833" y="393"/>
                </a:lnTo>
                <a:lnTo>
                  <a:pt x="825" y="406"/>
                </a:lnTo>
                <a:lnTo>
                  <a:pt x="816" y="420"/>
                </a:lnTo>
                <a:lnTo>
                  <a:pt x="806" y="433"/>
                </a:lnTo>
                <a:lnTo>
                  <a:pt x="799" y="449"/>
                </a:lnTo>
                <a:lnTo>
                  <a:pt x="789" y="464"/>
                </a:lnTo>
                <a:lnTo>
                  <a:pt x="777" y="479"/>
                </a:lnTo>
                <a:lnTo>
                  <a:pt x="768" y="497"/>
                </a:lnTo>
                <a:lnTo>
                  <a:pt x="758" y="514"/>
                </a:lnTo>
                <a:lnTo>
                  <a:pt x="747" y="531"/>
                </a:lnTo>
                <a:lnTo>
                  <a:pt x="737" y="550"/>
                </a:lnTo>
                <a:lnTo>
                  <a:pt x="726" y="570"/>
                </a:lnTo>
                <a:lnTo>
                  <a:pt x="714" y="589"/>
                </a:lnTo>
                <a:lnTo>
                  <a:pt x="703" y="6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Freeform 121"/>
          <p:cNvSpPr/>
          <p:nvPr/>
        </p:nvSpPr>
        <p:spPr>
          <a:xfrm>
            <a:off x="6485040" y="4848120"/>
            <a:ext cx="636480" cy="139680"/>
          </a:xfrm>
          <a:custGeom>
            <a:avLst/>
            <a:gdLst/>
            <a:ahLst/>
            <a:rect l="l" t="t" r="r" b="b"/>
            <a:pathLst>
              <a:path w="803" h="176">
                <a:moveTo>
                  <a:pt x="0" y="63"/>
                </a:moveTo>
                <a:lnTo>
                  <a:pt x="41" y="63"/>
                </a:lnTo>
                <a:lnTo>
                  <a:pt x="81" y="61"/>
                </a:lnTo>
                <a:lnTo>
                  <a:pt x="123" y="59"/>
                </a:lnTo>
                <a:lnTo>
                  <a:pt x="146" y="57"/>
                </a:lnTo>
                <a:lnTo>
                  <a:pt x="167" y="55"/>
                </a:lnTo>
                <a:lnTo>
                  <a:pt x="190" y="53"/>
                </a:lnTo>
                <a:lnTo>
                  <a:pt x="213" y="52"/>
                </a:lnTo>
                <a:lnTo>
                  <a:pt x="238" y="50"/>
                </a:lnTo>
                <a:lnTo>
                  <a:pt x="263" y="48"/>
                </a:lnTo>
                <a:lnTo>
                  <a:pt x="288" y="46"/>
                </a:lnTo>
                <a:lnTo>
                  <a:pt x="315" y="42"/>
                </a:lnTo>
                <a:lnTo>
                  <a:pt x="342" y="40"/>
                </a:lnTo>
                <a:lnTo>
                  <a:pt x="369" y="38"/>
                </a:lnTo>
                <a:lnTo>
                  <a:pt x="398" y="32"/>
                </a:lnTo>
                <a:lnTo>
                  <a:pt x="422" y="28"/>
                </a:lnTo>
                <a:lnTo>
                  <a:pt x="447" y="25"/>
                </a:lnTo>
                <a:lnTo>
                  <a:pt x="470" y="21"/>
                </a:lnTo>
                <a:lnTo>
                  <a:pt x="494" y="17"/>
                </a:lnTo>
                <a:lnTo>
                  <a:pt x="515" y="15"/>
                </a:lnTo>
                <a:lnTo>
                  <a:pt x="534" y="11"/>
                </a:lnTo>
                <a:lnTo>
                  <a:pt x="553" y="9"/>
                </a:lnTo>
                <a:lnTo>
                  <a:pt x="570" y="7"/>
                </a:lnTo>
                <a:lnTo>
                  <a:pt x="588" y="5"/>
                </a:lnTo>
                <a:lnTo>
                  <a:pt x="603" y="4"/>
                </a:lnTo>
                <a:lnTo>
                  <a:pt x="618" y="2"/>
                </a:lnTo>
                <a:lnTo>
                  <a:pt x="632" y="2"/>
                </a:lnTo>
                <a:lnTo>
                  <a:pt x="645" y="2"/>
                </a:lnTo>
                <a:lnTo>
                  <a:pt x="657" y="0"/>
                </a:lnTo>
                <a:lnTo>
                  <a:pt x="668" y="0"/>
                </a:lnTo>
                <a:lnTo>
                  <a:pt x="685" y="2"/>
                </a:lnTo>
                <a:lnTo>
                  <a:pt x="701" y="4"/>
                </a:lnTo>
                <a:lnTo>
                  <a:pt x="716" y="5"/>
                </a:lnTo>
                <a:lnTo>
                  <a:pt x="730" y="11"/>
                </a:lnTo>
                <a:lnTo>
                  <a:pt x="737" y="15"/>
                </a:lnTo>
                <a:lnTo>
                  <a:pt x="745" y="17"/>
                </a:lnTo>
                <a:lnTo>
                  <a:pt x="751" y="23"/>
                </a:lnTo>
                <a:lnTo>
                  <a:pt x="758" y="27"/>
                </a:lnTo>
                <a:lnTo>
                  <a:pt x="764" y="32"/>
                </a:lnTo>
                <a:lnTo>
                  <a:pt x="770" y="38"/>
                </a:lnTo>
                <a:lnTo>
                  <a:pt x="778" y="44"/>
                </a:lnTo>
                <a:lnTo>
                  <a:pt x="783" y="52"/>
                </a:lnTo>
                <a:lnTo>
                  <a:pt x="787" y="57"/>
                </a:lnTo>
                <a:lnTo>
                  <a:pt x="791" y="65"/>
                </a:lnTo>
                <a:lnTo>
                  <a:pt x="793" y="71"/>
                </a:lnTo>
                <a:lnTo>
                  <a:pt x="797" y="76"/>
                </a:lnTo>
                <a:lnTo>
                  <a:pt x="801" y="88"/>
                </a:lnTo>
                <a:lnTo>
                  <a:pt x="803" y="98"/>
                </a:lnTo>
                <a:lnTo>
                  <a:pt x="803" y="107"/>
                </a:lnTo>
                <a:lnTo>
                  <a:pt x="801" y="115"/>
                </a:lnTo>
                <a:lnTo>
                  <a:pt x="799" y="121"/>
                </a:lnTo>
                <a:lnTo>
                  <a:pt x="795" y="126"/>
                </a:lnTo>
                <a:lnTo>
                  <a:pt x="793" y="128"/>
                </a:lnTo>
                <a:lnTo>
                  <a:pt x="789" y="130"/>
                </a:lnTo>
                <a:lnTo>
                  <a:pt x="785" y="132"/>
                </a:lnTo>
                <a:lnTo>
                  <a:pt x="780" y="134"/>
                </a:lnTo>
                <a:lnTo>
                  <a:pt x="774" y="134"/>
                </a:lnTo>
                <a:lnTo>
                  <a:pt x="768" y="136"/>
                </a:lnTo>
                <a:lnTo>
                  <a:pt x="760" y="136"/>
                </a:lnTo>
                <a:lnTo>
                  <a:pt x="753" y="136"/>
                </a:lnTo>
                <a:lnTo>
                  <a:pt x="745" y="138"/>
                </a:lnTo>
                <a:lnTo>
                  <a:pt x="735" y="138"/>
                </a:lnTo>
                <a:lnTo>
                  <a:pt x="726" y="138"/>
                </a:lnTo>
                <a:lnTo>
                  <a:pt x="716" y="138"/>
                </a:lnTo>
                <a:lnTo>
                  <a:pt x="705" y="138"/>
                </a:lnTo>
                <a:lnTo>
                  <a:pt x="693" y="138"/>
                </a:lnTo>
                <a:lnTo>
                  <a:pt x="682" y="138"/>
                </a:lnTo>
                <a:lnTo>
                  <a:pt x="668" y="138"/>
                </a:lnTo>
                <a:lnTo>
                  <a:pt x="661" y="138"/>
                </a:lnTo>
                <a:lnTo>
                  <a:pt x="651" y="138"/>
                </a:lnTo>
                <a:lnTo>
                  <a:pt x="641" y="138"/>
                </a:lnTo>
                <a:lnTo>
                  <a:pt x="632" y="140"/>
                </a:lnTo>
                <a:lnTo>
                  <a:pt x="620" y="140"/>
                </a:lnTo>
                <a:lnTo>
                  <a:pt x="609" y="140"/>
                </a:lnTo>
                <a:lnTo>
                  <a:pt x="595" y="140"/>
                </a:lnTo>
                <a:lnTo>
                  <a:pt x="582" y="140"/>
                </a:lnTo>
                <a:lnTo>
                  <a:pt x="566" y="142"/>
                </a:lnTo>
                <a:lnTo>
                  <a:pt x="551" y="142"/>
                </a:lnTo>
                <a:lnTo>
                  <a:pt x="536" y="144"/>
                </a:lnTo>
                <a:lnTo>
                  <a:pt x="518" y="144"/>
                </a:lnTo>
                <a:lnTo>
                  <a:pt x="501" y="144"/>
                </a:lnTo>
                <a:lnTo>
                  <a:pt x="482" y="146"/>
                </a:lnTo>
                <a:lnTo>
                  <a:pt x="463" y="146"/>
                </a:lnTo>
                <a:lnTo>
                  <a:pt x="442" y="147"/>
                </a:lnTo>
                <a:lnTo>
                  <a:pt x="421" y="149"/>
                </a:lnTo>
                <a:lnTo>
                  <a:pt x="399" y="149"/>
                </a:lnTo>
                <a:lnTo>
                  <a:pt x="376" y="151"/>
                </a:lnTo>
                <a:lnTo>
                  <a:pt x="353" y="153"/>
                </a:lnTo>
                <a:lnTo>
                  <a:pt x="328" y="155"/>
                </a:lnTo>
                <a:lnTo>
                  <a:pt x="303" y="155"/>
                </a:lnTo>
                <a:lnTo>
                  <a:pt x="277" y="157"/>
                </a:lnTo>
                <a:lnTo>
                  <a:pt x="250" y="159"/>
                </a:lnTo>
                <a:lnTo>
                  <a:pt x="221" y="161"/>
                </a:lnTo>
                <a:lnTo>
                  <a:pt x="192" y="163"/>
                </a:lnTo>
                <a:lnTo>
                  <a:pt x="163" y="165"/>
                </a:lnTo>
                <a:lnTo>
                  <a:pt x="133" y="167"/>
                </a:lnTo>
                <a:lnTo>
                  <a:pt x="100" y="169"/>
                </a:lnTo>
                <a:lnTo>
                  <a:pt x="67" y="171"/>
                </a:lnTo>
                <a:lnTo>
                  <a:pt x="35" y="174"/>
                </a:lnTo>
                <a:lnTo>
                  <a:pt x="0" y="176"/>
                </a:lnTo>
                <a:lnTo>
                  <a:pt x="0" y="119"/>
                </a:lnTo>
                <a:lnTo>
                  <a:pt x="0" y="6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Freeform 122"/>
          <p:cNvSpPr/>
          <p:nvPr/>
        </p:nvSpPr>
        <p:spPr>
          <a:xfrm>
            <a:off x="6311880" y="4513320"/>
            <a:ext cx="206280" cy="566640"/>
          </a:xfrm>
          <a:custGeom>
            <a:avLst/>
            <a:gdLst/>
            <a:ahLst/>
            <a:rect l="l" t="t" r="r" b="b"/>
            <a:pathLst>
              <a:path w="261" h="714">
                <a:moveTo>
                  <a:pt x="46" y="96"/>
                </a:moveTo>
                <a:lnTo>
                  <a:pt x="41" y="89"/>
                </a:lnTo>
                <a:lnTo>
                  <a:pt x="35" y="83"/>
                </a:lnTo>
                <a:lnTo>
                  <a:pt x="29" y="77"/>
                </a:lnTo>
                <a:lnTo>
                  <a:pt x="25" y="70"/>
                </a:lnTo>
                <a:lnTo>
                  <a:pt x="18" y="58"/>
                </a:lnTo>
                <a:lnTo>
                  <a:pt x="12" y="48"/>
                </a:lnTo>
                <a:lnTo>
                  <a:pt x="6" y="37"/>
                </a:lnTo>
                <a:lnTo>
                  <a:pt x="4" y="27"/>
                </a:lnTo>
                <a:lnTo>
                  <a:pt x="2" y="18"/>
                </a:lnTo>
                <a:lnTo>
                  <a:pt x="0" y="8"/>
                </a:lnTo>
                <a:lnTo>
                  <a:pt x="2" y="6"/>
                </a:lnTo>
                <a:lnTo>
                  <a:pt x="4" y="4"/>
                </a:lnTo>
                <a:lnTo>
                  <a:pt x="10" y="2"/>
                </a:lnTo>
                <a:lnTo>
                  <a:pt x="16" y="2"/>
                </a:lnTo>
                <a:lnTo>
                  <a:pt x="25" y="0"/>
                </a:lnTo>
                <a:lnTo>
                  <a:pt x="35" y="0"/>
                </a:lnTo>
                <a:lnTo>
                  <a:pt x="46" y="0"/>
                </a:lnTo>
                <a:lnTo>
                  <a:pt x="62" y="0"/>
                </a:lnTo>
                <a:lnTo>
                  <a:pt x="77" y="2"/>
                </a:lnTo>
                <a:lnTo>
                  <a:pt x="94" y="2"/>
                </a:lnTo>
                <a:lnTo>
                  <a:pt x="116" y="4"/>
                </a:lnTo>
                <a:lnTo>
                  <a:pt x="137" y="6"/>
                </a:lnTo>
                <a:lnTo>
                  <a:pt x="160" y="10"/>
                </a:lnTo>
                <a:lnTo>
                  <a:pt x="187" y="12"/>
                </a:lnTo>
                <a:lnTo>
                  <a:pt x="213" y="16"/>
                </a:lnTo>
                <a:lnTo>
                  <a:pt x="242" y="22"/>
                </a:lnTo>
                <a:lnTo>
                  <a:pt x="244" y="62"/>
                </a:lnTo>
                <a:lnTo>
                  <a:pt x="246" y="100"/>
                </a:lnTo>
                <a:lnTo>
                  <a:pt x="248" y="139"/>
                </a:lnTo>
                <a:lnTo>
                  <a:pt x="250" y="177"/>
                </a:lnTo>
                <a:lnTo>
                  <a:pt x="252" y="212"/>
                </a:lnTo>
                <a:lnTo>
                  <a:pt x="254" y="246"/>
                </a:lnTo>
                <a:lnTo>
                  <a:pt x="254" y="281"/>
                </a:lnTo>
                <a:lnTo>
                  <a:pt x="256" y="313"/>
                </a:lnTo>
                <a:lnTo>
                  <a:pt x="258" y="344"/>
                </a:lnTo>
                <a:lnTo>
                  <a:pt x="258" y="373"/>
                </a:lnTo>
                <a:lnTo>
                  <a:pt x="260" y="402"/>
                </a:lnTo>
                <a:lnTo>
                  <a:pt x="260" y="430"/>
                </a:lnTo>
                <a:lnTo>
                  <a:pt x="260" y="455"/>
                </a:lnTo>
                <a:lnTo>
                  <a:pt x="261" y="480"/>
                </a:lnTo>
                <a:lnTo>
                  <a:pt x="261" y="503"/>
                </a:lnTo>
                <a:lnTo>
                  <a:pt x="261" y="526"/>
                </a:lnTo>
                <a:lnTo>
                  <a:pt x="261" y="547"/>
                </a:lnTo>
                <a:lnTo>
                  <a:pt x="261" y="569"/>
                </a:lnTo>
                <a:lnTo>
                  <a:pt x="261" y="586"/>
                </a:lnTo>
                <a:lnTo>
                  <a:pt x="261" y="603"/>
                </a:lnTo>
                <a:lnTo>
                  <a:pt x="261" y="620"/>
                </a:lnTo>
                <a:lnTo>
                  <a:pt x="261" y="634"/>
                </a:lnTo>
                <a:lnTo>
                  <a:pt x="261" y="647"/>
                </a:lnTo>
                <a:lnTo>
                  <a:pt x="261" y="661"/>
                </a:lnTo>
                <a:lnTo>
                  <a:pt x="260" y="672"/>
                </a:lnTo>
                <a:lnTo>
                  <a:pt x="260" y="682"/>
                </a:lnTo>
                <a:lnTo>
                  <a:pt x="260" y="689"/>
                </a:lnTo>
                <a:lnTo>
                  <a:pt x="258" y="697"/>
                </a:lnTo>
                <a:lnTo>
                  <a:pt x="258" y="703"/>
                </a:lnTo>
                <a:lnTo>
                  <a:pt x="256" y="707"/>
                </a:lnTo>
                <a:lnTo>
                  <a:pt x="256" y="711"/>
                </a:lnTo>
                <a:lnTo>
                  <a:pt x="254" y="713"/>
                </a:lnTo>
                <a:lnTo>
                  <a:pt x="250" y="714"/>
                </a:lnTo>
                <a:lnTo>
                  <a:pt x="246" y="714"/>
                </a:lnTo>
                <a:lnTo>
                  <a:pt x="240" y="713"/>
                </a:lnTo>
                <a:lnTo>
                  <a:pt x="236" y="711"/>
                </a:lnTo>
                <a:lnTo>
                  <a:pt x="233" y="707"/>
                </a:lnTo>
                <a:lnTo>
                  <a:pt x="229" y="701"/>
                </a:lnTo>
                <a:lnTo>
                  <a:pt x="223" y="695"/>
                </a:lnTo>
                <a:lnTo>
                  <a:pt x="219" y="688"/>
                </a:lnTo>
                <a:lnTo>
                  <a:pt x="215" y="678"/>
                </a:lnTo>
                <a:lnTo>
                  <a:pt x="212" y="668"/>
                </a:lnTo>
                <a:lnTo>
                  <a:pt x="206" y="657"/>
                </a:lnTo>
                <a:lnTo>
                  <a:pt x="202" y="645"/>
                </a:lnTo>
                <a:lnTo>
                  <a:pt x="198" y="632"/>
                </a:lnTo>
                <a:lnTo>
                  <a:pt x="194" y="618"/>
                </a:lnTo>
                <a:lnTo>
                  <a:pt x="188" y="603"/>
                </a:lnTo>
                <a:lnTo>
                  <a:pt x="185" y="586"/>
                </a:lnTo>
                <a:lnTo>
                  <a:pt x="173" y="553"/>
                </a:lnTo>
                <a:lnTo>
                  <a:pt x="162" y="519"/>
                </a:lnTo>
                <a:lnTo>
                  <a:pt x="152" y="482"/>
                </a:lnTo>
                <a:lnTo>
                  <a:pt x="142" y="446"/>
                </a:lnTo>
                <a:lnTo>
                  <a:pt x="135" y="409"/>
                </a:lnTo>
                <a:lnTo>
                  <a:pt x="127" y="373"/>
                </a:lnTo>
                <a:lnTo>
                  <a:pt x="121" y="334"/>
                </a:lnTo>
                <a:lnTo>
                  <a:pt x="116" y="298"/>
                </a:lnTo>
                <a:lnTo>
                  <a:pt x="114" y="279"/>
                </a:lnTo>
                <a:lnTo>
                  <a:pt x="112" y="261"/>
                </a:lnTo>
                <a:lnTo>
                  <a:pt x="108" y="244"/>
                </a:lnTo>
                <a:lnTo>
                  <a:pt x="106" y="229"/>
                </a:lnTo>
                <a:lnTo>
                  <a:pt x="102" y="213"/>
                </a:lnTo>
                <a:lnTo>
                  <a:pt x="98" y="200"/>
                </a:lnTo>
                <a:lnTo>
                  <a:pt x="94" y="187"/>
                </a:lnTo>
                <a:lnTo>
                  <a:pt x="91" y="173"/>
                </a:lnTo>
                <a:lnTo>
                  <a:pt x="85" y="162"/>
                </a:lnTo>
                <a:lnTo>
                  <a:pt x="81" y="150"/>
                </a:lnTo>
                <a:lnTo>
                  <a:pt x="75" y="141"/>
                </a:lnTo>
                <a:lnTo>
                  <a:pt x="71" y="129"/>
                </a:lnTo>
                <a:lnTo>
                  <a:pt x="66" y="121"/>
                </a:lnTo>
                <a:lnTo>
                  <a:pt x="60" y="112"/>
                </a:lnTo>
                <a:lnTo>
                  <a:pt x="54" y="104"/>
                </a:lnTo>
                <a:lnTo>
                  <a:pt x="46"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Freeform 123"/>
          <p:cNvSpPr/>
          <p:nvPr/>
        </p:nvSpPr>
        <p:spPr>
          <a:xfrm>
            <a:off x="6504120" y="4089240"/>
            <a:ext cx="484200" cy="169920"/>
          </a:xfrm>
          <a:custGeom>
            <a:avLst/>
            <a:gdLst/>
            <a:ahLst/>
            <a:rect l="l" t="t" r="r" b="b"/>
            <a:pathLst>
              <a:path w="611" h="215">
                <a:moveTo>
                  <a:pt x="0" y="115"/>
                </a:moveTo>
                <a:lnTo>
                  <a:pt x="31" y="105"/>
                </a:lnTo>
                <a:lnTo>
                  <a:pt x="62" y="98"/>
                </a:lnTo>
                <a:lnTo>
                  <a:pt x="90" y="90"/>
                </a:lnTo>
                <a:lnTo>
                  <a:pt x="119" y="84"/>
                </a:lnTo>
                <a:lnTo>
                  <a:pt x="146" y="77"/>
                </a:lnTo>
                <a:lnTo>
                  <a:pt x="173" y="69"/>
                </a:lnTo>
                <a:lnTo>
                  <a:pt x="198" y="63"/>
                </a:lnTo>
                <a:lnTo>
                  <a:pt x="223" y="57"/>
                </a:lnTo>
                <a:lnTo>
                  <a:pt x="246" y="52"/>
                </a:lnTo>
                <a:lnTo>
                  <a:pt x="269" y="46"/>
                </a:lnTo>
                <a:lnTo>
                  <a:pt x="292" y="40"/>
                </a:lnTo>
                <a:lnTo>
                  <a:pt x="313" y="36"/>
                </a:lnTo>
                <a:lnTo>
                  <a:pt x="334" y="31"/>
                </a:lnTo>
                <a:lnTo>
                  <a:pt x="353" y="27"/>
                </a:lnTo>
                <a:lnTo>
                  <a:pt x="371" y="23"/>
                </a:lnTo>
                <a:lnTo>
                  <a:pt x="390" y="19"/>
                </a:lnTo>
                <a:lnTo>
                  <a:pt x="405" y="17"/>
                </a:lnTo>
                <a:lnTo>
                  <a:pt x="423" y="13"/>
                </a:lnTo>
                <a:lnTo>
                  <a:pt x="438" y="11"/>
                </a:lnTo>
                <a:lnTo>
                  <a:pt x="451" y="7"/>
                </a:lnTo>
                <a:lnTo>
                  <a:pt x="465" y="6"/>
                </a:lnTo>
                <a:lnTo>
                  <a:pt x="476" y="4"/>
                </a:lnTo>
                <a:lnTo>
                  <a:pt x="488" y="2"/>
                </a:lnTo>
                <a:lnTo>
                  <a:pt x="499" y="2"/>
                </a:lnTo>
                <a:lnTo>
                  <a:pt x="509" y="0"/>
                </a:lnTo>
                <a:lnTo>
                  <a:pt x="518" y="0"/>
                </a:lnTo>
                <a:lnTo>
                  <a:pt x="526" y="0"/>
                </a:lnTo>
                <a:lnTo>
                  <a:pt x="534" y="0"/>
                </a:lnTo>
                <a:lnTo>
                  <a:pt x="540" y="0"/>
                </a:lnTo>
                <a:lnTo>
                  <a:pt x="545" y="0"/>
                </a:lnTo>
                <a:lnTo>
                  <a:pt x="549" y="0"/>
                </a:lnTo>
                <a:lnTo>
                  <a:pt x="553" y="2"/>
                </a:lnTo>
                <a:lnTo>
                  <a:pt x="565" y="11"/>
                </a:lnTo>
                <a:lnTo>
                  <a:pt x="576" y="21"/>
                </a:lnTo>
                <a:lnTo>
                  <a:pt x="586" y="31"/>
                </a:lnTo>
                <a:lnTo>
                  <a:pt x="595" y="38"/>
                </a:lnTo>
                <a:lnTo>
                  <a:pt x="601" y="48"/>
                </a:lnTo>
                <a:lnTo>
                  <a:pt x="607" y="57"/>
                </a:lnTo>
                <a:lnTo>
                  <a:pt x="609" y="63"/>
                </a:lnTo>
                <a:lnTo>
                  <a:pt x="609" y="67"/>
                </a:lnTo>
                <a:lnTo>
                  <a:pt x="611" y="73"/>
                </a:lnTo>
                <a:lnTo>
                  <a:pt x="611" y="77"/>
                </a:lnTo>
                <a:lnTo>
                  <a:pt x="611" y="86"/>
                </a:lnTo>
                <a:lnTo>
                  <a:pt x="609" y="96"/>
                </a:lnTo>
                <a:lnTo>
                  <a:pt x="605" y="103"/>
                </a:lnTo>
                <a:lnTo>
                  <a:pt x="601" y="113"/>
                </a:lnTo>
                <a:lnTo>
                  <a:pt x="595" y="121"/>
                </a:lnTo>
                <a:lnTo>
                  <a:pt x="586" y="128"/>
                </a:lnTo>
                <a:lnTo>
                  <a:pt x="582" y="130"/>
                </a:lnTo>
                <a:lnTo>
                  <a:pt x="576" y="134"/>
                </a:lnTo>
                <a:lnTo>
                  <a:pt x="570" y="136"/>
                </a:lnTo>
                <a:lnTo>
                  <a:pt x="565" y="140"/>
                </a:lnTo>
                <a:lnTo>
                  <a:pt x="559" y="144"/>
                </a:lnTo>
                <a:lnTo>
                  <a:pt x="553" y="148"/>
                </a:lnTo>
                <a:lnTo>
                  <a:pt x="543" y="155"/>
                </a:lnTo>
                <a:lnTo>
                  <a:pt x="534" y="163"/>
                </a:lnTo>
                <a:lnTo>
                  <a:pt x="528" y="169"/>
                </a:lnTo>
                <a:lnTo>
                  <a:pt x="520" y="173"/>
                </a:lnTo>
                <a:lnTo>
                  <a:pt x="517" y="174"/>
                </a:lnTo>
                <a:lnTo>
                  <a:pt x="511" y="176"/>
                </a:lnTo>
                <a:lnTo>
                  <a:pt x="507" y="178"/>
                </a:lnTo>
                <a:lnTo>
                  <a:pt x="505" y="178"/>
                </a:lnTo>
                <a:lnTo>
                  <a:pt x="501" y="178"/>
                </a:lnTo>
                <a:lnTo>
                  <a:pt x="497" y="178"/>
                </a:lnTo>
                <a:lnTo>
                  <a:pt x="492" y="178"/>
                </a:lnTo>
                <a:lnTo>
                  <a:pt x="486" y="178"/>
                </a:lnTo>
                <a:lnTo>
                  <a:pt x="480" y="178"/>
                </a:lnTo>
                <a:lnTo>
                  <a:pt x="472" y="178"/>
                </a:lnTo>
                <a:lnTo>
                  <a:pt x="465" y="178"/>
                </a:lnTo>
                <a:lnTo>
                  <a:pt x="455" y="180"/>
                </a:lnTo>
                <a:lnTo>
                  <a:pt x="446" y="180"/>
                </a:lnTo>
                <a:lnTo>
                  <a:pt x="434" y="182"/>
                </a:lnTo>
                <a:lnTo>
                  <a:pt x="423" y="182"/>
                </a:lnTo>
                <a:lnTo>
                  <a:pt x="411" y="184"/>
                </a:lnTo>
                <a:lnTo>
                  <a:pt x="398" y="186"/>
                </a:lnTo>
                <a:lnTo>
                  <a:pt x="384" y="188"/>
                </a:lnTo>
                <a:lnTo>
                  <a:pt x="369" y="190"/>
                </a:lnTo>
                <a:lnTo>
                  <a:pt x="340" y="196"/>
                </a:lnTo>
                <a:lnTo>
                  <a:pt x="309" y="199"/>
                </a:lnTo>
                <a:lnTo>
                  <a:pt x="280" y="203"/>
                </a:lnTo>
                <a:lnTo>
                  <a:pt x="252" y="207"/>
                </a:lnTo>
                <a:lnTo>
                  <a:pt x="223" y="211"/>
                </a:lnTo>
                <a:lnTo>
                  <a:pt x="198" y="213"/>
                </a:lnTo>
                <a:lnTo>
                  <a:pt x="173" y="215"/>
                </a:lnTo>
                <a:lnTo>
                  <a:pt x="161" y="215"/>
                </a:lnTo>
                <a:lnTo>
                  <a:pt x="150" y="215"/>
                </a:lnTo>
                <a:lnTo>
                  <a:pt x="129" y="215"/>
                </a:lnTo>
                <a:lnTo>
                  <a:pt x="110" y="213"/>
                </a:lnTo>
                <a:lnTo>
                  <a:pt x="92" y="209"/>
                </a:lnTo>
                <a:lnTo>
                  <a:pt x="83" y="207"/>
                </a:lnTo>
                <a:lnTo>
                  <a:pt x="75" y="205"/>
                </a:lnTo>
                <a:lnTo>
                  <a:pt x="67" y="203"/>
                </a:lnTo>
                <a:lnTo>
                  <a:pt x="62" y="199"/>
                </a:lnTo>
                <a:lnTo>
                  <a:pt x="56" y="197"/>
                </a:lnTo>
                <a:lnTo>
                  <a:pt x="50" y="194"/>
                </a:lnTo>
                <a:lnTo>
                  <a:pt x="44" y="190"/>
                </a:lnTo>
                <a:lnTo>
                  <a:pt x="41" y="186"/>
                </a:lnTo>
                <a:lnTo>
                  <a:pt x="39" y="182"/>
                </a:lnTo>
                <a:lnTo>
                  <a:pt x="35" y="178"/>
                </a:lnTo>
                <a:lnTo>
                  <a:pt x="27" y="169"/>
                </a:lnTo>
                <a:lnTo>
                  <a:pt x="21" y="159"/>
                </a:lnTo>
                <a:lnTo>
                  <a:pt x="14" y="150"/>
                </a:lnTo>
                <a:lnTo>
                  <a:pt x="10" y="142"/>
                </a:lnTo>
                <a:lnTo>
                  <a:pt x="6" y="132"/>
                </a:lnTo>
                <a:lnTo>
                  <a:pt x="2" y="126"/>
                </a:lnTo>
                <a:lnTo>
                  <a:pt x="2" y="121"/>
                </a:lnTo>
                <a:lnTo>
                  <a:pt x="0" y="11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Freeform 124"/>
          <p:cNvSpPr/>
          <p:nvPr/>
        </p:nvSpPr>
        <p:spPr>
          <a:xfrm>
            <a:off x="6696000" y="3592440"/>
            <a:ext cx="1060560" cy="722520"/>
          </a:xfrm>
          <a:custGeom>
            <a:avLst/>
            <a:gdLst/>
            <a:ahLst/>
            <a:rect l="l" t="t" r="r" b="b"/>
            <a:pathLst>
              <a:path w="1336" h="910">
                <a:moveTo>
                  <a:pt x="1106" y="891"/>
                </a:moveTo>
                <a:lnTo>
                  <a:pt x="1079" y="895"/>
                </a:lnTo>
                <a:lnTo>
                  <a:pt x="1052" y="896"/>
                </a:lnTo>
                <a:lnTo>
                  <a:pt x="1029" y="898"/>
                </a:lnTo>
                <a:lnTo>
                  <a:pt x="1006" y="900"/>
                </a:lnTo>
                <a:lnTo>
                  <a:pt x="985" y="902"/>
                </a:lnTo>
                <a:lnTo>
                  <a:pt x="966" y="904"/>
                </a:lnTo>
                <a:lnTo>
                  <a:pt x="946" y="906"/>
                </a:lnTo>
                <a:lnTo>
                  <a:pt x="929" y="908"/>
                </a:lnTo>
                <a:lnTo>
                  <a:pt x="914" y="908"/>
                </a:lnTo>
                <a:lnTo>
                  <a:pt x="900" y="908"/>
                </a:lnTo>
                <a:lnTo>
                  <a:pt x="887" y="910"/>
                </a:lnTo>
                <a:lnTo>
                  <a:pt x="875" y="910"/>
                </a:lnTo>
                <a:lnTo>
                  <a:pt x="866" y="908"/>
                </a:lnTo>
                <a:lnTo>
                  <a:pt x="856" y="908"/>
                </a:lnTo>
                <a:lnTo>
                  <a:pt x="849" y="906"/>
                </a:lnTo>
                <a:lnTo>
                  <a:pt x="841" y="904"/>
                </a:lnTo>
                <a:lnTo>
                  <a:pt x="837" y="902"/>
                </a:lnTo>
                <a:lnTo>
                  <a:pt x="831" y="900"/>
                </a:lnTo>
                <a:lnTo>
                  <a:pt x="824" y="896"/>
                </a:lnTo>
                <a:lnTo>
                  <a:pt x="816" y="891"/>
                </a:lnTo>
                <a:lnTo>
                  <a:pt x="806" y="883"/>
                </a:lnTo>
                <a:lnTo>
                  <a:pt x="795" y="875"/>
                </a:lnTo>
                <a:lnTo>
                  <a:pt x="781" y="864"/>
                </a:lnTo>
                <a:lnTo>
                  <a:pt x="768" y="852"/>
                </a:lnTo>
                <a:lnTo>
                  <a:pt x="751" y="839"/>
                </a:lnTo>
                <a:lnTo>
                  <a:pt x="733" y="823"/>
                </a:lnTo>
                <a:lnTo>
                  <a:pt x="714" y="806"/>
                </a:lnTo>
                <a:lnTo>
                  <a:pt x="695" y="787"/>
                </a:lnTo>
                <a:lnTo>
                  <a:pt x="674" y="768"/>
                </a:lnTo>
                <a:lnTo>
                  <a:pt x="651" y="745"/>
                </a:lnTo>
                <a:lnTo>
                  <a:pt x="626" y="722"/>
                </a:lnTo>
                <a:lnTo>
                  <a:pt x="599" y="697"/>
                </a:lnTo>
                <a:lnTo>
                  <a:pt x="572" y="670"/>
                </a:lnTo>
                <a:lnTo>
                  <a:pt x="543" y="641"/>
                </a:lnTo>
                <a:lnTo>
                  <a:pt x="515" y="610"/>
                </a:lnTo>
                <a:lnTo>
                  <a:pt x="482" y="580"/>
                </a:lnTo>
                <a:lnTo>
                  <a:pt x="449" y="545"/>
                </a:lnTo>
                <a:lnTo>
                  <a:pt x="415" y="511"/>
                </a:lnTo>
                <a:lnTo>
                  <a:pt x="380" y="472"/>
                </a:lnTo>
                <a:lnTo>
                  <a:pt x="344" y="434"/>
                </a:lnTo>
                <a:lnTo>
                  <a:pt x="305" y="394"/>
                </a:lnTo>
                <a:lnTo>
                  <a:pt x="265" y="351"/>
                </a:lnTo>
                <a:lnTo>
                  <a:pt x="225" y="307"/>
                </a:lnTo>
                <a:lnTo>
                  <a:pt x="182" y="261"/>
                </a:lnTo>
                <a:lnTo>
                  <a:pt x="138" y="215"/>
                </a:lnTo>
                <a:lnTo>
                  <a:pt x="94" y="165"/>
                </a:lnTo>
                <a:lnTo>
                  <a:pt x="48" y="115"/>
                </a:lnTo>
                <a:lnTo>
                  <a:pt x="0" y="61"/>
                </a:lnTo>
                <a:lnTo>
                  <a:pt x="23" y="31"/>
                </a:lnTo>
                <a:lnTo>
                  <a:pt x="46" y="0"/>
                </a:lnTo>
                <a:lnTo>
                  <a:pt x="83" y="31"/>
                </a:lnTo>
                <a:lnTo>
                  <a:pt x="119" y="60"/>
                </a:lnTo>
                <a:lnTo>
                  <a:pt x="154" y="88"/>
                </a:lnTo>
                <a:lnTo>
                  <a:pt x="188" y="117"/>
                </a:lnTo>
                <a:lnTo>
                  <a:pt x="223" y="146"/>
                </a:lnTo>
                <a:lnTo>
                  <a:pt x="257" y="173"/>
                </a:lnTo>
                <a:lnTo>
                  <a:pt x="290" y="200"/>
                </a:lnTo>
                <a:lnTo>
                  <a:pt x="323" y="227"/>
                </a:lnTo>
                <a:lnTo>
                  <a:pt x="355" y="251"/>
                </a:lnTo>
                <a:lnTo>
                  <a:pt x="386" y="276"/>
                </a:lnTo>
                <a:lnTo>
                  <a:pt x="419" y="299"/>
                </a:lnTo>
                <a:lnTo>
                  <a:pt x="447" y="324"/>
                </a:lnTo>
                <a:lnTo>
                  <a:pt x="478" y="347"/>
                </a:lnTo>
                <a:lnTo>
                  <a:pt x="507" y="371"/>
                </a:lnTo>
                <a:lnTo>
                  <a:pt x="536" y="392"/>
                </a:lnTo>
                <a:lnTo>
                  <a:pt x="564" y="415"/>
                </a:lnTo>
                <a:lnTo>
                  <a:pt x="593" y="436"/>
                </a:lnTo>
                <a:lnTo>
                  <a:pt x="622" y="455"/>
                </a:lnTo>
                <a:lnTo>
                  <a:pt x="651" y="476"/>
                </a:lnTo>
                <a:lnTo>
                  <a:pt x="682" y="497"/>
                </a:lnTo>
                <a:lnTo>
                  <a:pt x="710" y="516"/>
                </a:lnTo>
                <a:lnTo>
                  <a:pt x="741" y="536"/>
                </a:lnTo>
                <a:lnTo>
                  <a:pt x="774" y="553"/>
                </a:lnTo>
                <a:lnTo>
                  <a:pt x="804" y="570"/>
                </a:lnTo>
                <a:lnTo>
                  <a:pt x="837" y="587"/>
                </a:lnTo>
                <a:lnTo>
                  <a:pt x="870" y="605"/>
                </a:lnTo>
                <a:lnTo>
                  <a:pt x="902" y="620"/>
                </a:lnTo>
                <a:lnTo>
                  <a:pt x="935" y="635"/>
                </a:lnTo>
                <a:lnTo>
                  <a:pt x="969" y="651"/>
                </a:lnTo>
                <a:lnTo>
                  <a:pt x="1002" y="664"/>
                </a:lnTo>
                <a:lnTo>
                  <a:pt x="1037" y="678"/>
                </a:lnTo>
                <a:lnTo>
                  <a:pt x="1071" y="691"/>
                </a:lnTo>
                <a:lnTo>
                  <a:pt x="1102" y="704"/>
                </a:lnTo>
                <a:lnTo>
                  <a:pt x="1133" y="718"/>
                </a:lnTo>
                <a:lnTo>
                  <a:pt x="1159" y="729"/>
                </a:lnTo>
                <a:lnTo>
                  <a:pt x="1173" y="737"/>
                </a:lnTo>
                <a:lnTo>
                  <a:pt x="1184" y="743"/>
                </a:lnTo>
                <a:lnTo>
                  <a:pt x="1198" y="749"/>
                </a:lnTo>
                <a:lnTo>
                  <a:pt x="1209" y="754"/>
                </a:lnTo>
                <a:lnTo>
                  <a:pt x="1219" y="758"/>
                </a:lnTo>
                <a:lnTo>
                  <a:pt x="1230" y="764"/>
                </a:lnTo>
                <a:lnTo>
                  <a:pt x="1240" y="770"/>
                </a:lnTo>
                <a:lnTo>
                  <a:pt x="1250" y="774"/>
                </a:lnTo>
                <a:lnTo>
                  <a:pt x="1259" y="779"/>
                </a:lnTo>
                <a:lnTo>
                  <a:pt x="1267" y="783"/>
                </a:lnTo>
                <a:lnTo>
                  <a:pt x="1277" y="787"/>
                </a:lnTo>
                <a:lnTo>
                  <a:pt x="1284" y="791"/>
                </a:lnTo>
                <a:lnTo>
                  <a:pt x="1290" y="795"/>
                </a:lnTo>
                <a:lnTo>
                  <a:pt x="1298" y="799"/>
                </a:lnTo>
                <a:lnTo>
                  <a:pt x="1303" y="802"/>
                </a:lnTo>
                <a:lnTo>
                  <a:pt x="1309" y="806"/>
                </a:lnTo>
                <a:lnTo>
                  <a:pt x="1313" y="810"/>
                </a:lnTo>
                <a:lnTo>
                  <a:pt x="1319" y="812"/>
                </a:lnTo>
                <a:lnTo>
                  <a:pt x="1323" y="816"/>
                </a:lnTo>
                <a:lnTo>
                  <a:pt x="1326" y="818"/>
                </a:lnTo>
                <a:lnTo>
                  <a:pt x="1328" y="820"/>
                </a:lnTo>
                <a:lnTo>
                  <a:pt x="1332" y="822"/>
                </a:lnTo>
                <a:lnTo>
                  <a:pt x="1334" y="823"/>
                </a:lnTo>
                <a:lnTo>
                  <a:pt x="1334" y="825"/>
                </a:lnTo>
                <a:lnTo>
                  <a:pt x="1336" y="827"/>
                </a:lnTo>
                <a:lnTo>
                  <a:pt x="1336" y="829"/>
                </a:lnTo>
                <a:lnTo>
                  <a:pt x="1334" y="831"/>
                </a:lnTo>
                <a:lnTo>
                  <a:pt x="1332" y="833"/>
                </a:lnTo>
                <a:lnTo>
                  <a:pt x="1326" y="837"/>
                </a:lnTo>
                <a:lnTo>
                  <a:pt x="1321" y="841"/>
                </a:lnTo>
                <a:lnTo>
                  <a:pt x="1313" y="843"/>
                </a:lnTo>
                <a:lnTo>
                  <a:pt x="1301" y="847"/>
                </a:lnTo>
                <a:lnTo>
                  <a:pt x="1290" y="850"/>
                </a:lnTo>
                <a:lnTo>
                  <a:pt x="1277" y="854"/>
                </a:lnTo>
                <a:lnTo>
                  <a:pt x="1261" y="860"/>
                </a:lnTo>
                <a:lnTo>
                  <a:pt x="1244" y="864"/>
                </a:lnTo>
                <a:lnTo>
                  <a:pt x="1225" y="868"/>
                </a:lnTo>
                <a:lnTo>
                  <a:pt x="1204" y="871"/>
                </a:lnTo>
                <a:lnTo>
                  <a:pt x="1182" y="877"/>
                </a:lnTo>
                <a:lnTo>
                  <a:pt x="1158" y="881"/>
                </a:lnTo>
                <a:lnTo>
                  <a:pt x="1133" y="887"/>
                </a:lnTo>
                <a:lnTo>
                  <a:pt x="1106" y="89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Freeform 125"/>
          <p:cNvSpPr/>
          <p:nvPr/>
        </p:nvSpPr>
        <p:spPr>
          <a:xfrm>
            <a:off x="5937120" y="3498840"/>
            <a:ext cx="870120" cy="1022400"/>
          </a:xfrm>
          <a:custGeom>
            <a:avLst/>
            <a:gdLst/>
            <a:ahLst/>
            <a:rect l="l" t="t" r="r" b="b"/>
            <a:pathLst>
              <a:path w="1096" h="1290">
                <a:moveTo>
                  <a:pt x="2" y="1286"/>
                </a:moveTo>
                <a:lnTo>
                  <a:pt x="0" y="1284"/>
                </a:lnTo>
                <a:lnTo>
                  <a:pt x="0" y="1280"/>
                </a:lnTo>
                <a:lnTo>
                  <a:pt x="0" y="1278"/>
                </a:lnTo>
                <a:lnTo>
                  <a:pt x="2" y="1275"/>
                </a:lnTo>
                <a:lnTo>
                  <a:pt x="4" y="1269"/>
                </a:lnTo>
                <a:lnTo>
                  <a:pt x="6" y="1265"/>
                </a:lnTo>
                <a:lnTo>
                  <a:pt x="8" y="1259"/>
                </a:lnTo>
                <a:lnTo>
                  <a:pt x="12" y="1253"/>
                </a:lnTo>
                <a:lnTo>
                  <a:pt x="16" y="1248"/>
                </a:lnTo>
                <a:lnTo>
                  <a:pt x="21" y="1242"/>
                </a:lnTo>
                <a:lnTo>
                  <a:pt x="25" y="1234"/>
                </a:lnTo>
                <a:lnTo>
                  <a:pt x="31" y="1228"/>
                </a:lnTo>
                <a:lnTo>
                  <a:pt x="39" y="1221"/>
                </a:lnTo>
                <a:lnTo>
                  <a:pt x="44" y="1211"/>
                </a:lnTo>
                <a:lnTo>
                  <a:pt x="52" y="1204"/>
                </a:lnTo>
                <a:lnTo>
                  <a:pt x="62" y="1194"/>
                </a:lnTo>
                <a:lnTo>
                  <a:pt x="69" y="1184"/>
                </a:lnTo>
                <a:lnTo>
                  <a:pt x="79" y="1175"/>
                </a:lnTo>
                <a:lnTo>
                  <a:pt x="88" y="1165"/>
                </a:lnTo>
                <a:lnTo>
                  <a:pt x="98" y="1156"/>
                </a:lnTo>
                <a:lnTo>
                  <a:pt x="110" y="1144"/>
                </a:lnTo>
                <a:lnTo>
                  <a:pt x="121" y="1133"/>
                </a:lnTo>
                <a:lnTo>
                  <a:pt x="133" y="1121"/>
                </a:lnTo>
                <a:lnTo>
                  <a:pt x="146" y="1109"/>
                </a:lnTo>
                <a:lnTo>
                  <a:pt x="160" y="1096"/>
                </a:lnTo>
                <a:lnTo>
                  <a:pt x="173" y="1083"/>
                </a:lnTo>
                <a:lnTo>
                  <a:pt x="186" y="1071"/>
                </a:lnTo>
                <a:lnTo>
                  <a:pt x="202" y="1056"/>
                </a:lnTo>
                <a:lnTo>
                  <a:pt x="217" y="1042"/>
                </a:lnTo>
                <a:lnTo>
                  <a:pt x="232" y="1027"/>
                </a:lnTo>
                <a:lnTo>
                  <a:pt x="250" y="1014"/>
                </a:lnTo>
                <a:lnTo>
                  <a:pt x="267" y="998"/>
                </a:lnTo>
                <a:lnTo>
                  <a:pt x="300" y="966"/>
                </a:lnTo>
                <a:lnTo>
                  <a:pt x="334" y="935"/>
                </a:lnTo>
                <a:lnTo>
                  <a:pt x="367" y="902"/>
                </a:lnTo>
                <a:lnTo>
                  <a:pt x="399" y="868"/>
                </a:lnTo>
                <a:lnTo>
                  <a:pt x="432" y="833"/>
                </a:lnTo>
                <a:lnTo>
                  <a:pt x="463" y="799"/>
                </a:lnTo>
                <a:lnTo>
                  <a:pt x="494" y="764"/>
                </a:lnTo>
                <a:lnTo>
                  <a:pt x="524" y="728"/>
                </a:lnTo>
                <a:lnTo>
                  <a:pt x="553" y="691"/>
                </a:lnTo>
                <a:lnTo>
                  <a:pt x="582" y="653"/>
                </a:lnTo>
                <a:lnTo>
                  <a:pt x="611" y="616"/>
                </a:lnTo>
                <a:lnTo>
                  <a:pt x="637" y="578"/>
                </a:lnTo>
                <a:lnTo>
                  <a:pt x="664" y="539"/>
                </a:lnTo>
                <a:lnTo>
                  <a:pt x="689" y="499"/>
                </a:lnTo>
                <a:lnTo>
                  <a:pt x="714" y="461"/>
                </a:lnTo>
                <a:lnTo>
                  <a:pt x="737" y="420"/>
                </a:lnTo>
                <a:lnTo>
                  <a:pt x="749" y="399"/>
                </a:lnTo>
                <a:lnTo>
                  <a:pt x="760" y="380"/>
                </a:lnTo>
                <a:lnTo>
                  <a:pt x="772" y="363"/>
                </a:lnTo>
                <a:lnTo>
                  <a:pt x="781" y="344"/>
                </a:lnTo>
                <a:lnTo>
                  <a:pt x="791" y="326"/>
                </a:lnTo>
                <a:lnTo>
                  <a:pt x="801" y="309"/>
                </a:lnTo>
                <a:lnTo>
                  <a:pt x="810" y="294"/>
                </a:lnTo>
                <a:lnTo>
                  <a:pt x="818" y="278"/>
                </a:lnTo>
                <a:lnTo>
                  <a:pt x="827" y="263"/>
                </a:lnTo>
                <a:lnTo>
                  <a:pt x="835" y="248"/>
                </a:lnTo>
                <a:lnTo>
                  <a:pt x="843" y="234"/>
                </a:lnTo>
                <a:lnTo>
                  <a:pt x="851" y="221"/>
                </a:lnTo>
                <a:lnTo>
                  <a:pt x="856" y="207"/>
                </a:lnTo>
                <a:lnTo>
                  <a:pt x="862" y="194"/>
                </a:lnTo>
                <a:lnTo>
                  <a:pt x="868" y="182"/>
                </a:lnTo>
                <a:lnTo>
                  <a:pt x="874" y="171"/>
                </a:lnTo>
                <a:lnTo>
                  <a:pt x="879" y="161"/>
                </a:lnTo>
                <a:lnTo>
                  <a:pt x="883" y="150"/>
                </a:lnTo>
                <a:lnTo>
                  <a:pt x="887" y="140"/>
                </a:lnTo>
                <a:lnTo>
                  <a:pt x="891" y="131"/>
                </a:lnTo>
                <a:lnTo>
                  <a:pt x="895" y="121"/>
                </a:lnTo>
                <a:lnTo>
                  <a:pt x="897" y="113"/>
                </a:lnTo>
                <a:lnTo>
                  <a:pt x="899" y="106"/>
                </a:lnTo>
                <a:lnTo>
                  <a:pt x="900" y="98"/>
                </a:lnTo>
                <a:lnTo>
                  <a:pt x="902" y="84"/>
                </a:lnTo>
                <a:lnTo>
                  <a:pt x="904" y="73"/>
                </a:lnTo>
                <a:lnTo>
                  <a:pt x="902" y="63"/>
                </a:lnTo>
                <a:lnTo>
                  <a:pt x="899" y="56"/>
                </a:lnTo>
                <a:lnTo>
                  <a:pt x="895" y="52"/>
                </a:lnTo>
                <a:lnTo>
                  <a:pt x="891" y="46"/>
                </a:lnTo>
                <a:lnTo>
                  <a:pt x="889" y="42"/>
                </a:lnTo>
                <a:lnTo>
                  <a:pt x="887" y="38"/>
                </a:lnTo>
                <a:lnTo>
                  <a:pt x="885" y="35"/>
                </a:lnTo>
                <a:lnTo>
                  <a:pt x="883" y="33"/>
                </a:lnTo>
                <a:lnTo>
                  <a:pt x="883" y="29"/>
                </a:lnTo>
                <a:lnTo>
                  <a:pt x="883" y="25"/>
                </a:lnTo>
                <a:lnTo>
                  <a:pt x="883" y="23"/>
                </a:lnTo>
                <a:lnTo>
                  <a:pt x="885" y="19"/>
                </a:lnTo>
                <a:lnTo>
                  <a:pt x="887" y="17"/>
                </a:lnTo>
                <a:lnTo>
                  <a:pt x="891" y="15"/>
                </a:lnTo>
                <a:lnTo>
                  <a:pt x="895" y="12"/>
                </a:lnTo>
                <a:lnTo>
                  <a:pt x="899" y="10"/>
                </a:lnTo>
                <a:lnTo>
                  <a:pt x="904" y="8"/>
                </a:lnTo>
                <a:lnTo>
                  <a:pt x="910" y="6"/>
                </a:lnTo>
                <a:lnTo>
                  <a:pt x="916" y="4"/>
                </a:lnTo>
                <a:lnTo>
                  <a:pt x="920" y="2"/>
                </a:lnTo>
                <a:lnTo>
                  <a:pt x="925" y="0"/>
                </a:lnTo>
                <a:lnTo>
                  <a:pt x="929" y="0"/>
                </a:lnTo>
                <a:lnTo>
                  <a:pt x="935" y="0"/>
                </a:lnTo>
                <a:lnTo>
                  <a:pt x="941" y="0"/>
                </a:lnTo>
                <a:lnTo>
                  <a:pt x="946" y="2"/>
                </a:lnTo>
                <a:lnTo>
                  <a:pt x="952" y="4"/>
                </a:lnTo>
                <a:lnTo>
                  <a:pt x="964" y="8"/>
                </a:lnTo>
                <a:lnTo>
                  <a:pt x="977" y="13"/>
                </a:lnTo>
                <a:lnTo>
                  <a:pt x="991" y="21"/>
                </a:lnTo>
                <a:lnTo>
                  <a:pt x="1002" y="31"/>
                </a:lnTo>
                <a:lnTo>
                  <a:pt x="1016" y="44"/>
                </a:lnTo>
                <a:lnTo>
                  <a:pt x="1029" y="56"/>
                </a:lnTo>
                <a:lnTo>
                  <a:pt x="1041" y="67"/>
                </a:lnTo>
                <a:lnTo>
                  <a:pt x="1052" y="77"/>
                </a:lnTo>
                <a:lnTo>
                  <a:pt x="1064" y="86"/>
                </a:lnTo>
                <a:lnTo>
                  <a:pt x="1075" y="94"/>
                </a:lnTo>
                <a:lnTo>
                  <a:pt x="1085" y="100"/>
                </a:lnTo>
                <a:lnTo>
                  <a:pt x="1094" y="106"/>
                </a:lnTo>
                <a:lnTo>
                  <a:pt x="1096" y="111"/>
                </a:lnTo>
                <a:lnTo>
                  <a:pt x="1096" y="119"/>
                </a:lnTo>
                <a:lnTo>
                  <a:pt x="1094" y="129"/>
                </a:lnTo>
                <a:lnTo>
                  <a:pt x="1092" y="138"/>
                </a:lnTo>
                <a:lnTo>
                  <a:pt x="1089" y="152"/>
                </a:lnTo>
                <a:lnTo>
                  <a:pt x="1083" y="165"/>
                </a:lnTo>
                <a:lnTo>
                  <a:pt x="1077" y="180"/>
                </a:lnTo>
                <a:lnTo>
                  <a:pt x="1067" y="198"/>
                </a:lnTo>
                <a:lnTo>
                  <a:pt x="1060" y="217"/>
                </a:lnTo>
                <a:lnTo>
                  <a:pt x="1048" y="238"/>
                </a:lnTo>
                <a:lnTo>
                  <a:pt x="1037" y="259"/>
                </a:lnTo>
                <a:lnTo>
                  <a:pt x="1023" y="284"/>
                </a:lnTo>
                <a:lnTo>
                  <a:pt x="1008" y="309"/>
                </a:lnTo>
                <a:lnTo>
                  <a:pt x="993" y="336"/>
                </a:lnTo>
                <a:lnTo>
                  <a:pt x="975" y="365"/>
                </a:lnTo>
                <a:lnTo>
                  <a:pt x="956" y="395"/>
                </a:lnTo>
                <a:lnTo>
                  <a:pt x="935" y="428"/>
                </a:lnTo>
                <a:lnTo>
                  <a:pt x="914" y="459"/>
                </a:lnTo>
                <a:lnTo>
                  <a:pt x="891" y="491"/>
                </a:lnTo>
                <a:lnTo>
                  <a:pt x="868" y="522"/>
                </a:lnTo>
                <a:lnTo>
                  <a:pt x="847" y="553"/>
                </a:lnTo>
                <a:lnTo>
                  <a:pt x="824" y="584"/>
                </a:lnTo>
                <a:lnTo>
                  <a:pt x="801" y="612"/>
                </a:lnTo>
                <a:lnTo>
                  <a:pt x="778" y="641"/>
                </a:lnTo>
                <a:lnTo>
                  <a:pt x="730" y="697"/>
                </a:lnTo>
                <a:lnTo>
                  <a:pt x="682" y="752"/>
                </a:lnTo>
                <a:lnTo>
                  <a:pt x="636" y="806"/>
                </a:lnTo>
                <a:lnTo>
                  <a:pt x="588" y="860"/>
                </a:lnTo>
                <a:lnTo>
                  <a:pt x="563" y="885"/>
                </a:lnTo>
                <a:lnTo>
                  <a:pt x="538" y="910"/>
                </a:lnTo>
                <a:lnTo>
                  <a:pt x="513" y="935"/>
                </a:lnTo>
                <a:lnTo>
                  <a:pt x="488" y="958"/>
                </a:lnTo>
                <a:lnTo>
                  <a:pt x="463" y="981"/>
                </a:lnTo>
                <a:lnTo>
                  <a:pt x="438" y="1004"/>
                </a:lnTo>
                <a:lnTo>
                  <a:pt x="413" y="1025"/>
                </a:lnTo>
                <a:lnTo>
                  <a:pt x="388" y="1046"/>
                </a:lnTo>
                <a:lnTo>
                  <a:pt x="365" y="1067"/>
                </a:lnTo>
                <a:lnTo>
                  <a:pt x="340" y="1086"/>
                </a:lnTo>
                <a:lnTo>
                  <a:pt x="315" y="1104"/>
                </a:lnTo>
                <a:lnTo>
                  <a:pt x="292" y="1123"/>
                </a:lnTo>
                <a:lnTo>
                  <a:pt x="269" y="1140"/>
                </a:lnTo>
                <a:lnTo>
                  <a:pt x="244" y="1156"/>
                </a:lnTo>
                <a:lnTo>
                  <a:pt x="221" y="1171"/>
                </a:lnTo>
                <a:lnTo>
                  <a:pt x="198" y="1186"/>
                </a:lnTo>
                <a:lnTo>
                  <a:pt x="175" y="1202"/>
                </a:lnTo>
                <a:lnTo>
                  <a:pt x="154" y="1217"/>
                </a:lnTo>
                <a:lnTo>
                  <a:pt x="133" y="1230"/>
                </a:lnTo>
                <a:lnTo>
                  <a:pt x="115" y="1242"/>
                </a:lnTo>
                <a:lnTo>
                  <a:pt x="98" y="1252"/>
                </a:lnTo>
                <a:lnTo>
                  <a:pt x="83" y="1261"/>
                </a:lnTo>
                <a:lnTo>
                  <a:pt x="69" y="1269"/>
                </a:lnTo>
                <a:lnTo>
                  <a:pt x="56" y="1275"/>
                </a:lnTo>
                <a:lnTo>
                  <a:pt x="44" y="1280"/>
                </a:lnTo>
                <a:lnTo>
                  <a:pt x="35" y="1284"/>
                </a:lnTo>
                <a:lnTo>
                  <a:pt x="27" y="1286"/>
                </a:lnTo>
                <a:lnTo>
                  <a:pt x="19" y="1288"/>
                </a:lnTo>
                <a:lnTo>
                  <a:pt x="14" y="1290"/>
                </a:lnTo>
                <a:lnTo>
                  <a:pt x="8" y="1290"/>
                </a:lnTo>
                <a:lnTo>
                  <a:pt x="4" y="1288"/>
                </a:lnTo>
                <a:lnTo>
                  <a:pt x="2" y="12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Freeform 126"/>
          <p:cNvSpPr/>
          <p:nvPr/>
        </p:nvSpPr>
        <p:spPr>
          <a:xfrm>
            <a:off x="6865920" y="2808360"/>
            <a:ext cx="308160" cy="784080"/>
          </a:xfrm>
          <a:custGeom>
            <a:avLst/>
            <a:gdLst/>
            <a:ahLst/>
            <a:rect l="l" t="t" r="r" b="b"/>
            <a:pathLst>
              <a:path w="388" h="988">
                <a:moveTo>
                  <a:pt x="154" y="71"/>
                </a:moveTo>
                <a:lnTo>
                  <a:pt x="150" y="67"/>
                </a:lnTo>
                <a:lnTo>
                  <a:pt x="146" y="65"/>
                </a:lnTo>
                <a:lnTo>
                  <a:pt x="144" y="61"/>
                </a:lnTo>
                <a:lnTo>
                  <a:pt x="140" y="59"/>
                </a:lnTo>
                <a:lnTo>
                  <a:pt x="136" y="51"/>
                </a:lnTo>
                <a:lnTo>
                  <a:pt x="134" y="44"/>
                </a:lnTo>
                <a:lnTo>
                  <a:pt x="134" y="36"/>
                </a:lnTo>
                <a:lnTo>
                  <a:pt x="136" y="26"/>
                </a:lnTo>
                <a:lnTo>
                  <a:pt x="138" y="17"/>
                </a:lnTo>
                <a:lnTo>
                  <a:pt x="142" y="7"/>
                </a:lnTo>
                <a:lnTo>
                  <a:pt x="144" y="5"/>
                </a:lnTo>
                <a:lnTo>
                  <a:pt x="148" y="3"/>
                </a:lnTo>
                <a:lnTo>
                  <a:pt x="152" y="1"/>
                </a:lnTo>
                <a:lnTo>
                  <a:pt x="157" y="1"/>
                </a:lnTo>
                <a:lnTo>
                  <a:pt x="163" y="0"/>
                </a:lnTo>
                <a:lnTo>
                  <a:pt x="169" y="0"/>
                </a:lnTo>
                <a:lnTo>
                  <a:pt x="177" y="0"/>
                </a:lnTo>
                <a:lnTo>
                  <a:pt x="184" y="0"/>
                </a:lnTo>
                <a:lnTo>
                  <a:pt x="192" y="0"/>
                </a:lnTo>
                <a:lnTo>
                  <a:pt x="202" y="1"/>
                </a:lnTo>
                <a:lnTo>
                  <a:pt x="211" y="3"/>
                </a:lnTo>
                <a:lnTo>
                  <a:pt x="221" y="5"/>
                </a:lnTo>
                <a:lnTo>
                  <a:pt x="232" y="9"/>
                </a:lnTo>
                <a:lnTo>
                  <a:pt x="244" y="11"/>
                </a:lnTo>
                <a:lnTo>
                  <a:pt x="255" y="15"/>
                </a:lnTo>
                <a:lnTo>
                  <a:pt x="269" y="21"/>
                </a:lnTo>
                <a:lnTo>
                  <a:pt x="282" y="24"/>
                </a:lnTo>
                <a:lnTo>
                  <a:pt x="294" y="30"/>
                </a:lnTo>
                <a:lnTo>
                  <a:pt x="303" y="34"/>
                </a:lnTo>
                <a:lnTo>
                  <a:pt x="315" y="40"/>
                </a:lnTo>
                <a:lnTo>
                  <a:pt x="324" y="44"/>
                </a:lnTo>
                <a:lnTo>
                  <a:pt x="332" y="49"/>
                </a:lnTo>
                <a:lnTo>
                  <a:pt x="340" y="53"/>
                </a:lnTo>
                <a:lnTo>
                  <a:pt x="347" y="57"/>
                </a:lnTo>
                <a:lnTo>
                  <a:pt x="355" y="63"/>
                </a:lnTo>
                <a:lnTo>
                  <a:pt x="361" y="67"/>
                </a:lnTo>
                <a:lnTo>
                  <a:pt x="367" y="72"/>
                </a:lnTo>
                <a:lnTo>
                  <a:pt x="371" y="76"/>
                </a:lnTo>
                <a:lnTo>
                  <a:pt x="374" y="82"/>
                </a:lnTo>
                <a:lnTo>
                  <a:pt x="378" y="86"/>
                </a:lnTo>
                <a:lnTo>
                  <a:pt x="382" y="92"/>
                </a:lnTo>
                <a:lnTo>
                  <a:pt x="384" y="95"/>
                </a:lnTo>
                <a:lnTo>
                  <a:pt x="386" y="101"/>
                </a:lnTo>
                <a:lnTo>
                  <a:pt x="386" y="107"/>
                </a:lnTo>
                <a:lnTo>
                  <a:pt x="388" y="113"/>
                </a:lnTo>
                <a:lnTo>
                  <a:pt x="386" y="122"/>
                </a:lnTo>
                <a:lnTo>
                  <a:pt x="386" y="130"/>
                </a:lnTo>
                <a:lnTo>
                  <a:pt x="384" y="140"/>
                </a:lnTo>
                <a:lnTo>
                  <a:pt x="380" y="151"/>
                </a:lnTo>
                <a:lnTo>
                  <a:pt x="378" y="163"/>
                </a:lnTo>
                <a:lnTo>
                  <a:pt x="374" y="176"/>
                </a:lnTo>
                <a:lnTo>
                  <a:pt x="371" y="190"/>
                </a:lnTo>
                <a:lnTo>
                  <a:pt x="367" y="205"/>
                </a:lnTo>
                <a:lnTo>
                  <a:pt x="361" y="220"/>
                </a:lnTo>
                <a:lnTo>
                  <a:pt x="355" y="238"/>
                </a:lnTo>
                <a:lnTo>
                  <a:pt x="349" y="257"/>
                </a:lnTo>
                <a:lnTo>
                  <a:pt x="344" y="276"/>
                </a:lnTo>
                <a:lnTo>
                  <a:pt x="338" y="297"/>
                </a:lnTo>
                <a:lnTo>
                  <a:pt x="332" y="318"/>
                </a:lnTo>
                <a:lnTo>
                  <a:pt x="324" y="341"/>
                </a:lnTo>
                <a:lnTo>
                  <a:pt x="317" y="364"/>
                </a:lnTo>
                <a:lnTo>
                  <a:pt x="307" y="389"/>
                </a:lnTo>
                <a:lnTo>
                  <a:pt x="300" y="412"/>
                </a:lnTo>
                <a:lnTo>
                  <a:pt x="290" y="439"/>
                </a:lnTo>
                <a:lnTo>
                  <a:pt x="278" y="466"/>
                </a:lnTo>
                <a:lnTo>
                  <a:pt x="269" y="493"/>
                </a:lnTo>
                <a:lnTo>
                  <a:pt x="257" y="520"/>
                </a:lnTo>
                <a:lnTo>
                  <a:pt x="246" y="548"/>
                </a:lnTo>
                <a:lnTo>
                  <a:pt x="234" y="579"/>
                </a:lnTo>
                <a:lnTo>
                  <a:pt x="221" y="608"/>
                </a:lnTo>
                <a:lnTo>
                  <a:pt x="207" y="641"/>
                </a:lnTo>
                <a:lnTo>
                  <a:pt x="194" y="671"/>
                </a:lnTo>
                <a:lnTo>
                  <a:pt x="181" y="704"/>
                </a:lnTo>
                <a:lnTo>
                  <a:pt x="165" y="737"/>
                </a:lnTo>
                <a:lnTo>
                  <a:pt x="157" y="752"/>
                </a:lnTo>
                <a:lnTo>
                  <a:pt x="150" y="767"/>
                </a:lnTo>
                <a:lnTo>
                  <a:pt x="144" y="783"/>
                </a:lnTo>
                <a:lnTo>
                  <a:pt x="136" y="798"/>
                </a:lnTo>
                <a:lnTo>
                  <a:pt x="131" y="811"/>
                </a:lnTo>
                <a:lnTo>
                  <a:pt x="123" y="827"/>
                </a:lnTo>
                <a:lnTo>
                  <a:pt x="117" y="838"/>
                </a:lnTo>
                <a:lnTo>
                  <a:pt x="109" y="852"/>
                </a:lnTo>
                <a:lnTo>
                  <a:pt x="104" y="863"/>
                </a:lnTo>
                <a:lnTo>
                  <a:pt x="98" y="875"/>
                </a:lnTo>
                <a:lnTo>
                  <a:pt x="92" y="886"/>
                </a:lnTo>
                <a:lnTo>
                  <a:pt x="86" y="896"/>
                </a:lnTo>
                <a:lnTo>
                  <a:pt x="81" y="906"/>
                </a:lnTo>
                <a:lnTo>
                  <a:pt x="75" y="915"/>
                </a:lnTo>
                <a:lnTo>
                  <a:pt x="69" y="925"/>
                </a:lnTo>
                <a:lnTo>
                  <a:pt x="65" y="932"/>
                </a:lnTo>
                <a:lnTo>
                  <a:pt x="60" y="940"/>
                </a:lnTo>
                <a:lnTo>
                  <a:pt x="56" y="948"/>
                </a:lnTo>
                <a:lnTo>
                  <a:pt x="52" y="953"/>
                </a:lnTo>
                <a:lnTo>
                  <a:pt x="46" y="959"/>
                </a:lnTo>
                <a:lnTo>
                  <a:pt x="42" y="965"/>
                </a:lnTo>
                <a:lnTo>
                  <a:pt x="38" y="971"/>
                </a:lnTo>
                <a:lnTo>
                  <a:pt x="37" y="975"/>
                </a:lnTo>
                <a:lnTo>
                  <a:pt x="33" y="978"/>
                </a:lnTo>
                <a:lnTo>
                  <a:pt x="29" y="982"/>
                </a:lnTo>
                <a:lnTo>
                  <a:pt x="27" y="984"/>
                </a:lnTo>
                <a:lnTo>
                  <a:pt x="25" y="986"/>
                </a:lnTo>
                <a:lnTo>
                  <a:pt x="21" y="988"/>
                </a:lnTo>
                <a:lnTo>
                  <a:pt x="19" y="988"/>
                </a:lnTo>
                <a:lnTo>
                  <a:pt x="17" y="988"/>
                </a:lnTo>
                <a:lnTo>
                  <a:pt x="15" y="988"/>
                </a:lnTo>
                <a:lnTo>
                  <a:pt x="12" y="986"/>
                </a:lnTo>
                <a:lnTo>
                  <a:pt x="8" y="984"/>
                </a:lnTo>
                <a:lnTo>
                  <a:pt x="6" y="982"/>
                </a:lnTo>
                <a:lnTo>
                  <a:pt x="4" y="978"/>
                </a:lnTo>
                <a:lnTo>
                  <a:pt x="2" y="973"/>
                </a:lnTo>
                <a:lnTo>
                  <a:pt x="0" y="967"/>
                </a:lnTo>
                <a:lnTo>
                  <a:pt x="0" y="959"/>
                </a:lnTo>
                <a:lnTo>
                  <a:pt x="0" y="952"/>
                </a:lnTo>
                <a:lnTo>
                  <a:pt x="2" y="942"/>
                </a:lnTo>
                <a:lnTo>
                  <a:pt x="2" y="932"/>
                </a:lnTo>
                <a:lnTo>
                  <a:pt x="6" y="921"/>
                </a:lnTo>
                <a:lnTo>
                  <a:pt x="8" y="907"/>
                </a:lnTo>
                <a:lnTo>
                  <a:pt x="12" y="894"/>
                </a:lnTo>
                <a:lnTo>
                  <a:pt x="15" y="881"/>
                </a:lnTo>
                <a:lnTo>
                  <a:pt x="21" y="865"/>
                </a:lnTo>
                <a:lnTo>
                  <a:pt x="27" y="850"/>
                </a:lnTo>
                <a:lnTo>
                  <a:pt x="33" y="833"/>
                </a:lnTo>
                <a:lnTo>
                  <a:pt x="40" y="813"/>
                </a:lnTo>
                <a:lnTo>
                  <a:pt x="46" y="794"/>
                </a:lnTo>
                <a:lnTo>
                  <a:pt x="54" y="773"/>
                </a:lnTo>
                <a:lnTo>
                  <a:pt x="60" y="752"/>
                </a:lnTo>
                <a:lnTo>
                  <a:pt x="67" y="727"/>
                </a:lnTo>
                <a:lnTo>
                  <a:pt x="73" y="702"/>
                </a:lnTo>
                <a:lnTo>
                  <a:pt x="81" y="677"/>
                </a:lnTo>
                <a:lnTo>
                  <a:pt x="88" y="648"/>
                </a:lnTo>
                <a:lnTo>
                  <a:pt x="94" y="620"/>
                </a:lnTo>
                <a:lnTo>
                  <a:pt x="102" y="589"/>
                </a:lnTo>
                <a:lnTo>
                  <a:pt x="109" y="556"/>
                </a:lnTo>
                <a:lnTo>
                  <a:pt x="117" y="522"/>
                </a:lnTo>
                <a:lnTo>
                  <a:pt x="125" y="485"/>
                </a:lnTo>
                <a:lnTo>
                  <a:pt x="134" y="449"/>
                </a:lnTo>
                <a:lnTo>
                  <a:pt x="142" y="410"/>
                </a:lnTo>
                <a:lnTo>
                  <a:pt x="146" y="389"/>
                </a:lnTo>
                <a:lnTo>
                  <a:pt x="148" y="370"/>
                </a:lnTo>
                <a:lnTo>
                  <a:pt x="152" y="353"/>
                </a:lnTo>
                <a:lnTo>
                  <a:pt x="154" y="334"/>
                </a:lnTo>
                <a:lnTo>
                  <a:pt x="156" y="316"/>
                </a:lnTo>
                <a:lnTo>
                  <a:pt x="159" y="299"/>
                </a:lnTo>
                <a:lnTo>
                  <a:pt x="161" y="284"/>
                </a:lnTo>
                <a:lnTo>
                  <a:pt x="163" y="268"/>
                </a:lnTo>
                <a:lnTo>
                  <a:pt x="165" y="253"/>
                </a:lnTo>
                <a:lnTo>
                  <a:pt x="167" y="239"/>
                </a:lnTo>
                <a:lnTo>
                  <a:pt x="169" y="224"/>
                </a:lnTo>
                <a:lnTo>
                  <a:pt x="169" y="211"/>
                </a:lnTo>
                <a:lnTo>
                  <a:pt x="171" y="199"/>
                </a:lnTo>
                <a:lnTo>
                  <a:pt x="173" y="188"/>
                </a:lnTo>
                <a:lnTo>
                  <a:pt x="173" y="176"/>
                </a:lnTo>
                <a:lnTo>
                  <a:pt x="173" y="165"/>
                </a:lnTo>
                <a:lnTo>
                  <a:pt x="175" y="155"/>
                </a:lnTo>
                <a:lnTo>
                  <a:pt x="175" y="145"/>
                </a:lnTo>
                <a:lnTo>
                  <a:pt x="175" y="136"/>
                </a:lnTo>
                <a:lnTo>
                  <a:pt x="175" y="126"/>
                </a:lnTo>
                <a:lnTo>
                  <a:pt x="175" y="119"/>
                </a:lnTo>
                <a:lnTo>
                  <a:pt x="173" y="111"/>
                </a:lnTo>
                <a:lnTo>
                  <a:pt x="173" y="105"/>
                </a:lnTo>
                <a:lnTo>
                  <a:pt x="171" y="99"/>
                </a:lnTo>
                <a:lnTo>
                  <a:pt x="169" y="94"/>
                </a:lnTo>
                <a:lnTo>
                  <a:pt x="169" y="88"/>
                </a:lnTo>
                <a:lnTo>
                  <a:pt x="167" y="84"/>
                </a:lnTo>
                <a:lnTo>
                  <a:pt x="165" y="80"/>
                </a:lnTo>
                <a:lnTo>
                  <a:pt x="161" y="76"/>
                </a:lnTo>
                <a:lnTo>
                  <a:pt x="159" y="74"/>
                </a:lnTo>
                <a:lnTo>
                  <a:pt x="157" y="72"/>
                </a:lnTo>
                <a:lnTo>
                  <a:pt x="154" y="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Freeform 127"/>
          <p:cNvSpPr/>
          <p:nvPr/>
        </p:nvSpPr>
        <p:spPr>
          <a:xfrm>
            <a:off x="6394320" y="2968560"/>
            <a:ext cx="223920" cy="593640"/>
          </a:xfrm>
          <a:custGeom>
            <a:avLst/>
            <a:gdLst/>
            <a:ahLst/>
            <a:rect l="l" t="t" r="r" b="b"/>
            <a:pathLst>
              <a:path w="282" h="749">
                <a:moveTo>
                  <a:pt x="46" y="96"/>
                </a:moveTo>
                <a:lnTo>
                  <a:pt x="40" y="92"/>
                </a:lnTo>
                <a:lnTo>
                  <a:pt x="35" y="90"/>
                </a:lnTo>
                <a:lnTo>
                  <a:pt x="29" y="86"/>
                </a:lnTo>
                <a:lnTo>
                  <a:pt x="25" y="85"/>
                </a:lnTo>
                <a:lnTo>
                  <a:pt x="17" y="77"/>
                </a:lnTo>
                <a:lnTo>
                  <a:pt x="12" y="67"/>
                </a:lnTo>
                <a:lnTo>
                  <a:pt x="6" y="58"/>
                </a:lnTo>
                <a:lnTo>
                  <a:pt x="2" y="46"/>
                </a:lnTo>
                <a:lnTo>
                  <a:pt x="2" y="35"/>
                </a:lnTo>
                <a:lnTo>
                  <a:pt x="0" y="21"/>
                </a:lnTo>
                <a:lnTo>
                  <a:pt x="2" y="15"/>
                </a:lnTo>
                <a:lnTo>
                  <a:pt x="2" y="12"/>
                </a:lnTo>
                <a:lnTo>
                  <a:pt x="6" y="8"/>
                </a:lnTo>
                <a:lnTo>
                  <a:pt x="10" y="6"/>
                </a:lnTo>
                <a:lnTo>
                  <a:pt x="13" y="4"/>
                </a:lnTo>
                <a:lnTo>
                  <a:pt x="19" y="2"/>
                </a:lnTo>
                <a:lnTo>
                  <a:pt x="27" y="0"/>
                </a:lnTo>
                <a:lnTo>
                  <a:pt x="35" y="0"/>
                </a:lnTo>
                <a:lnTo>
                  <a:pt x="42" y="0"/>
                </a:lnTo>
                <a:lnTo>
                  <a:pt x="52" y="0"/>
                </a:lnTo>
                <a:lnTo>
                  <a:pt x="61" y="0"/>
                </a:lnTo>
                <a:lnTo>
                  <a:pt x="73" y="0"/>
                </a:lnTo>
                <a:lnTo>
                  <a:pt x="86" y="2"/>
                </a:lnTo>
                <a:lnTo>
                  <a:pt x="98" y="4"/>
                </a:lnTo>
                <a:lnTo>
                  <a:pt x="113" y="6"/>
                </a:lnTo>
                <a:lnTo>
                  <a:pt x="127" y="8"/>
                </a:lnTo>
                <a:lnTo>
                  <a:pt x="142" y="10"/>
                </a:lnTo>
                <a:lnTo>
                  <a:pt x="156" y="13"/>
                </a:lnTo>
                <a:lnTo>
                  <a:pt x="169" y="15"/>
                </a:lnTo>
                <a:lnTo>
                  <a:pt x="180" y="19"/>
                </a:lnTo>
                <a:lnTo>
                  <a:pt x="192" y="23"/>
                </a:lnTo>
                <a:lnTo>
                  <a:pt x="204" y="25"/>
                </a:lnTo>
                <a:lnTo>
                  <a:pt x="213" y="29"/>
                </a:lnTo>
                <a:lnTo>
                  <a:pt x="223" y="33"/>
                </a:lnTo>
                <a:lnTo>
                  <a:pt x="230" y="37"/>
                </a:lnTo>
                <a:lnTo>
                  <a:pt x="238" y="40"/>
                </a:lnTo>
                <a:lnTo>
                  <a:pt x="244" y="42"/>
                </a:lnTo>
                <a:lnTo>
                  <a:pt x="250" y="46"/>
                </a:lnTo>
                <a:lnTo>
                  <a:pt x="255" y="50"/>
                </a:lnTo>
                <a:lnTo>
                  <a:pt x="259" y="52"/>
                </a:lnTo>
                <a:lnTo>
                  <a:pt x="263" y="56"/>
                </a:lnTo>
                <a:lnTo>
                  <a:pt x="265" y="58"/>
                </a:lnTo>
                <a:lnTo>
                  <a:pt x="267" y="60"/>
                </a:lnTo>
                <a:lnTo>
                  <a:pt x="267" y="61"/>
                </a:lnTo>
                <a:lnTo>
                  <a:pt x="269" y="63"/>
                </a:lnTo>
                <a:lnTo>
                  <a:pt x="269" y="67"/>
                </a:lnTo>
                <a:lnTo>
                  <a:pt x="271" y="71"/>
                </a:lnTo>
                <a:lnTo>
                  <a:pt x="273" y="75"/>
                </a:lnTo>
                <a:lnTo>
                  <a:pt x="273" y="81"/>
                </a:lnTo>
                <a:lnTo>
                  <a:pt x="275" y="86"/>
                </a:lnTo>
                <a:lnTo>
                  <a:pt x="275" y="92"/>
                </a:lnTo>
                <a:lnTo>
                  <a:pt x="275" y="100"/>
                </a:lnTo>
                <a:lnTo>
                  <a:pt x="276" y="106"/>
                </a:lnTo>
                <a:lnTo>
                  <a:pt x="276" y="115"/>
                </a:lnTo>
                <a:lnTo>
                  <a:pt x="278" y="123"/>
                </a:lnTo>
                <a:lnTo>
                  <a:pt x="278" y="133"/>
                </a:lnTo>
                <a:lnTo>
                  <a:pt x="278" y="142"/>
                </a:lnTo>
                <a:lnTo>
                  <a:pt x="280" y="152"/>
                </a:lnTo>
                <a:lnTo>
                  <a:pt x="280" y="163"/>
                </a:lnTo>
                <a:lnTo>
                  <a:pt x="280" y="175"/>
                </a:lnTo>
                <a:lnTo>
                  <a:pt x="280" y="186"/>
                </a:lnTo>
                <a:lnTo>
                  <a:pt x="280" y="200"/>
                </a:lnTo>
                <a:lnTo>
                  <a:pt x="282" y="213"/>
                </a:lnTo>
                <a:lnTo>
                  <a:pt x="282" y="227"/>
                </a:lnTo>
                <a:lnTo>
                  <a:pt x="282" y="240"/>
                </a:lnTo>
                <a:lnTo>
                  <a:pt x="282" y="255"/>
                </a:lnTo>
                <a:lnTo>
                  <a:pt x="282" y="271"/>
                </a:lnTo>
                <a:lnTo>
                  <a:pt x="280" y="288"/>
                </a:lnTo>
                <a:lnTo>
                  <a:pt x="280" y="303"/>
                </a:lnTo>
                <a:lnTo>
                  <a:pt x="280" y="323"/>
                </a:lnTo>
                <a:lnTo>
                  <a:pt x="280" y="340"/>
                </a:lnTo>
                <a:lnTo>
                  <a:pt x="278" y="359"/>
                </a:lnTo>
                <a:lnTo>
                  <a:pt x="278" y="376"/>
                </a:lnTo>
                <a:lnTo>
                  <a:pt x="276" y="397"/>
                </a:lnTo>
                <a:lnTo>
                  <a:pt x="276" y="417"/>
                </a:lnTo>
                <a:lnTo>
                  <a:pt x="275" y="436"/>
                </a:lnTo>
                <a:lnTo>
                  <a:pt x="275" y="455"/>
                </a:lnTo>
                <a:lnTo>
                  <a:pt x="273" y="472"/>
                </a:lnTo>
                <a:lnTo>
                  <a:pt x="271" y="490"/>
                </a:lnTo>
                <a:lnTo>
                  <a:pt x="271" y="507"/>
                </a:lnTo>
                <a:lnTo>
                  <a:pt x="269" y="522"/>
                </a:lnTo>
                <a:lnTo>
                  <a:pt x="269" y="538"/>
                </a:lnTo>
                <a:lnTo>
                  <a:pt x="267" y="553"/>
                </a:lnTo>
                <a:lnTo>
                  <a:pt x="267" y="568"/>
                </a:lnTo>
                <a:lnTo>
                  <a:pt x="265" y="582"/>
                </a:lnTo>
                <a:lnTo>
                  <a:pt x="265" y="595"/>
                </a:lnTo>
                <a:lnTo>
                  <a:pt x="263" y="607"/>
                </a:lnTo>
                <a:lnTo>
                  <a:pt x="261" y="620"/>
                </a:lnTo>
                <a:lnTo>
                  <a:pt x="261" y="632"/>
                </a:lnTo>
                <a:lnTo>
                  <a:pt x="259" y="641"/>
                </a:lnTo>
                <a:lnTo>
                  <a:pt x="259" y="653"/>
                </a:lnTo>
                <a:lnTo>
                  <a:pt x="257" y="662"/>
                </a:lnTo>
                <a:lnTo>
                  <a:pt x="257" y="672"/>
                </a:lnTo>
                <a:lnTo>
                  <a:pt x="255" y="680"/>
                </a:lnTo>
                <a:lnTo>
                  <a:pt x="253" y="687"/>
                </a:lnTo>
                <a:lnTo>
                  <a:pt x="253" y="695"/>
                </a:lnTo>
                <a:lnTo>
                  <a:pt x="251" y="701"/>
                </a:lnTo>
                <a:lnTo>
                  <a:pt x="251" y="708"/>
                </a:lnTo>
                <a:lnTo>
                  <a:pt x="250" y="714"/>
                </a:lnTo>
                <a:lnTo>
                  <a:pt x="250" y="718"/>
                </a:lnTo>
                <a:lnTo>
                  <a:pt x="248" y="724"/>
                </a:lnTo>
                <a:lnTo>
                  <a:pt x="248" y="728"/>
                </a:lnTo>
                <a:lnTo>
                  <a:pt x="246" y="729"/>
                </a:lnTo>
                <a:lnTo>
                  <a:pt x="244" y="733"/>
                </a:lnTo>
                <a:lnTo>
                  <a:pt x="244" y="735"/>
                </a:lnTo>
                <a:lnTo>
                  <a:pt x="242" y="737"/>
                </a:lnTo>
                <a:lnTo>
                  <a:pt x="238" y="741"/>
                </a:lnTo>
                <a:lnTo>
                  <a:pt x="234" y="743"/>
                </a:lnTo>
                <a:lnTo>
                  <a:pt x="230" y="745"/>
                </a:lnTo>
                <a:lnTo>
                  <a:pt x="225" y="747"/>
                </a:lnTo>
                <a:lnTo>
                  <a:pt x="221" y="749"/>
                </a:lnTo>
                <a:lnTo>
                  <a:pt x="217" y="749"/>
                </a:lnTo>
                <a:lnTo>
                  <a:pt x="207" y="749"/>
                </a:lnTo>
                <a:lnTo>
                  <a:pt x="205" y="747"/>
                </a:lnTo>
                <a:lnTo>
                  <a:pt x="204" y="745"/>
                </a:lnTo>
                <a:lnTo>
                  <a:pt x="204" y="743"/>
                </a:lnTo>
                <a:lnTo>
                  <a:pt x="202" y="741"/>
                </a:lnTo>
                <a:lnTo>
                  <a:pt x="200" y="737"/>
                </a:lnTo>
                <a:lnTo>
                  <a:pt x="198" y="733"/>
                </a:lnTo>
                <a:lnTo>
                  <a:pt x="198" y="728"/>
                </a:lnTo>
                <a:lnTo>
                  <a:pt x="196" y="722"/>
                </a:lnTo>
                <a:lnTo>
                  <a:pt x="194" y="716"/>
                </a:lnTo>
                <a:lnTo>
                  <a:pt x="192" y="708"/>
                </a:lnTo>
                <a:lnTo>
                  <a:pt x="190" y="703"/>
                </a:lnTo>
                <a:lnTo>
                  <a:pt x="188" y="693"/>
                </a:lnTo>
                <a:lnTo>
                  <a:pt x="186" y="685"/>
                </a:lnTo>
                <a:lnTo>
                  <a:pt x="184" y="676"/>
                </a:lnTo>
                <a:lnTo>
                  <a:pt x="182" y="666"/>
                </a:lnTo>
                <a:lnTo>
                  <a:pt x="180" y="655"/>
                </a:lnTo>
                <a:lnTo>
                  <a:pt x="177" y="643"/>
                </a:lnTo>
                <a:lnTo>
                  <a:pt x="175" y="632"/>
                </a:lnTo>
                <a:lnTo>
                  <a:pt x="173" y="620"/>
                </a:lnTo>
                <a:lnTo>
                  <a:pt x="171" y="607"/>
                </a:lnTo>
                <a:lnTo>
                  <a:pt x="167" y="593"/>
                </a:lnTo>
                <a:lnTo>
                  <a:pt x="165" y="578"/>
                </a:lnTo>
                <a:lnTo>
                  <a:pt x="163" y="562"/>
                </a:lnTo>
                <a:lnTo>
                  <a:pt x="159" y="547"/>
                </a:lnTo>
                <a:lnTo>
                  <a:pt x="157" y="532"/>
                </a:lnTo>
                <a:lnTo>
                  <a:pt x="154" y="514"/>
                </a:lnTo>
                <a:lnTo>
                  <a:pt x="152" y="497"/>
                </a:lnTo>
                <a:lnTo>
                  <a:pt x="148" y="480"/>
                </a:lnTo>
                <a:lnTo>
                  <a:pt x="146" y="461"/>
                </a:lnTo>
                <a:lnTo>
                  <a:pt x="142" y="442"/>
                </a:lnTo>
                <a:lnTo>
                  <a:pt x="138" y="422"/>
                </a:lnTo>
                <a:lnTo>
                  <a:pt x="136" y="403"/>
                </a:lnTo>
                <a:lnTo>
                  <a:pt x="132" y="384"/>
                </a:lnTo>
                <a:lnTo>
                  <a:pt x="129" y="365"/>
                </a:lnTo>
                <a:lnTo>
                  <a:pt x="127" y="347"/>
                </a:lnTo>
                <a:lnTo>
                  <a:pt x="123" y="330"/>
                </a:lnTo>
                <a:lnTo>
                  <a:pt x="121" y="313"/>
                </a:lnTo>
                <a:lnTo>
                  <a:pt x="117" y="298"/>
                </a:lnTo>
                <a:lnTo>
                  <a:pt x="115" y="282"/>
                </a:lnTo>
                <a:lnTo>
                  <a:pt x="111" y="269"/>
                </a:lnTo>
                <a:lnTo>
                  <a:pt x="109" y="253"/>
                </a:lnTo>
                <a:lnTo>
                  <a:pt x="106" y="240"/>
                </a:lnTo>
                <a:lnTo>
                  <a:pt x="104" y="228"/>
                </a:lnTo>
                <a:lnTo>
                  <a:pt x="102" y="217"/>
                </a:lnTo>
                <a:lnTo>
                  <a:pt x="98" y="205"/>
                </a:lnTo>
                <a:lnTo>
                  <a:pt x="96" y="194"/>
                </a:lnTo>
                <a:lnTo>
                  <a:pt x="92" y="182"/>
                </a:lnTo>
                <a:lnTo>
                  <a:pt x="90" y="173"/>
                </a:lnTo>
                <a:lnTo>
                  <a:pt x="88" y="165"/>
                </a:lnTo>
                <a:lnTo>
                  <a:pt x="84" y="156"/>
                </a:lnTo>
                <a:lnTo>
                  <a:pt x="83" y="148"/>
                </a:lnTo>
                <a:lnTo>
                  <a:pt x="79" y="140"/>
                </a:lnTo>
                <a:lnTo>
                  <a:pt x="77" y="134"/>
                </a:lnTo>
                <a:lnTo>
                  <a:pt x="73" y="127"/>
                </a:lnTo>
                <a:lnTo>
                  <a:pt x="71" y="121"/>
                </a:lnTo>
                <a:lnTo>
                  <a:pt x="67" y="117"/>
                </a:lnTo>
                <a:lnTo>
                  <a:pt x="65" y="111"/>
                </a:lnTo>
                <a:lnTo>
                  <a:pt x="61" y="108"/>
                </a:lnTo>
                <a:lnTo>
                  <a:pt x="60" y="104"/>
                </a:lnTo>
                <a:lnTo>
                  <a:pt x="56" y="102"/>
                </a:lnTo>
                <a:lnTo>
                  <a:pt x="54" y="100"/>
                </a:lnTo>
                <a:lnTo>
                  <a:pt x="50" y="98"/>
                </a:lnTo>
                <a:lnTo>
                  <a:pt x="46"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8"/>
          <p:cNvSpPr/>
          <p:nvPr/>
        </p:nvSpPr>
        <p:spPr>
          <a:xfrm>
            <a:off x="6186600" y="3173400"/>
            <a:ext cx="1266840" cy="270000"/>
          </a:xfrm>
          <a:custGeom>
            <a:avLst/>
            <a:gdLst/>
            <a:ahLst/>
            <a:rect l="l" t="t" r="r" b="b"/>
            <a:pathLst>
              <a:path w="1597" h="340">
                <a:moveTo>
                  <a:pt x="1597" y="125"/>
                </a:moveTo>
                <a:lnTo>
                  <a:pt x="1597" y="127"/>
                </a:lnTo>
                <a:lnTo>
                  <a:pt x="1595" y="131"/>
                </a:lnTo>
                <a:lnTo>
                  <a:pt x="1595" y="133"/>
                </a:lnTo>
                <a:lnTo>
                  <a:pt x="1591" y="135"/>
                </a:lnTo>
                <a:lnTo>
                  <a:pt x="1589" y="136"/>
                </a:lnTo>
                <a:lnTo>
                  <a:pt x="1585" y="138"/>
                </a:lnTo>
                <a:lnTo>
                  <a:pt x="1582" y="140"/>
                </a:lnTo>
                <a:lnTo>
                  <a:pt x="1578" y="142"/>
                </a:lnTo>
                <a:lnTo>
                  <a:pt x="1572" y="144"/>
                </a:lnTo>
                <a:lnTo>
                  <a:pt x="1566" y="146"/>
                </a:lnTo>
                <a:lnTo>
                  <a:pt x="1561" y="148"/>
                </a:lnTo>
                <a:lnTo>
                  <a:pt x="1553" y="148"/>
                </a:lnTo>
                <a:lnTo>
                  <a:pt x="1545" y="150"/>
                </a:lnTo>
                <a:lnTo>
                  <a:pt x="1537" y="152"/>
                </a:lnTo>
                <a:lnTo>
                  <a:pt x="1528" y="154"/>
                </a:lnTo>
                <a:lnTo>
                  <a:pt x="1518" y="156"/>
                </a:lnTo>
                <a:lnTo>
                  <a:pt x="1507" y="156"/>
                </a:lnTo>
                <a:lnTo>
                  <a:pt x="1497" y="158"/>
                </a:lnTo>
                <a:lnTo>
                  <a:pt x="1486" y="160"/>
                </a:lnTo>
                <a:lnTo>
                  <a:pt x="1472" y="161"/>
                </a:lnTo>
                <a:lnTo>
                  <a:pt x="1461" y="161"/>
                </a:lnTo>
                <a:lnTo>
                  <a:pt x="1447" y="163"/>
                </a:lnTo>
                <a:lnTo>
                  <a:pt x="1432" y="165"/>
                </a:lnTo>
                <a:lnTo>
                  <a:pt x="1417" y="165"/>
                </a:lnTo>
                <a:lnTo>
                  <a:pt x="1401" y="167"/>
                </a:lnTo>
                <a:lnTo>
                  <a:pt x="1386" y="169"/>
                </a:lnTo>
                <a:lnTo>
                  <a:pt x="1369" y="169"/>
                </a:lnTo>
                <a:lnTo>
                  <a:pt x="1351" y="171"/>
                </a:lnTo>
                <a:lnTo>
                  <a:pt x="1334" y="171"/>
                </a:lnTo>
                <a:lnTo>
                  <a:pt x="1315" y="173"/>
                </a:lnTo>
                <a:lnTo>
                  <a:pt x="1296" y="175"/>
                </a:lnTo>
                <a:lnTo>
                  <a:pt x="1275" y="175"/>
                </a:lnTo>
                <a:lnTo>
                  <a:pt x="1234" y="179"/>
                </a:lnTo>
                <a:lnTo>
                  <a:pt x="1194" y="181"/>
                </a:lnTo>
                <a:lnTo>
                  <a:pt x="1156" y="183"/>
                </a:lnTo>
                <a:lnTo>
                  <a:pt x="1117" y="184"/>
                </a:lnTo>
                <a:lnTo>
                  <a:pt x="1079" y="188"/>
                </a:lnTo>
                <a:lnTo>
                  <a:pt x="1042" y="190"/>
                </a:lnTo>
                <a:lnTo>
                  <a:pt x="1008" y="192"/>
                </a:lnTo>
                <a:lnTo>
                  <a:pt x="973" y="196"/>
                </a:lnTo>
                <a:lnTo>
                  <a:pt x="939" y="200"/>
                </a:lnTo>
                <a:lnTo>
                  <a:pt x="904" y="202"/>
                </a:lnTo>
                <a:lnTo>
                  <a:pt x="873" y="206"/>
                </a:lnTo>
                <a:lnTo>
                  <a:pt x="841" y="209"/>
                </a:lnTo>
                <a:lnTo>
                  <a:pt x="810" y="213"/>
                </a:lnTo>
                <a:lnTo>
                  <a:pt x="779" y="217"/>
                </a:lnTo>
                <a:lnTo>
                  <a:pt x="751" y="221"/>
                </a:lnTo>
                <a:lnTo>
                  <a:pt x="722" y="227"/>
                </a:lnTo>
                <a:lnTo>
                  <a:pt x="695" y="231"/>
                </a:lnTo>
                <a:lnTo>
                  <a:pt x="668" y="236"/>
                </a:lnTo>
                <a:lnTo>
                  <a:pt x="641" y="240"/>
                </a:lnTo>
                <a:lnTo>
                  <a:pt x="614" y="246"/>
                </a:lnTo>
                <a:lnTo>
                  <a:pt x="562" y="255"/>
                </a:lnTo>
                <a:lnTo>
                  <a:pt x="512" y="265"/>
                </a:lnTo>
                <a:lnTo>
                  <a:pt x="466" y="277"/>
                </a:lnTo>
                <a:lnTo>
                  <a:pt x="418" y="288"/>
                </a:lnTo>
                <a:lnTo>
                  <a:pt x="374" y="300"/>
                </a:lnTo>
                <a:lnTo>
                  <a:pt x="330" y="313"/>
                </a:lnTo>
                <a:lnTo>
                  <a:pt x="307" y="321"/>
                </a:lnTo>
                <a:lnTo>
                  <a:pt x="286" y="327"/>
                </a:lnTo>
                <a:lnTo>
                  <a:pt x="265" y="330"/>
                </a:lnTo>
                <a:lnTo>
                  <a:pt x="244" y="334"/>
                </a:lnTo>
                <a:lnTo>
                  <a:pt x="225" y="338"/>
                </a:lnTo>
                <a:lnTo>
                  <a:pt x="207" y="340"/>
                </a:lnTo>
                <a:lnTo>
                  <a:pt x="188" y="340"/>
                </a:lnTo>
                <a:lnTo>
                  <a:pt x="173" y="340"/>
                </a:lnTo>
                <a:lnTo>
                  <a:pt x="157" y="340"/>
                </a:lnTo>
                <a:lnTo>
                  <a:pt x="142" y="338"/>
                </a:lnTo>
                <a:lnTo>
                  <a:pt x="127" y="334"/>
                </a:lnTo>
                <a:lnTo>
                  <a:pt x="113" y="330"/>
                </a:lnTo>
                <a:lnTo>
                  <a:pt x="100" y="325"/>
                </a:lnTo>
                <a:lnTo>
                  <a:pt x="88" y="317"/>
                </a:lnTo>
                <a:lnTo>
                  <a:pt x="77" y="309"/>
                </a:lnTo>
                <a:lnTo>
                  <a:pt x="65" y="302"/>
                </a:lnTo>
                <a:lnTo>
                  <a:pt x="56" y="294"/>
                </a:lnTo>
                <a:lnTo>
                  <a:pt x="46" y="288"/>
                </a:lnTo>
                <a:lnTo>
                  <a:pt x="36" y="280"/>
                </a:lnTo>
                <a:lnTo>
                  <a:pt x="29" y="275"/>
                </a:lnTo>
                <a:lnTo>
                  <a:pt x="23" y="269"/>
                </a:lnTo>
                <a:lnTo>
                  <a:pt x="17" y="263"/>
                </a:lnTo>
                <a:lnTo>
                  <a:pt x="12" y="259"/>
                </a:lnTo>
                <a:lnTo>
                  <a:pt x="8" y="254"/>
                </a:lnTo>
                <a:lnTo>
                  <a:pt x="4" y="250"/>
                </a:lnTo>
                <a:lnTo>
                  <a:pt x="2" y="246"/>
                </a:lnTo>
                <a:lnTo>
                  <a:pt x="0" y="242"/>
                </a:lnTo>
                <a:lnTo>
                  <a:pt x="0" y="238"/>
                </a:lnTo>
                <a:lnTo>
                  <a:pt x="0" y="234"/>
                </a:lnTo>
                <a:lnTo>
                  <a:pt x="2" y="231"/>
                </a:lnTo>
                <a:lnTo>
                  <a:pt x="4" y="229"/>
                </a:lnTo>
                <a:lnTo>
                  <a:pt x="8" y="227"/>
                </a:lnTo>
                <a:lnTo>
                  <a:pt x="12" y="227"/>
                </a:lnTo>
                <a:lnTo>
                  <a:pt x="13" y="227"/>
                </a:lnTo>
                <a:lnTo>
                  <a:pt x="19" y="225"/>
                </a:lnTo>
                <a:lnTo>
                  <a:pt x="23" y="225"/>
                </a:lnTo>
                <a:lnTo>
                  <a:pt x="29" y="225"/>
                </a:lnTo>
                <a:lnTo>
                  <a:pt x="36" y="225"/>
                </a:lnTo>
                <a:lnTo>
                  <a:pt x="42" y="225"/>
                </a:lnTo>
                <a:lnTo>
                  <a:pt x="52" y="225"/>
                </a:lnTo>
                <a:lnTo>
                  <a:pt x="59" y="223"/>
                </a:lnTo>
                <a:lnTo>
                  <a:pt x="71" y="223"/>
                </a:lnTo>
                <a:lnTo>
                  <a:pt x="81" y="223"/>
                </a:lnTo>
                <a:lnTo>
                  <a:pt x="92" y="221"/>
                </a:lnTo>
                <a:lnTo>
                  <a:pt x="106" y="219"/>
                </a:lnTo>
                <a:lnTo>
                  <a:pt x="117" y="217"/>
                </a:lnTo>
                <a:lnTo>
                  <a:pt x="132" y="215"/>
                </a:lnTo>
                <a:lnTo>
                  <a:pt x="146" y="213"/>
                </a:lnTo>
                <a:lnTo>
                  <a:pt x="159" y="211"/>
                </a:lnTo>
                <a:lnTo>
                  <a:pt x="175" y="207"/>
                </a:lnTo>
                <a:lnTo>
                  <a:pt x="192" y="206"/>
                </a:lnTo>
                <a:lnTo>
                  <a:pt x="211" y="204"/>
                </a:lnTo>
                <a:lnTo>
                  <a:pt x="230" y="200"/>
                </a:lnTo>
                <a:lnTo>
                  <a:pt x="253" y="198"/>
                </a:lnTo>
                <a:lnTo>
                  <a:pt x="276" y="194"/>
                </a:lnTo>
                <a:lnTo>
                  <a:pt x="301" y="192"/>
                </a:lnTo>
                <a:lnTo>
                  <a:pt x="326" y="188"/>
                </a:lnTo>
                <a:lnTo>
                  <a:pt x="353" y="184"/>
                </a:lnTo>
                <a:lnTo>
                  <a:pt x="384" y="179"/>
                </a:lnTo>
                <a:lnTo>
                  <a:pt x="413" y="175"/>
                </a:lnTo>
                <a:lnTo>
                  <a:pt x="445" y="169"/>
                </a:lnTo>
                <a:lnTo>
                  <a:pt x="478" y="163"/>
                </a:lnTo>
                <a:lnTo>
                  <a:pt x="512" y="158"/>
                </a:lnTo>
                <a:lnTo>
                  <a:pt x="549" y="150"/>
                </a:lnTo>
                <a:lnTo>
                  <a:pt x="585" y="144"/>
                </a:lnTo>
                <a:lnTo>
                  <a:pt x="622" y="136"/>
                </a:lnTo>
                <a:lnTo>
                  <a:pt x="656" y="131"/>
                </a:lnTo>
                <a:lnTo>
                  <a:pt x="691" y="123"/>
                </a:lnTo>
                <a:lnTo>
                  <a:pt x="726" y="117"/>
                </a:lnTo>
                <a:lnTo>
                  <a:pt x="760" y="112"/>
                </a:lnTo>
                <a:lnTo>
                  <a:pt x="793" y="106"/>
                </a:lnTo>
                <a:lnTo>
                  <a:pt x="825" y="100"/>
                </a:lnTo>
                <a:lnTo>
                  <a:pt x="858" y="94"/>
                </a:lnTo>
                <a:lnTo>
                  <a:pt x="889" y="88"/>
                </a:lnTo>
                <a:lnTo>
                  <a:pt x="919" y="83"/>
                </a:lnTo>
                <a:lnTo>
                  <a:pt x="950" y="77"/>
                </a:lnTo>
                <a:lnTo>
                  <a:pt x="981" y="71"/>
                </a:lnTo>
                <a:lnTo>
                  <a:pt x="1010" y="64"/>
                </a:lnTo>
                <a:lnTo>
                  <a:pt x="1038" y="58"/>
                </a:lnTo>
                <a:lnTo>
                  <a:pt x="1067" y="50"/>
                </a:lnTo>
                <a:lnTo>
                  <a:pt x="1094" y="42"/>
                </a:lnTo>
                <a:lnTo>
                  <a:pt x="1121" y="37"/>
                </a:lnTo>
                <a:lnTo>
                  <a:pt x="1148" y="31"/>
                </a:lnTo>
                <a:lnTo>
                  <a:pt x="1173" y="25"/>
                </a:lnTo>
                <a:lnTo>
                  <a:pt x="1198" y="21"/>
                </a:lnTo>
                <a:lnTo>
                  <a:pt x="1221" y="17"/>
                </a:lnTo>
                <a:lnTo>
                  <a:pt x="1242" y="14"/>
                </a:lnTo>
                <a:lnTo>
                  <a:pt x="1263" y="10"/>
                </a:lnTo>
                <a:lnTo>
                  <a:pt x="1282" y="8"/>
                </a:lnTo>
                <a:lnTo>
                  <a:pt x="1301" y="6"/>
                </a:lnTo>
                <a:lnTo>
                  <a:pt x="1319" y="4"/>
                </a:lnTo>
                <a:lnTo>
                  <a:pt x="1336" y="2"/>
                </a:lnTo>
                <a:lnTo>
                  <a:pt x="1351" y="0"/>
                </a:lnTo>
                <a:lnTo>
                  <a:pt x="1365" y="0"/>
                </a:lnTo>
                <a:lnTo>
                  <a:pt x="1378" y="0"/>
                </a:lnTo>
                <a:lnTo>
                  <a:pt x="1390" y="0"/>
                </a:lnTo>
                <a:lnTo>
                  <a:pt x="1411" y="0"/>
                </a:lnTo>
                <a:lnTo>
                  <a:pt x="1432" y="2"/>
                </a:lnTo>
                <a:lnTo>
                  <a:pt x="1453" y="6"/>
                </a:lnTo>
                <a:lnTo>
                  <a:pt x="1474" y="10"/>
                </a:lnTo>
                <a:lnTo>
                  <a:pt x="1491" y="14"/>
                </a:lnTo>
                <a:lnTo>
                  <a:pt x="1509" y="21"/>
                </a:lnTo>
                <a:lnTo>
                  <a:pt x="1526" y="29"/>
                </a:lnTo>
                <a:lnTo>
                  <a:pt x="1534" y="33"/>
                </a:lnTo>
                <a:lnTo>
                  <a:pt x="1539" y="39"/>
                </a:lnTo>
                <a:lnTo>
                  <a:pt x="1551" y="52"/>
                </a:lnTo>
                <a:lnTo>
                  <a:pt x="1562" y="64"/>
                </a:lnTo>
                <a:lnTo>
                  <a:pt x="1572" y="75"/>
                </a:lnTo>
                <a:lnTo>
                  <a:pt x="1582" y="87"/>
                </a:lnTo>
                <a:lnTo>
                  <a:pt x="1587" y="96"/>
                </a:lnTo>
                <a:lnTo>
                  <a:pt x="1593" y="106"/>
                </a:lnTo>
                <a:lnTo>
                  <a:pt x="1595" y="112"/>
                </a:lnTo>
                <a:lnTo>
                  <a:pt x="1595" y="115"/>
                </a:lnTo>
                <a:lnTo>
                  <a:pt x="1597" y="121"/>
                </a:lnTo>
                <a:lnTo>
                  <a:pt x="1597" y="1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Freeform 129"/>
          <p:cNvSpPr/>
          <p:nvPr/>
        </p:nvSpPr>
        <p:spPr>
          <a:xfrm>
            <a:off x="5477040" y="3998880"/>
            <a:ext cx="780840" cy="511200"/>
          </a:xfrm>
          <a:custGeom>
            <a:avLst/>
            <a:gdLst/>
            <a:ahLst/>
            <a:rect l="l" t="t" r="r" b="b"/>
            <a:pathLst>
              <a:path w="984" h="643">
                <a:moveTo>
                  <a:pt x="63" y="416"/>
                </a:moveTo>
                <a:lnTo>
                  <a:pt x="74" y="420"/>
                </a:lnTo>
                <a:lnTo>
                  <a:pt x="86" y="426"/>
                </a:lnTo>
                <a:lnTo>
                  <a:pt x="95" y="430"/>
                </a:lnTo>
                <a:lnTo>
                  <a:pt x="105" y="431"/>
                </a:lnTo>
                <a:lnTo>
                  <a:pt x="113" y="433"/>
                </a:lnTo>
                <a:lnTo>
                  <a:pt x="120" y="433"/>
                </a:lnTo>
                <a:lnTo>
                  <a:pt x="124" y="433"/>
                </a:lnTo>
                <a:lnTo>
                  <a:pt x="126" y="431"/>
                </a:lnTo>
                <a:lnTo>
                  <a:pt x="128" y="431"/>
                </a:lnTo>
                <a:lnTo>
                  <a:pt x="132" y="430"/>
                </a:lnTo>
                <a:lnTo>
                  <a:pt x="132" y="428"/>
                </a:lnTo>
                <a:lnTo>
                  <a:pt x="134" y="428"/>
                </a:lnTo>
                <a:lnTo>
                  <a:pt x="138" y="428"/>
                </a:lnTo>
                <a:lnTo>
                  <a:pt x="142" y="426"/>
                </a:lnTo>
                <a:lnTo>
                  <a:pt x="147" y="424"/>
                </a:lnTo>
                <a:lnTo>
                  <a:pt x="151" y="420"/>
                </a:lnTo>
                <a:lnTo>
                  <a:pt x="159" y="418"/>
                </a:lnTo>
                <a:lnTo>
                  <a:pt x="165" y="414"/>
                </a:lnTo>
                <a:lnTo>
                  <a:pt x="174" y="410"/>
                </a:lnTo>
                <a:lnTo>
                  <a:pt x="182" y="406"/>
                </a:lnTo>
                <a:lnTo>
                  <a:pt x="191" y="403"/>
                </a:lnTo>
                <a:lnTo>
                  <a:pt x="201" y="397"/>
                </a:lnTo>
                <a:lnTo>
                  <a:pt x="213" y="391"/>
                </a:lnTo>
                <a:lnTo>
                  <a:pt x="224" y="385"/>
                </a:lnTo>
                <a:lnTo>
                  <a:pt x="236" y="380"/>
                </a:lnTo>
                <a:lnTo>
                  <a:pt x="249" y="374"/>
                </a:lnTo>
                <a:lnTo>
                  <a:pt x="264" y="366"/>
                </a:lnTo>
                <a:lnTo>
                  <a:pt x="278" y="358"/>
                </a:lnTo>
                <a:lnTo>
                  <a:pt x="293" y="351"/>
                </a:lnTo>
                <a:lnTo>
                  <a:pt x="310" y="341"/>
                </a:lnTo>
                <a:lnTo>
                  <a:pt x="326" y="332"/>
                </a:lnTo>
                <a:lnTo>
                  <a:pt x="343" y="322"/>
                </a:lnTo>
                <a:lnTo>
                  <a:pt x="362" y="312"/>
                </a:lnTo>
                <a:lnTo>
                  <a:pt x="381" y="303"/>
                </a:lnTo>
                <a:lnTo>
                  <a:pt x="401" y="291"/>
                </a:lnTo>
                <a:lnTo>
                  <a:pt x="422" y="280"/>
                </a:lnTo>
                <a:lnTo>
                  <a:pt x="443" y="268"/>
                </a:lnTo>
                <a:lnTo>
                  <a:pt x="464" y="257"/>
                </a:lnTo>
                <a:lnTo>
                  <a:pt x="485" y="243"/>
                </a:lnTo>
                <a:lnTo>
                  <a:pt x="508" y="230"/>
                </a:lnTo>
                <a:lnTo>
                  <a:pt x="533" y="216"/>
                </a:lnTo>
                <a:lnTo>
                  <a:pt x="558" y="203"/>
                </a:lnTo>
                <a:lnTo>
                  <a:pt x="581" y="188"/>
                </a:lnTo>
                <a:lnTo>
                  <a:pt x="606" y="174"/>
                </a:lnTo>
                <a:lnTo>
                  <a:pt x="629" y="163"/>
                </a:lnTo>
                <a:lnTo>
                  <a:pt x="650" y="149"/>
                </a:lnTo>
                <a:lnTo>
                  <a:pt x="673" y="138"/>
                </a:lnTo>
                <a:lnTo>
                  <a:pt x="692" y="126"/>
                </a:lnTo>
                <a:lnTo>
                  <a:pt x="714" y="115"/>
                </a:lnTo>
                <a:lnTo>
                  <a:pt x="733" y="105"/>
                </a:lnTo>
                <a:lnTo>
                  <a:pt x="752" y="96"/>
                </a:lnTo>
                <a:lnTo>
                  <a:pt x="771" y="86"/>
                </a:lnTo>
                <a:lnTo>
                  <a:pt x="788" y="76"/>
                </a:lnTo>
                <a:lnTo>
                  <a:pt x="804" y="69"/>
                </a:lnTo>
                <a:lnTo>
                  <a:pt x="821" y="61"/>
                </a:lnTo>
                <a:lnTo>
                  <a:pt x="836" y="53"/>
                </a:lnTo>
                <a:lnTo>
                  <a:pt x="850" y="46"/>
                </a:lnTo>
                <a:lnTo>
                  <a:pt x="865" y="40"/>
                </a:lnTo>
                <a:lnTo>
                  <a:pt x="879" y="34"/>
                </a:lnTo>
                <a:lnTo>
                  <a:pt x="890" y="28"/>
                </a:lnTo>
                <a:lnTo>
                  <a:pt x="902" y="23"/>
                </a:lnTo>
                <a:lnTo>
                  <a:pt x="913" y="19"/>
                </a:lnTo>
                <a:lnTo>
                  <a:pt x="923" y="15"/>
                </a:lnTo>
                <a:lnTo>
                  <a:pt x="932" y="11"/>
                </a:lnTo>
                <a:lnTo>
                  <a:pt x="940" y="9"/>
                </a:lnTo>
                <a:lnTo>
                  <a:pt x="948" y="5"/>
                </a:lnTo>
                <a:lnTo>
                  <a:pt x="955" y="3"/>
                </a:lnTo>
                <a:lnTo>
                  <a:pt x="961" y="1"/>
                </a:lnTo>
                <a:lnTo>
                  <a:pt x="967" y="1"/>
                </a:lnTo>
                <a:lnTo>
                  <a:pt x="973" y="0"/>
                </a:lnTo>
                <a:lnTo>
                  <a:pt x="977" y="0"/>
                </a:lnTo>
                <a:lnTo>
                  <a:pt x="978" y="0"/>
                </a:lnTo>
                <a:lnTo>
                  <a:pt x="982" y="1"/>
                </a:lnTo>
                <a:lnTo>
                  <a:pt x="984" y="3"/>
                </a:lnTo>
                <a:lnTo>
                  <a:pt x="984" y="5"/>
                </a:lnTo>
                <a:lnTo>
                  <a:pt x="982" y="7"/>
                </a:lnTo>
                <a:lnTo>
                  <a:pt x="980" y="11"/>
                </a:lnTo>
                <a:lnTo>
                  <a:pt x="978" y="15"/>
                </a:lnTo>
                <a:lnTo>
                  <a:pt x="975" y="19"/>
                </a:lnTo>
                <a:lnTo>
                  <a:pt x="971" y="24"/>
                </a:lnTo>
                <a:lnTo>
                  <a:pt x="965" y="30"/>
                </a:lnTo>
                <a:lnTo>
                  <a:pt x="959" y="36"/>
                </a:lnTo>
                <a:lnTo>
                  <a:pt x="953" y="42"/>
                </a:lnTo>
                <a:lnTo>
                  <a:pt x="946" y="49"/>
                </a:lnTo>
                <a:lnTo>
                  <a:pt x="936" y="57"/>
                </a:lnTo>
                <a:lnTo>
                  <a:pt x="929" y="65"/>
                </a:lnTo>
                <a:lnTo>
                  <a:pt x="917" y="74"/>
                </a:lnTo>
                <a:lnTo>
                  <a:pt x="907" y="84"/>
                </a:lnTo>
                <a:lnTo>
                  <a:pt x="896" y="96"/>
                </a:lnTo>
                <a:lnTo>
                  <a:pt x="884" y="105"/>
                </a:lnTo>
                <a:lnTo>
                  <a:pt x="871" y="117"/>
                </a:lnTo>
                <a:lnTo>
                  <a:pt x="856" y="128"/>
                </a:lnTo>
                <a:lnTo>
                  <a:pt x="842" y="142"/>
                </a:lnTo>
                <a:lnTo>
                  <a:pt x="827" y="155"/>
                </a:lnTo>
                <a:lnTo>
                  <a:pt x="810" y="168"/>
                </a:lnTo>
                <a:lnTo>
                  <a:pt x="792" y="184"/>
                </a:lnTo>
                <a:lnTo>
                  <a:pt x="775" y="199"/>
                </a:lnTo>
                <a:lnTo>
                  <a:pt x="756" y="215"/>
                </a:lnTo>
                <a:lnTo>
                  <a:pt x="737" y="230"/>
                </a:lnTo>
                <a:lnTo>
                  <a:pt x="717" y="247"/>
                </a:lnTo>
                <a:lnTo>
                  <a:pt x="696" y="264"/>
                </a:lnTo>
                <a:lnTo>
                  <a:pt x="673" y="284"/>
                </a:lnTo>
                <a:lnTo>
                  <a:pt x="650" y="301"/>
                </a:lnTo>
                <a:lnTo>
                  <a:pt x="627" y="320"/>
                </a:lnTo>
                <a:lnTo>
                  <a:pt x="604" y="341"/>
                </a:lnTo>
                <a:lnTo>
                  <a:pt x="579" y="360"/>
                </a:lnTo>
                <a:lnTo>
                  <a:pt x="556" y="380"/>
                </a:lnTo>
                <a:lnTo>
                  <a:pt x="533" y="399"/>
                </a:lnTo>
                <a:lnTo>
                  <a:pt x="510" y="416"/>
                </a:lnTo>
                <a:lnTo>
                  <a:pt x="489" y="433"/>
                </a:lnTo>
                <a:lnTo>
                  <a:pt x="468" y="451"/>
                </a:lnTo>
                <a:lnTo>
                  <a:pt x="447" y="466"/>
                </a:lnTo>
                <a:lnTo>
                  <a:pt x="428" y="481"/>
                </a:lnTo>
                <a:lnTo>
                  <a:pt x="408" y="495"/>
                </a:lnTo>
                <a:lnTo>
                  <a:pt x="389" y="508"/>
                </a:lnTo>
                <a:lnTo>
                  <a:pt x="372" y="522"/>
                </a:lnTo>
                <a:lnTo>
                  <a:pt x="355" y="535"/>
                </a:lnTo>
                <a:lnTo>
                  <a:pt x="339" y="547"/>
                </a:lnTo>
                <a:lnTo>
                  <a:pt x="322" y="556"/>
                </a:lnTo>
                <a:lnTo>
                  <a:pt x="309" y="568"/>
                </a:lnTo>
                <a:lnTo>
                  <a:pt x="293" y="577"/>
                </a:lnTo>
                <a:lnTo>
                  <a:pt x="280" y="587"/>
                </a:lnTo>
                <a:lnTo>
                  <a:pt x="266" y="595"/>
                </a:lnTo>
                <a:lnTo>
                  <a:pt x="255" y="602"/>
                </a:lnTo>
                <a:lnTo>
                  <a:pt x="241" y="610"/>
                </a:lnTo>
                <a:lnTo>
                  <a:pt x="232" y="616"/>
                </a:lnTo>
                <a:lnTo>
                  <a:pt x="220" y="621"/>
                </a:lnTo>
                <a:lnTo>
                  <a:pt x="211" y="627"/>
                </a:lnTo>
                <a:lnTo>
                  <a:pt x="201" y="631"/>
                </a:lnTo>
                <a:lnTo>
                  <a:pt x="193" y="635"/>
                </a:lnTo>
                <a:lnTo>
                  <a:pt x="186" y="637"/>
                </a:lnTo>
                <a:lnTo>
                  <a:pt x="178" y="641"/>
                </a:lnTo>
                <a:lnTo>
                  <a:pt x="172" y="643"/>
                </a:lnTo>
                <a:lnTo>
                  <a:pt x="167" y="643"/>
                </a:lnTo>
                <a:lnTo>
                  <a:pt x="163" y="643"/>
                </a:lnTo>
                <a:lnTo>
                  <a:pt x="157" y="643"/>
                </a:lnTo>
                <a:lnTo>
                  <a:pt x="155" y="643"/>
                </a:lnTo>
                <a:lnTo>
                  <a:pt x="147" y="643"/>
                </a:lnTo>
                <a:lnTo>
                  <a:pt x="142" y="641"/>
                </a:lnTo>
                <a:lnTo>
                  <a:pt x="134" y="639"/>
                </a:lnTo>
                <a:lnTo>
                  <a:pt x="126" y="637"/>
                </a:lnTo>
                <a:lnTo>
                  <a:pt x="119" y="635"/>
                </a:lnTo>
                <a:lnTo>
                  <a:pt x="111" y="631"/>
                </a:lnTo>
                <a:lnTo>
                  <a:pt x="103" y="627"/>
                </a:lnTo>
                <a:lnTo>
                  <a:pt x="95" y="621"/>
                </a:lnTo>
                <a:lnTo>
                  <a:pt x="88" y="616"/>
                </a:lnTo>
                <a:lnTo>
                  <a:pt x="82" y="610"/>
                </a:lnTo>
                <a:lnTo>
                  <a:pt x="74" y="602"/>
                </a:lnTo>
                <a:lnTo>
                  <a:pt x="67" y="595"/>
                </a:lnTo>
                <a:lnTo>
                  <a:pt x="59" y="585"/>
                </a:lnTo>
                <a:lnTo>
                  <a:pt x="51" y="575"/>
                </a:lnTo>
                <a:lnTo>
                  <a:pt x="46" y="566"/>
                </a:lnTo>
                <a:lnTo>
                  <a:pt x="40" y="554"/>
                </a:lnTo>
                <a:lnTo>
                  <a:pt x="32" y="543"/>
                </a:lnTo>
                <a:lnTo>
                  <a:pt x="26" y="531"/>
                </a:lnTo>
                <a:lnTo>
                  <a:pt x="23" y="522"/>
                </a:lnTo>
                <a:lnTo>
                  <a:pt x="19" y="512"/>
                </a:lnTo>
                <a:lnTo>
                  <a:pt x="13" y="502"/>
                </a:lnTo>
                <a:lnTo>
                  <a:pt x="11" y="493"/>
                </a:lnTo>
                <a:lnTo>
                  <a:pt x="7" y="485"/>
                </a:lnTo>
                <a:lnTo>
                  <a:pt x="5" y="477"/>
                </a:lnTo>
                <a:lnTo>
                  <a:pt x="3" y="470"/>
                </a:lnTo>
                <a:lnTo>
                  <a:pt x="1" y="462"/>
                </a:lnTo>
                <a:lnTo>
                  <a:pt x="1" y="456"/>
                </a:lnTo>
                <a:lnTo>
                  <a:pt x="0" y="451"/>
                </a:lnTo>
                <a:lnTo>
                  <a:pt x="1" y="445"/>
                </a:lnTo>
                <a:lnTo>
                  <a:pt x="1" y="439"/>
                </a:lnTo>
                <a:lnTo>
                  <a:pt x="3" y="433"/>
                </a:lnTo>
                <a:lnTo>
                  <a:pt x="5" y="430"/>
                </a:lnTo>
                <a:lnTo>
                  <a:pt x="7" y="424"/>
                </a:lnTo>
                <a:lnTo>
                  <a:pt x="9" y="420"/>
                </a:lnTo>
                <a:lnTo>
                  <a:pt x="13" y="416"/>
                </a:lnTo>
                <a:lnTo>
                  <a:pt x="15" y="414"/>
                </a:lnTo>
                <a:lnTo>
                  <a:pt x="19" y="412"/>
                </a:lnTo>
                <a:lnTo>
                  <a:pt x="23" y="410"/>
                </a:lnTo>
                <a:lnTo>
                  <a:pt x="24" y="408"/>
                </a:lnTo>
                <a:lnTo>
                  <a:pt x="28" y="408"/>
                </a:lnTo>
                <a:lnTo>
                  <a:pt x="36" y="408"/>
                </a:lnTo>
                <a:lnTo>
                  <a:pt x="46" y="408"/>
                </a:lnTo>
                <a:lnTo>
                  <a:pt x="53" y="412"/>
                </a:lnTo>
                <a:lnTo>
                  <a:pt x="63" y="41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 name="Freeform 130"/>
          <p:cNvSpPr/>
          <p:nvPr/>
        </p:nvSpPr>
        <p:spPr>
          <a:xfrm>
            <a:off x="5805360" y="2948040"/>
            <a:ext cx="217440" cy="1292040"/>
          </a:xfrm>
          <a:custGeom>
            <a:avLst/>
            <a:gdLst/>
            <a:ahLst/>
            <a:rect l="l" t="t" r="r" b="b"/>
            <a:pathLst>
              <a:path w="275" h="1628">
                <a:moveTo>
                  <a:pt x="29" y="96"/>
                </a:moveTo>
                <a:lnTo>
                  <a:pt x="19" y="86"/>
                </a:lnTo>
                <a:lnTo>
                  <a:pt x="14" y="77"/>
                </a:lnTo>
                <a:lnTo>
                  <a:pt x="8" y="67"/>
                </a:lnTo>
                <a:lnTo>
                  <a:pt x="4" y="58"/>
                </a:lnTo>
                <a:lnTo>
                  <a:pt x="2" y="48"/>
                </a:lnTo>
                <a:lnTo>
                  <a:pt x="0" y="38"/>
                </a:lnTo>
                <a:lnTo>
                  <a:pt x="0" y="35"/>
                </a:lnTo>
                <a:lnTo>
                  <a:pt x="2" y="29"/>
                </a:lnTo>
                <a:lnTo>
                  <a:pt x="4" y="25"/>
                </a:lnTo>
                <a:lnTo>
                  <a:pt x="6" y="19"/>
                </a:lnTo>
                <a:lnTo>
                  <a:pt x="8" y="15"/>
                </a:lnTo>
                <a:lnTo>
                  <a:pt x="10" y="12"/>
                </a:lnTo>
                <a:lnTo>
                  <a:pt x="14" y="8"/>
                </a:lnTo>
                <a:lnTo>
                  <a:pt x="17" y="6"/>
                </a:lnTo>
                <a:lnTo>
                  <a:pt x="23" y="4"/>
                </a:lnTo>
                <a:lnTo>
                  <a:pt x="29" y="2"/>
                </a:lnTo>
                <a:lnTo>
                  <a:pt x="35" y="2"/>
                </a:lnTo>
                <a:lnTo>
                  <a:pt x="42" y="0"/>
                </a:lnTo>
                <a:lnTo>
                  <a:pt x="50" y="2"/>
                </a:lnTo>
                <a:lnTo>
                  <a:pt x="60" y="2"/>
                </a:lnTo>
                <a:lnTo>
                  <a:pt x="69" y="4"/>
                </a:lnTo>
                <a:lnTo>
                  <a:pt x="79" y="6"/>
                </a:lnTo>
                <a:lnTo>
                  <a:pt x="90" y="8"/>
                </a:lnTo>
                <a:lnTo>
                  <a:pt x="104" y="12"/>
                </a:lnTo>
                <a:lnTo>
                  <a:pt x="117" y="15"/>
                </a:lnTo>
                <a:lnTo>
                  <a:pt x="133" y="19"/>
                </a:lnTo>
                <a:lnTo>
                  <a:pt x="144" y="25"/>
                </a:lnTo>
                <a:lnTo>
                  <a:pt x="156" y="29"/>
                </a:lnTo>
                <a:lnTo>
                  <a:pt x="167" y="35"/>
                </a:lnTo>
                <a:lnTo>
                  <a:pt x="179" y="38"/>
                </a:lnTo>
                <a:lnTo>
                  <a:pt x="188" y="44"/>
                </a:lnTo>
                <a:lnTo>
                  <a:pt x="200" y="48"/>
                </a:lnTo>
                <a:lnTo>
                  <a:pt x="207" y="52"/>
                </a:lnTo>
                <a:lnTo>
                  <a:pt x="217" y="56"/>
                </a:lnTo>
                <a:lnTo>
                  <a:pt x="225" y="60"/>
                </a:lnTo>
                <a:lnTo>
                  <a:pt x="230" y="63"/>
                </a:lnTo>
                <a:lnTo>
                  <a:pt x="238" y="67"/>
                </a:lnTo>
                <a:lnTo>
                  <a:pt x="244" y="71"/>
                </a:lnTo>
                <a:lnTo>
                  <a:pt x="248" y="75"/>
                </a:lnTo>
                <a:lnTo>
                  <a:pt x="252" y="77"/>
                </a:lnTo>
                <a:lnTo>
                  <a:pt x="255" y="81"/>
                </a:lnTo>
                <a:lnTo>
                  <a:pt x="259" y="83"/>
                </a:lnTo>
                <a:lnTo>
                  <a:pt x="263" y="92"/>
                </a:lnTo>
                <a:lnTo>
                  <a:pt x="267" y="102"/>
                </a:lnTo>
                <a:lnTo>
                  <a:pt x="269" y="111"/>
                </a:lnTo>
                <a:lnTo>
                  <a:pt x="273" y="123"/>
                </a:lnTo>
                <a:lnTo>
                  <a:pt x="275" y="133"/>
                </a:lnTo>
                <a:lnTo>
                  <a:pt x="275" y="144"/>
                </a:lnTo>
                <a:lnTo>
                  <a:pt x="273" y="158"/>
                </a:lnTo>
                <a:lnTo>
                  <a:pt x="271" y="163"/>
                </a:lnTo>
                <a:lnTo>
                  <a:pt x="271" y="171"/>
                </a:lnTo>
                <a:lnTo>
                  <a:pt x="269" y="175"/>
                </a:lnTo>
                <a:lnTo>
                  <a:pt x="267" y="179"/>
                </a:lnTo>
                <a:lnTo>
                  <a:pt x="267" y="184"/>
                </a:lnTo>
                <a:lnTo>
                  <a:pt x="265" y="190"/>
                </a:lnTo>
                <a:lnTo>
                  <a:pt x="265" y="196"/>
                </a:lnTo>
                <a:lnTo>
                  <a:pt x="263" y="204"/>
                </a:lnTo>
                <a:lnTo>
                  <a:pt x="263" y="211"/>
                </a:lnTo>
                <a:lnTo>
                  <a:pt x="261" y="221"/>
                </a:lnTo>
                <a:lnTo>
                  <a:pt x="259" y="229"/>
                </a:lnTo>
                <a:lnTo>
                  <a:pt x="259" y="240"/>
                </a:lnTo>
                <a:lnTo>
                  <a:pt x="257" y="250"/>
                </a:lnTo>
                <a:lnTo>
                  <a:pt x="257" y="261"/>
                </a:lnTo>
                <a:lnTo>
                  <a:pt x="255" y="273"/>
                </a:lnTo>
                <a:lnTo>
                  <a:pt x="255" y="284"/>
                </a:lnTo>
                <a:lnTo>
                  <a:pt x="253" y="298"/>
                </a:lnTo>
                <a:lnTo>
                  <a:pt x="252" y="311"/>
                </a:lnTo>
                <a:lnTo>
                  <a:pt x="252" y="326"/>
                </a:lnTo>
                <a:lnTo>
                  <a:pt x="250" y="342"/>
                </a:lnTo>
                <a:lnTo>
                  <a:pt x="250" y="357"/>
                </a:lnTo>
                <a:lnTo>
                  <a:pt x="248" y="374"/>
                </a:lnTo>
                <a:lnTo>
                  <a:pt x="248" y="392"/>
                </a:lnTo>
                <a:lnTo>
                  <a:pt x="246" y="409"/>
                </a:lnTo>
                <a:lnTo>
                  <a:pt x="244" y="428"/>
                </a:lnTo>
                <a:lnTo>
                  <a:pt x="244" y="445"/>
                </a:lnTo>
                <a:lnTo>
                  <a:pt x="242" y="467"/>
                </a:lnTo>
                <a:lnTo>
                  <a:pt x="242" y="486"/>
                </a:lnTo>
                <a:lnTo>
                  <a:pt x="240" y="507"/>
                </a:lnTo>
                <a:lnTo>
                  <a:pt x="240" y="530"/>
                </a:lnTo>
                <a:lnTo>
                  <a:pt x="238" y="551"/>
                </a:lnTo>
                <a:lnTo>
                  <a:pt x="238" y="574"/>
                </a:lnTo>
                <a:lnTo>
                  <a:pt x="236" y="599"/>
                </a:lnTo>
                <a:lnTo>
                  <a:pt x="236" y="624"/>
                </a:lnTo>
                <a:lnTo>
                  <a:pt x="232" y="674"/>
                </a:lnTo>
                <a:lnTo>
                  <a:pt x="230" y="726"/>
                </a:lnTo>
                <a:lnTo>
                  <a:pt x="229" y="777"/>
                </a:lnTo>
                <a:lnTo>
                  <a:pt x="227" y="833"/>
                </a:lnTo>
                <a:lnTo>
                  <a:pt x="225" y="889"/>
                </a:lnTo>
                <a:lnTo>
                  <a:pt x="223" y="946"/>
                </a:lnTo>
                <a:lnTo>
                  <a:pt x="221" y="1004"/>
                </a:lnTo>
                <a:lnTo>
                  <a:pt x="219" y="1063"/>
                </a:lnTo>
                <a:lnTo>
                  <a:pt x="217" y="1125"/>
                </a:lnTo>
                <a:lnTo>
                  <a:pt x="217" y="1188"/>
                </a:lnTo>
                <a:lnTo>
                  <a:pt x="215" y="1252"/>
                </a:lnTo>
                <a:lnTo>
                  <a:pt x="215" y="1317"/>
                </a:lnTo>
                <a:lnTo>
                  <a:pt x="213" y="1384"/>
                </a:lnTo>
                <a:lnTo>
                  <a:pt x="213" y="1451"/>
                </a:lnTo>
                <a:lnTo>
                  <a:pt x="213" y="1520"/>
                </a:lnTo>
                <a:lnTo>
                  <a:pt x="213" y="1589"/>
                </a:lnTo>
                <a:lnTo>
                  <a:pt x="150" y="1609"/>
                </a:lnTo>
                <a:lnTo>
                  <a:pt x="86" y="1628"/>
                </a:lnTo>
                <a:lnTo>
                  <a:pt x="86" y="1611"/>
                </a:lnTo>
                <a:lnTo>
                  <a:pt x="86" y="1591"/>
                </a:lnTo>
                <a:lnTo>
                  <a:pt x="86" y="1572"/>
                </a:lnTo>
                <a:lnTo>
                  <a:pt x="86" y="1553"/>
                </a:lnTo>
                <a:lnTo>
                  <a:pt x="86" y="1532"/>
                </a:lnTo>
                <a:lnTo>
                  <a:pt x="86" y="1511"/>
                </a:lnTo>
                <a:lnTo>
                  <a:pt x="86" y="1490"/>
                </a:lnTo>
                <a:lnTo>
                  <a:pt x="86" y="1467"/>
                </a:lnTo>
                <a:lnTo>
                  <a:pt x="86" y="1444"/>
                </a:lnTo>
                <a:lnTo>
                  <a:pt x="86" y="1421"/>
                </a:lnTo>
                <a:lnTo>
                  <a:pt x="86" y="1397"/>
                </a:lnTo>
                <a:lnTo>
                  <a:pt x="86" y="1373"/>
                </a:lnTo>
                <a:lnTo>
                  <a:pt x="86" y="1348"/>
                </a:lnTo>
                <a:lnTo>
                  <a:pt x="86" y="1321"/>
                </a:lnTo>
                <a:lnTo>
                  <a:pt x="86" y="1294"/>
                </a:lnTo>
                <a:lnTo>
                  <a:pt x="86" y="1267"/>
                </a:lnTo>
                <a:lnTo>
                  <a:pt x="86" y="1238"/>
                </a:lnTo>
                <a:lnTo>
                  <a:pt x="86" y="1209"/>
                </a:lnTo>
                <a:lnTo>
                  <a:pt x="86" y="1181"/>
                </a:lnTo>
                <a:lnTo>
                  <a:pt x="86" y="1150"/>
                </a:lnTo>
                <a:lnTo>
                  <a:pt x="86" y="1119"/>
                </a:lnTo>
                <a:lnTo>
                  <a:pt x="86" y="1088"/>
                </a:lnTo>
                <a:lnTo>
                  <a:pt x="86" y="1056"/>
                </a:lnTo>
                <a:lnTo>
                  <a:pt x="86" y="1023"/>
                </a:lnTo>
                <a:lnTo>
                  <a:pt x="86" y="991"/>
                </a:lnTo>
                <a:lnTo>
                  <a:pt x="86" y="956"/>
                </a:lnTo>
                <a:lnTo>
                  <a:pt x="86" y="921"/>
                </a:lnTo>
                <a:lnTo>
                  <a:pt x="86" y="885"/>
                </a:lnTo>
                <a:lnTo>
                  <a:pt x="86" y="849"/>
                </a:lnTo>
                <a:lnTo>
                  <a:pt x="86" y="812"/>
                </a:lnTo>
                <a:lnTo>
                  <a:pt x="86" y="774"/>
                </a:lnTo>
                <a:lnTo>
                  <a:pt x="86" y="735"/>
                </a:lnTo>
                <a:lnTo>
                  <a:pt x="85" y="699"/>
                </a:lnTo>
                <a:lnTo>
                  <a:pt x="83" y="662"/>
                </a:lnTo>
                <a:lnTo>
                  <a:pt x="83" y="628"/>
                </a:lnTo>
                <a:lnTo>
                  <a:pt x="81" y="593"/>
                </a:lnTo>
                <a:lnTo>
                  <a:pt x="81" y="561"/>
                </a:lnTo>
                <a:lnTo>
                  <a:pt x="79" y="530"/>
                </a:lnTo>
                <a:lnTo>
                  <a:pt x="77" y="499"/>
                </a:lnTo>
                <a:lnTo>
                  <a:pt x="77" y="470"/>
                </a:lnTo>
                <a:lnTo>
                  <a:pt x="75" y="442"/>
                </a:lnTo>
                <a:lnTo>
                  <a:pt x="73" y="415"/>
                </a:lnTo>
                <a:lnTo>
                  <a:pt x="73" y="388"/>
                </a:lnTo>
                <a:lnTo>
                  <a:pt x="71" y="363"/>
                </a:lnTo>
                <a:lnTo>
                  <a:pt x="69" y="340"/>
                </a:lnTo>
                <a:lnTo>
                  <a:pt x="69" y="317"/>
                </a:lnTo>
                <a:lnTo>
                  <a:pt x="67" y="296"/>
                </a:lnTo>
                <a:lnTo>
                  <a:pt x="65" y="275"/>
                </a:lnTo>
                <a:lnTo>
                  <a:pt x="63" y="255"/>
                </a:lnTo>
                <a:lnTo>
                  <a:pt x="62" y="236"/>
                </a:lnTo>
                <a:lnTo>
                  <a:pt x="60" y="219"/>
                </a:lnTo>
                <a:lnTo>
                  <a:pt x="58" y="204"/>
                </a:lnTo>
                <a:lnTo>
                  <a:pt x="56" y="188"/>
                </a:lnTo>
                <a:lnTo>
                  <a:pt x="54" y="175"/>
                </a:lnTo>
                <a:lnTo>
                  <a:pt x="52" y="161"/>
                </a:lnTo>
                <a:lnTo>
                  <a:pt x="50" y="150"/>
                </a:lnTo>
                <a:lnTo>
                  <a:pt x="48" y="138"/>
                </a:lnTo>
                <a:lnTo>
                  <a:pt x="44" y="129"/>
                </a:lnTo>
                <a:lnTo>
                  <a:pt x="42" y="121"/>
                </a:lnTo>
                <a:lnTo>
                  <a:pt x="40" y="113"/>
                </a:lnTo>
                <a:lnTo>
                  <a:pt x="37" y="108"/>
                </a:lnTo>
                <a:lnTo>
                  <a:pt x="35" y="102"/>
                </a:lnTo>
                <a:lnTo>
                  <a:pt x="31" y="98"/>
                </a:lnTo>
                <a:lnTo>
                  <a:pt x="29" y="9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131"/>
          <p:cNvSpPr/>
          <p:nvPr/>
        </p:nvSpPr>
        <p:spPr>
          <a:xfrm>
            <a:off x="5581800" y="3549600"/>
            <a:ext cx="657000" cy="231840"/>
          </a:xfrm>
          <a:custGeom>
            <a:avLst/>
            <a:gdLst/>
            <a:ahLst/>
            <a:rect l="l" t="t" r="r" b="b"/>
            <a:pathLst>
              <a:path w="827" h="292">
                <a:moveTo>
                  <a:pt x="368" y="91"/>
                </a:moveTo>
                <a:lnTo>
                  <a:pt x="390" y="85"/>
                </a:lnTo>
                <a:lnTo>
                  <a:pt x="411" y="79"/>
                </a:lnTo>
                <a:lnTo>
                  <a:pt x="432" y="73"/>
                </a:lnTo>
                <a:lnTo>
                  <a:pt x="453" y="67"/>
                </a:lnTo>
                <a:lnTo>
                  <a:pt x="474" y="64"/>
                </a:lnTo>
                <a:lnTo>
                  <a:pt x="493" y="58"/>
                </a:lnTo>
                <a:lnTo>
                  <a:pt x="511" y="54"/>
                </a:lnTo>
                <a:lnTo>
                  <a:pt x="530" y="48"/>
                </a:lnTo>
                <a:lnTo>
                  <a:pt x="547" y="44"/>
                </a:lnTo>
                <a:lnTo>
                  <a:pt x="564" y="41"/>
                </a:lnTo>
                <a:lnTo>
                  <a:pt x="580" y="35"/>
                </a:lnTo>
                <a:lnTo>
                  <a:pt x="595" y="31"/>
                </a:lnTo>
                <a:lnTo>
                  <a:pt x="610" y="27"/>
                </a:lnTo>
                <a:lnTo>
                  <a:pt x="626" y="25"/>
                </a:lnTo>
                <a:lnTo>
                  <a:pt x="639" y="21"/>
                </a:lnTo>
                <a:lnTo>
                  <a:pt x="653" y="18"/>
                </a:lnTo>
                <a:lnTo>
                  <a:pt x="664" y="16"/>
                </a:lnTo>
                <a:lnTo>
                  <a:pt x="678" y="14"/>
                </a:lnTo>
                <a:lnTo>
                  <a:pt x="689" y="10"/>
                </a:lnTo>
                <a:lnTo>
                  <a:pt x="699" y="8"/>
                </a:lnTo>
                <a:lnTo>
                  <a:pt x="710" y="6"/>
                </a:lnTo>
                <a:lnTo>
                  <a:pt x="720" y="4"/>
                </a:lnTo>
                <a:lnTo>
                  <a:pt x="727" y="4"/>
                </a:lnTo>
                <a:lnTo>
                  <a:pt x="737" y="2"/>
                </a:lnTo>
                <a:lnTo>
                  <a:pt x="745" y="2"/>
                </a:lnTo>
                <a:lnTo>
                  <a:pt x="752" y="0"/>
                </a:lnTo>
                <a:lnTo>
                  <a:pt x="758" y="0"/>
                </a:lnTo>
                <a:lnTo>
                  <a:pt x="764" y="0"/>
                </a:lnTo>
                <a:lnTo>
                  <a:pt x="770" y="0"/>
                </a:lnTo>
                <a:lnTo>
                  <a:pt x="774" y="2"/>
                </a:lnTo>
                <a:lnTo>
                  <a:pt x="777" y="2"/>
                </a:lnTo>
                <a:lnTo>
                  <a:pt x="781" y="4"/>
                </a:lnTo>
                <a:lnTo>
                  <a:pt x="789" y="6"/>
                </a:lnTo>
                <a:lnTo>
                  <a:pt x="793" y="8"/>
                </a:lnTo>
                <a:lnTo>
                  <a:pt x="798" y="12"/>
                </a:lnTo>
                <a:lnTo>
                  <a:pt x="804" y="14"/>
                </a:lnTo>
                <a:lnTo>
                  <a:pt x="812" y="21"/>
                </a:lnTo>
                <a:lnTo>
                  <a:pt x="818" y="29"/>
                </a:lnTo>
                <a:lnTo>
                  <a:pt x="821" y="35"/>
                </a:lnTo>
                <a:lnTo>
                  <a:pt x="825" y="43"/>
                </a:lnTo>
                <a:lnTo>
                  <a:pt x="827" y="48"/>
                </a:lnTo>
                <a:lnTo>
                  <a:pt x="827" y="54"/>
                </a:lnTo>
                <a:lnTo>
                  <a:pt x="827" y="62"/>
                </a:lnTo>
                <a:lnTo>
                  <a:pt x="825" y="71"/>
                </a:lnTo>
                <a:lnTo>
                  <a:pt x="821" y="81"/>
                </a:lnTo>
                <a:lnTo>
                  <a:pt x="818" y="89"/>
                </a:lnTo>
                <a:lnTo>
                  <a:pt x="812" y="98"/>
                </a:lnTo>
                <a:lnTo>
                  <a:pt x="804" y="104"/>
                </a:lnTo>
                <a:lnTo>
                  <a:pt x="798" y="108"/>
                </a:lnTo>
                <a:lnTo>
                  <a:pt x="793" y="112"/>
                </a:lnTo>
                <a:lnTo>
                  <a:pt x="789" y="114"/>
                </a:lnTo>
                <a:lnTo>
                  <a:pt x="781" y="115"/>
                </a:lnTo>
                <a:lnTo>
                  <a:pt x="775" y="121"/>
                </a:lnTo>
                <a:lnTo>
                  <a:pt x="766" y="127"/>
                </a:lnTo>
                <a:lnTo>
                  <a:pt x="754" y="131"/>
                </a:lnTo>
                <a:lnTo>
                  <a:pt x="743" y="137"/>
                </a:lnTo>
                <a:lnTo>
                  <a:pt x="729" y="142"/>
                </a:lnTo>
                <a:lnTo>
                  <a:pt x="714" y="148"/>
                </a:lnTo>
                <a:lnTo>
                  <a:pt x="697" y="156"/>
                </a:lnTo>
                <a:lnTo>
                  <a:pt x="678" y="162"/>
                </a:lnTo>
                <a:lnTo>
                  <a:pt x="656" y="167"/>
                </a:lnTo>
                <a:lnTo>
                  <a:pt x="633" y="175"/>
                </a:lnTo>
                <a:lnTo>
                  <a:pt x="608" y="181"/>
                </a:lnTo>
                <a:lnTo>
                  <a:pt x="583" y="188"/>
                </a:lnTo>
                <a:lnTo>
                  <a:pt x="555" y="196"/>
                </a:lnTo>
                <a:lnTo>
                  <a:pt x="524" y="202"/>
                </a:lnTo>
                <a:lnTo>
                  <a:pt x="493" y="210"/>
                </a:lnTo>
                <a:lnTo>
                  <a:pt x="461" y="217"/>
                </a:lnTo>
                <a:lnTo>
                  <a:pt x="443" y="221"/>
                </a:lnTo>
                <a:lnTo>
                  <a:pt x="426" y="227"/>
                </a:lnTo>
                <a:lnTo>
                  <a:pt x="411" y="231"/>
                </a:lnTo>
                <a:lnTo>
                  <a:pt x="395" y="234"/>
                </a:lnTo>
                <a:lnTo>
                  <a:pt x="380" y="238"/>
                </a:lnTo>
                <a:lnTo>
                  <a:pt x="367" y="242"/>
                </a:lnTo>
                <a:lnTo>
                  <a:pt x="351" y="246"/>
                </a:lnTo>
                <a:lnTo>
                  <a:pt x="340" y="250"/>
                </a:lnTo>
                <a:lnTo>
                  <a:pt x="326" y="254"/>
                </a:lnTo>
                <a:lnTo>
                  <a:pt x="315" y="258"/>
                </a:lnTo>
                <a:lnTo>
                  <a:pt x="301" y="259"/>
                </a:lnTo>
                <a:lnTo>
                  <a:pt x="292" y="263"/>
                </a:lnTo>
                <a:lnTo>
                  <a:pt x="280" y="265"/>
                </a:lnTo>
                <a:lnTo>
                  <a:pt x="271" y="269"/>
                </a:lnTo>
                <a:lnTo>
                  <a:pt x="261" y="271"/>
                </a:lnTo>
                <a:lnTo>
                  <a:pt x="251" y="273"/>
                </a:lnTo>
                <a:lnTo>
                  <a:pt x="242" y="277"/>
                </a:lnTo>
                <a:lnTo>
                  <a:pt x="234" y="279"/>
                </a:lnTo>
                <a:lnTo>
                  <a:pt x="226" y="281"/>
                </a:lnTo>
                <a:lnTo>
                  <a:pt x="219" y="282"/>
                </a:lnTo>
                <a:lnTo>
                  <a:pt x="213" y="282"/>
                </a:lnTo>
                <a:lnTo>
                  <a:pt x="207" y="284"/>
                </a:lnTo>
                <a:lnTo>
                  <a:pt x="202" y="286"/>
                </a:lnTo>
                <a:lnTo>
                  <a:pt x="196" y="288"/>
                </a:lnTo>
                <a:lnTo>
                  <a:pt x="192" y="288"/>
                </a:lnTo>
                <a:lnTo>
                  <a:pt x="186" y="290"/>
                </a:lnTo>
                <a:lnTo>
                  <a:pt x="182" y="290"/>
                </a:lnTo>
                <a:lnTo>
                  <a:pt x="180" y="290"/>
                </a:lnTo>
                <a:lnTo>
                  <a:pt x="177" y="292"/>
                </a:lnTo>
                <a:lnTo>
                  <a:pt x="175" y="292"/>
                </a:lnTo>
                <a:lnTo>
                  <a:pt x="173" y="292"/>
                </a:lnTo>
                <a:lnTo>
                  <a:pt x="169" y="292"/>
                </a:lnTo>
                <a:lnTo>
                  <a:pt x="167" y="292"/>
                </a:lnTo>
                <a:lnTo>
                  <a:pt x="163" y="290"/>
                </a:lnTo>
                <a:lnTo>
                  <a:pt x="159" y="290"/>
                </a:lnTo>
                <a:lnTo>
                  <a:pt x="150" y="286"/>
                </a:lnTo>
                <a:lnTo>
                  <a:pt x="138" y="282"/>
                </a:lnTo>
                <a:lnTo>
                  <a:pt x="127" y="277"/>
                </a:lnTo>
                <a:lnTo>
                  <a:pt x="111" y="271"/>
                </a:lnTo>
                <a:lnTo>
                  <a:pt x="96" y="263"/>
                </a:lnTo>
                <a:lnTo>
                  <a:pt x="81" y="254"/>
                </a:lnTo>
                <a:lnTo>
                  <a:pt x="69" y="252"/>
                </a:lnTo>
                <a:lnTo>
                  <a:pt x="59" y="250"/>
                </a:lnTo>
                <a:lnTo>
                  <a:pt x="52" y="246"/>
                </a:lnTo>
                <a:lnTo>
                  <a:pt x="42" y="242"/>
                </a:lnTo>
                <a:lnTo>
                  <a:pt x="35" y="240"/>
                </a:lnTo>
                <a:lnTo>
                  <a:pt x="29" y="236"/>
                </a:lnTo>
                <a:lnTo>
                  <a:pt x="23" y="233"/>
                </a:lnTo>
                <a:lnTo>
                  <a:pt x="17" y="229"/>
                </a:lnTo>
                <a:lnTo>
                  <a:pt x="13" y="225"/>
                </a:lnTo>
                <a:lnTo>
                  <a:pt x="10" y="223"/>
                </a:lnTo>
                <a:lnTo>
                  <a:pt x="6" y="219"/>
                </a:lnTo>
                <a:lnTo>
                  <a:pt x="4" y="215"/>
                </a:lnTo>
                <a:lnTo>
                  <a:pt x="2" y="213"/>
                </a:lnTo>
                <a:lnTo>
                  <a:pt x="0" y="210"/>
                </a:lnTo>
                <a:lnTo>
                  <a:pt x="0" y="208"/>
                </a:lnTo>
                <a:lnTo>
                  <a:pt x="0" y="204"/>
                </a:lnTo>
                <a:lnTo>
                  <a:pt x="0" y="202"/>
                </a:lnTo>
                <a:lnTo>
                  <a:pt x="2" y="200"/>
                </a:lnTo>
                <a:lnTo>
                  <a:pt x="6" y="198"/>
                </a:lnTo>
                <a:lnTo>
                  <a:pt x="8" y="196"/>
                </a:lnTo>
                <a:lnTo>
                  <a:pt x="11" y="194"/>
                </a:lnTo>
                <a:lnTo>
                  <a:pt x="17" y="192"/>
                </a:lnTo>
                <a:lnTo>
                  <a:pt x="23" y="190"/>
                </a:lnTo>
                <a:lnTo>
                  <a:pt x="29" y="188"/>
                </a:lnTo>
                <a:lnTo>
                  <a:pt x="36" y="185"/>
                </a:lnTo>
                <a:lnTo>
                  <a:pt x="44" y="183"/>
                </a:lnTo>
                <a:lnTo>
                  <a:pt x="52" y="179"/>
                </a:lnTo>
                <a:lnTo>
                  <a:pt x="61" y="177"/>
                </a:lnTo>
                <a:lnTo>
                  <a:pt x="71" y="173"/>
                </a:lnTo>
                <a:lnTo>
                  <a:pt x="81" y="169"/>
                </a:lnTo>
                <a:lnTo>
                  <a:pt x="92" y="167"/>
                </a:lnTo>
                <a:lnTo>
                  <a:pt x="106" y="163"/>
                </a:lnTo>
                <a:lnTo>
                  <a:pt x="117" y="160"/>
                </a:lnTo>
                <a:lnTo>
                  <a:pt x="130" y="156"/>
                </a:lnTo>
                <a:lnTo>
                  <a:pt x="146" y="152"/>
                </a:lnTo>
                <a:lnTo>
                  <a:pt x="159" y="148"/>
                </a:lnTo>
                <a:lnTo>
                  <a:pt x="175" y="142"/>
                </a:lnTo>
                <a:lnTo>
                  <a:pt x="192" y="139"/>
                </a:lnTo>
                <a:lnTo>
                  <a:pt x="207" y="135"/>
                </a:lnTo>
                <a:lnTo>
                  <a:pt x="226" y="129"/>
                </a:lnTo>
                <a:lnTo>
                  <a:pt x="244" y="123"/>
                </a:lnTo>
                <a:lnTo>
                  <a:pt x="263" y="119"/>
                </a:lnTo>
                <a:lnTo>
                  <a:pt x="282" y="114"/>
                </a:lnTo>
                <a:lnTo>
                  <a:pt x="303" y="108"/>
                </a:lnTo>
                <a:lnTo>
                  <a:pt x="324" y="102"/>
                </a:lnTo>
                <a:lnTo>
                  <a:pt x="345" y="96"/>
                </a:lnTo>
                <a:lnTo>
                  <a:pt x="368" y="9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6"/>
                                        </p:tgtEl>
                                        <p:attrNameLst>
                                          <p:attrName>style.visibility</p:attrName>
                                        </p:attrNameLst>
                                      </p:cBhvr>
                                      <p:to>
                                        <p:strVal val="visible"/>
                                      </p:to>
                                    </p:set>
                                    <p:anim calcmode="lin" valueType="num">
                                      <p:cBhvr additive="base">
                                        <p:cTn id="87" dur="500" fill="hold"/>
                                        <p:tgtEl>
                                          <p:spTgt spid="106"/>
                                        </p:tgtEl>
                                        <p:attrNameLst>
                                          <p:attrName>ppt_x</p:attrName>
                                        </p:attrNameLst>
                                      </p:cBhvr>
                                      <p:tavLst>
                                        <p:tav tm="0">
                                          <p:val>
                                            <p:strVal val="0-#ppt_w/2"/>
                                          </p:val>
                                        </p:tav>
                                        <p:tav tm="100000">
                                          <p:val>
                                            <p:strVal val="#ppt_x"/>
                                          </p:val>
                                        </p:tav>
                                      </p:tavLst>
                                    </p:anim>
                                    <p:anim calcmode="lin" valueType="num">
                                      <p:cBhvr additive="base">
                                        <p:cTn id="8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18"/>
                                        </p:tgtEl>
                                        <p:attrNameLst>
                                          <p:attrName>style.visibility</p:attrName>
                                        </p:attrNameLst>
                                      </p:cBhvr>
                                      <p:to>
                                        <p:strVal val="visible"/>
                                      </p:to>
                                    </p:set>
                                    <p:animEffect filter="wipe(left)" transition="in">
                                      <p:cBhvr additive="repl">
                                        <p:cTn id="93" dur="500"/>
                                        <p:tgtEl>
                                          <p:spTgt spid="118"/>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17"/>
                                        </p:tgtEl>
                                        <p:attrNameLst>
                                          <p:attrName>style.visibility</p:attrName>
                                        </p:attrNameLst>
                                      </p:cBhvr>
                                      <p:to>
                                        <p:strVal val="visible"/>
                                      </p:to>
                                    </p:set>
                                    <p:animEffect filter="wipe(up)" transition="in">
                                      <p:cBhvr additive="repl">
                                        <p:cTn id="98" dur="500"/>
                                        <p:tgtEl>
                                          <p:spTgt spid="117"/>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16"/>
                                        </p:tgtEl>
                                        <p:attrNameLst>
                                          <p:attrName>style.visibility</p:attrName>
                                        </p:attrNameLst>
                                      </p:cBhvr>
                                      <p:to>
                                        <p:strVal val="visible"/>
                                      </p:to>
                                    </p:set>
                                    <p:animEffect filter="wipe(down)" transition="in">
                                      <p:cBhvr additive="repl">
                                        <p:cTn id="103" dur="500"/>
                                        <p:tgtEl>
                                          <p:spTgt spid="11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5"/>
                                        </p:tgtEl>
                                        <p:attrNameLst>
                                          <p:attrName>style.visibility</p:attrName>
                                        </p:attrNameLst>
                                      </p:cBhvr>
                                      <p:to>
                                        <p:strVal val="visible"/>
                                      </p:to>
                                    </p:set>
                                    <p:animEffect filter="wipe(left)" transition="in">
                                      <p:cBhvr additive="repl">
                                        <p:cTn id="108" dur="500"/>
                                        <p:tgtEl>
                                          <p:spTgt spid="115"/>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4"/>
                                        </p:tgtEl>
                                        <p:attrNameLst>
                                          <p:attrName>style.visibility</p:attrName>
                                        </p:attrNameLst>
                                      </p:cBhvr>
                                      <p:to>
                                        <p:strVal val="visible"/>
                                      </p:to>
                                    </p:set>
                                    <p:animEffect filter="wipe(up)" transition="in">
                                      <p:cBhvr additive="repl">
                                        <p:cTn id="113" dur="500"/>
                                        <p:tgtEl>
                                          <p:spTgt spid="114"/>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113"/>
                                        </p:tgtEl>
                                        <p:attrNameLst>
                                          <p:attrName>style.visibility</p:attrName>
                                        </p:attrNameLst>
                                      </p:cBhvr>
                                      <p:to>
                                        <p:strVal val="visible"/>
                                      </p:to>
                                    </p:set>
                                    <p:animEffect filter="wipe(up)" transition="in">
                                      <p:cBhvr additive="repl">
                                        <p:cTn id="118" dur="500"/>
                                        <p:tgtEl>
                                          <p:spTgt spid="113"/>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12"/>
                                        </p:tgtEl>
                                        <p:attrNameLst>
                                          <p:attrName>style.visibility</p:attrName>
                                        </p:attrNameLst>
                                      </p:cBhvr>
                                      <p:to>
                                        <p:strVal val="visible"/>
                                      </p:to>
                                    </p:set>
                                    <p:animEffect filter="wipe(up)" transition="in">
                                      <p:cBhvr additive="repl">
                                        <p:cTn id="123" dur="500"/>
                                        <p:tgtEl>
                                          <p:spTgt spid="11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11"/>
                                        </p:tgtEl>
                                        <p:attrNameLst>
                                          <p:attrName>style.visibility</p:attrName>
                                        </p:attrNameLst>
                                      </p:cBhvr>
                                      <p:to>
                                        <p:strVal val="visible"/>
                                      </p:to>
                                    </p:set>
                                    <p:animEffect filter="wipe(up)" transition="in">
                                      <p:cBhvr additive="repl">
                                        <p:cTn id="128" dur="500"/>
                                        <p:tgtEl>
                                          <p:spTgt spid="11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10"/>
                                        </p:tgtEl>
                                        <p:attrNameLst>
                                          <p:attrName>style.visibility</p:attrName>
                                        </p:attrNameLst>
                                      </p:cBhvr>
                                      <p:to>
                                        <p:strVal val="visible"/>
                                      </p:to>
                                    </p:set>
                                    <p:animEffect filter="wipe(left)" transition="in">
                                      <p:cBhvr additive="repl">
                                        <p:cTn id="133" dur="500"/>
                                        <p:tgtEl>
                                          <p:spTgt spid="110"/>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09"/>
                                        </p:tgtEl>
                                        <p:attrNameLst>
                                          <p:attrName>style.visibility</p:attrName>
                                        </p:attrNameLst>
                                      </p:cBhvr>
                                      <p:to>
                                        <p:strVal val="visible"/>
                                      </p:to>
                                    </p:set>
                                    <p:animEffect filter="wipe(up)" transition="in">
                                      <p:cBhvr additive="repl">
                                        <p:cTn id="138" dur="500"/>
                                        <p:tgtEl>
                                          <p:spTgt spid="109"/>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07"/>
                                        </p:tgtEl>
                                        <p:attrNameLst>
                                          <p:attrName>style.visibility</p:attrName>
                                        </p:attrNameLst>
                                      </p:cBhvr>
                                      <p:to>
                                        <p:strVal val="visible"/>
                                      </p:to>
                                    </p:set>
                                    <p:animEffect filter="wipe(left)" transition="in">
                                      <p:cBhvr additive="repl">
                                        <p:cTn id="143" dur="500"/>
                                        <p:tgtEl>
                                          <p:spTgt spid="10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8"/>
                                        </p:tgtEl>
                                        <p:attrNameLst>
                                          <p:attrName>style.visibility</p:attrName>
                                        </p:attrNameLst>
                                      </p:cBhvr>
                                      <p:to>
                                        <p:strVal val="visible"/>
                                      </p:to>
                                    </p:set>
                                    <p:animEffect filter="wipe(left)" transition="in">
                                      <p:cBhvr additive="repl">
                                        <p:cTn id="148" dur="500"/>
                                        <p:tgtEl>
                                          <p:spTgt spid="10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3" presetSubtype="16">
                                  <p:stCondLst>
                                    <p:cond delay="0"/>
                                  </p:stCondLst>
                                  <p:childTnLst>
                                    <p:set>
                                      <p:cBhvr>
                                        <p:cTn id="152" dur="1" fill="hold">
                                          <p:stCondLst>
                                            <p:cond delay="0"/>
                                          </p:stCondLst>
                                        </p:cTn>
                                        <p:tgtEl>
                                          <p:spTgt spid="103"/>
                                        </p:tgtEl>
                                        <p:attrNameLst>
                                          <p:attrName>style.visibility</p:attrName>
                                        </p:attrNameLst>
                                      </p:cBhvr>
                                      <p:to>
                                        <p:strVal val="visible"/>
                                      </p:to>
                                    </p:set>
                                    <p:anim calcmode="lin" valueType="num">
                                      <p:cBhvr additive="repl">
                                        <p:cTn id="153" dur="500" fill="hold"/>
                                        <p:tgtEl>
                                          <p:spTgt spid="103"/>
                                        </p:tgtEl>
                                        <p:attrNameLst>
                                          <p:attrName>ppt_w</p:attrName>
                                        </p:attrNameLst>
                                      </p:cBhvr>
                                      <p:tavLst>
                                        <p:tav tm="0">
                                          <p:val>
                                            <p:fltVal val="0"/>
                                          </p:val>
                                        </p:tav>
                                        <p:tav tm="100000">
                                          <p:val>
                                            <p:strVal val="#ppt_w"/>
                                          </p:val>
                                        </p:tav>
                                      </p:tavLst>
                                    </p:anim>
                                    <p:anim calcmode="lin" valueType="num">
                                      <p:cBhvr additive="repl">
                                        <p:cTn id="154" dur="500" fill="hold"/>
                                        <p:tgtEl>
                                          <p:spTgt spid="103"/>
                                        </p:tgtEl>
                                        <p:attrNameLst>
                                          <p:attrName>ppt_h</p:attrName>
                                        </p:attrNameLst>
                                      </p:cBhvr>
                                      <p:tavLst>
                                        <p:tav tm="0">
                                          <p:val>
                                            <p:fltVal val="0"/>
                                          </p:val>
                                        </p:tav>
                                        <p:tav tm="100000">
                                          <p:val>
                                            <p:strVal val="#ppt_h"/>
                                          </p:val>
                                        </p:tav>
                                      </p:tavLst>
                                    </p:anim>
                                    <p:animEffect filter="fade" transition="in">
                                      <p:cBhvr additive="repl">
                                        <p:cTn id="15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矩形 4"/>
          <p:cNvSpPr/>
          <p:nvPr/>
        </p:nvSpPr>
        <p:spPr>
          <a:xfrm>
            <a:off x="2218680" y="254808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澈</a:t>
            </a:r>
            <a:endParaRPr b="0" lang="en-US" sz="8000" spc="-1" strike="noStrike">
              <a:solidFill>
                <a:srgbClr val="000000"/>
              </a:solidFill>
              <a:latin typeface="Calibri"/>
            </a:endParaRPr>
          </a:p>
        </p:txBody>
      </p:sp>
      <p:graphicFrame>
        <p:nvGraphicFramePr>
          <p:cNvPr id="120"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21" name="组合 5"/>
          <p:cNvGrpSpPr/>
          <p:nvPr/>
        </p:nvGrpSpPr>
        <p:grpSpPr>
          <a:xfrm>
            <a:off x="1176480" y="3975120"/>
            <a:ext cx="2840040" cy="1621440"/>
            <a:chOff x="1176480" y="3975120"/>
            <a:chExt cx="2840040" cy="1621440"/>
          </a:xfrm>
        </p:grpSpPr>
        <p:pic>
          <p:nvPicPr>
            <p:cNvPr id="122" name="图示 4" descr=""/>
            <p:cNvPicPr/>
            <p:nvPr/>
          </p:nvPicPr>
          <p:blipFill>
            <a:blip r:embed="rId1"/>
            <a:stretch/>
          </p:blipFill>
          <p:spPr>
            <a:xfrm>
              <a:off x="1176480" y="3975120"/>
              <a:ext cx="2840040" cy="1572480"/>
            </a:xfrm>
            <a:prstGeom prst="rect">
              <a:avLst/>
            </a:prstGeom>
            <a:ln w="0">
              <a:noFill/>
            </a:ln>
          </p:spPr>
        </p:pic>
        <p:sp>
          <p:nvSpPr>
            <p:cNvPr id="123" name="矩形 2"/>
            <p:cNvSpPr/>
            <p:nvPr/>
          </p:nvSpPr>
          <p:spPr>
            <a:xfrm>
              <a:off x="1188360" y="4588200"/>
              <a:ext cx="28152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整体书写紧凑。</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24" name="AutoShape 22"/>
          <p:cNvSpPr/>
          <p:nvPr/>
        </p:nvSpPr>
        <p:spPr>
          <a:xfrm>
            <a:off x="3746520" y="1442880"/>
            <a:ext cx="5738760" cy="547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5" name="Picture 24" descr=""/>
          <p:cNvPicPr/>
          <p:nvPr/>
        </p:nvPicPr>
        <p:blipFill>
          <a:blip r:embed="rId2"/>
          <a:stretch/>
        </p:blipFill>
        <p:spPr>
          <a:xfrm>
            <a:off x="3660840" y="1432080"/>
            <a:ext cx="5740200" cy="5478480"/>
          </a:xfrm>
          <a:prstGeom prst="rect">
            <a:avLst/>
          </a:prstGeom>
          <a:ln w="0">
            <a:noFill/>
          </a:ln>
        </p:spPr>
      </p:pic>
      <p:graphicFrame>
        <p:nvGraphicFramePr>
          <p:cNvPr id="126" name=""/>
          <p:cNvGraphicFramePr/>
          <p:nvPr/>
        </p:nvGraphicFramePr>
        <p:xfrm>
          <a:off x="5114880" y="2382840"/>
          <a:ext cx="3041640" cy="3040200"/>
        </p:xfrm>
        <a:graphic>
          <a:graphicData uri="http://schemas.openxmlformats.org/drawingml/2006/table">
            <a:tbl>
              <a:tblPr/>
              <a:tblGrid>
                <a:gridCol w="1522440"/>
                <a:gridCol w="151920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7" name="矩形 3"/>
          <p:cNvSpPr/>
          <p:nvPr/>
        </p:nvSpPr>
        <p:spPr>
          <a:xfrm>
            <a:off x="2085840" y="1938240"/>
            <a:ext cx="1204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chè</a:t>
            </a:r>
            <a:endParaRPr b="0" lang="en-US" sz="4800" spc="-1" strike="noStrike">
              <a:solidFill>
                <a:srgbClr val="000000"/>
              </a:solidFill>
              <a:latin typeface="Calibri"/>
            </a:endParaRPr>
          </a:p>
        </p:txBody>
      </p:sp>
      <p:sp>
        <p:nvSpPr>
          <p:cNvPr id="128" name="Freeform 170"/>
          <p:cNvSpPr/>
          <p:nvPr/>
        </p:nvSpPr>
        <p:spPr>
          <a:xfrm>
            <a:off x="6748560" y="3895560"/>
            <a:ext cx="1058760" cy="954360"/>
          </a:xfrm>
          <a:custGeom>
            <a:avLst/>
            <a:gdLst/>
            <a:ahLst/>
            <a:rect l="l" t="t" r="r" b="b"/>
            <a:pathLst>
              <a:path w="1336" h="1201">
                <a:moveTo>
                  <a:pt x="906" y="1201"/>
                </a:moveTo>
                <a:lnTo>
                  <a:pt x="891" y="1197"/>
                </a:lnTo>
                <a:lnTo>
                  <a:pt x="875" y="1195"/>
                </a:lnTo>
                <a:lnTo>
                  <a:pt x="862" y="1191"/>
                </a:lnTo>
                <a:lnTo>
                  <a:pt x="848" y="1189"/>
                </a:lnTo>
                <a:lnTo>
                  <a:pt x="837" y="1188"/>
                </a:lnTo>
                <a:lnTo>
                  <a:pt x="823" y="1184"/>
                </a:lnTo>
                <a:lnTo>
                  <a:pt x="814" y="1182"/>
                </a:lnTo>
                <a:lnTo>
                  <a:pt x="802" y="1178"/>
                </a:lnTo>
                <a:lnTo>
                  <a:pt x="793" y="1174"/>
                </a:lnTo>
                <a:lnTo>
                  <a:pt x="783" y="1172"/>
                </a:lnTo>
                <a:lnTo>
                  <a:pt x="774" y="1168"/>
                </a:lnTo>
                <a:lnTo>
                  <a:pt x="766" y="1164"/>
                </a:lnTo>
                <a:lnTo>
                  <a:pt x="749" y="1155"/>
                </a:lnTo>
                <a:lnTo>
                  <a:pt x="735" y="1145"/>
                </a:lnTo>
                <a:lnTo>
                  <a:pt x="728" y="1143"/>
                </a:lnTo>
                <a:lnTo>
                  <a:pt x="720" y="1138"/>
                </a:lnTo>
                <a:lnTo>
                  <a:pt x="712" y="1132"/>
                </a:lnTo>
                <a:lnTo>
                  <a:pt x="704" y="1122"/>
                </a:lnTo>
                <a:lnTo>
                  <a:pt x="697" y="1115"/>
                </a:lnTo>
                <a:lnTo>
                  <a:pt x="687" y="1103"/>
                </a:lnTo>
                <a:lnTo>
                  <a:pt x="678" y="1092"/>
                </a:lnTo>
                <a:lnTo>
                  <a:pt x="668" y="1076"/>
                </a:lnTo>
                <a:lnTo>
                  <a:pt x="656" y="1061"/>
                </a:lnTo>
                <a:lnTo>
                  <a:pt x="645" y="1046"/>
                </a:lnTo>
                <a:lnTo>
                  <a:pt x="633" y="1026"/>
                </a:lnTo>
                <a:lnTo>
                  <a:pt x="622" y="1007"/>
                </a:lnTo>
                <a:lnTo>
                  <a:pt x="609" y="986"/>
                </a:lnTo>
                <a:lnTo>
                  <a:pt x="593" y="965"/>
                </a:lnTo>
                <a:lnTo>
                  <a:pt x="580" y="942"/>
                </a:lnTo>
                <a:lnTo>
                  <a:pt x="564" y="917"/>
                </a:lnTo>
                <a:lnTo>
                  <a:pt x="555" y="904"/>
                </a:lnTo>
                <a:lnTo>
                  <a:pt x="547" y="890"/>
                </a:lnTo>
                <a:lnTo>
                  <a:pt x="537" y="875"/>
                </a:lnTo>
                <a:lnTo>
                  <a:pt x="526" y="859"/>
                </a:lnTo>
                <a:lnTo>
                  <a:pt x="516" y="842"/>
                </a:lnTo>
                <a:lnTo>
                  <a:pt x="505" y="825"/>
                </a:lnTo>
                <a:lnTo>
                  <a:pt x="491" y="808"/>
                </a:lnTo>
                <a:lnTo>
                  <a:pt x="480" y="788"/>
                </a:lnTo>
                <a:lnTo>
                  <a:pt x="466" y="767"/>
                </a:lnTo>
                <a:lnTo>
                  <a:pt x="451" y="746"/>
                </a:lnTo>
                <a:lnTo>
                  <a:pt x="438" y="725"/>
                </a:lnTo>
                <a:lnTo>
                  <a:pt x="422" y="702"/>
                </a:lnTo>
                <a:lnTo>
                  <a:pt x="405" y="679"/>
                </a:lnTo>
                <a:lnTo>
                  <a:pt x="390" y="654"/>
                </a:lnTo>
                <a:lnTo>
                  <a:pt x="372" y="629"/>
                </a:lnTo>
                <a:lnTo>
                  <a:pt x="355" y="604"/>
                </a:lnTo>
                <a:lnTo>
                  <a:pt x="336" y="577"/>
                </a:lnTo>
                <a:lnTo>
                  <a:pt x="317" y="549"/>
                </a:lnTo>
                <a:lnTo>
                  <a:pt x="298" y="520"/>
                </a:lnTo>
                <a:lnTo>
                  <a:pt x="278" y="491"/>
                </a:lnTo>
                <a:lnTo>
                  <a:pt x="257" y="460"/>
                </a:lnTo>
                <a:lnTo>
                  <a:pt x="236" y="430"/>
                </a:lnTo>
                <a:lnTo>
                  <a:pt x="215" y="397"/>
                </a:lnTo>
                <a:lnTo>
                  <a:pt x="194" y="364"/>
                </a:lnTo>
                <a:lnTo>
                  <a:pt x="171" y="330"/>
                </a:lnTo>
                <a:lnTo>
                  <a:pt x="148" y="295"/>
                </a:lnTo>
                <a:lnTo>
                  <a:pt x="125" y="259"/>
                </a:lnTo>
                <a:lnTo>
                  <a:pt x="102" y="222"/>
                </a:lnTo>
                <a:lnTo>
                  <a:pt x="77" y="184"/>
                </a:lnTo>
                <a:lnTo>
                  <a:pt x="52" y="146"/>
                </a:lnTo>
                <a:lnTo>
                  <a:pt x="27" y="107"/>
                </a:lnTo>
                <a:lnTo>
                  <a:pt x="0" y="67"/>
                </a:lnTo>
                <a:lnTo>
                  <a:pt x="31" y="32"/>
                </a:lnTo>
                <a:lnTo>
                  <a:pt x="61" y="0"/>
                </a:lnTo>
                <a:lnTo>
                  <a:pt x="71" y="13"/>
                </a:lnTo>
                <a:lnTo>
                  <a:pt x="83" y="27"/>
                </a:lnTo>
                <a:lnTo>
                  <a:pt x="94" y="42"/>
                </a:lnTo>
                <a:lnTo>
                  <a:pt x="108" y="59"/>
                </a:lnTo>
                <a:lnTo>
                  <a:pt x="121" y="78"/>
                </a:lnTo>
                <a:lnTo>
                  <a:pt x="136" y="98"/>
                </a:lnTo>
                <a:lnTo>
                  <a:pt x="154" y="119"/>
                </a:lnTo>
                <a:lnTo>
                  <a:pt x="171" y="140"/>
                </a:lnTo>
                <a:lnTo>
                  <a:pt x="188" y="165"/>
                </a:lnTo>
                <a:lnTo>
                  <a:pt x="209" y="188"/>
                </a:lnTo>
                <a:lnTo>
                  <a:pt x="228" y="215"/>
                </a:lnTo>
                <a:lnTo>
                  <a:pt x="250" y="242"/>
                </a:lnTo>
                <a:lnTo>
                  <a:pt x="273" y="270"/>
                </a:lnTo>
                <a:lnTo>
                  <a:pt x="296" y="299"/>
                </a:lnTo>
                <a:lnTo>
                  <a:pt x="319" y="332"/>
                </a:lnTo>
                <a:lnTo>
                  <a:pt x="344" y="364"/>
                </a:lnTo>
                <a:lnTo>
                  <a:pt x="369" y="397"/>
                </a:lnTo>
                <a:lnTo>
                  <a:pt x="394" y="428"/>
                </a:lnTo>
                <a:lnTo>
                  <a:pt x="417" y="458"/>
                </a:lnTo>
                <a:lnTo>
                  <a:pt x="442" y="487"/>
                </a:lnTo>
                <a:lnTo>
                  <a:pt x="465" y="516"/>
                </a:lnTo>
                <a:lnTo>
                  <a:pt x="490" y="543"/>
                </a:lnTo>
                <a:lnTo>
                  <a:pt x="513" y="570"/>
                </a:lnTo>
                <a:lnTo>
                  <a:pt x="536" y="595"/>
                </a:lnTo>
                <a:lnTo>
                  <a:pt x="559" y="620"/>
                </a:lnTo>
                <a:lnTo>
                  <a:pt x="582" y="641"/>
                </a:lnTo>
                <a:lnTo>
                  <a:pt x="605" y="664"/>
                </a:lnTo>
                <a:lnTo>
                  <a:pt x="626" y="685"/>
                </a:lnTo>
                <a:lnTo>
                  <a:pt x="647" y="704"/>
                </a:lnTo>
                <a:lnTo>
                  <a:pt x="670" y="721"/>
                </a:lnTo>
                <a:lnTo>
                  <a:pt x="689" y="739"/>
                </a:lnTo>
                <a:lnTo>
                  <a:pt x="710" y="756"/>
                </a:lnTo>
                <a:lnTo>
                  <a:pt x="752" y="785"/>
                </a:lnTo>
                <a:lnTo>
                  <a:pt x="797" y="813"/>
                </a:lnTo>
                <a:lnTo>
                  <a:pt x="818" y="827"/>
                </a:lnTo>
                <a:lnTo>
                  <a:pt x="841" y="840"/>
                </a:lnTo>
                <a:lnTo>
                  <a:pt x="864" y="854"/>
                </a:lnTo>
                <a:lnTo>
                  <a:pt x="889" y="867"/>
                </a:lnTo>
                <a:lnTo>
                  <a:pt x="912" y="881"/>
                </a:lnTo>
                <a:lnTo>
                  <a:pt x="937" y="894"/>
                </a:lnTo>
                <a:lnTo>
                  <a:pt x="964" y="905"/>
                </a:lnTo>
                <a:lnTo>
                  <a:pt x="990" y="919"/>
                </a:lnTo>
                <a:lnTo>
                  <a:pt x="1017" y="932"/>
                </a:lnTo>
                <a:lnTo>
                  <a:pt x="1044" y="944"/>
                </a:lnTo>
                <a:lnTo>
                  <a:pt x="1073" y="957"/>
                </a:lnTo>
                <a:lnTo>
                  <a:pt x="1102" y="971"/>
                </a:lnTo>
                <a:lnTo>
                  <a:pt x="1117" y="976"/>
                </a:lnTo>
                <a:lnTo>
                  <a:pt x="1131" y="982"/>
                </a:lnTo>
                <a:lnTo>
                  <a:pt x="1144" y="990"/>
                </a:lnTo>
                <a:lnTo>
                  <a:pt x="1157" y="996"/>
                </a:lnTo>
                <a:lnTo>
                  <a:pt x="1171" y="1001"/>
                </a:lnTo>
                <a:lnTo>
                  <a:pt x="1182" y="1007"/>
                </a:lnTo>
                <a:lnTo>
                  <a:pt x="1194" y="1013"/>
                </a:lnTo>
                <a:lnTo>
                  <a:pt x="1205" y="1019"/>
                </a:lnTo>
                <a:lnTo>
                  <a:pt x="1217" y="1024"/>
                </a:lnTo>
                <a:lnTo>
                  <a:pt x="1227" y="1030"/>
                </a:lnTo>
                <a:lnTo>
                  <a:pt x="1246" y="1040"/>
                </a:lnTo>
                <a:lnTo>
                  <a:pt x="1263" y="1049"/>
                </a:lnTo>
                <a:lnTo>
                  <a:pt x="1278" y="1059"/>
                </a:lnTo>
                <a:lnTo>
                  <a:pt x="1292" y="1067"/>
                </a:lnTo>
                <a:lnTo>
                  <a:pt x="1303" y="1074"/>
                </a:lnTo>
                <a:lnTo>
                  <a:pt x="1313" y="1082"/>
                </a:lnTo>
                <a:lnTo>
                  <a:pt x="1321" y="1088"/>
                </a:lnTo>
                <a:lnTo>
                  <a:pt x="1326" y="1093"/>
                </a:lnTo>
                <a:lnTo>
                  <a:pt x="1332" y="1099"/>
                </a:lnTo>
                <a:lnTo>
                  <a:pt x="1334" y="1103"/>
                </a:lnTo>
                <a:lnTo>
                  <a:pt x="1336" y="1105"/>
                </a:lnTo>
                <a:lnTo>
                  <a:pt x="1334" y="1111"/>
                </a:lnTo>
                <a:lnTo>
                  <a:pt x="1332" y="1117"/>
                </a:lnTo>
                <a:lnTo>
                  <a:pt x="1330" y="1120"/>
                </a:lnTo>
                <a:lnTo>
                  <a:pt x="1326" y="1126"/>
                </a:lnTo>
                <a:lnTo>
                  <a:pt x="1321" y="1130"/>
                </a:lnTo>
                <a:lnTo>
                  <a:pt x="1315" y="1136"/>
                </a:lnTo>
                <a:lnTo>
                  <a:pt x="1307" y="1140"/>
                </a:lnTo>
                <a:lnTo>
                  <a:pt x="1298" y="1143"/>
                </a:lnTo>
                <a:lnTo>
                  <a:pt x="1288" y="1149"/>
                </a:lnTo>
                <a:lnTo>
                  <a:pt x="1278" y="1153"/>
                </a:lnTo>
                <a:lnTo>
                  <a:pt x="1265" y="1157"/>
                </a:lnTo>
                <a:lnTo>
                  <a:pt x="1252" y="1161"/>
                </a:lnTo>
                <a:lnTo>
                  <a:pt x="1238" y="1164"/>
                </a:lnTo>
                <a:lnTo>
                  <a:pt x="1223" y="1166"/>
                </a:lnTo>
                <a:lnTo>
                  <a:pt x="1205" y="1170"/>
                </a:lnTo>
                <a:lnTo>
                  <a:pt x="1188" y="1172"/>
                </a:lnTo>
                <a:lnTo>
                  <a:pt x="1167" y="1176"/>
                </a:lnTo>
                <a:lnTo>
                  <a:pt x="1148" y="1178"/>
                </a:lnTo>
                <a:lnTo>
                  <a:pt x="1129" y="1180"/>
                </a:lnTo>
                <a:lnTo>
                  <a:pt x="1109" y="1184"/>
                </a:lnTo>
                <a:lnTo>
                  <a:pt x="1073" y="1188"/>
                </a:lnTo>
                <a:lnTo>
                  <a:pt x="1038" y="1191"/>
                </a:lnTo>
                <a:lnTo>
                  <a:pt x="1004" y="1195"/>
                </a:lnTo>
                <a:lnTo>
                  <a:pt x="971" y="1197"/>
                </a:lnTo>
                <a:lnTo>
                  <a:pt x="939" y="1199"/>
                </a:lnTo>
                <a:lnTo>
                  <a:pt x="906" y="120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Freeform 171"/>
          <p:cNvSpPr/>
          <p:nvPr/>
        </p:nvSpPr>
        <p:spPr>
          <a:xfrm>
            <a:off x="6630840" y="3638520"/>
            <a:ext cx="654120" cy="1103400"/>
          </a:xfrm>
          <a:custGeom>
            <a:avLst/>
            <a:gdLst/>
            <a:ahLst/>
            <a:rect l="l" t="t" r="r" b="b"/>
            <a:pathLst>
              <a:path w="826" h="1389">
                <a:moveTo>
                  <a:pt x="565" y="635"/>
                </a:moveTo>
                <a:lnTo>
                  <a:pt x="578" y="592"/>
                </a:lnTo>
                <a:lnTo>
                  <a:pt x="590" y="552"/>
                </a:lnTo>
                <a:lnTo>
                  <a:pt x="601" y="512"/>
                </a:lnTo>
                <a:lnTo>
                  <a:pt x="611" y="473"/>
                </a:lnTo>
                <a:lnTo>
                  <a:pt x="618" y="435"/>
                </a:lnTo>
                <a:lnTo>
                  <a:pt x="626" y="397"/>
                </a:lnTo>
                <a:lnTo>
                  <a:pt x="634" y="360"/>
                </a:lnTo>
                <a:lnTo>
                  <a:pt x="638" y="324"/>
                </a:lnTo>
                <a:lnTo>
                  <a:pt x="639" y="305"/>
                </a:lnTo>
                <a:lnTo>
                  <a:pt x="641" y="287"/>
                </a:lnTo>
                <a:lnTo>
                  <a:pt x="641" y="268"/>
                </a:lnTo>
                <a:lnTo>
                  <a:pt x="643" y="251"/>
                </a:lnTo>
                <a:lnTo>
                  <a:pt x="643" y="232"/>
                </a:lnTo>
                <a:lnTo>
                  <a:pt x="641" y="211"/>
                </a:lnTo>
                <a:lnTo>
                  <a:pt x="639" y="172"/>
                </a:lnTo>
                <a:lnTo>
                  <a:pt x="636" y="130"/>
                </a:lnTo>
                <a:lnTo>
                  <a:pt x="630" y="88"/>
                </a:lnTo>
                <a:lnTo>
                  <a:pt x="622" y="44"/>
                </a:lnTo>
                <a:lnTo>
                  <a:pt x="614" y="0"/>
                </a:lnTo>
                <a:lnTo>
                  <a:pt x="626" y="0"/>
                </a:lnTo>
                <a:lnTo>
                  <a:pt x="638" y="1"/>
                </a:lnTo>
                <a:lnTo>
                  <a:pt x="647" y="3"/>
                </a:lnTo>
                <a:lnTo>
                  <a:pt x="659" y="7"/>
                </a:lnTo>
                <a:lnTo>
                  <a:pt x="670" y="11"/>
                </a:lnTo>
                <a:lnTo>
                  <a:pt x="682" y="17"/>
                </a:lnTo>
                <a:lnTo>
                  <a:pt x="693" y="23"/>
                </a:lnTo>
                <a:lnTo>
                  <a:pt x="703" y="28"/>
                </a:lnTo>
                <a:lnTo>
                  <a:pt x="712" y="36"/>
                </a:lnTo>
                <a:lnTo>
                  <a:pt x="722" y="44"/>
                </a:lnTo>
                <a:lnTo>
                  <a:pt x="732" y="53"/>
                </a:lnTo>
                <a:lnTo>
                  <a:pt x="741" y="63"/>
                </a:lnTo>
                <a:lnTo>
                  <a:pt x="751" y="72"/>
                </a:lnTo>
                <a:lnTo>
                  <a:pt x="758" y="84"/>
                </a:lnTo>
                <a:lnTo>
                  <a:pt x="766" y="95"/>
                </a:lnTo>
                <a:lnTo>
                  <a:pt x="774" y="107"/>
                </a:lnTo>
                <a:lnTo>
                  <a:pt x="785" y="132"/>
                </a:lnTo>
                <a:lnTo>
                  <a:pt x="797" y="157"/>
                </a:lnTo>
                <a:lnTo>
                  <a:pt x="803" y="170"/>
                </a:lnTo>
                <a:lnTo>
                  <a:pt x="806" y="182"/>
                </a:lnTo>
                <a:lnTo>
                  <a:pt x="812" y="193"/>
                </a:lnTo>
                <a:lnTo>
                  <a:pt x="816" y="205"/>
                </a:lnTo>
                <a:lnTo>
                  <a:pt x="818" y="216"/>
                </a:lnTo>
                <a:lnTo>
                  <a:pt x="822" y="228"/>
                </a:lnTo>
                <a:lnTo>
                  <a:pt x="824" y="237"/>
                </a:lnTo>
                <a:lnTo>
                  <a:pt x="824" y="247"/>
                </a:lnTo>
                <a:lnTo>
                  <a:pt x="826" y="257"/>
                </a:lnTo>
                <a:lnTo>
                  <a:pt x="824" y="266"/>
                </a:lnTo>
                <a:lnTo>
                  <a:pt x="824" y="274"/>
                </a:lnTo>
                <a:lnTo>
                  <a:pt x="822" y="284"/>
                </a:lnTo>
                <a:lnTo>
                  <a:pt x="820" y="293"/>
                </a:lnTo>
                <a:lnTo>
                  <a:pt x="818" y="305"/>
                </a:lnTo>
                <a:lnTo>
                  <a:pt x="814" y="316"/>
                </a:lnTo>
                <a:lnTo>
                  <a:pt x="812" y="328"/>
                </a:lnTo>
                <a:lnTo>
                  <a:pt x="810" y="341"/>
                </a:lnTo>
                <a:lnTo>
                  <a:pt x="808" y="355"/>
                </a:lnTo>
                <a:lnTo>
                  <a:pt x="804" y="370"/>
                </a:lnTo>
                <a:lnTo>
                  <a:pt x="803" y="383"/>
                </a:lnTo>
                <a:lnTo>
                  <a:pt x="799" y="399"/>
                </a:lnTo>
                <a:lnTo>
                  <a:pt x="795" y="416"/>
                </a:lnTo>
                <a:lnTo>
                  <a:pt x="793" y="433"/>
                </a:lnTo>
                <a:lnTo>
                  <a:pt x="789" y="450"/>
                </a:lnTo>
                <a:lnTo>
                  <a:pt x="785" y="468"/>
                </a:lnTo>
                <a:lnTo>
                  <a:pt x="781" y="487"/>
                </a:lnTo>
                <a:lnTo>
                  <a:pt x="778" y="506"/>
                </a:lnTo>
                <a:lnTo>
                  <a:pt x="774" y="525"/>
                </a:lnTo>
                <a:lnTo>
                  <a:pt x="758" y="566"/>
                </a:lnTo>
                <a:lnTo>
                  <a:pt x="745" y="604"/>
                </a:lnTo>
                <a:lnTo>
                  <a:pt x="732" y="642"/>
                </a:lnTo>
                <a:lnTo>
                  <a:pt x="718" y="679"/>
                </a:lnTo>
                <a:lnTo>
                  <a:pt x="705" y="715"/>
                </a:lnTo>
                <a:lnTo>
                  <a:pt x="689" y="752"/>
                </a:lnTo>
                <a:lnTo>
                  <a:pt x="662" y="823"/>
                </a:lnTo>
                <a:lnTo>
                  <a:pt x="655" y="840"/>
                </a:lnTo>
                <a:lnTo>
                  <a:pt x="647" y="857"/>
                </a:lnTo>
                <a:lnTo>
                  <a:pt x="638" y="876"/>
                </a:lnTo>
                <a:lnTo>
                  <a:pt x="628" y="894"/>
                </a:lnTo>
                <a:lnTo>
                  <a:pt x="618" y="911"/>
                </a:lnTo>
                <a:lnTo>
                  <a:pt x="607" y="930"/>
                </a:lnTo>
                <a:lnTo>
                  <a:pt x="595" y="947"/>
                </a:lnTo>
                <a:lnTo>
                  <a:pt x="582" y="965"/>
                </a:lnTo>
                <a:lnTo>
                  <a:pt x="568" y="984"/>
                </a:lnTo>
                <a:lnTo>
                  <a:pt x="553" y="1003"/>
                </a:lnTo>
                <a:lnTo>
                  <a:pt x="538" y="1020"/>
                </a:lnTo>
                <a:lnTo>
                  <a:pt x="522" y="1039"/>
                </a:lnTo>
                <a:lnTo>
                  <a:pt x="507" y="1059"/>
                </a:lnTo>
                <a:lnTo>
                  <a:pt x="490" y="1080"/>
                </a:lnTo>
                <a:lnTo>
                  <a:pt x="472" y="1099"/>
                </a:lnTo>
                <a:lnTo>
                  <a:pt x="455" y="1120"/>
                </a:lnTo>
                <a:lnTo>
                  <a:pt x="436" y="1139"/>
                </a:lnTo>
                <a:lnTo>
                  <a:pt x="419" y="1158"/>
                </a:lnTo>
                <a:lnTo>
                  <a:pt x="399" y="1178"/>
                </a:lnTo>
                <a:lnTo>
                  <a:pt x="382" y="1195"/>
                </a:lnTo>
                <a:lnTo>
                  <a:pt x="363" y="1212"/>
                </a:lnTo>
                <a:lnTo>
                  <a:pt x="346" y="1229"/>
                </a:lnTo>
                <a:lnTo>
                  <a:pt x="327" y="1245"/>
                </a:lnTo>
                <a:lnTo>
                  <a:pt x="307" y="1258"/>
                </a:lnTo>
                <a:lnTo>
                  <a:pt x="290" y="1274"/>
                </a:lnTo>
                <a:lnTo>
                  <a:pt x="271" y="1287"/>
                </a:lnTo>
                <a:lnTo>
                  <a:pt x="252" y="1299"/>
                </a:lnTo>
                <a:lnTo>
                  <a:pt x="234" y="1310"/>
                </a:lnTo>
                <a:lnTo>
                  <a:pt x="215" y="1322"/>
                </a:lnTo>
                <a:lnTo>
                  <a:pt x="198" y="1331"/>
                </a:lnTo>
                <a:lnTo>
                  <a:pt x="179" y="1341"/>
                </a:lnTo>
                <a:lnTo>
                  <a:pt x="161" y="1348"/>
                </a:lnTo>
                <a:lnTo>
                  <a:pt x="140" y="1356"/>
                </a:lnTo>
                <a:lnTo>
                  <a:pt x="123" y="1362"/>
                </a:lnTo>
                <a:lnTo>
                  <a:pt x="106" y="1368"/>
                </a:lnTo>
                <a:lnTo>
                  <a:pt x="89" y="1373"/>
                </a:lnTo>
                <a:lnTo>
                  <a:pt x="75" y="1379"/>
                </a:lnTo>
                <a:lnTo>
                  <a:pt x="62" y="1383"/>
                </a:lnTo>
                <a:lnTo>
                  <a:pt x="50" y="1385"/>
                </a:lnTo>
                <a:lnTo>
                  <a:pt x="41" y="1387"/>
                </a:lnTo>
                <a:lnTo>
                  <a:pt x="31" y="1389"/>
                </a:lnTo>
                <a:lnTo>
                  <a:pt x="23" y="1389"/>
                </a:lnTo>
                <a:lnTo>
                  <a:pt x="16" y="1389"/>
                </a:lnTo>
                <a:lnTo>
                  <a:pt x="12" y="1389"/>
                </a:lnTo>
                <a:lnTo>
                  <a:pt x="8" y="1387"/>
                </a:lnTo>
                <a:lnTo>
                  <a:pt x="4" y="1383"/>
                </a:lnTo>
                <a:lnTo>
                  <a:pt x="2" y="1379"/>
                </a:lnTo>
                <a:lnTo>
                  <a:pt x="2" y="1375"/>
                </a:lnTo>
                <a:lnTo>
                  <a:pt x="0" y="1371"/>
                </a:lnTo>
                <a:lnTo>
                  <a:pt x="0" y="1368"/>
                </a:lnTo>
                <a:lnTo>
                  <a:pt x="2" y="1362"/>
                </a:lnTo>
                <a:lnTo>
                  <a:pt x="6" y="1356"/>
                </a:lnTo>
                <a:lnTo>
                  <a:pt x="12" y="1348"/>
                </a:lnTo>
                <a:lnTo>
                  <a:pt x="19" y="1339"/>
                </a:lnTo>
                <a:lnTo>
                  <a:pt x="27" y="1329"/>
                </a:lnTo>
                <a:lnTo>
                  <a:pt x="37" y="1318"/>
                </a:lnTo>
                <a:lnTo>
                  <a:pt x="48" y="1306"/>
                </a:lnTo>
                <a:lnTo>
                  <a:pt x="62" y="1295"/>
                </a:lnTo>
                <a:lnTo>
                  <a:pt x="77" y="1281"/>
                </a:lnTo>
                <a:lnTo>
                  <a:pt x="94" y="1266"/>
                </a:lnTo>
                <a:lnTo>
                  <a:pt x="112" y="1251"/>
                </a:lnTo>
                <a:lnTo>
                  <a:pt x="131" y="1235"/>
                </a:lnTo>
                <a:lnTo>
                  <a:pt x="152" y="1218"/>
                </a:lnTo>
                <a:lnTo>
                  <a:pt x="173" y="1201"/>
                </a:lnTo>
                <a:lnTo>
                  <a:pt x="196" y="1181"/>
                </a:lnTo>
                <a:lnTo>
                  <a:pt x="217" y="1164"/>
                </a:lnTo>
                <a:lnTo>
                  <a:pt x="238" y="1147"/>
                </a:lnTo>
                <a:lnTo>
                  <a:pt x="257" y="1132"/>
                </a:lnTo>
                <a:lnTo>
                  <a:pt x="277" y="1114"/>
                </a:lnTo>
                <a:lnTo>
                  <a:pt x="296" y="1097"/>
                </a:lnTo>
                <a:lnTo>
                  <a:pt x="313" y="1082"/>
                </a:lnTo>
                <a:lnTo>
                  <a:pt x="330" y="1064"/>
                </a:lnTo>
                <a:lnTo>
                  <a:pt x="348" y="1049"/>
                </a:lnTo>
                <a:lnTo>
                  <a:pt x="363" y="1032"/>
                </a:lnTo>
                <a:lnTo>
                  <a:pt x="378" y="1016"/>
                </a:lnTo>
                <a:lnTo>
                  <a:pt x="392" y="999"/>
                </a:lnTo>
                <a:lnTo>
                  <a:pt x="405" y="982"/>
                </a:lnTo>
                <a:lnTo>
                  <a:pt x="419" y="965"/>
                </a:lnTo>
                <a:lnTo>
                  <a:pt x="430" y="947"/>
                </a:lnTo>
                <a:lnTo>
                  <a:pt x="442" y="930"/>
                </a:lnTo>
                <a:lnTo>
                  <a:pt x="459" y="896"/>
                </a:lnTo>
                <a:lnTo>
                  <a:pt x="476" y="859"/>
                </a:lnTo>
                <a:lnTo>
                  <a:pt x="494" y="823"/>
                </a:lnTo>
                <a:lnTo>
                  <a:pt x="509" y="786"/>
                </a:lnTo>
                <a:lnTo>
                  <a:pt x="522" y="750"/>
                </a:lnTo>
                <a:lnTo>
                  <a:pt x="538" y="711"/>
                </a:lnTo>
                <a:lnTo>
                  <a:pt x="551" y="673"/>
                </a:lnTo>
                <a:lnTo>
                  <a:pt x="565" y="63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Freeform 172"/>
          <p:cNvSpPr/>
          <p:nvPr/>
        </p:nvSpPr>
        <p:spPr>
          <a:xfrm>
            <a:off x="6902280" y="3446640"/>
            <a:ext cx="657360" cy="298440"/>
          </a:xfrm>
          <a:custGeom>
            <a:avLst/>
            <a:gdLst/>
            <a:ahLst/>
            <a:rect l="l" t="t" r="r" b="b"/>
            <a:pathLst>
              <a:path w="827" h="376">
                <a:moveTo>
                  <a:pt x="393" y="121"/>
                </a:moveTo>
                <a:lnTo>
                  <a:pt x="411" y="113"/>
                </a:lnTo>
                <a:lnTo>
                  <a:pt x="428" y="105"/>
                </a:lnTo>
                <a:lnTo>
                  <a:pt x="445" y="98"/>
                </a:lnTo>
                <a:lnTo>
                  <a:pt x="462" y="92"/>
                </a:lnTo>
                <a:lnTo>
                  <a:pt x="478" y="84"/>
                </a:lnTo>
                <a:lnTo>
                  <a:pt x="493" y="78"/>
                </a:lnTo>
                <a:lnTo>
                  <a:pt x="508" y="73"/>
                </a:lnTo>
                <a:lnTo>
                  <a:pt x="524" y="67"/>
                </a:lnTo>
                <a:lnTo>
                  <a:pt x="551" y="55"/>
                </a:lnTo>
                <a:lnTo>
                  <a:pt x="578" y="46"/>
                </a:lnTo>
                <a:lnTo>
                  <a:pt x="601" y="36"/>
                </a:lnTo>
                <a:lnTo>
                  <a:pt x="624" y="29"/>
                </a:lnTo>
                <a:lnTo>
                  <a:pt x="643" y="21"/>
                </a:lnTo>
                <a:lnTo>
                  <a:pt x="662" y="15"/>
                </a:lnTo>
                <a:lnTo>
                  <a:pt x="679" y="11"/>
                </a:lnTo>
                <a:lnTo>
                  <a:pt x="693" y="6"/>
                </a:lnTo>
                <a:lnTo>
                  <a:pt x="706" y="4"/>
                </a:lnTo>
                <a:lnTo>
                  <a:pt x="718" y="0"/>
                </a:lnTo>
                <a:lnTo>
                  <a:pt x="727" y="0"/>
                </a:lnTo>
                <a:lnTo>
                  <a:pt x="735" y="0"/>
                </a:lnTo>
                <a:lnTo>
                  <a:pt x="748" y="0"/>
                </a:lnTo>
                <a:lnTo>
                  <a:pt x="760" y="2"/>
                </a:lnTo>
                <a:lnTo>
                  <a:pt x="771" y="4"/>
                </a:lnTo>
                <a:lnTo>
                  <a:pt x="783" y="9"/>
                </a:lnTo>
                <a:lnTo>
                  <a:pt x="793" y="15"/>
                </a:lnTo>
                <a:lnTo>
                  <a:pt x="802" y="21"/>
                </a:lnTo>
                <a:lnTo>
                  <a:pt x="812" y="31"/>
                </a:lnTo>
                <a:lnTo>
                  <a:pt x="821" y="40"/>
                </a:lnTo>
                <a:lnTo>
                  <a:pt x="825" y="50"/>
                </a:lnTo>
                <a:lnTo>
                  <a:pt x="827" y="59"/>
                </a:lnTo>
                <a:lnTo>
                  <a:pt x="827" y="65"/>
                </a:lnTo>
                <a:lnTo>
                  <a:pt x="827" y="69"/>
                </a:lnTo>
                <a:lnTo>
                  <a:pt x="827" y="75"/>
                </a:lnTo>
                <a:lnTo>
                  <a:pt x="827" y="80"/>
                </a:lnTo>
                <a:lnTo>
                  <a:pt x="825" y="84"/>
                </a:lnTo>
                <a:lnTo>
                  <a:pt x="823" y="90"/>
                </a:lnTo>
                <a:lnTo>
                  <a:pt x="819" y="96"/>
                </a:lnTo>
                <a:lnTo>
                  <a:pt x="818" y="100"/>
                </a:lnTo>
                <a:lnTo>
                  <a:pt x="814" y="105"/>
                </a:lnTo>
                <a:lnTo>
                  <a:pt x="808" y="109"/>
                </a:lnTo>
                <a:lnTo>
                  <a:pt x="802" y="115"/>
                </a:lnTo>
                <a:lnTo>
                  <a:pt x="796" y="121"/>
                </a:lnTo>
                <a:lnTo>
                  <a:pt x="793" y="123"/>
                </a:lnTo>
                <a:lnTo>
                  <a:pt x="787" y="126"/>
                </a:lnTo>
                <a:lnTo>
                  <a:pt x="779" y="128"/>
                </a:lnTo>
                <a:lnTo>
                  <a:pt x="771" y="132"/>
                </a:lnTo>
                <a:lnTo>
                  <a:pt x="762" y="136"/>
                </a:lnTo>
                <a:lnTo>
                  <a:pt x="752" y="142"/>
                </a:lnTo>
                <a:lnTo>
                  <a:pt x="741" y="146"/>
                </a:lnTo>
                <a:lnTo>
                  <a:pt x="727" y="151"/>
                </a:lnTo>
                <a:lnTo>
                  <a:pt x="712" y="155"/>
                </a:lnTo>
                <a:lnTo>
                  <a:pt x="697" y="161"/>
                </a:lnTo>
                <a:lnTo>
                  <a:pt x="679" y="167"/>
                </a:lnTo>
                <a:lnTo>
                  <a:pt x="660" y="174"/>
                </a:lnTo>
                <a:lnTo>
                  <a:pt x="641" y="180"/>
                </a:lnTo>
                <a:lnTo>
                  <a:pt x="620" y="188"/>
                </a:lnTo>
                <a:lnTo>
                  <a:pt x="597" y="194"/>
                </a:lnTo>
                <a:lnTo>
                  <a:pt x="572" y="201"/>
                </a:lnTo>
                <a:lnTo>
                  <a:pt x="547" y="211"/>
                </a:lnTo>
                <a:lnTo>
                  <a:pt x="520" y="219"/>
                </a:lnTo>
                <a:lnTo>
                  <a:pt x="491" y="226"/>
                </a:lnTo>
                <a:lnTo>
                  <a:pt x="462" y="236"/>
                </a:lnTo>
                <a:lnTo>
                  <a:pt x="432" y="245"/>
                </a:lnTo>
                <a:lnTo>
                  <a:pt x="399" y="255"/>
                </a:lnTo>
                <a:lnTo>
                  <a:pt x="366" y="267"/>
                </a:lnTo>
                <a:lnTo>
                  <a:pt x="330" y="276"/>
                </a:lnTo>
                <a:lnTo>
                  <a:pt x="295" y="288"/>
                </a:lnTo>
                <a:lnTo>
                  <a:pt x="257" y="299"/>
                </a:lnTo>
                <a:lnTo>
                  <a:pt x="217" y="311"/>
                </a:lnTo>
                <a:lnTo>
                  <a:pt x="176" y="324"/>
                </a:lnTo>
                <a:lnTo>
                  <a:pt x="134" y="336"/>
                </a:lnTo>
                <a:lnTo>
                  <a:pt x="92" y="349"/>
                </a:lnTo>
                <a:lnTo>
                  <a:pt x="46" y="362"/>
                </a:lnTo>
                <a:lnTo>
                  <a:pt x="0" y="376"/>
                </a:lnTo>
                <a:lnTo>
                  <a:pt x="19" y="316"/>
                </a:lnTo>
                <a:lnTo>
                  <a:pt x="38" y="255"/>
                </a:lnTo>
                <a:lnTo>
                  <a:pt x="48" y="253"/>
                </a:lnTo>
                <a:lnTo>
                  <a:pt x="59" y="249"/>
                </a:lnTo>
                <a:lnTo>
                  <a:pt x="73" y="245"/>
                </a:lnTo>
                <a:lnTo>
                  <a:pt x="88" y="240"/>
                </a:lnTo>
                <a:lnTo>
                  <a:pt x="103" y="234"/>
                </a:lnTo>
                <a:lnTo>
                  <a:pt x="123" y="228"/>
                </a:lnTo>
                <a:lnTo>
                  <a:pt x="144" y="220"/>
                </a:lnTo>
                <a:lnTo>
                  <a:pt x="165" y="213"/>
                </a:lnTo>
                <a:lnTo>
                  <a:pt x="188" y="205"/>
                </a:lnTo>
                <a:lnTo>
                  <a:pt x="213" y="196"/>
                </a:lnTo>
                <a:lnTo>
                  <a:pt x="238" y="186"/>
                </a:lnTo>
                <a:lnTo>
                  <a:pt x="267" y="174"/>
                </a:lnTo>
                <a:lnTo>
                  <a:pt x="295" y="163"/>
                </a:lnTo>
                <a:lnTo>
                  <a:pt x="326" y="149"/>
                </a:lnTo>
                <a:lnTo>
                  <a:pt x="359" y="136"/>
                </a:lnTo>
                <a:lnTo>
                  <a:pt x="393" y="12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1" name="Freeform 173"/>
          <p:cNvSpPr/>
          <p:nvPr/>
        </p:nvSpPr>
        <p:spPr>
          <a:xfrm>
            <a:off x="6686640" y="2800440"/>
            <a:ext cx="538200" cy="1245960"/>
          </a:xfrm>
          <a:custGeom>
            <a:avLst/>
            <a:gdLst/>
            <a:ahLst/>
            <a:rect l="l" t="t" r="r" b="b"/>
            <a:pathLst>
              <a:path w="678" h="1572">
                <a:moveTo>
                  <a:pt x="54" y="1422"/>
                </a:moveTo>
                <a:lnTo>
                  <a:pt x="75" y="1386"/>
                </a:lnTo>
                <a:lnTo>
                  <a:pt x="96" y="1349"/>
                </a:lnTo>
                <a:lnTo>
                  <a:pt x="117" y="1311"/>
                </a:lnTo>
                <a:lnTo>
                  <a:pt x="137" y="1272"/>
                </a:lnTo>
                <a:lnTo>
                  <a:pt x="156" y="1232"/>
                </a:lnTo>
                <a:lnTo>
                  <a:pt x="175" y="1192"/>
                </a:lnTo>
                <a:lnTo>
                  <a:pt x="213" y="1111"/>
                </a:lnTo>
                <a:lnTo>
                  <a:pt x="219" y="1090"/>
                </a:lnTo>
                <a:lnTo>
                  <a:pt x="227" y="1069"/>
                </a:lnTo>
                <a:lnTo>
                  <a:pt x="234" y="1046"/>
                </a:lnTo>
                <a:lnTo>
                  <a:pt x="242" y="1023"/>
                </a:lnTo>
                <a:lnTo>
                  <a:pt x="250" y="998"/>
                </a:lnTo>
                <a:lnTo>
                  <a:pt x="257" y="973"/>
                </a:lnTo>
                <a:lnTo>
                  <a:pt x="267" y="946"/>
                </a:lnTo>
                <a:lnTo>
                  <a:pt x="275" y="919"/>
                </a:lnTo>
                <a:lnTo>
                  <a:pt x="284" y="891"/>
                </a:lnTo>
                <a:lnTo>
                  <a:pt x="292" y="862"/>
                </a:lnTo>
                <a:lnTo>
                  <a:pt x="302" y="831"/>
                </a:lnTo>
                <a:lnTo>
                  <a:pt x="311" y="800"/>
                </a:lnTo>
                <a:lnTo>
                  <a:pt x="319" y="768"/>
                </a:lnTo>
                <a:lnTo>
                  <a:pt x="328" y="735"/>
                </a:lnTo>
                <a:lnTo>
                  <a:pt x="338" y="701"/>
                </a:lnTo>
                <a:lnTo>
                  <a:pt x="348" y="666"/>
                </a:lnTo>
                <a:lnTo>
                  <a:pt x="355" y="634"/>
                </a:lnTo>
                <a:lnTo>
                  <a:pt x="365" y="603"/>
                </a:lnTo>
                <a:lnTo>
                  <a:pt x="373" y="572"/>
                </a:lnTo>
                <a:lnTo>
                  <a:pt x="380" y="541"/>
                </a:lnTo>
                <a:lnTo>
                  <a:pt x="388" y="515"/>
                </a:lnTo>
                <a:lnTo>
                  <a:pt x="396" y="486"/>
                </a:lnTo>
                <a:lnTo>
                  <a:pt x="403" y="459"/>
                </a:lnTo>
                <a:lnTo>
                  <a:pt x="409" y="434"/>
                </a:lnTo>
                <a:lnTo>
                  <a:pt x="415" y="409"/>
                </a:lnTo>
                <a:lnTo>
                  <a:pt x="421" y="384"/>
                </a:lnTo>
                <a:lnTo>
                  <a:pt x="426" y="363"/>
                </a:lnTo>
                <a:lnTo>
                  <a:pt x="430" y="340"/>
                </a:lnTo>
                <a:lnTo>
                  <a:pt x="436" y="319"/>
                </a:lnTo>
                <a:lnTo>
                  <a:pt x="440" y="300"/>
                </a:lnTo>
                <a:lnTo>
                  <a:pt x="442" y="280"/>
                </a:lnTo>
                <a:lnTo>
                  <a:pt x="446" y="261"/>
                </a:lnTo>
                <a:lnTo>
                  <a:pt x="447" y="244"/>
                </a:lnTo>
                <a:lnTo>
                  <a:pt x="447" y="229"/>
                </a:lnTo>
                <a:lnTo>
                  <a:pt x="449" y="213"/>
                </a:lnTo>
                <a:lnTo>
                  <a:pt x="449" y="198"/>
                </a:lnTo>
                <a:lnTo>
                  <a:pt x="449" y="185"/>
                </a:lnTo>
                <a:lnTo>
                  <a:pt x="449" y="171"/>
                </a:lnTo>
                <a:lnTo>
                  <a:pt x="447" y="160"/>
                </a:lnTo>
                <a:lnTo>
                  <a:pt x="446" y="148"/>
                </a:lnTo>
                <a:lnTo>
                  <a:pt x="444" y="137"/>
                </a:lnTo>
                <a:lnTo>
                  <a:pt x="442" y="125"/>
                </a:lnTo>
                <a:lnTo>
                  <a:pt x="440" y="115"/>
                </a:lnTo>
                <a:lnTo>
                  <a:pt x="436" y="106"/>
                </a:lnTo>
                <a:lnTo>
                  <a:pt x="428" y="89"/>
                </a:lnTo>
                <a:lnTo>
                  <a:pt x="421" y="73"/>
                </a:lnTo>
                <a:lnTo>
                  <a:pt x="417" y="66"/>
                </a:lnTo>
                <a:lnTo>
                  <a:pt x="413" y="58"/>
                </a:lnTo>
                <a:lnTo>
                  <a:pt x="409" y="52"/>
                </a:lnTo>
                <a:lnTo>
                  <a:pt x="407" y="46"/>
                </a:lnTo>
                <a:lnTo>
                  <a:pt x="405" y="43"/>
                </a:lnTo>
                <a:lnTo>
                  <a:pt x="403" y="37"/>
                </a:lnTo>
                <a:lnTo>
                  <a:pt x="403" y="33"/>
                </a:lnTo>
                <a:lnTo>
                  <a:pt x="403" y="29"/>
                </a:lnTo>
                <a:lnTo>
                  <a:pt x="405" y="25"/>
                </a:lnTo>
                <a:lnTo>
                  <a:pt x="405" y="21"/>
                </a:lnTo>
                <a:lnTo>
                  <a:pt x="409" y="20"/>
                </a:lnTo>
                <a:lnTo>
                  <a:pt x="411" y="16"/>
                </a:lnTo>
                <a:lnTo>
                  <a:pt x="415" y="14"/>
                </a:lnTo>
                <a:lnTo>
                  <a:pt x="421" y="10"/>
                </a:lnTo>
                <a:lnTo>
                  <a:pt x="426" y="8"/>
                </a:lnTo>
                <a:lnTo>
                  <a:pt x="432" y="6"/>
                </a:lnTo>
                <a:lnTo>
                  <a:pt x="438" y="4"/>
                </a:lnTo>
                <a:lnTo>
                  <a:pt x="444" y="2"/>
                </a:lnTo>
                <a:lnTo>
                  <a:pt x="449" y="0"/>
                </a:lnTo>
                <a:lnTo>
                  <a:pt x="455" y="0"/>
                </a:lnTo>
                <a:lnTo>
                  <a:pt x="463" y="0"/>
                </a:lnTo>
                <a:lnTo>
                  <a:pt x="471" y="2"/>
                </a:lnTo>
                <a:lnTo>
                  <a:pt x="478" y="2"/>
                </a:lnTo>
                <a:lnTo>
                  <a:pt x="486" y="4"/>
                </a:lnTo>
                <a:lnTo>
                  <a:pt x="495" y="8"/>
                </a:lnTo>
                <a:lnTo>
                  <a:pt x="505" y="12"/>
                </a:lnTo>
                <a:lnTo>
                  <a:pt x="515" y="16"/>
                </a:lnTo>
                <a:lnTo>
                  <a:pt x="524" y="20"/>
                </a:lnTo>
                <a:lnTo>
                  <a:pt x="534" y="25"/>
                </a:lnTo>
                <a:lnTo>
                  <a:pt x="545" y="31"/>
                </a:lnTo>
                <a:lnTo>
                  <a:pt x="555" y="39"/>
                </a:lnTo>
                <a:lnTo>
                  <a:pt x="567" y="46"/>
                </a:lnTo>
                <a:lnTo>
                  <a:pt x="578" y="54"/>
                </a:lnTo>
                <a:lnTo>
                  <a:pt x="590" y="60"/>
                </a:lnTo>
                <a:lnTo>
                  <a:pt x="599" y="68"/>
                </a:lnTo>
                <a:lnTo>
                  <a:pt x="609" y="73"/>
                </a:lnTo>
                <a:lnTo>
                  <a:pt x="616" y="81"/>
                </a:lnTo>
                <a:lnTo>
                  <a:pt x="626" y="87"/>
                </a:lnTo>
                <a:lnTo>
                  <a:pt x="634" y="91"/>
                </a:lnTo>
                <a:lnTo>
                  <a:pt x="641" y="96"/>
                </a:lnTo>
                <a:lnTo>
                  <a:pt x="647" y="102"/>
                </a:lnTo>
                <a:lnTo>
                  <a:pt x="653" y="106"/>
                </a:lnTo>
                <a:lnTo>
                  <a:pt x="659" y="110"/>
                </a:lnTo>
                <a:lnTo>
                  <a:pt x="664" y="114"/>
                </a:lnTo>
                <a:lnTo>
                  <a:pt x="668" y="117"/>
                </a:lnTo>
                <a:lnTo>
                  <a:pt x="672" y="121"/>
                </a:lnTo>
                <a:lnTo>
                  <a:pt x="674" y="125"/>
                </a:lnTo>
                <a:lnTo>
                  <a:pt x="678" y="127"/>
                </a:lnTo>
                <a:lnTo>
                  <a:pt x="678" y="129"/>
                </a:lnTo>
                <a:lnTo>
                  <a:pt x="678" y="133"/>
                </a:lnTo>
                <a:lnTo>
                  <a:pt x="678" y="137"/>
                </a:lnTo>
                <a:lnTo>
                  <a:pt x="678" y="142"/>
                </a:lnTo>
                <a:lnTo>
                  <a:pt x="678" y="146"/>
                </a:lnTo>
                <a:lnTo>
                  <a:pt x="676" y="152"/>
                </a:lnTo>
                <a:lnTo>
                  <a:pt x="676" y="160"/>
                </a:lnTo>
                <a:lnTo>
                  <a:pt x="676" y="165"/>
                </a:lnTo>
                <a:lnTo>
                  <a:pt x="674" y="181"/>
                </a:lnTo>
                <a:lnTo>
                  <a:pt x="672" y="198"/>
                </a:lnTo>
                <a:lnTo>
                  <a:pt x="670" y="215"/>
                </a:lnTo>
                <a:lnTo>
                  <a:pt x="666" y="234"/>
                </a:lnTo>
                <a:lnTo>
                  <a:pt x="664" y="242"/>
                </a:lnTo>
                <a:lnTo>
                  <a:pt x="662" y="248"/>
                </a:lnTo>
                <a:lnTo>
                  <a:pt x="661" y="256"/>
                </a:lnTo>
                <a:lnTo>
                  <a:pt x="659" y="263"/>
                </a:lnTo>
                <a:lnTo>
                  <a:pt x="657" y="273"/>
                </a:lnTo>
                <a:lnTo>
                  <a:pt x="655" y="280"/>
                </a:lnTo>
                <a:lnTo>
                  <a:pt x="651" y="290"/>
                </a:lnTo>
                <a:lnTo>
                  <a:pt x="649" y="302"/>
                </a:lnTo>
                <a:lnTo>
                  <a:pt x="645" y="311"/>
                </a:lnTo>
                <a:lnTo>
                  <a:pt x="643" y="323"/>
                </a:lnTo>
                <a:lnTo>
                  <a:pt x="639" y="334"/>
                </a:lnTo>
                <a:lnTo>
                  <a:pt x="636" y="346"/>
                </a:lnTo>
                <a:lnTo>
                  <a:pt x="632" y="359"/>
                </a:lnTo>
                <a:lnTo>
                  <a:pt x="628" y="373"/>
                </a:lnTo>
                <a:lnTo>
                  <a:pt x="624" y="386"/>
                </a:lnTo>
                <a:lnTo>
                  <a:pt x="618" y="399"/>
                </a:lnTo>
                <a:lnTo>
                  <a:pt x="614" y="415"/>
                </a:lnTo>
                <a:lnTo>
                  <a:pt x="609" y="430"/>
                </a:lnTo>
                <a:lnTo>
                  <a:pt x="603" y="445"/>
                </a:lnTo>
                <a:lnTo>
                  <a:pt x="599" y="463"/>
                </a:lnTo>
                <a:lnTo>
                  <a:pt x="593" y="480"/>
                </a:lnTo>
                <a:lnTo>
                  <a:pt x="588" y="497"/>
                </a:lnTo>
                <a:lnTo>
                  <a:pt x="582" y="515"/>
                </a:lnTo>
                <a:lnTo>
                  <a:pt x="574" y="534"/>
                </a:lnTo>
                <a:lnTo>
                  <a:pt x="568" y="553"/>
                </a:lnTo>
                <a:lnTo>
                  <a:pt x="563" y="574"/>
                </a:lnTo>
                <a:lnTo>
                  <a:pt x="555" y="595"/>
                </a:lnTo>
                <a:lnTo>
                  <a:pt x="547" y="616"/>
                </a:lnTo>
                <a:lnTo>
                  <a:pt x="542" y="637"/>
                </a:lnTo>
                <a:lnTo>
                  <a:pt x="534" y="660"/>
                </a:lnTo>
                <a:lnTo>
                  <a:pt x="526" y="683"/>
                </a:lnTo>
                <a:lnTo>
                  <a:pt x="519" y="706"/>
                </a:lnTo>
                <a:lnTo>
                  <a:pt x="501" y="754"/>
                </a:lnTo>
                <a:lnTo>
                  <a:pt x="486" y="800"/>
                </a:lnTo>
                <a:lnTo>
                  <a:pt x="469" y="847"/>
                </a:lnTo>
                <a:lnTo>
                  <a:pt x="451" y="889"/>
                </a:lnTo>
                <a:lnTo>
                  <a:pt x="434" y="933"/>
                </a:lnTo>
                <a:lnTo>
                  <a:pt x="417" y="973"/>
                </a:lnTo>
                <a:lnTo>
                  <a:pt x="398" y="1015"/>
                </a:lnTo>
                <a:lnTo>
                  <a:pt x="378" y="1054"/>
                </a:lnTo>
                <a:lnTo>
                  <a:pt x="359" y="1092"/>
                </a:lnTo>
                <a:lnTo>
                  <a:pt x="340" y="1130"/>
                </a:lnTo>
                <a:lnTo>
                  <a:pt x="319" y="1167"/>
                </a:lnTo>
                <a:lnTo>
                  <a:pt x="300" y="1203"/>
                </a:lnTo>
                <a:lnTo>
                  <a:pt x="279" y="1238"/>
                </a:lnTo>
                <a:lnTo>
                  <a:pt x="257" y="1272"/>
                </a:lnTo>
                <a:lnTo>
                  <a:pt x="234" y="1307"/>
                </a:lnTo>
                <a:lnTo>
                  <a:pt x="213" y="1342"/>
                </a:lnTo>
                <a:lnTo>
                  <a:pt x="200" y="1357"/>
                </a:lnTo>
                <a:lnTo>
                  <a:pt x="188" y="1372"/>
                </a:lnTo>
                <a:lnTo>
                  <a:pt x="177" y="1388"/>
                </a:lnTo>
                <a:lnTo>
                  <a:pt x="165" y="1401"/>
                </a:lnTo>
                <a:lnTo>
                  <a:pt x="156" y="1416"/>
                </a:lnTo>
                <a:lnTo>
                  <a:pt x="144" y="1428"/>
                </a:lnTo>
                <a:lnTo>
                  <a:pt x="135" y="1441"/>
                </a:lnTo>
                <a:lnTo>
                  <a:pt x="125" y="1453"/>
                </a:lnTo>
                <a:lnTo>
                  <a:pt x="115" y="1464"/>
                </a:lnTo>
                <a:lnTo>
                  <a:pt x="108" y="1476"/>
                </a:lnTo>
                <a:lnTo>
                  <a:pt x="100" y="1485"/>
                </a:lnTo>
                <a:lnTo>
                  <a:pt x="90" y="1495"/>
                </a:lnTo>
                <a:lnTo>
                  <a:pt x="83" y="1503"/>
                </a:lnTo>
                <a:lnTo>
                  <a:pt x="77" y="1512"/>
                </a:lnTo>
                <a:lnTo>
                  <a:pt x="69" y="1520"/>
                </a:lnTo>
                <a:lnTo>
                  <a:pt x="64" y="1528"/>
                </a:lnTo>
                <a:lnTo>
                  <a:pt x="56" y="1533"/>
                </a:lnTo>
                <a:lnTo>
                  <a:pt x="50" y="1539"/>
                </a:lnTo>
                <a:lnTo>
                  <a:pt x="46" y="1545"/>
                </a:lnTo>
                <a:lnTo>
                  <a:pt x="41" y="1551"/>
                </a:lnTo>
                <a:lnTo>
                  <a:pt x="35" y="1555"/>
                </a:lnTo>
                <a:lnTo>
                  <a:pt x="31" y="1558"/>
                </a:lnTo>
                <a:lnTo>
                  <a:pt x="27" y="1562"/>
                </a:lnTo>
                <a:lnTo>
                  <a:pt x="23" y="1564"/>
                </a:lnTo>
                <a:lnTo>
                  <a:pt x="19" y="1568"/>
                </a:lnTo>
                <a:lnTo>
                  <a:pt x="16" y="1570"/>
                </a:lnTo>
                <a:lnTo>
                  <a:pt x="14" y="1570"/>
                </a:lnTo>
                <a:lnTo>
                  <a:pt x="12" y="1572"/>
                </a:lnTo>
                <a:lnTo>
                  <a:pt x="8" y="1572"/>
                </a:lnTo>
                <a:lnTo>
                  <a:pt x="4" y="1570"/>
                </a:lnTo>
                <a:lnTo>
                  <a:pt x="2" y="1568"/>
                </a:lnTo>
                <a:lnTo>
                  <a:pt x="0" y="1564"/>
                </a:lnTo>
                <a:lnTo>
                  <a:pt x="0" y="1560"/>
                </a:lnTo>
                <a:lnTo>
                  <a:pt x="0" y="1555"/>
                </a:lnTo>
                <a:lnTo>
                  <a:pt x="0" y="1549"/>
                </a:lnTo>
                <a:lnTo>
                  <a:pt x="2" y="1543"/>
                </a:lnTo>
                <a:lnTo>
                  <a:pt x="4" y="1535"/>
                </a:lnTo>
                <a:lnTo>
                  <a:pt x="6" y="1526"/>
                </a:lnTo>
                <a:lnTo>
                  <a:pt x="10" y="1518"/>
                </a:lnTo>
                <a:lnTo>
                  <a:pt x="14" y="1507"/>
                </a:lnTo>
                <a:lnTo>
                  <a:pt x="18" y="1495"/>
                </a:lnTo>
                <a:lnTo>
                  <a:pt x="23" y="1484"/>
                </a:lnTo>
                <a:lnTo>
                  <a:pt x="29" y="1470"/>
                </a:lnTo>
                <a:lnTo>
                  <a:pt x="37" y="1455"/>
                </a:lnTo>
                <a:lnTo>
                  <a:pt x="44" y="1439"/>
                </a:lnTo>
                <a:lnTo>
                  <a:pt x="54" y="142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174"/>
          <p:cNvSpPr/>
          <p:nvPr/>
        </p:nvSpPr>
        <p:spPr>
          <a:xfrm>
            <a:off x="6222960" y="3875040"/>
            <a:ext cx="412920" cy="1252440"/>
          </a:xfrm>
          <a:custGeom>
            <a:avLst/>
            <a:gdLst/>
            <a:ahLst/>
            <a:rect l="l" t="t" r="r" b="b"/>
            <a:pathLst>
              <a:path w="518" h="1577">
                <a:moveTo>
                  <a:pt x="196" y="1309"/>
                </a:moveTo>
                <a:lnTo>
                  <a:pt x="184" y="1301"/>
                </a:lnTo>
                <a:lnTo>
                  <a:pt x="174" y="1293"/>
                </a:lnTo>
                <a:lnTo>
                  <a:pt x="165" y="1285"/>
                </a:lnTo>
                <a:lnTo>
                  <a:pt x="157" y="1280"/>
                </a:lnTo>
                <a:lnTo>
                  <a:pt x="148" y="1274"/>
                </a:lnTo>
                <a:lnTo>
                  <a:pt x="142" y="1266"/>
                </a:lnTo>
                <a:lnTo>
                  <a:pt x="136" y="1261"/>
                </a:lnTo>
                <a:lnTo>
                  <a:pt x="130" y="1255"/>
                </a:lnTo>
                <a:lnTo>
                  <a:pt x="125" y="1249"/>
                </a:lnTo>
                <a:lnTo>
                  <a:pt x="121" y="1245"/>
                </a:lnTo>
                <a:lnTo>
                  <a:pt x="117" y="1239"/>
                </a:lnTo>
                <a:lnTo>
                  <a:pt x="115" y="1234"/>
                </a:lnTo>
                <a:lnTo>
                  <a:pt x="113" y="1228"/>
                </a:lnTo>
                <a:lnTo>
                  <a:pt x="111" y="1224"/>
                </a:lnTo>
                <a:lnTo>
                  <a:pt x="109" y="1218"/>
                </a:lnTo>
                <a:lnTo>
                  <a:pt x="109" y="1213"/>
                </a:lnTo>
                <a:lnTo>
                  <a:pt x="109" y="1211"/>
                </a:lnTo>
                <a:lnTo>
                  <a:pt x="111" y="1209"/>
                </a:lnTo>
                <a:lnTo>
                  <a:pt x="113" y="1205"/>
                </a:lnTo>
                <a:lnTo>
                  <a:pt x="115" y="1203"/>
                </a:lnTo>
                <a:lnTo>
                  <a:pt x="117" y="1201"/>
                </a:lnTo>
                <a:lnTo>
                  <a:pt x="121" y="1199"/>
                </a:lnTo>
                <a:lnTo>
                  <a:pt x="125" y="1197"/>
                </a:lnTo>
                <a:lnTo>
                  <a:pt x="130" y="1197"/>
                </a:lnTo>
                <a:lnTo>
                  <a:pt x="134" y="1195"/>
                </a:lnTo>
                <a:lnTo>
                  <a:pt x="142" y="1195"/>
                </a:lnTo>
                <a:lnTo>
                  <a:pt x="148" y="1193"/>
                </a:lnTo>
                <a:lnTo>
                  <a:pt x="155" y="1193"/>
                </a:lnTo>
                <a:lnTo>
                  <a:pt x="165" y="1195"/>
                </a:lnTo>
                <a:lnTo>
                  <a:pt x="174" y="1195"/>
                </a:lnTo>
                <a:lnTo>
                  <a:pt x="184" y="1197"/>
                </a:lnTo>
                <a:lnTo>
                  <a:pt x="196" y="1199"/>
                </a:lnTo>
                <a:lnTo>
                  <a:pt x="207" y="1203"/>
                </a:lnTo>
                <a:lnTo>
                  <a:pt x="217" y="1205"/>
                </a:lnTo>
                <a:lnTo>
                  <a:pt x="226" y="1207"/>
                </a:lnTo>
                <a:lnTo>
                  <a:pt x="236" y="1209"/>
                </a:lnTo>
                <a:lnTo>
                  <a:pt x="245" y="1213"/>
                </a:lnTo>
                <a:lnTo>
                  <a:pt x="255" y="1215"/>
                </a:lnTo>
                <a:lnTo>
                  <a:pt x="270" y="1216"/>
                </a:lnTo>
                <a:lnTo>
                  <a:pt x="284" y="1218"/>
                </a:lnTo>
                <a:lnTo>
                  <a:pt x="292" y="1218"/>
                </a:lnTo>
                <a:lnTo>
                  <a:pt x="297" y="1218"/>
                </a:lnTo>
                <a:lnTo>
                  <a:pt x="303" y="1218"/>
                </a:lnTo>
                <a:lnTo>
                  <a:pt x="309" y="1216"/>
                </a:lnTo>
                <a:lnTo>
                  <a:pt x="313" y="1215"/>
                </a:lnTo>
                <a:lnTo>
                  <a:pt x="318" y="1213"/>
                </a:lnTo>
                <a:lnTo>
                  <a:pt x="320" y="1213"/>
                </a:lnTo>
                <a:lnTo>
                  <a:pt x="322" y="1211"/>
                </a:lnTo>
                <a:lnTo>
                  <a:pt x="324" y="1207"/>
                </a:lnTo>
                <a:lnTo>
                  <a:pt x="326" y="1201"/>
                </a:lnTo>
                <a:lnTo>
                  <a:pt x="330" y="1193"/>
                </a:lnTo>
                <a:lnTo>
                  <a:pt x="332" y="1184"/>
                </a:lnTo>
                <a:lnTo>
                  <a:pt x="334" y="1174"/>
                </a:lnTo>
                <a:lnTo>
                  <a:pt x="336" y="1161"/>
                </a:lnTo>
                <a:lnTo>
                  <a:pt x="338" y="1147"/>
                </a:lnTo>
                <a:lnTo>
                  <a:pt x="341" y="1130"/>
                </a:lnTo>
                <a:lnTo>
                  <a:pt x="343" y="1113"/>
                </a:lnTo>
                <a:lnTo>
                  <a:pt x="345" y="1094"/>
                </a:lnTo>
                <a:lnTo>
                  <a:pt x="347" y="1073"/>
                </a:lnTo>
                <a:lnTo>
                  <a:pt x="349" y="1049"/>
                </a:lnTo>
                <a:lnTo>
                  <a:pt x="353" y="1025"/>
                </a:lnTo>
                <a:lnTo>
                  <a:pt x="355" y="998"/>
                </a:lnTo>
                <a:lnTo>
                  <a:pt x="359" y="946"/>
                </a:lnTo>
                <a:lnTo>
                  <a:pt x="361" y="894"/>
                </a:lnTo>
                <a:lnTo>
                  <a:pt x="363" y="840"/>
                </a:lnTo>
                <a:lnTo>
                  <a:pt x="363" y="785"/>
                </a:lnTo>
                <a:lnTo>
                  <a:pt x="363" y="729"/>
                </a:lnTo>
                <a:lnTo>
                  <a:pt x="361" y="672"/>
                </a:lnTo>
                <a:lnTo>
                  <a:pt x="359" y="612"/>
                </a:lnTo>
                <a:lnTo>
                  <a:pt x="355" y="553"/>
                </a:lnTo>
                <a:lnTo>
                  <a:pt x="353" y="526"/>
                </a:lnTo>
                <a:lnTo>
                  <a:pt x="351" y="499"/>
                </a:lnTo>
                <a:lnTo>
                  <a:pt x="349" y="474"/>
                </a:lnTo>
                <a:lnTo>
                  <a:pt x="347" y="449"/>
                </a:lnTo>
                <a:lnTo>
                  <a:pt x="347" y="426"/>
                </a:lnTo>
                <a:lnTo>
                  <a:pt x="345" y="403"/>
                </a:lnTo>
                <a:lnTo>
                  <a:pt x="345" y="382"/>
                </a:lnTo>
                <a:lnTo>
                  <a:pt x="343" y="363"/>
                </a:lnTo>
                <a:lnTo>
                  <a:pt x="343" y="343"/>
                </a:lnTo>
                <a:lnTo>
                  <a:pt x="343" y="324"/>
                </a:lnTo>
                <a:lnTo>
                  <a:pt x="343" y="309"/>
                </a:lnTo>
                <a:lnTo>
                  <a:pt x="343" y="292"/>
                </a:lnTo>
                <a:lnTo>
                  <a:pt x="343" y="278"/>
                </a:lnTo>
                <a:lnTo>
                  <a:pt x="343" y="265"/>
                </a:lnTo>
                <a:lnTo>
                  <a:pt x="343" y="253"/>
                </a:lnTo>
                <a:lnTo>
                  <a:pt x="343" y="242"/>
                </a:lnTo>
                <a:lnTo>
                  <a:pt x="338" y="228"/>
                </a:lnTo>
                <a:lnTo>
                  <a:pt x="334" y="215"/>
                </a:lnTo>
                <a:lnTo>
                  <a:pt x="328" y="201"/>
                </a:lnTo>
                <a:lnTo>
                  <a:pt x="324" y="192"/>
                </a:lnTo>
                <a:lnTo>
                  <a:pt x="318" y="182"/>
                </a:lnTo>
                <a:lnTo>
                  <a:pt x="315" y="175"/>
                </a:lnTo>
                <a:lnTo>
                  <a:pt x="311" y="167"/>
                </a:lnTo>
                <a:lnTo>
                  <a:pt x="305" y="161"/>
                </a:lnTo>
                <a:lnTo>
                  <a:pt x="299" y="159"/>
                </a:lnTo>
                <a:lnTo>
                  <a:pt x="293" y="157"/>
                </a:lnTo>
                <a:lnTo>
                  <a:pt x="284" y="157"/>
                </a:lnTo>
                <a:lnTo>
                  <a:pt x="274" y="159"/>
                </a:lnTo>
                <a:lnTo>
                  <a:pt x="261" y="159"/>
                </a:lnTo>
                <a:lnTo>
                  <a:pt x="247" y="163"/>
                </a:lnTo>
                <a:lnTo>
                  <a:pt x="230" y="167"/>
                </a:lnTo>
                <a:lnTo>
                  <a:pt x="213" y="171"/>
                </a:lnTo>
                <a:lnTo>
                  <a:pt x="194" y="176"/>
                </a:lnTo>
                <a:lnTo>
                  <a:pt x="173" y="182"/>
                </a:lnTo>
                <a:lnTo>
                  <a:pt x="151" y="190"/>
                </a:lnTo>
                <a:lnTo>
                  <a:pt x="126" y="200"/>
                </a:lnTo>
                <a:lnTo>
                  <a:pt x="100" y="207"/>
                </a:lnTo>
                <a:lnTo>
                  <a:pt x="73" y="219"/>
                </a:lnTo>
                <a:lnTo>
                  <a:pt x="44" y="230"/>
                </a:lnTo>
                <a:lnTo>
                  <a:pt x="11" y="242"/>
                </a:lnTo>
                <a:lnTo>
                  <a:pt x="6" y="188"/>
                </a:lnTo>
                <a:lnTo>
                  <a:pt x="0" y="134"/>
                </a:lnTo>
                <a:lnTo>
                  <a:pt x="29" y="127"/>
                </a:lnTo>
                <a:lnTo>
                  <a:pt x="55" y="119"/>
                </a:lnTo>
                <a:lnTo>
                  <a:pt x="80" y="111"/>
                </a:lnTo>
                <a:lnTo>
                  <a:pt x="105" y="104"/>
                </a:lnTo>
                <a:lnTo>
                  <a:pt x="128" y="96"/>
                </a:lnTo>
                <a:lnTo>
                  <a:pt x="148" y="90"/>
                </a:lnTo>
                <a:lnTo>
                  <a:pt x="167" y="82"/>
                </a:lnTo>
                <a:lnTo>
                  <a:pt x="184" y="75"/>
                </a:lnTo>
                <a:lnTo>
                  <a:pt x="201" y="69"/>
                </a:lnTo>
                <a:lnTo>
                  <a:pt x="215" y="61"/>
                </a:lnTo>
                <a:lnTo>
                  <a:pt x="228" y="56"/>
                </a:lnTo>
                <a:lnTo>
                  <a:pt x="240" y="50"/>
                </a:lnTo>
                <a:lnTo>
                  <a:pt x="249" y="42"/>
                </a:lnTo>
                <a:lnTo>
                  <a:pt x="257" y="36"/>
                </a:lnTo>
                <a:lnTo>
                  <a:pt x="265" y="33"/>
                </a:lnTo>
                <a:lnTo>
                  <a:pt x="268" y="27"/>
                </a:lnTo>
                <a:lnTo>
                  <a:pt x="288" y="17"/>
                </a:lnTo>
                <a:lnTo>
                  <a:pt x="297" y="11"/>
                </a:lnTo>
                <a:lnTo>
                  <a:pt x="305" y="8"/>
                </a:lnTo>
                <a:lnTo>
                  <a:pt x="315" y="4"/>
                </a:lnTo>
                <a:lnTo>
                  <a:pt x="324" y="2"/>
                </a:lnTo>
                <a:lnTo>
                  <a:pt x="334" y="0"/>
                </a:lnTo>
                <a:lnTo>
                  <a:pt x="343" y="0"/>
                </a:lnTo>
                <a:lnTo>
                  <a:pt x="345" y="0"/>
                </a:lnTo>
                <a:lnTo>
                  <a:pt x="347" y="0"/>
                </a:lnTo>
                <a:lnTo>
                  <a:pt x="351" y="2"/>
                </a:lnTo>
                <a:lnTo>
                  <a:pt x="357" y="2"/>
                </a:lnTo>
                <a:lnTo>
                  <a:pt x="361" y="4"/>
                </a:lnTo>
                <a:lnTo>
                  <a:pt x="366" y="6"/>
                </a:lnTo>
                <a:lnTo>
                  <a:pt x="378" y="11"/>
                </a:lnTo>
                <a:lnTo>
                  <a:pt x="384" y="15"/>
                </a:lnTo>
                <a:lnTo>
                  <a:pt x="391" y="19"/>
                </a:lnTo>
                <a:lnTo>
                  <a:pt x="399" y="23"/>
                </a:lnTo>
                <a:lnTo>
                  <a:pt x="407" y="27"/>
                </a:lnTo>
                <a:lnTo>
                  <a:pt x="414" y="33"/>
                </a:lnTo>
                <a:lnTo>
                  <a:pt x="422" y="38"/>
                </a:lnTo>
                <a:lnTo>
                  <a:pt x="432" y="46"/>
                </a:lnTo>
                <a:lnTo>
                  <a:pt x="441" y="54"/>
                </a:lnTo>
                <a:lnTo>
                  <a:pt x="453" y="67"/>
                </a:lnTo>
                <a:lnTo>
                  <a:pt x="466" y="81"/>
                </a:lnTo>
                <a:lnTo>
                  <a:pt x="476" y="94"/>
                </a:lnTo>
                <a:lnTo>
                  <a:pt x="485" y="105"/>
                </a:lnTo>
                <a:lnTo>
                  <a:pt x="495" y="117"/>
                </a:lnTo>
                <a:lnTo>
                  <a:pt x="503" y="127"/>
                </a:lnTo>
                <a:lnTo>
                  <a:pt x="508" y="138"/>
                </a:lnTo>
                <a:lnTo>
                  <a:pt x="514" y="148"/>
                </a:lnTo>
                <a:lnTo>
                  <a:pt x="516" y="153"/>
                </a:lnTo>
                <a:lnTo>
                  <a:pt x="518" y="157"/>
                </a:lnTo>
                <a:lnTo>
                  <a:pt x="518" y="163"/>
                </a:lnTo>
                <a:lnTo>
                  <a:pt x="518" y="167"/>
                </a:lnTo>
                <a:lnTo>
                  <a:pt x="518" y="176"/>
                </a:lnTo>
                <a:lnTo>
                  <a:pt x="516" y="186"/>
                </a:lnTo>
                <a:lnTo>
                  <a:pt x="514" y="196"/>
                </a:lnTo>
                <a:lnTo>
                  <a:pt x="510" y="203"/>
                </a:lnTo>
                <a:lnTo>
                  <a:pt x="506" y="209"/>
                </a:lnTo>
                <a:lnTo>
                  <a:pt x="501" y="215"/>
                </a:lnTo>
                <a:lnTo>
                  <a:pt x="497" y="221"/>
                </a:lnTo>
                <a:lnTo>
                  <a:pt x="493" y="230"/>
                </a:lnTo>
                <a:lnTo>
                  <a:pt x="489" y="240"/>
                </a:lnTo>
                <a:lnTo>
                  <a:pt x="485" y="251"/>
                </a:lnTo>
                <a:lnTo>
                  <a:pt x="483" y="265"/>
                </a:lnTo>
                <a:lnTo>
                  <a:pt x="480" y="280"/>
                </a:lnTo>
                <a:lnTo>
                  <a:pt x="478" y="297"/>
                </a:lnTo>
                <a:lnTo>
                  <a:pt x="476" y="317"/>
                </a:lnTo>
                <a:lnTo>
                  <a:pt x="474" y="338"/>
                </a:lnTo>
                <a:lnTo>
                  <a:pt x="474" y="361"/>
                </a:lnTo>
                <a:lnTo>
                  <a:pt x="472" y="386"/>
                </a:lnTo>
                <a:lnTo>
                  <a:pt x="472" y="412"/>
                </a:lnTo>
                <a:lnTo>
                  <a:pt x="472" y="441"/>
                </a:lnTo>
                <a:lnTo>
                  <a:pt x="474" y="472"/>
                </a:lnTo>
                <a:lnTo>
                  <a:pt x="474" y="505"/>
                </a:lnTo>
                <a:lnTo>
                  <a:pt x="478" y="539"/>
                </a:lnTo>
                <a:lnTo>
                  <a:pt x="480" y="574"/>
                </a:lnTo>
                <a:lnTo>
                  <a:pt x="482" y="608"/>
                </a:lnTo>
                <a:lnTo>
                  <a:pt x="482" y="643"/>
                </a:lnTo>
                <a:lnTo>
                  <a:pt x="483" y="675"/>
                </a:lnTo>
                <a:lnTo>
                  <a:pt x="485" y="708"/>
                </a:lnTo>
                <a:lnTo>
                  <a:pt x="487" y="741"/>
                </a:lnTo>
                <a:lnTo>
                  <a:pt x="487" y="771"/>
                </a:lnTo>
                <a:lnTo>
                  <a:pt x="489" y="802"/>
                </a:lnTo>
                <a:lnTo>
                  <a:pt x="491" y="833"/>
                </a:lnTo>
                <a:lnTo>
                  <a:pt x="491" y="861"/>
                </a:lnTo>
                <a:lnTo>
                  <a:pt x="493" y="890"/>
                </a:lnTo>
                <a:lnTo>
                  <a:pt x="495" y="919"/>
                </a:lnTo>
                <a:lnTo>
                  <a:pt x="495" y="946"/>
                </a:lnTo>
                <a:lnTo>
                  <a:pt x="497" y="973"/>
                </a:lnTo>
                <a:lnTo>
                  <a:pt x="499" y="1000"/>
                </a:lnTo>
                <a:lnTo>
                  <a:pt x="501" y="1025"/>
                </a:lnTo>
                <a:lnTo>
                  <a:pt x="501" y="1074"/>
                </a:lnTo>
                <a:lnTo>
                  <a:pt x="499" y="1124"/>
                </a:lnTo>
                <a:lnTo>
                  <a:pt x="495" y="1170"/>
                </a:lnTo>
                <a:lnTo>
                  <a:pt x="491" y="1218"/>
                </a:lnTo>
                <a:lnTo>
                  <a:pt x="483" y="1264"/>
                </a:lnTo>
                <a:lnTo>
                  <a:pt x="480" y="1287"/>
                </a:lnTo>
                <a:lnTo>
                  <a:pt x="476" y="1310"/>
                </a:lnTo>
                <a:lnTo>
                  <a:pt x="470" y="1333"/>
                </a:lnTo>
                <a:lnTo>
                  <a:pt x="464" y="1356"/>
                </a:lnTo>
                <a:lnTo>
                  <a:pt x="459" y="1380"/>
                </a:lnTo>
                <a:lnTo>
                  <a:pt x="453" y="1403"/>
                </a:lnTo>
                <a:lnTo>
                  <a:pt x="445" y="1422"/>
                </a:lnTo>
                <a:lnTo>
                  <a:pt x="439" y="1441"/>
                </a:lnTo>
                <a:lnTo>
                  <a:pt x="432" y="1458"/>
                </a:lnTo>
                <a:lnTo>
                  <a:pt x="426" y="1474"/>
                </a:lnTo>
                <a:lnTo>
                  <a:pt x="418" y="1489"/>
                </a:lnTo>
                <a:lnTo>
                  <a:pt x="412" y="1502"/>
                </a:lnTo>
                <a:lnTo>
                  <a:pt x="405" y="1514"/>
                </a:lnTo>
                <a:lnTo>
                  <a:pt x="399" y="1525"/>
                </a:lnTo>
                <a:lnTo>
                  <a:pt x="393" y="1535"/>
                </a:lnTo>
                <a:lnTo>
                  <a:pt x="387" y="1545"/>
                </a:lnTo>
                <a:lnTo>
                  <a:pt x="380" y="1552"/>
                </a:lnTo>
                <a:lnTo>
                  <a:pt x="374" y="1560"/>
                </a:lnTo>
                <a:lnTo>
                  <a:pt x="370" y="1566"/>
                </a:lnTo>
                <a:lnTo>
                  <a:pt x="364" y="1571"/>
                </a:lnTo>
                <a:lnTo>
                  <a:pt x="359" y="1575"/>
                </a:lnTo>
                <a:lnTo>
                  <a:pt x="355" y="1577"/>
                </a:lnTo>
                <a:lnTo>
                  <a:pt x="349" y="1577"/>
                </a:lnTo>
                <a:lnTo>
                  <a:pt x="345" y="1575"/>
                </a:lnTo>
                <a:lnTo>
                  <a:pt x="341" y="1573"/>
                </a:lnTo>
                <a:lnTo>
                  <a:pt x="338" y="1569"/>
                </a:lnTo>
                <a:lnTo>
                  <a:pt x="334" y="1566"/>
                </a:lnTo>
                <a:lnTo>
                  <a:pt x="332" y="1562"/>
                </a:lnTo>
                <a:lnTo>
                  <a:pt x="328" y="1556"/>
                </a:lnTo>
                <a:lnTo>
                  <a:pt x="326" y="1548"/>
                </a:lnTo>
                <a:lnTo>
                  <a:pt x="322" y="1541"/>
                </a:lnTo>
                <a:lnTo>
                  <a:pt x="320" y="1533"/>
                </a:lnTo>
                <a:lnTo>
                  <a:pt x="316" y="1525"/>
                </a:lnTo>
                <a:lnTo>
                  <a:pt x="315" y="1516"/>
                </a:lnTo>
                <a:lnTo>
                  <a:pt x="313" y="1504"/>
                </a:lnTo>
                <a:lnTo>
                  <a:pt x="311" y="1493"/>
                </a:lnTo>
                <a:lnTo>
                  <a:pt x="307" y="1481"/>
                </a:lnTo>
                <a:lnTo>
                  <a:pt x="305" y="1470"/>
                </a:lnTo>
                <a:lnTo>
                  <a:pt x="303" y="1454"/>
                </a:lnTo>
                <a:lnTo>
                  <a:pt x="299" y="1441"/>
                </a:lnTo>
                <a:lnTo>
                  <a:pt x="295" y="1427"/>
                </a:lnTo>
                <a:lnTo>
                  <a:pt x="292" y="1414"/>
                </a:lnTo>
                <a:lnTo>
                  <a:pt x="288" y="1403"/>
                </a:lnTo>
                <a:lnTo>
                  <a:pt x="282" y="1389"/>
                </a:lnTo>
                <a:lnTo>
                  <a:pt x="276" y="1380"/>
                </a:lnTo>
                <a:lnTo>
                  <a:pt x="268" y="1368"/>
                </a:lnTo>
                <a:lnTo>
                  <a:pt x="261" y="1358"/>
                </a:lnTo>
                <a:lnTo>
                  <a:pt x="253" y="1349"/>
                </a:lnTo>
                <a:lnTo>
                  <a:pt x="245" y="1341"/>
                </a:lnTo>
                <a:lnTo>
                  <a:pt x="236" y="1333"/>
                </a:lnTo>
                <a:lnTo>
                  <a:pt x="226" y="1326"/>
                </a:lnTo>
                <a:lnTo>
                  <a:pt x="217" y="1320"/>
                </a:lnTo>
                <a:lnTo>
                  <a:pt x="207" y="1312"/>
                </a:lnTo>
                <a:lnTo>
                  <a:pt x="196" y="13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175"/>
          <p:cNvSpPr/>
          <p:nvPr/>
        </p:nvSpPr>
        <p:spPr>
          <a:xfrm>
            <a:off x="6064200" y="3968640"/>
            <a:ext cx="189000" cy="987480"/>
          </a:xfrm>
          <a:custGeom>
            <a:avLst/>
            <a:gdLst/>
            <a:ahLst/>
            <a:rect l="l" t="t" r="r" b="b"/>
            <a:pathLst>
              <a:path w="238" h="1245">
                <a:moveTo>
                  <a:pt x="54" y="679"/>
                </a:moveTo>
                <a:lnTo>
                  <a:pt x="62" y="647"/>
                </a:lnTo>
                <a:lnTo>
                  <a:pt x="67" y="614"/>
                </a:lnTo>
                <a:lnTo>
                  <a:pt x="73" y="583"/>
                </a:lnTo>
                <a:lnTo>
                  <a:pt x="79" y="555"/>
                </a:lnTo>
                <a:lnTo>
                  <a:pt x="85" y="526"/>
                </a:lnTo>
                <a:lnTo>
                  <a:pt x="90" y="499"/>
                </a:lnTo>
                <a:lnTo>
                  <a:pt x="96" y="474"/>
                </a:lnTo>
                <a:lnTo>
                  <a:pt x="100" y="449"/>
                </a:lnTo>
                <a:lnTo>
                  <a:pt x="104" y="426"/>
                </a:lnTo>
                <a:lnTo>
                  <a:pt x="110" y="403"/>
                </a:lnTo>
                <a:lnTo>
                  <a:pt x="113" y="382"/>
                </a:lnTo>
                <a:lnTo>
                  <a:pt x="117" y="363"/>
                </a:lnTo>
                <a:lnTo>
                  <a:pt x="119" y="345"/>
                </a:lnTo>
                <a:lnTo>
                  <a:pt x="123" y="328"/>
                </a:lnTo>
                <a:lnTo>
                  <a:pt x="125" y="315"/>
                </a:lnTo>
                <a:lnTo>
                  <a:pt x="129" y="301"/>
                </a:lnTo>
                <a:lnTo>
                  <a:pt x="127" y="276"/>
                </a:lnTo>
                <a:lnTo>
                  <a:pt x="125" y="253"/>
                </a:lnTo>
                <a:lnTo>
                  <a:pt x="123" y="230"/>
                </a:lnTo>
                <a:lnTo>
                  <a:pt x="119" y="209"/>
                </a:lnTo>
                <a:lnTo>
                  <a:pt x="117" y="190"/>
                </a:lnTo>
                <a:lnTo>
                  <a:pt x="112" y="171"/>
                </a:lnTo>
                <a:lnTo>
                  <a:pt x="108" y="153"/>
                </a:lnTo>
                <a:lnTo>
                  <a:pt x="104" y="138"/>
                </a:lnTo>
                <a:lnTo>
                  <a:pt x="94" y="119"/>
                </a:lnTo>
                <a:lnTo>
                  <a:pt x="90" y="107"/>
                </a:lnTo>
                <a:lnTo>
                  <a:pt x="87" y="98"/>
                </a:lnTo>
                <a:lnTo>
                  <a:pt x="83" y="88"/>
                </a:lnTo>
                <a:lnTo>
                  <a:pt x="81" y="79"/>
                </a:lnTo>
                <a:lnTo>
                  <a:pt x="79" y="67"/>
                </a:lnTo>
                <a:lnTo>
                  <a:pt x="79" y="58"/>
                </a:lnTo>
                <a:lnTo>
                  <a:pt x="79" y="52"/>
                </a:lnTo>
                <a:lnTo>
                  <a:pt x="81" y="48"/>
                </a:lnTo>
                <a:lnTo>
                  <a:pt x="85" y="42"/>
                </a:lnTo>
                <a:lnTo>
                  <a:pt x="89" y="38"/>
                </a:lnTo>
                <a:lnTo>
                  <a:pt x="94" y="33"/>
                </a:lnTo>
                <a:lnTo>
                  <a:pt x="100" y="27"/>
                </a:lnTo>
                <a:lnTo>
                  <a:pt x="108" y="23"/>
                </a:lnTo>
                <a:lnTo>
                  <a:pt x="115" y="17"/>
                </a:lnTo>
                <a:lnTo>
                  <a:pt x="135" y="17"/>
                </a:lnTo>
                <a:lnTo>
                  <a:pt x="144" y="17"/>
                </a:lnTo>
                <a:lnTo>
                  <a:pt x="154" y="15"/>
                </a:lnTo>
                <a:lnTo>
                  <a:pt x="165" y="13"/>
                </a:lnTo>
                <a:lnTo>
                  <a:pt x="177" y="12"/>
                </a:lnTo>
                <a:lnTo>
                  <a:pt x="188" y="8"/>
                </a:lnTo>
                <a:lnTo>
                  <a:pt x="202" y="4"/>
                </a:lnTo>
                <a:lnTo>
                  <a:pt x="206" y="2"/>
                </a:lnTo>
                <a:lnTo>
                  <a:pt x="209" y="0"/>
                </a:lnTo>
                <a:lnTo>
                  <a:pt x="213" y="0"/>
                </a:lnTo>
                <a:lnTo>
                  <a:pt x="217" y="0"/>
                </a:lnTo>
                <a:lnTo>
                  <a:pt x="221" y="2"/>
                </a:lnTo>
                <a:lnTo>
                  <a:pt x="223" y="6"/>
                </a:lnTo>
                <a:lnTo>
                  <a:pt x="227" y="8"/>
                </a:lnTo>
                <a:lnTo>
                  <a:pt x="229" y="12"/>
                </a:lnTo>
                <a:lnTo>
                  <a:pt x="231" y="17"/>
                </a:lnTo>
                <a:lnTo>
                  <a:pt x="232" y="23"/>
                </a:lnTo>
                <a:lnTo>
                  <a:pt x="234" y="29"/>
                </a:lnTo>
                <a:lnTo>
                  <a:pt x="236" y="36"/>
                </a:lnTo>
                <a:lnTo>
                  <a:pt x="236" y="44"/>
                </a:lnTo>
                <a:lnTo>
                  <a:pt x="238" y="52"/>
                </a:lnTo>
                <a:lnTo>
                  <a:pt x="238" y="61"/>
                </a:lnTo>
                <a:lnTo>
                  <a:pt x="238" y="71"/>
                </a:lnTo>
                <a:lnTo>
                  <a:pt x="238" y="77"/>
                </a:lnTo>
                <a:lnTo>
                  <a:pt x="238" y="83"/>
                </a:lnTo>
                <a:lnTo>
                  <a:pt x="238" y="88"/>
                </a:lnTo>
                <a:lnTo>
                  <a:pt x="238" y="96"/>
                </a:lnTo>
                <a:lnTo>
                  <a:pt x="238" y="104"/>
                </a:lnTo>
                <a:lnTo>
                  <a:pt x="236" y="111"/>
                </a:lnTo>
                <a:lnTo>
                  <a:pt x="236" y="121"/>
                </a:lnTo>
                <a:lnTo>
                  <a:pt x="236" y="129"/>
                </a:lnTo>
                <a:lnTo>
                  <a:pt x="236" y="138"/>
                </a:lnTo>
                <a:lnTo>
                  <a:pt x="234" y="150"/>
                </a:lnTo>
                <a:lnTo>
                  <a:pt x="234" y="159"/>
                </a:lnTo>
                <a:lnTo>
                  <a:pt x="234" y="171"/>
                </a:lnTo>
                <a:lnTo>
                  <a:pt x="232" y="182"/>
                </a:lnTo>
                <a:lnTo>
                  <a:pt x="232" y="196"/>
                </a:lnTo>
                <a:lnTo>
                  <a:pt x="231" y="207"/>
                </a:lnTo>
                <a:lnTo>
                  <a:pt x="231" y="221"/>
                </a:lnTo>
                <a:lnTo>
                  <a:pt x="231" y="236"/>
                </a:lnTo>
                <a:lnTo>
                  <a:pt x="229" y="249"/>
                </a:lnTo>
                <a:lnTo>
                  <a:pt x="229" y="265"/>
                </a:lnTo>
                <a:lnTo>
                  <a:pt x="227" y="280"/>
                </a:lnTo>
                <a:lnTo>
                  <a:pt x="227" y="295"/>
                </a:lnTo>
                <a:lnTo>
                  <a:pt x="225" y="313"/>
                </a:lnTo>
                <a:lnTo>
                  <a:pt x="223" y="328"/>
                </a:lnTo>
                <a:lnTo>
                  <a:pt x="223" y="345"/>
                </a:lnTo>
                <a:lnTo>
                  <a:pt x="221" y="365"/>
                </a:lnTo>
                <a:lnTo>
                  <a:pt x="221" y="382"/>
                </a:lnTo>
                <a:lnTo>
                  <a:pt x="219" y="401"/>
                </a:lnTo>
                <a:lnTo>
                  <a:pt x="219" y="420"/>
                </a:lnTo>
                <a:lnTo>
                  <a:pt x="217" y="441"/>
                </a:lnTo>
                <a:lnTo>
                  <a:pt x="215" y="460"/>
                </a:lnTo>
                <a:lnTo>
                  <a:pt x="215" y="482"/>
                </a:lnTo>
                <a:lnTo>
                  <a:pt x="213" y="503"/>
                </a:lnTo>
                <a:lnTo>
                  <a:pt x="209" y="545"/>
                </a:lnTo>
                <a:lnTo>
                  <a:pt x="206" y="587"/>
                </a:lnTo>
                <a:lnTo>
                  <a:pt x="200" y="627"/>
                </a:lnTo>
                <a:lnTo>
                  <a:pt x="196" y="666"/>
                </a:lnTo>
                <a:lnTo>
                  <a:pt x="190" y="704"/>
                </a:lnTo>
                <a:lnTo>
                  <a:pt x="186" y="743"/>
                </a:lnTo>
                <a:lnTo>
                  <a:pt x="183" y="779"/>
                </a:lnTo>
                <a:lnTo>
                  <a:pt x="177" y="814"/>
                </a:lnTo>
                <a:lnTo>
                  <a:pt x="173" y="846"/>
                </a:lnTo>
                <a:lnTo>
                  <a:pt x="167" y="879"/>
                </a:lnTo>
                <a:lnTo>
                  <a:pt x="163" y="909"/>
                </a:lnTo>
                <a:lnTo>
                  <a:pt x="160" y="938"/>
                </a:lnTo>
                <a:lnTo>
                  <a:pt x="154" y="967"/>
                </a:lnTo>
                <a:lnTo>
                  <a:pt x="150" y="994"/>
                </a:lnTo>
                <a:lnTo>
                  <a:pt x="144" y="1019"/>
                </a:lnTo>
                <a:lnTo>
                  <a:pt x="140" y="1042"/>
                </a:lnTo>
                <a:lnTo>
                  <a:pt x="135" y="1067"/>
                </a:lnTo>
                <a:lnTo>
                  <a:pt x="127" y="1090"/>
                </a:lnTo>
                <a:lnTo>
                  <a:pt x="121" y="1111"/>
                </a:lnTo>
                <a:lnTo>
                  <a:pt x="115" y="1130"/>
                </a:lnTo>
                <a:lnTo>
                  <a:pt x="110" y="1149"/>
                </a:lnTo>
                <a:lnTo>
                  <a:pt x="104" y="1167"/>
                </a:lnTo>
                <a:lnTo>
                  <a:pt x="100" y="1180"/>
                </a:lnTo>
                <a:lnTo>
                  <a:pt x="94" y="1193"/>
                </a:lnTo>
                <a:lnTo>
                  <a:pt x="90" y="1207"/>
                </a:lnTo>
                <a:lnTo>
                  <a:pt x="87" y="1216"/>
                </a:lnTo>
                <a:lnTo>
                  <a:pt x="83" y="1224"/>
                </a:lnTo>
                <a:lnTo>
                  <a:pt x="79" y="1232"/>
                </a:lnTo>
                <a:lnTo>
                  <a:pt x="75" y="1238"/>
                </a:lnTo>
                <a:lnTo>
                  <a:pt x="71" y="1241"/>
                </a:lnTo>
                <a:lnTo>
                  <a:pt x="69" y="1243"/>
                </a:lnTo>
                <a:lnTo>
                  <a:pt x="67" y="1245"/>
                </a:lnTo>
                <a:lnTo>
                  <a:pt x="64" y="1245"/>
                </a:lnTo>
                <a:lnTo>
                  <a:pt x="62" y="1243"/>
                </a:lnTo>
                <a:lnTo>
                  <a:pt x="60" y="1241"/>
                </a:lnTo>
                <a:lnTo>
                  <a:pt x="56" y="1238"/>
                </a:lnTo>
                <a:lnTo>
                  <a:pt x="52" y="1234"/>
                </a:lnTo>
                <a:lnTo>
                  <a:pt x="48" y="1228"/>
                </a:lnTo>
                <a:lnTo>
                  <a:pt x="46" y="1222"/>
                </a:lnTo>
                <a:lnTo>
                  <a:pt x="42" y="1216"/>
                </a:lnTo>
                <a:lnTo>
                  <a:pt x="39" y="1209"/>
                </a:lnTo>
                <a:lnTo>
                  <a:pt x="35" y="1201"/>
                </a:lnTo>
                <a:lnTo>
                  <a:pt x="33" y="1192"/>
                </a:lnTo>
                <a:lnTo>
                  <a:pt x="29" y="1182"/>
                </a:lnTo>
                <a:lnTo>
                  <a:pt x="25" y="1172"/>
                </a:lnTo>
                <a:lnTo>
                  <a:pt x="23" y="1161"/>
                </a:lnTo>
                <a:lnTo>
                  <a:pt x="21" y="1149"/>
                </a:lnTo>
                <a:lnTo>
                  <a:pt x="18" y="1138"/>
                </a:lnTo>
                <a:lnTo>
                  <a:pt x="14" y="1113"/>
                </a:lnTo>
                <a:lnTo>
                  <a:pt x="10" y="1090"/>
                </a:lnTo>
                <a:lnTo>
                  <a:pt x="6" y="1067"/>
                </a:lnTo>
                <a:lnTo>
                  <a:pt x="2" y="1048"/>
                </a:lnTo>
                <a:lnTo>
                  <a:pt x="2" y="1038"/>
                </a:lnTo>
                <a:lnTo>
                  <a:pt x="0" y="1030"/>
                </a:lnTo>
                <a:lnTo>
                  <a:pt x="0" y="1021"/>
                </a:lnTo>
                <a:lnTo>
                  <a:pt x="0" y="1013"/>
                </a:lnTo>
                <a:lnTo>
                  <a:pt x="2" y="1005"/>
                </a:lnTo>
                <a:lnTo>
                  <a:pt x="2" y="1000"/>
                </a:lnTo>
                <a:lnTo>
                  <a:pt x="4" y="994"/>
                </a:lnTo>
                <a:lnTo>
                  <a:pt x="6" y="988"/>
                </a:lnTo>
                <a:lnTo>
                  <a:pt x="6" y="982"/>
                </a:lnTo>
                <a:lnTo>
                  <a:pt x="6" y="975"/>
                </a:lnTo>
                <a:lnTo>
                  <a:pt x="8" y="965"/>
                </a:lnTo>
                <a:lnTo>
                  <a:pt x="8" y="954"/>
                </a:lnTo>
                <a:lnTo>
                  <a:pt x="10" y="940"/>
                </a:lnTo>
                <a:lnTo>
                  <a:pt x="12" y="925"/>
                </a:lnTo>
                <a:lnTo>
                  <a:pt x="14" y="908"/>
                </a:lnTo>
                <a:lnTo>
                  <a:pt x="16" y="888"/>
                </a:lnTo>
                <a:lnTo>
                  <a:pt x="19" y="869"/>
                </a:lnTo>
                <a:lnTo>
                  <a:pt x="23" y="846"/>
                </a:lnTo>
                <a:lnTo>
                  <a:pt x="27" y="823"/>
                </a:lnTo>
                <a:lnTo>
                  <a:pt x="31" y="796"/>
                </a:lnTo>
                <a:lnTo>
                  <a:pt x="37" y="769"/>
                </a:lnTo>
                <a:lnTo>
                  <a:pt x="42" y="741"/>
                </a:lnTo>
                <a:lnTo>
                  <a:pt x="48" y="710"/>
                </a:lnTo>
                <a:lnTo>
                  <a:pt x="54" y="67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176"/>
          <p:cNvSpPr/>
          <p:nvPr/>
        </p:nvSpPr>
        <p:spPr>
          <a:xfrm>
            <a:off x="6165720" y="4441680"/>
            <a:ext cx="281160" cy="119160"/>
          </a:xfrm>
          <a:custGeom>
            <a:avLst/>
            <a:gdLst/>
            <a:ahLst/>
            <a:rect l="l" t="t" r="r" b="b"/>
            <a:pathLst>
              <a:path w="355" h="149">
                <a:moveTo>
                  <a:pt x="305" y="109"/>
                </a:moveTo>
                <a:lnTo>
                  <a:pt x="297" y="109"/>
                </a:lnTo>
                <a:lnTo>
                  <a:pt x="290" y="109"/>
                </a:lnTo>
                <a:lnTo>
                  <a:pt x="278" y="109"/>
                </a:lnTo>
                <a:lnTo>
                  <a:pt x="269" y="111"/>
                </a:lnTo>
                <a:lnTo>
                  <a:pt x="255" y="113"/>
                </a:lnTo>
                <a:lnTo>
                  <a:pt x="242" y="113"/>
                </a:lnTo>
                <a:lnTo>
                  <a:pt x="226" y="115"/>
                </a:lnTo>
                <a:lnTo>
                  <a:pt x="211" y="119"/>
                </a:lnTo>
                <a:lnTo>
                  <a:pt x="192" y="121"/>
                </a:lnTo>
                <a:lnTo>
                  <a:pt x="173" y="124"/>
                </a:lnTo>
                <a:lnTo>
                  <a:pt x="151" y="126"/>
                </a:lnTo>
                <a:lnTo>
                  <a:pt x="130" y="130"/>
                </a:lnTo>
                <a:lnTo>
                  <a:pt x="105" y="134"/>
                </a:lnTo>
                <a:lnTo>
                  <a:pt x="80" y="140"/>
                </a:lnTo>
                <a:lnTo>
                  <a:pt x="52" y="144"/>
                </a:lnTo>
                <a:lnTo>
                  <a:pt x="23" y="149"/>
                </a:lnTo>
                <a:lnTo>
                  <a:pt x="11" y="94"/>
                </a:lnTo>
                <a:lnTo>
                  <a:pt x="0" y="40"/>
                </a:lnTo>
                <a:lnTo>
                  <a:pt x="15" y="38"/>
                </a:lnTo>
                <a:lnTo>
                  <a:pt x="29" y="36"/>
                </a:lnTo>
                <a:lnTo>
                  <a:pt x="44" y="34"/>
                </a:lnTo>
                <a:lnTo>
                  <a:pt x="57" y="32"/>
                </a:lnTo>
                <a:lnTo>
                  <a:pt x="69" y="30"/>
                </a:lnTo>
                <a:lnTo>
                  <a:pt x="80" y="30"/>
                </a:lnTo>
                <a:lnTo>
                  <a:pt x="92" y="28"/>
                </a:lnTo>
                <a:lnTo>
                  <a:pt x="103" y="27"/>
                </a:lnTo>
                <a:lnTo>
                  <a:pt x="113" y="27"/>
                </a:lnTo>
                <a:lnTo>
                  <a:pt x="123" y="25"/>
                </a:lnTo>
                <a:lnTo>
                  <a:pt x="132" y="23"/>
                </a:lnTo>
                <a:lnTo>
                  <a:pt x="140" y="23"/>
                </a:lnTo>
                <a:lnTo>
                  <a:pt x="155" y="19"/>
                </a:lnTo>
                <a:lnTo>
                  <a:pt x="171" y="13"/>
                </a:lnTo>
                <a:lnTo>
                  <a:pt x="184" y="9"/>
                </a:lnTo>
                <a:lnTo>
                  <a:pt x="196" y="5"/>
                </a:lnTo>
                <a:lnTo>
                  <a:pt x="207" y="4"/>
                </a:lnTo>
                <a:lnTo>
                  <a:pt x="217" y="2"/>
                </a:lnTo>
                <a:lnTo>
                  <a:pt x="224" y="2"/>
                </a:lnTo>
                <a:lnTo>
                  <a:pt x="232" y="0"/>
                </a:lnTo>
                <a:lnTo>
                  <a:pt x="238" y="0"/>
                </a:lnTo>
                <a:lnTo>
                  <a:pt x="244" y="0"/>
                </a:lnTo>
                <a:lnTo>
                  <a:pt x="247" y="0"/>
                </a:lnTo>
                <a:lnTo>
                  <a:pt x="253" y="0"/>
                </a:lnTo>
                <a:lnTo>
                  <a:pt x="259" y="2"/>
                </a:lnTo>
                <a:lnTo>
                  <a:pt x="265" y="2"/>
                </a:lnTo>
                <a:lnTo>
                  <a:pt x="272" y="4"/>
                </a:lnTo>
                <a:lnTo>
                  <a:pt x="282" y="5"/>
                </a:lnTo>
                <a:lnTo>
                  <a:pt x="288" y="7"/>
                </a:lnTo>
                <a:lnTo>
                  <a:pt x="292" y="9"/>
                </a:lnTo>
                <a:lnTo>
                  <a:pt x="299" y="11"/>
                </a:lnTo>
                <a:lnTo>
                  <a:pt x="305" y="13"/>
                </a:lnTo>
                <a:lnTo>
                  <a:pt x="311" y="17"/>
                </a:lnTo>
                <a:lnTo>
                  <a:pt x="318" y="19"/>
                </a:lnTo>
                <a:lnTo>
                  <a:pt x="322" y="23"/>
                </a:lnTo>
                <a:lnTo>
                  <a:pt x="328" y="27"/>
                </a:lnTo>
                <a:lnTo>
                  <a:pt x="332" y="30"/>
                </a:lnTo>
                <a:lnTo>
                  <a:pt x="336" y="32"/>
                </a:lnTo>
                <a:lnTo>
                  <a:pt x="343" y="40"/>
                </a:lnTo>
                <a:lnTo>
                  <a:pt x="347" y="48"/>
                </a:lnTo>
                <a:lnTo>
                  <a:pt x="351" y="55"/>
                </a:lnTo>
                <a:lnTo>
                  <a:pt x="353" y="63"/>
                </a:lnTo>
                <a:lnTo>
                  <a:pt x="355" y="69"/>
                </a:lnTo>
                <a:lnTo>
                  <a:pt x="353" y="73"/>
                </a:lnTo>
                <a:lnTo>
                  <a:pt x="351" y="78"/>
                </a:lnTo>
                <a:lnTo>
                  <a:pt x="347" y="82"/>
                </a:lnTo>
                <a:lnTo>
                  <a:pt x="343" y="88"/>
                </a:lnTo>
                <a:lnTo>
                  <a:pt x="336" y="94"/>
                </a:lnTo>
                <a:lnTo>
                  <a:pt x="332" y="96"/>
                </a:lnTo>
                <a:lnTo>
                  <a:pt x="328" y="98"/>
                </a:lnTo>
                <a:lnTo>
                  <a:pt x="322" y="99"/>
                </a:lnTo>
                <a:lnTo>
                  <a:pt x="318" y="103"/>
                </a:lnTo>
                <a:lnTo>
                  <a:pt x="311" y="105"/>
                </a:lnTo>
                <a:lnTo>
                  <a:pt x="305" y="1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Freeform 177"/>
          <p:cNvSpPr/>
          <p:nvPr/>
        </p:nvSpPr>
        <p:spPr>
          <a:xfrm>
            <a:off x="6203880" y="4160880"/>
            <a:ext cx="233280" cy="131760"/>
          </a:xfrm>
          <a:custGeom>
            <a:avLst/>
            <a:gdLst/>
            <a:ahLst/>
            <a:rect l="l" t="t" r="r" b="b"/>
            <a:pathLst>
              <a:path w="293" h="165">
                <a:moveTo>
                  <a:pt x="246" y="111"/>
                </a:moveTo>
                <a:lnTo>
                  <a:pt x="238" y="113"/>
                </a:lnTo>
                <a:lnTo>
                  <a:pt x="228" y="117"/>
                </a:lnTo>
                <a:lnTo>
                  <a:pt x="221" y="119"/>
                </a:lnTo>
                <a:lnTo>
                  <a:pt x="209" y="122"/>
                </a:lnTo>
                <a:lnTo>
                  <a:pt x="199" y="126"/>
                </a:lnTo>
                <a:lnTo>
                  <a:pt x="186" y="130"/>
                </a:lnTo>
                <a:lnTo>
                  <a:pt x="173" y="134"/>
                </a:lnTo>
                <a:lnTo>
                  <a:pt x="159" y="138"/>
                </a:lnTo>
                <a:lnTo>
                  <a:pt x="144" y="142"/>
                </a:lnTo>
                <a:lnTo>
                  <a:pt x="127" y="145"/>
                </a:lnTo>
                <a:lnTo>
                  <a:pt x="109" y="149"/>
                </a:lnTo>
                <a:lnTo>
                  <a:pt x="90" y="151"/>
                </a:lnTo>
                <a:lnTo>
                  <a:pt x="69" y="155"/>
                </a:lnTo>
                <a:lnTo>
                  <a:pt x="48" y="159"/>
                </a:lnTo>
                <a:lnTo>
                  <a:pt x="25" y="161"/>
                </a:lnTo>
                <a:lnTo>
                  <a:pt x="0" y="165"/>
                </a:lnTo>
                <a:lnTo>
                  <a:pt x="0" y="57"/>
                </a:lnTo>
                <a:lnTo>
                  <a:pt x="29" y="50"/>
                </a:lnTo>
                <a:lnTo>
                  <a:pt x="55" y="42"/>
                </a:lnTo>
                <a:lnTo>
                  <a:pt x="82" y="34"/>
                </a:lnTo>
                <a:lnTo>
                  <a:pt x="105" y="28"/>
                </a:lnTo>
                <a:lnTo>
                  <a:pt x="128" y="23"/>
                </a:lnTo>
                <a:lnTo>
                  <a:pt x="148" y="17"/>
                </a:lnTo>
                <a:lnTo>
                  <a:pt x="167" y="13"/>
                </a:lnTo>
                <a:lnTo>
                  <a:pt x="186" y="9"/>
                </a:lnTo>
                <a:lnTo>
                  <a:pt x="201" y="5"/>
                </a:lnTo>
                <a:lnTo>
                  <a:pt x="215" y="4"/>
                </a:lnTo>
                <a:lnTo>
                  <a:pt x="228" y="0"/>
                </a:lnTo>
                <a:lnTo>
                  <a:pt x="240" y="0"/>
                </a:lnTo>
                <a:lnTo>
                  <a:pt x="249" y="0"/>
                </a:lnTo>
                <a:lnTo>
                  <a:pt x="257" y="0"/>
                </a:lnTo>
                <a:lnTo>
                  <a:pt x="265" y="0"/>
                </a:lnTo>
                <a:lnTo>
                  <a:pt x="270" y="4"/>
                </a:lnTo>
                <a:lnTo>
                  <a:pt x="274" y="7"/>
                </a:lnTo>
                <a:lnTo>
                  <a:pt x="278" y="15"/>
                </a:lnTo>
                <a:lnTo>
                  <a:pt x="282" y="23"/>
                </a:lnTo>
                <a:lnTo>
                  <a:pt x="286" y="30"/>
                </a:lnTo>
                <a:lnTo>
                  <a:pt x="290" y="36"/>
                </a:lnTo>
                <a:lnTo>
                  <a:pt x="292" y="44"/>
                </a:lnTo>
                <a:lnTo>
                  <a:pt x="293" y="51"/>
                </a:lnTo>
                <a:lnTo>
                  <a:pt x="293" y="57"/>
                </a:lnTo>
                <a:lnTo>
                  <a:pt x="293" y="61"/>
                </a:lnTo>
                <a:lnTo>
                  <a:pt x="292" y="69"/>
                </a:lnTo>
                <a:lnTo>
                  <a:pt x="288" y="76"/>
                </a:lnTo>
                <a:lnTo>
                  <a:pt x="284" y="84"/>
                </a:lnTo>
                <a:lnTo>
                  <a:pt x="276" y="90"/>
                </a:lnTo>
                <a:lnTo>
                  <a:pt x="272" y="94"/>
                </a:lnTo>
                <a:lnTo>
                  <a:pt x="269" y="98"/>
                </a:lnTo>
                <a:lnTo>
                  <a:pt x="263" y="101"/>
                </a:lnTo>
                <a:lnTo>
                  <a:pt x="257" y="105"/>
                </a:lnTo>
                <a:lnTo>
                  <a:pt x="251" y="107"/>
                </a:lnTo>
                <a:lnTo>
                  <a:pt x="246" y="11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Freeform 178"/>
          <p:cNvSpPr/>
          <p:nvPr/>
        </p:nvSpPr>
        <p:spPr>
          <a:xfrm>
            <a:off x="6534000" y="3468600"/>
            <a:ext cx="227160" cy="311400"/>
          </a:xfrm>
          <a:custGeom>
            <a:avLst/>
            <a:gdLst/>
            <a:ahLst/>
            <a:rect l="l" t="t" r="r" b="b"/>
            <a:pathLst>
              <a:path w="286" h="391">
                <a:moveTo>
                  <a:pt x="0" y="27"/>
                </a:moveTo>
                <a:lnTo>
                  <a:pt x="4" y="21"/>
                </a:lnTo>
                <a:lnTo>
                  <a:pt x="10" y="15"/>
                </a:lnTo>
                <a:lnTo>
                  <a:pt x="16" y="11"/>
                </a:lnTo>
                <a:lnTo>
                  <a:pt x="21" y="7"/>
                </a:lnTo>
                <a:lnTo>
                  <a:pt x="29" y="4"/>
                </a:lnTo>
                <a:lnTo>
                  <a:pt x="39" y="2"/>
                </a:lnTo>
                <a:lnTo>
                  <a:pt x="43" y="0"/>
                </a:lnTo>
                <a:lnTo>
                  <a:pt x="48" y="0"/>
                </a:lnTo>
                <a:lnTo>
                  <a:pt x="54" y="0"/>
                </a:lnTo>
                <a:lnTo>
                  <a:pt x="62" y="0"/>
                </a:lnTo>
                <a:lnTo>
                  <a:pt x="68" y="0"/>
                </a:lnTo>
                <a:lnTo>
                  <a:pt x="75" y="0"/>
                </a:lnTo>
                <a:lnTo>
                  <a:pt x="83" y="2"/>
                </a:lnTo>
                <a:lnTo>
                  <a:pt x="89" y="4"/>
                </a:lnTo>
                <a:lnTo>
                  <a:pt x="96" y="5"/>
                </a:lnTo>
                <a:lnTo>
                  <a:pt x="104" y="9"/>
                </a:lnTo>
                <a:lnTo>
                  <a:pt x="112" y="13"/>
                </a:lnTo>
                <a:lnTo>
                  <a:pt x="119" y="17"/>
                </a:lnTo>
                <a:lnTo>
                  <a:pt x="127" y="23"/>
                </a:lnTo>
                <a:lnTo>
                  <a:pt x="137" y="27"/>
                </a:lnTo>
                <a:lnTo>
                  <a:pt x="154" y="38"/>
                </a:lnTo>
                <a:lnTo>
                  <a:pt x="163" y="46"/>
                </a:lnTo>
                <a:lnTo>
                  <a:pt x="175" y="51"/>
                </a:lnTo>
                <a:lnTo>
                  <a:pt x="185" y="59"/>
                </a:lnTo>
                <a:lnTo>
                  <a:pt x="196" y="67"/>
                </a:lnTo>
                <a:lnTo>
                  <a:pt x="206" y="76"/>
                </a:lnTo>
                <a:lnTo>
                  <a:pt x="213" y="86"/>
                </a:lnTo>
                <a:lnTo>
                  <a:pt x="221" y="98"/>
                </a:lnTo>
                <a:lnTo>
                  <a:pt x="229" y="107"/>
                </a:lnTo>
                <a:lnTo>
                  <a:pt x="235" y="117"/>
                </a:lnTo>
                <a:lnTo>
                  <a:pt x="242" y="128"/>
                </a:lnTo>
                <a:lnTo>
                  <a:pt x="252" y="149"/>
                </a:lnTo>
                <a:lnTo>
                  <a:pt x="261" y="170"/>
                </a:lnTo>
                <a:lnTo>
                  <a:pt x="269" y="193"/>
                </a:lnTo>
                <a:lnTo>
                  <a:pt x="277" y="216"/>
                </a:lnTo>
                <a:lnTo>
                  <a:pt x="282" y="241"/>
                </a:lnTo>
                <a:lnTo>
                  <a:pt x="284" y="253"/>
                </a:lnTo>
                <a:lnTo>
                  <a:pt x="284" y="266"/>
                </a:lnTo>
                <a:lnTo>
                  <a:pt x="286" y="276"/>
                </a:lnTo>
                <a:lnTo>
                  <a:pt x="286" y="287"/>
                </a:lnTo>
                <a:lnTo>
                  <a:pt x="286" y="297"/>
                </a:lnTo>
                <a:lnTo>
                  <a:pt x="286" y="307"/>
                </a:lnTo>
                <a:lnTo>
                  <a:pt x="286" y="314"/>
                </a:lnTo>
                <a:lnTo>
                  <a:pt x="284" y="322"/>
                </a:lnTo>
                <a:lnTo>
                  <a:pt x="282" y="330"/>
                </a:lnTo>
                <a:lnTo>
                  <a:pt x="282" y="335"/>
                </a:lnTo>
                <a:lnTo>
                  <a:pt x="281" y="343"/>
                </a:lnTo>
                <a:lnTo>
                  <a:pt x="279" y="347"/>
                </a:lnTo>
                <a:lnTo>
                  <a:pt x="277" y="353"/>
                </a:lnTo>
                <a:lnTo>
                  <a:pt x="275" y="357"/>
                </a:lnTo>
                <a:lnTo>
                  <a:pt x="271" y="360"/>
                </a:lnTo>
                <a:lnTo>
                  <a:pt x="269" y="362"/>
                </a:lnTo>
                <a:lnTo>
                  <a:pt x="265" y="368"/>
                </a:lnTo>
                <a:lnTo>
                  <a:pt x="259" y="374"/>
                </a:lnTo>
                <a:lnTo>
                  <a:pt x="252" y="378"/>
                </a:lnTo>
                <a:lnTo>
                  <a:pt x="246" y="381"/>
                </a:lnTo>
                <a:lnTo>
                  <a:pt x="238" y="385"/>
                </a:lnTo>
                <a:lnTo>
                  <a:pt x="233" y="387"/>
                </a:lnTo>
                <a:lnTo>
                  <a:pt x="225" y="389"/>
                </a:lnTo>
                <a:lnTo>
                  <a:pt x="221" y="391"/>
                </a:lnTo>
                <a:lnTo>
                  <a:pt x="217" y="389"/>
                </a:lnTo>
                <a:lnTo>
                  <a:pt x="215" y="389"/>
                </a:lnTo>
                <a:lnTo>
                  <a:pt x="211" y="387"/>
                </a:lnTo>
                <a:lnTo>
                  <a:pt x="208" y="385"/>
                </a:lnTo>
                <a:lnTo>
                  <a:pt x="202" y="381"/>
                </a:lnTo>
                <a:lnTo>
                  <a:pt x="198" y="380"/>
                </a:lnTo>
                <a:lnTo>
                  <a:pt x="192" y="374"/>
                </a:lnTo>
                <a:lnTo>
                  <a:pt x="187" y="370"/>
                </a:lnTo>
                <a:lnTo>
                  <a:pt x="181" y="364"/>
                </a:lnTo>
                <a:lnTo>
                  <a:pt x="175" y="358"/>
                </a:lnTo>
                <a:lnTo>
                  <a:pt x="169" y="353"/>
                </a:lnTo>
                <a:lnTo>
                  <a:pt x="162" y="345"/>
                </a:lnTo>
                <a:lnTo>
                  <a:pt x="156" y="337"/>
                </a:lnTo>
                <a:lnTo>
                  <a:pt x="148" y="328"/>
                </a:lnTo>
                <a:lnTo>
                  <a:pt x="142" y="318"/>
                </a:lnTo>
                <a:lnTo>
                  <a:pt x="135" y="309"/>
                </a:lnTo>
                <a:lnTo>
                  <a:pt x="117" y="289"/>
                </a:lnTo>
                <a:lnTo>
                  <a:pt x="100" y="268"/>
                </a:lnTo>
                <a:lnTo>
                  <a:pt x="85" y="247"/>
                </a:lnTo>
                <a:lnTo>
                  <a:pt x="71" y="226"/>
                </a:lnTo>
                <a:lnTo>
                  <a:pt x="60" y="205"/>
                </a:lnTo>
                <a:lnTo>
                  <a:pt x="56" y="193"/>
                </a:lnTo>
                <a:lnTo>
                  <a:pt x="50" y="182"/>
                </a:lnTo>
                <a:lnTo>
                  <a:pt x="46" y="170"/>
                </a:lnTo>
                <a:lnTo>
                  <a:pt x="43" y="159"/>
                </a:lnTo>
                <a:lnTo>
                  <a:pt x="39" y="145"/>
                </a:lnTo>
                <a:lnTo>
                  <a:pt x="37" y="134"/>
                </a:lnTo>
                <a:lnTo>
                  <a:pt x="33" y="121"/>
                </a:lnTo>
                <a:lnTo>
                  <a:pt x="29" y="111"/>
                </a:lnTo>
                <a:lnTo>
                  <a:pt x="25" y="99"/>
                </a:lnTo>
                <a:lnTo>
                  <a:pt x="21" y="90"/>
                </a:lnTo>
                <a:lnTo>
                  <a:pt x="18" y="82"/>
                </a:lnTo>
                <a:lnTo>
                  <a:pt x="16" y="73"/>
                </a:lnTo>
                <a:lnTo>
                  <a:pt x="12" y="67"/>
                </a:lnTo>
                <a:lnTo>
                  <a:pt x="10" y="59"/>
                </a:lnTo>
                <a:lnTo>
                  <a:pt x="8" y="53"/>
                </a:lnTo>
                <a:lnTo>
                  <a:pt x="6" y="48"/>
                </a:lnTo>
                <a:lnTo>
                  <a:pt x="4" y="44"/>
                </a:lnTo>
                <a:lnTo>
                  <a:pt x="2" y="38"/>
                </a:lnTo>
                <a:lnTo>
                  <a:pt x="0" y="32"/>
                </a:lnTo>
                <a:lnTo>
                  <a:pt x="0" y="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Freeform 179"/>
          <p:cNvSpPr/>
          <p:nvPr/>
        </p:nvSpPr>
        <p:spPr>
          <a:xfrm>
            <a:off x="6039000" y="3328920"/>
            <a:ext cx="660240" cy="538200"/>
          </a:xfrm>
          <a:custGeom>
            <a:avLst/>
            <a:gdLst/>
            <a:ahLst/>
            <a:rect l="l" t="t" r="r" b="b"/>
            <a:pathLst>
              <a:path w="831" h="679">
                <a:moveTo>
                  <a:pt x="243" y="608"/>
                </a:moveTo>
                <a:lnTo>
                  <a:pt x="228" y="614"/>
                </a:lnTo>
                <a:lnTo>
                  <a:pt x="213" y="622"/>
                </a:lnTo>
                <a:lnTo>
                  <a:pt x="199" y="629"/>
                </a:lnTo>
                <a:lnTo>
                  <a:pt x="186" y="635"/>
                </a:lnTo>
                <a:lnTo>
                  <a:pt x="174" y="641"/>
                </a:lnTo>
                <a:lnTo>
                  <a:pt x="163" y="647"/>
                </a:lnTo>
                <a:lnTo>
                  <a:pt x="153" y="653"/>
                </a:lnTo>
                <a:lnTo>
                  <a:pt x="143" y="656"/>
                </a:lnTo>
                <a:lnTo>
                  <a:pt x="134" y="660"/>
                </a:lnTo>
                <a:lnTo>
                  <a:pt x="126" y="664"/>
                </a:lnTo>
                <a:lnTo>
                  <a:pt x="119" y="668"/>
                </a:lnTo>
                <a:lnTo>
                  <a:pt x="113" y="670"/>
                </a:lnTo>
                <a:lnTo>
                  <a:pt x="107" y="672"/>
                </a:lnTo>
                <a:lnTo>
                  <a:pt x="103" y="674"/>
                </a:lnTo>
                <a:lnTo>
                  <a:pt x="99" y="674"/>
                </a:lnTo>
                <a:lnTo>
                  <a:pt x="97" y="676"/>
                </a:lnTo>
                <a:lnTo>
                  <a:pt x="94" y="677"/>
                </a:lnTo>
                <a:lnTo>
                  <a:pt x="92" y="679"/>
                </a:lnTo>
                <a:lnTo>
                  <a:pt x="88" y="679"/>
                </a:lnTo>
                <a:lnTo>
                  <a:pt x="86" y="679"/>
                </a:lnTo>
                <a:lnTo>
                  <a:pt x="82" y="679"/>
                </a:lnTo>
                <a:lnTo>
                  <a:pt x="78" y="679"/>
                </a:lnTo>
                <a:lnTo>
                  <a:pt x="74" y="677"/>
                </a:lnTo>
                <a:lnTo>
                  <a:pt x="71" y="676"/>
                </a:lnTo>
                <a:lnTo>
                  <a:pt x="67" y="672"/>
                </a:lnTo>
                <a:lnTo>
                  <a:pt x="63" y="668"/>
                </a:lnTo>
                <a:lnTo>
                  <a:pt x="57" y="664"/>
                </a:lnTo>
                <a:lnTo>
                  <a:pt x="53" y="660"/>
                </a:lnTo>
                <a:lnTo>
                  <a:pt x="49" y="654"/>
                </a:lnTo>
                <a:lnTo>
                  <a:pt x="44" y="649"/>
                </a:lnTo>
                <a:lnTo>
                  <a:pt x="40" y="641"/>
                </a:lnTo>
                <a:lnTo>
                  <a:pt x="36" y="635"/>
                </a:lnTo>
                <a:lnTo>
                  <a:pt x="26" y="620"/>
                </a:lnTo>
                <a:lnTo>
                  <a:pt x="21" y="606"/>
                </a:lnTo>
                <a:lnTo>
                  <a:pt x="13" y="595"/>
                </a:lnTo>
                <a:lnTo>
                  <a:pt x="9" y="583"/>
                </a:lnTo>
                <a:lnTo>
                  <a:pt x="3" y="574"/>
                </a:lnTo>
                <a:lnTo>
                  <a:pt x="1" y="566"/>
                </a:lnTo>
                <a:lnTo>
                  <a:pt x="0" y="558"/>
                </a:lnTo>
                <a:lnTo>
                  <a:pt x="0" y="553"/>
                </a:lnTo>
                <a:lnTo>
                  <a:pt x="0" y="551"/>
                </a:lnTo>
                <a:lnTo>
                  <a:pt x="1" y="547"/>
                </a:lnTo>
                <a:lnTo>
                  <a:pt x="3" y="545"/>
                </a:lnTo>
                <a:lnTo>
                  <a:pt x="5" y="541"/>
                </a:lnTo>
                <a:lnTo>
                  <a:pt x="9" y="535"/>
                </a:lnTo>
                <a:lnTo>
                  <a:pt x="15" y="532"/>
                </a:lnTo>
                <a:lnTo>
                  <a:pt x="21" y="528"/>
                </a:lnTo>
                <a:lnTo>
                  <a:pt x="26" y="522"/>
                </a:lnTo>
                <a:lnTo>
                  <a:pt x="34" y="516"/>
                </a:lnTo>
                <a:lnTo>
                  <a:pt x="42" y="509"/>
                </a:lnTo>
                <a:lnTo>
                  <a:pt x="51" y="503"/>
                </a:lnTo>
                <a:lnTo>
                  <a:pt x="61" y="495"/>
                </a:lnTo>
                <a:lnTo>
                  <a:pt x="72" y="487"/>
                </a:lnTo>
                <a:lnTo>
                  <a:pt x="84" y="478"/>
                </a:lnTo>
                <a:lnTo>
                  <a:pt x="95" y="468"/>
                </a:lnTo>
                <a:lnTo>
                  <a:pt x="109" y="459"/>
                </a:lnTo>
                <a:lnTo>
                  <a:pt x="117" y="455"/>
                </a:lnTo>
                <a:lnTo>
                  <a:pt x="122" y="451"/>
                </a:lnTo>
                <a:lnTo>
                  <a:pt x="130" y="445"/>
                </a:lnTo>
                <a:lnTo>
                  <a:pt x="138" y="438"/>
                </a:lnTo>
                <a:lnTo>
                  <a:pt x="145" y="432"/>
                </a:lnTo>
                <a:lnTo>
                  <a:pt x="153" y="424"/>
                </a:lnTo>
                <a:lnTo>
                  <a:pt x="161" y="415"/>
                </a:lnTo>
                <a:lnTo>
                  <a:pt x="168" y="407"/>
                </a:lnTo>
                <a:lnTo>
                  <a:pt x="178" y="397"/>
                </a:lnTo>
                <a:lnTo>
                  <a:pt x="186" y="386"/>
                </a:lnTo>
                <a:lnTo>
                  <a:pt x="193" y="376"/>
                </a:lnTo>
                <a:lnTo>
                  <a:pt x="203" y="365"/>
                </a:lnTo>
                <a:lnTo>
                  <a:pt x="213" y="351"/>
                </a:lnTo>
                <a:lnTo>
                  <a:pt x="220" y="338"/>
                </a:lnTo>
                <a:lnTo>
                  <a:pt x="230" y="324"/>
                </a:lnTo>
                <a:lnTo>
                  <a:pt x="239" y="311"/>
                </a:lnTo>
                <a:lnTo>
                  <a:pt x="249" y="296"/>
                </a:lnTo>
                <a:lnTo>
                  <a:pt x="259" y="280"/>
                </a:lnTo>
                <a:lnTo>
                  <a:pt x="268" y="265"/>
                </a:lnTo>
                <a:lnTo>
                  <a:pt x="280" y="248"/>
                </a:lnTo>
                <a:lnTo>
                  <a:pt x="289" y="230"/>
                </a:lnTo>
                <a:lnTo>
                  <a:pt x="301" y="213"/>
                </a:lnTo>
                <a:lnTo>
                  <a:pt x="310" y="194"/>
                </a:lnTo>
                <a:lnTo>
                  <a:pt x="322" y="175"/>
                </a:lnTo>
                <a:lnTo>
                  <a:pt x="334" y="156"/>
                </a:lnTo>
                <a:lnTo>
                  <a:pt x="343" y="134"/>
                </a:lnTo>
                <a:lnTo>
                  <a:pt x="355" y="113"/>
                </a:lnTo>
                <a:lnTo>
                  <a:pt x="366" y="92"/>
                </a:lnTo>
                <a:lnTo>
                  <a:pt x="380" y="69"/>
                </a:lnTo>
                <a:lnTo>
                  <a:pt x="391" y="48"/>
                </a:lnTo>
                <a:lnTo>
                  <a:pt x="403" y="23"/>
                </a:lnTo>
                <a:lnTo>
                  <a:pt x="416" y="0"/>
                </a:lnTo>
                <a:lnTo>
                  <a:pt x="426" y="8"/>
                </a:lnTo>
                <a:lnTo>
                  <a:pt x="437" y="15"/>
                </a:lnTo>
                <a:lnTo>
                  <a:pt x="445" y="23"/>
                </a:lnTo>
                <a:lnTo>
                  <a:pt x="454" y="31"/>
                </a:lnTo>
                <a:lnTo>
                  <a:pt x="462" y="39"/>
                </a:lnTo>
                <a:lnTo>
                  <a:pt x="470" y="46"/>
                </a:lnTo>
                <a:lnTo>
                  <a:pt x="476" y="52"/>
                </a:lnTo>
                <a:lnTo>
                  <a:pt x="483" y="60"/>
                </a:lnTo>
                <a:lnTo>
                  <a:pt x="487" y="67"/>
                </a:lnTo>
                <a:lnTo>
                  <a:pt x="493" y="73"/>
                </a:lnTo>
                <a:lnTo>
                  <a:pt x="497" y="79"/>
                </a:lnTo>
                <a:lnTo>
                  <a:pt x="500" y="86"/>
                </a:lnTo>
                <a:lnTo>
                  <a:pt x="508" y="98"/>
                </a:lnTo>
                <a:lnTo>
                  <a:pt x="514" y="108"/>
                </a:lnTo>
                <a:lnTo>
                  <a:pt x="514" y="113"/>
                </a:lnTo>
                <a:lnTo>
                  <a:pt x="516" y="119"/>
                </a:lnTo>
                <a:lnTo>
                  <a:pt x="514" y="127"/>
                </a:lnTo>
                <a:lnTo>
                  <a:pt x="514" y="134"/>
                </a:lnTo>
                <a:lnTo>
                  <a:pt x="510" y="142"/>
                </a:lnTo>
                <a:lnTo>
                  <a:pt x="506" y="150"/>
                </a:lnTo>
                <a:lnTo>
                  <a:pt x="502" y="159"/>
                </a:lnTo>
                <a:lnTo>
                  <a:pt x="497" y="169"/>
                </a:lnTo>
                <a:lnTo>
                  <a:pt x="491" y="179"/>
                </a:lnTo>
                <a:lnTo>
                  <a:pt x="483" y="190"/>
                </a:lnTo>
                <a:lnTo>
                  <a:pt x="476" y="202"/>
                </a:lnTo>
                <a:lnTo>
                  <a:pt x="468" y="215"/>
                </a:lnTo>
                <a:lnTo>
                  <a:pt x="458" y="227"/>
                </a:lnTo>
                <a:lnTo>
                  <a:pt x="449" y="242"/>
                </a:lnTo>
                <a:lnTo>
                  <a:pt x="439" y="255"/>
                </a:lnTo>
                <a:lnTo>
                  <a:pt x="428" y="271"/>
                </a:lnTo>
                <a:lnTo>
                  <a:pt x="414" y="288"/>
                </a:lnTo>
                <a:lnTo>
                  <a:pt x="403" y="303"/>
                </a:lnTo>
                <a:lnTo>
                  <a:pt x="391" y="319"/>
                </a:lnTo>
                <a:lnTo>
                  <a:pt x="381" y="332"/>
                </a:lnTo>
                <a:lnTo>
                  <a:pt x="374" y="344"/>
                </a:lnTo>
                <a:lnTo>
                  <a:pt x="366" y="355"/>
                </a:lnTo>
                <a:lnTo>
                  <a:pt x="358" y="365"/>
                </a:lnTo>
                <a:lnTo>
                  <a:pt x="355" y="374"/>
                </a:lnTo>
                <a:lnTo>
                  <a:pt x="351" y="384"/>
                </a:lnTo>
                <a:lnTo>
                  <a:pt x="347" y="392"/>
                </a:lnTo>
                <a:lnTo>
                  <a:pt x="345" y="397"/>
                </a:lnTo>
                <a:lnTo>
                  <a:pt x="345" y="403"/>
                </a:lnTo>
                <a:lnTo>
                  <a:pt x="345" y="409"/>
                </a:lnTo>
                <a:lnTo>
                  <a:pt x="347" y="413"/>
                </a:lnTo>
                <a:lnTo>
                  <a:pt x="349" y="417"/>
                </a:lnTo>
                <a:lnTo>
                  <a:pt x="355" y="418"/>
                </a:lnTo>
                <a:lnTo>
                  <a:pt x="355" y="420"/>
                </a:lnTo>
                <a:lnTo>
                  <a:pt x="358" y="420"/>
                </a:lnTo>
                <a:lnTo>
                  <a:pt x="360" y="420"/>
                </a:lnTo>
                <a:lnTo>
                  <a:pt x="364" y="420"/>
                </a:lnTo>
                <a:lnTo>
                  <a:pt x="370" y="420"/>
                </a:lnTo>
                <a:lnTo>
                  <a:pt x="374" y="420"/>
                </a:lnTo>
                <a:lnTo>
                  <a:pt x="381" y="420"/>
                </a:lnTo>
                <a:lnTo>
                  <a:pt x="387" y="418"/>
                </a:lnTo>
                <a:lnTo>
                  <a:pt x="395" y="418"/>
                </a:lnTo>
                <a:lnTo>
                  <a:pt x="405" y="417"/>
                </a:lnTo>
                <a:lnTo>
                  <a:pt x="414" y="415"/>
                </a:lnTo>
                <a:lnTo>
                  <a:pt x="424" y="411"/>
                </a:lnTo>
                <a:lnTo>
                  <a:pt x="433" y="409"/>
                </a:lnTo>
                <a:lnTo>
                  <a:pt x="445" y="405"/>
                </a:lnTo>
                <a:lnTo>
                  <a:pt x="458" y="403"/>
                </a:lnTo>
                <a:lnTo>
                  <a:pt x="470" y="399"/>
                </a:lnTo>
                <a:lnTo>
                  <a:pt x="483" y="395"/>
                </a:lnTo>
                <a:lnTo>
                  <a:pt x="499" y="392"/>
                </a:lnTo>
                <a:lnTo>
                  <a:pt x="514" y="386"/>
                </a:lnTo>
                <a:lnTo>
                  <a:pt x="529" y="382"/>
                </a:lnTo>
                <a:lnTo>
                  <a:pt x="545" y="376"/>
                </a:lnTo>
                <a:lnTo>
                  <a:pt x="562" y="370"/>
                </a:lnTo>
                <a:lnTo>
                  <a:pt x="579" y="365"/>
                </a:lnTo>
                <a:lnTo>
                  <a:pt x="598" y="359"/>
                </a:lnTo>
                <a:lnTo>
                  <a:pt x="618" y="351"/>
                </a:lnTo>
                <a:lnTo>
                  <a:pt x="637" y="346"/>
                </a:lnTo>
                <a:lnTo>
                  <a:pt x="658" y="338"/>
                </a:lnTo>
                <a:lnTo>
                  <a:pt x="679" y="330"/>
                </a:lnTo>
                <a:lnTo>
                  <a:pt x="700" y="322"/>
                </a:lnTo>
                <a:lnTo>
                  <a:pt x="723" y="315"/>
                </a:lnTo>
                <a:lnTo>
                  <a:pt x="746" y="305"/>
                </a:lnTo>
                <a:lnTo>
                  <a:pt x="771" y="298"/>
                </a:lnTo>
                <a:lnTo>
                  <a:pt x="800" y="344"/>
                </a:lnTo>
                <a:lnTo>
                  <a:pt x="831" y="392"/>
                </a:lnTo>
                <a:lnTo>
                  <a:pt x="804" y="401"/>
                </a:lnTo>
                <a:lnTo>
                  <a:pt x="775" y="409"/>
                </a:lnTo>
                <a:lnTo>
                  <a:pt x="748" y="418"/>
                </a:lnTo>
                <a:lnTo>
                  <a:pt x="721" y="426"/>
                </a:lnTo>
                <a:lnTo>
                  <a:pt x="696" y="436"/>
                </a:lnTo>
                <a:lnTo>
                  <a:pt x="671" y="443"/>
                </a:lnTo>
                <a:lnTo>
                  <a:pt x="646" y="451"/>
                </a:lnTo>
                <a:lnTo>
                  <a:pt x="623" y="461"/>
                </a:lnTo>
                <a:lnTo>
                  <a:pt x="600" y="468"/>
                </a:lnTo>
                <a:lnTo>
                  <a:pt x="577" y="476"/>
                </a:lnTo>
                <a:lnTo>
                  <a:pt x="554" y="484"/>
                </a:lnTo>
                <a:lnTo>
                  <a:pt x="533" y="491"/>
                </a:lnTo>
                <a:lnTo>
                  <a:pt x="514" y="499"/>
                </a:lnTo>
                <a:lnTo>
                  <a:pt x="493" y="507"/>
                </a:lnTo>
                <a:lnTo>
                  <a:pt x="474" y="512"/>
                </a:lnTo>
                <a:lnTo>
                  <a:pt x="454" y="520"/>
                </a:lnTo>
                <a:lnTo>
                  <a:pt x="437" y="528"/>
                </a:lnTo>
                <a:lnTo>
                  <a:pt x="420" y="534"/>
                </a:lnTo>
                <a:lnTo>
                  <a:pt x="403" y="539"/>
                </a:lnTo>
                <a:lnTo>
                  <a:pt x="387" y="547"/>
                </a:lnTo>
                <a:lnTo>
                  <a:pt x="372" y="553"/>
                </a:lnTo>
                <a:lnTo>
                  <a:pt x="357" y="558"/>
                </a:lnTo>
                <a:lnTo>
                  <a:pt x="343" y="564"/>
                </a:lnTo>
                <a:lnTo>
                  <a:pt x="328" y="570"/>
                </a:lnTo>
                <a:lnTo>
                  <a:pt x="316" y="576"/>
                </a:lnTo>
                <a:lnTo>
                  <a:pt x="303" y="580"/>
                </a:lnTo>
                <a:lnTo>
                  <a:pt x="291" y="585"/>
                </a:lnTo>
                <a:lnTo>
                  <a:pt x="282" y="591"/>
                </a:lnTo>
                <a:lnTo>
                  <a:pt x="270" y="595"/>
                </a:lnTo>
                <a:lnTo>
                  <a:pt x="261" y="599"/>
                </a:lnTo>
                <a:lnTo>
                  <a:pt x="253" y="603"/>
                </a:lnTo>
                <a:lnTo>
                  <a:pt x="243" y="60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Freeform 180"/>
          <p:cNvSpPr/>
          <p:nvPr/>
        </p:nvSpPr>
        <p:spPr>
          <a:xfrm>
            <a:off x="6029280" y="3143160"/>
            <a:ext cx="806400" cy="297000"/>
          </a:xfrm>
          <a:custGeom>
            <a:avLst/>
            <a:gdLst/>
            <a:ahLst/>
            <a:rect l="l" t="t" r="r" b="b"/>
            <a:pathLst>
              <a:path w="1017" h="372">
                <a:moveTo>
                  <a:pt x="1017" y="71"/>
                </a:moveTo>
                <a:lnTo>
                  <a:pt x="1017" y="73"/>
                </a:lnTo>
                <a:lnTo>
                  <a:pt x="1015" y="77"/>
                </a:lnTo>
                <a:lnTo>
                  <a:pt x="1014" y="79"/>
                </a:lnTo>
                <a:lnTo>
                  <a:pt x="1012" y="82"/>
                </a:lnTo>
                <a:lnTo>
                  <a:pt x="1008" y="84"/>
                </a:lnTo>
                <a:lnTo>
                  <a:pt x="1004" y="88"/>
                </a:lnTo>
                <a:lnTo>
                  <a:pt x="998" y="92"/>
                </a:lnTo>
                <a:lnTo>
                  <a:pt x="994" y="96"/>
                </a:lnTo>
                <a:lnTo>
                  <a:pt x="987" y="100"/>
                </a:lnTo>
                <a:lnTo>
                  <a:pt x="981" y="104"/>
                </a:lnTo>
                <a:lnTo>
                  <a:pt x="973" y="107"/>
                </a:lnTo>
                <a:lnTo>
                  <a:pt x="964" y="111"/>
                </a:lnTo>
                <a:lnTo>
                  <a:pt x="956" y="117"/>
                </a:lnTo>
                <a:lnTo>
                  <a:pt x="944" y="121"/>
                </a:lnTo>
                <a:lnTo>
                  <a:pt x="935" y="127"/>
                </a:lnTo>
                <a:lnTo>
                  <a:pt x="923" y="130"/>
                </a:lnTo>
                <a:lnTo>
                  <a:pt x="912" y="136"/>
                </a:lnTo>
                <a:lnTo>
                  <a:pt x="898" y="142"/>
                </a:lnTo>
                <a:lnTo>
                  <a:pt x="885" y="146"/>
                </a:lnTo>
                <a:lnTo>
                  <a:pt x="870" y="152"/>
                </a:lnTo>
                <a:lnTo>
                  <a:pt x="854" y="157"/>
                </a:lnTo>
                <a:lnTo>
                  <a:pt x="839" y="163"/>
                </a:lnTo>
                <a:lnTo>
                  <a:pt x="822" y="171"/>
                </a:lnTo>
                <a:lnTo>
                  <a:pt x="804" y="176"/>
                </a:lnTo>
                <a:lnTo>
                  <a:pt x="787" y="182"/>
                </a:lnTo>
                <a:lnTo>
                  <a:pt x="768" y="190"/>
                </a:lnTo>
                <a:lnTo>
                  <a:pt x="749" y="196"/>
                </a:lnTo>
                <a:lnTo>
                  <a:pt x="728" y="203"/>
                </a:lnTo>
                <a:lnTo>
                  <a:pt x="706" y="209"/>
                </a:lnTo>
                <a:lnTo>
                  <a:pt x="683" y="217"/>
                </a:lnTo>
                <a:lnTo>
                  <a:pt x="660" y="224"/>
                </a:lnTo>
                <a:lnTo>
                  <a:pt x="637" y="232"/>
                </a:lnTo>
                <a:lnTo>
                  <a:pt x="614" y="242"/>
                </a:lnTo>
                <a:lnTo>
                  <a:pt x="591" y="249"/>
                </a:lnTo>
                <a:lnTo>
                  <a:pt x="568" y="257"/>
                </a:lnTo>
                <a:lnTo>
                  <a:pt x="547" y="265"/>
                </a:lnTo>
                <a:lnTo>
                  <a:pt x="524" y="272"/>
                </a:lnTo>
                <a:lnTo>
                  <a:pt x="505" y="280"/>
                </a:lnTo>
                <a:lnTo>
                  <a:pt x="484" y="288"/>
                </a:lnTo>
                <a:lnTo>
                  <a:pt x="465" y="294"/>
                </a:lnTo>
                <a:lnTo>
                  <a:pt x="445" y="301"/>
                </a:lnTo>
                <a:lnTo>
                  <a:pt x="428" y="307"/>
                </a:lnTo>
                <a:lnTo>
                  <a:pt x="411" y="313"/>
                </a:lnTo>
                <a:lnTo>
                  <a:pt x="394" y="317"/>
                </a:lnTo>
                <a:lnTo>
                  <a:pt x="376" y="322"/>
                </a:lnTo>
                <a:lnTo>
                  <a:pt x="361" y="328"/>
                </a:lnTo>
                <a:lnTo>
                  <a:pt x="346" y="332"/>
                </a:lnTo>
                <a:lnTo>
                  <a:pt x="332" y="336"/>
                </a:lnTo>
                <a:lnTo>
                  <a:pt x="317" y="340"/>
                </a:lnTo>
                <a:lnTo>
                  <a:pt x="303" y="343"/>
                </a:lnTo>
                <a:lnTo>
                  <a:pt x="290" y="347"/>
                </a:lnTo>
                <a:lnTo>
                  <a:pt x="278" y="349"/>
                </a:lnTo>
                <a:lnTo>
                  <a:pt x="267" y="353"/>
                </a:lnTo>
                <a:lnTo>
                  <a:pt x="255" y="355"/>
                </a:lnTo>
                <a:lnTo>
                  <a:pt x="244" y="357"/>
                </a:lnTo>
                <a:lnTo>
                  <a:pt x="234" y="361"/>
                </a:lnTo>
                <a:lnTo>
                  <a:pt x="225" y="363"/>
                </a:lnTo>
                <a:lnTo>
                  <a:pt x="215" y="363"/>
                </a:lnTo>
                <a:lnTo>
                  <a:pt x="207" y="365"/>
                </a:lnTo>
                <a:lnTo>
                  <a:pt x="200" y="366"/>
                </a:lnTo>
                <a:lnTo>
                  <a:pt x="192" y="366"/>
                </a:lnTo>
                <a:lnTo>
                  <a:pt x="184" y="366"/>
                </a:lnTo>
                <a:lnTo>
                  <a:pt x="179" y="366"/>
                </a:lnTo>
                <a:lnTo>
                  <a:pt x="173" y="368"/>
                </a:lnTo>
                <a:lnTo>
                  <a:pt x="161" y="370"/>
                </a:lnTo>
                <a:lnTo>
                  <a:pt x="150" y="372"/>
                </a:lnTo>
                <a:lnTo>
                  <a:pt x="140" y="372"/>
                </a:lnTo>
                <a:lnTo>
                  <a:pt x="131" y="372"/>
                </a:lnTo>
                <a:lnTo>
                  <a:pt x="121" y="372"/>
                </a:lnTo>
                <a:lnTo>
                  <a:pt x="113" y="372"/>
                </a:lnTo>
                <a:lnTo>
                  <a:pt x="106" y="370"/>
                </a:lnTo>
                <a:lnTo>
                  <a:pt x="98" y="368"/>
                </a:lnTo>
                <a:lnTo>
                  <a:pt x="83" y="365"/>
                </a:lnTo>
                <a:lnTo>
                  <a:pt x="71" y="357"/>
                </a:lnTo>
                <a:lnTo>
                  <a:pt x="60" y="349"/>
                </a:lnTo>
                <a:lnTo>
                  <a:pt x="50" y="340"/>
                </a:lnTo>
                <a:lnTo>
                  <a:pt x="42" y="336"/>
                </a:lnTo>
                <a:lnTo>
                  <a:pt x="37" y="330"/>
                </a:lnTo>
                <a:lnTo>
                  <a:pt x="31" y="324"/>
                </a:lnTo>
                <a:lnTo>
                  <a:pt x="27" y="320"/>
                </a:lnTo>
                <a:lnTo>
                  <a:pt x="21" y="315"/>
                </a:lnTo>
                <a:lnTo>
                  <a:pt x="17" y="311"/>
                </a:lnTo>
                <a:lnTo>
                  <a:pt x="12" y="301"/>
                </a:lnTo>
                <a:lnTo>
                  <a:pt x="6" y="294"/>
                </a:lnTo>
                <a:lnTo>
                  <a:pt x="4" y="286"/>
                </a:lnTo>
                <a:lnTo>
                  <a:pt x="2" y="278"/>
                </a:lnTo>
                <a:lnTo>
                  <a:pt x="0" y="272"/>
                </a:lnTo>
                <a:lnTo>
                  <a:pt x="2" y="271"/>
                </a:lnTo>
                <a:lnTo>
                  <a:pt x="4" y="269"/>
                </a:lnTo>
                <a:lnTo>
                  <a:pt x="8" y="265"/>
                </a:lnTo>
                <a:lnTo>
                  <a:pt x="12" y="263"/>
                </a:lnTo>
                <a:lnTo>
                  <a:pt x="17" y="261"/>
                </a:lnTo>
                <a:lnTo>
                  <a:pt x="25" y="257"/>
                </a:lnTo>
                <a:lnTo>
                  <a:pt x="35" y="255"/>
                </a:lnTo>
                <a:lnTo>
                  <a:pt x="44" y="251"/>
                </a:lnTo>
                <a:lnTo>
                  <a:pt x="56" y="247"/>
                </a:lnTo>
                <a:lnTo>
                  <a:pt x="69" y="244"/>
                </a:lnTo>
                <a:lnTo>
                  <a:pt x="83" y="242"/>
                </a:lnTo>
                <a:lnTo>
                  <a:pt x="98" y="238"/>
                </a:lnTo>
                <a:lnTo>
                  <a:pt x="115" y="232"/>
                </a:lnTo>
                <a:lnTo>
                  <a:pt x="133" y="228"/>
                </a:lnTo>
                <a:lnTo>
                  <a:pt x="152" y="224"/>
                </a:lnTo>
                <a:lnTo>
                  <a:pt x="173" y="219"/>
                </a:lnTo>
                <a:lnTo>
                  <a:pt x="194" y="215"/>
                </a:lnTo>
                <a:lnTo>
                  <a:pt x="215" y="211"/>
                </a:lnTo>
                <a:lnTo>
                  <a:pt x="238" y="207"/>
                </a:lnTo>
                <a:lnTo>
                  <a:pt x="261" y="201"/>
                </a:lnTo>
                <a:lnTo>
                  <a:pt x="286" y="196"/>
                </a:lnTo>
                <a:lnTo>
                  <a:pt x="313" y="188"/>
                </a:lnTo>
                <a:lnTo>
                  <a:pt x="340" y="180"/>
                </a:lnTo>
                <a:lnTo>
                  <a:pt x="367" y="173"/>
                </a:lnTo>
                <a:lnTo>
                  <a:pt x="395" y="163"/>
                </a:lnTo>
                <a:lnTo>
                  <a:pt x="424" y="153"/>
                </a:lnTo>
                <a:lnTo>
                  <a:pt x="455" y="142"/>
                </a:lnTo>
                <a:lnTo>
                  <a:pt x="488" y="132"/>
                </a:lnTo>
                <a:lnTo>
                  <a:pt x="520" y="121"/>
                </a:lnTo>
                <a:lnTo>
                  <a:pt x="555" y="109"/>
                </a:lnTo>
                <a:lnTo>
                  <a:pt x="589" y="96"/>
                </a:lnTo>
                <a:lnTo>
                  <a:pt x="626" y="84"/>
                </a:lnTo>
                <a:lnTo>
                  <a:pt x="643" y="77"/>
                </a:lnTo>
                <a:lnTo>
                  <a:pt x="660" y="71"/>
                </a:lnTo>
                <a:lnTo>
                  <a:pt x="678" y="65"/>
                </a:lnTo>
                <a:lnTo>
                  <a:pt x="695" y="59"/>
                </a:lnTo>
                <a:lnTo>
                  <a:pt x="710" y="56"/>
                </a:lnTo>
                <a:lnTo>
                  <a:pt x="726" y="50"/>
                </a:lnTo>
                <a:lnTo>
                  <a:pt x="741" y="44"/>
                </a:lnTo>
                <a:lnTo>
                  <a:pt x="756" y="40"/>
                </a:lnTo>
                <a:lnTo>
                  <a:pt x="770" y="36"/>
                </a:lnTo>
                <a:lnTo>
                  <a:pt x="783" y="33"/>
                </a:lnTo>
                <a:lnTo>
                  <a:pt x="810" y="25"/>
                </a:lnTo>
                <a:lnTo>
                  <a:pt x="833" y="17"/>
                </a:lnTo>
                <a:lnTo>
                  <a:pt x="856" y="13"/>
                </a:lnTo>
                <a:lnTo>
                  <a:pt x="875" y="8"/>
                </a:lnTo>
                <a:lnTo>
                  <a:pt x="895" y="4"/>
                </a:lnTo>
                <a:lnTo>
                  <a:pt x="912" y="2"/>
                </a:lnTo>
                <a:lnTo>
                  <a:pt x="925" y="0"/>
                </a:lnTo>
                <a:lnTo>
                  <a:pt x="939" y="0"/>
                </a:lnTo>
                <a:lnTo>
                  <a:pt x="950" y="0"/>
                </a:lnTo>
                <a:lnTo>
                  <a:pt x="960" y="0"/>
                </a:lnTo>
                <a:lnTo>
                  <a:pt x="967" y="4"/>
                </a:lnTo>
                <a:lnTo>
                  <a:pt x="973" y="6"/>
                </a:lnTo>
                <a:lnTo>
                  <a:pt x="981" y="10"/>
                </a:lnTo>
                <a:lnTo>
                  <a:pt x="987" y="11"/>
                </a:lnTo>
                <a:lnTo>
                  <a:pt x="991" y="15"/>
                </a:lnTo>
                <a:lnTo>
                  <a:pt x="996" y="19"/>
                </a:lnTo>
                <a:lnTo>
                  <a:pt x="1000" y="23"/>
                </a:lnTo>
                <a:lnTo>
                  <a:pt x="1006" y="33"/>
                </a:lnTo>
                <a:lnTo>
                  <a:pt x="1012" y="40"/>
                </a:lnTo>
                <a:lnTo>
                  <a:pt x="1014" y="50"/>
                </a:lnTo>
                <a:lnTo>
                  <a:pt x="1015" y="61"/>
                </a:lnTo>
                <a:lnTo>
                  <a:pt x="1017" y="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81"/>
          <p:cNvSpPr/>
          <p:nvPr/>
        </p:nvSpPr>
        <p:spPr>
          <a:xfrm>
            <a:off x="6350040" y="2814480"/>
            <a:ext cx="243000" cy="301680"/>
          </a:xfrm>
          <a:custGeom>
            <a:avLst/>
            <a:gdLst/>
            <a:ahLst/>
            <a:rect l="l" t="t" r="r" b="b"/>
            <a:pathLst>
              <a:path w="305" h="379">
                <a:moveTo>
                  <a:pt x="0" y="26"/>
                </a:moveTo>
                <a:lnTo>
                  <a:pt x="4" y="21"/>
                </a:lnTo>
                <a:lnTo>
                  <a:pt x="12" y="17"/>
                </a:lnTo>
                <a:lnTo>
                  <a:pt x="19" y="11"/>
                </a:lnTo>
                <a:lnTo>
                  <a:pt x="29" y="7"/>
                </a:lnTo>
                <a:lnTo>
                  <a:pt x="40" y="3"/>
                </a:lnTo>
                <a:lnTo>
                  <a:pt x="46" y="3"/>
                </a:lnTo>
                <a:lnTo>
                  <a:pt x="54" y="1"/>
                </a:lnTo>
                <a:lnTo>
                  <a:pt x="60" y="0"/>
                </a:lnTo>
                <a:lnTo>
                  <a:pt x="67" y="0"/>
                </a:lnTo>
                <a:lnTo>
                  <a:pt x="77" y="0"/>
                </a:lnTo>
                <a:lnTo>
                  <a:pt x="86" y="0"/>
                </a:lnTo>
                <a:lnTo>
                  <a:pt x="104" y="5"/>
                </a:lnTo>
                <a:lnTo>
                  <a:pt x="123" y="11"/>
                </a:lnTo>
                <a:lnTo>
                  <a:pt x="140" y="21"/>
                </a:lnTo>
                <a:lnTo>
                  <a:pt x="159" y="28"/>
                </a:lnTo>
                <a:lnTo>
                  <a:pt x="177" y="40"/>
                </a:lnTo>
                <a:lnTo>
                  <a:pt x="196" y="51"/>
                </a:lnTo>
                <a:lnTo>
                  <a:pt x="213" y="65"/>
                </a:lnTo>
                <a:lnTo>
                  <a:pt x="232" y="80"/>
                </a:lnTo>
                <a:lnTo>
                  <a:pt x="242" y="88"/>
                </a:lnTo>
                <a:lnTo>
                  <a:pt x="250" y="95"/>
                </a:lnTo>
                <a:lnTo>
                  <a:pt x="257" y="105"/>
                </a:lnTo>
                <a:lnTo>
                  <a:pt x="265" y="115"/>
                </a:lnTo>
                <a:lnTo>
                  <a:pt x="271" y="124"/>
                </a:lnTo>
                <a:lnTo>
                  <a:pt x="276" y="136"/>
                </a:lnTo>
                <a:lnTo>
                  <a:pt x="282" y="147"/>
                </a:lnTo>
                <a:lnTo>
                  <a:pt x="288" y="157"/>
                </a:lnTo>
                <a:lnTo>
                  <a:pt x="292" y="168"/>
                </a:lnTo>
                <a:lnTo>
                  <a:pt x="296" y="180"/>
                </a:lnTo>
                <a:lnTo>
                  <a:pt x="298" y="193"/>
                </a:lnTo>
                <a:lnTo>
                  <a:pt x="301" y="205"/>
                </a:lnTo>
                <a:lnTo>
                  <a:pt x="303" y="218"/>
                </a:lnTo>
                <a:lnTo>
                  <a:pt x="305" y="230"/>
                </a:lnTo>
                <a:lnTo>
                  <a:pt x="305" y="243"/>
                </a:lnTo>
                <a:lnTo>
                  <a:pt x="305" y="255"/>
                </a:lnTo>
                <a:lnTo>
                  <a:pt x="305" y="268"/>
                </a:lnTo>
                <a:lnTo>
                  <a:pt x="305" y="280"/>
                </a:lnTo>
                <a:lnTo>
                  <a:pt x="305" y="291"/>
                </a:lnTo>
                <a:lnTo>
                  <a:pt x="303" y="301"/>
                </a:lnTo>
                <a:lnTo>
                  <a:pt x="303" y="310"/>
                </a:lnTo>
                <a:lnTo>
                  <a:pt x="301" y="320"/>
                </a:lnTo>
                <a:lnTo>
                  <a:pt x="300" y="328"/>
                </a:lnTo>
                <a:lnTo>
                  <a:pt x="298" y="335"/>
                </a:lnTo>
                <a:lnTo>
                  <a:pt x="296" y="343"/>
                </a:lnTo>
                <a:lnTo>
                  <a:pt x="294" y="351"/>
                </a:lnTo>
                <a:lnTo>
                  <a:pt x="292" y="356"/>
                </a:lnTo>
                <a:lnTo>
                  <a:pt x="290" y="362"/>
                </a:lnTo>
                <a:lnTo>
                  <a:pt x="288" y="366"/>
                </a:lnTo>
                <a:lnTo>
                  <a:pt x="286" y="370"/>
                </a:lnTo>
                <a:lnTo>
                  <a:pt x="284" y="374"/>
                </a:lnTo>
                <a:lnTo>
                  <a:pt x="282" y="378"/>
                </a:lnTo>
                <a:lnTo>
                  <a:pt x="276" y="379"/>
                </a:lnTo>
                <a:lnTo>
                  <a:pt x="271" y="379"/>
                </a:lnTo>
                <a:lnTo>
                  <a:pt x="267" y="379"/>
                </a:lnTo>
                <a:lnTo>
                  <a:pt x="261" y="379"/>
                </a:lnTo>
                <a:lnTo>
                  <a:pt x="253" y="378"/>
                </a:lnTo>
                <a:lnTo>
                  <a:pt x="248" y="376"/>
                </a:lnTo>
                <a:lnTo>
                  <a:pt x="240" y="372"/>
                </a:lnTo>
                <a:lnTo>
                  <a:pt x="234" y="366"/>
                </a:lnTo>
                <a:lnTo>
                  <a:pt x="227" y="362"/>
                </a:lnTo>
                <a:lnTo>
                  <a:pt x="217" y="354"/>
                </a:lnTo>
                <a:lnTo>
                  <a:pt x="209" y="347"/>
                </a:lnTo>
                <a:lnTo>
                  <a:pt x="200" y="339"/>
                </a:lnTo>
                <a:lnTo>
                  <a:pt x="190" y="330"/>
                </a:lnTo>
                <a:lnTo>
                  <a:pt x="181" y="320"/>
                </a:lnTo>
                <a:lnTo>
                  <a:pt x="171" y="308"/>
                </a:lnTo>
                <a:lnTo>
                  <a:pt x="159" y="295"/>
                </a:lnTo>
                <a:lnTo>
                  <a:pt x="136" y="276"/>
                </a:lnTo>
                <a:lnTo>
                  <a:pt x="115" y="255"/>
                </a:lnTo>
                <a:lnTo>
                  <a:pt x="106" y="245"/>
                </a:lnTo>
                <a:lnTo>
                  <a:pt x="96" y="234"/>
                </a:lnTo>
                <a:lnTo>
                  <a:pt x="88" y="224"/>
                </a:lnTo>
                <a:lnTo>
                  <a:pt x="79" y="213"/>
                </a:lnTo>
                <a:lnTo>
                  <a:pt x="71" y="203"/>
                </a:lnTo>
                <a:lnTo>
                  <a:pt x="63" y="191"/>
                </a:lnTo>
                <a:lnTo>
                  <a:pt x="58" y="180"/>
                </a:lnTo>
                <a:lnTo>
                  <a:pt x="52" y="168"/>
                </a:lnTo>
                <a:lnTo>
                  <a:pt x="46" y="157"/>
                </a:lnTo>
                <a:lnTo>
                  <a:pt x="42" y="145"/>
                </a:lnTo>
                <a:lnTo>
                  <a:pt x="38" y="134"/>
                </a:lnTo>
                <a:lnTo>
                  <a:pt x="37" y="120"/>
                </a:lnTo>
                <a:lnTo>
                  <a:pt x="31" y="111"/>
                </a:lnTo>
                <a:lnTo>
                  <a:pt x="27" y="101"/>
                </a:lnTo>
                <a:lnTo>
                  <a:pt x="23" y="94"/>
                </a:lnTo>
                <a:lnTo>
                  <a:pt x="21" y="84"/>
                </a:lnTo>
                <a:lnTo>
                  <a:pt x="17" y="76"/>
                </a:lnTo>
                <a:lnTo>
                  <a:pt x="14" y="71"/>
                </a:lnTo>
                <a:lnTo>
                  <a:pt x="12" y="65"/>
                </a:lnTo>
                <a:lnTo>
                  <a:pt x="10" y="57"/>
                </a:lnTo>
                <a:lnTo>
                  <a:pt x="4" y="48"/>
                </a:lnTo>
                <a:lnTo>
                  <a:pt x="2" y="38"/>
                </a:lnTo>
                <a:lnTo>
                  <a:pt x="0" y="32"/>
                </a:lnTo>
                <a:lnTo>
                  <a:pt x="0" y="2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82"/>
          <p:cNvSpPr/>
          <p:nvPr/>
        </p:nvSpPr>
        <p:spPr>
          <a:xfrm>
            <a:off x="5540400" y="3884760"/>
            <a:ext cx="414360" cy="985680"/>
          </a:xfrm>
          <a:custGeom>
            <a:avLst/>
            <a:gdLst/>
            <a:ahLst/>
            <a:rect l="l" t="t" r="r" b="b"/>
            <a:pathLst>
              <a:path w="520" h="1244">
                <a:moveTo>
                  <a:pt x="432" y="448"/>
                </a:moveTo>
                <a:lnTo>
                  <a:pt x="418" y="497"/>
                </a:lnTo>
                <a:lnTo>
                  <a:pt x="405" y="545"/>
                </a:lnTo>
                <a:lnTo>
                  <a:pt x="391" y="591"/>
                </a:lnTo>
                <a:lnTo>
                  <a:pt x="378" y="637"/>
                </a:lnTo>
                <a:lnTo>
                  <a:pt x="366" y="680"/>
                </a:lnTo>
                <a:lnTo>
                  <a:pt x="355" y="722"/>
                </a:lnTo>
                <a:lnTo>
                  <a:pt x="343" y="760"/>
                </a:lnTo>
                <a:lnTo>
                  <a:pt x="332" y="799"/>
                </a:lnTo>
                <a:lnTo>
                  <a:pt x="320" y="835"/>
                </a:lnTo>
                <a:lnTo>
                  <a:pt x="311" y="870"/>
                </a:lnTo>
                <a:lnTo>
                  <a:pt x="301" y="904"/>
                </a:lnTo>
                <a:lnTo>
                  <a:pt x="292" y="935"/>
                </a:lnTo>
                <a:lnTo>
                  <a:pt x="282" y="964"/>
                </a:lnTo>
                <a:lnTo>
                  <a:pt x="274" y="991"/>
                </a:lnTo>
                <a:lnTo>
                  <a:pt x="267" y="1017"/>
                </a:lnTo>
                <a:lnTo>
                  <a:pt x="259" y="1040"/>
                </a:lnTo>
                <a:lnTo>
                  <a:pt x="253" y="1065"/>
                </a:lnTo>
                <a:lnTo>
                  <a:pt x="246" y="1088"/>
                </a:lnTo>
                <a:lnTo>
                  <a:pt x="240" y="1109"/>
                </a:lnTo>
                <a:lnTo>
                  <a:pt x="232" y="1129"/>
                </a:lnTo>
                <a:lnTo>
                  <a:pt x="226" y="1148"/>
                </a:lnTo>
                <a:lnTo>
                  <a:pt x="219" y="1163"/>
                </a:lnTo>
                <a:lnTo>
                  <a:pt x="213" y="1179"/>
                </a:lnTo>
                <a:lnTo>
                  <a:pt x="207" y="1192"/>
                </a:lnTo>
                <a:lnTo>
                  <a:pt x="199" y="1204"/>
                </a:lnTo>
                <a:lnTo>
                  <a:pt x="194" y="1215"/>
                </a:lnTo>
                <a:lnTo>
                  <a:pt x="188" y="1223"/>
                </a:lnTo>
                <a:lnTo>
                  <a:pt x="182" y="1230"/>
                </a:lnTo>
                <a:lnTo>
                  <a:pt x="176" y="1236"/>
                </a:lnTo>
                <a:lnTo>
                  <a:pt x="171" y="1240"/>
                </a:lnTo>
                <a:lnTo>
                  <a:pt x="167" y="1242"/>
                </a:lnTo>
                <a:lnTo>
                  <a:pt x="161" y="1244"/>
                </a:lnTo>
                <a:lnTo>
                  <a:pt x="157" y="1242"/>
                </a:lnTo>
                <a:lnTo>
                  <a:pt x="152" y="1240"/>
                </a:lnTo>
                <a:lnTo>
                  <a:pt x="146" y="1238"/>
                </a:lnTo>
                <a:lnTo>
                  <a:pt x="142" y="1232"/>
                </a:lnTo>
                <a:lnTo>
                  <a:pt x="136" y="1227"/>
                </a:lnTo>
                <a:lnTo>
                  <a:pt x="128" y="1221"/>
                </a:lnTo>
                <a:lnTo>
                  <a:pt x="123" y="1211"/>
                </a:lnTo>
                <a:lnTo>
                  <a:pt x="117" y="1202"/>
                </a:lnTo>
                <a:lnTo>
                  <a:pt x="111" y="1192"/>
                </a:lnTo>
                <a:lnTo>
                  <a:pt x="104" y="1180"/>
                </a:lnTo>
                <a:lnTo>
                  <a:pt x="98" y="1167"/>
                </a:lnTo>
                <a:lnTo>
                  <a:pt x="90" y="1152"/>
                </a:lnTo>
                <a:lnTo>
                  <a:pt x="84" y="1136"/>
                </a:lnTo>
                <a:lnTo>
                  <a:pt x="77" y="1119"/>
                </a:lnTo>
                <a:lnTo>
                  <a:pt x="71" y="1100"/>
                </a:lnTo>
                <a:lnTo>
                  <a:pt x="63" y="1081"/>
                </a:lnTo>
                <a:lnTo>
                  <a:pt x="56" y="1063"/>
                </a:lnTo>
                <a:lnTo>
                  <a:pt x="46" y="1046"/>
                </a:lnTo>
                <a:lnTo>
                  <a:pt x="38" y="1031"/>
                </a:lnTo>
                <a:lnTo>
                  <a:pt x="33" y="1015"/>
                </a:lnTo>
                <a:lnTo>
                  <a:pt x="27" y="1000"/>
                </a:lnTo>
                <a:lnTo>
                  <a:pt x="21" y="987"/>
                </a:lnTo>
                <a:lnTo>
                  <a:pt x="15" y="973"/>
                </a:lnTo>
                <a:lnTo>
                  <a:pt x="11" y="960"/>
                </a:lnTo>
                <a:lnTo>
                  <a:pt x="8" y="946"/>
                </a:lnTo>
                <a:lnTo>
                  <a:pt x="4" y="935"/>
                </a:lnTo>
                <a:lnTo>
                  <a:pt x="2" y="923"/>
                </a:lnTo>
                <a:lnTo>
                  <a:pt x="0" y="914"/>
                </a:lnTo>
                <a:lnTo>
                  <a:pt x="0" y="904"/>
                </a:lnTo>
                <a:lnTo>
                  <a:pt x="0" y="895"/>
                </a:lnTo>
                <a:lnTo>
                  <a:pt x="0" y="887"/>
                </a:lnTo>
                <a:lnTo>
                  <a:pt x="2" y="879"/>
                </a:lnTo>
                <a:lnTo>
                  <a:pt x="2" y="873"/>
                </a:lnTo>
                <a:lnTo>
                  <a:pt x="4" y="870"/>
                </a:lnTo>
                <a:lnTo>
                  <a:pt x="6" y="864"/>
                </a:lnTo>
                <a:lnTo>
                  <a:pt x="8" y="860"/>
                </a:lnTo>
                <a:lnTo>
                  <a:pt x="9" y="856"/>
                </a:lnTo>
                <a:lnTo>
                  <a:pt x="11" y="852"/>
                </a:lnTo>
                <a:lnTo>
                  <a:pt x="19" y="847"/>
                </a:lnTo>
                <a:lnTo>
                  <a:pt x="29" y="841"/>
                </a:lnTo>
                <a:lnTo>
                  <a:pt x="38" y="835"/>
                </a:lnTo>
                <a:lnTo>
                  <a:pt x="50" y="829"/>
                </a:lnTo>
                <a:lnTo>
                  <a:pt x="63" y="826"/>
                </a:lnTo>
                <a:lnTo>
                  <a:pt x="77" y="820"/>
                </a:lnTo>
                <a:lnTo>
                  <a:pt x="88" y="814"/>
                </a:lnTo>
                <a:lnTo>
                  <a:pt x="100" y="808"/>
                </a:lnTo>
                <a:lnTo>
                  <a:pt x="109" y="802"/>
                </a:lnTo>
                <a:lnTo>
                  <a:pt x="119" y="797"/>
                </a:lnTo>
                <a:lnTo>
                  <a:pt x="127" y="789"/>
                </a:lnTo>
                <a:lnTo>
                  <a:pt x="132" y="779"/>
                </a:lnTo>
                <a:lnTo>
                  <a:pt x="138" y="772"/>
                </a:lnTo>
                <a:lnTo>
                  <a:pt x="138" y="770"/>
                </a:lnTo>
                <a:lnTo>
                  <a:pt x="140" y="766"/>
                </a:lnTo>
                <a:lnTo>
                  <a:pt x="142" y="764"/>
                </a:lnTo>
                <a:lnTo>
                  <a:pt x="144" y="760"/>
                </a:lnTo>
                <a:lnTo>
                  <a:pt x="146" y="756"/>
                </a:lnTo>
                <a:lnTo>
                  <a:pt x="150" y="751"/>
                </a:lnTo>
                <a:lnTo>
                  <a:pt x="152" y="745"/>
                </a:lnTo>
                <a:lnTo>
                  <a:pt x="155" y="737"/>
                </a:lnTo>
                <a:lnTo>
                  <a:pt x="159" y="731"/>
                </a:lnTo>
                <a:lnTo>
                  <a:pt x="163" y="722"/>
                </a:lnTo>
                <a:lnTo>
                  <a:pt x="167" y="714"/>
                </a:lnTo>
                <a:lnTo>
                  <a:pt x="173" y="705"/>
                </a:lnTo>
                <a:lnTo>
                  <a:pt x="176" y="695"/>
                </a:lnTo>
                <a:lnTo>
                  <a:pt x="182" y="684"/>
                </a:lnTo>
                <a:lnTo>
                  <a:pt x="188" y="672"/>
                </a:lnTo>
                <a:lnTo>
                  <a:pt x="194" y="661"/>
                </a:lnTo>
                <a:lnTo>
                  <a:pt x="199" y="647"/>
                </a:lnTo>
                <a:lnTo>
                  <a:pt x="205" y="634"/>
                </a:lnTo>
                <a:lnTo>
                  <a:pt x="211" y="618"/>
                </a:lnTo>
                <a:lnTo>
                  <a:pt x="219" y="603"/>
                </a:lnTo>
                <a:lnTo>
                  <a:pt x="224" y="588"/>
                </a:lnTo>
                <a:lnTo>
                  <a:pt x="232" y="570"/>
                </a:lnTo>
                <a:lnTo>
                  <a:pt x="240" y="553"/>
                </a:lnTo>
                <a:lnTo>
                  <a:pt x="247" y="536"/>
                </a:lnTo>
                <a:lnTo>
                  <a:pt x="257" y="517"/>
                </a:lnTo>
                <a:lnTo>
                  <a:pt x="265" y="497"/>
                </a:lnTo>
                <a:lnTo>
                  <a:pt x="274" y="478"/>
                </a:lnTo>
                <a:lnTo>
                  <a:pt x="282" y="457"/>
                </a:lnTo>
                <a:lnTo>
                  <a:pt x="292" y="436"/>
                </a:lnTo>
                <a:lnTo>
                  <a:pt x="301" y="413"/>
                </a:lnTo>
                <a:lnTo>
                  <a:pt x="311" y="390"/>
                </a:lnTo>
                <a:lnTo>
                  <a:pt x="320" y="367"/>
                </a:lnTo>
                <a:lnTo>
                  <a:pt x="330" y="342"/>
                </a:lnTo>
                <a:lnTo>
                  <a:pt x="342" y="319"/>
                </a:lnTo>
                <a:lnTo>
                  <a:pt x="349" y="298"/>
                </a:lnTo>
                <a:lnTo>
                  <a:pt x="359" y="277"/>
                </a:lnTo>
                <a:lnTo>
                  <a:pt x="368" y="256"/>
                </a:lnTo>
                <a:lnTo>
                  <a:pt x="376" y="236"/>
                </a:lnTo>
                <a:lnTo>
                  <a:pt x="386" y="217"/>
                </a:lnTo>
                <a:lnTo>
                  <a:pt x="393" y="198"/>
                </a:lnTo>
                <a:lnTo>
                  <a:pt x="401" y="181"/>
                </a:lnTo>
                <a:lnTo>
                  <a:pt x="409" y="165"/>
                </a:lnTo>
                <a:lnTo>
                  <a:pt x="416" y="148"/>
                </a:lnTo>
                <a:lnTo>
                  <a:pt x="424" y="135"/>
                </a:lnTo>
                <a:lnTo>
                  <a:pt x="432" y="119"/>
                </a:lnTo>
                <a:lnTo>
                  <a:pt x="437" y="106"/>
                </a:lnTo>
                <a:lnTo>
                  <a:pt x="443" y="94"/>
                </a:lnTo>
                <a:lnTo>
                  <a:pt x="451" y="83"/>
                </a:lnTo>
                <a:lnTo>
                  <a:pt x="457" y="71"/>
                </a:lnTo>
                <a:lnTo>
                  <a:pt x="462" y="62"/>
                </a:lnTo>
                <a:lnTo>
                  <a:pt x="468" y="52"/>
                </a:lnTo>
                <a:lnTo>
                  <a:pt x="472" y="43"/>
                </a:lnTo>
                <a:lnTo>
                  <a:pt x="478" y="35"/>
                </a:lnTo>
                <a:lnTo>
                  <a:pt x="482" y="29"/>
                </a:lnTo>
                <a:lnTo>
                  <a:pt x="487" y="22"/>
                </a:lnTo>
                <a:lnTo>
                  <a:pt x="491" y="18"/>
                </a:lnTo>
                <a:lnTo>
                  <a:pt x="495" y="12"/>
                </a:lnTo>
                <a:lnTo>
                  <a:pt x="499" y="8"/>
                </a:lnTo>
                <a:lnTo>
                  <a:pt x="503" y="6"/>
                </a:lnTo>
                <a:lnTo>
                  <a:pt x="507" y="2"/>
                </a:lnTo>
                <a:lnTo>
                  <a:pt x="509" y="2"/>
                </a:lnTo>
                <a:lnTo>
                  <a:pt x="512" y="0"/>
                </a:lnTo>
                <a:lnTo>
                  <a:pt x="514" y="0"/>
                </a:lnTo>
                <a:lnTo>
                  <a:pt x="516" y="2"/>
                </a:lnTo>
                <a:lnTo>
                  <a:pt x="518" y="4"/>
                </a:lnTo>
                <a:lnTo>
                  <a:pt x="518" y="6"/>
                </a:lnTo>
                <a:lnTo>
                  <a:pt x="520" y="10"/>
                </a:lnTo>
                <a:lnTo>
                  <a:pt x="520" y="14"/>
                </a:lnTo>
                <a:lnTo>
                  <a:pt x="520" y="18"/>
                </a:lnTo>
                <a:lnTo>
                  <a:pt x="520" y="23"/>
                </a:lnTo>
                <a:lnTo>
                  <a:pt x="520" y="29"/>
                </a:lnTo>
                <a:lnTo>
                  <a:pt x="518" y="37"/>
                </a:lnTo>
                <a:lnTo>
                  <a:pt x="518" y="45"/>
                </a:lnTo>
                <a:lnTo>
                  <a:pt x="516" y="54"/>
                </a:lnTo>
                <a:lnTo>
                  <a:pt x="516" y="64"/>
                </a:lnTo>
                <a:lnTo>
                  <a:pt x="514" y="73"/>
                </a:lnTo>
                <a:lnTo>
                  <a:pt x="512" y="85"/>
                </a:lnTo>
                <a:lnTo>
                  <a:pt x="510" y="96"/>
                </a:lnTo>
                <a:lnTo>
                  <a:pt x="509" y="110"/>
                </a:lnTo>
                <a:lnTo>
                  <a:pt x="505" y="123"/>
                </a:lnTo>
                <a:lnTo>
                  <a:pt x="503" y="137"/>
                </a:lnTo>
                <a:lnTo>
                  <a:pt x="499" y="152"/>
                </a:lnTo>
                <a:lnTo>
                  <a:pt x="497" y="167"/>
                </a:lnTo>
                <a:lnTo>
                  <a:pt x="493" y="185"/>
                </a:lnTo>
                <a:lnTo>
                  <a:pt x="489" y="202"/>
                </a:lnTo>
                <a:lnTo>
                  <a:pt x="485" y="221"/>
                </a:lnTo>
                <a:lnTo>
                  <a:pt x="482" y="240"/>
                </a:lnTo>
                <a:lnTo>
                  <a:pt x="476" y="259"/>
                </a:lnTo>
                <a:lnTo>
                  <a:pt x="472" y="281"/>
                </a:lnTo>
                <a:lnTo>
                  <a:pt x="466" y="302"/>
                </a:lnTo>
                <a:lnTo>
                  <a:pt x="461" y="325"/>
                </a:lnTo>
                <a:lnTo>
                  <a:pt x="457" y="348"/>
                </a:lnTo>
                <a:lnTo>
                  <a:pt x="449" y="371"/>
                </a:lnTo>
                <a:lnTo>
                  <a:pt x="443" y="396"/>
                </a:lnTo>
                <a:lnTo>
                  <a:pt x="437" y="421"/>
                </a:lnTo>
                <a:lnTo>
                  <a:pt x="432" y="448"/>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83"/>
          <p:cNvSpPr/>
          <p:nvPr/>
        </p:nvSpPr>
        <p:spPr>
          <a:xfrm>
            <a:off x="5529240" y="3559320"/>
            <a:ext cx="266760" cy="307800"/>
          </a:xfrm>
          <a:custGeom>
            <a:avLst/>
            <a:gdLst/>
            <a:ahLst/>
            <a:rect l="l" t="t" r="r" b="b"/>
            <a:pathLst>
              <a:path w="335" h="387">
                <a:moveTo>
                  <a:pt x="299" y="370"/>
                </a:moveTo>
                <a:lnTo>
                  <a:pt x="295" y="376"/>
                </a:lnTo>
                <a:lnTo>
                  <a:pt x="289" y="382"/>
                </a:lnTo>
                <a:lnTo>
                  <a:pt x="284" y="385"/>
                </a:lnTo>
                <a:lnTo>
                  <a:pt x="276" y="387"/>
                </a:lnTo>
                <a:lnTo>
                  <a:pt x="268" y="387"/>
                </a:lnTo>
                <a:lnTo>
                  <a:pt x="261" y="387"/>
                </a:lnTo>
                <a:lnTo>
                  <a:pt x="253" y="385"/>
                </a:lnTo>
                <a:lnTo>
                  <a:pt x="243" y="382"/>
                </a:lnTo>
                <a:lnTo>
                  <a:pt x="234" y="376"/>
                </a:lnTo>
                <a:lnTo>
                  <a:pt x="224" y="370"/>
                </a:lnTo>
                <a:lnTo>
                  <a:pt x="213" y="362"/>
                </a:lnTo>
                <a:lnTo>
                  <a:pt x="203" y="353"/>
                </a:lnTo>
                <a:lnTo>
                  <a:pt x="191" y="341"/>
                </a:lnTo>
                <a:lnTo>
                  <a:pt x="178" y="330"/>
                </a:lnTo>
                <a:lnTo>
                  <a:pt x="165" y="316"/>
                </a:lnTo>
                <a:lnTo>
                  <a:pt x="153" y="303"/>
                </a:lnTo>
                <a:lnTo>
                  <a:pt x="140" y="288"/>
                </a:lnTo>
                <a:lnTo>
                  <a:pt x="126" y="272"/>
                </a:lnTo>
                <a:lnTo>
                  <a:pt x="115" y="257"/>
                </a:lnTo>
                <a:lnTo>
                  <a:pt x="101" y="243"/>
                </a:lnTo>
                <a:lnTo>
                  <a:pt x="92" y="230"/>
                </a:lnTo>
                <a:lnTo>
                  <a:pt x="80" y="217"/>
                </a:lnTo>
                <a:lnTo>
                  <a:pt x="71" y="203"/>
                </a:lnTo>
                <a:lnTo>
                  <a:pt x="63" y="190"/>
                </a:lnTo>
                <a:lnTo>
                  <a:pt x="53" y="178"/>
                </a:lnTo>
                <a:lnTo>
                  <a:pt x="46" y="167"/>
                </a:lnTo>
                <a:lnTo>
                  <a:pt x="40" y="153"/>
                </a:lnTo>
                <a:lnTo>
                  <a:pt x="34" y="142"/>
                </a:lnTo>
                <a:lnTo>
                  <a:pt x="28" y="132"/>
                </a:lnTo>
                <a:lnTo>
                  <a:pt x="24" y="121"/>
                </a:lnTo>
                <a:lnTo>
                  <a:pt x="21" y="109"/>
                </a:lnTo>
                <a:lnTo>
                  <a:pt x="17" y="100"/>
                </a:lnTo>
                <a:lnTo>
                  <a:pt x="13" y="84"/>
                </a:lnTo>
                <a:lnTo>
                  <a:pt x="9" y="69"/>
                </a:lnTo>
                <a:lnTo>
                  <a:pt x="5" y="55"/>
                </a:lnTo>
                <a:lnTo>
                  <a:pt x="1" y="42"/>
                </a:lnTo>
                <a:lnTo>
                  <a:pt x="1" y="30"/>
                </a:lnTo>
                <a:lnTo>
                  <a:pt x="0" y="19"/>
                </a:lnTo>
                <a:lnTo>
                  <a:pt x="1" y="15"/>
                </a:lnTo>
                <a:lnTo>
                  <a:pt x="1" y="11"/>
                </a:lnTo>
                <a:lnTo>
                  <a:pt x="3" y="7"/>
                </a:lnTo>
                <a:lnTo>
                  <a:pt x="5" y="6"/>
                </a:lnTo>
                <a:lnTo>
                  <a:pt x="5" y="4"/>
                </a:lnTo>
                <a:lnTo>
                  <a:pt x="7" y="2"/>
                </a:lnTo>
                <a:lnTo>
                  <a:pt x="11" y="0"/>
                </a:lnTo>
                <a:lnTo>
                  <a:pt x="15" y="0"/>
                </a:lnTo>
                <a:lnTo>
                  <a:pt x="19" y="0"/>
                </a:lnTo>
                <a:lnTo>
                  <a:pt x="26" y="2"/>
                </a:lnTo>
                <a:lnTo>
                  <a:pt x="32" y="4"/>
                </a:lnTo>
                <a:lnTo>
                  <a:pt x="40" y="6"/>
                </a:lnTo>
                <a:lnTo>
                  <a:pt x="49" y="7"/>
                </a:lnTo>
                <a:lnTo>
                  <a:pt x="59" y="11"/>
                </a:lnTo>
                <a:lnTo>
                  <a:pt x="71" y="15"/>
                </a:lnTo>
                <a:lnTo>
                  <a:pt x="84" y="21"/>
                </a:lnTo>
                <a:lnTo>
                  <a:pt x="95" y="25"/>
                </a:lnTo>
                <a:lnTo>
                  <a:pt x="109" y="30"/>
                </a:lnTo>
                <a:lnTo>
                  <a:pt x="124" y="38"/>
                </a:lnTo>
                <a:lnTo>
                  <a:pt x="140" y="46"/>
                </a:lnTo>
                <a:lnTo>
                  <a:pt x="155" y="54"/>
                </a:lnTo>
                <a:lnTo>
                  <a:pt x="170" y="59"/>
                </a:lnTo>
                <a:lnTo>
                  <a:pt x="184" y="67"/>
                </a:lnTo>
                <a:lnTo>
                  <a:pt x="197" y="75"/>
                </a:lnTo>
                <a:lnTo>
                  <a:pt x="211" y="80"/>
                </a:lnTo>
                <a:lnTo>
                  <a:pt x="222" y="86"/>
                </a:lnTo>
                <a:lnTo>
                  <a:pt x="232" y="92"/>
                </a:lnTo>
                <a:lnTo>
                  <a:pt x="243" y="98"/>
                </a:lnTo>
                <a:lnTo>
                  <a:pt x="253" y="103"/>
                </a:lnTo>
                <a:lnTo>
                  <a:pt x="261" y="109"/>
                </a:lnTo>
                <a:lnTo>
                  <a:pt x="268" y="115"/>
                </a:lnTo>
                <a:lnTo>
                  <a:pt x="276" y="119"/>
                </a:lnTo>
                <a:lnTo>
                  <a:pt x="284" y="125"/>
                </a:lnTo>
                <a:lnTo>
                  <a:pt x="289" y="130"/>
                </a:lnTo>
                <a:lnTo>
                  <a:pt x="295" y="134"/>
                </a:lnTo>
                <a:lnTo>
                  <a:pt x="299" y="140"/>
                </a:lnTo>
                <a:lnTo>
                  <a:pt x="309" y="155"/>
                </a:lnTo>
                <a:lnTo>
                  <a:pt x="314" y="169"/>
                </a:lnTo>
                <a:lnTo>
                  <a:pt x="322" y="182"/>
                </a:lnTo>
                <a:lnTo>
                  <a:pt x="326" y="194"/>
                </a:lnTo>
                <a:lnTo>
                  <a:pt x="332" y="207"/>
                </a:lnTo>
                <a:lnTo>
                  <a:pt x="333" y="220"/>
                </a:lnTo>
                <a:lnTo>
                  <a:pt x="335" y="234"/>
                </a:lnTo>
                <a:lnTo>
                  <a:pt x="335" y="247"/>
                </a:lnTo>
                <a:lnTo>
                  <a:pt x="335" y="263"/>
                </a:lnTo>
                <a:lnTo>
                  <a:pt x="333" y="278"/>
                </a:lnTo>
                <a:lnTo>
                  <a:pt x="332" y="293"/>
                </a:lnTo>
                <a:lnTo>
                  <a:pt x="326" y="309"/>
                </a:lnTo>
                <a:lnTo>
                  <a:pt x="322" y="324"/>
                </a:lnTo>
                <a:lnTo>
                  <a:pt x="314" y="339"/>
                </a:lnTo>
                <a:lnTo>
                  <a:pt x="309" y="355"/>
                </a:lnTo>
                <a:lnTo>
                  <a:pt x="299" y="37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84"/>
          <p:cNvSpPr/>
          <p:nvPr/>
        </p:nvSpPr>
        <p:spPr>
          <a:xfrm>
            <a:off x="5708520" y="3017880"/>
            <a:ext cx="290520" cy="311040"/>
          </a:xfrm>
          <a:custGeom>
            <a:avLst/>
            <a:gdLst/>
            <a:ahLst/>
            <a:rect l="l" t="t" r="r" b="b"/>
            <a:pathLst>
              <a:path w="367" h="391">
                <a:moveTo>
                  <a:pt x="0" y="27"/>
                </a:moveTo>
                <a:lnTo>
                  <a:pt x="4" y="23"/>
                </a:lnTo>
                <a:lnTo>
                  <a:pt x="12" y="17"/>
                </a:lnTo>
                <a:lnTo>
                  <a:pt x="15" y="15"/>
                </a:lnTo>
                <a:lnTo>
                  <a:pt x="19" y="13"/>
                </a:lnTo>
                <a:lnTo>
                  <a:pt x="25" y="11"/>
                </a:lnTo>
                <a:lnTo>
                  <a:pt x="31" y="9"/>
                </a:lnTo>
                <a:lnTo>
                  <a:pt x="36" y="7"/>
                </a:lnTo>
                <a:lnTo>
                  <a:pt x="42" y="5"/>
                </a:lnTo>
                <a:lnTo>
                  <a:pt x="50" y="4"/>
                </a:lnTo>
                <a:lnTo>
                  <a:pt x="58" y="2"/>
                </a:lnTo>
                <a:lnTo>
                  <a:pt x="67" y="2"/>
                </a:lnTo>
                <a:lnTo>
                  <a:pt x="77" y="2"/>
                </a:lnTo>
                <a:lnTo>
                  <a:pt x="86" y="0"/>
                </a:lnTo>
                <a:lnTo>
                  <a:pt x="98" y="0"/>
                </a:lnTo>
                <a:lnTo>
                  <a:pt x="107" y="0"/>
                </a:lnTo>
                <a:lnTo>
                  <a:pt x="117" y="2"/>
                </a:lnTo>
                <a:lnTo>
                  <a:pt x="127" y="4"/>
                </a:lnTo>
                <a:lnTo>
                  <a:pt x="136" y="5"/>
                </a:lnTo>
                <a:lnTo>
                  <a:pt x="146" y="7"/>
                </a:lnTo>
                <a:lnTo>
                  <a:pt x="157" y="11"/>
                </a:lnTo>
                <a:lnTo>
                  <a:pt x="167" y="15"/>
                </a:lnTo>
                <a:lnTo>
                  <a:pt x="179" y="19"/>
                </a:lnTo>
                <a:lnTo>
                  <a:pt x="190" y="23"/>
                </a:lnTo>
                <a:lnTo>
                  <a:pt x="202" y="29"/>
                </a:lnTo>
                <a:lnTo>
                  <a:pt x="223" y="40"/>
                </a:lnTo>
                <a:lnTo>
                  <a:pt x="246" y="53"/>
                </a:lnTo>
                <a:lnTo>
                  <a:pt x="269" y="69"/>
                </a:lnTo>
                <a:lnTo>
                  <a:pt x="280" y="78"/>
                </a:lnTo>
                <a:lnTo>
                  <a:pt x="290" y="88"/>
                </a:lnTo>
                <a:lnTo>
                  <a:pt x="301" y="99"/>
                </a:lnTo>
                <a:lnTo>
                  <a:pt x="309" y="111"/>
                </a:lnTo>
                <a:lnTo>
                  <a:pt x="319" y="123"/>
                </a:lnTo>
                <a:lnTo>
                  <a:pt x="326" y="134"/>
                </a:lnTo>
                <a:lnTo>
                  <a:pt x="334" y="146"/>
                </a:lnTo>
                <a:lnTo>
                  <a:pt x="342" y="157"/>
                </a:lnTo>
                <a:lnTo>
                  <a:pt x="347" y="169"/>
                </a:lnTo>
                <a:lnTo>
                  <a:pt x="351" y="182"/>
                </a:lnTo>
                <a:lnTo>
                  <a:pt x="357" y="194"/>
                </a:lnTo>
                <a:lnTo>
                  <a:pt x="361" y="207"/>
                </a:lnTo>
                <a:lnTo>
                  <a:pt x="363" y="218"/>
                </a:lnTo>
                <a:lnTo>
                  <a:pt x="365" y="232"/>
                </a:lnTo>
                <a:lnTo>
                  <a:pt x="367" y="243"/>
                </a:lnTo>
                <a:lnTo>
                  <a:pt x="367" y="257"/>
                </a:lnTo>
                <a:lnTo>
                  <a:pt x="367" y="268"/>
                </a:lnTo>
                <a:lnTo>
                  <a:pt x="367" y="280"/>
                </a:lnTo>
                <a:lnTo>
                  <a:pt x="367" y="291"/>
                </a:lnTo>
                <a:lnTo>
                  <a:pt x="367" y="303"/>
                </a:lnTo>
                <a:lnTo>
                  <a:pt x="367" y="312"/>
                </a:lnTo>
                <a:lnTo>
                  <a:pt x="367" y="320"/>
                </a:lnTo>
                <a:lnTo>
                  <a:pt x="367" y="330"/>
                </a:lnTo>
                <a:lnTo>
                  <a:pt x="365" y="337"/>
                </a:lnTo>
                <a:lnTo>
                  <a:pt x="365" y="345"/>
                </a:lnTo>
                <a:lnTo>
                  <a:pt x="365" y="351"/>
                </a:lnTo>
                <a:lnTo>
                  <a:pt x="363" y="357"/>
                </a:lnTo>
                <a:lnTo>
                  <a:pt x="361" y="362"/>
                </a:lnTo>
                <a:lnTo>
                  <a:pt x="361" y="368"/>
                </a:lnTo>
                <a:lnTo>
                  <a:pt x="359" y="372"/>
                </a:lnTo>
                <a:lnTo>
                  <a:pt x="357" y="376"/>
                </a:lnTo>
                <a:lnTo>
                  <a:pt x="355" y="378"/>
                </a:lnTo>
                <a:lnTo>
                  <a:pt x="351" y="382"/>
                </a:lnTo>
                <a:lnTo>
                  <a:pt x="347" y="385"/>
                </a:lnTo>
                <a:lnTo>
                  <a:pt x="346" y="387"/>
                </a:lnTo>
                <a:lnTo>
                  <a:pt x="342" y="389"/>
                </a:lnTo>
                <a:lnTo>
                  <a:pt x="340" y="391"/>
                </a:lnTo>
                <a:lnTo>
                  <a:pt x="338" y="391"/>
                </a:lnTo>
                <a:lnTo>
                  <a:pt x="334" y="391"/>
                </a:lnTo>
                <a:lnTo>
                  <a:pt x="330" y="391"/>
                </a:lnTo>
                <a:lnTo>
                  <a:pt x="328" y="391"/>
                </a:lnTo>
                <a:lnTo>
                  <a:pt x="324" y="389"/>
                </a:lnTo>
                <a:lnTo>
                  <a:pt x="319" y="389"/>
                </a:lnTo>
                <a:lnTo>
                  <a:pt x="315" y="385"/>
                </a:lnTo>
                <a:lnTo>
                  <a:pt x="309" y="383"/>
                </a:lnTo>
                <a:lnTo>
                  <a:pt x="301" y="380"/>
                </a:lnTo>
                <a:lnTo>
                  <a:pt x="296" y="376"/>
                </a:lnTo>
                <a:lnTo>
                  <a:pt x="288" y="372"/>
                </a:lnTo>
                <a:lnTo>
                  <a:pt x="278" y="366"/>
                </a:lnTo>
                <a:lnTo>
                  <a:pt x="271" y="360"/>
                </a:lnTo>
                <a:lnTo>
                  <a:pt x="261" y="353"/>
                </a:lnTo>
                <a:lnTo>
                  <a:pt x="251" y="347"/>
                </a:lnTo>
                <a:lnTo>
                  <a:pt x="240" y="337"/>
                </a:lnTo>
                <a:lnTo>
                  <a:pt x="230" y="330"/>
                </a:lnTo>
                <a:lnTo>
                  <a:pt x="219" y="320"/>
                </a:lnTo>
                <a:lnTo>
                  <a:pt x="207" y="311"/>
                </a:lnTo>
                <a:lnTo>
                  <a:pt x="194" y="301"/>
                </a:lnTo>
                <a:lnTo>
                  <a:pt x="182" y="289"/>
                </a:lnTo>
                <a:lnTo>
                  <a:pt x="169" y="280"/>
                </a:lnTo>
                <a:lnTo>
                  <a:pt x="157" y="270"/>
                </a:lnTo>
                <a:lnTo>
                  <a:pt x="146" y="259"/>
                </a:lnTo>
                <a:lnTo>
                  <a:pt x="134" y="249"/>
                </a:lnTo>
                <a:lnTo>
                  <a:pt x="115" y="228"/>
                </a:lnTo>
                <a:lnTo>
                  <a:pt x="96" y="205"/>
                </a:lnTo>
                <a:lnTo>
                  <a:pt x="79" y="184"/>
                </a:lnTo>
                <a:lnTo>
                  <a:pt x="63" y="159"/>
                </a:lnTo>
                <a:lnTo>
                  <a:pt x="48" y="136"/>
                </a:lnTo>
                <a:lnTo>
                  <a:pt x="42" y="124"/>
                </a:lnTo>
                <a:lnTo>
                  <a:pt x="36" y="115"/>
                </a:lnTo>
                <a:lnTo>
                  <a:pt x="31" y="105"/>
                </a:lnTo>
                <a:lnTo>
                  <a:pt x="25" y="98"/>
                </a:lnTo>
                <a:lnTo>
                  <a:pt x="21" y="88"/>
                </a:lnTo>
                <a:lnTo>
                  <a:pt x="17" y="80"/>
                </a:lnTo>
                <a:lnTo>
                  <a:pt x="10" y="65"/>
                </a:lnTo>
                <a:lnTo>
                  <a:pt x="8" y="59"/>
                </a:lnTo>
                <a:lnTo>
                  <a:pt x="6" y="53"/>
                </a:lnTo>
                <a:lnTo>
                  <a:pt x="4" y="48"/>
                </a:lnTo>
                <a:lnTo>
                  <a:pt x="2" y="42"/>
                </a:lnTo>
                <a:lnTo>
                  <a:pt x="2" y="38"/>
                </a:lnTo>
                <a:lnTo>
                  <a:pt x="0" y="34"/>
                </a:lnTo>
                <a:lnTo>
                  <a:pt x="0" y="30"/>
                </a:lnTo>
                <a:lnTo>
                  <a:pt x="0" y="2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42"/>
                                        </p:tgtEl>
                                        <p:attrNameLst>
                                          <p:attrName>style.visibility</p:attrName>
                                        </p:attrNameLst>
                                      </p:cBhvr>
                                      <p:to>
                                        <p:strVal val="visible"/>
                                      </p:to>
                                    </p:set>
                                    <p:animEffect filter="wipe(left)" transition="in">
                                      <p:cBhvr additive="repl">
                                        <p:cTn id="168" dur="500"/>
                                        <p:tgtEl>
                                          <p:spTgt spid="142"/>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41"/>
                                        </p:tgtEl>
                                        <p:attrNameLst>
                                          <p:attrName>style.visibility</p:attrName>
                                        </p:attrNameLst>
                                      </p:cBhvr>
                                      <p:to>
                                        <p:strVal val="visible"/>
                                      </p:to>
                                    </p:set>
                                    <p:animEffect filter="wipe(left)" transition="in">
                                      <p:cBhvr additive="repl">
                                        <p:cTn id="173" dur="500"/>
                                        <p:tgtEl>
                                          <p:spTgt spid="141"/>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40"/>
                                        </p:tgtEl>
                                        <p:attrNameLst>
                                          <p:attrName>style.visibility</p:attrName>
                                        </p:attrNameLst>
                                      </p:cBhvr>
                                      <p:to>
                                        <p:strVal val="visible"/>
                                      </p:to>
                                    </p:set>
                                    <p:animEffect filter="wipe(down)" transition="in">
                                      <p:cBhvr additive="repl">
                                        <p:cTn id="178" dur="500"/>
                                        <p:tgtEl>
                                          <p:spTgt spid="14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39"/>
                                        </p:tgtEl>
                                        <p:attrNameLst>
                                          <p:attrName>style.visibility</p:attrName>
                                        </p:attrNameLst>
                                      </p:cBhvr>
                                      <p:to>
                                        <p:strVal val="visible"/>
                                      </p:to>
                                    </p:set>
                                    <p:animEffect filter="wipe(left)" transition="in">
                                      <p:cBhvr additive="repl">
                                        <p:cTn id="183" dur="500"/>
                                        <p:tgtEl>
                                          <p:spTgt spid="139"/>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38"/>
                                        </p:tgtEl>
                                        <p:attrNameLst>
                                          <p:attrName>style.visibility</p:attrName>
                                        </p:attrNameLst>
                                      </p:cBhvr>
                                      <p:to>
                                        <p:strVal val="visible"/>
                                      </p:to>
                                    </p:set>
                                    <p:animEffect filter="wipe(left)" transition="in">
                                      <p:cBhvr additive="repl">
                                        <p:cTn id="188" dur="500"/>
                                        <p:tgtEl>
                                          <p:spTgt spid="138"/>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37"/>
                                        </p:tgtEl>
                                        <p:attrNameLst>
                                          <p:attrName>style.visibility</p:attrName>
                                        </p:attrNameLst>
                                      </p:cBhvr>
                                      <p:to>
                                        <p:strVal val="visible"/>
                                      </p:to>
                                    </p:set>
                                    <p:animEffect filter="wipe(left)" transition="in">
                                      <p:cBhvr additive="repl">
                                        <p:cTn id="193" dur="500"/>
                                        <p:tgtEl>
                                          <p:spTgt spid="137"/>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36"/>
                                        </p:tgtEl>
                                        <p:attrNameLst>
                                          <p:attrName>style.visibility</p:attrName>
                                        </p:attrNameLst>
                                      </p:cBhvr>
                                      <p:to>
                                        <p:strVal val="visible"/>
                                      </p:to>
                                    </p:set>
                                    <p:animEffect filter="wipe(left)" transition="in">
                                      <p:cBhvr additive="repl">
                                        <p:cTn id="198" dur="500"/>
                                        <p:tgtEl>
                                          <p:spTgt spid="136"/>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33"/>
                                        </p:tgtEl>
                                        <p:attrNameLst>
                                          <p:attrName>style.visibility</p:attrName>
                                        </p:attrNameLst>
                                      </p:cBhvr>
                                      <p:to>
                                        <p:strVal val="visible"/>
                                      </p:to>
                                    </p:set>
                                    <p:animEffect filter="wipe(up)" transition="in">
                                      <p:cBhvr additive="repl">
                                        <p:cTn id="203" dur="500"/>
                                        <p:tgtEl>
                                          <p:spTgt spid="133"/>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32"/>
                                        </p:tgtEl>
                                        <p:attrNameLst>
                                          <p:attrName>style.visibility</p:attrName>
                                        </p:attrNameLst>
                                      </p:cBhvr>
                                      <p:to>
                                        <p:strVal val="visible"/>
                                      </p:to>
                                    </p:set>
                                    <p:animEffect filter="wipe(up)" transition="in">
                                      <p:cBhvr additive="repl">
                                        <p:cTn id="208" dur="500"/>
                                        <p:tgtEl>
                                          <p:spTgt spid="132"/>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35"/>
                                        </p:tgtEl>
                                        <p:attrNameLst>
                                          <p:attrName>style.visibility</p:attrName>
                                        </p:attrNameLst>
                                      </p:cBhvr>
                                      <p:to>
                                        <p:strVal val="visible"/>
                                      </p:to>
                                    </p:set>
                                    <p:animEffect filter="wipe(left)" transition="in">
                                      <p:cBhvr additive="repl">
                                        <p:cTn id="213" dur="500"/>
                                        <p:tgtEl>
                                          <p:spTgt spid="135"/>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34"/>
                                        </p:tgtEl>
                                        <p:attrNameLst>
                                          <p:attrName>style.visibility</p:attrName>
                                        </p:attrNameLst>
                                      </p:cBhvr>
                                      <p:to>
                                        <p:strVal val="visible"/>
                                      </p:to>
                                    </p:set>
                                    <p:animEffect filter="wipe(left)" transition="in">
                                      <p:cBhvr additive="repl">
                                        <p:cTn id="218" dur="500"/>
                                        <p:tgtEl>
                                          <p:spTgt spid="134"/>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31"/>
                                        </p:tgtEl>
                                        <p:attrNameLst>
                                          <p:attrName>style.visibility</p:attrName>
                                        </p:attrNameLst>
                                      </p:cBhvr>
                                      <p:to>
                                        <p:strVal val="visible"/>
                                      </p:to>
                                    </p:set>
                                    <p:animEffect filter="wipe(up)" transition="in">
                                      <p:cBhvr additive="repl">
                                        <p:cTn id="223" dur="500"/>
                                        <p:tgtEl>
                                          <p:spTgt spid="13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30"/>
                                        </p:tgtEl>
                                        <p:attrNameLst>
                                          <p:attrName>style.visibility</p:attrName>
                                        </p:attrNameLst>
                                      </p:cBhvr>
                                      <p:to>
                                        <p:strVal val="visible"/>
                                      </p:to>
                                    </p:set>
                                    <p:animEffect filter="wipe(left)" transition="in">
                                      <p:cBhvr additive="repl">
                                        <p:cTn id="228" dur="500"/>
                                        <p:tgtEl>
                                          <p:spTgt spid="130"/>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29"/>
                                        </p:tgtEl>
                                        <p:attrNameLst>
                                          <p:attrName>style.visibility</p:attrName>
                                        </p:attrNameLst>
                                      </p:cBhvr>
                                      <p:to>
                                        <p:strVal val="visible"/>
                                      </p:to>
                                    </p:set>
                                    <p:animEffect filter="wipe(up)" transition="in">
                                      <p:cBhvr additive="repl">
                                        <p:cTn id="233" dur="500"/>
                                        <p:tgtEl>
                                          <p:spTgt spid="129"/>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1">
                                  <p:stCondLst>
                                    <p:cond delay="0"/>
                                  </p:stCondLst>
                                  <p:childTnLst>
                                    <p:set>
                                      <p:cBhvr>
                                        <p:cTn id="237" dur="1" fill="hold">
                                          <p:stCondLst>
                                            <p:cond delay="0"/>
                                          </p:stCondLst>
                                        </p:cTn>
                                        <p:tgtEl>
                                          <p:spTgt spid="128"/>
                                        </p:tgtEl>
                                        <p:attrNameLst>
                                          <p:attrName>style.visibility</p:attrName>
                                        </p:attrNameLst>
                                      </p:cBhvr>
                                      <p:to>
                                        <p:strVal val="visible"/>
                                      </p:to>
                                    </p:set>
                                    <p:animEffect filter="wipe(up)" transition="in">
                                      <p:cBhvr additive="repl">
                                        <p:cTn id="238" dur="500"/>
                                        <p:tgtEl>
                                          <p:spTgt spid="128"/>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53" presetSubtype="16">
                                  <p:stCondLst>
                                    <p:cond delay="0"/>
                                  </p:stCondLst>
                                  <p:childTnLst>
                                    <p:set>
                                      <p:cBhvr>
                                        <p:cTn id="242" dur="1" fill="hold">
                                          <p:stCondLst>
                                            <p:cond delay="0"/>
                                          </p:stCondLst>
                                        </p:cTn>
                                        <p:tgtEl>
                                          <p:spTgt spid="121"/>
                                        </p:tgtEl>
                                        <p:attrNameLst>
                                          <p:attrName>style.visibility</p:attrName>
                                        </p:attrNameLst>
                                      </p:cBhvr>
                                      <p:to>
                                        <p:strVal val="visible"/>
                                      </p:to>
                                    </p:set>
                                    <p:anim calcmode="lin" valueType="num">
                                      <p:cBhvr additive="repl">
                                        <p:cTn id="243" dur="500" fill="hold"/>
                                        <p:tgtEl>
                                          <p:spTgt spid="121"/>
                                        </p:tgtEl>
                                        <p:attrNameLst>
                                          <p:attrName>ppt_w</p:attrName>
                                        </p:attrNameLst>
                                      </p:cBhvr>
                                      <p:tavLst>
                                        <p:tav tm="0">
                                          <p:val>
                                            <p:fltVal val="0"/>
                                          </p:val>
                                        </p:tav>
                                        <p:tav tm="100000">
                                          <p:val>
                                            <p:strVal val="#ppt_w"/>
                                          </p:val>
                                        </p:tav>
                                      </p:tavLst>
                                    </p:anim>
                                    <p:anim calcmode="lin" valueType="num">
                                      <p:cBhvr additive="repl">
                                        <p:cTn id="244" dur="500" fill="hold"/>
                                        <p:tgtEl>
                                          <p:spTgt spid="121"/>
                                        </p:tgtEl>
                                        <p:attrNameLst>
                                          <p:attrName>ppt_h</p:attrName>
                                        </p:attrNameLst>
                                      </p:cBhvr>
                                      <p:tavLst>
                                        <p:tav tm="0">
                                          <p:val>
                                            <p:fltVal val="0"/>
                                          </p:val>
                                        </p:tav>
                                        <p:tav tm="100000">
                                          <p:val>
                                            <p:strVal val="#ppt_h"/>
                                          </p:val>
                                        </p:tav>
                                      </p:tavLst>
                                    </p:anim>
                                    <p:animEffect filter="fade" transition="in">
                                      <p:cBhvr additive="repl">
                                        <p:cTn id="245"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浸</a:t>
            </a:r>
            <a:endParaRPr b="0" lang="en-US" sz="8000" spc="-1" strike="noStrike">
              <a:solidFill>
                <a:srgbClr val="000000"/>
              </a:solidFill>
              <a:latin typeface="Calibri"/>
            </a:endParaRPr>
          </a:p>
        </p:txBody>
      </p:sp>
      <p:graphicFrame>
        <p:nvGraphicFramePr>
          <p:cNvPr id="144"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45" name="组合 3"/>
          <p:cNvGrpSpPr/>
          <p:nvPr/>
        </p:nvGrpSpPr>
        <p:grpSpPr>
          <a:xfrm>
            <a:off x="1198440" y="3975120"/>
            <a:ext cx="2840040" cy="1572480"/>
            <a:chOff x="1198440" y="3975120"/>
            <a:chExt cx="2840040" cy="1572480"/>
          </a:xfrm>
        </p:grpSpPr>
        <p:pic>
          <p:nvPicPr>
            <p:cNvPr id="146" name="图示 4" descr=""/>
            <p:cNvPicPr/>
            <p:nvPr/>
          </p:nvPicPr>
          <p:blipFill>
            <a:blip r:embed="rId1"/>
            <a:stretch/>
          </p:blipFill>
          <p:spPr>
            <a:xfrm>
              <a:off x="1198440" y="3975120"/>
              <a:ext cx="2840040" cy="1572480"/>
            </a:xfrm>
            <a:prstGeom prst="rect">
              <a:avLst/>
            </a:prstGeom>
            <a:ln w="0">
              <a:noFill/>
            </a:ln>
          </p:spPr>
        </p:pic>
        <p:sp>
          <p:nvSpPr>
            <p:cNvPr id="147" name="矩形 2"/>
            <p:cNvSpPr/>
            <p:nvPr/>
          </p:nvSpPr>
          <p:spPr>
            <a:xfrm>
              <a:off x="1208160" y="458820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冖”托上盖下，“又”捺舒展。</a:t>
              </a:r>
              <a:endParaRPr b="0" lang="en-US" sz="2000" spc="-1" strike="noStrike">
                <a:solidFill>
                  <a:srgbClr val="000000"/>
                </a:solidFill>
                <a:latin typeface="Calibri"/>
              </a:endParaRPr>
            </a:p>
          </p:txBody>
        </p:sp>
      </p:grpSp>
      <p:sp>
        <p:nvSpPr>
          <p:cNvPr id="148" name="矩形 2"/>
          <p:cNvSpPr/>
          <p:nvPr/>
        </p:nvSpPr>
        <p:spPr>
          <a:xfrm>
            <a:off x="2220840" y="1855800"/>
            <a:ext cx="808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jìn</a:t>
            </a:r>
            <a:endParaRPr b="0" lang="en-US" sz="4800" spc="-1" strike="noStrike">
              <a:solidFill>
                <a:srgbClr val="000000"/>
              </a:solidFill>
              <a:latin typeface="Calibri"/>
            </a:endParaRPr>
          </a:p>
        </p:txBody>
      </p:sp>
      <p:sp>
        <p:nvSpPr>
          <p:cNvPr id="149" name="Freeform 107"/>
          <p:cNvSpPr/>
          <p:nvPr/>
        </p:nvSpPr>
        <p:spPr>
          <a:xfrm>
            <a:off x="6404040" y="4287960"/>
            <a:ext cx="1411200" cy="757080"/>
          </a:xfrm>
          <a:custGeom>
            <a:avLst/>
            <a:gdLst/>
            <a:ahLst/>
            <a:rect l="l" t="t" r="r" b="b"/>
            <a:pathLst>
              <a:path w="1777" h="954">
                <a:moveTo>
                  <a:pt x="1186" y="954"/>
                </a:moveTo>
                <a:lnTo>
                  <a:pt x="1178" y="952"/>
                </a:lnTo>
                <a:lnTo>
                  <a:pt x="1171" y="948"/>
                </a:lnTo>
                <a:lnTo>
                  <a:pt x="1161" y="944"/>
                </a:lnTo>
                <a:lnTo>
                  <a:pt x="1153" y="943"/>
                </a:lnTo>
                <a:lnTo>
                  <a:pt x="1134" y="933"/>
                </a:lnTo>
                <a:lnTo>
                  <a:pt x="1115" y="925"/>
                </a:lnTo>
                <a:lnTo>
                  <a:pt x="1092" y="914"/>
                </a:lnTo>
                <a:lnTo>
                  <a:pt x="1071" y="902"/>
                </a:lnTo>
                <a:lnTo>
                  <a:pt x="1048" y="891"/>
                </a:lnTo>
                <a:lnTo>
                  <a:pt x="1025" y="875"/>
                </a:lnTo>
                <a:lnTo>
                  <a:pt x="1019" y="872"/>
                </a:lnTo>
                <a:lnTo>
                  <a:pt x="1011" y="864"/>
                </a:lnTo>
                <a:lnTo>
                  <a:pt x="1004" y="858"/>
                </a:lnTo>
                <a:lnTo>
                  <a:pt x="996" y="850"/>
                </a:lnTo>
                <a:lnTo>
                  <a:pt x="986" y="843"/>
                </a:lnTo>
                <a:lnTo>
                  <a:pt x="977" y="835"/>
                </a:lnTo>
                <a:lnTo>
                  <a:pt x="967" y="827"/>
                </a:lnTo>
                <a:lnTo>
                  <a:pt x="956" y="818"/>
                </a:lnTo>
                <a:lnTo>
                  <a:pt x="942" y="808"/>
                </a:lnTo>
                <a:lnTo>
                  <a:pt x="931" y="797"/>
                </a:lnTo>
                <a:lnTo>
                  <a:pt x="917" y="785"/>
                </a:lnTo>
                <a:lnTo>
                  <a:pt x="902" y="774"/>
                </a:lnTo>
                <a:lnTo>
                  <a:pt x="888" y="762"/>
                </a:lnTo>
                <a:lnTo>
                  <a:pt x="871" y="749"/>
                </a:lnTo>
                <a:lnTo>
                  <a:pt x="856" y="735"/>
                </a:lnTo>
                <a:lnTo>
                  <a:pt x="838" y="722"/>
                </a:lnTo>
                <a:lnTo>
                  <a:pt x="821" y="706"/>
                </a:lnTo>
                <a:lnTo>
                  <a:pt x="802" y="691"/>
                </a:lnTo>
                <a:lnTo>
                  <a:pt x="783" y="676"/>
                </a:lnTo>
                <a:lnTo>
                  <a:pt x="764" y="658"/>
                </a:lnTo>
                <a:lnTo>
                  <a:pt x="742" y="643"/>
                </a:lnTo>
                <a:lnTo>
                  <a:pt x="721" y="626"/>
                </a:lnTo>
                <a:lnTo>
                  <a:pt x="698" y="607"/>
                </a:lnTo>
                <a:lnTo>
                  <a:pt x="677" y="587"/>
                </a:lnTo>
                <a:lnTo>
                  <a:pt x="652" y="568"/>
                </a:lnTo>
                <a:lnTo>
                  <a:pt x="629" y="549"/>
                </a:lnTo>
                <a:lnTo>
                  <a:pt x="604" y="528"/>
                </a:lnTo>
                <a:lnTo>
                  <a:pt x="577" y="507"/>
                </a:lnTo>
                <a:lnTo>
                  <a:pt x="552" y="486"/>
                </a:lnTo>
                <a:lnTo>
                  <a:pt x="526" y="465"/>
                </a:lnTo>
                <a:lnTo>
                  <a:pt x="497" y="442"/>
                </a:lnTo>
                <a:lnTo>
                  <a:pt x="470" y="419"/>
                </a:lnTo>
                <a:lnTo>
                  <a:pt x="441" y="395"/>
                </a:lnTo>
                <a:lnTo>
                  <a:pt x="412" y="372"/>
                </a:lnTo>
                <a:lnTo>
                  <a:pt x="387" y="349"/>
                </a:lnTo>
                <a:lnTo>
                  <a:pt x="361" y="328"/>
                </a:lnTo>
                <a:lnTo>
                  <a:pt x="336" y="309"/>
                </a:lnTo>
                <a:lnTo>
                  <a:pt x="313" y="288"/>
                </a:lnTo>
                <a:lnTo>
                  <a:pt x="289" y="269"/>
                </a:lnTo>
                <a:lnTo>
                  <a:pt x="266" y="250"/>
                </a:lnTo>
                <a:lnTo>
                  <a:pt x="245" y="232"/>
                </a:lnTo>
                <a:lnTo>
                  <a:pt x="224" y="215"/>
                </a:lnTo>
                <a:lnTo>
                  <a:pt x="205" y="198"/>
                </a:lnTo>
                <a:lnTo>
                  <a:pt x="186" y="182"/>
                </a:lnTo>
                <a:lnTo>
                  <a:pt x="169" y="167"/>
                </a:lnTo>
                <a:lnTo>
                  <a:pt x="151" y="152"/>
                </a:lnTo>
                <a:lnTo>
                  <a:pt x="134" y="138"/>
                </a:lnTo>
                <a:lnTo>
                  <a:pt x="119" y="125"/>
                </a:lnTo>
                <a:lnTo>
                  <a:pt x="105" y="111"/>
                </a:lnTo>
                <a:lnTo>
                  <a:pt x="92" y="100"/>
                </a:lnTo>
                <a:lnTo>
                  <a:pt x="78" y="88"/>
                </a:lnTo>
                <a:lnTo>
                  <a:pt x="67" y="77"/>
                </a:lnTo>
                <a:lnTo>
                  <a:pt x="57" y="67"/>
                </a:lnTo>
                <a:lnTo>
                  <a:pt x="48" y="58"/>
                </a:lnTo>
                <a:lnTo>
                  <a:pt x="38" y="48"/>
                </a:lnTo>
                <a:lnTo>
                  <a:pt x="30" y="40"/>
                </a:lnTo>
                <a:lnTo>
                  <a:pt x="23" y="33"/>
                </a:lnTo>
                <a:lnTo>
                  <a:pt x="17" y="27"/>
                </a:lnTo>
                <a:lnTo>
                  <a:pt x="11" y="21"/>
                </a:lnTo>
                <a:lnTo>
                  <a:pt x="7" y="15"/>
                </a:lnTo>
                <a:lnTo>
                  <a:pt x="4" y="10"/>
                </a:lnTo>
                <a:lnTo>
                  <a:pt x="2" y="6"/>
                </a:lnTo>
                <a:lnTo>
                  <a:pt x="0" y="2"/>
                </a:lnTo>
                <a:lnTo>
                  <a:pt x="0" y="0"/>
                </a:lnTo>
                <a:lnTo>
                  <a:pt x="19" y="0"/>
                </a:lnTo>
                <a:lnTo>
                  <a:pt x="40" y="4"/>
                </a:lnTo>
                <a:lnTo>
                  <a:pt x="61" y="8"/>
                </a:lnTo>
                <a:lnTo>
                  <a:pt x="84" y="14"/>
                </a:lnTo>
                <a:lnTo>
                  <a:pt x="107" y="21"/>
                </a:lnTo>
                <a:lnTo>
                  <a:pt x="132" y="31"/>
                </a:lnTo>
                <a:lnTo>
                  <a:pt x="159" y="42"/>
                </a:lnTo>
                <a:lnTo>
                  <a:pt x="188" y="56"/>
                </a:lnTo>
                <a:lnTo>
                  <a:pt x="217" y="71"/>
                </a:lnTo>
                <a:lnTo>
                  <a:pt x="247" y="88"/>
                </a:lnTo>
                <a:lnTo>
                  <a:pt x="278" y="106"/>
                </a:lnTo>
                <a:lnTo>
                  <a:pt x="311" y="125"/>
                </a:lnTo>
                <a:lnTo>
                  <a:pt x="345" y="148"/>
                </a:lnTo>
                <a:lnTo>
                  <a:pt x="382" y="171"/>
                </a:lnTo>
                <a:lnTo>
                  <a:pt x="418" y="196"/>
                </a:lnTo>
                <a:lnTo>
                  <a:pt x="456" y="223"/>
                </a:lnTo>
                <a:lnTo>
                  <a:pt x="493" y="252"/>
                </a:lnTo>
                <a:lnTo>
                  <a:pt x="529" y="278"/>
                </a:lnTo>
                <a:lnTo>
                  <a:pt x="566" y="307"/>
                </a:lnTo>
                <a:lnTo>
                  <a:pt x="602" y="332"/>
                </a:lnTo>
                <a:lnTo>
                  <a:pt x="637" y="357"/>
                </a:lnTo>
                <a:lnTo>
                  <a:pt x="673" y="382"/>
                </a:lnTo>
                <a:lnTo>
                  <a:pt x="708" y="405"/>
                </a:lnTo>
                <a:lnTo>
                  <a:pt x="742" y="426"/>
                </a:lnTo>
                <a:lnTo>
                  <a:pt x="775" y="447"/>
                </a:lnTo>
                <a:lnTo>
                  <a:pt x="810" y="467"/>
                </a:lnTo>
                <a:lnTo>
                  <a:pt x="842" y="486"/>
                </a:lnTo>
                <a:lnTo>
                  <a:pt x="875" y="503"/>
                </a:lnTo>
                <a:lnTo>
                  <a:pt x="908" y="520"/>
                </a:lnTo>
                <a:lnTo>
                  <a:pt x="938" y="536"/>
                </a:lnTo>
                <a:lnTo>
                  <a:pt x="969" y="549"/>
                </a:lnTo>
                <a:lnTo>
                  <a:pt x="1000" y="562"/>
                </a:lnTo>
                <a:lnTo>
                  <a:pt x="1061" y="587"/>
                </a:lnTo>
                <a:lnTo>
                  <a:pt x="1123" y="610"/>
                </a:lnTo>
                <a:lnTo>
                  <a:pt x="1186" y="634"/>
                </a:lnTo>
                <a:lnTo>
                  <a:pt x="1249" y="657"/>
                </a:lnTo>
                <a:lnTo>
                  <a:pt x="1314" y="678"/>
                </a:lnTo>
                <a:lnTo>
                  <a:pt x="1382" y="699"/>
                </a:lnTo>
                <a:lnTo>
                  <a:pt x="1416" y="706"/>
                </a:lnTo>
                <a:lnTo>
                  <a:pt x="1449" y="716"/>
                </a:lnTo>
                <a:lnTo>
                  <a:pt x="1483" y="724"/>
                </a:lnTo>
                <a:lnTo>
                  <a:pt x="1518" y="731"/>
                </a:lnTo>
                <a:lnTo>
                  <a:pt x="1535" y="735"/>
                </a:lnTo>
                <a:lnTo>
                  <a:pt x="1551" y="739"/>
                </a:lnTo>
                <a:lnTo>
                  <a:pt x="1564" y="743"/>
                </a:lnTo>
                <a:lnTo>
                  <a:pt x="1579" y="747"/>
                </a:lnTo>
                <a:lnTo>
                  <a:pt x="1593" y="749"/>
                </a:lnTo>
                <a:lnTo>
                  <a:pt x="1606" y="753"/>
                </a:lnTo>
                <a:lnTo>
                  <a:pt x="1620" y="756"/>
                </a:lnTo>
                <a:lnTo>
                  <a:pt x="1631" y="758"/>
                </a:lnTo>
                <a:lnTo>
                  <a:pt x="1645" y="762"/>
                </a:lnTo>
                <a:lnTo>
                  <a:pt x="1654" y="766"/>
                </a:lnTo>
                <a:lnTo>
                  <a:pt x="1666" y="768"/>
                </a:lnTo>
                <a:lnTo>
                  <a:pt x="1677" y="772"/>
                </a:lnTo>
                <a:lnTo>
                  <a:pt x="1687" y="774"/>
                </a:lnTo>
                <a:lnTo>
                  <a:pt x="1696" y="776"/>
                </a:lnTo>
                <a:lnTo>
                  <a:pt x="1704" y="779"/>
                </a:lnTo>
                <a:lnTo>
                  <a:pt x="1714" y="781"/>
                </a:lnTo>
                <a:lnTo>
                  <a:pt x="1721" y="783"/>
                </a:lnTo>
                <a:lnTo>
                  <a:pt x="1727" y="785"/>
                </a:lnTo>
                <a:lnTo>
                  <a:pt x="1735" y="789"/>
                </a:lnTo>
                <a:lnTo>
                  <a:pt x="1741" y="791"/>
                </a:lnTo>
                <a:lnTo>
                  <a:pt x="1746" y="793"/>
                </a:lnTo>
                <a:lnTo>
                  <a:pt x="1752" y="795"/>
                </a:lnTo>
                <a:lnTo>
                  <a:pt x="1758" y="797"/>
                </a:lnTo>
                <a:lnTo>
                  <a:pt x="1762" y="799"/>
                </a:lnTo>
                <a:lnTo>
                  <a:pt x="1766" y="800"/>
                </a:lnTo>
                <a:lnTo>
                  <a:pt x="1769" y="802"/>
                </a:lnTo>
                <a:lnTo>
                  <a:pt x="1771" y="802"/>
                </a:lnTo>
                <a:lnTo>
                  <a:pt x="1773" y="804"/>
                </a:lnTo>
                <a:lnTo>
                  <a:pt x="1775" y="806"/>
                </a:lnTo>
                <a:lnTo>
                  <a:pt x="1777" y="808"/>
                </a:lnTo>
                <a:lnTo>
                  <a:pt x="1777" y="810"/>
                </a:lnTo>
                <a:lnTo>
                  <a:pt x="1777" y="816"/>
                </a:lnTo>
                <a:lnTo>
                  <a:pt x="1775" y="820"/>
                </a:lnTo>
                <a:lnTo>
                  <a:pt x="1773" y="824"/>
                </a:lnTo>
                <a:lnTo>
                  <a:pt x="1771" y="827"/>
                </a:lnTo>
                <a:lnTo>
                  <a:pt x="1767" y="831"/>
                </a:lnTo>
                <a:lnTo>
                  <a:pt x="1762" y="835"/>
                </a:lnTo>
                <a:lnTo>
                  <a:pt x="1756" y="839"/>
                </a:lnTo>
                <a:lnTo>
                  <a:pt x="1750" y="843"/>
                </a:lnTo>
                <a:lnTo>
                  <a:pt x="1742" y="847"/>
                </a:lnTo>
                <a:lnTo>
                  <a:pt x="1735" y="850"/>
                </a:lnTo>
                <a:lnTo>
                  <a:pt x="1725" y="854"/>
                </a:lnTo>
                <a:lnTo>
                  <a:pt x="1716" y="858"/>
                </a:lnTo>
                <a:lnTo>
                  <a:pt x="1704" y="862"/>
                </a:lnTo>
                <a:lnTo>
                  <a:pt x="1693" y="866"/>
                </a:lnTo>
                <a:lnTo>
                  <a:pt x="1681" y="872"/>
                </a:lnTo>
                <a:lnTo>
                  <a:pt x="1668" y="875"/>
                </a:lnTo>
                <a:lnTo>
                  <a:pt x="1602" y="895"/>
                </a:lnTo>
                <a:lnTo>
                  <a:pt x="1570" y="904"/>
                </a:lnTo>
                <a:lnTo>
                  <a:pt x="1537" y="914"/>
                </a:lnTo>
                <a:lnTo>
                  <a:pt x="1504" y="921"/>
                </a:lnTo>
                <a:lnTo>
                  <a:pt x="1472" y="929"/>
                </a:lnTo>
                <a:lnTo>
                  <a:pt x="1439" y="935"/>
                </a:lnTo>
                <a:lnTo>
                  <a:pt x="1409" y="941"/>
                </a:lnTo>
                <a:lnTo>
                  <a:pt x="1389" y="944"/>
                </a:lnTo>
                <a:lnTo>
                  <a:pt x="1372" y="946"/>
                </a:lnTo>
                <a:lnTo>
                  <a:pt x="1355" y="946"/>
                </a:lnTo>
                <a:lnTo>
                  <a:pt x="1338" y="948"/>
                </a:lnTo>
                <a:lnTo>
                  <a:pt x="1322" y="950"/>
                </a:lnTo>
                <a:lnTo>
                  <a:pt x="1307" y="950"/>
                </a:lnTo>
                <a:lnTo>
                  <a:pt x="1291" y="952"/>
                </a:lnTo>
                <a:lnTo>
                  <a:pt x="1278" y="952"/>
                </a:lnTo>
                <a:lnTo>
                  <a:pt x="1265" y="954"/>
                </a:lnTo>
                <a:lnTo>
                  <a:pt x="1251" y="954"/>
                </a:lnTo>
                <a:lnTo>
                  <a:pt x="1238" y="954"/>
                </a:lnTo>
                <a:lnTo>
                  <a:pt x="1226" y="954"/>
                </a:lnTo>
                <a:lnTo>
                  <a:pt x="1215" y="954"/>
                </a:lnTo>
                <a:lnTo>
                  <a:pt x="1205" y="954"/>
                </a:lnTo>
                <a:lnTo>
                  <a:pt x="1195" y="954"/>
                </a:lnTo>
                <a:lnTo>
                  <a:pt x="1186" y="95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Freeform 108"/>
          <p:cNvSpPr/>
          <p:nvPr/>
        </p:nvSpPr>
        <p:spPr>
          <a:xfrm>
            <a:off x="6010200" y="4006800"/>
            <a:ext cx="1109880" cy="912960"/>
          </a:xfrm>
          <a:custGeom>
            <a:avLst/>
            <a:gdLst/>
            <a:ahLst/>
            <a:rect l="l" t="t" r="r" b="b"/>
            <a:pathLst>
              <a:path w="1398" h="1150">
                <a:moveTo>
                  <a:pt x="855" y="902"/>
                </a:moveTo>
                <a:lnTo>
                  <a:pt x="803" y="931"/>
                </a:lnTo>
                <a:lnTo>
                  <a:pt x="753" y="958"/>
                </a:lnTo>
                <a:lnTo>
                  <a:pt x="701" y="985"/>
                </a:lnTo>
                <a:lnTo>
                  <a:pt x="649" y="1008"/>
                </a:lnTo>
                <a:lnTo>
                  <a:pt x="622" y="1019"/>
                </a:lnTo>
                <a:lnTo>
                  <a:pt x="595" y="1031"/>
                </a:lnTo>
                <a:lnTo>
                  <a:pt x="571" y="1040"/>
                </a:lnTo>
                <a:lnTo>
                  <a:pt x="544" y="1050"/>
                </a:lnTo>
                <a:lnTo>
                  <a:pt x="517" y="1059"/>
                </a:lnTo>
                <a:lnTo>
                  <a:pt x="490" y="1069"/>
                </a:lnTo>
                <a:lnTo>
                  <a:pt x="461" y="1077"/>
                </a:lnTo>
                <a:lnTo>
                  <a:pt x="434" y="1084"/>
                </a:lnTo>
                <a:lnTo>
                  <a:pt x="407" y="1092"/>
                </a:lnTo>
                <a:lnTo>
                  <a:pt x="381" y="1100"/>
                </a:lnTo>
                <a:lnTo>
                  <a:pt x="356" y="1106"/>
                </a:lnTo>
                <a:lnTo>
                  <a:pt x="331" y="1111"/>
                </a:lnTo>
                <a:lnTo>
                  <a:pt x="306" y="1117"/>
                </a:lnTo>
                <a:lnTo>
                  <a:pt x="285" y="1123"/>
                </a:lnTo>
                <a:lnTo>
                  <a:pt x="261" y="1129"/>
                </a:lnTo>
                <a:lnTo>
                  <a:pt x="240" y="1132"/>
                </a:lnTo>
                <a:lnTo>
                  <a:pt x="221" y="1136"/>
                </a:lnTo>
                <a:lnTo>
                  <a:pt x="202" y="1140"/>
                </a:lnTo>
                <a:lnTo>
                  <a:pt x="185" y="1144"/>
                </a:lnTo>
                <a:lnTo>
                  <a:pt x="169" y="1146"/>
                </a:lnTo>
                <a:lnTo>
                  <a:pt x="152" y="1148"/>
                </a:lnTo>
                <a:lnTo>
                  <a:pt x="139" y="1150"/>
                </a:lnTo>
                <a:lnTo>
                  <a:pt x="125" y="1150"/>
                </a:lnTo>
                <a:lnTo>
                  <a:pt x="114" y="1150"/>
                </a:lnTo>
                <a:lnTo>
                  <a:pt x="100" y="1150"/>
                </a:lnTo>
                <a:lnTo>
                  <a:pt x="87" y="1150"/>
                </a:lnTo>
                <a:lnTo>
                  <a:pt x="75" y="1150"/>
                </a:lnTo>
                <a:lnTo>
                  <a:pt x="64" y="1148"/>
                </a:lnTo>
                <a:lnTo>
                  <a:pt x="54" y="1146"/>
                </a:lnTo>
                <a:lnTo>
                  <a:pt x="45" y="1146"/>
                </a:lnTo>
                <a:lnTo>
                  <a:pt x="37" y="1144"/>
                </a:lnTo>
                <a:lnTo>
                  <a:pt x="29" y="1142"/>
                </a:lnTo>
                <a:lnTo>
                  <a:pt x="23" y="1140"/>
                </a:lnTo>
                <a:lnTo>
                  <a:pt x="18" y="1138"/>
                </a:lnTo>
                <a:lnTo>
                  <a:pt x="12" y="1136"/>
                </a:lnTo>
                <a:lnTo>
                  <a:pt x="8" y="1134"/>
                </a:lnTo>
                <a:lnTo>
                  <a:pt x="6" y="1132"/>
                </a:lnTo>
                <a:lnTo>
                  <a:pt x="4" y="1129"/>
                </a:lnTo>
                <a:lnTo>
                  <a:pt x="2" y="1127"/>
                </a:lnTo>
                <a:lnTo>
                  <a:pt x="2" y="1125"/>
                </a:lnTo>
                <a:lnTo>
                  <a:pt x="0" y="1123"/>
                </a:lnTo>
                <a:lnTo>
                  <a:pt x="0" y="1121"/>
                </a:lnTo>
                <a:lnTo>
                  <a:pt x="2" y="1119"/>
                </a:lnTo>
                <a:lnTo>
                  <a:pt x="4" y="1117"/>
                </a:lnTo>
                <a:lnTo>
                  <a:pt x="6" y="1115"/>
                </a:lnTo>
                <a:lnTo>
                  <a:pt x="8" y="1113"/>
                </a:lnTo>
                <a:lnTo>
                  <a:pt x="12" y="1111"/>
                </a:lnTo>
                <a:lnTo>
                  <a:pt x="16" y="1109"/>
                </a:lnTo>
                <a:lnTo>
                  <a:pt x="20" y="1107"/>
                </a:lnTo>
                <a:lnTo>
                  <a:pt x="23" y="1106"/>
                </a:lnTo>
                <a:lnTo>
                  <a:pt x="29" y="1104"/>
                </a:lnTo>
                <a:lnTo>
                  <a:pt x="35" y="1102"/>
                </a:lnTo>
                <a:lnTo>
                  <a:pt x="41" y="1098"/>
                </a:lnTo>
                <a:lnTo>
                  <a:pt x="48" y="1096"/>
                </a:lnTo>
                <a:lnTo>
                  <a:pt x="56" y="1094"/>
                </a:lnTo>
                <a:lnTo>
                  <a:pt x="64" y="1090"/>
                </a:lnTo>
                <a:lnTo>
                  <a:pt x="73" y="1088"/>
                </a:lnTo>
                <a:lnTo>
                  <a:pt x="83" y="1084"/>
                </a:lnTo>
                <a:lnTo>
                  <a:pt x="93" y="1081"/>
                </a:lnTo>
                <a:lnTo>
                  <a:pt x="102" y="1079"/>
                </a:lnTo>
                <a:lnTo>
                  <a:pt x="114" y="1075"/>
                </a:lnTo>
                <a:lnTo>
                  <a:pt x="123" y="1071"/>
                </a:lnTo>
                <a:lnTo>
                  <a:pt x="137" y="1067"/>
                </a:lnTo>
                <a:lnTo>
                  <a:pt x="148" y="1063"/>
                </a:lnTo>
                <a:lnTo>
                  <a:pt x="162" y="1059"/>
                </a:lnTo>
                <a:lnTo>
                  <a:pt x="175" y="1056"/>
                </a:lnTo>
                <a:lnTo>
                  <a:pt x="189" y="1052"/>
                </a:lnTo>
                <a:lnTo>
                  <a:pt x="202" y="1046"/>
                </a:lnTo>
                <a:lnTo>
                  <a:pt x="217" y="1042"/>
                </a:lnTo>
                <a:lnTo>
                  <a:pt x="233" y="1038"/>
                </a:lnTo>
                <a:lnTo>
                  <a:pt x="250" y="1033"/>
                </a:lnTo>
                <a:lnTo>
                  <a:pt x="279" y="1023"/>
                </a:lnTo>
                <a:lnTo>
                  <a:pt x="309" y="1011"/>
                </a:lnTo>
                <a:lnTo>
                  <a:pt x="338" y="1000"/>
                </a:lnTo>
                <a:lnTo>
                  <a:pt x="369" y="988"/>
                </a:lnTo>
                <a:lnTo>
                  <a:pt x="400" y="977"/>
                </a:lnTo>
                <a:lnTo>
                  <a:pt x="428" y="963"/>
                </a:lnTo>
                <a:lnTo>
                  <a:pt x="457" y="950"/>
                </a:lnTo>
                <a:lnTo>
                  <a:pt x="486" y="937"/>
                </a:lnTo>
                <a:lnTo>
                  <a:pt x="544" y="908"/>
                </a:lnTo>
                <a:lnTo>
                  <a:pt x="599" y="877"/>
                </a:lnTo>
                <a:lnTo>
                  <a:pt x="628" y="860"/>
                </a:lnTo>
                <a:lnTo>
                  <a:pt x="655" y="844"/>
                </a:lnTo>
                <a:lnTo>
                  <a:pt x="680" y="827"/>
                </a:lnTo>
                <a:lnTo>
                  <a:pt x="707" y="810"/>
                </a:lnTo>
                <a:lnTo>
                  <a:pt x="730" y="793"/>
                </a:lnTo>
                <a:lnTo>
                  <a:pt x="755" y="773"/>
                </a:lnTo>
                <a:lnTo>
                  <a:pt x="778" y="754"/>
                </a:lnTo>
                <a:lnTo>
                  <a:pt x="801" y="735"/>
                </a:lnTo>
                <a:lnTo>
                  <a:pt x="822" y="714"/>
                </a:lnTo>
                <a:lnTo>
                  <a:pt x="843" y="691"/>
                </a:lnTo>
                <a:lnTo>
                  <a:pt x="864" y="670"/>
                </a:lnTo>
                <a:lnTo>
                  <a:pt x="883" y="647"/>
                </a:lnTo>
                <a:lnTo>
                  <a:pt x="903" y="624"/>
                </a:lnTo>
                <a:lnTo>
                  <a:pt x="920" y="599"/>
                </a:lnTo>
                <a:lnTo>
                  <a:pt x="937" y="574"/>
                </a:lnTo>
                <a:lnTo>
                  <a:pt x="954" y="549"/>
                </a:lnTo>
                <a:lnTo>
                  <a:pt x="970" y="524"/>
                </a:lnTo>
                <a:lnTo>
                  <a:pt x="985" y="497"/>
                </a:lnTo>
                <a:lnTo>
                  <a:pt x="1000" y="472"/>
                </a:lnTo>
                <a:lnTo>
                  <a:pt x="1014" y="445"/>
                </a:lnTo>
                <a:lnTo>
                  <a:pt x="1027" y="418"/>
                </a:lnTo>
                <a:lnTo>
                  <a:pt x="1039" y="393"/>
                </a:lnTo>
                <a:lnTo>
                  <a:pt x="1050" y="368"/>
                </a:lnTo>
                <a:lnTo>
                  <a:pt x="1060" y="345"/>
                </a:lnTo>
                <a:lnTo>
                  <a:pt x="1070" y="324"/>
                </a:lnTo>
                <a:lnTo>
                  <a:pt x="1077" y="305"/>
                </a:lnTo>
                <a:lnTo>
                  <a:pt x="1083" y="286"/>
                </a:lnTo>
                <a:lnTo>
                  <a:pt x="1089" y="269"/>
                </a:lnTo>
                <a:lnTo>
                  <a:pt x="1095" y="253"/>
                </a:lnTo>
                <a:lnTo>
                  <a:pt x="1098" y="240"/>
                </a:lnTo>
                <a:lnTo>
                  <a:pt x="1100" y="226"/>
                </a:lnTo>
                <a:lnTo>
                  <a:pt x="1102" y="215"/>
                </a:lnTo>
                <a:lnTo>
                  <a:pt x="1104" y="205"/>
                </a:lnTo>
                <a:lnTo>
                  <a:pt x="1104" y="196"/>
                </a:lnTo>
                <a:lnTo>
                  <a:pt x="1102" y="188"/>
                </a:lnTo>
                <a:lnTo>
                  <a:pt x="1100" y="182"/>
                </a:lnTo>
                <a:lnTo>
                  <a:pt x="1098" y="180"/>
                </a:lnTo>
                <a:lnTo>
                  <a:pt x="1093" y="178"/>
                </a:lnTo>
                <a:lnTo>
                  <a:pt x="1087" y="177"/>
                </a:lnTo>
                <a:lnTo>
                  <a:pt x="1077" y="177"/>
                </a:lnTo>
                <a:lnTo>
                  <a:pt x="1068" y="175"/>
                </a:lnTo>
                <a:lnTo>
                  <a:pt x="1056" y="175"/>
                </a:lnTo>
                <a:lnTo>
                  <a:pt x="1043" y="175"/>
                </a:lnTo>
                <a:lnTo>
                  <a:pt x="1029" y="177"/>
                </a:lnTo>
                <a:lnTo>
                  <a:pt x="1012" y="178"/>
                </a:lnTo>
                <a:lnTo>
                  <a:pt x="995" y="180"/>
                </a:lnTo>
                <a:lnTo>
                  <a:pt x="974" y="182"/>
                </a:lnTo>
                <a:lnTo>
                  <a:pt x="952" y="186"/>
                </a:lnTo>
                <a:lnTo>
                  <a:pt x="931" y="190"/>
                </a:lnTo>
                <a:lnTo>
                  <a:pt x="906" y="196"/>
                </a:lnTo>
                <a:lnTo>
                  <a:pt x="881" y="201"/>
                </a:lnTo>
                <a:lnTo>
                  <a:pt x="855" y="209"/>
                </a:lnTo>
                <a:lnTo>
                  <a:pt x="828" y="217"/>
                </a:lnTo>
                <a:lnTo>
                  <a:pt x="801" y="223"/>
                </a:lnTo>
                <a:lnTo>
                  <a:pt x="778" y="228"/>
                </a:lnTo>
                <a:lnTo>
                  <a:pt x="755" y="234"/>
                </a:lnTo>
                <a:lnTo>
                  <a:pt x="734" y="240"/>
                </a:lnTo>
                <a:lnTo>
                  <a:pt x="713" y="244"/>
                </a:lnTo>
                <a:lnTo>
                  <a:pt x="693" y="248"/>
                </a:lnTo>
                <a:lnTo>
                  <a:pt x="676" y="249"/>
                </a:lnTo>
                <a:lnTo>
                  <a:pt x="661" y="253"/>
                </a:lnTo>
                <a:lnTo>
                  <a:pt x="645" y="255"/>
                </a:lnTo>
                <a:lnTo>
                  <a:pt x="632" y="257"/>
                </a:lnTo>
                <a:lnTo>
                  <a:pt x="620" y="259"/>
                </a:lnTo>
                <a:lnTo>
                  <a:pt x="609" y="261"/>
                </a:lnTo>
                <a:lnTo>
                  <a:pt x="599" y="261"/>
                </a:lnTo>
                <a:lnTo>
                  <a:pt x="590" y="261"/>
                </a:lnTo>
                <a:lnTo>
                  <a:pt x="582" y="261"/>
                </a:lnTo>
                <a:lnTo>
                  <a:pt x="569" y="261"/>
                </a:lnTo>
                <a:lnTo>
                  <a:pt x="557" y="259"/>
                </a:lnTo>
                <a:lnTo>
                  <a:pt x="544" y="257"/>
                </a:lnTo>
                <a:lnTo>
                  <a:pt x="532" y="253"/>
                </a:lnTo>
                <a:lnTo>
                  <a:pt x="521" y="249"/>
                </a:lnTo>
                <a:lnTo>
                  <a:pt x="509" y="246"/>
                </a:lnTo>
                <a:lnTo>
                  <a:pt x="498" y="240"/>
                </a:lnTo>
                <a:lnTo>
                  <a:pt x="484" y="236"/>
                </a:lnTo>
                <a:lnTo>
                  <a:pt x="476" y="232"/>
                </a:lnTo>
                <a:lnTo>
                  <a:pt x="471" y="230"/>
                </a:lnTo>
                <a:lnTo>
                  <a:pt x="465" y="226"/>
                </a:lnTo>
                <a:lnTo>
                  <a:pt x="461" y="223"/>
                </a:lnTo>
                <a:lnTo>
                  <a:pt x="455" y="219"/>
                </a:lnTo>
                <a:lnTo>
                  <a:pt x="452" y="215"/>
                </a:lnTo>
                <a:lnTo>
                  <a:pt x="446" y="207"/>
                </a:lnTo>
                <a:lnTo>
                  <a:pt x="440" y="198"/>
                </a:lnTo>
                <a:lnTo>
                  <a:pt x="436" y="190"/>
                </a:lnTo>
                <a:lnTo>
                  <a:pt x="434" y="180"/>
                </a:lnTo>
                <a:lnTo>
                  <a:pt x="434" y="171"/>
                </a:lnTo>
                <a:lnTo>
                  <a:pt x="471" y="165"/>
                </a:lnTo>
                <a:lnTo>
                  <a:pt x="505" y="159"/>
                </a:lnTo>
                <a:lnTo>
                  <a:pt x="540" y="155"/>
                </a:lnTo>
                <a:lnTo>
                  <a:pt x="572" y="150"/>
                </a:lnTo>
                <a:lnTo>
                  <a:pt x="605" y="146"/>
                </a:lnTo>
                <a:lnTo>
                  <a:pt x="636" y="140"/>
                </a:lnTo>
                <a:lnTo>
                  <a:pt x="665" y="136"/>
                </a:lnTo>
                <a:lnTo>
                  <a:pt x="691" y="130"/>
                </a:lnTo>
                <a:lnTo>
                  <a:pt x="718" y="125"/>
                </a:lnTo>
                <a:lnTo>
                  <a:pt x="743" y="121"/>
                </a:lnTo>
                <a:lnTo>
                  <a:pt x="768" y="115"/>
                </a:lnTo>
                <a:lnTo>
                  <a:pt x="789" y="111"/>
                </a:lnTo>
                <a:lnTo>
                  <a:pt x="810" y="105"/>
                </a:lnTo>
                <a:lnTo>
                  <a:pt x="832" y="102"/>
                </a:lnTo>
                <a:lnTo>
                  <a:pt x="849" y="96"/>
                </a:lnTo>
                <a:lnTo>
                  <a:pt x="866" y="92"/>
                </a:lnTo>
                <a:lnTo>
                  <a:pt x="881" y="88"/>
                </a:lnTo>
                <a:lnTo>
                  <a:pt x="897" y="86"/>
                </a:lnTo>
                <a:lnTo>
                  <a:pt x="910" y="82"/>
                </a:lnTo>
                <a:lnTo>
                  <a:pt x="924" y="79"/>
                </a:lnTo>
                <a:lnTo>
                  <a:pt x="937" y="75"/>
                </a:lnTo>
                <a:lnTo>
                  <a:pt x="949" y="71"/>
                </a:lnTo>
                <a:lnTo>
                  <a:pt x="960" y="67"/>
                </a:lnTo>
                <a:lnTo>
                  <a:pt x="972" y="63"/>
                </a:lnTo>
                <a:lnTo>
                  <a:pt x="981" y="59"/>
                </a:lnTo>
                <a:lnTo>
                  <a:pt x="991" y="56"/>
                </a:lnTo>
                <a:lnTo>
                  <a:pt x="1000" y="50"/>
                </a:lnTo>
                <a:lnTo>
                  <a:pt x="1008" y="46"/>
                </a:lnTo>
                <a:lnTo>
                  <a:pt x="1025" y="36"/>
                </a:lnTo>
                <a:lnTo>
                  <a:pt x="1039" y="27"/>
                </a:lnTo>
                <a:lnTo>
                  <a:pt x="1052" y="21"/>
                </a:lnTo>
                <a:lnTo>
                  <a:pt x="1066" y="15"/>
                </a:lnTo>
                <a:lnTo>
                  <a:pt x="1077" y="11"/>
                </a:lnTo>
                <a:lnTo>
                  <a:pt x="1087" y="8"/>
                </a:lnTo>
                <a:lnTo>
                  <a:pt x="1096" y="4"/>
                </a:lnTo>
                <a:lnTo>
                  <a:pt x="1106" y="2"/>
                </a:lnTo>
                <a:lnTo>
                  <a:pt x="1116" y="0"/>
                </a:lnTo>
                <a:lnTo>
                  <a:pt x="1125" y="0"/>
                </a:lnTo>
                <a:lnTo>
                  <a:pt x="1129" y="2"/>
                </a:lnTo>
                <a:lnTo>
                  <a:pt x="1133" y="6"/>
                </a:lnTo>
                <a:lnTo>
                  <a:pt x="1137" y="10"/>
                </a:lnTo>
                <a:lnTo>
                  <a:pt x="1143" y="11"/>
                </a:lnTo>
                <a:lnTo>
                  <a:pt x="1148" y="15"/>
                </a:lnTo>
                <a:lnTo>
                  <a:pt x="1156" y="19"/>
                </a:lnTo>
                <a:lnTo>
                  <a:pt x="1164" y="25"/>
                </a:lnTo>
                <a:lnTo>
                  <a:pt x="1171" y="29"/>
                </a:lnTo>
                <a:lnTo>
                  <a:pt x="1181" y="34"/>
                </a:lnTo>
                <a:lnTo>
                  <a:pt x="1192" y="40"/>
                </a:lnTo>
                <a:lnTo>
                  <a:pt x="1204" y="44"/>
                </a:lnTo>
                <a:lnTo>
                  <a:pt x="1215" y="52"/>
                </a:lnTo>
                <a:lnTo>
                  <a:pt x="1229" y="58"/>
                </a:lnTo>
                <a:lnTo>
                  <a:pt x="1242" y="63"/>
                </a:lnTo>
                <a:lnTo>
                  <a:pt x="1258" y="71"/>
                </a:lnTo>
                <a:lnTo>
                  <a:pt x="1273" y="79"/>
                </a:lnTo>
                <a:lnTo>
                  <a:pt x="1288" y="86"/>
                </a:lnTo>
                <a:lnTo>
                  <a:pt x="1304" y="94"/>
                </a:lnTo>
                <a:lnTo>
                  <a:pt x="1317" y="100"/>
                </a:lnTo>
                <a:lnTo>
                  <a:pt x="1329" y="107"/>
                </a:lnTo>
                <a:lnTo>
                  <a:pt x="1340" y="115"/>
                </a:lnTo>
                <a:lnTo>
                  <a:pt x="1350" y="123"/>
                </a:lnTo>
                <a:lnTo>
                  <a:pt x="1359" y="129"/>
                </a:lnTo>
                <a:lnTo>
                  <a:pt x="1367" y="136"/>
                </a:lnTo>
                <a:lnTo>
                  <a:pt x="1375" y="142"/>
                </a:lnTo>
                <a:lnTo>
                  <a:pt x="1381" y="150"/>
                </a:lnTo>
                <a:lnTo>
                  <a:pt x="1386" y="155"/>
                </a:lnTo>
                <a:lnTo>
                  <a:pt x="1390" y="161"/>
                </a:lnTo>
                <a:lnTo>
                  <a:pt x="1394" y="167"/>
                </a:lnTo>
                <a:lnTo>
                  <a:pt x="1396" y="173"/>
                </a:lnTo>
                <a:lnTo>
                  <a:pt x="1398" y="178"/>
                </a:lnTo>
                <a:lnTo>
                  <a:pt x="1398" y="182"/>
                </a:lnTo>
                <a:lnTo>
                  <a:pt x="1396" y="198"/>
                </a:lnTo>
                <a:lnTo>
                  <a:pt x="1394" y="209"/>
                </a:lnTo>
                <a:lnTo>
                  <a:pt x="1392" y="221"/>
                </a:lnTo>
                <a:lnTo>
                  <a:pt x="1386" y="232"/>
                </a:lnTo>
                <a:lnTo>
                  <a:pt x="1381" y="242"/>
                </a:lnTo>
                <a:lnTo>
                  <a:pt x="1377" y="246"/>
                </a:lnTo>
                <a:lnTo>
                  <a:pt x="1371" y="249"/>
                </a:lnTo>
                <a:lnTo>
                  <a:pt x="1367" y="253"/>
                </a:lnTo>
                <a:lnTo>
                  <a:pt x="1361" y="255"/>
                </a:lnTo>
                <a:lnTo>
                  <a:pt x="1354" y="259"/>
                </a:lnTo>
                <a:lnTo>
                  <a:pt x="1348" y="261"/>
                </a:lnTo>
                <a:lnTo>
                  <a:pt x="1340" y="267"/>
                </a:lnTo>
                <a:lnTo>
                  <a:pt x="1333" y="274"/>
                </a:lnTo>
                <a:lnTo>
                  <a:pt x="1325" y="284"/>
                </a:lnTo>
                <a:lnTo>
                  <a:pt x="1317" y="294"/>
                </a:lnTo>
                <a:lnTo>
                  <a:pt x="1309" y="305"/>
                </a:lnTo>
                <a:lnTo>
                  <a:pt x="1300" y="319"/>
                </a:lnTo>
                <a:lnTo>
                  <a:pt x="1290" y="334"/>
                </a:lnTo>
                <a:lnTo>
                  <a:pt x="1279" y="349"/>
                </a:lnTo>
                <a:lnTo>
                  <a:pt x="1269" y="367"/>
                </a:lnTo>
                <a:lnTo>
                  <a:pt x="1258" y="388"/>
                </a:lnTo>
                <a:lnTo>
                  <a:pt x="1246" y="407"/>
                </a:lnTo>
                <a:lnTo>
                  <a:pt x="1233" y="430"/>
                </a:lnTo>
                <a:lnTo>
                  <a:pt x="1219" y="455"/>
                </a:lnTo>
                <a:lnTo>
                  <a:pt x="1206" y="480"/>
                </a:lnTo>
                <a:lnTo>
                  <a:pt x="1190" y="507"/>
                </a:lnTo>
                <a:lnTo>
                  <a:pt x="1175" y="535"/>
                </a:lnTo>
                <a:lnTo>
                  <a:pt x="1160" y="564"/>
                </a:lnTo>
                <a:lnTo>
                  <a:pt x="1143" y="593"/>
                </a:lnTo>
                <a:lnTo>
                  <a:pt x="1125" y="620"/>
                </a:lnTo>
                <a:lnTo>
                  <a:pt x="1108" y="647"/>
                </a:lnTo>
                <a:lnTo>
                  <a:pt x="1091" y="672"/>
                </a:lnTo>
                <a:lnTo>
                  <a:pt x="1071" y="697"/>
                </a:lnTo>
                <a:lnTo>
                  <a:pt x="1052" y="720"/>
                </a:lnTo>
                <a:lnTo>
                  <a:pt x="1033" y="743"/>
                </a:lnTo>
                <a:lnTo>
                  <a:pt x="1014" y="766"/>
                </a:lnTo>
                <a:lnTo>
                  <a:pt x="993" y="787"/>
                </a:lnTo>
                <a:lnTo>
                  <a:pt x="972" y="808"/>
                </a:lnTo>
                <a:lnTo>
                  <a:pt x="949" y="827"/>
                </a:lnTo>
                <a:lnTo>
                  <a:pt x="926" y="846"/>
                </a:lnTo>
                <a:lnTo>
                  <a:pt x="903" y="866"/>
                </a:lnTo>
                <a:lnTo>
                  <a:pt x="880" y="885"/>
                </a:lnTo>
                <a:lnTo>
                  <a:pt x="855" y="90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Freeform 109"/>
          <p:cNvSpPr/>
          <p:nvPr/>
        </p:nvSpPr>
        <p:spPr>
          <a:xfrm>
            <a:off x="6227640" y="3611520"/>
            <a:ext cx="1411560" cy="387360"/>
          </a:xfrm>
          <a:custGeom>
            <a:avLst/>
            <a:gdLst/>
            <a:ahLst/>
            <a:rect l="l" t="t" r="r" b="b"/>
            <a:pathLst>
              <a:path w="1779" h="487">
                <a:moveTo>
                  <a:pt x="1445" y="405"/>
                </a:moveTo>
                <a:lnTo>
                  <a:pt x="1430" y="416"/>
                </a:lnTo>
                <a:lnTo>
                  <a:pt x="1415" y="428"/>
                </a:lnTo>
                <a:lnTo>
                  <a:pt x="1401" y="437"/>
                </a:lnTo>
                <a:lnTo>
                  <a:pt x="1390" y="447"/>
                </a:lnTo>
                <a:lnTo>
                  <a:pt x="1378" y="455"/>
                </a:lnTo>
                <a:lnTo>
                  <a:pt x="1369" y="462"/>
                </a:lnTo>
                <a:lnTo>
                  <a:pt x="1359" y="468"/>
                </a:lnTo>
                <a:lnTo>
                  <a:pt x="1349" y="474"/>
                </a:lnTo>
                <a:lnTo>
                  <a:pt x="1342" y="478"/>
                </a:lnTo>
                <a:lnTo>
                  <a:pt x="1336" y="482"/>
                </a:lnTo>
                <a:lnTo>
                  <a:pt x="1328" y="485"/>
                </a:lnTo>
                <a:lnTo>
                  <a:pt x="1324" y="485"/>
                </a:lnTo>
                <a:lnTo>
                  <a:pt x="1319" y="487"/>
                </a:lnTo>
                <a:lnTo>
                  <a:pt x="1315" y="487"/>
                </a:lnTo>
                <a:lnTo>
                  <a:pt x="1313" y="485"/>
                </a:lnTo>
                <a:lnTo>
                  <a:pt x="1309" y="483"/>
                </a:lnTo>
                <a:lnTo>
                  <a:pt x="1307" y="482"/>
                </a:lnTo>
                <a:lnTo>
                  <a:pt x="1305" y="478"/>
                </a:lnTo>
                <a:lnTo>
                  <a:pt x="1303" y="474"/>
                </a:lnTo>
                <a:lnTo>
                  <a:pt x="1303" y="468"/>
                </a:lnTo>
                <a:lnTo>
                  <a:pt x="1303" y="462"/>
                </a:lnTo>
                <a:lnTo>
                  <a:pt x="1301" y="457"/>
                </a:lnTo>
                <a:lnTo>
                  <a:pt x="1303" y="449"/>
                </a:lnTo>
                <a:lnTo>
                  <a:pt x="1303" y="441"/>
                </a:lnTo>
                <a:lnTo>
                  <a:pt x="1305" y="432"/>
                </a:lnTo>
                <a:lnTo>
                  <a:pt x="1307" y="422"/>
                </a:lnTo>
                <a:lnTo>
                  <a:pt x="1309" y="411"/>
                </a:lnTo>
                <a:lnTo>
                  <a:pt x="1313" y="399"/>
                </a:lnTo>
                <a:lnTo>
                  <a:pt x="1317" y="386"/>
                </a:lnTo>
                <a:lnTo>
                  <a:pt x="1322" y="372"/>
                </a:lnTo>
                <a:lnTo>
                  <a:pt x="1328" y="357"/>
                </a:lnTo>
                <a:lnTo>
                  <a:pt x="1334" y="340"/>
                </a:lnTo>
                <a:lnTo>
                  <a:pt x="1340" y="326"/>
                </a:lnTo>
                <a:lnTo>
                  <a:pt x="1347" y="313"/>
                </a:lnTo>
                <a:lnTo>
                  <a:pt x="1351" y="299"/>
                </a:lnTo>
                <a:lnTo>
                  <a:pt x="1357" y="286"/>
                </a:lnTo>
                <a:lnTo>
                  <a:pt x="1361" y="274"/>
                </a:lnTo>
                <a:lnTo>
                  <a:pt x="1365" y="263"/>
                </a:lnTo>
                <a:lnTo>
                  <a:pt x="1369" y="253"/>
                </a:lnTo>
                <a:lnTo>
                  <a:pt x="1370" y="244"/>
                </a:lnTo>
                <a:lnTo>
                  <a:pt x="1372" y="234"/>
                </a:lnTo>
                <a:lnTo>
                  <a:pt x="1374" y="226"/>
                </a:lnTo>
                <a:lnTo>
                  <a:pt x="1376" y="221"/>
                </a:lnTo>
                <a:lnTo>
                  <a:pt x="1376" y="213"/>
                </a:lnTo>
                <a:lnTo>
                  <a:pt x="1376" y="207"/>
                </a:lnTo>
                <a:lnTo>
                  <a:pt x="1374" y="203"/>
                </a:lnTo>
                <a:lnTo>
                  <a:pt x="1372" y="199"/>
                </a:lnTo>
                <a:lnTo>
                  <a:pt x="1370" y="196"/>
                </a:lnTo>
                <a:lnTo>
                  <a:pt x="1369" y="194"/>
                </a:lnTo>
                <a:lnTo>
                  <a:pt x="1365" y="192"/>
                </a:lnTo>
                <a:lnTo>
                  <a:pt x="1361" y="190"/>
                </a:lnTo>
                <a:lnTo>
                  <a:pt x="1357" y="188"/>
                </a:lnTo>
                <a:lnTo>
                  <a:pt x="1347" y="186"/>
                </a:lnTo>
                <a:lnTo>
                  <a:pt x="1338" y="184"/>
                </a:lnTo>
                <a:lnTo>
                  <a:pt x="1324" y="184"/>
                </a:lnTo>
                <a:lnTo>
                  <a:pt x="1313" y="184"/>
                </a:lnTo>
                <a:lnTo>
                  <a:pt x="1298" y="184"/>
                </a:lnTo>
                <a:lnTo>
                  <a:pt x="1284" y="184"/>
                </a:lnTo>
                <a:lnTo>
                  <a:pt x="1282" y="184"/>
                </a:lnTo>
                <a:lnTo>
                  <a:pt x="1280" y="184"/>
                </a:lnTo>
                <a:lnTo>
                  <a:pt x="1276" y="184"/>
                </a:lnTo>
                <a:lnTo>
                  <a:pt x="1273" y="184"/>
                </a:lnTo>
                <a:lnTo>
                  <a:pt x="1269" y="184"/>
                </a:lnTo>
                <a:lnTo>
                  <a:pt x="1263" y="184"/>
                </a:lnTo>
                <a:lnTo>
                  <a:pt x="1259" y="186"/>
                </a:lnTo>
                <a:lnTo>
                  <a:pt x="1251" y="186"/>
                </a:lnTo>
                <a:lnTo>
                  <a:pt x="1246" y="186"/>
                </a:lnTo>
                <a:lnTo>
                  <a:pt x="1238" y="188"/>
                </a:lnTo>
                <a:lnTo>
                  <a:pt x="1230" y="188"/>
                </a:lnTo>
                <a:lnTo>
                  <a:pt x="1223" y="190"/>
                </a:lnTo>
                <a:lnTo>
                  <a:pt x="1213" y="192"/>
                </a:lnTo>
                <a:lnTo>
                  <a:pt x="1203" y="192"/>
                </a:lnTo>
                <a:lnTo>
                  <a:pt x="1194" y="194"/>
                </a:lnTo>
                <a:lnTo>
                  <a:pt x="1182" y="196"/>
                </a:lnTo>
                <a:lnTo>
                  <a:pt x="1171" y="196"/>
                </a:lnTo>
                <a:lnTo>
                  <a:pt x="1159" y="197"/>
                </a:lnTo>
                <a:lnTo>
                  <a:pt x="1148" y="199"/>
                </a:lnTo>
                <a:lnTo>
                  <a:pt x="1134" y="201"/>
                </a:lnTo>
                <a:lnTo>
                  <a:pt x="1121" y="203"/>
                </a:lnTo>
                <a:lnTo>
                  <a:pt x="1108" y="205"/>
                </a:lnTo>
                <a:lnTo>
                  <a:pt x="1092" y="207"/>
                </a:lnTo>
                <a:lnTo>
                  <a:pt x="1077" y="209"/>
                </a:lnTo>
                <a:lnTo>
                  <a:pt x="1061" y="211"/>
                </a:lnTo>
                <a:lnTo>
                  <a:pt x="1044" y="215"/>
                </a:lnTo>
                <a:lnTo>
                  <a:pt x="1027" y="217"/>
                </a:lnTo>
                <a:lnTo>
                  <a:pt x="1010" y="219"/>
                </a:lnTo>
                <a:lnTo>
                  <a:pt x="992" y="221"/>
                </a:lnTo>
                <a:lnTo>
                  <a:pt x="973" y="224"/>
                </a:lnTo>
                <a:lnTo>
                  <a:pt x="954" y="226"/>
                </a:lnTo>
                <a:lnTo>
                  <a:pt x="935" y="230"/>
                </a:lnTo>
                <a:lnTo>
                  <a:pt x="914" y="232"/>
                </a:lnTo>
                <a:lnTo>
                  <a:pt x="893" y="236"/>
                </a:lnTo>
                <a:lnTo>
                  <a:pt x="871" y="238"/>
                </a:lnTo>
                <a:lnTo>
                  <a:pt x="848" y="242"/>
                </a:lnTo>
                <a:lnTo>
                  <a:pt x="827" y="245"/>
                </a:lnTo>
                <a:lnTo>
                  <a:pt x="804" y="249"/>
                </a:lnTo>
                <a:lnTo>
                  <a:pt x="779" y="251"/>
                </a:lnTo>
                <a:lnTo>
                  <a:pt x="754" y="255"/>
                </a:lnTo>
                <a:lnTo>
                  <a:pt x="729" y="259"/>
                </a:lnTo>
                <a:lnTo>
                  <a:pt x="704" y="263"/>
                </a:lnTo>
                <a:lnTo>
                  <a:pt x="679" y="267"/>
                </a:lnTo>
                <a:lnTo>
                  <a:pt x="653" y="270"/>
                </a:lnTo>
                <a:lnTo>
                  <a:pt x="624" y="274"/>
                </a:lnTo>
                <a:lnTo>
                  <a:pt x="597" y="278"/>
                </a:lnTo>
                <a:lnTo>
                  <a:pt x="568" y="282"/>
                </a:lnTo>
                <a:lnTo>
                  <a:pt x="539" y="286"/>
                </a:lnTo>
                <a:lnTo>
                  <a:pt x="511" y="292"/>
                </a:lnTo>
                <a:lnTo>
                  <a:pt x="480" y="295"/>
                </a:lnTo>
                <a:lnTo>
                  <a:pt x="449" y="299"/>
                </a:lnTo>
                <a:lnTo>
                  <a:pt x="418" y="305"/>
                </a:lnTo>
                <a:lnTo>
                  <a:pt x="386" y="309"/>
                </a:lnTo>
                <a:lnTo>
                  <a:pt x="355" y="315"/>
                </a:lnTo>
                <a:lnTo>
                  <a:pt x="321" y="318"/>
                </a:lnTo>
                <a:lnTo>
                  <a:pt x="288" y="324"/>
                </a:lnTo>
                <a:lnTo>
                  <a:pt x="253" y="328"/>
                </a:lnTo>
                <a:lnTo>
                  <a:pt x="219" y="334"/>
                </a:lnTo>
                <a:lnTo>
                  <a:pt x="184" y="340"/>
                </a:lnTo>
                <a:lnTo>
                  <a:pt x="148" y="343"/>
                </a:lnTo>
                <a:lnTo>
                  <a:pt x="113" y="349"/>
                </a:lnTo>
                <a:lnTo>
                  <a:pt x="75" y="355"/>
                </a:lnTo>
                <a:lnTo>
                  <a:pt x="38" y="361"/>
                </a:lnTo>
                <a:lnTo>
                  <a:pt x="0" y="366"/>
                </a:lnTo>
                <a:lnTo>
                  <a:pt x="0" y="315"/>
                </a:lnTo>
                <a:lnTo>
                  <a:pt x="0" y="261"/>
                </a:lnTo>
                <a:lnTo>
                  <a:pt x="27" y="259"/>
                </a:lnTo>
                <a:lnTo>
                  <a:pt x="52" y="255"/>
                </a:lnTo>
                <a:lnTo>
                  <a:pt x="79" y="253"/>
                </a:lnTo>
                <a:lnTo>
                  <a:pt x="108" y="249"/>
                </a:lnTo>
                <a:lnTo>
                  <a:pt x="134" y="245"/>
                </a:lnTo>
                <a:lnTo>
                  <a:pt x="163" y="242"/>
                </a:lnTo>
                <a:lnTo>
                  <a:pt x="194" y="238"/>
                </a:lnTo>
                <a:lnTo>
                  <a:pt x="223" y="234"/>
                </a:lnTo>
                <a:lnTo>
                  <a:pt x="253" y="230"/>
                </a:lnTo>
                <a:lnTo>
                  <a:pt x="284" y="224"/>
                </a:lnTo>
                <a:lnTo>
                  <a:pt x="317" y="221"/>
                </a:lnTo>
                <a:lnTo>
                  <a:pt x="347" y="217"/>
                </a:lnTo>
                <a:lnTo>
                  <a:pt x="380" y="211"/>
                </a:lnTo>
                <a:lnTo>
                  <a:pt x="415" y="205"/>
                </a:lnTo>
                <a:lnTo>
                  <a:pt x="447" y="201"/>
                </a:lnTo>
                <a:lnTo>
                  <a:pt x="482" y="196"/>
                </a:lnTo>
                <a:lnTo>
                  <a:pt x="514" y="192"/>
                </a:lnTo>
                <a:lnTo>
                  <a:pt x="549" y="186"/>
                </a:lnTo>
                <a:lnTo>
                  <a:pt x="582" y="180"/>
                </a:lnTo>
                <a:lnTo>
                  <a:pt x="616" y="176"/>
                </a:lnTo>
                <a:lnTo>
                  <a:pt x="651" y="171"/>
                </a:lnTo>
                <a:lnTo>
                  <a:pt x="687" y="167"/>
                </a:lnTo>
                <a:lnTo>
                  <a:pt x="758" y="155"/>
                </a:lnTo>
                <a:lnTo>
                  <a:pt x="833" y="144"/>
                </a:lnTo>
                <a:lnTo>
                  <a:pt x="908" y="132"/>
                </a:lnTo>
                <a:lnTo>
                  <a:pt x="985" y="119"/>
                </a:lnTo>
                <a:lnTo>
                  <a:pt x="1063" y="105"/>
                </a:lnTo>
                <a:lnTo>
                  <a:pt x="1083" y="102"/>
                </a:lnTo>
                <a:lnTo>
                  <a:pt x="1100" y="98"/>
                </a:lnTo>
                <a:lnTo>
                  <a:pt x="1119" y="94"/>
                </a:lnTo>
                <a:lnTo>
                  <a:pt x="1136" y="90"/>
                </a:lnTo>
                <a:lnTo>
                  <a:pt x="1154" y="86"/>
                </a:lnTo>
                <a:lnTo>
                  <a:pt x="1171" y="84"/>
                </a:lnTo>
                <a:lnTo>
                  <a:pt x="1188" y="80"/>
                </a:lnTo>
                <a:lnTo>
                  <a:pt x="1203" y="77"/>
                </a:lnTo>
                <a:lnTo>
                  <a:pt x="1219" y="75"/>
                </a:lnTo>
                <a:lnTo>
                  <a:pt x="1234" y="71"/>
                </a:lnTo>
                <a:lnTo>
                  <a:pt x="1248" y="69"/>
                </a:lnTo>
                <a:lnTo>
                  <a:pt x="1261" y="65"/>
                </a:lnTo>
                <a:lnTo>
                  <a:pt x="1275" y="63"/>
                </a:lnTo>
                <a:lnTo>
                  <a:pt x="1288" y="61"/>
                </a:lnTo>
                <a:lnTo>
                  <a:pt x="1299" y="57"/>
                </a:lnTo>
                <a:lnTo>
                  <a:pt x="1311" y="55"/>
                </a:lnTo>
                <a:lnTo>
                  <a:pt x="1322" y="54"/>
                </a:lnTo>
                <a:lnTo>
                  <a:pt x="1332" y="52"/>
                </a:lnTo>
                <a:lnTo>
                  <a:pt x="1342" y="48"/>
                </a:lnTo>
                <a:lnTo>
                  <a:pt x="1351" y="46"/>
                </a:lnTo>
                <a:lnTo>
                  <a:pt x="1361" y="44"/>
                </a:lnTo>
                <a:lnTo>
                  <a:pt x="1369" y="42"/>
                </a:lnTo>
                <a:lnTo>
                  <a:pt x="1376" y="40"/>
                </a:lnTo>
                <a:lnTo>
                  <a:pt x="1384" y="38"/>
                </a:lnTo>
                <a:lnTo>
                  <a:pt x="1390" y="36"/>
                </a:lnTo>
                <a:lnTo>
                  <a:pt x="1395" y="34"/>
                </a:lnTo>
                <a:lnTo>
                  <a:pt x="1401" y="32"/>
                </a:lnTo>
                <a:lnTo>
                  <a:pt x="1407" y="32"/>
                </a:lnTo>
                <a:lnTo>
                  <a:pt x="1411" y="31"/>
                </a:lnTo>
                <a:lnTo>
                  <a:pt x="1415" y="29"/>
                </a:lnTo>
                <a:lnTo>
                  <a:pt x="1418" y="27"/>
                </a:lnTo>
                <a:lnTo>
                  <a:pt x="1420" y="27"/>
                </a:lnTo>
                <a:lnTo>
                  <a:pt x="1426" y="21"/>
                </a:lnTo>
                <a:lnTo>
                  <a:pt x="1432" y="17"/>
                </a:lnTo>
                <a:lnTo>
                  <a:pt x="1440" y="11"/>
                </a:lnTo>
                <a:lnTo>
                  <a:pt x="1447" y="7"/>
                </a:lnTo>
                <a:lnTo>
                  <a:pt x="1455" y="6"/>
                </a:lnTo>
                <a:lnTo>
                  <a:pt x="1465" y="2"/>
                </a:lnTo>
                <a:lnTo>
                  <a:pt x="1472" y="0"/>
                </a:lnTo>
                <a:lnTo>
                  <a:pt x="1482" y="0"/>
                </a:lnTo>
                <a:lnTo>
                  <a:pt x="1488" y="2"/>
                </a:lnTo>
                <a:lnTo>
                  <a:pt x="1493" y="6"/>
                </a:lnTo>
                <a:lnTo>
                  <a:pt x="1499" y="9"/>
                </a:lnTo>
                <a:lnTo>
                  <a:pt x="1507" y="15"/>
                </a:lnTo>
                <a:lnTo>
                  <a:pt x="1516" y="19"/>
                </a:lnTo>
                <a:lnTo>
                  <a:pt x="1526" y="25"/>
                </a:lnTo>
                <a:lnTo>
                  <a:pt x="1536" y="32"/>
                </a:lnTo>
                <a:lnTo>
                  <a:pt x="1545" y="38"/>
                </a:lnTo>
                <a:lnTo>
                  <a:pt x="1557" y="46"/>
                </a:lnTo>
                <a:lnTo>
                  <a:pt x="1568" y="55"/>
                </a:lnTo>
                <a:lnTo>
                  <a:pt x="1582" y="63"/>
                </a:lnTo>
                <a:lnTo>
                  <a:pt x="1595" y="73"/>
                </a:lnTo>
                <a:lnTo>
                  <a:pt x="1608" y="84"/>
                </a:lnTo>
                <a:lnTo>
                  <a:pt x="1624" y="94"/>
                </a:lnTo>
                <a:lnTo>
                  <a:pt x="1639" y="105"/>
                </a:lnTo>
                <a:lnTo>
                  <a:pt x="1655" y="119"/>
                </a:lnTo>
                <a:lnTo>
                  <a:pt x="1670" y="132"/>
                </a:lnTo>
                <a:lnTo>
                  <a:pt x="1685" y="146"/>
                </a:lnTo>
                <a:lnTo>
                  <a:pt x="1699" y="159"/>
                </a:lnTo>
                <a:lnTo>
                  <a:pt x="1710" y="173"/>
                </a:lnTo>
                <a:lnTo>
                  <a:pt x="1722" y="184"/>
                </a:lnTo>
                <a:lnTo>
                  <a:pt x="1731" y="196"/>
                </a:lnTo>
                <a:lnTo>
                  <a:pt x="1741" y="205"/>
                </a:lnTo>
                <a:lnTo>
                  <a:pt x="1749" y="215"/>
                </a:lnTo>
                <a:lnTo>
                  <a:pt x="1756" y="222"/>
                </a:lnTo>
                <a:lnTo>
                  <a:pt x="1762" y="232"/>
                </a:lnTo>
                <a:lnTo>
                  <a:pt x="1768" y="238"/>
                </a:lnTo>
                <a:lnTo>
                  <a:pt x="1772" y="245"/>
                </a:lnTo>
                <a:lnTo>
                  <a:pt x="1774" y="249"/>
                </a:lnTo>
                <a:lnTo>
                  <a:pt x="1777" y="255"/>
                </a:lnTo>
                <a:lnTo>
                  <a:pt x="1777" y="259"/>
                </a:lnTo>
                <a:lnTo>
                  <a:pt x="1779" y="261"/>
                </a:lnTo>
                <a:lnTo>
                  <a:pt x="1777" y="265"/>
                </a:lnTo>
                <a:lnTo>
                  <a:pt x="1777" y="267"/>
                </a:lnTo>
                <a:lnTo>
                  <a:pt x="1775" y="269"/>
                </a:lnTo>
                <a:lnTo>
                  <a:pt x="1772" y="270"/>
                </a:lnTo>
                <a:lnTo>
                  <a:pt x="1768" y="272"/>
                </a:lnTo>
                <a:lnTo>
                  <a:pt x="1764" y="276"/>
                </a:lnTo>
                <a:lnTo>
                  <a:pt x="1758" y="278"/>
                </a:lnTo>
                <a:lnTo>
                  <a:pt x="1752" y="280"/>
                </a:lnTo>
                <a:lnTo>
                  <a:pt x="1745" y="282"/>
                </a:lnTo>
                <a:lnTo>
                  <a:pt x="1739" y="282"/>
                </a:lnTo>
                <a:lnTo>
                  <a:pt x="1729" y="284"/>
                </a:lnTo>
                <a:lnTo>
                  <a:pt x="1722" y="286"/>
                </a:lnTo>
                <a:lnTo>
                  <a:pt x="1712" y="286"/>
                </a:lnTo>
                <a:lnTo>
                  <a:pt x="1703" y="288"/>
                </a:lnTo>
                <a:lnTo>
                  <a:pt x="1691" y="288"/>
                </a:lnTo>
                <a:lnTo>
                  <a:pt x="1680" y="288"/>
                </a:lnTo>
                <a:lnTo>
                  <a:pt x="1668" y="290"/>
                </a:lnTo>
                <a:lnTo>
                  <a:pt x="1656" y="293"/>
                </a:lnTo>
                <a:lnTo>
                  <a:pt x="1643" y="297"/>
                </a:lnTo>
                <a:lnTo>
                  <a:pt x="1630" y="303"/>
                </a:lnTo>
                <a:lnTo>
                  <a:pt x="1616" y="307"/>
                </a:lnTo>
                <a:lnTo>
                  <a:pt x="1601" y="313"/>
                </a:lnTo>
                <a:lnTo>
                  <a:pt x="1587" y="320"/>
                </a:lnTo>
                <a:lnTo>
                  <a:pt x="1572" y="326"/>
                </a:lnTo>
                <a:lnTo>
                  <a:pt x="1557" y="334"/>
                </a:lnTo>
                <a:lnTo>
                  <a:pt x="1541" y="343"/>
                </a:lnTo>
                <a:lnTo>
                  <a:pt x="1526" y="351"/>
                </a:lnTo>
                <a:lnTo>
                  <a:pt x="1509" y="361"/>
                </a:lnTo>
                <a:lnTo>
                  <a:pt x="1493" y="370"/>
                </a:lnTo>
                <a:lnTo>
                  <a:pt x="1478" y="382"/>
                </a:lnTo>
                <a:lnTo>
                  <a:pt x="1461" y="393"/>
                </a:lnTo>
                <a:lnTo>
                  <a:pt x="1445" y="40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10"/>
          <p:cNvSpPr/>
          <p:nvPr/>
        </p:nvSpPr>
        <p:spPr>
          <a:xfrm>
            <a:off x="6072120" y="3736800"/>
            <a:ext cx="201600" cy="520920"/>
          </a:xfrm>
          <a:custGeom>
            <a:avLst/>
            <a:gdLst/>
            <a:ahLst/>
            <a:rect l="l" t="t" r="r" b="b"/>
            <a:pathLst>
              <a:path w="256" h="657">
                <a:moveTo>
                  <a:pt x="37" y="432"/>
                </a:moveTo>
                <a:lnTo>
                  <a:pt x="41" y="424"/>
                </a:lnTo>
                <a:lnTo>
                  <a:pt x="46" y="415"/>
                </a:lnTo>
                <a:lnTo>
                  <a:pt x="50" y="407"/>
                </a:lnTo>
                <a:lnTo>
                  <a:pt x="54" y="398"/>
                </a:lnTo>
                <a:lnTo>
                  <a:pt x="60" y="388"/>
                </a:lnTo>
                <a:lnTo>
                  <a:pt x="64" y="376"/>
                </a:lnTo>
                <a:lnTo>
                  <a:pt x="67" y="365"/>
                </a:lnTo>
                <a:lnTo>
                  <a:pt x="71" y="353"/>
                </a:lnTo>
                <a:lnTo>
                  <a:pt x="79" y="330"/>
                </a:lnTo>
                <a:lnTo>
                  <a:pt x="87" y="303"/>
                </a:lnTo>
                <a:lnTo>
                  <a:pt x="92" y="277"/>
                </a:lnTo>
                <a:lnTo>
                  <a:pt x="98" y="248"/>
                </a:lnTo>
                <a:lnTo>
                  <a:pt x="100" y="236"/>
                </a:lnTo>
                <a:lnTo>
                  <a:pt x="102" y="223"/>
                </a:lnTo>
                <a:lnTo>
                  <a:pt x="104" y="209"/>
                </a:lnTo>
                <a:lnTo>
                  <a:pt x="108" y="194"/>
                </a:lnTo>
                <a:lnTo>
                  <a:pt x="112" y="165"/>
                </a:lnTo>
                <a:lnTo>
                  <a:pt x="115" y="135"/>
                </a:lnTo>
                <a:lnTo>
                  <a:pt x="117" y="102"/>
                </a:lnTo>
                <a:lnTo>
                  <a:pt x="121" y="67"/>
                </a:lnTo>
                <a:lnTo>
                  <a:pt x="121" y="35"/>
                </a:lnTo>
                <a:lnTo>
                  <a:pt x="123" y="0"/>
                </a:lnTo>
                <a:lnTo>
                  <a:pt x="144" y="10"/>
                </a:lnTo>
                <a:lnTo>
                  <a:pt x="165" y="21"/>
                </a:lnTo>
                <a:lnTo>
                  <a:pt x="177" y="29"/>
                </a:lnTo>
                <a:lnTo>
                  <a:pt x="186" y="35"/>
                </a:lnTo>
                <a:lnTo>
                  <a:pt x="194" y="42"/>
                </a:lnTo>
                <a:lnTo>
                  <a:pt x="204" y="48"/>
                </a:lnTo>
                <a:lnTo>
                  <a:pt x="211" y="56"/>
                </a:lnTo>
                <a:lnTo>
                  <a:pt x="217" y="64"/>
                </a:lnTo>
                <a:lnTo>
                  <a:pt x="225" y="73"/>
                </a:lnTo>
                <a:lnTo>
                  <a:pt x="231" y="81"/>
                </a:lnTo>
                <a:lnTo>
                  <a:pt x="236" y="88"/>
                </a:lnTo>
                <a:lnTo>
                  <a:pt x="240" y="98"/>
                </a:lnTo>
                <a:lnTo>
                  <a:pt x="244" y="108"/>
                </a:lnTo>
                <a:lnTo>
                  <a:pt x="246" y="117"/>
                </a:lnTo>
                <a:lnTo>
                  <a:pt x="250" y="138"/>
                </a:lnTo>
                <a:lnTo>
                  <a:pt x="254" y="159"/>
                </a:lnTo>
                <a:lnTo>
                  <a:pt x="254" y="183"/>
                </a:lnTo>
                <a:lnTo>
                  <a:pt x="256" y="207"/>
                </a:lnTo>
                <a:lnTo>
                  <a:pt x="256" y="221"/>
                </a:lnTo>
                <a:lnTo>
                  <a:pt x="254" y="234"/>
                </a:lnTo>
                <a:lnTo>
                  <a:pt x="254" y="248"/>
                </a:lnTo>
                <a:lnTo>
                  <a:pt x="254" y="263"/>
                </a:lnTo>
                <a:lnTo>
                  <a:pt x="252" y="279"/>
                </a:lnTo>
                <a:lnTo>
                  <a:pt x="250" y="294"/>
                </a:lnTo>
                <a:lnTo>
                  <a:pt x="248" y="309"/>
                </a:lnTo>
                <a:lnTo>
                  <a:pt x="246" y="326"/>
                </a:lnTo>
                <a:lnTo>
                  <a:pt x="240" y="361"/>
                </a:lnTo>
                <a:lnTo>
                  <a:pt x="234" y="394"/>
                </a:lnTo>
                <a:lnTo>
                  <a:pt x="227" y="424"/>
                </a:lnTo>
                <a:lnTo>
                  <a:pt x="219" y="453"/>
                </a:lnTo>
                <a:lnTo>
                  <a:pt x="211" y="482"/>
                </a:lnTo>
                <a:lnTo>
                  <a:pt x="202" y="511"/>
                </a:lnTo>
                <a:lnTo>
                  <a:pt x="194" y="538"/>
                </a:lnTo>
                <a:lnTo>
                  <a:pt x="184" y="563"/>
                </a:lnTo>
                <a:lnTo>
                  <a:pt x="179" y="574"/>
                </a:lnTo>
                <a:lnTo>
                  <a:pt x="171" y="586"/>
                </a:lnTo>
                <a:lnTo>
                  <a:pt x="165" y="595"/>
                </a:lnTo>
                <a:lnTo>
                  <a:pt x="160" y="605"/>
                </a:lnTo>
                <a:lnTo>
                  <a:pt x="154" y="612"/>
                </a:lnTo>
                <a:lnTo>
                  <a:pt x="148" y="620"/>
                </a:lnTo>
                <a:lnTo>
                  <a:pt x="142" y="626"/>
                </a:lnTo>
                <a:lnTo>
                  <a:pt x="138" y="632"/>
                </a:lnTo>
                <a:lnTo>
                  <a:pt x="135" y="637"/>
                </a:lnTo>
                <a:lnTo>
                  <a:pt x="129" y="641"/>
                </a:lnTo>
                <a:lnTo>
                  <a:pt x="125" y="645"/>
                </a:lnTo>
                <a:lnTo>
                  <a:pt x="121" y="649"/>
                </a:lnTo>
                <a:lnTo>
                  <a:pt x="119" y="651"/>
                </a:lnTo>
                <a:lnTo>
                  <a:pt x="115" y="653"/>
                </a:lnTo>
                <a:lnTo>
                  <a:pt x="113" y="653"/>
                </a:lnTo>
                <a:lnTo>
                  <a:pt x="110" y="655"/>
                </a:lnTo>
                <a:lnTo>
                  <a:pt x="108" y="657"/>
                </a:lnTo>
                <a:lnTo>
                  <a:pt x="106" y="657"/>
                </a:lnTo>
                <a:lnTo>
                  <a:pt x="102" y="657"/>
                </a:lnTo>
                <a:lnTo>
                  <a:pt x="98" y="657"/>
                </a:lnTo>
                <a:lnTo>
                  <a:pt x="96" y="655"/>
                </a:lnTo>
                <a:lnTo>
                  <a:pt x="92" y="653"/>
                </a:lnTo>
                <a:lnTo>
                  <a:pt x="89" y="651"/>
                </a:lnTo>
                <a:lnTo>
                  <a:pt x="85" y="647"/>
                </a:lnTo>
                <a:lnTo>
                  <a:pt x="79" y="643"/>
                </a:lnTo>
                <a:lnTo>
                  <a:pt x="75" y="639"/>
                </a:lnTo>
                <a:lnTo>
                  <a:pt x="71" y="634"/>
                </a:lnTo>
                <a:lnTo>
                  <a:pt x="67" y="628"/>
                </a:lnTo>
                <a:lnTo>
                  <a:pt x="58" y="616"/>
                </a:lnTo>
                <a:lnTo>
                  <a:pt x="48" y="601"/>
                </a:lnTo>
                <a:lnTo>
                  <a:pt x="42" y="593"/>
                </a:lnTo>
                <a:lnTo>
                  <a:pt x="37" y="588"/>
                </a:lnTo>
                <a:lnTo>
                  <a:pt x="31" y="580"/>
                </a:lnTo>
                <a:lnTo>
                  <a:pt x="25" y="572"/>
                </a:lnTo>
                <a:lnTo>
                  <a:pt x="21" y="564"/>
                </a:lnTo>
                <a:lnTo>
                  <a:pt x="18" y="559"/>
                </a:lnTo>
                <a:lnTo>
                  <a:pt x="10" y="545"/>
                </a:lnTo>
                <a:lnTo>
                  <a:pt x="6" y="534"/>
                </a:lnTo>
                <a:lnTo>
                  <a:pt x="2" y="524"/>
                </a:lnTo>
                <a:lnTo>
                  <a:pt x="0" y="520"/>
                </a:lnTo>
                <a:lnTo>
                  <a:pt x="0" y="517"/>
                </a:lnTo>
                <a:lnTo>
                  <a:pt x="0" y="513"/>
                </a:lnTo>
                <a:lnTo>
                  <a:pt x="0" y="511"/>
                </a:lnTo>
                <a:lnTo>
                  <a:pt x="0" y="505"/>
                </a:lnTo>
                <a:lnTo>
                  <a:pt x="2" y="497"/>
                </a:lnTo>
                <a:lnTo>
                  <a:pt x="4" y="490"/>
                </a:lnTo>
                <a:lnTo>
                  <a:pt x="8" y="480"/>
                </a:lnTo>
                <a:lnTo>
                  <a:pt x="14" y="470"/>
                </a:lnTo>
                <a:lnTo>
                  <a:pt x="19" y="459"/>
                </a:lnTo>
                <a:lnTo>
                  <a:pt x="27" y="445"/>
                </a:lnTo>
                <a:lnTo>
                  <a:pt x="37" y="43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Freeform 111"/>
          <p:cNvSpPr/>
          <p:nvPr/>
        </p:nvSpPr>
        <p:spPr>
          <a:xfrm>
            <a:off x="6383160" y="3405240"/>
            <a:ext cx="785880" cy="196920"/>
          </a:xfrm>
          <a:custGeom>
            <a:avLst/>
            <a:gdLst/>
            <a:ahLst/>
            <a:rect l="l" t="t" r="r" b="b"/>
            <a:pathLst>
              <a:path w="988" h="247">
                <a:moveTo>
                  <a:pt x="556" y="182"/>
                </a:moveTo>
                <a:lnTo>
                  <a:pt x="537" y="186"/>
                </a:lnTo>
                <a:lnTo>
                  <a:pt x="518" y="190"/>
                </a:lnTo>
                <a:lnTo>
                  <a:pt x="499" y="194"/>
                </a:lnTo>
                <a:lnTo>
                  <a:pt x="481" y="197"/>
                </a:lnTo>
                <a:lnTo>
                  <a:pt x="464" y="199"/>
                </a:lnTo>
                <a:lnTo>
                  <a:pt x="447" y="203"/>
                </a:lnTo>
                <a:lnTo>
                  <a:pt x="432" y="207"/>
                </a:lnTo>
                <a:lnTo>
                  <a:pt x="414" y="209"/>
                </a:lnTo>
                <a:lnTo>
                  <a:pt x="401" y="213"/>
                </a:lnTo>
                <a:lnTo>
                  <a:pt x="386" y="215"/>
                </a:lnTo>
                <a:lnTo>
                  <a:pt x="372" y="219"/>
                </a:lnTo>
                <a:lnTo>
                  <a:pt x="357" y="220"/>
                </a:lnTo>
                <a:lnTo>
                  <a:pt x="345" y="222"/>
                </a:lnTo>
                <a:lnTo>
                  <a:pt x="332" y="226"/>
                </a:lnTo>
                <a:lnTo>
                  <a:pt x="320" y="228"/>
                </a:lnTo>
                <a:lnTo>
                  <a:pt x="309" y="230"/>
                </a:lnTo>
                <a:lnTo>
                  <a:pt x="299" y="232"/>
                </a:lnTo>
                <a:lnTo>
                  <a:pt x="288" y="234"/>
                </a:lnTo>
                <a:lnTo>
                  <a:pt x="278" y="236"/>
                </a:lnTo>
                <a:lnTo>
                  <a:pt x="270" y="238"/>
                </a:lnTo>
                <a:lnTo>
                  <a:pt x="261" y="240"/>
                </a:lnTo>
                <a:lnTo>
                  <a:pt x="253" y="242"/>
                </a:lnTo>
                <a:lnTo>
                  <a:pt x="245" y="242"/>
                </a:lnTo>
                <a:lnTo>
                  <a:pt x="240" y="244"/>
                </a:lnTo>
                <a:lnTo>
                  <a:pt x="234" y="244"/>
                </a:lnTo>
                <a:lnTo>
                  <a:pt x="228" y="245"/>
                </a:lnTo>
                <a:lnTo>
                  <a:pt x="224" y="245"/>
                </a:lnTo>
                <a:lnTo>
                  <a:pt x="220" y="247"/>
                </a:lnTo>
                <a:lnTo>
                  <a:pt x="217" y="247"/>
                </a:lnTo>
                <a:lnTo>
                  <a:pt x="213" y="247"/>
                </a:lnTo>
                <a:lnTo>
                  <a:pt x="211" y="247"/>
                </a:lnTo>
                <a:lnTo>
                  <a:pt x="199" y="247"/>
                </a:lnTo>
                <a:lnTo>
                  <a:pt x="190" y="245"/>
                </a:lnTo>
                <a:lnTo>
                  <a:pt x="176" y="242"/>
                </a:lnTo>
                <a:lnTo>
                  <a:pt x="163" y="238"/>
                </a:lnTo>
                <a:lnTo>
                  <a:pt x="146" y="232"/>
                </a:lnTo>
                <a:lnTo>
                  <a:pt x="138" y="230"/>
                </a:lnTo>
                <a:lnTo>
                  <a:pt x="128" y="226"/>
                </a:lnTo>
                <a:lnTo>
                  <a:pt x="119" y="222"/>
                </a:lnTo>
                <a:lnTo>
                  <a:pt x="109" y="219"/>
                </a:lnTo>
                <a:lnTo>
                  <a:pt x="98" y="213"/>
                </a:lnTo>
                <a:lnTo>
                  <a:pt x="86" y="209"/>
                </a:lnTo>
                <a:lnTo>
                  <a:pt x="75" y="203"/>
                </a:lnTo>
                <a:lnTo>
                  <a:pt x="65" y="199"/>
                </a:lnTo>
                <a:lnTo>
                  <a:pt x="55" y="196"/>
                </a:lnTo>
                <a:lnTo>
                  <a:pt x="48" y="192"/>
                </a:lnTo>
                <a:lnTo>
                  <a:pt x="40" y="188"/>
                </a:lnTo>
                <a:lnTo>
                  <a:pt x="32" y="184"/>
                </a:lnTo>
                <a:lnTo>
                  <a:pt x="27" y="180"/>
                </a:lnTo>
                <a:lnTo>
                  <a:pt x="21" y="178"/>
                </a:lnTo>
                <a:lnTo>
                  <a:pt x="15" y="174"/>
                </a:lnTo>
                <a:lnTo>
                  <a:pt x="11" y="173"/>
                </a:lnTo>
                <a:lnTo>
                  <a:pt x="7" y="169"/>
                </a:lnTo>
                <a:lnTo>
                  <a:pt x="5" y="167"/>
                </a:lnTo>
                <a:lnTo>
                  <a:pt x="4" y="163"/>
                </a:lnTo>
                <a:lnTo>
                  <a:pt x="2" y="161"/>
                </a:lnTo>
                <a:lnTo>
                  <a:pt x="0" y="159"/>
                </a:lnTo>
                <a:lnTo>
                  <a:pt x="0" y="157"/>
                </a:lnTo>
                <a:lnTo>
                  <a:pt x="0" y="155"/>
                </a:lnTo>
                <a:lnTo>
                  <a:pt x="2" y="153"/>
                </a:lnTo>
                <a:lnTo>
                  <a:pt x="4" y="151"/>
                </a:lnTo>
                <a:lnTo>
                  <a:pt x="5" y="151"/>
                </a:lnTo>
                <a:lnTo>
                  <a:pt x="9" y="149"/>
                </a:lnTo>
                <a:lnTo>
                  <a:pt x="13" y="148"/>
                </a:lnTo>
                <a:lnTo>
                  <a:pt x="19" y="146"/>
                </a:lnTo>
                <a:lnTo>
                  <a:pt x="23" y="144"/>
                </a:lnTo>
                <a:lnTo>
                  <a:pt x="30" y="142"/>
                </a:lnTo>
                <a:lnTo>
                  <a:pt x="36" y="140"/>
                </a:lnTo>
                <a:lnTo>
                  <a:pt x="44" y="138"/>
                </a:lnTo>
                <a:lnTo>
                  <a:pt x="53" y="136"/>
                </a:lnTo>
                <a:lnTo>
                  <a:pt x="63" y="134"/>
                </a:lnTo>
                <a:lnTo>
                  <a:pt x="73" y="130"/>
                </a:lnTo>
                <a:lnTo>
                  <a:pt x="82" y="128"/>
                </a:lnTo>
                <a:lnTo>
                  <a:pt x="94" y="126"/>
                </a:lnTo>
                <a:lnTo>
                  <a:pt x="107" y="123"/>
                </a:lnTo>
                <a:lnTo>
                  <a:pt x="121" y="121"/>
                </a:lnTo>
                <a:lnTo>
                  <a:pt x="134" y="117"/>
                </a:lnTo>
                <a:lnTo>
                  <a:pt x="148" y="113"/>
                </a:lnTo>
                <a:lnTo>
                  <a:pt x="163" y="111"/>
                </a:lnTo>
                <a:lnTo>
                  <a:pt x="180" y="107"/>
                </a:lnTo>
                <a:lnTo>
                  <a:pt x="195" y="103"/>
                </a:lnTo>
                <a:lnTo>
                  <a:pt x="215" y="100"/>
                </a:lnTo>
                <a:lnTo>
                  <a:pt x="232" y="96"/>
                </a:lnTo>
                <a:lnTo>
                  <a:pt x="251" y="92"/>
                </a:lnTo>
                <a:lnTo>
                  <a:pt x="272" y="88"/>
                </a:lnTo>
                <a:lnTo>
                  <a:pt x="291" y="84"/>
                </a:lnTo>
                <a:lnTo>
                  <a:pt x="314" y="78"/>
                </a:lnTo>
                <a:lnTo>
                  <a:pt x="336" y="75"/>
                </a:lnTo>
                <a:lnTo>
                  <a:pt x="359" y="71"/>
                </a:lnTo>
                <a:lnTo>
                  <a:pt x="384" y="65"/>
                </a:lnTo>
                <a:lnTo>
                  <a:pt x="407" y="61"/>
                </a:lnTo>
                <a:lnTo>
                  <a:pt x="428" y="57"/>
                </a:lnTo>
                <a:lnTo>
                  <a:pt x="451" y="53"/>
                </a:lnTo>
                <a:lnTo>
                  <a:pt x="472" y="52"/>
                </a:lnTo>
                <a:lnTo>
                  <a:pt x="493" y="48"/>
                </a:lnTo>
                <a:lnTo>
                  <a:pt x="512" y="44"/>
                </a:lnTo>
                <a:lnTo>
                  <a:pt x="533" y="40"/>
                </a:lnTo>
                <a:lnTo>
                  <a:pt x="553" y="38"/>
                </a:lnTo>
                <a:lnTo>
                  <a:pt x="572" y="34"/>
                </a:lnTo>
                <a:lnTo>
                  <a:pt x="589" y="32"/>
                </a:lnTo>
                <a:lnTo>
                  <a:pt x="608" y="29"/>
                </a:lnTo>
                <a:lnTo>
                  <a:pt x="625" y="27"/>
                </a:lnTo>
                <a:lnTo>
                  <a:pt x="658" y="21"/>
                </a:lnTo>
                <a:lnTo>
                  <a:pt x="691" y="17"/>
                </a:lnTo>
                <a:lnTo>
                  <a:pt x="719" y="13"/>
                </a:lnTo>
                <a:lnTo>
                  <a:pt x="748" y="9"/>
                </a:lnTo>
                <a:lnTo>
                  <a:pt x="773" y="7"/>
                </a:lnTo>
                <a:lnTo>
                  <a:pt x="798" y="4"/>
                </a:lnTo>
                <a:lnTo>
                  <a:pt x="821" y="2"/>
                </a:lnTo>
                <a:lnTo>
                  <a:pt x="840" y="2"/>
                </a:lnTo>
                <a:lnTo>
                  <a:pt x="860" y="0"/>
                </a:lnTo>
                <a:lnTo>
                  <a:pt x="877" y="0"/>
                </a:lnTo>
                <a:lnTo>
                  <a:pt x="890" y="0"/>
                </a:lnTo>
                <a:lnTo>
                  <a:pt x="904" y="0"/>
                </a:lnTo>
                <a:lnTo>
                  <a:pt x="915" y="2"/>
                </a:lnTo>
                <a:lnTo>
                  <a:pt x="925" y="2"/>
                </a:lnTo>
                <a:lnTo>
                  <a:pt x="934" y="4"/>
                </a:lnTo>
                <a:lnTo>
                  <a:pt x="944" y="6"/>
                </a:lnTo>
                <a:lnTo>
                  <a:pt x="952" y="6"/>
                </a:lnTo>
                <a:lnTo>
                  <a:pt x="959" y="7"/>
                </a:lnTo>
                <a:lnTo>
                  <a:pt x="967" y="9"/>
                </a:lnTo>
                <a:lnTo>
                  <a:pt x="973" y="11"/>
                </a:lnTo>
                <a:lnTo>
                  <a:pt x="977" y="13"/>
                </a:lnTo>
                <a:lnTo>
                  <a:pt x="981" y="17"/>
                </a:lnTo>
                <a:lnTo>
                  <a:pt x="984" y="19"/>
                </a:lnTo>
                <a:lnTo>
                  <a:pt x="986" y="21"/>
                </a:lnTo>
                <a:lnTo>
                  <a:pt x="988" y="23"/>
                </a:lnTo>
                <a:lnTo>
                  <a:pt x="988" y="27"/>
                </a:lnTo>
                <a:lnTo>
                  <a:pt x="986" y="36"/>
                </a:lnTo>
                <a:lnTo>
                  <a:pt x="984" y="46"/>
                </a:lnTo>
                <a:lnTo>
                  <a:pt x="982" y="53"/>
                </a:lnTo>
                <a:lnTo>
                  <a:pt x="977" y="63"/>
                </a:lnTo>
                <a:lnTo>
                  <a:pt x="971" y="71"/>
                </a:lnTo>
                <a:lnTo>
                  <a:pt x="967" y="75"/>
                </a:lnTo>
                <a:lnTo>
                  <a:pt x="961" y="78"/>
                </a:lnTo>
                <a:lnTo>
                  <a:pt x="958" y="82"/>
                </a:lnTo>
                <a:lnTo>
                  <a:pt x="952" y="86"/>
                </a:lnTo>
                <a:lnTo>
                  <a:pt x="944" y="88"/>
                </a:lnTo>
                <a:lnTo>
                  <a:pt x="938" y="92"/>
                </a:lnTo>
                <a:lnTo>
                  <a:pt x="934" y="92"/>
                </a:lnTo>
                <a:lnTo>
                  <a:pt x="931" y="94"/>
                </a:lnTo>
                <a:lnTo>
                  <a:pt x="925" y="96"/>
                </a:lnTo>
                <a:lnTo>
                  <a:pt x="921" y="98"/>
                </a:lnTo>
                <a:lnTo>
                  <a:pt x="915" y="100"/>
                </a:lnTo>
                <a:lnTo>
                  <a:pt x="908" y="101"/>
                </a:lnTo>
                <a:lnTo>
                  <a:pt x="902" y="103"/>
                </a:lnTo>
                <a:lnTo>
                  <a:pt x="894" y="105"/>
                </a:lnTo>
                <a:lnTo>
                  <a:pt x="886" y="107"/>
                </a:lnTo>
                <a:lnTo>
                  <a:pt x="879" y="111"/>
                </a:lnTo>
                <a:lnTo>
                  <a:pt x="869" y="113"/>
                </a:lnTo>
                <a:lnTo>
                  <a:pt x="860" y="115"/>
                </a:lnTo>
                <a:lnTo>
                  <a:pt x="850" y="119"/>
                </a:lnTo>
                <a:lnTo>
                  <a:pt x="838" y="121"/>
                </a:lnTo>
                <a:lnTo>
                  <a:pt x="829" y="125"/>
                </a:lnTo>
                <a:lnTo>
                  <a:pt x="817" y="126"/>
                </a:lnTo>
                <a:lnTo>
                  <a:pt x="804" y="130"/>
                </a:lnTo>
                <a:lnTo>
                  <a:pt x="792" y="132"/>
                </a:lnTo>
                <a:lnTo>
                  <a:pt x="779" y="136"/>
                </a:lnTo>
                <a:lnTo>
                  <a:pt x="766" y="140"/>
                </a:lnTo>
                <a:lnTo>
                  <a:pt x="750" y="144"/>
                </a:lnTo>
                <a:lnTo>
                  <a:pt x="735" y="146"/>
                </a:lnTo>
                <a:lnTo>
                  <a:pt x="719" y="149"/>
                </a:lnTo>
                <a:lnTo>
                  <a:pt x="704" y="153"/>
                </a:lnTo>
                <a:lnTo>
                  <a:pt x="687" y="157"/>
                </a:lnTo>
                <a:lnTo>
                  <a:pt x="670" y="161"/>
                </a:lnTo>
                <a:lnTo>
                  <a:pt x="652" y="165"/>
                </a:lnTo>
                <a:lnTo>
                  <a:pt x="635" y="169"/>
                </a:lnTo>
                <a:lnTo>
                  <a:pt x="616" y="171"/>
                </a:lnTo>
                <a:lnTo>
                  <a:pt x="597" y="174"/>
                </a:lnTo>
                <a:lnTo>
                  <a:pt x="576" y="178"/>
                </a:lnTo>
                <a:lnTo>
                  <a:pt x="556" y="18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 name="Freeform 112"/>
          <p:cNvSpPr/>
          <p:nvPr/>
        </p:nvSpPr>
        <p:spPr>
          <a:xfrm>
            <a:off x="6480000" y="3124080"/>
            <a:ext cx="503280" cy="169920"/>
          </a:xfrm>
          <a:custGeom>
            <a:avLst/>
            <a:gdLst/>
            <a:ahLst/>
            <a:rect l="l" t="t" r="r" b="b"/>
            <a:pathLst>
              <a:path w="633" h="213">
                <a:moveTo>
                  <a:pt x="313" y="40"/>
                </a:moveTo>
                <a:lnTo>
                  <a:pt x="328" y="34"/>
                </a:lnTo>
                <a:lnTo>
                  <a:pt x="341" y="30"/>
                </a:lnTo>
                <a:lnTo>
                  <a:pt x="357" y="25"/>
                </a:lnTo>
                <a:lnTo>
                  <a:pt x="370" y="21"/>
                </a:lnTo>
                <a:lnTo>
                  <a:pt x="382" y="19"/>
                </a:lnTo>
                <a:lnTo>
                  <a:pt x="395" y="15"/>
                </a:lnTo>
                <a:lnTo>
                  <a:pt x="405" y="11"/>
                </a:lnTo>
                <a:lnTo>
                  <a:pt x="416" y="9"/>
                </a:lnTo>
                <a:lnTo>
                  <a:pt x="426" y="7"/>
                </a:lnTo>
                <a:lnTo>
                  <a:pt x="435" y="5"/>
                </a:lnTo>
                <a:lnTo>
                  <a:pt x="445" y="3"/>
                </a:lnTo>
                <a:lnTo>
                  <a:pt x="455" y="1"/>
                </a:lnTo>
                <a:lnTo>
                  <a:pt x="470" y="0"/>
                </a:lnTo>
                <a:lnTo>
                  <a:pt x="485" y="0"/>
                </a:lnTo>
                <a:lnTo>
                  <a:pt x="497" y="0"/>
                </a:lnTo>
                <a:lnTo>
                  <a:pt x="510" y="0"/>
                </a:lnTo>
                <a:lnTo>
                  <a:pt x="522" y="0"/>
                </a:lnTo>
                <a:lnTo>
                  <a:pt x="533" y="1"/>
                </a:lnTo>
                <a:lnTo>
                  <a:pt x="545" y="3"/>
                </a:lnTo>
                <a:lnTo>
                  <a:pt x="558" y="5"/>
                </a:lnTo>
                <a:lnTo>
                  <a:pt x="570" y="7"/>
                </a:lnTo>
                <a:lnTo>
                  <a:pt x="583" y="13"/>
                </a:lnTo>
                <a:lnTo>
                  <a:pt x="589" y="15"/>
                </a:lnTo>
                <a:lnTo>
                  <a:pt x="597" y="19"/>
                </a:lnTo>
                <a:lnTo>
                  <a:pt x="602" y="21"/>
                </a:lnTo>
                <a:lnTo>
                  <a:pt x="606" y="25"/>
                </a:lnTo>
                <a:lnTo>
                  <a:pt x="612" y="28"/>
                </a:lnTo>
                <a:lnTo>
                  <a:pt x="616" y="32"/>
                </a:lnTo>
                <a:lnTo>
                  <a:pt x="622" y="38"/>
                </a:lnTo>
                <a:lnTo>
                  <a:pt x="627" y="46"/>
                </a:lnTo>
                <a:lnTo>
                  <a:pt x="629" y="53"/>
                </a:lnTo>
                <a:lnTo>
                  <a:pt x="631" y="59"/>
                </a:lnTo>
                <a:lnTo>
                  <a:pt x="633" y="65"/>
                </a:lnTo>
                <a:lnTo>
                  <a:pt x="631" y="71"/>
                </a:lnTo>
                <a:lnTo>
                  <a:pt x="629" y="74"/>
                </a:lnTo>
                <a:lnTo>
                  <a:pt x="625" y="80"/>
                </a:lnTo>
                <a:lnTo>
                  <a:pt x="618" y="84"/>
                </a:lnTo>
                <a:lnTo>
                  <a:pt x="610" y="90"/>
                </a:lnTo>
                <a:lnTo>
                  <a:pt x="600" y="96"/>
                </a:lnTo>
                <a:lnTo>
                  <a:pt x="589" y="99"/>
                </a:lnTo>
                <a:lnTo>
                  <a:pt x="575" y="105"/>
                </a:lnTo>
                <a:lnTo>
                  <a:pt x="560" y="111"/>
                </a:lnTo>
                <a:lnTo>
                  <a:pt x="543" y="117"/>
                </a:lnTo>
                <a:lnTo>
                  <a:pt x="533" y="121"/>
                </a:lnTo>
                <a:lnTo>
                  <a:pt x="524" y="122"/>
                </a:lnTo>
                <a:lnTo>
                  <a:pt x="512" y="126"/>
                </a:lnTo>
                <a:lnTo>
                  <a:pt x="503" y="128"/>
                </a:lnTo>
                <a:lnTo>
                  <a:pt x="491" y="132"/>
                </a:lnTo>
                <a:lnTo>
                  <a:pt x="479" y="136"/>
                </a:lnTo>
                <a:lnTo>
                  <a:pt x="466" y="140"/>
                </a:lnTo>
                <a:lnTo>
                  <a:pt x="455" y="142"/>
                </a:lnTo>
                <a:lnTo>
                  <a:pt x="441" y="145"/>
                </a:lnTo>
                <a:lnTo>
                  <a:pt x="428" y="149"/>
                </a:lnTo>
                <a:lnTo>
                  <a:pt x="412" y="153"/>
                </a:lnTo>
                <a:lnTo>
                  <a:pt x="399" y="157"/>
                </a:lnTo>
                <a:lnTo>
                  <a:pt x="368" y="165"/>
                </a:lnTo>
                <a:lnTo>
                  <a:pt x="339" y="170"/>
                </a:lnTo>
                <a:lnTo>
                  <a:pt x="313" y="178"/>
                </a:lnTo>
                <a:lnTo>
                  <a:pt x="288" y="184"/>
                </a:lnTo>
                <a:lnTo>
                  <a:pt x="263" y="190"/>
                </a:lnTo>
                <a:lnTo>
                  <a:pt x="240" y="193"/>
                </a:lnTo>
                <a:lnTo>
                  <a:pt x="218" y="199"/>
                </a:lnTo>
                <a:lnTo>
                  <a:pt x="197" y="203"/>
                </a:lnTo>
                <a:lnTo>
                  <a:pt x="178" y="207"/>
                </a:lnTo>
                <a:lnTo>
                  <a:pt x="161" y="209"/>
                </a:lnTo>
                <a:lnTo>
                  <a:pt x="146" y="211"/>
                </a:lnTo>
                <a:lnTo>
                  <a:pt x="130" y="213"/>
                </a:lnTo>
                <a:lnTo>
                  <a:pt x="117" y="213"/>
                </a:lnTo>
                <a:lnTo>
                  <a:pt x="107" y="213"/>
                </a:lnTo>
                <a:lnTo>
                  <a:pt x="98" y="211"/>
                </a:lnTo>
                <a:lnTo>
                  <a:pt x="90" y="209"/>
                </a:lnTo>
                <a:lnTo>
                  <a:pt x="80" y="207"/>
                </a:lnTo>
                <a:lnTo>
                  <a:pt x="73" y="203"/>
                </a:lnTo>
                <a:lnTo>
                  <a:pt x="63" y="201"/>
                </a:lnTo>
                <a:lnTo>
                  <a:pt x="57" y="199"/>
                </a:lnTo>
                <a:lnTo>
                  <a:pt x="50" y="195"/>
                </a:lnTo>
                <a:lnTo>
                  <a:pt x="44" y="193"/>
                </a:lnTo>
                <a:lnTo>
                  <a:pt x="32" y="188"/>
                </a:lnTo>
                <a:lnTo>
                  <a:pt x="23" y="182"/>
                </a:lnTo>
                <a:lnTo>
                  <a:pt x="15" y="174"/>
                </a:lnTo>
                <a:lnTo>
                  <a:pt x="7" y="167"/>
                </a:lnTo>
                <a:lnTo>
                  <a:pt x="3" y="157"/>
                </a:lnTo>
                <a:lnTo>
                  <a:pt x="2" y="153"/>
                </a:lnTo>
                <a:lnTo>
                  <a:pt x="0" y="151"/>
                </a:lnTo>
                <a:lnTo>
                  <a:pt x="0" y="147"/>
                </a:lnTo>
                <a:lnTo>
                  <a:pt x="2" y="145"/>
                </a:lnTo>
                <a:lnTo>
                  <a:pt x="2" y="142"/>
                </a:lnTo>
                <a:lnTo>
                  <a:pt x="5" y="138"/>
                </a:lnTo>
                <a:lnTo>
                  <a:pt x="9" y="134"/>
                </a:lnTo>
                <a:lnTo>
                  <a:pt x="13" y="130"/>
                </a:lnTo>
                <a:lnTo>
                  <a:pt x="19" y="126"/>
                </a:lnTo>
                <a:lnTo>
                  <a:pt x="27" y="122"/>
                </a:lnTo>
                <a:lnTo>
                  <a:pt x="34" y="121"/>
                </a:lnTo>
                <a:lnTo>
                  <a:pt x="42" y="117"/>
                </a:lnTo>
                <a:lnTo>
                  <a:pt x="53" y="113"/>
                </a:lnTo>
                <a:lnTo>
                  <a:pt x="63" y="109"/>
                </a:lnTo>
                <a:lnTo>
                  <a:pt x="76" y="107"/>
                </a:lnTo>
                <a:lnTo>
                  <a:pt x="90" y="105"/>
                </a:lnTo>
                <a:lnTo>
                  <a:pt x="117" y="99"/>
                </a:lnTo>
                <a:lnTo>
                  <a:pt x="146" y="92"/>
                </a:lnTo>
                <a:lnTo>
                  <a:pt x="172" y="84"/>
                </a:lnTo>
                <a:lnTo>
                  <a:pt x="201" y="76"/>
                </a:lnTo>
                <a:lnTo>
                  <a:pt x="228" y="67"/>
                </a:lnTo>
                <a:lnTo>
                  <a:pt x="255" y="59"/>
                </a:lnTo>
                <a:lnTo>
                  <a:pt x="313" y="4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Freeform 113"/>
          <p:cNvSpPr/>
          <p:nvPr/>
        </p:nvSpPr>
        <p:spPr>
          <a:xfrm>
            <a:off x="5532480" y="3851280"/>
            <a:ext cx="474480" cy="1027080"/>
          </a:xfrm>
          <a:custGeom>
            <a:avLst/>
            <a:gdLst/>
            <a:ahLst/>
            <a:rect l="l" t="t" r="r" b="b"/>
            <a:pathLst>
              <a:path w="599" h="1294">
                <a:moveTo>
                  <a:pt x="284" y="1163"/>
                </a:moveTo>
                <a:lnTo>
                  <a:pt x="278" y="1181"/>
                </a:lnTo>
                <a:lnTo>
                  <a:pt x="274" y="1196"/>
                </a:lnTo>
                <a:lnTo>
                  <a:pt x="268" y="1209"/>
                </a:lnTo>
                <a:lnTo>
                  <a:pt x="265" y="1223"/>
                </a:lnTo>
                <a:lnTo>
                  <a:pt x="259" y="1234"/>
                </a:lnTo>
                <a:lnTo>
                  <a:pt x="255" y="1246"/>
                </a:lnTo>
                <a:lnTo>
                  <a:pt x="249" y="1255"/>
                </a:lnTo>
                <a:lnTo>
                  <a:pt x="245" y="1263"/>
                </a:lnTo>
                <a:lnTo>
                  <a:pt x="240" y="1271"/>
                </a:lnTo>
                <a:lnTo>
                  <a:pt x="234" y="1277"/>
                </a:lnTo>
                <a:lnTo>
                  <a:pt x="228" y="1282"/>
                </a:lnTo>
                <a:lnTo>
                  <a:pt x="222" y="1286"/>
                </a:lnTo>
                <a:lnTo>
                  <a:pt x="217" y="1290"/>
                </a:lnTo>
                <a:lnTo>
                  <a:pt x="209" y="1292"/>
                </a:lnTo>
                <a:lnTo>
                  <a:pt x="203" y="1294"/>
                </a:lnTo>
                <a:lnTo>
                  <a:pt x="197" y="1294"/>
                </a:lnTo>
                <a:lnTo>
                  <a:pt x="190" y="1294"/>
                </a:lnTo>
                <a:lnTo>
                  <a:pt x="182" y="1292"/>
                </a:lnTo>
                <a:lnTo>
                  <a:pt x="176" y="1290"/>
                </a:lnTo>
                <a:lnTo>
                  <a:pt x="169" y="1286"/>
                </a:lnTo>
                <a:lnTo>
                  <a:pt x="161" y="1282"/>
                </a:lnTo>
                <a:lnTo>
                  <a:pt x="153" y="1277"/>
                </a:lnTo>
                <a:lnTo>
                  <a:pt x="148" y="1271"/>
                </a:lnTo>
                <a:lnTo>
                  <a:pt x="140" y="1265"/>
                </a:lnTo>
                <a:lnTo>
                  <a:pt x="132" y="1257"/>
                </a:lnTo>
                <a:lnTo>
                  <a:pt x="125" y="1248"/>
                </a:lnTo>
                <a:lnTo>
                  <a:pt x="115" y="1238"/>
                </a:lnTo>
                <a:lnTo>
                  <a:pt x="107" y="1229"/>
                </a:lnTo>
                <a:lnTo>
                  <a:pt x="100" y="1217"/>
                </a:lnTo>
                <a:lnTo>
                  <a:pt x="90" y="1204"/>
                </a:lnTo>
                <a:lnTo>
                  <a:pt x="82" y="1190"/>
                </a:lnTo>
                <a:lnTo>
                  <a:pt x="73" y="1177"/>
                </a:lnTo>
                <a:lnTo>
                  <a:pt x="65" y="1161"/>
                </a:lnTo>
                <a:lnTo>
                  <a:pt x="55" y="1148"/>
                </a:lnTo>
                <a:lnTo>
                  <a:pt x="48" y="1135"/>
                </a:lnTo>
                <a:lnTo>
                  <a:pt x="40" y="1121"/>
                </a:lnTo>
                <a:lnTo>
                  <a:pt x="34" y="1110"/>
                </a:lnTo>
                <a:lnTo>
                  <a:pt x="29" y="1098"/>
                </a:lnTo>
                <a:lnTo>
                  <a:pt x="23" y="1087"/>
                </a:lnTo>
                <a:lnTo>
                  <a:pt x="17" y="1077"/>
                </a:lnTo>
                <a:lnTo>
                  <a:pt x="13" y="1065"/>
                </a:lnTo>
                <a:lnTo>
                  <a:pt x="9" y="1056"/>
                </a:lnTo>
                <a:lnTo>
                  <a:pt x="6" y="1048"/>
                </a:lnTo>
                <a:lnTo>
                  <a:pt x="4" y="1039"/>
                </a:lnTo>
                <a:lnTo>
                  <a:pt x="2" y="1029"/>
                </a:lnTo>
                <a:lnTo>
                  <a:pt x="0" y="1021"/>
                </a:lnTo>
                <a:lnTo>
                  <a:pt x="0" y="1014"/>
                </a:lnTo>
                <a:lnTo>
                  <a:pt x="0" y="1006"/>
                </a:lnTo>
                <a:lnTo>
                  <a:pt x="0" y="996"/>
                </a:lnTo>
                <a:lnTo>
                  <a:pt x="2" y="989"/>
                </a:lnTo>
                <a:lnTo>
                  <a:pt x="6" y="983"/>
                </a:lnTo>
                <a:lnTo>
                  <a:pt x="9" y="977"/>
                </a:lnTo>
                <a:lnTo>
                  <a:pt x="17" y="973"/>
                </a:lnTo>
                <a:lnTo>
                  <a:pt x="21" y="971"/>
                </a:lnTo>
                <a:lnTo>
                  <a:pt x="25" y="969"/>
                </a:lnTo>
                <a:lnTo>
                  <a:pt x="30" y="968"/>
                </a:lnTo>
                <a:lnTo>
                  <a:pt x="36" y="968"/>
                </a:lnTo>
                <a:lnTo>
                  <a:pt x="42" y="968"/>
                </a:lnTo>
                <a:lnTo>
                  <a:pt x="48" y="968"/>
                </a:lnTo>
                <a:lnTo>
                  <a:pt x="57" y="966"/>
                </a:lnTo>
                <a:lnTo>
                  <a:pt x="67" y="966"/>
                </a:lnTo>
                <a:lnTo>
                  <a:pt x="77" y="962"/>
                </a:lnTo>
                <a:lnTo>
                  <a:pt x="84" y="958"/>
                </a:lnTo>
                <a:lnTo>
                  <a:pt x="92" y="952"/>
                </a:lnTo>
                <a:lnTo>
                  <a:pt x="100" y="944"/>
                </a:lnTo>
                <a:lnTo>
                  <a:pt x="105" y="937"/>
                </a:lnTo>
                <a:lnTo>
                  <a:pt x="111" y="927"/>
                </a:lnTo>
                <a:lnTo>
                  <a:pt x="111" y="925"/>
                </a:lnTo>
                <a:lnTo>
                  <a:pt x="113" y="923"/>
                </a:lnTo>
                <a:lnTo>
                  <a:pt x="115" y="920"/>
                </a:lnTo>
                <a:lnTo>
                  <a:pt x="119" y="916"/>
                </a:lnTo>
                <a:lnTo>
                  <a:pt x="121" y="910"/>
                </a:lnTo>
                <a:lnTo>
                  <a:pt x="125" y="904"/>
                </a:lnTo>
                <a:lnTo>
                  <a:pt x="128" y="897"/>
                </a:lnTo>
                <a:lnTo>
                  <a:pt x="132" y="889"/>
                </a:lnTo>
                <a:lnTo>
                  <a:pt x="138" y="881"/>
                </a:lnTo>
                <a:lnTo>
                  <a:pt x="144" y="872"/>
                </a:lnTo>
                <a:lnTo>
                  <a:pt x="149" y="860"/>
                </a:lnTo>
                <a:lnTo>
                  <a:pt x="155" y="849"/>
                </a:lnTo>
                <a:lnTo>
                  <a:pt x="161" y="837"/>
                </a:lnTo>
                <a:lnTo>
                  <a:pt x="167" y="824"/>
                </a:lnTo>
                <a:lnTo>
                  <a:pt x="174" y="808"/>
                </a:lnTo>
                <a:lnTo>
                  <a:pt x="182" y="795"/>
                </a:lnTo>
                <a:lnTo>
                  <a:pt x="190" y="779"/>
                </a:lnTo>
                <a:lnTo>
                  <a:pt x="197" y="762"/>
                </a:lnTo>
                <a:lnTo>
                  <a:pt x="207" y="745"/>
                </a:lnTo>
                <a:lnTo>
                  <a:pt x="215" y="726"/>
                </a:lnTo>
                <a:lnTo>
                  <a:pt x="224" y="706"/>
                </a:lnTo>
                <a:lnTo>
                  <a:pt x="234" y="687"/>
                </a:lnTo>
                <a:lnTo>
                  <a:pt x="244" y="666"/>
                </a:lnTo>
                <a:lnTo>
                  <a:pt x="253" y="645"/>
                </a:lnTo>
                <a:lnTo>
                  <a:pt x="265" y="622"/>
                </a:lnTo>
                <a:lnTo>
                  <a:pt x="274" y="599"/>
                </a:lnTo>
                <a:lnTo>
                  <a:pt x="286" y="576"/>
                </a:lnTo>
                <a:lnTo>
                  <a:pt x="297" y="551"/>
                </a:lnTo>
                <a:lnTo>
                  <a:pt x="309" y="526"/>
                </a:lnTo>
                <a:lnTo>
                  <a:pt x="320" y="499"/>
                </a:lnTo>
                <a:lnTo>
                  <a:pt x="332" y="472"/>
                </a:lnTo>
                <a:lnTo>
                  <a:pt x="345" y="444"/>
                </a:lnTo>
                <a:lnTo>
                  <a:pt x="357" y="417"/>
                </a:lnTo>
                <a:lnTo>
                  <a:pt x="370" y="390"/>
                </a:lnTo>
                <a:lnTo>
                  <a:pt x="382" y="363"/>
                </a:lnTo>
                <a:lnTo>
                  <a:pt x="393" y="338"/>
                </a:lnTo>
                <a:lnTo>
                  <a:pt x="405" y="315"/>
                </a:lnTo>
                <a:lnTo>
                  <a:pt x="414" y="292"/>
                </a:lnTo>
                <a:lnTo>
                  <a:pt x="426" y="269"/>
                </a:lnTo>
                <a:lnTo>
                  <a:pt x="435" y="248"/>
                </a:lnTo>
                <a:lnTo>
                  <a:pt x="447" y="227"/>
                </a:lnTo>
                <a:lnTo>
                  <a:pt x="457" y="207"/>
                </a:lnTo>
                <a:lnTo>
                  <a:pt x="466" y="188"/>
                </a:lnTo>
                <a:lnTo>
                  <a:pt x="476" y="171"/>
                </a:lnTo>
                <a:lnTo>
                  <a:pt x="483" y="154"/>
                </a:lnTo>
                <a:lnTo>
                  <a:pt x="493" y="138"/>
                </a:lnTo>
                <a:lnTo>
                  <a:pt x="501" y="123"/>
                </a:lnTo>
                <a:lnTo>
                  <a:pt x="508" y="110"/>
                </a:lnTo>
                <a:lnTo>
                  <a:pt x="516" y="96"/>
                </a:lnTo>
                <a:lnTo>
                  <a:pt x="524" y="83"/>
                </a:lnTo>
                <a:lnTo>
                  <a:pt x="531" y="71"/>
                </a:lnTo>
                <a:lnTo>
                  <a:pt x="537" y="62"/>
                </a:lnTo>
                <a:lnTo>
                  <a:pt x="545" y="52"/>
                </a:lnTo>
                <a:lnTo>
                  <a:pt x="551" y="42"/>
                </a:lnTo>
                <a:lnTo>
                  <a:pt x="556" y="35"/>
                </a:lnTo>
                <a:lnTo>
                  <a:pt x="562" y="27"/>
                </a:lnTo>
                <a:lnTo>
                  <a:pt x="566" y="21"/>
                </a:lnTo>
                <a:lnTo>
                  <a:pt x="572" y="15"/>
                </a:lnTo>
                <a:lnTo>
                  <a:pt x="576" y="10"/>
                </a:lnTo>
                <a:lnTo>
                  <a:pt x="579" y="6"/>
                </a:lnTo>
                <a:lnTo>
                  <a:pt x="583" y="4"/>
                </a:lnTo>
                <a:lnTo>
                  <a:pt x="585" y="2"/>
                </a:lnTo>
                <a:lnTo>
                  <a:pt x="589" y="0"/>
                </a:lnTo>
                <a:lnTo>
                  <a:pt x="591" y="0"/>
                </a:lnTo>
                <a:lnTo>
                  <a:pt x="593" y="2"/>
                </a:lnTo>
                <a:lnTo>
                  <a:pt x="595" y="4"/>
                </a:lnTo>
                <a:lnTo>
                  <a:pt x="597" y="8"/>
                </a:lnTo>
                <a:lnTo>
                  <a:pt x="599" y="12"/>
                </a:lnTo>
                <a:lnTo>
                  <a:pt x="599" y="17"/>
                </a:lnTo>
                <a:lnTo>
                  <a:pt x="599" y="23"/>
                </a:lnTo>
                <a:lnTo>
                  <a:pt x="599" y="31"/>
                </a:lnTo>
                <a:lnTo>
                  <a:pt x="599" y="39"/>
                </a:lnTo>
                <a:lnTo>
                  <a:pt x="597" y="48"/>
                </a:lnTo>
                <a:lnTo>
                  <a:pt x="597" y="58"/>
                </a:lnTo>
                <a:lnTo>
                  <a:pt x="595" y="69"/>
                </a:lnTo>
                <a:lnTo>
                  <a:pt x="593" y="81"/>
                </a:lnTo>
                <a:lnTo>
                  <a:pt x="591" y="94"/>
                </a:lnTo>
                <a:lnTo>
                  <a:pt x="587" y="108"/>
                </a:lnTo>
                <a:lnTo>
                  <a:pt x="585" y="121"/>
                </a:lnTo>
                <a:lnTo>
                  <a:pt x="581" y="136"/>
                </a:lnTo>
                <a:lnTo>
                  <a:pt x="578" y="154"/>
                </a:lnTo>
                <a:lnTo>
                  <a:pt x="574" y="171"/>
                </a:lnTo>
                <a:lnTo>
                  <a:pt x="570" y="188"/>
                </a:lnTo>
                <a:lnTo>
                  <a:pt x="564" y="207"/>
                </a:lnTo>
                <a:lnTo>
                  <a:pt x="560" y="229"/>
                </a:lnTo>
                <a:lnTo>
                  <a:pt x="554" y="250"/>
                </a:lnTo>
                <a:lnTo>
                  <a:pt x="549" y="271"/>
                </a:lnTo>
                <a:lnTo>
                  <a:pt x="543" y="294"/>
                </a:lnTo>
                <a:lnTo>
                  <a:pt x="535" y="317"/>
                </a:lnTo>
                <a:lnTo>
                  <a:pt x="530" y="342"/>
                </a:lnTo>
                <a:lnTo>
                  <a:pt x="522" y="369"/>
                </a:lnTo>
                <a:lnTo>
                  <a:pt x="514" y="394"/>
                </a:lnTo>
                <a:lnTo>
                  <a:pt x="506" y="422"/>
                </a:lnTo>
                <a:lnTo>
                  <a:pt x="499" y="449"/>
                </a:lnTo>
                <a:lnTo>
                  <a:pt x="489" y="480"/>
                </a:lnTo>
                <a:lnTo>
                  <a:pt x="482" y="511"/>
                </a:lnTo>
                <a:lnTo>
                  <a:pt x="470" y="541"/>
                </a:lnTo>
                <a:lnTo>
                  <a:pt x="460" y="572"/>
                </a:lnTo>
                <a:lnTo>
                  <a:pt x="451" y="603"/>
                </a:lnTo>
                <a:lnTo>
                  <a:pt x="441" y="632"/>
                </a:lnTo>
                <a:lnTo>
                  <a:pt x="434" y="660"/>
                </a:lnTo>
                <a:lnTo>
                  <a:pt x="424" y="689"/>
                </a:lnTo>
                <a:lnTo>
                  <a:pt x="416" y="716"/>
                </a:lnTo>
                <a:lnTo>
                  <a:pt x="407" y="743"/>
                </a:lnTo>
                <a:lnTo>
                  <a:pt x="399" y="768"/>
                </a:lnTo>
                <a:lnTo>
                  <a:pt x="391" y="793"/>
                </a:lnTo>
                <a:lnTo>
                  <a:pt x="384" y="818"/>
                </a:lnTo>
                <a:lnTo>
                  <a:pt x="376" y="843"/>
                </a:lnTo>
                <a:lnTo>
                  <a:pt x="370" y="866"/>
                </a:lnTo>
                <a:lnTo>
                  <a:pt x="363" y="887"/>
                </a:lnTo>
                <a:lnTo>
                  <a:pt x="357" y="908"/>
                </a:lnTo>
                <a:lnTo>
                  <a:pt x="351" y="929"/>
                </a:lnTo>
                <a:lnTo>
                  <a:pt x="343" y="950"/>
                </a:lnTo>
                <a:lnTo>
                  <a:pt x="338" y="969"/>
                </a:lnTo>
                <a:lnTo>
                  <a:pt x="334" y="989"/>
                </a:lnTo>
                <a:lnTo>
                  <a:pt x="328" y="1006"/>
                </a:lnTo>
                <a:lnTo>
                  <a:pt x="322" y="1023"/>
                </a:lnTo>
                <a:lnTo>
                  <a:pt x="318" y="1040"/>
                </a:lnTo>
                <a:lnTo>
                  <a:pt x="313" y="1056"/>
                </a:lnTo>
                <a:lnTo>
                  <a:pt x="309" y="1071"/>
                </a:lnTo>
                <a:lnTo>
                  <a:pt x="305" y="1085"/>
                </a:lnTo>
                <a:lnTo>
                  <a:pt x="301" y="1098"/>
                </a:lnTo>
                <a:lnTo>
                  <a:pt x="297" y="1111"/>
                </a:lnTo>
                <a:lnTo>
                  <a:pt x="293" y="1123"/>
                </a:lnTo>
                <a:lnTo>
                  <a:pt x="292" y="1135"/>
                </a:lnTo>
                <a:lnTo>
                  <a:pt x="288" y="1144"/>
                </a:lnTo>
                <a:lnTo>
                  <a:pt x="286" y="1154"/>
                </a:lnTo>
                <a:lnTo>
                  <a:pt x="284" y="116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Freeform 114"/>
          <p:cNvSpPr/>
          <p:nvPr/>
        </p:nvSpPr>
        <p:spPr>
          <a:xfrm>
            <a:off x="6345360" y="2762280"/>
            <a:ext cx="979200" cy="684360"/>
          </a:xfrm>
          <a:custGeom>
            <a:avLst/>
            <a:gdLst/>
            <a:ahLst/>
            <a:rect l="l" t="t" r="r" b="b"/>
            <a:pathLst>
              <a:path w="1234" h="862">
                <a:moveTo>
                  <a:pt x="913" y="209"/>
                </a:moveTo>
                <a:lnTo>
                  <a:pt x="911" y="207"/>
                </a:lnTo>
                <a:lnTo>
                  <a:pt x="910" y="205"/>
                </a:lnTo>
                <a:lnTo>
                  <a:pt x="906" y="205"/>
                </a:lnTo>
                <a:lnTo>
                  <a:pt x="904" y="205"/>
                </a:lnTo>
                <a:lnTo>
                  <a:pt x="900" y="203"/>
                </a:lnTo>
                <a:lnTo>
                  <a:pt x="894" y="203"/>
                </a:lnTo>
                <a:lnTo>
                  <a:pt x="890" y="203"/>
                </a:lnTo>
                <a:lnTo>
                  <a:pt x="885" y="203"/>
                </a:lnTo>
                <a:lnTo>
                  <a:pt x="879" y="203"/>
                </a:lnTo>
                <a:lnTo>
                  <a:pt x="871" y="203"/>
                </a:lnTo>
                <a:lnTo>
                  <a:pt x="863" y="203"/>
                </a:lnTo>
                <a:lnTo>
                  <a:pt x="856" y="205"/>
                </a:lnTo>
                <a:lnTo>
                  <a:pt x="848" y="205"/>
                </a:lnTo>
                <a:lnTo>
                  <a:pt x="839" y="205"/>
                </a:lnTo>
                <a:lnTo>
                  <a:pt x="829" y="207"/>
                </a:lnTo>
                <a:lnTo>
                  <a:pt x="817" y="207"/>
                </a:lnTo>
                <a:lnTo>
                  <a:pt x="808" y="209"/>
                </a:lnTo>
                <a:lnTo>
                  <a:pt x="796" y="211"/>
                </a:lnTo>
                <a:lnTo>
                  <a:pt x="783" y="213"/>
                </a:lnTo>
                <a:lnTo>
                  <a:pt x="771" y="215"/>
                </a:lnTo>
                <a:lnTo>
                  <a:pt x="758" y="217"/>
                </a:lnTo>
                <a:lnTo>
                  <a:pt x="743" y="219"/>
                </a:lnTo>
                <a:lnTo>
                  <a:pt x="729" y="220"/>
                </a:lnTo>
                <a:lnTo>
                  <a:pt x="712" y="222"/>
                </a:lnTo>
                <a:lnTo>
                  <a:pt x="696" y="224"/>
                </a:lnTo>
                <a:lnTo>
                  <a:pt x="679" y="228"/>
                </a:lnTo>
                <a:lnTo>
                  <a:pt x="662" y="230"/>
                </a:lnTo>
                <a:lnTo>
                  <a:pt x="645" y="234"/>
                </a:lnTo>
                <a:lnTo>
                  <a:pt x="625" y="238"/>
                </a:lnTo>
                <a:lnTo>
                  <a:pt x="608" y="240"/>
                </a:lnTo>
                <a:lnTo>
                  <a:pt x="587" y="244"/>
                </a:lnTo>
                <a:lnTo>
                  <a:pt x="568" y="247"/>
                </a:lnTo>
                <a:lnTo>
                  <a:pt x="547" y="253"/>
                </a:lnTo>
                <a:lnTo>
                  <a:pt x="526" y="257"/>
                </a:lnTo>
                <a:lnTo>
                  <a:pt x="506" y="261"/>
                </a:lnTo>
                <a:lnTo>
                  <a:pt x="489" y="267"/>
                </a:lnTo>
                <a:lnTo>
                  <a:pt x="470" y="270"/>
                </a:lnTo>
                <a:lnTo>
                  <a:pt x="453" y="274"/>
                </a:lnTo>
                <a:lnTo>
                  <a:pt x="435" y="278"/>
                </a:lnTo>
                <a:lnTo>
                  <a:pt x="418" y="282"/>
                </a:lnTo>
                <a:lnTo>
                  <a:pt x="403" y="286"/>
                </a:lnTo>
                <a:lnTo>
                  <a:pt x="387" y="290"/>
                </a:lnTo>
                <a:lnTo>
                  <a:pt x="372" y="293"/>
                </a:lnTo>
                <a:lnTo>
                  <a:pt x="359" y="295"/>
                </a:lnTo>
                <a:lnTo>
                  <a:pt x="343" y="299"/>
                </a:lnTo>
                <a:lnTo>
                  <a:pt x="332" y="301"/>
                </a:lnTo>
                <a:lnTo>
                  <a:pt x="318" y="305"/>
                </a:lnTo>
                <a:lnTo>
                  <a:pt x="307" y="307"/>
                </a:lnTo>
                <a:lnTo>
                  <a:pt x="295" y="309"/>
                </a:lnTo>
                <a:lnTo>
                  <a:pt x="284" y="311"/>
                </a:lnTo>
                <a:lnTo>
                  <a:pt x="272" y="313"/>
                </a:lnTo>
                <a:lnTo>
                  <a:pt x="263" y="315"/>
                </a:lnTo>
                <a:lnTo>
                  <a:pt x="253" y="316"/>
                </a:lnTo>
                <a:lnTo>
                  <a:pt x="245" y="318"/>
                </a:lnTo>
                <a:lnTo>
                  <a:pt x="236" y="320"/>
                </a:lnTo>
                <a:lnTo>
                  <a:pt x="228" y="322"/>
                </a:lnTo>
                <a:lnTo>
                  <a:pt x="220" y="322"/>
                </a:lnTo>
                <a:lnTo>
                  <a:pt x="215" y="324"/>
                </a:lnTo>
                <a:lnTo>
                  <a:pt x="207" y="324"/>
                </a:lnTo>
                <a:lnTo>
                  <a:pt x="201" y="324"/>
                </a:lnTo>
                <a:lnTo>
                  <a:pt x="197" y="326"/>
                </a:lnTo>
                <a:lnTo>
                  <a:pt x="192" y="326"/>
                </a:lnTo>
                <a:lnTo>
                  <a:pt x="188" y="326"/>
                </a:lnTo>
                <a:lnTo>
                  <a:pt x="184" y="326"/>
                </a:lnTo>
                <a:lnTo>
                  <a:pt x="171" y="326"/>
                </a:lnTo>
                <a:lnTo>
                  <a:pt x="157" y="324"/>
                </a:lnTo>
                <a:lnTo>
                  <a:pt x="142" y="320"/>
                </a:lnTo>
                <a:lnTo>
                  <a:pt x="128" y="316"/>
                </a:lnTo>
                <a:lnTo>
                  <a:pt x="115" y="311"/>
                </a:lnTo>
                <a:lnTo>
                  <a:pt x="100" y="305"/>
                </a:lnTo>
                <a:lnTo>
                  <a:pt x="86" y="295"/>
                </a:lnTo>
                <a:lnTo>
                  <a:pt x="73" y="288"/>
                </a:lnTo>
                <a:lnTo>
                  <a:pt x="63" y="284"/>
                </a:lnTo>
                <a:lnTo>
                  <a:pt x="55" y="282"/>
                </a:lnTo>
                <a:lnTo>
                  <a:pt x="48" y="278"/>
                </a:lnTo>
                <a:lnTo>
                  <a:pt x="40" y="274"/>
                </a:lnTo>
                <a:lnTo>
                  <a:pt x="34" y="270"/>
                </a:lnTo>
                <a:lnTo>
                  <a:pt x="29" y="268"/>
                </a:lnTo>
                <a:lnTo>
                  <a:pt x="23" y="265"/>
                </a:lnTo>
                <a:lnTo>
                  <a:pt x="17" y="261"/>
                </a:lnTo>
                <a:lnTo>
                  <a:pt x="13" y="257"/>
                </a:lnTo>
                <a:lnTo>
                  <a:pt x="9" y="253"/>
                </a:lnTo>
                <a:lnTo>
                  <a:pt x="5" y="249"/>
                </a:lnTo>
                <a:lnTo>
                  <a:pt x="4" y="245"/>
                </a:lnTo>
                <a:lnTo>
                  <a:pt x="2" y="244"/>
                </a:lnTo>
                <a:lnTo>
                  <a:pt x="0" y="240"/>
                </a:lnTo>
                <a:lnTo>
                  <a:pt x="0" y="238"/>
                </a:lnTo>
                <a:lnTo>
                  <a:pt x="0" y="234"/>
                </a:lnTo>
                <a:lnTo>
                  <a:pt x="0" y="232"/>
                </a:lnTo>
                <a:lnTo>
                  <a:pt x="0" y="230"/>
                </a:lnTo>
                <a:lnTo>
                  <a:pt x="2" y="228"/>
                </a:lnTo>
                <a:lnTo>
                  <a:pt x="4" y="226"/>
                </a:lnTo>
                <a:lnTo>
                  <a:pt x="5" y="226"/>
                </a:lnTo>
                <a:lnTo>
                  <a:pt x="9" y="224"/>
                </a:lnTo>
                <a:lnTo>
                  <a:pt x="13" y="222"/>
                </a:lnTo>
                <a:lnTo>
                  <a:pt x="17" y="220"/>
                </a:lnTo>
                <a:lnTo>
                  <a:pt x="23" y="220"/>
                </a:lnTo>
                <a:lnTo>
                  <a:pt x="29" y="219"/>
                </a:lnTo>
                <a:lnTo>
                  <a:pt x="34" y="217"/>
                </a:lnTo>
                <a:lnTo>
                  <a:pt x="40" y="217"/>
                </a:lnTo>
                <a:lnTo>
                  <a:pt x="48" y="215"/>
                </a:lnTo>
                <a:lnTo>
                  <a:pt x="55" y="213"/>
                </a:lnTo>
                <a:lnTo>
                  <a:pt x="63" y="211"/>
                </a:lnTo>
                <a:lnTo>
                  <a:pt x="73" y="209"/>
                </a:lnTo>
                <a:lnTo>
                  <a:pt x="80" y="207"/>
                </a:lnTo>
                <a:lnTo>
                  <a:pt x="88" y="207"/>
                </a:lnTo>
                <a:lnTo>
                  <a:pt x="96" y="207"/>
                </a:lnTo>
                <a:lnTo>
                  <a:pt x="105" y="205"/>
                </a:lnTo>
                <a:lnTo>
                  <a:pt x="115" y="205"/>
                </a:lnTo>
                <a:lnTo>
                  <a:pt x="124" y="203"/>
                </a:lnTo>
                <a:lnTo>
                  <a:pt x="136" y="201"/>
                </a:lnTo>
                <a:lnTo>
                  <a:pt x="148" y="199"/>
                </a:lnTo>
                <a:lnTo>
                  <a:pt x="159" y="197"/>
                </a:lnTo>
                <a:lnTo>
                  <a:pt x="171" y="196"/>
                </a:lnTo>
                <a:lnTo>
                  <a:pt x="184" y="194"/>
                </a:lnTo>
                <a:lnTo>
                  <a:pt x="197" y="192"/>
                </a:lnTo>
                <a:lnTo>
                  <a:pt x="213" y="190"/>
                </a:lnTo>
                <a:lnTo>
                  <a:pt x="226" y="188"/>
                </a:lnTo>
                <a:lnTo>
                  <a:pt x="242" y="184"/>
                </a:lnTo>
                <a:lnTo>
                  <a:pt x="259" y="182"/>
                </a:lnTo>
                <a:lnTo>
                  <a:pt x="272" y="180"/>
                </a:lnTo>
                <a:lnTo>
                  <a:pt x="288" y="176"/>
                </a:lnTo>
                <a:lnTo>
                  <a:pt x="305" y="174"/>
                </a:lnTo>
                <a:lnTo>
                  <a:pt x="322" y="173"/>
                </a:lnTo>
                <a:lnTo>
                  <a:pt x="341" y="169"/>
                </a:lnTo>
                <a:lnTo>
                  <a:pt x="362" y="167"/>
                </a:lnTo>
                <a:lnTo>
                  <a:pt x="384" y="163"/>
                </a:lnTo>
                <a:lnTo>
                  <a:pt x="405" y="159"/>
                </a:lnTo>
                <a:lnTo>
                  <a:pt x="428" y="155"/>
                </a:lnTo>
                <a:lnTo>
                  <a:pt x="453" y="151"/>
                </a:lnTo>
                <a:lnTo>
                  <a:pt x="478" y="148"/>
                </a:lnTo>
                <a:lnTo>
                  <a:pt x="503" y="142"/>
                </a:lnTo>
                <a:lnTo>
                  <a:pt x="529" y="136"/>
                </a:lnTo>
                <a:lnTo>
                  <a:pt x="558" y="130"/>
                </a:lnTo>
                <a:lnTo>
                  <a:pt x="587" y="125"/>
                </a:lnTo>
                <a:lnTo>
                  <a:pt x="616" y="117"/>
                </a:lnTo>
                <a:lnTo>
                  <a:pt x="645" y="111"/>
                </a:lnTo>
                <a:lnTo>
                  <a:pt x="673" y="107"/>
                </a:lnTo>
                <a:lnTo>
                  <a:pt x="698" y="101"/>
                </a:lnTo>
                <a:lnTo>
                  <a:pt x="723" y="98"/>
                </a:lnTo>
                <a:lnTo>
                  <a:pt x="746" y="92"/>
                </a:lnTo>
                <a:lnTo>
                  <a:pt x="766" y="88"/>
                </a:lnTo>
                <a:lnTo>
                  <a:pt x="785" y="82"/>
                </a:lnTo>
                <a:lnTo>
                  <a:pt x="804" y="77"/>
                </a:lnTo>
                <a:lnTo>
                  <a:pt x="819" y="73"/>
                </a:lnTo>
                <a:lnTo>
                  <a:pt x="833" y="67"/>
                </a:lnTo>
                <a:lnTo>
                  <a:pt x="846" y="63"/>
                </a:lnTo>
                <a:lnTo>
                  <a:pt x="858" y="57"/>
                </a:lnTo>
                <a:lnTo>
                  <a:pt x="867" y="54"/>
                </a:lnTo>
                <a:lnTo>
                  <a:pt x="875" y="48"/>
                </a:lnTo>
                <a:lnTo>
                  <a:pt x="883" y="44"/>
                </a:lnTo>
                <a:lnTo>
                  <a:pt x="888" y="38"/>
                </a:lnTo>
                <a:lnTo>
                  <a:pt x="892" y="29"/>
                </a:lnTo>
                <a:lnTo>
                  <a:pt x="900" y="21"/>
                </a:lnTo>
                <a:lnTo>
                  <a:pt x="906" y="13"/>
                </a:lnTo>
                <a:lnTo>
                  <a:pt x="913" y="9"/>
                </a:lnTo>
                <a:lnTo>
                  <a:pt x="923" y="4"/>
                </a:lnTo>
                <a:lnTo>
                  <a:pt x="931" y="2"/>
                </a:lnTo>
                <a:lnTo>
                  <a:pt x="940" y="0"/>
                </a:lnTo>
                <a:lnTo>
                  <a:pt x="950" y="0"/>
                </a:lnTo>
                <a:lnTo>
                  <a:pt x="952" y="2"/>
                </a:lnTo>
                <a:lnTo>
                  <a:pt x="956" y="4"/>
                </a:lnTo>
                <a:lnTo>
                  <a:pt x="961" y="7"/>
                </a:lnTo>
                <a:lnTo>
                  <a:pt x="967" y="11"/>
                </a:lnTo>
                <a:lnTo>
                  <a:pt x="975" y="15"/>
                </a:lnTo>
                <a:lnTo>
                  <a:pt x="982" y="19"/>
                </a:lnTo>
                <a:lnTo>
                  <a:pt x="992" y="25"/>
                </a:lnTo>
                <a:lnTo>
                  <a:pt x="1002" y="30"/>
                </a:lnTo>
                <a:lnTo>
                  <a:pt x="1013" y="36"/>
                </a:lnTo>
                <a:lnTo>
                  <a:pt x="1025" y="42"/>
                </a:lnTo>
                <a:lnTo>
                  <a:pt x="1038" y="48"/>
                </a:lnTo>
                <a:lnTo>
                  <a:pt x="1050" y="55"/>
                </a:lnTo>
                <a:lnTo>
                  <a:pt x="1065" y="63"/>
                </a:lnTo>
                <a:lnTo>
                  <a:pt x="1078" y="73"/>
                </a:lnTo>
                <a:lnTo>
                  <a:pt x="1094" y="80"/>
                </a:lnTo>
                <a:lnTo>
                  <a:pt x="1111" y="90"/>
                </a:lnTo>
                <a:lnTo>
                  <a:pt x="1126" y="103"/>
                </a:lnTo>
                <a:lnTo>
                  <a:pt x="1140" y="115"/>
                </a:lnTo>
                <a:lnTo>
                  <a:pt x="1153" y="125"/>
                </a:lnTo>
                <a:lnTo>
                  <a:pt x="1165" y="134"/>
                </a:lnTo>
                <a:lnTo>
                  <a:pt x="1176" y="144"/>
                </a:lnTo>
                <a:lnTo>
                  <a:pt x="1186" y="153"/>
                </a:lnTo>
                <a:lnTo>
                  <a:pt x="1196" y="161"/>
                </a:lnTo>
                <a:lnTo>
                  <a:pt x="1203" y="169"/>
                </a:lnTo>
                <a:lnTo>
                  <a:pt x="1211" y="176"/>
                </a:lnTo>
                <a:lnTo>
                  <a:pt x="1217" y="182"/>
                </a:lnTo>
                <a:lnTo>
                  <a:pt x="1222" y="188"/>
                </a:lnTo>
                <a:lnTo>
                  <a:pt x="1226" y="194"/>
                </a:lnTo>
                <a:lnTo>
                  <a:pt x="1230" y="197"/>
                </a:lnTo>
                <a:lnTo>
                  <a:pt x="1232" y="201"/>
                </a:lnTo>
                <a:lnTo>
                  <a:pt x="1234" y="205"/>
                </a:lnTo>
                <a:lnTo>
                  <a:pt x="1234" y="209"/>
                </a:lnTo>
                <a:lnTo>
                  <a:pt x="1232" y="219"/>
                </a:lnTo>
                <a:lnTo>
                  <a:pt x="1230" y="228"/>
                </a:lnTo>
                <a:lnTo>
                  <a:pt x="1228" y="238"/>
                </a:lnTo>
                <a:lnTo>
                  <a:pt x="1222" y="245"/>
                </a:lnTo>
                <a:lnTo>
                  <a:pt x="1217" y="253"/>
                </a:lnTo>
                <a:lnTo>
                  <a:pt x="1213" y="257"/>
                </a:lnTo>
                <a:lnTo>
                  <a:pt x="1207" y="261"/>
                </a:lnTo>
                <a:lnTo>
                  <a:pt x="1203" y="265"/>
                </a:lnTo>
                <a:lnTo>
                  <a:pt x="1197" y="268"/>
                </a:lnTo>
                <a:lnTo>
                  <a:pt x="1190" y="270"/>
                </a:lnTo>
                <a:lnTo>
                  <a:pt x="1184" y="274"/>
                </a:lnTo>
                <a:lnTo>
                  <a:pt x="1180" y="276"/>
                </a:lnTo>
                <a:lnTo>
                  <a:pt x="1176" y="278"/>
                </a:lnTo>
                <a:lnTo>
                  <a:pt x="1172" y="282"/>
                </a:lnTo>
                <a:lnTo>
                  <a:pt x="1169" y="288"/>
                </a:lnTo>
                <a:lnTo>
                  <a:pt x="1165" y="293"/>
                </a:lnTo>
                <a:lnTo>
                  <a:pt x="1161" y="301"/>
                </a:lnTo>
                <a:lnTo>
                  <a:pt x="1155" y="309"/>
                </a:lnTo>
                <a:lnTo>
                  <a:pt x="1151" y="318"/>
                </a:lnTo>
                <a:lnTo>
                  <a:pt x="1146" y="328"/>
                </a:lnTo>
                <a:lnTo>
                  <a:pt x="1142" y="339"/>
                </a:lnTo>
                <a:lnTo>
                  <a:pt x="1136" y="351"/>
                </a:lnTo>
                <a:lnTo>
                  <a:pt x="1130" y="364"/>
                </a:lnTo>
                <a:lnTo>
                  <a:pt x="1125" y="380"/>
                </a:lnTo>
                <a:lnTo>
                  <a:pt x="1119" y="395"/>
                </a:lnTo>
                <a:lnTo>
                  <a:pt x="1113" y="412"/>
                </a:lnTo>
                <a:lnTo>
                  <a:pt x="1105" y="430"/>
                </a:lnTo>
                <a:lnTo>
                  <a:pt x="1100" y="449"/>
                </a:lnTo>
                <a:lnTo>
                  <a:pt x="1094" y="470"/>
                </a:lnTo>
                <a:lnTo>
                  <a:pt x="1086" y="489"/>
                </a:lnTo>
                <a:lnTo>
                  <a:pt x="1078" y="512"/>
                </a:lnTo>
                <a:lnTo>
                  <a:pt x="1071" y="535"/>
                </a:lnTo>
                <a:lnTo>
                  <a:pt x="1063" y="560"/>
                </a:lnTo>
                <a:lnTo>
                  <a:pt x="1055" y="585"/>
                </a:lnTo>
                <a:lnTo>
                  <a:pt x="1048" y="612"/>
                </a:lnTo>
                <a:lnTo>
                  <a:pt x="1040" y="639"/>
                </a:lnTo>
                <a:lnTo>
                  <a:pt x="1030" y="668"/>
                </a:lnTo>
                <a:lnTo>
                  <a:pt x="1023" y="697"/>
                </a:lnTo>
                <a:lnTo>
                  <a:pt x="1013" y="727"/>
                </a:lnTo>
                <a:lnTo>
                  <a:pt x="1004" y="760"/>
                </a:lnTo>
                <a:lnTo>
                  <a:pt x="994" y="792"/>
                </a:lnTo>
                <a:lnTo>
                  <a:pt x="984" y="827"/>
                </a:lnTo>
                <a:lnTo>
                  <a:pt x="975" y="862"/>
                </a:lnTo>
                <a:lnTo>
                  <a:pt x="906" y="856"/>
                </a:lnTo>
                <a:lnTo>
                  <a:pt x="839" y="848"/>
                </a:lnTo>
                <a:lnTo>
                  <a:pt x="844" y="819"/>
                </a:lnTo>
                <a:lnTo>
                  <a:pt x="850" y="789"/>
                </a:lnTo>
                <a:lnTo>
                  <a:pt x="856" y="760"/>
                </a:lnTo>
                <a:lnTo>
                  <a:pt x="860" y="733"/>
                </a:lnTo>
                <a:lnTo>
                  <a:pt x="865" y="706"/>
                </a:lnTo>
                <a:lnTo>
                  <a:pt x="869" y="679"/>
                </a:lnTo>
                <a:lnTo>
                  <a:pt x="875" y="654"/>
                </a:lnTo>
                <a:lnTo>
                  <a:pt x="879" y="631"/>
                </a:lnTo>
                <a:lnTo>
                  <a:pt x="885" y="606"/>
                </a:lnTo>
                <a:lnTo>
                  <a:pt x="888" y="585"/>
                </a:lnTo>
                <a:lnTo>
                  <a:pt x="892" y="562"/>
                </a:lnTo>
                <a:lnTo>
                  <a:pt x="896" y="541"/>
                </a:lnTo>
                <a:lnTo>
                  <a:pt x="900" y="522"/>
                </a:lnTo>
                <a:lnTo>
                  <a:pt x="904" y="503"/>
                </a:lnTo>
                <a:lnTo>
                  <a:pt x="908" y="483"/>
                </a:lnTo>
                <a:lnTo>
                  <a:pt x="910" y="466"/>
                </a:lnTo>
                <a:lnTo>
                  <a:pt x="913" y="449"/>
                </a:lnTo>
                <a:lnTo>
                  <a:pt x="917" y="434"/>
                </a:lnTo>
                <a:lnTo>
                  <a:pt x="919" y="418"/>
                </a:lnTo>
                <a:lnTo>
                  <a:pt x="921" y="405"/>
                </a:lnTo>
                <a:lnTo>
                  <a:pt x="925" y="391"/>
                </a:lnTo>
                <a:lnTo>
                  <a:pt x="927" y="378"/>
                </a:lnTo>
                <a:lnTo>
                  <a:pt x="929" y="366"/>
                </a:lnTo>
                <a:lnTo>
                  <a:pt x="931" y="357"/>
                </a:lnTo>
                <a:lnTo>
                  <a:pt x="933" y="345"/>
                </a:lnTo>
                <a:lnTo>
                  <a:pt x="933" y="338"/>
                </a:lnTo>
                <a:lnTo>
                  <a:pt x="934" y="328"/>
                </a:lnTo>
                <a:lnTo>
                  <a:pt x="934" y="320"/>
                </a:lnTo>
                <a:lnTo>
                  <a:pt x="936" y="315"/>
                </a:lnTo>
                <a:lnTo>
                  <a:pt x="936" y="309"/>
                </a:lnTo>
                <a:lnTo>
                  <a:pt x="936" y="303"/>
                </a:lnTo>
                <a:lnTo>
                  <a:pt x="936" y="299"/>
                </a:lnTo>
                <a:lnTo>
                  <a:pt x="936" y="286"/>
                </a:lnTo>
                <a:lnTo>
                  <a:pt x="934" y="270"/>
                </a:lnTo>
                <a:lnTo>
                  <a:pt x="933" y="257"/>
                </a:lnTo>
                <a:lnTo>
                  <a:pt x="929" y="244"/>
                </a:lnTo>
                <a:lnTo>
                  <a:pt x="925" y="232"/>
                </a:lnTo>
                <a:lnTo>
                  <a:pt x="921" y="222"/>
                </a:lnTo>
                <a:lnTo>
                  <a:pt x="919" y="219"/>
                </a:lnTo>
                <a:lnTo>
                  <a:pt x="917" y="215"/>
                </a:lnTo>
                <a:lnTo>
                  <a:pt x="915" y="211"/>
                </a:lnTo>
                <a:lnTo>
                  <a:pt x="913" y="20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Freeform 115"/>
          <p:cNvSpPr/>
          <p:nvPr/>
        </p:nvSpPr>
        <p:spPr>
          <a:xfrm>
            <a:off x="5541840" y="3489480"/>
            <a:ext cx="290520" cy="330120"/>
          </a:xfrm>
          <a:custGeom>
            <a:avLst/>
            <a:gdLst/>
            <a:ahLst/>
            <a:rect l="l" t="t" r="r" b="b"/>
            <a:pathLst>
              <a:path w="367" h="417">
                <a:moveTo>
                  <a:pt x="0" y="66"/>
                </a:moveTo>
                <a:lnTo>
                  <a:pt x="0" y="50"/>
                </a:lnTo>
                <a:lnTo>
                  <a:pt x="2" y="39"/>
                </a:lnTo>
                <a:lnTo>
                  <a:pt x="4" y="27"/>
                </a:lnTo>
                <a:lnTo>
                  <a:pt x="8" y="18"/>
                </a:lnTo>
                <a:lnTo>
                  <a:pt x="10" y="14"/>
                </a:lnTo>
                <a:lnTo>
                  <a:pt x="12" y="10"/>
                </a:lnTo>
                <a:lnTo>
                  <a:pt x="14" y="6"/>
                </a:lnTo>
                <a:lnTo>
                  <a:pt x="16" y="4"/>
                </a:lnTo>
                <a:lnTo>
                  <a:pt x="18" y="2"/>
                </a:lnTo>
                <a:lnTo>
                  <a:pt x="21" y="0"/>
                </a:lnTo>
                <a:lnTo>
                  <a:pt x="23" y="0"/>
                </a:lnTo>
                <a:lnTo>
                  <a:pt x="25" y="0"/>
                </a:lnTo>
                <a:lnTo>
                  <a:pt x="27" y="0"/>
                </a:lnTo>
                <a:lnTo>
                  <a:pt x="31" y="0"/>
                </a:lnTo>
                <a:lnTo>
                  <a:pt x="37" y="2"/>
                </a:lnTo>
                <a:lnTo>
                  <a:pt x="41" y="4"/>
                </a:lnTo>
                <a:lnTo>
                  <a:pt x="48" y="6"/>
                </a:lnTo>
                <a:lnTo>
                  <a:pt x="56" y="10"/>
                </a:lnTo>
                <a:lnTo>
                  <a:pt x="64" y="14"/>
                </a:lnTo>
                <a:lnTo>
                  <a:pt x="73" y="18"/>
                </a:lnTo>
                <a:lnTo>
                  <a:pt x="83" y="21"/>
                </a:lnTo>
                <a:lnTo>
                  <a:pt x="94" y="27"/>
                </a:lnTo>
                <a:lnTo>
                  <a:pt x="108" y="31"/>
                </a:lnTo>
                <a:lnTo>
                  <a:pt x="121" y="37"/>
                </a:lnTo>
                <a:lnTo>
                  <a:pt x="135" y="44"/>
                </a:lnTo>
                <a:lnTo>
                  <a:pt x="150" y="50"/>
                </a:lnTo>
                <a:lnTo>
                  <a:pt x="167" y="58"/>
                </a:lnTo>
                <a:lnTo>
                  <a:pt x="186" y="66"/>
                </a:lnTo>
                <a:lnTo>
                  <a:pt x="204" y="71"/>
                </a:lnTo>
                <a:lnTo>
                  <a:pt x="221" y="81"/>
                </a:lnTo>
                <a:lnTo>
                  <a:pt x="236" y="89"/>
                </a:lnTo>
                <a:lnTo>
                  <a:pt x="252" y="96"/>
                </a:lnTo>
                <a:lnTo>
                  <a:pt x="267" y="104"/>
                </a:lnTo>
                <a:lnTo>
                  <a:pt x="281" y="114"/>
                </a:lnTo>
                <a:lnTo>
                  <a:pt x="292" y="121"/>
                </a:lnTo>
                <a:lnTo>
                  <a:pt x="304" y="131"/>
                </a:lnTo>
                <a:lnTo>
                  <a:pt x="315" y="139"/>
                </a:lnTo>
                <a:lnTo>
                  <a:pt x="325" y="146"/>
                </a:lnTo>
                <a:lnTo>
                  <a:pt x="332" y="156"/>
                </a:lnTo>
                <a:lnTo>
                  <a:pt x="340" y="163"/>
                </a:lnTo>
                <a:lnTo>
                  <a:pt x="346" y="171"/>
                </a:lnTo>
                <a:lnTo>
                  <a:pt x="352" y="181"/>
                </a:lnTo>
                <a:lnTo>
                  <a:pt x="355" y="188"/>
                </a:lnTo>
                <a:lnTo>
                  <a:pt x="359" y="196"/>
                </a:lnTo>
                <a:lnTo>
                  <a:pt x="363" y="215"/>
                </a:lnTo>
                <a:lnTo>
                  <a:pt x="365" y="234"/>
                </a:lnTo>
                <a:lnTo>
                  <a:pt x="367" y="254"/>
                </a:lnTo>
                <a:lnTo>
                  <a:pt x="367" y="273"/>
                </a:lnTo>
                <a:lnTo>
                  <a:pt x="367" y="290"/>
                </a:lnTo>
                <a:lnTo>
                  <a:pt x="365" y="307"/>
                </a:lnTo>
                <a:lnTo>
                  <a:pt x="363" y="325"/>
                </a:lnTo>
                <a:lnTo>
                  <a:pt x="359" y="340"/>
                </a:lnTo>
                <a:lnTo>
                  <a:pt x="355" y="348"/>
                </a:lnTo>
                <a:lnTo>
                  <a:pt x="353" y="357"/>
                </a:lnTo>
                <a:lnTo>
                  <a:pt x="350" y="365"/>
                </a:lnTo>
                <a:lnTo>
                  <a:pt x="348" y="373"/>
                </a:lnTo>
                <a:lnTo>
                  <a:pt x="344" y="380"/>
                </a:lnTo>
                <a:lnTo>
                  <a:pt x="340" y="386"/>
                </a:lnTo>
                <a:lnTo>
                  <a:pt x="336" y="392"/>
                </a:lnTo>
                <a:lnTo>
                  <a:pt x="332" y="398"/>
                </a:lnTo>
                <a:lnTo>
                  <a:pt x="328" y="401"/>
                </a:lnTo>
                <a:lnTo>
                  <a:pt x="325" y="407"/>
                </a:lnTo>
                <a:lnTo>
                  <a:pt x="319" y="409"/>
                </a:lnTo>
                <a:lnTo>
                  <a:pt x="315" y="413"/>
                </a:lnTo>
                <a:lnTo>
                  <a:pt x="311" y="415"/>
                </a:lnTo>
                <a:lnTo>
                  <a:pt x="305" y="417"/>
                </a:lnTo>
                <a:lnTo>
                  <a:pt x="302" y="417"/>
                </a:lnTo>
                <a:lnTo>
                  <a:pt x="298" y="417"/>
                </a:lnTo>
                <a:lnTo>
                  <a:pt x="292" y="417"/>
                </a:lnTo>
                <a:lnTo>
                  <a:pt x="286" y="415"/>
                </a:lnTo>
                <a:lnTo>
                  <a:pt x="281" y="411"/>
                </a:lnTo>
                <a:lnTo>
                  <a:pt x="273" y="407"/>
                </a:lnTo>
                <a:lnTo>
                  <a:pt x="265" y="403"/>
                </a:lnTo>
                <a:lnTo>
                  <a:pt x="257" y="396"/>
                </a:lnTo>
                <a:lnTo>
                  <a:pt x="248" y="388"/>
                </a:lnTo>
                <a:lnTo>
                  <a:pt x="238" y="380"/>
                </a:lnTo>
                <a:lnTo>
                  <a:pt x="229" y="371"/>
                </a:lnTo>
                <a:lnTo>
                  <a:pt x="217" y="359"/>
                </a:lnTo>
                <a:lnTo>
                  <a:pt x="206" y="348"/>
                </a:lnTo>
                <a:lnTo>
                  <a:pt x="194" y="334"/>
                </a:lnTo>
                <a:lnTo>
                  <a:pt x="181" y="321"/>
                </a:lnTo>
                <a:lnTo>
                  <a:pt x="167" y="307"/>
                </a:lnTo>
                <a:lnTo>
                  <a:pt x="152" y="290"/>
                </a:lnTo>
                <a:lnTo>
                  <a:pt x="137" y="275"/>
                </a:lnTo>
                <a:lnTo>
                  <a:pt x="121" y="258"/>
                </a:lnTo>
                <a:lnTo>
                  <a:pt x="106" y="240"/>
                </a:lnTo>
                <a:lnTo>
                  <a:pt x="92" y="223"/>
                </a:lnTo>
                <a:lnTo>
                  <a:pt x="81" y="208"/>
                </a:lnTo>
                <a:lnTo>
                  <a:pt x="69" y="192"/>
                </a:lnTo>
                <a:lnTo>
                  <a:pt x="58" y="177"/>
                </a:lnTo>
                <a:lnTo>
                  <a:pt x="50" y="163"/>
                </a:lnTo>
                <a:lnTo>
                  <a:pt x="41" y="150"/>
                </a:lnTo>
                <a:lnTo>
                  <a:pt x="33" y="137"/>
                </a:lnTo>
                <a:lnTo>
                  <a:pt x="25" y="123"/>
                </a:lnTo>
                <a:lnTo>
                  <a:pt x="19" y="112"/>
                </a:lnTo>
                <a:lnTo>
                  <a:pt x="14" y="100"/>
                </a:lnTo>
                <a:lnTo>
                  <a:pt x="10" y="91"/>
                </a:lnTo>
                <a:lnTo>
                  <a:pt x="6" y="81"/>
                </a:lnTo>
                <a:lnTo>
                  <a:pt x="2" y="73"/>
                </a:lnTo>
                <a:lnTo>
                  <a:pt x="0" y="6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Freeform 116"/>
          <p:cNvSpPr/>
          <p:nvPr/>
        </p:nvSpPr>
        <p:spPr>
          <a:xfrm>
            <a:off x="5776920" y="2959200"/>
            <a:ext cx="336600" cy="309600"/>
          </a:xfrm>
          <a:custGeom>
            <a:avLst/>
            <a:gdLst/>
            <a:ahLst/>
            <a:rect l="l" t="t" r="r" b="b"/>
            <a:pathLst>
              <a:path w="424" h="392">
                <a:moveTo>
                  <a:pt x="332" y="392"/>
                </a:moveTo>
                <a:lnTo>
                  <a:pt x="326" y="390"/>
                </a:lnTo>
                <a:lnTo>
                  <a:pt x="320" y="386"/>
                </a:lnTo>
                <a:lnTo>
                  <a:pt x="315" y="380"/>
                </a:lnTo>
                <a:lnTo>
                  <a:pt x="307" y="375"/>
                </a:lnTo>
                <a:lnTo>
                  <a:pt x="297" y="369"/>
                </a:lnTo>
                <a:lnTo>
                  <a:pt x="288" y="359"/>
                </a:lnTo>
                <a:lnTo>
                  <a:pt x="278" y="352"/>
                </a:lnTo>
                <a:lnTo>
                  <a:pt x="267" y="340"/>
                </a:lnTo>
                <a:lnTo>
                  <a:pt x="255" y="329"/>
                </a:lnTo>
                <a:lnTo>
                  <a:pt x="242" y="317"/>
                </a:lnTo>
                <a:lnTo>
                  <a:pt x="228" y="302"/>
                </a:lnTo>
                <a:lnTo>
                  <a:pt x="213" y="286"/>
                </a:lnTo>
                <a:lnTo>
                  <a:pt x="197" y="269"/>
                </a:lnTo>
                <a:lnTo>
                  <a:pt x="182" y="252"/>
                </a:lnTo>
                <a:lnTo>
                  <a:pt x="165" y="231"/>
                </a:lnTo>
                <a:lnTo>
                  <a:pt x="148" y="210"/>
                </a:lnTo>
                <a:lnTo>
                  <a:pt x="128" y="188"/>
                </a:lnTo>
                <a:lnTo>
                  <a:pt x="113" y="167"/>
                </a:lnTo>
                <a:lnTo>
                  <a:pt x="98" y="148"/>
                </a:lnTo>
                <a:lnTo>
                  <a:pt x="82" y="131"/>
                </a:lnTo>
                <a:lnTo>
                  <a:pt x="69" y="114"/>
                </a:lnTo>
                <a:lnTo>
                  <a:pt x="57" y="98"/>
                </a:lnTo>
                <a:lnTo>
                  <a:pt x="46" y="85"/>
                </a:lnTo>
                <a:lnTo>
                  <a:pt x="36" y="71"/>
                </a:lnTo>
                <a:lnTo>
                  <a:pt x="27" y="60"/>
                </a:lnTo>
                <a:lnTo>
                  <a:pt x="21" y="50"/>
                </a:lnTo>
                <a:lnTo>
                  <a:pt x="13" y="41"/>
                </a:lnTo>
                <a:lnTo>
                  <a:pt x="7" y="33"/>
                </a:lnTo>
                <a:lnTo>
                  <a:pt x="4" y="27"/>
                </a:lnTo>
                <a:lnTo>
                  <a:pt x="2" y="21"/>
                </a:lnTo>
                <a:lnTo>
                  <a:pt x="0" y="16"/>
                </a:lnTo>
                <a:lnTo>
                  <a:pt x="0" y="14"/>
                </a:lnTo>
                <a:lnTo>
                  <a:pt x="0" y="12"/>
                </a:lnTo>
                <a:lnTo>
                  <a:pt x="0" y="10"/>
                </a:lnTo>
                <a:lnTo>
                  <a:pt x="2" y="8"/>
                </a:lnTo>
                <a:lnTo>
                  <a:pt x="4" y="6"/>
                </a:lnTo>
                <a:lnTo>
                  <a:pt x="6" y="4"/>
                </a:lnTo>
                <a:lnTo>
                  <a:pt x="9" y="4"/>
                </a:lnTo>
                <a:lnTo>
                  <a:pt x="13" y="2"/>
                </a:lnTo>
                <a:lnTo>
                  <a:pt x="19" y="2"/>
                </a:lnTo>
                <a:lnTo>
                  <a:pt x="25" y="2"/>
                </a:lnTo>
                <a:lnTo>
                  <a:pt x="30" y="0"/>
                </a:lnTo>
                <a:lnTo>
                  <a:pt x="38" y="0"/>
                </a:lnTo>
                <a:lnTo>
                  <a:pt x="46" y="0"/>
                </a:lnTo>
                <a:lnTo>
                  <a:pt x="54" y="0"/>
                </a:lnTo>
                <a:lnTo>
                  <a:pt x="63" y="0"/>
                </a:lnTo>
                <a:lnTo>
                  <a:pt x="75" y="0"/>
                </a:lnTo>
                <a:lnTo>
                  <a:pt x="86" y="0"/>
                </a:lnTo>
                <a:lnTo>
                  <a:pt x="103" y="0"/>
                </a:lnTo>
                <a:lnTo>
                  <a:pt x="125" y="2"/>
                </a:lnTo>
                <a:lnTo>
                  <a:pt x="148" y="6"/>
                </a:lnTo>
                <a:lnTo>
                  <a:pt x="171" y="12"/>
                </a:lnTo>
                <a:lnTo>
                  <a:pt x="182" y="16"/>
                </a:lnTo>
                <a:lnTo>
                  <a:pt x="196" y="20"/>
                </a:lnTo>
                <a:lnTo>
                  <a:pt x="209" y="23"/>
                </a:lnTo>
                <a:lnTo>
                  <a:pt x="222" y="27"/>
                </a:lnTo>
                <a:lnTo>
                  <a:pt x="236" y="33"/>
                </a:lnTo>
                <a:lnTo>
                  <a:pt x="251" y="39"/>
                </a:lnTo>
                <a:lnTo>
                  <a:pt x="267" y="46"/>
                </a:lnTo>
                <a:lnTo>
                  <a:pt x="282" y="52"/>
                </a:lnTo>
                <a:lnTo>
                  <a:pt x="295" y="60"/>
                </a:lnTo>
                <a:lnTo>
                  <a:pt x="309" y="68"/>
                </a:lnTo>
                <a:lnTo>
                  <a:pt x="322" y="75"/>
                </a:lnTo>
                <a:lnTo>
                  <a:pt x="334" y="83"/>
                </a:lnTo>
                <a:lnTo>
                  <a:pt x="343" y="91"/>
                </a:lnTo>
                <a:lnTo>
                  <a:pt x="355" y="96"/>
                </a:lnTo>
                <a:lnTo>
                  <a:pt x="364" y="104"/>
                </a:lnTo>
                <a:lnTo>
                  <a:pt x="374" y="112"/>
                </a:lnTo>
                <a:lnTo>
                  <a:pt x="382" y="119"/>
                </a:lnTo>
                <a:lnTo>
                  <a:pt x="389" y="127"/>
                </a:lnTo>
                <a:lnTo>
                  <a:pt x="397" y="133"/>
                </a:lnTo>
                <a:lnTo>
                  <a:pt x="403" y="140"/>
                </a:lnTo>
                <a:lnTo>
                  <a:pt x="409" y="148"/>
                </a:lnTo>
                <a:lnTo>
                  <a:pt x="412" y="156"/>
                </a:lnTo>
                <a:lnTo>
                  <a:pt x="416" y="164"/>
                </a:lnTo>
                <a:lnTo>
                  <a:pt x="418" y="171"/>
                </a:lnTo>
                <a:lnTo>
                  <a:pt x="420" y="181"/>
                </a:lnTo>
                <a:lnTo>
                  <a:pt x="422" y="190"/>
                </a:lnTo>
                <a:lnTo>
                  <a:pt x="424" y="200"/>
                </a:lnTo>
                <a:lnTo>
                  <a:pt x="424" y="210"/>
                </a:lnTo>
                <a:lnTo>
                  <a:pt x="424" y="229"/>
                </a:lnTo>
                <a:lnTo>
                  <a:pt x="422" y="248"/>
                </a:lnTo>
                <a:lnTo>
                  <a:pt x="418" y="265"/>
                </a:lnTo>
                <a:lnTo>
                  <a:pt x="414" y="283"/>
                </a:lnTo>
                <a:lnTo>
                  <a:pt x="411" y="300"/>
                </a:lnTo>
                <a:lnTo>
                  <a:pt x="407" y="315"/>
                </a:lnTo>
                <a:lnTo>
                  <a:pt x="401" y="323"/>
                </a:lnTo>
                <a:lnTo>
                  <a:pt x="397" y="332"/>
                </a:lnTo>
                <a:lnTo>
                  <a:pt x="393" y="340"/>
                </a:lnTo>
                <a:lnTo>
                  <a:pt x="388" y="348"/>
                </a:lnTo>
                <a:lnTo>
                  <a:pt x="384" y="355"/>
                </a:lnTo>
                <a:lnTo>
                  <a:pt x="378" y="361"/>
                </a:lnTo>
                <a:lnTo>
                  <a:pt x="374" y="367"/>
                </a:lnTo>
                <a:lnTo>
                  <a:pt x="368" y="373"/>
                </a:lnTo>
                <a:lnTo>
                  <a:pt x="364" y="377"/>
                </a:lnTo>
                <a:lnTo>
                  <a:pt x="361" y="382"/>
                </a:lnTo>
                <a:lnTo>
                  <a:pt x="355" y="384"/>
                </a:lnTo>
                <a:lnTo>
                  <a:pt x="351" y="388"/>
                </a:lnTo>
                <a:lnTo>
                  <a:pt x="345" y="390"/>
                </a:lnTo>
                <a:lnTo>
                  <a:pt x="341" y="392"/>
                </a:lnTo>
                <a:lnTo>
                  <a:pt x="336" y="392"/>
                </a:lnTo>
                <a:lnTo>
                  <a:pt x="332" y="392"/>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48"/>
                                        </p:tgtEl>
                                        <p:attrNameLst>
                                          <p:attrName>style.visibility</p:attrName>
                                        </p:attrNameLst>
                                      </p:cBhvr>
                                      <p:to>
                                        <p:strVal val="visible"/>
                                      </p:to>
                                    </p:set>
                                    <p:anim calcmode="lin" valueType="num">
                                      <p:cBhvr additive="base">
                                        <p:cTn id="252" dur="500" fill="hold"/>
                                        <p:tgtEl>
                                          <p:spTgt spid="148"/>
                                        </p:tgtEl>
                                        <p:attrNameLst>
                                          <p:attrName>ppt_x</p:attrName>
                                        </p:attrNameLst>
                                      </p:cBhvr>
                                      <p:tavLst>
                                        <p:tav tm="0">
                                          <p:val>
                                            <p:strVal val="0-#ppt_w/2"/>
                                          </p:val>
                                        </p:tav>
                                        <p:tav tm="100000">
                                          <p:val>
                                            <p:strVal val="#ppt_x"/>
                                          </p:val>
                                        </p:tav>
                                      </p:tavLst>
                                    </p:anim>
                                    <p:anim calcmode="lin" valueType="num">
                                      <p:cBhvr additive="base">
                                        <p:cTn id="253"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8"/>
                                        </p:tgtEl>
                                        <p:attrNameLst>
                                          <p:attrName>style.visibility</p:attrName>
                                        </p:attrNameLst>
                                      </p:cBhvr>
                                      <p:to>
                                        <p:strVal val="visible"/>
                                      </p:to>
                                    </p:set>
                                    <p:animEffect filter="wipe(left)" transition="in">
                                      <p:cBhvr additive="repl">
                                        <p:cTn id="258" dur="500"/>
                                        <p:tgtEl>
                                          <p:spTgt spid="158"/>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500"/>
                                        <p:tgtEl>
                                          <p:spTgt spid="157"/>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4">
                                  <p:stCondLst>
                                    <p:cond delay="0"/>
                                  </p:stCondLst>
                                  <p:childTnLst>
                                    <p:set>
                                      <p:cBhvr>
                                        <p:cTn id="267" dur="1" fill="hold">
                                          <p:stCondLst>
                                            <p:cond delay="0"/>
                                          </p:stCondLst>
                                        </p:cTn>
                                        <p:tgtEl>
                                          <p:spTgt spid="155"/>
                                        </p:tgtEl>
                                        <p:attrNameLst>
                                          <p:attrName>style.visibility</p:attrName>
                                        </p:attrNameLst>
                                      </p:cBhvr>
                                      <p:to>
                                        <p:strVal val="visible"/>
                                      </p:to>
                                    </p:set>
                                    <p:animEffect filter="wipe(down)" transition="in">
                                      <p:cBhvr additive="repl">
                                        <p:cTn id="268" dur="500"/>
                                        <p:tgtEl>
                                          <p:spTgt spid="155"/>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6"/>
                                        </p:tgtEl>
                                        <p:attrNameLst>
                                          <p:attrName>style.visibility</p:attrName>
                                        </p:attrNameLst>
                                      </p:cBhvr>
                                      <p:to>
                                        <p:strVal val="visible"/>
                                      </p:to>
                                    </p:set>
                                    <p:animEffect filter="wipe(left)" transition="in">
                                      <p:cBhvr additive="repl">
                                        <p:cTn id="273" dur="500"/>
                                        <p:tgtEl>
                                          <p:spTgt spid="156"/>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4"/>
                                        </p:tgtEl>
                                        <p:attrNameLst>
                                          <p:attrName>style.visibility</p:attrName>
                                        </p:attrNameLst>
                                      </p:cBhvr>
                                      <p:to>
                                        <p:strVal val="visible"/>
                                      </p:to>
                                    </p:set>
                                    <p:animEffect filter="wipe(left)" transition="in">
                                      <p:cBhvr additive="repl">
                                        <p:cTn id="278" dur="500"/>
                                        <p:tgtEl>
                                          <p:spTgt spid="154"/>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53"/>
                                        </p:tgtEl>
                                        <p:attrNameLst>
                                          <p:attrName>style.visibility</p:attrName>
                                        </p:attrNameLst>
                                      </p:cBhvr>
                                      <p:to>
                                        <p:strVal val="visible"/>
                                      </p:to>
                                    </p:set>
                                    <p:animEffect filter="wipe(left)" transition="in">
                                      <p:cBhvr additive="repl">
                                        <p:cTn id="283" dur="500"/>
                                        <p:tgtEl>
                                          <p:spTgt spid="153"/>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152"/>
                                        </p:tgtEl>
                                        <p:attrNameLst>
                                          <p:attrName>style.visibility</p:attrName>
                                        </p:attrNameLst>
                                      </p:cBhvr>
                                      <p:to>
                                        <p:strVal val="visible"/>
                                      </p:to>
                                    </p:set>
                                    <p:animEffect filter="wipe(up)" transition="in">
                                      <p:cBhvr additive="repl">
                                        <p:cTn id="288" dur="500"/>
                                        <p:tgtEl>
                                          <p:spTgt spid="152"/>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51"/>
                                        </p:tgtEl>
                                        <p:attrNameLst>
                                          <p:attrName>style.visibility</p:attrName>
                                        </p:attrNameLst>
                                      </p:cBhvr>
                                      <p:to>
                                        <p:strVal val="visible"/>
                                      </p:to>
                                    </p:set>
                                    <p:animEffect filter="wipe(left)" transition="in">
                                      <p:cBhvr additive="repl">
                                        <p:cTn id="293" dur="500"/>
                                        <p:tgtEl>
                                          <p:spTgt spid="15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150"/>
                                        </p:tgtEl>
                                        <p:attrNameLst>
                                          <p:attrName>style.visibility</p:attrName>
                                        </p:attrNameLst>
                                      </p:cBhvr>
                                      <p:to>
                                        <p:strVal val="visible"/>
                                      </p:to>
                                    </p:set>
                                    <p:animEffect filter="wipe(up)" transition="in">
                                      <p:cBhvr additive="repl">
                                        <p:cTn id="298" dur="500"/>
                                        <p:tgtEl>
                                          <p:spTgt spid="150"/>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1">
                                  <p:stCondLst>
                                    <p:cond delay="0"/>
                                  </p:stCondLst>
                                  <p:childTnLst>
                                    <p:set>
                                      <p:cBhvr>
                                        <p:cTn id="302" dur="1" fill="hold">
                                          <p:stCondLst>
                                            <p:cond delay="0"/>
                                          </p:stCondLst>
                                        </p:cTn>
                                        <p:tgtEl>
                                          <p:spTgt spid="149"/>
                                        </p:tgtEl>
                                        <p:attrNameLst>
                                          <p:attrName>style.visibility</p:attrName>
                                        </p:attrNameLst>
                                      </p:cBhvr>
                                      <p:to>
                                        <p:strVal val="visible"/>
                                      </p:to>
                                    </p:set>
                                    <p:animEffect filter="wipe(up)" transition="in">
                                      <p:cBhvr additive="repl">
                                        <p:cTn id="303" dur="500"/>
                                        <p:tgtEl>
                                          <p:spTgt spid="149"/>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3" presetSubtype="16">
                                  <p:stCondLst>
                                    <p:cond delay="0"/>
                                  </p:stCondLst>
                                  <p:childTnLst>
                                    <p:set>
                                      <p:cBhvr>
                                        <p:cTn id="307" dur="1" fill="hold">
                                          <p:stCondLst>
                                            <p:cond delay="0"/>
                                          </p:stCondLst>
                                        </p:cTn>
                                        <p:tgtEl>
                                          <p:spTgt spid="145"/>
                                        </p:tgtEl>
                                        <p:attrNameLst>
                                          <p:attrName>style.visibility</p:attrName>
                                        </p:attrNameLst>
                                      </p:cBhvr>
                                      <p:to>
                                        <p:strVal val="visible"/>
                                      </p:to>
                                    </p:set>
                                    <p:anim calcmode="lin" valueType="num">
                                      <p:cBhvr additive="repl">
                                        <p:cTn id="308" dur="500" fill="hold"/>
                                        <p:tgtEl>
                                          <p:spTgt spid="145"/>
                                        </p:tgtEl>
                                        <p:attrNameLst>
                                          <p:attrName>ppt_w</p:attrName>
                                        </p:attrNameLst>
                                      </p:cBhvr>
                                      <p:tavLst>
                                        <p:tav tm="0">
                                          <p:val>
                                            <p:fltVal val="0"/>
                                          </p:val>
                                        </p:tav>
                                        <p:tav tm="100000">
                                          <p:val>
                                            <p:strVal val="#ppt_w"/>
                                          </p:val>
                                        </p:tav>
                                      </p:tavLst>
                                    </p:anim>
                                    <p:anim calcmode="lin" valueType="num">
                                      <p:cBhvr additive="repl">
                                        <p:cTn id="309" dur="500" fill="hold"/>
                                        <p:tgtEl>
                                          <p:spTgt spid="145"/>
                                        </p:tgtEl>
                                        <p:attrNameLst>
                                          <p:attrName>ppt_h</p:attrName>
                                        </p:attrNameLst>
                                      </p:cBhvr>
                                      <p:tavLst>
                                        <p:tav tm="0">
                                          <p:val>
                                            <p:fltVal val="0"/>
                                          </p:val>
                                        </p:tav>
                                        <p:tav tm="100000">
                                          <p:val>
                                            <p:strVal val="#ppt_h"/>
                                          </p:val>
                                        </p:tav>
                                      </p:tavLst>
                                    </p:anim>
                                    <p:animEffect filter="fade" transition="in">
                                      <p:cBhvr additive="repl">
                                        <p:cTn id="310"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吟</a:t>
            </a:r>
            <a:endParaRPr b="0" lang="en-US" sz="8000" spc="-1" strike="noStrike">
              <a:solidFill>
                <a:srgbClr val="000000"/>
              </a:solidFill>
              <a:latin typeface="Calibri"/>
            </a:endParaRPr>
          </a:p>
        </p:txBody>
      </p:sp>
      <p:graphicFrame>
        <p:nvGraphicFramePr>
          <p:cNvPr id="160"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61" name="组合 3"/>
          <p:cNvGrpSpPr/>
          <p:nvPr/>
        </p:nvGrpSpPr>
        <p:grpSpPr>
          <a:xfrm>
            <a:off x="1208160" y="3975120"/>
            <a:ext cx="2840040" cy="1571760"/>
            <a:chOff x="1208160" y="3975120"/>
            <a:chExt cx="2840040" cy="1571760"/>
          </a:xfrm>
        </p:grpSpPr>
        <p:pic>
          <p:nvPicPr>
            <p:cNvPr id="162" name="图示 4" descr=""/>
            <p:cNvPicPr/>
            <p:nvPr/>
          </p:nvPicPr>
          <p:blipFill>
            <a:blip r:embed="rId1"/>
            <a:stretch/>
          </p:blipFill>
          <p:spPr>
            <a:xfrm>
              <a:off x="1208160" y="3975120"/>
              <a:ext cx="2840040" cy="1571760"/>
            </a:xfrm>
            <a:prstGeom prst="rect">
              <a:avLst/>
            </a:prstGeom>
            <a:ln w="0">
              <a:noFill/>
            </a:ln>
          </p:spPr>
        </p:pic>
        <p:sp>
          <p:nvSpPr>
            <p:cNvPr id="163" name="矩形 2"/>
            <p:cNvSpPr/>
            <p:nvPr/>
          </p:nvSpPr>
          <p:spPr>
            <a:xfrm>
              <a:off x="1221120" y="4587840"/>
              <a:ext cx="2815200" cy="551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a:t>
              </a:r>
              <a:r>
                <a:rPr b="1" lang="zh-CN" sz="2000" spc="-1" strike="noStrike">
                  <a:solidFill>
                    <a:srgbClr val="000000"/>
                  </a:solidFill>
                  <a:latin typeface="仿宋"/>
                  <a:ea typeface="仿宋"/>
                </a:rPr>
                <a:t>口”小且偏上，右部撇、捺要舒展。</a:t>
              </a:r>
              <a:endParaRPr b="0" lang="en-US" sz="2000" spc="-1" strike="noStrike">
                <a:solidFill>
                  <a:srgbClr val="000000"/>
                </a:solidFill>
                <a:latin typeface="Calibri"/>
              </a:endParaRPr>
            </a:p>
          </p:txBody>
        </p:sp>
      </p:grpSp>
      <p:sp>
        <p:nvSpPr>
          <p:cNvPr id="164" name="矩形 2"/>
          <p:cNvSpPr/>
          <p:nvPr/>
        </p:nvSpPr>
        <p:spPr>
          <a:xfrm>
            <a:off x="2193840" y="1855800"/>
            <a:ext cx="1006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yín</a:t>
            </a:r>
            <a:endParaRPr b="0" lang="en-US" sz="4800" spc="-1" strike="noStrike">
              <a:solidFill>
                <a:srgbClr val="000000"/>
              </a:solidFill>
              <a:latin typeface="Calibri"/>
            </a:endParaRPr>
          </a:p>
        </p:txBody>
      </p:sp>
      <p:sp>
        <p:nvSpPr>
          <p:cNvPr id="165" name="Freeform 66"/>
          <p:cNvSpPr/>
          <p:nvPr/>
        </p:nvSpPr>
        <p:spPr>
          <a:xfrm>
            <a:off x="6167520" y="4110120"/>
            <a:ext cx="941400" cy="957240"/>
          </a:xfrm>
          <a:custGeom>
            <a:avLst/>
            <a:gdLst/>
            <a:ahLst/>
            <a:rect l="l" t="t" r="r" b="b"/>
            <a:pathLst>
              <a:path w="1186" h="1207">
                <a:moveTo>
                  <a:pt x="165" y="389"/>
                </a:moveTo>
                <a:lnTo>
                  <a:pt x="159" y="389"/>
                </a:lnTo>
                <a:lnTo>
                  <a:pt x="155" y="387"/>
                </a:lnTo>
                <a:lnTo>
                  <a:pt x="150" y="387"/>
                </a:lnTo>
                <a:lnTo>
                  <a:pt x="144" y="385"/>
                </a:lnTo>
                <a:lnTo>
                  <a:pt x="138" y="384"/>
                </a:lnTo>
                <a:lnTo>
                  <a:pt x="132" y="380"/>
                </a:lnTo>
                <a:lnTo>
                  <a:pt x="121" y="372"/>
                </a:lnTo>
                <a:lnTo>
                  <a:pt x="107" y="364"/>
                </a:lnTo>
                <a:lnTo>
                  <a:pt x="92" y="353"/>
                </a:lnTo>
                <a:lnTo>
                  <a:pt x="77" y="341"/>
                </a:lnTo>
                <a:lnTo>
                  <a:pt x="59" y="328"/>
                </a:lnTo>
                <a:lnTo>
                  <a:pt x="52" y="322"/>
                </a:lnTo>
                <a:lnTo>
                  <a:pt x="44" y="314"/>
                </a:lnTo>
                <a:lnTo>
                  <a:pt x="36" y="309"/>
                </a:lnTo>
                <a:lnTo>
                  <a:pt x="31" y="301"/>
                </a:lnTo>
                <a:lnTo>
                  <a:pt x="23" y="295"/>
                </a:lnTo>
                <a:lnTo>
                  <a:pt x="19" y="288"/>
                </a:lnTo>
                <a:lnTo>
                  <a:pt x="13" y="282"/>
                </a:lnTo>
                <a:lnTo>
                  <a:pt x="9" y="276"/>
                </a:lnTo>
                <a:lnTo>
                  <a:pt x="6" y="270"/>
                </a:lnTo>
                <a:lnTo>
                  <a:pt x="4" y="266"/>
                </a:lnTo>
                <a:lnTo>
                  <a:pt x="2" y="261"/>
                </a:lnTo>
                <a:lnTo>
                  <a:pt x="0" y="257"/>
                </a:lnTo>
                <a:lnTo>
                  <a:pt x="0" y="253"/>
                </a:lnTo>
                <a:lnTo>
                  <a:pt x="0" y="249"/>
                </a:lnTo>
                <a:lnTo>
                  <a:pt x="0" y="245"/>
                </a:lnTo>
                <a:lnTo>
                  <a:pt x="2" y="243"/>
                </a:lnTo>
                <a:lnTo>
                  <a:pt x="4" y="241"/>
                </a:lnTo>
                <a:lnTo>
                  <a:pt x="6" y="238"/>
                </a:lnTo>
                <a:lnTo>
                  <a:pt x="9" y="236"/>
                </a:lnTo>
                <a:lnTo>
                  <a:pt x="17" y="234"/>
                </a:lnTo>
                <a:lnTo>
                  <a:pt x="25" y="232"/>
                </a:lnTo>
                <a:lnTo>
                  <a:pt x="36" y="228"/>
                </a:lnTo>
                <a:lnTo>
                  <a:pt x="48" y="226"/>
                </a:lnTo>
                <a:lnTo>
                  <a:pt x="61" y="222"/>
                </a:lnTo>
                <a:lnTo>
                  <a:pt x="77" y="220"/>
                </a:lnTo>
                <a:lnTo>
                  <a:pt x="94" y="217"/>
                </a:lnTo>
                <a:lnTo>
                  <a:pt x="113" y="215"/>
                </a:lnTo>
                <a:lnTo>
                  <a:pt x="134" y="211"/>
                </a:lnTo>
                <a:lnTo>
                  <a:pt x="155" y="207"/>
                </a:lnTo>
                <a:lnTo>
                  <a:pt x="180" y="203"/>
                </a:lnTo>
                <a:lnTo>
                  <a:pt x="205" y="199"/>
                </a:lnTo>
                <a:lnTo>
                  <a:pt x="234" y="193"/>
                </a:lnTo>
                <a:lnTo>
                  <a:pt x="290" y="184"/>
                </a:lnTo>
                <a:lnTo>
                  <a:pt x="345" y="176"/>
                </a:lnTo>
                <a:lnTo>
                  <a:pt x="399" y="167"/>
                </a:lnTo>
                <a:lnTo>
                  <a:pt x="451" y="157"/>
                </a:lnTo>
                <a:lnTo>
                  <a:pt x="503" y="145"/>
                </a:lnTo>
                <a:lnTo>
                  <a:pt x="555" y="134"/>
                </a:lnTo>
                <a:lnTo>
                  <a:pt x="603" y="122"/>
                </a:lnTo>
                <a:lnTo>
                  <a:pt x="652" y="109"/>
                </a:lnTo>
                <a:lnTo>
                  <a:pt x="675" y="101"/>
                </a:lnTo>
                <a:lnTo>
                  <a:pt x="697" y="96"/>
                </a:lnTo>
                <a:lnTo>
                  <a:pt x="718" y="90"/>
                </a:lnTo>
                <a:lnTo>
                  <a:pt x="737" y="84"/>
                </a:lnTo>
                <a:lnTo>
                  <a:pt x="754" y="78"/>
                </a:lnTo>
                <a:lnTo>
                  <a:pt x="771" y="73"/>
                </a:lnTo>
                <a:lnTo>
                  <a:pt x="787" y="67"/>
                </a:lnTo>
                <a:lnTo>
                  <a:pt x="800" y="61"/>
                </a:lnTo>
                <a:lnTo>
                  <a:pt x="814" y="57"/>
                </a:lnTo>
                <a:lnTo>
                  <a:pt x="825" y="51"/>
                </a:lnTo>
                <a:lnTo>
                  <a:pt x="837" y="48"/>
                </a:lnTo>
                <a:lnTo>
                  <a:pt x="846" y="42"/>
                </a:lnTo>
                <a:lnTo>
                  <a:pt x="854" y="38"/>
                </a:lnTo>
                <a:lnTo>
                  <a:pt x="862" y="32"/>
                </a:lnTo>
                <a:lnTo>
                  <a:pt x="867" y="28"/>
                </a:lnTo>
                <a:lnTo>
                  <a:pt x="871" y="25"/>
                </a:lnTo>
                <a:lnTo>
                  <a:pt x="877" y="19"/>
                </a:lnTo>
                <a:lnTo>
                  <a:pt x="883" y="15"/>
                </a:lnTo>
                <a:lnTo>
                  <a:pt x="890" y="11"/>
                </a:lnTo>
                <a:lnTo>
                  <a:pt x="898" y="7"/>
                </a:lnTo>
                <a:lnTo>
                  <a:pt x="908" y="3"/>
                </a:lnTo>
                <a:lnTo>
                  <a:pt x="917" y="2"/>
                </a:lnTo>
                <a:lnTo>
                  <a:pt x="929" y="0"/>
                </a:lnTo>
                <a:lnTo>
                  <a:pt x="942" y="0"/>
                </a:lnTo>
                <a:lnTo>
                  <a:pt x="948" y="0"/>
                </a:lnTo>
                <a:lnTo>
                  <a:pt x="956" y="0"/>
                </a:lnTo>
                <a:lnTo>
                  <a:pt x="961" y="2"/>
                </a:lnTo>
                <a:lnTo>
                  <a:pt x="969" y="3"/>
                </a:lnTo>
                <a:lnTo>
                  <a:pt x="979" y="5"/>
                </a:lnTo>
                <a:lnTo>
                  <a:pt x="986" y="9"/>
                </a:lnTo>
                <a:lnTo>
                  <a:pt x="996" y="13"/>
                </a:lnTo>
                <a:lnTo>
                  <a:pt x="1004" y="17"/>
                </a:lnTo>
                <a:lnTo>
                  <a:pt x="1013" y="23"/>
                </a:lnTo>
                <a:lnTo>
                  <a:pt x="1023" y="26"/>
                </a:lnTo>
                <a:lnTo>
                  <a:pt x="1034" y="34"/>
                </a:lnTo>
                <a:lnTo>
                  <a:pt x="1044" y="40"/>
                </a:lnTo>
                <a:lnTo>
                  <a:pt x="1056" y="48"/>
                </a:lnTo>
                <a:lnTo>
                  <a:pt x="1067" y="55"/>
                </a:lnTo>
                <a:lnTo>
                  <a:pt x="1081" y="63"/>
                </a:lnTo>
                <a:lnTo>
                  <a:pt x="1092" y="73"/>
                </a:lnTo>
                <a:lnTo>
                  <a:pt x="1104" y="84"/>
                </a:lnTo>
                <a:lnTo>
                  <a:pt x="1113" y="94"/>
                </a:lnTo>
                <a:lnTo>
                  <a:pt x="1123" y="103"/>
                </a:lnTo>
                <a:lnTo>
                  <a:pt x="1130" y="113"/>
                </a:lnTo>
                <a:lnTo>
                  <a:pt x="1140" y="122"/>
                </a:lnTo>
                <a:lnTo>
                  <a:pt x="1148" y="130"/>
                </a:lnTo>
                <a:lnTo>
                  <a:pt x="1153" y="138"/>
                </a:lnTo>
                <a:lnTo>
                  <a:pt x="1161" y="145"/>
                </a:lnTo>
                <a:lnTo>
                  <a:pt x="1167" y="151"/>
                </a:lnTo>
                <a:lnTo>
                  <a:pt x="1171" y="159"/>
                </a:lnTo>
                <a:lnTo>
                  <a:pt x="1175" y="163"/>
                </a:lnTo>
                <a:lnTo>
                  <a:pt x="1178" y="169"/>
                </a:lnTo>
                <a:lnTo>
                  <a:pt x="1182" y="172"/>
                </a:lnTo>
                <a:lnTo>
                  <a:pt x="1184" y="176"/>
                </a:lnTo>
                <a:lnTo>
                  <a:pt x="1184" y="180"/>
                </a:lnTo>
                <a:lnTo>
                  <a:pt x="1186" y="182"/>
                </a:lnTo>
                <a:lnTo>
                  <a:pt x="1184" y="192"/>
                </a:lnTo>
                <a:lnTo>
                  <a:pt x="1182" y="201"/>
                </a:lnTo>
                <a:lnTo>
                  <a:pt x="1180" y="209"/>
                </a:lnTo>
                <a:lnTo>
                  <a:pt x="1176" y="218"/>
                </a:lnTo>
                <a:lnTo>
                  <a:pt x="1171" y="228"/>
                </a:lnTo>
                <a:lnTo>
                  <a:pt x="1165" y="236"/>
                </a:lnTo>
                <a:lnTo>
                  <a:pt x="1159" y="245"/>
                </a:lnTo>
                <a:lnTo>
                  <a:pt x="1152" y="255"/>
                </a:lnTo>
                <a:lnTo>
                  <a:pt x="1148" y="257"/>
                </a:lnTo>
                <a:lnTo>
                  <a:pt x="1144" y="261"/>
                </a:lnTo>
                <a:lnTo>
                  <a:pt x="1140" y="265"/>
                </a:lnTo>
                <a:lnTo>
                  <a:pt x="1136" y="270"/>
                </a:lnTo>
                <a:lnTo>
                  <a:pt x="1130" y="276"/>
                </a:lnTo>
                <a:lnTo>
                  <a:pt x="1127" y="284"/>
                </a:lnTo>
                <a:lnTo>
                  <a:pt x="1121" y="291"/>
                </a:lnTo>
                <a:lnTo>
                  <a:pt x="1115" y="299"/>
                </a:lnTo>
                <a:lnTo>
                  <a:pt x="1109" y="307"/>
                </a:lnTo>
                <a:lnTo>
                  <a:pt x="1104" y="318"/>
                </a:lnTo>
                <a:lnTo>
                  <a:pt x="1098" y="328"/>
                </a:lnTo>
                <a:lnTo>
                  <a:pt x="1092" y="339"/>
                </a:lnTo>
                <a:lnTo>
                  <a:pt x="1084" y="351"/>
                </a:lnTo>
                <a:lnTo>
                  <a:pt x="1077" y="364"/>
                </a:lnTo>
                <a:lnTo>
                  <a:pt x="1071" y="380"/>
                </a:lnTo>
                <a:lnTo>
                  <a:pt x="1063" y="393"/>
                </a:lnTo>
                <a:lnTo>
                  <a:pt x="1056" y="408"/>
                </a:lnTo>
                <a:lnTo>
                  <a:pt x="1046" y="426"/>
                </a:lnTo>
                <a:lnTo>
                  <a:pt x="1038" y="443"/>
                </a:lnTo>
                <a:lnTo>
                  <a:pt x="1031" y="460"/>
                </a:lnTo>
                <a:lnTo>
                  <a:pt x="1021" y="479"/>
                </a:lnTo>
                <a:lnTo>
                  <a:pt x="1011" y="499"/>
                </a:lnTo>
                <a:lnTo>
                  <a:pt x="1002" y="520"/>
                </a:lnTo>
                <a:lnTo>
                  <a:pt x="992" y="541"/>
                </a:lnTo>
                <a:lnTo>
                  <a:pt x="983" y="564"/>
                </a:lnTo>
                <a:lnTo>
                  <a:pt x="973" y="587"/>
                </a:lnTo>
                <a:lnTo>
                  <a:pt x="963" y="610"/>
                </a:lnTo>
                <a:lnTo>
                  <a:pt x="952" y="635"/>
                </a:lnTo>
                <a:lnTo>
                  <a:pt x="940" y="660"/>
                </a:lnTo>
                <a:lnTo>
                  <a:pt x="929" y="687"/>
                </a:lnTo>
                <a:lnTo>
                  <a:pt x="919" y="714"/>
                </a:lnTo>
                <a:lnTo>
                  <a:pt x="908" y="742"/>
                </a:lnTo>
                <a:lnTo>
                  <a:pt x="894" y="771"/>
                </a:lnTo>
                <a:lnTo>
                  <a:pt x="881" y="800"/>
                </a:lnTo>
                <a:lnTo>
                  <a:pt x="869" y="827"/>
                </a:lnTo>
                <a:lnTo>
                  <a:pt x="858" y="854"/>
                </a:lnTo>
                <a:lnTo>
                  <a:pt x="846" y="879"/>
                </a:lnTo>
                <a:lnTo>
                  <a:pt x="835" y="904"/>
                </a:lnTo>
                <a:lnTo>
                  <a:pt x="825" y="927"/>
                </a:lnTo>
                <a:lnTo>
                  <a:pt x="814" y="950"/>
                </a:lnTo>
                <a:lnTo>
                  <a:pt x="804" y="971"/>
                </a:lnTo>
                <a:lnTo>
                  <a:pt x="795" y="990"/>
                </a:lnTo>
                <a:lnTo>
                  <a:pt x="785" y="1011"/>
                </a:lnTo>
                <a:lnTo>
                  <a:pt x="775" y="1028"/>
                </a:lnTo>
                <a:lnTo>
                  <a:pt x="766" y="1046"/>
                </a:lnTo>
                <a:lnTo>
                  <a:pt x="758" y="1063"/>
                </a:lnTo>
                <a:lnTo>
                  <a:pt x="750" y="1078"/>
                </a:lnTo>
                <a:lnTo>
                  <a:pt x="743" y="1094"/>
                </a:lnTo>
                <a:lnTo>
                  <a:pt x="735" y="1107"/>
                </a:lnTo>
                <a:lnTo>
                  <a:pt x="727" y="1121"/>
                </a:lnTo>
                <a:lnTo>
                  <a:pt x="722" y="1132"/>
                </a:lnTo>
                <a:lnTo>
                  <a:pt x="714" y="1144"/>
                </a:lnTo>
                <a:lnTo>
                  <a:pt x="708" y="1153"/>
                </a:lnTo>
                <a:lnTo>
                  <a:pt x="702" y="1163"/>
                </a:lnTo>
                <a:lnTo>
                  <a:pt x="697" y="1170"/>
                </a:lnTo>
                <a:lnTo>
                  <a:pt x="691" y="1178"/>
                </a:lnTo>
                <a:lnTo>
                  <a:pt x="687" y="1184"/>
                </a:lnTo>
                <a:lnTo>
                  <a:pt x="683" y="1190"/>
                </a:lnTo>
                <a:lnTo>
                  <a:pt x="677" y="1195"/>
                </a:lnTo>
                <a:lnTo>
                  <a:pt x="674" y="1199"/>
                </a:lnTo>
                <a:lnTo>
                  <a:pt x="672" y="1203"/>
                </a:lnTo>
                <a:lnTo>
                  <a:pt x="668" y="1205"/>
                </a:lnTo>
                <a:lnTo>
                  <a:pt x="666" y="1205"/>
                </a:lnTo>
                <a:lnTo>
                  <a:pt x="664" y="1207"/>
                </a:lnTo>
                <a:lnTo>
                  <a:pt x="658" y="1205"/>
                </a:lnTo>
                <a:lnTo>
                  <a:pt x="654" y="1205"/>
                </a:lnTo>
                <a:lnTo>
                  <a:pt x="651" y="1203"/>
                </a:lnTo>
                <a:lnTo>
                  <a:pt x="647" y="1201"/>
                </a:lnTo>
                <a:lnTo>
                  <a:pt x="641" y="1199"/>
                </a:lnTo>
                <a:lnTo>
                  <a:pt x="637" y="1195"/>
                </a:lnTo>
                <a:lnTo>
                  <a:pt x="633" y="1192"/>
                </a:lnTo>
                <a:lnTo>
                  <a:pt x="629" y="1188"/>
                </a:lnTo>
                <a:lnTo>
                  <a:pt x="626" y="1182"/>
                </a:lnTo>
                <a:lnTo>
                  <a:pt x="622" y="1178"/>
                </a:lnTo>
                <a:lnTo>
                  <a:pt x="620" y="1170"/>
                </a:lnTo>
                <a:lnTo>
                  <a:pt x="616" y="1165"/>
                </a:lnTo>
                <a:lnTo>
                  <a:pt x="612" y="1157"/>
                </a:lnTo>
                <a:lnTo>
                  <a:pt x="610" y="1149"/>
                </a:lnTo>
                <a:lnTo>
                  <a:pt x="606" y="1142"/>
                </a:lnTo>
                <a:lnTo>
                  <a:pt x="604" y="1132"/>
                </a:lnTo>
                <a:lnTo>
                  <a:pt x="601" y="1121"/>
                </a:lnTo>
                <a:lnTo>
                  <a:pt x="597" y="1111"/>
                </a:lnTo>
                <a:lnTo>
                  <a:pt x="593" y="1101"/>
                </a:lnTo>
                <a:lnTo>
                  <a:pt x="591" y="1092"/>
                </a:lnTo>
                <a:lnTo>
                  <a:pt x="587" y="1082"/>
                </a:lnTo>
                <a:lnTo>
                  <a:pt x="585" y="1075"/>
                </a:lnTo>
                <a:lnTo>
                  <a:pt x="583" y="1067"/>
                </a:lnTo>
                <a:lnTo>
                  <a:pt x="581" y="1059"/>
                </a:lnTo>
                <a:lnTo>
                  <a:pt x="580" y="1053"/>
                </a:lnTo>
                <a:lnTo>
                  <a:pt x="578" y="1048"/>
                </a:lnTo>
                <a:lnTo>
                  <a:pt x="578" y="1042"/>
                </a:lnTo>
                <a:lnTo>
                  <a:pt x="578" y="1036"/>
                </a:lnTo>
                <a:lnTo>
                  <a:pt x="578" y="1032"/>
                </a:lnTo>
                <a:lnTo>
                  <a:pt x="580" y="1028"/>
                </a:lnTo>
                <a:lnTo>
                  <a:pt x="580" y="1027"/>
                </a:lnTo>
                <a:lnTo>
                  <a:pt x="581" y="1023"/>
                </a:lnTo>
                <a:lnTo>
                  <a:pt x="581" y="1021"/>
                </a:lnTo>
                <a:lnTo>
                  <a:pt x="583" y="1017"/>
                </a:lnTo>
                <a:lnTo>
                  <a:pt x="585" y="1013"/>
                </a:lnTo>
                <a:lnTo>
                  <a:pt x="587" y="1007"/>
                </a:lnTo>
                <a:lnTo>
                  <a:pt x="589" y="1002"/>
                </a:lnTo>
                <a:lnTo>
                  <a:pt x="593" y="994"/>
                </a:lnTo>
                <a:lnTo>
                  <a:pt x="597" y="986"/>
                </a:lnTo>
                <a:lnTo>
                  <a:pt x="601" y="977"/>
                </a:lnTo>
                <a:lnTo>
                  <a:pt x="606" y="969"/>
                </a:lnTo>
                <a:lnTo>
                  <a:pt x="612" y="957"/>
                </a:lnTo>
                <a:lnTo>
                  <a:pt x="620" y="946"/>
                </a:lnTo>
                <a:lnTo>
                  <a:pt x="626" y="934"/>
                </a:lnTo>
                <a:lnTo>
                  <a:pt x="635" y="921"/>
                </a:lnTo>
                <a:lnTo>
                  <a:pt x="643" y="908"/>
                </a:lnTo>
                <a:lnTo>
                  <a:pt x="652" y="892"/>
                </a:lnTo>
                <a:lnTo>
                  <a:pt x="664" y="877"/>
                </a:lnTo>
                <a:lnTo>
                  <a:pt x="674" y="858"/>
                </a:lnTo>
                <a:lnTo>
                  <a:pt x="685" y="838"/>
                </a:lnTo>
                <a:lnTo>
                  <a:pt x="695" y="819"/>
                </a:lnTo>
                <a:lnTo>
                  <a:pt x="706" y="798"/>
                </a:lnTo>
                <a:lnTo>
                  <a:pt x="718" y="777"/>
                </a:lnTo>
                <a:lnTo>
                  <a:pt x="727" y="756"/>
                </a:lnTo>
                <a:lnTo>
                  <a:pt x="739" y="733"/>
                </a:lnTo>
                <a:lnTo>
                  <a:pt x="750" y="710"/>
                </a:lnTo>
                <a:lnTo>
                  <a:pt x="762" y="685"/>
                </a:lnTo>
                <a:lnTo>
                  <a:pt x="771" y="660"/>
                </a:lnTo>
                <a:lnTo>
                  <a:pt x="783" y="633"/>
                </a:lnTo>
                <a:lnTo>
                  <a:pt x="795" y="606"/>
                </a:lnTo>
                <a:lnTo>
                  <a:pt x="804" y="577"/>
                </a:lnTo>
                <a:lnTo>
                  <a:pt x="816" y="549"/>
                </a:lnTo>
                <a:lnTo>
                  <a:pt x="827" y="518"/>
                </a:lnTo>
                <a:lnTo>
                  <a:pt x="837" y="487"/>
                </a:lnTo>
                <a:lnTo>
                  <a:pt x="848" y="456"/>
                </a:lnTo>
                <a:lnTo>
                  <a:pt x="858" y="426"/>
                </a:lnTo>
                <a:lnTo>
                  <a:pt x="866" y="399"/>
                </a:lnTo>
                <a:lnTo>
                  <a:pt x="873" y="372"/>
                </a:lnTo>
                <a:lnTo>
                  <a:pt x="881" y="349"/>
                </a:lnTo>
                <a:lnTo>
                  <a:pt x="887" y="326"/>
                </a:lnTo>
                <a:lnTo>
                  <a:pt x="892" y="305"/>
                </a:lnTo>
                <a:lnTo>
                  <a:pt x="898" y="286"/>
                </a:lnTo>
                <a:lnTo>
                  <a:pt x="902" y="268"/>
                </a:lnTo>
                <a:lnTo>
                  <a:pt x="904" y="253"/>
                </a:lnTo>
                <a:lnTo>
                  <a:pt x="908" y="238"/>
                </a:lnTo>
                <a:lnTo>
                  <a:pt x="910" y="226"/>
                </a:lnTo>
                <a:lnTo>
                  <a:pt x="910" y="215"/>
                </a:lnTo>
                <a:lnTo>
                  <a:pt x="910" y="207"/>
                </a:lnTo>
                <a:lnTo>
                  <a:pt x="908" y="199"/>
                </a:lnTo>
                <a:lnTo>
                  <a:pt x="908" y="193"/>
                </a:lnTo>
                <a:lnTo>
                  <a:pt x="902" y="190"/>
                </a:lnTo>
                <a:lnTo>
                  <a:pt x="898" y="186"/>
                </a:lnTo>
                <a:lnTo>
                  <a:pt x="892" y="182"/>
                </a:lnTo>
                <a:lnTo>
                  <a:pt x="887" y="180"/>
                </a:lnTo>
                <a:lnTo>
                  <a:pt x="881" y="178"/>
                </a:lnTo>
                <a:lnTo>
                  <a:pt x="875" y="176"/>
                </a:lnTo>
                <a:lnTo>
                  <a:pt x="869" y="176"/>
                </a:lnTo>
                <a:lnTo>
                  <a:pt x="862" y="176"/>
                </a:lnTo>
                <a:lnTo>
                  <a:pt x="854" y="176"/>
                </a:lnTo>
                <a:lnTo>
                  <a:pt x="846" y="176"/>
                </a:lnTo>
                <a:lnTo>
                  <a:pt x="839" y="178"/>
                </a:lnTo>
                <a:lnTo>
                  <a:pt x="829" y="180"/>
                </a:lnTo>
                <a:lnTo>
                  <a:pt x="821" y="182"/>
                </a:lnTo>
                <a:lnTo>
                  <a:pt x="812" y="186"/>
                </a:lnTo>
                <a:lnTo>
                  <a:pt x="802" y="190"/>
                </a:lnTo>
                <a:lnTo>
                  <a:pt x="791" y="193"/>
                </a:lnTo>
                <a:lnTo>
                  <a:pt x="779" y="199"/>
                </a:lnTo>
                <a:lnTo>
                  <a:pt x="768" y="203"/>
                </a:lnTo>
                <a:lnTo>
                  <a:pt x="752" y="209"/>
                </a:lnTo>
                <a:lnTo>
                  <a:pt x="739" y="215"/>
                </a:lnTo>
                <a:lnTo>
                  <a:pt x="722" y="220"/>
                </a:lnTo>
                <a:lnTo>
                  <a:pt x="704" y="226"/>
                </a:lnTo>
                <a:lnTo>
                  <a:pt x="687" y="234"/>
                </a:lnTo>
                <a:lnTo>
                  <a:pt x="666" y="240"/>
                </a:lnTo>
                <a:lnTo>
                  <a:pt x="645" y="247"/>
                </a:lnTo>
                <a:lnTo>
                  <a:pt x="622" y="253"/>
                </a:lnTo>
                <a:lnTo>
                  <a:pt x="597" y="261"/>
                </a:lnTo>
                <a:lnTo>
                  <a:pt x="572" y="268"/>
                </a:lnTo>
                <a:lnTo>
                  <a:pt x="545" y="278"/>
                </a:lnTo>
                <a:lnTo>
                  <a:pt x="516" y="286"/>
                </a:lnTo>
                <a:lnTo>
                  <a:pt x="485" y="295"/>
                </a:lnTo>
                <a:lnTo>
                  <a:pt x="455" y="305"/>
                </a:lnTo>
                <a:lnTo>
                  <a:pt x="422" y="314"/>
                </a:lnTo>
                <a:lnTo>
                  <a:pt x="393" y="326"/>
                </a:lnTo>
                <a:lnTo>
                  <a:pt x="365" y="336"/>
                </a:lnTo>
                <a:lnTo>
                  <a:pt x="340" y="343"/>
                </a:lnTo>
                <a:lnTo>
                  <a:pt x="315" y="351"/>
                </a:lnTo>
                <a:lnTo>
                  <a:pt x="292" y="359"/>
                </a:lnTo>
                <a:lnTo>
                  <a:pt x="272" y="364"/>
                </a:lnTo>
                <a:lnTo>
                  <a:pt x="253" y="370"/>
                </a:lnTo>
                <a:lnTo>
                  <a:pt x="236" y="374"/>
                </a:lnTo>
                <a:lnTo>
                  <a:pt x="221" y="378"/>
                </a:lnTo>
                <a:lnTo>
                  <a:pt x="207" y="382"/>
                </a:lnTo>
                <a:lnTo>
                  <a:pt x="196" y="385"/>
                </a:lnTo>
                <a:lnTo>
                  <a:pt x="184" y="387"/>
                </a:lnTo>
                <a:lnTo>
                  <a:pt x="176" y="387"/>
                </a:lnTo>
                <a:lnTo>
                  <a:pt x="169" y="389"/>
                </a:lnTo>
                <a:lnTo>
                  <a:pt x="165" y="38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Freeform 67"/>
          <p:cNvSpPr/>
          <p:nvPr/>
        </p:nvSpPr>
        <p:spPr>
          <a:xfrm>
            <a:off x="6491160" y="3767040"/>
            <a:ext cx="324000" cy="265320"/>
          </a:xfrm>
          <a:custGeom>
            <a:avLst/>
            <a:gdLst/>
            <a:ahLst/>
            <a:rect l="l" t="t" r="r" b="b"/>
            <a:pathLst>
              <a:path w="407" h="334">
                <a:moveTo>
                  <a:pt x="359" y="334"/>
                </a:moveTo>
                <a:lnTo>
                  <a:pt x="357" y="334"/>
                </a:lnTo>
                <a:lnTo>
                  <a:pt x="353" y="332"/>
                </a:lnTo>
                <a:lnTo>
                  <a:pt x="347" y="328"/>
                </a:lnTo>
                <a:lnTo>
                  <a:pt x="341" y="324"/>
                </a:lnTo>
                <a:lnTo>
                  <a:pt x="334" y="320"/>
                </a:lnTo>
                <a:lnTo>
                  <a:pt x="326" y="315"/>
                </a:lnTo>
                <a:lnTo>
                  <a:pt x="316" y="307"/>
                </a:lnTo>
                <a:lnTo>
                  <a:pt x="307" y="299"/>
                </a:lnTo>
                <a:lnTo>
                  <a:pt x="295" y="290"/>
                </a:lnTo>
                <a:lnTo>
                  <a:pt x="282" y="280"/>
                </a:lnTo>
                <a:lnTo>
                  <a:pt x="268" y="268"/>
                </a:lnTo>
                <a:lnTo>
                  <a:pt x="253" y="257"/>
                </a:lnTo>
                <a:lnTo>
                  <a:pt x="238" y="244"/>
                </a:lnTo>
                <a:lnTo>
                  <a:pt x="220" y="230"/>
                </a:lnTo>
                <a:lnTo>
                  <a:pt x="203" y="215"/>
                </a:lnTo>
                <a:lnTo>
                  <a:pt x="184" y="199"/>
                </a:lnTo>
                <a:lnTo>
                  <a:pt x="165" y="184"/>
                </a:lnTo>
                <a:lnTo>
                  <a:pt x="147" y="169"/>
                </a:lnTo>
                <a:lnTo>
                  <a:pt x="130" y="153"/>
                </a:lnTo>
                <a:lnTo>
                  <a:pt x="115" y="140"/>
                </a:lnTo>
                <a:lnTo>
                  <a:pt x="100" y="126"/>
                </a:lnTo>
                <a:lnTo>
                  <a:pt x="86" y="113"/>
                </a:lnTo>
                <a:lnTo>
                  <a:pt x="73" y="100"/>
                </a:lnTo>
                <a:lnTo>
                  <a:pt x="61" y="88"/>
                </a:lnTo>
                <a:lnTo>
                  <a:pt x="50" y="77"/>
                </a:lnTo>
                <a:lnTo>
                  <a:pt x="40" y="65"/>
                </a:lnTo>
                <a:lnTo>
                  <a:pt x="30" y="53"/>
                </a:lnTo>
                <a:lnTo>
                  <a:pt x="23" y="44"/>
                </a:lnTo>
                <a:lnTo>
                  <a:pt x="15" y="34"/>
                </a:lnTo>
                <a:lnTo>
                  <a:pt x="9" y="23"/>
                </a:lnTo>
                <a:lnTo>
                  <a:pt x="4" y="13"/>
                </a:lnTo>
                <a:lnTo>
                  <a:pt x="0" y="5"/>
                </a:lnTo>
                <a:lnTo>
                  <a:pt x="23" y="2"/>
                </a:lnTo>
                <a:lnTo>
                  <a:pt x="46" y="2"/>
                </a:lnTo>
                <a:lnTo>
                  <a:pt x="67" y="0"/>
                </a:lnTo>
                <a:lnTo>
                  <a:pt x="88" y="0"/>
                </a:lnTo>
                <a:lnTo>
                  <a:pt x="109" y="2"/>
                </a:lnTo>
                <a:lnTo>
                  <a:pt x="128" y="2"/>
                </a:lnTo>
                <a:lnTo>
                  <a:pt x="149" y="4"/>
                </a:lnTo>
                <a:lnTo>
                  <a:pt x="167" y="7"/>
                </a:lnTo>
                <a:lnTo>
                  <a:pt x="186" y="11"/>
                </a:lnTo>
                <a:lnTo>
                  <a:pt x="203" y="15"/>
                </a:lnTo>
                <a:lnTo>
                  <a:pt x="220" y="21"/>
                </a:lnTo>
                <a:lnTo>
                  <a:pt x="238" y="29"/>
                </a:lnTo>
                <a:lnTo>
                  <a:pt x="253" y="36"/>
                </a:lnTo>
                <a:lnTo>
                  <a:pt x="270" y="44"/>
                </a:lnTo>
                <a:lnTo>
                  <a:pt x="286" y="55"/>
                </a:lnTo>
                <a:lnTo>
                  <a:pt x="301" y="65"/>
                </a:lnTo>
                <a:lnTo>
                  <a:pt x="314" y="77"/>
                </a:lnTo>
                <a:lnTo>
                  <a:pt x="328" y="88"/>
                </a:lnTo>
                <a:lnTo>
                  <a:pt x="341" y="100"/>
                </a:lnTo>
                <a:lnTo>
                  <a:pt x="353" y="109"/>
                </a:lnTo>
                <a:lnTo>
                  <a:pt x="362" y="121"/>
                </a:lnTo>
                <a:lnTo>
                  <a:pt x="372" y="130"/>
                </a:lnTo>
                <a:lnTo>
                  <a:pt x="380" y="140"/>
                </a:lnTo>
                <a:lnTo>
                  <a:pt x="387" y="151"/>
                </a:lnTo>
                <a:lnTo>
                  <a:pt x="393" y="161"/>
                </a:lnTo>
                <a:lnTo>
                  <a:pt x="399" y="171"/>
                </a:lnTo>
                <a:lnTo>
                  <a:pt x="403" y="182"/>
                </a:lnTo>
                <a:lnTo>
                  <a:pt x="405" y="192"/>
                </a:lnTo>
                <a:lnTo>
                  <a:pt x="407" y="203"/>
                </a:lnTo>
                <a:lnTo>
                  <a:pt x="407" y="213"/>
                </a:lnTo>
                <a:lnTo>
                  <a:pt x="407" y="224"/>
                </a:lnTo>
                <a:lnTo>
                  <a:pt x="405" y="236"/>
                </a:lnTo>
                <a:lnTo>
                  <a:pt x="403" y="247"/>
                </a:lnTo>
                <a:lnTo>
                  <a:pt x="401" y="257"/>
                </a:lnTo>
                <a:lnTo>
                  <a:pt x="397" y="267"/>
                </a:lnTo>
                <a:lnTo>
                  <a:pt x="395" y="274"/>
                </a:lnTo>
                <a:lnTo>
                  <a:pt x="391" y="284"/>
                </a:lnTo>
                <a:lnTo>
                  <a:pt x="387" y="290"/>
                </a:lnTo>
                <a:lnTo>
                  <a:pt x="386" y="297"/>
                </a:lnTo>
                <a:lnTo>
                  <a:pt x="382" y="303"/>
                </a:lnTo>
                <a:lnTo>
                  <a:pt x="378" y="309"/>
                </a:lnTo>
                <a:lnTo>
                  <a:pt x="376" y="313"/>
                </a:lnTo>
                <a:lnTo>
                  <a:pt x="372" y="318"/>
                </a:lnTo>
                <a:lnTo>
                  <a:pt x="368" y="322"/>
                </a:lnTo>
                <a:lnTo>
                  <a:pt x="364" y="328"/>
                </a:lnTo>
                <a:lnTo>
                  <a:pt x="359" y="33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Freeform 68"/>
          <p:cNvSpPr/>
          <p:nvPr/>
        </p:nvSpPr>
        <p:spPr>
          <a:xfrm>
            <a:off x="6637320" y="3084480"/>
            <a:ext cx="1135080" cy="969840"/>
          </a:xfrm>
          <a:custGeom>
            <a:avLst/>
            <a:gdLst/>
            <a:ahLst/>
            <a:rect l="l" t="t" r="r" b="b"/>
            <a:pathLst>
              <a:path w="1428" h="1223">
                <a:moveTo>
                  <a:pt x="987" y="1219"/>
                </a:moveTo>
                <a:lnTo>
                  <a:pt x="956" y="1213"/>
                </a:lnTo>
                <a:lnTo>
                  <a:pt x="929" y="1207"/>
                </a:lnTo>
                <a:lnTo>
                  <a:pt x="902" y="1199"/>
                </a:lnTo>
                <a:lnTo>
                  <a:pt x="889" y="1196"/>
                </a:lnTo>
                <a:lnTo>
                  <a:pt x="877" y="1190"/>
                </a:lnTo>
                <a:lnTo>
                  <a:pt x="864" y="1186"/>
                </a:lnTo>
                <a:lnTo>
                  <a:pt x="854" y="1180"/>
                </a:lnTo>
                <a:lnTo>
                  <a:pt x="843" y="1176"/>
                </a:lnTo>
                <a:lnTo>
                  <a:pt x="833" y="1171"/>
                </a:lnTo>
                <a:lnTo>
                  <a:pt x="823" y="1165"/>
                </a:lnTo>
                <a:lnTo>
                  <a:pt x="816" y="1157"/>
                </a:lnTo>
                <a:lnTo>
                  <a:pt x="808" y="1151"/>
                </a:lnTo>
                <a:lnTo>
                  <a:pt x="800" y="1146"/>
                </a:lnTo>
                <a:lnTo>
                  <a:pt x="795" y="1138"/>
                </a:lnTo>
                <a:lnTo>
                  <a:pt x="785" y="1128"/>
                </a:lnTo>
                <a:lnTo>
                  <a:pt x="777" y="1119"/>
                </a:lnTo>
                <a:lnTo>
                  <a:pt x="766" y="1107"/>
                </a:lnTo>
                <a:lnTo>
                  <a:pt x="756" y="1096"/>
                </a:lnTo>
                <a:lnTo>
                  <a:pt x="743" y="1082"/>
                </a:lnTo>
                <a:lnTo>
                  <a:pt x="731" y="1067"/>
                </a:lnTo>
                <a:lnTo>
                  <a:pt x="716" y="1052"/>
                </a:lnTo>
                <a:lnTo>
                  <a:pt x="702" y="1034"/>
                </a:lnTo>
                <a:lnTo>
                  <a:pt x="687" y="1017"/>
                </a:lnTo>
                <a:lnTo>
                  <a:pt x="670" y="996"/>
                </a:lnTo>
                <a:lnTo>
                  <a:pt x="654" y="975"/>
                </a:lnTo>
                <a:lnTo>
                  <a:pt x="637" y="954"/>
                </a:lnTo>
                <a:lnTo>
                  <a:pt x="618" y="929"/>
                </a:lnTo>
                <a:lnTo>
                  <a:pt x="599" y="904"/>
                </a:lnTo>
                <a:lnTo>
                  <a:pt x="582" y="877"/>
                </a:lnTo>
                <a:lnTo>
                  <a:pt x="562" y="852"/>
                </a:lnTo>
                <a:lnTo>
                  <a:pt x="543" y="827"/>
                </a:lnTo>
                <a:lnTo>
                  <a:pt x="524" y="804"/>
                </a:lnTo>
                <a:lnTo>
                  <a:pt x="507" y="781"/>
                </a:lnTo>
                <a:lnTo>
                  <a:pt x="489" y="758"/>
                </a:lnTo>
                <a:lnTo>
                  <a:pt x="474" y="737"/>
                </a:lnTo>
                <a:lnTo>
                  <a:pt x="457" y="716"/>
                </a:lnTo>
                <a:lnTo>
                  <a:pt x="441" y="695"/>
                </a:lnTo>
                <a:lnTo>
                  <a:pt x="426" y="675"/>
                </a:lnTo>
                <a:lnTo>
                  <a:pt x="413" y="656"/>
                </a:lnTo>
                <a:lnTo>
                  <a:pt x="397" y="639"/>
                </a:lnTo>
                <a:lnTo>
                  <a:pt x="384" y="622"/>
                </a:lnTo>
                <a:lnTo>
                  <a:pt x="372" y="604"/>
                </a:lnTo>
                <a:lnTo>
                  <a:pt x="359" y="589"/>
                </a:lnTo>
                <a:lnTo>
                  <a:pt x="347" y="574"/>
                </a:lnTo>
                <a:lnTo>
                  <a:pt x="338" y="560"/>
                </a:lnTo>
                <a:lnTo>
                  <a:pt x="332" y="553"/>
                </a:lnTo>
                <a:lnTo>
                  <a:pt x="326" y="545"/>
                </a:lnTo>
                <a:lnTo>
                  <a:pt x="319" y="537"/>
                </a:lnTo>
                <a:lnTo>
                  <a:pt x="313" y="528"/>
                </a:lnTo>
                <a:lnTo>
                  <a:pt x="297" y="510"/>
                </a:lnTo>
                <a:lnTo>
                  <a:pt x="282" y="489"/>
                </a:lnTo>
                <a:lnTo>
                  <a:pt x="267" y="466"/>
                </a:lnTo>
                <a:lnTo>
                  <a:pt x="248" y="441"/>
                </a:lnTo>
                <a:lnTo>
                  <a:pt x="228" y="416"/>
                </a:lnTo>
                <a:lnTo>
                  <a:pt x="207" y="388"/>
                </a:lnTo>
                <a:lnTo>
                  <a:pt x="186" y="359"/>
                </a:lnTo>
                <a:lnTo>
                  <a:pt x="163" y="326"/>
                </a:lnTo>
                <a:lnTo>
                  <a:pt x="138" y="292"/>
                </a:lnTo>
                <a:lnTo>
                  <a:pt x="113" y="257"/>
                </a:lnTo>
                <a:lnTo>
                  <a:pt x="86" y="219"/>
                </a:lnTo>
                <a:lnTo>
                  <a:pt x="59" y="180"/>
                </a:lnTo>
                <a:lnTo>
                  <a:pt x="31" y="140"/>
                </a:lnTo>
                <a:lnTo>
                  <a:pt x="0" y="96"/>
                </a:lnTo>
                <a:lnTo>
                  <a:pt x="17" y="48"/>
                </a:lnTo>
                <a:lnTo>
                  <a:pt x="35" y="0"/>
                </a:lnTo>
                <a:lnTo>
                  <a:pt x="65" y="36"/>
                </a:lnTo>
                <a:lnTo>
                  <a:pt x="94" y="71"/>
                </a:lnTo>
                <a:lnTo>
                  <a:pt x="123" y="105"/>
                </a:lnTo>
                <a:lnTo>
                  <a:pt x="152" y="140"/>
                </a:lnTo>
                <a:lnTo>
                  <a:pt x="178" y="173"/>
                </a:lnTo>
                <a:lnTo>
                  <a:pt x="205" y="203"/>
                </a:lnTo>
                <a:lnTo>
                  <a:pt x="232" y="236"/>
                </a:lnTo>
                <a:lnTo>
                  <a:pt x="257" y="265"/>
                </a:lnTo>
                <a:lnTo>
                  <a:pt x="284" y="295"/>
                </a:lnTo>
                <a:lnTo>
                  <a:pt x="307" y="322"/>
                </a:lnTo>
                <a:lnTo>
                  <a:pt x="332" y="351"/>
                </a:lnTo>
                <a:lnTo>
                  <a:pt x="355" y="378"/>
                </a:lnTo>
                <a:lnTo>
                  <a:pt x="378" y="403"/>
                </a:lnTo>
                <a:lnTo>
                  <a:pt x="401" y="428"/>
                </a:lnTo>
                <a:lnTo>
                  <a:pt x="422" y="453"/>
                </a:lnTo>
                <a:lnTo>
                  <a:pt x="445" y="476"/>
                </a:lnTo>
                <a:lnTo>
                  <a:pt x="464" y="497"/>
                </a:lnTo>
                <a:lnTo>
                  <a:pt x="486" y="518"/>
                </a:lnTo>
                <a:lnTo>
                  <a:pt x="505" y="539"/>
                </a:lnTo>
                <a:lnTo>
                  <a:pt x="524" y="558"/>
                </a:lnTo>
                <a:lnTo>
                  <a:pt x="543" y="578"/>
                </a:lnTo>
                <a:lnTo>
                  <a:pt x="560" y="597"/>
                </a:lnTo>
                <a:lnTo>
                  <a:pt x="578" y="614"/>
                </a:lnTo>
                <a:lnTo>
                  <a:pt x="595" y="629"/>
                </a:lnTo>
                <a:lnTo>
                  <a:pt x="610" y="645"/>
                </a:lnTo>
                <a:lnTo>
                  <a:pt x="626" y="660"/>
                </a:lnTo>
                <a:lnTo>
                  <a:pt x="641" y="674"/>
                </a:lnTo>
                <a:lnTo>
                  <a:pt x="656" y="687"/>
                </a:lnTo>
                <a:lnTo>
                  <a:pt x="670" y="699"/>
                </a:lnTo>
                <a:lnTo>
                  <a:pt x="683" y="710"/>
                </a:lnTo>
                <a:lnTo>
                  <a:pt x="697" y="720"/>
                </a:lnTo>
                <a:lnTo>
                  <a:pt x="708" y="731"/>
                </a:lnTo>
                <a:lnTo>
                  <a:pt x="729" y="750"/>
                </a:lnTo>
                <a:lnTo>
                  <a:pt x="752" y="771"/>
                </a:lnTo>
                <a:lnTo>
                  <a:pt x="777" y="791"/>
                </a:lnTo>
                <a:lnTo>
                  <a:pt x="800" y="808"/>
                </a:lnTo>
                <a:lnTo>
                  <a:pt x="827" y="827"/>
                </a:lnTo>
                <a:lnTo>
                  <a:pt x="852" y="844"/>
                </a:lnTo>
                <a:lnTo>
                  <a:pt x="881" y="862"/>
                </a:lnTo>
                <a:lnTo>
                  <a:pt x="908" y="879"/>
                </a:lnTo>
                <a:lnTo>
                  <a:pt x="937" y="896"/>
                </a:lnTo>
                <a:lnTo>
                  <a:pt x="967" y="913"/>
                </a:lnTo>
                <a:lnTo>
                  <a:pt x="996" y="929"/>
                </a:lnTo>
                <a:lnTo>
                  <a:pt x="1029" y="946"/>
                </a:lnTo>
                <a:lnTo>
                  <a:pt x="1060" y="961"/>
                </a:lnTo>
                <a:lnTo>
                  <a:pt x="1092" y="979"/>
                </a:lnTo>
                <a:lnTo>
                  <a:pt x="1127" y="994"/>
                </a:lnTo>
                <a:lnTo>
                  <a:pt x="1161" y="1011"/>
                </a:lnTo>
                <a:lnTo>
                  <a:pt x="1192" y="1027"/>
                </a:lnTo>
                <a:lnTo>
                  <a:pt x="1223" y="1042"/>
                </a:lnTo>
                <a:lnTo>
                  <a:pt x="1236" y="1048"/>
                </a:lnTo>
                <a:lnTo>
                  <a:pt x="1250" y="1056"/>
                </a:lnTo>
                <a:lnTo>
                  <a:pt x="1263" y="1061"/>
                </a:lnTo>
                <a:lnTo>
                  <a:pt x="1276" y="1069"/>
                </a:lnTo>
                <a:lnTo>
                  <a:pt x="1288" y="1075"/>
                </a:lnTo>
                <a:lnTo>
                  <a:pt x="1299" y="1080"/>
                </a:lnTo>
                <a:lnTo>
                  <a:pt x="1311" y="1086"/>
                </a:lnTo>
                <a:lnTo>
                  <a:pt x="1321" y="1092"/>
                </a:lnTo>
                <a:lnTo>
                  <a:pt x="1332" y="1098"/>
                </a:lnTo>
                <a:lnTo>
                  <a:pt x="1342" y="1102"/>
                </a:lnTo>
                <a:lnTo>
                  <a:pt x="1351" y="1107"/>
                </a:lnTo>
                <a:lnTo>
                  <a:pt x="1359" y="1111"/>
                </a:lnTo>
                <a:lnTo>
                  <a:pt x="1367" y="1117"/>
                </a:lnTo>
                <a:lnTo>
                  <a:pt x="1374" y="1121"/>
                </a:lnTo>
                <a:lnTo>
                  <a:pt x="1382" y="1125"/>
                </a:lnTo>
                <a:lnTo>
                  <a:pt x="1390" y="1128"/>
                </a:lnTo>
                <a:lnTo>
                  <a:pt x="1395" y="1132"/>
                </a:lnTo>
                <a:lnTo>
                  <a:pt x="1401" y="1134"/>
                </a:lnTo>
                <a:lnTo>
                  <a:pt x="1405" y="1138"/>
                </a:lnTo>
                <a:lnTo>
                  <a:pt x="1411" y="1142"/>
                </a:lnTo>
                <a:lnTo>
                  <a:pt x="1415" y="1144"/>
                </a:lnTo>
                <a:lnTo>
                  <a:pt x="1418" y="1146"/>
                </a:lnTo>
                <a:lnTo>
                  <a:pt x="1420" y="1148"/>
                </a:lnTo>
                <a:lnTo>
                  <a:pt x="1422" y="1151"/>
                </a:lnTo>
                <a:lnTo>
                  <a:pt x="1424" y="1153"/>
                </a:lnTo>
                <a:lnTo>
                  <a:pt x="1426" y="1153"/>
                </a:lnTo>
                <a:lnTo>
                  <a:pt x="1428" y="1155"/>
                </a:lnTo>
                <a:lnTo>
                  <a:pt x="1428" y="1157"/>
                </a:lnTo>
                <a:lnTo>
                  <a:pt x="1426" y="1159"/>
                </a:lnTo>
                <a:lnTo>
                  <a:pt x="1426" y="1161"/>
                </a:lnTo>
                <a:lnTo>
                  <a:pt x="1422" y="1165"/>
                </a:lnTo>
                <a:lnTo>
                  <a:pt x="1418" y="1169"/>
                </a:lnTo>
                <a:lnTo>
                  <a:pt x="1413" y="1171"/>
                </a:lnTo>
                <a:lnTo>
                  <a:pt x="1407" y="1175"/>
                </a:lnTo>
                <a:lnTo>
                  <a:pt x="1399" y="1178"/>
                </a:lnTo>
                <a:lnTo>
                  <a:pt x="1392" y="1182"/>
                </a:lnTo>
                <a:lnTo>
                  <a:pt x="1382" y="1184"/>
                </a:lnTo>
                <a:lnTo>
                  <a:pt x="1370" y="1188"/>
                </a:lnTo>
                <a:lnTo>
                  <a:pt x="1359" y="1192"/>
                </a:lnTo>
                <a:lnTo>
                  <a:pt x="1344" y="1194"/>
                </a:lnTo>
                <a:lnTo>
                  <a:pt x="1330" y="1198"/>
                </a:lnTo>
                <a:lnTo>
                  <a:pt x="1313" y="1201"/>
                </a:lnTo>
                <a:lnTo>
                  <a:pt x="1296" y="1203"/>
                </a:lnTo>
                <a:lnTo>
                  <a:pt x="1276" y="1205"/>
                </a:lnTo>
                <a:lnTo>
                  <a:pt x="1238" y="1211"/>
                </a:lnTo>
                <a:lnTo>
                  <a:pt x="1200" y="1215"/>
                </a:lnTo>
                <a:lnTo>
                  <a:pt x="1163" y="1219"/>
                </a:lnTo>
                <a:lnTo>
                  <a:pt x="1127" y="1221"/>
                </a:lnTo>
                <a:lnTo>
                  <a:pt x="1092" y="1223"/>
                </a:lnTo>
                <a:lnTo>
                  <a:pt x="1056" y="1223"/>
                </a:lnTo>
                <a:lnTo>
                  <a:pt x="1038" y="1223"/>
                </a:lnTo>
                <a:lnTo>
                  <a:pt x="1021" y="1221"/>
                </a:lnTo>
                <a:lnTo>
                  <a:pt x="1004" y="1221"/>
                </a:lnTo>
                <a:lnTo>
                  <a:pt x="987" y="1219"/>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Freeform 69"/>
          <p:cNvSpPr/>
          <p:nvPr/>
        </p:nvSpPr>
        <p:spPr>
          <a:xfrm>
            <a:off x="5827680" y="2787480"/>
            <a:ext cx="981000" cy="1546560"/>
          </a:xfrm>
          <a:custGeom>
            <a:avLst/>
            <a:gdLst/>
            <a:ahLst/>
            <a:rect l="l" t="t" r="r" b="b"/>
            <a:pathLst>
              <a:path w="1236" h="1948">
                <a:moveTo>
                  <a:pt x="151" y="1873"/>
                </a:moveTo>
                <a:lnTo>
                  <a:pt x="134" y="1884"/>
                </a:lnTo>
                <a:lnTo>
                  <a:pt x="119" y="1894"/>
                </a:lnTo>
                <a:lnTo>
                  <a:pt x="103" y="1904"/>
                </a:lnTo>
                <a:lnTo>
                  <a:pt x="90" y="1911"/>
                </a:lnTo>
                <a:lnTo>
                  <a:pt x="78" y="1919"/>
                </a:lnTo>
                <a:lnTo>
                  <a:pt x="65" y="1927"/>
                </a:lnTo>
                <a:lnTo>
                  <a:pt x="55" y="1932"/>
                </a:lnTo>
                <a:lnTo>
                  <a:pt x="46" y="1936"/>
                </a:lnTo>
                <a:lnTo>
                  <a:pt x="36" y="1940"/>
                </a:lnTo>
                <a:lnTo>
                  <a:pt x="29" y="1944"/>
                </a:lnTo>
                <a:lnTo>
                  <a:pt x="21" y="1946"/>
                </a:lnTo>
                <a:lnTo>
                  <a:pt x="15" y="1948"/>
                </a:lnTo>
                <a:lnTo>
                  <a:pt x="11" y="1948"/>
                </a:lnTo>
                <a:lnTo>
                  <a:pt x="6" y="1948"/>
                </a:lnTo>
                <a:lnTo>
                  <a:pt x="4" y="1948"/>
                </a:lnTo>
                <a:lnTo>
                  <a:pt x="0" y="1946"/>
                </a:lnTo>
                <a:lnTo>
                  <a:pt x="0" y="1944"/>
                </a:lnTo>
                <a:lnTo>
                  <a:pt x="0" y="1942"/>
                </a:lnTo>
                <a:lnTo>
                  <a:pt x="0" y="1940"/>
                </a:lnTo>
                <a:lnTo>
                  <a:pt x="0" y="1938"/>
                </a:lnTo>
                <a:lnTo>
                  <a:pt x="2" y="1934"/>
                </a:lnTo>
                <a:lnTo>
                  <a:pt x="2" y="1931"/>
                </a:lnTo>
                <a:lnTo>
                  <a:pt x="6" y="1927"/>
                </a:lnTo>
                <a:lnTo>
                  <a:pt x="7" y="1923"/>
                </a:lnTo>
                <a:lnTo>
                  <a:pt x="11" y="1917"/>
                </a:lnTo>
                <a:lnTo>
                  <a:pt x="13" y="1913"/>
                </a:lnTo>
                <a:lnTo>
                  <a:pt x="19" y="1907"/>
                </a:lnTo>
                <a:lnTo>
                  <a:pt x="23" y="1900"/>
                </a:lnTo>
                <a:lnTo>
                  <a:pt x="29" y="1894"/>
                </a:lnTo>
                <a:lnTo>
                  <a:pt x="34" y="1886"/>
                </a:lnTo>
                <a:lnTo>
                  <a:pt x="40" y="1879"/>
                </a:lnTo>
                <a:lnTo>
                  <a:pt x="46" y="1871"/>
                </a:lnTo>
                <a:lnTo>
                  <a:pt x="54" y="1863"/>
                </a:lnTo>
                <a:lnTo>
                  <a:pt x="61" y="1854"/>
                </a:lnTo>
                <a:lnTo>
                  <a:pt x="69" y="1844"/>
                </a:lnTo>
                <a:lnTo>
                  <a:pt x="77" y="1835"/>
                </a:lnTo>
                <a:lnTo>
                  <a:pt x="86" y="1825"/>
                </a:lnTo>
                <a:lnTo>
                  <a:pt x="96" y="1813"/>
                </a:lnTo>
                <a:lnTo>
                  <a:pt x="107" y="1802"/>
                </a:lnTo>
                <a:lnTo>
                  <a:pt x="117" y="1790"/>
                </a:lnTo>
                <a:lnTo>
                  <a:pt x="128" y="1777"/>
                </a:lnTo>
                <a:lnTo>
                  <a:pt x="140" y="1765"/>
                </a:lnTo>
                <a:lnTo>
                  <a:pt x="151" y="1752"/>
                </a:lnTo>
                <a:lnTo>
                  <a:pt x="165" y="1739"/>
                </a:lnTo>
                <a:lnTo>
                  <a:pt x="178" y="1723"/>
                </a:lnTo>
                <a:lnTo>
                  <a:pt x="192" y="1708"/>
                </a:lnTo>
                <a:lnTo>
                  <a:pt x="207" y="1692"/>
                </a:lnTo>
                <a:lnTo>
                  <a:pt x="221" y="1677"/>
                </a:lnTo>
                <a:lnTo>
                  <a:pt x="249" y="1646"/>
                </a:lnTo>
                <a:lnTo>
                  <a:pt x="276" y="1616"/>
                </a:lnTo>
                <a:lnTo>
                  <a:pt x="332" y="1554"/>
                </a:lnTo>
                <a:lnTo>
                  <a:pt x="384" y="1489"/>
                </a:lnTo>
                <a:lnTo>
                  <a:pt x="411" y="1456"/>
                </a:lnTo>
                <a:lnTo>
                  <a:pt x="436" y="1424"/>
                </a:lnTo>
                <a:lnTo>
                  <a:pt x="460" y="1391"/>
                </a:lnTo>
                <a:lnTo>
                  <a:pt x="485" y="1359"/>
                </a:lnTo>
                <a:lnTo>
                  <a:pt x="508" y="1324"/>
                </a:lnTo>
                <a:lnTo>
                  <a:pt x="531" y="1289"/>
                </a:lnTo>
                <a:lnTo>
                  <a:pt x="555" y="1257"/>
                </a:lnTo>
                <a:lnTo>
                  <a:pt x="576" y="1222"/>
                </a:lnTo>
                <a:lnTo>
                  <a:pt x="595" y="1188"/>
                </a:lnTo>
                <a:lnTo>
                  <a:pt x="616" y="1153"/>
                </a:lnTo>
                <a:lnTo>
                  <a:pt x="635" y="1119"/>
                </a:lnTo>
                <a:lnTo>
                  <a:pt x="652" y="1086"/>
                </a:lnTo>
                <a:lnTo>
                  <a:pt x="670" y="1053"/>
                </a:lnTo>
                <a:lnTo>
                  <a:pt x="687" y="1021"/>
                </a:lnTo>
                <a:lnTo>
                  <a:pt x="702" y="988"/>
                </a:lnTo>
                <a:lnTo>
                  <a:pt x="720" y="957"/>
                </a:lnTo>
                <a:lnTo>
                  <a:pt x="733" y="927"/>
                </a:lnTo>
                <a:lnTo>
                  <a:pt x="748" y="896"/>
                </a:lnTo>
                <a:lnTo>
                  <a:pt x="762" y="867"/>
                </a:lnTo>
                <a:lnTo>
                  <a:pt x="775" y="838"/>
                </a:lnTo>
                <a:lnTo>
                  <a:pt x="789" y="810"/>
                </a:lnTo>
                <a:lnTo>
                  <a:pt x="802" y="783"/>
                </a:lnTo>
                <a:lnTo>
                  <a:pt x="814" y="756"/>
                </a:lnTo>
                <a:lnTo>
                  <a:pt x="825" y="729"/>
                </a:lnTo>
                <a:lnTo>
                  <a:pt x="837" y="704"/>
                </a:lnTo>
                <a:lnTo>
                  <a:pt x="848" y="677"/>
                </a:lnTo>
                <a:lnTo>
                  <a:pt x="864" y="627"/>
                </a:lnTo>
                <a:lnTo>
                  <a:pt x="881" y="579"/>
                </a:lnTo>
                <a:lnTo>
                  <a:pt x="898" y="531"/>
                </a:lnTo>
                <a:lnTo>
                  <a:pt x="915" y="483"/>
                </a:lnTo>
                <a:lnTo>
                  <a:pt x="931" y="437"/>
                </a:lnTo>
                <a:lnTo>
                  <a:pt x="946" y="391"/>
                </a:lnTo>
                <a:lnTo>
                  <a:pt x="961" y="345"/>
                </a:lnTo>
                <a:lnTo>
                  <a:pt x="975" y="301"/>
                </a:lnTo>
                <a:lnTo>
                  <a:pt x="981" y="280"/>
                </a:lnTo>
                <a:lnTo>
                  <a:pt x="986" y="261"/>
                </a:lnTo>
                <a:lnTo>
                  <a:pt x="990" y="241"/>
                </a:lnTo>
                <a:lnTo>
                  <a:pt x="994" y="224"/>
                </a:lnTo>
                <a:lnTo>
                  <a:pt x="998" y="207"/>
                </a:lnTo>
                <a:lnTo>
                  <a:pt x="1000" y="191"/>
                </a:lnTo>
                <a:lnTo>
                  <a:pt x="1002" y="176"/>
                </a:lnTo>
                <a:lnTo>
                  <a:pt x="1004" y="163"/>
                </a:lnTo>
                <a:lnTo>
                  <a:pt x="1004" y="149"/>
                </a:lnTo>
                <a:lnTo>
                  <a:pt x="1006" y="138"/>
                </a:lnTo>
                <a:lnTo>
                  <a:pt x="1006" y="126"/>
                </a:lnTo>
                <a:lnTo>
                  <a:pt x="1004" y="115"/>
                </a:lnTo>
                <a:lnTo>
                  <a:pt x="1004" y="105"/>
                </a:lnTo>
                <a:lnTo>
                  <a:pt x="1002" y="95"/>
                </a:lnTo>
                <a:lnTo>
                  <a:pt x="1000" y="88"/>
                </a:lnTo>
                <a:lnTo>
                  <a:pt x="998" y="80"/>
                </a:lnTo>
                <a:lnTo>
                  <a:pt x="994" y="76"/>
                </a:lnTo>
                <a:lnTo>
                  <a:pt x="990" y="71"/>
                </a:lnTo>
                <a:lnTo>
                  <a:pt x="988" y="67"/>
                </a:lnTo>
                <a:lnTo>
                  <a:pt x="986" y="61"/>
                </a:lnTo>
                <a:lnTo>
                  <a:pt x="984" y="57"/>
                </a:lnTo>
                <a:lnTo>
                  <a:pt x="983" y="53"/>
                </a:lnTo>
                <a:lnTo>
                  <a:pt x="981" y="48"/>
                </a:lnTo>
                <a:lnTo>
                  <a:pt x="981" y="44"/>
                </a:lnTo>
                <a:lnTo>
                  <a:pt x="981" y="40"/>
                </a:lnTo>
                <a:lnTo>
                  <a:pt x="983" y="34"/>
                </a:lnTo>
                <a:lnTo>
                  <a:pt x="984" y="30"/>
                </a:lnTo>
                <a:lnTo>
                  <a:pt x="986" y="26"/>
                </a:lnTo>
                <a:lnTo>
                  <a:pt x="988" y="21"/>
                </a:lnTo>
                <a:lnTo>
                  <a:pt x="990" y="17"/>
                </a:lnTo>
                <a:lnTo>
                  <a:pt x="994" y="11"/>
                </a:lnTo>
                <a:lnTo>
                  <a:pt x="998" y="7"/>
                </a:lnTo>
                <a:lnTo>
                  <a:pt x="1002" y="5"/>
                </a:lnTo>
                <a:lnTo>
                  <a:pt x="1004" y="3"/>
                </a:lnTo>
                <a:lnTo>
                  <a:pt x="1008" y="1"/>
                </a:lnTo>
                <a:lnTo>
                  <a:pt x="1013" y="1"/>
                </a:lnTo>
                <a:lnTo>
                  <a:pt x="1019" y="0"/>
                </a:lnTo>
                <a:lnTo>
                  <a:pt x="1025" y="0"/>
                </a:lnTo>
                <a:lnTo>
                  <a:pt x="1031" y="0"/>
                </a:lnTo>
                <a:lnTo>
                  <a:pt x="1038" y="1"/>
                </a:lnTo>
                <a:lnTo>
                  <a:pt x="1046" y="1"/>
                </a:lnTo>
                <a:lnTo>
                  <a:pt x="1056" y="3"/>
                </a:lnTo>
                <a:lnTo>
                  <a:pt x="1063" y="7"/>
                </a:lnTo>
                <a:lnTo>
                  <a:pt x="1073" y="11"/>
                </a:lnTo>
                <a:lnTo>
                  <a:pt x="1082" y="15"/>
                </a:lnTo>
                <a:lnTo>
                  <a:pt x="1094" y="19"/>
                </a:lnTo>
                <a:lnTo>
                  <a:pt x="1103" y="24"/>
                </a:lnTo>
                <a:lnTo>
                  <a:pt x="1115" y="32"/>
                </a:lnTo>
                <a:lnTo>
                  <a:pt x="1125" y="38"/>
                </a:lnTo>
                <a:lnTo>
                  <a:pt x="1134" y="46"/>
                </a:lnTo>
                <a:lnTo>
                  <a:pt x="1144" y="53"/>
                </a:lnTo>
                <a:lnTo>
                  <a:pt x="1153" y="59"/>
                </a:lnTo>
                <a:lnTo>
                  <a:pt x="1171" y="72"/>
                </a:lnTo>
                <a:lnTo>
                  <a:pt x="1186" y="86"/>
                </a:lnTo>
                <a:lnTo>
                  <a:pt x="1199" y="97"/>
                </a:lnTo>
                <a:lnTo>
                  <a:pt x="1211" y="109"/>
                </a:lnTo>
                <a:lnTo>
                  <a:pt x="1221" y="119"/>
                </a:lnTo>
                <a:lnTo>
                  <a:pt x="1230" y="130"/>
                </a:lnTo>
                <a:lnTo>
                  <a:pt x="1232" y="132"/>
                </a:lnTo>
                <a:lnTo>
                  <a:pt x="1234" y="138"/>
                </a:lnTo>
                <a:lnTo>
                  <a:pt x="1234" y="142"/>
                </a:lnTo>
                <a:lnTo>
                  <a:pt x="1236" y="147"/>
                </a:lnTo>
                <a:lnTo>
                  <a:pt x="1236" y="153"/>
                </a:lnTo>
                <a:lnTo>
                  <a:pt x="1236" y="161"/>
                </a:lnTo>
                <a:lnTo>
                  <a:pt x="1236" y="167"/>
                </a:lnTo>
                <a:lnTo>
                  <a:pt x="1234" y="174"/>
                </a:lnTo>
                <a:lnTo>
                  <a:pt x="1234" y="184"/>
                </a:lnTo>
                <a:lnTo>
                  <a:pt x="1232" y="191"/>
                </a:lnTo>
                <a:lnTo>
                  <a:pt x="1230" y="201"/>
                </a:lnTo>
                <a:lnTo>
                  <a:pt x="1226" y="213"/>
                </a:lnTo>
                <a:lnTo>
                  <a:pt x="1224" y="222"/>
                </a:lnTo>
                <a:lnTo>
                  <a:pt x="1221" y="234"/>
                </a:lnTo>
                <a:lnTo>
                  <a:pt x="1217" y="245"/>
                </a:lnTo>
                <a:lnTo>
                  <a:pt x="1213" y="259"/>
                </a:lnTo>
                <a:lnTo>
                  <a:pt x="1209" y="272"/>
                </a:lnTo>
                <a:lnTo>
                  <a:pt x="1205" y="286"/>
                </a:lnTo>
                <a:lnTo>
                  <a:pt x="1199" y="299"/>
                </a:lnTo>
                <a:lnTo>
                  <a:pt x="1194" y="314"/>
                </a:lnTo>
                <a:lnTo>
                  <a:pt x="1188" y="330"/>
                </a:lnTo>
                <a:lnTo>
                  <a:pt x="1182" y="347"/>
                </a:lnTo>
                <a:lnTo>
                  <a:pt x="1176" y="364"/>
                </a:lnTo>
                <a:lnTo>
                  <a:pt x="1169" y="381"/>
                </a:lnTo>
                <a:lnTo>
                  <a:pt x="1161" y="399"/>
                </a:lnTo>
                <a:lnTo>
                  <a:pt x="1155" y="418"/>
                </a:lnTo>
                <a:lnTo>
                  <a:pt x="1146" y="437"/>
                </a:lnTo>
                <a:lnTo>
                  <a:pt x="1138" y="456"/>
                </a:lnTo>
                <a:lnTo>
                  <a:pt x="1130" y="477"/>
                </a:lnTo>
                <a:lnTo>
                  <a:pt x="1121" y="499"/>
                </a:lnTo>
                <a:lnTo>
                  <a:pt x="1111" y="522"/>
                </a:lnTo>
                <a:lnTo>
                  <a:pt x="1103" y="545"/>
                </a:lnTo>
                <a:lnTo>
                  <a:pt x="1080" y="591"/>
                </a:lnTo>
                <a:lnTo>
                  <a:pt x="1059" y="637"/>
                </a:lnTo>
                <a:lnTo>
                  <a:pt x="1038" y="683"/>
                </a:lnTo>
                <a:lnTo>
                  <a:pt x="1017" y="727"/>
                </a:lnTo>
                <a:lnTo>
                  <a:pt x="994" y="771"/>
                </a:lnTo>
                <a:lnTo>
                  <a:pt x="973" y="813"/>
                </a:lnTo>
                <a:lnTo>
                  <a:pt x="952" y="854"/>
                </a:lnTo>
                <a:lnTo>
                  <a:pt x="931" y="894"/>
                </a:lnTo>
                <a:lnTo>
                  <a:pt x="910" y="934"/>
                </a:lnTo>
                <a:lnTo>
                  <a:pt x="889" y="973"/>
                </a:lnTo>
                <a:lnTo>
                  <a:pt x="867" y="1009"/>
                </a:lnTo>
                <a:lnTo>
                  <a:pt x="846" y="1048"/>
                </a:lnTo>
                <a:lnTo>
                  <a:pt x="825" y="1084"/>
                </a:lnTo>
                <a:lnTo>
                  <a:pt x="806" y="1120"/>
                </a:lnTo>
                <a:lnTo>
                  <a:pt x="785" y="1155"/>
                </a:lnTo>
                <a:lnTo>
                  <a:pt x="766" y="1190"/>
                </a:lnTo>
                <a:lnTo>
                  <a:pt x="746" y="1224"/>
                </a:lnTo>
                <a:lnTo>
                  <a:pt x="727" y="1257"/>
                </a:lnTo>
                <a:lnTo>
                  <a:pt x="708" y="1287"/>
                </a:lnTo>
                <a:lnTo>
                  <a:pt x="689" y="1318"/>
                </a:lnTo>
                <a:lnTo>
                  <a:pt x="670" y="1347"/>
                </a:lnTo>
                <a:lnTo>
                  <a:pt x="649" y="1376"/>
                </a:lnTo>
                <a:lnTo>
                  <a:pt x="629" y="1403"/>
                </a:lnTo>
                <a:lnTo>
                  <a:pt x="610" y="1430"/>
                </a:lnTo>
                <a:lnTo>
                  <a:pt x="591" y="1454"/>
                </a:lnTo>
                <a:lnTo>
                  <a:pt x="570" y="1478"/>
                </a:lnTo>
                <a:lnTo>
                  <a:pt x="551" y="1501"/>
                </a:lnTo>
                <a:lnTo>
                  <a:pt x="531" y="1524"/>
                </a:lnTo>
                <a:lnTo>
                  <a:pt x="512" y="1545"/>
                </a:lnTo>
                <a:lnTo>
                  <a:pt x="491" y="1566"/>
                </a:lnTo>
                <a:lnTo>
                  <a:pt x="472" y="1585"/>
                </a:lnTo>
                <a:lnTo>
                  <a:pt x="453" y="1604"/>
                </a:lnTo>
                <a:lnTo>
                  <a:pt x="434" y="1625"/>
                </a:lnTo>
                <a:lnTo>
                  <a:pt x="414" y="1645"/>
                </a:lnTo>
                <a:lnTo>
                  <a:pt x="395" y="1664"/>
                </a:lnTo>
                <a:lnTo>
                  <a:pt x="376" y="1683"/>
                </a:lnTo>
                <a:lnTo>
                  <a:pt x="355" y="1700"/>
                </a:lnTo>
                <a:lnTo>
                  <a:pt x="336" y="1717"/>
                </a:lnTo>
                <a:lnTo>
                  <a:pt x="317" y="1735"/>
                </a:lnTo>
                <a:lnTo>
                  <a:pt x="297" y="1752"/>
                </a:lnTo>
                <a:lnTo>
                  <a:pt x="259" y="1785"/>
                </a:lnTo>
                <a:lnTo>
                  <a:pt x="222" y="1815"/>
                </a:lnTo>
                <a:lnTo>
                  <a:pt x="186" y="1844"/>
                </a:lnTo>
                <a:lnTo>
                  <a:pt x="151" y="187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Freeform 70"/>
          <p:cNvSpPr/>
          <p:nvPr/>
        </p:nvSpPr>
        <p:spPr>
          <a:xfrm>
            <a:off x="5492880" y="3354480"/>
            <a:ext cx="160200" cy="774720"/>
          </a:xfrm>
          <a:custGeom>
            <a:avLst/>
            <a:gdLst/>
            <a:ahLst/>
            <a:rect l="l" t="t" r="r" b="b"/>
            <a:pathLst>
              <a:path w="203" h="977">
                <a:moveTo>
                  <a:pt x="120" y="977"/>
                </a:moveTo>
                <a:lnTo>
                  <a:pt x="119" y="973"/>
                </a:lnTo>
                <a:lnTo>
                  <a:pt x="117" y="969"/>
                </a:lnTo>
                <a:lnTo>
                  <a:pt x="115" y="967"/>
                </a:lnTo>
                <a:lnTo>
                  <a:pt x="113" y="961"/>
                </a:lnTo>
                <a:lnTo>
                  <a:pt x="111" y="957"/>
                </a:lnTo>
                <a:lnTo>
                  <a:pt x="109" y="952"/>
                </a:lnTo>
                <a:lnTo>
                  <a:pt x="107" y="944"/>
                </a:lnTo>
                <a:lnTo>
                  <a:pt x="105" y="938"/>
                </a:lnTo>
                <a:lnTo>
                  <a:pt x="103" y="931"/>
                </a:lnTo>
                <a:lnTo>
                  <a:pt x="101" y="921"/>
                </a:lnTo>
                <a:lnTo>
                  <a:pt x="101" y="911"/>
                </a:lnTo>
                <a:lnTo>
                  <a:pt x="99" y="902"/>
                </a:lnTo>
                <a:lnTo>
                  <a:pt x="99" y="890"/>
                </a:lnTo>
                <a:lnTo>
                  <a:pt x="97" y="879"/>
                </a:lnTo>
                <a:lnTo>
                  <a:pt x="97" y="867"/>
                </a:lnTo>
                <a:lnTo>
                  <a:pt x="97" y="854"/>
                </a:lnTo>
                <a:lnTo>
                  <a:pt x="97" y="842"/>
                </a:lnTo>
                <a:lnTo>
                  <a:pt x="97" y="827"/>
                </a:lnTo>
                <a:lnTo>
                  <a:pt x="95" y="811"/>
                </a:lnTo>
                <a:lnTo>
                  <a:pt x="95" y="794"/>
                </a:lnTo>
                <a:lnTo>
                  <a:pt x="94" y="775"/>
                </a:lnTo>
                <a:lnTo>
                  <a:pt x="94" y="754"/>
                </a:lnTo>
                <a:lnTo>
                  <a:pt x="92" y="731"/>
                </a:lnTo>
                <a:lnTo>
                  <a:pt x="90" y="708"/>
                </a:lnTo>
                <a:lnTo>
                  <a:pt x="88" y="681"/>
                </a:lnTo>
                <a:lnTo>
                  <a:pt x="86" y="654"/>
                </a:lnTo>
                <a:lnTo>
                  <a:pt x="84" y="623"/>
                </a:lnTo>
                <a:lnTo>
                  <a:pt x="82" y="593"/>
                </a:lnTo>
                <a:lnTo>
                  <a:pt x="80" y="560"/>
                </a:lnTo>
                <a:lnTo>
                  <a:pt x="78" y="525"/>
                </a:lnTo>
                <a:lnTo>
                  <a:pt x="76" y="489"/>
                </a:lnTo>
                <a:lnTo>
                  <a:pt x="74" y="451"/>
                </a:lnTo>
                <a:lnTo>
                  <a:pt x="72" y="416"/>
                </a:lnTo>
                <a:lnTo>
                  <a:pt x="69" y="382"/>
                </a:lnTo>
                <a:lnTo>
                  <a:pt x="67" y="349"/>
                </a:lnTo>
                <a:lnTo>
                  <a:pt x="63" y="318"/>
                </a:lnTo>
                <a:lnTo>
                  <a:pt x="61" y="289"/>
                </a:lnTo>
                <a:lnTo>
                  <a:pt x="57" y="263"/>
                </a:lnTo>
                <a:lnTo>
                  <a:pt x="53" y="238"/>
                </a:lnTo>
                <a:lnTo>
                  <a:pt x="49" y="215"/>
                </a:lnTo>
                <a:lnTo>
                  <a:pt x="46" y="192"/>
                </a:lnTo>
                <a:lnTo>
                  <a:pt x="42" y="170"/>
                </a:lnTo>
                <a:lnTo>
                  <a:pt x="38" y="153"/>
                </a:lnTo>
                <a:lnTo>
                  <a:pt x="34" y="136"/>
                </a:lnTo>
                <a:lnTo>
                  <a:pt x="28" y="120"/>
                </a:lnTo>
                <a:lnTo>
                  <a:pt x="24" y="107"/>
                </a:lnTo>
                <a:lnTo>
                  <a:pt x="21" y="96"/>
                </a:lnTo>
                <a:lnTo>
                  <a:pt x="17" y="86"/>
                </a:lnTo>
                <a:lnTo>
                  <a:pt x="13" y="76"/>
                </a:lnTo>
                <a:lnTo>
                  <a:pt x="9" y="69"/>
                </a:lnTo>
                <a:lnTo>
                  <a:pt x="5" y="61"/>
                </a:lnTo>
                <a:lnTo>
                  <a:pt x="3" y="53"/>
                </a:lnTo>
                <a:lnTo>
                  <a:pt x="1" y="46"/>
                </a:lnTo>
                <a:lnTo>
                  <a:pt x="0" y="40"/>
                </a:lnTo>
                <a:lnTo>
                  <a:pt x="0" y="34"/>
                </a:lnTo>
                <a:lnTo>
                  <a:pt x="0" y="28"/>
                </a:lnTo>
                <a:lnTo>
                  <a:pt x="0" y="25"/>
                </a:lnTo>
                <a:lnTo>
                  <a:pt x="0" y="19"/>
                </a:lnTo>
                <a:lnTo>
                  <a:pt x="1" y="15"/>
                </a:lnTo>
                <a:lnTo>
                  <a:pt x="3" y="11"/>
                </a:lnTo>
                <a:lnTo>
                  <a:pt x="5" y="9"/>
                </a:lnTo>
                <a:lnTo>
                  <a:pt x="9" y="5"/>
                </a:lnTo>
                <a:lnTo>
                  <a:pt x="13" y="3"/>
                </a:lnTo>
                <a:lnTo>
                  <a:pt x="17" y="0"/>
                </a:lnTo>
                <a:lnTo>
                  <a:pt x="19" y="0"/>
                </a:lnTo>
                <a:lnTo>
                  <a:pt x="23" y="1"/>
                </a:lnTo>
                <a:lnTo>
                  <a:pt x="28" y="1"/>
                </a:lnTo>
                <a:lnTo>
                  <a:pt x="36" y="3"/>
                </a:lnTo>
                <a:lnTo>
                  <a:pt x="44" y="3"/>
                </a:lnTo>
                <a:lnTo>
                  <a:pt x="53" y="5"/>
                </a:lnTo>
                <a:lnTo>
                  <a:pt x="63" y="7"/>
                </a:lnTo>
                <a:lnTo>
                  <a:pt x="74" y="11"/>
                </a:lnTo>
                <a:lnTo>
                  <a:pt x="88" y="13"/>
                </a:lnTo>
                <a:lnTo>
                  <a:pt x="101" y="17"/>
                </a:lnTo>
                <a:lnTo>
                  <a:pt x="115" y="21"/>
                </a:lnTo>
                <a:lnTo>
                  <a:pt x="130" y="26"/>
                </a:lnTo>
                <a:lnTo>
                  <a:pt x="147" y="30"/>
                </a:lnTo>
                <a:lnTo>
                  <a:pt x="165" y="36"/>
                </a:lnTo>
                <a:lnTo>
                  <a:pt x="184" y="42"/>
                </a:lnTo>
                <a:lnTo>
                  <a:pt x="203" y="49"/>
                </a:lnTo>
                <a:lnTo>
                  <a:pt x="203" y="103"/>
                </a:lnTo>
                <a:lnTo>
                  <a:pt x="201" y="155"/>
                </a:lnTo>
                <a:lnTo>
                  <a:pt x="201" y="207"/>
                </a:lnTo>
                <a:lnTo>
                  <a:pt x="201" y="255"/>
                </a:lnTo>
                <a:lnTo>
                  <a:pt x="201" y="303"/>
                </a:lnTo>
                <a:lnTo>
                  <a:pt x="201" y="349"/>
                </a:lnTo>
                <a:lnTo>
                  <a:pt x="201" y="393"/>
                </a:lnTo>
                <a:lnTo>
                  <a:pt x="199" y="435"/>
                </a:lnTo>
                <a:lnTo>
                  <a:pt x="199" y="476"/>
                </a:lnTo>
                <a:lnTo>
                  <a:pt x="199" y="516"/>
                </a:lnTo>
                <a:lnTo>
                  <a:pt x="199" y="552"/>
                </a:lnTo>
                <a:lnTo>
                  <a:pt x="197" y="589"/>
                </a:lnTo>
                <a:lnTo>
                  <a:pt x="197" y="621"/>
                </a:lnTo>
                <a:lnTo>
                  <a:pt x="195" y="654"/>
                </a:lnTo>
                <a:lnTo>
                  <a:pt x="195" y="685"/>
                </a:lnTo>
                <a:lnTo>
                  <a:pt x="195" y="716"/>
                </a:lnTo>
                <a:lnTo>
                  <a:pt x="193" y="742"/>
                </a:lnTo>
                <a:lnTo>
                  <a:pt x="193" y="767"/>
                </a:lnTo>
                <a:lnTo>
                  <a:pt x="191" y="792"/>
                </a:lnTo>
                <a:lnTo>
                  <a:pt x="191" y="815"/>
                </a:lnTo>
                <a:lnTo>
                  <a:pt x="190" y="835"/>
                </a:lnTo>
                <a:lnTo>
                  <a:pt x="190" y="854"/>
                </a:lnTo>
                <a:lnTo>
                  <a:pt x="188" y="871"/>
                </a:lnTo>
                <a:lnTo>
                  <a:pt x="188" y="886"/>
                </a:lnTo>
                <a:lnTo>
                  <a:pt x="186" y="902"/>
                </a:lnTo>
                <a:lnTo>
                  <a:pt x="186" y="913"/>
                </a:lnTo>
                <a:lnTo>
                  <a:pt x="184" y="925"/>
                </a:lnTo>
                <a:lnTo>
                  <a:pt x="184" y="932"/>
                </a:lnTo>
                <a:lnTo>
                  <a:pt x="182" y="940"/>
                </a:lnTo>
                <a:lnTo>
                  <a:pt x="180" y="946"/>
                </a:lnTo>
                <a:lnTo>
                  <a:pt x="180" y="950"/>
                </a:lnTo>
                <a:lnTo>
                  <a:pt x="178" y="952"/>
                </a:lnTo>
                <a:lnTo>
                  <a:pt x="174" y="955"/>
                </a:lnTo>
                <a:lnTo>
                  <a:pt x="168" y="959"/>
                </a:lnTo>
                <a:lnTo>
                  <a:pt x="161" y="965"/>
                </a:lnTo>
                <a:lnTo>
                  <a:pt x="153" y="967"/>
                </a:lnTo>
                <a:lnTo>
                  <a:pt x="145" y="971"/>
                </a:lnTo>
                <a:lnTo>
                  <a:pt x="138" y="973"/>
                </a:lnTo>
                <a:lnTo>
                  <a:pt x="130" y="975"/>
                </a:lnTo>
                <a:lnTo>
                  <a:pt x="120" y="97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0" name="Freeform 71"/>
          <p:cNvSpPr/>
          <p:nvPr/>
        </p:nvSpPr>
        <p:spPr>
          <a:xfrm>
            <a:off x="5607000" y="3830760"/>
            <a:ext cx="441360" cy="134640"/>
          </a:xfrm>
          <a:custGeom>
            <a:avLst/>
            <a:gdLst/>
            <a:ahLst/>
            <a:rect l="l" t="t" r="r" b="b"/>
            <a:pathLst>
              <a:path w="557" h="169">
                <a:moveTo>
                  <a:pt x="0" y="46"/>
                </a:moveTo>
                <a:lnTo>
                  <a:pt x="41" y="46"/>
                </a:lnTo>
                <a:lnTo>
                  <a:pt x="79" y="45"/>
                </a:lnTo>
                <a:lnTo>
                  <a:pt x="118" y="41"/>
                </a:lnTo>
                <a:lnTo>
                  <a:pt x="158" y="37"/>
                </a:lnTo>
                <a:lnTo>
                  <a:pt x="196" y="33"/>
                </a:lnTo>
                <a:lnTo>
                  <a:pt x="237" y="25"/>
                </a:lnTo>
                <a:lnTo>
                  <a:pt x="275" y="18"/>
                </a:lnTo>
                <a:lnTo>
                  <a:pt x="315" y="10"/>
                </a:lnTo>
                <a:lnTo>
                  <a:pt x="333" y="8"/>
                </a:lnTo>
                <a:lnTo>
                  <a:pt x="352" y="6"/>
                </a:lnTo>
                <a:lnTo>
                  <a:pt x="369" y="4"/>
                </a:lnTo>
                <a:lnTo>
                  <a:pt x="384" y="2"/>
                </a:lnTo>
                <a:lnTo>
                  <a:pt x="400" y="2"/>
                </a:lnTo>
                <a:lnTo>
                  <a:pt x="413" y="0"/>
                </a:lnTo>
                <a:lnTo>
                  <a:pt x="427" y="0"/>
                </a:lnTo>
                <a:lnTo>
                  <a:pt x="438" y="0"/>
                </a:lnTo>
                <a:lnTo>
                  <a:pt x="450" y="0"/>
                </a:lnTo>
                <a:lnTo>
                  <a:pt x="461" y="0"/>
                </a:lnTo>
                <a:lnTo>
                  <a:pt x="471" y="2"/>
                </a:lnTo>
                <a:lnTo>
                  <a:pt x="480" y="2"/>
                </a:lnTo>
                <a:lnTo>
                  <a:pt x="490" y="4"/>
                </a:lnTo>
                <a:lnTo>
                  <a:pt x="498" y="6"/>
                </a:lnTo>
                <a:lnTo>
                  <a:pt x="505" y="8"/>
                </a:lnTo>
                <a:lnTo>
                  <a:pt x="511" y="10"/>
                </a:lnTo>
                <a:lnTo>
                  <a:pt x="519" y="12"/>
                </a:lnTo>
                <a:lnTo>
                  <a:pt x="523" y="16"/>
                </a:lnTo>
                <a:lnTo>
                  <a:pt x="528" y="18"/>
                </a:lnTo>
                <a:lnTo>
                  <a:pt x="534" y="21"/>
                </a:lnTo>
                <a:lnTo>
                  <a:pt x="542" y="27"/>
                </a:lnTo>
                <a:lnTo>
                  <a:pt x="548" y="35"/>
                </a:lnTo>
                <a:lnTo>
                  <a:pt x="551" y="45"/>
                </a:lnTo>
                <a:lnTo>
                  <a:pt x="555" y="52"/>
                </a:lnTo>
                <a:lnTo>
                  <a:pt x="557" y="62"/>
                </a:lnTo>
                <a:lnTo>
                  <a:pt x="557" y="71"/>
                </a:lnTo>
                <a:lnTo>
                  <a:pt x="557" y="75"/>
                </a:lnTo>
                <a:lnTo>
                  <a:pt x="555" y="79"/>
                </a:lnTo>
                <a:lnTo>
                  <a:pt x="549" y="85"/>
                </a:lnTo>
                <a:lnTo>
                  <a:pt x="544" y="89"/>
                </a:lnTo>
                <a:lnTo>
                  <a:pt x="538" y="92"/>
                </a:lnTo>
                <a:lnTo>
                  <a:pt x="528" y="98"/>
                </a:lnTo>
                <a:lnTo>
                  <a:pt x="517" y="102"/>
                </a:lnTo>
                <a:lnTo>
                  <a:pt x="505" y="106"/>
                </a:lnTo>
                <a:lnTo>
                  <a:pt x="492" y="110"/>
                </a:lnTo>
                <a:lnTo>
                  <a:pt x="477" y="114"/>
                </a:lnTo>
                <a:lnTo>
                  <a:pt x="459" y="117"/>
                </a:lnTo>
                <a:lnTo>
                  <a:pt x="440" y="121"/>
                </a:lnTo>
                <a:lnTo>
                  <a:pt x="419" y="123"/>
                </a:lnTo>
                <a:lnTo>
                  <a:pt x="398" y="127"/>
                </a:lnTo>
                <a:lnTo>
                  <a:pt x="375" y="129"/>
                </a:lnTo>
                <a:lnTo>
                  <a:pt x="350" y="133"/>
                </a:lnTo>
                <a:lnTo>
                  <a:pt x="321" y="137"/>
                </a:lnTo>
                <a:lnTo>
                  <a:pt x="294" y="140"/>
                </a:lnTo>
                <a:lnTo>
                  <a:pt x="267" y="144"/>
                </a:lnTo>
                <a:lnTo>
                  <a:pt x="242" y="148"/>
                </a:lnTo>
                <a:lnTo>
                  <a:pt x="217" y="152"/>
                </a:lnTo>
                <a:lnTo>
                  <a:pt x="194" y="154"/>
                </a:lnTo>
                <a:lnTo>
                  <a:pt x="171" y="158"/>
                </a:lnTo>
                <a:lnTo>
                  <a:pt x="148" y="160"/>
                </a:lnTo>
                <a:lnTo>
                  <a:pt x="127" y="162"/>
                </a:lnTo>
                <a:lnTo>
                  <a:pt x="106" y="164"/>
                </a:lnTo>
                <a:lnTo>
                  <a:pt x="87" y="165"/>
                </a:lnTo>
                <a:lnTo>
                  <a:pt x="68" y="165"/>
                </a:lnTo>
                <a:lnTo>
                  <a:pt x="50" y="167"/>
                </a:lnTo>
                <a:lnTo>
                  <a:pt x="33" y="167"/>
                </a:lnTo>
                <a:lnTo>
                  <a:pt x="16" y="167"/>
                </a:lnTo>
                <a:lnTo>
                  <a:pt x="0" y="169"/>
                </a:lnTo>
                <a:lnTo>
                  <a:pt x="0" y="108"/>
                </a:lnTo>
                <a:lnTo>
                  <a:pt x="0" y="4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Freeform 72"/>
          <p:cNvSpPr/>
          <p:nvPr/>
        </p:nvSpPr>
        <p:spPr>
          <a:xfrm>
            <a:off x="5578560" y="3287880"/>
            <a:ext cx="617400" cy="588960"/>
          </a:xfrm>
          <a:custGeom>
            <a:avLst/>
            <a:gdLst/>
            <a:ahLst/>
            <a:rect l="l" t="t" r="r" b="b"/>
            <a:pathLst>
              <a:path w="777" h="743">
                <a:moveTo>
                  <a:pt x="731" y="244"/>
                </a:moveTo>
                <a:lnTo>
                  <a:pt x="727" y="246"/>
                </a:lnTo>
                <a:lnTo>
                  <a:pt x="724" y="248"/>
                </a:lnTo>
                <a:lnTo>
                  <a:pt x="722" y="252"/>
                </a:lnTo>
                <a:lnTo>
                  <a:pt x="718" y="255"/>
                </a:lnTo>
                <a:lnTo>
                  <a:pt x="714" y="261"/>
                </a:lnTo>
                <a:lnTo>
                  <a:pt x="708" y="267"/>
                </a:lnTo>
                <a:lnTo>
                  <a:pt x="704" y="275"/>
                </a:lnTo>
                <a:lnTo>
                  <a:pt x="701" y="282"/>
                </a:lnTo>
                <a:lnTo>
                  <a:pt x="697" y="292"/>
                </a:lnTo>
                <a:lnTo>
                  <a:pt x="691" y="301"/>
                </a:lnTo>
                <a:lnTo>
                  <a:pt x="687" y="311"/>
                </a:lnTo>
                <a:lnTo>
                  <a:pt x="681" y="324"/>
                </a:lnTo>
                <a:lnTo>
                  <a:pt x="678" y="336"/>
                </a:lnTo>
                <a:lnTo>
                  <a:pt x="672" y="349"/>
                </a:lnTo>
                <a:lnTo>
                  <a:pt x="666" y="365"/>
                </a:lnTo>
                <a:lnTo>
                  <a:pt x="660" y="380"/>
                </a:lnTo>
                <a:lnTo>
                  <a:pt x="654" y="396"/>
                </a:lnTo>
                <a:lnTo>
                  <a:pt x="651" y="413"/>
                </a:lnTo>
                <a:lnTo>
                  <a:pt x="643" y="430"/>
                </a:lnTo>
                <a:lnTo>
                  <a:pt x="637" y="449"/>
                </a:lnTo>
                <a:lnTo>
                  <a:pt x="631" y="468"/>
                </a:lnTo>
                <a:lnTo>
                  <a:pt x="626" y="490"/>
                </a:lnTo>
                <a:lnTo>
                  <a:pt x="620" y="511"/>
                </a:lnTo>
                <a:lnTo>
                  <a:pt x="612" y="534"/>
                </a:lnTo>
                <a:lnTo>
                  <a:pt x="606" y="557"/>
                </a:lnTo>
                <a:lnTo>
                  <a:pt x="599" y="580"/>
                </a:lnTo>
                <a:lnTo>
                  <a:pt x="593" y="605"/>
                </a:lnTo>
                <a:lnTo>
                  <a:pt x="585" y="632"/>
                </a:lnTo>
                <a:lnTo>
                  <a:pt x="580" y="658"/>
                </a:lnTo>
                <a:lnTo>
                  <a:pt x="572" y="685"/>
                </a:lnTo>
                <a:lnTo>
                  <a:pt x="564" y="714"/>
                </a:lnTo>
                <a:lnTo>
                  <a:pt x="557" y="743"/>
                </a:lnTo>
                <a:lnTo>
                  <a:pt x="493" y="743"/>
                </a:lnTo>
                <a:lnTo>
                  <a:pt x="430" y="743"/>
                </a:lnTo>
                <a:lnTo>
                  <a:pt x="434" y="712"/>
                </a:lnTo>
                <a:lnTo>
                  <a:pt x="439" y="682"/>
                </a:lnTo>
                <a:lnTo>
                  <a:pt x="445" y="651"/>
                </a:lnTo>
                <a:lnTo>
                  <a:pt x="449" y="622"/>
                </a:lnTo>
                <a:lnTo>
                  <a:pt x="453" y="595"/>
                </a:lnTo>
                <a:lnTo>
                  <a:pt x="459" y="568"/>
                </a:lnTo>
                <a:lnTo>
                  <a:pt x="463" y="541"/>
                </a:lnTo>
                <a:lnTo>
                  <a:pt x="466" y="516"/>
                </a:lnTo>
                <a:lnTo>
                  <a:pt x="470" y="493"/>
                </a:lnTo>
                <a:lnTo>
                  <a:pt x="472" y="470"/>
                </a:lnTo>
                <a:lnTo>
                  <a:pt x="476" y="447"/>
                </a:lnTo>
                <a:lnTo>
                  <a:pt x="480" y="426"/>
                </a:lnTo>
                <a:lnTo>
                  <a:pt x="482" y="405"/>
                </a:lnTo>
                <a:lnTo>
                  <a:pt x="486" y="386"/>
                </a:lnTo>
                <a:lnTo>
                  <a:pt x="487" y="369"/>
                </a:lnTo>
                <a:lnTo>
                  <a:pt x="489" y="349"/>
                </a:lnTo>
                <a:lnTo>
                  <a:pt x="491" y="334"/>
                </a:lnTo>
                <a:lnTo>
                  <a:pt x="493" y="319"/>
                </a:lnTo>
                <a:lnTo>
                  <a:pt x="495" y="303"/>
                </a:lnTo>
                <a:lnTo>
                  <a:pt x="497" y="290"/>
                </a:lnTo>
                <a:lnTo>
                  <a:pt x="499" y="277"/>
                </a:lnTo>
                <a:lnTo>
                  <a:pt x="499" y="265"/>
                </a:lnTo>
                <a:lnTo>
                  <a:pt x="501" y="253"/>
                </a:lnTo>
                <a:lnTo>
                  <a:pt x="501" y="244"/>
                </a:lnTo>
                <a:lnTo>
                  <a:pt x="501" y="234"/>
                </a:lnTo>
                <a:lnTo>
                  <a:pt x="501" y="225"/>
                </a:lnTo>
                <a:lnTo>
                  <a:pt x="501" y="219"/>
                </a:lnTo>
                <a:lnTo>
                  <a:pt x="501" y="211"/>
                </a:lnTo>
                <a:lnTo>
                  <a:pt x="501" y="205"/>
                </a:lnTo>
                <a:lnTo>
                  <a:pt x="501" y="202"/>
                </a:lnTo>
                <a:lnTo>
                  <a:pt x="501" y="198"/>
                </a:lnTo>
                <a:lnTo>
                  <a:pt x="499" y="196"/>
                </a:lnTo>
                <a:lnTo>
                  <a:pt x="493" y="190"/>
                </a:lnTo>
                <a:lnTo>
                  <a:pt x="487" y="186"/>
                </a:lnTo>
                <a:lnTo>
                  <a:pt x="482" y="184"/>
                </a:lnTo>
                <a:lnTo>
                  <a:pt x="474" y="181"/>
                </a:lnTo>
                <a:lnTo>
                  <a:pt x="464" y="179"/>
                </a:lnTo>
                <a:lnTo>
                  <a:pt x="455" y="177"/>
                </a:lnTo>
                <a:lnTo>
                  <a:pt x="443" y="177"/>
                </a:lnTo>
                <a:lnTo>
                  <a:pt x="430" y="175"/>
                </a:lnTo>
                <a:lnTo>
                  <a:pt x="418" y="175"/>
                </a:lnTo>
                <a:lnTo>
                  <a:pt x="403" y="175"/>
                </a:lnTo>
                <a:lnTo>
                  <a:pt x="390" y="175"/>
                </a:lnTo>
                <a:lnTo>
                  <a:pt x="374" y="177"/>
                </a:lnTo>
                <a:lnTo>
                  <a:pt x="357" y="177"/>
                </a:lnTo>
                <a:lnTo>
                  <a:pt x="340" y="179"/>
                </a:lnTo>
                <a:lnTo>
                  <a:pt x="320" y="181"/>
                </a:lnTo>
                <a:lnTo>
                  <a:pt x="301" y="182"/>
                </a:lnTo>
                <a:lnTo>
                  <a:pt x="259" y="192"/>
                </a:lnTo>
                <a:lnTo>
                  <a:pt x="217" y="200"/>
                </a:lnTo>
                <a:lnTo>
                  <a:pt x="177" y="205"/>
                </a:lnTo>
                <a:lnTo>
                  <a:pt x="138" y="211"/>
                </a:lnTo>
                <a:lnTo>
                  <a:pt x="100" y="215"/>
                </a:lnTo>
                <a:lnTo>
                  <a:pt x="82" y="215"/>
                </a:lnTo>
                <a:lnTo>
                  <a:pt x="65" y="217"/>
                </a:lnTo>
                <a:lnTo>
                  <a:pt x="48" y="219"/>
                </a:lnTo>
                <a:lnTo>
                  <a:pt x="31" y="219"/>
                </a:lnTo>
                <a:lnTo>
                  <a:pt x="15" y="219"/>
                </a:lnTo>
                <a:lnTo>
                  <a:pt x="0" y="219"/>
                </a:lnTo>
                <a:lnTo>
                  <a:pt x="0" y="177"/>
                </a:lnTo>
                <a:lnTo>
                  <a:pt x="0" y="134"/>
                </a:lnTo>
                <a:lnTo>
                  <a:pt x="31" y="133"/>
                </a:lnTo>
                <a:lnTo>
                  <a:pt x="63" y="133"/>
                </a:lnTo>
                <a:lnTo>
                  <a:pt x="96" y="129"/>
                </a:lnTo>
                <a:lnTo>
                  <a:pt x="129" y="125"/>
                </a:lnTo>
                <a:lnTo>
                  <a:pt x="163" y="119"/>
                </a:lnTo>
                <a:lnTo>
                  <a:pt x="198" y="113"/>
                </a:lnTo>
                <a:lnTo>
                  <a:pt x="232" y="106"/>
                </a:lnTo>
                <a:lnTo>
                  <a:pt x="267" y="98"/>
                </a:lnTo>
                <a:lnTo>
                  <a:pt x="284" y="92"/>
                </a:lnTo>
                <a:lnTo>
                  <a:pt x="299" y="88"/>
                </a:lnTo>
                <a:lnTo>
                  <a:pt x="315" y="85"/>
                </a:lnTo>
                <a:lnTo>
                  <a:pt x="330" y="79"/>
                </a:lnTo>
                <a:lnTo>
                  <a:pt x="344" y="75"/>
                </a:lnTo>
                <a:lnTo>
                  <a:pt x="357" y="69"/>
                </a:lnTo>
                <a:lnTo>
                  <a:pt x="368" y="65"/>
                </a:lnTo>
                <a:lnTo>
                  <a:pt x="380" y="62"/>
                </a:lnTo>
                <a:lnTo>
                  <a:pt x="391" y="56"/>
                </a:lnTo>
                <a:lnTo>
                  <a:pt x="401" y="52"/>
                </a:lnTo>
                <a:lnTo>
                  <a:pt x="409" y="48"/>
                </a:lnTo>
                <a:lnTo>
                  <a:pt x="416" y="42"/>
                </a:lnTo>
                <a:lnTo>
                  <a:pt x="424" y="38"/>
                </a:lnTo>
                <a:lnTo>
                  <a:pt x="430" y="33"/>
                </a:lnTo>
                <a:lnTo>
                  <a:pt x="436" y="29"/>
                </a:lnTo>
                <a:lnTo>
                  <a:pt x="441" y="25"/>
                </a:lnTo>
                <a:lnTo>
                  <a:pt x="445" y="19"/>
                </a:lnTo>
                <a:lnTo>
                  <a:pt x="451" y="15"/>
                </a:lnTo>
                <a:lnTo>
                  <a:pt x="459" y="12"/>
                </a:lnTo>
                <a:lnTo>
                  <a:pt x="466" y="8"/>
                </a:lnTo>
                <a:lnTo>
                  <a:pt x="474" y="4"/>
                </a:lnTo>
                <a:lnTo>
                  <a:pt x="482" y="2"/>
                </a:lnTo>
                <a:lnTo>
                  <a:pt x="491" y="0"/>
                </a:lnTo>
                <a:lnTo>
                  <a:pt x="499" y="0"/>
                </a:lnTo>
                <a:lnTo>
                  <a:pt x="501" y="0"/>
                </a:lnTo>
                <a:lnTo>
                  <a:pt x="505" y="0"/>
                </a:lnTo>
                <a:lnTo>
                  <a:pt x="511" y="2"/>
                </a:lnTo>
                <a:lnTo>
                  <a:pt x="516" y="4"/>
                </a:lnTo>
                <a:lnTo>
                  <a:pt x="522" y="6"/>
                </a:lnTo>
                <a:lnTo>
                  <a:pt x="530" y="10"/>
                </a:lnTo>
                <a:lnTo>
                  <a:pt x="539" y="12"/>
                </a:lnTo>
                <a:lnTo>
                  <a:pt x="549" y="15"/>
                </a:lnTo>
                <a:lnTo>
                  <a:pt x="558" y="21"/>
                </a:lnTo>
                <a:lnTo>
                  <a:pt x="570" y="25"/>
                </a:lnTo>
                <a:lnTo>
                  <a:pt x="582" y="31"/>
                </a:lnTo>
                <a:lnTo>
                  <a:pt x="593" y="35"/>
                </a:lnTo>
                <a:lnTo>
                  <a:pt x="606" y="40"/>
                </a:lnTo>
                <a:lnTo>
                  <a:pt x="620" y="48"/>
                </a:lnTo>
                <a:lnTo>
                  <a:pt x="635" y="54"/>
                </a:lnTo>
                <a:lnTo>
                  <a:pt x="651" y="62"/>
                </a:lnTo>
                <a:lnTo>
                  <a:pt x="664" y="69"/>
                </a:lnTo>
                <a:lnTo>
                  <a:pt x="679" y="79"/>
                </a:lnTo>
                <a:lnTo>
                  <a:pt x="691" y="86"/>
                </a:lnTo>
                <a:lnTo>
                  <a:pt x="704" y="96"/>
                </a:lnTo>
                <a:lnTo>
                  <a:pt x="716" y="104"/>
                </a:lnTo>
                <a:lnTo>
                  <a:pt x="725" y="111"/>
                </a:lnTo>
                <a:lnTo>
                  <a:pt x="735" y="117"/>
                </a:lnTo>
                <a:lnTo>
                  <a:pt x="745" y="125"/>
                </a:lnTo>
                <a:lnTo>
                  <a:pt x="752" y="133"/>
                </a:lnTo>
                <a:lnTo>
                  <a:pt x="758" y="138"/>
                </a:lnTo>
                <a:lnTo>
                  <a:pt x="764" y="144"/>
                </a:lnTo>
                <a:lnTo>
                  <a:pt x="770" y="150"/>
                </a:lnTo>
                <a:lnTo>
                  <a:pt x="773" y="156"/>
                </a:lnTo>
                <a:lnTo>
                  <a:pt x="775" y="161"/>
                </a:lnTo>
                <a:lnTo>
                  <a:pt x="777" y="165"/>
                </a:lnTo>
                <a:lnTo>
                  <a:pt x="777" y="171"/>
                </a:lnTo>
                <a:lnTo>
                  <a:pt x="777" y="181"/>
                </a:lnTo>
                <a:lnTo>
                  <a:pt x="775" y="188"/>
                </a:lnTo>
                <a:lnTo>
                  <a:pt x="772" y="198"/>
                </a:lnTo>
                <a:lnTo>
                  <a:pt x="768" y="207"/>
                </a:lnTo>
                <a:lnTo>
                  <a:pt x="762" y="217"/>
                </a:lnTo>
                <a:lnTo>
                  <a:pt x="752" y="225"/>
                </a:lnTo>
                <a:lnTo>
                  <a:pt x="749" y="230"/>
                </a:lnTo>
                <a:lnTo>
                  <a:pt x="743" y="234"/>
                </a:lnTo>
                <a:lnTo>
                  <a:pt x="737" y="240"/>
                </a:lnTo>
                <a:lnTo>
                  <a:pt x="731" y="244"/>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64"/>
                                        </p:tgtEl>
                                        <p:attrNameLst>
                                          <p:attrName>style.visibility</p:attrName>
                                        </p:attrNameLst>
                                      </p:cBhvr>
                                      <p:to>
                                        <p:strVal val="visible"/>
                                      </p:to>
                                    </p:set>
                                    <p:anim calcmode="lin" valueType="num">
                                      <p:cBhvr additive="base">
                                        <p:cTn id="317" dur="500" fill="hold"/>
                                        <p:tgtEl>
                                          <p:spTgt spid="164"/>
                                        </p:tgtEl>
                                        <p:attrNameLst>
                                          <p:attrName>ppt_x</p:attrName>
                                        </p:attrNameLst>
                                      </p:cBhvr>
                                      <p:tavLst>
                                        <p:tav tm="0">
                                          <p:val>
                                            <p:strVal val="0-#ppt_w/2"/>
                                          </p:val>
                                        </p:tav>
                                        <p:tav tm="100000">
                                          <p:val>
                                            <p:strVal val="#ppt_x"/>
                                          </p:val>
                                        </p:tav>
                                      </p:tavLst>
                                    </p:anim>
                                    <p:anim calcmode="lin" valueType="num">
                                      <p:cBhvr additive="base">
                                        <p:cTn id="31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69"/>
                                        </p:tgtEl>
                                        <p:attrNameLst>
                                          <p:attrName>style.visibility</p:attrName>
                                        </p:attrNameLst>
                                      </p:cBhvr>
                                      <p:to>
                                        <p:strVal val="visible"/>
                                      </p:to>
                                    </p:set>
                                    <p:animEffect filter="wipe(up)" transition="in">
                                      <p:cBhvr additive="repl">
                                        <p:cTn id="323" dur="500"/>
                                        <p:tgtEl>
                                          <p:spTgt spid="169"/>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71"/>
                                        </p:tgtEl>
                                        <p:attrNameLst>
                                          <p:attrName>style.visibility</p:attrName>
                                        </p:attrNameLst>
                                      </p:cBhvr>
                                      <p:to>
                                        <p:strVal val="visible"/>
                                      </p:to>
                                    </p:set>
                                    <p:animEffect filter="wipe(left)" transition="in">
                                      <p:cBhvr additive="repl">
                                        <p:cTn id="328" dur="500"/>
                                        <p:tgtEl>
                                          <p:spTgt spid="171"/>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70"/>
                                        </p:tgtEl>
                                        <p:attrNameLst>
                                          <p:attrName>style.visibility</p:attrName>
                                        </p:attrNameLst>
                                      </p:cBhvr>
                                      <p:to>
                                        <p:strVal val="visible"/>
                                      </p:to>
                                    </p:set>
                                    <p:animEffect filter="wipe(left)" transition="in">
                                      <p:cBhvr additive="repl">
                                        <p:cTn id="333" dur="500"/>
                                        <p:tgtEl>
                                          <p:spTgt spid="170"/>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68"/>
                                        </p:tgtEl>
                                        <p:attrNameLst>
                                          <p:attrName>style.visibility</p:attrName>
                                        </p:attrNameLst>
                                      </p:cBhvr>
                                      <p:to>
                                        <p:strVal val="visible"/>
                                      </p:to>
                                    </p:set>
                                    <p:animEffect filter="wipe(up)" transition="in">
                                      <p:cBhvr additive="repl">
                                        <p:cTn id="338" dur="500"/>
                                        <p:tgtEl>
                                          <p:spTgt spid="168"/>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167"/>
                                        </p:tgtEl>
                                        <p:attrNameLst>
                                          <p:attrName>style.visibility</p:attrName>
                                        </p:attrNameLst>
                                      </p:cBhvr>
                                      <p:to>
                                        <p:strVal val="visible"/>
                                      </p:to>
                                    </p:set>
                                    <p:animEffect filter="wipe(up)" transition="in">
                                      <p:cBhvr additive="repl">
                                        <p:cTn id="343" dur="500"/>
                                        <p:tgtEl>
                                          <p:spTgt spid="167"/>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166"/>
                                        </p:tgtEl>
                                        <p:attrNameLst>
                                          <p:attrName>style.visibility</p:attrName>
                                        </p:attrNameLst>
                                      </p:cBhvr>
                                      <p:to>
                                        <p:strVal val="visible"/>
                                      </p:to>
                                    </p:set>
                                    <p:animEffect filter="wipe(up)" transition="in">
                                      <p:cBhvr additive="repl">
                                        <p:cTn id="348" dur="500"/>
                                        <p:tgtEl>
                                          <p:spTgt spid="166"/>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65"/>
                                        </p:tgtEl>
                                        <p:attrNameLst>
                                          <p:attrName>style.visibility</p:attrName>
                                        </p:attrNameLst>
                                      </p:cBhvr>
                                      <p:to>
                                        <p:strVal val="visible"/>
                                      </p:to>
                                    </p:set>
                                    <p:animEffect filter="wipe(up)" transition="in">
                                      <p:cBhvr additive="repl">
                                        <p:cTn id="353" dur="500"/>
                                        <p:tgtEl>
                                          <p:spTgt spid="165"/>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resetSubtype="16">
                                  <p:stCondLst>
                                    <p:cond delay="0"/>
                                  </p:stCondLst>
                                  <p:childTnLst>
                                    <p:set>
                                      <p:cBhvr>
                                        <p:cTn id="357" dur="1" fill="hold">
                                          <p:stCondLst>
                                            <p:cond delay="0"/>
                                          </p:stCondLst>
                                        </p:cTn>
                                        <p:tgtEl>
                                          <p:spTgt spid="161"/>
                                        </p:tgtEl>
                                        <p:attrNameLst>
                                          <p:attrName>style.visibility</p:attrName>
                                        </p:attrNameLst>
                                      </p:cBhvr>
                                      <p:to>
                                        <p:strVal val="visible"/>
                                      </p:to>
                                    </p:set>
                                    <p:anim calcmode="lin" valueType="num">
                                      <p:cBhvr additive="repl">
                                        <p:cTn id="358" dur="500" fill="hold"/>
                                        <p:tgtEl>
                                          <p:spTgt spid="161"/>
                                        </p:tgtEl>
                                        <p:attrNameLst>
                                          <p:attrName>ppt_w</p:attrName>
                                        </p:attrNameLst>
                                      </p:cBhvr>
                                      <p:tavLst>
                                        <p:tav tm="0">
                                          <p:val>
                                            <p:fltVal val="0"/>
                                          </p:val>
                                        </p:tav>
                                        <p:tav tm="100000">
                                          <p:val>
                                            <p:strVal val="#ppt_w"/>
                                          </p:val>
                                        </p:tav>
                                      </p:tavLst>
                                    </p:anim>
                                    <p:anim calcmode="lin" valueType="num">
                                      <p:cBhvr additive="repl">
                                        <p:cTn id="359" dur="500" fill="hold"/>
                                        <p:tgtEl>
                                          <p:spTgt spid="161"/>
                                        </p:tgtEl>
                                        <p:attrNameLst>
                                          <p:attrName>ppt_h</p:attrName>
                                        </p:attrNameLst>
                                      </p:cBhvr>
                                      <p:tavLst>
                                        <p:tav tm="0">
                                          <p:val>
                                            <p:fltVal val="0"/>
                                          </p:val>
                                        </p:tav>
                                        <p:tav tm="100000">
                                          <p:val>
                                            <p:strVal val="#ppt_h"/>
                                          </p:val>
                                        </p:tav>
                                      </p:tavLst>
                                    </p:anim>
                                    <p:animEffect filter="fade" transition="in">
                                      <p:cBhvr additive="repl">
                                        <p:cTn id="36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矩形 4"/>
          <p:cNvSpPr/>
          <p:nvPr/>
        </p:nvSpPr>
        <p:spPr>
          <a:xfrm>
            <a:off x="2218680" y="2532240"/>
            <a:ext cx="7902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8000" spc="-1" strike="noStrike">
                <a:solidFill>
                  <a:srgbClr val="000000"/>
                </a:solidFill>
                <a:latin typeface="楷体"/>
                <a:ea typeface="楷体"/>
              </a:rPr>
              <a:t>肿</a:t>
            </a:r>
            <a:endParaRPr b="0" lang="en-US" sz="8000" spc="-1" strike="noStrike">
              <a:solidFill>
                <a:srgbClr val="000000"/>
              </a:solidFill>
              <a:latin typeface="Calibri"/>
            </a:endParaRPr>
          </a:p>
        </p:txBody>
      </p:sp>
      <p:graphicFrame>
        <p:nvGraphicFramePr>
          <p:cNvPr id="173" name=""/>
          <p:cNvGraphicFramePr/>
          <p:nvPr/>
        </p:nvGraphicFramePr>
        <p:xfrm>
          <a:off x="5114880" y="2382840"/>
          <a:ext cx="2941560" cy="3040200"/>
        </p:xfrm>
        <a:graphic>
          <a:graphicData uri="http://schemas.openxmlformats.org/drawingml/2006/table">
            <a:tbl>
              <a:tblPr/>
              <a:tblGrid>
                <a:gridCol w="1471680"/>
                <a:gridCol w="1469880"/>
              </a:tblGrid>
              <a:tr h="1512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527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74" name="组合 3"/>
          <p:cNvGrpSpPr/>
          <p:nvPr/>
        </p:nvGrpSpPr>
        <p:grpSpPr>
          <a:xfrm>
            <a:off x="1400040" y="3975120"/>
            <a:ext cx="2840040" cy="1621080"/>
            <a:chOff x="1400040" y="3975120"/>
            <a:chExt cx="2840040" cy="1621080"/>
          </a:xfrm>
        </p:grpSpPr>
        <p:pic>
          <p:nvPicPr>
            <p:cNvPr id="175" name="图示 4" descr=""/>
            <p:cNvPicPr/>
            <p:nvPr/>
          </p:nvPicPr>
          <p:blipFill>
            <a:blip r:embed="rId1"/>
            <a:stretch/>
          </p:blipFill>
          <p:spPr>
            <a:xfrm>
              <a:off x="1400040" y="3975120"/>
              <a:ext cx="2840040" cy="1571760"/>
            </a:xfrm>
            <a:prstGeom prst="rect">
              <a:avLst/>
            </a:prstGeom>
            <a:ln w="0">
              <a:noFill/>
            </a:ln>
          </p:spPr>
        </p:pic>
        <p:sp>
          <p:nvSpPr>
            <p:cNvPr id="176" name="矩形 2"/>
            <p:cNvSpPr/>
            <p:nvPr/>
          </p:nvSpPr>
          <p:spPr>
            <a:xfrm>
              <a:off x="1410120" y="4587840"/>
              <a:ext cx="2815200" cy="10083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仿宋"/>
                  <a:ea typeface="仿宋"/>
                </a:rPr>
                <a:t>左窄右宽。</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sp>
        <p:nvSpPr>
          <p:cNvPr id="177" name="矩形 2"/>
          <p:cNvSpPr/>
          <p:nvPr/>
        </p:nvSpPr>
        <p:spPr>
          <a:xfrm>
            <a:off x="1770120" y="1855800"/>
            <a:ext cx="16905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0000"/>
                </a:solidFill>
                <a:latin typeface="方正姚体"/>
                <a:ea typeface="方正姚体"/>
              </a:rPr>
              <a:t>zhǒnɡ</a:t>
            </a:r>
            <a:endParaRPr b="0" lang="en-US" sz="4800" spc="-1" strike="noStrike">
              <a:solidFill>
                <a:srgbClr val="000000"/>
              </a:solidFill>
              <a:latin typeface="Calibri"/>
            </a:endParaRPr>
          </a:p>
        </p:txBody>
      </p:sp>
      <p:sp>
        <p:nvSpPr>
          <p:cNvPr id="178" name="Freeform 75"/>
          <p:cNvSpPr/>
          <p:nvPr/>
        </p:nvSpPr>
        <p:spPr>
          <a:xfrm>
            <a:off x="6981840" y="2836800"/>
            <a:ext cx="228600" cy="2274840"/>
          </a:xfrm>
          <a:custGeom>
            <a:avLst/>
            <a:gdLst/>
            <a:ahLst/>
            <a:rect l="l" t="t" r="r" b="b"/>
            <a:pathLst>
              <a:path w="288" h="2865">
                <a:moveTo>
                  <a:pt x="6" y="61"/>
                </a:moveTo>
                <a:lnTo>
                  <a:pt x="2" y="48"/>
                </a:lnTo>
                <a:lnTo>
                  <a:pt x="0" y="34"/>
                </a:lnTo>
                <a:lnTo>
                  <a:pt x="0" y="30"/>
                </a:lnTo>
                <a:lnTo>
                  <a:pt x="0" y="25"/>
                </a:lnTo>
                <a:lnTo>
                  <a:pt x="0" y="21"/>
                </a:lnTo>
                <a:lnTo>
                  <a:pt x="0" y="15"/>
                </a:lnTo>
                <a:lnTo>
                  <a:pt x="2" y="11"/>
                </a:lnTo>
                <a:lnTo>
                  <a:pt x="4" y="9"/>
                </a:lnTo>
                <a:lnTo>
                  <a:pt x="6" y="6"/>
                </a:lnTo>
                <a:lnTo>
                  <a:pt x="9" y="4"/>
                </a:lnTo>
                <a:lnTo>
                  <a:pt x="13" y="2"/>
                </a:lnTo>
                <a:lnTo>
                  <a:pt x="19" y="0"/>
                </a:lnTo>
                <a:lnTo>
                  <a:pt x="25" y="0"/>
                </a:lnTo>
                <a:lnTo>
                  <a:pt x="31" y="0"/>
                </a:lnTo>
                <a:lnTo>
                  <a:pt x="38" y="0"/>
                </a:lnTo>
                <a:lnTo>
                  <a:pt x="46" y="0"/>
                </a:lnTo>
                <a:lnTo>
                  <a:pt x="54" y="2"/>
                </a:lnTo>
                <a:lnTo>
                  <a:pt x="61" y="4"/>
                </a:lnTo>
                <a:lnTo>
                  <a:pt x="71" y="6"/>
                </a:lnTo>
                <a:lnTo>
                  <a:pt x="79" y="9"/>
                </a:lnTo>
                <a:lnTo>
                  <a:pt x="88" y="11"/>
                </a:lnTo>
                <a:lnTo>
                  <a:pt x="100" y="15"/>
                </a:lnTo>
                <a:lnTo>
                  <a:pt x="109" y="19"/>
                </a:lnTo>
                <a:lnTo>
                  <a:pt x="121" y="25"/>
                </a:lnTo>
                <a:lnTo>
                  <a:pt x="132" y="29"/>
                </a:lnTo>
                <a:lnTo>
                  <a:pt x="146" y="34"/>
                </a:lnTo>
                <a:lnTo>
                  <a:pt x="159" y="40"/>
                </a:lnTo>
                <a:lnTo>
                  <a:pt x="173" y="48"/>
                </a:lnTo>
                <a:lnTo>
                  <a:pt x="188" y="54"/>
                </a:lnTo>
                <a:lnTo>
                  <a:pt x="203" y="61"/>
                </a:lnTo>
                <a:lnTo>
                  <a:pt x="217" y="69"/>
                </a:lnTo>
                <a:lnTo>
                  <a:pt x="228" y="78"/>
                </a:lnTo>
                <a:lnTo>
                  <a:pt x="240" y="88"/>
                </a:lnTo>
                <a:lnTo>
                  <a:pt x="249" y="98"/>
                </a:lnTo>
                <a:lnTo>
                  <a:pt x="259" y="105"/>
                </a:lnTo>
                <a:lnTo>
                  <a:pt x="267" y="115"/>
                </a:lnTo>
                <a:lnTo>
                  <a:pt x="272" y="125"/>
                </a:lnTo>
                <a:lnTo>
                  <a:pt x="278" y="132"/>
                </a:lnTo>
                <a:lnTo>
                  <a:pt x="282" y="142"/>
                </a:lnTo>
                <a:lnTo>
                  <a:pt x="284" y="149"/>
                </a:lnTo>
                <a:lnTo>
                  <a:pt x="286" y="157"/>
                </a:lnTo>
                <a:lnTo>
                  <a:pt x="288" y="165"/>
                </a:lnTo>
                <a:lnTo>
                  <a:pt x="286" y="173"/>
                </a:lnTo>
                <a:lnTo>
                  <a:pt x="284" y="180"/>
                </a:lnTo>
                <a:lnTo>
                  <a:pt x="282" y="188"/>
                </a:lnTo>
                <a:lnTo>
                  <a:pt x="278" y="196"/>
                </a:lnTo>
                <a:lnTo>
                  <a:pt x="276" y="199"/>
                </a:lnTo>
                <a:lnTo>
                  <a:pt x="272" y="203"/>
                </a:lnTo>
                <a:lnTo>
                  <a:pt x="271" y="209"/>
                </a:lnTo>
                <a:lnTo>
                  <a:pt x="269" y="215"/>
                </a:lnTo>
                <a:lnTo>
                  <a:pt x="267" y="222"/>
                </a:lnTo>
                <a:lnTo>
                  <a:pt x="265" y="230"/>
                </a:lnTo>
                <a:lnTo>
                  <a:pt x="263" y="238"/>
                </a:lnTo>
                <a:lnTo>
                  <a:pt x="261" y="247"/>
                </a:lnTo>
                <a:lnTo>
                  <a:pt x="259" y="257"/>
                </a:lnTo>
                <a:lnTo>
                  <a:pt x="259" y="268"/>
                </a:lnTo>
                <a:lnTo>
                  <a:pt x="257" y="280"/>
                </a:lnTo>
                <a:lnTo>
                  <a:pt x="255" y="292"/>
                </a:lnTo>
                <a:lnTo>
                  <a:pt x="253" y="305"/>
                </a:lnTo>
                <a:lnTo>
                  <a:pt x="251" y="318"/>
                </a:lnTo>
                <a:lnTo>
                  <a:pt x="249" y="334"/>
                </a:lnTo>
                <a:lnTo>
                  <a:pt x="249" y="347"/>
                </a:lnTo>
                <a:lnTo>
                  <a:pt x="248" y="364"/>
                </a:lnTo>
                <a:lnTo>
                  <a:pt x="246" y="380"/>
                </a:lnTo>
                <a:lnTo>
                  <a:pt x="244" y="397"/>
                </a:lnTo>
                <a:lnTo>
                  <a:pt x="244" y="416"/>
                </a:lnTo>
                <a:lnTo>
                  <a:pt x="242" y="434"/>
                </a:lnTo>
                <a:lnTo>
                  <a:pt x="240" y="453"/>
                </a:lnTo>
                <a:lnTo>
                  <a:pt x="240" y="474"/>
                </a:lnTo>
                <a:lnTo>
                  <a:pt x="238" y="495"/>
                </a:lnTo>
                <a:lnTo>
                  <a:pt x="236" y="516"/>
                </a:lnTo>
                <a:lnTo>
                  <a:pt x="236" y="537"/>
                </a:lnTo>
                <a:lnTo>
                  <a:pt x="234" y="560"/>
                </a:lnTo>
                <a:lnTo>
                  <a:pt x="232" y="583"/>
                </a:lnTo>
                <a:lnTo>
                  <a:pt x="232" y="608"/>
                </a:lnTo>
                <a:lnTo>
                  <a:pt x="230" y="633"/>
                </a:lnTo>
                <a:lnTo>
                  <a:pt x="230" y="658"/>
                </a:lnTo>
                <a:lnTo>
                  <a:pt x="228" y="685"/>
                </a:lnTo>
                <a:lnTo>
                  <a:pt x="226" y="712"/>
                </a:lnTo>
                <a:lnTo>
                  <a:pt x="226" y="739"/>
                </a:lnTo>
                <a:lnTo>
                  <a:pt x="224" y="768"/>
                </a:lnTo>
                <a:lnTo>
                  <a:pt x="224" y="794"/>
                </a:lnTo>
                <a:lnTo>
                  <a:pt x="224" y="825"/>
                </a:lnTo>
                <a:lnTo>
                  <a:pt x="223" y="854"/>
                </a:lnTo>
                <a:lnTo>
                  <a:pt x="223" y="885"/>
                </a:lnTo>
                <a:lnTo>
                  <a:pt x="221" y="917"/>
                </a:lnTo>
                <a:lnTo>
                  <a:pt x="221" y="948"/>
                </a:lnTo>
                <a:lnTo>
                  <a:pt x="221" y="981"/>
                </a:lnTo>
                <a:lnTo>
                  <a:pt x="221" y="1013"/>
                </a:lnTo>
                <a:lnTo>
                  <a:pt x="219" y="1048"/>
                </a:lnTo>
                <a:lnTo>
                  <a:pt x="219" y="1082"/>
                </a:lnTo>
                <a:lnTo>
                  <a:pt x="219" y="1117"/>
                </a:lnTo>
                <a:lnTo>
                  <a:pt x="219" y="1153"/>
                </a:lnTo>
                <a:lnTo>
                  <a:pt x="219" y="1190"/>
                </a:lnTo>
                <a:lnTo>
                  <a:pt x="217" y="1226"/>
                </a:lnTo>
                <a:lnTo>
                  <a:pt x="217" y="1265"/>
                </a:lnTo>
                <a:lnTo>
                  <a:pt x="217" y="1303"/>
                </a:lnTo>
                <a:lnTo>
                  <a:pt x="217" y="1341"/>
                </a:lnTo>
                <a:lnTo>
                  <a:pt x="217" y="1382"/>
                </a:lnTo>
                <a:lnTo>
                  <a:pt x="217" y="1422"/>
                </a:lnTo>
                <a:lnTo>
                  <a:pt x="217" y="1462"/>
                </a:lnTo>
                <a:lnTo>
                  <a:pt x="217" y="1505"/>
                </a:lnTo>
                <a:lnTo>
                  <a:pt x="217" y="1547"/>
                </a:lnTo>
                <a:lnTo>
                  <a:pt x="217" y="1589"/>
                </a:lnTo>
                <a:lnTo>
                  <a:pt x="217" y="1633"/>
                </a:lnTo>
                <a:lnTo>
                  <a:pt x="217" y="1677"/>
                </a:lnTo>
                <a:lnTo>
                  <a:pt x="217" y="1721"/>
                </a:lnTo>
                <a:lnTo>
                  <a:pt x="217" y="1768"/>
                </a:lnTo>
                <a:lnTo>
                  <a:pt x="217" y="1814"/>
                </a:lnTo>
                <a:lnTo>
                  <a:pt x="217" y="1860"/>
                </a:lnTo>
                <a:lnTo>
                  <a:pt x="217" y="1906"/>
                </a:lnTo>
                <a:lnTo>
                  <a:pt x="217" y="1952"/>
                </a:lnTo>
                <a:lnTo>
                  <a:pt x="217" y="1996"/>
                </a:lnTo>
                <a:lnTo>
                  <a:pt x="215" y="2038"/>
                </a:lnTo>
                <a:lnTo>
                  <a:pt x="215" y="2080"/>
                </a:lnTo>
                <a:lnTo>
                  <a:pt x="215" y="2121"/>
                </a:lnTo>
                <a:lnTo>
                  <a:pt x="215" y="2159"/>
                </a:lnTo>
                <a:lnTo>
                  <a:pt x="215" y="2197"/>
                </a:lnTo>
                <a:lnTo>
                  <a:pt x="213" y="2234"/>
                </a:lnTo>
                <a:lnTo>
                  <a:pt x="213" y="2269"/>
                </a:lnTo>
                <a:lnTo>
                  <a:pt x="211" y="2303"/>
                </a:lnTo>
                <a:lnTo>
                  <a:pt x="211" y="2336"/>
                </a:lnTo>
                <a:lnTo>
                  <a:pt x="209" y="2368"/>
                </a:lnTo>
                <a:lnTo>
                  <a:pt x="209" y="2399"/>
                </a:lnTo>
                <a:lnTo>
                  <a:pt x="207" y="2428"/>
                </a:lnTo>
                <a:lnTo>
                  <a:pt x="207" y="2457"/>
                </a:lnTo>
                <a:lnTo>
                  <a:pt x="205" y="2483"/>
                </a:lnTo>
                <a:lnTo>
                  <a:pt x="203" y="2508"/>
                </a:lnTo>
                <a:lnTo>
                  <a:pt x="203" y="2533"/>
                </a:lnTo>
                <a:lnTo>
                  <a:pt x="201" y="2556"/>
                </a:lnTo>
                <a:lnTo>
                  <a:pt x="200" y="2579"/>
                </a:lnTo>
                <a:lnTo>
                  <a:pt x="198" y="2601"/>
                </a:lnTo>
                <a:lnTo>
                  <a:pt x="198" y="2620"/>
                </a:lnTo>
                <a:lnTo>
                  <a:pt x="196" y="2637"/>
                </a:lnTo>
                <a:lnTo>
                  <a:pt x="194" y="2654"/>
                </a:lnTo>
                <a:lnTo>
                  <a:pt x="192" y="2672"/>
                </a:lnTo>
                <a:lnTo>
                  <a:pt x="190" y="2685"/>
                </a:lnTo>
                <a:lnTo>
                  <a:pt x="188" y="2698"/>
                </a:lnTo>
                <a:lnTo>
                  <a:pt x="186" y="2712"/>
                </a:lnTo>
                <a:lnTo>
                  <a:pt x="184" y="2723"/>
                </a:lnTo>
                <a:lnTo>
                  <a:pt x="180" y="2733"/>
                </a:lnTo>
                <a:lnTo>
                  <a:pt x="178" y="2741"/>
                </a:lnTo>
                <a:lnTo>
                  <a:pt x="175" y="2756"/>
                </a:lnTo>
                <a:lnTo>
                  <a:pt x="171" y="2771"/>
                </a:lnTo>
                <a:lnTo>
                  <a:pt x="167" y="2785"/>
                </a:lnTo>
                <a:lnTo>
                  <a:pt x="163" y="2798"/>
                </a:lnTo>
                <a:lnTo>
                  <a:pt x="159" y="2810"/>
                </a:lnTo>
                <a:lnTo>
                  <a:pt x="155" y="2821"/>
                </a:lnTo>
                <a:lnTo>
                  <a:pt x="153" y="2831"/>
                </a:lnTo>
                <a:lnTo>
                  <a:pt x="150" y="2839"/>
                </a:lnTo>
                <a:lnTo>
                  <a:pt x="148" y="2846"/>
                </a:lnTo>
                <a:lnTo>
                  <a:pt x="144" y="2854"/>
                </a:lnTo>
                <a:lnTo>
                  <a:pt x="142" y="2858"/>
                </a:lnTo>
                <a:lnTo>
                  <a:pt x="140" y="2862"/>
                </a:lnTo>
                <a:lnTo>
                  <a:pt x="136" y="2864"/>
                </a:lnTo>
                <a:lnTo>
                  <a:pt x="134" y="2865"/>
                </a:lnTo>
                <a:lnTo>
                  <a:pt x="132" y="2865"/>
                </a:lnTo>
                <a:lnTo>
                  <a:pt x="130" y="2864"/>
                </a:lnTo>
                <a:lnTo>
                  <a:pt x="127" y="2862"/>
                </a:lnTo>
                <a:lnTo>
                  <a:pt x="125" y="2858"/>
                </a:lnTo>
                <a:lnTo>
                  <a:pt x="123" y="2852"/>
                </a:lnTo>
                <a:lnTo>
                  <a:pt x="119" y="2848"/>
                </a:lnTo>
                <a:lnTo>
                  <a:pt x="115" y="2840"/>
                </a:lnTo>
                <a:lnTo>
                  <a:pt x="111" y="2835"/>
                </a:lnTo>
                <a:lnTo>
                  <a:pt x="109" y="2827"/>
                </a:lnTo>
                <a:lnTo>
                  <a:pt x="105" y="2817"/>
                </a:lnTo>
                <a:lnTo>
                  <a:pt x="102" y="2808"/>
                </a:lnTo>
                <a:lnTo>
                  <a:pt x="98" y="2798"/>
                </a:lnTo>
                <a:lnTo>
                  <a:pt x="94" y="2787"/>
                </a:lnTo>
                <a:lnTo>
                  <a:pt x="92" y="2773"/>
                </a:lnTo>
                <a:lnTo>
                  <a:pt x="88" y="2762"/>
                </a:lnTo>
                <a:lnTo>
                  <a:pt x="86" y="2746"/>
                </a:lnTo>
                <a:lnTo>
                  <a:pt x="82" y="2733"/>
                </a:lnTo>
                <a:lnTo>
                  <a:pt x="81" y="2718"/>
                </a:lnTo>
                <a:lnTo>
                  <a:pt x="79" y="2708"/>
                </a:lnTo>
                <a:lnTo>
                  <a:pt x="77" y="2697"/>
                </a:lnTo>
                <a:lnTo>
                  <a:pt x="75" y="2685"/>
                </a:lnTo>
                <a:lnTo>
                  <a:pt x="73" y="2672"/>
                </a:lnTo>
                <a:lnTo>
                  <a:pt x="71" y="2656"/>
                </a:lnTo>
                <a:lnTo>
                  <a:pt x="69" y="2639"/>
                </a:lnTo>
                <a:lnTo>
                  <a:pt x="67" y="2620"/>
                </a:lnTo>
                <a:lnTo>
                  <a:pt x="67" y="2599"/>
                </a:lnTo>
                <a:lnTo>
                  <a:pt x="65" y="2578"/>
                </a:lnTo>
                <a:lnTo>
                  <a:pt x="65" y="2555"/>
                </a:lnTo>
                <a:lnTo>
                  <a:pt x="63" y="2528"/>
                </a:lnTo>
                <a:lnTo>
                  <a:pt x="63" y="2501"/>
                </a:lnTo>
                <a:lnTo>
                  <a:pt x="61" y="2472"/>
                </a:lnTo>
                <a:lnTo>
                  <a:pt x="61" y="2443"/>
                </a:lnTo>
                <a:lnTo>
                  <a:pt x="61" y="2411"/>
                </a:lnTo>
                <a:lnTo>
                  <a:pt x="61" y="2376"/>
                </a:lnTo>
                <a:lnTo>
                  <a:pt x="61" y="2341"/>
                </a:lnTo>
                <a:lnTo>
                  <a:pt x="59" y="2305"/>
                </a:lnTo>
                <a:lnTo>
                  <a:pt x="59" y="2267"/>
                </a:lnTo>
                <a:lnTo>
                  <a:pt x="59" y="2226"/>
                </a:lnTo>
                <a:lnTo>
                  <a:pt x="61" y="2184"/>
                </a:lnTo>
                <a:lnTo>
                  <a:pt x="61" y="2140"/>
                </a:lnTo>
                <a:lnTo>
                  <a:pt x="61" y="2096"/>
                </a:lnTo>
                <a:lnTo>
                  <a:pt x="61" y="2050"/>
                </a:lnTo>
                <a:lnTo>
                  <a:pt x="61" y="2000"/>
                </a:lnTo>
                <a:lnTo>
                  <a:pt x="63" y="1950"/>
                </a:lnTo>
                <a:lnTo>
                  <a:pt x="63" y="1898"/>
                </a:lnTo>
                <a:lnTo>
                  <a:pt x="63" y="1844"/>
                </a:lnTo>
                <a:lnTo>
                  <a:pt x="65" y="1791"/>
                </a:lnTo>
                <a:lnTo>
                  <a:pt x="65" y="1733"/>
                </a:lnTo>
                <a:lnTo>
                  <a:pt x="67" y="1675"/>
                </a:lnTo>
                <a:lnTo>
                  <a:pt x="69" y="1616"/>
                </a:lnTo>
                <a:lnTo>
                  <a:pt x="69" y="1554"/>
                </a:lnTo>
                <a:lnTo>
                  <a:pt x="71" y="1497"/>
                </a:lnTo>
                <a:lnTo>
                  <a:pt x="71" y="1439"/>
                </a:lnTo>
                <a:lnTo>
                  <a:pt x="73" y="1384"/>
                </a:lnTo>
                <a:lnTo>
                  <a:pt x="73" y="1328"/>
                </a:lnTo>
                <a:lnTo>
                  <a:pt x="73" y="1276"/>
                </a:lnTo>
                <a:lnTo>
                  <a:pt x="75" y="1224"/>
                </a:lnTo>
                <a:lnTo>
                  <a:pt x="75" y="1174"/>
                </a:lnTo>
                <a:lnTo>
                  <a:pt x="75" y="1125"/>
                </a:lnTo>
                <a:lnTo>
                  <a:pt x="77" y="1078"/>
                </a:lnTo>
                <a:lnTo>
                  <a:pt x="77" y="1032"/>
                </a:lnTo>
                <a:lnTo>
                  <a:pt x="77" y="986"/>
                </a:lnTo>
                <a:lnTo>
                  <a:pt x="77" y="944"/>
                </a:lnTo>
                <a:lnTo>
                  <a:pt x="77" y="902"/>
                </a:lnTo>
                <a:lnTo>
                  <a:pt x="77" y="862"/>
                </a:lnTo>
                <a:lnTo>
                  <a:pt x="77" y="823"/>
                </a:lnTo>
                <a:lnTo>
                  <a:pt x="77" y="785"/>
                </a:lnTo>
                <a:lnTo>
                  <a:pt x="77" y="748"/>
                </a:lnTo>
                <a:lnTo>
                  <a:pt x="77" y="714"/>
                </a:lnTo>
                <a:lnTo>
                  <a:pt x="77" y="679"/>
                </a:lnTo>
                <a:lnTo>
                  <a:pt x="77" y="647"/>
                </a:lnTo>
                <a:lnTo>
                  <a:pt x="77" y="616"/>
                </a:lnTo>
                <a:lnTo>
                  <a:pt x="75" y="587"/>
                </a:lnTo>
                <a:lnTo>
                  <a:pt x="75" y="558"/>
                </a:lnTo>
                <a:lnTo>
                  <a:pt x="75" y="531"/>
                </a:lnTo>
                <a:lnTo>
                  <a:pt x="73" y="505"/>
                </a:lnTo>
                <a:lnTo>
                  <a:pt x="73" y="482"/>
                </a:lnTo>
                <a:lnTo>
                  <a:pt x="73" y="458"/>
                </a:lnTo>
                <a:lnTo>
                  <a:pt x="71" y="435"/>
                </a:lnTo>
                <a:lnTo>
                  <a:pt x="71" y="416"/>
                </a:lnTo>
                <a:lnTo>
                  <a:pt x="69" y="397"/>
                </a:lnTo>
                <a:lnTo>
                  <a:pt x="69" y="378"/>
                </a:lnTo>
                <a:lnTo>
                  <a:pt x="65" y="347"/>
                </a:lnTo>
                <a:lnTo>
                  <a:pt x="63" y="316"/>
                </a:lnTo>
                <a:lnTo>
                  <a:pt x="59" y="288"/>
                </a:lnTo>
                <a:lnTo>
                  <a:pt x="57" y="261"/>
                </a:lnTo>
                <a:lnTo>
                  <a:pt x="54" y="236"/>
                </a:lnTo>
                <a:lnTo>
                  <a:pt x="50" y="213"/>
                </a:lnTo>
                <a:lnTo>
                  <a:pt x="46" y="190"/>
                </a:lnTo>
                <a:lnTo>
                  <a:pt x="42" y="169"/>
                </a:lnTo>
                <a:lnTo>
                  <a:pt x="38" y="149"/>
                </a:lnTo>
                <a:lnTo>
                  <a:pt x="33" y="132"/>
                </a:lnTo>
                <a:lnTo>
                  <a:pt x="29" y="117"/>
                </a:lnTo>
                <a:lnTo>
                  <a:pt x="25" y="101"/>
                </a:lnTo>
                <a:lnTo>
                  <a:pt x="19" y="88"/>
                </a:lnTo>
                <a:lnTo>
                  <a:pt x="15" y="78"/>
                </a:lnTo>
                <a:lnTo>
                  <a:pt x="11" y="69"/>
                </a:lnTo>
                <a:lnTo>
                  <a:pt x="6" y="6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Freeform 76"/>
          <p:cNvSpPr/>
          <p:nvPr/>
        </p:nvSpPr>
        <p:spPr>
          <a:xfrm>
            <a:off x="6675480" y="3817800"/>
            <a:ext cx="987480" cy="204840"/>
          </a:xfrm>
          <a:custGeom>
            <a:avLst/>
            <a:gdLst/>
            <a:ahLst/>
            <a:rect l="l" t="t" r="r" b="b"/>
            <a:pathLst>
              <a:path w="1246" h="257">
                <a:moveTo>
                  <a:pt x="566" y="86"/>
                </a:moveTo>
                <a:lnTo>
                  <a:pt x="599" y="80"/>
                </a:lnTo>
                <a:lnTo>
                  <a:pt x="630" y="75"/>
                </a:lnTo>
                <a:lnTo>
                  <a:pt x="660" y="69"/>
                </a:lnTo>
                <a:lnTo>
                  <a:pt x="689" y="63"/>
                </a:lnTo>
                <a:lnTo>
                  <a:pt x="718" y="59"/>
                </a:lnTo>
                <a:lnTo>
                  <a:pt x="745" y="54"/>
                </a:lnTo>
                <a:lnTo>
                  <a:pt x="770" y="50"/>
                </a:lnTo>
                <a:lnTo>
                  <a:pt x="797" y="46"/>
                </a:lnTo>
                <a:lnTo>
                  <a:pt x="820" y="42"/>
                </a:lnTo>
                <a:lnTo>
                  <a:pt x="845" y="38"/>
                </a:lnTo>
                <a:lnTo>
                  <a:pt x="866" y="34"/>
                </a:lnTo>
                <a:lnTo>
                  <a:pt x="889" y="31"/>
                </a:lnTo>
                <a:lnTo>
                  <a:pt x="908" y="27"/>
                </a:lnTo>
                <a:lnTo>
                  <a:pt x="929" y="25"/>
                </a:lnTo>
                <a:lnTo>
                  <a:pt x="946" y="21"/>
                </a:lnTo>
                <a:lnTo>
                  <a:pt x="966" y="19"/>
                </a:lnTo>
                <a:lnTo>
                  <a:pt x="983" y="17"/>
                </a:lnTo>
                <a:lnTo>
                  <a:pt x="998" y="13"/>
                </a:lnTo>
                <a:lnTo>
                  <a:pt x="1014" y="11"/>
                </a:lnTo>
                <a:lnTo>
                  <a:pt x="1027" y="9"/>
                </a:lnTo>
                <a:lnTo>
                  <a:pt x="1041" y="8"/>
                </a:lnTo>
                <a:lnTo>
                  <a:pt x="1052" y="8"/>
                </a:lnTo>
                <a:lnTo>
                  <a:pt x="1064" y="6"/>
                </a:lnTo>
                <a:lnTo>
                  <a:pt x="1073" y="4"/>
                </a:lnTo>
                <a:lnTo>
                  <a:pt x="1083" y="4"/>
                </a:lnTo>
                <a:lnTo>
                  <a:pt x="1092" y="2"/>
                </a:lnTo>
                <a:lnTo>
                  <a:pt x="1100" y="2"/>
                </a:lnTo>
                <a:lnTo>
                  <a:pt x="1106" y="0"/>
                </a:lnTo>
                <a:lnTo>
                  <a:pt x="1112" y="0"/>
                </a:lnTo>
                <a:lnTo>
                  <a:pt x="1115" y="0"/>
                </a:lnTo>
                <a:lnTo>
                  <a:pt x="1119" y="0"/>
                </a:lnTo>
                <a:lnTo>
                  <a:pt x="1123" y="0"/>
                </a:lnTo>
                <a:lnTo>
                  <a:pt x="1129" y="0"/>
                </a:lnTo>
                <a:lnTo>
                  <a:pt x="1135" y="0"/>
                </a:lnTo>
                <a:lnTo>
                  <a:pt x="1142" y="0"/>
                </a:lnTo>
                <a:lnTo>
                  <a:pt x="1150" y="2"/>
                </a:lnTo>
                <a:lnTo>
                  <a:pt x="1161" y="2"/>
                </a:lnTo>
                <a:lnTo>
                  <a:pt x="1171" y="6"/>
                </a:lnTo>
                <a:lnTo>
                  <a:pt x="1184" y="8"/>
                </a:lnTo>
                <a:lnTo>
                  <a:pt x="1198" y="11"/>
                </a:lnTo>
                <a:lnTo>
                  <a:pt x="1204" y="13"/>
                </a:lnTo>
                <a:lnTo>
                  <a:pt x="1209" y="17"/>
                </a:lnTo>
                <a:lnTo>
                  <a:pt x="1215" y="19"/>
                </a:lnTo>
                <a:lnTo>
                  <a:pt x="1221" y="21"/>
                </a:lnTo>
                <a:lnTo>
                  <a:pt x="1225" y="23"/>
                </a:lnTo>
                <a:lnTo>
                  <a:pt x="1229" y="25"/>
                </a:lnTo>
                <a:lnTo>
                  <a:pt x="1236" y="31"/>
                </a:lnTo>
                <a:lnTo>
                  <a:pt x="1240" y="34"/>
                </a:lnTo>
                <a:lnTo>
                  <a:pt x="1244" y="40"/>
                </a:lnTo>
                <a:lnTo>
                  <a:pt x="1246" y="44"/>
                </a:lnTo>
                <a:lnTo>
                  <a:pt x="1246" y="48"/>
                </a:lnTo>
                <a:lnTo>
                  <a:pt x="1246" y="54"/>
                </a:lnTo>
                <a:lnTo>
                  <a:pt x="1244" y="57"/>
                </a:lnTo>
                <a:lnTo>
                  <a:pt x="1242" y="63"/>
                </a:lnTo>
                <a:lnTo>
                  <a:pt x="1238" y="69"/>
                </a:lnTo>
                <a:lnTo>
                  <a:pt x="1234" y="75"/>
                </a:lnTo>
                <a:lnTo>
                  <a:pt x="1231" y="80"/>
                </a:lnTo>
                <a:lnTo>
                  <a:pt x="1227" y="88"/>
                </a:lnTo>
                <a:lnTo>
                  <a:pt x="1221" y="98"/>
                </a:lnTo>
                <a:lnTo>
                  <a:pt x="1219" y="100"/>
                </a:lnTo>
                <a:lnTo>
                  <a:pt x="1215" y="102"/>
                </a:lnTo>
                <a:lnTo>
                  <a:pt x="1209" y="105"/>
                </a:lnTo>
                <a:lnTo>
                  <a:pt x="1204" y="107"/>
                </a:lnTo>
                <a:lnTo>
                  <a:pt x="1198" y="109"/>
                </a:lnTo>
                <a:lnTo>
                  <a:pt x="1190" y="113"/>
                </a:lnTo>
                <a:lnTo>
                  <a:pt x="1181" y="115"/>
                </a:lnTo>
                <a:lnTo>
                  <a:pt x="1171" y="117"/>
                </a:lnTo>
                <a:lnTo>
                  <a:pt x="1160" y="121"/>
                </a:lnTo>
                <a:lnTo>
                  <a:pt x="1148" y="123"/>
                </a:lnTo>
                <a:lnTo>
                  <a:pt x="1135" y="127"/>
                </a:lnTo>
                <a:lnTo>
                  <a:pt x="1121" y="128"/>
                </a:lnTo>
                <a:lnTo>
                  <a:pt x="1106" y="132"/>
                </a:lnTo>
                <a:lnTo>
                  <a:pt x="1090" y="136"/>
                </a:lnTo>
                <a:lnTo>
                  <a:pt x="1075" y="138"/>
                </a:lnTo>
                <a:lnTo>
                  <a:pt x="1056" y="142"/>
                </a:lnTo>
                <a:lnTo>
                  <a:pt x="1039" y="144"/>
                </a:lnTo>
                <a:lnTo>
                  <a:pt x="1017" y="148"/>
                </a:lnTo>
                <a:lnTo>
                  <a:pt x="998" y="151"/>
                </a:lnTo>
                <a:lnTo>
                  <a:pt x="975" y="153"/>
                </a:lnTo>
                <a:lnTo>
                  <a:pt x="952" y="157"/>
                </a:lnTo>
                <a:lnTo>
                  <a:pt x="929" y="161"/>
                </a:lnTo>
                <a:lnTo>
                  <a:pt x="904" y="165"/>
                </a:lnTo>
                <a:lnTo>
                  <a:pt x="879" y="167"/>
                </a:lnTo>
                <a:lnTo>
                  <a:pt x="852" y="171"/>
                </a:lnTo>
                <a:lnTo>
                  <a:pt x="826" y="175"/>
                </a:lnTo>
                <a:lnTo>
                  <a:pt x="797" y="178"/>
                </a:lnTo>
                <a:lnTo>
                  <a:pt x="768" y="182"/>
                </a:lnTo>
                <a:lnTo>
                  <a:pt x="737" y="184"/>
                </a:lnTo>
                <a:lnTo>
                  <a:pt x="707" y="188"/>
                </a:lnTo>
                <a:lnTo>
                  <a:pt x="674" y="192"/>
                </a:lnTo>
                <a:lnTo>
                  <a:pt x="641" y="196"/>
                </a:lnTo>
                <a:lnTo>
                  <a:pt x="609" y="199"/>
                </a:lnTo>
                <a:lnTo>
                  <a:pt x="576" y="201"/>
                </a:lnTo>
                <a:lnTo>
                  <a:pt x="543" y="205"/>
                </a:lnTo>
                <a:lnTo>
                  <a:pt x="513" y="209"/>
                </a:lnTo>
                <a:lnTo>
                  <a:pt x="484" y="211"/>
                </a:lnTo>
                <a:lnTo>
                  <a:pt x="455" y="215"/>
                </a:lnTo>
                <a:lnTo>
                  <a:pt x="426" y="219"/>
                </a:lnTo>
                <a:lnTo>
                  <a:pt x="399" y="221"/>
                </a:lnTo>
                <a:lnTo>
                  <a:pt x="373" y="223"/>
                </a:lnTo>
                <a:lnTo>
                  <a:pt x="346" y="226"/>
                </a:lnTo>
                <a:lnTo>
                  <a:pt x="321" y="228"/>
                </a:lnTo>
                <a:lnTo>
                  <a:pt x="298" y="230"/>
                </a:lnTo>
                <a:lnTo>
                  <a:pt x="275" y="234"/>
                </a:lnTo>
                <a:lnTo>
                  <a:pt x="252" y="236"/>
                </a:lnTo>
                <a:lnTo>
                  <a:pt x="231" y="238"/>
                </a:lnTo>
                <a:lnTo>
                  <a:pt x="209" y="240"/>
                </a:lnTo>
                <a:lnTo>
                  <a:pt x="190" y="242"/>
                </a:lnTo>
                <a:lnTo>
                  <a:pt x="171" y="244"/>
                </a:lnTo>
                <a:lnTo>
                  <a:pt x="152" y="246"/>
                </a:lnTo>
                <a:lnTo>
                  <a:pt x="135" y="247"/>
                </a:lnTo>
                <a:lnTo>
                  <a:pt x="119" y="249"/>
                </a:lnTo>
                <a:lnTo>
                  <a:pt x="104" y="249"/>
                </a:lnTo>
                <a:lnTo>
                  <a:pt x="88" y="251"/>
                </a:lnTo>
                <a:lnTo>
                  <a:pt x="75" y="253"/>
                </a:lnTo>
                <a:lnTo>
                  <a:pt x="64" y="253"/>
                </a:lnTo>
                <a:lnTo>
                  <a:pt x="50" y="253"/>
                </a:lnTo>
                <a:lnTo>
                  <a:pt x="40" y="255"/>
                </a:lnTo>
                <a:lnTo>
                  <a:pt x="31" y="255"/>
                </a:lnTo>
                <a:lnTo>
                  <a:pt x="21" y="255"/>
                </a:lnTo>
                <a:lnTo>
                  <a:pt x="14" y="257"/>
                </a:lnTo>
                <a:lnTo>
                  <a:pt x="6" y="257"/>
                </a:lnTo>
                <a:lnTo>
                  <a:pt x="0" y="257"/>
                </a:lnTo>
                <a:lnTo>
                  <a:pt x="0" y="159"/>
                </a:lnTo>
                <a:lnTo>
                  <a:pt x="4" y="159"/>
                </a:lnTo>
                <a:lnTo>
                  <a:pt x="8" y="159"/>
                </a:lnTo>
                <a:lnTo>
                  <a:pt x="14" y="157"/>
                </a:lnTo>
                <a:lnTo>
                  <a:pt x="21" y="157"/>
                </a:lnTo>
                <a:lnTo>
                  <a:pt x="29" y="157"/>
                </a:lnTo>
                <a:lnTo>
                  <a:pt x="37" y="155"/>
                </a:lnTo>
                <a:lnTo>
                  <a:pt x="46" y="155"/>
                </a:lnTo>
                <a:lnTo>
                  <a:pt x="56" y="153"/>
                </a:lnTo>
                <a:lnTo>
                  <a:pt x="67" y="153"/>
                </a:lnTo>
                <a:lnTo>
                  <a:pt x="81" y="151"/>
                </a:lnTo>
                <a:lnTo>
                  <a:pt x="94" y="150"/>
                </a:lnTo>
                <a:lnTo>
                  <a:pt x="108" y="150"/>
                </a:lnTo>
                <a:lnTo>
                  <a:pt x="123" y="148"/>
                </a:lnTo>
                <a:lnTo>
                  <a:pt x="138" y="146"/>
                </a:lnTo>
                <a:lnTo>
                  <a:pt x="154" y="144"/>
                </a:lnTo>
                <a:lnTo>
                  <a:pt x="173" y="140"/>
                </a:lnTo>
                <a:lnTo>
                  <a:pt x="190" y="138"/>
                </a:lnTo>
                <a:lnTo>
                  <a:pt x="209" y="136"/>
                </a:lnTo>
                <a:lnTo>
                  <a:pt x="231" y="134"/>
                </a:lnTo>
                <a:lnTo>
                  <a:pt x="252" y="130"/>
                </a:lnTo>
                <a:lnTo>
                  <a:pt x="273" y="128"/>
                </a:lnTo>
                <a:lnTo>
                  <a:pt x="296" y="125"/>
                </a:lnTo>
                <a:lnTo>
                  <a:pt x="319" y="121"/>
                </a:lnTo>
                <a:lnTo>
                  <a:pt x="344" y="117"/>
                </a:lnTo>
                <a:lnTo>
                  <a:pt x="369" y="115"/>
                </a:lnTo>
                <a:lnTo>
                  <a:pt x="394" y="111"/>
                </a:lnTo>
                <a:lnTo>
                  <a:pt x="421" y="107"/>
                </a:lnTo>
                <a:lnTo>
                  <a:pt x="449" y="104"/>
                </a:lnTo>
                <a:lnTo>
                  <a:pt x="476" y="98"/>
                </a:lnTo>
                <a:lnTo>
                  <a:pt x="507" y="94"/>
                </a:lnTo>
                <a:lnTo>
                  <a:pt x="536" y="90"/>
                </a:lnTo>
                <a:lnTo>
                  <a:pt x="566" y="86"/>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Freeform 77"/>
          <p:cNvSpPr/>
          <p:nvPr/>
        </p:nvSpPr>
        <p:spPr>
          <a:xfrm>
            <a:off x="6595920" y="3322800"/>
            <a:ext cx="1254240" cy="572760"/>
          </a:xfrm>
          <a:custGeom>
            <a:avLst/>
            <a:gdLst/>
            <a:ahLst/>
            <a:rect l="l" t="t" r="r" b="b"/>
            <a:pathLst>
              <a:path w="1580" h="722">
                <a:moveTo>
                  <a:pt x="1173" y="37"/>
                </a:moveTo>
                <a:lnTo>
                  <a:pt x="1183" y="27"/>
                </a:lnTo>
                <a:lnTo>
                  <a:pt x="1194" y="19"/>
                </a:lnTo>
                <a:lnTo>
                  <a:pt x="1206" y="13"/>
                </a:lnTo>
                <a:lnTo>
                  <a:pt x="1217" y="8"/>
                </a:lnTo>
                <a:lnTo>
                  <a:pt x="1231" y="4"/>
                </a:lnTo>
                <a:lnTo>
                  <a:pt x="1244" y="2"/>
                </a:lnTo>
                <a:lnTo>
                  <a:pt x="1258" y="0"/>
                </a:lnTo>
                <a:lnTo>
                  <a:pt x="1273" y="0"/>
                </a:lnTo>
                <a:lnTo>
                  <a:pt x="1279" y="0"/>
                </a:lnTo>
                <a:lnTo>
                  <a:pt x="1286" y="0"/>
                </a:lnTo>
                <a:lnTo>
                  <a:pt x="1296" y="2"/>
                </a:lnTo>
                <a:lnTo>
                  <a:pt x="1304" y="4"/>
                </a:lnTo>
                <a:lnTo>
                  <a:pt x="1313" y="6"/>
                </a:lnTo>
                <a:lnTo>
                  <a:pt x="1325" y="10"/>
                </a:lnTo>
                <a:lnTo>
                  <a:pt x="1334" y="13"/>
                </a:lnTo>
                <a:lnTo>
                  <a:pt x="1346" y="19"/>
                </a:lnTo>
                <a:lnTo>
                  <a:pt x="1357" y="25"/>
                </a:lnTo>
                <a:lnTo>
                  <a:pt x="1371" y="31"/>
                </a:lnTo>
                <a:lnTo>
                  <a:pt x="1384" y="37"/>
                </a:lnTo>
                <a:lnTo>
                  <a:pt x="1398" y="46"/>
                </a:lnTo>
                <a:lnTo>
                  <a:pt x="1411" y="54"/>
                </a:lnTo>
                <a:lnTo>
                  <a:pt x="1426" y="63"/>
                </a:lnTo>
                <a:lnTo>
                  <a:pt x="1442" y="73"/>
                </a:lnTo>
                <a:lnTo>
                  <a:pt x="1457" y="85"/>
                </a:lnTo>
                <a:lnTo>
                  <a:pt x="1473" y="96"/>
                </a:lnTo>
                <a:lnTo>
                  <a:pt x="1488" y="108"/>
                </a:lnTo>
                <a:lnTo>
                  <a:pt x="1501" y="117"/>
                </a:lnTo>
                <a:lnTo>
                  <a:pt x="1513" y="127"/>
                </a:lnTo>
                <a:lnTo>
                  <a:pt x="1524" y="136"/>
                </a:lnTo>
                <a:lnTo>
                  <a:pt x="1534" y="144"/>
                </a:lnTo>
                <a:lnTo>
                  <a:pt x="1544" y="152"/>
                </a:lnTo>
                <a:lnTo>
                  <a:pt x="1551" y="159"/>
                </a:lnTo>
                <a:lnTo>
                  <a:pt x="1559" y="167"/>
                </a:lnTo>
                <a:lnTo>
                  <a:pt x="1565" y="175"/>
                </a:lnTo>
                <a:lnTo>
                  <a:pt x="1569" y="180"/>
                </a:lnTo>
                <a:lnTo>
                  <a:pt x="1574" y="186"/>
                </a:lnTo>
                <a:lnTo>
                  <a:pt x="1576" y="192"/>
                </a:lnTo>
                <a:lnTo>
                  <a:pt x="1578" y="198"/>
                </a:lnTo>
                <a:lnTo>
                  <a:pt x="1580" y="204"/>
                </a:lnTo>
                <a:lnTo>
                  <a:pt x="1580" y="207"/>
                </a:lnTo>
                <a:lnTo>
                  <a:pt x="1580" y="213"/>
                </a:lnTo>
                <a:lnTo>
                  <a:pt x="1580" y="221"/>
                </a:lnTo>
                <a:lnTo>
                  <a:pt x="1578" y="225"/>
                </a:lnTo>
                <a:lnTo>
                  <a:pt x="1576" y="230"/>
                </a:lnTo>
                <a:lnTo>
                  <a:pt x="1574" y="234"/>
                </a:lnTo>
                <a:lnTo>
                  <a:pt x="1570" y="240"/>
                </a:lnTo>
                <a:lnTo>
                  <a:pt x="1567" y="244"/>
                </a:lnTo>
                <a:lnTo>
                  <a:pt x="1563" y="248"/>
                </a:lnTo>
                <a:lnTo>
                  <a:pt x="1557" y="250"/>
                </a:lnTo>
                <a:lnTo>
                  <a:pt x="1551" y="253"/>
                </a:lnTo>
                <a:lnTo>
                  <a:pt x="1545" y="255"/>
                </a:lnTo>
                <a:lnTo>
                  <a:pt x="1540" y="259"/>
                </a:lnTo>
                <a:lnTo>
                  <a:pt x="1532" y="261"/>
                </a:lnTo>
                <a:lnTo>
                  <a:pt x="1524" y="263"/>
                </a:lnTo>
                <a:lnTo>
                  <a:pt x="1515" y="267"/>
                </a:lnTo>
                <a:lnTo>
                  <a:pt x="1507" y="269"/>
                </a:lnTo>
                <a:lnTo>
                  <a:pt x="1501" y="271"/>
                </a:lnTo>
                <a:lnTo>
                  <a:pt x="1498" y="273"/>
                </a:lnTo>
                <a:lnTo>
                  <a:pt x="1492" y="275"/>
                </a:lnTo>
                <a:lnTo>
                  <a:pt x="1486" y="278"/>
                </a:lnTo>
                <a:lnTo>
                  <a:pt x="1480" y="284"/>
                </a:lnTo>
                <a:lnTo>
                  <a:pt x="1473" y="290"/>
                </a:lnTo>
                <a:lnTo>
                  <a:pt x="1467" y="296"/>
                </a:lnTo>
                <a:lnTo>
                  <a:pt x="1459" y="303"/>
                </a:lnTo>
                <a:lnTo>
                  <a:pt x="1453" y="311"/>
                </a:lnTo>
                <a:lnTo>
                  <a:pt x="1446" y="319"/>
                </a:lnTo>
                <a:lnTo>
                  <a:pt x="1438" y="328"/>
                </a:lnTo>
                <a:lnTo>
                  <a:pt x="1428" y="340"/>
                </a:lnTo>
                <a:lnTo>
                  <a:pt x="1421" y="351"/>
                </a:lnTo>
                <a:lnTo>
                  <a:pt x="1411" y="363"/>
                </a:lnTo>
                <a:lnTo>
                  <a:pt x="1403" y="374"/>
                </a:lnTo>
                <a:lnTo>
                  <a:pt x="1394" y="390"/>
                </a:lnTo>
                <a:lnTo>
                  <a:pt x="1382" y="403"/>
                </a:lnTo>
                <a:lnTo>
                  <a:pt x="1373" y="418"/>
                </a:lnTo>
                <a:lnTo>
                  <a:pt x="1363" y="434"/>
                </a:lnTo>
                <a:lnTo>
                  <a:pt x="1352" y="451"/>
                </a:lnTo>
                <a:lnTo>
                  <a:pt x="1340" y="470"/>
                </a:lnTo>
                <a:lnTo>
                  <a:pt x="1331" y="488"/>
                </a:lnTo>
                <a:lnTo>
                  <a:pt x="1317" y="507"/>
                </a:lnTo>
                <a:lnTo>
                  <a:pt x="1306" y="528"/>
                </a:lnTo>
                <a:lnTo>
                  <a:pt x="1294" y="549"/>
                </a:lnTo>
                <a:lnTo>
                  <a:pt x="1281" y="570"/>
                </a:lnTo>
                <a:lnTo>
                  <a:pt x="1267" y="593"/>
                </a:lnTo>
                <a:lnTo>
                  <a:pt x="1254" y="618"/>
                </a:lnTo>
                <a:lnTo>
                  <a:pt x="1240" y="643"/>
                </a:lnTo>
                <a:lnTo>
                  <a:pt x="1227" y="668"/>
                </a:lnTo>
                <a:lnTo>
                  <a:pt x="1213" y="695"/>
                </a:lnTo>
                <a:lnTo>
                  <a:pt x="1198" y="722"/>
                </a:lnTo>
                <a:lnTo>
                  <a:pt x="1162" y="703"/>
                </a:lnTo>
                <a:lnTo>
                  <a:pt x="1125" y="685"/>
                </a:lnTo>
                <a:lnTo>
                  <a:pt x="1129" y="656"/>
                </a:lnTo>
                <a:lnTo>
                  <a:pt x="1135" y="630"/>
                </a:lnTo>
                <a:lnTo>
                  <a:pt x="1141" y="603"/>
                </a:lnTo>
                <a:lnTo>
                  <a:pt x="1146" y="576"/>
                </a:lnTo>
                <a:lnTo>
                  <a:pt x="1150" y="553"/>
                </a:lnTo>
                <a:lnTo>
                  <a:pt x="1156" y="528"/>
                </a:lnTo>
                <a:lnTo>
                  <a:pt x="1160" y="505"/>
                </a:lnTo>
                <a:lnTo>
                  <a:pt x="1165" y="482"/>
                </a:lnTo>
                <a:lnTo>
                  <a:pt x="1169" y="461"/>
                </a:lnTo>
                <a:lnTo>
                  <a:pt x="1173" y="440"/>
                </a:lnTo>
                <a:lnTo>
                  <a:pt x="1177" y="420"/>
                </a:lnTo>
                <a:lnTo>
                  <a:pt x="1181" y="401"/>
                </a:lnTo>
                <a:lnTo>
                  <a:pt x="1185" y="384"/>
                </a:lnTo>
                <a:lnTo>
                  <a:pt x="1188" y="367"/>
                </a:lnTo>
                <a:lnTo>
                  <a:pt x="1192" y="349"/>
                </a:lnTo>
                <a:lnTo>
                  <a:pt x="1194" y="334"/>
                </a:lnTo>
                <a:lnTo>
                  <a:pt x="1198" y="319"/>
                </a:lnTo>
                <a:lnTo>
                  <a:pt x="1200" y="305"/>
                </a:lnTo>
                <a:lnTo>
                  <a:pt x="1202" y="292"/>
                </a:lnTo>
                <a:lnTo>
                  <a:pt x="1204" y="280"/>
                </a:lnTo>
                <a:lnTo>
                  <a:pt x="1206" y="269"/>
                </a:lnTo>
                <a:lnTo>
                  <a:pt x="1208" y="257"/>
                </a:lnTo>
                <a:lnTo>
                  <a:pt x="1210" y="248"/>
                </a:lnTo>
                <a:lnTo>
                  <a:pt x="1212" y="238"/>
                </a:lnTo>
                <a:lnTo>
                  <a:pt x="1212" y="230"/>
                </a:lnTo>
                <a:lnTo>
                  <a:pt x="1212" y="223"/>
                </a:lnTo>
                <a:lnTo>
                  <a:pt x="1213" y="217"/>
                </a:lnTo>
                <a:lnTo>
                  <a:pt x="1213" y="211"/>
                </a:lnTo>
                <a:lnTo>
                  <a:pt x="1213" y="205"/>
                </a:lnTo>
                <a:lnTo>
                  <a:pt x="1212" y="202"/>
                </a:lnTo>
                <a:lnTo>
                  <a:pt x="1212" y="198"/>
                </a:lnTo>
                <a:lnTo>
                  <a:pt x="1212" y="196"/>
                </a:lnTo>
                <a:lnTo>
                  <a:pt x="1206" y="190"/>
                </a:lnTo>
                <a:lnTo>
                  <a:pt x="1198" y="186"/>
                </a:lnTo>
                <a:lnTo>
                  <a:pt x="1190" y="182"/>
                </a:lnTo>
                <a:lnTo>
                  <a:pt x="1183" y="179"/>
                </a:lnTo>
                <a:lnTo>
                  <a:pt x="1173" y="175"/>
                </a:lnTo>
                <a:lnTo>
                  <a:pt x="1162" y="173"/>
                </a:lnTo>
                <a:lnTo>
                  <a:pt x="1150" y="171"/>
                </a:lnTo>
                <a:lnTo>
                  <a:pt x="1137" y="171"/>
                </a:lnTo>
                <a:lnTo>
                  <a:pt x="1121" y="171"/>
                </a:lnTo>
                <a:lnTo>
                  <a:pt x="1106" y="171"/>
                </a:lnTo>
                <a:lnTo>
                  <a:pt x="1089" y="171"/>
                </a:lnTo>
                <a:lnTo>
                  <a:pt x="1071" y="173"/>
                </a:lnTo>
                <a:lnTo>
                  <a:pt x="1052" y="173"/>
                </a:lnTo>
                <a:lnTo>
                  <a:pt x="1031" y="177"/>
                </a:lnTo>
                <a:lnTo>
                  <a:pt x="1010" y="179"/>
                </a:lnTo>
                <a:lnTo>
                  <a:pt x="989" y="182"/>
                </a:lnTo>
                <a:lnTo>
                  <a:pt x="981" y="184"/>
                </a:lnTo>
                <a:lnTo>
                  <a:pt x="974" y="186"/>
                </a:lnTo>
                <a:lnTo>
                  <a:pt x="964" y="188"/>
                </a:lnTo>
                <a:lnTo>
                  <a:pt x="952" y="190"/>
                </a:lnTo>
                <a:lnTo>
                  <a:pt x="939" y="192"/>
                </a:lnTo>
                <a:lnTo>
                  <a:pt x="926" y="194"/>
                </a:lnTo>
                <a:lnTo>
                  <a:pt x="908" y="196"/>
                </a:lnTo>
                <a:lnTo>
                  <a:pt x="891" y="200"/>
                </a:lnTo>
                <a:lnTo>
                  <a:pt x="872" y="202"/>
                </a:lnTo>
                <a:lnTo>
                  <a:pt x="851" y="205"/>
                </a:lnTo>
                <a:lnTo>
                  <a:pt x="830" y="207"/>
                </a:lnTo>
                <a:lnTo>
                  <a:pt x="805" y="211"/>
                </a:lnTo>
                <a:lnTo>
                  <a:pt x="780" y="215"/>
                </a:lnTo>
                <a:lnTo>
                  <a:pt x="753" y="219"/>
                </a:lnTo>
                <a:lnTo>
                  <a:pt x="724" y="225"/>
                </a:lnTo>
                <a:lnTo>
                  <a:pt x="693" y="228"/>
                </a:lnTo>
                <a:lnTo>
                  <a:pt x="663" y="232"/>
                </a:lnTo>
                <a:lnTo>
                  <a:pt x="628" y="238"/>
                </a:lnTo>
                <a:lnTo>
                  <a:pt x="593" y="244"/>
                </a:lnTo>
                <a:lnTo>
                  <a:pt x="557" y="248"/>
                </a:lnTo>
                <a:lnTo>
                  <a:pt x="519" y="253"/>
                </a:lnTo>
                <a:lnTo>
                  <a:pt x="480" y="259"/>
                </a:lnTo>
                <a:lnTo>
                  <a:pt x="438" y="265"/>
                </a:lnTo>
                <a:lnTo>
                  <a:pt x="396" y="273"/>
                </a:lnTo>
                <a:lnTo>
                  <a:pt x="352" y="278"/>
                </a:lnTo>
                <a:lnTo>
                  <a:pt x="306" y="284"/>
                </a:lnTo>
                <a:lnTo>
                  <a:pt x="259" y="292"/>
                </a:lnTo>
                <a:lnTo>
                  <a:pt x="210" y="299"/>
                </a:lnTo>
                <a:lnTo>
                  <a:pt x="160" y="307"/>
                </a:lnTo>
                <a:lnTo>
                  <a:pt x="108" y="313"/>
                </a:lnTo>
                <a:lnTo>
                  <a:pt x="56" y="323"/>
                </a:lnTo>
                <a:lnTo>
                  <a:pt x="0" y="330"/>
                </a:lnTo>
                <a:lnTo>
                  <a:pt x="0" y="263"/>
                </a:lnTo>
                <a:lnTo>
                  <a:pt x="0" y="196"/>
                </a:lnTo>
                <a:lnTo>
                  <a:pt x="31" y="194"/>
                </a:lnTo>
                <a:lnTo>
                  <a:pt x="60" y="194"/>
                </a:lnTo>
                <a:lnTo>
                  <a:pt x="89" y="194"/>
                </a:lnTo>
                <a:lnTo>
                  <a:pt x="116" y="192"/>
                </a:lnTo>
                <a:lnTo>
                  <a:pt x="144" y="192"/>
                </a:lnTo>
                <a:lnTo>
                  <a:pt x="171" y="190"/>
                </a:lnTo>
                <a:lnTo>
                  <a:pt x="225" y="188"/>
                </a:lnTo>
                <a:lnTo>
                  <a:pt x="275" y="184"/>
                </a:lnTo>
                <a:lnTo>
                  <a:pt x="325" y="180"/>
                </a:lnTo>
                <a:lnTo>
                  <a:pt x="373" y="175"/>
                </a:lnTo>
                <a:lnTo>
                  <a:pt x="421" y="171"/>
                </a:lnTo>
                <a:lnTo>
                  <a:pt x="444" y="167"/>
                </a:lnTo>
                <a:lnTo>
                  <a:pt x="467" y="165"/>
                </a:lnTo>
                <a:lnTo>
                  <a:pt x="492" y="161"/>
                </a:lnTo>
                <a:lnTo>
                  <a:pt x="517" y="159"/>
                </a:lnTo>
                <a:lnTo>
                  <a:pt x="544" y="156"/>
                </a:lnTo>
                <a:lnTo>
                  <a:pt x="570" y="152"/>
                </a:lnTo>
                <a:lnTo>
                  <a:pt x="597" y="148"/>
                </a:lnTo>
                <a:lnTo>
                  <a:pt x="626" y="144"/>
                </a:lnTo>
                <a:lnTo>
                  <a:pt x="655" y="138"/>
                </a:lnTo>
                <a:lnTo>
                  <a:pt x="684" y="132"/>
                </a:lnTo>
                <a:lnTo>
                  <a:pt x="714" y="129"/>
                </a:lnTo>
                <a:lnTo>
                  <a:pt x="745" y="123"/>
                </a:lnTo>
                <a:lnTo>
                  <a:pt x="776" y="117"/>
                </a:lnTo>
                <a:lnTo>
                  <a:pt x="808" y="109"/>
                </a:lnTo>
                <a:lnTo>
                  <a:pt x="843" y="104"/>
                </a:lnTo>
                <a:lnTo>
                  <a:pt x="878" y="98"/>
                </a:lnTo>
                <a:lnTo>
                  <a:pt x="895" y="94"/>
                </a:lnTo>
                <a:lnTo>
                  <a:pt x="910" y="92"/>
                </a:lnTo>
                <a:lnTo>
                  <a:pt x="927" y="90"/>
                </a:lnTo>
                <a:lnTo>
                  <a:pt x="943" y="88"/>
                </a:lnTo>
                <a:lnTo>
                  <a:pt x="958" y="85"/>
                </a:lnTo>
                <a:lnTo>
                  <a:pt x="972" y="83"/>
                </a:lnTo>
                <a:lnTo>
                  <a:pt x="987" y="81"/>
                </a:lnTo>
                <a:lnTo>
                  <a:pt x="1000" y="79"/>
                </a:lnTo>
                <a:lnTo>
                  <a:pt x="1014" y="77"/>
                </a:lnTo>
                <a:lnTo>
                  <a:pt x="1025" y="75"/>
                </a:lnTo>
                <a:lnTo>
                  <a:pt x="1037" y="73"/>
                </a:lnTo>
                <a:lnTo>
                  <a:pt x="1048" y="69"/>
                </a:lnTo>
                <a:lnTo>
                  <a:pt x="1060" y="67"/>
                </a:lnTo>
                <a:lnTo>
                  <a:pt x="1071" y="65"/>
                </a:lnTo>
                <a:lnTo>
                  <a:pt x="1081" y="63"/>
                </a:lnTo>
                <a:lnTo>
                  <a:pt x="1091" y="61"/>
                </a:lnTo>
                <a:lnTo>
                  <a:pt x="1098" y="60"/>
                </a:lnTo>
                <a:lnTo>
                  <a:pt x="1108" y="58"/>
                </a:lnTo>
                <a:lnTo>
                  <a:pt x="1116" y="56"/>
                </a:lnTo>
                <a:lnTo>
                  <a:pt x="1123" y="54"/>
                </a:lnTo>
                <a:lnTo>
                  <a:pt x="1131" y="52"/>
                </a:lnTo>
                <a:lnTo>
                  <a:pt x="1137" y="50"/>
                </a:lnTo>
                <a:lnTo>
                  <a:pt x="1142" y="48"/>
                </a:lnTo>
                <a:lnTo>
                  <a:pt x="1148" y="48"/>
                </a:lnTo>
                <a:lnTo>
                  <a:pt x="1152" y="46"/>
                </a:lnTo>
                <a:lnTo>
                  <a:pt x="1158" y="44"/>
                </a:lnTo>
                <a:lnTo>
                  <a:pt x="1162" y="42"/>
                </a:lnTo>
                <a:lnTo>
                  <a:pt x="1165" y="40"/>
                </a:lnTo>
                <a:lnTo>
                  <a:pt x="1167" y="40"/>
                </a:lnTo>
                <a:lnTo>
                  <a:pt x="1169" y="38"/>
                </a:lnTo>
                <a:lnTo>
                  <a:pt x="1171" y="37"/>
                </a:lnTo>
                <a:lnTo>
                  <a:pt x="1173" y="3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Freeform 78"/>
          <p:cNvSpPr/>
          <p:nvPr/>
        </p:nvSpPr>
        <p:spPr>
          <a:xfrm>
            <a:off x="6492960" y="3444840"/>
            <a:ext cx="239760" cy="663480"/>
          </a:xfrm>
          <a:custGeom>
            <a:avLst/>
            <a:gdLst/>
            <a:ahLst/>
            <a:rect l="l" t="t" r="r" b="b"/>
            <a:pathLst>
              <a:path w="301" h="836">
                <a:moveTo>
                  <a:pt x="17" y="103"/>
                </a:moveTo>
                <a:lnTo>
                  <a:pt x="13" y="94"/>
                </a:lnTo>
                <a:lnTo>
                  <a:pt x="9" y="84"/>
                </a:lnTo>
                <a:lnTo>
                  <a:pt x="6" y="76"/>
                </a:lnTo>
                <a:lnTo>
                  <a:pt x="4" y="69"/>
                </a:lnTo>
                <a:lnTo>
                  <a:pt x="2" y="61"/>
                </a:lnTo>
                <a:lnTo>
                  <a:pt x="2" y="53"/>
                </a:lnTo>
                <a:lnTo>
                  <a:pt x="0" y="46"/>
                </a:lnTo>
                <a:lnTo>
                  <a:pt x="0" y="40"/>
                </a:lnTo>
                <a:lnTo>
                  <a:pt x="2" y="34"/>
                </a:lnTo>
                <a:lnTo>
                  <a:pt x="4" y="28"/>
                </a:lnTo>
                <a:lnTo>
                  <a:pt x="6" y="23"/>
                </a:lnTo>
                <a:lnTo>
                  <a:pt x="9" y="19"/>
                </a:lnTo>
                <a:lnTo>
                  <a:pt x="13" y="13"/>
                </a:lnTo>
                <a:lnTo>
                  <a:pt x="17" y="11"/>
                </a:lnTo>
                <a:lnTo>
                  <a:pt x="23" y="7"/>
                </a:lnTo>
                <a:lnTo>
                  <a:pt x="30" y="5"/>
                </a:lnTo>
                <a:lnTo>
                  <a:pt x="34" y="2"/>
                </a:lnTo>
                <a:lnTo>
                  <a:pt x="40" y="2"/>
                </a:lnTo>
                <a:lnTo>
                  <a:pt x="48" y="0"/>
                </a:lnTo>
                <a:lnTo>
                  <a:pt x="55" y="0"/>
                </a:lnTo>
                <a:lnTo>
                  <a:pt x="63" y="0"/>
                </a:lnTo>
                <a:lnTo>
                  <a:pt x="73" y="2"/>
                </a:lnTo>
                <a:lnTo>
                  <a:pt x="82" y="3"/>
                </a:lnTo>
                <a:lnTo>
                  <a:pt x="94" y="5"/>
                </a:lnTo>
                <a:lnTo>
                  <a:pt x="103" y="9"/>
                </a:lnTo>
                <a:lnTo>
                  <a:pt x="117" y="13"/>
                </a:lnTo>
                <a:lnTo>
                  <a:pt x="128" y="17"/>
                </a:lnTo>
                <a:lnTo>
                  <a:pt x="142" y="23"/>
                </a:lnTo>
                <a:lnTo>
                  <a:pt x="157" y="28"/>
                </a:lnTo>
                <a:lnTo>
                  <a:pt x="171" y="36"/>
                </a:lnTo>
                <a:lnTo>
                  <a:pt x="186" y="44"/>
                </a:lnTo>
                <a:lnTo>
                  <a:pt x="203" y="53"/>
                </a:lnTo>
                <a:lnTo>
                  <a:pt x="207" y="82"/>
                </a:lnTo>
                <a:lnTo>
                  <a:pt x="213" y="109"/>
                </a:lnTo>
                <a:lnTo>
                  <a:pt x="219" y="136"/>
                </a:lnTo>
                <a:lnTo>
                  <a:pt x="224" y="163"/>
                </a:lnTo>
                <a:lnTo>
                  <a:pt x="228" y="190"/>
                </a:lnTo>
                <a:lnTo>
                  <a:pt x="234" y="215"/>
                </a:lnTo>
                <a:lnTo>
                  <a:pt x="240" y="240"/>
                </a:lnTo>
                <a:lnTo>
                  <a:pt x="244" y="263"/>
                </a:lnTo>
                <a:lnTo>
                  <a:pt x="247" y="286"/>
                </a:lnTo>
                <a:lnTo>
                  <a:pt x="253" y="309"/>
                </a:lnTo>
                <a:lnTo>
                  <a:pt x="257" y="330"/>
                </a:lnTo>
                <a:lnTo>
                  <a:pt x="261" y="353"/>
                </a:lnTo>
                <a:lnTo>
                  <a:pt x="265" y="372"/>
                </a:lnTo>
                <a:lnTo>
                  <a:pt x="268" y="393"/>
                </a:lnTo>
                <a:lnTo>
                  <a:pt x="270" y="412"/>
                </a:lnTo>
                <a:lnTo>
                  <a:pt x="274" y="431"/>
                </a:lnTo>
                <a:lnTo>
                  <a:pt x="278" y="451"/>
                </a:lnTo>
                <a:lnTo>
                  <a:pt x="280" y="468"/>
                </a:lnTo>
                <a:lnTo>
                  <a:pt x="284" y="485"/>
                </a:lnTo>
                <a:lnTo>
                  <a:pt x="286" y="501"/>
                </a:lnTo>
                <a:lnTo>
                  <a:pt x="288" y="518"/>
                </a:lnTo>
                <a:lnTo>
                  <a:pt x="290" y="533"/>
                </a:lnTo>
                <a:lnTo>
                  <a:pt x="293" y="547"/>
                </a:lnTo>
                <a:lnTo>
                  <a:pt x="293" y="562"/>
                </a:lnTo>
                <a:lnTo>
                  <a:pt x="295" y="575"/>
                </a:lnTo>
                <a:lnTo>
                  <a:pt x="297" y="587"/>
                </a:lnTo>
                <a:lnTo>
                  <a:pt x="299" y="600"/>
                </a:lnTo>
                <a:lnTo>
                  <a:pt x="299" y="612"/>
                </a:lnTo>
                <a:lnTo>
                  <a:pt x="301" y="623"/>
                </a:lnTo>
                <a:lnTo>
                  <a:pt x="301" y="633"/>
                </a:lnTo>
                <a:lnTo>
                  <a:pt x="301" y="645"/>
                </a:lnTo>
                <a:lnTo>
                  <a:pt x="301" y="654"/>
                </a:lnTo>
                <a:lnTo>
                  <a:pt x="301" y="671"/>
                </a:lnTo>
                <a:lnTo>
                  <a:pt x="301" y="687"/>
                </a:lnTo>
                <a:lnTo>
                  <a:pt x="301" y="704"/>
                </a:lnTo>
                <a:lnTo>
                  <a:pt x="301" y="717"/>
                </a:lnTo>
                <a:lnTo>
                  <a:pt x="301" y="731"/>
                </a:lnTo>
                <a:lnTo>
                  <a:pt x="301" y="742"/>
                </a:lnTo>
                <a:lnTo>
                  <a:pt x="299" y="754"/>
                </a:lnTo>
                <a:lnTo>
                  <a:pt x="299" y="765"/>
                </a:lnTo>
                <a:lnTo>
                  <a:pt x="299" y="773"/>
                </a:lnTo>
                <a:lnTo>
                  <a:pt x="297" y="783"/>
                </a:lnTo>
                <a:lnTo>
                  <a:pt x="297" y="790"/>
                </a:lnTo>
                <a:lnTo>
                  <a:pt x="295" y="796"/>
                </a:lnTo>
                <a:lnTo>
                  <a:pt x="295" y="802"/>
                </a:lnTo>
                <a:lnTo>
                  <a:pt x="293" y="806"/>
                </a:lnTo>
                <a:lnTo>
                  <a:pt x="292" y="810"/>
                </a:lnTo>
                <a:lnTo>
                  <a:pt x="290" y="812"/>
                </a:lnTo>
                <a:lnTo>
                  <a:pt x="280" y="821"/>
                </a:lnTo>
                <a:lnTo>
                  <a:pt x="274" y="825"/>
                </a:lnTo>
                <a:lnTo>
                  <a:pt x="270" y="829"/>
                </a:lnTo>
                <a:lnTo>
                  <a:pt x="267" y="833"/>
                </a:lnTo>
                <a:lnTo>
                  <a:pt x="261" y="835"/>
                </a:lnTo>
                <a:lnTo>
                  <a:pt x="257" y="836"/>
                </a:lnTo>
                <a:lnTo>
                  <a:pt x="251" y="836"/>
                </a:lnTo>
                <a:lnTo>
                  <a:pt x="249" y="836"/>
                </a:lnTo>
                <a:lnTo>
                  <a:pt x="247" y="835"/>
                </a:lnTo>
                <a:lnTo>
                  <a:pt x="245" y="833"/>
                </a:lnTo>
                <a:lnTo>
                  <a:pt x="242" y="827"/>
                </a:lnTo>
                <a:lnTo>
                  <a:pt x="240" y="823"/>
                </a:lnTo>
                <a:lnTo>
                  <a:pt x="238" y="815"/>
                </a:lnTo>
                <a:lnTo>
                  <a:pt x="234" y="810"/>
                </a:lnTo>
                <a:lnTo>
                  <a:pt x="232" y="800"/>
                </a:lnTo>
                <a:lnTo>
                  <a:pt x="228" y="790"/>
                </a:lnTo>
                <a:lnTo>
                  <a:pt x="226" y="779"/>
                </a:lnTo>
                <a:lnTo>
                  <a:pt x="222" y="767"/>
                </a:lnTo>
                <a:lnTo>
                  <a:pt x="219" y="754"/>
                </a:lnTo>
                <a:lnTo>
                  <a:pt x="215" y="741"/>
                </a:lnTo>
                <a:lnTo>
                  <a:pt x="211" y="725"/>
                </a:lnTo>
                <a:lnTo>
                  <a:pt x="207" y="708"/>
                </a:lnTo>
                <a:lnTo>
                  <a:pt x="203" y="691"/>
                </a:lnTo>
                <a:lnTo>
                  <a:pt x="194" y="652"/>
                </a:lnTo>
                <a:lnTo>
                  <a:pt x="184" y="614"/>
                </a:lnTo>
                <a:lnTo>
                  <a:pt x="174" y="574"/>
                </a:lnTo>
                <a:lnTo>
                  <a:pt x="163" y="531"/>
                </a:lnTo>
                <a:lnTo>
                  <a:pt x="153" y="489"/>
                </a:lnTo>
                <a:lnTo>
                  <a:pt x="148" y="466"/>
                </a:lnTo>
                <a:lnTo>
                  <a:pt x="142" y="443"/>
                </a:lnTo>
                <a:lnTo>
                  <a:pt x="136" y="420"/>
                </a:lnTo>
                <a:lnTo>
                  <a:pt x="128" y="397"/>
                </a:lnTo>
                <a:lnTo>
                  <a:pt x="123" y="372"/>
                </a:lnTo>
                <a:lnTo>
                  <a:pt x="117" y="347"/>
                </a:lnTo>
                <a:lnTo>
                  <a:pt x="109" y="324"/>
                </a:lnTo>
                <a:lnTo>
                  <a:pt x="103" y="303"/>
                </a:lnTo>
                <a:lnTo>
                  <a:pt x="96" y="282"/>
                </a:lnTo>
                <a:lnTo>
                  <a:pt x="90" y="263"/>
                </a:lnTo>
                <a:lnTo>
                  <a:pt x="84" y="243"/>
                </a:lnTo>
                <a:lnTo>
                  <a:pt x="78" y="226"/>
                </a:lnTo>
                <a:lnTo>
                  <a:pt x="73" y="209"/>
                </a:lnTo>
                <a:lnTo>
                  <a:pt x="67" y="192"/>
                </a:lnTo>
                <a:lnTo>
                  <a:pt x="61" y="178"/>
                </a:lnTo>
                <a:lnTo>
                  <a:pt x="55" y="163"/>
                </a:lnTo>
                <a:lnTo>
                  <a:pt x="50" y="151"/>
                </a:lnTo>
                <a:lnTo>
                  <a:pt x="44" y="140"/>
                </a:lnTo>
                <a:lnTo>
                  <a:pt x="36" y="128"/>
                </a:lnTo>
                <a:lnTo>
                  <a:pt x="30" y="119"/>
                </a:lnTo>
                <a:lnTo>
                  <a:pt x="25" y="109"/>
                </a:lnTo>
                <a:lnTo>
                  <a:pt x="17" y="10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Freeform 79"/>
          <p:cNvSpPr/>
          <p:nvPr/>
        </p:nvSpPr>
        <p:spPr>
          <a:xfrm>
            <a:off x="5889600" y="3040200"/>
            <a:ext cx="579600" cy="1758960"/>
          </a:xfrm>
          <a:custGeom>
            <a:avLst/>
            <a:gdLst/>
            <a:ahLst/>
            <a:rect l="l" t="t" r="r" b="b"/>
            <a:pathLst>
              <a:path w="729" h="2215">
                <a:moveTo>
                  <a:pt x="272" y="1971"/>
                </a:moveTo>
                <a:lnTo>
                  <a:pt x="255" y="1960"/>
                </a:lnTo>
                <a:lnTo>
                  <a:pt x="242" y="1948"/>
                </a:lnTo>
                <a:lnTo>
                  <a:pt x="226" y="1939"/>
                </a:lnTo>
                <a:lnTo>
                  <a:pt x="215" y="1929"/>
                </a:lnTo>
                <a:lnTo>
                  <a:pt x="201" y="1919"/>
                </a:lnTo>
                <a:lnTo>
                  <a:pt x="190" y="1910"/>
                </a:lnTo>
                <a:lnTo>
                  <a:pt x="180" y="1902"/>
                </a:lnTo>
                <a:lnTo>
                  <a:pt x="171" y="1894"/>
                </a:lnTo>
                <a:lnTo>
                  <a:pt x="163" y="1887"/>
                </a:lnTo>
                <a:lnTo>
                  <a:pt x="155" y="1881"/>
                </a:lnTo>
                <a:lnTo>
                  <a:pt x="149" y="1873"/>
                </a:lnTo>
                <a:lnTo>
                  <a:pt x="146" y="1868"/>
                </a:lnTo>
                <a:lnTo>
                  <a:pt x="140" y="1862"/>
                </a:lnTo>
                <a:lnTo>
                  <a:pt x="138" y="1858"/>
                </a:lnTo>
                <a:lnTo>
                  <a:pt x="136" y="1852"/>
                </a:lnTo>
                <a:lnTo>
                  <a:pt x="136" y="1848"/>
                </a:lnTo>
                <a:lnTo>
                  <a:pt x="136" y="1845"/>
                </a:lnTo>
                <a:lnTo>
                  <a:pt x="138" y="1843"/>
                </a:lnTo>
                <a:lnTo>
                  <a:pt x="140" y="1843"/>
                </a:lnTo>
                <a:lnTo>
                  <a:pt x="146" y="1841"/>
                </a:lnTo>
                <a:lnTo>
                  <a:pt x="149" y="1839"/>
                </a:lnTo>
                <a:lnTo>
                  <a:pt x="157" y="1839"/>
                </a:lnTo>
                <a:lnTo>
                  <a:pt x="163" y="1839"/>
                </a:lnTo>
                <a:lnTo>
                  <a:pt x="172" y="1839"/>
                </a:lnTo>
                <a:lnTo>
                  <a:pt x="182" y="1839"/>
                </a:lnTo>
                <a:lnTo>
                  <a:pt x="194" y="1839"/>
                </a:lnTo>
                <a:lnTo>
                  <a:pt x="205" y="1839"/>
                </a:lnTo>
                <a:lnTo>
                  <a:pt x="218" y="1841"/>
                </a:lnTo>
                <a:lnTo>
                  <a:pt x="234" y="1843"/>
                </a:lnTo>
                <a:lnTo>
                  <a:pt x="249" y="1843"/>
                </a:lnTo>
                <a:lnTo>
                  <a:pt x="265" y="1845"/>
                </a:lnTo>
                <a:lnTo>
                  <a:pt x="284" y="1848"/>
                </a:lnTo>
                <a:lnTo>
                  <a:pt x="299" y="1852"/>
                </a:lnTo>
                <a:lnTo>
                  <a:pt x="314" y="1856"/>
                </a:lnTo>
                <a:lnTo>
                  <a:pt x="330" y="1858"/>
                </a:lnTo>
                <a:lnTo>
                  <a:pt x="343" y="1862"/>
                </a:lnTo>
                <a:lnTo>
                  <a:pt x="357" y="1864"/>
                </a:lnTo>
                <a:lnTo>
                  <a:pt x="370" y="1866"/>
                </a:lnTo>
                <a:lnTo>
                  <a:pt x="382" y="1866"/>
                </a:lnTo>
                <a:lnTo>
                  <a:pt x="393" y="1866"/>
                </a:lnTo>
                <a:lnTo>
                  <a:pt x="405" y="1866"/>
                </a:lnTo>
                <a:lnTo>
                  <a:pt x="414" y="1866"/>
                </a:lnTo>
                <a:lnTo>
                  <a:pt x="424" y="1864"/>
                </a:lnTo>
                <a:lnTo>
                  <a:pt x="432" y="1862"/>
                </a:lnTo>
                <a:lnTo>
                  <a:pt x="439" y="1858"/>
                </a:lnTo>
                <a:lnTo>
                  <a:pt x="445" y="1856"/>
                </a:lnTo>
                <a:lnTo>
                  <a:pt x="451" y="1852"/>
                </a:lnTo>
                <a:lnTo>
                  <a:pt x="456" y="1848"/>
                </a:lnTo>
                <a:lnTo>
                  <a:pt x="458" y="1846"/>
                </a:lnTo>
                <a:lnTo>
                  <a:pt x="460" y="1845"/>
                </a:lnTo>
                <a:lnTo>
                  <a:pt x="462" y="1841"/>
                </a:lnTo>
                <a:lnTo>
                  <a:pt x="466" y="1837"/>
                </a:lnTo>
                <a:lnTo>
                  <a:pt x="468" y="1833"/>
                </a:lnTo>
                <a:lnTo>
                  <a:pt x="470" y="1827"/>
                </a:lnTo>
                <a:lnTo>
                  <a:pt x="472" y="1821"/>
                </a:lnTo>
                <a:lnTo>
                  <a:pt x="474" y="1816"/>
                </a:lnTo>
                <a:lnTo>
                  <a:pt x="474" y="1808"/>
                </a:lnTo>
                <a:lnTo>
                  <a:pt x="476" y="1800"/>
                </a:lnTo>
                <a:lnTo>
                  <a:pt x="478" y="1791"/>
                </a:lnTo>
                <a:lnTo>
                  <a:pt x="480" y="1783"/>
                </a:lnTo>
                <a:lnTo>
                  <a:pt x="481" y="1772"/>
                </a:lnTo>
                <a:lnTo>
                  <a:pt x="483" y="1762"/>
                </a:lnTo>
                <a:lnTo>
                  <a:pt x="483" y="1750"/>
                </a:lnTo>
                <a:lnTo>
                  <a:pt x="485" y="1737"/>
                </a:lnTo>
                <a:lnTo>
                  <a:pt x="487" y="1724"/>
                </a:lnTo>
                <a:lnTo>
                  <a:pt x="489" y="1710"/>
                </a:lnTo>
                <a:lnTo>
                  <a:pt x="489" y="1697"/>
                </a:lnTo>
                <a:lnTo>
                  <a:pt x="491" y="1681"/>
                </a:lnTo>
                <a:lnTo>
                  <a:pt x="493" y="1666"/>
                </a:lnTo>
                <a:lnTo>
                  <a:pt x="493" y="1649"/>
                </a:lnTo>
                <a:lnTo>
                  <a:pt x="495" y="1631"/>
                </a:lnTo>
                <a:lnTo>
                  <a:pt x="497" y="1614"/>
                </a:lnTo>
                <a:lnTo>
                  <a:pt x="497" y="1595"/>
                </a:lnTo>
                <a:lnTo>
                  <a:pt x="499" y="1576"/>
                </a:lnTo>
                <a:lnTo>
                  <a:pt x="501" y="1555"/>
                </a:lnTo>
                <a:lnTo>
                  <a:pt x="501" y="1534"/>
                </a:lnTo>
                <a:lnTo>
                  <a:pt x="503" y="1512"/>
                </a:lnTo>
                <a:lnTo>
                  <a:pt x="503" y="1491"/>
                </a:lnTo>
                <a:lnTo>
                  <a:pt x="504" y="1468"/>
                </a:lnTo>
                <a:lnTo>
                  <a:pt x="506" y="1443"/>
                </a:lnTo>
                <a:lnTo>
                  <a:pt x="510" y="1353"/>
                </a:lnTo>
                <a:lnTo>
                  <a:pt x="512" y="1263"/>
                </a:lnTo>
                <a:lnTo>
                  <a:pt x="514" y="1175"/>
                </a:lnTo>
                <a:lnTo>
                  <a:pt x="516" y="1086"/>
                </a:lnTo>
                <a:lnTo>
                  <a:pt x="518" y="1002"/>
                </a:lnTo>
                <a:lnTo>
                  <a:pt x="518" y="960"/>
                </a:lnTo>
                <a:lnTo>
                  <a:pt x="518" y="919"/>
                </a:lnTo>
                <a:lnTo>
                  <a:pt x="518" y="877"/>
                </a:lnTo>
                <a:lnTo>
                  <a:pt x="518" y="837"/>
                </a:lnTo>
                <a:lnTo>
                  <a:pt x="518" y="798"/>
                </a:lnTo>
                <a:lnTo>
                  <a:pt x="518" y="758"/>
                </a:lnTo>
                <a:lnTo>
                  <a:pt x="518" y="720"/>
                </a:lnTo>
                <a:lnTo>
                  <a:pt x="518" y="683"/>
                </a:lnTo>
                <a:lnTo>
                  <a:pt x="518" y="649"/>
                </a:lnTo>
                <a:lnTo>
                  <a:pt x="518" y="616"/>
                </a:lnTo>
                <a:lnTo>
                  <a:pt x="518" y="583"/>
                </a:lnTo>
                <a:lnTo>
                  <a:pt x="518" y="555"/>
                </a:lnTo>
                <a:lnTo>
                  <a:pt x="518" y="526"/>
                </a:lnTo>
                <a:lnTo>
                  <a:pt x="518" y="497"/>
                </a:lnTo>
                <a:lnTo>
                  <a:pt x="518" y="472"/>
                </a:lnTo>
                <a:lnTo>
                  <a:pt x="518" y="447"/>
                </a:lnTo>
                <a:lnTo>
                  <a:pt x="518" y="426"/>
                </a:lnTo>
                <a:lnTo>
                  <a:pt x="518" y="403"/>
                </a:lnTo>
                <a:lnTo>
                  <a:pt x="518" y="384"/>
                </a:lnTo>
                <a:lnTo>
                  <a:pt x="518" y="365"/>
                </a:lnTo>
                <a:lnTo>
                  <a:pt x="518" y="345"/>
                </a:lnTo>
                <a:lnTo>
                  <a:pt x="518" y="330"/>
                </a:lnTo>
                <a:lnTo>
                  <a:pt x="516" y="317"/>
                </a:lnTo>
                <a:lnTo>
                  <a:pt x="514" y="303"/>
                </a:lnTo>
                <a:lnTo>
                  <a:pt x="510" y="292"/>
                </a:lnTo>
                <a:lnTo>
                  <a:pt x="508" y="278"/>
                </a:lnTo>
                <a:lnTo>
                  <a:pt x="506" y="269"/>
                </a:lnTo>
                <a:lnTo>
                  <a:pt x="503" y="257"/>
                </a:lnTo>
                <a:lnTo>
                  <a:pt x="501" y="248"/>
                </a:lnTo>
                <a:lnTo>
                  <a:pt x="499" y="238"/>
                </a:lnTo>
                <a:lnTo>
                  <a:pt x="495" y="228"/>
                </a:lnTo>
                <a:lnTo>
                  <a:pt x="491" y="221"/>
                </a:lnTo>
                <a:lnTo>
                  <a:pt x="489" y="213"/>
                </a:lnTo>
                <a:lnTo>
                  <a:pt x="485" y="205"/>
                </a:lnTo>
                <a:lnTo>
                  <a:pt x="481" y="200"/>
                </a:lnTo>
                <a:lnTo>
                  <a:pt x="478" y="194"/>
                </a:lnTo>
                <a:lnTo>
                  <a:pt x="474" y="188"/>
                </a:lnTo>
                <a:lnTo>
                  <a:pt x="468" y="182"/>
                </a:lnTo>
                <a:lnTo>
                  <a:pt x="464" y="180"/>
                </a:lnTo>
                <a:lnTo>
                  <a:pt x="460" y="178"/>
                </a:lnTo>
                <a:lnTo>
                  <a:pt x="455" y="177"/>
                </a:lnTo>
                <a:lnTo>
                  <a:pt x="449" y="175"/>
                </a:lnTo>
                <a:lnTo>
                  <a:pt x="443" y="175"/>
                </a:lnTo>
                <a:lnTo>
                  <a:pt x="435" y="173"/>
                </a:lnTo>
                <a:lnTo>
                  <a:pt x="428" y="171"/>
                </a:lnTo>
                <a:lnTo>
                  <a:pt x="420" y="171"/>
                </a:lnTo>
                <a:lnTo>
                  <a:pt x="410" y="171"/>
                </a:lnTo>
                <a:lnTo>
                  <a:pt x="401" y="171"/>
                </a:lnTo>
                <a:lnTo>
                  <a:pt x="389" y="171"/>
                </a:lnTo>
                <a:lnTo>
                  <a:pt x="380" y="171"/>
                </a:lnTo>
                <a:lnTo>
                  <a:pt x="366" y="171"/>
                </a:lnTo>
                <a:lnTo>
                  <a:pt x="355" y="171"/>
                </a:lnTo>
                <a:lnTo>
                  <a:pt x="341" y="173"/>
                </a:lnTo>
                <a:lnTo>
                  <a:pt x="326" y="173"/>
                </a:lnTo>
                <a:lnTo>
                  <a:pt x="313" y="175"/>
                </a:lnTo>
                <a:lnTo>
                  <a:pt x="297" y="177"/>
                </a:lnTo>
                <a:lnTo>
                  <a:pt x="280" y="177"/>
                </a:lnTo>
                <a:lnTo>
                  <a:pt x="263" y="178"/>
                </a:lnTo>
                <a:lnTo>
                  <a:pt x="245" y="182"/>
                </a:lnTo>
                <a:lnTo>
                  <a:pt x="226" y="184"/>
                </a:lnTo>
                <a:lnTo>
                  <a:pt x="207" y="186"/>
                </a:lnTo>
                <a:lnTo>
                  <a:pt x="188" y="190"/>
                </a:lnTo>
                <a:lnTo>
                  <a:pt x="167" y="192"/>
                </a:lnTo>
                <a:lnTo>
                  <a:pt x="146" y="196"/>
                </a:lnTo>
                <a:lnTo>
                  <a:pt x="123" y="200"/>
                </a:lnTo>
                <a:lnTo>
                  <a:pt x="99" y="201"/>
                </a:lnTo>
                <a:lnTo>
                  <a:pt x="76" y="205"/>
                </a:lnTo>
                <a:lnTo>
                  <a:pt x="51" y="211"/>
                </a:lnTo>
                <a:lnTo>
                  <a:pt x="27" y="215"/>
                </a:lnTo>
                <a:lnTo>
                  <a:pt x="0" y="219"/>
                </a:lnTo>
                <a:lnTo>
                  <a:pt x="0" y="98"/>
                </a:lnTo>
                <a:lnTo>
                  <a:pt x="25" y="96"/>
                </a:lnTo>
                <a:lnTo>
                  <a:pt x="50" y="96"/>
                </a:lnTo>
                <a:lnTo>
                  <a:pt x="73" y="96"/>
                </a:lnTo>
                <a:lnTo>
                  <a:pt x="94" y="94"/>
                </a:lnTo>
                <a:lnTo>
                  <a:pt x="117" y="94"/>
                </a:lnTo>
                <a:lnTo>
                  <a:pt x="136" y="92"/>
                </a:lnTo>
                <a:lnTo>
                  <a:pt x="157" y="90"/>
                </a:lnTo>
                <a:lnTo>
                  <a:pt x="176" y="90"/>
                </a:lnTo>
                <a:lnTo>
                  <a:pt x="194" y="88"/>
                </a:lnTo>
                <a:lnTo>
                  <a:pt x="211" y="86"/>
                </a:lnTo>
                <a:lnTo>
                  <a:pt x="226" y="84"/>
                </a:lnTo>
                <a:lnTo>
                  <a:pt x="243" y="82"/>
                </a:lnTo>
                <a:lnTo>
                  <a:pt x="257" y="79"/>
                </a:lnTo>
                <a:lnTo>
                  <a:pt x="270" y="77"/>
                </a:lnTo>
                <a:lnTo>
                  <a:pt x="284" y="75"/>
                </a:lnTo>
                <a:lnTo>
                  <a:pt x="295" y="73"/>
                </a:lnTo>
                <a:lnTo>
                  <a:pt x="318" y="67"/>
                </a:lnTo>
                <a:lnTo>
                  <a:pt x="339" y="61"/>
                </a:lnTo>
                <a:lnTo>
                  <a:pt x="349" y="58"/>
                </a:lnTo>
                <a:lnTo>
                  <a:pt x="359" y="56"/>
                </a:lnTo>
                <a:lnTo>
                  <a:pt x="368" y="52"/>
                </a:lnTo>
                <a:lnTo>
                  <a:pt x="376" y="48"/>
                </a:lnTo>
                <a:lnTo>
                  <a:pt x="384" y="44"/>
                </a:lnTo>
                <a:lnTo>
                  <a:pt x="391" y="40"/>
                </a:lnTo>
                <a:lnTo>
                  <a:pt x="397" y="38"/>
                </a:lnTo>
                <a:lnTo>
                  <a:pt x="403" y="35"/>
                </a:lnTo>
                <a:lnTo>
                  <a:pt x="409" y="31"/>
                </a:lnTo>
                <a:lnTo>
                  <a:pt x="412" y="29"/>
                </a:lnTo>
                <a:lnTo>
                  <a:pt x="416" y="27"/>
                </a:lnTo>
                <a:lnTo>
                  <a:pt x="420" y="23"/>
                </a:lnTo>
                <a:lnTo>
                  <a:pt x="424" y="19"/>
                </a:lnTo>
                <a:lnTo>
                  <a:pt x="430" y="15"/>
                </a:lnTo>
                <a:lnTo>
                  <a:pt x="437" y="10"/>
                </a:lnTo>
                <a:lnTo>
                  <a:pt x="443" y="6"/>
                </a:lnTo>
                <a:lnTo>
                  <a:pt x="451" y="4"/>
                </a:lnTo>
                <a:lnTo>
                  <a:pt x="458" y="2"/>
                </a:lnTo>
                <a:lnTo>
                  <a:pt x="464" y="0"/>
                </a:lnTo>
                <a:lnTo>
                  <a:pt x="468" y="0"/>
                </a:lnTo>
                <a:lnTo>
                  <a:pt x="472" y="0"/>
                </a:lnTo>
                <a:lnTo>
                  <a:pt x="476" y="0"/>
                </a:lnTo>
                <a:lnTo>
                  <a:pt x="480" y="2"/>
                </a:lnTo>
                <a:lnTo>
                  <a:pt x="485" y="4"/>
                </a:lnTo>
                <a:lnTo>
                  <a:pt x="491" y="6"/>
                </a:lnTo>
                <a:lnTo>
                  <a:pt x="499" y="10"/>
                </a:lnTo>
                <a:lnTo>
                  <a:pt x="506" y="13"/>
                </a:lnTo>
                <a:lnTo>
                  <a:pt x="516" y="17"/>
                </a:lnTo>
                <a:lnTo>
                  <a:pt x="526" y="23"/>
                </a:lnTo>
                <a:lnTo>
                  <a:pt x="535" y="27"/>
                </a:lnTo>
                <a:lnTo>
                  <a:pt x="547" y="33"/>
                </a:lnTo>
                <a:lnTo>
                  <a:pt x="558" y="40"/>
                </a:lnTo>
                <a:lnTo>
                  <a:pt x="572" y="48"/>
                </a:lnTo>
                <a:lnTo>
                  <a:pt x="587" y="56"/>
                </a:lnTo>
                <a:lnTo>
                  <a:pt x="600" y="63"/>
                </a:lnTo>
                <a:lnTo>
                  <a:pt x="618" y="73"/>
                </a:lnTo>
                <a:lnTo>
                  <a:pt x="629" y="84"/>
                </a:lnTo>
                <a:lnTo>
                  <a:pt x="643" y="94"/>
                </a:lnTo>
                <a:lnTo>
                  <a:pt x="654" y="104"/>
                </a:lnTo>
                <a:lnTo>
                  <a:pt x="666" y="113"/>
                </a:lnTo>
                <a:lnTo>
                  <a:pt x="675" y="123"/>
                </a:lnTo>
                <a:lnTo>
                  <a:pt x="685" y="130"/>
                </a:lnTo>
                <a:lnTo>
                  <a:pt x="693" y="138"/>
                </a:lnTo>
                <a:lnTo>
                  <a:pt x="700" y="146"/>
                </a:lnTo>
                <a:lnTo>
                  <a:pt x="706" y="154"/>
                </a:lnTo>
                <a:lnTo>
                  <a:pt x="712" y="159"/>
                </a:lnTo>
                <a:lnTo>
                  <a:pt x="718" y="165"/>
                </a:lnTo>
                <a:lnTo>
                  <a:pt x="721" y="169"/>
                </a:lnTo>
                <a:lnTo>
                  <a:pt x="723" y="173"/>
                </a:lnTo>
                <a:lnTo>
                  <a:pt x="727" y="177"/>
                </a:lnTo>
                <a:lnTo>
                  <a:pt x="727" y="180"/>
                </a:lnTo>
                <a:lnTo>
                  <a:pt x="729" y="182"/>
                </a:lnTo>
                <a:lnTo>
                  <a:pt x="727" y="192"/>
                </a:lnTo>
                <a:lnTo>
                  <a:pt x="725" y="201"/>
                </a:lnTo>
                <a:lnTo>
                  <a:pt x="723" y="211"/>
                </a:lnTo>
                <a:lnTo>
                  <a:pt x="719" y="219"/>
                </a:lnTo>
                <a:lnTo>
                  <a:pt x="714" y="228"/>
                </a:lnTo>
                <a:lnTo>
                  <a:pt x="706" y="238"/>
                </a:lnTo>
                <a:lnTo>
                  <a:pt x="700" y="248"/>
                </a:lnTo>
                <a:lnTo>
                  <a:pt x="691" y="257"/>
                </a:lnTo>
                <a:lnTo>
                  <a:pt x="689" y="259"/>
                </a:lnTo>
                <a:lnTo>
                  <a:pt x="687" y="265"/>
                </a:lnTo>
                <a:lnTo>
                  <a:pt x="685" y="271"/>
                </a:lnTo>
                <a:lnTo>
                  <a:pt x="683" y="278"/>
                </a:lnTo>
                <a:lnTo>
                  <a:pt x="681" y="288"/>
                </a:lnTo>
                <a:lnTo>
                  <a:pt x="679" y="297"/>
                </a:lnTo>
                <a:lnTo>
                  <a:pt x="677" y="311"/>
                </a:lnTo>
                <a:lnTo>
                  <a:pt x="675" y="324"/>
                </a:lnTo>
                <a:lnTo>
                  <a:pt x="673" y="342"/>
                </a:lnTo>
                <a:lnTo>
                  <a:pt x="671" y="359"/>
                </a:lnTo>
                <a:lnTo>
                  <a:pt x="670" y="376"/>
                </a:lnTo>
                <a:lnTo>
                  <a:pt x="668" y="397"/>
                </a:lnTo>
                <a:lnTo>
                  <a:pt x="668" y="420"/>
                </a:lnTo>
                <a:lnTo>
                  <a:pt x="666" y="443"/>
                </a:lnTo>
                <a:lnTo>
                  <a:pt x="664" y="468"/>
                </a:lnTo>
                <a:lnTo>
                  <a:pt x="664" y="495"/>
                </a:lnTo>
                <a:lnTo>
                  <a:pt x="662" y="524"/>
                </a:lnTo>
                <a:lnTo>
                  <a:pt x="660" y="553"/>
                </a:lnTo>
                <a:lnTo>
                  <a:pt x="660" y="585"/>
                </a:lnTo>
                <a:lnTo>
                  <a:pt x="658" y="618"/>
                </a:lnTo>
                <a:lnTo>
                  <a:pt x="658" y="653"/>
                </a:lnTo>
                <a:lnTo>
                  <a:pt x="658" y="689"/>
                </a:lnTo>
                <a:lnTo>
                  <a:pt x="656" y="726"/>
                </a:lnTo>
                <a:lnTo>
                  <a:pt x="656" y="766"/>
                </a:lnTo>
                <a:lnTo>
                  <a:pt x="656" y="806"/>
                </a:lnTo>
                <a:lnTo>
                  <a:pt x="654" y="848"/>
                </a:lnTo>
                <a:lnTo>
                  <a:pt x="654" y="892"/>
                </a:lnTo>
                <a:lnTo>
                  <a:pt x="654" y="939"/>
                </a:lnTo>
                <a:lnTo>
                  <a:pt x="654" y="987"/>
                </a:lnTo>
                <a:lnTo>
                  <a:pt x="654" y="1035"/>
                </a:lnTo>
                <a:lnTo>
                  <a:pt x="654" y="1086"/>
                </a:lnTo>
                <a:lnTo>
                  <a:pt x="654" y="1138"/>
                </a:lnTo>
                <a:lnTo>
                  <a:pt x="654" y="1190"/>
                </a:lnTo>
                <a:lnTo>
                  <a:pt x="654" y="1242"/>
                </a:lnTo>
                <a:lnTo>
                  <a:pt x="652" y="1294"/>
                </a:lnTo>
                <a:lnTo>
                  <a:pt x="652" y="1342"/>
                </a:lnTo>
                <a:lnTo>
                  <a:pt x="652" y="1388"/>
                </a:lnTo>
                <a:lnTo>
                  <a:pt x="650" y="1434"/>
                </a:lnTo>
                <a:lnTo>
                  <a:pt x="650" y="1478"/>
                </a:lnTo>
                <a:lnTo>
                  <a:pt x="648" y="1522"/>
                </a:lnTo>
                <a:lnTo>
                  <a:pt x="648" y="1562"/>
                </a:lnTo>
                <a:lnTo>
                  <a:pt x="647" y="1603"/>
                </a:lnTo>
                <a:lnTo>
                  <a:pt x="645" y="1641"/>
                </a:lnTo>
                <a:lnTo>
                  <a:pt x="645" y="1678"/>
                </a:lnTo>
                <a:lnTo>
                  <a:pt x="643" y="1712"/>
                </a:lnTo>
                <a:lnTo>
                  <a:pt x="641" y="1747"/>
                </a:lnTo>
                <a:lnTo>
                  <a:pt x="639" y="1779"/>
                </a:lnTo>
                <a:lnTo>
                  <a:pt x="637" y="1810"/>
                </a:lnTo>
                <a:lnTo>
                  <a:pt x="635" y="1839"/>
                </a:lnTo>
                <a:lnTo>
                  <a:pt x="633" y="1868"/>
                </a:lnTo>
                <a:lnTo>
                  <a:pt x="629" y="1893"/>
                </a:lnTo>
                <a:lnTo>
                  <a:pt x="627" y="1917"/>
                </a:lnTo>
                <a:lnTo>
                  <a:pt x="625" y="1942"/>
                </a:lnTo>
                <a:lnTo>
                  <a:pt x="623" y="1964"/>
                </a:lnTo>
                <a:lnTo>
                  <a:pt x="620" y="1985"/>
                </a:lnTo>
                <a:lnTo>
                  <a:pt x="618" y="2004"/>
                </a:lnTo>
                <a:lnTo>
                  <a:pt x="614" y="2021"/>
                </a:lnTo>
                <a:lnTo>
                  <a:pt x="612" y="2038"/>
                </a:lnTo>
                <a:lnTo>
                  <a:pt x="608" y="2052"/>
                </a:lnTo>
                <a:lnTo>
                  <a:pt x="606" y="2065"/>
                </a:lnTo>
                <a:lnTo>
                  <a:pt x="602" y="2077"/>
                </a:lnTo>
                <a:lnTo>
                  <a:pt x="599" y="2088"/>
                </a:lnTo>
                <a:lnTo>
                  <a:pt x="597" y="2098"/>
                </a:lnTo>
                <a:lnTo>
                  <a:pt x="593" y="2106"/>
                </a:lnTo>
                <a:lnTo>
                  <a:pt x="585" y="2119"/>
                </a:lnTo>
                <a:lnTo>
                  <a:pt x="579" y="2131"/>
                </a:lnTo>
                <a:lnTo>
                  <a:pt x="572" y="2142"/>
                </a:lnTo>
                <a:lnTo>
                  <a:pt x="566" y="2154"/>
                </a:lnTo>
                <a:lnTo>
                  <a:pt x="558" y="2163"/>
                </a:lnTo>
                <a:lnTo>
                  <a:pt x="551" y="2173"/>
                </a:lnTo>
                <a:lnTo>
                  <a:pt x="545" y="2180"/>
                </a:lnTo>
                <a:lnTo>
                  <a:pt x="539" y="2188"/>
                </a:lnTo>
                <a:lnTo>
                  <a:pt x="531" y="2194"/>
                </a:lnTo>
                <a:lnTo>
                  <a:pt x="526" y="2200"/>
                </a:lnTo>
                <a:lnTo>
                  <a:pt x="520" y="2203"/>
                </a:lnTo>
                <a:lnTo>
                  <a:pt x="514" y="2207"/>
                </a:lnTo>
                <a:lnTo>
                  <a:pt x="508" y="2211"/>
                </a:lnTo>
                <a:lnTo>
                  <a:pt x="503" y="2213"/>
                </a:lnTo>
                <a:lnTo>
                  <a:pt x="499" y="2215"/>
                </a:lnTo>
                <a:lnTo>
                  <a:pt x="493" y="2215"/>
                </a:lnTo>
                <a:lnTo>
                  <a:pt x="487" y="2215"/>
                </a:lnTo>
                <a:lnTo>
                  <a:pt x="481" y="2213"/>
                </a:lnTo>
                <a:lnTo>
                  <a:pt x="476" y="2213"/>
                </a:lnTo>
                <a:lnTo>
                  <a:pt x="470" y="2211"/>
                </a:lnTo>
                <a:lnTo>
                  <a:pt x="466" y="2207"/>
                </a:lnTo>
                <a:lnTo>
                  <a:pt x="460" y="2203"/>
                </a:lnTo>
                <a:lnTo>
                  <a:pt x="456" y="2200"/>
                </a:lnTo>
                <a:lnTo>
                  <a:pt x="453" y="2196"/>
                </a:lnTo>
                <a:lnTo>
                  <a:pt x="451" y="2190"/>
                </a:lnTo>
                <a:lnTo>
                  <a:pt x="447" y="2182"/>
                </a:lnTo>
                <a:lnTo>
                  <a:pt x="443" y="2177"/>
                </a:lnTo>
                <a:lnTo>
                  <a:pt x="441" y="2169"/>
                </a:lnTo>
                <a:lnTo>
                  <a:pt x="439" y="2159"/>
                </a:lnTo>
                <a:lnTo>
                  <a:pt x="435" y="2150"/>
                </a:lnTo>
                <a:lnTo>
                  <a:pt x="433" y="2140"/>
                </a:lnTo>
                <a:lnTo>
                  <a:pt x="432" y="2129"/>
                </a:lnTo>
                <a:lnTo>
                  <a:pt x="430" y="2117"/>
                </a:lnTo>
                <a:lnTo>
                  <a:pt x="426" y="2107"/>
                </a:lnTo>
                <a:lnTo>
                  <a:pt x="420" y="2096"/>
                </a:lnTo>
                <a:lnTo>
                  <a:pt x="416" y="2086"/>
                </a:lnTo>
                <a:lnTo>
                  <a:pt x="409" y="2075"/>
                </a:lnTo>
                <a:lnTo>
                  <a:pt x="401" y="2065"/>
                </a:lnTo>
                <a:lnTo>
                  <a:pt x="393" y="2056"/>
                </a:lnTo>
                <a:lnTo>
                  <a:pt x="384" y="2046"/>
                </a:lnTo>
                <a:lnTo>
                  <a:pt x="374" y="2036"/>
                </a:lnTo>
                <a:lnTo>
                  <a:pt x="362" y="2027"/>
                </a:lnTo>
                <a:lnTo>
                  <a:pt x="349" y="2017"/>
                </a:lnTo>
                <a:lnTo>
                  <a:pt x="336" y="2008"/>
                </a:lnTo>
                <a:lnTo>
                  <a:pt x="322" y="1998"/>
                </a:lnTo>
                <a:lnTo>
                  <a:pt x="307" y="1988"/>
                </a:lnTo>
                <a:lnTo>
                  <a:pt x="290" y="1979"/>
                </a:lnTo>
                <a:lnTo>
                  <a:pt x="272" y="1971"/>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Freeform 80"/>
          <p:cNvSpPr/>
          <p:nvPr/>
        </p:nvSpPr>
        <p:spPr>
          <a:xfrm>
            <a:off x="5919840" y="3895560"/>
            <a:ext cx="301680" cy="106560"/>
          </a:xfrm>
          <a:custGeom>
            <a:avLst/>
            <a:gdLst/>
            <a:ahLst/>
            <a:rect l="l" t="t" r="r" b="b"/>
            <a:pathLst>
              <a:path w="380" h="134">
                <a:moveTo>
                  <a:pt x="211" y="25"/>
                </a:moveTo>
                <a:lnTo>
                  <a:pt x="223" y="19"/>
                </a:lnTo>
                <a:lnTo>
                  <a:pt x="236" y="15"/>
                </a:lnTo>
                <a:lnTo>
                  <a:pt x="248" y="11"/>
                </a:lnTo>
                <a:lnTo>
                  <a:pt x="257" y="7"/>
                </a:lnTo>
                <a:lnTo>
                  <a:pt x="269" y="4"/>
                </a:lnTo>
                <a:lnTo>
                  <a:pt x="278" y="2"/>
                </a:lnTo>
                <a:lnTo>
                  <a:pt x="288" y="0"/>
                </a:lnTo>
                <a:lnTo>
                  <a:pt x="298" y="0"/>
                </a:lnTo>
                <a:lnTo>
                  <a:pt x="305" y="0"/>
                </a:lnTo>
                <a:lnTo>
                  <a:pt x="315" y="2"/>
                </a:lnTo>
                <a:lnTo>
                  <a:pt x="325" y="4"/>
                </a:lnTo>
                <a:lnTo>
                  <a:pt x="334" y="7"/>
                </a:lnTo>
                <a:lnTo>
                  <a:pt x="344" y="11"/>
                </a:lnTo>
                <a:lnTo>
                  <a:pt x="353" y="15"/>
                </a:lnTo>
                <a:lnTo>
                  <a:pt x="371" y="25"/>
                </a:lnTo>
                <a:lnTo>
                  <a:pt x="374" y="32"/>
                </a:lnTo>
                <a:lnTo>
                  <a:pt x="378" y="42"/>
                </a:lnTo>
                <a:lnTo>
                  <a:pt x="380" y="52"/>
                </a:lnTo>
                <a:lnTo>
                  <a:pt x="380" y="61"/>
                </a:lnTo>
                <a:lnTo>
                  <a:pt x="380" y="69"/>
                </a:lnTo>
                <a:lnTo>
                  <a:pt x="378" y="78"/>
                </a:lnTo>
                <a:lnTo>
                  <a:pt x="374" y="88"/>
                </a:lnTo>
                <a:lnTo>
                  <a:pt x="371" y="98"/>
                </a:lnTo>
                <a:lnTo>
                  <a:pt x="369" y="100"/>
                </a:lnTo>
                <a:lnTo>
                  <a:pt x="365" y="101"/>
                </a:lnTo>
                <a:lnTo>
                  <a:pt x="361" y="103"/>
                </a:lnTo>
                <a:lnTo>
                  <a:pt x="357" y="105"/>
                </a:lnTo>
                <a:lnTo>
                  <a:pt x="353" y="107"/>
                </a:lnTo>
                <a:lnTo>
                  <a:pt x="348" y="109"/>
                </a:lnTo>
                <a:lnTo>
                  <a:pt x="340" y="111"/>
                </a:lnTo>
                <a:lnTo>
                  <a:pt x="334" y="113"/>
                </a:lnTo>
                <a:lnTo>
                  <a:pt x="326" y="115"/>
                </a:lnTo>
                <a:lnTo>
                  <a:pt x="319" y="117"/>
                </a:lnTo>
                <a:lnTo>
                  <a:pt x="311" y="119"/>
                </a:lnTo>
                <a:lnTo>
                  <a:pt x="301" y="121"/>
                </a:lnTo>
                <a:lnTo>
                  <a:pt x="292" y="121"/>
                </a:lnTo>
                <a:lnTo>
                  <a:pt x="282" y="123"/>
                </a:lnTo>
                <a:lnTo>
                  <a:pt x="271" y="125"/>
                </a:lnTo>
                <a:lnTo>
                  <a:pt x="259" y="125"/>
                </a:lnTo>
                <a:lnTo>
                  <a:pt x="248" y="126"/>
                </a:lnTo>
                <a:lnTo>
                  <a:pt x="236" y="126"/>
                </a:lnTo>
                <a:lnTo>
                  <a:pt x="223" y="128"/>
                </a:lnTo>
                <a:lnTo>
                  <a:pt x="209" y="128"/>
                </a:lnTo>
                <a:lnTo>
                  <a:pt x="194" y="130"/>
                </a:lnTo>
                <a:lnTo>
                  <a:pt x="181" y="130"/>
                </a:lnTo>
                <a:lnTo>
                  <a:pt x="165" y="132"/>
                </a:lnTo>
                <a:lnTo>
                  <a:pt x="148" y="132"/>
                </a:lnTo>
                <a:lnTo>
                  <a:pt x="133" y="132"/>
                </a:lnTo>
                <a:lnTo>
                  <a:pt x="115" y="132"/>
                </a:lnTo>
                <a:lnTo>
                  <a:pt x="98" y="134"/>
                </a:lnTo>
                <a:lnTo>
                  <a:pt x="79" y="134"/>
                </a:lnTo>
                <a:lnTo>
                  <a:pt x="60" y="134"/>
                </a:lnTo>
                <a:lnTo>
                  <a:pt x="40" y="134"/>
                </a:lnTo>
                <a:lnTo>
                  <a:pt x="21" y="134"/>
                </a:lnTo>
                <a:lnTo>
                  <a:pt x="0" y="134"/>
                </a:lnTo>
                <a:lnTo>
                  <a:pt x="0" y="36"/>
                </a:lnTo>
                <a:lnTo>
                  <a:pt x="21" y="36"/>
                </a:lnTo>
                <a:lnTo>
                  <a:pt x="40" y="36"/>
                </a:lnTo>
                <a:lnTo>
                  <a:pt x="58" y="36"/>
                </a:lnTo>
                <a:lnTo>
                  <a:pt x="75" y="36"/>
                </a:lnTo>
                <a:lnTo>
                  <a:pt x="90" y="36"/>
                </a:lnTo>
                <a:lnTo>
                  <a:pt x="106" y="36"/>
                </a:lnTo>
                <a:lnTo>
                  <a:pt x="119" y="34"/>
                </a:lnTo>
                <a:lnTo>
                  <a:pt x="133" y="34"/>
                </a:lnTo>
                <a:lnTo>
                  <a:pt x="146" y="34"/>
                </a:lnTo>
                <a:lnTo>
                  <a:pt x="158" y="32"/>
                </a:lnTo>
                <a:lnTo>
                  <a:pt x="167" y="32"/>
                </a:lnTo>
                <a:lnTo>
                  <a:pt x="177" y="30"/>
                </a:lnTo>
                <a:lnTo>
                  <a:pt x="186" y="30"/>
                </a:lnTo>
                <a:lnTo>
                  <a:pt x="196" y="29"/>
                </a:lnTo>
                <a:lnTo>
                  <a:pt x="204" y="27"/>
                </a:lnTo>
                <a:lnTo>
                  <a:pt x="211" y="25"/>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Freeform 81"/>
          <p:cNvSpPr/>
          <p:nvPr/>
        </p:nvSpPr>
        <p:spPr>
          <a:xfrm>
            <a:off x="5575320" y="3092400"/>
            <a:ext cx="412560" cy="1803600"/>
          </a:xfrm>
          <a:custGeom>
            <a:avLst/>
            <a:gdLst/>
            <a:ahLst/>
            <a:rect l="l" t="t" r="r" b="b"/>
            <a:pathLst>
              <a:path w="521" h="2273">
                <a:moveTo>
                  <a:pt x="521" y="33"/>
                </a:moveTo>
                <a:lnTo>
                  <a:pt x="521" y="104"/>
                </a:lnTo>
                <a:lnTo>
                  <a:pt x="521" y="173"/>
                </a:lnTo>
                <a:lnTo>
                  <a:pt x="521" y="242"/>
                </a:lnTo>
                <a:lnTo>
                  <a:pt x="521" y="309"/>
                </a:lnTo>
                <a:lnTo>
                  <a:pt x="519" y="375"/>
                </a:lnTo>
                <a:lnTo>
                  <a:pt x="519" y="438"/>
                </a:lnTo>
                <a:lnTo>
                  <a:pt x="517" y="499"/>
                </a:lnTo>
                <a:lnTo>
                  <a:pt x="517" y="559"/>
                </a:lnTo>
                <a:lnTo>
                  <a:pt x="515" y="618"/>
                </a:lnTo>
                <a:lnTo>
                  <a:pt x="513" y="676"/>
                </a:lnTo>
                <a:lnTo>
                  <a:pt x="511" y="732"/>
                </a:lnTo>
                <a:lnTo>
                  <a:pt x="509" y="785"/>
                </a:lnTo>
                <a:lnTo>
                  <a:pt x="507" y="837"/>
                </a:lnTo>
                <a:lnTo>
                  <a:pt x="505" y="887"/>
                </a:lnTo>
                <a:lnTo>
                  <a:pt x="503" y="937"/>
                </a:lnTo>
                <a:lnTo>
                  <a:pt x="501" y="983"/>
                </a:lnTo>
                <a:lnTo>
                  <a:pt x="497" y="1029"/>
                </a:lnTo>
                <a:lnTo>
                  <a:pt x="496" y="1073"/>
                </a:lnTo>
                <a:lnTo>
                  <a:pt x="492" y="1115"/>
                </a:lnTo>
                <a:lnTo>
                  <a:pt x="488" y="1156"/>
                </a:lnTo>
                <a:lnTo>
                  <a:pt x="486" y="1196"/>
                </a:lnTo>
                <a:lnTo>
                  <a:pt x="482" y="1232"/>
                </a:lnTo>
                <a:lnTo>
                  <a:pt x="478" y="1269"/>
                </a:lnTo>
                <a:lnTo>
                  <a:pt x="474" y="1302"/>
                </a:lnTo>
                <a:lnTo>
                  <a:pt x="469" y="1334"/>
                </a:lnTo>
                <a:lnTo>
                  <a:pt x="465" y="1365"/>
                </a:lnTo>
                <a:lnTo>
                  <a:pt x="461" y="1394"/>
                </a:lnTo>
                <a:lnTo>
                  <a:pt x="455" y="1421"/>
                </a:lnTo>
                <a:lnTo>
                  <a:pt x="451" y="1447"/>
                </a:lnTo>
                <a:lnTo>
                  <a:pt x="446" y="1470"/>
                </a:lnTo>
                <a:lnTo>
                  <a:pt x="440" y="1494"/>
                </a:lnTo>
                <a:lnTo>
                  <a:pt x="434" y="1513"/>
                </a:lnTo>
                <a:lnTo>
                  <a:pt x="423" y="1551"/>
                </a:lnTo>
                <a:lnTo>
                  <a:pt x="411" y="1589"/>
                </a:lnTo>
                <a:lnTo>
                  <a:pt x="398" y="1628"/>
                </a:lnTo>
                <a:lnTo>
                  <a:pt x="384" y="1664"/>
                </a:lnTo>
                <a:lnTo>
                  <a:pt x="371" y="1701"/>
                </a:lnTo>
                <a:lnTo>
                  <a:pt x="355" y="1737"/>
                </a:lnTo>
                <a:lnTo>
                  <a:pt x="340" y="1772"/>
                </a:lnTo>
                <a:lnTo>
                  <a:pt x="325" y="1806"/>
                </a:lnTo>
                <a:lnTo>
                  <a:pt x="309" y="1839"/>
                </a:lnTo>
                <a:lnTo>
                  <a:pt x="292" y="1872"/>
                </a:lnTo>
                <a:lnTo>
                  <a:pt x="275" y="1904"/>
                </a:lnTo>
                <a:lnTo>
                  <a:pt x="259" y="1935"/>
                </a:lnTo>
                <a:lnTo>
                  <a:pt x="242" y="1966"/>
                </a:lnTo>
                <a:lnTo>
                  <a:pt x="223" y="1994"/>
                </a:lnTo>
                <a:lnTo>
                  <a:pt x="206" y="2023"/>
                </a:lnTo>
                <a:lnTo>
                  <a:pt x="188" y="2052"/>
                </a:lnTo>
                <a:lnTo>
                  <a:pt x="177" y="2067"/>
                </a:lnTo>
                <a:lnTo>
                  <a:pt x="167" y="2081"/>
                </a:lnTo>
                <a:lnTo>
                  <a:pt x="158" y="2094"/>
                </a:lnTo>
                <a:lnTo>
                  <a:pt x="148" y="2108"/>
                </a:lnTo>
                <a:lnTo>
                  <a:pt x="140" y="2121"/>
                </a:lnTo>
                <a:lnTo>
                  <a:pt x="131" y="2133"/>
                </a:lnTo>
                <a:lnTo>
                  <a:pt x="123" y="2144"/>
                </a:lnTo>
                <a:lnTo>
                  <a:pt x="114" y="2156"/>
                </a:lnTo>
                <a:lnTo>
                  <a:pt x="106" y="2167"/>
                </a:lnTo>
                <a:lnTo>
                  <a:pt x="98" y="2177"/>
                </a:lnTo>
                <a:lnTo>
                  <a:pt x="91" y="2186"/>
                </a:lnTo>
                <a:lnTo>
                  <a:pt x="85" y="2196"/>
                </a:lnTo>
                <a:lnTo>
                  <a:pt x="77" y="2204"/>
                </a:lnTo>
                <a:lnTo>
                  <a:pt x="71" y="2211"/>
                </a:lnTo>
                <a:lnTo>
                  <a:pt x="64" y="2219"/>
                </a:lnTo>
                <a:lnTo>
                  <a:pt x="58" y="2227"/>
                </a:lnTo>
                <a:lnTo>
                  <a:pt x="52" y="2234"/>
                </a:lnTo>
                <a:lnTo>
                  <a:pt x="48" y="2240"/>
                </a:lnTo>
                <a:lnTo>
                  <a:pt x="43" y="2246"/>
                </a:lnTo>
                <a:lnTo>
                  <a:pt x="37" y="2250"/>
                </a:lnTo>
                <a:lnTo>
                  <a:pt x="33" y="2256"/>
                </a:lnTo>
                <a:lnTo>
                  <a:pt x="29" y="2259"/>
                </a:lnTo>
                <a:lnTo>
                  <a:pt x="25" y="2263"/>
                </a:lnTo>
                <a:lnTo>
                  <a:pt x="21" y="2265"/>
                </a:lnTo>
                <a:lnTo>
                  <a:pt x="18" y="2269"/>
                </a:lnTo>
                <a:lnTo>
                  <a:pt x="14" y="2271"/>
                </a:lnTo>
                <a:lnTo>
                  <a:pt x="12" y="2273"/>
                </a:lnTo>
                <a:lnTo>
                  <a:pt x="10" y="2273"/>
                </a:lnTo>
                <a:lnTo>
                  <a:pt x="8" y="2273"/>
                </a:lnTo>
                <a:lnTo>
                  <a:pt x="6" y="2273"/>
                </a:lnTo>
                <a:lnTo>
                  <a:pt x="4" y="2273"/>
                </a:lnTo>
                <a:lnTo>
                  <a:pt x="2" y="2273"/>
                </a:lnTo>
                <a:lnTo>
                  <a:pt x="2" y="2271"/>
                </a:lnTo>
                <a:lnTo>
                  <a:pt x="0" y="2269"/>
                </a:lnTo>
                <a:lnTo>
                  <a:pt x="0" y="2267"/>
                </a:lnTo>
                <a:lnTo>
                  <a:pt x="0" y="2263"/>
                </a:lnTo>
                <a:lnTo>
                  <a:pt x="0" y="2259"/>
                </a:lnTo>
                <a:lnTo>
                  <a:pt x="0" y="2256"/>
                </a:lnTo>
                <a:lnTo>
                  <a:pt x="2" y="2252"/>
                </a:lnTo>
                <a:lnTo>
                  <a:pt x="2" y="2248"/>
                </a:lnTo>
                <a:lnTo>
                  <a:pt x="4" y="2242"/>
                </a:lnTo>
                <a:lnTo>
                  <a:pt x="6" y="2236"/>
                </a:lnTo>
                <a:lnTo>
                  <a:pt x="8" y="2229"/>
                </a:lnTo>
                <a:lnTo>
                  <a:pt x="10" y="2223"/>
                </a:lnTo>
                <a:lnTo>
                  <a:pt x="12" y="2215"/>
                </a:lnTo>
                <a:lnTo>
                  <a:pt x="16" y="2208"/>
                </a:lnTo>
                <a:lnTo>
                  <a:pt x="18" y="2198"/>
                </a:lnTo>
                <a:lnTo>
                  <a:pt x="21" y="2190"/>
                </a:lnTo>
                <a:lnTo>
                  <a:pt x="25" y="2181"/>
                </a:lnTo>
                <a:lnTo>
                  <a:pt x="29" y="2171"/>
                </a:lnTo>
                <a:lnTo>
                  <a:pt x="33" y="2160"/>
                </a:lnTo>
                <a:lnTo>
                  <a:pt x="39" y="2150"/>
                </a:lnTo>
                <a:lnTo>
                  <a:pt x="43" y="2138"/>
                </a:lnTo>
                <a:lnTo>
                  <a:pt x="48" y="2125"/>
                </a:lnTo>
                <a:lnTo>
                  <a:pt x="52" y="2114"/>
                </a:lnTo>
                <a:lnTo>
                  <a:pt x="58" y="2100"/>
                </a:lnTo>
                <a:lnTo>
                  <a:pt x="64" y="2087"/>
                </a:lnTo>
                <a:lnTo>
                  <a:pt x="71" y="2073"/>
                </a:lnTo>
                <a:lnTo>
                  <a:pt x="77" y="2058"/>
                </a:lnTo>
                <a:lnTo>
                  <a:pt x="85" y="2044"/>
                </a:lnTo>
                <a:lnTo>
                  <a:pt x="91" y="2029"/>
                </a:lnTo>
                <a:lnTo>
                  <a:pt x="98" y="2012"/>
                </a:lnTo>
                <a:lnTo>
                  <a:pt x="106" y="1996"/>
                </a:lnTo>
                <a:lnTo>
                  <a:pt x="114" y="1979"/>
                </a:lnTo>
                <a:lnTo>
                  <a:pt x="129" y="1945"/>
                </a:lnTo>
                <a:lnTo>
                  <a:pt x="144" y="1908"/>
                </a:lnTo>
                <a:lnTo>
                  <a:pt x="173" y="1839"/>
                </a:lnTo>
                <a:lnTo>
                  <a:pt x="200" y="1766"/>
                </a:lnTo>
                <a:lnTo>
                  <a:pt x="227" y="1693"/>
                </a:lnTo>
                <a:lnTo>
                  <a:pt x="250" y="1616"/>
                </a:lnTo>
                <a:lnTo>
                  <a:pt x="261" y="1578"/>
                </a:lnTo>
                <a:lnTo>
                  <a:pt x="271" y="1540"/>
                </a:lnTo>
                <a:lnTo>
                  <a:pt x="283" y="1499"/>
                </a:lnTo>
                <a:lnTo>
                  <a:pt x="292" y="1461"/>
                </a:lnTo>
                <a:lnTo>
                  <a:pt x="302" y="1421"/>
                </a:lnTo>
                <a:lnTo>
                  <a:pt x="311" y="1378"/>
                </a:lnTo>
                <a:lnTo>
                  <a:pt x="317" y="1336"/>
                </a:lnTo>
                <a:lnTo>
                  <a:pt x="325" y="1294"/>
                </a:lnTo>
                <a:lnTo>
                  <a:pt x="330" y="1252"/>
                </a:lnTo>
                <a:lnTo>
                  <a:pt x="336" y="1206"/>
                </a:lnTo>
                <a:lnTo>
                  <a:pt x="342" y="1161"/>
                </a:lnTo>
                <a:lnTo>
                  <a:pt x="346" y="1115"/>
                </a:lnTo>
                <a:lnTo>
                  <a:pt x="352" y="1067"/>
                </a:lnTo>
                <a:lnTo>
                  <a:pt x="355" y="1019"/>
                </a:lnTo>
                <a:lnTo>
                  <a:pt x="359" y="970"/>
                </a:lnTo>
                <a:lnTo>
                  <a:pt x="363" y="920"/>
                </a:lnTo>
                <a:lnTo>
                  <a:pt x="365" y="868"/>
                </a:lnTo>
                <a:lnTo>
                  <a:pt x="369" y="816"/>
                </a:lnTo>
                <a:lnTo>
                  <a:pt x="371" y="762"/>
                </a:lnTo>
                <a:lnTo>
                  <a:pt x="371" y="708"/>
                </a:lnTo>
                <a:lnTo>
                  <a:pt x="373" y="653"/>
                </a:lnTo>
                <a:lnTo>
                  <a:pt x="373" y="595"/>
                </a:lnTo>
                <a:lnTo>
                  <a:pt x="371" y="566"/>
                </a:lnTo>
                <a:lnTo>
                  <a:pt x="371" y="540"/>
                </a:lnTo>
                <a:lnTo>
                  <a:pt x="369" y="513"/>
                </a:lnTo>
                <a:lnTo>
                  <a:pt x="369" y="488"/>
                </a:lnTo>
                <a:lnTo>
                  <a:pt x="367" y="461"/>
                </a:lnTo>
                <a:lnTo>
                  <a:pt x="365" y="438"/>
                </a:lnTo>
                <a:lnTo>
                  <a:pt x="365" y="413"/>
                </a:lnTo>
                <a:lnTo>
                  <a:pt x="363" y="392"/>
                </a:lnTo>
                <a:lnTo>
                  <a:pt x="363" y="369"/>
                </a:lnTo>
                <a:lnTo>
                  <a:pt x="361" y="348"/>
                </a:lnTo>
                <a:lnTo>
                  <a:pt x="359" y="327"/>
                </a:lnTo>
                <a:lnTo>
                  <a:pt x="359" y="307"/>
                </a:lnTo>
                <a:lnTo>
                  <a:pt x="357" y="288"/>
                </a:lnTo>
                <a:lnTo>
                  <a:pt x="357" y="271"/>
                </a:lnTo>
                <a:lnTo>
                  <a:pt x="355" y="254"/>
                </a:lnTo>
                <a:lnTo>
                  <a:pt x="354" y="236"/>
                </a:lnTo>
                <a:lnTo>
                  <a:pt x="354" y="221"/>
                </a:lnTo>
                <a:lnTo>
                  <a:pt x="352" y="208"/>
                </a:lnTo>
                <a:lnTo>
                  <a:pt x="352" y="192"/>
                </a:lnTo>
                <a:lnTo>
                  <a:pt x="350" y="179"/>
                </a:lnTo>
                <a:lnTo>
                  <a:pt x="348" y="167"/>
                </a:lnTo>
                <a:lnTo>
                  <a:pt x="348" y="156"/>
                </a:lnTo>
                <a:lnTo>
                  <a:pt x="346" y="144"/>
                </a:lnTo>
                <a:lnTo>
                  <a:pt x="346" y="135"/>
                </a:lnTo>
                <a:lnTo>
                  <a:pt x="344" y="125"/>
                </a:lnTo>
                <a:lnTo>
                  <a:pt x="342" y="115"/>
                </a:lnTo>
                <a:lnTo>
                  <a:pt x="342" y="108"/>
                </a:lnTo>
                <a:lnTo>
                  <a:pt x="340" y="102"/>
                </a:lnTo>
                <a:lnTo>
                  <a:pt x="340" y="94"/>
                </a:lnTo>
                <a:lnTo>
                  <a:pt x="338" y="89"/>
                </a:lnTo>
                <a:lnTo>
                  <a:pt x="336" y="85"/>
                </a:lnTo>
                <a:lnTo>
                  <a:pt x="336" y="81"/>
                </a:lnTo>
                <a:lnTo>
                  <a:pt x="332" y="73"/>
                </a:lnTo>
                <a:lnTo>
                  <a:pt x="329" y="67"/>
                </a:lnTo>
                <a:lnTo>
                  <a:pt x="325" y="62"/>
                </a:lnTo>
                <a:lnTo>
                  <a:pt x="323" y="56"/>
                </a:lnTo>
                <a:lnTo>
                  <a:pt x="321" y="50"/>
                </a:lnTo>
                <a:lnTo>
                  <a:pt x="319" y="44"/>
                </a:lnTo>
                <a:lnTo>
                  <a:pt x="317" y="41"/>
                </a:lnTo>
                <a:lnTo>
                  <a:pt x="317" y="35"/>
                </a:lnTo>
                <a:lnTo>
                  <a:pt x="317" y="31"/>
                </a:lnTo>
                <a:lnTo>
                  <a:pt x="319" y="27"/>
                </a:lnTo>
                <a:lnTo>
                  <a:pt x="321" y="23"/>
                </a:lnTo>
                <a:lnTo>
                  <a:pt x="323" y="19"/>
                </a:lnTo>
                <a:lnTo>
                  <a:pt x="325" y="16"/>
                </a:lnTo>
                <a:lnTo>
                  <a:pt x="329" y="12"/>
                </a:lnTo>
                <a:lnTo>
                  <a:pt x="332" y="10"/>
                </a:lnTo>
                <a:lnTo>
                  <a:pt x="336" y="8"/>
                </a:lnTo>
                <a:lnTo>
                  <a:pt x="338" y="6"/>
                </a:lnTo>
                <a:lnTo>
                  <a:pt x="342" y="4"/>
                </a:lnTo>
                <a:lnTo>
                  <a:pt x="348" y="2"/>
                </a:lnTo>
                <a:lnTo>
                  <a:pt x="354" y="0"/>
                </a:lnTo>
                <a:lnTo>
                  <a:pt x="361" y="0"/>
                </a:lnTo>
                <a:lnTo>
                  <a:pt x="371" y="0"/>
                </a:lnTo>
                <a:lnTo>
                  <a:pt x="380" y="0"/>
                </a:lnTo>
                <a:lnTo>
                  <a:pt x="392" y="0"/>
                </a:lnTo>
                <a:lnTo>
                  <a:pt x="403" y="2"/>
                </a:lnTo>
                <a:lnTo>
                  <a:pt x="417" y="4"/>
                </a:lnTo>
                <a:lnTo>
                  <a:pt x="432" y="8"/>
                </a:lnTo>
                <a:lnTo>
                  <a:pt x="448" y="10"/>
                </a:lnTo>
                <a:lnTo>
                  <a:pt x="463" y="16"/>
                </a:lnTo>
                <a:lnTo>
                  <a:pt x="482" y="19"/>
                </a:lnTo>
                <a:lnTo>
                  <a:pt x="501" y="25"/>
                </a:lnTo>
                <a:lnTo>
                  <a:pt x="521" y="33"/>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Freeform 82"/>
          <p:cNvSpPr/>
          <p:nvPr/>
        </p:nvSpPr>
        <p:spPr>
          <a:xfrm>
            <a:off x="5919840" y="3535200"/>
            <a:ext cx="312840" cy="108000"/>
          </a:xfrm>
          <a:custGeom>
            <a:avLst/>
            <a:gdLst/>
            <a:ahLst/>
            <a:rect l="l" t="t" r="r" b="b"/>
            <a:pathLst>
              <a:path w="396" h="134">
                <a:moveTo>
                  <a:pt x="0" y="0"/>
                </a:moveTo>
                <a:lnTo>
                  <a:pt x="19" y="0"/>
                </a:lnTo>
                <a:lnTo>
                  <a:pt x="37" y="0"/>
                </a:lnTo>
                <a:lnTo>
                  <a:pt x="54" y="0"/>
                </a:lnTo>
                <a:lnTo>
                  <a:pt x="71" y="0"/>
                </a:lnTo>
                <a:lnTo>
                  <a:pt x="87" y="0"/>
                </a:lnTo>
                <a:lnTo>
                  <a:pt x="102" y="0"/>
                </a:lnTo>
                <a:lnTo>
                  <a:pt x="117" y="0"/>
                </a:lnTo>
                <a:lnTo>
                  <a:pt x="133" y="0"/>
                </a:lnTo>
                <a:lnTo>
                  <a:pt x="146" y="0"/>
                </a:lnTo>
                <a:lnTo>
                  <a:pt x="161" y="0"/>
                </a:lnTo>
                <a:lnTo>
                  <a:pt x="175" y="0"/>
                </a:lnTo>
                <a:lnTo>
                  <a:pt x="186" y="0"/>
                </a:lnTo>
                <a:lnTo>
                  <a:pt x="211" y="0"/>
                </a:lnTo>
                <a:lnTo>
                  <a:pt x="234" y="2"/>
                </a:lnTo>
                <a:lnTo>
                  <a:pt x="254" y="2"/>
                </a:lnTo>
                <a:lnTo>
                  <a:pt x="273" y="2"/>
                </a:lnTo>
                <a:lnTo>
                  <a:pt x="290" y="4"/>
                </a:lnTo>
                <a:lnTo>
                  <a:pt x="303" y="6"/>
                </a:lnTo>
                <a:lnTo>
                  <a:pt x="317" y="6"/>
                </a:lnTo>
                <a:lnTo>
                  <a:pt x="328" y="7"/>
                </a:lnTo>
                <a:lnTo>
                  <a:pt x="338" y="9"/>
                </a:lnTo>
                <a:lnTo>
                  <a:pt x="346" y="11"/>
                </a:lnTo>
                <a:lnTo>
                  <a:pt x="353" y="13"/>
                </a:lnTo>
                <a:lnTo>
                  <a:pt x="359" y="17"/>
                </a:lnTo>
                <a:lnTo>
                  <a:pt x="365" y="19"/>
                </a:lnTo>
                <a:lnTo>
                  <a:pt x="369" y="21"/>
                </a:lnTo>
                <a:lnTo>
                  <a:pt x="374" y="23"/>
                </a:lnTo>
                <a:lnTo>
                  <a:pt x="378" y="25"/>
                </a:lnTo>
                <a:lnTo>
                  <a:pt x="384" y="30"/>
                </a:lnTo>
                <a:lnTo>
                  <a:pt x="390" y="34"/>
                </a:lnTo>
                <a:lnTo>
                  <a:pt x="394" y="40"/>
                </a:lnTo>
                <a:lnTo>
                  <a:pt x="396" y="44"/>
                </a:lnTo>
                <a:lnTo>
                  <a:pt x="396" y="48"/>
                </a:lnTo>
                <a:lnTo>
                  <a:pt x="396" y="50"/>
                </a:lnTo>
                <a:lnTo>
                  <a:pt x="394" y="54"/>
                </a:lnTo>
                <a:lnTo>
                  <a:pt x="394" y="55"/>
                </a:lnTo>
                <a:lnTo>
                  <a:pt x="392" y="57"/>
                </a:lnTo>
                <a:lnTo>
                  <a:pt x="388" y="59"/>
                </a:lnTo>
                <a:lnTo>
                  <a:pt x="386" y="63"/>
                </a:lnTo>
                <a:lnTo>
                  <a:pt x="382" y="65"/>
                </a:lnTo>
                <a:lnTo>
                  <a:pt x="376" y="69"/>
                </a:lnTo>
                <a:lnTo>
                  <a:pt x="373" y="71"/>
                </a:lnTo>
                <a:lnTo>
                  <a:pt x="367" y="75"/>
                </a:lnTo>
                <a:lnTo>
                  <a:pt x="361" y="78"/>
                </a:lnTo>
                <a:lnTo>
                  <a:pt x="353" y="80"/>
                </a:lnTo>
                <a:lnTo>
                  <a:pt x="348" y="84"/>
                </a:lnTo>
                <a:lnTo>
                  <a:pt x="338" y="88"/>
                </a:lnTo>
                <a:lnTo>
                  <a:pt x="330" y="92"/>
                </a:lnTo>
                <a:lnTo>
                  <a:pt x="323" y="98"/>
                </a:lnTo>
                <a:lnTo>
                  <a:pt x="309" y="102"/>
                </a:lnTo>
                <a:lnTo>
                  <a:pt x="296" y="105"/>
                </a:lnTo>
                <a:lnTo>
                  <a:pt x="282" y="109"/>
                </a:lnTo>
                <a:lnTo>
                  <a:pt x="269" y="113"/>
                </a:lnTo>
                <a:lnTo>
                  <a:pt x="252" y="117"/>
                </a:lnTo>
                <a:lnTo>
                  <a:pt x="234" y="121"/>
                </a:lnTo>
                <a:lnTo>
                  <a:pt x="217" y="123"/>
                </a:lnTo>
                <a:lnTo>
                  <a:pt x="198" y="125"/>
                </a:lnTo>
                <a:lnTo>
                  <a:pt x="179" y="126"/>
                </a:lnTo>
                <a:lnTo>
                  <a:pt x="156" y="128"/>
                </a:lnTo>
                <a:lnTo>
                  <a:pt x="135" y="130"/>
                </a:lnTo>
                <a:lnTo>
                  <a:pt x="110" y="132"/>
                </a:lnTo>
                <a:lnTo>
                  <a:pt x="85" y="132"/>
                </a:lnTo>
                <a:lnTo>
                  <a:pt x="58" y="134"/>
                </a:lnTo>
                <a:lnTo>
                  <a:pt x="31" y="134"/>
                </a:lnTo>
                <a:lnTo>
                  <a:pt x="0" y="134"/>
                </a:lnTo>
                <a:lnTo>
                  <a:pt x="0" y="67"/>
                </a:lnTo>
                <a:lnTo>
                  <a:pt x="0" y="0"/>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77"/>
                                        </p:tgtEl>
                                        <p:attrNameLst>
                                          <p:attrName>style.visibility</p:attrName>
                                        </p:attrNameLst>
                                      </p:cBhvr>
                                      <p:to>
                                        <p:strVal val="visible"/>
                                      </p:to>
                                    </p:set>
                                    <p:anim calcmode="lin" valueType="num">
                                      <p:cBhvr additive="base">
                                        <p:cTn id="367" dur="500" fill="hold"/>
                                        <p:tgtEl>
                                          <p:spTgt spid="177"/>
                                        </p:tgtEl>
                                        <p:attrNameLst>
                                          <p:attrName>ppt_x</p:attrName>
                                        </p:attrNameLst>
                                      </p:cBhvr>
                                      <p:tavLst>
                                        <p:tav tm="0">
                                          <p:val>
                                            <p:strVal val="0-#ppt_w/2"/>
                                          </p:val>
                                        </p:tav>
                                        <p:tav tm="100000">
                                          <p:val>
                                            <p:strVal val="#ppt_x"/>
                                          </p:val>
                                        </p:tav>
                                      </p:tavLst>
                                    </p:anim>
                                    <p:anim calcmode="lin" valueType="num">
                                      <p:cBhvr additive="base">
                                        <p:cTn id="368"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84"/>
                                        </p:tgtEl>
                                        <p:attrNameLst>
                                          <p:attrName>style.visibility</p:attrName>
                                        </p:attrNameLst>
                                      </p:cBhvr>
                                      <p:to>
                                        <p:strVal val="visible"/>
                                      </p:to>
                                    </p:set>
                                    <p:animEffect filter="wipe(up)" transition="in">
                                      <p:cBhvr additive="repl">
                                        <p:cTn id="373" dur="500"/>
                                        <p:tgtEl>
                                          <p:spTgt spid="184"/>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1">
                                  <p:stCondLst>
                                    <p:cond delay="0"/>
                                  </p:stCondLst>
                                  <p:childTnLst>
                                    <p:set>
                                      <p:cBhvr>
                                        <p:cTn id="377" dur="1" fill="hold">
                                          <p:stCondLst>
                                            <p:cond delay="0"/>
                                          </p:stCondLst>
                                        </p:cTn>
                                        <p:tgtEl>
                                          <p:spTgt spid="182"/>
                                        </p:tgtEl>
                                        <p:attrNameLst>
                                          <p:attrName>style.visibility</p:attrName>
                                        </p:attrNameLst>
                                      </p:cBhvr>
                                      <p:to>
                                        <p:strVal val="visible"/>
                                      </p:to>
                                    </p:set>
                                    <p:animEffect filter="wipe(up)" transition="in">
                                      <p:cBhvr additive="repl">
                                        <p:cTn id="378" dur="500"/>
                                        <p:tgtEl>
                                          <p:spTgt spid="18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85"/>
                                        </p:tgtEl>
                                        <p:attrNameLst>
                                          <p:attrName>style.visibility</p:attrName>
                                        </p:attrNameLst>
                                      </p:cBhvr>
                                      <p:to>
                                        <p:strVal val="visible"/>
                                      </p:to>
                                    </p:set>
                                    <p:animEffect filter="wipe(left)" transition="in">
                                      <p:cBhvr additive="repl">
                                        <p:cTn id="383" dur="500"/>
                                        <p:tgtEl>
                                          <p:spTgt spid="18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83"/>
                                        </p:tgtEl>
                                        <p:attrNameLst>
                                          <p:attrName>style.visibility</p:attrName>
                                        </p:attrNameLst>
                                      </p:cBhvr>
                                      <p:to>
                                        <p:strVal val="visible"/>
                                      </p:to>
                                    </p:set>
                                    <p:animEffect filter="wipe(left)" transition="in">
                                      <p:cBhvr additive="repl">
                                        <p:cTn id="388" dur="500"/>
                                        <p:tgtEl>
                                          <p:spTgt spid="183"/>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81"/>
                                        </p:tgtEl>
                                        <p:attrNameLst>
                                          <p:attrName>style.visibility</p:attrName>
                                        </p:attrNameLst>
                                      </p:cBhvr>
                                      <p:to>
                                        <p:strVal val="visible"/>
                                      </p:to>
                                    </p:set>
                                    <p:animEffect filter="wipe(up)" transition="in">
                                      <p:cBhvr additive="repl">
                                        <p:cTn id="393" dur="500"/>
                                        <p:tgtEl>
                                          <p:spTgt spid="181"/>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80"/>
                                        </p:tgtEl>
                                        <p:attrNameLst>
                                          <p:attrName>style.visibility</p:attrName>
                                        </p:attrNameLst>
                                      </p:cBhvr>
                                      <p:to>
                                        <p:strVal val="visible"/>
                                      </p:to>
                                    </p:set>
                                    <p:animEffect filter="wipe(left)" transition="in">
                                      <p:cBhvr additive="repl">
                                        <p:cTn id="398" dur="500"/>
                                        <p:tgtEl>
                                          <p:spTgt spid="180"/>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9"/>
                                        </p:tgtEl>
                                        <p:attrNameLst>
                                          <p:attrName>style.visibility</p:attrName>
                                        </p:attrNameLst>
                                      </p:cBhvr>
                                      <p:to>
                                        <p:strVal val="visible"/>
                                      </p:to>
                                    </p:set>
                                    <p:animEffect filter="wipe(left)" transition="in">
                                      <p:cBhvr additive="repl">
                                        <p:cTn id="403" dur="500"/>
                                        <p:tgtEl>
                                          <p:spTgt spid="179"/>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178"/>
                                        </p:tgtEl>
                                        <p:attrNameLst>
                                          <p:attrName>style.visibility</p:attrName>
                                        </p:attrNameLst>
                                      </p:cBhvr>
                                      <p:to>
                                        <p:strVal val="visible"/>
                                      </p:to>
                                    </p:set>
                                    <p:animEffect filter="wipe(up)" transition="in">
                                      <p:cBhvr additive="repl">
                                        <p:cTn id="408" dur="500"/>
                                        <p:tgtEl>
                                          <p:spTgt spid="178"/>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53" presetSubtype="16">
                                  <p:stCondLst>
                                    <p:cond delay="0"/>
                                  </p:stCondLst>
                                  <p:childTnLst>
                                    <p:set>
                                      <p:cBhvr>
                                        <p:cTn id="412" dur="1" fill="hold">
                                          <p:stCondLst>
                                            <p:cond delay="0"/>
                                          </p:stCondLst>
                                        </p:cTn>
                                        <p:tgtEl>
                                          <p:spTgt spid="174"/>
                                        </p:tgtEl>
                                        <p:attrNameLst>
                                          <p:attrName>style.visibility</p:attrName>
                                        </p:attrNameLst>
                                      </p:cBhvr>
                                      <p:to>
                                        <p:strVal val="visible"/>
                                      </p:to>
                                    </p:set>
                                    <p:anim calcmode="lin" valueType="num">
                                      <p:cBhvr additive="repl">
                                        <p:cTn id="413" dur="500" fill="hold"/>
                                        <p:tgtEl>
                                          <p:spTgt spid="174"/>
                                        </p:tgtEl>
                                        <p:attrNameLst>
                                          <p:attrName>ppt_w</p:attrName>
                                        </p:attrNameLst>
                                      </p:cBhvr>
                                      <p:tavLst>
                                        <p:tav tm="0">
                                          <p:val>
                                            <p:fltVal val="0"/>
                                          </p:val>
                                        </p:tav>
                                        <p:tav tm="100000">
                                          <p:val>
                                            <p:strVal val="#ppt_w"/>
                                          </p:val>
                                        </p:tav>
                                      </p:tavLst>
                                    </p:anim>
                                    <p:anim calcmode="lin" valueType="num">
                                      <p:cBhvr additive="repl">
                                        <p:cTn id="414" dur="500" fill="hold"/>
                                        <p:tgtEl>
                                          <p:spTgt spid="174"/>
                                        </p:tgtEl>
                                        <p:attrNameLst>
                                          <p:attrName>ppt_h</p:attrName>
                                        </p:attrNameLst>
                                      </p:cBhvr>
                                      <p:tavLst>
                                        <p:tav tm="0">
                                          <p:val>
                                            <p:fltVal val="0"/>
                                          </p:val>
                                        </p:tav>
                                        <p:tav tm="100000">
                                          <p:val>
                                            <p:strVal val="#ppt_h"/>
                                          </p:val>
                                        </p:tav>
                                      </p:tavLst>
                                    </p:anim>
                                    <p:animEffect filter="fade" transition="in">
                                      <p:cBhvr additive="repl">
                                        <p:cTn id="41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30T15:03:44Z</dcterms:modified>
  <cp:revision>4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