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whoosh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click.wav" ContentType="audio/x-wav"/>
  <Override PartName="/ppt/media/chimes.wav" ContentType="audio/x-wav"/>
  <Override PartName="/ppt/media/image6.jpeg" ContentType="image/jpeg"/>
  <Override PartName="/ppt/media/image7.wmf" ContentType="image/x-wmf"/>
  <Override PartName="/ppt/media/image8.png" ContentType="image/png"/>
  <Override PartName="/ppt/media/image5.gif" ContentType="image/gif"/>
  <Override PartName="/ppt/media/type.wav" ContentType="audio/x-wav"/>
  <Override PartName="/ppt/media/laser.wav" ContentType="audio/x-wav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7EBF-B754-4BE4-AE3B-19B9CA21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351A-765E-4748-876D-BC5AA644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24A6-8A1D-418D-BA26-555699D6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47CC-3329-42E5-9971-D280F945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7484-6962-40C6-B6CC-7647BED1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7AA6-7CE3-4EA7-8542-1546A9E7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01AA-148B-4665-94A8-AC655EF0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5668-2891-41B6-97B4-3C69700F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DAB8-F041-4E57-8830-4B273B7C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68A0-61D0-4C7A-A6F6-2C2CCC1C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D728-C7E3-4CD5-8D97-6B4AE86D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3342-2126-4EF4-B901-40417E41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AE51-BE03-45A8-90F5-8CE6055A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13AA-C27E-459F-A44F-A4A9FD65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A1C7-B7DA-4E4C-9488-C807F498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61B2-A9CC-4D53-85AF-AD884685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CDB0-9545-465A-9A89-8843ABB1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EF803-7823-4176-A4CE-76E163F3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4DD6F-45B6-4C1E-A0AD-8D966319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DF624-985D-40A9-9FA3-6824A158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CF502-F693-4D53-A77A-258D6739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9AC7B-E56A-4D56-8F6A-B26C7443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319-CC56-43F7-B300-BD9D02BF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28428-ADC1-414E-BB05-60283555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EB479-DC84-4E34-A02D-2B1B656E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53BDB-7EF7-40A9-AD71-B5355445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9A48E-CC0B-4250-A168-3FFA658D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9E507-121B-47BA-A21A-9DA5A3C3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FBD69-B0C3-42B1-BC74-FF503C2A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04A74-3EC7-4507-8612-BC72F665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5C1-A7FD-498A-83FA-F0D5B148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A520-8686-4973-B5F7-C450A0F5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252E-9EEA-48F1-BB4F-E7D278FD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034F-3C0B-4EE9-9259-E0D3D13A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1EA1-BCD1-4CB9-959D-9BE8D791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8CF7-B3DE-4ED0-927D-96D93FD9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7894-155D-4A72-A111-EA3EC86E8A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87A4-684D-4716-B8D4-B3D5CA155F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5AB3-3D9C-4D94-BCFB-AC8AE1BB8C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audio" Target="../media/click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5.gif"/><Relationship Id="rId4" Type="http://schemas.openxmlformats.org/officeDocument/2006/relationships/audio" Target="../media/chimes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type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24000" y="47628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北师大版 小学数学  四年级上册</a:t>
            </a: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3"/>
          <p:cNvSpPr txBox="1"/>
          <p:nvPr/>
        </p:nvSpPr>
        <p:spPr>
          <a:xfrm>
            <a:off x="2484360" y="2205000"/>
            <a:ext cx="4353120" cy="10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数图形的学问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2"/>
          <p:cNvSpPr/>
          <p:nvPr/>
        </p:nvSpPr>
        <p:spPr>
          <a:xfrm>
            <a:off x="755640" y="90792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黑体"/>
              </a:rPr>
              <a:t>数一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3"/>
          <p:cNvGrpSpPr/>
          <p:nvPr/>
        </p:nvGrpSpPr>
        <p:grpSpPr>
          <a:xfrm>
            <a:off x="2556000" y="1413000"/>
            <a:ext cx="3168000" cy="2160000"/>
            <a:chOff x="2556000" y="1413000"/>
            <a:chExt cx="3168000" cy="2160000"/>
          </a:xfrm>
        </p:grpSpPr>
        <p:sp>
          <p:nvSpPr>
            <p:cNvPr id="361" name="AutoShape 4"/>
            <p:cNvSpPr/>
            <p:nvPr/>
          </p:nvSpPr>
          <p:spPr>
            <a:xfrm>
              <a:off x="2556000" y="1413000"/>
              <a:ext cx="3168000" cy="2160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5"/>
            <p:cNvSpPr/>
            <p:nvPr/>
          </p:nvSpPr>
          <p:spPr>
            <a:xfrm flipH="1">
              <a:off x="3293280" y="1413000"/>
              <a:ext cx="844920" cy="21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6"/>
            <p:cNvSpPr/>
            <p:nvPr/>
          </p:nvSpPr>
          <p:spPr>
            <a:xfrm>
              <a:off x="4138920" y="1413000"/>
              <a:ext cx="0" cy="21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7"/>
            <p:cNvSpPr/>
            <p:nvPr/>
          </p:nvSpPr>
          <p:spPr>
            <a:xfrm>
              <a:off x="4138920" y="1413000"/>
              <a:ext cx="844560" cy="21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Text Box 8"/>
          <p:cNvSpPr/>
          <p:nvPr/>
        </p:nvSpPr>
        <p:spPr>
          <a:xfrm>
            <a:off x="2843280" y="4076640"/>
            <a:ext cx="254484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    ）个三角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2340000" y="4797360"/>
            <a:ext cx="54720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 + 3 + 2 + 1 = 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3421440" y="40053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755640" y="90792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黑体"/>
              </a:rPr>
              <a:t>数一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3203640" y="981000"/>
            <a:ext cx="2592000" cy="3168360"/>
            <a:chOff x="3203640" y="981000"/>
            <a:chExt cx="2592000" cy="3168360"/>
          </a:xfrm>
        </p:grpSpPr>
        <p:sp>
          <p:nvSpPr>
            <p:cNvPr id="372" name="Line 5"/>
            <p:cNvSpPr/>
            <p:nvPr/>
          </p:nvSpPr>
          <p:spPr>
            <a:xfrm>
              <a:off x="3203640" y="3357000"/>
              <a:ext cx="239976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6"/>
            <p:cNvSpPr/>
            <p:nvPr/>
          </p:nvSpPr>
          <p:spPr>
            <a:xfrm>
              <a:off x="3203640" y="3357000"/>
              <a:ext cx="25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7"/>
            <p:cNvSpPr/>
            <p:nvPr/>
          </p:nvSpPr>
          <p:spPr>
            <a:xfrm flipV="1">
              <a:off x="3203640" y="2563920"/>
              <a:ext cx="249480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8"/>
            <p:cNvSpPr/>
            <p:nvPr/>
          </p:nvSpPr>
          <p:spPr>
            <a:xfrm flipV="1">
              <a:off x="3203640" y="1931760"/>
              <a:ext cx="2111760" cy="142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9"/>
            <p:cNvSpPr/>
            <p:nvPr/>
          </p:nvSpPr>
          <p:spPr>
            <a:xfrm flipV="1">
              <a:off x="3203640" y="1376640"/>
              <a:ext cx="1343520" cy="19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0"/>
            <p:cNvSpPr/>
            <p:nvPr/>
          </p:nvSpPr>
          <p:spPr>
            <a:xfrm flipV="1">
              <a:off x="3203640" y="981000"/>
              <a:ext cx="575280" cy="23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11"/>
          <p:cNvSpPr/>
          <p:nvPr/>
        </p:nvSpPr>
        <p:spPr>
          <a:xfrm>
            <a:off x="3059280" y="4724280"/>
            <a:ext cx="26650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    ）个 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2627280" y="5300640"/>
            <a:ext cx="4753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+4+3+2+1=1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3"/>
          <p:cNvSpPr/>
          <p:nvPr/>
        </p:nvSpPr>
        <p:spPr>
          <a:xfrm>
            <a:off x="3781800" y="4724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755640" y="90792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黑体"/>
              </a:rPr>
              <a:t>数一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3"/>
          <p:cNvGrpSpPr/>
          <p:nvPr/>
        </p:nvGrpSpPr>
        <p:grpSpPr>
          <a:xfrm>
            <a:off x="684360" y="2924280"/>
            <a:ext cx="2519280" cy="504360"/>
            <a:chOff x="684360" y="2924280"/>
            <a:chExt cx="2519280" cy="504360"/>
          </a:xfrm>
        </p:grpSpPr>
        <p:sp>
          <p:nvSpPr>
            <p:cNvPr id="384" name="Rectangle 4"/>
            <p:cNvSpPr/>
            <p:nvPr/>
          </p:nvSpPr>
          <p:spPr>
            <a:xfrm>
              <a:off x="684360" y="2924280"/>
              <a:ext cx="2519280" cy="504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5"/>
            <p:cNvSpPr/>
            <p:nvPr/>
          </p:nvSpPr>
          <p:spPr>
            <a:xfrm>
              <a:off x="1544400" y="2924280"/>
              <a:ext cx="0" cy="50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6"/>
            <p:cNvSpPr/>
            <p:nvPr/>
          </p:nvSpPr>
          <p:spPr>
            <a:xfrm>
              <a:off x="2574000" y="2924280"/>
              <a:ext cx="0" cy="50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7"/>
          <p:cNvGrpSpPr/>
          <p:nvPr/>
        </p:nvGrpSpPr>
        <p:grpSpPr>
          <a:xfrm>
            <a:off x="3635280" y="1700280"/>
            <a:ext cx="2089080" cy="1872720"/>
            <a:chOff x="3635280" y="1700280"/>
            <a:chExt cx="2089080" cy="1872720"/>
          </a:xfrm>
        </p:grpSpPr>
        <p:sp>
          <p:nvSpPr>
            <p:cNvPr id="388" name="AutoShape 8"/>
            <p:cNvSpPr/>
            <p:nvPr/>
          </p:nvSpPr>
          <p:spPr>
            <a:xfrm>
              <a:off x="3635280" y="1700280"/>
              <a:ext cx="2089080" cy="1872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9"/>
            <p:cNvSpPr/>
            <p:nvPr/>
          </p:nvSpPr>
          <p:spPr>
            <a:xfrm flipH="1">
              <a:off x="4121280" y="1700280"/>
              <a:ext cx="556920" cy="187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0"/>
            <p:cNvSpPr/>
            <p:nvPr/>
          </p:nvSpPr>
          <p:spPr>
            <a:xfrm>
              <a:off x="4678920" y="1700280"/>
              <a:ext cx="0" cy="187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4678920" y="1700280"/>
              <a:ext cx="556560" cy="187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12"/>
          <p:cNvGrpSpPr/>
          <p:nvPr/>
        </p:nvGrpSpPr>
        <p:grpSpPr>
          <a:xfrm>
            <a:off x="6588000" y="1268280"/>
            <a:ext cx="1944720" cy="2881440"/>
            <a:chOff x="6588000" y="1268280"/>
            <a:chExt cx="1944720" cy="2881440"/>
          </a:xfrm>
        </p:grpSpPr>
        <p:sp>
          <p:nvSpPr>
            <p:cNvPr id="393" name="Line 13"/>
            <p:cNvSpPr/>
            <p:nvPr/>
          </p:nvSpPr>
          <p:spPr>
            <a:xfrm>
              <a:off x="6588000" y="3429000"/>
              <a:ext cx="18003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6588000" y="3429000"/>
              <a:ext cx="194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5"/>
            <p:cNvSpPr/>
            <p:nvPr/>
          </p:nvSpPr>
          <p:spPr>
            <a:xfrm flipV="1">
              <a:off x="6588000" y="270828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6"/>
            <p:cNvSpPr/>
            <p:nvPr/>
          </p:nvSpPr>
          <p:spPr>
            <a:xfrm flipV="1">
              <a:off x="6588000" y="2133000"/>
              <a:ext cx="158436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7"/>
            <p:cNvSpPr/>
            <p:nvPr/>
          </p:nvSpPr>
          <p:spPr>
            <a:xfrm flipV="1">
              <a:off x="6588000" y="1628280"/>
              <a:ext cx="1008000" cy="180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8"/>
            <p:cNvSpPr/>
            <p:nvPr/>
          </p:nvSpPr>
          <p:spPr>
            <a:xfrm flipV="1">
              <a:off x="6588000" y="1268280"/>
              <a:ext cx="431640" cy="216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Rectangle 19">
            <a:hlinkClick r:id="rId1" action="ppaction://hlinksldjump"/>
          </p:cNvPr>
          <p:cNvSpPr/>
          <p:nvPr/>
        </p:nvSpPr>
        <p:spPr>
          <a:xfrm>
            <a:off x="539640" y="2133720"/>
            <a:ext cx="2952720" cy="165564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0"/>
          <p:cNvSpPr/>
          <p:nvPr/>
        </p:nvSpPr>
        <p:spPr>
          <a:xfrm>
            <a:off x="6372360" y="4581360"/>
            <a:ext cx="20415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5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个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1"/>
          <p:cNvSpPr/>
          <p:nvPr/>
        </p:nvSpPr>
        <p:spPr>
          <a:xfrm>
            <a:off x="3276720" y="4581360"/>
            <a:ext cx="254448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0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个三角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2"/>
          <p:cNvSpPr/>
          <p:nvPr/>
        </p:nvSpPr>
        <p:spPr>
          <a:xfrm>
            <a:off x="539640" y="4581360"/>
            <a:ext cx="26179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个长方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3"/>
          <p:cNvSpPr/>
          <p:nvPr/>
        </p:nvSpPr>
        <p:spPr>
          <a:xfrm>
            <a:off x="684360" y="5229360"/>
            <a:ext cx="26175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+2+1=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4"/>
          <p:cNvSpPr/>
          <p:nvPr/>
        </p:nvSpPr>
        <p:spPr>
          <a:xfrm>
            <a:off x="3059280" y="5292720"/>
            <a:ext cx="30952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+3+2+1=1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5"/>
          <p:cNvSpPr/>
          <p:nvPr/>
        </p:nvSpPr>
        <p:spPr>
          <a:xfrm>
            <a:off x="5940360" y="5300640"/>
            <a:ext cx="32036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+4+3+2+1=1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"/>
          <p:cNvGrpSpPr/>
          <p:nvPr/>
        </p:nvGrpSpPr>
        <p:grpSpPr>
          <a:xfrm>
            <a:off x="1692360" y="1700280"/>
            <a:ext cx="4155480" cy="552600"/>
            <a:chOff x="1692360" y="1700280"/>
            <a:chExt cx="4155480" cy="552600"/>
          </a:xfrm>
        </p:grpSpPr>
        <p:grpSp>
          <p:nvGrpSpPr>
            <p:cNvPr id="407" name="Group 3"/>
            <p:cNvGrpSpPr/>
            <p:nvPr/>
          </p:nvGrpSpPr>
          <p:grpSpPr>
            <a:xfrm>
              <a:off x="1879200" y="1700280"/>
              <a:ext cx="3643200" cy="144360"/>
              <a:chOff x="1879200" y="1700280"/>
              <a:chExt cx="3643200" cy="144360"/>
            </a:xfrm>
          </p:grpSpPr>
          <p:grpSp>
            <p:nvGrpSpPr>
              <p:cNvPr id="408" name="Group 4"/>
              <p:cNvGrpSpPr/>
              <p:nvPr/>
            </p:nvGrpSpPr>
            <p:grpSpPr>
              <a:xfrm>
                <a:off x="1879200" y="1700280"/>
                <a:ext cx="1224000" cy="144360"/>
                <a:chOff x="1879200" y="1700280"/>
                <a:chExt cx="1224000" cy="144360"/>
              </a:xfrm>
            </p:grpSpPr>
            <p:sp>
              <p:nvSpPr>
                <p:cNvPr id="409" name="Line 5"/>
                <p:cNvSpPr/>
                <p:nvPr/>
              </p:nvSpPr>
              <p:spPr>
                <a:xfrm>
                  <a:off x="1879200" y="1844640"/>
                  <a:ext cx="1224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Line 6"/>
                <p:cNvSpPr/>
                <p:nvPr/>
              </p:nvSpPr>
              <p:spPr>
                <a:xfrm>
                  <a:off x="1888560" y="1700280"/>
                  <a:ext cx="0" cy="142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Line 7"/>
                <p:cNvSpPr/>
                <p:nvPr/>
              </p:nvSpPr>
              <p:spPr>
                <a:xfrm>
                  <a:off x="3093480" y="1700280"/>
                  <a:ext cx="0" cy="142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Group 8"/>
              <p:cNvGrpSpPr/>
              <p:nvPr/>
            </p:nvGrpSpPr>
            <p:grpSpPr>
              <a:xfrm>
                <a:off x="3093480" y="1700280"/>
                <a:ext cx="1224000" cy="144360"/>
                <a:chOff x="3093480" y="1700280"/>
                <a:chExt cx="1224000" cy="144360"/>
              </a:xfrm>
            </p:grpSpPr>
            <p:sp>
              <p:nvSpPr>
                <p:cNvPr id="413" name="Line 9"/>
                <p:cNvSpPr/>
                <p:nvPr/>
              </p:nvSpPr>
              <p:spPr>
                <a:xfrm>
                  <a:off x="3093480" y="1844640"/>
                  <a:ext cx="1224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Line 10"/>
                <p:cNvSpPr/>
                <p:nvPr/>
              </p:nvSpPr>
              <p:spPr>
                <a:xfrm>
                  <a:off x="3102840" y="1700280"/>
                  <a:ext cx="0" cy="142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Line 11"/>
                <p:cNvSpPr/>
                <p:nvPr/>
              </p:nvSpPr>
              <p:spPr>
                <a:xfrm>
                  <a:off x="4307760" y="1700280"/>
                  <a:ext cx="0" cy="142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Group 12"/>
              <p:cNvGrpSpPr/>
              <p:nvPr/>
            </p:nvGrpSpPr>
            <p:grpSpPr>
              <a:xfrm>
                <a:off x="4298400" y="1700280"/>
                <a:ext cx="1224000" cy="144360"/>
                <a:chOff x="4298400" y="1700280"/>
                <a:chExt cx="1224000" cy="144360"/>
              </a:xfrm>
            </p:grpSpPr>
            <p:sp>
              <p:nvSpPr>
                <p:cNvPr id="417" name="Line 13"/>
                <p:cNvSpPr/>
                <p:nvPr/>
              </p:nvSpPr>
              <p:spPr>
                <a:xfrm>
                  <a:off x="4298400" y="1844640"/>
                  <a:ext cx="1224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Line 14"/>
                <p:cNvSpPr/>
                <p:nvPr/>
              </p:nvSpPr>
              <p:spPr>
                <a:xfrm>
                  <a:off x="4307760" y="1700280"/>
                  <a:ext cx="0" cy="142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Line 15"/>
                <p:cNvSpPr/>
                <p:nvPr/>
              </p:nvSpPr>
              <p:spPr>
                <a:xfrm>
                  <a:off x="5512680" y="1700280"/>
                  <a:ext cx="0" cy="142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0" name="Group 16"/>
            <p:cNvGrpSpPr/>
            <p:nvPr/>
          </p:nvGrpSpPr>
          <p:grpSpPr>
            <a:xfrm>
              <a:off x="1692360" y="1844640"/>
              <a:ext cx="4155480" cy="408240"/>
              <a:chOff x="1692360" y="1844640"/>
              <a:chExt cx="4155480" cy="408240"/>
            </a:xfrm>
          </p:grpSpPr>
          <p:sp>
            <p:nvSpPr>
              <p:cNvPr id="421" name="Text Box 17"/>
              <p:cNvSpPr/>
              <p:nvPr/>
            </p:nvSpPr>
            <p:spPr>
              <a:xfrm>
                <a:off x="1692360" y="1854000"/>
                <a:ext cx="504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Text Box 18"/>
              <p:cNvSpPr/>
              <p:nvPr/>
            </p:nvSpPr>
            <p:spPr>
              <a:xfrm>
                <a:off x="2896920" y="1844640"/>
                <a:ext cx="504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19"/>
              <p:cNvSpPr/>
              <p:nvPr/>
            </p:nvSpPr>
            <p:spPr>
              <a:xfrm>
                <a:off x="4120920" y="1844640"/>
                <a:ext cx="504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20"/>
              <p:cNvSpPr/>
              <p:nvPr/>
            </p:nvSpPr>
            <p:spPr>
              <a:xfrm>
                <a:off x="5344920" y="1844640"/>
                <a:ext cx="50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5" name="Group 21"/>
          <p:cNvGrpSpPr/>
          <p:nvPr/>
        </p:nvGrpSpPr>
        <p:grpSpPr>
          <a:xfrm>
            <a:off x="1763640" y="2997360"/>
            <a:ext cx="4156200" cy="552600"/>
            <a:chOff x="1763640" y="2997360"/>
            <a:chExt cx="4156200" cy="552600"/>
          </a:xfrm>
        </p:grpSpPr>
        <p:grpSp>
          <p:nvGrpSpPr>
            <p:cNvPr id="426" name="Group 22"/>
            <p:cNvGrpSpPr/>
            <p:nvPr/>
          </p:nvGrpSpPr>
          <p:grpSpPr>
            <a:xfrm>
              <a:off x="1950840" y="2997360"/>
              <a:ext cx="3643200" cy="144360"/>
              <a:chOff x="1950840" y="2997360"/>
              <a:chExt cx="3643200" cy="144360"/>
            </a:xfrm>
          </p:grpSpPr>
          <p:grpSp>
            <p:nvGrpSpPr>
              <p:cNvPr id="427" name="Group 23"/>
              <p:cNvGrpSpPr/>
              <p:nvPr/>
            </p:nvGrpSpPr>
            <p:grpSpPr>
              <a:xfrm>
                <a:off x="1950840" y="2997360"/>
                <a:ext cx="1224000" cy="144360"/>
                <a:chOff x="1950840" y="2997360"/>
                <a:chExt cx="1224000" cy="144360"/>
              </a:xfrm>
            </p:grpSpPr>
            <p:sp>
              <p:nvSpPr>
                <p:cNvPr id="428" name="Line 24"/>
                <p:cNvSpPr/>
                <p:nvPr/>
              </p:nvSpPr>
              <p:spPr>
                <a:xfrm>
                  <a:off x="1950840" y="3141720"/>
                  <a:ext cx="1224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25"/>
                <p:cNvSpPr/>
                <p:nvPr/>
              </p:nvSpPr>
              <p:spPr>
                <a:xfrm>
                  <a:off x="1960200" y="2997360"/>
                  <a:ext cx="0" cy="142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26"/>
                <p:cNvSpPr/>
                <p:nvPr/>
              </p:nvSpPr>
              <p:spPr>
                <a:xfrm>
                  <a:off x="3165120" y="2997360"/>
                  <a:ext cx="0" cy="142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1" name="Group 27"/>
              <p:cNvGrpSpPr/>
              <p:nvPr/>
            </p:nvGrpSpPr>
            <p:grpSpPr>
              <a:xfrm>
                <a:off x="3165120" y="2997360"/>
                <a:ext cx="1224000" cy="144360"/>
                <a:chOff x="3165120" y="2997360"/>
                <a:chExt cx="1224000" cy="144360"/>
              </a:xfrm>
            </p:grpSpPr>
            <p:sp>
              <p:nvSpPr>
                <p:cNvPr id="432" name="Line 28"/>
                <p:cNvSpPr/>
                <p:nvPr/>
              </p:nvSpPr>
              <p:spPr>
                <a:xfrm>
                  <a:off x="3165120" y="3141720"/>
                  <a:ext cx="1224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Line 29"/>
                <p:cNvSpPr/>
                <p:nvPr/>
              </p:nvSpPr>
              <p:spPr>
                <a:xfrm>
                  <a:off x="3174480" y="2997360"/>
                  <a:ext cx="0" cy="142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30"/>
                <p:cNvSpPr/>
                <p:nvPr/>
              </p:nvSpPr>
              <p:spPr>
                <a:xfrm>
                  <a:off x="4379400" y="2997360"/>
                  <a:ext cx="0" cy="142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Group 31"/>
              <p:cNvGrpSpPr/>
              <p:nvPr/>
            </p:nvGrpSpPr>
            <p:grpSpPr>
              <a:xfrm>
                <a:off x="4370040" y="2997360"/>
                <a:ext cx="1224000" cy="144360"/>
                <a:chOff x="4370040" y="2997360"/>
                <a:chExt cx="1224000" cy="144360"/>
              </a:xfrm>
            </p:grpSpPr>
            <p:sp>
              <p:nvSpPr>
                <p:cNvPr id="436" name="Line 32"/>
                <p:cNvSpPr/>
                <p:nvPr/>
              </p:nvSpPr>
              <p:spPr>
                <a:xfrm>
                  <a:off x="4370040" y="3141720"/>
                  <a:ext cx="1224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Line 33"/>
                <p:cNvSpPr/>
                <p:nvPr/>
              </p:nvSpPr>
              <p:spPr>
                <a:xfrm>
                  <a:off x="4379400" y="2997360"/>
                  <a:ext cx="0" cy="142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Line 34"/>
                <p:cNvSpPr/>
                <p:nvPr/>
              </p:nvSpPr>
              <p:spPr>
                <a:xfrm>
                  <a:off x="5584320" y="2997360"/>
                  <a:ext cx="0" cy="142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9" name="Group 35"/>
            <p:cNvGrpSpPr/>
            <p:nvPr/>
          </p:nvGrpSpPr>
          <p:grpSpPr>
            <a:xfrm>
              <a:off x="1763640" y="3141720"/>
              <a:ext cx="4156200" cy="408240"/>
              <a:chOff x="1763640" y="3141720"/>
              <a:chExt cx="4156200" cy="408240"/>
            </a:xfrm>
          </p:grpSpPr>
          <p:sp>
            <p:nvSpPr>
              <p:cNvPr id="440" name="Text Box 36"/>
              <p:cNvSpPr/>
              <p:nvPr/>
            </p:nvSpPr>
            <p:spPr>
              <a:xfrm>
                <a:off x="1763640" y="315108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37"/>
              <p:cNvSpPr/>
              <p:nvPr/>
            </p:nvSpPr>
            <p:spPr>
              <a:xfrm>
                <a:off x="2968560" y="314172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38"/>
              <p:cNvSpPr/>
              <p:nvPr/>
            </p:nvSpPr>
            <p:spPr>
              <a:xfrm>
                <a:off x="4192560" y="314172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39"/>
              <p:cNvSpPr/>
              <p:nvPr/>
            </p:nvSpPr>
            <p:spPr>
              <a:xfrm>
                <a:off x="5416560" y="3141720"/>
                <a:ext cx="5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40"/>
          <p:cNvGrpSpPr/>
          <p:nvPr/>
        </p:nvGrpSpPr>
        <p:grpSpPr>
          <a:xfrm>
            <a:off x="1763640" y="4221000"/>
            <a:ext cx="4156200" cy="552600"/>
            <a:chOff x="1763640" y="4221000"/>
            <a:chExt cx="4156200" cy="552600"/>
          </a:xfrm>
        </p:grpSpPr>
        <p:grpSp>
          <p:nvGrpSpPr>
            <p:cNvPr id="445" name="Group 41"/>
            <p:cNvGrpSpPr/>
            <p:nvPr/>
          </p:nvGrpSpPr>
          <p:grpSpPr>
            <a:xfrm>
              <a:off x="1950840" y="4221000"/>
              <a:ext cx="3643200" cy="144360"/>
              <a:chOff x="1950840" y="4221000"/>
              <a:chExt cx="3643200" cy="144360"/>
            </a:xfrm>
          </p:grpSpPr>
          <p:grpSp>
            <p:nvGrpSpPr>
              <p:cNvPr id="446" name="Group 42"/>
              <p:cNvGrpSpPr/>
              <p:nvPr/>
            </p:nvGrpSpPr>
            <p:grpSpPr>
              <a:xfrm>
                <a:off x="1950840" y="4221000"/>
                <a:ext cx="1224000" cy="144360"/>
                <a:chOff x="1950840" y="4221000"/>
                <a:chExt cx="1224000" cy="144360"/>
              </a:xfrm>
            </p:grpSpPr>
            <p:sp>
              <p:nvSpPr>
                <p:cNvPr id="447" name="Line 43"/>
                <p:cNvSpPr/>
                <p:nvPr/>
              </p:nvSpPr>
              <p:spPr>
                <a:xfrm>
                  <a:off x="1950840" y="4365360"/>
                  <a:ext cx="1224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Line 44"/>
                <p:cNvSpPr/>
                <p:nvPr/>
              </p:nvSpPr>
              <p:spPr>
                <a:xfrm>
                  <a:off x="1960200" y="4221000"/>
                  <a:ext cx="0" cy="142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Line 45"/>
                <p:cNvSpPr/>
                <p:nvPr/>
              </p:nvSpPr>
              <p:spPr>
                <a:xfrm>
                  <a:off x="3165120" y="4221000"/>
                  <a:ext cx="0" cy="142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46"/>
              <p:cNvGrpSpPr/>
              <p:nvPr/>
            </p:nvGrpSpPr>
            <p:grpSpPr>
              <a:xfrm>
                <a:off x="3165120" y="4221000"/>
                <a:ext cx="1224000" cy="144360"/>
                <a:chOff x="3165120" y="4221000"/>
                <a:chExt cx="1224000" cy="144360"/>
              </a:xfrm>
            </p:grpSpPr>
            <p:sp>
              <p:nvSpPr>
                <p:cNvPr id="451" name="Line 47"/>
                <p:cNvSpPr/>
                <p:nvPr/>
              </p:nvSpPr>
              <p:spPr>
                <a:xfrm>
                  <a:off x="3165120" y="4365360"/>
                  <a:ext cx="1224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Line 48"/>
                <p:cNvSpPr/>
                <p:nvPr/>
              </p:nvSpPr>
              <p:spPr>
                <a:xfrm>
                  <a:off x="3174480" y="4221000"/>
                  <a:ext cx="0" cy="142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Line 49"/>
                <p:cNvSpPr/>
                <p:nvPr/>
              </p:nvSpPr>
              <p:spPr>
                <a:xfrm>
                  <a:off x="4379400" y="4221000"/>
                  <a:ext cx="0" cy="142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Group 50"/>
              <p:cNvGrpSpPr/>
              <p:nvPr/>
            </p:nvGrpSpPr>
            <p:grpSpPr>
              <a:xfrm>
                <a:off x="4370040" y="4221000"/>
                <a:ext cx="1224000" cy="144360"/>
                <a:chOff x="4370040" y="4221000"/>
                <a:chExt cx="1224000" cy="144360"/>
              </a:xfrm>
            </p:grpSpPr>
            <p:sp>
              <p:nvSpPr>
                <p:cNvPr id="455" name="Line 51"/>
                <p:cNvSpPr/>
                <p:nvPr/>
              </p:nvSpPr>
              <p:spPr>
                <a:xfrm>
                  <a:off x="4370040" y="4365360"/>
                  <a:ext cx="1224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Line 52"/>
                <p:cNvSpPr/>
                <p:nvPr/>
              </p:nvSpPr>
              <p:spPr>
                <a:xfrm>
                  <a:off x="4379400" y="4221000"/>
                  <a:ext cx="0" cy="142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Line 53"/>
                <p:cNvSpPr/>
                <p:nvPr/>
              </p:nvSpPr>
              <p:spPr>
                <a:xfrm>
                  <a:off x="5584320" y="4221000"/>
                  <a:ext cx="0" cy="142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8" name="Group 54"/>
            <p:cNvGrpSpPr/>
            <p:nvPr/>
          </p:nvGrpSpPr>
          <p:grpSpPr>
            <a:xfrm>
              <a:off x="1763640" y="4365360"/>
              <a:ext cx="4156200" cy="408240"/>
              <a:chOff x="1763640" y="4365360"/>
              <a:chExt cx="4156200" cy="408240"/>
            </a:xfrm>
          </p:grpSpPr>
          <p:sp>
            <p:nvSpPr>
              <p:cNvPr id="459" name="Text Box 55"/>
              <p:cNvSpPr/>
              <p:nvPr/>
            </p:nvSpPr>
            <p:spPr>
              <a:xfrm>
                <a:off x="1763640" y="437472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Text Box 56"/>
              <p:cNvSpPr/>
              <p:nvPr/>
            </p:nvSpPr>
            <p:spPr>
              <a:xfrm>
                <a:off x="2968560" y="436536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Text Box 57"/>
              <p:cNvSpPr/>
              <p:nvPr/>
            </p:nvSpPr>
            <p:spPr>
              <a:xfrm>
                <a:off x="4192560" y="436536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Text Box 58"/>
              <p:cNvSpPr/>
              <p:nvPr/>
            </p:nvSpPr>
            <p:spPr>
              <a:xfrm>
                <a:off x="5416560" y="4365360"/>
                <a:ext cx="5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3" name="Arc 59"/>
          <p:cNvSpPr/>
          <p:nvPr/>
        </p:nvSpPr>
        <p:spPr>
          <a:xfrm flipV="1" rot="13526400">
            <a:off x="3337560" y="2717640"/>
            <a:ext cx="947880" cy="860400"/>
          </a:xfrm>
          <a:custGeom>
            <a:avLst/>
            <a:gdLst/>
            <a:ahLst/>
            <a:rect l="l" t="t" r="r" b="b"/>
            <a:pathLst>
              <a:path fill="none" w="21600" h="21536">
                <a:moveTo>
                  <a:pt x="1664" y="0"/>
                </a:moveTo>
                <a:cubicBezTo>
                  <a:pt x="12914" y="870"/>
                  <a:pt x="21600" y="10252"/>
                  <a:pt x="21600" y="21536"/>
                </a:cubicBezTo>
              </a:path>
              <a:path stroke="0" w="21600" h="21536">
                <a:moveTo>
                  <a:pt x="1664" y="0"/>
                </a:moveTo>
                <a:cubicBezTo>
                  <a:pt x="12914" y="870"/>
                  <a:pt x="21600" y="10252"/>
                  <a:pt x="21600" y="21536"/>
                </a:cubicBezTo>
                <a:lnTo>
                  <a:pt x="0" y="21536"/>
                </a:lnTo>
                <a:lnTo>
                  <a:pt x="1664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rc 60"/>
          <p:cNvSpPr/>
          <p:nvPr/>
        </p:nvSpPr>
        <p:spPr>
          <a:xfrm flipV="1" rot="12646200">
            <a:off x="2050560" y="1213920"/>
            <a:ext cx="2046240" cy="1206720"/>
          </a:xfrm>
          <a:custGeom>
            <a:avLst/>
            <a:gdLst/>
            <a:ahLst/>
            <a:rect l="l" t="t" r="r" b="b"/>
            <a:pathLst>
              <a:path fill="none" w="21712" h="21600">
                <a:moveTo>
                  <a:pt x="0" y="0"/>
                </a:moveTo>
                <a:cubicBezTo>
                  <a:pt x="37" y="0"/>
                  <a:pt x="74" y="0"/>
                  <a:pt x="112" y="0"/>
                </a:cubicBezTo>
                <a:cubicBezTo>
                  <a:pt x="12041" y="0"/>
                  <a:pt x="21712" y="9670"/>
                  <a:pt x="21712" y="21600"/>
                </a:cubicBezTo>
              </a:path>
              <a:path stroke="0" w="21712" h="21600">
                <a:moveTo>
                  <a:pt x="0" y="0"/>
                </a:moveTo>
                <a:cubicBezTo>
                  <a:pt x="37" y="0"/>
                  <a:pt x="74" y="0"/>
                  <a:pt x="112" y="0"/>
                </a:cubicBezTo>
                <a:cubicBezTo>
                  <a:pt x="12041" y="0"/>
                  <a:pt x="21712" y="9670"/>
                  <a:pt x="21712" y="21600"/>
                </a:cubicBezTo>
                <a:lnTo>
                  <a:pt x="112" y="21600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rc 61"/>
          <p:cNvSpPr/>
          <p:nvPr/>
        </p:nvSpPr>
        <p:spPr>
          <a:xfrm rot="18183000">
            <a:off x="2669040" y="290880"/>
            <a:ext cx="2203560" cy="3294000"/>
          </a:xfrm>
          <a:custGeom>
            <a:avLst/>
            <a:gdLst/>
            <a:ahLst/>
            <a:rect l="l" t="t" r="r" b="b"/>
            <a:pathLst>
              <a:path fill="none" w="21522" h="21517">
                <a:moveTo>
                  <a:pt x="1892" y="0"/>
                </a:moveTo>
                <a:cubicBezTo>
                  <a:pt x="12349" y="919"/>
                  <a:pt x="20630" y="9223"/>
                  <a:pt x="21521" y="19682"/>
                </a:cubicBezTo>
              </a:path>
              <a:path stroke="0" w="21522" h="21517">
                <a:moveTo>
                  <a:pt x="1892" y="0"/>
                </a:moveTo>
                <a:cubicBezTo>
                  <a:pt x="12349" y="919"/>
                  <a:pt x="20630" y="9223"/>
                  <a:pt x="21521" y="19682"/>
                </a:cubicBezTo>
                <a:lnTo>
                  <a:pt x="0" y="21517"/>
                </a:lnTo>
                <a:lnTo>
                  <a:pt x="1892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rc 62"/>
          <p:cNvSpPr/>
          <p:nvPr/>
        </p:nvSpPr>
        <p:spPr>
          <a:xfrm flipV="1" rot="13526400">
            <a:off x="2041200" y="1419120"/>
            <a:ext cx="881280" cy="865080"/>
          </a:xfrm>
          <a:custGeom>
            <a:avLst/>
            <a:gdLst/>
            <a:ahLst/>
            <a:rect l="l" t="t" r="r" b="b"/>
            <a:pathLst>
              <a:path fill="none" w="21600" h="21536">
                <a:moveTo>
                  <a:pt x="1664" y="0"/>
                </a:moveTo>
                <a:cubicBezTo>
                  <a:pt x="12914" y="870"/>
                  <a:pt x="21600" y="10252"/>
                  <a:pt x="21600" y="21536"/>
                </a:cubicBezTo>
              </a:path>
              <a:path stroke="0" w="21600" h="21536">
                <a:moveTo>
                  <a:pt x="1664" y="0"/>
                </a:moveTo>
                <a:cubicBezTo>
                  <a:pt x="12914" y="870"/>
                  <a:pt x="21600" y="10252"/>
                  <a:pt x="21600" y="21536"/>
                </a:cubicBezTo>
                <a:lnTo>
                  <a:pt x="0" y="21536"/>
                </a:lnTo>
                <a:lnTo>
                  <a:pt x="1664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rc 63"/>
          <p:cNvSpPr/>
          <p:nvPr/>
        </p:nvSpPr>
        <p:spPr>
          <a:xfrm flipV="1" rot="13494600">
            <a:off x="3490560" y="2375640"/>
            <a:ext cx="1933560" cy="1671840"/>
          </a:xfrm>
          <a:custGeom>
            <a:avLst/>
            <a:gdLst/>
            <a:ahLst/>
            <a:rect l="l" t="t" r="r" b="b"/>
            <a:pathLst>
              <a:path fill="none" w="21600" h="21444">
                <a:moveTo>
                  <a:pt x="2589" y="-1"/>
                </a:moveTo>
                <a:cubicBezTo>
                  <a:pt x="13438" y="1309"/>
                  <a:pt x="21600" y="10516"/>
                  <a:pt x="21600" y="21444"/>
                </a:cubicBezTo>
              </a:path>
              <a:path stroke="0" w="21600" h="21444">
                <a:moveTo>
                  <a:pt x="2589" y="-1"/>
                </a:moveTo>
                <a:cubicBezTo>
                  <a:pt x="13438" y="1309"/>
                  <a:pt x="21600" y="10516"/>
                  <a:pt x="21600" y="21444"/>
                </a:cubicBezTo>
                <a:lnTo>
                  <a:pt x="0" y="21444"/>
                </a:lnTo>
                <a:lnTo>
                  <a:pt x="2589" y="-1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rc 64"/>
          <p:cNvSpPr/>
          <p:nvPr/>
        </p:nvSpPr>
        <p:spPr>
          <a:xfrm flipV="1" rot="13564200">
            <a:off x="4552560" y="3830040"/>
            <a:ext cx="919080" cy="837000"/>
          </a:xfrm>
          <a:custGeom>
            <a:avLst/>
            <a:gdLst/>
            <a:ahLst/>
            <a:rect l="l" t="t" r="r" b="b"/>
            <a:pathLst>
              <a:path fill="none" w="21600" h="21536">
                <a:moveTo>
                  <a:pt x="1664" y="0"/>
                </a:moveTo>
                <a:cubicBezTo>
                  <a:pt x="12914" y="870"/>
                  <a:pt x="21600" y="10252"/>
                  <a:pt x="21600" y="21536"/>
                </a:cubicBezTo>
              </a:path>
              <a:path stroke="0" w="21600" h="21536">
                <a:moveTo>
                  <a:pt x="1664" y="0"/>
                </a:moveTo>
                <a:cubicBezTo>
                  <a:pt x="12914" y="870"/>
                  <a:pt x="21600" y="10252"/>
                  <a:pt x="21600" y="21536"/>
                </a:cubicBezTo>
                <a:lnTo>
                  <a:pt x="0" y="21536"/>
                </a:lnTo>
                <a:lnTo>
                  <a:pt x="1664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rc 65"/>
          <p:cNvSpPr/>
          <p:nvPr/>
        </p:nvSpPr>
        <p:spPr>
          <a:xfrm flipV="1" rot="13526400">
            <a:off x="2142360" y="2561040"/>
            <a:ext cx="874800" cy="860400"/>
          </a:xfrm>
          <a:custGeom>
            <a:avLst/>
            <a:gdLst/>
            <a:ahLst/>
            <a:rect l="l" t="t" r="r" b="b"/>
            <a:pathLst>
              <a:path fill="none" w="21600" h="21536">
                <a:moveTo>
                  <a:pt x="1664" y="0"/>
                </a:moveTo>
                <a:cubicBezTo>
                  <a:pt x="12914" y="870"/>
                  <a:pt x="21600" y="10252"/>
                  <a:pt x="21600" y="21536"/>
                </a:cubicBezTo>
              </a:path>
              <a:path stroke="0" w="21600" h="21536">
                <a:moveTo>
                  <a:pt x="1664" y="0"/>
                </a:moveTo>
                <a:cubicBezTo>
                  <a:pt x="12914" y="870"/>
                  <a:pt x="21600" y="10252"/>
                  <a:pt x="21600" y="21536"/>
                </a:cubicBezTo>
                <a:lnTo>
                  <a:pt x="0" y="21536"/>
                </a:lnTo>
                <a:lnTo>
                  <a:pt x="1664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rc 66"/>
          <p:cNvSpPr/>
          <p:nvPr/>
        </p:nvSpPr>
        <p:spPr>
          <a:xfrm flipV="1" rot="13564200">
            <a:off x="3306240" y="3830040"/>
            <a:ext cx="919080" cy="837000"/>
          </a:xfrm>
          <a:custGeom>
            <a:avLst/>
            <a:gdLst/>
            <a:ahLst/>
            <a:rect l="l" t="t" r="r" b="b"/>
            <a:pathLst>
              <a:path fill="none" w="21600" h="21536">
                <a:moveTo>
                  <a:pt x="1664" y="0"/>
                </a:moveTo>
                <a:cubicBezTo>
                  <a:pt x="12914" y="870"/>
                  <a:pt x="21600" y="10252"/>
                  <a:pt x="21600" y="21536"/>
                </a:cubicBezTo>
              </a:path>
              <a:path stroke="0" w="21600" h="21536">
                <a:moveTo>
                  <a:pt x="1664" y="0"/>
                </a:moveTo>
                <a:cubicBezTo>
                  <a:pt x="12914" y="870"/>
                  <a:pt x="21600" y="10252"/>
                  <a:pt x="21600" y="21536"/>
                </a:cubicBezTo>
                <a:lnTo>
                  <a:pt x="0" y="21536"/>
                </a:lnTo>
                <a:lnTo>
                  <a:pt x="1664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rc 67"/>
          <p:cNvSpPr/>
          <p:nvPr/>
        </p:nvSpPr>
        <p:spPr>
          <a:xfrm flipV="1" rot="13564200">
            <a:off x="2321640" y="3425760"/>
            <a:ext cx="1782720" cy="1726920"/>
          </a:xfrm>
          <a:custGeom>
            <a:avLst/>
            <a:gdLst/>
            <a:ahLst/>
            <a:rect l="l" t="t" r="r" b="b"/>
            <a:pathLst>
              <a:path fill="none" w="21600" h="21536">
                <a:moveTo>
                  <a:pt x="1664" y="0"/>
                </a:moveTo>
                <a:cubicBezTo>
                  <a:pt x="12914" y="870"/>
                  <a:pt x="21600" y="10252"/>
                  <a:pt x="21600" y="21536"/>
                </a:cubicBezTo>
              </a:path>
              <a:path stroke="0" w="21600" h="21536">
                <a:moveTo>
                  <a:pt x="1664" y="0"/>
                </a:moveTo>
                <a:cubicBezTo>
                  <a:pt x="12914" y="870"/>
                  <a:pt x="21600" y="10252"/>
                  <a:pt x="21600" y="21536"/>
                </a:cubicBezTo>
                <a:lnTo>
                  <a:pt x="0" y="21536"/>
                </a:lnTo>
                <a:lnTo>
                  <a:pt x="1664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68"/>
          <p:cNvGrpSpPr/>
          <p:nvPr/>
        </p:nvGrpSpPr>
        <p:grpSpPr>
          <a:xfrm>
            <a:off x="1763640" y="5516640"/>
            <a:ext cx="4156200" cy="552600"/>
            <a:chOff x="1763640" y="5516640"/>
            <a:chExt cx="4156200" cy="552600"/>
          </a:xfrm>
        </p:grpSpPr>
        <p:grpSp>
          <p:nvGrpSpPr>
            <p:cNvPr id="473" name="Group 69"/>
            <p:cNvGrpSpPr/>
            <p:nvPr/>
          </p:nvGrpSpPr>
          <p:grpSpPr>
            <a:xfrm>
              <a:off x="1950840" y="5516640"/>
              <a:ext cx="3643200" cy="144360"/>
              <a:chOff x="1950840" y="5516640"/>
              <a:chExt cx="3643200" cy="144360"/>
            </a:xfrm>
          </p:grpSpPr>
          <p:grpSp>
            <p:nvGrpSpPr>
              <p:cNvPr id="474" name="Group 70"/>
              <p:cNvGrpSpPr/>
              <p:nvPr/>
            </p:nvGrpSpPr>
            <p:grpSpPr>
              <a:xfrm>
                <a:off x="1950840" y="5516640"/>
                <a:ext cx="1224000" cy="144360"/>
                <a:chOff x="1950840" y="5516640"/>
                <a:chExt cx="1224000" cy="144360"/>
              </a:xfrm>
            </p:grpSpPr>
            <p:sp>
              <p:nvSpPr>
                <p:cNvPr id="475" name="Line 71"/>
                <p:cNvSpPr/>
                <p:nvPr/>
              </p:nvSpPr>
              <p:spPr>
                <a:xfrm>
                  <a:off x="1950840" y="5661000"/>
                  <a:ext cx="1224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Line 72"/>
                <p:cNvSpPr/>
                <p:nvPr/>
              </p:nvSpPr>
              <p:spPr>
                <a:xfrm>
                  <a:off x="1960200" y="5516640"/>
                  <a:ext cx="0" cy="142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Line 73"/>
                <p:cNvSpPr/>
                <p:nvPr/>
              </p:nvSpPr>
              <p:spPr>
                <a:xfrm>
                  <a:off x="3165120" y="5516640"/>
                  <a:ext cx="0" cy="142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74"/>
              <p:cNvGrpSpPr/>
              <p:nvPr/>
            </p:nvGrpSpPr>
            <p:grpSpPr>
              <a:xfrm>
                <a:off x="3165120" y="5516640"/>
                <a:ext cx="1224000" cy="144360"/>
                <a:chOff x="3165120" y="5516640"/>
                <a:chExt cx="1224000" cy="144360"/>
              </a:xfrm>
            </p:grpSpPr>
            <p:sp>
              <p:nvSpPr>
                <p:cNvPr id="479" name="Line 75"/>
                <p:cNvSpPr/>
                <p:nvPr/>
              </p:nvSpPr>
              <p:spPr>
                <a:xfrm>
                  <a:off x="3165120" y="5661000"/>
                  <a:ext cx="1224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Line 76"/>
                <p:cNvSpPr/>
                <p:nvPr/>
              </p:nvSpPr>
              <p:spPr>
                <a:xfrm>
                  <a:off x="3174480" y="5516640"/>
                  <a:ext cx="0" cy="142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Line 77"/>
                <p:cNvSpPr/>
                <p:nvPr/>
              </p:nvSpPr>
              <p:spPr>
                <a:xfrm>
                  <a:off x="4379400" y="5516640"/>
                  <a:ext cx="0" cy="142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Group 78"/>
              <p:cNvGrpSpPr/>
              <p:nvPr/>
            </p:nvGrpSpPr>
            <p:grpSpPr>
              <a:xfrm>
                <a:off x="4370040" y="5516640"/>
                <a:ext cx="1224000" cy="144360"/>
                <a:chOff x="4370040" y="5516640"/>
                <a:chExt cx="1224000" cy="144360"/>
              </a:xfrm>
            </p:grpSpPr>
            <p:sp>
              <p:nvSpPr>
                <p:cNvPr id="483" name="Line 79"/>
                <p:cNvSpPr/>
                <p:nvPr/>
              </p:nvSpPr>
              <p:spPr>
                <a:xfrm>
                  <a:off x="4370040" y="5661000"/>
                  <a:ext cx="1224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Line 80"/>
                <p:cNvSpPr/>
                <p:nvPr/>
              </p:nvSpPr>
              <p:spPr>
                <a:xfrm>
                  <a:off x="4379400" y="5516640"/>
                  <a:ext cx="0" cy="142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Line 81"/>
                <p:cNvSpPr/>
                <p:nvPr/>
              </p:nvSpPr>
              <p:spPr>
                <a:xfrm>
                  <a:off x="5584320" y="5516640"/>
                  <a:ext cx="0" cy="142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6" name="Group 82"/>
            <p:cNvGrpSpPr/>
            <p:nvPr/>
          </p:nvGrpSpPr>
          <p:grpSpPr>
            <a:xfrm>
              <a:off x="1763640" y="5661000"/>
              <a:ext cx="4156200" cy="408240"/>
              <a:chOff x="1763640" y="5661000"/>
              <a:chExt cx="4156200" cy="408240"/>
            </a:xfrm>
          </p:grpSpPr>
          <p:sp>
            <p:nvSpPr>
              <p:cNvPr id="487" name="Text Box 83"/>
              <p:cNvSpPr/>
              <p:nvPr/>
            </p:nvSpPr>
            <p:spPr>
              <a:xfrm>
                <a:off x="1763640" y="567036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Text Box 84"/>
              <p:cNvSpPr/>
              <p:nvPr/>
            </p:nvSpPr>
            <p:spPr>
              <a:xfrm>
                <a:off x="2968560" y="566100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Text Box 85"/>
              <p:cNvSpPr/>
              <p:nvPr/>
            </p:nvSpPr>
            <p:spPr>
              <a:xfrm>
                <a:off x="4192560" y="566100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Text Box 86"/>
              <p:cNvSpPr/>
              <p:nvPr/>
            </p:nvSpPr>
            <p:spPr>
              <a:xfrm>
                <a:off x="5416560" y="5661000"/>
                <a:ext cx="5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1" name="Arc 87"/>
          <p:cNvSpPr/>
          <p:nvPr/>
        </p:nvSpPr>
        <p:spPr>
          <a:xfrm flipV="1" rot="13564200">
            <a:off x="4539600" y="5098680"/>
            <a:ext cx="919080" cy="855720"/>
          </a:xfrm>
          <a:custGeom>
            <a:avLst/>
            <a:gdLst/>
            <a:ahLst/>
            <a:rect l="l" t="t" r="r" b="b"/>
            <a:pathLst>
              <a:path fill="none" w="21600" h="22040">
                <a:moveTo>
                  <a:pt x="1664" y="0"/>
                </a:moveTo>
                <a:cubicBezTo>
                  <a:pt x="12914" y="870"/>
                  <a:pt x="21600" y="10252"/>
                  <a:pt x="21600" y="21536"/>
                </a:cubicBezTo>
                <a:cubicBezTo>
                  <a:pt x="21600" y="21704"/>
                  <a:pt x="21598" y="21872"/>
                  <a:pt x="21594" y="22040"/>
                </a:cubicBezTo>
              </a:path>
              <a:path stroke="0" w="21600" h="22040">
                <a:moveTo>
                  <a:pt x="1664" y="0"/>
                </a:moveTo>
                <a:cubicBezTo>
                  <a:pt x="12914" y="870"/>
                  <a:pt x="21600" y="10252"/>
                  <a:pt x="21600" y="21536"/>
                </a:cubicBezTo>
                <a:cubicBezTo>
                  <a:pt x="21600" y="21704"/>
                  <a:pt x="21598" y="21872"/>
                  <a:pt x="21594" y="22040"/>
                </a:cubicBezTo>
                <a:lnTo>
                  <a:pt x="0" y="21536"/>
                </a:lnTo>
                <a:lnTo>
                  <a:pt x="1664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rc 88"/>
          <p:cNvSpPr/>
          <p:nvPr/>
        </p:nvSpPr>
        <p:spPr>
          <a:xfrm flipV="1" rot="13564200">
            <a:off x="3533040" y="4662000"/>
            <a:ext cx="1660680" cy="1791000"/>
          </a:xfrm>
          <a:custGeom>
            <a:avLst/>
            <a:gdLst/>
            <a:ahLst/>
            <a:rect l="l" t="t" r="r" b="b"/>
            <a:pathLst>
              <a:path fill="none" w="21600" h="22329">
                <a:moveTo>
                  <a:pt x="1664" y="0"/>
                </a:moveTo>
                <a:cubicBezTo>
                  <a:pt x="12914" y="870"/>
                  <a:pt x="21600" y="10252"/>
                  <a:pt x="21600" y="21536"/>
                </a:cubicBezTo>
                <a:cubicBezTo>
                  <a:pt x="21600" y="21800"/>
                  <a:pt x="21595" y="22064"/>
                  <a:pt x="21585" y="22329"/>
                </a:cubicBezTo>
              </a:path>
              <a:path stroke="0" w="21600" h="22329">
                <a:moveTo>
                  <a:pt x="1664" y="0"/>
                </a:moveTo>
                <a:cubicBezTo>
                  <a:pt x="12914" y="870"/>
                  <a:pt x="21600" y="10252"/>
                  <a:pt x="21600" y="21536"/>
                </a:cubicBezTo>
                <a:cubicBezTo>
                  <a:pt x="21600" y="21800"/>
                  <a:pt x="21595" y="22064"/>
                  <a:pt x="21585" y="22329"/>
                </a:cubicBezTo>
                <a:lnTo>
                  <a:pt x="0" y="21536"/>
                </a:lnTo>
                <a:lnTo>
                  <a:pt x="1664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rc 89"/>
          <p:cNvSpPr/>
          <p:nvPr/>
        </p:nvSpPr>
        <p:spPr>
          <a:xfrm flipV="1" rot="13564200">
            <a:off x="2481480" y="4260600"/>
            <a:ext cx="2637000" cy="2606760"/>
          </a:xfrm>
          <a:custGeom>
            <a:avLst/>
            <a:gdLst/>
            <a:ahLst/>
            <a:rect l="l" t="t" r="r" b="b"/>
            <a:pathLst>
              <a:path fill="none" w="21600" h="21536">
                <a:moveTo>
                  <a:pt x="1664" y="0"/>
                </a:moveTo>
                <a:cubicBezTo>
                  <a:pt x="12914" y="870"/>
                  <a:pt x="21600" y="10252"/>
                  <a:pt x="21600" y="21536"/>
                </a:cubicBezTo>
              </a:path>
              <a:path stroke="0" w="21600" h="21536">
                <a:moveTo>
                  <a:pt x="1664" y="0"/>
                </a:moveTo>
                <a:cubicBezTo>
                  <a:pt x="12914" y="870"/>
                  <a:pt x="21600" y="10252"/>
                  <a:pt x="21600" y="21536"/>
                </a:cubicBezTo>
                <a:lnTo>
                  <a:pt x="0" y="21536"/>
                </a:lnTo>
                <a:lnTo>
                  <a:pt x="1664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90">
            <a:hlinkClick r:id="rId1" action="ppaction://hlinksldjump"/>
          </p:cNvPr>
          <p:cNvSpPr/>
          <p:nvPr/>
        </p:nvSpPr>
        <p:spPr>
          <a:xfrm>
            <a:off x="7667640" y="5877000"/>
            <a:ext cx="576360" cy="360360"/>
          </a:xfrm>
          <a:custGeom>
            <a:avLst/>
            <a:gdLst>
              <a:gd name="textAreaLeft" fmla="*/ 100800 w 576360"/>
              <a:gd name="textAreaRight" fmla="*/ 417960 w 576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91"/>
          <p:cNvSpPr/>
          <p:nvPr/>
        </p:nvSpPr>
        <p:spPr>
          <a:xfrm>
            <a:off x="6016680" y="314172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×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92"/>
          <p:cNvSpPr/>
          <p:nvPr/>
        </p:nvSpPr>
        <p:spPr>
          <a:xfrm>
            <a:off x="6732720" y="3141720"/>
            <a:ext cx="24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÷2 = 6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3"/>
          <p:cNvGrpSpPr/>
          <p:nvPr/>
        </p:nvGrpSpPr>
        <p:grpSpPr>
          <a:xfrm>
            <a:off x="0" y="1268280"/>
            <a:ext cx="9144000" cy="4681440"/>
            <a:chOff x="0" y="1268280"/>
            <a:chExt cx="9144000" cy="4681440"/>
          </a:xfrm>
        </p:grpSpPr>
        <p:pic>
          <p:nvPicPr>
            <p:cNvPr id="126" name="Picture 4" descr="QQ图片20140930152537"/>
            <p:cNvPicPr/>
            <p:nvPr/>
          </p:nvPicPr>
          <p:blipFill>
            <a:blip r:embed="rId1"/>
            <a:stretch/>
          </p:blipFill>
          <p:spPr>
            <a:xfrm>
              <a:off x="0" y="1268280"/>
              <a:ext cx="9144000" cy="46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ctangle 5"/>
            <p:cNvSpPr/>
            <p:nvPr/>
          </p:nvSpPr>
          <p:spPr>
            <a:xfrm>
              <a:off x="1619280" y="1412640"/>
              <a:ext cx="453708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1"/>
          <p:cNvGrpSpPr/>
          <p:nvPr/>
        </p:nvGrpSpPr>
        <p:grpSpPr>
          <a:xfrm>
            <a:off x="1332000" y="260280"/>
            <a:ext cx="7416360" cy="1368360"/>
            <a:chOff x="1332000" y="260280"/>
            <a:chExt cx="7416360" cy="1368360"/>
          </a:xfrm>
        </p:grpSpPr>
        <p:sp>
          <p:nvSpPr>
            <p:cNvPr id="130" name="AutoShape 9"/>
            <p:cNvSpPr/>
            <p:nvPr/>
          </p:nvSpPr>
          <p:spPr>
            <a:xfrm>
              <a:off x="1332000" y="260280"/>
              <a:ext cx="7416360" cy="1368360"/>
            </a:xfrm>
            <a:prstGeom prst="wedgeEllipseCallout">
              <a:avLst>
                <a:gd name="adj1" fmla="val -37875"/>
                <a:gd name="adj2" fmla="val 574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0"/>
            <p:cNvSpPr/>
            <p:nvPr/>
          </p:nvSpPr>
          <p:spPr>
            <a:xfrm>
              <a:off x="1794960" y="419040"/>
              <a:ext cx="656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我任选一个洞口进入，向前走，再任选一个洞口钻出来。我可能会怎么钻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10"/>
          <p:cNvSpPr/>
          <p:nvPr/>
        </p:nvSpPr>
        <p:spPr>
          <a:xfrm>
            <a:off x="-22320" y="2602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钻洞游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3780000" y="4221000"/>
            <a:ext cx="720720" cy="216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2363400" y="544500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你能用什么表示洞口，用什么表示地道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1403280" y="3214800"/>
            <a:ext cx="144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5651640" y="907920"/>
            <a:ext cx="12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WordArt 15" descr=""/>
          <p:cNvPicPr/>
          <p:nvPr/>
        </p:nvPicPr>
        <p:blipFill>
          <a:blip r:embed="rId2"/>
          <a:stretch/>
        </p:blipFill>
        <p:spPr>
          <a:xfrm>
            <a:off x="0" y="4748040"/>
            <a:ext cx="1932120" cy="9144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6"/>
          <p:cNvSpPr/>
          <p:nvPr/>
        </p:nvSpPr>
        <p:spPr>
          <a:xfrm>
            <a:off x="539640" y="2133720"/>
            <a:ext cx="1079640" cy="14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7" descr="mole1"/>
          <p:cNvPicPr/>
          <p:nvPr/>
        </p:nvPicPr>
        <p:blipFill>
          <a:blip r:embed="rId3"/>
          <a:stretch/>
        </p:blipFill>
        <p:spPr>
          <a:xfrm>
            <a:off x="103320" y="404640"/>
            <a:ext cx="11221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73988E-006 L 0.00226 0.25156 E">
                                      <p:cBhvr>
                                        <p:cTn id="6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图片1"/>
          <p:cNvPicPr/>
          <p:nvPr/>
        </p:nvPicPr>
        <p:blipFill>
          <a:blip r:embed="rId1"/>
          <a:stretch/>
        </p:blipFill>
        <p:spPr>
          <a:xfrm>
            <a:off x="36360" y="-93600"/>
            <a:ext cx="9176040" cy="730404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3"/>
          <p:cNvGrpSpPr/>
          <p:nvPr/>
        </p:nvGrpSpPr>
        <p:grpSpPr>
          <a:xfrm>
            <a:off x="1763640" y="2708640"/>
            <a:ext cx="4156200" cy="3643560"/>
            <a:chOff x="1763640" y="2708640"/>
            <a:chExt cx="4156200" cy="3643560"/>
          </a:xfrm>
        </p:grpSpPr>
        <p:grpSp>
          <p:nvGrpSpPr>
            <p:cNvPr id="142" name="Group 4"/>
            <p:cNvGrpSpPr/>
            <p:nvPr/>
          </p:nvGrpSpPr>
          <p:grpSpPr>
            <a:xfrm>
              <a:off x="1763640" y="4241880"/>
              <a:ext cx="4156200" cy="552600"/>
              <a:chOff x="1763640" y="4241880"/>
              <a:chExt cx="4156200" cy="552600"/>
            </a:xfrm>
          </p:grpSpPr>
          <p:grpSp>
            <p:nvGrpSpPr>
              <p:cNvPr id="143" name="Group 5"/>
              <p:cNvGrpSpPr/>
              <p:nvPr/>
            </p:nvGrpSpPr>
            <p:grpSpPr>
              <a:xfrm>
                <a:off x="1950840" y="4241880"/>
                <a:ext cx="3643200" cy="144360"/>
                <a:chOff x="1950840" y="4241880"/>
                <a:chExt cx="3643200" cy="144360"/>
              </a:xfrm>
            </p:grpSpPr>
            <p:grpSp>
              <p:nvGrpSpPr>
                <p:cNvPr id="144" name="Group 6"/>
                <p:cNvGrpSpPr/>
                <p:nvPr/>
              </p:nvGrpSpPr>
              <p:grpSpPr>
                <a:xfrm>
                  <a:off x="1950840" y="4241880"/>
                  <a:ext cx="1224000" cy="144360"/>
                  <a:chOff x="1950840" y="4241880"/>
                  <a:chExt cx="1224000" cy="144360"/>
                </a:xfrm>
              </p:grpSpPr>
              <p:sp>
                <p:nvSpPr>
                  <p:cNvPr id="145" name="Line 7"/>
                  <p:cNvSpPr/>
                  <p:nvPr/>
                </p:nvSpPr>
                <p:spPr>
                  <a:xfrm>
                    <a:off x="1950840" y="4386240"/>
                    <a:ext cx="12240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8"/>
                  <p:cNvSpPr/>
                  <p:nvPr/>
                </p:nvSpPr>
                <p:spPr>
                  <a:xfrm>
                    <a:off x="1960200" y="4241880"/>
                    <a:ext cx="0" cy="142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9"/>
                  <p:cNvSpPr/>
                  <p:nvPr/>
                </p:nvSpPr>
                <p:spPr>
                  <a:xfrm>
                    <a:off x="3165120" y="4241880"/>
                    <a:ext cx="0" cy="142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"/>
                <p:cNvGrpSpPr/>
                <p:nvPr/>
              </p:nvGrpSpPr>
              <p:grpSpPr>
                <a:xfrm>
                  <a:off x="3165120" y="4241880"/>
                  <a:ext cx="1224000" cy="144360"/>
                  <a:chOff x="3165120" y="4241880"/>
                  <a:chExt cx="1224000" cy="144360"/>
                </a:xfrm>
              </p:grpSpPr>
              <p:sp>
                <p:nvSpPr>
                  <p:cNvPr id="149" name="Line 11"/>
                  <p:cNvSpPr/>
                  <p:nvPr/>
                </p:nvSpPr>
                <p:spPr>
                  <a:xfrm>
                    <a:off x="3165120" y="4386240"/>
                    <a:ext cx="12240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12"/>
                  <p:cNvSpPr/>
                  <p:nvPr/>
                </p:nvSpPr>
                <p:spPr>
                  <a:xfrm>
                    <a:off x="3174480" y="4241880"/>
                    <a:ext cx="0" cy="142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13"/>
                  <p:cNvSpPr/>
                  <p:nvPr/>
                </p:nvSpPr>
                <p:spPr>
                  <a:xfrm>
                    <a:off x="4379400" y="4241880"/>
                    <a:ext cx="0" cy="142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Group 14"/>
                <p:cNvGrpSpPr/>
                <p:nvPr/>
              </p:nvGrpSpPr>
              <p:grpSpPr>
                <a:xfrm>
                  <a:off x="4370040" y="4241880"/>
                  <a:ext cx="1224000" cy="144360"/>
                  <a:chOff x="4370040" y="4241880"/>
                  <a:chExt cx="1224000" cy="144360"/>
                </a:xfrm>
              </p:grpSpPr>
              <p:sp>
                <p:nvSpPr>
                  <p:cNvPr id="153" name="Line 15"/>
                  <p:cNvSpPr/>
                  <p:nvPr/>
                </p:nvSpPr>
                <p:spPr>
                  <a:xfrm>
                    <a:off x="4370040" y="4386240"/>
                    <a:ext cx="12240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16"/>
                  <p:cNvSpPr/>
                  <p:nvPr/>
                </p:nvSpPr>
                <p:spPr>
                  <a:xfrm>
                    <a:off x="4379400" y="4241880"/>
                    <a:ext cx="0" cy="142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Line 17"/>
                  <p:cNvSpPr/>
                  <p:nvPr/>
                </p:nvSpPr>
                <p:spPr>
                  <a:xfrm>
                    <a:off x="5584320" y="4241880"/>
                    <a:ext cx="0" cy="142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6" name="Group 18"/>
              <p:cNvGrpSpPr/>
              <p:nvPr/>
            </p:nvGrpSpPr>
            <p:grpSpPr>
              <a:xfrm>
                <a:off x="1763640" y="4386240"/>
                <a:ext cx="4156200" cy="408240"/>
                <a:chOff x="1763640" y="4386240"/>
                <a:chExt cx="4156200" cy="408240"/>
              </a:xfrm>
            </p:grpSpPr>
            <p:sp>
              <p:nvSpPr>
                <p:cNvPr id="157" name="Text Box 19"/>
                <p:cNvSpPr/>
                <p:nvPr/>
              </p:nvSpPr>
              <p:spPr>
                <a:xfrm>
                  <a:off x="1763640" y="4395600"/>
                  <a:ext cx="504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Text Box 20"/>
                <p:cNvSpPr/>
                <p:nvPr/>
              </p:nvSpPr>
              <p:spPr>
                <a:xfrm>
                  <a:off x="2968560" y="4386240"/>
                  <a:ext cx="504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21"/>
                <p:cNvSpPr/>
                <p:nvPr/>
              </p:nvSpPr>
              <p:spPr>
                <a:xfrm>
                  <a:off x="4192560" y="4386240"/>
                  <a:ext cx="504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22"/>
                <p:cNvSpPr/>
                <p:nvPr/>
              </p:nvSpPr>
              <p:spPr>
                <a:xfrm>
                  <a:off x="5416560" y="4386240"/>
                  <a:ext cx="50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" name="Arc 23"/>
            <p:cNvSpPr/>
            <p:nvPr/>
          </p:nvSpPr>
          <p:spPr>
            <a:xfrm flipV="1" rot="13526400">
              <a:off x="3310920" y="3970800"/>
              <a:ext cx="947520" cy="860400"/>
            </a:xfrm>
            <a:custGeom>
              <a:avLst/>
              <a:gdLst/>
              <a:ahLst/>
              <a:rect l="l" t="t" r="r" b="b"/>
              <a:pathLst>
                <a:path fill="none" w="21600" h="21536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</a:path>
                <a:path stroke="0" w="21600" h="21536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  <a:lnTo>
                    <a:pt x="0" y="21536"/>
                  </a:lnTo>
                  <a:lnTo>
                    <a:pt x="1664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rc 24"/>
            <p:cNvSpPr/>
            <p:nvPr/>
          </p:nvSpPr>
          <p:spPr>
            <a:xfrm flipV="1" rot="12646200">
              <a:off x="2149200" y="3766680"/>
              <a:ext cx="2046240" cy="1206720"/>
            </a:xfrm>
            <a:custGeom>
              <a:avLst/>
              <a:gdLst/>
              <a:ahLst/>
              <a:rect l="l" t="t" r="r" b="b"/>
              <a:pathLst>
                <a:path fill="none" w="21712" h="21600">
                  <a:moveTo>
                    <a:pt x="0" y="0"/>
                  </a:moveTo>
                  <a:cubicBezTo>
                    <a:pt x="37" y="0"/>
                    <a:pt x="74" y="0"/>
                    <a:pt x="112" y="0"/>
                  </a:cubicBezTo>
                  <a:cubicBezTo>
                    <a:pt x="12041" y="0"/>
                    <a:pt x="21712" y="9670"/>
                    <a:pt x="21712" y="21600"/>
                  </a:cubicBezTo>
                </a:path>
                <a:path stroke="0" w="21712" h="21600">
                  <a:moveTo>
                    <a:pt x="0" y="0"/>
                  </a:moveTo>
                  <a:cubicBezTo>
                    <a:pt x="37" y="0"/>
                    <a:pt x="74" y="0"/>
                    <a:pt x="112" y="0"/>
                  </a:cubicBezTo>
                  <a:cubicBezTo>
                    <a:pt x="12041" y="0"/>
                    <a:pt x="21712" y="9670"/>
                    <a:pt x="21712" y="21600"/>
                  </a:cubicBezTo>
                  <a:lnTo>
                    <a:pt x="112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rc 25"/>
            <p:cNvSpPr/>
            <p:nvPr/>
          </p:nvSpPr>
          <p:spPr>
            <a:xfrm rot="18183000">
              <a:off x="2700720" y="2883240"/>
              <a:ext cx="2203560" cy="3294000"/>
            </a:xfrm>
            <a:custGeom>
              <a:avLst/>
              <a:gdLst/>
              <a:ahLst/>
              <a:rect l="l" t="t" r="r" b="b"/>
              <a:pathLst>
                <a:path fill="none" w="21522" h="21517">
                  <a:moveTo>
                    <a:pt x="1892" y="0"/>
                  </a:moveTo>
                  <a:cubicBezTo>
                    <a:pt x="12349" y="919"/>
                    <a:pt x="20630" y="9223"/>
                    <a:pt x="21521" y="19682"/>
                  </a:cubicBezTo>
                </a:path>
                <a:path stroke="0" w="21522" h="21517">
                  <a:moveTo>
                    <a:pt x="1892" y="0"/>
                  </a:moveTo>
                  <a:cubicBezTo>
                    <a:pt x="12349" y="919"/>
                    <a:pt x="20630" y="9223"/>
                    <a:pt x="21521" y="19682"/>
                  </a:cubicBezTo>
                  <a:lnTo>
                    <a:pt x="0" y="21517"/>
                  </a:lnTo>
                  <a:lnTo>
                    <a:pt x="1892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rc 26"/>
            <p:cNvSpPr/>
            <p:nvPr/>
          </p:nvSpPr>
          <p:spPr>
            <a:xfrm flipV="1" rot="13526400">
              <a:off x="2133720" y="3942000"/>
              <a:ext cx="881280" cy="863640"/>
            </a:xfrm>
            <a:custGeom>
              <a:avLst/>
              <a:gdLst/>
              <a:ahLst/>
              <a:rect l="l" t="t" r="r" b="b"/>
              <a:pathLst>
                <a:path fill="none" w="21600" h="21536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</a:path>
                <a:path stroke="0" w="21600" h="21536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  <a:lnTo>
                    <a:pt x="0" y="21536"/>
                  </a:lnTo>
                  <a:lnTo>
                    <a:pt x="1664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rc 27"/>
            <p:cNvSpPr/>
            <p:nvPr/>
          </p:nvSpPr>
          <p:spPr>
            <a:xfrm flipV="1" rot="13494600">
              <a:off x="3447360" y="3606480"/>
              <a:ext cx="1933560" cy="1671480"/>
            </a:xfrm>
            <a:custGeom>
              <a:avLst/>
              <a:gdLst/>
              <a:ahLst/>
              <a:rect l="l" t="t" r="r" b="b"/>
              <a:pathLst>
                <a:path fill="none" w="21600" h="21444">
                  <a:moveTo>
                    <a:pt x="2589" y="-1"/>
                  </a:moveTo>
                  <a:cubicBezTo>
                    <a:pt x="13438" y="1309"/>
                    <a:pt x="21600" y="10516"/>
                    <a:pt x="21600" y="21444"/>
                  </a:cubicBezTo>
                </a:path>
                <a:path stroke="0" w="21600" h="21444">
                  <a:moveTo>
                    <a:pt x="2589" y="-1"/>
                  </a:moveTo>
                  <a:cubicBezTo>
                    <a:pt x="13438" y="1309"/>
                    <a:pt x="21600" y="10516"/>
                    <a:pt x="21600" y="21444"/>
                  </a:cubicBezTo>
                  <a:lnTo>
                    <a:pt x="0" y="21444"/>
                  </a:lnTo>
                  <a:lnTo>
                    <a:pt x="2589" y="-1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rc 28"/>
            <p:cNvSpPr/>
            <p:nvPr/>
          </p:nvSpPr>
          <p:spPr>
            <a:xfrm flipV="1" rot="13564200">
              <a:off x="4533480" y="3968280"/>
              <a:ext cx="919080" cy="837000"/>
            </a:xfrm>
            <a:custGeom>
              <a:avLst/>
              <a:gdLst/>
              <a:ahLst/>
              <a:rect l="l" t="t" r="r" b="b"/>
              <a:pathLst>
                <a:path fill="none" w="21600" h="21536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</a:path>
                <a:path stroke="0" w="21600" h="21536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  <a:lnTo>
                    <a:pt x="0" y="21536"/>
                  </a:lnTo>
                  <a:lnTo>
                    <a:pt x="1664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29"/>
          <p:cNvGrpSpPr/>
          <p:nvPr/>
        </p:nvGrpSpPr>
        <p:grpSpPr>
          <a:xfrm>
            <a:off x="5581800" y="4221000"/>
            <a:ext cx="1377360" cy="540720"/>
            <a:chOff x="5581800" y="4221000"/>
            <a:chExt cx="1377360" cy="540720"/>
          </a:xfrm>
        </p:grpSpPr>
        <p:grpSp>
          <p:nvGrpSpPr>
            <p:cNvPr id="168" name="Group 30"/>
            <p:cNvGrpSpPr/>
            <p:nvPr/>
          </p:nvGrpSpPr>
          <p:grpSpPr>
            <a:xfrm>
              <a:off x="5581800" y="4221000"/>
              <a:ext cx="1078200" cy="144360"/>
              <a:chOff x="5581800" y="4221000"/>
              <a:chExt cx="1078200" cy="144360"/>
            </a:xfrm>
          </p:grpSpPr>
          <p:sp>
            <p:nvSpPr>
              <p:cNvPr id="169" name="Line 31"/>
              <p:cNvSpPr/>
              <p:nvPr/>
            </p:nvSpPr>
            <p:spPr>
              <a:xfrm>
                <a:off x="5581800" y="4352760"/>
                <a:ext cx="1078200" cy="1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32"/>
              <p:cNvSpPr/>
              <p:nvPr/>
            </p:nvSpPr>
            <p:spPr>
              <a:xfrm>
                <a:off x="6660000" y="4221000"/>
                <a:ext cx="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Text Box 33"/>
            <p:cNvSpPr/>
            <p:nvPr/>
          </p:nvSpPr>
          <p:spPr>
            <a:xfrm>
              <a:off x="6456600" y="4302000"/>
              <a:ext cx="50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Freeform 34"/>
          <p:cNvSpPr/>
          <p:nvPr/>
        </p:nvSpPr>
        <p:spPr>
          <a:xfrm>
            <a:off x="1981080" y="2924280"/>
            <a:ext cx="4753080" cy="1403280"/>
          </a:xfrm>
          <a:custGeom>
            <a:avLst/>
            <a:gdLst/>
            <a:ahLst/>
            <a:rect l="l" t="t" r="r" b="b"/>
            <a:pathLst>
              <a:path w="2994" h="1043">
                <a:moveTo>
                  <a:pt x="0" y="1043"/>
                </a:moveTo>
                <a:cubicBezTo>
                  <a:pt x="544" y="521"/>
                  <a:pt x="1088" y="0"/>
                  <a:pt x="1587" y="0"/>
                </a:cubicBezTo>
                <a:cubicBezTo>
                  <a:pt x="2086" y="0"/>
                  <a:pt x="2540" y="521"/>
                  <a:pt x="2994" y="104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5"/>
          <p:cNvSpPr/>
          <p:nvPr/>
        </p:nvSpPr>
        <p:spPr>
          <a:xfrm>
            <a:off x="3132000" y="3213000"/>
            <a:ext cx="3527640" cy="1123920"/>
          </a:xfrm>
          <a:custGeom>
            <a:avLst/>
            <a:gdLst/>
            <a:ahLst/>
            <a:rect l="l" t="t" r="r" b="b"/>
            <a:pathLst>
              <a:path w="2222" h="1005">
                <a:moveTo>
                  <a:pt x="0" y="1005"/>
                </a:moveTo>
                <a:cubicBezTo>
                  <a:pt x="223" y="509"/>
                  <a:pt x="446" y="14"/>
                  <a:pt x="816" y="7"/>
                </a:cubicBezTo>
                <a:cubicBezTo>
                  <a:pt x="1186" y="0"/>
                  <a:pt x="1704" y="480"/>
                  <a:pt x="2222" y="96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6"/>
          <p:cNvSpPr/>
          <p:nvPr/>
        </p:nvSpPr>
        <p:spPr>
          <a:xfrm>
            <a:off x="4356000" y="3789360"/>
            <a:ext cx="2305080" cy="530280"/>
          </a:xfrm>
          <a:custGeom>
            <a:avLst/>
            <a:gdLst/>
            <a:ahLst/>
            <a:rect l="l" t="t" r="r" b="b"/>
            <a:pathLst>
              <a:path w="1451" h="544">
                <a:moveTo>
                  <a:pt x="0" y="544"/>
                </a:moveTo>
                <a:cubicBezTo>
                  <a:pt x="196" y="272"/>
                  <a:pt x="393" y="0"/>
                  <a:pt x="635" y="0"/>
                </a:cubicBezTo>
                <a:cubicBezTo>
                  <a:pt x="877" y="0"/>
                  <a:pt x="1164" y="272"/>
                  <a:pt x="1451" y="544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7"/>
          <p:cNvSpPr/>
          <p:nvPr/>
        </p:nvSpPr>
        <p:spPr>
          <a:xfrm>
            <a:off x="5581800" y="4076640"/>
            <a:ext cx="1079280" cy="289080"/>
          </a:xfrm>
          <a:custGeom>
            <a:avLst/>
            <a:gdLst/>
            <a:ahLst/>
            <a:rect l="l" t="t" r="r" b="b"/>
            <a:pathLst>
              <a:path w="680" h="370">
                <a:moveTo>
                  <a:pt x="0" y="370"/>
                </a:moveTo>
                <a:cubicBezTo>
                  <a:pt x="79" y="192"/>
                  <a:pt x="159" y="14"/>
                  <a:pt x="272" y="7"/>
                </a:cubicBezTo>
                <a:cubicBezTo>
                  <a:pt x="385" y="0"/>
                  <a:pt x="532" y="162"/>
                  <a:pt x="680" y="325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8"/>
          <p:cNvSpPr/>
          <p:nvPr/>
        </p:nvSpPr>
        <p:spPr>
          <a:xfrm>
            <a:off x="140328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一共有多少条不同的路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图片1"/>
          <p:cNvPicPr/>
          <p:nvPr/>
        </p:nvPicPr>
        <p:blipFill>
          <a:blip r:embed="rId1"/>
          <a:stretch/>
        </p:blipFill>
        <p:spPr>
          <a:xfrm>
            <a:off x="468360" y="404640"/>
            <a:ext cx="8351640" cy="576108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42" descr="5.png"/>
          <p:cNvPicPr/>
          <p:nvPr/>
        </p:nvPicPr>
        <p:blipFill>
          <a:blip r:embed="rId2"/>
          <a:stretch/>
        </p:blipFill>
        <p:spPr>
          <a:xfrm>
            <a:off x="5000760" y="879480"/>
            <a:ext cx="3060720" cy="13539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1600200" y="552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539640" y="549360"/>
            <a:ext cx="2519640" cy="4392360"/>
          </a:xfrm>
          <a:prstGeom prst="rect">
            <a:avLst/>
          </a:prstGeom>
          <a:solidFill>
            <a:srgbClr val="d7ca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39640" y="476280"/>
            <a:ext cx="2519640" cy="825480"/>
          </a:xfrm>
          <a:prstGeom prst="rect">
            <a:avLst/>
          </a:prstGeom>
          <a:gradFill rotWithShape="0">
            <a:gsLst>
              <a:gs pos="0">
                <a:srgbClr val="b8ecfe"/>
              </a:gs>
              <a:gs pos="50000">
                <a:srgbClr val="95e2fd"/>
              </a:gs>
              <a:gs pos="100000">
                <a:srgbClr val="b8ec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起始站：红薯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终点站：土豆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971640" y="1413000"/>
            <a:ext cx="1800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1403280" y="144792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红薯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971640" y="2060640"/>
            <a:ext cx="1800000" cy="577800"/>
          </a:xfrm>
          <a:prstGeom prst="rect">
            <a:avLst/>
          </a:prstGeom>
          <a:solidFill>
            <a:srgbClr val="f5f7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971640" y="2781360"/>
            <a:ext cx="1800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971640" y="3573360"/>
            <a:ext cx="1800000" cy="505080"/>
          </a:xfrm>
          <a:prstGeom prst="rect">
            <a:avLst/>
          </a:prstGeom>
          <a:solidFill>
            <a:srgbClr val="f5f7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971640" y="4292640"/>
            <a:ext cx="1800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1403280" y="43657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土豆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1403280" y="2887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茄子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1187280" y="364500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胡萝卜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1116000" y="213372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西红柿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755640" y="1484280"/>
            <a:ext cx="0" cy="3097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1274760" y="1959120"/>
            <a:ext cx="1368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9"/>
          <p:cNvSpPr/>
          <p:nvPr/>
        </p:nvSpPr>
        <p:spPr>
          <a:xfrm>
            <a:off x="1230480" y="4797360"/>
            <a:ext cx="1368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755640" y="1484280"/>
            <a:ext cx="0" cy="3097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3059280" y="3141720"/>
            <a:ext cx="30970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2" descr="mole1"/>
          <p:cNvPicPr/>
          <p:nvPr/>
        </p:nvPicPr>
        <p:blipFill>
          <a:blip r:embed="rId3"/>
          <a:stretch/>
        </p:blipFill>
        <p:spPr>
          <a:xfrm>
            <a:off x="3564000" y="3500280"/>
            <a:ext cx="14223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2"/>
          <p:cNvSpPr/>
          <p:nvPr/>
        </p:nvSpPr>
        <p:spPr>
          <a:xfrm>
            <a:off x="2124000" y="2708280"/>
            <a:ext cx="475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 flipV="1">
            <a:off x="2124000" y="2492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 flipV="1">
            <a:off x="4572000" y="2492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 flipV="1">
            <a:off x="3348000" y="2492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V="1">
            <a:off x="5724360" y="2492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 flipV="1">
            <a:off x="6877080" y="2492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1638000" y="2852640"/>
            <a:ext cx="729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红薯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132000" y="2781360"/>
            <a:ext cx="3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西红柿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4356000" y="285444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1518840" y="4437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列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2"/>
          <p:cNvGrpSpPr/>
          <p:nvPr/>
        </p:nvGrpSpPr>
        <p:grpSpPr>
          <a:xfrm>
            <a:off x="2095920" y="1865520"/>
            <a:ext cx="1253880" cy="1253520"/>
            <a:chOff x="2095920" y="1865520"/>
            <a:chExt cx="1253880" cy="1253520"/>
          </a:xfrm>
        </p:grpSpPr>
        <p:sp>
          <p:nvSpPr>
            <p:cNvPr id="209" name="Arc 13"/>
            <p:cNvSpPr/>
            <p:nvPr/>
          </p:nvSpPr>
          <p:spPr>
            <a:xfrm flipV="1" rot="13526400">
              <a:off x="2290680" y="2037600"/>
              <a:ext cx="863640" cy="909360"/>
            </a:xfrm>
            <a:custGeom>
              <a:avLst/>
              <a:gdLst/>
              <a:ahLst/>
              <a:rect l="l" t="t" r="r" b="b"/>
              <a:pathLst>
                <a:path fill="none" w="21600" h="21536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</a:path>
                <a:path stroke="0" w="21600" h="21536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  <a:lnTo>
                    <a:pt x="0" y="21536"/>
                  </a:lnTo>
                  <a:lnTo>
                    <a:pt x="1664" y="0"/>
                  </a:lnTo>
                  <a:close/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4"/>
            <p:cNvSpPr/>
            <p:nvPr/>
          </p:nvSpPr>
          <p:spPr>
            <a:xfrm>
              <a:off x="2714040" y="2152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5"/>
          <p:cNvGrpSpPr/>
          <p:nvPr/>
        </p:nvGrpSpPr>
        <p:grpSpPr>
          <a:xfrm>
            <a:off x="2207880" y="1222200"/>
            <a:ext cx="2424240" cy="2423880"/>
            <a:chOff x="2207880" y="1222200"/>
            <a:chExt cx="2424240" cy="2423880"/>
          </a:xfrm>
        </p:grpSpPr>
        <p:sp>
          <p:nvSpPr>
            <p:cNvPr id="212" name="Arc 16"/>
            <p:cNvSpPr/>
            <p:nvPr/>
          </p:nvSpPr>
          <p:spPr>
            <a:xfrm flipV="1" rot="13526400">
              <a:off x="2569680" y="1569600"/>
              <a:ext cx="1699920" cy="1728360"/>
            </a:xfrm>
            <a:custGeom>
              <a:avLst/>
              <a:gdLst/>
              <a:ahLst/>
              <a:rect l="l" t="t" r="r" b="b"/>
              <a:pathLst>
                <a:path fill="none" w="21600" h="22270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  <a:cubicBezTo>
                    <a:pt x="21600" y="21780"/>
                    <a:pt x="21595" y="22025"/>
                    <a:pt x="21587" y="22269"/>
                  </a:cubicBezTo>
                </a:path>
                <a:path stroke="0" w="21600" h="22270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  <a:cubicBezTo>
                    <a:pt x="21600" y="21780"/>
                    <a:pt x="21595" y="22025"/>
                    <a:pt x="21587" y="22269"/>
                  </a:cubicBezTo>
                  <a:lnTo>
                    <a:pt x="0" y="21536"/>
                  </a:lnTo>
                  <a:lnTo>
                    <a:pt x="1664" y="0"/>
                  </a:lnTo>
                  <a:close/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7"/>
            <p:cNvSpPr/>
            <p:nvPr/>
          </p:nvSpPr>
          <p:spPr>
            <a:xfrm>
              <a:off x="3366360" y="2006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18"/>
          <p:cNvGrpSpPr/>
          <p:nvPr/>
        </p:nvGrpSpPr>
        <p:grpSpPr>
          <a:xfrm>
            <a:off x="2152440" y="38520"/>
            <a:ext cx="4838040" cy="4837320"/>
            <a:chOff x="2152440" y="38520"/>
            <a:chExt cx="4838040" cy="4837320"/>
          </a:xfrm>
        </p:grpSpPr>
        <p:sp>
          <p:nvSpPr>
            <p:cNvPr id="215" name="Arc 19"/>
            <p:cNvSpPr/>
            <p:nvPr/>
          </p:nvSpPr>
          <p:spPr>
            <a:xfrm flipV="1" rot="13526400">
              <a:off x="2878920" y="727920"/>
              <a:ext cx="3384360" cy="3457440"/>
            </a:xfrm>
            <a:custGeom>
              <a:avLst/>
              <a:gdLst/>
              <a:ahLst/>
              <a:rect l="l" t="t" r="r" b="b"/>
              <a:pathLst>
                <a:path fill="none" w="21600" h="22270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  <a:cubicBezTo>
                    <a:pt x="21600" y="21780"/>
                    <a:pt x="21595" y="22025"/>
                    <a:pt x="21587" y="22269"/>
                  </a:cubicBezTo>
                </a:path>
                <a:path stroke="0" w="21600" h="22270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  <a:cubicBezTo>
                    <a:pt x="21600" y="21780"/>
                    <a:pt x="21595" y="22025"/>
                    <a:pt x="21587" y="22269"/>
                  </a:cubicBezTo>
                  <a:lnTo>
                    <a:pt x="0" y="21536"/>
                  </a:lnTo>
                  <a:lnTo>
                    <a:pt x="1664" y="0"/>
                  </a:lnTo>
                  <a:close/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0"/>
            <p:cNvSpPr/>
            <p:nvPr/>
          </p:nvSpPr>
          <p:spPr>
            <a:xfrm>
              <a:off x="4795200" y="1509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1"/>
          <p:cNvGrpSpPr/>
          <p:nvPr/>
        </p:nvGrpSpPr>
        <p:grpSpPr>
          <a:xfrm>
            <a:off x="2148840" y="768600"/>
            <a:ext cx="3616560" cy="3586320"/>
            <a:chOff x="2148840" y="768600"/>
            <a:chExt cx="3616560" cy="3586320"/>
          </a:xfrm>
        </p:grpSpPr>
        <p:sp>
          <p:nvSpPr>
            <p:cNvPr id="218" name="Arc 22"/>
            <p:cNvSpPr/>
            <p:nvPr/>
          </p:nvSpPr>
          <p:spPr>
            <a:xfrm flipV="1" rot="13833600">
              <a:off x="2733120" y="1226520"/>
              <a:ext cx="2447640" cy="2669760"/>
            </a:xfrm>
            <a:custGeom>
              <a:avLst/>
              <a:gdLst/>
              <a:ahLst/>
              <a:rect l="l" t="t" r="r" b="b"/>
              <a:pathLst>
                <a:path fill="none" w="21600" h="22270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  <a:cubicBezTo>
                    <a:pt x="21600" y="21780"/>
                    <a:pt x="21595" y="22025"/>
                    <a:pt x="21587" y="22269"/>
                  </a:cubicBezTo>
                </a:path>
                <a:path stroke="0" w="21600" h="22270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  <a:cubicBezTo>
                    <a:pt x="21600" y="21780"/>
                    <a:pt x="21595" y="22025"/>
                    <a:pt x="21587" y="22269"/>
                  </a:cubicBezTo>
                  <a:lnTo>
                    <a:pt x="0" y="21536"/>
                  </a:lnTo>
                  <a:lnTo>
                    <a:pt x="1664" y="0"/>
                  </a:lnTo>
                  <a:close/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3"/>
            <p:cNvSpPr/>
            <p:nvPr/>
          </p:nvSpPr>
          <p:spPr>
            <a:xfrm rot="307200">
              <a:off x="4394160" y="1786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24"/>
          <p:cNvGrpSpPr/>
          <p:nvPr/>
        </p:nvGrpSpPr>
        <p:grpSpPr>
          <a:xfrm>
            <a:off x="3359880" y="1964520"/>
            <a:ext cx="1271160" cy="1271880"/>
            <a:chOff x="3359880" y="1964520"/>
            <a:chExt cx="1271160" cy="1271880"/>
          </a:xfrm>
        </p:grpSpPr>
        <p:sp>
          <p:nvSpPr>
            <p:cNvPr id="221" name="Arc 25"/>
            <p:cNvSpPr/>
            <p:nvPr/>
          </p:nvSpPr>
          <p:spPr>
            <a:xfrm flipV="1" rot="13526400">
              <a:off x="3528000" y="2168280"/>
              <a:ext cx="934560" cy="863640"/>
            </a:xfrm>
            <a:custGeom>
              <a:avLst/>
              <a:gdLst/>
              <a:ahLst/>
              <a:rect l="l" t="t" r="r" b="b"/>
              <a:pathLst>
                <a:path fill="none" w="21600" h="21536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</a:path>
                <a:path stroke="0" w="21600" h="21536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  <a:lnTo>
                    <a:pt x="0" y="21536"/>
                  </a:lnTo>
                  <a:lnTo>
                    <a:pt x="1664" y="0"/>
                  </a:lnTo>
                  <a:close/>
                </a:path>
              </a:pathLst>
            </a:custGeom>
            <a:noFill/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6"/>
            <p:cNvSpPr/>
            <p:nvPr/>
          </p:nvSpPr>
          <p:spPr>
            <a:xfrm>
              <a:off x="3991680" y="2232720"/>
              <a:ext cx="3070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9933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27"/>
          <p:cNvGrpSpPr/>
          <p:nvPr/>
        </p:nvGrpSpPr>
        <p:grpSpPr>
          <a:xfrm>
            <a:off x="3345120" y="1404000"/>
            <a:ext cx="2379960" cy="2349720"/>
            <a:chOff x="3345120" y="1404000"/>
            <a:chExt cx="2379960" cy="2349720"/>
          </a:xfrm>
        </p:grpSpPr>
        <p:sp>
          <p:nvSpPr>
            <p:cNvPr id="224" name="Arc 28"/>
            <p:cNvSpPr/>
            <p:nvPr/>
          </p:nvSpPr>
          <p:spPr>
            <a:xfrm flipV="1" rot="13799400">
              <a:off x="3756600" y="1678320"/>
              <a:ext cx="1557000" cy="1800000"/>
            </a:xfrm>
            <a:custGeom>
              <a:avLst/>
              <a:gdLst/>
              <a:ahLst/>
              <a:rect l="l" t="t" r="r" b="b"/>
              <a:pathLst>
                <a:path fill="none" w="21600" h="22270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  <a:cubicBezTo>
                    <a:pt x="21600" y="21780"/>
                    <a:pt x="21595" y="22025"/>
                    <a:pt x="21587" y="22269"/>
                  </a:cubicBezTo>
                </a:path>
                <a:path stroke="0" w="21600" h="22270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  <a:cubicBezTo>
                    <a:pt x="21600" y="21780"/>
                    <a:pt x="21595" y="22025"/>
                    <a:pt x="21587" y="22269"/>
                  </a:cubicBezTo>
                  <a:lnTo>
                    <a:pt x="0" y="21536"/>
                  </a:lnTo>
                  <a:lnTo>
                    <a:pt x="1664" y="0"/>
                  </a:lnTo>
                  <a:close/>
                </a:path>
              </a:pathLst>
            </a:custGeom>
            <a:noFill/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9"/>
            <p:cNvSpPr/>
            <p:nvPr/>
          </p:nvSpPr>
          <p:spPr>
            <a:xfrm rot="273000">
              <a:off x="4500000" y="2195640"/>
              <a:ext cx="3070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9933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30"/>
          <p:cNvGrpSpPr/>
          <p:nvPr/>
        </p:nvGrpSpPr>
        <p:grpSpPr>
          <a:xfrm>
            <a:off x="3376800" y="756720"/>
            <a:ext cx="3613320" cy="3614040"/>
            <a:chOff x="3376800" y="756720"/>
            <a:chExt cx="3613320" cy="3614040"/>
          </a:xfrm>
        </p:grpSpPr>
        <p:sp>
          <p:nvSpPr>
            <p:cNvPr id="227" name="Arc 31"/>
            <p:cNvSpPr/>
            <p:nvPr/>
          </p:nvSpPr>
          <p:spPr>
            <a:xfrm flipV="1" rot="13526400">
              <a:off x="3887280" y="1303920"/>
              <a:ext cx="2592000" cy="2518560"/>
            </a:xfrm>
            <a:custGeom>
              <a:avLst/>
              <a:gdLst/>
              <a:ahLst/>
              <a:rect l="l" t="t" r="r" b="b"/>
              <a:pathLst>
                <a:path fill="none" w="21600" h="22270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  <a:cubicBezTo>
                    <a:pt x="21600" y="21780"/>
                    <a:pt x="21595" y="22025"/>
                    <a:pt x="21587" y="22269"/>
                  </a:cubicBezTo>
                </a:path>
                <a:path stroke="0" w="21600" h="22270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  <a:cubicBezTo>
                    <a:pt x="21600" y="21780"/>
                    <a:pt x="21595" y="22025"/>
                    <a:pt x="21587" y="22269"/>
                  </a:cubicBezTo>
                  <a:lnTo>
                    <a:pt x="0" y="21536"/>
                  </a:lnTo>
                  <a:lnTo>
                    <a:pt x="1664" y="0"/>
                  </a:lnTo>
                  <a:close/>
                </a:path>
              </a:pathLst>
            </a:custGeom>
            <a:noFill/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32"/>
            <p:cNvSpPr/>
            <p:nvPr/>
          </p:nvSpPr>
          <p:spPr>
            <a:xfrm>
              <a:off x="5547960" y="1700280"/>
              <a:ext cx="37440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9933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 Box 33"/>
          <p:cNvSpPr/>
          <p:nvPr/>
        </p:nvSpPr>
        <p:spPr>
          <a:xfrm>
            <a:off x="2773800" y="450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34"/>
          <p:cNvGrpSpPr/>
          <p:nvPr/>
        </p:nvGrpSpPr>
        <p:grpSpPr>
          <a:xfrm>
            <a:off x="4565880" y="1980000"/>
            <a:ext cx="1147680" cy="1119960"/>
            <a:chOff x="4565880" y="1980000"/>
            <a:chExt cx="1147680" cy="1119960"/>
          </a:xfrm>
        </p:grpSpPr>
        <p:sp>
          <p:nvSpPr>
            <p:cNvPr id="231" name="Arc 35"/>
            <p:cNvSpPr/>
            <p:nvPr/>
          </p:nvSpPr>
          <p:spPr>
            <a:xfrm flipV="1" rot="13753200">
              <a:off x="4803840" y="2071440"/>
              <a:ext cx="671400" cy="936360"/>
            </a:xfrm>
            <a:custGeom>
              <a:avLst/>
              <a:gdLst/>
              <a:ahLst/>
              <a:rect l="l" t="t" r="r" b="b"/>
              <a:pathLst>
                <a:path fill="none" w="21600" h="21536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</a:path>
                <a:path stroke="0" w="21600" h="21536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  <a:lnTo>
                    <a:pt x="0" y="21536"/>
                  </a:lnTo>
                  <a:lnTo>
                    <a:pt x="1664" y="0"/>
                  </a:lnTo>
                  <a:close/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6"/>
            <p:cNvSpPr/>
            <p:nvPr/>
          </p:nvSpPr>
          <p:spPr>
            <a:xfrm rot="226200">
              <a:off x="5135400" y="2273040"/>
              <a:ext cx="3070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66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37"/>
          <p:cNvGrpSpPr/>
          <p:nvPr/>
        </p:nvGrpSpPr>
        <p:grpSpPr>
          <a:xfrm>
            <a:off x="4580640" y="1394280"/>
            <a:ext cx="2342880" cy="2341440"/>
            <a:chOff x="4580640" y="1394280"/>
            <a:chExt cx="2342880" cy="2341440"/>
          </a:xfrm>
        </p:grpSpPr>
        <p:sp>
          <p:nvSpPr>
            <p:cNvPr id="234" name="Arc 38"/>
            <p:cNvSpPr/>
            <p:nvPr/>
          </p:nvSpPr>
          <p:spPr>
            <a:xfrm flipV="1" rot="13526400">
              <a:off x="4959720" y="1700640"/>
              <a:ext cx="1584000" cy="1728360"/>
            </a:xfrm>
            <a:custGeom>
              <a:avLst/>
              <a:gdLst/>
              <a:ahLst/>
              <a:rect l="l" t="t" r="r" b="b"/>
              <a:pathLst>
                <a:path fill="none" w="21600" h="22270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  <a:cubicBezTo>
                    <a:pt x="21600" y="21780"/>
                    <a:pt x="21595" y="22025"/>
                    <a:pt x="21587" y="22269"/>
                  </a:cubicBezTo>
                </a:path>
                <a:path stroke="0" w="21600" h="22270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  <a:cubicBezTo>
                    <a:pt x="21600" y="21780"/>
                    <a:pt x="21595" y="22025"/>
                    <a:pt x="21587" y="22269"/>
                  </a:cubicBezTo>
                  <a:lnTo>
                    <a:pt x="0" y="21536"/>
                  </a:lnTo>
                  <a:lnTo>
                    <a:pt x="1664" y="0"/>
                  </a:lnTo>
                  <a:close/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9"/>
            <p:cNvSpPr/>
            <p:nvPr/>
          </p:nvSpPr>
          <p:spPr>
            <a:xfrm>
              <a:off x="5702400" y="2166840"/>
              <a:ext cx="3070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40"/>
          <p:cNvSpPr/>
          <p:nvPr/>
        </p:nvSpPr>
        <p:spPr>
          <a:xfrm>
            <a:off x="2942640" y="450864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41"/>
          <p:cNvGrpSpPr/>
          <p:nvPr/>
        </p:nvGrpSpPr>
        <p:grpSpPr>
          <a:xfrm>
            <a:off x="5705280" y="1924560"/>
            <a:ext cx="1188000" cy="1182960"/>
            <a:chOff x="5705280" y="1924560"/>
            <a:chExt cx="1188000" cy="1182960"/>
          </a:xfrm>
        </p:grpSpPr>
        <p:sp>
          <p:nvSpPr>
            <p:cNvPr id="238" name="Arc 42"/>
            <p:cNvSpPr/>
            <p:nvPr/>
          </p:nvSpPr>
          <p:spPr>
            <a:xfrm flipV="1" rot="13753200">
              <a:off x="5891040" y="2082960"/>
              <a:ext cx="815760" cy="865440"/>
            </a:xfrm>
            <a:custGeom>
              <a:avLst/>
              <a:gdLst/>
              <a:ahLst/>
              <a:rect l="l" t="t" r="r" b="b"/>
              <a:pathLst>
                <a:path fill="none" w="21600" h="21536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</a:path>
                <a:path stroke="0" w="21600" h="21536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  <a:lnTo>
                    <a:pt x="0" y="21536"/>
                  </a:lnTo>
                  <a:lnTo>
                    <a:pt x="1664" y="0"/>
                  </a:lnTo>
                  <a:close/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43"/>
            <p:cNvSpPr/>
            <p:nvPr/>
          </p:nvSpPr>
          <p:spPr>
            <a:xfrm rot="226200">
              <a:off x="6292800" y="2194200"/>
              <a:ext cx="36252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44"/>
          <p:cNvSpPr/>
          <p:nvPr/>
        </p:nvSpPr>
        <p:spPr>
          <a:xfrm>
            <a:off x="3447360" y="450864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5"/>
          <p:cNvSpPr/>
          <p:nvPr/>
        </p:nvSpPr>
        <p:spPr>
          <a:xfrm>
            <a:off x="3997440" y="451008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6"/>
          <p:cNvSpPr/>
          <p:nvPr/>
        </p:nvSpPr>
        <p:spPr>
          <a:xfrm>
            <a:off x="4572000" y="450864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10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7">
            <a:hlinkClick r:id="rId1" action="ppaction://hlinksldjump"/>
          </p:cNvPr>
          <p:cNvSpPr/>
          <p:nvPr/>
        </p:nvSpPr>
        <p:spPr>
          <a:xfrm>
            <a:off x="7812000" y="5950080"/>
            <a:ext cx="432000" cy="431640"/>
          </a:xfrm>
          <a:custGeom>
            <a:avLst/>
            <a:gdLst>
              <a:gd name="textAreaLeft" fmla="*/ 75600 w 432000"/>
              <a:gd name="textAreaRight" fmla="*/ 313200 w 43200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8"/>
          <p:cNvSpPr/>
          <p:nvPr/>
        </p:nvSpPr>
        <p:spPr>
          <a:xfrm>
            <a:off x="4429080" y="2781360"/>
            <a:ext cx="39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茄子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9"/>
          <p:cNvSpPr/>
          <p:nvPr/>
        </p:nvSpPr>
        <p:spPr>
          <a:xfrm>
            <a:off x="5581800" y="2708280"/>
            <a:ext cx="39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胡萝卜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0"/>
          <p:cNvSpPr/>
          <p:nvPr/>
        </p:nvSpPr>
        <p:spPr>
          <a:xfrm>
            <a:off x="6732720" y="2781360"/>
            <a:ext cx="39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土豆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1">
            <a:hlinkClick r:id="rId2" action="ppaction://hlinksldjump"/>
          </p:cNvPr>
          <p:cNvSpPr/>
          <p:nvPr/>
        </p:nvSpPr>
        <p:spPr>
          <a:xfrm>
            <a:off x="7020000" y="6093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5219640" y="148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1525680" y="1798560"/>
            <a:ext cx="1482480" cy="1460160"/>
            <a:chOff x="1525680" y="1798560"/>
            <a:chExt cx="1482480" cy="1460160"/>
          </a:xfrm>
        </p:grpSpPr>
        <p:grpSp>
          <p:nvGrpSpPr>
            <p:cNvPr id="251" name="Group 5"/>
            <p:cNvGrpSpPr/>
            <p:nvPr/>
          </p:nvGrpSpPr>
          <p:grpSpPr>
            <a:xfrm>
              <a:off x="1525680" y="1798560"/>
              <a:ext cx="1482480" cy="1460160"/>
              <a:chOff x="1525680" y="1798560"/>
              <a:chExt cx="1482480" cy="1460160"/>
            </a:xfrm>
          </p:grpSpPr>
          <p:sp>
            <p:nvSpPr>
              <p:cNvPr id="252" name="Arc 6"/>
              <p:cNvSpPr/>
              <p:nvPr/>
            </p:nvSpPr>
            <p:spPr>
              <a:xfrm flipV="1" rot="13753200">
                <a:off x="1798560" y="1953360"/>
                <a:ext cx="936000" cy="1150560"/>
              </a:xfrm>
              <a:custGeom>
                <a:avLst/>
                <a:gdLst/>
                <a:ahLst/>
                <a:rect l="l" t="t" r="r" b="b"/>
                <a:pathLst>
                  <a:path fill="none" w="21600" h="21536">
                    <a:moveTo>
                      <a:pt x="1664" y="0"/>
                    </a:moveTo>
                    <a:cubicBezTo>
                      <a:pt x="12914" y="870"/>
                      <a:pt x="21600" y="10252"/>
                      <a:pt x="21600" y="21536"/>
                    </a:cubicBezTo>
                  </a:path>
                  <a:path stroke="0" w="21600" h="21536">
                    <a:moveTo>
                      <a:pt x="1664" y="0"/>
                    </a:moveTo>
                    <a:cubicBezTo>
                      <a:pt x="12914" y="870"/>
                      <a:pt x="21600" y="10252"/>
                      <a:pt x="21600" y="21536"/>
                    </a:cubicBezTo>
                    <a:lnTo>
                      <a:pt x="0" y="21536"/>
                    </a:lnTo>
                    <a:lnTo>
                      <a:pt x="1664" y="0"/>
                    </a:lnTo>
                    <a:close/>
                  </a:path>
                </a:pathLst>
              </a:custGeom>
              <a:noFill/>
              <a:ln w="28440">
                <a:solidFill>
                  <a:srgbClr val="fc1d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7"/>
              <p:cNvSpPr/>
              <p:nvPr/>
            </p:nvSpPr>
            <p:spPr>
              <a:xfrm rot="226200">
                <a:off x="2229480" y="2129400"/>
                <a:ext cx="213120" cy="393840"/>
              </a:xfrm>
              <a:prstGeom prst="rect">
                <a:avLst/>
              </a:prstGeom>
              <a:noFill/>
              <a:ln w="28440">
                <a:solidFill>
                  <a:srgbClr val="fc1d18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Text Box 8"/>
            <p:cNvSpPr/>
            <p:nvPr/>
          </p:nvSpPr>
          <p:spPr>
            <a:xfrm>
              <a:off x="2036880" y="2151360"/>
              <a:ext cx="331560" cy="368280"/>
            </a:xfrm>
            <a:prstGeom prst="rect">
              <a:avLst/>
            </a:prstGeom>
            <a:noFill/>
            <a:ln w="28440">
              <a:solidFill>
                <a:srgbClr val="fc1d18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c1d18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9"/>
          <p:cNvGrpSpPr/>
          <p:nvPr/>
        </p:nvGrpSpPr>
        <p:grpSpPr>
          <a:xfrm>
            <a:off x="2935080" y="1715040"/>
            <a:ext cx="1545480" cy="1532520"/>
            <a:chOff x="2935080" y="1715040"/>
            <a:chExt cx="1545480" cy="1532520"/>
          </a:xfrm>
        </p:grpSpPr>
        <p:sp>
          <p:nvSpPr>
            <p:cNvPr id="256" name="Arc 10"/>
            <p:cNvSpPr/>
            <p:nvPr/>
          </p:nvSpPr>
          <p:spPr>
            <a:xfrm flipV="1" rot="13753200">
              <a:off x="3192840" y="1904400"/>
              <a:ext cx="1029960" cy="1152360"/>
            </a:xfrm>
            <a:custGeom>
              <a:avLst/>
              <a:gdLst/>
              <a:ahLst/>
              <a:rect l="l" t="t" r="r" b="b"/>
              <a:pathLst>
                <a:path fill="none" w="21600" h="21536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</a:path>
                <a:path stroke="0" w="21600" h="21536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  <a:lnTo>
                    <a:pt x="0" y="21536"/>
                  </a:lnTo>
                  <a:lnTo>
                    <a:pt x="1664" y="0"/>
                  </a:lnTo>
                  <a:close/>
                </a:path>
              </a:pathLst>
            </a:custGeom>
            <a:noFill/>
            <a:ln w="28440">
              <a:solidFill>
                <a:srgbClr val="fc1d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3500280" y="2076120"/>
              <a:ext cx="383400" cy="368280"/>
            </a:xfrm>
            <a:prstGeom prst="rect">
              <a:avLst/>
            </a:prstGeom>
            <a:noFill/>
            <a:ln w="28440">
              <a:solidFill>
                <a:srgbClr val="fc1d18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c1d18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4430520" y="1670760"/>
            <a:ext cx="1577160" cy="1569600"/>
            <a:chOff x="4430520" y="1670760"/>
            <a:chExt cx="1577160" cy="1569600"/>
          </a:xfrm>
        </p:grpSpPr>
        <p:sp>
          <p:nvSpPr>
            <p:cNvPr id="259" name="Arc 13"/>
            <p:cNvSpPr/>
            <p:nvPr/>
          </p:nvSpPr>
          <p:spPr>
            <a:xfrm flipV="1" rot="13753200">
              <a:off x="4679640" y="1879560"/>
              <a:ext cx="1078920" cy="1152000"/>
            </a:xfrm>
            <a:custGeom>
              <a:avLst/>
              <a:gdLst/>
              <a:ahLst/>
              <a:rect l="l" t="t" r="r" b="b"/>
              <a:pathLst>
                <a:path fill="none" w="21600" h="21536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</a:path>
                <a:path stroke="0" w="21600" h="21536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  <a:lnTo>
                    <a:pt x="0" y="21536"/>
                  </a:lnTo>
                  <a:lnTo>
                    <a:pt x="1664" y="0"/>
                  </a:lnTo>
                  <a:close/>
                </a:path>
              </a:pathLst>
            </a:custGeom>
            <a:noFill/>
            <a:ln w="28440">
              <a:solidFill>
                <a:srgbClr val="fc1d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4"/>
            <p:cNvSpPr/>
            <p:nvPr/>
          </p:nvSpPr>
          <p:spPr>
            <a:xfrm>
              <a:off x="5011560" y="2030760"/>
              <a:ext cx="49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c1d18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5"/>
          <p:cNvGrpSpPr/>
          <p:nvPr/>
        </p:nvGrpSpPr>
        <p:grpSpPr>
          <a:xfrm>
            <a:off x="6014880" y="1650240"/>
            <a:ext cx="1648080" cy="1635480"/>
            <a:chOff x="6014880" y="1650240"/>
            <a:chExt cx="1648080" cy="1635480"/>
          </a:xfrm>
        </p:grpSpPr>
        <p:sp>
          <p:nvSpPr>
            <p:cNvPr id="262" name="Arc 16"/>
            <p:cNvSpPr/>
            <p:nvPr/>
          </p:nvSpPr>
          <p:spPr>
            <a:xfrm flipV="1" rot="13753200">
              <a:off x="6286680" y="1855800"/>
              <a:ext cx="1104480" cy="1223640"/>
            </a:xfrm>
            <a:custGeom>
              <a:avLst/>
              <a:gdLst/>
              <a:ahLst/>
              <a:rect l="l" t="t" r="r" b="b"/>
              <a:pathLst>
                <a:path fill="none" w="21600" h="21536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</a:path>
                <a:path stroke="0" w="21600" h="21536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  <a:lnTo>
                    <a:pt x="0" y="21536"/>
                  </a:lnTo>
                  <a:lnTo>
                    <a:pt x="1664" y="0"/>
                  </a:lnTo>
                  <a:close/>
                </a:path>
              </a:pathLst>
            </a:custGeom>
            <a:noFill/>
            <a:ln w="28440">
              <a:solidFill>
                <a:srgbClr val="fc1d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7"/>
            <p:cNvSpPr/>
            <p:nvPr/>
          </p:nvSpPr>
          <p:spPr>
            <a:xfrm>
              <a:off x="6742800" y="2033280"/>
              <a:ext cx="35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c1d18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8"/>
          <p:cNvGrpSpPr/>
          <p:nvPr/>
        </p:nvGrpSpPr>
        <p:grpSpPr>
          <a:xfrm>
            <a:off x="1547280" y="979920"/>
            <a:ext cx="2952720" cy="2952360"/>
            <a:chOff x="1547280" y="979920"/>
            <a:chExt cx="2952720" cy="2952360"/>
          </a:xfrm>
        </p:grpSpPr>
        <p:sp>
          <p:nvSpPr>
            <p:cNvPr id="265" name="Arc 19"/>
            <p:cNvSpPr/>
            <p:nvPr/>
          </p:nvSpPr>
          <p:spPr>
            <a:xfrm flipV="1" rot="13526400">
              <a:off x="1980360" y="1410840"/>
              <a:ext cx="2086560" cy="2089080"/>
            </a:xfrm>
            <a:custGeom>
              <a:avLst/>
              <a:gdLst/>
              <a:ahLst/>
              <a:rect l="l" t="t" r="r" b="b"/>
              <a:pathLst>
                <a:path fill="none" w="21600" h="22270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  <a:cubicBezTo>
                    <a:pt x="21600" y="21780"/>
                    <a:pt x="21595" y="22025"/>
                    <a:pt x="21587" y="22269"/>
                  </a:cubicBezTo>
                </a:path>
                <a:path stroke="0" w="21600" h="22270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  <a:cubicBezTo>
                    <a:pt x="21600" y="21780"/>
                    <a:pt x="21595" y="22025"/>
                    <a:pt x="21587" y="22269"/>
                  </a:cubicBezTo>
                  <a:lnTo>
                    <a:pt x="0" y="21536"/>
                  </a:lnTo>
                  <a:lnTo>
                    <a:pt x="1664" y="0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0"/>
            <p:cNvSpPr/>
            <p:nvPr/>
          </p:nvSpPr>
          <p:spPr>
            <a:xfrm>
              <a:off x="2640960" y="1837080"/>
              <a:ext cx="32940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33cc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21"/>
          <p:cNvGrpSpPr/>
          <p:nvPr/>
        </p:nvGrpSpPr>
        <p:grpSpPr>
          <a:xfrm>
            <a:off x="2991960" y="948600"/>
            <a:ext cx="3094200" cy="3087720"/>
            <a:chOff x="2991960" y="948600"/>
            <a:chExt cx="3094200" cy="3087720"/>
          </a:xfrm>
        </p:grpSpPr>
        <p:sp>
          <p:nvSpPr>
            <p:cNvPr id="268" name="Arc 22"/>
            <p:cNvSpPr/>
            <p:nvPr/>
          </p:nvSpPr>
          <p:spPr>
            <a:xfrm flipV="1" rot="13757400">
              <a:off x="3458880" y="1380240"/>
              <a:ext cx="2160000" cy="2223720"/>
            </a:xfrm>
            <a:custGeom>
              <a:avLst/>
              <a:gdLst/>
              <a:ahLst/>
              <a:rect l="l" t="t" r="r" b="b"/>
              <a:pathLst>
                <a:path fill="none" w="21600" h="22270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  <a:cubicBezTo>
                    <a:pt x="21600" y="21780"/>
                    <a:pt x="21595" y="22025"/>
                    <a:pt x="21587" y="22269"/>
                  </a:cubicBezTo>
                </a:path>
                <a:path stroke="0" w="21600" h="22270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  <a:cubicBezTo>
                    <a:pt x="21600" y="21780"/>
                    <a:pt x="21595" y="22025"/>
                    <a:pt x="21587" y="22269"/>
                  </a:cubicBezTo>
                  <a:lnTo>
                    <a:pt x="0" y="21536"/>
                  </a:lnTo>
                  <a:lnTo>
                    <a:pt x="1664" y="0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3"/>
            <p:cNvSpPr/>
            <p:nvPr/>
          </p:nvSpPr>
          <p:spPr>
            <a:xfrm rot="231000">
              <a:off x="4146120" y="1816920"/>
              <a:ext cx="35316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33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24"/>
          <p:cNvGrpSpPr/>
          <p:nvPr/>
        </p:nvGrpSpPr>
        <p:grpSpPr>
          <a:xfrm>
            <a:off x="4379760" y="806400"/>
            <a:ext cx="3263760" cy="3228120"/>
            <a:chOff x="4379760" y="806400"/>
            <a:chExt cx="3263760" cy="3228120"/>
          </a:xfrm>
        </p:grpSpPr>
        <p:sp>
          <p:nvSpPr>
            <p:cNvPr id="271" name="Arc 25"/>
            <p:cNvSpPr/>
            <p:nvPr/>
          </p:nvSpPr>
          <p:spPr>
            <a:xfrm flipV="1" rot="13800600">
              <a:off x="4931280" y="1195920"/>
              <a:ext cx="2160360" cy="2447640"/>
            </a:xfrm>
            <a:custGeom>
              <a:avLst/>
              <a:gdLst/>
              <a:ahLst/>
              <a:rect l="l" t="t" r="r" b="b"/>
              <a:pathLst>
                <a:path fill="none" w="21600" h="22270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  <a:cubicBezTo>
                    <a:pt x="21600" y="21780"/>
                    <a:pt x="21595" y="22025"/>
                    <a:pt x="21587" y="22269"/>
                  </a:cubicBezTo>
                </a:path>
                <a:path stroke="0" w="21600" h="22270">
                  <a:moveTo>
                    <a:pt x="1664" y="0"/>
                  </a:moveTo>
                  <a:cubicBezTo>
                    <a:pt x="12914" y="870"/>
                    <a:pt x="21600" y="10252"/>
                    <a:pt x="21600" y="21536"/>
                  </a:cubicBezTo>
                  <a:cubicBezTo>
                    <a:pt x="21600" y="21780"/>
                    <a:pt x="21595" y="22025"/>
                    <a:pt x="21587" y="22269"/>
                  </a:cubicBezTo>
                  <a:lnTo>
                    <a:pt x="0" y="21536"/>
                  </a:lnTo>
                  <a:lnTo>
                    <a:pt x="1664" y="0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26"/>
            <p:cNvSpPr/>
            <p:nvPr/>
          </p:nvSpPr>
          <p:spPr>
            <a:xfrm rot="274200">
              <a:off x="5592960" y="1748520"/>
              <a:ext cx="3772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33cc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27"/>
          <p:cNvSpPr/>
          <p:nvPr/>
        </p:nvSpPr>
        <p:spPr>
          <a:xfrm>
            <a:off x="2486160" y="4494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8"/>
          <p:cNvSpPr/>
          <p:nvPr/>
        </p:nvSpPr>
        <p:spPr>
          <a:xfrm>
            <a:off x="2801880" y="4494240"/>
            <a:ext cx="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9"/>
          <p:cNvSpPr/>
          <p:nvPr/>
        </p:nvSpPr>
        <p:spPr>
          <a:xfrm>
            <a:off x="3449880" y="4494240"/>
            <a:ext cx="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0"/>
          <p:cNvSpPr/>
          <p:nvPr/>
        </p:nvSpPr>
        <p:spPr>
          <a:xfrm>
            <a:off x="4067280" y="44942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1"/>
          <p:cNvSpPr/>
          <p:nvPr/>
        </p:nvSpPr>
        <p:spPr>
          <a:xfrm>
            <a:off x="4788000" y="44942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10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32"/>
          <p:cNvGrpSpPr/>
          <p:nvPr/>
        </p:nvGrpSpPr>
        <p:grpSpPr>
          <a:xfrm>
            <a:off x="1547640" y="2421000"/>
            <a:ext cx="6048360" cy="358200"/>
            <a:chOff x="1547640" y="2421000"/>
            <a:chExt cx="6048360" cy="358200"/>
          </a:xfrm>
        </p:grpSpPr>
        <p:sp>
          <p:nvSpPr>
            <p:cNvPr id="279" name="Line 33"/>
            <p:cNvSpPr/>
            <p:nvPr/>
          </p:nvSpPr>
          <p:spPr>
            <a:xfrm>
              <a:off x="1547640" y="2779200"/>
              <a:ext cx="604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34"/>
            <p:cNvGrpSpPr/>
            <p:nvPr/>
          </p:nvGrpSpPr>
          <p:grpSpPr>
            <a:xfrm>
              <a:off x="1547640" y="2421000"/>
              <a:ext cx="6048000" cy="357840"/>
              <a:chOff x="1547640" y="2421000"/>
              <a:chExt cx="6048000" cy="357840"/>
            </a:xfrm>
          </p:grpSpPr>
          <p:sp>
            <p:nvSpPr>
              <p:cNvPr id="281" name="Line 35"/>
              <p:cNvSpPr/>
              <p:nvPr/>
            </p:nvSpPr>
            <p:spPr>
              <a:xfrm flipV="1">
                <a:off x="1547640" y="2421000"/>
                <a:ext cx="0" cy="35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36"/>
              <p:cNvSpPr/>
              <p:nvPr/>
            </p:nvSpPr>
            <p:spPr>
              <a:xfrm flipV="1">
                <a:off x="2969280" y="2421000"/>
                <a:ext cx="0" cy="35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37"/>
              <p:cNvSpPr/>
              <p:nvPr/>
            </p:nvSpPr>
            <p:spPr>
              <a:xfrm flipV="1">
                <a:off x="4393440" y="2421000"/>
                <a:ext cx="0" cy="35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38"/>
              <p:cNvSpPr/>
              <p:nvPr/>
            </p:nvSpPr>
            <p:spPr>
              <a:xfrm flipV="1">
                <a:off x="5995080" y="2421000"/>
                <a:ext cx="0" cy="35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39"/>
              <p:cNvSpPr/>
              <p:nvPr/>
            </p:nvSpPr>
            <p:spPr>
              <a:xfrm flipV="1">
                <a:off x="7595640" y="2421000"/>
                <a:ext cx="0" cy="35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Group 41"/>
          <p:cNvGrpSpPr/>
          <p:nvPr/>
        </p:nvGrpSpPr>
        <p:grpSpPr>
          <a:xfrm>
            <a:off x="1515960" y="203400"/>
            <a:ext cx="4598280" cy="4505400"/>
            <a:chOff x="1515960" y="203400"/>
            <a:chExt cx="4598280" cy="4505400"/>
          </a:xfrm>
        </p:grpSpPr>
        <p:grpSp>
          <p:nvGrpSpPr>
            <p:cNvPr id="287" name="Group 42"/>
            <p:cNvGrpSpPr/>
            <p:nvPr/>
          </p:nvGrpSpPr>
          <p:grpSpPr>
            <a:xfrm>
              <a:off x="1515960" y="203400"/>
              <a:ext cx="4598280" cy="4505400"/>
              <a:chOff x="1515960" y="203400"/>
              <a:chExt cx="4598280" cy="4505400"/>
            </a:xfrm>
          </p:grpSpPr>
          <p:sp>
            <p:nvSpPr>
              <p:cNvPr id="288" name="Arc 43"/>
              <p:cNvSpPr/>
              <p:nvPr/>
            </p:nvSpPr>
            <p:spPr>
              <a:xfrm flipV="1" rot="13891200">
                <a:off x="2339640" y="691200"/>
                <a:ext cx="2950560" cy="3528720"/>
              </a:xfrm>
              <a:custGeom>
                <a:avLst/>
                <a:gdLst/>
                <a:ahLst/>
                <a:rect l="l" t="t" r="r" b="b"/>
                <a:pathLst>
                  <a:path fill="none" w="21600" h="22270">
                    <a:moveTo>
                      <a:pt x="1664" y="0"/>
                    </a:moveTo>
                    <a:cubicBezTo>
                      <a:pt x="12914" y="870"/>
                      <a:pt x="21600" y="10252"/>
                      <a:pt x="21600" y="21536"/>
                    </a:cubicBezTo>
                    <a:cubicBezTo>
                      <a:pt x="21600" y="21780"/>
                      <a:pt x="21595" y="22025"/>
                      <a:pt x="21587" y="22269"/>
                    </a:cubicBezTo>
                  </a:path>
                  <a:path stroke="0" w="21600" h="22270">
                    <a:moveTo>
                      <a:pt x="1664" y="0"/>
                    </a:moveTo>
                    <a:cubicBezTo>
                      <a:pt x="12914" y="870"/>
                      <a:pt x="21600" y="10252"/>
                      <a:pt x="21600" y="21536"/>
                    </a:cubicBezTo>
                    <a:cubicBezTo>
                      <a:pt x="21600" y="21780"/>
                      <a:pt x="21595" y="22025"/>
                      <a:pt x="21587" y="22269"/>
                    </a:cubicBezTo>
                    <a:lnTo>
                      <a:pt x="0" y="21536"/>
                    </a:lnTo>
                    <a:lnTo>
                      <a:pt x="1664" y="0"/>
                    </a:lnTo>
                    <a:close/>
                  </a:path>
                </a:pathLst>
              </a:custGeom>
              <a:noFill/>
              <a:ln w="28440">
                <a:solidFill>
                  <a:srgbClr val="c531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44"/>
              <p:cNvSpPr/>
              <p:nvPr/>
            </p:nvSpPr>
            <p:spPr>
              <a:xfrm rot="365400">
                <a:off x="4372560" y="1470960"/>
                <a:ext cx="212760" cy="394920"/>
              </a:xfrm>
              <a:prstGeom prst="rect">
                <a:avLst/>
              </a:prstGeom>
              <a:noFill/>
              <a:ln w="28440">
                <a:solidFill>
                  <a:srgbClr val="c531e3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Text Box 45"/>
            <p:cNvSpPr/>
            <p:nvPr/>
          </p:nvSpPr>
          <p:spPr>
            <a:xfrm>
              <a:off x="378144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531e3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46"/>
          <p:cNvGrpSpPr/>
          <p:nvPr/>
        </p:nvGrpSpPr>
        <p:grpSpPr>
          <a:xfrm>
            <a:off x="3012840" y="189000"/>
            <a:ext cx="4696920" cy="4605480"/>
            <a:chOff x="3012840" y="189000"/>
            <a:chExt cx="4696920" cy="4605480"/>
          </a:xfrm>
        </p:grpSpPr>
        <p:grpSp>
          <p:nvGrpSpPr>
            <p:cNvPr id="292" name="Group 47"/>
            <p:cNvGrpSpPr/>
            <p:nvPr/>
          </p:nvGrpSpPr>
          <p:grpSpPr>
            <a:xfrm>
              <a:off x="3012840" y="189000"/>
              <a:ext cx="4696920" cy="4605480"/>
              <a:chOff x="3012840" y="189000"/>
              <a:chExt cx="4696920" cy="4605480"/>
            </a:xfrm>
          </p:grpSpPr>
          <p:sp>
            <p:nvSpPr>
              <p:cNvPr id="293" name="Arc 48"/>
              <p:cNvSpPr/>
              <p:nvPr/>
            </p:nvSpPr>
            <p:spPr>
              <a:xfrm flipV="1" rot="13891200">
                <a:off x="3848400" y="693360"/>
                <a:ext cx="3025440" cy="3595320"/>
              </a:xfrm>
              <a:custGeom>
                <a:avLst/>
                <a:gdLst/>
                <a:ahLst/>
                <a:rect l="l" t="t" r="r" b="b"/>
                <a:pathLst>
                  <a:path fill="none" w="21600" h="22270">
                    <a:moveTo>
                      <a:pt x="1664" y="0"/>
                    </a:moveTo>
                    <a:cubicBezTo>
                      <a:pt x="12914" y="870"/>
                      <a:pt x="21600" y="10252"/>
                      <a:pt x="21600" y="21536"/>
                    </a:cubicBezTo>
                    <a:cubicBezTo>
                      <a:pt x="21600" y="21780"/>
                      <a:pt x="21595" y="22025"/>
                      <a:pt x="21587" y="22269"/>
                    </a:cubicBezTo>
                  </a:path>
                  <a:path stroke="0" w="21600" h="22270">
                    <a:moveTo>
                      <a:pt x="1664" y="0"/>
                    </a:moveTo>
                    <a:cubicBezTo>
                      <a:pt x="12914" y="870"/>
                      <a:pt x="21600" y="10252"/>
                      <a:pt x="21600" y="21536"/>
                    </a:cubicBezTo>
                    <a:cubicBezTo>
                      <a:pt x="21600" y="21780"/>
                      <a:pt x="21595" y="22025"/>
                      <a:pt x="21587" y="22269"/>
                    </a:cubicBezTo>
                    <a:lnTo>
                      <a:pt x="0" y="21536"/>
                    </a:lnTo>
                    <a:lnTo>
                      <a:pt x="1664" y="0"/>
                    </a:lnTo>
                    <a:close/>
                  </a:path>
                </a:pathLst>
              </a:custGeom>
              <a:noFill/>
              <a:ln w="28440">
                <a:solidFill>
                  <a:srgbClr val="c531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49"/>
              <p:cNvSpPr/>
              <p:nvPr/>
            </p:nvSpPr>
            <p:spPr>
              <a:xfrm rot="365400">
                <a:off x="5938560" y="1493280"/>
                <a:ext cx="193680" cy="375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Text Box 50"/>
            <p:cNvSpPr/>
            <p:nvPr/>
          </p:nvSpPr>
          <p:spPr>
            <a:xfrm>
              <a:off x="5221800" y="119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531e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51"/>
          <p:cNvGrpSpPr/>
          <p:nvPr/>
        </p:nvGrpSpPr>
        <p:grpSpPr>
          <a:xfrm>
            <a:off x="1507680" y="-556200"/>
            <a:ext cx="6271920" cy="6167520"/>
            <a:chOff x="1507680" y="-556200"/>
            <a:chExt cx="6271920" cy="6167520"/>
          </a:xfrm>
        </p:grpSpPr>
        <p:grpSp>
          <p:nvGrpSpPr>
            <p:cNvPr id="297" name="Group 52"/>
            <p:cNvGrpSpPr/>
            <p:nvPr/>
          </p:nvGrpSpPr>
          <p:grpSpPr>
            <a:xfrm>
              <a:off x="1507680" y="-556200"/>
              <a:ext cx="6271920" cy="6167520"/>
              <a:chOff x="1507680" y="-556200"/>
              <a:chExt cx="6271920" cy="6167520"/>
            </a:xfrm>
          </p:grpSpPr>
          <p:sp>
            <p:nvSpPr>
              <p:cNvPr id="298" name="Arc 53"/>
              <p:cNvSpPr/>
              <p:nvPr/>
            </p:nvSpPr>
            <p:spPr>
              <a:xfrm flipV="1" rot="13891200">
                <a:off x="2592360" y="152280"/>
                <a:ext cx="4102560" cy="4750560"/>
              </a:xfrm>
              <a:custGeom>
                <a:avLst/>
                <a:gdLst/>
                <a:ahLst/>
                <a:rect l="l" t="t" r="r" b="b"/>
                <a:pathLst>
                  <a:path fill="none" w="21600" h="22270">
                    <a:moveTo>
                      <a:pt x="1664" y="0"/>
                    </a:moveTo>
                    <a:cubicBezTo>
                      <a:pt x="12914" y="870"/>
                      <a:pt x="21600" y="10252"/>
                      <a:pt x="21600" y="21536"/>
                    </a:cubicBezTo>
                    <a:cubicBezTo>
                      <a:pt x="21600" y="21780"/>
                      <a:pt x="21595" y="22025"/>
                      <a:pt x="21587" y="22269"/>
                    </a:cubicBezTo>
                  </a:path>
                  <a:path stroke="0" w="21600" h="22270">
                    <a:moveTo>
                      <a:pt x="1664" y="0"/>
                    </a:moveTo>
                    <a:cubicBezTo>
                      <a:pt x="12914" y="870"/>
                      <a:pt x="21600" y="10252"/>
                      <a:pt x="21600" y="21536"/>
                    </a:cubicBezTo>
                    <a:cubicBezTo>
                      <a:pt x="21600" y="21780"/>
                      <a:pt x="21595" y="22025"/>
                      <a:pt x="21587" y="22269"/>
                    </a:cubicBezTo>
                    <a:lnTo>
                      <a:pt x="0" y="21536"/>
                    </a:lnTo>
                    <a:lnTo>
                      <a:pt x="1664" y="0"/>
                    </a:lnTo>
                    <a:close/>
                  </a:path>
                </a:pathLst>
              </a:custGeom>
              <a:noFill/>
              <a:ln w="2844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54"/>
              <p:cNvSpPr/>
              <p:nvPr/>
            </p:nvSpPr>
            <p:spPr>
              <a:xfrm rot="365400">
                <a:off x="5409720" y="1159920"/>
                <a:ext cx="186480" cy="375120"/>
              </a:xfrm>
              <a:prstGeom prst="rect">
                <a:avLst/>
              </a:prstGeom>
              <a:noFill/>
              <a:ln w="9360">
                <a:solidFill>
                  <a:srgbClr val="0099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Text Box 55"/>
            <p:cNvSpPr/>
            <p:nvPr/>
          </p:nvSpPr>
          <p:spPr>
            <a:xfrm>
              <a:off x="4462920" y="768960"/>
              <a:ext cx="307080" cy="368280"/>
            </a:xfrm>
            <a:prstGeom prst="rect">
              <a:avLst/>
            </a:prstGeom>
            <a:noFill/>
            <a:ln w="9360">
              <a:solidFill>
                <a:srgbClr val="0099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99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Text Box 57"/>
          <p:cNvSpPr/>
          <p:nvPr/>
        </p:nvSpPr>
        <p:spPr>
          <a:xfrm>
            <a:off x="1131480" y="2854440"/>
            <a:ext cx="729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红薯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8"/>
          <p:cNvSpPr/>
          <p:nvPr/>
        </p:nvSpPr>
        <p:spPr>
          <a:xfrm>
            <a:off x="4213080" y="2781360"/>
            <a:ext cx="39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茄子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9"/>
          <p:cNvSpPr/>
          <p:nvPr/>
        </p:nvSpPr>
        <p:spPr>
          <a:xfrm>
            <a:off x="2771640" y="2781360"/>
            <a:ext cx="3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西红柿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0"/>
          <p:cNvSpPr/>
          <p:nvPr/>
        </p:nvSpPr>
        <p:spPr>
          <a:xfrm>
            <a:off x="5797440" y="2781360"/>
            <a:ext cx="39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胡萝卜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1"/>
          <p:cNvSpPr/>
          <p:nvPr/>
        </p:nvSpPr>
        <p:spPr>
          <a:xfrm>
            <a:off x="7380360" y="2781360"/>
            <a:ext cx="39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土豆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755640" y="90792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黑体"/>
              </a:rPr>
              <a:t>数一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684360" y="2924280"/>
            <a:ext cx="2519280" cy="504360"/>
            <a:chOff x="684360" y="2924280"/>
            <a:chExt cx="2519280" cy="504360"/>
          </a:xfrm>
        </p:grpSpPr>
        <p:sp>
          <p:nvSpPr>
            <p:cNvPr id="308" name="Rectangle 4"/>
            <p:cNvSpPr/>
            <p:nvPr/>
          </p:nvSpPr>
          <p:spPr>
            <a:xfrm>
              <a:off x="684360" y="2924280"/>
              <a:ext cx="2519280" cy="504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5"/>
            <p:cNvSpPr/>
            <p:nvPr/>
          </p:nvSpPr>
          <p:spPr>
            <a:xfrm>
              <a:off x="1544400" y="2924280"/>
              <a:ext cx="0" cy="50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6"/>
            <p:cNvSpPr/>
            <p:nvPr/>
          </p:nvSpPr>
          <p:spPr>
            <a:xfrm>
              <a:off x="2574000" y="2924280"/>
              <a:ext cx="0" cy="50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7"/>
          <p:cNvGrpSpPr/>
          <p:nvPr/>
        </p:nvGrpSpPr>
        <p:grpSpPr>
          <a:xfrm>
            <a:off x="3635280" y="1700280"/>
            <a:ext cx="2089080" cy="1872720"/>
            <a:chOff x="3635280" y="1700280"/>
            <a:chExt cx="2089080" cy="1872720"/>
          </a:xfrm>
        </p:grpSpPr>
        <p:sp>
          <p:nvSpPr>
            <p:cNvPr id="312" name="AutoShape 8"/>
            <p:cNvSpPr/>
            <p:nvPr/>
          </p:nvSpPr>
          <p:spPr>
            <a:xfrm>
              <a:off x="3635280" y="1700280"/>
              <a:ext cx="2089080" cy="1872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9"/>
            <p:cNvSpPr/>
            <p:nvPr/>
          </p:nvSpPr>
          <p:spPr>
            <a:xfrm flipH="1">
              <a:off x="4121280" y="1700280"/>
              <a:ext cx="556920" cy="187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0"/>
            <p:cNvSpPr/>
            <p:nvPr/>
          </p:nvSpPr>
          <p:spPr>
            <a:xfrm>
              <a:off x="4678920" y="1700280"/>
              <a:ext cx="0" cy="187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1"/>
            <p:cNvSpPr/>
            <p:nvPr/>
          </p:nvSpPr>
          <p:spPr>
            <a:xfrm>
              <a:off x="4678920" y="1700280"/>
              <a:ext cx="556560" cy="187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2"/>
          <p:cNvGrpSpPr/>
          <p:nvPr/>
        </p:nvGrpSpPr>
        <p:grpSpPr>
          <a:xfrm>
            <a:off x="6588000" y="1268280"/>
            <a:ext cx="1944720" cy="2881440"/>
            <a:chOff x="6588000" y="1268280"/>
            <a:chExt cx="1944720" cy="2881440"/>
          </a:xfrm>
        </p:grpSpPr>
        <p:sp>
          <p:nvSpPr>
            <p:cNvPr id="317" name="Line 13"/>
            <p:cNvSpPr/>
            <p:nvPr/>
          </p:nvSpPr>
          <p:spPr>
            <a:xfrm>
              <a:off x="6588000" y="3429000"/>
              <a:ext cx="18003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4"/>
            <p:cNvSpPr/>
            <p:nvPr/>
          </p:nvSpPr>
          <p:spPr>
            <a:xfrm>
              <a:off x="6588000" y="3429000"/>
              <a:ext cx="194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5"/>
            <p:cNvSpPr/>
            <p:nvPr/>
          </p:nvSpPr>
          <p:spPr>
            <a:xfrm flipV="1">
              <a:off x="6588000" y="270828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6"/>
            <p:cNvSpPr/>
            <p:nvPr/>
          </p:nvSpPr>
          <p:spPr>
            <a:xfrm flipV="1">
              <a:off x="6588000" y="2133000"/>
              <a:ext cx="158436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7"/>
            <p:cNvSpPr/>
            <p:nvPr/>
          </p:nvSpPr>
          <p:spPr>
            <a:xfrm flipV="1">
              <a:off x="6588000" y="1628280"/>
              <a:ext cx="1008000" cy="180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8"/>
            <p:cNvSpPr/>
            <p:nvPr/>
          </p:nvSpPr>
          <p:spPr>
            <a:xfrm flipV="1">
              <a:off x="6588000" y="1268280"/>
              <a:ext cx="431640" cy="216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ectangle 19">
            <a:hlinkClick r:id="rId1" action="ppaction://hlinksldjump"/>
          </p:cNvPr>
          <p:cNvSpPr/>
          <p:nvPr/>
        </p:nvSpPr>
        <p:spPr>
          <a:xfrm>
            <a:off x="539640" y="2133720"/>
            <a:ext cx="2952720" cy="165564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0"/>
          <p:cNvSpPr/>
          <p:nvPr/>
        </p:nvSpPr>
        <p:spPr>
          <a:xfrm>
            <a:off x="6516720" y="4581360"/>
            <a:ext cx="20415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    ）个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1"/>
          <p:cNvSpPr/>
          <p:nvPr/>
        </p:nvSpPr>
        <p:spPr>
          <a:xfrm>
            <a:off x="3276720" y="4581360"/>
            <a:ext cx="254448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    ）个三角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755640" y="4581360"/>
            <a:ext cx="24019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    ）个长方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755640" y="90792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黑体"/>
              </a:rPr>
              <a:t>数一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2195640" y="2421000"/>
            <a:ext cx="4392000" cy="862920"/>
            <a:chOff x="2195640" y="2421000"/>
            <a:chExt cx="4392000" cy="862920"/>
          </a:xfrm>
        </p:grpSpPr>
        <p:sp>
          <p:nvSpPr>
            <p:cNvPr id="330" name="Rectangle 5"/>
            <p:cNvSpPr/>
            <p:nvPr/>
          </p:nvSpPr>
          <p:spPr>
            <a:xfrm>
              <a:off x="2195640" y="2421000"/>
              <a:ext cx="4392000" cy="862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6"/>
            <p:cNvSpPr/>
            <p:nvPr/>
          </p:nvSpPr>
          <p:spPr>
            <a:xfrm>
              <a:off x="3695040" y="2421000"/>
              <a:ext cx="0" cy="86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7"/>
            <p:cNvSpPr/>
            <p:nvPr/>
          </p:nvSpPr>
          <p:spPr>
            <a:xfrm>
              <a:off x="5490000" y="2421000"/>
              <a:ext cx="0" cy="86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Rectangle 8"/>
          <p:cNvSpPr/>
          <p:nvPr/>
        </p:nvSpPr>
        <p:spPr>
          <a:xfrm>
            <a:off x="2195640" y="2421000"/>
            <a:ext cx="1512720" cy="863640"/>
          </a:xfrm>
          <a:prstGeom prst="rect">
            <a:avLst/>
          </a:prstGeom>
          <a:solidFill>
            <a:srgbClr val="fc1d18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2195640" y="2421000"/>
            <a:ext cx="3313080" cy="863640"/>
          </a:xfrm>
          <a:prstGeom prst="rect">
            <a:avLst/>
          </a:prstGeom>
          <a:solidFill>
            <a:srgbClr val="fc1d18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2195640" y="2421000"/>
            <a:ext cx="4392360" cy="863640"/>
          </a:xfrm>
          <a:prstGeom prst="rect">
            <a:avLst/>
          </a:prstGeom>
          <a:solidFill>
            <a:srgbClr val="fc1d18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2627280" y="4149720"/>
            <a:ext cx="576360" cy="64944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2"/>
          <p:cNvSpPr/>
          <p:nvPr/>
        </p:nvSpPr>
        <p:spPr>
          <a:xfrm>
            <a:off x="3708360" y="2421000"/>
            <a:ext cx="1800360" cy="863640"/>
          </a:xfrm>
          <a:prstGeom prst="rect">
            <a:avLst/>
          </a:prstGeom>
          <a:solidFill>
            <a:srgbClr val="ece106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3"/>
          <p:cNvSpPr/>
          <p:nvPr/>
        </p:nvSpPr>
        <p:spPr>
          <a:xfrm>
            <a:off x="3708360" y="2421000"/>
            <a:ext cx="2879640" cy="863640"/>
          </a:xfrm>
          <a:prstGeom prst="rect">
            <a:avLst/>
          </a:prstGeom>
          <a:solidFill>
            <a:srgbClr val="fcf008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4"/>
          <p:cNvSpPr/>
          <p:nvPr/>
        </p:nvSpPr>
        <p:spPr>
          <a:xfrm>
            <a:off x="3203640" y="4149720"/>
            <a:ext cx="576360" cy="64944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5"/>
          <p:cNvSpPr/>
          <p:nvPr/>
        </p:nvSpPr>
        <p:spPr>
          <a:xfrm>
            <a:off x="5508720" y="2421000"/>
            <a:ext cx="1079280" cy="863640"/>
          </a:xfrm>
          <a:prstGeom prst="rect">
            <a:avLst/>
          </a:prstGeom>
          <a:solidFill>
            <a:srgbClr val="0066ff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6"/>
          <p:cNvSpPr/>
          <p:nvPr/>
        </p:nvSpPr>
        <p:spPr>
          <a:xfrm>
            <a:off x="3924360" y="4148280"/>
            <a:ext cx="576360" cy="649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7"/>
          <p:cNvSpPr/>
          <p:nvPr/>
        </p:nvSpPr>
        <p:spPr>
          <a:xfrm>
            <a:off x="4572000" y="4148280"/>
            <a:ext cx="1800360" cy="649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 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remove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remove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remove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remove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remove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remove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755640" y="90792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黑体"/>
              </a:rPr>
              <a:t>数一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4"/>
          <p:cNvGrpSpPr/>
          <p:nvPr/>
        </p:nvGrpSpPr>
        <p:grpSpPr>
          <a:xfrm>
            <a:off x="2195640" y="2421000"/>
            <a:ext cx="4392000" cy="862920"/>
            <a:chOff x="2195640" y="2421000"/>
            <a:chExt cx="4392000" cy="862920"/>
          </a:xfrm>
        </p:grpSpPr>
        <p:sp>
          <p:nvSpPr>
            <p:cNvPr id="346" name="Rectangle 5"/>
            <p:cNvSpPr/>
            <p:nvPr/>
          </p:nvSpPr>
          <p:spPr>
            <a:xfrm>
              <a:off x="2195640" y="2421000"/>
              <a:ext cx="4392000" cy="862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3695040" y="2421000"/>
              <a:ext cx="0" cy="86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7"/>
            <p:cNvSpPr/>
            <p:nvPr/>
          </p:nvSpPr>
          <p:spPr>
            <a:xfrm>
              <a:off x="5490000" y="2421000"/>
              <a:ext cx="0" cy="86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Rectangle 8"/>
          <p:cNvSpPr/>
          <p:nvPr/>
        </p:nvSpPr>
        <p:spPr>
          <a:xfrm>
            <a:off x="2195640" y="2421000"/>
            <a:ext cx="1512720" cy="863640"/>
          </a:xfrm>
          <a:prstGeom prst="rect">
            <a:avLst/>
          </a:prstGeom>
          <a:solidFill>
            <a:srgbClr val="fc1d18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9"/>
          <p:cNvSpPr/>
          <p:nvPr/>
        </p:nvSpPr>
        <p:spPr>
          <a:xfrm>
            <a:off x="2195640" y="2421000"/>
            <a:ext cx="3313080" cy="863640"/>
          </a:xfrm>
          <a:prstGeom prst="rect">
            <a:avLst/>
          </a:prstGeom>
          <a:solidFill>
            <a:srgbClr val="fc1d18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0"/>
          <p:cNvSpPr/>
          <p:nvPr/>
        </p:nvSpPr>
        <p:spPr>
          <a:xfrm>
            <a:off x="2195640" y="2421000"/>
            <a:ext cx="4392360" cy="863640"/>
          </a:xfrm>
          <a:prstGeom prst="rect">
            <a:avLst/>
          </a:prstGeom>
          <a:solidFill>
            <a:srgbClr val="fc1d18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2627280" y="4149720"/>
            <a:ext cx="576360" cy="64944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3708360" y="2421000"/>
            <a:ext cx="1800360" cy="863640"/>
          </a:xfrm>
          <a:prstGeom prst="rect">
            <a:avLst/>
          </a:prstGeom>
          <a:solidFill>
            <a:srgbClr val="ece106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3"/>
          <p:cNvSpPr/>
          <p:nvPr/>
        </p:nvSpPr>
        <p:spPr>
          <a:xfrm>
            <a:off x="3708360" y="2421000"/>
            <a:ext cx="2879640" cy="863640"/>
          </a:xfrm>
          <a:prstGeom prst="rect">
            <a:avLst/>
          </a:prstGeom>
          <a:solidFill>
            <a:srgbClr val="fcf008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4"/>
          <p:cNvSpPr/>
          <p:nvPr/>
        </p:nvSpPr>
        <p:spPr>
          <a:xfrm>
            <a:off x="3203640" y="4149720"/>
            <a:ext cx="576360" cy="64944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5"/>
          <p:cNvSpPr/>
          <p:nvPr/>
        </p:nvSpPr>
        <p:spPr>
          <a:xfrm>
            <a:off x="5508720" y="2421000"/>
            <a:ext cx="1079280" cy="863640"/>
          </a:xfrm>
          <a:prstGeom prst="rect">
            <a:avLst/>
          </a:prstGeom>
          <a:solidFill>
            <a:srgbClr val="0066ff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6"/>
          <p:cNvSpPr/>
          <p:nvPr/>
        </p:nvSpPr>
        <p:spPr>
          <a:xfrm>
            <a:off x="3924360" y="4148280"/>
            <a:ext cx="576360" cy="649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7"/>
          <p:cNvSpPr/>
          <p:nvPr/>
        </p:nvSpPr>
        <p:spPr>
          <a:xfrm>
            <a:off x="4572000" y="4148280"/>
            <a:ext cx="1800360" cy="649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 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remove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remove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remove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remove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remove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remove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00:16:40Z</dcterms:created>
  <dc:creator/>
  <dc:description/>
  <cp:keywords/>
  <dc:language>en-US</dc:language>
  <cp:lastModifiedBy/>
  <dcterms:modified xsi:type="dcterms:W3CDTF">2016-06-15T07:51:12Z</dcterms:modified>
  <cp:revision>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72</vt:lpwstr>
  </property>
</Properties>
</file>