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Button18.wav" ContentType="audio/x-wav"/>
  <Override PartName="/ppt/media/cashreg.wav" ContentType="audio/x-wav"/>
  <Override PartName="/ppt/media/click.wav" ContentType="audio/x-wav"/>
  <Override PartName="/ppt/media/hammer.wav" ContentType="audio/x-wav"/>
  <Override PartName="/ppt/media/MU31.WAV" ContentType="audio/x-wav"/>
  <Override PartName="/ppt/media/START.WAV" ContentType="audio/x-wav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FB3-1F00-4B92-9B1E-AB125574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2C78-F392-4524-848A-8D86C08E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706-7B07-4812-A8A5-2357F862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240-500A-4C87-81FC-ED66F800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A05-B3C4-4092-9226-21D37482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3FD-672F-48DB-88F7-595A4403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4A2-C517-432F-9D87-A9584638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D30-6708-4041-A8EB-70F8F4B8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B2E6-C188-4754-9F66-0010ED20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7D9-98A3-445A-8EB5-0F308BB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F10-1122-4C86-B849-22A9A382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801-E484-4A11-B2AA-8073530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453F-4BF4-48FB-A8AD-B8F907A17A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Button18.wav"/><Relationship Id="rId3" Type="http://schemas.openxmlformats.org/officeDocument/2006/relationships/audio" Target="../media/click.wav"/><Relationship Id="rId4" Type="http://schemas.openxmlformats.org/officeDocument/2006/relationships/audio" Target="../media/MU31.WAV"/><Relationship Id="rId5" Type="http://schemas.openxmlformats.org/officeDocument/2006/relationships/audio" Target="../media/cashreg.wav"/><Relationship Id="rId6" Type="http://schemas.openxmlformats.org/officeDocument/2006/relationships/audio" Target="../media/hammer.wav"/><Relationship Id="rId7" Type="http://schemas.openxmlformats.org/officeDocument/2006/relationships/audio" Target="../media/MU31.WAV"/><Relationship Id="rId8" Type="http://schemas.openxmlformats.org/officeDocument/2006/relationships/audio" Target="../media/cashreg.wav"/><Relationship Id="rId9" Type="http://schemas.openxmlformats.org/officeDocument/2006/relationships/audio" Target="../media/START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STAR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法分配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252360" y="3357720"/>
            <a:ext cx="8610480" cy="1987200"/>
            <a:chOff x="-252360" y="3357720"/>
            <a:chExt cx="8610480" cy="1987200"/>
          </a:xfrm>
        </p:grpSpPr>
        <p:sp>
          <p:nvSpPr>
            <p:cNvPr id="74" name="Rectangle 3"/>
            <p:cNvSpPr/>
            <p:nvPr/>
          </p:nvSpPr>
          <p:spPr>
            <a:xfrm>
              <a:off x="-252360" y="3357720"/>
              <a:ext cx="8457840" cy="19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4"/>
            <p:cNvSpPr/>
            <p:nvPr/>
          </p:nvSpPr>
          <p:spPr>
            <a:xfrm>
              <a:off x="-23760" y="3467520"/>
              <a:ext cx="8381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a </a:t>
              </a:r>
              <a:r>
                <a:rPr b="1" lang="en-US" sz="88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+</a:t>
              </a:r>
              <a:r>
                <a:rPr b="1" lang="en-US" sz="60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 </a:t>
              </a:r>
              <a:r>
                <a:rPr b="1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b)</a:t>
              </a:r>
              <a:r>
                <a:rPr b="1" lang="en-US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r>
                <a:rPr b="1" lang="en-US" sz="88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c</a:t>
              </a:r>
              <a:r>
                <a:rPr b="1" lang="en-US" sz="8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5"/>
          <p:cNvSpPr/>
          <p:nvPr/>
        </p:nvSpPr>
        <p:spPr>
          <a:xfrm>
            <a:off x="4883040" y="3429000"/>
            <a:ext cx="220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en-US" sz="8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548400" y="3529080"/>
            <a:ext cx="76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308720" y="3429000"/>
            <a:ext cx="19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en-US" sz="8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539640" y="3033720"/>
            <a:ext cx="4032360" cy="720720"/>
          </a:xfrm>
          <a:custGeom>
            <a:avLst/>
            <a:gdLst>
              <a:gd name="textAreaLeft" fmla="*/ 705600 w 4032360"/>
              <a:gd name="textAreaRight" fmla="*/ 2923560 w 403236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2195640" y="4900680"/>
            <a:ext cx="2162160" cy="473040"/>
          </a:xfrm>
          <a:custGeom>
            <a:avLst/>
            <a:gdLst>
              <a:gd name="textAreaLeft" fmla="*/ 378360 w 2162160"/>
              <a:gd name="textAreaRight" fmla="*/ 1567800 w 2162160"/>
              <a:gd name="textAreaTop" fmla="*/ 63360 h 473040"/>
              <a:gd name="textAreaBottom" fmla="*/ 409680 h 4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826920" y="763560"/>
            <a:ext cx="3602160" cy="1513080"/>
          </a:xfrm>
          <a:prstGeom prst="downArrowCallout">
            <a:avLst>
              <a:gd name="adj1" fmla="val 59523"/>
              <a:gd name="adj2" fmla="val 59517"/>
              <a:gd name="adj3" fmla="val 16667"/>
              <a:gd name="adj4" fmla="val 66667"/>
            </a:avLst>
          </a:prstGeom>
          <a:solidFill>
            <a:srgbClr val="00ffff">
              <a:alpha val="57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幼圆"/>
              </a:rPr>
              <a:t>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幼圆"/>
              </a:rPr>
              <a:t>用字母表示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5003640" y="4869000"/>
            <a:ext cx="1370160" cy="0"/>
          </a:xfrm>
          <a:prstGeom prst="line">
            <a:avLst/>
          </a:prstGeom>
          <a:ln w="507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7524720" y="4869000"/>
            <a:ext cx="1368360" cy="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8" descr="045"/>
          <p:cNvPicPr/>
          <p:nvPr/>
        </p:nvPicPr>
        <p:blipFill>
          <a:blip r:embed="rId1"/>
          <a:stretch/>
        </p:blipFill>
        <p:spPr>
          <a:xfrm>
            <a:off x="7467480" y="457200"/>
            <a:ext cx="1295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U3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-380880" y="989640"/>
            <a:ext cx="8458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在横线上填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1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×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×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×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×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5×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×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×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3×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762120" y="3809160"/>
            <a:ext cx="77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动作按钮: 前进或下一项 1">
            <a:hlinkClick r:id="" action="ppaction://hlinkshowjump?jump=lastslide"/>
          </p:cNvPr>
          <p:cNvSpPr/>
          <p:nvPr/>
        </p:nvSpPr>
        <p:spPr>
          <a:xfrm>
            <a:off x="7337520" y="4073400"/>
            <a:ext cx="1041480" cy="1043280"/>
          </a:xfrm>
          <a:custGeom>
            <a:avLst/>
            <a:gdLst>
              <a:gd name="textAreaLeft" fmla="*/ 67320 w 1041480"/>
              <a:gd name="textAreaRight" fmla="*/ 974160 w 10414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37">
                <a:moveTo>
                  <a:pt x="0" y="0"/>
                </a:moveTo>
                <a:lnTo>
                  <a:pt x="21600" y="0"/>
                </a:lnTo>
                <a:lnTo>
                  <a:pt x="21600" y="21637"/>
                </a:lnTo>
                <a:lnTo>
                  <a:pt x="0" y="21637"/>
                </a:lnTo>
                <a:close/>
              </a:path>
              <a:path fill="lightenLess" w="21600" h="216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7">
                <a:moveTo>
                  <a:pt x="21600" y="0"/>
                </a:moveTo>
                <a:lnTo>
                  <a:pt x="21600" y="21637"/>
                </a:lnTo>
                <a:lnTo>
                  <a:pt x="20200" y="20237"/>
                </a:lnTo>
                <a:lnTo>
                  <a:pt x="20200" y="1400"/>
                </a:lnTo>
                <a:close/>
              </a:path>
              <a:path fill="darkenLess" w="21600" h="21637">
                <a:moveTo>
                  <a:pt x="21600" y="21637"/>
                </a:moveTo>
                <a:lnTo>
                  <a:pt x="0" y="21637"/>
                </a:lnTo>
                <a:lnTo>
                  <a:pt x="1400" y="20237"/>
                </a:lnTo>
                <a:lnTo>
                  <a:pt x="20200" y="20237"/>
                </a:lnTo>
                <a:close/>
              </a:path>
              <a:path fill="lighten" w="21600" h="21637">
                <a:moveTo>
                  <a:pt x="0" y="216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7"/>
                </a:lnTo>
                <a:close/>
              </a:path>
              <a:path fill="darken" w="21600" h="21637">
                <a:moveTo>
                  <a:pt x="3794" y="3812"/>
                </a:moveTo>
                <a:lnTo>
                  <a:pt x="17806" y="10819"/>
                </a:lnTo>
                <a:lnTo>
                  <a:pt x="3794" y="1782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动作按钮: 结束 2">
            <a:hlinkClick r:id="" action="ppaction://hlinkshowjump?jump=lastslide"/>
          </p:cNvPr>
          <p:cNvSpPr/>
          <p:nvPr/>
        </p:nvSpPr>
        <p:spPr>
          <a:xfrm>
            <a:off x="178128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3794" y="17810"/>
                </a:lnTo>
                <a:lnTo>
                  <a:pt x="3794" y="3797"/>
                </a:lnTo>
                <a:close/>
              </a:path>
              <a:path fill="darken" w="21600" h="21607">
                <a:moveTo>
                  <a:pt x="16144" y="3797"/>
                </a:moveTo>
                <a:lnTo>
                  <a:pt x="16144" y="17810"/>
                </a:lnTo>
                <a:lnTo>
                  <a:pt x="17806" y="17810"/>
                </a:lnTo>
                <a:lnTo>
                  <a:pt x="17806" y="37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45200" y="227160"/>
            <a:ext cx="31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巩固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423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c0504d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c0504d"/>
                </a:solidFill>
                <a:latin typeface="Calibri"/>
              </a:rPr>
              <a:t>把相等的算式用等号连接起来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1) 32×4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×5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×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2) 20×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　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×17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×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8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4×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4×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5           40×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×12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×8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×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25×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2920" y="95868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192920" y="14922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动作按钮: 结束 1">
            <a:hlinkClick r:id="" action="ppaction://hlinkshowjump?jump=lastslide"/>
          </p:cNvPr>
          <p:cNvSpPr/>
          <p:nvPr/>
        </p:nvSpPr>
        <p:spPr>
          <a:xfrm>
            <a:off x="6781680" y="3733920"/>
            <a:ext cx="2033640" cy="1992240"/>
          </a:xfrm>
          <a:custGeom>
            <a:avLst/>
            <a:gdLst>
              <a:gd name="textAreaLeft" fmla="*/ 128880 w 2033640"/>
              <a:gd name="textAreaRight" fmla="*/ 1904760 w 2033640"/>
              <a:gd name="textAreaTop" fmla="*/ 128880 h 1992240"/>
              <a:gd name="textAreaBottom" fmla="*/ 1863360 h 1992240"/>
            </a:gdLst>
            <a:ahLst/>
            <a:rect l="textAreaLeft" t="textAreaTop" r="textAreaRight" b="textAreaBottom"/>
            <a:pathLst>
              <a:path w="22049" h="21600">
                <a:moveTo>
                  <a:pt x="0" y="0"/>
                </a:moveTo>
                <a:lnTo>
                  <a:pt x="22049" y="0"/>
                </a:lnTo>
                <a:lnTo>
                  <a:pt x="22049" y="21600"/>
                </a:lnTo>
                <a:lnTo>
                  <a:pt x="0" y="21600"/>
                </a:lnTo>
                <a:close/>
              </a:path>
              <a:path fill="lightenLess" w="22049" h="21600">
                <a:moveTo>
                  <a:pt x="0" y="0"/>
                </a:moveTo>
                <a:lnTo>
                  <a:pt x="22049" y="0"/>
                </a:lnTo>
                <a:lnTo>
                  <a:pt x="20649" y="1400"/>
                </a:lnTo>
                <a:lnTo>
                  <a:pt x="1400" y="1400"/>
                </a:lnTo>
                <a:close/>
              </a:path>
              <a:path fill="darken" w="22049" h="21600">
                <a:moveTo>
                  <a:pt x="22049" y="0"/>
                </a:moveTo>
                <a:lnTo>
                  <a:pt x="22049" y="21600"/>
                </a:lnTo>
                <a:lnTo>
                  <a:pt x="20649" y="20200"/>
                </a:lnTo>
                <a:lnTo>
                  <a:pt x="20649" y="1400"/>
                </a:lnTo>
                <a:close/>
              </a:path>
              <a:path fill="darkenLess" w="22049" h="21600">
                <a:moveTo>
                  <a:pt x="22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49" y="20200"/>
                </a:lnTo>
                <a:close/>
              </a:path>
              <a:path fill="lighten" w="22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49" h="21600">
                <a:moveTo>
                  <a:pt x="14523" y="10800"/>
                </a:moveTo>
                <a:lnTo>
                  <a:pt x="4018" y="17806"/>
                </a:lnTo>
                <a:lnTo>
                  <a:pt x="4018" y="3794"/>
                </a:lnTo>
                <a:close/>
              </a:path>
              <a:path fill="darken" w="22049" h="21600">
                <a:moveTo>
                  <a:pt x="16368" y="3794"/>
                </a:moveTo>
                <a:lnTo>
                  <a:pt x="16368" y="17806"/>
                </a:lnTo>
                <a:lnTo>
                  <a:pt x="18031" y="17806"/>
                </a:lnTo>
                <a:lnTo>
                  <a:pt x="18031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动作按钮: 结束 2">
            <a:hlinkClick r:id="" action="ppaction://hlinkshowjump?jump=lastslide"/>
          </p:cNvPr>
          <p:cNvSpPr/>
          <p:nvPr/>
        </p:nvSpPr>
        <p:spPr>
          <a:xfrm>
            <a:off x="533520" y="5334120"/>
            <a:ext cx="2185920" cy="1195200"/>
          </a:xfrm>
          <a:custGeom>
            <a:avLst/>
            <a:gdLst>
              <a:gd name="textAreaLeft" fmla="*/ 77400 w 2185920"/>
              <a:gd name="textAreaRight" fmla="*/ 2108520 w 2185920"/>
              <a:gd name="textAreaTop" fmla="*/ 77400 h 1195200"/>
              <a:gd name="textAreaBottom" fmla="*/ 1117800 h 1195200"/>
            </a:gdLst>
            <a:ahLst/>
            <a:rect l="textAreaLeft" t="textAreaTop" r="textAreaRight" b="textAreaBottom"/>
            <a:pathLst>
              <a:path w="39499" h="21600">
                <a:moveTo>
                  <a:pt x="0" y="0"/>
                </a:moveTo>
                <a:lnTo>
                  <a:pt x="39499" y="0"/>
                </a:lnTo>
                <a:lnTo>
                  <a:pt x="39499" y="21600"/>
                </a:lnTo>
                <a:lnTo>
                  <a:pt x="0" y="21600"/>
                </a:lnTo>
                <a:close/>
              </a:path>
              <a:path fill="lightenLess" w="39499" h="21600">
                <a:moveTo>
                  <a:pt x="0" y="0"/>
                </a:moveTo>
                <a:lnTo>
                  <a:pt x="39499" y="0"/>
                </a:lnTo>
                <a:lnTo>
                  <a:pt x="38099" y="1400"/>
                </a:lnTo>
                <a:lnTo>
                  <a:pt x="1400" y="1400"/>
                </a:lnTo>
                <a:close/>
              </a:path>
              <a:path fill="darken" w="39499" h="21600">
                <a:moveTo>
                  <a:pt x="39499" y="0"/>
                </a:moveTo>
                <a:lnTo>
                  <a:pt x="39499" y="21600"/>
                </a:lnTo>
                <a:lnTo>
                  <a:pt x="38099" y="20200"/>
                </a:lnTo>
                <a:lnTo>
                  <a:pt x="38099" y="1400"/>
                </a:lnTo>
                <a:close/>
              </a:path>
              <a:path fill="darkenLess" w="39499" h="21600">
                <a:moveTo>
                  <a:pt x="394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99" y="20200"/>
                </a:lnTo>
                <a:close/>
              </a:path>
              <a:path fill="lighten" w="394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99" h="21600">
                <a:moveTo>
                  <a:pt x="23248" y="10800"/>
                </a:moveTo>
                <a:lnTo>
                  <a:pt x="12743" y="17806"/>
                </a:lnTo>
                <a:lnTo>
                  <a:pt x="12743" y="3794"/>
                </a:lnTo>
                <a:close/>
              </a:path>
              <a:path fill="darken" w="39499" h="21600">
                <a:moveTo>
                  <a:pt x="25094" y="3794"/>
                </a:moveTo>
                <a:lnTo>
                  <a:pt x="25094" y="17806"/>
                </a:lnTo>
                <a:lnTo>
                  <a:pt x="26756" y="17806"/>
                </a:lnTo>
                <a:lnTo>
                  <a:pt x="26756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600200" y="919080"/>
            <a:ext cx="576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c0504d"/>
                </a:solidFill>
                <a:latin typeface="Arial"/>
              </a:rPr>
              <a:t>利用乘法分配律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80+4) ×25            34×72+34×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590920" y="1066680"/>
            <a:ext cx="313992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本课小结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676520" y="25909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本节课我们学习了乘法的分配律，你有什么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桂园小学111"/>
          <p:cNvPicPr/>
          <p:nvPr/>
        </p:nvPicPr>
        <p:blipFill>
          <a:blip r:embed="rId1"/>
          <a:stretch/>
        </p:blipFill>
        <p:spPr>
          <a:xfrm>
            <a:off x="6934320" y="4343400"/>
            <a:ext cx="1904760" cy="2184480"/>
          </a:xfrm>
          <a:prstGeom prst="rect">
            <a:avLst/>
          </a:prstGeom>
          <a:ln w="0">
            <a:noFill/>
          </a:ln>
        </p:spPr>
      </p:pic>
      <p:sp>
        <p:nvSpPr>
          <p:cNvPr id="99" name="动作按钮: 结束 1">
            <a:hlinkClick r:id="" action="ppaction://hlinkshowjump?jump=lastslide"/>
          </p:cNvPr>
          <p:cNvSpPr/>
          <p:nvPr/>
        </p:nvSpPr>
        <p:spPr>
          <a:xfrm>
            <a:off x="4160880" y="4618080"/>
            <a:ext cx="1042920" cy="10414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480"/>
              <a:gd name="textAreaBottom" fmla="*/ 974160 h 1041480"/>
            </a:gdLst>
            <a:ahLst/>
            <a:rect l="textAreaLeft" t="textAreaTop" r="textAreaRight" b="textAreaBottom"/>
            <a:pathLst>
              <a:path w="21630" h="21600">
                <a:moveTo>
                  <a:pt x="0" y="0"/>
                </a:moveTo>
                <a:lnTo>
                  <a:pt x="21630" y="0"/>
                </a:lnTo>
                <a:lnTo>
                  <a:pt x="21630" y="21600"/>
                </a:lnTo>
                <a:lnTo>
                  <a:pt x="0" y="21600"/>
                </a:lnTo>
                <a:close/>
              </a:path>
              <a:path fill="lightenLess" w="21630" h="21600">
                <a:moveTo>
                  <a:pt x="0" y="0"/>
                </a:moveTo>
                <a:lnTo>
                  <a:pt x="21630" y="0"/>
                </a:lnTo>
                <a:lnTo>
                  <a:pt x="20230" y="1400"/>
                </a:lnTo>
                <a:lnTo>
                  <a:pt x="1400" y="1400"/>
                </a:lnTo>
                <a:close/>
              </a:path>
              <a:path fill="darken" w="21630" h="21600">
                <a:moveTo>
                  <a:pt x="21630" y="0"/>
                </a:moveTo>
                <a:lnTo>
                  <a:pt x="21630" y="21600"/>
                </a:lnTo>
                <a:lnTo>
                  <a:pt x="20230" y="20200"/>
                </a:lnTo>
                <a:lnTo>
                  <a:pt x="20230" y="1400"/>
                </a:lnTo>
                <a:close/>
              </a:path>
              <a:path fill="darkenLess" w="21630" h="21600">
                <a:moveTo>
                  <a:pt x="216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0" y="20200"/>
                </a:lnTo>
                <a:close/>
              </a:path>
              <a:path fill="lighten" w="216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0" h="21600">
                <a:moveTo>
                  <a:pt x="14314" y="10800"/>
                </a:moveTo>
                <a:lnTo>
                  <a:pt x="3808" y="17806"/>
                </a:lnTo>
                <a:lnTo>
                  <a:pt x="3808" y="3794"/>
                </a:lnTo>
                <a:close/>
              </a:path>
              <a:path fill="darken" w="21630" h="21600">
                <a:moveTo>
                  <a:pt x="16159" y="3794"/>
                </a:moveTo>
                <a:lnTo>
                  <a:pt x="16159" y="17806"/>
                </a:lnTo>
                <a:lnTo>
                  <a:pt x="17821" y="17806"/>
                </a:lnTo>
                <a:lnTo>
                  <a:pt x="17821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动作按钮: 结束 2">
            <a:hlinkClick r:id="" action="ppaction://hlinkshowjump?jump=lastslide"/>
          </p:cNvPr>
          <p:cNvSpPr/>
          <p:nvPr/>
        </p:nvSpPr>
        <p:spPr>
          <a:xfrm>
            <a:off x="4343400" y="4915080"/>
            <a:ext cx="1042920" cy="10411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1120"/>
              <a:gd name="textAreaBottom" fmla="*/ 973800 h 1041120"/>
            </a:gdLst>
            <a:ahLst/>
            <a:rect l="textAreaLeft" t="textAreaTop" r="textAreaRight" b="textAreaBottom"/>
            <a:pathLst>
              <a:path w="21637" h="21600">
                <a:moveTo>
                  <a:pt x="0" y="0"/>
                </a:moveTo>
                <a:lnTo>
                  <a:pt x="21637" y="0"/>
                </a:lnTo>
                <a:lnTo>
                  <a:pt x="21637" y="21600"/>
                </a:lnTo>
                <a:lnTo>
                  <a:pt x="0" y="21600"/>
                </a:lnTo>
                <a:close/>
              </a:path>
              <a:path fill="lightenLess" w="21637" h="21600">
                <a:moveTo>
                  <a:pt x="0" y="0"/>
                </a:moveTo>
                <a:lnTo>
                  <a:pt x="21637" y="0"/>
                </a:lnTo>
                <a:lnTo>
                  <a:pt x="20237" y="1400"/>
                </a:lnTo>
                <a:lnTo>
                  <a:pt x="1400" y="1400"/>
                </a:lnTo>
                <a:close/>
              </a:path>
              <a:path fill="darken" w="21637" h="21600">
                <a:moveTo>
                  <a:pt x="21637" y="0"/>
                </a:moveTo>
                <a:lnTo>
                  <a:pt x="21637" y="21600"/>
                </a:lnTo>
                <a:lnTo>
                  <a:pt x="20237" y="20200"/>
                </a:lnTo>
                <a:lnTo>
                  <a:pt x="20237" y="1400"/>
                </a:lnTo>
                <a:close/>
              </a:path>
              <a:path fill="darkenLess" w="21637" h="21600">
                <a:moveTo>
                  <a:pt x="21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7" y="20200"/>
                </a:lnTo>
                <a:close/>
              </a:path>
              <a:path fill="lighten" w="21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7" h="21600">
                <a:moveTo>
                  <a:pt x="14318" y="10800"/>
                </a:moveTo>
                <a:lnTo>
                  <a:pt x="3812" y="17806"/>
                </a:lnTo>
                <a:lnTo>
                  <a:pt x="3812" y="3794"/>
                </a:lnTo>
                <a:close/>
              </a:path>
              <a:path fill="darken" w="21637" h="21600">
                <a:moveTo>
                  <a:pt x="16163" y="3794"/>
                </a:moveTo>
                <a:lnTo>
                  <a:pt x="16163" y="17806"/>
                </a:lnTo>
                <a:lnTo>
                  <a:pt x="17825" y="17806"/>
                </a:lnTo>
                <a:lnTo>
                  <a:pt x="17825" y="37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11240" y="227664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(a </a:t>
            </a:r>
            <a:r>
              <a:rPr b="1" lang="en-US" sz="8800" spc="-1" strike="noStrike">
                <a:solidFill>
                  <a:srgbClr val="990000"/>
                </a:solidFill>
                <a:latin typeface="黑体"/>
                <a:ea typeface="黑体"/>
              </a:rPr>
              <a:t>+</a:t>
            </a:r>
            <a:r>
              <a:rPr b="1" lang="en-US" sz="60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b)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en-US" sz="8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138640" y="2133720"/>
            <a:ext cx="220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en-US" sz="8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889680" y="2289240"/>
            <a:ext cx="76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3300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467480" y="2133720"/>
            <a:ext cx="19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en-US" sz="8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045"/>
          <p:cNvPicPr/>
          <p:nvPr/>
        </p:nvPicPr>
        <p:blipFill>
          <a:blip r:embed="rId1"/>
          <a:stretch/>
        </p:blipFill>
        <p:spPr>
          <a:xfrm>
            <a:off x="7467480" y="457200"/>
            <a:ext cx="1295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1540800" y="1494360"/>
            <a:ext cx="182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字母表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乘法交换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乘法结合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022640" y="1873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733920" y="25909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b =  b ×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968280" y="3733920"/>
            <a:ext cx="44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b )×c = a×( b ×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22360" y="304920"/>
            <a:ext cx="35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一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温故而知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353880" y="1181160"/>
            <a:ext cx="7696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女生做：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男生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25+75</a:t>
            </a: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X9     25X9+75X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46+54</a:t>
            </a:r>
            <a:r>
              <a:rPr b="1" lang="zh-CN" sz="4400" spc="-1" strike="noStrike">
                <a:solidFill>
                  <a:srgbClr val="1f497d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1f497d"/>
                </a:solidFill>
                <a:latin typeface="Arial"/>
              </a:rPr>
              <a:t>X8     46X8+54X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3"/>
          <p:cNvSpPr/>
          <p:nvPr/>
        </p:nvSpPr>
        <p:spPr>
          <a:xfrm>
            <a:off x="4202280" y="52927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2"/>
          <p:cNvSpPr/>
          <p:nvPr/>
        </p:nvSpPr>
        <p:spPr>
          <a:xfrm>
            <a:off x="4495680" y="266760"/>
            <a:ext cx="91440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17"/>
          <p:cNvSpPr/>
          <p:nvPr/>
        </p:nvSpPr>
        <p:spPr>
          <a:xfrm>
            <a:off x="4540320" y="1447920"/>
            <a:ext cx="0" cy="4252680"/>
          </a:xfrm>
          <a:prstGeom prst="line">
            <a:avLst/>
          </a:prstGeom>
          <a:ln w="7632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8"/>
          <p:cNvSpPr/>
          <p:nvPr/>
        </p:nvSpPr>
        <p:spPr>
          <a:xfrm>
            <a:off x="4249440" y="240516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9"/>
          <p:cNvSpPr/>
          <p:nvPr/>
        </p:nvSpPr>
        <p:spPr>
          <a:xfrm>
            <a:off x="4282560" y="44658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767520" y="309600"/>
            <a:ext cx="31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二</a:t>
            </a:r>
            <a:r>
              <a:rPr b="1" lang="en-US" sz="3600" spc="-1" strike="noStrike">
                <a:solidFill>
                  <a:srgbClr val="c0504d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</a:rPr>
              <a:t>探究新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037200" y="1143000"/>
            <a:ext cx="111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一共贴了多少块瓷砖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４＋６）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９　　　４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９＋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　＝１０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９　　　　＝３６＋５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　＝９０（块）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＝９０（块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80880" y="32004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（４＋６）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×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９＝４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×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９＋６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×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37960" y="121932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0+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2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4819320" y="1228680"/>
            <a:ext cx="34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40X25+4X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86040" y="2514600"/>
            <a:ext cx="389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35X37+65X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375120" y="2514600"/>
            <a:ext cx="41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35+65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X3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-30240" y="914400"/>
            <a:ext cx="378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5X2+6X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(5X6)X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13X4+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10X5+5X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6X17+6X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4868640" y="990720"/>
            <a:ext cx="3400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10X(5+1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(4+6)X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6X(17+5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(5+6)X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"/>
          <p:cNvSpPr/>
          <p:nvPr/>
        </p:nvSpPr>
        <p:spPr>
          <a:xfrm>
            <a:off x="3276720" y="1523880"/>
            <a:ext cx="1904760" cy="2514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6"/>
          <p:cNvSpPr/>
          <p:nvPr/>
        </p:nvSpPr>
        <p:spPr>
          <a:xfrm>
            <a:off x="3424320" y="1647720"/>
            <a:ext cx="175248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7"/>
          <p:cNvSpPr/>
          <p:nvPr/>
        </p:nvSpPr>
        <p:spPr>
          <a:xfrm flipV="1">
            <a:off x="3576600" y="1852560"/>
            <a:ext cx="1585800" cy="1752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0"/>
          <p:cNvSpPr/>
          <p:nvPr/>
        </p:nvSpPr>
        <p:spPr>
          <a:xfrm flipV="1">
            <a:off x="3576600" y="3347640"/>
            <a:ext cx="1528920" cy="1381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1504800" y="2509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把结果相同的式子连接起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-687600" y="685800"/>
            <a:ext cx="9748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25+75</a:t>
            </a: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）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X9=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5X9+75X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46+54</a:t>
            </a: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）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8=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46X8+54X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6+4</a:t>
            </a: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）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X9=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6X9+4X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40+4</a:t>
            </a: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）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X25=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40X25+4X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（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35+65</a:t>
            </a:r>
            <a:r>
              <a:rPr b="0" lang="zh-CN" sz="5400" spc="-1" strike="noStrike">
                <a:solidFill>
                  <a:srgbClr val="1f497d"/>
                </a:solidFill>
                <a:latin typeface="Arial"/>
              </a:rPr>
              <a:t>）</a:t>
            </a:r>
            <a:r>
              <a:rPr b="0" lang="en-US" sz="5400" spc="-1" strike="noStrike">
                <a:solidFill>
                  <a:srgbClr val="1f497d"/>
                </a:solidFill>
                <a:latin typeface="Arial"/>
              </a:rPr>
              <a:t>X37=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35X37+65X3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5"/>
          <p:cNvSpPr/>
          <p:nvPr/>
        </p:nvSpPr>
        <p:spPr>
          <a:xfrm>
            <a:off x="457200" y="1905120"/>
            <a:ext cx="83502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两个数的和同一个数相乘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可以把两个加数分别同这个数相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乘，再把两个积相加，结果不变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4235040" y="24224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分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3138480" y="37339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叫做乘法的分配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3-01T15:52:13Z</dcterms:modified>
  <cp:revision>29</cp:revision>
  <dc:subject/>
  <dc:title>乘法分配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