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0238-7B32-4BEC-A32D-584D229E7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DCDA-4983-41FD-98E4-6355EFA9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80AF-9458-4148-B5F1-67744781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5199-BCD3-45F5-8EF4-3DAE1824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EA53-3DE1-4B04-9747-7A67F584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5415-708C-425F-9210-EFFEB6C5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BDB8-0C4A-49AD-A8F7-8DBA96CB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FD81-4EC0-4BA7-BA72-B9E5B302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505B-7102-4F22-B837-8A9BCFAF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95E8-7434-4996-9504-78A5394C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1AD4-7EC6-447B-B921-326C0276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6A21-649A-44D0-9385-395AC426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E185-3BBB-40A6-9879-91511C94F7E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357200" y="1500120"/>
            <a:ext cx="63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Calibri"/>
              </a:rPr>
              <a:t>加法交换律和结合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3"/>
          <p:cNvSpPr/>
          <p:nvPr/>
        </p:nvSpPr>
        <p:spPr>
          <a:xfrm>
            <a:off x="684360" y="1557360"/>
            <a:ext cx="55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58+36+22+64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4"/>
          <p:cNvSpPr/>
          <p:nvPr/>
        </p:nvSpPr>
        <p:spPr>
          <a:xfrm>
            <a:off x="684360" y="2781360"/>
            <a:ext cx="590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357+288+143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5"/>
          <p:cNvSpPr/>
          <p:nvPr/>
        </p:nvSpPr>
        <p:spPr>
          <a:xfrm>
            <a:off x="684360" y="4005360"/>
            <a:ext cx="56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48+192+352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/>
          <p:cNvSpPr/>
          <p:nvPr/>
        </p:nvSpPr>
        <p:spPr>
          <a:xfrm>
            <a:off x="611280" y="5294160"/>
            <a:ext cx="79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129+235+171+165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3683520" y="500040"/>
            <a:ext cx="138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比一比看谁算得又对又快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1916280"/>
            <a:ext cx="87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几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个数相加，先将任意两个数相加，再与其他数相加，和不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539640" y="692280"/>
            <a:ext cx="27352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小结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428760" y="100008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怎样算简便就怎样算</a:t>
            </a: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826920" y="235584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75+2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539640" y="3003480"/>
            <a:ext cx="35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=175+200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11280" y="365112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=375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611280" y="422748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=37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356000" y="235584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38+4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4068720" y="3003480"/>
            <a:ext cx="35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=238+400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4140360" y="365112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=638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4140360" y="422748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=6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3602880" y="18572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朝三暮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2133360" y="1411200"/>
            <a:ext cx="453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  <a:ea typeface="楷体_GB2312"/>
              </a:rPr>
              <a:t>两个加数交换位置，和不变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  <a:ea typeface="楷体_GB2312"/>
              </a:rPr>
              <a:t>这叫做</a:t>
            </a:r>
            <a:r>
              <a:rPr b="1" lang="zh-CN" sz="4400" spc="-1" strike="noStrike">
                <a:solidFill>
                  <a:srgbClr val="ff5050"/>
                </a:solidFill>
                <a:latin typeface="Calibri"/>
                <a:ea typeface="楷体_GB2312"/>
              </a:rPr>
              <a:t>加法交换律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901840" y="3884760"/>
            <a:ext cx="270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Calibri"/>
              </a:rPr>
              <a:t>a+b</a:t>
            </a:r>
            <a:r>
              <a:rPr b="1" lang="zh-CN" sz="4800" spc="-1" strike="noStrike">
                <a:solidFill>
                  <a:srgbClr val="3333ff"/>
                </a:solidFill>
                <a:latin typeface="Calibri"/>
              </a:rPr>
              <a:t>＝</a:t>
            </a:r>
            <a:r>
              <a:rPr b="1" lang="en-US" sz="4800" spc="-1" strike="noStrike">
                <a:solidFill>
                  <a:srgbClr val="3333ff"/>
                </a:solidFill>
                <a:latin typeface="Calibri"/>
              </a:rPr>
              <a:t>b+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0"/>
          <p:cNvSpPr/>
          <p:nvPr/>
        </p:nvSpPr>
        <p:spPr>
          <a:xfrm>
            <a:off x="357120" y="395604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1b2e"/>
                </a:solidFill>
                <a:latin typeface="Calibri"/>
              </a:rPr>
              <a:t>用字母表示加法交换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3"/>
          <p:cNvSpPr/>
          <p:nvPr/>
        </p:nvSpPr>
        <p:spPr>
          <a:xfrm>
            <a:off x="1860480" y="100656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在括号里填上合适的数字或符号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2202480" y="2220840"/>
            <a:ext cx="39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48+52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（   ）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52+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2230920" y="3054240"/>
            <a:ext cx="396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4+46 =46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（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)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2398680" y="3887640"/>
            <a:ext cx="337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7+23=23+(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2266560" y="4721400"/>
            <a:ext cx="518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48+36+52=48+(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+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3932640" y="2149560"/>
            <a:ext cx="45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4933440" y="3006720"/>
            <a:ext cx="45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4788720" y="379260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3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5574240" y="464976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5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539640" y="1022400"/>
            <a:ext cx="8747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观察下列算式有什么相同和不同的地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042920" y="2016000"/>
            <a:ext cx="802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(28+17)+23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8+(17+2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971640" y="2973240"/>
            <a:ext cx="752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36+15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+55=36+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5+55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971640" y="3944880"/>
            <a:ext cx="736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7+23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+49=27+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3+49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1692360" y="5086440"/>
            <a:ext cx="63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你能得出什么结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2116440" y="500040"/>
            <a:ext cx="4874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  <a:ea typeface="楷体_GB2312"/>
              </a:rPr>
              <a:t>先把前两个数相加，再和第三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  <a:ea typeface="楷体_GB2312"/>
              </a:rPr>
              <a:t>数相加或者先把后两个数相加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  <a:ea typeface="楷体_GB2312"/>
              </a:rPr>
              <a:t>再加上第一个数，和不变。这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  <a:ea typeface="楷体_GB2312"/>
              </a:rPr>
              <a:t>做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楷体_GB2312"/>
              </a:rPr>
              <a:t>加法结合律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"/>
          <p:cNvSpPr/>
          <p:nvPr/>
        </p:nvSpPr>
        <p:spPr>
          <a:xfrm>
            <a:off x="1398240" y="4786200"/>
            <a:ext cx="589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 + b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）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+ c =  a +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b + c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785880" y="36432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1b2e"/>
                </a:solidFill>
                <a:latin typeface="Calibri"/>
              </a:rPr>
              <a:t>用字母表示加法结合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214200" y="868320"/>
            <a:ext cx="96440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根据运算定律，在下面的横线填上适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的数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54160" y="2779560"/>
            <a:ext cx="1031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69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58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47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69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＋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____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47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-141120" y="3711600"/>
            <a:ext cx="1103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7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）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56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＋（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____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＋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____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142920" y="4782960"/>
            <a:ext cx="1178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654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＋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97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）＝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654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____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）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5654520" y="2708280"/>
            <a:ext cx="8654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5778360" y="277956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alibri"/>
              </a:rPr>
              <a:t>25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9"/>
          <p:cNvSpPr/>
          <p:nvPr/>
        </p:nvSpPr>
        <p:spPr>
          <a:xfrm>
            <a:off x="5286240" y="363996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alibri"/>
              </a:rPr>
              <a:t>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0"/>
          <p:cNvSpPr/>
          <p:nvPr/>
        </p:nvSpPr>
        <p:spPr>
          <a:xfrm>
            <a:off x="7000920" y="36399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alibri"/>
              </a:rPr>
              <a:t>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5851440" y="47829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alibri"/>
              </a:rPr>
              <a:t>9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2"/>
          <p:cNvSpPr/>
          <p:nvPr/>
        </p:nvSpPr>
        <p:spPr>
          <a:xfrm>
            <a:off x="7924680" y="471168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1099440" y="307404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alibri"/>
              </a:rPr>
              <a:t>(45+88)+12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5037120" y="3071880"/>
            <a:ext cx="25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Calibri"/>
              </a:rPr>
              <a:t>75+(25+4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4351680" y="11494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说一说下面的算式怎样计算最简便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79280" y="26028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你能很快说出每组气球上三个数的和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>
            <a:off x="2050920" y="31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4"/>
          <p:cNvGrpSpPr/>
          <p:nvPr/>
        </p:nvGrpSpPr>
        <p:grpSpPr>
          <a:xfrm>
            <a:off x="654840" y="1484280"/>
            <a:ext cx="2261520" cy="3612600"/>
            <a:chOff x="654840" y="1484280"/>
            <a:chExt cx="2261520" cy="3612600"/>
          </a:xfrm>
        </p:grpSpPr>
        <p:grpSp>
          <p:nvGrpSpPr>
            <p:cNvPr id="79" name="Group 5"/>
            <p:cNvGrpSpPr/>
            <p:nvPr/>
          </p:nvGrpSpPr>
          <p:grpSpPr>
            <a:xfrm>
              <a:off x="684360" y="1989000"/>
              <a:ext cx="792000" cy="2735280"/>
              <a:chOff x="684360" y="1989000"/>
              <a:chExt cx="792000" cy="2735280"/>
            </a:xfrm>
          </p:grpSpPr>
          <p:sp>
            <p:nvSpPr>
              <p:cNvPr id="80" name="Oval 5"/>
              <p:cNvSpPr/>
              <p:nvPr/>
            </p:nvSpPr>
            <p:spPr>
              <a:xfrm>
                <a:off x="684360" y="1989000"/>
                <a:ext cx="792000" cy="14400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Arc 7"/>
              <p:cNvSpPr/>
              <p:nvPr/>
            </p:nvSpPr>
            <p:spPr>
              <a:xfrm>
                <a:off x="1116000" y="3429000"/>
                <a:ext cx="289080" cy="1295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8"/>
            <p:cNvGrpSpPr/>
            <p:nvPr/>
          </p:nvGrpSpPr>
          <p:grpSpPr>
            <a:xfrm>
              <a:off x="1764000" y="2708280"/>
              <a:ext cx="1152360" cy="2388600"/>
              <a:chOff x="1764000" y="2708280"/>
              <a:chExt cx="1152360" cy="2388600"/>
            </a:xfrm>
          </p:grpSpPr>
          <p:sp>
            <p:nvSpPr>
              <p:cNvPr id="83" name="AutoShape 9"/>
              <p:cNvSpPr/>
              <p:nvPr/>
            </p:nvSpPr>
            <p:spPr>
              <a:xfrm>
                <a:off x="1764000" y="2708280"/>
                <a:ext cx="1152360" cy="1152360"/>
              </a:xfrm>
              <a:prstGeom prst="pie">
                <a:avLst/>
              </a:prstGeom>
              <a:solidFill>
                <a:srgbClr val="cc0099"/>
              </a:soli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Arc 11"/>
              <p:cNvSpPr/>
              <p:nvPr/>
            </p:nvSpPr>
            <p:spPr>
              <a:xfrm flipH="1" rot="10597800">
                <a:off x="1835640" y="3787920"/>
                <a:ext cx="503280" cy="1295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11"/>
            <p:cNvGrpSpPr/>
            <p:nvPr/>
          </p:nvGrpSpPr>
          <p:grpSpPr>
            <a:xfrm>
              <a:off x="654840" y="1484280"/>
              <a:ext cx="1756800" cy="2833200"/>
              <a:chOff x="654840" y="1484280"/>
              <a:chExt cx="1756800" cy="2833200"/>
            </a:xfrm>
          </p:grpSpPr>
          <p:sp>
            <p:nvSpPr>
              <p:cNvPr id="86" name="Oval 13"/>
              <p:cNvSpPr/>
              <p:nvPr/>
            </p:nvSpPr>
            <p:spPr>
              <a:xfrm>
                <a:off x="1692360" y="1484280"/>
                <a:ext cx="503280" cy="503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14"/>
              <p:cNvSpPr/>
              <p:nvPr/>
            </p:nvSpPr>
            <p:spPr>
              <a:xfrm>
                <a:off x="1403640" y="1844640"/>
                <a:ext cx="1008000" cy="10080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15"/>
              <p:cNvSpPr/>
              <p:nvPr/>
            </p:nvSpPr>
            <p:spPr>
              <a:xfrm>
                <a:off x="1332000" y="2636640"/>
                <a:ext cx="647640" cy="6480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Arc 16"/>
              <p:cNvSpPr/>
              <p:nvPr/>
            </p:nvSpPr>
            <p:spPr>
              <a:xfrm flipH="1" rot="10594800">
                <a:off x="683640" y="3284640"/>
                <a:ext cx="865080" cy="1008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Text Box 4"/>
            <p:cNvSpPr/>
            <p:nvPr/>
          </p:nvSpPr>
          <p:spPr>
            <a:xfrm>
              <a:off x="684360" y="2349360"/>
              <a:ext cx="86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18"/>
            <p:cNvSpPr/>
            <p:nvPr/>
          </p:nvSpPr>
          <p:spPr>
            <a:xfrm>
              <a:off x="1476360" y="1915920"/>
              <a:ext cx="86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9"/>
            <p:cNvSpPr/>
            <p:nvPr/>
          </p:nvSpPr>
          <p:spPr>
            <a:xfrm>
              <a:off x="1908360" y="2781360"/>
              <a:ext cx="86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9"/>
          <p:cNvGrpSpPr/>
          <p:nvPr/>
        </p:nvGrpSpPr>
        <p:grpSpPr>
          <a:xfrm>
            <a:off x="3534480" y="1557360"/>
            <a:ext cx="2261520" cy="3612600"/>
            <a:chOff x="3534480" y="1557360"/>
            <a:chExt cx="2261520" cy="3612600"/>
          </a:xfrm>
        </p:grpSpPr>
        <p:grpSp>
          <p:nvGrpSpPr>
            <p:cNvPr id="94" name="Group 20"/>
            <p:cNvGrpSpPr/>
            <p:nvPr/>
          </p:nvGrpSpPr>
          <p:grpSpPr>
            <a:xfrm>
              <a:off x="3564000" y="2062080"/>
              <a:ext cx="792000" cy="2735280"/>
              <a:chOff x="3564000" y="2062080"/>
              <a:chExt cx="792000" cy="2735280"/>
            </a:xfrm>
          </p:grpSpPr>
          <p:sp>
            <p:nvSpPr>
              <p:cNvPr id="95" name="Oval 23"/>
              <p:cNvSpPr/>
              <p:nvPr/>
            </p:nvSpPr>
            <p:spPr>
              <a:xfrm>
                <a:off x="3564000" y="2062080"/>
                <a:ext cx="792000" cy="14400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Arc 24"/>
              <p:cNvSpPr/>
              <p:nvPr/>
            </p:nvSpPr>
            <p:spPr>
              <a:xfrm>
                <a:off x="3995640" y="3502080"/>
                <a:ext cx="289080" cy="1295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23"/>
            <p:cNvGrpSpPr/>
            <p:nvPr/>
          </p:nvGrpSpPr>
          <p:grpSpPr>
            <a:xfrm>
              <a:off x="4643640" y="2781360"/>
              <a:ext cx="1152360" cy="2388600"/>
              <a:chOff x="4643640" y="2781360"/>
              <a:chExt cx="1152360" cy="2388600"/>
            </a:xfrm>
          </p:grpSpPr>
          <p:sp>
            <p:nvSpPr>
              <p:cNvPr id="98" name="AutoShape 26"/>
              <p:cNvSpPr/>
              <p:nvPr/>
            </p:nvSpPr>
            <p:spPr>
              <a:xfrm>
                <a:off x="4643640" y="2781360"/>
                <a:ext cx="1152360" cy="1152360"/>
              </a:xfrm>
              <a:prstGeom prst="pie">
                <a:avLst/>
              </a:prstGeom>
              <a:solidFill>
                <a:srgbClr val="cc0099"/>
              </a:soli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Arc 27"/>
              <p:cNvSpPr/>
              <p:nvPr/>
            </p:nvSpPr>
            <p:spPr>
              <a:xfrm flipH="1" rot="10597800">
                <a:off x="4715280" y="3861000"/>
                <a:ext cx="503280" cy="1295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26"/>
            <p:cNvGrpSpPr/>
            <p:nvPr/>
          </p:nvGrpSpPr>
          <p:grpSpPr>
            <a:xfrm>
              <a:off x="3534480" y="1557360"/>
              <a:ext cx="1756800" cy="2833200"/>
              <a:chOff x="3534480" y="1557360"/>
              <a:chExt cx="1756800" cy="2833200"/>
            </a:xfrm>
          </p:grpSpPr>
          <p:sp>
            <p:nvSpPr>
              <p:cNvPr id="101" name="Oval 29"/>
              <p:cNvSpPr/>
              <p:nvPr/>
            </p:nvSpPr>
            <p:spPr>
              <a:xfrm>
                <a:off x="4572000" y="1557360"/>
                <a:ext cx="503280" cy="503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Oval 30"/>
              <p:cNvSpPr/>
              <p:nvPr/>
            </p:nvSpPr>
            <p:spPr>
              <a:xfrm>
                <a:off x="4283280" y="1917720"/>
                <a:ext cx="1008000" cy="10080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31"/>
              <p:cNvSpPr/>
              <p:nvPr/>
            </p:nvSpPr>
            <p:spPr>
              <a:xfrm>
                <a:off x="4211640" y="2709720"/>
                <a:ext cx="647640" cy="6480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Arc 32"/>
              <p:cNvSpPr/>
              <p:nvPr/>
            </p:nvSpPr>
            <p:spPr>
              <a:xfrm flipH="1" rot="10594800">
                <a:off x="3563280" y="3357720"/>
                <a:ext cx="865080" cy="1008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 Box 33"/>
            <p:cNvSpPr/>
            <p:nvPr/>
          </p:nvSpPr>
          <p:spPr>
            <a:xfrm>
              <a:off x="3564000" y="2422440"/>
              <a:ext cx="86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34"/>
            <p:cNvSpPr/>
            <p:nvPr/>
          </p:nvSpPr>
          <p:spPr>
            <a:xfrm>
              <a:off x="4356000" y="1989000"/>
              <a:ext cx="86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35"/>
            <p:cNvSpPr/>
            <p:nvPr/>
          </p:nvSpPr>
          <p:spPr>
            <a:xfrm>
              <a:off x="4788000" y="2854440"/>
              <a:ext cx="86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34"/>
          <p:cNvGrpSpPr/>
          <p:nvPr/>
        </p:nvGrpSpPr>
        <p:grpSpPr>
          <a:xfrm>
            <a:off x="6630120" y="1413000"/>
            <a:ext cx="2261520" cy="3611160"/>
            <a:chOff x="6630120" y="1413000"/>
            <a:chExt cx="2261520" cy="3611160"/>
          </a:xfrm>
        </p:grpSpPr>
        <p:grpSp>
          <p:nvGrpSpPr>
            <p:cNvPr id="109" name="Group 35"/>
            <p:cNvGrpSpPr/>
            <p:nvPr/>
          </p:nvGrpSpPr>
          <p:grpSpPr>
            <a:xfrm>
              <a:off x="6659640" y="1917360"/>
              <a:ext cx="792000" cy="2734560"/>
              <a:chOff x="6659640" y="1917360"/>
              <a:chExt cx="792000" cy="2734560"/>
            </a:xfrm>
          </p:grpSpPr>
          <p:sp>
            <p:nvSpPr>
              <p:cNvPr id="110" name="Oval 38"/>
              <p:cNvSpPr/>
              <p:nvPr/>
            </p:nvSpPr>
            <p:spPr>
              <a:xfrm>
                <a:off x="6659640" y="1917360"/>
                <a:ext cx="792000" cy="14396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Arc 39"/>
              <p:cNvSpPr/>
              <p:nvPr/>
            </p:nvSpPr>
            <p:spPr>
              <a:xfrm>
                <a:off x="7091280" y="3357000"/>
                <a:ext cx="289080" cy="1294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38"/>
            <p:cNvGrpSpPr/>
            <p:nvPr/>
          </p:nvGrpSpPr>
          <p:grpSpPr>
            <a:xfrm>
              <a:off x="7739280" y="2636640"/>
              <a:ext cx="1152360" cy="2387520"/>
              <a:chOff x="7739280" y="2636640"/>
              <a:chExt cx="1152360" cy="2387520"/>
            </a:xfrm>
          </p:grpSpPr>
          <p:sp>
            <p:nvSpPr>
              <p:cNvPr id="113" name="AutoShape 41"/>
              <p:cNvSpPr/>
              <p:nvPr/>
            </p:nvSpPr>
            <p:spPr>
              <a:xfrm>
                <a:off x="7739280" y="2636640"/>
                <a:ext cx="1152360" cy="1152000"/>
              </a:xfrm>
              <a:prstGeom prst="pie">
                <a:avLst/>
              </a:prstGeom>
              <a:solidFill>
                <a:srgbClr val="cc0099"/>
              </a:soli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Arc 42"/>
              <p:cNvSpPr/>
              <p:nvPr/>
            </p:nvSpPr>
            <p:spPr>
              <a:xfrm flipH="1" rot="10597800">
                <a:off x="7810200" y="3715560"/>
                <a:ext cx="503280" cy="1294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41"/>
            <p:cNvGrpSpPr/>
            <p:nvPr/>
          </p:nvGrpSpPr>
          <p:grpSpPr>
            <a:xfrm>
              <a:off x="6630120" y="1413000"/>
              <a:ext cx="1756800" cy="2832120"/>
              <a:chOff x="6630120" y="1413000"/>
              <a:chExt cx="1756800" cy="2832120"/>
            </a:xfrm>
          </p:grpSpPr>
          <p:sp>
            <p:nvSpPr>
              <p:cNvPr id="116" name="Oval 44"/>
              <p:cNvSpPr/>
              <p:nvPr/>
            </p:nvSpPr>
            <p:spPr>
              <a:xfrm>
                <a:off x="7667640" y="1413000"/>
                <a:ext cx="503280" cy="5029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45"/>
              <p:cNvSpPr/>
              <p:nvPr/>
            </p:nvSpPr>
            <p:spPr>
              <a:xfrm>
                <a:off x="7378920" y="1773000"/>
                <a:ext cx="1008000" cy="10076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Oval 46"/>
              <p:cNvSpPr/>
              <p:nvPr/>
            </p:nvSpPr>
            <p:spPr>
              <a:xfrm>
                <a:off x="7307280" y="2565000"/>
                <a:ext cx="647640" cy="6476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Arc 47"/>
              <p:cNvSpPr/>
              <p:nvPr/>
            </p:nvSpPr>
            <p:spPr>
              <a:xfrm flipH="1" rot="10594800">
                <a:off x="6658920" y="3212640"/>
                <a:ext cx="865080" cy="1007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Text Box 48"/>
            <p:cNvSpPr/>
            <p:nvPr/>
          </p:nvSpPr>
          <p:spPr>
            <a:xfrm>
              <a:off x="6659640" y="2277720"/>
              <a:ext cx="86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49"/>
            <p:cNvSpPr/>
            <p:nvPr/>
          </p:nvSpPr>
          <p:spPr>
            <a:xfrm>
              <a:off x="7451640" y="1844280"/>
              <a:ext cx="86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50"/>
            <p:cNvSpPr/>
            <p:nvPr/>
          </p:nvSpPr>
          <p:spPr>
            <a:xfrm>
              <a:off x="7883640" y="2709720"/>
              <a:ext cx="86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 Box 51"/>
          <p:cNvSpPr/>
          <p:nvPr/>
        </p:nvSpPr>
        <p:spPr>
          <a:xfrm>
            <a:off x="1258920" y="486900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黑体"/>
                <a:ea typeface="黑体"/>
              </a:rPr>
              <a:t>8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2"/>
          <p:cNvSpPr/>
          <p:nvPr/>
        </p:nvSpPr>
        <p:spPr>
          <a:xfrm>
            <a:off x="3995640" y="479736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黑体"/>
                <a:ea typeface="黑体"/>
              </a:rPr>
              <a:t>1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3"/>
          <p:cNvSpPr/>
          <p:nvPr/>
        </p:nvSpPr>
        <p:spPr>
          <a:xfrm>
            <a:off x="6948360" y="479736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黑体"/>
                <a:ea typeface="黑体"/>
              </a:rPr>
              <a:t>15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01:58:23Z</dcterms:created>
  <dc:creator/>
  <dc:description/>
  <cp:keywords/>
  <dc:language>en-US</dc:language>
  <cp:lastModifiedBy>Administrator</cp:lastModifiedBy>
  <dcterms:modified xsi:type="dcterms:W3CDTF">2015-03-01T15:49:49Z</dcterms:modified>
  <cp:revision>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