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laser.wav" ContentType="audio/x-wav"/>
  <Override PartName="/ppt/media/cashreg.wav" ContentType="audio/x-wav"/>
  <Override PartName="/ppt/media/image13.png" ContentType="image/png"/>
  <Override PartName="/ppt/media/image5.png" ContentType="image/png"/>
  <Override PartName="/ppt/media/image16.png" ContentType="image/png"/>
  <Override PartName="/ppt/media/chimes.wav" ContentType="audio/x-wav"/>
  <Override PartName="/ppt/media/image23.png" ContentType="image/png"/>
  <Override PartName="/ppt/media/image6.wmf" ContentType="image/x-wmf"/>
  <Override PartName="/ppt/media/image7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breeze.wav" ContentType="audio/x-wav"/>
  <Override PartName="/ppt/media/camera.wav" ContentType="audio/x-wav"/>
  <Override PartName="/ppt/media/image22.png" ContentType="image/png"/>
  <Override PartName="/ppt/media/image17.png" ContentType="image/png"/>
  <Override PartName="/ppt/media/image12.png" ContentType="image/png"/>
  <Override PartName="/ppt/media/image14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hammer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F9B-7E0B-4A6A-8708-55C0D147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D69-6812-49C5-9F1F-A6B21C5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065-ECB2-4D9D-9DA1-A8A8B286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D0E-3AE3-4960-AC9B-C0A80D91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44DF-979E-4F0A-8158-2F0F03AF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AE13-D289-435C-A453-DDB18793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F432-8982-418E-93DD-9D259B86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932D-8A8D-44A8-9170-2342138A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1B35-138A-46F1-BEEA-22D1F71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8AD0-9A9B-4734-AFA2-E42FB5C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CEA-99E6-44E7-B149-9BC9263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868-1436-4EBE-9BF7-B0CA5FF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8DC5-C3AE-42DD-9245-4A59D38B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F4EB-0CDB-4A9E-98D5-8CAA73B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F776-0ED1-4ECF-BF35-C6FB2498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826B-D7DC-40AE-B8B2-BC048159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899-0AE0-4378-BA89-454C7C7C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7E8-C1FC-412F-A4EA-E5D631C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5D5-58FE-485A-AC70-A3D3C04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48F-AC18-467E-8A59-9136A437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78A-7886-4287-86E7-1B4D72E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E94-A597-4092-BC51-A3943C21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CD8-C926-42A1-A264-DF043CF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25B-47B6-4B7B-BC98-6F1F604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83E2-6EE1-4147-ADFA-0CE90311BDF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429-DE15-4BB3-96F5-AEE53AF047F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mera.wav"/><Relationship Id="rId3" Type="http://schemas.openxmlformats.org/officeDocument/2006/relationships/audio" Target="../media/hammer.wav"/><Relationship Id="rId4" Type="http://schemas.openxmlformats.org/officeDocument/2006/relationships/audio" Target="../media/camera.wav"/><Relationship Id="rId5" Type="http://schemas.openxmlformats.org/officeDocument/2006/relationships/audio" Target="../media/hammer.wav"/><Relationship Id="rId6" Type="http://schemas.openxmlformats.org/officeDocument/2006/relationships/audio" Target="../media/camera.wav"/><Relationship Id="rId7" Type="http://schemas.openxmlformats.org/officeDocument/2006/relationships/audio" Target="../media/hammer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ashreg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4"/>
          <p:cNvSpPr/>
          <p:nvPr/>
        </p:nvSpPr>
        <p:spPr>
          <a:xfrm>
            <a:off x="428760" y="221472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义务教育教科书数学四年级上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矩形 3" descr=""/>
          <p:cNvPicPr/>
          <p:nvPr/>
        </p:nvPicPr>
        <p:blipFill>
          <a:blip r:embed="rId1"/>
          <a:stretch/>
        </p:blipFill>
        <p:spPr>
          <a:xfrm>
            <a:off x="1206360" y="3035160"/>
            <a:ext cx="635328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"/>
          <p:cNvPicPr/>
          <p:nvPr/>
        </p:nvPicPr>
        <p:blipFill>
          <a:blip r:embed="rId1"/>
          <a:srcRect l="5459" t="0" r="2516" b="0"/>
          <a:stretch/>
        </p:blipFill>
        <p:spPr>
          <a:xfrm>
            <a:off x="-71280" y="0"/>
            <a:ext cx="9286560" cy="389736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4" descr=""/>
          <p:cNvPicPr/>
          <p:nvPr/>
        </p:nvPicPr>
        <p:blipFill>
          <a:blip r:embed="rId2"/>
          <a:stretch/>
        </p:blipFill>
        <p:spPr>
          <a:xfrm>
            <a:off x="-158760" y="4363920"/>
            <a:ext cx="9931320" cy="1712880"/>
          </a:xfrm>
          <a:prstGeom prst="rect">
            <a:avLst/>
          </a:prstGeom>
          <a:ln w="0">
            <a:noFill/>
          </a:ln>
        </p:spPr>
      </p:pic>
      <p:pic>
        <p:nvPicPr>
          <p:cNvPr id="314" name="矩形 6" descr=""/>
          <p:cNvPicPr/>
          <p:nvPr/>
        </p:nvPicPr>
        <p:blipFill>
          <a:blip r:embed="rId3"/>
          <a:stretch/>
        </p:blipFill>
        <p:spPr>
          <a:xfrm>
            <a:off x="-19080" y="3529080"/>
            <a:ext cx="9169560" cy="1165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"/>
          <p:cNvSpPr/>
          <p:nvPr/>
        </p:nvSpPr>
        <p:spPr>
          <a:xfrm>
            <a:off x="891360" y="7920"/>
            <a:ext cx="1194120" cy="275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4336200" y="31680"/>
            <a:ext cx="1194120" cy="275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矩形 3" descr=""/>
          <p:cNvPicPr/>
          <p:nvPr/>
        </p:nvPicPr>
        <p:blipFill>
          <a:blip r:embed="rId4"/>
          <a:stretch/>
        </p:blipFill>
        <p:spPr>
          <a:xfrm>
            <a:off x="0" y="5937120"/>
            <a:ext cx="897876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"/>
          <p:cNvPicPr/>
          <p:nvPr/>
        </p:nvPicPr>
        <p:blipFill>
          <a:blip r:embed="rId1"/>
          <a:srcRect l="5459" t="0" r="3934" b="0"/>
          <a:stretch/>
        </p:blipFill>
        <p:spPr>
          <a:xfrm>
            <a:off x="0" y="-27000"/>
            <a:ext cx="9144000" cy="3897360"/>
          </a:xfrm>
          <a:prstGeom prst="rect">
            <a:avLst/>
          </a:prstGeom>
          <a:ln w="0">
            <a:noFill/>
          </a:ln>
        </p:spPr>
      </p:pic>
      <p:sp>
        <p:nvSpPr>
          <p:cNvPr id="319" name="Oval 36"/>
          <p:cNvSpPr/>
          <p:nvPr/>
        </p:nvSpPr>
        <p:spPr>
          <a:xfrm>
            <a:off x="1171440" y="60480"/>
            <a:ext cx="231840" cy="2630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4618080" y="82440"/>
            <a:ext cx="298440" cy="2630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9"/>
          <p:cNvSpPr/>
          <p:nvPr/>
        </p:nvSpPr>
        <p:spPr>
          <a:xfrm>
            <a:off x="193680" y="5013360"/>
            <a:ext cx="35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舍五入到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矩形 8"/>
          <p:cNvSpPr/>
          <p:nvPr/>
        </p:nvSpPr>
        <p:spPr>
          <a:xfrm>
            <a:off x="3931200" y="5013360"/>
            <a:ext cx="217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关键要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006280" y="4436640"/>
            <a:ext cx="54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参加国庆阅兵的精确人数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3348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832360" cy="339876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8"/>
          <p:cNvSpPr/>
          <p:nvPr/>
        </p:nvSpPr>
        <p:spPr>
          <a:xfrm>
            <a:off x="1835280" y="5108400"/>
            <a:ext cx="4537080" cy="1224000"/>
          </a:xfrm>
          <a:prstGeom prst="cloudCallout">
            <a:avLst>
              <a:gd name="adj1" fmla="val 57736"/>
              <a:gd name="adj2" fmla="val 427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0" y="20520"/>
            <a:ext cx="9128160" cy="61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习指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任务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”是怎样得到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学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同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一起学习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共同完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学习任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学习时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每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都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说一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自己的想法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并将讨论的结果填写在学习卡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组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简单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清晰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语言准备全班汇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089760"/>
            <a:ext cx="91281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建议时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1274400" y="1127520"/>
            <a:ext cx="4312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黑体"/>
                <a:ea typeface="黑体"/>
              </a:rPr>
              <a:t>     </a:t>
            </a:r>
            <a:r>
              <a:rPr b="1" lang="en-US" sz="4000" spc="-1" strike="noStrike">
                <a:solidFill>
                  <a:srgbClr val="00cc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482≈(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4388760" y="1135080"/>
            <a:ext cx="131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25" descr=""/>
          <p:cNvPicPr/>
          <p:nvPr/>
        </p:nvPicPr>
        <p:blipFill>
          <a:blip r:embed="rId1"/>
          <a:stretch/>
        </p:blipFill>
        <p:spPr>
          <a:xfrm>
            <a:off x="-114480" y="2924280"/>
            <a:ext cx="925380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4"/>
          <p:cNvGrpSpPr/>
          <p:nvPr/>
        </p:nvGrpSpPr>
        <p:grpSpPr>
          <a:xfrm>
            <a:off x="2211840" y="2239920"/>
            <a:ext cx="2216880" cy="1084680"/>
            <a:chOff x="2211840" y="2239920"/>
            <a:chExt cx="2216880" cy="1084680"/>
          </a:xfrm>
        </p:grpSpPr>
        <p:sp>
          <p:nvSpPr>
            <p:cNvPr id="332" name="Rectangle 13"/>
            <p:cNvSpPr/>
            <p:nvPr/>
          </p:nvSpPr>
          <p:spPr>
            <a:xfrm>
              <a:off x="2211840" y="2239920"/>
              <a:ext cx="221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3</a:t>
              </a:r>
              <a:r>
                <a:rPr b="1" lang="en-US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48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3" name="直接箭头连接符 2"/>
            <p:cNvCxnSpPr/>
            <p:nvPr/>
          </p:nvCxnSpPr>
          <p:spPr>
            <a:xfrm flipH="1">
              <a:off x="3190320" y="2781360"/>
              <a:ext cx="1080" cy="5436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34" name="矩形 1"/>
          <p:cNvSpPr/>
          <p:nvPr/>
        </p:nvSpPr>
        <p:spPr>
          <a:xfrm>
            <a:off x="468360" y="3124080"/>
            <a:ext cx="2722680" cy="179640"/>
          </a:xfrm>
          <a:prstGeom prst="rect">
            <a:avLst/>
          </a:prstGeom>
          <a:solidFill>
            <a:srgbClr val="c00000">
              <a:alpha val="42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3191040" y="3114720"/>
            <a:ext cx="5341680" cy="179280"/>
          </a:xfrm>
          <a:prstGeom prst="rect">
            <a:avLst/>
          </a:prstGeom>
          <a:solidFill>
            <a:srgbClr val="0000ff">
              <a:alpha val="42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2390400" y="1225080"/>
            <a:ext cx="3350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00"/>
                </a:solidFill>
                <a:latin typeface="黑体"/>
                <a:ea typeface="黑体"/>
              </a:rPr>
              <a:t>2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348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1938240" y="3273480"/>
            <a:ext cx="6378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48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000=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r>
              <a:rPr b="1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矩形 6"/>
          <p:cNvSpPr/>
          <p:nvPr/>
        </p:nvSpPr>
        <p:spPr>
          <a:xfrm>
            <a:off x="2328840" y="3305160"/>
            <a:ext cx="216000" cy="681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3081240" y="1251000"/>
            <a:ext cx="473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3645000" y="1251000"/>
            <a:ext cx="390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4087800" y="1235160"/>
            <a:ext cx="457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4556160" y="1228680"/>
            <a:ext cx="501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046840" y="1235160"/>
            <a:ext cx="539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403200" y="4554360"/>
            <a:ext cx="757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舍五入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十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，关键要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等腰三角形 1"/>
          <p:cNvSpPr/>
          <p:nvPr/>
        </p:nvSpPr>
        <p:spPr>
          <a:xfrm>
            <a:off x="3259080" y="2305080"/>
            <a:ext cx="114480" cy="28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-252360" y="3936240"/>
            <a:ext cx="720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舍五入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482  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368960" y="3919680"/>
            <a:ext cx="170784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34920" y="2855880"/>
            <a:ext cx="90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舍五入到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2  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4402080" y="2860560"/>
            <a:ext cx="170784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-1476360" y="1703520"/>
            <a:ext cx="92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舍五入到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3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  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4413240" y="1703520"/>
            <a:ext cx="170784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3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-612720" y="5835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舍五入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3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 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12600" y="5300640"/>
            <a:ext cx="9131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舍五入到哪一位，关键要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下一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4368960" y="576360"/>
            <a:ext cx="17078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3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矩形 18"/>
          <p:cNvSpPr/>
          <p:nvPr/>
        </p:nvSpPr>
        <p:spPr>
          <a:xfrm>
            <a:off x="5757840" y="676440"/>
            <a:ext cx="216000" cy="680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矩形 19"/>
          <p:cNvSpPr/>
          <p:nvPr/>
        </p:nvSpPr>
        <p:spPr>
          <a:xfrm>
            <a:off x="5516640" y="1774800"/>
            <a:ext cx="216000" cy="68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矩形 20"/>
          <p:cNvSpPr/>
          <p:nvPr/>
        </p:nvSpPr>
        <p:spPr>
          <a:xfrm>
            <a:off x="5262480" y="2927520"/>
            <a:ext cx="216000" cy="68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4973760" y="4008600"/>
            <a:ext cx="215640" cy="680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0.24462 -0.00208 E">
                                      <p:cBhvr>
                                        <p:cTn id="459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0.24479 3.33333E-006 E">
                                      <p:cBhvr>
                                        <p:cTn id="476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0.24479 3.33333E-006 E">
                                      <p:cBhvr>
                                        <p:cTn id="493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0.24479 3.33333E-006 E">
                                      <p:cBhvr>
                                        <p:cTn id="510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1619280" y="692280"/>
            <a:ext cx="6121440" cy="3744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2072880" y="4865760"/>
            <a:ext cx="54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兵式由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门礼炮交替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响揭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870280" y="4869000"/>
            <a:ext cx="691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140880" y="4869000"/>
            <a:ext cx="589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11280" y="42861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旗护卫队正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4"/>
          <p:cNvPicPr/>
          <p:nvPr/>
        </p:nvPicPr>
        <p:blipFill>
          <a:blip r:embed="rId1"/>
          <a:srcRect l="6206" t="0" r="8209" b="20195"/>
          <a:stretch/>
        </p:blipFill>
        <p:spPr>
          <a:xfrm>
            <a:off x="1566720" y="1000080"/>
            <a:ext cx="5434200" cy="3071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5286240" y="42861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000" y="4071960"/>
            <a:ext cx="87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兵式与阅兵分列式共用时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接受了检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826200" y="494820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8" descr="2"/>
          <p:cNvPicPr/>
          <p:nvPr/>
        </p:nvPicPr>
        <p:blipFill>
          <a:blip r:embed="rId1"/>
          <a:srcRect l="0" t="0" r="0" b="9184"/>
          <a:stretch/>
        </p:blipFill>
        <p:spPr>
          <a:xfrm>
            <a:off x="1835280" y="333360"/>
            <a:ext cx="5897520" cy="35956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7072200" y="42148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近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-71280" y="350028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幅画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江山如此多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画布总面积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方米， 重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rcRect l="0" t="0" r="0" b="19384"/>
          <a:stretch/>
        </p:blipFill>
        <p:spPr>
          <a:xfrm>
            <a:off x="1357200" y="571680"/>
            <a:ext cx="6120000" cy="2786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500040" y="43578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0" y="43578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395280" y="836640"/>
            <a:ext cx="820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庆典活动在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5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门礼炮交替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6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中开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旗护卫队正步行进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6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兵式与阅兵分列式共用时间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近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6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约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20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接受了检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幅画卷巨幅画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山如此多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画布总面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约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20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米，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约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49400" y="138240"/>
            <a:ext cx="68706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请将下列数据分一分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5003640" y="5445000"/>
            <a:ext cx="244800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692360" y="4815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精确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5435640" y="4815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近似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1332000" y="5445000"/>
            <a:ext cx="244800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643840" y="9208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5066640" y="9208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3921120" y="15638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5767920" y="22068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7290360" y="2201760"/>
            <a:ext cx="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1085040" y="39211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352760" y="392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墨迹 1" descr=""/>
          <p:cNvPicPr/>
          <p:nvPr/>
        </p:nvPicPr>
        <p:blipFill>
          <a:blip r:embed="rId1"/>
          <a:stretch/>
        </p:blipFill>
        <p:spPr>
          <a:xfrm>
            <a:off x="2463840" y="1214280"/>
            <a:ext cx="100080" cy="47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Motion origin="layout" path="M 3.33333E-006 3.7037E-006 L -0.00295 0.66898 E">
                                      <p:cBhvr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Motion origin="layout" path="M 2.77778E-006 3.7037E-006 L -0.28229 0.74236 E">
                                      <p:cBhvr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Motion origin="layout" path="M -2.22222E-006 1.11111E-006 L -0.26354 0.63935 E">
                                      <p:cBhvr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Motion origin="layout" path="M -8.33333E-007 1.11111E-006 L -0.02135 0.55602 E">
                                      <p:cBhvr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Motion origin="layout" path="M 4.72222E-006 2.59259E-006 L -0.13073 0.5669 E">
                                      <p:cBhvr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animMotion origin="layout" path="M 5.55556E-007 7.40741E-007 L 0.4566 0.23102 E">
                                      <p:cBhvr>
                                        <p:cTn id="101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animMotion origin="layout" path="M 1.38889E-006 1.11111E-006 L 0.23125 0.23264 E">
                                      <p:cBhvr>
                                        <p:cTn id="109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rcRect l="0" t="8432" r="0" b="20120"/>
          <a:stretch/>
        </p:blipFill>
        <p:spPr>
          <a:xfrm>
            <a:off x="1000080" y="817560"/>
            <a:ext cx="6120000" cy="2468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784080" y="3895560"/>
            <a:ext cx="70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报道称：它的面积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近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00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89360" y="9183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巨幅画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2"/>
          <p:cNvGrpSpPr/>
          <p:nvPr/>
        </p:nvGrpSpPr>
        <p:grpSpPr>
          <a:xfrm>
            <a:off x="657360" y="5013360"/>
            <a:ext cx="6260760" cy="1008000"/>
            <a:chOff x="657360" y="5013360"/>
            <a:chExt cx="6260760" cy="1008000"/>
          </a:xfrm>
        </p:grpSpPr>
        <p:sp>
          <p:nvSpPr>
            <p:cNvPr id="186" name="AutoShape 10"/>
            <p:cNvSpPr/>
            <p:nvPr/>
          </p:nvSpPr>
          <p:spPr>
            <a:xfrm>
              <a:off x="657360" y="5013360"/>
              <a:ext cx="6222600" cy="1008000"/>
            </a:xfrm>
            <a:prstGeom prst="wedgeRoundRectCallout">
              <a:avLst>
                <a:gd name="adj1" fmla="val -62203"/>
                <a:gd name="adj2" fmla="val 31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Rectangle 6" descr=""/>
            <p:cNvPicPr/>
            <p:nvPr/>
          </p:nvPicPr>
          <p:blipFill>
            <a:blip r:embed="rId2"/>
            <a:stretch/>
          </p:blipFill>
          <p:spPr>
            <a:xfrm>
              <a:off x="913320" y="5102280"/>
              <a:ext cx="6004800" cy="74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14"/>
          <p:cNvGrpSpPr/>
          <p:nvPr/>
        </p:nvGrpSpPr>
        <p:grpSpPr>
          <a:xfrm>
            <a:off x="3708360" y="2362320"/>
            <a:ext cx="5249520" cy="2880720"/>
            <a:chOff x="3708360" y="2362320"/>
            <a:chExt cx="5249520" cy="2880720"/>
          </a:xfrm>
        </p:grpSpPr>
        <p:pic>
          <p:nvPicPr>
            <p:cNvPr id="189" name="AutoShape 7" descr=""/>
            <p:cNvPicPr/>
            <p:nvPr/>
          </p:nvPicPr>
          <p:blipFill>
            <a:blip r:embed="rId3"/>
            <a:stretch/>
          </p:blipFill>
          <p:spPr>
            <a:xfrm>
              <a:off x="3708360" y="2362320"/>
              <a:ext cx="4480200" cy="15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8" descr="a216"/>
            <p:cNvPicPr/>
            <p:nvPr/>
          </p:nvPicPr>
          <p:blipFill>
            <a:blip r:embed="rId4"/>
            <a:stretch/>
          </p:blipFill>
          <p:spPr>
            <a:xfrm>
              <a:off x="8106480" y="3045600"/>
              <a:ext cx="851400" cy="2197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17"/>
          <p:cNvSpPr/>
          <p:nvPr/>
        </p:nvSpPr>
        <p:spPr>
          <a:xfrm>
            <a:off x="4680" y="208296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5640" y="3645000"/>
            <a:ext cx="3251520" cy="64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en-US" sz="1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8000≈2</a:t>
            </a:r>
            <a:r>
              <a:rPr b="1" lang="en-US" sz="1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32"/>
          <p:cNvGrpSpPr/>
          <p:nvPr/>
        </p:nvGrpSpPr>
        <p:grpSpPr>
          <a:xfrm>
            <a:off x="1541160" y="4437000"/>
            <a:ext cx="3376800" cy="1143000"/>
            <a:chOff x="1541160" y="4437000"/>
            <a:chExt cx="3376800" cy="1143000"/>
          </a:xfrm>
        </p:grpSpPr>
        <p:sp>
          <p:nvSpPr>
            <p:cNvPr id="194" name="Line 30"/>
            <p:cNvSpPr/>
            <p:nvPr/>
          </p:nvSpPr>
          <p:spPr>
            <a:xfrm>
              <a:off x="1541160" y="4437000"/>
              <a:ext cx="0" cy="504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1728720" y="4876560"/>
              <a:ext cx="318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约等号  读作：约等于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组合 1"/>
          <p:cNvGrpSpPr/>
          <p:nvPr/>
        </p:nvGrpSpPr>
        <p:grpSpPr>
          <a:xfrm>
            <a:off x="-228600" y="1546200"/>
            <a:ext cx="9626760" cy="1600200"/>
            <a:chOff x="-228600" y="1546200"/>
            <a:chExt cx="9626760" cy="1600200"/>
          </a:xfrm>
        </p:grpSpPr>
        <p:grpSp>
          <p:nvGrpSpPr>
            <p:cNvPr id="197" name="Group 19"/>
            <p:cNvGrpSpPr/>
            <p:nvPr/>
          </p:nvGrpSpPr>
          <p:grpSpPr>
            <a:xfrm>
              <a:off x="-130680" y="1546200"/>
              <a:ext cx="9434160" cy="1373400"/>
              <a:chOff x="-130680" y="1546200"/>
              <a:chExt cx="9434160" cy="1373400"/>
            </a:xfrm>
          </p:grpSpPr>
          <p:pic>
            <p:nvPicPr>
              <p:cNvPr id="198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-130680" y="1866960"/>
                <a:ext cx="9434160" cy="10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18"/>
              <p:cNvSpPr/>
              <p:nvPr/>
            </p:nvSpPr>
            <p:spPr>
              <a:xfrm>
                <a:off x="6090120" y="1546200"/>
                <a:ext cx="2028240" cy="86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Text Box 23"/>
            <p:cNvSpPr/>
            <p:nvPr/>
          </p:nvSpPr>
          <p:spPr>
            <a:xfrm>
              <a:off x="-228600" y="2565000"/>
              <a:ext cx="14875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885080" y="2565000"/>
              <a:ext cx="1513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TextBox 26"/>
          <p:cNvSpPr/>
          <p:nvPr/>
        </p:nvSpPr>
        <p:spPr>
          <a:xfrm>
            <a:off x="4204440" y="25462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1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35"/>
          <p:cNvGrpSpPr/>
          <p:nvPr/>
        </p:nvGrpSpPr>
        <p:grpSpPr>
          <a:xfrm>
            <a:off x="947880" y="2417760"/>
            <a:ext cx="820800" cy="508320"/>
            <a:chOff x="947880" y="2417760"/>
            <a:chExt cx="820800" cy="508320"/>
          </a:xfrm>
        </p:grpSpPr>
        <p:sp>
          <p:nvSpPr>
            <p:cNvPr id="204" name="TextBox 2"/>
            <p:cNvSpPr/>
            <p:nvPr/>
          </p:nvSpPr>
          <p:spPr>
            <a:xfrm>
              <a:off x="947880" y="25272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1357200" y="241776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44"/>
          <p:cNvGrpSpPr/>
          <p:nvPr/>
        </p:nvGrpSpPr>
        <p:grpSpPr>
          <a:xfrm>
            <a:off x="1765800" y="2425680"/>
            <a:ext cx="820800" cy="500400"/>
            <a:chOff x="1765800" y="2425680"/>
            <a:chExt cx="820800" cy="500400"/>
          </a:xfrm>
        </p:grpSpPr>
        <p:sp>
          <p:nvSpPr>
            <p:cNvPr id="207" name="TextBox 15"/>
            <p:cNvSpPr/>
            <p:nvPr/>
          </p:nvSpPr>
          <p:spPr>
            <a:xfrm>
              <a:off x="1765800" y="25272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36"/>
            <p:cNvSpPr/>
            <p:nvPr/>
          </p:nvSpPr>
          <p:spPr>
            <a:xfrm>
              <a:off x="2195640" y="242568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45"/>
          <p:cNvGrpSpPr/>
          <p:nvPr/>
        </p:nvGrpSpPr>
        <p:grpSpPr>
          <a:xfrm>
            <a:off x="2702520" y="2422440"/>
            <a:ext cx="820800" cy="503640"/>
            <a:chOff x="2702520" y="2422440"/>
            <a:chExt cx="820800" cy="503640"/>
          </a:xfrm>
        </p:grpSpPr>
        <p:sp>
          <p:nvSpPr>
            <p:cNvPr id="210" name="TextBox 16"/>
            <p:cNvSpPr/>
            <p:nvPr/>
          </p:nvSpPr>
          <p:spPr>
            <a:xfrm>
              <a:off x="2702520" y="25272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3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7"/>
            <p:cNvSpPr/>
            <p:nvPr/>
          </p:nvSpPr>
          <p:spPr>
            <a:xfrm>
              <a:off x="3011400" y="242244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46"/>
          <p:cNvGrpSpPr/>
          <p:nvPr/>
        </p:nvGrpSpPr>
        <p:grpSpPr>
          <a:xfrm>
            <a:off x="3461400" y="2422440"/>
            <a:ext cx="820800" cy="503640"/>
            <a:chOff x="3461400" y="2422440"/>
            <a:chExt cx="820800" cy="503640"/>
          </a:xfrm>
        </p:grpSpPr>
        <p:sp>
          <p:nvSpPr>
            <p:cNvPr id="213" name="TextBox 17"/>
            <p:cNvSpPr/>
            <p:nvPr/>
          </p:nvSpPr>
          <p:spPr>
            <a:xfrm>
              <a:off x="3461400" y="25272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4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3826080" y="242244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47"/>
          <p:cNvGrpSpPr/>
          <p:nvPr/>
        </p:nvGrpSpPr>
        <p:grpSpPr>
          <a:xfrm>
            <a:off x="4983840" y="2400480"/>
            <a:ext cx="820800" cy="541800"/>
            <a:chOff x="4983840" y="2400480"/>
            <a:chExt cx="820800" cy="541800"/>
          </a:xfrm>
        </p:grpSpPr>
        <p:sp>
          <p:nvSpPr>
            <p:cNvPr id="216" name="TextBox 19"/>
            <p:cNvSpPr/>
            <p:nvPr/>
          </p:nvSpPr>
          <p:spPr>
            <a:xfrm>
              <a:off x="4983840" y="25434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6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39"/>
            <p:cNvSpPr/>
            <p:nvPr/>
          </p:nvSpPr>
          <p:spPr>
            <a:xfrm>
              <a:off x="5438520" y="240048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5869440" y="2432160"/>
            <a:ext cx="820800" cy="500400"/>
            <a:chOff x="5869440" y="2432160"/>
            <a:chExt cx="820800" cy="500400"/>
          </a:xfrm>
        </p:grpSpPr>
        <p:sp>
          <p:nvSpPr>
            <p:cNvPr id="219" name="TextBox 20"/>
            <p:cNvSpPr/>
            <p:nvPr/>
          </p:nvSpPr>
          <p:spPr>
            <a:xfrm>
              <a:off x="5869440" y="25336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7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40"/>
            <p:cNvSpPr/>
            <p:nvPr/>
          </p:nvSpPr>
          <p:spPr>
            <a:xfrm>
              <a:off x="6265800" y="2432160"/>
              <a:ext cx="0" cy="1076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49"/>
          <p:cNvGrpSpPr/>
          <p:nvPr/>
        </p:nvGrpSpPr>
        <p:grpSpPr>
          <a:xfrm>
            <a:off x="6685560" y="2432160"/>
            <a:ext cx="820800" cy="495360"/>
            <a:chOff x="6685560" y="2432160"/>
            <a:chExt cx="820800" cy="495360"/>
          </a:xfrm>
        </p:grpSpPr>
        <p:sp>
          <p:nvSpPr>
            <p:cNvPr id="222" name="TextBox 21"/>
            <p:cNvSpPr/>
            <p:nvPr/>
          </p:nvSpPr>
          <p:spPr>
            <a:xfrm>
              <a:off x="6685560" y="252864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8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7058160" y="2432160"/>
              <a:ext cx="0" cy="1076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43"/>
          <p:cNvSpPr/>
          <p:nvPr/>
        </p:nvSpPr>
        <p:spPr>
          <a:xfrm>
            <a:off x="4680" y="2419200"/>
            <a:ext cx="0" cy="108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3"/>
          <p:cNvSpPr/>
          <p:nvPr/>
        </p:nvSpPr>
        <p:spPr>
          <a:xfrm>
            <a:off x="4643280" y="2276640"/>
            <a:ext cx="0" cy="2156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6372360" y="1008000"/>
            <a:ext cx="2930400" cy="1218960"/>
            <a:chOff x="6372360" y="1008000"/>
            <a:chExt cx="2930400" cy="1218960"/>
          </a:xfrm>
        </p:grpSpPr>
        <p:sp>
          <p:nvSpPr>
            <p:cNvPr id="227" name="Arc 25"/>
            <p:cNvSpPr/>
            <p:nvPr/>
          </p:nvSpPr>
          <p:spPr>
            <a:xfrm>
              <a:off x="7308720" y="1977840"/>
              <a:ext cx="1368000" cy="249120"/>
            </a:xfrm>
            <a:prstGeom prst="pie">
              <a:avLst/>
            </a:prstGeom>
            <a:noFill/>
            <a:ln w="63360">
              <a:solidFill>
                <a:srgbClr val="3399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6"/>
            <p:cNvSpPr/>
            <p:nvPr/>
          </p:nvSpPr>
          <p:spPr>
            <a:xfrm>
              <a:off x="6372360" y="1008000"/>
              <a:ext cx="29304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更接近</a:t>
              </a:r>
              <a:r>
                <a:rPr b="1" lang="en-US" sz="32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2</a:t>
              </a:r>
              <a:r>
                <a:rPr b="1" lang="en-US" sz="10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组合 3"/>
          <p:cNvGrpSpPr/>
          <p:nvPr/>
        </p:nvGrpSpPr>
        <p:grpSpPr>
          <a:xfrm>
            <a:off x="549360" y="1852560"/>
            <a:ext cx="802440" cy="583920"/>
            <a:chOff x="549360" y="1852560"/>
            <a:chExt cx="802440" cy="583920"/>
          </a:xfrm>
        </p:grpSpPr>
        <p:sp>
          <p:nvSpPr>
            <p:cNvPr id="230" name="AutoShape 34"/>
            <p:cNvSpPr/>
            <p:nvPr/>
          </p:nvSpPr>
          <p:spPr>
            <a:xfrm rot="16200000">
              <a:off x="865440" y="1968120"/>
              <a:ext cx="152280" cy="784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4040 h 784440"/>
                <a:gd name="textAreaBottom" fmla="*/ 77040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20"/>
                    <a:pt x="10800" y="1240"/>
                  </a:cubicBezTo>
                  <a:lnTo>
                    <a:pt x="10800" y="9560"/>
                  </a:lnTo>
                  <a:cubicBezTo>
                    <a:pt x="10800" y="10180"/>
                    <a:pt x="16200" y="10800"/>
                    <a:pt x="21600" y="10800"/>
                  </a:cubicBezTo>
                  <a:cubicBezTo>
                    <a:pt x="16200" y="10800"/>
                    <a:pt x="10800" y="11420"/>
                    <a:pt x="10800" y="12040"/>
                  </a:cubicBezTo>
                  <a:lnTo>
                    <a:pt x="10800" y="20360"/>
                  </a:lnTo>
                  <a:cubicBezTo>
                    <a:pt x="10800" y="2098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Box 1"/>
            <p:cNvSpPr/>
            <p:nvPr/>
          </p:nvSpPr>
          <p:spPr>
            <a:xfrm>
              <a:off x="561600" y="1852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矩形 2"/>
          <p:cNvSpPr/>
          <p:nvPr/>
        </p:nvSpPr>
        <p:spPr>
          <a:xfrm>
            <a:off x="-198360" y="2082960"/>
            <a:ext cx="406440" cy="43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椭圆 4"/>
          <p:cNvSpPr/>
          <p:nvPr/>
        </p:nvSpPr>
        <p:spPr>
          <a:xfrm>
            <a:off x="6692760" y="1978200"/>
            <a:ext cx="831960" cy="13795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44"/>
          <p:cNvSpPr/>
          <p:nvPr/>
        </p:nvSpPr>
        <p:spPr>
          <a:xfrm>
            <a:off x="571680" y="2343240"/>
            <a:ext cx="6486480" cy="153720"/>
          </a:xfrm>
          <a:prstGeom prst="rect">
            <a:avLst/>
          </a:prstGeom>
          <a:solidFill>
            <a:srgbClr val="c00000">
              <a:alpha val="42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矩形 46"/>
          <p:cNvSpPr/>
          <p:nvPr/>
        </p:nvSpPr>
        <p:spPr>
          <a:xfrm>
            <a:off x="7058160" y="2322360"/>
            <a:ext cx="1652400" cy="200160"/>
          </a:xfrm>
          <a:prstGeom prst="rect">
            <a:avLst/>
          </a:prstGeom>
          <a:solidFill>
            <a:srgbClr val="0000ff">
              <a:alpha val="42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1"/>
          <p:cNvGrpSpPr/>
          <p:nvPr/>
        </p:nvGrpSpPr>
        <p:grpSpPr>
          <a:xfrm>
            <a:off x="-252360" y="3141720"/>
            <a:ext cx="9763200" cy="1587240"/>
            <a:chOff x="-252360" y="3141720"/>
            <a:chExt cx="9763200" cy="1587240"/>
          </a:xfrm>
        </p:grpSpPr>
        <p:grpSp>
          <p:nvGrpSpPr>
            <p:cNvPr id="237" name="Group 19"/>
            <p:cNvGrpSpPr/>
            <p:nvPr/>
          </p:nvGrpSpPr>
          <p:grpSpPr>
            <a:xfrm>
              <a:off x="-144000" y="3141720"/>
              <a:ext cx="9433080" cy="1362240"/>
              <a:chOff x="-144000" y="3141720"/>
              <a:chExt cx="9433080" cy="1362240"/>
            </a:xfrm>
          </p:grpSpPr>
          <p:pic>
            <p:nvPicPr>
              <p:cNvPr id="238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-144000" y="3451320"/>
                <a:ext cx="9433080" cy="10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Rectangle 18"/>
              <p:cNvSpPr/>
              <p:nvPr/>
            </p:nvSpPr>
            <p:spPr>
              <a:xfrm>
                <a:off x="6145560" y="3141720"/>
                <a:ext cx="2027520" cy="86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23"/>
            <p:cNvSpPr/>
            <p:nvPr/>
          </p:nvSpPr>
          <p:spPr>
            <a:xfrm>
              <a:off x="-252360" y="4138920"/>
              <a:ext cx="14875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7956720" y="4147560"/>
              <a:ext cx="15541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4213800" y="41450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414880" y="29052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华文新魏"/>
                <a:ea typeface="华文新魏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4611600" y="3868560"/>
            <a:ext cx="0" cy="216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35"/>
          <p:cNvGrpSpPr/>
          <p:nvPr/>
        </p:nvGrpSpPr>
        <p:grpSpPr>
          <a:xfrm>
            <a:off x="947880" y="4000680"/>
            <a:ext cx="820800" cy="546480"/>
            <a:chOff x="947880" y="4000680"/>
            <a:chExt cx="820800" cy="546480"/>
          </a:xfrm>
        </p:grpSpPr>
        <p:sp>
          <p:nvSpPr>
            <p:cNvPr id="246" name="TextBox 2"/>
            <p:cNvSpPr/>
            <p:nvPr/>
          </p:nvSpPr>
          <p:spPr>
            <a:xfrm>
              <a:off x="947880" y="4148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357200" y="400068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1743480" y="4008600"/>
            <a:ext cx="820800" cy="544680"/>
            <a:chOff x="1743480" y="4008600"/>
            <a:chExt cx="820800" cy="544680"/>
          </a:xfrm>
        </p:grpSpPr>
        <p:sp>
          <p:nvSpPr>
            <p:cNvPr id="249" name="TextBox 15"/>
            <p:cNvSpPr/>
            <p:nvPr/>
          </p:nvSpPr>
          <p:spPr>
            <a:xfrm>
              <a:off x="1743480" y="41544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6"/>
            <p:cNvSpPr/>
            <p:nvPr/>
          </p:nvSpPr>
          <p:spPr>
            <a:xfrm>
              <a:off x="2173320" y="4008600"/>
              <a:ext cx="0" cy="1076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45"/>
          <p:cNvGrpSpPr/>
          <p:nvPr/>
        </p:nvGrpSpPr>
        <p:grpSpPr>
          <a:xfrm>
            <a:off x="2558160" y="4005360"/>
            <a:ext cx="820800" cy="550800"/>
            <a:chOff x="2558160" y="4005360"/>
            <a:chExt cx="820800" cy="550800"/>
          </a:xfrm>
        </p:grpSpPr>
        <p:sp>
          <p:nvSpPr>
            <p:cNvPr id="252" name="TextBox 16"/>
            <p:cNvSpPr/>
            <p:nvPr/>
          </p:nvSpPr>
          <p:spPr>
            <a:xfrm>
              <a:off x="2558160" y="4157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7"/>
            <p:cNvSpPr/>
            <p:nvPr/>
          </p:nvSpPr>
          <p:spPr>
            <a:xfrm>
              <a:off x="3000240" y="4005360"/>
              <a:ext cx="0" cy="1076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46"/>
          <p:cNvGrpSpPr/>
          <p:nvPr/>
        </p:nvGrpSpPr>
        <p:grpSpPr>
          <a:xfrm>
            <a:off x="3494520" y="4005360"/>
            <a:ext cx="820800" cy="537120"/>
            <a:chOff x="3494520" y="4005360"/>
            <a:chExt cx="820800" cy="537120"/>
          </a:xfrm>
        </p:grpSpPr>
        <p:sp>
          <p:nvSpPr>
            <p:cNvPr id="255" name="TextBox 17"/>
            <p:cNvSpPr/>
            <p:nvPr/>
          </p:nvSpPr>
          <p:spPr>
            <a:xfrm>
              <a:off x="3494520" y="41436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4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>
              <a:off x="3792600" y="400536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47"/>
          <p:cNvGrpSpPr/>
          <p:nvPr/>
        </p:nvGrpSpPr>
        <p:grpSpPr>
          <a:xfrm>
            <a:off x="5016960" y="3983040"/>
            <a:ext cx="820800" cy="541800"/>
            <a:chOff x="5016960" y="3983040"/>
            <a:chExt cx="820800" cy="541800"/>
          </a:xfrm>
        </p:grpSpPr>
        <p:sp>
          <p:nvSpPr>
            <p:cNvPr id="258" name="TextBox 19"/>
            <p:cNvSpPr/>
            <p:nvPr/>
          </p:nvSpPr>
          <p:spPr>
            <a:xfrm>
              <a:off x="5016960" y="41259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39"/>
            <p:cNvSpPr/>
            <p:nvPr/>
          </p:nvSpPr>
          <p:spPr>
            <a:xfrm>
              <a:off x="5460840" y="398304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48"/>
          <p:cNvGrpSpPr/>
          <p:nvPr/>
        </p:nvGrpSpPr>
        <p:grpSpPr>
          <a:xfrm>
            <a:off x="5869440" y="3979800"/>
            <a:ext cx="820800" cy="545040"/>
            <a:chOff x="5869440" y="3979800"/>
            <a:chExt cx="820800" cy="545040"/>
          </a:xfrm>
        </p:grpSpPr>
        <p:sp>
          <p:nvSpPr>
            <p:cNvPr id="261" name="TextBox 20"/>
            <p:cNvSpPr/>
            <p:nvPr/>
          </p:nvSpPr>
          <p:spPr>
            <a:xfrm>
              <a:off x="5869440" y="41259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7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0"/>
            <p:cNvSpPr/>
            <p:nvPr/>
          </p:nvSpPr>
          <p:spPr>
            <a:xfrm>
              <a:off x="6265800" y="397980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6685560" y="3979800"/>
            <a:ext cx="820800" cy="518040"/>
            <a:chOff x="6685560" y="3979800"/>
            <a:chExt cx="820800" cy="518040"/>
          </a:xfrm>
        </p:grpSpPr>
        <p:sp>
          <p:nvSpPr>
            <p:cNvPr id="264" name="TextBox 21"/>
            <p:cNvSpPr/>
            <p:nvPr/>
          </p:nvSpPr>
          <p:spPr>
            <a:xfrm>
              <a:off x="6685560" y="40989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8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41"/>
            <p:cNvSpPr/>
            <p:nvPr/>
          </p:nvSpPr>
          <p:spPr>
            <a:xfrm>
              <a:off x="7058160" y="3979800"/>
              <a:ext cx="0" cy="1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50"/>
          <p:cNvGrpSpPr/>
          <p:nvPr/>
        </p:nvGrpSpPr>
        <p:grpSpPr>
          <a:xfrm>
            <a:off x="7380360" y="3967200"/>
            <a:ext cx="825480" cy="536040"/>
            <a:chOff x="7380360" y="3967200"/>
            <a:chExt cx="825480" cy="536040"/>
          </a:xfrm>
        </p:grpSpPr>
        <p:pic>
          <p:nvPicPr>
            <p:cNvPr id="267" name="TextBox 22" descr=""/>
            <p:cNvPicPr/>
            <p:nvPr/>
          </p:nvPicPr>
          <p:blipFill>
            <a:blip r:embed="rId2"/>
            <a:stretch/>
          </p:blipFill>
          <p:spPr>
            <a:xfrm>
              <a:off x="7380360" y="4070520"/>
              <a:ext cx="8254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43"/>
            <p:cNvSpPr/>
            <p:nvPr/>
          </p:nvSpPr>
          <p:spPr>
            <a:xfrm>
              <a:off x="7871760" y="3967200"/>
              <a:ext cx="0" cy="1065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56"/>
          <p:cNvGrpSpPr/>
          <p:nvPr/>
        </p:nvGrpSpPr>
        <p:grpSpPr>
          <a:xfrm>
            <a:off x="596880" y="3452760"/>
            <a:ext cx="825480" cy="647280"/>
            <a:chOff x="596880" y="3452760"/>
            <a:chExt cx="825480" cy="647280"/>
          </a:xfrm>
        </p:grpSpPr>
        <p:pic>
          <p:nvPicPr>
            <p:cNvPr id="270" name="Text Box 54" descr=""/>
            <p:cNvPicPr/>
            <p:nvPr/>
          </p:nvPicPr>
          <p:blipFill>
            <a:blip r:embed="rId3"/>
            <a:stretch/>
          </p:blipFill>
          <p:spPr>
            <a:xfrm>
              <a:off x="596880" y="3452760"/>
              <a:ext cx="825480" cy="4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Line 55"/>
            <p:cNvSpPr/>
            <p:nvPr/>
          </p:nvSpPr>
          <p:spPr>
            <a:xfrm>
              <a:off x="964800" y="38271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5"/>
          <p:cNvGrpSpPr/>
          <p:nvPr/>
        </p:nvGrpSpPr>
        <p:grpSpPr>
          <a:xfrm>
            <a:off x="960480" y="3998880"/>
            <a:ext cx="811080" cy="547200"/>
            <a:chOff x="960480" y="3998880"/>
            <a:chExt cx="811080" cy="547200"/>
          </a:xfrm>
        </p:grpSpPr>
        <p:pic>
          <p:nvPicPr>
            <p:cNvPr id="273" name="TextBox 2" descr=""/>
            <p:cNvPicPr/>
            <p:nvPr/>
          </p:nvPicPr>
          <p:blipFill>
            <a:blip r:embed="rId4"/>
            <a:stretch/>
          </p:blipFill>
          <p:spPr>
            <a:xfrm>
              <a:off x="960480" y="4113360"/>
              <a:ext cx="8110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Line 34"/>
            <p:cNvSpPr/>
            <p:nvPr/>
          </p:nvSpPr>
          <p:spPr>
            <a:xfrm>
              <a:off x="1363680" y="3998880"/>
              <a:ext cx="0" cy="1065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TextBox 18" descr=""/>
          <p:cNvPicPr/>
          <p:nvPr/>
        </p:nvPicPr>
        <p:blipFill>
          <a:blip r:embed="rId5"/>
          <a:stretch/>
        </p:blipFill>
        <p:spPr>
          <a:xfrm>
            <a:off x="4138560" y="4121280"/>
            <a:ext cx="957240" cy="43812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44"/>
          <p:cNvGrpSpPr/>
          <p:nvPr/>
        </p:nvGrpSpPr>
        <p:grpSpPr>
          <a:xfrm>
            <a:off x="1738440" y="4016520"/>
            <a:ext cx="825480" cy="545760"/>
            <a:chOff x="1738440" y="4016520"/>
            <a:chExt cx="825480" cy="545760"/>
          </a:xfrm>
        </p:grpSpPr>
        <p:pic>
          <p:nvPicPr>
            <p:cNvPr id="277" name="TextBox 15" descr=""/>
            <p:cNvPicPr/>
            <p:nvPr/>
          </p:nvPicPr>
          <p:blipFill>
            <a:blip r:embed="rId6"/>
            <a:stretch/>
          </p:blipFill>
          <p:spPr>
            <a:xfrm>
              <a:off x="1738440" y="4127040"/>
              <a:ext cx="82548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36"/>
            <p:cNvSpPr/>
            <p:nvPr/>
          </p:nvSpPr>
          <p:spPr>
            <a:xfrm>
              <a:off x="2169360" y="4016520"/>
              <a:ext cx="0" cy="10728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45"/>
          <p:cNvGrpSpPr/>
          <p:nvPr/>
        </p:nvGrpSpPr>
        <p:grpSpPr>
          <a:xfrm>
            <a:off x="2552760" y="4013280"/>
            <a:ext cx="825480" cy="551880"/>
            <a:chOff x="2552760" y="4013280"/>
            <a:chExt cx="825480" cy="551880"/>
          </a:xfrm>
        </p:grpSpPr>
        <p:pic>
          <p:nvPicPr>
            <p:cNvPr id="280" name="TextBox 16" descr=""/>
            <p:cNvPicPr/>
            <p:nvPr/>
          </p:nvPicPr>
          <p:blipFill>
            <a:blip r:embed="rId7"/>
            <a:stretch/>
          </p:blipFill>
          <p:spPr>
            <a:xfrm>
              <a:off x="2552760" y="4132440"/>
              <a:ext cx="8254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Line 37"/>
            <p:cNvSpPr/>
            <p:nvPr/>
          </p:nvSpPr>
          <p:spPr>
            <a:xfrm>
              <a:off x="2991960" y="4013280"/>
              <a:ext cx="0" cy="1065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6"/>
          <p:cNvGrpSpPr/>
          <p:nvPr/>
        </p:nvGrpSpPr>
        <p:grpSpPr>
          <a:xfrm>
            <a:off x="3489480" y="4013280"/>
            <a:ext cx="825480" cy="537840"/>
            <a:chOff x="3489480" y="4013280"/>
            <a:chExt cx="825480" cy="537840"/>
          </a:xfrm>
        </p:grpSpPr>
        <p:pic>
          <p:nvPicPr>
            <p:cNvPr id="283" name="TextBox 17" descr=""/>
            <p:cNvPicPr/>
            <p:nvPr/>
          </p:nvPicPr>
          <p:blipFill>
            <a:blip r:embed="rId8"/>
            <a:stretch/>
          </p:blipFill>
          <p:spPr>
            <a:xfrm>
              <a:off x="3489480" y="4113000"/>
              <a:ext cx="8254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Line 38"/>
            <p:cNvSpPr/>
            <p:nvPr/>
          </p:nvSpPr>
          <p:spPr>
            <a:xfrm>
              <a:off x="3808440" y="4013280"/>
              <a:ext cx="0" cy="1062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5011560" y="3990960"/>
            <a:ext cx="825840" cy="542520"/>
            <a:chOff x="5011560" y="3990960"/>
            <a:chExt cx="825840" cy="542520"/>
          </a:xfrm>
        </p:grpSpPr>
        <p:pic>
          <p:nvPicPr>
            <p:cNvPr id="286" name="TextBox 19" descr=""/>
            <p:cNvPicPr/>
            <p:nvPr/>
          </p:nvPicPr>
          <p:blipFill>
            <a:blip r:embed="rId9"/>
            <a:stretch/>
          </p:blipFill>
          <p:spPr>
            <a:xfrm>
              <a:off x="5011560" y="4100760"/>
              <a:ext cx="8258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Line 39"/>
            <p:cNvSpPr/>
            <p:nvPr/>
          </p:nvSpPr>
          <p:spPr>
            <a:xfrm>
              <a:off x="5455080" y="3990960"/>
              <a:ext cx="0" cy="1065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5864400" y="3987720"/>
            <a:ext cx="825480" cy="545760"/>
            <a:chOff x="5864400" y="3987720"/>
            <a:chExt cx="825480" cy="545760"/>
          </a:xfrm>
        </p:grpSpPr>
        <p:pic>
          <p:nvPicPr>
            <p:cNvPr id="289" name="TextBox 20" descr=""/>
            <p:cNvPicPr/>
            <p:nvPr/>
          </p:nvPicPr>
          <p:blipFill>
            <a:blip r:embed="rId10"/>
            <a:stretch/>
          </p:blipFill>
          <p:spPr>
            <a:xfrm>
              <a:off x="5864400" y="4100760"/>
              <a:ext cx="8254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Line 40"/>
            <p:cNvSpPr/>
            <p:nvPr/>
          </p:nvSpPr>
          <p:spPr>
            <a:xfrm>
              <a:off x="6265440" y="3987720"/>
              <a:ext cx="0" cy="1065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矩形 2"/>
          <p:cNvSpPr/>
          <p:nvPr/>
        </p:nvSpPr>
        <p:spPr>
          <a:xfrm>
            <a:off x="-252360" y="3613320"/>
            <a:ext cx="4539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73"/>
          <p:cNvSpPr/>
          <p:nvPr/>
        </p:nvSpPr>
        <p:spPr>
          <a:xfrm>
            <a:off x="930960" y="290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05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74"/>
          <p:cNvSpPr/>
          <p:nvPr/>
        </p:nvSpPr>
        <p:spPr>
          <a:xfrm>
            <a:off x="2421360" y="81432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华文新魏"/>
                <a:ea typeface="华文新魏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5"/>
          <p:cNvSpPr/>
          <p:nvPr/>
        </p:nvSpPr>
        <p:spPr>
          <a:xfrm>
            <a:off x="905040" y="814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1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6"/>
          <p:cNvSpPr/>
          <p:nvPr/>
        </p:nvSpPr>
        <p:spPr>
          <a:xfrm>
            <a:off x="2399040" y="134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华文新魏"/>
                <a:ea typeface="华文新魏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77"/>
          <p:cNvSpPr/>
          <p:nvPr/>
        </p:nvSpPr>
        <p:spPr>
          <a:xfrm>
            <a:off x="915120" y="1349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2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78"/>
          <p:cNvSpPr/>
          <p:nvPr/>
        </p:nvSpPr>
        <p:spPr>
          <a:xfrm>
            <a:off x="2399040" y="18604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华文新魏"/>
                <a:ea typeface="华文新魏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9"/>
          <p:cNvSpPr/>
          <p:nvPr/>
        </p:nvSpPr>
        <p:spPr>
          <a:xfrm>
            <a:off x="915120" y="1860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3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80"/>
          <p:cNvSpPr/>
          <p:nvPr/>
        </p:nvSpPr>
        <p:spPr>
          <a:xfrm>
            <a:off x="2399040" y="2371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华文新魏"/>
                <a:ea typeface="华文新魏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81"/>
          <p:cNvSpPr/>
          <p:nvPr/>
        </p:nvSpPr>
        <p:spPr>
          <a:xfrm>
            <a:off x="915120" y="23716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4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82"/>
          <p:cNvSpPr/>
          <p:nvPr/>
        </p:nvSpPr>
        <p:spPr>
          <a:xfrm>
            <a:off x="5976360" y="29196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83"/>
          <p:cNvSpPr/>
          <p:nvPr/>
        </p:nvSpPr>
        <p:spPr>
          <a:xfrm>
            <a:off x="4460040" y="2919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5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84"/>
          <p:cNvSpPr/>
          <p:nvPr/>
        </p:nvSpPr>
        <p:spPr>
          <a:xfrm>
            <a:off x="5968440" y="8254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85"/>
          <p:cNvSpPr/>
          <p:nvPr/>
        </p:nvSpPr>
        <p:spPr>
          <a:xfrm>
            <a:off x="4452120" y="825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6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86"/>
          <p:cNvSpPr/>
          <p:nvPr/>
        </p:nvSpPr>
        <p:spPr>
          <a:xfrm>
            <a:off x="5968440" y="133812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7"/>
          <p:cNvSpPr/>
          <p:nvPr/>
        </p:nvSpPr>
        <p:spPr>
          <a:xfrm>
            <a:off x="4452120" y="13381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7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组合 5"/>
          <p:cNvGrpSpPr/>
          <p:nvPr/>
        </p:nvGrpSpPr>
        <p:grpSpPr>
          <a:xfrm>
            <a:off x="4458600" y="1860480"/>
            <a:ext cx="2802960" cy="520560"/>
            <a:chOff x="4458600" y="1860480"/>
            <a:chExt cx="2802960" cy="520560"/>
          </a:xfrm>
        </p:grpSpPr>
        <p:sp>
          <p:nvSpPr>
            <p:cNvPr id="308" name="TextBox 90"/>
            <p:cNvSpPr/>
            <p:nvPr/>
          </p:nvSpPr>
          <p:spPr>
            <a:xfrm>
              <a:off x="5974560" y="1860480"/>
              <a:ext cx="12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Box 91"/>
            <p:cNvSpPr/>
            <p:nvPr/>
          </p:nvSpPr>
          <p:spPr>
            <a:xfrm>
              <a:off x="4458600" y="18604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 800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Box 90"/>
          <p:cNvSpPr/>
          <p:nvPr/>
        </p:nvSpPr>
        <p:spPr>
          <a:xfrm>
            <a:off x="5990400" y="240192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91"/>
          <p:cNvSpPr/>
          <p:nvPr/>
        </p:nvSpPr>
        <p:spPr>
          <a:xfrm>
            <a:off x="4487040" y="2401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9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10-25T13:03:46Z</dcterms:modified>
  <cp:revision>138</cp:revision>
  <dc:subject/>
  <dc:title>PowerPoint Presentation</dc:title>
</cp:coreProperties>
</file>