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47EE-7CB9-4EA5-9C67-89D45312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5F35-7298-42B1-877B-6100689B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177-FC3F-4C83-92C0-FE183E8C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EFD-09E5-4CB7-9635-7A7506D3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DC16-7951-4E6F-9370-8EDA46A3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8D6-C4AE-4884-BA83-AAE438E1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2C5-6954-47E1-94EA-DC9B6AF3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7EE1-4397-490F-A946-6A883541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E8F-40A2-4E0F-BD70-86C2035F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CDDB-33F2-464D-86E2-54FF3619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38B-3156-42B1-B252-EFBB8551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D9E-7BEB-4BD8-B4CC-F0C9CEF9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2E65-1BCA-4EA3-BBB1-8761EA918B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Calibri"/>
              </a:rPr>
              <a:t>“</a:t>
            </a:r>
            <a:r>
              <a:rPr b="0" lang="zh-CN" sz="6600" spc="-1" strike="noStrike">
                <a:solidFill>
                  <a:srgbClr val="000000"/>
                </a:solidFill>
                <a:latin typeface="Calibri"/>
              </a:rPr>
              <a:t>近似数</a:t>
            </a:r>
            <a:r>
              <a:rPr b="0" lang="zh-CN" sz="6600" spc="-1" strike="noStrike">
                <a:solidFill>
                  <a:srgbClr val="ff6600"/>
                </a:solidFill>
                <a:latin typeface="Calibri"/>
              </a:rPr>
              <a:t>”练习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小明的身高约是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40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厘米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590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胡夫金字塔高约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47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米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38080" y="42670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南京长江大桥长约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6800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小明的身高约是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40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厘米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590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胡夫金字塔高约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47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米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838080" y="42670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南京长江大桥长约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6800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小明的身高约是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40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厘米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2590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胡夫金字塔高约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47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米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838080" y="42670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南京长江大桥长约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6800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仿宋_GB2312"/>
              </a:rPr>
              <a:t>智勇大冲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5638680" y="4343400"/>
            <a:ext cx="838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在括号里填上适当的数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066680" y="15238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（  ）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896 ≈31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914400" y="31240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985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（           ） ≈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99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2"/>
          <p:cNvGrpSpPr/>
          <p:nvPr/>
        </p:nvGrpSpPr>
        <p:grpSpPr>
          <a:xfrm>
            <a:off x="1447920" y="4876920"/>
            <a:ext cx="5294160" cy="764280"/>
            <a:chOff x="1447920" y="4876920"/>
            <a:chExt cx="5294160" cy="764280"/>
          </a:xfrm>
        </p:grpSpPr>
        <p:sp>
          <p:nvSpPr>
            <p:cNvPr id="128" name="Rectangle 7"/>
            <p:cNvSpPr/>
            <p:nvPr/>
          </p:nvSpPr>
          <p:spPr>
            <a:xfrm>
              <a:off x="1447920" y="4876920"/>
              <a:ext cx="761760" cy="7617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8"/>
            <p:cNvSpPr/>
            <p:nvPr/>
          </p:nvSpPr>
          <p:spPr>
            <a:xfrm>
              <a:off x="2209680" y="4876920"/>
              <a:ext cx="762120" cy="7617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9"/>
            <p:cNvSpPr/>
            <p:nvPr/>
          </p:nvSpPr>
          <p:spPr>
            <a:xfrm>
              <a:off x="2971800" y="4876920"/>
              <a:ext cx="762120" cy="7617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0"/>
            <p:cNvSpPr/>
            <p:nvPr/>
          </p:nvSpPr>
          <p:spPr>
            <a:xfrm>
              <a:off x="3733920" y="4876920"/>
              <a:ext cx="761760" cy="7617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1"/>
            <p:cNvSpPr/>
            <p:nvPr/>
          </p:nvSpPr>
          <p:spPr>
            <a:xfrm>
              <a:off x="4700520" y="4876920"/>
              <a:ext cx="2041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rial"/>
                </a:rPr>
                <a:t>≈</a:t>
              </a:r>
              <a:r>
                <a:rPr b="0" lang="en-US" sz="4400" spc="-1" strike="noStrike">
                  <a:solidFill>
                    <a:srgbClr val="ff0000"/>
                  </a:solidFill>
                  <a:latin typeface="Arial"/>
                </a:rPr>
                <a:t>100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小学部四年级有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75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人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2895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北师大南湖附校有班级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62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个，学生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2622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人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1760" y="457200"/>
            <a:ext cx="773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省略最高位后面的尾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7      93       715       482      1738     82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63560" y="1600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906560" y="1600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4649760" y="16002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201840" y="16002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6021360" y="16002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7392960" y="16002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685800" y="2759040"/>
            <a:ext cx="83059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学生辞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9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，接近（         ）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校参加假日活动的约有（           ）人，实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7088760" y="327672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311160" y="379872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6553080" y="42670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6327000" y="441972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6327000" y="495288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某市小学，今年植树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48264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棵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5998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四舍五入到十位：大约 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                   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棵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62120" y="2590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舍五入到百位：大约 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  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棵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838080" y="3505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舍五入到千位：大约 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 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棵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838080" y="441972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舍五入到万位：大约 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棵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943600" y="1676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482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638680" y="2666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48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5867280" y="3581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4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5715000" y="4495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5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143000" y="13716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7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99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1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124080" y="6094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999960" y="457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舍五入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145160" y="2133720"/>
            <a:ext cx="173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7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507480" y="2057400"/>
            <a:ext cx="173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99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479280" y="2133720"/>
            <a:ext cx="173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1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1355760" y="3875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59364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1432080" y="41878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1143000" y="4191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     29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         30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4076280" y="35053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舍五入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3641760" y="4183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1145160" y="5029200"/>
            <a:ext cx="173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3659760" y="5029200"/>
            <a:ext cx="173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6631560" y="5029200"/>
            <a:ext cx="173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143000" y="13716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3      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7       3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999960" y="457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舍五入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145160" y="2286000"/>
            <a:ext cx="173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659760" y="2362320"/>
            <a:ext cx="173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6326640" y="2362320"/>
            <a:ext cx="173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1219320" y="403848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63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57 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3924000" y="31240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舍五入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221480" y="4952880"/>
            <a:ext cx="173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659760" y="4952880"/>
            <a:ext cx="173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326640" y="4952880"/>
            <a:ext cx="173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80880" y="380880"/>
            <a:ext cx="868680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□最大能填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□ 784≈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6 □ 725≈3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3 □465 ≈2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省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□7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高位后面的尾数约等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 □可能是（   ）、（   ）、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或（    ）；省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□7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高位后面的尾数约等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 □可能是（      ）、（     ）、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（    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371600" y="4191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344840" y="3451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992160" y="396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2820960" y="396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6097320" y="3429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7924680" y="34290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7316640" y="4495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1068120" y="5105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3125520" y="5105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4802040" y="5105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6173640" y="5105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2335320" y="228600"/>
            <a:ext cx="4812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最后一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□ □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≈30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最大是□ □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最小是□ □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在括号里填上适当的数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95280" y="1600200"/>
            <a:ext cx="5943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234509≈2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（    ）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724280" y="16002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295280" y="2895480"/>
            <a:ext cx="6553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34509≈23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（    ）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371600" y="4267080"/>
            <a:ext cx="6553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34509≈2345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（    ）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105520" y="28954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638680" y="4343400"/>
            <a:ext cx="838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793120" y="42670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77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小明的身高约是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40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厘米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590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胡夫金字塔高约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47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米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38080" y="42670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南京长江大桥长约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6800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3-01T14:41:36Z</dcterms:modified>
  <cp:revision>15</cp:revision>
  <dc:subject/>
  <dc:title>“近似数”练习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