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0.gif" ContentType="image/gif"/>
  <Override PartName="/ppt/media/image13.png" ContentType="image/png"/>
  <Override PartName="/ppt/media/image4.png" ContentType="image/png"/>
  <Override PartName="/ppt/media/image27.png" ContentType="image/png"/>
  <Override PartName="/ppt/media/laser.wav" ContentType="audio/x-wav"/>
  <Override PartName="/ppt/media/TYPE.WAV" ContentType="audio/x-wav"/>
  <Override PartName="/ppt/media/image25.gif" ContentType="image/gif"/>
  <Override PartName="/ppt/media/whoosh.wav" ContentType="audio/x-wav"/>
  <Override PartName="/ppt/media/image5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2.jpeg" ContentType="image/jpeg"/>
  <Override PartName="/ppt/media/image9.png" ContentType="image/png"/>
  <Override PartName="/ppt/media/image26.png" ContentType="image/png"/>
  <Override PartName="/ppt/media/image17.jpeg" ContentType="image/jpeg"/>
  <Override PartName="/ppt/media/image2.jpeg" ContentType="image/jpeg"/>
  <Override PartName="/ppt/media/image8.png" ContentType="image/png"/>
  <Override PartName="/ppt/media/image29.png" ContentType="image/png"/>
  <Override PartName="/ppt/media/chimes.wav" ContentType="audio/x-wav"/>
  <Override PartName="/ppt/media/image3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gif" ContentType="image/gif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D2B-14C2-452E-9488-8AB41D10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7A3-98C0-4815-86C0-92A9ABE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E75-C194-4388-AB61-495D5A96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6A8-BDE8-41C8-8749-B2245525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D10-62AD-4D81-A01D-FD0013BB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CBE3-23D3-4CE6-9B94-0D827CDB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002B-320C-46BB-8AC2-70E97884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0F58-2EAE-45FF-B32F-9E870EE8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0816-AAB6-4AEF-88B7-F5875A0E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0EDF-9B88-4F59-950A-7122B20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49D2-A1EA-4334-9CE7-998CA01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E1A-9E74-4EE5-AEC2-58C75728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A8E4-0A3A-4D37-B309-8089152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D2F7-8863-4698-B4E8-F1555947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55F1-A294-4EBE-A471-FFE75129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13D8-1A09-4E1A-A997-EB556BEF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47B3-6109-4C2E-9398-D5C49438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D4E0-BAE2-4D0F-80EC-42AA6656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112C-978E-4211-8785-320D0B3A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A7F9-91AB-4680-B68E-79E00B28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29AA-EFBC-4F45-9432-3418D174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BF25-7A83-4475-BCEC-9CA7916B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AAC-D955-4554-9D46-E5BA800F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1EB2-5424-4FD6-A774-E6CA7E9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F298-283E-46AC-8AE8-33C39F7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5A87-4AAC-43A1-ACF0-15471911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16A2-D39A-4C74-A912-374A98C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142E-FD61-4E25-8B0D-ACB8CFD6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5D14-CF70-4A27-96E7-D2C0C00E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98AD-036B-4E38-B48B-76E5BA39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814-6802-45A3-8359-E95D551D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1F7-91D7-4D47-A0E8-54B1C30F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4CF-8824-4AFB-9F96-5F4922CF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2C1-9372-4F90-8A83-812701A4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A6F-661E-49AC-9CAB-7E817311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4C0-D598-4BF2-96CA-1F3CCBC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6C2D-A8F6-4DA7-B6BC-083F8F82D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9CF0-0D43-4BC2-A5DB-11280EDF5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6934-3505-4CD3-B34B-A1F1E59A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608040" y="185760"/>
            <a:ext cx="7927920" cy="26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47000"/>
                  </a:srgbClr>
                </a:solidFill>
                <a:latin typeface="宋体"/>
              </a:rPr>
              <a:t>路程、时间与速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47000"/>
                </a:srgbClr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7462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gif018"/>
          <p:cNvPicPr/>
          <p:nvPr/>
        </p:nvPicPr>
        <p:blipFill>
          <a:blip r:embed="rId1"/>
          <a:stretch/>
        </p:blipFill>
        <p:spPr>
          <a:xfrm>
            <a:off x="147600" y="6494400"/>
            <a:ext cx="247320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gif018"/>
          <p:cNvPicPr/>
          <p:nvPr/>
        </p:nvPicPr>
        <p:blipFill>
          <a:blip r:embed="rId2"/>
          <a:stretch/>
        </p:blipFill>
        <p:spPr>
          <a:xfrm>
            <a:off x="3560760" y="6494400"/>
            <a:ext cx="2430360" cy="360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6156360" y="55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gif018"/>
          <p:cNvPicPr/>
          <p:nvPr/>
        </p:nvPicPr>
        <p:blipFill>
          <a:blip r:embed="rId3"/>
          <a:stretch/>
        </p:blipFill>
        <p:spPr>
          <a:xfrm>
            <a:off x="6732720" y="6499080"/>
            <a:ext cx="2411280" cy="358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97308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9716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638316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2062080" y="1384200"/>
            <a:ext cx="540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2062080" y="1744560"/>
            <a:ext cx="540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7462800" y="1189080"/>
            <a:ext cx="0" cy="61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3224160" y="5065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小华每分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1535040" y="5824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2062080" y="1127160"/>
            <a:ext cx="0" cy="61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6730920" y="665280"/>
            <a:ext cx="15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少年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3541680" y="1425600"/>
            <a:ext cx="1944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用了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770040" y="234648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从学校到少年宫的路程是多少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1198440" y="446724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路程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=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速度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×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1703520" y="341784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黑体"/>
                <a:ea typeface="黑体"/>
              </a:rPr>
              <a:t>60×10=600</a:t>
            </a: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（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11280" y="18900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速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路程</a:t>
            </a: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÷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11280" y="162864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时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路程</a:t>
            </a: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÷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11280" y="306864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路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速度</a:t>
            </a: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×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027_JPG"/>
          <p:cNvPicPr/>
          <p:nvPr/>
        </p:nvPicPr>
        <p:blipFill>
          <a:blip r:embed="rId1"/>
          <a:stretch/>
        </p:blipFill>
        <p:spPr>
          <a:xfrm>
            <a:off x="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WordArt 3" descr=""/>
          <p:cNvPicPr/>
          <p:nvPr/>
        </p:nvPicPr>
        <p:blipFill>
          <a:blip r:embed="rId2"/>
          <a:stretch/>
        </p:blipFill>
        <p:spPr>
          <a:xfrm>
            <a:off x="3578400" y="438120"/>
            <a:ext cx="1779480" cy="884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38088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请你用手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3200400" y="1676520"/>
            <a:ext cx="676440" cy="33804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5009760" y="1563840"/>
            <a:ext cx="400320" cy="416880"/>
            <a:chOff x="5009760" y="1563840"/>
            <a:chExt cx="400320" cy="416880"/>
          </a:xfrm>
        </p:grpSpPr>
        <p:sp>
          <p:nvSpPr>
            <p:cNvPr id="198" name="Line 7"/>
            <p:cNvSpPr/>
            <p:nvPr/>
          </p:nvSpPr>
          <p:spPr>
            <a:xfrm>
              <a:off x="5011560" y="1563840"/>
              <a:ext cx="398520" cy="3963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 flipH="1">
              <a:off x="5009760" y="1603080"/>
              <a:ext cx="376200" cy="37764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9"/>
          <p:cNvSpPr/>
          <p:nvPr/>
        </p:nvSpPr>
        <p:spPr>
          <a:xfrm>
            <a:off x="457200" y="2362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一列火车行驶的速度为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“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”表示这列火车每时行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。            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5720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速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路程。                                 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457200" y="4648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飞机飞行的速度为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，汽车行驶的速度为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，汽车的速度比飞机快。            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6013440" y="2708280"/>
            <a:ext cx="676440" cy="33984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3"/>
          <p:cNvGrpSpPr/>
          <p:nvPr/>
        </p:nvGrpSpPr>
        <p:grpSpPr>
          <a:xfrm>
            <a:off x="6629040" y="3657600"/>
            <a:ext cx="400320" cy="417600"/>
            <a:chOff x="6629040" y="3657600"/>
            <a:chExt cx="400320" cy="417600"/>
          </a:xfrm>
        </p:grpSpPr>
        <p:sp>
          <p:nvSpPr>
            <p:cNvPr id="205" name="Line 14"/>
            <p:cNvSpPr/>
            <p:nvPr/>
          </p:nvSpPr>
          <p:spPr>
            <a:xfrm>
              <a:off x="6630840" y="3657600"/>
              <a:ext cx="398520" cy="3967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"/>
            <p:cNvSpPr/>
            <p:nvPr/>
          </p:nvSpPr>
          <p:spPr>
            <a:xfrm flipH="1">
              <a:off x="6629040" y="3697200"/>
              <a:ext cx="376200" cy="3780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6629040" y="5105520"/>
            <a:ext cx="400320" cy="416880"/>
            <a:chOff x="6629040" y="5105520"/>
            <a:chExt cx="400320" cy="416880"/>
          </a:xfrm>
        </p:grpSpPr>
        <p:sp>
          <p:nvSpPr>
            <p:cNvPr id="208" name="Line 17"/>
            <p:cNvSpPr/>
            <p:nvPr/>
          </p:nvSpPr>
          <p:spPr>
            <a:xfrm>
              <a:off x="6630840" y="5105520"/>
              <a:ext cx="398520" cy="3963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8"/>
            <p:cNvSpPr/>
            <p:nvPr/>
          </p:nvSpPr>
          <p:spPr>
            <a:xfrm flipH="1">
              <a:off x="6629040" y="5144760"/>
              <a:ext cx="376200" cy="37764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19" descr="W_044"/>
          <p:cNvPicPr/>
          <p:nvPr/>
        </p:nvPicPr>
        <p:blipFill>
          <a:blip r:embed="rId3"/>
          <a:stretch/>
        </p:blipFill>
        <p:spPr>
          <a:xfrm>
            <a:off x="8594640" y="6299280"/>
            <a:ext cx="54936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95400" y="42552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一辆汽车的行驶速度为</a:t>
            </a:r>
            <a:r>
              <a:rPr b="1" lang="en-US" sz="4000" spc="-1" strike="noStrike">
                <a:solidFill>
                  <a:srgbClr val="003300"/>
                </a:solidFill>
                <a:latin typeface="黑体"/>
                <a:ea typeface="黑体"/>
              </a:rPr>
              <a:t>60</a:t>
            </a: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千米</a:t>
            </a:r>
            <a:r>
              <a:rPr b="1" lang="en-US" sz="4000" spc="-1" strike="noStrike">
                <a:solidFill>
                  <a:srgbClr val="0033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时，从甲地开往乙地需要</a:t>
            </a:r>
            <a:r>
              <a:rPr b="1" lang="en-US" sz="4000" spc="-1" strike="noStrike">
                <a:solidFill>
                  <a:srgbClr val="0033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611280" y="2071800"/>
            <a:ext cx="2881080" cy="1439640"/>
          </a:xfrm>
          <a:prstGeom prst="wedgeRoundRectCallout">
            <a:avLst>
              <a:gd name="adj1" fmla="val -21351"/>
              <a:gd name="adj2" fmla="val 9288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60×3=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表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4778280" y="2050920"/>
            <a:ext cx="2881440" cy="1440000"/>
          </a:xfrm>
          <a:prstGeom prst="wedgeRoundRectCallout">
            <a:avLst>
              <a:gd name="adj1" fmla="val 21625"/>
              <a:gd name="adj2" fmla="val 914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180÷3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表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771640" y="4149720"/>
            <a:ext cx="2881440" cy="1440000"/>
          </a:xfrm>
          <a:prstGeom prst="wedgeRoundRectCallout">
            <a:avLst>
              <a:gd name="adj1" fmla="val 1074"/>
              <a:gd name="adj2" fmla="val 84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80÷60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表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Cloud"/>
          <p:cNvSpPr/>
          <p:nvPr/>
        </p:nvSpPr>
        <p:spPr>
          <a:xfrm>
            <a:off x="0" y="0"/>
            <a:ext cx="7162920" cy="4255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练习(1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250920" y="907920"/>
          <a:ext cx="8642160" cy="3240360"/>
        </p:xfrm>
        <a:graphic>
          <a:graphicData uri="http://schemas.openxmlformats.org/drawingml/2006/table">
            <a:tbl>
              <a:tblPr/>
              <a:tblGrid>
                <a:gridCol w="1441440"/>
                <a:gridCol w="2519280"/>
                <a:gridCol w="2521080"/>
                <a:gridCol w="2160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千米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米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43"/>
          <p:cNvSpPr/>
          <p:nvPr/>
        </p:nvSpPr>
        <p:spPr>
          <a:xfrm>
            <a:off x="2050920" y="1093680"/>
            <a:ext cx="2160720" cy="720720"/>
          </a:xfrm>
          <a:prstGeom prst="wedgeRoundRectCallout">
            <a:avLst>
              <a:gd name="adj1" fmla="val -12601"/>
              <a:gd name="adj2" fmla="val 2819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150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4"/>
          <p:cNvSpPr/>
          <p:nvPr/>
        </p:nvSpPr>
        <p:spPr>
          <a:xfrm>
            <a:off x="4376880" y="2195640"/>
            <a:ext cx="2160360" cy="720720"/>
          </a:xfrm>
          <a:prstGeom prst="wedgeRoundRectCallout">
            <a:avLst>
              <a:gd name="adj1" fmla="val -12601"/>
              <a:gd name="adj2" fmla="val 2819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5"/>
          <p:cNvSpPr/>
          <p:nvPr/>
        </p:nvSpPr>
        <p:spPr>
          <a:xfrm>
            <a:off x="6558120" y="3213000"/>
            <a:ext cx="2520720" cy="720720"/>
          </a:xfrm>
          <a:prstGeom prst="wedgeRoundRectCallout">
            <a:avLst>
              <a:gd name="adj1" fmla="val -3652"/>
              <a:gd name="adj2" fmla="val 2819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150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千米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Cloud"/>
          <p:cNvSpPr/>
          <p:nvPr/>
        </p:nvSpPr>
        <p:spPr>
          <a:xfrm>
            <a:off x="0" y="0"/>
            <a:ext cx="7162920" cy="4255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练习(1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250920" y="887400"/>
          <a:ext cx="8642160" cy="3240000"/>
        </p:xfrm>
        <a:graphic>
          <a:graphicData uri="http://schemas.openxmlformats.org/drawingml/2006/table">
            <a:tbl>
              <a:tblPr/>
              <a:tblGrid>
                <a:gridCol w="1560240"/>
                <a:gridCol w="1681200"/>
                <a:gridCol w="1800360"/>
                <a:gridCol w="1800360"/>
                <a:gridCol w="18000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乘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乘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5" name="AutoShape 26"/>
          <p:cNvSpPr/>
          <p:nvPr/>
        </p:nvSpPr>
        <p:spPr>
          <a:xfrm>
            <a:off x="1517760" y="3068640"/>
            <a:ext cx="2160360" cy="720720"/>
          </a:xfrm>
          <a:prstGeom prst="wedgeRoundRectCallout">
            <a:avLst>
              <a:gd name="adj1" fmla="val 30087"/>
              <a:gd name="adj2" fmla="val 528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96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7"/>
          <p:cNvSpPr/>
          <p:nvPr/>
        </p:nvSpPr>
        <p:spPr>
          <a:xfrm>
            <a:off x="3265560" y="876240"/>
            <a:ext cx="2160360" cy="720720"/>
          </a:xfrm>
          <a:prstGeom prst="wedgeRoundRectCallout">
            <a:avLst>
              <a:gd name="adj1" fmla="val -847"/>
              <a:gd name="adj2" fmla="val 2709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6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8"/>
          <p:cNvSpPr/>
          <p:nvPr/>
        </p:nvSpPr>
        <p:spPr>
          <a:xfrm>
            <a:off x="4932360" y="1968480"/>
            <a:ext cx="2521080" cy="720720"/>
          </a:xfrm>
          <a:prstGeom prst="wedgeRoundRectCallout">
            <a:avLst>
              <a:gd name="adj1" fmla="val 20527"/>
              <a:gd name="adj2" fmla="val 3171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6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9"/>
          <p:cNvSpPr/>
          <p:nvPr/>
        </p:nvSpPr>
        <p:spPr>
          <a:xfrm>
            <a:off x="6599160" y="928800"/>
            <a:ext cx="2521080" cy="720720"/>
          </a:xfrm>
          <a:prstGeom prst="wedgeRoundRectCallout">
            <a:avLst>
              <a:gd name="adj1" fmla="val -8060"/>
              <a:gd name="adj2" fmla="val 8171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611280" y="342900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乘数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×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乘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2"/>
          <p:cNvSpPr/>
          <p:nvPr/>
        </p:nvSpPr>
        <p:spPr>
          <a:xfrm>
            <a:off x="611280" y="450864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乘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积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÷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另一个乘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能根据第一个算式，直接写出下面两个算式的得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54240" y="1989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50×4=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844640" y="306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200÷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718880" y="30481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968480" y="41068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200÷5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5179680" y="40878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能根据第一个算式，直接写出下面两个算式的得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154240" y="1989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6×80=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844640" y="306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480÷6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718880" y="30481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968480" y="41068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480÷8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5179680" y="40878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能根据第一个算式，直接写出下面两个算式的得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54240" y="1989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30×70=2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844640" y="306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2100÷3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104800" y="30481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886040" y="41068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2100÷7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5238720" y="4087800"/>
            <a:ext cx="11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2050920" y="1808280"/>
            <a:ext cx="5400720" cy="1620720"/>
          </a:xfrm>
          <a:prstGeom prst="cloudCallout">
            <a:avLst>
              <a:gd name="adj1" fmla="val -61935"/>
              <a:gd name="adj2" fmla="val -3687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828800" y="2112840"/>
            <a:ext cx="52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乘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019"/>
          <p:cNvPicPr/>
          <p:nvPr/>
        </p:nvPicPr>
        <p:blipFill>
          <a:blip r:embed="rId2"/>
          <a:stretch/>
        </p:blipFill>
        <p:spPr>
          <a:xfrm>
            <a:off x="250920" y="1649520"/>
            <a:ext cx="952560" cy="122868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5"/>
          <p:cNvGrpSpPr/>
          <p:nvPr/>
        </p:nvGrpSpPr>
        <p:grpSpPr>
          <a:xfrm>
            <a:off x="6227640" y="5229360"/>
            <a:ext cx="2742840" cy="1447200"/>
            <a:chOff x="6227640" y="5229360"/>
            <a:chExt cx="2742840" cy="1447200"/>
          </a:xfrm>
        </p:grpSpPr>
        <p:pic>
          <p:nvPicPr>
            <p:cNvPr id="254" name="Picture 6" descr="j0095684"/>
            <p:cNvPicPr/>
            <p:nvPr/>
          </p:nvPicPr>
          <p:blipFill>
            <a:blip r:embed="rId3"/>
            <a:stretch/>
          </p:blipFill>
          <p:spPr>
            <a:xfrm>
              <a:off x="8071560" y="5229360"/>
              <a:ext cx="898920" cy="14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227640" y="5541120"/>
              <a:ext cx="1751760" cy="1135080"/>
            </a:xfrm>
            <a:prstGeom prst="cloudCallout">
              <a:avLst>
                <a:gd name="adj1" fmla="val 79277"/>
                <a:gd name="adj2" fmla="val -3250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Times New Roman"/>
                </a:rPr>
                <a:t>继续动脑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9"/>
          <p:cNvSpPr/>
          <p:nvPr/>
        </p:nvSpPr>
        <p:spPr>
          <a:xfrm>
            <a:off x="250920" y="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新宋体"/>
              </a:rPr>
              <a:t>算算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411280" y="359424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315÷9=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411280" y="486900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我是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5430960" y="312840"/>
            <a:ext cx="381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汽车拉力赛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1332000" y="3429000"/>
            <a:ext cx="259056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5"/>
          <a:stretch/>
        </p:blipFill>
        <p:spPr>
          <a:xfrm>
            <a:off x="4211640" y="4149720"/>
            <a:ext cx="32479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250920" y="1628640"/>
            <a:ext cx="6481800" cy="1981440"/>
          </a:xfrm>
          <a:prstGeom prst="cloudCallout">
            <a:avLst>
              <a:gd name="adj1" fmla="val 62027"/>
              <a:gd name="adj2" fmla="val -40222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-123840" y="211284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的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倍是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36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6227640" y="5229360"/>
            <a:ext cx="2742840" cy="1447200"/>
            <a:chOff x="6227640" y="5229360"/>
            <a:chExt cx="2742840" cy="1447200"/>
          </a:xfrm>
        </p:grpSpPr>
        <p:pic>
          <p:nvPicPr>
            <p:cNvPr id="262" name="Picture 6" descr="j0095684"/>
            <p:cNvPicPr/>
            <p:nvPr/>
          </p:nvPicPr>
          <p:blipFill>
            <a:blip r:embed="rId2"/>
            <a:stretch/>
          </p:blipFill>
          <p:spPr>
            <a:xfrm>
              <a:off x="8071560" y="5229360"/>
              <a:ext cx="898920" cy="14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AutoShape 7"/>
            <p:cNvSpPr/>
            <p:nvPr/>
          </p:nvSpPr>
          <p:spPr>
            <a:xfrm>
              <a:off x="6227640" y="5541120"/>
              <a:ext cx="1751760" cy="1135080"/>
            </a:xfrm>
            <a:prstGeom prst="cloudCallout">
              <a:avLst>
                <a:gd name="adj1" fmla="val 79277"/>
                <a:gd name="adj2" fmla="val -325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Times New Roman"/>
                </a:rPr>
                <a:t>继续动脑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8"/>
          <p:cNvSpPr/>
          <p:nvPr/>
        </p:nvSpPr>
        <p:spPr>
          <a:xfrm>
            <a:off x="250920" y="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新宋体"/>
              </a:rPr>
              <a:t>算算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1733400" y="359424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536÷8=6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鸟3"/>
          <p:cNvPicPr/>
          <p:nvPr/>
        </p:nvPicPr>
        <p:blipFill>
          <a:blip r:embed="rId4"/>
          <a:stretch/>
        </p:blipFill>
        <p:spPr>
          <a:xfrm>
            <a:off x="7054920" y="907920"/>
            <a:ext cx="2089080" cy="1808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1"/>
          <p:cNvSpPr/>
          <p:nvPr/>
        </p:nvSpPr>
        <p:spPr>
          <a:xfrm>
            <a:off x="1692360" y="46832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我是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67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7462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gif018"/>
          <p:cNvPicPr/>
          <p:nvPr/>
        </p:nvPicPr>
        <p:blipFill>
          <a:blip r:embed="rId1"/>
          <a:stretch/>
        </p:blipFill>
        <p:spPr>
          <a:xfrm>
            <a:off x="468360" y="6554880"/>
            <a:ext cx="1908000" cy="3031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3870360" y="550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gif018"/>
          <p:cNvPicPr/>
          <p:nvPr/>
        </p:nvPicPr>
        <p:blipFill>
          <a:blip r:embed="rId2"/>
          <a:stretch/>
        </p:blipFill>
        <p:spPr>
          <a:xfrm>
            <a:off x="3924360" y="6519960"/>
            <a:ext cx="1873080" cy="338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6156360" y="55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gif018"/>
          <p:cNvPicPr/>
          <p:nvPr/>
        </p:nvPicPr>
        <p:blipFill>
          <a:blip r:embed="rId3"/>
          <a:stretch/>
        </p:blipFill>
        <p:spPr>
          <a:xfrm>
            <a:off x="6804000" y="6519960"/>
            <a:ext cx="1943280" cy="338040"/>
          </a:xfrm>
          <a:prstGeom prst="rect">
            <a:avLst/>
          </a:prstGeom>
          <a:ln w="0">
            <a:noFill/>
          </a:ln>
        </p:spPr>
      </p:pic>
      <p:sp>
        <p:nvSpPr>
          <p:cNvPr id="274" name="Line 8"/>
          <p:cNvSpPr/>
          <p:nvPr/>
        </p:nvSpPr>
        <p:spPr>
          <a:xfrm>
            <a:off x="1835280" y="1282680"/>
            <a:ext cx="540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835280" y="960480"/>
            <a:ext cx="540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7236000" y="631800"/>
            <a:ext cx="0" cy="61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11280" y="234936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王大叔从西村到东村，每分走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60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330200" y="12668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西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1835280" y="682560"/>
            <a:ext cx="0" cy="61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73760" y="12700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3562200" y="549360"/>
            <a:ext cx="2160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40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611280" y="327492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）出发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分后，他大约在什么位置？（用△在上图作标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1795320" y="47242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60×10=6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72000" y="1093680"/>
            <a:ext cx="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3132000" y="1082520"/>
            <a:ext cx="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5970600" y="1062000"/>
            <a:ext cx="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2832840" y="12682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7462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gif018"/>
          <p:cNvPicPr/>
          <p:nvPr/>
        </p:nvPicPr>
        <p:blipFill>
          <a:blip r:embed="rId1"/>
          <a:stretch/>
        </p:blipFill>
        <p:spPr>
          <a:xfrm>
            <a:off x="468360" y="6554880"/>
            <a:ext cx="1908000" cy="3031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3870360" y="550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gif018"/>
          <p:cNvPicPr/>
          <p:nvPr/>
        </p:nvPicPr>
        <p:blipFill>
          <a:blip r:embed="rId2"/>
          <a:stretch/>
        </p:blipFill>
        <p:spPr>
          <a:xfrm>
            <a:off x="3924360" y="6519960"/>
            <a:ext cx="1873080" cy="3380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156360" y="55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gif018"/>
          <p:cNvPicPr/>
          <p:nvPr/>
        </p:nvPicPr>
        <p:blipFill>
          <a:blip r:embed="rId3"/>
          <a:stretch/>
        </p:blipFill>
        <p:spPr>
          <a:xfrm>
            <a:off x="6804000" y="6519960"/>
            <a:ext cx="1943280" cy="3380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>
            <a:off x="1835280" y="1004760"/>
            <a:ext cx="540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1835280" y="682560"/>
            <a:ext cx="540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7236000" y="353880"/>
            <a:ext cx="0" cy="61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631800" y="167940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王大叔从西村到东村，每分走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60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1330200" y="9889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西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1835280" y="404640"/>
            <a:ext cx="0" cy="61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6773760" y="9921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562200" y="271440"/>
            <a:ext cx="2160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40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11280" y="250200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）王大叔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出发，走完一半路程时是什么时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1692360" y="38718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400÷2=12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1455840" y="46944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200÷60=2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分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3"/>
          <p:cNvSpPr/>
          <p:nvPr/>
        </p:nvSpPr>
        <p:spPr>
          <a:xfrm>
            <a:off x="847800" y="545616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+2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=9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WordArt 3"/>
          <p:cNvSpPr txBox="1"/>
          <p:nvPr/>
        </p:nvSpPr>
        <p:spPr>
          <a:xfrm>
            <a:off x="609480" y="18288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64600" dir="674838" blurRad="0" rotWithShape="0">
                    <a:srgbClr val="3333cc"/>
                  </a:outerShdw>
                </a:effectLst>
                <a:latin typeface="宋体"/>
              </a:rPr>
              <a:t>这节课你学到了什么？</a:t>
            </a:r>
            <a:endParaRPr b="1" lang="en-US" sz="9600" spc="1" strike="noStrike">
              <a:ln w="158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64600" dir="674838" blurRad="0" rotWithShape="0">
                  <a:srgbClr val="3333cc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9" name="Picture 4" descr="W_044"/>
          <p:cNvPicPr/>
          <p:nvPr/>
        </p:nvPicPr>
        <p:blipFill>
          <a:blip r:embed="rId3"/>
          <a:stretch/>
        </p:blipFill>
        <p:spPr>
          <a:xfrm>
            <a:off x="8594640" y="6299280"/>
            <a:ext cx="549360" cy="54936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r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ouseline"/>
          <p:cNvPicPr/>
          <p:nvPr/>
        </p:nvPicPr>
        <p:blipFill>
          <a:blip r:embed="rId1"/>
          <a:stretch/>
        </p:blipFill>
        <p:spPr>
          <a:xfrm>
            <a:off x="0" y="6118200"/>
            <a:ext cx="9144000" cy="73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2590560" cy="151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4932360" y="3789360"/>
            <a:ext cx="3247920" cy="18651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0" y="1268280"/>
            <a:ext cx="4932360" cy="1800360"/>
          </a:xfrm>
          <a:prstGeom prst="cloudCallout">
            <a:avLst>
              <a:gd name="adj1" fmla="val -5680"/>
              <a:gd name="adj2" fmla="val 84481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我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时行驶了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120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千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932360" y="0"/>
            <a:ext cx="4211640" cy="2230560"/>
          </a:xfrm>
          <a:prstGeom prst="cloudCallout">
            <a:avLst>
              <a:gd name="adj1" fmla="val 1712"/>
              <a:gd name="adj2" fmla="val 11177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行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2050920" y="5589720"/>
            <a:ext cx="5042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哪辆车跑得快些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ouseline"/>
          <p:cNvPicPr/>
          <p:nvPr/>
        </p:nvPicPr>
        <p:blipFill>
          <a:blip r:embed="rId1"/>
          <a:stretch/>
        </p:blipFill>
        <p:spPr>
          <a:xfrm>
            <a:off x="0" y="6118200"/>
            <a:ext cx="9144000" cy="739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60360" y="907920"/>
            <a:ext cx="8532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汽车每小时行驶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千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就是汽车的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速度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60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千米</a:t>
            </a:r>
            <a:r>
              <a:rPr b="1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时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11280" y="378936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速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路程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÷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3"/>
          <p:cNvSpPr txBox="1"/>
          <p:nvPr/>
        </p:nvSpPr>
        <p:spPr>
          <a:xfrm>
            <a:off x="684360" y="549360"/>
            <a:ext cx="18525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看一看</a:t>
            </a:r>
            <a:endParaRPr b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8" name="WordArt 4" descr=""/>
          <p:cNvPicPr/>
          <p:nvPr/>
        </p:nvPicPr>
        <p:blipFill>
          <a:blip r:embed="rId1"/>
          <a:stretch/>
        </p:blipFill>
        <p:spPr>
          <a:xfrm>
            <a:off x="1047600" y="2023920"/>
            <a:ext cx="725508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WordArt 4" descr=""/>
          <p:cNvPicPr/>
          <p:nvPr/>
        </p:nvPicPr>
        <p:blipFill>
          <a:blip r:embed="rId2"/>
          <a:stretch/>
        </p:blipFill>
        <p:spPr>
          <a:xfrm>
            <a:off x="963720" y="1847880"/>
            <a:ext cx="7253280" cy="112068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457200" y="271440"/>
            <a:ext cx="18525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看一看</a:t>
            </a:r>
            <a:endParaRPr b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69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1332000" y="549360"/>
            <a:ext cx="2500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4" name="WordArt 6" descr=""/>
          <p:cNvPicPr/>
          <p:nvPr/>
        </p:nvPicPr>
        <p:blipFill>
          <a:blip r:embed="rId2"/>
          <a:stretch/>
        </p:blipFill>
        <p:spPr>
          <a:xfrm>
            <a:off x="1322280" y="2700360"/>
            <a:ext cx="6535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66680" y="1352520"/>
            <a:ext cx="2438640" cy="107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200400" y="-171360"/>
            <a:ext cx="5943600" cy="3809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 rot="20836200">
            <a:off x="3276720" y="894960"/>
            <a:ext cx="586728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 rot="21257400">
            <a:off x="3276720" y="1504440"/>
            <a:ext cx="586728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 rot="20968800">
            <a:off x="3276720" y="1123920"/>
            <a:ext cx="586728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 rot="90000">
            <a:off x="3351240" y="2031480"/>
            <a:ext cx="5791320" cy="81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 rot="625200">
            <a:off x="3276720" y="2647800"/>
            <a:ext cx="586728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WordArt 10" descr=""/>
          <p:cNvPicPr/>
          <p:nvPr/>
        </p:nvPicPr>
        <p:blipFill>
          <a:blip r:embed="rId3"/>
          <a:stretch/>
        </p:blipFill>
        <p:spPr>
          <a:xfrm>
            <a:off x="603360" y="4145040"/>
            <a:ext cx="7974000" cy="14745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1"/>
          <p:cNvSpPr txBox="1"/>
          <p:nvPr/>
        </p:nvSpPr>
        <p:spPr>
          <a:xfrm>
            <a:off x="558720" y="189000"/>
            <a:ext cx="18525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看一看</a:t>
            </a:r>
            <a:endParaRPr b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7462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gif018"/>
          <p:cNvPicPr/>
          <p:nvPr/>
        </p:nvPicPr>
        <p:blipFill>
          <a:blip r:embed="rId1"/>
          <a:stretch/>
        </p:blipFill>
        <p:spPr>
          <a:xfrm>
            <a:off x="468360" y="6554880"/>
            <a:ext cx="1908000" cy="303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3870360" y="550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gif018"/>
          <p:cNvPicPr/>
          <p:nvPr/>
        </p:nvPicPr>
        <p:blipFill>
          <a:blip r:embed="rId2"/>
          <a:stretch/>
        </p:blipFill>
        <p:spPr>
          <a:xfrm>
            <a:off x="3924360" y="6519960"/>
            <a:ext cx="1873080" cy="338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6156360" y="55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gif018"/>
          <p:cNvPicPr/>
          <p:nvPr/>
        </p:nvPicPr>
        <p:blipFill>
          <a:blip r:embed="rId3"/>
          <a:stretch/>
        </p:blipFill>
        <p:spPr>
          <a:xfrm>
            <a:off x="6804000" y="6519960"/>
            <a:ext cx="1943280" cy="338040"/>
          </a:xfrm>
          <a:prstGeom prst="rect">
            <a:avLst/>
          </a:prstGeom>
          <a:ln w="0">
            <a:noFill/>
          </a:ln>
        </p:spPr>
      </p:pic>
      <p:sp>
        <p:nvSpPr>
          <p:cNvPr id="160" name="Line 8"/>
          <p:cNvSpPr/>
          <p:nvPr/>
        </p:nvSpPr>
        <p:spPr>
          <a:xfrm>
            <a:off x="1835280" y="1785960"/>
            <a:ext cx="540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835280" y="2146320"/>
            <a:ext cx="540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7236000" y="1590840"/>
            <a:ext cx="0" cy="61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997360" y="907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汽车每时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7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1308240" y="9842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甲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1835280" y="1528920"/>
            <a:ext cx="0" cy="61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6730920" y="10666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乙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3768840" y="1827360"/>
            <a:ext cx="1800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4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1332000" y="27478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从甲地到乙地需要多少时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971640" y="4869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=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路程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÷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速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1476360" y="38196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黑体"/>
                <a:ea typeface="黑体"/>
              </a:rPr>
              <a:t>140÷70=2</a:t>
            </a: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（时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25:13Z</dcterms:created>
  <dc:creator/>
  <dc:description/>
  <cp:keywords/>
  <dc:language>en-US</dc:language>
  <cp:lastModifiedBy>Administrator</cp:lastModifiedBy>
  <dcterms:modified xsi:type="dcterms:W3CDTF">2015-03-01T22:40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c000000000001024120</vt:lpwstr>
  </property>
</Properties>
</file>