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gif" ContentType="image/gif"/>
  <Override PartName="/ppt/media/image8.png" ContentType="image/png"/>
  <Override PartName="/ppt/media/image5.gif" ContentType="image/gif"/>
  <Override PartName="/ppt/media/image14.jpeg" ContentType="image/jpeg"/>
  <Override PartName="/ppt/media/image7.gif" ContentType="image/gif"/>
  <Override PartName="/ppt/media/image10.jpeg" ContentType="image/jpeg"/>
  <Override PartName="/ppt/media/whoosh.wav" ContentType="audio/x-wav"/>
  <Override PartName="/ppt/media/image6.gif" ContentType="image/gif"/>
  <Override PartName="/ppt/media/image20.png" ContentType="image/png"/>
  <Override PartName="/ppt/media/image3.png" ContentType="image/png"/>
  <Override PartName="/ppt/media/image19.gif" ContentType="image/gif"/>
  <Override PartName="/ppt/media/image17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chimes.wav" ContentType="audio/x-wav"/>
  <Override PartName="/ppt/media/image15.jpeg" ContentType="image/jpeg"/>
  <Override PartName="/ppt/media/image2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18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4AC-5126-49CA-ADB8-096503E2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DDA-F0E9-4966-891E-7F6ACB88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C40-B6FE-4D74-B7F0-C0BA83F5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C15-D7F6-427F-8CFA-AD93D6D4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157-63AE-49FC-BBE5-C6021B7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548-41EF-4F7C-9055-8FE49625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FD9-702C-48B5-B02F-68166F9C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4DA-6DD5-47F3-B63D-71EC16D7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892-1C98-459C-BF7E-1316B276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568-4679-4054-B69E-8A2249E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438-ACD7-4B21-AC86-E8DE0D1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C60-6365-4F42-91B3-BB4F728A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DEC6-B62D-4CCA-9380-0061DB014B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3[12]"/>
          <p:cNvPicPr/>
          <p:nvPr/>
        </p:nvPicPr>
        <p:blipFill>
          <a:blip r:embed="rId1"/>
          <a:stretch/>
        </p:blipFill>
        <p:spPr>
          <a:xfrm>
            <a:off x="228600" y="3213000"/>
            <a:ext cx="2819520" cy="3645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4"/>
          <p:cNvSpPr txBox="1"/>
          <p:nvPr/>
        </p:nvSpPr>
        <p:spPr>
          <a:xfrm>
            <a:off x="2556000" y="3068640"/>
            <a:ext cx="504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路程、时间、速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826920" y="2060640"/>
            <a:ext cx="40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《</a:t>
            </a:r>
            <a:r>
              <a:rPr b="1" lang="zh-CN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数学</a:t>
            </a:r>
            <a:r>
              <a:rPr b="1" lang="en-US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》</a:t>
            </a:r>
            <a:r>
              <a:rPr b="1" lang="en-US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(</a:t>
            </a:r>
            <a:r>
              <a:rPr b="1" lang="zh-CN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北师大</a:t>
            </a:r>
            <a:r>
              <a:rPr b="1" lang="en-US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.</a:t>
            </a:r>
            <a:r>
              <a:rPr b="1" lang="zh-CN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四年级 上册</a:t>
            </a:r>
            <a:r>
              <a:rPr b="1" lang="en-US" sz="2000" spc="-1" strike="noStrike">
                <a:solidFill>
                  <a:srgbClr val="006666"/>
                </a:solidFill>
                <a:latin typeface="华文彩云"/>
                <a:ea typeface="华文彩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004971839765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832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141200" y="119700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关于速度的一些小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u=3410642302,1852604516&amp;gp=30"/>
          <p:cNvPicPr/>
          <p:nvPr/>
        </p:nvPicPr>
        <p:blipFill>
          <a:blip r:embed="rId2"/>
          <a:stretch/>
        </p:blipFill>
        <p:spPr>
          <a:xfrm>
            <a:off x="2627280" y="1341360"/>
            <a:ext cx="3816360" cy="3127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909160" y="5083560"/>
            <a:ext cx="33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刘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栏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4971839765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141200" y="119700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关于速度的一些小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蜗牛"/>
          <p:cNvPicPr/>
          <p:nvPr/>
        </p:nvPicPr>
        <p:blipFill>
          <a:blip r:embed="rId2"/>
          <a:stretch/>
        </p:blipFill>
        <p:spPr>
          <a:xfrm>
            <a:off x="2411280" y="1052640"/>
            <a:ext cx="44658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67360" y="515664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蜗牛爬行的速度大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12720" y="33336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42920" y="5202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9280" y="1222920"/>
            <a:ext cx="849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答下列各题中物体的速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 一列火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行驶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千米，这列火车的速度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 自行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行驶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，这辆自行车的速度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 一名运动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秒跑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，这名运动员的速度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27280" y="256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484360" y="4076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484360" y="55897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xxsx4apage74"/>
          <p:cNvPicPr/>
          <p:nvPr/>
        </p:nvPicPr>
        <p:blipFill>
          <a:blip r:embed="rId1"/>
          <a:srcRect l="7843" t="56521" r="78454" b="37439"/>
          <a:stretch/>
        </p:blipFill>
        <p:spPr>
          <a:xfrm>
            <a:off x="3708360" y="549360"/>
            <a:ext cx="21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gif023"/>
          <p:cNvPicPr/>
          <p:nvPr/>
        </p:nvPicPr>
        <p:blipFill>
          <a:blip r:embed="rId2"/>
          <a:stretch/>
        </p:blipFill>
        <p:spPr>
          <a:xfrm>
            <a:off x="1258920" y="2421000"/>
            <a:ext cx="1371600" cy="743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539640" y="2997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1332000" y="2924280"/>
            <a:ext cx="6552360" cy="609480"/>
            <a:chOff x="1332000" y="2924280"/>
            <a:chExt cx="6552360" cy="609480"/>
          </a:xfrm>
        </p:grpSpPr>
        <p:sp>
          <p:nvSpPr>
            <p:cNvPr id="125" name="Line 6"/>
            <p:cNvSpPr/>
            <p:nvPr/>
          </p:nvSpPr>
          <p:spPr>
            <a:xfrm>
              <a:off x="1332000" y="2924280"/>
              <a:ext cx="0" cy="609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1332000" y="3152520"/>
              <a:ext cx="65523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7884360" y="2924280"/>
              <a:ext cx="0" cy="609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9"/>
          <p:cNvSpPr/>
          <p:nvPr/>
        </p:nvSpPr>
        <p:spPr>
          <a:xfrm>
            <a:off x="5940360" y="2349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每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124000" y="3716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从甲地到乙地需多少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5796000" y="3573360"/>
            <a:ext cx="2017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1330200" y="3573360"/>
            <a:ext cx="25941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060800" y="3068640"/>
            <a:ext cx="166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810108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619280" y="53737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答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甲地到乙地需要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6"/>
          <p:cNvGrpSpPr/>
          <p:nvPr/>
        </p:nvGrpSpPr>
        <p:grpSpPr>
          <a:xfrm>
            <a:off x="2050920" y="4433760"/>
            <a:ext cx="4175280" cy="1072080"/>
            <a:chOff x="2050920" y="4433760"/>
            <a:chExt cx="4175280" cy="1072080"/>
          </a:xfrm>
        </p:grpSpPr>
        <p:sp>
          <p:nvSpPr>
            <p:cNvPr id="136" name="Text Box 17"/>
            <p:cNvSpPr/>
            <p:nvPr/>
          </p:nvSpPr>
          <p:spPr>
            <a:xfrm>
              <a:off x="2843280" y="443700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隶书"/>
                  <a:ea typeface="隶书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3419640" y="44337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隶书"/>
                  <a:ea typeface="隶书"/>
                </a:rPr>
                <a:t>7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9"/>
            <p:cNvSpPr/>
            <p:nvPr/>
          </p:nvSpPr>
          <p:spPr>
            <a:xfrm>
              <a:off x="4427640" y="4510080"/>
              <a:ext cx="11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隶书"/>
                  <a:ea typeface="隶书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0"/>
            <p:cNvSpPr/>
            <p:nvPr/>
          </p:nvSpPr>
          <p:spPr>
            <a:xfrm>
              <a:off x="5506920" y="443700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隶书"/>
                  <a:ea typeface="隶书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1"/>
            <p:cNvSpPr/>
            <p:nvPr/>
          </p:nvSpPr>
          <p:spPr>
            <a:xfrm>
              <a:off x="2050920" y="4437000"/>
              <a:ext cx="86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隶书"/>
                  <a:ea typeface="隶书"/>
                </a:rPr>
                <a:t>1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2050920" y="4437000"/>
            <a:ext cx="4178160" cy="576360"/>
            <a:chOff x="2050920" y="4437000"/>
            <a:chExt cx="4178160" cy="576360"/>
          </a:xfrm>
        </p:grpSpPr>
        <p:sp>
          <p:nvSpPr>
            <p:cNvPr id="142" name="Rectangle 23"/>
            <p:cNvSpPr/>
            <p:nvPr/>
          </p:nvSpPr>
          <p:spPr>
            <a:xfrm>
              <a:off x="2050920" y="4508640"/>
              <a:ext cx="865080" cy="5047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路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4"/>
            <p:cNvSpPr/>
            <p:nvPr/>
          </p:nvSpPr>
          <p:spPr>
            <a:xfrm>
              <a:off x="5364000" y="4508640"/>
              <a:ext cx="865080" cy="504720"/>
            </a:xfrm>
            <a:prstGeom prst="rect">
              <a:avLst/>
            </a:prstGeom>
            <a:solidFill>
              <a:srgbClr val="eefba3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5"/>
            <p:cNvSpPr/>
            <p:nvPr/>
          </p:nvSpPr>
          <p:spPr>
            <a:xfrm>
              <a:off x="3490560" y="4437000"/>
              <a:ext cx="865440" cy="576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隶书"/>
                  <a:ea typeface="隶书"/>
                </a:rPr>
                <a:t>速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-3.61111E-006 4.07407E-006 L 0.59445 -0.00162 E">
                                      <p:cBhvr>
                                        <p:cTn id="202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76360" y="39337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从学校到少年宫的路程是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724360" y="357336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H="1">
            <a:off x="1042560" y="3573360"/>
            <a:ext cx="2233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08360" y="3141720"/>
            <a:ext cx="201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用了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RX_012"/>
          <p:cNvPicPr/>
          <p:nvPr/>
        </p:nvPicPr>
        <p:blipFill>
          <a:blip r:embed="rId1"/>
          <a:stretch/>
        </p:blipFill>
        <p:spPr>
          <a:xfrm flipH="1">
            <a:off x="1116000" y="2205000"/>
            <a:ext cx="582480" cy="8683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7"/>
          <p:cNvGrpSpPr/>
          <p:nvPr/>
        </p:nvGrpSpPr>
        <p:grpSpPr>
          <a:xfrm>
            <a:off x="108000" y="2422440"/>
            <a:ext cx="8567640" cy="1517760"/>
            <a:chOff x="108000" y="2422440"/>
            <a:chExt cx="8567640" cy="1517760"/>
          </a:xfrm>
        </p:grpSpPr>
        <p:grpSp>
          <p:nvGrpSpPr>
            <p:cNvPr id="151" name="Group 8"/>
            <p:cNvGrpSpPr/>
            <p:nvPr/>
          </p:nvGrpSpPr>
          <p:grpSpPr>
            <a:xfrm>
              <a:off x="1116000" y="2997360"/>
              <a:ext cx="6550920" cy="609480"/>
              <a:chOff x="1116000" y="2997360"/>
              <a:chExt cx="6550920" cy="609480"/>
            </a:xfrm>
          </p:grpSpPr>
          <p:sp>
            <p:nvSpPr>
              <p:cNvPr id="152" name="Line 9"/>
              <p:cNvSpPr/>
              <p:nvPr/>
            </p:nvSpPr>
            <p:spPr>
              <a:xfrm>
                <a:off x="1116000" y="2997360"/>
                <a:ext cx="0" cy="609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0"/>
              <p:cNvSpPr/>
              <p:nvPr/>
            </p:nvSpPr>
            <p:spPr>
              <a:xfrm>
                <a:off x="1116000" y="3225600"/>
                <a:ext cx="6550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1"/>
              <p:cNvSpPr/>
              <p:nvPr/>
            </p:nvSpPr>
            <p:spPr>
              <a:xfrm>
                <a:off x="7666920" y="2997360"/>
                <a:ext cx="0" cy="609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12"/>
            <p:cNvSpPr/>
            <p:nvPr/>
          </p:nvSpPr>
          <p:spPr>
            <a:xfrm>
              <a:off x="108000" y="2924280"/>
              <a:ext cx="1295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少年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7684920" y="2997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学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4"/>
            <p:cNvSpPr/>
            <p:nvPr/>
          </p:nvSpPr>
          <p:spPr>
            <a:xfrm>
              <a:off x="938160" y="242244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5"/>
            <p:cNvSpPr/>
            <p:nvPr/>
          </p:nvSpPr>
          <p:spPr>
            <a:xfrm>
              <a:off x="7491240" y="2422440"/>
              <a:ext cx="60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5375160" y="1847880"/>
            <a:ext cx="1828440" cy="699840"/>
            <a:chOff x="5375160" y="1847880"/>
            <a:chExt cx="1828440" cy="699840"/>
          </a:xfrm>
        </p:grpSpPr>
        <p:sp>
          <p:nvSpPr>
            <p:cNvPr id="160" name="Text Box 17"/>
            <p:cNvSpPr/>
            <p:nvPr/>
          </p:nvSpPr>
          <p:spPr>
            <a:xfrm>
              <a:off x="5375160" y="1847880"/>
              <a:ext cx="18284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每分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8"/>
            <p:cNvSpPr/>
            <p:nvPr/>
          </p:nvSpPr>
          <p:spPr>
            <a:xfrm>
              <a:off x="5573520" y="2030760"/>
              <a:ext cx="144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19" descr="xxsx4apage74"/>
          <p:cNvPicPr/>
          <p:nvPr/>
        </p:nvPicPr>
        <p:blipFill>
          <a:blip r:embed="rId2"/>
          <a:srcRect l="7843" t="56521" r="78454" b="37439"/>
          <a:stretch/>
        </p:blipFill>
        <p:spPr>
          <a:xfrm>
            <a:off x="3995640" y="333360"/>
            <a:ext cx="2124000" cy="1171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0"/>
          <p:cNvSpPr/>
          <p:nvPr/>
        </p:nvSpPr>
        <p:spPr>
          <a:xfrm>
            <a:off x="2411280" y="4724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995640" y="47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3132000" y="4653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5148360" y="4724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6084720" y="4653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5"/>
          <p:cNvGrpSpPr/>
          <p:nvPr/>
        </p:nvGrpSpPr>
        <p:grpSpPr>
          <a:xfrm>
            <a:off x="1979640" y="4653000"/>
            <a:ext cx="5256360" cy="647640"/>
            <a:chOff x="1979640" y="4653000"/>
            <a:chExt cx="5256360" cy="647640"/>
          </a:xfrm>
        </p:grpSpPr>
        <p:sp>
          <p:nvSpPr>
            <p:cNvPr id="169" name="Rectangle 26"/>
            <p:cNvSpPr/>
            <p:nvPr/>
          </p:nvSpPr>
          <p:spPr>
            <a:xfrm>
              <a:off x="1979640" y="4653000"/>
              <a:ext cx="1152720" cy="647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eefb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速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7"/>
            <p:cNvSpPr/>
            <p:nvPr/>
          </p:nvSpPr>
          <p:spPr>
            <a:xfrm>
              <a:off x="3996000" y="4653000"/>
              <a:ext cx="1152360" cy="64764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8"/>
            <p:cNvSpPr/>
            <p:nvPr/>
          </p:nvSpPr>
          <p:spPr>
            <a:xfrm>
              <a:off x="6083280" y="4653000"/>
              <a:ext cx="1152720" cy="647640"/>
            </a:xfrm>
            <a:prstGeom prst="rect">
              <a:avLst/>
            </a:prstGeom>
            <a:solidFill>
              <a:srgbClr val="eefba3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隶书"/>
                  <a:ea typeface="隶书"/>
                </a:rPr>
                <a:t>路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29"/>
          <p:cNvSpPr/>
          <p:nvPr/>
        </p:nvSpPr>
        <p:spPr>
          <a:xfrm>
            <a:off x="971640" y="53737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答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从学校到少年宫的路程是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60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.01545 -0.00023 L 0.6691 -0.00023 E">
                                      <p:cBhvr>
                                        <p:cTn id="2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3294000" y="981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小组说一说</a:t>
            </a:r>
            <a:endParaRPr b="0" lang="en-US" sz="9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2349360"/>
            <a:ext cx="8153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一辆汽车的行驶速度为 </a:t>
            </a:r>
            <a:r>
              <a:rPr b="1" lang="en-US" sz="2400" spc="-1" strike="noStrike">
                <a:solidFill>
                  <a:srgbClr val="1f497d"/>
                </a:solidFill>
                <a:latin typeface="黑体"/>
                <a:ea typeface="黑体"/>
              </a:rPr>
              <a:t>60 </a:t>
            </a: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千米</a:t>
            </a:r>
            <a:r>
              <a:rPr b="1" lang="en-US" sz="2400" spc="-1" strike="noStrike">
                <a:solidFill>
                  <a:srgbClr val="1f497d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时，从甲地开往乙地需要 </a:t>
            </a:r>
            <a:r>
              <a:rPr b="1" lang="en-US" sz="2400" spc="-1" strike="noStrike">
                <a:solidFill>
                  <a:srgbClr val="1f497d"/>
                </a:solidFill>
                <a:latin typeface="黑体"/>
                <a:ea typeface="黑体"/>
              </a:rPr>
              <a:t>3 </a:t>
            </a: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黑体"/>
                <a:ea typeface="黑体"/>
              </a:rPr>
              <a:t>60 × 3=180 </a:t>
            </a: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黑体"/>
                <a:ea typeface="黑体"/>
              </a:rPr>
              <a:t>180 ÷ 3=60 </a:t>
            </a: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黑体"/>
                <a:ea typeface="黑体"/>
              </a:rPr>
              <a:t>180 ÷ 60=3 </a:t>
            </a: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表示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987640" y="38606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从甲地开往乙地 的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路程是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0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千米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843280" y="4365720"/>
            <a:ext cx="5790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059280" y="486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辆汽车的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速度是每小时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0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千米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916360" y="5950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汽车从甲地开往乙地用的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时间是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小时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916360" y="5373720"/>
            <a:ext cx="5790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2771640" y="6453360"/>
            <a:ext cx="5969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013944_10868"/>
          <p:cNvPicPr/>
          <p:nvPr/>
        </p:nvPicPr>
        <p:blipFill>
          <a:blip r:embed="rId1"/>
          <a:stretch/>
        </p:blipFill>
        <p:spPr>
          <a:xfrm>
            <a:off x="611280" y="476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3581280" y="533520"/>
            <a:ext cx="243072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判断题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24000" y="2276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请你用手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4"/>
          <p:cNvSpPr/>
          <p:nvPr/>
        </p:nvSpPr>
        <p:spPr>
          <a:xfrm>
            <a:off x="3564000" y="2492280"/>
            <a:ext cx="676080" cy="33840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5508720" y="2492280"/>
            <a:ext cx="399600" cy="417600"/>
            <a:chOff x="5508720" y="2492280"/>
            <a:chExt cx="399600" cy="417600"/>
          </a:xfrm>
        </p:grpSpPr>
        <p:sp>
          <p:nvSpPr>
            <p:cNvPr id="186" name="Line 6"/>
            <p:cNvSpPr/>
            <p:nvPr/>
          </p:nvSpPr>
          <p:spPr>
            <a:xfrm>
              <a:off x="5510160" y="2492280"/>
              <a:ext cx="398160" cy="3967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5508720" y="2531880"/>
              <a:ext cx="375840" cy="3780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8"/>
          <p:cNvSpPr/>
          <p:nvPr/>
        </p:nvSpPr>
        <p:spPr>
          <a:xfrm>
            <a:off x="395280" y="30686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  一列火车行驶的速度为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“ 11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”表示这列火车每时行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。     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24000" y="42926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  速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路程。                         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68360" y="5157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  飞机飞行的速度为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，汽车行驶的速度为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，汽车的速度比飞机快。   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1"/>
          <p:cNvSpPr/>
          <p:nvPr/>
        </p:nvSpPr>
        <p:spPr>
          <a:xfrm>
            <a:off x="6372360" y="3500280"/>
            <a:ext cx="676080" cy="33840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2"/>
          <p:cNvGrpSpPr/>
          <p:nvPr/>
        </p:nvGrpSpPr>
        <p:grpSpPr>
          <a:xfrm>
            <a:off x="6300720" y="4221360"/>
            <a:ext cx="399600" cy="518760"/>
            <a:chOff x="6300720" y="4221360"/>
            <a:chExt cx="399600" cy="518760"/>
          </a:xfrm>
        </p:grpSpPr>
        <p:sp>
          <p:nvSpPr>
            <p:cNvPr id="193" name="Line 13"/>
            <p:cNvSpPr/>
            <p:nvPr/>
          </p:nvSpPr>
          <p:spPr>
            <a:xfrm flipV="1">
              <a:off x="6302160" y="4247280"/>
              <a:ext cx="398160" cy="49284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 flipH="1" flipV="1">
              <a:off x="6300720" y="4221360"/>
              <a:ext cx="375840" cy="4698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5"/>
          <p:cNvGrpSpPr/>
          <p:nvPr/>
        </p:nvGrpSpPr>
        <p:grpSpPr>
          <a:xfrm>
            <a:off x="6372360" y="5516640"/>
            <a:ext cx="399600" cy="417600"/>
            <a:chOff x="6372360" y="5516640"/>
            <a:chExt cx="399600" cy="417600"/>
          </a:xfrm>
        </p:grpSpPr>
        <p:sp>
          <p:nvSpPr>
            <p:cNvPr id="196" name="Line 16"/>
            <p:cNvSpPr/>
            <p:nvPr/>
          </p:nvSpPr>
          <p:spPr>
            <a:xfrm>
              <a:off x="6373800" y="5516640"/>
              <a:ext cx="398160" cy="3967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6372360" y="5556240"/>
              <a:ext cx="375840" cy="3780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71640" y="1052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填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16000" y="2421000"/>
          <a:ext cx="6985080" cy="2009880"/>
        </p:xfrm>
        <a:graphic>
          <a:graphicData uri="http://schemas.openxmlformats.org/drawingml/2006/table">
            <a:tbl>
              <a:tblPr/>
              <a:tblGrid>
                <a:gridCol w="1513080"/>
                <a:gridCol w="790560"/>
                <a:gridCol w="747720"/>
                <a:gridCol w="693720"/>
                <a:gridCol w="792000"/>
                <a:gridCol w="792000"/>
                <a:gridCol w="792360"/>
                <a:gridCol w="863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32"/>
          <p:cNvSpPr/>
          <p:nvPr/>
        </p:nvSpPr>
        <p:spPr>
          <a:xfrm>
            <a:off x="1116000" y="2492280"/>
            <a:ext cx="14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1114560" y="357336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路程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2843280" y="2492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5"/>
          <p:cNvSpPr/>
          <p:nvPr/>
        </p:nvSpPr>
        <p:spPr>
          <a:xfrm>
            <a:off x="4429080" y="25653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3635280" y="25653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7"/>
          <p:cNvSpPr/>
          <p:nvPr/>
        </p:nvSpPr>
        <p:spPr>
          <a:xfrm>
            <a:off x="2843280" y="3500280"/>
            <a:ext cx="6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5148360" y="2565360"/>
            <a:ext cx="6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3635280" y="3500280"/>
            <a:ext cx="6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5940360" y="2565360"/>
            <a:ext cx="6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732720" y="2565360"/>
            <a:ext cx="6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7451640" y="249228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6000" y="350028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2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4282920" y="350028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5003640" y="350028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1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6588000" y="350028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24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7451640" y="249228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7524720" y="342900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9" descr="ren01"/>
          <p:cNvPicPr/>
          <p:nvPr/>
        </p:nvPicPr>
        <p:blipFill>
          <a:blip r:embed="rId1"/>
          <a:stretch/>
        </p:blipFill>
        <p:spPr>
          <a:xfrm>
            <a:off x="971640" y="4724280"/>
            <a:ext cx="958680" cy="1438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0"/>
          <p:cNvSpPr/>
          <p:nvPr/>
        </p:nvSpPr>
        <p:spPr>
          <a:xfrm>
            <a:off x="2627280" y="4365720"/>
            <a:ext cx="3960720" cy="1512720"/>
          </a:xfrm>
          <a:prstGeom prst="cloudCallout">
            <a:avLst>
              <a:gd name="adj1" fmla="val -71481"/>
              <a:gd name="adj2" fmla="val 1715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发现了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sx4akbp61"/>
          <p:cNvPicPr/>
          <p:nvPr/>
        </p:nvPicPr>
        <p:blipFill>
          <a:blip r:embed="rId1"/>
          <a:srcRect l="15549" t="25238" r="52259" b="53104"/>
          <a:stretch/>
        </p:blipFill>
        <p:spPr>
          <a:xfrm>
            <a:off x="971640" y="2349360"/>
            <a:ext cx="3085920" cy="37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WordArt 3"/>
          <p:cNvSpPr txBox="1"/>
          <p:nvPr/>
        </p:nvSpPr>
        <p:spPr>
          <a:xfrm>
            <a:off x="3564000" y="404640"/>
            <a:ext cx="266544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知识应用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572000" y="2349360"/>
            <a:ext cx="39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辆小轿车看到路牌 后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后到达了天津，它的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>
            <a:hlinkClick r:id="rId2" action="ppaction://hlinksldjump"/>
          </p:cNvPr>
          <p:cNvSpPr/>
          <p:nvPr/>
        </p:nvSpPr>
        <p:spPr>
          <a:xfrm>
            <a:off x="817236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71636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0÷3=8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千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5056560" y="6033960"/>
            <a:ext cx="348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它的速度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sx4akbp61"/>
          <p:cNvPicPr/>
          <p:nvPr/>
        </p:nvPicPr>
        <p:blipFill>
          <a:blip r:embed="rId1"/>
          <a:srcRect l="15549" t="25238" r="52259" b="53104"/>
          <a:stretch/>
        </p:blipFill>
        <p:spPr>
          <a:xfrm>
            <a:off x="826920" y="2565360"/>
            <a:ext cx="3144960" cy="386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WordArt 3"/>
          <p:cNvSpPr txBox="1"/>
          <p:nvPr/>
        </p:nvSpPr>
        <p:spPr>
          <a:xfrm>
            <a:off x="3851280" y="549360"/>
            <a:ext cx="201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知识应用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4956840" y="2421000"/>
            <a:ext cx="30416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长途客车的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，它还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要多长时间才能到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>
            <a:hlinkClick r:id="rId2" action="ppaction://hlinksldjump"/>
          </p:cNvPr>
          <p:cNvSpPr/>
          <p:nvPr/>
        </p:nvSpPr>
        <p:spPr>
          <a:xfrm>
            <a:off x="838836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327640" y="508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÷50=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356000" y="5791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它还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才能到北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2771640" y="836640"/>
            <a:ext cx="338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35280" y="2708280"/>
            <a:ext cx="525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本节课我们主要来学习路程、时间和速度，同学们要结合实例掌握路程、时间和速度三者之间的关系，能够应用路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速度这个公式解决相关的实际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x4akbp61"/>
          <p:cNvPicPr/>
          <p:nvPr/>
        </p:nvPicPr>
        <p:blipFill>
          <a:blip r:embed="rId1"/>
          <a:srcRect l="15549" t="25238" r="52259" b="53104"/>
          <a:stretch/>
        </p:blipFill>
        <p:spPr>
          <a:xfrm>
            <a:off x="900000" y="2637000"/>
            <a:ext cx="314964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WordArt 3"/>
          <p:cNvSpPr txBox="1"/>
          <p:nvPr/>
        </p:nvSpPr>
        <p:spPr>
          <a:xfrm>
            <a:off x="3851280" y="404640"/>
            <a:ext cx="22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知识应用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356000" y="2060640"/>
            <a:ext cx="414036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辆货车的速度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，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它能否到达石家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>
            <a:hlinkClick r:id="rId2" action="ppaction://hlinksldjump"/>
          </p:cNvPr>
          <p:cNvSpPr/>
          <p:nvPr/>
        </p:nvSpPr>
        <p:spPr>
          <a:xfrm>
            <a:off x="8999640" y="6713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4211640" y="43657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3×8=34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500720" y="49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44﹤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356000" y="5400720"/>
            <a:ext cx="446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它不能到达石家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2268360" y="83664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64600" dir="674838" blurRad="0" rotWithShape="0">
                    <a:srgbClr val="c0504d"/>
                  </a:outerShdw>
                </a:effectLst>
                <a:latin typeface="隶书"/>
              </a:rPr>
              <a:t>这节课你学到了什么？</a:t>
            </a:r>
            <a:endParaRPr b="1" lang="en-US" sz="9600" spc="1" strike="noStrike">
              <a:ln w="158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64600" dir="674838" blurRad="0" rotWithShape="0">
                  <a:srgbClr val="c0504d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763640" y="2565360"/>
            <a:ext cx="7776720" cy="3152520"/>
            <a:chOff x="1763640" y="2565360"/>
            <a:chExt cx="7776720" cy="3152520"/>
          </a:xfrm>
        </p:grpSpPr>
        <p:sp>
          <p:nvSpPr>
            <p:cNvPr id="240" name="Text Box 4"/>
            <p:cNvSpPr/>
            <p:nvPr/>
          </p:nvSpPr>
          <p:spPr>
            <a:xfrm>
              <a:off x="1843200" y="3251160"/>
              <a:ext cx="51984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2 .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路程、时间、速度的关系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速度</a:t>
              </a: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=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路程</a:t>
              </a: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÷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时间</a:t>
              </a: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=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路程</a:t>
              </a: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÷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速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路程</a:t>
              </a: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=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速度</a:t>
              </a: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×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"/>
            <p:cNvSpPr/>
            <p:nvPr/>
          </p:nvSpPr>
          <p:spPr>
            <a:xfrm>
              <a:off x="1763640" y="2565360"/>
              <a:ext cx="77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1 .</a:t>
              </a:r>
              <a:r>
                <a:rPr b="1" lang="zh-CN" sz="28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什么是路程，什么是时间，什么是速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6" descr="图片3"/>
          <p:cNvPicPr/>
          <p:nvPr/>
        </p:nvPicPr>
        <p:blipFill>
          <a:blip r:embed="rId1"/>
          <a:stretch/>
        </p:blipFill>
        <p:spPr>
          <a:xfrm>
            <a:off x="900000" y="4365720"/>
            <a:ext cx="125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0" y="249120"/>
            <a:ext cx="4788000" cy="1524240"/>
          </a:xfrm>
          <a:prstGeom prst="cloudCallout">
            <a:avLst>
              <a:gd name="adj1" fmla="val -16444"/>
              <a:gd name="adj2" fmla="val 59273"/>
            </a:avLst>
          </a:prstGeom>
          <a:solidFill>
            <a:srgbClr val="ffff99"/>
          </a:solidFill>
          <a:ln w="9360">
            <a:solidFill>
              <a:srgbClr val="d12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 的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时行驶了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0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4788000" y="352440"/>
            <a:ext cx="4608360" cy="1563840"/>
          </a:xfrm>
          <a:prstGeom prst="cloudCallout">
            <a:avLst>
              <a:gd name="adj1" fmla="val 3083"/>
              <a:gd name="adj2" fmla="val 57916"/>
            </a:avLst>
          </a:prstGeom>
          <a:solidFill>
            <a:srgbClr val="ffff99"/>
          </a:solidFill>
          <a:ln w="9360">
            <a:solidFill>
              <a:srgbClr val="d12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的车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时行驶了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10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71640" y="512604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谁的汽车跑得快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90720" y="4876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14400" y="59436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7"/>
          <p:cNvGraphicFramePr/>
          <p:nvPr/>
        </p:nvGraphicFramePr>
        <p:xfrm>
          <a:off x="0" y="2355840"/>
          <a:ext cx="417528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5840"/>
                    <a:ext cx="417528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4859280" y="2163600"/>
          <a:ext cx="3673440" cy="23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163600"/>
                    <a:ext cx="3673440" cy="23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539640" y="836640"/>
            <a:ext cx="4267440" cy="1523880"/>
          </a:xfrm>
          <a:prstGeom prst="cloudCallout">
            <a:avLst>
              <a:gd name="adj1" fmla="val -25000"/>
              <a:gd name="adj2" fmla="val 21458"/>
            </a:avLst>
          </a:prstGeom>
          <a:solidFill>
            <a:srgbClr val="4f81bd"/>
          </a:solidFill>
          <a:ln w="9360">
            <a:solidFill>
              <a:srgbClr val="d12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时行驶了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0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5029200" y="692280"/>
            <a:ext cx="4114800" cy="1752480"/>
          </a:xfrm>
          <a:prstGeom prst="cloudCallout">
            <a:avLst>
              <a:gd name="adj1" fmla="val 3587"/>
              <a:gd name="adj2" fmla="val 57064"/>
            </a:avLst>
          </a:prstGeom>
          <a:solidFill>
            <a:srgbClr val="4f81bd"/>
          </a:solidFill>
          <a:ln w="9360">
            <a:solidFill>
              <a:srgbClr val="d12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时行驶了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10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380880" y="3352680"/>
            <a:ext cx="5867640" cy="3240720"/>
            <a:chOff x="380880" y="3352680"/>
            <a:chExt cx="5867640" cy="3240720"/>
          </a:xfrm>
        </p:grpSpPr>
        <p:pic>
          <p:nvPicPr>
            <p:cNvPr id="58" name="Picture 5" descr="SU_116"/>
            <p:cNvPicPr/>
            <p:nvPr/>
          </p:nvPicPr>
          <p:blipFill>
            <a:blip r:embed="rId1"/>
            <a:stretch/>
          </p:blipFill>
          <p:spPr>
            <a:xfrm>
              <a:off x="380880" y="3423960"/>
              <a:ext cx="53352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SU_117"/>
            <p:cNvPicPr/>
            <p:nvPr/>
          </p:nvPicPr>
          <p:blipFill>
            <a:blip r:embed="rId2"/>
            <a:stretch/>
          </p:blipFill>
          <p:spPr>
            <a:xfrm>
              <a:off x="380880" y="449064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7" descr="SU_118"/>
            <p:cNvPicPr/>
            <p:nvPr/>
          </p:nvPicPr>
          <p:blipFill>
            <a:blip r:embed="rId3"/>
            <a:stretch/>
          </p:blipFill>
          <p:spPr>
            <a:xfrm>
              <a:off x="380880" y="555768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8"/>
            <p:cNvSpPr/>
            <p:nvPr/>
          </p:nvSpPr>
          <p:spPr>
            <a:xfrm>
              <a:off x="914400" y="3352680"/>
              <a:ext cx="533412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红色汽车每小时行驶多少千米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绿色汽车每小时行驶多少千米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哪辆汽车跑得快些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914400" y="37339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20 ÷ 2=60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（千米）答： 红色汽车每小时行驶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60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9907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10 ÷ 3=70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（千米）答： 绿色汽车每小时行驶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70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914400" y="59436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60&lt;70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70&gt;60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）答： 绿色汽车跑得快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2"/>
          <p:cNvGraphicFramePr/>
          <p:nvPr/>
        </p:nvGraphicFramePr>
        <p:xfrm>
          <a:off x="6877080" y="2492280"/>
          <a:ext cx="1924200" cy="123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77080" y="2492280"/>
                    <a:ext cx="19242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3"/>
          <p:cNvGraphicFramePr/>
          <p:nvPr/>
        </p:nvGraphicFramePr>
        <p:xfrm>
          <a:off x="533520" y="2349360"/>
          <a:ext cx="2447640" cy="96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2349360"/>
                    <a:ext cx="2447640" cy="9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0" y="692280"/>
            <a:ext cx="4267080" cy="1371600"/>
          </a:xfrm>
          <a:prstGeom prst="cloudCallout">
            <a:avLst>
              <a:gd name="adj1" fmla="val -11643"/>
              <a:gd name="adj2" fmla="val -2199"/>
            </a:avLst>
          </a:prstGeom>
          <a:solidFill>
            <a:srgbClr val="ffff99"/>
          </a:solidFill>
          <a:ln w="9360">
            <a:solidFill>
              <a:srgbClr val="d12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时行驶了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0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5105520" y="189000"/>
            <a:ext cx="4038480" cy="1371600"/>
          </a:xfrm>
          <a:prstGeom prst="cloudCallout">
            <a:avLst>
              <a:gd name="adj1" fmla="val 11476"/>
              <a:gd name="adj2" fmla="val 52546"/>
            </a:avLst>
          </a:prstGeom>
          <a:solidFill>
            <a:srgbClr val="ffff99"/>
          </a:solidFill>
          <a:ln w="9360">
            <a:solidFill>
              <a:srgbClr val="d12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时行驶了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10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450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汽车每小时行驶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，也就是： 汽车的速度是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187280" y="1844640"/>
            <a:ext cx="1447920" cy="0"/>
          </a:xfrm>
          <a:prstGeom prst="line">
            <a:avLst/>
          </a:prstGeom>
          <a:ln cap="rnd" w="76320">
            <a:solidFill>
              <a:srgbClr val="c050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6012000" y="1341360"/>
            <a:ext cx="1447560" cy="0"/>
          </a:xfrm>
          <a:prstGeom prst="line">
            <a:avLst/>
          </a:prstGeom>
          <a:ln cap="rnd" w="76320">
            <a:solidFill>
              <a:srgbClr val="c050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1332000" y="1341360"/>
            <a:ext cx="91440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6084720" y="836640"/>
            <a:ext cx="114300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2195640" y="2637000"/>
            <a:ext cx="3733200" cy="459720"/>
            <a:chOff x="2195640" y="2637000"/>
            <a:chExt cx="3733200" cy="459720"/>
          </a:xfrm>
        </p:grpSpPr>
        <p:sp>
          <p:nvSpPr>
            <p:cNvPr id="77" name="WordArt 10"/>
            <p:cNvSpPr txBox="1"/>
            <p:nvPr/>
          </p:nvSpPr>
          <p:spPr>
            <a:xfrm>
              <a:off x="5014800" y="2637000"/>
              <a:ext cx="914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路程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2195640" y="2637000"/>
              <a:ext cx="32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20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千米、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10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千米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539640" y="3933720"/>
            <a:ext cx="6477120" cy="536040"/>
            <a:chOff x="539640" y="3933720"/>
            <a:chExt cx="6477120" cy="536040"/>
          </a:xfrm>
        </p:grpSpPr>
        <p:sp>
          <p:nvSpPr>
            <p:cNvPr id="80" name="WordArt 13"/>
            <p:cNvSpPr txBox="1"/>
            <p:nvPr/>
          </p:nvSpPr>
          <p:spPr>
            <a:xfrm>
              <a:off x="6178320" y="3933720"/>
              <a:ext cx="8384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速度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81" name="Text Box 14"/>
            <p:cNvSpPr/>
            <p:nvPr/>
          </p:nvSpPr>
          <p:spPr>
            <a:xfrm>
              <a:off x="539640" y="401004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每小时行驶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60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千米、每小时行驶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70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千米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WordArt 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63720" y="5535720"/>
            <a:ext cx="5003640" cy="7729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6"/>
          <p:cNvGrpSpPr/>
          <p:nvPr/>
        </p:nvGrpSpPr>
        <p:grpSpPr>
          <a:xfrm>
            <a:off x="2195640" y="3357720"/>
            <a:ext cx="3482640" cy="459720"/>
            <a:chOff x="2195640" y="3357720"/>
            <a:chExt cx="3482640" cy="459720"/>
          </a:xfrm>
        </p:grpSpPr>
        <p:sp>
          <p:nvSpPr>
            <p:cNvPr id="84" name="Text Box 17"/>
            <p:cNvSpPr/>
            <p:nvPr/>
          </p:nvSpPr>
          <p:spPr>
            <a:xfrm>
              <a:off x="2195640" y="3357720"/>
              <a:ext cx="26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小时、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小时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ordArt 18"/>
            <p:cNvSpPr txBox="1"/>
            <p:nvPr/>
          </p:nvSpPr>
          <p:spPr>
            <a:xfrm>
              <a:off x="4744080" y="3357720"/>
              <a:ext cx="934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时间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86" name="Text Box 19"/>
          <p:cNvSpPr/>
          <p:nvPr/>
        </p:nvSpPr>
        <p:spPr>
          <a:xfrm>
            <a:off x="0" y="5084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汽车每小时行驶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呢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0"/>
          <p:cNvGraphicFramePr/>
          <p:nvPr/>
        </p:nvGraphicFramePr>
        <p:xfrm>
          <a:off x="6156360" y="1722600"/>
          <a:ext cx="2448000" cy="15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722600"/>
                    <a:ext cx="24480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21"/>
          <p:cNvGraphicFramePr/>
          <p:nvPr/>
        </p:nvGraphicFramePr>
        <p:xfrm>
          <a:off x="395280" y="2060640"/>
          <a:ext cx="192420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060640"/>
                    <a:ext cx="19242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004971839765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141200" y="119700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关于速度的一些小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"/>
          <p:cNvPicPr/>
          <p:nvPr/>
        </p:nvPicPr>
        <p:blipFill>
          <a:blip r:embed="rId2"/>
          <a:stretch/>
        </p:blipFill>
        <p:spPr>
          <a:xfrm>
            <a:off x="2627280" y="1125360"/>
            <a:ext cx="4176720" cy="324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393360" y="4797360"/>
            <a:ext cx="28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步行的速度大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004971839765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141200" y="119700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关于速度的一些小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67640" y="501336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飞机飞行的速度大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2286000" y="1428840"/>
            <a:ext cx="4786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4971839765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688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141200" y="119700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关于速度的一些小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"/>
          <p:cNvPicPr/>
          <p:nvPr/>
        </p:nvPicPr>
        <p:blipFill>
          <a:blip r:embed="rId2"/>
          <a:srcRect l="0" t="0" r="0" b="14247"/>
          <a:stretch/>
        </p:blipFill>
        <p:spPr>
          <a:xfrm>
            <a:off x="2484360" y="1052640"/>
            <a:ext cx="4391280" cy="3671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3250080" y="50133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声音传播的速度大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004971839765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141200" y="119700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关于速度的一些小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4"/>
          <p:cNvPicPr/>
          <p:nvPr/>
        </p:nvPicPr>
        <p:blipFill>
          <a:blip r:embed="rId2"/>
          <a:srcRect l="0" t="0" r="0" b="13053"/>
          <a:stretch/>
        </p:blipFill>
        <p:spPr>
          <a:xfrm>
            <a:off x="2556000" y="1052640"/>
            <a:ext cx="4390920" cy="4105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167640" y="530064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光传播的速度大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03:00:39Z</dcterms:created>
  <dc:creator/>
  <dc:description/>
  <cp:keywords/>
  <dc:language>en-US</dc:language>
  <cp:lastModifiedBy>Administrator</cp:lastModifiedBy>
  <dcterms:modified xsi:type="dcterms:W3CDTF">2015-03-01T22:43:01Z</dcterms:modified>
  <cp:revision>274</cp:revision>
  <dc:subject/>
  <dc:title>幻灯片 1</dc:title>
</cp:coreProperties>
</file>