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5DF73-AEE8-44F9-B24F-7B36777268D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67ED7-283E-41A1-9803-19289FF444F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CD2-B298-4C15-AFCA-9418C7C3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6F7-1751-4DF1-930C-3D9A736E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EF4-C856-47E0-BE59-39B220A7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CE1-EC45-4ADF-A3BD-53DD72C0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6D7-77AC-4080-A051-AB36C69E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A7A-230C-430F-8202-07E692F8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F80-F181-4C53-A609-015EF786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B5E-269F-4794-8AAA-3FAAAECD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2E2-FEF8-44D7-8918-A82CAEF2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77A-E708-464E-AC25-E45F4A09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F70-860D-4543-9409-9328F1BA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4D32-A241-4760-ADFB-B1EEFEA3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17977-922B-4F1A-9085-5B2FD3709E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1" descr="C:\Documents and Settings\Administrator\桌面\QQ截图20170611171241.png"/>
          <p:cNvPicPr/>
          <p:nvPr/>
        </p:nvPicPr>
        <p:blipFill>
          <a:blip r:embed="rId1"/>
          <a:stretch/>
        </p:blipFill>
        <p:spPr>
          <a:xfrm>
            <a:off x="1560600" y="2309760"/>
            <a:ext cx="6199200" cy="313380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001960" y="863640"/>
            <a:ext cx="4889520" cy="1181160"/>
            <a:chOff x="2001960" y="863640"/>
            <a:chExt cx="4889520" cy="1181160"/>
          </a:xfrm>
        </p:grpSpPr>
        <p:sp>
          <p:nvSpPr>
            <p:cNvPr id="65" name="Text Box 2"/>
            <p:cNvSpPr/>
            <p:nvPr/>
          </p:nvSpPr>
          <p:spPr>
            <a:xfrm>
              <a:off x="3587760" y="1011240"/>
              <a:ext cx="330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猴王出世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001960" y="863640"/>
              <a:ext cx="1410480" cy="1181160"/>
              <a:chOff x="2001960" y="863640"/>
              <a:chExt cx="1410480" cy="118116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001960" y="863640"/>
                <a:ext cx="1410480" cy="118116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215080" y="916560"/>
                <a:ext cx="11966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0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"/>
          <p:cNvSpPr/>
          <p:nvPr/>
        </p:nvSpPr>
        <p:spPr>
          <a:xfrm>
            <a:off x="955800" y="2089080"/>
            <a:ext cx="72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课文，品读了课文中的重点语句，现在，让我们拿起金钥匙开启智慧之门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"/>
          <p:cNvSpPr/>
          <p:nvPr/>
        </p:nvSpPr>
        <p:spPr>
          <a:xfrm>
            <a:off x="977760" y="3376440"/>
            <a:ext cx="7169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他来历非凡，是一个吸收日月精华的石猴，非一般猴子能比；他能与其他猴子打成一片，具有亲民的特点；他有其他猴子没有的勇气和非凡的本领以及长远的眼光；他还有很强的演讲才能，说话有理有据，令人信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961920" y="278928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石猴有什么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石猴是怎样出世的？出世后过着怎样的生活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"/>
          <p:cNvSpPr/>
          <p:nvPr/>
        </p:nvSpPr>
        <p:spPr>
          <a:xfrm>
            <a:off x="1197000" y="303228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有一块仙石，内育仙胎，一日迸裂，产一石卵，石卵见风，化作一个石猴。石猴出世后，在山中过着自由自在、无拘无束的生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内容占位符 2"/>
          <p:cNvSpPr/>
          <p:nvPr/>
        </p:nvSpPr>
        <p:spPr>
          <a:xfrm>
            <a:off x="625320" y="201600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石猴和众猴是怎样发现水帘洞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1039680" y="2617920"/>
            <a:ext cx="71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石猴与众猴避暑时去山涧中洗澡，看到涧水奔流，滔滔不竭，就想去找寻源流，源流处是一处瀑布，石猴自告奋勇进去寻源头，发现了水帘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众猴是怎样进洞的？又是怎样拜石猴为王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1203480" y="2557440"/>
            <a:ext cx="70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众猴在石猴的带领下跳进了水帘洞，一个个抢盆，夺碗，占灶，争床。石猴提出人要讲信用，应按先前讲的拜他为王，石猴因发现水帘洞的壮举赢得众猴的敬仰、崇拜，最终被拥立为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内容占位符 2"/>
          <p:cNvSpPr/>
          <p:nvPr/>
        </p:nvSpPr>
        <p:spPr>
          <a:xfrm>
            <a:off x="790560" y="2220840"/>
            <a:ext cx="76453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完本文后，石猴给你留下了怎样的印象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1198440" y="2879640"/>
            <a:ext cx="69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石猴给我留下了聪明伶俐、活泼可爱、无私无畏、敢作敢为、身手不凡的印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4169520" y="1913040"/>
            <a:ext cx="1400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猴王出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2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3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左大括号 1"/>
          <p:cNvSpPr/>
          <p:nvPr/>
        </p:nvSpPr>
        <p:spPr>
          <a:xfrm>
            <a:off x="3465360" y="3279600"/>
            <a:ext cx="287640" cy="2009880"/>
          </a:xfrm>
          <a:custGeom>
            <a:avLst/>
            <a:gdLst>
              <a:gd name="textAreaLeft" fmla="*/ 183960 w 287640"/>
              <a:gd name="textAreaRight" fmla="*/ 288000 w 287640"/>
              <a:gd name="textAreaTop" fmla="*/ 7200 h 2009880"/>
              <a:gd name="textAreaBottom" fmla="*/ 2002680 h 20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9"/>
                  <a:pt x="10800" y="257"/>
                </a:cubicBezTo>
                <a:lnTo>
                  <a:pt x="10800" y="10543"/>
                </a:lnTo>
                <a:cubicBezTo>
                  <a:pt x="10800" y="10672"/>
                  <a:pt x="5400" y="10800"/>
                  <a:pt x="0" y="10800"/>
                </a:cubicBezTo>
                <a:cubicBezTo>
                  <a:pt x="5400" y="10800"/>
                  <a:pt x="10800" y="10929"/>
                  <a:pt x="10800" y="11057"/>
                </a:cubicBezTo>
                <a:lnTo>
                  <a:pt x="10800" y="21343"/>
                </a:lnTo>
                <a:cubicBezTo>
                  <a:pt x="10800" y="2147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3843360" y="3130560"/>
            <a:ext cx="415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仙石迸裂   石猴出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群猴玩耍   自由自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顺涧寻源   主动跳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探洞成功   被拜成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8"/>
          <p:cNvSpPr/>
          <p:nvPr/>
        </p:nvSpPr>
        <p:spPr>
          <a:xfrm>
            <a:off x="1046160" y="3592440"/>
            <a:ext cx="2649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勇敢、机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敢作敢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内容占位符 2"/>
          <p:cNvSpPr/>
          <p:nvPr/>
        </p:nvSpPr>
        <p:spPr>
          <a:xfrm>
            <a:off x="934920" y="241128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课文主要写了花果山上的一块仙石孕育了一个石猴，这个石猴与群猴玩耍时，因敢于第一个跳进水帘洞，而被群猴拜为猴王。表现了石猴活泼可爱、机灵勇敢、敢作敢为的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1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2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5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6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内容占位符 2"/>
          <p:cNvSpPr/>
          <p:nvPr/>
        </p:nvSpPr>
        <p:spPr>
          <a:xfrm>
            <a:off x="996840" y="182880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大闹天宫（节选）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话表齐天大圣被众天兵押去斩妖台下，绑在降妖柱上，刀砍斧剁，枪刺剑刳，莫想伤及其身。南斗星奋令火部众神，放火煨烧，亦不能烧着。又着雷部众神，以雷屑钉打，越发不能伤损一毫。那大力鬼王与众启奏道：“万岁，这大圣不知是何处学得这护身之法，臣等用刀砍斧剁，雷打火烧，一毫不能伤损，却如之何？”玉帝闻言道：“这厮这等，如何处治？”太上老君即奏道：“那猴吃了蟠桃，饮了御酒，又盗了仙丹。我那五壶丹，有生有熟，被他都吃在肚里，运用三昧火，锻成一块，所以浑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内容占位符 2"/>
          <p:cNvSpPr/>
          <p:nvPr/>
        </p:nvSpPr>
        <p:spPr>
          <a:xfrm>
            <a:off x="996840" y="140508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钢之躯，急不能伤。不若与老道领去，放在八卦炉中，以文武火锻炼。炼出我的丹来，他身自为灰烬矣。”玉帝闻言，即教六丁、六甲将他解下，付与老君。老君领旨去讫，一壁厢宣二郎显圣，赏赐金花百朵，御酒百瓶，还丹百粒，异宝明珠，锦绣等件，教与义兄弟分享。真君谢恩，回灌江口不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老君到兜率宫，将大圣解去绳索，放了穿琵琶骨之器，推入八卦炉中，命看炉的道人，架火的童子，将火扇起锻炼。原来那炉是乾、坎、艮、震、巽、离、坤、兑八卦。他即将身钻在巽宫位下。巽乃风也，有风则无火，只是风搅得烟来，把一双眼刍红了，弄做个老害病眼，故唤作“火眼金睛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90640" y="2381400"/>
            <a:ext cx="75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阅读过程中，了解石猴高登王位，成为美猴王的经过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会美猴王勇敢机灵、活泼可爱、敢作敢为的特点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内容占位符 2"/>
          <p:cNvSpPr/>
          <p:nvPr/>
        </p:nvSpPr>
        <p:spPr>
          <a:xfrm>
            <a:off x="996840" y="1609560"/>
            <a:ext cx="739620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真个光阴迅速，不觉七七四十九日，老君的火候俱全。忽一日，开炉取丹。那大圣双手侮着眼，正自揉搓流涕，只听得炉头声响，猛睁睛看见光明，他就忍不住将身一纵，跳出丹炉，唿喇一声，蹬倒八卦炉，往外就走。慌得那架火看炉与丁甲一班人来扯，被他一个个都放倒，好似癫痫的白额虎，风狂的独角龙。老君赶上抓一把，被他搥了个倒栽葱，脱身走了。即去耳中掣出如意棒，迎风幌一幌，碗来粗细，依然拿在手中，不分好歹，却又大乱天宫，打得那九曜星闭门闭户，四天王无影无形。好猴精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1" descr="C:\Documents and Settings\Administrator\桌面\QQ截图20170611185758.png"/>
          <p:cNvPicPr/>
          <p:nvPr/>
        </p:nvPicPr>
        <p:blipFill>
          <a:blip r:embed="rId1"/>
          <a:stretch/>
        </p:blipFill>
        <p:spPr>
          <a:xfrm>
            <a:off x="1066680" y="2322360"/>
            <a:ext cx="7150320" cy="2988000"/>
          </a:xfrm>
          <a:prstGeom prst="rect">
            <a:avLst/>
          </a:prstGeom>
          <a:ln w="0">
            <a:noFill/>
          </a:ln>
        </p:spPr>
      </p:pic>
      <p:sp>
        <p:nvSpPr>
          <p:cNvPr id="133" name="矩形 1"/>
          <p:cNvSpPr/>
          <p:nvPr/>
        </p:nvSpPr>
        <p:spPr>
          <a:xfrm>
            <a:off x="1255680" y="3111480"/>
            <a:ext cx="6789600" cy="6426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　我愿平东海，身沉心不改；大海无平期，我心无绝时。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楷体"/>
              </a:rPr>
              <a:t>精卫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楷体"/>
              </a:rPr>
              <a:t>顾炎武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5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39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矩形 1"/>
          <p:cNvSpPr/>
          <p:nvPr/>
        </p:nvSpPr>
        <p:spPr>
          <a:xfrm>
            <a:off x="1792800" y="191916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关于孙悟空的歇后语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2"/>
          <p:cNvSpPr/>
          <p:nvPr/>
        </p:nvSpPr>
        <p:spPr>
          <a:xfrm>
            <a:off x="1254240" y="2305080"/>
            <a:ext cx="705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白骨精遇上孙悟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原形毕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二郎神斗孙悟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你变我也变。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如来佛治孙悟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强中还有强中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孙悟空拔猴毛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变化多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孙悟空变魔术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花样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孙悟空变山神庙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露了尾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孙悟空到南天门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慌了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45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矩形 1"/>
          <p:cNvSpPr/>
          <p:nvPr/>
        </p:nvSpPr>
        <p:spPr>
          <a:xfrm>
            <a:off x="1578960" y="23432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孙悟空的其他称呼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1103400" y="2878200"/>
            <a:ext cx="70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美猴王、孙行者、弼马温、齐天大圣、孙长老、斗战胜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3485160" y="2217600"/>
            <a:ext cx="27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西游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关于孙悟空的故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1265400" y="2820960"/>
            <a:ext cx="705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战二郎神 祈雨凤仙郡 偷吃人参果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打白骨精 巧斗黄袍怪 勇擒红孩儿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勇斗青牛精 真假孙悟空 三借芭蕉扇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盗紫金铃 狮驼伏三魔 伏妖救群婴 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挟捉犀牛精 悟空擒玉兔 弄法救死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组合 6"/>
          <p:cNvGrpSpPr/>
          <p:nvPr/>
        </p:nvGrpSpPr>
        <p:grpSpPr>
          <a:xfrm>
            <a:off x="558720" y="1190520"/>
            <a:ext cx="2811600" cy="666720"/>
            <a:chOff x="558720" y="1190520"/>
            <a:chExt cx="2811600" cy="666720"/>
          </a:xfrm>
        </p:grpSpPr>
        <p:sp>
          <p:nvSpPr>
            <p:cNvPr id="153" name="圆角矩形 7"/>
            <p:cNvSpPr/>
            <p:nvPr/>
          </p:nvSpPr>
          <p:spPr>
            <a:xfrm>
              <a:off x="1347840" y="1328400"/>
              <a:ext cx="1913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文本框 16"/>
            <p:cNvSpPr/>
            <p:nvPr/>
          </p:nvSpPr>
          <p:spPr>
            <a:xfrm>
              <a:off x="1715400" y="1347480"/>
              <a:ext cx="16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拓展积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684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57" name="矩形 11"/>
          <p:cNvSpPr/>
          <p:nvPr/>
        </p:nvSpPr>
        <p:spPr>
          <a:xfrm>
            <a:off x="1017720" y="237816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通过学习这篇课文，我们了解了花果山上的一块仙石孕育了一个石猴，这个石猴与群猴玩耍时，因敢于第一个跳进水帘洞，而被群猴拜为猴王。表现了石猴活泼可爱、机灵勇敢、敢作敢为的特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13"/>
          <p:cNvGrpSpPr/>
          <p:nvPr/>
        </p:nvGrpSpPr>
        <p:grpSpPr>
          <a:xfrm>
            <a:off x="609480" y="1641600"/>
            <a:ext cx="7770960" cy="1437120"/>
            <a:chOff x="609480" y="1641600"/>
            <a:chExt cx="7770960" cy="1437120"/>
          </a:xfrm>
        </p:grpSpPr>
        <p:grpSp>
          <p:nvGrpSpPr>
            <p:cNvPr id="159" name="组合 6"/>
            <p:cNvGrpSpPr/>
            <p:nvPr/>
          </p:nvGrpSpPr>
          <p:grpSpPr>
            <a:xfrm>
              <a:off x="621360" y="1758600"/>
              <a:ext cx="7759080" cy="1320120"/>
              <a:chOff x="621360" y="1758600"/>
              <a:chExt cx="7759080" cy="1320120"/>
            </a:xfrm>
          </p:grpSpPr>
          <p:sp>
            <p:nvSpPr>
              <p:cNvPr id="160" name="圆角矩形 7"/>
              <p:cNvSpPr/>
              <p:nvPr/>
            </p:nvSpPr>
            <p:spPr>
              <a:xfrm>
                <a:off x="621360" y="2468520"/>
                <a:ext cx="7759080" cy="6102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 marL="450720" indent="-45072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.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石猴是怎样高登王位，成为“美猴王”的？你是从文中的哪些内容中读到的？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任意多边形 10"/>
              <p:cNvSpPr/>
              <p:nvPr/>
            </p:nvSpPr>
            <p:spPr>
              <a:xfrm>
                <a:off x="981000" y="1758600"/>
                <a:ext cx="2261880" cy="5036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62" name="Picture 2" descr=""/>
            <p:cNvPicPr/>
            <p:nvPr/>
          </p:nvPicPr>
          <p:blipFill>
            <a:blip r:embed="rId1"/>
            <a:stretch/>
          </p:blipFill>
          <p:spPr>
            <a:xfrm>
              <a:off x="609480" y="1641600"/>
              <a:ext cx="803160" cy="73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8"/>
          <p:cNvSpPr/>
          <p:nvPr/>
        </p:nvSpPr>
        <p:spPr>
          <a:xfrm>
            <a:off x="1077840" y="3164040"/>
            <a:ext cx="75074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石猴与群猴玩耍时，因敢于第一个跳进水帘洞，而被群猴拜为猴王。课文的第 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4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自然段写了石猴是如何成为“美猴王”的，如：“哪一个有本事的钻进去寻个源头，出来不伤身体者，我等即拜他为王。”“他瞑目蹲身，将身一纵，径跳入瀑布泉中，忽睁眼抬头观看，那里边却无水无波，明明朗朗的一座铁板桥。”“列位啊，‘人而无信，不知其可’。你们才说有本事进得来，出得去，不伤身体者就拜他为王。我如今寻了这一个洞天，与列位安眠稳睡，各享成家之福，何不拜我为王？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7"/>
          <p:cNvSpPr/>
          <p:nvPr/>
        </p:nvSpPr>
        <p:spPr>
          <a:xfrm>
            <a:off x="568440" y="1599480"/>
            <a:ext cx="78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0720" indent="-450720">
              <a:lnSpc>
                <a:spcPct val="15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默读课文，你从文中哪些地方体会到了美猴王的“猴”的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1023840" y="2562120"/>
            <a:ext cx="741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文中的字词都是紧紧围绕“猴”的特点来写，但又超脱于猴，凝聚了人的情意，神的无所不能，如“食草木，饮涧泉，采山花，觅树果”“与猿鹤为伴，麋鹿为群”“夜宿石崖之下，朝游峰洞之中”“瞑目蹲身，将身一纵” “打了两个呵呵道：‘大造化！大造化！’” “没水，没水”等等，形象地再现了与猴相似的生活习性以及顽皮好动、动作敏捷的特性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2"/>
          <p:cNvGrpSpPr/>
          <p:nvPr/>
        </p:nvGrpSpPr>
        <p:grpSpPr>
          <a:xfrm>
            <a:off x="814320" y="1122480"/>
            <a:ext cx="7661520" cy="2077920"/>
            <a:chOff x="814320" y="1122480"/>
            <a:chExt cx="7661520" cy="2077920"/>
          </a:xfrm>
        </p:grpSpPr>
        <p:grpSp>
          <p:nvGrpSpPr>
            <p:cNvPr id="168" name="组合 6"/>
            <p:cNvGrpSpPr/>
            <p:nvPr/>
          </p:nvGrpSpPr>
          <p:grpSpPr>
            <a:xfrm>
              <a:off x="814320" y="1213560"/>
              <a:ext cx="7661520" cy="1986840"/>
              <a:chOff x="814320" y="1213560"/>
              <a:chExt cx="7661520" cy="1986840"/>
            </a:xfrm>
          </p:grpSpPr>
          <p:sp>
            <p:nvSpPr>
              <p:cNvPr id="169" name="矩形 7"/>
              <p:cNvSpPr/>
              <p:nvPr/>
            </p:nvSpPr>
            <p:spPr>
              <a:xfrm>
                <a:off x="814320" y="2009160"/>
                <a:ext cx="7661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从“猴王出世”的石猴到“大闹天宫”的齐天大圣，美猴王有什么不同？读一读原著，说说他的本领是怎样形成的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任意多边形 9"/>
              <p:cNvSpPr/>
              <p:nvPr/>
            </p:nvSpPr>
            <p:spPr>
              <a:xfrm>
                <a:off x="1069920" y="1213560"/>
                <a:ext cx="2544840" cy="50544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拓展与运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71" name="Picture 7" descr=""/>
            <p:cNvPicPr/>
            <p:nvPr/>
          </p:nvPicPr>
          <p:blipFill>
            <a:blip r:embed="rId1"/>
            <a:stretch/>
          </p:blipFill>
          <p:spPr>
            <a:xfrm>
              <a:off x="877680" y="1122480"/>
              <a:ext cx="749520" cy="65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TextBox 2"/>
          <p:cNvSpPr/>
          <p:nvPr/>
        </p:nvSpPr>
        <p:spPr>
          <a:xfrm>
            <a:off x="903240" y="3402000"/>
            <a:ext cx="755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“猴王出世”的石猴聪明机敏，表现的更多的是“猴”的特点。“大闹天宫”的齐天大圣是一个蔑视传统、反抗天庭的英雄形象。孙悟空为拜师学艺，漂洋过海，先来到南赡部洲，除了抢到一套人的衣服外，一无所获。后来，又过海来到西牛贺洲，在灵台方寸山斜月三星洞拜菩提祖师为师，得到姓名孙悟空，并学到了长生之道、七十二般变化和筋斗云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6"/>
          <p:cNvGrpSpPr/>
          <p:nvPr/>
        </p:nvGrpSpPr>
        <p:grpSpPr>
          <a:xfrm>
            <a:off x="719280" y="1225440"/>
            <a:ext cx="7661160" cy="1339560"/>
            <a:chOff x="719280" y="1225440"/>
            <a:chExt cx="7661160" cy="1339560"/>
          </a:xfrm>
        </p:grpSpPr>
        <p:grpSp>
          <p:nvGrpSpPr>
            <p:cNvPr id="174" name="组合 2"/>
            <p:cNvGrpSpPr/>
            <p:nvPr/>
          </p:nvGrpSpPr>
          <p:grpSpPr>
            <a:xfrm>
              <a:off x="719280" y="1357200"/>
              <a:ext cx="7661160" cy="1207800"/>
              <a:chOff x="719280" y="1357200"/>
              <a:chExt cx="7661160" cy="1207800"/>
            </a:xfrm>
          </p:grpSpPr>
          <p:sp>
            <p:nvSpPr>
              <p:cNvPr id="175" name="圆角矩形 4"/>
              <p:cNvSpPr/>
              <p:nvPr/>
            </p:nvSpPr>
            <p:spPr>
              <a:xfrm>
                <a:off x="719280" y="1853280"/>
                <a:ext cx="7661160" cy="7117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.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读一读，联系上下文理解加点的词语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任意多边形 5"/>
              <p:cNvSpPr/>
              <p:nvPr/>
            </p:nvSpPr>
            <p:spPr>
              <a:xfrm>
                <a:off x="1119240" y="1357200"/>
                <a:ext cx="1436400" cy="5047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积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椭圆 7"/>
            <p:cNvGrpSpPr/>
            <p:nvPr/>
          </p:nvGrpSpPr>
          <p:grpSpPr>
            <a:xfrm>
              <a:off x="792360" y="1225440"/>
              <a:ext cx="755640" cy="712800"/>
              <a:chOff x="792360" y="1225440"/>
              <a:chExt cx="755640" cy="712800"/>
            </a:xfrm>
          </p:grpSpPr>
          <p:pic>
            <p:nvPicPr>
              <p:cNvPr id="178" name="椭圆 7" descr=""/>
              <p:cNvPicPr/>
              <p:nvPr/>
            </p:nvPicPr>
            <p:blipFill>
              <a:blip r:embed="rId1"/>
              <a:stretch/>
            </p:blipFill>
            <p:spPr>
              <a:xfrm>
                <a:off x="792360" y="1225440"/>
                <a:ext cx="755640" cy="71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912600" y="1338840"/>
                <a:ext cx="518400" cy="48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0" name="TextBox 9"/>
          <p:cNvSpPr/>
          <p:nvPr/>
        </p:nvSpPr>
        <p:spPr>
          <a:xfrm>
            <a:off x="1415880" y="2540160"/>
            <a:ext cx="69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喜不自胜：高兴得控制不住自己。滔滔不竭：滔滔，水势盛大。竭，干涸。形容滚滚不断的大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圆角矩形 12"/>
          <p:cNvSpPr/>
          <p:nvPr/>
        </p:nvSpPr>
        <p:spPr>
          <a:xfrm>
            <a:off x="996840" y="4240080"/>
            <a:ext cx="738504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50000"/>
              </a:lnSpc>
              <a:spcAft>
                <a:spcPts val="451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一读，记一记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（略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7167"/>
          <p:cNvSpPr/>
          <p:nvPr/>
        </p:nvSpPr>
        <p:spPr>
          <a:xfrm>
            <a:off x="933480" y="2006640"/>
            <a:ext cx="754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——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下列加点字选择正确的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石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ē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镌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uā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ù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瞑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í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í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溪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ā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à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迸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ì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è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应俱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7168"/>
          <p:cNvSpPr/>
          <p:nvPr/>
        </p:nvSpPr>
        <p:spPr>
          <a:xfrm>
            <a:off x="1930320" y="2840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2969280" y="274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7168"/>
          <p:cNvSpPr/>
          <p:nvPr/>
        </p:nvSpPr>
        <p:spPr>
          <a:xfrm>
            <a:off x="5494320" y="3386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7168"/>
          <p:cNvSpPr/>
          <p:nvPr/>
        </p:nvSpPr>
        <p:spPr>
          <a:xfrm>
            <a:off x="1630080" y="3398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7168"/>
          <p:cNvSpPr/>
          <p:nvPr/>
        </p:nvSpPr>
        <p:spPr>
          <a:xfrm>
            <a:off x="1635120" y="393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7168"/>
          <p:cNvSpPr/>
          <p:nvPr/>
        </p:nvSpPr>
        <p:spPr>
          <a:xfrm>
            <a:off x="5097240" y="2840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0" name="矩形 7168"/>
          <p:cNvSpPr/>
          <p:nvPr/>
        </p:nvSpPr>
        <p:spPr>
          <a:xfrm>
            <a:off x="5715000" y="39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6"/>
          <p:cNvSpPr/>
          <p:nvPr/>
        </p:nvSpPr>
        <p:spPr>
          <a:xfrm>
            <a:off x="5960880" y="2705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3286080" y="3279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6"/>
          <p:cNvSpPr/>
          <p:nvPr/>
        </p:nvSpPr>
        <p:spPr>
          <a:xfrm>
            <a:off x="6775200" y="3279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6"/>
          <p:cNvSpPr/>
          <p:nvPr/>
        </p:nvSpPr>
        <p:spPr>
          <a:xfrm>
            <a:off x="3367080" y="38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6455520" y="3841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3"/>
          <p:cNvSpPr/>
          <p:nvPr/>
        </p:nvSpPr>
        <p:spPr>
          <a:xfrm>
            <a:off x="1851120" y="1708200"/>
            <a:ext cx="664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比一比，再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惧（        ）        逐（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俱（        ）        遂（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滔（        ）        弊（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稻（        ）        蔽（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1"/>
          <p:cNvSpPr/>
          <p:nvPr/>
        </p:nvSpPr>
        <p:spPr>
          <a:xfrm>
            <a:off x="2874600" y="22334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惧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左大括号 2"/>
          <p:cNvSpPr/>
          <p:nvPr/>
        </p:nvSpPr>
        <p:spPr>
          <a:xfrm>
            <a:off x="1650960" y="2552760"/>
            <a:ext cx="204840" cy="571320"/>
          </a:xfrm>
          <a:custGeom>
            <a:avLst/>
            <a:gdLst>
              <a:gd name="textAreaLeft" fmla="*/ 131040 w 204840"/>
              <a:gd name="textAreaRight" fmla="*/ 205200 w 204840"/>
              <a:gd name="textAreaTop" fmla="*/ 5040 h 571320"/>
              <a:gd name="textAreaBottom" fmla="*/ 56628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5"/>
                </a:cubicBezTo>
                <a:lnTo>
                  <a:pt x="10800" y="10155"/>
                </a:lnTo>
                <a:cubicBezTo>
                  <a:pt x="10800" y="10478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5"/>
                </a:cubicBezTo>
                <a:lnTo>
                  <a:pt x="10800" y="20955"/>
                </a:lnTo>
                <a:cubicBezTo>
                  <a:pt x="10800" y="2127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左大括号 10"/>
          <p:cNvSpPr/>
          <p:nvPr/>
        </p:nvSpPr>
        <p:spPr>
          <a:xfrm>
            <a:off x="5065560" y="2593800"/>
            <a:ext cx="204840" cy="571680"/>
          </a:xfrm>
          <a:custGeom>
            <a:avLst/>
            <a:gdLst>
              <a:gd name="textAreaLeft" fmla="*/ 131040 w 204840"/>
              <a:gd name="textAreaRight" fmla="*/ 205200 w 204840"/>
              <a:gd name="textAreaTop" fmla="*/ 5040 h 571680"/>
              <a:gd name="textAreaBottom" fmla="*/ 56664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5"/>
                </a:cubicBezTo>
                <a:lnTo>
                  <a:pt x="10800" y="10155"/>
                </a:lnTo>
                <a:cubicBezTo>
                  <a:pt x="10800" y="10478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5"/>
                </a:cubicBezTo>
                <a:lnTo>
                  <a:pt x="10800" y="20955"/>
                </a:lnTo>
                <a:cubicBezTo>
                  <a:pt x="10800" y="2127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左大括号 11"/>
          <p:cNvSpPr/>
          <p:nvPr/>
        </p:nvSpPr>
        <p:spPr>
          <a:xfrm>
            <a:off x="5065560" y="3673440"/>
            <a:ext cx="204840" cy="571680"/>
          </a:xfrm>
          <a:custGeom>
            <a:avLst/>
            <a:gdLst>
              <a:gd name="textAreaLeft" fmla="*/ 131040 w 204840"/>
              <a:gd name="textAreaRight" fmla="*/ 205200 w 204840"/>
              <a:gd name="textAreaTop" fmla="*/ 5040 h 571680"/>
              <a:gd name="textAreaBottom" fmla="*/ 56664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5"/>
                </a:cubicBezTo>
                <a:lnTo>
                  <a:pt x="10800" y="10155"/>
                </a:lnTo>
                <a:cubicBezTo>
                  <a:pt x="10800" y="10478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5"/>
                </a:cubicBezTo>
                <a:lnTo>
                  <a:pt x="10800" y="20955"/>
                </a:lnTo>
                <a:cubicBezTo>
                  <a:pt x="10800" y="2127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左大括号 12"/>
          <p:cNvSpPr/>
          <p:nvPr/>
        </p:nvSpPr>
        <p:spPr>
          <a:xfrm>
            <a:off x="1646280" y="3673440"/>
            <a:ext cx="204840" cy="571680"/>
          </a:xfrm>
          <a:custGeom>
            <a:avLst/>
            <a:gdLst>
              <a:gd name="textAreaLeft" fmla="*/ 131040 w 204840"/>
              <a:gd name="textAreaRight" fmla="*/ 205200 w 204840"/>
              <a:gd name="textAreaTop" fmla="*/ 5040 h 571680"/>
              <a:gd name="textAreaBottom" fmla="*/ 56664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3"/>
                  <a:pt x="10800" y="645"/>
                </a:cubicBezTo>
                <a:lnTo>
                  <a:pt x="10800" y="10155"/>
                </a:lnTo>
                <a:cubicBezTo>
                  <a:pt x="10800" y="10478"/>
                  <a:pt x="5400" y="10800"/>
                  <a:pt x="0" y="10800"/>
                </a:cubicBezTo>
                <a:cubicBezTo>
                  <a:pt x="5400" y="10800"/>
                  <a:pt x="10800" y="11123"/>
                  <a:pt x="10800" y="11445"/>
                </a:cubicBezTo>
                <a:lnTo>
                  <a:pt x="10800" y="20955"/>
                </a:lnTo>
                <a:cubicBezTo>
                  <a:pt x="10800" y="2127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3"/>
          <p:cNvSpPr/>
          <p:nvPr/>
        </p:nvSpPr>
        <p:spPr>
          <a:xfrm>
            <a:off x="2873160" y="27860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俱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5"/>
          <p:cNvSpPr/>
          <p:nvPr/>
        </p:nvSpPr>
        <p:spPr>
          <a:xfrm>
            <a:off x="6248160" y="22287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追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16"/>
          <p:cNvSpPr/>
          <p:nvPr/>
        </p:nvSpPr>
        <p:spPr>
          <a:xfrm>
            <a:off x="6248160" y="28051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遂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17"/>
          <p:cNvSpPr/>
          <p:nvPr/>
        </p:nvSpPr>
        <p:spPr>
          <a:xfrm>
            <a:off x="2660040" y="332748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滔滔不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8"/>
          <p:cNvSpPr/>
          <p:nvPr/>
        </p:nvSpPr>
        <p:spPr>
          <a:xfrm>
            <a:off x="2876400" y="38847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稻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19"/>
          <p:cNvSpPr/>
          <p:nvPr/>
        </p:nvSpPr>
        <p:spPr>
          <a:xfrm>
            <a:off x="6248160" y="33415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作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20"/>
          <p:cNvSpPr/>
          <p:nvPr/>
        </p:nvSpPr>
        <p:spPr>
          <a:xfrm>
            <a:off x="6238440" y="39038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遮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3"/>
          <p:cNvSpPr/>
          <p:nvPr/>
        </p:nvSpPr>
        <p:spPr>
          <a:xfrm>
            <a:off x="1452600" y="1192320"/>
            <a:ext cx="7296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填充词语，并按要求做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先填字，再解释所填的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神疲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喜不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 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先填字，再仿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)( 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5"/>
          <p:cNvSpPr/>
          <p:nvPr/>
        </p:nvSpPr>
        <p:spPr>
          <a:xfrm>
            <a:off x="2311200" y="22924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8"/>
          <p:cNvSpPr/>
          <p:nvPr/>
        </p:nvSpPr>
        <p:spPr>
          <a:xfrm>
            <a:off x="3877920" y="22669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疲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6"/>
          <p:cNvSpPr/>
          <p:nvPr/>
        </p:nvSpPr>
        <p:spPr>
          <a:xfrm>
            <a:off x="2928960" y="28306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7"/>
          <p:cNvSpPr/>
          <p:nvPr/>
        </p:nvSpPr>
        <p:spPr>
          <a:xfrm>
            <a:off x="3897720" y="2824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能承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9"/>
          <p:cNvSpPr/>
          <p:nvPr/>
        </p:nvSpPr>
        <p:spPr>
          <a:xfrm>
            <a:off x="3405600" y="39211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"/>
          <p:cNvSpPr/>
          <p:nvPr/>
        </p:nvSpPr>
        <p:spPr>
          <a:xfrm>
            <a:off x="2124720" y="39067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1"/>
          <p:cNvSpPr/>
          <p:nvPr/>
        </p:nvSpPr>
        <p:spPr>
          <a:xfrm>
            <a:off x="2031480" y="441468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井井有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2"/>
          <p:cNvSpPr/>
          <p:nvPr/>
        </p:nvSpPr>
        <p:spPr>
          <a:xfrm>
            <a:off x="2461320" y="501984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3"/>
          <p:cNvSpPr/>
          <p:nvPr/>
        </p:nvSpPr>
        <p:spPr>
          <a:xfrm>
            <a:off x="3983760" y="50529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4"/>
          <p:cNvSpPr/>
          <p:nvPr/>
        </p:nvSpPr>
        <p:spPr>
          <a:xfrm>
            <a:off x="2053800" y="5556240"/>
            <a:ext cx="91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无法无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3"/>
          <p:cNvSpPr/>
          <p:nvPr/>
        </p:nvSpPr>
        <p:spPr>
          <a:xfrm>
            <a:off x="1220760" y="1765440"/>
            <a:ext cx="6667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给下列句中带点词换上意思相近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大造化！大造化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正是猴性顽劣，再无一个宁时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桥那边是一座天造地设的家当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众猴拍手称扬道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好水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5"/>
          <p:cNvSpPr/>
          <p:nvPr/>
        </p:nvSpPr>
        <p:spPr>
          <a:xfrm>
            <a:off x="4817880" y="23194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福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6"/>
          <p:cNvSpPr/>
          <p:nvPr/>
        </p:nvSpPr>
        <p:spPr>
          <a:xfrm>
            <a:off x="6675120" y="28623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顽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7"/>
          <p:cNvSpPr/>
          <p:nvPr/>
        </p:nvSpPr>
        <p:spPr>
          <a:xfrm>
            <a:off x="6703560" y="34304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家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362280" y="39862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称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7168"/>
          <p:cNvSpPr/>
          <p:nvPr/>
        </p:nvSpPr>
        <p:spPr>
          <a:xfrm>
            <a:off x="3082680" y="4260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7168"/>
          <p:cNvSpPr/>
          <p:nvPr/>
        </p:nvSpPr>
        <p:spPr>
          <a:xfrm>
            <a:off x="5205240" y="370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7168"/>
          <p:cNvSpPr/>
          <p:nvPr/>
        </p:nvSpPr>
        <p:spPr>
          <a:xfrm>
            <a:off x="3060360" y="3173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7168"/>
          <p:cNvSpPr/>
          <p:nvPr/>
        </p:nvSpPr>
        <p:spPr>
          <a:xfrm>
            <a:off x="3371400" y="2597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3"/>
          <p:cNvSpPr/>
          <p:nvPr/>
        </p:nvSpPr>
        <p:spPr>
          <a:xfrm>
            <a:off x="920880" y="1833480"/>
            <a:ext cx="7404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根据意思写出对应的文言语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在山里分不清年月日，寒冷的日子到头了，也不知道又过了一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人如果不讲信用，真不知道怎么能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6"/>
          <p:cNvSpPr/>
          <p:nvPr/>
        </p:nvSpPr>
        <p:spPr>
          <a:xfrm>
            <a:off x="3296520" y="347832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山中无甲子，寒尽不知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8"/>
          <p:cNvSpPr/>
          <p:nvPr/>
        </p:nvSpPr>
        <p:spPr>
          <a:xfrm>
            <a:off x="2999520" y="453708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人而无信，不知其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8"/>
          <p:cNvGrpSpPr/>
          <p:nvPr/>
        </p:nvGrpSpPr>
        <p:grpSpPr>
          <a:xfrm>
            <a:off x="600120" y="1333440"/>
            <a:ext cx="8080200" cy="5189760"/>
            <a:chOff x="600120" y="1333440"/>
            <a:chExt cx="8080200" cy="5189760"/>
          </a:xfrm>
        </p:grpSpPr>
        <p:sp>
          <p:nvSpPr>
            <p:cNvPr id="75" name="圆角矩形 4"/>
            <p:cNvSpPr/>
            <p:nvPr/>
          </p:nvSpPr>
          <p:spPr>
            <a:xfrm>
              <a:off x="600120" y="387648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石猴是怎样出世的？出世后过着怎样的生活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5"/>
            <p:cNvSpPr/>
            <p:nvPr/>
          </p:nvSpPr>
          <p:spPr>
            <a:xfrm>
              <a:off x="5224320" y="3889440"/>
              <a:ext cx="34560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石猴和众猴是怎样发现水帘洞的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6"/>
            <p:cNvSpPr/>
            <p:nvPr/>
          </p:nvSpPr>
          <p:spPr>
            <a:xfrm>
              <a:off x="5211720" y="5239080"/>
              <a:ext cx="3468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读完本文后，石猴给你留下了怎样的印象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圆角矩形 7"/>
            <p:cNvSpPr/>
            <p:nvPr/>
          </p:nvSpPr>
          <p:spPr>
            <a:xfrm>
              <a:off x="654480" y="5214600"/>
              <a:ext cx="303012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众猴是怎样进洞的？又是怎样拜石猴为王的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" name="组合 3"/>
            <p:cNvGrpSpPr/>
            <p:nvPr/>
          </p:nvGrpSpPr>
          <p:grpSpPr>
            <a:xfrm>
              <a:off x="2188080" y="1333440"/>
              <a:ext cx="4767480" cy="5189760"/>
              <a:chOff x="2188080" y="1333440"/>
              <a:chExt cx="4767480" cy="5189760"/>
            </a:xfrm>
          </p:grpSpPr>
          <p:pic>
            <p:nvPicPr>
              <p:cNvPr id="8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333440"/>
                <a:ext cx="4767480" cy="518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矩形 1"/>
              <p:cNvSpPr/>
              <p:nvPr/>
            </p:nvSpPr>
            <p:spPr>
              <a:xfrm>
                <a:off x="2475360" y="2327040"/>
                <a:ext cx="393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石猴有什么特点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矩形 2"/>
              <p:cNvSpPr/>
              <p:nvPr/>
            </p:nvSpPr>
            <p:spPr>
              <a:xfrm>
                <a:off x="4910400" y="1618560"/>
                <a:ext cx="29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勇敢、机灵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2"/>
          <p:cNvSpPr/>
          <p:nvPr/>
        </p:nvSpPr>
        <p:spPr>
          <a:xfrm>
            <a:off x="735120" y="1268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猴在山中却会行走跳跃，食草木，饮涧泉，采山花，觅树果；与猿鹤为伴，麋鹿为群；夜宿石崖之下，朝游峰洞之中：真是“山中无甲子，寒尽不知年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871560" y="2979720"/>
            <a:ext cx="77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运用了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排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修辞手法。它简洁明了地描写了猴子们的野性与顽皮、勇敢，写出了猴子们自由自在的生活，为下文写石猴独闯水帘洞埋下了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伏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。引用的诗句从侧面说明石猴在山中过的是自由自在、无拘无束的生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21"/>
          <p:cNvSpPr/>
          <p:nvPr/>
        </p:nvSpPr>
        <p:spPr>
          <a:xfrm>
            <a:off x="831960" y="1017720"/>
            <a:ext cx="7569000" cy="913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品析排比的修辞手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23"/>
          <p:cNvSpPr/>
          <p:nvPr/>
        </p:nvSpPr>
        <p:spPr>
          <a:xfrm>
            <a:off x="903240" y="1709640"/>
            <a:ext cx="734688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什么是排比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排比是把三个或三个以上意义相关或相近、结构相同或相似、语气相同的词语或句子排列在一起的修辞手法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有什么效果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能使行文有节奏感，朗朗上口，有极强的说服力，增强文章的表达效果和气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70c0"/>
                </a:solidFill>
                <a:latin typeface="黑体"/>
                <a:ea typeface="黑体"/>
              </a:rPr>
              <a:t>答题模式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句话运用了排比的修辞手法，强调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内容，增强了语言的气势（说服力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线连接符 7"/>
          <p:cNvSpPr/>
          <p:nvPr/>
        </p:nvSpPr>
        <p:spPr>
          <a:xfrm>
            <a:off x="914400" y="175104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"/>
          <p:cNvSpPr/>
          <p:nvPr/>
        </p:nvSpPr>
        <p:spPr>
          <a:xfrm>
            <a:off x="735120" y="19382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众猴都道：“这股水不知是哪里来的水。我们今日趁闲顺涧边往上溜头寻看源流，</a:t>
            </a:r>
            <a:r>
              <a:rPr b="1" lang="zh-CN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耍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耶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885960" y="322740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里的“耍子”是玩的意思。此处语言描写形象地表现了猴子们好奇、贪玩的性格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844560" y="120636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喊一声，众猴一齐跑来。顺涧爬山，直至源流之处。乃是一股瀑布飞泉。众猴拍手称扬道：“好水！好水！哪一个有本事的钻进去寻个源头，出来不伤身体者，我等即拜他为王。”连呼了三声，忽见丛杂中跳出一个石猴，高叫道：“我进去！我进去！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873000" y="3986280"/>
            <a:ext cx="78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众猴的表现和石猴的表现形成对比。众猴都很好奇洞内情形，但没有一猴敢于上前一探究竟，这时候石猴自告奋勇，体现了石猴的勇敢无畏和冒险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2"/>
          <p:cNvSpPr/>
          <p:nvPr/>
        </p:nvSpPr>
        <p:spPr>
          <a:xfrm>
            <a:off x="735120" y="16779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猴！你看他</a:t>
            </a:r>
            <a:r>
              <a:rPr b="1" lang="zh-CN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瞑目蹲身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身一</a:t>
            </a:r>
            <a:r>
              <a:rPr b="1" lang="zh-CN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径</a:t>
            </a:r>
            <a:r>
              <a:rPr b="1" lang="zh-CN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入瀑布泉中。忽</a:t>
            </a:r>
            <a:r>
              <a:rPr b="1" lang="zh-CN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抬头观看，那里边却无水无波，明明朗朗的一座铁板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组合 6"/>
          <p:cNvGrpSpPr/>
          <p:nvPr/>
        </p:nvGrpSpPr>
        <p:grpSpPr>
          <a:xfrm>
            <a:off x="873000" y="3548160"/>
            <a:ext cx="7683480" cy="933480"/>
            <a:chOff x="873000" y="3548160"/>
            <a:chExt cx="7683480" cy="933480"/>
          </a:xfrm>
        </p:grpSpPr>
        <p:sp>
          <p:nvSpPr>
            <p:cNvPr id="94" name="直接连接符 7"/>
            <p:cNvSpPr/>
            <p:nvPr/>
          </p:nvSpPr>
          <p:spPr>
            <a:xfrm>
              <a:off x="873000" y="44816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任意多边形 8"/>
            <p:cNvSpPr/>
            <p:nvPr/>
          </p:nvSpPr>
          <p:spPr>
            <a:xfrm>
              <a:off x="873000" y="3548160"/>
              <a:ext cx="7683480" cy="933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找出这两句话中的动词，这些动词表现了石猴的什么特点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矩形 4"/>
          <p:cNvSpPr/>
          <p:nvPr/>
        </p:nvSpPr>
        <p:spPr>
          <a:xfrm>
            <a:off x="892080" y="4451400"/>
            <a:ext cx="76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瞑目蹲身、纵、跳、睁眼抬头观看”等动词，将石猴勇敢、机灵、敏捷的特点表现得淋漓尽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4:22:31Z</dcterms:modified>
  <cp:revision>5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