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A943E-8A91-486D-9846-51E5CE59F6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CBA8D-9B51-4B23-91FF-C4535D41445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A817B-7A72-4433-9CF1-185DBB89AA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C6CC1-D3A5-4C31-864A-B382772978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DD63E-F915-4E99-9049-EE34B9ADD5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70C50-1119-459D-A118-C08FC98338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9D517-6635-47A3-A160-496070F065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7F6CB-3F0F-47D0-B6D2-4C5159AF5C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33A72-DAE8-4641-9876-44B77663E0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9667D-E8C4-4F91-B2D3-CC302E04DF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FD2D0-C58C-437A-AB8B-6E1C59D9E7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A0863-1E49-4168-A9F1-51BB6BDA0A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8F402-6907-49DC-A7F7-9D2C010BC0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C95-B290-4ADE-BE39-4D755311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5DE-07B0-4A9C-AB63-29E3A2B9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3BB-0A78-4397-A3B4-C0317AD1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CC6-5AD1-45C9-BCDD-6CD764BE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D3E-0727-4B54-A44F-368D1E49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F8B-CE4C-446B-B083-DC925961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840-32B1-42D7-B9A6-40F8ABF2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E90-AD9F-4008-A714-01A9B1B2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E99-B763-4905-80DF-8B1CBEE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0D6-DBCA-4A13-8B24-0FD0766C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46B-2BC9-40D5-82BE-DA75D493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1BE-FDA3-4DDE-8DAF-E9F23DD3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1BF14-E90E-4A3B-B980-B6113E05E9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083040" y="2540160"/>
            <a:ext cx="5414760" cy="36144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44960" y="405612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武松是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水浒传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中的一位英雄。谈到武松，大家首先想到是什么事呢？对了，那就是家喻户晓、老少皆知的景阳冈打虎。武松是怎样打虎的呢？让我们一起去了解一下吧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膛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7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5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；右部上下两竖对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矩形 3"/>
          <p:cNvSpPr/>
          <p:nvPr/>
        </p:nvSpPr>
        <p:spPr>
          <a:xfrm>
            <a:off x="2046240" y="1994040"/>
            <a:ext cx="13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89"/>
          <p:cNvSpPr/>
          <p:nvPr/>
        </p:nvSpPr>
        <p:spPr>
          <a:xfrm>
            <a:off x="6550200" y="4430880"/>
            <a:ext cx="701640" cy="193680"/>
          </a:xfrm>
          <a:custGeom>
            <a:avLst/>
            <a:gdLst/>
            <a:ahLst/>
            <a:rect l="l" t="t" r="r" b="b"/>
            <a:pathLst>
              <a:path w="885" h="244">
                <a:moveTo>
                  <a:pt x="367" y="84"/>
                </a:moveTo>
                <a:lnTo>
                  <a:pt x="392" y="79"/>
                </a:lnTo>
                <a:lnTo>
                  <a:pt x="417" y="71"/>
                </a:lnTo>
                <a:lnTo>
                  <a:pt x="440" y="65"/>
                </a:lnTo>
                <a:lnTo>
                  <a:pt x="463" y="61"/>
                </a:lnTo>
                <a:lnTo>
                  <a:pt x="486" y="56"/>
                </a:lnTo>
                <a:lnTo>
                  <a:pt x="507" y="50"/>
                </a:lnTo>
                <a:lnTo>
                  <a:pt x="528" y="46"/>
                </a:lnTo>
                <a:lnTo>
                  <a:pt x="548" y="40"/>
                </a:lnTo>
                <a:lnTo>
                  <a:pt x="569" y="36"/>
                </a:lnTo>
                <a:lnTo>
                  <a:pt x="586" y="33"/>
                </a:lnTo>
                <a:lnTo>
                  <a:pt x="605" y="29"/>
                </a:lnTo>
                <a:lnTo>
                  <a:pt x="622" y="25"/>
                </a:lnTo>
                <a:lnTo>
                  <a:pt x="640" y="23"/>
                </a:lnTo>
                <a:lnTo>
                  <a:pt x="655" y="19"/>
                </a:lnTo>
                <a:lnTo>
                  <a:pt x="670" y="17"/>
                </a:lnTo>
                <a:lnTo>
                  <a:pt x="686" y="13"/>
                </a:lnTo>
                <a:lnTo>
                  <a:pt x="699" y="11"/>
                </a:lnTo>
                <a:lnTo>
                  <a:pt x="713" y="10"/>
                </a:lnTo>
                <a:lnTo>
                  <a:pt x="726" y="8"/>
                </a:lnTo>
                <a:lnTo>
                  <a:pt x="738" y="6"/>
                </a:lnTo>
                <a:lnTo>
                  <a:pt x="749" y="4"/>
                </a:lnTo>
                <a:lnTo>
                  <a:pt x="759" y="4"/>
                </a:lnTo>
                <a:lnTo>
                  <a:pt x="768" y="2"/>
                </a:lnTo>
                <a:lnTo>
                  <a:pt x="778" y="2"/>
                </a:lnTo>
                <a:lnTo>
                  <a:pt x="787" y="2"/>
                </a:lnTo>
                <a:lnTo>
                  <a:pt x="795" y="0"/>
                </a:lnTo>
                <a:lnTo>
                  <a:pt x="801" y="0"/>
                </a:lnTo>
                <a:lnTo>
                  <a:pt x="809" y="2"/>
                </a:lnTo>
                <a:lnTo>
                  <a:pt x="814" y="2"/>
                </a:lnTo>
                <a:lnTo>
                  <a:pt x="818" y="2"/>
                </a:lnTo>
                <a:lnTo>
                  <a:pt x="824" y="4"/>
                </a:lnTo>
                <a:lnTo>
                  <a:pt x="828" y="4"/>
                </a:lnTo>
                <a:lnTo>
                  <a:pt x="839" y="10"/>
                </a:lnTo>
                <a:lnTo>
                  <a:pt x="851" y="17"/>
                </a:lnTo>
                <a:lnTo>
                  <a:pt x="860" y="23"/>
                </a:lnTo>
                <a:lnTo>
                  <a:pt x="870" y="31"/>
                </a:lnTo>
                <a:lnTo>
                  <a:pt x="876" y="38"/>
                </a:lnTo>
                <a:lnTo>
                  <a:pt x="880" y="42"/>
                </a:lnTo>
                <a:lnTo>
                  <a:pt x="881" y="46"/>
                </a:lnTo>
                <a:lnTo>
                  <a:pt x="883" y="48"/>
                </a:lnTo>
                <a:lnTo>
                  <a:pt x="885" y="52"/>
                </a:lnTo>
                <a:lnTo>
                  <a:pt x="885" y="56"/>
                </a:lnTo>
                <a:lnTo>
                  <a:pt x="885" y="58"/>
                </a:lnTo>
                <a:lnTo>
                  <a:pt x="885" y="63"/>
                </a:lnTo>
                <a:lnTo>
                  <a:pt x="883" y="67"/>
                </a:lnTo>
                <a:lnTo>
                  <a:pt x="881" y="73"/>
                </a:lnTo>
                <a:lnTo>
                  <a:pt x="880" y="77"/>
                </a:lnTo>
                <a:lnTo>
                  <a:pt x="876" y="82"/>
                </a:lnTo>
                <a:lnTo>
                  <a:pt x="872" y="86"/>
                </a:lnTo>
                <a:lnTo>
                  <a:pt x="866" y="92"/>
                </a:lnTo>
                <a:lnTo>
                  <a:pt x="860" y="96"/>
                </a:lnTo>
                <a:lnTo>
                  <a:pt x="855" y="100"/>
                </a:lnTo>
                <a:lnTo>
                  <a:pt x="847" y="104"/>
                </a:lnTo>
                <a:lnTo>
                  <a:pt x="839" y="107"/>
                </a:lnTo>
                <a:lnTo>
                  <a:pt x="832" y="111"/>
                </a:lnTo>
                <a:lnTo>
                  <a:pt x="822" y="115"/>
                </a:lnTo>
                <a:lnTo>
                  <a:pt x="812" y="119"/>
                </a:lnTo>
                <a:lnTo>
                  <a:pt x="803" y="121"/>
                </a:lnTo>
                <a:lnTo>
                  <a:pt x="791" y="125"/>
                </a:lnTo>
                <a:lnTo>
                  <a:pt x="780" y="129"/>
                </a:lnTo>
                <a:lnTo>
                  <a:pt x="766" y="134"/>
                </a:lnTo>
                <a:lnTo>
                  <a:pt x="753" y="138"/>
                </a:lnTo>
                <a:lnTo>
                  <a:pt x="736" y="144"/>
                </a:lnTo>
                <a:lnTo>
                  <a:pt x="718" y="148"/>
                </a:lnTo>
                <a:lnTo>
                  <a:pt x="701" y="153"/>
                </a:lnTo>
                <a:lnTo>
                  <a:pt x="680" y="159"/>
                </a:lnTo>
                <a:lnTo>
                  <a:pt x="659" y="163"/>
                </a:lnTo>
                <a:lnTo>
                  <a:pt x="636" y="169"/>
                </a:lnTo>
                <a:lnTo>
                  <a:pt x="613" y="173"/>
                </a:lnTo>
                <a:lnTo>
                  <a:pt x="586" y="178"/>
                </a:lnTo>
                <a:lnTo>
                  <a:pt x="559" y="182"/>
                </a:lnTo>
                <a:lnTo>
                  <a:pt x="532" y="188"/>
                </a:lnTo>
                <a:lnTo>
                  <a:pt x="501" y="194"/>
                </a:lnTo>
                <a:lnTo>
                  <a:pt x="471" y="198"/>
                </a:lnTo>
                <a:lnTo>
                  <a:pt x="438" y="203"/>
                </a:lnTo>
                <a:lnTo>
                  <a:pt x="405" y="209"/>
                </a:lnTo>
                <a:lnTo>
                  <a:pt x="375" y="213"/>
                </a:lnTo>
                <a:lnTo>
                  <a:pt x="346" y="217"/>
                </a:lnTo>
                <a:lnTo>
                  <a:pt x="319" y="221"/>
                </a:lnTo>
                <a:lnTo>
                  <a:pt x="294" y="225"/>
                </a:lnTo>
                <a:lnTo>
                  <a:pt x="269" y="228"/>
                </a:lnTo>
                <a:lnTo>
                  <a:pt x="248" y="230"/>
                </a:lnTo>
                <a:lnTo>
                  <a:pt x="238" y="232"/>
                </a:lnTo>
                <a:lnTo>
                  <a:pt x="229" y="234"/>
                </a:lnTo>
                <a:lnTo>
                  <a:pt x="219" y="234"/>
                </a:lnTo>
                <a:lnTo>
                  <a:pt x="212" y="236"/>
                </a:lnTo>
                <a:lnTo>
                  <a:pt x="202" y="236"/>
                </a:lnTo>
                <a:lnTo>
                  <a:pt x="194" y="238"/>
                </a:lnTo>
                <a:lnTo>
                  <a:pt x="189" y="238"/>
                </a:lnTo>
                <a:lnTo>
                  <a:pt x="181" y="240"/>
                </a:lnTo>
                <a:lnTo>
                  <a:pt x="175" y="240"/>
                </a:lnTo>
                <a:lnTo>
                  <a:pt x="169" y="240"/>
                </a:lnTo>
                <a:lnTo>
                  <a:pt x="164" y="242"/>
                </a:lnTo>
                <a:lnTo>
                  <a:pt x="160" y="242"/>
                </a:lnTo>
                <a:lnTo>
                  <a:pt x="156" y="242"/>
                </a:lnTo>
                <a:lnTo>
                  <a:pt x="152" y="242"/>
                </a:lnTo>
                <a:lnTo>
                  <a:pt x="148" y="244"/>
                </a:lnTo>
                <a:lnTo>
                  <a:pt x="146" y="244"/>
                </a:lnTo>
                <a:lnTo>
                  <a:pt x="144" y="244"/>
                </a:lnTo>
                <a:lnTo>
                  <a:pt x="142" y="244"/>
                </a:lnTo>
                <a:lnTo>
                  <a:pt x="125" y="244"/>
                </a:lnTo>
                <a:lnTo>
                  <a:pt x="116" y="242"/>
                </a:lnTo>
                <a:lnTo>
                  <a:pt x="108" y="242"/>
                </a:lnTo>
                <a:lnTo>
                  <a:pt x="98" y="240"/>
                </a:lnTo>
                <a:lnTo>
                  <a:pt x="91" y="238"/>
                </a:lnTo>
                <a:lnTo>
                  <a:pt x="81" y="234"/>
                </a:lnTo>
                <a:lnTo>
                  <a:pt x="73" y="230"/>
                </a:lnTo>
                <a:lnTo>
                  <a:pt x="60" y="225"/>
                </a:lnTo>
                <a:lnTo>
                  <a:pt x="48" y="221"/>
                </a:lnTo>
                <a:lnTo>
                  <a:pt x="37" y="215"/>
                </a:lnTo>
                <a:lnTo>
                  <a:pt x="27" y="209"/>
                </a:lnTo>
                <a:lnTo>
                  <a:pt x="20" y="205"/>
                </a:lnTo>
                <a:lnTo>
                  <a:pt x="12" y="200"/>
                </a:lnTo>
                <a:lnTo>
                  <a:pt x="6" y="196"/>
                </a:lnTo>
                <a:lnTo>
                  <a:pt x="2" y="190"/>
                </a:lnTo>
                <a:lnTo>
                  <a:pt x="0" y="188"/>
                </a:lnTo>
                <a:lnTo>
                  <a:pt x="2" y="186"/>
                </a:lnTo>
                <a:lnTo>
                  <a:pt x="2" y="184"/>
                </a:lnTo>
                <a:lnTo>
                  <a:pt x="6" y="182"/>
                </a:lnTo>
                <a:lnTo>
                  <a:pt x="8" y="180"/>
                </a:lnTo>
                <a:lnTo>
                  <a:pt x="12" y="178"/>
                </a:lnTo>
                <a:lnTo>
                  <a:pt x="18" y="175"/>
                </a:lnTo>
                <a:lnTo>
                  <a:pt x="23" y="173"/>
                </a:lnTo>
                <a:lnTo>
                  <a:pt x="29" y="171"/>
                </a:lnTo>
                <a:lnTo>
                  <a:pt x="37" y="167"/>
                </a:lnTo>
                <a:lnTo>
                  <a:pt x="45" y="165"/>
                </a:lnTo>
                <a:lnTo>
                  <a:pt x="52" y="161"/>
                </a:lnTo>
                <a:lnTo>
                  <a:pt x="62" y="159"/>
                </a:lnTo>
                <a:lnTo>
                  <a:pt x="71" y="155"/>
                </a:lnTo>
                <a:lnTo>
                  <a:pt x="83" y="152"/>
                </a:lnTo>
                <a:lnTo>
                  <a:pt x="95" y="150"/>
                </a:lnTo>
                <a:lnTo>
                  <a:pt x="108" y="146"/>
                </a:lnTo>
                <a:lnTo>
                  <a:pt x="119" y="142"/>
                </a:lnTo>
                <a:lnTo>
                  <a:pt x="135" y="138"/>
                </a:lnTo>
                <a:lnTo>
                  <a:pt x="150" y="134"/>
                </a:lnTo>
                <a:lnTo>
                  <a:pt x="166" y="130"/>
                </a:lnTo>
                <a:lnTo>
                  <a:pt x="181" y="127"/>
                </a:lnTo>
                <a:lnTo>
                  <a:pt x="198" y="121"/>
                </a:lnTo>
                <a:lnTo>
                  <a:pt x="217" y="117"/>
                </a:lnTo>
                <a:lnTo>
                  <a:pt x="237" y="113"/>
                </a:lnTo>
                <a:lnTo>
                  <a:pt x="256" y="107"/>
                </a:lnTo>
                <a:lnTo>
                  <a:pt x="277" y="104"/>
                </a:lnTo>
                <a:lnTo>
                  <a:pt x="298" y="98"/>
                </a:lnTo>
                <a:lnTo>
                  <a:pt x="321" y="94"/>
                </a:lnTo>
                <a:lnTo>
                  <a:pt x="344" y="88"/>
                </a:lnTo>
                <a:lnTo>
                  <a:pt x="367" y="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90"/>
          <p:cNvSpPr/>
          <p:nvPr/>
        </p:nvSpPr>
        <p:spPr>
          <a:xfrm>
            <a:off x="6307200" y="4803840"/>
            <a:ext cx="1257120" cy="231840"/>
          </a:xfrm>
          <a:custGeom>
            <a:avLst/>
            <a:gdLst/>
            <a:ahLst/>
            <a:rect l="l" t="t" r="r" b="b"/>
            <a:pathLst>
              <a:path w="1584" h="292">
                <a:moveTo>
                  <a:pt x="0" y="146"/>
                </a:moveTo>
                <a:lnTo>
                  <a:pt x="16" y="146"/>
                </a:lnTo>
                <a:lnTo>
                  <a:pt x="33" y="146"/>
                </a:lnTo>
                <a:lnTo>
                  <a:pt x="50" y="144"/>
                </a:lnTo>
                <a:lnTo>
                  <a:pt x="67" y="144"/>
                </a:lnTo>
                <a:lnTo>
                  <a:pt x="89" y="142"/>
                </a:lnTo>
                <a:lnTo>
                  <a:pt x="108" y="142"/>
                </a:lnTo>
                <a:lnTo>
                  <a:pt x="129" y="140"/>
                </a:lnTo>
                <a:lnTo>
                  <a:pt x="150" y="138"/>
                </a:lnTo>
                <a:lnTo>
                  <a:pt x="173" y="137"/>
                </a:lnTo>
                <a:lnTo>
                  <a:pt x="196" y="135"/>
                </a:lnTo>
                <a:lnTo>
                  <a:pt x="221" y="133"/>
                </a:lnTo>
                <a:lnTo>
                  <a:pt x="246" y="129"/>
                </a:lnTo>
                <a:lnTo>
                  <a:pt x="271" y="127"/>
                </a:lnTo>
                <a:lnTo>
                  <a:pt x="298" y="125"/>
                </a:lnTo>
                <a:lnTo>
                  <a:pt x="325" y="123"/>
                </a:lnTo>
                <a:lnTo>
                  <a:pt x="353" y="119"/>
                </a:lnTo>
                <a:lnTo>
                  <a:pt x="380" y="117"/>
                </a:lnTo>
                <a:lnTo>
                  <a:pt x="409" y="114"/>
                </a:lnTo>
                <a:lnTo>
                  <a:pt x="440" y="112"/>
                </a:lnTo>
                <a:lnTo>
                  <a:pt x="471" y="108"/>
                </a:lnTo>
                <a:lnTo>
                  <a:pt x="503" y="104"/>
                </a:lnTo>
                <a:lnTo>
                  <a:pt x="538" y="98"/>
                </a:lnTo>
                <a:lnTo>
                  <a:pt x="572" y="94"/>
                </a:lnTo>
                <a:lnTo>
                  <a:pt x="609" y="91"/>
                </a:lnTo>
                <a:lnTo>
                  <a:pt x="647" y="85"/>
                </a:lnTo>
                <a:lnTo>
                  <a:pt x="686" y="79"/>
                </a:lnTo>
                <a:lnTo>
                  <a:pt x="726" y="73"/>
                </a:lnTo>
                <a:lnTo>
                  <a:pt x="766" y="67"/>
                </a:lnTo>
                <a:lnTo>
                  <a:pt x="808" y="62"/>
                </a:lnTo>
                <a:lnTo>
                  <a:pt x="853" y="54"/>
                </a:lnTo>
                <a:lnTo>
                  <a:pt x="897" y="48"/>
                </a:lnTo>
                <a:lnTo>
                  <a:pt x="943" y="41"/>
                </a:lnTo>
                <a:lnTo>
                  <a:pt x="966" y="37"/>
                </a:lnTo>
                <a:lnTo>
                  <a:pt x="989" y="35"/>
                </a:lnTo>
                <a:lnTo>
                  <a:pt x="1010" y="33"/>
                </a:lnTo>
                <a:lnTo>
                  <a:pt x="1031" y="31"/>
                </a:lnTo>
                <a:lnTo>
                  <a:pt x="1052" y="29"/>
                </a:lnTo>
                <a:lnTo>
                  <a:pt x="1071" y="27"/>
                </a:lnTo>
                <a:lnTo>
                  <a:pt x="1091" y="25"/>
                </a:lnTo>
                <a:lnTo>
                  <a:pt x="1110" y="23"/>
                </a:lnTo>
                <a:lnTo>
                  <a:pt x="1127" y="21"/>
                </a:lnTo>
                <a:lnTo>
                  <a:pt x="1144" y="19"/>
                </a:lnTo>
                <a:lnTo>
                  <a:pt x="1162" y="18"/>
                </a:lnTo>
                <a:lnTo>
                  <a:pt x="1177" y="16"/>
                </a:lnTo>
                <a:lnTo>
                  <a:pt x="1192" y="14"/>
                </a:lnTo>
                <a:lnTo>
                  <a:pt x="1208" y="14"/>
                </a:lnTo>
                <a:lnTo>
                  <a:pt x="1221" y="12"/>
                </a:lnTo>
                <a:lnTo>
                  <a:pt x="1234" y="10"/>
                </a:lnTo>
                <a:lnTo>
                  <a:pt x="1248" y="10"/>
                </a:lnTo>
                <a:lnTo>
                  <a:pt x="1261" y="8"/>
                </a:lnTo>
                <a:lnTo>
                  <a:pt x="1273" y="6"/>
                </a:lnTo>
                <a:lnTo>
                  <a:pt x="1282" y="6"/>
                </a:lnTo>
                <a:lnTo>
                  <a:pt x="1294" y="4"/>
                </a:lnTo>
                <a:lnTo>
                  <a:pt x="1304" y="4"/>
                </a:lnTo>
                <a:lnTo>
                  <a:pt x="1313" y="4"/>
                </a:lnTo>
                <a:lnTo>
                  <a:pt x="1321" y="2"/>
                </a:lnTo>
                <a:lnTo>
                  <a:pt x="1329" y="2"/>
                </a:lnTo>
                <a:lnTo>
                  <a:pt x="1336" y="2"/>
                </a:lnTo>
                <a:lnTo>
                  <a:pt x="1344" y="2"/>
                </a:lnTo>
                <a:lnTo>
                  <a:pt x="1350" y="0"/>
                </a:lnTo>
                <a:lnTo>
                  <a:pt x="1355" y="0"/>
                </a:lnTo>
                <a:lnTo>
                  <a:pt x="1359" y="0"/>
                </a:lnTo>
                <a:lnTo>
                  <a:pt x="1365" y="0"/>
                </a:lnTo>
                <a:lnTo>
                  <a:pt x="1369" y="0"/>
                </a:lnTo>
                <a:lnTo>
                  <a:pt x="1382" y="6"/>
                </a:lnTo>
                <a:lnTo>
                  <a:pt x="1396" y="10"/>
                </a:lnTo>
                <a:lnTo>
                  <a:pt x="1413" y="16"/>
                </a:lnTo>
                <a:lnTo>
                  <a:pt x="1428" y="23"/>
                </a:lnTo>
                <a:lnTo>
                  <a:pt x="1446" y="31"/>
                </a:lnTo>
                <a:lnTo>
                  <a:pt x="1453" y="37"/>
                </a:lnTo>
                <a:lnTo>
                  <a:pt x="1463" y="41"/>
                </a:lnTo>
                <a:lnTo>
                  <a:pt x="1471" y="46"/>
                </a:lnTo>
                <a:lnTo>
                  <a:pt x="1480" y="52"/>
                </a:lnTo>
                <a:lnTo>
                  <a:pt x="1488" y="60"/>
                </a:lnTo>
                <a:lnTo>
                  <a:pt x="1497" y="67"/>
                </a:lnTo>
                <a:lnTo>
                  <a:pt x="1511" y="81"/>
                </a:lnTo>
                <a:lnTo>
                  <a:pt x="1524" y="94"/>
                </a:lnTo>
                <a:lnTo>
                  <a:pt x="1536" y="106"/>
                </a:lnTo>
                <a:lnTo>
                  <a:pt x="1547" y="117"/>
                </a:lnTo>
                <a:lnTo>
                  <a:pt x="1559" y="129"/>
                </a:lnTo>
                <a:lnTo>
                  <a:pt x="1567" y="138"/>
                </a:lnTo>
                <a:lnTo>
                  <a:pt x="1570" y="144"/>
                </a:lnTo>
                <a:lnTo>
                  <a:pt x="1574" y="150"/>
                </a:lnTo>
                <a:lnTo>
                  <a:pt x="1578" y="154"/>
                </a:lnTo>
                <a:lnTo>
                  <a:pt x="1580" y="160"/>
                </a:lnTo>
                <a:lnTo>
                  <a:pt x="1582" y="167"/>
                </a:lnTo>
                <a:lnTo>
                  <a:pt x="1584" y="173"/>
                </a:lnTo>
                <a:lnTo>
                  <a:pt x="1584" y="179"/>
                </a:lnTo>
                <a:lnTo>
                  <a:pt x="1584" y="185"/>
                </a:lnTo>
                <a:lnTo>
                  <a:pt x="1584" y="194"/>
                </a:lnTo>
                <a:lnTo>
                  <a:pt x="1584" y="202"/>
                </a:lnTo>
                <a:lnTo>
                  <a:pt x="1580" y="210"/>
                </a:lnTo>
                <a:lnTo>
                  <a:pt x="1576" y="215"/>
                </a:lnTo>
                <a:lnTo>
                  <a:pt x="1572" y="221"/>
                </a:lnTo>
                <a:lnTo>
                  <a:pt x="1568" y="227"/>
                </a:lnTo>
                <a:lnTo>
                  <a:pt x="1567" y="227"/>
                </a:lnTo>
                <a:lnTo>
                  <a:pt x="1563" y="227"/>
                </a:lnTo>
                <a:lnTo>
                  <a:pt x="1557" y="225"/>
                </a:lnTo>
                <a:lnTo>
                  <a:pt x="1551" y="225"/>
                </a:lnTo>
                <a:lnTo>
                  <a:pt x="1544" y="225"/>
                </a:lnTo>
                <a:lnTo>
                  <a:pt x="1536" y="225"/>
                </a:lnTo>
                <a:lnTo>
                  <a:pt x="1526" y="225"/>
                </a:lnTo>
                <a:lnTo>
                  <a:pt x="1515" y="225"/>
                </a:lnTo>
                <a:lnTo>
                  <a:pt x="1503" y="223"/>
                </a:lnTo>
                <a:lnTo>
                  <a:pt x="1492" y="223"/>
                </a:lnTo>
                <a:lnTo>
                  <a:pt x="1476" y="221"/>
                </a:lnTo>
                <a:lnTo>
                  <a:pt x="1463" y="221"/>
                </a:lnTo>
                <a:lnTo>
                  <a:pt x="1446" y="219"/>
                </a:lnTo>
                <a:lnTo>
                  <a:pt x="1428" y="217"/>
                </a:lnTo>
                <a:lnTo>
                  <a:pt x="1411" y="215"/>
                </a:lnTo>
                <a:lnTo>
                  <a:pt x="1392" y="213"/>
                </a:lnTo>
                <a:lnTo>
                  <a:pt x="1371" y="210"/>
                </a:lnTo>
                <a:lnTo>
                  <a:pt x="1352" y="208"/>
                </a:lnTo>
                <a:lnTo>
                  <a:pt x="1329" y="206"/>
                </a:lnTo>
                <a:lnTo>
                  <a:pt x="1307" y="202"/>
                </a:lnTo>
                <a:lnTo>
                  <a:pt x="1263" y="198"/>
                </a:lnTo>
                <a:lnTo>
                  <a:pt x="1217" y="194"/>
                </a:lnTo>
                <a:lnTo>
                  <a:pt x="1171" y="190"/>
                </a:lnTo>
                <a:lnTo>
                  <a:pt x="1123" y="188"/>
                </a:lnTo>
                <a:lnTo>
                  <a:pt x="1075" y="186"/>
                </a:lnTo>
                <a:lnTo>
                  <a:pt x="1025" y="186"/>
                </a:lnTo>
                <a:lnTo>
                  <a:pt x="998" y="186"/>
                </a:lnTo>
                <a:lnTo>
                  <a:pt x="972" y="186"/>
                </a:lnTo>
                <a:lnTo>
                  <a:pt x="943" y="188"/>
                </a:lnTo>
                <a:lnTo>
                  <a:pt x="912" y="188"/>
                </a:lnTo>
                <a:lnTo>
                  <a:pt x="883" y="190"/>
                </a:lnTo>
                <a:lnTo>
                  <a:pt x="853" y="192"/>
                </a:lnTo>
                <a:lnTo>
                  <a:pt x="820" y="194"/>
                </a:lnTo>
                <a:lnTo>
                  <a:pt x="787" y="198"/>
                </a:lnTo>
                <a:lnTo>
                  <a:pt x="753" y="200"/>
                </a:lnTo>
                <a:lnTo>
                  <a:pt x="718" y="204"/>
                </a:lnTo>
                <a:lnTo>
                  <a:pt x="684" y="210"/>
                </a:lnTo>
                <a:lnTo>
                  <a:pt x="647" y="213"/>
                </a:lnTo>
                <a:lnTo>
                  <a:pt x="611" y="219"/>
                </a:lnTo>
                <a:lnTo>
                  <a:pt x="572" y="225"/>
                </a:lnTo>
                <a:lnTo>
                  <a:pt x="534" y="233"/>
                </a:lnTo>
                <a:lnTo>
                  <a:pt x="495" y="238"/>
                </a:lnTo>
                <a:lnTo>
                  <a:pt x="474" y="242"/>
                </a:lnTo>
                <a:lnTo>
                  <a:pt x="455" y="246"/>
                </a:lnTo>
                <a:lnTo>
                  <a:pt x="434" y="250"/>
                </a:lnTo>
                <a:lnTo>
                  <a:pt x="417" y="254"/>
                </a:lnTo>
                <a:lnTo>
                  <a:pt x="398" y="256"/>
                </a:lnTo>
                <a:lnTo>
                  <a:pt x="380" y="259"/>
                </a:lnTo>
                <a:lnTo>
                  <a:pt x="363" y="261"/>
                </a:lnTo>
                <a:lnTo>
                  <a:pt x="348" y="265"/>
                </a:lnTo>
                <a:lnTo>
                  <a:pt x="330" y="267"/>
                </a:lnTo>
                <a:lnTo>
                  <a:pt x="315" y="269"/>
                </a:lnTo>
                <a:lnTo>
                  <a:pt x="302" y="271"/>
                </a:lnTo>
                <a:lnTo>
                  <a:pt x="288" y="273"/>
                </a:lnTo>
                <a:lnTo>
                  <a:pt x="275" y="275"/>
                </a:lnTo>
                <a:lnTo>
                  <a:pt x="261" y="277"/>
                </a:lnTo>
                <a:lnTo>
                  <a:pt x="250" y="279"/>
                </a:lnTo>
                <a:lnTo>
                  <a:pt x="238" y="281"/>
                </a:lnTo>
                <a:lnTo>
                  <a:pt x="227" y="282"/>
                </a:lnTo>
                <a:lnTo>
                  <a:pt x="215" y="284"/>
                </a:lnTo>
                <a:lnTo>
                  <a:pt x="206" y="284"/>
                </a:lnTo>
                <a:lnTo>
                  <a:pt x="196" y="286"/>
                </a:lnTo>
                <a:lnTo>
                  <a:pt x="188" y="286"/>
                </a:lnTo>
                <a:lnTo>
                  <a:pt x="181" y="288"/>
                </a:lnTo>
                <a:lnTo>
                  <a:pt x="173" y="288"/>
                </a:lnTo>
                <a:lnTo>
                  <a:pt x="165" y="290"/>
                </a:lnTo>
                <a:lnTo>
                  <a:pt x="160" y="290"/>
                </a:lnTo>
                <a:lnTo>
                  <a:pt x="154" y="290"/>
                </a:lnTo>
                <a:lnTo>
                  <a:pt x="148" y="292"/>
                </a:lnTo>
                <a:lnTo>
                  <a:pt x="142" y="292"/>
                </a:lnTo>
                <a:lnTo>
                  <a:pt x="138" y="292"/>
                </a:lnTo>
                <a:lnTo>
                  <a:pt x="135" y="292"/>
                </a:lnTo>
                <a:lnTo>
                  <a:pt x="133" y="292"/>
                </a:lnTo>
                <a:lnTo>
                  <a:pt x="131" y="292"/>
                </a:lnTo>
                <a:lnTo>
                  <a:pt x="121" y="292"/>
                </a:lnTo>
                <a:lnTo>
                  <a:pt x="112" y="290"/>
                </a:lnTo>
                <a:lnTo>
                  <a:pt x="102" y="286"/>
                </a:lnTo>
                <a:lnTo>
                  <a:pt x="92" y="282"/>
                </a:lnTo>
                <a:lnTo>
                  <a:pt x="83" y="277"/>
                </a:lnTo>
                <a:lnTo>
                  <a:pt x="71" y="269"/>
                </a:lnTo>
                <a:lnTo>
                  <a:pt x="60" y="261"/>
                </a:lnTo>
                <a:lnTo>
                  <a:pt x="48" y="252"/>
                </a:lnTo>
                <a:lnTo>
                  <a:pt x="41" y="248"/>
                </a:lnTo>
                <a:lnTo>
                  <a:pt x="35" y="242"/>
                </a:lnTo>
                <a:lnTo>
                  <a:pt x="29" y="236"/>
                </a:lnTo>
                <a:lnTo>
                  <a:pt x="25" y="231"/>
                </a:lnTo>
                <a:lnTo>
                  <a:pt x="21" y="223"/>
                </a:lnTo>
                <a:lnTo>
                  <a:pt x="18" y="217"/>
                </a:lnTo>
                <a:lnTo>
                  <a:pt x="10" y="204"/>
                </a:lnTo>
                <a:lnTo>
                  <a:pt x="6" y="190"/>
                </a:lnTo>
                <a:lnTo>
                  <a:pt x="2" y="175"/>
                </a:lnTo>
                <a:lnTo>
                  <a:pt x="0" y="162"/>
                </a:lnTo>
                <a:lnTo>
                  <a:pt x="0" y="1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191"/>
          <p:cNvSpPr/>
          <p:nvPr/>
        </p:nvSpPr>
        <p:spPr>
          <a:xfrm>
            <a:off x="6691320" y="4108320"/>
            <a:ext cx="495360" cy="127080"/>
          </a:xfrm>
          <a:custGeom>
            <a:avLst/>
            <a:gdLst/>
            <a:ahLst/>
            <a:rect l="l" t="t" r="r" b="b"/>
            <a:pathLst>
              <a:path w="624" h="159">
                <a:moveTo>
                  <a:pt x="0" y="67"/>
                </a:moveTo>
                <a:lnTo>
                  <a:pt x="33" y="63"/>
                </a:lnTo>
                <a:lnTo>
                  <a:pt x="63" y="60"/>
                </a:lnTo>
                <a:lnTo>
                  <a:pt x="94" y="56"/>
                </a:lnTo>
                <a:lnTo>
                  <a:pt x="125" y="52"/>
                </a:lnTo>
                <a:lnTo>
                  <a:pt x="154" y="48"/>
                </a:lnTo>
                <a:lnTo>
                  <a:pt x="180" y="46"/>
                </a:lnTo>
                <a:lnTo>
                  <a:pt x="207" y="42"/>
                </a:lnTo>
                <a:lnTo>
                  <a:pt x="234" y="40"/>
                </a:lnTo>
                <a:lnTo>
                  <a:pt x="259" y="36"/>
                </a:lnTo>
                <a:lnTo>
                  <a:pt x="284" y="33"/>
                </a:lnTo>
                <a:lnTo>
                  <a:pt x="307" y="31"/>
                </a:lnTo>
                <a:lnTo>
                  <a:pt x="328" y="29"/>
                </a:lnTo>
                <a:lnTo>
                  <a:pt x="349" y="25"/>
                </a:lnTo>
                <a:lnTo>
                  <a:pt x="370" y="23"/>
                </a:lnTo>
                <a:lnTo>
                  <a:pt x="390" y="21"/>
                </a:lnTo>
                <a:lnTo>
                  <a:pt x="407" y="19"/>
                </a:lnTo>
                <a:lnTo>
                  <a:pt x="426" y="17"/>
                </a:lnTo>
                <a:lnTo>
                  <a:pt x="441" y="15"/>
                </a:lnTo>
                <a:lnTo>
                  <a:pt x="457" y="13"/>
                </a:lnTo>
                <a:lnTo>
                  <a:pt x="472" y="12"/>
                </a:lnTo>
                <a:lnTo>
                  <a:pt x="486" y="10"/>
                </a:lnTo>
                <a:lnTo>
                  <a:pt x="499" y="8"/>
                </a:lnTo>
                <a:lnTo>
                  <a:pt x="511" y="6"/>
                </a:lnTo>
                <a:lnTo>
                  <a:pt x="522" y="6"/>
                </a:lnTo>
                <a:lnTo>
                  <a:pt x="532" y="4"/>
                </a:lnTo>
                <a:lnTo>
                  <a:pt x="541" y="4"/>
                </a:lnTo>
                <a:lnTo>
                  <a:pt x="549" y="2"/>
                </a:lnTo>
                <a:lnTo>
                  <a:pt x="557" y="2"/>
                </a:lnTo>
                <a:lnTo>
                  <a:pt x="562" y="2"/>
                </a:lnTo>
                <a:lnTo>
                  <a:pt x="568" y="0"/>
                </a:lnTo>
                <a:lnTo>
                  <a:pt x="574" y="0"/>
                </a:lnTo>
                <a:lnTo>
                  <a:pt x="578" y="0"/>
                </a:lnTo>
                <a:lnTo>
                  <a:pt x="583" y="0"/>
                </a:lnTo>
                <a:lnTo>
                  <a:pt x="589" y="2"/>
                </a:lnTo>
                <a:lnTo>
                  <a:pt x="595" y="2"/>
                </a:lnTo>
                <a:lnTo>
                  <a:pt x="599" y="4"/>
                </a:lnTo>
                <a:lnTo>
                  <a:pt x="605" y="4"/>
                </a:lnTo>
                <a:lnTo>
                  <a:pt x="608" y="6"/>
                </a:lnTo>
                <a:lnTo>
                  <a:pt x="614" y="10"/>
                </a:lnTo>
                <a:lnTo>
                  <a:pt x="618" y="15"/>
                </a:lnTo>
                <a:lnTo>
                  <a:pt x="622" y="23"/>
                </a:lnTo>
                <a:lnTo>
                  <a:pt x="624" y="31"/>
                </a:lnTo>
                <a:lnTo>
                  <a:pt x="624" y="40"/>
                </a:lnTo>
                <a:lnTo>
                  <a:pt x="624" y="50"/>
                </a:lnTo>
                <a:lnTo>
                  <a:pt x="622" y="58"/>
                </a:lnTo>
                <a:lnTo>
                  <a:pt x="618" y="65"/>
                </a:lnTo>
                <a:lnTo>
                  <a:pt x="614" y="71"/>
                </a:lnTo>
                <a:lnTo>
                  <a:pt x="608" y="77"/>
                </a:lnTo>
                <a:lnTo>
                  <a:pt x="605" y="81"/>
                </a:lnTo>
                <a:lnTo>
                  <a:pt x="599" y="83"/>
                </a:lnTo>
                <a:lnTo>
                  <a:pt x="595" y="86"/>
                </a:lnTo>
                <a:lnTo>
                  <a:pt x="589" y="88"/>
                </a:lnTo>
                <a:lnTo>
                  <a:pt x="583" y="90"/>
                </a:lnTo>
                <a:lnTo>
                  <a:pt x="578" y="94"/>
                </a:lnTo>
                <a:lnTo>
                  <a:pt x="564" y="98"/>
                </a:lnTo>
                <a:lnTo>
                  <a:pt x="549" y="104"/>
                </a:lnTo>
                <a:lnTo>
                  <a:pt x="534" y="107"/>
                </a:lnTo>
                <a:lnTo>
                  <a:pt x="516" y="111"/>
                </a:lnTo>
                <a:lnTo>
                  <a:pt x="497" y="115"/>
                </a:lnTo>
                <a:lnTo>
                  <a:pt x="478" y="117"/>
                </a:lnTo>
                <a:lnTo>
                  <a:pt x="457" y="119"/>
                </a:lnTo>
                <a:lnTo>
                  <a:pt x="436" y="121"/>
                </a:lnTo>
                <a:lnTo>
                  <a:pt x="430" y="121"/>
                </a:lnTo>
                <a:lnTo>
                  <a:pt x="424" y="121"/>
                </a:lnTo>
                <a:lnTo>
                  <a:pt x="409" y="121"/>
                </a:lnTo>
                <a:lnTo>
                  <a:pt x="393" y="121"/>
                </a:lnTo>
                <a:lnTo>
                  <a:pt x="376" y="123"/>
                </a:lnTo>
                <a:lnTo>
                  <a:pt x="357" y="123"/>
                </a:lnTo>
                <a:lnTo>
                  <a:pt x="336" y="125"/>
                </a:lnTo>
                <a:lnTo>
                  <a:pt x="311" y="127"/>
                </a:lnTo>
                <a:lnTo>
                  <a:pt x="286" y="131"/>
                </a:lnTo>
                <a:lnTo>
                  <a:pt x="259" y="132"/>
                </a:lnTo>
                <a:lnTo>
                  <a:pt x="230" y="134"/>
                </a:lnTo>
                <a:lnTo>
                  <a:pt x="202" y="138"/>
                </a:lnTo>
                <a:lnTo>
                  <a:pt x="169" y="142"/>
                </a:lnTo>
                <a:lnTo>
                  <a:pt x="134" y="146"/>
                </a:lnTo>
                <a:lnTo>
                  <a:pt x="100" y="150"/>
                </a:lnTo>
                <a:lnTo>
                  <a:pt x="61" y="155"/>
                </a:lnTo>
                <a:lnTo>
                  <a:pt x="23" y="159"/>
                </a:lnTo>
                <a:lnTo>
                  <a:pt x="11" y="113"/>
                </a:lnTo>
                <a:lnTo>
                  <a:pt x="0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92"/>
          <p:cNvSpPr/>
          <p:nvPr/>
        </p:nvSpPr>
        <p:spPr>
          <a:xfrm>
            <a:off x="6831000" y="4172040"/>
            <a:ext cx="154080" cy="725400"/>
          </a:xfrm>
          <a:custGeom>
            <a:avLst/>
            <a:gdLst/>
            <a:ahLst/>
            <a:rect l="l" t="t" r="r" b="b"/>
            <a:pathLst>
              <a:path w="193" h="913">
                <a:moveTo>
                  <a:pt x="176" y="119"/>
                </a:moveTo>
                <a:lnTo>
                  <a:pt x="180" y="128"/>
                </a:lnTo>
                <a:lnTo>
                  <a:pt x="184" y="142"/>
                </a:lnTo>
                <a:lnTo>
                  <a:pt x="188" y="155"/>
                </a:lnTo>
                <a:lnTo>
                  <a:pt x="192" y="170"/>
                </a:lnTo>
                <a:lnTo>
                  <a:pt x="192" y="178"/>
                </a:lnTo>
                <a:lnTo>
                  <a:pt x="193" y="188"/>
                </a:lnTo>
                <a:lnTo>
                  <a:pt x="193" y="195"/>
                </a:lnTo>
                <a:lnTo>
                  <a:pt x="193" y="207"/>
                </a:lnTo>
                <a:lnTo>
                  <a:pt x="192" y="217"/>
                </a:lnTo>
                <a:lnTo>
                  <a:pt x="192" y="228"/>
                </a:lnTo>
                <a:lnTo>
                  <a:pt x="190" y="240"/>
                </a:lnTo>
                <a:lnTo>
                  <a:pt x="188" y="251"/>
                </a:lnTo>
                <a:lnTo>
                  <a:pt x="188" y="257"/>
                </a:lnTo>
                <a:lnTo>
                  <a:pt x="186" y="265"/>
                </a:lnTo>
                <a:lnTo>
                  <a:pt x="186" y="274"/>
                </a:lnTo>
                <a:lnTo>
                  <a:pt x="184" y="284"/>
                </a:lnTo>
                <a:lnTo>
                  <a:pt x="182" y="293"/>
                </a:lnTo>
                <a:lnTo>
                  <a:pt x="182" y="305"/>
                </a:lnTo>
                <a:lnTo>
                  <a:pt x="180" y="316"/>
                </a:lnTo>
                <a:lnTo>
                  <a:pt x="180" y="330"/>
                </a:lnTo>
                <a:lnTo>
                  <a:pt x="178" y="345"/>
                </a:lnTo>
                <a:lnTo>
                  <a:pt x="178" y="359"/>
                </a:lnTo>
                <a:lnTo>
                  <a:pt x="176" y="376"/>
                </a:lnTo>
                <a:lnTo>
                  <a:pt x="176" y="391"/>
                </a:lnTo>
                <a:lnTo>
                  <a:pt x="174" y="410"/>
                </a:lnTo>
                <a:lnTo>
                  <a:pt x="174" y="428"/>
                </a:lnTo>
                <a:lnTo>
                  <a:pt x="172" y="447"/>
                </a:lnTo>
                <a:lnTo>
                  <a:pt x="172" y="468"/>
                </a:lnTo>
                <a:lnTo>
                  <a:pt x="170" y="489"/>
                </a:lnTo>
                <a:lnTo>
                  <a:pt x="170" y="512"/>
                </a:lnTo>
                <a:lnTo>
                  <a:pt x="170" y="535"/>
                </a:lnTo>
                <a:lnTo>
                  <a:pt x="168" y="558"/>
                </a:lnTo>
                <a:lnTo>
                  <a:pt x="168" y="583"/>
                </a:lnTo>
                <a:lnTo>
                  <a:pt x="168" y="608"/>
                </a:lnTo>
                <a:lnTo>
                  <a:pt x="167" y="635"/>
                </a:lnTo>
                <a:lnTo>
                  <a:pt x="167" y="664"/>
                </a:lnTo>
                <a:lnTo>
                  <a:pt x="167" y="691"/>
                </a:lnTo>
                <a:lnTo>
                  <a:pt x="167" y="721"/>
                </a:lnTo>
                <a:lnTo>
                  <a:pt x="165" y="750"/>
                </a:lnTo>
                <a:lnTo>
                  <a:pt x="165" y="781"/>
                </a:lnTo>
                <a:lnTo>
                  <a:pt x="165" y="813"/>
                </a:lnTo>
                <a:lnTo>
                  <a:pt x="165" y="846"/>
                </a:lnTo>
                <a:lnTo>
                  <a:pt x="165" y="879"/>
                </a:lnTo>
                <a:lnTo>
                  <a:pt x="165" y="913"/>
                </a:lnTo>
                <a:lnTo>
                  <a:pt x="94" y="913"/>
                </a:lnTo>
                <a:lnTo>
                  <a:pt x="23" y="913"/>
                </a:lnTo>
                <a:lnTo>
                  <a:pt x="26" y="863"/>
                </a:lnTo>
                <a:lnTo>
                  <a:pt x="30" y="813"/>
                </a:lnTo>
                <a:lnTo>
                  <a:pt x="32" y="764"/>
                </a:lnTo>
                <a:lnTo>
                  <a:pt x="34" y="714"/>
                </a:lnTo>
                <a:lnTo>
                  <a:pt x="34" y="662"/>
                </a:lnTo>
                <a:lnTo>
                  <a:pt x="34" y="610"/>
                </a:lnTo>
                <a:lnTo>
                  <a:pt x="34" y="556"/>
                </a:lnTo>
                <a:lnTo>
                  <a:pt x="34" y="503"/>
                </a:lnTo>
                <a:lnTo>
                  <a:pt x="34" y="447"/>
                </a:lnTo>
                <a:lnTo>
                  <a:pt x="32" y="391"/>
                </a:lnTo>
                <a:lnTo>
                  <a:pt x="30" y="360"/>
                </a:lnTo>
                <a:lnTo>
                  <a:pt x="30" y="332"/>
                </a:lnTo>
                <a:lnTo>
                  <a:pt x="28" y="301"/>
                </a:lnTo>
                <a:lnTo>
                  <a:pt x="26" y="270"/>
                </a:lnTo>
                <a:lnTo>
                  <a:pt x="23" y="240"/>
                </a:lnTo>
                <a:lnTo>
                  <a:pt x="21" y="207"/>
                </a:lnTo>
                <a:lnTo>
                  <a:pt x="19" y="174"/>
                </a:lnTo>
                <a:lnTo>
                  <a:pt x="15" y="142"/>
                </a:lnTo>
                <a:lnTo>
                  <a:pt x="11" y="107"/>
                </a:lnTo>
                <a:lnTo>
                  <a:pt x="7" y="73"/>
                </a:lnTo>
                <a:lnTo>
                  <a:pt x="3" y="36"/>
                </a:lnTo>
                <a:lnTo>
                  <a:pt x="0" y="0"/>
                </a:lnTo>
                <a:lnTo>
                  <a:pt x="19" y="9"/>
                </a:lnTo>
                <a:lnTo>
                  <a:pt x="38" y="19"/>
                </a:lnTo>
                <a:lnTo>
                  <a:pt x="53" y="28"/>
                </a:lnTo>
                <a:lnTo>
                  <a:pt x="71" y="36"/>
                </a:lnTo>
                <a:lnTo>
                  <a:pt x="86" y="46"/>
                </a:lnTo>
                <a:lnTo>
                  <a:pt x="99" y="53"/>
                </a:lnTo>
                <a:lnTo>
                  <a:pt x="111" y="61"/>
                </a:lnTo>
                <a:lnTo>
                  <a:pt x="122" y="69"/>
                </a:lnTo>
                <a:lnTo>
                  <a:pt x="134" y="76"/>
                </a:lnTo>
                <a:lnTo>
                  <a:pt x="144" y="82"/>
                </a:lnTo>
                <a:lnTo>
                  <a:pt x="151" y="90"/>
                </a:lnTo>
                <a:lnTo>
                  <a:pt x="159" y="96"/>
                </a:lnTo>
                <a:lnTo>
                  <a:pt x="165" y="101"/>
                </a:lnTo>
                <a:lnTo>
                  <a:pt x="170" y="107"/>
                </a:lnTo>
                <a:lnTo>
                  <a:pt x="174" y="113"/>
                </a:lnTo>
                <a:lnTo>
                  <a:pt x="176" y="1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193"/>
          <p:cNvSpPr/>
          <p:nvPr/>
        </p:nvSpPr>
        <p:spPr>
          <a:xfrm>
            <a:off x="6572160" y="3852720"/>
            <a:ext cx="149400" cy="425520"/>
          </a:xfrm>
          <a:custGeom>
            <a:avLst/>
            <a:gdLst/>
            <a:ahLst/>
            <a:rect l="l" t="t" r="r" b="b"/>
            <a:pathLst>
              <a:path w="188" h="535">
                <a:moveTo>
                  <a:pt x="8" y="84"/>
                </a:moveTo>
                <a:lnTo>
                  <a:pt x="4" y="74"/>
                </a:lnTo>
                <a:lnTo>
                  <a:pt x="2" y="65"/>
                </a:lnTo>
                <a:lnTo>
                  <a:pt x="0" y="55"/>
                </a:lnTo>
                <a:lnTo>
                  <a:pt x="0" y="44"/>
                </a:lnTo>
                <a:lnTo>
                  <a:pt x="0" y="34"/>
                </a:lnTo>
                <a:lnTo>
                  <a:pt x="2" y="24"/>
                </a:lnTo>
                <a:lnTo>
                  <a:pt x="4" y="15"/>
                </a:lnTo>
                <a:lnTo>
                  <a:pt x="8" y="5"/>
                </a:lnTo>
                <a:lnTo>
                  <a:pt x="10" y="1"/>
                </a:lnTo>
                <a:lnTo>
                  <a:pt x="14" y="1"/>
                </a:lnTo>
                <a:lnTo>
                  <a:pt x="19" y="0"/>
                </a:lnTo>
                <a:lnTo>
                  <a:pt x="25" y="0"/>
                </a:lnTo>
                <a:lnTo>
                  <a:pt x="33" y="0"/>
                </a:lnTo>
                <a:lnTo>
                  <a:pt x="41" y="1"/>
                </a:lnTo>
                <a:lnTo>
                  <a:pt x="50" y="1"/>
                </a:lnTo>
                <a:lnTo>
                  <a:pt x="60" y="3"/>
                </a:lnTo>
                <a:lnTo>
                  <a:pt x="71" y="7"/>
                </a:lnTo>
                <a:lnTo>
                  <a:pt x="83" y="11"/>
                </a:lnTo>
                <a:lnTo>
                  <a:pt x="96" y="15"/>
                </a:lnTo>
                <a:lnTo>
                  <a:pt x="110" y="19"/>
                </a:lnTo>
                <a:lnTo>
                  <a:pt x="123" y="24"/>
                </a:lnTo>
                <a:lnTo>
                  <a:pt x="140" y="30"/>
                </a:lnTo>
                <a:lnTo>
                  <a:pt x="156" y="38"/>
                </a:lnTo>
                <a:lnTo>
                  <a:pt x="173" y="44"/>
                </a:lnTo>
                <a:lnTo>
                  <a:pt x="175" y="74"/>
                </a:lnTo>
                <a:lnTo>
                  <a:pt x="177" y="105"/>
                </a:lnTo>
                <a:lnTo>
                  <a:pt x="179" y="132"/>
                </a:lnTo>
                <a:lnTo>
                  <a:pt x="181" y="161"/>
                </a:lnTo>
                <a:lnTo>
                  <a:pt x="183" y="188"/>
                </a:lnTo>
                <a:lnTo>
                  <a:pt x="183" y="213"/>
                </a:lnTo>
                <a:lnTo>
                  <a:pt x="185" y="238"/>
                </a:lnTo>
                <a:lnTo>
                  <a:pt x="186" y="261"/>
                </a:lnTo>
                <a:lnTo>
                  <a:pt x="186" y="284"/>
                </a:lnTo>
                <a:lnTo>
                  <a:pt x="188" y="305"/>
                </a:lnTo>
                <a:lnTo>
                  <a:pt x="188" y="326"/>
                </a:lnTo>
                <a:lnTo>
                  <a:pt x="188" y="345"/>
                </a:lnTo>
                <a:lnTo>
                  <a:pt x="188" y="364"/>
                </a:lnTo>
                <a:lnTo>
                  <a:pt x="188" y="382"/>
                </a:lnTo>
                <a:lnTo>
                  <a:pt x="188" y="399"/>
                </a:lnTo>
                <a:lnTo>
                  <a:pt x="188" y="414"/>
                </a:lnTo>
                <a:lnTo>
                  <a:pt x="188" y="428"/>
                </a:lnTo>
                <a:lnTo>
                  <a:pt x="188" y="443"/>
                </a:lnTo>
                <a:lnTo>
                  <a:pt x="188" y="454"/>
                </a:lnTo>
                <a:lnTo>
                  <a:pt x="186" y="466"/>
                </a:lnTo>
                <a:lnTo>
                  <a:pt x="185" y="477"/>
                </a:lnTo>
                <a:lnTo>
                  <a:pt x="185" y="487"/>
                </a:lnTo>
                <a:lnTo>
                  <a:pt x="183" y="497"/>
                </a:lnTo>
                <a:lnTo>
                  <a:pt x="181" y="504"/>
                </a:lnTo>
                <a:lnTo>
                  <a:pt x="179" y="512"/>
                </a:lnTo>
                <a:lnTo>
                  <a:pt x="177" y="518"/>
                </a:lnTo>
                <a:lnTo>
                  <a:pt x="175" y="524"/>
                </a:lnTo>
                <a:lnTo>
                  <a:pt x="173" y="527"/>
                </a:lnTo>
                <a:lnTo>
                  <a:pt x="169" y="531"/>
                </a:lnTo>
                <a:lnTo>
                  <a:pt x="167" y="533"/>
                </a:lnTo>
                <a:lnTo>
                  <a:pt x="163" y="535"/>
                </a:lnTo>
                <a:lnTo>
                  <a:pt x="161" y="535"/>
                </a:lnTo>
                <a:lnTo>
                  <a:pt x="154" y="533"/>
                </a:lnTo>
                <a:lnTo>
                  <a:pt x="148" y="531"/>
                </a:lnTo>
                <a:lnTo>
                  <a:pt x="142" y="527"/>
                </a:lnTo>
                <a:lnTo>
                  <a:pt x="137" y="522"/>
                </a:lnTo>
                <a:lnTo>
                  <a:pt x="131" y="514"/>
                </a:lnTo>
                <a:lnTo>
                  <a:pt x="125" y="506"/>
                </a:lnTo>
                <a:lnTo>
                  <a:pt x="121" y="495"/>
                </a:lnTo>
                <a:lnTo>
                  <a:pt x="115" y="483"/>
                </a:lnTo>
                <a:lnTo>
                  <a:pt x="110" y="470"/>
                </a:lnTo>
                <a:lnTo>
                  <a:pt x="106" y="454"/>
                </a:lnTo>
                <a:lnTo>
                  <a:pt x="100" y="437"/>
                </a:lnTo>
                <a:lnTo>
                  <a:pt x="96" y="418"/>
                </a:lnTo>
                <a:lnTo>
                  <a:pt x="92" y="397"/>
                </a:lnTo>
                <a:lnTo>
                  <a:pt x="87" y="374"/>
                </a:lnTo>
                <a:lnTo>
                  <a:pt x="83" y="349"/>
                </a:lnTo>
                <a:lnTo>
                  <a:pt x="79" y="322"/>
                </a:lnTo>
                <a:lnTo>
                  <a:pt x="75" y="299"/>
                </a:lnTo>
                <a:lnTo>
                  <a:pt x="69" y="276"/>
                </a:lnTo>
                <a:lnTo>
                  <a:pt x="66" y="253"/>
                </a:lnTo>
                <a:lnTo>
                  <a:pt x="62" y="234"/>
                </a:lnTo>
                <a:lnTo>
                  <a:pt x="56" y="215"/>
                </a:lnTo>
                <a:lnTo>
                  <a:pt x="52" y="195"/>
                </a:lnTo>
                <a:lnTo>
                  <a:pt x="48" y="180"/>
                </a:lnTo>
                <a:lnTo>
                  <a:pt x="42" y="165"/>
                </a:lnTo>
                <a:lnTo>
                  <a:pt x="39" y="149"/>
                </a:lnTo>
                <a:lnTo>
                  <a:pt x="35" y="136"/>
                </a:lnTo>
                <a:lnTo>
                  <a:pt x="31" y="124"/>
                </a:lnTo>
                <a:lnTo>
                  <a:pt x="25" y="115"/>
                </a:lnTo>
                <a:lnTo>
                  <a:pt x="21" y="105"/>
                </a:lnTo>
                <a:lnTo>
                  <a:pt x="18" y="97"/>
                </a:lnTo>
                <a:lnTo>
                  <a:pt x="12" y="90"/>
                </a:lnTo>
                <a:lnTo>
                  <a:pt x="8" y="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94"/>
          <p:cNvSpPr/>
          <p:nvPr/>
        </p:nvSpPr>
        <p:spPr>
          <a:xfrm>
            <a:off x="6653160" y="3798720"/>
            <a:ext cx="646200" cy="352440"/>
          </a:xfrm>
          <a:custGeom>
            <a:avLst/>
            <a:gdLst/>
            <a:ahLst/>
            <a:rect l="l" t="t" r="r" b="b"/>
            <a:pathLst>
              <a:path w="814" h="444">
                <a:moveTo>
                  <a:pt x="578" y="6"/>
                </a:moveTo>
                <a:lnTo>
                  <a:pt x="591" y="6"/>
                </a:lnTo>
                <a:lnTo>
                  <a:pt x="607" y="8"/>
                </a:lnTo>
                <a:lnTo>
                  <a:pt x="624" y="12"/>
                </a:lnTo>
                <a:lnTo>
                  <a:pt x="641" y="18"/>
                </a:lnTo>
                <a:lnTo>
                  <a:pt x="649" y="21"/>
                </a:lnTo>
                <a:lnTo>
                  <a:pt x="658" y="25"/>
                </a:lnTo>
                <a:lnTo>
                  <a:pt x="668" y="29"/>
                </a:lnTo>
                <a:lnTo>
                  <a:pt x="678" y="35"/>
                </a:lnTo>
                <a:lnTo>
                  <a:pt x="687" y="39"/>
                </a:lnTo>
                <a:lnTo>
                  <a:pt x="699" y="46"/>
                </a:lnTo>
                <a:lnTo>
                  <a:pt x="708" y="52"/>
                </a:lnTo>
                <a:lnTo>
                  <a:pt x="720" y="60"/>
                </a:lnTo>
                <a:lnTo>
                  <a:pt x="731" y="68"/>
                </a:lnTo>
                <a:lnTo>
                  <a:pt x="741" y="73"/>
                </a:lnTo>
                <a:lnTo>
                  <a:pt x="750" y="81"/>
                </a:lnTo>
                <a:lnTo>
                  <a:pt x="760" y="87"/>
                </a:lnTo>
                <a:lnTo>
                  <a:pt x="768" y="92"/>
                </a:lnTo>
                <a:lnTo>
                  <a:pt x="775" y="98"/>
                </a:lnTo>
                <a:lnTo>
                  <a:pt x="783" y="104"/>
                </a:lnTo>
                <a:lnTo>
                  <a:pt x="789" y="110"/>
                </a:lnTo>
                <a:lnTo>
                  <a:pt x="795" y="114"/>
                </a:lnTo>
                <a:lnTo>
                  <a:pt x="800" y="119"/>
                </a:lnTo>
                <a:lnTo>
                  <a:pt x="804" y="123"/>
                </a:lnTo>
                <a:lnTo>
                  <a:pt x="808" y="127"/>
                </a:lnTo>
                <a:lnTo>
                  <a:pt x="810" y="131"/>
                </a:lnTo>
                <a:lnTo>
                  <a:pt x="812" y="133"/>
                </a:lnTo>
                <a:lnTo>
                  <a:pt x="814" y="137"/>
                </a:lnTo>
                <a:lnTo>
                  <a:pt x="814" y="139"/>
                </a:lnTo>
                <a:lnTo>
                  <a:pt x="814" y="148"/>
                </a:lnTo>
                <a:lnTo>
                  <a:pt x="812" y="156"/>
                </a:lnTo>
                <a:lnTo>
                  <a:pt x="808" y="164"/>
                </a:lnTo>
                <a:lnTo>
                  <a:pt x="804" y="169"/>
                </a:lnTo>
                <a:lnTo>
                  <a:pt x="797" y="173"/>
                </a:lnTo>
                <a:lnTo>
                  <a:pt x="793" y="175"/>
                </a:lnTo>
                <a:lnTo>
                  <a:pt x="789" y="175"/>
                </a:lnTo>
                <a:lnTo>
                  <a:pt x="785" y="177"/>
                </a:lnTo>
                <a:lnTo>
                  <a:pt x="779" y="177"/>
                </a:lnTo>
                <a:lnTo>
                  <a:pt x="774" y="179"/>
                </a:lnTo>
                <a:lnTo>
                  <a:pt x="768" y="179"/>
                </a:lnTo>
                <a:lnTo>
                  <a:pt x="760" y="181"/>
                </a:lnTo>
                <a:lnTo>
                  <a:pt x="752" y="187"/>
                </a:lnTo>
                <a:lnTo>
                  <a:pt x="745" y="192"/>
                </a:lnTo>
                <a:lnTo>
                  <a:pt x="735" y="202"/>
                </a:lnTo>
                <a:lnTo>
                  <a:pt x="726" y="211"/>
                </a:lnTo>
                <a:lnTo>
                  <a:pt x="716" y="223"/>
                </a:lnTo>
                <a:lnTo>
                  <a:pt x="704" y="236"/>
                </a:lnTo>
                <a:lnTo>
                  <a:pt x="695" y="252"/>
                </a:lnTo>
                <a:lnTo>
                  <a:pt x="681" y="269"/>
                </a:lnTo>
                <a:lnTo>
                  <a:pt x="676" y="277"/>
                </a:lnTo>
                <a:lnTo>
                  <a:pt x="670" y="286"/>
                </a:lnTo>
                <a:lnTo>
                  <a:pt x="662" y="298"/>
                </a:lnTo>
                <a:lnTo>
                  <a:pt x="656" y="307"/>
                </a:lnTo>
                <a:lnTo>
                  <a:pt x="649" y="319"/>
                </a:lnTo>
                <a:lnTo>
                  <a:pt x="641" y="331"/>
                </a:lnTo>
                <a:lnTo>
                  <a:pt x="635" y="344"/>
                </a:lnTo>
                <a:lnTo>
                  <a:pt x="628" y="355"/>
                </a:lnTo>
                <a:lnTo>
                  <a:pt x="620" y="369"/>
                </a:lnTo>
                <a:lnTo>
                  <a:pt x="612" y="382"/>
                </a:lnTo>
                <a:lnTo>
                  <a:pt x="603" y="398"/>
                </a:lnTo>
                <a:lnTo>
                  <a:pt x="595" y="413"/>
                </a:lnTo>
                <a:lnTo>
                  <a:pt x="587" y="428"/>
                </a:lnTo>
                <a:lnTo>
                  <a:pt x="578" y="444"/>
                </a:lnTo>
                <a:lnTo>
                  <a:pt x="543" y="436"/>
                </a:lnTo>
                <a:lnTo>
                  <a:pt x="507" y="430"/>
                </a:lnTo>
                <a:lnTo>
                  <a:pt x="509" y="409"/>
                </a:lnTo>
                <a:lnTo>
                  <a:pt x="512" y="388"/>
                </a:lnTo>
                <a:lnTo>
                  <a:pt x="514" y="369"/>
                </a:lnTo>
                <a:lnTo>
                  <a:pt x="516" y="350"/>
                </a:lnTo>
                <a:lnTo>
                  <a:pt x="518" y="334"/>
                </a:lnTo>
                <a:lnTo>
                  <a:pt x="520" y="317"/>
                </a:lnTo>
                <a:lnTo>
                  <a:pt x="522" y="304"/>
                </a:lnTo>
                <a:lnTo>
                  <a:pt x="524" y="290"/>
                </a:lnTo>
                <a:lnTo>
                  <a:pt x="524" y="277"/>
                </a:lnTo>
                <a:lnTo>
                  <a:pt x="526" y="265"/>
                </a:lnTo>
                <a:lnTo>
                  <a:pt x="528" y="256"/>
                </a:lnTo>
                <a:lnTo>
                  <a:pt x="528" y="246"/>
                </a:lnTo>
                <a:lnTo>
                  <a:pt x="530" y="236"/>
                </a:lnTo>
                <a:lnTo>
                  <a:pt x="530" y="231"/>
                </a:lnTo>
                <a:lnTo>
                  <a:pt x="530" y="223"/>
                </a:lnTo>
                <a:lnTo>
                  <a:pt x="532" y="219"/>
                </a:lnTo>
                <a:lnTo>
                  <a:pt x="530" y="208"/>
                </a:lnTo>
                <a:lnTo>
                  <a:pt x="528" y="198"/>
                </a:lnTo>
                <a:lnTo>
                  <a:pt x="526" y="188"/>
                </a:lnTo>
                <a:lnTo>
                  <a:pt x="524" y="181"/>
                </a:lnTo>
                <a:lnTo>
                  <a:pt x="520" y="171"/>
                </a:lnTo>
                <a:lnTo>
                  <a:pt x="516" y="164"/>
                </a:lnTo>
                <a:lnTo>
                  <a:pt x="512" y="158"/>
                </a:lnTo>
                <a:lnTo>
                  <a:pt x="507" y="152"/>
                </a:lnTo>
                <a:lnTo>
                  <a:pt x="505" y="150"/>
                </a:lnTo>
                <a:lnTo>
                  <a:pt x="503" y="150"/>
                </a:lnTo>
                <a:lnTo>
                  <a:pt x="499" y="150"/>
                </a:lnTo>
                <a:lnTo>
                  <a:pt x="495" y="148"/>
                </a:lnTo>
                <a:lnTo>
                  <a:pt x="489" y="148"/>
                </a:lnTo>
                <a:lnTo>
                  <a:pt x="484" y="148"/>
                </a:lnTo>
                <a:lnTo>
                  <a:pt x="476" y="148"/>
                </a:lnTo>
                <a:lnTo>
                  <a:pt x="468" y="148"/>
                </a:lnTo>
                <a:lnTo>
                  <a:pt x="459" y="150"/>
                </a:lnTo>
                <a:lnTo>
                  <a:pt x="449" y="150"/>
                </a:lnTo>
                <a:lnTo>
                  <a:pt x="438" y="152"/>
                </a:lnTo>
                <a:lnTo>
                  <a:pt x="426" y="152"/>
                </a:lnTo>
                <a:lnTo>
                  <a:pt x="413" y="154"/>
                </a:lnTo>
                <a:lnTo>
                  <a:pt x="399" y="156"/>
                </a:lnTo>
                <a:lnTo>
                  <a:pt x="384" y="156"/>
                </a:lnTo>
                <a:lnTo>
                  <a:pt x="369" y="158"/>
                </a:lnTo>
                <a:lnTo>
                  <a:pt x="353" y="160"/>
                </a:lnTo>
                <a:lnTo>
                  <a:pt x="336" y="162"/>
                </a:lnTo>
                <a:lnTo>
                  <a:pt x="317" y="165"/>
                </a:lnTo>
                <a:lnTo>
                  <a:pt x="297" y="167"/>
                </a:lnTo>
                <a:lnTo>
                  <a:pt x="278" y="169"/>
                </a:lnTo>
                <a:lnTo>
                  <a:pt x="257" y="173"/>
                </a:lnTo>
                <a:lnTo>
                  <a:pt x="234" y="175"/>
                </a:lnTo>
                <a:lnTo>
                  <a:pt x="213" y="177"/>
                </a:lnTo>
                <a:lnTo>
                  <a:pt x="188" y="181"/>
                </a:lnTo>
                <a:lnTo>
                  <a:pt x="165" y="185"/>
                </a:lnTo>
                <a:lnTo>
                  <a:pt x="140" y="187"/>
                </a:lnTo>
                <a:lnTo>
                  <a:pt x="113" y="190"/>
                </a:lnTo>
                <a:lnTo>
                  <a:pt x="86" y="194"/>
                </a:lnTo>
                <a:lnTo>
                  <a:pt x="58" y="198"/>
                </a:lnTo>
                <a:lnTo>
                  <a:pt x="31" y="202"/>
                </a:lnTo>
                <a:lnTo>
                  <a:pt x="0" y="206"/>
                </a:lnTo>
                <a:lnTo>
                  <a:pt x="0" y="160"/>
                </a:lnTo>
                <a:lnTo>
                  <a:pt x="0" y="112"/>
                </a:lnTo>
                <a:lnTo>
                  <a:pt x="15" y="112"/>
                </a:lnTo>
                <a:lnTo>
                  <a:pt x="33" y="112"/>
                </a:lnTo>
                <a:lnTo>
                  <a:pt x="50" y="112"/>
                </a:lnTo>
                <a:lnTo>
                  <a:pt x="67" y="110"/>
                </a:lnTo>
                <a:lnTo>
                  <a:pt x="84" y="108"/>
                </a:lnTo>
                <a:lnTo>
                  <a:pt x="104" y="106"/>
                </a:lnTo>
                <a:lnTo>
                  <a:pt x="123" y="104"/>
                </a:lnTo>
                <a:lnTo>
                  <a:pt x="142" y="102"/>
                </a:lnTo>
                <a:lnTo>
                  <a:pt x="161" y="100"/>
                </a:lnTo>
                <a:lnTo>
                  <a:pt x="182" y="96"/>
                </a:lnTo>
                <a:lnTo>
                  <a:pt x="203" y="94"/>
                </a:lnTo>
                <a:lnTo>
                  <a:pt x="226" y="91"/>
                </a:lnTo>
                <a:lnTo>
                  <a:pt x="248" y="87"/>
                </a:lnTo>
                <a:lnTo>
                  <a:pt x="271" y="83"/>
                </a:lnTo>
                <a:lnTo>
                  <a:pt x="296" y="77"/>
                </a:lnTo>
                <a:lnTo>
                  <a:pt x="319" y="73"/>
                </a:lnTo>
                <a:lnTo>
                  <a:pt x="340" y="69"/>
                </a:lnTo>
                <a:lnTo>
                  <a:pt x="361" y="68"/>
                </a:lnTo>
                <a:lnTo>
                  <a:pt x="380" y="64"/>
                </a:lnTo>
                <a:lnTo>
                  <a:pt x="397" y="60"/>
                </a:lnTo>
                <a:lnTo>
                  <a:pt x="415" y="56"/>
                </a:lnTo>
                <a:lnTo>
                  <a:pt x="432" y="54"/>
                </a:lnTo>
                <a:lnTo>
                  <a:pt x="445" y="50"/>
                </a:lnTo>
                <a:lnTo>
                  <a:pt x="459" y="46"/>
                </a:lnTo>
                <a:lnTo>
                  <a:pt x="470" y="43"/>
                </a:lnTo>
                <a:lnTo>
                  <a:pt x="482" y="39"/>
                </a:lnTo>
                <a:lnTo>
                  <a:pt x="491" y="35"/>
                </a:lnTo>
                <a:lnTo>
                  <a:pt x="499" y="31"/>
                </a:lnTo>
                <a:lnTo>
                  <a:pt x="507" y="29"/>
                </a:lnTo>
                <a:lnTo>
                  <a:pt x="512" y="25"/>
                </a:lnTo>
                <a:lnTo>
                  <a:pt x="516" y="21"/>
                </a:lnTo>
                <a:lnTo>
                  <a:pt x="520" y="20"/>
                </a:lnTo>
                <a:lnTo>
                  <a:pt x="524" y="14"/>
                </a:lnTo>
                <a:lnTo>
                  <a:pt x="530" y="10"/>
                </a:lnTo>
                <a:lnTo>
                  <a:pt x="537" y="6"/>
                </a:lnTo>
                <a:lnTo>
                  <a:pt x="545" y="2"/>
                </a:lnTo>
                <a:lnTo>
                  <a:pt x="553" y="0"/>
                </a:lnTo>
                <a:lnTo>
                  <a:pt x="560" y="0"/>
                </a:lnTo>
                <a:lnTo>
                  <a:pt x="564" y="0"/>
                </a:lnTo>
                <a:lnTo>
                  <a:pt x="570" y="2"/>
                </a:lnTo>
                <a:lnTo>
                  <a:pt x="574" y="4"/>
                </a:lnTo>
                <a:lnTo>
                  <a:pt x="578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95"/>
          <p:cNvSpPr/>
          <p:nvPr/>
        </p:nvSpPr>
        <p:spPr>
          <a:xfrm>
            <a:off x="7072200" y="2968560"/>
            <a:ext cx="378000" cy="416160"/>
          </a:xfrm>
          <a:custGeom>
            <a:avLst/>
            <a:gdLst/>
            <a:ahLst/>
            <a:rect l="l" t="t" r="r" b="b"/>
            <a:pathLst>
              <a:path w="476" h="524">
                <a:moveTo>
                  <a:pt x="474" y="165"/>
                </a:moveTo>
                <a:lnTo>
                  <a:pt x="476" y="169"/>
                </a:lnTo>
                <a:lnTo>
                  <a:pt x="476" y="173"/>
                </a:lnTo>
                <a:lnTo>
                  <a:pt x="476" y="177"/>
                </a:lnTo>
                <a:lnTo>
                  <a:pt x="476" y="181"/>
                </a:lnTo>
                <a:lnTo>
                  <a:pt x="474" y="185"/>
                </a:lnTo>
                <a:lnTo>
                  <a:pt x="472" y="190"/>
                </a:lnTo>
                <a:lnTo>
                  <a:pt x="470" y="194"/>
                </a:lnTo>
                <a:lnTo>
                  <a:pt x="468" y="200"/>
                </a:lnTo>
                <a:lnTo>
                  <a:pt x="464" y="204"/>
                </a:lnTo>
                <a:lnTo>
                  <a:pt x="461" y="209"/>
                </a:lnTo>
                <a:lnTo>
                  <a:pt x="457" y="215"/>
                </a:lnTo>
                <a:lnTo>
                  <a:pt x="453" y="221"/>
                </a:lnTo>
                <a:lnTo>
                  <a:pt x="447" y="227"/>
                </a:lnTo>
                <a:lnTo>
                  <a:pt x="443" y="232"/>
                </a:lnTo>
                <a:lnTo>
                  <a:pt x="436" y="238"/>
                </a:lnTo>
                <a:lnTo>
                  <a:pt x="430" y="246"/>
                </a:lnTo>
                <a:lnTo>
                  <a:pt x="422" y="252"/>
                </a:lnTo>
                <a:lnTo>
                  <a:pt x="416" y="259"/>
                </a:lnTo>
                <a:lnTo>
                  <a:pt x="399" y="273"/>
                </a:lnTo>
                <a:lnTo>
                  <a:pt x="382" y="288"/>
                </a:lnTo>
                <a:lnTo>
                  <a:pt x="361" y="304"/>
                </a:lnTo>
                <a:lnTo>
                  <a:pt x="340" y="321"/>
                </a:lnTo>
                <a:lnTo>
                  <a:pt x="317" y="338"/>
                </a:lnTo>
                <a:lnTo>
                  <a:pt x="290" y="357"/>
                </a:lnTo>
                <a:lnTo>
                  <a:pt x="263" y="376"/>
                </a:lnTo>
                <a:lnTo>
                  <a:pt x="234" y="396"/>
                </a:lnTo>
                <a:lnTo>
                  <a:pt x="207" y="415"/>
                </a:lnTo>
                <a:lnTo>
                  <a:pt x="182" y="430"/>
                </a:lnTo>
                <a:lnTo>
                  <a:pt x="159" y="446"/>
                </a:lnTo>
                <a:lnTo>
                  <a:pt x="138" y="461"/>
                </a:lnTo>
                <a:lnTo>
                  <a:pt x="117" y="472"/>
                </a:lnTo>
                <a:lnTo>
                  <a:pt x="98" y="484"/>
                </a:lnTo>
                <a:lnTo>
                  <a:pt x="80" y="495"/>
                </a:lnTo>
                <a:lnTo>
                  <a:pt x="65" y="503"/>
                </a:lnTo>
                <a:lnTo>
                  <a:pt x="50" y="511"/>
                </a:lnTo>
                <a:lnTo>
                  <a:pt x="38" y="517"/>
                </a:lnTo>
                <a:lnTo>
                  <a:pt x="27" y="520"/>
                </a:lnTo>
                <a:lnTo>
                  <a:pt x="19" y="522"/>
                </a:lnTo>
                <a:lnTo>
                  <a:pt x="11" y="524"/>
                </a:lnTo>
                <a:lnTo>
                  <a:pt x="6" y="524"/>
                </a:lnTo>
                <a:lnTo>
                  <a:pt x="4" y="524"/>
                </a:lnTo>
                <a:lnTo>
                  <a:pt x="4" y="522"/>
                </a:lnTo>
                <a:lnTo>
                  <a:pt x="2" y="520"/>
                </a:lnTo>
                <a:lnTo>
                  <a:pt x="0" y="517"/>
                </a:lnTo>
                <a:lnTo>
                  <a:pt x="0" y="513"/>
                </a:lnTo>
                <a:lnTo>
                  <a:pt x="2" y="507"/>
                </a:lnTo>
                <a:lnTo>
                  <a:pt x="4" y="501"/>
                </a:lnTo>
                <a:lnTo>
                  <a:pt x="6" y="495"/>
                </a:lnTo>
                <a:lnTo>
                  <a:pt x="9" y="488"/>
                </a:lnTo>
                <a:lnTo>
                  <a:pt x="13" y="480"/>
                </a:lnTo>
                <a:lnTo>
                  <a:pt x="19" y="472"/>
                </a:lnTo>
                <a:lnTo>
                  <a:pt x="25" y="463"/>
                </a:lnTo>
                <a:lnTo>
                  <a:pt x="32" y="453"/>
                </a:lnTo>
                <a:lnTo>
                  <a:pt x="42" y="442"/>
                </a:lnTo>
                <a:lnTo>
                  <a:pt x="52" y="430"/>
                </a:lnTo>
                <a:lnTo>
                  <a:pt x="61" y="417"/>
                </a:lnTo>
                <a:lnTo>
                  <a:pt x="73" y="403"/>
                </a:lnTo>
                <a:lnTo>
                  <a:pt x="86" y="390"/>
                </a:lnTo>
                <a:lnTo>
                  <a:pt x="107" y="365"/>
                </a:lnTo>
                <a:lnTo>
                  <a:pt x="128" y="340"/>
                </a:lnTo>
                <a:lnTo>
                  <a:pt x="150" y="315"/>
                </a:lnTo>
                <a:lnTo>
                  <a:pt x="171" y="290"/>
                </a:lnTo>
                <a:lnTo>
                  <a:pt x="190" y="265"/>
                </a:lnTo>
                <a:lnTo>
                  <a:pt x="209" y="240"/>
                </a:lnTo>
                <a:lnTo>
                  <a:pt x="217" y="229"/>
                </a:lnTo>
                <a:lnTo>
                  <a:pt x="224" y="215"/>
                </a:lnTo>
                <a:lnTo>
                  <a:pt x="232" y="204"/>
                </a:lnTo>
                <a:lnTo>
                  <a:pt x="240" y="190"/>
                </a:lnTo>
                <a:lnTo>
                  <a:pt x="246" y="181"/>
                </a:lnTo>
                <a:lnTo>
                  <a:pt x="251" y="171"/>
                </a:lnTo>
                <a:lnTo>
                  <a:pt x="255" y="161"/>
                </a:lnTo>
                <a:lnTo>
                  <a:pt x="259" y="154"/>
                </a:lnTo>
                <a:lnTo>
                  <a:pt x="263" y="144"/>
                </a:lnTo>
                <a:lnTo>
                  <a:pt x="265" y="137"/>
                </a:lnTo>
                <a:lnTo>
                  <a:pt x="267" y="129"/>
                </a:lnTo>
                <a:lnTo>
                  <a:pt x="269" y="121"/>
                </a:lnTo>
                <a:lnTo>
                  <a:pt x="269" y="113"/>
                </a:lnTo>
                <a:lnTo>
                  <a:pt x="269" y="108"/>
                </a:lnTo>
                <a:lnTo>
                  <a:pt x="269" y="94"/>
                </a:lnTo>
                <a:lnTo>
                  <a:pt x="267" y="83"/>
                </a:lnTo>
                <a:lnTo>
                  <a:pt x="263" y="71"/>
                </a:lnTo>
                <a:lnTo>
                  <a:pt x="259" y="62"/>
                </a:lnTo>
                <a:lnTo>
                  <a:pt x="255" y="52"/>
                </a:lnTo>
                <a:lnTo>
                  <a:pt x="255" y="42"/>
                </a:lnTo>
                <a:lnTo>
                  <a:pt x="253" y="33"/>
                </a:lnTo>
                <a:lnTo>
                  <a:pt x="255" y="25"/>
                </a:lnTo>
                <a:lnTo>
                  <a:pt x="255" y="18"/>
                </a:lnTo>
                <a:lnTo>
                  <a:pt x="259" y="10"/>
                </a:lnTo>
                <a:lnTo>
                  <a:pt x="263" y="6"/>
                </a:lnTo>
                <a:lnTo>
                  <a:pt x="265" y="2"/>
                </a:lnTo>
                <a:lnTo>
                  <a:pt x="269" y="2"/>
                </a:lnTo>
                <a:lnTo>
                  <a:pt x="272" y="0"/>
                </a:lnTo>
                <a:lnTo>
                  <a:pt x="278" y="0"/>
                </a:lnTo>
                <a:lnTo>
                  <a:pt x="284" y="0"/>
                </a:lnTo>
                <a:lnTo>
                  <a:pt x="290" y="2"/>
                </a:lnTo>
                <a:lnTo>
                  <a:pt x="295" y="2"/>
                </a:lnTo>
                <a:lnTo>
                  <a:pt x="303" y="4"/>
                </a:lnTo>
                <a:lnTo>
                  <a:pt x="313" y="8"/>
                </a:lnTo>
                <a:lnTo>
                  <a:pt x="320" y="12"/>
                </a:lnTo>
                <a:lnTo>
                  <a:pt x="330" y="16"/>
                </a:lnTo>
                <a:lnTo>
                  <a:pt x="340" y="19"/>
                </a:lnTo>
                <a:lnTo>
                  <a:pt x="349" y="25"/>
                </a:lnTo>
                <a:lnTo>
                  <a:pt x="359" y="31"/>
                </a:lnTo>
                <a:lnTo>
                  <a:pt x="370" y="39"/>
                </a:lnTo>
                <a:lnTo>
                  <a:pt x="380" y="44"/>
                </a:lnTo>
                <a:lnTo>
                  <a:pt x="391" y="52"/>
                </a:lnTo>
                <a:lnTo>
                  <a:pt x="401" y="60"/>
                </a:lnTo>
                <a:lnTo>
                  <a:pt x="411" y="67"/>
                </a:lnTo>
                <a:lnTo>
                  <a:pt x="420" y="75"/>
                </a:lnTo>
                <a:lnTo>
                  <a:pt x="428" y="83"/>
                </a:lnTo>
                <a:lnTo>
                  <a:pt x="436" y="90"/>
                </a:lnTo>
                <a:lnTo>
                  <a:pt x="443" y="98"/>
                </a:lnTo>
                <a:lnTo>
                  <a:pt x="449" y="104"/>
                </a:lnTo>
                <a:lnTo>
                  <a:pt x="455" y="112"/>
                </a:lnTo>
                <a:lnTo>
                  <a:pt x="461" y="119"/>
                </a:lnTo>
                <a:lnTo>
                  <a:pt x="464" y="127"/>
                </a:lnTo>
                <a:lnTo>
                  <a:pt x="468" y="135"/>
                </a:lnTo>
                <a:lnTo>
                  <a:pt x="470" y="142"/>
                </a:lnTo>
                <a:lnTo>
                  <a:pt x="472" y="150"/>
                </a:lnTo>
                <a:lnTo>
                  <a:pt x="474" y="158"/>
                </a:lnTo>
                <a:lnTo>
                  <a:pt x="474" y="1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96"/>
          <p:cNvSpPr/>
          <p:nvPr/>
        </p:nvSpPr>
        <p:spPr>
          <a:xfrm>
            <a:off x="6799320" y="2757600"/>
            <a:ext cx="212760" cy="825480"/>
          </a:xfrm>
          <a:custGeom>
            <a:avLst/>
            <a:gdLst/>
            <a:ahLst/>
            <a:rect l="l" t="t" r="r" b="b"/>
            <a:pathLst>
              <a:path w="269" h="1041">
                <a:moveTo>
                  <a:pt x="194" y="1027"/>
                </a:moveTo>
                <a:lnTo>
                  <a:pt x="140" y="1035"/>
                </a:lnTo>
                <a:lnTo>
                  <a:pt x="89" y="1041"/>
                </a:lnTo>
                <a:lnTo>
                  <a:pt x="89" y="999"/>
                </a:lnTo>
                <a:lnTo>
                  <a:pt x="89" y="958"/>
                </a:lnTo>
                <a:lnTo>
                  <a:pt x="89" y="920"/>
                </a:lnTo>
                <a:lnTo>
                  <a:pt x="87" y="881"/>
                </a:lnTo>
                <a:lnTo>
                  <a:pt x="87" y="843"/>
                </a:lnTo>
                <a:lnTo>
                  <a:pt x="87" y="807"/>
                </a:lnTo>
                <a:lnTo>
                  <a:pt x="87" y="772"/>
                </a:lnTo>
                <a:lnTo>
                  <a:pt x="87" y="738"/>
                </a:lnTo>
                <a:lnTo>
                  <a:pt x="87" y="705"/>
                </a:lnTo>
                <a:lnTo>
                  <a:pt x="87" y="672"/>
                </a:lnTo>
                <a:lnTo>
                  <a:pt x="87" y="642"/>
                </a:lnTo>
                <a:lnTo>
                  <a:pt x="87" y="611"/>
                </a:lnTo>
                <a:lnTo>
                  <a:pt x="87" y="582"/>
                </a:lnTo>
                <a:lnTo>
                  <a:pt x="87" y="555"/>
                </a:lnTo>
                <a:lnTo>
                  <a:pt x="87" y="528"/>
                </a:lnTo>
                <a:lnTo>
                  <a:pt x="87" y="503"/>
                </a:lnTo>
                <a:lnTo>
                  <a:pt x="85" y="478"/>
                </a:lnTo>
                <a:lnTo>
                  <a:pt x="85" y="453"/>
                </a:lnTo>
                <a:lnTo>
                  <a:pt x="85" y="432"/>
                </a:lnTo>
                <a:lnTo>
                  <a:pt x="85" y="411"/>
                </a:lnTo>
                <a:lnTo>
                  <a:pt x="85" y="390"/>
                </a:lnTo>
                <a:lnTo>
                  <a:pt x="83" y="371"/>
                </a:lnTo>
                <a:lnTo>
                  <a:pt x="83" y="352"/>
                </a:lnTo>
                <a:lnTo>
                  <a:pt x="83" y="334"/>
                </a:lnTo>
                <a:lnTo>
                  <a:pt x="81" y="319"/>
                </a:lnTo>
                <a:lnTo>
                  <a:pt x="81" y="304"/>
                </a:lnTo>
                <a:lnTo>
                  <a:pt x="81" y="288"/>
                </a:lnTo>
                <a:lnTo>
                  <a:pt x="79" y="275"/>
                </a:lnTo>
                <a:lnTo>
                  <a:pt x="79" y="263"/>
                </a:lnTo>
                <a:lnTo>
                  <a:pt x="77" y="252"/>
                </a:lnTo>
                <a:lnTo>
                  <a:pt x="77" y="242"/>
                </a:lnTo>
                <a:lnTo>
                  <a:pt x="75" y="233"/>
                </a:lnTo>
                <a:lnTo>
                  <a:pt x="73" y="217"/>
                </a:lnTo>
                <a:lnTo>
                  <a:pt x="71" y="204"/>
                </a:lnTo>
                <a:lnTo>
                  <a:pt x="67" y="190"/>
                </a:lnTo>
                <a:lnTo>
                  <a:pt x="66" y="179"/>
                </a:lnTo>
                <a:lnTo>
                  <a:pt x="62" y="166"/>
                </a:lnTo>
                <a:lnTo>
                  <a:pt x="58" y="156"/>
                </a:lnTo>
                <a:lnTo>
                  <a:pt x="56" y="144"/>
                </a:lnTo>
                <a:lnTo>
                  <a:pt x="52" y="135"/>
                </a:lnTo>
                <a:lnTo>
                  <a:pt x="48" y="125"/>
                </a:lnTo>
                <a:lnTo>
                  <a:pt x="46" y="118"/>
                </a:lnTo>
                <a:lnTo>
                  <a:pt x="42" y="110"/>
                </a:lnTo>
                <a:lnTo>
                  <a:pt x="39" y="104"/>
                </a:lnTo>
                <a:lnTo>
                  <a:pt x="37" y="98"/>
                </a:lnTo>
                <a:lnTo>
                  <a:pt x="33" y="94"/>
                </a:lnTo>
                <a:lnTo>
                  <a:pt x="31" y="91"/>
                </a:lnTo>
                <a:lnTo>
                  <a:pt x="29" y="87"/>
                </a:lnTo>
                <a:lnTo>
                  <a:pt x="19" y="81"/>
                </a:lnTo>
                <a:lnTo>
                  <a:pt x="14" y="75"/>
                </a:lnTo>
                <a:lnTo>
                  <a:pt x="8" y="68"/>
                </a:lnTo>
                <a:lnTo>
                  <a:pt x="4" y="58"/>
                </a:lnTo>
                <a:lnTo>
                  <a:pt x="2" y="50"/>
                </a:lnTo>
                <a:lnTo>
                  <a:pt x="0" y="41"/>
                </a:lnTo>
                <a:lnTo>
                  <a:pt x="0" y="35"/>
                </a:lnTo>
                <a:lnTo>
                  <a:pt x="2" y="31"/>
                </a:lnTo>
                <a:lnTo>
                  <a:pt x="4" y="25"/>
                </a:lnTo>
                <a:lnTo>
                  <a:pt x="6" y="22"/>
                </a:lnTo>
                <a:lnTo>
                  <a:pt x="6" y="16"/>
                </a:lnTo>
                <a:lnTo>
                  <a:pt x="6" y="12"/>
                </a:lnTo>
                <a:lnTo>
                  <a:pt x="10" y="8"/>
                </a:lnTo>
                <a:lnTo>
                  <a:pt x="12" y="6"/>
                </a:lnTo>
                <a:lnTo>
                  <a:pt x="16" y="2"/>
                </a:lnTo>
                <a:lnTo>
                  <a:pt x="21" y="2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69" y="6"/>
                </a:lnTo>
                <a:lnTo>
                  <a:pt x="81" y="8"/>
                </a:lnTo>
                <a:lnTo>
                  <a:pt x="94" y="12"/>
                </a:lnTo>
                <a:lnTo>
                  <a:pt x="108" y="16"/>
                </a:lnTo>
                <a:lnTo>
                  <a:pt x="123" y="22"/>
                </a:lnTo>
                <a:lnTo>
                  <a:pt x="137" y="27"/>
                </a:lnTo>
                <a:lnTo>
                  <a:pt x="148" y="35"/>
                </a:lnTo>
                <a:lnTo>
                  <a:pt x="160" y="43"/>
                </a:lnTo>
                <a:lnTo>
                  <a:pt x="171" y="48"/>
                </a:lnTo>
                <a:lnTo>
                  <a:pt x="183" y="54"/>
                </a:lnTo>
                <a:lnTo>
                  <a:pt x="192" y="60"/>
                </a:lnTo>
                <a:lnTo>
                  <a:pt x="202" y="66"/>
                </a:lnTo>
                <a:lnTo>
                  <a:pt x="209" y="70"/>
                </a:lnTo>
                <a:lnTo>
                  <a:pt x="217" y="75"/>
                </a:lnTo>
                <a:lnTo>
                  <a:pt x="225" y="79"/>
                </a:lnTo>
                <a:lnTo>
                  <a:pt x="233" y="83"/>
                </a:lnTo>
                <a:lnTo>
                  <a:pt x="238" y="87"/>
                </a:lnTo>
                <a:lnTo>
                  <a:pt x="242" y="91"/>
                </a:lnTo>
                <a:lnTo>
                  <a:pt x="246" y="94"/>
                </a:lnTo>
                <a:lnTo>
                  <a:pt x="250" y="96"/>
                </a:lnTo>
                <a:lnTo>
                  <a:pt x="254" y="100"/>
                </a:lnTo>
                <a:lnTo>
                  <a:pt x="257" y="106"/>
                </a:lnTo>
                <a:lnTo>
                  <a:pt x="261" y="112"/>
                </a:lnTo>
                <a:lnTo>
                  <a:pt x="265" y="119"/>
                </a:lnTo>
                <a:lnTo>
                  <a:pt x="267" y="127"/>
                </a:lnTo>
                <a:lnTo>
                  <a:pt x="269" y="137"/>
                </a:lnTo>
                <a:lnTo>
                  <a:pt x="269" y="146"/>
                </a:lnTo>
                <a:lnTo>
                  <a:pt x="269" y="152"/>
                </a:lnTo>
                <a:lnTo>
                  <a:pt x="267" y="156"/>
                </a:lnTo>
                <a:lnTo>
                  <a:pt x="267" y="162"/>
                </a:lnTo>
                <a:lnTo>
                  <a:pt x="265" y="166"/>
                </a:lnTo>
                <a:lnTo>
                  <a:pt x="263" y="171"/>
                </a:lnTo>
                <a:lnTo>
                  <a:pt x="261" y="177"/>
                </a:lnTo>
                <a:lnTo>
                  <a:pt x="261" y="183"/>
                </a:lnTo>
                <a:lnTo>
                  <a:pt x="259" y="192"/>
                </a:lnTo>
                <a:lnTo>
                  <a:pt x="257" y="202"/>
                </a:lnTo>
                <a:lnTo>
                  <a:pt x="256" y="213"/>
                </a:lnTo>
                <a:lnTo>
                  <a:pt x="256" y="227"/>
                </a:lnTo>
                <a:lnTo>
                  <a:pt x="254" y="240"/>
                </a:lnTo>
                <a:lnTo>
                  <a:pt x="252" y="258"/>
                </a:lnTo>
                <a:lnTo>
                  <a:pt x="250" y="275"/>
                </a:lnTo>
                <a:lnTo>
                  <a:pt x="248" y="292"/>
                </a:lnTo>
                <a:lnTo>
                  <a:pt x="246" y="313"/>
                </a:lnTo>
                <a:lnTo>
                  <a:pt x="244" y="334"/>
                </a:lnTo>
                <a:lnTo>
                  <a:pt x="242" y="357"/>
                </a:lnTo>
                <a:lnTo>
                  <a:pt x="240" y="382"/>
                </a:lnTo>
                <a:lnTo>
                  <a:pt x="238" y="407"/>
                </a:lnTo>
                <a:lnTo>
                  <a:pt x="234" y="436"/>
                </a:lnTo>
                <a:lnTo>
                  <a:pt x="233" y="465"/>
                </a:lnTo>
                <a:lnTo>
                  <a:pt x="231" y="496"/>
                </a:lnTo>
                <a:lnTo>
                  <a:pt x="229" y="526"/>
                </a:lnTo>
                <a:lnTo>
                  <a:pt x="225" y="561"/>
                </a:lnTo>
                <a:lnTo>
                  <a:pt x="223" y="595"/>
                </a:lnTo>
                <a:lnTo>
                  <a:pt x="221" y="632"/>
                </a:lnTo>
                <a:lnTo>
                  <a:pt x="217" y="670"/>
                </a:lnTo>
                <a:lnTo>
                  <a:pt x="215" y="709"/>
                </a:lnTo>
                <a:lnTo>
                  <a:pt x="211" y="749"/>
                </a:lnTo>
                <a:lnTo>
                  <a:pt x="209" y="793"/>
                </a:lnTo>
                <a:lnTo>
                  <a:pt x="206" y="837"/>
                </a:lnTo>
                <a:lnTo>
                  <a:pt x="204" y="881"/>
                </a:lnTo>
                <a:lnTo>
                  <a:pt x="200" y="929"/>
                </a:lnTo>
                <a:lnTo>
                  <a:pt x="196" y="977"/>
                </a:lnTo>
                <a:lnTo>
                  <a:pt x="194" y="10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97"/>
          <p:cNvSpPr/>
          <p:nvPr/>
        </p:nvSpPr>
        <p:spPr>
          <a:xfrm>
            <a:off x="6485040" y="3147840"/>
            <a:ext cx="206280" cy="298800"/>
          </a:xfrm>
          <a:custGeom>
            <a:avLst/>
            <a:gdLst/>
            <a:ahLst/>
            <a:rect l="l" t="t" r="r" b="b"/>
            <a:pathLst>
              <a:path w="259" h="374">
                <a:moveTo>
                  <a:pt x="0" y="4"/>
                </a:moveTo>
                <a:lnTo>
                  <a:pt x="8" y="2"/>
                </a:lnTo>
                <a:lnTo>
                  <a:pt x="17" y="0"/>
                </a:lnTo>
                <a:lnTo>
                  <a:pt x="27" y="0"/>
                </a:lnTo>
                <a:lnTo>
                  <a:pt x="36" y="0"/>
                </a:lnTo>
                <a:lnTo>
                  <a:pt x="46" y="2"/>
                </a:lnTo>
                <a:lnTo>
                  <a:pt x="56" y="4"/>
                </a:lnTo>
                <a:lnTo>
                  <a:pt x="67" y="7"/>
                </a:lnTo>
                <a:lnTo>
                  <a:pt x="77" y="9"/>
                </a:lnTo>
                <a:lnTo>
                  <a:pt x="88" y="13"/>
                </a:lnTo>
                <a:lnTo>
                  <a:pt x="98" y="19"/>
                </a:lnTo>
                <a:lnTo>
                  <a:pt x="109" y="23"/>
                </a:lnTo>
                <a:lnTo>
                  <a:pt x="121" y="29"/>
                </a:lnTo>
                <a:lnTo>
                  <a:pt x="130" y="36"/>
                </a:lnTo>
                <a:lnTo>
                  <a:pt x="142" y="42"/>
                </a:lnTo>
                <a:lnTo>
                  <a:pt x="165" y="57"/>
                </a:lnTo>
                <a:lnTo>
                  <a:pt x="175" y="65"/>
                </a:lnTo>
                <a:lnTo>
                  <a:pt x="184" y="73"/>
                </a:lnTo>
                <a:lnTo>
                  <a:pt x="194" y="80"/>
                </a:lnTo>
                <a:lnTo>
                  <a:pt x="201" y="88"/>
                </a:lnTo>
                <a:lnTo>
                  <a:pt x="209" y="98"/>
                </a:lnTo>
                <a:lnTo>
                  <a:pt x="217" y="107"/>
                </a:lnTo>
                <a:lnTo>
                  <a:pt x="222" y="117"/>
                </a:lnTo>
                <a:lnTo>
                  <a:pt x="228" y="126"/>
                </a:lnTo>
                <a:lnTo>
                  <a:pt x="234" y="136"/>
                </a:lnTo>
                <a:lnTo>
                  <a:pt x="240" y="148"/>
                </a:lnTo>
                <a:lnTo>
                  <a:pt x="244" y="157"/>
                </a:lnTo>
                <a:lnTo>
                  <a:pt x="247" y="169"/>
                </a:lnTo>
                <a:lnTo>
                  <a:pt x="253" y="192"/>
                </a:lnTo>
                <a:lnTo>
                  <a:pt x="259" y="217"/>
                </a:lnTo>
                <a:lnTo>
                  <a:pt x="259" y="228"/>
                </a:lnTo>
                <a:lnTo>
                  <a:pt x="257" y="240"/>
                </a:lnTo>
                <a:lnTo>
                  <a:pt x="257" y="249"/>
                </a:lnTo>
                <a:lnTo>
                  <a:pt x="257" y="261"/>
                </a:lnTo>
                <a:lnTo>
                  <a:pt x="255" y="270"/>
                </a:lnTo>
                <a:lnTo>
                  <a:pt x="253" y="280"/>
                </a:lnTo>
                <a:lnTo>
                  <a:pt x="253" y="288"/>
                </a:lnTo>
                <a:lnTo>
                  <a:pt x="251" y="295"/>
                </a:lnTo>
                <a:lnTo>
                  <a:pt x="249" y="303"/>
                </a:lnTo>
                <a:lnTo>
                  <a:pt x="247" y="309"/>
                </a:lnTo>
                <a:lnTo>
                  <a:pt x="246" y="315"/>
                </a:lnTo>
                <a:lnTo>
                  <a:pt x="244" y="320"/>
                </a:lnTo>
                <a:lnTo>
                  <a:pt x="242" y="324"/>
                </a:lnTo>
                <a:lnTo>
                  <a:pt x="240" y="328"/>
                </a:lnTo>
                <a:lnTo>
                  <a:pt x="238" y="332"/>
                </a:lnTo>
                <a:lnTo>
                  <a:pt x="236" y="336"/>
                </a:lnTo>
                <a:lnTo>
                  <a:pt x="230" y="343"/>
                </a:lnTo>
                <a:lnTo>
                  <a:pt x="226" y="353"/>
                </a:lnTo>
                <a:lnTo>
                  <a:pt x="222" y="359"/>
                </a:lnTo>
                <a:lnTo>
                  <a:pt x="217" y="364"/>
                </a:lnTo>
                <a:lnTo>
                  <a:pt x="213" y="368"/>
                </a:lnTo>
                <a:lnTo>
                  <a:pt x="209" y="372"/>
                </a:lnTo>
                <a:lnTo>
                  <a:pt x="203" y="374"/>
                </a:lnTo>
                <a:lnTo>
                  <a:pt x="199" y="374"/>
                </a:lnTo>
                <a:lnTo>
                  <a:pt x="198" y="374"/>
                </a:lnTo>
                <a:lnTo>
                  <a:pt x="194" y="374"/>
                </a:lnTo>
                <a:lnTo>
                  <a:pt x="192" y="372"/>
                </a:lnTo>
                <a:lnTo>
                  <a:pt x="188" y="370"/>
                </a:lnTo>
                <a:lnTo>
                  <a:pt x="184" y="366"/>
                </a:lnTo>
                <a:lnTo>
                  <a:pt x="180" y="364"/>
                </a:lnTo>
                <a:lnTo>
                  <a:pt x="176" y="361"/>
                </a:lnTo>
                <a:lnTo>
                  <a:pt x="173" y="357"/>
                </a:lnTo>
                <a:lnTo>
                  <a:pt x="163" y="347"/>
                </a:lnTo>
                <a:lnTo>
                  <a:pt x="153" y="336"/>
                </a:lnTo>
                <a:lnTo>
                  <a:pt x="142" y="322"/>
                </a:lnTo>
                <a:lnTo>
                  <a:pt x="128" y="309"/>
                </a:lnTo>
                <a:lnTo>
                  <a:pt x="121" y="299"/>
                </a:lnTo>
                <a:lnTo>
                  <a:pt x="111" y="290"/>
                </a:lnTo>
                <a:lnTo>
                  <a:pt x="102" y="278"/>
                </a:lnTo>
                <a:lnTo>
                  <a:pt x="94" y="267"/>
                </a:lnTo>
                <a:lnTo>
                  <a:pt x="84" y="251"/>
                </a:lnTo>
                <a:lnTo>
                  <a:pt x="77" y="236"/>
                </a:lnTo>
                <a:lnTo>
                  <a:pt x="67" y="219"/>
                </a:lnTo>
                <a:lnTo>
                  <a:pt x="59" y="201"/>
                </a:lnTo>
                <a:lnTo>
                  <a:pt x="52" y="180"/>
                </a:lnTo>
                <a:lnTo>
                  <a:pt x="44" y="159"/>
                </a:lnTo>
                <a:lnTo>
                  <a:pt x="34" y="136"/>
                </a:lnTo>
                <a:lnTo>
                  <a:pt x="27" y="113"/>
                </a:lnTo>
                <a:lnTo>
                  <a:pt x="19" y="88"/>
                </a:lnTo>
                <a:lnTo>
                  <a:pt x="13" y="61"/>
                </a:lnTo>
                <a:lnTo>
                  <a:pt x="6" y="32"/>
                </a:lnTo>
                <a:lnTo>
                  <a:pt x="0" y="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98"/>
          <p:cNvSpPr/>
          <p:nvPr/>
        </p:nvSpPr>
        <p:spPr>
          <a:xfrm>
            <a:off x="6429240" y="3405240"/>
            <a:ext cx="1301760" cy="380880"/>
          </a:xfrm>
          <a:custGeom>
            <a:avLst/>
            <a:gdLst/>
            <a:ahLst/>
            <a:rect l="l" t="t" r="r" b="b"/>
            <a:pathLst>
              <a:path w="1639" h="482">
                <a:moveTo>
                  <a:pt x="1557" y="173"/>
                </a:moveTo>
                <a:lnTo>
                  <a:pt x="1566" y="183"/>
                </a:lnTo>
                <a:lnTo>
                  <a:pt x="1576" y="192"/>
                </a:lnTo>
                <a:lnTo>
                  <a:pt x="1585" y="200"/>
                </a:lnTo>
                <a:lnTo>
                  <a:pt x="1593" y="209"/>
                </a:lnTo>
                <a:lnTo>
                  <a:pt x="1601" y="217"/>
                </a:lnTo>
                <a:lnTo>
                  <a:pt x="1608" y="225"/>
                </a:lnTo>
                <a:lnTo>
                  <a:pt x="1614" y="232"/>
                </a:lnTo>
                <a:lnTo>
                  <a:pt x="1620" y="240"/>
                </a:lnTo>
                <a:lnTo>
                  <a:pt x="1624" y="246"/>
                </a:lnTo>
                <a:lnTo>
                  <a:pt x="1628" y="254"/>
                </a:lnTo>
                <a:lnTo>
                  <a:pt x="1631" y="257"/>
                </a:lnTo>
                <a:lnTo>
                  <a:pt x="1633" y="263"/>
                </a:lnTo>
                <a:lnTo>
                  <a:pt x="1635" y="267"/>
                </a:lnTo>
                <a:lnTo>
                  <a:pt x="1637" y="273"/>
                </a:lnTo>
                <a:lnTo>
                  <a:pt x="1639" y="275"/>
                </a:lnTo>
                <a:lnTo>
                  <a:pt x="1639" y="279"/>
                </a:lnTo>
                <a:lnTo>
                  <a:pt x="1639" y="282"/>
                </a:lnTo>
                <a:lnTo>
                  <a:pt x="1637" y="288"/>
                </a:lnTo>
                <a:lnTo>
                  <a:pt x="1635" y="292"/>
                </a:lnTo>
                <a:lnTo>
                  <a:pt x="1631" y="296"/>
                </a:lnTo>
                <a:lnTo>
                  <a:pt x="1629" y="300"/>
                </a:lnTo>
                <a:lnTo>
                  <a:pt x="1624" y="302"/>
                </a:lnTo>
                <a:lnTo>
                  <a:pt x="1620" y="305"/>
                </a:lnTo>
                <a:lnTo>
                  <a:pt x="1614" y="307"/>
                </a:lnTo>
                <a:lnTo>
                  <a:pt x="1606" y="311"/>
                </a:lnTo>
                <a:lnTo>
                  <a:pt x="1601" y="313"/>
                </a:lnTo>
                <a:lnTo>
                  <a:pt x="1593" y="313"/>
                </a:lnTo>
                <a:lnTo>
                  <a:pt x="1583" y="315"/>
                </a:lnTo>
                <a:lnTo>
                  <a:pt x="1574" y="317"/>
                </a:lnTo>
                <a:lnTo>
                  <a:pt x="1564" y="317"/>
                </a:lnTo>
                <a:lnTo>
                  <a:pt x="1555" y="317"/>
                </a:lnTo>
                <a:lnTo>
                  <a:pt x="1545" y="319"/>
                </a:lnTo>
                <a:lnTo>
                  <a:pt x="1533" y="319"/>
                </a:lnTo>
                <a:lnTo>
                  <a:pt x="1520" y="319"/>
                </a:lnTo>
                <a:lnTo>
                  <a:pt x="1509" y="321"/>
                </a:lnTo>
                <a:lnTo>
                  <a:pt x="1495" y="323"/>
                </a:lnTo>
                <a:lnTo>
                  <a:pt x="1482" y="327"/>
                </a:lnTo>
                <a:lnTo>
                  <a:pt x="1468" y="330"/>
                </a:lnTo>
                <a:lnTo>
                  <a:pt x="1455" y="334"/>
                </a:lnTo>
                <a:lnTo>
                  <a:pt x="1441" y="340"/>
                </a:lnTo>
                <a:lnTo>
                  <a:pt x="1426" y="346"/>
                </a:lnTo>
                <a:lnTo>
                  <a:pt x="1411" y="351"/>
                </a:lnTo>
                <a:lnTo>
                  <a:pt x="1397" y="359"/>
                </a:lnTo>
                <a:lnTo>
                  <a:pt x="1382" y="367"/>
                </a:lnTo>
                <a:lnTo>
                  <a:pt x="1366" y="376"/>
                </a:lnTo>
                <a:lnTo>
                  <a:pt x="1351" y="388"/>
                </a:lnTo>
                <a:lnTo>
                  <a:pt x="1336" y="398"/>
                </a:lnTo>
                <a:lnTo>
                  <a:pt x="1320" y="411"/>
                </a:lnTo>
                <a:lnTo>
                  <a:pt x="1305" y="422"/>
                </a:lnTo>
                <a:lnTo>
                  <a:pt x="1292" y="434"/>
                </a:lnTo>
                <a:lnTo>
                  <a:pt x="1278" y="444"/>
                </a:lnTo>
                <a:lnTo>
                  <a:pt x="1265" y="451"/>
                </a:lnTo>
                <a:lnTo>
                  <a:pt x="1253" y="459"/>
                </a:lnTo>
                <a:lnTo>
                  <a:pt x="1244" y="465"/>
                </a:lnTo>
                <a:lnTo>
                  <a:pt x="1234" y="470"/>
                </a:lnTo>
                <a:lnTo>
                  <a:pt x="1224" y="474"/>
                </a:lnTo>
                <a:lnTo>
                  <a:pt x="1217" y="476"/>
                </a:lnTo>
                <a:lnTo>
                  <a:pt x="1209" y="480"/>
                </a:lnTo>
                <a:lnTo>
                  <a:pt x="1203" y="480"/>
                </a:lnTo>
                <a:lnTo>
                  <a:pt x="1199" y="482"/>
                </a:lnTo>
                <a:lnTo>
                  <a:pt x="1196" y="482"/>
                </a:lnTo>
                <a:lnTo>
                  <a:pt x="1192" y="480"/>
                </a:lnTo>
                <a:lnTo>
                  <a:pt x="1192" y="478"/>
                </a:lnTo>
                <a:lnTo>
                  <a:pt x="1190" y="476"/>
                </a:lnTo>
                <a:lnTo>
                  <a:pt x="1188" y="474"/>
                </a:lnTo>
                <a:lnTo>
                  <a:pt x="1188" y="470"/>
                </a:lnTo>
                <a:lnTo>
                  <a:pt x="1188" y="467"/>
                </a:lnTo>
                <a:lnTo>
                  <a:pt x="1188" y="461"/>
                </a:lnTo>
                <a:lnTo>
                  <a:pt x="1190" y="457"/>
                </a:lnTo>
                <a:lnTo>
                  <a:pt x="1192" y="449"/>
                </a:lnTo>
                <a:lnTo>
                  <a:pt x="1194" y="444"/>
                </a:lnTo>
                <a:lnTo>
                  <a:pt x="1198" y="436"/>
                </a:lnTo>
                <a:lnTo>
                  <a:pt x="1199" y="426"/>
                </a:lnTo>
                <a:lnTo>
                  <a:pt x="1205" y="417"/>
                </a:lnTo>
                <a:lnTo>
                  <a:pt x="1209" y="407"/>
                </a:lnTo>
                <a:lnTo>
                  <a:pt x="1215" y="398"/>
                </a:lnTo>
                <a:lnTo>
                  <a:pt x="1219" y="384"/>
                </a:lnTo>
                <a:lnTo>
                  <a:pt x="1224" y="373"/>
                </a:lnTo>
                <a:lnTo>
                  <a:pt x="1230" y="359"/>
                </a:lnTo>
                <a:lnTo>
                  <a:pt x="1238" y="344"/>
                </a:lnTo>
                <a:lnTo>
                  <a:pt x="1244" y="330"/>
                </a:lnTo>
                <a:lnTo>
                  <a:pt x="1249" y="315"/>
                </a:lnTo>
                <a:lnTo>
                  <a:pt x="1253" y="302"/>
                </a:lnTo>
                <a:lnTo>
                  <a:pt x="1257" y="290"/>
                </a:lnTo>
                <a:lnTo>
                  <a:pt x="1261" y="279"/>
                </a:lnTo>
                <a:lnTo>
                  <a:pt x="1263" y="267"/>
                </a:lnTo>
                <a:lnTo>
                  <a:pt x="1265" y="256"/>
                </a:lnTo>
                <a:lnTo>
                  <a:pt x="1267" y="246"/>
                </a:lnTo>
                <a:lnTo>
                  <a:pt x="1269" y="238"/>
                </a:lnTo>
                <a:lnTo>
                  <a:pt x="1269" y="229"/>
                </a:lnTo>
                <a:lnTo>
                  <a:pt x="1269" y="223"/>
                </a:lnTo>
                <a:lnTo>
                  <a:pt x="1267" y="215"/>
                </a:lnTo>
                <a:lnTo>
                  <a:pt x="1267" y="209"/>
                </a:lnTo>
                <a:lnTo>
                  <a:pt x="1265" y="206"/>
                </a:lnTo>
                <a:lnTo>
                  <a:pt x="1263" y="202"/>
                </a:lnTo>
                <a:lnTo>
                  <a:pt x="1261" y="198"/>
                </a:lnTo>
                <a:lnTo>
                  <a:pt x="1257" y="196"/>
                </a:lnTo>
                <a:lnTo>
                  <a:pt x="1251" y="194"/>
                </a:lnTo>
                <a:lnTo>
                  <a:pt x="1246" y="190"/>
                </a:lnTo>
                <a:lnTo>
                  <a:pt x="1240" y="188"/>
                </a:lnTo>
                <a:lnTo>
                  <a:pt x="1232" y="186"/>
                </a:lnTo>
                <a:lnTo>
                  <a:pt x="1224" y="184"/>
                </a:lnTo>
                <a:lnTo>
                  <a:pt x="1209" y="181"/>
                </a:lnTo>
                <a:lnTo>
                  <a:pt x="1192" y="177"/>
                </a:lnTo>
                <a:lnTo>
                  <a:pt x="1173" y="175"/>
                </a:lnTo>
                <a:lnTo>
                  <a:pt x="1153" y="173"/>
                </a:lnTo>
                <a:lnTo>
                  <a:pt x="1132" y="173"/>
                </a:lnTo>
                <a:lnTo>
                  <a:pt x="1119" y="175"/>
                </a:lnTo>
                <a:lnTo>
                  <a:pt x="1107" y="177"/>
                </a:lnTo>
                <a:lnTo>
                  <a:pt x="1094" y="179"/>
                </a:lnTo>
                <a:lnTo>
                  <a:pt x="1079" y="183"/>
                </a:lnTo>
                <a:lnTo>
                  <a:pt x="1063" y="184"/>
                </a:lnTo>
                <a:lnTo>
                  <a:pt x="1046" y="188"/>
                </a:lnTo>
                <a:lnTo>
                  <a:pt x="1029" y="190"/>
                </a:lnTo>
                <a:lnTo>
                  <a:pt x="1011" y="194"/>
                </a:lnTo>
                <a:lnTo>
                  <a:pt x="992" y="196"/>
                </a:lnTo>
                <a:lnTo>
                  <a:pt x="971" y="200"/>
                </a:lnTo>
                <a:lnTo>
                  <a:pt x="950" y="204"/>
                </a:lnTo>
                <a:lnTo>
                  <a:pt x="929" y="208"/>
                </a:lnTo>
                <a:lnTo>
                  <a:pt x="908" y="211"/>
                </a:lnTo>
                <a:lnTo>
                  <a:pt x="885" y="215"/>
                </a:lnTo>
                <a:lnTo>
                  <a:pt x="862" y="219"/>
                </a:lnTo>
                <a:lnTo>
                  <a:pt x="837" y="225"/>
                </a:lnTo>
                <a:lnTo>
                  <a:pt x="823" y="227"/>
                </a:lnTo>
                <a:lnTo>
                  <a:pt x="808" y="231"/>
                </a:lnTo>
                <a:lnTo>
                  <a:pt x="793" y="232"/>
                </a:lnTo>
                <a:lnTo>
                  <a:pt x="777" y="236"/>
                </a:lnTo>
                <a:lnTo>
                  <a:pt x="760" y="240"/>
                </a:lnTo>
                <a:lnTo>
                  <a:pt x="743" y="242"/>
                </a:lnTo>
                <a:lnTo>
                  <a:pt x="723" y="246"/>
                </a:lnTo>
                <a:lnTo>
                  <a:pt x="704" y="250"/>
                </a:lnTo>
                <a:lnTo>
                  <a:pt x="683" y="254"/>
                </a:lnTo>
                <a:lnTo>
                  <a:pt x="662" y="257"/>
                </a:lnTo>
                <a:lnTo>
                  <a:pt x="641" y="261"/>
                </a:lnTo>
                <a:lnTo>
                  <a:pt x="618" y="265"/>
                </a:lnTo>
                <a:lnTo>
                  <a:pt x="595" y="269"/>
                </a:lnTo>
                <a:lnTo>
                  <a:pt x="570" y="273"/>
                </a:lnTo>
                <a:lnTo>
                  <a:pt x="545" y="279"/>
                </a:lnTo>
                <a:lnTo>
                  <a:pt x="520" y="282"/>
                </a:lnTo>
                <a:lnTo>
                  <a:pt x="493" y="288"/>
                </a:lnTo>
                <a:lnTo>
                  <a:pt x="466" y="292"/>
                </a:lnTo>
                <a:lnTo>
                  <a:pt x="437" y="298"/>
                </a:lnTo>
                <a:lnTo>
                  <a:pt x="409" y="302"/>
                </a:lnTo>
                <a:lnTo>
                  <a:pt x="378" y="307"/>
                </a:lnTo>
                <a:lnTo>
                  <a:pt x="347" y="313"/>
                </a:lnTo>
                <a:lnTo>
                  <a:pt x="317" y="317"/>
                </a:lnTo>
                <a:lnTo>
                  <a:pt x="284" y="323"/>
                </a:lnTo>
                <a:lnTo>
                  <a:pt x="251" y="328"/>
                </a:lnTo>
                <a:lnTo>
                  <a:pt x="217" y="334"/>
                </a:lnTo>
                <a:lnTo>
                  <a:pt x="184" y="340"/>
                </a:lnTo>
                <a:lnTo>
                  <a:pt x="148" y="346"/>
                </a:lnTo>
                <a:lnTo>
                  <a:pt x="111" y="351"/>
                </a:lnTo>
                <a:lnTo>
                  <a:pt x="75" y="359"/>
                </a:lnTo>
                <a:lnTo>
                  <a:pt x="38" y="365"/>
                </a:lnTo>
                <a:lnTo>
                  <a:pt x="0" y="371"/>
                </a:lnTo>
                <a:lnTo>
                  <a:pt x="0" y="317"/>
                </a:lnTo>
                <a:lnTo>
                  <a:pt x="0" y="265"/>
                </a:lnTo>
                <a:lnTo>
                  <a:pt x="31" y="259"/>
                </a:lnTo>
                <a:lnTo>
                  <a:pt x="65" y="254"/>
                </a:lnTo>
                <a:lnTo>
                  <a:pt x="100" y="248"/>
                </a:lnTo>
                <a:lnTo>
                  <a:pt x="136" y="242"/>
                </a:lnTo>
                <a:lnTo>
                  <a:pt x="174" y="236"/>
                </a:lnTo>
                <a:lnTo>
                  <a:pt x="215" y="229"/>
                </a:lnTo>
                <a:lnTo>
                  <a:pt x="257" y="223"/>
                </a:lnTo>
                <a:lnTo>
                  <a:pt x="301" y="215"/>
                </a:lnTo>
                <a:lnTo>
                  <a:pt x="347" y="208"/>
                </a:lnTo>
                <a:lnTo>
                  <a:pt x="395" y="200"/>
                </a:lnTo>
                <a:lnTo>
                  <a:pt x="443" y="192"/>
                </a:lnTo>
                <a:lnTo>
                  <a:pt x="495" y="183"/>
                </a:lnTo>
                <a:lnTo>
                  <a:pt x="549" y="175"/>
                </a:lnTo>
                <a:lnTo>
                  <a:pt x="603" y="165"/>
                </a:lnTo>
                <a:lnTo>
                  <a:pt x="660" y="156"/>
                </a:lnTo>
                <a:lnTo>
                  <a:pt x="689" y="150"/>
                </a:lnTo>
                <a:lnTo>
                  <a:pt x="720" y="146"/>
                </a:lnTo>
                <a:lnTo>
                  <a:pt x="746" y="140"/>
                </a:lnTo>
                <a:lnTo>
                  <a:pt x="775" y="136"/>
                </a:lnTo>
                <a:lnTo>
                  <a:pt x="800" y="131"/>
                </a:lnTo>
                <a:lnTo>
                  <a:pt x="827" y="127"/>
                </a:lnTo>
                <a:lnTo>
                  <a:pt x="852" y="121"/>
                </a:lnTo>
                <a:lnTo>
                  <a:pt x="875" y="117"/>
                </a:lnTo>
                <a:lnTo>
                  <a:pt x="900" y="112"/>
                </a:lnTo>
                <a:lnTo>
                  <a:pt x="921" y="108"/>
                </a:lnTo>
                <a:lnTo>
                  <a:pt x="944" y="104"/>
                </a:lnTo>
                <a:lnTo>
                  <a:pt x="963" y="100"/>
                </a:lnTo>
                <a:lnTo>
                  <a:pt x="985" y="94"/>
                </a:lnTo>
                <a:lnTo>
                  <a:pt x="1004" y="90"/>
                </a:lnTo>
                <a:lnTo>
                  <a:pt x="1021" y="87"/>
                </a:lnTo>
                <a:lnTo>
                  <a:pt x="1038" y="83"/>
                </a:lnTo>
                <a:lnTo>
                  <a:pt x="1056" y="79"/>
                </a:lnTo>
                <a:lnTo>
                  <a:pt x="1071" y="75"/>
                </a:lnTo>
                <a:lnTo>
                  <a:pt x="1086" y="71"/>
                </a:lnTo>
                <a:lnTo>
                  <a:pt x="1100" y="67"/>
                </a:lnTo>
                <a:lnTo>
                  <a:pt x="1113" y="65"/>
                </a:lnTo>
                <a:lnTo>
                  <a:pt x="1125" y="62"/>
                </a:lnTo>
                <a:lnTo>
                  <a:pt x="1136" y="58"/>
                </a:lnTo>
                <a:lnTo>
                  <a:pt x="1146" y="54"/>
                </a:lnTo>
                <a:lnTo>
                  <a:pt x="1155" y="52"/>
                </a:lnTo>
                <a:lnTo>
                  <a:pt x="1165" y="48"/>
                </a:lnTo>
                <a:lnTo>
                  <a:pt x="1173" y="44"/>
                </a:lnTo>
                <a:lnTo>
                  <a:pt x="1178" y="42"/>
                </a:lnTo>
                <a:lnTo>
                  <a:pt x="1186" y="39"/>
                </a:lnTo>
                <a:lnTo>
                  <a:pt x="1190" y="37"/>
                </a:lnTo>
                <a:lnTo>
                  <a:pt x="1194" y="35"/>
                </a:lnTo>
                <a:lnTo>
                  <a:pt x="1198" y="31"/>
                </a:lnTo>
                <a:lnTo>
                  <a:pt x="1199" y="29"/>
                </a:lnTo>
                <a:lnTo>
                  <a:pt x="1201" y="27"/>
                </a:lnTo>
                <a:lnTo>
                  <a:pt x="1207" y="21"/>
                </a:lnTo>
                <a:lnTo>
                  <a:pt x="1213" y="16"/>
                </a:lnTo>
                <a:lnTo>
                  <a:pt x="1221" y="12"/>
                </a:lnTo>
                <a:lnTo>
                  <a:pt x="1226" y="8"/>
                </a:lnTo>
                <a:lnTo>
                  <a:pt x="1236" y="4"/>
                </a:lnTo>
                <a:lnTo>
                  <a:pt x="1244" y="2"/>
                </a:lnTo>
                <a:lnTo>
                  <a:pt x="1251" y="0"/>
                </a:lnTo>
                <a:lnTo>
                  <a:pt x="1261" y="0"/>
                </a:lnTo>
                <a:lnTo>
                  <a:pt x="1265" y="2"/>
                </a:lnTo>
                <a:lnTo>
                  <a:pt x="1271" y="4"/>
                </a:lnTo>
                <a:lnTo>
                  <a:pt x="1276" y="8"/>
                </a:lnTo>
                <a:lnTo>
                  <a:pt x="1282" y="10"/>
                </a:lnTo>
                <a:lnTo>
                  <a:pt x="1290" y="12"/>
                </a:lnTo>
                <a:lnTo>
                  <a:pt x="1297" y="16"/>
                </a:lnTo>
                <a:lnTo>
                  <a:pt x="1313" y="21"/>
                </a:lnTo>
                <a:lnTo>
                  <a:pt x="1330" y="27"/>
                </a:lnTo>
                <a:lnTo>
                  <a:pt x="1349" y="35"/>
                </a:lnTo>
                <a:lnTo>
                  <a:pt x="1370" y="42"/>
                </a:lnTo>
                <a:lnTo>
                  <a:pt x="1391" y="52"/>
                </a:lnTo>
                <a:lnTo>
                  <a:pt x="1413" y="64"/>
                </a:lnTo>
                <a:lnTo>
                  <a:pt x="1434" y="75"/>
                </a:lnTo>
                <a:lnTo>
                  <a:pt x="1453" y="89"/>
                </a:lnTo>
                <a:lnTo>
                  <a:pt x="1474" y="102"/>
                </a:lnTo>
                <a:lnTo>
                  <a:pt x="1493" y="117"/>
                </a:lnTo>
                <a:lnTo>
                  <a:pt x="1514" y="135"/>
                </a:lnTo>
                <a:lnTo>
                  <a:pt x="1535" y="152"/>
                </a:lnTo>
                <a:lnTo>
                  <a:pt x="1557" y="1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99"/>
          <p:cNvSpPr/>
          <p:nvPr/>
        </p:nvSpPr>
        <p:spPr>
          <a:xfrm>
            <a:off x="6291360" y="3551400"/>
            <a:ext cx="174600" cy="455400"/>
          </a:xfrm>
          <a:custGeom>
            <a:avLst/>
            <a:gdLst/>
            <a:ahLst/>
            <a:rect l="l" t="t" r="r" b="b"/>
            <a:pathLst>
              <a:path w="221" h="574">
                <a:moveTo>
                  <a:pt x="138" y="0"/>
                </a:moveTo>
                <a:lnTo>
                  <a:pt x="152" y="2"/>
                </a:lnTo>
                <a:lnTo>
                  <a:pt x="163" y="4"/>
                </a:lnTo>
                <a:lnTo>
                  <a:pt x="173" y="8"/>
                </a:lnTo>
                <a:lnTo>
                  <a:pt x="182" y="12"/>
                </a:lnTo>
                <a:lnTo>
                  <a:pt x="188" y="16"/>
                </a:lnTo>
                <a:lnTo>
                  <a:pt x="192" y="20"/>
                </a:lnTo>
                <a:lnTo>
                  <a:pt x="196" y="24"/>
                </a:lnTo>
                <a:lnTo>
                  <a:pt x="198" y="29"/>
                </a:lnTo>
                <a:lnTo>
                  <a:pt x="202" y="35"/>
                </a:lnTo>
                <a:lnTo>
                  <a:pt x="206" y="41"/>
                </a:lnTo>
                <a:lnTo>
                  <a:pt x="207" y="47"/>
                </a:lnTo>
                <a:lnTo>
                  <a:pt x="209" y="54"/>
                </a:lnTo>
                <a:lnTo>
                  <a:pt x="213" y="70"/>
                </a:lnTo>
                <a:lnTo>
                  <a:pt x="217" y="87"/>
                </a:lnTo>
                <a:lnTo>
                  <a:pt x="219" y="104"/>
                </a:lnTo>
                <a:lnTo>
                  <a:pt x="221" y="123"/>
                </a:lnTo>
                <a:lnTo>
                  <a:pt x="221" y="144"/>
                </a:lnTo>
                <a:lnTo>
                  <a:pt x="221" y="166"/>
                </a:lnTo>
                <a:lnTo>
                  <a:pt x="221" y="189"/>
                </a:lnTo>
                <a:lnTo>
                  <a:pt x="221" y="214"/>
                </a:lnTo>
                <a:lnTo>
                  <a:pt x="221" y="242"/>
                </a:lnTo>
                <a:lnTo>
                  <a:pt x="219" y="273"/>
                </a:lnTo>
                <a:lnTo>
                  <a:pt x="215" y="302"/>
                </a:lnTo>
                <a:lnTo>
                  <a:pt x="211" y="333"/>
                </a:lnTo>
                <a:lnTo>
                  <a:pt x="204" y="361"/>
                </a:lnTo>
                <a:lnTo>
                  <a:pt x="196" y="392"/>
                </a:lnTo>
                <a:lnTo>
                  <a:pt x="192" y="407"/>
                </a:lnTo>
                <a:lnTo>
                  <a:pt x="186" y="421"/>
                </a:lnTo>
                <a:lnTo>
                  <a:pt x="181" y="436"/>
                </a:lnTo>
                <a:lnTo>
                  <a:pt x="175" y="452"/>
                </a:lnTo>
                <a:lnTo>
                  <a:pt x="167" y="467"/>
                </a:lnTo>
                <a:lnTo>
                  <a:pt x="161" y="480"/>
                </a:lnTo>
                <a:lnTo>
                  <a:pt x="156" y="492"/>
                </a:lnTo>
                <a:lnTo>
                  <a:pt x="150" y="503"/>
                </a:lnTo>
                <a:lnTo>
                  <a:pt x="144" y="515"/>
                </a:lnTo>
                <a:lnTo>
                  <a:pt x="140" y="524"/>
                </a:lnTo>
                <a:lnTo>
                  <a:pt x="135" y="534"/>
                </a:lnTo>
                <a:lnTo>
                  <a:pt x="131" y="542"/>
                </a:lnTo>
                <a:lnTo>
                  <a:pt x="127" y="548"/>
                </a:lnTo>
                <a:lnTo>
                  <a:pt x="121" y="555"/>
                </a:lnTo>
                <a:lnTo>
                  <a:pt x="117" y="559"/>
                </a:lnTo>
                <a:lnTo>
                  <a:pt x="115" y="563"/>
                </a:lnTo>
                <a:lnTo>
                  <a:pt x="111" y="567"/>
                </a:lnTo>
                <a:lnTo>
                  <a:pt x="108" y="569"/>
                </a:lnTo>
                <a:lnTo>
                  <a:pt x="106" y="571"/>
                </a:lnTo>
                <a:lnTo>
                  <a:pt x="104" y="571"/>
                </a:lnTo>
                <a:lnTo>
                  <a:pt x="98" y="572"/>
                </a:lnTo>
                <a:lnTo>
                  <a:pt x="94" y="574"/>
                </a:lnTo>
                <a:lnTo>
                  <a:pt x="90" y="574"/>
                </a:lnTo>
                <a:lnTo>
                  <a:pt x="85" y="574"/>
                </a:lnTo>
                <a:lnTo>
                  <a:pt x="81" y="572"/>
                </a:lnTo>
                <a:lnTo>
                  <a:pt x="77" y="569"/>
                </a:lnTo>
                <a:lnTo>
                  <a:pt x="71" y="567"/>
                </a:lnTo>
                <a:lnTo>
                  <a:pt x="67" y="561"/>
                </a:lnTo>
                <a:lnTo>
                  <a:pt x="62" y="555"/>
                </a:lnTo>
                <a:lnTo>
                  <a:pt x="56" y="549"/>
                </a:lnTo>
                <a:lnTo>
                  <a:pt x="50" y="542"/>
                </a:lnTo>
                <a:lnTo>
                  <a:pt x="44" y="534"/>
                </a:lnTo>
                <a:lnTo>
                  <a:pt x="39" y="524"/>
                </a:lnTo>
                <a:lnTo>
                  <a:pt x="33" y="515"/>
                </a:lnTo>
                <a:lnTo>
                  <a:pt x="27" y="503"/>
                </a:lnTo>
                <a:lnTo>
                  <a:pt x="21" y="492"/>
                </a:lnTo>
                <a:lnTo>
                  <a:pt x="16" y="482"/>
                </a:lnTo>
                <a:lnTo>
                  <a:pt x="10" y="471"/>
                </a:lnTo>
                <a:lnTo>
                  <a:pt x="6" y="461"/>
                </a:lnTo>
                <a:lnTo>
                  <a:pt x="4" y="452"/>
                </a:lnTo>
                <a:lnTo>
                  <a:pt x="2" y="442"/>
                </a:lnTo>
                <a:lnTo>
                  <a:pt x="0" y="432"/>
                </a:lnTo>
                <a:lnTo>
                  <a:pt x="0" y="423"/>
                </a:lnTo>
                <a:lnTo>
                  <a:pt x="0" y="413"/>
                </a:lnTo>
                <a:lnTo>
                  <a:pt x="2" y="404"/>
                </a:lnTo>
                <a:lnTo>
                  <a:pt x="4" y="396"/>
                </a:lnTo>
                <a:lnTo>
                  <a:pt x="8" y="386"/>
                </a:lnTo>
                <a:lnTo>
                  <a:pt x="12" y="379"/>
                </a:lnTo>
                <a:lnTo>
                  <a:pt x="16" y="369"/>
                </a:lnTo>
                <a:lnTo>
                  <a:pt x="21" y="361"/>
                </a:lnTo>
                <a:lnTo>
                  <a:pt x="27" y="354"/>
                </a:lnTo>
                <a:lnTo>
                  <a:pt x="33" y="346"/>
                </a:lnTo>
                <a:lnTo>
                  <a:pt x="39" y="336"/>
                </a:lnTo>
                <a:lnTo>
                  <a:pt x="46" y="327"/>
                </a:lnTo>
                <a:lnTo>
                  <a:pt x="52" y="315"/>
                </a:lnTo>
                <a:lnTo>
                  <a:pt x="60" y="302"/>
                </a:lnTo>
                <a:lnTo>
                  <a:pt x="65" y="285"/>
                </a:lnTo>
                <a:lnTo>
                  <a:pt x="73" y="267"/>
                </a:lnTo>
                <a:lnTo>
                  <a:pt x="79" y="248"/>
                </a:lnTo>
                <a:lnTo>
                  <a:pt x="87" y="229"/>
                </a:lnTo>
                <a:lnTo>
                  <a:pt x="92" y="206"/>
                </a:lnTo>
                <a:lnTo>
                  <a:pt x="100" y="181"/>
                </a:lnTo>
                <a:lnTo>
                  <a:pt x="106" y="156"/>
                </a:lnTo>
                <a:lnTo>
                  <a:pt x="113" y="127"/>
                </a:lnTo>
                <a:lnTo>
                  <a:pt x="119" y="98"/>
                </a:lnTo>
                <a:lnTo>
                  <a:pt x="125" y="68"/>
                </a:lnTo>
                <a:lnTo>
                  <a:pt x="133" y="35"/>
                </a:lnTo>
                <a:lnTo>
                  <a:pt x="138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00"/>
          <p:cNvSpPr/>
          <p:nvPr/>
        </p:nvSpPr>
        <p:spPr>
          <a:xfrm>
            <a:off x="5830920" y="3046320"/>
            <a:ext cx="476280" cy="1955880"/>
          </a:xfrm>
          <a:custGeom>
            <a:avLst/>
            <a:gdLst/>
            <a:ahLst/>
            <a:rect l="l" t="t" r="r" b="b"/>
            <a:pathLst>
              <a:path w="601" h="2465">
                <a:moveTo>
                  <a:pt x="294" y="2373"/>
                </a:moveTo>
                <a:lnTo>
                  <a:pt x="294" y="2359"/>
                </a:lnTo>
                <a:lnTo>
                  <a:pt x="292" y="2348"/>
                </a:lnTo>
                <a:lnTo>
                  <a:pt x="292" y="2336"/>
                </a:lnTo>
                <a:lnTo>
                  <a:pt x="290" y="2325"/>
                </a:lnTo>
                <a:lnTo>
                  <a:pt x="286" y="2313"/>
                </a:lnTo>
                <a:lnTo>
                  <a:pt x="283" y="2304"/>
                </a:lnTo>
                <a:lnTo>
                  <a:pt x="279" y="2292"/>
                </a:lnTo>
                <a:lnTo>
                  <a:pt x="275" y="2280"/>
                </a:lnTo>
                <a:lnTo>
                  <a:pt x="269" y="2271"/>
                </a:lnTo>
                <a:lnTo>
                  <a:pt x="263" y="2261"/>
                </a:lnTo>
                <a:lnTo>
                  <a:pt x="258" y="2250"/>
                </a:lnTo>
                <a:lnTo>
                  <a:pt x="250" y="2240"/>
                </a:lnTo>
                <a:lnTo>
                  <a:pt x="240" y="2231"/>
                </a:lnTo>
                <a:lnTo>
                  <a:pt x="233" y="2221"/>
                </a:lnTo>
                <a:lnTo>
                  <a:pt x="223" y="2209"/>
                </a:lnTo>
                <a:lnTo>
                  <a:pt x="212" y="2200"/>
                </a:lnTo>
                <a:lnTo>
                  <a:pt x="200" y="2190"/>
                </a:lnTo>
                <a:lnTo>
                  <a:pt x="190" y="2181"/>
                </a:lnTo>
                <a:lnTo>
                  <a:pt x="181" y="2171"/>
                </a:lnTo>
                <a:lnTo>
                  <a:pt x="173" y="2163"/>
                </a:lnTo>
                <a:lnTo>
                  <a:pt x="164" y="2154"/>
                </a:lnTo>
                <a:lnTo>
                  <a:pt x="158" y="2146"/>
                </a:lnTo>
                <a:lnTo>
                  <a:pt x="150" y="2138"/>
                </a:lnTo>
                <a:lnTo>
                  <a:pt x="144" y="2133"/>
                </a:lnTo>
                <a:lnTo>
                  <a:pt x="139" y="2125"/>
                </a:lnTo>
                <a:lnTo>
                  <a:pt x="135" y="2119"/>
                </a:lnTo>
                <a:lnTo>
                  <a:pt x="131" y="2113"/>
                </a:lnTo>
                <a:lnTo>
                  <a:pt x="129" y="2110"/>
                </a:lnTo>
                <a:lnTo>
                  <a:pt x="127" y="2104"/>
                </a:lnTo>
                <a:lnTo>
                  <a:pt x="127" y="2100"/>
                </a:lnTo>
                <a:lnTo>
                  <a:pt x="127" y="2096"/>
                </a:lnTo>
                <a:lnTo>
                  <a:pt x="129" y="2094"/>
                </a:lnTo>
                <a:lnTo>
                  <a:pt x="129" y="2092"/>
                </a:lnTo>
                <a:lnTo>
                  <a:pt x="131" y="2090"/>
                </a:lnTo>
                <a:lnTo>
                  <a:pt x="133" y="2089"/>
                </a:lnTo>
                <a:lnTo>
                  <a:pt x="135" y="2087"/>
                </a:lnTo>
                <a:lnTo>
                  <a:pt x="139" y="2085"/>
                </a:lnTo>
                <a:lnTo>
                  <a:pt x="143" y="2085"/>
                </a:lnTo>
                <a:lnTo>
                  <a:pt x="148" y="2085"/>
                </a:lnTo>
                <a:lnTo>
                  <a:pt x="154" y="2085"/>
                </a:lnTo>
                <a:lnTo>
                  <a:pt x="160" y="2085"/>
                </a:lnTo>
                <a:lnTo>
                  <a:pt x="167" y="2085"/>
                </a:lnTo>
                <a:lnTo>
                  <a:pt x="175" y="2085"/>
                </a:lnTo>
                <a:lnTo>
                  <a:pt x="185" y="2087"/>
                </a:lnTo>
                <a:lnTo>
                  <a:pt x="192" y="2089"/>
                </a:lnTo>
                <a:lnTo>
                  <a:pt x="202" y="2090"/>
                </a:lnTo>
                <a:lnTo>
                  <a:pt x="214" y="2092"/>
                </a:lnTo>
                <a:lnTo>
                  <a:pt x="223" y="2094"/>
                </a:lnTo>
                <a:lnTo>
                  <a:pt x="246" y="2098"/>
                </a:lnTo>
                <a:lnTo>
                  <a:pt x="265" y="2102"/>
                </a:lnTo>
                <a:lnTo>
                  <a:pt x="285" y="2104"/>
                </a:lnTo>
                <a:lnTo>
                  <a:pt x="302" y="2102"/>
                </a:lnTo>
                <a:lnTo>
                  <a:pt x="310" y="2102"/>
                </a:lnTo>
                <a:lnTo>
                  <a:pt x="317" y="2100"/>
                </a:lnTo>
                <a:lnTo>
                  <a:pt x="325" y="2098"/>
                </a:lnTo>
                <a:lnTo>
                  <a:pt x="331" y="2096"/>
                </a:lnTo>
                <a:lnTo>
                  <a:pt x="338" y="2092"/>
                </a:lnTo>
                <a:lnTo>
                  <a:pt x="344" y="2090"/>
                </a:lnTo>
                <a:lnTo>
                  <a:pt x="348" y="2085"/>
                </a:lnTo>
                <a:lnTo>
                  <a:pt x="354" y="2081"/>
                </a:lnTo>
                <a:lnTo>
                  <a:pt x="354" y="2077"/>
                </a:lnTo>
                <a:lnTo>
                  <a:pt x="356" y="2073"/>
                </a:lnTo>
                <a:lnTo>
                  <a:pt x="357" y="2065"/>
                </a:lnTo>
                <a:lnTo>
                  <a:pt x="357" y="2058"/>
                </a:lnTo>
                <a:lnTo>
                  <a:pt x="359" y="2046"/>
                </a:lnTo>
                <a:lnTo>
                  <a:pt x="361" y="2035"/>
                </a:lnTo>
                <a:lnTo>
                  <a:pt x="363" y="2021"/>
                </a:lnTo>
                <a:lnTo>
                  <a:pt x="363" y="2006"/>
                </a:lnTo>
                <a:lnTo>
                  <a:pt x="365" y="1989"/>
                </a:lnTo>
                <a:lnTo>
                  <a:pt x="367" y="1971"/>
                </a:lnTo>
                <a:lnTo>
                  <a:pt x="369" y="1950"/>
                </a:lnTo>
                <a:lnTo>
                  <a:pt x="371" y="1929"/>
                </a:lnTo>
                <a:lnTo>
                  <a:pt x="371" y="1904"/>
                </a:lnTo>
                <a:lnTo>
                  <a:pt x="373" y="1879"/>
                </a:lnTo>
                <a:lnTo>
                  <a:pt x="375" y="1852"/>
                </a:lnTo>
                <a:lnTo>
                  <a:pt x="377" y="1824"/>
                </a:lnTo>
                <a:lnTo>
                  <a:pt x="379" y="1793"/>
                </a:lnTo>
                <a:lnTo>
                  <a:pt x="381" y="1762"/>
                </a:lnTo>
                <a:lnTo>
                  <a:pt x="382" y="1728"/>
                </a:lnTo>
                <a:lnTo>
                  <a:pt x="384" y="1693"/>
                </a:lnTo>
                <a:lnTo>
                  <a:pt x="384" y="1655"/>
                </a:lnTo>
                <a:lnTo>
                  <a:pt x="386" y="1616"/>
                </a:lnTo>
                <a:lnTo>
                  <a:pt x="388" y="1576"/>
                </a:lnTo>
                <a:lnTo>
                  <a:pt x="390" y="1536"/>
                </a:lnTo>
                <a:lnTo>
                  <a:pt x="392" y="1492"/>
                </a:lnTo>
                <a:lnTo>
                  <a:pt x="392" y="1445"/>
                </a:lnTo>
                <a:lnTo>
                  <a:pt x="394" y="1399"/>
                </a:lnTo>
                <a:lnTo>
                  <a:pt x="396" y="1350"/>
                </a:lnTo>
                <a:lnTo>
                  <a:pt x="398" y="1300"/>
                </a:lnTo>
                <a:lnTo>
                  <a:pt x="398" y="1248"/>
                </a:lnTo>
                <a:lnTo>
                  <a:pt x="400" y="1194"/>
                </a:lnTo>
                <a:lnTo>
                  <a:pt x="402" y="1140"/>
                </a:lnTo>
                <a:lnTo>
                  <a:pt x="402" y="1085"/>
                </a:lnTo>
                <a:lnTo>
                  <a:pt x="404" y="1031"/>
                </a:lnTo>
                <a:lnTo>
                  <a:pt x="404" y="979"/>
                </a:lnTo>
                <a:lnTo>
                  <a:pt x="404" y="929"/>
                </a:lnTo>
                <a:lnTo>
                  <a:pt x="404" y="881"/>
                </a:lnTo>
                <a:lnTo>
                  <a:pt x="405" y="833"/>
                </a:lnTo>
                <a:lnTo>
                  <a:pt x="405" y="789"/>
                </a:lnTo>
                <a:lnTo>
                  <a:pt x="405" y="745"/>
                </a:lnTo>
                <a:lnTo>
                  <a:pt x="405" y="703"/>
                </a:lnTo>
                <a:lnTo>
                  <a:pt x="405" y="662"/>
                </a:lnTo>
                <a:lnTo>
                  <a:pt x="405" y="624"/>
                </a:lnTo>
                <a:lnTo>
                  <a:pt x="404" y="587"/>
                </a:lnTo>
                <a:lnTo>
                  <a:pt x="404" y="551"/>
                </a:lnTo>
                <a:lnTo>
                  <a:pt x="404" y="518"/>
                </a:lnTo>
                <a:lnTo>
                  <a:pt x="404" y="486"/>
                </a:lnTo>
                <a:lnTo>
                  <a:pt x="402" y="455"/>
                </a:lnTo>
                <a:lnTo>
                  <a:pt x="402" y="426"/>
                </a:lnTo>
                <a:lnTo>
                  <a:pt x="400" y="399"/>
                </a:lnTo>
                <a:lnTo>
                  <a:pt x="400" y="374"/>
                </a:lnTo>
                <a:lnTo>
                  <a:pt x="398" y="351"/>
                </a:lnTo>
                <a:lnTo>
                  <a:pt x="396" y="328"/>
                </a:lnTo>
                <a:lnTo>
                  <a:pt x="396" y="309"/>
                </a:lnTo>
                <a:lnTo>
                  <a:pt x="394" y="290"/>
                </a:lnTo>
                <a:lnTo>
                  <a:pt x="392" y="273"/>
                </a:lnTo>
                <a:lnTo>
                  <a:pt x="390" y="257"/>
                </a:lnTo>
                <a:lnTo>
                  <a:pt x="388" y="244"/>
                </a:lnTo>
                <a:lnTo>
                  <a:pt x="386" y="232"/>
                </a:lnTo>
                <a:lnTo>
                  <a:pt x="384" y="223"/>
                </a:lnTo>
                <a:lnTo>
                  <a:pt x="382" y="213"/>
                </a:lnTo>
                <a:lnTo>
                  <a:pt x="381" y="207"/>
                </a:lnTo>
                <a:lnTo>
                  <a:pt x="379" y="202"/>
                </a:lnTo>
                <a:lnTo>
                  <a:pt x="377" y="200"/>
                </a:lnTo>
                <a:lnTo>
                  <a:pt x="375" y="198"/>
                </a:lnTo>
                <a:lnTo>
                  <a:pt x="371" y="196"/>
                </a:lnTo>
                <a:lnTo>
                  <a:pt x="367" y="196"/>
                </a:lnTo>
                <a:lnTo>
                  <a:pt x="363" y="194"/>
                </a:lnTo>
                <a:lnTo>
                  <a:pt x="357" y="194"/>
                </a:lnTo>
                <a:lnTo>
                  <a:pt x="352" y="192"/>
                </a:lnTo>
                <a:lnTo>
                  <a:pt x="346" y="192"/>
                </a:lnTo>
                <a:lnTo>
                  <a:pt x="340" y="192"/>
                </a:lnTo>
                <a:lnTo>
                  <a:pt x="333" y="190"/>
                </a:lnTo>
                <a:lnTo>
                  <a:pt x="325" y="190"/>
                </a:lnTo>
                <a:lnTo>
                  <a:pt x="315" y="190"/>
                </a:lnTo>
                <a:lnTo>
                  <a:pt x="306" y="190"/>
                </a:lnTo>
                <a:lnTo>
                  <a:pt x="296" y="190"/>
                </a:lnTo>
                <a:lnTo>
                  <a:pt x="286" y="190"/>
                </a:lnTo>
                <a:lnTo>
                  <a:pt x="275" y="190"/>
                </a:lnTo>
                <a:lnTo>
                  <a:pt x="263" y="190"/>
                </a:lnTo>
                <a:lnTo>
                  <a:pt x="252" y="190"/>
                </a:lnTo>
                <a:lnTo>
                  <a:pt x="238" y="190"/>
                </a:lnTo>
                <a:lnTo>
                  <a:pt x="225" y="192"/>
                </a:lnTo>
                <a:lnTo>
                  <a:pt x="212" y="192"/>
                </a:lnTo>
                <a:lnTo>
                  <a:pt x="196" y="194"/>
                </a:lnTo>
                <a:lnTo>
                  <a:pt x="181" y="194"/>
                </a:lnTo>
                <a:lnTo>
                  <a:pt x="166" y="196"/>
                </a:lnTo>
                <a:lnTo>
                  <a:pt x="150" y="196"/>
                </a:lnTo>
                <a:lnTo>
                  <a:pt x="133" y="198"/>
                </a:lnTo>
                <a:lnTo>
                  <a:pt x="116" y="200"/>
                </a:lnTo>
                <a:lnTo>
                  <a:pt x="98" y="202"/>
                </a:lnTo>
                <a:lnTo>
                  <a:pt x="79" y="204"/>
                </a:lnTo>
                <a:lnTo>
                  <a:pt x="60" y="206"/>
                </a:lnTo>
                <a:lnTo>
                  <a:pt x="41" y="207"/>
                </a:lnTo>
                <a:lnTo>
                  <a:pt x="20" y="209"/>
                </a:lnTo>
                <a:lnTo>
                  <a:pt x="0" y="213"/>
                </a:lnTo>
                <a:lnTo>
                  <a:pt x="0" y="159"/>
                </a:lnTo>
                <a:lnTo>
                  <a:pt x="0" y="106"/>
                </a:lnTo>
                <a:lnTo>
                  <a:pt x="20" y="104"/>
                </a:lnTo>
                <a:lnTo>
                  <a:pt x="41" y="102"/>
                </a:lnTo>
                <a:lnTo>
                  <a:pt x="60" y="98"/>
                </a:lnTo>
                <a:lnTo>
                  <a:pt x="79" y="96"/>
                </a:lnTo>
                <a:lnTo>
                  <a:pt x="98" y="94"/>
                </a:lnTo>
                <a:lnTo>
                  <a:pt x="116" y="90"/>
                </a:lnTo>
                <a:lnTo>
                  <a:pt x="133" y="88"/>
                </a:lnTo>
                <a:lnTo>
                  <a:pt x="150" y="87"/>
                </a:lnTo>
                <a:lnTo>
                  <a:pt x="166" y="83"/>
                </a:lnTo>
                <a:lnTo>
                  <a:pt x="181" y="81"/>
                </a:lnTo>
                <a:lnTo>
                  <a:pt x="196" y="79"/>
                </a:lnTo>
                <a:lnTo>
                  <a:pt x="212" y="77"/>
                </a:lnTo>
                <a:lnTo>
                  <a:pt x="225" y="73"/>
                </a:lnTo>
                <a:lnTo>
                  <a:pt x="238" y="71"/>
                </a:lnTo>
                <a:lnTo>
                  <a:pt x="250" y="69"/>
                </a:lnTo>
                <a:lnTo>
                  <a:pt x="262" y="65"/>
                </a:lnTo>
                <a:lnTo>
                  <a:pt x="273" y="63"/>
                </a:lnTo>
                <a:lnTo>
                  <a:pt x="285" y="62"/>
                </a:lnTo>
                <a:lnTo>
                  <a:pt x="294" y="58"/>
                </a:lnTo>
                <a:lnTo>
                  <a:pt x="304" y="56"/>
                </a:lnTo>
                <a:lnTo>
                  <a:pt x="311" y="54"/>
                </a:lnTo>
                <a:lnTo>
                  <a:pt x="321" y="52"/>
                </a:lnTo>
                <a:lnTo>
                  <a:pt x="329" y="48"/>
                </a:lnTo>
                <a:lnTo>
                  <a:pt x="334" y="46"/>
                </a:lnTo>
                <a:lnTo>
                  <a:pt x="340" y="44"/>
                </a:lnTo>
                <a:lnTo>
                  <a:pt x="346" y="40"/>
                </a:lnTo>
                <a:lnTo>
                  <a:pt x="352" y="39"/>
                </a:lnTo>
                <a:lnTo>
                  <a:pt x="356" y="37"/>
                </a:lnTo>
                <a:lnTo>
                  <a:pt x="359" y="35"/>
                </a:lnTo>
                <a:lnTo>
                  <a:pt x="361" y="31"/>
                </a:lnTo>
                <a:lnTo>
                  <a:pt x="363" y="29"/>
                </a:lnTo>
                <a:lnTo>
                  <a:pt x="365" y="27"/>
                </a:lnTo>
                <a:lnTo>
                  <a:pt x="371" y="21"/>
                </a:lnTo>
                <a:lnTo>
                  <a:pt x="377" y="17"/>
                </a:lnTo>
                <a:lnTo>
                  <a:pt x="382" y="12"/>
                </a:lnTo>
                <a:lnTo>
                  <a:pt x="388" y="8"/>
                </a:lnTo>
                <a:lnTo>
                  <a:pt x="396" y="6"/>
                </a:lnTo>
                <a:lnTo>
                  <a:pt x="402" y="2"/>
                </a:lnTo>
                <a:lnTo>
                  <a:pt x="407" y="0"/>
                </a:lnTo>
                <a:lnTo>
                  <a:pt x="413" y="0"/>
                </a:lnTo>
                <a:lnTo>
                  <a:pt x="415" y="0"/>
                </a:lnTo>
                <a:lnTo>
                  <a:pt x="417" y="0"/>
                </a:lnTo>
                <a:lnTo>
                  <a:pt x="421" y="2"/>
                </a:lnTo>
                <a:lnTo>
                  <a:pt x="427" y="2"/>
                </a:lnTo>
                <a:lnTo>
                  <a:pt x="430" y="4"/>
                </a:lnTo>
                <a:lnTo>
                  <a:pt x="436" y="6"/>
                </a:lnTo>
                <a:lnTo>
                  <a:pt x="442" y="8"/>
                </a:lnTo>
                <a:lnTo>
                  <a:pt x="448" y="12"/>
                </a:lnTo>
                <a:lnTo>
                  <a:pt x="455" y="15"/>
                </a:lnTo>
                <a:lnTo>
                  <a:pt x="463" y="19"/>
                </a:lnTo>
                <a:lnTo>
                  <a:pt x="471" y="23"/>
                </a:lnTo>
                <a:lnTo>
                  <a:pt x="478" y="27"/>
                </a:lnTo>
                <a:lnTo>
                  <a:pt x="488" y="33"/>
                </a:lnTo>
                <a:lnTo>
                  <a:pt x="498" y="39"/>
                </a:lnTo>
                <a:lnTo>
                  <a:pt x="507" y="46"/>
                </a:lnTo>
                <a:lnTo>
                  <a:pt x="519" y="54"/>
                </a:lnTo>
                <a:lnTo>
                  <a:pt x="526" y="60"/>
                </a:lnTo>
                <a:lnTo>
                  <a:pt x="534" y="67"/>
                </a:lnTo>
                <a:lnTo>
                  <a:pt x="542" y="75"/>
                </a:lnTo>
                <a:lnTo>
                  <a:pt x="549" y="81"/>
                </a:lnTo>
                <a:lnTo>
                  <a:pt x="563" y="92"/>
                </a:lnTo>
                <a:lnTo>
                  <a:pt x="572" y="104"/>
                </a:lnTo>
                <a:lnTo>
                  <a:pt x="582" y="111"/>
                </a:lnTo>
                <a:lnTo>
                  <a:pt x="590" y="121"/>
                </a:lnTo>
                <a:lnTo>
                  <a:pt x="596" y="127"/>
                </a:lnTo>
                <a:lnTo>
                  <a:pt x="601" y="133"/>
                </a:lnTo>
                <a:lnTo>
                  <a:pt x="599" y="142"/>
                </a:lnTo>
                <a:lnTo>
                  <a:pt x="599" y="152"/>
                </a:lnTo>
                <a:lnTo>
                  <a:pt x="596" y="161"/>
                </a:lnTo>
                <a:lnTo>
                  <a:pt x="592" y="171"/>
                </a:lnTo>
                <a:lnTo>
                  <a:pt x="588" y="179"/>
                </a:lnTo>
                <a:lnTo>
                  <a:pt x="582" y="186"/>
                </a:lnTo>
                <a:lnTo>
                  <a:pt x="574" y="194"/>
                </a:lnTo>
                <a:lnTo>
                  <a:pt x="567" y="200"/>
                </a:lnTo>
                <a:lnTo>
                  <a:pt x="563" y="200"/>
                </a:lnTo>
                <a:lnTo>
                  <a:pt x="561" y="204"/>
                </a:lnTo>
                <a:lnTo>
                  <a:pt x="559" y="206"/>
                </a:lnTo>
                <a:lnTo>
                  <a:pt x="557" y="211"/>
                </a:lnTo>
                <a:lnTo>
                  <a:pt x="555" y="215"/>
                </a:lnTo>
                <a:lnTo>
                  <a:pt x="553" y="221"/>
                </a:lnTo>
                <a:lnTo>
                  <a:pt x="551" y="229"/>
                </a:lnTo>
                <a:lnTo>
                  <a:pt x="549" y="236"/>
                </a:lnTo>
                <a:lnTo>
                  <a:pt x="549" y="244"/>
                </a:lnTo>
                <a:lnTo>
                  <a:pt x="548" y="254"/>
                </a:lnTo>
                <a:lnTo>
                  <a:pt x="546" y="263"/>
                </a:lnTo>
                <a:lnTo>
                  <a:pt x="544" y="275"/>
                </a:lnTo>
                <a:lnTo>
                  <a:pt x="544" y="286"/>
                </a:lnTo>
                <a:lnTo>
                  <a:pt x="542" y="298"/>
                </a:lnTo>
                <a:lnTo>
                  <a:pt x="540" y="311"/>
                </a:lnTo>
                <a:lnTo>
                  <a:pt x="540" y="325"/>
                </a:lnTo>
                <a:lnTo>
                  <a:pt x="538" y="340"/>
                </a:lnTo>
                <a:lnTo>
                  <a:pt x="538" y="355"/>
                </a:lnTo>
                <a:lnTo>
                  <a:pt x="536" y="371"/>
                </a:lnTo>
                <a:lnTo>
                  <a:pt x="536" y="388"/>
                </a:lnTo>
                <a:lnTo>
                  <a:pt x="534" y="405"/>
                </a:lnTo>
                <a:lnTo>
                  <a:pt x="534" y="424"/>
                </a:lnTo>
                <a:lnTo>
                  <a:pt x="532" y="444"/>
                </a:lnTo>
                <a:lnTo>
                  <a:pt x="532" y="463"/>
                </a:lnTo>
                <a:lnTo>
                  <a:pt x="532" y="484"/>
                </a:lnTo>
                <a:lnTo>
                  <a:pt x="532" y="505"/>
                </a:lnTo>
                <a:lnTo>
                  <a:pt x="530" y="528"/>
                </a:lnTo>
                <a:lnTo>
                  <a:pt x="530" y="551"/>
                </a:lnTo>
                <a:lnTo>
                  <a:pt x="530" y="574"/>
                </a:lnTo>
                <a:lnTo>
                  <a:pt x="530" y="599"/>
                </a:lnTo>
                <a:lnTo>
                  <a:pt x="530" y="624"/>
                </a:lnTo>
                <a:lnTo>
                  <a:pt x="530" y="649"/>
                </a:lnTo>
                <a:lnTo>
                  <a:pt x="526" y="760"/>
                </a:lnTo>
                <a:lnTo>
                  <a:pt x="524" y="872"/>
                </a:lnTo>
                <a:lnTo>
                  <a:pt x="521" y="983"/>
                </a:lnTo>
                <a:lnTo>
                  <a:pt x="521" y="1096"/>
                </a:lnTo>
                <a:lnTo>
                  <a:pt x="519" y="1211"/>
                </a:lnTo>
                <a:lnTo>
                  <a:pt x="519" y="1328"/>
                </a:lnTo>
                <a:lnTo>
                  <a:pt x="519" y="1445"/>
                </a:lnTo>
                <a:lnTo>
                  <a:pt x="519" y="1565"/>
                </a:lnTo>
                <a:lnTo>
                  <a:pt x="519" y="1595"/>
                </a:lnTo>
                <a:lnTo>
                  <a:pt x="519" y="1624"/>
                </a:lnTo>
                <a:lnTo>
                  <a:pt x="519" y="1653"/>
                </a:lnTo>
                <a:lnTo>
                  <a:pt x="517" y="1682"/>
                </a:lnTo>
                <a:lnTo>
                  <a:pt x="517" y="1710"/>
                </a:lnTo>
                <a:lnTo>
                  <a:pt x="517" y="1737"/>
                </a:lnTo>
                <a:lnTo>
                  <a:pt x="517" y="1762"/>
                </a:lnTo>
                <a:lnTo>
                  <a:pt x="517" y="1787"/>
                </a:lnTo>
                <a:lnTo>
                  <a:pt x="515" y="1812"/>
                </a:lnTo>
                <a:lnTo>
                  <a:pt x="515" y="1837"/>
                </a:lnTo>
                <a:lnTo>
                  <a:pt x="515" y="1860"/>
                </a:lnTo>
                <a:lnTo>
                  <a:pt x="513" y="1881"/>
                </a:lnTo>
                <a:lnTo>
                  <a:pt x="513" y="1904"/>
                </a:lnTo>
                <a:lnTo>
                  <a:pt x="513" y="1925"/>
                </a:lnTo>
                <a:lnTo>
                  <a:pt x="511" y="1945"/>
                </a:lnTo>
                <a:lnTo>
                  <a:pt x="511" y="1966"/>
                </a:lnTo>
                <a:lnTo>
                  <a:pt x="509" y="1983"/>
                </a:lnTo>
                <a:lnTo>
                  <a:pt x="509" y="2002"/>
                </a:lnTo>
                <a:lnTo>
                  <a:pt x="509" y="2019"/>
                </a:lnTo>
                <a:lnTo>
                  <a:pt x="507" y="2037"/>
                </a:lnTo>
                <a:lnTo>
                  <a:pt x="507" y="2052"/>
                </a:lnTo>
                <a:lnTo>
                  <a:pt x="505" y="2067"/>
                </a:lnTo>
                <a:lnTo>
                  <a:pt x="503" y="2083"/>
                </a:lnTo>
                <a:lnTo>
                  <a:pt x="503" y="2096"/>
                </a:lnTo>
                <a:lnTo>
                  <a:pt x="501" y="2110"/>
                </a:lnTo>
                <a:lnTo>
                  <a:pt x="501" y="2123"/>
                </a:lnTo>
                <a:lnTo>
                  <a:pt x="500" y="2135"/>
                </a:lnTo>
                <a:lnTo>
                  <a:pt x="500" y="2146"/>
                </a:lnTo>
                <a:lnTo>
                  <a:pt x="498" y="2158"/>
                </a:lnTo>
                <a:lnTo>
                  <a:pt x="498" y="2169"/>
                </a:lnTo>
                <a:lnTo>
                  <a:pt x="496" y="2179"/>
                </a:lnTo>
                <a:lnTo>
                  <a:pt x="496" y="2186"/>
                </a:lnTo>
                <a:lnTo>
                  <a:pt x="486" y="2221"/>
                </a:lnTo>
                <a:lnTo>
                  <a:pt x="476" y="2254"/>
                </a:lnTo>
                <a:lnTo>
                  <a:pt x="473" y="2269"/>
                </a:lnTo>
                <a:lnTo>
                  <a:pt x="467" y="2284"/>
                </a:lnTo>
                <a:lnTo>
                  <a:pt x="463" y="2298"/>
                </a:lnTo>
                <a:lnTo>
                  <a:pt x="457" y="2313"/>
                </a:lnTo>
                <a:lnTo>
                  <a:pt x="453" y="2327"/>
                </a:lnTo>
                <a:lnTo>
                  <a:pt x="448" y="2338"/>
                </a:lnTo>
                <a:lnTo>
                  <a:pt x="442" y="2351"/>
                </a:lnTo>
                <a:lnTo>
                  <a:pt x="436" y="2361"/>
                </a:lnTo>
                <a:lnTo>
                  <a:pt x="430" y="2373"/>
                </a:lnTo>
                <a:lnTo>
                  <a:pt x="425" y="2382"/>
                </a:lnTo>
                <a:lnTo>
                  <a:pt x="419" y="2392"/>
                </a:lnTo>
                <a:lnTo>
                  <a:pt x="413" y="2399"/>
                </a:lnTo>
                <a:lnTo>
                  <a:pt x="400" y="2413"/>
                </a:lnTo>
                <a:lnTo>
                  <a:pt x="388" y="2426"/>
                </a:lnTo>
                <a:lnTo>
                  <a:pt x="377" y="2438"/>
                </a:lnTo>
                <a:lnTo>
                  <a:pt x="367" y="2447"/>
                </a:lnTo>
                <a:lnTo>
                  <a:pt x="361" y="2451"/>
                </a:lnTo>
                <a:lnTo>
                  <a:pt x="357" y="2455"/>
                </a:lnTo>
                <a:lnTo>
                  <a:pt x="352" y="2457"/>
                </a:lnTo>
                <a:lnTo>
                  <a:pt x="348" y="2461"/>
                </a:lnTo>
                <a:lnTo>
                  <a:pt x="342" y="2463"/>
                </a:lnTo>
                <a:lnTo>
                  <a:pt x="338" y="2465"/>
                </a:lnTo>
                <a:lnTo>
                  <a:pt x="334" y="2465"/>
                </a:lnTo>
                <a:lnTo>
                  <a:pt x="331" y="2465"/>
                </a:lnTo>
                <a:lnTo>
                  <a:pt x="325" y="2465"/>
                </a:lnTo>
                <a:lnTo>
                  <a:pt x="321" y="2465"/>
                </a:lnTo>
                <a:lnTo>
                  <a:pt x="317" y="2463"/>
                </a:lnTo>
                <a:lnTo>
                  <a:pt x="313" y="2461"/>
                </a:lnTo>
                <a:lnTo>
                  <a:pt x="311" y="2457"/>
                </a:lnTo>
                <a:lnTo>
                  <a:pt x="308" y="2453"/>
                </a:lnTo>
                <a:lnTo>
                  <a:pt x="306" y="2449"/>
                </a:lnTo>
                <a:lnTo>
                  <a:pt x="304" y="2444"/>
                </a:lnTo>
                <a:lnTo>
                  <a:pt x="302" y="2438"/>
                </a:lnTo>
                <a:lnTo>
                  <a:pt x="300" y="2430"/>
                </a:lnTo>
                <a:lnTo>
                  <a:pt x="298" y="2423"/>
                </a:lnTo>
                <a:lnTo>
                  <a:pt x="296" y="2415"/>
                </a:lnTo>
                <a:lnTo>
                  <a:pt x="296" y="2405"/>
                </a:lnTo>
                <a:lnTo>
                  <a:pt x="294" y="2396"/>
                </a:lnTo>
                <a:lnTo>
                  <a:pt x="294" y="2384"/>
                </a:lnTo>
                <a:lnTo>
                  <a:pt x="294" y="23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201"/>
          <p:cNvSpPr/>
          <p:nvPr/>
        </p:nvSpPr>
        <p:spPr>
          <a:xfrm>
            <a:off x="5830920" y="3603600"/>
            <a:ext cx="252360" cy="115920"/>
          </a:xfrm>
          <a:custGeom>
            <a:avLst/>
            <a:gdLst/>
            <a:ahLst/>
            <a:rect l="l" t="t" r="r" b="b"/>
            <a:pathLst>
              <a:path w="319" h="146">
                <a:moveTo>
                  <a:pt x="106" y="27"/>
                </a:moveTo>
                <a:lnTo>
                  <a:pt x="118" y="21"/>
                </a:lnTo>
                <a:lnTo>
                  <a:pt x="131" y="17"/>
                </a:lnTo>
                <a:lnTo>
                  <a:pt x="141" y="11"/>
                </a:lnTo>
                <a:lnTo>
                  <a:pt x="152" y="7"/>
                </a:lnTo>
                <a:lnTo>
                  <a:pt x="162" y="5"/>
                </a:lnTo>
                <a:lnTo>
                  <a:pt x="169" y="2"/>
                </a:lnTo>
                <a:lnTo>
                  <a:pt x="179" y="0"/>
                </a:lnTo>
                <a:lnTo>
                  <a:pt x="189" y="0"/>
                </a:lnTo>
                <a:lnTo>
                  <a:pt x="206" y="0"/>
                </a:lnTo>
                <a:lnTo>
                  <a:pt x="215" y="0"/>
                </a:lnTo>
                <a:lnTo>
                  <a:pt x="225" y="2"/>
                </a:lnTo>
                <a:lnTo>
                  <a:pt x="235" y="4"/>
                </a:lnTo>
                <a:lnTo>
                  <a:pt x="246" y="5"/>
                </a:lnTo>
                <a:lnTo>
                  <a:pt x="258" y="7"/>
                </a:lnTo>
                <a:lnTo>
                  <a:pt x="271" y="13"/>
                </a:lnTo>
                <a:lnTo>
                  <a:pt x="277" y="15"/>
                </a:lnTo>
                <a:lnTo>
                  <a:pt x="283" y="17"/>
                </a:lnTo>
                <a:lnTo>
                  <a:pt x="288" y="21"/>
                </a:lnTo>
                <a:lnTo>
                  <a:pt x="292" y="23"/>
                </a:lnTo>
                <a:lnTo>
                  <a:pt x="298" y="25"/>
                </a:lnTo>
                <a:lnTo>
                  <a:pt x="302" y="28"/>
                </a:lnTo>
                <a:lnTo>
                  <a:pt x="308" y="32"/>
                </a:lnTo>
                <a:lnTo>
                  <a:pt x="313" y="38"/>
                </a:lnTo>
                <a:lnTo>
                  <a:pt x="315" y="42"/>
                </a:lnTo>
                <a:lnTo>
                  <a:pt x="317" y="48"/>
                </a:lnTo>
                <a:lnTo>
                  <a:pt x="319" y="53"/>
                </a:lnTo>
                <a:lnTo>
                  <a:pt x="317" y="57"/>
                </a:lnTo>
                <a:lnTo>
                  <a:pt x="315" y="63"/>
                </a:lnTo>
                <a:lnTo>
                  <a:pt x="313" y="69"/>
                </a:lnTo>
                <a:lnTo>
                  <a:pt x="308" y="75"/>
                </a:lnTo>
                <a:lnTo>
                  <a:pt x="302" y="80"/>
                </a:lnTo>
                <a:lnTo>
                  <a:pt x="292" y="88"/>
                </a:lnTo>
                <a:lnTo>
                  <a:pt x="288" y="92"/>
                </a:lnTo>
                <a:lnTo>
                  <a:pt x="283" y="96"/>
                </a:lnTo>
                <a:lnTo>
                  <a:pt x="277" y="101"/>
                </a:lnTo>
                <a:lnTo>
                  <a:pt x="271" y="105"/>
                </a:lnTo>
                <a:lnTo>
                  <a:pt x="263" y="111"/>
                </a:lnTo>
                <a:lnTo>
                  <a:pt x="256" y="115"/>
                </a:lnTo>
                <a:lnTo>
                  <a:pt x="246" y="119"/>
                </a:lnTo>
                <a:lnTo>
                  <a:pt x="235" y="123"/>
                </a:lnTo>
                <a:lnTo>
                  <a:pt x="223" y="126"/>
                </a:lnTo>
                <a:lnTo>
                  <a:pt x="210" y="130"/>
                </a:lnTo>
                <a:lnTo>
                  <a:pt x="194" y="132"/>
                </a:lnTo>
                <a:lnTo>
                  <a:pt x="179" y="136"/>
                </a:lnTo>
                <a:lnTo>
                  <a:pt x="162" y="138"/>
                </a:lnTo>
                <a:lnTo>
                  <a:pt x="143" y="140"/>
                </a:lnTo>
                <a:lnTo>
                  <a:pt x="123" y="142"/>
                </a:lnTo>
                <a:lnTo>
                  <a:pt x="102" y="142"/>
                </a:lnTo>
                <a:lnTo>
                  <a:pt x="79" y="144"/>
                </a:lnTo>
                <a:lnTo>
                  <a:pt x="54" y="144"/>
                </a:lnTo>
                <a:lnTo>
                  <a:pt x="27" y="146"/>
                </a:lnTo>
                <a:lnTo>
                  <a:pt x="0" y="146"/>
                </a:lnTo>
                <a:lnTo>
                  <a:pt x="0" y="92"/>
                </a:lnTo>
                <a:lnTo>
                  <a:pt x="0" y="40"/>
                </a:lnTo>
                <a:lnTo>
                  <a:pt x="25" y="38"/>
                </a:lnTo>
                <a:lnTo>
                  <a:pt x="39" y="38"/>
                </a:lnTo>
                <a:lnTo>
                  <a:pt x="52" y="38"/>
                </a:lnTo>
                <a:lnTo>
                  <a:pt x="66" y="36"/>
                </a:lnTo>
                <a:lnTo>
                  <a:pt x="79" y="34"/>
                </a:lnTo>
                <a:lnTo>
                  <a:pt x="93" y="30"/>
                </a:lnTo>
                <a:lnTo>
                  <a:pt x="106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202"/>
          <p:cNvSpPr/>
          <p:nvPr/>
        </p:nvSpPr>
        <p:spPr>
          <a:xfrm>
            <a:off x="5810400" y="4024440"/>
            <a:ext cx="272880" cy="115920"/>
          </a:xfrm>
          <a:custGeom>
            <a:avLst/>
            <a:gdLst/>
            <a:ahLst/>
            <a:rect l="l" t="t" r="r" b="b"/>
            <a:pathLst>
              <a:path w="343" h="146">
                <a:moveTo>
                  <a:pt x="176" y="27"/>
                </a:moveTo>
                <a:lnTo>
                  <a:pt x="184" y="23"/>
                </a:lnTo>
                <a:lnTo>
                  <a:pt x="190" y="22"/>
                </a:lnTo>
                <a:lnTo>
                  <a:pt x="193" y="20"/>
                </a:lnTo>
                <a:lnTo>
                  <a:pt x="199" y="18"/>
                </a:lnTo>
                <a:lnTo>
                  <a:pt x="209" y="12"/>
                </a:lnTo>
                <a:lnTo>
                  <a:pt x="214" y="8"/>
                </a:lnTo>
                <a:lnTo>
                  <a:pt x="222" y="6"/>
                </a:lnTo>
                <a:lnTo>
                  <a:pt x="226" y="2"/>
                </a:lnTo>
                <a:lnTo>
                  <a:pt x="232" y="0"/>
                </a:lnTo>
                <a:lnTo>
                  <a:pt x="236" y="0"/>
                </a:lnTo>
                <a:lnTo>
                  <a:pt x="239" y="0"/>
                </a:lnTo>
                <a:lnTo>
                  <a:pt x="245" y="0"/>
                </a:lnTo>
                <a:lnTo>
                  <a:pt x="251" y="0"/>
                </a:lnTo>
                <a:lnTo>
                  <a:pt x="257" y="2"/>
                </a:lnTo>
                <a:lnTo>
                  <a:pt x="264" y="4"/>
                </a:lnTo>
                <a:lnTo>
                  <a:pt x="272" y="6"/>
                </a:lnTo>
                <a:lnTo>
                  <a:pt x="282" y="10"/>
                </a:lnTo>
                <a:lnTo>
                  <a:pt x="287" y="12"/>
                </a:lnTo>
                <a:lnTo>
                  <a:pt x="295" y="14"/>
                </a:lnTo>
                <a:lnTo>
                  <a:pt x="301" y="16"/>
                </a:lnTo>
                <a:lnTo>
                  <a:pt x="307" y="20"/>
                </a:lnTo>
                <a:lnTo>
                  <a:pt x="312" y="22"/>
                </a:lnTo>
                <a:lnTo>
                  <a:pt x="316" y="23"/>
                </a:lnTo>
                <a:lnTo>
                  <a:pt x="322" y="27"/>
                </a:lnTo>
                <a:lnTo>
                  <a:pt x="326" y="29"/>
                </a:lnTo>
                <a:lnTo>
                  <a:pt x="332" y="33"/>
                </a:lnTo>
                <a:lnTo>
                  <a:pt x="337" y="39"/>
                </a:lnTo>
                <a:lnTo>
                  <a:pt x="339" y="45"/>
                </a:lnTo>
                <a:lnTo>
                  <a:pt x="341" y="48"/>
                </a:lnTo>
                <a:lnTo>
                  <a:pt x="343" y="54"/>
                </a:lnTo>
                <a:lnTo>
                  <a:pt x="341" y="58"/>
                </a:lnTo>
                <a:lnTo>
                  <a:pt x="339" y="64"/>
                </a:lnTo>
                <a:lnTo>
                  <a:pt x="337" y="70"/>
                </a:lnTo>
                <a:lnTo>
                  <a:pt x="332" y="75"/>
                </a:lnTo>
                <a:lnTo>
                  <a:pt x="326" y="81"/>
                </a:lnTo>
                <a:lnTo>
                  <a:pt x="316" y="89"/>
                </a:lnTo>
                <a:lnTo>
                  <a:pt x="312" y="93"/>
                </a:lnTo>
                <a:lnTo>
                  <a:pt x="307" y="96"/>
                </a:lnTo>
                <a:lnTo>
                  <a:pt x="301" y="102"/>
                </a:lnTo>
                <a:lnTo>
                  <a:pt x="295" y="106"/>
                </a:lnTo>
                <a:lnTo>
                  <a:pt x="287" y="112"/>
                </a:lnTo>
                <a:lnTo>
                  <a:pt x="278" y="116"/>
                </a:lnTo>
                <a:lnTo>
                  <a:pt x="268" y="119"/>
                </a:lnTo>
                <a:lnTo>
                  <a:pt x="257" y="123"/>
                </a:lnTo>
                <a:lnTo>
                  <a:pt x="243" y="127"/>
                </a:lnTo>
                <a:lnTo>
                  <a:pt x="230" y="131"/>
                </a:lnTo>
                <a:lnTo>
                  <a:pt x="214" y="135"/>
                </a:lnTo>
                <a:lnTo>
                  <a:pt x="195" y="137"/>
                </a:lnTo>
                <a:lnTo>
                  <a:pt x="178" y="139"/>
                </a:lnTo>
                <a:lnTo>
                  <a:pt x="157" y="141"/>
                </a:lnTo>
                <a:lnTo>
                  <a:pt x="134" y="142"/>
                </a:lnTo>
                <a:lnTo>
                  <a:pt x="111" y="144"/>
                </a:lnTo>
                <a:lnTo>
                  <a:pt x="86" y="144"/>
                </a:lnTo>
                <a:lnTo>
                  <a:pt x="59" y="146"/>
                </a:lnTo>
                <a:lnTo>
                  <a:pt x="30" y="146"/>
                </a:lnTo>
                <a:lnTo>
                  <a:pt x="0" y="146"/>
                </a:lnTo>
                <a:lnTo>
                  <a:pt x="0" y="93"/>
                </a:lnTo>
                <a:lnTo>
                  <a:pt x="0" y="41"/>
                </a:lnTo>
                <a:lnTo>
                  <a:pt x="15" y="41"/>
                </a:lnTo>
                <a:lnTo>
                  <a:pt x="30" y="41"/>
                </a:lnTo>
                <a:lnTo>
                  <a:pt x="44" y="41"/>
                </a:lnTo>
                <a:lnTo>
                  <a:pt x="57" y="41"/>
                </a:lnTo>
                <a:lnTo>
                  <a:pt x="71" y="41"/>
                </a:lnTo>
                <a:lnTo>
                  <a:pt x="82" y="39"/>
                </a:lnTo>
                <a:lnTo>
                  <a:pt x="95" y="39"/>
                </a:lnTo>
                <a:lnTo>
                  <a:pt x="107" y="39"/>
                </a:lnTo>
                <a:lnTo>
                  <a:pt x="117" y="39"/>
                </a:lnTo>
                <a:lnTo>
                  <a:pt x="126" y="37"/>
                </a:lnTo>
                <a:lnTo>
                  <a:pt x="138" y="37"/>
                </a:lnTo>
                <a:lnTo>
                  <a:pt x="145" y="35"/>
                </a:lnTo>
                <a:lnTo>
                  <a:pt x="155" y="33"/>
                </a:lnTo>
                <a:lnTo>
                  <a:pt x="163" y="31"/>
                </a:lnTo>
                <a:lnTo>
                  <a:pt x="170" y="29"/>
                </a:lnTo>
                <a:lnTo>
                  <a:pt x="176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203"/>
          <p:cNvSpPr/>
          <p:nvPr/>
        </p:nvSpPr>
        <p:spPr>
          <a:xfrm>
            <a:off x="5452920" y="3089160"/>
            <a:ext cx="424080" cy="1908360"/>
          </a:xfrm>
          <a:custGeom>
            <a:avLst/>
            <a:gdLst/>
            <a:ahLst/>
            <a:rect l="l" t="t" r="r" b="b"/>
            <a:pathLst>
              <a:path w="534" h="2403">
                <a:moveTo>
                  <a:pt x="98" y="2186"/>
                </a:moveTo>
                <a:lnTo>
                  <a:pt x="114" y="2161"/>
                </a:lnTo>
                <a:lnTo>
                  <a:pt x="127" y="2134"/>
                </a:lnTo>
                <a:lnTo>
                  <a:pt x="142" y="2107"/>
                </a:lnTo>
                <a:lnTo>
                  <a:pt x="156" y="2081"/>
                </a:lnTo>
                <a:lnTo>
                  <a:pt x="169" y="2054"/>
                </a:lnTo>
                <a:lnTo>
                  <a:pt x="183" y="2025"/>
                </a:lnTo>
                <a:lnTo>
                  <a:pt x="194" y="1996"/>
                </a:lnTo>
                <a:lnTo>
                  <a:pt x="208" y="1967"/>
                </a:lnTo>
                <a:lnTo>
                  <a:pt x="219" y="1937"/>
                </a:lnTo>
                <a:lnTo>
                  <a:pt x="231" y="1906"/>
                </a:lnTo>
                <a:lnTo>
                  <a:pt x="242" y="1875"/>
                </a:lnTo>
                <a:lnTo>
                  <a:pt x="254" y="1843"/>
                </a:lnTo>
                <a:lnTo>
                  <a:pt x="265" y="1810"/>
                </a:lnTo>
                <a:lnTo>
                  <a:pt x="277" y="1777"/>
                </a:lnTo>
                <a:lnTo>
                  <a:pt x="288" y="1743"/>
                </a:lnTo>
                <a:lnTo>
                  <a:pt x="298" y="1708"/>
                </a:lnTo>
                <a:lnTo>
                  <a:pt x="308" y="1674"/>
                </a:lnTo>
                <a:lnTo>
                  <a:pt x="315" y="1637"/>
                </a:lnTo>
                <a:lnTo>
                  <a:pt x="323" y="1601"/>
                </a:lnTo>
                <a:lnTo>
                  <a:pt x="331" y="1564"/>
                </a:lnTo>
                <a:lnTo>
                  <a:pt x="338" y="1526"/>
                </a:lnTo>
                <a:lnTo>
                  <a:pt x="346" y="1487"/>
                </a:lnTo>
                <a:lnTo>
                  <a:pt x="352" y="1449"/>
                </a:lnTo>
                <a:lnTo>
                  <a:pt x="359" y="1409"/>
                </a:lnTo>
                <a:lnTo>
                  <a:pt x="365" y="1368"/>
                </a:lnTo>
                <a:lnTo>
                  <a:pt x="371" y="1326"/>
                </a:lnTo>
                <a:lnTo>
                  <a:pt x="375" y="1284"/>
                </a:lnTo>
                <a:lnTo>
                  <a:pt x="380" y="1242"/>
                </a:lnTo>
                <a:lnTo>
                  <a:pt x="384" y="1198"/>
                </a:lnTo>
                <a:lnTo>
                  <a:pt x="388" y="1152"/>
                </a:lnTo>
                <a:lnTo>
                  <a:pt x="390" y="1105"/>
                </a:lnTo>
                <a:lnTo>
                  <a:pt x="394" y="1059"/>
                </a:lnTo>
                <a:lnTo>
                  <a:pt x="396" y="1013"/>
                </a:lnTo>
                <a:lnTo>
                  <a:pt x="398" y="967"/>
                </a:lnTo>
                <a:lnTo>
                  <a:pt x="400" y="923"/>
                </a:lnTo>
                <a:lnTo>
                  <a:pt x="402" y="881"/>
                </a:lnTo>
                <a:lnTo>
                  <a:pt x="404" y="839"/>
                </a:lnTo>
                <a:lnTo>
                  <a:pt x="405" y="796"/>
                </a:lnTo>
                <a:lnTo>
                  <a:pt x="407" y="758"/>
                </a:lnTo>
                <a:lnTo>
                  <a:pt x="409" y="718"/>
                </a:lnTo>
                <a:lnTo>
                  <a:pt x="411" y="679"/>
                </a:lnTo>
                <a:lnTo>
                  <a:pt x="411" y="643"/>
                </a:lnTo>
                <a:lnTo>
                  <a:pt x="413" y="606"/>
                </a:lnTo>
                <a:lnTo>
                  <a:pt x="415" y="572"/>
                </a:lnTo>
                <a:lnTo>
                  <a:pt x="415" y="537"/>
                </a:lnTo>
                <a:lnTo>
                  <a:pt x="415" y="503"/>
                </a:lnTo>
                <a:lnTo>
                  <a:pt x="417" y="470"/>
                </a:lnTo>
                <a:lnTo>
                  <a:pt x="417" y="438"/>
                </a:lnTo>
                <a:lnTo>
                  <a:pt x="415" y="405"/>
                </a:lnTo>
                <a:lnTo>
                  <a:pt x="411" y="374"/>
                </a:lnTo>
                <a:lnTo>
                  <a:pt x="409" y="347"/>
                </a:lnTo>
                <a:lnTo>
                  <a:pt x="407" y="319"/>
                </a:lnTo>
                <a:lnTo>
                  <a:pt x="405" y="294"/>
                </a:lnTo>
                <a:lnTo>
                  <a:pt x="404" y="269"/>
                </a:lnTo>
                <a:lnTo>
                  <a:pt x="402" y="246"/>
                </a:lnTo>
                <a:lnTo>
                  <a:pt x="400" y="224"/>
                </a:lnTo>
                <a:lnTo>
                  <a:pt x="396" y="203"/>
                </a:lnTo>
                <a:lnTo>
                  <a:pt x="394" y="184"/>
                </a:lnTo>
                <a:lnTo>
                  <a:pt x="392" y="167"/>
                </a:lnTo>
                <a:lnTo>
                  <a:pt x="390" y="150"/>
                </a:lnTo>
                <a:lnTo>
                  <a:pt x="388" y="134"/>
                </a:lnTo>
                <a:lnTo>
                  <a:pt x="386" y="119"/>
                </a:lnTo>
                <a:lnTo>
                  <a:pt x="382" y="105"/>
                </a:lnTo>
                <a:lnTo>
                  <a:pt x="380" y="92"/>
                </a:lnTo>
                <a:lnTo>
                  <a:pt x="377" y="82"/>
                </a:lnTo>
                <a:lnTo>
                  <a:pt x="373" y="73"/>
                </a:lnTo>
                <a:lnTo>
                  <a:pt x="371" y="65"/>
                </a:lnTo>
                <a:lnTo>
                  <a:pt x="367" y="57"/>
                </a:lnTo>
                <a:lnTo>
                  <a:pt x="365" y="50"/>
                </a:lnTo>
                <a:lnTo>
                  <a:pt x="365" y="42"/>
                </a:lnTo>
                <a:lnTo>
                  <a:pt x="363" y="36"/>
                </a:lnTo>
                <a:lnTo>
                  <a:pt x="363" y="31"/>
                </a:lnTo>
                <a:lnTo>
                  <a:pt x="363" y="25"/>
                </a:lnTo>
                <a:lnTo>
                  <a:pt x="365" y="21"/>
                </a:lnTo>
                <a:lnTo>
                  <a:pt x="365" y="15"/>
                </a:lnTo>
                <a:lnTo>
                  <a:pt x="367" y="11"/>
                </a:lnTo>
                <a:lnTo>
                  <a:pt x="371" y="8"/>
                </a:lnTo>
                <a:lnTo>
                  <a:pt x="373" y="4"/>
                </a:lnTo>
                <a:lnTo>
                  <a:pt x="377" y="2"/>
                </a:lnTo>
                <a:lnTo>
                  <a:pt x="380" y="0"/>
                </a:lnTo>
                <a:lnTo>
                  <a:pt x="386" y="0"/>
                </a:lnTo>
                <a:lnTo>
                  <a:pt x="392" y="0"/>
                </a:lnTo>
                <a:lnTo>
                  <a:pt x="398" y="0"/>
                </a:lnTo>
                <a:lnTo>
                  <a:pt x="404" y="2"/>
                </a:lnTo>
                <a:lnTo>
                  <a:pt x="411" y="4"/>
                </a:lnTo>
                <a:lnTo>
                  <a:pt x="419" y="6"/>
                </a:lnTo>
                <a:lnTo>
                  <a:pt x="427" y="8"/>
                </a:lnTo>
                <a:lnTo>
                  <a:pt x="436" y="9"/>
                </a:lnTo>
                <a:lnTo>
                  <a:pt x="446" y="13"/>
                </a:lnTo>
                <a:lnTo>
                  <a:pt x="455" y="17"/>
                </a:lnTo>
                <a:lnTo>
                  <a:pt x="467" y="21"/>
                </a:lnTo>
                <a:lnTo>
                  <a:pt x="478" y="27"/>
                </a:lnTo>
                <a:lnTo>
                  <a:pt x="492" y="33"/>
                </a:lnTo>
                <a:lnTo>
                  <a:pt x="505" y="38"/>
                </a:lnTo>
                <a:lnTo>
                  <a:pt x="519" y="44"/>
                </a:lnTo>
                <a:lnTo>
                  <a:pt x="534" y="52"/>
                </a:lnTo>
                <a:lnTo>
                  <a:pt x="534" y="105"/>
                </a:lnTo>
                <a:lnTo>
                  <a:pt x="534" y="159"/>
                </a:lnTo>
                <a:lnTo>
                  <a:pt x="534" y="211"/>
                </a:lnTo>
                <a:lnTo>
                  <a:pt x="534" y="261"/>
                </a:lnTo>
                <a:lnTo>
                  <a:pt x="534" y="311"/>
                </a:lnTo>
                <a:lnTo>
                  <a:pt x="534" y="359"/>
                </a:lnTo>
                <a:lnTo>
                  <a:pt x="532" y="407"/>
                </a:lnTo>
                <a:lnTo>
                  <a:pt x="532" y="453"/>
                </a:lnTo>
                <a:lnTo>
                  <a:pt x="532" y="497"/>
                </a:lnTo>
                <a:lnTo>
                  <a:pt x="532" y="541"/>
                </a:lnTo>
                <a:lnTo>
                  <a:pt x="530" y="583"/>
                </a:lnTo>
                <a:lnTo>
                  <a:pt x="530" y="624"/>
                </a:lnTo>
                <a:lnTo>
                  <a:pt x="530" y="664"/>
                </a:lnTo>
                <a:lnTo>
                  <a:pt x="528" y="702"/>
                </a:lnTo>
                <a:lnTo>
                  <a:pt x="528" y="741"/>
                </a:lnTo>
                <a:lnTo>
                  <a:pt x="526" y="777"/>
                </a:lnTo>
                <a:lnTo>
                  <a:pt x="526" y="814"/>
                </a:lnTo>
                <a:lnTo>
                  <a:pt x="524" y="848"/>
                </a:lnTo>
                <a:lnTo>
                  <a:pt x="524" y="881"/>
                </a:lnTo>
                <a:lnTo>
                  <a:pt x="524" y="912"/>
                </a:lnTo>
                <a:lnTo>
                  <a:pt x="523" y="942"/>
                </a:lnTo>
                <a:lnTo>
                  <a:pt x="523" y="973"/>
                </a:lnTo>
                <a:lnTo>
                  <a:pt x="521" y="1002"/>
                </a:lnTo>
                <a:lnTo>
                  <a:pt x="519" y="1029"/>
                </a:lnTo>
                <a:lnTo>
                  <a:pt x="519" y="1056"/>
                </a:lnTo>
                <a:lnTo>
                  <a:pt x="517" y="1081"/>
                </a:lnTo>
                <a:lnTo>
                  <a:pt x="517" y="1104"/>
                </a:lnTo>
                <a:lnTo>
                  <a:pt x="515" y="1127"/>
                </a:lnTo>
                <a:lnTo>
                  <a:pt x="515" y="1148"/>
                </a:lnTo>
                <a:lnTo>
                  <a:pt x="513" y="1167"/>
                </a:lnTo>
                <a:lnTo>
                  <a:pt x="513" y="1186"/>
                </a:lnTo>
                <a:lnTo>
                  <a:pt x="511" y="1205"/>
                </a:lnTo>
                <a:lnTo>
                  <a:pt x="509" y="1242"/>
                </a:lnTo>
                <a:lnTo>
                  <a:pt x="505" y="1278"/>
                </a:lnTo>
                <a:lnTo>
                  <a:pt x="501" y="1315"/>
                </a:lnTo>
                <a:lnTo>
                  <a:pt x="498" y="1349"/>
                </a:lnTo>
                <a:lnTo>
                  <a:pt x="494" y="1384"/>
                </a:lnTo>
                <a:lnTo>
                  <a:pt x="490" y="1418"/>
                </a:lnTo>
                <a:lnTo>
                  <a:pt x="484" y="1451"/>
                </a:lnTo>
                <a:lnTo>
                  <a:pt x="478" y="1484"/>
                </a:lnTo>
                <a:lnTo>
                  <a:pt x="473" y="1516"/>
                </a:lnTo>
                <a:lnTo>
                  <a:pt x="467" y="1547"/>
                </a:lnTo>
                <a:lnTo>
                  <a:pt x="461" y="1578"/>
                </a:lnTo>
                <a:lnTo>
                  <a:pt x="453" y="1608"/>
                </a:lnTo>
                <a:lnTo>
                  <a:pt x="448" y="1637"/>
                </a:lnTo>
                <a:lnTo>
                  <a:pt x="442" y="1666"/>
                </a:lnTo>
                <a:lnTo>
                  <a:pt x="434" y="1695"/>
                </a:lnTo>
                <a:lnTo>
                  <a:pt x="428" y="1722"/>
                </a:lnTo>
                <a:lnTo>
                  <a:pt x="411" y="1775"/>
                </a:lnTo>
                <a:lnTo>
                  <a:pt x="392" y="1829"/>
                </a:lnTo>
                <a:lnTo>
                  <a:pt x="380" y="1854"/>
                </a:lnTo>
                <a:lnTo>
                  <a:pt x="371" y="1879"/>
                </a:lnTo>
                <a:lnTo>
                  <a:pt x="361" y="1904"/>
                </a:lnTo>
                <a:lnTo>
                  <a:pt x="350" y="1927"/>
                </a:lnTo>
                <a:lnTo>
                  <a:pt x="340" y="1950"/>
                </a:lnTo>
                <a:lnTo>
                  <a:pt x="329" y="1973"/>
                </a:lnTo>
                <a:lnTo>
                  <a:pt x="317" y="1996"/>
                </a:lnTo>
                <a:lnTo>
                  <a:pt x="308" y="2017"/>
                </a:lnTo>
                <a:lnTo>
                  <a:pt x="296" y="2036"/>
                </a:lnTo>
                <a:lnTo>
                  <a:pt x="285" y="2056"/>
                </a:lnTo>
                <a:lnTo>
                  <a:pt x="275" y="2075"/>
                </a:lnTo>
                <a:lnTo>
                  <a:pt x="263" y="2094"/>
                </a:lnTo>
                <a:lnTo>
                  <a:pt x="252" y="2113"/>
                </a:lnTo>
                <a:lnTo>
                  <a:pt x="242" y="2132"/>
                </a:lnTo>
                <a:lnTo>
                  <a:pt x="231" y="2150"/>
                </a:lnTo>
                <a:lnTo>
                  <a:pt x="219" y="2169"/>
                </a:lnTo>
                <a:lnTo>
                  <a:pt x="210" y="2186"/>
                </a:lnTo>
                <a:lnTo>
                  <a:pt x="198" y="2202"/>
                </a:lnTo>
                <a:lnTo>
                  <a:pt x="187" y="2219"/>
                </a:lnTo>
                <a:lnTo>
                  <a:pt x="177" y="2234"/>
                </a:lnTo>
                <a:lnTo>
                  <a:pt x="156" y="2265"/>
                </a:lnTo>
                <a:lnTo>
                  <a:pt x="135" y="2292"/>
                </a:lnTo>
                <a:lnTo>
                  <a:pt x="116" y="2319"/>
                </a:lnTo>
                <a:lnTo>
                  <a:pt x="98" y="2345"/>
                </a:lnTo>
                <a:lnTo>
                  <a:pt x="89" y="2355"/>
                </a:lnTo>
                <a:lnTo>
                  <a:pt x="77" y="2363"/>
                </a:lnTo>
                <a:lnTo>
                  <a:pt x="70" y="2370"/>
                </a:lnTo>
                <a:lnTo>
                  <a:pt x="60" y="2378"/>
                </a:lnTo>
                <a:lnTo>
                  <a:pt x="52" y="2384"/>
                </a:lnTo>
                <a:lnTo>
                  <a:pt x="47" y="2390"/>
                </a:lnTo>
                <a:lnTo>
                  <a:pt x="39" y="2393"/>
                </a:lnTo>
                <a:lnTo>
                  <a:pt x="33" y="2397"/>
                </a:lnTo>
                <a:lnTo>
                  <a:pt x="27" y="2399"/>
                </a:lnTo>
                <a:lnTo>
                  <a:pt x="23" y="2401"/>
                </a:lnTo>
                <a:lnTo>
                  <a:pt x="20" y="2403"/>
                </a:lnTo>
                <a:lnTo>
                  <a:pt x="16" y="2403"/>
                </a:lnTo>
                <a:lnTo>
                  <a:pt x="12" y="2403"/>
                </a:lnTo>
                <a:lnTo>
                  <a:pt x="8" y="2401"/>
                </a:lnTo>
                <a:lnTo>
                  <a:pt x="6" y="2399"/>
                </a:lnTo>
                <a:lnTo>
                  <a:pt x="4" y="2397"/>
                </a:lnTo>
                <a:lnTo>
                  <a:pt x="2" y="2395"/>
                </a:lnTo>
                <a:lnTo>
                  <a:pt x="0" y="2390"/>
                </a:lnTo>
                <a:lnTo>
                  <a:pt x="0" y="2384"/>
                </a:lnTo>
                <a:lnTo>
                  <a:pt x="2" y="2376"/>
                </a:lnTo>
                <a:lnTo>
                  <a:pt x="4" y="2367"/>
                </a:lnTo>
                <a:lnTo>
                  <a:pt x="8" y="2357"/>
                </a:lnTo>
                <a:lnTo>
                  <a:pt x="12" y="2345"/>
                </a:lnTo>
                <a:lnTo>
                  <a:pt x="16" y="2332"/>
                </a:lnTo>
                <a:lnTo>
                  <a:pt x="22" y="2317"/>
                </a:lnTo>
                <a:lnTo>
                  <a:pt x="29" y="2301"/>
                </a:lnTo>
                <a:lnTo>
                  <a:pt x="39" y="2286"/>
                </a:lnTo>
                <a:lnTo>
                  <a:pt x="48" y="2267"/>
                </a:lnTo>
                <a:lnTo>
                  <a:pt x="58" y="2250"/>
                </a:lnTo>
                <a:lnTo>
                  <a:pt x="70" y="2228"/>
                </a:lnTo>
                <a:lnTo>
                  <a:pt x="83" y="2207"/>
                </a:lnTo>
                <a:lnTo>
                  <a:pt x="98" y="21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8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7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部上小下大，“可”横长托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3"/>
          <p:cNvSpPr/>
          <p:nvPr/>
        </p:nvSpPr>
        <p:spPr>
          <a:xfrm>
            <a:off x="2282760" y="197964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95"/>
          <p:cNvSpPr/>
          <p:nvPr/>
        </p:nvSpPr>
        <p:spPr>
          <a:xfrm>
            <a:off x="6897600" y="3686040"/>
            <a:ext cx="430200" cy="1316160"/>
          </a:xfrm>
          <a:custGeom>
            <a:avLst/>
            <a:gdLst/>
            <a:ahLst/>
            <a:rect l="l" t="t" r="r" b="b"/>
            <a:pathLst>
              <a:path w="541" h="1657">
                <a:moveTo>
                  <a:pt x="144" y="1409"/>
                </a:moveTo>
                <a:lnTo>
                  <a:pt x="126" y="1400"/>
                </a:lnTo>
                <a:lnTo>
                  <a:pt x="111" y="1388"/>
                </a:lnTo>
                <a:lnTo>
                  <a:pt x="96" y="1379"/>
                </a:lnTo>
                <a:lnTo>
                  <a:pt x="82" y="1369"/>
                </a:lnTo>
                <a:lnTo>
                  <a:pt x="69" y="1360"/>
                </a:lnTo>
                <a:lnTo>
                  <a:pt x="57" y="1350"/>
                </a:lnTo>
                <a:lnTo>
                  <a:pt x="48" y="1342"/>
                </a:lnTo>
                <a:lnTo>
                  <a:pt x="38" y="1333"/>
                </a:lnTo>
                <a:lnTo>
                  <a:pt x="31" y="1327"/>
                </a:lnTo>
                <a:lnTo>
                  <a:pt x="23" y="1319"/>
                </a:lnTo>
                <a:lnTo>
                  <a:pt x="17" y="1313"/>
                </a:lnTo>
                <a:lnTo>
                  <a:pt x="11" y="1308"/>
                </a:lnTo>
                <a:lnTo>
                  <a:pt x="7" y="1302"/>
                </a:lnTo>
                <a:lnTo>
                  <a:pt x="6" y="1298"/>
                </a:lnTo>
                <a:lnTo>
                  <a:pt x="4" y="1294"/>
                </a:lnTo>
                <a:lnTo>
                  <a:pt x="4" y="1292"/>
                </a:lnTo>
                <a:lnTo>
                  <a:pt x="2" y="1290"/>
                </a:lnTo>
                <a:lnTo>
                  <a:pt x="0" y="1288"/>
                </a:lnTo>
                <a:lnTo>
                  <a:pt x="0" y="1287"/>
                </a:lnTo>
                <a:lnTo>
                  <a:pt x="0" y="1283"/>
                </a:lnTo>
                <a:lnTo>
                  <a:pt x="2" y="1281"/>
                </a:lnTo>
                <a:lnTo>
                  <a:pt x="4" y="1279"/>
                </a:lnTo>
                <a:lnTo>
                  <a:pt x="6" y="1277"/>
                </a:lnTo>
                <a:lnTo>
                  <a:pt x="9" y="1277"/>
                </a:lnTo>
                <a:lnTo>
                  <a:pt x="13" y="1275"/>
                </a:lnTo>
                <a:lnTo>
                  <a:pt x="17" y="1273"/>
                </a:lnTo>
                <a:lnTo>
                  <a:pt x="27" y="1271"/>
                </a:lnTo>
                <a:lnTo>
                  <a:pt x="36" y="1269"/>
                </a:lnTo>
                <a:lnTo>
                  <a:pt x="50" y="1269"/>
                </a:lnTo>
                <a:lnTo>
                  <a:pt x="57" y="1271"/>
                </a:lnTo>
                <a:lnTo>
                  <a:pt x="63" y="1273"/>
                </a:lnTo>
                <a:lnTo>
                  <a:pt x="73" y="1275"/>
                </a:lnTo>
                <a:lnTo>
                  <a:pt x="80" y="1277"/>
                </a:lnTo>
                <a:lnTo>
                  <a:pt x="90" y="1281"/>
                </a:lnTo>
                <a:lnTo>
                  <a:pt x="98" y="1283"/>
                </a:lnTo>
                <a:lnTo>
                  <a:pt x="119" y="1287"/>
                </a:lnTo>
                <a:lnTo>
                  <a:pt x="140" y="1290"/>
                </a:lnTo>
                <a:lnTo>
                  <a:pt x="163" y="1296"/>
                </a:lnTo>
                <a:lnTo>
                  <a:pt x="188" y="1300"/>
                </a:lnTo>
                <a:lnTo>
                  <a:pt x="213" y="1304"/>
                </a:lnTo>
                <a:lnTo>
                  <a:pt x="226" y="1306"/>
                </a:lnTo>
                <a:lnTo>
                  <a:pt x="238" y="1308"/>
                </a:lnTo>
                <a:lnTo>
                  <a:pt x="251" y="1310"/>
                </a:lnTo>
                <a:lnTo>
                  <a:pt x="261" y="1312"/>
                </a:lnTo>
                <a:lnTo>
                  <a:pt x="272" y="1312"/>
                </a:lnTo>
                <a:lnTo>
                  <a:pt x="282" y="1312"/>
                </a:lnTo>
                <a:lnTo>
                  <a:pt x="292" y="1312"/>
                </a:lnTo>
                <a:lnTo>
                  <a:pt x="301" y="1312"/>
                </a:lnTo>
                <a:lnTo>
                  <a:pt x="309" y="1312"/>
                </a:lnTo>
                <a:lnTo>
                  <a:pt x="318" y="1310"/>
                </a:lnTo>
                <a:lnTo>
                  <a:pt x="324" y="1308"/>
                </a:lnTo>
                <a:lnTo>
                  <a:pt x="332" y="1306"/>
                </a:lnTo>
                <a:lnTo>
                  <a:pt x="338" y="1304"/>
                </a:lnTo>
                <a:lnTo>
                  <a:pt x="343" y="1300"/>
                </a:lnTo>
                <a:lnTo>
                  <a:pt x="349" y="1296"/>
                </a:lnTo>
                <a:lnTo>
                  <a:pt x="355" y="1292"/>
                </a:lnTo>
                <a:lnTo>
                  <a:pt x="357" y="1290"/>
                </a:lnTo>
                <a:lnTo>
                  <a:pt x="359" y="1287"/>
                </a:lnTo>
                <a:lnTo>
                  <a:pt x="361" y="1283"/>
                </a:lnTo>
                <a:lnTo>
                  <a:pt x="363" y="1279"/>
                </a:lnTo>
                <a:lnTo>
                  <a:pt x="364" y="1273"/>
                </a:lnTo>
                <a:lnTo>
                  <a:pt x="366" y="1267"/>
                </a:lnTo>
                <a:lnTo>
                  <a:pt x="368" y="1260"/>
                </a:lnTo>
                <a:lnTo>
                  <a:pt x="368" y="1252"/>
                </a:lnTo>
                <a:lnTo>
                  <a:pt x="370" y="1244"/>
                </a:lnTo>
                <a:lnTo>
                  <a:pt x="372" y="1237"/>
                </a:lnTo>
                <a:lnTo>
                  <a:pt x="374" y="1227"/>
                </a:lnTo>
                <a:lnTo>
                  <a:pt x="376" y="1217"/>
                </a:lnTo>
                <a:lnTo>
                  <a:pt x="376" y="1206"/>
                </a:lnTo>
                <a:lnTo>
                  <a:pt x="378" y="1194"/>
                </a:lnTo>
                <a:lnTo>
                  <a:pt x="380" y="1183"/>
                </a:lnTo>
                <a:lnTo>
                  <a:pt x="380" y="1169"/>
                </a:lnTo>
                <a:lnTo>
                  <a:pt x="382" y="1158"/>
                </a:lnTo>
                <a:lnTo>
                  <a:pt x="382" y="1143"/>
                </a:lnTo>
                <a:lnTo>
                  <a:pt x="384" y="1129"/>
                </a:lnTo>
                <a:lnTo>
                  <a:pt x="384" y="1114"/>
                </a:lnTo>
                <a:lnTo>
                  <a:pt x="386" y="1098"/>
                </a:lnTo>
                <a:lnTo>
                  <a:pt x="386" y="1081"/>
                </a:lnTo>
                <a:lnTo>
                  <a:pt x="386" y="1064"/>
                </a:lnTo>
                <a:lnTo>
                  <a:pt x="388" y="1047"/>
                </a:lnTo>
                <a:lnTo>
                  <a:pt x="388" y="1027"/>
                </a:lnTo>
                <a:lnTo>
                  <a:pt x="388" y="1008"/>
                </a:lnTo>
                <a:lnTo>
                  <a:pt x="388" y="989"/>
                </a:lnTo>
                <a:lnTo>
                  <a:pt x="388" y="968"/>
                </a:lnTo>
                <a:lnTo>
                  <a:pt x="389" y="947"/>
                </a:lnTo>
                <a:lnTo>
                  <a:pt x="389" y="926"/>
                </a:lnTo>
                <a:lnTo>
                  <a:pt x="389" y="905"/>
                </a:lnTo>
                <a:lnTo>
                  <a:pt x="389" y="882"/>
                </a:lnTo>
                <a:lnTo>
                  <a:pt x="389" y="834"/>
                </a:lnTo>
                <a:lnTo>
                  <a:pt x="388" y="786"/>
                </a:lnTo>
                <a:lnTo>
                  <a:pt x="386" y="738"/>
                </a:lnTo>
                <a:lnTo>
                  <a:pt x="384" y="688"/>
                </a:lnTo>
                <a:lnTo>
                  <a:pt x="382" y="636"/>
                </a:lnTo>
                <a:lnTo>
                  <a:pt x="378" y="584"/>
                </a:lnTo>
                <a:lnTo>
                  <a:pt x="376" y="530"/>
                </a:lnTo>
                <a:lnTo>
                  <a:pt x="370" y="477"/>
                </a:lnTo>
                <a:lnTo>
                  <a:pt x="366" y="421"/>
                </a:lnTo>
                <a:lnTo>
                  <a:pt x="361" y="363"/>
                </a:lnTo>
                <a:lnTo>
                  <a:pt x="355" y="306"/>
                </a:lnTo>
                <a:lnTo>
                  <a:pt x="349" y="248"/>
                </a:lnTo>
                <a:lnTo>
                  <a:pt x="341" y="187"/>
                </a:lnTo>
                <a:lnTo>
                  <a:pt x="336" y="125"/>
                </a:lnTo>
                <a:lnTo>
                  <a:pt x="328" y="64"/>
                </a:lnTo>
                <a:lnTo>
                  <a:pt x="318" y="0"/>
                </a:lnTo>
                <a:lnTo>
                  <a:pt x="341" y="16"/>
                </a:lnTo>
                <a:lnTo>
                  <a:pt x="364" y="29"/>
                </a:lnTo>
                <a:lnTo>
                  <a:pt x="384" y="43"/>
                </a:lnTo>
                <a:lnTo>
                  <a:pt x="403" y="56"/>
                </a:lnTo>
                <a:lnTo>
                  <a:pt x="418" y="68"/>
                </a:lnTo>
                <a:lnTo>
                  <a:pt x="434" y="79"/>
                </a:lnTo>
                <a:lnTo>
                  <a:pt x="449" y="89"/>
                </a:lnTo>
                <a:lnTo>
                  <a:pt x="460" y="98"/>
                </a:lnTo>
                <a:lnTo>
                  <a:pt x="472" y="106"/>
                </a:lnTo>
                <a:lnTo>
                  <a:pt x="480" y="114"/>
                </a:lnTo>
                <a:lnTo>
                  <a:pt x="489" y="120"/>
                </a:lnTo>
                <a:lnTo>
                  <a:pt x="495" y="127"/>
                </a:lnTo>
                <a:lnTo>
                  <a:pt x="499" y="131"/>
                </a:lnTo>
                <a:lnTo>
                  <a:pt x="503" y="135"/>
                </a:lnTo>
                <a:lnTo>
                  <a:pt x="505" y="139"/>
                </a:lnTo>
                <a:lnTo>
                  <a:pt x="507" y="143"/>
                </a:lnTo>
                <a:lnTo>
                  <a:pt x="507" y="146"/>
                </a:lnTo>
                <a:lnTo>
                  <a:pt x="507" y="148"/>
                </a:lnTo>
                <a:lnTo>
                  <a:pt x="507" y="152"/>
                </a:lnTo>
                <a:lnTo>
                  <a:pt x="507" y="158"/>
                </a:lnTo>
                <a:lnTo>
                  <a:pt x="507" y="164"/>
                </a:lnTo>
                <a:lnTo>
                  <a:pt x="508" y="171"/>
                </a:lnTo>
                <a:lnTo>
                  <a:pt x="508" y="179"/>
                </a:lnTo>
                <a:lnTo>
                  <a:pt x="508" y="187"/>
                </a:lnTo>
                <a:lnTo>
                  <a:pt x="508" y="196"/>
                </a:lnTo>
                <a:lnTo>
                  <a:pt x="510" y="206"/>
                </a:lnTo>
                <a:lnTo>
                  <a:pt x="510" y="217"/>
                </a:lnTo>
                <a:lnTo>
                  <a:pt x="510" y="229"/>
                </a:lnTo>
                <a:lnTo>
                  <a:pt x="512" y="242"/>
                </a:lnTo>
                <a:lnTo>
                  <a:pt x="512" y="256"/>
                </a:lnTo>
                <a:lnTo>
                  <a:pt x="514" y="271"/>
                </a:lnTo>
                <a:lnTo>
                  <a:pt x="514" y="287"/>
                </a:lnTo>
                <a:lnTo>
                  <a:pt x="514" y="302"/>
                </a:lnTo>
                <a:lnTo>
                  <a:pt x="516" y="319"/>
                </a:lnTo>
                <a:lnTo>
                  <a:pt x="516" y="336"/>
                </a:lnTo>
                <a:lnTo>
                  <a:pt x="518" y="356"/>
                </a:lnTo>
                <a:lnTo>
                  <a:pt x="518" y="375"/>
                </a:lnTo>
                <a:lnTo>
                  <a:pt x="520" y="394"/>
                </a:lnTo>
                <a:lnTo>
                  <a:pt x="520" y="415"/>
                </a:lnTo>
                <a:lnTo>
                  <a:pt x="522" y="438"/>
                </a:lnTo>
                <a:lnTo>
                  <a:pt x="522" y="459"/>
                </a:lnTo>
                <a:lnTo>
                  <a:pt x="524" y="484"/>
                </a:lnTo>
                <a:lnTo>
                  <a:pt x="526" y="507"/>
                </a:lnTo>
                <a:lnTo>
                  <a:pt x="526" y="532"/>
                </a:lnTo>
                <a:lnTo>
                  <a:pt x="528" y="557"/>
                </a:lnTo>
                <a:lnTo>
                  <a:pt x="528" y="584"/>
                </a:lnTo>
                <a:lnTo>
                  <a:pt x="530" y="611"/>
                </a:lnTo>
                <a:lnTo>
                  <a:pt x="530" y="640"/>
                </a:lnTo>
                <a:lnTo>
                  <a:pt x="531" y="667"/>
                </a:lnTo>
                <a:lnTo>
                  <a:pt x="531" y="695"/>
                </a:lnTo>
                <a:lnTo>
                  <a:pt x="533" y="720"/>
                </a:lnTo>
                <a:lnTo>
                  <a:pt x="533" y="747"/>
                </a:lnTo>
                <a:lnTo>
                  <a:pt x="535" y="772"/>
                </a:lnTo>
                <a:lnTo>
                  <a:pt x="535" y="797"/>
                </a:lnTo>
                <a:lnTo>
                  <a:pt x="535" y="820"/>
                </a:lnTo>
                <a:lnTo>
                  <a:pt x="537" y="843"/>
                </a:lnTo>
                <a:lnTo>
                  <a:pt x="537" y="866"/>
                </a:lnTo>
                <a:lnTo>
                  <a:pt x="537" y="889"/>
                </a:lnTo>
                <a:lnTo>
                  <a:pt x="537" y="910"/>
                </a:lnTo>
                <a:lnTo>
                  <a:pt x="539" y="931"/>
                </a:lnTo>
                <a:lnTo>
                  <a:pt x="539" y="951"/>
                </a:lnTo>
                <a:lnTo>
                  <a:pt x="539" y="972"/>
                </a:lnTo>
                <a:lnTo>
                  <a:pt x="539" y="991"/>
                </a:lnTo>
                <a:lnTo>
                  <a:pt x="539" y="1008"/>
                </a:lnTo>
                <a:lnTo>
                  <a:pt x="539" y="1026"/>
                </a:lnTo>
                <a:lnTo>
                  <a:pt x="541" y="1043"/>
                </a:lnTo>
                <a:lnTo>
                  <a:pt x="541" y="1060"/>
                </a:lnTo>
                <a:lnTo>
                  <a:pt x="541" y="1075"/>
                </a:lnTo>
                <a:lnTo>
                  <a:pt x="541" y="1091"/>
                </a:lnTo>
                <a:lnTo>
                  <a:pt x="541" y="1106"/>
                </a:lnTo>
                <a:lnTo>
                  <a:pt x="541" y="1120"/>
                </a:lnTo>
                <a:lnTo>
                  <a:pt x="541" y="1133"/>
                </a:lnTo>
                <a:lnTo>
                  <a:pt x="541" y="1146"/>
                </a:lnTo>
                <a:lnTo>
                  <a:pt x="541" y="1158"/>
                </a:lnTo>
                <a:lnTo>
                  <a:pt x="541" y="1169"/>
                </a:lnTo>
                <a:lnTo>
                  <a:pt x="541" y="1181"/>
                </a:lnTo>
                <a:lnTo>
                  <a:pt x="541" y="1191"/>
                </a:lnTo>
                <a:lnTo>
                  <a:pt x="541" y="1202"/>
                </a:lnTo>
                <a:lnTo>
                  <a:pt x="541" y="1210"/>
                </a:lnTo>
                <a:lnTo>
                  <a:pt x="541" y="1244"/>
                </a:lnTo>
                <a:lnTo>
                  <a:pt x="541" y="1279"/>
                </a:lnTo>
                <a:lnTo>
                  <a:pt x="541" y="1310"/>
                </a:lnTo>
                <a:lnTo>
                  <a:pt x="539" y="1340"/>
                </a:lnTo>
                <a:lnTo>
                  <a:pt x="537" y="1369"/>
                </a:lnTo>
                <a:lnTo>
                  <a:pt x="537" y="1384"/>
                </a:lnTo>
                <a:lnTo>
                  <a:pt x="535" y="1396"/>
                </a:lnTo>
                <a:lnTo>
                  <a:pt x="535" y="1409"/>
                </a:lnTo>
                <a:lnTo>
                  <a:pt x="533" y="1423"/>
                </a:lnTo>
                <a:lnTo>
                  <a:pt x="531" y="1434"/>
                </a:lnTo>
                <a:lnTo>
                  <a:pt x="530" y="1446"/>
                </a:lnTo>
                <a:lnTo>
                  <a:pt x="528" y="1455"/>
                </a:lnTo>
                <a:lnTo>
                  <a:pt x="524" y="1467"/>
                </a:lnTo>
                <a:lnTo>
                  <a:pt x="520" y="1477"/>
                </a:lnTo>
                <a:lnTo>
                  <a:pt x="516" y="1486"/>
                </a:lnTo>
                <a:lnTo>
                  <a:pt x="507" y="1507"/>
                </a:lnTo>
                <a:lnTo>
                  <a:pt x="497" y="1527"/>
                </a:lnTo>
                <a:lnTo>
                  <a:pt x="485" y="1544"/>
                </a:lnTo>
                <a:lnTo>
                  <a:pt x="474" y="1563"/>
                </a:lnTo>
                <a:lnTo>
                  <a:pt x="460" y="1580"/>
                </a:lnTo>
                <a:lnTo>
                  <a:pt x="447" y="1598"/>
                </a:lnTo>
                <a:lnTo>
                  <a:pt x="430" y="1611"/>
                </a:lnTo>
                <a:lnTo>
                  <a:pt x="414" y="1622"/>
                </a:lnTo>
                <a:lnTo>
                  <a:pt x="401" y="1632"/>
                </a:lnTo>
                <a:lnTo>
                  <a:pt x="388" y="1640"/>
                </a:lnTo>
                <a:lnTo>
                  <a:pt x="376" y="1647"/>
                </a:lnTo>
                <a:lnTo>
                  <a:pt x="372" y="1649"/>
                </a:lnTo>
                <a:lnTo>
                  <a:pt x="366" y="1653"/>
                </a:lnTo>
                <a:lnTo>
                  <a:pt x="363" y="1655"/>
                </a:lnTo>
                <a:lnTo>
                  <a:pt x="359" y="1655"/>
                </a:lnTo>
                <a:lnTo>
                  <a:pt x="357" y="1657"/>
                </a:lnTo>
                <a:lnTo>
                  <a:pt x="355" y="1657"/>
                </a:lnTo>
                <a:lnTo>
                  <a:pt x="349" y="1657"/>
                </a:lnTo>
                <a:lnTo>
                  <a:pt x="345" y="1655"/>
                </a:lnTo>
                <a:lnTo>
                  <a:pt x="341" y="1653"/>
                </a:lnTo>
                <a:lnTo>
                  <a:pt x="338" y="1651"/>
                </a:lnTo>
                <a:lnTo>
                  <a:pt x="336" y="1649"/>
                </a:lnTo>
                <a:lnTo>
                  <a:pt x="332" y="1646"/>
                </a:lnTo>
                <a:lnTo>
                  <a:pt x="328" y="1642"/>
                </a:lnTo>
                <a:lnTo>
                  <a:pt x="326" y="1638"/>
                </a:lnTo>
                <a:lnTo>
                  <a:pt x="324" y="1632"/>
                </a:lnTo>
                <a:lnTo>
                  <a:pt x="320" y="1626"/>
                </a:lnTo>
                <a:lnTo>
                  <a:pt x="318" y="1619"/>
                </a:lnTo>
                <a:lnTo>
                  <a:pt x="317" y="1611"/>
                </a:lnTo>
                <a:lnTo>
                  <a:pt x="313" y="1603"/>
                </a:lnTo>
                <a:lnTo>
                  <a:pt x="311" y="1594"/>
                </a:lnTo>
                <a:lnTo>
                  <a:pt x="309" y="1584"/>
                </a:lnTo>
                <a:lnTo>
                  <a:pt x="307" y="1575"/>
                </a:lnTo>
                <a:lnTo>
                  <a:pt x="305" y="1563"/>
                </a:lnTo>
                <a:lnTo>
                  <a:pt x="301" y="1553"/>
                </a:lnTo>
                <a:lnTo>
                  <a:pt x="295" y="1542"/>
                </a:lnTo>
                <a:lnTo>
                  <a:pt x="290" y="1532"/>
                </a:lnTo>
                <a:lnTo>
                  <a:pt x="282" y="1523"/>
                </a:lnTo>
                <a:lnTo>
                  <a:pt x="274" y="1511"/>
                </a:lnTo>
                <a:lnTo>
                  <a:pt x="267" y="1502"/>
                </a:lnTo>
                <a:lnTo>
                  <a:pt x="255" y="1492"/>
                </a:lnTo>
                <a:lnTo>
                  <a:pt x="245" y="1482"/>
                </a:lnTo>
                <a:lnTo>
                  <a:pt x="232" y="1473"/>
                </a:lnTo>
                <a:lnTo>
                  <a:pt x="221" y="1463"/>
                </a:lnTo>
                <a:lnTo>
                  <a:pt x="207" y="1452"/>
                </a:lnTo>
                <a:lnTo>
                  <a:pt x="192" y="1442"/>
                </a:lnTo>
                <a:lnTo>
                  <a:pt x="176" y="1432"/>
                </a:lnTo>
                <a:lnTo>
                  <a:pt x="161" y="1421"/>
                </a:lnTo>
                <a:lnTo>
                  <a:pt x="144" y="14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96"/>
          <p:cNvSpPr/>
          <p:nvPr/>
        </p:nvSpPr>
        <p:spPr>
          <a:xfrm>
            <a:off x="6529320" y="4282920"/>
            <a:ext cx="426960" cy="120960"/>
          </a:xfrm>
          <a:custGeom>
            <a:avLst/>
            <a:gdLst/>
            <a:ahLst/>
            <a:rect l="l" t="t" r="r" b="b"/>
            <a:pathLst>
              <a:path w="538" h="152">
                <a:moveTo>
                  <a:pt x="0" y="46"/>
                </a:moveTo>
                <a:lnTo>
                  <a:pt x="12" y="46"/>
                </a:lnTo>
                <a:lnTo>
                  <a:pt x="23" y="46"/>
                </a:lnTo>
                <a:lnTo>
                  <a:pt x="35" y="44"/>
                </a:lnTo>
                <a:lnTo>
                  <a:pt x="48" y="44"/>
                </a:lnTo>
                <a:lnTo>
                  <a:pt x="75" y="42"/>
                </a:lnTo>
                <a:lnTo>
                  <a:pt x="102" y="38"/>
                </a:lnTo>
                <a:lnTo>
                  <a:pt x="131" y="35"/>
                </a:lnTo>
                <a:lnTo>
                  <a:pt x="162" y="31"/>
                </a:lnTo>
                <a:lnTo>
                  <a:pt x="192" y="27"/>
                </a:lnTo>
                <a:lnTo>
                  <a:pt x="223" y="23"/>
                </a:lnTo>
                <a:lnTo>
                  <a:pt x="236" y="21"/>
                </a:lnTo>
                <a:lnTo>
                  <a:pt x="252" y="17"/>
                </a:lnTo>
                <a:lnTo>
                  <a:pt x="265" y="15"/>
                </a:lnTo>
                <a:lnTo>
                  <a:pt x="279" y="13"/>
                </a:lnTo>
                <a:lnTo>
                  <a:pt x="292" y="11"/>
                </a:lnTo>
                <a:lnTo>
                  <a:pt x="304" y="10"/>
                </a:lnTo>
                <a:lnTo>
                  <a:pt x="317" y="8"/>
                </a:lnTo>
                <a:lnTo>
                  <a:pt x="327" y="6"/>
                </a:lnTo>
                <a:lnTo>
                  <a:pt x="338" y="4"/>
                </a:lnTo>
                <a:lnTo>
                  <a:pt x="348" y="4"/>
                </a:lnTo>
                <a:lnTo>
                  <a:pt x="357" y="2"/>
                </a:lnTo>
                <a:lnTo>
                  <a:pt x="367" y="2"/>
                </a:lnTo>
                <a:lnTo>
                  <a:pt x="375" y="0"/>
                </a:lnTo>
                <a:lnTo>
                  <a:pt x="384" y="0"/>
                </a:lnTo>
                <a:lnTo>
                  <a:pt x="390" y="0"/>
                </a:lnTo>
                <a:lnTo>
                  <a:pt x="398" y="0"/>
                </a:lnTo>
                <a:lnTo>
                  <a:pt x="411" y="0"/>
                </a:lnTo>
                <a:lnTo>
                  <a:pt x="423" y="0"/>
                </a:lnTo>
                <a:lnTo>
                  <a:pt x="434" y="0"/>
                </a:lnTo>
                <a:lnTo>
                  <a:pt x="444" y="0"/>
                </a:lnTo>
                <a:lnTo>
                  <a:pt x="455" y="2"/>
                </a:lnTo>
                <a:lnTo>
                  <a:pt x="467" y="4"/>
                </a:lnTo>
                <a:lnTo>
                  <a:pt x="478" y="8"/>
                </a:lnTo>
                <a:lnTo>
                  <a:pt x="492" y="11"/>
                </a:lnTo>
                <a:lnTo>
                  <a:pt x="497" y="13"/>
                </a:lnTo>
                <a:lnTo>
                  <a:pt x="503" y="15"/>
                </a:lnTo>
                <a:lnTo>
                  <a:pt x="509" y="19"/>
                </a:lnTo>
                <a:lnTo>
                  <a:pt x="513" y="21"/>
                </a:lnTo>
                <a:lnTo>
                  <a:pt x="522" y="29"/>
                </a:lnTo>
                <a:lnTo>
                  <a:pt x="528" y="36"/>
                </a:lnTo>
                <a:lnTo>
                  <a:pt x="532" y="44"/>
                </a:lnTo>
                <a:lnTo>
                  <a:pt x="536" y="52"/>
                </a:lnTo>
                <a:lnTo>
                  <a:pt x="538" y="61"/>
                </a:lnTo>
                <a:lnTo>
                  <a:pt x="538" y="69"/>
                </a:lnTo>
                <a:lnTo>
                  <a:pt x="538" y="71"/>
                </a:lnTo>
                <a:lnTo>
                  <a:pt x="536" y="75"/>
                </a:lnTo>
                <a:lnTo>
                  <a:pt x="534" y="77"/>
                </a:lnTo>
                <a:lnTo>
                  <a:pt x="530" y="79"/>
                </a:lnTo>
                <a:lnTo>
                  <a:pt x="526" y="81"/>
                </a:lnTo>
                <a:lnTo>
                  <a:pt x="520" y="82"/>
                </a:lnTo>
                <a:lnTo>
                  <a:pt x="513" y="84"/>
                </a:lnTo>
                <a:lnTo>
                  <a:pt x="505" y="88"/>
                </a:lnTo>
                <a:lnTo>
                  <a:pt x="497" y="90"/>
                </a:lnTo>
                <a:lnTo>
                  <a:pt x="488" y="92"/>
                </a:lnTo>
                <a:lnTo>
                  <a:pt x="476" y="94"/>
                </a:lnTo>
                <a:lnTo>
                  <a:pt x="465" y="96"/>
                </a:lnTo>
                <a:lnTo>
                  <a:pt x="451" y="100"/>
                </a:lnTo>
                <a:lnTo>
                  <a:pt x="438" y="102"/>
                </a:lnTo>
                <a:lnTo>
                  <a:pt x="424" y="104"/>
                </a:lnTo>
                <a:lnTo>
                  <a:pt x="407" y="106"/>
                </a:lnTo>
                <a:lnTo>
                  <a:pt x="392" y="109"/>
                </a:lnTo>
                <a:lnTo>
                  <a:pt x="375" y="111"/>
                </a:lnTo>
                <a:lnTo>
                  <a:pt x="355" y="113"/>
                </a:lnTo>
                <a:lnTo>
                  <a:pt x="336" y="117"/>
                </a:lnTo>
                <a:lnTo>
                  <a:pt x="315" y="119"/>
                </a:lnTo>
                <a:lnTo>
                  <a:pt x="294" y="121"/>
                </a:lnTo>
                <a:lnTo>
                  <a:pt x="271" y="125"/>
                </a:lnTo>
                <a:lnTo>
                  <a:pt x="248" y="127"/>
                </a:lnTo>
                <a:lnTo>
                  <a:pt x="223" y="130"/>
                </a:lnTo>
                <a:lnTo>
                  <a:pt x="196" y="132"/>
                </a:lnTo>
                <a:lnTo>
                  <a:pt x="171" y="136"/>
                </a:lnTo>
                <a:lnTo>
                  <a:pt x="142" y="138"/>
                </a:lnTo>
                <a:lnTo>
                  <a:pt x="114" y="142"/>
                </a:lnTo>
                <a:lnTo>
                  <a:pt x="85" y="146"/>
                </a:lnTo>
                <a:lnTo>
                  <a:pt x="54" y="148"/>
                </a:lnTo>
                <a:lnTo>
                  <a:pt x="23" y="152"/>
                </a:lnTo>
                <a:lnTo>
                  <a:pt x="12" y="100"/>
                </a:lnTo>
                <a:lnTo>
                  <a:pt x="0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97"/>
          <p:cNvSpPr/>
          <p:nvPr/>
        </p:nvSpPr>
        <p:spPr>
          <a:xfrm>
            <a:off x="6408720" y="4024440"/>
            <a:ext cx="174600" cy="463320"/>
          </a:xfrm>
          <a:custGeom>
            <a:avLst/>
            <a:gdLst/>
            <a:ahLst/>
            <a:rect l="l" t="t" r="r" b="b"/>
            <a:pathLst>
              <a:path w="218" h="583">
                <a:moveTo>
                  <a:pt x="34" y="90"/>
                </a:moveTo>
                <a:lnTo>
                  <a:pt x="27" y="78"/>
                </a:lnTo>
                <a:lnTo>
                  <a:pt x="19" y="65"/>
                </a:lnTo>
                <a:lnTo>
                  <a:pt x="13" y="55"/>
                </a:lnTo>
                <a:lnTo>
                  <a:pt x="7" y="44"/>
                </a:lnTo>
                <a:lnTo>
                  <a:pt x="3" y="34"/>
                </a:lnTo>
                <a:lnTo>
                  <a:pt x="2" y="27"/>
                </a:lnTo>
                <a:lnTo>
                  <a:pt x="0" y="17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11" y="2"/>
                </a:lnTo>
                <a:lnTo>
                  <a:pt x="17" y="2"/>
                </a:lnTo>
                <a:lnTo>
                  <a:pt x="25" y="0"/>
                </a:lnTo>
                <a:lnTo>
                  <a:pt x="34" y="0"/>
                </a:lnTo>
                <a:lnTo>
                  <a:pt x="44" y="0"/>
                </a:lnTo>
                <a:lnTo>
                  <a:pt x="57" y="2"/>
                </a:lnTo>
                <a:lnTo>
                  <a:pt x="71" y="2"/>
                </a:lnTo>
                <a:lnTo>
                  <a:pt x="86" y="3"/>
                </a:lnTo>
                <a:lnTo>
                  <a:pt x="103" y="5"/>
                </a:lnTo>
                <a:lnTo>
                  <a:pt x="121" y="9"/>
                </a:lnTo>
                <a:lnTo>
                  <a:pt x="142" y="11"/>
                </a:lnTo>
                <a:lnTo>
                  <a:pt x="163" y="15"/>
                </a:lnTo>
                <a:lnTo>
                  <a:pt x="186" y="21"/>
                </a:lnTo>
                <a:lnTo>
                  <a:pt x="186" y="27"/>
                </a:lnTo>
                <a:lnTo>
                  <a:pt x="186" y="36"/>
                </a:lnTo>
                <a:lnTo>
                  <a:pt x="188" y="48"/>
                </a:lnTo>
                <a:lnTo>
                  <a:pt x="188" y="59"/>
                </a:lnTo>
                <a:lnTo>
                  <a:pt x="190" y="73"/>
                </a:lnTo>
                <a:lnTo>
                  <a:pt x="190" y="88"/>
                </a:lnTo>
                <a:lnTo>
                  <a:pt x="192" y="105"/>
                </a:lnTo>
                <a:lnTo>
                  <a:pt x="194" y="122"/>
                </a:lnTo>
                <a:lnTo>
                  <a:pt x="195" y="142"/>
                </a:lnTo>
                <a:lnTo>
                  <a:pt x="197" y="163"/>
                </a:lnTo>
                <a:lnTo>
                  <a:pt x="199" y="184"/>
                </a:lnTo>
                <a:lnTo>
                  <a:pt x="201" y="209"/>
                </a:lnTo>
                <a:lnTo>
                  <a:pt x="203" y="232"/>
                </a:lnTo>
                <a:lnTo>
                  <a:pt x="205" y="259"/>
                </a:lnTo>
                <a:lnTo>
                  <a:pt x="207" y="286"/>
                </a:lnTo>
                <a:lnTo>
                  <a:pt x="209" y="314"/>
                </a:lnTo>
                <a:lnTo>
                  <a:pt x="211" y="341"/>
                </a:lnTo>
                <a:lnTo>
                  <a:pt x="213" y="368"/>
                </a:lnTo>
                <a:lnTo>
                  <a:pt x="215" y="391"/>
                </a:lnTo>
                <a:lnTo>
                  <a:pt x="217" y="414"/>
                </a:lnTo>
                <a:lnTo>
                  <a:pt x="217" y="435"/>
                </a:lnTo>
                <a:lnTo>
                  <a:pt x="217" y="455"/>
                </a:lnTo>
                <a:lnTo>
                  <a:pt x="218" y="474"/>
                </a:lnTo>
                <a:lnTo>
                  <a:pt x="218" y="489"/>
                </a:lnTo>
                <a:lnTo>
                  <a:pt x="218" y="504"/>
                </a:lnTo>
                <a:lnTo>
                  <a:pt x="217" y="518"/>
                </a:lnTo>
                <a:lnTo>
                  <a:pt x="217" y="528"/>
                </a:lnTo>
                <a:lnTo>
                  <a:pt x="217" y="537"/>
                </a:lnTo>
                <a:lnTo>
                  <a:pt x="215" y="547"/>
                </a:lnTo>
                <a:lnTo>
                  <a:pt x="213" y="552"/>
                </a:lnTo>
                <a:lnTo>
                  <a:pt x="211" y="556"/>
                </a:lnTo>
                <a:lnTo>
                  <a:pt x="209" y="560"/>
                </a:lnTo>
                <a:lnTo>
                  <a:pt x="201" y="568"/>
                </a:lnTo>
                <a:lnTo>
                  <a:pt x="195" y="574"/>
                </a:lnTo>
                <a:lnTo>
                  <a:pt x="192" y="575"/>
                </a:lnTo>
                <a:lnTo>
                  <a:pt x="188" y="579"/>
                </a:lnTo>
                <a:lnTo>
                  <a:pt x="184" y="581"/>
                </a:lnTo>
                <a:lnTo>
                  <a:pt x="178" y="583"/>
                </a:lnTo>
                <a:lnTo>
                  <a:pt x="174" y="583"/>
                </a:lnTo>
                <a:lnTo>
                  <a:pt x="172" y="583"/>
                </a:lnTo>
                <a:lnTo>
                  <a:pt x="170" y="581"/>
                </a:lnTo>
                <a:lnTo>
                  <a:pt x="167" y="579"/>
                </a:lnTo>
                <a:lnTo>
                  <a:pt x="165" y="577"/>
                </a:lnTo>
                <a:lnTo>
                  <a:pt x="161" y="574"/>
                </a:lnTo>
                <a:lnTo>
                  <a:pt x="157" y="568"/>
                </a:lnTo>
                <a:lnTo>
                  <a:pt x="155" y="562"/>
                </a:lnTo>
                <a:lnTo>
                  <a:pt x="151" y="556"/>
                </a:lnTo>
                <a:lnTo>
                  <a:pt x="147" y="549"/>
                </a:lnTo>
                <a:lnTo>
                  <a:pt x="144" y="539"/>
                </a:lnTo>
                <a:lnTo>
                  <a:pt x="142" y="529"/>
                </a:lnTo>
                <a:lnTo>
                  <a:pt x="138" y="520"/>
                </a:lnTo>
                <a:lnTo>
                  <a:pt x="136" y="508"/>
                </a:lnTo>
                <a:lnTo>
                  <a:pt x="132" y="495"/>
                </a:lnTo>
                <a:lnTo>
                  <a:pt x="130" y="481"/>
                </a:lnTo>
                <a:lnTo>
                  <a:pt x="128" y="466"/>
                </a:lnTo>
                <a:lnTo>
                  <a:pt x="119" y="412"/>
                </a:lnTo>
                <a:lnTo>
                  <a:pt x="115" y="385"/>
                </a:lnTo>
                <a:lnTo>
                  <a:pt x="111" y="359"/>
                </a:lnTo>
                <a:lnTo>
                  <a:pt x="105" y="332"/>
                </a:lnTo>
                <a:lnTo>
                  <a:pt x="101" y="303"/>
                </a:lnTo>
                <a:lnTo>
                  <a:pt x="98" y="274"/>
                </a:lnTo>
                <a:lnTo>
                  <a:pt x="94" y="243"/>
                </a:lnTo>
                <a:lnTo>
                  <a:pt x="90" y="228"/>
                </a:lnTo>
                <a:lnTo>
                  <a:pt x="88" y="215"/>
                </a:lnTo>
                <a:lnTo>
                  <a:pt x="86" y="201"/>
                </a:lnTo>
                <a:lnTo>
                  <a:pt x="82" y="188"/>
                </a:lnTo>
                <a:lnTo>
                  <a:pt x="78" y="176"/>
                </a:lnTo>
                <a:lnTo>
                  <a:pt x="75" y="165"/>
                </a:lnTo>
                <a:lnTo>
                  <a:pt x="71" y="155"/>
                </a:lnTo>
                <a:lnTo>
                  <a:pt x="69" y="144"/>
                </a:lnTo>
                <a:lnTo>
                  <a:pt x="63" y="136"/>
                </a:lnTo>
                <a:lnTo>
                  <a:pt x="59" y="126"/>
                </a:lnTo>
                <a:lnTo>
                  <a:pt x="55" y="119"/>
                </a:lnTo>
                <a:lnTo>
                  <a:pt x="51" y="113"/>
                </a:lnTo>
                <a:lnTo>
                  <a:pt x="48" y="105"/>
                </a:lnTo>
                <a:lnTo>
                  <a:pt x="44" y="99"/>
                </a:lnTo>
                <a:lnTo>
                  <a:pt x="38" y="96"/>
                </a:lnTo>
                <a:lnTo>
                  <a:pt x="34" y="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98"/>
          <p:cNvSpPr/>
          <p:nvPr/>
        </p:nvSpPr>
        <p:spPr>
          <a:xfrm>
            <a:off x="6483240" y="3957480"/>
            <a:ext cx="538200" cy="381240"/>
          </a:xfrm>
          <a:custGeom>
            <a:avLst/>
            <a:gdLst/>
            <a:ahLst/>
            <a:rect l="l" t="t" r="r" b="b"/>
            <a:pathLst>
              <a:path w="677" h="480">
                <a:moveTo>
                  <a:pt x="432" y="23"/>
                </a:moveTo>
                <a:lnTo>
                  <a:pt x="435" y="17"/>
                </a:lnTo>
                <a:lnTo>
                  <a:pt x="441" y="14"/>
                </a:lnTo>
                <a:lnTo>
                  <a:pt x="449" y="10"/>
                </a:lnTo>
                <a:lnTo>
                  <a:pt x="455" y="6"/>
                </a:lnTo>
                <a:lnTo>
                  <a:pt x="462" y="4"/>
                </a:lnTo>
                <a:lnTo>
                  <a:pt x="468" y="2"/>
                </a:lnTo>
                <a:lnTo>
                  <a:pt x="474" y="0"/>
                </a:lnTo>
                <a:lnTo>
                  <a:pt x="478" y="0"/>
                </a:lnTo>
                <a:lnTo>
                  <a:pt x="481" y="0"/>
                </a:lnTo>
                <a:lnTo>
                  <a:pt x="483" y="0"/>
                </a:lnTo>
                <a:lnTo>
                  <a:pt x="489" y="0"/>
                </a:lnTo>
                <a:lnTo>
                  <a:pt x="493" y="2"/>
                </a:lnTo>
                <a:lnTo>
                  <a:pt x="499" y="2"/>
                </a:lnTo>
                <a:lnTo>
                  <a:pt x="505" y="4"/>
                </a:lnTo>
                <a:lnTo>
                  <a:pt x="512" y="6"/>
                </a:lnTo>
                <a:lnTo>
                  <a:pt x="520" y="10"/>
                </a:lnTo>
                <a:lnTo>
                  <a:pt x="528" y="12"/>
                </a:lnTo>
                <a:lnTo>
                  <a:pt x="535" y="16"/>
                </a:lnTo>
                <a:lnTo>
                  <a:pt x="545" y="19"/>
                </a:lnTo>
                <a:lnTo>
                  <a:pt x="554" y="23"/>
                </a:lnTo>
                <a:lnTo>
                  <a:pt x="564" y="29"/>
                </a:lnTo>
                <a:lnTo>
                  <a:pt x="574" y="33"/>
                </a:lnTo>
                <a:lnTo>
                  <a:pt x="585" y="39"/>
                </a:lnTo>
                <a:lnTo>
                  <a:pt x="595" y="46"/>
                </a:lnTo>
                <a:lnTo>
                  <a:pt x="606" y="52"/>
                </a:lnTo>
                <a:lnTo>
                  <a:pt x="616" y="60"/>
                </a:lnTo>
                <a:lnTo>
                  <a:pt x="624" y="65"/>
                </a:lnTo>
                <a:lnTo>
                  <a:pt x="633" y="73"/>
                </a:lnTo>
                <a:lnTo>
                  <a:pt x="641" y="79"/>
                </a:lnTo>
                <a:lnTo>
                  <a:pt x="647" y="85"/>
                </a:lnTo>
                <a:lnTo>
                  <a:pt x="652" y="90"/>
                </a:lnTo>
                <a:lnTo>
                  <a:pt x="658" y="96"/>
                </a:lnTo>
                <a:lnTo>
                  <a:pt x="662" y="102"/>
                </a:lnTo>
                <a:lnTo>
                  <a:pt x="666" y="106"/>
                </a:lnTo>
                <a:lnTo>
                  <a:pt x="670" y="112"/>
                </a:lnTo>
                <a:lnTo>
                  <a:pt x="672" y="115"/>
                </a:lnTo>
                <a:lnTo>
                  <a:pt x="673" y="119"/>
                </a:lnTo>
                <a:lnTo>
                  <a:pt x="675" y="123"/>
                </a:lnTo>
                <a:lnTo>
                  <a:pt x="677" y="125"/>
                </a:lnTo>
                <a:lnTo>
                  <a:pt x="677" y="129"/>
                </a:lnTo>
                <a:lnTo>
                  <a:pt x="675" y="131"/>
                </a:lnTo>
                <a:lnTo>
                  <a:pt x="672" y="135"/>
                </a:lnTo>
                <a:lnTo>
                  <a:pt x="668" y="140"/>
                </a:lnTo>
                <a:lnTo>
                  <a:pt x="662" y="150"/>
                </a:lnTo>
                <a:lnTo>
                  <a:pt x="656" y="161"/>
                </a:lnTo>
                <a:lnTo>
                  <a:pt x="648" y="173"/>
                </a:lnTo>
                <a:lnTo>
                  <a:pt x="641" y="184"/>
                </a:lnTo>
                <a:lnTo>
                  <a:pt x="631" y="198"/>
                </a:lnTo>
                <a:lnTo>
                  <a:pt x="625" y="204"/>
                </a:lnTo>
                <a:lnTo>
                  <a:pt x="618" y="211"/>
                </a:lnTo>
                <a:lnTo>
                  <a:pt x="612" y="217"/>
                </a:lnTo>
                <a:lnTo>
                  <a:pt x="606" y="227"/>
                </a:lnTo>
                <a:lnTo>
                  <a:pt x="600" y="236"/>
                </a:lnTo>
                <a:lnTo>
                  <a:pt x="595" y="248"/>
                </a:lnTo>
                <a:lnTo>
                  <a:pt x="589" y="261"/>
                </a:lnTo>
                <a:lnTo>
                  <a:pt x="583" y="275"/>
                </a:lnTo>
                <a:lnTo>
                  <a:pt x="577" y="290"/>
                </a:lnTo>
                <a:lnTo>
                  <a:pt x="572" y="305"/>
                </a:lnTo>
                <a:lnTo>
                  <a:pt x="566" y="323"/>
                </a:lnTo>
                <a:lnTo>
                  <a:pt x="560" y="342"/>
                </a:lnTo>
                <a:lnTo>
                  <a:pt x="554" y="363"/>
                </a:lnTo>
                <a:lnTo>
                  <a:pt x="549" y="384"/>
                </a:lnTo>
                <a:lnTo>
                  <a:pt x="543" y="407"/>
                </a:lnTo>
                <a:lnTo>
                  <a:pt x="537" y="430"/>
                </a:lnTo>
                <a:lnTo>
                  <a:pt x="531" y="455"/>
                </a:lnTo>
                <a:lnTo>
                  <a:pt x="526" y="480"/>
                </a:lnTo>
                <a:lnTo>
                  <a:pt x="420" y="480"/>
                </a:lnTo>
                <a:lnTo>
                  <a:pt x="422" y="463"/>
                </a:lnTo>
                <a:lnTo>
                  <a:pt x="424" y="444"/>
                </a:lnTo>
                <a:lnTo>
                  <a:pt x="426" y="426"/>
                </a:lnTo>
                <a:lnTo>
                  <a:pt x="428" y="411"/>
                </a:lnTo>
                <a:lnTo>
                  <a:pt x="430" y="394"/>
                </a:lnTo>
                <a:lnTo>
                  <a:pt x="430" y="378"/>
                </a:lnTo>
                <a:lnTo>
                  <a:pt x="432" y="363"/>
                </a:lnTo>
                <a:lnTo>
                  <a:pt x="434" y="348"/>
                </a:lnTo>
                <a:lnTo>
                  <a:pt x="434" y="334"/>
                </a:lnTo>
                <a:lnTo>
                  <a:pt x="435" y="321"/>
                </a:lnTo>
                <a:lnTo>
                  <a:pt x="435" y="307"/>
                </a:lnTo>
                <a:lnTo>
                  <a:pt x="437" y="296"/>
                </a:lnTo>
                <a:lnTo>
                  <a:pt x="437" y="282"/>
                </a:lnTo>
                <a:lnTo>
                  <a:pt x="437" y="271"/>
                </a:lnTo>
                <a:lnTo>
                  <a:pt x="437" y="261"/>
                </a:lnTo>
                <a:lnTo>
                  <a:pt x="439" y="250"/>
                </a:lnTo>
                <a:lnTo>
                  <a:pt x="439" y="240"/>
                </a:lnTo>
                <a:lnTo>
                  <a:pt x="439" y="231"/>
                </a:lnTo>
                <a:lnTo>
                  <a:pt x="439" y="223"/>
                </a:lnTo>
                <a:lnTo>
                  <a:pt x="439" y="213"/>
                </a:lnTo>
                <a:lnTo>
                  <a:pt x="439" y="206"/>
                </a:lnTo>
                <a:lnTo>
                  <a:pt x="437" y="198"/>
                </a:lnTo>
                <a:lnTo>
                  <a:pt x="437" y="192"/>
                </a:lnTo>
                <a:lnTo>
                  <a:pt x="437" y="184"/>
                </a:lnTo>
                <a:lnTo>
                  <a:pt x="437" y="179"/>
                </a:lnTo>
                <a:lnTo>
                  <a:pt x="435" y="173"/>
                </a:lnTo>
                <a:lnTo>
                  <a:pt x="435" y="169"/>
                </a:lnTo>
                <a:lnTo>
                  <a:pt x="435" y="165"/>
                </a:lnTo>
                <a:lnTo>
                  <a:pt x="434" y="161"/>
                </a:lnTo>
                <a:lnTo>
                  <a:pt x="434" y="158"/>
                </a:lnTo>
                <a:lnTo>
                  <a:pt x="432" y="154"/>
                </a:lnTo>
                <a:lnTo>
                  <a:pt x="432" y="152"/>
                </a:lnTo>
                <a:lnTo>
                  <a:pt x="428" y="150"/>
                </a:lnTo>
                <a:lnTo>
                  <a:pt x="424" y="148"/>
                </a:lnTo>
                <a:lnTo>
                  <a:pt x="418" y="146"/>
                </a:lnTo>
                <a:lnTo>
                  <a:pt x="412" y="146"/>
                </a:lnTo>
                <a:lnTo>
                  <a:pt x="405" y="144"/>
                </a:lnTo>
                <a:lnTo>
                  <a:pt x="395" y="144"/>
                </a:lnTo>
                <a:lnTo>
                  <a:pt x="384" y="142"/>
                </a:lnTo>
                <a:lnTo>
                  <a:pt x="372" y="142"/>
                </a:lnTo>
                <a:lnTo>
                  <a:pt x="361" y="142"/>
                </a:lnTo>
                <a:lnTo>
                  <a:pt x="347" y="144"/>
                </a:lnTo>
                <a:lnTo>
                  <a:pt x="332" y="144"/>
                </a:lnTo>
                <a:lnTo>
                  <a:pt x="316" y="146"/>
                </a:lnTo>
                <a:lnTo>
                  <a:pt x="299" y="146"/>
                </a:lnTo>
                <a:lnTo>
                  <a:pt x="282" y="148"/>
                </a:lnTo>
                <a:lnTo>
                  <a:pt x="263" y="150"/>
                </a:lnTo>
                <a:lnTo>
                  <a:pt x="243" y="152"/>
                </a:lnTo>
                <a:lnTo>
                  <a:pt x="222" y="156"/>
                </a:lnTo>
                <a:lnTo>
                  <a:pt x="201" y="159"/>
                </a:lnTo>
                <a:lnTo>
                  <a:pt x="182" y="163"/>
                </a:lnTo>
                <a:lnTo>
                  <a:pt x="163" y="167"/>
                </a:lnTo>
                <a:lnTo>
                  <a:pt x="146" y="171"/>
                </a:lnTo>
                <a:lnTo>
                  <a:pt x="128" y="173"/>
                </a:lnTo>
                <a:lnTo>
                  <a:pt x="111" y="177"/>
                </a:lnTo>
                <a:lnTo>
                  <a:pt x="96" y="179"/>
                </a:lnTo>
                <a:lnTo>
                  <a:pt x="80" y="181"/>
                </a:lnTo>
                <a:lnTo>
                  <a:pt x="67" y="183"/>
                </a:lnTo>
                <a:lnTo>
                  <a:pt x="53" y="184"/>
                </a:lnTo>
                <a:lnTo>
                  <a:pt x="40" y="184"/>
                </a:lnTo>
                <a:lnTo>
                  <a:pt x="28" y="186"/>
                </a:lnTo>
                <a:lnTo>
                  <a:pt x="17" y="186"/>
                </a:lnTo>
                <a:lnTo>
                  <a:pt x="7" y="186"/>
                </a:lnTo>
                <a:lnTo>
                  <a:pt x="0" y="186"/>
                </a:lnTo>
                <a:lnTo>
                  <a:pt x="0" y="106"/>
                </a:lnTo>
                <a:lnTo>
                  <a:pt x="38" y="100"/>
                </a:lnTo>
                <a:lnTo>
                  <a:pt x="75" y="96"/>
                </a:lnTo>
                <a:lnTo>
                  <a:pt x="113" y="90"/>
                </a:lnTo>
                <a:lnTo>
                  <a:pt x="148" y="87"/>
                </a:lnTo>
                <a:lnTo>
                  <a:pt x="182" y="81"/>
                </a:lnTo>
                <a:lnTo>
                  <a:pt x="215" y="73"/>
                </a:lnTo>
                <a:lnTo>
                  <a:pt x="247" y="65"/>
                </a:lnTo>
                <a:lnTo>
                  <a:pt x="280" y="58"/>
                </a:lnTo>
                <a:lnTo>
                  <a:pt x="293" y="56"/>
                </a:lnTo>
                <a:lnTo>
                  <a:pt x="309" y="54"/>
                </a:lnTo>
                <a:lnTo>
                  <a:pt x="322" y="52"/>
                </a:lnTo>
                <a:lnTo>
                  <a:pt x="336" y="48"/>
                </a:lnTo>
                <a:lnTo>
                  <a:pt x="349" y="46"/>
                </a:lnTo>
                <a:lnTo>
                  <a:pt x="361" y="44"/>
                </a:lnTo>
                <a:lnTo>
                  <a:pt x="372" y="42"/>
                </a:lnTo>
                <a:lnTo>
                  <a:pt x="382" y="40"/>
                </a:lnTo>
                <a:lnTo>
                  <a:pt x="391" y="39"/>
                </a:lnTo>
                <a:lnTo>
                  <a:pt x="399" y="37"/>
                </a:lnTo>
                <a:lnTo>
                  <a:pt x="407" y="33"/>
                </a:lnTo>
                <a:lnTo>
                  <a:pt x="414" y="31"/>
                </a:lnTo>
                <a:lnTo>
                  <a:pt x="420" y="29"/>
                </a:lnTo>
                <a:lnTo>
                  <a:pt x="424" y="27"/>
                </a:lnTo>
                <a:lnTo>
                  <a:pt x="428" y="25"/>
                </a:lnTo>
                <a:lnTo>
                  <a:pt x="432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99"/>
          <p:cNvSpPr/>
          <p:nvPr/>
        </p:nvSpPr>
        <p:spPr>
          <a:xfrm>
            <a:off x="6229440" y="3565440"/>
            <a:ext cx="1565280" cy="306360"/>
          </a:xfrm>
          <a:custGeom>
            <a:avLst/>
            <a:gdLst/>
            <a:ahLst/>
            <a:rect l="l" t="t" r="r" b="b"/>
            <a:pathLst>
              <a:path w="1971" h="386">
                <a:moveTo>
                  <a:pt x="1547" y="34"/>
                </a:moveTo>
                <a:lnTo>
                  <a:pt x="1570" y="31"/>
                </a:lnTo>
                <a:lnTo>
                  <a:pt x="1593" y="25"/>
                </a:lnTo>
                <a:lnTo>
                  <a:pt x="1614" y="21"/>
                </a:lnTo>
                <a:lnTo>
                  <a:pt x="1634" y="19"/>
                </a:lnTo>
                <a:lnTo>
                  <a:pt x="1653" y="15"/>
                </a:lnTo>
                <a:lnTo>
                  <a:pt x="1668" y="13"/>
                </a:lnTo>
                <a:lnTo>
                  <a:pt x="1685" y="9"/>
                </a:lnTo>
                <a:lnTo>
                  <a:pt x="1699" y="8"/>
                </a:lnTo>
                <a:lnTo>
                  <a:pt x="1714" y="6"/>
                </a:lnTo>
                <a:lnTo>
                  <a:pt x="1726" y="4"/>
                </a:lnTo>
                <a:lnTo>
                  <a:pt x="1737" y="2"/>
                </a:lnTo>
                <a:lnTo>
                  <a:pt x="1749" y="2"/>
                </a:lnTo>
                <a:lnTo>
                  <a:pt x="1758" y="0"/>
                </a:lnTo>
                <a:lnTo>
                  <a:pt x="1766" y="0"/>
                </a:lnTo>
                <a:lnTo>
                  <a:pt x="1776" y="0"/>
                </a:lnTo>
                <a:lnTo>
                  <a:pt x="1781" y="0"/>
                </a:lnTo>
                <a:lnTo>
                  <a:pt x="1791" y="4"/>
                </a:lnTo>
                <a:lnTo>
                  <a:pt x="1803" y="9"/>
                </a:lnTo>
                <a:lnTo>
                  <a:pt x="1814" y="17"/>
                </a:lnTo>
                <a:lnTo>
                  <a:pt x="1827" y="27"/>
                </a:lnTo>
                <a:lnTo>
                  <a:pt x="1843" y="36"/>
                </a:lnTo>
                <a:lnTo>
                  <a:pt x="1851" y="44"/>
                </a:lnTo>
                <a:lnTo>
                  <a:pt x="1858" y="50"/>
                </a:lnTo>
                <a:lnTo>
                  <a:pt x="1868" y="57"/>
                </a:lnTo>
                <a:lnTo>
                  <a:pt x="1877" y="65"/>
                </a:lnTo>
                <a:lnTo>
                  <a:pt x="1887" y="73"/>
                </a:lnTo>
                <a:lnTo>
                  <a:pt x="1899" y="80"/>
                </a:lnTo>
                <a:lnTo>
                  <a:pt x="1908" y="90"/>
                </a:lnTo>
                <a:lnTo>
                  <a:pt x="1920" y="98"/>
                </a:lnTo>
                <a:lnTo>
                  <a:pt x="1927" y="105"/>
                </a:lnTo>
                <a:lnTo>
                  <a:pt x="1935" y="113"/>
                </a:lnTo>
                <a:lnTo>
                  <a:pt x="1943" y="119"/>
                </a:lnTo>
                <a:lnTo>
                  <a:pt x="1950" y="125"/>
                </a:lnTo>
                <a:lnTo>
                  <a:pt x="1954" y="130"/>
                </a:lnTo>
                <a:lnTo>
                  <a:pt x="1960" y="136"/>
                </a:lnTo>
                <a:lnTo>
                  <a:pt x="1964" y="140"/>
                </a:lnTo>
                <a:lnTo>
                  <a:pt x="1968" y="144"/>
                </a:lnTo>
                <a:lnTo>
                  <a:pt x="1970" y="148"/>
                </a:lnTo>
                <a:lnTo>
                  <a:pt x="1971" y="151"/>
                </a:lnTo>
                <a:lnTo>
                  <a:pt x="1971" y="155"/>
                </a:lnTo>
                <a:lnTo>
                  <a:pt x="1971" y="157"/>
                </a:lnTo>
                <a:lnTo>
                  <a:pt x="1971" y="161"/>
                </a:lnTo>
                <a:lnTo>
                  <a:pt x="1970" y="163"/>
                </a:lnTo>
                <a:lnTo>
                  <a:pt x="1966" y="165"/>
                </a:lnTo>
                <a:lnTo>
                  <a:pt x="1960" y="167"/>
                </a:lnTo>
                <a:lnTo>
                  <a:pt x="1954" y="169"/>
                </a:lnTo>
                <a:lnTo>
                  <a:pt x="1945" y="173"/>
                </a:lnTo>
                <a:lnTo>
                  <a:pt x="1935" y="175"/>
                </a:lnTo>
                <a:lnTo>
                  <a:pt x="1922" y="176"/>
                </a:lnTo>
                <a:lnTo>
                  <a:pt x="1908" y="178"/>
                </a:lnTo>
                <a:lnTo>
                  <a:pt x="1891" y="178"/>
                </a:lnTo>
                <a:lnTo>
                  <a:pt x="1874" y="180"/>
                </a:lnTo>
                <a:lnTo>
                  <a:pt x="1854" y="182"/>
                </a:lnTo>
                <a:lnTo>
                  <a:pt x="1833" y="184"/>
                </a:lnTo>
                <a:lnTo>
                  <a:pt x="1810" y="184"/>
                </a:lnTo>
                <a:lnTo>
                  <a:pt x="1785" y="186"/>
                </a:lnTo>
                <a:lnTo>
                  <a:pt x="1758" y="186"/>
                </a:lnTo>
                <a:lnTo>
                  <a:pt x="1730" y="186"/>
                </a:lnTo>
                <a:lnTo>
                  <a:pt x="1701" y="186"/>
                </a:lnTo>
                <a:lnTo>
                  <a:pt x="1684" y="186"/>
                </a:lnTo>
                <a:lnTo>
                  <a:pt x="1666" y="186"/>
                </a:lnTo>
                <a:lnTo>
                  <a:pt x="1647" y="188"/>
                </a:lnTo>
                <a:lnTo>
                  <a:pt x="1628" y="188"/>
                </a:lnTo>
                <a:lnTo>
                  <a:pt x="1609" y="190"/>
                </a:lnTo>
                <a:lnTo>
                  <a:pt x="1589" y="190"/>
                </a:lnTo>
                <a:lnTo>
                  <a:pt x="1568" y="192"/>
                </a:lnTo>
                <a:lnTo>
                  <a:pt x="1545" y="194"/>
                </a:lnTo>
                <a:lnTo>
                  <a:pt x="1524" y="194"/>
                </a:lnTo>
                <a:lnTo>
                  <a:pt x="1501" y="196"/>
                </a:lnTo>
                <a:lnTo>
                  <a:pt x="1476" y="198"/>
                </a:lnTo>
                <a:lnTo>
                  <a:pt x="1453" y="201"/>
                </a:lnTo>
                <a:lnTo>
                  <a:pt x="1426" y="203"/>
                </a:lnTo>
                <a:lnTo>
                  <a:pt x="1401" y="205"/>
                </a:lnTo>
                <a:lnTo>
                  <a:pt x="1374" y="209"/>
                </a:lnTo>
                <a:lnTo>
                  <a:pt x="1348" y="211"/>
                </a:lnTo>
                <a:lnTo>
                  <a:pt x="1319" y="215"/>
                </a:lnTo>
                <a:lnTo>
                  <a:pt x="1290" y="217"/>
                </a:lnTo>
                <a:lnTo>
                  <a:pt x="1261" y="221"/>
                </a:lnTo>
                <a:lnTo>
                  <a:pt x="1231" y="224"/>
                </a:lnTo>
                <a:lnTo>
                  <a:pt x="1200" y="228"/>
                </a:lnTo>
                <a:lnTo>
                  <a:pt x="1167" y="232"/>
                </a:lnTo>
                <a:lnTo>
                  <a:pt x="1136" y="236"/>
                </a:lnTo>
                <a:lnTo>
                  <a:pt x="1102" y="240"/>
                </a:lnTo>
                <a:lnTo>
                  <a:pt x="1069" y="246"/>
                </a:lnTo>
                <a:lnTo>
                  <a:pt x="1035" y="249"/>
                </a:lnTo>
                <a:lnTo>
                  <a:pt x="998" y="255"/>
                </a:lnTo>
                <a:lnTo>
                  <a:pt x="962" y="259"/>
                </a:lnTo>
                <a:lnTo>
                  <a:pt x="925" y="265"/>
                </a:lnTo>
                <a:lnTo>
                  <a:pt x="889" y="271"/>
                </a:lnTo>
                <a:lnTo>
                  <a:pt x="850" y="274"/>
                </a:lnTo>
                <a:lnTo>
                  <a:pt x="810" y="280"/>
                </a:lnTo>
                <a:lnTo>
                  <a:pt x="772" y="288"/>
                </a:lnTo>
                <a:lnTo>
                  <a:pt x="733" y="294"/>
                </a:lnTo>
                <a:lnTo>
                  <a:pt x="697" y="299"/>
                </a:lnTo>
                <a:lnTo>
                  <a:pt x="662" y="305"/>
                </a:lnTo>
                <a:lnTo>
                  <a:pt x="628" y="311"/>
                </a:lnTo>
                <a:lnTo>
                  <a:pt x="595" y="317"/>
                </a:lnTo>
                <a:lnTo>
                  <a:pt x="563" y="322"/>
                </a:lnTo>
                <a:lnTo>
                  <a:pt x="532" y="328"/>
                </a:lnTo>
                <a:lnTo>
                  <a:pt x="503" y="332"/>
                </a:lnTo>
                <a:lnTo>
                  <a:pt x="474" y="338"/>
                </a:lnTo>
                <a:lnTo>
                  <a:pt x="447" y="342"/>
                </a:lnTo>
                <a:lnTo>
                  <a:pt x="421" y="345"/>
                </a:lnTo>
                <a:lnTo>
                  <a:pt x="396" y="349"/>
                </a:lnTo>
                <a:lnTo>
                  <a:pt x="373" y="353"/>
                </a:lnTo>
                <a:lnTo>
                  <a:pt x="349" y="357"/>
                </a:lnTo>
                <a:lnTo>
                  <a:pt x="328" y="361"/>
                </a:lnTo>
                <a:lnTo>
                  <a:pt x="307" y="363"/>
                </a:lnTo>
                <a:lnTo>
                  <a:pt x="290" y="366"/>
                </a:lnTo>
                <a:lnTo>
                  <a:pt x="271" y="368"/>
                </a:lnTo>
                <a:lnTo>
                  <a:pt x="254" y="372"/>
                </a:lnTo>
                <a:lnTo>
                  <a:pt x="238" y="374"/>
                </a:lnTo>
                <a:lnTo>
                  <a:pt x="225" y="376"/>
                </a:lnTo>
                <a:lnTo>
                  <a:pt x="211" y="378"/>
                </a:lnTo>
                <a:lnTo>
                  <a:pt x="200" y="380"/>
                </a:lnTo>
                <a:lnTo>
                  <a:pt x="188" y="382"/>
                </a:lnTo>
                <a:lnTo>
                  <a:pt x="179" y="382"/>
                </a:lnTo>
                <a:lnTo>
                  <a:pt x="169" y="384"/>
                </a:lnTo>
                <a:lnTo>
                  <a:pt x="161" y="384"/>
                </a:lnTo>
                <a:lnTo>
                  <a:pt x="156" y="386"/>
                </a:lnTo>
                <a:lnTo>
                  <a:pt x="152" y="386"/>
                </a:lnTo>
                <a:lnTo>
                  <a:pt x="146" y="386"/>
                </a:lnTo>
                <a:lnTo>
                  <a:pt x="144" y="386"/>
                </a:lnTo>
                <a:lnTo>
                  <a:pt x="138" y="386"/>
                </a:lnTo>
                <a:lnTo>
                  <a:pt x="131" y="386"/>
                </a:lnTo>
                <a:lnTo>
                  <a:pt x="125" y="384"/>
                </a:lnTo>
                <a:lnTo>
                  <a:pt x="117" y="382"/>
                </a:lnTo>
                <a:lnTo>
                  <a:pt x="104" y="376"/>
                </a:lnTo>
                <a:lnTo>
                  <a:pt x="92" y="370"/>
                </a:lnTo>
                <a:lnTo>
                  <a:pt x="79" y="363"/>
                </a:lnTo>
                <a:lnTo>
                  <a:pt x="65" y="351"/>
                </a:lnTo>
                <a:lnTo>
                  <a:pt x="52" y="340"/>
                </a:lnTo>
                <a:lnTo>
                  <a:pt x="39" y="328"/>
                </a:lnTo>
                <a:lnTo>
                  <a:pt x="33" y="320"/>
                </a:lnTo>
                <a:lnTo>
                  <a:pt x="27" y="315"/>
                </a:lnTo>
                <a:lnTo>
                  <a:pt x="21" y="311"/>
                </a:lnTo>
                <a:lnTo>
                  <a:pt x="17" y="305"/>
                </a:lnTo>
                <a:lnTo>
                  <a:pt x="14" y="301"/>
                </a:lnTo>
                <a:lnTo>
                  <a:pt x="10" y="297"/>
                </a:lnTo>
                <a:lnTo>
                  <a:pt x="6" y="294"/>
                </a:lnTo>
                <a:lnTo>
                  <a:pt x="4" y="290"/>
                </a:lnTo>
                <a:lnTo>
                  <a:pt x="2" y="286"/>
                </a:lnTo>
                <a:lnTo>
                  <a:pt x="0" y="284"/>
                </a:lnTo>
                <a:lnTo>
                  <a:pt x="0" y="280"/>
                </a:lnTo>
                <a:lnTo>
                  <a:pt x="0" y="278"/>
                </a:lnTo>
                <a:lnTo>
                  <a:pt x="0" y="276"/>
                </a:lnTo>
                <a:lnTo>
                  <a:pt x="0" y="274"/>
                </a:lnTo>
                <a:lnTo>
                  <a:pt x="2" y="271"/>
                </a:lnTo>
                <a:lnTo>
                  <a:pt x="4" y="269"/>
                </a:lnTo>
                <a:lnTo>
                  <a:pt x="6" y="269"/>
                </a:lnTo>
                <a:lnTo>
                  <a:pt x="10" y="269"/>
                </a:lnTo>
                <a:lnTo>
                  <a:pt x="14" y="269"/>
                </a:lnTo>
                <a:lnTo>
                  <a:pt x="19" y="269"/>
                </a:lnTo>
                <a:lnTo>
                  <a:pt x="25" y="269"/>
                </a:lnTo>
                <a:lnTo>
                  <a:pt x="31" y="269"/>
                </a:lnTo>
                <a:lnTo>
                  <a:pt x="39" y="269"/>
                </a:lnTo>
                <a:lnTo>
                  <a:pt x="48" y="267"/>
                </a:lnTo>
                <a:lnTo>
                  <a:pt x="56" y="267"/>
                </a:lnTo>
                <a:lnTo>
                  <a:pt x="67" y="267"/>
                </a:lnTo>
                <a:lnTo>
                  <a:pt x="77" y="265"/>
                </a:lnTo>
                <a:lnTo>
                  <a:pt x="88" y="265"/>
                </a:lnTo>
                <a:lnTo>
                  <a:pt x="102" y="263"/>
                </a:lnTo>
                <a:lnTo>
                  <a:pt x="115" y="261"/>
                </a:lnTo>
                <a:lnTo>
                  <a:pt x="129" y="259"/>
                </a:lnTo>
                <a:lnTo>
                  <a:pt x="144" y="257"/>
                </a:lnTo>
                <a:lnTo>
                  <a:pt x="159" y="255"/>
                </a:lnTo>
                <a:lnTo>
                  <a:pt x="179" y="251"/>
                </a:lnTo>
                <a:lnTo>
                  <a:pt x="198" y="249"/>
                </a:lnTo>
                <a:lnTo>
                  <a:pt x="219" y="246"/>
                </a:lnTo>
                <a:lnTo>
                  <a:pt x="242" y="244"/>
                </a:lnTo>
                <a:lnTo>
                  <a:pt x="267" y="240"/>
                </a:lnTo>
                <a:lnTo>
                  <a:pt x="294" y="236"/>
                </a:lnTo>
                <a:lnTo>
                  <a:pt x="323" y="230"/>
                </a:lnTo>
                <a:lnTo>
                  <a:pt x="338" y="228"/>
                </a:lnTo>
                <a:lnTo>
                  <a:pt x="353" y="226"/>
                </a:lnTo>
                <a:lnTo>
                  <a:pt x="369" y="224"/>
                </a:lnTo>
                <a:lnTo>
                  <a:pt x="386" y="221"/>
                </a:lnTo>
                <a:lnTo>
                  <a:pt x="403" y="219"/>
                </a:lnTo>
                <a:lnTo>
                  <a:pt x="421" y="217"/>
                </a:lnTo>
                <a:lnTo>
                  <a:pt x="438" y="213"/>
                </a:lnTo>
                <a:lnTo>
                  <a:pt x="457" y="211"/>
                </a:lnTo>
                <a:lnTo>
                  <a:pt x="476" y="209"/>
                </a:lnTo>
                <a:lnTo>
                  <a:pt x="495" y="205"/>
                </a:lnTo>
                <a:lnTo>
                  <a:pt x="515" y="203"/>
                </a:lnTo>
                <a:lnTo>
                  <a:pt x="536" y="199"/>
                </a:lnTo>
                <a:lnTo>
                  <a:pt x="557" y="196"/>
                </a:lnTo>
                <a:lnTo>
                  <a:pt x="578" y="194"/>
                </a:lnTo>
                <a:lnTo>
                  <a:pt x="601" y="190"/>
                </a:lnTo>
                <a:lnTo>
                  <a:pt x="624" y="186"/>
                </a:lnTo>
                <a:lnTo>
                  <a:pt x="666" y="180"/>
                </a:lnTo>
                <a:lnTo>
                  <a:pt x="708" y="173"/>
                </a:lnTo>
                <a:lnTo>
                  <a:pt x="751" y="167"/>
                </a:lnTo>
                <a:lnTo>
                  <a:pt x="791" y="159"/>
                </a:lnTo>
                <a:lnTo>
                  <a:pt x="829" y="153"/>
                </a:lnTo>
                <a:lnTo>
                  <a:pt x="866" y="148"/>
                </a:lnTo>
                <a:lnTo>
                  <a:pt x="902" y="142"/>
                </a:lnTo>
                <a:lnTo>
                  <a:pt x="939" y="134"/>
                </a:lnTo>
                <a:lnTo>
                  <a:pt x="971" y="128"/>
                </a:lnTo>
                <a:lnTo>
                  <a:pt x="1004" y="123"/>
                </a:lnTo>
                <a:lnTo>
                  <a:pt x="1037" y="117"/>
                </a:lnTo>
                <a:lnTo>
                  <a:pt x="1065" y="113"/>
                </a:lnTo>
                <a:lnTo>
                  <a:pt x="1094" y="107"/>
                </a:lnTo>
                <a:lnTo>
                  <a:pt x="1123" y="102"/>
                </a:lnTo>
                <a:lnTo>
                  <a:pt x="1148" y="98"/>
                </a:lnTo>
                <a:lnTo>
                  <a:pt x="1173" y="92"/>
                </a:lnTo>
                <a:lnTo>
                  <a:pt x="1221" y="88"/>
                </a:lnTo>
                <a:lnTo>
                  <a:pt x="1269" y="82"/>
                </a:lnTo>
                <a:lnTo>
                  <a:pt x="1317" y="75"/>
                </a:lnTo>
                <a:lnTo>
                  <a:pt x="1365" y="67"/>
                </a:lnTo>
                <a:lnTo>
                  <a:pt x="1411" y="59"/>
                </a:lnTo>
                <a:lnTo>
                  <a:pt x="1457" y="52"/>
                </a:lnTo>
                <a:lnTo>
                  <a:pt x="1503" y="42"/>
                </a:lnTo>
                <a:lnTo>
                  <a:pt x="1547" y="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00"/>
          <p:cNvSpPr/>
          <p:nvPr/>
        </p:nvSpPr>
        <p:spPr>
          <a:xfrm>
            <a:off x="6956280" y="3341520"/>
            <a:ext cx="290520" cy="223920"/>
          </a:xfrm>
          <a:custGeom>
            <a:avLst/>
            <a:gdLst/>
            <a:ahLst/>
            <a:rect l="l" t="t" r="r" b="b"/>
            <a:pathLst>
              <a:path w="366" h="282">
                <a:moveTo>
                  <a:pt x="363" y="151"/>
                </a:moveTo>
                <a:lnTo>
                  <a:pt x="364" y="161"/>
                </a:lnTo>
                <a:lnTo>
                  <a:pt x="366" y="169"/>
                </a:lnTo>
                <a:lnTo>
                  <a:pt x="366" y="184"/>
                </a:lnTo>
                <a:lnTo>
                  <a:pt x="366" y="199"/>
                </a:lnTo>
                <a:lnTo>
                  <a:pt x="366" y="211"/>
                </a:lnTo>
                <a:lnTo>
                  <a:pt x="363" y="222"/>
                </a:lnTo>
                <a:lnTo>
                  <a:pt x="359" y="232"/>
                </a:lnTo>
                <a:lnTo>
                  <a:pt x="357" y="236"/>
                </a:lnTo>
                <a:lnTo>
                  <a:pt x="355" y="240"/>
                </a:lnTo>
                <a:lnTo>
                  <a:pt x="353" y="243"/>
                </a:lnTo>
                <a:lnTo>
                  <a:pt x="351" y="245"/>
                </a:lnTo>
                <a:lnTo>
                  <a:pt x="347" y="253"/>
                </a:lnTo>
                <a:lnTo>
                  <a:pt x="341" y="261"/>
                </a:lnTo>
                <a:lnTo>
                  <a:pt x="334" y="266"/>
                </a:lnTo>
                <a:lnTo>
                  <a:pt x="328" y="272"/>
                </a:lnTo>
                <a:lnTo>
                  <a:pt x="320" y="276"/>
                </a:lnTo>
                <a:lnTo>
                  <a:pt x="315" y="278"/>
                </a:lnTo>
                <a:lnTo>
                  <a:pt x="309" y="280"/>
                </a:lnTo>
                <a:lnTo>
                  <a:pt x="305" y="282"/>
                </a:lnTo>
                <a:lnTo>
                  <a:pt x="301" y="280"/>
                </a:lnTo>
                <a:lnTo>
                  <a:pt x="297" y="278"/>
                </a:lnTo>
                <a:lnTo>
                  <a:pt x="293" y="276"/>
                </a:lnTo>
                <a:lnTo>
                  <a:pt x="286" y="272"/>
                </a:lnTo>
                <a:lnTo>
                  <a:pt x="280" y="268"/>
                </a:lnTo>
                <a:lnTo>
                  <a:pt x="272" y="263"/>
                </a:lnTo>
                <a:lnTo>
                  <a:pt x="263" y="255"/>
                </a:lnTo>
                <a:lnTo>
                  <a:pt x="253" y="247"/>
                </a:lnTo>
                <a:lnTo>
                  <a:pt x="242" y="240"/>
                </a:lnTo>
                <a:lnTo>
                  <a:pt x="230" y="228"/>
                </a:lnTo>
                <a:lnTo>
                  <a:pt x="217" y="219"/>
                </a:lnTo>
                <a:lnTo>
                  <a:pt x="203" y="207"/>
                </a:lnTo>
                <a:lnTo>
                  <a:pt x="190" y="194"/>
                </a:lnTo>
                <a:lnTo>
                  <a:pt x="174" y="180"/>
                </a:lnTo>
                <a:lnTo>
                  <a:pt x="157" y="167"/>
                </a:lnTo>
                <a:lnTo>
                  <a:pt x="140" y="151"/>
                </a:lnTo>
                <a:lnTo>
                  <a:pt x="123" y="136"/>
                </a:lnTo>
                <a:lnTo>
                  <a:pt x="107" y="123"/>
                </a:lnTo>
                <a:lnTo>
                  <a:pt x="94" y="109"/>
                </a:lnTo>
                <a:lnTo>
                  <a:pt x="80" y="96"/>
                </a:lnTo>
                <a:lnTo>
                  <a:pt x="67" y="84"/>
                </a:lnTo>
                <a:lnTo>
                  <a:pt x="55" y="73"/>
                </a:lnTo>
                <a:lnTo>
                  <a:pt x="46" y="63"/>
                </a:lnTo>
                <a:lnTo>
                  <a:pt x="36" y="53"/>
                </a:lnTo>
                <a:lnTo>
                  <a:pt x="27" y="44"/>
                </a:lnTo>
                <a:lnTo>
                  <a:pt x="21" y="36"/>
                </a:lnTo>
                <a:lnTo>
                  <a:pt x="13" y="28"/>
                </a:lnTo>
                <a:lnTo>
                  <a:pt x="9" y="21"/>
                </a:lnTo>
                <a:lnTo>
                  <a:pt x="5" y="15"/>
                </a:lnTo>
                <a:lnTo>
                  <a:pt x="2" y="9"/>
                </a:lnTo>
                <a:lnTo>
                  <a:pt x="2" y="4"/>
                </a:lnTo>
                <a:lnTo>
                  <a:pt x="0" y="0"/>
                </a:lnTo>
                <a:lnTo>
                  <a:pt x="19" y="0"/>
                </a:lnTo>
                <a:lnTo>
                  <a:pt x="38" y="0"/>
                </a:lnTo>
                <a:lnTo>
                  <a:pt x="57" y="0"/>
                </a:lnTo>
                <a:lnTo>
                  <a:pt x="75" y="2"/>
                </a:lnTo>
                <a:lnTo>
                  <a:pt x="109" y="4"/>
                </a:lnTo>
                <a:lnTo>
                  <a:pt x="142" y="7"/>
                </a:lnTo>
                <a:lnTo>
                  <a:pt x="172" y="13"/>
                </a:lnTo>
                <a:lnTo>
                  <a:pt x="203" y="19"/>
                </a:lnTo>
                <a:lnTo>
                  <a:pt x="230" y="27"/>
                </a:lnTo>
                <a:lnTo>
                  <a:pt x="257" y="34"/>
                </a:lnTo>
                <a:lnTo>
                  <a:pt x="268" y="40"/>
                </a:lnTo>
                <a:lnTo>
                  <a:pt x="278" y="48"/>
                </a:lnTo>
                <a:lnTo>
                  <a:pt x="288" y="53"/>
                </a:lnTo>
                <a:lnTo>
                  <a:pt x="297" y="61"/>
                </a:lnTo>
                <a:lnTo>
                  <a:pt x="305" y="67"/>
                </a:lnTo>
                <a:lnTo>
                  <a:pt x="313" y="75"/>
                </a:lnTo>
                <a:lnTo>
                  <a:pt x="320" y="82"/>
                </a:lnTo>
                <a:lnTo>
                  <a:pt x="328" y="88"/>
                </a:lnTo>
                <a:lnTo>
                  <a:pt x="334" y="96"/>
                </a:lnTo>
                <a:lnTo>
                  <a:pt x="339" y="103"/>
                </a:lnTo>
                <a:lnTo>
                  <a:pt x="345" y="111"/>
                </a:lnTo>
                <a:lnTo>
                  <a:pt x="349" y="119"/>
                </a:lnTo>
                <a:lnTo>
                  <a:pt x="353" y="126"/>
                </a:lnTo>
                <a:lnTo>
                  <a:pt x="357" y="134"/>
                </a:lnTo>
                <a:lnTo>
                  <a:pt x="361" y="144"/>
                </a:lnTo>
                <a:lnTo>
                  <a:pt x="363" y="1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01"/>
          <p:cNvSpPr/>
          <p:nvPr/>
        </p:nvSpPr>
        <p:spPr>
          <a:xfrm>
            <a:off x="6472080" y="3071880"/>
            <a:ext cx="920880" cy="245880"/>
          </a:xfrm>
          <a:custGeom>
            <a:avLst/>
            <a:gdLst/>
            <a:ahLst/>
            <a:rect l="l" t="t" r="r" b="b"/>
            <a:pathLst>
              <a:path w="1162" h="311">
                <a:moveTo>
                  <a:pt x="27" y="282"/>
                </a:moveTo>
                <a:lnTo>
                  <a:pt x="20" y="278"/>
                </a:lnTo>
                <a:lnTo>
                  <a:pt x="16" y="275"/>
                </a:lnTo>
                <a:lnTo>
                  <a:pt x="10" y="271"/>
                </a:lnTo>
                <a:lnTo>
                  <a:pt x="6" y="267"/>
                </a:lnTo>
                <a:lnTo>
                  <a:pt x="4" y="263"/>
                </a:lnTo>
                <a:lnTo>
                  <a:pt x="2" y="259"/>
                </a:lnTo>
                <a:lnTo>
                  <a:pt x="0" y="257"/>
                </a:lnTo>
                <a:lnTo>
                  <a:pt x="0" y="253"/>
                </a:lnTo>
                <a:lnTo>
                  <a:pt x="0" y="251"/>
                </a:lnTo>
                <a:lnTo>
                  <a:pt x="2" y="250"/>
                </a:lnTo>
                <a:lnTo>
                  <a:pt x="4" y="246"/>
                </a:lnTo>
                <a:lnTo>
                  <a:pt x="6" y="244"/>
                </a:lnTo>
                <a:lnTo>
                  <a:pt x="10" y="242"/>
                </a:lnTo>
                <a:lnTo>
                  <a:pt x="16" y="240"/>
                </a:lnTo>
                <a:lnTo>
                  <a:pt x="20" y="238"/>
                </a:lnTo>
                <a:lnTo>
                  <a:pt x="27" y="236"/>
                </a:lnTo>
                <a:lnTo>
                  <a:pt x="29" y="234"/>
                </a:lnTo>
                <a:lnTo>
                  <a:pt x="35" y="232"/>
                </a:lnTo>
                <a:lnTo>
                  <a:pt x="39" y="230"/>
                </a:lnTo>
                <a:lnTo>
                  <a:pt x="44" y="230"/>
                </a:lnTo>
                <a:lnTo>
                  <a:pt x="52" y="228"/>
                </a:lnTo>
                <a:lnTo>
                  <a:pt x="58" y="227"/>
                </a:lnTo>
                <a:lnTo>
                  <a:pt x="66" y="225"/>
                </a:lnTo>
                <a:lnTo>
                  <a:pt x="75" y="221"/>
                </a:lnTo>
                <a:lnTo>
                  <a:pt x="83" y="219"/>
                </a:lnTo>
                <a:lnTo>
                  <a:pt x="94" y="217"/>
                </a:lnTo>
                <a:lnTo>
                  <a:pt x="104" y="213"/>
                </a:lnTo>
                <a:lnTo>
                  <a:pt x="116" y="211"/>
                </a:lnTo>
                <a:lnTo>
                  <a:pt x="127" y="207"/>
                </a:lnTo>
                <a:lnTo>
                  <a:pt x="140" y="205"/>
                </a:lnTo>
                <a:lnTo>
                  <a:pt x="152" y="202"/>
                </a:lnTo>
                <a:lnTo>
                  <a:pt x="167" y="198"/>
                </a:lnTo>
                <a:lnTo>
                  <a:pt x="181" y="194"/>
                </a:lnTo>
                <a:lnTo>
                  <a:pt x="196" y="190"/>
                </a:lnTo>
                <a:lnTo>
                  <a:pt x="213" y="184"/>
                </a:lnTo>
                <a:lnTo>
                  <a:pt x="229" y="180"/>
                </a:lnTo>
                <a:lnTo>
                  <a:pt x="246" y="177"/>
                </a:lnTo>
                <a:lnTo>
                  <a:pt x="265" y="171"/>
                </a:lnTo>
                <a:lnTo>
                  <a:pt x="284" y="165"/>
                </a:lnTo>
                <a:lnTo>
                  <a:pt x="304" y="159"/>
                </a:lnTo>
                <a:lnTo>
                  <a:pt x="323" y="154"/>
                </a:lnTo>
                <a:lnTo>
                  <a:pt x="344" y="148"/>
                </a:lnTo>
                <a:lnTo>
                  <a:pt x="365" y="142"/>
                </a:lnTo>
                <a:lnTo>
                  <a:pt x="388" y="134"/>
                </a:lnTo>
                <a:lnTo>
                  <a:pt x="409" y="129"/>
                </a:lnTo>
                <a:lnTo>
                  <a:pt x="434" y="121"/>
                </a:lnTo>
                <a:lnTo>
                  <a:pt x="457" y="113"/>
                </a:lnTo>
                <a:lnTo>
                  <a:pt x="482" y="106"/>
                </a:lnTo>
                <a:lnTo>
                  <a:pt x="507" y="100"/>
                </a:lnTo>
                <a:lnTo>
                  <a:pt x="532" y="92"/>
                </a:lnTo>
                <a:lnTo>
                  <a:pt x="555" y="86"/>
                </a:lnTo>
                <a:lnTo>
                  <a:pt x="578" y="81"/>
                </a:lnTo>
                <a:lnTo>
                  <a:pt x="599" y="75"/>
                </a:lnTo>
                <a:lnTo>
                  <a:pt x="622" y="69"/>
                </a:lnTo>
                <a:lnTo>
                  <a:pt x="641" y="63"/>
                </a:lnTo>
                <a:lnTo>
                  <a:pt x="663" y="60"/>
                </a:lnTo>
                <a:lnTo>
                  <a:pt x="682" y="54"/>
                </a:lnTo>
                <a:lnTo>
                  <a:pt x="701" y="50"/>
                </a:lnTo>
                <a:lnTo>
                  <a:pt x="718" y="46"/>
                </a:lnTo>
                <a:lnTo>
                  <a:pt x="737" y="40"/>
                </a:lnTo>
                <a:lnTo>
                  <a:pt x="755" y="36"/>
                </a:lnTo>
                <a:lnTo>
                  <a:pt x="770" y="33"/>
                </a:lnTo>
                <a:lnTo>
                  <a:pt x="785" y="29"/>
                </a:lnTo>
                <a:lnTo>
                  <a:pt x="801" y="27"/>
                </a:lnTo>
                <a:lnTo>
                  <a:pt x="816" y="23"/>
                </a:lnTo>
                <a:lnTo>
                  <a:pt x="830" y="19"/>
                </a:lnTo>
                <a:lnTo>
                  <a:pt x="843" y="17"/>
                </a:lnTo>
                <a:lnTo>
                  <a:pt x="855" y="15"/>
                </a:lnTo>
                <a:lnTo>
                  <a:pt x="868" y="12"/>
                </a:lnTo>
                <a:lnTo>
                  <a:pt x="879" y="10"/>
                </a:lnTo>
                <a:lnTo>
                  <a:pt x="889" y="8"/>
                </a:lnTo>
                <a:lnTo>
                  <a:pt x="901" y="6"/>
                </a:lnTo>
                <a:lnTo>
                  <a:pt x="910" y="6"/>
                </a:lnTo>
                <a:lnTo>
                  <a:pt x="920" y="4"/>
                </a:lnTo>
                <a:lnTo>
                  <a:pt x="927" y="2"/>
                </a:lnTo>
                <a:lnTo>
                  <a:pt x="935" y="2"/>
                </a:lnTo>
                <a:lnTo>
                  <a:pt x="943" y="0"/>
                </a:lnTo>
                <a:lnTo>
                  <a:pt x="950" y="0"/>
                </a:lnTo>
                <a:lnTo>
                  <a:pt x="956" y="0"/>
                </a:lnTo>
                <a:lnTo>
                  <a:pt x="962" y="0"/>
                </a:lnTo>
                <a:lnTo>
                  <a:pt x="983" y="0"/>
                </a:lnTo>
                <a:lnTo>
                  <a:pt x="1004" y="2"/>
                </a:lnTo>
                <a:lnTo>
                  <a:pt x="1023" y="4"/>
                </a:lnTo>
                <a:lnTo>
                  <a:pt x="1041" y="8"/>
                </a:lnTo>
                <a:lnTo>
                  <a:pt x="1058" y="12"/>
                </a:lnTo>
                <a:lnTo>
                  <a:pt x="1073" y="15"/>
                </a:lnTo>
                <a:lnTo>
                  <a:pt x="1089" y="19"/>
                </a:lnTo>
                <a:lnTo>
                  <a:pt x="1102" y="23"/>
                </a:lnTo>
                <a:lnTo>
                  <a:pt x="1116" y="33"/>
                </a:lnTo>
                <a:lnTo>
                  <a:pt x="1125" y="40"/>
                </a:lnTo>
                <a:lnTo>
                  <a:pt x="1137" y="46"/>
                </a:lnTo>
                <a:lnTo>
                  <a:pt x="1144" y="52"/>
                </a:lnTo>
                <a:lnTo>
                  <a:pt x="1152" y="58"/>
                </a:lnTo>
                <a:lnTo>
                  <a:pt x="1154" y="60"/>
                </a:lnTo>
                <a:lnTo>
                  <a:pt x="1156" y="61"/>
                </a:lnTo>
                <a:lnTo>
                  <a:pt x="1158" y="63"/>
                </a:lnTo>
                <a:lnTo>
                  <a:pt x="1160" y="67"/>
                </a:lnTo>
                <a:lnTo>
                  <a:pt x="1160" y="69"/>
                </a:lnTo>
                <a:lnTo>
                  <a:pt x="1162" y="71"/>
                </a:lnTo>
                <a:lnTo>
                  <a:pt x="1160" y="75"/>
                </a:lnTo>
                <a:lnTo>
                  <a:pt x="1158" y="79"/>
                </a:lnTo>
                <a:lnTo>
                  <a:pt x="1156" y="84"/>
                </a:lnTo>
                <a:lnTo>
                  <a:pt x="1150" y="88"/>
                </a:lnTo>
                <a:lnTo>
                  <a:pt x="1144" y="92"/>
                </a:lnTo>
                <a:lnTo>
                  <a:pt x="1141" y="94"/>
                </a:lnTo>
                <a:lnTo>
                  <a:pt x="1137" y="98"/>
                </a:lnTo>
                <a:lnTo>
                  <a:pt x="1131" y="100"/>
                </a:lnTo>
                <a:lnTo>
                  <a:pt x="1127" y="102"/>
                </a:lnTo>
                <a:lnTo>
                  <a:pt x="1121" y="104"/>
                </a:lnTo>
                <a:lnTo>
                  <a:pt x="1114" y="106"/>
                </a:lnTo>
                <a:lnTo>
                  <a:pt x="1110" y="108"/>
                </a:lnTo>
                <a:lnTo>
                  <a:pt x="1106" y="109"/>
                </a:lnTo>
                <a:lnTo>
                  <a:pt x="1100" y="109"/>
                </a:lnTo>
                <a:lnTo>
                  <a:pt x="1094" y="111"/>
                </a:lnTo>
                <a:lnTo>
                  <a:pt x="1089" y="113"/>
                </a:lnTo>
                <a:lnTo>
                  <a:pt x="1081" y="115"/>
                </a:lnTo>
                <a:lnTo>
                  <a:pt x="1073" y="117"/>
                </a:lnTo>
                <a:lnTo>
                  <a:pt x="1064" y="119"/>
                </a:lnTo>
                <a:lnTo>
                  <a:pt x="1054" y="121"/>
                </a:lnTo>
                <a:lnTo>
                  <a:pt x="1043" y="125"/>
                </a:lnTo>
                <a:lnTo>
                  <a:pt x="1033" y="127"/>
                </a:lnTo>
                <a:lnTo>
                  <a:pt x="1020" y="129"/>
                </a:lnTo>
                <a:lnTo>
                  <a:pt x="1008" y="132"/>
                </a:lnTo>
                <a:lnTo>
                  <a:pt x="995" y="134"/>
                </a:lnTo>
                <a:lnTo>
                  <a:pt x="979" y="138"/>
                </a:lnTo>
                <a:lnTo>
                  <a:pt x="966" y="140"/>
                </a:lnTo>
                <a:lnTo>
                  <a:pt x="949" y="144"/>
                </a:lnTo>
                <a:lnTo>
                  <a:pt x="933" y="148"/>
                </a:lnTo>
                <a:lnTo>
                  <a:pt x="916" y="152"/>
                </a:lnTo>
                <a:lnTo>
                  <a:pt x="897" y="155"/>
                </a:lnTo>
                <a:lnTo>
                  <a:pt x="879" y="159"/>
                </a:lnTo>
                <a:lnTo>
                  <a:pt x="858" y="163"/>
                </a:lnTo>
                <a:lnTo>
                  <a:pt x="839" y="167"/>
                </a:lnTo>
                <a:lnTo>
                  <a:pt x="818" y="171"/>
                </a:lnTo>
                <a:lnTo>
                  <a:pt x="797" y="177"/>
                </a:lnTo>
                <a:lnTo>
                  <a:pt x="774" y="180"/>
                </a:lnTo>
                <a:lnTo>
                  <a:pt x="751" y="186"/>
                </a:lnTo>
                <a:lnTo>
                  <a:pt x="726" y="190"/>
                </a:lnTo>
                <a:lnTo>
                  <a:pt x="701" y="196"/>
                </a:lnTo>
                <a:lnTo>
                  <a:pt x="676" y="202"/>
                </a:lnTo>
                <a:lnTo>
                  <a:pt x="649" y="205"/>
                </a:lnTo>
                <a:lnTo>
                  <a:pt x="622" y="211"/>
                </a:lnTo>
                <a:lnTo>
                  <a:pt x="595" y="217"/>
                </a:lnTo>
                <a:lnTo>
                  <a:pt x="570" y="223"/>
                </a:lnTo>
                <a:lnTo>
                  <a:pt x="544" y="228"/>
                </a:lnTo>
                <a:lnTo>
                  <a:pt x="519" y="232"/>
                </a:lnTo>
                <a:lnTo>
                  <a:pt x="496" y="238"/>
                </a:lnTo>
                <a:lnTo>
                  <a:pt x="473" y="242"/>
                </a:lnTo>
                <a:lnTo>
                  <a:pt x="450" y="248"/>
                </a:lnTo>
                <a:lnTo>
                  <a:pt x="428" y="251"/>
                </a:lnTo>
                <a:lnTo>
                  <a:pt x="407" y="255"/>
                </a:lnTo>
                <a:lnTo>
                  <a:pt x="386" y="259"/>
                </a:lnTo>
                <a:lnTo>
                  <a:pt x="367" y="265"/>
                </a:lnTo>
                <a:lnTo>
                  <a:pt x="348" y="269"/>
                </a:lnTo>
                <a:lnTo>
                  <a:pt x="330" y="271"/>
                </a:lnTo>
                <a:lnTo>
                  <a:pt x="313" y="275"/>
                </a:lnTo>
                <a:lnTo>
                  <a:pt x="296" y="278"/>
                </a:lnTo>
                <a:lnTo>
                  <a:pt x="281" y="280"/>
                </a:lnTo>
                <a:lnTo>
                  <a:pt x="265" y="284"/>
                </a:lnTo>
                <a:lnTo>
                  <a:pt x="252" y="286"/>
                </a:lnTo>
                <a:lnTo>
                  <a:pt x="238" y="290"/>
                </a:lnTo>
                <a:lnTo>
                  <a:pt x="225" y="292"/>
                </a:lnTo>
                <a:lnTo>
                  <a:pt x="213" y="294"/>
                </a:lnTo>
                <a:lnTo>
                  <a:pt x="202" y="296"/>
                </a:lnTo>
                <a:lnTo>
                  <a:pt x="192" y="298"/>
                </a:lnTo>
                <a:lnTo>
                  <a:pt x="183" y="299"/>
                </a:lnTo>
                <a:lnTo>
                  <a:pt x="173" y="301"/>
                </a:lnTo>
                <a:lnTo>
                  <a:pt x="165" y="301"/>
                </a:lnTo>
                <a:lnTo>
                  <a:pt x="158" y="303"/>
                </a:lnTo>
                <a:lnTo>
                  <a:pt x="150" y="303"/>
                </a:lnTo>
                <a:lnTo>
                  <a:pt x="144" y="305"/>
                </a:lnTo>
                <a:lnTo>
                  <a:pt x="139" y="305"/>
                </a:lnTo>
                <a:lnTo>
                  <a:pt x="135" y="305"/>
                </a:lnTo>
                <a:lnTo>
                  <a:pt x="131" y="305"/>
                </a:lnTo>
                <a:lnTo>
                  <a:pt x="125" y="307"/>
                </a:lnTo>
                <a:lnTo>
                  <a:pt x="117" y="309"/>
                </a:lnTo>
                <a:lnTo>
                  <a:pt x="112" y="311"/>
                </a:lnTo>
                <a:lnTo>
                  <a:pt x="106" y="311"/>
                </a:lnTo>
                <a:lnTo>
                  <a:pt x="98" y="311"/>
                </a:lnTo>
                <a:lnTo>
                  <a:pt x="92" y="309"/>
                </a:lnTo>
                <a:lnTo>
                  <a:pt x="79" y="307"/>
                </a:lnTo>
                <a:lnTo>
                  <a:pt x="66" y="303"/>
                </a:lnTo>
                <a:lnTo>
                  <a:pt x="52" y="298"/>
                </a:lnTo>
                <a:lnTo>
                  <a:pt x="39" y="290"/>
                </a:lnTo>
                <a:lnTo>
                  <a:pt x="27" y="2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02"/>
          <p:cNvSpPr/>
          <p:nvPr/>
        </p:nvSpPr>
        <p:spPr>
          <a:xfrm>
            <a:off x="6527880" y="2720880"/>
            <a:ext cx="512640" cy="968400"/>
          </a:xfrm>
          <a:custGeom>
            <a:avLst/>
            <a:gdLst/>
            <a:ahLst/>
            <a:rect l="l" t="t" r="r" b="b"/>
            <a:pathLst>
              <a:path w="645" h="1220">
                <a:moveTo>
                  <a:pt x="131" y="1028"/>
                </a:moveTo>
                <a:lnTo>
                  <a:pt x="150" y="1005"/>
                </a:lnTo>
                <a:lnTo>
                  <a:pt x="169" y="984"/>
                </a:lnTo>
                <a:lnTo>
                  <a:pt x="187" y="961"/>
                </a:lnTo>
                <a:lnTo>
                  <a:pt x="204" y="938"/>
                </a:lnTo>
                <a:lnTo>
                  <a:pt x="221" y="915"/>
                </a:lnTo>
                <a:lnTo>
                  <a:pt x="238" y="890"/>
                </a:lnTo>
                <a:lnTo>
                  <a:pt x="254" y="867"/>
                </a:lnTo>
                <a:lnTo>
                  <a:pt x="269" y="844"/>
                </a:lnTo>
                <a:lnTo>
                  <a:pt x="284" y="819"/>
                </a:lnTo>
                <a:lnTo>
                  <a:pt x="298" y="794"/>
                </a:lnTo>
                <a:lnTo>
                  <a:pt x="311" y="769"/>
                </a:lnTo>
                <a:lnTo>
                  <a:pt x="323" y="744"/>
                </a:lnTo>
                <a:lnTo>
                  <a:pt x="334" y="719"/>
                </a:lnTo>
                <a:lnTo>
                  <a:pt x="346" y="694"/>
                </a:lnTo>
                <a:lnTo>
                  <a:pt x="355" y="668"/>
                </a:lnTo>
                <a:lnTo>
                  <a:pt x="365" y="641"/>
                </a:lnTo>
                <a:lnTo>
                  <a:pt x="390" y="545"/>
                </a:lnTo>
                <a:lnTo>
                  <a:pt x="403" y="497"/>
                </a:lnTo>
                <a:lnTo>
                  <a:pt x="415" y="449"/>
                </a:lnTo>
                <a:lnTo>
                  <a:pt x="425" y="401"/>
                </a:lnTo>
                <a:lnTo>
                  <a:pt x="434" y="355"/>
                </a:lnTo>
                <a:lnTo>
                  <a:pt x="438" y="332"/>
                </a:lnTo>
                <a:lnTo>
                  <a:pt x="442" y="310"/>
                </a:lnTo>
                <a:lnTo>
                  <a:pt x="444" y="287"/>
                </a:lnTo>
                <a:lnTo>
                  <a:pt x="448" y="264"/>
                </a:lnTo>
                <a:lnTo>
                  <a:pt x="450" y="245"/>
                </a:lnTo>
                <a:lnTo>
                  <a:pt x="450" y="228"/>
                </a:lnTo>
                <a:lnTo>
                  <a:pt x="451" y="209"/>
                </a:lnTo>
                <a:lnTo>
                  <a:pt x="451" y="193"/>
                </a:lnTo>
                <a:lnTo>
                  <a:pt x="451" y="176"/>
                </a:lnTo>
                <a:lnTo>
                  <a:pt x="451" y="161"/>
                </a:lnTo>
                <a:lnTo>
                  <a:pt x="450" y="147"/>
                </a:lnTo>
                <a:lnTo>
                  <a:pt x="450" y="134"/>
                </a:lnTo>
                <a:lnTo>
                  <a:pt x="448" y="122"/>
                </a:lnTo>
                <a:lnTo>
                  <a:pt x="446" y="111"/>
                </a:lnTo>
                <a:lnTo>
                  <a:pt x="446" y="101"/>
                </a:lnTo>
                <a:lnTo>
                  <a:pt x="444" y="92"/>
                </a:lnTo>
                <a:lnTo>
                  <a:pt x="442" y="84"/>
                </a:lnTo>
                <a:lnTo>
                  <a:pt x="440" y="76"/>
                </a:lnTo>
                <a:lnTo>
                  <a:pt x="436" y="71"/>
                </a:lnTo>
                <a:lnTo>
                  <a:pt x="434" y="65"/>
                </a:lnTo>
                <a:lnTo>
                  <a:pt x="430" y="61"/>
                </a:lnTo>
                <a:lnTo>
                  <a:pt x="426" y="57"/>
                </a:lnTo>
                <a:lnTo>
                  <a:pt x="425" y="51"/>
                </a:lnTo>
                <a:lnTo>
                  <a:pt x="421" y="48"/>
                </a:lnTo>
                <a:lnTo>
                  <a:pt x="419" y="40"/>
                </a:lnTo>
                <a:lnTo>
                  <a:pt x="417" y="32"/>
                </a:lnTo>
                <a:lnTo>
                  <a:pt x="415" y="24"/>
                </a:lnTo>
                <a:lnTo>
                  <a:pt x="417" y="17"/>
                </a:lnTo>
                <a:lnTo>
                  <a:pt x="419" y="11"/>
                </a:lnTo>
                <a:lnTo>
                  <a:pt x="423" y="7"/>
                </a:lnTo>
                <a:lnTo>
                  <a:pt x="426" y="5"/>
                </a:lnTo>
                <a:lnTo>
                  <a:pt x="428" y="3"/>
                </a:lnTo>
                <a:lnTo>
                  <a:pt x="432" y="1"/>
                </a:lnTo>
                <a:lnTo>
                  <a:pt x="436" y="0"/>
                </a:lnTo>
                <a:lnTo>
                  <a:pt x="442" y="0"/>
                </a:lnTo>
                <a:lnTo>
                  <a:pt x="448" y="0"/>
                </a:lnTo>
                <a:lnTo>
                  <a:pt x="453" y="0"/>
                </a:lnTo>
                <a:lnTo>
                  <a:pt x="459" y="0"/>
                </a:lnTo>
                <a:lnTo>
                  <a:pt x="467" y="0"/>
                </a:lnTo>
                <a:lnTo>
                  <a:pt x="476" y="1"/>
                </a:lnTo>
                <a:lnTo>
                  <a:pt x="484" y="3"/>
                </a:lnTo>
                <a:lnTo>
                  <a:pt x="494" y="5"/>
                </a:lnTo>
                <a:lnTo>
                  <a:pt x="505" y="7"/>
                </a:lnTo>
                <a:lnTo>
                  <a:pt x="515" y="11"/>
                </a:lnTo>
                <a:lnTo>
                  <a:pt x="528" y="15"/>
                </a:lnTo>
                <a:lnTo>
                  <a:pt x="540" y="19"/>
                </a:lnTo>
                <a:lnTo>
                  <a:pt x="551" y="23"/>
                </a:lnTo>
                <a:lnTo>
                  <a:pt x="561" y="26"/>
                </a:lnTo>
                <a:lnTo>
                  <a:pt x="570" y="32"/>
                </a:lnTo>
                <a:lnTo>
                  <a:pt x="580" y="36"/>
                </a:lnTo>
                <a:lnTo>
                  <a:pt x="588" y="40"/>
                </a:lnTo>
                <a:lnTo>
                  <a:pt x="595" y="44"/>
                </a:lnTo>
                <a:lnTo>
                  <a:pt x="603" y="48"/>
                </a:lnTo>
                <a:lnTo>
                  <a:pt x="611" y="51"/>
                </a:lnTo>
                <a:lnTo>
                  <a:pt x="617" y="55"/>
                </a:lnTo>
                <a:lnTo>
                  <a:pt x="622" y="59"/>
                </a:lnTo>
                <a:lnTo>
                  <a:pt x="628" y="63"/>
                </a:lnTo>
                <a:lnTo>
                  <a:pt x="632" y="67"/>
                </a:lnTo>
                <a:lnTo>
                  <a:pt x="636" y="69"/>
                </a:lnTo>
                <a:lnTo>
                  <a:pt x="640" y="72"/>
                </a:lnTo>
                <a:lnTo>
                  <a:pt x="643" y="74"/>
                </a:lnTo>
                <a:lnTo>
                  <a:pt x="645" y="78"/>
                </a:lnTo>
                <a:lnTo>
                  <a:pt x="645" y="80"/>
                </a:lnTo>
                <a:lnTo>
                  <a:pt x="645" y="84"/>
                </a:lnTo>
                <a:lnTo>
                  <a:pt x="643" y="92"/>
                </a:lnTo>
                <a:lnTo>
                  <a:pt x="643" y="99"/>
                </a:lnTo>
                <a:lnTo>
                  <a:pt x="641" y="109"/>
                </a:lnTo>
                <a:lnTo>
                  <a:pt x="640" y="119"/>
                </a:lnTo>
                <a:lnTo>
                  <a:pt x="638" y="130"/>
                </a:lnTo>
                <a:lnTo>
                  <a:pt x="636" y="145"/>
                </a:lnTo>
                <a:lnTo>
                  <a:pt x="634" y="159"/>
                </a:lnTo>
                <a:lnTo>
                  <a:pt x="632" y="176"/>
                </a:lnTo>
                <a:lnTo>
                  <a:pt x="628" y="193"/>
                </a:lnTo>
                <a:lnTo>
                  <a:pt x="626" y="213"/>
                </a:lnTo>
                <a:lnTo>
                  <a:pt x="622" y="232"/>
                </a:lnTo>
                <a:lnTo>
                  <a:pt x="618" y="255"/>
                </a:lnTo>
                <a:lnTo>
                  <a:pt x="615" y="276"/>
                </a:lnTo>
                <a:lnTo>
                  <a:pt x="611" y="301"/>
                </a:lnTo>
                <a:lnTo>
                  <a:pt x="597" y="349"/>
                </a:lnTo>
                <a:lnTo>
                  <a:pt x="584" y="397"/>
                </a:lnTo>
                <a:lnTo>
                  <a:pt x="570" y="445"/>
                </a:lnTo>
                <a:lnTo>
                  <a:pt x="557" y="491"/>
                </a:lnTo>
                <a:lnTo>
                  <a:pt x="544" y="537"/>
                </a:lnTo>
                <a:lnTo>
                  <a:pt x="532" y="581"/>
                </a:lnTo>
                <a:lnTo>
                  <a:pt x="519" y="623"/>
                </a:lnTo>
                <a:lnTo>
                  <a:pt x="511" y="644"/>
                </a:lnTo>
                <a:lnTo>
                  <a:pt x="505" y="666"/>
                </a:lnTo>
                <a:lnTo>
                  <a:pt x="498" y="687"/>
                </a:lnTo>
                <a:lnTo>
                  <a:pt x="492" y="708"/>
                </a:lnTo>
                <a:lnTo>
                  <a:pt x="484" y="729"/>
                </a:lnTo>
                <a:lnTo>
                  <a:pt x="474" y="748"/>
                </a:lnTo>
                <a:lnTo>
                  <a:pt x="467" y="767"/>
                </a:lnTo>
                <a:lnTo>
                  <a:pt x="457" y="787"/>
                </a:lnTo>
                <a:lnTo>
                  <a:pt x="448" y="806"/>
                </a:lnTo>
                <a:lnTo>
                  <a:pt x="438" y="823"/>
                </a:lnTo>
                <a:lnTo>
                  <a:pt x="428" y="840"/>
                </a:lnTo>
                <a:lnTo>
                  <a:pt x="417" y="858"/>
                </a:lnTo>
                <a:lnTo>
                  <a:pt x="407" y="873"/>
                </a:lnTo>
                <a:lnTo>
                  <a:pt x="396" y="888"/>
                </a:lnTo>
                <a:lnTo>
                  <a:pt x="386" y="904"/>
                </a:lnTo>
                <a:lnTo>
                  <a:pt x="375" y="919"/>
                </a:lnTo>
                <a:lnTo>
                  <a:pt x="363" y="932"/>
                </a:lnTo>
                <a:lnTo>
                  <a:pt x="354" y="946"/>
                </a:lnTo>
                <a:lnTo>
                  <a:pt x="340" y="961"/>
                </a:lnTo>
                <a:lnTo>
                  <a:pt x="327" y="977"/>
                </a:lnTo>
                <a:lnTo>
                  <a:pt x="313" y="990"/>
                </a:lnTo>
                <a:lnTo>
                  <a:pt x="300" y="1003"/>
                </a:lnTo>
                <a:lnTo>
                  <a:pt x="275" y="1030"/>
                </a:lnTo>
                <a:lnTo>
                  <a:pt x="248" y="1055"/>
                </a:lnTo>
                <a:lnTo>
                  <a:pt x="221" y="1078"/>
                </a:lnTo>
                <a:lnTo>
                  <a:pt x="194" y="1101"/>
                </a:lnTo>
                <a:lnTo>
                  <a:pt x="142" y="1145"/>
                </a:lnTo>
                <a:lnTo>
                  <a:pt x="127" y="1157"/>
                </a:lnTo>
                <a:lnTo>
                  <a:pt x="114" y="1167"/>
                </a:lnTo>
                <a:lnTo>
                  <a:pt x="100" y="1176"/>
                </a:lnTo>
                <a:lnTo>
                  <a:pt x="89" y="1184"/>
                </a:lnTo>
                <a:lnTo>
                  <a:pt x="75" y="1192"/>
                </a:lnTo>
                <a:lnTo>
                  <a:pt x="66" y="1197"/>
                </a:lnTo>
                <a:lnTo>
                  <a:pt x="56" y="1203"/>
                </a:lnTo>
                <a:lnTo>
                  <a:pt x="46" y="1209"/>
                </a:lnTo>
                <a:lnTo>
                  <a:pt x="37" y="1213"/>
                </a:lnTo>
                <a:lnTo>
                  <a:pt x="29" y="1215"/>
                </a:lnTo>
                <a:lnTo>
                  <a:pt x="23" y="1218"/>
                </a:lnTo>
                <a:lnTo>
                  <a:pt x="18" y="1218"/>
                </a:lnTo>
                <a:lnTo>
                  <a:pt x="12" y="1220"/>
                </a:lnTo>
                <a:lnTo>
                  <a:pt x="8" y="1220"/>
                </a:lnTo>
                <a:lnTo>
                  <a:pt x="4" y="1218"/>
                </a:lnTo>
                <a:lnTo>
                  <a:pt x="2" y="1216"/>
                </a:lnTo>
                <a:lnTo>
                  <a:pt x="0" y="1215"/>
                </a:lnTo>
                <a:lnTo>
                  <a:pt x="0" y="1211"/>
                </a:lnTo>
                <a:lnTo>
                  <a:pt x="0" y="1205"/>
                </a:lnTo>
                <a:lnTo>
                  <a:pt x="2" y="1199"/>
                </a:lnTo>
                <a:lnTo>
                  <a:pt x="6" y="1192"/>
                </a:lnTo>
                <a:lnTo>
                  <a:pt x="10" y="1184"/>
                </a:lnTo>
                <a:lnTo>
                  <a:pt x="16" y="1174"/>
                </a:lnTo>
                <a:lnTo>
                  <a:pt x="23" y="1163"/>
                </a:lnTo>
                <a:lnTo>
                  <a:pt x="31" y="1151"/>
                </a:lnTo>
                <a:lnTo>
                  <a:pt x="41" y="1138"/>
                </a:lnTo>
                <a:lnTo>
                  <a:pt x="52" y="1122"/>
                </a:lnTo>
                <a:lnTo>
                  <a:pt x="66" y="1107"/>
                </a:lnTo>
                <a:lnTo>
                  <a:pt x="79" y="1088"/>
                </a:lnTo>
                <a:lnTo>
                  <a:pt x="94" y="1071"/>
                </a:lnTo>
                <a:lnTo>
                  <a:pt x="112" y="1049"/>
                </a:lnTo>
                <a:lnTo>
                  <a:pt x="131" y="10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03"/>
          <p:cNvSpPr/>
          <p:nvPr/>
        </p:nvSpPr>
        <p:spPr>
          <a:xfrm>
            <a:off x="5972040" y="3416400"/>
            <a:ext cx="185760" cy="1444680"/>
          </a:xfrm>
          <a:custGeom>
            <a:avLst/>
            <a:gdLst/>
            <a:ahLst/>
            <a:rect l="l" t="t" r="r" b="b"/>
            <a:pathLst>
              <a:path w="234" h="1819">
                <a:moveTo>
                  <a:pt x="71" y="927"/>
                </a:moveTo>
                <a:lnTo>
                  <a:pt x="71" y="902"/>
                </a:lnTo>
                <a:lnTo>
                  <a:pt x="73" y="877"/>
                </a:lnTo>
                <a:lnTo>
                  <a:pt x="73" y="854"/>
                </a:lnTo>
                <a:lnTo>
                  <a:pt x="75" y="831"/>
                </a:lnTo>
                <a:lnTo>
                  <a:pt x="77" y="808"/>
                </a:lnTo>
                <a:lnTo>
                  <a:pt x="77" y="787"/>
                </a:lnTo>
                <a:lnTo>
                  <a:pt x="78" y="764"/>
                </a:lnTo>
                <a:lnTo>
                  <a:pt x="78" y="745"/>
                </a:lnTo>
                <a:lnTo>
                  <a:pt x="80" y="723"/>
                </a:lnTo>
                <a:lnTo>
                  <a:pt x="80" y="704"/>
                </a:lnTo>
                <a:lnTo>
                  <a:pt x="82" y="685"/>
                </a:lnTo>
                <a:lnTo>
                  <a:pt x="82" y="668"/>
                </a:lnTo>
                <a:lnTo>
                  <a:pt x="84" y="649"/>
                </a:lnTo>
                <a:lnTo>
                  <a:pt x="84" y="631"/>
                </a:lnTo>
                <a:lnTo>
                  <a:pt x="86" y="616"/>
                </a:lnTo>
                <a:lnTo>
                  <a:pt x="86" y="599"/>
                </a:lnTo>
                <a:lnTo>
                  <a:pt x="88" y="583"/>
                </a:lnTo>
                <a:lnTo>
                  <a:pt x="88" y="570"/>
                </a:lnTo>
                <a:lnTo>
                  <a:pt x="88" y="554"/>
                </a:lnTo>
                <a:lnTo>
                  <a:pt x="90" y="541"/>
                </a:lnTo>
                <a:lnTo>
                  <a:pt x="90" y="528"/>
                </a:lnTo>
                <a:lnTo>
                  <a:pt x="90" y="516"/>
                </a:lnTo>
                <a:lnTo>
                  <a:pt x="92" y="505"/>
                </a:lnTo>
                <a:lnTo>
                  <a:pt x="92" y="493"/>
                </a:lnTo>
                <a:lnTo>
                  <a:pt x="92" y="482"/>
                </a:lnTo>
                <a:lnTo>
                  <a:pt x="92" y="472"/>
                </a:lnTo>
                <a:lnTo>
                  <a:pt x="94" y="462"/>
                </a:lnTo>
                <a:lnTo>
                  <a:pt x="94" y="453"/>
                </a:lnTo>
                <a:lnTo>
                  <a:pt x="94" y="443"/>
                </a:lnTo>
                <a:lnTo>
                  <a:pt x="94" y="435"/>
                </a:lnTo>
                <a:lnTo>
                  <a:pt x="94" y="428"/>
                </a:lnTo>
                <a:lnTo>
                  <a:pt x="94" y="422"/>
                </a:lnTo>
                <a:lnTo>
                  <a:pt x="94" y="407"/>
                </a:lnTo>
                <a:lnTo>
                  <a:pt x="94" y="391"/>
                </a:lnTo>
                <a:lnTo>
                  <a:pt x="92" y="374"/>
                </a:lnTo>
                <a:lnTo>
                  <a:pt x="92" y="355"/>
                </a:lnTo>
                <a:lnTo>
                  <a:pt x="90" y="336"/>
                </a:lnTo>
                <a:lnTo>
                  <a:pt x="88" y="313"/>
                </a:lnTo>
                <a:lnTo>
                  <a:pt x="86" y="290"/>
                </a:lnTo>
                <a:lnTo>
                  <a:pt x="84" y="263"/>
                </a:lnTo>
                <a:lnTo>
                  <a:pt x="80" y="236"/>
                </a:lnTo>
                <a:lnTo>
                  <a:pt x="77" y="207"/>
                </a:lnTo>
                <a:lnTo>
                  <a:pt x="73" y="176"/>
                </a:lnTo>
                <a:lnTo>
                  <a:pt x="69" y="144"/>
                </a:lnTo>
                <a:lnTo>
                  <a:pt x="63" y="111"/>
                </a:lnTo>
                <a:lnTo>
                  <a:pt x="59" y="75"/>
                </a:lnTo>
                <a:lnTo>
                  <a:pt x="54" y="38"/>
                </a:lnTo>
                <a:lnTo>
                  <a:pt x="48" y="0"/>
                </a:lnTo>
                <a:lnTo>
                  <a:pt x="71" y="17"/>
                </a:lnTo>
                <a:lnTo>
                  <a:pt x="92" y="32"/>
                </a:lnTo>
                <a:lnTo>
                  <a:pt x="111" y="50"/>
                </a:lnTo>
                <a:lnTo>
                  <a:pt x="130" y="65"/>
                </a:lnTo>
                <a:lnTo>
                  <a:pt x="148" y="80"/>
                </a:lnTo>
                <a:lnTo>
                  <a:pt x="163" y="96"/>
                </a:lnTo>
                <a:lnTo>
                  <a:pt x="176" y="111"/>
                </a:lnTo>
                <a:lnTo>
                  <a:pt x="188" y="125"/>
                </a:lnTo>
                <a:lnTo>
                  <a:pt x="199" y="138"/>
                </a:lnTo>
                <a:lnTo>
                  <a:pt x="209" y="151"/>
                </a:lnTo>
                <a:lnTo>
                  <a:pt x="217" y="163"/>
                </a:lnTo>
                <a:lnTo>
                  <a:pt x="222" y="176"/>
                </a:lnTo>
                <a:lnTo>
                  <a:pt x="228" y="188"/>
                </a:lnTo>
                <a:lnTo>
                  <a:pt x="232" y="199"/>
                </a:lnTo>
                <a:lnTo>
                  <a:pt x="234" y="211"/>
                </a:lnTo>
                <a:lnTo>
                  <a:pt x="234" y="222"/>
                </a:lnTo>
                <a:lnTo>
                  <a:pt x="234" y="234"/>
                </a:lnTo>
                <a:lnTo>
                  <a:pt x="234" y="245"/>
                </a:lnTo>
                <a:lnTo>
                  <a:pt x="234" y="261"/>
                </a:lnTo>
                <a:lnTo>
                  <a:pt x="234" y="274"/>
                </a:lnTo>
                <a:lnTo>
                  <a:pt x="234" y="292"/>
                </a:lnTo>
                <a:lnTo>
                  <a:pt x="234" y="309"/>
                </a:lnTo>
                <a:lnTo>
                  <a:pt x="234" y="328"/>
                </a:lnTo>
                <a:lnTo>
                  <a:pt x="232" y="349"/>
                </a:lnTo>
                <a:lnTo>
                  <a:pt x="232" y="370"/>
                </a:lnTo>
                <a:lnTo>
                  <a:pt x="232" y="393"/>
                </a:lnTo>
                <a:lnTo>
                  <a:pt x="230" y="418"/>
                </a:lnTo>
                <a:lnTo>
                  <a:pt x="228" y="443"/>
                </a:lnTo>
                <a:lnTo>
                  <a:pt x="228" y="470"/>
                </a:lnTo>
                <a:lnTo>
                  <a:pt x="226" y="501"/>
                </a:lnTo>
                <a:lnTo>
                  <a:pt x="224" y="530"/>
                </a:lnTo>
                <a:lnTo>
                  <a:pt x="222" y="562"/>
                </a:lnTo>
                <a:lnTo>
                  <a:pt x="221" y="597"/>
                </a:lnTo>
                <a:lnTo>
                  <a:pt x="219" y="631"/>
                </a:lnTo>
                <a:lnTo>
                  <a:pt x="217" y="670"/>
                </a:lnTo>
                <a:lnTo>
                  <a:pt x="215" y="708"/>
                </a:lnTo>
                <a:lnTo>
                  <a:pt x="215" y="748"/>
                </a:lnTo>
                <a:lnTo>
                  <a:pt x="213" y="791"/>
                </a:lnTo>
                <a:lnTo>
                  <a:pt x="211" y="835"/>
                </a:lnTo>
                <a:lnTo>
                  <a:pt x="211" y="881"/>
                </a:lnTo>
                <a:lnTo>
                  <a:pt x="209" y="929"/>
                </a:lnTo>
                <a:lnTo>
                  <a:pt x="209" y="979"/>
                </a:lnTo>
                <a:lnTo>
                  <a:pt x="207" y="1031"/>
                </a:lnTo>
                <a:lnTo>
                  <a:pt x="205" y="1082"/>
                </a:lnTo>
                <a:lnTo>
                  <a:pt x="205" y="1138"/>
                </a:lnTo>
                <a:lnTo>
                  <a:pt x="203" y="1196"/>
                </a:lnTo>
                <a:lnTo>
                  <a:pt x="201" y="1253"/>
                </a:lnTo>
                <a:lnTo>
                  <a:pt x="199" y="1284"/>
                </a:lnTo>
                <a:lnTo>
                  <a:pt x="199" y="1315"/>
                </a:lnTo>
                <a:lnTo>
                  <a:pt x="197" y="1345"/>
                </a:lnTo>
                <a:lnTo>
                  <a:pt x="197" y="1376"/>
                </a:lnTo>
                <a:lnTo>
                  <a:pt x="196" y="1405"/>
                </a:lnTo>
                <a:lnTo>
                  <a:pt x="194" y="1434"/>
                </a:lnTo>
                <a:lnTo>
                  <a:pt x="194" y="1460"/>
                </a:lnTo>
                <a:lnTo>
                  <a:pt x="192" y="1487"/>
                </a:lnTo>
                <a:lnTo>
                  <a:pt x="190" y="1512"/>
                </a:lnTo>
                <a:lnTo>
                  <a:pt x="188" y="1537"/>
                </a:lnTo>
                <a:lnTo>
                  <a:pt x="186" y="1560"/>
                </a:lnTo>
                <a:lnTo>
                  <a:pt x="186" y="1581"/>
                </a:lnTo>
                <a:lnTo>
                  <a:pt x="184" y="1604"/>
                </a:lnTo>
                <a:lnTo>
                  <a:pt x="182" y="1624"/>
                </a:lnTo>
                <a:lnTo>
                  <a:pt x="180" y="1643"/>
                </a:lnTo>
                <a:lnTo>
                  <a:pt x="178" y="1662"/>
                </a:lnTo>
                <a:lnTo>
                  <a:pt x="176" y="1679"/>
                </a:lnTo>
                <a:lnTo>
                  <a:pt x="174" y="1695"/>
                </a:lnTo>
                <a:lnTo>
                  <a:pt x="173" y="1710"/>
                </a:lnTo>
                <a:lnTo>
                  <a:pt x="171" y="1723"/>
                </a:lnTo>
                <a:lnTo>
                  <a:pt x="169" y="1737"/>
                </a:lnTo>
                <a:lnTo>
                  <a:pt x="167" y="1750"/>
                </a:lnTo>
                <a:lnTo>
                  <a:pt x="165" y="1760"/>
                </a:lnTo>
                <a:lnTo>
                  <a:pt x="163" y="1771"/>
                </a:lnTo>
                <a:lnTo>
                  <a:pt x="159" y="1781"/>
                </a:lnTo>
                <a:lnTo>
                  <a:pt x="157" y="1789"/>
                </a:lnTo>
                <a:lnTo>
                  <a:pt x="155" y="1796"/>
                </a:lnTo>
                <a:lnTo>
                  <a:pt x="153" y="1802"/>
                </a:lnTo>
                <a:lnTo>
                  <a:pt x="151" y="1808"/>
                </a:lnTo>
                <a:lnTo>
                  <a:pt x="149" y="1812"/>
                </a:lnTo>
                <a:lnTo>
                  <a:pt x="148" y="1816"/>
                </a:lnTo>
                <a:lnTo>
                  <a:pt x="146" y="1818"/>
                </a:lnTo>
                <a:lnTo>
                  <a:pt x="142" y="1819"/>
                </a:lnTo>
                <a:lnTo>
                  <a:pt x="140" y="1819"/>
                </a:lnTo>
                <a:lnTo>
                  <a:pt x="136" y="1819"/>
                </a:lnTo>
                <a:lnTo>
                  <a:pt x="132" y="1818"/>
                </a:lnTo>
                <a:lnTo>
                  <a:pt x="126" y="1816"/>
                </a:lnTo>
                <a:lnTo>
                  <a:pt x="123" y="1812"/>
                </a:lnTo>
                <a:lnTo>
                  <a:pt x="119" y="1808"/>
                </a:lnTo>
                <a:lnTo>
                  <a:pt x="113" y="1804"/>
                </a:lnTo>
                <a:lnTo>
                  <a:pt x="109" y="1798"/>
                </a:lnTo>
                <a:lnTo>
                  <a:pt x="103" y="1793"/>
                </a:lnTo>
                <a:lnTo>
                  <a:pt x="100" y="1785"/>
                </a:lnTo>
                <a:lnTo>
                  <a:pt x="94" y="1775"/>
                </a:lnTo>
                <a:lnTo>
                  <a:pt x="88" y="1766"/>
                </a:lnTo>
                <a:lnTo>
                  <a:pt x="82" y="1754"/>
                </a:lnTo>
                <a:lnTo>
                  <a:pt x="77" y="1743"/>
                </a:lnTo>
                <a:lnTo>
                  <a:pt x="71" y="1731"/>
                </a:lnTo>
                <a:lnTo>
                  <a:pt x="65" y="1718"/>
                </a:lnTo>
                <a:lnTo>
                  <a:pt x="59" y="1702"/>
                </a:lnTo>
                <a:lnTo>
                  <a:pt x="52" y="1687"/>
                </a:lnTo>
                <a:lnTo>
                  <a:pt x="46" y="1674"/>
                </a:lnTo>
                <a:lnTo>
                  <a:pt x="40" y="1660"/>
                </a:lnTo>
                <a:lnTo>
                  <a:pt x="34" y="1647"/>
                </a:lnTo>
                <a:lnTo>
                  <a:pt x="30" y="1635"/>
                </a:lnTo>
                <a:lnTo>
                  <a:pt x="25" y="1624"/>
                </a:lnTo>
                <a:lnTo>
                  <a:pt x="21" y="1614"/>
                </a:lnTo>
                <a:lnTo>
                  <a:pt x="17" y="1603"/>
                </a:lnTo>
                <a:lnTo>
                  <a:pt x="13" y="1595"/>
                </a:lnTo>
                <a:lnTo>
                  <a:pt x="9" y="1585"/>
                </a:lnTo>
                <a:lnTo>
                  <a:pt x="7" y="1578"/>
                </a:lnTo>
                <a:lnTo>
                  <a:pt x="6" y="1572"/>
                </a:lnTo>
                <a:lnTo>
                  <a:pt x="4" y="1564"/>
                </a:lnTo>
                <a:lnTo>
                  <a:pt x="2" y="1558"/>
                </a:lnTo>
                <a:lnTo>
                  <a:pt x="0" y="1555"/>
                </a:lnTo>
                <a:lnTo>
                  <a:pt x="0" y="1549"/>
                </a:lnTo>
                <a:lnTo>
                  <a:pt x="0" y="1545"/>
                </a:lnTo>
                <a:lnTo>
                  <a:pt x="2" y="1539"/>
                </a:lnTo>
                <a:lnTo>
                  <a:pt x="2" y="1533"/>
                </a:lnTo>
                <a:lnTo>
                  <a:pt x="2" y="1528"/>
                </a:lnTo>
                <a:lnTo>
                  <a:pt x="4" y="1520"/>
                </a:lnTo>
                <a:lnTo>
                  <a:pt x="6" y="1514"/>
                </a:lnTo>
                <a:lnTo>
                  <a:pt x="7" y="1497"/>
                </a:lnTo>
                <a:lnTo>
                  <a:pt x="11" y="1480"/>
                </a:lnTo>
                <a:lnTo>
                  <a:pt x="15" y="1462"/>
                </a:lnTo>
                <a:lnTo>
                  <a:pt x="19" y="1441"/>
                </a:lnTo>
                <a:lnTo>
                  <a:pt x="25" y="1420"/>
                </a:lnTo>
                <a:lnTo>
                  <a:pt x="25" y="1414"/>
                </a:lnTo>
                <a:lnTo>
                  <a:pt x="27" y="1407"/>
                </a:lnTo>
                <a:lnTo>
                  <a:pt x="27" y="1401"/>
                </a:lnTo>
                <a:lnTo>
                  <a:pt x="29" y="1393"/>
                </a:lnTo>
                <a:lnTo>
                  <a:pt x="30" y="1384"/>
                </a:lnTo>
                <a:lnTo>
                  <a:pt x="30" y="1376"/>
                </a:lnTo>
                <a:lnTo>
                  <a:pt x="32" y="1366"/>
                </a:lnTo>
                <a:lnTo>
                  <a:pt x="34" y="1357"/>
                </a:lnTo>
                <a:lnTo>
                  <a:pt x="36" y="1345"/>
                </a:lnTo>
                <a:lnTo>
                  <a:pt x="36" y="1334"/>
                </a:lnTo>
                <a:lnTo>
                  <a:pt x="38" y="1322"/>
                </a:lnTo>
                <a:lnTo>
                  <a:pt x="40" y="1309"/>
                </a:lnTo>
                <a:lnTo>
                  <a:pt x="42" y="1295"/>
                </a:lnTo>
                <a:lnTo>
                  <a:pt x="44" y="1282"/>
                </a:lnTo>
                <a:lnTo>
                  <a:pt x="46" y="1269"/>
                </a:lnTo>
                <a:lnTo>
                  <a:pt x="48" y="1253"/>
                </a:lnTo>
                <a:lnTo>
                  <a:pt x="48" y="1238"/>
                </a:lnTo>
                <a:lnTo>
                  <a:pt x="50" y="1221"/>
                </a:lnTo>
                <a:lnTo>
                  <a:pt x="52" y="1203"/>
                </a:lnTo>
                <a:lnTo>
                  <a:pt x="54" y="1186"/>
                </a:lnTo>
                <a:lnTo>
                  <a:pt x="55" y="1169"/>
                </a:lnTo>
                <a:lnTo>
                  <a:pt x="57" y="1150"/>
                </a:lnTo>
                <a:lnTo>
                  <a:pt x="57" y="1130"/>
                </a:lnTo>
                <a:lnTo>
                  <a:pt x="59" y="1109"/>
                </a:lnTo>
                <a:lnTo>
                  <a:pt x="61" y="1088"/>
                </a:lnTo>
                <a:lnTo>
                  <a:pt x="63" y="1067"/>
                </a:lnTo>
                <a:lnTo>
                  <a:pt x="65" y="1046"/>
                </a:lnTo>
                <a:lnTo>
                  <a:pt x="65" y="1023"/>
                </a:lnTo>
                <a:lnTo>
                  <a:pt x="67" y="1000"/>
                </a:lnTo>
                <a:lnTo>
                  <a:pt x="69" y="977"/>
                </a:lnTo>
                <a:lnTo>
                  <a:pt x="69" y="952"/>
                </a:lnTo>
                <a:lnTo>
                  <a:pt x="71" y="9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04"/>
          <p:cNvSpPr/>
          <p:nvPr/>
        </p:nvSpPr>
        <p:spPr>
          <a:xfrm>
            <a:off x="5526000" y="2786040"/>
            <a:ext cx="827280" cy="1171440"/>
          </a:xfrm>
          <a:custGeom>
            <a:avLst/>
            <a:gdLst/>
            <a:ahLst/>
            <a:rect l="l" t="t" r="r" b="b"/>
            <a:pathLst>
              <a:path w="1043" h="1476">
                <a:moveTo>
                  <a:pt x="236" y="1311"/>
                </a:moveTo>
                <a:lnTo>
                  <a:pt x="221" y="1323"/>
                </a:lnTo>
                <a:lnTo>
                  <a:pt x="208" y="1334"/>
                </a:lnTo>
                <a:lnTo>
                  <a:pt x="196" y="1346"/>
                </a:lnTo>
                <a:lnTo>
                  <a:pt x="183" y="1355"/>
                </a:lnTo>
                <a:lnTo>
                  <a:pt x="160" y="1374"/>
                </a:lnTo>
                <a:lnTo>
                  <a:pt x="137" y="1394"/>
                </a:lnTo>
                <a:lnTo>
                  <a:pt x="117" y="1409"/>
                </a:lnTo>
                <a:lnTo>
                  <a:pt x="98" y="1422"/>
                </a:lnTo>
                <a:lnTo>
                  <a:pt x="81" y="1436"/>
                </a:lnTo>
                <a:lnTo>
                  <a:pt x="66" y="1445"/>
                </a:lnTo>
                <a:lnTo>
                  <a:pt x="52" y="1455"/>
                </a:lnTo>
                <a:lnTo>
                  <a:pt x="41" y="1463"/>
                </a:lnTo>
                <a:lnTo>
                  <a:pt x="31" y="1468"/>
                </a:lnTo>
                <a:lnTo>
                  <a:pt x="21" y="1472"/>
                </a:lnTo>
                <a:lnTo>
                  <a:pt x="16" y="1476"/>
                </a:lnTo>
                <a:lnTo>
                  <a:pt x="10" y="1476"/>
                </a:lnTo>
                <a:lnTo>
                  <a:pt x="4" y="1476"/>
                </a:lnTo>
                <a:lnTo>
                  <a:pt x="2" y="1476"/>
                </a:lnTo>
                <a:lnTo>
                  <a:pt x="0" y="1472"/>
                </a:lnTo>
                <a:lnTo>
                  <a:pt x="0" y="1468"/>
                </a:lnTo>
                <a:lnTo>
                  <a:pt x="2" y="1463"/>
                </a:lnTo>
                <a:lnTo>
                  <a:pt x="6" y="1455"/>
                </a:lnTo>
                <a:lnTo>
                  <a:pt x="12" y="1447"/>
                </a:lnTo>
                <a:lnTo>
                  <a:pt x="18" y="1438"/>
                </a:lnTo>
                <a:lnTo>
                  <a:pt x="25" y="1426"/>
                </a:lnTo>
                <a:lnTo>
                  <a:pt x="35" y="1415"/>
                </a:lnTo>
                <a:lnTo>
                  <a:pt x="45" y="1401"/>
                </a:lnTo>
                <a:lnTo>
                  <a:pt x="58" y="1388"/>
                </a:lnTo>
                <a:lnTo>
                  <a:pt x="69" y="1373"/>
                </a:lnTo>
                <a:lnTo>
                  <a:pt x="85" y="1355"/>
                </a:lnTo>
                <a:lnTo>
                  <a:pt x="100" y="1336"/>
                </a:lnTo>
                <a:lnTo>
                  <a:pt x="117" y="1317"/>
                </a:lnTo>
                <a:lnTo>
                  <a:pt x="135" y="1298"/>
                </a:lnTo>
                <a:lnTo>
                  <a:pt x="154" y="1277"/>
                </a:lnTo>
                <a:lnTo>
                  <a:pt x="173" y="1255"/>
                </a:lnTo>
                <a:lnTo>
                  <a:pt x="192" y="1234"/>
                </a:lnTo>
                <a:lnTo>
                  <a:pt x="213" y="1211"/>
                </a:lnTo>
                <a:lnTo>
                  <a:pt x="233" y="1186"/>
                </a:lnTo>
                <a:lnTo>
                  <a:pt x="254" y="1161"/>
                </a:lnTo>
                <a:lnTo>
                  <a:pt x="273" y="1136"/>
                </a:lnTo>
                <a:lnTo>
                  <a:pt x="294" y="1110"/>
                </a:lnTo>
                <a:lnTo>
                  <a:pt x="315" y="1081"/>
                </a:lnTo>
                <a:lnTo>
                  <a:pt x="336" y="1052"/>
                </a:lnTo>
                <a:lnTo>
                  <a:pt x="357" y="1023"/>
                </a:lnTo>
                <a:lnTo>
                  <a:pt x="378" y="991"/>
                </a:lnTo>
                <a:lnTo>
                  <a:pt x="402" y="958"/>
                </a:lnTo>
                <a:lnTo>
                  <a:pt x="425" y="925"/>
                </a:lnTo>
                <a:lnTo>
                  <a:pt x="446" y="891"/>
                </a:lnTo>
                <a:lnTo>
                  <a:pt x="469" y="854"/>
                </a:lnTo>
                <a:lnTo>
                  <a:pt x="494" y="818"/>
                </a:lnTo>
                <a:lnTo>
                  <a:pt x="515" y="781"/>
                </a:lnTo>
                <a:lnTo>
                  <a:pt x="536" y="747"/>
                </a:lnTo>
                <a:lnTo>
                  <a:pt x="555" y="714"/>
                </a:lnTo>
                <a:lnTo>
                  <a:pt x="574" y="680"/>
                </a:lnTo>
                <a:lnTo>
                  <a:pt x="592" y="647"/>
                </a:lnTo>
                <a:lnTo>
                  <a:pt x="611" y="616"/>
                </a:lnTo>
                <a:lnTo>
                  <a:pt x="628" y="584"/>
                </a:lnTo>
                <a:lnTo>
                  <a:pt x="643" y="553"/>
                </a:lnTo>
                <a:lnTo>
                  <a:pt x="659" y="522"/>
                </a:lnTo>
                <a:lnTo>
                  <a:pt x="674" y="493"/>
                </a:lnTo>
                <a:lnTo>
                  <a:pt x="688" y="463"/>
                </a:lnTo>
                <a:lnTo>
                  <a:pt x="703" y="434"/>
                </a:lnTo>
                <a:lnTo>
                  <a:pt x="714" y="405"/>
                </a:lnTo>
                <a:lnTo>
                  <a:pt x="728" y="378"/>
                </a:lnTo>
                <a:lnTo>
                  <a:pt x="739" y="351"/>
                </a:lnTo>
                <a:lnTo>
                  <a:pt x="751" y="324"/>
                </a:lnTo>
                <a:lnTo>
                  <a:pt x="759" y="298"/>
                </a:lnTo>
                <a:lnTo>
                  <a:pt x="766" y="275"/>
                </a:lnTo>
                <a:lnTo>
                  <a:pt x="772" y="252"/>
                </a:lnTo>
                <a:lnTo>
                  <a:pt x="778" y="228"/>
                </a:lnTo>
                <a:lnTo>
                  <a:pt x="784" y="209"/>
                </a:lnTo>
                <a:lnTo>
                  <a:pt x="787" y="190"/>
                </a:lnTo>
                <a:lnTo>
                  <a:pt x="791" y="171"/>
                </a:lnTo>
                <a:lnTo>
                  <a:pt x="793" y="156"/>
                </a:lnTo>
                <a:lnTo>
                  <a:pt x="795" y="140"/>
                </a:lnTo>
                <a:lnTo>
                  <a:pt x="797" y="125"/>
                </a:lnTo>
                <a:lnTo>
                  <a:pt x="797" y="113"/>
                </a:lnTo>
                <a:lnTo>
                  <a:pt x="797" y="102"/>
                </a:lnTo>
                <a:lnTo>
                  <a:pt x="795" y="90"/>
                </a:lnTo>
                <a:lnTo>
                  <a:pt x="793" y="81"/>
                </a:lnTo>
                <a:lnTo>
                  <a:pt x="789" y="73"/>
                </a:lnTo>
                <a:lnTo>
                  <a:pt x="785" y="65"/>
                </a:lnTo>
                <a:lnTo>
                  <a:pt x="782" y="61"/>
                </a:lnTo>
                <a:lnTo>
                  <a:pt x="778" y="58"/>
                </a:lnTo>
                <a:lnTo>
                  <a:pt x="776" y="52"/>
                </a:lnTo>
                <a:lnTo>
                  <a:pt x="772" y="48"/>
                </a:lnTo>
                <a:lnTo>
                  <a:pt x="770" y="44"/>
                </a:lnTo>
                <a:lnTo>
                  <a:pt x="770" y="40"/>
                </a:lnTo>
                <a:lnTo>
                  <a:pt x="768" y="37"/>
                </a:lnTo>
                <a:lnTo>
                  <a:pt x="768" y="33"/>
                </a:lnTo>
                <a:lnTo>
                  <a:pt x="768" y="29"/>
                </a:lnTo>
                <a:lnTo>
                  <a:pt x="768" y="25"/>
                </a:lnTo>
                <a:lnTo>
                  <a:pt x="770" y="21"/>
                </a:lnTo>
                <a:lnTo>
                  <a:pt x="772" y="17"/>
                </a:lnTo>
                <a:lnTo>
                  <a:pt x="774" y="15"/>
                </a:lnTo>
                <a:lnTo>
                  <a:pt x="778" y="12"/>
                </a:lnTo>
                <a:lnTo>
                  <a:pt x="782" y="10"/>
                </a:lnTo>
                <a:lnTo>
                  <a:pt x="785" y="8"/>
                </a:lnTo>
                <a:lnTo>
                  <a:pt x="787" y="4"/>
                </a:lnTo>
                <a:lnTo>
                  <a:pt x="791" y="4"/>
                </a:lnTo>
                <a:lnTo>
                  <a:pt x="795" y="2"/>
                </a:lnTo>
                <a:lnTo>
                  <a:pt x="801" y="0"/>
                </a:lnTo>
                <a:lnTo>
                  <a:pt x="807" y="0"/>
                </a:lnTo>
                <a:lnTo>
                  <a:pt x="814" y="0"/>
                </a:lnTo>
                <a:lnTo>
                  <a:pt x="820" y="0"/>
                </a:lnTo>
                <a:lnTo>
                  <a:pt x="830" y="0"/>
                </a:lnTo>
                <a:lnTo>
                  <a:pt x="839" y="2"/>
                </a:lnTo>
                <a:lnTo>
                  <a:pt x="849" y="4"/>
                </a:lnTo>
                <a:lnTo>
                  <a:pt x="860" y="8"/>
                </a:lnTo>
                <a:lnTo>
                  <a:pt x="872" y="10"/>
                </a:lnTo>
                <a:lnTo>
                  <a:pt x="883" y="13"/>
                </a:lnTo>
                <a:lnTo>
                  <a:pt x="897" y="19"/>
                </a:lnTo>
                <a:lnTo>
                  <a:pt x="910" y="25"/>
                </a:lnTo>
                <a:lnTo>
                  <a:pt x="926" y="31"/>
                </a:lnTo>
                <a:lnTo>
                  <a:pt x="941" y="37"/>
                </a:lnTo>
                <a:lnTo>
                  <a:pt x="954" y="44"/>
                </a:lnTo>
                <a:lnTo>
                  <a:pt x="968" y="50"/>
                </a:lnTo>
                <a:lnTo>
                  <a:pt x="979" y="58"/>
                </a:lnTo>
                <a:lnTo>
                  <a:pt x="989" y="63"/>
                </a:lnTo>
                <a:lnTo>
                  <a:pt x="998" y="71"/>
                </a:lnTo>
                <a:lnTo>
                  <a:pt x="1008" y="77"/>
                </a:lnTo>
                <a:lnTo>
                  <a:pt x="1016" y="83"/>
                </a:lnTo>
                <a:lnTo>
                  <a:pt x="1022" y="90"/>
                </a:lnTo>
                <a:lnTo>
                  <a:pt x="1027" y="96"/>
                </a:lnTo>
                <a:lnTo>
                  <a:pt x="1031" y="104"/>
                </a:lnTo>
                <a:lnTo>
                  <a:pt x="1037" y="109"/>
                </a:lnTo>
                <a:lnTo>
                  <a:pt x="1039" y="117"/>
                </a:lnTo>
                <a:lnTo>
                  <a:pt x="1041" y="123"/>
                </a:lnTo>
                <a:lnTo>
                  <a:pt x="1043" y="129"/>
                </a:lnTo>
                <a:lnTo>
                  <a:pt x="1043" y="136"/>
                </a:lnTo>
                <a:lnTo>
                  <a:pt x="1041" y="144"/>
                </a:lnTo>
                <a:lnTo>
                  <a:pt x="1037" y="152"/>
                </a:lnTo>
                <a:lnTo>
                  <a:pt x="1033" y="161"/>
                </a:lnTo>
                <a:lnTo>
                  <a:pt x="1029" y="173"/>
                </a:lnTo>
                <a:lnTo>
                  <a:pt x="1023" y="186"/>
                </a:lnTo>
                <a:lnTo>
                  <a:pt x="1018" y="200"/>
                </a:lnTo>
                <a:lnTo>
                  <a:pt x="1012" y="215"/>
                </a:lnTo>
                <a:lnTo>
                  <a:pt x="1004" y="230"/>
                </a:lnTo>
                <a:lnTo>
                  <a:pt x="997" y="250"/>
                </a:lnTo>
                <a:lnTo>
                  <a:pt x="987" y="267"/>
                </a:lnTo>
                <a:lnTo>
                  <a:pt x="977" y="288"/>
                </a:lnTo>
                <a:lnTo>
                  <a:pt x="966" y="309"/>
                </a:lnTo>
                <a:lnTo>
                  <a:pt x="954" y="332"/>
                </a:lnTo>
                <a:lnTo>
                  <a:pt x="943" y="355"/>
                </a:lnTo>
                <a:lnTo>
                  <a:pt x="929" y="380"/>
                </a:lnTo>
                <a:lnTo>
                  <a:pt x="914" y="407"/>
                </a:lnTo>
                <a:lnTo>
                  <a:pt x="883" y="463"/>
                </a:lnTo>
                <a:lnTo>
                  <a:pt x="851" y="520"/>
                </a:lnTo>
                <a:lnTo>
                  <a:pt x="818" y="578"/>
                </a:lnTo>
                <a:lnTo>
                  <a:pt x="782" y="637"/>
                </a:lnTo>
                <a:lnTo>
                  <a:pt x="747" y="695"/>
                </a:lnTo>
                <a:lnTo>
                  <a:pt x="709" y="754"/>
                </a:lnTo>
                <a:lnTo>
                  <a:pt x="672" y="814"/>
                </a:lnTo>
                <a:lnTo>
                  <a:pt x="634" y="875"/>
                </a:lnTo>
                <a:lnTo>
                  <a:pt x="611" y="906"/>
                </a:lnTo>
                <a:lnTo>
                  <a:pt x="590" y="937"/>
                </a:lnTo>
                <a:lnTo>
                  <a:pt x="567" y="966"/>
                </a:lnTo>
                <a:lnTo>
                  <a:pt x="544" y="994"/>
                </a:lnTo>
                <a:lnTo>
                  <a:pt x="521" y="1023"/>
                </a:lnTo>
                <a:lnTo>
                  <a:pt x="497" y="1052"/>
                </a:lnTo>
                <a:lnTo>
                  <a:pt x="448" y="1106"/>
                </a:lnTo>
                <a:lnTo>
                  <a:pt x="398" y="1159"/>
                </a:lnTo>
                <a:lnTo>
                  <a:pt x="346" y="1211"/>
                </a:lnTo>
                <a:lnTo>
                  <a:pt x="292" y="1261"/>
                </a:lnTo>
                <a:lnTo>
                  <a:pt x="236" y="13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吊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4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19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部“口”略扁，下部“巾”比“口”略宽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矩形 3"/>
          <p:cNvSpPr/>
          <p:nvPr/>
        </p:nvSpPr>
        <p:spPr>
          <a:xfrm>
            <a:off x="2108160" y="2009880"/>
            <a:ext cx="138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ià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61"/>
          <p:cNvSpPr/>
          <p:nvPr/>
        </p:nvSpPr>
        <p:spPr>
          <a:xfrm>
            <a:off x="5651640" y="3591000"/>
            <a:ext cx="2103120" cy="917640"/>
          </a:xfrm>
          <a:custGeom>
            <a:avLst/>
            <a:gdLst/>
            <a:ahLst/>
            <a:rect l="l" t="t" r="r" b="b"/>
            <a:pathLst>
              <a:path w="2649" h="1156">
                <a:moveTo>
                  <a:pt x="2649" y="206"/>
                </a:moveTo>
                <a:lnTo>
                  <a:pt x="2649" y="213"/>
                </a:lnTo>
                <a:lnTo>
                  <a:pt x="2647" y="219"/>
                </a:lnTo>
                <a:lnTo>
                  <a:pt x="2645" y="223"/>
                </a:lnTo>
                <a:lnTo>
                  <a:pt x="2643" y="227"/>
                </a:lnTo>
                <a:lnTo>
                  <a:pt x="2641" y="233"/>
                </a:lnTo>
                <a:lnTo>
                  <a:pt x="2638" y="236"/>
                </a:lnTo>
                <a:lnTo>
                  <a:pt x="2634" y="240"/>
                </a:lnTo>
                <a:lnTo>
                  <a:pt x="2630" y="246"/>
                </a:lnTo>
                <a:lnTo>
                  <a:pt x="2624" y="250"/>
                </a:lnTo>
                <a:lnTo>
                  <a:pt x="2618" y="254"/>
                </a:lnTo>
                <a:lnTo>
                  <a:pt x="2613" y="259"/>
                </a:lnTo>
                <a:lnTo>
                  <a:pt x="2607" y="263"/>
                </a:lnTo>
                <a:lnTo>
                  <a:pt x="2597" y="269"/>
                </a:lnTo>
                <a:lnTo>
                  <a:pt x="2590" y="273"/>
                </a:lnTo>
                <a:lnTo>
                  <a:pt x="2580" y="277"/>
                </a:lnTo>
                <a:lnTo>
                  <a:pt x="2570" y="282"/>
                </a:lnTo>
                <a:lnTo>
                  <a:pt x="2563" y="288"/>
                </a:lnTo>
                <a:lnTo>
                  <a:pt x="2553" y="298"/>
                </a:lnTo>
                <a:lnTo>
                  <a:pt x="2545" y="307"/>
                </a:lnTo>
                <a:lnTo>
                  <a:pt x="2538" y="317"/>
                </a:lnTo>
                <a:lnTo>
                  <a:pt x="2530" y="329"/>
                </a:lnTo>
                <a:lnTo>
                  <a:pt x="2522" y="342"/>
                </a:lnTo>
                <a:lnTo>
                  <a:pt x="2517" y="357"/>
                </a:lnTo>
                <a:lnTo>
                  <a:pt x="2511" y="373"/>
                </a:lnTo>
                <a:lnTo>
                  <a:pt x="2505" y="390"/>
                </a:lnTo>
                <a:lnTo>
                  <a:pt x="2499" y="409"/>
                </a:lnTo>
                <a:lnTo>
                  <a:pt x="2494" y="428"/>
                </a:lnTo>
                <a:lnTo>
                  <a:pt x="2490" y="449"/>
                </a:lnTo>
                <a:lnTo>
                  <a:pt x="2484" y="471"/>
                </a:lnTo>
                <a:lnTo>
                  <a:pt x="2482" y="494"/>
                </a:lnTo>
                <a:lnTo>
                  <a:pt x="2478" y="519"/>
                </a:lnTo>
                <a:lnTo>
                  <a:pt x="2474" y="544"/>
                </a:lnTo>
                <a:lnTo>
                  <a:pt x="2471" y="567"/>
                </a:lnTo>
                <a:lnTo>
                  <a:pt x="2465" y="592"/>
                </a:lnTo>
                <a:lnTo>
                  <a:pt x="2459" y="615"/>
                </a:lnTo>
                <a:lnTo>
                  <a:pt x="2453" y="638"/>
                </a:lnTo>
                <a:lnTo>
                  <a:pt x="2446" y="661"/>
                </a:lnTo>
                <a:lnTo>
                  <a:pt x="2438" y="684"/>
                </a:lnTo>
                <a:lnTo>
                  <a:pt x="2430" y="707"/>
                </a:lnTo>
                <a:lnTo>
                  <a:pt x="2413" y="749"/>
                </a:lnTo>
                <a:lnTo>
                  <a:pt x="2405" y="770"/>
                </a:lnTo>
                <a:lnTo>
                  <a:pt x="2396" y="791"/>
                </a:lnTo>
                <a:lnTo>
                  <a:pt x="2386" y="810"/>
                </a:lnTo>
                <a:lnTo>
                  <a:pt x="2377" y="830"/>
                </a:lnTo>
                <a:lnTo>
                  <a:pt x="2367" y="849"/>
                </a:lnTo>
                <a:lnTo>
                  <a:pt x="2359" y="868"/>
                </a:lnTo>
                <a:lnTo>
                  <a:pt x="2348" y="885"/>
                </a:lnTo>
                <a:lnTo>
                  <a:pt x="2338" y="902"/>
                </a:lnTo>
                <a:lnTo>
                  <a:pt x="2329" y="920"/>
                </a:lnTo>
                <a:lnTo>
                  <a:pt x="2317" y="935"/>
                </a:lnTo>
                <a:lnTo>
                  <a:pt x="2307" y="950"/>
                </a:lnTo>
                <a:lnTo>
                  <a:pt x="2296" y="966"/>
                </a:lnTo>
                <a:lnTo>
                  <a:pt x="2284" y="979"/>
                </a:lnTo>
                <a:lnTo>
                  <a:pt x="2273" y="993"/>
                </a:lnTo>
                <a:lnTo>
                  <a:pt x="2261" y="1006"/>
                </a:lnTo>
                <a:lnTo>
                  <a:pt x="2250" y="1020"/>
                </a:lnTo>
                <a:lnTo>
                  <a:pt x="2240" y="1031"/>
                </a:lnTo>
                <a:lnTo>
                  <a:pt x="2229" y="1043"/>
                </a:lnTo>
                <a:lnTo>
                  <a:pt x="2217" y="1054"/>
                </a:lnTo>
                <a:lnTo>
                  <a:pt x="2208" y="1064"/>
                </a:lnTo>
                <a:lnTo>
                  <a:pt x="2198" y="1075"/>
                </a:lnTo>
                <a:lnTo>
                  <a:pt x="2188" y="1085"/>
                </a:lnTo>
                <a:lnTo>
                  <a:pt x="2175" y="1092"/>
                </a:lnTo>
                <a:lnTo>
                  <a:pt x="2163" y="1100"/>
                </a:lnTo>
                <a:lnTo>
                  <a:pt x="2150" y="1108"/>
                </a:lnTo>
                <a:lnTo>
                  <a:pt x="2140" y="1116"/>
                </a:lnTo>
                <a:lnTo>
                  <a:pt x="2129" y="1121"/>
                </a:lnTo>
                <a:lnTo>
                  <a:pt x="2117" y="1127"/>
                </a:lnTo>
                <a:lnTo>
                  <a:pt x="2108" y="1133"/>
                </a:lnTo>
                <a:lnTo>
                  <a:pt x="2098" y="1139"/>
                </a:lnTo>
                <a:lnTo>
                  <a:pt x="2089" y="1142"/>
                </a:lnTo>
                <a:lnTo>
                  <a:pt x="2079" y="1146"/>
                </a:lnTo>
                <a:lnTo>
                  <a:pt x="2071" y="1148"/>
                </a:lnTo>
                <a:lnTo>
                  <a:pt x="2062" y="1152"/>
                </a:lnTo>
                <a:lnTo>
                  <a:pt x="2054" y="1154"/>
                </a:lnTo>
                <a:lnTo>
                  <a:pt x="2046" y="1154"/>
                </a:lnTo>
                <a:lnTo>
                  <a:pt x="2041" y="1156"/>
                </a:lnTo>
                <a:lnTo>
                  <a:pt x="2033" y="1156"/>
                </a:lnTo>
                <a:lnTo>
                  <a:pt x="2027" y="1156"/>
                </a:lnTo>
                <a:lnTo>
                  <a:pt x="2021" y="1154"/>
                </a:lnTo>
                <a:lnTo>
                  <a:pt x="2016" y="1152"/>
                </a:lnTo>
                <a:lnTo>
                  <a:pt x="2010" y="1150"/>
                </a:lnTo>
                <a:lnTo>
                  <a:pt x="2006" y="1146"/>
                </a:lnTo>
                <a:lnTo>
                  <a:pt x="2002" y="1140"/>
                </a:lnTo>
                <a:lnTo>
                  <a:pt x="1996" y="1137"/>
                </a:lnTo>
                <a:lnTo>
                  <a:pt x="1993" y="1131"/>
                </a:lnTo>
                <a:lnTo>
                  <a:pt x="1989" y="1123"/>
                </a:lnTo>
                <a:lnTo>
                  <a:pt x="1985" y="1117"/>
                </a:lnTo>
                <a:lnTo>
                  <a:pt x="1981" y="1108"/>
                </a:lnTo>
                <a:lnTo>
                  <a:pt x="1979" y="1100"/>
                </a:lnTo>
                <a:lnTo>
                  <a:pt x="1975" y="1091"/>
                </a:lnTo>
                <a:lnTo>
                  <a:pt x="1972" y="1081"/>
                </a:lnTo>
                <a:lnTo>
                  <a:pt x="1968" y="1071"/>
                </a:lnTo>
                <a:lnTo>
                  <a:pt x="1966" y="1060"/>
                </a:lnTo>
                <a:lnTo>
                  <a:pt x="1962" y="1048"/>
                </a:lnTo>
                <a:lnTo>
                  <a:pt x="1956" y="1037"/>
                </a:lnTo>
                <a:lnTo>
                  <a:pt x="1950" y="1025"/>
                </a:lnTo>
                <a:lnTo>
                  <a:pt x="1943" y="1016"/>
                </a:lnTo>
                <a:lnTo>
                  <a:pt x="1935" y="1004"/>
                </a:lnTo>
                <a:lnTo>
                  <a:pt x="1925" y="993"/>
                </a:lnTo>
                <a:lnTo>
                  <a:pt x="1914" y="981"/>
                </a:lnTo>
                <a:lnTo>
                  <a:pt x="1902" y="972"/>
                </a:lnTo>
                <a:lnTo>
                  <a:pt x="1891" y="960"/>
                </a:lnTo>
                <a:lnTo>
                  <a:pt x="1877" y="950"/>
                </a:lnTo>
                <a:lnTo>
                  <a:pt x="1862" y="939"/>
                </a:lnTo>
                <a:lnTo>
                  <a:pt x="1847" y="929"/>
                </a:lnTo>
                <a:lnTo>
                  <a:pt x="1831" y="920"/>
                </a:lnTo>
                <a:lnTo>
                  <a:pt x="1814" y="910"/>
                </a:lnTo>
                <a:lnTo>
                  <a:pt x="1797" y="901"/>
                </a:lnTo>
                <a:lnTo>
                  <a:pt x="1778" y="891"/>
                </a:lnTo>
                <a:lnTo>
                  <a:pt x="1758" y="881"/>
                </a:lnTo>
                <a:lnTo>
                  <a:pt x="1741" y="874"/>
                </a:lnTo>
                <a:lnTo>
                  <a:pt x="1726" y="864"/>
                </a:lnTo>
                <a:lnTo>
                  <a:pt x="1711" y="856"/>
                </a:lnTo>
                <a:lnTo>
                  <a:pt x="1697" y="849"/>
                </a:lnTo>
                <a:lnTo>
                  <a:pt x="1684" y="843"/>
                </a:lnTo>
                <a:lnTo>
                  <a:pt x="1674" y="835"/>
                </a:lnTo>
                <a:lnTo>
                  <a:pt x="1664" y="830"/>
                </a:lnTo>
                <a:lnTo>
                  <a:pt x="1657" y="824"/>
                </a:lnTo>
                <a:lnTo>
                  <a:pt x="1649" y="818"/>
                </a:lnTo>
                <a:lnTo>
                  <a:pt x="1643" y="812"/>
                </a:lnTo>
                <a:lnTo>
                  <a:pt x="1639" y="808"/>
                </a:lnTo>
                <a:lnTo>
                  <a:pt x="1638" y="805"/>
                </a:lnTo>
                <a:lnTo>
                  <a:pt x="1638" y="801"/>
                </a:lnTo>
                <a:lnTo>
                  <a:pt x="1638" y="797"/>
                </a:lnTo>
                <a:lnTo>
                  <a:pt x="1641" y="795"/>
                </a:lnTo>
                <a:lnTo>
                  <a:pt x="1641" y="793"/>
                </a:lnTo>
                <a:lnTo>
                  <a:pt x="1643" y="791"/>
                </a:lnTo>
                <a:lnTo>
                  <a:pt x="1647" y="789"/>
                </a:lnTo>
                <a:lnTo>
                  <a:pt x="1653" y="785"/>
                </a:lnTo>
                <a:lnTo>
                  <a:pt x="1661" y="783"/>
                </a:lnTo>
                <a:lnTo>
                  <a:pt x="1668" y="783"/>
                </a:lnTo>
                <a:lnTo>
                  <a:pt x="1678" y="782"/>
                </a:lnTo>
                <a:lnTo>
                  <a:pt x="1689" y="780"/>
                </a:lnTo>
                <a:lnTo>
                  <a:pt x="1703" y="780"/>
                </a:lnTo>
                <a:lnTo>
                  <a:pt x="1716" y="778"/>
                </a:lnTo>
                <a:lnTo>
                  <a:pt x="1732" y="778"/>
                </a:lnTo>
                <a:lnTo>
                  <a:pt x="1749" y="778"/>
                </a:lnTo>
                <a:lnTo>
                  <a:pt x="1766" y="778"/>
                </a:lnTo>
                <a:lnTo>
                  <a:pt x="1785" y="780"/>
                </a:lnTo>
                <a:lnTo>
                  <a:pt x="1806" y="782"/>
                </a:lnTo>
                <a:lnTo>
                  <a:pt x="1830" y="783"/>
                </a:lnTo>
                <a:lnTo>
                  <a:pt x="1851" y="785"/>
                </a:lnTo>
                <a:lnTo>
                  <a:pt x="1872" y="787"/>
                </a:lnTo>
                <a:lnTo>
                  <a:pt x="1891" y="789"/>
                </a:lnTo>
                <a:lnTo>
                  <a:pt x="1908" y="789"/>
                </a:lnTo>
                <a:lnTo>
                  <a:pt x="1925" y="791"/>
                </a:lnTo>
                <a:lnTo>
                  <a:pt x="1943" y="791"/>
                </a:lnTo>
                <a:lnTo>
                  <a:pt x="1958" y="791"/>
                </a:lnTo>
                <a:lnTo>
                  <a:pt x="1972" y="791"/>
                </a:lnTo>
                <a:lnTo>
                  <a:pt x="1985" y="789"/>
                </a:lnTo>
                <a:lnTo>
                  <a:pt x="1996" y="789"/>
                </a:lnTo>
                <a:lnTo>
                  <a:pt x="2008" y="787"/>
                </a:lnTo>
                <a:lnTo>
                  <a:pt x="2018" y="785"/>
                </a:lnTo>
                <a:lnTo>
                  <a:pt x="2027" y="782"/>
                </a:lnTo>
                <a:lnTo>
                  <a:pt x="2037" y="778"/>
                </a:lnTo>
                <a:lnTo>
                  <a:pt x="2044" y="776"/>
                </a:lnTo>
                <a:lnTo>
                  <a:pt x="2050" y="770"/>
                </a:lnTo>
                <a:lnTo>
                  <a:pt x="2058" y="766"/>
                </a:lnTo>
                <a:lnTo>
                  <a:pt x="2064" y="760"/>
                </a:lnTo>
                <a:lnTo>
                  <a:pt x="2069" y="753"/>
                </a:lnTo>
                <a:lnTo>
                  <a:pt x="2077" y="745"/>
                </a:lnTo>
                <a:lnTo>
                  <a:pt x="2083" y="737"/>
                </a:lnTo>
                <a:lnTo>
                  <a:pt x="2089" y="730"/>
                </a:lnTo>
                <a:lnTo>
                  <a:pt x="2096" y="720"/>
                </a:lnTo>
                <a:lnTo>
                  <a:pt x="2102" y="709"/>
                </a:lnTo>
                <a:lnTo>
                  <a:pt x="2108" y="697"/>
                </a:lnTo>
                <a:lnTo>
                  <a:pt x="2115" y="686"/>
                </a:lnTo>
                <a:lnTo>
                  <a:pt x="2121" y="674"/>
                </a:lnTo>
                <a:lnTo>
                  <a:pt x="2127" y="661"/>
                </a:lnTo>
                <a:lnTo>
                  <a:pt x="2135" y="647"/>
                </a:lnTo>
                <a:lnTo>
                  <a:pt x="2140" y="632"/>
                </a:lnTo>
                <a:lnTo>
                  <a:pt x="2146" y="618"/>
                </a:lnTo>
                <a:lnTo>
                  <a:pt x="2154" y="603"/>
                </a:lnTo>
                <a:lnTo>
                  <a:pt x="2165" y="540"/>
                </a:lnTo>
                <a:lnTo>
                  <a:pt x="2171" y="507"/>
                </a:lnTo>
                <a:lnTo>
                  <a:pt x="2177" y="474"/>
                </a:lnTo>
                <a:lnTo>
                  <a:pt x="2181" y="442"/>
                </a:lnTo>
                <a:lnTo>
                  <a:pt x="2185" y="407"/>
                </a:lnTo>
                <a:lnTo>
                  <a:pt x="2186" y="373"/>
                </a:lnTo>
                <a:lnTo>
                  <a:pt x="2188" y="338"/>
                </a:lnTo>
                <a:lnTo>
                  <a:pt x="2188" y="321"/>
                </a:lnTo>
                <a:lnTo>
                  <a:pt x="2186" y="307"/>
                </a:lnTo>
                <a:lnTo>
                  <a:pt x="2186" y="292"/>
                </a:lnTo>
                <a:lnTo>
                  <a:pt x="2186" y="279"/>
                </a:lnTo>
                <a:lnTo>
                  <a:pt x="2186" y="267"/>
                </a:lnTo>
                <a:lnTo>
                  <a:pt x="2186" y="254"/>
                </a:lnTo>
                <a:lnTo>
                  <a:pt x="2186" y="242"/>
                </a:lnTo>
                <a:lnTo>
                  <a:pt x="2185" y="233"/>
                </a:lnTo>
                <a:lnTo>
                  <a:pt x="2185" y="223"/>
                </a:lnTo>
                <a:lnTo>
                  <a:pt x="2183" y="213"/>
                </a:lnTo>
                <a:lnTo>
                  <a:pt x="2181" y="206"/>
                </a:lnTo>
                <a:lnTo>
                  <a:pt x="2181" y="198"/>
                </a:lnTo>
                <a:lnTo>
                  <a:pt x="2179" y="192"/>
                </a:lnTo>
                <a:lnTo>
                  <a:pt x="2175" y="188"/>
                </a:lnTo>
                <a:lnTo>
                  <a:pt x="2173" y="185"/>
                </a:lnTo>
                <a:lnTo>
                  <a:pt x="2171" y="181"/>
                </a:lnTo>
                <a:lnTo>
                  <a:pt x="2167" y="179"/>
                </a:lnTo>
                <a:lnTo>
                  <a:pt x="2162" y="177"/>
                </a:lnTo>
                <a:lnTo>
                  <a:pt x="2156" y="175"/>
                </a:lnTo>
                <a:lnTo>
                  <a:pt x="2148" y="173"/>
                </a:lnTo>
                <a:lnTo>
                  <a:pt x="2140" y="173"/>
                </a:lnTo>
                <a:lnTo>
                  <a:pt x="2131" y="171"/>
                </a:lnTo>
                <a:lnTo>
                  <a:pt x="2119" y="171"/>
                </a:lnTo>
                <a:lnTo>
                  <a:pt x="2108" y="171"/>
                </a:lnTo>
                <a:lnTo>
                  <a:pt x="2096" y="169"/>
                </a:lnTo>
                <a:lnTo>
                  <a:pt x="2083" y="169"/>
                </a:lnTo>
                <a:lnTo>
                  <a:pt x="2067" y="169"/>
                </a:lnTo>
                <a:lnTo>
                  <a:pt x="2052" y="169"/>
                </a:lnTo>
                <a:lnTo>
                  <a:pt x="2037" y="169"/>
                </a:lnTo>
                <a:lnTo>
                  <a:pt x="2020" y="169"/>
                </a:lnTo>
                <a:lnTo>
                  <a:pt x="2000" y="169"/>
                </a:lnTo>
                <a:lnTo>
                  <a:pt x="1983" y="169"/>
                </a:lnTo>
                <a:lnTo>
                  <a:pt x="1972" y="169"/>
                </a:lnTo>
                <a:lnTo>
                  <a:pt x="1956" y="169"/>
                </a:lnTo>
                <a:lnTo>
                  <a:pt x="1939" y="171"/>
                </a:lnTo>
                <a:lnTo>
                  <a:pt x="1918" y="173"/>
                </a:lnTo>
                <a:lnTo>
                  <a:pt x="1893" y="175"/>
                </a:lnTo>
                <a:lnTo>
                  <a:pt x="1864" y="177"/>
                </a:lnTo>
                <a:lnTo>
                  <a:pt x="1833" y="181"/>
                </a:lnTo>
                <a:lnTo>
                  <a:pt x="1799" y="185"/>
                </a:lnTo>
                <a:lnTo>
                  <a:pt x="1762" y="188"/>
                </a:lnTo>
                <a:lnTo>
                  <a:pt x="1722" y="192"/>
                </a:lnTo>
                <a:lnTo>
                  <a:pt x="1678" y="198"/>
                </a:lnTo>
                <a:lnTo>
                  <a:pt x="1630" y="204"/>
                </a:lnTo>
                <a:lnTo>
                  <a:pt x="1578" y="210"/>
                </a:lnTo>
                <a:lnTo>
                  <a:pt x="1524" y="215"/>
                </a:lnTo>
                <a:lnTo>
                  <a:pt x="1467" y="223"/>
                </a:lnTo>
                <a:lnTo>
                  <a:pt x="1407" y="231"/>
                </a:lnTo>
                <a:lnTo>
                  <a:pt x="1344" y="238"/>
                </a:lnTo>
                <a:lnTo>
                  <a:pt x="1277" y="248"/>
                </a:lnTo>
                <a:lnTo>
                  <a:pt x="1206" y="258"/>
                </a:lnTo>
                <a:lnTo>
                  <a:pt x="1133" y="267"/>
                </a:lnTo>
                <a:lnTo>
                  <a:pt x="1056" y="277"/>
                </a:lnTo>
                <a:lnTo>
                  <a:pt x="975" y="286"/>
                </a:lnTo>
                <a:lnTo>
                  <a:pt x="893" y="298"/>
                </a:lnTo>
                <a:lnTo>
                  <a:pt x="807" y="309"/>
                </a:lnTo>
                <a:lnTo>
                  <a:pt x="716" y="323"/>
                </a:lnTo>
                <a:lnTo>
                  <a:pt x="624" y="334"/>
                </a:lnTo>
                <a:lnTo>
                  <a:pt x="528" y="348"/>
                </a:lnTo>
                <a:lnTo>
                  <a:pt x="428" y="361"/>
                </a:lnTo>
                <a:lnTo>
                  <a:pt x="327" y="377"/>
                </a:lnTo>
                <a:lnTo>
                  <a:pt x="221" y="390"/>
                </a:lnTo>
                <a:lnTo>
                  <a:pt x="112" y="405"/>
                </a:lnTo>
                <a:lnTo>
                  <a:pt x="0" y="423"/>
                </a:lnTo>
                <a:lnTo>
                  <a:pt x="0" y="290"/>
                </a:lnTo>
                <a:lnTo>
                  <a:pt x="23" y="288"/>
                </a:lnTo>
                <a:lnTo>
                  <a:pt x="48" y="288"/>
                </a:lnTo>
                <a:lnTo>
                  <a:pt x="73" y="288"/>
                </a:lnTo>
                <a:lnTo>
                  <a:pt x="102" y="286"/>
                </a:lnTo>
                <a:lnTo>
                  <a:pt x="131" y="286"/>
                </a:lnTo>
                <a:lnTo>
                  <a:pt x="162" y="284"/>
                </a:lnTo>
                <a:lnTo>
                  <a:pt x="194" y="281"/>
                </a:lnTo>
                <a:lnTo>
                  <a:pt x="229" y="279"/>
                </a:lnTo>
                <a:lnTo>
                  <a:pt x="263" y="277"/>
                </a:lnTo>
                <a:lnTo>
                  <a:pt x="300" y="273"/>
                </a:lnTo>
                <a:lnTo>
                  <a:pt x="338" y="269"/>
                </a:lnTo>
                <a:lnTo>
                  <a:pt x="377" y="263"/>
                </a:lnTo>
                <a:lnTo>
                  <a:pt x="417" y="259"/>
                </a:lnTo>
                <a:lnTo>
                  <a:pt x="459" y="254"/>
                </a:lnTo>
                <a:lnTo>
                  <a:pt x="501" y="248"/>
                </a:lnTo>
                <a:lnTo>
                  <a:pt x="547" y="242"/>
                </a:lnTo>
                <a:lnTo>
                  <a:pt x="592" y="234"/>
                </a:lnTo>
                <a:lnTo>
                  <a:pt x="638" y="227"/>
                </a:lnTo>
                <a:lnTo>
                  <a:pt x="686" y="221"/>
                </a:lnTo>
                <a:lnTo>
                  <a:pt x="735" y="213"/>
                </a:lnTo>
                <a:lnTo>
                  <a:pt x="785" y="208"/>
                </a:lnTo>
                <a:lnTo>
                  <a:pt x="837" y="200"/>
                </a:lnTo>
                <a:lnTo>
                  <a:pt x="889" y="192"/>
                </a:lnTo>
                <a:lnTo>
                  <a:pt x="943" y="185"/>
                </a:lnTo>
                <a:lnTo>
                  <a:pt x="998" y="179"/>
                </a:lnTo>
                <a:lnTo>
                  <a:pt x="1056" y="171"/>
                </a:lnTo>
                <a:lnTo>
                  <a:pt x="1114" y="163"/>
                </a:lnTo>
                <a:lnTo>
                  <a:pt x="1171" y="156"/>
                </a:lnTo>
                <a:lnTo>
                  <a:pt x="1231" y="146"/>
                </a:lnTo>
                <a:lnTo>
                  <a:pt x="1292" y="139"/>
                </a:lnTo>
                <a:lnTo>
                  <a:pt x="1355" y="129"/>
                </a:lnTo>
                <a:lnTo>
                  <a:pt x="1419" y="121"/>
                </a:lnTo>
                <a:lnTo>
                  <a:pt x="1449" y="115"/>
                </a:lnTo>
                <a:lnTo>
                  <a:pt x="1480" y="112"/>
                </a:lnTo>
                <a:lnTo>
                  <a:pt x="1511" y="108"/>
                </a:lnTo>
                <a:lnTo>
                  <a:pt x="1540" y="102"/>
                </a:lnTo>
                <a:lnTo>
                  <a:pt x="1568" y="98"/>
                </a:lnTo>
                <a:lnTo>
                  <a:pt x="1595" y="94"/>
                </a:lnTo>
                <a:lnTo>
                  <a:pt x="1622" y="91"/>
                </a:lnTo>
                <a:lnTo>
                  <a:pt x="1649" y="87"/>
                </a:lnTo>
                <a:lnTo>
                  <a:pt x="1674" y="83"/>
                </a:lnTo>
                <a:lnTo>
                  <a:pt x="1699" y="79"/>
                </a:lnTo>
                <a:lnTo>
                  <a:pt x="1722" y="75"/>
                </a:lnTo>
                <a:lnTo>
                  <a:pt x="1745" y="71"/>
                </a:lnTo>
                <a:lnTo>
                  <a:pt x="1768" y="68"/>
                </a:lnTo>
                <a:lnTo>
                  <a:pt x="1789" y="66"/>
                </a:lnTo>
                <a:lnTo>
                  <a:pt x="1808" y="62"/>
                </a:lnTo>
                <a:lnTo>
                  <a:pt x="1828" y="58"/>
                </a:lnTo>
                <a:lnTo>
                  <a:pt x="1847" y="56"/>
                </a:lnTo>
                <a:lnTo>
                  <a:pt x="1866" y="52"/>
                </a:lnTo>
                <a:lnTo>
                  <a:pt x="1883" y="50"/>
                </a:lnTo>
                <a:lnTo>
                  <a:pt x="1899" y="46"/>
                </a:lnTo>
                <a:lnTo>
                  <a:pt x="1914" y="44"/>
                </a:lnTo>
                <a:lnTo>
                  <a:pt x="1929" y="43"/>
                </a:lnTo>
                <a:lnTo>
                  <a:pt x="1943" y="41"/>
                </a:lnTo>
                <a:lnTo>
                  <a:pt x="1956" y="37"/>
                </a:lnTo>
                <a:lnTo>
                  <a:pt x="1970" y="35"/>
                </a:lnTo>
                <a:lnTo>
                  <a:pt x="1981" y="33"/>
                </a:lnTo>
                <a:lnTo>
                  <a:pt x="1991" y="31"/>
                </a:lnTo>
                <a:lnTo>
                  <a:pt x="2002" y="29"/>
                </a:lnTo>
                <a:lnTo>
                  <a:pt x="2010" y="29"/>
                </a:lnTo>
                <a:lnTo>
                  <a:pt x="2020" y="27"/>
                </a:lnTo>
                <a:lnTo>
                  <a:pt x="2027" y="25"/>
                </a:lnTo>
                <a:lnTo>
                  <a:pt x="2033" y="25"/>
                </a:lnTo>
                <a:lnTo>
                  <a:pt x="2058" y="20"/>
                </a:lnTo>
                <a:lnTo>
                  <a:pt x="2081" y="16"/>
                </a:lnTo>
                <a:lnTo>
                  <a:pt x="2104" y="12"/>
                </a:lnTo>
                <a:lnTo>
                  <a:pt x="2123" y="8"/>
                </a:lnTo>
                <a:lnTo>
                  <a:pt x="2142" y="4"/>
                </a:lnTo>
                <a:lnTo>
                  <a:pt x="2158" y="2"/>
                </a:lnTo>
                <a:lnTo>
                  <a:pt x="2173" y="0"/>
                </a:lnTo>
                <a:lnTo>
                  <a:pt x="2188" y="0"/>
                </a:lnTo>
                <a:lnTo>
                  <a:pt x="2194" y="0"/>
                </a:lnTo>
                <a:lnTo>
                  <a:pt x="2202" y="2"/>
                </a:lnTo>
                <a:lnTo>
                  <a:pt x="2211" y="2"/>
                </a:lnTo>
                <a:lnTo>
                  <a:pt x="2223" y="4"/>
                </a:lnTo>
                <a:lnTo>
                  <a:pt x="2234" y="8"/>
                </a:lnTo>
                <a:lnTo>
                  <a:pt x="2248" y="12"/>
                </a:lnTo>
                <a:lnTo>
                  <a:pt x="2261" y="16"/>
                </a:lnTo>
                <a:lnTo>
                  <a:pt x="2277" y="20"/>
                </a:lnTo>
                <a:lnTo>
                  <a:pt x="2294" y="25"/>
                </a:lnTo>
                <a:lnTo>
                  <a:pt x="2311" y="31"/>
                </a:lnTo>
                <a:lnTo>
                  <a:pt x="2330" y="39"/>
                </a:lnTo>
                <a:lnTo>
                  <a:pt x="2352" y="46"/>
                </a:lnTo>
                <a:lnTo>
                  <a:pt x="2373" y="54"/>
                </a:lnTo>
                <a:lnTo>
                  <a:pt x="2396" y="64"/>
                </a:lnTo>
                <a:lnTo>
                  <a:pt x="2419" y="73"/>
                </a:lnTo>
                <a:lnTo>
                  <a:pt x="2444" y="85"/>
                </a:lnTo>
                <a:lnTo>
                  <a:pt x="2469" y="96"/>
                </a:lnTo>
                <a:lnTo>
                  <a:pt x="2492" y="106"/>
                </a:lnTo>
                <a:lnTo>
                  <a:pt x="2513" y="117"/>
                </a:lnTo>
                <a:lnTo>
                  <a:pt x="2534" y="125"/>
                </a:lnTo>
                <a:lnTo>
                  <a:pt x="2551" y="135"/>
                </a:lnTo>
                <a:lnTo>
                  <a:pt x="2568" y="142"/>
                </a:lnTo>
                <a:lnTo>
                  <a:pt x="2584" y="152"/>
                </a:lnTo>
                <a:lnTo>
                  <a:pt x="2597" y="158"/>
                </a:lnTo>
                <a:lnTo>
                  <a:pt x="2609" y="165"/>
                </a:lnTo>
                <a:lnTo>
                  <a:pt x="2620" y="173"/>
                </a:lnTo>
                <a:lnTo>
                  <a:pt x="2630" y="179"/>
                </a:lnTo>
                <a:lnTo>
                  <a:pt x="2636" y="185"/>
                </a:lnTo>
                <a:lnTo>
                  <a:pt x="2641" y="190"/>
                </a:lnTo>
                <a:lnTo>
                  <a:pt x="2645" y="196"/>
                </a:lnTo>
                <a:lnTo>
                  <a:pt x="2649" y="200"/>
                </a:lnTo>
                <a:lnTo>
                  <a:pt x="2649" y="2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62"/>
          <p:cNvSpPr/>
          <p:nvPr/>
        </p:nvSpPr>
        <p:spPr>
          <a:xfrm>
            <a:off x="5483160" y="3767040"/>
            <a:ext cx="344520" cy="693720"/>
          </a:xfrm>
          <a:custGeom>
            <a:avLst/>
            <a:gdLst/>
            <a:ahLst/>
            <a:rect l="l" t="t" r="r" b="b"/>
            <a:pathLst>
              <a:path w="434" h="873">
                <a:moveTo>
                  <a:pt x="75" y="163"/>
                </a:moveTo>
                <a:lnTo>
                  <a:pt x="66" y="155"/>
                </a:lnTo>
                <a:lnTo>
                  <a:pt x="58" y="150"/>
                </a:lnTo>
                <a:lnTo>
                  <a:pt x="50" y="144"/>
                </a:lnTo>
                <a:lnTo>
                  <a:pt x="43" y="136"/>
                </a:lnTo>
                <a:lnTo>
                  <a:pt x="37" y="130"/>
                </a:lnTo>
                <a:lnTo>
                  <a:pt x="31" y="125"/>
                </a:lnTo>
                <a:lnTo>
                  <a:pt x="27" y="119"/>
                </a:lnTo>
                <a:lnTo>
                  <a:pt x="21" y="113"/>
                </a:lnTo>
                <a:lnTo>
                  <a:pt x="18" y="109"/>
                </a:lnTo>
                <a:lnTo>
                  <a:pt x="16" y="104"/>
                </a:lnTo>
                <a:lnTo>
                  <a:pt x="12" y="98"/>
                </a:lnTo>
                <a:lnTo>
                  <a:pt x="10" y="92"/>
                </a:lnTo>
                <a:lnTo>
                  <a:pt x="10" y="84"/>
                </a:lnTo>
                <a:lnTo>
                  <a:pt x="8" y="79"/>
                </a:lnTo>
                <a:lnTo>
                  <a:pt x="8" y="67"/>
                </a:lnTo>
                <a:lnTo>
                  <a:pt x="4" y="59"/>
                </a:lnTo>
                <a:lnTo>
                  <a:pt x="2" y="54"/>
                </a:lnTo>
                <a:lnTo>
                  <a:pt x="0" y="48"/>
                </a:lnTo>
                <a:lnTo>
                  <a:pt x="0" y="42"/>
                </a:lnTo>
                <a:lnTo>
                  <a:pt x="0" y="38"/>
                </a:lnTo>
                <a:lnTo>
                  <a:pt x="2" y="35"/>
                </a:lnTo>
                <a:lnTo>
                  <a:pt x="4" y="31"/>
                </a:lnTo>
                <a:lnTo>
                  <a:pt x="8" y="27"/>
                </a:lnTo>
                <a:lnTo>
                  <a:pt x="10" y="23"/>
                </a:lnTo>
                <a:lnTo>
                  <a:pt x="16" y="21"/>
                </a:lnTo>
                <a:lnTo>
                  <a:pt x="20" y="17"/>
                </a:lnTo>
                <a:lnTo>
                  <a:pt x="27" y="15"/>
                </a:lnTo>
                <a:lnTo>
                  <a:pt x="33" y="13"/>
                </a:lnTo>
                <a:lnTo>
                  <a:pt x="41" y="10"/>
                </a:lnTo>
                <a:lnTo>
                  <a:pt x="48" y="8"/>
                </a:lnTo>
                <a:lnTo>
                  <a:pt x="58" y="6"/>
                </a:lnTo>
                <a:lnTo>
                  <a:pt x="66" y="4"/>
                </a:lnTo>
                <a:lnTo>
                  <a:pt x="71" y="2"/>
                </a:lnTo>
                <a:lnTo>
                  <a:pt x="77" y="2"/>
                </a:lnTo>
                <a:lnTo>
                  <a:pt x="85" y="0"/>
                </a:lnTo>
                <a:lnTo>
                  <a:pt x="96" y="2"/>
                </a:lnTo>
                <a:lnTo>
                  <a:pt x="110" y="2"/>
                </a:lnTo>
                <a:lnTo>
                  <a:pt x="123" y="6"/>
                </a:lnTo>
                <a:lnTo>
                  <a:pt x="135" y="10"/>
                </a:lnTo>
                <a:lnTo>
                  <a:pt x="148" y="13"/>
                </a:lnTo>
                <a:lnTo>
                  <a:pt x="162" y="19"/>
                </a:lnTo>
                <a:lnTo>
                  <a:pt x="167" y="21"/>
                </a:lnTo>
                <a:lnTo>
                  <a:pt x="175" y="23"/>
                </a:lnTo>
                <a:lnTo>
                  <a:pt x="185" y="27"/>
                </a:lnTo>
                <a:lnTo>
                  <a:pt x="192" y="29"/>
                </a:lnTo>
                <a:lnTo>
                  <a:pt x="202" y="33"/>
                </a:lnTo>
                <a:lnTo>
                  <a:pt x="213" y="35"/>
                </a:lnTo>
                <a:lnTo>
                  <a:pt x="225" y="38"/>
                </a:lnTo>
                <a:lnTo>
                  <a:pt x="236" y="42"/>
                </a:lnTo>
                <a:lnTo>
                  <a:pt x="248" y="46"/>
                </a:lnTo>
                <a:lnTo>
                  <a:pt x="261" y="48"/>
                </a:lnTo>
                <a:lnTo>
                  <a:pt x="275" y="52"/>
                </a:lnTo>
                <a:lnTo>
                  <a:pt x="288" y="56"/>
                </a:lnTo>
                <a:lnTo>
                  <a:pt x="304" y="58"/>
                </a:lnTo>
                <a:lnTo>
                  <a:pt x="319" y="61"/>
                </a:lnTo>
                <a:lnTo>
                  <a:pt x="350" y="67"/>
                </a:lnTo>
                <a:lnTo>
                  <a:pt x="354" y="94"/>
                </a:lnTo>
                <a:lnTo>
                  <a:pt x="359" y="121"/>
                </a:lnTo>
                <a:lnTo>
                  <a:pt x="363" y="148"/>
                </a:lnTo>
                <a:lnTo>
                  <a:pt x="367" y="175"/>
                </a:lnTo>
                <a:lnTo>
                  <a:pt x="371" y="200"/>
                </a:lnTo>
                <a:lnTo>
                  <a:pt x="377" y="225"/>
                </a:lnTo>
                <a:lnTo>
                  <a:pt x="380" y="248"/>
                </a:lnTo>
                <a:lnTo>
                  <a:pt x="384" y="273"/>
                </a:lnTo>
                <a:lnTo>
                  <a:pt x="388" y="294"/>
                </a:lnTo>
                <a:lnTo>
                  <a:pt x="392" y="317"/>
                </a:lnTo>
                <a:lnTo>
                  <a:pt x="394" y="338"/>
                </a:lnTo>
                <a:lnTo>
                  <a:pt x="398" y="359"/>
                </a:lnTo>
                <a:lnTo>
                  <a:pt x="401" y="380"/>
                </a:lnTo>
                <a:lnTo>
                  <a:pt x="405" y="399"/>
                </a:lnTo>
                <a:lnTo>
                  <a:pt x="407" y="418"/>
                </a:lnTo>
                <a:lnTo>
                  <a:pt x="411" y="436"/>
                </a:lnTo>
                <a:lnTo>
                  <a:pt x="413" y="455"/>
                </a:lnTo>
                <a:lnTo>
                  <a:pt x="417" y="472"/>
                </a:lnTo>
                <a:lnTo>
                  <a:pt x="419" y="488"/>
                </a:lnTo>
                <a:lnTo>
                  <a:pt x="421" y="503"/>
                </a:lnTo>
                <a:lnTo>
                  <a:pt x="423" y="518"/>
                </a:lnTo>
                <a:lnTo>
                  <a:pt x="425" y="534"/>
                </a:lnTo>
                <a:lnTo>
                  <a:pt x="426" y="547"/>
                </a:lnTo>
                <a:lnTo>
                  <a:pt x="428" y="560"/>
                </a:lnTo>
                <a:lnTo>
                  <a:pt x="430" y="574"/>
                </a:lnTo>
                <a:lnTo>
                  <a:pt x="430" y="585"/>
                </a:lnTo>
                <a:lnTo>
                  <a:pt x="432" y="597"/>
                </a:lnTo>
                <a:lnTo>
                  <a:pt x="432" y="607"/>
                </a:lnTo>
                <a:lnTo>
                  <a:pt x="434" y="618"/>
                </a:lnTo>
                <a:lnTo>
                  <a:pt x="434" y="628"/>
                </a:lnTo>
                <a:lnTo>
                  <a:pt x="434" y="635"/>
                </a:lnTo>
                <a:lnTo>
                  <a:pt x="434" y="645"/>
                </a:lnTo>
                <a:lnTo>
                  <a:pt x="434" y="660"/>
                </a:lnTo>
                <a:lnTo>
                  <a:pt x="434" y="674"/>
                </a:lnTo>
                <a:lnTo>
                  <a:pt x="432" y="687"/>
                </a:lnTo>
                <a:lnTo>
                  <a:pt x="432" y="701"/>
                </a:lnTo>
                <a:lnTo>
                  <a:pt x="430" y="714"/>
                </a:lnTo>
                <a:lnTo>
                  <a:pt x="428" y="726"/>
                </a:lnTo>
                <a:lnTo>
                  <a:pt x="426" y="735"/>
                </a:lnTo>
                <a:lnTo>
                  <a:pt x="425" y="747"/>
                </a:lnTo>
                <a:lnTo>
                  <a:pt x="421" y="756"/>
                </a:lnTo>
                <a:lnTo>
                  <a:pt x="419" y="766"/>
                </a:lnTo>
                <a:lnTo>
                  <a:pt x="415" y="774"/>
                </a:lnTo>
                <a:lnTo>
                  <a:pt x="413" y="783"/>
                </a:lnTo>
                <a:lnTo>
                  <a:pt x="407" y="798"/>
                </a:lnTo>
                <a:lnTo>
                  <a:pt x="400" y="812"/>
                </a:lnTo>
                <a:lnTo>
                  <a:pt x="388" y="825"/>
                </a:lnTo>
                <a:lnTo>
                  <a:pt x="375" y="837"/>
                </a:lnTo>
                <a:lnTo>
                  <a:pt x="363" y="848"/>
                </a:lnTo>
                <a:lnTo>
                  <a:pt x="352" y="856"/>
                </a:lnTo>
                <a:lnTo>
                  <a:pt x="340" y="864"/>
                </a:lnTo>
                <a:lnTo>
                  <a:pt x="336" y="866"/>
                </a:lnTo>
                <a:lnTo>
                  <a:pt x="330" y="869"/>
                </a:lnTo>
                <a:lnTo>
                  <a:pt x="327" y="869"/>
                </a:lnTo>
                <a:lnTo>
                  <a:pt x="323" y="871"/>
                </a:lnTo>
                <a:lnTo>
                  <a:pt x="319" y="873"/>
                </a:lnTo>
                <a:lnTo>
                  <a:pt x="315" y="873"/>
                </a:lnTo>
                <a:lnTo>
                  <a:pt x="307" y="871"/>
                </a:lnTo>
                <a:lnTo>
                  <a:pt x="302" y="871"/>
                </a:lnTo>
                <a:lnTo>
                  <a:pt x="296" y="868"/>
                </a:lnTo>
                <a:lnTo>
                  <a:pt x="290" y="864"/>
                </a:lnTo>
                <a:lnTo>
                  <a:pt x="282" y="860"/>
                </a:lnTo>
                <a:lnTo>
                  <a:pt x="277" y="854"/>
                </a:lnTo>
                <a:lnTo>
                  <a:pt x="271" y="846"/>
                </a:lnTo>
                <a:lnTo>
                  <a:pt x="265" y="839"/>
                </a:lnTo>
                <a:lnTo>
                  <a:pt x="259" y="829"/>
                </a:lnTo>
                <a:lnTo>
                  <a:pt x="256" y="820"/>
                </a:lnTo>
                <a:lnTo>
                  <a:pt x="250" y="808"/>
                </a:lnTo>
                <a:lnTo>
                  <a:pt x="244" y="797"/>
                </a:lnTo>
                <a:lnTo>
                  <a:pt x="240" y="783"/>
                </a:lnTo>
                <a:lnTo>
                  <a:pt x="236" y="770"/>
                </a:lnTo>
                <a:lnTo>
                  <a:pt x="233" y="756"/>
                </a:lnTo>
                <a:lnTo>
                  <a:pt x="229" y="741"/>
                </a:lnTo>
                <a:lnTo>
                  <a:pt x="223" y="724"/>
                </a:lnTo>
                <a:lnTo>
                  <a:pt x="217" y="708"/>
                </a:lnTo>
                <a:lnTo>
                  <a:pt x="211" y="691"/>
                </a:lnTo>
                <a:lnTo>
                  <a:pt x="208" y="672"/>
                </a:lnTo>
                <a:lnTo>
                  <a:pt x="202" y="654"/>
                </a:lnTo>
                <a:lnTo>
                  <a:pt x="198" y="635"/>
                </a:lnTo>
                <a:lnTo>
                  <a:pt x="192" y="616"/>
                </a:lnTo>
                <a:lnTo>
                  <a:pt x="188" y="595"/>
                </a:lnTo>
                <a:lnTo>
                  <a:pt x="185" y="576"/>
                </a:lnTo>
                <a:lnTo>
                  <a:pt x="181" y="555"/>
                </a:lnTo>
                <a:lnTo>
                  <a:pt x="177" y="532"/>
                </a:lnTo>
                <a:lnTo>
                  <a:pt x="175" y="511"/>
                </a:lnTo>
                <a:lnTo>
                  <a:pt x="171" y="488"/>
                </a:lnTo>
                <a:lnTo>
                  <a:pt x="167" y="464"/>
                </a:lnTo>
                <a:lnTo>
                  <a:pt x="163" y="440"/>
                </a:lnTo>
                <a:lnTo>
                  <a:pt x="162" y="416"/>
                </a:lnTo>
                <a:lnTo>
                  <a:pt x="158" y="392"/>
                </a:lnTo>
                <a:lnTo>
                  <a:pt x="154" y="369"/>
                </a:lnTo>
                <a:lnTo>
                  <a:pt x="152" y="345"/>
                </a:lnTo>
                <a:lnTo>
                  <a:pt x="148" y="324"/>
                </a:lnTo>
                <a:lnTo>
                  <a:pt x="144" y="305"/>
                </a:lnTo>
                <a:lnTo>
                  <a:pt x="140" y="286"/>
                </a:lnTo>
                <a:lnTo>
                  <a:pt x="137" y="269"/>
                </a:lnTo>
                <a:lnTo>
                  <a:pt x="131" y="253"/>
                </a:lnTo>
                <a:lnTo>
                  <a:pt x="127" y="238"/>
                </a:lnTo>
                <a:lnTo>
                  <a:pt x="121" y="225"/>
                </a:lnTo>
                <a:lnTo>
                  <a:pt x="116" y="211"/>
                </a:lnTo>
                <a:lnTo>
                  <a:pt x="108" y="200"/>
                </a:lnTo>
                <a:lnTo>
                  <a:pt x="100" y="188"/>
                </a:lnTo>
                <a:lnTo>
                  <a:pt x="92" y="178"/>
                </a:lnTo>
                <a:lnTo>
                  <a:pt x="85" y="171"/>
                </a:lnTo>
                <a:lnTo>
                  <a:pt x="75" y="1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63"/>
          <p:cNvSpPr/>
          <p:nvPr/>
        </p:nvSpPr>
        <p:spPr>
          <a:xfrm>
            <a:off x="6045120" y="3216240"/>
            <a:ext cx="1125720" cy="193680"/>
          </a:xfrm>
          <a:custGeom>
            <a:avLst/>
            <a:gdLst/>
            <a:ahLst/>
            <a:rect l="l" t="t" r="r" b="b"/>
            <a:pathLst>
              <a:path w="1418" h="244">
                <a:moveTo>
                  <a:pt x="1366" y="52"/>
                </a:moveTo>
                <a:lnTo>
                  <a:pt x="1380" y="56"/>
                </a:lnTo>
                <a:lnTo>
                  <a:pt x="1389" y="62"/>
                </a:lnTo>
                <a:lnTo>
                  <a:pt x="1399" y="69"/>
                </a:lnTo>
                <a:lnTo>
                  <a:pt x="1405" y="75"/>
                </a:lnTo>
                <a:lnTo>
                  <a:pt x="1410" y="83"/>
                </a:lnTo>
                <a:lnTo>
                  <a:pt x="1414" y="88"/>
                </a:lnTo>
                <a:lnTo>
                  <a:pt x="1418" y="94"/>
                </a:lnTo>
                <a:lnTo>
                  <a:pt x="1418" y="100"/>
                </a:lnTo>
                <a:lnTo>
                  <a:pt x="1418" y="102"/>
                </a:lnTo>
                <a:lnTo>
                  <a:pt x="1416" y="104"/>
                </a:lnTo>
                <a:lnTo>
                  <a:pt x="1412" y="106"/>
                </a:lnTo>
                <a:lnTo>
                  <a:pt x="1408" y="108"/>
                </a:lnTo>
                <a:lnTo>
                  <a:pt x="1403" y="110"/>
                </a:lnTo>
                <a:lnTo>
                  <a:pt x="1397" y="113"/>
                </a:lnTo>
                <a:lnTo>
                  <a:pt x="1389" y="115"/>
                </a:lnTo>
                <a:lnTo>
                  <a:pt x="1380" y="117"/>
                </a:lnTo>
                <a:lnTo>
                  <a:pt x="1370" y="119"/>
                </a:lnTo>
                <a:lnTo>
                  <a:pt x="1358" y="121"/>
                </a:lnTo>
                <a:lnTo>
                  <a:pt x="1345" y="123"/>
                </a:lnTo>
                <a:lnTo>
                  <a:pt x="1332" y="127"/>
                </a:lnTo>
                <a:lnTo>
                  <a:pt x="1316" y="129"/>
                </a:lnTo>
                <a:lnTo>
                  <a:pt x="1301" y="131"/>
                </a:lnTo>
                <a:lnTo>
                  <a:pt x="1282" y="133"/>
                </a:lnTo>
                <a:lnTo>
                  <a:pt x="1264" y="135"/>
                </a:lnTo>
                <a:lnTo>
                  <a:pt x="1251" y="136"/>
                </a:lnTo>
                <a:lnTo>
                  <a:pt x="1238" y="138"/>
                </a:lnTo>
                <a:lnTo>
                  <a:pt x="1222" y="138"/>
                </a:lnTo>
                <a:lnTo>
                  <a:pt x="1205" y="140"/>
                </a:lnTo>
                <a:lnTo>
                  <a:pt x="1186" y="142"/>
                </a:lnTo>
                <a:lnTo>
                  <a:pt x="1167" y="144"/>
                </a:lnTo>
                <a:lnTo>
                  <a:pt x="1143" y="146"/>
                </a:lnTo>
                <a:lnTo>
                  <a:pt x="1119" y="148"/>
                </a:lnTo>
                <a:lnTo>
                  <a:pt x="1094" y="152"/>
                </a:lnTo>
                <a:lnTo>
                  <a:pt x="1065" y="154"/>
                </a:lnTo>
                <a:lnTo>
                  <a:pt x="1036" y="156"/>
                </a:lnTo>
                <a:lnTo>
                  <a:pt x="1005" y="159"/>
                </a:lnTo>
                <a:lnTo>
                  <a:pt x="973" y="161"/>
                </a:lnTo>
                <a:lnTo>
                  <a:pt x="938" y="165"/>
                </a:lnTo>
                <a:lnTo>
                  <a:pt x="900" y="167"/>
                </a:lnTo>
                <a:lnTo>
                  <a:pt x="861" y="171"/>
                </a:lnTo>
                <a:lnTo>
                  <a:pt x="823" y="175"/>
                </a:lnTo>
                <a:lnTo>
                  <a:pt x="781" y="179"/>
                </a:lnTo>
                <a:lnTo>
                  <a:pt x="737" y="182"/>
                </a:lnTo>
                <a:lnTo>
                  <a:pt x="691" y="186"/>
                </a:lnTo>
                <a:lnTo>
                  <a:pt x="643" y="190"/>
                </a:lnTo>
                <a:lnTo>
                  <a:pt x="595" y="194"/>
                </a:lnTo>
                <a:lnTo>
                  <a:pt x="543" y="198"/>
                </a:lnTo>
                <a:lnTo>
                  <a:pt x="489" y="202"/>
                </a:lnTo>
                <a:lnTo>
                  <a:pt x="435" y="207"/>
                </a:lnTo>
                <a:lnTo>
                  <a:pt x="378" y="211"/>
                </a:lnTo>
                <a:lnTo>
                  <a:pt x="320" y="217"/>
                </a:lnTo>
                <a:lnTo>
                  <a:pt x="259" y="221"/>
                </a:lnTo>
                <a:lnTo>
                  <a:pt x="197" y="227"/>
                </a:lnTo>
                <a:lnTo>
                  <a:pt x="134" y="232"/>
                </a:lnTo>
                <a:lnTo>
                  <a:pt x="67" y="238"/>
                </a:lnTo>
                <a:lnTo>
                  <a:pt x="0" y="244"/>
                </a:lnTo>
                <a:lnTo>
                  <a:pt x="0" y="190"/>
                </a:lnTo>
                <a:lnTo>
                  <a:pt x="0" y="135"/>
                </a:lnTo>
                <a:lnTo>
                  <a:pt x="36" y="131"/>
                </a:lnTo>
                <a:lnTo>
                  <a:pt x="73" y="127"/>
                </a:lnTo>
                <a:lnTo>
                  <a:pt x="107" y="121"/>
                </a:lnTo>
                <a:lnTo>
                  <a:pt x="142" y="117"/>
                </a:lnTo>
                <a:lnTo>
                  <a:pt x="176" y="113"/>
                </a:lnTo>
                <a:lnTo>
                  <a:pt x="211" y="110"/>
                </a:lnTo>
                <a:lnTo>
                  <a:pt x="243" y="106"/>
                </a:lnTo>
                <a:lnTo>
                  <a:pt x="276" y="100"/>
                </a:lnTo>
                <a:lnTo>
                  <a:pt x="309" y="96"/>
                </a:lnTo>
                <a:lnTo>
                  <a:pt x="339" y="92"/>
                </a:lnTo>
                <a:lnTo>
                  <a:pt x="372" y="88"/>
                </a:lnTo>
                <a:lnTo>
                  <a:pt x="403" y="85"/>
                </a:lnTo>
                <a:lnTo>
                  <a:pt x="431" y="83"/>
                </a:lnTo>
                <a:lnTo>
                  <a:pt x="462" y="79"/>
                </a:lnTo>
                <a:lnTo>
                  <a:pt x="491" y="75"/>
                </a:lnTo>
                <a:lnTo>
                  <a:pt x="518" y="71"/>
                </a:lnTo>
                <a:lnTo>
                  <a:pt x="547" y="67"/>
                </a:lnTo>
                <a:lnTo>
                  <a:pt x="573" y="65"/>
                </a:lnTo>
                <a:lnTo>
                  <a:pt x="600" y="62"/>
                </a:lnTo>
                <a:lnTo>
                  <a:pt x="627" y="58"/>
                </a:lnTo>
                <a:lnTo>
                  <a:pt x="652" y="56"/>
                </a:lnTo>
                <a:lnTo>
                  <a:pt x="677" y="52"/>
                </a:lnTo>
                <a:lnTo>
                  <a:pt x="702" y="50"/>
                </a:lnTo>
                <a:lnTo>
                  <a:pt x="725" y="46"/>
                </a:lnTo>
                <a:lnTo>
                  <a:pt x="750" y="44"/>
                </a:lnTo>
                <a:lnTo>
                  <a:pt x="773" y="42"/>
                </a:lnTo>
                <a:lnTo>
                  <a:pt x="794" y="39"/>
                </a:lnTo>
                <a:lnTo>
                  <a:pt x="817" y="37"/>
                </a:lnTo>
                <a:lnTo>
                  <a:pt x="838" y="35"/>
                </a:lnTo>
                <a:lnTo>
                  <a:pt x="859" y="33"/>
                </a:lnTo>
                <a:lnTo>
                  <a:pt x="879" y="29"/>
                </a:lnTo>
                <a:lnTo>
                  <a:pt x="898" y="27"/>
                </a:lnTo>
                <a:lnTo>
                  <a:pt x="917" y="25"/>
                </a:lnTo>
                <a:lnTo>
                  <a:pt x="936" y="23"/>
                </a:lnTo>
                <a:lnTo>
                  <a:pt x="955" y="21"/>
                </a:lnTo>
                <a:lnTo>
                  <a:pt x="973" y="19"/>
                </a:lnTo>
                <a:lnTo>
                  <a:pt x="990" y="17"/>
                </a:lnTo>
                <a:lnTo>
                  <a:pt x="1005" y="17"/>
                </a:lnTo>
                <a:lnTo>
                  <a:pt x="1021" y="16"/>
                </a:lnTo>
                <a:lnTo>
                  <a:pt x="1036" y="14"/>
                </a:lnTo>
                <a:lnTo>
                  <a:pt x="1051" y="12"/>
                </a:lnTo>
                <a:lnTo>
                  <a:pt x="1067" y="12"/>
                </a:lnTo>
                <a:lnTo>
                  <a:pt x="1080" y="10"/>
                </a:lnTo>
                <a:lnTo>
                  <a:pt x="1094" y="8"/>
                </a:lnTo>
                <a:lnTo>
                  <a:pt x="1105" y="8"/>
                </a:lnTo>
                <a:lnTo>
                  <a:pt x="1119" y="6"/>
                </a:lnTo>
                <a:lnTo>
                  <a:pt x="1130" y="6"/>
                </a:lnTo>
                <a:lnTo>
                  <a:pt x="1142" y="4"/>
                </a:lnTo>
                <a:lnTo>
                  <a:pt x="1151" y="4"/>
                </a:lnTo>
                <a:lnTo>
                  <a:pt x="1161" y="4"/>
                </a:lnTo>
                <a:lnTo>
                  <a:pt x="1170" y="2"/>
                </a:lnTo>
                <a:lnTo>
                  <a:pt x="1180" y="2"/>
                </a:lnTo>
                <a:lnTo>
                  <a:pt x="1188" y="2"/>
                </a:lnTo>
                <a:lnTo>
                  <a:pt x="1197" y="2"/>
                </a:lnTo>
                <a:lnTo>
                  <a:pt x="1203" y="2"/>
                </a:lnTo>
                <a:lnTo>
                  <a:pt x="1211" y="2"/>
                </a:lnTo>
                <a:lnTo>
                  <a:pt x="1216" y="0"/>
                </a:lnTo>
                <a:lnTo>
                  <a:pt x="1222" y="2"/>
                </a:lnTo>
                <a:lnTo>
                  <a:pt x="1228" y="2"/>
                </a:lnTo>
                <a:lnTo>
                  <a:pt x="1234" y="2"/>
                </a:lnTo>
                <a:lnTo>
                  <a:pt x="1238" y="2"/>
                </a:lnTo>
                <a:lnTo>
                  <a:pt x="1241" y="2"/>
                </a:lnTo>
                <a:lnTo>
                  <a:pt x="1243" y="2"/>
                </a:lnTo>
                <a:lnTo>
                  <a:pt x="1247" y="4"/>
                </a:lnTo>
                <a:lnTo>
                  <a:pt x="1264" y="8"/>
                </a:lnTo>
                <a:lnTo>
                  <a:pt x="1282" y="12"/>
                </a:lnTo>
                <a:lnTo>
                  <a:pt x="1299" y="17"/>
                </a:lnTo>
                <a:lnTo>
                  <a:pt x="1312" y="23"/>
                </a:lnTo>
                <a:lnTo>
                  <a:pt x="1328" y="29"/>
                </a:lnTo>
                <a:lnTo>
                  <a:pt x="1341" y="35"/>
                </a:lnTo>
                <a:lnTo>
                  <a:pt x="1355" y="42"/>
                </a:lnTo>
                <a:lnTo>
                  <a:pt x="1366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64"/>
          <p:cNvSpPr/>
          <p:nvPr/>
        </p:nvSpPr>
        <p:spPr>
          <a:xfrm>
            <a:off x="6370560" y="3343320"/>
            <a:ext cx="298440" cy="1709640"/>
          </a:xfrm>
          <a:custGeom>
            <a:avLst/>
            <a:gdLst/>
            <a:ahLst/>
            <a:rect l="l" t="t" r="r" b="b"/>
            <a:pathLst>
              <a:path w="376" h="2156">
                <a:moveTo>
                  <a:pt x="67" y="976"/>
                </a:moveTo>
                <a:lnTo>
                  <a:pt x="67" y="937"/>
                </a:lnTo>
                <a:lnTo>
                  <a:pt x="67" y="899"/>
                </a:lnTo>
                <a:lnTo>
                  <a:pt x="67" y="862"/>
                </a:lnTo>
                <a:lnTo>
                  <a:pt x="67" y="826"/>
                </a:lnTo>
                <a:lnTo>
                  <a:pt x="66" y="791"/>
                </a:lnTo>
                <a:lnTo>
                  <a:pt x="66" y="757"/>
                </a:lnTo>
                <a:lnTo>
                  <a:pt x="66" y="724"/>
                </a:lnTo>
                <a:lnTo>
                  <a:pt x="64" y="691"/>
                </a:lnTo>
                <a:lnTo>
                  <a:pt x="64" y="661"/>
                </a:lnTo>
                <a:lnTo>
                  <a:pt x="64" y="630"/>
                </a:lnTo>
                <a:lnTo>
                  <a:pt x="62" y="601"/>
                </a:lnTo>
                <a:lnTo>
                  <a:pt x="62" y="572"/>
                </a:lnTo>
                <a:lnTo>
                  <a:pt x="60" y="546"/>
                </a:lnTo>
                <a:lnTo>
                  <a:pt x="60" y="519"/>
                </a:lnTo>
                <a:lnTo>
                  <a:pt x="58" y="494"/>
                </a:lnTo>
                <a:lnTo>
                  <a:pt x="56" y="471"/>
                </a:lnTo>
                <a:lnTo>
                  <a:pt x="56" y="446"/>
                </a:lnTo>
                <a:lnTo>
                  <a:pt x="54" y="425"/>
                </a:lnTo>
                <a:lnTo>
                  <a:pt x="52" y="404"/>
                </a:lnTo>
                <a:lnTo>
                  <a:pt x="52" y="382"/>
                </a:lnTo>
                <a:lnTo>
                  <a:pt x="50" y="363"/>
                </a:lnTo>
                <a:lnTo>
                  <a:pt x="48" y="346"/>
                </a:lnTo>
                <a:lnTo>
                  <a:pt x="48" y="329"/>
                </a:lnTo>
                <a:lnTo>
                  <a:pt x="46" y="311"/>
                </a:lnTo>
                <a:lnTo>
                  <a:pt x="44" y="296"/>
                </a:lnTo>
                <a:lnTo>
                  <a:pt x="43" y="283"/>
                </a:lnTo>
                <a:lnTo>
                  <a:pt x="41" y="269"/>
                </a:lnTo>
                <a:lnTo>
                  <a:pt x="41" y="256"/>
                </a:lnTo>
                <a:lnTo>
                  <a:pt x="39" y="244"/>
                </a:lnTo>
                <a:lnTo>
                  <a:pt x="37" y="235"/>
                </a:lnTo>
                <a:lnTo>
                  <a:pt x="35" y="225"/>
                </a:lnTo>
                <a:lnTo>
                  <a:pt x="33" y="217"/>
                </a:lnTo>
                <a:lnTo>
                  <a:pt x="27" y="187"/>
                </a:lnTo>
                <a:lnTo>
                  <a:pt x="21" y="156"/>
                </a:lnTo>
                <a:lnTo>
                  <a:pt x="16" y="127"/>
                </a:lnTo>
                <a:lnTo>
                  <a:pt x="10" y="100"/>
                </a:lnTo>
                <a:lnTo>
                  <a:pt x="6" y="73"/>
                </a:lnTo>
                <a:lnTo>
                  <a:pt x="2" y="48"/>
                </a:lnTo>
                <a:lnTo>
                  <a:pt x="0" y="23"/>
                </a:lnTo>
                <a:lnTo>
                  <a:pt x="0" y="0"/>
                </a:lnTo>
                <a:lnTo>
                  <a:pt x="21" y="10"/>
                </a:lnTo>
                <a:lnTo>
                  <a:pt x="43" y="20"/>
                </a:lnTo>
                <a:lnTo>
                  <a:pt x="64" y="29"/>
                </a:lnTo>
                <a:lnTo>
                  <a:pt x="83" y="39"/>
                </a:lnTo>
                <a:lnTo>
                  <a:pt x="102" y="48"/>
                </a:lnTo>
                <a:lnTo>
                  <a:pt x="121" y="58"/>
                </a:lnTo>
                <a:lnTo>
                  <a:pt x="139" y="66"/>
                </a:lnTo>
                <a:lnTo>
                  <a:pt x="156" y="73"/>
                </a:lnTo>
                <a:lnTo>
                  <a:pt x="173" y="81"/>
                </a:lnTo>
                <a:lnTo>
                  <a:pt x="188" y="89"/>
                </a:lnTo>
                <a:lnTo>
                  <a:pt x="204" y="96"/>
                </a:lnTo>
                <a:lnTo>
                  <a:pt x="219" y="104"/>
                </a:lnTo>
                <a:lnTo>
                  <a:pt x="233" y="112"/>
                </a:lnTo>
                <a:lnTo>
                  <a:pt x="246" y="118"/>
                </a:lnTo>
                <a:lnTo>
                  <a:pt x="259" y="123"/>
                </a:lnTo>
                <a:lnTo>
                  <a:pt x="271" y="131"/>
                </a:lnTo>
                <a:lnTo>
                  <a:pt x="282" y="137"/>
                </a:lnTo>
                <a:lnTo>
                  <a:pt x="292" y="142"/>
                </a:lnTo>
                <a:lnTo>
                  <a:pt x="302" y="148"/>
                </a:lnTo>
                <a:lnTo>
                  <a:pt x="311" y="154"/>
                </a:lnTo>
                <a:lnTo>
                  <a:pt x="321" y="158"/>
                </a:lnTo>
                <a:lnTo>
                  <a:pt x="329" y="164"/>
                </a:lnTo>
                <a:lnTo>
                  <a:pt x="336" y="169"/>
                </a:lnTo>
                <a:lnTo>
                  <a:pt x="344" y="173"/>
                </a:lnTo>
                <a:lnTo>
                  <a:pt x="350" y="177"/>
                </a:lnTo>
                <a:lnTo>
                  <a:pt x="355" y="183"/>
                </a:lnTo>
                <a:lnTo>
                  <a:pt x="359" y="187"/>
                </a:lnTo>
                <a:lnTo>
                  <a:pt x="365" y="190"/>
                </a:lnTo>
                <a:lnTo>
                  <a:pt x="369" y="194"/>
                </a:lnTo>
                <a:lnTo>
                  <a:pt x="371" y="198"/>
                </a:lnTo>
                <a:lnTo>
                  <a:pt x="375" y="202"/>
                </a:lnTo>
                <a:lnTo>
                  <a:pt x="376" y="206"/>
                </a:lnTo>
                <a:lnTo>
                  <a:pt x="375" y="233"/>
                </a:lnTo>
                <a:lnTo>
                  <a:pt x="375" y="246"/>
                </a:lnTo>
                <a:lnTo>
                  <a:pt x="373" y="260"/>
                </a:lnTo>
                <a:lnTo>
                  <a:pt x="371" y="273"/>
                </a:lnTo>
                <a:lnTo>
                  <a:pt x="369" y="286"/>
                </a:lnTo>
                <a:lnTo>
                  <a:pt x="363" y="300"/>
                </a:lnTo>
                <a:lnTo>
                  <a:pt x="359" y="313"/>
                </a:lnTo>
                <a:lnTo>
                  <a:pt x="357" y="319"/>
                </a:lnTo>
                <a:lnTo>
                  <a:pt x="355" y="325"/>
                </a:lnTo>
                <a:lnTo>
                  <a:pt x="353" y="333"/>
                </a:lnTo>
                <a:lnTo>
                  <a:pt x="352" y="340"/>
                </a:lnTo>
                <a:lnTo>
                  <a:pt x="350" y="350"/>
                </a:lnTo>
                <a:lnTo>
                  <a:pt x="350" y="361"/>
                </a:lnTo>
                <a:lnTo>
                  <a:pt x="348" y="373"/>
                </a:lnTo>
                <a:lnTo>
                  <a:pt x="346" y="386"/>
                </a:lnTo>
                <a:lnTo>
                  <a:pt x="344" y="400"/>
                </a:lnTo>
                <a:lnTo>
                  <a:pt x="344" y="415"/>
                </a:lnTo>
                <a:lnTo>
                  <a:pt x="342" y="430"/>
                </a:lnTo>
                <a:lnTo>
                  <a:pt x="340" y="448"/>
                </a:lnTo>
                <a:lnTo>
                  <a:pt x="338" y="467"/>
                </a:lnTo>
                <a:lnTo>
                  <a:pt x="338" y="486"/>
                </a:lnTo>
                <a:lnTo>
                  <a:pt x="336" y="507"/>
                </a:lnTo>
                <a:lnTo>
                  <a:pt x="334" y="528"/>
                </a:lnTo>
                <a:lnTo>
                  <a:pt x="334" y="551"/>
                </a:lnTo>
                <a:lnTo>
                  <a:pt x="332" y="574"/>
                </a:lnTo>
                <a:lnTo>
                  <a:pt x="332" y="599"/>
                </a:lnTo>
                <a:lnTo>
                  <a:pt x="330" y="626"/>
                </a:lnTo>
                <a:lnTo>
                  <a:pt x="330" y="653"/>
                </a:lnTo>
                <a:lnTo>
                  <a:pt x="329" y="682"/>
                </a:lnTo>
                <a:lnTo>
                  <a:pt x="329" y="711"/>
                </a:lnTo>
                <a:lnTo>
                  <a:pt x="327" y="741"/>
                </a:lnTo>
                <a:lnTo>
                  <a:pt x="327" y="774"/>
                </a:lnTo>
                <a:lnTo>
                  <a:pt x="327" y="807"/>
                </a:lnTo>
                <a:lnTo>
                  <a:pt x="325" y="839"/>
                </a:lnTo>
                <a:lnTo>
                  <a:pt x="325" y="874"/>
                </a:lnTo>
                <a:lnTo>
                  <a:pt x="325" y="910"/>
                </a:lnTo>
                <a:lnTo>
                  <a:pt x="325" y="947"/>
                </a:lnTo>
                <a:lnTo>
                  <a:pt x="325" y="985"/>
                </a:lnTo>
                <a:lnTo>
                  <a:pt x="325" y="1024"/>
                </a:lnTo>
                <a:lnTo>
                  <a:pt x="325" y="1064"/>
                </a:lnTo>
                <a:lnTo>
                  <a:pt x="325" y="1104"/>
                </a:lnTo>
                <a:lnTo>
                  <a:pt x="325" y="1143"/>
                </a:lnTo>
                <a:lnTo>
                  <a:pt x="323" y="1179"/>
                </a:lnTo>
                <a:lnTo>
                  <a:pt x="323" y="1217"/>
                </a:lnTo>
                <a:lnTo>
                  <a:pt x="323" y="1254"/>
                </a:lnTo>
                <a:lnTo>
                  <a:pt x="321" y="1288"/>
                </a:lnTo>
                <a:lnTo>
                  <a:pt x="321" y="1323"/>
                </a:lnTo>
                <a:lnTo>
                  <a:pt x="321" y="1357"/>
                </a:lnTo>
                <a:lnTo>
                  <a:pt x="319" y="1390"/>
                </a:lnTo>
                <a:lnTo>
                  <a:pt x="319" y="1423"/>
                </a:lnTo>
                <a:lnTo>
                  <a:pt x="317" y="1455"/>
                </a:lnTo>
                <a:lnTo>
                  <a:pt x="315" y="1486"/>
                </a:lnTo>
                <a:lnTo>
                  <a:pt x="315" y="1515"/>
                </a:lnTo>
                <a:lnTo>
                  <a:pt x="313" y="1544"/>
                </a:lnTo>
                <a:lnTo>
                  <a:pt x="311" y="1572"/>
                </a:lnTo>
                <a:lnTo>
                  <a:pt x="309" y="1599"/>
                </a:lnTo>
                <a:lnTo>
                  <a:pt x="307" y="1626"/>
                </a:lnTo>
                <a:lnTo>
                  <a:pt x="305" y="1653"/>
                </a:lnTo>
                <a:lnTo>
                  <a:pt x="304" y="1678"/>
                </a:lnTo>
                <a:lnTo>
                  <a:pt x="302" y="1703"/>
                </a:lnTo>
                <a:lnTo>
                  <a:pt x="300" y="1726"/>
                </a:lnTo>
                <a:lnTo>
                  <a:pt x="298" y="1749"/>
                </a:lnTo>
                <a:lnTo>
                  <a:pt x="296" y="1770"/>
                </a:lnTo>
                <a:lnTo>
                  <a:pt x="292" y="1791"/>
                </a:lnTo>
                <a:lnTo>
                  <a:pt x="290" y="1810"/>
                </a:lnTo>
                <a:lnTo>
                  <a:pt x="288" y="1830"/>
                </a:lnTo>
                <a:lnTo>
                  <a:pt x="284" y="1849"/>
                </a:lnTo>
                <a:lnTo>
                  <a:pt x="282" y="1866"/>
                </a:lnTo>
                <a:lnTo>
                  <a:pt x="279" y="1883"/>
                </a:lnTo>
                <a:lnTo>
                  <a:pt x="277" y="1899"/>
                </a:lnTo>
                <a:lnTo>
                  <a:pt x="273" y="1914"/>
                </a:lnTo>
                <a:lnTo>
                  <a:pt x="267" y="1943"/>
                </a:lnTo>
                <a:lnTo>
                  <a:pt x="259" y="1970"/>
                </a:lnTo>
                <a:lnTo>
                  <a:pt x="254" y="1995"/>
                </a:lnTo>
                <a:lnTo>
                  <a:pt x="248" y="2018"/>
                </a:lnTo>
                <a:lnTo>
                  <a:pt x="242" y="2039"/>
                </a:lnTo>
                <a:lnTo>
                  <a:pt x="236" y="2060"/>
                </a:lnTo>
                <a:lnTo>
                  <a:pt x="229" y="2077"/>
                </a:lnTo>
                <a:lnTo>
                  <a:pt x="223" y="2093"/>
                </a:lnTo>
                <a:lnTo>
                  <a:pt x="219" y="2108"/>
                </a:lnTo>
                <a:lnTo>
                  <a:pt x="213" y="2119"/>
                </a:lnTo>
                <a:lnTo>
                  <a:pt x="208" y="2131"/>
                </a:lnTo>
                <a:lnTo>
                  <a:pt x="204" y="2139"/>
                </a:lnTo>
                <a:lnTo>
                  <a:pt x="202" y="2143"/>
                </a:lnTo>
                <a:lnTo>
                  <a:pt x="198" y="2146"/>
                </a:lnTo>
                <a:lnTo>
                  <a:pt x="196" y="2148"/>
                </a:lnTo>
                <a:lnTo>
                  <a:pt x="194" y="2150"/>
                </a:lnTo>
                <a:lnTo>
                  <a:pt x="192" y="2152"/>
                </a:lnTo>
                <a:lnTo>
                  <a:pt x="190" y="2154"/>
                </a:lnTo>
                <a:lnTo>
                  <a:pt x="188" y="2154"/>
                </a:lnTo>
                <a:lnTo>
                  <a:pt x="188" y="2156"/>
                </a:lnTo>
                <a:lnTo>
                  <a:pt x="181" y="2154"/>
                </a:lnTo>
                <a:lnTo>
                  <a:pt x="175" y="2154"/>
                </a:lnTo>
                <a:lnTo>
                  <a:pt x="169" y="2152"/>
                </a:lnTo>
                <a:lnTo>
                  <a:pt x="165" y="2148"/>
                </a:lnTo>
                <a:lnTo>
                  <a:pt x="160" y="2144"/>
                </a:lnTo>
                <a:lnTo>
                  <a:pt x="156" y="2141"/>
                </a:lnTo>
                <a:lnTo>
                  <a:pt x="150" y="2135"/>
                </a:lnTo>
                <a:lnTo>
                  <a:pt x="146" y="2127"/>
                </a:lnTo>
                <a:lnTo>
                  <a:pt x="142" y="2121"/>
                </a:lnTo>
                <a:lnTo>
                  <a:pt x="139" y="2112"/>
                </a:lnTo>
                <a:lnTo>
                  <a:pt x="135" y="2104"/>
                </a:lnTo>
                <a:lnTo>
                  <a:pt x="133" y="2095"/>
                </a:lnTo>
                <a:lnTo>
                  <a:pt x="129" y="2083"/>
                </a:lnTo>
                <a:lnTo>
                  <a:pt x="125" y="2072"/>
                </a:lnTo>
                <a:lnTo>
                  <a:pt x="121" y="2060"/>
                </a:lnTo>
                <a:lnTo>
                  <a:pt x="119" y="2047"/>
                </a:lnTo>
                <a:lnTo>
                  <a:pt x="114" y="2014"/>
                </a:lnTo>
                <a:lnTo>
                  <a:pt x="110" y="1981"/>
                </a:lnTo>
                <a:lnTo>
                  <a:pt x="106" y="1947"/>
                </a:lnTo>
                <a:lnTo>
                  <a:pt x="102" y="1912"/>
                </a:lnTo>
                <a:lnTo>
                  <a:pt x="98" y="1874"/>
                </a:lnTo>
                <a:lnTo>
                  <a:pt x="94" y="1837"/>
                </a:lnTo>
                <a:lnTo>
                  <a:pt x="91" y="1797"/>
                </a:lnTo>
                <a:lnTo>
                  <a:pt x="85" y="1759"/>
                </a:lnTo>
                <a:lnTo>
                  <a:pt x="83" y="1747"/>
                </a:lnTo>
                <a:lnTo>
                  <a:pt x="81" y="1736"/>
                </a:lnTo>
                <a:lnTo>
                  <a:pt x="81" y="1722"/>
                </a:lnTo>
                <a:lnTo>
                  <a:pt x="79" y="1711"/>
                </a:lnTo>
                <a:lnTo>
                  <a:pt x="79" y="1695"/>
                </a:lnTo>
                <a:lnTo>
                  <a:pt x="77" y="1680"/>
                </a:lnTo>
                <a:lnTo>
                  <a:pt x="75" y="1665"/>
                </a:lnTo>
                <a:lnTo>
                  <a:pt x="75" y="1647"/>
                </a:lnTo>
                <a:lnTo>
                  <a:pt x="73" y="1630"/>
                </a:lnTo>
                <a:lnTo>
                  <a:pt x="73" y="1611"/>
                </a:lnTo>
                <a:lnTo>
                  <a:pt x="73" y="1592"/>
                </a:lnTo>
                <a:lnTo>
                  <a:pt x="71" y="1571"/>
                </a:lnTo>
                <a:lnTo>
                  <a:pt x="71" y="1549"/>
                </a:lnTo>
                <a:lnTo>
                  <a:pt x="71" y="1526"/>
                </a:lnTo>
                <a:lnTo>
                  <a:pt x="69" y="1503"/>
                </a:lnTo>
                <a:lnTo>
                  <a:pt x="69" y="1480"/>
                </a:lnTo>
                <a:lnTo>
                  <a:pt x="69" y="1455"/>
                </a:lnTo>
                <a:lnTo>
                  <a:pt x="69" y="1429"/>
                </a:lnTo>
                <a:lnTo>
                  <a:pt x="69" y="1402"/>
                </a:lnTo>
                <a:lnTo>
                  <a:pt x="69" y="1375"/>
                </a:lnTo>
                <a:lnTo>
                  <a:pt x="67" y="1346"/>
                </a:lnTo>
                <a:lnTo>
                  <a:pt x="67" y="1317"/>
                </a:lnTo>
                <a:lnTo>
                  <a:pt x="67" y="1286"/>
                </a:lnTo>
                <a:lnTo>
                  <a:pt x="67" y="1256"/>
                </a:lnTo>
                <a:lnTo>
                  <a:pt x="67" y="1223"/>
                </a:lnTo>
                <a:lnTo>
                  <a:pt x="67" y="1190"/>
                </a:lnTo>
                <a:lnTo>
                  <a:pt x="67" y="1156"/>
                </a:lnTo>
                <a:lnTo>
                  <a:pt x="67" y="1121"/>
                </a:lnTo>
                <a:lnTo>
                  <a:pt x="67" y="1087"/>
                </a:lnTo>
                <a:lnTo>
                  <a:pt x="67" y="1050"/>
                </a:lnTo>
                <a:lnTo>
                  <a:pt x="67" y="1014"/>
                </a:lnTo>
                <a:lnTo>
                  <a:pt x="67" y="9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5"/>
          <p:cNvSpPr/>
          <p:nvPr/>
        </p:nvSpPr>
        <p:spPr>
          <a:xfrm>
            <a:off x="5937120" y="2770200"/>
            <a:ext cx="1478160" cy="542880"/>
          </a:xfrm>
          <a:custGeom>
            <a:avLst/>
            <a:gdLst/>
            <a:ahLst/>
            <a:rect l="l" t="t" r="r" b="b"/>
            <a:pathLst>
              <a:path w="1862" h="685">
                <a:moveTo>
                  <a:pt x="1282" y="685"/>
                </a:moveTo>
                <a:lnTo>
                  <a:pt x="1186" y="685"/>
                </a:lnTo>
                <a:lnTo>
                  <a:pt x="1094" y="685"/>
                </a:lnTo>
                <a:lnTo>
                  <a:pt x="1108" y="658"/>
                </a:lnTo>
                <a:lnTo>
                  <a:pt x="1121" y="629"/>
                </a:lnTo>
                <a:lnTo>
                  <a:pt x="1135" y="604"/>
                </a:lnTo>
                <a:lnTo>
                  <a:pt x="1146" y="579"/>
                </a:lnTo>
                <a:lnTo>
                  <a:pt x="1158" y="554"/>
                </a:lnTo>
                <a:lnTo>
                  <a:pt x="1169" y="531"/>
                </a:lnTo>
                <a:lnTo>
                  <a:pt x="1181" y="508"/>
                </a:lnTo>
                <a:lnTo>
                  <a:pt x="1192" y="485"/>
                </a:lnTo>
                <a:lnTo>
                  <a:pt x="1202" y="464"/>
                </a:lnTo>
                <a:lnTo>
                  <a:pt x="1211" y="445"/>
                </a:lnTo>
                <a:lnTo>
                  <a:pt x="1221" y="426"/>
                </a:lnTo>
                <a:lnTo>
                  <a:pt x="1229" y="407"/>
                </a:lnTo>
                <a:lnTo>
                  <a:pt x="1238" y="389"/>
                </a:lnTo>
                <a:lnTo>
                  <a:pt x="1246" y="372"/>
                </a:lnTo>
                <a:lnTo>
                  <a:pt x="1252" y="357"/>
                </a:lnTo>
                <a:lnTo>
                  <a:pt x="1259" y="341"/>
                </a:lnTo>
                <a:lnTo>
                  <a:pt x="1265" y="328"/>
                </a:lnTo>
                <a:lnTo>
                  <a:pt x="1271" y="315"/>
                </a:lnTo>
                <a:lnTo>
                  <a:pt x="1277" y="301"/>
                </a:lnTo>
                <a:lnTo>
                  <a:pt x="1280" y="290"/>
                </a:lnTo>
                <a:lnTo>
                  <a:pt x="1284" y="280"/>
                </a:lnTo>
                <a:lnTo>
                  <a:pt x="1288" y="268"/>
                </a:lnTo>
                <a:lnTo>
                  <a:pt x="1292" y="261"/>
                </a:lnTo>
                <a:lnTo>
                  <a:pt x="1294" y="251"/>
                </a:lnTo>
                <a:lnTo>
                  <a:pt x="1298" y="244"/>
                </a:lnTo>
                <a:lnTo>
                  <a:pt x="1300" y="238"/>
                </a:lnTo>
                <a:lnTo>
                  <a:pt x="1300" y="232"/>
                </a:lnTo>
                <a:lnTo>
                  <a:pt x="1300" y="226"/>
                </a:lnTo>
                <a:lnTo>
                  <a:pt x="1302" y="222"/>
                </a:lnTo>
                <a:lnTo>
                  <a:pt x="1300" y="220"/>
                </a:lnTo>
                <a:lnTo>
                  <a:pt x="1300" y="217"/>
                </a:lnTo>
                <a:lnTo>
                  <a:pt x="1298" y="217"/>
                </a:lnTo>
                <a:lnTo>
                  <a:pt x="1292" y="211"/>
                </a:lnTo>
                <a:lnTo>
                  <a:pt x="1282" y="209"/>
                </a:lnTo>
                <a:lnTo>
                  <a:pt x="1273" y="207"/>
                </a:lnTo>
                <a:lnTo>
                  <a:pt x="1259" y="205"/>
                </a:lnTo>
                <a:lnTo>
                  <a:pt x="1246" y="205"/>
                </a:lnTo>
                <a:lnTo>
                  <a:pt x="1231" y="203"/>
                </a:lnTo>
                <a:lnTo>
                  <a:pt x="1215" y="203"/>
                </a:lnTo>
                <a:lnTo>
                  <a:pt x="1196" y="203"/>
                </a:lnTo>
                <a:lnTo>
                  <a:pt x="1190" y="203"/>
                </a:lnTo>
                <a:lnTo>
                  <a:pt x="1183" y="203"/>
                </a:lnTo>
                <a:lnTo>
                  <a:pt x="1175" y="203"/>
                </a:lnTo>
                <a:lnTo>
                  <a:pt x="1165" y="205"/>
                </a:lnTo>
                <a:lnTo>
                  <a:pt x="1156" y="205"/>
                </a:lnTo>
                <a:lnTo>
                  <a:pt x="1146" y="205"/>
                </a:lnTo>
                <a:lnTo>
                  <a:pt x="1137" y="205"/>
                </a:lnTo>
                <a:lnTo>
                  <a:pt x="1125" y="205"/>
                </a:lnTo>
                <a:lnTo>
                  <a:pt x="1114" y="207"/>
                </a:lnTo>
                <a:lnTo>
                  <a:pt x="1102" y="207"/>
                </a:lnTo>
                <a:lnTo>
                  <a:pt x="1089" y="209"/>
                </a:lnTo>
                <a:lnTo>
                  <a:pt x="1075" y="209"/>
                </a:lnTo>
                <a:lnTo>
                  <a:pt x="1062" y="211"/>
                </a:lnTo>
                <a:lnTo>
                  <a:pt x="1048" y="211"/>
                </a:lnTo>
                <a:lnTo>
                  <a:pt x="1033" y="213"/>
                </a:lnTo>
                <a:lnTo>
                  <a:pt x="1016" y="215"/>
                </a:lnTo>
                <a:lnTo>
                  <a:pt x="1000" y="215"/>
                </a:lnTo>
                <a:lnTo>
                  <a:pt x="983" y="217"/>
                </a:lnTo>
                <a:lnTo>
                  <a:pt x="966" y="219"/>
                </a:lnTo>
                <a:lnTo>
                  <a:pt x="948" y="220"/>
                </a:lnTo>
                <a:lnTo>
                  <a:pt x="929" y="222"/>
                </a:lnTo>
                <a:lnTo>
                  <a:pt x="910" y="224"/>
                </a:lnTo>
                <a:lnTo>
                  <a:pt x="889" y="226"/>
                </a:lnTo>
                <a:lnTo>
                  <a:pt x="870" y="228"/>
                </a:lnTo>
                <a:lnTo>
                  <a:pt x="849" y="230"/>
                </a:lnTo>
                <a:lnTo>
                  <a:pt x="826" y="234"/>
                </a:lnTo>
                <a:lnTo>
                  <a:pt x="805" y="236"/>
                </a:lnTo>
                <a:lnTo>
                  <a:pt x="781" y="240"/>
                </a:lnTo>
                <a:lnTo>
                  <a:pt x="757" y="242"/>
                </a:lnTo>
                <a:lnTo>
                  <a:pt x="733" y="245"/>
                </a:lnTo>
                <a:lnTo>
                  <a:pt x="709" y="249"/>
                </a:lnTo>
                <a:lnTo>
                  <a:pt x="684" y="251"/>
                </a:lnTo>
                <a:lnTo>
                  <a:pt x="632" y="259"/>
                </a:lnTo>
                <a:lnTo>
                  <a:pt x="584" y="265"/>
                </a:lnTo>
                <a:lnTo>
                  <a:pt x="534" y="270"/>
                </a:lnTo>
                <a:lnTo>
                  <a:pt x="488" y="274"/>
                </a:lnTo>
                <a:lnTo>
                  <a:pt x="442" y="280"/>
                </a:lnTo>
                <a:lnTo>
                  <a:pt x="396" y="284"/>
                </a:lnTo>
                <a:lnTo>
                  <a:pt x="352" y="288"/>
                </a:lnTo>
                <a:lnTo>
                  <a:pt x="309" y="290"/>
                </a:lnTo>
                <a:lnTo>
                  <a:pt x="267" y="292"/>
                </a:lnTo>
                <a:lnTo>
                  <a:pt x="227" y="295"/>
                </a:lnTo>
                <a:lnTo>
                  <a:pt x="186" y="297"/>
                </a:lnTo>
                <a:lnTo>
                  <a:pt x="146" y="297"/>
                </a:lnTo>
                <a:lnTo>
                  <a:pt x="110" y="299"/>
                </a:lnTo>
                <a:lnTo>
                  <a:pt x="71" y="299"/>
                </a:lnTo>
                <a:lnTo>
                  <a:pt x="35" y="299"/>
                </a:lnTo>
                <a:lnTo>
                  <a:pt x="0" y="301"/>
                </a:lnTo>
                <a:lnTo>
                  <a:pt x="0" y="203"/>
                </a:lnTo>
                <a:lnTo>
                  <a:pt x="41" y="203"/>
                </a:lnTo>
                <a:lnTo>
                  <a:pt x="81" y="203"/>
                </a:lnTo>
                <a:lnTo>
                  <a:pt x="121" y="203"/>
                </a:lnTo>
                <a:lnTo>
                  <a:pt x="160" y="201"/>
                </a:lnTo>
                <a:lnTo>
                  <a:pt x="198" y="199"/>
                </a:lnTo>
                <a:lnTo>
                  <a:pt x="236" y="199"/>
                </a:lnTo>
                <a:lnTo>
                  <a:pt x="273" y="197"/>
                </a:lnTo>
                <a:lnTo>
                  <a:pt x="309" y="196"/>
                </a:lnTo>
                <a:lnTo>
                  <a:pt x="346" y="192"/>
                </a:lnTo>
                <a:lnTo>
                  <a:pt x="380" y="190"/>
                </a:lnTo>
                <a:lnTo>
                  <a:pt x="415" y="188"/>
                </a:lnTo>
                <a:lnTo>
                  <a:pt x="449" y="184"/>
                </a:lnTo>
                <a:lnTo>
                  <a:pt x="482" y="180"/>
                </a:lnTo>
                <a:lnTo>
                  <a:pt x="515" y="176"/>
                </a:lnTo>
                <a:lnTo>
                  <a:pt x="580" y="169"/>
                </a:lnTo>
                <a:lnTo>
                  <a:pt x="638" y="163"/>
                </a:lnTo>
                <a:lnTo>
                  <a:pt x="695" y="157"/>
                </a:lnTo>
                <a:lnTo>
                  <a:pt x="753" y="149"/>
                </a:lnTo>
                <a:lnTo>
                  <a:pt x="808" y="142"/>
                </a:lnTo>
                <a:lnTo>
                  <a:pt x="864" y="134"/>
                </a:lnTo>
                <a:lnTo>
                  <a:pt x="920" y="125"/>
                </a:lnTo>
                <a:lnTo>
                  <a:pt x="973" y="117"/>
                </a:lnTo>
                <a:lnTo>
                  <a:pt x="1025" y="107"/>
                </a:lnTo>
                <a:lnTo>
                  <a:pt x="1050" y="105"/>
                </a:lnTo>
                <a:lnTo>
                  <a:pt x="1073" y="101"/>
                </a:lnTo>
                <a:lnTo>
                  <a:pt x="1096" y="100"/>
                </a:lnTo>
                <a:lnTo>
                  <a:pt x="1117" y="96"/>
                </a:lnTo>
                <a:lnTo>
                  <a:pt x="1138" y="92"/>
                </a:lnTo>
                <a:lnTo>
                  <a:pt x="1158" y="88"/>
                </a:lnTo>
                <a:lnTo>
                  <a:pt x="1177" y="84"/>
                </a:lnTo>
                <a:lnTo>
                  <a:pt x="1194" y="80"/>
                </a:lnTo>
                <a:lnTo>
                  <a:pt x="1209" y="77"/>
                </a:lnTo>
                <a:lnTo>
                  <a:pt x="1225" y="71"/>
                </a:lnTo>
                <a:lnTo>
                  <a:pt x="1240" y="65"/>
                </a:lnTo>
                <a:lnTo>
                  <a:pt x="1254" y="61"/>
                </a:lnTo>
                <a:lnTo>
                  <a:pt x="1265" y="55"/>
                </a:lnTo>
                <a:lnTo>
                  <a:pt x="1277" y="48"/>
                </a:lnTo>
                <a:lnTo>
                  <a:pt x="1288" y="42"/>
                </a:lnTo>
                <a:lnTo>
                  <a:pt x="1298" y="36"/>
                </a:lnTo>
                <a:lnTo>
                  <a:pt x="1311" y="27"/>
                </a:lnTo>
                <a:lnTo>
                  <a:pt x="1325" y="19"/>
                </a:lnTo>
                <a:lnTo>
                  <a:pt x="1336" y="13"/>
                </a:lnTo>
                <a:lnTo>
                  <a:pt x="1350" y="7"/>
                </a:lnTo>
                <a:lnTo>
                  <a:pt x="1363" y="4"/>
                </a:lnTo>
                <a:lnTo>
                  <a:pt x="1375" y="2"/>
                </a:lnTo>
                <a:lnTo>
                  <a:pt x="1388" y="0"/>
                </a:lnTo>
                <a:lnTo>
                  <a:pt x="1401" y="0"/>
                </a:lnTo>
                <a:lnTo>
                  <a:pt x="1407" y="2"/>
                </a:lnTo>
                <a:lnTo>
                  <a:pt x="1417" y="4"/>
                </a:lnTo>
                <a:lnTo>
                  <a:pt x="1426" y="7"/>
                </a:lnTo>
                <a:lnTo>
                  <a:pt x="1436" y="11"/>
                </a:lnTo>
                <a:lnTo>
                  <a:pt x="1447" y="13"/>
                </a:lnTo>
                <a:lnTo>
                  <a:pt x="1461" y="19"/>
                </a:lnTo>
                <a:lnTo>
                  <a:pt x="1476" y="23"/>
                </a:lnTo>
                <a:lnTo>
                  <a:pt x="1492" y="27"/>
                </a:lnTo>
                <a:lnTo>
                  <a:pt x="1507" y="32"/>
                </a:lnTo>
                <a:lnTo>
                  <a:pt x="1526" y="38"/>
                </a:lnTo>
                <a:lnTo>
                  <a:pt x="1543" y="44"/>
                </a:lnTo>
                <a:lnTo>
                  <a:pt x="1565" y="52"/>
                </a:lnTo>
                <a:lnTo>
                  <a:pt x="1586" y="59"/>
                </a:lnTo>
                <a:lnTo>
                  <a:pt x="1609" y="67"/>
                </a:lnTo>
                <a:lnTo>
                  <a:pt x="1632" y="75"/>
                </a:lnTo>
                <a:lnTo>
                  <a:pt x="1657" y="84"/>
                </a:lnTo>
                <a:lnTo>
                  <a:pt x="1682" y="94"/>
                </a:lnTo>
                <a:lnTo>
                  <a:pt x="1705" y="105"/>
                </a:lnTo>
                <a:lnTo>
                  <a:pt x="1728" y="115"/>
                </a:lnTo>
                <a:lnTo>
                  <a:pt x="1747" y="125"/>
                </a:lnTo>
                <a:lnTo>
                  <a:pt x="1766" y="134"/>
                </a:lnTo>
                <a:lnTo>
                  <a:pt x="1781" y="142"/>
                </a:lnTo>
                <a:lnTo>
                  <a:pt x="1797" y="149"/>
                </a:lnTo>
                <a:lnTo>
                  <a:pt x="1810" y="155"/>
                </a:lnTo>
                <a:lnTo>
                  <a:pt x="1824" y="163"/>
                </a:lnTo>
                <a:lnTo>
                  <a:pt x="1833" y="169"/>
                </a:lnTo>
                <a:lnTo>
                  <a:pt x="1843" y="174"/>
                </a:lnTo>
                <a:lnTo>
                  <a:pt x="1851" y="178"/>
                </a:lnTo>
                <a:lnTo>
                  <a:pt x="1856" y="182"/>
                </a:lnTo>
                <a:lnTo>
                  <a:pt x="1860" y="186"/>
                </a:lnTo>
                <a:lnTo>
                  <a:pt x="1862" y="190"/>
                </a:lnTo>
                <a:lnTo>
                  <a:pt x="1862" y="192"/>
                </a:lnTo>
                <a:lnTo>
                  <a:pt x="1862" y="196"/>
                </a:lnTo>
                <a:lnTo>
                  <a:pt x="1860" y="201"/>
                </a:lnTo>
                <a:lnTo>
                  <a:pt x="1858" y="205"/>
                </a:lnTo>
                <a:lnTo>
                  <a:pt x="1852" y="209"/>
                </a:lnTo>
                <a:lnTo>
                  <a:pt x="1849" y="215"/>
                </a:lnTo>
                <a:lnTo>
                  <a:pt x="1841" y="219"/>
                </a:lnTo>
                <a:lnTo>
                  <a:pt x="1835" y="222"/>
                </a:lnTo>
                <a:lnTo>
                  <a:pt x="1826" y="228"/>
                </a:lnTo>
                <a:lnTo>
                  <a:pt x="1816" y="232"/>
                </a:lnTo>
                <a:lnTo>
                  <a:pt x="1806" y="236"/>
                </a:lnTo>
                <a:lnTo>
                  <a:pt x="1795" y="242"/>
                </a:lnTo>
                <a:lnTo>
                  <a:pt x="1783" y="245"/>
                </a:lnTo>
                <a:lnTo>
                  <a:pt x="1770" y="249"/>
                </a:lnTo>
                <a:lnTo>
                  <a:pt x="1756" y="255"/>
                </a:lnTo>
                <a:lnTo>
                  <a:pt x="1741" y="259"/>
                </a:lnTo>
                <a:lnTo>
                  <a:pt x="1726" y="265"/>
                </a:lnTo>
                <a:lnTo>
                  <a:pt x="1718" y="267"/>
                </a:lnTo>
                <a:lnTo>
                  <a:pt x="1708" y="272"/>
                </a:lnTo>
                <a:lnTo>
                  <a:pt x="1701" y="276"/>
                </a:lnTo>
                <a:lnTo>
                  <a:pt x="1691" y="282"/>
                </a:lnTo>
                <a:lnTo>
                  <a:pt x="1682" y="288"/>
                </a:lnTo>
                <a:lnTo>
                  <a:pt x="1670" y="295"/>
                </a:lnTo>
                <a:lnTo>
                  <a:pt x="1661" y="301"/>
                </a:lnTo>
                <a:lnTo>
                  <a:pt x="1649" y="309"/>
                </a:lnTo>
                <a:lnTo>
                  <a:pt x="1637" y="318"/>
                </a:lnTo>
                <a:lnTo>
                  <a:pt x="1626" y="326"/>
                </a:lnTo>
                <a:lnTo>
                  <a:pt x="1614" y="336"/>
                </a:lnTo>
                <a:lnTo>
                  <a:pt x="1601" y="345"/>
                </a:lnTo>
                <a:lnTo>
                  <a:pt x="1588" y="357"/>
                </a:lnTo>
                <a:lnTo>
                  <a:pt x="1574" y="368"/>
                </a:lnTo>
                <a:lnTo>
                  <a:pt x="1561" y="380"/>
                </a:lnTo>
                <a:lnTo>
                  <a:pt x="1547" y="393"/>
                </a:lnTo>
                <a:lnTo>
                  <a:pt x="1534" y="407"/>
                </a:lnTo>
                <a:lnTo>
                  <a:pt x="1518" y="420"/>
                </a:lnTo>
                <a:lnTo>
                  <a:pt x="1503" y="434"/>
                </a:lnTo>
                <a:lnTo>
                  <a:pt x="1488" y="449"/>
                </a:lnTo>
                <a:lnTo>
                  <a:pt x="1472" y="466"/>
                </a:lnTo>
                <a:lnTo>
                  <a:pt x="1457" y="482"/>
                </a:lnTo>
                <a:lnTo>
                  <a:pt x="1442" y="499"/>
                </a:lnTo>
                <a:lnTo>
                  <a:pt x="1424" y="516"/>
                </a:lnTo>
                <a:lnTo>
                  <a:pt x="1407" y="535"/>
                </a:lnTo>
                <a:lnTo>
                  <a:pt x="1390" y="554"/>
                </a:lnTo>
                <a:lnTo>
                  <a:pt x="1373" y="576"/>
                </a:lnTo>
                <a:lnTo>
                  <a:pt x="1355" y="595"/>
                </a:lnTo>
                <a:lnTo>
                  <a:pt x="1338" y="616"/>
                </a:lnTo>
                <a:lnTo>
                  <a:pt x="1319" y="639"/>
                </a:lnTo>
                <a:lnTo>
                  <a:pt x="1300" y="662"/>
                </a:lnTo>
                <a:lnTo>
                  <a:pt x="1282" y="6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66"/>
          <p:cNvSpPr/>
          <p:nvPr/>
        </p:nvSpPr>
        <p:spPr>
          <a:xfrm>
            <a:off x="5746680" y="2898720"/>
            <a:ext cx="392040" cy="606600"/>
          </a:xfrm>
          <a:custGeom>
            <a:avLst/>
            <a:gdLst/>
            <a:ahLst/>
            <a:rect l="l" t="t" r="r" b="b"/>
            <a:pathLst>
              <a:path w="496" h="764">
                <a:moveTo>
                  <a:pt x="342" y="40"/>
                </a:moveTo>
                <a:lnTo>
                  <a:pt x="352" y="77"/>
                </a:lnTo>
                <a:lnTo>
                  <a:pt x="359" y="113"/>
                </a:lnTo>
                <a:lnTo>
                  <a:pt x="369" y="148"/>
                </a:lnTo>
                <a:lnTo>
                  <a:pt x="377" y="182"/>
                </a:lnTo>
                <a:lnTo>
                  <a:pt x="386" y="215"/>
                </a:lnTo>
                <a:lnTo>
                  <a:pt x="394" y="246"/>
                </a:lnTo>
                <a:lnTo>
                  <a:pt x="402" y="276"/>
                </a:lnTo>
                <a:lnTo>
                  <a:pt x="407" y="307"/>
                </a:lnTo>
                <a:lnTo>
                  <a:pt x="415" y="336"/>
                </a:lnTo>
                <a:lnTo>
                  <a:pt x="423" y="363"/>
                </a:lnTo>
                <a:lnTo>
                  <a:pt x="428" y="390"/>
                </a:lnTo>
                <a:lnTo>
                  <a:pt x="434" y="415"/>
                </a:lnTo>
                <a:lnTo>
                  <a:pt x="440" y="439"/>
                </a:lnTo>
                <a:lnTo>
                  <a:pt x="446" y="464"/>
                </a:lnTo>
                <a:lnTo>
                  <a:pt x="451" y="486"/>
                </a:lnTo>
                <a:lnTo>
                  <a:pt x="457" y="507"/>
                </a:lnTo>
                <a:lnTo>
                  <a:pt x="461" y="528"/>
                </a:lnTo>
                <a:lnTo>
                  <a:pt x="465" y="547"/>
                </a:lnTo>
                <a:lnTo>
                  <a:pt x="469" y="564"/>
                </a:lnTo>
                <a:lnTo>
                  <a:pt x="473" y="581"/>
                </a:lnTo>
                <a:lnTo>
                  <a:pt x="476" y="599"/>
                </a:lnTo>
                <a:lnTo>
                  <a:pt x="480" y="614"/>
                </a:lnTo>
                <a:lnTo>
                  <a:pt x="484" y="628"/>
                </a:lnTo>
                <a:lnTo>
                  <a:pt x="486" y="639"/>
                </a:lnTo>
                <a:lnTo>
                  <a:pt x="488" y="653"/>
                </a:lnTo>
                <a:lnTo>
                  <a:pt x="490" y="662"/>
                </a:lnTo>
                <a:lnTo>
                  <a:pt x="492" y="672"/>
                </a:lnTo>
                <a:lnTo>
                  <a:pt x="494" y="679"/>
                </a:lnTo>
                <a:lnTo>
                  <a:pt x="494" y="687"/>
                </a:lnTo>
                <a:lnTo>
                  <a:pt x="496" y="695"/>
                </a:lnTo>
                <a:lnTo>
                  <a:pt x="496" y="699"/>
                </a:lnTo>
                <a:lnTo>
                  <a:pt x="496" y="702"/>
                </a:lnTo>
                <a:lnTo>
                  <a:pt x="490" y="716"/>
                </a:lnTo>
                <a:lnTo>
                  <a:pt x="482" y="727"/>
                </a:lnTo>
                <a:lnTo>
                  <a:pt x="476" y="737"/>
                </a:lnTo>
                <a:lnTo>
                  <a:pt x="469" y="747"/>
                </a:lnTo>
                <a:lnTo>
                  <a:pt x="459" y="754"/>
                </a:lnTo>
                <a:lnTo>
                  <a:pt x="455" y="756"/>
                </a:lnTo>
                <a:lnTo>
                  <a:pt x="450" y="758"/>
                </a:lnTo>
                <a:lnTo>
                  <a:pt x="446" y="760"/>
                </a:lnTo>
                <a:lnTo>
                  <a:pt x="440" y="762"/>
                </a:lnTo>
                <a:lnTo>
                  <a:pt x="434" y="762"/>
                </a:lnTo>
                <a:lnTo>
                  <a:pt x="428" y="764"/>
                </a:lnTo>
                <a:lnTo>
                  <a:pt x="423" y="764"/>
                </a:lnTo>
                <a:lnTo>
                  <a:pt x="417" y="764"/>
                </a:lnTo>
                <a:lnTo>
                  <a:pt x="413" y="764"/>
                </a:lnTo>
                <a:lnTo>
                  <a:pt x="407" y="762"/>
                </a:lnTo>
                <a:lnTo>
                  <a:pt x="403" y="760"/>
                </a:lnTo>
                <a:lnTo>
                  <a:pt x="398" y="758"/>
                </a:lnTo>
                <a:lnTo>
                  <a:pt x="394" y="756"/>
                </a:lnTo>
                <a:lnTo>
                  <a:pt x="388" y="752"/>
                </a:lnTo>
                <a:lnTo>
                  <a:pt x="384" y="748"/>
                </a:lnTo>
                <a:lnTo>
                  <a:pt x="379" y="743"/>
                </a:lnTo>
                <a:lnTo>
                  <a:pt x="373" y="737"/>
                </a:lnTo>
                <a:lnTo>
                  <a:pt x="369" y="731"/>
                </a:lnTo>
                <a:lnTo>
                  <a:pt x="363" y="724"/>
                </a:lnTo>
                <a:lnTo>
                  <a:pt x="357" y="716"/>
                </a:lnTo>
                <a:lnTo>
                  <a:pt x="354" y="708"/>
                </a:lnTo>
                <a:lnTo>
                  <a:pt x="348" y="700"/>
                </a:lnTo>
                <a:lnTo>
                  <a:pt x="342" y="691"/>
                </a:lnTo>
                <a:lnTo>
                  <a:pt x="336" y="681"/>
                </a:lnTo>
                <a:lnTo>
                  <a:pt x="332" y="670"/>
                </a:lnTo>
                <a:lnTo>
                  <a:pt x="327" y="658"/>
                </a:lnTo>
                <a:lnTo>
                  <a:pt x="321" y="647"/>
                </a:lnTo>
                <a:lnTo>
                  <a:pt x="315" y="635"/>
                </a:lnTo>
                <a:lnTo>
                  <a:pt x="309" y="622"/>
                </a:lnTo>
                <a:lnTo>
                  <a:pt x="304" y="606"/>
                </a:lnTo>
                <a:lnTo>
                  <a:pt x="298" y="593"/>
                </a:lnTo>
                <a:lnTo>
                  <a:pt x="292" y="578"/>
                </a:lnTo>
                <a:lnTo>
                  <a:pt x="286" y="562"/>
                </a:lnTo>
                <a:lnTo>
                  <a:pt x="281" y="545"/>
                </a:lnTo>
                <a:lnTo>
                  <a:pt x="275" y="530"/>
                </a:lnTo>
                <a:lnTo>
                  <a:pt x="269" y="510"/>
                </a:lnTo>
                <a:lnTo>
                  <a:pt x="263" y="493"/>
                </a:lnTo>
                <a:lnTo>
                  <a:pt x="256" y="474"/>
                </a:lnTo>
                <a:lnTo>
                  <a:pt x="240" y="439"/>
                </a:lnTo>
                <a:lnTo>
                  <a:pt x="225" y="405"/>
                </a:lnTo>
                <a:lnTo>
                  <a:pt x="210" y="372"/>
                </a:lnTo>
                <a:lnTo>
                  <a:pt x="196" y="343"/>
                </a:lnTo>
                <a:lnTo>
                  <a:pt x="181" y="315"/>
                </a:lnTo>
                <a:lnTo>
                  <a:pt x="167" y="288"/>
                </a:lnTo>
                <a:lnTo>
                  <a:pt x="154" y="263"/>
                </a:lnTo>
                <a:lnTo>
                  <a:pt x="141" y="240"/>
                </a:lnTo>
                <a:lnTo>
                  <a:pt x="129" y="217"/>
                </a:lnTo>
                <a:lnTo>
                  <a:pt x="116" y="198"/>
                </a:lnTo>
                <a:lnTo>
                  <a:pt x="104" y="178"/>
                </a:lnTo>
                <a:lnTo>
                  <a:pt x="93" y="163"/>
                </a:lnTo>
                <a:lnTo>
                  <a:pt x="81" y="148"/>
                </a:lnTo>
                <a:lnTo>
                  <a:pt x="71" y="134"/>
                </a:lnTo>
                <a:lnTo>
                  <a:pt x="62" y="123"/>
                </a:lnTo>
                <a:lnTo>
                  <a:pt x="52" y="113"/>
                </a:lnTo>
                <a:lnTo>
                  <a:pt x="43" y="104"/>
                </a:lnTo>
                <a:lnTo>
                  <a:pt x="33" y="96"/>
                </a:lnTo>
                <a:lnTo>
                  <a:pt x="27" y="86"/>
                </a:lnTo>
                <a:lnTo>
                  <a:pt x="20" y="79"/>
                </a:lnTo>
                <a:lnTo>
                  <a:pt x="14" y="71"/>
                </a:lnTo>
                <a:lnTo>
                  <a:pt x="10" y="63"/>
                </a:lnTo>
                <a:lnTo>
                  <a:pt x="6" y="56"/>
                </a:lnTo>
                <a:lnTo>
                  <a:pt x="2" y="50"/>
                </a:lnTo>
                <a:lnTo>
                  <a:pt x="0" y="42"/>
                </a:lnTo>
                <a:lnTo>
                  <a:pt x="0" y="36"/>
                </a:lnTo>
                <a:lnTo>
                  <a:pt x="0" y="31"/>
                </a:lnTo>
                <a:lnTo>
                  <a:pt x="0" y="25"/>
                </a:lnTo>
                <a:lnTo>
                  <a:pt x="4" y="19"/>
                </a:lnTo>
                <a:lnTo>
                  <a:pt x="6" y="13"/>
                </a:lnTo>
                <a:lnTo>
                  <a:pt x="12" y="10"/>
                </a:lnTo>
                <a:lnTo>
                  <a:pt x="18" y="6"/>
                </a:lnTo>
                <a:lnTo>
                  <a:pt x="20" y="4"/>
                </a:lnTo>
                <a:lnTo>
                  <a:pt x="22" y="2"/>
                </a:lnTo>
                <a:lnTo>
                  <a:pt x="25" y="2"/>
                </a:lnTo>
                <a:lnTo>
                  <a:pt x="29" y="2"/>
                </a:lnTo>
                <a:lnTo>
                  <a:pt x="33" y="0"/>
                </a:lnTo>
                <a:lnTo>
                  <a:pt x="37" y="0"/>
                </a:lnTo>
                <a:lnTo>
                  <a:pt x="43" y="0"/>
                </a:lnTo>
                <a:lnTo>
                  <a:pt x="48" y="0"/>
                </a:lnTo>
                <a:lnTo>
                  <a:pt x="54" y="0"/>
                </a:lnTo>
                <a:lnTo>
                  <a:pt x="62" y="0"/>
                </a:lnTo>
                <a:lnTo>
                  <a:pt x="69" y="0"/>
                </a:lnTo>
                <a:lnTo>
                  <a:pt x="77" y="2"/>
                </a:lnTo>
                <a:lnTo>
                  <a:pt x="87" y="2"/>
                </a:lnTo>
                <a:lnTo>
                  <a:pt x="96" y="2"/>
                </a:lnTo>
                <a:lnTo>
                  <a:pt x="106" y="4"/>
                </a:lnTo>
                <a:lnTo>
                  <a:pt x="116" y="4"/>
                </a:lnTo>
                <a:lnTo>
                  <a:pt x="125" y="6"/>
                </a:lnTo>
                <a:lnTo>
                  <a:pt x="137" y="8"/>
                </a:lnTo>
                <a:lnTo>
                  <a:pt x="148" y="8"/>
                </a:lnTo>
                <a:lnTo>
                  <a:pt x="162" y="10"/>
                </a:lnTo>
                <a:lnTo>
                  <a:pt x="187" y="13"/>
                </a:lnTo>
                <a:lnTo>
                  <a:pt x="213" y="17"/>
                </a:lnTo>
                <a:lnTo>
                  <a:pt x="244" y="23"/>
                </a:lnTo>
                <a:lnTo>
                  <a:pt x="275" y="29"/>
                </a:lnTo>
                <a:lnTo>
                  <a:pt x="307" y="34"/>
                </a:lnTo>
                <a:lnTo>
                  <a:pt x="342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抡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6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20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；右部“人”大覆下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矩形 3"/>
          <p:cNvSpPr/>
          <p:nvPr/>
        </p:nvSpPr>
        <p:spPr>
          <a:xfrm>
            <a:off x="2108160" y="1994040"/>
            <a:ext cx="12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ū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6637320" y="3746520"/>
            <a:ext cx="905040" cy="1195200"/>
          </a:xfrm>
          <a:custGeom>
            <a:avLst/>
            <a:gdLst/>
            <a:ahLst/>
            <a:rect l="l" t="t" r="r" b="b"/>
            <a:pathLst>
              <a:path w="1140" h="1505">
                <a:moveTo>
                  <a:pt x="199" y="524"/>
                </a:moveTo>
                <a:lnTo>
                  <a:pt x="197" y="561"/>
                </a:lnTo>
                <a:lnTo>
                  <a:pt x="196" y="597"/>
                </a:lnTo>
                <a:lnTo>
                  <a:pt x="194" y="632"/>
                </a:lnTo>
                <a:lnTo>
                  <a:pt x="192" y="662"/>
                </a:lnTo>
                <a:lnTo>
                  <a:pt x="190" y="693"/>
                </a:lnTo>
                <a:lnTo>
                  <a:pt x="188" y="722"/>
                </a:lnTo>
                <a:lnTo>
                  <a:pt x="186" y="749"/>
                </a:lnTo>
                <a:lnTo>
                  <a:pt x="184" y="774"/>
                </a:lnTo>
                <a:lnTo>
                  <a:pt x="182" y="787"/>
                </a:lnTo>
                <a:lnTo>
                  <a:pt x="182" y="799"/>
                </a:lnTo>
                <a:lnTo>
                  <a:pt x="182" y="808"/>
                </a:lnTo>
                <a:lnTo>
                  <a:pt x="180" y="820"/>
                </a:lnTo>
                <a:lnTo>
                  <a:pt x="180" y="829"/>
                </a:lnTo>
                <a:lnTo>
                  <a:pt x="180" y="839"/>
                </a:lnTo>
                <a:lnTo>
                  <a:pt x="178" y="847"/>
                </a:lnTo>
                <a:lnTo>
                  <a:pt x="178" y="856"/>
                </a:lnTo>
                <a:lnTo>
                  <a:pt x="178" y="864"/>
                </a:lnTo>
                <a:lnTo>
                  <a:pt x="178" y="870"/>
                </a:lnTo>
                <a:lnTo>
                  <a:pt x="176" y="877"/>
                </a:lnTo>
                <a:lnTo>
                  <a:pt x="176" y="883"/>
                </a:lnTo>
                <a:lnTo>
                  <a:pt x="176" y="889"/>
                </a:lnTo>
                <a:lnTo>
                  <a:pt x="176" y="895"/>
                </a:lnTo>
                <a:lnTo>
                  <a:pt x="176" y="899"/>
                </a:lnTo>
                <a:lnTo>
                  <a:pt x="176" y="904"/>
                </a:lnTo>
                <a:lnTo>
                  <a:pt x="176" y="924"/>
                </a:lnTo>
                <a:lnTo>
                  <a:pt x="178" y="947"/>
                </a:lnTo>
                <a:lnTo>
                  <a:pt x="182" y="970"/>
                </a:lnTo>
                <a:lnTo>
                  <a:pt x="186" y="993"/>
                </a:lnTo>
                <a:lnTo>
                  <a:pt x="190" y="1018"/>
                </a:lnTo>
                <a:lnTo>
                  <a:pt x="196" y="1043"/>
                </a:lnTo>
                <a:lnTo>
                  <a:pt x="203" y="1068"/>
                </a:lnTo>
                <a:lnTo>
                  <a:pt x="211" y="1094"/>
                </a:lnTo>
                <a:lnTo>
                  <a:pt x="213" y="1108"/>
                </a:lnTo>
                <a:lnTo>
                  <a:pt x="217" y="1123"/>
                </a:lnTo>
                <a:lnTo>
                  <a:pt x="222" y="1137"/>
                </a:lnTo>
                <a:lnTo>
                  <a:pt x="228" y="1150"/>
                </a:lnTo>
                <a:lnTo>
                  <a:pt x="234" y="1162"/>
                </a:lnTo>
                <a:lnTo>
                  <a:pt x="242" y="1173"/>
                </a:lnTo>
                <a:lnTo>
                  <a:pt x="249" y="1185"/>
                </a:lnTo>
                <a:lnTo>
                  <a:pt x="259" y="1194"/>
                </a:lnTo>
                <a:lnTo>
                  <a:pt x="269" y="1206"/>
                </a:lnTo>
                <a:lnTo>
                  <a:pt x="280" y="1213"/>
                </a:lnTo>
                <a:lnTo>
                  <a:pt x="292" y="1223"/>
                </a:lnTo>
                <a:lnTo>
                  <a:pt x="305" y="1231"/>
                </a:lnTo>
                <a:lnTo>
                  <a:pt x="316" y="1238"/>
                </a:lnTo>
                <a:lnTo>
                  <a:pt x="330" y="1244"/>
                </a:lnTo>
                <a:lnTo>
                  <a:pt x="345" y="1250"/>
                </a:lnTo>
                <a:lnTo>
                  <a:pt x="361" y="1256"/>
                </a:lnTo>
                <a:lnTo>
                  <a:pt x="374" y="1263"/>
                </a:lnTo>
                <a:lnTo>
                  <a:pt x="389" y="1271"/>
                </a:lnTo>
                <a:lnTo>
                  <a:pt x="403" y="1277"/>
                </a:lnTo>
                <a:lnTo>
                  <a:pt x="418" y="1282"/>
                </a:lnTo>
                <a:lnTo>
                  <a:pt x="432" y="1286"/>
                </a:lnTo>
                <a:lnTo>
                  <a:pt x="445" y="1292"/>
                </a:lnTo>
                <a:lnTo>
                  <a:pt x="459" y="1296"/>
                </a:lnTo>
                <a:lnTo>
                  <a:pt x="472" y="1298"/>
                </a:lnTo>
                <a:lnTo>
                  <a:pt x="483" y="1302"/>
                </a:lnTo>
                <a:lnTo>
                  <a:pt x="497" y="1304"/>
                </a:lnTo>
                <a:lnTo>
                  <a:pt x="522" y="1307"/>
                </a:lnTo>
                <a:lnTo>
                  <a:pt x="545" y="1309"/>
                </a:lnTo>
                <a:lnTo>
                  <a:pt x="566" y="1311"/>
                </a:lnTo>
                <a:lnTo>
                  <a:pt x="589" y="1309"/>
                </a:lnTo>
                <a:lnTo>
                  <a:pt x="610" y="1307"/>
                </a:lnTo>
                <a:lnTo>
                  <a:pt x="635" y="1306"/>
                </a:lnTo>
                <a:lnTo>
                  <a:pt x="658" y="1302"/>
                </a:lnTo>
                <a:lnTo>
                  <a:pt x="681" y="1298"/>
                </a:lnTo>
                <a:lnTo>
                  <a:pt x="704" y="1294"/>
                </a:lnTo>
                <a:lnTo>
                  <a:pt x="727" y="1288"/>
                </a:lnTo>
                <a:lnTo>
                  <a:pt x="750" y="1284"/>
                </a:lnTo>
                <a:lnTo>
                  <a:pt x="760" y="1281"/>
                </a:lnTo>
                <a:lnTo>
                  <a:pt x="769" y="1279"/>
                </a:lnTo>
                <a:lnTo>
                  <a:pt x="789" y="1271"/>
                </a:lnTo>
                <a:lnTo>
                  <a:pt x="806" y="1263"/>
                </a:lnTo>
                <a:lnTo>
                  <a:pt x="821" y="1254"/>
                </a:lnTo>
                <a:lnTo>
                  <a:pt x="837" y="1246"/>
                </a:lnTo>
                <a:lnTo>
                  <a:pt x="850" y="1236"/>
                </a:lnTo>
                <a:lnTo>
                  <a:pt x="864" y="1225"/>
                </a:lnTo>
                <a:lnTo>
                  <a:pt x="875" y="1215"/>
                </a:lnTo>
                <a:lnTo>
                  <a:pt x="883" y="1210"/>
                </a:lnTo>
                <a:lnTo>
                  <a:pt x="888" y="1202"/>
                </a:lnTo>
                <a:lnTo>
                  <a:pt x="894" y="1192"/>
                </a:lnTo>
                <a:lnTo>
                  <a:pt x="900" y="1183"/>
                </a:lnTo>
                <a:lnTo>
                  <a:pt x="904" y="1171"/>
                </a:lnTo>
                <a:lnTo>
                  <a:pt x="910" y="1158"/>
                </a:lnTo>
                <a:lnTo>
                  <a:pt x="913" y="1142"/>
                </a:lnTo>
                <a:lnTo>
                  <a:pt x="919" y="1125"/>
                </a:lnTo>
                <a:lnTo>
                  <a:pt x="923" y="1108"/>
                </a:lnTo>
                <a:lnTo>
                  <a:pt x="927" y="1089"/>
                </a:lnTo>
                <a:lnTo>
                  <a:pt x="931" y="1068"/>
                </a:lnTo>
                <a:lnTo>
                  <a:pt x="935" y="1046"/>
                </a:lnTo>
                <a:lnTo>
                  <a:pt x="936" y="1021"/>
                </a:lnTo>
                <a:lnTo>
                  <a:pt x="940" y="998"/>
                </a:lnTo>
                <a:lnTo>
                  <a:pt x="942" y="972"/>
                </a:lnTo>
                <a:lnTo>
                  <a:pt x="944" y="945"/>
                </a:lnTo>
                <a:lnTo>
                  <a:pt x="946" y="918"/>
                </a:lnTo>
                <a:lnTo>
                  <a:pt x="950" y="893"/>
                </a:lnTo>
                <a:lnTo>
                  <a:pt x="952" y="868"/>
                </a:lnTo>
                <a:lnTo>
                  <a:pt x="956" y="847"/>
                </a:lnTo>
                <a:lnTo>
                  <a:pt x="958" y="828"/>
                </a:lnTo>
                <a:lnTo>
                  <a:pt x="961" y="810"/>
                </a:lnTo>
                <a:lnTo>
                  <a:pt x="965" y="795"/>
                </a:lnTo>
                <a:lnTo>
                  <a:pt x="969" y="780"/>
                </a:lnTo>
                <a:lnTo>
                  <a:pt x="973" y="768"/>
                </a:lnTo>
                <a:lnTo>
                  <a:pt x="977" y="757"/>
                </a:lnTo>
                <a:lnTo>
                  <a:pt x="981" y="747"/>
                </a:lnTo>
                <a:lnTo>
                  <a:pt x="984" y="739"/>
                </a:lnTo>
                <a:lnTo>
                  <a:pt x="988" y="735"/>
                </a:lnTo>
                <a:lnTo>
                  <a:pt x="994" y="730"/>
                </a:lnTo>
                <a:lnTo>
                  <a:pt x="998" y="728"/>
                </a:lnTo>
                <a:lnTo>
                  <a:pt x="1002" y="728"/>
                </a:lnTo>
                <a:lnTo>
                  <a:pt x="1004" y="728"/>
                </a:lnTo>
                <a:lnTo>
                  <a:pt x="1008" y="730"/>
                </a:lnTo>
                <a:lnTo>
                  <a:pt x="1009" y="735"/>
                </a:lnTo>
                <a:lnTo>
                  <a:pt x="1013" y="739"/>
                </a:lnTo>
                <a:lnTo>
                  <a:pt x="1015" y="747"/>
                </a:lnTo>
                <a:lnTo>
                  <a:pt x="1019" y="757"/>
                </a:lnTo>
                <a:lnTo>
                  <a:pt x="1023" y="768"/>
                </a:lnTo>
                <a:lnTo>
                  <a:pt x="1027" y="780"/>
                </a:lnTo>
                <a:lnTo>
                  <a:pt x="1031" y="795"/>
                </a:lnTo>
                <a:lnTo>
                  <a:pt x="1034" y="810"/>
                </a:lnTo>
                <a:lnTo>
                  <a:pt x="1038" y="828"/>
                </a:lnTo>
                <a:lnTo>
                  <a:pt x="1042" y="847"/>
                </a:lnTo>
                <a:lnTo>
                  <a:pt x="1046" y="868"/>
                </a:lnTo>
                <a:lnTo>
                  <a:pt x="1050" y="893"/>
                </a:lnTo>
                <a:lnTo>
                  <a:pt x="1055" y="918"/>
                </a:lnTo>
                <a:lnTo>
                  <a:pt x="1059" y="945"/>
                </a:lnTo>
                <a:lnTo>
                  <a:pt x="1061" y="972"/>
                </a:lnTo>
                <a:lnTo>
                  <a:pt x="1063" y="998"/>
                </a:lnTo>
                <a:lnTo>
                  <a:pt x="1067" y="1023"/>
                </a:lnTo>
                <a:lnTo>
                  <a:pt x="1069" y="1048"/>
                </a:lnTo>
                <a:lnTo>
                  <a:pt x="1073" y="1071"/>
                </a:lnTo>
                <a:lnTo>
                  <a:pt x="1077" y="1092"/>
                </a:lnTo>
                <a:lnTo>
                  <a:pt x="1080" y="1114"/>
                </a:lnTo>
                <a:lnTo>
                  <a:pt x="1084" y="1135"/>
                </a:lnTo>
                <a:lnTo>
                  <a:pt x="1090" y="1152"/>
                </a:lnTo>
                <a:lnTo>
                  <a:pt x="1094" y="1169"/>
                </a:lnTo>
                <a:lnTo>
                  <a:pt x="1100" y="1185"/>
                </a:lnTo>
                <a:lnTo>
                  <a:pt x="1105" y="1200"/>
                </a:lnTo>
                <a:lnTo>
                  <a:pt x="1109" y="1213"/>
                </a:lnTo>
                <a:lnTo>
                  <a:pt x="1115" y="1225"/>
                </a:lnTo>
                <a:lnTo>
                  <a:pt x="1123" y="1234"/>
                </a:lnTo>
                <a:lnTo>
                  <a:pt x="1128" y="1242"/>
                </a:lnTo>
                <a:lnTo>
                  <a:pt x="1134" y="1250"/>
                </a:lnTo>
                <a:lnTo>
                  <a:pt x="1138" y="1259"/>
                </a:lnTo>
                <a:lnTo>
                  <a:pt x="1140" y="1267"/>
                </a:lnTo>
                <a:lnTo>
                  <a:pt x="1140" y="1275"/>
                </a:lnTo>
                <a:lnTo>
                  <a:pt x="1140" y="1284"/>
                </a:lnTo>
                <a:lnTo>
                  <a:pt x="1138" y="1294"/>
                </a:lnTo>
                <a:lnTo>
                  <a:pt x="1134" y="1302"/>
                </a:lnTo>
                <a:lnTo>
                  <a:pt x="1128" y="1311"/>
                </a:lnTo>
                <a:lnTo>
                  <a:pt x="1123" y="1321"/>
                </a:lnTo>
                <a:lnTo>
                  <a:pt x="1115" y="1330"/>
                </a:lnTo>
                <a:lnTo>
                  <a:pt x="1105" y="1342"/>
                </a:lnTo>
                <a:lnTo>
                  <a:pt x="1094" y="1352"/>
                </a:lnTo>
                <a:lnTo>
                  <a:pt x="1082" y="1361"/>
                </a:lnTo>
                <a:lnTo>
                  <a:pt x="1067" y="1371"/>
                </a:lnTo>
                <a:lnTo>
                  <a:pt x="1054" y="1382"/>
                </a:lnTo>
                <a:lnTo>
                  <a:pt x="1036" y="1392"/>
                </a:lnTo>
                <a:lnTo>
                  <a:pt x="1019" y="1401"/>
                </a:lnTo>
                <a:lnTo>
                  <a:pt x="1002" y="1411"/>
                </a:lnTo>
                <a:lnTo>
                  <a:pt x="983" y="1421"/>
                </a:lnTo>
                <a:lnTo>
                  <a:pt x="963" y="1430"/>
                </a:lnTo>
                <a:lnTo>
                  <a:pt x="944" y="1438"/>
                </a:lnTo>
                <a:lnTo>
                  <a:pt x="923" y="1448"/>
                </a:lnTo>
                <a:lnTo>
                  <a:pt x="904" y="1455"/>
                </a:lnTo>
                <a:lnTo>
                  <a:pt x="881" y="1461"/>
                </a:lnTo>
                <a:lnTo>
                  <a:pt x="860" y="1469"/>
                </a:lnTo>
                <a:lnTo>
                  <a:pt x="837" y="1474"/>
                </a:lnTo>
                <a:lnTo>
                  <a:pt x="816" y="1480"/>
                </a:lnTo>
                <a:lnTo>
                  <a:pt x="791" y="1486"/>
                </a:lnTo>
                <a:lnTo>
                  <a:pt x="768" y="1490"/>
                </a:lnTo>
                <a:lnTo>
                  <a:pt x="743" y="1494"/>
                </a:lnTo>
                <a:lnTo>
                  <a:pt x="718" y="1497"/>
                </a:lnTo>
                <a:lnTo>
                  <a:pt x="693" y="1501"/>
                </a:lnTo>
                <a:lnTo>
                  <a:pt x="666" y="1503"/>
                </a:lnTo>
                <a:lnTo>
                  <a:pt x="641" y="1505"/>
                </a:lnTo>
                <a:lnTo>
                  <a:pt x="618" y="1505"/>
                </a:lnTo>
                <a:lnTo>
                  <a:pt x="593" y="1505"/>
                </a:lnTo>
                <a:lnTo>
                  <a:pt x="570" y="1505"/>
                </a:lnTo>
                <a:lnTo>
                  <a:pt x="547" y="1505"/>
                </a:lnTo>
                <a:lnTo>
                  <a:pt x="524" y="1503"/>
                </a:lnTo>
                <a:lnTo>
                  <a:pt x="501" y="1501"/>
                </a:lnTo>
                <a:lnTo>
                  <a:pt x="480" y="1497"/>
                </a:lnTo>
                <a:lnTo>
                  <a:pt x="459" y="1494"/>
                </a:lnTo>
                <a:lnTo>
                  <a:pt x="437" y="1490"/>
                </a:lnTo>
                <a:lnTo>
                  <a:pt x="416" y="1486"/>
                </a:lnTo>
                <a:lnTo>
                  <a:pt x="395" y="1480"/>
                </a:lnTo>
                <a:lnTo>
                  <a:pt x="376" y="1474"/>
                </a:lnTo>
                <a:lnTo>
                  <a:pt x="357" y="1467"/>
                </a:lnTo>
                <a:lnTo>
                  <a:pt x="338" y="1459"/>
                </a:lnTo>
                <a:lnTo>
                  <a:pt x="318" y="1451"/>
                </a:lnTo>
                <a:lnTo>
                  <a:pt x="299" y="1444"/>
                </a:lnTo>
                <a:lnTo>
                  <a:pt x="282" y="1434"/>
                </a:lnTo>
                <a:lnTo>
                  <a:pt x="265" y="1425"/>
                </a:lnTo>
                <a:lnTo>
                  <a:pt x="247" y="1413"/>
                </a:lnTo>
                <a:lnTo>
                  <a:pt x="232" y="1401"/>
                </a:lnTo>
                <a:lnTo>
                  <a:pt x="217" y="1390"/>
                </a:lnTo>
                <a:lnTo>
                  <a:pt x="201" y="1378"/>
                </a:lnTo>
                <a:lnTo>
                  <a:pt x="188" y="1365"/>
                </a:lnTo>
                <a:lnTo>
                  <a:pt x="176" y="1352"/>
                </a:lnTo>
                <a:lnTo>
                  <a:pt x="163" y="1336"/>
                </a:lnTo>
                <a:lnTo>
                  <a:pt x="153" y="1323"/>
                </a:lnTo>
                <a:lnTo>
                  <a:pt x="144" y="1307"/>
                </a:lnTo>
                <a:lnTo>
                  <a:pt x="134" y="1290"/>
                </a:lnTo>
                <a:lnTo>
                  <a:pt x="126" y="1273"/>
                </a:lnTo>
                <a:lnTo>
                  <a:pt x="119" y="1256"/>
                </a:lnTo>
                <a:lnTo>
                  <a:pt x="113" y="1240"/>
                </a:lnTo>
                <a:lnTo>
                  <a:pt x="107" y="1221"/>
                </a:lnTo>
                <a:lnTo>
                  <a:pt x="102" y="1202"/>
                </a:lnTo>
                <a:lnTo>
                  <a:pt x="96" y="1179"/>
                </a:lnTo>
                <a:lnTo>
                  <a:pt x="92" y="1156"/>
                </a:lnTo>
                <a:lnTo>
                  <a:pt x="86" y="1131"/>
                </a:lnTo>
                <a:lnTo>
                  <a:pt x="82" y="1102"/>
                </a:lnTo>
                <a:lnTo>
                  <a:pt x="78" y="1073"/>
                </a:lnTo>
                <a:lnTo>
                  <a:pt x="77" y="1041"/>
                </a:lnTo>
                <a:lnTo>
                  <a:pt x="75" y="1008"/>
                </a:lnTo>
                <a:lnTo>
                  <a:pt x="73" y="973"/>
                </a:lnTo>
                <a:lnTo>
                  <a:pt x="71" y="935"/>
                </a:lnTo>
                <a:lnTo>
                  <a:pt x="71" y="897"/>
                </a:lnTo>
                <a:lnTo>
                  <a:pt x="71" y="854"/>
                </a:lnTo>
                <a:lnTo>
                  <a:pt x="71" y="812"/>
                </a:lnTo>
                <a:lnTo>
                  <a:pt x="73" y="768"/>
                </a:lnTo>
                <a:lnTo>
                  <a:pt x="73" y="722"/>
                </a:lnTo>
                <a:lnTo>
                  <a:pt x="73" y="680"/>
                </a:lnTo>
                <a:lnTo>
                  <a:pt x="73" y="638"/>
                </a:lnTo>
                <a:lnTo>
                  <a:pt x="73" y="597"/>
                </a:lnTo>
                <a:lnTo>
                  <a:pt x="73" y="559"/>
                </a:lnTo>
                <a:lnTo>
                  <a:pt x="73" y="522"/>
                </a:lnTo>
                <a:lnTo>
                  <a:pt x="73" y="488"/>
                </a:lnTo>
                <a:lnTo>
                  <a:pt x="73" y="453"/>
                </a:lnTo>
                <a:lnTo>
                  <a:pt x="73" y="423"/>
                </a:lnTo>
                <a:lnTo>
                  <a:pt x="73" y="392"/>
                </a:lnTo>
                <a:lnTo>
                  <a:pt x="73" y="365"/>
                </a:lnTo>
                <a:lnTo>
                  <a:pt x="73" y="338"/>
                </a:lnTo>
                <a:lnTo>
                  <a:pt x="73" y="315"/>
                </a:lnTo>
                <a:lnTo>
                  <a:pt x="73" y="292"/>
                </a:lnTo>
                <a:lnTo>
                  <a:pt x="73" y="271"/>
                </a:lnTo>
                <a:lnTo>
                  <a:pt x="73" y="252"/>
                </a:lnTo>
                <a:lnTo>
                  <a:pt x="73" y="234"/>
                </a:lnTo>
                <a:lnTo>
                  <a:pt x="73" y="219"/>
                </a:lnTo>
                <a:lnTo>
                  <a:pt x="73" y="204"/>
                </a:lnTo>
                <a:lnTo>
                  <a:pt x="71" y="188"/>
                </a:lnTo>
                <a:lnTo>
                  <a:pt x="71" y="175"/>
                </a:lnTo>
                <a:lnTo>
                  <a:pt x="69" y="163"/>
                </a:lnTo>
                <a:lnTo>
                  <a:pt x="67" y="152"/>
                </a:lnTo>
                <a:lnTo>
                  <a:pt x="65" y="140"/>
                </a:lnTo>
                <a:lnTo>
                  <a:pt x="63" y="131"/>
                </a:lnTo>
                <a:lnTo>
                  <a:pt x="59" y="123"/>
                </a:lnTo>
                <a:lnTo>
                  <a:pt x="57" y="114"/>
                </a:lnTo>
                <a:lnTo>
                  <a:pt x="54" y="108"/>
                </a:lnTo>
                <a:lnTo>
                  <a:pt x="50" y="102"/>
                </a:lnTo>
                <a:lnTo>
                  <a:pt x="46" y="96"/>
                </a:lnTo>
                <a:lnTo>
                  <a:pt x="42" y="92"/>
                </a:lnTo>
                <a:lnTo>
                  <a:pt x="38" y="90"/>
                </a:lnTo>
                <a:lnTo>
                  <a:pt x="32" y="87"/>
                </a:lnTo>
                <a:lnTo>
                  <a:pt x="27" y="85"/>
                </a:lnTo>
                <a:lnTo>
                  <a:pt x="23" y="81"/>
                </a:lnTo>
                <a:lnTo>
                  <a:pt x="17" y="77"/>
                </a:lnTo>
                <a:lnTo>
                  <a:pt x="13" y="73"/>
                </a:lnTo>
                <a:lnTo>
                  <a:pt x="9" y="69"/>
                </a:lnTo>
                <a:lnTo>
                  <a:pt x="7" y="66"/>
                </a:lnTo>
                <a:lnTo>
                  <a:pt x="4" y="62"/>
                </a:lnTo>
                <a:lnTo>
                  <a:pt x="2" y="56"/>
                </a:lnTo>
                <a:lnTo>
                  <a:pt x="2" y="52"/>
                </a:lnTo>
                <a:lnTo>
                  <a:pt x="0" y="46"/>
                </a:lnTo>
                <a:lnTo>
                  <a:pt x="0" y="43"/>
                </a:lnTo>
                <a:lnTo>
                  <a:pt x="0" y="37"/>
                </a:lnTo>
                <a:lnTo>
                  <a:pt x="2" y="33"/>
                </a:lnTo>
                <a:lnTo>
                  <a:pt x="2" y="27"/>
                </a:lnTo>
                <a:lnTo>
                  <a:pt x="4" y="21"/>
                </a:lnTo>
                <a:lnTo>
                  <a:pt x="7" y="18"/>
                </a:lnTo>
                <a:lnTo>
                  <a:pt x="9" y="14"/>
                </a:lnTo>
                <a:lnTo>
                  <a:pt x="13" y="10"/>
                </a:lnTo>
                <a:lnTo>
                  <a:pt x="17" y="6"/>
                </a:lnTo>
                <a:lnTo>
                  <a:pt x="23" y="4"/>
                </a:lnTo>
                <a:lnTo>
                  <a:pt x="27" y="2"/>
                </a:lnTo>
                <a:lnTo>
                  <a:pt x="34" y="0"/>
                </a:lnTo>
                <a:lnTo>
                  <a:pt x="40" y="0"/>
                </a:lnTo>
                <a:lnTo>
                  <a:pt x="48" y="0"/>
                </a:lnTo>
                <a:lnTo>
                  <a:pt x="55" y="0"/>
                </a:lnTo>
                <a:lnTo>
                  <a:pt x="65" y="0"/>
                </a:lnTo>
                <a:lnTo>
                  <a:pt x="73" y="0"/>
                </a:lnTo>
                <a:lnTo>
                  <a:pt x="84" y="2"/>
                </a:lnTo>
                <a:lnTo>
                  <a:pt x="94" y="4"/>
                </a:lnTo>
                <a:lnTo>
                  <a:pt x="107" y="6"/>
                </a:lnTo>
                <a:lnTo>
                  <a:pt x="119" y="8"/>
                </a:lnTo>
                <a:lnTo>
                  <a:pt x="140" y="19"/>
                </a:lnTo>
                <a:lnTo>
                  <a:pt x="159" y="29"/>
                </a:lnTo>
                <a:lnTo>
                  <a:pt x="176" y="39"/>
                </a:lnTo>
                <a:lnTo>
                  <a:pt x="186" y="43"/>
                </a:lnTo>
                <a:lnTo>
                  <a:pt x="194" y="48"/>
                </a:lnTo>
                <a:lnTo>
                  <a:pt x="201" y="52"/>
                </a:lnTo>
                <a:lnTo>
                  <a:pt x="207" y="56"/>
                </a:lnTo>
                <a:lnTo>
                  <a:pt x="213" y="60"/>
                </a:lnTo>
                <a:lnTo>
                  <a:pt x="219" y="64"/>
                </a:lnTo>
                <a:lnTo>
                  <a:pt x="224" y="67"/>
                </a:lnTo>
                <a:lnTo>
                  <a:pt x="228" y="71"/>
                </a:lnTo>
                <a:lnTo>
                  <a:pt x="230" y="73"/>
                </a:lnTo>
                <a:lnTo>
                  <a:pt x="234" y="77"/>
                </a:lnTo>
                <a:lnTo>
                  <a:pt x="238" y="81"/>
                </a:lnTo>
                <a:lnTo>
                  <a:pt x="240" y="89"/>
                </a:lnTo>
                <a:lnTo>
                  <a:pt x="242" y="96"/>
                </a:lnTo>
                <a:lnTo>
                  <a:pt x="242" y="106"/>
                </a:lnTo>
                <a:lnTo>
                  <a:pt x="242" y="114"/>
                </a:lnTo>
                <a:lnTo>
                  <a:pt x="240" y="123"/>
                </a:lnTo>
                <a:lnTo>
                  <a:pt x="238" y="135"/>
                </a:lnTo>
                <a:lnTo>
                  <a:pt x="234" y="144"/>
                </a:lnTo>
                <a:lnTo>
                  <a:pt x="232" y="148"/>
                </a:lnTo>
                <a:lnTo>
                  <a:pt x="232" y="152"/>
                </a:lnTo>
                <a:lnTo>
                  <a:pt x="230" y="158"/>
                </a:lnTo>
                <a:lnTo>
                  <a:pt x="230" y="163"/>
                </a:lnTo>
                <a:lnTo>
                  <a:pt x="228" y="169"/>
                </a:lnTo>
                <a:lnTo>
                  <a:pt x="226" y="175"/>
                </a:lnTo>
                <a:lnTo>
                  <a:pt x="226" y="183"/>
                </a:lnTo>
                <a:lnTo>
                  <a:pt x="224" y="190"/>
                </a:lnTo>
                <a:lnTo>
                  <a:pt x="224" y="198"/>
                </a:lnTo>
                <a:lnTo>
                  <a:pt x="222" y="206"/>
                </a:lnTo>
                <a:lnTo>
                  <a:pt x="222" y="215"/>
                </a:lnTo>
                <a:lnTo>
                  <a:pt x="221" y="225"/>
                </a:lnTo>
                <a:lnTo>
                  <a:pt x="221" y="234"/>
                </a:lnTo>
                <a:lnTo>
                  <a:pt x="219" y="246"/>
                </a:lnTo>
                <a:lnTo>
                  <a:pt x="217" y="256"/>
                </a:lnTo>
                <a:lnTo>
                  <a:pt x="217" y="267"/>
                </a:lnTo>
                <a:lnTo>
                  <a:pt x="215" y="281"/>
                </a:lnTo>
                <a:lnTo>
                  <a:pt x="215" y="292"/>
                </a:lnTo>
                <a:lnTo>
                  <a:pt x="213" y="305"/>
                </a:lnTo>
                <a:lnTo>
                  <a:pt x="213" y="319"/>
                </a:lnTo>
                <a:lnTo>
                  <a:pt x="211" y="332"/>
                </a:lnTo>
                <a:lnTo>
                  <a:pt x="211" y="348"/>
                </a:lnTo>
                <a:lnTo>
                  <a:pt x="209" y="363"/>
                </a:lnTo>
                <a:lnTo>
                  <a:pt x="207" y="378"/>
                </a:lnTo>
                <a:lnTo>
                  <a:pt x="207" y="396"/>
                </a:lnTo>
                <a:lnTo>
                  <a:pt x="205" y="411"/>
                </a:lnTo>
                <a:lnTo>
                  <a:pt x="205" y="428"/>
                </a:lnTo>
                <a:lnTo>
                  <a:pt x="203" y="448"/>
                </a:lnTo>
                <a:lnTo>
                  <a:pt x="203" y="465"/>
                </a:lnTo>
                <a:lnTo>
                  <a:pt x="201" y="484"/>
                </a:lnTo>
                <a:lnTo>
                  <a:pt x="201" y="503"/>
                </a:lnTo>
                <a:lnTo>
                  <a:pt x="199" y="5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66"/>
          <p:cNvSpPr/>
          <p:nvPr/>
        </p:nvSpPr>
        <p:spPr>
          <a:xfrm>
            <a:off x="6750000" y="3792600"/>
            <a:ext cx="528840" cy="584280"/>
          </a:xfrm>
          <a:custGeom>
            <a:avLst/>
            <a:gdLst/>
            <a:ahLst/>
            <a:rect l="l" t="t" r="r" b="b"/>
            <a:pathLst>
              <a:path w="666" h="737">
                <a:moveTo>
                  <a:pt x="23" y="737"/>
                </a:moveTo>
                <a:lnTo>
                  <a:pt x="0" y="670"/>
                </a:lnTo>
                <a:lnTo>
                  <a:pt x="36" y="629"/>
                </a:lnTo>
                <a:lnTo>
                  <a:pt x="69" y="591"/>
                </a:lnTo>
                <a:lnTo>
                  <a:pt x="103" y="553"/>
                </a:lnTo>
                <a:lnTo>
                  <a:pt x="134" y="518"/>
                </a:lnTo>
                <a:lnTo>
                  <a:pt x="165" y="485"/>
                </a:lnTo>
                <a:lnTo>
                  <a:pt x="194" y="453"/>
                </a:lnTo>
                <a:lnTo>
                  <a:pt x="221" y="422"/>
                </a:lnTo>
                <a:lnTo>
                  <a:pt x="246" y="393"/>
                </a:lnTo>
                <a:lnTo>
                  <a:pt x="270" y="366"/>
                </a:lnTo>
                <a:lnTo>
                  <a:pt x="292" y="342"/>
                </a:lnTo>
                <a:lnTo>
                  <a:pt x="313" y="318"/>
                </a:lnTo>
                <a:lnTo>
                  <a:pt x="332" y="295"/>
                </a:lnTo>
                <a:lnTo>
                  <a:pt x="349" y="274"/>
                </a:lnTo>
                <a:lnTo>
                  <a:pt x="365" y="255"/>
                </a:lnTo>
                <a:lnTo>
                  <a:pt x="372" y="246"/>
                </a:lnTo>
                <a:lnTo>
                  <a:pt x="378" y="238"/>
                </a:lnTo>
                <a:lnTo>
                  <a:pt x="384" y="230"/>
                </a:lnTo>
                <a:lnTo>
                  <a:pt x="389" y="223"/>
                </a:lnTo>
                <a:lnTo>
                  <a:pt x="399" y="209"/>
                </a:lnTo>
                <a:lnTo>
                  <a:pt x="409" y="198"/>
                </a:lnTo>
                <a:lnTo>
                  <a:pt x="416" y="184"/>
                </a:lnTo>
                <a:lnTo>
                  <a:pt x="424" y="173"/>
                </a:lnTo>
                <a:lnTo>
                  <a:pt x="430" y="163"/>
                </a:lnTo>
                <a:lnTo>
                  <a:pt x="436" y="151"/>
                </a:lnTo>
                <a:lnTo>
                  <a:pt x="439" y="142"/>
                </a:lnTo>
                <a:lnTo>
                  <a:pt x="441" y="132"/>
                </a:lnTo>
                <a:lnTo>
                  <a:pt x="445" y="123"/>
                </a:lnTo>
                <a:lnTo>
                  <a:pt x="445" y="113"/>
                </a:lnTo>
                <a:lnTo>
                  <a:pt x="447" y="105"/>
                </a:lnTo>
                <a:lnTo>
                  <a:pt x="445" y="98"/>
                </a:lnTo>
                <a:lnTo>
                  <a:pt x="445" y="90"/>
                </a:lnTo>
                <a:lnTo>
                  <a:pt x="443" y="84"/>
                </a:lnTo>
                <a:lnTo>
                  <a:pt x="439" y="79"/>
                </a:lnTo>
                <a:lnTo>
                  <a:pt x="436" y="73"/>
                </a:lnTo>
                <a:lnTo>
                  <a:pt x="432" y="67"/>
                </a:lnTo>
                <a:lnTo>
                  <a:pt x="428" y="61"/>
                </a:lnTo>
                <a:lnTo>
                  <a:pt x="426" y="57"/>
                </a:lnTo>
                <a:lnTo>
                  <a:pt x="422" y="52"/>
                </a:lnTo>
                <a:lnTo>
                  <a:pt x="422" y="48"/>
                </a:lnTo>
                <a:lnTo>
                  <a:pt x="420" y="42"/>
                </a:lnTo>
                <a:lnTo>
                  <a:pt x="420" y="38"/>
                </a:lnTo>
                <a:lnTo>
                  <a:pt x="420" y="32"/>
                </a:lnTo>
                <a:lnTo>
                  <a:pt x="420" y="29"/>
                </a:lnTo>
                <a:lnTo>
                  <a:pt x="422" y="25"/>
                </a:lnTo>
                <a:lnTo>
                  <a:pt x="424" y="21"/>
                </a:lnTo>
                <a:lnTo>
                  <a:pt x="428" y="17"/>
                </a:lnTo>
                <a:lnTo>
                  <a:pt x="432" y="13"/>
                </a:lnTo>
                <a:lnTo>
                  <a:pt x="436" y="9"/>
                </a:lnTo>
                <a:lnTo>
                  <a:pt x="441" y="8"/>
                </a:lnTo>
                <a:lnTo>
                  <a:pt x="447" y="6"/>
                </a:lnTo>
                <a:lnTo>
                  <a:pt x="451" y="2"/>
                </a:lnTo>
                <a:lnTo>
                  <a:pt x="457" y="0"/>
                </a:lnTo>
                <a:lnTo>
                  <a:pt x="462" y="0"/>
                </a:lnTo>
                <a:lnTo>
                  <a:pt x="468" y="0"/>
                </a:lnTo>
                <a:lnTo>
                  <a:pt x="474" y="0"/>
                </a:lnTo>
                <a:lnTo>
                  <a:pt x="482" y="0"/>
                </a:lnTo>
                <a:lnTo>
                  <a:pt x="489" y="2"/>
                </a:lnTo>
                <a:lnTo>
                  <a:pt x="497" y="4"/>
                </a:lnTo>
                <a:lnTo>
                  <a:pt x="505" y="8"/>
                </a:lnTo>
                <a:lnTo>
                  <a:pt x="514" y="11"/>
                </a:lnTo>
                <a:lnTo>
                  <a:pt x="524" y="15"/>
                </a:lnTo>
                <a:lnTo>
                  <a:pt x="533" y="19"/>
                </a:lnTo>
                <a:lnTo>
                  <a:pt x="543" y="25"/>
                </a:lnTo>
                <a:lnTo>
                  <a:pt x="553" y="31"/>
                </a:lnTo>
                <a:lnTo>
                  <a:pt x="562" y="38"/>
                </a:lnTo>
                <a:lnTo>
                  <a:pt x="574" y="46"/>
                </a:lnTo>
                <a:lnTo>
                  <a:pt x="583" y="56"/>
                </a:lnTo>
                <a:lnTo>
                  <a:pt x="593" y="65"/>
                </a:lnTo>
                <a:lnTo>
                  <a:pt x="603" y="75"/>
                </a:lnTo>
                <a:lnTo>
                  <a:pt x="612" y="84"/>
                </a:lnTo>
                <a:lnTo>
                  <a:pt x="620" y="92"/>
                </a:lnTo>
                <a:lnTo>
                  <a:pt x="627" y="102"/>
                </a:lnTo>
                <a:lnTo>
                  <a:pt x="633" y="109"/>
                </a:lnTo>
                <a:lnTo>
                  <a:pt x="641" y="117"/>
                </a:lnTo>
                <a:lnTo>
                  <a:pt x="647" y="125"/>
                </a:lnTo>
                <a:lnTo>
                  <a:pt x="651" y="130"/>
                </a:lnTo>
                <a:lnTo>
                  <a:pt x="654" y="138"/>
                </a:lnTo>
                <a:lnTo>
                  <a:pt x="658" y="144"/>
                </a:lnTo>
                <a:lnTo>
                  <a:pt x="662" y="151"/>
                </a:lnTo>
                <a:lnTo>
                  <a:pt x="664" y="157"/>
                </a:lnTo>
                <a:lnTo>
                  <a:pt x="664" y="163"/>
                </a:lnTo>
                <a:lnTo>
                  <a:pt x="666" y="167"/>
                </a:lnTo>
                <a:lnTo>
                  <a:pt x="664" y="171"/>
                </a:lnTo>
                <a:lnTo>
                  <a:pt x="662" y="176"/>
                </a:lnTo>
                <a:lnTo>
                  <a:pt x="658" y="182"/>
                </a:lnTo>
                <a:lnTo>
                  <a:pt x="654" y="190"/>
                </a:lnTo>
                <a:lnTo>
                  <a:pt x="649" y="198"/>
                </a:lnTo>
                <a:lnTo>
                  <a:pt x="641" y="205"/>
                </a:lnTo>
                <a:lnTo>
                  <a:pt x="633" y="215"/>
                </a:lnTo>
                <a:lnTo>
                  <a:pt x="624" y="224"/>
                </a:lnTo>
                <a:lnTo>
                  <a:pt x="612" y="236"/>
                </a:lnTo>
                <a:lnTo>
                  <a:pt x="601" y="249"/>
                </a:lnTo>
                <a:lnTo>
                  <a:pt x="587" y="261"/>
                </a:lnTo>
                <a:lnTo>
                  <a:pt x="572" y="274"/>
                </a:lnTo>
                <a:lnTo>
                  <a:pt x="556" y="290"/>
                </a:lnTo>
                <a:lnTo>
                  <a:pt x="539" y="305"/>
                </a:lnTo>
                <a:lnTo>
                  <a:pt x="522" y="322"/>
                </a:lnTo>
                <a:lnTo>
                  <a:pt x="501" y="340"/>
                </a:lnTo>
                <a:lnTo>
                  <a:pt x="482" y="357"/>
                </a:lnTo>
                <a:lnTo>
                  <a:pt x="459" y="376"/>
                </a:lnTo>
                <a:lnTo>
                  <a:pt x="436" y="395"/>
                </a:lnTo>
                <a:lnTo>
                  <a:pt x="411" y="416"/>
                </a:lnTo>
                <a:lnTo>
                  <a:pt x="386" y="437"/>
                </a:lnTo>
                <a:lnTo>
                  <a:pt x="359" y="461"/>
                </a:lnTo>
                <a:lnTo>
                  <a:pt x="330" y="485"/>
                </a:lnTo>
                <a:lnTo>
                  <a:pt x="301" y="509"/>
                </a:lnTo>
                <a:lnTo>
                  <a:pt x="270" y="533"/>
                </a:lnTo>
                <a:lnTo>
                  <a:pt x="238" y="560"/>
                </a:lnTo>
                <a:lnTo>
                  <a:pt x="205" y="587"/>
                </a:lnTo>
                <a:lnTo>
                  <a:pt x="171" y="616"/>
                </a:lnTo>
                <a:lnTo>
                  <a:pt x="136" y="645"/>
                </a:lnTo>
                <a:lnTo>
                  <a:pt x="100" y="674"/>
                </a:lnTo>
                <a:lnTo>
                  <a:pt x="61" y="706"/>
                </a:lnTo>
                <a:lnTo>
                  <a:pt x="23" y="7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67"/>
          <p:cNvSpPr/>
          <p:nvPr/>
        </p:nvSpPr>
        <p:spPr>
          <a:xfrm>
            <a:off x="6859440" y="3000240"/>
            <a:ext cx="965520" cy="789120"/>
          </a:xfrm>
          <a:custGeom>
            <a:avLst/>
            <a:gdLst/>
            <a:ahLst/>
            <a:rect l="l" t="t" r="r" b="b"/>
            <a:pathLst>
              <a:path w="1215" h="994">
                <a:moveTo>
                  <a:pt x="699" y="988"/>
                </a:moveTo>
                <a:lnTo>
                  <a:pt x="695" y="986"/>
                </a:lnTo>
                <a:lnTo>
                  <a:pt x="687" y="983"/>
                </a:lnTo>
                <a:lnTo>
                  <a:pt x="681" y="977"/>
                </a:lnTo>
                <a:lnTo>
                  <a:pt x="672" y="969"/>
                </a:lnTo>
                <a:lnTo>
                  <a:pt x="664" y="961"/>
                </a:lnTo>
                <a:lnTo>
                  <a:pt x="653" y="950"/>
                </a:lnTo>
                <a:lnTo>
                  <a:pt x="641" y="938"/>
                </a:lnTo>
                <a:lnTo>
                  <a:pt x="630" y="923"/>
                </a:lnTo>
                <a:lnTo>
                  <a:pt x="616" y="908"/>
                </a:lnTo>
                <a:lnTo>
                  <a:pt x="601" y="890"/>
                </a:lnTo>
                <a:lnTo>
                  <a:pt x="585" y="871"/>
                </a:lnTo>
                <a:lnTo>
                  <a:pt x="568" y="850"/>
                </a:lnTo>
                <a:lnTo>
                  <a:pt x="549" y="827"/>
                </a:lnTo>
                <a:lnTo>
                  <a:pt x="530" y="804"/>
                </a:lnTo>
                <a:lnTo>
                  <a:pt x="511" y="777"/>
                </a:lnTo>
                <a:lnTo>
                  <a:pt x="489" y="750"/>
                </a:lnTo>
                <a:lnTo>
                  <a:pt x="466" y="720"/>
                </a:lnTo>
                <a:lnTo>
                  <a:pt x="443" y="689"/>
                </a:lnTo>
                <a:lnTo>
                  <a:pt x="418" y="656"/>
                </a:lnTo>
                <a:lnTo>
                  <a:pt x="394" y="622"/>
                </a:lnTo>
                <a:lnTo>
                  <a:pt x="367" y="587"/>
                </a:lnTo>
                <a:lnTo>
                  <a:pt x="338" y="549"/>
                </a:lnTo>
                <a:lnTo>
                  <a:pt x="309" y="508"/>
                </a:lnTo>
                <a:lnTo>
                  <a:pt x="278" y="468"/>
                </a:lnTo>
                <a:lnTo>
                  <a:pt x="248" y="426"/>
                </a:lnTo>
                <a:lnTo>
                  <a:pt x="215" y="382"/>
                </a:lnTo>
                <a:lnTo>
                  <a:pt x="182" y="336"/>
                </a:lnTo>
                <a:lnTo>
                  <a:pt x="148" y="288"/>
                </a:lnTo>
                <a:lnTo>
                  <a:pt x="113" y="238"/>
                </a:lnTo>
                <a:lnTo>
                  <a:pt x="77" y="188"/>
                </a:lnTo>
                <a:lnTo>
                  <a:pt x="38" y="134"/>
                </a:lnTo>
                <a:lnTo>
                  <a:pt x="0" y="80"/>
                </a:lnTo>
                <a:lnTo>
                  <a:pt x="23" y="40"/>
                </a:lnTo>
                <a:lnTo>
                  <a:pt x="46" y="0"/>
                </a:lnTo>
                <a:lnTo>
                  <a:pt x="54" y="11"/>
                </a:lnTo>
                <a:lnTo>
                  <a:pt x="65" y="27"/>
                </a:lnTo>
                <a:lnTo>
                  <a:pt x="77" y="42"/>
                </a:lnTo>
                <a:lnTo>
                  <a:pt x="90" y="59"/>
                </a:lnTo>
                <a:lnTo>
                  <a:pt x="106" y="78"/>
                </a:lnTo>
                <a:lnTo>
                  <a:pt x="121" y="98"/>
                </a:lnTo>
                <a:lnTo>
                  <a:pt x="138" y="117"/>
                </a:lnTo>
                <a:lnTo>
                  <a:pt x="157" y="140"/>
                </a:lnTo>
                <a:lnTo>
                  <a:pt x="177" y="161"/>
                </a:lnTo>
                <a:lnTo>
                  <a:pt x="200" y="186"/>
                </a:lnTo>
                <a:lnTo>
                  <a:pt x="221" y="211"/>
                </a:lnTo>
                <a:lnTo>
                  <a:pt x="246" y="236"/>
                </a:lnTo>
                <a:lnTo>
                  <a:pt x="271" y="265"/>
                </a:lnTo>
                <a:lnTo>
                  <a:pt x="298" y="291"/>
                </a:lnTo>
                <a:lnTo>
                  <a:pt x="326" y="320"/>
                </a:lnTo>
                <a:lnTo>
                  <a:pt x="355" y="351"/>
                </a:lnTo>
                <a:lnTo>
                  <a:pt x="384" y="384"/>
                </a:lnTo>
                <a:lnTo>
                  <a:pt x="415" y="416"/>
                </a:lnTo>
                <a:lnTo>
                  <a:pt x="447" y="447"/>
                </a:lnTo>
                <a:lnTo>
                  <a:pt x="478" y="476"/>
                </a:lnTo>
                <a:lnTo>
                  <a:pt x="511" y="505"/>
                </a:lnTo>
                <a:lnTo>
                  <a:pt x="545" y="533"/>
                </a:lnTo>
                <a:lnTo>
                  <a:pt x="578" y="560"/>
                </a:lnTo>
                <a:lnTo>
                  <a:pt x="612" y="585"/>
                </a:lnTo>
                <a:lnTo>
                  <a:pt x="647" y="610"/>
                </a:lnTo>
                <a:lnTo>
                  <a:pt x="683" y="635"/>
                </a:lnTo>
                <a:lnTo>
                  <a:pt x="718" y="658"/>
                </a:lnTo>
                <a:lnTo>
                  <a:pt x="754" y="679"/>
                </a:lnTo>
                <a:lnTo>
                  <a:pt x="791" y="700"/>
                </a:lnTo>
                <a:lnTo>
                  <a:pt x="829" y="721"/>
                </a:lnTo>
                <a:lnTo>
                  <a:pt x="868" y="741"/>
                </a:lnTo>
                <a:lnTo>
                  <a:pt x="906" y="758"/>
                </a:lnTo>
                <a:lnTo>
                  <a:pt x="923" y="768"/>
                </a:lnTo>
                <a:lnTo>
                  <a:pt x="942" y="777"/>
                </a:lnTo>
                <a:lnTo>
                  <a:pt x="960" y="785"/>
                </a:lnTo>
                <a:lnTo>
                  <a:pt x="977" y="792"/>
                </a:lnTo>
                <a:lnTo>
                  <a:pt x="994" y="802"/>
                </a:lnTo>
                <a:lnTo>
                  <a:pt x="1010" y="810"/>
                </a:lnTo>
                <a:lnTo>
                  <a:pt x="1025" y="817"/>
                </a:lnTo>
                <a:lnTo>
                  <a:pt x="1040" y="825"/>
                </a:lnTo>
                <a:lnTo>
                  <a:pt x="1054" y="833"/>
                </a:lnTo>
                <a:lnTo>
                  <a:pt x="1067" y="839"/>
                </a:lnTo>
                <a:lnTo>
                  <a:pt x="1081" y="846"/>
                </a:lnTo>
                <a:lnTo>
                  <a:pt x="1094" y="854"/>
                </a:lnTo>
                <a:lnTo>
                  <a:pt x="1106" y="860"/>
                </a:lnTo>
                <a:lnTo>
                  <a:pt x="1117" y="865"/>
                </a:lnTo>
                <a:lnTo>
                  <a:pt x="1127" y="871"/>
                </a:lnTo>
                <a:lnTo>
                  <a:pt x="1136" y="877"/>
                </a:lnTo>
                <a:lnTo>
                  <a:pt x="1146" y="883"/>
                </a:lnTo>
                <a:lnTo>
                  <a:pt x="1156" y="888"/>
                </a:lnTo>
                <a:lnTo>
                  <a:pt x="1163" y="894"/>
                </a:lnTo>
                <a:lnTo>
                  <a:pt x="1171" y="898"/>
                </a:lnTo>
                <a:lnTo>
                  <a:pt x="1179" y="904"/>
                </a:lnTo>
                <a:lnTo>
                  <a:pt x="1184" y="908"/>
                </a:lnTo>
                <a:lnTo>
                  <a:pt x="1190" y="911"/>
                </a:lnTo>
                <a:lnTo>
                  <a:pt x="1196" y="915"/>
                </a:lnTo>
                <a:lnTo>
                  <a:pt x="1200" y="919"/>
                </a:lnTo>
                <a:lnTo>
                  <a:pt x="1204" y="921"/>
                </a:lnTo>
                <a:lnTo>
                  <a:pt x="1207" y="925"/>
                </a:lnTo>
                <a:lnTo>
                  <a:pt x="1209" y="927"/>
                </a:lnTo>
                <a:lnTo>
                  <a:pt x="1211" y="929"/>
                </a:lnTo>
                <a:lnTo>
                  <a:pt x="1213" y="931"/>
                </a:lnTo>
                <a:lnTo>
                  <a:pt x="1215" y="933"/>
                </a:lnTo>
                <a:lnTo>
                  <a:pt x="1215" y="935"/>
                </a:lnTo>
                <a:lnTo>
                  <a:pt x="1211" y="936"/>
                </a:lnTo>
                <a:lnTo>
                  <a:pt x="1207" y="940"/>
                </a:lnTo>
                <a:lnTo>
                  <a:pt x="1202" y="942"/>
                </a:lnTo>
                <a:lnTo>
                  <a:pt x="1196" y="944"/>
                </a:lnTo>
                <a:lnTo>
                  <a:pt x="1186" y="948"/>
                </a:lnTo>
                <a:lnTo>
                  <a:pt x="1177" y="950"/>
                </a:lnTo>
                <a:lnTo>
                  <a:pt x="1165" y="952"/>
                </a:lnTo>
                <a:lnTo>
                  <a:pt x="1154" y="956"/>
                </a:lnTo>
                <a:lnTo>
                  <a:pt x="1138" y="958"/>
                </a:lnTo>
                <a:lnTo>
                  <a:pt x="1123" y="959"/>
                </a:lnTo>
                <a:lnTo>
                  <a:pt x="1106" y="963"/>
                </a:lnTo>
                <a:lnTo>
                  <a:pt x="1086" y="965"/>
                </a:lnTo>
                <a:lnTo>
                  <a:pt x="1067" y="967"/>
                </a:lnTo>
                <a:lnTo>
                  <a:pt x="1046" y="971"/>
                </a:lnTo>
                <a:lnTo>
                  <a:pt x="1021" y="973"/>
                </a:lnTo>
                <a:lnTo>
                  <a:pt x="996" y="975"/>
                </a:lnTo>
                <a:lnTo>
                  <a:pt x="969" y="979"/>
                </a:lnTo>
                <a:lnTo>
                  <a:pt x="944" y="981"/>
                </a:lnTo>
                <a:lnTo>
                  <a:pt x="919" y="983"/>
                </a:lnTo>
                <a:lnTo>
                  <a:pt x="896" y="984"/>
                </a:lnTo>
                <a:lnTo>
                  <a:pt x="873" y="988"/>
                </a:lnTo>
                <a:lnTo>
                  <a:pt x="852" y="990"/>
                </a:lnTo>
                <a:lnTo>
                  <a:pt x="833" y="990"/>
                </a:lnTo>
                <a:lnTo>
                  <a:pt x="814" y="992"/>
                </a:lnTo>
                <a:lnTo>
                  <a:pt x="797" y="994"/>
                </a:lnTo>
                <a:lnTo>
                  <a:pt x="779" y="994"/>
                </a:lnTo>
                <a:lnTo>
                  <a:pt x="764" y="994"/>
                </a:lnTo>
                <a:lnTo>
                  <a:pt x="749" y="994"/>
                </a:lnTo>
                <a:lnTo>
                  <a:pt x="735" y="994"/>
                </a:lnTo>
                <a:lnTo>
                  <a:pt x="722" y="992"/>
                </a:lnTo>
                <a:lnTo>
                  <a:pt x="710" y="990"/>
                </a:lnTo>
                <a:lnTo>
                  <a:pt x="699" y="9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68"/>
          <p:cNvSpPr/>
          <p:nvPr/>
        </p:nvSpPr>
        <p:spPr>
          <a:xfrm>
            <a:off x="6302520" y="2741760"/>
            <a:ext cx="695160" cy="1314360"/>
          </a:xfrm>
          <a:custGeom>
            <a:avLst/>
            <a:gdLst/>
            <a:ahLst/>
            <a:rect l="l" t="t" r="r" b="b"/>
            <a:pathLst>
              <a:path w="878" h="1657">
                <a:moveTo>
                  <a:pt x="427" y="1154"/>
                </a:moveTo>
                <a:lnTo>
                  <a:pt x="394" y="1208"/>
                </a:lnTo>
                <a:lnTo>
                  <a:pt x="377" y="1237"/>
                </a:lnTo>
                <a:lnTo>
                  <a:pt x="359" y="1262"/>
                </a:lnTo>
                <a:lnTo>
                  <a:pt x="342" y="1288"/>
                </a:lnTo>
                <a:lnTo>
                  <a:pt x="325" y="1313"/>
                </a:lnTo>
                <a:lnTo>
                  <a:pt x="308" y="1338"/>
                </a:lnTo>
                <a:lnTo>
                  <a:pt x="290" y="1363"/>
                </a:lnTo>
                <a:lnTo>
                  <a:pt x="273" y="1386"/>
                </a:lnTo>
                <a:lnTo>
                  <a:pt x="256" y="1411"/>
                </a:lnTo>
                <a:lnTo>
                  <a:pt x="239" y="1432"/>
                </a:lnTo>
                <a:lnTo>
                  <a:pt x="221" y="1453"/>
                </a:lnTo>
                <a:lnTo>
                  <a:pt x="204" y="1475"/>
                </a:lnTo>
                <a:lnTo>
                  <a:pt x="187" y="1496"/>
                </a:lnTo>
                <a:lnTo>
                  <a:pt x="169" y="1515"/>
                </a:lnTo>
                <a:lnTo>
                  <a:pt x="152" y="1534"/>
                </a:lnTo>
                <a:lnTo>
                  <a:pt x="135" y="1551"/>
                </a:lnTo>
                <a:lnTo>
                  <a:pt x="120" y="1567"/>
                </a:lnTo>
                <a:lnTo>
                  <a:pt x="106" y="1580"/>
                </a:lnTo>
                <a:lnTo>
                  <a:pt x="93" y="1594"/>
                </a:lnTo>
                <a:lnTo>
                  <a:pt x="79" y="1607"/>
                </a:lnTo>
                <a:lnTo>
                  <a:pt x="68" y="1617"/>
                </a:lnTo>
                <a:lnTo>
                  <a:pt x="58" y="1626"/>
                </a:lnTo>
                <a:lnTo>
                  <a:pt x="48" y="1636"/>
                </a:lnTo>
                <a:lnTo>
                  <a:pt x="39" y="1642"/>
                </a:lnTo>
                <a:lnTo>
                  <a:pt x="31" y="1647"/>
                </a:lnTo>
                <a:lnTo>
                  <a:pt x="24" y="1653"/>
                </a:lnTo>
                <a:lnTo>
                  <a:pt x="18" y="1655"/>
                </a:lnTo>
                <a:lnTo>
                  <a:pt x="14" y="1657"/>
                </a:lnTo>
                <a:lnTo>
                  <a:pt x="8" y="1657"/>
                </a:lnTo>
                <a:lnTo>
                  <a:pt x="6" y="1657"/>
                </a:lnTo>
                <a:lnTo>
                  <a:pt x="2" y="1655"/>
                </a:lnTo>
                <a:lnTo>
                  <a:pt x="0" y="1651"/>
                </a:lnTo>
                <a:lnTo>
                  <a:pt x="0" y="1647"/>
                </a:lnTo>
                <a:lnTo>
                  <a:pt x="2" y="1642"/>
                </a:lnTo>
                <a:lnTo>
                  <a:pt x="2" y="1636"/>
                </a:lnTo>
                <a:lnTo>
                  <a:pt x="6" y="1626"/>
                </a:lnTo>
                <a:lnTo>
                  <a:pt x="10" y="1617"/>
                </a:lnTo>
                <a:lnTo>
                  <a:pt x="16" y="1607"/>
                </a:lnTo>
                <a:lnTo>
                  <a:pt x="22" y="1594"/>
                </a:lnTo>
                <a:lnTo>
                  <a:pt x="27" y="1580"/>
                </a:lnTo>
                <a:lnTo>
                  <a:pt x="35" y="1567"/>
                </a:lnTo>
                <a:lnTo>
                  <a:pt x="45" y="1551"/>
                </a:lnTo>
                <a:lnTo>
                  <a:pt x="56" y="1534"/>
                </a:lnTo>
                <a:lnTo>
                  <a:pt x="66" y="1515"/>
                </a:lnTo>
                <a:lnTo>
                  <a:pt x="79" y="1496"/>
                </a:lnTo>
                <a:lnTo>
                  <a:pt x="93" y="1475"/>
                </a:lnTo>
                <a:lnTo>
                  <a:pt x="106" y="1452"/>
                </a:lnTo>
                <a:lnTo>
                  <a:pt x="121" y="1429"/>
                </a:lnTo>
                <a:lnTo>
                  <a:pt x="137" y="1404"/>
                </a:lnTo>
                <a:lnTo>
                  <a:pt x="152" y="1379"/>
                </a:lnTo>
                <a:lnTo>
                  <a:pt x="167" y="1352"/>
                </a:lnTo>
                <a:lnTo>
                  <a:pt x="185" y="1325"/>
                </a:lnTo>
                <a:lnTo>
                  <a:pt x="202" y="1296"/>
                </a:lnTo>
                <a:lnTo>
                  <a:pt x="217" y="1267"/>
                </a:lnTo>
                <a:lnTo>
                  <a:pt x="235" y="1238"/>
                </a:lnTo>
                <a:lnTo>
                  <a:pt x="252" y="1208"/>
                </a:lnTo>
                <a:lnTo>
                  <a:pt x="271" y="1175"/>
                </a:lnTo>
                <a:lnTo>
                  <a:pt x="288" y="1143"/>
                </a:lnTo>
                <a:lnTo>
                  <a:pt x="308" y="1108"/>
                </a:lnTo>
                <a:lnTo>
                  <a:pt x="325" y="1073"/>
                </a:lnTo>
                <a:lnTo>
                  <a:pt x="344" y="1037"/>
                </a:lnTo>
                <a:lnTo>
                  <a:pt x="363" y="1000"/>
                </a:lnTo>
                <a:lnTo>
                  <a:pt x="382" y="964"/>
                </a:lnTo>
                <a:lnTo>
                  <a:pt x="415" y="887"/>
                </a:lnTo>
                <a:lnTo>
                  <a:pt x="448" y="812"/>
                </a:lnTo>
                <a:lnTo>
                  <a:pt x="478" y="739"/>
                </a:lnTo>
                <a:lnTo>
                  <a:pt x="509" y="666"/>
                </a:lnTo>
                <a:lnTo>
                  <a:pt x="538" y="594"/>
                </a:lnTo>
                <a:lnTo>
                  <a:pt x="551" y="559"/>
                </a:lnTo>
                <a:lnTo>
                  <a:pt x="565" y="523"/>
                </a:lnTo>
                <a:lnTo>
                  <a:pt x="576" y="486"/>
                </a:lnTo>
                <a:lnTo>
                  <a:pt x="588" y="451"/>
                </a:lnTo>
                <a:lnTo>
                  <a:pt x="599" y="415"/>
                </a:lnTo>
                <a:lnTo>
                  <a:pt x="611" y="380"/>
                </a:lnTo>
                <a:lnTo>
                  <a:pt x="617" y="363"/>
                </a:lnTo>
                <a:lnTo>
                  <a:pt x="620" y="346"/>
                </a:lnTo>
                <a:lnTo>
                  <a:pt x="626" y="329"/>
                </a:lnTo>
                <a:lnTo>
                  <a:pt x="630" y="313"/>
                </a:lnTo>
                <a:lnTo>
                  <a:pt x="634" y="298"/>
                </a:lnTo>
                <a:lnTo>
                  <a:pt x="638" y="283"/>
                </a:lnTo>
                <a:lnTo>
                  <a:pt x="642" y="267"/>
                </a:lnTo>
                <a:lnTo>
                  <a:pt x="645" y="254"/>
                </a:lnTo>
                <a:lnTo>
                  <a:pt x="647" y="240"/>
                </a:lnTo>
                <a:lnTo>
                  <a:pt x="651" y="227"/>
                </a:lnTo>
                <a:lnTo>
                  <a:pt x="653" y="213"/>
                </a:lnTo>
                <a:lnTo>
                  <a:pt x="657" y="202"/>
                </a:lnTo>
                <a:lnTo>
                  <a:pt x="659" y="190"/>
                </a:lnTo>
                <a:lnTo>
                  <a:pt x="661" y="179"/>
                </a:lnTo>
                <a:lnTo>
                  <a:pt x="663" y="167"/>
                </a:lnTo>
                <a:lnTo>
                  <a:pt x="663" y="158"/>
                </a:lnTo>
                <a:lnTo>
                  <a:pt x="665" y="148"/>
                </a:lnTo>
                <a:lnTo>
                  <a:pt x="667" y="139"/>
                </a:lnTo>
                <a:lnTo>
                  <a:pt x="667" y="131"/>
                </a:lnTo>
                <a:lnTo>
                  <a:pt x="667" y="123"/>
                </a:lnTo>
                <a:lnTo>
                  <a:pt x="667" y="116"/>
                </a:lnTo>
                <a:lnTo>
                  <a:pt x="667" y="108"/>
                </a:lnTo>
                <a:lnTo>
                  <a:pt x="667" y="102"/>
                </a:lnTo>
                <a:lnTo>
                  <a:pt x="667" y="96"/>
                </a:lnTo>
                <a:lnTo>
                  <a:pt x="667" y="91"/>
                </a:lnTo>
                <a:lnTo>
                  <a:pt x="667" y="85"/>
                </a:lnTo>
                <a:lnTo>
                  <a:pt x="665" y="81"/>
                </a:lnTo>
                <a:lnTo>
                  <a:pt x="663" y="77"/>
                </a:lnTo>
                <a:lnTo>
                  <a:pt x="663" y="75"/>
                </a:lnTo>
                <a:lnTo>
                  <a:pt x="661" y="71"/>
                </a:lnTo>
                <a:lnTo>
                  <a:pt x="659" y="70"/>
                </a:lnTo>
                <a:lnTo>
                  <a:pt x="657" y="68"/>
                </a:lnTo>
                <a:lnTo>
                  <a:pt x="653" y="66"/>
                </a:lnTo>
                <a:lnTo>
                  <a:pt x="649" y="62"/>
                </a:lnTo>
                <a:lnTo>
                  <a:pt x="645" y="60"/>
                </a:lnTo>
                <a:lnTo>
                  <a:pt x="644" y="56"/>
                </a:lnTo>
                <a:lnTo>
                  <a:pt x="640" y="48"/>
                </a:lnTo>
                <a:lnTo>
                  <a:pt x="638" y="41"/>
                </a:lnTo>
                <a:lnTo>
                  <a:pt x="638" y="33"/>
                </a:lnTo>
                <a:lnTo>
                  <a:pt x="640" y="25"/>
                </a:lnTo>
                <a:lnTo>
                  <a:pt x="642" y="20"/>
                </a:lnTo>
                <a:lnTo>
                  <a:pt x="645" y="14"/>
                </a:lnTo>
                <a:lnTo>
                  <a:pt x="649" y="10"/>
                </a:lnTo>
                <a:lnTo>
                  <a:pt x="655" y="6"/>
                </a:lnTo>
                <a:lnTo>
                  <a:pt x="663" y="4"/>
                </a:lnTo>
                <a:lnTo>
                  <a:pt x="670" y="2"/>
                </a:lnTo>
                <a:lnTo>
                  <a:pt x="680" y="0"/>
                </a:lnTo>
                <a:lnTo>
                  <a:pt x="690" y="0"/>
                </a:lnTo>
                <a:lnTo>
                  <a:pt x="701" y="0"/>
                </a:lnTo>
                <a:lnTo>
                  <a:pt x="715" y="0"/>
                </a:lnTo>
                <a:lnTo>
                  <a:pt x="728" y="0"/>
                </a:lnTo>
                <a:lnTo>
                  <a:pt x="741" y="2"/>
                </a:lnTo>
                <a:lnTo>
                  <a:pt x="757" y="6"/>
                </a:lnTo>
                <a:lnTo>
                  <a:pt x="764" y="8"/>
                </a:lnTo>
                <a:lnTo>
                  <a:pt x="772" y="12"/>
                </a:lnTo>
                <a:lnTo>
                  <a:pt x="782" y="16"/>
                </a:lnTo>
                <a:lnTo>
                  <a:pt x="789" y="20"/>
                </a:lnTo>
                <a:lnTo>
                  <a:pt x="797" y="23"/>
                </a:lnTo>
                <a:lnTo>
                  <a:pt x="807" y="29"/>
                </a:lnTo>
                <a:lnTo>
                  <a:pt x="814" y="35"/>
                </a:lnTo>
                <a:lnTo>
                  <a:pt x="822" y="41"/>
                </a:lnTo>
                <a:lnTo>
                  <a:pt x="832" y="46"/>
                </a:lnTo>
                <a:lnTo>
                  <a:pt x="839" y="54"/>
                </a:lnTo>
                <a:lnTo>
                  <a:pt x="845" y="62"/>
                </a:lnTo>
                <a:lnTo>
                  <a:pt x="851" y="70"/>
                </a:lnTo>
                <a:lnTo>
                  <a:pt x="857" y="77"/>
                </a:lnTo>
                <a:lnTo>
                  <a:pt x="860" y="85"/>
                </a:lnTo>
                <a:lnTo>
                  <a:pt x="866" y="93"/>
                </a:lnTo>
                <a:lnTo>
                  <a:pt x="868" y="100"/>
                </a:lnTo>
                <a:lnTo>
                  <a:pt x="872" y="110"/>
                </a:lnTo>
                <a:lnTo>
                  <a:pt x="874" y="118"/>
                </a:lnTo>
                <a:lnTo>
                  <a:pt x="876" y="125"/>
                </a:lnTo>
                <a:lnTo>
                  <a:pt x="878" y="135"/>
                </a:lnTo>
                <a:lnTo>
                  <a:pt x="878" y="142"/>
                </a:lnTo>
                <a:lnTo>
                  <a:pt x="878" y="152"/>
                </a:lnTo>
                <a:lnTo>
                  <a:pt x="878" y="162"/>
                </a:lnTo>
                <a:lnTo>
                  <a:pt x="878" y="171"/>
                </a:lnTo>
                <a:lnTo>
                  <a:pt x="876" y="181"/>
                </a:lnTo>
                <a:lnTo>
                  <a:pt x="874" y="190"/>
                </a:lnTo>
                <a:lnTo>
                  <a:pt x="870" y="204"/>
                </a:lnTo>
                <a:lnTo>
                  <a:pt x="864" y="219"/>
                </a:lnTo>
                <a:lnTo>
                  <a:pt x="858" y="235"/>
                </a:lnTo>
                <a:lnTo>
                  <a:pt x="851" y="254"/>
                </a:lnTo>
                <a:lnTo>
                  <a:pt x="843" y="273"/>
                </a:lnTo>
                <a:lnTo>
                  <a:pt x="834" y="294"/>
                </a:lnTo>
                <a:lnTo>
                  <a:pt x="826" y="317"/>
                </a:lnTo>
                <a:lnTo>
                  <a:pt x="814" y="342"/>
                </a:lnTo>
                <a:lnTo>
                  <a:pt x="805" y="369"/>
                </a:lnTo>
                <a:lnTo>
                  <a:pt x="793" y="396"/>
                </a:lnTo>
                <a:lnTo>
                  <a:pt x="782" y="427"/>
                </a:lnTo>
                <a:lnTo>
                  <a:pt x="768" y="457"/>
                </a:lnTo>
                <a:lnTo>
                  <a:pt x="757" y="490"/>
                </a:lnTo>
                <a:lnTo>
                  <a:pt x="743" y="524"/>
                </a:lnTo>
                <a:lnTo>
                  <a:pt x="728" y="559"/>
                </a:lnTo>
                <a:lnTo>
                  <a:pt x="715" y="597"/>
                </a:lnTo>
                <a:lnTo>
                  <a:pt x="697" y="638"/>
                </a:lnTo>
                <a:lnTo>
                  <a:pt x="680" y="678"/>
                </a:lnTo>
                <a:lnTo>
                  <a:pt x="663" y="716"/>
                </a:lnTo>
                <a:lnTo>
                  <a:pt x="645" y="755"/>
                </a:lnTo>
                <a:lnTo>
                  <a:pt x="628" y="793"/>
                </a:lnTo>
                <a:lnTo>
                  <a:pt x="611" y="830"/>
                </a:lnTo>
                <a:lnTo>
                  <a:pt x="594" y="864"/>
                </a:lnTo>
                <a:lnTo>
                  <a:pt x="574" y="901"/>
                </a:lnTo>
                <a:lnTo>
                  <a:pt x="557" y="935"/>
                </a:lnTo>
                <a:lnTo>
                  <a:pt x="538" y="968"/>
                </a:lnTo>
                <a:lnTo>
                  <a:pt x="521" y="1002"/>
                </a:lnTo>
                <a:lnTo>
                  <a:pt x="501" y="1033"/>
                </a:lnTo>
                <a:lnTo>
                  <a:pt x="484" y="1064"/>
                </a:lnTo>
                <a:lnTo>
                  <a:pt x="465" y="1095"/>
                </a:lnTo>
                <a:lnTo>
                  <a:pt x="446" y="1125"/>
                </a:lnTo>
                <a:lnTo>
                  <a:pt x="427" y="11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69"/>
          <p:cNvSpPr/>
          <p:nvPr/>
        </p:nvSpPr>
        <p:spPr>
          <a:xfrm>
            <a:off x="5892840" y="2703600"/>
            <a:ext cx="372960" cy="2278080"/>
          </a:xfrm>
          <a:custGeom>
            <a:avLst/>
            <a:gdLst/>
            <a:ahLst/>
            <a:rect l="l" t="t" r="r" b="b"/>
            <a:pathLst>
              <a:path w="470" h="2870">
                <a:moveTo>
                  <a:pt x="428" y="306"/>
                </a:moveTo>
                <a:lnTo>
                  <a:pt x="428" y="309"/>
                </a:lnTo>
                <a:lnTo>
                  <a:pt x="428" y="315"/>
                </a:lnTo>
                <a:lnTo>
                  <a:pt x="428" y="321"/>
                </a:lnTo>
                <a:lnTo>
                  <a:pt x="428" y="329"/>
                </a:lnTo>
                <a:lnTo>
                  <a:pt x="426" y="336"/>
                </a:lnTo>
                <a:lnTo>
                  <a:pt x="426" y="344"/>
                </a:lnTo>
                <a:lnTo>
                  <a:pt x="426" y="354"/>
                </a:lnTo>
                <a:lnTo>
                  <a:pt x="426" y="365"/>
                </a:lnTo>
                <a:lnTo>
                  <a:pt x="426" y="375"/>
                </a:lnTo>
                <a:lnTo>
                  <a:pt x="426" y="388"/>
                </a:lnTo>
                <a:lnTo>
                  <a:pt x="426" y="402"/>
                </a:lnTo>
                <a:lnTo>
                  <a:pt x="426" y="415"/>
                </a:lnTo>
                <a:lnTo>
                  <a:pt x="426" y="428"/>
                </a:lnTo>
                <a:lnTo>
                  <a:pt x="426" y="446"/>
                </a:lnTo>
                <a:lnTo>
                  <a:pt x="426" y="461"/>
                </a:lnTo>
                <a:lnTo>
                  <a:pt x="426" y="478"/>
                </a:lnTo>
                <a:lnTo>
                  <a:pt x="426" y="498"/>
                </a:lnTo>
                <a:lnTo>
                  <a:pt x="424" y="517"/>
                </a:lnTo>
                <a:lnTo>
                  <a:pt x="424" y="536"/>
                </a:lnTo>
                <a:lnTo>
                  <a:pt x="424" y="557"/>
                </a:lnTo>
                <a:lnTo>
                  <a:pt x="424" y="578"/>
                </a:lnTo>
                <a:lnTo>
                  <a:pt x="424" y="601"/>
                </a:lnTo>
                <a:lnTo>
                  <a:pt x="422" y="624"/>
                </a:lnTo>
                <a:lnTo>
                  <a:pt x="422" y="649"/>
                </a:lnTo>
                <a:lnTo>
                  <a:pt x="422" y="674"/>
                </a:lnTo>
                <a:lnTo>
                  <a:pt x="421" y="701"/>
                </a:lnTo>
                <a:lnTo>
                  <a:pt x="421" y="728"/>
                </a:lnTo>
                <a:lnTo>
                  <a:pt x="421" y="755"/>
                </a:lnTo>
                <a:lnTo>
                  <a:pt x="419" y="784"/>
                </a:lnTo>
                <a:lnTo>
                  <a:pt x="419" y="814"/>
                </a:lnTo>
                <a:lnTo>
                  <a:pt x="417" y="845"/>
                </a:lnTo>
                <a:lnTo>
                  <a:pt x="417" y="876"/>
                </a:lnTo>
                <a:lnTo>
                  <a:pt x="415" y="939"/>
                </a:lnTo>
                <a:lnTo>
                  <a:pt x="413" y="1004"/>
                </a:lnTo>
                <a:lnTo>
                  <a:pt x="411" y="1072"/>
                </a:lnTo>
                <a:lnTo>
                  <a:pt x="409" y="1137"/>
                </a:lnTo>
                <a:lnTo>
                  <a:pt x="409" y="1206"/>
                </a:lnTo>
                <a:lnTo>
                  <a:pt x="407" y="1275"/>
                </a:lnTo>
                <a:lnTo>
                  <a:pt x="407" y="1344"/>
                </a:lnTo>
                <a:lnTo>
                  <a:pt x="405" y="1415"/>
                </a:lnTo>
                <a:lnTo>
                  <a:pt x="405" y="1486"/>
                </a:lnTo>
                <a:lnTo>
                  <a:pt x="405" y="1559"/>
                </a:lnTo>
                <a:lnTo>
                  <a:pt x="405" y="1632"/>
                </a:lnTo>
                <a:lnTo>
                  <a:pt x="405" y="1707"/>
                </a:lnTo>
                <a:lnTo>
                  <a:pt x="405" y="1784"/>
                </a:lnTo>
                <a:lnTo>
                  <a:pt x="405" y="1858"/>
                </a:lnTo>
                <a:lnTo>
                  <a:pt x="405" y="1937"/>
                </a:lnTo>
                <a:lnTo>
                  <a:pt x="405" y="2016"/>
                </a:lnTo>
                <a:lnTo>
                  <a:pt x="403" y="2054"/>
                </a:lnTo>
                <a:lnTo>
                  <a:pt x="403" y="2093"/>
                </a:lnTo>
                <a:lnTo>
                  <a:pt x="403" y="2129"/>
                </a:lnTo>
                <a:lnTo>
                  <a:pt x="403" y="2166"/>
                </a:lnTo>
                <a:lnTo>
                  <a:pt x="403" y="2200"/>
                </a:lnTo>
                <a:lnTo>
                  <a:pt x="401" y="2235"/>
                </a:lnTo>
                <a:lnTo>
                  <a:pt x="401" y="2267"/>
                </a:lnTo>
                <a:lnTo>
                  <a:pt x="399" y="2300"/>
                </a:lnTo>
                <a:lnTo>
                  <a:pt x="399" y="2331"/>
                </a:lnTo>
                <a:lnTo>
                  <a:pt x="397" y="2361"/>
                </a:lnTo>
                <a:lnTo>
                  <a:pt x="396" y="2390"/>
                </a:lnTo>
                <a:lnTo>
                  <a:pt x="394" y="2417"/>
                </a:lnTo>
                <a:lnTo>
                  <a:pt x="394" y="2446"/>
                </a:lnTo>
                <a:lnTo>
                  <a:pt x="392" y="2471"/>
                </a:lnTo>
                <a:lnTo>
                  <a:pt x="390" y="2496"/>
                </a:lnTo>
                <a:lnTo>
                  <a:pt x="386" y="2521"/>
                </a:lnTo>
                <a:lnTo>
                  <a:pt x="384" y="2544"/>
                </a:lnTo>
                <a:lnTo>
                  <a:pt x="382" y="2565"/>
                </a:lnTo>
                <a:lnTo>
                  <a:pt x="380" y="2586"/>
                </a:lnTo>
                <a:lnTo>
                  <a:pt x="376" y="2605"/>
                </a:lnTo>
                <a:lnTo>
                  <a:pt x="374" y="2624"/>
                </a:lnTo>
                <a:lnTo>
                  <a:pt x="371" y="2642"/>
                </a:lnTo>
                <a:lnTo>
                  <a:pt x="369" y="2659"/>
                </a:lnTo>
                <a:lnTo>
                  <a:pt x="365" y="2674"/>
                </a:lnTo>
                <a:lnTo>
                  <a:pt x="363" y="2690"/>
                </a:lnTo>
                <a:lnTo>
                  <a:pt x="359" y="2703"/>
                </a:lnTo>
                <a:lnTo>
                  <a:pt x="355" y="2715"/>
                </a:lnTo>
                <a:lnTo>
                  <a:pt x="351" y="2726"/>
                </a:lnTo>
                <a:lnTo>
                  <a:pt x="348" y="2738"/>
                </a:lnTo>
                <a:lnTo>
                  <a:pt x="344" y="2745"/>
                </a:lnTo>
                <a:lnTo>
                  <a:pt x="340" y="2755"/>
                </a:lnTo>
                <a:lnTo>
                  <a:pt x="336" y="2761"/>
                </a:lnTo>
                <a:lnTo>
                  <a:pt x="326" y="2774"/>
                </a:lnTo>
                <a:lnTo>
                  <a:pt x="319" y="2786"/>
                </a:lnTo>
                <a:lnTo>
                  <a:pt x="311" y="2797"/>
                </a:lnTo>
                <a:lnTo>
                  <a:pt x="303" y="2807"/>
                </a:lnTo>
                <a:lnTo>
                  <a:pt x="296" y="2816"/>
                </a:lnTo>
                <a:lnTo>
                  <a:pt x="290" y="2826"/>
                </a:lnTo>
                <a:lnTo>
                  <a:pt x="282" y="2834"/>
                </a:lnTo>
                <a:lnTo>
                  <a:pt x="277" y="2841"/>
                </a:lnTo>
                <a:lnTo>
                  <a:pt x="269" y="2847"/>
                </a:lnTo>
                <a:lnTo>
                  <a:pt x="263" y="2853"/>
                </a:lnTo>
                <a:lnTo>
                  <a:pt x="257" y="2859"/>
                </a:lnTo>
                <a:lnTo>
                  <a:pt x="252" y="2862"/>
                </a:lnTo>
                <a:lnTo>
                  <a:pt x="246" y="2866"/>
                </a:lnTo>
                <a:lnTo>
                  <a:pt x="242" y="2868"/>
                </a:lnTo>
                <a:lnTo>
                  <a:pt x="236" y="2870"/>
                </a:lnTo>
                <a:lnTo>
                  <a:pt x="232" y="2870"/>
                </a:lnTo>
                <a:lnTo>
                  <a:pt x="227" y="2870"/>
                </a:lnTo>
                <a:lnTo>
                  <a:pt x="221" y="2868"/>
                </a:lnTo>
                <a:lnTo>
                  <a:pt x="215" y="2866"/>
                </a:lnTo>
                <a:lnTo>
                  <a:pt x="211" y="2864"/>
                </a:lnTo>
                <a:lnTo>
                  <a:pt x="206" y="2860"/>
                </a:lnTo>
                <a:lnTo>
                  <a:pt x="204" y="2857"/>
                </a:lnTo>
                <a:lnTo>
                  <a:pt x="200" y="2853"/>
                </a:lnTo>
                <a:lnTo>
                  <a:pt x="196" y="2847"/>
                </a:lnTo>
                <a:lnTo>
                  <a:pt x="194" y="2841"/>
                </a:lnTo>
                <a:lnTo>
                  <a:pt x="192" y="2834"/>
                </a:lnTo>
                <a:lnTo>
                  <a:pt x="190" y="2826"/>
                </a:lnTo>
                <a:lnTo>
                  <a:pt x="188" y="2818"/>
                </a:lnTo>
                <a:lnTo>
                  <a:pt x="188" y="2809"/>
                </a:lnTo>
                <a:lnTo>
                  <a:pt x="186" y="2799"/>
                </a:lnTo>
                <a:lnTo>
                  <a:pt x="186" y="2788"/>
                </a:lnTo>
                <a:lnTo>
                  <a:pt x="186" y="2774"/>
                </a:lnTo>
                <a:lnTo>
                  <a:pt x="186" y="2759"/>
                </a:lnTo>
                <a:lnTo>
                  <a:pt x="184" y="2745"/>
                </a:lnTo>
                <a:lnTo>
                  <a:pt x="183" y="2730"/>
                </a:lnTo>
                <a:lnTo>
                  <a:pt x="181" y="2716"/>
                </a:lnTo>
                <a:lnTo>
                  <a:pt x="177" y="2701"/>
                </a:lnTo>
                <a:lnTo>
                  <a:pt x="171" y="2688"/>
                </a:lnTo>
                <a:lnTo>
                  <a:pt x="167" y="2674"/>
                </a:lnTo>
                <a:lnTo>
                  <a:pt x="159" y="2659"/>
                </a:lnTo>
                <a:lnTo>
                  <a:pt x="154" y="2645"/>
                </a:lnTo>
                <a:lnTo>
                  <a:pt x="146" y="2632"/>
                </a:lnTo>
                <a:lnTo>
                  <a:pt x="136" y="2619"/>
                </a:lnTo>
                <a:lnTo>
                  <a:pt x="129" y="2603"/>
                </a:lnTo>
                <a:lnTo>
                  <a:pt x="117" y="2590"/>
                </a:lnTo>
                <a:lnTo>
                  <a:pt x="108" y="2574"/>
                </a:lnTo>
                <a:lnTo>
                  <a:pt x="96" y="2559"/>
                </a:lnTo>
                <a:lnTo>
                  <a:pt x="83" y="2544"/>
                </a:lnTo>
                <a:lnTo>
                  <a:pt x="71" y="2532"/>
                </a:lnTo>
                <a:lnTo>
                  <a:pt x="60" y="2521"/>
                </a:lnTo>
                <a:lnTo>
                  <a:pt x="50" y="2509"/>
                </a:lnTo>
                <a:lnTo>
                  <a:pt x="40" y="2498"/>
                </a:lnTo>
                <a:lnTo>
                  <a:pt x="33" y="2488"/>
                </a:lnTo>
                <a:lnTo>
                  <a:pt x="25" y="2478"/>
                </a:lnTo>
                <a:lnTo>
                  <a:pt x="19" y="2471"/>
                </a:lnTo>
                <a:lnTo>
                  <a:pt x="14" y="2463"/>
                </a:lnTo>
                <a:lnTo>
                  <a:pt x="10" y="2455"/>
                </a:lnTo>
                <a:lnTo>
                  <a:pt x="6" y="2448"/>
                </a:lnTo>
                <a:lnTo>
                  <a:pt x="4" y="2442"/>
                </a:lnTo>
                <a:lnTo>
                  <a:pt x="2" y="2438"/>
                </a:lnTo>
                <a:lnTo>
                  <a:pt x="0" y="2432"/>
                </a:lnTo>
                <a:lnTo>
                  <a:pt x="0" y="2429"/>
                </a:lnTo>
                <a:lnTo>
                  <a:pt x="2" y="2425"/>
                </a:lnTo>
                <a:lnTo>
                  <a:pt x="4" y="2423"/>
                </a:lnTo>
                <a:lnTo>
                  <a:pt x="6" y="2419"/>
                </a:lnTo>
                <a:lnTo>
                  <a:pt x="10" y="2419"/>
                </a:lnTo>
                <a:lnTo>
                  <a:pt x="14" y="2417"/>
                </a:lnTo>
                <a:lnTo>
                  <a:pt x="17" y="2417"/>
                </a:lnTo>
                <a:lnTo>
                  <a:pt x="23" y="2417"/>
                </a:lnTo>
                <a:lnTo>
                  <a:pt x="29" y="2417"/>
                </a:lnTo>
                <a:lnTo>
                  <a:pt x="37" y="2417"/>
                </a:lnTo>
                <a:lnTo>
                  <a:pt x="42" y="2419"/>
                </a:lnTo>
                <a:lnTo>
                  <a:pt x="52" y="2421"/>
                </a:lnTo>
                <a:lnTo>
                  <a:pt x="60" y="2421"/>
                </a:lnTo>
                <a:lnTo>
                  <a:pt x="77" y="2425"/>
                </a:lnTo>
                <a:lnTo>
                  <a:pt x="96" y="2430"/>
                </a:lnTo>
                <a:lnTo>
                  <a:pt x="117" y="2436"/>
                </a:lnTo>
                <a:lnTo>
                  <a:pt x="129" y="2440"/>
                </a:lnTo>
                <a:lnTo>
                  <a:pt x="138" y="2444"/>
                </a:lnTo>
                <a:lnTo>
                  <a:pt x="148" y="2448"/>
                </a:lnTo>
                <a:lnTo>
                  <a:pt x="158" y="2452"/>
                </a:lnTo>
                <a:lnTo>
                  <a:pt x="165" y="2454"/>
                </a:lnTo>
                <a:lnTo>
                  <a:pt x="173" y="2455"/>
                </a:lnTo>
                <a:lnTo>
                  <a:pt x="181" y="2455"/>
                </a:lnTo>
                <a:lnTo>
                  <a:pt x="188" y="2455"/>
                </a:lnTo>
                <a:lnTo>
                  <a:pt x="194" y="2455"/>
                </a:lnTo>
                <a:lnTo>
                  <a:pt x="202" y="2455"/>
                </a:lnTo>
                <a:lnTo>
                  <a:pt x="207" y="2454"/>
                </a:lnTo>
                <a:lnTo>
                  <a:pt x="213" y="2452"/>
                </a:lnTo>
                <a:lnTo>
                  <a:pt x="219" y="2448"/>
                </a:lnTo>
                <a:lnTo>
                  <a:pt x="223" y="2444"/>
                </a:lnTo>
                <a:lnTo>
                  <a:pt x="229" y="2440"/>
                </a:lnTo>
                <a:lnTo>
                  <a:pt x="232" y="2436"/>
                </a:lnTo>
                <a:lnTo>
                  <a:pt x="234" y="2429"/>
                </a:lnTo>
                <a:lnTo>
                  <a:pt x="238" y="2421"/>
                </a:lnTo>
                <a:lnTo>
                  <a:pt x="240" y="2411"/>
                </a:lnTo>
                <a:lnTo>
                  <a:pt x="242" y="2400"/>
                </a:lnTo>
                <a:lnTo>
                  <a:pt x="246" y="2386"/>
                </a:lnTo>
                <a:lnTo>
                  <a:pt x="250" y="2371"/>
                </a:lnTo>
                <a:lnTo>
                  <a:pt x="252" y="2354"/>
                </a:lnTo>
                <a:lnTo>
                  <a:pt x="255" y="2336"/>
                </a:lnTo>
                <a:lnTo>
                  <a:pt x="259" y="2315"/>
                </a:lnTo>
                <a:lnTo>
                  <a:pt x="261" y="2292"/>
                </a:lnTo>
                <a:lnTo>
                  <a:pt x="265" y="2269"/>
                </a:lnTo>
                <a:lnTo>
                  <a:pt x="269" y="2242"/>
                </a:lnTo>
                <a:lnTo>
                  <a:pt x="271" y="2216"/>
                </a:lnTo>
                <a:lnTo>
                  <a:pt x="275" y="2187"/>
                </a:lnTo>
                <a:lnTo>
                  <a:pt x="277" y="2156"/>
                </a:lnTo>
                <a:lnTo>
                  <a:pt x="278" y="2123"/>
                </a:lnTo>
                <a:lnTo>
                  <a:pt x="280" y="2106"/>
                </a:lnTo>
                <a:lnTo>
                  <a:pt x="280" y="2089"/>
                </a:lnTo>
                <a:lnTo>
                  <a:pt x="280" y="2070"/>
                </a:lnTo>
                <a:lnTo>
                  <a:pt x="282" y="2049"/>
                </a:lnTo>
                <a:lnTo>
                  <a:pt x="282" y="2027"/>
                </a:lnTo>
                <a:lnTo>
                  <a:pt x="284" y="2004"/>
                </a:lnTo>
                <a:lnTo>
                  <a:pt x="284" y="1979"/>
                </a:lnTo>
                <a:lnTo>
                  <a:pt x="284" y="1954"/>
                </a:lnTo>
                <a:lnTo>
                  <a:pt x="286" y="1930"/>
                </a:lnTo>
                <a:lnTo>
                  <a:pt x="286" y="1903"/>
                </a:lnTo>
                <a:lnTo>
                  <a:pt x="286" y="1874"/>
                </a:lnTo>
                <a:lnTo>
                  <a:pt x="286" y="1843"/>
                </a:lnTo>
                <a:lnTo>
                  <a:pt x="288" y="1812"/>
                </a:lnTo>
                <a:lnTo>
                  <a:pt x="288" y="1782"/>
                </a:lnTo>
                <a:lnTo>
                  <a:pt x="288" y="1747"/>
                </a:lnTo>
                <a:lnTo>
                  <a:pt x="288" y="1713"/>
                </a:lnTo>
                <a:lnTo>
                  <a:pt x="288" y="1678"/>
                </a:lnTo>
                <a:lnTo>
                  <a:pt x="288" y="1642"/>
                </a:lnTo>
                <a:lnTo>
                  <a:pt x="290" y="1603"/>
                </a:lnTo>
                <a:lnTo>
                  <a:pt x="290" y="1563"/>
                </a:lnTo>
                <a:lnTo>
                  <a:pt x="290" y="1523"/>
                </a:lnTo>
                <a:lnTo>
                  <a:pt x="290" y="1482"/>
                </a:lnTo>
                <a:lnTo>
                  <a:pt x="290" y="1438"/>
                </a:lnTo>
                <a:lnTo>
                  <a:pt x="290" y="1396"/>
                </a:lnTo>
                <a:lnTo>
                  <a:pt x="290" y="1350"/>
                </a:lnTo>
                <a:lnTo>
                  <a:pt x="290" y="1304"/>
                </a:lnTo>
                <a:lnTo>
                  <a:pt x="290" y="1256"/>
                </a:lnTo>
                <a:lnTo>
                  <a:pt x="290" y="1206"/>
                </a:lnTo>
                <a:lnTo>
                  <a:pt x="290" y="1156"/>
                </a:lnTo>
                <a:lnTo>
                  <a:pt x="290" y="1104"/>
                </a:lnTo>
                <a:lnTo>
                  <a:pt x="290" y="1052"/>
                </a:lnTo>
                <a:lnTo>
                  <a:pt x="290" y="999"/>
                </a:lnTo>
                <a:lnTo>
                  <a:pt x="290" y="945"/>
                </a:lnTo>
                <a:lnTo>
                  <a:pt x="290" y="895"/>
                </a:lnTo>
                <a:lnTo>
                  <a:pt x="290" y="845"/>
                </a:lnTo>
                <a:lnTo>
                  <a:pt x="288" y="797"/>
                </a:lnTo>
                <a:lnTo>
                  <a:pt x="288" y="751"/>
                </a:lnTo>
                <a:lnTo>
                  <a:pt x="288" y="707"/>
                </a:lnTo>
                <a:lnTo>
                  <a:pt x="286" y="663"/>
                </a:lnTo>
                <a:lnTo>
                  <a:pt x="286" y="620"/>
                </a:lnTo>
                <a:lnTo>
                  <a:pt x="284" y="582"/>
                </a:lnTo>
                <a:lnTo>
                  <a:pt x="284" y="544"/>
                </a:lnTo>
                <a:lnTo>
                  <a:pt x="282" y="507"/>
                </a:lnTo>
                <a:lnTo>
                  <a:pt x="280" y="471"/>
                </a:lnTo>
                <a:lnTo>
                  <a:pt x="278" y="438"/>
                </a:lnTo>
                <a:lnTo>
                  <a:pt x="278" y="405"/>
                </a:lnTo>
                <a:lnTo>
                  <a:pt x="277" y="375"/>
                </a:lnTo>
                <a:lnTo>
                  <a:pt x="275" y="346"/>
                </a:lnTo>
                <a:lnTo>
                  <a:pt x="273" y="319"/>
                </a:lnTo>
                <a:lnTo>
                  <a:pt x="271" y="294"/>
                </a:lnTo>
                <a:lnTo>
                  <a:pt x="267" y="269"/>
                </a:lnTo>
                <a:lnTo>
                  <a:pt x="265" y="248"/>
                </a:lnTo>
                <a:lnTo>
                  <a:pt x="263" y="227"/>
                </a:lnTo>
                <a:lnTo>
                  <a:pt x="261" y="208"/>
                </a:lnTo>
                <a:lnTo>
                  <a:pt x="259" y="190"/>
                </a:lnTo>
                <a:lnTo>
                  <a:pt x="255" y="173"/>
                </a:lnTo>
                <a:lnTo>
                  <a:pt x="254" y="160"/>
                </a:lnTo>
                <a:lnTo>
                  <a:pt x="250" y="146"/>
                </a:lnTo>
                <a:lnTo>
                  <a:pt x="248" y="135"/>
                </a:lnTo>
                <a:lnTo>
                  <a:pt x="244" y="125"/>
                </a:lnTo>
                <a:lnTo>
                  <a:pt x="242" y="118"/>
                </a:lnTo>
                <a:lnTo>
                  <a:pt x="238" y="112"/>
                </a:lnTo>
                <a:lnTo>
                  <a:pt x="236" y="106"/>
                </a:lnTo>
                <a:lnTo>
                  <a:pt x="232" y="102"/>
                </a:lnTo>
                <a:lnTo>
                  <a:pt x="225" y="98"/>
                </a:lnTo>
                <a:lnTo>
                  <a:pt x="217" y="93"/>
                </a:lnTo>
                <a:lnTo>
                  <a:pt x="209" y="87"/>
                </a:lnTo>
                <a:lnTo>
                  <a:pt x="204" y="83"/>
                </a:lnTo>
                <a:lnTo>
                  <a:pt x="200" y="77"/>
                </a:lnTo>
                <a:lnTo>
                  <a:pt x="194" y="71"/>
                </a:lnTo>
                <a:lnTo>
                  <a:pt x="192" y="68"/>
                </a:lnTo>
                <a:lnTo>
                  <a:pt x="188" y="62"/>
                </a:lnTo>
                <a:lnTo>
                  <a:pt x="186" y="56"/>
                </a:lnTo>
                <a:lnTo>
                  <a:pt x="184" y="52"/>
                </a:lnTo>
                <a:lnTo>
                  <a:pt x="183" y="47"/>
                </a:lnTo>
                <a:lnTo>
                  <a:pt x="183" y="41"/>
                </a:lnTo>
                <a:lnTo>
                  <a:pt x="183" y="37"/>
                </a:lnTo>
                <a:lnTo>
                  <a:pt x="183" y="31"/>
                </a:lnTo>
                <a:lnTo>
                  <a:pt x="184" y="25"/>
                </a:lnTo>
                <a:lnTo>
                  <a:pt x="186" y="22"/>
                </a:lnTo>
                <a:lnTo>
                  <a:pt x="188" y="16"/>
                </a:lnTo>
                <a:lnTo>
                  <a:pt x="192" y="12"/>
                </a:lnTo>
                <a:lnTo>
                  <a:pt x="196" y="8"/>
                </a:lnTo>
                <a:lnTo>
                  <a:pt x="202" y="6"/>
                </a:lnTo>
                <a:lnTo>
                  <a:pt x="207" y="4"/>
                </a:lnTo>
                <a:lnTo>
                  <a:pt x="213" y="2"/>
                </a:lnTo>
                <a:lnTo>
                  <a:pt x="221" y="0"/>
                </a:lnTo>
                <a:lnTo>
                  <a:pt x="229" y="0"/>
                </a:lnTo>
                <a:lnTo>
                  <a:pt x="238" y="0"/>
                </a:lnTo>
                <a:lnTo>
                  <a:pt x="248" y="2"/>
                </a:lnTo>
                <a:lnTo>
                  <a:pt x="259" y="2"/>
                </a:lnTo>
                <a:lnTo>
                  <a:pt x="271" y="6"/>
                </a:lnTo>
                <a:lnTo>
                  <a:pt x="282" y="8"/>
                </a:lnTo>
                <a:lnTo>
                  <a:pt x="296" y="12"/>
                </a:lnTo>
                <a:lnTo>
                  <a:pt x="309" y="16"/>
                </a:lnTo>
                <a:lnTo>
                  <a:pt x="325" y="22"/>
                </a:lnTo>
                <a:lnTo>
                  <a:pt x="338" y="25"/>
                </a:lnTo>
                <a:lnTo>
                  <a:pt x="353" y="31"/>
                </a:lnTo>
                <a:lnTo>
                  <a:pt x="365" y="37"/>
                </a:lnTo>
                <a:lnTo>
                  <a:pt x="378" y="41"/>
                </a:lnTo>
                <a:lnTo>
                  <a:pt x="390" y="47"/>
                </a:lnTo>
                <a:lnTo>
                  <a:pt x="399" y="52"/>
                </a:lnTo>
                <a:lnTo>
                  <a:pt x="409" y="56"/>
                </a:lnTo>
                <a:lnTo>
                  <a:pt x="419" y="62"/>
                </a:lnTo>
                <a:lnTo>
                  <a:pt x="426" y="68"/>
                </a:lnTo>
                <a:lnTo>
                  <a:pt x="434" y="71"/>
                </a:lnTo>
                <a:lnTo>
                  <a:pt x="442" y="77"/>
                </a:lnTo>
                <a:lnTo>
                  <a:pt x="447" y="83"/>
                </a:lnTo>
                <a:lnTo>
                  <a:pt x="451" y="87"/>
                </a:lnTo>
                <a:lnTo>
                  <a:pt x="455" y="93"/>
                </a:lnTo>
                <a:lnTo>
                  <a:pt x="459" y="98"/>
                </a:lnTo>
                <a:lnTo>
                  <a:pt x="463" y="102"/>
                </a:lnTo>
                <a:lnTo>
                  <a:pt x="465" y="114"/>
                </a:lnTo>
                <a:lnTo>
                  <a:pt x="469" y="123"/>
                </a:lnTo>
                <a:lnTo>
                  <a:pt x="470" y="133"/>
                </a:lnTo>
                <a:lnTo>
                  <a:pt x="470" y="142"/>
                </a:lnTo>
                <a:lnTo>
                  <a:pt x="470" y="154"/>
                </a:lnTo>
                <a:lnTo>
                  <a:pt x="469" y="164"/>
                </a:lnTo>
                <a:lnTo>
                  <a:pt x="465" y="173"/>
                </a:lnTo>
                <a:lnTo>
                  <a:pt x="463" y="185"/>
                </a:lnTo>
                <a:lnTo>
                  <a:pt x="457" y="194"/>
                </a:lnTo>
                <a:lnTo>
                  <a:pt x="453" y="206"/>
                </a:lnTo>
                <a:lnTo>
                  <a:pt x="449" y="219"/>
                </a:lnTo>
                <a:lnTo>
                  <a:pt x="445" y="235"/>
                </a:lnTo>
                <a:lnTo>
                  <a:pt x="440" y="250"/>
                </a:lnTo>
                <a:lnTo>
                  <a:pt x="436" y="267"/>
                </a:lnTo>
                <a:lnTo>
                  <a:pt x="432" y="286"/>
                </a:lnTo>
                <a:lnTo>
                  <a:pt x="428" y="3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70"/>
          <p:cNvSpPr/>
          <p:nvPr/>
        </p:nvSpPr>
        <p:spPr>
          <a:xfrm>
            <a:off x="5546880" y="3751200"/>
            <a:ext cx="831600" cy="682560"/>
          </a:xfrm>
          <a:custGeom>
            <a:avLst/>
            <a:gdLst/>
            <a:ahLst/>
            <a:rect l="l" t="t" r="r" b="b"/>
            <a:pathLst>
              <a:path w="1048" h="860">
                <a:moveTo>
                  <a:pt x="210" y="856"/>
                </a:moveTo>
                <a:lnTo>
                  <a:pt x="204" y="858"/>
                </a:lnTo>
                <a:lnTo>
                  <a:pt x="196" y="860"/>
                </a:lnTo>
                <a:lnTo>
                  <a:pt x="190" y="860"/>
                </a:lnTo>
                <a:lnTo>
                  <a:pt x="183" y="860"/>
                </a:lnTo>
                <a:lnTo>
                  <a:pt x="177" y="858"/>
                </a:lnTo>
                <a:lnTo>
                  <a:pt x="169" y="856"/>
                </a:lnTo>
                <a:lnTo>
                  <a:pt x="164" y="852"/>
                </a:lnTo>
                <a:lnTo>
                  <a:pt x="156" y="848"/>
                </a:lnTo>
                <a:lnTo>
                  <a:pt x="148" y="845"/>
                </a:lnTo>
                <a:lnTo>
                  <a:pt x="141" y="839"/>
                </a:lnTo>
                <a:lnTo>
                  <a:pt x="131" y="831"/>
                </a:lnTo>
                <a:lnTo>
                  <a:pt x="123" y="825"/>
                </a:lnTo>
                <a:lnTo>
                  <a:pt x="114" y="816"/>
                </a:lnTo>
                <a:lnTo>
                  <a:pt x="104" y="808"/>
                </a:lnTo>
                <a:lnTo>
                  <a:pt x="94" y="799"/>
                </a:lnTo>
                <a:lnTo>
                  <a:pt x="85" y="789"/>
                </a:lnTo>
                <a:lnTo>
                  <a:pt x="73" y="781"/>
                </a:lnTo>
                <a:lnTo>
                  <a:pt x="64" y="774"/>
                </a:lnTo>
                <a:lnTo>
                  <a:pt x="54" y="766"/>
                </a:lnTo>
                <a:lnTo>
                  <a:pt x="47" y="758"/>
                </a:lnTo>
                <a:lnTo>
                  <a:pt x="37" y="751"/>
                </a:lnTo>
                <a:lnTo>
                  <a:pt x="31" y="743"/>
                </a:lnTo>
                <a:lnTo>
                  <a:pt x="23" y="735"/>
                </a:lnTo>
                <a:lnTo>
                  <a:pt x="18" y="728"/>
                </a:lnTo>
                <a:lnTo>
                  <a:pt x="14" y="720"/>
                </a:lnTo>
                <a:lnTo>
                  <a:pt x="8" y="712"/>
                </a:lnTo>
                <a:lnTo>
                  <a:pt x="6" y="704"/>
                </a:lnTo>
                <a:lnTo>
                  <a:pt x="2" y="697"/>
                </a:lnTo>
                <a:lnTo>
                  <a:pt x="2" y="689"/>
                </a:lnTo>
                <a:lnTo>
                  <a:pt x="0" y="681"/>
                </a:lnTo>
                <a:lnTo>
                  <a:pt x="2" y="674"/>
                </a:lnTo>
                <a:lnTo>
                  <a:pt x="4" y="668"/>
                </a:lnTo>
                <a:lnTo>
                  <a:pt x="4" y="660"/>
                </a:lnTo>
                <a:lnTo>
                  <a:pt x="4" y="653"/>
                </a:lnTo>
                <a:lnTo>
                  <a:pt x="6" y="647"/>
                </a:lnTo>
                <a:lnTo>
                  <a:pt x="8" y="641"/>
                </a:lnTo>
                <a:lnTo>
                  <a:pt x="10" y="637"/>
                </a:lnTo>
                <a:lnTo>
                  <a:pt x="12" y="632"/>
                </a:lnTo>
                <a:lnTo>
                  <a:pt x="16" y="628"/>
                </a:lnTo>
                <a:lnTo>
                  <a:pt x="20" y="624"/>
                </a:lnTo>
                <a:lnTo>
                  <a:pt x="27" y="620"/>
                </a:lnTo>
                <a:lnTo>
                  <a:pt x="37" y="616"/>
                </a:lnTo>
                <a:lnTo>
                  <a:pt x="48" y="614"/>
                </a:lnTo>
                <a:lnTo>
                  <a:pt x="62" y="612"/>
                </a:lnTo>
                <a:lnTo>
                  <a:pt x="87" y="612"/>
                </a:lnTo>
                <a:lnTo>
                  <a:pt x="98" y="612"/>
                </a:lnTo>
                <a:lnTo>
                  <a:pt x="112" y="610"/>
                </a:lnTo>
                <a:lnTo>
                  <a:pt x="123" y="610"/>
                </a:lnTo>
                <a:lnTo>
                  <a:pt x="133" y="607"/>
                </a:lnTo>
                <a:lnTo>
                  <a:pt x="144" y="603"/>
                </a:lnTo>
                <a:lnTo>
                  <a:pt x="152" y="599"/>
                </a:lnTo>
                <a:lnTo>
                  <a:pt x="154" y="597"/>
                </a:lnTo>
                <a:lnTo>
                  <a:pt x="156" y="595"/>
                </a:lnTo>
                <a:lnTo>
                  <a:pt x="158" y="593"/>
                </a:lnTo>
                <a:lnTo>
                  <a:pt x="162" y="591"/>
                </a:lnTo>
                <a:lnTo>
                  <a:pt x="164" y="589"/>
                </a:lnTo>
                <a:lnTo>
                  <a:pt x="169" y="585"/>
                </a:lnTo>
                <a:lnTo>
                  <a:pt x="173" y="582"/>
                </a:lnTo>
                <a:lnTo>
                  <a:pt x="179" y="580"/>
                </a:lnTo>
                <a:lnTo>
                  <a:pt x="183" y="576"/>
                </a:lnTo>
                <a:lnTo>
                  <a:pt x="190" y="570"/>
                </a:lnTo>
                <a:lnTo>
                  <a:pt x="196" y="566"/>
                </a:lnTo>
                <a:lnTo>
                  <a:pt x="204" y="561"/>
                </a:lnTo>
                <a:lnTo>
                  <a:pt x="210" y="557"/>
                </a:lnTo>
                <a:lnTo>
                  <a:pt x="219" y="551"/>
                </a:lnTo>
                <a:lnTo>
                  <a:pt x="237" y="539"/>
                </a:lnTo>
                <a:lnTo>
                  <a:pt x="256" y="526"/>
                </a:lnTo>
                <a:lnTo>
                  <a:pt x="277" y="511"/>
                </a:lnTo>
                <a:lnTo>
                  <a:pt x="300" y="495"/>
                </a:lnTo>
                <a:lnTo>
                  <a:pt x="323" y="478"/>
                </a:lnTo>
                <a:lnTo>
                  <a:pt x="350" y="459"/>
                </a:lnTo>
                <a:lnTo>
                  <a:pt x="379" y="440"/>
                </a:lnTo>
                <a:lnTo>
                  <a:pt x="407" y="418"/>
                </a:lnTo>
                <a:lnTo>
                  <a:pt x="440" y="395"/>
                </a:lnTo>
                <a:lnTo>
                  <a:pt x="471" y="372"/>
                </a:lnTo>
                <a:lnTo>
                  <a:pt x="501" y="351"/>
                </a:lnTo>
                <a:lnTo>
                  <a:pt x="532" y="328"/>
                </a:lnTo>
                <a:lnTo>
                  <a:pt x="561" y="309"/>
                </a:lnTo>
                <a:lnTo>
                  <a:pt x="590" y="288"/>
                </a:lnTo>
                <a:lnTo>
                  <a:pt x="619" y="269"/>
                </a:lnTo>
                <a:lnTo>
                  <a:pt x="645" y="250"/>
                </a:lnTo>
                <a:lnTo>
                  <a:pt x="672" y="230"/>
                </a:lnTo>
                <a:lnTo>
                  <a:pt x="699" y="213"/>
                </a:lnTo>
                <a:lnTo>
                  <a:pt x="724" y="196"/>
                </a:lnTo>
                <a:lnTo>
                  <a:pt x="749" y="179"/>
                </a:lnTo>
                <a:lnTo>
                  <a:pt x="774" y="161"/>
                </a:lnTo>
                <a:lnTo>
                  <a:pt x="797" y="144"/>
                </a:lnTo>
                <a:lnTo>
                  <a:pt x="820" y="129"/>
                </a:lnTo>
                <a:lnTo>
                  <a:pt x="841" y="113"/>
                </a:lnTo>
                <a:lnTo>
                  <a:pt x="864" y="98"/>
                </a:lnTo>
                <a:lnTo>
                  <a:pt x="881" y="84"/>
                </a:lnTo>
                <a:lnTo>
                  <a:pt x="901" y="73"/>
                </a:lnTo>
                <a:lnTo>
                  <a:pt x="918" y="61"/>
                </a:lnTo>
                <a:lnTo>
                  <a:pt x="933" y="52"/>
                </a:lnTo>
                <a:lnTo>
                  <a:pt x="949" y="42"/>
                </a:lnTo>
                <a:lnTo>
                  <a:pt x="964" y="33"/>
                </a:lnTo>
                <a:lnTo>
                  <a:pt x="977" y="25"/>
                </a:lnTo>
                <a:lnTo>
                  <a:pt x="989" y="19"/>
                </a:lnTo>
                <a:lnTo>
                  <a:pt x="1000" y="13"/>
                </a:lnTo>
                <a:lnTo>
                  <a:pt x="1010" y="8"/>
                </a:lnTo>
                <a:lnTo>
                  <a:pt x="1020" y="4"/>
                </a:lnTo>
                <a:lnTo>
                  <a:pt x="1027" y="2"/>
                </a:lnTo>
                <a:lnTo>
                  <a:pt x="1035" y="0"/>
                </a:lnTo>
                <a:lnTo>
                  <a:pt x="1039" y="0"/>
                </a:lnTo>
                <a:lnTo>
                  <a:pt x="1045" y="0"/>
                </a:lnTo>
                <a:lnTo>
                  <a:pt x="1047" y="2"/>
                </a:lnTo>
                <a:lnTo>
                  <a:pt x="1048" y="6"/>
                </a:lnTo>
                <a:lnTo>
                  <a:pt x="1048" y="10"/>
                </a:lnTo>
                <a:lnTo>
                  <a:pt x="1047" y="15"/>
                </a:lnTo>
                <a:lnTo>
                  <a:pt x="1043" y="23"/>
                </a:lnTo>
                <a:lnTo>
                  <a:pt x="1037" y="31"/>
                </a:lnTo>
                <a:lnTo>
                  <a:pt x="1031" y="38"/>
                </a:lnTo>
                <a:lnTo>
                  <a:pt x="1024" y="48"/>
                </a:lnTo>
                <a:lnTo>
                  <a:pt x="1014" y="60"/>
                </a:lnTo>
                <a:lnTo>
                  <a:pt x="1004" y="71"/>
                </a:lnTo>
                <a:lnTo>
                  <a:pt x="993" y="84"/>
                </a:lnTo>
                <a:lnTo>
                  <a:pt x="979" y="98"/>
                </a:lnTo>
                <a:lnTo>
                  <a:pt x="966" y="113"/>
                </a:lnTo>
                <a:lnTo>
                  <a:pt x="951" y="129"/>
                </a:lnTo>
                <a:lnTo>
                  <a:pt x="933" y="144"/>
                </a:lnTo>
                <a:lnTo>
                  <a:pt x="916" y="161"/>
                </a:lnTo>
                <a:lnTo>
                  <a:pt x="899" y="179"/>
                </a:lnTo>
                <a:lnTo>
                  <a:pt x="876" y="198"/>
                </a:lnTo>
                <a:lnTo>
                  <a:pt x="855" y="217"/>
                </a:lnTo>
                <a:lnTo>
                  <a:pt x="832" y="236"/>
                </a:lnTo>
                <a:lnTo>
                  <a:pt x="809" y="257"/>
                </a:lnTo>
                <a:lnTo>
                  <a:pt x="784" y="280"/>
                </a:lnTo>
                <a:lnTo>
                  <a:pt x="761" y="303"/>
                </a:lnTo>
                <a:lnTo>
                  <a:pt x="736" y="326"/>
                </a:lnTo>
                <a:lnTo>
                  <a:pt x="711" y="351"/>
                </a:lnTo>
                <a:lnTo>
                  <a:pt x="684" y="376"/>
                </a:lnTo>
                <a:lnTo>
                  <a:pt x="659" y="403"/>
                </a:lnTo>
                <a:lnTo>
                  <a:pt x="632" y="432"/>
                </a:lnTo>
                <a:lnTo>
                  <a:pt x="605" y="461"/>
                </a:lnTo>
                <a:lnTo>
                  <a:pt x="578" y="489"/>
                </a:lnTo>
                <a:lnTo>
                  <a:pt x="551" y="520"/>
                </a:lnTo>
                <a:lnTo>
                  <a:pt x="524" y="553"/>
                </a:lnTo>
                <a:lnTo>
                  <a:pt x="498" y="585"/>
                </a:lnTo>
                <a:lnTo>
                  <a:pt x="482" y="603"/>
                </a:lnTo>
                <a:lnTo>
                  <a:pt x="469" y="618"/>
                </a:lnTo>
                <a:lnTo>
                  <a:pt x="457" y="633"/>
                </a:lnTo>
                <a:lnTo>
                  <a:pt x="444" y="647"/>
                </a:lnTo>
                <a:lnTo>
                  <a:pt x="430" y="662"/>
                </a:lnTo>
                <a:lnTo>
                  <a:pt x="419" y="676"/>
                </a:lnTo>
                <a:lnTo>
                  <a:pt x="405" y="689"/>
                </a:lnTo>
                <a:lnTo>
                  <a:pt x="394" y="701"/>
                </a:lnTo>
                <a:lnTo>
                  <a:pt x="382" y="712"/>
                </a:lnTo>
                <a:lnTo>
                  <a:pt x="371" y="724"/>
                </a:lnTo>
                <a:lnTo>
                  <a:pt x="361" y="735"/>
                </a:lnTo>
                <a:lnTo>
                  <a:pt x="350" y="747"/>
                </a:lnTo>
                <a:lnTo>
                  <a:pt x="340" y="756"/>
                </a:lnTo>
                <a:lnTo>
                  <a:pt x="331" y="766"/>
                </a:lnTo>
                <a:lnTo>
                  <a:pt x="321" y="774"/>
                </a:lnTo>
                <a:lnTo>
                  <a:pt x="311" y="783"/>
                </a:lnTo>
                <a:lnTo>
                  <a:pt x="302" y="791"/>
                </a:lnTo>
                <a:lnTo>
                  <a:pt x="294" y="799"/>
                </a:lnTo>
                <a:lnTo>
                  <a:pt x="277" y="812"/>
                </a:lnTo>
                <a:lnTo>
                  <a:pt x="261" y="823"/>
                </a:lnTo>
                <a:lnTo>
                  <a:pt x="248" y="833"/>
                </a:lnTo>
                <a:lnTo>
                  <a:pt x="237" y="843"/>
                </a:lnTo>
                <a:lnTo>
                  <a:pt x="225" y="848"/>
                </a:lnTo>
                <a:lnTo>
                  <a:pt x="217" y="854"/>
                </a:lnTo>
                <a:lnTo>
                  <a:pt x="210" y="8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71"/>
          <p:cNvSpPr/>
          <p:nvPr/>
        </p:nvSpPr>
        <p:spPr>
          <a:xfrm>
            <a:off x="5684760" y="3376440"/>
            <a:ext cx="749520" cy="270000"/>
          </a:xfrm>
          <a:custGeom>
            <a:avLst/>
            <a:gdLst/>
            <a:ahLst/>
            <a:rect l="l" t="t" r="r" b="b"/>
            <a:pathLst>
              <a:path w="944" h="340">
                <a:moveTo>
                  <a:pt x="941" y="54"/>
                </a:moveTo>
                <a:lnTo>
                  <a:pt x="943" y="56"/>
                </a:lnTo>
                <a:lnTo>
                  <a:pt x="944" y="59"/>
                </a:lnTo>
                <a:lnTo>
                  <a:pt x="944" y="61"/>
                </a:lnTo>
                <a:lnTo>
                  <a:pt x="944" y="63"/>
                </a:lnTo>
                <a:lnTo>
                  <a:pt x="944" y="69"/>
                </a:lnTo>
                <a:lnTo>
                  <a:pt x="943" y="75"/>
                </a:lnTo>
                <a:lnTo>
                  <a:pt x="939" y="79"/>
                </a:lnTo>
                <a:lnTo>
                  <a:pt x="933" y="84"/>
                </a:lnTo>
                <a:lnTo>
                  <a:pt x="925" y="90"/>
                </a:lnTo>
                <a:lnTo>
                  <a:pt x="918" y="94"/>
                </a:lnTo>
                <a:lnTo>
                  <a:pt x="916" y="96"/>
                </a:lnTo>
                <a:lnTo>
                  <a:pt x="912" y="98"/>
                </a:lnTo>
                <a:lnTo>
                  <a:pt x="908" y="100"/>
                </a:lnTo>
                <a:lnTo>
                  <a:pt x="904" y="102"/>
                </a:lnTo>
                <a:lnTo>
                  <a:pt x="900" y="103"/>
                </a:lnTo>
                <a:lnTo>
                  <a:pt x="895" y="105"/>
                </a:lnTo>
                <a:lnTo>
                  <a:pt x="889" y="109"/>
                </a:lnTo>
                <a:lnTo>
                  <a:pt x="881" y="111"/>
                </a:lnTo>
                <a:lnTo>
                  <a:pt x="873" y="115"/>
                </a:lnTo>
                <a:lnTo>
                  <a:pt x="866" y="119"/>
                </a:lnTo>
                <a:lnTo>
                  <a:pt x="858" y="121"/>
                </a:lnTo>
                <a:lnTo>
                  <a:pt x="849" y="125"/>
                </a:lnTo>
                <a:lnTo>
                  <a:pt x="839" y="128"/>
                </a:lnTo>
                <a:lnTo>
                  <a:pt x="829" y="132"/>
                </a:lnTo>
                <a:lnTo>
                  <a:pt x="818" y="138"/>
                </a:lnTo>
                <a:lnTo>
                  <a:pt x="806" y="142"/>
                </a:lnTo>
                <a:lnTo>
                  <a:pt x="795" y="146"/>
                </a:lnTo>
                <a:lnTo>
                  <a:pt x="781" y="151"/>
                </a:lnTo>
                <a:lnTo>
                  <a:pt x="768" y="155"/>
                </a:lnTo>
                <a:lnTo>
                  <a:pt x="754" y="161"/>
                </a:lnTo>
                <a:lnTo>
                  <a:pt x="739" y="165"/>
                </a:lnTo>
                <a:lnTo>
                  <a:pt x="724" y="171"/>
                </a:lnTo>
                <a:lnTo>
                  <a:pt x="708" y="176"/>
                </a:lnTo>
                <a:lnTo>
                  <a:pt x="691" y="182"/>
                </a:lnTo>
                <a:lnTo>
                  <a:pt x="676" y="188"/>
                </a:lnTo>
                <a:lnTo>
                  <a:pt x="657" y="194"/>
                </a:lnTo>
                <a:lnTo>
                  <a:pt x="639" y="199"/>
                </a:lnTo>
                <a:lnTo>
                  <a:pt x="620" y="205"/>
                </a:lnTo>
                <a:lnTo>
                  <a:pt x="601" y="211"/>
                </a:lnTo>
                <a:lnTo>
                  <a:pt x="582" y="217"/>
                </a:lnTo>
                <a:lnTo>
                  <a:pt x="561" y="224"/>
                </a:lnTo>
                <a:lnTo>
                  <a:pt x="539" y="230"/>
                </a:lnTo>
                <a:lnTo>
                  <a:pt x="516" y="236"/>
                </a:lnTo>
                <a:lnTo>
                  <a:pt x="495" y="244"/>
                </a:lnTo>
                <a:lnTo>
                  <a:pt x="474" y="249"/>
                </a:lnTo>
                <a:lnTo>
                  <a:pt x="455" y="255"/>
                </a:lnTo>
                <a:lnTo>
                  <a:pt x="436" y="261"/>
                </a:lnTo>
                <a:lnTo>
                  <a:pt x="417" y="267"/>
                </a:lnTo>
                <a:lnTo>
                  <a:pt x="397" y="270"/>
                </a:lnTo>
                <a:lnTo>
                  <a:pt x="380" y="276"/>
                </a:lnTo>
                <a:lnTo>
                  <a:pt x="363" y="282"/>
                </a:lnTo>
                <a:lnTo>
                  <a:pt x="348" y="286"/>
                </a:lnTo>
                <a:lnTo>
                  <a:pt x="330" y="290"/>
                </a:lnTo>
                <a:lnTo>
                  <a:pt x="317" y="295"/>
                </a:lnTo>
                <a:lnTo>
                  <a:pt x="301" y="299"/>
                </a:lnTo>
                <a:lnTo>
                  <a:pt x="288" y="303"/>
                </a:lnTo>
                <a:lnTo>
                  <a:pt x="275" y="307"/>
                </a:lnTo>
                <a:lnTo>
                  <a:pt x="261" y="311"/>
                </a:lnTo>
                <a:lnTo>
                  <a:pt x="250" y="315"/>
                </a:lnTo>
                <a:lnTo>
                  <a:pt x="238" y="317"/>
                </a:lnTo>
                <a:lnTo>
                  <a:pt x="227" y="320"/>
                </a:lnTo>
                <a:lnTo>
                  <a:pt x="217" y="322"/>
                </a:lnTo>
                <a:lnTo>
                  <a:pt x="207" y="324"/>
                </a:lnTo>
                <a:lnTo>
                  <a:pt x="198" y="328"/>
                </a:lnTo>
                <a:lnTo>
                  <a:pt x="190" y="330"/>
                </a:lnTo>
                <a:lnTo>
                  <a:pt x="181" y="332"/>
                </a:lnTo>
                <a:lnTo>
                  <a:pt x="175" y="334"/>
                </a:lnTo>
                <a:lnTo>
                  <a:pt x="167" y="334"/>
                </a:lnTo>
                <a:lnTo>
                  <a:pt x="161" y="336"/>
                </a:lnTo>
                <a:lnTo>
                  <a:pt x="156" y="338"/>
                </a:lnTo>
                <a:lnTo>
                  <a:pt x="150" y="338"/>
                </a:lnTo>
                <a:lnTo>
                  <a:pt x="146" y="338"/>
                </a:lnTo>
                <a:lnTo>
                  <a:pt x="142" y="338"/>
                </a:lnTo>
                <a:lnTo>
                  <a:pt x="138" y="340"/>
                </a:lnTo>
                <a:lnTo>
                  <a:pt x="125" y="338"/>
                </a:lnTo>
                <a:lnTo>
                  <a:pt x="110" y="336"/>
                </a:lnTo>
                <a:lnTo>
                  <a:pt x="94" y="332"/>
                </a:lnTo>
                <a:lnTo>
                  <a:pt x="86" y="330"/>
                </a:lnTo>
                <a:lnTo>
                  <a:pt x="77" y="326"/>
                </a:lnTo>
                <a:lnTo>
                  <a:pt x="69" y="324"/>
                </a:lnTo>
                <a:lnTo>
                  <a:pt x="60" y="320"/>
                </a:lnTo>
                <a:lnTo>
                  <a:pt x="50" y="315"/>
                </a:lnTo>
                <a:lnTo>
                  <a:pt x="40" y="311"/>
                </a:lnTo>
                <a:lnTo>
                  <a:pt x="31" y="305"/>
                </a:lnTo>
                <a:lnTo>
                  <a:pt x="21" y="299"/>
                </a:lnTo>
                <a:lnTo>
                  <a:pt x="12" y="292"/>
                </a:lnTo>
                <a:lnTo>
                  <a:pt x="0" y="284"/>
                </a:lnTo>
                <a:lnTo>
                  <a:pt x="2" y="282"/>
                </a:lnTo>
                <a:lnTo>
                  <a:pt x="4" y="280"/>
                </a:lnTo>
                <a:lnTo>
                  <a:pt x="6" y="278"/>
                </a:lnTo>
                <a:lnTo>
                  <a:pt x="10" y="274"/>
                </a:lnTo>
                <a:lnTo>
                  <a:pt x="14" y="272"/>
                </a:lnTo>
                <a:lnTo>
                  <a:pt x="17" y="270"/>
                </a:lnTo>
                <a:lnTo>
                  <a:pt x="23" y="267"/>
                </a:lnTo>
                <a:lnTo>
                  <a:pt x="29" y="263"/>
                </a:lnTo>
                <a:lnTo>
                  <a:pt x="35" y="261"/>
                </a:lnTo>
                <a:lnTo>
                  <a:pt x="42" y="257"/>
                </a:lnTo>
                <a:lnTo>
                  <a:pt x="50" y="253"/>
                </a:lnTo>
                <a:lnTo>
                  <a:pt x="58" y="247"/>
                </a:lnTo>
                <a:lnTo>
                  <a:pt x="67" y="244"/>
                </a:lnTo>
                <a:lnTo>
                  <a:pt x="77" y="240"/>
                </a:lnTo>
                <a:lnTo>
                  <a:pt x="88" y="234"/>
                </a:lnTo>
                <a:lnTo>
                  <a:pt x="100" y="228"/>
                </a:lnTo>
                <a:lnTo>
                  <a:pt x="111" y="224"/>
                </a:lnTo>
                <a:lnTo>
                  <a:pt x="125" y="219"/>
                </a:lnTo>
                <a:lnTo>
                  <a:pt x="138" y="213"/>
                </a:lnTo>
                <a:lnTo>
                  <a:pt x="152" y="205"/>
                </a:lnTo>
                <a:lnTo>
                  <a:pt x="167" y="199"/>
                </a:lnTo>
                <a:lnTo>
                  <a:pt x="182" y="194"/>
                </a:lnTo>
                <a:lnTo>
                  <a:pt x="200" y="186"/>
                </a:lnTo>
                <a:lnTo>
                  <a:pt x="217" y="178"/>
                </a:lnTo>
                <a:lnTo>
                  <a:pt x="234" y="171"/>
                </a:lnTo>
                <a:lnTo>
                  <a:pt x="252" y="163"/>
                </a:lnTo>
                <a:lnTo>
                  <a:pt x="271" y="155"/>
                </a:lnTo>
                <a:lnTo>
                  <a:pt x="292" y="148"/>
                </a:lnTo>
                <a:lnTo>
                  <a:pt x="313" y="140"/>
                </a:lnTo>
                <a:lnTo>
                  <a:pt x="334" y="130"/>
                </a:lnTo>
                <a:lnTo>
                  <a:pt x="355" y="123"/>
                </a:lnTo>
                <a:lnTo>
                  <a:pt x="376" y="115"/>
                </a:lnTo>
                <a:lnTo>
                  <a:pt x="397" y="107"/>
                </a:lnTo>
                <a:lnTo>
                  <a:pt x="419" y="100"/>
                </a:lnTo>
                <a:lnTo>
                  <a:pt x="438" y="92"/>
                </a:lnTo>
                <a:lnTo>
                  <a:pt x="457" y="86"/>
                </a:lnTo>
                <a:lnTo>
                  <a:pt x="474" y="80"/>
                </a:lnTo>
                <a:lnTo>
                  <a:pt x="493" y="73"/>
                </a:lnTo>
                <a:lnTo>
                  <a:pt x="511" y="67"/>
                </a:lnTo>
                <a:lnTo>
                  <a:pt x="528" y="61"/>
                </a:lnTo>
                <a:lnTo>
                  <a:pt x="543" y="57"/>
                </a:lnTo>
                <a:lnTo>
                  <a:pt x="561" y="52"/>
                </a:lnTo>
                <a:lnTo>
                  <a:pt x="576" y="46"/>
                </a:lnTo>
                <a:lnTo>
                  <a:pt x="591" y="42"/>
                </a:lnTo>
                <a:lnTo>
                  <a:pt x="605" y="38"/>
                </a:lnTo>
                <a:lnTo>
                  <a:pt x="618" y="32"/>
                </a:lnTo>
                <a:lnTo>
                  <a:pt x="632" y="29"/>
                </a:lnTo>
                <a:lnTo>
                  <a:pt x="645" y="27"/>
                </a:lnTo>
                <a:lnTo>
                  <a:pt x="658" y="23"/>
                </a:lnTo>
                <a:lnTo>
                  <a:pt x="670" y="19"/>
                </a:lnTo>
                <a:lnTo>
                  <a:pt x="682" y="17"/>
                </a:lnTo>
                <a:lnTo>
                  <a:pt x="691" y="13"/>
                </a:lnTo>
                <a:lnTo>
                  <a:pt x="703" y="11"/>
                </a:lnTo>
                <a:lnTo>
                  <a:pt x="712" y="9"/>
                </a:lnTo>
                <a:lnTo>
                  <a:pt x="722" y="8"/>
                </a:lnTo>
                <a:lnTo>
                  <a:pt x="731" y="6"/>
                </a:lnTo>
                <a:lnTo>
                  <a:pt x="739" y="4"/>
                </a:lnTo>
                <a:lnTo>
                  <a:pt x="747" y="2"/>
                </a:lnTo>
                <a:lnTo>
                  <a:pt x="754" y="2"/>
                </a:lnTo>
                <a:lnTo>
                  <a:pt x="762" y="0"/>
                </a:lnTo>
                <a:lnTo>
                  <a:pt x="768" y="0"/>
                </a:lnTo>
                <a:lnTo>
                  <a:pt x="779" y="0"/>
                </a:lnTo>
                <a:lnTo>
                  <a:pt x="791" y="0"/>
                </a:lnTo>
                <a:lnTo>
                  <a:pt x="801" y="0"/>
                </a:lnTo>
                <a:lnTo>
                  <a:pt x="820" y="0"/>
                </a:lnTo>
                <a:lnTo>
                  <a:pt x="837" y="0"/>
                </a:lnTo>
                <a:lnTo>
                  <a:pt x="852" y="2"/>
                </a:lnTo>
                <a:lnTo>
                  <a:pt x="866" y="2"/>
                </a:lnTo>
                <a:lnTo>
                  <a:pt x="879" y="6"/>
                </a:lnTo>
                <a:lnTo>
                  <a:pt x="893" y="8"/>
                </a:lnTo>
                <a:lnTo>
                  <a:pt x="906" y="13"/>
                </a:lnTo>
                <a:lnTo>
                  <a:pt x="914" y="17"/>
                </a:lnTo>
                <a:lnTo>
                  <a:pt x="921" y="23"/>
                </a:lnTo>
                <a:lnTo>
                  <a:pt x="927" y="29"/>
                </a:lnTo>
                <a:lnTo>
                  <a:pt x="933" y="32"/>
                </a:lnTo>
                <a:lnTo>
                  <a:pt x="935" y="38"/>
                </a:lnTo>
                <a:lnTo>
                  <a:pt x="939" y="44"/>
                </a:lnTo>
                <a:lnTo>
                  <a:pt x="941" y="48"/>
                </a:lnTo>
                <a:lnTo>
                  <a:pt x="941" y="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9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22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包”的撇要短，竖弯钩的弯要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矩形 3"/>
          <p:cNvSpPr/>
          <p:nvPr/>
        </p:nvSpPr>
        <p:spPr>
          <a:xfrm>
            <a:off x="2030400" y="2009880"/>
            <a:ext cx="13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á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73"/>
          <p:cNvSpPr/>
          <p:nvPr/>
        </p:nvSpPr>
        <p:spPr>
          <a:xfrm>
            <a:off x="6357960" y="3768840"/>
            <a:ext cx="1506600" cy="1238040"/>
          </a:xfrm>
          <a:custGeom>
            <a:avLst/>
            <a:gdLst/>
            <a:ahLst/>
            <a:rect l="l" t="t" r="r" b="b"/>
            <a:pathLst>
              <a:path w="1896" h="1559">
                <a:moveTo>
                  <a:pt x="1699" y="1407"/>
                </a:moveTo>
                <a:lnTo>
                  <a:pt x="1666" y="1421"/>
                </a:lnTo>
                <a:lnTo>
                  <a:pt x="1631" y="1434"/>
                </a:lnTo>
                <a:lnTo>
                  <a:pt x="1597" y="1450"/>
                </a:lnTo>
                <a:lnTo>
                  <a:pt x="1560" y="1463"/>
                </a:lnTo>
                <a:lnTo>
                  <a:pt x="1522" y="1475"/>
                </a:lnTo>
                <a:lnTo>
                  <a:pt x="1503" y="1482"/>
                </a:lnTo>
                <a:lnTo>
                  <a:pt x="1482" y="1488"/>
                </a:lnTo>
                <a:lnTo>
                  <a:pt x="1461" y="1494"/>
                </a:lnTo>
                <a:lnTo>
                  <a:pt x="1439" y="1498"/>
                </a:lnTo>
                <a:lnTo>
                  <a:pt x="1418" y="1503"/>
                </a:lnTo>
                <a:lnTo>
                  <a:pt x="1395" y="1509"/>
                </a:lnTo>
                <a:lnTo>
                  <a:pt x="1345" y="1519"/>
                </a:lnTo>
                <a:lnTo>
                  <a:pt x="1296" y="1526"/>
                </a:lnTo>
                <a:lnTo>
                  <a:pt x="1246" y="1532"/>
                </a:lnTo>
                <a:lnTo>
                  <a:pt x="1196" y="1540"/>
                </a:lnTo>
                <a:lnTo>
                  <a:pt x="1146" y="1544"/>
                </a:lnTo>
                <a:lnTo>
                  <a:pt x="1096" y="1549"/>
                </a:lnTo>
                <a:lnTo>
                  <a:pt x="996" y="1559"/>
                </a:lnTo>
                <a:lnTo>
                  <a:pt x="946" y="1559"/>
                </a:lnTo>
                <a:lnTo>
                  <a:pt x="896" y="1557"/>
                </a:lnTo>
                <a:lnTo>
                  <a:pt x="848" y="1555"/>
                </a:lnTo>
                <a:lnTo>
                  <a:pt x="798" y="1551"/>
                </a:lnTo>
                <a:lnTo>
                  <a:pt x="750" y="1548"/>
                </a:lnTo>
                <a:lnTo>
                  <a:pt x="702" y="1544"/>
                </a:lnTo>
                <a:lnTo>
                  <a:pt x="656" y="1540"/>
                </a:lnTo>
                <a:lnTo>
                  <a:pt x="610" y="1534"/>
                </a:lnTo>
                <a:lnTo>
                  <a:pt x="585" y="1528"/>
                </a:lnTo>
                <a:lnTo>
                  <a:pt x="562" y="1524"/>
                </a:lnTo>
                <a:lnTo>
                  <a:pt x="539" y="1519"/>
                </a:lnTo>
                <a:lnTo>
                  <a:pt x="516" y="1513"/>
                </a:lnTo>
                <a:lnTo>
                  <a:pt x="495" y="1507"/>
                </a:lnTo>
                <a:lnTo>
                  <a:pt x="474" y="1500"/>
                </a:lnTo>
                <a:lnTo>
                  <a:pt x="455" y="1494"/>
                </a:lnTo>
                <a:lnTo>
                  <a:pt x="434" y="1486"/>
                </a:lnTo>
                <a:lnTo>
                  <a:pt x="414" y="1478"/>
                </a:lnTo>
                <a:lnTo>
                  <a:pt x="397" y="1471"/>
                </a:lnTo>
                <a:lnTo>
                  <a:pt x="378" y="1463"/>
                </a:lnTo>
                <a:lnTo>
                  <a:pt x="361" y="1455"/>
                </a:lnTo>
                <a:lnTo>
                  <a:pt x="328" y="1438"/>
                </a:lnTo>
                <a:lnTo>
                  <a:pt x="295" y="1419"/>
                </a:lnTo>
                <a:lnTo>
                  <a:pt x="265" y="1396"/>
                </a:lnTo>
                <a:lnTo>
                  <a:pt x="234" y="1371"/>
                </a:lnTo>
                <a:lnTo>
                  <a:pt x="221" y="1359"/>
                </a:lnTo>
                <a:lnTo>
                  <a:pt x="207" y="1346"/>
                </a:lnTo>
                <a:lnTo>
                  <a:pt x="194" y="1334"/>
                </a:lnTo>
                <a:lnTo>
                  <a:pt x="180" y="1321"/>
                </a:lnTo>
                <a:lnTo>
                  <a:pt x="169" y="1308"/>
                </a:lnTo>
                <a:lnTo>
                  <a:pt x="157" y="1294"/>
                </a:lnTo>
                <a:lnTo>
                  <a:pt x="146" y="1281"/>
                </a:lnTo>
                <a:lnTo>
                  <a:pt x="136" y="1265"/>
                </a:lnTo>
                <a:lnTo>
                  <a:pt x="127" y="1250"/>
                </a:lnTo>
                <a:lnTo>
                  <a:pt x="117" y="1235"/>
                </a:lnTo>
                <a:lnTo>
                  <a:pt x="109" y="1219"/>
                </a:lnTo>
                <a:lnTo>
                  <a:pt x="102" y="1204"/>
                </a:lnTo>
                <a:lnTo>
                  <a:pt x="98" y="1196"/>
                </a:lnTo>
                <a:lnTo>
                  <a:pt x="94" y="1187"/>
                </a:lnTo>
                <a:lnTo>
                  <a:pt x="88" y="1179"/>
                </a:lnTo>
                <a:lnTo>
                  <a:pt x="84" y="1169"/>
                </a:lnTo>
                <a:lnTo>
                  <a:pt x="81" y="1160"/>
                </a:lnTo>
                <a:lnTo>
                  <a:pt x="77" y="1148"/>
                </a:lnTo>
                <a:lnTo>
                  <a:pt x="73" y="1139"/>
                </a:lnTo>
                <a:lnTo>
                  <a:pt x="71" y="1127"/>
                </a:lnTo>
                <a:lnTo>
                  <a:pt x="67" y="1114"/>
                </a:lnTo>
                <a:lnTo>
                  <a:pt x="63" y="1102"/>
                </a:lnTo>
                <a:lnTo>
                  <a:pt x="61" y="1089"/>
                </a:lnTo>
                <a:lnTo>
                  <a:pt x="57" y="1073"/>
                </a:lnTo>
                <a:lnTo>
                  <a:pt x="56" y="1060"/>
                </a:lnTo>
                <a:lnTo>
                  <a:pt x="52" y="1045"/>
                </a:lnTo>
                <a:lnTo>
                  <a:pt x="50" y="1029"/>
                </a:lnTo>
                <a:lnTo>
                  <a:pt x="48" y="1012"/>
                </a:lnTo>
                <a:lnTo>
                  <a:pt x="46" y="995"/>
                </a:lnTo>
                <a:lnTo>
                  <a:pt x="44" y="977"/>
                </a:lnTo>
                <a:lnTo>
                  <a:pt x="42" y="960"/>
                </a:lnTo>
                <a:lnTo>
                  <a:pt x="40" y="941"/>
                </a:lnTo>
                <a:lnTo>
                  <a:pt x="38" y="922"/>
                </a:lnTo>
                <a:lnTo>
                  <a:pt x="36" y="901"/>
                </a:lnTo>
                <a:lnTo>
                  <a:pt x="34" y="881"/>
                </a:lnTo>
                <a:lnTo>
                  <a:pt x="34" y="860"/>
                </a:lnTo>
                <a:lnTo>
                  <a:pt x="33" y="837"/>
                </a:lnTo>
                <a:lnTo>
                  <a:pt x="33" y="816"/>
                </a:lnTo>
                <a:lnTo>
                  <a:pt x="31" y="793"/>
                </a:lnTo>
                <a:lnTo>
                  <a:pt x="31" y="768"/>
                </a:lnTo>
                <a:lnTo>
                  <a:pt x="31" y="745"/>
                </a:lnTo>
                <a:lnTo>
                  <a:pt x="29" y="720"/>
                </a:lnTo>
                <a:lnTo>
                  <a:pt x="29" y="695"/>
                </a:lnTo>
                <a:lnTo>
                  <a:pt x="29" y="668"/>
                </a:lnTo>
                <a:lnTo>
                  <a:pt x="29" y="643"/>
                </a:lnTo>
                <a:lnTo>
                  <a:pt x="29" y="617"/>
                </a:lnTo>
                <a:lnTo>
                  <a:pt x="29" y="592"/>
                </a:lnTo>
                <a:lnTo>
                  <a:pt x="29" y="569"/>
                </a:lnTo>
                <a:lnTo>
                  <a:pt x="29" y="546"/>
                </a:lnTo>
                <a:lnTo>
                  <a:pt x="29" y="523"/>
                </a:lnTo>
                <a:lnTo>
                  <a:pt x="29" y="499"/>
                </a:lnTo>
                <a:lnTo>
                  <a:pt x="29" y="478"/>
                </a:lnTo>
                <a:lnTo>
                  <a:pt x="29" y="457"/>
                </a:lnTo>
                <a:lnTo>
                  <a:pt x="29" y="436"/>
                </a:lnTo>
                <a:lnTo>
                  <a:pt x="29" y="417"/>
                </a:lnTo>
                <a:lnTo>
                  <a:pt x="29" y="398"/>
                </a:lnTo>
                <a:lnTo>
                  <a:pt x="29" y="379"/>
                </a:lnTo>
                <a:lnTo>
                  <a:pt x="29" y="361"/>
                </a:lnTo>
                <a:lnTo>
                  <a:pt x="29" y="344"/>
                </a:lnTo>
                <a:lnTo>
                  <a:pt x="27" y="327"/>
                </a:lnTo>
                <a:lnTo>
                  <a:pt x="27" y="309"/>
                </a:lnTo>
                <a:lnTo>
                  <a:pt x="27" y="294"/>
                </a:lnTo>
                <a:lnTo>
                  <a:pt x="27" y="281"/>
                </a:lnTo>
                <a:lnTo>
                  <a:pt x="27" y="265"/>
                </a:lnTo>
                <a:lnTo>
                  <a:pt x="27" y="252"/>
                </a:lnTo>
                <a:lnTo>
                  <a:pt x="25" y="240"/>
                </a:lnTo>
                <a:lnTo>
                  <a:pt x="25" y="227"/>
                </a:lnTo>
                <a:lnTo>
                  <a:pt x="25" y="215"/>
                </a:lnTo>
                <a:lnTo>
                  <a:pt x="23" y="204"/>
                </a:lnTo>
                <a:lnTo>
                  <a:pt x="23" y="194"/>
                </a:lnTo>
                <a:lnTo>
                  <a:pt x="23" y="185"/>
                </a:lnTo>
                <a:lnTo>
                  <a:pt x="21" y="175"/>
                </a:lnTo>
                <a:lnTo>
                  <a:pt x="21" y="167"/>
                </a:lnTo>
                <a:lnTo>
                  <a:pt x="19" y="160"/>
                </a:lnTo>
                <a:lnTo>
                  <a:pt x="19" y="154"/>
                </a:lnTo>
                <a:lnTo>
                  <a:pt x="17" y="146"/>
                </a:lnTo>
                <a:lnTo>
                  <a:pt x="15" y="135"/>
                </a:lnTo>
                <a:lnTo>
                  <a:pt x="13" y="123"/>
                </a:lnTo>
                <a:lnTo>
                  <a:pt x="11" y="114"/>
                </a:lnTo>
                <a:lnTo>
                  <a:pt x="10" y="104"/>
                </a:lnTo>
                <a:lnTo>
                  <a:pt x="8" y="94"/>
                </a:lnTo>
                <a:lnTo>
                  <a:pt x="6" y="85"/>
                </a:lnTo>
                <a:lnTo>
                  <a:pt x="4" y="77"/>
                </a:lnTo>
                <a:lnTo>
                  <a:pt x="2" y="70"/>
                </a:lnTo>
                <a:lnTo>
                  <a:pt x="0" y="54"/>
                </a:lnTo>
                <a:lnTo>
                  <a:pt x="0" y="41"/>
                </a:lnTo>
                <a:lnTo>
                  <a:pt x="0" y="35"/>
                </a:lnTo>
                <a:lnTo>
                  <a:pt x="2" y="29"/>
                </a:lnTo>
                <a:lnTo>
                  <a:pt x="4" y="23"/>
                </a:lnTo>
                <a:lnTo>
                  <a:pt x="6" y="20"/>
                </a:lnTo>
                <a:lnTo>
                  <a:pt x="6" y="18"/>
                </a:lnTo>
                <a:lnTo>
                  <a:pt x="6" y="14"/>
                </a:lnTo>
                <a:lnTo>
                  <a:pt x="8" y="12"/>
                </a:lnTo>
                <a:lnTo>
                  <a:pt x="10" y="10"/>
                </a:lnTo>
                <a:lnTo>
                  <a:pt x="13" y="8"/>
                </a:lnTo>
                <a:lnTo>
                  <a:pt x="15" y="6"/>
                </a:lnTo>
                <a:lnTo>
                  <a:pt x="19" y="4"/>
                </a:lnTo>
                <a:lnTo>
                  <a:pt x="25" y="4"/>
                </a:lnTo>
                <a:lnTo>
                  <a:pt x="31" y="2"/>
                </a:lnTo>
                <a:lnTo>
                  <a:pt x="36" y="2"/>
                </a:lnTo>
                <a:lnTo>
                  <a:pt x="44" y="0"/>
                </a:lnTo>
                <a:lnTo>
                  <a:pt x="52" y="2"/>
                </a:lnTo>
                <a:lnTo>
                  <a:pt x="59" y="2"/>
                </a:lnTo>
                <a:lnTo>
                  <a:pt x="69" y="2"/>
                </a:lnTo>
                <a:lnTo>
                  <a:pt x="79" y="4"/>
                </a:lnTo>
                <a:lnTo>
                  <a:pt x="90" y="6"/>
                </a:lnTo>
                <a:lnTo>
                  <a:pt x="98" y="10"/>
                </a:lnTo>
                <a:lnTo>
                  <a:pt x="107" y="12"/>
                </a:lnTo>
                <a:lnTo>
                  <a:pt x="115" y="14"/>
                </a:lnTo>
                <a:lnTo>
                  <a:pt x="121" y="16"/>
                </a:lnTo>
                <a:lnTo>
                  <a:pt x="129" y="20"/>
                </a:lnTo>
                <a:lnTo>
                  <a:pt x="134" y="22"/>
                </a:lnTo>
                <a:lnTo>
                  <a:pt x="140" y="23"/>
                </a:lnTo>
                <a:lnTo>
                  <a:pt x="144" y="25"/>
                </a:lnTo>
                <a:lnTo>
                  <a:pt x="148" y="27"/>
                </a:lnTo>
                <a:lnTo>
                  <a:pt x="152" y="31"/>
                </a:lnTo>
                <a:lnTo>
                  <a:pt x="155" y="33"/>
                </a:lnTo>
                <a:lnTo>
                  <a:pt x="157" y="35"/>
                </a:lnTo>
                <a:lnTo>
                  <a:pt x="159" y="37"/>
                </a:lnTo>
                <a:lnTo>
                  <a:pt x="161" y="41"/>
                </a:lnTo>
                <a:lnTo>
                  <a:pt x="161" y="43"/>
                </a:lnTo>
                <a:lnTo>
                  <a:pt x="163" y="45"/>
                </a:lnTo>
                <a:lnTo>
                  <a:pt x="163" y="47"/>
                </a:lnTo>
                <a:lnTo>
                  <a:pt x="163" y="48"/>
                </a:lnTo>
                <a:lnTo>
                  <a:pt x="163" y="52"/>
                </a:lnTo>
                <a:lnTo>
                  <a:pt x="163" y="56"/>
                </a:lnTo>
                <a:lnTo>
                  <a:pt x="163" y="60"/>
                </a:lnTo>
                <a:lnTo>
                  <a:pt x="163" y="66"/>
                </a:lnTo>
                <a:lnTo>
                  <a:pt x="163" y="71"/>
                </a:lnTo>
                <a:lnTo>
                  <a:pt x="163" y="79"/>
                </a:lnTo>
                <a:lnTo>
                  <a:pt x="163" y="87"/>
                </a:lnTo>
                <a:lnTo>
                  <a:pt x="163" y="94"/>
                </a:lnTo>
                <a:lnTo>
                  <a:pt x="163" y="104"/>
                </a:lnTo>
                <a:lnTo>
                  <a:pt x="163" y="114"/>
                </a:lnTo>
                <a:lnTo>
                  <a:pt x="163" y="123"/>
                </a:lnTo>
                <a:lnTo>
                  <a:pt x="163" y="135"/>
                </a:lnTo>
                <a:lnTo>
                  <a:pt x="163" y="148"/>
                </a:lnTo>
                <a:lnTo>
                  <a:pt x="163" y="162"/>
                </a:lnTo>
                <a:lnTo>
                  <a:pt x="163" y="175"/>
                </a:lnTo>
                <a:lnTo>
                  <a:pt x="163" y="189"/>
                </a:lnTo>
                <a:lnTo>
                  <a:pt x="163" y="204"/>
                </a:lnTo>
                <a:lnTo>
                  <a:pt x="163" y="221"/>
                </a:lnTo>
                <a:lnTo>
                  <a:pt x="163" y="238"/>
                </a:lnTo>
                <a:lnTo>
                  <a:pt x="163" y="256"/>
                </a:lnTo>
                <a:lnTo>
                  <a:pt x="163" y="275"/>
                </a:lnTo>
                <a:lnTo>
                  <a:pt x="163" y="294"/>
                </a:lnTo>
                <a:lnTo>
                  <a:pt x="163" y="313"/>
                </a:lnTo>
                <a:lnTo>
                  <a:pt x="163" y="334"/>
                </a:lnTo>
                <a:lnTo>
                  <a:pt x="163" y="357"/>
                </a:lnTo>
                <a:lnTo>
                  <a:pt x="163" y="379"/>
                </a:lnTo>
                <a:lnTo>
                  <a:pt x="163" y="402"/>
                </a:lnTo>
                <a:lnTo>
                  <a:pt x="163" y="427"/>
                </a:lnTo>
                <a:lnTo>
                  <a:pt x="163" y="452"/>
                </a:lnTo>
                <a:lnTo>
                  <a:pt x="163" y="478"/>
                </a:lnTo>
                <a:lnTo>
                  <a:pt x="163" y="505"/>
                </a:lnTo>
                <a:lnTo>
                  <a:pt x="163" y="530"/>
                </a:lnTo>
                <a:lnTo>
                  <a:pt x="163" y="557"/>
                </a:lnTo>
                <a:lnTo>
                  <a:pt x="163" y="582"/>
                </a:lnTo>
                <a:lnTo>
                  <a:pt x="163" y="605"/>
                </a:lnTo>
                <a:lnTo>
                  <a:pt x="163" y="628"/>
                </a:lnTo>
                <a:lnTo>
                  <a:pt x="163" y="651"/>
                </a:lnTo>
                <a:lnTo>
                  <a:pt x="165" y="674"/>
                </a:lnTo>
                <a:lnTo>
                  <a:pt x="165" y="695"/>
                </a:lnTo>
                <a:lnTo>
                  <a:pt x="165" y="714"/>
                </a:lnTo>
                <a:lnTo>
                  <a:pt x="167" y="736"/>
                </a:lnTo>
                <a:lnTo>
                  <a:pt x="167" y="755"/>
                </a:lnTo>
                <a:lnTo>
                  <a:pt x="167" y="772"/>
                </a:lnTo>
                <a:lnTo>
                  <a:pt x="169" y="791"/>
                </a:lnTo>
                <a:lnTo>
                  <a:pt x="169" y="809"/>
                </a:lnTo>
                <a:lnTo>
                  <a:pt x="171" y="824"/>
                </a:lnTo>
                <a:lnTo>
                  <a:pt x="171" y="839"/>
                </a:lnTo>
                <a:lnTo>
                  <a:pt x="171" y="855"/>
                </a:lnTo>
                <a:lnTo>
                  <a:pt x="173" y="870"/>
                </a:lnTo>
                <a:lnTo>
                  <a:pt x="173" y="883"/>
                </a:lnTo>
                <a:lnTo>
                  <a:pt x="175" y="897"/>
                </a:lnTo>
                <a:lnTo>
                  <a:pt x="176" y="908"/>
                </a:lnTo>
                <a:lnTo>
                  <a:pt x="176" y="922"/>
                </a:lnTo>
                <a:lnTo>
                  <a:pt x="178" y="931"/>
                </a:lnTo>
                <a:lnTo>
                  <a:pt x="178" y="943"/>
                </a:lnTo>
                <a:lnTo>
                  <a:pt x="180" y="952"/>
                </a:lnTo>
                <a:lnTo>
                  <a:pt x="180" y="962"/>
                </a:lnTo>
                <a:lnTo>
                  <a:pt x="182" y="972"/>
                </a:lnTo>
                <a:lnTo>
                  <a:pt x="184" y="979"/>
                </a:lnTo>
                <a:lnTo>
                  <a:pt x="184" y="987"/>
                </a:lnTo>
                <a:lnTo>
                  <a:pt x="186" y="993"/>
                </a:lnTo>
                <a:lnTo>
                  <a:pt x="186" y="1000"/>
                </a:lnTo>
                <a:lnTo>
                  <a:pt x="190" y="1012"/>
                </a:lnTo>
                <a:lnTo>
                  <a:pt x="192" y="1024"/>
                </a:lnTo>
                <a:lnTo>
                  <a:pt x="196" y="1033"/>
                </a:lnTo>
                <a:lnTo>
                  <a:pt x="200" y="1045"/>
                </a:lnTo>
                <a:lnTo>
                  <a:pt x="209" y="1066"/>
                </a:lnTo>
                <a:lnTo>
                  <a:pt x="219" y="1085"/>
                </a:lnTo>
                <a:lnTo>
                  <a:pt x="232" y="1104"/>
                </a:lnTo>
                <a:lnTo>
                  <a:pt x="244" y="1121"/>
                </a:lnTo>
                <a:lnTo>
                  <a:pt x="257" y="1137"/>
                </a:lnTo>
                <a:lnTo>
                  <a:pt x="271" y="1152"/>
                </a:lnTo>
                <a:lnTo>
                  <a:pt x="278" y="1160"/>
                </a:lnTo>
                <a:lnTo>
                  <a:pt x="286" y="1166"/>
                </a:lnTo>
                <a:lnTo>
                  <a:pt x="295" y="1173"/>
                </a:lnTo>
                <a:lnTo>
                  <a:pt x="305" y="1181"/>
                </a:lnTo>
                <a:lnTo>
                  <a:pt x="315" y="1189"/>
                </a:lnTo>
                <a:lnTo>
                  <a:pt x="326" y="1194"/>
                </a:lnTo>
                <a:lnTo>
                  <a:pt x="338" y="1202"/>
                </a:lnTo>
                <a:lnTo>
                  <a:pt x="351" y="1210"/>
                </a:lnTo>
                <a:lnTo>
                  <a:pt x="365" y="1217"/>
                </a:lnTo>
                <a:lnTo>
                  <a:pt x="378" y="1223"/>
                </a:lnTo>
                <a:lnTo>
                  <a:pt x="393" y="1231"/>
                </a:lnTo>
                <a:lnTo>
                  <a:pt x="409" y="1238"/>
                </a:lnTo>
                <a:lnTo>
                  <a:pt x="424" y="1244"/>
                </a:lnTo>
                <a:lnTo>
                  <a:pt x="441" y="1252"/>
                </a:lnTo>
                <a:lnTo>
                  <a:pt x="459" y="1260"/>
                </a:lnTo>
                <a:lnTo>
                  <a:pt x="476" y="1267"/>
                </a:lnTo>
                <a:lnTo>
                  <a:pt x="495" y="1273"/>
                </a:lnTo>
                <a:lnTo>
                  <a:pt x="512" y="1281"/>
                </a:lnTo>
                <a:lnTo>
                  <a:pt x="532" y="1286"/>
                </a:lnTo>
                <a:lnTo>
                  <a:pt x="551" y="1290"/>
                </a:lnTo>
                <a:lnTo>
                  <a:pt x="572" y="1296"/>
                </a:lnTo>
                <a:lnTo>
                  <a:pt x="591" y="1300"/>
                </a:lnTo>
                <a:lnTo>
                  <a:pt x="612" y="1304"/>
                </a:lnTo>
                <a:lnTo>
                  <a:pt x="631" y="1308"/>
                </a:lnTo>
                <a:lnTo>
                  <a:pt x="676" y="1311"/>
                </a:lnTo>
                <a:lnTo>
                  <a:pt x="697" y="1313"/>
                </a:lnTo>
                <a:lnTo>
                  <a:pt x="720" y="1315"/>
                </a:lnTo>
                <a:lnTo>
                  <a:pt x="743" y="1317"/>
                </a:lnTo>
                <a:lnTo>
                  <a:pt x="766" y="1317"/>
                </a:lnTo>
                <a:lnTo>
                  <a:pt x="791" y="1317"/>
                </a:lnTo>
                <a:lnTo>
                  <a:pt x="816" y="1317"/>
                </a:lnTo>
                <a:lnTo>
                  <a:pt x="841" y="1317"/>
                </a:lnTo>
                <a:lnTo>
                  <a:pt x="864" y="1317"/>
                </a:lnTo>
                <a:lnTo>
                  <a:pt x="887" y="1317"/>
                </a:lnTo>
                <a:lnTo>
                  <a:pt x="912" y="1315"/>
                </a:lnTo>
                <a:lnTo>
                  <a:pt x="956" y="1313"/>
                </a:lnTo>
                <a:lnTo>
                  <a:pt x="1000" y="1310"/>
                </a:lnTo>
                <a:lnTo>
                  <a:pt x="1042" y="1306"/>
                </a:lnTo>
                <a:lnTo>
                  <a:pt x="1084" y="1302"/>
                </a:lnTo>
                <a:lnTo>
                  <a:pt x="1125" y="1298"/>
                </a:lnTo>
                <a:lnTo>
                  <a:pt x="1165" y="1292"/>
                </a:lnTo>
                <a:lnTo>
                  <a:pt x="1205" y="1286"/>
                </a:lnTo>
                <a:lnTo>
                  <a:pt x="1246" y="1281"/>
                </a:lnTo>
                <a:lnTo>
                  <a:pt x="1284" y="1271"/>
                </a:lnTo>
                <a:lnTo>
                  <a:pt x="1322" y="1262"/>
                </a:lnTo>
                <a:lnTo>
                  <a:pt x="1342" y="1256"/>
                </a:lnTo>
                <a:lnTo>
                  <a:pt x="1361" y="1250"/>
                </a:lnTo>
                <a:lnTo>
                  <a:pt x="1380" y="1244"/>
                </a:lnTo>
                <a:lnTo>
                  <a:pt x="1401" y="1237"/>
                </a:lnTo>
                <a:lnTo>
                  <a:pt x="1420" y="1229"/>
                </a:lnTo>
                <a:lnTo>
                  <a:pt x="1439" y="1221"/>
                </a:lnTo>
                <a:lnTo>
                  <a:pt x="1459" y="1212"/>
                </a:lnTo>
                <a:lnTo>
                  <a:pt x="1480" y="1204"/>
                </a:lnTo>
                <a:lnTo>
                  <a:pt x="1499" y="1194"/>
                </a:lnTo>
                <a:lnTo>
                  <a:pt x="1518" y="1185"/>
                </a:lnTo>
                <a:lnTo>
                  <a:pt x="1535" y="1173"/>
                </a:lnTo>
                <a:lnTo>
                  <a:pt x="1553" y="1160"/>
                </a:lnTo>
                <a:lnTo>
                  <a:pt x="1568" y="1144"/>
                </a:lnTo>
                <a:lnTo>
                  <a:pt x="1583" y="1129"/>
                </a:lnTo>
                <a:lnTo>
                  <a:pt x="1597" y="1110"/>
                </a:lnTo>
                <a:lnTo>
                  <a:pt x="1610" y="1091"/>
                </a:lnTo>
                <a:lnTo>
                  <a:pt x="1622" y="1068"/>
                </a:lnTo>
                <a:lnTo>
                  <a:pt x="1633" y="1045"/>
                </a:lnTo>
                <a:lnTo>
                  <a:pt x="1645" y="1020"/>
                </a:lnTo>
                <a:lnTo>
                  <a:pt x="1654" y="993"/>
                </a:lnTo>
                <a:lnTo>
                  <a:pt x="1662" y="966"/>
                </a:lnTo>
                <a:lnTo>
                  <a:pt x="1672" y="935"/>
                </a:lnTo>
                <a:lnTo>
                  <a:pt x="1679" y="905"/>
                </a:lnTo>
                <a:lnTo>
                  <a:pt x="1685" y="872"/>
                </a:lnTo>
                <a:lnTo>
                  <a:pt x="1687" y="855"/>
                </a:lnTo>
                <a:lnTo>
                  <a:pt x="1691" y="839"/>
                </a:lnTo>
                <a:lnTo>
                  <a:pt x="1693" y="824"/>
                </a:lnTo>
                <a:lnTo>
                  <a:pt x="1695" y="809"/>
                </a:lnTo>
                <a:lnTo>
                  <a:pt x="1697" y="795"/>
                </a:lnTo>
                <a:lnTo>
                  <a:pt x="1699" y="782"/>
                </a:lnTo>
                <a:lnTo>
                  <a:pt x="1701" y="768"/>
                </a:lnTo>
                <a:lnTo>
                  <a:pt x="1702" y="755"/>
                </a:lnTo>
                <a:lnTo>
                  <a:pt x="1706" y="743"/>
                </a:lnTo>
                <a:lnTo>
                  <a:pt x="1708" y="732"/>
                </a:lnTo>
                <a:lnTo>
                  <a:pt x="1710" y="720"/>
                </a:lnTo>
                <a:lnTo>
                  <a:pt x="1712" y="709"/>
                </a:lnTo>
                <a:lnTo>
                  <a:pt x="1714" y="699"/>
                </a:lnTo>
                <a:lnTo>
                  <a:pt x="1716" y="690"/>
                </a:lnTo>
                <a:lnTo>
                  <a:pt x="1718" y="680"/>
                </a:lnTo>
                <a:lnTo>
                  <a:pt x="1720" y="672"/>
                </a:lnTo>
                <a:lnTo>
                  <a:pt x="1722" y="663"/>
                </a:lnTo>
                <a:lnTo>
                  <a:pt x="1724" y="655"/>
                </a:lnTo>
                <a:lnTo>
                  <a:pt x="1725" y="649"/>
                </a:lnTo>
                <a:lnTo>
                  <a:pt x="1727" y="642"/>
                </a:lnTo>
                <a:lnTo>
                  <a:pt x="1729" y="636"/>
                </a:lnTo>
                <a:lnTo>
                  <a:pt x="1731" y="630"/>
                </a:lnTo>
                <a:lnTo>
                  <a:pt x="1733" y="626"/>
                </a:lnTo>
                <a:lnTo>
                  <a:pt x="1735" y="620"/>
                </a:lnTo>
                <a:lnTo>
                  <a:pt x="1737" y="617"/>
                </a:lnTo>
                <a:lnTo>
                  <a:pt x="1737" y="615"/>
                </a:lnTo>
                <a:lnTo>
                  <a:pt x="1739" y="611"/>
                </a:lnTo>
                <a:lnTo>
                  <a:pt x="1741" y="609"/>
                </a:lnTo>
                <a:lnTo>
                  <a:pt x="1743" y="607"/>
                </a:lnTo>
                <a:lnTo>
                  <a:pt x="1743" y="605"/>
                </a:lnTo>
                <a:lnTo>
                  <a:pt x="1745" y="605"/>
                </a:lnTo>
                <a:lnTo>
                  <a:pt x="1747" y="605"/>
                </a:lnTo>
                <a:lnTo>
                  <a:pt x="1748" y="605"/>
                </a:lnTo>
                <a:lnTo>
                  <a:pt x="1750" y="609"/>
                </a:lnTo>
                <a:lnTo>
                  <a:pt x="1754" y="613"/>
                </a:lnTo>
                <a:lnTo>
                  <a:pt x="1758" y="619"/>
                </a:lnTo>
                <a:lnTo>
                  <a:pt x="1760" y="626"/>
                </a:lnTo>
                <a:lnTo>
                  <a:pt x="1764" y="638"/>
                </a:lnTo>
                <a:lnTo>
                  <a:pt x="1768" y="649"/>
                </a:lnTo>
                <a:lnTo>
                  <a:pt x="1772" y="663"/>
                </a:lnTo>
                <a:lnTo>
                  <a:pt x="1775" y="678"/>
                </a:lnTo>
                <a:lnTo>
                  <a:pt x="1779" y="693"/>
                </a:lnTo>
                <a:lnTo>
                  <a:pt x="1785" y="713"/>
                </a:lnTo>
                <a:lnTo>
                  <a:pt x="1789" y="734"/>
                </a:lnTo>
                <a:lnTo>
                  <a:pt x="1793" y="757"/>
                </a:lnTo>
                <a:lnTo>
                  <a:pt x="1798" y="780"/>
                </a:lnTo>
                <a:lnTo>
                  <a:pt x="1802" y="807"/>
                </a:lnTo>
                <a:lnTo>
                  <a:pt x="1806" y="833"/>
                </a:lnTo>
                <a:lnTo>
                  <a:pt x="1808" y="864"/>
                </a:lnTo>
                <a:lnTo>
                  <a:pt x="1812" y="893"/>
                </a:lnTo>
                <a:lnTo>
                  <a:pt x="1814" y="920"/>
                </a:lnTo>
                <a:lnTo>
                  <a:pt x="1818" y="947"/>
                </a:lnTo>
                <a:lnTo>
                  <a:pt x="1821" y="972"/>
                </a:lnTo>
                <a:lnTo>
                  <a:pt x="1825" y="995"/>
                </a:lnTo>
                <a:lnTo>
                  <a:pt x="1829" y="1016"/>
                </a:lnTo>
                <a:lnTo>
                  <a:pt x="1833" y="1035"/>
                </a:lnTo>
                <a:lnTo>
                  <a:pt x="1839" y="1054"/>
                </a:lnTo>
                <a:lnTo>
                  <a:pt x="1843" y="1073"/>
                </a:lnTo>
                <a:lnTo>
                  <a:pt x="1848" y="1089"/>
                </a:lnTo>
                <a:lnTo>
                  <a:pt x="1854" y="1104"/>
                </a:lnTo>
                <a:lnTo>
                  <a:pt x="1860" y="1118"/>
                </a:lnTo>
                <a:lnTo>
                  <a:pt x="1866" y="1131"/>
                </a:lnTo>
                <a:lnTo>
                  <a:pt x="1873" y="1143"/>
                </a:lnTo>
                <a:lnTo>
                  <a:pt x="1879" y="1152"/>
                </a:lnTo>
                <a:lnTo>
                  <a:pt x="1883" y="1164"/>
                </a:lnTo>
                <a:lnTo>
                  <a:pt x="1887" y="1175"/>
                </a:lnTo>
                <a:lnTo>
                  <a:pt x="1891" y="1185"/>
                </a:lnTo>
                <a:lnTo>
                  <a:pt x="1892" y="1196"/>
                </a:lnTo>
                <a:lnTo>
                  <a:pt x="1894" y="1204"/>
                </a:lnTo>
                <a:lnTo>
                  <a:pt x="1894" y="1214"/>
                </a:lnTo>
                <a:lnTo>
                  <a:pt x="1896" y="1221"/>
                </a:lnTo>
                <a:lnTo>
                  <a:pt x="1896" y="1231"/>
                </a:lnTo>
                <a:lnTo>
                  <a:pt x="1894" y="1237"/>
                </a:lnTo>
                <a:lnTo>
                  <a:pt x="1892" y="1244"/>
                </a:lnTo>
                <a:lnTo>
                  <a:pt x="1891" y="1252"/>
                </a:lnTo>
                <a:lnTo>
                  <a:pt x="1887" y="1258"/>
                </a:lnTo>
                <a:lnTo>
                  <a:pt x="1883" y="1263"/>
                </a:lnTo>
                <a:lnTo>
                  <a:pt x="1879" y="1269"/>
                </a:lnTo>
                <a:lnTo>
                  <a:pt x="1873" y="1275"/>
                </a:lnTo>
                <a:lnTo>
                  <a:pt x="1867" y="1279"/>
                </a:lnTo>
                <a:lnTo>
                  <a:pt x="1852" y="1294"/>
                </a:lnTo>
                <a:lnTo>
                  <a:pt x="1837" y="1308"/>
                </a:lnTo>
                <a:lnTo>
                  <a:pt x="1829" y="1315"/>
                </a:lnTo>
                <a:lnTo>
                  <a:pt x="1820" y="1323"/>
                </a:lnTo>
                <a:lnTo>
                  <a:pt x="1810" y="1331"/>
                </a:lnTo>
                <a:lnTo>
                  <a:pt x="1800" y="1338"/>
                </a:lnTo>
                <a:lnTo>
                  <a:pt x="1791" y="1346"/>
                </a:lnTo>
                <a:lnTo>
                  <a:pt x="1779" y="1354"/>
                </a:lnTo>
                <a:lnTo>
                  <a:pt x="1768" y="1361"/>
                </a:lnTo>
                <a:lnTo>
                  <a:pt x="1754" y="1371"/>
                </a:lnTo>
                <a:lnTo>
                  <a:pt x="1741" y="1379"/>
                </a:lnTo>
                <a:lnTo>
                  <a:pt x="1727" y="1388"/>
                </a:lnTo>
                <a:lnTo>
                  <a:pt x="1714" y="1398"/>
                </a:lnTo>
                <a:lnTo>
                  <a:pt x="1699" y="14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74"/>
          <p:cNvSpPr/>
          <p:nvPr/>
        </p:nvSpPr>
        <p:spPr>
          <a:xfrm>
            <a:off x="6438960" y="4073400"/>
            <a:ext cx="433440" cy="155880"/>
          </a:xfrm>
          <a:custGeom>
            <a:avLst/>
            <a:gdLst/>
            <a:ahLst/>
            <a:rect l="l" t="t" r="r" b="b"/>
            <a:pathLst>
              <a:path w="545" h="196">
                <a:moveTo>
                  <a:pt x="339" y="158"/>
                </a:moveTo>
                <a:lnTo>
                  <a:pt x="289" y="165"/>
                </a:lnTo>
                <a:lnTo>
                  <a:pt x="241" y="175"/>
                </a:lnTo>
                <a:lnTo>
                  <a:pt x="218" y="177"/>
                </a:lnTo>
                <a:lnTo>
                  <a:pt x="195" y="181"/>
                </a:lnTo>
                <a:lnTo>
                  <a:pt x="172" y="183"/>
                </a:lnTo>
                <a:lnTo>
                  <a:pt x="151" y="187"/>
                </a:lnTo>
                <a:lnTo>
                  <a:pt x="130" y="188"/>
                </a:lnTo>
                <a:lnTo>
                  <a:pt x="109" y="190"/>
                </a:lnTo>
                <a:lnTo>
                  <a:pt x="90" y="192"/>
                </a:lnTo>
                <a:lnTo>
                  <a:pt x="71" y="192"/>
                </a:lnTo>
                <a:lnTo>
                  <a:pt x="51" y="194"/>
                </a:lnTo>
                <a:lnTo>
                  <a:pt x="32" y="194"/>
                </a:lnTo>
                <a:lnTo>
                  <a:pt x="17" y="194"/>
                </a:lnTo>
                <a:lnTo>
                  <a:pt x="0" y="196"/>
                </a:lnTo>
                <a:lnTo>
                  <a:pt x="0" y="139"/>
                </a:lnTo>
                <a:lnTo>
                  <a:pt x="0" y="81"/>
                </a:lnTo>
                <a:lnTo>
                  <a:pt x="32" y="81"/>
                </a:lnTo>
                <a:lnTo>
                  <a:pt x="65" y="79"/>
                </a:lnTo>
                <a:lnTo>
                  <a:pt x="99" y="75"/>
                </a:lnTo>
                <a:lnTo>
                  <a:pt x="136" y="69"/>
                </a:lnTo>
                <a:lnTo>
                  <a:pt x="155" y="68"/>
                </a:lnTo>
                <a:lnTo>
                  <a:pt x="172" y="64"/>
                </a:lnTo>
                <a:lnTo>
                  <a:pt x="192" y="60"/>
                </a:lnTo>
                <a:lnTo>
                  <a:pt x="211" y="54"/>
                </a:lnTo>
                <a:lnTo>
                  <a:pt x="230" y="48"/>
                </a:lnTo>
                <a:lnTo>
                  <a:pt x="249" y="43"/>
                </a:lnTo>
                <a:lnTo>
                  <a:pt x="270" y="37"/>
                </a:lnTo>
                <a:lnTo>
                  <a:pt x="289" y="31"/>
                </a:lnTo>
                <a:lnTo>
                  <a:pt x="307" y="25"/>
                </a:lnTo>
                <a:lnTo>
                  <a:pt x="324" y="21"/>
                </a:lnTo>
                <a:lnTo>
                  <a:pt x="341" y="18"/>
                </a:lnTo>
                <a:lnTo>
                  <a:pt x="355" y="14"/>
                </a:lnTo>
                <a:lnTo>
                  <a:pt x="370" y="10"/>
                </a:lnTo>
                <a:lnTo>
                  <a:pt x="384" y="8"/>
                </a:lnTo>
                <a:lnTo>
                  <a:pt x="395" y="4"/>
                </a:lnTo>
                <a:lnTo>
                  <a:pt x="407" y="2"/>
                </a:lnTo>
                <a:lnTo>
                  <a:pt x="416" y="0"/>
                </a:lnTo>
                <a:lnTo>
                  <a:pt x="426" y="0"/>
                </a:lnTo>
                <a:lnTo>
                  <a:pt x="433" y="0"/>
                </a:lnTo>
                <a:lnTo>
                  <a:pt x="441" y="0"/>
                </a:lnTo>
                <a:lnTo>
                  <a:pt x="447" y="0"/>
                </a:lnTo>
                <a:lnTo>
                  <a:pt x="453" y="0"/>
                </a:lnTo>
                <a:lnTo>
                  <a:pt x="456" y="2"/>
                </a:lnTo>
                <a:lnTo>
                  <a:pt x="460" y="4"/>
                </a:lnTo>
                <a:lnTo>
                  <a:pt x="464" y="8"/>
                </a:lnTo>
                <a:lnTo>
                  <a:pt x="470" y="12"/>
                </a:lnTo>
                <a:lnTo>
                  <a:pt x="478" y="16"/>
                </a:lnTo>
                <a:lnTo>
                  <a:pt x="485" y="18"/>
                </a:lnTo>
                <a:lnTo>
                  <a:pt x="493" y="20"/>
                </a:lnTo>
                <a:lnTo>
                  <a:pt x="503" y="23"/>
                </a:lnTo>
                <a:lnTo>
                  <a:pt x="510" y="25"/>
                </a:lnTo>
                <a:lnTo>
                  <a:pt x="520" y="31"/>
                </a:lnTo>
                <a:lnTo>
                  <a:pt x="524" y="35"/>
                </a:lnTo>
                <a:lnTo>
                  <a:pt x="529" y="41"/>
                </a:lnTo>
                <a:lnTo>
                  <a:pt x="533" y="48"/>
                </a:lnTo>
                <a:lnTo>
                  <a:pt x="537" y="56"/>
                </a:lnTo>
                <a:lnTo>
                  <a:pt x="539" y="62"/>
                </a:lnTo>
                <a:lnTo>
                  <a:pt x="541" y="69"/>
                </a:lnTo>
                <a:lnTo>
                  <a:pt x="543" y="75"/>
                </a:lnTo>
                <a:lnTo>
                  <a:pt x="545" y="81"/>
                </a:lnTo>
                <a:lnTo>
                  <a:pt x="543" y="87"/>
                </a:lnTo>
                <a:lnTo>
                  <a:pt x="541" y="91"/>
                </a:lnTo>
                <a:lnTo>
                  <a:pt x="537" y="94"/>
                </a:lnTo>
                <a:lnTo>
                  <a:pt x="531" y="100"/>
                </a:lnTo>
                <a:lnTo>
                  <a:pt x="524" y="104"/>
                </a:lnTo>
                <a:lnTo>
                  <a:pt x="514" y="110"/>
                </a:lnTo>
                <a:lnTo>
                  <a:pt x="503" y="114"/>
                </a:lnTo>
                <a:lnTo>
                  <a:pt x="491" y="119"/>
                </a:lnTo>
                <a:lnTo>
                  <a:pt x="478" y="123"/>
                </a:lnTo>
                <a:lnTo>
                  <a:pt x="462" y="129"/>
                </a:lnTo>
                <a:lnTo>
                  <a:pt x="445" y="133"/>
                </a:lnTo>
                <a:lnTo>
                  <a:pt x="426" y="139"/>
                </a:lnTo>
                <a:lnTo>
                  <a:pt x="407" y="142"/>
                </a:lnTo>
                <a:lnTo>
                  <a:pt x="385" y="148"/>
                </a:lnTo>
                <a:lnTo>
                  <a:pt x="362" y="152"/>
                </a:lnTo>
                <a:lnTo>
                  <a:pt x="339" y="1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75"/>
          <p:cNvSpPr/>
          <p:nvPr/>
        </p:nvSpPr>
        <p:spPr>
          <a:xfrm>
            <a:off x="6438960" y="3683160"/>
            <a:ext cx="538200" cy="434880"/>
          </a:xfrm>
          <a:custGeom>
            <a:avLst/>
            <a:gdLst/>
            <a:ahLst/>
            <a:rect l="l" t="t" r="r" b="b"/>
            <a:pathLst>
              <a:path w="677" h="547">
                <a:moveTo>
                  <a:pt x="483" y="547"/>
                </a:moveTo>
                <a:lnTo>
                  <a:pt x="416" y="547"/>
                </a:lnTo>
                <a:lnTo>
                  <a:pt x="351" y="547"/>
                </a:lnTo>
                <a:lnTo>
                  <a:pt x="357" y="516"/>
                </a:lnTo>
                <a:lnTo>
                  <a:pt x="362" y="487"/>
                </a:lnTo>
                <a:lnTo>
                  <a:pt x="370" y="461"/>
                </a:lnTo>
                <a:lnTo>
                  <a:pt x="374" y="436"/>
                </a:lnTo>
                <a:lnTo>
                  <a:pt x="380" y="413"/>
                </a:lnTo>
                <a:lnTo>
                  <a:pt x="385" y="392"/>
                </a:lnTo>
                <a:lnTo>
                  <a:pt x="389" y="370"/>
                </a:lnTo>
                <a:lnTo>
                  <a:pt x="393" y="353"/>
                </a:lnTo>
                <a:lnTo>
                  <a:pt x="397" y="336"/>
                </a:lnTo>
                <a:lnTo>
                  <a:pt x="401" y="319"/>
                </a:lnTo>
                <a:lnTo>
                  <a:pt x="405" y="305"/>
                </a:lnTo>
                <a:lnTo>
                  <a:pt x="407" y="292"/>
                </a:lnTo>
                <a:lnTo>
                  <a:pt x="408" y="280"/>
                </a:lnTo>
                <a:lnTo>
                  <a:pt x="410" y="271"/>
                </a:lnTo>
                <a:lnTo>
                  <a:pt x="410" y="261"/>
                </a:lnTo>
                <a:lnTo>
                  <a:pt x="410" y="253"/>
                </a:lnTo>
                <a:lnTo>
                  <a:pt x="410" y="240"/>
                </a:lnTo>
                <a:lnTo>
                  <a:pt x="410" y="228"/>
                </a:lnTo>
                <a:lnTo>
                  <a:pt x="410" y="217"/>
                </a:lnTo>
                <a:lnTo>
                  <a:pt x="408" y="205"/>
                </a:lnTo>
                <a:lnTo>
                  <a:pt x="408" y="198"/>
                </a:lnTo>
                <a:lnTo>
                  <a:pt x="407" y="190"/>
                </a:lnTo>
                <a:lnTo>
                  <a:pt x="403" y="182"/>
                </a:lnTo>
                <a:lnTo>
                  <a:pt x="399" y="177"/>
                </a:lnTo>
                <a:lnTo>
                  <a:pt x="397" y="175"/>
                </a:lnTo>
                <a:lnTo>
                  <a:pt x="393" y="173"/>
                </a:lnTo>
                <a:lnTo>
                  <a:pt x="389" y="173"/>
                </a:lnTo>
                <a:lnTo>
                  <a:pt x="384" y="173"/>
                </a:lnTo>
                <a:lnTo>
                  <a:pt x="378" y="173"/>
                </a:lnTo>
                <a:lnTo>
                  <a:pt x="370" y="173"/>
                </a:lnTo>
                <a:lnTo>
                  <a:pt x="362" y="173"/>
                </a:lnTo>
                <a:lnTo>
                  <a:pt x="355" y="175"/>
                </a:lnTo>
                <a:lnTo>
                  <a:pt x="347" y="175"/>
                </a:lnTo>
                <a:lnTo>
                  <a:pt x="337" y="177"/>
                </a:lnTo>
                <a:lnTo>
                  <a:pt x="326" y="178"/>
                </a:lnTo>
                <a:lnTo>
                  <a:pt x="316" y="180"/>
                </a:lnTo>
                <a:lnTo>
                  <a:pt x="305" y="182"/>
                </a:lnTo>
                <a:lnTo>
                  <a:pt x="291" y="186"/>
                </a:lnTo>
                <a:lnTo>
                  <a:pt x="280" y="188"/>
                </a:lnTo>
                <a:lnTo>
                  <a:pt x="266" y="190"/>
                </a:lnTo>
                <a:lnTo>
                  <a:pt x="238" y="200"/>
                </a:lnTo>
                <a:lnTo>
                  <a:pt x="209" y="207"/>
                </a:lnTo>
                <a:lnTo>
                  <a:pt x="178" y="215"/>
                </a:lnTo>
                <a:lnTo>
                  <a:pt x="147" y="221"/>
                </a:lnTo>
                <a:lnTo>
                  <a:pt x="113" y="226"/>
                </a:lnTo>
                <a:lnTo>
                  <a:pt x="96" y="228"/>
                </a:lnTo>
                <a:lnTo>
                  <a:pt x="76" y="230"/>
                </a:lnTo>
                <a:lnTo>
                  <a:pt x="59" y="234"/>
                </a:lnTo>
                <a:lnTo>
                  <a:pt x="40" y="236"/>
                </a:lnTo>
                <a:lnTo>
                  <a:pt x="21" y="238"/>
                </a:lnTo>
                <a:lnTo>
                  <a:pt x="0" y="242"/>
                </a:lnTo>
                <a:lnTo>
                  <a:pt x="0" y="190"/>
                </a:lnTo>
                <a:lnTo>
                  <a:pt x="0" y="140"/>
                </a:lnTo>
                <a:lnTo>
                  <a:pt x="11" y="138"/>
                </a:lnTo>
                <a:lnTo>
                  <a:pt x="23" y="138"/>
                </a:lnTo>
                <a:lnTo>
                  <a:pt x="36" y="138"/>
                </a:lnTo>
                <a:lnTo>
                  <a:pt x="50" y="136"/>
                </a:lnTo>
                <a:lnTo>
                  <a:pt x="63" y="136"/>
                </a:lnTo>
                <a:lnTo>
                  <a:pt x="76" y="134"/>
                </a:lnTo>
                <a:lnTo>
                  <a:pt x="107" y="130"/>
                </a:lnTo>
                <a:lnTo>
                  <a:pt x="138" y="125"/>
                </a:lnTo>
                <a:lnTo>
                  <a:pt x="172" y="117"/>
                </a:lnTo>
                <a:lnTo>
                  <a:pt x="205" y="109"/>
                </a:lnTo>
                <a:lnTo>
                  <a:pt x="241" y="102"/>
                </a:lnTo>
                <a:lnTo>
                  <a:pt x="257" y="96"/>
                </a:lnTo>
                <a:lnTo>
                  <a:pt x="272" y="90"/>
                </a:lnTo>
                <a:lnTo>
                  <a:pt x="286" y="86"/>
                </a:lnTo>
                <a:lnTo>
                  <a:pt x="301" y="81"/>
                </a:lnTo>
                <a:lnTo>
                  <a:pt x="312" y="77"/>
                </a:lnTo>
                <a:lnTo>
                  <a:pt x="326" y="73"/>
                </a:lnTo>
                <a:lnTo>
                  <a:pt x="337" y="67"/>
                </a:lnTo>
                <a:lnTo>
                  <a:pt x="347" y="63"/>
                </a:lnTo>
                <a:lnTo>
                  <a:pt x="357" y="58"/>
                </a:lnTo>
                <a:lnTo>
                  <a:pt x="366" y="54"/>
                </a:lnTo>
                <a:lnTo>
                  <a:pt x="374" y="48"/>
                </a:lnTo>
                <a:lnTo>
                  <a:pt x="382" y="44"/>
                </a:lnTo>
                <a:lnTo>
                  <a:pt x="387" y="38"/>
                </a:lnTo>
                <a:lnTo>
                  <a:pt x="393" y="34"/>
                </a:lnTo>
                <a:lnTo>
                  <a:pt x="397" y="29"/>
                </a:lnTo>
                <a:lnTo>
                  <a:pt x="399" y="25"/>
                </a:lnTo>
                <a:lnTo>
                  <a:pt x="405" y="19"/>
                </a:lnTo>
                <a:lnTo>
                  <a:pt x="410" y="15"/>
                </a:lnTo>
                <a:lnTo>
                  <a:pt x="418" y="11"/>
                </a:lnTo>
                <a:lnTo>
                  <a:pt x="426" y="8"/>
                </a:lnTo>
                <a:lnTo>
                  <a:pt x="435" y="4"/>
                </a:lnTo>
                <a:lnTo>
                  <a:pt x="447" y="2"/>
                </a:lnTo>
                <a:lnTo>
                  <a:pt x="458" y="0"/>
                </a:lnTo>
                <a:lnTo>
                  <a:pt x="472" y="0"/>
                </a:lnTo>
                <a:lnTo>
                  <a:pt x="481" y="0"/>
                </a:lnTo>
                <a:lnTo>
                  <a:pt x="491" y="2"/>
                </a:lnTo>
                <a:lnTo>
                  <a:pt x="504" y="4"/>
                </a:lnTo>
                <a:lnTo>
                  <a:pt x="518" y="8"/>
                </a:lnTo>
                <a:lnTo>
                  <a:pt x="533" y="13"/>
                </a:lnTo>
                <a:lnTo>
                  <a:pt x="543" y="17"/>
                </a:lnTo>
                <a:lnTo>
                  <a:pt x="551" y="21"/>
                </a:lnTo>
                <a:lnTo>
                  <a:pt x="560" y="25"/>
                </a:lnTo>
                <a:lnTo>
                  <a:pt x="572" y="29"/>
                </a:lnTo>
                <a:lnTo>
                  <a:pt x="581" y="33"/>
                </a:lnTo>
                <a:lnTo>
                  <a:pt x="593" y="38"/>
                </a:lnTo>
                <a:lnTo>
                  <a:pt x="602" y="44"/>
                </a:lnTo>
                <a:lnTo>
                  <a:pt x="614" y="52"/>
                </a:lnTo>
                <a:lnTo>
                  <a:pt x="622" y="58"/>
                </a:lnTo>
                <a:lnTo>
                  <a:pt x="631" y="63"/>
                </a:lnTo>
                <a:lnTo>
                  <a:pt x="639" y="69"/>
                </a:lnTo>
                <a:lnTo>
                  <a:pt x="645" y="75"/>
                </a:lnTo>
                <a:lnTo>
                  <a:pt x="652" y="81"/>
                </a:lnTo>
                <a:lnTo>
                  <a:pt x="656" y="86"/>
                </a:lnTo>
                <a:lnTo>
                  <a:pt x="662" y="92"/>
                </a:lnTo>
                <a:lnTo>
                  <a:pt x="666" y="98"/>
                </a:lnTo>
                <a:lnTo>
                  <a:pt x="670" y="102"/>
                </a:lnTo>
                <a:lnTo>
                  <a:pt x="671" y="107"/>
                </a:lnTo>
                <a:lnTo>
                  <a:pt x="673" y="111"/>
                </a:lnTo>
                <a:lnTo>
                  <a:pt x="675" y="117"/>
                </a:lnTo>
                <a:lnTo>
                  <a:pt x="677" y="121"/>
                </a:lnTo>
                <a:lnTo>
                  <a:pt x="677" y="127"/>
                </a:lnTo>
                <a:lnTo>
                  <a:pt x="675" y="136"/>
                </a:lnTo>
                <a:lnTo>
                  <a:pt x="673" y="146"/>
                </a:lnTo>
                <a:lnTo>
                  <a:pt x="671" y="155"/>
                </a:lnTo>
                <a:lnTo>
                  <a:pt x="666" y="165"/>
                </a:lnTo>
                <a:lnTo>
                  <a:pt x="660" y="175"/>
                </a:lnTo>
                <a:lnTo>
                  <a:pt x="656" y="178"/>
                </a:lnTo>
                <a:lnTo>
                  <a:pt x="650" y="184"/>
                </a:lnTo>
                <a:lnTo>
                  <a:pt x="646" y="188"/>
                </a:lnTo>
                <a:lnTo>
                  <a:pt x="641" y="194"/>
                </a:lnTo>
                <a:lnTo>
                  <a:pt x="635" y="198"/>
                </a:lnTo>
                <a:lnTo>
                  <a:pt x="629" y="203"/>
                </a:lnTo>
                <a:lnTo>
                  <a:pt x="625" y="205"/>
                </a:lnTo>
                <a:lnTo>
                  <a:pt x="622" y="209"/>
                </a:lnTo>
                <a:lnTo>
                  <a:pt x="618" y="213"/>
                </a:lnTo>
                <a:lnTo>
                  <a:pt x="614" y="217"/>
                </a:lnTo>
                <a:lnTo>
                  <a:pt x="610" y="221"/>
                </a:lnTo>
                <a:lnTo>
                  <a:pt x="606" y="226"/>
                </a:lnTo>
                <a:lnTo>
                  <a:pt x="602" y="232"/>
                </a:lnTo>
                <a:lnTo>
                  <a:pt x="598" y="238"/>
                </a:lnTo>
                <a:lnTo>
                  <a:pt x="595" y="246"/>
                </a:lnTo>
                <a:lnTo>
                  <a:pt x="591" y="253"/>
                </a:lnTo>
                <a:lnTo>
                  <a:pt x="587" y="261"/>
                </a:lnTo>
                <a:lnTo>
                  <a:pt x="583" y="269"/>
                </a:lnTo>
                <a:lnTo>
                  <a:pt x="577" y="278"/>
                </a:lnTo>
                <a:lnTo>
                  <a:pt x="574" y="288"/>
                </a:lnTo>
                <a:lnTo>
                  <a:pt x="570" y="297"/>
                </a:lnTo>
                <a:lnTo>
                  <a:pt x="564" y="307"/>
                </a:lnTo>
                <a:lnTo>
                  <a:pt x="560" y="319"/>
                </a:lnTo>
                <a:lnTo>
                  <a:pt x="556" y="330"/>
                </a:lnTo>
                <a:lnTo>
                  <a:pt x="551" y="342"/>
                </a:lnTo>
                <a:lnTo>
                  <a:pt x="547" y="355"/>
                </a:lnTo>
                <a:lnTo>
                  <a:pt x="541" y="368"/>
                </a:lnTo>
                <a:lnTo>
                  <a:pt x="535" y="382"/>
                </a:lnTo>
                <a:lnTo>
                  <a:pt x="531" y="395"/>
                </a:lnTo>
                <a:lnTo>
                  <a:pt x="526" y="411"/>
                </a:lnTo>
                <a:lnTo>
                  <a:pt x="522" y="426"/>
                </a:lnTo>
                <a:lnTo>
                  <a:pt x="516" y="441"/>
                </a:lnTo>
                <a:lnTo>
                  <a:pt x="510" y="457"/>
                </a:lnTo>
                <a:lnTo>
                  <a:pt x="504" y="474"/>
                </a:lnTo>
                <a:lnTo>
                  <a:pt x="501" y="491"/>
                </a:lnTo>
                <a:lnTo>
                  <a:pt x="495" y="509"/>
                </a:lnTo>
                <a:lnTo>
                  <a:pt x="489" y="528"/>
                </a:lnTo>
                <a:lnTo>
                  <a:pt x="483" y="5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76"/>
          <p:cNvSpPr/>
          <p:nvPr/>
        </p:nvSpPr>
        <p:spPr>
          <a:xfrm>
            <a:off x="6621480" y="3168720"/>
            <a:ext cx="844560" cy="1090440"/>
          </a:xfrm>
          <a:custGeom>
            <a:avLst/>
            <a:gdLst/>
            <a:ahLst/>
            <a:rect l="l" t="t" r="r" b="b"/>
            <a:pathLst>
              <a:path w="1063" h="1375">
                <a:moveTo>
                  <a:pt x="484" y="1119"/>
                </a:moveTo>
                <a:lnTo>
                  <a:pt x="472" y="1108"/>
                </a:lnTo>
                <a:lnTo>
                  <a:pt x="463" y="1096"/>
                </a:lnTo>
                <a:lnTo>
                  <a:pt x="453" y="1085"/>
                </a:lnTo>
                <a:lnTo>
                  <a:pt x="445" y="1073"/>
                </a:lnTo>
                <a:lnTo>
                  <a:pt x="438" y="1064"/>
                </a:lnTo>
                <a:lnTo>
                  <a:pt x="430" y="1054"/>
                </a:lnTo>
                <a:lnTo>
                  <a:pt x="424" y="1044"/>
                </a:lnTo>
                <a:lnTo>
                  <a:pt x="420" y="1037"/>
                </a:lnTo>
                <a:lnTo>
                  <a:pt x="416" y="1029"/>
                </a:lnTo>
                <a:lnTo>
                  <a:pt x="413" y="1021"/>
                </a:lnTo>
                <a:lnTo>
                  <a:pt x="411" y="1014"/>
                </a:lnTo>
                <a:lnTo>
                  <a:pt x="409" y="1008"/>
                </a:lnTo>
                <a:lnTo>
                  <a:pt x="409" y="1002"/>
                </a:lnTo>
                <a:lnTo>
                  <a:pt x="409" y="998"/>
                </a:lnTo>
                <a:lnTo>
                  <a:pt x="409" y="994"/>
                </a:lnTo>
                <a:lnTo>
                  <a:pt x="411" y="993"/>
                </a:lnTo>
                <a:lnTo>
                  <a:pt x="413" y="989"/>
                </a:lnTo>
                <a:lnTo>
                  <a:pt x="416" y="987"/>
                </a:lnTo>
                <a:lnTo>
                  <a:pt x="420" y="987"/>
                </a:lnTo>
                <a:lnTo>
                  <a:pt x="424" y="985"/>
                </a:lnTo>
                <a:lnTo>
                  <a:pt x="430" y="983"/>
                </a:lnTo>
                <a:lnTo>
                  <a:pt x="436" y="983"/>
                </a:lnTo>
                <a:lnTo>
                  <a:pt x="441" y="983"/>
                </a:lnTo>
                <a:lnTo>
                  <a:pt x="449" y="983"/>
                </a:lnTo>
                <a:lnTo>
                  <a:pt x="457" y="985"/>
                </a:lnTo>
                <a:lnTo>
                  <a:pt x="464" y="985"/>
                </a:lnTo>
                <a:lnTo>
                  <a:pt x="474" y="987"/>
                </a:lnTo>
                <a:lnTo>
                  <a:pt x="484" y="991"/>
                </a:lnTo>
                <a:lnTo>
                  <a:pt x="495" y="993"/>
                </a:lnTo>
                <a:lnTo>
                  <a:pt x="507" y="996"/>
                </a:lnTo>
                <a:lnTo>
                  <a:pt x="518" y="1000"/>
                </a:lnTo>
                <a:lnTo>
                  <a:pt x="532" y="1004"/>
                </a:lnTo>
                <a:lnTo>
                  <a:pt x="543" y="1010"/>
                </a:lnTo>
                <a:lnTo>
                  <a:pt x="553" y="1014"/>
                </a:lnTo>
                <a:lnTo>
                  <a:pt x="564" y="1016"/>
                </a:lnTo>
                <a:lnTo>
                  <a:pt x="574" y="1019"/>
                </a:lnTo>
                <a:lnTo>
                  <a:pt x="583" y="1021"/>
                </a:lnTo>
                <a:lnTo>
                  <a:pt x="593" y="1023"/>
                </a:lnTo>
                <a:lnTo>
                  <a:pt x="603" y="1023"/>
                </a:lnTo>
                <a:lnTo>
                  <a:pt x="610" y="1023"/>
                </a:lnTo>
                <a:lnTo>
                  <a:pt x="618" y="1023"/>
                </a:lnTo>
                <a:lnTo>
                  <a:pt x="626" y="1023"/>
                </a:lnTo>
                <a:lnTo>
                  <a:pt x="631" y="1021"/>
                </a:lnTo>
                <a:lnTo>
                  <a:pt x="637" y="1019"/>
                </a:lnTo>
                <a:lnTo>
                  <a:pt x="641" y="1016"/>
                </a:lnTo>
                <a:lnTo>
                  <a:pt x="647" y="1014"/>
                </a:lnTo>
                <a:lnTo>
                  <a:pt x="649" y="1010"/>
                </a:lnTo>
                <a:lnTo>
                  <a:pt x="653" y="1004"/>
                </a:lnTo>
                <a:lnTo>
                  <a:pt x="654" y="1000"/>
                </a:lnTo>
                <a:lnTo>
                  <a:pt x="656" y="998"/>
                </a:lnTo>
                <a:lnTo>
                  <a:pt x="656" y="996"/>
                </a:lnTo>
                <a:lnTo>
                  <a:pt x="658" y="993"/>
                </a:lnTo>
                <a:lnTo>
                  <a:pt x="660" y="989"/>
                </a:lnTo>
                <a:lnTo>
                  <a:pt x="662" y="983"/>
                </a:lnTo>
                <a:lnTo>
                  <a:pt x="664" y="979"/>
                </a:lnTo>
                <a:lnTo>
                  <a:pt x="666" y="973"/>
                </a:lnTo>
                <a:lnTo>
                  <a:pt x="668" y="968"/>
                </a:lnTo>
                <a:lnTo>
                  <a:pt x="672" y="954"/>
                </a:lnTo>
                <a:lnTo>
                  <a:pt x="676" y="939"/>
                </a:lnTo>
                <a:lnTo>
                  <a:pt x="679" y="922"/>
                </a:lnTo>
                <a:lnTo>
                  <a:pt x="685" y="902"/>
                </a:lnTo>
                <a:lnTo>
                  <a:pt x="689" y="883"/>
                </a:lnTo>
                <a:lnTo>
                  <a:pt x="695" y="860"/>
                </a:lnTo>
                <a:lnTo>
                  <a:pt x="701" y="837"/>
                </a:lnTo>
                <a:lnTo>
                  <a:pt x="706" y="810"/>
                </a:lnTo>
                <a:lnTo>
                  <a:pt x="712" y="783"/>
                </a:lnTo>
                <a:lnTo>
                  <a:pt x="718" y="755"/>
                </a:lnTo>
                <a:lnTo>
                  <a:pt x="726" y="724"/>
                </a:lnTo>
                <a:lnTo>
                  <a:pt x="731" y="693"/>
                </a:lnTo>
                <a:lnTo>
                  <a:pt x="737" y="664"/>
                </a:lnTo>
                <a:lnTo>
                  <a:pt x="743" y="636"/>
                </a:lnTo>
                <a:lnTo>
                  <a:pt x="747" y="609"/>
                </a:lnTo>
                <a:lnTo>
                  <a:pt x="752" y="582"/>
                </a:lnTo>
                <a:lnTo>
                  <a:pt x="756" y="555"/>
                </a:lnTo>
                <a:lnTo>
                  <a:pt x="760" y="532"/>
                </a:lnTo>
                <a:lnTo>
                  <a:pt x="762" y="509"/>
                </a:lnTo>
                <a:lnTo>
                  <a:pt x="766" y="486"/>
                </a:lnTo>
                <a:lnTo>
                  <a:pt x="768" y="465"/>
                </a:lnTo>
                <a:lnTo>
                  <a:pt x="770" y="445"/>
                </a:lnTo>
                <a:lnTo>
                  <a:pt x="770" y="428"/>
                </a:lnTo>
                <a:lnTo>
                  <a:pt x="772" y="411"/>
                </a:lnTo>
                <a:lnTo>
                  <a:pt x="772" y="396"/>
                </a:lnTo>
                <a:lnTo>
                  <a:pt x="773" y="380"/>
                </a:lnTo>
                <a:lnTo>
                  <a:pt x="773" y="369"/>
                </a:lnTo>
                <a:lnTo>
                  <a:pt x="772" y="346"/>
                </a:lnTo>
                <a:lnTo>
                  <a:pt x="772" y="323"/>
                </a:lnTo>
                <a:lnTo>
                  <a:pt x="768" y="303"/>
                </a:lnTo>
                <a:lnTo>
                  <a:pt x="766" y="284"/>
                </a:lnTo>
                <a:lnTo>
                  <a:pt x="764" y="275"/>
                </a:lnTo>
                <a:lnTo>
                  <a:pt x="762" y="267"/>
                </a:lnTo>
                <a:lnTo>
                  <a:pt x="760" y="259"/>
                </a:lnTo>
                <a:lnTo>
                  <a:pt x="758" y="252"/>
                </a:lnTo>
                <a:lnTo>
                  <a:pt x="756" y="246"/>
                </a:lnTo>
                <a:lnTo>
                  <a:pt x="754" y="238"/>
                </a:lnTo>
                <a:lnTo>
                  <a:pt x="750" y="232"/>
                </a:lnTo>
                <a:lnTo>
                  <a:pt x="749" y="229"/>
                </a:lnTo>
                <a:lnTo>
                  <a:pt x="745" y="227"/>
                </a:lnTo>
                <a:lnTo>
                  <a:pt x="737" y="225"/>
                </a:lnTo>
                <a:lnTo>
                  <a:pt x="729" y="223"/>
                </a:lnTo>
                <a:lnTo>
                  <a:pt x="720" y="221"/>
                </a:lnTo>
                <a:lnTo>
                  <a:pt x="708" y="221"/>
                </a:lnTo>
                <a:lnTo>
                  <a:pt x="697" y="221"/>
                </a:lnTo>
                <a:lnTo>
                  <a:pt x="681" y="221"/>
                </a:lnTo>
                <a:lnTo>
                  <a:pt x="666" y="221"/>
                </a:lnTo>
                <a:lnTo>
                  <a:pt x="649" y="223"/>
                </a:lnTo>
                <a:lnTo>
                  <a:pt x="630" y="225"/>
                </a:lnTo>
                <a:lnTo>
                  <a:pt x="610" y="229"/>
                </a:lnTo>
                <a:lnTo>
                  <a:pt x="587" y="231"/>
                </a:lnTo>
                <a:lnTo>
                  <a:pt x="564" y="236"/>
                </a:lnTo>
                <a:lnTo>
                  <a:pt x="539" y="240"/>
                </a:lnTo>
                <a:lnTo>
                  <a:pt x="512" y="246"/>
                </a:lnTo>
                <a:lnTo>
                  <a:pt x="484" y="254"/>
                </a:lnTo>
                <a:lnTo>
                  <a:pt x="453" y="261"/>
                </a:lnTo>
                <a:lnTo>
                  <a:pt x="424" y="267"/>
                </a:lnTo>
                <a:lnTo>
                  <a:pt x="395" y="273"/>
                </a:lnTo>
                <a:lnTo>
                  <a:pt x="365" y="278"/>
                </a:lnTo>
                <a:lnTo>
                  <a:pt x="336" y="282"/>
                </a:lnTo>
                <a:lnTo>
                  <a:pt x="305" y="286"/>
                </a:lnTo>
                <a:lnTo>
                  <a:pt x="276" y="290"/>
                </a:lnTo>
                <a:lnTo>
                  <a:pt x="246" y="294"/>
                </a:lnTo>
                <a:lnTo>
                  <a:pt x="186" y="298"/>
                </a:lnTo>
                <a:lnTo>
                  <a:pt x="125" y="302"/>
                </a:lnTo>
                <a:lnTo>
                  <a:pt x="63" y="303"/>
                </a:lnTo>
                <a:lnTo>
                  <a:pt x="0" y="305"/>
                </a:lnTo>
                <a:lnTo>
                  <a:pt x="0" y="254"/>
                </a:lnTo>
                <a:lnTo>
                  <a:pt x="0" y="204"/>
                </a:lnTo>
                <a:lnTo>
                  <a:pt x="25" y="200"/>
                </a:lnTo>
                <a:lnTo>
                  <a:pt x="48" y="198"/>
                </a:lnTo>
                <a:lnTo>
                  <a:pt x="71" y="196"/>
                </a:lnTo>
                <a:lnTo>
                  <a:pt x="94" y="192"/>
                </a:lnTo>
                <a:lnTo>
                  <a:pt x="117" y="190"/>
                </a:lnTo>
                <a:lnTo>
                  <a:pt x="138" y="188"/>
                </a:lnTo>
                <a:lnTo>
                  <a:pt x="157" y="186"/>
                </a:lnTo>
                <a:lnTo>
                  <a:pt x="178" y="184"/>
                </a:lnTo>
                <a:lnTo>
                  <a:pt x="196" y="181"/>
                </a:lnTo>
                <a:lnTo>
                  <a:pt x="215" y="179"/>
                </a:lnTo>
                <a:lnTo>
                  <a:pt x="232" y="177"/>
                </a:lnTo>
                <a:lnTo>
                  <a:pt x="248" y="175"/>
                </a:lnTo>
                <a:lnTo>
                  <a:pt x="263" y="171"/>
                </a:lnTo>
                <a:lnTo>
                  <a:pt x="276" y="169"/>
                </a:lnTo>
                <a:lnTo>
                  <a:pt x="290" y="167"/>
                </a:lnTo>
                <a:lnTo>
                  <a:pt x="301" y="165"/>
                </a:lnTo>
                <a:lnTo>
                  <a:pt x="324" y="159"/>
                </a:lnTo>
                <a:lnTo>
                  <a:pt x="349" y="154"/>
                </a:lnTo>
                <a:lnTo>
                  <a:pt x="363" y="152"/>
                </a:lnTo>
                <a:lnTo>
                  <a:pt x="376" y="150"/>
                </a:lnTo>
                <a:lnTo>
                  <a:pt x="390" y="146"/>
                </a:lnTo>
                <a:lnTo>
                  <a:pt x="405" y="144"/>
                </a:lnTo>
                <a:lnTo>
                  <a:pt x="420" y="140"/>
                </a:lnTo>
                <a:lnTo>
                  <a:pt x="436" y="138"/>
                </a:lnTo>
                <a:lnTo>
                  <a:pt x="451" y="135"/>
                </a:lnTo>
                <a:lnTo>
                  <a:pt x="468" y="131"/>
                </a:lnTo>
                <a:lnTo>
                  <a:pt x="486" y="127"/>
                </a:lnTo>
                <a:lnTo>
                  <a:pt x="505" y="123"/>
                </a:lnTo>
                <a:lnTo>
                  <a:pt x="524" y="117"/>
                </a:lnTo>
                <a:lnTo>
                  <a:pt x="543" y="113"/>
                </a:lnTo>
                <a:lnTo>
                  <a:pt x="560" y="111"/>
                </a:lnTo>
                <a:lnTo>
                  <a:pt x="578" y="108"/>
                </a:lnTo>
                <a:lnTo>
                  <a:pt x="595" y="106"/>
                </a:lnTo>
                <a:lnTo>
                  <a:pt x="608" y="102"/>
                </a:lnTo>
                <a:lnTo>
                  <a:pt x="624" y="98"/>
                </a:lnTo>
                <a:lnTo>
                  <a:pt x="637" y="94"/>
                </a:lnTo>
                <a:lnTo>
                  <a:pt x="651" y="90"/>
                </a:lnTo>
                <a:lnTo>
                  <a:pt x="662" y="85"/>
                </a:lnTo>
                <a:lnTo>
                  <a:pt x="672" y="81"/>
                </a:lnTo>
                <a:lnTo>
                  <a:pt x="683" y="75"/>
                </a:lnTo>
                <a:lnTo>
                  <a:pt x="691" y="69"/>
                </a:lnTo>
                <a:lnTo>
                  <a:pt x="701" y="64"/>
                </a:lnTo>
                <a:lnTo>
                  <a:pt x="708" y="58"/>
                </a:lnTo>
                <a:lnTo>
                  <a:pt x="714" y="50"/>
                </a:lnTo>
                <a:lnTo>
                  <a:pt x="720" y="44"/>
                </a:lnTo>
                <a:lnTo>
                  <a:pt x="726" y="37"/>
                </a:lnTo>
                <a:lnTo>
                  <a:pt x="733" y="29"/>
                </a:lnTo>
                <a:lnTo>
                  <a:pt x="743" y="21"/>
                </a:lnTo>
                <a:lnTo>
                  <a:pt x="752" y="14"/>
                </a:lnTo>
                <a:lnTo>
                  <a:pt x="760" y="8"/>
                </a:lnTo>
                <a:lnTo>
                  <a:pt x="770" y="4"/>
                </a:lnTo>
                <a:lnTo>
                  <a:pt x="779" y="2"/>
                </a:lnTo>
                <a:lnTo>
                  <a:pt x="789" y="0"/>
                </a:lnTo>
                <a:lnTo>
                  <a:pt x="798" y="0"/>
                </a:lnTo>
                <a:lnTo>
                  <a:pt x="802" y="0"/>
                </a:lnTo>
                <a:lnTo>
                  <a:pt x="808" y="0"/>
                </a:lnTo>
                <a:lnTo>
                  <a:pt x="814" y="2"/>
                </a:lnTo>
                <a:lnTo>
                  <a:pt x="820" y="4"/>
                </a:lnTo>
                <a:lnTo>
                  <a:pt x="827" y="6"/>
                </a:lnTo>
                <a:lnTo>
                  <a:pt x="835" y="10"/>
                </a:lnTo>
                <a:lnTo>
                  <a:pt x="845" y="14"/>
                </a:lnTo>
                <a:lnTo>
                  <a:pt x="854" y="17"/>
                </a:lnTo>
                <a:lnTo>
                  <a:pt x="864" y="23"/>
                </a:lnTo>
                <a:lnTo>
                  <a:pt x="873" y="29"/>
                </a:lnTo>
                <a:lnTo>
                  <a:pt x="885" y="35"/>
                </a:lnTo>
                <a:lnTo>
                  <a:pt x="898" y="42"/>
                </a:lnTo>
                <a:lnTo>
                  <a:pt x="912" y="50"/>
                </a:lnTo>
                <a:lnTo>
                  <a:pt x="925" y="58"/>
                </a:lnTo>
                <a:lnTo>
                  <a:pt x="939" y="65"/>
                </a:lnTo>
                <a:lnTo>
                  <a:pt x="954" y="75"/>
                </a:lnTo>
                <a:lnTo>
                  <a:pt x="967" y="87"/>
                </a:lnTo>
                <a:lnTo>
                  <a:pt x="979" y="98"/>
                </a:lnTo>
                <a:lnTo>
                  <a:pt x="990" y="110"/>
                </a:lnTo>
                <a:lnTo>
                  <a:pt x="1002" y="119"/>
                </a:lnTo>
                <a:lnTo>
                  <a:pt x="1011" y="129"/>
                </a:lnTo>
                <a:lnTo>
                  <a:pt x="1021" y="136"/>
                </a:lnTo>
                <a:lnTo>
                  <a:pt x="1029" y="144"/>
                </a:lnTo>
                <a:lnTo>
                  <a:pt x="1036" y="152"/>
                </a:lnTo>
                <a:lnTo>
                  <a:pt x="1042" y="159"/>
                </a:lnTo>
                <a:lnTo>
                  <a:pt x="1048" y="165"/>
                </a:lnTo>
                <a:lnTo>
                  <a:pt x="1052" y="171"/>
                </a:lnTo>
                <a:lnTo>
                  <a:pt x="1056" y="175"/>
                </a:lnTo>
                <a:lnTo>
                  <a:pt x="1059" y="181"/>
                </a:lnTo>
                <a:lnTo>
                  <a:pt x="1061" y="184"/>
                </a:lnTo>
                <a:lnTo>
                  <a:pt x="1063" y="186"/>
                </a:lnTo>
                <a:lnTo>
                  <a:pt x="1063" y="190"/>
                </a:lnTo>
                <a:lnTo>
                  <a:pt x="1063" y="196"/>
                </a:lnTo>
                <a:lnTo>
                  <a:pt x="1061" y="202"/>
                </a:lnTo>
                <a:lnTo>
                  <a:pt x="1058" y="207"/>
                </a:lnTo>
                <a:lnTo>
                  <a:pt x="1054" y="215"/>
                </a:lnTo>
                <a:lnTo>
                  <a:pt x="1050" y="223"/>
                </a:lnTo>
                <a:lnTo>
                  <a:pt x="1042" y="229"/>
                </a:lnTo>
                <a:lnTo>
                  <a:pt x="1035" y="234"/>
                </a:lnTo>
                <a:lnTo>
                  <a:pt x="1027" y="240"/>
                </a:lnTo>
                <a:lnTo>
                  <a:pt x="1021" y="246"/>
                </a:lnTo>
                <a:lnTo>
                  <a:pt x="1015" y="254"/>
                </a:lnTo>
                <a:lnTo>
                  <a:pt x="1010" y="261"/>
                </a:lnTo>
                <a:lnTo>
                  <a:pt x="1004" y="269"/>
                </a:lnTo>
                <a:lnTo>
                  <a:pt x="1000" y="278"/>
                </a:lnTo>
                <a:lnTo>
                  <a:pt x="994" y="290"/>
                </a:lnTo>
                <a:lnTo>
                  <a:pt x="990" y="303"/>
                </a:lnTo>
                <a:lnTo>
                  <a:pt x="988" y="315"/>
                </a:lnTo>
                <a:lnTo>
                  <a:pt x="985" y="330"/>
                </a:lnTo>
                <a:lnTo>
                  <a:pt x="981" y="346"/>
                </a:lnTo>
                <a:lnTo>
                  <a:pt x="979" y="361"/>
                </a:lnTo>
                <a:lnTo>
                  <a:pt x="975" y="378"/>
                </a:lnTo>
                <a:lnTo>
                  <a:pt x="973" y="397"/>
                </a:lnTo>
                <a:lnTo>
                  <a:pt x="971" y="417"/>
                </a:lnTo>
                <a:lnTo>
                  <a:pt x="969" y="436"/>
                </a:lnTo>
                <a:lnTo>
                  <a:pt x="967" y="457"/>
                </a:lnTo>
                <a:lnTo>
                  <a:pt x="964" y="478"/>
                </a:lnTo>
                <a:lnTo>
                  <a:pt x="962" y="501"/>
                </a:lnTo>
                <a:lnTo>
                  <a:pt x="958" y="526"/>
                </a:lnTo>
                <a:lnTo>
                  <a:pt x="956" y="551"/>
                </a:lnTo>
                <a:lnTo>
                  <a:pt x="952" y="576"/>
                </a:lnTo>
                <a:lnTo>
                  <a:pt x="948" y="603"/>
                </a:lnTo>
                <a:lnTo>
                  <a:pt x="944" y="630"/>
                </a:lnTo>
                <a:lnTo>
                  <a:pt x="939" y="657"/>
                </a:lnTo>
                <a:lnTo>
                  <a:pt x="935" y="687"/>
                </a:lnTo>
                <a:lnTo>
                  <a:pt x="929" y="716"/>
                </a:lnTo>
                <a:lnTo>
                  <a:pt x="925" y="747"/>
                </a:lnTo>
                <a:lnTo>
                  <a:pt x="919" y="779"/>
                </a:lnTo>
                <a:lnTo>
                  <a:pt x="914" y="812"/>
                </a:lnTo>
                <a:lnTo>
                  <a:pt x="906" y="845"/>
                </a:lnTo>
                <a:lnTo>
                  <a:pt x="900" y="879"/>
                </a:lnTo>
                <a:lnTo>
                  <a:pt x="894" y="916"/>
                </a:lnTo>
                <a:lnTo>
                  <a:pt x="887" y="950"/>
                </a:lnTo>
                <a:lnTo>
                  <a:pt x="879" y="983"/>
                </a:lnTo>
                <a:lnTo>
                  <a:pt x="873" y="1016"/>
                </a:lnTo>
                <a:lnTo>
                  <a:pt x="866" y="1044"/>
                </a:lnTo>
                <a:lnTo>
                  <a:pt x="856" y="1073"/>
                </a:lnTo>
                <a:lnTo>
                  <a:pt x="848" y="1098"/>
                </a:lnTo>
                <a:lnTo>
                  <a:pt x="839" y="1123"/>
                </a:lnTo>
                <a:lnTo>
                  <a:pt x="831" y="1148"/>
                </a:lnTo>
                <a:lnTo>
                  <a:pt x="821" y="1169"/>
                </a:lnTo>
                <a:lnTo>
                  <a:pt x="812" y="1190"/>
                </a:lnTo>
                <a:lnTo>
                  <a:pt x="802" y="1209"/>
                </a:lnTo>
                <a:lnTo>
                  <a:pt x="793" y="1227"/>
                </a:lnTo>
                <a:lnTo>
                  <a:pt x="781" y="1242"/>
                </a:lnTo>
                <a:lnTo>
                  <a:pt x="772" y="1257"/>
                </a:lnTo>
                <a:lnTo>
                  <a:pt x="760" y="1271"/>
                </a:lnTo>
                <a:lnTo>
                  <a:pt x="749" y="1284"/>
                </a:lnTo>
                <a:lnTo>
                  <a:pt x="739" y="1296"/>
                </a:lnTo>
                <a:lnTo>
                  <a:pt x="727" y="1307"/>
                </a:lnTo>
                <a:lnTo>
                  <a:pt x="718" y="1317"/>
                </a:lnTo>
                <a:lnTo>
                  <a:pt x="708" y="1325"/>
                </a:lnTo>
                <a:lnTo>
                  <a:pt x="699" y="1334"/>
                </a:lnTo>
                <a:lnTo>
                  <a:pt x="691" y="1340"/>
                </a:lnTo>
                <a:lnTo>
                  <a:pt x="683" y="1348"/>
                </a:lnTo>
                <a:lnTo>
                  <a:pt x="676" y="1353"/>
                </a:lnTo>
                <a:lnTo>
                  <a:pt x="668" y="1357"/>
                </a:lnTo>
                <a:lnTo>
                  <a:pt x="660" y="1363"/>
                </a:lnTo>
                <a:lnTo>
                  <a:pt x="654" y="1365"/>
                </a:lnTo>
                <a:lnTo>
                  <a:pt x="649" y="1369"/>
                </a:lnTo>
                <a:lnTo>
                  <a:pt x="643" y="1371"/>
                </a:lnTo>
                <a:lnTo>
                  <a:pt x="637" y="1373"/>
                </a:lnTo>
                <a:lnTo>
                  <a:pt x="633" y="1373"/>
                </a:lnTo>
                <a:lnTo>
                  <a:pt x="628" y="1375"/>
                </a:lnTo>
                <a:lnTo>
                  <a:pt x="622" y="1373"/>
                </a:lnTo>
                <a:lnTo>
                  <a:pt x="616" y="1373"/>
                </a:lnTo>
                <a:lnTo>
                  <a:pt x="610" y="1371"/>
                </a:lnTo>
                <a:lnTo>
                  <a:pt x="605" y="1369"/>
                </a:lnTo>
                <a:lnTo>
                  <a:pt x="601" y="1365"/>
                </a:lnTo>
                <a:lnTo>
                  <a:pt x="597" y="1363"/>
                </a:lnTo>
                <a:lnTo>
                  <a:pt x="595" y="1357"/>
                </a:lnTo>
                <a:lnTo>
                  <a:pt x="591" y="1353"/>
                </a:lnTo>
                <a:lnTo>
                  <a:pt x="589" y="1348"/>
                </a:lnTo>
                <a:lnTo>
                  <a:pt x="589" y="1340"/>
                </a:lnTo>
                <a:lnTo>
                  <a:pt x="587" y="1334"/>
                </a:lnTo>
                <a:lnTo>
                  <a:pt x="587" y="1325"/>
                </a:lnTo>
                <a:lnTo>
                  <a:pt x="587" y="1317"/>
                </a:lnTo>
                <a:lnTo>
                  <a:pt x="589" y="1307"/>
                </a:lnTo>
                <a:lnTo>
                  <a:pt x="589" y="1296"/>
                </a:lnTo>
                <a:lnTo>
                  <a:pt x="591" y="1284"/>
                </a:lnTo>
                <a:lnTo>
                  <a:pt x="591" y="1275"/>
                </a:lnTo>
                <a:lnTo>
                  <a:pt x="589" y="1265"/>
                </a:lnTo>
                <a:lnTo>
                  <a:pt x="587" y="1255"/>
                </a:lnTo>
                <a:lnTo>
                  <a:pt x="585" y="1246"/>
                </a:lnTo>
                <a:lnTo>
                  <a:pt x="582" y="1236"/>
                </a:lnTo>
                <a:lnTo>
                  <a:pt x="576" y="1227"/>
                </a:lnTo>
                <a:lnTo>
                  <a:pt x="570" y="1217"/>
                </a:lnTo>
                <a:lnTo>
                  <a:pt x="564" y="1208"/>
                </a:lnTo>
                <a:lnTo>
                  <a:pt x="557" y="1196"/>
                </a:lnTo>
                <a:lnTo>
                  <a:pt x="549" y="1186"/>
                </a:lnTo>
                <a:lnTo>
                  <a:pt x="539" y="1175"/>
                </a:lnTo>
                <a:lnTo>
                  <a:pt x="530" y="1165"/>
                </a:lnTo>
                <a:lnTo>
                  <a:pt x="520" y="1154"/>
                </a:lnTo>
                <a:lnTo>
                  <a:pt x="509" y="1142"/>
                </a:lnTo>
                <a:lnTo>
                  <a:pt x="497" y="1131"/>
                </a:lnTo>
                <a:lnTo>
                  <a:pt x="484" y="11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77"/>
          <p:cNvSpPr/>
          <p:nvPr/>
        </p:nvSpPr>
        <p:spPr>
          <a:xfrm>
            <a:off x="6303960" y="2733840"/>
            <a:ext cx="663480" cy="1001520"/>
          </a:xfrm>
          <a:custGeom>
            <a:avLst/>
            <a:gdLst/>
            <a:ahLst/>
            <a:rect l="l" t="t" r="r" b="b"/>
            <a:pathLst>
              <a:path w="837" h="1263">
                <a:moveTo>
                  <a:pt x="2" y="1261"/>
                </a:moveTo>
                <a:lnTo>
                  <a:pt x="0" y="1257"/>
                </a:lnTo>
                <a:lnTo>
                  <a:pt x="0" y="1254"/>
                </a:lnTo>
                <a:lnTo>
                  <a:pt x="2" y="1248"/>
                </a:lnTo>
                <a:lnTo>
                  <a:pt x="4" y="1240"/>
                </a:lnTo>
                <a:lnTo>
                  <a:pt x="7" y="1231"/>
                </a:lnTo>
                <a:lnTo>
                  <a:pt x="13" y="1221"/>
                </a:lnTo>
                <a:lnTo>
                  <a:pt x="21" y="1209"/>
                </a:lnTo>
                <a:lnTo>
                  <a:pt x="29" y="1196"/>
                </a:lnTo>
                <a:lnTo>
                  <a:pt x="36" y="1181"/>
                </a:lnTo>
                <a:lnTo>
                  <a:pt x="48" y="1165"/>
                </a:lnTo>
                <a:lnTo>
                  <a:pt x="59" y="1148"/>
                </a:lnTo>
                <a:lnTo>
                  <a:pt x="73" y="1131"/>
                </a:lnTo>
                <a:lnTo>
                  <a:pt x="86" y="1112"/>
                </a:lnTo>
                <a:lnTo>
                  <a:pt x="102" y="1090"/>
                </a:lnTo>
                <a:lnTo>
                  <a:pt x="117" y="1067"/>
                </a:lnTo>
                <a:lnTo>
                  <a:pt x="134" y="1044"/>
                </a:lnTo>
                <a:lnTo>
                  <a:pt x="171" y="1000"/>
                </a:lnTo>
                <a:lnTo>
                  <a:pt x="205" y="956"/>
                </a:lnTo>
                <a:lnTo>
                  <a:pt x="238" y="910"/>
                </a:lnTo>
                <a:lnTo>
                  <a:pt x="270" y="864"/>
                </a:lnTo>
                <a:lnTo>
                  <a:pt x="301" y="818"/>
                </a:lnTo>
                <a:lnTo>
                  <a:pt x="332" y="770"/>
                </a:lnTo>
                <a:lnTo>
                  <a:pt x="361" y="724"/>
                </a:lnTo>
                <a:lnTo>
                  <a:pt x="389" y="676"/>
                </a:lnTo>
                <a:lnTo>
                  <a:pt x="414" y="632"/>
                </a:lnTo>
                <a:lnTo>
                  <a:pt x="439" y="588"/>
                </a:lnTo>
                <a:lnTo>
                  <a:pt x="464" y="541"/>
                </a:lnTo>
                <a:lnTo>
                  <a:pt x="487" y="495"/>
                </a:lnTo>
                <a:lnTo>
                  <a:pt x="507" y="449"/>
                </a:lnTo>
                <a:lnTo>
                  <a:pt x="516" y="424"/>
                </a:lnTo>
                <a:lnTo>
                  <a:pt x="526" y="401"/>
                </a:lnTo>
                <a:lnTo>
                  <a:pt x="535" y="378"/>
                </a:lnTo>
                <a:lnTo>
                  <a:pt x="543" y="353"/>
                </a:lnTo>
                <a:lnTo>
                  <a:pt x="551" y="330"/>
                </a:lnTo>
                <a:lnTo>
                  <a:pt x="558" y="305"/>
                </a:lnTo>
                <a:lnTo>
                  <a:pt x="564" y="284"/>
                </a:lnTo>
                <a:lnTo>
                  <a:pt x="570" y="265"/>
                </a:lnTo>
                <a:lnTo>
                  <a:pt x="576" y="246"/>
                </a:lnTo>
                <a:lnTo>
                  <a:pt x="579" y="227"/>
                </a:lnTo>
                <a:lnTo>
                  <a:pt x="583" y="209"/>
                </a:lnTo>
                <a:lnTo>
                  <a:pt x="587" y="194"/>
                </a:lnTo>
                <a:lnTo>
                  <a:pt x="591" y="179"/>
                </a:lnTo>
                <a:lnTo>
                  <a:pt x="593" y="165"/>
                </a:lnTo>
                <a:lnTo>
                  <a:pt x="593" y="152"/>
                </a:lnTo>
                <a:lnTo>
                  <a:pt x="595" y="138"/>
                </a:lnTo>
                <a:lnTo>
                  <a:pt x="595" y="129"/>
                </a:lnTo>
                <a:lnTo>
                  <a:pt x="593" y="119"/>
                </a:lnTo>
                <a:lnTo>
                  <a:pt x="591" y="110"/>
                </a:lnTo>
                <a:lnTo>
                  <a:pt x="589" y="102"/>
                </a:lnTo>
                <a:lnTo>
                  <a:pt x="585" y="96"/>
                </a:lnTo>
                <a:lnTo>
                  <a:pt x="581" y="90"/>
                </a:lnTo>
                <a:lnTo>
                  <a:pt x="576" y="85"/>
                </a:lnTo>
                <a:lnTo>
                  <a:pt x="570" y="81"/>
                </a:lnTo>
                <a:lnTo>
                  <a:pt x="566" y="75"/>
                </a:lnTo>
                <a:lnTo>
                  <a:pt x="562" y="71"/>
                </a:lnTo>
                <a:lnTo>
                  <a:pt x="558" y="65"/>
                </a:lnTo>
                <a:lnTo>
                  <a:pt x="556" y="62"/>
                </a:lnTo>
                <a:lnTo>
                  <a:pt x="555" y="56"/>
                </a:lnTo>
                <a:lnTo>
                  <a:pt x="553" y="52"/>
                </a:lnTo>
                <a:lnTo>
                  <a:pt x="553" y="46"/>
                </a:lnTo>
                <a:lnTo>
                  <a:pt x="555" y="42"/>
                </a:lnTo>
                <a:lnTo>
                  <a:pt x="555" y="37"/>
                </a:lnTo>
                <a:lnTo>
                  <a:pt x="556" y="33"/>
                </a:lnTo>
                <a:lnTo>
                  <a:pt x="558" y="27"/>
                </a:lnTo>
                <a:lnTo>
                  <a:pt x="562" y="23"/>
                </a:lnTo>
                <a:lnTo>
                  <a:pt x="566" y="17"/>
                </a:lnTo>
                <a:lnTo>
                  <a:pt x="570" y="14"/>
                </a:lnTo>
                <a:lnTo>
                  <a:pt x="576" y="10"/>
                </a:lnTo>
                <a:lnTo>
                  <a:pt x="579" y="6"/>
                </a:lnTo>
                <a:lnTo>
                  <a:pt x="585" y="2"/>
                </a:lnTo>
                <a:lnTo>
                  <a:pt x="593" y="0"/>
                </a:lnTo>
                <a:lnTo>
                  <a:pt x="601" y="0"/>
                </a:lnTo>
                <a:lnTo>
                  <a:pt x="608" y="0"/>
                </a:lnTo>
                <a:lnTo>
                  <a:pt x="616" y="0"/>
                </a:lnTo>
                <a:lnTo>
                  <a:pt x="626" y="2"/>
                </a:lnTo>
                <a:lnTo>
                  <a:pt x="635" y="4"/>
                </a:lnTo>
                <a:lnTo>
                  <a:pt x="647" y="8"/>
                </a:lnTo>
                <a:lnTo>
                  <a:pt x="658" y="10"/>
                </a:lnTo>
                <a:lnTo>
                  <a:pt x="670" y="16"/>
                </a:lnTo>
                <a:lnTo>
                  <a:pt x="683" y="19"/>
                </a:lnTo>
                <a:lnTo>
                  <a:pt x="697" y="25"/>
                </a:lnTo>
                <a:lnTo>
                  <a:pt x="712" y="31"/>
                </a:lnTo>
                <a:lnTo>
                  <a:pt x="727" y="39"/>
                </a:lnTo>
                <a:lnTo>
                  <a:pt x="741" y="46"/>
                </a:lnTo>
                <a:lnTo>
                  <a:pt x="752" y="54"/>
                </a:lnTo>
                <a:lnTo>
                  <a:pt x="764" y="60"/>
                </a:lnTo>
                <a:lnTo>
                  <a:pt x="775" y="67"/>
                </a:lnTo>
                <a:lnTo>
                  <a:pt x="785" y="75"/>
                </a:lnTo>
                <a:lnTo>
                  <a:pt x="793" y="83"/>
                </a:lnTo>
                <a:lnTo>
                  <a:pt x="802" y="88"/>
                </a:lnTo>
                <a:lnTo>
                  <a:pt x="808" y="96"/>
                </a:lnTo>
                <a:lnTo>
                  <a:pt x="816" y="104"/>
                </a:lnTo>
                <a:lnTo>
                  <a:pt x="821" y="112"/>
                </a:lnTo>
                <a:lnTo>
                  <a:pt x="825" y="117"/>
                </a:lnTo>
                <a:lnTo>
                  <a:pt x="829" y="125"/>
                </a:lnTo>
                <a:lnTo>
                  <a:pt x="833" y="133"/>
                </a:lnTo>
                <a:lnTo>
                  <a:pt x="835" y="138"/>
                </a:lnTo>
                <a:lnTo>
                  <a:pt x="835" y="146"/>
                </a:lnTo>
                <a:lnTo>
                  <a:pt x="837" y="154"/>
                </a:lnTo>
                <a:lnTo>
                  <a:pt x="835" y="158"/>
                </a:lnTo>
                <a:lnTo>
                  <a:pt x="835" y="161"/>
                </a:lnTo>
                <a:lnTo>
                  <a:pt x="835" y="167"/>
                </a:lnTo>
                <a:lnTo>
                  <a:pt x="833" y="173"/>
                </a:lnTo>
                <a:lnTo>
                  <a:pt x="831" y="179"/>
                </a:lnTo>
                <a:lnTo>
                  <a:pt x="829" y="184"/>
                </a:lnTo>
                <a:lnTo>
                  <a:pt x="827" y="192"/>
                </a:lnTo>
                <a:lnTo>
                  <a:pt x="823" y="200"/>
                </a:lnTo>
                <a:lnTo>
                  <a:pt x="821" y="209"/>
                </a:lnTo>
                <a:lnTo>
                  <a:pt x="817" y="217"/>
                </a:lnTo>
                <a:lnTo>
                  <a:pt x="814" y="227"/>
                </a:lnTo>
                <a:lnTo>
                  <a:pt x="810" y="238"/>
                </a:lnTo>
                <a:lnTo>
                  <a:pt x="804" y="248"/>
                </a:lnTo>
                <a:lnTo>
                  <a:pt x="800" y="259"/>
                </a:lnTo>
                <a:lnTo>
                  <a:pt x="794" y="271"/>
                </a:lnTo>
                <a:lnTo>
                  <a:pt x="789" y="284"/>
                </a:lnTo>
                <a:lnTo>
                  <a:pt x="783" y="296"/>
                </a:lnTo>
                <a:lnTo>
                  <a:pt x="775" y="309"/>
                </a:lnTo>
                <a:lnTo>
                  <a:pt x="768" y="323"/>
                </a:lnTo>
                <a:lnTo>
                  <a:pt x="762" y="338"/>
                </a:lnTo>
                <a:lnTo>
                  <a:pt x="754" y="353"/>
                </a:lnTo>
                <a:lnTo>
                  <a:pt x="745" y="369"/>
                </a:lnTo>
                <a:lnTo>
                  <a:pt x="737" y="384"/>
                </a:lnTo>
                <a:lnTo>
                  <a:pt x="727" y="399"/>
                </a:lnTo>
                <a:lnTo>
                  <a:pt x="718" y="417"/>
                </a:lnTo>
                <a:lnTo>
                  <a:pt x="708" y="434"/>
                </a:lnTo>
                <a:lnTo>
                  <a:pt x="698" y="451"/>
                </a:lnTo>
                <a:lnTo>
                  <a:pt x="689" y="470"/>
                </a:lnTo>
                <a:lnTo>
                  <a:pt x="666" y="509"/>
                </a:lnTo>
                <a:lnTo>
                  <a:pt x="643" y="549"/>
                </a:lnTo>
                <a:lnTo>
                  <a:pt x="618" y="591"/>
                </a:lnTo>
                <a:lnTo>
                  <a:pt x="593" y="632"/>
                </a:lnTo>
                <a:lnTo>
                  <a:pt x="568" y="672"/>
                </a:lnTo>
                <a:lnTo>
                  <a:pt x="543" y="710"/>
                </a:lnTo>
                <a:lnTo>
                  <a:pt x="518" y="749"/>
                </a:lnTo>
                <a:lnTo>
                  <a:pt x="493" y="785"/>
                </a:lnTo>
                <a:lnTo>
                  <a:pt x="468" y="820"/>
                </a:lnTo>
                <a:lnTo>
                  <a:pt x="443" y="852"/>
                </a:lnTo>
                <a:lnTo>
                  <a:pt x="418" y="885"/>
                </a:lnTo>
                <a:lnTo>
                  <a:pt x="393" y="918"/>
                </a:lnTo>
                <a:lnTo>
                  <a:pt x="368" y="948"/>
                </a:lnTo>
                <a:lnTo>
                  <a:pt x="343" y="977"/>
                </a:lnTo>
                <a:lnTo>
                  <a:pt x="318" y="1004"/>
                </a:lnTo>
                <a:lnTo>
                  <a:pt x="293" y="1031"/>
                </a:lnTo>
                <a:lnTo>
                  <a:pt x="269" y="1058"/>
                </a:lnTo>
                <a:lnTo>
                  <a:pt x="244" y="1083"/>
                </a:lnTo>
                <a:lnTo>
                  <a:pt x="230" y="1096"/>
                </a:lnTo>
                <a:lnTo>
                  <a:pt x="217" y="1108"/>
                </a:lnTo>
                <a:lnTo>
                  <a:pt x="205" y="1119"/>
                </a:lnTo>
                <a:lnTo>
                  <a:pt x="192" y="1131"/>
                </a:lnTo>
                <a:lnTo>
                  <a:pt x="180" y="1142"/>
                </a:lnTo>
                <a:lnTo>
                  <a:pt x="169" y="1152"/>
                </a:lnTo>
                <a:lnTo>
                  <a:pt x="157" y="1161"/>
                </a:lnTo>
                <a:lnTo>
                  <a:pt x="148" y="1171"/>
                </a:lnTo>
                <a:lnTo>
                  <a:pt x="136" y="1181"/>
                </a:lnTo>
                <a:lnTo>
                  <a:pt x="126" y="1188"/>
                </a:lnTo>
                <a:lnTo>
                  <a:pt x="117" y="1198"/>
                </a:lnTo>
                <a:lnTo>
                  <a:pt x="107" y="1204"/>
                </a:lnTo>
                <a:lnTo>
                  <a:pt x="90" y="1217"/>
                </a:lnTo>
                <a:lnTo>
                  <a:pt x="73" y="1229"/>
                </a:lnTo>
                <a:lnTo>
                  <a:pt x="59" y="1240"/>
                </a:lnTo>
                <a:lnTo>
                  <a:pt x="46" y="1248"/>
                </a:lnTo>
                <a:lnTo>
                  <a:pt x="34" y="1254"/>
                </a:lnTo>
                <a:lnTo>
                  <a:pt x="25" y="1257"/>
                </a:lnTo>
                <a:lnTo>
                  <a:pt x="17" y="1261"/>
                </a:lnTo>
                <a:lnTo>
                  <a:pt x="9" y="1263"/>
                </a:lnTo>
                <a:lnTo>
                  <a:pt x="6" y="1263"/>
                </a:lnTo>
                <a:lnTo>
                  <a:pt x="2" y="12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78"/>
          <p:cNvSpPr/>
          <p:nvPr/>
        </p:nvSpPr>
        <p:spPr>
          <a:xfrm>
            <a:off x="5719680" y="3884760"/>
            <a:ext cx="488880" cy="172800"/>
          </a:xfrm>
          <a:custGeom>
            <a:avLst/>
            <a:gdLst/>
            <a:ahLst/>
            <a:rect l="l" t="t" r="r" b="b"/>
            <a:pathLst>
              <a:path w="616" h="217">
                <a:moveTo>
                  <a:pt x="314" y="39"/>
                </a:moveTo>
                <a:lnTo>
                  <a:pt x="326" y="35"/>
                </a:lnTo>
                <a:lnTo>
                  <a:pt x="339" y="29"/>
                </a:lnTo>
                <a:lnTo>
                  <a:pt x="351" y="25"/>
                </a:lnTo>
                <a:lnTo>
                  <a:pt x="364" y="21"/>
                </a:lnTo>
                <a:lnTo>
                  <a:pt x="374" y="18"/>
                </a:lnTo>
                <a:lnTo>
                  <a:pt x="385" y="16"/>
                </a:lnTo>
                <a:lnTo>
                  <a:pt x="407" y="10"/>
                </a:lnTo>
                <a:lnTo>
                  <a:pt x="424" y="6"/>
                </a:lnTo>
                <a:lnTo>
                  <a:pt x="441" y="2"/>
                </a:lnTo>
                <a:lnTo>
                  <a:pt x="456" y="2"/>
                </a:lnTo>
                <a:lnTo>
                  <a:pt x="472" y="0"/>
                </a:lnTo>
                <a:lnTo>
                  <a:pt x="483" y="2"/>
                </a:lnTo>
                <a:lnTo>
                  <a:pt x="497" y="2"/>
                </a:lnTo>
                <a:lnTo>
                  <a:pt x="508" y="6"/>
                </a:lnTo>
                <a:lnTo>
                  <a:pt x="520" y="8"/>
                </a:lnTo>
                <a:lnTo>
                  <a:pt x="531" y="12"/>
                </a:lnTo>
                <a:lnTo>
                  <a:pt x="543" y="18"/>
                </a:lnTo>
                <a:lnTo>
                  <a:pt x="554" y="21"/>
                </a:lnTo>
                <a:lnTo>
                  <a:pt x="568" y="27"/>
                </a:lnTo>
                <a:lnTo>
                  <a:pt x="574" y="29"/>
                </a:lnTo>
                <a:lnTo>
                  <a:pt x="579" y="31"/>
                </a:lnTo>
                <a:lnTo>
                  <a:pt x="585" y="35"/>
                </a:lnTo>
                <a:lnTo>
                  <a:pt x="591" y="39"/>
                </a:lnTo>
                <a:lnTo>
                  <a:pt x="595" y="41"/>
                </a:lnTo>
                <a:lnTo>
                  <a:pt x="599" y="44"/>
                </a:lnTo>
                <a:lnTo>
                  <a:pt x="606" y="52"/>
                </a:lnTo>
                <a:lnTo>
                  <a:pt x="610" y="58"/>
                </a:lnTo>
                <a:lnTo>
                  <a:pt x="614" y="66"/>
                </a:lnTo>
                <a:lnTo>
                  <a:pt x="616" y="71"/>
                </a:lnTo>
                <a:lnTo>
                  <a:pt x="616" y="77"/>
                </a:lnTo>
                <a:lnTo>
                  <a:pt x="616" y="79"/>
                </a:lnTo>
                <a:lnTo>
                  <a:pt x="616" y="83"/>
                </a:lnTo>
                <a:lnTo>
                  <a:pt x="614" y="85"/>
                </a:lnTo>
                <a:lnTo>
                  <a:pt x="612" y="87"/>
                </a:lnTo>
                <a:lnTo>
                  <a:pt x="610" y="89"/>
                </a:lnTo>
                <a:lnTo>
                  <a:pt x="606" y="91"/>
                </a:lnTo>
                <a:lnTo>
                  <a:pt x="604" y="94"/>
                </a:lnTo>
                <a:lnTo>
                  <a:pt x="600" y="96"/>
                </a:lnTo>
                <a:lnTo>
                  <a:pt x="591" y="102"/>
                </a:lnTo>
                <a:lnTo>
                  <a:pt x="581" y="106"/>
                </a:lnTo>
                <a:lnTo>
                  <a:pt x="568" y="112"/>
                </a:lnTo>
                <a:lnTo>
                  <a:pt x="554" y="117"/>
                </a:lnTo>
                <a:lnTo>
                  <a:pt x="537" y="121"/>
                </a:lnTo>
                <a:lnTo>
                  <a:pt x="520" y="127"/>
                </a:lnTo>
                <a:lnTo>
                  <a:pt x="499" y="133"/>
                </a:lnTo>
                <a:lnTo>
                  <a:pt x="478" y="139"/>
                </a:lnTo>
                <a:lnTo>
                  <a:pt x="455" y="146"/>
                </a:lnTo>
                <a:lnTo>
                  <a:pt x="430" y="152"/>
                </a:lnTo>
                <a:lnTo>
                  <a:pt x="403" y="160"/>
                </a:lnTo>
                <a:lnTo>
                  <a:pt x="374" y="165"/>
                </a:lnTo>
                <a:lnTo>
                  <a:pt x="345" y="173"/>
                </a:lnTo>
                <a:lnTo>
                  <a:pt x="316" y="179"/>
                </a:lnTo>
                <a:lnTo>
                  <a:pt x="288" y="185"/>
                </a:lnTo>
                <a:lnTo>
                  <a:pt x="261" y="190"/>
                </a:lnTo>
                <a:lnTo>
                  <a:pt x="234" y="194"/>
                </a:lnTo>
                <a:lnTo>
                  <a:pt x="209" y="200"/>
                </a:lnTo>
                <a:lnTo>
                  <a:pt x="184" y="204"/>
                </a:lnTo>
                <a:lnTo>
                  <a:pt x="159" y="206"/>
                </a:lnTo>
                <a:lnTo>
                  <a:pt x="136" y="210"/>
                </a:lnTo>
                <a:lnTo>
                  <a:pt x="113" y="211"/>
                </a:lnTo>
                <a:lnTo>
                  <a:pt x="92" y="213"/>
                </a:lnTo>
                <a:lnTo>
                  <a:pt x="71" y="215"/>
                </a:lnTo>
                <a:lnTo>
                  <a:pt x="51" y="215"/>
                </a:lnTo>
                <a:lnTo>
                  <a:pt x="32" y="217"/>
                </a:lnTo>
                <a:lnTo>
                  <a:pt x="15" y="217"/>
                </a:lnTo>
                <a:lnTo>
                  <a:pt x="0" y="217"/>
                </a:lnTo>
                <a:lnTo>
                  <a:pt x="0" y="160"/>
                </a:lnTo>
                <a:lnTo>
                  <a:pt x="0" y="102"/>
                </a:lnTo>
                <a:lnTo>
                  <a:pt x="25" y="100"/>
                </a:lnTo>
                <a:lnTo>
                  <a:pt x="48" y="96"/>
                </a:lnTo>
                <a:lnTo>
                  <a:pt x="71" y="94"/>
                </a:lnTo>
                <a:lnTo>
                  <a:pt x="94" y="91"/>
                </a:lnTo>
                <a:lnTo>
                  <a:pt x="117" y="87"/>
                </a:lnTo>
                <a:lnTo>
                  <a:pt x="138" y="83"/>
                </a:lnTo>
                <a:lnTo>
                  <a:pt x="159" y="79"/>
                </a:lnTo>
                <a:lnTo>
                  <a:pt x="178" y="75"/>
                </a:lnTo>
                <a:lnTo>
                  <a:pt x="199" y="71"/>
                </a:lnTo>
                <a:lnTo>
                  <a:pt x="217" y="67"/>
                </a:lnTo>
                <a:lnTo>
                  <a:pt x="236" y="62"/>
                </a:lnTo>
                <a:lnTo>
                  <a:pt x="253" y="58"/>
                </a:lnTo>
                <a:lnTo>
                  <a:pt x="268" y="54"/>
                </a:lnTo>
                <a:lnTo>
                  <a:pt x="284" y="48"/>
                </a:lnTo>
                <a:lnTo>
                  <a:pt x="299" y="44"/>
                </a:lnTo>
                <a:lnTo>
                  <a:pt x="314" y="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79"/>
          <p:cNvSpPr/>
          <p:nvPr/>
        </p:nvSpPr>
        <p:spPr>
          <a:xfrm>
            <a:off x="5700600" y="3370320"/>
            <a:ext cx="614520" cy="585720"/>
          </a:xfrm>
          <a:custGeom>
            <a:avLst/>
            <a:gdLst/>
            <a:ahLst/>
            <a:rect l="l" t="t" r="r" b="b"/>
            <a:pathLst>
              <a:path w="773" h="739">
                <a:moveTo>
                  <a:pt x="581" y="739"/>
                </a:moveTo>
                <a:lnTo>
                  <a:pt x="514" y="739"/>
                </a:lnTo>
                <a:lnTo>
                  <a:pt x="447" y="739"/>
                </a:lnTo>
                <a:lnTo>
                  <a:pt x="449" y="710"/>
                </a:lnTo>
                <a:lnTo>
                  <a:pt x="453" y="685"/>
                </a:lnTo>
                <a:lnTo>
                  <a:pt x="455" y="658"/>
                </a:lnTo>
                <a:lnTo>
                  <a:pt x="457" y="633"/>
                </a:lnTo>
                <a:lnTo>
                  <a:pt x="458" y="610"/>
                </a:lnTo>
                <a:lnTo>
                  <a:pt x="460" y="587"/>
                </a:lnTo>
                <a:lnTo>
                  <a:pt x="460" y="564"/>
                </a:lnTo>
                <a:lnTo>
                  <a:pt x="462" y="543"/>
                </a:lnTo>
                <a:lnTo>
                  <a:pt x="464" y="522"/>
                </a:lnTo>
                <a:lnTo>
                  <a:pt x="466" y="501"/>
                </a:lnTo>
                <a:lnTo>
                  <a:pt x="468" y="481"/>
                </a:lnTo>
                <a:lnTo>
                  <a:pt x="470" y="462"/>
                </a:lnTo>
                <a:lnTo>
                  <a:pt x="470" y="445"/>
                </a:lnTo>
                <a:lnTo>
                  <a:pt x="472" y="428"/>
                </a:lnTo>
                <a:lnTo>
                  <a:pt x="474" y="410"/>
                </a:lnTo>
                <a:lnTo>
                  <a:pt x="474" y="395"/>
                </a:lnTo>
                <a:lnTo>
                  <a:pt x="476" y="382"/>
                </a:lnTo>
                <a:lnTo>
                  <a:pt x="476" y="366"/>
                </a:lnTo>
                <a:lnTo>
                  <a:pt x="478" y="353"/>
                </a:lnTo>
                <a:lnTo>
                  <a:pt x="478" y="341"/>
                </a:lnTo>
                <a:lnTo>
                  <a:pt x="480" y="330"/>
                </a:lnTo>
                <a:lnTo>
                  <a:pt x="480" y="318"/>
                </a:lnTo>
                <a:lnTo>
                  <a:pt x="480" y="309"/>
                </a:lnTo>
                <a:lnTo>
                  <a:pt x="481" y="299"/>
                </a:lnTo>
                <a:lnTo>
                  <a:pt x="481" y="291"/>
                </a:lnTo>
                <a:lnTo>
                  <a:pt x="481" y="284"/>
                </a:lnTo>
                <a:lnTo>
                  <a:pt x="483" y="276"/>
                </a:lnTo>
                <a:lnTo>
                  <a:pt x="483" y="270"/>
                </a:lnTo>
                <a:lnTo>
                  <a:pt x="483" y="264"/>
                </a:lnTo>
                <a:lnTo>
                  <a:pt x="483" y="261"/>
                </a:lnTo>
                <a:lnTo>
                  <a:pt x="483" y="257"/>
                </a:lnTo>
                <a:lnTo>
                  <a:pt x="483" y="255"/>
                </a:lnTo>
                <a:lnTo>
                  <a:pt x="483" y="249"/>
                </a:lnTo>
                <a:lnTo>
                  <a:pt x="483" y="243"/>
                </a:lnTo>
                <a:lnTo>
                  <a:pt x="483" y="236"/>
                </a:lnTo>
                <a:lnTo>
                  <a:pt x="481" y="228"/>
                </a:lnTo>
                <a:lnTo>
                  <a:pt x="480" y="222"/>
                </a:lnTo>
                <a:lnTo>
                  <a:pt x="478" y="215"/>
                </a:lnTo>
                <a:lnTo>
                  <a:pt x="476" y="209"/>
                </a:lnTo>
                <a:lnTo>
                  <a:pt x="472" y="203"/>
                </a:lnTo>
                <a:lnTo>
                  <a:pt x="470" y="201"/>
                </a:lnTo>
                <a:lnTo>
                  <a:pt x="468" y="201"/>
                </a:lnTo>
                <a:lnTo>
                  <a:pt x="464" y="199"/>
                </a:lnTo>
                <a:lnTo>
                  <a:pt x="460" y="199"/>
                </a:lnTo>
                <a:lnTo>
                  <a:pt x="455" y="199"/>
                </a:lnTo>
                <a:lnTo>
                  <a:pt x="449" y="199"/>
                </a:lnTo>
                <a:lnTo>
                  <a:pt x="443" y="197"/>
                </a:lnTo>
                <a:lnTo>
                  <a:pt x="435" y="197"/>
                </a:lnTo>
                <a:lnTo>
                  <a:pt x="428" y="197"/>
                </a:lnTo>
                <a:lnTo>
                  <a:pt x="418" y="199"/>
                </a:lnTo>
                <a:lnTo>
                  <a:pt x="407" y="199"/>
                </a:lnTo>
                <a:lnTo>
                  <a:pt x="397" y="199"/>
                </a:lnTo>
                <a:lnTo>
                  <a:pt x="386" y="199"/>
                </a:lnTo>
                <a:lnTo>
                  <a:pt x="372" y="201"/>
                </a:lnTo>
                <a:lnTo>
                  <a:pt x="359" y="201"/>
                </a:lnTo>
                <a:lnTo>
                  <a:pt x="345" y="203"/>
                </a:lnTo>
                <a:lnTo>
                  <a:pt x="330" y="205"/>
                </a:lnTo>
                <a:lnTo>
                  <a:pt x="313" y="205"/>
                </a:lnTo>
                <a:lnTo>
                  <a:pt x="297" y="207"/>
                </a:lnTo>
                <a:lnTo>
                  <a:pt x="278" y="209"/>
                </a:lnTo>
                <a:lnTo>
                  <a:pt x="261" y="211"/>
                </a:lnTo>
                <a:lnTo>
                  <a:pt x="242" y="213"/>
                </a:lnTo>
                <a:lnTo>
                  <a:pt x="220" y="215"/>
                </a:lnTo>
                <a:lnTo>
                  <a:pt x="199" y="216"/>
                </a:lnTo>
                <a:lnTo>
                  <a:pt x="178" y="220"/>
                </a:lnTo>
                <a:lnTo>
                  <a:pt x="155" y="222"/>
                </a:lnTo>
                <a:lnTo>
                  <a:pt x="130" y="226"/>
                </a:lnTo>
                <a:lnTo>
                  <a:pt x="107" y="228"/>
                </a:lnTo>
                <a:lnTo>
                  <a:pt x="82" y="232"/>
                </a:lnTo>
                <a:lnTo>
                  <a:pt x="55" y="234"/>
                </a:lnTo>
                <a:lnTo>
                  <a:pt x="29" y="238"/>
                </a:lnTo>
                <a:lnTo>
                  <a:pt x="0" y="241"/>
                </a:lnTo>
                <a:lnTo>
                  <a:pt x="0" y="184"/>
                </a:lnTo>
                <a:lnTo>
                  <a:pt x="0" y="126"/>
                </a:lnTo>
                <a:lnTo>
                  <a:pt x="38" y="124"/>
                </a:lnTo>
                <a:lnTo>
                  <a:pt x="75" y="122"/>
                </a:lnTo>
                <a:lnTo>
                  <a:pt x="107" y="120"/>
                </a:lnTo>
                <a:lnTo>
                  <a:pt x="140" y="117"/>
                </a:lnTo>
                <a:lnTo>
                  <a:pt x="172" y="115"/>
                </a:lnTo>
                <a:lnTo>
                  <a:pt x="201" y="113"/>
                </a:lnTo>
                <a:lnTo>
                  <a:pt x="228" y="111"/>
                </a:lnTo>
                <a:lnTo>
                  <a:pt x="253" y="107"/>
                </a:lnTo>
                <a:lnTo>
                  <a:pt x="278" y="105"/>
                </a:lnTo>
                <a:lnTo>
                  <a:pt x="301" y="103"/>
                </a:lnTo>
                <a:lnTo>
                  <a:pt x="320" y="101"/>
                </a:lnTo>
                <a:lnTo>
                  <a:pt x="339" y="99"/>
                </a:lnTo>
                <a:lnTo>
                  <a:pt x="357" y="96"/>
                </a:lnTo>
                <a:lnTo>
                  <a:pt x="372" y="94"/>
                </a:lnTo>
                <a:lnTo>
                  <a:pt x="387" y="92"/>
                </a:lnTo>
                <a:lnTo>
                  <a:pt x="399" y="90"/>
                </a:lnTo>
                <a:lnTo>
                  <a:pt x="416" y="84"/>
                </a:lnTo>
                <a:lnTo>
                  <a:pt x="434" y="78"/>
                </a:lnTo>
                <a:lnTo>
                  <a:pt x="449" y="74"/>
                </a:lnTo>
                <a:lnTo>
                  <a:pt x="462" y="69"/>
                </a:lnTo>
                <a:lnTo>
                  <a:pt x="476" y="61"/>
                </a:lnTo>
                <a:lnTo>
                  <a:pt x="487" y="55"/>
                </a:lnTo>
                <a:lnTo>
                  <a:pt x="499" y="48"/>
                </a:lnTo>
                <a:lnTo>
                  <a:pt x="508" y="38"/>
                </a:lnTo>
                <a:lnTo>
                  <a:pt x="512" y="28"/>
                </a:lnTo>
                <a:lnTo>
                  <a:pt x="520" y="21"/>
                </a:lnTo>
                <a:lnTo>
                  <a:pt x="526" y="15"/>
                </a:lnTo>
                <a:lnTo>
                  <a:pt x="533" y="9"/>
                </a:lnTo>
                <a:lnTo>
                  <a:pt x="541" y="5"/>
                </a:lnTo>
                <a:lnTo>
                  <a:pt x="551" y="1"/>
                </a:lnTo>
                <a:lnTo>
                  <a:pt x="560" y="0"/>
                </a:lnTo>
                <a:lnTo>
                  <a:pt x="568" y="0"/>
                </a:lnTo>
                <a:lnTo>
                  <a:pt x="574" y="0"/>
                </a:lnTo>
                <a:lnTo>
                  <a:pt x="577" y="1"/>
                </a:lnTo>
                <a:lnTo>
                  <a:pt x="583" y="1"/>
                </a:lnTo>
                <a:lnTo>
                  <a:pt x="589" y="3"/>
                </a:lnTo>
                <a:lnTo>
                  <a:pt x="595" y="7"/>
                </a:lnTo>
                <a:lnTo>
                  <a:pt x="600" y="9"/>
                </a:lnTo>
                <a:lnTo>
                  <a:pt x="608" y="13"/>
                </a:lnTo>
                <a:lnTo>
                  <a:pt x="616" y="17"/>
                </a:lnTo>
                <a:lnTo>
                  <a:pt x="631" y="26"/>
                </a:lnTo>
                <a:lnTo>
                  <a:pt x="639" y="32"/>
                </a:lnTo>
                <a:lnTo>
                  <a:pt x="648" y="38"/>
                </a:lnTo>
                <a:lnTo>
                  <a:pt x="658" y="44"/>
                </a:lnTo>
                <a:lnTo>
                  <a:pt x="668" y="49"/>
                </a:lnTo>
                <a:lnTo>
                  <a:pt x="679" y="57"/>
                </a:lnTo>
                <a:lnTo>
                  <a:pt x="689" y="63"/>
                </a:lnTo>
                <a:lnTo>
                  <a:pt x="700" y="71"/>
                </a:lnTo>
                <a:lnTo>
                  <a:pt x="710" y="78"/>
                </a:lnTo>
                <a:lnTo>
                  <a:pt x="719" y="84"/>
                </a:lnTo>
                <a:lnTo>
                  <a:pt x="727" y="92"/>
                </a:lnTo>
                <a:lnTo>
                  <a:pt x="735" y="99"/>
                </a:lnTo>
                <a:lnTo>
                  <a:pt x="743" y="105"/>
                </a:lnTo>
                <a:lnTo>
                  <a:pt x="748" y="111"/>
                </a:lnTo>
                <a:lnTo>
                  <a:pt x="754" y="117"/>
                </a:lnTo>
                <a:lnTo>
                  <a:pt x="758" y="122"/>
                </a:lnTo>
                <a:lnTo>
                  <a:pt x="764" y="128"/>
                </a:lnTo>
                <a:lnTo>
                  <a:pt x="766" y="134"/>
                </a:lnTo>
                <a:lnTo>
                  <a:pt x="769" y="138"/>
                </a:lnTo>
                <a:lnTo>
                  <a:pt x="771" y="143"/>
                </a:lnTo>
                <a:lnTo>
                  <a:pt x="773" y="145"/>
                </a:lnTo>
                <a:lnTo>
                  <a:pt x="773" y="149"/>
                </a:lnTo>
                <a:lnTo>
                  <a:pt x="773" y="153"/>
                </a:lnTo>
                <a:lnTo>
                  <a:pt x="773" y="161"/>
                </a:lnTo>
                <a:lnTo>
                  <a:pt x="771" y="170"/>
                </a:lnTo>
                <a:lnTo>
                  <a:pt x="767" y="180"/>
                </a:lnTo>
                <a:lnTo>
                  <a:pt x="764" y="190"/>
                </a:lnTo>
                <a:lnTo>
                  <a:pt x="756" y="197"/>
                </a:lnTo>
                <a:lnTo>
                  <a:pt x="752" y="201"/>
                </a:lnTo>
                <a:lnTo>
                  <a:pt x="748" y="205"/>
                </a:lnTo>
                <a:lnTo>
                  <a:pt x="743" y="207"/>
                </a:lnTo>
                <a:lnTo>
                  <a:pt x="739" y="211"/>
                </a:lnTo>
                <a:lnTo>
                  <a:pt x="731" y="213"/>
                </a:lnTo>
                <a:lnTo>
                  <a:pt x="725" y="216"/>
                </a:lnTo>
                <a:lnTo>
                  <a:pt x="719" y="218"/>
                </a:lnTo>
                <a:lnTo>
                  <a:pt x="712" y="222"/>
                </a:lnTo>
                <a:lnTo>
                  <a:pt x="706" y="228"/>
                </a:lnTo>
                <a:lnTo>
                  <a:pt x="700" y="234"/>
                </a:lnTo>
                <a:lnTo>
                  <a:pt x="695" y="239"/>
                </a:lnTo>
                <a:lnTo>
                  <a:pt x="689" y="247"/>
                </a:lnTo>
                <a:lnTo>
                  <a:pt x="683" y="255"/>
                </a:lnTo>
                <a:lnTo>
                  <a:pt x="679" y="264"/>
                </a:lnTo>
                <a:lnTo>
                  <a:pt x="673" y="274"/>
                </a:lnTo>
                <a:lnTo>
                  <a:pt x="668" y="284"/>
                </a:lnTo>
                <a:lnTo>
                  <a:pt x="664" y="297"/>
                </a:lnTo>
                <a:lnTo>
                  <a:pt x="658" y="309"/>
                </a:lnTo>
                <a:lnTo>
                  <a:pt x="654" y="322"/>
                </a:lnTo>
                <a:lnTo>
                  <a:pt x="650" y="337"/>
                </a:lnTo>
                <a:lnTo>
                  <a:pt x="645" y="353"/>
                </a:lnTo>
                <a:lnTo>
                  <a:pt x="641" y="368"/>
                </a:lnTo>
                <a:lnTo>
                  <a:pt x="635" y="385"/>
                </a:lnTo>
                <a:lnTo>
                  <a:pt x="629" y="403"/>
                </a:lnTo>
                <a:lnTo>
                  <a:pt x="624" y="422"/>
                </a:lnTo>
                <a:lnTo>
                  <a:pt x="618" y="441"/>
                </a:lnTo>
                <a:lnTo>
                  <a:pt x="614" y="460"/>
                </a:lnTo>
                <a:lnTo>
                  <a:pt x="610" y="481"/>
                </a:lnTo>
                <a:lnTo>
                  <a:pt x="606" y="502"/>
                </a:lnTo>
                <a:lnTo>
                  <a:pt x="602" y="524"/>
                </a:lnTo>
                <a:lnTo>
                  <a:pt x="599" y="549"/>
                </a:lnTo>
                <a:lnTo>
                  <a:pt x="595" y="572"/>
                </a:lnTo>
                <a:lnTo>
                  <a:pt x="593" y="596"/>
                </a:lnTo>
                <a:lnTo>
                  <a:pt x="589" y="623"/>
                </a:lnTo>
                <a:lnTo>
                  <a:pt x="587" y="650"/>
                </a:lnTo>
                <a:lnTo>
                  <a:pt x="585" y="677"/>
                </a:lnTo>
                <a:lnTo>
                  <a:pt x="583" y="708"/>
                </a:lnTo>
                <a:lnTo>
                  <a:pt x="581" y="7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80"/>
          <p:cNvSpPr/>
          <p:nvPr/>
        </p:nvSpPr>
        <p:spPr>
          <a:xfrm>
            <a:off x="5589720" y="3425760"/>
            <a:ext cx="177840" cy="843120"/>
          </a:xfrm>
          <a:custGeom>
            <a:avLst/>
            <a:gdLst/>
            <a:ahLst/>
            <a:rect l="l" t="t" r="r" b="b"/>
            <a:pathLst>
              <a:path w="224" h="1061">
                <a:moveTo>
                  <a:pt x="19" y="120"/>
                </a:moveTo>
                <a:lnTo>
                  <a:pt x="15" y="113"/>
                </a:lnTo>
                <a:lnTo>
                  <a:pt x="11" y="105"/>
                </a:lnTo>
                <a:lnTo>
                  <a:pt x="9" y="99"/>
                </a:lnTo>
                <a:lnTo>
                  <a:pt x="5" y="94"/>
                </a:lnTo>
                <a:lnTo>
                  <a:pt x="3" y="88"/>
                </a:lnTo>
                <a:lnTo>
                  <a:pt x="2" y="82"/>
                </a:lnTo>
                <a:lnTo>
                  <a:pt x="0" y="71"/>
                </a:lnTo>
                <a:lnTo>
                  <a:pt x="0" y="59"/>
                </a:lnTo>
                <a:lnTo>
                  <a:pt x="2" y="49"/>
                </a:lnTo>
                <a:lnTo>
                  <a:pt x="3" y="40"/>
                </a:lnTo>
                <a:lnTo>
                  <a:pt x="7" y="30"/>
                </a:lnTo>
                <a:lnTo>
                  <a:pt x="13" y="21"/>
                </a:lnTo>
                <a:lnTo>
                  <a:pt x="19" y="13"/>
                </a:lnTo>
                <a:lnTo>
                  <a:pt x="26" y="7"/>
                </a:lnTo>
                <a:lnTo>
                  <a:pt x="34" y="3"/>
                </a:lnTo>
                <a:lnTo>
                  <a:pt x="38" y="1"/>
                </a:lnTo>
                <a:lnTo>
                  <a:pt x="44" y="1"/>
                </a:lnTo>
                <a:lnTo>
                  <a:pt x="50" y="0"/>
                </a:lnTo>
                <a:lnTo>
                  <a:pt x="55" y="0"/>
                </a:lnTo>
                <a:lnTo>
                  <a:pt x="61" y="0"/>
                </a:lnTo>
                <a:lnTo>
                  <a:pt x="67" y="1"/>
                </a:lnTo>
                <a:lnTo>
                  <a:pt x="73" y="3"/>
                </a:lnTo>
                <a:lnTo>
                  <a:pt x="80" y="5"/>
                </a:lnTo>
                <a:lnTo>
                  <a:pt x="94" y="9"/>
                </a:lnTo>
                <a:lnTo>
                  <a:pt x="109" y="15"/>
                </a:lnTo>
                <a:lnTo>
                  <a:pt x="126" y="19"/>
                </a:lnTo>
                <a:lnTo>
                  <a:pt x="144" y="25"/>
                </a:lnTo>
                <a:lnTo>
                  <a:pt x="161" y="28"/>
                </a:lnTo>
                <a:lnTo>
                  <a:pt x="182" y="34"/>
                </a:lnTo>
                <a:lnTo>
                  <a:pt x="203" y="38"/>
                </a:lnTo>
                <a:lnTo>
                  <a:pt x="224" y="44"/>
                </a:lnTo>
                <a:lnTo>
                  <a:pt x="224" y="74"/>
                </a:lnTo>
                <a:lnTo>
                  <a:pt x="224" y="105"/>
                </a:lnTo>
                <a:lnTo>
                  <a:pt x="224" y="136"/>
                </a:lnTo>
                <a:lnTo>
                  <a:pt x="224" y="167"/>
                </a:lnTo>
                <a:lnTo>
                  <a:pt x="224" y="195"/>
                </a:lnTo>
                <a:lnTo>
                  <a:pt x="224" y="224"/>
                </a:lnTo>
                <a:lnTo>
                  <a:pt x="224" y="253"/>
                </a:lnTo>
                <a:lnTo>
                  <a:pt x="224" y="280"/>
                </a:lnTo>
                <a:lnTo>
                  <a:pt x="224" y="309"/>
                </a:lnTo>
                <a:lnTo>
                  <a:pt x="224" y="335"/>
                </a:lnTo>
                <a:lnTo>
                  <a:pt x="224" y="362"/>
                </a:lnTo>
                <a:lnTo>
                  <a:pt x="224" y="387"/>
                </a:lnTo>
                <a:lnTo>
                  <a:pt x="224" y="412"/>
                </a:lnTo>
                <a:lnTo>
                  <a:pt x="224" y="437"/>
                </a:lnTo>
                <a:lnTo>
                  <a:pt x="224" y="462"/>
                </a:lnTo>
                <a:lnTo>
                  <a:pt x="224" y="487"/>
                </a:lnTo>
                <a:lnTo>
                  <a:pt x="224" y="510"/>
                </a:lnTo>
                <a:lnTo>
                  <a:pt x="224" y="533"/>
                </a:lnTo>
                <a:lnTo>
                  <a:pt x="224" y="556"/>
                </a:lnTo>
                <a:lnTo>
                  <a:pt x="224" y="577"/>
                </a:lnTo>
                <a:lnTo>
                  <a:pt x="224" y="600"/>
                </a:lnTo>
                <a:lnTo>
                  <a:pt x="224" y="621"/>
                </a:lnTo>
                <a:lnTo>
                  <a:pt x="224" y="641"/>
                </a:lnTo>
                <a:lnTo>
                  <a:pt x="224" y="662"/>
                </a:lnTo>
                <a:lnTo>
                  <a:pt x="224" y="681"/>
                </a:lnTo>
                <a:lnTo>
                  <a:pt x="224" y="700"/>
                </a:lnTo>
                <a:lnTo>
                  <a:pt x="224" y="719"/>
                </a:lnTo>
                <a:lnTo>
                  <a:pt x="224" y="737"/>
                </a:lnTo>
                <a:lnTo>
                  <a:pt x="224" y="756"/>
                </a:lnTo>
                <a:lnTo>
                  <a:pt x="224" y="771"/>
                </a:lnTo>
                <a:lnTo>
                  <a:pt x="224" y="788"/>
                </a:lnTo>
                <a:lnTo>
                  <a:pt x="222" y="806"/>
                </a:lnTo>
                <a:lnTo>
                  <a:pt x="222" y="821"/>
                </a:lnTo>
                <a:lnTo>
                  <a:pt x="222" y="836"/>
                </a:lnTo>
                <a:lnTo>
                  <a:pt x="222" y="850"/>
                </a:lnTo>
                <a:lnTo>
                  <a:pt x="222" y="865"/>
                </a:lnTo>
                <a:lnTo>
                  <a:pt x="222" y="879"/>
                </a:lnTo>
                <a:lnTo>
                  <a:pt x="222" y="892"/>
                </a:lnTo>
                <a:lnTo>
                  <a:pt x="222" y="904"/>
                </a:lnTo>
                <a:lnTo>
                  <a:pt x="222" y="917"/>
                </a:lnTo>
                <a:lnTo>
                  <a:pt x="222" y="929"/>
                </a:lnTo>
                <a:lnTo>
                  <a:pt x="220" y="940"/>
                </a:lnTo>
                <a:lnTo>
                  <a:pt x="220" y="950"/>
                </a:lnTo>
                <a:lnTo>
                  <a:pt x="220" y="961"/>
                </a:lnTo>
                <a:lnTo>
                  <a:pt x="220" y="971"/>
                </a:lnTo>
                <a:lnTo>
                  <a:pt x="220" y="980"/>
                </a:lnTo>
                <a:lnTo>
                  <a:pt x="220" y="988"/>
                </a:lnTo>
                <a:lnTo>
                  <a:pt x="220" y="998"/>
                </a:lnTo>
                <a:lnTo>
                  <a:pt x="218" y="1005"/>
                </a:lnTo>
                <a:lnTo>
                  <a:pt x="218" y="1011"/>
                </a:lnTo>
                <a:lnTo>
                  <a:pt x="218" y="1019"/>
                </a:lnTo>
                <a:lnTo>
                  <a:pt x="218" y="1025"/>
                </a:lnTo>
                <a:lnTo>
                  <a:pt x="218" y="1030"/>
                </a:lnTo>
                <a:lnTo>
                  <a:pt x="216" y="1036"/>
                </a:lnTo>
                <a:lnTo>
                  <a:pt x="216" y="1040"/>
                </a:lnTo>
                <a:lnTo>
                  <a:pt x="216" y="1046"/>
                </a:lnTo>
                <a:lnTo>
                  <a:pt x="216" y="1050"/>
                </a:lnTo>
                <a:lnTo>
                  <a:pt x="215" y="1051"/>
                </a:lnTo>
                <a:lnTo>
                  <a:pt x="215" y="1055"/>
                </a:lnTo>
                <a:lnTo>
                  <a:pt x="215" y="1057"/>
                </a:lnTo>
                <a:lnTo>
                  <a:pt x="215" y="1059"/>
                </a:lnTo>
                <a:lnTo>
                  <a:pt x="213" y="1059"/>
                </a:lnTo>
                <a:lnTo>
                  <a:pt x="213" y="1061"/>
                </a:lnTo>
                <a:lnTo>
                  <a:pt x="209" y="1061"/>
                </a:lnTo>
                <a:lnTo>
                  <a:pt x="203" y="1059"/>
                </a:lnTo>
                <a:lnTo>
                  <a:pt x="199" y="1055"/>
                </a:lnTo>
                <a:lnTo>
                  <a:pt x="193" y="1051"/>
                </a:lnTo>
                <a:lnTo>
                  <a:pt x="188" y="1046"/>
                </a:lnTo>
                <a:lnTo>
                  <a:pt x="180" y="1040"/>
                </a:lnTo>
                <a:lnTo>
                  <a:pt x="172" y="1032"/>
                </a:lnTo>
                <a:lnTo>
                  <a:pt x="165" y="1023"/>
                </a:lnTo>
                <a:lnTo>
                  <a:pt x="163" y="1023"/>
                </a:lnTo>
                <a:lnTo>
                  <a:pt x="159" y="1019"/>
                </a:lnTo>
                <a:lnTo>
                  <a:pt x="157" y="1017"/>
                </a:lnTo>
                <a:lnTo>
                  <a:pt x="155" y="1015"/>
                </a:lnTo>
                <a:lnTo>
                  <a:pt x="153" y="1011"/>
                </a:lnTo>
                <a:lnTo>
                  <a:pt x="151" y="1007"/>
                </a:lnTo>
                <a:lnTo>
                  <a:pt x="149" y="1002"/>
                </a:lnTo>
                <a:lnTo>
                  <a:pt x="145" y="998"/>
                </a:lnTo>
                <a:lnTo>
                  <a:pt x="144" y="992"/>
                </a:lnTo>
                <a:lnTo>
                  <a:pt x="142" y="986"/>
                </a:lnTo>
                <a:lnTo>
                  <a:pt x="138" y="973"/>
                </a:lnTo>
                <a:lnTo>
                  <a:pt x="134" y="957"/>
                </a:lnTo>
                <a:lnTo>
                  <a:pt x="130" y="940"/>
                </a:lnTo>
                <a:lnTo>
                  <a:pt x="126" y="921"/>
                </a:lnTo>
                <a:lnTo>
                  <a:pt x="122" y="902"/>
                </a:lnTo>
                <a:lnTo>
                  <a:pt x="119" y="879"/>
                </a:lnTo>
                <a:lnTo>
                  <a:pt x="115" y="856"/>
                </a:lnTo>
                <a:lnTo>
                  <a:pt x="111" y="829"/>
                </a:lnTo>
                <a:lnTo>
                  <a:pt x="109" y="802"/>
                </a:lnTo>
                <a:lnTo>
                  <a:pt x="107" y="773"/>
                </a:lnTo>
                <a:lnTo>
                  <a:pt x="103" y="742"/>
                </a:lnTo>
                <a:lnTo>
                  <a:pt x="101" y="712"/>
                </a:lnTo>
                <a:lnTo>
                  <a:pt x="99" y="683"/>
                </a:lnTo>
                <a:lnTo>
                  <a:pt x="97" y="652"/>
                </a:lnTo>
                <a:lnTo>
                  <a:pt x="96" y="623"/>
                </a:lnTo>
                <a:lnTo>
                  <a:pt x="92" y="595"/>
                </a:lnTo>
                <a:lnTo>
                  <a:pt x="90" y="568"/>
                </a:lnTo>
                <a:lnTo>
                  <a:pt x="88" y="541"/>
                </a:lnTo>
                <a:lnTo>
                  <a:pt x="86" y="514"/>
                </a:lnTo>
                <a:lnTo>
                  <a:pt x="84" y="489"/>
                </a:lnTo>
                <a:lnTo>
                  <a:pt x="80" y="462"/>
                </a:lnTo>
                <a:lnTo>
                  <a:pt x="78" y="437"/>
                </a:lnTo>
                <a:lnTo>
                  <a:pt x="76" y="414"/>
                </a:lnTo>
                <a:lnTo>
                  <a:pt x="74" y="391"/>
                </a:lnTo>
                <a:lnTo>
                  <a:pt x="73" y="368"/>
                </a:lnTo>
                <a:lnTo>
                  <a:pt x="71" y="345"/>
                </a:lnTo>
                <a:lnTo>
                  <a:pt x="69" y="324"/>
                </a:lnTo>
                <a:lnTo>
                  <a:pt x="65" y="303"/>
                </a:lnTo>
                <a:lnTo>
                  <a:pt x="63" y="282"/>
                </a:lnTo>
                <a:lnTo>
                  <a:pt x="61" y="264"/>
                </a:lnTo>
                <a:lnTo>
                  <a:pt x="59" y="247"/>
                </a:lnTo>
                <a:lnTo>
                  <a:pt x="55" y="230"/>
                </a:lnTo>
                <a:lnTo>
                  <a:pt x="53" y="215"/>
                </a:lnTo>
                <a:lnTo>
                  <a:pt x="51" y="201"/>
                </a:lnTo>
                <a:lnTo>
                  <a:pt x="48" y="188"/>
                </a:lnTo>
                <a:lnTo>
                  <a:pt x="46" y="176"/>
                </a:lnTo>
                <a:lnTo>
                  <a:pt x="42" y="165"/>
                </a:lnTo>
                <a:lnTo>
                  <a:pt x="38" y="155"/>
                </a:lnTo>
                <a:lnTo>
                  <a:pt x="36" y="145"/>
                </a:lnTo>
                <a:lnTo>
                  <a:pt x="32" y="138"/>
                </a:lnTo>
                <a:lnTo>
                  <a:pt x="28" y="130"/>
                </a:lnTo>
                <a:lnTo>
                  <a:pt x="25" y="124"/>
                </a:lnTo>
                <a:lnTo>
                  <a:pt x="19" y="1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23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大”的撇和捺要舒展；“示”底横略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矩形 3"/>
          <p:cNvSpPr/>
          <p:nvPr/>
        </p:nvSpPr>
        <p:spPr>
          <a:xfrm>
            <a:off x="2171880" y="2025720"/>
            <a:ext cx="126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à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81"/>
          <p:cNvSpPr/>
          <p:nvPr/>
        </p:nvSpPr>
        <p:spPr>
          <a:xfrm>
            <a:off x="6283440" y="4203720"/>
            <a:ext cx="380880" cy="853920"/>
          </a:xfrm>
          <a:custGeom>
            <a:avLst/>
            <a:gdLst/>
            <a:ahLst/>
            <a:rect l="l" t="t" r="r" b="b"/>
            <a:pathLst>
              <a:path w="480" h="1075">
                <a:moveTo>
                  <a:pt x="108" y="812"/>
                </a:moveTo>
                <a:lnTo>
                  <a:pt x="92" y="799"/>
                </a:lnTo>
                <a:lnTo>
                  <a:pt x="79" y="785"/>
                </a:lnTo>
                <a:lnTo>
                  <a:pt x="67" y="774"/>
                </a:lnTo>
                <a:lnTo>
                  <a:pt x="56" y="762"/>
                </a:lnTo>
                <a:lnTo>
                  <a:pt x="44" y="751"/>
                </a:lnTo>
                <a:lnTo>
                  <a:pt x="35" y="741"/>
                </a:lnTo>
                <a:lnTo>
                  <a:pt x="27" y="731"/>
                </a:lnTo>
                <a:lnTo>
                  <a:pt x="21" y="724"/>
                </a:lnTo>
                <a:lnTo>
                  <a:pt x="14" y="716"/>
                </a:lnTo>
                <a:lnTo>
                  <a:pt x="10" y="708"/>
                </a:lnTo>
                <a:lnTo>
                  <a:pt x="6" y="701"/>
                </a:lnTo>
                <a:lnTo>
                  <a:pt x="2" y="695"/>
                </a:lnTo>
                <a:lnTo>
                  <a:pt x="0" y="691"/>
                </a:lnTo>
                <a:lnTo>
                  <a:pt x="0" y="685"/>
                </a:lnTo>
                <a:lnTo>
                  <a:pt x="0" y="683"/>
                </a:lnTo>
                <a:lnTo>
                  <a:pt x="2" y="680"/>
                </a:lnTo>
                <a:lnTo>
                  <a:pt x="6" y="678"/>
                </a:lnTo>
                <a:lnTo>
                  <a:pt x="8" y="676"/>
                </a:lnTo>
                <a:lnTo>
                  <a:pt x="14" y="676"/>
                </a:lnTo>
                <a:lnTo>
                  <a:pt x="18" y="676"/>
                </a:lnTo>
                <a:lnTo>
                  <a:pt x="23" y="676"/>
                </a:lnTo>
                <a:lnTo>
                  <a:pt x="31" y="676"/>
                </a:lnTo>
                <a:lnTo>
                  <a:pt x="39" y="678"/>
                </a:lnTo>
                <a:lnTo>
                  <a:pt x="46" y="678"/>
                </a:lnTo>
                <a:lnTo>
                  <a:pt x="56" y="680"/>
                </a:lnTo>
                <a:lnTo>
                  <a:pt x="66" y="683"/>
                </a:lnTo>
                <a:lnTo>
                  <a:pt x="77" y="685"/>
                </a:lnTo>
                <a:lnTo>
                  <a:pt x="89" y="689"/>
                </a:lnTo>
                <a:lnTo>
                  <a:pt x="100" y="691"/>
                </a:lnTo>
                <a:lnTo>
                  <a:pt x="114" y="695"/>
                </a:lnTo>
                <a:lnTo>
                  <a:pt x="127" y="699"/>
                </a:lnTo>
                <a:lnTo>
                  <a:pt x="142" y="705"/>
                </a:lnTo>
                <a:lnTo>
                  <a:pt x="158" y="708"/>
                </a:lnTo>
                <a:lnTo>
                  <a:pt x="171" y="712"/>
                </a:lnTo>
                <a:lnTo>
                  <a:pt x="185" y="716"/>
                </a:lnTo>
                <a:lnTo>
                  <a:pt x="198" y="718"/>
                </a:lnTo>
                <a:lnTo>
                  <a:pt x="210" y="720"/>
                </a:lnTo>
                <a:lnTo>
                  <a:pt x="219" y="722"/>
                </a:lnTo>
                <a:lnTo>
                  <a:pt x="229" y="724"/>
                </a:lnTo>
                <a:lnTo>
                  <a:pt x="238" y="724"/>
                </a:lnTo>
                <a:lnTo>
                  <a:pt x="248" y="724"/>
                </a:lnTo>
                <a:lnTo>
                  <a:pt x="254" y="724"/>
                </a:lnTo>
                <a:lnTo>
                  <a:pt x="261" y="724"/>
                </a:lnTo>
                <a:lnTo>
                  <a:pt x="267" y="722"/>
                </a:lnTo>
                <a:lnTo>
                  <a:pt x="273" y="722"/>
                </a:lnTo>
                <a:lnTo>
                  <a:pt x="277" y="720"/>
                </a:lnTo>
                <a:lnTo>
                  <a:pt x="281" y="718"/>
                </a:lnTo>
                <a:lnTo>
                  <a:pt x="282" y="716"/>
                </a:lnTo>
                <a:lnTo>
                  <a:pt x="284" y="714"/>
                </a:lnTo>
                <a:lnTo>
                  <a:pt x="286" y="710"/>
                </a:lnTo>
                <a:lnTo>
                  <a:pt x="288" y="706"/>
                </a:lnTo>
                <a:lnTo>
                  <a:pt x="292" y="701"/>
                </a:lnTo>
                <a:lnTo>
                  <a:pt x="294" y="695"/>
                </a:lnTo>
                <a:lnTo>
                  <a:pt x="296" y="689"/>
                </a:lnTo>
                <a:lnTo>
                  <a:pt x="298" y="682"/>
                </a:lnTo>
                <a:lnTo>
                  <a:pt x="300" y="674"/>
                </a:lnTo>
                <a:lnTo>
                  <a:pt x="302" y="666"/>
                </a:lnTo>
                <a:lnTo>
                  <a:pt x="304" y="659"/>
                </a:lnTo>
                <a:lnTo>
                  <a:pt x="307" y="649"/>
                </a:lnTo>
                <a:lnTo>
                  <a:pt x="309" y="639"/>
                </a:lnTo>
                <a:lnTo>
                  <a:pt x="313" y="618"/>
                </a:lnTo>
                <a:lnTo>
                  <a:pt x="317" y="597"/>
                </a:lnTo>
                <a:lnTo>
                  <a:pt x="317" y="574"/>
                </a:lnTo>
                <a:lnTo>
                  <a:pt x="317" y="549"/>
                </a:lnTo>
                <a:lnTo>
                  <a:pt x="317" y="524"/>
                </a:lnTo>
                <a:lnTo>
                  <a:pt x="319" y="499"/>
                </a:lnTo>
                <a:lnTo>
                  <a:pt x="321" y="470"/>
                </a:lnTo>
                <a:lnTo>
                  <a:pt x="323" y="442"/>
                </a:lnTo>
                <a:lnTo>
                  <a:pt x="325" y="413"/>
                </a:lnTo>
                <a:lnTo>
                  <a:pt x="329" y="382"/>
                </a:lnTo>
                <a:lnTo>
                  <a:pt x="329" y="365"/>
                </a:lnTo>
                <a:lnTo>
                  <a:pt x="329" y="349"/>
                </a:lnTo>
                <a:lnTo>
                  <a:pt x="329" y="330"/>
                </a:lnTo>
                <a:lnTo>
                  <a:pt x="327" y="311"/>
                </a:lnTo>
                <a:lnTo>
                  <a:pt x="325" y="292"/>
                </a:lnTo>
                <a:lnTo>
                  <a:pt x="325" y="271"/>
                </a:lnTo>
                <a:lnTo>
                  <a:pt x="323" y="250"/>
                </a:lnTo>
                <a:lnTo>
                  <a:pt x="321" y="227"/>
                </a:lnTo>
                <a:lnTo>
                  <a:pt x="317" y="202"/>
                </a:lnTo>
                <a:lnTo>
                  <a:pt x="315" y="177"/>
                </a:lnTo>
                <a:lnTo>
                  <a:pt x="311" y="152"/>
                </a:lnTo>
                <a:lnTo>
                  <a:pt x="309" y="123"/>
                </a:lnTo>
                <a:lnTo>
                  <a:pt x="305" y="94"/>
                </a:lnTo>
                <a:lnTo>
                  <a:pt x="302" y="63"/>
                </a:lnTo>
                <a:lnTo>
                  <a:pt x="298" y="33"/>
                </a:lnTo>
                <a:lnTo>
                  <a:pt x="294" y="0"/>
                </a:lnTo>
                <a:lnTo>
                  <a:pt x="309" y="12"/>
                </a:lnTo>
                <a:lnTo>
                  <a:pt x="323" y="21"/>
                </a:lnTo>
                <a:lnTo>
                  <a:pt x="338" y="31"/>
                </a:lnTo>
                <a:lnTo>
                  <a:pt x="350" y="40"/>
                </a:lnTo>
                <a:lnTo>
                  <a:pt x="363" y="50"/>
                </a:lnTo>
                <a:lnTo>
                  <a:pt x="375" y="58"/>
                </a:lnTo>
                <a:lnTo>
                  <a:pt x="386" y="65"/>
                </a:lnTo>
                <a:lnTo>
                  <a:pt x="398" y="73"/>
                </a:lnTo>
                <a:lnTo>
                  <a:pt x="407" y="81"/>
                </a:lnTo>
                <a:lnTo>
                  <a:pt x="417" y="86"/>
                </a:lnTo>
                <a:lnTo>
                  <a:pt x="425" y="92"/>
                </a:lnTo>
                <a:lnTo>
                  <a:pt x="434" y="98"/>
                </a:lnTo>
                <a:lnTo>
                  <a:pt x="440" y="104"/>
                </a:lnTo>
                <a:lnTo>
                  <a:pt x="448" y="110"/>
                </a:lnTo>
                <a:lnTo>
                  <a:pt x="453" y="115"/>
                </a:lnTo>
                <a:lnTo>
                  <a:pt x="457" y="119"/>
                </a:lnTo>
                <a:lnTo>
                  <a:pt x="459" y="121"/>
                </a:lnTo>
                <a:lnTo>
                  <a:pt x="459" y="125"/>
                </a:lnTo>
                <a:lnTo>
                  <a:pt x="461" y="129"/>
                </a:lnTo>
                <a:lnTo>
                  <a:pt x="461" y="133"/>
                </a:lnTo>
                <a:lnTo>
                  <a:pt x="463" y="136"/>
                </a:lnTo>
                <a:lnTo>
                  <a:pt x="463" y="142"/>
                </a:lnTo>
                <a:lnTo>
                  <a:pt x="465" y="152"/>
                </a:lnTo>
                <a:lnTo>
                  <a:pt x="467" y="165"/>
                </a:lnTo>
                <a:lnTo>
                  <a:pt x="469" y="181"/>
                </a:lnTo>
                <a:lnTo>
                  <a:pt x="471" y="198"/>
                </a:lnTo>
                <a:lnTo>
                  <a:pt x="472" y="217"/>
                </a:lnTo>
                <a:lnTo>
                  <a:pt x="474" y="236"/>
                </a:lnTo>
                <a:lnTo>
                  <a:pt x="476" y="259"/>
                </a:lnTo>
                <a:lnTo>
                  <a:pt x="476" y="282"/>
                </a:lnTo>
                <a:lnTo>
                  <a:pt x="478" y="309"/>
                </a:lnTo>
                <a:lnTo>
                  <a:pt x="478" y="336"/>
                </a:lnTo>
                <a:lnTo>
                  <a:pt x="480" y="367"/>
                </a:lnTo>
                <a:lnTo>
                  <a:pt x="480" y="397"/>
                </a:lnTo>
                <a:lnTo>
                  <a:pt x="480" y="430"/>
                </a:lnTo>
                <a:lnTo>
                  <a:pt x="480" y="463"/>
                </a:lnTo>
                <a:lnTo>
                  <a:pt x="480" y="495"/>
                </a:lnTo>
                <a:lnTo>
                  <a:pt x="478" y="526"/>
                </a:lnTo>
                <a:lnTo>
                  <a:pt x="478" y="557"/>
                </a:lnTo>
                <a:lnTo>
                  <a:pt x="476" y="586"/>
                </a:lnTo>
                <a:lnTo>
                  <a:pt x="476" y="614"/>
                </a:lnTo>
                <a:lnTo>
                  <a:pt x="474" y="641"/>
                </a:lnTo>
                <a:lnTo>
                  <a:pt x="472" y="668"/>
                </a:lnTo>
                <a:lnTo>
                  <a:pt x="471" y="693"/>
                </a:lnTo>
                <a:lnTo>
                  <a:pt x="469" y="718"/>
                </a:lnTo>
                <a:lnTo>
                  <a:pt x="467" y="741"/>
                </a:lnTo>
                <a:lnTo>
                  <a:pt x="465" y="762"/>
                </a:lnTo>
                <a:lnTo>
                  <a:pt x="463" y="783"/>
                </a:lnTo>
                <a:lnTo>
                  <a:pt x="461" y="802"/>
                </a:lnTo>
                <a:lnTo>
                  <a:pt x="459" y="820"/>
                </a:lnTo>
                <a:lnTo>
                  <a:pt x="457" y="835"/>
                </a:lnTo>
                <a:lnTo>
                  <a:pt x="455" y="850"/>
                </a:lnTo>
                <a:lnTo>
                  <a:pt x="451" y="866"/>
                </a:lnTo>
                <a:lnTo>
                  <a:pt x="448" y="881"/>
                </a:lnTo>
                <a:lnTo>
                  <a:pt x="444" y="895"/>
                </a:lnTo>
                <a:lnTo>
                  <a:pt x="440" y="910"/>
                </a:lnTo>
                <a:lnTo>
                  <a:pt x="436" y="923"/>
                </a:lnTo>
                <a:lnTo>
                  <a:pt x="430" y="937"/>
                </a:lnTo>
                <a:lnTo>
                  <a:pt x="425" y="948"/>
                </a:lnTo>
                <a:lnTo>
                  <a:pt x="419" y="960"/>
                </a:lnTo>
                <a:lnTo>
                  <a:pt x="413" y="971"/>
                </a:lnTo>
                <a:lnTo>
                  <a:pt x="407" y="983"/>
                </a:lnTo>
                <a:lnTo>
                  <a:pt x="401" y="993"/>
                </a:lnTo>
                <a:lnTo>
                  <a:pt x="396" y="1002"/>
                </a:lnTo>
                <a:lnTo>
                  <a:pt x="388" y="1012"/>
                </a:lnTo>
                <a:lnTo>
                  <a:pt x="382" y="1019"/>
                </a:lnTo>
                <a:lnTo>
                  <a:pt x="377" y="1027"/>
                </a:lnTo>
                <a:lnTo>
                  <a:pt x="369" y="1033"/>
                </a:lnTo>
                <a:lnTo>
                  <a:pt x="363" y="1039"/>
                </a:lnTo>
                <a:lnTo>
                  <a:pt x="355" y="1044"/>
                </a:lnTo>
                <a:lnTo>
                  <a:pt x="350" y="1050"/>
                </a:lnTo>
                <a:lnTo>
                  <a:pt x="344" y="1054"/>
                </a:lnTo>
                <a:lnTo>
                  <a:pt x="336" y="1058"/>
                </a:lnTo>
                <a:lnTo>
                  <a:pt x="325" y="1064"/>
                </a:lnTo>
                <a:lnTo>
                  <a:pt x="313" y="1069"/>
                </a:lnTo>
                <a:lnTo>
                  <a:pt x="302" y="1071"/>
                </a:lnTo>
                <a:lnTo>
                  <a:pt x="292" y="1073"/>
                </a:lnTo>
                <a:lnTo>
                  <a:pt x="282" y="1075"/>
                </a:lnTo>
                <a:lnTo>
                  <a:pt x="279" y="1073"/>
                </a:lnTo>
                <a:lnTo>
                  <a:pt x="275" y="1073"/>
                </a:lnTo>
                <a:lnTo>
                  <a:pt x="271" y="1071"/>
                </a:lnTo>
                <a:lnTo>
                  <a:pt x="267" y="1069"/>
                </a:lnTo>
                <a:lnTo>
                  <a:pt x="263" y="1067"/>
                </a:lnTo>
                <a:lnTo>
                  <a:pt x="261" y="1064"/>
                </a:lnTo>
                <a:lnTo>
                  <a:pt x="259" y="1060"/>
                </a:lnTo>
                <a:lnTo>
                  <a:pt x="256" y="1054"/>
                </a:lnTo>
                <a:lnTo>
                  <a:pt x="254" y="1050"/>
                </a:lnTo>
                <a:lnTo>
                  <a:pt x="252" y="1044"/>
                </a:lnTo>
                <a:lnTo>
                  <a:pt x="252" y="1037"/>
                </a:lnTo>
                <a:lnTo>
                  <a:pt x="250" y="1029"/>
                </a:lnTo>
                <a:lnTo>
                  <a:pt x="248" y="1021"/>
                </a:lnTo>
                <a:lnTo>
                  <a:pt x="248" y="1012"/>
                </a:lnTo>
                <a:lnTo>
                  <a:pt x="248" y="1002"/>
                </a:lnTo>
                <a:lnTo>
                  <a:pt x="248" y="991"/>
                </a:lnTo>
                <a:lnTo>
                  <a:pt x="244" y="979"/>
                </a:lnTo>
                <a:lnTo>
                  <a:pt x="242" y="968"/>
                </a:lnTo>
                <a:lnTo>
                  <a:pt x="236" y="958"/>
                </a:lnTo>
                <a:lnTo>
                  <a:pt x="233" y="946"/>
                </a:lnTo>
                <a:lnTo>
                  <a:pt x="227" y="935"/>
                </a:lnTo>
                <a:lnTo>
                  <a:pt x="219" y="923"/>
                </a:lnTo>
                <a:lnTo>
                  <a:pt x="211" y="912"/>
                </a:lnTo>
                <a:lnTo>
                  <a:pt x="204" y="902"/>
                </a:lnTo>
                <a:lnTo>
                  <a:pt x="194" y="891"/>
                </a:lnTo>
                <a:lnTo>
                  <a:pt x="185" y="879"/>
                </a:lnTo>
                <a:lnTo>
                  <a:pt x="173" y="868"/>
                </a:lnTo>
                <a:lnTo>
                  <a:pt x="162" y="856"/>
                </a:lnTo>
                <a:lnTo>
                  <a:pt x="150" y="845"/>
                </a:lnTo>
                <a:lnTo>
                  <a:pt x="137" y="835"/>
                </a:lnTo>
                <a:lnTo>
                  <a:pt x="121" y="824"/>
                </a:lnTo>
                <a:lnTo>
                  <a:pt x="108" y="8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82"/>
          <p:cNvSpPr/>
          <p:nvPr/>
        </p:nvSpPr>
        <p:spPr>
          <a:xfrm>
            <a:off x="6858000" y="4408560"/>
            <a:ext cx="379440" cy="430200"/>
          </a:xfrm>
          <a:custGeom>
            <a:avLst/>
            <a:gdLst/>
            <a:ahLst/>
            <a:rect l="l" t="t" r="r" b="b"/>
            <a:pathLst>
              <a:path w="478" h="544">
                <a:moveTo>
                  <a:pt x="129" y="41"/>
                </a:moveTo>
                <a:lnTo>
                  <a:pt x="159" y="54"/>
                </a:lnTo>
                <a:lnTo>
                  <a:pt x="188" y="66"/>
                </a:lnTo>
                <a:lnTo>
                  <a:pt x="215" y="77"/>
                </a:lnTo>
                <a:lnTo>
                  <a:pt x="242" y="89"/>
                </a:lnTo>
                <a:lnTo>
                  <a:pt x="267" y="100"/>
                </a:lnTo>
                <a:lnTo>
                  <a:pt x="276" y="106"/>
                </a:lnTo>
                <a:lnTo>
                  <a:pt x="288" y="112"/>
                </a:lnTo>
                <a:lnTo>
                  <a:pt x="299" y="117"/>
                </a:lnTo>
                <a:lnTo>
                  <a:pt x="309" y="123"/>
                </a:lnTo>
                <a:lnTo>
                  <a:pt x="319" y="131"/>
                </a:lnTo>
                <a:lnTo>
                  <a:pt x="328" y="137"/>
                </a:lnTo>
                <a:lnTo>
                  <a:pt x="344" y="150"/>
                </a:lnTo>
                <a:lnTo>
                  <a:pt x="361" y="163"/>
                </a:lnTo>
                <a:lnTo>
                  <a:pt x="376" y="177"/>
                </a:lnTo>
                <a:lnTo>
                  <a:pt x="390" y="190"/>
                </a:lnTo>
                <a:lnTo>
                  <a:pt x="403" y="204"/>
                </a:lnTo>
                <a:lnTo>
                  <a:pt x="418" y="217"/>
                </a:lnTo>
                <a:lnTo>
                  <a:pt x="443" y="244"/>
                </a:lnTo>
                <a:lnTo>
                  <a:pt x="451" y="258"/>
                </a:lnTo>
                <a:lnTo>
                  <a:pt x="459" y="271"/>
                </a:lnTo>
                <a:lnTo>
                  <a:pt x="464" y="284"/>
                </a:lnTo>
                <a:lnTo>
                  <a:pt x="470" y="298"/>
                </a:lnTo>
                <a:lnTo>
                  <a:pt x="474" y="311"/>
                </a:lnTo>
                <a:lnTo>
                  <a:pt x="476" y="325"/>
                </a:lnTo>
                <a:lnTo>
                  <a:pt x="478" y="338"/>
                </a:lnTo>
                <a:lnTo>
                  <a:pt x="478" y="352"/>
                </a:lnTo>
                <a:lnTo>
                  <a:pt x="478" y="365"/>
                </a:lnTo>
                <a:lnTo>
                  <a:pt x="476" y="380"/>
                </a:lnTo>
                <a:lnTo>
                  <a:pt x="474" y="396"/>
                </a:lnTo>
                <a:lnTo>
                  <a:pt x="472" y="411"/>
                </a:lnTo>
                <a:lnTo>
                  <a:pt x="468" y="426"/>
                </a:lnTo>
                <a:lnTo>
                  <a:pt x="464" y="442"/>
                </a:lnTo>
                <a:lnTo>
                  <a:pt x="461" y="457"/>
                </a:lnTo>
                <a:lnTo>
                  <a:pt x="455" y="471"/>
                </a:lnTo>
                <a:lnTo>
                  <a:pt x="451" y="484"/>
                </a:lnTo>
                <a:lnTo>
                  <a:pt x="445" y="496"/>
                </a:lnTo>
                <a:lnTo>
                  <a:pt x="439" y="507"/>
                </a:lnTo>
                <a:lnTo>
                  <a:pt x="432" y="517"/>
                </a:lnTo>
                <a:lnTo>
                  <a:pt x="426" y="524"/>
                </a:lnTo>
                <a:lnTo>
                  <a:pt x="418" y="532"/>
                </a:lnTo>
                <a:lnTo>
                  <a:pt x="415" y="538"/>
                </a:lnTo>
                <a:lnTo>
                  <a:pt x="409" y="544"/>
                </a:lnTo>
                <a:lnTo>
                  <a:pt x="403" y="542"/>
                </a:lnTo>
                <a:lnTo>
                  <a:pt x="397" y="540"/>
                </a:lnTo>
                <a:lnTo>
                  <a:pt x="392" y="538"/>
                </a:lnTo>
                <a:lnTo>
                  <a:pt x="382" y="532"/>
                </a:lnTo>
                <a:lnTo>
                  <a:pt x="372" y="526"/>
                </a:lnTo>
                <a:lnTo>
                  <a:pt x="368" y="522"/>
                </a:lnTo>
                <a:lnTo>
                  <a:pt x="363" y="519"/>
                </a:lnTo>
                <a:lnTo>
                  <a:pt x="357" y="513"/>
                </a:lnTo>
                <a:lnTo>
                  <a:pt x="351" y="507"/>
                </a:lnTo>
                <a:lnTo>
                  <a:pt x="345" y="501"/>
                </a:lnTo>
                <a:lnTo>
                  <a:pt x="340" y="496"/>
                </a:lnTo>
                <a:lnTo>
                  <a:pt x="332" y="488"/>
                </a:lnTo>
                <a:lnTo>
                  <a:pt x="324" y="480"/>
                </a:lnTo>
                <a:lnTo>
                  <a:pt x="317" y="471"/>
                </a:lnTo>
                <a:lnTo>
                  <a:pt x="307" y="459"/>
                </a:lnTo>
                <a:lnTo>
                  <a:pt x="297" y="448"/>
                </a:lnTo>
                <a:lnTo>
                  <a:pt x="288" y="434"/>
                </a:lnTo>
                <a:lnTo>
                  <a:pt x="276" y="419"/>
                </a:lnTo>
                <a:lnTo>
                  <a:pt x="265" y="403"/>
                </a:lnTo>
                <a:lnTo>
                  <a:pt x="253" y="388"/>
                </a:lnTo>
                <a:lnTo>
                  <a:pt x="240" y="369"/>
                </a:lnTo>
                <a:lnTo>
                  <a:pt x="226" y="350"/>
                </a:lnTo>
                <a:lnTo>
                  <a:pt x="211" y="329"/>
                </a:lnTo>
                <a:lnTo>
                  <a:pt x="194" y="307"/>
                </a:lnTo>
                <a:lnTo>
                  <a:pt x="177" y="282"/>
                </a:lnTo>
                <a:lnTo>
                  <a:pt x="159" y="259"/>
                </a:lnTo>
                <a:lnTo>
                  <a:pt x="140" y="233"/>
                </a:lnTo>
                <a:lnTo>
                  <a:pt x="123" y="208"/>
                </a:lnTo>
                <a:lnTo>
                  <a:pt x="104" y="185"/>
                </a:lnTo>
                <a:lnTo>
                  <a:pt x="88" y="163"/>
                </a:lnTo>
                <a:lnTo>
                  <a:pt x="73" y="142"/>
                </a:lnTo>
                <a:lnTo>
                  <a:pt x="59" y="123"/>
                </a:lnTo>
                <a:lnTo>
                  <a:pt x="48" y="106"/>
                </a:lnTo>
                <a:lnTo>
                  <a:pt x="36" y="89"/>
                </a:lnTo>
                <a:lnTo>
                  <a:pt x="27" y="73"/>
                </a:lnTo>
                <a:lnTo>
                  <a:pt x="19" y="60"/>
                </a:lnTo>
                <a:lnTo>
                  <a:pt x="13" y="48"/>
                </a:lnTo>
                <a:lnTo>
                  <a:pt x="8" y="37"/>
                </a:lnTo>
                <a:lnTo>
                  <a:pt x="4" y="27"/>
                </a:lnTo>
                <a:lnTo>
                  <a:pt x="0" y="20"/>
                </a:lnTo>
                <a:lnTo>
                  <a:pt x="0" y="14"/>
                </a:lnTo>
                <a:lnTo>
                  <a:pt x="0" y="8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10" y="0"/>
                </a:lnTo>
                <a:lnTo>
                  <a:pt x="15" y="0"/>
                </a:lnTo>
                <a:lnTo>
                  <a:pt x="19" y="0"/>
                </a:lnTo>
                <a:lnTo>
                  <a:pt x="25" y="2"/>
                </a:lnTo>
                <a:lnTo>
                  <a:pt x="33" y="2"/>
                </a:lnTo>
                <a:lnTo>
                  <a:pt x="38" y="4"/>
                </a:lnTo>
                <a:lnTo>
                  <a:pt x="48" y="8"/>
                </a:lnTo>
                <a:lnTo>
                  <a:pt x="56" y="10"/>
                </a:lnTo>
                <a:lnTo>
                  <a:pt x="65" y="14"/>
                </a:lnTo>
                <a:lnTo>
                  <a:pt x="77" y="18"/>
                </a:lnTo>
                <a:lnTo>
                  <a:pt x="88" y="23"/>
                </a:lnTo>
                <a:lnTo>
                  <a:pt x="102" y="29"/>
                </a:lnTo>
                <a:lnTo>
                  <a:pt x="115" y="35"/>
                </a:lnTo>
                <a:lnTo>
                  <a:pt x="129" y="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83"/>
          <p:cNvSpPr/>
          <p:nvPr/>
        </p:nvSpPr>
        <p:spPr>
          <a:xfrm>
            <a:off x="5916600" y="4375080"/>
            <a:ext cx="230040" cy="482760"/>
          </a:xfrm>
          <a:custGeom>
            <a:avLst/>
            <a:gdLst/>
            <a:ahLst/>
            <a:rect l="l" t="t" r="r" b="b"/>
            <a:pathLst>
              <a:path w="290" h="609">
                <a:moveTo>
                  <a:pt x="232" y="0"/>
                </a:moveTo>
                <a:lnTo>
                  <a:pt x="243" y="27"/>
                </a:lnTo>
                <a:lnTo>
                  <a:pt x="255" y="56"/>
                </a:lnTo>
                <a:lnTo>
                  <a:pt x="265" y="85"/>
                </a:lnTo>
                <a:lnTo>
                  <a:pt x="274" y="115"/>
                </a:lnTo>
                <a:lnTo>
                  <a:pt x="280" y="146"/>
                </a:lnTo>
                <a:lnTo>
                  <a:pt x="284" y="161"/>
                </a:lnTo>
                <a:lnTo>
                  <a:pt x="286" y="177"/>
                </a:lnTo>
                <a:lnTo>
                  <a:pt x="288" y="192"/>
                </a:lnTo>
                <a:lnTo>
                  <a:pt x="290" y="207"/>
                </a:lnTo>
                <a:lnTo>
                  <a:pt x="290" y="223"/>
                </a:lnTo>
                <a:lnTo>
                  <a:pt x="290" y="238"/>
                </a:lnTo>
                <a:lnTo>
                  <a:pt x="286" y="271"/>
                </a:lnTo>
                <a:lnTo>
                  <a:pt x="278" y="301"/>
                </a:lnTo>
                <a:lnTo>
                  <a:pt x="270" y="332"/>
                </a:lnTo>
                <a:lnTo>
                  <a:pt x="263" y="363"/>
                </a:lnTo>
                <a:lnTo>
                  <a:pt x="251" y="396"/>
                </a:lnTo>
                <a:lnTo>
                  <a:pt x="240" y="426"/>
                </a:lnTo>
                <a:lnTo>
                  <a:pt x="224" y="457"/>
                </a:lnTo>
                <a:lnTo>
                  <a:pt x="217" y="474"/>
                </a:lnTo>
                <a:lnTo>
                  <a:pt x="209" y="490"/>
                </a:lnTo>
                <a:lnTo>
                  <a:pt x="197" y="505"/>
                </a:lnTo>
                <a:lnTo>
                  <a:pt x="188" y="518"/>
                </a:lnTo>
                <a:lnTo>
                  <a:pt x="178" y="532"/>
                </a:lnTo>
                <a:lnTo>
                  <a:pt x="169" y="543"/>
                </a:lnTo>
                <a:lnTo>
                  <a:pt x="161" y="555"/>
                </a:lnTo>
                <a:lnTo>
                  <a:pt x="153" y="564"/>
                </a:lnTo>
                <a:lnTo>
                  <a:pt x="146" y="572"/>
                </a:lnTo>
                <a:lnTo>
                  <a:pt x="138" y="580"/>
                </a:lnTo>
                <a:lnTo>
                  <a:pt x="132" y="587"/>
                </a:lnTo>
                <a:lnTo>
                  <a:pt x="126" y="593"/>
                </a:lnTo>
                <a:lnTo>
                  <a:pt x="121" y="597"/>
                </a:lnTo>
                <a:lnTo>
                  <a:pt x="117" y="601"/>
                </a:lnTo>
                <a:lnTo>
                  <a:pt x="113" y="605"/>
                </a:lnTo>
                <a:lnTo>
                  <a:pt x="109" y="607"/>
                </a:lnTo>
                <a:lnTo>
                  <a:pt x="105" y="609"/>
                </a:lnTo>
                <a:lnTo>
                  <a:pt x="103" y="609"/>
                </a:lnTo>
                <a:lnTo>
                  <a:pt x="100" y="609"/>
                </a:lnTo>
                <a:lnTo>
                  <a:pt x="94" y="607"/>
                </a:lnTo>
                <a:lnTo>
                  <a:pt x="90" y="607"/>
                </a:lnTo>
                <a:lnTo>
                  <a:pt x="86" y="605"/>
                </a:lnTo>
                <a:lnTo>
                  <a:pt x="82" y="601"/>
                </a:lnTo>
                <a:lnTo>
                  <a:pt x="76" y="599"/>
                </a:lnTo>
                <a:lnTo>
                  <a:pt x="73" y="595"/>
                </a:lnTo>
                <a:lnTo>
                  <a:pt x="69" y="591"/>
                </a:lnTo>
                <a:lnTo>
                  <a:pt x="65" y="586"/>
                </a:lnTo>
                <a:lnTo>
                  <a:pt x="59" y="582"/>
                </a:lnTo>
                <a:lnTo>
                  <a:pt x="55" y="574"/>
                </a:lnTo>
                <a:lnTo>
                  <a:pt x="52" y="568"/>
                </a:lnTo>
                <a:lnTo>
                  <a:pt x="46" y="561"/>
                </a:lnTo>
                <a:lnTo>
                  <a:pt x="42" y="555"/>
                </a:lnTo>
                <a:lnTo>
                  <a:pt x="38" y="545"/>
                </a:lnTo>
                <a:lnTo>
                  <a:pt x="34" y="538"/>
                </a:lnTo>
                <a:lnTo>
                  <a:pt x="27" y="520"/>
                </a:lnTo>
                <a:lnTo>
                  <a:pt x="19" y="503"/>
                </a:lnTo>
                <a:lnTo>
                  <a:pt x="13" y="488"/>
                </a:lnTo>
                <a:lnTo>
                  <a:pt x="7" y="474"/>
                </a:lnTo>
                <a:lnTo>
                  <a:pt x="4" y="461"/>
                </a:lnTo>
                <a:lnTo>
                  <a:pt x="2" y="449"/>
                </a:lnTo>
                <a:lnTo>
                  <a:pt x="0" y="440"/>
                </a:lnTo>
                <a:lnTo>
                  <a:pt x="0" y="430"/>
                </a:lnTo>
                <a:lnTo>
                  <a:pt x="0" y="426"/>
                </a:lnTo>
                <a:lnTo>
                  <a:pt x="0" y="424"/>
                </a:lnTo>
                <a:lnTo>
                  <a:pt x="2" y="420"/>
                </a:lnTo>
                <a:lnTo>
                  <a:pt x="4" y="417"/>
                </a:lnTo>
                <a:lnTo>
                  <a:pt x="7" y="407"/>
                </a:lnTo>
                <a:lnTo>
                  <a:pt x="15" y="397"/>
                </a:lnTo>
                <a:lnTo>
                  <a:pt x="23" y="386"/>
                </a:lnTo>
                <a:lnTo>
                  <a:pt x="32" y="372"/>
                </a:lnTo>
                <a:lnTo>
                  <a:pt x="44" y="359"/>
                </a:lnTo>
                <a:lnTo>
                  <a:pt x="57" y="346"/>
                </a:lnTo>
                <a:lnTo>
                  <a:pt x="63" y="338"/>
                </a:lnTo>
                <a:lnTo>
                  <a:pt x="71" y="328"/>
                </a:lnTo>
                <a:lnTo>
                  <a:pt x="78" y="319"/>
                </a:lnTo>
                <a:lnTo>
                  <a:pt x="88" y="305"/>
                </a:lnTo>
                <a:lnTo>
                  <a:pt x="96" y="290"/>
                </a:lnTo>
                <a:lnTo>
                  <a:pt x="105" y="275"/>
                </a:lnTo>
                <a:lnTo>
                  <a:pt x="117" y="255"/>
                </a:lnTo>
                <a:lnTo>
                  <a:pt x="123" y="246"/>
                </a:lnTo>
                <a:lnTo>
                  <a:pt x="126" y="236"/>
                </a:lnTo>
                <a:lnTo>
                  <a:pt x="132" y="225"/>
                </a:lnTo>
                <a:lnTo>
                  <a:pt x="138" y="213"/>
                </a:lnTo>
                <a:lnTo>
                  <a:pt x="144" y="202"/>
                </a:lnTo>
                <a:lnTo>
                  <a:pt x="149" y="188"/>
                </a:lnTo>
                <a:lnTo>
                  <a:pt x="157" y="177"/>
                </a:lnTo>
                <a:lnTo>
                  <a:pt x="163" y="163"/>
                </a:lnTo>
                <a:lnTo>
                  <a:pt x="169" y="150"/>
                </a:lnTo>
                <a:lnTo>
                  <a:pt x="174" y="134"/>
                </a:lnTo>
                <a:lnTo>
                  <a:pt x="182" y="119"/>
                </a:lnTo>
                <a:lnTo>
                  <a:pt x="188" y="104"/>
                </a:lnTo>
                <a:lnTo>
                  <a:pt x="195" y="88"/>
                </a:lnTo>
                <a:lnTo>
                  <a:pt x="203" y="71"/>
                </a:lnTo>
                <a:lnTo>
                  <a:pt x="209" y="54"/>
                </a:lnTo>
                <a:lnTo>
                  <a:pt x="217" y="37"/>
                </a:lnTo>
                <a:lnTo>
                  <a:pt x="224" y="19"/>
                </a:lnTo>
                <a:lnTo>
                  <a:pt x="232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84"/>
          <p:cNvSpPr/>
          <p:nvPr/>
        </p:nvSpPr>
        <p:spPr>
          <a:xfrm>
            <a:off x="5970600" y="4070520"/>
            <a:ext cx="1230480" cy="228600"/>
          </a:xfrm>
          <a:custGeom>
            <a:avLst/>
            <a:gdLst/>
            <a:ahLst/>
            <a:rect l="l" t="t" r="r" b="b"/>
            <a:pathLst>
              <a:path w="1549" h="288">
                <a:moveTo>
                  <a:pt x="1503" y="192"/>
                </a:moveTo>
                <a:lnTo>
                  <a:pt x="1495" y="192"/>
                </a:lnTo>
                <a:lnTo>
                  <a:pt x="1485" y="192"/>
                </a:lnTo>
                <a:lnTo>
                  <a:pt x="1476" y="192"/>
                </a:lnTo>
                <a:lnTo>
                  <a:pt x="1462" y="192"/>
                </a:lnTo>
                <a:lnTo>
                  <a:pt x="1449" y="192"/>
                </a:lnTo>
                <a:lnTo>
                  <a:pt x="1434" y="192"/>
                </a:lnTo>
                <a:lnTo>
                  <a:pt x="1414" y="192"/>
                </a:lnTo>
                <a:lnTo>
                  <a:pt x="1395" y="192"/>
                </a:lnTo>
                <a:lnTo>
                  <a:pt x="1374" y="192"/>
                </a:lnTo>
                <a:lnTo>
                  <a:pt x="1353" y="192"/>
                </a:lnTo>
                <a:lnTo>
                  <a:pt x="1328" y="192"/>
                </a:lnTo>
                <a:lnTo>
                  <a:pt x="1301" y="192"/>
                </a:lnTo>
                <a:lnTo>
                  <a:pt x="1272" y="192"/>
                </a:lnTo>
                <a:lnTo>
                  <a:pt x="1242" y="192"/>
                </a:lnTo>
                <a:lnTo>
                  <a:pt x="1211" y="192"/>
                </a:lnTo>
                <a:lnTo>
                  <a:pt x="1176" y="192"/>
                </a:lnTo>
                <a:lnTo>
                  <a:pt x="1107" y="194"/>
                </a:lnTo>
                <a:lnTo>
                  <a:pt x="1036" y="194"/>
                </a:lnTo>
                <a:lnTo>
                  <a:pt x="965" y="198"/>
                </a:lnTo>
                <a:lnTo>
                  <a:pt x="894" y="204"/>
                </a:lnTo>
                <a:lnTo>
                  <a:pt x="823" y="209"/>
                </a:lnTo>
                <a:lnTo>
                  <a:pt x="789" y="213"/>
                </a:lnTo>
                <a:lnTo>
                  <a:pt x="752" y="217"/>
                </a:lnTo>
                <a:lnTo>
                  <a:pt x="716" y="223"/>
                </a:lnTo>
                <a:lnTo>
                  <a:pt x="679" y="229"/>
                </a:lnTo>
                <a:lnTo>
                  <a:pt x="643" y="234"/>
                </a:lnTo>
                <a:lnTo>
                  <a:pt x="606" y="240"/>
                </a:lnTo>
                <a:lnTo>
                  <a:pt x="570" y="248"/>
                </a:lnTo>
                <a:lnTo>
                  <a:pt x="535" y="254"/>
                </a:lnTo>
                <a:lnTo>
                  <a:pt x="501" y="259"/>
                </a:lnTo>
                <a:lnTo>
                  <a:pt x="470" y="263"/>
                </a:lnTo>
                <a:lnTo>
                  <a:pt x="439" y="267"/>
                </a:lnTo>
                <a:lnTo>
                  <a:pt x="411" y="271"/>
                </a:lnTo>
                <a:lnTo>
                  <a:pt x="384" y="275"/>
                </a:lnTo>
                <a:lnTo>
                  <a:pt x="359" y="279"/>
                </a:lnTo>
                <a:lnTo>
                  <a:pt x="336" y="280"/>
                </a:lnTo>
                <a:lnTo>
                  <a:pt x="313" y="282"/>
                </a:lnTo>
                <a:lnTo>
                  <a:pt x="292" y="284"/>
                </a:lnTo>
                <a:lnTo>
                  <a:pt x="272" y="286"/>
                </a:lnTo>
                <a:lnTo>
                  <a:pt x="255" y="286"/>
                </a:lnTo>
                <a:lnTo>
                  <a:pt x="238" y="288"/>
                </a:lnTo>
                <a:lnTo>
                  <a:pt x="222" y="288"/>
                </a:lnTo>
                <a:lnTo>
                  <a:pt x="209" y="288"/>
                </a:lnTo>
                <a:lnTo>
                  <a:pt x="194" y="288"/>
                </a:lnTo>
                <a:lnTo>
                  <a:pt x="178" y="286"/>
                </a:lnTo>
                <a:lnTo>
                  <a:pt x="165" y="284"/>
                </a:lnTo>
                <a:lnTo>
                  <a:pt x="150" y="282"/>
                </a:lnTo>
                <a:lnTo>
                  <a:pt x="136" y="279"/>
                </a:lnTo>
                <a:lnTo>
                  <a:pt x="123" y="273"/>
                </a:lnTo>
                <a:lnTo>
                  <a:pt x="109" y="267"/>
                </a:lnTo>
                <a:lnTo>
                  <a:pt x="96" y="261"/>
                </a:lnTo>
                <a:lnTo>
                  <a:pt x="82" y="254"/>
                </a:lnTo>
                <a:lnTo>
                  <a:pt x="69" y="246"/>
                </a:lnTo>
                <a:lnTo>
                  <a:pt x="57" y="238"/>
                </a:lnTo>
                <a:lnTo>
                  <a:pt x="46" y="229"/>
                </a:lnTo>
                <a:lnTo>
                  <a:pt x="32" y="217"/>
                </a:lnTo>
                <a:lnTo>
                  <a:pt x="23" y="206"/>
                </a:lnTo>
                <a:lnTo>
                  <a:pt x="11" y="194"/>
                </a:lnTo>
                <a:lnTo>
                  <a:pt x="0" y="181"/>
                </a:lnTo>
                <a:lnTo>
                  <a:pt x="15" y="181"/>
                </a:lnTo>
                <a:lnTo>
                  <a:pt x="31" y="181"/>
                </a:lnTo>
                <a:lnTo>
                  <a:pt x="48" y="181"/>
                </a:lnTo>
                <a:lnTo>
                  <a:pt x="65" y="179"/>
                </a:lnTo>
                <a:lnTo>
                  <a:pt x="82" y="179"/>
                </a:lnTo>
                <a:lnTo>
                  <a:pt x="100" y="177"/>
                </a:lnTo>
                <a:lnTo>
                  <a:pt x="119" y="175"/>
                </a:lnTo>
                <a:lnTo>
                  <a:pt x="138" y="175"/>
                </a:lnTo>
                <a:lnTo>
                  <a:pt x="157" y="173"/>
                </a:lnTo>
                <a:lnTo>
                  <a:pt x="176" y="171"/>
                </a:lnTo>
                <a:lnTo>
                  <a:pt x="198" y="169"/>
                </a:lnTo>
                <a:lnTo>
                  <a:pt x="219" y="167"/>
                </a:lnTo>
                <a:lnTo>
                  <a:pt x="240" y="163"/>
                </a:lnTo>
                <a:lnTo>
                  <a:pt x="261" y="161"/>
                </a:lnTo>
                <a:lnTo>
                  <a:pt x="284" y="160"/>
                </a:lnTo>
                <a:lnTo>
                  <a:pt x="307" y="156"/>
                </a:lnTo>
                <a:lnTo>
                  <a:pt x="330" y="152"/>
                </a:lnTo>
                <a:lnTo>
                  <a:pt x="355" y="150"/>
                </a:lnTo>
                <a:lnTo>
                  <a:pt x="380" y="146"/>
                </a:lnTo>
                <a:lnTo>
                  <a:pt x="405" y="142"/>
                </a:lnTo>
                <a:lnTo>
                  <a:pt x="430" y="138"/>
                </a:lnTo>
                <a:lnTo>
                  <a:pt x="455" y="135"/>
                </a:lnTo>
                <a:lnTo>
                  <a:pt x="482" y="131"/>
                </a:lnTo>
                <a:lnTo>
                  <a:pt x="508" y="125"/>
                </a:lnTo>
                <a:lnTo>
                  <a:pt x="537" y="121"/>
                </a:lnTo>
                <a:lnTo>
                  <a:pt x="564" y="117"/>
                </a:lnTo>
                <a:lnTo>
                  <a:pt x="593" y="112"/>
                </a:lnTo>
                <a:lnTo>
                  <a:pt x="624" y="108"/>
                </a:lnTo>
                <a:lnTo>
                  <a:pt x="652" y="102"/>
                </a:lnTo>
                <a:lnTo>
                  <a:pt x="683" y="96"/>
                </a:lnTo>
                <a:lnTo>
                  <a:pt x="714" y="90"/>
                </a:lnTo>
                <a:lnTo>
                  <a:pt x="745" y="85"/>
                </a:lnTo>
                <a:lnTo>
                  <a:pt x="777" y="79"/>
                </a:lnTo>
                <a:lnTo>
                  <a:pt x="806" y="73"/>
                </a:lnTo>
                <a:lnTo>
                  <a:pt x="837" y="69"/>
                </a:lnTo>
                <a:lnTo>
                  <a:pt x="865" y="64"/>
                </a:lnTo>
                <a:lnTo>
                  <a:pt x="892" y="58"/>
                </a:lnTo>
                <a:lnTo>
                  <a:pt x="921" y="54"/>
                </a:lnTo>
                <a:lnTo>
                  <a:pt x="946" y="50"/>
                </a:lnTo>
                <a:lnTo>
                  <a:pt x="973" y="44"/>
                </a:lnTo>
                <a:lnTo>
                  <a:pt x="998" y="41"/>
                </a:lnTo>
                <a:lnTo>
                  <a:pt x="1021" y="37"/>
                </a:lnTo>
                <a:lnTo>
                  <a:pt x="1044" y="33"/>
                </a:lnTo>
                <a:lnTo>
                  <a:pt x="1067" y="29"/>
                </a:lnTo>
                <a:lnTo>
                  <a:pt x="1088" y="25"/>
                </a:lnTo>
                <a:lnTo>
                  <a:pt x="1109" y="21"/>
                </a:lnTo>
                <a:lnTo>
                  <a:pt x="1128" y="19"/>
                </a:lnTo>
                <a:lnTo>
                  <a:pt x="1148" y="16"/>
                </a:lnTo>
                <a:lnTo>
                  <a:pt x="1167" y="14"/>
                </a:lnTo>
                <a:lnTo>
                  <a:pt x="1184" y="12"/>
                </a:lnTo>
                <a:lnTo>
                  <a:pt x="1201" y="8"/>
                </a:lnTo>
                <a:lnTo>
                  <a:pt x="1217" y="6"/>
                </a:lnTo>
                <a:lnTo>
                  <a:pt x="1232" y="4"/>
                </a:lnTo>
                <a:lnTo>
                  <a:pt x="1247" y="4"/>
                </a:lnTo>
                <a:lnTo>
                  <a:pt x="1261" y="2"/>
                </a:lnTo>
                <a:lnTo>
                  <a:pt x="1274" y="0"/>
                </a:lnTo>
                <a:lnTo>
                  <a:pt x="1286" y="0"/>
                </a:lnTo>
                <a:lnTo>
                  <a:pt x="1297" y="0"/>
                </a:lnTo>
                <a:lnTo>
                  <a:pt x="1309" y="0"/>
                </a:lnTo>
                <a:lnTo>
                  <a:pt x="1318" y="0"/>
                </a:lnTo>
                <a:lnTo>
                  <a:pt x="1328" y="0"/>
                </a:lnTo>
                <a:lnTo>
                  <a:pt x="1336" y="0"/>
                </a:lnTo>
                <a:lnTo>
                  <a:pt x="1343" y="0"/>
                </a:lnTo>
                <a:lnTo>
                  <a:pt x="1351" y="2"/>
                </a:lnTo>
                <a:lnTo>
                  <a:pt x="1365" y="4"/>
                </a:lnTo>
                <a:lnTo>
                  <a:pt x="1376" y="6"/>
                </a:lnTo>
                <a:lnTo>
                  <a:pt x="1388" y="10"/>
                </a:lnTo>
                <a:lnTo>
                  <a:pt x="1399" y="14"/>
                </a:lnTo>
                <a:lnTo>
                  <a:pt x="1420" y="19"/>
                </a:lnTo>
                <a:lnTo>
                  <a:pt x="1439" y="29"/>
                </a:lnTo>
                <a:lnTo>
                  <a:pt x="1459" y="39"/>
                </a:lnTo>
                <a:lnTo>
                  <a:pt x="1474" y="48"/>
                </a:lnTo>
                <a:lnTo>
                  <a:pt x="1489" y="60"/>
                </a:lnTo>
                <a:lnTo>
                  <a:pt x="1503" y="73"/>
                </a:lnTo>
                <a:lnTo>
                  <a:pt x="1509" y="81"/>
                </a:lnTo>
                <a:lnTo>
                  <a:pt x="1514" y="87"/>
                </a:lnTo>
                <a:lnTo>
                  <a:pt x="1520" y="94"/>
                </a:lnTo>
                <a:lnTo>
                  <a:pt x="1524" y="100"/>
                </a:lnTo>
                <a:lnTo>
                  <a:pt x="1532" y="112"/>
                </a:lnTo>
                <a:lnTo>
                  <a:pt x="1539" y="125"/>
                </a:lnTo>
                <a:lnTo>
                  <a:pt x="1543" y="135"/>
                </a:lnTo>
                <a:lnTo>
                  <a:pt x="1547" y="144"/>
                </a:lnTo>
                <a:lnTo>
                  <a:pt x="1549" y="152"/>
                </a:lnTo>
                <a:lnTo>
                  <a:pt x="1549" y="154"/>
                </a:lnTo>
                <a:lnTo>
                  <a:pt x="1549" y="158"/>
                </a:lnTo>
                <a:lnTo>
                  <a:pt x="1549" y="161"/>
                </a:lnTo>
                <a:lnTo>
                  <a:pt x="1547" y="165"/>
                </a:lnTo>
                <a:lnTo>
                  <a:pt x="1543" y="171"/>
                </a:lnTo>
                <a:lnTo>
                  <a:pt x="1539" y="175"/>
                </a:lnTo>
                <a:lnTo>
                  <a:pt x="1532" y="179"/>
                </a:lnTo>
                <a:lnTo>
                  <a:pt x="1528" y="181"/>
                </a:lnTo>
                <a:lnTo>
                  <a:pt x="1524" y="184"/>
                </a:lnTo>
                <a:lnTo>
                  <a:pt x="1520" y="186"/>
                </a:lnTo>
                <a:lnTo>
                  <a:pt x="1514" y="188"/>
                </a:lnTo>
                <a:lnTo>
                  <a:pt x="1509" y="190"/>
                </a:lnTo>
                <a:lnTo>
                  <a:pt x="1503" y="1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85"/>
          <p:cNvSpPr/>
          <p:nvPr/>
        </p:nvSpPr>
        <p:spPr>
          <a:xfrm>
            <a:off x="6267600" y="3768840"/>
            <a:ext cx="637920" cy="179280"/>
          </a:xfrm>
          <a:custGeom>
            <a:avLst/>
            <a:gdLst/>
            <a:ahLst/>
            <a:rect l="l" t="t" r="r" b="b"/>
            <a:pathLst>
              <a:path w="804" h="227">
                <a:moveTo>
                  <a:pt x="0" y="156"/>
                </a:moveTo>
                <a:lnTo>
                  <a:pt x="0" y="154"/>
                </a:lnTo>
                <a:lnTo>
                  <a:pt x="2" y="152"/>
                </a:lnTo>
                <a:lnTo>
                  <a:pt x="2" y="150"/>
                </a:lnTo>
                <a:lnTo>
                  <a:pt x="4" y="150"/>
                </a:lnTo>
                <a:lnTo>
                  <a:pt x="6" y="148"/>
                </a:lnTo>
                <a:lnTo>
                  <a:pt x="10" y="146"/>
                </a:lnTo>
                <a:lnTo>
                  <a:pt x="12" y="144"/>
                </a:lnTo>
                <a:lnTo>
                  <a:pt x="16" y="142"/>
                </a:lnTo>
                <a:lnTo>
                  <a:pt x="19" y="140"/>
                </a:lnTo>
                <a:lnTo>
                  <a:pt x="25" y="136"/>
                </a:lnTo>
                <a:lnTo>
                  <a:pt x="29" y="134"/>
                </a:lnTo>
                <a:lnTo>
                  <a:pt x="35" y="133"/>
                </a:lnTo>
                <a:lnTo>
                  <a:pt x="42" y="129"/>
                </a:lnTo>
                <a:lnTo>
                  <a:pt x="48" y="127"/>
                </a:lnTo>
                <a:lnTo>
                  <a:pt x="56" y="123"/>
                </a:lnTo>
                <a:lnTo>
                  <a:pt x="64" y="121"/>
                </a:lnTo>
                <a:lnTo>
                  <a:pt x="71" y="117"/>
                </a:lnTo>
                <a:lnTo>
                  <a:pt x="81" y="115"/>
                </a:lnTo>
                <a:lnTo>
                  <a:pt x="88" y="111"/>
                </a:lnTo>
                <a:lnTo>
                  <a:pt x="98" y="108"/>
                </a:lnTo>
                <a:lnTo>
                  <a:pt x="110" y="104"/>
                </a:lnTo>
                <a:lnTo>
                  <a:pt x="119" y="100"/>
                </a:lnTo>
                <a:lnTo>
                  <a:pt x="131" y="96"/>
                </a:lnTo>
                <a:lnTo>
                  <a:pt x="142" y="92"/>
                </a:lnTo>
                <a:lnTo>
                  <a:pt x="156" y="88"/>
                </a:lnTo>
                <a:lnTo>
                  <a:pt x="169" y="85"/>
                </a:lnTo>
                <a:lnTo>
                  <a:pt x="181" y="81"/>
                </a:lnTo>
                <a:lnTo>
                  <a:pt x="196" y="77"/>
                </a:lnTo>
                <a:lnTo>
                  <a:pt x="209" y="73"/>
                </a:lnTo>
                <a:lnTo>
                  <a:pt x="225" y="67"/>
                </a:lnTo>
                <a:lnTo>
                  <a:pt x="240" y="63"/>
                </a:lnTo>
                <a:lnTo>
                  <a:pt x="257" y="60"/>
                </a:lnTo>
                <a:lnTo>
                  <a:pt x="286" y="52"/>
                </a:lnTo>
                <a:lnTo>
                  <a:pt x="315" y="46"/>
                </a:lnTo>
                <a:lnTo>
                  <a:pt x="344" y="40"/>
                </a:lnTo>
                <a:lnTo>
                  <a:pt x="371" y="35"/>
                </a:lnTo>
                <a:lnTo>
                  <a:pt x="396" y="29"/>
                </a:lnTo>
                <a:lnTo>
                  <a:pt x="421" y="25"/>
                </a:lnTo>
                <a:lnTo>
                  <a:pt x="444" y="19"/>
                </a:lnTo>
                <a:lnTo>
                  <a:pt x="465" y="15"/>
                </a:lnTo>
                <a:lnTo>
                  <a:pt x="486" y="12"/>
                </a:lnTo>
                <a:lnTo>
                  <a:pt x="505" y="10"/>
                </a:lnTo>
                <a:lnTo>
                  <a:pt x="522" y="6"/>
                </a:lnTo>
                <a:lnTo>
                  <a:pt x="540" y="4"/>
                </a:lnTo>
                <a:lnTo>
                  <a:pt x="555" y="2"/>
                </a:lnTo>
                <a:lnTo>
                  <a:pt x="570" y="0"/>
                </a:lnTo>
                <a:lnTo>
                  <a:pt x="584" y="0"/>
                </a:lnTo>
                <a:lnTo>
                  <a:pt x="595" y="0"/>
                </a:lnTo>
                <a:lnTo>
                  <a:pt x="616" y="0"/>
                </a:lnTo>
                <a:lnTo>
                  <a:pt x="637" y="2"/>
                </a:lnTo>
                <a:lnTo>
                  <a:pt x="659" y="4"/>
                </a:lnTo>
                <a:lnTo>
                  <a:pt x="680" y="8"/>
                </a:lnTo>
                <a:lnTo>
                  <a:pt x="699" y="10"/>
                </a:lnTo>
                <a:lnTo>
                  <a:pt x="716" y="15"/>
                </a:lnTo>
                <a:lnTo>
                  <a:pt x="732" y="19"/>
                </a:lnTo>
                <a:lnTo>
                  <a:pt x="739" y="21"/>
                </a:lnTo>
                <a:lnTo>
                  <a:pt x="747" y="23"/>
                </a:lnTo>
                <a:lnTo>
                  <a:pt x="758" y="33"/>
                </a:lnTo>
                <a:lnTo>
                  <a:pt x="770" y="40"/>
                </a:lnTo>
                <a:lnTo>
                  <a:pt x="779" y="46"/>
                </a:lnTo>
                <a:lnTo>
                  <a:pt x="789" y="52"/>
                </a:lnTo>
                <a:lnTo>
                  <a:pt x="795" y="58"/>
                </a:lnTo>
                <a:lnTo>
                  <a:pt x="799" y="60"/>
                </a:lnTo>
                <a:lnTo>
                  <a:pt x="801" y="62"/>
                </a:lnTo>
                <a:lnTo>
                  <a:pt x="803" y="63"/>
                </a:lnTo>
                <a:lnTo>
                  <a:pt x="803" y="67"/>
                </a:lnTo>
                <a:lnTo>
                  <a:pt x="804" y="69"/>
                </a:lnTo>
                <a:lnTo>
                  <a:pt x="804" y="71"/>
                </a:lnTo>
                <a:lnTo>
                  <a:pt x="804" y="75"/>
                </a:lnTo>
                <a:lnTo>
                  <a:pt x="803" y="81"/>
                </a:lnTo>
                <a:lnTo>
                  <a:pt x="799" y="85"/>
                </a:lnTo>
                <a:lnTo>
                  <a:pt x="795" y="88"/>
                </a:lnTo>
                <a:lnTo>
                  <a:pt x="787" y="94"/>
                </a:lnTo>
                <a:lnTo>
                  <a:pt x="779" y="98"/>
                </a:lnTo>
                <a:lnTo>
                  <a:pt x="776" y="100"/>
                </a:lnTo>
                <a:lnTo>
                  <a:pt x="770" y="102"/>
                </a:lnTo>
                <a:lnTo>
                  <a:pt x="764" y="106"/>
                </a:lnTo>
                <a:lnTo>
                  <a:pt x="758" y="108"/>
                </a:lnTo>
                <a:lnTo>
                  <a:pt x="751" y="110"/>
                </a:lnTo>
                <a:lnTo>
                  <a:pt x="741" y="111"/>
                </a:lnTo>
                <a:lnTo>
                  <a:pt x="732" y="115"/>
                </a:lnTo>
                <a:lnTo>
                  <a:pt x="720" y="119"/>
                </a:lnTo>
                <a:lnTo>
                  <a:pt x="707" y="121"/>
                </a:lnTo>
                <a:lnTo>
                  <a:pt x="693" y="125"/>
                </a:lnTo>
                <a:lnTo>
                  <a:pt x="678" y="129"/>
                </a:lnTo>
                <a:lnTo>
                  <a:pt x="660" y="134"/>
                </a:lnTo>
                <a:lnTo>
                  <a:pt x="641" y="138"/>
                </a:lnTo>
                <a:lnTo>
                  <a:pt x="620" y="144"/>
                </a:lnTo>
                <a:lnTo>
                  <a:pt x="599" y="148"/>
                </a:lnTo>
                <a:lnTo>
                  <a:pt x="576" y="154"/>
                </a:lnTo>
                <a:lnTo>
                  <a:pt x="551" y="159"/>
                </a:lnTo>
                <a:lnTo>
                  <a:pt x="524" y="165"/>
                </a:lnTo>
                <a:lnTo>
                  <a:pt x="495" y="173"/>
                </a:lnTo>
                <a:lnTo>
                  <a:pt x="467" y="179"/>
                </a:lnTo>
                <a:lnTo>
                  <a:pt x="434" y="184"/>
                </a:lnTo>
                <a:lnTo>
                  <a:pt x="405" y="192"/>
                </a:lnTo>
                <a:lnTo>
                  <a:pt x="376" y="196"/>
                </a:lnTo>
                <a:lnTo>
                  <a:pt x="351" y="202"/>
                </a:lnTo>
                <a:lnTo>
                  <a:pt x="326" y="206"/>
                </a:lnTo>
                <a:lnTo>
                  <a:pt x="303" y="209"/>
                </a:lnTo>
                <a:lnTo>
                  <a:pt x="282" y="213"/>
                </a:lnTo>
                <a:lnTo>
                  <a:pt x="263" y="217"/>
                </a:lnTo>
                <a:lnTo>
                  <a:pt x="248" y="219"/>
                </a:lnTo>
                <a:lnTo>
                  <a:pt x="232" y="221"/>
                </a:lnTo>
                <a:lnTo>
                  <a:pt x="217" y="223"/>
                </a:lnTo>
                <a:lnTo>
                  <a:pt x="206" y="225"/>
                </a:lnTo>
                <a:lnTo>
                  <a:pt x="196" y="225"/>
                </a:lnTo>
                <a:lnTo>
                  <a:pt x="188" y="225"/>
                </a:lnTo>
                <a:lnTo>
                  <a:pt x="181" y="227"/>
                </a:lnTo>
                <a:lnTo>
                  <a:pt x="175" y="227"/>
                </a:lnTo>
                <a:lnTo>
                  <a:pt x="165" y="227"/>
                </a:lnTo>
                <a:lnTo>
                  <a:pt x="156" y="225"/>
                </a:lnTo>
                <a:lnTo>
                  <a:pt x="144" y="223"/>
                </a:lnTo>
                <a:lnTo>
                  <a:pt x="131" y="219"/>
                </a:lnTo>
                <a:lnTo>
                  <a:pt x="117" y="215"/>
                </a:lnTo>
                <a:lnTo>
                  <a:pt x="104" y="211"/>
                </a:lnTo>
                <a:lnTo>
                  <a:pt x="87" y="207"/>
                </a:lnTo>
                <a:lnTo>
                  <a:pt x="71" y="204"/>
                </a:lnTo>
                <a:lnTo>
                  <a:pt x="62" y="200"/>
                </a:lnTo>
                <a:lnTo>
                  <a:pt x="54" y="198"/>
                </a:lnTo>
                <a:lnTo>
                  <a:pt x="46" y="194"/>
                </a:lnTo>
                <a:lnTo>
                  <a:pt x="40" y="192"/>
                </a:lnTo>
                <a:lnTo>
                  <a:pt x="33" y="188"/>
                </a:lnTo>
                <a:lnTo>
                  <a:pt x="27" y="184"/>
                </a:lnTo>
                <a:lnTo>
                  <a:pt x="23" y="182"/>
                </a:lnTo>
                <a:lnTo>
                  <a:pt x="17" y="179"/>
                </a:lnTo>
                <a:lnTo>
                  <a:pt x="14" y="175"/>
                </a:lnTo>
                <a:lnTo>
                  <a:pt x="10" y="171"/>
                </a:lnTo>
                <a:lnTo>
                  <a:pt x="8" y="169"/>
                </a:lnTo>
                <a:lnTo>
                  <a:pt x="4" y="165"/>
                </a:lnTo>
                <a:lnTo>
                  <a:pt x="2" y="163"/>
                </a:lnTo>
                <a:lnTo>
                  <a:pt x="2" y="159"/>
                </a:lnTo>
                <a:lnTo>
                  <a:pt x="0" y="158"/>
                </a:lnTo>
                <a:lnTo>
                  <a:pt x="0" y="1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86"/>
          <p:cNvSpPr/>
          <p:nvPr/>
        </p:nvSpPr>
        <p:spPr>
          <a:xfrm>
            <a:off x="6637320" y="3265560"/>
            <a:ext cx="1184400" cy="838080"/>
          </a:xfrm>
          <a:custGeom>
            <a:avLst/>
            <a:gdLst/>
            <a:ahLst/>
            <a:rect l="l" t="t" r="r" b="b"/>
            <a:pathLst>
              <a:path w="1491" h="1055">
                <a:moveTo>
                  <a:pt x="652" y="549"/>
                </a:moveTo>
                <a:lnTo>
                  <a:pt x="687" y="576"/>
                </a:lnTo>
                <a:lnTo>
                  <a:pt x="721" y="602"/>
                </a:lnTo>
                <a:lnTo>
                  <a:pt x="756" y="627"/>
                </a:lnTo>
                <a:lnTo>
                  <a:pt x="790" y="650"/>
                </a:lnTo>
                <a:lnTo>
                  <a:pt x="827" y="673"/>
                </a:lnTo>
                <a:lnTo>
                  <a:pt x="861" y="696"/>
                </a:lnTo>
                <a:lnTo>
                  <a:pt x="896" y="718"/>
                </a:lnTo>
                <a:lnTo>
                  <a:pt x="931" y="737"/>
                </a:lnTo>
                <a:lnTo>
                  <a:pt x="967" y="756"/>
                </a:lnTo>
                <a:lnTo>
                  <a:pt x="1002" y="775"/>
                </a:lnTo>
                <a:lnTo>
                  <a:pt x="1036" y="792"/>
                </a:lnTo>
                <a:lnTo>
                  <a:pt x="1071" y="810"/>
                </a:lnTo>
                <a:lnTo>
                  <a:pt x="1105" y="827"/>
                </a:lnTo>
                <a:lnTo>
                  <a:pt x="1142" y="842"/>
                </a:lnTo>
                <a:lnTo>
                  <a:pt x="1176" y="858"/>
                </a:lnTo>
                <a:lnTo>
                  <a:pt x="1211" y="871"/>
                </a:lnTo>
                <a:lnTo>
                  <a:pt x="1228" y="879"/>
                </a:lnTo>
                <a:lnTo>
                  <a:pt x="1245" y="887"/>
                </a:lnTo>
                <a:lnTo>
                  <a:pt x="1261" y="894"/>
                </a:lnTo>
                <a:lnTo>
                  <a:pt x="1276" y="900"/>
                </a:lnTo>
                <a:lnTo>
                  <a:pt x="1291" y="908"/>
                </a:lnTo>
                <a:lnTo>
                  <a:pt x="1305" y="913"/>
                </a:lnTo>
                <a:lnTo>
                  <a:pt x="1320" y="919"/>
                </a:lnTo>
                <a:lnTo>
                  <a:pt x="1334" y="927"/>
                </a:lnTo>
                <a:lnTo>
                  <a:pt x="1345" y="931"/>
                </a:lnTo>
                <a:lnTo>
                  <a:pt x="1359" y="936"/>
                </a:lnTo>
                <a:lnTo>
                  <a:pt x="1370" y="942"/>
                </a:lnTo>
                <a:lnTo>
                  <a:pt x="1382" y="946"/>
                </a:lnTo>
                <a:lnTo>
                  <a:pt x="1391" y="952"/>
                </a:lnTo>
                <a:lnTo>
                  <a:pt x="1401" y="956"/>
                </a:lnTo>
                <a:lnTo>
                  <a:pt x="1410" y="959"/>
                </a:lnTo>
                <a:lnTo>
                  <a:pt x="1420" y="965"/>
                </a:lnTo>
                <a:lnTo>
                  <a:pt x="1430" y="967"/>
                </a:lnTo>
                <a:lnTo>
                  <a:pt x="1437" y="971"/>
                </a:lnTo>
                <a:lnTo>
                  <a:pt x="1445" y="975"/>
                </a:lnTo>
                <a:lnTo>
                  <a:pt x="1451" y="979"/>
                </a:lnTo>
                <a:lnTo>
                  <a:pt x="1456" y="981"/>
                </a:lnTo>
                <a:lnTo>
                  <a:pt x="1462" y="984"/>
                </a:lnTo>
                <a:lnTo>
                  <a:pt x="1468" y="986"/>
                </a:lnTo>
                <a:lnTo>
                  <a:pt x="1474" y="988"/>
                </a:lnTo>
                <a:lnTo>
                  <a:pt x="1478" y="992"/>
                </a:lnTo>
                <a:lnTo>
                  <a:pt x="1481" y="994"/>
                </a:lnTo>
                <a:lnTo>
                  <a:pt x="1483" y="996"/>
                </a:lnTo>
                <a:lnTo>
                  <a:pt x="1485" y="998"/>
                </a:lnTo>
                <a:lnTo>
                  <a:pt x="1487" y="998"/>
                </a:lnTo>
                <a:lnTo>
                  <a:pt x="1489" y="1000"/>
                </a:lnTo>
                <a:lnTo>
                  <a:pt x="1491" y="1002"/>
                </a:lnTo>
                <a:lnTo>
                  <a:pt x="1491" y="1004"/>
                </a:lnTo>
                <a:lnTo>
                  <a:pt x="1489" y="1006"/>
                </a:lnTo>
                <a:lnTo>
                  <a:pt x="1489" y="1007"/>
                </a:lnTo>
                <a:lnTo>
                  <a:pt x="1485" y="1009"/>
                </a:lnTo>
                <a:lnTo>
                  <a:pt x="1481" y="1011"/>
                </a:lnTo>
                <a:lnTo>
                  <a:pt x="1478" y="1013"/>
                </a:lnTo>
                <a:lnTo>
                  <a:pt x="1472" y="1015"/>
                </a:lnTo>
                <a:lnTo>
                  <a:pt x="1464" y="1019"/>
                </a:lnTo>
                <a:lnTo>
                  <a:pt x="1456" y="1021"/>
                </a:lnTo>
                <a:lnTo>
                  <a:pt x="1449" y="1023"/>
                </a:lnTo>
                <a:lnTo>
                  <a:pt x="1439" y="1025"/>
                </a:lnTo>
                <a:lnTo>
                  <a:pt x="1428" y="1027"/>
                </a:lnTo>
                <a:lnTo>
                  <a:pt x="1416" y="1029"/>
                </a:lnTo>
                <a:lnTo>
                  <a:pt x="1405" y="1032"/>
                </a:lnTo>
                <a:lnTo>
                  <a:pt x="1391" y="1034"/>
                </a:lnTo>
                <a:lnTo>
                  <a:pt x="1378" y="1036"/>
                </a:lnTo>
                <a:lnTo>
                  <a:pt x="1362" y="1038"/>
                </a:lnTo>
                <a:lnTo>
                  <a:pt x="1328" y="1042"/>
                </a:lnTo>
                <a:lnTo>
                  <a:pt x="1295" y="1046"/>
                </a:lnTo>
                <a:lnTo>
                  <a:pt x="1263" y="1048"/>
                </a:lnTo>
                <a:lnTo>
                  <a:pt x="1230" y="1050"/>
                </a:lnTo>
                <a:lnTo>
                  <a:pt x="1199" y="1050"/>
                </a:lnTo>
                <a:lnTo>
                  <a:pt x="1167" y="1050"/>
                </a:lnTo>
                <a:lnTo>
                  <a:pt x="1107" y="1052"/>
                </a:lnTo>
                <a:lnTo>
                  <a:pt x="1092" y="1054"/>
                </a:lnTo>
                <a:lnTo>
                  <a:pt x="1076" y="1054"/>
                </a:lnTo>
                <a:lnTo>
                  <a:pt x="1063" y="1055"/>
                </a:lnTo>
                <a:lnTo>
                  <a:pt x="1050" y="1055"/>
                </a:lnTo>
                <a:lnTo>
                  <a:pt x="1023" y="1055"/>
                </a:lnTo>
                <a:lnTo>
                  <a:pt x="1000" y="1054"/>
                </a:lnTo>
                <a:lnTo>
                  <a:pt x="977" y="1052"/>
                </a:lnTo>
                <a:lnTo>
                  <a:pt x="957" y="1048"/>
                </a:lnTo>
                <a:lnTo>
                  <a:pt x="938" y="1044"/>
                </a:lnTo>
                <a:lnTo>
                  <a:pt x="919" y="1038"/>
                </a:lnTo>
                <a:lnTo>
                  <a:pt x="908" y="1036"/>
                </a:lnTo>
                <a:lnTo>
                  <a:pt x="896" y="1030"/>
                </a:lnTo>
                <a:lnTo>
                  <a:pt x="884" y="1025"/>
                </a:lnTo>
                <a:lnTo>
                  <a:pt x="871" y="1019"/>
                </a:lnTo>
                <a:lnTo>
                  <a:pt x="858" y="1009"/>
                </a:lnTo>
                <a:lnTo>
                  <a:pt x="844" y="1000"/>
                </a:lnTo>
                <a:lnTo>
                  <a:pt x="829" y="988"/>
                </a:lnTo>
                <a:lnTo>
                  <a:pt x="813" y="977"/>
                </a:lnTo>
                <a:lnTo>
                  <a:pt x="798" y="961"/>
                </a:lnTo>
                <a:lnTo>
                  <a:pt x="783" y="946"/>
                </a:lnTo>
                <a:lnTo>
                  <a:pt x="765" y="931"/>
                </a:lnTo>
                <a:lnTo>
                  <a:pt x="748" y="911"/>
                </a:lnTo>
                <a:lnTo>
                  <a:pt x="731" y="892"/>
                </a:lnTo>
                <a:lnTo>
                  <a:pt x="714" y="871"/>
                </a:lnTo>
                <a:lnTo>
                  <a:pt x="694" y="848"/>
                </a:lnTo>
                <a:lnTo>
                  <a:pt x="675" y="823"/>
                </a:lnTo>
                <a:lnTo>
                  <a:pt x="664" y="812"/>
                </a:lnTo>
                <a:lnTo>
                  <a:pt x="652" y="798"/>
                </a:lnTo>
                <a:lnTo>
                  <a:pt x="641" y="783"/>
                </a:lnTo>
                <a:lnTo>
                  <a:pt x="627" y="767"/>
                </a:lnTo>
                <a:lnTo>
                  <a:pt x="614" y="752"/>
                </a:lnTo>
                <a:lnTo>
                  <a:pt x="598" y="737"/>
                </a:lnTo>
                <a:lnTo>
                  <a:pt x="583" y="720"/>
                </a:lnTo>
                <a:lnTo>
                  <a:pt x="568" y="700"/>
                </a:lnTo>
                <a:lnTo>
                  <a:pt x="552" y="681"/>
                </a:lnTo>
                <a:lnTo>
                  <a:pt x="535" y="662"/>
                </a:lnTo>
                <a:lnTo>
                  <a:pt x="518" y="643"/>
                </a:lnTo>
                <a:lnTo>
                  <a:pt x="499" y="622"/>
                </a:lnTo>
                <a:lnTo>
                  <a:pt x="479" y="599"/>
                </a:lnTo>
                <a:lnTo>
                  <a:pt x="460" y="577"/>
                </a:lnTo>
                <a:lnTo>
                  <a:pt x="441" y="553"/>
                </a:lnTo>
                <a:lnTo>
                  <a:pt x="420" y="529"/>
                </a:lnTo>
                <a:lnTo>
                  <a:pt x="397" y="505"/>
                </a:lnTo>
                <a:lnTo>
                  <a:pt x="376" y="478"/>
                </a:lnTo>
                <a:lnTo>
                  <a:pt x="353" y="453"/>
                </a:lnTo>
                <a:lnTo>
                  <a:pt x="330" y="424"/>
                </a:lnTo>
                <a:lnTo>
                  <a:pt x="305" y="397"/>
                </a:lnTo>
                <a:lnTo>
                  <a:pt x="280" y="368"/>
                </a:lnTo>
                <a:lnTo>
                  <a:pt x="255" y="338"/>
                </a:lnTo>
                <a:lnTo>
                  <a:pt x="230" y="309"/>
                </a:lnTo>
                <a:lnTo>
                  <a:pt x="203" y="276"/>
                </a:lnTo>
                <a:lnTo>
                  <a:pt x="176" y="245"/>
                </a:lnTo>
                <a:lnTo>
                  <a:pt x="147" y="213"/>
                </a:lnTo>
                <a:lnTo>
                  <a:pt x="119" y="178"/>
                </a:lnTo>
                <a:lnTo>
                  <a:pt x="90" y="144"/>
                </a:lnTo>
                <a:lnTo>
                  <a:pt x="61" y="109"/>
                </a:lnTo>
                <a:lnTo>
                  <a:pt x="30" y="73"/>
                </a:lnTo>
                <a:lnTo>
                  <a:pt x="0" y="36"/>
                </a:lnTo>
                <a:lnTo>
                  <a:pt x="46" y="17"/>
                </a:lnTo>
                <a:lnTo>
                  <a:pt x="94" y="0"/>
                </a:lnTo>
                <a:lnTo>
                  <a:pt x="98" y="5"/>
                </a:lnTo>
                <a:lnTo>
                  <a:pt x="103" y="11"/>
                </a:lnTo>
                <a:lnTo>
                  <a:pt x="109" y="17"/>
                </a:lnTo>
                <a:lnTo>
                  <a:pt x="117" y="25"/>
                </a:lnTo>
                <a:lnTo>
                  <a:pt x="124" y="32"/>
                </a:lnTo>
                <a:lnTo>
                  <a:pt x="134" y="42"/>
                </a:lnTo>
                <a:lnTo>
                  <a:pt x="144" y="52"/>
                </a:lnTo>
                <a:lnTo>
                  <a:pt x="153" y="63"/>
                </a:lnTo>
                <a:lnTo>
                  <a:pt x="163" y="75"/>
                </a:lnTo>
                <a:lnTo>
                  <a:pt x="174" y="86"/>
                </a:lnTo>
                <a:lnTo>
                  <a:pt x="188" y="100"/>
                </a:lnTo>
                <a:lnTo>
                  <a:pt x="199" y="113"/>
                </a:lnTo>
                <a:lnTo>
                  <a:pt x="213" y="128"/>
                </a:lnTo>
                <a:lnTo>
                  <a:pt x="226" y="144"/>
                </a:lnTo>
                <a:lnTo>
                  <a:pt x="241" y="161"/>
                </a:lnTo>
                <a:lnTo>
                  <a:pt x="257" y="178"/>
                </a:lnTo>
                <a:lnTo>
                  <a:pt x="272" y="197"/>
                </a:lnTo>
                <a:lnTo>
                  <a:pt x="288" y="217"/>
                </a:lnTo>
                <a:lnTo>
                  <a:pt x="307" y="236"/>
                </a:lnTo>
                <a:lnTo>
                  <a:pt x="326" y="255"/>
                </a:lnTo>
                <a:lnTo>
                  <a:pt x="347" y="276"/>
                </a:lnTo>
                <a:lnTo>
                  <a:pt x="368" y="297"/>
                </a:lnTo>
                <a:lnTo>
                  <a:pt x="391" y="318"/>
                </a:lnTo>
                <a:lnTo>
                  <a:pt x="414" y="341"/>
                </a:lnTo>
                <a:lnTo>
                  <a:pt x="439" y="364"/>
                </a:lnTo>
                <a:lnTo>
                  <a:pt x="466" y="387"/>
                </a:lnTo>
                <a:lnTo>
                  <a:pt x="495" y="412"/>
                </a:lnTo>
                <a:lnTo>
                  <a:pt x="524" y="439"/>
                </a:lnTo>
                <a:lnTo>
                  <a:pt x="554" y="464"/>
                </a:lnTo>
                <a:lnTo>
                  <a:pt x="585" y="491"/>
                </a:lnTo>
                <a:lnTo>
                  <a:pt x="618" y="520"/>
                </a:lnTo>
                <a:lnTo>
                  <a:pt x="652" y="5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87"/>
          <p:cNvSpPr/>
          <p:nvPr/>
        </p:nvSpPr>
        <p:spPr>
          <a:xfrm>
            <a:off x="5545080" y="2776680"/>
            <a:ext cx="1131840" cy="1552320"/>
          </a:xfrm>
          <a:custGeom>
            <a:avLst/>
            <a:gdLst/>
            <a:ahLst/>
            <a:rect l="l" t="t" r="r" b="b"/>
            <a:pathLst>
              <a:path w="1427" h="1956">
                <a:moveTo>
                  <a:pt x="1423" y="103"/>
                </a:moveTo>
                <a:lnTo>
                  <a:pt x="1425" y="107"/>
                </a:lnTo>
                <a:lnTo>
                  <a:pt x="1427" y="115"/>
                </a:lnTo>
                <a:lnTo>
                  <a:pt x="1427" y="122"/>
                </a:lnTo>
                <a:lnTo>
                  <a:pt x="1425" y="134"/>
                </a:lnTo>
                <a:lnTo>
                  <a:pt x="1423" y="145"/>
                </a:lnTo>
                <a:lnTo>
                  <a:pt x="1421" y="159"/>
                </a:lnTo>
                <a:lnTo>
                  <a:pt x="1417" y="174"/>
                </a:lnTo>
                <a:lnTo>
                  <a:pt x="1413" y="190"/>
                </a:lnTo>
                <a:lnTo>
                  <a:pt x="1409" y="209"/>
                </a:lnTo>
                <a:lnTo>
                  <a:pt x="1403" y="228"/>
                </a:lnTo>
                <a:lnTo>
                  <a:pt x="1398" y="249"/>
                </a:lnTo>
                <a:lnTo>
                  <a:pt x="1390" y="272"/>
                </a:lnTo>
                <a:lnTo>
                  <a:pt x="1382" y="295"/>
                </a:lnTo>
                <a:lnTo>
                  <a:pt x="1373" y="322"/>
                </a:lnTo>
                <a:lnTo>
                  <a:pt x="1363" y="349"/>
                </a:lnTo>
                <a:lnTo>
                  <a:pt x="1354" y="378"/>
                </a:lnTo>
                <a:lnTo>
                  <a:pt x="1342" y="408"/>
                </a:lnTo>
                <a:lnTo>
                  <a:pt x="1331" y="441"/>
                </a:lnTo>
                <a:lnTo>
                  <a:pt x="1319" y="474"/>
                </a:lnTo>
                <a:lnTo>
                  <a:pt x="1306" y="506"/>
                </a:lnTo>
                <a:lnTo>
                  <a:pt x="1292" y="541"/>
                </a:lnTo>
                <a:lnTo>
                  <a:pt x="1279" y="575"/>
                </a:lnTo>
                <a:lnTo>
                  <a:pt x="1263" y="610"/>
                </a:lnTo>
                <a:lnTo>
                  <a:pt x="1248" y="646"/>
                </a:lnTo>
                <a:lnTo>
                  <a:pt x="1233" y="681"/>
                </a:lnTo>
                <a:lnTo>
                  <a:pt x="1215" y="717"/>
                </a:lnTo>
                <a:lnTo>
                  <a:pt x="1200" y="756"/>
                </a:lnTo>
                <a:lnTo>
                  <a:pt x="1183" y="792"/>
                </a:lnTo>
                <a:lnTo>
                  <a:pt x="1164" y="831"/>
                </a:lnTo>
                <a:lnTo>
                  <a:pt x="1146" y="871"/>
                </a:lnTo>
                <a:lnTo>
                  <a:pt x="1127" y="909"/>
                </a:lnTo>
                <a:lnTo>
                  <a:pt x="1108" y="950"/>
                </a:lnTo>
                <a:lnTo>
                  <a:pt x="1087" y="990"/>
                </a:lnTo>
                <a:lnTo>
                  <a:pt x="1064" y="1030"/>
                </a:lnTo>
                <a:lnTo>
                  <a:pt x="1041" y="1069"/>
                </a:lnTo>
                <a:lnTo>
                  <a:pt x="1018" y="1107"/>
                </a:lnTo>
                <a:lnTo>
                  <a:pt x="993" y="1144"/>
                </a:lnTo>
                <a:lnTo>
                  <a:pt x="968" y="1182"/>
                </a:lnTo>
                <a:lnTo>
                  <a:pt x="943" y="1216"/>
                </a:lnTo>
                <a:lnTo>
                  <a:pt x="916" y="1253"/>
                </a:lnTo>
                <a:lnTo>
                  <a:pt x="889" y="1288"/>
                </a:lnTo>
                <a:lnTo>
                  <a:pt x="862" y="1322"/>
                </a:lnTo>
                <a:lnTo>
                  <a:pt x="835" y="1355"/>
                </a:lnTo>
                <a:lnTo>
                  <a:pt x="807" y="1387"/>
                </a:lnTo>
                <a:lnTo>
                  <a:pt x="778" y="1420"/>
                </a:lnTo>
                <a:lnTo>
                  <a:pt x="749" y="1451"/>
                </a:lnTo>
                <a:lnTo>
                  <a:pt x="718" y="1481"/>
                </a:lnTo>
                <a:lnTo>
                  <a:pt x="689" y="1512"/>
                </a:lnTo>
                <a:lnTo>
                  <a:pt x="657" y="1541"/>
                </a:lnTo>
                <a:lnTo>
                  <a:pt x="624" y="1568"/>
                </a:lnTo>
                <a:lnTo>
                  <a:pt x="593" y="1595"/>
                </a:lnTo>
                <a:lnTo>
                  <a:pt x="563" y="1622"/>
                </a:lnTo>
                <a:lnTo>
                  <a:pt x="532" y="1646"/>
                </a:lnTo>
                <a:lnTo>
                  <a:pt x="501" y="1671"/>
                </a:lnTo>
                <a:lnTo>
                  <a:pt x="473" y="1694"/>
                </a:lnTo>
                <a:lnTo>
                  <a:pt x="444" y="1716"/>
                </a:lnTo>
                <a:lnTo>
                  <a:pt x="415" y="1737"/>
                </a:lnTo>
                <a:lnTo>
                  <a:pt x="386" y="1758"/>
                </a:lnTo>
                <a:lnTo>
                  <a:pt x="357" y="1777"/>
                </a:lnTo>
                <a:lnTo>
                  <a:pt x="331" y="1794"/>
                </a:lnTo>
                <a:lnTo>
                  <a:pt x="304" y="1812"/>
                </a:lnTo>
                <a:lnTo>
                  <a:pt x="277" y="1829"/>
                </a:lnTo>
                <a:lnTo>
                  <a:pt x="250" y="1844"/>
                </a:lnTo>
                <a:lnTo>
                  <a:pt x="223" y="1858"/>
                </a:lnTo>
                <a:lnTo>
                  <a:pt x="198" y="1873"/>
                </a:lnTo>
                <a:lnTo>
                  <a:pt x="173" y="1886"/>
                </a:lnTo>
                <a:lnTo>
                  <a:pt x="152" y="1898"/>
                </a:lnTo>
                <a:lnTo>
                  <a:pt x="131" y="1909"/>
                </a:lnTo>
                <a:lnTo>
                  <a:pt x="112" y="1919"/>
                </a:lnTo>
                <a:lnTo>
                  <a:pt x="94" y="1929"/>
                </a:lnTo>
                <a:lnTo>
                  <a:pt x="79" y="1936"/>
                </a:lnTo>
                <a:lnTo>
                  <a:pt x="64" y="1942"/>
                </a:lnTo>
                <a:lnTo>
                  <a:pt x="52" y="1946"/>
                </a:lnTo>
                <a:lnTo>
                  <a:pt x="41" y="1950"/>
                </a:lnTo>
                <a:lnTo>
                  <a:pt x="31" y="1954"/>
                </a:lnTo>
                <a:lnTo>
                  <a:pt x="21" y="1956"/>
                </a:lnTo>
                <a:lnTo>
                  <a:pt x="14" y="1956"/>
                </a:lnTo>
                <a:lnTo>
                  <a:pt x="8" y="1956"/>
                </a:lnTo>
                <a:lnTo>
                  <a:pt x="4" y="1956"/>
                </a:lnTo>
                <a:lnTo>
                  <a:pt x="2" y="1954"/>
                </a:lnTo>
                <a:lnTo>
                  <a:pt x="0" y="1950"/>
                </a:lnTo>
                <a:lnTo>
                  <a:pt x="0" y="1948"/>
                </a:lnTo>
                <a:lnTo>
                  <a:pt x="0" y="1944"/>
                </a:lnTo>
                <a:lnTo>
                  <a:pt x="2" y="1940"/>
                </a:lnTo>
                <a:lnTo>
                  <a:pt x="4" y="1936"/>
                </a:lnTo>
                <a:lnTo>
                  <a:pt x="8" y="1931"/>
                </a:lnTo>
                <a:lnTo>
                  <a:pt x="12" y="1925"/>
                </a:lnTo>
                <a:lnTo>
                  <a:pt x="18" y="1919"/>
                </a:lnTo>
                <a:lnTo>
                  <a:pt x="25" y="1913"/>
                </a:lnTo>
                <a:lnTo>
                  <a:pt x="31" y="1906"/>
                </a:lnTo>
                <a:lnTo>
                  <a:pt x="41" y="1898"/>
                </a:lnTo>
                <a:lnTo>
                  <a:pt x="50" y="1892"/>
                </a:lnTo>
                <a:lnTo>
                  <a:pt x="60" y="1883"/>
                </a:lnTo>
                <a:lnTo>
                  <a:pt x="71" y="1875"/>
                </a:lnTo>
                <a:lnTo>
                  <a:pt x="83" y="1867"/>
                </a:lnTo>
                <a:lnTo>
                  <a:pt x="94" y="1858"/>
                </a:lnTo>
                <a:lnTo>
                  <a:pt x="106" y="1848"/>
                </a:lnTo>
                <a:lnTo>
                  <a:pt x="117" y="1838"/>
                </a:lnTo>
                <a:lnTo>
                  <a:pt x="131" y="1829"/>
                </a:lnTo>
                <a:lnTo>
                  <a:pt x="144" y="1817"/>
                </a:lnTo>
                <a:lnTo>
                  <a:pt x="160" y="1806"/>
                </a:lnTo>
                <a:lnTo>
                  <a:pt x="175" y="1792"/>
                </a:lnTo>
                <a:lnTo>
                  <a:pt x="190" y="1781"/>
                </a:lnTo>
                <a:lnTo>
                  <a:pt x="208" y="1767"/>
                </a:lnTo>
                <a:lnTo>
                  <a:pt x="225" y="1752"/>
                </a:lnTo>
                <a:lnTo>
                  <a:pt x="242" y="1737"/>
                </a:lnTo>
                <a:lnTo>
                  <a:pt x="261" y="1721"/>
                </a:lnTo>
                <a:lnTo>
                  <a:pt x="281" y="1706"/>
                </a:lnTo>
                <a:lnTo>
                  <a:pt x="300" y="1689"/>
                </a:lnTo>
                <a:lnTo>
                  <a:pt x="321" y="1670"/>
                </a:lnTo>
                <a:lnTo>
                  <a:pt x="342" y="1650"/>
                </a:lnTo>
                <a:lnTo>
                  <a:pt x="363" y="1631"/>
                </a:lnTo>
                <a:lnTo>
                  <a:pt x="384" y="1612"/>
                </a:lnTo>
                <a:lnTo>
                  <a:pt x="407" y="1593"/>
                </a:lnTo>
                <a:lnTo>
                  <a:pt x="428" y="1574"/>
                </a:lnTo>
                <a:lnTo>
                  <a:pt x="451" y="1552"/>
                </a:lnTo>
                <a:lnTo>
                  <a:pt x="474" y="1529"/>
                </a:lnTo>
                <a:lnTo>
                  <a:pt x="499" y="1506"/>
                </a:lnTo>
                <a:lnTo>
                  <a:pt x="522" y="1483"/>
                </a:lnTo>
                <a:lnTo>
                  <a:pt x="547" y="1458"/>
                </a:lnTo>
                <a:lnTo>
                  <a:pt x="570" y="1433"/>
                </a:lnTo>
                <a:lnTo>
                  <a:pt x="595" y="1407"/>
                </a:lnTo>
                <a:lnTo>
                  <a:pt x="620" y="1380"/>
                </a:lnTo>
                <a:lnTo>
                  <a:pt x="645" y="1351"/>
                </a:lnTo>
                <a:lnTo>
                  <a:pt x="670" y="1320"/>
                </a:lnTo>
                <a:lnTo>
                  <a:pt x="695" y="1289"/>
                </a:lnTo>
                <a:lnTo>
                  <a:pt x="722" y="1259"/>
                </a:lnTo>
                <a:lnTo>
                  <a:pt x="747" y="1224"/>
                </a:lnTo>
                <a:lnTo>
                  <a:pt x="793" y="1157"/>
                </a:lnTo>
                <a:lnTo>
                  <a:pt x="816" y="1122"/>
                </a:lnTo>
                <a:lnTo>
                  <a:pt x="839" y="1090"/>
                </a:lnTo>
                <a:lnTo>
                  <a:pt x="860" y="1055"/>
                </a:lnTo>
                <a:lnTo>
                  <a:pt x="881" y="1021"/>
                </a:lnTo>
                <a:lnTo>
                  <a:pt x="903" y="988"/>
                </a:lnTo>
                <a:lnTo>
                  <a:pt x="922" y="954"/>
                </a:lnTo>
                <a:lnTo>
                  <a:pt x="941" y="919"/>
                </a:lnTo>
                <a:lnTo>
                  <a:pt x="960" y="882"/>
                </a:lnTo>
                <a:lnTo>
                  <a:pt x="979" y="848"/>
                </a:lnTo>
                <a:lnTo>
                  <a:pt x="997" y="811"/>
                </a:lnTo>
                <a:lnTo>
                  <a:pt x="1014" y="775"/>
                </a:lnTo>
                <a:lnTo>
                  <a:pt x="1031" y="739"/>
                </a:lnTo>
                <a:lnTo>
                  <a:pt x="1046" y="702"/>
                </a:lnTo>
                <a:lnTo>
                  <a:pt x="1062" y="664"/>
                </a:lnTo>
                <a:lnTo>
                  <a:pt x="1075" y="629"/>
                </a:lnTo>
                <a:lnTo>
                  <a:pt x="1087" y="595"/>
                </a:lnTo>
                <a:lnTo>
                  <a:pt x="1098" y="562"/>
                </a:lnTo>
                <a:lnTo>
                  <a:pt x="1110" y="529"/>
                </a:lnTo>
                <a:lnTo>
                  <a:pt x="1119" y="499"/>
                </a:lnTo>
                <a:lnTo>
                  <a:pt x="1131" y="468"/>
                </a:lnTo>
                <a:lnTo>
                  <a:pt x="1141" y="441"/>
                </a:lnTo>
                <a:lnTo>
                  <a:pt x="1148" y="412"/>
                </a:lnTo>
                <a:lnTo>
                  <a:pt x="1158" y="387"/>
                </a:lnTo>
                <a:lnTo>
                  <a:pt x="1165" y="360"/>
                </a:lnTo>
                <a:lnTo>
                  <a:pt x="1173" y="337"/>
                </a:lnTo>
                <a:lnTo>
                  <a:pt x="1179" y="314"/>
                </a:lnTo>
                <a:lnTo>
                  <a:pt x="1187" y="293"/>
                </a:lnTo>
                <a:lnTo>
                  <a:pt x="1192" y="272"/>
                </a:lnTo>
                <a:lnTo>
                  <a:pt x="1196" y="253"/>
                </a:lnTo>
                <a:lnTo>
                  <a:pt x="1202" y="234"/>
                </a:lnTo>
                <a:lnTo>
                  <a:pt x="1204" y="216"/>
                </a:lnTo>
                <a:lnTo>
                  <a:pt x="1206" y="199"/>
                </a:lnTo>
                <a:lnTo>
                  <a:pt x="1206" y="184"/>
                </a:lnTo>
                <a:lnTo>
                  <a:pt x="1208" y="168"/>
                </a:lnTo>
                <a:lnTo>
                  <a:pt x="1208" y="155"/>
                </a:lnTo>
                <a:lnTo>
                  <a:pt x="1210" y="142"/>
                </a:lnTo>
                <a:lnTo>
                  <a:pt x="1210" y="128"/>
                </a:lnTo>
                <a:lnTo>
                  <a:pt x="1210" y="117"/>
                </a:lnTo>
                <a:lnTo>
                  <a:pt x="1208" y="107"/>
                </a:lnTo>
                <a:lnTo>
                  <a:pt x="1208" y="97"/>
                </a:lnTo>
                <a:lnTo>
                  <a:pt x="1206" y="88"/>
                </a:lnTo>
                <a:lnTo>
                  <a:pt x="1204" y="80"/>
                </a:lnTo>
                <a:lnTo>
                  <a:pt x="1200" y="72"/>
                </a:lnTo>
                <a:lnTo>
                  <a:pt x="1198" y="65"/>
                </a:lnTo>
                <a:lnTo>
                  <a:pt x="1194" y="59"/>
                </a:lnTo>
                <a:lnTo>
                  <a:pt x="1190" y="55"/>
                </a:lnTo>
                <a:lnTo>
                  <a:pt x="1187" y="53"/>
                </a:lnTo>
                <a:lnTo>
                  <a:pt x="1183" y="49"/>
                </a:lnTo>
                <a:lnTo>
                  <a:pt x="1179" y="48"/>
                </a:lnTo>
                <a:lnTo>
                  <a:pt x="1177" y="44"/>
                </a:lnTo>
                <a:lnTo>
                  <a:pt x="1173" y="38"/>
                </a:lnTo>
                <a:lnTo>
                  <a:pt x="1171" y="30"/>
                </a:lnTo>
                <a:lnTo>
                  <a:pt x="1171" y="24"/>
                </a:lnTo>
                <a:lnTo>
                  <a:pt x="1171" y="17"/>
                </a:lnTo>
                <a:lnTo>
                  <a:pt x="1175" y="11"/>
                </a:lnTo>
                <a:lnTo>
                  <a:pt x="1179" y="7"/>
                </a:lnTo>
                <a:lnTo>
                  <a:pt x="1181" y="5"/>
                </a:lnTo>
                <a:lnTo>
                  <a:pt x="1185" y="3"/>
                </a:lnTo>
                <a:lnTo>
                  <a:pt x="1189" y="1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3" y="0"/>
                </a:lnTo>
                <a:lnTo>
                  <a:pt x="1221" y="0"/>
                </a:lnTo>
                <a:lnTo>
                  <a:pt x="1229" y="0"/>
                </a:lnTo>
                <a:lnTo>
                  <a:pt x="1238" y="1"/>
                </a:lnTo>
                <a:lnTo>
                  <a:pt x="1248" y="3"/>
                </a:lnTo>
                <a:lnTo>
                  <a:pt x="1260" y="5"/>
                </a:lnTo>
                <a:lnTo>
                  <a:pt x="1269" y="7"/>
                </a:lnTo>
                <a:lnTo>
                  <a:pt x="1281" y="11"/>
                </a:lnTo>
                <a:lnTo>
                  <a:pt x="1294" y="15"/>
                </a:lnTo>
                <a:lnTo>
                  <a:pt x="1308" y="19"/>
                </a:lnTo>
                <a:lnTo>
                  <a:pt x="1319" y="23"/>
                </a:lnTo>
                <a:lnTo>
                  <a:pt x="1331" y="28"/>
                </a:lnTo>
                <a:lnTo>
                  <a:pt x="1342" y="32"/>
                </a:lnTo>
                <a:lnTo>
                  <a:pt x="1352" y="38"/>
                </a:lnTo>
                <a:lnTo>
                  <a:pt x="1361" y="42"/>
                </a:lnTo>
                <a:lnTo>
                  <a:pt x="1371" y="48"/>
                </a:lnTo>
                <a:lnTo>
                  <a:pt x="1379" y="51"/>
                </a:lnTo>
                <a:lnTo>
                  <a:pt x="1386" y="57"/>
                </a:lnTo>
                <a:lnTo>
                  <a:pt x="1394" y="61"/>
                </a:lnTo>
                <a:lnTo>
                  <a:pt x="1400" y="67"/>
                </a:lnTo>
                <a:lnTo>
                  <a:pt x="1405" y="72"/>
                </a:lnTo>
                <a:lnTo>
                  <a:pt x="1409" y="78"/>
                </a:lnTo>
                <a:lnTo>
                  <a:pt x="1415" y="84"/>
                </a:lnTo>
                <a:lnTo>
                  <a:pt x="1417" y="90"/>
                </a:lnTo>
                <a:lnTo>
                  <a:pt x="1421" y="95"/>
                </a:lnTo>
                <a:lnTo>
                  <a:pt x="1423" y="1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88"/>
          <p:cNvSpPr/>
          <p:nvPr/>
        </p:nvSpPr>
        <p:spPr>
          <a:xfrm>
            <a:off x="5983200" y="3141720"/>
            <a:ext cx="1292400" cy="269640"/>
          </a:xfrm>
          <a:custGeom>
            <a:avLst/>
            <a:gdLst/>
            <a:ahLst/>
            <a:rect l="l" t="t" r="r" b="b"/>
            <a:pathLst>
              <a:path w="1628" h="340">
                <a:moveTo>
                  <a:pt x="1568" y="144"/>
                </a:moveTo>
                <a:lnTo>
                  <a:pt x="1565" y="144"/>
                </a:lnTo>
                <a:lnTo>
                  <a:pt x="1561" y="146"/>
                </a:lnTo>
                <a:lnTo>
                  <a:pt x="1557" y="148"/>
                </a:lnTo>
                <a:lnTo>
                  <a:pt x="1551" y="148"/>
                </a:lnTo>
                <a:lnTo>
                  <a:pt x="1545" y="150"/>
                </a:lnTo>
                <a:lnTo>
                  <a:pt x="1540" y="150"/>
                </a:lnTo>
                <a:lnTo>
                  <a:pt x="1532" y="152"/>
                </a:lnTo>
                <a:lnTo>
                  <a:pt x="1526" y="154"/>
                </a:lnTo>
                <a:lnTo>
                  <a:pt x="1518" y="154"/>
                </a:lnTo>
                <a:lnTo>
                  <a:pt x="1509" y="156"/>
                </a:lnTo>
                <a:lnTo>
                  <a:pt x="1501" y="158"/>
                </a:lnTo>
                <a:lnTo>
                  <a:pt x="1492" y="160"/>
                </a:lnTo>
                <a:lnTo>
                  <a:pt x="1482" y="160"/>
                </a:lnTo>
                <a:lnTo>
                  <a:pt x="1470" y="161"/>
                </a:lnTo>
                <a:lnTo>
                  <a:pt x="1459" y="163"/>
                </a:lnTo>
                <a:lnTo>
                  <a:pt x="1447" y="165"/>
                </a:lnTo>
                <a:lnTo>
                  <a:pt x="1436" y="167"/>
                </a:lnTo>
                <a:lnTo>
                  <a:pt x="1424" y="169"/>
                </a:lnTo>
                <a:lnTo>
                  <a:pt x="1411" y="169"/>
                </a:lnTo>
                <a:lnTo>
                  <a:pt x="1398" y="171"/>
                </a:lnTo>
                <a:lnTo>
                  <a:pt x="1382" y="175"/>
                </a:lnTo>
                <a:lnTo>
                  <a:pt x="1369" y="177"/>
                </a:lnTo>
                <a:lnTo>
                  <a:pt x="1353" y="179"/>
                </a:lnTo>
                <a:lnTo>
                  <a:pt x="1338" y="181"/>
                </a:lnTo>
                <a:lnTo>
                  <a:pt x="1323" y="183"/>
                </a:lnTo>
                <a:lnTo>
                  <a:pt x="1305" y="186"/>
                </a:lnTo>
                <a:lnTo>
                  <a:pt x="1288" y="188"/>
                </a:lnTo>
                <a:lnTo>
                  <a:pt x="1271" y="190"/>
                </a:lnTo>
                <a:lnTo>
                  <a:pt x="1254" y="194"/>
                </a:lnTo>
                <a:lnTo>
                  <a:pt x="1234" y="198"/>
                </a:lnTo>
                <a:lnTo>
                  <a:pt x="1215" y="200"/>
                </a:lnTo>
                <a:lnTo>
                  <a:pt x="1196" y="204"/>
                </a:lnTo>
                <a:lnTo>
                  <a:pt x="1177" y="208"/>
                </a:lnTo>
                <a:lnTo>
                  <a:pt x="1158" y="209"/>
                </a:lnTo>
                <a:lnTo>
                  <a:pt x="1140" y="213"/>
                </a:lnTo>
                <a:lnTo>
                  <a:pt x="1121" y="217"/>
                </a:lnTo>
                <a:lnTo>
                  <a:pt x="1104" y="219"/>
                </a:lnTo>
                <a:lnTo>
                  <a:pt x="1089" y="221"/>
                </a:lnTo>
                <a:lnTo>
                  <a:pt x="1071" y="225"/>
                </a:lnTo>
                <a:lnTo>
                  <a:pt x="1056" y="227"/>
                </a:lnTo>
                <a:lnTo>
                  <a:pt x="1041" y="229"/>
                </a:lnTo>
                <a:lnTo>
                  <a:pt x="1027" y="231"/>
                </a:lnTo>
                <a:lnTo>
                  <a:pt x="1012" y="232"/>
                </a:lnTo>
                <a:lnTo>
                  <a:pt x="998" y="234"/>
                </a:lnTo>
                <a:lnTo>
                  <a:pt x="987" y="236"/>
                </a:lnTo>
                <a:lnTo>
                  <a:pt x="973" y="238"/>
                </a:lnTo>
                <a:lnTo>
                  <a:pt x="962" y="240"/>
                </a:lnTo>
                <a:lnTo>
                  <a:pt x="950" y="242"/>
                </a:lnTo>
                <a:lnTo>
                  <a:pt x="939" y="242"/>
                </a:lnTo>
                <a:lnTo>
                  <a:pt x="929" y="244"/>
                </a:lnTo>
                <a:lnTo>
                  <a:pt x="920" y="244"/>
                </a:lnTo>
                <a:lnTo>
                  <a:pt x="910" y="246"/>
                </a:lnTo>
                <a:lnTo>
                  <a:pt x="900" y="246"/>
                </a:lnTo>
                <a:lnTo>
                  <a:pt x="893" y="248"/>
                </a:lnTo>
                <a:lnTo>
                  <a:pt x="885" y="248"/>
                </a:lnTo>
                <a:lnTo>
                  <a:pt x="877" y="250"/>
                </a:lnTo>
                <a:lnTo>
                  <a:pt x="870" y="250"/>
                </a:lnTo>
                <a:lnTo>
                  <a:pt x="864" y="250"/>
                </a:lnTo>
                <a:lnTo>
                  <a:pt x="858" y="250"/>
                </a:lnTo>
                <a:lnTo>
                  <a:pt x="852" y="250"/>
                </a:lnTo>
                <a:lnTo>
                  <a:pt x="847" y="252"/>
                </a:lnTo>
                <a:lnTo>
                  <a:pt x="843" y="252"/>
                </a:lnTo>
                <a:lnTo>
                  <a:pt x="839" y="252"/>
                </a:lnTo>
                <a:lnTo>
                  <a:pt x="835" y="252"/>
                </a:lnTo>
                <a:lnTo>
                  <a:pt x="827" y="252"/>
                </a:lnTo>
                <a:lnTo>
                  <a:pt x="818" y="252"/>
                </a:lnTo>
                <a:lnTo>
                  <a:pt x="808" y="252"/>
                </a:lnTo>
                <a:lnTo>
                  <a:pt x="795" y="254"/>
                </a:lnTo>
                <a:lnTo>
                  <a:pt x="781" y="256"/>
                </a:lnTo>
                <a:lnTo>
                  <a:pt x="766" y="257"/>
                </a:lnTo>
                <a:lnTo>
                  <a:pt x="749" y="259"/>
                </a:lnTo>
                <a:lnTo>
                  <a:pt x="730" y="261"/>
                </a:lnTo>
                <a:lnTo>
                  <a:pt x="708" y="265"/>
                </a:lnTo>
                <a:lnTo>
                  <a:pt x="685" y="269"/>
                </a:lnTo>
                <a:lnTo>
                  <a:pt x="660" y="273"/>
                </a:lnTo>
                <a:lnTo>
                  <a:pt x="634" y="277"/>
                </a:lnTo>
                <a:lnTo>
                  <a:pt x="605" y="280"/>
                </a:lnTo>
                <a:lnTo>
                  <a:pt x="574" y="286"/>
                </a:lnTo>
                <a:lnTo>
                  <a:pt x="543" y="292"/>
                </a:lnTo>
                <a:lnTo>
                  <a:pt x="509" y="300"/>
                </a:lnTo>
                <a:lnTo>
                  <a:pt x="474" y="305"/>
                </a:lnTo>
                <a:lnTo>
                  <a:pt x="442" y="311"/>
                </a:lnTo>
                <a:lnTo>
                  <a:pt x="411" y="317"/>
                </a:lnTo>
                <a:lnTo>
                  <a:pt x="380" y="323"/>
                </a:lnTo>
                <a:lnTo>
                  <a:pt x="351" y="327"/>
                </a:lnTo>
                <a:lnTo>
                  <a:pt x="325" y="330"/>
                </a:lnTo>
                <a:lnTo>
                  <a:pt x="300" y="332"/>
                </a:lnTo>
                <a:lnTo>
                  <a:pt x="275" y="336"/>
                </a:lnTo>
                <a:lnTo>
                  <a:pt x="252" y="338"/>
                </a:lnTo>
                <a:lnTo>
                  <a:pt x="231" y="338"/>
                </a:lnTo>
                <a:lnTo>
                  <a:pt x="211" y="340"/>
                </a:lnTo>
                <a:lnTo>
                  <a:pt x="192" y="340"/>
                </a:lnTo>
                <a:lnTo>
                  <a:pt x="177" y="340"/>
                </a:lnTo>
                <a:lnTo>
                  <a:pt x="161" y="338"/>
                </a:lnTo>
                <a:lnTo>
                  <a:pt x="148" y="336"/>
                </a:lnTo>
                <a:lnTo>
                  <a:pt x="136" y="334"/>
                </a:lnTo>
                <a:lnTo>
                  <a:pt x="115" y="330"/>
                </a:lnTo>
                <a:lnTo>
                  <a:pt x="94" y="327"/>
                </a:lnTo>
                <a:lnTo>
                  <a:pt x="77" y="321"/>
                </a:lnTo>
                <a:lnTo>
                  <a:pt x="67" y="319"/>
                </a:lnTo>
                <a:lnTo>
                  <a:pt x="60" y="315"/>
                </a:lnTo>
                <a:lnTo>
                  <a:pt x="52" y="313"/>
                </a:lnTo>
                <a:lnTo>
                  <a:pt x="46" y="309"/>
                </a:lnTo>
                <a:lnTo>
                  <a:pt x="40" y="307"/>
                </a:lnTo>
                <a:lnTo>
                  <a:pt x="35" y="303"/>
                </a:lnTo>
                <a:lnTo>
                  <a:pt x="29" y="300"/>
                </a:lnTo>
                <a:lnTo>
                  <a:pt x="25" y="296"/>
                </a:lnTo>
                <a:lnTo>
                  <a:pt x="21" y="292"/>
                </a:lnTo>
                <a:lnTo>
                  <a:pt x="19" y="288"/>
                </a:lnTo>
                <a:lnTo>
                  <a:pt x="16" y="282"/>
                </a:lnTo>
                <a:lnTo>
                  <a:pt x="12" y="279"/>
                </a:lnTo>
                <a:lnTo>
                  <a:pt x="8" y="275"/>
                </a:lnTo>
                <a:lnTo>
                  <a:pt x="6" y="271"/>
                </a:lnTo>
                <a:lnTo>
                  <a:pt x="2" y="265"/>
                </a:lnTo>
                <a:lnTo>
                  <a:pt x="0" y="259"/>
                </a:lnTo>
                <a:lnTo>
                  <a:pt x="0" y="254"/>
                </a:lnTo>
                <a:lnTo>
                  <a:pt x="2" y="248"/>
                </a:lnTo>
                <a:lnTo>
                  <a:pt x="4" y="244"/>
                </a:lnTo>
                <a:lnTo>
                  <a:pt x="8" y="240"/>
                </a:lnTo>
                <a:lnTo>
                  <a:pt x="10" y="236"/>
                </a:lnTo>
                <a:lnTo>
                  <a:pt x="14" y="234"/>
                </a:lnTo>
                <a:lnTo>
                  <a:pt x="17" y="234"/>
                </a:lnTo>
                <a:lnTo>
                  <a:pt x="21" y="232"/>
                </a:lnTo>
                <a:lnTo>
                  <a:pt x="25" y="231"/>
                </a:lnTo>
                <a:lnTo>
                  <a:pt x="31" y="231"/>
                </a:lnTo>
                <a:lnTo>
                  <a:pt x="37" y="229"/>
                </a:lnTo>
                <a:lnTo>
                  <a:pt x="44" y="229"/>
                </a:lnTo>
                <a:lnTo>
                  <a:pt x="52" y="229"/>
                </a:lnTo>
                <a:lnTo>
                  <a:pt x="60" y="229"/>
                </a:lnTo>
                <a:lnTo>
                  <a:pt x="69" y="227"/>
                </a:lnTo>
                <a:lnTo>
                  <a:pt x="79" y="227"/>
                </a:lnTo>
                <a:lnTo>
                  <a:pt x="88" y="227"/>
                </a:lnTo>
                <a:lnTo>
                  <a:pt x="100" y="227"/>
                </a:lnTo>
                <a:lnTo>
                  <a:pt x="111" y="227"/>
                </a:lnTo>
                <a:lnTo>
                  <a:pt x="125" y="227"/>
                </a:lnTo>
                <a:lnTo>
                  <a:pt x="131" y="227"/>
                </a:lnTo>
                <a:lnTo>
                  <a:pt x="138" y="227"/>
                </a:lnTo>
                <a:lnTo>
                  <a:pt x="148" y="227"/>
                </a:lnTo>
                <a:lnTo>
                  <a:pt x="158" y="225"/>
                </a:lnTo>
                <a:lnTo>
                  <a:pt x="167" y="225"/>
                </a:lnTo>
                <a:lnTo>
                  <a:pt x="179" y="223"/>
                </a:lnTo>
                <a:lnTo>
                  <a:pt x="190" y="223"/>
                </a:lnTo>
                <a:lnTo>
                  <a:pt x="204" y="221"/>
                </a:lnTo>
                <a:lnTo>
                  <a:pt x="217" y="219"/>
                </a:lnTo>
                <a:lnTo>
                  <a:pt x="231" y="217"/>
                </a:lnTo>
                <a:lnTo>
                  <a:pt x="246" y="215"/>
                </a:lnTo>
                <a:lnTo>
                  <a:pt x="261" y="211"/>
                </a:lnTo>
                <a:lnTo>
                  <a:pt x="278" y="209"/>
                </a:lnTo>
                <a:lnTo>
                  <a:pt x="296" y="206"/>
                </a:lnTo>
                <a:lnTo>
                  <a:pt x="313" y="204"/>
                </a:lnTo>
                <a:lnTo>
                  <a:pt x="332" y="200"/>
                </a:lnTo>
                <a:lnTo>
                  <a:pt x="353" y="196"/>
                </a:lnTo>
                <a:lnTo>
                  <a:pt x="373" y="192"/>
                </a:lnTo>
                <a:lnTo>
                  <a:pt x="394" y="188"/>
                </a:lnTo>
                <a:lnTo>
                  <a:pt x="417" y="183"/>
                </a:lnTo>
                <a:lnTo>
                  <a:pt x="440" y="179"/>
                </a:lnTo>
                <a:lnTo>
                  <a:pt x="463" y="173"/>
                </a:lnTo>
                <a:lnTo>
                  <a:pt x="488" y="169"/>
                </a:lnTo>
                <a:lnTo>
                  <a:pt x="513" y="163"/>
                </a:lnTo>
                <a:lnTo>
                  <a:pt x="540" y="158"/>
                </a:lnTo>
                <a:lnTo>
                  <a:pt x="564" y="150"/>
                </a:lnTo>
                <a:lnTo>
                  <a:pt x="593" y="144"/>
                </a:lnTo>
                <a:lnTo>
                  <a:pt x="620" y="138"/>
                </a:lnTo>
                <a:lnTo>
                  <a:pt x="651" y="131"/>
                </a:lnTo>
                <a:lnTo>
                  <a:pt x="680" y="123"/>
                </a:lnTo>
                <a:lnTo>
                  <a:pt x="710" y="115"/>
                </a:lnTo>
                <a:lnTo>
                  <a:pt x="741" y="108"/>
                </a:lnTo>
                <a:lnTo>
                  <a:pt x="774" y="102"/>
                </a:lnTo>
                <a:lnTo>
                  <a:pt x="804" y="94"/>
                </a:lnTo>
                <a:lnTo>
                  <a:pt x="833" y="89"/>
                </a:lnTo>
                <a:lnTo>
                  <a:pt x="862" y="83"/>
                </a:lnTo>
                <a:lnTo>
                  <a:pt x="891" y="77"/>
                </a:lnTo>
                <a:lnTo>
                  <a:pt x="920" y="71"/>
                </a:lnTo>
                <a:lnTo>
                  <a:pt x="946" y="65"/>
                </a:lnTo>
                <a:lnTo>
                  <a:pt x="973" y="60"/>
                </a:lnTo>
                <a:lnTo>
                  <a:pt x="998" y="56"/>
                </a:lnTo>
                <a:lnTo>
                  <a:pt x="1023" y="50"/>
                </a:lnTo>
                <a:lnTo>
                  <a:pt x="1048" y="46"/>
                </a:lnTo>
                <a:lnTo>
                  <a:pt x="1071" y="42"/>
                </a:lnTo>
                <a:lnTo>
                  <a:pt x="1094" y="39"/>
                </a:lnTo>
                <a:lnTo>
                  <a:pt x="1115" y="35"/>
                </a:lnTo>
                <a:lnTo>
                  <a:pt x="1138" y="31"/>
                </a:lnTo>
                <a:lnTo>
                  <a:pt x="1158" y="27"/>
                </a:lnTo>
                <a:lnTo>
                  <a:pt x="1179" y="23"/>
                </a:lnTo>
                <a:lnTo>
                  <a:pt x="1198" y="21"/>
                </a:lnTo>
                <a:lnTo>
                  <a:pt x="1215" y="17"/>
                </a:lnTo>
                <a:lnTo>
                  <a:pt x="1232" y="16"/>
                </a:lnTo>
                <a:lnTo>
                  <a:pt x="1250" y="14"/>
                </a:lnTo>
                <a:lnTo>
                  <a:pt x="1265" y="12"/>
                </a:lnTo>
                <a:lnTo>
                  <a:pt x="1280" y="10"/>
                </a:lnTo>
                <a:lnTo>
                  <a:pt x="1296" y="8"/>
                </a:lnTo>
                <a:lnTo>
                  <a:pt x="1309" y="6"/>
                </a:lnTo>
                <a:lnTo>
                  <a:pt x="1323" y="4"/>
                </a:lnTo>
                <a:lnTo>
                  <a:pt x="1334" y="4"/>
                </a:lnTo>
                <a:lnTo>
                  <a:pt x="1346" y="2"/>
                </a:lnTo>
                <a:lnTo>
                  <a:pt x="1355" y="2"/>
                </a:lnTo>
                <a:lnTo>
                  <a:pt x="1365" y="0"/>
                </a:lnTo>
                <a:lnTo>
                  <a:pt x="1375" y="0"/>
                </a:lnTo>
                <a:lnTo>
                  <a:pt x="1382" y="0"/>
                </a:lnTo>
                <a:lnTo>
                  <a:pt x="1413" y="2"/>
                </a:lnTo>
                <a:lnTo>
                  <a:pt x="1442" y="2"/>
                </a:lnTo>
                <a:lnTo>
                  <a:pt x="1455" y="4"/>
                </a:lnTo>
                <a:lnTo>
                  <a:pt x="1469" y="6"/>
                </a:lnTo>
                <a:lnTo>
                  <a:pt x="1482" y="6"/>
                </a:lnTo>
                <a:lnTo>
                  <a:pt x="1494" y="8"/>
                </a:lnTo>
                <a:lnTo>
                  <a:pt x="1505" y="10"/>
                </a:lnTo>
                <a:lnTo>
                  <a:pt x="1517" y="12"/>
                </a:lnTo>
                <a:lnTo>
                  <a:pt x="1526" y="14"/>
                </a:lnTo>
                <a:lnTo>
                  <a:pt x="1536" y="16"/>
                </a:lnTo>
                <a:lnTo>
                  <a:pt x="1545" y="17"/>
                </a:lnTo>
                <a:lnTo>
                  <a:pt x="1555" y="19"/>
                </a:lnTo>
                <a:lnTo>
                  <a:pt x="1563" y="23"/>
                </a:lnTo>
                <a:lnTo>
                  <a:pt x="1568" y="25"/>
                </a:lnTo>
                <a:lnTo>
                  <a:pt x="1582" y="33"/>
                </a:lnTo>
                <a:lnTo>
                  <a:pt x="1593" y="42"/>
                </a:lnTo>
                <a:lnTo>
                  <a:pt x="1603" y="50"/>
                </a:lnTo>
                <a:lnTo>
                  <a:pt x="1611" y="60"/>
                </a:lnTo>
                <a:lnTo>
                  <a:pt x="1618" y="67"/>
                </a:lnTo>
                <a:lnTo>
                  <a:pt x="1620" y="69"/>
                </a:lnTo>
                <a:lnTo>
                  <a:pt x="1624" y="73"/>
                </a:lnTo>
                <a:lnTo>
                  <a:pt x="1626" y="77"/>
                </a:lnTo>
                <a:lnTo>
                  <a:pt x="1626" y="79"/>
                </a:lnTo>
                <a:lnTo>
                  <a:pt x="1628" y="83"/>
                </a:lnTo>
                <a:lnTo>
                  <a:pt x="1628" y="85"/>
                </a:lnTo>
                <a:lnTo>
                  <a:pt x="1628" y="89"/>
                </a:lnTo>
                <a:lnTo>
                  <a:pt x="1626" y="92"/>
                </a:lnTo>
                <a:lnTo>
                  <a:pt x="1626" y="98"/>
                </a:lnTo>
                <a:lnTo>
                  <a:pt x="1624" y="102"/>
                </a:lnTo>
                <a:lnTo>
                  <a:pt x="1620" y="106"/>
                </a:lnTo>
                <a:lnTo>
                  <a:pt x="1618" y="110"/>
                </a:lnTo>
                <a:lnTo>
                  <a:pt x="1611" y="119"/>
                </a:lnTo>
                <a:lnTo>
                  <a:pt x="1603" y="127"/>
                </a:lnTo>
                <a:lnTo>
                  <a:pt x="1593" y="133"/>
                </a:lnTo>
                <a:lnTo>
                  <a:pt x="1582" y="138"/>
                </a:lnTo>
                <a:lnTo>
                  <a:pt x="1568" y="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仗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24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撇较短；右部撇、捺要迎让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3"/>
          <p:cNvSpPr/>
          <p:nvPr/>
        </p:nvSpPr>
        <p:spPr>
          <a:xfrm>
            <a:off x="1903320" y="1979640"/>
            <a:ext cx="205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49"/>
          <p:cNvSpPr/>
          <p:nvPr/>
        </p:nvSpPr>
        <p:spPr>
          <a:xfrm>
            <a:off x="6303960" y="3917880"/>
            <a:ext cx="1495440" cy="1027080"/>
          </a:xfrm>
          <a:custGeom>
            <a:avLst/>
            <a:gdLst/>
            <a:ahLst/>
            <a:rect l="l" t="t" r="r" b="b"/>
            <a:pathLst>
              <a:path w="1883" h="1294">
                <a:moveTo>
                  <a:pt x="1493" y="1002"/>
                </a:moveTo>
                <a:lnTo>
                  <a:pt x="1516" y="1012"/>
                </a:lnTo>
                <a:lnTo>
                  <a:pt x="1541" y="1020"/>
                </a:lnTo>
                <a:lnTo>
                  <a:pt x="1562" y="1027"/>
                </a:lnTo>
                <a:lnTo>
                  <a:pt x="1586" y="1037"/>
                </a:lnTo>
                <a:lnTo>
                  <a:pt x="1607" y="1045"/>
                </a:lnTo>
                <a:lnTo>
                  <a:pt x="1626" y="1052"/>
                </a:lnTo>
                <a:lnTo>
                  <a:pt x="1647" y="1058"/>
                </a:lnTo>
                <a:lnTo>
                  <a:pt x="1664" y="1066"/>
                </a:lnTo>
                <a:lnTo>
                  <a:pt x="1683" y="1072"/>
                </a:lnTo>
                <a:lnTo>
                  <a:pt x="1701" y="1079"/>
                </a:lnTo>
                <a:lnTo>
                  <a:pt x="1716" y="1085"/>
                </a:lnTo>
                <a:lnTo>
                  <a:pt x="1731" y="1091"/>
                </a:lnTo>
                <a:lnTo>
                  <a:pt x="1747" y="1097"/>
                </a:lnTo>
                <a:lnTo>
                  <a:pt x="1760" y="1102"/>
                </a:lnTo>
                <a:lnTo>
                  <a:pt x="1774" y="1108"/>
                </a:lnTo>
                <a:lnTo>
                  <a:pt x="1787" y="1112"/>
                </a:lnTo>
                <a:lnTo>
                  <a:pt x="1799" y="1118"/>
                </a:lnTo>
                <a:lnTo>
                  <a:pt x="1808" y="1121"/>
                </a:lnTo>
                <a:lnTo>
                  <a:pt x="1820" y="1125"/>
                </a:lnTo>
                <a:lnTo>
                  <a:pt x="1829" y="1131"/>
                </a:lnTo>
                <a:lnTo>
                  <a:pt x="1837" y="1135"/>
                </a:lnTo>
                <a:lnTo>
                  <a:pt x="1845" y="1139"/>
                </a:lnTo>
                <a:lnTo>
                  <a:pt x="1852" y="1141"/>
                </a:lnTo>
                <a:lnTo>
                  <a:pt x="1858" y="1144"/>
                </a:lnTo>
                <a:lnTo>
                  <a:pt x="1864" y="1146"/>
                </a:lnTo>
                <a:lnTo>
                  <a:pt x="1870" y="1150"/>
                </a:lnTo>
                <a:lnTo>
                  <a:pt x="1873" y="1152"/>
                </a:lnTo>
                <a:lnTo>
                  <a:pt x="1877" y="1154"/>
                </a:lnTo>
                <a:lnTo>
                  <a:pt x="1879" y="1156"/>
                </a:lnTo>
                <a:lnTo>
                  <a:pt x="1881" y="1158"/>
                </a:lnTo>
                <a:lnTo>
                  <a:pt x="1883" y="1160"/>
                </a:lnTo>
                <a:lnTo>
                  <a:pt x="1883" y="1162"/>
                </a:lnTo>
                <a:lnTo>
                  <a:pt x="1881" y="1166"/>
                </a:lnTo>
                <a:lnTo>
                  <a:pt x="1879" y="1171"/>
                </a:lnTo>
                <a:lnTo>
                  <a:pt x="1877" y="1175"/>
                </a:lnTo>
                <a:lnTo>
                  <a:pt x="1872" y="1181"/>
                </a:lnTo>
                <a:lnTo>
                  <a:pt x="1866" y="1187"/>
                </a:lnTo>
                <a:lnTo>
                  <a:pt x="1858" y="1191"/>
                </a:lnTo>
                <a:lnTo>
                  <a:pt x="1850" y="1196"/>
                </a:lnTo>
                <a:lnTo>
                  <a:pt x="1839" y="1200"/>
                </a:lnTo>
                <a:lnTo>
                  <a:pt x="1827" y="1206"/>
                </a:lnTo>
                <a:lnTo>
                  <a:pt x="1816" y="1210"/>
                </a:lnTo>
                <a:lnTo>
                  <a:pt x="1802" y="1216"/>
                </a:lnTo>
                <a:lnTo>
                  <a:pt x="1785" y="1221"/>
                </a:lnTo>
                <a:lnTo>
                  <a:pt x="1770" y="1225"/>
                </a:lnTo>
                <a:lnTo>
                  <a:pt x="1751" y="1231"/>
                </a:lnTo>
                <a:lnTo>
                  <a:pt x="1731" y="1235"/>
                </a:lnTo>
                <a:lnTo>
                  <a:pt x="1710" y="1240"/>
                </a:lnTo>
                <a:lnTo>
                  <a:pt x="1687" y="1248"/>
                </a:lnTo>
                <a:lnTo>
                  <a:pt x="1666" y="1254"/>
                </a:lnTo>
                <a:lnTo>
                  <a:pt x="1643" y="1260"/>
                </a:lnTo>
                <a:lnTo>
                  <a:pt x="1622" y="1265"/>
                </a:lnTo>
                <a:lnTo>
                  <a:pt x="1603" y="1271"/>
                </a:lnTo>
                <a:lnTo>
                  <a:pt x="1584" y="1275"/>
                </a:lnTo>
                <a:lnTo>
                  <a:pt x="1564" y="1279"/>
                </a:lnTo>
                <a:lnTo>
                  <a:pt x="1547" y="1283"/>
                </a:lnTo>
                <a:lnTo>
                  <a:pt x="1530" y="1285"/>
                </a:lnTo>
                <a:lnTo>
                  <a:pt x="1515" y="1287"/>
                </a:lnTo>
                <a:lnTo>
                  <a:pt x="1499" y="1288"/>
                </a:lnTo>
                <a:lnTo>
                  <a:pt x="1486" y="1290"/>
                </a:lnTo>
                <a:lnTo>
                  <a:pt x="1472" y="1292"/>
                </a:lnTo>
                <a:lnTo>
                  <a:pt x="1459" y="1292"/>
                </a:lnTo>
                <a:lnTo>
                  <a:pt x="1447" y="1292"/>
                </a:lnTo>
                <a:lnTo>
                  <a:pt x="1436" y="1294"/>
                </a:lnTo>
                <a:lnTo>
                  <a:pt x="1422" y="1294"/>
                </a:lnTo>
                <a:lnTo>
                  <a:pt x="1411" y="1294"/>
                </a:lnTo>
                <a:lnTo>
                  <a:pt x="1399" y="1294"/>
                </a:lnTo>
                <a:lnTo>
                  <a:pt x="1388" y="1294"/>
                </a:lnTo>
                <a:lnTo>
                  <a:pt x="1378" y="1294"/>
                </a:lnTo>
                <a:lnTo>
                  <a:pt x="1369" y="1294"/>
                </a:lnTo>
                <a:lnTo>
                  <a:pt x="1359" y="1294"/>
                </a:lnTo>
                <a:lnTo>
                  <a:pt x="1349" y="1294"/>
                </a:lnTo>
                <a:lnTo>
                  <a:pt x="1342" y="1294"/>
                </a:lnTo>
                <a:lnTo>
                  <a:pt x="1334" y="1294"/>
                </a:lnTo>
                <a:lnTo>
                  <a:pt x="1326" y="1294"/>
                </a:lnTo>
                <a:lnTo>
                  <a:pt x="1319" y="1294"/>
                </a:lnTo>
                <a:lnTo>
                  <a:pt x="1313" y="1294"/>
                </a:lnTo>
                <a:lnTo>
                  <a:pt x="1307" y="1294"/>
                </a:lnTo>
                <a:lnTo>
                  <a:pt x="1303" y="1294"/>
                </a:lnTo>
                <a:lnTo>
                  <a:pt x="1298" y="1294"/>
                </a:lnTo>
                <a:lnTo>
                  <a:pt x="1286" y="1288"/>
                </a:lnTo>
                <a:lnTo>
                  <a:pt x="1273" y="1283"/>
                </a:lnTo>
                <a:lnTo>
                  <a:pt x="1259" y="1277"/>
                </a:lnTo>
                <a:lnTo>
                  <a:pt x="1246" y="1271"/>
                </a:lnTo>
                <a:lnTo>
                  <a:pt x="1234" y="1262"/>
                </a:lnTo>
                <a:lnTo>
                  <a:pt x="1221" y="1252"/>
                </a:lnTo>
                <a:lnTo>
                  <a:pt x="1215" y="1248"/>
                </a:lnTo>
                <a:lnTo>
                  <a:pt x="1207" y="1240"/>
                </a:lnTo>
                <a:lnTo>
                  <a:pt x="1202" y="1235"/>
                </a:lnTo>
                <a:lnTo>
                  <a:pt x="1196" y="1227"/>
                </a:lnTo>
                <a:lnTo>
                  <a:pt x="1190" y="1223"/>
                </a:lnTo>
                <a:lnTo>
                  <a:pt x="1184" y="1219"/>
                </a:lnTo>
                <a:lnTo>
                  <a:pt x="1179" y="1214"/>
                </a:lnTo>
                <a:lnTo>
                  <a:pt x="1173" y="1208"/>
                </a:lnTo>
                <a:lnTo>
                  <a:pt x="1165" y="1202"/>
                </a:lnTo>
                <a:lnTo>
                  <a:pt x="1157" y="1194"/>
                </a:lnTo>
                <a:lnTo>
                  <a:pt x="1150" y="1187"/>
                </a:lnTo>
                <a:lnTo>
                  <a:pt x="1140" y="1177"/>
                </a:lnTo>
                <a:lnTo>
                  <a:pt x="1133" y="1169"/>
                </a:lnTo>
                <a:lnTo>
                  <a:pt x="1121" y="1160"/>
                </a:lnTo>
                <a:lnTo>
                  <a:pt x="1111" y="1148"/>
                </a:lnTo>
                <a:lnTo>
                  <a:pt x="1100" y="1137"/>
                </a:lnTo>
                <a:lnTo>
                  <a:pt x="1088" y="1125"/>
                </a:lnTo>
                <a:lnTo>
                  <a:pt x="1075" y="1114"/>
                </a:lnTo>
                <a:lnTo>
                  <a:pt x="1063" y="1100"/>
                </a:lnTo>
                <a:lnTo>
                  <a:pt x="1050" y="1087"/>
                </a:lnTo>
                <a:lnTo>
                  <a:pt x="1035" y="1072"/>
                </a:lnTo>
                <a:lnTo>
                  <a:pt x="1021" y="1056"/>
                </a:lnTo>
                <a:lnTo>
                  <a:pt x="1006" y="1041"/>
                </a:lnTo>
                <a:lnTo>
                  <a:pt x="990" y="1024"/>
                </a:lnTo>
                <a:lnTo>
                  <a:pt x="973" y="1006"/>
                </a:lnTo>
                <a:lnTo>
                  <a:pt x="956" y="989"/>
                </a:lnTo>
                <a:lnTo>
                  <a:pt x="939" y="970"/>
                </a:lnTo>
                <a:lnTo>
                  <a:pt x="921" y="951"/>
                </a:lnTo>
                <a:lnTo>
                  <a:pt x="902" y="930"/>
                </a:lnTo>
                <a:lnTo>
                  <a:pt x="883" y="908"/>
                </a:lnTo>
                <a:lnTo>
                  <a:pt x="864" y="887"/>
                </a:lnTo>
                <a:lnTo>
                  <a:pt x="845" y="864"/>
                </a:lnTo>
                <a:lnTo>
                  <a:pt x="823" y="841"/>
                </a:lnTo>
                <a:lnTo>
                  <a:pt x="802" y="816"/>
                </a:lnTo>
                <a:lnTo>
                  <a:pt x="781" y="791"/>
                </a:lnTo>
                <a:lnTo>
                  <a:pt x="760" y="766"/>
                </a:lnTo>
                <a:lnTo>
                  <a:pt x="735" y="741"/>
                </a:lnTo>
                <a:lnTo>
                  <a:pt x="714" y="716"/>
                </a:lnTo>
                <a:lnTo>
                  <a:pt x="691" y="693"/>
                </a:lnTo>
                <a:lnTo>
                  <a:pt x="670" y="670"/>
                </a:lnTo>
                <a:lnTo>
                  <a:pt x="647" y="647"/>
                </a:lnTo>
                <a:lnTo>
                  <a:pt x="628" y="626"/>
                </a:lnTo>
                <a:lnTo>
                  <a:pt x="607" y="605"/>
                </a:lnTo>
                <a:lnTo>
                  <a:pt x="585" y="584"/>
                </a:lnTo>
                <a:lnTo>
                  <a:pt x="566" y="565"/>
                </a:lnTo>
                <a:lnTo>
                  <a:pt x="547" y="544"/>
                </a:lnTo>
                <a:lnTo>
                  <a:pt x="530" y="525"/>
                </a:lnTo>
                <a:lnTo>
                  <a:pt x="511" y="507"/>
                </a:lnTo>
                <a:lnTo>
                  <a:pt x="493" y="488"/>
                </a:lnTo>
                <a:lnTo>
                  <a:pt x="476" y="471"/>
                </a:lnTo>
                <a:lnTo>
                  <a:pt x="459" y="453"/>
                </a:lnTo>
                <a:lnTo>
                  <a:pt x="443" y="436"/>
                </a:lnTo>
                <a:lnTo>
                  <a:pt x="428" y="421"/>
                </a:lnTo>
                <a:lnTo>
                  <a:pt x="413" y="405"/>
                </a:lnTo>
                <a:lnTo>
                  <a:pt x="397" y="390"/>
                </a:lnTo>
                <a:lnTo>
                  <a:pt x="384" y="377"/>
                </a:lnTo>
                <a:lnTo>
                  <a:pt x="371" y="361"/>
                </a:lnTo>
                <a:lnTo>
                  <a:pt x="357" y="348"/>
                </a:lnTo>
                <a:lnTo>
                  <a:pt x="344" y="334"/>
                </a:lnTo>
                <a:lnTo>
                  <a:pt x="332" y="323"/>
                </a:lnTo>
                <a:lnTo>
                  <a:pt x="321" y="310"/>
                </a:lnTo>
                <a:lnTo>
                  <a:pt x="309" y="298"/>
                </a:lnTo>
                <a:lnTo>
                  <a:pt x="299" y="286"/>
                </a:lnTo>
                <a:lnTo>
                  <a:pt x="290" y="277"/>
                </a:lnTo>
                <a:lnTo>
                  <a:pt x="280" y="265"/>
                </a:lnTo>
                <a:lnTo>
                  <a:pt x="271" y="256"/>
                </a:lnTo>
                <a:lnTo>
                  <a:pt x="263" y="246"/>
                </a:lnTo>
                <a:lnTo>
                  <a:pt x="255" y="239"/>
                </a:lnTo>
                <a:lnTo>
                  <a:pt x="240" y="223"/>
                </a:lnTo>
                <a:lnTo>
                  <a:pt x="225" y="210"/>
                </a:lnTo>
                <a:lnTo>
                  <a:pt x="211" y="196"/>
                </a:lnTo>
                <a:lnTo>
                  <a:pt x="198" y="183"/>
                </a:lnTo>
                <a:lnTo>
                  <a:pt x="184" y="171"/>
                </a:lnTo>
                <a:lnTo>
                  <a:pt x="171" y="160"/>
                </a:lnTo>
                <a:lnTo>
                  <a:pt x="157" y="150"/>
                </a:lnTo>
                <a:lnTo>
                  <a:pt x="144" y="141"/>
                </a:lnTo>
                <a:lnTo>
                  <a:pt x="132" y="131"/>
                </a:lnTo>
                <a:lnTo>
                  <a:pt x="121" y="123"/>
                </a:lnTo>
                <a:lnTo>
                  <a:pt x="109" y="116"/>
                </a:lnTo>
                <a:lnTo>
                  <a:pt x="98" y="110"/>
                </a:lnTo>
                <a:lnTo>
                  <a:pt x="88" y="104"/>
                </a:lnTo>
                <a:lnTo>
                  <a:pt x="79" y="100"/>
                </a:lnTo>
                <a:lnTo>
                  <a:pt x="69" y="96"/>
                </a:lnTo>
                <a:lnTo>
                  <a:pt x="60" y="93"/>
                </a:lnTo>
                <a:lnTo>
                  <a:pt x="52" y="91"/>
                </a:lnTo>
                <a:lnTo>
                  <a:pt x="44" y="89"/>
                </a:lnTo>
                <a:lnTo>
                  <a:pt x="37" y="85"/>
                </a:lnTo>
                <a:lnTo>
                  <a:pt x="31" y="83"/>
                </a:lnTo>
                <a:lnTo>
                  <a:pt x="23" y="81"/>
                </a:lnTo>
                <a:lnTo>
                  <a:pt x="19" y="77"/>
                </a:lnTo>
                <a:lnTo>
                  <a:pt x="13" y="75"/>
                </a:lnTo>
                <a:lnTo>
                  <a:pt x="10" y="72"/>
                </a:lnTo>
                <a:lnTo>
                  <a:pt x="6" y="68"/>
                </a:lnTo>
                <a:lnTo>
                  <a:pt x="4" y="66"/>
                </a:lnTo>
                <a:lnTo>
                  <a:pt x="2" y="62"/>
                </a:lnTo>
                <a:lnTo>
                  <a:pt x="0" y="58"/>
                </a:lnTo>
                <a:lnTo>
                  <a:pt x="0" y="54"/>
                </a:lnTo>
                <a:lnTo>
                  <a:pt x="0" y="50"/>
                </a:lnTo>
                <a:lnTo>
                  <a:pt x="0" y="45"/>
                </a:lnTo>
                <a:lnTo>
                  <a:pt x="2" y="41"/>
                </a:lnTo>
                <a:lnTo>
                  <a:pt x="8" y="31"/>
                </a:lnTo>
                <a:lnTo>
                  <a:pt x="13" y="24"/>
                </a:lnTo>
                <a:lnTo>
                  <a:pt x="21" y="16"/>
                </a:lnTo>
                <a:lnTo>
                  <a:pt x="29" y="10"/>
                </a:lnTo>
                <a:lnTo>
                  <a:pt x="40" y="6"/>
                </a:lnTo>
                <a:lnTo>
                  <a:pt x="52" y="2"/>
                </a:lnTo>
                <a:lnTo>
                  <a:pt x="60" y="2"/>
                </a:lnTo>
                <a:lnTo>
                  <a:pt x="67" y="0"/>
                </a:lnTo>
                <a:lnTo>
                  <a:pt x="75" y="0"/>
                </a:lnTo>
                <a:lnTo>
                  <a:pt x="83" y="0"/>
                </a:lnTo>
                <a:lnTo>
                  <a:pt x="92" y="0"/>
                </a:lnTo>
                <a:lnTo>
                  <a:pt x="104" y="4"/>
                </a:lnTo>
                <a:lnTo>
                  <a:pt x="115" y="8"/>
                </a:lnTo>
                <a:lnTo>
                  <a:pt x="123" y="12"/>
                </a:lnTo>
                <a:lnTo>
                  <a:pt x="131" y="16"/>
                </a:lnTo>
                <a:lnTo>
                  <a:pt x="138" y="20"/>
                </a:lnTo>
                <a:lnTo>
                  <a:pt x="146" y="24"/>
                </a:lnTo>
                <a:lnTo>
                  <a:pt x="154" y="29"/>
                </a:lnTo>
                <a:lnTo>
                  <a:pt x="163" y="35"/>
                </a:lnTo>
                <a:lnTo>
                  <a:pt x="173" y="41"/>
                </a:lnTo>
                <a:lnTo>
                  <a:pt x="182" y="47"/>
                </a:lnTo>
                <a:lnTo>
                  <a:pt x="192" y="54"/>
                </a:lnTo>
                <a:lnTo>
                  <a:pt x="202" y="60"/>
                </a:lnTo>
                <a:lnTo>
                  <a:pt x="213" y="70"/>
                </a:lnTo>
                <a:lnTo>
                  <a:pt x="225" y="77"/>
                </a:lnTo>
                <a:lnTo>
                  <a:pt x="236" y="87"/>
                </a:lnTo>
                <a:lnTo>
                  <a:pt x="248" y="96"/>
                </a:lnTo>
                <a:lnTo>
                  <a:pt x="259" y="106"/>
                </a:lnTo>
                <a:lnTo>
                  <a:pt x="273" y="116"/>
                </a:lnTo>
                <a:lnTo>
                  <a:pt x="284" y="127"/>
                </a:lnTo>
                <a:lnTo>
                  <a:pt x="298" y="139"/>
                </a:lnTo>
                <a:lnTo>
                  <a:pt x="311" y="150"/>
                </a:lnTo>
                <a:lnTo>
                  <a:pt x="324" y="164"/>
                </a:lnTo>
                <a:lnTo>
                  <a:pt x="340" y="177"/>
                </a:lnTo>
                <a:lnTo>
                  <a:pt x="353" y="191"/>
                </a:lnTo>
                <a:lnTo>
                  <a:pt x="369" y="204"/>
                </a:lnTo>
                <a:lnTo>
                  <a:pt x="384" y="219"/>
                </a:lnTo>
                <a:lnTo>
                  <a:pt x="399" y="235"/>
                </a:lnTo>
                <a:lnTo>
                  <a:pt x="415" y="252"/>
                </a:lnTo>
                <a:lnTo>
                  <a:pt x="447" y="283"/>
                </a:lnTo>
                <a:lnTo>
                  <a:pt x="478" y="313"/>
                </a:lnTo>
                <a:lnTo>
                  <a:pt x="511" y="344"/>
                </a:lnTo>
                <a:lnTo>
                  <a:pt x="541" y="373"/>
                </a:lnTo>
                <a:lnTo>
                  <a:pt x="572" y="402"/>
                </a:lnTo>
                <a:lnTo>
                  <a:pt x="603" y="429"/>
                </a:lnTo>
                <a:lnTo>
                  <a:pt x="633" y="455"/>
                </a:lnTo>
                <a:lnTo>
                  <a:pt x="664" y="482"/>
                </a:lnTo>
                <a:lnTo>
                  <a:pt x="695" y="507"/>
                </a:lnTo>
                <a:lnTo>
                  <a:pt x="724" y="532"/>
                </a:lnTo>
                <a:lnTo>
                  <a:pt x="754" y="557"/>
                </a:lnTo>
                <a:lnTo>
                  <a:pt x="783" y="582"/>
                </a:lnTo>
                <a:lnTo>
                  <a:pt x="841" y="628"/>
                </a:lnTo>
                <a:lnTo>
                  <a:pt x="896" y="674"/>
                </a:lnTo>
                <a:lnTo>
                  <a:pt x="925" y="695"/>
                </a:lnTo>
                <a:lnTo>
                  <a:pt x="954" y="718"/>
                </a:lnTo>
                <a:lnTo>
                  <a:pt x="985" y="739"/>
                </a:lnTo>
                <a:lnTo>
                  <a:pt x="1017" y="763"/>
                </a:lnTo>
                <a:lnTo>
                  <a:pt x="1050" y="784"/>
                </a:lnTo>
                <a:lnTo>
                  <a:pt x="1085" y="807"/>
                </a:lnTo>
                <a:lnTo>
                  <a:pt x="1119" y="828"/>
                </a:lnTo>
                <a:lnTo>
                  <a:pt x="1156" y="849"/>
                </a:lnTo>
                <a:lnTo>
                  <a:pt x="1194" y="868"/>
                </a:lnTo>
                <a:lnTo>
                  <a:pt x="1232" y="889"/>
                </a:lnTo>
                <a:lnTo>
                  <a:pt x="1273" y="908"/>
                </a:lnTo>
                <a:lnTo>
                  <a:pt x="1315" y="930"/>
                </a:lnTo>
                <a:lnTo>
                  <a:pt x="1357" y="949"/>
                </a:lnTo>
                <a:lnTo>
                  <a:pt x="1401" y="966"/>
                </a:lnTo>
                <a:lnTo>
                  <a:pt x="1447" y="985"/>
                </a:lnTo>
                <a:lnTo>
                  <a:pt x="1493" y="10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50"/>
          <p:cNvSpPr/>
          <p:nvPr/>
        </p:nvSpPr>
        <p:spPr>
          <a:xfrm>
            <a:off x="6415200" y="3436920"/>
            <a:ext cx="1046160" cy="335160"/>
          </a:xfrm>
          <a:custGeom>
            <a:avLst/>
            <a:gdLst/>
            <a:ahLst/>
            <a:rect l="l" t="t" r="r" b="b"/>
            <a:pathLst>
              <a:path w="1319" h="422">
                <a:moveTo>
                  <a:pt x="35" y="409"/>
                </a:moveTo>
                <a:lnTo>
                  <a:pt x="27" y="403"/>
                </a:lnTo>
                <a:lnTo>
                  <a:pt x="19" y="397"/>
                </a:lnTo>
                <a:lnTo>
                  <a:pt x="14" y="390"/>
                </a:lnTo>
                <a:lnTo>
                  <a:pt x="8" y="382"/>
                </a:lnTo>
                <a:lnTo>
                  <a:pt x="6" y="374"/>
                </a:lnTo>
                <a:lnTo>
                  <a:pt x="2" y="368"/>
                </a:lnTo>
                <a:lnTo>
                  <a:pt x="0" y="361"/>
                </a:lnTo>
                <a:lnTo>
                  <a:pt x="0" y="357"/>
                </a:lnTo>
                <a:lnTo>
                  <a:pt x="0" y="355"/>
                </a:lnTo>
                <a:lnTo>
                  <a:pt x="2" y="353"/>
                </a:lnTo>
                <a:lnTo>
                  <a:pt x="6" y="351"/>
                </a:lnTo>
                <a:lnTo>
                  <a:pt x="10" y="349"/>
                </a:lnTo>
                <a:lnTo>
                  <a:pt x="14" y="347"/>
                </a:lnTo>
                <a:lnTo>
                  <a:pt x="19" y="344"/>
                </a:lnTo>
                <a:lnTo>
                  <a:pt x="27" y="342"/>
                </a:lnTo>
                <a:lnTo>
                  <a:pt x="35" y="338"/>
                </a:lnTo>
                <a:lnTo>
                  <a:pt x="44" y="336"/>
                </a:lnTo>
                <a:lnTo>
                  <a:pt x="54" y="332"/>
                </a:lnTo>
                <a:lnTo>
                  <a:pt x="65" y="328"/>
                </a:lnTo>
                <a:lnTo>
                  <a:pt x="77" y="324"/>
                </a:lnTo>
                <a:lnTo>
                  <a:pt x="90" y="319"/>
                </a:lnTo>
                <a:lnTo>
                  <a:pt x="106" y="315"/>
                </a:lnTo>
                <a:lnTo>
                  <a:pt x="121" y="309"/>
                </a:lnTo>
                <a:lnTo>
                  <a:pt x="138" y="303"/>
                </a:lnTo>
                <a:lnTo>
                  <a:pt x="156" y="297"/>
                </a:lnTo>
                <a:lnTo>
                  <a:pt x="175" y="292"/>
                </a:lnTo>
                <a:lnTo>
                  <a:pt x="194" y="286"/>
                </a:lnTo>
                <a:lnTo>
                  <a:pt x="215" y="280"/>
                </a:lnTo>
                <a:lnTo>
                  <a:pt x="238" y="273"/>
                </a:lnTo>
                <a:lnTo>
                  <a:pt x="261" y="265"/>
                </a:lnTo>
                <a:lnTo>
                  <a:pt x="284" y="257"/>
                </a:lnTo>
                <a:lnTo>
                  <a:pt x="309" y="249"/>
                </a:lnTo>
                <a:lnTo>
                  <a:pt x="336" y="242"/>
                </a:lnTo>
                <a:lnTo>
                  <a:pt x="363" y="232"/>
                </a:lnTo>
                <a:lnTo>
                  <a:pt x="392" y="223"/>
                </a:lnTo>
                <a:lnTo>
                  <a:pt x="422" y="213"/>
                </a:lnTo>
                <a:lnTo>
                  <a:pt x="453" y="203"/>
                </a:lnTo>
                <a:lnTo>
                  <a:pt x="484" y="194"/>
                </a:lnTo>
                <a:lnTo>
                  <a:pt x="517" y="182"/>
                </a:lnTo>
                <a:lnTo>
                  <a:pt x="551" y="171"/>
                </a:lnTo>
                <a:lnTo>
                  <a:pt x="584" y="159"/>
                </a:lnTo>
                <a:lnTo>
                  <a:pt x="618" y="150"/>
                </a:lnTo>
                <a:lnTo>
                  <a:pt x="649" y="140"/>
                </a:lnTo>
                <a:lnTo>
                  <a:pt x="680" y="129"/>
                </a:lnTo>
                <a:lnTo>
                  <a:pt x="710" y="119"/>
                </a:lnTo>
                <a:lnTo>
                  <a:pt x="739" y="111"/>
                </a:lnTo>
                <a:lnTo>
                  <a:pt x="768" y="102"/>
                </a:lnTo>
                <a:lnTo>
                  <a:pt x="795" y="94"/>
                </a:lnTo>
                <a:lnTo>
                  <a:pt x="822" y="86"/>
                </a:lnTo>
                <a:lnTo>
                  <a:pt x="847" y="79"/>
                </a:lnTo>
                <a:lnTo>
                  <a:pt x="872" y="71"/>
                </a:lnTo>
                <a:lnTo>
                  <a:pt x="895" y="63"/>
                </a:lnTo>
                <a:lnTo>
                  <a:pt x="918" y="58"/>
                </a:lnTo>
                <a:lnTo>
                  <a:pt x="939" y="52"/>
                </a:lnTo>
                <a:lnTo>
                  <a:pt x="960" y="46"/>
                </a:lnTo>
                <a:lnTo>
                  <a:pt x="981" y="40"/>
                </a:lnTo>
                <a:lnTo>
                  <a:pt x="998" y="34"/>
                </a:lnTo>
                <a:lnTo>
                  <a:pt x="1017" y="31"/>
                </a:lnTo>
                <a:lnTo>
                  <a:pt x="1035" y="27"/>
                </a:lnTo>
                <a:lnTo>
                  <a:pt x="1050" y="21"/>
                </a:lnTo>
                <a:lnTo>
                  <a:pt x="1065" y="19"/>
                </a:lnTo>
                <a:lnTo>
                  <a:pt x="1079" y="15"/>
                </a:lnTo>
                <a:lnTo>
                  <a:pt x="1092" y="11"/>
                </a:lnTo>
                <a:lnTo>
                  <a:pt x="1106" y="10"/>
                </a:lnTo>
                <a:lnTo>
                  <a:pt x="1117" y="8"/>
                </a:lnTo>
                <a:lnTo>
                  <a:pt x="1127" y="6"/>
                </a:lnTo>
                <a:lnTo>
                  <a:pt x="1136" y="4"/>
                </a:lnTo>
                <a:lnTo>
                  <a:pt x="1144" y="2"/>
                </a:lnTo>
                <a:lnTo>
                  <a:pt x="1152" y="0"/>
                </a:lnTo>
                <a:lnTo>
                  <a:pt x="1160" y="0"/>
                </a:lnTo>
                <a:lnTo>
                  <a:pt x="1165" y="0"/>
                </a:lnTo>
                <a:lnTo>
                  <a:pt x="1169" y="0"/>
                </a:lnTo>
                <a:lnTo>
                  <a:pt x="1183" y="0"/>
                </a:lnTo>
                <a:lnTo>
                  <a:pt x="1196" y="2"/>
                </a:lnTo>
                <a:lnTo>
                  <a:pt x="1208" y="4"/>
                </a:lnTo>
                <a:lnTo>
                  <a:pt x="1221" y="8"/>
                </a:lnTo>
                <a:lnTo>
                  <a:pt x="1234" y="11"/>
                </a:lnTo>
                <a:lnTo>
                  <a:pt x="1248" y="15"/>
                </a:lnTo>
                <a:lnTo>
                  <a:pt x="1273" y="27"/>
                </a:lnTo>
                <a:lnTo>
                  <a:pt x="1279" y="31"/>
                </a:lnTo>
                <a:lnTo>
                  <a:pt x="1284" y="36"/>
                </a:lnTo>
                <a:lnTo>
                  <a:pt x="1290" y="40"/>
                </a:lnTo>
                <a:lnTo>
                  <a:pt x="1294" y="46"/>
                </a:lnTo>
                <a:lnTo>
                  <a:pt x="1302" y="56"/>
                </a:lnTo>
                <a:lnTo>
                  <a:pt x="1309" y="63"/>
                </a:lnTo>
                <a:lnTo>
                  <a:pt x="1313" y="73"/>
                </a:lnTo>
                <a:lnTo>
                  <a:pt x="1317" y="81"/>
                </a:lnTo>
                <a:lnTo>
                  <a:pt x="1317" y="86"/>
                </a:lnTo>
                <a:lnTo>
                  <a:pt x="1319" y="92"/>
                </a:lnTo>
                <a:lnTo>
                  <a:pt x="1319" y="94"/>
                </a:lnTo>
                <a:lnTo>
                  <a:pt x="1317" y="98"/>
                </a:lnTo>
                <a:lnTo>
                  <a:pt x="1313" y="100"/>
                </a:lnTo>
                <a:lnTo>
                  <a:pt x="1311" y="104"/>
                </a:lnTo>
                <a:lnTo>
                  <a:pt x="1305" y="107"/>
                </a:lnTo>
                <a:lnTo>
                  <a:pt x="1300" y="111"/>
                </a:lnTo>
                <a:lnTo>
                  <a:pt x="1294" y="115"/>
                </a:lnTo>
                <a:lnTo>
                  <a:pt x="1286" y="119"/>
                </a:lnTo>
                <a:lnTo>
                  <a:pt x="1277" y="123"/>
                </a:lnTo>
                <a:lnTo>
                  <a:pt x="1267" y="129"/>
                </a:lnTo>
                <a:lnTo>
                  <a:pt x="1257" y="132"/>
                </a:lnTo>
                <a:lnTo>
                  <a:pt x="1246" y="138"/>
                </a:lnTo>
                <a:lnTo>
                  <a:pt x="1232" y="142"/>
                </a:lnTo>
                <a:lnTo>
                  <a:pt x="1219" y="148"/>
                </a:lnTo>
                <a:lnTo>
                  <a:pt x="1206" y="153"/>
                </a:lnTo>
                <a:lnTo>
                  <a:pt x="1190" y="159"/>
                </a:lnTo>
                <a:lnTo>
                  <a:pt x="1173" y="165"/>
                </a:lnTo>
                <a:lnTo>
                  <a:pt x="1156" y="171"/>
                </a:lnTo>
                <a:lnTo>
                  <a:pt x="1136" y="178"/>
                </a:lnTo>
                <a:lnTo>
                  <a:pt x="1117" y="184"/>
                </a:lnTo>
                <a:lnTo>
                  <a:pt x="1096" y="190"/>
                </a:lnTo>
                <a:lnTo>
                  <a:pt x="1075" y="198"/>
                </a:lnTo>
                <a:lnTo>
                  <a:pt x="1052" y="205"/>
                </a:lnTo>
                <a:lnTo>
                  <a:pt x="1029" y="211"/>
                </a:lnTo>
                <a:lnTo>
                  <a:pt x="1004" y="219"/>
                </a:lnTo>
                <a:lnTo>
                  <a:pt x="977" y="226"/>
                </a:lnTo>
                <a:lnTo>
                  <a:pt x="950" y="234"/>
                </a:lnTo>
                <a:lnTo>
                  <a:pt x="923" y="244"/>
                </a:lnTo>
                <a:lnTo>
                  <a:pt x="895" y="251"/>
                </a:lnTo>
                <a:lnTo>
                  <a:pt x="866" y="259"/>
                </a:lnTo>
                <a:lnTo>
                  <a:pt x="835" y="269"/>
                </a:lnTo>
                <a:lnTo>
                  <a:pt x="803" y="276"/>
                </a:lnTo>
                <a:lnTo>
                  <a:pt x="770" y="286"/>
                </a:lnTo>
                <a:lnTo>
                  <a:pt x="737" y="294"/>
                </a:lnTo>
                <a:lnTo>
                  <a:pt x="707" y="301"/>
                </a:lnTo>
                <a:lnTo>
                  <a:pt x="676" y="311"/>
                </a:lnTo>
                <a:lnTo>
                  <a:pt x="647" y="319"/>
                </a:lnTo>
                <a:lnTo>
                  <a:pt x="618" y="324"/>
                </a:lnTo>
                <a:lnTo>
                  <a:pt x="591" y="332"/>
                </a:lnTo>
                <a:lnTo>
                  <a:pt x="564" y="340"/>
                </a:lnTo>
                <a:lnTo>
                  <a:pt x="538" y="345"/>
                </a:lnTo>
                <a:lnTo>
                  <a:pt x="513" y="351"/>
                </a:lnTo>
                <a:lnTo>
                  <a:pt x="490" y="359"/>
                </a:lnTo>
                <a:lnTo>
                  <a:pt x="465" y="365"/>
                </a:lnTo>
                <a:lnTo>
                  <a:pt x="444" y="370"/>
                </a:lnTo>
                <a:lnTo>
                  <a:pt x="421" y="374"/>
                </a:lnTo>
                <a:lnTo>
                  <a:pt x="399" y="380"/>
                </a:lnTo>
                <a:lnTo>
                  <a:pt x="380" y="384"/>
                </a:lnTo>
                <a:lnTo>
                  <a:pt x="361" y="390"/>
                </a:lnTo>
                <a:lnTo>
                  <a:pt x="342" y="393"/>
                </a:lnTo>
                <a:lnTo>
                  <a:pt x="325" y="397"/>
                </a:lnTo>
                <a:lnTo>
                  <a:pt x="307" y="401"/>
                </a:lnTo>
                <a:lnTo>
                  <a:pt x="292" y="405"/>
                </a:lnTo>
                <a:lnTo>
                  <a:pt x="277" y="407"/>
                </a:lnTo>
                <a:lnTo>
                  <a:pt x="263" y="411"/>
                </a:lnTo>
                <a:lnTo>
                  <a:pt x="250" y="413"/>
                </a:lnTo>
                <a:lnTo>
                  <a:pt x="236" y="415"/>
                </a:lnTo>
                <a:lnTo>
                  <a:pt x="225" y="416"/>
                </a:lnTo>
                <a:lnTo>
                  <a:pt x="215" y="418"/>
                </a:lnTo>
                <a:lnTo>
                  <a:pt x="204" y="420"/>
                </a:lnTo>
                <a:lnTo>
                  <a:pt x="194" y="420"/>
                </a:lnTo>
                <a:lnTo>
                  <a:pt x="186" y="420"/>
                </a:lnTo>
                <a:lnTo>
                  <a:pt x="179" y="422"/>
                </a:lnTo>
                <a:lnTo>
                  <a:pt x="173" y="422"/>
                </a:lnTo>
                <a:lnTo>
                  <a:pt x="159" y="422"/>
                </a:lnTo>
                <a:lnTo>
                  <a:pt x="148" y="422"/>
                </a:lnTo>
                <a:lnTo>
                  <a:pt x="136" y="422"/>
                </a:lnTo>
                <a:lnTo>
                  <a:pt x="125" y="422"/>
                </a:lnTo>
                <a:lnTo>
                  <a:pt x="113" y="422"/>
                </a:lnTo>
                <a:lnTo>
                  <a:pt x="104" y="420"/>
                </a:lnTo>
                <a:lnTo>
                  <a:pt x="94" y="420"/>
                </a:lnTo>
                <a:lnTo>
                  <a:pt x="87" y="420"/>
                </a:lnTo>
                <a:lnTo>
                  <a:pt x="77" y="420"/>
                </a:lnTo>
                <a:lnTo>
                  <a:pt x="69" y="418"/>
                </a:lnTo>
                <a:lnTo>
                  <a:pt x="64" y="418"/>
                </a:lnTo>
                <a:lnTo>
                  <a:pt x="56" y="416"/>
                </a:lnTo>
                <a:lnTo>
                  <a:pt x="50" y="415"/>
                </a:lnTo>
                <a:lnTo>
                  <a:pt x="44" y="413"/>
                </a:lnTo>
                <a:lnTo>
                  <a:pt x="39" y="411"/>
                </a:lnTo>
                <a:lnTo>
                  <a:pt x="35" y="4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51"/>
          <p:cNvSpPr/>
          <p:nvPr/>
        </p:nvSpPr>
        <p:spPr>
          <a:xfrm>
            <a:off x="6222960" y="2801880"/>
            <a:ext cx="797040" cy="2051280"/>
          </a:xfrm>
          <a:custGeom>
            <a:avLst/>
            <a:gdLst/>
            <a:ahLst/>
            <a:rect l="l" t="t" r="r" b="b"/>
            <a:pathLst>
              <a:path w="1004" h="2583">
                <a:moveTo>
                  <a:pt x="620" y="2238"/>
                </a:moveTo>
                <a:lnTo>
                  <a:pt x="601" y="2257"/>
                </a:lnTo>
                <a:lnTo>
                  <a:pt x="580" y="2276"/>
                </a:lnTo>
                <a:lnTo>
                  <a:pt x="561" y="2295"/>
                </a:lnTo>
                <a:lnTo>
                  <a:pt x="540" y="2314"/>
                </a:lnTo>
                <a:lnTo>
                  <a:pt x="517" y="2332"/>
                </a:lnTo>
                <a:lnTo>
                  <a:pt x="496" y="2351"/>
                </a:lnTo>
                <a:lnTo>
                  <a:pt x="473" y="2368"/>
                </a:lnTo>
                <a:lnTo>
                  <a:pt x="449" y="2384"/>
                </a:lnTo>
                <a:lnTo>
                  <a:pt x="425" y="2401"/>
                </a:lnTo>
                <a:lnTo>
                  <a:pt x="400" y="2416"/>
                </a:lnTo>
                <a:lnTo>
                  <a:pt x="375" y="2431"/>
                </a:lnTo>
                <a:lnTo>
                  <a:pt x="350" y="2447"/>
                </a:lnTo>
                <a:lnTo>
                  <a:pt x="323" y="2462"/>
                </a:lnTo>
                <a:lnTo>
                  <a:pt x="296" y="2476"/>
                </a:lnTo>
                <a:lnTo>
                  <a:pt x="269" y="2489"/>
                </a:lnTo>
                <a:lnTo>
                  <a:pt x="242" y="2503"/>
                </a:lnTo>
                <a:lnTo>
                  <a:pt x="213" y="2514"/>
                </a:lnTo>
                <a:lnTo>
                  <a:pt x="187" y="2526"/>
                </a:lnTo>
                <a:lnTo>
                  <a:pt x="160" y="2535"/>
                </a:lnTo>
                <a:lnTo>
                  <a:pt x="137" y="2545"/>
                </a:lnTo>
                <a:lnTo>
                  <a:pt x="115" y="2552"/>
                </a:lnTo>
                <a:lnTo>
                  <a:pt x="96" y="2560"/>
                </a:lnTo>
                <a:lnTo>
                  <a:pt x="77" y="2566"/>
                </a:lnTo>
                <a:lnTo>
                  <a:pt x="62" y="2572"/>
                </a:lnTo>
                <a:lnTo>
                  <a:pt x="48" y="2575"/>
                </a:lnTo>
                <a:lnTo>
                  <a:pt x="35" y="2579"/>
                </a:lnTo>
                <a:lnTo>
                  <a:pt x="25" y="2581"/>
                </a:lnTo>
                <a:lnTo>
                  <a:pt x="16" y="2583"/>
                </a:lnTo>
                <a:lnTo>
                  <a:pt x="10" y="2583"/>
                </a:lnTo>
                <a:lnTo>
                  <a:pt x="4" y="2583"/>
                </a:lnTo>
                <a:lnTo>
                  <a:pt x="2" y="2583"/>
                </a:lnTo>
                <a:lnTo>
                  <a:pt x="2" y="2581"/>
                </a:lnTo>
                <a:lnTo>
                  <a:pt x="0" y="2577"/>
                </a:lnTo>
                <a:lnTo>
                  <a:pt x="0" y="2574"/>
                </a:lnTo>
                <a:lnTo>
                  <a:pt x="4" y="2570"/>
                </a:lnTo>
                <a:lnTo>
                  <a:pt x="8" y="2564"/>
                </a:lnTo>
                <a:lnTo>
                  <a:pt x="14" y="2556"/>
                </a:lnTo>
                <a:lnTo>
                  <a:pt x="23" y="2549"/>
                </a:lnTo>
                <a:lnTo>
                  <a:pt x="33" y="2541"/>
                </a:lnTo>
                <a:lnTo>
                  <a:pt x="44" y="2531"/>
                </a:lnTo>
                <a:lnTo>
                  <a:pt x="58" y="2522"/>
                </a:lnTo>
                <a:lnTo>
                  <a:pt x="73" y="2510"/>
                </a:lnTo>
                <a:lnTo>
                  <a:pt x="92" y="2499"/>
                </a:lnTo>
                <a:lnTo>
                  <a:pt x="112" y="2485"/>
                </a:lnTo>
                <a:lnTo>
                  <a:pt x="133" y="2470"/>
                </a:lnTo>
                <a:lnTo>
                  <a:pt x="156" y="2456"/>
                </a:lnTo>
                <a:lnTo>
                  <a:pt x="181" y="2439"/>
                </a:lnTo>
                <a:lnTo>
                  <a:pt x="208" y="2422"/>
                </a:lnTo>
                <a:lnTo>
                  <a:pt x="233" y="2405"/>
                </a:lnTo>
                <a:lnTo>
                  <a:pt x="258" y="2385"/>
                </a:lnTo>
                <a:lnTo>
                  <a:pt x="282" y="2366"/>
                </a:lnTo>
                <a:lnTo>
                  <a:pt x="307" y="2345"/>
                </a:lnTo>
                <a:lnTo>
                  <a:pt x="330" y="2324"/>
                </a:lnTo>
                <a:lnTo>
                  <a:pt x="353" y="2303"/>
                </a:lnTo>
                <a:lnTo>
                  <a:pt x="377" y="2280"/>
                </a:lnTo>
                <a:lnTo>
                  <a:pt x="398" y="2257"/>
                </a:lnTo>
                <a:lnTo>
                  <a:pt x="421" y="2234"/>
                </a:lnTo>
                <a:lnTo>
                  <a:pt x="442" y="2209"/>
                </a:lnTo>
                <a:lnTo>
                  <a:pt x="463" y="2184"/>
                </a:lnTo>
                <a:lnTo>
                  <a:pt x="484" y="2159"/>
                </a:lnTo>
                <a:lnTo>
                  <a:pt x="505" y="2134"/>
                </a:lnTo>
                <a:lnTo>
                  <a:pt x="524" y="2107"/>
                </a:lnTo>
                <a:lnTo>
                  <a:pt x="563" y="2053"/>
                </a:lnTo>
                <a:lnTo>
                  <a:pt x="580" y="2025"/>
                </a:lnTo>
                <a:lnTo>
                  <a:pt x="595" y="1998"/>
                </a:lnTo>
                <a:lnTo>
                  <a:pt x="611" y="1969"/>
                </a:lnTo>
                <a:lnTo>
                  <a:pt x="626" y="1942"/>
                </a:lnTo>
                <a:lnTo>
                  <a:pt x="639" y="1913"/>
                </a:lnTo>
                <a:lnTo>
                  <a:pt x="653" y="1884"/>
                </a:lnTo>
                <a:lnTo>
                  <a:pt x="664" y="1854"/>
                </a:lnTo>
                <a:lnTo>
                  <a:pt x="676" y="1825"/>
                </a:lnTo>
                <a:lnTo>
                  <a:pt x="687" y="1796"/>
                </a:lnTo>
                <a:lnTo>
                  <a:pt x="697" y="1765"/>
                </a:lnTo>
                <a:lnTo>
                  <a:pt x="707" y="1735"/>
                </a:lnTo>
                <a:lnTo>
                  <a:pt x="716" y="1704"/>
                </a:lnTo>
                <a:lnTo>
                  <a:pt x="724" y="1673"/>
                </a:lnTo>
                <a:lnTo>
                  <a:pt x="734" y="1643"/>
                </a:lnTo>
                <a:lnTo>
                  <a:pt x="739" y="1610"/>
                </a:lnTo>
                <a:lnTo>
                  <a:pt x="747" y="1579"/>
                </a:lnTo>
                <a:lnTo>
                  <a:pt x="751" y="1549"/>
                </a:lnTo>
                <a:lnTo>
                  <a:pt x="755" y="1518"/>
                </a:lnTo>
                <a:lnTo>
                  <a:pt x="759" y="1487"/>
                </a:lnTo>
                <a:lnTo>
                  <a:pt x="764" y="1454"/>
                </a:lnTo>
                <a:lnTo>
                  <a:pt x="768" y="1422"/>
                </a:lnTo>
                <a:lnTo>
                  <a:pt x="772" y="1389"/>
                </a:lnTo>
                <a:lnTo>
                  <a:pt x="776" y="1357"/>
                </a:lnTo>
                <a:lnTo>
                  <a:pt x="780" y="1322"/>
                </a:lnTo>
                <a:lnTo>
                  <a:pt x="787" y="1253"/>
                </a:lnTo>
                <a:lnTo>
                  <a:pt x="793" y="1184"/>
                </a:lnTo>
                <a:lnTo>
                  <a:pt x="799" y="1111"/>
                </a:lnTo>
                <a:lnTo>
                  <a:pt x="805" y="1038"/>
                </a:lnTo>
                <a:lnTo>
                  <a:pt x="806" y="963"/>
                </a:lnTo>
                <a:lnTo>
                  <a:pt x="810" y="886"/>
                </a:lnTo>
                <a:lnTo>
                  <a:pt x="812" y="810"/>
                </a:lnTo>
                <a:lnTo>
                  <a:pt x="812" y="733"/>
                </a:lnTo>
                <a:lnTo>
                  <a:pt x="812" y="654"/>
                </a:lnTo>
                <a:lnTo>
                  <a:pt x="810" y="575"/>
                </a:lnTo>
                <a:lnTo>
                  <a:pt x="806" y="497"/>
                </a:lnTo>
                <a:lnTo>
                  <a:pt x="805" y="418"/>
                </a:lnTo>
                <a:lnTo>
                  <a:pt x="801" y="381"/>
                </a:lnTo>
                <a:lnTo>
                  <a:pt x="799" y="347"/>
                </a:lnTo>
                <a:lnTo>
                  <a:pt x="797" y="314"/>
                </a:lnTo>
                <a:lnTo>
                  <a:pt x="797" y="299"/>
                </a:lnTo>
                <a:lnTo>
                  <a:pt x="795" y="284"/>
                </a:lnTo>
                <a:lnTo>
                  <a:pt x="793" y="270"/>
                </a:lnTo>
                <a:lnTo>
                  <a:pt x="793" y="255"/>
                </a:lnTo>
                <a:lnTo>
                  <a:pt x="791" y="241"/>
                </a:lnTo>
                <a:lnTo>
                  <a:pt x="791" y="228"/>
                </a:lnTo>
                <a:lnTo>
                  <a:pt x="789" y="216"/>
                </a:lnTo>
                <a:lnTo>
                  <a:pt x="787" y="205"/>
                </a:lnTo>
                <a:lnTo>
                  <a:pt x="787" y="193"/>
                </a:lnTo>
                <a:lnTo>
                  <a:pt x="785" y="182"/>
                </a:lnTo>
                <a:lnTo>
                  <a:pt x="783" y="170"/>
                </a:lnTo>
                <a:lnTo>
                  <a:pt x="782" y="161"/>
                </a:lnTo>
                <a:lnTo>
                  <a:pt x="782" y="151"/>
                </a:lnTo>
                <a:lnTo>
                  <a:pt x="780" y="142"/>
                </a:lnTo>
                <a:lnTo>
                  <a:pt x="778" y="134"/>
                </a:lnTo>
                <a:lnTo>
                  <a:pt x="776" y="126"/>
                </a:lnTo>
                <a:lnTo>
                  <a:pt x="774" y="119"/>
                </a:lnTo>
                <a:lnTo>
                  <a:pt x="774" y="111"/>
                </a:lnTo>
                <a:lnTo>
                  <a:pt x="772" y="105"/>
                </a:lnTo>
                <a:lnTo>
                  <a:pt x="770" y="99"/>
                </a:lnTo>
                <a:lnTo>
                  <a:pt x="768" y="94"/>
                </a:lnTo>
                <a:lnTo>
                  <a:pt x="766" y="88"/>
                </a:lnTo>
                <a:lnTo>
                  <a:pt x="764" y="84"/>
                </a:lnTo>
                <a:lnTo>
                  <a:pt x="762" y="80"/>
                </a:lnTo>
                <a:lnTo>
                  <a:pt x="760" y="76"/>
                </a:lnTo>
                <a:lnTo>
                  <a:pt x="759" y="74"/>
                </a:lnTo>
                <a:lnTo>
                  <a:pt x="755" y="71"/>
                </a:lnTo>
                <a:lnTo>
                  <a:pt x="751" y="69"/>
                </a:lnTo>
                <a:lnTo>
                  <a:pt x="747" y="65"/>
                </a:lnTo>
                <a:lnTo>
                  <a:pt x="745" y="61"/>
                </a:lnTo>
                <a:lnTo>
                  <a:pt x="741" y="53"/>
                </a:lnTo>
                <a:lnTo>
                  <a:pt x="739" y="46"/>
                </a:lnTo>
                <a:lnTo>
                  <a:pt x="739" y="38"/>
                </a:lnTo>
                <a:lnTo>
                  <a:pt x="741" y="28"/>
                </a:lnTo>
                <a:lnTo>
                  <a:pt x="743" y="19"/>
                </a:lnTo>
                <a:lnTo>
                  <a:pt x="747" y="9"/>
                </a:lnTo>
                <a:lnTo>
                  <a:pt x="749" y="5"/>
                </a:lnTo>
                <a:lnTo>
                  <a:pt x="753" y="3"/>
                </a:lnTo>
                <a:lnTo>
                  <a:pt x="755" y="1"/>
                </a:lnTo>
                <a:lnTo>
                  <a:pt x="760" y="1"/>
                </a:lnTo>
                <a:lnTo>
                  <a:pt x="764" y="0"/>
                </a:lnTo>
                <a:lnTo>
                  <a:pt x="770" y="0"/>
                </a:lnTo>
                <a:lnTo>
                  <a:pt x="776" y="0"/>
                </a:lnTo>
                <a:lnTo>
                  <a:pt x="782" y="0"/>
                </a:lnTo>
                <a:lnTo>
                  <a:pt x="789" y="0"/>
                </a:lnTo>
                <a:lnTo>
                  <a:pt x="797" y="1"/>
                </a:lnTo>
                <a:lnTo>
                  <a:pt x="806" y="3"/>
                </a:lnTo>
                <a:lnTo>
                  <a:pt x="816" y="5"/>
                </a:lnTo>
                <a:lnTo>
                  <a:pt x="826" y="9"/>
                </a:lnTo>
                <a:lnTo>
                  <a:pt x="837" y="13"/>
                </a:lnTo>
                <a:lnTo>
                  <a:pt x="849" y="17"/>
                </a:lnTo>
                <a:lnTo>
                  <a:pt x="862" y="21"/>
                </a:lnTo>
                <a:lnTo>
                  <a:pt x="874" y="26"/>
                </a:lnTo>
                <a:lnTo>
                  <a:pt x="885" y="32"/>
                </a:lnTo>
                <a:lnTo>
                  <a:pt x="897" y="36"/>
                </a:lnTo>
                <a:lnTo>
                  <a:pt x="908" y="42"/>
                </a:lnTo>
                <a:lnTo>
                  <a:pt x="918" y="46"/>
                </a:lnTo>
                <a:lnTo>
                  <a:pt x="927" y="51"/>
                </a:lnTo>
                <a:lnTo>
                  <a:pt x="937" y="57"/>
                </a:lnTo>
                <a:lnTo>
                  <a:pt x="947" y="63"/>
                </a:lnTo>
                <a:lnTo>
                  <a:pt x="954" y="69"/>
                </a:lnTo>
                <a:lnTo>
                  <a:pt x="960" y="74"/>
                </a:lnTo>
                <a:lnTo>
                  <a:pt x="968" y="80"/>
                </a:lnTo>
                <a:lnTo>
                  <a:pt x="972" y="86"/>
                </a:lnTo>
                <a:lnTo>
                  <a:pt x="977" y="94"/>
                </a:lnTo>
                <a:lnTo>
                  <a:pt x="981" y="99"/>
                </a:lnTo>
                <a:lnTo>
                  <a:pt x="985" y="107"/>
                </a:lnTo>
                <a:lnTo>
                  <a:pt x="987" y="115"/>
                </a:lnTo>
                <a:lnTo>
                  <a:pt x="991" y="128"/>
                </a:lnTo>
                <a:lnTo>
                  <a:pt x="995" y="142"/>
                </a:lnTo>
                <a:lnTo>
                  <a:pt x="998" y="153"/>
                </a:lnTo>
                <a:lnTo>
                  <a:pt x="1002" y="165"/>
                </a:lnTo>
                <a:lnTo>
                  <a:pt x="1002" y="176"/>
                </a:lnTo>
                <a:lnTo>
                  <a:pt x="1004" y="186"/>
                </a:lnTo>
                <a:lnTo>
                  <a:pt x="1002" y="195"/>
                </a:lnTo>
                <a:lnTo>
                  <a:pt x="1000" y="201"/>
                </a:lnTo>
                <a:lnTo>
                  <a:pt x="998" y="207"/>
                </a:lnTo>
                <a:lnTo>
                  <a:pt x="998" y="209"/>
                </a:lnTo>
                <a:lnTo>
                  <a:pt x="997" y="213"/>
                </a:lnTo>
                <a:lnTo>
                  <a:pt x="997" y="216"/>
                </a:lnTo>
                <a:lnTo>
                  <a:pt x="995" y="222"/>
                </a:lnTo>
                <a:lnTo>
                  <a:pt x="993" y="226"/>
                </a:lnTo>
                <a:lnTo>
                  <a:pt x="993" y="234"/>
                </a:lnTo>
                <a:lnTo>
                  <a:pt x="991" y="239"/>
                </a:lnTo>
                <a:lnTo>
                  <a:pt x="991" y="247"/>
                </a:lnTo>
                <a:lnTo>
                  <a:pt x="989" y="257"/>
                </a:lnTo>
                <a:lnTo>
                  <a:pt x="989" y="264"/>
                </a:lnTo>
                <a:lnTo>
                  <a:pt x="987" y="274"/>
                </a:lnTo>
                <a:lnTo>
                  <a:pt x="987" y="286"/>
                </a:lnTo>
                <a:lnTo>
                  <a:pt x="985" y="295"/>
                </a:lnTo>
                <a:lnTo>
                  <a:pt x="985" y="309"/>
                </a:lnTo>
                <a:lnTo>
                  <a:pt x="983" y="320"/>
                </a:lnTo>
                <a:lnTo>
                  <a:pt x="983" y="334"/>
                </a:lnTo>
                <a:lnTo>
                  <a:pt x="983" y="347"/>
                </a:lnTo>
                <a:lnTo>
                  <a:pt x="981" y="360"/>
                </a:lnTo>
                <a:lnTo>
                  <a:pt x="981" y="376"/>
                </a:lnTo>
                <a:lnTo>
                  <a:pt x="979" y="391"/>
                </a:lnTo>
                <a:lnTo>
                  <a:pt x="979" y="408"/>
                </a:lnTo>
                <a:lnTo>
                  <a:pt x="979" y="424"/>
                </a:lnTo>
                <a:lnTo>
                  <a:pt x="979" y="443"/>
                </a:lnTo>
                <a:lnTo>
                  <a:pt x="977" y="460"/>
                </a:lnTo>
                <a:lnTo>
                  <a:pt x="977" y="479"/>
                </a:lnTo>
                <a:lnTo>
                  <a:pt x="977" y="499"/>
                </a:lnTo>
                <a:lnTo>
                  <a:pt x="977" y="518"/>
                </a:lnTo>
                <a:lnTo>
                  <a:pt x="977" y="539"/>
                </a:lnTo>
                <a:lnTo>
                  <a:pt x="975" y="560"/>
                </a:lnTo>
                <a:lnTo>
                  <a:pt x="975" y="583"/>
                </a:lnTo>
                <a:lnTo>
                  <a:pt x="975" y="604"/>
                </a:lnTo>
                <a:lnTo>
                  <a:pt x="975" y="629"/>
                </a:lnTo>
                <a:lnTo>
                  <a:pt x="973" y="675"/>
                </a:lnTo>
                <a:lnTo>
                  <a:pt x="972" y="721"/>
                </a:lnTo>
                <a:lnTo>
                  <a:pt x="970" y="765"/>
                </a:lnTo>
                <a:lnTo>
                  <a:pt x="968" y="811"/>
                </a:lnTo>
                <a:lnTo>
                  <a:pt x="966" y="856"/>
                </a:lnTo>
                <a:lnTo>
                  <a:pt x="964" y="898"/>
                </a:lnTo>
                <a:lnTo>
                  <a:pt x="960" y="940"/>
                </a:lnTo>
                <a:lnTo>
                  <a:pt x="958" y="982"/>
                </a:lnTo>
                <a:lnTo>
                  <a:pt x="956" y="1025"/>
                </a:lnTo>
                <a:lnTo>
                  <a:pt x="954" y="1065"/>
                </a:lnTo>
                <a:lnTo>
                  <a:pt x="952" y="1103"/>
                </a:lnTo>
                <a:lnTo>
                  <a:pt x="950" y="1142"/>
                </a:lnTo>
                <a:lnTo>
                  <a:pt x="949" y="1180"/>
                </a:lnTo>
                <a:lnTo>
                  <a:pt x="947" y="1216"/>
                </a:lnTo>
                <a:lnTo>
                  <a:pt x="943" y="1253"/>
                </a:lnTo>
                <a:lnTo>
                  <a:pt x="941" y="1287"/>
                </a:lnTo>
                <a:lnTo>
                  <a:pt x="939" y="1324"/>
                </a:lnTo>
                <a:lnTo>
                  <a:pt x="937" y="1360"/>
                </a:lnTo>
                <a:lnTo>
                  <a:pt x="933" y="1397"/>
                </a:lnTo>
                <a:lnTo>
                  <a:pt x="929" y="1431"/>
                </a:lnTo>
                <a:lnTo>
                  <a:pt x="924" y="1466"/>
                </a:lnTo>
                <a:lnTo>
                  <a:pt x="920" y="1501"/>
                </a:lnTo>
                <a:lnTo>
                  <a:pt x="914" y="1533"/>
                </a:lnTo>
                <a:lnTo>
                  <a:pt x="908" y="1566"/>
                </a:lnTo>
                <a:lnTo>
                  <a:pt x="895" y="1631"/>
                </a:lnTo>
                <a:lnTo>
                  <a:pt x="881" y="1694"/>
                </a:lnTo>
                <a:lnTo>
                  <a:pt x="866" y="1756"/>
                </a:lnTo>
                <a:lnTo>
                  <a:pt x="851" y="1815"/>
                </a:lnTo>
                <a:lnTo>
                  <a:pt x="841" y="1848"/>
                </a:lnTo>
                <a:lnTo>
                  <a:pt x="831" y="1879"/>
                </a:lnTo>
                <a:lnTo>
                  <a:pt x="820" y="1907"/>
                </a:lnTo>
                <a:lnTo>
                  <a:pt x="808" y="1936"/>
                </a:lnTo>
                <a:lnTo>
                  <a:pt x="797" y="1965"/>
                </a:lnTo>
                <a:lnTo>
                  <a:pt x="783" y="1994"/>
                </a:lnTo>
                <a:lnTo>
                  <a:pt x="770" y="2021"/>
                </a:lnTo>
                <a:lnTo>
                  <a:pt x="757" y="2046"/>
                </a:lnTo>
                <a:lnTo>
                  <a:pt x="741" y="2073"/>
                </a:lnTo>
                <a:lnTo>
                  <a:pt x="726" y="2097"/>
                </a:lnTo>
                <a:lnTo>
                  <a:pt x="711" y="2121"/>
                </a:lnTo>
                <a:lnTo>
                  <a:pt x="693" y="2145"/>
                </a:lnTo>
                <a:lnTo>
                  <a:pt x="676" y="2169"/>
                </a:lnTo>
                <a:lnTo>
                  <a:pt x="657" y="2192"/>
                </a:lnTo>
                <a:lnTo>
                  <a:pt x="639" y="2215"/>
                </a:lnTo>
                <a:lnTo>
                  <a:pt x="620" y="22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52"/>
          <p:cNvSpPr/>
          <p:nvPr/>
        </p:nvSpPr>
        <p:spPr>
          <a:xfrm>
            <a:off x="5969160" y="3530520"/>
            <a:ext cx="155520" cy="1551240"/>
          </a:xfrm>
          <a:custGeom>
            <a:avLst/>
            <a:gdLst/>
            <a:ahLst/>
            <a:rect l="l" t="t" r="r" b="b"/>
            <a:pathLst>
              <a:path w="196" h="1952">
                <a:moveTo>
                  <a:pt x="161" y="119"/>
                </a:moveTo>
                <a:lnTo>
                  <a:pt x="163" y="123"/>
                </a:lnTo>
                <a:lnTo>
                  <a:pt x="165" y="129"/>
                </a:lnTo>
                <a:lnTo>
                  <a:pt x="167" y="134"/>
                </a:lnTo>
                <a:lnTo>
                  <a:pt x="169" y="142"/>
                </a:lnTo>
                <a:lnTo>
                  <a:pt x="171" y="152"/>
                </a:lnTo>
                <a:lnTo>
                  <a:pt x="173" y="163"/>
                </a:lnTo>
                <a:lnTo>
                  <a:pt x="174" y="175"/>
                </a:lnTo>
                <a:lnTo>
                  <a:pt x="176" y="188"/>
                </a:lnTo>
                <a:lnTo>
                  <a:pt x="178" y="201"/>
                </a:lnTo>
                <a:lnTo>
                  <a:pt x="178" y="217"/>
                </a:lnTo>
                <a:lnTo>
                  <a:pt x="180" y="234"/>
                </a:lnTo>
                <a:lnTo>
                  <a:pt x="182" y="253"/>
                </a:lnTo>
                <a:lnTo>
                  <a:pt x="182" y="273"/>
                </a:lnTo>
                <a:lnTo>
                  <a:pt x="184" y="292"/>
                </a:lnTo>
                <a:lnTo>
                  <a:pt x="186" y="315"/>
                </a:lnTo>
                <a:lnTo>
                  <a:pt x="186" y="338"/>
                </a:lnTo>
                <a:lnTo>
                  <a:pt x="188" y="363"/>
                </a:lnTo>
                <a:lnTo>
                  <a:pt x="188" y="388"/>
                </a:lnTo>
                <a:lnTo>
                  <a:pt x="190" y="415"/>
                </a:lnTo>
                <a:lnTo>
                  <a:pt x="190" y="443"/>
                </a:lnTo>
                <a:lnTo>
                  <a:pt x="192" y="472"/>
                </a:lnTo>
                <a:lnTo>
                  <a:pt x="192" y="503"/>
                </a:lnTo>
                <a:lnTo>
                  <a:pt x="192" y="535"/>
                </a:lnTo>
                <a:lnTo>
                  <a:pt x="194" y="568"/>
                </a:lnTo>
                <a:lnTo>
                  <a:pt x="194" y="605"/>
                </a:lnTo>
                <a:lnTo>
                  <a:pt x="194" y="639"/>
                </a:lnTo>
                <a:lnTo>
                  <a:pt x="194" y="678"/>
                </a:lnTo>
                <a:lnTo>
                  <a:pt x="194" y="716"/>
                </a:lnTo>
                <a:lnTo>
                  <a:pt x="196" y="756"/>
                </a:lnTo>
                <a:lnTo>
                  <a:pt x="196" y="797"/>
                </a:lnTo>
                <a:lnTo>
                  <a:pt x="196" y="839"/>
                </a:lnTo>
                <a:lnTo>
                  <a:pt x="196" y="883"/>
                </a:lnTo>
                <a:lnTo>
                  <a:pt x="196" y="929"/>
                </a:lnTo>
                <a:lnTo>
                  <a:pt x="196" y="973"/>
                </a:lnTo>
                <a:lnTo>
                  <a:pt x="196" y="1015"/>
                </a:lnTo>
                <a:lnTo>
                  <a:pt x="196" y="1058"/>
                </a:lnTo>
                <a:lnTo>
                  <a:pt x="194" y="1098"/>
                </a:lnTo>
                <a:lnTo>
                  <a:pt x="194" y="1138"/>
                </a:lnTo>
                <a:lnTo>
                  <a:pt x="194" y="1175"/>
                </a:lnTo>
                <a:lnTo>
                  <a:pt x="194" y="1213"/>
                </a:lnTo>
                <a:lnTo>
                  <a:pt x="192" y="1250"/>
                </a:lnTo>
                <a:lnTo>
                  <a:pt x="192" y="1284"/>
                </a:lnTo>
                <a:lnTo>
                  <a:pt x="192" y="1319"/>
                </a:lnTo>
                <a:lnTo>
                  <a:pt x="192" y="1351"/>
                </a:lnTo>
                <a:lnTo>
                  <a:pt x="190" y="1382"/>
                </a:lnTo>
                <a:lnTo>
                  <a:pt x="190" y="1413"/>
                </a:lnTo>
                <a:lnTo>
                  <a:pt x="188" y="1441"/>
                </a:lnTo>
                <a:lnTo>
                  <a:pt x="188" y="1470"/>
                </a:lnTo>
                <a:lnTo>
                  <a:pt x="188" y="1497"/>
                </a:lnTo>
                <a:lnTo>
                  <a:pt x="186" y="1524"/>
                </a:lnTo>
                <a:lnTo>
                  <a:pt x="186" y="1549"/>
                </a:lnTo>
                <a:lnTo>
                  <a:pt x="184" y="1574"/>
                </a:lnTo>
                <a:lnTo>
                  <a:pt x="184" y="1597"/>
                </a:lnTo>
                <a:lnTo>
                  <a:pt x="182" y="1618"/>
                </a:lnTo>
                <a:lnTo>
                  <a:pt x="182" y="1639"/>
                </a:lnTo>
                <a:lnTo>
                  <a:pt x="180" y="1658"/>
                </a:lnTo>
                <a:lnTo>
                  <a:pt x="180" y="1678"/>
                </a:lnTo>
                <a:lnTo>
                  <a:pt x="178" y="1695"/>
                </a:lnTo>
                <a:lnTo>
                  <a:pt x="178" y="1712"/>
                </a:lnTo>
                <a:lnTo>
                  <a:pt x="176" y="1727"/>
                </a:lnTo>
                <a:lnTo>
                  <a:pt x="174" y="1743"/>
                </a:lnTo>
                <a:lnTo>
                  <a:pt x="174" y="1756"/>
                </a:lnTo>
                <a:lnTo>
                  <a:pt x="173" y="1768"/>
                </a:lnTo>
                <a:lnTo>
                  <a:pt x="173" y="1781"/>
                </a:lnTo>
                <a:lnTo>
                  <a:pt x="169" y="1802"/>
                </a:lnTo>
                <a:lnTo>
                  <a:pt x="163" y="1822"/>
                </a:lnTo>
                <a:lnTo>
                  <a:pt x="159" y="1841"/>
                </a:lnTo>
                <a:lnTo>
                  <a:pt x="155" y="1858"/>
                </a:lnTo>
                <a:lnTo>
                  <a:pt x="151" y="1873"/>
                </a:lnTo>
                <a:lnTo>
                  <a:pt x="148" y="1887"/>
                </a:lnTo>
                <a:lnTo>
                  <a:pt x="144" y="1900"/>
                </a:lnTo>
                <a:lnTo>
                  <a:pt x="140" y="1912"/>
                </a:lnTo>
                <a:lnTo>
                  <a:pt x="136" y="1921"/>
                </a:lnTo>
                <a:lnTo>
                  <a:pt x="132" y="1929"/>
                </a:lnTo>
                <a:lnTo>
                  <a:pt x="128" y="1937"/>
                </a:lnTo>
                <a:lnTo>
                  <a:pt x="126" y="1942"/>
                </a:lnTo>
                <a:lnTo>
                  <a:pt x="123" y="1946"/>
                </a:lnTo>
                <a:lnTo>
                  <a:pt x="121" y="1950"/>
                </a:lnTo>
                <a:lnTo>
                  <a:pt x="117" y="1952"/>
                </a:lnTo>
                <a:lnTo>
                  <a:pt x="115" y="1952"/>
                </a:lnTo>
                <a:lnTo>
                  <a:pt x="111" y="1952"/>
                </a:lnTo>
                <a:lnTo>
                  <a:pt x="107" y="1950"/>
                </a:lnTo>
                <a:lnTo>
                  <a:pt x="101" y="1948"/>
                </a:lnTo>
                <a:lnTo>
                  <a:pt x="98" y="1944"/>
                </a:lnTo>
                <a:lnTo>
                  <a:pt x="94" y="1941"/>
                </a:lnTo>
                <a:lnTo>
                  <a:pt x="88" y="1935"/>
                </a:lnTo>
                <a:lnTo>
                  <a:pt x="84" y="1929"/>
                </a:lnTo>
                <a:lnTo>
                  <a:pt x="80" y="1923"/>
                </a:lnTo>
                <a:lnTo>
                  <a:pt x="77" y="1914"/>
                </a:lnTo>
                <a:lnTo>
                  <a:pt x="71" y="1906"/>
                </a:lnTo>
                <a:lnTo>
                  <a:pt x="67" y="1896"/>
                </a:lnTo>
                <a:lnTo>
                  <a:pt x="63" y="1885"/>
                </a:lnTo>
                <a:lnTo>
                  <a:pt x="59" y="1873"/>
                </a:lnTo>
                <a:lnTo>
                  <a:pt x="55" y="1862"/>
                </a:lnTo>
                <a:lnTo>
                  <a:pt x="50" y="1848"/>
                </a:lnTo>
                <a:lnTo>
                  <a:pt x="46" y="1833"/>
                </a:lnTo>
                <a:lnTo>
                  <a:pt x="40" y="1816"/>
                </a:lnTo>
                <a:lnTo>
                  <a:pt x="34" y="1800"/>
                </a:lnTo>
                <a:lnTo>
                  <a:pt x="29" y="1785"/>
                </a:lnTo>
                <a:lnTo>
                  <a:pt x="25" y="1772"/>
                </a:lnTo>
                <a:lnTo>
                  <a:pt x="21" y="1758"/>
                </a:lnTo>
                <a:lnTo>
                  <a:pt x="17" y="1745"/>
                </a:lnTo>
                <a:lnTo>
                  <a:pt x="13" y="1733"/>
                </a:lnTo>
                <a:lnTo>
                  <a:pt x="11" y="1722"/>
                </a:lnTo>
                <a:lnTo>
                  <a:pt x="7" y="1712"/>
                </a:lnTo>
                <a:lnTo>
                  <a:pt x="6" y="1703"/>
                </a:lnTo>
                <a:lnTo>
                  <a:pt x="4" y="1695"/>
                </a:lnTo>
                <a:lnTo>
                  <a:pt x="4" y="1687"/>
                </a:lnTo>
                <a:lnTo>
                  <a:pt x="2" y="1679"/>
                </a:lnTo>
                <a:lnTo>
                  <a:pt x="2" y="1674"/>
                </a:lnTo>
                <a:lnTo>
                  <a:pt x="0" y="1668"/>
                </a:lnTo>
                <a:lnTo>
                  <a:pt x="0" y="1662"/>
                </a:lnTo>
                <a:lnTo>
                  <a:pt x="0" y="1658"/>
                </a:lnTo>
                <a:lnTo>
                  <a:pt x="2" y="1655"/>
                </a:lnTo>
                <a:lnTo>
                  <a:pt x="2" y="1649"/>
                </a:lnTo>
                <a:lnTo>
                  <a:pt x="2" y="1641"/>
                </a:lnTo>
                <a:lnTo>
                  <a:pt x="4" y="1633"/>
                </a:lnTo>
                <a:lnTo>
                  <a:pt x="6" y="1624"/>
                </a:lnTo>
                <a:lnTo>
                  <a:pt x="7" y="1614"/>
                </a:lnTo>
                <a:lnTo>
                  <a:pt x="9" y="1603"/>
                </a:lnTo>
                <a:lnTo>
                  <a:pt x="11" y="1589"/>
                </a:lnTo>
                <a:lnTo>
                  <a:pt x="13" y="1576"/>
                </a:lnTo>
                <a:lnTo>
                  <a:pt x="17" y="1560"/>
                </a:lnTo>
                <a:lnTo>
                  <a:pt x="21" y="1543"/>
                </a:lnTo>
                <a:lnTo>
                  <a:pt x="23" y="1526"/>
                </a:lnTo>
                <a:lnTo>
                  <a:pt x="27" y="1507"/>
                </a:lnTo>
                <a:lnTo>
                  <a:pt x="30" y="1486"/>
                </a:lnTo>
                <a:lnTo>
                  <a:pt x="34" y="1465"/>
                </a:lnTo>
                <a:lnTo>
                  <a:pt x="36" y="1451"/>
                </a:lnTo>
                <a:lnTo>
                  <a:pt x="36" y="1438"/>
                </a:lnTo>
                <a:lnTo>
                  <a:pt x="38" y="1420"/>
                </a:lnTo>
                <a:lnTo>
                  <a:pt x="38" y="1403"/>
                </a:lnTo>
                <a:lnTo>
                  <a:pt x="40" y="1382"/>
                </a:lnTo>
                <a:lnTo>
                  <a:pt x="40" y="1359"/>
                </a:lnTo>
                <a:lnTo>
                  <a:pt x="42" y="1332"/>
                </a:lnTo>
                <a:lnTo>
                  <a:pt x="44" y="1305"/>
                </a:lnTo>
                <a:lnTo>
                  <a:pt x="44" y="1276"/>
                </a:lnTo>
                <a:lnTo>
                  <a:pt x="46" y="1244"/>
                </a:lnTo>
                <a:lnTo>
                  <a:pt x="46" y="1211"/>
                </a:lnTo>
                <a:lnTo>
                  <a:pt x="48" y="1175"/>
                </a:lnTo>
                <a:lnTo>
                  <a:pt x="48" y="1136"/>
                </a:lnTo>
                <a:lnTo>
                  <a:pt x="48" y="1096"/>
                </a:lnTo>
                <a:lnTo>
                  <a:pt x="50" y="1054"/>
                </a:lnTo>
                <a:lnTo>
                  <a:pt x="50" y="1010"/>
                </a:lnTo>
                <a:lnTo>
                  <a:pt x="52" y="962"/>
                </a:lnTo>
                <a:lnTo>
                  <a:pt x="52" y="914"/>
                </a:lnTo>
                <a:lnTo>
                  <a:pt x="52" y="862"/>
                </a:lnTo>
                <a:lnTo>
                  <a:pt x="54" y="808"/>
                </a:lnTo>
                <a:lnTo>
                  <a:pt x="54" y="752"/>
                </a:lnTo>
                <a:lnTo>
                  <a:pt x="54" y="695"/>
                </a:lnTo>
                <a:lnTo>
                  <a:pt x="55" y="635"/>
                </a:lnTo>
                <a:lnTo>
                  <a:pt x="55" y="574"/>
                </a:lnTo>
                <a:lnTo>
                  <a:pt x="55" y="509"/>
                </a:lnTo>
                <a:lnTo>
                  <a:pt x="55" y="443"/>
                </a:lnTo>
                <a:lnTo>
                  <a:pt x="57" y="374"/>
                </a:lnTo>
                <a:lnTo>
                  <a:pt x="57" y="303"/>
                </a:lnTo>
                <a:lnTo>
                  <a:pt x="57" y="230"/>
                </a:lnTo>
                <a:lnTo>
                  <a:pt x="57" y="155"/>
                </a:lnTo>
                <a:lnTo>
                  <a:pt x="57" y="79"/>
                </a:lnTo>
                <a:lnTo>
                  <a:pt x="57" y="0"/>
                </a:lnTo>
                <a:lnTo>
                  <a:pt x="67" y="8"/>
                </a:lnTo>
                <a:lnTo>
                  <a:pt x="78" y="15"/>
                </a:lnTo>
                <a:lnTo>
                  <a:pt x="88" y="21"/>
                </a:lnTo>
                <a:lnTo>
                  <a:pt x="96" y="29"/>
                </a:lnTo>
                <a:lnTo>
                  <a:pt x="105" y="36"/>
                </a:lnTo>
                <a:lnTo>
                  <a:pt x="113" y="44"/>
                </a:lnTo>
                <a:lnTo>
                  <a:pt x="119" y="52"/>
                </a:lnTo>
                <a:lnTo>
                  <a:pt x="126" y="59"/>
                </a:lnTo>
                <a:lnTo>
                  <a:pt x="132" y="67"/>
                </a:lnTo>
                <a:lnTo>
                  <a:pt x="138" y="73"/>
                </a:lnTo>
                <a:lnTo>
                  <a:pt x="144" y="81"/>
                </a:lnTo>
                <a:lnTo>
                  <a:pt x="148" y="88"/>
                </a:lnTo>
                <a:lnTo>
                  <a:pt x="151" y="96"/>
                </a:lnTo>
                <a:lnTo>
                  <a:pt x="155" y="104"/>
                </a:lnTo>
                <a:lnTo>
                  <a:pt x="159" y="111"/>
                </a:lnTo>
                <a:lnTo>
                  <a:pt x="161" y="1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53"/>
          <p:cNvSpPr/>
          <p:nvPr/>
        </p:nvSpPr>
        <p:spPr>
          <a:xfrm>
            <a:off x="5522760" y="2882880"/>
            <a:ext cx="822600" cy="1289160"/>
          </a:xfrm>
          <a:custGeom>
            <a:avLst/>
            <a:gdLst/>
            <a:ahLst/>
            <a:rect l="l" t="t" r="r" b="b"/>
            <a:pathLst>
              <a:path w="1037" h="1624">
                <a:moveTo>
                  <a:pt x="2" y="1622"/>
                </a:moveTo>
                <a:lnTo>
                  <a:pt x="0" y="1616"/>
                </a:lnTo>
                <a:lnTo>
                  <a:pt x="0" y="1609"/>
                </a:lnTo>
                <a:lnTo>
                  <a:pt x="4" y="1599"/>
                </a:lnTo>
                <a:lnTo>
                  <a:pt x="8" y="1588"/>
                </a:lnTo>
                <a:lnTo>
                  <a:pt x="14" y="1574"/>
                </a:lnTo>
                <a:lnTo>
                  <a:pt x="23" y="1561"/>
                </a:lnTo>
                <a:lnTo>
                  <a:pt x="33" y="1544"/>
                </a:lnTo>
                <a:lnTo>
                  <a:pt x="45" y="1526"/>
                </a:lnTo>
                <a:lnTo>
                  <a:pt x="60" y="1505"/>
                </a:lnTo>
                <a:lnTo>
                  <a:pt x="75" y="1484"/>
                </a:lnTo>
                <a:lnTo>
                  <a:pt x="92" y="1461"/>
                </a:lnTo>
                <a:lnTo>
                  <a:pt x="112" y="1436"/>
                </a:lnTo>
                <a:lnTo>
                  <a:pt x="133" y="1409"/>
                </a:lnTo>
                <a:lnTo>
                  <a:pt x="156" y="1380"/>
                </a:lnTo>
                <a:lnTo>
                  <a:pt x="181" y="1350"/>
                </a:lnTo>
                <a:lnTo>
                  <a:pt x="208" y="1319"/>
                </a:lnTo>
                <a:lnTo>
                  <a:pt x="258" y="1254"/>
                </a:lnTo>
                <a:lnTo>
                  <a:pt x="306" y="1186"/>
                </a:lnTo>
                <a:lnTo>
                  <a:pt x="354" y="1119"/>
                </a:lnTo>
                <a:lnTo>
                  <a:pt x="398" y="1052"/>
                </a:lnTo>
                <a:lnTo>
                  <a:pt x="442" y="981"/>
                </a:lnTo>
                <a:lnTo>
                  <a:pt x="484" y="910"/>
                </a:lnTo>
                <a:lnTo>
                  <a:pt x="524" y="839"/>
                </a:lnTo>
                <a:lnTo>
                  <a:pt x="563" y="764"/>
                </a:lnTo>
                <a:lnTo>
                  <a:pt x="582" y="730"/>
                </a:lnTo>
                <a:lnTo>
                  <a:pt x="599" y="697"/>
                </a:lnTo>
                <a:lnTo>
                  <a:pt x="617" y="662"/>
                </a:lnTo>
                <a:lnTo>
                  <a:pt x="634" y="632"/>
                </a:lnTo>
                <a:lnTo>
                  <a:pt x="649" y="599"/>
                </a:lnTo>
                <a:lnTo>
                  <a:pt x="664" y="568"/>
                </a:lnTo>
                <a:lnTo>
                  <a:pt x="678" y="538"/>
                </a:lnTo>
                <a:lnTo>
                  <a:pt x="691" y="509"/>
                </a:lnTo>
                <a:lnTo>
                  <a:pt x="705" y="480"/>
                </a:lnTo>
                <a:lnTo>
                  <a:pt x="716" y="453"/>
                </a:lnTo>
                <a:lnTo>
                  <a:pt x="728" y="426"/>
                </a:lnTo>
                <a:lnTo>
                  <a:pt x="737" y="399"/>
                </a:lnTo>
                <a:lnTo>
                  <a:pt x="747" y="375"/>
                </a:lnTo>
                <a:lnTo>
                  <a:pt x="755" y="350"/>
                </a:lnTo>
                <a:lnTo>
                  <a:pt x="762" y="327"/>
                </a:lnTo>
                <a:lnTo>
                  <a:pt x="770" y="304"/>
                </a:lnTo>
                <a:lnTo>
                  <a:pt x="776" y="280"/>
                </a:lnTo>
                <a:lnTo>
                  <a:pt x="782" y="259"/>
                </a:lnTo>
                <a:lnTo>
                  <a:pt x="785" y="238"/>
                </a:lnTo>
                <a:lnTo>
                  <a:pt x="791" y="219"/>
                </a:lnTo>
                <a:lnTo>
                  <a:pt x="795" y="200"/>
                </a:lnTo>
                <a:lnTo>
                  <a:pt x="799" y="183"/>
                </a:lnTo>
                <a:lnTo>
                  <a:pt x="801" y="165"/>
                </a:lnTo>
                <a:lnTo>
                  <a:pt x="803" y="148"/>
                </a:lnTo>
                <a:lnTo>
                  <a:pt x="805" y="133"/>
                </a:lnTo>
                <a:lnTo>
                  <a:pt x="807" y="117"/>
                </a:lnTo>
                <a:lnTo>
                  <a:pt x="808" y="104"/>
                </a:lnTo>
                <a:lnTo>
                  <a:pt x="808" y="90"/>
                </a:lnTo>
                <a:lnTo>
                  <a:pt x="808" y="79"/>
                </a:lnTo>
                <a:lnTo>
                  <a:pt x="807" y="69"/>
                </a:lnTo>
                <a:lnTo>
                  <a:pt x="807" y="60"/>
                </a:lnTo>
                <a:lnTo>
                  <a:pt x="805" y="52"/>
                </a:lnTo>
                <a:lnTo>
                  <a:pt x="803" y="44"/>
                </a:lnTo>
                <a:lnTo>
                  <a:pt x="801" y="39"/>
                </a:lnTo>
                <a:lnTo>
                  <a:pt x="799" y="33"/>
                </a:lnTo>
                <a:lnTo>
                  <a:pt x="799" y="27"/>
                </a:lnTo>
                <a:lnTo>
                  <a:pt x="797" y="23"/>
                </a:lnTo>
                <a:lnTo>
                  <a:pt x="797" y="18"/>
                </a:lnTo>
                <a:lnTo>
                  <a:pt x="797" y="14"/>
                </a:lnTo>
                <a:lnTo>
                  <a:pt x="799" y="12"/>
                </a:lnTo>
                <a:lnTo>
                  <a:pt x="799" y="8"/>
                </a:lnTo>
                <a:lnTo>
                  <a:pt x="801" y="6"/>
                </a:lnTo>
                <a:lnTo>
                  <a:pt x="805" y="4"/>
                </a:lnTo>
                <a:lnTo>
                  <a:pt x="807" y="2"/>
                </a:lnTo>
                <a:lnTo>
                  <a:pt x="810" y="0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41" y="0"/>
                </a:lnTo>
                <a:lnTo>
                  <a:pt x="855" y="2"/>
                </a:lnTo>
                <a:lnTo>
                  <a:pt x="870" y="6"/>
                </a:lnTo>
                <a:lnTo>
                  <a:pt x="887" y="10"/>
                </a:lnTo>
                <a:lnTo>
                  <a:pt x="897" y="14"/>
                </a:lnTo>
                <a:lnTo>
                  <a:pt x="904" y="18"/>
                </a:lnTo>
                <a:lnTo>
                  <a:pt x="914" y="21"/>
                </a:lnTo>
                <a:lnTo>
                  <a:pt x="924" y="27"/>
                </a:lnTo>
                <a:lnTo>
                  <a:pt x="933" y="33"/>
                </a:lnTo>
                <a:lnTo>
                  <a:pt x="943" y="39"/>
                </a:lnTo>
                <a:lnTo>
                  <a:pt x="954" y="44"/>
                </a:lnTo>
                <a:lnTo>
                  <a:pt x="964" y="52"/>
                </a:lnTo>
                <a:lnTo>
                  <a:pt x="975" y="60"/>
                </a:lnTo>
                <a:lnTo>
                  <a:pt x="985" y="67"/>
                </a:lnTo>
                <a:lnTo>
                  <a:pt x="993" y="75"/>
                </a:lnTo>
                <a:lnTo>
                  <a:pt x="1000" y="85"/>
                </a:lnTo>
                <a:lnTo>
                  <a:pt x="1008" y="92"/>
                </a:lnTo>
                <a:lnTo>
                  <a:pt x="1014" y="102"/>
                </a:lnTo>
                <a:lnTo>
                  <a:pt x="1020" y="110"/>
                </a:lnTo>
                <a:lnTo>
                  <a:pt x="1025" y="119"/>
                </a:lnTo>
                <a:lnTo>
                  <a:pt x="1029" y="127"/>
                </a:lnTo>
                <a:lnTo>
                  <a:pt x="1031" y="137"/>
                </a:lnTo>
                <a:lnTo>
                  <a:pt x="1033" y="144"/>
                </a:lnTo>
                <a:lnTo>
                  <a:pt x="1035" y="152"/>
                </a:lnTo>
                <a:lnTo>
                  <a:pt x="1037" y="161"/>
                </a:lnTo>
                <a:lnTo>
                  <a:pt x="1037" y="169"/>
                </a:lnTo>
                <a:lnTo>
                  <a:pt x="1035" y="177"/>
                </a:lnTo>
                <a:lnTo>
                  <a:pt x="1033" y="185"/>
                </a:lnTo>
                <a:lnTo>
                  <a:pt x="1031" y="194"/>
                </a:lnTo>
                <a:lnTo>
                  <a:pt x="1027" y="206"/>
                </a:lnTo>
                <a:lnTo>
                  <a:pt x="1025" y="217"/>
                </a:lnTo>
                <a:lnTo>
                  <a:pt x="1020" y="231"/>
                </a:lnTo>
                <a:lnTo>
                  <a:pt x="1016" y="244"/>
                </a:lnTo>
                <a:lnTo>
                  <a:pt x="1010" y="259"/>
                </a:lnTo>
                <a:lnTo>
                  <a:pt x="1004" y="275"/>
                </a:lnTo>
                <a:lnTo>
                  <a:pt x="998" y="292"/>
                </a:lnTo>
                <a:lnTo>
                  <a:pt x="993" y="307"/>
                </a:lnTo>
                <a:lnTo>
                  <a:pt x="985" y="327"/>
                </a:lnTo>
                <a:lnTo>
                  <a:pt x="977" y="344"/>
                </a:lnTo>
                <a:lnTo>
                  <a:pt x="968" y="363"/>
                </a:lnTo>
                <a:lnTo>
                  <a:pt x="960" y="384"/>
                </a:lnTo>
                <a:lnTo>
                  <a:pt x="950" y="405"/>
                </a:lnTo>
                <a:lnTo>
                  <a:pt x="941" y="426"/>
                </a:lnTo>
                <a:lnTo>
                  <a:pt x="931" y="447"/>
                </a:lnTo>
                <a:lnTo>
                  <a:pt x="918" y="472"/>
                </a:lnTo>
                <a:lnTo>
                  <a:pt x="904" y="499"/>
                </a:lnTo>
                <a:lnTo>
                  <a:pt x="889" y="524"/>
                </a:lnTo>
                <a:lnTo>
                  <a:pt x="876" y="551"/>
                </a:lnTo>
                <a:lnTo>
                  <a:pt x="860" y="580"/>
                </a:lnTo>
                <a:lnTo>
                  <a:pt x="843" y="607"/>
                </a:lnTo>
                <a:lnTo>
                  <a:pt x="828" y="636"/>
                </a:lnTo>
                <a:lnTo>
                  <a:pt x="810" y="666"/>
                </a:lnTo>
                <a:lnTo>
                  <a:pt x="793" y="695"/>
                </a:lnTo>
                <a:lnTo>
                  <a:pt x="776" y="726"/>
                </a:lnTo>
                <a:lnTo>
                  <a:pt x="759" y="757"/>
                </a:lnTo>
                <a:lnTo>
                  <a:pt x="741" y="789"/>
                </a:lnTo>
                <a:lnTo>
                  <a:pt x="722" y="822"/>
                </a:lnTo>
                <a:lnTo>
                  <a:pt x="705" y="854"/>
                </a:lnTo>
                <a:lnTo>
                  <a:pt x="686" y="889"/>
                </a:lnTo>
                <a:lnTo>
                  <a:pt x="666" y="924"/>
                </a:lnTo>
                <a:lnTo>
                  <a:pt x="645" y="960"/>
                </a:lnTo>
                <a:lnTo>
                  <a:pt x="622" y="996"/>
                </a:lnTo>
                <a:lnTo>
                  <a:pt x="599" y="1031"/>
                </a:lnTo>
                <a:lnTo>
                  <a:pt x="576" y="1064"/>
                </a:lnTo>
                <a:lnTo>
                  <a:pt x="553" y="1098"/>
                </a:lnTo>
                <a:lnTo>
                  <a:pt x="528" y="1131"/>
                </a:lnTo>
                <a:lnTo>
                  <a:pt x="503" y="1162"/>
                </a:lnTo>
                <a:lnTo>
                  <a:pt x="478" y="1194"/>
                </a:lnTo>
                <a:lnTo>
                  <a:pt x="451" y="1223"/>
                </a:lnTo>
                <a:lnTo>
                  <a:pt x="425" y="1254"/>
                </a:lnTo>
                <a:lnTo>
                  <a:pt x="398" y="1282"/>
                </a:lnTo>
                <a:lnTo>
                  <a:pt x="369" y="1311"/>
                </a:lnTo>
                <a:lnTo>
                  <a:pt x="313" y="1369"/>
                </a:lnTo>
                <a:lnTo>
                  <a:pt x="254" y="1424"/>
                </a:lnTo>
                <a:lnTo>
                  <a:pt x="225" y="1451"/>
                </a:lnTo>
                <a:lnTo>
                  <a:pt x="198" y="1476"/>
                </a:lnTo>
                <a:lnTo>
                  <a:pt x="173" y="1497"/>
                </a:lnTo>
                <a:lnTo>
                  <a:pt x="148" y="1519"/>
                </a:lnTo>
                <a:lnTo>
                  <a:pt x="127" y="1538"/>
                </a:lnTo>
                <a:lnTo>
                  <a:pt x="108" y="1555"/>
                </a:lnTo>
                <a:lnTo>
                  <a:pt x="89" y="1570"/>
                </a:lnTo>
                <a:lnTo>
                  <a:pt x="71" y="1584"/>
                </a:lnTo>
                <a:lnTo>
                  <a:pt x="58" y="1595"/>
                </a:lnTo>
                <a:lnTo>
                  <a:pt x="45" y="1605"/>
                </a:lnTo>
                <a:lnTo>
                  <a:pt x="33" y="1613"/>
                </a:lnTo>
                <a:lnTo>
                  <a:pt x="23" y="1618"/>
                </a:lnTo>
                <a:lnTo>
                  <a:pt x="16" y="1622"/>
                </a:lnTo>
                <a:lnTo>
                  <a:pt x="8" y="1624"/>
                </a:lnTo>
                <a:lnTo>
                  <a:pt x="4" y="1624"/>
                </a:lnTo>
                <a:lnTo>
                  <a:pt x="2" y="16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巳   袒   撺   胯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锤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3"/>
          <p:cNvSpPr/>
          <p:nvPr/>
        </p:nvSpPr>
        <p:spPr>
          <a:xfrm>
            <a:off x="1785240" y="2333520"/>
            <a:ext cx="5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3176280" y="234144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ǎ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9"/>
          <p:cNvSpPr/>
          <p:nvPr/>
        </p:nvSpPr>
        <p:spPr>
          <a:xfrm>
            <a:off x="4544640" y="231624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10"/>
          <p:cNvSpPr/>
          <p:nvPr/>
        </p:nvSpPr>
        <p:spPr>
          <a:xfrm>
            <a:off x="6207840" y="2384280"/>
            <a:ext cx="10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1"/>
          <p:cNvSpPr/>
          <p:nvPr/>
        </p:nvSpPr>
        <p:spPr>
          <a:xfrm>
            <a:off x="1538280" y="370692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u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12"/>
          <p:cNvSpPr/>
          <p:nvPr/>
        </p:nvSpPr>
        <p:spPr>
          <a:xfrm>
            <a:off x="3060000" y="367524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ǎ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64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7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2054160" y="3149640"/>
            <a:ext cx="578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巳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掇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2"/>
          <p:cNvSpPr/>
          <p:nvPr/>
        </p:nvSpPr>
        <p:spPr>
          <a:xfrm>
            <a:off x="2083320" y="2781360"/>
            <a:ext cx="4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4"/>
          <p:cNvSpPr/>
          <p:nvPr/>
        </p:nvSpPr>
        <p:spPr>
          <a:xfrm>
            <a:off x="4111920" y="2751120"/>
            <a:ext cx="11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ā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72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矩形 9"/>
          <p:cNvSpPr/>
          <p:nvPr/>
        </p:nvSpPr>
        <p:spPr>
          <a:xfrm>
            <a:off x="6493680" y="276552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ū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1494000" y="29973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4"/>
          <p:cNvGrpSpPr/>
          <p:nvPr/>
        </p:nvGrpSpPr>
        <p:grpSpPr>
          <a:xfrm>
            <a:off x="2019240" y="2549520"/>
            <a:ext cx="2773440" cy="1373400"/>
            <a:chOff x="2019240" y="2549520"/>
            <a:chExt cx="2773440" cy="1373400"/>
          </a:xfrm>
        </p:grpSpPr>
        <p:sp>
          <p:nvSpPr>
            <p:cNvPr id="278" name="左大括号 2"/>
            <p:cNvSpPr/>
            <p:nvPr/>
          </p:nvSpPr>
          <p:spPr>
            <a:xfrm>
              <a:off x="2019240" y="2792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TextBox 3"/>
            <p:cNvSpPr/>
            <p:nvPr/>
          </p:nvSpPr>
          <p:spPr>
            <a:xfrm>
              <a:off x="2185920" y="254952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ū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抡拳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ú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抡选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81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1"/>
          <p:cNvSpPr/>
          <p:nvPr/>
        </p:nvSpPr>
        <p:spPr>
          <a:xfrm>
            <a:off x="1504800" y="4726080"/>
            <a:ext cx="5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组合 11"/>
          <p:cNvGrpSpPr/>
          <p:nvPr/>
        </p:nvGrpSpPr>
        <p:grpSpPr>
          <a:xfrm>
            <a:off x="2014560" y="4325760"/>
            <a:ext cx="2773440" cy="1373400"/>
            <a:chOff x="2014560" y="4325760"/>
            <a:chExt cx="2773440" cy="1373400"/>
          </a:xfrm>
        </p:grpSpPr>
        <p:sp>
          <p:nvSpPr>
            <p:cNvPr id="286" name="左大括号 12"/>
            <p:cNvSpPr/>
            <p:nvPr/>
          </p:nvSpPr>
          <p:spPr>
            <a:xfrm>
              <a:off x="2014560" y="456840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13"/>
            <p:cNvSpPr/>
            <p:nvPr/>
          </p:nvSpPr>
          <p:spPr>
            <a:xfrm>
              <a:off x="2181240" y="432576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bē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奔波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bè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投奔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1" descr="C:\Documents and Settings\Administrator\桌面\QQ截图20170611191702.png"/>
          <p:cNvPicPr/>
          <p:nvPr/>
        </p:nvPicPr>
        <p:blipFill>
          <a:blip r:embed="rId1"/>
          <a:stretch/>
        </p:blipFill>
        <p:spPr>
          <a:xfrm>
            <a:off x="1481040" y="2273400"/>
            <a:ext cx="6023160" cy="315252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2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组合 13338"/>
          <p:cNvGrpSpPr/>
          <p:nvPr/>
        </p:nvGrpSpPr>
        <p:grpSpPr>
          <a:xfrm>
            <a:off x="2117880" y="905040"/>
            <a:ext cx="4919400" cy="1971360"/>
            <a:chOff x="2117880" y="905040"/>
            <a:chExt cx="4919400" cy="1971360"/>
          </a:xfrm>
        </p:grpSpPr>
        <p:sp>
          <p:nvSpPr>
            <p:cNvPr id="66" name="Text Box 2"/>
            <p:cNvSpPr/>
            <p:nvPr/>
          </p:nvSpPr>
          <p:spPr>
            <a:xfrm>
              <a:off x="3640320" y="1011240"/>
              <a:ext cx="339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武松打虎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13337"/>
            <p:cNvGrpSpPr/>
            <p:nvPr/>
          </p:nvGrpSpPr>
          <p:grpSpPr>
            <a:xfrm>
              <a:off x="2117880" y="905040"/>
              <a:ext cx="1351440" cy="1971360"/>
              <a:chOff x="2117880" y="905040"/>
              <a:chExt cx="1351440" cy="1971360"/>
            </a:xfrm>
          </p:grpSpPr>
          <p:sp>
            <p:nvSpPr>
              <p:cNvPr id="68" name="AutoShape 11"/>
              <p:cNvSpPr/>
              <p:nvPr/>
            </p:nvSpPr>
            <p:spPr>
              <a:xfrm>
                <a:off x="2117880" y="905040"/>
                <a:ext cx="135144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3"/>
              <p:cNvSpPr/>
              <p:nvPr/>
            </p:nvSpPr>
            <p:spPr>
              <a:xfrm>
                <a:off x="2284560" y="953640"/>
                <a:ext cx="108036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1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71" name="任意多边形 22" descr=""/>
            <p:cNvPicPr/>
            <p:nvPr/>
          </p:nvPicPr>
          <p:blipFill>
            <a:blip r:embed="rId6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任意多边形 23" descr=""/>
            <p:cNvPicPr/>
            <p:nvPr/>
          </p:nvPicPr>
          <p:blipFill>
            <a:blip r:embed="rId7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任意多边形 24" descr=""/>
            <p:cNvPicPr/>
            <p:nvPr/>
          </p:nvPicPr>
          <p:blipFill>
            <a:blip r:embed="rId8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任意多边形 25" descr=""/>
            <p:cNvPicPr/>
            <p:nvPr/>
          </p:nvPicPr>
          <p:blipFill>
            <a:blip r:embed="rId9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流程图: 摘录 26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流程图: 摘录 27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流程图: 摘录 28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1274760" y="182412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诡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言自语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踉踉跄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90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矩形 1"/>
          <p:cNvSpPr/>
          <p:nvPr/>
        </p:nvSpPr>
        <p:spPr>
          <a:xfrm>
            <a:off x="2085840" y="1830240"/>
            <a:ext cx="611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狡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己跟自己说话；独自低声说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爷爷年纪大了，总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自言自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看上去很孤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走路不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看他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踉踉跄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样子，肯定又喝醉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258920" y="1981080"/>
            <a:ext cx="74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簌簌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咆哮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倘或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96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1"/>
          <p:cNvSpPr/>
          <p:nvPr/>
        </p:nvSpPr>
        <p:spPr>
          <a:xfrm>
            <a:off x="2023920" y="1987560"/>
            <a:ext cx="563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风吹叶子等的声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一阵风吹过，粉白的花瓣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簌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飘落，飞花若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野兽）怒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鬼子队长像疯狗似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咆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假如，如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倘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的速度足够快，也许可以追上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258920" y="198108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榜文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存想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霹雳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寻思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02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矩形 1"/>
          <p:cNvSpPr/>
          <p:nvPr/>
        </p:nvSpPr>
        <p:spPr>
          <a:xfrm>
            <a:off x="2023920" y="1987560"/>
            <a:ext cx="6126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旧时官府的告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反复思考。本课指武松思索了一会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经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存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他还是决定接着往前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响声很大的雷，是云和地面之间强烈的雷电现象。本课指老虎的声音如雷声般响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这个消息对她来说犹如晴天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霹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考虑，思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我寻思着怎么回答妈妈的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1"/>
          <p:cNvSpPr/>
          <p:nvPr/>
        </p:nvSpPr>
        <p:spPr>
          <a:xfrm>
            <a:off x="3964320" y="1841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耻笑　嘲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2"/>
          <p:cNvSpPr/>
          <p:nvPr/>
        </p:nvSpPr>
        <p:spPr>
          <a:xfrm>
            <a:off x="2343240" y="2381400"/>
            <a:ext cx="5949720" cy="25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都有“取笑别人”的意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嘲笑”指把对方的缺点、错误等加以夸大，引为笑谈，使人难堪。 “耻笑”含有鄙视、不屑一顾的意味，语义比“嘲笑”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那时候谁若有志于此，必定遭到父母的斥责、亲友的</a:t>
            </a:r>
            <a:r>
              <a:rPr b="1" lang="zh-CN" sz="2000" spc="-1" strike="noStrike">
                <a:solidFill>
                  <a:srgbClr val="ff33cc"/>
                </a:solidFill>
                <a:latin typeface="宋体"/>
              </a:rPr>
              <a:t>耻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她大约从他们的笑容和声调上，也知道是在</a:t>
            </a:r>
            <a:r>
              <a:rPr b="1" lang="zh-CN" sz="2000" spc="-1" strike="noStrike">
                <a:solidFill>
                  <a:srgbClr val="ff33cc"/>
                </a:solidFill>
                <a:latin typeface="宋体"/>
              </a:rPr>
              <a:t>嘲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她，所以总是瞪着眼睛，不说一句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09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4"/>
          <p:cNvGrpSpPr/>
          <p:nvPr/>
        </p:nvGrpSpPr>
        <p:grpSpPr>
          <a:xfrm>
            <a:off x="744480" y="2382840"/>
            <a:ext cx="1670040" cy="459720"/>
            <a:chOff x="744480" y="2382840"/>
            <a:chExt cx="1670040" cy="459720"/>
          </a:xfrm>
        </p:grpSpPr>
        <p:pic>
          <p:nvPicPr>
            <p:cNvPr id="313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744480" y="24372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Box 3"/>
            <p:cNvSpPr/>
            <p:nvPr/>
          </p:nvSpPr>
          <p:spPr>
            <a:xfrm>
              <a:off x="1087560" y="23828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组合 20"/>
          <p:cNvGrpSpPr/>
          <p:nvPr/>
        </p:nvGrpSpPr>
        <p:grpSpPr>
          <a:xfrm>
            <a:off x="744480" y="3044880"/>
            <a:ext cx="1670040" cy="459720"/>
            <a:chOff x="744480" y="3044880"/>
            <a:chExt cx="1670040" cy="459720"/>
          </a:xfrm>
        </p:grpSpPr>
        <p:pic>
          <p:nvPicPr>
            <p:cNvPr id="316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744480" y="30992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Box 22"/>
            <p:cNvSpPr/>
            <p:nvPr/>
          </p:nvSpPr>
          <p:spPr>
            <a:xfrm>
              <a:off x="1087560" y="30448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23"/>
          <p:cNvGrpSpPr/>
          <p:nvPr/>
        </p:nvGrpSpPr>
        <p:grpSpPr>
          <a:xfrm>
            <a:off x="744480" y="4354560"/>
            <a:ext cx="1670040" cy="459720"/>
            <a:chOff x="744480" y="4354560"/>
            <a:chExt cx="1670040" cy="459720"/>
          </a:xfrm>
        </p:grpSpPr>
        <p:pic>
          <p:nvPicPr>
            <p:cNvPr id="319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744480" y="440892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25"/>
            <p:cNvSpPr/>
            <p:nvPr/>
          </p:nvSpPr>
          <p:spPr>
            <a:xfrm>
              <a:off x="1087560" y="43545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887400" y="164628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-5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武松上冈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写武松上冈，见了官府榜文，才知真的有虎，但决定继续上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6-8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武松打虎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武松与猛虎搏斗，终于打死了老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武松下冈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武松一步步捱下冈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95400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7"/>
          <p:cNvSpPr/>
          <p:nvPr/>
        </p:nvSpPr>
        <p:spPr>
          <a:xfrm>
            <a:off x="1498680" y="2712960"/>
            <a:ext cx="6699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武松是个爱面子、豪爽、倔强、无所畏惧、浑身是胆、机智勇敢、武艺高强的英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5"/>
          <p:cNvSpPr/>
          <p:nvPr/>
        </p:nvSpPr>
        <p:spPr>
          <a:xfrm>
            <a:off x="898560" y="1944720"/>
            <a:ext cx="7567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武松是个什么样的人物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326" name="矩形 11"/>
          <p:cNvSpPr/>
          <p:nvPr/>
        </p:nvSpPr>
        <p:spPr>
          <a:xfrm>
            <a:off x="1017720" y="29098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记叙的是</a:t>
            </a: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武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酒后上冈，打死</a:t>
            </a: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老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事情，表现了他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浑身是胆、勇猛机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性格特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7167"/>
          <p:cNvSpPr/>
          <p:nvPr/>
        </p:nvSpPr>
        <p:spPr>
          <a:xfrm>
            <a:off x="1020600" y="2300400"/>
            <a:ext cx="75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能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ù wànɡ      ɡuǐ    zhà      bǎnɡ wén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ōnɡ tánɡ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ūn  qǐ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páo  xiào        nài   hé          dǎ zhà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442880" y="3392640"/>
          <a:ext cx="1468440" cy="733320"/>
        </p:xfrm>
        <a:graphic>
          <a:graphicData uri="http://schemas.openxmlformats.org/drawingml/2006/table">
            <a:tbl>
              <a:tblPr/>
              <a:tblGrid>
                <a:gridCol w="366840"/>
                <a:gridCol w="366840"/>
                <a:gridCol w="368280"/>
                <a:gridCol w="3664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矩形 2"/>
          <p:cNvSpPr/>
          <p:nvPr/>
        </p:nvSpPr>
        <p:spPr>
          <a:xfrm>
            <a:off x="1661760" y="3278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勿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8"/>
          <p:cNvSpPr/>
          <p:nvPr/>
        </p:nvSpPr>
        <p:spPr>
          <a:xfrm>
            <a:off x="6548040" y="32464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胸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9"/>
          <p:cNvSpPr/>
          <p:nvPr/>
        </p:nvSpPr>
        <p:spPr>
          <a:xfrm>
            <a:off x="3293640" y="32608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诡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20"/>
          <p:cNvSpPr/>
          <p:nvPr/>
        </p:nvSpPr>
        <p:spPr>
          <a:xfrm>
            <a:off x="4949640" y="3262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榜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34" name="矩形 13"/>
          <p:cNvSpPr/>
          <p:nvPr/>
        </p:nvSpPr>
        <p:spPr>
          <a:xfrm>
            <a:off x="1616400" y="4378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抡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14"/>
          <p:cNvSpPr/>
          <p:nvPr/>
        </p:nvSpPr>
        <p:spPr>
          <a:xfrm>
            <a:off x="3261960" y="4365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咆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5"/>
          <p:cNvSpPr/>
          <p:nvPr/>
        </p:nvSpPr>
        <p:spPr>
          <a:xfrm>
            <a:off x="4870080" y="4346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奈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27"/>
          <p:cNvSpPr/>
          <p:nvPr/>
        </p:nvSpPr>
        <p:spPr>
          <a:xfrm>
            <a:off x="6504480" y="43308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打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071880" y="3387600"/>
          <a:ext cx="1469880" cy="736560"/>
        </p:xfrm>
        <a:graphic>
          <a:graphicData uri="http://schemas.openxmlformats.org/drawingml/2006/table">
            <a:tbl>
              <a:tblPr/>
              <a:tblGrid>
                <a:gridCol w="368280"/>
                <a:gridCol w="366840"/>
                <a:gridCol w="366480"/>
                <a:gridCol w="36828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4702320" y="3368520"/>
          <a:ext cx="1468440" cy="736920"/>
        </p:xfrm>
        <a:graphic>
          <a:graphicData uri="http://schemas.openxmlformats.org/drawingml/2006/table">
            <a:tbl>
              <a:tblPr/>
              <a:tblGrid>
                <a:gridCol w="366480"/>
                <a:gridCol w="368280"/>
                <a:gridCol w="36684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6332400" y="3368520"/>
          <a:ext cx="1468440" cy="736920"/>
        </p:xfrm>
        <a:graphic>
          <a:graphicData uri="http://schemas.openxmlformats.org/drawingml/2006/table">
            <a:tbl>
              <a:tblPr/>
              <a:tblGrid>
                <a:gridCol w="366840"/>
                <a:gridCol w="366840"/>
                <a:gridCol w="368280"/>
                <a:gridCol w="36648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398600" y="4479840"/>
          <a:ext cx="1468440" cy="73656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027240" y="4475160"/>
          <a:ext cx="1470240" cy="733320"/>
        </p:xfrm>
        <a:graphic>
          <a:graphicData uri="http://schemas.openxmlformats.org/drawingml/2006/table">
            <a:tbl>
              <a:tblPr/>
              <a:tblGrid>
                <a:gridCol w="368280"/>
                <a:gridCol w="366840"/>
                <a:gridCol w="366840"/>
                <a:gridCol w="3682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657680" y="4456080"/>
          <a:ext cx="1468440" cy="73332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480"/>
                <a:gridCol w="36684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6288120" y="4456080"/>
          <a:ext cx="1468440" cy="73332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3"/>
          <p:cNvSpPr/>
          <p:nvPr/>
        </p:nvSpPr>
        <p:spPr>
          <a:xfrm>
            <a:off x="1996920" y="1542960"/>
            <a:ext cx="694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多音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u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u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ǎ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ò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ǒ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左大括号 1"/>
          <p:cNvSpPr/>
          <p:nvPr/>
        </p:nvSpPr>
        <p:spPr>
          <a:xfrm>
            <a:off x="1749600" y="2286000"/>
            <a:ext cx="236520" cy="866880"/>
          </a:xfrm>
          <a:custGeom>
            <a:avLst/>
            <a:gdLst>
              <a:gd name="textAreaLeft" fmla="*/ 151200 w 236520"/>
              <a:gd name="textAreaRight" fmla="*/ 236880 w 236520"/>
              <a:gd name="textAreaTop" fmla="*/ 6120 h 866880"/>
              <a:gd name="textAreaBottom" fmla="*/ 8607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左大括号 10"/>
          <p:cNvSpPr/>
          <p:nvPr/>
        </p:nvSpPr>
        <p:spPr>
          <a:xfrm>
            <a:off x="1760400" y="4471920"/>
            <a:ext cx="236520" cy="866880"/>
          </a:xfrm>
          <a:custGeom>
            <a:avLst/>
            <a:gdLst>
              <a:gd name="textAreaLeft" fmla="*/ 151200 w 236520"/>
              <a:gd name="textAreaRight" fmla="*/ 236880 w 236520"/>
              <a:gd name="textAreaTop" fmla="*/ 6120 h 866880"/>
              <a:gd name="textAreaBottom" fmla="*/ 8607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左大括号 11"/>
          <p:cNvSpPr/>
          <p:nvPr/>
        </p:nvSpPr>
        <p:spPr>
          <a:xfrm>
            <a:off x="1712880" y="3384720"/>
            <a:ext cx="236520" cy="866520"/>
          </a:xfrm>
          <a:custGeom>
            <a:avLst/>
            <a:gdLst>
              <a:gd name="textAreaLeft" fmla="*/ 151200 w 236520"/>
              <a:gd name="textAreaRight" fmla="*/ 236880 w 236520"/>
              <a:gd name="textAreaTop" fmla="*/ 6120 h 866520"/>
              <a:gd name="textAreaBottom" fmla="*/ 8604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12"/>
          <p:cNvSpPr/>
          <p:nvPr/>
        </p:nvSpPr>
        <p:spPr>
          <a:xfrm>
            <a:off x="1362600" y="23670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1351440" y="34336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14"/>
          <p:cNvSpPr/>
          <p:nvPr/>
        </p:nvSpPr>
        <p:spPr>
          <a:xfrm>
            <a:off x="1378440" y="45226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15"/>
          <p:cNvSpPr/>
          <p:nvPr/>
        </p:nvSpPr>
        <p:spPr>
          <a:xfrm>
            <a:off x="3161880" y="21002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吓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19"/>
          <p:cNvSpPr/>
          <p:nvPr/>
        </p:nvSpPr>
        <p:spPr>
          <a:xfrm>
            <a:off x="3163680" y="26496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恐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25"/>
          <p:cNvSpPr/>
          <p:nvPr/>
        </p:nvSpPr>
        <p:spPr>
          <a:xfrm>
            <a:off x="7100640" y="21002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落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27"/>
          <p:cNvSpPr/>
          <p:nvPr/>
        </p:nvSpPr>
        <p:spPr>
          <a:xfrm>
            <a:off x="7084800" y="26668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落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29"/>
          <p:cNvSpPr/>
          <p:nvPr/>
        </p:nvSpPr>
        <p:spPr>
          <a:xfrm>
            <a:off x="3101760" y="32194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泊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31"/>
          <p:cNvSpPr/>
          <p:nvPr/>
        </p:nvSpPr>
        <p:spPr>
          <a:xfrm>
            <a:off x="3083400" y="37386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湖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左大括号 16"/>
          <p:cNvSpPr/>
          <p:nvPr/>
        </p:nvSpPr>
        <p:spPr>
          <a:xfrm>
            <a:off x="5700600" y="2352600"/>
            <a:ext cx="236520" cy="866880"/>
          </a:xfrm>
          <a:custGeom>
            <a:avLst/>
            <a:gdLst>
              <a:gd name="textAreaLeft" fmla="*/ 151200 w 236520"/>
              <a:gd name="textAreaRight" fmla="*/ 236880 w 236520"/>
              <a:gd name="textAreaTop" fmla="*/ 6120 h 866880"/>
              <a:gd name="textAreaBottom" fmla="*/ 8607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左大括号 17"/>
          <p:cNvSpPr/>
          <p:nvPr/>
        </p:nvSpPr>
        <p:spPr>
          <a:xfrm>
            <a:off x="5700600" y="3433680"/>
            <a:ext cx="236520" cy="866880"/>
          </a:xfrm>
          <a:custGeom>
            <a:avLst/>
            <a:gdLst>
              <a:gd name="textAreaLeft" fmla="*/ 151200 w 236520"/>
              <a:gd name="textAreaRight" fmla="*/ 236880 w 236520"/>
              <a:gd name="textAreaTop" fmla="*/ 6120 h 866880"/>
              <a:gd name="textAreaBottom" fmla="*/ 8607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左大括号 18"/>
          <p:cNvSpPr/>
          <p:nvPr/>
        </p:nvSpPr>
        <p:spPr>
          <a:xfrm>
            <a:off x="5700600" y="4522680"/>
            <a:ext cx="236520" cy="866880"/>
          </a:xfrm>
          <a:custGeom>
            <a:avLst/>
            <a:gdLst>
              <a:gd name="textAreaLeft" fmla="*/ 151200 w 236520"/>
              <a:gd name="textAreaRight" fmla="*/ 236880 w 236520"/>
              <a:gd name="textAreaTop" fmla="*/ 6120 h 866880"/>
              <a:gd name="textAreaBottom" fmla="*/ 8607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5329800" y="24303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12"/>
          <p:cNvSpPr/>
          <p:nvPr/>
        </p:nvSpPr>
        <p:spPr>
          <a:xfrm>
            <a:off x="5348160" y="3529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5352120" y="4618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23"/>
          <p:cNvSpPr/>
          <p:nvPr/>
        </p:nvSpPr>
        <p:spPr>
          <a:xfrm>
            <a:off x="7227720" y="31971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爪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24"/>
          <p:cNvSpPr/>
          <p:nvPr/>
        </p:nvSpPr>
        <p:spPr>
          <a:xfrm>
            <a:off x="7054200" y="37450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张牙舞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3103200" y="42991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扒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28"/>
          <p:cNvSpPr/>
          <p:nvPr/>
        </p:nvSpPr>
        <p:spPr>
          <a:xfrm>
            <a:off x="3088080" y="48625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扒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30"/>
          <p:cNvSpPr/>
          <p:nvPr/>
        </p:nvSpPr>
        <p:spPr>
          <a:xfrm>
            <a:off x="7079760" y="43099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斗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32"/>
          <p:cNvSpPr/>
          <p:nvPr/>
        </p:nvSpPr>
        <p:spPr>
          <a:xfrm>
            <a:off x="7119720" y="48546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北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2"/>
          <p:cNvSpPr/>
          <p:nvPr/>
        </p:nvSpPr>
        <p:spPr>
          <a:xfrm>
            <a:off x="1731960" y="1968480"/>
            <a:ext cx="76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已（       ）       抡（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巳（       ）       抢（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淌（       ）       诈（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倘（       ）       炸（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左大括号 9"/>
          <p:cNvSpPr/>
          <p:nvPr/>
        </p:nvSpPr>
        <p:spPr>
          <a:xfrm>
            <a:off x="1523880" y="2533680"/>
            <a:ext cx="236520" cy="866880"/>
          </a:xfrm>
          <a:custGeom>
            <a:avLst/>
            <a:gdLst>
              <a:gd name="textAreaLeft" fmla="*/ 151200 w 236520"/>
              <a:gd name="textAreaRight" fmla="*/ 236880 w 236520"/>
              <a:gd name="textAreaTop" fmla="*/ 6120 h 866880"/>
              <a:gd name="textAreaBottom" fmla="*/ 8607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左大括号 10"/>
          <p:cNvSpPr/>
          <p:nvPr/>
        </p:nvSpPr>
        <p:spPr>
          <a:xfrm>
            <a:off x="4568760" y="2533680"/>
            <a:ext cx="236520" cy="866880"/>
          </a:xfrm>
          <a:custGeom>
            <a:avLst/>
            <a:gdLst>
              <a:gd name="textAreaLeft" fmla="*/ 151200 w 236520"/>
              <a:gd name="textAreaRight" fmla="*/ 236880 w 236520"/>
              <a:gd name="textAreaTop" fmla="*/ 6120 h 866880"/>
              <a:gd name="textAreaBottom" fmla="*/ 8607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左大括号 12"/>
          <p:cNvSpPr/>
          <p:nvPr/>
        </p:nvSpPr>
        <p:spPr>
          <a:xfrm>
            <a:off x="1495440" y="3637080"/>
            <a:ext cx="236520" cy="866520"/>
          </a:xfrm>
          <a:custGeom>
            <a:avLst/>
            <a:gdLst>
              <a:gd name="textAreaLeft" fmla="*/ 151200 w 236520"/>
              <a:gd name="textAreaRight" fmla="*/ 236880 w 236520"/>
              <a:gd name="textAreaTop" fmla="*/ 6120 h 866520"/>
              <a:gd name="textAreaBottom" fmla="*/ 8604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左大括号 13"/>
          <p:cNvSpPr/>
          <p:nvPr/>
        </p:nvSpPr>
        <p:spPr>
          <a:xfrm>
            <a:off x="4578480" y="3624120"/>
            <a:ext cx="236520" cy="866880"/>
          </a:xfrm>
          <a:custGeom>
            <a:avLst/>
            <a:gdLst>
              <a:gd name="textAreaLeft" fmla="*/ 151200 w 236520"/>
              <a:gd name="textAreaRight" fmla="*/ 236880 w 236520"/>
              <a:gd name="textAreaTop" fmla="*/ 6120 h 866880"/>
              <a:gd name="textAreaBottom" fmla="*/ 8607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2660400" y="23670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已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2644560" y="29192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巳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5729040" y="23526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抡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17"/>
          <p:cNvSpPr/>
          <p:nvPr/>
        </p:nvSpPr>
        <p:spPr>
          <a:xfrm>
            <a:off x="5729040" y="29005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抢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18"/>
          <p:cNvSpPr/>
          <p:nvPr/>
        </p:nvSpPr>
        <p:spPr>
          <a:xfrm>
            <a:off x="2707920" y="34513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淌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19"/>
          <p:cNvSpPr/>
          <p:nvPr/>
        </p:nvSpPr>
        <p:spPr>
          <a:xfrm>
            <a:off x="2660400" y="40100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倘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20"/>
          <p:cNvSpPr/>
          <p:nvPr/>
        </p:nvSpPr>
        <p:spPr>
          <a:xfrm>
            <a:off x="5729040" y="34671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诡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21"/>
          <p:cNvSpPr/>
          <p:nvPr/>
        </p:nvSpPr>
        <p:spPr>
          <a:xfrm>
            <a:off x="5738400" y="40035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炸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“巳、袒”等生字；会写“诈、榜”等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在充分默读课文的基础上，正确、流利、有感情地朗读课文，了解课文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1"/>
          <p:cNvSpPr/>
          <p:nvPr/>
        </p:nvSpPr>
        <p:spPr>
          <a:xfrm>
            <a:off x="849240" y="1801800"/>
            <a:ext cx="75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大虫吃武松奈何得没了些气力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用加点词语造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大虫吼一声，却似半天里起个霹雳，震得那山冈也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仿写夸张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7"/>
          <p:cNvSpPr/>
          <p:nvPr/>
        </p:nvSpPr>
        <p:spPr>
          <a:xfrm>
            <a:off x="4253040" y="287964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我想静下心来读书，奈何总是有人来打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9"/>
          <p:cNvSpPr/>
          <p:nvPr/>
        </p:nvSpPr>
        <p:spPr>
          <a:xfrm>
            <a:off x="3376080" y="2673360"/>
            <a:ext cx="34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· 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矩形 11"/>
          <p:cNvSpPr/>
          <p:nvPr/>
        </p:nvSpPr>
        <p:spPr>
          <a:xfrm>
            <a:off x="3457440" y="449100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外面的风很大，吹得地动山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1"/>
          <p:cNvSpPr/>
          <p:nvPr/>
        </p:nvSpPr>
        <p:spPr>
          <a:xfrm>
            <a:off x="739800" y="1328760"/>
            <a:ext cx="77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比较下面的描写，想一想：哪个写得好，好在哪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武松把左手紧紧地揪住顶花皮，偷出右手来只顾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武松把左手紧紧地揪住顶花皮，偷出右手来，提起铁锤般大小拳头，尽平生之力，只顾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7"/>
          <p:cNvSpPr/>
          <p:nvPr/>
        </p:nvSpPr>
        <p:spPr>
          <a:xfrm>
            <a:off x="1266840" y="3463920"/>
            <a:ext cx="712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句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句将武松打老虎的样子描写得更为具体，为我们刻画出一个高大威猛的打虎英雄形象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句的描写显得比较苍白，对人物的刻画不够细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3859200" y="193356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施耐庵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末明初的文学家，博古通今，才华横溢，举凡群经诸子、词章诗歌、天文、地理、医卜、星象等无不精通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曾中进士，后弃官归里，闭门著述，最终写成中国古典四大名著之一的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水浒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4" descr="http://blog.sina.com.cn/pic/48202e4120a7552e301c0"/>
          <p:cNvPicPr/>
          <p:nvPr/>
        </p:nvPicPr>
        <p:blipFill>
          <a:blip r:embed="rId3"/>
          <a:stretch/>
        </p:blipFill>
        <p:spPr>
          <a:xfrm>
            <a:off x="1066680" y="2189160"/>
            <a:ext cx="2792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942840" y="1793880"/>
            <a:ext cx="766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古人用“虫”泛指一切动物，并把虫分为五类：禽为羽虫，兽为毛虫，龟为甲虫，鱼为鳞虫，人为倮虫。“大”有长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ǎ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的意思，如称兄弟中排行第一的为“大哥”，“大”又是敬词，如称“大人”“大夫”“大王”等。虎在中国古代的地位是很高的，它是威猛的象征，镇守西方，具有吉祥、正义、辟邪等作用。虎属毛虫类，是兽中之王 。“大虫”也就是毛虫之首领，兽中之王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9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6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00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撇画注意笔势变化，横折钩不要写得太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矩形 3"/>
          <p:cNvSpPr/>
          <p:nvPr/>
        </p:nvSpPr>
        <p:spPr>
          <a:xfrm>
            <a:off x="2171880" y="199404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47"/>
          <p:cNvSpPr/>
          <p:nvPr/>
        </p:nvSpPr>
        <p:spPr>
          <a:xfrm>
            <a:off x="5819760" y="3308400"/>
            <a:ext cx="1873440" cy="1803240"/>
          </a:xfrm>
          <a:custGeom>
            <a:avLst/>
            <a:gdLst/>
            <a:ahLst/>
            <a:rect l="l" t="t" r="r" b="b"/>
            <a:pathLst>
              <a:path w="2359" h="2272">
                <a:moveTo>
                  <a:pt x="1361" y="1885"/>
                </a:moveTo>
                <a:lnTo>
                  <a:pt x="1369" y="1883"/>
                </a:lnTo>
                <a:lnTo>
                  <a:pt x="1378" y="1877"/>
                </a:lnTo>
                <a:lnTo>
                  <a:pt x="1388" y="1871"/>
                </a:lnTo>
                <a:lnTo>
                  <a:pt x="1397" y="1865"/>
                </a:lnTo>
                <a:lnTo>
                  <a:pt x="1409" y="1856"/>
                </a:lnTo>
                <a:lnTo>
                  <a:pt x="1419" y="1846"/>
                </a:lnTo>
                <a:lnTo>
                  <a:pt x="1430" y="1835"/>
                </a:lnTo>
                <a:lnTo>
                  <a:pt x="1442" y="1821"/>
                </a:lnTo>
                <a:lnTo>
                  <a:pt x="1455" y="1808"/>
                </a:lnTo>
                <a:lnTo>
                  <a:pt x="1468" y="1791"/>
                </a:lnTo>
                <a:lnTo>
                  <a:pt x="1482" y="1773"/>
                </a:lnTo>
                <a:lnTo>
                  <a:pt x="1495" y="1754"/>
                </a:lnTo>
                <a:lnTo>
                  <a:pt x="1511" y="1733"/>
                </a:lnTo>
                <a:lnTo>
                  <a:pt x="1524" y="1710"/>
                </a:lnTo>
                <a:lnTo>
                  <a:pt x="1541" y="1685"/>
                </a:lnTo>
                <a:lnTo>
                  <a:pt x="1549" y="1672"/>
                </a:lnTo>
                <a:lnTo>
                  <a:pt x="1557" y="1658"/>
                </a:lnTo>
                <a:lnTo>
                  <a:pt x="1574" y="1631"/>
                </a:lnTo>
                <a:lnTo>
                  <a:pt x="1591" y="1604"/>
                </a:lnTo>
                <a:lnTo>
                  <a:pt x="1609" y="1574"/>
                </a:lnTo>
                <a:lnTo>
                  <a:pt x="1624" y="1543"/>
                </a:lnTo>
                <a:lnTo>
                  <a:pt x="1641" y="1508"/>
                </a:lnTo>
                <a:lnTo>
                  <a:pt x="1658" y="1474"/>
                </a:lnTo>
                <a:lnTo>
                  <a:pt x="1676" y="1437"/>
                </a:lnTo>
                <a:lnTo>
                  <a:pt x="1691" y="1399"/>
                </a:lnTo>
                <a:lnTo>
                  <a:pt x="1708" y="1359"/>
                </a:lnTo>
                <a:lnTo>
                  <a:pt x="1724" y="1317"/>
                </a:lnTo>
                <a:lnTo>
                  <a:pt x="1739" y="1272"/>
                </a:lnTo>
                <a:lnTo>
                  <a:pt x="1756" y="1226"/>
                </a:lnTo>
                <a:lnTo>
                  <a:pt x="1770" y="1180"/>
                </a:lnTo>
                <a:lnTo>
                  <a:pt x="1785" y="1132"/>
                </a:lnTo>
                <a:lnTo>
                  <a:pt x="1801" y="1081"/>
                </a:lnTo>
                <a:lnTo>
                  <a:pt x="1814" y="1029"/>
                </a:lnTo>
                <a:lnTo>
                  <a:pt x="1827" y="977"/>
                </a:lnTo>
                <a:lnTo>
                  <a:pt x="1835" y="952"/>
                </a:lnTo>
                <a:lnTo>
                  <a:pt x="1841" y="927"/>
                </a:lnTo>
                <a:lnTo>
                  <a:pt x="1847" y="904"/>
                </a:lnTo>
                <a:lnTo>
                  <a:pt x="1854" y="879"/>
                </a:lnTo>
                <a:lnTo>
                  <a:pt x="1860" y="856"/>
                </a:lnTo>
                <a:lnTo>
                  <a:pt x="1866" y="833"/>
                </a:lnTo>
                <a:lnTo>
                  <a:pt x="1872" y="812"/>
                </a:lnTo>
                <a:lnTo>
                  <a:pt x="1875" y="789"/>
                </a:lnTo>
                <a:lnTo>
                  <a:pt x="1881" y="768"/>
                </a:lnTo>
                <a:lnTo>
                  <a:pt x="1887" y="749"/>
                </a:lnTo>
                <a:lnTo>
                  <a:pt x="1891" y="728"/>
                </a:lnTo>
                <a:lnTo>
                  <a:pt x="1896" y="708"/>
                </a:lnTo>
                <a:lnTo>
                  <a:pt x="1900" y="689"/>
                </a:lnTo>
                <a:lnTo>
                  <a:pt x="1904" y="670"/>
                </a:lnTo>
                <a:lnTo>
                  <a:pt x="1910" y="651"/>
                </a:lnTo>
                <a:lnTo>
                  <a:pt x="1914" y="634"/>
                </a:lnTo>
                <a:lnTo>
                  <a:pt x="1918" y="616"/>
                </a:lnTo>
                <a:lnTo>
                  <a:pt x="1921" y="601"/>
                </a:lnTo>
                <a:lnTo>
                  <a:pt x="1923" y="584"/>
                </a:lnTo>
                <a:lnTo>
                  <a:pt x="1927" y="568"/>
                </a:lnTo>
                <a:lnTo>
                  <a:pt x="1931" y="553"/>
                </a:lnTo>
                <a:lnTo>
                  <a:pt x="1933" y="540"/>
                </a:lnTo>
                <a:lnTo>
                  <a:pt x="1937" y="524"/>
                </a:lnTo>
                <a:lnTo>
                  <a:pt x="1939" y="511"/>
                </a:lnTo>
                <a:lnTo>
                  <a:pt x="1941" y="497"/>
                </a:lnTo>
                <a:lnTo>
                  <a:pt x="1944" y="486"/>
                </a:lnTo>
                <a:lnTo>
                  <a:pt x="1946" y="474"/>
                </a:lnTo>
                <a:lnTo>
                  <a:pt x="1948" y="463"/>
                </a:lnTo>
                <a:lnTo>
                  <a:pt x="1948" y="451"/>
                </a:lnTo>
                <a:lnTo>
                  <a:pt x="1950" y="442"/>
                </a:lnTo>
                <a:lnTo>
                  <a:pt x="1954" y="424"/>
                </a:lnTo>
                <a:lnTo>
                  <a:pt x="1954" y="407"/>
                </a:lnTo>
                <a:lnTo>
                  <a:pt x="1956" y="392"/>
                </a:lnTo>
                <a:lnTo>
                  <a:pt x="1956" y="376"/>
                </a:lnTo>
                <a:lnTo>
                  <a:pt x="1956" y="361"/>
                </a:lnTo>
                <a:lnTo>
                  <a:pt x="1956" y="348"/>
                </a:lnTo>
                <a:lnTo>
                  <a:pt x="1956" y="334"/>
                </a:lnTo>
                <a:lnTo>
                  <a:pt x="1954" y="323"/>
                </a:lnTo>
                <a:lnTo>
                  <a:pt x="1952" y="311"/>
                </a:lnTo>
                <a:lnTo>
                  <a:pt x="1950" y="300"/>
                </a:lnTo>
                <a:lnTo>
                  <a:pt x="1948" y="290"/>
                </a:lnTo>
                <a:lnTo>
                  <a:pt x="1946" y="282"/>
                </a:lnTo>
                <a:lnTo>
                  <a:pt x="1944" y="273"/>
                </a:lnTo>
                <a:lnTo>
                  <a:pt x="1941" y="265"/>
                </a:lnTo>
                <a:lnTo>
                  <a:pt x="1939" y="259"/>
                </a:lnTo>
                <a:lnTo>
                  <a:pt x="1935" y="254"/>
                </a:lnTo>
                <a:lnTo>
                  <a:pt x="1923" y="244"/>
                </a:lnTo>
                <a:lnTo>
                  <a:pt x="1910" y="236"/>
                </a:lnTo>
                <a:lnTo>
                  <a:pt x="1895" y="229"/>
                </a:lnTo>
                <a:lnTo>
                  <a:pt x="1879" y="223"/>
                </a:lnTo>
                <a:lnTo>
                  <a:pt x="1860" y="217"/>
                </a:lnTo>
                <a:lnTo>
                  <a:pt x="1841" y="211"/>
                </a:lnTo>
                <a:lnTo>
                  <a:pt x="1822" y="206"/>
                </a:lnTo>
                <a:lnTo>
                  <a:pt x="1799" y="202"/>
                </a:lnTo>
                <a:lnTo>
                  <a:pt x="1793" y="202"/>
                </a:lnTo>
                <a:lnTo>
                  <a:pt x="1785" y="202"/>
                </a:lnTo>
                <a:lnTo>
                  <a:pt x="1777" y="202"/>
                </a:lnTo>
                <a:lnTo>
                  <a:pt x="1766" y="202"/>
                </a:lnTo>
                <a:lnTo>
                  <a:pt x="1754" y="202"/>
                </a:lnTo>
                <a:lnTo>
                  <a:pt x="1743" y="204"/>
                </a:lnTo>
                <a:lnTo>
                  <a:pt x="1729" y="204"/>
                </a:lnTo>
                <a:lnTo>
                  <a:pt x="1714" y="206"/>
                </a:lnTo>
                <a:lnTo>
                  <a:pt x="1699" y="208"/>
                </a:lnTo>
                <a:lnTo>
                  <a:pt x="1682" y="208"/>
                </a:lnTo>
                <a:lnTo>
                  <a:pt x="1662" y="210"/>
                </a:lnTo>
                <a:lnTo>
                  <a:pt x="1643" y="211"/>
                </a:lnTo>
                <a:lnTo>
                  <a:pt x="1622" y="213"/>
                </a:lnTo>
                <a:lnTo>
                  <a:pt x="1599" y="215"/>
                </a:lnTo>
                <a:lnTo>
                  <a:pt x="1576" y="217"/>
                </a:lnTo>
                <a:lnTo>
                  <a:pt x="1551" y="221"/>
                </a:lnTo>
                <a:lnTo>
                  <a:pt x="1526" y="223"/>
                </a:lnTo>
                <a:lnTo>
                  <a:pt x="1499" y="225"/>
                </a:lnTo>
                <a:lnTo>
                  <a:pt x="1470" y="229"/>
                </a:lnTo>
                <a:lnTo>
                  <a:pt x="1442" y="233"/>
                </a:lnTo>
                <a:lnTo>
                  <a:pt x="1411" y="234"/>
                </a:lnTo>
                <a:lnTo>
                  <a:pt x="1378" y="238"/>
                </a:lnTo>
                <a:lnTo>
                  <a:pt x="1346" y="242"/>
                </a:lnTo>
                <a:lnTo>
                  <a:pt x="1313" y="246"/>
                </a:lnTo>
                <a:lnTo>
                  <a:pt x="1277" y="250"/>
                </a:lnTo>
                <a:lnTo>
                  <a:pt x="1240" y="254"/>
                </a:lnTo>
                <a:lnTo>
                  <a:pt x="1204" y="257"/>
                </a:lnTo>
                <a:lnTo>
                  <a:pt x="1165" y="261"/>
                </a:lnTo>
                <a:lnTo>
                  <a:pt x="1125" y="267"/>
                </a:lnTo>
                <a:lnTo>
                  <a:pt x="1083" y="271"/>
                </a:lnTo>
                <a:lnTo>
                  <a:pt x="1040" y="277"/>
                </a:lnTo>
                <a:lnTo>
                  <a:pt x="998" y="281"/>
                </a:lnTo>
                <a:lnTo>
                  <a:pt x="952" y="288"/>
                </a:lnTo>
                <a:lnTo>
                  <a:pt x="908" y="294"/>
                </a:lnTo>
                <a:lnTo>
                  <a:pt x="866" y="300"/>
                </a:lnTo>
                <a:lnTo>
                  <a:pt x="824" y="305"/>
                </a:lnTo>
                <a:lnTo>
                  <a:pt x="781" y="309"/>
                </a:lnTo>
                <a:lnTo>
                  <a:pt x="741" y="315"/>
                </a:lnTo>
                <a:lnTo>
                  <a:pt x="703" y="321"/>
                </a:lnTo>
                <a:lnTo>
                  <a:pt x="662" y="325"/>
                </a:lnTo>
                <a:lnTo>
                  <a:pt x="626" y="328"/>
                </a:lnTo>
                <a:lnTo>
                  <a:pt x="587" y="332"/>
                </a:lnTo>
                <a:lnTo>
                  <a:pt x="553" y="338"/>
                </a:lnTo>
                <a:lnTo>
                  <a:pt x="516" y="342"/>
                </a:lnTo>
                <a:lnTo>
                  <a:pt x="482" y="346"/>
                </a:lnTo>
                <a:lnTo>
                  <a:pt x="449" y="348"/>
                </a:lnTo>
                <a:lnTo>
                  <a:pt x="417" y="352"/>
                </a:lnTo>
                <a:lnTo>
                  <a:pt x="384" y="355"/>
                </a:lnTo>
                <a:lnTo>
                  <a:pt x="353" y="357"/>
                </a:lnTo>
                <a:lnTo>
                  <a:pt x="325" y="361"/>
                </a:lnTo>
                <a:lnTo>
                  <a:pt x="296" y="363"/>
                </a:lnTo>
                <a:lnTo>
                  <a:pt x="267" y="367"/>
                </a:lnTo>
                <a:lnTo>
                  <a:pt x="240" y="369"/>
                </a:lnTo>
                <a:lnTo>
                  <a:pt x="213" y="371"/>
                </a:lnTo>
                <a:lnTo>
                  <a:pt x="188" y="373"/>
                </a:lnTo>
                <a:lnTo>
                  <a:pt x="163" y="375"/>
                </a:lnTo>
                <a:lnTo>
                  <a:pt x="140" y="376"/>
                </a:lnTo>
                <a:lnTo>
                  <a:pt x="117" y="378"/>
                </a:lnTo>
                <a:lnTo>
                  <a:pt x="96" y="380"/>
                </a:lnTo>
                <a:lnTo>
                  <a:pt x="75" y="382"/>
                </a:lnTo>
                <a:lnTo>
                  <a:pt x="54" y="384"/>
                </a:lnTo>
                <a:lnTo>
                  <a:pt x="35" y="386"/>
                </a:lnTo>
                <a:lnTo>
                  <a:pt x="17" y="386"/>
                </a:lnTo>
                <a:lnTo>
                  <a:pt x="0" y="388"/>
                </a:lnTo>
                <a:lnTo>
                  <a:pt x="21" y="321"/>
                </a:lnTo>
                <a:lnTo>
                  <a:pt x="44" y="254"/>
                </a:lnTo>
                <a:lnTo>
                  <a:pt x="111" y="250"/>
                </a:lnTo>
                <a:lnTo>
                  <a:pt x="177" y="244"/>
                </a:lnTo>
                <a:lnTo>
                  <a:pt x="240" y="238"/>
                </a:lnTo>
                <a:lnTo>
                  <a:pt x="303" y="234"/>
                </a:lnTo>
                <a:lnTo>
                  <a:pt x="363" y="229"/>
                </a:lnTo>
                <a:lnTo>
                  <a:pt x="420" y="223"/>
                </a:lnTo>
                <a:lnTo>
                  <a:pt x="478" y="217"/>
                </a:lnTo>
                <a:lnTo>
                  <a:pt x="532" y="213"/>
                </a:lnTo>
                <a:lnTo>
                  <a:pt x="586" y="208"/>
                </a:lnTo>
                <a:lnTo>
                  <a:pt x="637" y="202"/>
                </a:lnTo>
                <a:lnTo>
                  <a:pt x="687" y="194"/>
                </a:lnTo>
                <a:lnTo>
                  <a:pt x="733" y="188"/>
                </a:lnTo>
                <a:lnTo>
                  <a:pt x="779" y="183"/>
                </a:lnTo>
                <a:lnTo>
                  <a:pt x="824" y="175"/>
                </a:lnTo>
                <a:lnTo>
                  <a:pt x="866" y="167"/>
                </a:lnTo>
                <a:lnTo>
                  <a:pt x="908" y="162"/>
                </a:lnTo>
                <a:lnTo>
                  <a:pt x="1054" y="140"/>
                </a:lnTo>
                <a:lnTo>
                  <a:pt x="1127" y="131"/>
                </a:lnTo>
                <a:lnTo>
                  <a:pt x="1200" y="121"/>
                </a:lnTo>
                <a:lnTo>
                  <a:pt x="1273" y="110"/>
                </a:lnTo>
                <a:lnTo>
                  <a:pt x="1344" y="100"/>
                </a:lnTo>
                <a:lnTo>
                  <a:pt x="1413" y="91"/>
                </a:lnTo>
                <a:lnTo>
                  <a:pt x="1482" y="81"/>
                </a:lnTo>
                <a:lnTo>
                  <a:pt x="1515" y="77"/>
                </a:lnTo>
                <a:lnTo>
                  <a:pt x="1545" y="75"/>
                </a:lnTo>
                <a:lnTo>
                  <a:pt x="1576" y="71"/>
                </a:lnTo>
                <a:lnTo>
                  <a:pt x="1605" y="68"/>
                </a:lnTo>
                <a:lnTo>
                  <a:pt x="1630" y="66"/>
                </a:lnTo>
                <a:lnTo>
                  <a:pt x="1655" y="62"/>
                </a:lnTo>
                <a:lnTo>
                  <a:pt x="1678" y="58"/>
                </a:lnTo>
                <a:lnTo>
                  <a:pt x="1699" y="54"/>
                </a:lnTo>
                <a:lnTo>
                  <a:pt x="1720" y="50"/>
                </a:lnTo>
                <a:lnTo>
                  <a:pt x="1737" y="46"/>
                </a:lnTo>
                <a:lnTo>
                  <a:pt x="1754" y="43"/>
                </a:lnTo>
                <a:lnTo>
                  <a:pt x="1770" y="39"/>
                </a:lnTo>
                <a:lnTo>
                  <a:pt x="1783" y="35"/>
                </a:lnTo>
                <a:lnTo>
                  <a:pt x="1795" y="33"/>
                </a:lnTo>
                <a:lnTo>
                  <a:pt x="1804" y="29"/>
                </a:lnTo>
                <a:lnTo>
                  <a:pt x="1814" y="27"/>
                </a:lnTo>
                <a:lnTo>
                  <a:pt x="1837" y="18"/>
                </a:lnTo>
                <a:lnTo>
                  <a:pt x="1848" y="12"/>
                </a:lnTo>
                <a:lnTo>
                  <a:pt x="1860" y="8"/>
                </a:lnTo>
                <a:lnTo>
                  <a:pt x="1872" y="6"/>
                </a:lnTo>
                <a:lnTo>
                  <a:pt x="1883" y="2"/>
                </a:lnTo>
                <a:lnTo>
                  <a:pt x="1895" y="0"/>
                </a:lnTo>
                <a:lnTo>
                  <a:pt x="1906" y="0"/>
                </a:lnTo>
                <a:lnTo>
                  <a:pt x="1908" y="0"/>
                </a:lnTo>
                <a:lnTo>
                  <a:pt x="1914" y="2"/>
                </a:lnTo>
                <a:lnTo>
                  <a:pt x="1921" y="4"/>
                </a:lnTo>
                <a:lnTo>
                  <a:pt x="1931" y="8"/>
                </a:lnTo>
                <a:lnTo>
                  <a:pt x="1941" y="12"/>
                </a:lnTo>
                <a:lnTo>
                  <a:pt x="1952" y="16"/>
                </a:lnTo>
                <a:lnTo>
                  <a:pt x="1966" y="21"/>
                </a:lnTo>
                <a:lnTo>
                  <a:pt x="1981" y="29"/>
                </a:lnTo>
                <a:lnTo>
                  <a:pt x="1998" y="35"/>
                </a:lnTo>
                <a:lnTo>
                  <a:pt x="2015" y="45"/>
                </a:lnTo>
                <a:lnTo>
                  <a:pt x="2035" y="52"/>
                </a:lnTo>
                <a:lnTo>
                  <a:pt x="2054" y="62"/>
                </a:lnTo>
                <a:lnTo>
                  <a:pt x="2075" y="71"/>
                </a:lnTo>
                <a:lnTo>
                  <a:pt x="2098" y="83"/>
                </a:lnTo>
                <a:lnTo>
                  <a:pt x="2123" y="94"/>
                </a:lnTo>
                <a:lnTo>
                  <a:pt x="2148" y="108"/>
                </a:lnTo>
                <a:lnTo>
                  <a:pt x="2171" y="121"/>
                </a:lnTo>
                <a:lnTo>
                  <a:pt x="2196" y="137"/>
                </a:lnTo>
                <a:lnTo>
                  <a:pt x="2217" y="148"/>
                </a:lnTo>
                <a:lnTo>
                  <a:pt x="2238" y="160"/>
                </a:lnTo>
                <a:lnTo>
                  <a:pt x="2255" y="171"/>
                </a:lnTo>
                <a:lnTo>
                  <a:pt x="2275" y="181"/>
                </a:lnTo>
                <a:lnTo>
                  <a:pt x="2290" y="190"/>
                </a:lnTo>
                <a:lnTo>
                  <a:pt x="2303" y="200"/>
                </a:lnTo>
                <a:lnTo>
                  <a:pt x="2317" y="208"/>
                </a:lnTo>
                <a:lnTo>
                  <a:pt x="2328" y="213"/>
                </a:lnTo>
                <a:lnTo>
                  <a:pt x="2338" y="221"/>
                </a:lnTo>
                <a:lnTo>
                  <a:pt x="2346" y="225"/>
                </a:lnTo>
                <a:lnTo>
                  <a:pt x="2351" y="231"/>
                </a:lnTo>
                <a:lnTo>
                  <a:pt x="2355" y="234"/>
                </a:lnTo>
                <a:lnTo>
                  <a:pt x="2359" y="238"/>
                </a:lnTo>
                <a:lnTo>
                  <a:pt x="2359" y="240"/>
                </a:lnTo>
                <a:lnTo>
                  <a:pt x="2359" y="246"/>
                </a:lnTo>
                <a:lnTo>
                  <a:pt x="2357" y="254"/>
                </a:lnTo>
                <a:lnTo>
                  <a:pt x="2353" y="259"/>
                </a:lnTo>
                <a:lnTo>
                  <a:pt x="2348" y="267"/>
                </a:lnTo>
                <a:lnTo>
                  <a:pt x="2342" y="275"/>
                </a:lnTo>
                <a:lnTo>
                  <a:pt x="2334" y="282"/>
                </a:lnTo>
                <a:lnTo>
                  <a:pt x="2324" y="288"/>
                </a:lnTo>
                <a:lnTo>
                  <a:pt x="2313" y="294"/>
                </a:lnTo>
                <a:lnTo>
                  <a:pt x="2309" y="298"/>
                </a:lnTo>
                <a:lnTo>
                  <a:pt x="2305" y="302"/>
                </a:lnTo>
                <a:lnTo>
                  <a:pt x="2301" y="305"/>
                </a:lnTo>
                <a:lnTo>
                  <a:pt x="2296" y="311"/>
                </a:lnTo>
                <a:lnTo>
                  <a:pt x="2292" y="319"/>
                </a:lnTo>
                <a:lnTo>
                  <a:pt x="2288" y="327"/>
                </a:lnTo>
                <a:lnTo>
                  <a:pt x="2284" y="334"/>
                </a:lnTo>
                <a:lnTo>
                  <a:pt x="2278" y="344"/>
                </a:lnTo>
                <a:lnTo>
                  <a:pt x="2275" y="355"/>
                </a:lnTo>
                <a:lnTo>
                  <a:pt x="2271" y="367"/>
                </a:lnTo>
                <a:lnTo>
                  <a:pt x="2265" y="378"/>
                </a:lnTo>
                <a:lnTo>
                  <a:pt x="2261" y="392"/>
                </a:lnTo>
                <a:lnTo>
                  <a:pt x="2255" y="407"/>
                </a:lnTo>
                <a:lnTo>
                  <a:pt x="2252" y="423"/>
                </a:lnTo>
                <a:lnTo>
                  <a:pt x="2246" y="438"/>
                </a:lnTo>
                <a:lnTo>
                  <a:pt x="2242" y="455"/>
                </a:lnTo>
                <a:lnTo>
                  <a:pt x="2236" y="472"/>
                </a:lnTo>
                <a:lnTo>
                  <a:pt x="2230" y="492"/>
                </a:lnTo>
                <a:lnTo>
                  <a:pt x="2227" y="511"/>
                </a:lnTo>
                <a:lnTo>
                  <a:pt x="2221" y="532"/>
                </a:lnTo>
                <a:lnTo>
                  <a:pt x="2215" y="555"/>
                </a:lnTo>
                <a:lnTo>
                  <a:pt x="2209" y="576"/>
                </a:lnTo>
                <a:lnTo>
                  <a:pt x="2204" y="601"/>
                </a:lnTo>
                <a:lnTo>
                  <a:pt x="2198" y="626"/>
                </a:lnTo>
                <a:lnTo>
                  <a:pt x="2192" y="651"/>
                </a:lnTo>
                <a:lnTo>
                  <a:pt x="2186" y="678"/>
                </a:lnTo>
                <a:lnTo>
                  <a:pt x="2181" y="705"/>
                </a:lnTo>
                <a:lnTo>
                  <a:pt x="2173" y="733"/>
                </a:lnTo>
                <a:lnTo>
                  <a:pt x="2167" y="762"/>
                </a:lnTo>
                <a:lnTo>
                  <a:pt x="2161" y="793"/>
                </a:lnTo>
                <a:lnTo>
                  <a:pt x="2154" y="824"/>
                </a:lnTo>
                <a:lnTo>
                  <a:pt x="2148" y="856"/>
                </a:lnTo>
                <a:lnTo>
                  <a:pt x="2133" y="919"/>
                </a:lnTo>
                <a:lnTo>
                  <a:pt x="2117" y="983"/>
                </a:lnTo>
                <a:lnTo>
                  <a:pt x="2102" y="1046"/>
                </a:lnTo>
                <a:lnTo>
                  <a:pt x="2085" y="1106"/>
                </a:lnTo>
                <a:lnTo>
                  <a:pt x="2067" y="1165"/>
                </a:lnTo>
                <a:lnTo>
                  <a:pt x="2050" y="1223"/>
                </a:lnTo>
                <a:lnTo>
                  <a:pt x="2031" y="1280"/>
                </a:lnTo>
                <a:lnTo>
                  <a:pt x="2012" y="1334"/>
                </a:lnTo>
                <a:lnTo>
                  <a:pt x="1991" y="1388"/>
                </a:lnTo>
                <a:lnTo>
                  <a:pt x="1969" y="1441"/>
                </a:lnTo>
                <a:lnTo>
                  <a:pt x="1948" y="1491"/>
                </a:lnTo>
                <a:lnTo>
                  <a:pt x="1925" y="1541"/>
                </a:lnTo>
                <a:lnTo>
                  <a:pt x="1902" y="1589"/>
                </a:lnTo>
                <a:lnTo>
                  <a:pt x="1879" y="1635"/>
                </a:lnTo>
                <a:lnTo>
                  <a:pt x="1854" y="1681"/>
                </a:lnTo>
                <a:lnTo>
                  <a:pt x="1829" y="1725"/>
                </a:lnTo>
                <a:lnTo>
                  <a:pt x="1818" y="1746"/>
                </a:lnTo>
                <a:lnTo>
                  <a:pt x="1804" y="1766"/>
                </a:lnTo>
                <a:lnTo>
                  <a:pt x="1793" y="1787"/>
                </a:lnTo>
                <a:lnTo>
                  <a:pt x="1779" y="1806"/>
                </a:lnTo>
                <a:lnTo>
                  <a:pt x="1756" y="1844"/>
                </a:lnTo>
                <a:lnTo>
                  <a:pt x="1733" y="1881"/>
                </a:lnTo>
                <a:lnTo>
                  <a:pt x="1710" y="1915"/>
                </a:lnTo>
                <a:lnTo>
                  <a:pt x="1687" y="1948"/>
                </a:lnTo>
                <a:lnTo>
                  <a:pt x="1666" y="1979"/>
                </a:lnTo>
                <a:lnTo>
                  <a:pt x="1645" y="2007"/>
                </a:lnTo>
                <a:lnTo>
                  <a:pt x="1624" y="2034"/>
                </a:lnTo>
                <a:lnTo>
                  <a:pt x="1603" y="2059"/>
                </a:lnTo>
                <a:lnTo>
                  <a:pt x="1582" y="2084"/>
                </a:lnTo>
                <a:lnTo>
                  <a:pt x="1561" y="2105"/>
                </a:lnTo>
                <a:lnTo>
                  <a:pt x="1541" y="2126"/>
                </a:lnTo>
                <a:lnTo>
                  <a:pt x="1520" y="2146"/>
                </a:lnTo>
                <a:lnTo>
                  <a:pt x="1501" y="2163"/>
                </a:lnTo>
                <a:lnTo>
                  <a:pt x="1482" y="2180"/>
                </a:lnTo>
                <a:lnTo>
                  <a:pt x="1463" y="2192"/>
                </a:lnTo>
                <a:lnTo>
                  <a:pt x="1444" y="2203"/>
                </a:lnTo>
                <a:lnTo>
                  <a:pt x="1424" y="2213"/>
                </a:lnTo>
                <a:lnTo>
                  <a:pt x="1405" y="2222"/>
                </a:lnTo>
                <a:lnTo>
                  <a:pt x="1388" y="2230"/>
                </a:lnTo>
                <a:lnTo>
                  <a:pt x="1371" y="2238"/>
                </a:lnTo>
                <a:lnTo>
                  <a:pt x="1353" y="2245"/>
                </a:lnTo>
                <a:lnTo>
                  <a:pt x="1338" y="2251"/>
                </a:lnTo>
                <a:lnTo>
                  <a:pt x="1323" y="2257"/>
                </a:lnTo>
                <a:lnTo>
                  <a:pt x="1309" y="2261"/>
                </a:lnTo>
                <a:lnTo>
                  <a:pt x="1294" y="2264"/>
                </a:lnTo>
                <a:lnTo>
                  <a:pt x="1282" y="2268"/>
                </a:lnTo>
                <a:lnTo>
                  <a:pt x="1271" y="2270"/>
                </a:lnTo>
                <a:lnTo>
                  <a:pt x="1259" y="2272"/>
                </a:lnTo>
                <a:lnTo>
                  <a:pt x="1248" y="2272"/>
                </a:lnTo>
                <a:lnTo>
                  <a:pt x="1240" y="2272"/>
                </a:lnTo>
                <a:lnTo>
                  <a:pt x="1230" y="2272"/>
                </a:lnTo>
                <a:lnTo>
                  <a:pt x="1223" y="2272"/>
                </a:lnTo>
                <a:lnTo>
                  <a:pt x="1215" y="2270"/>
                </a:lnTo>
                <a:lnTo>
                  <a:pt x="1209" y="2268"/>
                </a:lnTo>
                <a:lnTo>
                  <a:pt x="1202" y="2264"/>
                </a:lnTo>
                <a:lnTo>
                  <a:pt x="1196" y="2261"/>
                </a:lnTo>
                <a:lnTo>
                  <a:pt x="1192" y="2257"/>
                </a:lnTo>
                <a:lnTo>
                  <a:pt x="1186" y="2251"/>
                </a:lnTo>
                <a:lnTo>
                  <a:pt x="1182" y="2245"/>
                </a:lnTo>
                <a:lnTo>
                  <a:pt x="1181" y="2238"/>
                </a:lnTo>
                <a:lnTo>
                  <a:pt x="1177" y="2230"/>
                </a:lnTo>
                <a:lnTo>
                  <a:pt x="1177" y="2222"/>
                </a:lnTo>
                <a:lnTo>
                  <a:pt x="1175" y="2213"/>
                </a:lnTo>
                <a:lnTo>
                  <a:pt x="1175" y="2203"/>
                </a:lnTo>
                <a:lnTo>
                  <a:pt x="1177" y="2192"/>
                </a:lnTo>
                <a:lnTo>
                  <a:pt x="1179" y="2180"/>
                </a:lnTo>
                <a:lnTo>
                  <a:pt x="1181" y="2165"/>
                </a:lnTo>
                <a:lnTo>
                  <a:pt x="1182" y="2149"/>
                </a:lnTo>
                <a:lnTo>
                  <a:pt x="1181" y="2134"/>
                </a:lnTo>
                <a:lnTo>
                  <a:pt x="1179" y="2119"/>
                </a:lnTo>
                <a:lnTo>
                  <a:pt x="1175" y="2103"/>
                </a:lnTo>
                <a:lnTo>
                  <a:pt x="1171" y="2088"/>
                </a:lnTo>
                <a:lnTo>
                  <a:pt x="1165" y="2071"/>
                </a:lnTo>
                <a:lnTo>
                  <a:pt x="1158" y="2053"/>
                </a:lnTo>
                <a:lnTo>
                  <a:pt x="1150" y="2036"/>
                </a:lnTo>
                <a:lnTo>
                  <a:pt x="1140" y="2019"/>
                </a:lnTo>
                <a:lnTo>
                  <a:pt x="1129" y="2002"/>
                </a:lnTo>
                <a:lnTo>
                  <a:pt x="1117" y="1982"/>
                </a:lnTo>
                <a:lnTo>
                  <a:pt x="1104" y="1963"/>
                </a:lnTo>
                <a:lnTo>
                  <a:pt x="1090" y="1942"/>
                </a:lnTo>
                <a:lnTo>
                  <a:pt x="1075" y="1921"/>
                </a:lnTo>
                <a:lnTo>
                  <a:pt x="1058" y="1898"/>
                </a:lnTo>
                <a:lnTo>
                  <a:pt x="1042" y="1879"/>
                </a:lnTo>
                <a:lnTo>
                  <a:pt x="1027" y="1862"/>
                </a:lnTo>
                <a:lnTo>
                  <a:pt x="1014" y="1844"/>
                </a:lnTo>
                <a:lnTo>
                  <a:pt x="1002" y="1827"/>
                </a:lnTo>
                <a:lnTo>
                  <a:pt x="991" y="1814"/>
                </a:lnTo>
                <a:lnTo>
                  <a:pt x="981" y="1800"/>
                </a:lnTo>
                <a:lnTo>
                  <a:pt x="973" y="1787"/>
                </a:lnTo>
                <a:lnTo>
                  <a:pt x="966" y="1777"/>
                </a:lnTo>
                <a:lnTo>
                  <a:pt x="960" y="1766"/>
                </a:lnTo>
                <a:lnTo>
                  <a:pt x="956" y="1758"/>
                </a:lnTo>
                <a:lnTo>
                  <a:pt x="952" y="1748"/>
                </a:lnTo>
                <a:lnTo>
                  <a:pt x="950" y="1743"/>
                </a:lnTo>
                <a:lnTo>
                  <a:pt x="948" y="1737"/>
                </a:lnTo>
                <a:lnTo>
                  <a:pt x="948" y="1731"/>
                </a:lnTo>
                <a:lnTo>
                  <a:pt x="950" y="1727"/>
                </a:lnTo>
                <a:lnTo>
                  <a:pt x="952" y="1725"/>
                </a:lnTo>
                <a:lnTo>
                  <a:pt x="956" y="1721"/>
                </a:lnTo>
                <a:lnTo>
                  <a:pt x="960" y="1721"/>
                </a:lnTo>
                <a:lnTo>
                  <a:pt x="968" y="1721"/>
                </a:lnTo>
                <a:lnTo>
                  <a:pt x="975" y="1721"/>
                </a:lnTo>
                <a:lnTo>
                  <a:pt x="983" y="1723"/>
                </a:lnTo>
                <a:lnTo>
                  <a:pt x="992" y="1725"/>
                </a:lnTo>
                <a:lnTo>
                  <a:pt x="1004" y="1729"/>
                </a:lnTo>
                <a:lnTo>
                  <a:pt x="1017" y="1733"/>
                </a:lnTo>
                <a:lnTo>
                  <a:pt x="1029" y="1737"/>
                </a:lnTo>
                <a:lnTo>
                  <a:pt x="1044" y="1743"/>
                </a:lnTo>
                <a:lnTo>
                  <a:pt x="1060" y="1748"/>
                </a:lnTo>
                <a:lnTo>
                  <a:pt x="1075" y="1756"/>
                </a:lnTo>
                <a:lnTo>
                  <a:pt x="1092" y="1764"/>
                </a:lnTo>
                <a:lnTo>
                  <a:pt x="1111" y="1773"/>
                </a:lnTo>
                <a:lnTo>
                  <a:pt x="1129" y="1781"/>
                </a:lnTo>
                <a:lnTo>
                  <a:pt x="1150" y="1792"/>
                </a:lnTo>
                <a:lnTo>
                  <a:pt x="1169" y="1804"/>
                </a:lnTo>
                <a:lnTo>
                  <a:pt x="1186" y="1815"/>
                </a:lnTo>
                <a:lnTo>
                  <a:pt x="1204" y="1825"/>
                </a:lnTo>
                <a:lnTo>
                  <a:pt x="1221" y="1835"/>
                </a:lnTo>
                <a:lnTo>
                  <a:pt x="1236" y="1842"/>
                </a:lnTo>
                <a:lnTo>
                  <a:pt x="1250" y="1850"/>
                </a:lnTo>
                <a:lnTo>
                  <a:pt x="1265" y="1858"/>
                </a:lnTo>
                <a:lnTo>
                  <a:pt x="1277" y="1863"/>
                </a:lnTo>
                <a:lnTo>
                  <a:pt x="1290" y="1869"/>
                </a:lnTo>
                <a:lnTo>
                  <a:pt x="1301" y="1873"/>
                </a:lnTo>
                <a:lnTo>
                  <a:pt x="1313" y="1877"/>
                </a:lnTo>
                <a:lnTo>
                  <a:pt x="1323" y="1881"/>
                </a:lnTo>
                <a:lnTo>
                  <a:pt x="1334" y="1883"/>
                </a:lnTo>
                <a:lnTo>
                  <a:pt x="1344" y="1885"/>
                </a:lnTo>
                <a:lnTo>
                  <a:pt x="1351" y="1885"/>
                </a:lnTo>
                <a:lnTo>
                  <a:pt x="1361" y="18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48"/>
          <p:cNvSpPr/>
          <p:nvPr/>
        </p:nvSpPr>
        <p:spPr>
          <a:xfrm>
            <a:off x="5589720" y="3457440"/>
            <a:ext cx="1406520" cy="1500480"/>
          </a:xfrm>
          <a:custGeom>
            <a:avLst/>
            <a:gdLst/>
            <a:ahLst/>
            <a:rect l="l" t="t" r="r" b="b"/>
            <a:pathLst>
              <a:path w="1772" h="1890">
                <a:moveTo>
                  <a:pt x="426" y="1697"/>
                </a:moveTo>
                <a:lnTo>
                  <a:pt x="400" y="1710"/>
                </a:lnTo>
                <a:lnTo>
                  <a:pt x="377" y="1723"/>
                </a:lnTo>
                <a:lnTo>
                  <a:pt x="353" y="1737"/>
                </a:lnTo>
                <a:lnTo>
                  <a:pt x="330" y="1748"/>
                </a:lnTo>
                <a:lnTo>
                  <a:pt x="307" y="1760"/>
                </a:lnTo>
                <a:lnTo>
                  <a:pt x="286" y="1771"/>
                </a:lnTo>
                <a:lnTo>
                  <a:pt x="267" y="1783"/>
                </a:lnTo>
                <a:lnTo>
                  <a:pt x="248" y="1792"/>
                </a:lnTo>
                <a:lnTo>
                  <a:pt x="229" y="1802"/>
                </a:lnTo>
                <a:lnTo>
                  <a:pt x="210" y="1812"/>
                </a:lnTo>
                <a:lnTo>
                  <a:pt x="192" y="1821"/>
                </a:lnTo>
                <a:lnTo>
                  <a:pt x="177" y="1829"/>
                </a:lnTo>
                <a:lnTo>
                  <a:pt x="160" y="1837"/>
                </a:lnTo>
                <a:lnTo>
                  <a:pt x="146" y="1844"/>
                </a:lnTo>
                <a:lnTo>
                  <a:pt x="131" y="1850"/>
                </a:lnTo>
                <a:lnTo>
                  <a:pt x="117" y="1856"/>
                </a:lnTo>
                <a:lnTo>
                  <a:pt x="104" y="1862"/>
                </a:lnTo>
                <a:lnTo>
                  <a:pt x="92" y="1867"/>
                </a:lnTo>
                <a:lnTo>
                  <a:pt x="81" y="1871"/>
                </a:lnTo>
                <a:lnTo>
                  <a:pt x="71" y="1877"/>
                </a:lnTo>
                <a:lnTo>
                  <a:pt x="62" y="1879"/>
                </a:lnTo>
                <a:lnTo>
                  <a:pt x="52" y="1883"/>
                </a:lnTo>
                <a:lnTo>
                  <a:pt x="44" y="1885"/>
                </a:lnTo>
                <a:lnTo>
                  <a:pt x="37" y="1887"/>
                </a:lnTo>
                <a:lnTo>
                  <a:pt x="29" y="1888"/>
                </a:lnTo>
                <a:lnTo>
                  <a:pt x="23" y="1890"/>
                </a:lnTo>
                <a:lnTo>
                  <a:pt x="18" y="1890"/>
                </a:lnTo>
                <a:lnTo>
                  <a:pt x="14" y="1890"/>
                </a:lnTo>
                <a:lnTo>
                  <a:pt x="10" y="1888"/>
                </a:lnTo>
                <a:lnTo>
                  <a:pt x="6" y="1888"/>
                </a:lnTo>
                <a:lnTo>
                  <a:pt x="4" y="1887"/>
                </a:lnTo>
                <a:lnTo>
                  <a:pt x="2" y="1885"/>
                </a:lnTo>
                <a:lnTo>
                  <a:pt x="0" y="1879"/>
                </a:lnTo>
                <a:lnTo>
                  <a:pt x="0" y="1873"/>
                </a:lnTo>
                <a:lnTo>
                  <a:pt x="2" y="1865"/>
                </a:lnTo>
                <a:lnTo>
                  <a:pt x="6" y="1860"/>
                </a:lnTo>
                <a:lnTo>
                  <a:pt x="10" y="1852"/>
                </a:lnTo>
                <a:lnTo>
                  <a:pt x="18" y="1842"/>
                </a:lnTo>
                <a:lnTo>
                  <a:pt x="27" y="1833"/>
                </a:lnTo>
                <a:lnTo>
                  <a:pt x="33" y="1829"/>
                </a:lnTo>
                <a:lnTo>
                  <a:pt x="39" y="1823"/>
                </a:lnTo>
                <a:lnTo>
                  <a:pt x="44" y="1817"/>
                </a:lnTo>
                <a:lnTo>
                  <a:pt x="52" y="1812"/>
                </a:lnTo>
                <a:lnTo>
                  <a:pt x="58" y="1806"/>
                </a:lnTo>
                <a:lnTo>
                  <a:pt x="66" y="1800"/>
                </a:lnTo>
                <a:lnTo>
                  <a:pt x="75" y="1794"/>
                </a:lnTo>
                <a:lnTo>
                  <a:pt x="83" y="1787"/>
                </a:lnTo>
                <a:lnTo>
                  <a:pt x="92" y="1781"/>
                </a:lnTo>
                <a:lnTo>
                  <a:pt x="102" y="1773"/>
                </a:lnTo>
                <a:lnTo>
                  <a:pt x="112" y="1768"/>
                </a:lnTo>
                <a:lnTo>
                  <a:pt x="123" y="1760"/>
                </a:lnTo>
                <a:lnTo>
                  <a:pt x="135" y="1752"/>
                </a:lnTo>
                <a:lnTo>
                  <a:pt x="146" y="1745"/>
                </a:lnTo>
                <a:lnTo>
                  <a:pt x="158" y="1737"/>
                </a:lnTo>
                <a:lnTo>
                  <a:pt x="171" y="1727"/>
                </a:lnTo>
                <a:lnTo>
                  <a:pt x="185" y="1720"/>
                </a:lnTo>
                <a:lnTo>
                  <a:pt x="198" y="1710"/>
                </a:lnTo>
                <a:lnTo>
                  <a:pt x="225" y="1695"/>
                </a:lnTo>
                <a:lnTo>
                  <a:pt x="250" y="1677"/>
                </a:lnTo>
                <a:lnTo>
                  <a:pt x="279" y="1660"/>
                </a:lnTo>
                <a:lnTo>
                  <a:pt x="306" y="1643"/>
                </a:lnTo>
                <a:lnTo>
                  <a:pt x="334" y="1624"/>
                </a:lnTo>
                <a:lnTo>
                  <a:pt x="363" y="1604"/>
                </a:lnTo>
                <a:lnTo>
                  <a:pt x="392" y="1583"/>
                </a:lnTo>
                <a:lnTo>
                  <a:pt x="423" y="1562"/>
                </a:lnTo>
                <a:lnTo>
                  <a:pt x="451" y="1539"/>
                </a:lnTo>
                <a:lnTo>
                  <a:pt x="482" y="1516"/>
                </a:lnTo>
                <a:lnTo>
                  <a:pt x="513" y="1493"/>
                </a:lnTo>
                <a:lnTo>
                  <a:pt x="544" y="1468"/>
                </a:lnTo>
                <a:lnTo>
                  <a:pt x="574" y="1443"/>
                </a:lnTo>
                <a:lnTo>
                  <a:pt x="605" y="1416"/>
                </a:lnTo>
                <a:lnTo>
                  <a:pt x="636" y="1390"/>
                </a:lnTo>
                <a:lnTo>
                  <a:pt x="668" y="1363"/>
                </a:lnTo>
                <a:lnTo>
                  <a:pt x="699" y="1334"/>
                </a:lnTo>
                <a:lnTo>
                  <a:pt x="730" y="1305"/>
                </a:lnTo>
                <a:lnTo>
                  <a:pt x="760" y="1276"/>
                </a:lnTo>
                <a:lnTo>
                  <a:pt x="791" y="1248"/>
                </a:lnTo>
                <a:lnTo>
                  <a:pt x="824" y="1217"/>
                </a:lnTo>
                <a:lnTo>
                  <a:pt x="854" y="1186"/>
                </a:lnTo>
                <a:lnTo>
                  <a:pt x="885" y="1154"/>
                </a:lnTo>
                <a:lnTo>
                  <a:pt x="918" y="1123"/>
                </a:lnTo>
                <a:lnTo>
                  <a:pt x="948" y="1090"/>
                </a:lnTo>
                <a:lnTo>
                  <a:pt x="979" y="1056"/>
                </a:lnTo>
                <a:lnTo>
                  <a:pt x="1012" y="1021"/>
                </a:lnTo>
                <a:lnTo>
                  <a:pt x="1043" y="987"/>
                </a:lnTo>
                <a:lnTo>
                  <a:pt x="1073" y="952"/>
                </a:lnTo>
                <a:lnTo>
                  <a:pt x="1104" y="916"/>
                </a:lnTo>
                <a:lnTo>
                  <a:pt x="1137" y="879"/>
                </a:lnTo>
                <a:lnTo>
                  <a:pt x="1167" y="841"/>
                </a:lnTo>
                <a:lnTo>
                  <a:pt x="1198" y="802"/>
                </a:lnTo>
                <a:lnTo>
                  <a:pt x="1227" y="762"/>
                </a:lnTo>
                <a:lnTo>
                  <a:pt x="1256" y="720"/>
                </a:lnTo>
                <a:lnTo>
                  <a:pt x="1282" y="676"/>
                </a:lnTo>
                <a:lnTo>
                  <a:pt x="1309" y="630"/>
                </a:lnTo>
                <a:lnTo>
                  <a:pt x="1336" y="582"/>
                </a:lnTo>
                <a:lnTo>
                  <a:pt x="1361" y="532"/>
                </a:lnTo>
                <a:lnTo>
                  <a:pt x="1386" y="480"/>
                </a:lnTo>
                <a:lnTo>
                  <a:pt x="1409" y="426"/>
                </a:lnTo>
                <a:lnTo>
                  <a:pt x="1434" y="371"/>
                </a:lnTo>
                <a:lnTo>
                  <a:pt x="1455" y="313"/>
                </a:lnTo>
                <a:lnTo>
                  <a:pt x="1478" y="256"/>
                </a:lnTo>
                <a:lnTo>
                  <a:pt x="1499" y="194"/>
                </a:lnTo>
                <a:lnTo>
                  <a:pt x="1520" y="131"/>
                </a:lnTo>
                <a:lnTo>
                  <a:pt x="1530" y="98"/>
                </a:lnTo>
                <a:lnTo>
                  <a:pt x="1540" y="66"/>
                </a:lnTo>
                <a:lnTo>
                  <a:pt x="1549" y="33"/>
                </a:lnTo>
                <a:lnTo>
                  <a:pt x="1561" y="0"/>
                </a:lnTo>
                <a:lnTo>
                  <a:pt x="1584" y="22"/>
                </a:lnTo>
                <a:lnTo>
                  <a:pt x="1607" y="43"/>
                </a:lnTo>
                <a:lnTo>
                  <a:pt x="1630" y="64"/>
                </a:lnTo>
                <a:lnTo>
                  <a:pt x="1649" y="83"/>
                </a:lnTo>
                <a:lnTo>
                  <a:pt x="1668" y="100"/>
                </a:lnTo>
                <a:lnTo>
                  <a:pt x="1686" y="117"/>
                </a:lnTo>
                <a:lnTo>
                  <a:pt x="1703" y="135"/>
                </a:lnTo>
                <a:lnTo>
                  <a:pt x="1716" y="150"/>
                </a:lnTo>
                <a:lnTo>
                  <a:pt x="1730" y="165"/>
                </a:lnTo>
                <a:lnTo>
                  <a:pt x="1739" y="179"/>
                </a:lnTo>
                <a:lnTo>
                  <a:pt x="1749" y="190"/>
                </a:lnTo>
                <a:lnTo>
                  <a:pt x="1757" y="202"/>
                </a:lnTo>
                <a:lnTo>
                  <a:pt x="1764" y="213"/>
                </a:lnTo>
                <a:lnTo>
                  <a:pt x="1768" y="223"/>
                </a:lnTo>
                <a:lnTo>
                  <a:pt x="1770" y="233"/>
                </a:lnTo>
                <a:lnTo>
                  <a:pt x="1772" y="240"/>
                </a:lnTo>
                <a:lnTo>
                  <a:pt x="1770" y="248"/>
                </a:lnTo>
                <a:lnTo>
                  <a:pt x="1770" y="259"/>
                </a:lnTo>
                <a:lnTo>
                  <a:pt x="1766" y="271"/>
                </a:lnTo>
                <a:lnTo>
                  <a:pt x="1762" y="284"/>
                </a:lnTo>
                <a:lnTo>
                  <a:pt x="1757" y="300"/>
                </a:lnTo>
                <a:lnTo>
                  <a:pt x="1751" y="317"/>
                </a:lnTo>
                <a:lnTo>
                  <a:pt x="1743" y="336"/>
                </a:lnTo>
                <a:lnTo>
                  <a:pt x="1735" y="357"/>
                </a:lnTo>
                <a:lnTo>
                  <a:pt x="1726" y="378"/>
                </a:lnTo>
                <a:lnTo>
                  <a:pt x="1714" y="401"/>
                </a:lnTo>
                <a:lnTo>
                  <a:pt x="1701" y="428"/>
                </a:lnTo>
                <a:lnTo>
                  <a:pt x="1687" y="453"/>
                </a:lnTo>
                <a:lnTo>
                  <a:pt x="1674" y="482"/>
                </a:lnTo>
                <a:lnTo>
                  <a:pt x="1657" y="511"/>
                </a:lnTo>
                <a:lnTo>
                  <a:pt x="1639" y="541"/>
                </a:lnTo>
                <a:lnTo>
                  <a:pt x="1620" y="574"/>
                </a:lnTo>
                <a:lnTo>
                  <a:pt x="1601" y="607"/>
                </a:lnTo>
                <a:lnTo>
                  <a:pt x="1578" y="641"/>
                </a:lnTo>
                <a:lnTo>
                  <a:pt x="1557" y="674"/>
                </a:lnTo>
                <a:lnTo>
                  <a:pt x="1532" y="708"/>
                </a:lnTo>
                <a:lnTo>
                  <a:pt x="1509" y="745"/>
                </a:lnTo>
                <a:lnTo>
                  <a:pt x="1482" y="779"/>
                </a:lnTo>
                <a:lnTo>
                  <a:pt x="1455" y="816"/>
                </a:lnTo>
                <a:lnTo>
                  <a:pt x="1428" y="850"/>
                </a:lnTo>
                <a:lnTo>
                  <a:pt x="1398" y="887"/>
                </a:lnTo>
                <a:lnTo>
                  <a:pt x="1369" y="923"/>
                </a:lnTo>
                <a:lnTo>
                  <a:pt x="1338" y="962"/>
                </a:lnTo>
                <a:lnTo>
                  <a:pt x="1305" y="998"/>
                </a:lnTo>
                <a:lnTo>
                  <a:pt x="1273" y="1037"/>
                </a:lnTo>
                <a:lnTo>
                  <a:pt x="1238" y="1073"/>
                </a:lnTo>
                <a:lnTo>
                  <a:pt x="1204" y="1111"/>
                </a:lnTo>
                <a:lnTo>
                  <a:pt x="1167" y="1150"/>
                </a:lnTo>
                <a:lnTo>
                  <a:pt x="1127" y="1188"/>
                </a:lnTo>
                <a:lnTo>
                  <a:pt x="1087" y="1228"/>
                </a:lnTo>
                <a:lnTo>
                  <a:pt x="1044" y="1267"/>
                </a:lnTo>
                <a:lnTo>
                  <a:pt x="1002" y="1305"/>
                </a:lnTo>
                <a:lnTo>
                  <a:pt x="960" y="1342"/>
                </a:lnTo>
                <a:lnTo>
                  <a:pt x="916" y="1378"/>
                </a:lnTo>
                <a:lnTo>
                  <a:pt x="870" y="1413"/>
                </a:lnTo>
                <a:lnTo>
                  <a:pt x="826" y="1447"/>
                </a:lnTo>
                <a:lnTo>
                  <a:pt x="778" y="1482"/>
                </a:lnTo>
                <a:lnTo>
                  <a:pt x="730" y="1514"/>
                </a:lnTo>
                <a:lnTo>
                  <a:pt x="682" y="1547"/>
                </a:lnTo>
                <a:lnTo>
                  <a:pt x="632" y="1580"/>
                </a:lnTo>
                <a:lnTo>
                  <a:pt x="582" y="1610"/>
                </a:lnTo>
                <a:lnTo>
                  <a:pt x="530" y="1639"/>
                </a:lnTo>
                <a:lnTo>
                  <a:pt x="478" y="1668"/>
                </a:lnTo>
                <a:lnTo>
                  <a:pt x="426" y="16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49"/>
          <p:cNvSpPr/>
          <p:nvPr/>
        </p:nvSpPr>
        <p:spPr>
          <a:xfrm>
            <a:off x="5457960" y="2779560"/>
            <a:ext cx="1014120" cy="1081080"/>
          </a:xfrm>
          <a:custGeom>
            <a:avLst/>
            <a:gdLst/>
            <a:ahLst/>
            <a:rect l="l" t="t" r="r" b="b"/>
            <a:pathLst>
              <a:path w="1279" h="1362">
                <a:moveTo>
                  <a:pt x="1273" y="211"/>
                </a:moveTo>
                <a:lnTo>
                  <a:pt x="1273" y="226"/>
                </a:lnTo>
                <a:lnTo>
                  <a:pt x="1271" y="239"/>
                </a:lnTo>
                <a:lnTo>
                  <a:pt x="1267" y="251"/>
                </a:lnTo>
                <a:lnTo>
                  <a:pt x="1261" y="264"/>
                </a:lnTo>
                <a:lnTo>
                  <a:pt x="1256" y="276"/>
                </a:lnTo>
                <a:lnTo>
                  <a:pt x="1248" y="289"/>
                </a:lnTo>
                <a:lnTo>
                  <a:pt x="1238" y="303"/>
                </a:lnTo>
                <a:lnTo>
                  <a:pt x="1229" y="318"/>
                </a:lnTo>
                <a:lnTo>
                  <a:pt x="1219" y="326"/>
                </a:lnTo>
                <a:lnTo>
                  <a:pt x="1210" y="337"/>
                </a:lnTo>
                <a:lnTo>
                  <a:pt x="1198" y="349"/>
                </a:lnTo>
                <a:lnTo>
                  <a:pt x="1185" y="362"/>
                </a:lnTo>
                <a:lnTo>
                  <a:pt x="1171" y="378"/>
                </a:lnTo>
                <a:lnTo>
                  <a:pt x="1156" y="395"/>
                </a:lnTo>
                <a:lnTo>
                  <a:pt x="1139" y="416"/>
                </a:lnTo>
                <a:lnTo>
                  <a:pt x="1121" y="435"/>
                </a:lnTo>
                <a:lnTo>
                  <a:pt x="1102" y="458"/>
                </a:lnTo>
                <a:lnTo>
                  <a:pt x="1081" y="483"/>
                </a:lnTo>
                <a:lnTo>
                  <a:pt x="1060" y="510"/>
                </a:lnTo>
                <a:lnTo>
                  <a:pt x="1035" y="537"/>
                </a:lnTo>
                <a:lnTo>
                  <a:pt x="1010" y="568"/>
                </a:lnTo>
                <a:lnTo>
                  <a:pt x="983" y="598"/>
                </a:lnTo>
                <a:lnTo>
                  <a:pt x="954" y="631"/>
                </a:lnTo>
                <a:lnTo>
                  <a:pt x="925" y="665"/>
                </a:lnTo>
                <a:lnTo>
                  <a:pt x="895" y="700"/>
                </a:lnTo>
                <a:lnTo>
                  <a:pt x="862" y="734"/>
                </a:lnTo>
                <a:lnTo>
                  <a:pt x="830" y="769"/>
                </a:lnTo>
                <a:lnTo>
                  <a:pt x="795" y="802"/>
                </a:lnTo>
                <a:lnTo>
                  <a:pt x="762" y="834"/>
                </a:lnTo>
                <a:lnTo>
                  <a:pt x="726" y="865"/>
                </a:lnTo>
                <a:lnTo>
                  <a:pt x="691" y="898"/>
                </a:lnTo>
                <a:lnTo>
                  <a:pt x="655" y="928"/>
                </a:lnTo>
                <a:lnTo>
                  <a:pt x="618" y="957"/>
                </a:lnTo>
                <a:lnTo>
                  <a:pt x="582" y="988"/>
                </a:lnTo>
                <a:lnTo>
                  <a:pt x="505" y="1047"/>
                </a:lnTo>
                <a:lnTo>
                  <a:pt x="428" y="1103"/>
                </a:lnTo>
                <a:lnTo>
                  <a:pt x="352" y="1160"/>
                </a:lnTo>
                <a:lnTo>
                  <a:pt x="330" y="1174"/>
                </a:lnTo>
                <a:lnTo>
                  <a:pt x="311" y="1187"/>
                </a:lnTo>
                <a:lnTo>
                  <a:pt x="294" y="1199"/>
                </a:lnTo>
                <a:lnTo>
                  <a:pt x="277" y="1212"/>
                </a:lnTo>
                <a:lnTo>
                  <a:pt x="258" y="1224"/>
                </a:lnTo>
                <a:lnTo>
                  <a:pt x="242" y="1235"/>
                </a:lnTo>
                <a:lnTo>
                  <a:pt x="225" y="1245"/>
                </a:lnTo>
                <a:lnTo>
                  <a:pt x="210" y="1256"/>
                </a:lnTo>
                <a:lnTo>
                  <a:pt x="194" y="1266"/>
                </a:lnTo>
                <a:lnTo>
                  <a:pt x="179" y="1276"/>
                </a:lnTo>
                <a:lnTo>
                  <a:pt x="165" y="1283"/>
                </a:lnTo>
                <a:lnTo>
                  <a:pt x="152" y="1293"/>
                </a:lnTo>
                <a:lnTo>
                  <a:pt x="139" y="1300"/>
                </a:lnTo>
                <a:lnTo>
                  <a:pt x="127" y="1308"/>
                </a:lnTo>
                <a:lnTo>
                  <a:pt x="116" y="1314"/>
                </a:lnTo>
                <a:lnTo>
                  <a:pt x="104" y="1322"/>
                </a:lnTo>
                <a:lnTo>
                  <a:pt x="92" y="1327"/>
                </a:lnTo>
                <a:lnTo>
                  <a:pt x="83" y="1333"/>
                </a:lnTo>
                <a:lnTo>
                  <a:pt x="73" y="1337"/>
                </a:lnTo>
                <a:lnTo>
                  <a:pt x="64" y="1343"/>
                </a:lnTo>
                <a:lnTo>
                  <a:pt x="56" y="1347"/>
                </a:lnTo>
                <a:lnTo>
                  <a:pt x="48" y="1350"/>
                </a:lnTo>
                <a:lnTo>
                  <a:pt x="41" y="1352"/>
                </a:lnTo>
                <a:lnTo>
                  <a:pt x="33" y="1356"/>
                </a:lnTo>
                <a:lnTo>
                  <a:pt x="27" y="1358"/>
                </a:lnTo>
                <a:lnTo>
                  <a:pt x="21" y="1360"/>
                </a:lnTo>
                <a:lnTo>
                  <a:pt x="18" y="1362"/>
                </a:lnTo>
                <a:lnTo>
                  <a:pt x="14" y="1362"/>
                </a:lnTo>
                <a:lnTo>
                  <a:pt x="10" y="1362"/>
                </a:lnTo>
                <a:lnTo>
                  <a:pt x="6" y="1362"/>
                </a:lnTo>
                <a:lnTo>
                  <a:pt x="4" y="1362"/>
                </a:lnTo>
                <a:lnTo>
                  <a:pt x="2" y="1360"/>
                </a:lnTo>
                <a:lnTo>
                  <a:pt x="0" y="1358"/>
                </a:lnTo>
                <a:lnTo>
                  <a:pt x="0" y="1352"/>
                </a:lnTo>
                <a:lnTo>
                  <a:pt x="2" y="1347"/>
                </a:lnTo>
                <a:lnTo>
                  <a:pt x="6" y="1339"/>
                </a:lnTo>
                <a:lnTo>
                  <a:pt x="12" y="1329"/>
                </a:lnTo>
                <a:lnTo>
                  <a:pt x="18" y="1318"/>
                </a:lnTo>
                <a:lnTo>
                  <a:pt x="27" y="1306"/>
                </a:lnTo>
                <a:lnTo>
                  <a:pt x="33" y="1299"/>
                </a:lnTo>
                <a:lnTo>
                  <a:pt x="39" y="1293"/>
                </a:lnTo>
                <a:lnTo>
                  <a:pt x="44" y="1285"/>
                </a:lnTo>
                <a:lnTo>
                  <a:pt x="52" y="1277"/>
                </a:lnTo>
                <a:lnTo>
                  <a:pt x="60" y="1270"/>
                </a:lnTo>
                <a:lnTo>
                  <a:pt x="68" y="1260"/>
                </a:lnTo>
                <a:lnTo>
                  <a:pt x="75" y="1253"/>
                </a:lnTo>
                <a:lnTo>
                  <a:pt x="85" y="1243"/>
                </a:lnTo>
                <a:lnTo>
                  <a:pt x="92" y="1233"/>
                </a:lnTo>
                <a:lnTo>
                  <a:pt x="104" y="1224"/>
                </a:lnTo>
                <a:lnTo>
                  <a:pt x="114" y="1214"/>
                </a:lnTo>
                <a:lnTo>
                  <a:pt x="123" y="1203"/>
                </a:lnTo>
                <a:lnTo>
                  <a:pt x="135" y="1193"/>
                </a:lnTo>
                <a:lnTo>
                  <a:pt x="146" y="1182"/>
                </a:lnTo>
                <a:lnTo>
                  <a:pt x="160" y="1170"/>
                </a:lnTo>
                <a:lnTo>
                  <a:pt x="171" y="1158"/>
                </a:lnTo>
                <a:lnTo>
                  <a:pt x="185" y="1145"/>
                </a:lnTo>
                <a:lnTo>
                  <a:pt x="200" y="1134"/>
                </a:lnTo>
                <a:lnTo>
                  <a:pt x="227" y="1111"/>
                </a:lnTo>
                <a:lnTo>
                  <a:pt x="256" y="1086"/>
                </a:lnTo>
                <a:lnTo>
                  <a:pt x="282" y="1063"/>
                </a:lnTo>
                <a:lnTo>
                  <a:pt x="309" y="1038"/>
                </a:lnTo>
                <a:lnTo>
                  <a:pt x="336" y="1013"/>
                </a:lnTo>
                <a:lnTo>
                  <a:pt x="363" y="986"/>
                </a:lnTo>
                <a:lnTo>
                  <a:pt x="390" y="959"/>
                </a:lnTo>
                <a:lnTo>
                  <a:pt x="417" y="932"/>
                </a:lnTo>
                <a:lnTo>
                  <a:pt x="444" y="905"/>
                </a:lnTo>
                <a:lnTo>
                  <a:pt x="469" y="876"/>
                </a:lnTo>
                <a:lnTo>
                  <a:pt x="496" y="848"/>
                </a:lnTo>
                <a:lnTo>
                  <a:pt x="520" y="817"/>
                </a:lnTo>
                <a:lnTo>
                  <a:pt x="547" y="786"/>
                </a:lnTo>
                <a:lnTo>
                  <a:pt x="572" y="756"/>
                </a:lnTo>
                <a:lnTo>
                  <a:pt x="597" y="725"/>
                </a:lnTo>
                <a:lnTo>
                  <a:pt x="622" y="692"/>
                </a:lnTo>
                <a:lnTo>
                  <a:pt x="647" y="662"/>
                </a:lnTo>
                <a:lnTo>
                  <a:pt x="672" y="633"/>
                </a:lnTo>
                <a:lnTo>
                  <a:pt x="693" y="604"/>
                </a:lnTo>
                <a:lnTo>
                  <a:pt x="716" y="575"/>
                </a:lnTo>
                <a:lnTo>
                  <a:pt x="737" y="548"/>
                </a:lnTo>
                <a:lnTo>
                  <a:pt x="757" y="521"/>
                </a:lnTo>
                <a:lnTo>
                  <a:pt x="776" y="495"/>
                </a:lnTo>
                <a:lnTo>
                  <a:pt x="795" y="470"/>
                </a:lnTo>
                <a:lnTo>
                  <a:pt x="812" y="445"/>
                </a:lnTo>
                <a:lnTo>
                  <a:pt x="828" y="420"/>
                </a:lnTo>
                <a:lnTo>
                  <a:pt x="845" y="395"/>
                </a:lnTo>
                <a:lnTo>
                  <a:pt x="858" y="370"/>
                </a:lnTo>
                <a:lnTo>
                  <a:pt x="874" y="347"/>
                </a:lnTo>
                <a:lnTo>
                  <a:pt x="887" y="324"/>
                </a:lnTo>
                <a:lnTo>
                  <a:pt x="899" y="301"/>
                </a:lnTo>
                <a:lnTo>
                  <a:pt x="910" y="278"/>
                </a:lnTo>
                <a:lnTo>
                  <a:pt x="918" y="259"/>
                </a:lnTo>
                <a:lnTo>
                  <a:pt x="925" y="239"/>
                </a:lnTo>
                <a:lnTo>
                  <a:pt x="931" y="222"/>
                </a:lnTo>
                <a:lnTo>
                  <a:pt x="937" y="205"/>
                </a:lnTo>
                <a:lnTo>
                  <a:pt x="943" y="190"/>
                </a:lnTo>
                <a:lnTo>
                  <a:pt x="947" y="174"/>
                </a:lnTo>
                <a:lnTo>
                  <a:pt x="950" y="161"/>
                </a:lnTo>
                <a:lnTo>
                  <a:pt x="952" y="147"/>
                </a:lnTo>
                <a:lnTo>
                  <a:pt x="954" y="136"/>
                </a:lnTo>
                <a:lnTo>
                  <a:pt x="956" y="124"/>
                </a:lnTo>
                <a:lnTo>
                  <a:pt x="956" y="115"/>
                </a:lnTo>
                <a:lnTo>
                  <a:pt x="954" y="105"/>
                </a:lnTo>
                <a:lnTo>
                  <a:pt x="952" y="97"/>
                </a:lnTo>
                <a:lnTo>
                  <a:pt x="949" y="90"/>
                </a:lnTo>
                <a:lnTo>
                  <a:pt x="945" y="82"/>
                </a:lnTo>
                <a:lnTo>
                  <a:pt x="941" y="78"/>
                </a:lnTo>
                <a:lnTo>
                  <a:pt x="935" y="74"/>
                </a:lnTo>
                <a:lnTo>
                  <a:pt x="931" y="73"/>
                </a:lnTo>
                <a:lnTo>
                  <a:pt x="927" y="69"/>
                </a:lnTo>
                <a:lnTo>
                  <a:pt x="924" y="65"/>
                </a:lnTo>
                <a:lnTo>
                  <a:pt x="920" y="61"/>
                </a:lnTo>
                <a:lnTo>
                  <a:pt x="918" y="57"/>
                </a:lnTo>
                <a:lnTo>
                  <a:pt x="916" y="53"/>
                </a:lnTo>
                <a:lnTo>
                  <a:pt x="916" y="49"/>
                </a:lnTo>
                <a:lnTo>
                  <a:pt x="916" y="44"/>
                </a:lnTo>
                <a:lnTo>
                  <a:pt x="916" y="40"/>
                </a:lnTo>
                <a:lnTo>
                  <a:pt x="916" y="34"/>
                </a:lnTo>
                <a:lnTo>
                  <a:pt x="918" y="30"/>
                </a:lnTo>
                <a:lnTo>
                  <a:pt x="920" y="21"/>
                </a:lnTo>
                <a:lnTo>
                  <a:pt x="925" y="11"/>
                </a:lnTo>
                <a:lnTo>
                  <a:pt x="927" y="7"/>
                </a:lnTo>
                <a:lnTo>
                  <a:pt x="933" y="5"/>
                </a:lnTo>
                <a:lnTo>
                  <a:pt x="937" y="3"/>
                </a:lnTo>
                <a:lnTo>
                  <a:pt x="943" y="3"/>
                </a:lnTo>
                <a:lnTo>
                  <a:pt x="949" y="2"/>
                </a:lnTo>
                <a:lnTo>
                  <a:pt x="954" y="2"/>
                </a:lnTo>
                <a:lnTo>
                  <a:pt x="962" y="0"/>
                </a:lnTo>
                <a:lnTo>
                  <a:pt x="972" y="0"/>
                </a:lnTo>
                <a:lnTo>
                  <a:pt x="979" y="0"/>
                </a:lnTo>
                <a:lnTo>
                  <a:pt x="989" y="2"/>
                </a:lnTo>
                <a:lnTo>
                  <a:pt x="1000" y="2"/>
                </a:lnTo>
                <a:lnTo>
                  <a:pt x="1010" y="3"/>
                </a:lnTo>
                <a:lnTo>
                  <a:pt x="1021" y="3"/>
                </a:lnTo>
                <a:lnTo>
                  <a:pt x="1035" y="5"/>
                </a:lnTo>
                <a:lnTo>
                  <a:pt x="1048" y="7"/>
                </a:lnTo>
                <a:lnTo>
                  <a:pt x="1062" y="11"/>
                </a:lnTo>
                <a:lnTo>
                  <a:pt x="1075" y="15"/>
                </a:lnTo>
                <a:lnTo>
                  <a:pt x="1089" y="21"/>
                </a:lnTo>
                <a:lnTo>
                  <a:pt x="1100" y="25"/>
                </a:lnTo>
                <a:lnTo>
                  <a:pt x="1114" y="30"/>
                </a:lnTo>
                <a:lnTo>
                  <a:pt x="1125" y="36"/>
                </a:lnTo>
                <a:lnTo>
                  <a:pt x="1135" y="40"/>
                </a:lnTo>
                <a:lnTo>
                  <a:pt x="1156" y="49"/>
                </a:lnTo>
                <a:lnTo>
                  <a:pt x="1175" y="61"/>
                </a:lnTo>
                <a:lnTo>
                  <a:pt x="1194" y="71"/>
                </a:lnTo>
                <a:lnTo>
                  <a:pt x="1211" y="80"/>
                </a:lnTo>
                <a:lnTo>
                  <a:pt x="1229" y="90"/>
                </a:lnTo>
                <a:lnTo>
                  <a:pt x="1236" y="97"/>
                </a:lnTo>
                <a:lnTo>
                  <a:pt x="1244" y="105"/>
                </a:lnTo>
                <a:lnTo>
                  <a:pt x="1250" y="113"/>
                </a:lnTo>
                <a:lnTo>
                  <a:pt x="1256" y="120"/>
                </a:lnTo>
                <a:lnTo>
                  <a:pt x="1261" y="128"/>
                </a:lnTo>
                <a:lnTo>
                  <a:pt x="1265" y="136"/>
                </a:lnTo>
                <a:lnTo>
                  <a:pt x="1269" y="143"/>
                </a:lnTo>
                <a:lnTo>
                  <a:pt x="1273" y="151"/>
                </a:lnTo>
                <a:lnTo>
                  <a:pt x="1275" y="159"/>
                </a:lnTo>
                <a:lnTo>
                  <a:pt x="1277" y="167"/>
                </a:lnTo>
                <a:lnTo>
                  <a:pt x="1279" y="172"/>
                </a:lnTo>
                <a:lnTo>
                  <a:pt x="1279" y="180"/>
                </a:lnTo>
                <a:lnTo>
                  <a:pt x="1279" y="188"/>
                </a:lnTo>
                <a:lnTo>
                  <a:pt x="1277" y="195"/>
                </a:lnTo>
                <a:lnTo>
                  <a:pt x="1275" y="203"/>
                </a:lnTo>
                <a:lnTo>
                  <a:pt x="1273" y="2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0"/>
          <p:cNvSpPr/>
          <p:nvPr/>
        </p:nvSpPr>
        <p:spPr>
          <a:xfrm>
            <a:off x="5421240" y="3551400"/>
            <a:ext cx="961920" cy="857160"/>
          </a:xfrm>
          <a:custGeom>
            <a:avLst/>
            <a:gdLst/>
            <a:ahLst/>
            <a:rect l="l" t="t" r="r" b="b"/>
            <a:pathLst>
              <a:path w="1213" h="1081">
                <a:moveTo>
                  <a:pt x="442" y="749"/>
                </a:moveTo>
                <a:lnTo>
                  <a:pt x="471" y="726"/>
                </a:lnTo>
                <a:lnTo>
                  <a:pt x="497" y="703"/>
                </a:lnTo>
                <a:lnTo>
                  <a:pt x="524" y="680"/>
                </a:lnTo>
                <a:lnTo>
                  <a:pt x="549" y="657"/>
                </a:lnTo>
                <a:lnTo>
                  <a:pt x="574" y="632"/>
                </a:lnTo>
                <a:lnTo>
                  <a:pt x="599" y="609"/>
                </a:lnTo>
                <a:lnTo>
                  <a:pt x="624" y="584"/>
                </a:lnTo>
                <a:lnTo>
                  <a:pt x="647" y="559"/>
                </a:lnTo>
                <a:lnTo>
                  <a:pt x="672" y="534"/>
                </a:lnTo>
                <a:lnTo>
                  <a:pt x="693" y="509"/>
                </a:lnTo>
                <a:lnTo>
                  <a:pt x="716" y="482"/>
                </a:lnTo>
                <a:lnTo>
                  <a:pt x="737" y="457"/>
                </a:lnTo>
                <a:lnTo>
                  <a:pt x="758" y="430"/>
                </a:lnTo>
                <a:lnTo>
                  <a:pt x="780" y="403"/>
                </a:lnTo>
                <a:lnTo>
                  <a:pt x="820" y="348"/>
                </a:lnTo>
                <a:lnTo>
                  <a:pt x="839" y="323"/>
                </a:lnTo>
                <a:lnTo>
                  <a:pt x="856" y="298"/>
                </a:lnTo>
                <a:lnTo>
                  <a:pt x="872" y="275"/>
                </a:lnTo>
                <a:lnTo>
                  <a:pt x="885" y="250"/>
                </a:lnTo>
                <a:lnTo>
                  <a:pt x="897" y="227"/>
                </a:lnTo>
                <a:lnTo>
                  <a:pt x="908" y="204"/>
                </a:lnTo>
                <a:lnTo>
                  <a:pt x="918" y="181"/>
                </a:lnTo>
                <a:lnTo>
                  <a:pt x="925" y="160"/>
                </a:lnTo>
                <a:lnTo>
                  <a:pt x="931" y="137"/>
                </a:lnTo>
                <a:lnTo>
                  <a:pt x="937" y="116"/>
                </a:lnTo>
                <a:lnTo>
                  <a:pt x="941" y="96"/>
                </a:lnTo>
                <a:lnTo>
                  <a:pt x="943" y="75"/>
                </a:lnTo>
                <a:lnTo>
                  <a:pt x="945" y="56"/>
                </a:lnTo>
                <a:lnTo>
                  <a:pt x="945" y="37"/>
                </a:lnTo>
                <a:lnTo>
                  <a:pt x="943" y="20"/>
                </a:lnTo>
                <a:lnTo>
                  <a:pt x="941" y="0"/>
                </a:lnTo>
                <a:lnTo>
                  <a:pt x="954" y="0"/>
                </a:lnTo>
                <a:lnTo>
                  <a:pt x="970" y="2"/>
                </a:lnTo>
                <a:lnTo>
                  <a:pt x="983" y="4"/>
                </a:lnTo>
                <a:lnTo>
                  <a:pt x="996" y="6"/>
                </a:lnTo>
                <a:lnTo>
                  <a:pt x="1012" y="8"/>
                </a:lnTo>
                <a:lnTo>
                  <a:pt x="1025" y="12"/>
                </a:lnTo>
                <a:lnTo>
                  <a:pt x="1039" y="16"/>
                </a:lnTo>
                <a:lnTo>
                  <a:pt x="1050" y="21"/>
                </a:lnTo>
                <a:lnTo>
                  <a:pt x="1064" y="25"/>
                </a:lnTo>
                <a:lnTo>
                  <a:pt x="1075" y="31"/>
                </a:lnTo>
                <a:lnTo>
                  <a:pt x="1087" y="39"/>
                </a:lnTo>
                <a:lnTo>
                  <a:pt x="1098" y="46"/>
                </a:lnTo>
                <a:lnTo>
                  <a:pt x="1110" y="54"/>
                </a:lnTo>
                <a:lnTo>
                  <a:pt x="1119" y="62"/>
                </a:lnTo>
                <a:lnTo>
                  <a:pt x="1129" y="71"/>
                </a:lnTo>
                <a:lnTo>
                  <a:pt x="1138" y="81"/>
                </a:lnTo>
                <a:lnTo>
                  <a:pt x="1154" y="100"/>
                </a:lnTo>
                <a:lnTo>
                  <a:pt x="1169" y="119"/>
                </a:lnTo>
                <a:lnTo>
                  <a:pt x="1175" y="127"/>
                </a:lnTo>
                <a:lnTo>
                  <a:pt x="1181" y="137"/>
                </a:lnTo>
                <a:lnTo>
                  <a:pt x="1186" y="144"/>
                </a:lnTo>
                <a:lnTo>
                  <a:pt x="1192" y="152"/>
                </a:lnTo>
                <a:lnTo>
                  <a:pt x="1198" y="162"/>
                </a:lnTo>
                <a:lnTo>
                  <a:pt x="1202" y="169"/>
                </a:lnTo>
                <a:lnTo>
                  <a:pt x="1206" y="177"/>
                </a:lnTo>
                <a:lnTo>
                  <a:pt x="1208" y="185"/>
                </a:lnTo>
                <a:lnTo>
                  <a:pt x="1209" y="192"/>
                </a:lnTo>
                <a:lnTo>
                  <a:pt x="1211" y="200"/>
                </a:lnTo>
                <a:lnTo>
                  <a:pt x="1213" y="208"/>
                </a:lnTo>
                <a:lnTo>
                  <a:pt x="1213" y="215"/>
                </a:lnTo>
                <a:lnTo>
                  <a:pt x="1209" y="223"/>
                </a:lnTo>
                <a:lnTo>
                  <a:pt x="1204" y="233"/>
                </a:lnTo>
                <a:lnTo>
                  <a:pt x="1196" y="246"/>
                </a:lnTo>
                <a:lnTo>
                  <a:pt x="1188" y="259"/>
                </a:lnTo>
                <a:lnTo>
                  <a:pt x="1177" y="275"/>
                </a:lnTo>
                <a:lnTo>
                  <a:pt x="1163" y="292"/>
                </a:lnTo>
                <a:lnTo>
                  <a:pt x="1148" y="311"/>
                </a:lnTo>
                <a:lnTo>
                  <a:pt x="1140" y="323"/>
                </a:lnTo>
                <a:lnTo>
                  <a:pt x="1131" y="332"/>
                </a:lnTo>
                <a:lnTo>
                  <a:pt x="1123" y="344"/>
                </a:lnTo>
                <a:lnTo>
                  <a:pt x="1114" y="355"/>
                </a:lnTo>
                <a:lnTo>
                  <a:pt x="1102" y="367"/>
                </a:lnTo>
                <a:lnTo>
                  <a:pt x="1092" y="380"/>
                </a:lnTo>
                <a:lnTo>
                  <a:pt x="1081" y="392"/>
                </a:lnTo>
                <a:lnTo>
                  <a:pt x="1069" y="405"/>
                </a:lnTo>
                <a:lnTo>
                  <a:pt x="1058" y="419"/>
                </a:lnTo>
                <a:lnTo>
                  <a:pt x="1044" y="434"/>
                </a:lnTo>
                <a:lnTo>
                  <a:pt x="1031" y="447"/>
                </a:lnTo>
                <a:lnTo>
                  <a:pt x="1018" y="463"/>
                </a:lnTo>
                <a:lnTo>
                  <a:pt x="1004" y="478"/>
                </a:lnTo>
                <a:lnTo>
                  <a:pt x="989" y="495"/>
                </a:lnTo>
                <a:lnTo>
                  <a:pt x="973" y="511"/>
                </a:lnTo>
                <a:lnTo>
                  <a:pt x="958" y="528"/>
                </a:lnTo>
                <a:lnTo>
                  <a:pt x="943" y="545"/>
                </a:lnTo>
                <a:lnTo>
                  <a:pt x="925" y="563"/>
                </a:lnTo>
                <a:lnTo>
                  <a:pt x="893" y="597"/>
                </a:lnTo>
                <a:lnTo>
                  <a:pt x="858" y="630"/>
                </a:lnTo>
                <a:lnTo>
                  <a:pt x="824" y="662"/>
                </a:lnTo>
                <a:lnTo>
                  <a:pt x="787" y="693"/>
                </a:lnTo>
                <a:lnTo>
                  <a:pt x="753" y="722"/>
                </a:lnTo>
                <a:lnTo>
                  <a:pt x="716" y="751"/>
                </a:lnTo>
                <a:lnTo>
                  <a:pt x="680" y="777"/>
                </a:lnTo>
                <a:lnTo>
                  <a:pt x="643" y="804"/>
                </a:lnTo>
                <a:lnTo>
                  <a:pt x="605" y="829"/>
                </a:lnTo>
                <a:lnTo>
                  <a:pt x="568" y="854"/>
                </a:lnTo>
                <a:lnTo>
                  <a:pt x="530" y="875"/>
                </a:lnTo>
                <a:lnTo>
                  <a:pt x="492" y="898"/>
                </a:lnTo>
                <a:lnTo>
                  <a:pt x="453" y="919"/>
                </a:lnTo>
                <a:lnTo>
                  <a:pt x="415" y="939"/>
                </a:lnTo>
                <a:lnTo>
                  <a:pt x="375" y="958"/>
                </a:lnTo>
                <a:lnTo>
                  <a:pt x="336" y="977"/>
                </a:lnTo>
                <a:lnTo>
                  <a:pt x="317" y="985"/>
                </a:lnTo>
                <a:lnTo>
                  <a:pt x="298" y="994"/>
                </a:lnTo>
                <a:lnTo>
                  <a:pt x="279" y="1002"/>
                </a:lnTo>
                <a:lnTo>
                  <a:pt x="261" y="1010"/>
                </a:lnTo>
                <a:lnTo>
                  <a:pt x="244" y="1015"/>
                </a:lnTo>
                <a:lnTo>
                  <a:pt x="229" y="1023"/>
                </a:lnTo>
                <a:lnTo>
                  <a:pt x="211" y="1029"/>
                </a:lnTo>
                <a:lnTo>
                  <a:pt x="196" y="1035"/>
                </a:lnTo>
                <a:lnTo>
                  <a:pt x="183" y="1040"/>
                </a:lnTo>
                <a:lnTo>
                  <a:pt x="169" y="1046"/>
                </a:lnTo>
                <a:lnTo>
                  <a:pt x="154" y="1050"/>
                </a:lnTo>
                <a:lnTo>
                  <a:pt x="142" y="1056"/>
                </a:lnTo>
                <a:lnTo>
                  <a:pt x="129" y="1060"/>
                </a:lnTo>
                <a:lnTo>
                  <a:pt x="117" y="1063"/>
                </a:lnTo>
                <a:lnTo>
                  <a:pt x="106" y="1065"/>
                </a:lnTo>
                <a:lnTo>
                  <a:pt x="96" y="1069"/>
                </a:lnTo>
                <a:lnTo>
                  <a:pt x="87" y="1071"/>
                </a:lnTo>
                <a:lnTo>
                  <a:pt x="77" y="1073"/>
                </a:lnTo>
                <a:lnTo>
                  <a:pt x="67" y="1075"/>
                </a:lnTo>
                <a:lnTo>
                  <a:pt x="60" y="1077"/>
                </a:lnTo>
                <a:lnTo>
                  <a:pt x="52" y="1079"/>
                </a:lnTo>
                <a:lnTo>
                  <a:pt x="44" y="1079"/>
                </a:lnTo>
                <a:lnTo>
                  <a:pt x="39" y="1081"/>
                </a:lnTo>
                <a:lnTo>
                  <a:pt x="31" y="1081"/>
                </a:lnTo>
                <a:lnTo>
                  <a:pt x="27" y="1081"/>
                </a:lnTo>
                <a:lnTo>
                  <a:pt x="21" y="1079"/>
                </a:lnTo>
                <a:lnTo>
                  <a:pt x="18" y="1079"/>
                </a:lnTo>
                <a:lnTo>
                  <a:pt x="14" y="1077"/>
                </a:lnTo>
                <a:lnTo>
                  <a:pt x="10" y="1077"/>
                </a:lnTo>
                <a:lnTo>
                  <a:pt x="8" y="1075"/>
                </a:lnTo>
                <a:lnTo>
                  <a:pt x="4" y="1073"/>
                </a:lnTo>
                <a:lnTo>
                  <a:pt x="4" y="1071"/>
                </a:lnTo>
                <a:lnTo>
                  <a:pt x="0" y="1067"/>
                </a:lnTo>
                <a:lnTo>
                  <a:pt x="0" y="1063"/>
                </a:lnTo>
                <a:lnTo>
                  <a:pt x="0" y="1060"/>
                </a:lnTo>
                <a:lnTo>
                  <a:pt x="2" y="1056"/>
                </a:lnTo>
                <a:lnTo>
                  <a:pt x="6" y="1050"/>
                </a:lnTo>
                <a:lnTo>
                  <a:pt x="10" y="1046"/>
                </a:lnTo>
                <a:lnTo>
                  <a:pt x="16" y="1040"/>
                </a:lnTo>
                <a:lnTo>
                  <a:pt x="23" y="1033"/>
                </a:lnTo>
                <a:lnTo>
                  <a:pt x="29" y="1027"/>
                </a:lnTo>
                <a:lnTo>
                  <a:pt x="39" y="1021"/>
                </a:lnTo>
                <a:lnTo>
                  <a:pt x="48" y="1013"/>
                </a:lnTo>
                <a:lnTo>
                  <a:pt x="58" y="1006"/>
                </a:lnTo>
                <a:lnTo>
                  <a:pt x="69" y="1000"/>
                </a:lnTo>
                <a:lnTo>
                  <a:pt x="83" y="992"/>
                </a:lnTo>
                <a:lnTo>
                  <a:pt x="96" y="985"/>
                </a:lnTo>
                <a:lnTo>
                  <a:pt x="110" y="977"/>
                </a:lnTo>
                <a:lnTo>
                  <a:pt x="123" y="969"/>
                </a:lnTo>
                <a:lnTo>
                  <a:pt x="138" y="960"/>
                </a:lnTo>
                <a:lnTo>
                  <a:pt x="156" y="950"/>
                </a:lnTo>
                <a:lnTo>
                  <a:pt x="171" y="941"/>
                </a:lnTo>
                <a:lnTo>
                  <a:pt x="190" y="931"/>
                </a:lnTo>
                <a:lnTo>
                  <a:pt x="208" y="919"/>
                </a:lnTo>
                <a:lnTo>
                  <a:pt x="227" y="906"/>
                </a:lnTo>
                <a:lnTo>
                  <a:pt x="248" y="893"/>
                </a:lnTo>
                <a:lnTo>
                  <a:pt x="269" y="879"/>
                </a:lnTo>
                <a:lnTo>
                  <a:pt x="290" y="864"/>
                </a:lnTo>
                <a:lnTo>
                  <a:pt x="313" y="848"/>
                </a:lnTo>
                <a:lnTo>
                  <a:pt x="336" y="831"/>
                </a:lnTo>
                <a:lnTo>
                  <a:pt x="361" y="812"/>
                </a:lnTo>
                <a:lnTo>
                  <a:pt x="388" y="793"/>
                </a:lnTo>
                <a:lnTo>
                  <a:pt x="415" y="772"/>
                </a:lnTo>
                <a:lnTo>
                  <a:pt x="442" y="7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诡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1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被包部分是“ ”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矩形 3"/>
          <p:cNvSpPr/>
          <p:nvPr/>
        </p:nvSpPr>
        <p:spPr>
          <a:xfrm>
            <a:off x="2155680" y="1994040"/>
            <a:ext cx="138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78"/>
          <p:cNvSpPr/>
          <p:nvPr/>
        </p:nvSpPr>
        <p:spPr>
          <a:xfrm>
            <a:off x="6851520" y="3755880"/>
            <a:ext cx="522360" cy="702000"/>
          </a:xfrm>
          <a:custGeom>
            <a:avLst/>
            <a:gdLst/>
            <a:ahLst/>
            <a:rect l="l" t="t" r="r" b="b"/>
            <a:pathLst>
              <a:path w="659" h="883">
                <a:moveTo>
                  <a:pt x="576" y="76"/>
                </a:moveTo>
                <a:lnTo>
                  <a:pt x="586" y="84"/>
                </a:lnTo>
                <a:lnTo>
                  <a:pt x="595" y="92"/>
                </a:lnTo>
                <a:lnTo>
                  <a:pt x="605" y="98"/>
                </a:lnTo>
                <a:lnTo>
                  <a:pt x="613" y="105"/>
                </a:lnTo>
                <a:lnTo>
                  <a:pt x="620" y="111"/>
                </a:lnTo>
                <a:lnTo>
                  <a:pt x="628" y="119"/>
                </a:lnTo>
                <a:lnTo>
                  <a:pt x="634" y="124"/>
                </a:lnTo>
                <a:lnTo>
                  <a:pt x="638" y="130"/>
                </a:lnTo>
                <a:lnTo>
                  <a:pt x="643" y="136"/>
                </a:lnTo>
                <a:lnTo>
                  <a:pt x="647" y="142"/>
                </a:lnTo>
                <a:lnTo>
                  <a:pt x="651" y="147"/>
                </a:lnTo>
                <a:lnTo>
                  <a:pt x="653" y="151"/>
                </a:lnTo>
                <a:lnTo>
                  <a:pt x="655" y="157"/>
                </a:lnTo>
                <a:lnTo>
                  <a:pt x="657" y="159"/>
                </a:lnTo>
                <a:lnTo>
                  <a:pt x="657" y="163"/>
                </a:lnTo>
                <a:lnTo>
                  <a:pt x="659" y="167"/>
                </a:lnTo>
                <a:lnTo>
                  <a:pt x="657" y="174"/>
                </a:lnTo>
                <a:lnTo>
                  <a:pt x="655" y="182"/>
                </a:lnTo>
                <a:lnTo>
                  <a:pt x="653" y="190"/>
                </a:lnTo>
                <a:lnTo>
                  <a:pt x="649" y="195"/>
                </a:lnTo>
                <a:lnTo>
                  <a:pt x="643" y="201"/>
                </a:lnTo>
                <a:lnTo>
                  <a:pt x="638" y="207"/>
                </a:lnTo>
                <a:lnTo>
                  <a:pt x="630" y="213"/>
                </a:lnTo>
                <a:lnTo>
                  <a:pt x="622" y="217"/>
                </a:lnTo>
                <a:lnTo>
                  <a:pt x="618" y="220"/>
                </a:lnTo>
                <a:lnTo>
                  <a:pt x="614" y="224"/>
                </a:lnTo>
                <a:lnTo>
                  <a:pt x="611" y="230"/>
                </a:lnTo>
                <a:lnTo>
                  <a:pt x="607" y="236"/>
                </a:lnTo>
                <a:lnTo>
                  <a:pt x="603" y="243"/>
                </a:lnTo>
                <a:lnTo>
                  <a:pt x="601" y="251"/>
                </a:lnTo>
                <a:lnTo>
                  <a:pt x="597" y="261"/>
                </a:lnTo>
                <a:lnTo>
                  <a:pt x="595" y="272"/>
                </a:lnTo>
                <a:lnTo>
                  <a:pt x="591" y="282"/>
                </a:lnTo>
                <a:lnTo>
                  <a:pt x="590" y="295"/>
                </a:lnTo>
                <a:lnTo>
                  <a:pt x="588" y="307"/>
                </a:lnTo>
                <a:lnTo>
                  <a:pt x="584" y="322"/>
                </a:lnTo>
                <a:lnTo>
                  <a:pt x="582" y="336"/>
                </a:lnTo>
                <a:lnTo>
                  <a:pt x="580" y="351"/>
                </a:lnTo>
                <a:lnTo>
                  <a:pt x="578" y="366"/>
                </a:lnTo>
                <a:lnTo>
                  <a:pt x="576" y="384"/>
                </a:lnTo>
                <a:lnTo>
                  <a:pt x="570" y="416"/>
                </a:lnTo>
                <a:lnTo>
                  <a:pt x="567" y="451"/>
                </a:lnTo>
                <a:lnTo>
                  <a:pt x="563" y="483"/>
                </a:lnTo>
                <a:lnTo>
                  <a:pt x="557" y="514"/>
                </a:lnTo>
                <a:lnTo>
                  <a:pt x="551" y="545"/>
                </a:lnTo>
                <a:lnTo>
                  <a:pt x="543" y="574"/>
                </a:lnTo>
                <a:lnTo>
                  <a:pt x="540" y="587"/>
                </a:lnTo>
                <a:lnTo>
                  <a:pt x="538" y="600"/>
                </a:lnTo>
                <a:lnTo>
                  <a:pt x="532" y="614"/>
                </a:lnTo>
                <a:lnTo>
                  <a:pt x="528" y="625"/>
                </a:lnTo>
                <a:lnTo>
                  <a:pt x="520" y="654"/>
                </a:lnTo>
                <a:lnTo>
                  <a:pt x="511" y="681"/>
                </a:lnTo>
                <a:lnTo>
                  <a:pt x="501" y="706"/>
                </a:lnTo>
                <a:lnTo>
                  <a:pt x="492" y="729"/>
                </a:lnTo>
                <a:lnTo>
                  <a:pt x="486" y="741"/>
                </a:lnTo>
                <a:lnTo>
                  <a:pt x="482" y="752"/>
                </a:lnTo>
                <a:lnTo>
                  <a:pt x="476" y="762"/>
                </a:lnTo>
                <a:lnTo>
                  <a:pt x="471" y="771"/>
                </a:lnTo>
                <a:lnTo>
                  <a:pt x="465" y="781"/>
                </a:lnTo>
                <a:lnTo>
                  <a:pt x="459" y="789"/>
                </a:lnTo>
                <a:lnTo>
                  <a:pt x="453" y="798"/>
                </a:lnTo>
                <a:lnTo>
                  <a:pt x="446" y="806"/>
                </a:lnTo>
                <a:lnTo>
                  <a:pt x="440" y="813"/>
                </a:lnTo>
                <a:lnTo>
                  <a:pt x="434" y="823"/>
                </a:lnTo>
                <a:lnTo>
                  <a:pt x="426" y="831"/>
                </a:lnTo>
                <a:lnTo>
                  <a:pt x="421" y="838"/>
                </a:lnTo>
                <a:lnTo>
                  <a:pt x="413" y="846"/>
                </a:lnTo>
                <a:lnTo>
                  <a:pt x="407" y="852"/>
                </a:lnTo>
                <a:lnTo>
                  <a:pt x="401" y="858"/>
                </a:lnTo>
                <a:lnTo>
                  <a:pt x="396" y="863"/>
                </a:lnTo>
                <a:lnTo>
                  <a:pt x="390" y="867"/>
                </a:lnTo>
                <a:lnTo>
                  <a:pt x="382" y="871"/>
                </a:lnTo>
                <a:lnTo>
                  <a:pt x="378" y="875"/>
                </a:lnTo>
                <a:lnTo>
                  <a:pt x="373" y="877"/>
                </a:lnTo>
                <a:lnTo>
                  <a:pt x="367" y="879"/>
                </a:lnTo>
                <a:lnTo>
                  <a:pt x="361" y="881"/>
                </a:lnTo>
                <a:lnTo>
                  <a:pt x="357" y="881"/>
                </a:lnTo>
                <a:lnTo>
                  <a:pt x="353" y="883"/>
                </a:lnTo>
                <a:lnTo>
                  <a:pt x="346" y="881"/>
                </a:lnTo>
                <a:lnTo>
                  <a:pt x="340" y="881"/>
                </a:lnTo>
                <a:lnTo>
                  <a:pt x="334" y="879"/>
                </a:lnTo>
                <a:lnTo>
                  <a:pt x="330" y="877"/>
                </a:lnTo>
                <a:lnTo>
                  <a:pt x="325" y="875"/>
                </a:lnTo>
                <a:lnTo>
                  <a:pt x="321" y="871"/>
                </a:lnTo>
                <a:lnTo>
                  <a:pt x="317" y="867"/>
                </a:lnTo>
                <a:lnTo>
                  <a:pt x="313" y="863"/>
                </a:lnTo>
                <a:lnTo>
                  <a:pt x="311" y="858"/>
                </a:lnTo>
                <a:lnTo>
                  <a:pt x="307" y="852"/>
                </a:lnTo>
                <a:lnTo>
                  <a:pt x="305" y="846"/>
                </a:lnTo>
                <a:lnTo>
                  <a:pt x="304" y="838"/>
                </a:lnTo>
                <a:lnTo>
                  <a:pt x="300" y="831"/>
                </a:lnTo>
                <a:lnTo>
                  <a:pt x="298" y="823"/>
                </a:lnTo>
                <a:lnTo>
                  <a:pt x="296" y="813"/>
                </a:lnTo>
                <a:lnTo>
                  <a:pt x="294" y="806"/>
                </a:lnTo>
                <a:lnTo>
                  <a:pt x="288" y="790"/>
                </a:lnTo>
                <a:lnTo>
                  <a:pt x="282" y="777"/>
                </a:lnTo>
                <a:lnTo>
                  <a:pt x="275" y="762"/>
                </a:lnTo>
                <a:lnTo>
                  <a:pt x="267" y="748"/>
                </a:lnTo>
                <a:lnTo>
                  <a:pt x="257" y="733"/>
                </a:lnTo>
                <a:lnTo>
                  <a:pt x="248" y="719"/>
                </a:lnTo>
                <a:lnTo>
                  <a:pt x="236" y="704"/>
                </a:lnTo>
                <a:lnTo>
                  <a:pt x="223" y="691"/>
                </a:lnTo>
                <a:lnTo>
                  <a:pt x="211" y="675"/>
                </a:lnTo>
                <a:lnTo>
                  <a:pt x="200" y="664"/>
                </a:lnTo>
                <a:lnTo>
                  <a:pt x="188" y="652"/>
                </a:lnTo>
                <a:lnTo>
                  <a:pt x="181" y="643"/>
                </a:lnTo>
                <a:lnTo>
                  <a:pt x="173" y="633"/>
                </a:lnTo>
                <a:lnTo>
                  <a:pt x="171" y="629"/>
                </a:lnTo>
                <a:lnTo>
                  <a:pt x="169" y="625"/>
                </a:lnTo>
                <a:lnTo>
                  <a:pt x="167" y="622"/>
                </a:lnTo>
                <a:lnTo>
                  <a:pt x="165" y="620"/>
                </a:lnTo>
                <a:lnTo>
                  <a:pt x="165" y="616"/>
                </a:lnTo>
                <a:lnTo>
                  <a:pt x="165" y="614"/>
                </a:lnTo>
                <a:lnTo>
                  <a:pt x="165" y="612"/>
                </a:lnTo>
                <a:lnTo>
                  <a:pt x="165" y="610"/>
                </a:lnTo>
                <a:lnTo>
                  <a:pt x="167" y="608"/>
                </a:lnTo>
                <a:lnTo>
                  <a:pt x="169" y="606"/>
                </a:lnTo>
                <a:lnTo>
                  <a:pt x="171" y="604"/>
                </a:lnTo>
                <a:lnTo>
                  <a:pt x="175" y="604"/>
                </a:lnTo>
                <a:lnTo>
                  <a:pt x="179" y="604"/>
                </a:lnTo>
                <a:lnTo>
                  <a:pt x="183" y="604"/>
                </a:lnTo>
                <a:lnTo>
                  <a:pt x="186" y="604"/>
                </a:lnTo>
                <a:lnTo>
                  <a:pt x="192" y="604"/>
                </a:lnTo>
                <a:lnTo>
                  <a:pt x="198" y="604"/>
                </a:lnTo>
                <a:lnTo>
                  <a:pt x="204" y="606"/>
                </a:lnTo>
                <a:lnTo>
                  <a:pt x="211" y="608"/>
                </a:lnTo>
                <a:lnTo>
                  <a:pt x="219" y="608"/>
                </a:lnTo>
                <a:lnTo>
                  <a:pt x="227" y="612"/>
                </a:lnTo>
                <a:lnTo>
                  <a:pt x="234" y="614"/>
                </a:lnTo>
                <a:lnTo>
                  <a:pt x="252" y="618"/>
                </a:lnTo>
                <a:lnTo>
                  <a:pt x="267" y="623"/>
                </a:lnTo>
                <a:lnTo>
                  <a:pt x="282" y="627"/>
                </a:lnTo>
                <a:lnTo>
                  <a:pt x="296" y="629"/>
                </a:lnTo>
                <a:lnTo>
                  <a:pt x="309" y="631"/>
                </a:lnTo>
                <a:lnTo>
                  <a:pt x="321" y="631"/>
                </a:lnTo>
                <a:lnTo>
                  <a:pt x="327" y="631"/>
                </a:lnTo>
                <a:lnTo>
                  <a:pt x="330" y="629"/>
                </a:lnTo>
                <a:lnTo>
                  <a:pt x="336" y="627"/>
                </a:lnTo>
                <a:lnTo>
                  <a:pt x="340" y="625"/>
                </a:lnTo>
                <a:lnTo>
                  <a:pt x="344" y="625"/>
                </a:lnTo>
                <a:lnTo>
                  <a:pt x="346" y="623"/>
                </a:lnTo>
                <a:lnTo>
                  <a:pt x="348" y="622"/>
                </a:lnTo>
                <a:lnTo>
                  <a:pt x="352" y="618"/>
                </a:lnTo>
                <a:lnTo>
                  <a:pt x="355" y="614"/>
                </a:lnTo>
                <a:lnTo>
                  <a:pt x="357" y="608"/>
                </a:lnTo>
                <a:lnTo>
                  <a:pt x="361" y="602"/>
                </a:lnTo>
                <a:lnTo>
                  <a:pt x="365" y="595"/>
                </a:lnTo>
                <a:lnTo>
                  <a:pt x="367" y="587"/>
                </a:lnTo>
                <a:lnTo>
                  <a:pt x="371" y="577"/>
                </a:lnTo>
                <a:lnTo>
                  <a:pt x="375" y="568"/>
                </a:lnTo>
                <a:lnTo>
                  <a:pt x="376" y="556"/>
                </a:lnTo>
                <a:lnTo>
                  <a:pt x="380" y="543"/>
                </a:lnTo>
                <a:lnTo>
                  <a:pt x="382" y="529"/>
                </a:lnTo>
                <a:lnTo>
                  <a:pt x="386" y="514"/>
                </a:lnTo>
                <a:lnTo>
                  <a:pt x="388" y="499"/>
                </a:lnTo>
                <a:lnTo>
                  <a:pt x="390" y="481"/>
                </a:lnTo>
                <a:lnTo>
                  <a:pt x="392" y="466"/>
                </a:lnTo>
                <a:lnTo>
                  <a:pt x="394" y="451"/>
                </a:lnTo>
                <a:lnTo>
                  <a:pt x="396" y="435"/>
                </a:lnTo>
                <a:lnTo>
                  <a:pt x="400" y="407"/>
                </a:lnTo>
                <a:lnTo>
                  <a:pt x="403" y="380"/>
                </a:lnTo>
                <a:lnTo>
                  <a:pt x="407" y="355"/>
                </a:lnTo>
                <a:lnTo>
                  <a:pt x="409" y="330"/>
                </a:lnTo>
                <a:lnTo>
                  <a:pt x="411" y="305"/>
                </a:lnTo>
                <a:lnTo>
                  <a:pt x="411" y="282"/>
                </a:lnTo>
                <a:lnTo>
                  <a:pt x="411" y="263"/>
                </a:lnTo>
                <a:lnTo>
                  <a:pt x="411" y="245"/>
                </a:lnTo>
                <a:lnTo>
                  <a:pt x="411" y="230"/>
                </a:lnTo>
                <a:lnTo>
                  <a:pt x="409" y="215"/>
                </a:lnTo>
                <a:lnTo>
                  <a:pt x="409" y="209"/>
                </a:lnTo>
                <a:lnTo>
                  <a:pt x="407" y="203"/>
                </a:lnTo>
                <a:lnTo>
                  <a:pt x="407" y="197"/>
                </a:lnTo>
                <a:lnTo>
                  <a:pt x="405" y="193"/>
                </a:lnTo>
                <a:lnTo>
                  <a:pt x="405" y="188"/>
                </a:lnTo>
                <a:lnTo>
                  <a:pt x="403" y="184"/>
                </a:lnTo>
                <a:lnTo>
                  <a:pt x="401" y="182"/>
                </a:lnTo>
                <a:lnTo>
                  <a:pt x="400" y="178"/>
                </a:lnTo>
                <a:lnTo>
                  <a:pt x="396" y="176"/>
                </a:lnTo>
                <a:lnTo>
                  <a:pt x="394" y="174"/>
                </a:lnTo>
                <a:lnTo>
                  <a:pt x="388" y="172"/>
                </a:lnTo>
                <a:lnTo>
                  <a:pt x="384" y="170"/>
                </a:lnTo>
                <a:lnTo>
                  <a:pt x="378" y="170"/>
                </a:lnTo>
                <a:lnTo>
                  <a:pt x="373" y="170"/>
                </a:lnTo>
                <a:lnTo>
                  <a:pt x="365" y="169"/>
                </a:lnTo>
                <a:lnTo>
                  <a:pt x="357" y="169"/>
                </a:lnTo>
                <a:lnTo>
                  <a:pt x="348" y="169"/>
                </a:lnTo>
                <a:lnTo>
                  <a:pt x="338" y="170"/>
                </a:lnTo>
                <a:lnTo>
                  <a:pt x="329" y="170"/>
                </a:lnTo>
                <a:lnTo>
                  <a:pt x="319" y="170"/>
                </a:lnTo>
                <a:lnTo>
                  <a:pt x="307" y="172"/>
                </a:lnTo>
                <a:lnTo>
                  <a:pt x="296" y="174"/>
                </a:lnTo>
                <a:lnTo>
                  <a:pt x="282" y="176"/>
                </a:lnTo>
                <a:lnTo>
                  <a:pt x="271" y="178"/>
                </a:lnTo>
                <a:lnTo>
                  <a:pt x="238" y="184"/>
                </a:lnTo>
                <a:lnTo>
                  <a:pt x="208" y="190"/>
                </a:lnTo>
                <a:lnTo>
                  <a:pt x="177" y="197"/>
                </a:lnTo>
                <a:lnTo>
                  <a:pt x="144" y="205"/>
                </a:lnTo>
                <a:lnTo>
                  <a:pt x="110" y="211"/>
                </a:lnTo>
                <a:lnTo>
                  <a:pt x="75" y="218"/>
                </a:lnTo>
                <a:lnTo>
                  <a:pt x="39" y="224"/>
                </a:lnTo>
                <a:lnTo>
                  <a:pt x="19" y="226"/>
                </a:lnTo>
                <a:lnTo>
                  <a:pt x="0" y="230"/>
                </a:lnTo>
                <a:lnTo>
                  <a:pt x="0" y="140"/>
                </a:lnTo>
                <a:lnTo>
                  <a:pt x="12" y="140"/>
                </a:lnTo>
                <a:lnTo>
                  <a:pt x="23" y="140"/>
                </a:lnTo>
                <a:lnTo>
                  <a:pt x="48" y="138"/>
                </a:lnTo>
                <a:lnTo>
                  <a:pt x="75" y="136"/>
                </a:lnTo>
                <a:lnTo>
                  <a:pt x="102" y="130"/>
                </a:lnTo>
                <a:lnTo>
                  <a:pt x="133" y="126"/>
                </a:lnTo>
                <a:lnTo>
                  <a:pt x="162" y="119"/>
                </a:lnTo>
                <a:lnTo>
                  <a:pt x="192" y="111"/>
                </a:lnTo>
                <a:lnTo>
                  <a:pt x="223" y="101"/>
                </a:lnTo>
                <a:lnTo>
                  <a:pt x="238" y="99"/>
                </a:lnTo>
                <a:lnTo>
                  <a:pt x="252" y="96"/>
                </a:lnTo>
                <a:lnTo>
                  <a:pt x="265" y="94"/>
                </a:lnTo>
                <a:lnTo>
                  <a:pt x="279" y="90"/>
                </a:lnTo>
                <a:lnTo>
                  <a:pt x="290" y="86"/>
                </a:lnTo>
                <a:lnTo>
                  <a:pt x="302" y="82"/>
                </a:lnTo>
                <a:lnTo>
                  <a:pt x="311" y="78"/>
                </a:lnTo>
                <a:lnTo>
                  <a:pt x="321" y="74"/>
                </a:lnTo>
                <a:lnTo>
                  <a:pt x="330" y="71"/>
                </a:lnTo>
                <a:lnTo>
                  <a:pt x="338" y="67"/>
                </a:lnTo>
                <a:lnTo>
                  <a:pt x="346" y="61"/>
                </a:lnTo>
                <a:lnTo>
                  <a:pt x="353" y="57"/>
                </a:lnTo>
                <a:lnTo>
                  <a:pt x="359" y="53"/>
                </a:lnTo>
                <a:lnTo>
                  <a:pt x="365" y="48"/>
                </a:lnTo>
                <a:lnTo>
                  <a:pt x="371" y="44"/>
                </a:lnTo>
                <a:lnTo>
                  <a:pt x="376" y="38"/>
                </a:lnTo>
                <a:lnTo>
                  <a:pt x="384" y="28"/>
                </a:lnTo>
                <a:lnTo>
                  <a:pt x="394" y="21"/>
                </a:lnTo>
                <a:lnTo>
                  <a:pt x="403" y="15"/>
                </a:lnTo>
                <a:lnTo>
                  <a:pt x="413" y="9"/>
                </a:lnTo>
                <a:lnTo>
                  <a:pt x="423" y="5"/>
                </a:lnTo>
                <a:lnTo>
                  <a:pt x="434" y="2"/>
                </a:lnTo>
                <a:lnTo>
                  <a:pt x="446" y="0"/>
                </a:lnTo>
                <a:lnTo>
                  <a:pt x="459" y="0"/>
                </a:lnTo>
                <a:lnTo>
                  <a:pt x="467" y="5"/>
                </a:lnTo>
                <a:lnTo>
                  <a:pt x="478" y="11"/>
                </a:lnTo>
                <a:lnTo>
                  <a:pt x="490" y="19"/>
                </a:lnTo>
                <a:lnTo>
                  <a:pt x="503" y="28"/>
                </a:lnTo>
                <a:lnTo>
                  <a:pt x="519" y="38"/>
                </a:lnTo>
                <a:lnTo>
                  <a:pt x="536" y="50"/>
                </a:lnTo>
                <a:lnTo>
                  <a:pt x="545" y="55"/>
                </a:lnTo>
                <a:lnTo>
                  <a:pt x="555" y="63"/>
                </a:lnTo>
                <a:lnTo>
                  <a:pt x="565" y="69"/>
                </a:lnTo>
                <a:lnTo>
                  <a:pt x="576" y="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79"/>
          <p:cNvSpPr/>
          <p:nvPr/>
        </p:nvSpPr>
        <p:spPr>
          <a:xfrm>
            <a:off x="6762600" y="3836880"/>
            <a:ext cx="1001880" cy="1094040"/>
          </a:xfrm>
          <a:custGeom>
            <a:avLst/>
            <a:gdLst/>
            <a:ahLst/>
            <a:rect l="l" t="t" r="r" b="b"/>
            <a:pathLst>
              <a:path w="1261" h="1379">
                <a:moveTo>
                  <a:pt x="616" y="1177"/>
                </a:moveTo>
                <a:lnTo>
                  <a:pt x="645" y="1175"/>
                </a:lnTo>
                <a:lnTo>
                  <a:pt x="672" y="1171"/>
                </a:lnTo>
                <a:lnTo>
                  <a:pt x="697" y="1169"/>
                </a:lnTo>
                <a:lnTo>
                  <a:pt x="722" y="1165"/>
                </a:lnTo>
                <a:lnTo>
                  <a:pt x="745" y="1162"/>
                </a:lnTo>
                <a:lnTo>
                  <a:pt x="768" y="1158"/>
                </a:lnTo>
                <a:lnTo>
                  <a:pt x="789" y="1152"/>
                </a:lnTo>
                <a:lnTo>
                  <a:pt x="810" y="1148"/>
                </a:lnTo>
                <a:lnTo>
                  <a:pt x="829" y="1144"/>
                </a:lnTo>
                <a:lnTo>
                  <a:pt x="848" y="1139"/>
                </a:lnTo>
                <a:lnTo>
                  <a:pt x="864" y="1133"/>
                </a:lnTo>
                <a:lnTo>
                  <a:pt x="881" y="1127"/>
                </a:lnTo>
                <a:lnTo>
                  <a:pt x="896" y="1121"/>
                </a:lnTo>
                <a:lnTo>
                  <a:pt x="910" y="1114"/>
                </a:lnTo>
                <a:lnTo>
                  <a:pt x="921" y="1108"/>
                </a:lnTo>
                <a:lnTo>
                  <a:pt x="933" y="1100"/>
                </a:lnTo>
                <a:lnTo>
                  <a:pt x="944" y="1093"/>
                </a:lnTo>
                <a:lnTo>
                  <a:pt x="954" y="1083"/>
                </a:lnTo>
                <a:lnTo>
                  <a:pt x="965" y="1073"/>
                </a:lnTo>
                <a:lnTo>
                  <a:pt x="975" y="1062"/>
                </a:lnTo>
                <a:lnTo>
                  <a:pt x="985" y="1048"/>
                </a:lnTo>
                <a:lnTo>
                  <a:pt x="994" y="1035"/>
                </a:lnTo>
                <a:lnTo>
                  <a:pt x="1002" y="1020"/>
                </a:lnTo>
                <a:lnTo>
                  <a:pt x="1011" y="1002"/>
                </a:lnTo>
                <a:lnTo>
                  <a:pt x="1019" y="985"/>
                </a:lnTo>
                <a:lnTo>
                  <a:pt x="1027" y="966"/>
                </a:lnTo>
                <a:lnTo>
                  <a:pt x="1035" y="945"/>
                </a:lnTo>
                <a:lnTo>
                  <a:pt x="1040" y="922"/>
                </a:lnTo>
                <a:lnTo>
                  <a:pt x="1046" y="899"/>
                </a:lnTo>
                <a:lnTo>
                  <a:pt x="1052" y="874"/>
                </a:lnTo>
                <a:lnTo>
                  <a:pt x="1058" y="847"/>
                </a:lnTo>
                <a:lnTo>
                  <a:pt x="1063" y="820"/>
                </a:lnTo>
                <a:lnTo>
                  <a:pt x="1067" y="793"/>
                </a:lnTo>
                <a:lnTo>
                  <a:pt x="1071" y="770"/>
                </a:lnTo>
                <a:lnTo>
                  <a:pt x="1075" y="747"/>
                </a:lnTo>
                <a:lnTo>
                  <a:pt x="1081" y="726"/>
                </a:lnTo>
                <a:lnTo>
                  <a:pt x="1084" y="707"/>
                </a:lnTo>
                <a:lnTo>
                  <a:pt x="1088" y="688"/>
                </a:lnTo>
                <a:lnTo>
                  <a:pt x="1092" y="672"/>
                </a:lnTo>
                <a:lnTo>
                  <a:pt x="1096" y="657"/>
                </a:lnTo>
                <a:lnTo>
                  <a:pt x="1100" y="645"/>
                </a:lnTo>
                <a:lnTo>
                  <a:pt x="1104" y="634"/>
                </a:lnTo>
                <a:lnTo>
                  <a:pt x="1107" y="624"/>
                </a:lnTo>
                <a:lnTo>
                  <a:pt x="1109" y="616"/>
                </a:lnTo>
                <a:lnTo>
                  <a:pt x="1113" y="609"/>
                </a:lnTo>
                <a:lnTo>
                  <a:pt x="1115" y="605"/>
                </a:lnTo>
                <a:lnTo>
                  <a:pt x="1119" y="603"/>
                </a:lnTo>
                <a:lnTo>
                  <a:pt x="1121" y="601"/>
                </a:lnTo>
                <a:lnTo>
                  <a:pt x="1123" y="605"/>
                </a:lnTo>
                <a:lnTo>
                  <a:pt x="1127" y="609"/>
                </a:lnTo>
                <a:lnTo>
                  <a:pt x="1129" y="615"/>
                </a:lnTo>
                <a:lnTo>
                  <a:pt x="1132" y="622"/>
                </a:lnTo>
                <a:lnTo>
                  <a:pt x="1134" y="630"/>
                </a:lnTo>
                <a:lnTo>
                  <a:pt x="1138" y="640"/>
                </a:lnTo>
                <a:lnTo>
                  <a:pt x="1142" y="649"/>
                </a:lnTo>
                <a:lnTo>
                  <a:pt x="1144" y="663"/>
                </a:lnTo>
                <a:lnTo>
                  <a:pt x="1148" y="676"/>
                </a:lnTo>
                <a:lnTo>
                  <a:pt x="1152" y="691"/>
                </a:lnTo>
                <a:lnTo>
                  <a:pt x="1154" y="709"/>
                </a:lnTo>
                <a:lnTo>
                  <a:pt x="1157" y="728"/>
                </a:lnTo>
                <a:lnTo>
                  <a:pt x="1161" y="747"/>
                </a:lnTo>
                <a:lnTo>
                  <a:pt x="1163" y="770"/>
                </a:lnTo>
                <a:lnTo>
                  <a:pt x="1165" y="793"/>
                </a:lnTo>
                <a:lnTo>
                  <a:pt x="1169" y="820"/>
                </a:lnTo>
                <a:lnTo>
                  <a:pt x="1171" y="845"/>
                </a:lnTo>
                <a:lnTo>
                  <a:pt x="1173" y="870"/>
                </a:lnTo>
                <a:lnTo>
                  <a:pt x="1177" y="893"/>
                </a:lnTo>
                <a:lnTo>
                  <a:pt x="1180" y="916"/>
                </a:lnTo>
                <a:lnTo>
                  <a:pt x="1184" y="937"/>
                </a:lnTo>
                <a:lnTo>
                  <a:pt x="1190" y="956"/>
                </a:lnTo>
                <a:lnTo>
                  <a:pt x="1196" y="975"/>
                </a:lnTo>
                <a:lnTo>
                  <a:pt x="1200" y="993"/>
                </a:lnTo>
                <a:lnTo>
                  <a:pt x="1205" y="1010"/>
                </a:lnTo>
                <a:lnTo>
                  <a:pt x="1211" y="1025"/>
                </a:lnTo>
                <a:lnTo>
                  <a:pt x="1219" y="1041"/>
                </a:lnTo>
                <a:lnTo>
                  <a:pt x="1225" y="1054"/>
                </a:lnTo>
                <a:lnTo>
                  <a:pt x="1230" y="1068"/>
                </a:lnTo>
                <a:lnTo>
                  <a:pt x="1238" y="1079"/>
                </a:lnTo>
                <a:lnTo>
                  <a:pt x="1244" y="1091"/>
                </a:lnTo>
                <a:lnTo>
                  <a:pt x="1249" y="1100"/>
                </a:lnTo>
                <a:lnTo>
                  <a:pt x="1253" y="1106"/>
                </a:lnTo>
                <a:lnTo>
                  <a:pt x="1255" y="1110"/>
                </a:lnTo>
                <a:lnTo>
                  <a:pt x="1257" y="1116"/>
                </a:lnTo>
                <a:lnTo>
                  <a:pt x="1259" y="1119"/>
                </a:lnTo>
                <a:lnTo>
                  <a:pt x="1261" y="1125"/>
                </a:lnTo>
                <a:lnTo>
                  <a:pt x="1261" y="1129"/>
                </a:lnTo>
                <a:lnTo>
                  <a:pt x="1261" y="1135"/>
                </a:lnTo>
                <a:lnTo>
                  <a:pt x="1261" y="1139"/>
                </a:lnTo>
                <a:lnTo>
                  <a:pt x="1261" y="1144"/>
                </a:lnTo>
                <a:lnTo>
                  <a:pt x="1259" y="1148"/>
                </a:lnTo>
                <a:lnTo>
                  <a:pt x="1257" y="1154"/>
                </a:lnTo>
                <a:lnTo>
                  <a:pt x="1255" y="1158"/>
                </a:lnTo>
                <a:lnTo>
                  <a:pt x="1249" y="1167"/>
                </a:lnTo>
                <a:lnTo>
                  <a:pt x="1242" y="1179"/>
                </a:lnTo>
                <a:lnTo>
                  <a:pt x="1232" y="1188"/>
                </a:lnTo>
                <a:lnTo>
                  <a:pt x="1219" y="1198"/>
                </a:lnTo>
                <a:lnTo>
                  <a:pt x="1205" y="1210"/>
                </a:lnTo>
                <a:lnTo>
                  <a:pt x="1190" y="1221"/>
                </a:lnTo>
                <a:lnTo>
                  <a:pt x="1173" y="1231"/>
                </a:lnTo>
                <a:lnTo>
                  <a:pt x="1154" y="1242"/>
                </a:lnTo>
                <a:lnTo>
                  <a:pt x="1132" y="1254"/>
                </a:lnTo>
                <a:lnTo>
                  <a:pt x="1109" y="1267"/>
                </a:lnTo>
                <a:lnTo>
                  <a:pt x="1084" y="1279"/>
                </a:lnTo>
                <a:lnTo>
                  <a:pt x="1061" y="1288"/>
                </a:lnTo>
                <a:lnTo>
                  <a:pt x="1036" y="1298"/>
                </a:lnTo>
                <a:lnTo>
                  <a:pt x="1013" y="1308"/>
                </a:lnTo>
                <a:lnTo>
                  <a:pt x="988" y="1317"/>
                </a:lnTo>
                <a:lnTo>
                  <a:pt x="965" y="1325"/>
                </a:lnTo>
                <a:lnTo>
                  <a:pt x="940" y="1331"/>
                </a:lnTo>
                <a:lnTo>
                  <a:pt x="917" y="1336"/>
                </a:lnTo>
                <a:lnTo>
                  <a:pt x="892" y="1342"/>
                </a:lnTo>
                <a:lnTo>
                  <a:pt x="869" y="1348"/>
                </a:lnTo>
                <a:lnTo>
                  <a:pt x="846" y="1352"/>
                </a:lnTo>
                <a:lnTo>
                  <a:pt x="823" y="1355"/>
                </a:lnTo>
                <a:lnTo>
                  <a:pt x="777" y="1363"/>
                </a:lnTo>
                <a:lnTo>
                  <a:pt x="733" y="1369"/>
                </a:lnTo>
                <a:lnTo>
                  <a:pt x="710" y="1371"/>
                </a:lnTo>
                <a:lnTo>
                  <a:pt x="685" y="1373"/>
                </a:lnTo>
                <a:lnTo>
                  <a:pt x="662" y="1375"/>
                </a:lnTo>
                <a:lnTo>
                  <a:pt x="641" y="1377"/>
                </a:lnTo>
                <a:lnTo>
                  <a:pt x="620" y="1377"/>
                </a:lnTo>
                <a:lnTo>
                  <a:pt x="599" y="1379"/>
                </a:lnTo>
                <a:lnTo>
                  <a:pt x="578" y="1379"/>
                </a:lnTo>
                <a:lnTo>
                  <a:pt x="557" y="1379"/>
                </a:lnTo>
                <a:lnTo>
                  <a:pt x="537" y="1379"/>
                </a:lnTo>
                <a:lnTo>
                  <a:pt x="518" y="1379"/>
                </a:lnTo>
                <a:lnTo>
                  <a:pt x="501" y="1377"/>
                </a:lnTo>
                <a:lnTo>
                  <a:pt x="482" y="1377"/>
                </a:lnTo>
                <a:lnTo>
                  <a:pt x="464" y="1375"/>
                </a:lnTo>
                <a:lnTo>
                  <a:pt x="449" y="1373"/>
                </a:lnTo>
                <a:lnTo>
                  <a:pt x="432" y="1371"/>
                </a:lnTo>
                <a:lnTo>
                  <a:pt x="416" y="1369"/>
                </a:lnTo>
                <a:lnTo>
                  <a:pt x="386" y="1363"/>
                </a:lnTo>
                <a:lnTo>
                  <a:pt x="357" y="1359"/>
                </a:lnTo>
                <a:lnTo>
                  <a:pt x="330" y="1354"/>
                </a:lnTo>
                <a:lnTo>
                  <a:pt x="303" y="1346"/>
                </a:lnTo>
                <a:lnTo>
                  <a:pt x="278" y="1338"/>
                </a:lnTo>
                <a:lnTo>
                  <a:pt x="267" y="1334"/>
                </a:lnTo>
                <a:lnTo>
                  <a:pt x="255" y="1329"/>
                </a:lnTo>
                <a:lnTo>
                  <a:pt x="246" y="1325"/>
                </a:lnTo>
                <a:lnTo>
                  <a:pt x="236" y="1317"/>
                </a:lnTo>
                <a:lnTo>
                  <a:pt x="226" y="1311"/>
                </a:lnTo>
                <a:lnTo>
                  <a:pt x="217" y="1306"/>
                </a:lnTo>
                <a:lnTo>
                  <a:pt x="205" y="1296"/>
                </a:lnTo>
                <a:lnTo>
                  <a:pt x="196" y="1284"/>
                </a:lnTo>
                <a:lnTo>
                  <a:pt x="177" y="1265"/>
                </a:lnTo>
                <a:lnTo>
                  <a:pt x="159" y="1246"/>
                </a:lnTo>
                <a:lnTo>
                  <a:pt x="144" y="1227"/>
                </a:lnTo>
                <a:lnTo>
                  <a:pt x="129" y="1206"/>
                </a:lnTo>
                <a:lnTo>
                  <a:pt x="113" y="1185"/>
                </a:lnTo>
                <a:lnTo>
                  <a:pt x="100" y="1162"/>
                </a:lnTo>
                <a:lnTo>
                  <a:pt x="88" y="1139"/>
                </a:lnTo>
                <a:lnTo>
                  <a:pt x="84" y="1133"/>
                </a:lnTo>
                <a:lnTo>
                  <a:pt x="81" y="1125"/>
                </a:lnTo>
                <a:lnTo>
                  <a:pt x="79" y="1117"/>
                </a:lnTo>
                <a:lnTo>
                  <a:pt x="75" y="1108"/>
                </a:lnTo>
                <a:lnTo>
                  <a:pt x="73" y="1100"/>
                </a:lnTo>
                <a:lnTo>
                  <a:pt x="69" y="1089"/>
                </a:lnTo>
                <a:lnTo>
                  <a:pt x="67" y="1079"/>
                </a:lnTo>
                <a:lnTo>
                  <a:pt x="63" y="1068"/>
                </a:lnTo>
                <a:lnTo>
                  <a:pt x="61" y="1054"/>
                </a:lnTo>
                <a:lnTo>
                  <a:pt x="59" y="1043"/>
                </a:lnTo>
                <a:lnTo>
                  <a:pt x="56" y="1029"/>
                </a:lnTo>
                <a:lnTo>
                  <a:pt x="54" y="1014"/>
                </a:lnTo>
                <a:lnTo>
                  <a:pt x="52" y="998"/>
                </a:lnTo>
                <a:lnTo>
                  <a:pt x="50" y="983"/>
                </a:lnTo>
                <a:lnTo>
                  <a:pt x="48" y="968"/>
                </a:lnTo>
                <a:lnTo>
                  <a:pt x="46" y="950"/>
                </a:lnTo>
                <a:lnTo>
                  <a:pt x="44" y="931"/>
                </a:lnTo>
                <a:lnTo>
                  <a:pt x="44" y="914"/>
                </a:lnTo>
                <a:lnTo>
                  <a:pt x="42" y="895"/>
                </a:lnTo>
                <a:lnTo>
                  <a:pt x="40" y="876"/>
                </a:lnTo>
                <a:lnTo>
                  <a:pt x="40" y="855"/>
                </a:lnTo>
                <a:lnTo>
                  <a:pt x="38" y="833"/>
                </a:lnTo>
                <a:lnTo>
                  <a:pt x="38" y="812"/>
                </a:lnTo>
                <a:lnTo>
                  <a:pt x="38" y="789"/>
                </a:lnTo>
                <a:lnTo>
                  <a:pt x="38" y="766"/>
                </a:lnTo>
                <a:lnTo>
                  <a:pt x="38" y="743"/>
                </a:lnTo>
                <a:lnTo>
                  <a:pt x="38" y="718"/>
                </a:lnTo>
                <a:lnTo>
                  <a:pt x="38" y="693"/>
                </a:lnTo>
                <a:lnTo>
                  <a:pt x="38" y="668"/>
                </a:lnTo>
                <a:lnTo>
                  <a:pt x="38" y="643"/>
                </a:lnTo>
                <a:lnTo>
                  <a:pt x="40" y="616"/>
                </a:lnTo>
                <a:lnTo>
                  <a:pt x="40" y="590"/>
                </a:lnTo>
                <a:lnTo>
                  <a:pt x="40" y="561"/>
                </a:lnTo>
                <a:lnTo>
                  <a:pt x="40" y="536"/>
                </a:lnTo>
                <a:lnTo>
                  <a:pt x="40" y="509"/>
                </a:lnTo>
                <a:lnTo>
                  <a:pt x="40" y="484"/>
                </a:lnTo>
                <a:lnTo>
                  <a:pt x="40" y="461"/>
                </a:lnTo>
                <a:lnTo>
                  <a:pt x="38" y="438"/>
                </a:lnTo>
                <a:lnTo>
                  <a:pt x="38" y="415"/>
                </a:lnTo>
                <a:lnTo>
                  <a:pt x="38" y="392"/>
                </a:lnTo>
                <a:lnTo>
                  <a:pt x="38" y="371"/>
                </a:lnTo>
                <a:lnTo>
                  <a:pt x="36" y="352"/>
                </a:lnTo>
                <a:lnTo>
                  <a:pt x="36" y="332"/>
                </a:lnTo>
                <a:lnTo>
                  <a:pt x="36" y="313"/>
                </a:lnTo>
                <a:lnTo>
                  <a:pt x="35" y="294"/>
                </a:lnTo>
                <a:lnTo>
                  <a:pt x="35" y="277"/>
                </a:lnTo>
                <a:lnTo>
                  <a:pt x="35" y="261"/>
                </a:lnTo>
                <a:lnTo>
                  <a:pt x="33" y="246"/>
                </a:lnTo>
                <a:lnTo>
                  <a:pt x="33" y="231"/>
                </a:lnTo>
                <a:lnTo>
                  <a:pt x="31" y="217"/>
                </a:lnTo>
                <a:lnTo>
                  <a:pt x="31" y="204"/>
                </a:lnTo>
                <a:lnTo>
                  <a:pt x="29" y="190"/>
                </a:lnTo>
                <a:lnTo>
                  <a:pt x="29" y="179"/>
                </a:lnTo>
                <a:lnTo>
                  <a:pt x="27" y="167"/>
                </a:lnTo>
                <a:lnTo>
                  <a:pt x="27" y="158"/>
                </a:lnTo>
                <a:lnTo>
                  <a:pt x="25" y="148"/>
                </a:lnTo>
                <a:lnTo>
                  <a:pt x="25" y="140"/>
                </a:lnTo>
                <a:lnTo>
                  <a:pt x="23" y="133"/>
                </a:lnTo>
                <a:lnTo>
                  <a:pt x="23" y="125"/>
                </a:lnTo>
                <a:lnTo>
                  <a:pt x="21" y="119"/>
                </a:lnTo>
                <a:lnTo>
                  <a:pt x="21" y="114"/>
                </a:lnTo>
                <a:lnTo>
                  <a:pt x="19" y="110"/>
                </a:lnTo>
                <a:lnTo>
                  <a:pt x="17" y="106"/>
                </a:lnTo>
                <a:lnTo>
                  <a:pt x="17" y="104"/>
                </a:lnTo>
                <a:lnTo>
                  <a:pt x="13" y="94"/>
                </a:lnTo>
                <a:lnTo>
                  <a:pt x="8" y="85"/>
                </a:lnTo>
                <a:lnTo>
                  <a:pt x="6" y="75"/>
                </a:lnTo>
                <a:lnTo>
                  <a:pt x="2" y="66"/>
                </a:lnTo>
                <a:lnTo>
                  <a:pt x="0" y="56"/>
                </a:lnTo>
                <a:lnTo>
                  <a:pt x="0" y="46"/>
                </a:lnTo>
                <a:lnTo>
                  <a:pt x="2" y="37"/>
                </a:lnTo>
                <a:lnTo>
                  <a:pt x="4" y="31"/>
                </a:lnTo>
                <a:lnTo>
                  <a:pt x="6" y="27"/>
                </a:lnTo>
                <a:lnTo>
                  <a:pt x="6" y="21"/>
                </a:lnTo>
                <a:lnTo>
                  <a:pt x="8" y="18"/>
                </a:lnTo>
                <a:lnTo>
                  <a:pt x="10" y="12"/>
                </a:lnTo>
                <a:lnTo>
                  <a:pt x="13" y="8"/>
                </a:lnTo>
                <a:lnTo>
                  <a:pt x="19" y="6"/>
                </a:lnTo>
                <a:lnTo>
                  <a:pt x="25" y="2"/>
                </a:lnTo>
                <a:lnTo>
                  <a:pt x="33" y="2"/>
                </a:lnTo>
                <a:lnTo>
                  <a:pt x="40" y="0"/>
                </a:lnTo>
                <a:lnTo>
                  <a:pt x="42" y="0"/>
                </a:lnTo>
                <a:lnTo>
                  <a:pt x="46" y="2"/>
                </a:lnTo>
                <a:lnTo>
                  <a:pt x="50" y="2"/>
                </a:lnTo>
                <a:lnTo>
                  <a:pt x="56" y="2"/>
                </a:lnTo>
                <a:lnTo>
                  <a:pt x="61" y="4"/>
                </a:lnTo>
                <a:lnTo>
                  <a:pt x="67" y="6"/>
                </a:lnTo>
                <a:lnTo>
                  <a:pt x="75" y="8"/>
                </a:lnTo>
                <a:lnTo>
                  <a:pt x="82" y="10"/>
                </a:lnTo>
                <a:lnTo>
                  <a:pt x="92" y="14"/>
                </a:lnTo>
                <a:lnTo>
                  <a:pt x="102" y="16"/>
                </a:lnTo>
                <a:lnTo>
                  <a:pt x="111" y="20"/>
                </a:lnTo>
                <a:lnTo>
                  <a:pt x="121" y="21"/>
                </a:lnTo>
                <a:lnTo>
                  <a:pt x="132" y="25"/>
                </a:lnTo>
                <a:lnTo>
                  <a:pt x="144" y="31"/>
                </a:lnTo>
                <a:lnTo>
                  <a:pt x="157" y="35"/>
                </a:lnTo>
                <a:lnTo>
                  <a:pt x="171" y="39"/>
                </a:lnTo>
                <a:lnTo>
                  <a:pt x="169" y="71"/>
                </a:lnTo>
                <a:lnTo>
                  <a:pt x="167" y="102"/>
                </a:lnTo>
                <a:lnTo>
                  <a:pt x="167" y="133"/>
                </a:lnTo>
                <a:lnTo>
                  <a:pt x="165" y="163"/>
                </a:lnTo>
                <a:lnTo>
                  <a:pt x="165" y="192"/>
                </a:lnTo>
                <a:lnTo>
                  <a:pt x="163" y="221"/>
                </a:lnTo>
                <a:lnTo>
                  <a:pt x="163" y="250"/>
                </a:lnTo>
                <a:lnTo>
                  <a:pt x="161" y="277"/>
                </a:lnTo>
                <a:lnTo>
                  <a:pt x="161" y="304"/>
                </a:lnTo>
                <a:lnTo>
                  <a:pt x="159" y="329"/>
                </a:lnTo>
                <a:lnTo>
                  <a:pt x="159" y="355"/>
                </a:lnTo>
                <a:lnTo>
                  <a:pt x="157" y="380"/>
                </a:lnTo>
                <a:lnTo>
                  <a:pt x="157" y="403"/>
                </a:lnTo>
                <a:lnTo>
                  <a:pt x="155" y="426"/>
                </a:lnTo>
                <a:lnTo>
                  <a:pt x="155" y="449"/>
                </a:lnTo>
                <a:lnTo>
                  <a:pt x="154" y="473"/>
                </a:lnTo>
                <a:lnTo>
                  <a:pt x="154" y="494"/>
                </a:lnTo>
                <a:lnTo>
                  <a:pt x="152" y="515"/>
                </a:lnTo>
                <a:lnTo>
                  <a:pt x="152" y="536"/>
                </a:lnTo>
                <a:lnTo>
                  <a:pt x="152" y="555"/>
                </a:lnTo>
                <a:lnTo>
                  <a:pt x="150" y="574"/>
                </a:lnTo>
                <a:lnTo>
                  <a:pt x="150" y="592"/>
                </a:lnTo>
                <a:lnTo>
                  <a:pt x="150" y="611"/>
                </a:lnTo>
                <a:lnTo>
                  <a:pt x="148" y="628"/>
                </a:lnTo>
                <a:lnTo>
                  <a:pt x="148" y="643"/>
                </a:lnTo>
                <a:lnTo>
                  <a:pt x="148" y="659"/>
                </a:lnTo>
                <a:lnTo>
                  <a:pt x="148" y="674"/>
                </a:lnTo>
                <a:lnTo>
                  <a:pt x="148" y="689"/>
                </a:lnTo>
                <a:lnTo>
                  <a:pt x="146" y="703"/>
                </a:lnTo>
                <a:lnTo>
                  <a:pt x="146" y="716"/>
                </a:lnTo>
                <a:lnTo>
                  <a:pt x="146" y="730"/>
                </a:lnTo>
                <a:lnTo>
                  <a:pt x="146" y="743"/>
                </a:lnTo>
                <a:lnTo>
                  <a:pt x="146" y="766"/>
                </a:lnTo>
                <a:lnTo>
                  <a:pt x="148" y="789"/>
                </a:lnTo>
                <a:lnTo>
                  <a:pt x="148" y="810"/>
                </a:lnTo>
                <a:lnTo>
                  <a:pt x="150" y="831"/>
                </a:lnTo>
                <a:lnTo>
                  <a:pt x="150" y="851"/>
                </a:lnTo>
                <a:lnTo>
                  <a:pt x="152" y="870"/>
                </a:lnTo>
                <a:lnTo>
                  <a:pt x="154" y="889"/>
                </a:lnTo>
                <a:lnTo>
                  <a:pt x="157" y="906"/>
                </a:lnTo>
                <a:lnTo>
                  <a:pt x="159" y="924"/>
                </a:lnTo>
                <a:lnTo>
                  <a:pt x="163" y="941"/>
                </a:lnTo>
                <a:lnTo>
                  <a:pt x="167" y="956"/>
                </a:lnTo>
                <a:lnTo>
                  <a:pt x="171" y="970"/>
                </a:lnTo>
                <a:lnTo>
                  <a:pt x="177" y="985"/>
                </a:lnTo>
                <a:lnTo>
                  <a:pt x="180" y="998"/>
                </a:lnTo>
                <a:lnTo>
                  <a:pt x="186" y="1012"/>
                </a:lnTo>
                <a:lnTo>
                  <a:pt x="194" y="1023"/>
                </a:lnTo>
                <a:lnTo>
                  <a:pt x="203" y="1046"/>
                </a:lnTo>
                <a:lnTo>
                  <a:pt x="213" y="1069"/>
                </a:lnTo>
                <a:lnTo>
                  <a:pt x="219" y="1079"/>
                </a:lnTo>
                <a:lnTo>
                  <a:pt x="225" y="1089"/>
                </a:lnTo>
                <a:lnTo>
                  <a:pt x="232" y="1098"/>
                </a:lnTo>
                <a:lnTo>
                  <a:pt x="238" y="1106"/>
                </a:lnTo>
                <a:lnTo>
                  <a:pt x="246" y="1116"/>
                </a:lnTo>
                <a:lnTo>
                  <a:pt x="253" y="1121"/>
                </a:lnTo>
                <a:lnTo>
                  <a:pt x="263" y="1129"/>
                </a:lnTo>
                <a:lnTo>
                  <a:pt x="271" y="1135"/>
                </a:lnTo>
                <a:lnTo>
                  <a:pt x="280" y="1141"/>
                </a:lnTo>
                <a:lnTo>
                  <a:pt x="290" y="1144"/>
                </a:lnTo>
                <a:lnTo>
                  <a:pt x="299" y="1148"/>
                </a:lnTo>
                <a:lnTo>
                  <a:pt x="311" y="1152"/>
                </a:lnTo>
                <a:lnTo>
                  <a:pt x="322" y="1156"/>
                </a:lnTo>
                <a:lnTo>
                  <a:pt x="334" y="1160"/>
                </a:lnTo>
                <a:lnTo>
                  <a:pt x="347" y="1165"/>
                </a:lnTo>
                <a:lnTo>
                  <a:pt x="361" y="1167"/>
                </a:lnTo>
                <a:lnTo>
                  <a:pt x="376" y="1171"/>
                </a:lnTo>
                <a:lnTo>
                  <a:pt x="393" y="1175"/>
                </a:lnTo>
                <a:lnTo>
                  <a:pt x="411" y="1177"/>
                </a:lnTo>
                <a:lnTo>
                  <a:pt x="428" y="1179"/>
                </a:lnTo>
                <a:lnTo>
                  <a:pt x="447" y="1181"/>
                </a:lnTo>
                <a:lnTo>
                  <a:pt x="468" y="1181"/>
                </a:lnTo>
                <a:lnTo>
                  <a:pt x="489" y="1183"/>
                </a:lnTo>
                <a:lnTo>
                  <a:pt x="512" y="1183"/>
                </a:lnTo>
                <a:lnTo>
                  <a:pt x="535" y="1181"/>
                </a:lnTo>
                <a:lnTo>
                  <a:pt x="562" y="1181"/>
                </a:lnTo>
                <a:lnTo>
                  <a:pt x="587" y="1179"/>
                </a:lnTo>
                <a:lnTo>
                  <a:pt x="616" y="11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80"/>
          <p:cNvSpPr/>
          <p:nvPr/>
        </p:nvSpPr>
        <p:spPr>
          <a:xfrm>
            <a:off x="6046920" y="3530520"/>
            <a:ext cx="590400" cy="1497240"/>
          </a:xfrm>
          <a:custGeom>
            <a:avLst/>
            <a:gdLst/>
            <a:ahLst/>
            <a:rect l="l" t="t" r="r" b="b"/>
            <a:pathLst>
              <a:path w="743" h="1884">
                <a:moveTo>
                  <a:pt x="520" y="859"/>
                </a:moveTo>
                <a:lnTo>
                  <a:pt x="526" y="829"/>
                </a:lnTo>
                <a:lnTo>
                  <a:pt x="532" y="798"/>
                </a:lnTo>
                <a:lnTo>
                  <a:pt x="541" y="737"/>
                </a:lnTo>
                <a:lnTo>
                  <a:pt x="551" y="677"/>
                </a:lnTo>
                <a:lnTo>
                  <a:pt x="558" y="620"/>
                </a:lnTo>
                <a:lnTo>
                  <a:pt x="564" y="562"/>
                </a:lnTo>
                <a:lnTo>
                  <a:pt x="570" y="506"/>
                </a:lnTo>
                <a:lnTo>
                  <a:pt x="574" y="453"/>
                </a:lnTo>
                <a:lnTo>
                  <a:pt x="579" y="399"/>
                </a:lnTo>
                <a:lnTo>
                  <a:pt x="578" y="376"/>
                </a:lnTo>
                <a:lnTo>
                  <a:pt x="578" y="353"/>
                </a:lnTo>
                <a:lnTo>
                  <a:pt x="578" y="330"/>
                </a:lnTo>
                <a:lnTo>
                  <a:pt x="576" y="309"/>
                </a:lnTo>
                <a:lnTo>
                  <a:pt x="576" y="287"/>
                </a:lnTo>
                <a:lnTo>
                  <a:pt x="574" y="266"/>
                </a:lnTo>
                <a:lnTo>
                  <a:pt x="572" y="247"/>
                </a:lnTo>
                <a:lnTo>
                  <a:pt x="570" y="228"/>
                </a:lnTo>
                <a:lnTo>
                  <a:pt x="568" y="209"/>
                </a:lnTo>
                <a:lnTo>
                  <a:pt x="564" y="191"/>
                </a:lnTo>
                <a:lnTo>
                  <a:pt x="562" y="176"/>
                </a:lnTo>
                <a:lnTo>
                  <a:pt x="558" y="159"/>
                </a:lnTo>
                <a:lnTo>
                  <a:pt x="555" y="145"/>
                </a:lnTo>
                <a:lnTo>
                  <a:pt x="551" y="130"/>
                </a:lnTo>
                <a:lnTo>
                  <a:pt x="547" y="117"/>
                </a:lnTo>
                <a:lnTo>
                  <a:pt x="543" y="105"/>
                </a:lnTo>
                <a:lnTo>
                  <a:pt x="539" y="94"/>
                </a:lnTo>
                <a:lnTo>
                  <a:pt x="535" y="82"/>
                </a:lnTo>
                <a:lnTo>
                  <a:pt x="533" y="72"/>
                </a:lnTo>
                <a:lnTo>
                  <a:pt x="532" y="63"/>
                </a:lnTo>
                <a:lnTo>
                  <a:pt x="532" y="55"/>
                </a:lnTo>
                <a:lnTo>
                  <a:pt x="532" y="48"/>
                </a:lnTo>
                <a:lnTo>
                  <a:pt x="532" y="40"/>
                </a:lnTo>
                <a:lnTo>
                  <a:pt x="533" y="34"/>
                </a:lnTo>
                <a:lnTo>
                  <a:pt x="535" y="28"/>
                </a:lnTo>
                <a:lnTo>
                  <a:pt x="537" y="24"/>
                </a:lnTo>
                <a:lnTo>
                  <a:pt x="541" y="19"/>
                </a:lnTo>
                <a:lnTo>
                  <a:pt x="545" y="15"/>
                </a:lnTo>
                <a:lnTo>
                  <a:pt x="549" y="11"/>
                </a:lnTo>
                <a:lnTo>
                  <a:pt x="555" y="7"/>
                </a:lnTo>
                <a:lnTo>
                  <a:pt x="560" y="5"/>
                </a:lnTo>
                <a:lnTo>
                  <a:pt x="566" y="3"/>
                </a:lnTo>
                <a:lnTo>
                  <a:pt x="574" y="0"/>
                </a:lnTo>
                <a:lnTo>
                  <a:pt x="581" y="0"/>
                </a:lnTo>
                <a:lnTo>
                  <a:pt x="589" y="0"/>
                </a:lnTo>
                <a:lnTo>
                  <a:pt x="597" y="0"/>
                </a:lnTo>
                <a:lnTo>
                  <a:pt x="606" y="1"/>
                </a:lnTo>
                <a:lnTo>
                  <a:pt x="616" y="3"/>
                </a:lnTo>
                <a:lnTo>
                  <a:pt x="626" y="5"/>
                </a:lnTo>
                <a:lnTo>
                  <a:pt x="637" y="9"/>
                </a:lnTo>
                <a:lnTo>
                  <a:pt x="649" y="13"/>
                </a:lnTo>
                <a:lnTo>
                  <a:pt x="660" y="17"/>
                </a:lnTo>
                <a:lnTo>
                  <a:pt x="674" y="23"/>
                </a:lnTo>
                <a:lnTo>
                  <a:pt x="685" y="26"/>
                </a:lnTo>
                <a:lnTo>
                  <a:pt x="698" y="32"/>
                </a:lnTo>
                <a:lnTo>
                  <a:pt x="714" y="40"/>
                </a:lnTo>
                <a:lnTo>
                  <a:pt x="727" y="46"/>
                </a:lnTo>
                <a:lnTo>
                  <a:pt x="743" y="53"/>
                </a:lnTo>
                <a:lnTo>
                  <a:pt x="741" y="109"/>
                </a:lnTo>
                <a:lnTo>
                  <a:pt x="741" y="163"/>
                </a:lnTo>
                <a:lnTo>
                  <a:pt x="739" y="216"/>
                </a:lnTo>
                <a:lnTo>
                  <a:pt x="737" y="268"/>
                </a:lnTo>
                <a:lnTo>
                  <a:pt x="733" y="320"/>
                </a:lnTo>
                <a:lnTo>
                  <a:pt x="731" y="370"/>
                </a:lnTo>
                <a:lnTo>
                  <a:pt x="727" y="418"/>
                </a:lnTo>
                <a:lnTo>
                  <a:pt x="725" y="466"/>
                </a:lnTo>
                <a:lnTo>
                  <a:pt x="722" y="512"/>
                </a:lnTo>
                <a:lnTo>
                  <a:pt x="718" y="558"/>
                </a:lnTo>
                <a:lnTo>
                  <a:pt x="714" y="602"/>
                </a:lnTo>
                <a:lnTo>
                  <a:pt x="710" y="644"/>
                </a:lnTo>
                <a:lnTo>
                  <a:pt x="704" y="687"/>
                </a:lnTo>
                <a:lnTo>
                  <a:pt x="700" y="727"/>
                </a:lnTo>
                <a:lnTo>
                  <a:pt x="695" y="765"/>
                </a:lnTo>
                <a:lnTo>
                  <a:pt x="689" y="804"/>
                </a:lnTo>
                <a:lnTo>
                  <a:pt x="683" y="842"/>
                </a:lnTo>
                <a:lnTo>
                  <a:pt x="677" y="877"/>
                </a:lnTo>
                <a:lnTo>
                  <a:pt x="672" y="913"/>
                </a:lnTo>
                <a:lnTo>
                  <a:pt x="666" y="946"/>
                </a:lnTo>
                <a:lnTo>
                  <a:pt x="658" y="978"/>
                </a:lnTo>
                <a:lnTo>
                  <a:pt x="651" y="1011"/>
                </a:lnTo>
                <a:lnTo>
                  <a:pt x="645" y="1042"/>
                </a:lnTo>
                <a:lnTo>
                  <a:pt x="637" y="1071"/>
                </a:lnTo>
                <a:lnTo>
                  <a:pt x="629" y="1099"/>
                </a:lnTo>
                <a:lnTo>
                  <a:pt x="620" y="1126"/>
                </a:lnTo>
                <a:lnTo>
                  <a:pt x="612" y="1153"/>
                </a:lnTo>
                <a:lnTo>
                  <a:pt x="604" y="1178"/>
                </a:lnTo>
                <a:lnTo>
                  <a:pt x="595" y="1201"/>
                </a:lnTo>
                <a:lnTo>
                  <a:pt x="585" y="1224"/>
                </a:lnTo>
                <a:lnTo>
                  <a:pt x="576" y="1247"/>
                </a:lnTo>
                <a:lnTo>
                  <a:pt x="566" y="1268"/>
                </a:lnTo>
                <a:lnTo>
                  <a:pt x="547" y="1309"/>
                </a:lnTo>
                <a:lnTo>
                  <a:pt x="528" y="1347"/>
                </a:lnTo>
                <a:lnTo>
                  <a:pt x="507" y="1383"/>
                </a:lnTo>
                <a:lnTo>
                  <a:pt x="485" y="1420"/>
                </a:lnTo>
                <a:lnTo>
                  <a:pt x="464" y="1454"/>
                </a:lnTo>
                <a:lnTo>
                  <a:pt x="443" y="1487"/>
                </a:lnTo>
                <a:lnTo>
                  <a:pt x="422" y="1518"/>
                </a:lnTo>
                <a:lnTo>
                  <a:pt x="399" y="1549"/>
                </a:lnTo>
                <a:lnTo>
                  <a:pt x="378" y="1579"/>
                </a:lnTo>
                <a:lnTo>
                  <a:pt x="355" y="1606"/>
                </a:lnTo>
                <a:lnTo>
                  <a:pt x="332" y="1633"/>
                </a:lnTo>
                <a:lnTo>
                  <a:pt x="309" y="1660"/>
                </a:lnTo>
                <a:lnTo>
                  <a:pt x="286" y="1685"/>
                </a:lnTo>
                <a:lnTo>
                  <a:pt x="263" y="1708"/>
                </a:lnTo>
                <a:lnTo>
                  <a:pt x="238" y="1731"/>
                </a:lnTo>
                <a:lnTo>
                  <a:pt x="215" y="1754"/>
                </a:lnTo>
                <a:lnTo>
                  <a:pt x="192" y="1773"/>
                </a:lnTo>
                <a:lnTo>
                  <a:pt x="169" y="1790"/>
                </a:lnTo>
                <a:lnTo>
                  <a:pt x="148" y="1806"/>
                </a:lnTo>
                <a:lnTo>
                  <a:pt x="128" y="1819"/>
                </a:lnTo>
                <a:lnTo>
                  <a:pt x="111" y="1833"/>
                </a:lnTo>
                <a:lnTo>
                  <a:pt x="94" y="1842"/>
                </a:lnTo>
                <a:lnTo>
                  <a:pt x="79" y="1854"/>
                </a:lnTo>
                <a:lnTo>
                  <a:pt x="65" y="1861"/>
                </a:lnTo>
                <a:lnTo>
                  <a:pt x="52" y="1869"/>
                </a:lnTo>
                <a:lnTo>
                  <a:pt x="42" y="1875"/>
                </a:lnTo>
                <a:lnTo>
                  <a:pt x="31" y="1879"/>
                </a:lnTo>
                <a:lnTo>
                  <a:pt x="23" y="1883"/>
                </a:lnTo>
                <a:lnTo>
                  <a:pt x="15" y="1883"/>
                </a:lnTo>
                <a:lnTo>
                  <a:pt x="9" y="1884"/>
                </a:lnTo>
                <a:lnTo>
                  <a:pt x="6" y="1883"/>
                </a:lnTo>
                <a:lnTo>
                  <a:pt x="4" y="1883"/>
                </a:lnTo>
                <a:lnTo>
                  <a:pt x="2" y="1879"/>
                </a:lnTo>
                <a:lnTo>
                  <a:pt x="0" y="1875"/>
                </a:lnTo>
                <a:lnTo>
                  <a:pt x="2" y="1869"/>
                </a:lnTo>
                <a:lnTo>
                  <a:pt x="4" y="1863"/>
                </a:lnTo>
                <a:lnTo>
                  <a:pt x="6" y="1856"/>
                </a:lnTo>
                <a:lnTo>
                  <a:pt x="9" y="1848"/>
                </a:lnTo>
                <a:lnTo>
                  <a:pt x="15" y="1838"/>
                </a:lnTo>
                <a:lnTo>
                  <a:pt x="23" y="1827"/>
                </a:lnTo>
                <a:lnTo>
                  <a:pt x="31" y="1817"/>
                </a:lnTo>
                <a:lnTo>
                  <a:pt x="38" y="1804"/>
                </a:lnTo>
                <a:lnTo>
                  <a:pt x="50" y="1792"/>
                </a:lnTo>
                <a:lnTo>
                  <a:pt x="61" y="1777"/>
                </a:lnTo>
                <a:lnTo>
                  <a:pt x="75" y="1764"/>
                </a:lnTo>
                <a:lnTo>
                  <a:pt x="88" y="1748"/>
                </a:lnTo>
                <a:lnTo>
                  <a:pt x="103" y="1733"/>
                </a:lnTo>
                <a:lnTo>
                  <a:pt x="121" y="1716"/>
                </a:lnTo>
                <a:lnTo>
                  <a:pt x="136" y="1698"/>
                </a:lnTo>
                <a:lnTo>
                  <a:pt x="151" y="1679"/>
                </a:lnTo>
                <a:lnTo>
                  <a:pt x="167" y="1660"/>
                </a:lnTo>
                <a:lnTo>
                  <a:pt x="182" y="1641"/>
                </a:lnTo>
                <a:lnTo>
                  <a:pt x="198" y="1620"/>
                </a:lnTo>
                <a:lnTo>
                  <a:pt x="213" y="1598"/>
                </a:lnTo>
                <a:lnTo>
                  <a:pt x="228" y="1575"/>
                </a:lnTo>
                <a:lnTo>
                  <a:pt x="244" y="1552"/>
                </a:lnTo>
                <a:lnTo>
                  <a:pt x="259" y="1527"/>
                </a:lnTo>
                <a:lnTo>
                  <a:pt x="274" y="1502"/>
                </a:lnTo>
                <a:lnTo>
                  <a:pt x="290" y="1476"/>
                </a:lnTo>
                <a:lnTo>
                  <a:pt x="305" y="1449"/>
                </a:lnTo>
                <a:lnTo>
                  <a:pt x="320" y="1422"/>
                </a:lnTo>
                <a:lnTo>
                  <a:pt x="336" y="1393"/>
                </a:lnTo>
                <a:lnTo>
                  <a:pt x="351" y="1362"/>
                </a:lnTo>
                <a:lnTo>
                  <a:pt x="366" y="1332"/>
                </a:lnTo>
                <a:lnTo>
                  <a:pt x="380" y="1303"/>
                </a:lnTo>
                <a:lnTo>
                  <a:pt x="391" y="1274"/>
                </a:lnTo>
                <a:lnTo>
                  <a:pt x="414" y="1216"/>
                </a:lnTo>
                <a:lnTo>
                  <a:pt x="437" y="1159"/>
                </a:lnTo>
                <a:lnTo>
                  <a:pt x="457" y="1099"/>
                </a:lnTo>
                <a:lnTo>
                  <a:pt x="474" y="1042"/>
                </a:lnTo>
                <a:lnTo>
                  <a:pt x="491" y="980"/>
                </a:lnTo>
                <a:lnTo>
                  <a:pt x="507" y="921"/>
                </a:lnTo>
                <a:lnTo>
                  <a:pt x="520" y="8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81"/>
          <p:cNvSpPr/>
          <p:nvPr/>
        </p:nvSpPr>
        <p:spPr>
          <a:xfrm>
            <a:off x="6581880" y="3381480"/>
            <a:ext cx="969840" cy="263520"/>
          </a:xfrm>
          <a:custGeom>
            <a:avLst/>
            <a:gdLst/>
            <a:ahLst/>
            <a:rect l="l" t="t" r="r" b="b"/>
            <a:pathLst>
              <a:path w="1220" h="332">
                <a:moveTo>
                  <a:pt x="0" y="332"/>
                </a:moveTo>
                <a:lnTo>
                  <a:pt x="0" y="286"/>
                </a:lnTo>
                <a:lnTo>
                  <a:pt x="0" y="242"/>
                </a:lnTo>
                <a:lnTo>
                  <a:pt x="19" y="242"/>
                </a:lnTo>
                <a:lnTo>
                  <a:pt x="42" y="240"/>
                </a:lnTo>
                <a:lnTo>
                  <a:pt x="65" y="238"/>
                </a:lnTo>
                <a:lnTo>
                  <a:pt x="92" y="235"/>
                </a:lnTo>
                <a:lnTo>
                  <a:pt x="119" y="231"/>
                </a:lnTo>
                <a:lnTo>
                  <a:pt x="149" y="227"/>
                </a:lnTo>
                <a:lnTo>
                  <a:pt x="180" y="219"/>
                </a:lnTo>
                <a:lnTo>
                  <a:pt x="195" y="217"/>
                </a:lnTo>
                <a:lnTo>
                  <a:pt x="213" y="213"/>
                </a:lnTo>
                <a:lnTo>
                  <a:pt x="230" y="210"/>
                </a:lnTo>
                <a:lnTo>
                  <a:pt x="249" y="204"/>
                </a:lnTo>
                <a:lnTo>
                  <a:pt x="266" y="200"/>
                </a:lnTo>
                <a:lnTo>
                  <a:pt x="286" y="194"/>
                </a:lnTo>
                <a:lnTo>
                  <a:pt x="305" y="190"/>
                </a:lnTo>
                <a:lnTo>
                  <a:pt x="324" y="185"/>
                </a:lnTo>
                <a:lnTo>
                  <a:pt x="345" y="179"/>
                </a:lnTo>
                <a:lnTo>
                  <a:pt x="366" y="173"/>
                </a:lnTo>
                <a:lnTo>
                  <a:pt x="387" y="167"/>
                </a:lnTo>
                <a:lnTo>
                  <a:pt x="408" y="160"/>
                </a:lnTo>
                <a:lnTo>
                  <a:pt x="431" y="154"/>
                </a:lnTo>
                <a:lnTo>
                  <a:pt x="454" y="146"/>
                </a:lnTo>
                <a:lnTo>
                  <a:pt x="477" y="139"/>
                </a:lnTo>
                <a:lnTo>
                  <a:pt x="501" y="131"/>
                </a:lnTo>
                <a:lnTo>
                  <a:pt x="525" y="123"/>
                </a:lnTo>
                <a:lnTo>
                  <a:pt x="550" y="116"/>
                </a:lnTo>
                <a:lnTo>
                  <a:pt x="573" y="108"/>
                </a:lnTo>
                <a:lnTo>
                  <a:pt x="598" y="100"/>
                </a:lnTo>
                <a:lnTo>
                  <a:pt x="620" y="94"/>
                </a:lnTo>
                <a:lnTo>
                  <a:pt x="643" y="87"/>
                </a:lnTo>
                <a:lnTo>
                  <a:pt x="664" y="81"/>
                </a:lnTo>
                <a:lnTo>
                  <a:pt x="685" y="75"/>
                </a:lnTo>
                <a:lnTo>
                  <a:pt x="704" y="70"/>
                </a:lnTo>
                <a:lnTo>
                  <a:pt x="725" y="64"/>
                </a:lnTo>
                <a:lnTo>
                  <a:pt x="742" y="58"/>
                </a:lnTo>
                <a:lnTo>
                  <a:pt x="762" y="54"/>
                </a:lnTo>
                <a:lnTo>
                  <a:pt x="779" y="48"/>
                </a:lnTo>
                <a:lnTo>
                  <a:pt x="796" y="45"/>
                </a:lnTo>
                <a:lnTo>
                  <a:pt x="813" y="39"/>
                </a:lnTo>
                <a:lnTo>
                  <a:pt x="829" y="35"/>
                </a:lnTo>
                <a:lnTo>
                  <a:pt x="844" y="31"/>
                </a:lnTo>
                <a:lnTo>
                  <a:pt x="859" y="27"/>
                </a:lnTo>
                <a:lnTo>
                  <a:pt x="875" y="23"/>
                </a:lnTo>
                <a:lnTo>
                  <a:pt x="888" y="22"/>
                </a:lnTo>
                <a:lnTo>
                  <a:pt x="902" y="18"/>
                </a:lnTo>
                <a:lnTo>
                  <a:pt x="913" y="16"/>
                </a:lnTo>
                <a:lnTo>
                  <a:pt x="925" y="12"/>
                </a:lnTo>
                <a:lnTo>
                  <a:pt x="936" y="10"/>
                </a:lnTo>
                <a:lnTo>
                  <a:pt x="948" y="8"/>
                </a:lnTo>
                <a:lnTo>
                  <a:pt x="957" y="6"/>
                </a:lnTo>
                <a:lnTo>
                  <a:pt x="967" y="4"/>
                </a:lnTo>
                <a:lnTo>
                  <a:pt x="977" y="4"/>
                </a:lnTo>
                <a:lnTo>
                  <a:pt x="986" y="2"/>
                </a:lnTo>
                <a:lnTo>
                  <a:pt x="994" y="0"/>
                </a:lnTo>
                <a:lnTo>
                  <a:pt x="1001" y="0"/>
                </a:lnTo>
                <a:lnTo>
                  <a:pt x="1007" y="0"/>
                </a:lnTo>
                <a:lnTo>
                  <a:pt x="1015" y="0"/>
                </a:lnTo>
                <a:lnTo>
                  <a:pt x="1021" y="0"/>
                </a:lnTo>
                <a:lnTo>
                  <a:pt x="1038" y="0"/>
                </a:lnTo>
                <a:lnTo>
                  <a:pt x="1055" y="2"/>
                </a:lnTo>
                <a:lnTo>
                  <a:pt x="1073" y="4"/>
                </a:lnTo>
                <a:lnTo>
                  <a:pt x="1092" y="8"/>
                </a:lnTo>
                <a:lnTo>
                  <a:pt x="1109" y="12"/>
                </a:lnTo>
                <a:lnTo>
                  <a:pt x="1126" y="16"/>
                </a:lnTo>
                <a:lnTo>
                  <a:pt x="1161" y="25"/>
                </a:lnTo>
                <a:lnTo>
                  <a:pt x="1174" y="35"/>
                </a:lnTo>
                <a:lnTo>
                  <a:pt x="1186" y="45"/>
                </a:lnTo>
                <a:lnTo>
                  <a:pt x="1195" y="54"/>
                </a:lnTo>
                <a:lnTo>
                  <a:pt x="1203" y="62"/>
                </a:lnTo>
                <a:lnTo>
                  <a:pt x="1211" y="70"/>
                </a:lnTo>
                <a:lnTo>
                  <a:pt x="1213" y="73"/>
                </a:lnTo>
                <a:lnTo>
                  <a:pt x="1216" y="77"/>
                </a:lnTo>
                <a:lnTo>
                  <a:pt x="1216" y="81"/>
                </a:lnTo>
                <a:lnTo>
                  <a:pt x="1218" y="83"/>
                </a:lnTo>
                <a:lnTo>
                  <a:pt x="1220" y="87"/>
                </a:lnTo>
                <a:lnTo>
                  <a:pt x="1220" y="89"/>
                </a:lnTo>
                <a:lnTo>
                  <a:pt x="1216" y="93"/>
                </a:lnTo>
                <a:lnTo>
                  <a:pt x="1213" y="94"/>
                </a:lnTo>
                <a:lnTo>
                  <a:pt x="1207" y="98"/>
                </a:lnTo>
                <a:lnTo>
                  <a:pt x="1199" y="100"/>
                </a:lnTo>
                <a:lnTo>
                  <a:pt x="1192" y="104"/>
                </a:lnTo>
                <a:lnTo>
                  <a:pt x="1182" y="108"/>
                </a:lnTo>
                <a:lnTo>
                  <a:pt x="1170" y="112"/>
                </a:lnTo>
                <a:lnTo>
                  <a:pt x="1157" y="116"/>
                </a:lnTo>
                <a:lnTo>
                  <a:pt x="1142" y="121"/>
                </a:lnTo>
                <a:lnTo>
                  <a:pt x="1126" y="125"/>
                </a:lnTo>
                <a:lnTo>
                  <a:pt x="1109" y="129"/>
                </a:lnTo>
                <a:lnTo>
                  <a:pt x="1090" y="135"/>
                </a:lnTo>
                <a:lnTo>
                  <a:pt x="1069" y="139"/>
                </a:lnTo>
                <a:lnTo>
                  <a:pt x="1046" y="142"/>
                </a:lnTo>
                <a:lnTo>
                  <a:pt x="1023" y="148"/>
                </a:lnTo>
                <a:lnTo>
                  <a:pt x="998" y="154"/>
                </a:lnTo>
                <a:lnTo>
                  <a:pt x="971" y="160"/>
                </a:lnTo>
                <a:lnTo>
                  <a:pt x="942" y="167"/>
                </a:lnTo>
                <a:lnTo>
                  <a:pt x="915" y="175"/>
                </a:lnTo>
                <a:lnTo>
                  <a:pt x="886" y="183"/>
                </a:lnTo>
                <a:lnTo>
                  <a:pt x="858" y="189"/>
                </a:lnTo>
                <a:lnTo>
                  <a:pt x="829" y="196"/>
                </a:lnTo>
                <a:lnTo>
                  <a:pt x="798" y="204"/>
                </a:lnTo>
                <a:lnTo>
                  <a:pt x="767" y="210"/>
                </a:lnTo>
                <a:lnTo>
                  <a:pt x="737" y="217"/>
                </a:lnTo>
                <a:lnTo>
                  <a:pt x="704" y="225"/>
                </a:lnTo>
                <a:lnTo>
                  <a:pt x="673" y="233"/>
                </a:lnTo>
                <a:lnTo>
                  <a:pt x="641" y="238"/>
                </a:lnTo>
                <a:lnTo>
                  <a:pt x="606" y="246"/>
                </a:lnTo>
                <a:lnTo>
                  <a:pt x="573" y="254"/>
                </a:lnTo>
                <a:lnTo>
                  <a:pt x="539" y="261"/>
                </a:lnTo>
                <a:lnTo>
                  <a:pt x="504" y="269"/>
                </a:lnTo>
                <a:lnTo>
                  <a:pt x="468" y="275"/>
                </a:lnTo>
                <a:lnTo>
                  <a:pt x="433" y="283"/>
                </a:lnTo>
                <a:lnTo>
                  <a:pt x="401" y="288"/>
                </a:lnTo>
                <a:lnTo>
                  <a:pt x="366" y="294"/>
                </a:lnTo>
                <a:lnTo>
                  <a:pt x="301" y="306"/>
                </a:lnTo>
                <a:lnTo>
                  <a:pt x="238" y="315"/>
                </a:lnTo>
                <a:lnTo>
                  <a:pt x="207" y="319"/>
                </a:lnTo>
                <a:lnTo>
                  <a:pt x="176" y="323"/>
                </a:lnTo>
                <a:lnTo>
                  <a:pt x="145" y="325"/>
                </a:lnTo>
                <a:lnTo>
                  <a:pt x="115" y="327"/>
                </a:lnTo>
                <a:lnTo>
                  <a:pt x="86" y="329"/>
                </a:lnTo>
                <a:lnTo>
                  <a:pt x="57" y="331"/>
                </a:lnTo>
                <a:lnTo>
                  <a:pt x="28" y="332"/>
                </a:lnTo>
                <a:lnTo>
                  <a:pt x="0" y="3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82"/>
          <p:cNvSpPr/>
          <p:nvPr/>
        </p:nvSpPr>
        <p:spPr>
          <a:xfrm>
            <a:off x="6524640" y="2759040"/>
            <a:ext cx="476280" cy="635040"/>
          </a:xfrm>
          <a:custGeom>
            <a:avLst/>
            <a:gdLst/>
            <a:ahLst/>
            <a:rect l="l" t="t" r="r" b="b"/>
            <a:pathLst>
              <a:path w="600" h="801">
                <a:moveTo>
                  <a:pt x="435" y="415"/>
                </a:moveTo>
                <a:lnTo>
                  <a:pt x="416" y="438"/>
                </a:lnTo>
                <a:lnTo>
                  <a:pt x="397" y="461"/>
                </a:lnTo>
                <a:lnTo>
                  <a:pt x="378" y="484"/>
                </a:lnTo>
                <a:lnTo>
                  <a:pt x="359" y="505"/>
                </a:lnTo>
                <a:lnTo>
                  <a:pt x="341" y="526"/>
                </a:lnTo>
                <a:lnTo>
                  <a:pt x="322" y="545"/>
                </a:lnTo>
                <a:lnTo>
                  <a:pt x="305" y="567"/>
                </a:lnTo>
                <a:lnTo>
                  <a:pt x="286" y="584"/>
                </a:lnTo>
                <a:lnTo>
                  <a:pt x="268" y="603"/>
                </a:lnTo>
                <a:lnTo>
                  <a:pt x="251" y="620"/>
                </a:lnTo>
                <a:lnTo>
                  <a:pt x="234" y="638"/>
                </a:lnTo>
                <a:lnTo>
                  <a:pt x="218" y="653"/>
                </a:lnTo>
                <a:lnTo>
                  <a:pt x="201" y="668"/>
                </a:lnTo>
                <a:lnTo>
                  <a:pt x="186" y="682"/>
                </a:lnTo>
                <a:lnTo>
                  <a:pt x="169" y="695"/>
                </a:lnTo>
                <a:lnTo>
                  <a:pt x="153" y="709"/>
                </a:lnTo>
                <a:lnTo>
                  <a:pt x="138" y="720"/>
                </a:lnTo>
                <a:lnTo>
                  <a:pt x="124" y="730"/>
                </a:lnTo>
                <a:lnTo>
                  <a:pt x="111" y="741"/>
                </a:lnTo>
                <a:lnTo>
                  <a:pt x="97" y="751"/>
                </a:lnTo>
                <a:lnTo>
                  <a:pt x="84" y="760"/>
                </a:lnTo>
                <a:lnTo>
                  <a:pt x="73" y="768"/>
                </a:lnTo>
                <a:lnTo>
                  <a:pt x="61" y="776"/>
                </a:lnTo>
                <a:lnTo>
                  <a:pt x="51" y="782"/>
                </a:lnTo>
                <a:lnTo>
                  <a:pt x="42" y="787"/>
                </a:lnTo>
                <a:lnTo>
                  <a:pt x="32" y="791"/>
                </a:lnTo>
                <a:lnTo>
                  <a:pt x="25" y="795"/>
                </a:lnTo>
                <a:lnTo>
                  <a:pt x="19" y="799"/>
                </a:lnTo>
                <a:lnTo>
                  <a:pt x="13" y="799"/>
                </a:lnTo>
                <a:lnTo>
                  <a:pt x="7" y="801"/>
                </a:lnTo>
                <a:lnTo>
                  <a:pt x="3" y="799"/>
                </a:lnTo>
                <a:lnTo>
                  <a:pt x="2" y="797"/>
                </a:lnTo>
                <a:lnTo>
                  <a:pt x="0" y="795"/>
                </a:lnTo>
                <a:lnTo>
                  <a:pt x="0" y="791"/>
                </a:lnTo>
                <a:lnTo>
                  <a:pt x="0" y="785"/>
                </a:lnTo>
                <a:lnTo>
                  <a:pt x="2" y="780"/>
                </a:lnTo>
                <a:lnTo>
                  <a:pt x="3" y="774"/>
                </a:lnTo>
                <a:lnTo>
                  <a:pt x="7" y="766"/>
                </a:lnTo>
                <a:lnTo>
                  <a:pt x="13" y="757"/>
                </a:lnTo>
                <a:lnTo>
                  <a:pt x="19" y="747"/>
                </a:lnTo>
                <a:lnTo>
                  <a:pt x="26" y="736"/>
                </a:lnTo>
                <a:lnTo>
                  <a:pt x="34" y="722"/>
                </a:lnTo>
                <a:lnTo>
                  <a:pt x="44" y="709"/>
                </a:lnTo>
                <a:lnTo>
                  <a:pt x="53" y="693"/>
                </a:lnTo>
                <a:lnTo>
                  <a:pt x="65" y="676"/>
                </a:lnTo>
                <a:lnTo>
                  <a:pt x="78" y="659"/>
                </a:lnTo>
                <a:lnTo>
                  <a:pt x="92" y="640"/>
                </a:lnTo>
                <a:lnTo>
                  <a:pt x="107" y="618"/>
                </a:lnTo>
                <a:lnTo>
                  <a:pt x="136" y="576"/>
                </a:lnTo>
                <a:lnTo>
                  <a:pt x="167" y="534"/>
                </a:lnTo>
                <a:lnTo>
                  <a:pt x="193" y="494"/>
                </a:lnTo>
                <a:lnTo>
                  <a:pt x="220" y="451"/>
                </a:lnTo>
                <a:lnTo>
                  <a:pt x="247" y="411"/>
                </a:lnTo>
                <a:lnTo>
                  <a:pt x="272" y="371"/>
                </a:lnTo>
                <a:lnTo>
                  <a:pt x="295" y="329"/>
                </a:lnTo>
                <a:lnTo>
                  <a:pt x="318" y="286"/>
                </a:lnTo>
                <a:lnTo>
                  <a:pt x="328" y="265"/>
                </a:lnTo>
                <a:lnTo>
                  <a:pt x="337" y="244"/>
                </a:lnTo>
                <a:lnTo>
                  <a:pt x="345" y="227"/>
                </a:lnTo>
                <a:lnTo>
                  <a:pt x="353" y="208"/>
                </a:lnTo>
                <a:lnTo>
                  <a:pt x="360" y="192"/>
                </a:lnTo>
                <a:lnTo>
                  <a:pt x="364" y="177"/>
                </a:lnTo>
                <a:lnTo>
                  <a:pt x="370" y="162"/>
                </a:lnTo>
                <a:lnTo>
                  <a:pt x="374" y="148"/>
                </a:lnTo>
                <a:lnTo>
                  <a:pt x="376" y="135"/>
                </a:lnTo>
                <a:lnTo>
                  <a:pt x="378" y="123"/>
                </a:lnTo>
                <a:lnTo>
                  <a:pt x="380" y="114"/>
                </a:lnTo>
                <a:lnTo>
                  <a:pt x="382" y="102"/>
                </a:lnTo>
                <a:lnTo>
                  <a:pt x="382" y="92"/>
                </a:lnTo>
                <a:lnTo>
                  <a:pt x="380" y="85"/>
                </a:lnTo>
                <a:lnTo>
                  <a:pt x="378" y="75"/>
                </a:lnTo>
                <a:lnTo>
                  <a:pt x="378" y="69"/>
                </a:lnTo>
                <a:lnTo>
                  <a:pt x="372" y="64"/>
                </a:lnTo>
                <a:lnTo>
                  <a:pt x="370" y="58"/>
                </a:lnTo>
                <a:lnTo>
                  <a:pt x="366" y="54"/>
                </a:lnTo>
                <a:lnTo>
                  <a:pt x="364" y="50"/>
                </a:lnTo>
                <a:lnTo>
                  <a:pt x="362" y="45"/>
                </a:lnTo>
                <a:lnTo>
                  <a:pt x="360" y="41"/>
                </a:lnTo>
                <a:lnTo>
                  <a:pt x="360" y="37"/>
                </a:lnTo>
                <a:lnTo>
                  <a:pt x="360" y="31"/>
                </a:lnTo>
                <a:lnTo>
                  <a:pt x="362" y="27"/>
                </a:lnTo>
                <a:lnTo>
                  <a:pt x="362" y="23"/>
                </a:lnTo>
                <a:lnTo>
                  <a:pt x="366" y="20"/>
                </a:lnTo>
                <a:lnTo>
                  <a:pt x="368" y="16"/>
                </a:lnTo>
                <a:lnTo>
                  <a:pt x="372" y="14"/>
                </a:lnTo>
                <a:lnTo>
                  <a:pt x="378" y="10"/>
                </a:lnTo>
                <a:lnTo>
                  <a:pt x="382" y="8"/>
                </a:lnTo>
                <a:lnTo>
                  <a:pt x="389" y="4"/>
                </a:lnTo>
                <a:lnTo>
                  <a:pt x="393" y="2"/>
                </a:lnTo>
                <a:lnTo>
                  <a:pt x="399" y="0"/>
                </a:lnTo>
                <a:lnTo>
                  <a:pt x="405" y="0"/>
                </a:lnTo>
                <a:lnTo>
                  <a:pt x="410" y="0"/>
                </a:lnTo>
                <a:lnTo>
                  <a:pt x="416" y="0"/>
                </a:lnTo>
                <a:lnTo>
                  <a:pt x="424" y="0"/>
                </a:lnTo>
                <a:lnTo>
                  <a:pt x="431" y="2"/>
                </a:lnTo>
                <a:lnTo>
                  <a:pt x="439" y="4"/>
                </a:lnTo>
                <a:lnTo>
                  <a:pt x="449" y="8"/>
                </a:lnTo>
                <a:lnTo>
                  <a:pt x="456" y="10"/>
                </a:lnTo>
                <a:lnTo>
                  <a:pt x="466" y="14"/>
                </a:lnTo>
                <a:lnTo>
                  <a:pt x="476" y="20"/>
                </a:lnTo>
                <a:lnTo>
                  <a:pt x="487" y="23"/>
                </a:lnTo>
                <a:lnTo>
                  <a:pt x="497" y="29"/>
                </a:lnTo>
                <a:lnTo>
                  <a:pt x="506" y="37"/>
                </a:lnTo>
                <a:lnTo>
                  <a:pt x="518" y="43"/>
                </a:lnTo>
                <a:lnTo>
                  <a:pt x="527" y="50"/>
                </a:lnTo>
                <a:lnTo>
                  <a:pt x="539" y="58"/>
                </a:lnTo>
                <a:lnTo>
                  <a:pt x="547" y="64"/>
                </a:lnTo>
                <a:lnTo>
                  <a:pt x="554" y="69"/>
                </a:lnTo>
                <a:lnTo>
                  <a:pt x="562" y="77"/>
                </a:lnTo>
                <a:lnTo>
                  <a:pt x="570" y="83"/>
                </a:lnTo>
                <a:lnTo>
                  <a:pt x="575" y="89"/>
                </a:lnTo>
                <a:lnTo>
                  <a:pt x="581" y="94"/>
                </a:lnTo>
                <a:lnTo>
                  <a:pt x="585" y="100"/>
                </a:lnTo>
                <a:lnTo>
                  <a:pt x="589" y="106"/>
                </a:lnTo>
                <a:lnTo>
                  <a:pt x="593" y="112"/>
                </a:lnTo>
                <a:lnTo>
                  <a:pt x="595" y="119"/>
                </a:lnTo>
                <a:lnTo>
                  <a:pt x="597" y="125"/>
                </a:lnTo>
                <a:lnTo>
                  <a:pt x="598" y="131"/>
                </a:lnTo>
                <a:lnTo>
                  <a:pt x="600" y="139"/>
                </a:lnTo>
                <a:lnTo>
                  <a:pt x="600" y="146"/>
                </a:lnTo>
                <a:lnTo>
                  <a:pt x="598" y="154"/>
                </a:lnTo>
                <a:lnTo>
                  <a:pt x="597" y="162"/>
                </a:lnTo>
                <a:lnTo>
                  <a:pt x="595" y="173"/>
                </a:lnTo>
                <a:lnTo>
                  <a:pt x="589" y="183"/>
                </a:lnTo>
                <a:lnTo>
                  <a:pt x="583" y="196"/>
                </a:lnTo>
                <a:lnTo>
                  <a:pt x="575" y="210"/>
                </a:lnTo>
                <a:lnTo>
                  <a:pt x="566" y="225"/>
                </a:lnTo>
                <a:lnTo>
                  <a:pt x="556" y="240"/>
                </a:lnTo>
                <a:lnTo>
                  <a:pt x="547" y="258"/>
                </a:lnTo>
                <a:lnTo>
                  <a:pt x="533" y="277"/>
                </a:lnTo>
                <a:lnTo>
                  <a:pt x="520" y="296"/>
                </a:lnTo>
                <a:lnTo>
                  <a:pt x="504" y="317"/>
                </a:lnTo>
                <a:lnTo>
                  <a:pt x="489" y="340"/>
                </a:lnTo>
                <a:lnTo>
                  <a:pt x="472" y="363"/>
                </a:lnTo>
                <a:lnTo>
                  <a:pt x="455" y="388"/>
                </a:lnTo>
                <a:lnTo>
                  <a:pt x="435" y="4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83"/>
          <p:cNvSpPr/>
          <p:nvPr/>
        </p:nvSpPr>
        <p:spPr>
          <a:xfrm>
            <a:off x="6796080" y="2914560"/>
            <a:ext cx="577800" cy="649440"/>
          </a:xfrm>
          <a:custGeom>
            <a:avLst/>
            <a:gdLst/>
            <a:ahLst/>
            <a:rect l="l" t="t" r="r" b="b"/>
            <a:pathLst>
              <a:path w="730" h="820">
                <a:moveTo>
                  <a:pt x="106" y="820"/>
                </a:moveTo>
                <a:lnTo>
                  <a:pt x="60" y="820"/>
                </a:lnTo>
                <a:lnTo>
                  <a:pt x="12" y="820"/>
                </a:lnTo>
                <a:lnTo>
                  <a:pt x="19" y="806"/>
                </a:lnTo>
                <a:lnTo>
                  <a:pt x="27" y="791"/>
                </a:lnTo>
                <a:lnTo>
                  <a:pt x="37" y="776"/>
                </a:lnTo>
                <a:lnTo>
                  <a:pt x="46" y="758"/>
                </a:lnTo>
                <a:lnTo>
                  <a:pt x="58" y="741"/>
                </a:lnTo>
                <a:lnTo>
                  <a:pt x="71" y="722"/>
                </a:lnTo>
                <a:lnTo>
                  <a:pt x="85" y="701"/>
                </a:lnTo>
                <a:lnTo>
                  <a:pt x="98" y="678"/>
                </a:lnTo>
                <a:lnTo>
                  <a:pt x="114" y="655"/>
                </a:lnTo>
                <a:lnTo>
                  <a:pt x="129" y="630"/>
                </a:lnTo>
                <a:lnTo>
                  <a:pt x="144" y="605"/>
                </a:lnTo>
                <a:lnTo>
                  <a:pt x="161" y="578"/>
                </a:lnTo>
                <a:lnTo>
                  <a:pt x="179" y="551"/>
                </a:lnTo>
                <a:lnTo>
                  <a:pt x="198" y="522"/>
                </a:lnTo>
                <a:lnTo>
                  <a:pt x="215" y="492"/>
                </a:lnTo>
                <a:lnTo>
                  <a:pt x="236" y="461"/>
                </a:lnTo>
                <a:lnTo>
                  <a:pt x="254" y="430"/>
                </a:lnTo>
                <a:lnTo>
                  <a:pt x="273" y="401"/>
                </a:lnTo>
                <a:lnTo>
                  <a:pt x="288" y="374"/>
                </a:lnTo>
                <a:lnTo>
                  <a:pt x="304" y="349"/>
                </a:lnTo>
                <a:lnTo>
                  <a:pt x="317" y="326"/>
                </a:lnTo>
                <a:lnTo>
                  <a:pt x="328" y="305"/>
                </a:lnTo>
                <a:lnTo>
                  <a:pt x="340" y="286"/>
                </a:lnTo>
                <a:lnTo>
                  <a:pt x="350" y="269"/>
                </a:lnTo>
                <a:lnTo>
                  <a:pt x="357" y="254"/>
                </a:lnTo>
                <a:lnTo>
                  <a:pt x="365" y="238"/>
                </a:lnTo>
                <a:lnTo>
                  <a:pt x="371" y="227"/>
                </a:lnTo>
                <a:lnTo>
                  <a:pt x="375" y="215"/>
                </a:lnTo>
                <a:lnTo>
                  <a:pt x="376" y="207"/>
                </a:lnTo>
                <a:lnTo>
                  <a:pt x="378" y="200"/>
                </a:lnTo>
                <a:lnTo>
                  <a:pt x="378" y="196"/>
                </a:lnTo>
                <a:lnTo>
                  <a:pt x="376" y="192"/>
                </a:lnTo>
                <a:lnTo>
                  <a:pt x="375" y="190"/>
                </a:lnTo>
                <a:lnTo>
                  <a:pt x="373" y="190"/>
                </a:lnTo>
                <a:lnTo>
                  <a:pt x="371" y="190"/>
                </a:lnTo>
                <a:lnTo>
                  <a:pt x="367" y="188"/>
                </a:lnTo>
                <a:lnTo>
                  <a:pt x="363" y="188"/>
                </a:lnTo>
                <a:lnTo>
                  <a:pt x="357" y="188"/>
                </a:lnTo>
                <a:lnTo>
                  <a:pt x="352" y="188"/>
                </a:lnTo>
                <a:lnTo>
                  <a:pt x="346" y="190"/>
                </a:lnTo>
                <a:lnTo>
                  <a:pt x="338" y="190"/>
                </a:lnTo>
                <a:lnTo>
                  <a:pt x="330" y="190"/>
                </a:lnTo>
                <a:lnTo>
                  <a:pt x="323" y="192"/>
                </a:lnTo>
                <a:lnTo>
                  <a:pt x="313" y="192"/>
                </a:lnTo>
                <a:lnTo>
                  <a:pt x="305" y="194"/>
                </a:lnTo>
                <a:lnTo>
                  <a:pt x="294" y="196"/>
                </a:lnTo>
                <a:lnTo>
                  <a:pt x="284" y="198"/>
                </a:lnTo>
                <a:lnTo>
                  <a:pt x="273" y="200"/>
                </a:lnTo>
                <a:lnTo>
                  <a:pt x="259" y="202"/>
                </a:lnTo>
                <a:lnTo>
                  <a:pt x="246" y="204"/>
                </a:lnTo>
                <a:lnTo>
                  <a:pt x="233" y="207"/>
                </a:lnTo>
                <a:lnTo>
                  <a:pt x="219" y="209"/>
                </a:lnTo>
                <a:lnTo>
                  <a:pt x="204" y="213"/>
                </a:lnTo>
                <a:lnTo>
                  <a:pt x="188" y="215"/>
                </a:lnTo>
                <a:lnTo>
                  <a:pt x="173" y="219"/>
                </a:lnTo>
                <a:lnTo>
                  <a:pt x="156" y="223"/>
                </a:lnTo>
                <a:lnTo>
                  <a:pt x="138" y="227"/>
                </a:lnTo>
                <a:lnTo>
                  <a:pt x="121" y="230"/>
                </a:lnTo>
                <a:lnTo>
                  <a:pt x="102" y="234"/>
                </a:lnTo>
                <a:lnTo>
                  <a:pt x="83" y="238"/>
                </a:lnTo>
                <a:lnTo>
                  <a:pt x="64" y="242"/>
                </a:lnTo>
                <a:lnTo>
                  <a:pt x="42" y="248"/>
                </a:lnTo>
                <a:lnTo>
                  <a:pt x="21" y="252"/>
                </a:lnTo>
                <a:lnTo>
                  <a:pt x="0" y="257"/>
                </a:lnTo>
                <a:lnTo>
                  <a:pt x="23" y="198"/>
                </a:lnTo>
                <a:lnTo>
                  <a:pt x="48" y="142"/>
                </a:lnTo>
                <a:lnTo>
                  <a:pt x="83" y="136"/>
                </a:lnTo>
                <a:lnTo>
                  <a:pt x="115" y="129"/>
                </a:lnTo>
                <a:lnTo>
                  <a:pt x="148" y="123"/>
                </a:lnTo>
                <a:lnTo>
                  <a:pt x="179" y="113"/>
                </a:lnTo>
                <a:lnTo>
                  <a:pt x="209" y="106"/>
                </a:lnTo>
                <a:lnTo>
                  <a:pt x="238" y="96"/>
                </a:lnTo>
                <a:lnTo>
                  <a:pt x="267" y="87"/>
                </a:lnTo>
                <a:lnTo>
                  <a:pt x="294" y="77"/>
                </a:lnTo>
                <a:lnTo>
                  <a:pt x="307" y="75"/>
                </a:lnTo>
                <a:lnTo>
                  <a:pt x="319" y="71"/>
                </a:lnTo>
                <a:lnTo>
                  <a:pt x="330" y="69"/>
                </a:lnTo>
                <a:lnTo>
                  <a:pt x="342" y="65"/>
                </a:lnTo>
                <a:lnTo>
                  <a:pt x="353" y="62"/>
                </a:lnTo>
                <a:lnTo>
                  <a:pt x="365" y="60"/>
                </a:lnTo>
                <a:lnTo>
                  <a:pt x="384" y="52"/>
                </a:lnTo>
                <a:lnTo>
                  <a:pt x="401" y="44"/>
                </a:lnTo>
                <a:lnTo>
                  <a:pt x="419" y="39"/>
                </a:lnTo>
                <a:lnTo>
                  <a:pt x="432" y="31"/>
                </a:lnTo>
                <a:lnTo>
                  <a:pt x="447" y="27"/>
                </a:lnTo>
                <a:lnTo>
                  <a:pt x="465" y="17"/>
                </a:lnTo>
                <a:lnTo>
                  <a:pt x="472" y="12"/>
                </a:lnTo>
                <a:lnTo>
                  <a:pt x="482" y="8"/>
                </a:lnTo>
                <a:lnTo>
                  <a:pt x="490" y="6"/>
                </a:lnTo>
                <a:lnTo>
                  <a:pt x="499" y="2"/>
                </a:lnTo>
                <a:lnTo>
                  <a:pt x="509" y="2"/>
                </a:lnTo>
                <a:lnTo>
                  <a:pt x="517" y="0"/>
                </a:lnTo>
                <a:lnTo>
                  <a:pt x="522" y="0"/>
                </a:lnTo>
                <a:lnTo>
                  <a:pt x="526" y="2"/>
                </a:lnTo>
                <a:lnTo>
                  <a:pt x="532" y="2"/>
                </a:lnTo>
                <a:lnTo>
                  <a:pt x="540" y="4"/>
                </a:lnTo>
                <a:lnTo>
                  <a:pt x="545" y="4"/>
                </a:lnTo>
                <a:lnTo>
                  <a:pt x="553" y="6"/>
                </a:lnTo>
                <a:lnTo>
                  <a:pt x="568" y="12"/>
                </a:lnTo>
                <a:lnTo>
                  <a:pt x="578" y="15"/>
                </a:lnTo>
                <a:lnTo>
                  <a:pt x="586" y="17"/>
                </a:lnTo>
                <a:lnTo>
                  <a:pt x="595" y="23"/>
                </a:lnTo>
                <a:lnTo>
                  <a:pt x="605" y="27"/>
                </a:lnTo>
                <a:lnTo>
                  <a:pt x="614" y="33"/>
                </a:lnTo>
                <a:lnTo>
                  <a:pt x="626" y="39"/>
                </a:lnTo>
                <a:lnTo>
                  <a:pt x="636" y="44"/>
                </a:lnTo>
                <a:lnTo>
                  <a:pt x="647" y="52"/>
                </a:lnTo>
                <a:lnTo>
                  <a:pt x="657" y="58"/>
                </a:lnTo>
                <a:lnTo>
                  <a:pt x="666" y="65"/>
                </a:lnTo>
                <a:lnTo>
                  <a:pt x="676" y="71"/>
                </a:lnTo>
                <a:lnTo>
                  <a:pt x="684" y="79"/>
                </a:lnTo>
                <a:lnTo>
                  <a:pt x="691" y="85"/>
                </a:lnTo>
                <a:lnTo>
                  <a:pt x="699" y="90"/>
                </a:lnTo>
                <a:lnTo>
                  <a:pt x="705" y="96"/>
                </a:lnTo>
                <a:lnTo>
                  <a:pt x="709" y="102"/>
                </a:lnTo>
                <a:lnTo>
                  <a:pt x="714" y="106"/>
                </a:lnTo>
                <a:lnTo>
                  <a:pt x="718" y="111"/>
                </a:lnTo>
                <a:lnTo>
                  <a:pt x="722" y="117"/>
                </a:lnTo>
                <a:lnTo>
                  <a:pt x="724" y="121"/>
                </a:lnTo>
                <a:lnTo>
                  <a:pt x="726" y="127"/>
                </a:lnTo>
                <a:lnTo>
                  <a:pt x="728" y="131"/>
                </a:lnTo>
                <a:lnTo>
                  <a:pt x="728" y="136"/>
                </a:lnTo>
                <a:lnTo>
                  <a:pt x="730" y="142"/>
                </a:lnTo>
                <a:lnTo>
                  <a:pt x="728" y="146"/>
                </a:lnTo>
                <a:lnTo>
                  <a:pt x="728" y="150"/>
                </a:lnTo>
                <a:lnTo>
                  <a:pt x="726" y="156"/>
                </a:lnTo>
                <a:lnTo>
                  <a:pt x="724" y="159"/>
                </a:lnTo>
                <a:lnTo>
                  <a:pt x="722" y="165"/>
                </a:lnTo>
                <a:lnTo>
                  <a:pt x="718" y="169"/>
                </a:lnTo>
                <a:lnTo>
                  <a:pt x="714" y="173"/>
                </a:lnTo>
                <a:lnTo>
                  <a:pt x="710" y="179"/>
                </a:lnTo>
                <a:lnTo>
                  <a:pt x="707" y="182"/>
                </a:lnTo>
                <a:lnTo>
                  <a:pt x="701" y="186"/>
                </a:lnTo>
                <a:lnTo>
                  <a:pt x="695" y="190"/>
                </a:lnTo>
                <a:lnTo>
                  <a:pt x="689" y="194"/>
                </a:lnTo>
                <a:lnTo>
                  <a:pt x="682" y="196"/>
                </a:lnTo>
                <a:lnTo>
                  <a:pt x="674" y="200"/>
                </a:lnTo>
                <a:lnTo>
                  <a:pt x="666" y="202"/>
                </a:lnTo>
                <a:lnTo>
                  <a:pt x="659" y="206"/>
                </a:lnTo>
                <a:lnTo>
                  <a:pt x="649" y="207"/>
                </a:lnTo>
                <a:lnTo>
                  <a:pt x="641" y="211"/>
                </a:lnTo>
                <a:lnTo>
                  <a:pt x="632" y="217"/>
                </a:lnTo>
                <a:lnTo>
                  <a:pt x="622" y="221"/>
                </a:lnTo>
                <a:lnTo>
                  <a:pt x="614" y="227"/>
                </a:lnTo>
                <a:lnTo>
                  <a:pt x="605" y="234"/>
                </a:lnTo>
                <a:lnTo>
                  <a:pt x="595" y="242"/>
                </a:lnTo>
                <a:lnTo>
                  <a:pt x="586" y="250"/>
                </a:lnTo>
                <a:lnTo>
                  <a:pt x="576" y="257"/>
                </a:lnTo>
                <a:lnTo>
                  <a:pt x="566" y="267"/>
                </a:lnTo>
                <a:lnTo>
                  <a:pt x="557" y="277"/>
                </a:lnTo>
                <a:lnTo>
                  <a:pt x="547" y="288"/>
                </a:lnTo>
                <a:lnTo>
                  <a:pt x="526" y="309"/>
                </a:lnTo>
                <a:lnTo>
                  <a:pt x="505" y="332"/>
                </a:lnTo>
                <a:lnTo>
                  <a:pt x="499" y="340"/>
                </a:lnTo>
                <a:lnTo>
                  <a:pt x="494" y="346"/>
                </a:lnTo>
                <a:lnTo>
                  <a:pt x="488" y="353"/>
                </a:lnTo>
                <a:lnTo>
                  <a:pt x="480" y="361"/>
                </a:lnTo>
                <a:lnTo>
                  <a:pt x="472" y="371"/>
                </a:lnTo>
                <a:lnTo>
                  <a:pt x="465" y="380"/>
                </a:lnTo>
                <a:lnTo>
                  <a:pt x="457" y="390"/>
                </a:lnTo>
                <a:lnTo>
                  <a:pt x="447" y="399"/>
                </a:lnTo>
                <a:lnTo>
                  <a:pt x="440" y="411"/>
                </a:lnTo>
                <a:lnTo>
                  <a:pt x="430" y="422"/>
                </a:lnTo>
                <a:lnTo>
                  <a:pt x="419" y="434"/>
                </a:lnTo>
                <a:lnTo>
                  <a:pt x="409" y="447"/>
                </a:lnTo>
                <a:lnTo>
                  <a:pt x="398" y="461"/>
                </a:lnTo>
                <a:lnTo>
                  <a:pt x="386" y="474"/>
                </a:lnTo>
                <a:lnTo>
                  <a:pt x="375" y="488"/>
                </a:lnTo>
                <a:lnTo>
                  <a:pt x="363" y="503"/>
                </a:lnTo>
                <a:lnTo>
                  <a:pt x="350" y="518"/>
                </a:lnTo>
                <a:lnTo>
                  <a:pt x="336" y="536"/>
                </a:lnTo>
                <a:lnTo>
                  <a:pt x="323" y="551"/>
                </a:lnTo>
                <a:lnTo>
                  <a:pt x="309" y="568"/>
                </a:lnTo>
                <a:lnTo>
                  <a:pt x="294" y="588"/>
                </a:lnTo>
                <a:lnTo>
                  <a:pt x="280" y="605"/>
                </a:lnTo>
                <a:lnTo>
                  <a:pt x="265" y="624"/>
                </a:lnTo>
                <a:lnTo>
                  <a:pt x="248" y="643"/>
                </a:lnTo>
                <a:lnTo>
                  <a:pt x="233" y="662"/>
                </a:lnTo>
                <a:lnTo>
                  <a:pt x="215" y="683"/>
                </a:lnTo>
                <a:lnTo>
                  <a:pt x="198" y="705"/>
                </a:lnTo>
                <a:lnTo>
                  <a:pt x="181" y="726"/>
                </a:lnTo>
                <a:lnTo>
                  <a:pt x="163" y="749"/>
                </a:lnTo>
                <a:lnTo>
                  <a:pt x="144" y="772"/>
                </a:lnTo>
                <a:lnTo>
                  <a:pt x="125" y="795"/>
                </a:lnTo>
                <a:lnTo>
                  <a:pt x="106" y="8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84"/>
          <p:cNvSpPr/>
          <p:nvPr/>
        </p:nvSpPr>
        <p:spPr>
          <a:xfrm>
            <a:off x="5506920" y="3483000"/>
            <a:ext cx="851040" cy="1268280"/>
          </a:xfrm>
          <a:custGeom>
            <a:avLst/>
            <a:gdLst/>
            <a:ahLst/>
            <a:rect l="l" t="t" r="r" b="b"/>
            <a:pathLst>
              <a:path w="1073" h="1599">
                <a:moveTo>
                  <a:pt x="803" y="244"/>
                </a:moveTo>
                <a:lnTo>
                  <a:pt x="795" y="253"/>
                </a:lnTo>
                <a:lnTo>
                  <a:pt x="789" y="265"/>
                </a:lnTo>
                <a:lnTo>
                  <a:pt x="784" y="278"/>
                </a:lnTo>
                <a:lnTo>
                  <a:pt x="778" y="292"/>
                </a:lnTo>
                <a:lnTo>
                  <a:pt x="772" y="307"/>
                </a:lnTo>
                <a:lnTo>
                  <a:pt x="766" y="323"/>
                </a:lnTo>
                <a:lnTo>
                  <a:pt x="762" y="342"/>
                </a:lnTo>
                <a:lnTo>
                  <a:pt x="757" y="361"/>
                </a:lnTo>
                <a:lnTo>
                  <a:pt x="753" y="380"/>
                </a:lnTo>
                <a:lnTo>
                  <a:pt x="747" y="403"/>
                </a:lnTo>
                <a:lnTo>
                  <a:pt x="743" y="426"/>
                </a:lnTo>
                <a:lnTo>
                  <a:pt x="737" y="449"/>
                </a:lnTo>
                <a:lnTo>
                  <a:pt x="734" y="476"/>
                </a:lnTo>
                <a:lnTo>
                  <a:pt x="730" y="503"/>
                </a:lnTo>
                <a:lnTo>
                  <a:pt x="724" y="532"/>
                </a:lnTo>
                <a:lnTo>
                  <a:pt x="720" y="563"/>
                </a:lnTo>
                <a:lnTo>
                  <a:pt x="716" y="593"/>
                </a:lnTo>
                <a:lnTo>
                  <a:pt x="713" y="624"/>
                </a:lnTo>
                <a:lnTo>
                  <a:pt x="709" y="653"/>
                </a:lnTo>
                <a:lnTo>
                  <a:pt x="705" y="680"/>
                </a:lnTo>
                <a:lnTo>
                  <a:pt x="701" y="708"/>
                </a:lnTo>
                <a:lnTo>
                  <a:pt x="699" y="733"/>
                </a:lnTo>
                <a:lnTo>
                  <a:pt x="695" y="758"/>
                </a:lnTo>
                <a:lnTo>
                  <a:pt x="693" y="783"/>
                </a:lnTo>
                <a:lnTo>
                  <a:pt x="690" y="806"/>
                </a:lnTo>
                <a:lnTo>
                  <a:pt x="688" y="829"/>
                </a:lnTo>
                <a:lnTo>
                  <a:pt x="684" y="850"/>
                </a:lnTo>
                <a:lnTo>
                  <a:pt x="682" y="872"/>
                </a:lnTo>
                <a:lnTo>
                  <a:pt x="680" y="893"/>
                </a:lnTo>
                <a:lnTo>
                  <a:pt x="678" y="912"/>
                </a:lnTo>
                <a:lnTo>
                  <a:pt x="676" y="929"/>
                </a:lnTo>
                <a:lnTo>
                  <a:pt x="674" y="946"/>
                </a:lnTo>
                <a:lnTo>
                  <a:pt x="670" y="964"/>
                </a:lnTo>
                <a:lnTo>
                  <a:pt x="670" y="979"/>
                </a:lnTo>
                <a:lnTo>
                  <a:pt x="668" y="992"/>
                </a:lnTo>
                <a:lnTo>
                  <a:pt x="666" y="1006"/>
                </a:lnTo>
                <a:lnTo>
                  <a:pt x="666" y="1019"/>
                </a:lnTo>
                <a:lnTo>
                  <a:pt x="665" y="1031"/>
                </a:lnTo>
                <a:lnTo>
                  <a:pt x="665" y="1042"/>
                </a:lnTo>
                <a:lnTo>
                  <a:pt x="665" y="1052"/>
                </a:lnTo>
                <a:lnTo>
                  <a:pt x="665" y="1062"/>
                </a:lnTo>
                <a:lnTo>
                  <a:pt x="665" y="1069"/>
                </a:lnTo>
                <a:lnTo>
                  <a:pt x="666" y="1077"/>
                </a:lnTo>
                <a:lnTo>
                  <a:pt x="666" y="1083"/>
                </a:lnTo>
                <a:lnTo>
                  <a:pt x="668" y="1088"/>
                </a:lnTo>
                <a:lnTo>
                  <a:pt x="670" y="1094"/>
                </a:lnTo>
                <a:lnTo>
                  <a:pt x="670" y="1098"/>
                </a:lnTo>
                <a:lnTo>
                  <a:pt x="674" y="1100"/>
                </a:lnTo>
                <a:lnTo>
                  <a:pt x="676" y="1102"/>
                </a:lnTo>
                <a:lnTo>
                  <a:pt x="680" y="1102"/>
                </a:lnTo>
                <a:lnTo>
                  <a:pt x="686" y="1102"/>
                </a:lnTo>
                <a:lnTo>
                  <a:pt x="693" y="1100"/>
                </a:lnTo>
                <a:lnTo>
                  <a:pt x="701" y="1096"/>
                </a:lnTo>
                <a:lnTo>
                  <a:pt x="711" y="1092"/>
                </a:lnTo>
                <a:lnTo>
                  <a:pt x="722" y="1087"/>
                </a:lnTo>
                <a:lnTo>
                  <a:pt x="734" y="1079"/>
                </a:lnTo>
                <a:lnTo>
                  <a:pt x="747" y="1071"/>
                </a:lnTo>
                <a:lnTo>
                  <a:pt x="761" y="1062"/>
                </a:lnTo>
                <a:lnTo>
                  <a:pt x="778" y="1050"/>
                </a:lnTo>
                <a:lnTo>
                  <a:pt x="793" y="1037"/>
                </a:lnTo>
                <a:lnTo>
                  <a:pt x="812" y="1023"/>
                </a:lnTo>
                <a:lnTo>
                  <a:pt x="832" y="1008"/>
                </a:lnTo>
                <a:lnTo>
                  <a:pt x="851" y="991"/>
                </a:lnTo>
                <a:lnTo>
                  <a:pt x="874" y="971"/>
                </a:lnTo>
                <a:lnTo>
                  <a:pt x="893" y="954"/>
                </a:lnTo>
                <a:lnTo>
                  <a:pt x="910" y="937"/>
                </a:lnTo>
                <a:lnTo>
                  <a:pt x="928" y="921"/>
                </a:lnTo>
                <a:lnTo>
                  <a:pt x="945" y="906"/>
                </a:lnTo>
                <a:lnTo>
                  <a:pt x="960" y="895"/>
                </a:lnTo>
                <a:lnTo>
                  <a:pt x="976" y="883"/>
                </a:lnTo>
                <a:lnTo>
                  <a:pt x="989" y="873"/>
                </a:lnTo>
                <a:lnTo>
                  <a:pt x="1002" y="864"/>
                </a:lnTo>
                <a:lnTo>
                  <a:pt x="1016" y="858"/>
                </a:lnTo>
                <a:lnTo>
                  <a:pt x="1027" y="852"/>
                </a:lnTo>
                <a:lnTo>
                  <a:pt x="1037" y="847"/>
                </a:lnTo>
                <a:lnTo>
                  <a:pt x="1047" y="845"/>
                </a:lnTo>
                <a:lnTo>
                  <a:pt x="1054" y="843"/>
                </a:lnTo>
                <a:lnTo>
                  <a:pt x="1062" y="841"/>
                </a:lnTo>
                <a:lnTo>
                  <a:pt x="1068" y="843"/>
                </a:lnTo>
                <a:lnTo>
                  <a:pt x="1073" y="845"/>
                </a:lnTo>
                <a:lnTo>
                  <a:pt x="1073" y="847"/>
                </a:lnTo>
                <a:lnTo>
                  <a:pt x="1073" y="849"/>
                </a:lnTo>
                <a:lnTo>
                  <a:pt x="1073" y="850"/>
                </a:lnTo>
                <a:lnTo>
                  <a:pt x="1073" y="852"/>
                </a:lnTo>
                <a:lnTo>
                  <a:pt x="1073" y="856"/>
                </a:lnTo>
                <a:lnTo>
                  <a:pt x="1071" y="860"/>
                </a:lnTo>
                <a:lnTo>
                  <a:pt x="1070" y="866"/>
                </a:lnTo>
                <a:lnTo>
                  <a:pt x="1068" y="870"/>
                </a:lnTo>
                <a:lnTo>
                  <a:pt x="1066" y="875"/>
                </a:lnTo>
                <a:lnTo>
                  <a:pt x="1062" y="881"/>
                </a:lnTo>
                <a:lnTo>
                  <a:pt x="1058" y="889"/>
                </a:lnTo>
                <a:lnTo>
                  <a:pt x="1054" y="895"/>
                </a:lnTo>
                <a:lnTo>
                  <a:pt x="1050" y="902"/>
                </a:lnTo>
                <a:lnTo>
                  <a:pt x="1045" y="912"/>
                </a:lnTo>
                <a:lnTo>
                  <a:pt x="1039" y="920"/>
                </a:lnTo>
                <a:lnTo>
                  <a:pt x="1033" y="929"/>
                </a:lnTo>
                <a:lnTo>
                  <a:pt x="1027" y="939"/>
                </a:lnTo>
                <a:lnTo>
                  <a:pt x="1020" y="948"/>
                </a:lnTo>
                <a:lnTo>
                  <a:pt x="1014" y="958"/>
                </a:lnTo>
                <a:lnTo>
                  <a:pt x="1006" y="969"/>
                </a:lnTo>
                <a:lnTo>
                  <a:pt x="997" y="981"/>
                </a:lnTo>
                <a:lnTo>
                  <a:pt x="989" y="992"/>
                </a:lnTo>
                <a:lnTo>
                  <a:pt x="979" y="1006"/>
                </a:lnTo>
                <a:lnTo>
                  <a:pt x="970" y="1017"/>
                </a:lnTo>
                <a:lnTo>
                  <a:pt x="958" y="1031"/>
                </a:lnTo>
                <a:lnTo>
                  <a:pt x="949" y="1046"/>
                </a:lnTo>
                <a:lnTo>
                  <a:pt x="937" y="1060"/>
                </a:lnTo>
                <a:lnTo>
                  <a:pt x="926" y="1075"/>
                </a:lnTo>
                <a:lnTo>
                  <a:pt x="912" y="1090"/>
                </a:lnTo>
                <a:lnTo>
                  <a:pt x="901" y="1106"/>
                </a:lnTo>
                <a:lnTo>
                  <a:pt x="887" y="1121"/>
                </a:lnTo>
                <a:lnTo>
                  <a:pt x="874" y="1138"/>
                </a:lnTo>
                <a:lnTo>
                  <a:pt x="845" y="1171"/>
                </a:lnTo>
                <a:lnTo>
                  <a:pt x="818" y="1204"/>
                </a:lnTo>
                <a:lnTo>
                  <a:pt x="793" y="1232"/>
                </a:lnTo>
                <a:lnTo>
                  <a:pt x="770" y="1261"/>
                </a:lnTo>
                <a:lnTo>
                  <a:pt x="749" y="1288"/>
                </a:lnTo>
                <a:lnTo>
                  <a:pt x="728" y="1315"/>
                </a:lnTo>
                <a:lnTo>
                  <a:pt x="709" y="1338"/>
                </a:lnTo>
                <a:lnTo>
                  <a:pt x="690" y="1361"/>
                </a:lnTo>
                <a:lnTo>
                  <a:pt x="674" y="1382"/>
                </a:lnTo>
                <a:lnTo>
                  <a:pt x="659" y="1403"/>
                </a:lnTo>
                <a:lnTo>
                  <a:pt x="645" y="1421"/>
                </a:lnTo>
                <a:lnTo>
                  <a:pt x="634" y="1438"/>
                </a:lnTo>
                <a:lnTo>
                  <a:pt x="622" y="1455"/>
                </a:lnTo>
                <a:lnTo>
                  <a:pt x="615" y="1470"/>
                </a:lnTo>
                <a:lnTo>
                  <a:pt x="607" y="1484"/>
                </a:lnTo>
                <a:lnTo>
                  <a:pt x="603" y="1497"/>
                </a:lnTo>
                <a:lnTo>
                  <a:pt x="599" y="1509"/>
                </a:lnTo>
                <a:lnTo>
                  <a:pt x="594" y="1518"/>
                </a:lnTo>
                <a:lnTo>
                  <a:pt x="590" y="1530"/>
                </a:lnTo>
                <a:lnTo>
                  <a:pt x="586" y="1540"/>
                </a:lnTo>
                <a:lnTo>
                  <a:pt x="580" y="1549"/>
                </a:lnTo>
                <a:lnTo>
                  <a:pt x="576" y="1557"/>
                </a:lnTo>
                <a:lnTo>
                  <a:pt x="572" y="1564"/>
                </a:lnTo>
                <a:lnTo>
                  <a:pt x="567" y="1572"/>
                </a:lnTo>
                <a:lnTo>
                  <a:pt x="563" y="1578"/>
                </a:lnTo>
                <a:lnTo>
                  <a:pt x="559" y="1584"/>
                </a:lnTo>
                <a:lnTo>
                  <a:pt x="555" y="1588"/>
                </a:lnTo>
                <a:lnTo>
                  <a:pt x="549" y="1591"/>
                </a:lnTo>
                <a:lnTo>
                  <a:pt x="546" y="1595"/>
                </a:lnTo>
                <a:lnTo>
                  <a:pt x="542" y="1597"/>
                </a:lnTo>
                <a:lnTo>
                  <a:pt x="536" y="1599"/>
                </a:lnTo>
                <a:lnTo>
                  <a:pt x="532" y="1599"/>
                </a:lnTo>
                <a:lnTo>
                  <a:pt x="528" y="1599"/>
                </a:lnTo>
                <a:lnTo>
                  <a:pt x="523" y="1597"/>
                </a:lnTo>
                <a:lnTo>
                  <a:pt x="519" y="1595"/>
                </a:lnTo>
                <a:lnTo>
                  <a:pt x="515" y="1593"/>
                </a:lnTo>
                <a:lnTo>
                  <a:pt x="509" y="1591"/>
                </a:lnTo>
                <a:lnTo>
                  <a:pt x="505" y="1588"/>
                </a:lnTo>
                <a:lnTo>
                  <a:pt x="499" y="1584"/>
                </a:lnTo>
                <a:lnTo>
                  <a:pt x="496" y="1578"/>
                </a:lnTo>
                <a:lnTo>
                  <a:pt x="490" y="1572"/>
                </a:lnTo>
                <a:lnTo>
                  <a:pt x="484" y="1566"/>
                </a:lnTo>
                <a:lnTo>
                  <a:pt x="480" y="1559"/>
                </a:lnTo>
                <a:lnTo>
                  <a:pt x="475" y="1549"/>
                </a:lnTo>
                <a:lnTo>
                  <a:pt x="469" y="1541"/>
                </a:lnTo>
                <a:lnTo>
                  <a:pt x="463" y="1532"/>
                </a:lnTo>
                <a:lnTo>
                  <a:pt x="457" y="1520"/>
                </a:lnTo>
                <a:lnTo>
                  <a:pt x="450" y="1509"/>
                </a:lnTo>
                <a:lnTo>
                  <a:pt x="444" y="1499"/>
                </a:lnTo>
                <a:lnTo>
                  <a:pt x="438" y="1490"/>
                </a:lnTo>
                <a:lnTo>
                  <a:pt x="432" y="1482"/>
                </a:lnTo>
                <a:lnTo>
                  <a:pt x="428" y="1472"/>
                </a:lnTo>
                <a:lnTo>
                  <a:pt x="421" y="1455"/>
                </a:lnTo>
                <a:lnTo>
                  <a:pt x="413" y="1440"/>
                </a:lnTo>
                <a:lnTo>
                  <a:pt x="409" y="1424"/>
                </a:lnTo>
                <a:lnTo>
                  <a:pt x="405" y="1411"/>
                </a:lnTo>
                <a:lnTo>
                  <a:pt x="404" y="1396"/>
                </a:lnTo>
                <a:lnTo>
                  <a:pt x="404" y="1382"/>
                </a:lnTo>
                <a:lnTo>
                  <a:pt x="404" y="1376"/>
                </a:lnTo>
                <a:lnTo>
                  <a:pt x="404" y="1371"/>
                </a:lnTo>
                <a:lnTo>
                  <a:pt x="405" y="1365"/>
                </a:lnTo>
                <a:lnTo>
                  <a:pt x="407" y="1359"/>
                </a:lnTo>
                <a:lnTo>
                  <a:pt x="409" y="1353"/>
                </a:lnTo>
                <a:lnTo>
                  <a:pt x="413" y="1348"/>
                </a:lnTo>
                <a:lnTo>
                  <a:pt x="419" y="1332"/>
                </a:lnTo>
                <a:lnTo>
                  <a:pt x="428" y="1319"/>
                </a:lnTo>
                <a:lnTo>
                  <a:pt x="438" y="1302"/>
                </a:lnTo>
                <a:lnTo>
                  <a:pt x="450" y="1284"/>
                </a:lnTo>
                <a:lnTo>
                  <a:pt x="461" y="1267"/>
                </a:lnTo>
                <a:lnTo>
                  <a:pt x="465" y="1261"/>
                </a:lnTo>
                <a:lnTo>
                  <a:pt x="469" y="1255"/>
                </a:lnTo>
                <a:lnTo>
                  <a:pt x="471" y="1248"/>
                </a:lnTo>
                <a:lnTo>
                  <a:pt x="475" y="1240"/>
                </a:lnTo>
                <a:lnTo>
                  <a:pt x="476" y="1232"/>
                </a:lnTo>
                <a:lnTo>
                  <a:pt x="480" y="1223"/>
                </a:lnTo>
                <a:lnTo>
                  <a:pt x="484" y="1213"/>
                </a:lnTo>
                <a:lnTo>
                  <a:pt x="486" y="1204"/>
                </a:lnTo>
                <a:lnTo>
                  <a:pt x="490" y="1192"/>
                </a:lnTo>
                <a:lnTo>
                  <a:pt x="492" y="1181"/>
                </a:lnTo>
                <a:lnTo>
                  <a:pt x="496" y="1167"/>
                </a:lnTo>
                <a:lnTo>
                  <a:pt x="498" y="1154"/>
                </a:lnTo>
                <a:lnTo>
                  <a:pt x="501" y="1140"/>
                </a:lnTo>
                <a:lnTo>
                  <a:pt x="503" y="1125"/>
                </a:lnTo>
                <a:lnTo>
                  <a:pt x="505" y="1110"/>
                </a:lnTo>
                <a:lnTo>
                  <a:pt x="509" y="1094"/>
                </a:lnTo>
                <a:lnTo>
                  <a:pt x="511" y="1077"/>
                </a:lnTo>
                <a:lnTo>
                  <a:pt x="515" y="1058"/>
                </a:lnTo>
                <a:lnTo>
                  <a:pt x="517" y="1040"/>
                </a:lnTo>
                <a:lnTo>
                  <a:pt x="521" y="1021"/>
                </a:lnTo>
                <a:lnTo>
                  <a:pt x="523" y="1000"/>
                </a:lnTo>
                <a:lnTo>
                  <a:pt x="526" y="979"/>
                </a:lnTo>
                <a:lnTo>
                  <a:pt x="528" y="958"/>
                </a:lnTo>
                <a:lnTo>
                  <a:pt x="532" y="935"/>
                </a:lnTo>
                <a:lnTo>
                  <a:pt x="534" y="912"/>
                </a:lnTo>
                <a:lnTo>
                  <a:pt x="538" y="889"/>
                </a:lnTo>
                <a:lnTo>
                  <a:pt x="540" y="864"/>
                </a:lnTo>
                <a:lnTo>
                  <a:pt x="544" y="839"/>
                </a:lnTo>
                <a:lnTo>
                  <a:pt x="546" y="812"/>
                </a:lnTo>
                <a:lnTo>
                  <a:pt x="549" y="785"/>
                </a:lnTo>
                <a:lnTo>
                  <a:pt x="553" y="758"/>
                </a:lnTo>
                <a:lnTo>
                  <a:pt x="555" y="730"/>
                </a:lnTo>
                <a:lnTo>
                  <a:pt x="559" y="701"/>
                </a:lnTo>
                <a:lnTo>
                  <a:pt x="563" y="674"/>
                </a:lnTo>
                <a:lnTo>
                  <a:pt x="565" y="647"/>
                </a:lnTo>
                <a:lnTo>
                  <a:pt x="567" y="622"/>
                </a:lnTo>
                <a:lnTo>
                  <a:pt x="571" y="597"/>
                </a:lnTo>
                <a:lnTo>
                  <a:pt x="572" y="572"/>
                </a:lnTo>
                <a:lnTo>
                  <a:pt x="574" y="549"/>
                </a:lnTo>
                <a:lnTo>
                  <a:pt x="578" y="528"/>
                </a:lnTo>
                <a:lnTo>
                  <a:pt x="580" y="507"/>
                </a:lnTo>
                <a:lnTo>
                  <a:pt x="582" y="486"/>
                </a:lnTo>
                <a:lnTo>
                  <a:pt x="584" y="467"/>
                </a:lnTo>
                <a:lnTo>
                  <a:pt x="586" y="447"/>
                </a:lnTo>
                <a:lnTo>
                  <a:pt x="586" y="430"/>
                </a:lnTo>
                <a:lnTo>
                  <a:pt x="588" y="413"/>
                </a:lnTo>
                <a:lnTo>
                  <a:pt x="590" y="397"/>
                </a:lnTo>
                <a:lnTo>
                  <a:pt x="592" y="382"/>
                </a:lnTo>
                <a:lnTo>
                  <a:pt x="592" y="369"/>
                </a:lnTo>
                <a:lnTo>
                  <a:pt x="594" y="355"/>
                </a:lnTo>
                <a:lnTo>
                  <a:pt x="594" y="342"/>
                </a:lnTo>
                <a:lnTo>
                  <a:pt x="594" y="330"/>
                </a:lnTo>
                <a:lnTo>
                  <a:pt x="595" y="319"/>
                </a:lnTo>
                <a:lnTo>
                  <a:pt x="595" y="309"/>
                </a:lnTo>
                <a:lnTo>
                  <a:pt x="595" y="300"/>
                </a:lnTo>
                <a:lnTo>
                  <a:pt x="595" y="292"/>
                </a:lnTo>
                <a:lnTo>
                  <a:pt x="595" y="284"/>
                </a:lnTo>
                <a:lnTo>
                  <a:pt x="595" y="278"/>
                </a:lnTo>
                <a:lnTo>
                  <a:pt x="595" y="273"/>
                </a:lnTo>
                <a:lnTo>
                  <a:pt x="594" y="267"/>
                </a:lnTo>
                <a:lnTo>
                  <a:pt x="594" y="263"/>
                </a:lnTo>
                <a:lnTo>
                  <a:pt x="594" y="259"/>
                </a:lnTo>
                <a:lnTo>
                  <a:pt x="592" y="257"/>
                </a:lnTo>
                <a:lnTo>
                  <a:pt x="592" y="255"/>
                </a:lnTo>
                <a:lnTo>
                  <a:pt x="588" y="253"/>
                </a:lnTo>
                <a:lnTo>
                  <a:pt x="584" y="253"/>
                </a:lnTo>
                <a:lnTo>
                  <a:pt x="578" y="253"/>
                </a:lnTo>
                <a:lnTo>
                  <a:pt x="571" y="253"/>
                </a:lnTo>
                <a:lnTo>
                  <a:pt x="563" y="255"/>
                </a:lnTo>
                <a:lnTo>
                  <a:pt x="553" y="257"/>
                </a:lnTo>
                <a:lnTo>
                  <a:pt x="544" y="259"/>
                </a:lnTo>
                <a:lnTo>
                  <a:pt x="530" y="263"/>
                </a:lnTo>
                <a:lnTo>
                  <a:pt x="517" y="269"/>
                </a:lnTo>
                <a:lnTo>
                  <a:pt x="503" y="273"/>
                </a:lnTo>
                <a:lnTo>
                  <a:pt x="488" y="280"/>
                </a:lnTo>
                <a:lnTo>
                  <a:pt x="471" y="286"/>
                </a:lnTo>
                <a:lnTo>
                  <a:pt x="451" y="294"/>
                </a:lnTo>
                <a:lnTo>
                  <a:pt x="432" y="301"/>
                </a:lnTo>
                <a:lnTo>
                  <a:pt x="413" y="311"/>
                </a:lnTo>
                <a:lnTo>
                  <a:pt x="392" y="321"/>
                </a:lnTo>
                <a:lnTo>
                  <a:pt x="371" y="332"/>
                </a:lnTo>
                <a:lnTo>
                  <a:pt x="350" y="342"/>
                </a:lnTo>
                <a:lnTo>
                  <a:pt x="331" y="353"/>
                </a:lnTo>
                <a:lnTo>
                  <a:pt x="311" y="361"/>
                </a:lnTo>
                <a:lnTo>
                  <a:pt x="294" y="371"/>
                </a:lnTo>
                <a:lnTo>
                  <a:pt x="279" y="376"/>
                </a:lnTo>
                <a:lnTo>
                  <a:pt x="263" y="384"/>
                </a:lnTo>
                <a:lnTo>
                  <a:pt x="250" y="390"/>
                </a:lnTo>
                <a:lnTo>
                  <a:pt x="237" y="394"/>
                </a:lnTo>
                <a:lnTo>
                  <a:pt x="223" y="397"/>
                </a:lnTo>
                <a:lnTo>
                  <a:pt x="212" y="401"/>
                </a:lnTo>
                <a:lnTo>
                  <a:pt x="202" y="405"/>
                </a:lnTo>
                <a:lnTo>
                  <a:pt x="192" y="407"/>
                </a:lnTo>
                <a:lnTo>
                  <a:pt x="183" y="409"/>
                </a:lnTo>
                <a:lnTo>
                  <a:pt x="175" y="409"/>
                </a:lnTo>
                <a:lnTo>
                  <a:pt x="169" y="409"/>
                </a:lnTo>
                <a:lnTo>
                  <a:pt x="154" y="409"/>
                </a:lnTo>
                <a:lnTo>
                  <a:pt x="141" y="407"/>
                </a:lnTo>
                <a:lnTo>
                  <a:pt x="125" y="403"/>
                </a:lnTo>
                <a:lnTo>
                  <a:pt x="110" y="399"/>
                </a:lnTo>
                <a:lnTo>
                  <a:pt x="102" y="396"/>
                </a:lnTo>
                <a:lnTo>
                  <a:pt x="94" y="392"/>
                </a:lnTo>
                <a:lnTo>
                  <a:pt x="87" y="388"/>
                </a:lnTo>
                <a:lnTo>
                  <a:pt x="79" y="382"/>
                </a:lnTo>
                <a:lnTo>
                  <a:pt x="71" y="378"/>
                </a:lnTo>
                <a:lnTo>
                  <a:pt x="64" y="372"/>
                </a:lnTo>
                <a:lnTo>
                  <a:pt x="58" y="365"/>
                </a:lnTo>
                <a:lnTo>
                  <a:pt x="50" y="359"/>
                </a:lnTo>
                <a:lnTo>
                  <a:pt x="39" y="349"/>
                </a:lnTo>
                <a:lnTo>
                  <a:pt x="27" y="340"/>
                </a:lnTo>
                <a:lnTo>
                  <a:pt x="18" y="330"/>
                </a:lnTo>
                <a:lnTo>
                  <a:pt x="14" y="326"/>
                </a:lnTo>
                <a:lnTo>
                  <a:pt x="10" y="321"/>
                </a:lnTo>
                <a:lnTo>
                  <a:pt x="6" y="317"/>
                </a:lnTo>
                <a:lnTo>
                  <a:pt x="4" y="313"/>
                </a:lnTo>
                <a:lnTo>
                  <a:pt x="2" y="309"/>
                </a:lnTo>
                <a:lnTo>
                  <a:pt x="2" y="305"/>
                </a:lnTo>
                <a:lnTo>
                  <a:pt x="0" y="303"/>
                </a:lnTo>
                <a:lnTo>
                  <a:pt x="0" y="300"/>
                </a:lnTo>
                <a:lnTo>
                  <a:pt x="2" y="298"/>
                </a:lnTo>
                <a:lnTo>
                  <a:pt x="4" y="294"/>
                </a:lnTo>
                <a:lnTo>
                  <a:pt x="4" y="292"/>
                </a:lnTo>
                <a:lnTo>
                  <a:pt x="4" y="290"/>
                </a:lnTo>
                <a:lnTo>
                  <a:pt x="6" y="288"/>
                </a:lnTo>
                <a:lnTo>
                  <a:pt x="8" y="284"/>
                </a:lnTo>
                <a:lnTo>
                  <a:pt x="10" y="282"/>
                </a:lnTo>
                <a:lnTo>
                  <a:pt x="14" y="280"/>
                </a:lnTo>
                <a:lnTo>
                  <a:pt x="20" y="277"/>
                </a:lnTo>
                <a:lnTo>
                  <a:pt x="29" y="273"/>
                </a:lnTo>
                <a:lnTo>
                  <a:pt x="39" y="271"/>
                </a:lnTo>
                <a:lnTo>
                  <a:pt x="50" y="269"/>
                </a:lnTo>
                <a:lnTo>
                  <a:pt x="62" y="269"/>
                </a:lnTo>
                <a:lnTo>
                  <a:pt x="70" y="269"/>
                </a:lnTo>
                <a:lnTo>
                  <a:pt x="77" y="269"/>
                </a:lnTo>
                <a:lnTo>
                  <a:pt x="87" y="267"/>
                </a:lnTo>
                <a:lnTo>
                  <a:pt x="94" y="267"/>
                </a:lnTo>
                <a:lnTo>
                  <a:pt x="106" y="265"/>
                </a:lnTo>
                <a:lnTo>
                  <a:pt x="116" y="263"/>
                </a:lnTo>
                <a:lnTo>
                  <a:pt x="129" y="261"/>
                </a:lnTo>
                <a:lnTo>
                  <a:pt x="141" y="257"/>
                </a:lnTo>
                <a:lnTo>
                  <a:pt x="154" y="255"/>
                </a:lnTo>
                <a:lnTo>
                  <a:pt x="167" y="252"/>
                </a:lnTo>
                <a:lnTo>
                  <a:pt x="181" y="248"/>
                </a:lnTo>
                <a:lnTo>
                  <a:pt x="196" y="242"/>
                </a:lnTo>
                <a:lnTo>
                  <a:pt x="212" y="236"/>
                </a:lnTo>
                <a:lnTo>
                  <a:pt x="229" y="230"/>
                </a:lnTo>
                <a:lnTo>
                  <a:pt x="244" y="225"/>
                </a:lnTo>
                <a:lnTo>
                  <a:pt x="261" y="217"/>
                </a:lnTo>
                <a:lnTo>
                  <a:pt x="296" y="207"/>
                </a:lnTo>
                <a:lnTo>
                  <a:pt x="331" y="198"/>
                </a:lnTo>
                <a:lnTo>
                  <a:pt x="363" y="188"/>
                </a:lnTo>
                <a:lnTo>
                  <a:pt x="392" y="179"/>
                </a:lnTo>
                <a:lnTo>
                  <a:pt x="423" y="167"/>
                </a:lnTo>
                <a:lnTo>
                  <a:pt x="436" y="161"/>
                </a:lnTo>
                <a:lnTo>
                  <a:pt x="450" y="156"/>
                </a:lnTo>
                <a:lnTo>
                  <a:pt x="461" y="148"/>
                </a:lnTo>
                <a:lnTo>
                  <a:pt x="475" y="142"/>
                </a:lnTo>
                <a:lnTo>
                  <a:pt x="486" y="134"/>
                </a:lnTo>
                <a:lnTo>
                  <a:pt x="498" y="129"/>
                </a:lnTo>
                <a:lnTo>
                  <a:pt x="507" y="123"/>
                </a:lnTo>
                <a:lnTo>
                  <a:pt x="519" y="119"/>
                </a:lnTo>
                <a:lnTo>
                  <a:pt x="528" y="113"/>
                </a:lnTo>
                <a:lnTo>
                  <a:pt x="536" y="110"/>
                </a:lnTo>
                <a:lnTo>
                  <a:pt x="553" y="98"/>
                </a:lnTo>
                <a:lnTo>
                  <a:pt x="569" y="88"/>
                </a:lnTo>
                <a:lnTo>
                  <a:pt x="582" y="77"/>
                </a:lnTo>
                <a:lnTo>
                  <a:pt x="595" y="65"/>
                </a:lnTo>
                <a:lnTo>
                  <a:pt x="605" y="52"/>
                </a:lnTo>
                <a:lnTo>
                  <a:pt x="615" y="38"/>
                </a:lnTo>
                <a:lnTo>
                  <a:pt x="624" y="29"/>
                </a:lnTo>
                <a:lnTo>
                  <a:pt x="632" y="21"/>
                </a:lnTo>
                <a:lnTo>
                  <a:pt x="642" y="15"/>
                </a:lnTo>
                <a:lnTo>
                  <a:pt x="649" y="10"/>
                </a:lnTo>
                <a:lnTo>
                  <a:pt x="659" y="6"/>
                </a:lnTo>
                <a:lnTo>
                  <a:pt x="666" y="2"/>
                </a:lnTo>
                <a:lnTo>
                  <a:pt x="676" y="2"/>
                </a:lnTo>
                <a:lnTo>
                  <a:pt x="686" y="0"/>
                </a:lnTo>
                <a:lnTo>
                  <a:pt x="693" y="2"/>
                </a:lnTo>
                <a:lnTo>
                  <a:pt x="705" y="4"/>
                </a:lnTo>
                <a:lnTo>
                  <a:pt x="716" y="6"/>
                </a:lnTo>
                <a:lnTo>
                  <a:pt x="730" y="12"/>
                </a:lnTo>
                <a:lnTo>
                  <a:pt x="736" y="15"/>
                </a:lnTo>
                <a:lnTo>
                  <a:pt x="743" y="17"/>
                </a:lnTo>
                <a:lnTo>
                  <a:pt x="751" y="23"/>
                </a:lnTo>
                <a:lnTo>
                  <a:pt x="759" y="27"/>
                </a:lnTo>
                <a:lnTo>
                  <a:pt x="766" y="33"/>
                </a:lnTo>
                <a:lnTo>
                  <a:pt x="774" y="38"/>
                </a:lnTo>
                <a:lnTo>
                  <a:pt x="782" y="44"/>
                </a:lnTo>
                <a:lnTo>
                  <a:pt x="791" y="52"/>
                </a:lnTo>
                <a:lnTo>
                  <a:pt x="803" y="65"/>
                </a:lnTo>
                <a:lnTo>
                  <a:pt x="814" y="79"/>
                </a:lnTo>
                <a:lnTo>
                  <a:pt x="826" y="90"/>
                </a:lnTo>
                <a:lnTo>
                  <a:pt x="835" y="100"/>
                </a:lnTo>
                <a:lnTo>
                  <a:pt x="843" y="108"/>
                </a:lnTo>
                <a:lnTo>
                  <a:pt x="851" y="117"/>
                </a:lnTo>
                <a:lnTo>
                  <a:pt x="856" y="123"/>
                </a:lnTo>
                <a:lnTo>
                  <a:pt x="862" y="129"/>
                </a:lnTo>
                <a:lnTo>
                  <a:pt x="860" y="133"/>
                </a:lnTo>
                <a:lnTo>
                  <a:pt x="860" y="138"/>
                </a:lnTo>
                <a:lnTo>
                  <a:pt x="858" y="144"/>
                </a:lnTo>
                <a:lnTo>
                  <a:pt x="856" y="150"/>
                </a:lnTo>
                <a:lnTo>
                  <a:pt x="855" y="156"/>
                </a:lnTo>
                <a:lnTo>
                  <a:pt x="853" y="161"/>
                </a:lnTo>
                <a:lnTo>
                  <a:pt x="845" y="177"/>
                </a:lnTo>
                <a:lnTo>
                  <a:pt x="837" y="190"/>
                </a:lnTo>
                <a:lnTo>
                  <a:pt x="826" y="207"/>
                </a:lnTo>
                <a:lnTo>
                  <a:pt x="814" y="225"/>
                </a:lnTo>
                <a:lnTo>
                  <a:pt x="803" y="2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85"/>
          <p:cNvSpPr/>
          <p:nvPr/>
        </p:nvSpPr>
        <p:spPr>
          <a:xfrm>
            <a:off x="5929200" y="2914560"/>
            <a:ext cx="341280" cy="273240"/>
          </a:xfrm>
          <a:custGeom>
            <a:avLst/>
            <a:gdLst/>
            <a:ahLst/>
            <a:rect l="l" t="t" r="r" b="b"/>
            <a:pathLst>
              <a:path w="432" h="346">
                <a:moveTo>
                  <a:pt x="0" y="27"/>
                </a:moveTo>
                <a:lnTo>
                  <a:pt x="0" y="23"/>
                </a:lnTo>
                <a:lnTo>
                  <a:pt x="2" y="21"/>
                </a:lnTo>
                <a:lnTo>
                  <a:pt x="6" y="19"/>
                </a:lnTo>
                <a:lnTo>
                  <a:pt x="10" y="17"/>
                </a:lnTo>
                <a:lnTo>
                  <a:pt x="14" y="14"/>
                </a:lnTo>
                <a:lnTo>
                  <a:pt x="19" y="12"/>
                </a:lnTo>
                <a:lnTo>
                  <a:pt x="27" y="10"/>
                </a:lnTo>
                <a:lnTo>
                  <a:pt x="35" y="8"/>
                </a:lnTo>
                <a:lnTo>
                  <a:pt x="42" y="6"/>
                </a:lnTo>
                <a:lnTo>
                  <a:pt x="52" y="6"/>
                </a:lnTo>
                <a:lnTo>
                  <a:pt x="63" y="4"/>
                </a:lnTo>
                <a:lnTo>
                  <a:pt x="75" y="2"/>
                </a:lnTo>
                <a:lnTo>
                  <a:pt x="86" y="2"/>
                </a:lnTo>
                <a:lnTo>
                  <a:pt x="100" y="2"/>
                </a:lnTo>
                <a:lnTo>
                  <a:pt x="115" y="0"/>
                </a:lnTo>
                <a:lnTo>
                  <a:pt x="131" y="0"/>
                </a:lnTo>
                <a:lnTo>
                  <a:pt x="144" y="0"/>
                </a:lnTo>
                <a:lnTo>
                  <a:pt x="159" y="2"/>
                </a:lnTo>
                <a:lnTo>
                  <a:pt x="188" y="4"/>
                </a:lnTo>
                <a:lnTo>
                  <a:pt x="213" y="6"/>
                </a:lnTo>
                <a:lnTo>
                  <a:pt x="238" y="12"/>
                </a:lnTo>
                <a:lnTo>
                  <a:pt x="250" y="15"/>
                </a:lnTo>
                <a:lnTo>
                  <a:pt x="261" y="17"/>
                </a:lnTo>
                <a:lnTo>
                  <a:pt x="273" y="23"/>
                </a:lnTo>
                <a:lnTo>
                  <a:pt x="284" y="27"/>
                </a:lnTo>
                <a:lnTo>
                  <a:pt x="296" y="33"/>
                </a:lnTo>
                <a:lnTo>
                  <a:pt x="307" y="39"/>
                </a:lnTo>
                <a:lnTo>
                  <a:pt x="319" y="44"/>
                </a:lnTo>
                <a:lnTo>
                  <a:pt x="330" y="52"/>
                </a:lnTo>
                <a:lnTo>
                  <a:pt x="340" y="60"/>
                </a:lnTo>
                <a:lnTo>
                  <a:pt x="349" y="65"/>
                </a:lnTo>
                <a:lnTo>
                  <a:pt x="359" y="73"/>
                </a:lnTo>
                <a:lnTo>
                  <a:pt x="367" y="81"/>
                </a:lnTo>
                <a:lnTo>
                  <a:pt x="374" y="88"/>
                </a:lnTo>
                <a:lnTo>
                  <a:pt x="382" y="94"/>
                </a:lnTo>
                <a:lnTo>
                  <a:pt x="388" y="102"/>
                </a:lnTo>
                <a:lnTo>
                  <a:pt x="394" y="110"/>
                </a:lnTo>
                <a:lnTo>
                  <a:pt x="399" y="117"/>
                </a:lnTo>
                <a:lnTo>
                  <a:pt x="403" y="123"/>
                </a:lnTo>
                <a:lnTo>
                  <a:pt x="407" y="131"/>
                </a:lnTo>
                <a:lnTo>
                  <a:pt x="411" y="138"/>
                </a:lnTo>
                <a:lnTo>
                  <a:pt x="419" y="152"/>
                </a:lnTo>
                <a:lnTo>
                  <a:pt x="422" y="167"/>
                </a:lnTo>
                <a:lnTo>
                  <a:pt x="426" y="184"/>
                </a:lnTo>
                <a:lnTo>
                  <a:pt x="430" y="204"/>
                </a:lnTo>
                <a:lnTo>
                  <a:pt x="430" y="219"/>
                </a:lnTo>
                <a:lnTo>
                  <a:pt x="432" y="236"/>
                </a:lnTo>
                <a:lnTo>
                  <a:pt x="430" y="250"/>
                </a:lnTo>
                <a:lnTo>
                  <a:pt x="430" y="265"/>
                </a:lnTo>
                <a:lnTo>
                  <a:pt x="426" y="280"/>
                </a:lnTo>
                <a:lnTo>
                  <a:pt x="422" y="294"/>
                </a:lnTo>
                <a:lnTo>
                  <a:pt x="420" y="301"/>
                </a:lnTo>
                <a:lnTo>
                  <a:pt x="419" y="307"/>
                </a:lnTo>
                <a:lnTo>
                  <a:pt x="417" y="313"/>
                </a:lnTo>
                <a:lnTo>
                  <a:pt x="415" y="319"/>
                </a:lnTo>
                <a:lnTo>
                  <a:pt x="411" y="323"/>
                </a:lnTo>
                <a:lnTo>
                  <a:pt x="409" y="328"/>
                </a:lnTo>
                <a:lnTo>
                  <a:pt x="405" y="330"/>
                </a:lnTo>
                <a:lnTo>
                  <a:pt x="403" y="334"/>
                </a:lnTo>
                <a:lnTo>
                  <a:pt x="396" y="340"/>
                </a:lnTo>
                <a:lnTo>
                  <a:pt x="386" y="344"/>
                </a:lnTo>
                <a:lnTo>
                  <a:pt x="376" y="346"/>
                </a:lnTo>
                <a:lnTo>
                  <a:pt x="371" y="346"/>
                </a:lnTo>
                <a:lnTo>
                  <a:pt x="365" y="346"/>
                </a:lnTo>
                <a:lnTo>
                  <a:pt x="357" y="346"/>
                </a:lnTo>
                <a:lnTo>
                  <a:pt x="349" y="344"/>
                </a:lnTo>
                <a:lnTo>
                  <a:pt x="342" y="340"/>
                </a:lnTo>
                <a:lnTo>
                  <a:pt x="332" y="336"/>
                </a:lnTo>
                <a:lnTo>
                  <a:pt x="324" y="330"/>
                </a:lnTo>
                <a:lnTo>
                  <a:pt x="313" y="325"/>
                </a:lnTo>
                <a:lnTo>
                  <a:pt x="301" y="317"/>
                </a:lnTo>
                <a:lnTo>
                  <a:pt x="290" y="307"/>
                </a:lnTo>
                <a:lnTo>
                  <a:pt x="278" y="298"/>
                </a:lnTo>
                <a:lnTo>
                  <a:pt x="265" y="286"/>
                </a:lnTo>
                <a:lnTo>
                  <a:pt x="250" y="275"/>
                </a:lnTo>
                <a:lnTo>
                  <a:pt x="234" y="259"/>
                </a:lnTo>
                <a:lnTo>
                  <a:pt x="219" y="244"/>
                </a:lnTo>
                <a:lnTo>
                  <a:pt x="202" y="229"/>
                </a:lnTo>
                <a:lnTo>
                  <a:pt x="184" y="211"/>
                </a:lnTo>
                <a:lnTo>
                  <a:pt x="165" y="192"/>
                </a:lnTo>
                <a:lnTo>
                  <a:pt x="146" y="173"/>
                </a:lnTo>
                <a:lnTo>
                  <a:pt x="127" y="156"/>
                </a:lnTo>
                <a:lnTo>
                  <a:pt x="111" y="140"/>
                </a:lnTo>
                <a:lnTo>
                  <a:pt x="94" y="125"/>
                </a:lnTo>
                <a:lnTo>
                  <a:pt x="81" y="111"/>
                </a:lnTo>
                <a:lnTo>
                  <a:pt x="67" y="98"/>
                </a:lnTo>
                <a:lnTo>
                  <a:pt x="54" y="87"/>
                </a:lnTo>
                <a:lnTo>
                  <a:pt x="42" y="75"/>
                </a:lnTo>
                <a:lnTo>
                  <a:pt x="33" y="65"/>
                </a:lnTo>
                <a:lnTo>
                  <a:pt x="25" y="58"/>
                </a:lnTo>
                <a:lnTo>
                  <a:pt x="17" y="50"/>
                </a:lnTo>
                <a:lnTo>
                  <a:pt x="12" y="42"/>
                </a:lnTo>
                <a:lnTo>
                  <a:pt x="6" y="37"/>
                </a:lnTo>
                <a:lnTo>
                  <a:pt x="2" y="33"/>
                </a:lnTo>
                <a:lnTo>
                  <a:pt x="0" y="29"/>
                </a:lnTo>
                <a:lnTo>
                  <a:pt x="0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2" descr="C:\Documents and Settings\Administrator\桌面\QQ截图20170611203137.png"/>
          <p:cNvPicPr/>
          <p:nvPr/>
        </p:nvPicPr>
        <p:blipFill>
          <a:blip r:embed="rId2"/>
          <a:stretch/>
        </p:blipFill>
        <p:spPr>
          <a:xfrm>
            <a:off x="2543040" y="5256360"/>
            <a:ext cx="173160" cy="1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4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2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三横间距均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2124000" y="2025720"/>
            <a:ext cx="13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67"/>
          <p:cNvSpPr/>
          <p:nvPr/>
        </p:nvSpPr>
        <p:spPr>
          <a:xfrm>
            <a:off x="6846840" y="3548160"/>
            <a:ext cx="193680" cy="1531800"/>
          </a:xfrm>
          <a:custGeom>
            <a:avLst/>
            <a:gdLst/>
            <a:ahLst/>
            <a:rect l="l" t="t" r="r" b="b"/>
            <a:pathLst>
              <a:path w="244" h="1931">
                <a:moveTo>
                  <a:pt x="213" y="148"/>
                </a:moveTo>
                <a:lnTo>
                  <a:pt x="223" y="157"/>
                </a:lnTo>
                <a:lnTo>
                  <a:pt x="230" y="167"/>
                </a:lnTo>
                <a:lnTo>
                  <a:pt x="236" y="180"/>
                </a:lnTo>
                <a:lnTo>
                  <a:pt x="240" y="192"/>
                </a:lnTo>
                <a:lnTo>
                  <a:pt x="242" y="205"/>
                </a:lnTo>
                <a:lnTo>
                  <a:pt x="244" y="211"/>
                </a:lnTo>
                <a:lnTo>
                  <a:pt x="244" y="219"/>
                </a:lnTo>
                <a:lnTo>
                  <a:pt x="244" y="225"/>
                </a:lnTo>
                <a:lnTo>
                  <a:pt x="242" y="232"/>
                </a:lnTo>
                <a:lnTo>
                  <a:pt x="240" y="238"/>
                </a:lnTo>
                <a:lnTo>
                  <a:pt x="238" y="246"/>
                </a:lnTo>
                <a:lnTo>
                  <a:pt x="238" y="250"/>
                </a:lnTo>
                <a:lnTo>
                  <a:pt x="236" y="255"/>
                </a:lnTo>
                <a:lnTo>
                  <a:pt x="234" y="261"/>
                </a:lnTo>
                <a:lnTo>
                  <a:pt x="234" y="267"/>
                </a:lnTo>
                <a:lnTo>
                  <a:pt x="232" y="274"/>
                </a:lnTo>
                <a:lnTo>
                  <a:pt x="232" y="284"/>
                </a:lnTo>
                <a:lnTo>
                  <a:pt x="230" y="292"/>
                </a:lnTo>
                <a:lnTo>
                  <a:pt x="228" y="303"/>
                </a:lnTo>
                <a:lnTo>
                  <a:pt x="228" y="315"/>
                </a:lnTo>
                <a:lnTo>
                  <a:pt x="226" y="326"/>
                </a:lnTo>
                <a:lnTo>
                  <a:pt x="226" y="340"/>
                </a:lnTo>
                <a:lnTo>
                  <a:pt x="224" y="353"/>
                </a:lnTo>
                <a:lnTo>
                  <a:pt x="224" y="369"/>
                </a:lnTo>
                <a:lnTo>
                  <a:pt x="223" y="384"/>
                </a:lnTo>
                <a:lnTo>
                  <a:pt x="223" y="401"/>
                </a:lnTo>
                <a:lnTo>
                  <a:pt x="221" y="418"/>
                </a:lnTo>
                <a:lnTo>
                  <a:pt x="221" y="436"/>
                </a:lnTo>
                <a:lnTo>
                  <a:pt x="219" y="455"/>
                </a:lnTo>
                <a:lnTo>
                  <a:pt x="219" y="476"/>
                </a:lnTo>
                <a:lnTo>
                  <a:pt x="219" y="495"/>
                </a:lnTo>
                <a:lnTo>
                  <a:pt x="217" y="518"/>
                </a:lnTo>
                <a:lnTo>
                  <a:pt x="217" y="539"/>
                </a:lnTo>
                <a:lnTo>
                  <a:pt x="217" y="564"/>
                </a:lnTo>
                <a:lnTo>
                  <a:pt x="215" y="587"/>
                </a:lnTo>
                <a:lnTo>
                  <a:pt x="215" y="612"/>
                </a:lnTo>
                <a:lnTo>
                  <a:pt x="215" y="639"/>
                </a:lnTo>
                <a:lnTo>
                  <a:pt x="215" y="666"/>
                </a:lnTo>
                <a:lnTo>
                  <a:pt x="215" y="693"/>
                </a:lnTo>
                <a:lnTo>
                  <a:pt x="213" y="722"/>
                </a:lnTo>
                <a:lnTo>
                  <a:pt x="213" y="750"/>
                </a:lnTo>
                <a:lnTo>
                  <a:pt x="213" y="781"/>
                </a:lnTo>
                <a:lnTo>
                  <a:pt x="213" y="812"/>
                </a:lnTo>
                <a:lnTo>
                  <a:pt x="211" y="875"/>
                </a:lnTo>
                <a:lnTo>
                  <a:pt x="209" y="937"/>
                </a:lnTo>
                <a:lnTo>
                  <a:pt x="207" y="996"/>
                </a:lnTo>
                <a:lnTo>
                  <a:pt x="205" y="1056"/>
                </a:lnTo>
                <a:lnTo>
                  <a:pt x="205" y="1113"/>
                </a:lnTo>
                <a:lnTo>
                  <a:pt x="203" y="1167"/>
                </a:lnTo>
                <a:lnTo>
                  <a:pt x="201" y="1221"/>
                </a:lnTo>
                <a:lnTo>
                  <a:pt x="201" y="1275"/>
                </a:lnTo>
                <a:lnTo>
                  <a:pt x="200" y="1324"/>
                </a:lnTo>
                <a:lnTo>
                  <a:pt x="198" y="1372"/>
                </a:lnTo>
                <a:lnTo>
                  <a:pt x="198" y="1420"/>
                </a:lnTo>
                <a:lnTo>
                  <a:pt x="196" y="1466"/>
                </a:lnTo>
                <a:lnTo>
                  <a:pt x="194" y="1511"/>
                </a:lnTo>
                <a:lnTo>
                  <a:pt x="192" y="1553"/>
                </a:lnTo>
                <a:lnTo>
                  <a:pt x="190" y="1595"/>
                </a:lnTo>
                <a:lnTo>
                  <a:pt x="188" y="1635"/>
                </a:lnTo>
                <a:lnTo>
                  <a:pt x="186" y="1653"/>
                </a:lnTo>
                <a:lnTo>
                  <a:pt x="186" y="1670"/>
                </a:lnTo>
                <a:lnTo>
                  <a:pt x="184" y="1687"/>
                </a:lnTo>
                <a:lnTo>
                  <a:pt x="182" y="1704"/>
                </a:lnTo>
                <a:lnTo>
                  <a:pt x="182" y="1720"/>
                </a:lnTo>
                <a:lnTo>
                  <a:pt x="180" y="1735"/>
                </a:lnTo>
                <a:lnTo>
                  <a:pt x="178" y="1751"/>
                </a:lnTo>
                <a:lnTo>
                  <a:pt x="176" y="1764"/>
                </a:lnTo>
                <a:lnTo>
                  <a:pt x="175" y="1777"/>
                </a:lnTo>
                <a:lnTo>
                  <a:pt x="175" y="1791"/>
                </a:lnTo>
                <a:lnTo>
                  <a:pt x="173" y="1802"/>
                </a:lnTo>
                <a:lnTo>
                  <a:pt x="171" y="1814"/>
                </a:lnTo>
                <a:lnTo>
                  <a:pt x="169" y="1825"/>
                </a:lnTo>
                <a:lnTo>
                  <a:pt x="167" y="1837"/>
                </a:lnTo>
                <a:lnTo>
                  <a:pt x="165" y="1847"/>
                </a:lnTo>
                <a:lnTo>
                  <a:pt x="163" y="1856"/>
                </a:lnTo>
                <a:lnTo>
                  <a:pt x="161" y="1866"/>
                </a:lnTo>
                <a:lnTo>
                  <a:pt x="159" y="1873"/>
                </a:lnTo>
                <a:lnTo>
                  <a:pt x="157" y="1881"/>
                </a:lnTo>
                <a:lnTo>
                  <a:pt x="155" y="1889"/>
                </a:lnTo>
                <a:lnTo>
                  <a:pt x="155" y="1894"/>
                </a:lnTo>
                <a:lnTo>
                  <a:pt x="153" y="1902"/>
                </a:lnTo>
                <a:lnTo>
                  <a:pt x="152" y="1906"/>
                </a:lnTo>
                <a:lnTo>
                  <a:pt x="150" y="1912"/>
                </a:lnTo>
                <a:lnTo>
                  <a:pt x="148" y="1916"/>
                </a:lnTo>
                <a:lnTo>
                  <a:pt x="146" y="1919"/>
                </a:lnTo>
                <a:lnTo>
                  <a:pt x="146" y="1923"/>
                </a:lnTo>
                <a:lnTo>
                  <a:pt x="144" y="1925"/>
                </a:lnTo>
                <a:lnTo>
                  <a:pt x="142" y="1927"/>
                </a:lnTo>
                <a:lnTo>
                  <a:pt x="140" y="1929"/>
                </a:lnTo>
                <a:lnTo>
                  <a:pt x="138" y="1931"/>
                </a:lnTo>
                <a:lnTo>
                  <a:pt x="134" y="1929"/>
                </a:lnTo>
                <a:lnTo>
                  <a:pt x="128" y="1929"/>
                </a:lnTo>
                <a:lnTo>
                  <a:pt x="125" y="1925"/>
                </a:lnTo>
                <a:lnTo>
                  <a:pt x="119" y="1923"/>
                </a:lnTo>
                <a:lnTo>
                  <a:pt x="113" y="1919"/>
                </a:lnTo>
                <a:lnTo>
                  <a:pt x="109" y="1914"/>
                </a:lnTo>
                <a:lnTo>
                  <a:pt x="104" y="1908"/>
                </a:lnTo>
                <a:lnTo>
                  <a:pt x="98" y="1900"/>
                </a:lnTo>
                <a:lnTo>
                  <a:pt x="94" y="1893"/>
                </a:lnTo>
                <a:lnTo>
                  <a:pt x="88" y="1883"/>
                </a:lnTo>
                <a:lnTo>
                  <a:pt x="82" y="1873"/>
                </a:lnTo>
                <a:lnTo>
                  <a:pt x="77" y="1862"/>
                </a:lnTo>
                <a:lnTo>
                  <a:pt x="69" y="1850"/>
                </a:lnTo>
                <a:lnTo>
                  <a:pt x="63" y="1837"/>
                </a:lnTo>
                <a:lnTo>
                  <a:pt x="57" y="1822"/>
                </a:lnTo>
                <a:lnTo>
                  <a:pt x="50" y="1806"/>
                </a:lnTo>
                <a:lnTo>
                  <a:pt x="44" y="1791"/>
                </a:lnTo>
                <a:lnTo>
                  <a:pt x="36" y="1775"/>
                </a:lnTo>
                <a:lnTo>
                  <a:pt x="31" y="1762"/>
                </a:lnTo>
                <a:lnTo>
                  <a:pt x="27" y="1749"/>
                </a:lnTo>
                <a:lnTo>
                  <a:pt x="21" y="1737"/>
                </a:lnTo>
                <a:lnTo>
                  <a:pt x="17" y="1726"/>
                </a:lnTo>
                <a:lnTo>
                  <a:pt x="13" y="1714"/>
                </a:lnTo>
                <a:lnTo>
                  <a:pt x="11" y="1704"/>
                </a:lnTo>
                <a:lnTo>
                  <a:pt x="8" y="1697"/>
                </a:lnTo>
                <a:lnTo>
                  <a:pt x="6" y="1689"/>
                </a:lnTo>
                <a:lnTo>
                  <a:pt x="4" y="1681"/>
                </a:lnTo>
                <a:lnTo>
                  <a:pt x="2" y="1676"/>
                </a:lnTo>
                <a:lnTo>
                  <a:pt x="2" y="1670"/>
                </a:lnTo>
                <a:lnTo>
                  <a:pt x="0" y="1666"/>
                </a:lnTo>
                <a:lnTo>
                  <a:pt x="0" y="1662"/>
                </a:lnTo>
                <a:lnTo>
                  <a:pt x="0" y="1660"/>
                </a:lnTo>
                <a:lnTo>
                  <a:pt x="0" y="1655"/>
                </a:lnTo>
                <a:lnTo>
                  <a:pt x="0" y="1647"/>
                </a:lnTo>
                <a:lnTo>
                  <a:pt x="2" y="1637"/>
                </a:lnTo>
                <a:lnTo>
                  <a:pt x="2" y="1628"/>
                </a:lnTo>
                <a:lnTo>
                  <a:pt x="4" y="1614"/>
                </a:lnTo>
                <a:lnTo>
                  <a:pt x="4" y="1601"/>
                </a:lnTo>
                <a:lnTo>
                  <a:pt x="6" y="1585"/>
                </a:lnTo>
                <a:lnTo>
                  <a:pt x="8" y="1568"/>
                </a:lnTo>
                <a:lnTo>
                  <a:pt x="9" y="1551"/>
                </a:lnTo>
                <a:lnTo>
                  <a:pt x="11" y="1530"/>
                </a:lnTo>
                <a:lnTo>
                  <a:pt x="13" y="1509"/>
                </a:lnTo>
                <a:lnTo>
                  <a:pt x="15" y="1486"/>
                </a:lnTo>
                <a:lnTo>
                  <a:pt x="17" y="1461"/>
                </a:lnTo>
                <a:lnTo>
                  <a:pt x="21" y="1434"/>
                </a:lnTo>
                <a:lnTo>
                  <a:pt x="23" y="1407"/>
                </a:lnTo>
                <a:lnTo>
                  <a:pt x="25" y="1376"/>
                </a:lnTo>
                <a:lnTo>
                  <a:pt x="27" y="1346"/>
                </a:lnTo>
                <a:lnTo>
                  <a:pt x="29" y="1315"/>
                </a:lnTo>
                <a:lnTo>
                  <a:pt x="33" y="1282"/>
                </a:lnTo>
                <a:lnTo>
                  <a:pt x="34" y="1250"/>
                </a:lnTo>
                <a:lnTo>
                  <a:pt x="36" y="1217"/>
                </a:lnTo>
                <a:lnTo>
                  <a:pt x="38" y="1180"/>
                </a:lnTo>
                <a:lnTo>
                  <a:pt x="42" y="1146"/>
                </a:lnTo>
                <a:lnTo>
                  <a:pt x="44" y="1109"/>
                </a:lnTo>
                <a:lnTo>
                  <a:pt x="46" y="1073"/>
                </a:lnTo>
                <a:lnTo>
                  <a:pt x="48" y="1035"/>
                </a:lnTo>
                <a:lnTo>
                  <a:pt x="52" y="994"/>
                </a:lnTo>
                <a:lnTo>
                  <a:pt x="54" y="954"/>
                </a:lnTo>
                <a:lnTo>
                  <a:pt x="56" y="914"/>
                </a:lnTo>
                <a:lnTo>
                  <a:pt x="57" y="873"/>
                </a:lnTo>
                <a:lnTo>
                  <a:pt x="61" y="829"/>
                </a:lnTo>
                <a:lnTo>
                  <a:pt x="63" y="787"/>
                </a:lnTo>
                <a:lnTo>
                  <a:pt x="63" y="745"/>
                </a:lnTo>
                <a:lnTo>
                  <a:pt x="61" y="703"/>
                </a:lnTo>
                <a:lnTo>
                  <a:pt x="61" y="658"/>
                </a:lnTo>
                <a:lnTo>
                  <a:pt x="59" y="614"/>
                </a:lnTo>
                <a:lnTo>
                  <a:pt x="59" y="568"/>
                </a:lnTo>
                <a:lnTo>
                  <a:pt x="57" y="522"/>
                </a:lnTo>
                <a:lnTo>
                  <a:pt x="54" y="474"/>
                </a:lnTo>
                <a:lnTo>
                  <a:pt x="52" y="426"/>
                </a:lnTo>
                <a:lnTo>
                  <a:pt x="48" y="376"/>
                </a:lnTo>
                <a:lnTo>
                  <a:pt x="44" y="326"/>
                </a:lnTo>
                <a:lnTo>
                  <a:pt x="40" y="274"/>
                </a:lnTo>
                <a:lnTo>
                  <a:pt x="36" y="221"/>
                </a:lnTo>
                <a:lnTo>
                  <a:pt x="31" y="167"/>
                </a:lnTo>
                <a:lnTo>
                  <a:pt x="25" y="113"/>
                </a:lnTo>
                <a:lnTo>
                  <a:pt x="19" y="58"/>
                </a:lnTo>
                <a:lnTo>
                  <a:pt x="13" y="0"/>
                </a:lnTo>
                <a:lnTo>
                  <a:pt x="33" y="11"/>
                </a:lnTo>
                <a:lnTo>
                  <a:pt x="54" y="23"/>
                </a:lnTo>
                <a:lnTo>
                  <a:pt x="71" y="33"/>
                </a:lnTo>
                <a:lnTo>
                  <a:pt x="90" y="44"/>
                </a:lnTo>
                <a:lnTo>
                  <a:pt x="105" y="54"/>
                </a:lnTo>
                <a:lnTo>
                  <a:pt x="123" y="63"/>
                </a:lnTo>
                <a:lnTo>
                  <a:pt x="136" y="73"/>
                </a:lnTo>
                <a:lnTo>
                  <a:pt x="150" y="83"/>
                </a:lnTo>
                <a:lnTo>
                  <a:pt x="163" y="92"/>
                </a:lnTo>
                <a:lnTo>
                  <a:pt x="175" y="102"/>
                </a:lnTo>
                <a:lnTo>
                  <a:pt x="184" y="109"/>
                </a:lnTo>
                <a:lnTo>
                  <a:pt x="192" y="117"/>
                </a:lnTo>
                <a:lnTo>
                  <a:pt x="200" y="125"/>
                </a:lnTo>
                <a:lnTo>
                  <a:pt x="205" y="132"/>
                </a:lnTo>
                <a:lnTo>
                  <a:pt x="211" y="140"/>
                </a:lnTo>
                <a:lnTo>
                  <a:pt x="213" y="1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68"/>
          <p:cNvSpPr/>
          <p:nvPr/>
        </p:nvSpPr>
        <p:spPr>
          <a:xfrm>
            <a:off x="6946920" y="4202280"/>
            <a:ext cx="619200" cy="156960"/>
          </a:xfrm>
          <a:custGeom>
            <a:avLst/>
            <a:gdLst/>
            <a:ahLst/>
            <a:rect l="l" t="t" r="r" b="b"/>
            <a:pathLst>
              <a:path w="781" h="198">
                <a:moveTo>
                  <a:pt x="779" y="87"/>
                </a:moveTo>
                <a:lnTo>
                  <a:pt x="781" y="93"/>
                </a:lnTo>
                <a:lnTo>
                  <a:pt x="781" y="100"/>
                </a:lnTo>
                <a:lnTo>
                  <a:pt x="779" y="106"/>
                </a:lnTo>
                <a:lnTo>
                  <a:pt x="773" y="112"/>
                </a:lnTo>
                <a:lnTo>
                  <a:pt x="767" y="118"/>
                </a:lnTo>
                <a:lnTo>
                  <a:pt x="762" y="123"/>
                </a:lnTo>
                <a:lnTo>
                  <a:pt x="752" y="127"/>
                </a:lnTo>
                <a:lnTo>
                  <a:pt x="741" y="133"/>
                </a:lnTo>
                <a:lnTo>
                  <a:pt x="733" y="135"/>
                </a:lnTo>
                <a:lnTo>
                  <a:pt x="727" y="137"/>
                </a:lnTo>
                <a:lnTo>
                  <a:pt x="719" y="139"/>
                </a:lnTo>
                <a:lnTo>
                  <a:pt x="712" y="141"/>
                </a:lnTo>
                <a:lnTo>
                  <a:pt x="702" y="142"/>
                </a:lnTo>
                <a:lnTo>
                  <a:pt x="694" y="144"/>
                </a:lnTo>
                <a:lnTo>
                  <a:pt x="685" y="146"/>
                </a:lnTo>
                <a:lnTo>
                  <a:pt x="675" y="148"/>
                </a:lnTo>
                <a:lnTo>
                  <a:pt x="666" y="150"/>
                </a:lnTo>
                <a:lnTo>
                  <a:pt x="654" y="152"/>
                </a:lnTo>
                <a:lnTo>
                  <a:pt x="643" y="154"/>
                </a:lnTo>
                <a:lnTo>
                  <a:pt x="631" y="156"/>
                </a:lnTo>
                <a:lnTo>
                  <a:pt x="618" y="156"/>
                </a:lnTo>
                <a:lnTo>
                  <a:pt x="606" y="158"/>
                </a:lnTo>
                <a:lnTo>
                  <a:pt x="593" y="160"/>
                </a:lnTo>
                <a:lnTo>
                  <a:pt x="579" y="160"/>
                </a:lnTo>
                <a:lnTo>
                  <a:pt x="547" y="166"/>
                </a:lnTo>
                <a:lnTo>
                  <a:pt x="516" y="169"/>
                </a:lnTo>
                <a:lnTo>
                  <a:pt x="483" y="173"/>
                </a:lnTo>
                <a:lnTo>
                  <a:pt x="451" y="177"/>
                </a:lnTo>
                <a:lnTo>
                  <a:pt x="418" y="179"/>
                </a:lnTo>
                <a:lnTo>
                  <a:pt x="384" y="183"/>
                </a:lnTo>
                <a:lnTo>
                  <a:pt x="349" y="185"/>
                </a:lnTo>
                <a:lnTo>
                  <a:pt x="313" y="189"/>
                </a:lnTo>
                <a:lnTo>
                  <a:pt x="276" y="190"/>
                </a:lnTo>
                <a:lnTo>
                  <a:pt x="240" y="192"/>
                </a:lnTo>
                <a:lnTo>
                  <a:pt x="201" y="194"/>
                </a:lnTo>
                <a:lnTo>
                  <a:pt x="163" y="194"/>
                </a:lnTo>
                <a:lnTo>
                  <a:pt x="124" y="196"/>
                </a:lnTo>
                <a:lnTo>
                  <a:pt x="84" y="196"/>
                </a:lnTo>
                <a:lnTo>
                  <a:pt x="42" y="196"/>
                </a:lnTo>
                <a:lnTo>
                  <a:pt x="0" y="198"/>
                </a:lnTo>
                <a:lnTo>
                  <a:pt x="0" y="148"/>
                </a:lnTo>
                <a:lnTo>
                  <a:pt x="0" y="98"/>
                </a:lnTo>
                <a:lnTo>
                  <a:pt x="7" y="98"/>
                </a:lnTo>
                <a:lnTo>
                  <a:pt x="17" y="98"/>
                </a:lnTo>
                <a:lnTo>
                  <a:pt x="28" y="98"/>
                </a:lnTo>
                <a:lnTo>
                  <a:pt x="40" y="96"/>
                </a:lnTo>
                <a:lnTo>
                  <a:pt x="53" y="94"/>
                </a:lnTo>
                <a:lnTo>
                  <a:pt x="69" y="93"/>
                </a:lnTo>
                <a:lnTo>
                  <a:pt x="84" y="91"/>
                </a:lnTo>
                <a:lnTo>
                  <a:pt x="103" y="89"/>
                </a:lnTo>
                <a:lnTo>
                  <a:pt x="121" y="85"/>
                </a:lnTo>
                <a:lnTo>
                  <a:pt x="142" y="81"/>
                </a:lnTo>
                <a:lnTo>
                  <a:pt x="163" y="77"/>
                </a:lnTo>
                <a:lnTo>
                  <a:pt x="186" y="73"/>
                </a:lnTo>
                <a:lnTo>
                  <a:pt x="211" y="68"/>
                </a:lnTo>
                <a:lnTo>
                  <a:pt x="236" y="62"/>
                </a:lnTo>
                <a:lnTo>
                  <a:pt x="263" y="56"/>
                </a:lnTo>
                <a:lnTo>
                  <a:pt x="289" y="50"/>
                </a:lnTo>
                <a:lnTo>
                  <a:pt x="314" y="43"/>
                </a:lnTo>
                <a:lnTo>
                  <a:pt x="339" y="37"/>
                </a:lnTo>
                <a:lnTo>
                  <a:pt x="362" y="31"/>
                </a:lnTo>
                <a:lnTo>
                  <a:pt x="384" y="25"/>
                </a:lnTo>
                <a:lnTo>
                  <a:pt x="405" y="22"/>
                </a:lnTo>
                <a:lnTo>
                  <a:pt x="424" y="18"/>
                </a:lnTo>
                <a:lnTo>
                  <a:pt x="441" y="14"/>
                </a:lnTo>
                <a:lnTo>
                  <a:pt x="458" y="10"/>
                </a:lnTo>
                <a:lnTo>
                  <a:pt x="476" y="8"/>
                </a:lnTo>
                <a:lnTo>
                  <a:pt x="489" y="6"/>
                </a:lnTo>
                <a:lnTo>
                  <a:pt x="503" y="4"/>
                </a:lnTo>
                <a:lnTo>
                  <a:pt x="516" y="2"/>
                </a:lnTo>
                <a:lnTo>
                  <a:pt x="528" y="2"/>
                </a:lnTo>
                <a:lnTo>
                  <a:pt x="537" y="0"/>
                </a:lnTo>
                <a:lnTo>
                  <a:pt x="545" y="0"/>
                </a:lnTo>
                <a:lnTo>
                  <a:pt x="552" y="0"/>
                </a:lnTo>
                <a:lnTo>
                  <a:pt x="568" y="0"/>
                </a:lnTo>
                <a:lnTo>
                  <a:pt x="581" y="0"/>
                </a:lnTo>
                <a:lnTo>
                  <a:pt x="597" y="0"/>
                </a:lnTo>
                <a:lnTo>
                  <a:pt x="612" y="2"/>
                </a:lnTo>
                <a:lnTo>
                  <a:pt x="629" y="2"/>
                </a:lnTo>
                <a:lnTo>
                  <a:pt x="648" y="6"/>
                </a:lnTo>
                <a:lnTo>
                  <a:pt x="658" y="6"/>
                </a:lnTo>
                <a:lnTo>
                  <a:pt x="670" y="8"/>
                </a:lnTo>
                <a:lnTo>
                  <a:pt x="679" y="10"/>
                </a:lnTo>
                <a:lnTo>
                  <a:pt x="691" y="12"/>
                </a:lnTo>
                <a:lnTo>
                  <a:pt x="700" y="16"/>
                </a:lnTo>
                <a:lnTo>
                  <a:pt x="710" y="18"/>
                </a:lnTo>
                <a:lnTo>
                  <a:pt x="718" y="22"/>
                </a:lnTo>
                <a:lnTo>
                  <a:pt x="725" y="23"/>
                </a:lnTo>
                <a:lnTo>
                  <a:pt x="731" y="27"/>
                </a:lnTo>
                <a:lnTo>
                  <a:pt x="739" y="31"/>
                </a:lnTo>
                <a:lnTo>
                  <a:pt x="744" y="37"/>
                </a:lnTo>
                <a:lnTo>
                  <a:pt x="750" y="41"/>
                </a:lnTo>
                <a:lnTo>
                  <a:pt x="760" y="50"/>
                </a:lnTo>
                <a:lnTo>
                  <a:pt x="767" y="62"/>
                </a:lnTo>
                <a:lnTo>
                  <a:pt x="773" y="73"/>
                </a:lnTo>
                <a:lnTo>
                  <a:pt x="779" y="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69"/>
          <p:cNvSpPr/>
          <p:nvPr/>
        </p:nvSpPr>
        <p:spPr>
          <a:xfrm>
            <a:off x="6946920" y="3800520"/>
            <a:ext cx="612720" cy="166680"/>
          </a:xfrm>
          <a:custGeom>
            <a:avLst/>
            <a:gdLst/>
            <a:ahLst/>
            <a:rect l="l" t="t" r="r" b="b"/>
            <a:pathLst>
              <a:path w="771" h="209">
                <a:moveTo>
                  <a:pt x="767" y="124"/>
                </a:moveTo>
                <a:lnTo>
                  <a:pt x="766" y="124"/>
                </a:lnTo>
                <a:lnTo>
                  <a:pt x="766" y="126"/>
                </a:lnTo>
                <a:lnTo>
                  <a:pt x="764" y="126"/>
                </a:lnTo>
                <a:lnTo>
                  <a:pt x="762" y="128"/>
                </a:lnTo>
                <a:lnTo>
                  <a:pt x="760" y="128"/>
                </a:lnTo>
                <a:lnTo>
                  <a:pt x="758" y="130"/>
                </a:lnTo>
                <a:lnTo>
                  <a:pt x="754" y="132"/>
                </a:lnTo>
                <a:lnTo>
                  <a:pt x="750" y="132"/>
                </a:lnTo>
                <a:lnTo>
                  <a:pt x="746" y="134"/>
                </a:lnTo>
                <a:lnTo>
                  <a:pt x="741" y="136"/>
                </a:lnTo>
                <a:lnTo>
                  <a:pt x="737" y="136"/>
                </a:lnTo>
                <a:lnTo>
                  <a:pt x="731" y="138"/>
                </a:lnTo>
                <a:lnTo>
                  <a:pt x="723" y="140"/>
                </a:lnTo>
                <a:lnTo>
                  <a:pt x="718" y="140"/>
                </a:lnTo>
                <a:lnTo>
                  <a:pt x="710" y="142"/>
                </a:lnTo>
                <a:lnTo>
                  <a:pt x="702" y="144"/>
                </a:lnTo>
                <a:lnTo>
                  <a:pt x="685" y="145"/>
                </a:lnTo>
                <a:lnTo>
                  <a:pt x="666" y="149"/>
                </a:lnTo>
                <a:lnTo>
                  <a:pt x="647" y="153"/>
                </a:lnTo>
                <a:lnTo>
                  <a:pt x="623" y="155"/>
                </a:lnTo>
                <a:lnTo>
                  <a:pt x="599" y="159"/>
                </a:lnTo>
                <a:lnTo>
                  <a:pt x="574" y="163"/>
                </a:lnTo>
                <a:lnTo>
                  <a:pt x="545" y="169"/>
                </a:lnTo>
                <a:lnTo>
                  <a:pt x="516" y="172"/>
                </a:lnTo>
                <a:lnTo>
                  <a:pt x="455" y="182"/>
                </a:lnTo>
                <a:lnTo>
                  <a:pt x="391" y="190"/>
                </a:lnTo>
                <a:lnTo>
                  <a:pt x="328" y="195"/>
                </a:lnTo>
                <a:lnTo>
                  <a:pt x="263" y="201"/>
                </a:lnTo>
                <a:lnTo>
                  <a:pt x="197" y="205"/>
                </a:lnTo>
                <a:lnTo>
                  <a:pt x="132" y="207"/>
                </a:lnTo>
                <a:lnTo>
                  <a:pt x="67" y="209"/>
                </a:lnTo>
                <a:lnTo>
                  <a:pt x="0" y="209"/>
                </a:lnTo>
                <a:lnTo>
                  <a:pt x="0" y="161"/>
                </a:lnTo>
                <a:lnTo>
                  <a:pt x="0" y="111"/>
                </a:lnTo>
                <a:lnTo>
                  <a:pt x="7" y="111"/>
                </a:lnTo>
                <a:lnTo>
                  <a:pt x="17" y="111"/>
                </a:lnTo>
                <a:lnTo>
                  <a:pt x="27" y="109"/>
                </a:lnTo>
                <a:lnTo>
                  <a:pt x="38" y="109"/>
                </a:lnTo>
                <a:lnTo>
                  <a:pt x="50" y="107"/>
                </a:lnTo>
                <a:lnTo>
                  <a:pt x="63" y="105"/>
                </a:lnTo>
                <a:lnTo>
                  <a:pt x="78" y="103"/>
                </a:lnTo>
                <a:lnTo>
                  <a:pt x="94" y="101"/>
                </a:lnTo>
                <a:lnTo>
                  <a:pt x="109" y="98"/>
                </a:lnTo>
                <a:lnTo>
                  <a:pt x="126" y="94"/>
                </a:lnTo>
                <a:lnTo>
                  <a:pt x="146" y="90"/>
                </a:lnTo>
                <a:lnTo>
                  <a:pt x="165" y="86"/>
                </a:lnTo>
                <a:lnTo>
                  <a:pt x="186" y="80"/>
                </a:lnTo>
                <a:lnTo>
                  <a:pt x="207" y="74"/>
                </a:lnTo>
                <a:lnTo>
                  <a:pt x="228" y="69"/>
                </a:lnTo>
                <a:lnTo>
                  <a:pt x="251" y="61"/>
                </a:lnTo>
                <a:lnTo>
                  <a:pt x="274" y="55"/>
                </a:lnTo>
                <a:lnTo>
                  <a:pt x="297" y="50"/>
                </a:lnTo>
                <a:lnTo>
                  <a:pt x="320" y="44"/>
                </a:lnTo>
                <a:lnTo>
                  <a:pt x="341" y="38"/>
                </a:lnTo>
                <a:lnTo>
                  <a:pt x="362" y="34"/>
                </a:lnTo>
                <a:lnTo>
                  <a:pt x="382" y="28"/>
                </a:lnTo>
                <a:lnTo>
                  <a:pt x="403" y="25"/>
                </a:lnTo>
                <a:lnTo>
                  <a:pt x="422" y="21"/>
                </a:lnTo>
                <a:lnTo>
                  <a:pt x="439" y="19"/>
                </a:lnTo>
                <a:lnTo>
                  <a:pt x="458" y="15"/>
                </a:lnTo>
                <a:lnTo>
                  <a:pt x="476" y="13"/>
                </a:lnTo>
                <a:lnTo>
                  <a:pt x="491" y="9"/>
                </a:lnTo>
                <a:lnTo>
                  <a:pt x="508" y="7"/>
                </a:lnTo>
                <a:lnTo>
                  <a:pt x="524" y="5"/>
                </a:lnTo>
                <a:lnTo>
                  <a:pt x="539" y="2"/>
                </a:lnTo>
                <a:lnTo>
                  <a:pt x="552" y="0"/>
                </a:lnTo>
                <a:lnTo>
                  <a:pt x="581" y="2"/>
                </a:lnTo>
                <a:lnTo>
                  <a:pt x="606" y="3"/>
                </a:lnTo>
                <a:lnTo>
                  <a:pt x="631" y="5"/>
                </a:lnTo>
                <a:lnTo>
                  <a:pt x="656" y="11"/>
                </a:lnTo>
                <a:lnTo>
                  <a:pt x="666" y="13"/>
                </a:lnTo>
                <a:lnTo>
                  <a:pt x="677" y="17"/>
                </a:lnTo>
                <a:lnTo>
                  <a:pt x="687" y="21"/>
                </a:lnTo>
                <a:lnTo>
                  <a:pt x="696" y="26"/>
                </a:lnTo>
                <a:lnTo>
                  <a:pt x="706" y="30"/>
                </a:lnTo>
                <a:lnTo>
                  <a:pt x="714" y="36"/>
                </a:lnTo>
                <a:lnTo>
                  <a:pt x="721" y="44"/>
                </a:lnTo>
                <a:lnTo>
                  <a:pt x="729" y="50"/>
                </a:lnTo>
                <a:lnTo>
                  <a:pt x="735" y="57"/>
                </a:lnTo>
                <a:lnTo>
                  <a:pt x="742" y="63"/>
                </a:lnTo>
                <a:lnTo>
                  <a:pt x="748" y="69"/>
                </a:lnTo>
                <a:lnTo>
                  <a:pt x="752" y="74"/>
                </a:lnTo>
                <a:lnTo>
                  <a:pt x="756" y="80"/>
                </a:lnTo>
                <a:lnTo>
                  <a:pt x="760" y="86"/>
                </a:lnTo>
                <a:lnTo>
                  <a:pt x="764" y="92"/>
                </a:lnTo>
                <a:lnTo>
                  <a:pt x="766" y="96"/>
                </a:lnTo>
                <a:lnTo>
                  <a:pt x="769" y="99"/>
                </a:lnTo>
                <a:lnTo>
                  <a:pt x="769" y="105"/>
                </a:lnTo>
                <a:lnTo>
                  <a:pt x="771" y="109"/>
                </a:lnTo>
                <a:lnTo>
                  <a:pt x="771" y="113"/>
                </a:lnTo>
                <a:lnTo>
                  <a:pt x="771" y="115"/>
                </a:lnTo>
                <a:lnTo>
                  <a:pt x="769" y="119"/>
                </a:lnTo>
                <a:lnTo>
                  <a:pt x="769" y="121"/>
                </a:lnTo>
                <a:lnTo>
                  <a:pt x="767" y="1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70"/>
          <p:cNvSpPr/>
          <p:nvPr/>
        </p:nvSpPr>
        <p:spPr>
          <a:xfrm>
            <a:off x="6667560" y="3341520"/>
            <a:ext cx="1047600" cy="258840"/>
          </a:xfrm>
          <a:custGeom>
            <a:avLst/>
            <a:gdLst/>
            <a:ahLst/>
            <a:rect l="l" t="t" r="r" b="b"/>
            <a:pathLst>
              <a:path w="1319" h="324">
                <a:moveTo>
                  <a:pt x="1206" y="173"/>
                </a:moveTo>
                <a:lnTo>
                  <a:pt x="1194" y="173"/>
                </a:lnTo>
                <a:lnTo>
                  <a:pt x="1179" y="173"/>
                </a:lnTo>
                <a:lnTo>
                  <a:pt x="1164" y="175"/>
                </a:lnTo>
                <a:lnTo>
                  <a:pt x="1146" y="175"/>
                </a:lnTo>
                <a:lnTo>
                  <a:pt x="1127" y="176"/>
                </a:lnTo>
                <a:lnTo>
                  <a:pt x="1106" y="178"/>
                </a:lnTo>
                <a:lnTo>
                  <a:pt x="1083" y="180"/>
                </a:lnTo>
                <a:lnTo>
                  <a:pt x="1060" y="182"/>
                </a:lnTo>
                <a:lnTo>
                  <a:pt x="1033" y="184"/>
                </a:lnTo>
                <a:lnTo>
                  <a:pt x="1006" y="186"/>
                </a:lnTo>
                <a:lnTo>
                  <a:pt x="979" y="190"/>
                </a:lnTo>
                <a:lnTo>
                  <a:pt x="949" y="194"/>
                </a:lnTo>
                <a:lnTo>
                  <a:pt x="918" y="198"/>
                </a:lnTo>
                <a:lnTo>
                  <a:pt x="885" y="201"/>
                </a:lnTo>
                <a:lnTo>
                  <a:pt x="853" y="205"/>
                </a:lnTo>
                <a:lnTo>
                  <a:pt x="818" y="209"/>
                </a:lnTo>
                <a:lnTo>
                  <a:pt x="782" y="217"/>
                </a:lnTo>
                <a:lnTo>
                  <a:pt x="749" y="223"/>
                </a:lnTo>
                <a:lnTo>
                  <a:pt x="714" y="230"/>
                </a:lnTo>
                <a:lnTo>
                  <a:pt x="684" y="236"/>
                </a:lnTo>
                <a:lnTo>
                  <a:pt x="651" y="242"/>
                </a:lnTo>
                <a:lnTo>
                  <a:pt x="620" y="247"/>
                </a:lnTo>
                <a:lnTo>
                  <a:pt x="592" y="251"/>
                </a:lnTo>
                <a:lnTo>
                  <a:pt x="563" y="257"/>
                </a:lnTo>
                <a:lnTo>
                  <a:pt x="536" y="263"/>
                </a:lnTo>
                <a:lnTo>
                  <a:pt x="509" y="267"/>
                </a:lnTo>
                <a:lnTo>
                  <a:pt x="482" y="272"/>
                </a:lnTo>
                <a:lnTo>
                  <a:pt x="457" y="276"/>
                </a:lnTo>
                <a:lnTo>
                  <a:pt x="432" y="282"/>
                </a:lnTo>
                <a:lnTo>
                  <a:pt x="409" y="286"/>
                </a:lnTo>
                <a:lnTo>
                  <a:pt x="386" y="292"/>
                </a:lnTo>
                <a:lnTo>
                  <a:pt x="365" y="295"/>
                </a:lnTo>
                <a:lnTo>
                  <a:pt x="344" y="299"/>
                </a:lnTo>
                <a:lnTo>
                  <a:pt x="325" y="305"/>
                </a:lnTo>
                <a:lnTo>
                  <a:pt x="306" y="309"/>
                </a:lnTo>
                <a:lnTo>
                  <a:pt x="286" y="311"/>
                </a:lnTo>
                <a:lnTo>
                  <a:pt x="269" y="315"/>
                </a:lnTo>
                <a:lnTo>
                  <a:pt x="254" y="317"/>
                </a:lnTo>
                <a:lnTo>
                  <a:pt x="238" y="320"/>
                </a:lnTo>
                <a:lnTo>
                  <a:pt x="223" y="322"/>
                </a:lnTo>
                <a:lnTo>
                  <a:pt x="210" y="322"/>
                </a:lnTo>
                <a:lnTo>
                  <a:pt x="196" y="324"/>
                </a:lnTo>
                <a:lnTo>
                  <a:pt x="185" y="324"/>
                </a:lnTo>
                <a:lnTo>
                  <a:pt x="173" y="324"/>
                </a:lnTo>
                <a:lnTo>
                  <a:pt x="164" y="324"/>
                </a:lnTo>
                <a:lnTo>
                  <a:pt x="154" y="324"/>
                </a:lnTo>
                <a:lnTo>
                  <a:pt x="146" y="322"/>
                </a:lnTo>
                <a:lnTo>
                  <a:pt x="139" y="320"/>
                </a:lnTo>
                <a:lnTo>
                  <a:pt x="131" y="320"/>
                </a:lnTo>
                <a:lnTo>
                  <a:pt x="123" y="318"/>
                </a:lnTo>
                <a:lnTo>
                  <a:pt x="116" y="317"/>
                </a:lnTo>
                <a:lnTo>
                  <a:pt x="108" y="315"/>
                </a:lnTo>
                <a:lnTo>
                  <a:pt x="100" y="313"/>
                </a:lnTo>
                <a:lnTo>
                  <a:pt x="93" y="309"/>
                </a:lnTo>
                <a:lnTo>
                  <a:pt x="83" y="305"/>
                </a:lnTo>
                <a:lnTo>
                  <a:pt x="73" y="299"/>
                </a:lnTo>
                <a:lnTo>
                  <a:pt x="66" y="295"/>
                </a:lnTo>
                <a:lnTo>
                  <a:pt x="56" y="288"/>
                </a:lnTo>
                <a:lnTo>
                  <a:pt x="46" y="282"/>
                </a:lnTo>
                <a:lnTo>
                  <a:pt x="37" y="274"/>
                </a:lnTo>
                <a:lnTo>
                  <a:pt x="29" y="265"/>
                </a:lnTo>
                <a:lnTo>
                  <a:pt x="20" y="255"/>
                </a:lnTo>
                <a:lnTo>
                  <a:pt x="10" y="246"/>
                </a:lnTo>
                <a:lnTo>
                  <a:pt x="0" y="234"/>
                </a:lnTo>
                <a:lnTo>
                  <a:pt x="64" y="219"/>
                </a:lnTo>
                <a:lnTo>
                  <a:pt x="123" y="205"/>
                </a:lnTo>
                <a:lnTo>
                  <a:pt x="183" y="190"/>
                </a:lnTo>
                <a:lnTo>
                  <a:pt x="240" y="176"/>
                </a:lnTo>
                <a:lnTo>
                  <a:pt x="296" y="165"/>
                </a:lnTo>
                <a:lnTo>
                  <a:pt x="348" y="151"/>
                </a:lnTo>
                <a:lnTo>
                  <a:pt x="400" y="140"/>
                </a:lnTo>
                <a:lnTo>
                  <a:pt x="450" y="128"/>
                </a:lnTo>
                <a:lnTo>
                  <a:pt x="498" y="117"/>
                </a:lnTo>
                <a:lnTo>
                  <a:pt x="544" y="107"/>
                </a:lnTo>
                <a:lnTo>
                  <a:pt x="590" y="98"/>
                </a:lnTo>
                <a:lnTo>
                  <a:pt x="632" y="88"/>
                </a:lnTo>
                <a:lnTo>
                  <a:pt x="672" y="80"/>
                </a:lnTo>
                <a:lnTo>
                  <a:pt x="711" y="71"/>
                </a:lnTo>
                <a:lnTo>
                  <a:pt x="749" y="63"/>
                </a:lnTo>
                <a:lnTo>
                  <a:pt x="784" y="56"/>
                </a:lnTo>
                <a:lnTo>
                  <a:pt x="818" y="50"/>
                </a:lnTo>
                <a:lnTo>
                  <a:pt x="849" y="42"/>
                </a:lnTo>
                <a:lnTo>
                  <a:pt x="880" y="36"/>
                </a:lnTo>
                <a:lnTo>
                  <a:pt x="906" y="31"/>
                </a:lnTo>
                <a:lnTo>
                  <a:pt x="933" y="27"/>
                </a:lnTo>
                <a:lnTo>
                  <a:pt x="958" y="21"/>
                </a:lnTo>
                <a:lnTo>
                  <a:pt x="981" y="17"/>
                </a:lnTo>
                <a:lnTo>
                  <a:pt x="1002" y="13"/>
                </a:lnTo>
                <a:lnTo>
                  <a:pt x="1022" y="11"/>
                </a:lnTo>
                <a:lnTo>
                  <a:pt x="1039" y="8"/>
                </a:lnTo>
                <a:lnTo>
                  <a:pt x="1054" y="6"/>
                </a:lnTo>
                <a:lnTo>
                  <a:pt x="1068" y="4"/>
                </a:lnTo>
                <a:lnTo>
                  <a:pt x="1081" y="2"/>
                </a:lnTo>
                <a:lnTo>
                  <a:pt x="1091" y="2"/>
                </a:lnTo>
                <a:lnTo>
                  <a:pt x="1098" y="0"/>
                </a:lnTo>
                <a:lnTo>
                  <a:pt x="1106" y="0"/>
                </a:lnTo>
                <a:lnTo>
                  <a:pt x="1129" y="2"/>
                </a:lnTo>
                <a:lnTo>
                  <a:pt x="1150" y="4"/>
                </a:lnTo>
                <a:lnTo>
                  <a:pt x="1171" y="6"/>
                </a:lnTo>
                <a:lnTo>
                  <a:pt x="1190" y="11"/>
                </a:lnTo>
                <a:lnTo>
                  <a:pt x="1210" y="17"/>
                </a:lnTo>
                <a:lnTo>
                  <a:pt x="1217" y="21"/>
                </a:lnTo>
                <a:lnTo>
                  <a:pt x="1227" y="27"/>
                </a:lnTo>
                <a:lnTo>
                  <a:pt x="1235" y="31"/>
                </a:lnTo>
                <a:lnTo>
                  <a:pt x="1242" y="36"/>
                </a:lnTo>
                <a:lnTo>
                  <a:pt x="1250" y="44"/>
                </a:lnTo>
                <a:lnTo>
                  <a:pt x="1258" y="50"/>
                </a:lnTo>
                <a:lnTo>
                  <a:pt x="1271" y="63"/>
                </a:lnTo>
                <a:lnTo>
                  <a:pt x="1283" y="75"/>
                </a:lnTo>
                <a:lnTo>
                  <a:pt x="1292" y="86"/>
                </a:lnTo>
                <a:lnTo>
                  <a:pt x="1302" y="96"/>
                </a:lnTo>
                <a:lnTo>
                  <a:pt x="1309" y="104"/>
                </a:lnTo>
                <a:lnTo>
                  <a:pt x="1313" y="109"/>
                </a:lnTo>
                <a:lnTo>
                  <a:pt x="1315" y="111"/>
                </a:lnTo>
                <a:lnTo>
                  <a:pt x="1317" y="115"/>
                </a:lnTo>
                <a:lnTo>
                  <a:pt x="1319" y="119"/>
                </a:lnTo>
                <a:lnTo>
                  <a:pt x="1319" y="121"/>
                </a:lnTo>
                <a:lnTo>
                  <a:pt x="1319" y="123"/>
                </a:lnTo>
                <a:lnTo>
                  <a:pt x="1317" y="128"/>
                </a:lnTo>
                <a:lnTo>
                  <a:pt x="1313" y="132"/>
                </a:lnTo>
                <a:lnTo>
                  <a:pt x="1309" y="136"/>
                </a:lnTo>
                <a:lnTo>
                  <a:pt x="1306" y="140"/>
                </a:lnTo>
                <a:lnTo>
                  <a:pt x="1300" y="144"/>
                </a:lnTo>
                <a:lnTo>
                  <a:pt x="1294" y="146"/>
                </a:lnTo>
                <a:lnTo>
                  <a:pt x="1288" y="150"/>
                </a:lnTo>
                <a:lnTo>
                  <a:pt x="1283" y="153"/>
                </a:lnTo>
                <a:lnTo>
                  <a:pt x="1275" y="155"/>
                </a:lnTo>
                <a:lnTo>
                  <a:pt x="1267" y="157"/>
                </a:lnTo>
                <a:lnTo>
                  <a:pt x="1258" y="161"/>
                </a:lnTo>
                <a:lnTo>
                  <a:pt x="1248" y="163"/>
                </a:lnTo>
                <a:lnTo>
                  <a:pt x="1238" y="165"/>
                </a:lnTo>
                <a:lnTo>
                  <a:pt x="1229" y="169"/>
                </a:lnTo>
                <a:lnTo>
                  <a:pt x="1217" y="171"/>
                </a:lnTo>
                <a:lnTo>
                  <a:pt x="1206" y="1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71"/>
          <p:cNvSpPr/>
          <p:nvPr/>
        </p:nvSpPr>
        <p:spPr>
          <a:xfrm>
            <a:off x="6256440" y="2801880"/>
            <a:ext cx="792000" cy="1173240"/>
          </a:xfrm>
          <a:custGeom>
            <a:avLst/>
            <a:gdLst/>
            <a:ahLst/>
            <a:rect l="l" t="t" r="r" b="b"/>
            <a:pathLst>
              <a:path w="998" h="1478">
                <a:moveTo>
                  <a:pt x="996" y="142"/>
                </a:moveTo>
                <a:lnTo>
                  <a:pt x="996" y="144"/>
                </a:lnTo>
                <a:lnTo>
                  <a:pt x="998" y="150"/>
                </a:lnTo>
                <a:lnTo>
                  <a:pt x="998" y="154"/>
                </a:lnTo>
                <a:lnTo>
                  <a:pt x="996" y="160"/>
                </a:lnTo>
                <a:lnTo>
                  <a:pt x="996" y="167"/>
                </a:lnTo>
                <a:lnTo>
                  <a:pt x="994" y="173"/>
                </a:lnTo>
                <a:lnTo>
                  <a:pt x="993" y="181"/>
                </a:lnTo>
                <a:lnTo>
                  <a:pt x="991" y="190"/>
                </a:lnTo>
                <a:lnTo>
                  <a:pt x="989" y="198"/>
                </a:lnTo>
                <a:lnTo>
                  <a:pt x="985" y="208"/>
                </a:lnTo>
                <a:lnTo>
                  <a:pt x="981" y="219"/>
                </a:lnTo>
                <a:lnTo>
                  <a:pt x="977" y="229"/>
                </a:lnTo>
                <a:lnTo>
                  <a:pt x="973" y="240"/>
                </a:lnTo>
                <a:lnTo>
                  <a:pt x="968" y="254"/>
                </a:lnTo>
                <a:lnTo>
                  <a:pt x="962" y="265"/>
                </a:lnTo>
                <a:lnTo>
                  <a:pt x="956" y="279"/>
                </a:lnTo>
                <a:lnTo>
                  <a:pt x="950" y="294"/>
                </a:lnTo>
                <a:lnTo>
                  <a:pt x="943" y="308"/>
                </a:lnTo>
                <a:lnTo>
                  <a:pt x="935" y="323"/>
                </a:lnTo>
                <a:lnTo>
                  <a:pt x="927" y="340"/>
                </a:lnTo>
                <a:lnTo>
                  <a:pt x="920" y="356"/>
                </a:lnTo>
                <a:lnTo>
                  <a:pt x="910" y="375"/>
                </a:lnTo>
                <a:lnTo>
                  <a:pt x="900" y="392"/>
                </a:lnTo>
                <a:lnTo>
                  <a:pt x="891" y="411"/>
                </a:lnTo>
                <a:lnTo>
                  <a:pt x="881" y="430"/>
                </a:lnTo>
                <a:lnTo>
                  <a:pt x="870" y="450"/>
                </a:lnTo>
                <a:lnTo>
                  <a:pt x="858" y="471"/>
                </a:lnTo>
                <a:lnTo>
                  <a:pt x="847" y="492"/>
                </a:lnTo>
                <a:lnTo>
                  <a:pt x="835" y="515"/>
                </a:lnTo>
                <a:lnTo>
                  <a:pt x="822" y="536"/>
                </a:lnTo>
                <a:lnTo>
                  <a:pt x="808" y="561"/>
                </a:lnTo>
                <a:lnTo>
                  <a:pt x="795" y="584"/>
                </a:lnTo>
                <a:lnTo>
                  <a:pt x="768" y="632"/>
                </a:lnTo>
                <a:lnTo>
                  <a:pt x="741" y="678"/>
                </a:lnTo>
                <a:lnTo>
                  <a:pt x="714" y="722"/>
                </a:lnTo>
                <a:lnTo>
                  <a:pt x="687" y="764"/>
                </a:lnTo>
                <a:lnTo>
                  <a:pt x="662" y="805"/>
                </a:lnTo>
                <a:lnTo>
                  <a:pt x="637" y="843"/>
                </a:lnTo>
                <a:lnTo>
                  <a:pt x="612" y="881"/>
                </a:lnTo>
                <a:lnTo>
                  <a:pt x="588" y="916"/>
                </a:lnTo>
                <a:lnTo>
                  <a:pt x="564" y="951"/>
                </a:lnTo>
                <a:lnTo>
                  <a:pt x="541" y="981"/>
                </a:lnTo>
                <a:lnTo>
                  <a:pt x="520" y="1012"/>
                </a:lnTo>
                <a:lnTo>
                  <a:pt x="497" y="1041"/>
                </a:lnTo>
                <a:lnTo>
                  <a:pt x="476" y="1068"/>
                </a:lnTo>
                <a:lnTo>
                  <a:pt x="457" y="1093"/>
                </a:lnTo>
                <a:lnTo>
                  <a:pt x="438" y="1116"/>
                </a:lnTo>
                <a:lnTo>
                  <a:pt x="419" y="1137"/>
                </a:lnTo>
                <a:lnTo>
                  <a:pt x="397" y="1160"/>
                </a:lnTo>
                <a:lnTo>
                  <a:pt x="376" y="1183"/>
                </a:lnTo>
                <a:lnTo>
                  <a:pt x="357" y="1204"/>
                </a:lnTo>
                <a:lnTo>
                  <a:pt x="338" y="1223"/>
                </a:lnTo>
                <a:lnTo>
                  <a:pt x="319" y="1242"/>
                </a:lnTo>
                <a:lnTo>
                  <a:pt x="302" y="1262"/>
                </a:lnTo>
                <a:lnTo>
                  <a:pt x="284" y="1279"/>
                </a:lnTo>
                <a:lnTo>
                  <a:pt x="267" y="1296"/>
                </a:lnTo>
                <a:lnTo>
                  <a:pt x="250" y="1311"/>
                </a:lnTo>
                <a:lnTo>
                  <a:pt x="232" y="1327"/>
                </a:lnTo>
                <a:lnTo>
                  <a:pt x="217" y="1342"/>
                </a:lnTo>
                <a:lnTo>
                  <a:pt x="202" y="1358"/>
                </a:lnTo>
                <a:lnTo>
                  <a:pt x="186" y="1371"/>
                </a:lnTo>
                <a:lnTo>
                  <a:pt x="171" y="1384"/>
                </a:lnTo>
                <a:lnTo>
                  <a:pt x="156" y="1396"/>
                </a:lnTo>
                <a:lnTo>
                  <a:pt x="142" y="1407"/>
                </a:lnTo>
                <a:lnTo>
                  <a:pt x="127" y="1419"/>
                </a:lnTo>
                <a:lnTo>
                  <a:pt x="111" y="1429"/>
                </a:lnTo>
                <a:lnTo>
                  <a:pt x="98" y="1438"/>
                </a:lnTo>
                <a:lnTo>
                  <a:pt x="85" y="1448"/>
                </a:lnTo>
                <a:lnTo>
                  <a:pt x="73" y="1455"/>
                </a:lnTo>
                <a:lnTo>
                  <a:pt x="64" y="1461"/>
                </a:lnTo>
                <a:lnTo>
                  <a:pt x="54" y="1467"/>
                </a:lnTo>
                <a:lnTo>
                  <a:pt x="44" y="1471"/>
                </a:lnTo>
                <a:lnTo>
                  <a:pt x="37" y="1475"/>
                </a:lnTo>
                <a:lnTo>
                  <a:pt x="29" y="1477"/>
                </a:lnTo>
                <a:lnTo>
                  <a:pt x="23" y="1478"/>
                </a:lnTo>
                <a:lnTo>
                  <a:pt x="17" y="1478"/>
                </a:lnTo>
                <a:lnTo>
                  <a:pt x="14" y="1478"/>
                </a:lnTo>
                <a:lnTo>
                  <a:pt x="10" y="1477"/>
                </a:lnTo>
                <a:lnTo>
                  <a:pt x="6" y="1473"/>
                </a:lnTo>
                <a:lnTo>
                  <a:pt x="4" y="1469"/>
                </a:lnTo>
                <a:lnTo>
                  <a:pt x="2" y="1467"/>
                </a:lnTo>
                <a:lnTo>
                  <a:pt x="0" y="1463"/>
                </a:lnTo>
                <a:lnTo>
                  <a:pt x="0" y="1459"/>
                </a:lnTo>
                <a:lnTo>
                  <a:pt x="2" y="1453"/>
                </a:lnTo>
                <a:lnTo>
                  <a:pt x="2" y="1448"/>
                </a:lnTo>
                <a:lnTo>
                  <a:pt x="6" y="1442"/>
                </a:lnTo>
                <a:lnTo>
                  <a:pt x="10" y="1434"/>
                </a:lnTo>
                <a:lnTo>
                  <a:pt x="14" y="1427"/>
                </a:lnTo>
                <a:lnTo>
                  <a:pt x="19" y="1419"/>
                </a:lnTo>
                <a:lnTo>
                  <a:pt x="25" y="1409"/>
                </a:lnTo>
                <a:lnTo>
                  <a:pt x="31" y="1400"/>
                </a:lnTo>
                <a:lnTo>
                  <a:pt x="39" y="1390"/>
                </a:lnTo>
                <a:lnTo>
                  <a:pt x="48" y="1381"/>
                </a:lnTo>
                <a:lnTo>
                  <a:pt x="58" y="1369"/>
                </a:lnTo>
                <a:lnTo>
                  <a:pt x="67" y="1358"/>
                </a:lnTo>
                <a:lnTo>
                  <a:pt x="79" y="1346"/>
                </a:lnTo>
                <a:lnTo>
                  <a:pt x="90" y="1334"/>
                </a:lnTo>
                <a:lnTo>
                  <a:pt x="104" y="1321"/>
                </a:lnTo>
                <a:lnTo>
                  <a:pt x="117" y="1306"/>
                </a:lnTo>
                <a:lnTo>
                  <a:pt x="131" y="1290"/>
                </a:lnTo>
                <a:lnTo>
                  <a:pt x="146" y="1275"/>
                </a:lnTo>
                <a:lnTo>
                  <a:pt x="161" y="1256"/>
                </a:lnTo>
                <a:lnTo>
                  <a:pt x="177" y="1237"/>
                </a:lnTo>
                <a:lnTo>
                  <a:pt x="192" y="1217"/>
                </a:lnTo>
                <a:lnTo>
                  <a:pt x="209" y="1196"/>
                </a:lnTo>
                <a:lnTo>
                  <a:pt x="227" y="1173"/>
                </a:lnTo>
                <a:lnTo>
                  <a:pt x="244" y="1150"/>
                </a:lnTo>
                <a:lnTo>
                  <a:pt x="263" y="1125"/>
                </a:lnTo>
                <a:lnTo>
                  <a:pt x="282" y="1100"/>
                </a:lnTo>
                <a:lnTo>
                  <a:pt x="302" y="1072"/>
                </a:lnTo>
                <a:lnTo>
                  <a:pt x="323" y="1045"/>
                </a:lnTo>
                <a:lnTo>
                  <a:pt x="344" y="1014"/>
                </a:lnTo>
                <a:lnTo>
                  <a:pt x="363" y="985"/>
                </a:lnTo>
                <a:lnTo>
                  <a:pt x="384" y="954"/>
                </a:lnTo>
                <a:lnTo>
                  <a:pt x="422" y="895"/>
                </a:lnTo>
                <a:lnTo>
                  <a:pt x="459" y="835"/>
                </a:lnTo>
                <a:lnTo>
                  <a:pt x="495" y="776"/>
                </a:lnTo>
                <a:lnTo>
                  <a:pt x="528" y="718"/>
                </a:lnTo>
                <a:lnTo>
                  <a:pt x="561" y="661"/>
                </a:lnTo>
                <a:lnTo>
                  <a:pt x="591" y="603"/>
                </a:lnTo>
                <a:lnTo>
                  <a:pt x="620" y="547"/>
                </a:lnTo>
                <a:lnTo>
                  <a:pt x="632" y="521"/>
                </a:lnTo>
                <a:lnTo>
                  <a:pt x="641" y="494"/>
                </a:lnTo>
                <a:lnTo>
                  <a:pt x="653" y="469"/>
                </a:lnTo>
                <a:lnTo>
                  <a:pt x="664" y="444"/>
                </a:lnTo>
                <a:lnTo>
                  <a:pt x="674" y="419"/>
                </a:lnTo>
                <a:lnTo>
                  <a:pt x="683" y="396"/>
                </a:lnTo>
                <a:lnTo>
                  <a:pt x="693" y="375"/>
                </a:lnTo>
                <a:lnTo>
                  <a:pt x="703" y="354"/>
                </a:lnTo>
                <a:lnTo>
                  <a:pt x="710" y="333"/>
                </a:lnTo>
                <a:lnTo>
                  <a:pt x="720" y="313"/>
                </a:lnTo>
                <a:lnTo>
                  <a:pt x="728" y="296"/>
                </a:lnTo>
                <a:lnTo>
                  <a:pt x="733" y="277"/>
                </a:lnTo>
                <a:lnTo>
                  <a:pt x="741" y="261"/>
                </a:lnTo>
                <a:lnTo>
                  <a:pt x="747" y="244"/>
                </a:lnTo>
                <a:lnTo>
                  <a:pt x="753" y="229"/>
                </a:lnTo>
                <a:lnTo>
                  <a:pt x="758" y="215"/>
                </a:lnTo>
                <a:lnTo>
                  <a:pt x="760" y="202"/>
                </a:lnTo>
                <a:lnTo>
                  <a:pt x="762" y="189"/>
                </a:lnTo>
                <a:lnTo>
                  <a:pt x="762" y="177"/>
                </a:lnTo>
                <a:lnTo>
                  <a:pt x="764" y="166"/>
                </a:lnTo>
                <a:lnTo>
                  <a:pt x="766" y="154"/>
                </a:lnTo>
                <a:lnTo>
                  <a:pt x="766" y="142"/>
                </a:lnTo>
                <a:lnTo>
                  <a:pt x="766" y="133"/>
                </a:lnTo>
                <a:lnTo>
                  <a:pt x="766" y="123"/>
                </a:lnTo>
                <a:lnTo>
                  <a:pt x="766" y="114"/>
                </a:lnTo>
                <a:lnTo>
                  <a:pt x="766" y="106"/>
                </a:lnTo>
                <a:lnTo>
                  <a:pt x="766" y="98"/>
                </a:lnTo>
                <a:lnTo>
                  <a:pt x="764" y="91"/>
                </a:lnTo>
                <a:lnTo>
                  <a:pt x="762" y="85"/>
                </a:lnTo>
                <a:lnTo>
                  <a:pt x="762" y="77"/>
                </a:lnTo>
                <a:lnTo>
                  <a:pt x="760" y="73"/>
                </a:lnTo>
                <a:lnTo>
                  <a:pt x="758" y="68"/>
                </a:lnTo>
                <a:lnTo>
                  <a:pt x="753" y="64"/>
                </a:lnTo>
                <a:lnTo>
                  <a:pt x="749" y="58"/>
                </a:lnTo>
                <a:lnTo>
                  <a:pt x="747" y="54"/>
                </a:lnTo>
                <a:lnTo>
                  <a:pt x="743" y="48"/>
                </a:lnTo>
                <a:lnTo>
                  <a:pt x="741" y="45"/>
                </a:lnTo>
                <a:lnTo>
                  <a:pt x="739" y="41"/>
                </a:lnTo>
                <a:lnTo>
                  <a:pt x="739" y="37"/>
                </a:lnTo>
                <a:lnTo>
                  <a:pt x="739" y="33"/>
                </a:lnTo>
                <a:lnTo>
                  <a:pt x="739" y="29"/>
                </a:lnTo>
                <a:lnTo>
                  <a:pt x="739" y="25"/>
                </a:lnTo>
                <a:lnTo>
                  <a:pt x="741" y="22"/>
                </a:lnTo>
                <a:lnTo>
                  <a:pt x="743" y="18"/>
                </a:lnTo>
                <a:lnTo>
                  <a:pt x="747" y="14"/>
                </a:lnTo>
                <a:lnTo>
                  <a:pt x="749" y="12"/>
                </a:lnTo>
                <a:lnTo>
                  <a:pt x="753" y="8"/>
                </a:lnTo>
                <a:lnTo>
                  <a:pt x="758" y="6"/>
                </a:lnTo>
                <a:lnTo>
                  <a:pt x="760" y="4"/>
                </a:lnTo>
                <a:lnTo>
                  <a:pt x="764" y="2"/>
                </a:lnTo>
                <a:lnTo>
                  <a:pt x="768" y="2"/>
                </a:lnTo>
                <a:lnTo>
                  <a:pt x="774" y="0"/>
                </a:lnTo>
                <a:lnTo>
                  <a:pt x="779" y="0"/>
                </a:lnTo>
                <a:lnTo>
                  <a:pt x="785" y="2"/>
                </a:lnTo>
                <a:lnTo>
                  <a:pt x="793" y="2"/>
                </a:lnTo>
                <a:lnTo>
                  <a:pt x="801" y="4"/>
                </a:lnTo>
                <a:lnTo>
                  <a:pt x="810" y="6"/>
                </a:lnTo>
                <a:lnTo>
                  <a:pt x="820" y="8"/>
                </a:lnTo>
                <a:lnTo>
                  <a:pt x="829" y="12"/>
                </a:lnTo>
                <a:lnTo>
                  <a:pt x="839" y="14"/>
                </a:lnTo>
                <a:lnTo>
                  <a:pt x="860" y="22"/>
                </a:lnTo>
                <a:lnTo>
                  <a:pt x="883" y="31"/>
                </a:lnTo>
                <a:lnTo>
                  <a:pt x="895" y="37"/>
                </a:lnTo>
                <a:lnTo>
                  <a:pt x="906" y="45"/>
                </a:lnTo>
                <a:lnTo>
                  <a:pt x="916" y="52"/>
                </a:lnTo>
                <a:lnTo>
                  <a:pt x="925" y="58"/>
                </a:lnTo>
                <a:lnTo>
                  <a:pt x="935" y="66"/>
                </a:lnTo>
                <a:lnTo>
                  <a:pt x="943" y="73"/>
                </a:lnTo>
                <a:lnTo>
                  <a:pt x="950" y="79"/>
                </a:lnTo>
                <a:lnTo>
                  <a:pt x="958" y="87"/>
                </a:lnTo>
                <a:lnTo>
                  <a:pt x="966" y="93"/>
                </a:lnTo>
                <a:lnTo>
                  <a:pt x="971" y="100"/>
                </a:lnTo>
                <a:lnTo>
                  <a:pt x="977" y="108"/>
                </a:lnTo>
                <a:lnTo>
                  <a:pt x="981" y="114"/>
                </a:lnTo>
                <a:lnTo>
                  <a:pt x="987" y="121"/>
                </a:lnTo>
                <a:lnTo>
                  <a:pt x="991" y="127"/>
                </a:lnTo>
                <a:lnTo>
                  <a:pt x="993" y="135"/>
                </a:lnTo>
                <a:lnTo>
                  <a:pt x="996" y="1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2"/>
          <p:cNvSpPr/>
          <p:nvPr/>
        </p:nvSpPr>
        <p:spPr>
          <a:xfrm>
            <a:off x="5432400" y="3519360"/>
            <a:ext cx="996840" cy="1200240"/>
          </a:xfrm>
          <a:custGeom>
            <a:avLst/>
            <a:gdLst/>
            <a:ahLst/>
            <a:rect l="l" t="t" r="r" b="b"/>
            <a:pathLst>
              <a:path w="1257" h="1512">
                <a:moveTo>
                  <a:pt x="602" y="971"/>
                </a:moveTo>
                <a:lnTo>
                  <a:pt x="606" y="944"/>
                </a:lnTo>
                <a:lnTo>
                  <a:pt x="610" y="919"/>
                </a:lnTo>
                <a:lnTo>
                  <a:pt x="614" y="892"/>
                </a:lnTo>
                <a:lnTo>
                  <a:pt x="618" y="863"/>
                </a:lnTo>
                <a:lnTo>
                  <a:pt x="625" y="810"/>
                </a:lnTo>
                <a:lnTo>
                  <a:pt x="631" y="752"/>
                </a:lnTo>
                <a:lnTo>
                  <a:pt x="637" y="694"/>
                </a:lnTo>
                <a:lnTo>
                  <a:pt x="643" y="635"/>
                </a:lnTo>
                <a:lnTo>
                  <a:pt x="649" y="575"/>
                </a:lnTo>
                <a:lnTo>
                  <a:pt x="652" y="516"/>
                </a:lnTo>
                <a:lnTo>
                  <a:pt x="654" y="485"/>
                </a:lnTo>
                <a:lnTo>
                  <a:pt x="656" y="458"/>
                </a:lnTo>
                <a:lnTo>
                  <a:pt x="658" y="431"/>
                </a:lnTo>
                <a:lnTo>
                  <a:pt x="660" y="406"/>
                </a:lnTo>
                <a:lnTo>
                  <a:pt x="660" y="383"/>
                </a:lnTo>
                <a:lnTo>
                  <a:pt x="660" y="362"/>
                </a:lnTo>
                <a:lnTo>
                  <a:pt x="662" y="343"/>
                </a:lnTo>
                <a:lnTo>
                  <a:pt x="662" y="324"/>
                </a:lnTo>
                <a:lnTo>
                  <a:pt x="662" y="309"/>
                </a:lnTo>
                <a:lnTo>
                  <a:pt x="662" y="293"/>
                </a:lnTo>
                <a:lnTo>
                  <a:pt x="660" y="282"/>
                </a:lnTo>
                <a:lnTo>
                  <a:pt x="660" y="270"/>
                </a:lnTo>
                <a:lnTo>
                  <a:pt x="658" y="261"/>
                </a:lnTo>
                <a:lnTo>
                  <a:pt x="658" y="257"/>
                </a:lnTo>
                <a:lnTo>
                  <a:pt x="656" y="253"/>
                </a:lnTo>
                <a:lnTo>
                  <a:pt x="656" y="251"/>
                </a:lnTo>
                <a:lnTo>
                  <a:pt x="654" y="249"/>
                </a:lnTo>
                <a:lnTo>
                  <a:pt x="654" y="247"/>
                </a:lnTo>
                <a:lnTo>
                  <a:pt x="652" y="245"/>
                </a:lnTo>
                <a:lnTo>
                  <a:pt x="649" y="243"/>
                </a:lnTo>
                <a:lnTo>
                  <a:pt x="645" y="241"/>
                </a:lnTo>
                <a:lnTo>
                  <a:pt x="639" y="241"/>
                </a:lnTo>
                <a:lnTo>
                  <a:pt x="631" y="241"/>
                </a:lnTo>
                <a:lnTo>
                  <a:pt x="622" y="243"/>
                </a:lnTo>
                <a:lnTo>
                  <a:pt x="610" y="245"/>
                </a:lnTo>
                <a:lnTo>
                  <a:pt x="597" y="249"/>
                </a:lnTo>
                <a:lnTo>
                  <a:pt x="583" y="251"/>
                </a:lnTo>
                <a:lnTo>
                  <a:pt x="568" y="257"/>
                </a:lnTo>
                <a:lnTo>
                  <a:pt x="549" y="261"/>
                </a:lnTo>
                <a:lnTo>
                  <a:pt x="530" y="266"/>
                </a:lnTo>
                <a:lnTo>
                  <a:pt x="506" y="274"/>
                </a:lnTo>
                <a:lnTo>
                  <a:pt x="495" y="278"/>
                </a:lnTo>
                <a:lnTo>
                  <a:pt x="483" y="282"/>
                </a:lnTo>
                <a:lnTo>
                  <a:pt x="472" y="286"/>
                </a:lnTo>
                <a:lnTo>
                  <a:pt x="458" y="289"/>
                </a:lnTo>
                <a:lnTo>
                  <a:pt x="445" y="293"/>
                </a:lnTo>
                <a:lnTo>
                  <a:pt x="430" y="297"/>
                </a:lnTo>
                <a:lnTo>
                  <a:pt x="416" y="301"/>
                </a:lnTo>
                <a:lnTo>
                  <a:pt x="401" y="307"/>
                </a:lnTo>
                <a:lnTo>
                  <a:pt x="372" y="318"/>
                </a:lnTo>
                <a:lnTo>
                  <a:pt x="343" y="328"/>
                </a:lnTo>
                <a:lnTo>
                  <a:pt x="316" y="337"/>
                </a:lnTo>
                <a:lnTo>
                  <a:pt x="293" y="345"/>
                </a:lnTo>
                <a:lnTo>
                  <a:pt x="270" y="353"/>
                </a:lnTo>
                <a:lnTo>
                  <a:pt x="249" y="360"/>
                </a:lnTo>
                <a:lnTo>
                  <a:pt x="230" y="366"/>
                </a:lnTo>
                <a:lnTo>
                  <a:pt x="213" y="372"/>
                </a:lnTo>
                <a:lnTo>
                  <a:pt x="197" y="376"/>
                </a:lnTo>
                <a:lnTo>
                  <a:pt x="184" y="378"/>
                </a:lnTo>
                <a:lnTo>
                  <a:pt x="171" y="381"/>
                </a:lnTo>
                <a:lnTo>
                  <a:pt x="161" y="381"/>
                </a:lnTo>
                <a:lnTo>
                  <a:pt x="151" y="383"/>
                </a:lnTo>
                <a:lnTo>
                  <a:pt x="146" y="383"/>
                </a:lnTo>
                <a:lnTo>
                  <a:pt x="140" y="381"/>
                </a:lnTo>
                <a:lnTo>
                  <a:pt x="138" y="380"/>
                </a:lnTo>
                <a:lnTo>
                  <a:pt x="132" y="380"/>
                </a:lnTo>
                <a:lnTo>
                  <a:pt x="125" y="378"/>
                </a:lnTo>
                <a:lnTo>
                  <a:pt x="117" y="376"/>
                </a:lnTo>
                <a:lnTo>
                  <a:pt x="109" y="372"/>
                </a:lnTo>
                <a:lnTo>
                  <a:pt x="100" y="366"/>
                </a:lnTo>
                <a:lnTo>
                  <a:pt x="88" y="360"/>
                </a:lnTo>
                <a:lnTo>
                  <a:pt x="75" y="353"/>
                </a:lnTo>
                <a:lnTo>
                  <a:pt x="61" y="343"/>
                </a:lnTo>
                <a:lnTo>
                  <a:pt x="48" y="333"/>
                </a:lnTo>
                <a:lnTo>
                  <a:pt x="36" y="322"/>
                </a:lnTo>
                <a:lnTo>
                  <a:pt x="25" y="310"/>
                </a:lnTo>
                <a:lnTo>
                  <a:pt x="17" y="297"/>
                </a:lnTo>
                <a:lnTo>
                  <a:pt x="9" y="282"/>
                </a:lnTo>
                <a:lnTo>
                  <a:pt x="6" y="274"/>
                </a:lnTo>
                <a:lnTo>
                  <a:pt x="4" y="266"/>
                </a:lnTo>
                <a:lnTo>
                  <a:pt x="2" y="259"/>
                </a:lnTo>
                <a:lnTo>
                  <a:pt x="0" y="251"/>
                </a:lnTo>
                <a:lnTo>
                  <a:pt x="0" y="241"/>
                </a:lnTo>
                <a:lnTo>
                  <a:pt x="0" y="232"/>
                </a:lnTo>
                <a:lnTo>
                  <a:pt x="21" y="232"/>
                </a:lnTo>
                <a:lnTo>
                  <a:pt x="42" y="232"/>
                </a:lnTo>
                <a:lnTo>
                  <a:pt x="63" y="230"/>
                </a:lnTo>
                <a:lnTo>
                  <a:pt x="86" y="228"/>
                </a:lnTo>
                <a:lnTo>
                  <a:pt x="109" y="226"/>
                </a:lnTo>
                <a:lnTo>
                  <a:pt x="132" y="222"/>
                </a:lnTo>
                <a:lnTo>
                  <a:pt x="180" y="216"/>
                </a:lnTo>
                <a:lnTo>
                  <a:pt x="228" y="207"/>
                </a:lnTo>
                <a:lnTo>
                  <a:pt x="255" y="201"/>
                </a:lnTo>
                <a:lnTo>
                  <a:pt x="280" y="195"/>
                </a:lnTo>
                <a:lnTo>
                  <a:pt x="307" y="190"/>
                </a:lnTo>
                <a:lnTo>
                  <a:pt x="334" y="184"/>
                </a:lnTo>
                <a:lnTo>
                  <a:pt x="361" y="178"/>
                </a:lnTo>
                <a:lnTo>
                  <a:pt x="389" y="170"/>
                </a:lnTo>
                <a:lnTo>
                  <a:pt x="414" y="165"/>
                </a:lnTo>
                <a:lnTo>
                  <a:pt x="439" y="157"/>
                </a:lnTo>
                <a:lnTo>
                  <a:pt x="462" y="149"/>
                </a:lnTo>
                <a:lnTo>
                  <a:pt x="485" y="143"/>
                </a:lnTo>
                <a:lnTo>
                  <a:pt x="506" y="136"/>
                </a:lnTo>
                <a:lnTo>
                  <a:pt x="528" y="130"/>
                </a:lnTo>
                <a:lnTo>
                  <a:pt x="547" y="122"/>
                </a:lnTo>
                <a:lnTo>
                  <a:pt x="564" y="115"/>
                </a:lnTo>
                <a:lnTo>
                  <a:pt x="581" y="109"/>
                </a:lnTo>
                <a:lnTo>
                  <a:pt x="597" y="101"/>
                </a:lnTo>
                <a:lnTo>
                  <a:pt x="612" y="95"/>
                </a:lnTo>
                <a:lnTo>
                  <a:pt x="625" y="88"/>
                </a:lnTo>
                <a:lnTo>
                  <a:pt x="637" y="80"/>
                </a:lnTo>
                <a:lnTo>
                  <a:pt x="649" y="74"/>
                </a:lnTo>
                <a:lnTo>
                  <a:pt x="656" y="67"/>
                </a:lnTo>
                <a:lnTo>
                  <a:pt x="666" y="61"/>
                </a:lnTo>
                <a:lnTo>
                  <a:pt x="679" y="47"/>
                </a:lnTo>
                <a:lnTo>
                  <a:pt x="691" y="34"/>
                </a:lnTo>
                <a:lnTo>
                  <a:pt x="702" y="24"/>
                </a:lnTo>
                <a:lnTo>
                  <a:pt x="714" y="15"/>
                </a:lnTo>
                <a:lnTo>
                  <a:pt x="723" y="9"/>
                </a:lnTo>
                <a:lnTo>
                  <a:pt x="729" y="5"/>
                </a:lnTo>
                <a:lnTo>
                  <a:pt x="733" y="3"/>
                </a:lnTo>
                <a:lnTo>
                  <a:pt x="739" y="1"/>
                </a:lnTo>
                <a:lnTo>
                  <a:pt x="743" y="0"/>
                </a:lnTo>
                <a:lnTo>
                  <a:pt x="748" y="0"/>
                </a:lnTo>
                <a:lnTo>
                  <a:pt x="752" y="0"/>
                </a:lnTo>
                <a:lnTo>
                  <a:pt x="756" y="0"/>
                </a:lnTo>
                <a:lnTo>
                  <a:pt x="760" y="0"/>
                </a:lnTo>
                <a:lnTo>
                  <a:pt x="764" y="0"/>
                </a:lnTo>
                <a:lnTo>
                  <a:pt x="769" y="1"/>
                </a:lnTo>
                <a:lnTo>
                  <a:pt x="775" y="3"/>
                </a:lnTo>
                <a:lnTo>
                  <a:pt x="781" y="5"/>
                </a:lnTo>
                <a:lnTo>
                  <a:pt x="789" y="7"/>
                </a:lnTo>
                <a:lnTo>
                  <a:pt x="796" y="9"/>
                </a:lnTo>
                <a:lnTo>
                  <a:pt x="806" y="13"/>
                </a:lnTo>
                <a:lnTo>
                  <a:pt x="814" y="17"/>
                </a:lnTo>
                <a:lnTo>
                  <a:pt x="823" y="21"/>
                </a:lnTo>
                <a:lnTo>
                  <a:pt x="835" y="24"/>
                </a:lnTo>
                <a:lnTo>
                  <a:pt x="844" y="30"/>
                </a:lnTo>
                <a:lnTo>
                  <a:pt x="856" y="36"/>
                </a:lnTo>
                <a:lnTo>
                  <a:pt x="867" y="42"/>
                </a:lnTo>
                <a:lnTo>
                  <a:pt x="879" y="47"/>
                </a:lnTo>
                <a:lnTo>
                  <a:pt x="890" y="55"/>
                </a:lnTo>
                <a:lnTo>
                  <a:pt x="900" y="63"/>
                </a:lnTo>
                <a:lnTo>
                  <a:pt x="910" y="69"/>
                </a:lnTo>
                <a:lnTo>
                  <a:pt x="919" y="76"/>
                </a:lnTo>
                <a:lnTo>
                  <a:pt x="927" y="82"/>
                </a:lnTo>
                <a:lnTo>
                  <a:pt x="935" y="88"/>
                </a:lnTo>
                <a:lnTo>
                  <a:pt x="940" y="95"/>
                </a:lnTo>
                <a:lnTo>
                  <a:pt x="946" y="101"/>
                </a:lnTo>
                <a:lnTo>
                  <a:pt x="950" y="107"/>
                </a:lnTo>
                <a:lnTo>
                  <a:pt x="956" y="111"/>
                </a:lnTo>
                <a:lnTo>
                  <a:pt x="958" y="117"/>
                </a:lnTo>
                <a:lnTo>
                  <a:pt x="961" y="120"/>
                </a:lnTo>
                <a:lnTo>
                  <a:pt x="963" y="124"/>
                </a:lnTo>
                <a:lnTo>
                  <a:pt x="965" y="128"/>
                </a:lnTo>
                <a:lnTo>
                  <a:pt x="965" y="132"/>
                </a:lnTo>
                <a:lnTo>
                  <a:pt x="967" y="134"/>
                </a:lnTo>
                <a:lnTo>
                  <a:pt x="961" y="140"/>
                </a:lnTo>
                <a:lnTo>
                  <a:pt x="956" y="145"/>
                </a:lnTo>
                <a:lnTo>
                  <a:pt x="950" y="153"/>
                </a:lnTo>
                <a:lnTo>
                  <a:pt x="944" y="161"/>
                </a:lnTo>
                <a:lnTo>
                  <a:pt x="936" y="168"/>
                </a:lnTo>
                <a:lnTo>
                  <a:pt x="927" y="176"/>
                </a:lnTo>
                <a:lnTo>
                  <a:pt x="921" y="182"/>
                </a:lnTo>
                <a:lnTo>
                  <a:pt x="917" y="186"/>
                </a:lnTo>
                <a:lnTo>
                  <a:pt x="910" y="191"/>
                </a:lnTo>
                <a:lnTo>
                  <a:pt x="904" y="195"/>
                </a:lnTo>
                <a:lnTo>
                  <a:pt x="900" y="199"/>
                </a:lnTo>
                <a:lnTo>
                  <a:pt x="896" y="203"/>
                </a:lnTo>
                <a:lnTo>
                  <a:pt x="892" y="209"/>
                </a:lnTo>
                <a:lnTo>
                  <a:pt x="890" y="214"/>
                </a:lnTo>
                <a:lnTo>
                  <a:pt x="887" y="220"/>
                </a:lnTo>
                <a:lnTo>
                  <a:pt x="883" y="226"/>
                </a:lnTo>
                <a:lnTo>
                  <a:pt x="881" y="234"/>
                </a:lnTo>
                <a:lnTo>
                  <a:pt x="877" y="241"/>
                </a:lnTo>
                <a:lnTo>
                  <a:pt x="875" y="251"/>
                </a:lnTo>
                <a:lnTo>
                  <a:pt x="871" y="261"/>
                </a:lnTo>
                <a:lnTo>
                  <a:pt x="869" y="270"/>
                </a:lnTo>
                <a:lnTo>
                  <a:pt x="865" y="280"/>
                </a:lnTo>
                <a:lnTo>
                  <a:pt x="863" y="291"/>
                </a:lnTo>
                <a:lnTo>
                  <a:pt x="860" y="303"/>
                </a:lnTo>
                <a:lnTo>
                  <a:pt x="858" y="314"/>
                </a:lnTo>
                <a:lnTo>
                  <a:pt x="854" y="328"/>
                </a:lnTo>
                <a:lnTo>
                  <a:pt x="852" y="341"/>
                </a:lnTo>
                <a:lnTo>
                  <a:pt x="850" y="357"/>
                </a:lnTo>
                <a:lnTo>
                  <a:pt x="846" y="370"/>
                </a:lnTo>
                <a:lnTo>
                  <a:pt x="844" y="385"/>
                </a:lnTo>
                <a:lnTo>
                  <a:pt x="842" y="403"/>
                </a:lnTo>
                <a:lnTo>
                  <a:pt x="839" y="420"/>
                </a:lnTo>
                <a:lnTo>
                  <a:pt x="837" y="437"/>
                </a:lnTo>
                <a:lnTo>
                  <a:pt x="835" y="454"/>
                </a:lnTo>
                <a:lnTo>
                  <a:pt x="833" y="474"/>
                </a:lnTo>
                <a:lnTo>
                  <a:pt x="829" y="493"/>
                </a:lnTo>
                <a:lnTo>
                  <a:pt x="827" y="514"/>
                </a:lnTo>
                <a:lnTo>
                  <a:pt x="825" y="535"/>
                </a:lnTo>
                <a:lnTo>
                  <a:pt x="823" y="556"/>
                </a:lnTo>
                <a:lnTo>
                  <a:pt x="819" y="579"/>
                </a:lnTo>
                <a:lnTo>
                  <a:pt x="817" y="602"/>
                </a:lnTo>
                <a:lnTo>
                  <a:pt x="816" y="625"/>
                </a:lnTo>
                <a:lnTo>
                  <a:pt x="812" y="650"/>
                </a:lnTo>
                <a:lnTo>
                  <a:pt x="810" y="673"/>
                </a:lnTo>
                <a:lnTo>
                  <a:pt x="806" y="694"/>
                </a:lnTo>
                <a:lnTo>
                  <a:pt x="804" y="717"/>
                </a:lnTo>
                <a:lnTo>
                  <a:pt x="800" y="739"/>
                </a:lnTo>
                <a:lnTo>
                  <a:pt x="798" y="758"/>
                </a:lnTo>
                <a:lnTo>
                  <a:pt x="796" y="777"/>
                </a:lnTo>
                <a:lnTo>
                  <a:pt x="794" y="796"/>
                </a:lnTo>
                <a:lnTo>
                  <a:pt x="792" y="815"/>
                </a:lnTo>
                <a:lnTo>
                  <a:pt x="791" y="833"/>
                </a:lnTo>
                <a:lnTo>
                  <a:pt x="789" y="848"/>
                </a:lnTo>
                <a:lnTo>
                  <a:pt x="789" y="865"/>
                </a:lnTo>
                <a:lnTo>
                  <a:pt x="787" y="879"/>
                </a:lnTo>
                <a:lnTo>
                  <a:pt x="787" y="894"/>
                </a:lnTo>
                <a:lnTo>
                  <a:pt x="785" y="907"/>
                </a:lnTo>
                <a:lnTo>
                  <a:pt x="785" y="921"/>
                </a:lnTo>
                <a:lnTo>
                  <a:pt x="785" y="932"/>
                </a:lnTo>
                <a:lnTo>
                  <a:pt x="783" y="944"/>
                </a:lnTo>
                <a:lnTo>
                  <a:pt x="783" y="955"/>
                </a:lnTo>
                <a:lnTo>
                  <a:pt x="783" y="965"/>
                </a:lnTo>
                <a:lnTo>
                  <a:pt x="783" y="975"/>
                </a:lnTo>
                <a:lnTo>
                  <a:pt x="783" y="984"/>
                </a:lnTo>
                <a:lnTo>
                  <a:pt x="783" y="992"/>
                </a:lnTo>
                <a:lnTo>
                  <a:pt x="785" y="1000"/>
                </a:lnTo>
                <a:lnTo>
                  <a:pt x="785" y="1005"/>
                </a:lnTo>
                <a:lnTo>
                  <a:pt x="785" y="1011"/>
                </a:lnTo>
                <a:lnTo>
                  <a:pt x="787" y="1017"/>
                </a:lnTo>
                <a:lnTo>
                  <a:pt x="787" y="1021"/>
                </a:lnTo>
                <a:lnTo>
                  <a:pt x="787" y="1025"/>
                </a:lnTo>
                <a:lnTo>
                  <a:pt x="789" y="1028"/>
                </a:lnTo>
                <a:lnTo>
                  <a:pt x="789" y="1030"/>
                </a:lnTo>
                <a:lnTo>
                  <a:pt x="791" y="1032"/>
                </a:lnTo>
                <a:lnTo>
                  <a:pt x="794" y="1032"/>
                </a:lnTo>
                <a:lnTo>
                  <a:pt x="798" y="1032"/>
                </a:lnTo>
                <a:lnTo>
                  <a:pt x="804" y="1032"/>
                </a:lnTo>
                <a:lnTo>
                  <a:pt x="812" y="1028"/>
                </a:lnTo>
                <a:lnTo>
                  <a:pt x="821" y="1025"/>
                </a:lnTo>
                <a:lnTo>
                  <a:pt x="833" y="1021"/>
                </a:lnTo>
                <a:lnTo>
                  <a:pt x="844" y="1013"/>
                </a:lnTo>
                <a:lnTo>
                  <a:pt x="858" y="1005"/>
                </a:lnTo>
                <a:lnTo>
                  <a:pt x="873" y="994"/>
                </a:lnTo>
                <a:lnTo>
                  <a:pt x="890" y="982"/>
                </a:lnTo>
                <a:lnTo>
                  <a:pt x="910" y="971"/>
                </a:lnTo>
                <a:lnTo>
                  <a:pt x="931" y="955"/>
                </a:lnTo>
                <a:lnTo>
                  <a:pt x="952" y="940"/>
                </a:lnTo>
                <a:lnTo>
                  <a:pt x="977" y="923"/>
                </a:lnTo>
                <a:lnTo>
                  <a:pt x="1002" y="904"/>
                </a:lnTo>
                <a:lnTo>
                  <a:pt x="1029" y="884"/>
                </a:lnTo>
                <a:lnTo>
                  <a:pt x="1054" y="863"/>
                </a:lnTo>
                <a:lnTo>
                  <a:pt x="1078" y="846"/>
                </a:lnTo>
                <a:lnTo>
                  <a:pt x="1100" y="829"/>
                </a:lnTo>
                <a:lnTo>
                  <a:pt x="1121" y="813"/>
                </a:lnTo>
                <a:lnTo>
                  <a:pt x="1140" y="800"/>
                </a:lnTo>
                <a:lnTo>
                  <a:pt x="1157" y="788"/>
                </a:lnTo>
                <a:lnTo>
                  <a:pt x="1174" y="779"/>
                </a:lnTo>
                <a:lnTo>
                  <a:pt x="1190" y="771"/>
                </a:lnTo>
                <a:lnTo>
                  <a:pt x="1203" y="765"/>
                </a:lnTo>
                <a:lnTo>
                  <a:pt x="1215" y="760"/>
                </a:lnTo>
                <a:lnTo>
                  <a:pt x="1224" y="756"/>
                </a:lnTo>
                <a:lnTo>
                  <a:pt x="1234" y="754"/>
                </a:lnTo>
                <a:lnTo>
                  <a:pt x="1242" y="754"/>
                </a:lnTo>
                <a:lnTo>
                  <a:pt x="1247" y="754"/>
                </a:lnTo>
                <a:lnTo>
                  <a:pt x="1251" y="758"/>
                </a:lnTo>
                <a:lnTo>
                  <a:pt x="1255" y="762"/>
                </a:lnTo>
                <a:lnTo>
                  <a:pt x="1255" y="765"/>
                </a:lnTo>
                <a:lnTo>
                  <a:pt x="1257" y="769"/>
                </a:lnTo>
                <a:lnTo>
                  <a:pt x="1255" y="773"/>
                </a:lnTo>
                <a:lnTo>
                  <a:pt x="1255" y="777"/>
                </a:lnTo>
                <a:lnTo>
                  <a:pt x="1253" y="783"/>
                </a:lnTo>
                <a:lnTo>
                  <a:pt x="1251" y="788"/>
                </a:lnTo>
                <a:lnTo>
                  <a:pt x="1249" y="794"/>
                </a:lnTo>
                <a:lnTo>
                  <a:pt x="1245" y="800"/>
                </a:lnTo>
                <a:lnTo>
                  <a:pt x="1242" y="808"/>
                </a:lnTo>
                <a:lnTo>
                  <a:pt x="1238" y="813"/>
                </a:lnTo>
                <a:lnTo>
                  <a:pt x="1232" y="821"/>
                </a:lnTo>
                <a:lnTo>
                  <a:pt x="1226" y="829"/>
                </a:lnTo>
                <a:lnTo>
                  <a:pt x="1221" y="836"/>
                </a:lnTo>
                <a:lnTo>
                  <a:pt x="1213" y="846"/>
                </a:lnTo>
                <a:lnTo>
                  <a:pt x="1205" y="854"/>
                </a:lnTo>
                <a:lnTo>
                  <a:pt x="1197" y="863"/>
                </a:lnTo>
                <a:lnTo>
                  <a:pt x="1190" y="873"/>
                </a:lnTo>
                <a:lnTo>
                  <a:pt x="1180" y="882"/>
                </a:lnTo>
                <a:lnTo>
                  <a:pt x="1171" y="894"/>
                </a:lnTo>
                <a:lnTo>
                  <a:pt x="1159" y="904"/>
                </a:lnTo>
                <a:lnTo>
                  <a:pt x="1149" y="915"/>
                </a:lnTo>
                <a:lnTo>
                  <a:pt x="1138" y="927"/>
                </a:lnTo>
                <a:lnTo>
                  <a:pt x="1126" y="940"/>
                </a:lnTo>
                <a:lnTo>
                  <a:pt x="1113" y="952"/>
                </a:lnTo>
                <a:lnTo>
                  <a:pt x="1100" y="965"/>
                </a:lnTo>
                <a:lnTo>
                  <a:pt x="1086" y="978"/>
                </a:lnTo>
                <a:lnTo>
                  <a:pt x="1071" y="992"/>
                </a:lnTo>
                <a:lnTo>
                  <a:pt x="1057" y="1007"/>
                </a:lnTo>
                <a:lnTo>
                  <a:pt x="1042" y="1021"/>
                </a:lnTo>
                <a:lnTo>
                  <a:pt x="1025" y="1036"/>
                </a:lnTo>
                <a:lnTo>
                  <a:pt x="1007" y="1051"/>
                </a:lnTo>
                <a:lnTo>
                  <a:pt x="992" y="1069"/>
                </a:lnTo>
                <a:lnTo>
                  <a:pt x="975" y="1086"/>
                </a:lnTo>
                <a:lnTo>
                  <a:pt x="958" y="1103"/>
                </a:lnTo>
                <a:lnTo>
                  <a:pt x="940" y="1119"/>
                </a:lnTo>
                <a:lnTo>
                  <a:pt x="925" y="1134"/>
                </a:lnTo>
                <a:lnTo>
                  <a:pt x="910" y="1149"/>
                </a:lnTo>
                <a:lnTo>
                  <a:pt x="896" y="1165"/>
                </a:lnTo>
                <a:lnTo>
                  <a:pt x="881" y="1180"/>
                </a:lnTo>
                <a:lnTo>
                  <a:pt x="867" y="1193"/>
                </a:lnTo>
                <a:lnTo>
                  <a:pt x="854" y="1209"/>
                </a:lnTo>
                <a:lnTo>
                  <a:pt x="840" y="1222"/>
                </a:lnTo>
                <a:lnTo>
                  <a:pt x="817" y="1247"/>
                </a:lnTo>
                <a:lnTo>
                  <a:pt x="794" y="1270"/>
                </a:lnTo>
                <a:lnTo>
                  <a:pt x="773" y="1293"/>
                </a:lnTo>
                <a:lnTo>
                  <a:pt x="754" y="1314"/>
                </a:lnTo>
                <a:lnTo>
                  <a:pt x="739" y="1334"/>
                </a:lnTo>
                <a:lnTo>
                  <a:pt x="723" y="1353"/>
                </a:lnTo>
                <a:lnTo>
                  <a:pt x="710" y="1370"/>
                </a:lnTo>
                <a:lnTo>
                  <a:pt x="700" y="1385"/>
                </a:lnTo>
                <a:lnTo>
                  <a:pt x="691" y="1399"/>
                </a:lnTo>
                <a:lnTo>
                  <a:pt x="683" y="1412"/>
                </a:lnTo>
                <a:lnTo>
                  <a:pt x="677" y="1426"/>
                </a:lnTo>
                <a:lnTo>
                  <a:pt x="670" y="1435"/>
                </a:lnTo>
                <a:lnTo>
                  <a:pt x="664" y="1447"/>
                </a:lnTo>
                <a:lnTo>
                  <a:pt x="658" y="1456"/>
                </a:lnTo>
                <a:lnTo>
                  <a:pt x="652" y="1464"/>
                </a:lnTo>
                <a:lnTo>
                  <a:pt x="647" y="1472"/>
                </a:lnTo>
                <a:lnTo>
                  <a:pt x="641" y="1479"/>
                </a:lnTo>
                <a:lnTo>
                  <a:pt x="635" y="1485"/>
                </a:lnTo>
                <a:lnTo>
                  <a:pt x="631" y="1491"/>
                </a:lnTo>
                <a:lnTo>
                  <a:pt x="625" y="1497"/>
                </a:lnTo>
                <a:lnTo>
                  <a:pt x="622" y="1501"/>
                </a:lnTo>
                <a:lnTo>
                  <a:pt x="618" y="1504"/>
                </a:lnTo>
                <a:lnTo>
                  <a:pt x="614" y="1506"/>
                </a:lnTo>
                <a:lnTo>
                  <a:pt x="610" y="1508"/>
                </a:lnTo>
                <a:lnTo>
                  <a:pt x="608" y="1510"/>
                </a:lnTo>
                <a:lnTo>
                  <a:pt x="604" y="1510"/>
                </a:lnTo>
                <a:lnTo>
                  <a:pt x="602" y="1512"/>
                </a:lnTo>
                <a:lnTo>
                  <a:pt x="597" y="1510"/>
                </a:lnTo>
                <a:lnTo>
                  <a:pt x="593" y="1510"/>
                </a:lnTo>
                <a:lnTo>
                  <a:pt x="587" y="1508"/>
                </a:lnTo>
                <a:lnTo>
                  <a:pt x="583" y="1506"/>
                </a:lnTo>
                <a:lnTo>
                  <a:pt x="578" y="1504"/>
                </a:lnTo>
                <a:lnTo>
                  <a:pt x="574" y="1501"/>
                </a:lnTo>
                <a:lnTo>
                  <a:pt x="568" y="1497"/>
                </a:lnTo>
                <a:lnTo>
                  <a:pt x="562" y="1491"/>
                </a:lnTo>
                <a:lnTo>
                  <a:pt x="556" y="1485"/>
                </a:lnTo>
                <a:lnTo>
                  <a:pt x="553" y="1479"/>
                </a:lnTo>
                <a:lnTo>
                  <a:pt x="547" y="1472"/>
                </a:lnTo>
                <a:lnTo>
                  <a:pt x="539" y="1464"/>
                </a:lnTo>
                <a:lnTo>
                  <a:pt x="533" y="1456"/>
                </a:lnTo>
                <a:lnTo>
                  <a:pt x="528" y="1447"/>
                </a:lnTo>
                <a:lnTo>
                  <a:pt x="522" y="1435"/>
                </a:lnTo>
                <a:lnTo>
                  <a:pt x="514" y="1426"/>
                </a:lnTo>
                <a:lnTo>
                  <a:pt x="506" y="1414"/>
                </a:lnTo>
                <a:lnTo>
                  <a:pt x="501" y="1403"/>
                </a:lnTo>
                <a:lnTo>
                  <a:pt x="495" y="1393"/>
                </a:lnTo>
                <a:lnTo>
                  <a:pt x="489" y="1383"/>
                </a:lnTo>
                <a:lnTo>
                  <a:pt x="483" y="1374"/>
                </a:lnTo>
                <a:lnTo>
                  <a:pt x="478" y="1366"/>
                </a:lnTo>
                <a:lnTo>
                  <a:pt x="468" y="1349"/>
                </a:lnTo>
                <a:lnTo>
                  <a:pt x="460" y="1335"/>
                </a:lnTo>
                <a:lnTo>
                  <a:pt x="458" y="1330"/>
                </a:lnTo>
                <a:lnTo>
                  <a:pt x="457" y="1322"/>
                </a:lnTo>
                <a:lnTo>
                  <a:pt x="455" y="1316"/>
                </a:lnTo>
                <a:lnTo>
                  <a:pt x="453" y="1312"/>
                </a:lnTo>
                <a:lnTo>
                  <a:pt x="451" y="1307"/>
                </a:lnTo>
                <a:lnTo>
                  <a:pt x="451" y="1303"/>
                </a:lnTo>
                <a:lnTo>
                  <a:pt x="451" y="1299"/>
                </a:lnTo>
                <a:lnTo>
                  <a:pt x="453" y="1297"/>
                </a:lnTo>
                <a:lnTo>
                  <a:pt x="455" y="1293"/>
                </a:lnTo>
                <a:lnTo>
                  <a:pt x="457" y="1287"/>
                </a:lnTo>
                <a:lnTo>
                  <a:pt x="458" y="1284"/>
                </a:lnTo>
                <a:lnTo>
                  <a:pt x="460" y="1280"/>
                </a:lnTo>
                <a:lnTo>
                  <a:pt x="468" y="1268"/>
                </a:lnTo>
                <a:lnTo>
                  <a:pt x="478" y="1257"/>
                </a:lnTo>
                <a:lnTo>
                  <a:pt x="489" y="1243"/>
                </a:lnTo>
                <a:lnTo>
                  <a:pt x="501" y="1230"/>
                </a:lnTo>
                <a:lnTo>
                  <a:pt x="514" y="1216"/>
                </a:lnTo>
                <a:lnTo>
                  <a:pt x="522" y="1209"/>
                </a:lnTo>
                <a:lnTo>
                  <a:pt x="528" y="1201"/>
                </a:lnTo>
                <a:lnTo>
                  <a:pt x="533" y="1191"/>
                </a:lnTo>
                <a:lnTo>
                  <a:pt x="539" y="1180"/>
                </a:lnTo>
                <a:lnTo>
                  <a:pt x="547" y="1170"/>
                </a:lnTo>
                <a:lnTo>
                  <a:pt x="553" y="1157"/>
                </a:lnTo>
                <a:lnTo>
                  <a:pt x="558" y="1144"/>
                </a:lnTo>
                <a:lnTo>
                  <a:pt x="562" y="1130"/>
                </a:lnTo>
                <a:lnTo>
                  <a:pt x="568" y="1115"/>
                </a:lnTo>
                <a:lnTo>
                  <a:pt x="574" y="1097"/>
                </a:lnTo>
                <a:lnTo>
                  <a:pt x="578" y="1080"/>
                </a:lnTo>
                <a:lnTo>
                  <a:pt x="583" y="1061"/>
                </a:lnTo>
                <a:lnTo>
                  <a:pt x="587" y="1040"/>
                </a:lnTo>
                <a:lnTo>
                  <a:pt x="593" y="1017"/>
                </a:lnTo>
                <a:lnTo>
                  <a:pt x="597" y="994"/>
                </a:lnTo>
                <a:lnTo>
                  <a:pt x="602" y="9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73"/>
          <p:cNvSpPr/>
          <p:nvPr/>
        </p:nvSpPr>
        <p:spPr>
          <a:xfrm>
            <a:off x="5910120" y="2932200"/>
            <a:ext cx="392400" cy="255600"/>
          </a:xfrm>
          <a:custGeom>
            <a:avLst/>
            <a:gdLst/>
            <a:ahLst/>
            <a:rect l="l" t="t" r="r" b="b"/>
            <a:pathLst>
              <a:path w="494" h="320">
                <a:moveTo>
                  <a:pt x="89" y="136"/>
                </a:moveTo>
                <a:lnTo>
                  <a:pt x="77" y="124"/>
                </a:lnTo>
                <a:lnTo>
                  <a:pt x="66" y="113"/>
                </a:lnTo>
                <a:lnTo>
                  <a:pt x="56" y="103"/>
                </a:lnTo>
                <a:lnTo>
                  <a:pt x="48" y="94"/>
                </a:lnTo>
                <a:lnTo>
                  <a:pt x="41" y="84"/>
                </a:lnTo>
                <a:lnTo>
                  <a:pt x="33" y="76"/>
                </a:lnTo>
                <a:lnTo>
                  <a:pt x="27" y="69"/>
                </a:lnTo>
                <a:lnTo>
                  <a:pt x="22" y="61"/>
                </a:lnTo>
                <a:lnTo>
                  <a:pt x="16" y="55"/>
                </a:lnTo>
                <a:lnTo>
                  <a:pt x="12" y="49"/>
                </a:lnTo>
                <a:lnTo>
                  <a:pt x="8" y="44"/>
                </a:lnTo>
                <a:lnTo>
                  <a:pt x="4" y="38"/>
                </a:lnTo>
                <a:lnTo>
                  <a:pt x="2" y="34"/>
                </a:lnTo>
                <a:lnTo>
                  <a:pt x="0" y="30"/>
                </a:lnTo>
                <a:lnTo>
                  <a:pt x="0" y="26"/>
                </a:lnTo>
                <a:lnTo>
                  <a:pt x="0" y="24"/>
                </a:lnTo>
                <a:lnTo>
                  <a:pt x="0" y="23"/>
                </a:lnTo>
                <a:lnTo>
                  <a:pt x="2" y="21"/>
                </a:lnTo>
                <a:lnTo>
                  <a:pt x="4" y="19"/>
                </a:lnTo>
                <a:lnTo>
                  <a:pt x="10" y="15"/>
                </a:lnTo>
                <a:lnTo>
                  <a:pt x="14" y="13"/>
                </a:lnTo>
                <a:lnTo>
                  <a:pt x="20" y="11"/>
                </a:lnTo>
                <a:lnTo>
                  <a:pt x="27" y="9"/>
                </a:lnTo>
                <a:lnTo>
                  <a:pt x="37" y="7"/>
                </a:lnTo>
                <a:lnTo>
                  <a:pt x="45" y="5"/>
                </a:lnTo>
                <a:lnTo>
                  <a:pt x="56" y="5"/>
                </a:lnTo>
                <a:lnTo>
                  <a:pt x="68" y="3"/>
                </a:lnTo>
                <a:lnTo>
                  <a:pt x="79" y="1"/>
                </a:lnTo>
                <a:lnTo>
                  <a:pt x="93" y="1"/>
                </a:lnTo>
                <a:lnTo>
                  <a:pt x="108" y="1"/>
                </a:lnTo>
                <a:lnTo>
                  <a:pt x="121" y="0"/>
                </a:lnTo>
                <a:lnTo>
                  <a:pt x="139" y="0"/>
                </a:lnTo>
                <a:lnTo>
                  <a:pt x="154" y="0"/>
                </a:lnTo>
                <a:lnTo>
                  <a:pt x="171" y="1"/>
                </a:lnTo>
                <a:lnTo>
                  <a:pt x="187" y="3"/>
                </a:lnTo>
                <a:lnTo>
                  <a:pt x="202" y="5"/>
                </a:lnTo>
                <a:lnTo>
                  <a:pt x="217" y="7"/>
                </a:lnTo>
                <a:lnTo>
                  <a:pt x="233" y="9"/>
                </a:lnTo>
                <a:lnTo>
                  <a:pt x="263" y="17"/>
                </a:lnTo>
                <a:lnTo>
                  <a:pt x="294" y="26"/>
                </a:lnTo>
                <a:lnTo>
                  <a:pt x="325" y="36"/>
                </a:lnTo>
                <a:lnTo>
                  <a:pt x="357" y="47"/>
                </a:lnTo>
                <a:lnTo>
                  <a:pt x="390" y="61"/>
                </a:lnTo>
                <a:lnTo>
                  <a:pt x="405" y="71"/>
                </a:lnTo>
                <a:lnTo>
                  <a:pt x="419" y="80"/>
                </a:lnTo>
                <a:lnTo>
                  <a:pt x="432" y="90"/>
                </a:lnTo>
                <a:lnTo>
                  <a:pt x="444" y="99"/>
                </a:lnTo>
                <a:lnTo>
                  <a:pt x="453" y="109"/>
                </a:lnTo>
                <a:lnTo>
                  <a:pt x="463" y="119"/>
                </a:lnTo>
                <a:lnTo>
                  <a:pt x="471" y="128"/>
                </a:lnTo>
                <a:lnTo>
                  <a:pt x="476" y="138"/>
                </a:lnTo>
                <a:lnTo>
                  <a:pt x="482" y="147"/>
                </a:lnTo>
                <a:lnTo>
                  <a:pt x="486" y="157"/>
                </a:lnTo>
                <a:lnTo>
                  <a:pt x="490" y="167"/>
                </a:lnTo>
                <a:lnTo>
                  <a:pt x="492" y="178"/>
                </a:lnTo>
                <a:lnTo>
                  <a:pt x="494" y="188"/>
                </a:lnTo>
                <a:lnTo>
                  <a:pt x="494" y="199"/>
                </a:lnTo>
                <a:lnTo>
                  <a:pt x="492" y="211"/>
                </a:lnTo>
                <a:lnTo>
                  <a:pt x="490" y="222"/>
                </a:lnTo>
                <a:lnTo>
                  <a:pt x="488" y="232"/>
                </a:lnTo>
                <a:lnTo>
                  <a:pt x="484" y="243"/>
                </a:lnTo>
                <a:lnTo>
                  <a:pt x="482" y="253"/>
                </a:lnTo>
                <a:lnTo>
                  <a:pt x="478" y="262"/>
                </a:lnTo>
                <a:lnTo>
                  <a:pt x="475" y="272"/>
                </a:lnTo>
                <a:lnTo>
                  <a:pt x="473" y="280"/>
                </a:lnTo>
                <a:lnTo>
                  <a:pt x="469" y="287"/>
                </a:lnTo>
                <a:lnTo>
                  <a:pt x="465" y="293"/>
                </a:lnTo>
                <a:lnTo>
                  <a:pt x="461" y="299"/>
                </a:lnTo>
                <a:lnTo>
                  <a:pt x="457" y="305"/>
                </a:lnTo>
                <a:lnTo>
                  <a:pt x="453" y="309"/>
                </a:lnTo>
                <a:lnTo>
                  <a:pt x="452" y="312"/>
                </a:lnTo>
                <a:lnTo>
                  <a:pt x="448" y="316"/>
                </a:lnTo>
                <a:lnTo>
                  <a:pt x="444" y="318"/>
                </a:lnTo>
                <a:lnTo>
                  <a:pt x="442" y="320"/>
                </a:lnTo>
                <a:lnTo>
                  <a:pt x="440" y="320"/>
                </a:lnTo>
                <a:lnTo>
                  <a:pt x="434" y="320"/>
                </a:lnTo>
                <a:lnTo>
                  <a:pt x="428" y="318"/>
                </a:lnTo>
                <a:lnTo>
                  <a:pt x="423" y="316"/>
                </a:lnTo>
                <a:lnTo>
                  <a:pt x="417" y="316"/>
                </a:lnTo>
                <a:lnTo>
                  <a:pt x="409" y="312"/>
                </a:lnTo>
                <a:lnTo>
                  <a:pt x="402" y="310"/>
                </a:lnTo>
                <a:lnTo>
                  <a:pt x="392" y="307"/>
                </a:lnTo>
                <a:lnTo>
                  <a:pt x="382" y="303"/>
                </a:lnTo>
                <a:lnTo>
                  <a:pt x="373" y="299"/>
                </a:lnTo>
                <a:lnTo>
                  <a:pt x="363" y="293"/>
                </a:lnTo>
                <a:lnTo>
                  <a:pt x="352" y="289"/>
                </a:lnTo>
                <a:lnTo>
                  <a:pt x="340" y="284"/>
                </a:lnTo>
                <a:lnTo>
                  <a:pt x="329" y="278"/>
                </a:lnTo>
                <a:lnTo>
                  <a:pt x="315" y="272"/>
                </a:lnTo>
                <a:lnTo>
                  <a:pt x="302" y="264"/>
                </a:lnTo>
                <a:lnTo>
                  <a:pt x="288" y="259"/>
                </a:lnTo>
                <a:lnTo>
                  <a:pt x="261" y="243"/>
                </a:lnTo>
                <a:lnTo>
                  <a:pt x="235" y="230"/>
                </a:lnTo>
                <a:lnTo>
                  <a:pt x="210" y="216"/>
                </a:lnTo>
                <a:lnTo>
                  <a:pt x="183" y="201"/>
                </a:lnTo>
                <a:lnTo>
                  <a:pt x="160" y="186"/>
                </a:lnTo>
                <a:lnTo>
                  <a:pt x="135" y="170"/>
                </a:lnTo>
                <a:lnTo>
                  <a:pt x="112" y="153"/>
                </a:lnTo>
                <a:lnTo>
                  <a:pt x="89" y="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3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；右部宜紧凑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3"/>
          <p:cNvSpPr/>
          <p:nvPr/>
        </p:nvSpPr>
        <p:spPr>
          <a:xfrm>
            <a:off x="1998720" y="1979640"/>
            <a:ext cx="157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ǎ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49"/>
          <p:cNvSpPr/>
          <p:nvPr/>
        </p:nvSpPr>
        <p:spPr>
          <a:xfrm>
            <a:off x="6707160" y="4164120"/>
            <a:ext cx="557280" cy="876240"/>
          </a:xfrm>
          <a:custGeom>
            <a:avLst/>
            <a:gdLst/>
            <a:ahLst/>
            <a:rect l="l" t="t" r="r" b="b"/>
            <a:pathLst>
              <a:path w="700" h="1103">
                <a:moveTo>
                  <a:pt x="266" y="1061"/>
                </a:moveTo>
                <a:lnTo>
                  <a:pt x="255" y="1067"/>
                </a:lnTo>
                <a:lnTo>
                  <a:pt x="245" y="1073"/>
                </a:lnTo>
                <a:lnTo>
                  <a:pt x="236" y="1078"/>
                </a:lnTo>
                <a:lnTo>
                  <a:pt x="226" y="1084"/>
                </a:lnTo>
                <a:lnTo>
                  <a:pt x="216" y="1088"/>
                </a:lnTo>
                <a:lnTo>
                  <a:pt x="209" y="1094"/>
                </a:lnTo>
                <a:lnTo>
                  <a:pt x="201" y="1096"/>
                </a:lnTo>
                <a:lnTo>
                  <a:pt x="193" y="1100"/>
                </a:lnTo>
                <a:lnTo>
                  <a:pt x="188" y="1101"/>
                </a:lnTo>
                <a:lnTo>
                  <a:pt x="182" y="1101"/>
                </a:lnTo>
                <a:lnTo>
                  <a:pt x="176" y="1103"/>
                </a:lnTo>
                <a:lnTo>
                  <a:pt x="172" y="1103"/>
                </a:lnTo>
                <a:lnTo>
                  <a:pt x="168" y="1103"/>
                </a:lnTo>
                <a:lnTo>
                  <a:pt x="165" y="1101"/>
                </a:lnTo>
                <a:lnTo>
                  <a:pt x="161" y="1101"/>
                </a:lnTo>
                <a:lnTo>
                  <a:pt x="159" y="1100"/>
                </a:lnTo>
                <a:lnTo>
                  <a:pt x="153" y="1094"/>
                </a:lnTo>
                <a:lnTo>
                  <a:pt x="149" y="1086"/>
                </a:lnTo>
                <a:lnTo>
                  <a:pt x="145" y="1078"/>
                </a:lnTo>
                <a:lnTo>
                  <a:pt x="143" y="1069"/>
                </a:lnTo>
                <a:lnTo>
                  <a:pt x="142" y="1063"/>
                </a:lnTo>
                <a:lnTo>
                  <a:pt x="142" y="1057"/>
                </a:lnTo>
                <a:lnTo>
                  <a:pt x="142" y="1050"/>
                </a:lnTo>
                <a:lnTo>
                  <a:pt x="142" y="1044"/>
                </a:lnTo>
                <a:lnTo>
                  <a:pt x="142" y="1036"/>
                </a:lnTo>
                <a:lnTo>
                  <a:pt x="143" y="1027"/>
                </a:lnTo>
                <a:lnTo>
                  <a:pt x="143" y="1019"/>
                </a:lnTo>
                <a:lnTo>
                  <a:pt x="147" y="1009"/>
                </a:lnTo>
                <a:lnTo>
                  <a:pt x="147" y="1000"/>
                </a:lnTo>
                <a:lnTo>
                  <a:pt x="149" y="990"/>
                </a:lnTo>
                <a:lnTo>
                  <a:pt x="149" y="979"/>
                </a:lnTo>
                <a:lnTo>
                  <a:pt x="149" y="969"/>
                </a:lnTo>
                <a:lnTo>
                  <a:pt x="147" y="957"/>
                </a:lnTo>
                <a:lnTo>
                  <a:pt x="143" y="948"/>
                </a:lnTo>
                <a:lnTo>
                  <a:pt x="142" y="936"/>
                </a:lnTo>
                <a:lnTo>
                  <a:pt x="138" y="925"/>
                </a:lnTo>
                <a:lnTo>
                  <a:pt x="132" y="913"/>
                </a:lnTo>
                <a:lnTo>
                  <a:pt x="126" y="902"/>
                </a:lnTo>
                <a:lnTo>
                  <a:pt x="120" y="890"/>
                </a:lnTo>
                <a:lnTo>
                  <a:pt x="113" y="879"/>
                </a:lnTo>
                <a:lnTo>
                  <a:pt x="105" y="867"/>
                </a:lnTo>
                <a:lnTo>
                  <a:pt x="95" y="854"/>
                </a:lnTo>
                <a:lnTo>
                  <a:pt x="86" y="842"/>
                </a:lnTo>
                <a:lnTo>
                  <a:pt x="74" y="831"/>
                </a:lnTo>
                <a:lnTo>
                  <a:pt x="63" y="815"/>
                </a:lnTo>
                <a:lnTo>
                  <a:pt x="53" y="802"/>
                </a:lnTo>
                <a:lnTo>
                  <a:pt x="46" y="790"/>
                </a:lnTo>
                <a:lnTo>
                  <a:pt x="36" y="777"/>
                </a:lnTo>
                <a:lnTo>
                  <a:pt x="28" y="766"/>
                </a:lnTo>
                <a:lnTo>
                  <a:pt x="23" y="754"/>
                </a:lnTo>
                <a:lnTo>
                  <a:pt x="17" y="744"/>
                </a:lnTo>
                <a:lnTo>
                  <a:pt x="11" y="735"/>
                </a:lnTo>
                <a:lnTo>
                  <a:pt x="7" y="727"/>
                </a:lnTo>
                <a:lnTo>
                  <a:pt x="5" y="719"/>
                </a:lnTo>
                <a:lnTo>
                  <a:pt x="1" y="712"/>
                </a:lnTo>
                <a:lnTo>
                  <a:pt x="0" y="706"/>
                </a:lnTo>
                <a:lnTo>
                  <a:pt x="0" y="700"/>
                </a:lnTo>
                <a:lnTo>
                  <a:pt x="0" y="696"/>
                </a:lnTo>
                <a:lnTo>
                  <a:pt x="1" y="693"/>
                </a:lnTo>
                <a:lnTo>
                  <a:pt x="3" y="689"/>
                </a:lnTo>
                <a:lnTo>
                  <a:pt x="3" y="687"/>
                </a:lnTo>
                <a:lnTo>
                  <a:pt x="3" y="685"/>
                </a:lnTo>
                <a:lnTo>
                  <a:pt x="5" y="685"/>
                </a:lnTo>
                <a:lnTo>
                  <a:pt x="9" y="685"/>
                </a:lnTo>
                <a:lnTo>
                  <a:pt x="13" y="685"/>
                </a:lnTo>
                <a:lnTo>
                  <a:pt x="17" y="685"/>
                </a:lnTo>
                <a:lnTo>
                  <a:pt x="23" y="687"/>
                </a:lnTo>
                <a:lnTo>
                  <a:pt x="28" y="689"/>
                </a:lnTo>
                <a:lnTo>
                  <a:pt x="34" y="693"/>
                </a:lnTo>
                <a:lnTo>
                  <a:pt x="42" y="695"/>
                </a:lnTo>
                <a:lnTo>
                  <a:pt x="49" y="698"/>
                </a:lnTo>
                <a:lnTo>
                  <a:pt x="59" y="704"/>
                </a:lnTo>
                <a:lnTo>
                  <a:pt x="67" y="708"/>
                </a:lnTo>
                <a:lnTo>
                  <a:pt x="76" y="714"/>
                </a:lnTo>
                <a:lnTo>
                  <a:pt x="88" y="721"/>
                </a:lnTo>
                <a:lnTo>
                  <a:pt x="99" y="727"/>
                </a:lnTo>
                <a:lnTo>
                  <a:pt x="109" y="735"/>
                </a:lnTo>
                <a:lnTo>
                  <a:pt x="120" y="741"/>
                </a:lnTo>
                <a:lnTo>
                  <a:pt x="130" y="746"/>
                </a:lnTo>
                <a:lnTo>
                  <a:pt x="142" y="752"/>
                </a:lnTo>
                <a:lnTo>
                  <a:pt x="151" y="756"/>
                </a:lnTo>
                <a:lnTo>
                  <a:pt x="161" y="762"/>
                </a:lnTo>
                <a:lnTo>
                  <a:pt x="170" y="766"/>
                </a:lnTo>
                <a:lnTo>
                  <a:pt x="180" y="767"/>
                </a:lnTo>
                <a:lnTo>
                  <a:pt x="197" y="773"/>
                </a:lnTo>
                <a:lnTo>
                  <a:pt x="213" y="777"/>
                </a:lnTo>
                <a:lnTo>
                  <a:pt x="228" y="779"/>
                </a:lnTo>
                <a:lnTo>
                  <a:pt x="243" y="779"/>
                </a:lnTo>
                <a:lnTo>
                  <a:pt x="249" y="779"/>
                </a:lnTo>
                <a:lnTo>
                  <a:pt x="255" y="777"/>
                </a:lnTo>
                <a:lnTo>
                  <a:pt x="261" y="777"/>
                </a:lnTo>
                <a:lnTo>
                  <a:pt x="268" y="775"/>
                </a:lnTo>
                <a:lnTo>
                  <a:pt x="274" y="771"/>
                </a:lnTo>
                <a:lnTo>
                  <a:pt x="280" y="769"/>
                </a:lnTo>
                <a:lnTo>
                  <a:pt x="286" y="766"/>
                </a:lnTo>
                <a:lnTo>
                  <a:pt x="291" y="762"/>
                </a:lnTo>
                <a:lnTo>
                  <a:pt x="301" y="752"/>
                </a:lnTo>
                <a:lnTo>
                  <a:pt x="312" y="741"/>
                </a:lnTo>
                <a:lnTo>
                  <a:pt x="326" y="729"/>
                </a:lnTo>
                <a:lnTo>
                  <a:pt x="339" y="716"/>
                </a:lnTo>
                <a:lnTo>
                  <a:pt x="345" y="708"/>
                </a:lnTo>
                <a:lnTo>
                  <a:pt x="351" y="698"/>
                </a:lnTo>
                <a:lnTo>
                  <a:pt x="357" y="689"/>
                </a:lnTo>
                <a:lnTo>
                  <a:pt x="364" y="679"/>
                </a:lnTo>
                <a:lnTo>
                  <a:pt x="370" y="668"/>
                </a:lnTo>
                <a:lnTo>
                  <a:pt x="376" y="656"/>
                </a:lnTo>
                <a:lnTo>
                  <a:pt x="381" y="643"/>
                </a:lnTo>
                <a:lnTo>
                  <a:pt x="385" y="631"/>
                </a:lnTo>
                <a:lnTo>
                  <a:pt x="391" y="616"/>
                </a:lnTo>
                <a:lnTo>
                  <a:pt x="397" y="600"/>
                </a:lnTo>
                <a:lnTo>
                  <a:pt x="403" y="585"/>
                </a:lnTo>
                <a:lnTo>
                  <a:pt x="408" y="570"/>
                </a:lnTo>
                <a:lnTo>
                  <a:pt x="414" y="552"/>
                </a:lnTo>
                <a:lnTo>
                  <a:pt x="422" y="535"/>
                </a:lnTo>
                <a:lnTo>
                  <a:pt x="428" y="516"/>
                </a:lnTo>
                <a:lnTo>
                  <a:pt x="433" y="499"/>
                </a:lnTo>
                <a:lnTo>
                  <a:pt x="441" y="480"/>
                </a:lnTo>
                <a:lnTo>
                  <a:pt x="445" y="460"/>
                </a:lnTo>
                <a:lnTo>
                  <a:pt x="451" y="445"/>
                </a:lnTo>
                <a:lnTo>
                  <a:pt x="454" y="428"/>
                </a:lnTo>
                <a:lnTo>
                  <a:pt x="456" y="412"/>
                </a:lnTo>
                <a:lnTo>
                  <a:pt x="458" y="399"/>
                </a:lnTo>
                <a:lnTo>
                  <a:pt x="460" y="384"/>
                </a:lnTo>
                <a:lnTo>
                  <a:pt x="460" y="372"/>
                </a:lnTo>
                <a:lnTo>
                  <a:pt x="460" y="359"/>
                </a:lnTo>
                <a:lnTo>
                  <a:pt x="458" y="347"/>
                </a:lnTo>
                <a:lnTo>
                  <a:pt x="456" y="337"/>
                </a:lnTo>
                <a:lnTo>
                  <a:pt x="454" y="328"/>
                </a:lnTo>
                <a:lnTo>
                  <a:pt x="451" y="318"/>
                </a:lnTo>
                <a:lnTo>
                  <a:pt x="445" y="309"/>
                </a:lnTo>
                <a:lnTo>
                  <a:pt x="441" y="301"/>
                </a:lnTo>
                <a:lnTo>
                  <a:pt x="433" y="293"/>
                </a:lnTo>
                <a:lnTo>
                  <a:pt x="426" y="286"/>
                </a:lnTo>
                <a:lnTo>
                  <a:pt x="418" y="278"/>
                </a:lnTo>
                <a:lnTo>
                  <a:pt x="406" y="268"/>
                </a:lnTo>
                <a:lnTo>
                  <a:pt x="395" y="257"/>
                </a:lnTo>
                <a:lnTo>
                  <a:pt x="381" y="245"/>
                </a:lnTo>
                <a:lnTo>
                  <a:pt x="368" y="234"/>
                </a:lnTo>
                <a:lnTo>
                  <a:pt x="351" y="220"/>
                </a:lnTo>
                <a:lnTo>
                  <a:pt x="333" y="207"/>
                </a:lnTo>
                <a:lnTo>
                  <a:pt x="314" y="194"/>
                </a:lnTo>
                <a:lnTo>
                  <a:pt x="293" y="176"/>
                </a:lnTo>
                <a:lnTo>
                  <a:pt x="270" y="161"/>
                </a:lnTo>
                <a:lnTo>
                  <a:pt x="247" y="144"/>
                </a:lnTo>
                <a:lnTo>
                  <a:pt x="220" y="124"/>
                </a:lnTo>
                <a:lnTo>
                  <a:pt x="193" y="105"/>
                </a:lnTo>
                <a:lnTo>
                  <a:pt x="165" y="84"/>
                </a:lnTo>
                <a:lnTo>
                  <a:pt x="134" y="63"/>
                </a:lnTo>
                <a:lnTo>
                  <a:pt x="145" y="30"/>
                </a:lnTo>
                <a:lnTo>
                  <a:pt x="159" y="0"/>
                </a:lnTo>
                <a:lnTo>
                  <a:pt x="178" y="7"/>
                </a:lnTo>
                <a:lnTo>
                  <a:pt x="199" y="15"/>
                </a:lnTo>
                <a:lnTo>
                  <a:pt x="220" y="23"/>
                </a:lnTo>
                <a:lnTo>
                  <a:pt x="241" y="32"/>
                </a:lnTo>
                <a:lnTo>
                  <a:pt x="286" y="51"/>
                </a:lnTo>
                <a:lnTo>
                  <a:pt x="330" y="73"/>
                </a:lnTo>
                <a:lnTo>
                  <a:pt x="376" y="94"/>
                </a:lnTo>
                <a:lnTo>
                  <a:pt x="422" y="117"/>
                </a:lnTo>
                <a:lnTo>
                  <a:pt x="470" y="142"/>
                </a:lnTo>
                <a:lnTo>
                  <a:pt x="518" y="165"/>
                </a:lnTo>
                <a:lnTo>
                  <a:pt x="541" y="178"/>
                </a:lnTo>
                <a:lnTo>
                  <a:pt x="564" y="190"/>
                </a:lnTo>
                <a:lnTo>
                  <a:pt x="585" y="201"/>
                </a:lnTo>
                <a:lnTo>
                  <a:pt x="602" y="211"/>
                </a:lnTo>
                <a:lnTo>
                  <a:pt x="619" y="222"/>
                </a:lnTo>
                <a:lnTo>
                  <a:pt x="635" y="232"/>
                </a:lnTo>
                <a:lnTo>
                  <a:pt x="650" y="242"/>
                </a:lnTo>
                <a:lnTo>
                  <a:pt x="662" y="253"/>
                </a:lnTo>
                <a:lnTo>
                  <a:pt x="671" y="261"/>
                </a:lnTo>
                <a:lnTo>
                  <a:pt x="681" y="270"/>
                </a:lnTo>
                <a:lnTo>
                  <a:pt x="689" y="280"/>
                </a:lnTo>
                <a:lnTo>
                  <a:pt x="692" y="288"/>
                </a:lnTo>
                <a:lnTo>
                  <a:pt x="696" y="295"/>
                </a:lnTo>
                <a:lnTo>
                  <a:pt x="698" y="303"/>
                </a:lnTo>
                <a:lnTo>
                  <a:pt x="700" y="311"/>
                </a:lnTo>
                <a:lnTo>
                  <a:pt x="698" y="318"/>
                </a:lnTo>
                <a:lnTo>
                  <a:pt x="694" y="326"/>
                </a:lnTo>
                <a:lnTo>
                  <a:pt x="692" y="336"/>
                </a:lnTo>
                <a:lnTo>
                  <a:pt x="689" y="345"/>
                </a:lnTo>
                <a:lnTo>
                  <a:pt x="685" y="355"/>
                </a:lnTo>
                <a:lnTo>
                  <a:pt x="681" y="366"/>
                </a:lnTo>
                <a:lnTo>
                  <a:pt x="675" y="378"/>
                </a:lnTo>
                <a:lnTo>
                  <a:pt x="669" y="391"/>
                </a:lnTo>
                <a:lnTo>
                  <a:pt x="666" y="407"/>
                </a:lnTo>
                <a:lnTo>
                  <a:pt x="660" y="422"/>
                </a:lnTo>
                <a:lnTo>
                  <a:pt x="652" y="439"/>
                </a:lnTo>
                <a:lnTo>
                  <a:pt x="646" y="457"/>
                </a:lnTo>
                <a:lnTo>
                  <a:pt x="641" y="476"/>
                </a:lnTo>
                <a:lnTo>
                  <a:pt x="633" y="495"/>
                </a:lnTo>
                <a:lnTo>
                  <a:pt x="627" y="516"/>
                </a:lnTo>
                <a:lnTo>
                  <a:pt x="619" y="539"/>
                </a:lnTo>
                <a:lnTo>
                  <a:pt x="614" y="562"/>
                </a:lnTo>
                <a:lnTo>
                  <a:pt x="604" y="585"/>
                </a:lnTo>
                <a:lnTo>
                  <a:pt x="596" y="608"/>
                </a:lnTo>
                <a:lnTo>
                  <a:pt x="587" y="631"/>
                </a:lnTo>
                <a:lnTo>
                  <a:pt x="577" y="652"/>
                </a:lnTo>
                <a:lnTo>
                  <a:pt x="570" y="673"/>
                </a:lnTo>
                <a:lnTo>
                  <a:pt x="560" y="695"/>
                </a:lnTo>
                <a:lnTo>
                  <a:pt x="550" y="716"/>
                </a:lnTo>
                <a:lnTo>
                  <a:pt x="541" y="735"/>
                </a:lnTo>
                <a:lnTo>
                  <a:pt x="522" y="775"/>
                </a:lnTo>
                <a:lnTo>
                  <a:pt x="500" y="812"/>
                </a:lnTo>
                <a:lnTo>
                  <a:pt x="479" y="846"/>
                </a:lnTo>
                <a:lnTo>
                  <a:pt x="458" y="881"/>
                </a:lnTo>
                <a:lnTo>
                  <a:pt x="435" y="910"/>
                </a:lnTo>
                <a:lnTo>
                  <a:pt x="412" y="936"/>
                </a:lnTo>
                <a:lnTo>
                  <a:pt x="387" y="961"/>
                </a:lnTo>
                <a:lnTo>
                  <a:pt x="362" y="984"/>
                </a:lnTo>
                <a:lnTo>
                  <a:pt x="337" y="1007"/>
                </a:lnTo>
                <a:lnTo>
                  <a:pt x="326" y="1017"/>
                </a:lnTo>
                <a:lnTo>
                  <a:pt x="312" y="1027"/>
                </a:lnTo>
                <a:lnTo>
                  <a:pt x="301" y="1036"/>
                </a:lnTo>
                <a:lnTo>
                  <a:pt x="289" y="1044"/>
                </a:lnTo>
                <a:lnTo>
                  <a:pt x="278" y="1053"/>
                </a:lnTo>
                <a:lnTo>
                  <a:pt x="266" y="10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50"/>
          <p:cNvSpPr/>
          <p:nvPr/>
        </p:nvSpPr>
        <p:spPr>
          <a:xfrm>
            <a:off x="6137280" y="4113360"/>
            <a:ext cx="801720" cy="803160"/>
          </a:xfrm>
          <a:custGeom>
            <a:avLst/>
            <a:gdLst/>
            <a:ahLst/>
            <a:rect l="l" t="t" r="r" b="b"/>
            <a:pathLst>
              <a:path w="1009" h="1012">
                <a:moveTo>
                  <a:pt x="817" y="25"/>
                </a:moveTo>
                <a:lnTo>
                  <a:pt x="911" y="12"/>
                </a:lnTo>
                <a:lnTo>
                  <a:pt x="1009" y="0"/>
                </a:lnTo>
                <a:lnTo>
                  <a:pt x="994" y="33"/>
                </a:lnTo>
                <a:lnTo>
                  <a:pt x="980" y="68"/>
                </a:lnTo>
                <a:lnTo>
                  <a:pt x="965" y="100"/>
                </a:lnTo>
                <a:lnTo>
                  <a:pt x="950" y="133"/>
                </a:lnTo>
                <a:lnTo>
                  <a:pt x="934" y="167"/>
                </a:lnTo>
                <a:lnTo>
                  <a:pt x="917" y="200"/>
                </a:lnTo>
                <a:lnTo>
                  <a:pt x="898" y="233"/>
                </a:lnTo>
                <a:lnTo>
                  <a:pt x="881" y="265"/>
                </a:lnTo>
                <a:lnTo>
                  <a:pt x="861" y="298"/>
                </a:lnTo>
                <a:lnTo>
                  <a:pt x="842" y="330"/>
                </a:lnTo>
                <a:lnTo>
                  <a:pt x="821" y="363"/>
                </a:lnTo>
                <a:lnTo>
                  <a:pt x="800" y="396"/>
                </a:lnTo>
                <a:lnTo>
                  <a:pt x="779" y="428"/>
                </a:lnTo>
                <a:lnTo>
                  <a:pt x="756" y="461"/>
                </a:lnTo>
                <a:lnTo>
                  <a:pt x="733" y="492"/>
                </a:lnTo>
                <a:lnTo>
                  <a:pt x="708" y="524"/>
                </a:lnTo>
                <a:lnTo>
                  <a:pt x="683" y="555"/>
                </a:lnTo>
                <a:lnTo>
                  <a:pt x="658" y="584"/>
                </a:lnTo>
                <a:lnTo>
                  <a:pt x="633" y="613"/>
                </a:lnTo>
                <a:lnTo>
                  <a:pt x="606" y="641"/>
                </a:lnTo>
                <a:lnTo>
                  <a:pt x="579" y="668"/>
                </a:lnTo>
                <a:lnTo>
                  <a:pt x="551" y="695"/>
                </a:lnTo>
                <a:lnTo>
                  <a:pt x="524" y="720"/>
                </a:lnTo>
                <a:lnTo>
                  <a:pt x="495" y="743"/>
                </a:lnTo>
                <a:lnTo>
                  <a:pt x="466" y="768"/>
                </a:lnTo>
                <a:lnTo>
                  <a:pt x="435" y="789"/>
                </a:lnTo>
                <a:lnTo>
                  <a:pt x="407" y="812"/>
                </a:lnTo>
                <a:lnTo>
                  <a:pt x="376" y="831"/>
                </a:lnTo>
                <a:lnTo>
                  <a:pt x="345" y="853"/>
                </a:lnTo>
                <a:lnTo>
                  <a:pt x="314" y="872"/>
                </a:lnTo>
                <a:lnTo>
                  <a:pt x="284" y="889"/>
                </a:lnTo>
                <a:lnTo>
                  <a:pt x="253" y="906"/>
                </a:lnTo>
                <a:lnTo>
                  <a:pt x="238" y="914"/>
                </a:lnTo>
                <a:lnTo>
                  <a:pt x="222" y="922"/>
                </a:lnTo>
                <a:lnTo>
                  <a:pt x="209" y="927"/>
                </a:lnTo>
                <a:lnTo>
                  <a:pt x="193" y="935"/>
                </a:lnTo>
                <a:lnTo>
                  <a:pt x="180" y="941"/>
                </a:lnTo>
                <a:lnTo>
                  <a:pt x="169" y="947"/>
                </a:lnTo>
                <a:lnTo>
                  <a:pt x="155" y="952"/>
                </a:lnTo>
                <a:lnTo>
                  <a:pt x="144" y="958"/>
                </a:lnTo>
                <a:lnTo>
                  <a:pt x="132" y="962"/>
                </a:lnTo>
                <a:lnTo>
                  <a:pt x="121" y="968"/>
                </a:lnTo>
                <a:lnTo>
                  <a:pt x="109" y="972"/>
                </a:lnTo>
                <a:lnTo>
                  <a:pt x="99" y="977"/>
                </a:lnTo>
                <a:lnTo>
                  <a:pt x="90" y="981"/>
                </a:lnTo>
                <a:lnTo>
                  <a:pt x="80" y="985"/>
                </a:lnTo>
                <a:lnTo>
                  <a:pt x="73" y="989"/>
                </a:lnTo>
                <a:lnTo>
                  <a:pt x="65" y="993"/>
                </a:lnTo>
                <a:lnTo>
                  <a:pt x="57" y="995"/>
                </a:lnTo>
                <a:lnTo>
                  <a:pt x="50" y="998"/>
                </a:lnTo>
                <a:lnTo>
                  <a:pt x="44" y="1000"/>
                </a:lnTo>
                <a:lnTo>
                  <a:pt x="36" y="1002"/>
                </a:lnTo>
                <a:lnTo>
                  <a:pt x="30" y="1004"/>
                </a:lnTo>
                <a:lnTo>
                  <a:pt x="26" y="1006"/>
                </a:lnTo>
                <a:lnTo>
                  <a:pt x="21" y="1008"/>
                </a:lnTo>
                <a:lnTo>
                  <a:pt x="17" y="1010"/>
                </a:lnTo>
                <a:lnTo>
                  <a:pt x="13" y="1010"/>
                </a:lnTo>
                <a:lnTo>
                  <a:pt x="9" y="1012"/>
                </a:lnTo>
                <a:lnTo>
                  <a:pt x="7" y="1012"/>
                </a:lnTo>
                <a:lnTo>
                  <a:pt x="5" y="1012"/>
                </a:lnTo>
                <a:lnTo>
                  <a:pt x="3" y="1012"/>
                </a:lnTo>
                <a:lnTo>
                  <a:pt x="2" y="1010"/>
                </a:lnTo>
                <a:lnTo>
                  <a:pt x="0" y="1006"/>
                </a:lnTo>
                <a:lnTo>
                  <a:pt x="0" y="1002"/>
                </a:lnTo>
                <a:lnTo>
                  <a:pt x="2" y="998"/>
                </a:lnTo>
                <a:lnTo>
                  <a:pt x="5" y="993"/>
                </a:lnTo>
                <a:lnTo>
                  <a:pt x="11" y="987"/>
                </a:lnTo>
                <a:lnTo>
                  <a:pt x="17" y="979"/>
                </a:lnTo>
                <a:lnTo>
                  <a:pt x="25" y="974"/>
                </a:lnTo>
                <a:lnTo>
                  <a:pt x="34" y="964"/>
                </a:lnTo>
                <a:lnTo>
                  <a:pt x="46" y="956"/>
                </a:lnTo>
                <a:lnTo>
                  <a:pt x="57" y="947"/>
                </a:lnTo>
                <a:lnTo>
                  <a:pt x="71" y="937"/>
                </a:lnTo>
                <a:lnTo>
                  <a:pt x="86" y="927"/>
                </a:lnTo>
                <a:lnTo>
                  <a:pt x="101" y="916"/>
                </a:lnTo>
                <a:lnTo>
                  <a:pt x="119" y="904"/>
                </a:lnTo>
                <a:lnTo>
                  <a:pt x="138" y="893"/>
                </a:lnTo>
                <a:lnTo>
                  <a:pt x="157" y="881"/>
                </a:lnTo>
                <a:lnTo>
                  <a:pt x="178" y="868"/>
                </a:lnTo>
                <a:lnTo>
                  <a:pt x="197" y="854"/>
                </a:lnTo>
                <a:lnTo>
                  <a:pt x="218" y="841"/>
                </a:lnTo>
                <a:lnTo>
                  <a:pt x="238" y="826"/>
                </a:lnTo>
                <a:lnTo>
                  <a:pt x="259" y="810"/>
                </a:lnTo>
                <a:lnTo>
                  <a:pt x="280" y="793"/>
                </a:lnTo>
                <a:lnTo>
                  <a:pt x="299" y="776"/>
                </a:lnTo>
                <a:lnTo>
                  <a:pt x="320" y="757"/>
                </a:lnTo>
                <a:lnTo>
                  <a:pt x="341" y="737"/>
                </a:lnTo>
                <a:lnTo>
                  <a:pt x="362" y="716"/>
                </a:lnTo>
                <a:lnTo>
                  <a:pt x="384" y="695"/>
                </a:lnTo>
                <a:lnTo>
                  <a:pt x="405" y="672"/>
                </a:lnTo>
                <a:lnTo>
                  <a:pt x="428" y="649"/>
                </a:lnTo>
                <a:lnTo>
                  <a:pt x="449" y="626"/>
                </a:lnTo>
                <a:lnTo>
                  <a:pt x="470" y="601"/>
                </a:lnTo>
                <a:lnTo>
                  <a:pt x="493" y="574"/>
                </a:lnTo>
                <a:lnTo>
                  <a:pt x="514" y="547"/>
                </a:lnTo>
                <a:lnTo>
                  <a:pt x="537" y="519"/>
                </a:lnTo>
                <a:lnTo>
                  <a:pt x="558" y="492"/>
                </a:lnTo>
                <a:lnTo>
                  <a:pt x="579" y="461"/>
                </a:lnTo>
                <a:lnTo>
                  <a:pt x="600" y="430"/>
                </a:lnTo>
                <a:lnTo>
                  <a:pt x="622" y="400"/>
                </a:lnTo>
                <a:lnTo>
                  <a:pt x="643" y="367"/>
                </a:lnTo>
                <a:lnTo>
                  <a:pt x="664" y="332"/>
                </a:lnTo>
                <a:lnTo>
                  <a:pt x="683" y="298"/>
                </a:lnTo>
                <a:lnTo>
                  <a:pt x="704" y="263"/>
                </a:lnTo>
                <a:lnTo>
                  <a:pt x="723" y="227"/>
                </a:lnTo>
                <a:lnTo>
                  <a:pt x="742" y="188"/>
                </a:lnTo>
                <a:lnTo>
                  <a:pt x="762" y="150"/>
                </a:lnTo>
                <a:lnTo>
                  <a:pt x="781" y="110"/>
                </a:lnTo>
                <a:lnTo>
                  <a:pt x="798" y="68"/>
                </a:lnTo>
                <a:lnTo>
                  <a:pt x="817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51"/>
          <p:cNvSpPr/>
          <p:nvPr/>
        </p:nvSpPr>
        <p:spPr>
          <a:xfrm>
            <a:off x="6357960" y="3981600"/>
            <a:ext cx="1117440" cy="242640"/>
          </a:xfrm>
          <a:custGeom>
            <a:avLst/>
            <a:gdLst/>
            <a:ahLst/>
            <a:rect l="l" t="t" r="r" b="b"/>
            <a:pathLst>
              <a:path w="1407" h="307">
                <a:moveTo>
                  <a:pt x="1401" y="116"/>
                </a:moveTo>
                <a:lnTo>
                  <a:pt x="1401" y="117"/>
                </a:lnTo>
                <a:lnTo>
                  <a:pt x="1401" y="119"/>
                </a:lnTo>
                <a:lnTo>
                  <a:pt x="1399" y="123"/>
                </a:lnTo>
                <a:lnTo>
                  <a:pt x="1397" y="125"/>
                </a:lnTo>
                <a:lnTo>
                  <a:pt x="1395" y="127"/>
                </a:lnTo>
                <a:lnTo>
                  <a:pt x="1392" y="129"/>
                </a:lnTo>
                <a:lnTo>
                  <a:pt x="1388" y="133"/>
                </a:lnTo>
                <a:lnTo>
                  <a:pt x="1384" y="135"/>
                </a:lnTo>
                <a:lnTo>
                  <a:pt x="1378" y="137"/>
                </a:lnTo>
                <a:lnTo>
                  <a:pt x="1374" y="139"/>
                </a:lnTo>
                <a:lnTo>
                  <a:pt x="1369" y="142"/>
                </a:lnTo>
                <a:lnTo>
                  <a:pt x="1361" y="144"/>
                </a:lnTo>
                <a:lnTo>
                  <a:pt x="1355" y="146"/>
                </a:lnTo>
                <a:lnTo>
                  <a:pt x="1347" y="148"/>
                </a:lnTo>
                <a:lnTo>
                  <a:pt x="1338" y="152"/>
                </a:lnTo>
                <a:lnTo>
                  <a:pt x="1330" y="154"/>
                </a:lnTo>
                <a:lnTo>
                  <a:pt x="1307" y="158"/>
                </a:lnTo>
                <a:lnTo>
                  <a:pt x="1282" y="162"/>
                </a:lnTo>
                <a:lnTo>
                  <a:pt x="1269" y="162"/>
                </a:lnTo>
                <a:lnTo>
                  <a:pt x="1255" y="163"/>
                </a:lnTo>
                <a:lnTo>
                  <a:pt x="1242" y="163"/>
                </a:lnTo>
                <a:lnTo>
                  <a:pt x="1228" y="165"/>
                </a:lnTo>
                <a:lnTo>
                  <a:pt x="1213" y="165"/>
                </a:lnTo>
                <a:lnTo>
                  <a:pt x="1198" y="165"/>
                </a:lnTo>
                <a:lnTo>
                  <a:pt x="1180" y="165"/>
                </a:lnTo>
                <a:lnTo>
                  <a:pt x="1165" y="165"/>
                </a:lnTo>
                <a:lnTo>
                  <a:pt x="1148" y="165"/>
                </a:lnTo>
                <a:lnTo>
                  <a:pt x="1129" y="167"/>
                </a:lnTo>
                <a:lnTo>
                  <a:pt x="1109" y="167"/>
                </a:lnTo>
                <a:lnTo>
                  <a:pt x="1090" y="167"/>
                </a:lnTo>
                <a:lnTo>
                  <a:pt x="1069" y="167"/>
                </a:lnTo>
                <a:lnTo>
                  <a:pt x="1046" y="167"/>
                </a:lnTo>
                <a:lnTo>
                  <a:pt x="1021" y="169"/>
                </a:lnTo>
                <a:lnTo>
                  <a:pt x="996" y="171"/>
                </a:lnTo>
                <a:lnTo>
                  <a:pt x="967" y="173"/>
                </a:lnTo>
                <a:lnTo>
                  <a:pt x="939" y="177"/>
                </a:lnTo>
                <a:lnTo>
                  <a:pt x="908" y="179"/>
                </a:lnTo>
                <a:lnTo>
                  <a:pt x="877" y="183"/>
                </a:lnTo>
                <a:lnTo>
                  <a:pt x="845" y="188"/>
                </a:lnTo>
                <a:lnTo>
                  <a:pt x="808" y="192"/>
                </a:lnTo>
                <a:lnTo>
                  <a:pt x="773" y="198"/>
                </a:lnTo>
                <a:lnTo>
                  <a:pt x="735" y="204"/>
                </a:lnTo>
                <a:lnTo>
                  <a:pt x="697" y="210"/>
                </a:lnTo>
                <a:lnTo>
                  <a:pt x="658" y="215"/>
                </a:lnTo>
                <a:lnTo>
                  <a:pt x="616" y="223"/>
                </a:lnTo>
                <a:lnTo>
                  <a:pt x="574" y="231"/>
                </a:lnTo>
                <a:lnTo>
                  <a:pt x="553" y="235"/>
                </a:lnTo>
                <a:lnTo>
                  <a:pt x="534" y="240"/>
                </a:lnTo>
                <a:lnTo>
                  <a:pt x="512" y="244"/>
                </a:lnTo>
                <a:lnTo>
                  <a:pt x="493" y="248"/>
                </a:lnTo>
                <a:lnTo>
                  <a:pt x="474" y="252"/>
                </a:lnTo>
                <a:lnTo>
                  <a:pt x="455" y="256"/>
                </a:lnTo>
                <a:lnTo>
                  <a:pt x="438" y="259"/>
                </a:lnTo>
                <a:lnTo>
                  <a:pt x="420" y="263"/>
                </a:lnTo>
                <a:lnTo>
                  <a:pt x="403" y="267"/>
                </a:lnTo>
                <a:lnTo>
                  <a:pt x="386" y="271"/>
                </a:lnTo>
                <a:lnTo>
                  <a:pt x="368" y="275"/>
                </a:lnTo>
                <a:lnTo>
                  <a:pt x="353" y="277"/>
                </a:lnTo>
                <a:lnTo>
                  <a:pt x="338" y="281"/>
                </a:lnTo>
                <a:lnTo>
                  <a:pt x="324" y="282"/>
                </a:lnTo>
                <a:lnTo>
                  <a:pt x="309" y="286"/>
                </a:lnTo>
                <a:lnTo>
                  <a:pt x="296" y="288"/>
                </a:lnTo>
                <a:lnTo>
                  <a:pt x="282" y="290"/>
                </a:lnTo>
                <a:lnTo>
                  <a:pt x="269" y="292"/>
                </a:lnTo>
                <a:lnTo>
                  <a:pt x="257" y="294"/>
                </a:lnTo>
                <a:lnTo>
                  <a:pt x="246" y="296"/>
                </a:lnTo>
                <a:lnTo>
                  <a:pt x="234" y="298"/>
                </a:lnTo>
                <a:lnTo>
                  <a:pt x="223" y="300"/>
                </a:lnTo>
                <a:lnTo>
                  <a:pt x="213" y="302"/>
                </a:lnTo>
                <a:lnTo>
                  <a:pt x="203" y="302"/>
                </a:lnTo>
                <a:lnTo>
                  <a:pt x="194" y="304"/>
                </a:lnTo>
                <a:lnTo>
                  <a:pt x="184" y="304"/>
                </a:lnTo>
                <a:lnTo>
                  <a:pt x="177" y="306"/>
                </a:lnTo>
                <a:lnTo>
                  <a:pt x="169" y="306"/>
                </a:lnTo>
                <a:lnTo>
                  <a:pt x="161" y="306"/>
                </a:lnTo>
                <a:lnTo>
                  <a:pt x="155" y="307"/>
                </a:lnTo>
                <a:lnTo>
                  <a:pt x="148" y="307"/>
                </a:lnTo>
                <a:lnTo>
                  <a:pt x="142" y="307"/>
                </a:lnTo>
                <a:lnTo>
                  <a:pt x="132" y="307"/>
                </a:lnTo>
                <a:lnTo>
                  <a:pt x="121" y="306"/>
                </a:lnTo>
                <a:lnTo>
                  <a:pt x="109" y="304"/>
                </a:lnTo>
                <a:lnTo>
                  <a:pt x="100" y="302"/>
                </a:lnTo>
                <a:lnTo>
                  <a:pt x="90" y="300"/>
                </a:lnTo>
                <a:lnTo>
                  <a:pt x="81" y="296"/>
                </a:lnTo>
                <a:lnTo>
                  <a:pt x="71" y="292"/>
                </a:lnTo>
                <a:lnTo>
                  <a:pt x="61" y="288"/>
                </a:lnTo>
                <a:lnTo>
                  <a:pt x="54" y="282"/>
                </a:lnTo>
                <a:lnTo>
                  <a:pt x="44" y="277"/>
                </a:lnTo>
                <a:lnTo>
                  <a:pt x="36" y="271"/>
                </a:lnTo>
                <a:lnTo>
                  <a:pt x="29" y="263"/>
                </a:lnTo>
                <a:lnTo>
                  <a:pt x="21" y="256"/>
                </a:lnTo>
                <a:lnTo>
                  <a:pt x="13" y="248"/>
                </a:lnTo>
                <a:lnTo>
                  <a:pt x="6" y="240"/>
                </a:lnTo>
                <a:lnTo>
                  <a:pt x="0" y="231"/>
                </a:lnTo>
                <a:lnTo>
                  <a:pt x="31" y="225"/>
                </a:lnTo>
                <a:lnTo>
                  <a:pt x="63" y="217"/>
                </a:lnTo>
                <a:lnTo>
                  <a:pt x="94" y="211"/>
                </a:lnTo>
                <a:lnTo>
                  <a:pt x="125" y="206"/>
                </a:lnTo>
                <a:lnTo>
                  <a:pt x="155" y="200"/>
                </a:lnTo>
                <a:lnTo>
                  <a:pt x="186" y="194"/>
                </a:lnTo>
                <a:lnTo>
                  <a:pt x="215" y="190"/>
                </a:lnTo>
                <a:lnTo>
                  <a:pt x="244" y="185"/>
                </a:lnTo>
                <a:lnTo>
                  <a:pt x="273" y="179"/>
                </a:lnTo>
                <a:lnTo>
                  <a:pt x="299" y="173"/>
                </a:lnTo>
                <a:lnTo>
                  <a:pt x="328" y="167"/>
                </a:lnTo>
                <a:lnTo>
                  <a:pt x="355" y="163"/>
                </a:lnTo>
                <a:lnTo>
                  <a:pt x="382" y="158"/>
                </a:lnTo>
                <a:lnTo>
                  <a:pt x="407" y="152"/>
                </a:lnTo>
                <a:lnTo>
                  <a:pt x="432" y="148"/>
                </a:lnTo>
                <a:lnTo>
                  <a:pt x="457" y="142"/>
                </a:lnTo>
                <a:lnTo>
                  <a:pt x="482" y="137"/>
                </a:lnTo>
                <a:lnTo>
                  <a:pt x="507" y="133"/>
                </a:lnTo>
                <a:lnTo>
                  <a:pt x="530" y="127"/>
                </a:lnTo>
                <a:lnTo>
                  <a:pt x="553" y="123"/>
                </a:lnTo>
                <a:lnTo>
                  <a:pt x="576" y="117"/>
                </a:lnTo>
                <a:lnTo>
                  <a:pt x="597" y="112"/>
                </a:lnTo>
                <a:lnTo>
                  <a:pt x="618" y="108"/>
                </a:lnTo>
                <a:lnTo>
                  <a:pt x="639" y="102"/>
                </a:lnTo>
                <a:lnTo>
                  <a:pt x="660" y="98"/>
                </a:lnTo>
                <a:lnTo>
                  <a:pt x="679" y="92"/>
                </a:lnTo>
                <a:lnTo>
                  <a:pt x="699" y="89"/>
                </a:lnTo>
                <a:lnTo>
                  <a:pt x="718" y="83"/>
                </a:lnTo>
                <a:lnTo>
                  <a:pt x="737" y="79"/>
                </a:lnTo>
                <a:lnTo>
                  <a:pt x="754" y="73"/>
                </a:lnTo>
                <a:lnTo>
                  <a:pt x="773" y="69"/>
                </a:lnTo>
                <a:lnTo>
                  <a:pt x="791" y="64"/>
                </a:lnTo>
                <a:lnTo>
                  <a:pt x="823" y="58"/>
                </a:lnTo>
                <a:lnTo>
                  <a:pt x="856" y="50"/>
                </a:lnTo>
                <a:lnTo>
                  <a:pt x="887" y="44"/>
                </a:lnTo>
                <a:lnTo>
                  <a:pt x="916" y="37"/>
                </a:lnTo>
                <a:lnTo>
                  <a:pt x="944" y="31"/>
                </a:lnTo>
                <a:lnTo>
                  <a:pt x="973" y="27"/>
                </a:lnTo>
                <a:lnTo>
                  <a:pt x="1000" y="21"/>
                </a:lnTo>
                <a:lnTo>
                  <a:pt x="1025" y="18"/>
                </a:lnTo>
                <a:lnTo>
                  <a:pt x="1050" y="14"/>
                </a:lnTo>
                <a:lnTo>
                  <a:pt x="1075" y="10"/>
                </a:lnTo>
                <a:lnTo>
                  <a:pt x="1096" y="6"/>
                </a:lnTo>
                <a:lnTo>
                  <a:pt x="1119" y="4"/>
                </a:lnTo>
                <a:lnTo>
                  <a:pt x="1140" y="2"/>
                </a:lnTo>
                <a:lnTo>
                  <a:pt x="1159" y="0"/>
                </a:lnTo>
                <a:lnTo>
                  <a:pt x="1179" y="0"/>
                </a:lnTo>
                <a:lnTo>
                  <a:pt x="1198" y="0"/>
                </a:lnTo>
                <a:lnTo>
                  <a:pt x="1215" y="0"/>
                </a:lnTo>
                <a:lnTo>
                  <a:pt x="1232" y="0"/>
                </a:lnTo>
                <a:lnTo>
                  <a:pt x="1248" y="0"/>
                </a:lnTo>
                <a:lnTo>
                  <a:pt x="1263" y="2"/>
                </a:lnTo>
                <a:lnTo>
                  <a:pt x="1276" y="4"/>
                </a:lnTo>
                <a:lnTo>
                  <a:pt x="1290" y="6"/>
                </a:lnTo>
                <a:lnTo>
                  <a:pt x="1303" y="8"/>
                </a:lnTo>
                <a:lnTo>
                  <a:pt x="1315" y="10"/>
                </a:lnTo>
                <a:lnTo>
                  <a:pt x="1326" y="12"/>
                </a:lnTo>
                <a:lnTo>
                  <a:pt x="1336" y="16"/>
                </a:lnTo>
                <a:lnTo>
                  <a:pt x="1345" y="18"/>
                </a:lnTo>
                <a:lnTo>
                  <a:pt x="1353" y="21"/>
                </a:lnTo>
                <a:lnTo>
                  <a:pt x="1361" y="25"/>
                </a:lnTo>
                <a:lnTo>
                  <a:pt x="1367" y="29"/>
                </a:lnTo>
                <a:lnTo>
                  <a:pt x="1372" y="33"/>
                </a:lnTo>
                <a:lnTo>
                  <a:pt x="1378" y="39"/>
                </a:lnTo>
                <a:lnTo>
                  <a:pt x="1386" y="48"/>
                </a:lnTo>
                <a:lnTo>
                  <a:pt x="1393" y="58"/>
                </a:lnTo>
                <a:lnTo>
                  <a:pt x="1399" y="68"/>
                </a:lnTo>
                <a:lnTo>
                  <a:pt x="1403" y="77"/>
                </a:lnTo>
                <a:lnTo>
                  <a:pt x="1405" y="87"/>
                </a:lnTo>
                <a:lnTo>
                  <a:pt x="1405" y="91"/>
                </a:lnTo>
                <a:lnTo>
                  <a:pt x="1407" y="96"/>
                </a:lnTo>
                <a:lnTo>
                  <a:pt x="1405" y="100"/>
                </a:lnTo>
                <a:lnTo>
                  <a:pt x="1405" y="106"/>
                </a:lnTo>
                <a:lnTo>
                  <a:pt x="1403" y="110"/>
                </a:lnTo>
                <a:lnTo>
                  <a:pt x="1401" y="11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52"/>
          <p:cNvSpPr/>
          <p:nvPr/>
        </p:nvSpPr>
        <p:spPr>
          <a:xfrm>
            <a:off x="6767640" y="3817800"/>
            <a:ext cx="249120" cy="193680"/>
          </a:xfrm>
          <a:custGeom>
            <a:avLst/>
            <a:gdLst/>
            <a:ahLst/>
            <a:rect l="l" t="t" r="r" b="b"/>
            <a:pathLst>
              <a:path w="315" h="244">
                <a:moveTo>
                  <a:pt x="265" y="77"/>
                </a:moveTo>
                <a:lnTo>
                  <a:pt x="277" y="92"/>
                </a:lnTo>
                <a:lnTo>
                  <a:pt x="288" y="106"/>
                </a:lnTo>
                <a:lnTo>
                  <a:pt x="294" y="113"/>
                </a:lnTo>
                <a:lnTo>
                  <a:pt x="298" y="121"/>
                </a:lnTo>
                <a:lnTo>
                  <a:pt x="302" y="129"/>
                </a:lnTo>
                <a:lnTo>
                  <a:pt x="306" y="134"/>
                </a:lnTo>
                <a:lnTo>
                  <a:pt x="309" y="142"/>
                </a:lnTo>
                <a:lnTo>
                  <a:pt x="311" y="150"/>
                </a:lnTo>
                <a:lnTo>
                  <a:pt x="313" y="157"/>
                </a:lnTo>
                <a:lnTo>
                  <a:pt x="315" y="163"/>
                </a:lnTo>
                <a:lnTo>
                  <a:pt x="315" y="171"/>
                </a:lnTo>
                <a:lnTo>
                  <a:pt x="315" y="178"/>
                </a:lnTo>
                <a:lnTo>
                  <a:pt x="313" y="186"/>
                </a:lnTo>
                <a:lnTo>
                  <a:pt x="311" y="192"/>
                </a:lnTo>
                <a:lnTo>
                  <a:pt x="309" y="200"/>
                </a:lnTo>
                <a:lnTo>
                  <a:pt x="307" y="205"/>
                </a:lnTo>
                <a:lnTo>
                  <a:pt x="304" y="211"/>
                </a:lnTo>
                <a:lnTo>
                  <a:pt x="302" y="217"/>
                </a:lnTo>
                <a:lnTo>
                  <a:pt x="298" y="221"/>
                </a:lnTo>
                <a:lnTo>
                  <a:pt x="294" y="225"/>
                </a:lnTo>
                <a:lnTo>
                  <a:pt x="292" y="228"/>
                </a:lnTo>
                <a:lnTo>
                  <a:pt x="288" y="232"/>
                </a:lnTo>
                <a:lnTo>
                  <a:pt x="281" y="238"/>
                </a:lnTo>
                <a:lnTo>
                  <a:pt x="275" y="240"/>
                </a:lnTo>
                <a:lnTo>
                  <a:pt x="269" y="242"/>
                </a:lnTo>
                <a:lnTo>
                  <a:pt x="265" y="244"/>
                </a:lnTo>
                <a:lnTo>
                  <a:pt x="259" y="242"/>
                </a:lnTo>
                <a:lnTo>
                  <a:pt x="252" y="240"/>
                </a:lnTo>
                <a:lnTo>
                  <a:pt x="244" y="236"/>
                </a:lnTo>
                <a:lnTo>
                  <a:pt x="235" y="232"/>
                </a:lnTo>
                <a:lnTo>
                  <a:pt x="223" y="225"/>
                </a:lnTo>
                <a:lnTo>
                  <a:pt x="212" y="217"/>
                </a:lnTo>
                <a:lnTo>
                  <a:pt x="196" y="205"/>
                </a:lnTo>
                <a:lnTo>
                  <a:pt x="181" y="194"/>
                </a:lnTo>
                <a:lnTo>
                  <a:pt x="164" y="180"/>
                </a:lnTo>
                <a:lnTo>
                  <a:pt x="146" y="165"/>
                </a:lnTo>
                <a:lnTo>
                  <a:pt x="125" y="150"/>
                </a:lnTo>
                <a:lnTo>
                  <a:pt x="104" y="130"/>
                </a:lnTo>
                <a:lnTo>
                  <a:pt x="81" y="111"/>
                </a:lnTo>
                <a:lnTo>
                  <a:pt x="56" y="88"/>
                </a:lnTo>
                <a:lnTo>
                  <a:pt x="29" y="65"/>
                </a:lnTo>
                <a:lnTo>
                  <a:pt x="0" y="38"/>
                </a:lnTo>
                <a:lnTo>
                  <a:pt x="23" y="31"/>
                </a:lnTo>
                <a:lnTo>
                  <a:pt x="45" y="21"/>
                </a:lnTo>
                <a:lnTo>
                  <a:pt x="66" y="15"/>
                </a:lnTo>
                <a:lnTo>
                  <a:pt x="87" y="10"/>
                </a:lnTo>
                <a:lnTo>
                  <a:pt x="106" y="6"/>
                </a:lnTo>
                <a:lnTo>
                  <a:pt x="125" y="2"/>
                </a:lnTo>
                <a:lnTo>
                  <a:pt x="133" y="2"/>
                </a:lnTo>
                <a:lnTo>
                  <a:pt x="142" y="2"/>
                </a:lnTo>
                <a:lnTo>
                  <a:pt x="150" y="0"/>
                </a:lnTo>
                <a:lnTo>
                  <a:pt x="156" y="0"/>
                </a:lnTo>
                <a:lnTo>
                  <a:pt x="169" y="6"/>
                </a:lnTo>
                <a:lnTo>
                  <a:pt x="183" y="13"/>
                </a:lnTo>
                <a:lnTo>
                  <a:pt x="196" y="21"/>
                </a:lnTo>
                <a:lnTo>
                  <a:pt x="210" y="29"/>
                </a:lnTo>
                <a:lnTo>
                  <a:pt x="223" y="38"/>
                </a:lnTo>
                <a:lnTo>
                  <a:pt x="236" y="50"/>
                </a:lnTo>
                <a:lnTo>
                  <a:pt x="250" y="63"/>
                </a:lnTo>
                <a:lnTo>
                  <a:pt x="265" y="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53"/>
          <p:cNvSpPr/>
          <p:nvPr/>
        </p:nvSpPr>
        <p:spPr>
          <a:xfrm>
            <a:off x="6300720" y="3676680"/>
            <a:ext cx="177840" cy="406440"/>
          </a:xfrm>
          <a:custGeom>
            <a:avLst/>
            <a:gdLst/>
            <a:ahLst/>
            <a:rect l="l" t="t" r="r" b="b"/>
            <a:pathLst>
              <a:path w="225" h="513">
                <a:moveTo>
                  <a:pt x="36" y="269"/>
                </a:moveTo>
                <a:lnTo>
                  <a:pt x="42" y="261"/>
                </a:lnTo>
                <a:lnTo>
                  <a:pt x="50" y="252"/>
                </a:lnTo>
                <a:lnTo>
                  <a:pt x="56" y="242"/>
                </a:lnTo>
                <a:lnTo>
                  <a:pt x="63" y="231"/>
                </a:lnTo>
                <a:lnTo>
                  <a:pt x="69" y="217"/>
                </a:lnTo>
                <a:lnTo>
                  <a:pt x="77" y="204"/>
                </a:lnTo>
                <a:lnTo>
                  <a:pt x="83" y="189"/>
                </a:lnTo>
                <a:lnTo>
                  <a:pt x="90" y="173"/>
                </a:lnTo>
                <a:lnTo>
                  <a:pt x="96" y="156"/>
                </a:lnTo>
                <a:lnTo>
                  <a:pt x="104" y="137"/>
                </a:lnTo>
                <a:lnTo>
                  <a:pt x="111" y="118"/>
                </a:lnTo>
                <a:lnTo>
                  <a:pt x="117" y="96"/>
                </a:lnTo>
                <a:lnTo>
                  <a:pt x="125" y="73"/>
                </a:lnTo>
                <a:lnTo>
                  <a:pt x="131" y="50"/>
                </a:lnTo>
                <a:lnTo>
                  <a:pt x="138" y="25"/>
                </a:lnTo>
                <a:lnTo>
                  <a:pt x="144" y="0"/>
                </a:lnTo>
                <a:lnTo>
                  <a:pt x="157" y="0"/>
                </a:lnTo>
                <a:lnTo>
                  <a:pt x="169" y="2"/>
                </a:lnTo>
                <a:lnTo>
                  <a:pt x="179" y="6"/>
                </a:lnTo>
                <a:lnTo>
                  <a:pt x="188" y="12"/>
                </a:lnTo>
                <a:lnTo>
                  <a:pt x="194" y="16"/>
                </a:lnTo>
                <a:lnTo>
                  <a:pt x="198" y="20"/>
                </a:lnTo>
                <a:lnTo>
                  <a:pt x="202" y="23"/>
                </a:lnTo>
                <a:lnTo>
                  <a:pt x="205" y="27"/>
                </a:lnTo>
                <a:lnTo>
                  <a:pt x="207" y="33"/>
                </a:lnTo>
                <a:lnTo>
                  <a:pt x="211" y="39"/>
                </a:lnTo>
                <a:lnTo>
                  <a:pt x="213" y="45"/>
                </a:lnTo>
                <a:lnTo>
                  <a:pt x="215" y="52"/>
                </a:lnTo>
                <a:lnTo>
                  <a:pt x="219" y="68"/>
                </a:lnTo>
                <a:lnTo>
                  <a:pt x="223" y="83"/>
                </a:lnTo>
                <a:lnTo>
                  <a:pt x="223" y="93"/>
                </a:lnTo>
                <a:lnTo>
                  <a:pt x="225" y="102"/>
                </a:lnTo>
                <a:lnTo>
                  <a:pt x="225" y="112"/>
                </a:lnTo>
                <a:lnTo>
                  <a:pt x="225" y="121"/>
                </a:lnTo>
                <a:lnTo>
                  <a:pt x="225" y="133"/>
                </a:lnTo>
                <a:lnTo>
                  <a:pt x="225" y="144"/>
                </a:lnTo>
                <a:lnTo>
                  <a:pt x="223" y="158"/>
                </a:lnTo>
                <a:lnTo>
                  <a:pt x="223" y="171"/>
                </a:lnTo>
                <a:lnTo>
                  <a:pt x="221" y="185"/>
                </a:lnTo>
                <a:lnTo>
                  <a:pt x="219" y="198"/>
                </a:lnTo>
                <a:lnTo>
                  <a:pt x="217" y="214"/>
                </a:lnTo>
                <a:lnTo>
                  <a:pt x="215" y="231"/>
                </a:lnTo>
                <a:lnTo>
                  <a:pt x="213" y="248"/>
                </a:lnTo>
                <a:lnTo>
                  <a:pt x="211" y="263"/>
                </a:lnTo>
                <a:lnTo>
                  <a:pt x="207" y="279"/>
                </a:lnTo>
                <a:lnTo>
                  <a:pt x="205" y="294"/>
                </a:lnTo>
                <a:lnTo>
                  <a:pt x="202" y="308"/>
                </a:lnTo>
                <a:lnTo>
                  <a:pt x="198" y="321"/>
                </a:lnTo>
                <a:lnTo>
                  <a:pt x="194" y="334"/>
                </a:lnTo>
                <a:lnTo>
                  <a:pt x="190" y="348"/>
                </a:lnTo>
                <a:lnTo>
                  <a:pt x="182" y="371"/>
                </a:lnTo>
                <a:lnTo>
                  <a:pt x="173" y="394"/>
                </a:lnTo>
                <a:lnTo>
                  <a:pt x="165" y="415"/>
                </a:lnTo>
                <a:lnTo>
                  <a:pt x="155" y="436"/>
                </a:lnTo>
                <a:lnTo>
                  <a:pt x="150" y="444"/>
                </a:lnTo>
                <a:lnTo>
                  <a:pt x="144" y="453"/>
                </a:lnTo>
                <a:lnTo>
                  <a:pt x="136" y="461"/>
                </a:lnTo>
                <a:lnTo>
                  <a:pt x="131" y="469"/>
                </a:lnTo>
                <a:lnTo>
                  <a:pt x="127" y="476"/>
                </a:lnTo>
                <a:lnTo>
                  <a:pt x="121" y="482"/>
                </a:lnTo>
                <a:lnTo>
                  <a:pt x="115" y="488"/>
                </a:lnTo>
                <a:lnTo>
                  <a:pt x="111" y="494"/>
                </a:lnTo>
                <a:lnTo>
                  <a:pt x="107" y="498"/>
                </a:lnTo>
                <a:lnTo>
                  <a:pt x="104" y="501"/>
                </a:lnTo>
                <a:lnTo>
                  <a:pt x="100" y="505"/>
                </a:lnTo>
                <a:lnTo>
                  <a:pt x="96" y="507"/>
                </a:lnTo>
                <a:lnTo>
                  <a:pt x="92" y="509"/>
                </a:lnTo>
                <a:lnTo>
                  <a:pt x="88" y="511"/>
                </a:lnTo>
                <a:lnTo>
                  <a:pt x="86" y="511"/>
                </a:lnTo>
                <a:lnTo>
                  <a:pt x="84" y="513"/>
                </a:lnTo>
                <a:lnTo>
                  <a:pt x="83" y="511"/>
                </a:lnTo>
                <a:lnTo>
                  <a:pt x="79" y="511"/>
                </a:lnTo>
                <a:lnTo>
                  <a:pt x="77" y="509"/>
                </a:lnTo>
                <a:lnTo>
                  <a:pt x="73" y="507"/>
                </a:lnTo>
                <a:lnTo>
                  <a:pt x="69" y="505"/>
                </a:lnTo>
                <a:lnTo>
                  <a:pt x="67" y="501"/>
                </a:lnTo>
                <a:lnTo>
                  <a:pt x="63" y="498"/>
                </a:lnTo>
                <a:lnTo>
                  <a:pt x="60" y="494"/>
                </a:lnTo>
                <a:lnTo>
                  <a:pt x="54" y="486"/>
                </a:lnTo>
                <a:lnTo>
                  <a:pt x="46" y="475"/>
                </a:lnTo>
                <a:lnTo>
                  <a:pt x="40" y="461"/>
                </a:lnTo>
                <a:lnTo>
                  <a:pt x="36" y="448"/>
                </a:lnTo>
                <a:lnTo>
                  <a:pt x="27" y="434"/>
                </a:lnTo>
                <a:lnTo>
                  <a:pt x="21" y="419"/>
                </a:lnTo>
                <a:lnTo>
                  <a:pt x="13" y="405"/>
                </a:lnTo>
                <a:lnTo>
                  <a:pt x="10" y="394"/>
                </a:lnTo>
                <a:lnTo>
                  <a:pt x="6" y="382"/>
                </a:lnTo>
                <a:lnTo>
                  <a:pt x="2" y="373"/>
                </a:lnTo>
                <a:lnTo>
                  <a:pt x="2" y="369"/>
                </a:lnTo>
                <a:lnTo>
                  <a:pt x="0" y="365"/>
                </a:lnTo>
                <a:lnTo>
                  <a:pt x="0" y="361"/>
                </a:lnTo>
                <a:lnTo>
                  <a:pt x="0" y="359"/>
                </a:lnTo>
                <a:lnTo>
                  <a:pt x="0" y="356"/>
                </a:lnTo>
                <a:lnTo>
                  <a:pt x="0" y="352"/>
                </a:lnTo>
                <a:lnTo>
                  <a:pt x="2" y="348"/>
                </a:lnTo>
                <a:lnTo>
                  <a:pt x="2" y="344"/>
                </a:lnTo>
                <a:lnTo>
                  <a:pt x="6" y="334"/>
                </a:lnTo>
                <a:lnTo>
                  <a:pt x="10" y="323"/>
                </a:lnTo>
                <a:lnTo>
                  <a:pt x="13" y="311"/>
                </a:lnTo>
                <a:lnTo>
                  <a:pt x="21" y="298"/>
                </a:lnTo>
                <a:lnTo>
                  <a:pt x="27" y="283"/>
                </a:lnTo>
                <a:lnTo>
                  <a:pt x="36" y="2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54"/>
          <p:cNvSpPr/>
          <p:nvPr/>
        </p:nvSpPr>
        <p:spPr>
          <a:xfrm>
            <a:off x="6434280" y="3503520"/>
            <a:ext cx="1247760" cy="328680"/>
          </a:xfrm>
          <a:custGeom>
            <a:avLst/>
            <a:gdLst/>
            <a:ahLst/>
            <a:rect l="l" t="t" r="r" b="b"/>
            <a:pathLst>
              <a:path w="1570" h="412">
                <a:moveTo>
                  <a:pt x="1257" y="357"/>
                </a:moveTo>
                <a:lnTo>
                  <a:pt x="1248" y="364"/>
                </a:lnTo>
                <a:lnTo>
                  <a:pt x="1236" y="372"/>
                </a:lnTo>
                <a:lnTo>
                  <a:pt x="1226" y="378"/>
                </a:lnTo>
                <a:lnTo>
                  <a:pt x="1217" y="383"/>
                </a:lnTo>
                <a:lnTo>
                  <a:pt x="1209" y="389"/>
                </a:lnTo>
                <a:lnTo>
                  <a:pt x="1200" y="393"/>
                </a:lnTo>
                <a:lnTo>
                  <a:pt x="1194" y="399"/>
                </a:lnTo>
                <a:lnTo>
                  <a:pt x="1186" y="403"/>
                </a:lnTo>
                <a:lnTo>
                  <a:pt x="1178" y="405"/>
                </a:lnTo>
                <a:lnTo>
                  <a:pt x="1173" y="408"/>
                </a:lnTo>
                <a:lnTo>
                  <a:pt x="1169" y="410"/>
                </a:lnTo>
                <a:lnTo>
                  <a:pt x="1163" y="412"/>
                </a:lnTo>
                <a:lnTo>
                  <a:pt x="1159" y="412"/>
                </a:lnTo>
                <a:lnTo>
                  <a:pt x="1155" y="412"/>
                </a:lnTo>
                <a:lnTo>
                  <a:pt x="1152" y="410"/>
                </a:lnTo>
                <a:lnTo>
                  <a:pt x="1150" y="408"/>
                </a:lnTo>
                <a:lnTo>
                  <a:pt x="1148" y="408"/>
                </a:lnTo>
                <a:lnTo>
                  <a:pt x="1146" y="406"/>
                </a:lnTo>
                <a:lnTo>
                  <a:pt x="1144" y="405"/>
                </a:lnTo>
                <a:lnTo>
                  <a:pt x="1144" y="401"/>
                </a:lnTo>
                <a:lnTo>
                  <a:pt x="1142" y="397"/>
                </a:lnTo>
                <a:lnTo>
                  <a:pt x="1142" y="393"/>
                </a:lnTo>
                <a:lnTo>
                  <a:pt x="1144" y="387"/>
                </a:lnTo>
                <a:lnTo>
                  <a:pt x="1144" y="382"/>
                </a:lnTo>
                <a:lnTo>
                  <a:pt x="1146" y="374"/>
                </a:lnTo>
                <a:lnTo>
                  <a:pt x="1148" y="366"/>
                </a:lnTo>
                <a:lnTo>
                  <a:pt x="1150" y="358"/>
                </a:lnTo>
                <a:lnTo>
                  <a:pt x="1154" y="349"/>
                </a:lnTo>
                <a:lnTo>
                  <a:pt x="1157" y="339"/>
                </a:lnTo>
                <a:lnTo>
                  <a:pt x="1161" y="330"/>
                </a:lnTo>
                <a:lnTo>
                  <a:pt x="1167" y="318"/>
                </a:lnTo>
                <a:lnTo>
                  <a:pt x="1175" y="307"/>
                </a:lnTo>
                <a:lnTo>
                  <a:pt x="1178" y="295"/>
                </a:lnTo>
                <a:lnTo>
                  <a:pt x="1182" y="284"/>
                </a:lnTo>
                <a:lnTo>
                  <a:pt x="1186" y="272"/>
                </a:lnTo>
                <a:lnTo>
                  <a:pt x="1190" y="263"/>
                </a:lnTo>
                <a:lnTo>
                  <a:pt x="1192" y="253"/>
                </a:lnTo>
                <a:lnTo>
                  <a:pt x="1196" y="245"/>
                </a:lnTo>
                <a:lnTo>
                  <a:pt x="1198" y="238"/>
                </a:lnTo>
                <a:lnTo>
                  <a:pt x="1200" y="230"/>
                </a:lnTo>
                <a:lnTo>
                  <a:pt x="1200" y="222"/>
                </a:lnTo>
                <a:lnTo>
                  <a:pt x="1202" y="216"/>
                </a:lnTo>
                <a:lnTo>
                  <a:pt x="1202" y="211"/>
                </a:lnTo>
                <a:lnTo>
                  <a:pt x="1202" y="205"/>
                </a:lnTo>
                <a:lnTo>
                  <a:pt x="1202" y="201"/>
                </a:lnTo>
                <a:lnTo>
                  <a:pt x="1202" y="197"/>
                </a:lnTo>
                <a:lnTo>
                  <a:pt x="1200" y="193"/>
                </a:lnTo>
                <a:lnTo>
                  <a:pt x="1198" y="191"/>
                </a:lnTo>
                <a:lnTo>
                  <a:pt x="1194" y="190"/>
                </a:lnTo>
                <a:lnTo>
                  <a:pt x="1190" y="188"/>
                </a:lnTo>
                <a:lnTo>
                  <a:pt x="1184" y="186"/>
                </a:lnTo>
                <a:lnTo>
                  <a:pt x="1177" y="186"/>
                </a:lnTo>
                <a:lnTo>
                  <a:pt x="1169" y="186"/>
                </a:lnTo>
                <a:lnTo>
                  <a:pt x="1157" y="188"/>
                </a:lnTo>
                <a:lnTo>
                  <a:pt x="1146" y="188"/>
                </a:lnTo>
                <a:lnTo>
                  <a:pt x="1132" y="191"/>
                </a:lnTo>
                <a:lnTo>
                  <a:pt x="1117" y="193"/>
                </a:lnTo>
                <a:lnTo>
                  <a:pt x="1100" y="197"/>
                </a:lnTo>
                <a:lnTo>
                  <a:pt x="1081" y="201"/>
                </a:lnTo>
                <a:lnTo>
                  <a:pt x="1059" y="205"/>
                </a:lnTo>
                <a:lnTo>
                  <a:pt x="1036" y="211"/>
                </a:lnTo>
                <a:lnTo>
                  <a:pt x="1011" y="216"/>
                </a:lnTo>
                <a:lnTo>
                  <a:pt x="1000" y="218"/>
                </a:lnTo>
                <a:lnTo>
                  <a:pt x="987" y="222"/>
                </a:lnTo>
                <a:lnTo>
                  <a:pt x="973" y="226"/>
                </a:lnTo>
                <a:lnTo>
                  <a:pt x="958" y="230"/>
                </a:lnTo>
                <a:lnTo>
                  <a:pt x="898" y="243"/>
                </a:lnTo>
                <a:lnTo>
                  <a:pt x="839" y="257"/>
                </a:lnTo>
                <a:lnTo>
                  <a:pt x="808" y="263"/>
                </a:lnTo>
                <a:lnTo>
                  <a:pt x="775" y="268"/>
                </a:lnTo>
                <a:lnTo>
                  <a:pt x="745" y="274"/>
                </a:lnTo>
                <a:lnTo>
                  <a:pt x="712" y="280"/>
                </a:lnTo>
                <a:lnTo>
                  <a:pt x="679" y="286"/>
                </a:lnTo>
                <a:lnTo>
                  <a:pt x="645" y="293"/>
                </a:lnTo>
                <a:lnTo>
                  <a:pt x="612" y="299"/>
                </a:lnTo>
                <a:lnTo>
                  <a:pt x="578" y="305"/>
                </a:lnTo>
                <a:lnTo>
                  <a:pt x="541" y="310"/>
                </a:lnTo>
                <a:lnTo>
                  <a:pt x="505" y="318"/>
                </a:lnTo>
                <a:lnTo>
                  <a:pt x="468" y="324"/>
                </a:lnTo>
                <a:lnTo>
                  <a:pt x="430" y="332"/>
                </a:lnTo>
                <a:lnTo>
                  <a:pt x="393" y="339"/>
                </a:lnTo>
                <a:lnTo>
                  <a:pt x="357" y="345"/>
                </a:lnTo>
                <a:lnTo>
                  <a:pt x="322" y="351"/>
                </a:lnTo>
                <a:lnTo>
                  <a:pt x="288" y="357"/>
                </a:lnTo>
                <a:lnTo>
                  <a:pt x="257" y="360"/>
                </a:lnTo>
                <a:lnTo>
                  <a:pt x="226" y="364"/>
                </a:lnTo>
                <a:lnTo>
                  <a:pt x="198" y="368"/>
                </a:lnTo>
                <a:lnTo>
                  <a:pt x="169" y="372"/>
                </a:lnTo>
                <a:lnTo>
                  <a:pt x="144" y="374"/>
                </a:lnTo>
                <a:lnTo>
                  <a:pt x="119" y="376"/>
                </a:lnTo>
                <a:lnTo>
                  <a:pt x="96" y="378"/>
                </a:lnTo>
                <a:lnTo>
                  <a:pt x="73" y="380"/>
                </a:lnTo>
                <a:lnTo>
                  <a:pt x="52" y="382"/>
                </a:lnTo>
                <a:lnTo>
                  <a:pt x="33" y="382"/>
                </a:lnTo>
                <a:lnTo>
                  <a:pt x="15" y="382"/>
                </a:lnTo>
                <a:lnTo>
                  <a:pt x="0" y="383"/>
                </a:lnTo>
                <a:lnTo>
                  <a:pt x="0" y="280"/>
                </a:lnTo>
                <a:lnTo>
                  <a:pt x="50" y="280"/>
                </a:lnTo>
                <a:lnTo>
                  <a:pt x="100" y="278"/>
                </a:lnTo>
                <a:lnTo>
                  <a:pt x="152" y="274"/>
                </a:lnTo>
                <a:lnTo>
                  <a:pt x="205" y="270"/>
                </a:lnTo>
                <a:lnTo>
                  <a:pt x="232" y="266"/>
                </a:lnTo>
                <a:lnTo>
                  <a:pt x="261" y="263"/>
                </a:lnTo>
                <a:lnTo>
                  <a:pt x="288" y="259"/>
                </a:lnTo>
                <a:lnTo>
                  <a:pt x="317" y="253"/>
                </a:lnTo>
                <a:lnTo>
                  <a:pt x="344" y="249"/>
                </a:lnTo>
                <a:lnTo>
                  <a:pt x="372" y="243"/>
                </a:lnTo>
                <a:lnTo>
                  <a:pt x="401" y="236"/>
                </a:lnTo>
                <a:lnTo>
                  <a:pt x="430" y="230"/>
                </a:lnTo>
                <a:lnTo>
                  <a:pt x="489" y="215"/>
                </a:lnTo>
                <a:lnTo>
                  <a:pt x="549" y="203"/>
                </a:lnTo>
                <a:lnTo>
                  <a:pt x="610" y="190"/>
                </a:lnTo>
                <a:lnTo>
                  <a:pt x="670" y="178"/>
                </a:lnTo>
                <a:lnTo>
                  <a:pt x="731" y="167"/>
                </a:lnTo>
                <a:lnTo>
                  <a:pt x="791" y="155"/>
                </a:lnTo>
                <a:lnTo>
                  <a:pt x="850" y="142"/>
                </a:lnTo>
                <a:lnTo>
                  <a:pt x="910" y="128"/>
                </a:lnTo>
                <a:lnTo>
                  <a:pt x="939" y="120"/>
                </a:lnTo>
                <a:lnTo>
                  <a:pt x="965" y="113"/>
                </a:lnTo>
                <a:lnTo>
                  <a:pt x="990" y="107"/>
                </a:lnTo>
                <a:lnTo>
                  <a:pt x="1015" y="99"/>
                </a:lnTo>
                <a:lnTo>
                  <a:pt x="1038" y="94"/>
                </a:lnTo>
                <a:lnTo>
                  <a:pt x="1059" y="88"/>
                </a:lnTo>
                <a:lnTo>
                  <a:pt x="1081" y="82"/>
                </a:lnTo>
                <a:lnTo>
                  <a:pt x="1098" y="78"/>
                </a:lnTo>
                <a:lnTo>
                  <a:pt x="1115" y="72"/>
                </a:lnTo>
                <a:lnTo>
                  <a:pt x="1132" y="67"/>
                </a:lnTo>
                <a:lnTo>
                  <a:pt x="1146" y="61"/>
                </a:lnTo>
                <a:lnTo>
                  <a:pt x="1159" y="57"/>
                </a:lnTo>
                <a:lnTo>
                  <a:pt x="1171" y="51"/>
                </a:lnTo>
                <a:lnTo>
                  <a:pt x="1182" y="48"/>
                </a:lnTo>
                <a:lnTo>
                  <a:pt x="1190" y="42"/>
                </a:lnTo>
                <a:lnTo>
                  <a:pt x="1198" y="38"/>
                </a:lnTo>
                <a:lnTo>
                  <a:pt x="1211" y="32"/>
                </a:lnTo>
                <a:lnTo>
                  <a:pt x="1223" y="28"/>
                </a:lnTo>
                <a:lnTo>
                  <a:pt x="1234" y="23"/>
                </a:lnTo>
                <a:lnTo>
                  <a:pt x="1244" y="19"/>
                </a:lnTo>
                <a:lnTo>
                  <a:pt x="1253" y="13"/>
                </a:lnTo>
                <a:lnTo>
                  <a:pt x="1263" y="9"/>
                </a:lnTo>
                <a:lnTo>
                  <a:pt x="1282" y="0"/>
                </a:lnTo>
                <a:lnTo>
                  <a:pt x="1284" y="0"/>
                </a:lnTo>
                <a:lnTo>
                  <a:pt x="1288" y="1"/>
                </a:lnTo>
                <a:lnTo>
                  <a:pt x="1294" y="3"/>
                </a:lnTo>
                <a:lnTo>
                  <a:pt x="1299" y="5"/>
                </a:lnTo>
                <a:lnTo>
                  <a:pt x="1307" y="9"/>
                </a:lnTo>
                <a:lnTo>
                  <a:pt x="1315" y="15"/>
                </a:lnTo>
                <a:lnTo>
                  <a:pt x="1322" y="21"/>
                </a:lnTo>
                <a:lnTo>
                  <a:pt x="1332" y="26"/>
                </a:lnTo>
                <a:lnTo>
                  <a:pt x="1344" y="32"/>
                </a:lnTo>
                <a:lnTo>
                  <a:pt x="1355" y="40"/>
                </a:lnTo>
                <a:lnTo>
                  <a:pt x="1367" y="49"/>
                </a:lnTo>
                <a:lnTo>
                  <a:pt x="1380" y="57"/>
                </a:lnTo>
                <a:lnTo>
                  <a:pt x="1393" y="69"/>
                </a:lnTo>
                <a:lnTo>
                  <a:pt x="1407" y="78"/>
                </a:lnTo>
                <a:lnTo>
                  <a:pt x="1422" y="90"/>
                </a:lnTo>
                <a:lnTo>
                  <a:pt x="1438" y="101"/>
                </a:lnTo>
                <a:lnTo>
                  <a:pt x="1453" y="115"/>
                </a:lnTo>
                <a:lnTo>
                  <a:pt x="1466" y="130"/>
                </a:lnTo>
                <a:lnTo>
                  <a:pt x="1480" y="142"/>
                </a:lnTo>
                <a:lnTo>
                  <a:pt x="1493" y="155"/>
                </a:lnTo>
                <a:lnTo>
                  <a:pt x="1505" y="167"/>
                </a:lnTo>
                <a:lnTo>
                  <a:pt x="1516" y="176"/>
                </a:lnTo>
                <a:lnTo>
                  <a:pt x="1526" y="188"/>
                </a:lnTo>
                <a:lnTo>
                  <a:pt x="1534" y="195"/>
                </a:lnTo>
                <a:lnTo>
                  <a:pt x="1543" y="205"/>
                </a:lnTo>
                <a:lnTo>
                  <a:pt x="1549" y="213"/>
                </a:lnTo>
                <a:lnTo>
                  <a:pt x="1555" y="220"/>
                </a:lnTo>
                <a:lnTo>
                  <a:pt x="1560" y="226"/>
                </a:lnTo>
                <a:lnTo>
                  <a:pt x="1564" y="232"/>
                </a:lnTo>
                <a:lnTo>
                  <a:pt x="1566" y="236"/>
                </a:lnTo>
                <a:lnTo>
                  <a:pt x="1568" y="239"/>
                </a:lnTo>
                <a:lnTo>
                  <a:pt x="1570" y="241"/>
                </a:lnTo>
                <a:lnTo>
                  <a:pt x="1568" y="247"/>
                </a:lnTo>
                <a:lnTo>
                  <a:pt x="1568" y="251"/>
                </a:lnTo>
                <a:lnTo>
                  <a:pt x="1566" y="255"/>
                </a:lnTo>
                <a:lnTo>
                  <a:pt x="1562" y="259"/>
                </a:lnTo>
                <a:lnTo>
                  <a:pt x="1559" y="263"/>
                </a:lnTo>
                <a:lnTo>
                  <a:pt x="1555" y="266"/>
                </a:lnTo>
                <a:lnTo>
                  <a:pt x="1549" y="268"/>
                </a:lnTo>
                <a:lnTo>
                  <a:pt x="1543" y="270"/>
                </a:lnTo>
                <a:lnTo>
                  <a:pt x="1537" y="272"/>
                </a:lnTo>
                <a:lnTo>
                  <a:pt x="1530" y="276"/>
                </a:lnTo>
                <a:lnTo>
                  <a:pt x="1522" y="276"/>
                </a:lnTo>
                <a:lnTo>
                  <a:pt x="1514" y="278"/>
                </a:lnTo>
                <a:lnTo>
                  <a:pt x="1505" y="280"/>
                </a:lnTo>
                <a:lnTo>
                  <a:pt x="1495" y="280"/>
                </a:lnTo>
                <a:lnTo>
                  <a:pt x="1484" y="280"/>
                </a:lnTo>
                <a:lnTo>
                  <a:pt x="1474" y="280"/>
                </a:lnTo>
                <a:lnTo>
                  <a:pt x="1459" y="280"/>
                </a:lnTo>
                <a:lnTo>
                  <a:pt x="1445" y="282"/>
                </a:lnTo>
                <a:lnTo>
                  <a:pt x="1432" y="284"/>
                </a:lnTo>
                <a:lnTo>
                  <a:pt x="1418" y="286"/>
                </a:lnTo>
                <a:lnTo>
                  <a:pt x="1405" y="287"/>
                </a:lnTo>
                <a:lnTo>
                  <a:pt x="1392" y="291"/>
                </a:lnTo>
                <a:lnTo>
                  <a:pt x="1378" y="295"/>
                </a:lnTo>
                <a:lnTo>
                  <a:pt x="1365" y="299"/>
                </a:lnTo>
                <a:lnTo>
                  <a:pt x="1351" y="305"/>
                </a:lnTo>
                <a:lnTo>
                  <a:pt x="1338" y="310"/>
                </a:lnTo>
                <a:lnTo>
                  <a:pt x="1324" y="316"/>
                </a:lnTo>
                <a:lnTo>
                  <a:pt x="1311" y="324"/>
                </a:lnTo>
                <a:lnTo>
                  <a:pt x="1297" y="332"/>
                </a:lnTo>
                <a:lnTo>
                  <a:pt x="1284" y="339"/>
                </a:lnTo>
                <a:lnTo>
                  <a:pt x="1271" y="347"/>
                </a:lnTo>
                <a:lnTo>
                  <a:pt x="1257" y="3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55"/>
          <p:cNvSpPr/>
          <p:nvPr/>
        </p:nvSpPr>
        <p:spPr>
          <a:xfrm>
            <a:off x="6889680" y="3198960"/>
            <a:ext cx="258840" cy="519120"/>
          </a:xfrm>
          <a:custGeom>
            <a:avLst/>
            <a:gdLst/>
            <a:ahLst/>
            <a:rect l="l" t="t" r="r" b="b"/>
            <a:pathLst>
              <a:path w="324" h="652">
                <a:moveTo>
                  <a:pt x="121" y="0"/>
                </a:moveTo>
                <a:lnTo>
                  <a:pt x="132" y="2"/>
                </a:lnTo>
                <a:lnTo>
                  <a:pt x="146" y="5"/>
                </a:lnTo>
                <a:lnTo>
                  <a:pt x="157" y="7"/>
                </a:lnTo>
                <a:lnTo>
                  <a:pt x="169" y="11"/>
                </a:lnTo>
                <a:lnTo>
                  <a:pt x="180" y="15"/>
                </a:lnTo>
                <a:lnTo>
                  <a:pt x="192" y="19"/>
                </a:lnTo>
                <a:lnTo>
                  <a:pt x="211" y="28"/>
                </a:lnTo>
                <a:lnTo>
                  <a:pt x="230" y="38"/>
                </a:lnTo>
                <a:lnTo>
                  <a:pt x="247" y="50"/>
                </a:lnTo>
                <a:lnTo>
                  <a:pt x="263" y="63"/>
                </a:lnTo>
                <a:lnTo>
                  <a:pt x="276" y="76"/>
                </a:lnTo>
                <a:lnTo>
                  <a:pt x="282" y="84"/>
                </a:lnTo>
                <a:lnTo>
                  <a:pt x="288" y="90"/>
                </a:lnTo>
                <a:lnTo>
                  <a:pt x="294" y="98"/>
                </a:lnTo>
                <a:lnTo>
                  <a:pt x="297" y="103"/>
                </a:lnTo>
                <a:lnTo>
                  <a:pt x="307" y="115"/>
                </a:lnTo>
                <a:lnTo>
                  <a:pt x="313" y="128"/>
                </a:lnTo>
                <a:lnTo>
                  <a:pt x="318" y="140"/>
                </a:lnTo>
                <a:lnTo>
                  <a:pt x="320" y="151"/>
                </a:lnTo>
                <a:lnTo>
                  <a:pt x="322" y="165"/>
                </a:lnTo>
                <a:lnTo>
                  <a:pt x="324" y="178"/>
                </a:lnTo>
                <a:lnTo>
                  <a:pt x="324" y="182"/>
                </a:lnTo>
                <a:lnTo>
                  <a:pt x="322" y="188"/>
                </a:lnTo>
                <a:lnTo>
                  <a:pt x="322" y="192"/>
                </a:lnTo>
                <a:lnTo>
                  <a:pt x="320" y="199"/>
                </a:lnTo>
                <a:lnTo>
                  <a:pt x="317" y="205"/>
                </a:lnTo>
                <a:lnTo>
                  <a:pt x="315" y="213"/>
                </a:lnTo>
                <a:lnTo>
                  <a:pt x="311" y="220"/>
                </a:lnTo>
                <a:lnTo>
                  <a:pt x="307" y="230"/>
                </a:lnTo>
                <a:lnTo>
                  <a:pt x="303" y="238"/>
                </a:lnTo>
                <a:lnTo>
                  <a:pt x="299" y="249"/>
                </a:lnTo>
                <a:lnTo>
                  <a:pt x="294" y="259"/>
                </a:lnTo>
                <a:lnTo>
                  <a:pt x="288" y="270"/>
                </a:lnTo>
                <a:lnTo>
                  <a:pt x="282" y="284"/>
                </a:lnTo>
                <a:lnTo>
                  <a:pt x="274" y="295"/>
                </a:lnTo>
                <a:lnTo>
                  <a:pt x="269" y="309"/>
                </a:lnTo>
                <a:lnTo>
                  <a:pt x="261" y="324"/>
                </a:lnTo>
                <a:lnTo>
                  <a:pt x="251" y="339"/>
                </a:lnTo>
                <a:lnTo>
                  <a:pt x="244" y="355"/>
                </a:lnTo>
                <a:lnTo>
                  <a:pt x="234" y="370"/>
                </a:lnTo>
                <a:lnTo>
                  <a:pt x="224" y="387"/>
                </a:lnTo>
                <a:lnTo>
                  <a:pt x="215" y="407"/>
                </a:lnTo>
                <a:lnTo>
                  <a:pt x="203" y="424"/>
                </a:lnTo>
                <a:lnTo>
                  <a:pt x="194" y="443"/>
                </a:lnTo>
                <a:lnTo>
                  <a:pt x="182" y="464"/>
                </a:lnTo>
                <a:lnTo>
                  <a:pt x="169" y="485"/>
                </a:lnTo>
                <a:lnTo>
                  <a:pt x="157" y="506"/>
                </a:lnTo>
                <a:lnTo>
                  <a:pt x="144" y="529"/>
                </a:lnTo>
                <a:lnTo>
                  <a:pt x="130" y="552"/>
                </a:lnTo>
                <a:lnTo>
                  <a:pt x="117" y="575"/>
                </a:lnTo>
                <a:lnTo>
                  <a:pt x="102" y="600"/>
                </a:lnTo>
                <a:lnTo>
                  <a:pt x="88" y="625"/>
                </a:lnTo>
                <a:lnTo>
                  <a:pt x="73" y="652"/>
                </a:lnTo>
                <a:lnTo>
                  <a:pt x="0" y="639"/>
                </a:lnTo>
                <a:lnTo>
                  <a:pt x="9" y="606"/>
                </a:lnTo>
                <a:lnTo>
                  <a:pt x="19" y="575"/>
                </a:lnTo>
                <a:lnTo>
                  <a:pt x="29" y="545"/>
                </a:lnTo>
                <a:lnTo>
                  <a:pt x="36" y="516"/>
                </a:lnTo>
                <a:lnTo>
                  <a:pt x="46" y="487"/>
                </a:lnTo>
                <a:lnTo>
                  <a:pt x="54" y="458"/>
                </a:lnTo>
                <a:lnTo>
                  <a:pt x="61" y="432"/>
                </a:lnTo>
                <a:lnTo>
                  <a:pt x="69" y="407"/>
                </a:lnTo>
                <a:lnTo>
                  <a:pt x="75" y="380"/>
                </a:lnTo>
                <a:lnTo>
                  <a:pt x="82" y="355"/>
                </a:lnTo>
                <a:lnTo>
                  <a:pt x="88" y="332"/>
                </a:lnTo>
                <a:lnTo>
                  <a:pt x="94" y="309"/>
                </a:lnTo>
                <a:lnTo>
                  <a:pt x="100" y="286"/>
                </a:lnTo>
                <a:lnTo>
                  <a:pt x="103" y="265"/>
                </a:lnTo>
                <a:lnTo>
                  <a:pt x="109" y="243"/>
                </a:lnTo>
                <a:lnTo>
                  <a:pt x="113" y="222"/>
                </a:lnTo>
                <a:lnTo>
                  <a:pt x="117" y="203"/>
                </a:lnTo>
                <a:lnTo>
                  <a:pt x="121" y="186"/>
                </a:lnTo>
                <a:lnTo>
                  <a:pt x="123" y="167"/>
                </a:lnTo>
                <a:lnTo>
                  <a:pt x="125" y="149"/>
                </a:lnTo>
                <a:lnTo>
                  <a:pt x="128" y="134"/>
                </a:lnTo>
                <a:lnTo>
                  <a:pt x="128" y="119"/>
                </a:lnTo>
                <a:lnTo>
                  <a:pt x="130" y="103"/>
                </a:lnTo>
                <a:lnTo>
                  <a:pt x="130" y="88"/>
                </a:lnTo>
                <a:lnTo>
                  <a:pt x="130" y="75"/>
                </a:lnTo>
                <a:lnTo>
                  <a:pt x="130" y="63"/>
                </a:lnTo>
                <a:lnTo>
                  <a:pt x="130" y="50"/>
                </a:lnTo>
                <a:lnTo>
                  <a:pt x="128" y="38"/>
                </a:lnTo>
                <a:lnTo>
                  <a:pt x="128" y="28"/>
                </a:lnTo>
                <a:lnTo>
                  <a:pt x="125" y="17"/>
                </a:lnTo>
                <a:lnTo>
                  <a:pt x="123" y="9"/>
                </a:lnTo>
                <a:lnTo>
                  <a:pt x="121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56"/>
          <p:cNvSpPr/>
          <p:nvPr/>
        </p:nvSpPr>
        <p:spPr>
          <a:xfrm>
            <a:off x="6622920" y="3382920"/>
            <a:ext cx="168480" cy="273240"/>
          </a:xfrm>
          <a:custGeom>
            <a:avLst/>
            <a:gdLst/>
            <a:ahLst/>
            <a:rect l="l" t="t" r="r" b="b"/>
            <a:pathLst>
              <a:path w="213" h="343">
                <a:moveTo>
                  <a:pt x="207" y="253"/>
                </a:moveTo>
                <a:lnTo>
                  <a:pt x="203" y="265"/>
                </a:lnTo>
                <a:lnTo>
                  <a:pt x="202" y="276"/>
                </a:lnTo>
                <a:lnTo>
                  <a:pt x="198" y="286"/>
                </a:lnTo>
                <a:lnTo>
                  <a:pt x="196" y="294"/>
                </a:lnTo>
                <a:lnTo>
                  <a:pt x="192" y="303"/>
                </a:lnTo>
                <a:lnTo>
                  <a:pt x="188" y="311"/>
                </a:lnTo>
                <a:lnTo>
                  <a:pt x="182" y="317"/>
                </a:lnTo>
                <a:lnTo>
                  <a:pt x="179" y="322"/>
                </a:lnTo>
                <a:lnTo>
                  <a:pt x="173" y="328"/>
                </a:lnTo>
                <a:lnTo>
                  <a:pt x="167" y="332"/>
                </a:lnTo>
                <a:lnTo>
                  <a:pt x="161" y="336"/>
                </a:lnTo>
                <a:lnTo>
                  <a:pt x="154" y="338"/>
                </a:lnTo>
                <a:lnTo>
                  <a:pt x="148" y="340"/>
                </a:lnTo>
                <a:lnTo>
                  <a:pt x="140" y="342"/>
                </a:lnTo>
                <a:lnTo>
                  <a:pt x="131" y="343"/>
                </a:lnTo>
                <a:lnTo>
                  <a:pt x="123" y="343"/>
                </a:lnTo>
                <a:lnTo>
                  <a:pt x="115" y="324"/>
                </a:lnTo>
                <a:lnTo>
                  <a:pt x="108" y="305"/>
                </a:lnTo>
                <a:lnTo>
                  <a:pt x="100" y="288"/>
                </a:lnTo>
                <a:lnTo>
                  <a:pt x="92" y="271"/>
                </a:lnTo>
                <a:lnTo>
                  <a:pt x="86" y="253"/>
                </a:lnTo>
                <a:lnTo>
                  <a:pt x="79" y="238"/>
                </a:lnTo>
                <a:lnTo>
                  <a:pt x="73" y="221"/>
                </a:lnTo>
                <a:lnTo>
                  <a:pt x="67" y="207"/>
                </a:lnTo>
                <a:lnTo>
                  <a:pt x="61" y="192"/>
                </a:lnTo>
                <a:lnTo>
                  <a:pt x="56" y="178"/>
                </a:lnTo>
                <a:lnTo>
                  <a:pt x="50" y="163"/>
                </a:lnTo>
                <a:lnTo>
                  <a:pt x="44" y="152"/>
                </a:lnTo>
                <a:lnTo>
                  <a:pt x="40" y="138"/>
                </a:lnTo>
                <a:lnTo>
                  <a:pt x="35" y="127"/>
                </a:lnTo>
                <a:lnTo>
                  <a:pt x="31" y="115"/>
                </a:lnTo>
                <a:lnTo>
                  <a:pt x="27" y="105"/>
                </a:lnTo>
                <a:lnTo>
                  <a:pt x="23" y="94"/>
                </a:lnTo>
                <a:lnTo>
                  <a:pt x="19" y="84"/>
                </a:lnTo>
                <a:lnTo>
                  <a:pt x="17" y="77"/>
                </a:lnTo>
                <a:lnTo>
                  <a:pt x="13" y="67"/>
                </a:lnTo>
                <a:lnTo>
                  <a:pt x="12" y="59"/>
                </a:lnTo>
                <a:lnTo>
                  <a:pt x="8" y="52"/>
                </a:lnTo>
                <a:lnTo>
                  <a:pt x="6" y="46"/>
                </a:lnTo>
                <a:lnTo>
                  <a:pt x="4" y="38"/>
                </a:lnTo>
                <a:lnTo>
                  <a:pt x="4" y="33"/>
                </a:lnTo>
                <a:lnTo>
                  <a:pt x="2" y="29"/>
                </a:lnTo>
                <a:lnTo>
                  <a:pt x="2" y="25"/>
                </a:lnTo>
                <a:lnTo>
                  <a:pt x="0" y="21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8" y="6"/>
                </a:lnTo>
                <a:lnTo>
                  <a:pt x="13" y="4"/>
                </a:lnTo>
                <a:lnTo>
                  <a:pt x="21" y="2"/>
                </a:lnTo>
                <a:lnTo>
                  <a:pt x="29" y="0"/>
                </a:lnTo>
                <a:lnTo>
                  <a:pt x="38" y="2"/>
                </a:lnTo>
                <a:lnTo>
                  <a:pt x="50" y="4"/>
                </a:lnTo>
                <a:lnTo>
                  <a:pt x="61" y="6"/>
                </a:lnTo>
                <a:lnTo>
                  <a:pt x="75" y="11"/>
                </a:lnTo>
                <a:lnTo>
                  <a:pt x="81" y="13"/>
                </a:lnTo>
                <a:lnTo>
                  <a:pt x="88" y="17"/>
                </a:lnTo>
                <a:lnTo>
                  <a:pt x="94" y="21"/>
                </a:lnTo>
                <a:lnTo>
                  <a:pt x="102" y="25"/>
                </a:lnTo>
                <a:lnTo>
                  <a:pt x="115" y="34"/>
                </a:lnTo>
                <a:lnTo>
                  <a:pt x="129" y="46"/>
                </a:lnTo>
                <a:lnTo>
                  <a:pt x="142" y="57"/>
                </a:lnTo>
                <a:lnTo>
                  <a:pt x="155" y="71"/>
                </a:lnTo>
                <a:lnTo>
                  <a:pt x="169" y="86"/>
                </a:lnTo>
                <a:lnTo>
                  <a:pt x="182" y="100"/>
                </a:lnTo>
                <a:lnTo>
                  <a:pt x="188" y="107"/>
                </a:lnTo>
                <a:lnTo>
                  <a:pt x="194" y="115"/>
                </a:lnTo>
                <a:lnTo>
                  <a:pt x="200" y="123"/>
                </a:lnTo>
                <a:lnTo>
                  <a:pt x="203" y="130"/>
                </a:lnTo>
                <a:lnTo>
                  <a:pt x="205" y="140"/>
                </a:lnTo>
                <a:lnTo>
                  <a:pt x="209" y="150"/>
                </a:lnTo>
                <a:lnTo>
                  <a:pt x="211" y="157"/>
                </a:lnTo>
                <a:lnTo>
                  <a:pt x="211" y="167"/>
                </a:lnTo>
                <a:lnTo>
                  <a:pt x="213" y="176"/>
                </a:lnTo>
                <a:lnTo>
                  <a:pt x="213" y="186"/>
                </a:lnTo>
                <a:lnTo>
                  <a:pt x="213" y="198"/>
                </a:lnTo>
                <a:lnTo>
                  <a:pt x="213" y="207"/>
                </a:lnTo>
                <a:lnTo>
                  <a:pt x="209" y="230"/>
                </a:lnTo>
                <a:lnTo>
                  <a:pt x="207" y="2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57"/>
          <p:cNvSpPr/>
          <p:nvPr/>
        </p:nvSpPr>
        <p:spPr>
          <a:xfrm>
            <a:off x="6462720" y="3057480"/>
            <a:ext cx="884160" cy="244440"/>
          </a:xfrm>
          <a:custGeom>
            <a:avLst/>
            <a:gdLst/>
            <a:ahLst/>
            <a:rect l="l" t="t" r="r" b="b"/>
            <a:pathLst>
              <a:path w="1116" h="307">
                <a:moveTo>
                  <a:pt x="192" y="192"/>
                </a:moveTo>
                <a:lnTo>
                  <a:pt x="217" y="188"/>
                </a:lnTo>
                <a:lnTo>
                  <a:pt x="242" y="186"/>
                </a:lnTo>
                <a:lnTo>
                  <a:pt x="267" y="182"/>
                </a:lnTo>
                <a:lnTo>
                  <a:pt x="294" y="177"/>
                </a:lnTo>
                <a:lnTo>
                  <a:pt x="321" y="173"/>
                </a:lnTo>
                <a:lnTo>
                  <a:pt x="348" y="167"/>
                </a:lnTo>
                <a:lnTo>
                  <a:pt x="375" y="159"/>
                </a:lnTo>
                <a:lnTo>
                  <a:pt x="402" y="154"/>
                </a:lnTo>
                <a:lnTo>
                  <a:pt x="430" y="146"/>
                </a:lnTo>
                <a:lnTo>
                  <a:pt x="459" y="138"/>
                </a:lnTo>
                <a:lnTo>
                  <a:pt x="490" y="129"/>
                </a:lnTo>
                <a:lnTo>
                  <a:pt x="521" y="119"/>
                </a:lnTo>
                <a:lnTo>
                  <a:pt x="551" y="110"/>
                </a:lnTo>
                <a:lnTo>
                  <a:pt x="582" y="100"/>
                </a:lnTo>
                <a:lnTo>
                  <a:pt x="615" y="88"/>
                </a:lnTo>
                <a:lnTo>
                  <a:pt x="649" y="77"/>
                </a:lnTo>
                <a:lnTo>
                  <a:pt x="678" y="67"/>
                </a:lnTo>
                <a:lnTo>
                  <a:pt x="707" y="58"/>
                </a:lnTo>
                <a:lnTo>
                  <a:pt x="736" y="50"/>
                </a:lnTo>
                <a:lnTo>
                  <a:pt x="761" y="42"/>
                </a:lnTo>
                <a:lnTo>
                  <a:pt x="784" y="35"/>
                </a:lnTo>
                <a:lnTo>
                  <a:pt x="807" y="29"/>
                </a:lnTo>
                <a:lnTo>
                  <a:pt x="828" y="23"/>
                </a:lnTo>
                <a:lnTo>
                  <a:pt x="845" y="19"/>
                </a:lnTo>
                <a:lnTo>
                  <a:pt x="862" y="14"/>
                </a:lnTo>
                <a:lnTo>
                  <a:pt x="878" y="10"/>
                </a:lnTo>
                <a:lnTo>
                  <a:pt x="893" y="8"/>
                </a:lnTo>
                <a:lnTo>
                  <a:pt x="905" y="4"/>
                </a:lnTo>
                <a:lnTo>
                  <a:pt x="914" y="2"/>
                </a:lnTo>
                <a:lnTo>
                  <a:pt x="924" y="0"/>
                </a:lnTo>
                <a:lnTo>
                  <a:pt x="929" y="0"/>
                </a:lnTo>
                <a:lnTo>
                  <a:pt x="935" y="0"/>
                </a:lnTo>
                <a:lnTo>
                  <a:pt x="939" y="0"/>
                </a:lnTo>
                <a:lnTo>
                  <a:pt x="941" y="0"/>
                </a:lnTo>
                <a:lnTo>
                  <a:pt x="945" y="0"/>
                </a:lnTo>
                <a:lnTo>
                  <a:pt x="949" y="2"/>
                </a:lnTo>
                <a:lnTo>
                  <a:pt x="954" y="2"/>
                </a:lnTo>
                <a:lnTo>
                  <a:pt x="960" y="4"/>
                </a:lnTo>
                <a:lnTo>
                  <a:pt x="966" y="6"/>
                </a:lnTo>
                <a:lnTo>
                  <a:pt x="972" y="8"/>
                </a:lnTo>
                <a:lnTo>
                  <a:pt x="979" y="10"/>
                </a:lnTo>
                <a:lnTo>
                  <a:pt x="987" y="12"/>
                </a:lnTo>
                <a:lnTo>
                  <a:pt x="995" y="14"/>
                </a:lnTo>
                <a:lnTo>
                  <a:pt x="1002" y="15"/>
                </a:lnTo>
                <a:lnTo>
                  <a:pt x="1012" y="17"/>
                </a:lnTo>
                <a:lnTo>
                  <a:pt x="1022" y="21"/>
                </a:lnTo>
                <a:lnTo>
                  <a:pt x="1033" y="23"/>
                </a:lnTo>
                <a:lnTo>
                  <a:pt x="1045" y="25"/>
                </a:lnTo>
                <a:lnTo>
                  <a:pt x="1052" y="31"/>
                </a:lnTo>
                <a:lnTo>
                  <a:pt x="1060" y="35"/>
                </a:lnTo>
                <a:lnTo>
                  <a:pt x="1068" y="40"/>
                </a:lnTo>
                <a:lnTo>
                  <a:pt x="1075" y="44"/>
                </a:lnTo>
                <a:lnTo>
                  <a:pt x="1081" y="50"/>
                </a:lnTo>
                <a:lnTo>
                  <a:pt x="1087" y="54"/>
                </a:lnTo>
                <a:lnTo>
                  <a:pt x="1093" y="60"/>
                </a:lnTo>
                <a:lnTo>
                  <a:pt x="1098" y="63"/>
                </a:lnTo>
                <a:lnTo>
                  <a:pt x="1102" y="69"/>
                </a:lnTo>
                <a:lnTo>
                  <a:pt x="1106" y="73"/>
                </a:lnTo>
                <a:lnTo>
                  <a:pt x="1108" y="79"/>
                </a:lnTo>
                <a:lnTo>
                  <a:pt x="1112" y="83"/>
                </a:lnTo>
                <a:lnTo>
                  <a:pt x="1114" y="88"/>
                </a:lnTo>
                <a:lnTo>
                  <a:pt x="1114" y="92"/>
                </a:lnTo>
                <a:lnTo>
                  <a:pt x="1116" y="98"/>
                </a:lnTo>
                <a:lnTo>
                  <a:pt x="1116" y="102"/>
                </a:lnTo>
                <a:lnTo>
                  <a:pt x="1116" y="108"/>
                </a:lnTo>
                <a:lnTo>
                  <a:pt x="1114" y="111"/>
                </a:lnTo>
                <a:lnTo>
                  <a:pt x="1112" y="115"/>
                </a:lnTo>
                <a:lnTo>
                  <a:pt x="1110" y="121"/>
                </a:lnTo>
                <a:lnTo>
                  <a:pt x="1106" y="125"/>
                </a:lnTo>
                <a:lnTo>
                  <a:pt x="1100" y="131"/>
                </a:lnTo>
                <a:lnTo>
                  <a:pt x="1095" y="134"/>
                </a:lnTo>
                <a:lnTo>
                  <a:pt x="1089" y="138"/>
                </a:lnTo>
                <a:lnTo>
                  <a:pt x="1081" y="142"/>
                </a:lnTo>
                <a:lnTo>
                  <a:pt x="1073" y="146"/>
                </a:lnTo>
                <a:lnTo>
                  <a:pt x="1064" y="150"/>
                </a:lnTo>
                <a:lnTo>
                  <a:pt x="1054" y="154"/>
                </a:lnTo>
                <a:lnTo>
                  <a:pt x="1045" y="158"/>
                </a:lnTo>
                <a:lnTo>
                  <a:pt x="1033" y="159"/>
                </a:lnTo>
                <a:lnTo>
                  <a:pt x="1022" y="163"/>
                </a:lnTo>
                <a:lnTo>
                  <a:pt x="1008" y="165"/>
                </a:lnTo>
                <a:lnTo>
                  <a:pt x="993" y="171"/>
                </a:lnTo>
                <a:lnTo>
                  <a:pt x="977" y="175"/>
                </a:lnTo>
                <a:lnTo>
                  <a:pt x="960" y="181"/>
                </a:lnTo>
                <a:lnTo>
                  <a:pt x="941" y="184"/>
                </a:lnTo>
                <a:lnTo>
                  <a:pt x="920" y="190"/>
                </a:lnTo>
                <a:lnTo>
                  <a:pt x="897" y="196"/>
                </a:lnTo>
                <a:lnTo>
                  <a:pt x="872" y="200"/>
                </a:lnTo>
                <a:lnTo>
                  <a:pt x="847" y="206"/>
                </a:lnTo>
                <a:lnTo>
                  <a:pt x="818" y="211"/>
                </a:lnTo>
                <a:lnTo>
                  <a:pt x="789" y="217"/>
                </a:lnTo>
                <a:lnTo>
                  <a:pt x="757" y="223"/>
                </a:lnTo>
                <a:lnTo>
                  <a:pt x="724" y="229"/>
                </a:lnTo>
                <a:lnTo>
                  <a:pt x="690" y="234"/>
                </a:lnTo>
                <a:lnTo>
                  <a:pt x="653" y="242"/>
                </a:lnTo>
                <a:lnTo>
                  <a:pt x="617" y="248"/>
                </a:lnTo>
                <a:lnTo>
                  <a:pt x="576" y="255"/>
                </a:lnTo>
                <a:lnTo>
                  <a:pt x="557" y="259"/>
                </a:lnTo>
                <a:lnTo>
                  <a:pt x="538" y="263"/>
                </a:lnTo>
                <a:lnTo>
                  <a:pt x="519" y="265"/>
                </a:lnTo>
                <a:lnTo>
                  <a:pt x="500" y="269"/>
                </a:lnTo>
                <a:lnTo>
                  <a:pt x="482" y="273"/>
                </a:lnTo>
                <a:lnTo>
                  <a:pt x="467" y="275"/>
                </a:lnTo>
                <a:lnTo>
                  <a:pt x="450" y="277"/>
                </a:lnTo>
                <a:lnTo>
                  <a:pt x="434" y="280"/>
                </a:lnTo>
                <a:lnTo>
                  <a:pt x="419" y="282"/>
                </a:lnTo>
                <a:lnTo>
                  <a:pt x="405" y="284"/>
                </a:lnTo>
                <a:lnTo>
                  <a:pt x="392" y="286"/>
                </a:lnTo>
                <a:lnTo>
                  <a:pt x="379" y="288"/>
                </a:lnTo>
                <a:lnTo>
                  <a:pt x="365" y="290"/>
                </a:lnTo>
                <a:lnTo>
                  <a:pt x="354" y="292"/>
                </a:lnTo>
                <a:lnTo>
                  <a:pt x="342" y="294"/>
                </a:lnTo>
                <a:lnTo>
                  <a:pt x="333" y="296"/>
                </a:lnTo>
                <a:lnTo>
                  <a:pt x="321" y="298"/>
                </a:lnTo>
                <a:lnTo>
                  <a:pt x="311" y="298"/>
                </a:lnTo>
                <a:lnTo>
                  <a:pt x="304" y="300"/>
                </a:lnTo>
                <a:lnTo>
                  <a:pt x="294" y="300"/>
                </a:lnTo>
                <a:lnTo>
                  <a:pt x="286" y="301"/>
                </a:lnTo>
                <a:lnTo>
                  <a:pt x="281" y="301"/>
                </a:lnTo>
                <a:lnTo>
                  <a:pt x="273" y="303"/>
                </a:lnTo>
                <a:lnTo>
                  <a:pt x="267" y="303"/>
                </a:lnTo>
                <a:lnTo>
                  <a:pt x="262" y="305"/>
                </a:lnTo>
                <a:lnTo>
                  <a:pt x="258" y="305"/>
                </a:lnTo>
                <a:lnTo>
                  <a:pt x="254" y="305"/>
                </a:lnTo>
                <a:lnTo>
                  <a:pt x="250" y="305"/>
                </a:lnTo>
                <a:lnTo>
                  <a:pt x="246" y="305"/>
                </a:lnTo>
                <a:lnTo>
                  <a:pt x="244" y="305"/>
                </a:lnTo>
                <a:lnTo>
                  <a:pt x="242" y="307"/>
                </a:lnTo>
                <a:lnTo>
                  <a:pt x="240" y="307"/>
                </a:lnTo>
                <a:lnTo>
                  <a:pt x="238" y="305"/>
                </a:lnTo>
                <a:lnTo>
                  <a:pt x="235" y="305"/>
                </a:lnTo>
                <a:lnTo>
                  <a:pt x="231" y="305"/>
                </a:lnTo>
                <a:lnTo>
                  <a:pt x="227" y="303"/>
                </a:lnTo>
                <a:lnTo>
                  <a:pt x="221" y="303"/>
                </a:lnTo>
                <a:lnTo>
                  <a:pt x="215" y="301"/>
                </a:lnTo>
                <a:lnTo>
                  <a:pt x="210" y="300"/>
                </a:lnTo>
                <a:lnTo>
                  <a:pt x="202" y="298"/>
                </a:lnTo>
                <a:lnTo>
                  <a:pt x="194" y="296"/>
                </a:lnTo>
                <a:lnTo>
                  <a:pt x="187" y="294"/>
                </a:lnTo>
                <a:lnTo>
                  <a:pt x="177" y="292"/>
                </a:lnTo>
                <a:lnTo>
                  <a:pt x="167" y="290"/>
                </a:lnTo>
                <a:lnTo>
                  <a:pt x="158" y="288"/>
                </a:lnTo>
                <a:lnTo>
                  <a:pt x="146" y="286"/>
                </a:lnTo>
                <a:lnTo>
                  <a:pt x="133" y="284"/>
                </a:lnTo>
                <a:lnTo>
                  <a:pt x="121" y="280"/>
                </a:lnTo>
                <a:lnTo>
                  <a:pt x="106" y="278"/>
                </a:lnTo>
                <a:lnTo>
                  <a:pt x="91" y="277"/>
                </a:lnTo>
                <a:lnTo>
                  <a:pt x="79" y="273"/>
                </a:lnTo>
                <a:lnTo>
                  <a:pt x="66" y="271"/>
                </a:lnTo>
                <a:lnTo>
                  <a:pt x="56" y="269"/>
                </a:lnTo>
                <a:lnTo>
                  <a:pt x="47" y="267"/>
                </a:lnTo>
                <a:lnTo>
                  <a:pt x="37" y="265"/>
                </a:lnTo>
                <a:lnTo>
                  <a:pt x="29" y="261"/>
                </a:lnTo>
                <a:lnTo>
                  <a:pt x="22" y="259"/>
                </a:lnTo>
                <a:lnTo>
                  <a:pt x="16" y="257"/>
                </a:lnTo>
                <a:lnTo>
                  <a:pt x="12" y="255"/>
                </a:lnTo>
                <a:lnTo>
                  <a:pt x="8" y="252"/>
                </a:lnTo>
                <a:lnTo>
                  <a:pt x="4" y="250"/>
                </a:lnTo>
                <a:lnTo>
                  <a:pt x="2" y="248"/>
                </a:lnTo>
                <a:lnTo>
                  <a:pt x="0" y="246"/>
                </a:lnTo>
                <a:lnTo>
                  <a:pt x="0" y="242"/>
                </a:lnTo>
                <a:lnTo>
                  <a:pt x="0" y="240"/>
                </a:lnTo>
                <a:lnTo>
                  <a:pt x="2" y="238"/>
                </a:lnTo>
                <a:lnTo>
                  <a:pt x="6" y="234"/>
                </a:lnTo>
                <a:lnTo>
                  <a:pt x="12" y="230"/>
                </a:lnTo>
                <a:lnTo>
                  <a:pt x="18" y="229"/>
                </a:lnTo>
                <a:lnTo>
                  <a:pt x="27" y="225"/>
                </a:lnTo>
                <a:lnTo>
                  <a:pt x="35" y="221"/>
                </a:lnTo>
                <a:lnTo>
                  <a:pt x="47" y="217"/>
                </a:lnTo>
                <a:lnTo>
                  <a:pt x="60" y="213"/>
                </a:lnTo>
                <a:lnTo>
                  <a:pt x="73" y="209"/>
                </a:lnTo>
                <a:lnTo>
                  <a:pt x="89" y="207"/>
                </a:lnTo>
                <a:lnTo>
                  <a:pt x="106" y="204"/>
                </a:lnTo>
                <a:lnTo>
                  <a:pt x="125" y="200"/>
                </a:lnTo>
                <a:lnTo>
                  <a:pt x="146" y="198"/>
                </a:lnTo>
                <a:lnTo>
                  <a:pt x="169" y="194"/>
                </a:lnTo>
                <a:lnTo>
                  <a:pt x="192" y="1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58"/>
          <p:cNvSpPr/>
          <p:nvPr/>
        </p:nvSpPr>
        <p:spPr>
          <a:xfrm>
            <a:off x="6689880" y="2763720"/>
            <a:ext cx="334800" cy="212760"/>
          </a:xfrm>
          <a:custGeom>
            <a:avLst/>
            <a:gdLst/>
            <a:ahLst/>
            <a:rect l="l" t="t" r="r" b="b"/>
            <a:pathLst>
              <a:path w="423" h="268">
                <a:moveTo>
                  <a:pt x="27" y="25"/>
                </a:moveTo>
                <a:lnTo>
                  <a:pt x="31" y="23"/>
                </a:lnTo>
                <a:lnTo>
                  <a:pt x="37" y="21"/>
                </a:lnTo>
                <a:lnTo>
                  <a:pt x="43" y="17"/>
                </a:lnTo>
                <a:lnTo>
                  <a:pt x="48" y="15"/>
                </a:lnTo>
                <a:lnTo>
                  <a:pt x="56" y="13"/>
                </a:lnTo>
                <a:lnTo>
                  <a:pt x="64" y="11"/>
                </a:lnTo>
                <a:lnTo>
                  <a:pt x="73" y="9"/>
                </a:lnTo>
                <a:lnTo>
                  <a:pt x="81" y="7"/>
                </a:lnTo>
                <a:lnTo>
                  <a:pt x="93" y="5"/>
                </a:lnTo>
                <a:lnTo>
                  <a:pt x="102" y="4"/>
                </a:lnTo>
                <a:lnTo>
                  <a:pt x="114" y="2"/>
                </a:lnTo>
                <a:lnTo>
                  <a:pt x="125" y="2"/>
                </a:lnTo>
                <a:lnTo>
                  <a:pt x="139" y="0"/>
                </a:lnTo>
                <a:lnTo>
                  <a:pt x="152" y="0"/>
                </a:lnTo>
                <a:lnTo>
                  <a:pt x="167" y="0"/>
                </a:lnTo>
                <a:lnTo>
                  <a:pt x="183" y="0"/>
                </a:lnTo>
                <a:lnTo>
                  <a:pt x="210" y="0"/>
                </a:lnTo>
                <a:lnTo>
                  <a:pt x="235" y="2"/>
                </a:lnTo>
                <a:lnTo>
                  <a:pt x="258" y="5"/>
                </a:lnTo>
                <a:lnTo>
                  <a:pt x="281" y="9"/>
                </a:lnTo>
                <a:lnTo>
                  <a:pt x="292" y="13"/>
                </a:lnTo>
                <a:lnTo>
                  <a:pt x="304" y="17"/>
                </a:lnTo>
                <a:lnTo>
                  <a:pt x="313" y="21"/>
                </a:lnTo>
                <a:lnTo>
                  <a:pt x="325" y="27"/>
                </a:lnTo>
                <a:lnTo>
                  <a:pt x="334" y="30"/>
                </a:lnTo>
                <a:lnTo>
                  <a:pt x="344" y="36"/>
                </a:lnTo>
                <a:lnTo>
                  <a:pt x="354" y="44"/>
                </a:lnTo>
                <a:lnTo>
                  <a:pt x="363" y="50"/>
                </a:lnTo>
                <a:lnTo>
                  <a:pt x="375" y="65"/>
                </a:lnTo>
                <a:lnTo>
                  <a:pt x="386" y="78"/>
                </a:lnTo>
                <a:lnTo>
                  <a:pt x="396" y="94"/>
                </a:lnTo>
                <a:lnTo>
                  <a:pt x="405" y="107"/>
                </a:lnTo>
                <a:lnTo>
                  <a:pt x="413" y="123"/>
                </a:lnTo>
                <a:lnTo>
                  <a:pt x="415" y="130"/>
                </a:lnTo>
                <a:lnTo>
                  <a:pt x="417" y="136"/>
                </a:lnTo>
                <a:lnTo>
                  <a:pt x="419" y="144"/>
                </a:lnTo>
                <a:lnTo>
                  <a:pt x="421" y="151"/>
                </a:lnTo>
                <a:lnTo>
                  <a:pt x="421" y="159"/>
                </a:lnTo>
                <a:lnTo>
                  <a:pt x="423" y="165"/>
                </a:lnTo>
                <a:lnTo>
                  <a:pt x="423" y="174"/>
                </a:lnTo>
                <a:lnTo>
                  <a:pt x="423" y="184"/>
                </a:lnTo>
                <a:lnTo>
                  <a:pt x="421" y="192"/>
                </a:lnTo>
                <a:lnTo>
                  <a:pt x="421" y="199"/>
                </a:lnTo>
                <a:lnTo>
                  <a:pt x="421" y="205"/>
                </a:lnTo>
                <a:lnTo>
                  <a:pt x="421" y="213"/>
                </a:lnTo>
                <a:lnTo>
                  <a:pt x="421" y="218"/>
                </a:lnTo>
                <a:lnTo>
                  <a:pt x="421" y="224"/>
                </a:lnTo>
                <a:lnTo>
                  <a:pt x="419" y="234"/>
                </a:lnTo>
                <a:lnTo>
                  <a:pt x="417" y="242"/>
                </a:lnTo>
                <a:lnTo>
                  <a:pt x="413" y="249"/>
                </a:lnTo>
                <a:lnTo>
                  <a:pt x="409" y="255"/>
                </a:lnTo>
                <a:lnTo>
                  <a:pt x="405" y="259"/>
                </a:lnTo>
                <a:lnTo>
                  <a:pt x="400" y="263"/>
                </a:lnTo>
                <a:lnTo>
                  <a:pt x="392" y="265"/>
                </a:lnTo>
                <a:lnTo>
                  <a:pt x="382" y="266"/>
                </a:lnTo>
                <a:lnTo>
                  <a:pt x="373" y="266"/>
                </a:lnTo>
                <a:lnTo>
                  <a:pt x="363" y="266"/>
                </a:lnTo>
                <a:lnTo>
                  <a:pt x="352" y="268"/>
                </a:lnTo>
                <a:lnTo>
                  <a:pt x="338" y="268"/>
                </a:lnTo>
                <a:lnTo>
                  <a:pt x="331" y="266"/>
                </a:lnTo>
                <a:lnTo>
                  <a:pt x="323" y="266"/>
                </a:lnTo>
                <a:lnTo>
                  <a:pt x="315" y="265"/>
                </a:lnTo>
                <a:lnTo>
                  <a:pt x="306" y="263"/>
                </a:lnTo>
                <a:lnTo>
                  <a:pt x="296" y="259"/>
                </a:lnTo>
                <a:lnTo>
                  <a:pt x="286" y="257"/>
                </a:lnTo>
                <a:lnTo>
                  <a:pt x="277" y="251"/>
                </a:lnTo>
                <a:lnTo>
                  <a:pt x="265" y="247"/>
                </a:lnTo>
                <a:lnTo>
                  <a:pt x="252" y="242"/>
                </a:lnTo>
                <a:lnTo>
                  <a:pt x="238" y="234"/>
                </a:lnTo>
                <a:lnTo>
                  <a:pt x="225" y="228"/>
                </a:lnTo>
                <a:lnTo>
                  <a:pt x="212" y="218"/>
                </a:lnTo>
                <a:lnTo>
                  <a:pt x="196" y="211"/>
                </a:lnTo>
                <a:lnTo>
                  <a:pt x="181" y="199"/>
                </a:lnTo>
                <a:lnTo>
                  <a:pt x="164" y="190"/>
                </a:lnTo>
                <a:lnTo>
                  <a:pt x="146" y="178"/>
                </a:lnTo>
                <a:lnTo>
                  <a:pt x="127" y="167"/>
                </a:lnTo>
                <a:lnTo>
                  <a:pt x="108" y="155"/>
                </a:lnTo>
                <a:lnTo>
                  <a:pt x="93" y="144"/>
                </a:lnTo>
                <a:lnTo>
                  <a:pt x="77" y="134"/>
                </a:lnTo>
                <a:lnTo>
                  <a:pt x="64" y="124"/>
                </a:lnTo>
                <a:lnTo>
                  <a:pt x="50" y="117"/>
                </a:lnTo>
                <a:lnTo>
                  <a:pt x="39" y="109"/>
                </a:lnTo>
                <a:lnTo>
                  <a:pt x="29" y="101"/>
                </a:lnTo>
                <a:lnTo>
                  <a:pt x="22" y="94"/>
                </a:lnTo>
                <a:lnTo>
                  <a:pt x="14" y="88"/>
                </a:lnTo>
                <a:lnTo>
                  <a:pt x="8" y="82"/>
                </a:lnTo>
                <a:lnTo>
                  <a:pt x="4" y="76"/>
                </a:lnTo>
                <a:lnTo>
                  <a:pt x="2" y="73"/>
                </a:lnTo>
                <a:lnTo>
                  <a:pt x="0" y="69"/>
                </a:lnTo>
                <a:lnTo>
                  <a:pt x="0" y="65"/>
                </a:lnTo>
                <a:lnTo>
                  <a:pt x="2" y="63"/>
                </a:lnTo>
                <a:lnTo>
                  <a:pt x="2" y="59"/>
                </a:lnTo>
                <a:lnTo>
                  <a:pt x="4" y="53"/>
                </a:lnTo>
                <a:lnTo>
                  <a:pt x="6" y="50"/>
                </a:lnTo>
                <a:lnTo>
                  <a:pt x="10" y="44"/>
                </a:lnTo>
                <a:lnTo>
                  <a:pt x="14" y="40"/>
                </a:lnTo>
                <a:lnTo>
                  <a:pt x="18" y="34"/>
                </a:lnTo>
                <a:lnTo>
                  <a:pt x="27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59"/>
          <p:cNvSpPr/>
          <p:nvPr/>
        </p:nvSpPr>
        <p:spPr>
          <a:xfrm>
            <a:off x="6024600" y="3757680"/>
            <a:ext cx="228600" cy="172800"/>
          </a:xfrm>
          <a:custGeom>
            <a:avLst/>
            <a:gdLst/>
            <a:ahLst/>
            <a:rect l="l" t="t" r="r" b="b"/>
            <a:pathLst>
              <a:path w="288" h="219">
                <a:moveTo>
                  <a:pt x="228" y="219"/>
                </a:moveTo>
                <a:lnTo>
                  <a:pt x="220" y="217"/>
                </a:lnTo>
                <a:lnTo>
                  <a:pt x="213" y="215"/>
                </a:lnTo>
                <a:lnTo>
                  <a:pt x="203" y="209"/>
                </a:lnTo>
                <a:lnTo>
                  <a:pt x="193" y="204"/>
                </a:lnTo>
                <a:lnTo>
                  <a:pt x="182" y="196"/>
                </a:lnTo>
                <a:lnTo>
                  <a:pt x="170" y="186"/>
                </a:lnTo>
                <a:lnTo>
                  <a:pt x="157" y="175"/>
                </a:lnTo>
                <a:lnTo>
                  <a:pt x="144" y="163"/>
                </a:lnTo>
                <a:lnTo>
                  <a:pt x="130" y="148"/>
                </a:lnTo>
                <a:lnTo>
                  <a:pt x="115" y="133"/>
                </a:lnTo>
                <a:lnTo>
                  <a:pt x="97" y="113"/>
                </a:lnTo>
                <a:lnTo>
                  <a:pt x="80" y="94"/>
                </a:lnTo>
                <a:lnTo>
                  <a:pt x="61" y="73"/>
                </a:lnTo>
                <a:lnTo>
                  <a:pt x="42" y="50"/>
                </a:lnTo>
                <a:lnTo>
                  <a:pt x="21" y="27"/>
                </a:lnTo>
                <a:lnTo>
                  <a:pt x="0" y="0"/>
                </a:lnTo>
                <a:lnTo>
                  <a:pt x="19" y="0"/>
                </a:lnTo>
                <a:lnTo>
                  <a:pt x="38" y="2"/>
                </a:lnTo>
                <a:lnTo>
                  <a:pt x="55" y="2"/>
                </a:lnTo>
                <a:lnTo>
                  <a:pt x="74" y="2"/>
                </a:lnTo>
                <a:lnTo>
                  <a:pt x="90" y="4"/>
                </a:lnTo>
                <a:lnTo>
                  <a:pt x="105" y="6"/>
                </a:lnTo>
                <a:lnTo>
                  <a:pt x="121" y="8"/>
                </a:lnTo>
                <a:lnTo>
                  <a:pt x="136" y="8"/>
                </a:lnTo>
                <a:lnTo>
                  <a:pt x="149" y="10"/>
                </a:lnTo>
                <a:lnTo>
                  <a:pt x="163" y="12"/>
                </a:lnTo>
                <a:lnTo>
                  <a:pt x="174" y="16"/>
                </a:lnTo>
                <a:lnTo>
                  <a:pt x="186" y="17"/>
                </a:lnTo>
                <a:lnTo>
                  <a:pt x="197" y="19"/>
                </a:lnTo>
                <a:lnTo>
                  <a:pt x="209" y="21"/>
                </a:lnTo>
                <a:lnTo>
                  <a:pt x="218" y="23"/>
                </a:lnTo>
                <a:lnTo>
                  <a:pt x="228" y="27"/>
                </a:lnTo>
                <a:lnTo>
                  <a:pt x="240" y="37"/>
                </a:lnTo>
                <a:lnTo>
                  <a:pt x="251" y="48"/>
                </a:lnTo>
                <a:lnTo>
                  <a:pt x="263" y="60"/>
                </a:lnTo>
                <a:lnTo>
                  <a:pt x="270" y="73"/>
                </a:lnTo>
                <a:lnTo>
                  <a:pt x="278" y="87"/>
                </a:lnTo>
                <a:lnTo>
                  <a:pt x="280" y="92"/>
                </a:lnTo>
                <a:lnTo>
                  <a:pt x="282" y="100"/>
                </a:lnTo>
                <a:lnTo>
                  <a:pt x="284" y="108"/>
                </a:lnTo>
                <a:lnTo>
                  <a:pt x="286" y="115"/>
                </a:lnTo>
                <a:lnTo>
                  <a:pt x="288" y="121"/>
                </a:lnTo>
                <a:lnTo>
                  <a:pt x="288" y="129"/>
                </a:lnTo>
                <a:lnTo>
                  <a:pt x="288" y="138"/>
                </a:lnTo>
                <a:lnTo>
                  <a:pt x="286" y="146"/>
                </a:lnTo>
                <a:lnTo>
                  <a:pt x="284" y="156"/>
                </a:lnTo>
                <a:lnTo>
                  <a:pt x="284" y="163"/>
                </a:lnTo>
                <a:lnTo>
                  <a:pt x="280" y="169"/>
                </a:lnTo>
                <a:lnTo>
                  <a:pt x="278" y="177"/>
                </a:lnTo>
                <a:lnTo>
                  <a:pt x="274" y="183"/>
                </a:lnTo>
                <a:lnTo>
                  <a:pt x="270" y="188"/>
                </a:lnTo>
                <a:lnTo>
                  <a:pt x="263" y="198"/>
                </a:lnTo>
                <a:lnTo>
                  <a:pt x="251" y="206"/>
                </a:lnTo>
                <a:lnTo>
                  <a:pt x="240" y="213"/>
                </a:lnTo>
                <a:lnTo>
                  <a:pt x="228" y="2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60"/>
          <p:cNvSpPr/>
          <p:nvPr/>
        </p:nvSpPr>
        <p:spPr>
          <a:xfrm>
            <a:off x="5405400" y="3473280"/>
            <a:ext cx="612720" cy="1016280"/>
          </a:xfrm>
          <a:custGeom>
            <a:avLst/>
            <a:gdLst/>
            <a:ahLst/>
            <a:rect l="l" t="t" r="r" b="b"/>
            <a:pathLst>
              <a:path w="774" h="1280">
                <a:moveTo>
                  <a:pt x="519" y="768"/>
                </a:moveTo>
                <a:lnTo>
                  <a:pt x="501" y="793"/>
                </a:lnTo>
                <a:lnTo>
                  <a:pt x="486" y="820"/>
                </a:lnTo>
                <a:lnTo>
                  <a:pt x="469" y="845"/>
                </a:lnTo>
                <a:lnTo>
                  <a:pt x="451" y="870"/>
                </a:lnTo>
                <a:lnTo>
                  <a:pt x="432" y="895"/>
                </a:lnTo>
                <a:lnTo>
                  <a:pt x="413" y="920"/>
                </a:lnTo>
                <a:lnTo>
                  <a:pt x="375" y="966"/>
                </a:lnTo>
                <a:lnTo>
                  <a:pt x="334" y="1012"/>
                </a:lnTo>
                <a:lnTo>
                  <a:pt x="313" y="1035"/>
                </a:lnTo>
                <a:lnTo>
                  <a:pt x="292" y="1056"/>
                </a:lnTo>
                <a:lnTo>
                  <a:pt x="271" y="1077"/>
                </a:lnTo>
                <a:lnTo>
                  <a:pt x="250" y="1098"/>
                </a:lnTo>
                <a:lnTo>
                  <a:pt x="229" y="1117"/>
                </a:lnTo>
                <a:lnTo>
                  <a:pt x="206" y="1138"/>
                </a:lnTo>
                <a:lnTo>
                  <a:pt x="183" y="1158"/>
                </a:lnTo>
                <a:lnTo>
                  <a:pt x="160" y="1177"/>
                </a:lnTo>
                <a:lnTo>
                  <a:pt x="140" y="1194"/>
                </a:lnTo>
                <a:lnTo>
                  <a:pt x="121" y="1211"/>
                </a:lnTo>
                <a:lnTo>
                  <a:pt x="104" y="1225"/>
                </a:lnTo>
                <a:lnTo>
                  <a:pt x="87" y="1236"/>
                </a:lnTo>
                <a:lnTo>
                  <a:pt x="73" y="1248"/>
                </a:lnTo>
                <a:lnTo>
                  <a:pt x="60" y="1255"/>
                </a:lnTo>
                <a:lnTo>
                  <a:pt x="48" y="1263"/>
                </a:lnTo>
                <a:lnTo>
                  <a:pt x="37" y="1271"/>
                </a:lnTo>
                <a:lnTo>
                  <a:pt x="27" y="1275"/>
                </a:lnTo>
                <a:lnTo>
                  <a:pt x="20" y="1279"/>
                </a:lnTo>
                <a:lnTo>
                  <a:pt x="14" y="1280"/>
                </a:lnTo>
                <a:lnTo>
                  <a:pt x="8" y="1280"/>
                </a:lnTo>
                <a:lnTo>
                  <a:pt x="4" y="1280"/>
                </a:lnTo>
                <a:lnTo>
                  <a:pt x="2" y="1279"/>
                </a:lnTo>
                <a:lnTo>
                  <a:pt x="0" y="1275"/>
                </a:lnTo>
                <a:lnTo>
                  <a:pt x="0" y="1271"/>
                </a:lnTo>
                <a:lnTo>
                  <a:pt x="2" y="1265"/>
                </a:lnTo>
                <a:lnTo>
                  <a:pt x="4" y="1257"/>
                </a:lnTo>
                <a:lnTo>
                  <a:pt x="8" y="1248"/>
                </a:lnTo>
                <a:lnTo>
                  <a:pt x="14" y="1238"/>
                </a:lnTo>
                <a:lnTo>
                  <a:pt x="21" y="1227"/>
                </a:lnTo>
                <a:lnTo>
                  <a:pt x="29" y="1215"/>
                </a:lnTo>
                <a:lnTo>
                  <a:pt x="39" y="1202"/>
                </a:lnTo>
                <a:lnTo>
                  <a:pt x="50" y="1186"/>
                </a:lnTo>
                <a:lnTo>
                  <a:pt x="64" y="1169"/>
                </a:lnTo>
                <a:lnTo>
                  <a:pt x="77" y="1152"/>
                </a:lnTo>
                <a:lnTo>
                  <a:pt x="92" y="1135"/>
                </a:lnTo>
                <a:lnTo>
                  <a:pt x="108" y="1115"/>
                </a:lnTo>
                <a:lnTo>
                  <a:pt x="127" y="1094"/>
                </a:lnTo>
                <a:lnTo>
                  <a:pt x="146" y="1073"/>
                </a:lnTo>
                <a:lnTo>
                  <a:pt x="165" y="1052"/>
                </a:lnTo>
                <a:lnTo>
                  <a:pt x="185" y="1029"/>
                </a:lnTo>
                <a:lnTo>
                  <a:pt x="225" y="983"/>
                </a:lnTo>
                <a:lnTo>
                  <a:pt x="261" y="935"/>
                </a:lnTo>
                <a:lnTo>
                  <a:pt x="300" y="885"/>
                </a:lnTo>
                <a:lnTo>
                  <a:pt x="334" y="835"/>
                </a:lnTo>
                <a:lnTo>
                  <a:pt x="369" y="783"/>
                </a:lnTo>
                <a:lnTo>
                  <a:pt x="402" y="730"/>
                </a:lnTo>
                <a:lnTo>
                  <a:pt x="434" y="678"/>
                </a:lnTo>
                <a:lnTo>
                  <a:pt x="442" y="664"/>
                </a:lnTo>
                <a:lnTo>
                  <a:pt x="450" y="649"/>
                </a:lnTo>
                <a:lnTo>
                  <a:pt x="457" y="635"/>
                </a:lnTo>
                <a:lnTo>
                  <a:pt x="465" y="620"/>
                </a:lnTo>
                <a:lnTo>
                  <a:pt x="474" y="605"/>
                </a:lnTo>
                <a:lnTo>
                  <a:pt x="482" y="589"/>
                </a:lnTo>
                <a:lnTo>
                  <a:pt x="490" y="572"/>
                </a:lnTo>
                <a:lnTo>
                  <a:pt x="499" y="555"/>
                </a:lnTo>
                <a:lnTo>
                  <a:pt x="507" y="538"/>
                </a:lnTo>
                <a:lnTo>
                  <a:pt x="515" y="520"/>
                </a:lnTo>
                <a:lnTo>
                  <a:pt x="524" y="501"/>
                </a:lnTo>
                <a:lnTo>
                  <a:pt x="534" y="482"/>
                </a:lnTo>
                <a:lnTo>
                  <a:pt x="542" y="463"/>
                </a:lnTo>
                <a:lnTo>
                  <a:pt x="551" y="442"/>
                </a:lnTo>
                <a:lnTo>
                  <a:pt x="559" y="422"/>
                </a:lnTo>
                <a:lnTo>
                  <a:pt x="569" y="401"/>
                </a:lnTo>
                <a:lnTo>
                  <a:pt x="578" y="380"/>
                </a:lnTo>
                <a:lnTo>
                  <a:pt x="588" y="357"/>
                </a:lnTo>
                <a:lnTo>
                  <a:pt x="595" y="334"/>
                </a:lnTo>
                <a:lnTo>
                  <a:pt x="605" y="313"/>
                </a:lnTo>
                <a:lnTo>
                  <a:pt x="615" y="288"/>
                </a:lnTo>
                <a:lnTo>
                  <a:pt x="624" y="265"/>
                </a:lnTo>
                <a:lnTo>
                  <a:pt x="643" y="215"/>
                </a:lnTo>
                <a:lnTo>
                  <a:pt x="663" y="165"/>
                </a:lnTo>
                <a:lnTo>
                  <a:pt x="682" y="111"/>
                </a:lnTo>
                <a:lnTo>
                  <a:pt x="701" y="56"/>
                </a:lnTo>
                <a:lnTo>
                  <a:pt x="722" y="0"/>
                </a:lnTo>
                <a:lnTo>
                  <a:pt x="730" y="16"/>
                </a:lnTo>
                <a:lnTo>
                  <a:pt x="737" y="33"/>
                </a:lnTo>
                <a:lnTo>
                  <a:pt x="745" y="48"/>
                </a:lnTo>
                <a:lnTo>
                  <a:pt x="751" y="65"/>
                </a:lnTo>
                <a:lnTo>
                  <a:pt x="757" y="81"/>
                </a:lnTo>
                <a:lnTo>
                  <a:pt x="760" y="94"/>
                </a:lnTo>
                <a:lnTo>
                  <a:pt x="764" y="110"/>
                </a:lnTo>
                <a:lnTo>
                  <a:pt x="768" y="123"/>
                </a:lnTo>
                <a:lnTo>
                  <a:pt x="770" y="136"/>
                </a:lnTo>
                <a:lnTo>
                  <a:pt x="772" y="150"/>
                </a:lnTo>
                <a:lnTo>
                  <a:pt x="772" y="161"/>
                </a:lnTo>
                <a:lnTo>
                  <a:pt x="774" y="175"/>
                </a:lnTo>
                <a:lnTo>
                  <a:pt x="774" y="186"/>
                </a:lnTo>
                <a:lnTo>
                  <a:pt x="772" y="196"/>
                </a:lnTo>
                <a:lnTo>
                  <a:pt x="772" y="207"/>
                </a:lnTo>
                <a:lnTo>
                  <a:pt x="770" y="217"/>
                </a:lnTo>
                <a:lnTo>
                  <a:pt x="764" y="236"/>
                </a:lnTo>
                <a:lnTo>
                  <a:pt x="759" y="257"/>
                </a:lnTo>
                <a:lnTo>
                  <a:pt x="751" y="280"/>
                </a:lnTo>
                <a:lnTo>
                  <a:pt x="743" y="305"/>
                </a:lnTo>
                <a:lnTo>
                  <a:pt x="739" y="319"/>
                </a:lnTo>
                <a:lnTo>
                  <a:pt x="736" y="330"/>
                </a:lnTo>
                <a:lnTo>
                  <a:pt x="732" y="346"/>
                </a:lnTo>
                <a:lnTo>
                  <a:pt x="726" y="359"/>
                </a:lnTo>
                <a:lnTo>
                  <a:pt x="722" y="374"/>
                </a:lnTo>
                <a:lnTo>
                  <a:pt x="718" y="390"/>
                </a:lnTo>
                <a:lnTo>
                  <a:pt x="714" y="405"/>
                </a:lnTo>
                <a:lnTo>
                  <a:pt x="709" y="422"/>
                </a:lnTo>
                <a:lnTo>
                  <a:pt x="703" y="438"/>
                </a:lnTo>
                <a:lnTo>
                  <a:pt x="695" y="457"/>
                </a:lnTo>
                <a:lnTo>
                  <a:pt x="688" y="474"/>
                </a:lnTo>
                <a:lnTo>
                  <a:pt x="678" y="493"/>
                </a:lnTo>
                <a:lnTo>
                  <a:pt x="668" y="513"/>
                </a:lnTo>
                <a:lnTo>
                  <a:pt x="659" y="534"/>
                </a:lnTo>
                <a:lnTo>
                  <a:pt x="647" y="553"/>
                </a:lnTo>
                <a:lnTo>
                  <a:pt x="636" y="574"/>
                </a:lnTo>
                <a:lnTo>
                  <a:pt x="624" y="597"/>
                </a:lnTo>
                <a:lnTo>
                  <a:pt x="611" y="618"/>
                </a:lnTo>
                <a:lnTo>
                  <a:pt x="597" y="643"/>
                </a:lnTo>
                <a:lnTo>
                  <a:pt x="582" y="666"/>
                </a:lnTo>
                <a:lnTo>
                  <a:pt x="567" y="691"/>
                </a:lnTo>
                <a:lnTo>
                  <a:pt x="551" y="716"/>
                </a:lnTo>
                <a:lnTo>
                  <a:pt x="536" y="741"/>
                </a:lnTo>
                <a:lnTo>
                  <a:pt x="519" y="7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1"/>
          <p:cNvSpPr/>
          <p:nvPr/>
        </p:nvSpPr>
        <p:spPr>
          <a:xfrm>
            <a:off x="5907240" y="2770200"/>
            <a:ext cx="241200" cy="2154240"/>
          </a:xfrm>
          <a:custGeom>
            <a:avLst/>
            <a:gdLst/>
            <a:ahLst/>
            <a:rect l="l" t="t" r="r" b="b"/>
            <a:pathLst>
              <a:path w="303" h="2714">
                <a:moveTo>
                  <a:pt x="27" y="94"/>
                </a:moveTo>
                <a:lnTo>
                  <a:pt x="21" y="87"/>
                </a:lnTo>
                <a:lnTo>
                  <a:pt x="15" y="79"/>
                </a:lnTo>
                <a:lnTo>
                  <a:pt x="11" y="73"/>
                </a:lnTo>
                <a:lnTo>
                  <a:pt x="7" y="66"/>
                </a:lnTo>
                <a:lnTo>
                  <a:pt x="4" y="60"/>
                </a:lnTo>
                <a:lnTo>
                  <a:pt x="2" y="52"/>
                </a:lnTo>
                <a:lnTo>
                  <a:pt x="0" y="46"/>
                </a:lnTo>
                <a:lnTo>
                  <a:pt x="0" y="41"/>
                </a:lnTo>
                <a:lnTo>
                  <a:pt x="0" y="35"/>
                </a:lnTo>
                <a:lnTo>
                  <a:pt x="0" y="29"/>
                </a:lnTo>
                <a:lnTo>
                  <a:pt x="0" y="23"/>
                </a:lnTo>
                <a:lnTo>
                  <a:pt x="2" y="20"/>
                </a:lnTo>
                <a:lnTo>
                  <a:pt x="4" y="14"/>
                </a:lnTo>
                <a:lnTo>
                  <a:pt x="7" y="10"/>
                </a:lnTo>
                <a:lnTo>
                  <a:pt x="11" y="8"/>
                </a:lnTo>
                <a:lnTo>
                  <a:pt x="15" y="4"/>
                </a:lnTo>
                <a:lnTo>
                  <a:pt x="21" y="2"/>
                </a:lnTo>
                <a:lnTo>
                  <a:pt x="27" y="0"/>
                </a:lnTo>
                <a:lnTo>
                  <a:pt x="32" y="0"/>
                </a:lnTo>
                <a:lnTo>
                  <a:pt x="40" y="0"/>
                </a:lnTo>
                <a:lnTo>
                  <a:pt x="48" y="0"/>
                </a:lnTo>
                <a:lnTo>
                  <a:pt x="57" y="0"/>
                </a:lnTo>
                <a:lnTo>
                  <a:pt x="67" y="2"/>
                </a:lnTo>
                <a:lnTo>
                  <a:pt x="77" y="4"/>
                </a:lnTo>
                <a:lnTo>
                  <a:pt x="88" y="8"/>
                </a:lnTo>
                <a:lnTo>
                  <a:pt x="100" y="10"/>
                </a:lnTo>
                <a:lnTo>
                  <a:pt x="111" y="14"/>
                </a:lnTo>
                <a:lnTo>
                  <a:pt x="125" y="20"/>
                </a:lnTo>
                <a:lnTo>
                  <a:pt x="138" y="23"/>
                </a:lnTo>
                <a:lnTo>
                  <a:pt x="153" y="29"/>
                </a:lnTo>
                <a:lnTo>
                  <a:pt x="169" y="37"/>
                </a:lnTo>
                <a:lnTo>
                  <a:pt x="184" y="43"/>
                </a:lnTo>
                <a:lnTo>
                  <a:pt x="197" y="50"/>
                </a:lnTo>
                <a:lnTo>
                  <a:pt x="213" y="58"/>
                </a:lnTo>
                <a:lnTo>
                  <a:pt x="226" y="66"/>
                </a:lnTo>
                <a:lnTo>
                  <a:pt x="238" y="71"/>
                </a:lnTo>
                <a:lnTo>
                  <a:pt x="247" y="79"/>
                </a:lnTo>
                <a:lnTo>
                  <a:pt x="259" y="87"/>
                </a:lnTo>
                <a:lnTo>
                  <a:pt x="267" y="92"/>
                </a:lnTo>
                <a:lnTo>
                  <a:pt x="274" y="100"/>
                </a:lnTo>
                <a:lnTo>
                  <a:pt x="282" y="106"/>
                </a:lnTo>
                <a:lnTo>
                  <a:pt x="288" y="112"/>
                </a:lnTo>
                <a:lnTo>
                  <a:pt x="292" y="117"/>
                </a:lnTo>
                <a:lnTo>
                  <a:pt x="295" y="123"/>
                </a:lnTo>
                <a:lnTo>
                  <a:pt x="299" y="129"/>
                </a:lnTo>
                <a:lnTo>
                  <a:pt x="301" y="135"/>
                </a:lnTo>
                <a:lnTo>
                  <a:pt x="303" y="140"/>
                </a:lnTo>
                <a:lnTo>
                  <a:pt x="303" y="146"/>
                </a:lnTo>
                <a:lnTo>
                  <a:pt x="299" y="156"/>
                </a:lnTo>
                <a:lnTo>
                  <a:pt x="295" y="165"/>
                </a:lnTo>
                <a:lnTo>
                  <a:pt x="293" y="175"/>
                </a:lnTo>
                <a:lnTo>
                  <a:pt x="292" y="185"/>
                </a:lnTo>
                <a:lnTo>
                  <a:pt x="290" y="192"/>
                </a:lnTo>
                <a:lnTo>
                  <a:pt x="286" y="202"/>
                </a:lnTo>
                <a:lnTo>
                  <a:pt x="284" y="211"/>
                </a:lnTo>
                <a:lnTo>
                  <a:pt x="280" y="223"/>
                </a:lnTo>
                <a:lnTo>
                  <a:pt x="274" y="236"/>
                </a:lnTo>
                <a:lnTo>
                  <a:pt x="270" y="252"/>
                </a:lnTo>
                <a:lnTo>
                  <a:pt x="267" y="267"/>
                </a:lnTo>
                <a:lnTo>
                  <a:pt x="261" y="283"/>
                </a:lnTo>
                <a:lnTo>
                  <a:pt x="257" y="300"/>
                </a:lnTo>
                <a:lnTo>
                  <a:pt x="251" y="319"/>
                </a:lnTo>
                <a:lnTo>
                  <a:pt x="249" y="329"/>
                </a:lnTo>
                <a:lnTo>
                  <a:pt x="247" y="340"/>
                </a:lnTo>
                <a:lnTo>
                  <a:pt x="245" y="352"/>
                </a:lnTo>
                <a:lnTo>
                  <a:pt x="244" y="363"/>
                </a:lnTo>
                <a:lnTo>
                  <a:pt x="242" y="375"/>
                </a:lnTo>
                <a:lnTo>
                  <a:pt x="240" y="390"/>
                </a:lnTo>
                <a:lnTo>
                  <a:pt x="238" y="405"/>
                </a:lnTo>
                <a:lnTo>
                  <a:pt x="236" y="423"/>
                </a:lnTo>
                <a:lnTo>
                  <a:pt x="234" y="442"/>
                </a:lnTo>
                <a:lnTo>
                  <a:pt x="234" y="461"/>
                </a:lnTo>
                <a:lnTo>
                  <a:pt x="232" y="482"/>
                </a:lnTo>
                <a:lnTo>
                  <a:pt x="232" y="505"/>
                </a:lnTo>
                <a:lnTo>
                  <a:pt x="230" y="528"/>
                </a:lnTo>
                <a:lnTo>
                  <a:pt x="228" y="555"/>
                </a:lnTo>
                <a:lnTo>
                  <a:pt x="228" y="582"/>
                </a:lnTo>
                <a:lnTo>
                  <a:pt x="226" y="609"/>
                </a:lnTo>
                <a:lnTo>
                  <a:pt x="224" y="638"/>
                </a:lnTo>
                <a:lnTo>
                  <a:pt x="222" y="668"/>
                </a:lnTo>
                <a:lnTo>
                  <a:pt x="221" y="701"/>
                </a:lnTo>
                <a:lnTo>
                  <a:pt x="219" y="734"/>
                </a:lnTo>
                <a:lnTo>
                  <a:pt x="217" y="766"/>
                </a:lnTo>
                <a:lnTo>
                  <a:pt x="215" y="799"/>
                </a:lnTo>
                <a:lnTo>
                  <a:pt x="213" y="831"/>
                </a:lnTo>
                <a:lnTo>
                  <a:pt x="213" y="862"/>
                </a:lnTo>
                <a:lnTo>
                  <a:pt x="211" y="895"/>
                </a:lnTo>
                <a:lnTo>
                  <a:pt x="211" y="924"/>
                </a:lnTo>
                <a:lnTo>
                  <a:pt x="209" y="954"/>
                </a:lnTo>
                <a:lnTo>
                  <a:pt x="209" y="983"/>
                </a:lnTo>
                <a:lnTo>
                  <a:pt x="209" y="1012"/>
                </a:lnTo>
                <a:lnTo>
                  <a:pt x="207" y="1039"/>
                </a:lnTo>
                <a:lnTo>
                  <a:pt x="207" y="1066"/>
                </a:lnTo>
                <a:lnTo>
                  <a:pt x="207" y="1093"/>
                </a:lnTo>
                <a:lnTo>
                  <a:pt x="207" y="1119"/>
                </a:lnTo>
                <a:lnTo>
                  <a:pt x="207" y="1144"/>
                </a:lnTo>
                <a:lnTo>
                  <a:pt x="207" y="1169"/>
                </a:lnTo>
                <a:lnTo>
                  <a:pt x="207" y="1194"/>
                </a:lnTo>
                <a:lnTo>
                  <a:pt x="207" y="1208"/>
                </a:lnTo>
                <a:lnTo>
                  <a:pt x="207" y="1221"/>
                </a:lnTo>
                <a:lnTo>
                  <a:pt x="207" y="1236"/>
                </a:lnTo>
                <a:lnTo>
                  <a:pt x="207" y="1252"/>
                </a:lnTo>
                <a:lnTo>
                  <a:pt x="207" y="1267"/>
                </a:lnTo>
                <a:lnTo>
                  <a:pt x="207" y="1284"/>
                </a:lnTo>
                <a:lnTo>
                  <a:pt x="207" y="1302"/>
                </a:lnTo>
                <a:lnTo>
                  <a:pt x="207" y="1319"/>
                </a:lnTo>
                <a:lnTo>
                  <a:pt x="207" y="1336"/>
                </a:lnTo>
                <a:lnTo>
                  <a:pt x="207" y="1356"/>
                </a:lnTo>
                <a:lnTo>
                  <a:pt x="207" y="1375"/>
                </a:lnTo>
                <a:lnTo>
                  <a:pt x="207" y="1396"/>
                </a:lnTo>
                <a:lnTo>
                  <a:pt x="207" y="1417"/>
                </a:lnTo>
                <a:lnTo>
                  <a:pt x="207" y="1438"/>
                </a:lnTo>
                <a:lnTo>
                  <a:pt x="207" y="1461"/>
                </a:lnTo>
                <a:lnTo>
                  <a:pt x="207" y="1482"/>
                </a:lnTo>
                <a:lnTo>
                  <a:pt x="207" y="1507"/>
                </a:lnTo>
                <a:lnTo>
                  <a:pt x="207" y="1530"/>
                </a:lnTo>
                <a:lnTo>
                  <a:pt x="207" y="1555"/>
                </a:lnTo>
                <a:lnTo>
                  <a:pt x="207" y="1580"/>
                </a:lnTo>
                <a:lnTo>
                  <a:pt x="207" y="1607"/>
                </a:lnTo>
                <a:lnTo>
                  <a:pt x="207" y="1634"/>
                </a:lnTo>
                <a:lnTo>
                  <a:pt x="207" y="1661"/>
                </a:lnTo>
                <a:lnTo>
                  <a:pt x="207" y="1688"/>
                </a:lnTo>
                <a:lnTo>
                  <a:pt x="207" y="1716"/>
                </a:lnTo>
                <a:lnTo>
                  <a:pt x="207" y="1745"/>
                </a:lnTo>
                <a:lnTo>
                  <a:pt x="207" y="1776"/>
                </a:lnTo>
                <a:lnTo>
                  <a:pt x="207" y="1807"/>
                </a:lnTo>
                <a:lnTo>
                  <a:pt x="207" y="1837"/>
                </a:lnTo>
                <a:lnTo>
                  <a:pt x="207" y="1870"/>
                </a:lnTo>
                <a:lnTo>
                  <a:pt x="207" y="1903"/>
                </a:lnTo>
                <a:lnTo>
                  <a:pt x="207" y="1935"/>
                </a:lnTo>
                <a:lnTo>
                  <a:pt x="207" y="1968"/>
                </a:lnTo>
                <a:lnTo>
                  <a:pt x="207" y="2000"/>
                </a:lnTo>
                <a:lnTo>
                  <a:pt x="207" y="2033"/>
                </a:lnTo>
                <a:lnTo>
                  <a:pt x="207" y="2064"/>
                </a:lnTo>
                <a:lnTo>
                  <a:pt x="207" y="2093"/>
                </a:lnTo>
                <a:lnTo>
                  <a:pt x="205" y="2121"/>
                </a:lnTo>
                <a:lnTo>
                  <a:pt x="205" y="2150"/>
                </a:lnTo>
                <a:lnTo>
                  <a:pt x="205" y="2177"/>
                </a:lnTo>
                <a:lnTo>
                  <a:pt x="203" y="2204"/>
                </a:lnTo>
                <a:lnTo>
                  <a:pt x="203" y="2231"/>
                </a:lnTo>
                <a:lnTo>
                  <a:pt x="203" y="2256"/>
                </a:lnTo>
                <a:lnTo>
                  <a:pt x="201" y="2279"/>
                </a:lnTo>
                <a:lnTo>
                  <a:pt x="201" y="2302"/>
                </a:lnTo>
                <a:lnTo>
                  <a:pt x="199" y="2325"/>
                </a:lnTo>
                <a:lnTo>
                  <a:pt x="199" y="2348"/>
                </a:lnTo>
                <a:lnTo>
                  <a:pt x="197" y="2369"/>
                </a:lnTo>
                <a:lnTo>
                  <a:pt x="197" y="2388"/>
                </a:lnTo>
                <a:lnTo>
                  <a:pt x="196" y="2407"/>
                </a:lnTo>
                <a:lnTo>
                  <a:pt x="194" y="2427"/>
                </a:lnTo>
                <a:lnTo>
                  <a:pt x="194" y="2444"/>
                </a:lnTo>
                <a:lnTo>
                  <a:pt x="192" y="2461"/>
                </a:lnTo>
                <a:lnTo>
                  <a:pt x="190" y="2478"/>
                </a:lnTo>
                <a:lnTo>
                  <a:pt x="188" y="2494"/>
                </a:lnTo>
                <a:lnTo>
                  <a:pt x="186" y="2509"/>
                </a:lnTo>
                <a:lnTo>
                  <a:pt x="184" y="2523"/>
                </a:lnTo>
                <a:lnTo>
                  <a:pt x="184" y="2536"/>
                </a:lnTo>
                <a:lnTo>
                  <a:pt x="182" y="2547"/>
                </a:lnTo>
                <a:lnTo>
                  <a:pt x="180" y="2561"/>
                </a:lnTo>
                <a:lnTo>
                  <a:pt x="178" y="2571"/>
                </a:lnTo>
                <a:lnTo>
                  <a:pt x="174" y="2582"/>
                </a:lnTo>
                <a:lnTo>
                  <a:pt x="173" y="2592"/>
                </a:lnTo>
                <a:lnTo>
                  <a:pt x="171" y="2599"/>
                </a:lnTo>
                <a:lnTo>
                  <a:pt x="165" y="2615"/>
                </a:lnTo>
                <a:lnTo>
                  <a:pt x="159" y="2626"/>
                </a:lnTo>
                <a:lnTo>
                  <a:pt x="153" y="2640"/>
                </a:lnTo>
                <a:lnTo>
                  <a:pt x="150" y="2651"/>
                </a:lnTo>
                <a:lnTo>
                  <a:pt x="144" y="2661"/>
                </a:lnTo>
                <a:lnTo>
                  <a:pt x="140" y="2670"/>
                </a:lnTo>
                <a:lnTo>
                  <a:pt x="136" y="2678"/>
                </a:lnTo>
                <a:lnTo>
                  <a:pt x="132" y="2686"/>
                </a:lnTo>
                <a:lnTo>
                  <a:pt x="128" y="2693"/>
                </a:lnTo>
                <a:lnTo>
                  <a:pt x="126" y="2699"/>
                </a:lnTo>
                <a:lnTo>
                  <a:pt x="123" y="2703"/>
                </a:lnTo>
                <a:lnTo>
                  <a:pt x="121" y="2709"/>
                </a:lnTo>
                <a:lnTo>
                  <a:pt x="119" y="2711"/>
                </a:lnTo>
                <a:lnTo>
                  <a:pt x="115" y="2713"/>
                </a:lnTo>
                <a:lnTo>
                  <a:pt x="113" y="2714"/>
                </a:lnTo>
                <a:lnTo>
                  <a:pt x="111" y="2714"/>
                </a:lnTo>
                <a:lnTo>
                  <a:pt x="109" y="2714"/>
                </a:lnTo>
                <a:lnTo>
                  <a:pt x="105" y="2713"/>
                </a:lnTo>
                <a:lnTo>
                  <a:pt x="103" y="2711"/>
                </a:lnTo>
                <a:lnTo>
                  <a:pt x="100" y="2709"/>
                </a:lnTo>
                <a:lnTo>
                  <a:pt x="98" y="2705"/>
                </a:lnTo>
                <a:lnTo>
                  <a:pt x="94" y="2699"/>
                </a:lnTo>
                <a:lnTo>
                  <a:pt x="90" y="2693"/>
                </a:lnTo>
                <a:lnTo>
                  <a:pt x="86" y="2688"/>
                </a:lnTo>
                <a:lnTo>
                  <a:pt x="82" y="2680"/>
                </a:lnTo>
                <a:lnTo>
                  <a:pt x="78" y="2672"/>
                </a:lnTo>
                <a:lnTo>
                  <a:pt x="73" y="2665"/>
                </a:lnTo>
                <a:lnTo>
                  <a:pt x="69" y="2655"/>
                </a:lnTo>
                <a:lnTo>
                  <a:pt x="65" y="2645"/>
                </a:lnTo>
                <a:lnTo>
                  <a:pt x="59" y="2636"/>
                </a:lnTo>
                <a:lnTo>
                  <a:pt x="55" y="2624"/>
                </a:lnTo>
                <a:lnTo>
                  <a:pt x="52" y="2613"/>
                </a:lnTo>
                <a:lnTo>
                  <a:pt x="44" y="2601"/>
                </a:lnTo>
                <a:lnTo>
                  <a:pt x="38" y="2590"/>
                </a:lnTo>
                <a:lnTo>
                  <a:pt x="34" y="2578"/>
                </a:lnTo>
                <a:lnTo>
                  <a:pt x="29" y="2567"/>
                </a:lnTo>
                <a:lnTo>
                  <a:pt x="21" y="2547"/>
                </a:lnTo>
                <a:lnTo>
                  <a:pt x="13" y="2528"/>
                </a:lnTo>
                <a:lnTo>
                  <a:pt x="11" y="2519"/>
                </a:lnTo>
                <a:lnTo>
                  <a:pt x="9" y="2511"/>
                </a:lnTo>
                <a:lnTo>
                  <a:pt x="7" y="2503"/>
                </a:lnTo>
                <a:lnTo>
                  <a:pt x="6" y="2496"/>
                </a:lnTo>
                <a:lnTo>
                  <a:pt x="6" y="2490"/>
                </a:lnTo>
                <a:lnTo>
                  <a:pt x="4" y="2482"/>
                </a:lnTo>
                <a:lnTo>
                  <a:pt x="4" y="2476"/>
                </a:lnTo>
                <a:lnTo>
                  <a:pt x="4" y="2473"/>
                </a:lnTo>
                <a:lnTo>
                  <a:pt x="4" y="2469"/>
                </a:lnTo>
                <a:lnTo>
                  <a:pt x="4" y="2465"/>
                </a:lnTo>
                <a:lnTo>
                  <a:pt x="4" y="2459"/>
                </a:lnTo>
                <a:lnTo>
                  <a:pt x="6" y="2453"/>
                </a:lnTo>
                <a:lnTo>
                  <a:pt x="6" y="2446"/>
                </a:lnTo>
                <a:lnTo>
                  <a:pt x="7" y="2436"/>
                </a:lnTo>
                <a:lnTo>
                  <a:pt x="9" y="2427"/>
                </a:lnTo>
                <a:lnTo>
                  <a:pt x="11" y="2417"/>
                </a:lnTo>
                <a:lnTo>
                  <a:pt x="13" y="2404"/>
                </a:lnTo>
                <a:lnTo>
                  <a:pt x="15" y="2392"/>
                </a:lnTo>
                <a:lnTo>
                  <a:pt x="17" y="2377"/>
                </a:lnTo>
                <a:lnTo>
                  <a:pt x="19" y="2363"/>
                </a:lnTo>
                <a:lnTo>
                  <a:pt x="21" y="2346"/>
                </a:lnTo>
                <a:lnTo>
                  <a:pt x="23" y="2331"/>
                </a:lnTo>
                <a:lnTo>
                  <a:pt x="25" y="2311"/>
                </a:lnTo>
                <a:lnTo>
                  <a:pt x="27" y="2294"/>
                </a:lnTo>
                <a:lnTo>
                  <a:pt x="30" y="2273"/>
                </a:lnTo>
                <a:lnTo>
                  <a:pt x="32" y="2252"/>
                </a:lnTo>
                <a:lnTo>
                  <a:pt x="34" y="2229"/>
                </a:lnTo>
                <a:lnTo>
                  <a:pt x="38" y="2204"/>
                </a:lnTo>
                <a:lnTo>
                  <a:pt x="42" y="2179"/>
                </a:lnTo>
                <a:lnTo>
                  <a:pt x="44" y="2152"/>
                </a:lnTo>
                <a:lnTo>
                  <a:pt x="48" y="2121"/>
                </a:lnTo>
                <a:lnTo>
                  <a:pt x="52" y="2093"/>
                </a:lnTo>
                <a:lnTo>
                  <a:pt x="55" y="2060"/>
                </a:lnTo>
                <a:lnTo>
                  <a:pt x="57" y="2027"/>
                </a:lnTo>
                <a:lnTo>
                  <a:pt x="61" y="1991"/>
                </a:lnTo>
                <a:lnTo>
                  <a:pt x="65" y="1954"/>
                </a:lnTo>
                <a:lnTo>
                  <a:pt x="67" y="1918"/>
                </a:lnTo>
                <a:lnTo>
                  <a:pt x="71" y="1878"/>
                </a:lnTo>
                <a:lnTo>
                  <a:pt x="73" y="1837"/>
                </a:lnTo>
                <a:lnTo>
                  <a:pt x="75" y="1795"/>
                </a:lnTo>
                <a:lnTo>
                  <a:pt x="77" y="1753"/>
                </a:lnTo>
                <a:lnTo>
                  <a:pt x="78" y="1711"/>
                </a:lnTo>
                <a:lnTo>
                  <a:pt x="80" y="1666"/>
                </a:lnTo>
                <a:lnTo>
                  <a:pt x="82" y="1620"/>
                </a:lnTo>
                <a:lnTo>
                  <a:pt x="84" y="1572"/>
                </a:lnTo>
                <a:lnTo>
                  <a:pt x="84" y="1522"/>
                </a:lnTo>
                <a:lnTo>
                  <a:pt x="86" y="1473"/>
                </a:lnTo>
                <a:lnTo>
                  <a:pt x="88" y="1421"/>
                </a:lnTo>
                <a:lnTo>
                  <a:pt x="88" y="1367"/>
                </a:lnTo>
                <a:lnTo>
                  <a:pt x="90" y="1311"/>
                </a:lnTo>
                <a:lnTo>
                  <a:pt x="90" y="1256"/>
                </a:lnTo>
                <a:lnTo>
                  <a:pt x="92" y="1198"/>
                </a:lnTo>
                <a:lnTo>
                  <a:pt x="94" y="1139"/>
                </a:lnTo>
                <a:lnTo>
                  <a:pt x="96" y="1077"/>
                </a:lnTo>
                <a:lnTo>
                  <a:pt x="98" y="1014"/>
                </a:lnTo>
                <a:lnTo>
                  <a:pt x="100" y="950"/>
                </a:lnTo>
                <a:lnTo>
                  <a:pt x="100" y="918"/>
                </a:lnTo>
                <a:lnTo>
                  <a:pt x="100" y="887"/>
                </a:lnTo>
                <a:lnTo>
                  <a:pt x="100" y="856"/>
                </a:lnTo>
                <a:lnTo>
                  <a:pt x="100" y="828"/>
                </a:lnTo>
                <a:lnTo>
                  <a:pt x="100" y="799"/>
                </a:lnTo>
                <a:lnTo>
                  <a:pt x="100" y="770"/>
                </a:lnTo>
                <a:lnTo>
                  <a:pt x="100" y="743"/>
                </a:lnTo>
                <a:lnTo>
                  <a:pt x="100" y="716"/>
                </a:lnTo>
                <a:lnTo>
                  <a:pt x="100" y="689"/>
                </a:lnTo>
                <a:lnTo>
                  <a:pt x="100" y="664"/>
                </a:lnTo>
                <a:lnTo>
                  <a:pt x="100" y="640"/>
                </a:lnTo>
                <a:lnTo>
                  <a:pt x="98" y="617"/>
                </a:lnTo>
                <a:lnTo>
                  <a:pt x="98" y="592"/>
                </a:lnTo>
                <a:lnTo>
                  <a:pt x="98" y="570"/>
                </a:lnTo>
                <a:lnTo>
                  <a:pt x="98" y="547"/>
                </a:lnTo>
                <a:lnTo>
                  <a:pt x="98" y="526"/>
                </a:lnTo>
                <a:lnTo>
                  <a:pt x="98" y="507"/>
                </a:lnTo>
                <a:lnTo>
                  <a:pt x="98" y="488"/>
                </a:lnTo>
                <a:lnTo>
                  <a:pt x="96" y="469"/>
                </a:lnTo>
                <a:lnTo>
                  <a:pt x="96" y="450"/>
                </a:lnTo>
                <a:lnTo>
                  <a:pt x="96" y="432"/>
                </a:lnTo>
                <a:lnTo>
                  <a:pt x="96" y="415"/>
                </a:lnTo>
                <a:lnTo>
                  <a:pt x="94" y="400"/>
                </a:lnTo>
                <a:lnTo>
                  <a:pt x="94" y="384"/>
                </a:lnTo>
                <a:lnTo>
                  <a:pt x="94" y="369"/>
                </a:lnTo>
                <a:lnTo>
                  <a:pt x="92" y="355"/>
                </a:lnTo>
                <a:lnTo>
                  <a:pt x="92" y="342"/>
                </a:lnTo>
                <a:lnTo>
                  <a:pt x="92" y="331"/>
                </a:lnTo>
                <a:lnTo>
                  <a:pt x="90" y="317"/>
                </a:lnTo>
                <a:lnTo>
                  <a:pt x="90" y="306"/>
                </a:lnTo>
                <a:lnTo>
                  <a:pt x="88" y="296"/>
                </a:lnTo>
                <a:lnTo>
                  <a:pt x="88" y="286"/>
                </a:lnTo>
                <a:lnTo>
                  <a:pt x="84" y="269"/>
                </a:lnTo>
                <a:lnTo>
                  <a:pt x="82" y="254"/>
                </a:lnTo>
                <a:lnTo>
                  <a:pt x="80" y="238"/>
                </a:lnTo>
                <a:lnTo>
                  <a:pt x="78" y="223"/>
                </a:lnTo>
                <a:lnTo>
                  <a:pt x="75" y="210"/>
                </a:lnTo>
                <a:lnTo>
                  <a:pt x="73" y="196"/>
                </a:lnTo>
                <a:lnTo>
                  <a:pt x="69" y="183"/>
                </a:lnTo>
                <a:lnTo>
                  <a:pt x="67" y="171"/>
                </a:lnTo>
                <a:lnTo>
                  <a:pt x="63" y="160"/>
                </a:lnTo>
                <a:lnTo>
                  <a:pt x="59" y="148"/>
                </a:lnTo>
                <a:lnTo>
                  <a:pt x="55" y="139"/>
                </a:lnTo>
                <a:lnTo>
                  <a:pt x="50" y="129"/>
                </a:lnTo>
                <a:lnTo>
                  <a:pt x="46" y="119"/>
                </a:lnTo>
                <a:lnTo>
                  <a:pt x="40" y="110"/>
                </a:lnTo>
                <a:lnTo>
                  <a:pt x="34" y="102"/>
                </a:lnTo>
                <a:lnTo>
                  <a:pt x="27" y="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162"/>
          <p:cNvSpPr/>
          <p:nvPr/>
        </p:nvSpPr>
        <p:spPr>
          <a:xfrm>
            <a:off x="5521320" y="3351240"/>
            <a:ext cx="865080" cy="244440"/>
          </a:xfrm>
          <a:custGeom>
            <a:avLst/>
            <a:gdLst/>
            <a:ahLst/>
            <a:rect l="l" t="t" r="r" b="b"/>
            <a:pathLst>
              <a:path w="1090" h="307">
                <a:moveTo>
                  <a:pt x="455" y="101"/>
                </a:moveTo>
                <a:lnTo>
                  <a:pt x="478" y="96"/>
                </a:lnTo>
                <a:lnTo>
                  <a:pt x="501" y="90"/>
                </a:lnTo>
                <a:lnTo>
                  <a:pt x="524" y="84"/>
                </a:lnTo>
                <a:lnTo>
                  <a:pt x="545" y="78"/>
                </a:lnTo>
                <a:lnTo>
                  <a:pt x="566" y="73"/>
                </a:lnTo>
                <a:lnTo>
                  <a:pt x="588" y="69"/>
                </a:lnTo>
                <a:lnTo>
                  <a:pt x="609" y="63"/>
                </a:lnTo>
                <a:lnTo>
                  <a:pt x="628" y="59"/>
                </a:lnTo>
                <a:lnTo>
                  <a:pt x="647" y="53"/>
                </a:lnTo>
                <a:lnTo>
                  <a:pt x="666" y="50"/>
                </a:lnTo>
                <a:lnTo>
                  <a:pt x="685" y="46"/>
                </a:lnTo>
                <a:lnTo>
                  <a:pt x="703" y="40"/>
                </a:lnTo>
                <a:lnTo>
                  <a:pt x="720" y="36"/>
                </a:lnTo>
                <a:lnTo>
                  <a:pt x="737" y="32"/>
                </a:lnTo>
                <a:lnTo>
                  <a:pt x="755" y="30"/>
                </a:lnTo>
                <a:lnTo>
                  <a:pt x="770" y="26"/>
                </a:lnTo>
                <a:lnTo>
                  <a:pt x="785" y="23"/>
                </a:lnTo>
                <a:lnTo>
                  <a:pt x="801" y="21"/>
                </a:lnTo>
                <a:lnTo>
                  <a:pt x="816" y="17"/>
                </a:lnTo>
                <a:lnTo>
                  <a:pt x="829" y="15"/>
                </a:lnTo>
                <a:lnTo>
                  <a:pt x="843" y="13"/>
                </a:lnTo>
                <a:lnTo>
                  <a:pt x="856" y="11"/>
                </a:lnTo>
                <a:lnTo>
                  <a:pt x="868" y="7"/>
                </a:lnTo>
                <a:lnTo>
                  <a:pt x="881" y="7"/>
                </a:lnTo>
                <a:lnTo>
                  <a:pt x="893" y="5"/>
                </a:lnTo>
                <a:lnTo>
                  <a:pt x="902" y="3"/>
                </a:lnTo>
                <a:lnTo>
                  <a:pt x="914" y="2"/>
                </a:lnTo>
                <a:lnTo>
                  <a:pt x="924" y="2"/>
                </a:lnTo>
                <a:lnTo>
                  <a:pt x="933" y="2"/>
                </a:lnTo>
                <a:lnTo>
                  <a:pt x="943" y="0"/>
                </a:lnTo>
                <a:lnTo>
                  <a:pt x="950" y="0"/>
                </a:lnTo>
                <a:lnTo>
                  <a:pt x="960" y="0"/>
                </a:lnTo>
                <a:lnTo>
                  <a:pt x="975" y="0"/>
                </a:lnTo>
                <a:lnTo>
                  <a:pt x="989" y="0"/>
                </a:lnTo>
                <a:lnTo>
                  <a:pt x="1002" y="2"/>
                </a:lnTo>
                <a:lnTo>
                  <a:pt x="1016" y="2"/>
                </a:lnTo>
                <a:lnTo>
                  <a:pt x="1027" y="3"/>
                </a:lnTo>
                <a:lnTo>
                  <a:pt x="1037" y="5"/>
                </a:lnTo>
                <a:lnTo>
                  <a:pt x="1048" y="7"/>
                </a:lnTo>
                <a:lnTo>
                  <a:pt x="1056" y="11"/>
                </a:lnTo>
                <a:lnTo>
                  <a:pt x="1064" y="13"/>
                </a:lnTo>
                <a:lnTo>
                  <a:pt x="1071" y="17"/>
                </a:lnTo>
                <a:lnTo>
                  <a:pt x="1077" y="23"/>
                </a:lnTo>
                <a:lnTo>
                  <a:pt x="1083" y="26"/>
                </a:lnTo>
                <a:lnTo>
                  <a:pt x="1087" y="32"/>
                </a:lnTo>
                <a:lnTo>
                  <a:pt x="1089" y="38"/>
                </a:lnTo>
                <a:lnTo>
                  <a:pt x="1090" y="44"/>
                </a:lnTo>
                <a:lnTo>
                  <a:pt x="1090" y="51"/>
                </a:lnTo>
                <a:lnTo>
                  <a:pt x="1090" y="53"/>
                </a:lnTo>
                <a:lnTo>
                  <a:pt x="1089" y="57"/>
                </a:lnTo>
                <a:lnTo>
                  <a:pt x="1087" y="61"/>
                </a:lnTo>
                <a:lnTo>
                  <a:pt x="1085" y="65"/>
                </a:lnTo>
                <a:lnTo>
                  <a:pt x="1081" y="69"/>
                </a:lnTo>
                <a:lnTo>
                  <a:pt x="1075" y="73"/>
                </a:lnTo>
                <a:lnTo>
                  <a:pt x="1069" y="78"/>
                </a:lnTo>
                <a:lnTo>
                  <a:pt x="1064" y="82"/>
                </a:lnTo>
                <a:lnTo>
                  <a:pt x="1056" y="86"/>
                </a:lnTo>
                <a:lnTo>
                  <a:pt x="1048" y="90"/>
                </a:lnTo>
                <a:lnTo>
                  <a:pt x="1039" y="94"/>
                </a:lnTo>
                <a:lnTo>
                  <a:pt x="1029" y="99"/>
                </a:lnTo>
                <a:lnTo>
                  <a:pt x="1019" y="103"/>
                </a:lnTo>
                <a:lnTo>
                  <a:pt x="1008" y="107"/>
                </a:lnTo>
                <a:lnTo>
                  <a:pt x="995" y="113"/>
                </a:lnTo>
                <a:lnTo>
                  <a:pt x="981" y="117"/>
                </a:lnTo>
                <a:lnTo>
                  <a:pt x="968" y="122"/>
                </a:lnTo>
                <a:lnTo>
                  <a:pt x="952" y="126"/>
                </a:lnTo>
                <a:lnTo>
                  <a:pt x="937" y="132"/>
                </a:lnTo>
                <a:lnTo>
                  <a:pt x="920" y="138"/>
                </a:lnTo>
                <a:lnTo>
                  <a:pt x="900" y="142"/>
                </a:lnTo>
                <a:lnTo>
                  <a:pt x="883" y="147"/>
                </a:lnTo>
                <a:lnTo>
                  <a:pt x="864" y="153"/>
                </a:lnTo>
                <a:lnTo>
                  <a:pt x="843" y="157"/>
                </a:lnTo>
                <a:lnTo>
                  <a:pt x="822" y="163"/>
                </a:lnTo>
                <a:lnTo>
                  <a:pt x="799" y="169"/>
                </a:lnTo>
                <a:lnTo>
                  <a:pt x="776" y="174"/>
                </a:lnTo>
                <a:lnTo>
                  <a:pt x="753" y="180"/>
                </a:lnTo>
                <a:lnTo>
                  <a:pt x="728" y="186"/>
                </a:lnTo>
                <a:lnTo>
                  <a:pt x="701" y="192"/>
                </a:lnTo>
                <a:lnTo>
                  <a:pt x="674" y="197"/>
                </a:lnTo>
                <a:lnTo>
                  <a:pt x="647" y="205"/>
                </a:lnTo>
                <a:lnTo>
                  <a:pt x="620" y="211"/>
                </a:lnTo>
                <a:lnTo>
                  <a:pt x="593" y="216"/>
                </a:lnTo>
                <a:lnTo>
                  <a:pt x="566" y="222"/>
                </a:lnTo>
                <a:lnTo>
                  <a:pt x="542" y="228"/>
                </a:lnTo>
                <a:lnTo>
                  <a:pt x="517" y="232"/>
                </a:lnTo>
                <a:lnTo>
                  <a:pt x="492" y="238"/>
                </a:lnTo>
                <a:lnTo>
                  <a:pt x="469" y="243"/>
                </a:lnTo>
                <a:lnTo>
                  <a:pt x="447" y="247"/>
                </a:lnTo>
                <a:lnTo>
                  <a:pt x="426" y="253"/>
                </a:lnTo>
                <a:lnTo>
                  <a:pt x="405" y="257"/>
                </a:lnTo>
                <a:lnTo>
                  <a:pt x="384" y="261"/>
                </a:lnTo>
                <a:lnTo>
                  <a:pt x="365" y="264"/>
                </a:lnTo>
                <a:lnTo>
                  <a:pt x="348" y="268"/>
                </a:lnTo>
                <a:lnTo>
                  <a:pt x="330" y="272"/>
                </a:lnTo>
                <a:lnTo>
                  <a:pt x="313" y="276"/>
                </a:lnTo>
                <a:lnTo>
                  <a:pt x="296" y="280"/>
                </a:lnTo>
                <a:lnTo>
                  <a:pt x="280" y="284"/>
                </a:lnTo>
                <a:lnTo>
                  <a:pt x="267" y="286"/>
                </a:lnTo>
                <a:lnTo>
                  <a:pt x="254" y="289"/>
                </a:lnTo>
                <a:lnTo>
                  <a:pt x="240" y="291"/>
                </a:lnTo>
                <a:lnTo>
                  <a:pt x="227" y="293"/>
                </a:lnTo>
                <a:lnTo>
                  <a:pt x="215" y="295"/>
                </a:lnTo>
                <a:lnTo>
                  <a:pt x="206" y="297"/>
                </a:lnTo>
                <a:lnTo>
                  <a:pt x="196" y="299"/>
                </a:lnTo>
                <a:lnTo>
                  <a:pt x="186" y="301"/>
                </a:lnTo>
                <a:lnTo>
                  <a:pt x="179" y="303"/>
                </a:lnTo>
                <a:lnTo>
                  <a:pt x="171" y="303"/>
                </a:lnTo>
                <a:lnTo>
                  <a:pt x="163" y="305"/>
                </a:lnTo>
                <a:lnTo>
                  <a:pt x="158" y="305"/>
                </a:lnTo>
                <a:lnTo>
                  <a:pt x="152" y="307"/>
                </a:lnTo>
                <a:lnTo>
                  <a:pt x="148" y="307"/>
                </a:lnTo>
                <a:lnTo>
                  <a:pt x="144" y="307"/>
                </a:lnTo>
                <a:lnTo>
                  <a:pt x="131" y="305"/>
                </a:lnTo>
                <a:lnTo>
                  <a:pt x="119" y="305"/>
                </a:lnTo>
                <a:lnTo>
                  <a:pt x="108" y="301"/>
                </a:lnTo>
                <a:lnTo>
                  <a:pt x="96" y="299"/>
                </a:lnTo>
                <a:lnTo>
                  <a:pt x="85" y="295"/>
                </a:lnTo>
                <a:lnTo>
                  <a:pt x="73" y="289"/>
                </a:lnTo>
                <a:lnTo>
                  <a:pt x="62" y="286"/>
                </a:lnTo>
                <a:lnTo>
                  <a:pt x="48" y="282"/>
                </a:lnTo>
                <a:lnTo>
                  <a:pt x="41" y="278"/>
                </a:lnTo>
                <a:lnTo>
                  <a:pt x="35" y="276"/>
                </a:lnTo>
                <a:lnTo>
                  <a:pt x="31" y="274"/>
                </a:lnTo>
                <a:lnTo>
                  <a:pt x="25" y="270"/>
                </a:lnTo>
                <a:lnTo>
                  <a:pt x="21" y="268"/>
                </a:lnTo>
                <a:lnTo>
                  <a:pt x="18" y="266"/>
                </a:lnTo>
                <a:lnTo>
                  <a:pt x="10" y="261"/>
                </a:lnTo>
                <a:lnTo>
                  <a:pt x="6" y="257"/>
                </a:lnTo>
                <a:lnTo>
                  <a:pt x="2" y="251"/>
                </a:lnTo>
                <a:lnTo>
                  <a:pt x="0" y="247"/>
                </a:lnTo>
                <a:lnTo>
                  <a:pt x="0" y="243"/>
                </a:lnTo>
                <a:lnTo>
                  <a:pt x="0" y="238"/>
                </a:lnTo>
                <a:lnTo>
                  <a:pt x="2" y="232"/>
                </a:lnTo>
                <a:lnTo>
                  <a:pt x="6" y="228"/>
                </a:lnTo>
                <a:lnTo>
                  <a:pt x="10" y="224"/>
                </a:lnTo>
                <a:lnTo>
                  <a:pt x="18" y="218"/>
                </a:lnTo>
                <a:lnTo>
                  <a:pt x="21" y="216"/>
                </a:lnTo>
                <a:lnTo>
                  <a:pt x="25" y="215"/>
                </a:lnTo>
                <a:lnTo>
                  <a:pt x="31" y="211"/>
                </a:lnTo>
                <a:lnTo>
                  <a:pt x="35" y="209"/>
                </a:lnTo>
                <a:lnTo>
                  <a:pt x="41" y="207"/>
                </a:lnTo>
                <a:lnTo>
                  <a:pt x="48" y="205"/>
                </a:lnTo>
                <a:lnTo>
                  <a:pt x="52" y="203"/>
                </a:lnTo>
                <a:lnTo>
                  <a:pt x="56" y="201"/>
                </a:lnTo>
                <a:lnTo>
                  <a:pt x="60" y="199"/>
                </a:lnTo>
                <a:lnTo>
                  <a:pt x="65" y="199"/>
                </a:lnTo>
                <a:lnTo>
                  <a:pt x="71" y="197"/>
                </a:lnTo>
                <a:lnTo>
                  <a:pt x="79" y="195"/>
                </a:lnTo>
                <a:lnTo>
                  <a:pt x="85" y="193"/>
                </a:lnTo>
                <a:lnTo>
                  <a:pt x="92" y="192"/>
                </a:lnTo>
                <a:lnTo>
                  <a:pt x="102" y="190"/>
                </a:lnTo>
                <a:lnTo>
                  <a:pt x="110" y="188"/>
                </a:lnTo>
                <a:lnTo>
                  <a:pt x="119" y="186"/>
                </a:lnTo>
                <a:lnTo>
                  <a:pt x="129" y="184"/>
                </a:lnTo>
                <a:lnTo>
                  <a:pt x="140" y="180"/>
                </a:lnTo>
                <a:lnTo>
                  <a:pt x="152" y="178"/>
                </a:lnTo>
                <a:lnTo>
                  <a:pt x="163" y="176"/>
                </a:lnTo>
                <a:lnTo>
                  <a:pt x="175" y="172"/>
                </a:lnTo>
                <a:lnTo>
                  <a:pt x="188" y="169"/>
                </a:lnTo>
                <a:lnTo>
                  <a:pt x="202" y="167"/>
                </a:lnTo>
                <a:lnTo>
                  <a:pt x="215" y="163"/>
                </a:lnTo>
                <a:lnTo>
                  <a:pt x="231" y="159"/>
                </a:lnTo>
                <a:lnTo>
                  <a:pt x="246" y="155"/>
                </a:lnTo>
                <a:lnTo>
                  <a:pt x="261" y="151"/>
                </a:lnTo>
                <a:lnTo>
                  <a:pt x="279" y="147"/>
                </a:lnTo>
                <a:lnTo>
                  <a:pt x="296" y="144"/>
                </a:lnTo>
                <a:lnTo>
                  <a:pt x="313" y="140"/>
                </a:lnTo>
                <a:lnTo>
                  <a:pt x="332" y="134"/>
                </a:lnTo>
                <a:lnTo>
                  <a:pt x="351" y="130"/>
                </a:lnTo>
                <a:lnTo>
                  <a:pt x="371" y="124"/>
                </a:lnTo>
                <a:lnTo>
                  <a:pt x="392" y="119"/>
                </a:lnTo>
                <a:lnTo>
                  <a:pt x="413" y="113"/>
                </a:lnTo>
                <a:lnTo>
                  <a:pt x="434" y="107"/>
                </a:lnTo>
                <a:lnTo>
                  <a:pt x="455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4:35:57Z</dcterms:modified>
  <cp:revision>5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