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2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CA7C7-9456-4DAA-A58A-97A44E59EE9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01F37-1450-495C-AB24-CF187A12E8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C99-6985-42A1-9AC8-FCE66FD2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9D8-9D43-4E81-ACCD-9BDC89A8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764-8B72-4F0D-A2C8-0AC53A90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316-4B7F-49C1-967C-345F6E6A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4C5-B923-4BA4-BF20-E0910E6C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2E8-5834-4477-BA70-9A727989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D09-5924-4CB0-AE50-DF966953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30D-3766-4847-962F-8EE4AAD1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E76-0992-4B73-8C7B-8E6B044F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779-EC10-4C9C-9392-97784F3E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131-552F-4A10-A597-41458E7A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DD3-9419-4A5F-8EF8-0004FCB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2ADB8-36AE-4D05-B7E9-A4012F2AC2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C:\Documents and Settings\Administrator\桌面\QQ截图20170611191702.png"/>
          <p:cNvPicPr/>
          <p:nvPr/>
        </p:nvPicPr>
        <p:blipFill>
          <a:blip r:embed="rId1"/>
          <a:stretch/>
        </p:blipFill>
        <p:spPr>
          <a:xfrm>
            <a:off x="1481040" y="2273400"/>
            <a:ext cx="6023160" cy="31525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257560" y="905040"/>
            <a:ext cx="4784760" cy="1180800"/>
            <a:chOff x="2257560" y="905040"/>
            <a:chExt cx="4784760" cy="1180800"/>
          </a:xfrm>
        </p:grpSpPr>
        <p:sp>
          <p:nvSpPr>
            <p:cNvPr id="65" name="Text Box 2"/>
            <p:cNvSpPr/>
            <p:nvPr/>
          </p:nvSpPr>
          <p:spPr>
            <a:xfrm>
              <a:off x="3751200" y="1011240"/>
              <a:ext cx="3291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武松打虎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257560" y="905040"/>
              <a:ext cx="1282320" cy="1180800"/>
              <a:chOff x="2257560" y="905040"/>
              <a:chExt cx="128232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257560" y="905040"/>
                <a:ext cx="128232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406600" y="971640"/>
                <a:ext cx="1128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735120" y="15825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松把那大虫嘴直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黄泥坑里去。那大虫吃武松奈何得没了些气力。武松把左手紧紧地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揪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顶花皮，偷出右手来，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铁锤般大小拳头，尽平生之力，只顾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892080" y="338760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按、揪、提、打”一系列的动词准确地为我们刻画出一个高大威猛的打虎英雄形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735120" y="1228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下景阳冈上那只猛虎，被武松没顿饭之间，一顿拳脚打得那大虫动弹不得，使得口里兀自气喘。武松放了手，来松树边寻那打折的棒橛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拿在手里，只怕大虫不死，把棒橛又打了一回，那大虫气都没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885960" y="407340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哨棒是武松手中唯一的武器，文中写到哨棒的地方有十多处，每一处所用的动词均不一样。“提、拖、拿、抡、劈、丢”等动词，用得无一不恰到好处，有力地突出了武松豪放、倔强、无畏的性格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4"/>
          <p:cNvGrpSpPr/>
          <p:nvPr/>
        </p:nvGrpSpPr>
        <p:grpSpPr>
          <a:xfrm>
            <a:off x="873000" y="3498840"/>
            <a:ext cx="7683480" cy="560520"/>
            <a:chOff x="873000" y="3498840"/>
            <a:chExt cx="7683480" cy="560520"/>
          </a:xfrm>
        </p:grpSpPr>
        <p:sp>
          <p:nvSpPr>
            <p:cNvPr id="102" name="直接连接符 5"/>
            <p:cNvSpPr/>
            <p:nvPr/>
          </p:nvSpPr>
          <p:spPr>
            <a:xfrm>
              <a:off x="873000" y="40593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任意多边形 6"/>
            <p:cNvSpPr/>
            <p:nvPr/>
          </p:nvSpPr>
          <p:spPr>
            <a:xfrm>
              <a:off x="873000" y="349884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（难点）：文中多次提到哨棒，有什么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2"/>
          <p:cNvSpPr/>
          <p:nvPr/>
        </p:nvSpPr>
        <p:spPr>
          <a:xfrm>
            <a:off x="844560" y="113832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武松再来青石坐了半歇，寻思道：“天色看看黑了，倘或又跳出一只大虫来时，我却怎地斗得他过？且挣扎下冈子去，明早却来理会。”就石头边寻了毡笠儿，转过乱树林边，一步步捱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ái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）下冈子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873000" y="399888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一个“捱”字使得武松这个形象更加血肉丰满、真实可信。武松也是人，在同猛虎搏斗后也会累，所以会“手脚都酥软了”。如果不是“捱”，而是精力旺盛，那就是一种虚无的构想，不现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4"/>
          <p:cNvGrpSpPr/>
          <p:nvPr/>
        </p:nvGrpSpPr>
        <p:grpSpPr>
          <a:xfrm>
            <a:off x="873000" y="3416400"/>
            <a:ext cx="7683480" cy="560160"/>
            <a:chOff x="873000" y="3416400"/>
            <a:chExt cx="7683480" cy="560160"/>
          </a:xfrm>
        </p:grpSpPr>
        <p:sp>
          <p:nvSpPr>
            <p:cNvPr id="107" name="直接连接符 5"/>
            <p:cNvSpPr/>
            <p:nvPr/>
          </p:nvSpPr>
          <p:spPr>
            <a:xfrm>
              <a:off x="873000" y="39765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任意多边形 6"/>
            <p:cNvSpPr/>
            <p:nvPr/>
          </p:nvSpPr>
          <p:spPr>
            <a:xfrm>
              <a:off x="873000" y="3416400"/>
              <a:ext cx="7683480" cy="560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你对“捱”字是如何理解的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977760" y="3376440"/>
            <a:ext cx="716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武松是个爱面子、豪爽、倔强、无所畏惧、浑身是胆、机智勇敢、武艺高强的英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961920" y="278928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武松是个什么样的人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851040" y="1854360"/>
            <a:ext cx="74469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武松在上冈的路上看到了什么？他是怎么想的？这说明他是个什么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1197000" y="296532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武松在冈下看见一棵树上写着过冈要结伙成队。武松以为这是酒家故意吓唬客人，以让客人回去在他的店里住宿休息。武松走上冈来，在一座败落的山神庙前看到盖有官府印信的榜文，才知道真的有虎。但他怕回去后遭人耻笑，继续上冈。从他的所做所想中可以看出，武松刚烈倔强、爱面子、豪放无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内容占位符 2"/>
          <p:cNvSpPr/>
          <p:nvPr/>
        </p:nvSpPr>
        <p:spPr>
          <a:xfrm>
            <a:off x="635040" y="127008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625320" y="1660680"/>
            <a:ext cx="7847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老虎是怎样进攻武松的？武松是怎样应对的？从中可以看出武松是个什么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039680" y="2712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老虎拿人有三招：一扑、一掀、一剪。老虎先是和身往上一扑，武松闪到了老虎的背后；然后老虎把腰胯一掀，武松躲到一边；老虎又用尾巴一剪，武松又闪在一边。从武松躲闪的动作可以看出，他是个机警敏捷、胆量超人、武艺高强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内容占位符 2"/>
          <p:cNvSpPr/>
          <p:nvPr/>
        </p:nvSpPr>
        <p:spPr>
          <a:xfrm>
            <a:off x="804960" y="1247760"/>
            <a:ext cx="76453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武松是怎样打死老虎的？从中可以看出他的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1203480" y="2421000"/>
            <a:ext cx="712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老虎的三招没能伤到武松，它便转回身来扑向武松。武松往后一跳，退了十步远，老虎正好把两只前爪搭在武松面前。武松两手就势揪住老虎的顶花皮，使劲将考虑按住，然后用脚乱踢老虎的面门、眼睛。等老虎力气减弱后，武松腾出右手，尽平生之力打老虎，打得它眼里、口里、鼻子里、耳朵里往外迸血，动弹不得。然后又用棒橛打了一顿，把老虎打没了气。从武松打虎的过程来看，他真是个胆量超人、勇武过人、无所畏惧的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内容占位符 2"/>
          <p:cNvSpPr/>
          <p:nvPr/>
        </p:nvSpPr>
        <p:spPr>
          <a:xfrm>
            <a:off x="790560" y="1511280"/>
            <a:ext cx="7645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武松打死老虎后的状态是怎样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1198440" y="218592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武松打死老虎后，手脚都酥软了，在青石上坐了半歇，才一步步捱下冈子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8"/>
          <p:cNvSpPr/>
          <p:nvPr/>
        </p:nvSpPr>
        <p:spPr>
          <a:xfrm>
            <a:off x="1214280" y="2730600"/>
            <a:ext cx="57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松打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5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左大括号 1"/>
          <p:cNvSpPr/>
          <p:nvPr/>
        </p:nvSpPr>
        <p:spPr>
          <a:xfrm>
            <a:off x="2155680" y="2441520"/>
            <a:ext cx="449280" cy="3140280"/>
          </a:xfrm>
          <a:custGeom>
            <a:avLst/>
            <a:gdLst>
              <a:gd name="textAreaLeft" fmla="*/ 286920 w 449280"/>
              <a:gd name="textAreaRight" fmla="*/ 449640 w 449280"/>
              <a:gd name="textAreaTop" fmla="*/ 11520 h 3140280"/>
              <a:gd name="textAreaBottom" fmla="*/ 3128760 h 314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9"/>
                  <a:pt x="10800" y="258"/>
                </a:cubicBezTo>
                <a:lnTo>
                  <a:pt x="10800" y="10542"/>
                </a:lnTo>
                <a:cubicBezTo>
                  <a:pt x="10800" y="10671"/>
                  <a:pt x="5400" y="10800"/>
                  <a:pt x="0" y="10800"/>
                </a:cubicBezTo>
                <a:cubicBezTo>
                  <a:pt x="5400" y="10800"/>
                  <a:pt x="10800" y="10929"/>
                  <a:pt x="10800" y="11058"/>
                </a:cubicBezTo>
                <a:lnTo>
                  <a:pt x="10800" y="21342"/>
                </a:lnTo>
                <a:cubicBezTo>
                  <a:pt x="10800" y="2147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6200640" y="2243160"/>
            <a:ext cx="221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机警敏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勇武过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勇猛无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艺超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右大括号 22"/>
          <p:cNvSpPr/>
          <p:nvPr/>
        </p:nvSpPr>
        <p:spPr>
          <a:xfrm>
            <a:off x="5645160" y="2376360"/>
            <a:ext cx="420840" cy="3191040"/>
          </a:xfrm>
          <a:custGeom>
            <a:avLst/>
            <a:gdLst>
              <a:gd name="textAreaLeft" fmla="*/ 0 w 420840"/>
              <a:gd name="textAreaRight" fmla="*/ 151920 w 420840"/>
              <a:gd name="textAreaTop" fmla="*/ 10800 h 3191040"/>
              <a:gd name="textAreaBottom" fmla="*/ 3180240 h 319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"/>
                  <a:pt x="10800" y="237"/>
                </a:cubicBezTo>
                <a:lnTo>
                  <a:pt x="10800" y="10563"/>
                </a:lnTo>
                <a:cubicBezTo>
                  <a:pt x="10800" y="10682"/>
                  <a:pt x="16200" y="10800"/>
                  <a:pt x="21600" y="10800"/>
                </a:cubicBezTo>
                <a:cubicBezTo>
                  <a:pt x="16200" y="10800"/>
                  <a:pt x="10800" y="10919"/>
                  <a:pt x="10800" y="11037"/>
                </a:cubicBezTo>
                <a:lnTo>
                  <a:pt x="10800" y="21363"/>
                </a:lnTo>
                <a:cubicBezTo>
                  <a:pt x="10800" y="2148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2614680" y="23353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上冈：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2610000" y="3684600"/>
            <a:ext cx="95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打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左大括号 13"/>
          <p:cNvSpPr/>
          <p:nvPr/>
        </p:nvSpPr>
        <p:spPr>
          <a:xfrm>
            <a:off x="3568680" y="3305160"/>
            <a:ext cx="347760" cy="147168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1471680"/>
              <a:gd name="textAreaBottom" fmla="*/ 1462680 h 14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3"/>
                  <a:pt x="10800" y="425"/>
                </a:cubicBezTo>
                <a:lnTo>
                  <a:pt x="10800" y="10375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3"/>
                  <a:pt x="10800" y="11225"/>
                </a:cubicBezTo>
                <a:lnTo>
                  <a:pt x="10800" y="21175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3951360" y="3138480"/>
            <a:ext cx="171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以闪为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反守为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拿棒再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2563920" y="507348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下冈：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90640" y="252576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武松机智敏捷、勇猛过人的英雄性格，记住武松打虎的故事情节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内容占位符 2"/>
          <p:cNvSpPr/>
          <p:nvPr/>
        </p:nvSpPr>
        <p:spPr>
          <a:xfrm>
            <a:off x="934920" y="241128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课文记叙了武松乘着酒兴上了景阳冈，赤手空拳打死猛虎的故事，表现了武松刚烈豪放、机智勇敢、无所畏惧、武艺超群的英雄形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3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内容占位符 2"/>
          <p:cNvSpPr/>
          <p:nvPr/>
        </p:nvSpPr>
        <p:spPr>
          <a:xfrm>
            <a:off x="1133640" y="1828800"/>
            <a:ext cx="7110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醉打蒋门神（节选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松又行不到三四里路，再吃过十来碗酒。此时已有午牌时分，天色正热，却有些微风。武松酒却涌上来，把布衫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。虽然带着五七分酒，却装做十分醉的，前颠后偃，东倒西歪，来到林子前，仆人用手指道：“只前头丁字路口便是蒋门神酒店。”武松道：“既是到了，你自去躲得远着。等我打倒了，你们却来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松大踏步赶将出来。那个捣子径奔去报了蒋门神。蒋门神见说，吃了一惊，踢翻了交椅，丢去蝇拂子，便钻将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内容占位符 2"/>
          <p:cNvSpPr/>
          <p:nvPr/>
        </p:nvSpPr>
        <p:spPr>
          <a:xfrm>
            <a:off x="996840" y="128268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松却好迎着，正在大阔路上撞见。蒋门神虽然长大，近因酒色所迷，淘虚了身子，先自吃了那一惊；奔将来，那步不曾停住；怎地及得武松虎一般健壮的人，又有心来算他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蒋门神见了武松，心里先欺他醉，只顾赶将入来。说时迟，那时快；武松先把两个拳头去蒋门神脸上虚影一影，忽地转身便走。蒋门神大怒，抢将来，被武松一飞脚踢起，踢中蒋门神小腹上，双手按了，便蹲下去。武松一踅，踅将过来，那只右脚早踢起，直飞在蒋门神额角上，踢着正中，望后便倒。武松追入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，踏住胸脯，提起这醋钵儿大小拳头，望蒋门神头上便打。原来说过的打蒋门神扑手，先把拳头虚影一影，便转身，却先飞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内容占位符 2"/>
          <p:cNvSpPr/>
          <p:nvPr/>
        </p:nvSpPr>
        <p:spPr>
          <a:xfrm>
            <a:off x="996840" y="141912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脚；踢中了，便转过身来，再飞起右脚；这一扑，有名唤做玉环步，鸳鸯脚。这是武松平生的真才实学，非同小可！打得蒋门神在地下叫饶。武松喝道：“若要我饶你性命，只要依我三件事！”蒋门神在地下，叫道：“好汉饶我！休说三件，便是三百件，我也依得！”武松踏住蒋门神在地下道：“第一件，要你便离了快活林，将一应家火什物，随即交还原主金眼彪施恩。谁教你强夺他的？”蒋门神慌忙应道：“依得，依得。”武松道：“第二件，我如今饶了你起来，你便去央请快活林为头为脑的英雄豪杰，都来与施恩陪话。”蒋门神道：“小人也依得。”武松道：“第三件，你从今日交割还了，便要离了这快活林，连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内容占位符 2"/>
          <p:cNvSpPr/>
          <p:nvPr/>
        </p:nvSpPr>
        <p:spPr>
          <a:xfrm>
            <a:off x="996840" y="1843200"/>
            <a:ext cx="739620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乡去，不许你在孟州住！在这里不回去时，我见一遍，打你一遍，我见十遍，打十遍；轻则打你半死，重则结果了你命。你依得么？”蒋门神听了，要挣扎性命，连声应道：“依得，依得，蒋忠都依。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" descr="http://i2.qhimg.com/t01a4933dd52c6f29ab.jpg"/>
          <p:cNvPicPr/>
          <p:nvPr/>
        </p:nvPicPr>
        <p:blipFill>
          <a:blip r:embed="rId1"/>
          <a:stretch/>
        </p:blipFill>
        <p:spPr>
          <a:xfrm>
            <a:off x="1074600" y="2290680"/>
            <a:ext cx="7202520" cy="297648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1384200" y="3016080"/>
            <a:ext cx="654552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　大江东去，浪淘尽，千古风流人物。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楷体"/>
              </a:rPr>
              <a:t>念奴娇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楷体"/>
              </a:rPr>
              <a:t>赤壁怀古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楷体"/>
              </a:rPr>
              <a:t>苏轼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3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57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矩形 1"/>
          <p:cNvSpPr/>
          <p:nvPr/>
        </p:nvSpPr>
        <p:spPr>
          <a:xfrm>
            <a:off x="2095200" y="2138400"/>
            <a:ext cx="31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水浒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有关鲁智深的故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1243080" y="2757600"/>
            <a:ext cx="66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大闹五台山、火烧瓦罐寺、倒拔垂杨柳、大闹野猪林、单打二龙山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3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矩形 1"/>
          <p:cNvSpPr/>
          <p:nvPr/>
        </p:nvSpPr>
        <p:spPr>
          <a:xfrm>
            <a:off x="1905840" y="2138400"/>
            <a:ext cx="25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水浒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的人物绰号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243080" y="2757600"/>
            <a:ext cx="66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及时雨 （呼保义）宋江、玉麒麟卢俊义、智多星吴用、入云龙公孙胜、大刀关胜、豹子头林冲、霹雳火秦明、小李广花荣、小旋风柴进、花和尚鲁智深、行者武松、青面兽杨志、神行太保戴宗、黑旋风李逵、九纹龙史进、浪子燕青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9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矩形 1"/>
          <p:cNvSpPr/>
          <p:nvPr/>
        </p:nvSpPr>
        <p:spPr>
          <a:xfrm>
            <a:off x="1729440" y="21384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国古典四大名著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1254240" y="4870440"/>
            <a:ext cx="64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三国演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水浒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西游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1731960" y="43657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国古典四大名著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1243080" y="2879640"/>
            <a:ext cx="66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私放晁盖、怒杀阎婆惜、三打祝家庄、还道村受三卷天书、梁山泊好汉劫法场、弃粮擒壮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7" name="矩形 11"/>
          <p:cNvSpPr/>
          <p:nvPr/>
        </p:nvSpPr>
        <p:spPr>
          <a:xfrm>
            <a:off x="1017720" y="23781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通过学习这篇课文，我们了解了武松乘着酒兴上了景阳冈，赤手空拳打死猛虎的故事，表现了武松刚烈豪放、机智勇敢、无所畏惧、武艺超群的英雄形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909720" y="3067200"/>
            <a:ext cx="74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要结合课后注释来朗读，可以查阅相关资料来帮助理解，感受这位梁山好汉的英雄形象。如读到武松打虎的部分，语调要高昂些，语速要急促些，突出他的勇猛、武艺过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80" name="组合 15"/>
          <p:cNvGrpSpPr/>
          <p:nvPr/>
        </p:nvGrpSpPr>
        <p:grpSpPr>
          <a:xfrm>
            <a:off x="814320" y="1657440"/>
            <a:ext cx="7661520" cy="1275120"/>
            <a:chOff x="814320" y="1657440"/>
            <a:chExt cx="7661520" cy="1275120"/>
          </a:xfrm>
        </p:grpSpPr>
        <p:sp>
          <p:nvSpPr>
            <p:cNvPr id="181" name="圆角矩形 14"/>
            <p:cNvSpPr/>
            <p:nvPr/>
          </p:nvSpPr>
          <p:spPr>
            <a:xfrm>
              <a:off x="814320" y="2220840"/>
              <a:ext cx="7661520" cy="711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先读读注释，再朗读课文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组合 10"/>
            <p:cNvGrpSpPr/>
            <p:nvPr/>
          </p:nvGrpSpPr>
          <p:grpSpPr>
            <a:xfrm>
              <a:off x="904320" y="1657440"/>
              <a:ext cx="1594080" cy="677160"/>
              <a:chOff x="904320" y="1657440"/>
              <a:chExt cx="1594080" cy="677160"/>
            </a:xfrm>
          </p:grpSpPr>
          <p:sp>
            <p:nvSpPr>
              <p:cNvPr id="183" name="任意多边形 11"/>
              <p:cNvSpPr/>
              <p:nvPr/>
            </p:nvSpPr>
            <p:spPr>
              <a:xfrm>
                <a:off x="1321560" y="1749600"/>
                <a:ext cx="1176840" cy="4924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4" name="椭圆 12"/>
              <p:cNvGrpSpPr/>
              <p:nvPr/>
            </p:nvGrpSpPr>
            <p:grpSpPr>
              <a:xfrm>
                <a:off x="904320" y="1657440"/>
                <a:ext cx="700560" cy="677160"/>
                <a:chOff x="904320" y="1657440"/>
                <a:chExt cx="700560" cy="677160"/>
              </a:xfrm>
            </p:grpSpPr>
            <p:pic>
              <p:nvPicPr>
                <p:cNvPr id="185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4320" y="1657440"/>
                  <a:ext cx="70056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>
                  <a:off x="1017000" y="1764000"/>
                  <a:ext cx="474840" cy="46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13"/>
          <p:cNvGrpSpPr/>
          <p:nvPr/>
        </p:nvGrpSpPr>
        <p:grpSpPr>
          <a:xfrm>
            <a:off x="684360" y="1382760"/>
            <a:ext cx="7791480" cy="1650600"/>
            <a:chOff x="684360" y="1382760"/>
            <a:chExt cx="7791480" cy="1650600"/>
          </a:xfrm>
        </p:grpSpPr>
        <p:grpSp>
          <p:nvGrpSpPr>
            <p:cNvPr id="188" name="组合 6"/>
            <p:cNvGrpSpPr/>
            <p:nvPr/>
          </p:nvGrpSpPr>
          <p:grpSpPr>
            <a:xfrm>
              <a:off x="833760" y="1497240"/>
              <a:ext cx="7642080" cy="1536120"/>
              <a:chOff x="833760" y="1497240"/>
              <a:chExt cx="7642080" cy="1536120"/>
            </a:xfrm>
          </p:grpSpPr>
          <p:sp>
            <p:nvSpPr>
              <p:cNvPr id="189" name="圆角矩形 7"/>
              <p:cNvSpPr/>
              <p:nvPr/>
            </p:nvSpPr>
            <p:spPr>
              <a:xfrm>
                <a:off x="833760" y="2321640"/>
                <a:ext cx="7642080" cy="711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450720" indent="-45072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老虎拿人有哪三招，武松是怎样应对的？请同学们认真读课文，把武松打虎的故事讲给别人听听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任意多边形 10"/>
              <p:cNvSpPr/>
              <p:nvPr/>
            </p:nvSpPr>
            <p:spPr>
              <a:xfrm>
                <a:off x="1056960" y="1497240"/>
                <a:ext cx="2259720" cy="5050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382760"/>
              <a:ext cx="808560" cy="73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矩形 1"/>
          <p:cNvSpPr/>
          <p:nvPr/>
        </p:nvSpPr>
        <p:spPr>
          <a:xfrm>
            <a:off x="968400" y="3429000"/>
            <a:ext cx="734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老虎拿人有三招：一扑、一掀、一剪。老虎先是和身往上一扑，武松闪到了老虎的背后；然后老虎把腰胯一掀，武松躲到一边；老虎又用尾巴一剪，武松又闪在一边。从武松躲闪的动作可以看出，他是个机警敏捷、胆量超人、武艺高强的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圆角矩形 7"/>
          <p:cNvSpPr/>
          <p:nvPr/>
        </p:nvSpPr>
        <p:spPr>
          <a:xfrm>
            <a:off x="814320" y="2043000"/>
            <a:ext cx="766152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过课文后，说说武松给你留下了怎样的印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1378080" y="29098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机智勇敢、无所畏惧、武艺超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圆角矩形 8"/>
          <p:cNvSpPr/>
          <p:nvPr/>
        </p:nvSpPr>
        <p:spPr>
          <a:xfrm>
            <a:off x="611280" y="1321920"/>
            <a:ext cx="766260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文中武松打虎部分动作描写十分精彩，找出描写细致的地方，体会动作描写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9"/>
          <p:cNvSpPr/>
          <p:nvPr/>
        </p:nvSpPr>
        <p:spPr>
          <a:xfrm>
            <a:off x="1081080" y="2174760"/>
            <a:ext cx="72025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细致描写武松打虎的语句有“武松将半截棒丢在一边，两只手就势把大虫顶花皮肐 地揪住，一按按将下来”“武松把只脚往大虫面门上、眼睛里只顾乱踢”“武松把左手紧紧地揪住顶花皮，偷出右手来，提起铁锤般大小拳头，尽平生之力，只顾打”。作者用“揪、按、踢、提、打”等动词，字字千钧，虎虎生风，把武松打虎的场面写得有声有色，凸显了武松打虎的英雄气势，使武松勇武过人的高大形象跃然纸上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2"/>
          <p:cNvGrpSpPr/>
          <p:nvPr/>
        </p:nvGrpSpPr>
        <p:grpSpPr>
          <a:xfrm>
            <a:off x="893880" y="1258920"/>
            <a:ext cx="7581960" cy="1522800"/>
            <a:chOff x="893880" y="1258920"/>
            <a:chExt cx="7581960" cy="1522800"/>
          </a:xfrm>
        </p:grpSpPr>
        <p:grpSp>
          <p:nvGrpSpPr>
            <p:cNvPr id="198" name="组合 6"/>
            <p:cNvGrpSpPr/>
            <p:nvPr/>
          </p:nvGrpSpPr>
          <p:grpSpPr>
            <a:xfrm>
              <a:off x="909720" y="1346400"/>
              <a:ext cx="7566120" cy="1435320"/>
              <a:chOff x="909720" y="1346400"/>
              <a:chExt cx="7566120" cy="1435320"/>
            </a:xfrm>
          </p:grpSpPr>
          <p:sp>
            <p:nvSpPr>
              <p:cNvPr id="199" name="圆角矩形 7"/>
              <p:cNvSpPr/>
              <p:nvPr/>
            </p:nvSpPr>
            <p:spPr>
              <a:xfrm>
                <a:off x="909720" y="2070000"/>
                <a:ext cx="7566120" cy="711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武松是梁山好汉之一，在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《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水浒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》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中，你还知道哪些关于武松的故事？讲给同学们听一听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任意多边形 9"/>
              <p:cNvSpPr/>
              <p:nvPr/>
            </p:nvSpPr>
            <p:spPr>
              <a:xfrm>
                <a:off x="1085400" y="1346400"/>
                <a:ext cx="2539440" cy="5054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1" name="Picture 7" descr=""/>
            <p:cNvPicPr/>
            <p:nvPr/>
          </p:nvPicPr>
          <p:blipFill>
            <a:blip r:embed="rId1"/>
            <a:stretch/>
          </p:blipFill>
          <p:spPr>
            <a:xfrm>
              <a:off x="893880" y="1258920"/>
              <a:ext cx="748080" cy="6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TextBox 2"/>
          <p:cNvSpPr/>
          <p:nvPr/>
        </p:nvSpPr>
        <p:spPr>
          <a:xfrm>
            <a:off x="1122480" y="3236760"/>
            <a:ext cx="72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醉打蒋门神”“大闹飞云浦”“夜走蜈蚣岭”“斗杀西门庆”“血溅鸳鸯楼”等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6"/>
          <p:cNvGrpSpPr/>
          <p:nvPr/>
        </p:nvGrpSpPr>
        <p:grpSpPr>
          <a:xfrm>
            <a:off x="846000" y="1143000"/>
            <a:ext cx="7683480" cy="1393200"/>
            <a:chOff x="846000" y="1143000"/>
            <a:chExt cx="7683480" cy="1393200"/>
          </a:xfrm>
        </p:grpSpPr>
        <p:grpSp>
          <p:nvGrpSpPr>
            <p:cNvPr id="204" name="组合 2"/>
            <p:cNvGrpSpPr/>
            <p:nvPr/>
          </p:nvGrpSpPr>
          <p:grpSpPr>
            <a:xfrm>
              <a:off x="879840" y="1271880"/>
              <a:ext cx="7649640" cy="1264320"/>
              <a:chOff x="879840" y="1271880"/>
              <a:chExt cx="7649640" cy="1264320"/>
            </a:xfrm>
          </p:grpSpPr>
          <p:sp>
            <p:nvSpPr>
              <p:cNvPr id="205" name="圆角矩形 4"/>
              <p:cNvSpPr/>
              <p:nvPr/>
            </p:nvSpPr>
            <p:spPr>
              <a:xfrm>
                <a:off x="879840" y="1824480"/>
                <a:ext cx="7649640" cy="711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，写一写，联系上下文理解加点的词语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任意多边形 5"/>
              <p:cNvSpPr/>
              <p:nvPr/>
            </p:nvSpPr>
            <p:spPr>
              <a:xfrm>
                <a:off x="1168920" y="1271880"/>
                <a:ext cx="1434600" cy="50616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" name="椭圆 7"/>
            <p:cNvGrpSpPr/>
            <p:nvPr/>
          </p:nvGrpSpPr>
          <p:grpSpPr>
            <a:xfrm>
              <a:off x="846000" y="1143000"/>
              <a:ext cx="754560" cy="714600"/>
              <a:chOff x="846000" y="1143000"/>
              <a:chExt cx="754560" cy="714600"/>
            </a:xfrm>
          </p:grpSpPr>
          <p:pic>
            <p:nvPicPr>
              <p:cNvPr id="208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46000" y="1143000"/>
                <a:ext cx="754560" cy="7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964080" y="1253160"/>
                <a:ext cx="51768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TextBox 9"/>
          <p:cNvSpPr/>
          <p:nvPr/>
        </p:nvSpPr>
        <p:spPr>
          <a:xfrm>
            <a:off x="1227240" y="2444760"/>
            <a:ext cx="731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存想：反复思考。本课是说武松思索了一会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榜文：旧时官府的告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霹雳：又急又响的雷。本课形容老虎的吼声如雷声般响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奈何：怎么办；怎么，为什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寻思：考虑，思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圆角矩形 4"/>
          <p:cNvSpPr/>
          <p:nvPr/>
        </p:nvSpPr>
        <p:spPr>
          <a:xfrm>
            <a:off x="814320" y="1753920"/>
            <a:ext cx="766152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0720" indent="-450720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联系课文，读一读下面这首诗。（诗句见教材第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1297080" y="2759040"/>
            <a:ext cx="68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首诗是原著中对武松打虎这一故事情节的精练概括，奇绝的文字描述了奇绝的情节，多读几遍，再背诵下来，既积累了情节又积累了语言，同时也会感受到名著的魅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9"/>
          <p:cNvSpPr/>
          <p:nvPr/>
        </p:nvSpPr>
        <p:spPr>
          <a:xfrm>
            <a:off x="828720" y="1311120"/>
            <a:ext cx="77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段话出自原著第二十三回，是宋江暗暗称赞武松的一段描写，生动地勾画了武松的英雄形象。“身躯凛凛，相貌堂堂。一双眼光射寒星，两弯眉浑如刷漆。胸脯横阔，有万夫难敌之威风；语话轩昂，吐千丈凌云之志气。心雄胆大，似撼天狮子下云端；骨健筋强，如摇地貔（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í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）貅（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ū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）临座上。如同天上降魔主，真是人间太岁神。”到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水浒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第二十三回中读一读，联系上下文，看看这段话写的是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3"/>
          <p:cNvSpPr/>
          <p:nvPr/>
        </p:nvSpPr>
        <p:spPr>
          <a:xfrm>
            <a:off x="1582560" y="179388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ī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à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ǎng   ruò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ōng táng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ài     hé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áo    xi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iě    chuí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82640" y="28321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矩形 14"/>
          <p:cNvSpPr/>
          <p:nvPr/>
        </p:nvSpPr>
        <p:spPr>
          <a:xfrm>
            <a:off x="1906920" y="269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欺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18" name=""/>
          <p:cNvGraphicFramePr/>
          <p:nvPr/>
        </p:nvGraphicFramePr>
        <p:xfrm>
          <a:off x="5145120" y="28623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692360" y="39466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140440" y="39592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692360" y="50403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137200" y="50497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矩形 12"/>
          <p:cNvSpPr/>
          <p:nvPr/>
        </p:nvSpPr>
        <p:spPr>
          <a:xfrm>
            <a:off x="5342400" y="2689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倘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3"/>
          <p:cNvSpPr/>
          <p:nvPr/>
        </p:nvSpPr>
        <p:spPr>
          <a:xfrm>
            <a:off x="1876680" y="37688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胸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5"/>
          <p:cNvSpPr/>
          <p:nvPr/>
        </p:nvSpPr>
        <p:spPr>
          <a:xfrm>
            <a:off x="5355000" y="37958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1893600" y="48848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咆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5329080" y="4878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铁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3"/>
          <p:cNvSpPr/>
          <p:nvPr/>
        </p:nvSpPr>
        <p:spPr>
          <a:xfrm>
            <a:off x="1670040" y="1765440"/>
            <a:ext cx="666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换偏旁成新字，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论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抡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抡起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椅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坦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傍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5"/>
          <p:cNvSpPr/>
          <p:nvPr/>
        </p:nvSpPr>
        <p:spPr>
          <a:xfrm>
            <a:off x="3566160" y="28782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5427360" y="2878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倚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7"/>
          <p:cNvSpPr/>
          <p:nvPr/>
        </p:nvSpPr>
        <p:spPr>
          <a:xfrm>
            <a:off x="3548520" y="34336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5441760" y="34336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袒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3531240" y="39765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1"/>
          <p:cNvSpPr/>
          <p:nvPr/>
        </p:nvSpPr>
        <p:spPr>
          <a:xfrm>
            <a:off x="5458320" y="39625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榜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133640"/>
            <a:ext cx="8080200" cy="5422680"/>
            <a:chOff x="600120" y="1133640"/>
            <a:chExt cx="8080200" cy="542268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7108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武松在上冈的路上看到了什么？他是怎么想的？这说明他是个什么样的人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3936960"/>
              <a:ext cx="3456000" cy="121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老虎是怎样进攻武松的？武松是怎样应对的？从中可以看出武松是个什么样的人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570640"/>
              <a:ext cx="3468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武松打死老虎后的状态是怎样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54480" y="5223240"/>
              <a:ext cx="303012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武松是怎样打死老虎的？从中可以看出他的什么特点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203920" y="1133640"/>
              <a:ext cx="4767480" cy="5422680"/>
              <a:chOff x="2203920" y="1133640"/>
              <a:chExt cx="4767480" cy="542268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03920" y="1133640"/>
                <a:ext cx="4767480" cy="54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72840" y="2028960"/>
                <a:ext cx="393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武松是个什么样的人物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908240" y="14410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勇猛、果敢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1220760" y="1438200"/>
            <a:ext cx="70358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三、写出下列加点字词的意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勿请自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方知端的有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一顿拳脚打得那大虫动弹不得，使得口里兀自气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 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天色看看黑了，倘或又跳出一只大虫来时，我却怎地斗得他过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存想了一回，说道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怕甚么！且只顾上去，看怎地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 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5"/>
          <p:cNvSpPr/>
          <p:nvPr/>
        </p:nvSpPr>
        <p:spPr>
          <a:xfrm>
            <a:off x="3056760" y="4194000"/>
            <a:ext cx="942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假如，如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7"/>
          <p:cNvSpPr/>
          <p:nvPr/>
        </p:nvSpPr>
        <p:spPr>
          <a:xfrm>
            <a:off x="3972600" y="2374920"/>
            <a:ext cx="942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果然，真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2231280" y="3254400"/>
            <a:ext cx="48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老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3763080" y="3274920"/>
            <a:ext cx="48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还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1"/>
          <p:cNvSpPr/>
          <p:nvPr/>
        </p:nvSpPr>
        <p:spPr>
          <a:xfrm>
            <a:off x="3254400" y="1903320"/>
            <a:ext cx="48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不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2"/>
          <p:cNvSpPr/>
          <p:nvPr/>
        </p:nvSpPr>
        <p:spPr>
          <a:xfrm>
            <a:off x="3171960" y="50943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反复思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3"/>
          <p:cNvSpPr/>
          <p:nvPr/>
        </p:nvSpPr>
        <p:spPr>
          <a:xfrm>
            <a:off x="5243400" y="5099040"/>
            <a:ext cx="48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什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7168"/>
          <p:cNvSpPr/>
          <p:nvPr/>
        </p:nvSpPr>
        <p:spPr>
          <a:xfrm>
            <a:off x="1680480" y="2141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7168"/>
          <p:cNvSpPr/>
          <p:nvPr/>
        </p:nvSpPr>
        <p:spPr>
          <a:xfrm>
            <a:off x="2255760" y="2595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7168"/>
          <p:cNvSpPr/>
          <p:nvPr/>
        </p:nvSpPr>
        <p:spPr>
          <a:xfrm>
            <a:off x="3540960" y="305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7168"/>
          <p:cNvSpPr/>
          <p:nvPr/>
        </p:nvSpPr>
        <p:spPr>
          <a:xfrm>
            <a:off x="6352560" y="304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7168"/>
          <p:cNvSpPr/>
          <p:nvPr/>
        </p:nvSpPr>
        <p:spPr>
          <a:xfrm>
            <a:off x="3521160" y="3967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7168"/>
          <p:cNvSpPr/>
          <p:nvPr/>
        </p:nvSpPr>
        <p:spPr>
          <a:xfrm>
            <a:off x="1743120" y="4881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7168"/>
          <p:cNvSpPr/>
          <p:nvPr/>
        </p:nvSpPr>
        <p:spPr>
          <a:xfrm>
            <a:off x="4562640" y="4894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3"/>
          <p:cNvSpPr/>
          <p:nvPr/>
        </p:nvSpPr>
        <p:spPr>
          <a:xfrm>
            <a:off x="838080" y="1033560"/>
            <a:ext cx="7637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四、写出下列句子主要运用的描写方法，将字母写在句后的括号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．语言描写　　　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．动作描写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．神态描写　　　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．心理描写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武松欲待转身再回酒店里来，寻思道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回去时，须吃他耻笑，不是好汉，难以转去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武松把左手紧紧地揪住顶花皮，偷出右手来，提起铁锤般大小拳头，尽平生之力，只顾打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武松看了，笑道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是酒家诡诈，惊吓那等客人，便去那厮家里宿歇。我却怕甚么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4919040" y="3365640"/>
            <a:ext cx="369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4915440" y="4240080"/>
            <a:ext cx="351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9"/>
          <p:cNvSpPr/>
          <p:nvPr/>
        </p:nvSpPr>
        <p:spPr>
          <a:xfrm>
            <a:off x="4663800" y="5141880"/>
            <a:ext cx="356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"/>
          <p:cNvSpPr/>
          <p:nvPr/>
        </p:nvSpPr>
        <p:spPr>
          <a:xfrm>
            <a:off x="735120" y="1090440"/>
            <a:ext cx="7848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一阵风过处，只听得乱树背后扑地一声响，跳出一只吊睛白额大虫来。武松见了，叫声：“啊呀！”从青石上翻将下来，便拿那条哨棒在手里，闪在青石边。那个大虫又饥又渴，把两只爪在地下略按一</a:t>
            </a:r>
            <a:r>
              <a:rPr b="1" lang="zh-CN" sz="2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和身往上一</a:t>
            </a:r>
            <a:r>
              <a:rPr b="1" lang="zh-CN" sz="2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半空里</a:t>
            </a:r>
            <a:r>
              <a:rPr b="1" lang="zh-CN" sz="2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撺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下来。武松被那一惊，酒都做冷汗出了。说时迟，那时快，武松见大虫扑来，只一闪，</a:t>
            </a:r>
            <a:r>
              <a:rPr b="1" lang="zh-CN" sz="2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闪在大虫背后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大虫背后看人最难，便把前爪</a:t>
            </a:r>
            <a:r>
              <a:rPr b="1" lang="zh-CN" sz="2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搭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地下，把腰胯一</a:t>
            </a:r>
            <a:r>
              <a:rPr b="1" lang="zh-CN" sz="2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掀将起来。武松只一躲，躲在一边。大虫见掀他不着，吼一声，却似半天里起个霹雳，震得那山冈也动。把这铁棒也似虎尾倒竖起来，只一</a:t>
            </a:r>
            <a:r>
              <a:rPr b="1" lang="zh-CN" sz="2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剪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武松却</a:t>
            </a:r>
            <a:r>
              <a:rPr b="1" lang="zh-CN" sz="2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又闪在一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871560" y="1628640"/>
            <a:ext cx="77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“按、扑、撺、搭、掀、剪”等动词，可知这只大虫动作敏捷多变，力大无比，凶猛厉害。特别是它那“一扑、一掀、一剪”更加显得突出。而武松唯一的对策就是躲闪：“闪在大虫背后”“躲在一边”“又闪在一边”表现了武松的机警敏捷，也反映出他有计谋地、主动地躲过。写虎是为了反衬人，虎有如此气势，那么打虎的武松就更了不得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21"/>
          <p:cNvSpPr/>
          <p:nvPr/>
        </p:nvSpPr>
        <p:spPr>
          <a:xfrm>
            <a:off x="831960" y="1127160"/>
            <a:ext cx="7569000" cy="913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品析动作描写的写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23"/>
          <p:cNvSpPr/>
          <p:nvPr/>
        </p:nvSpPr>
        <p:spPr>
          <a:xfrm>
            <a:off x="793800" y="1984320"/>
            <a:ext cx="773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什么是动作描写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动作描写就是通过描写人物富有特征性的动作行为，以表现人物的性格、品质、身份、地位、处境、状态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有什么作用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功的动作描写，可以交代人物的身份、地位，反映人物心理活动的进程，表现人物的性格特征，有时候还能推动情节的发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答题模式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通过对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动作描写表达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人物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性格特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7"/>
          <p:cNvSpPr/>
          <p:nvPr/>
        </p:nvSpPr>
        <p:spPr>
          <a:xfrm>
            <a:off x="547560" y="1914480"/>
            <a:ext cx="8069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885960" y="159552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仿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请用上准确的动词写几句话来描写一个人物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24" descr="花盆.png"/>
          <p:cNvPicPr/>
          <p:nvPr/>
        </p:nvPicPr>
        <p:blipFill>
          <a:blip r:embed="rId1"/>
          <a:stretch/>
        </p:blipFill>
        <p:spPr>
          <a:xfrm>
            <a:off x="642960" y="176220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941400" y="2658960"/>
            <a:ext cx="73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他站起来，不安地四处走动，不一会儿看到了窗外飞舞的蝴蝶，顿时被吸引了，于是他跑了出去。可是他被台阶绊倒了，重重地摔在地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只大虫急要挣扎，被武松尽气力纳定，那里肯放半点儿松宽。武松把只脚往大虫面门上、眼睛里只顾乱踢。那大虫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咆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，把身底下扒起两堆黄泥，做了一个土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6"/>
          <p:cNvGrpSpPr/>
          <p:nvPr/>
        </p:nvGrpSpPr>
        <p:grpSpPr>
          <a:xfrm>
            <a:off x="873000" y="3348000"/>
            <a:ext cx="7683480" cy="560520"/>
            <a:chOff x="873000" y="3348000"/>
            <a:chExt cx="7683480" cy="560520"/>
          </a:xfrm>
        </p:grpSpPr>
        <p:sp>
          <p:nvSpPr>
            <p:cNvPr id="94" name="直接连接符 7"/>
            <p:cNvSpPr/>
            <p:nvPr/>
          </p:nvSpPr>
          <p:spPr>
            <a:xfrm>
              <a:off x="873000" y="390852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任意多边形 8"/>
            <p:cNvSpPr/>
            <p:nvPr/>
          </p:nvSpPr>
          <p:spPr>
            <a:xfrm>
              <a:off x="873000" y="334800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老虎的两次“咆哮”各表现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矩形 4"/>
          <p:cNvSpPr/>
          <p:nvPr/>
        </p:nvSpPr>
        <p:spPr>
          <a:xfrm>
            <a:off x="892080" y="396072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本段出现的第二次“咆哮”。第一次“咆哮”，老虎的气势可以说是盛气凌人，不可一世；现在的“咆哮”是怒极而号，是在做垂死挣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4:39:01Z</dcterms:modified>
  <cp:revision>5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