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gif" ContentType="image/gif"/>
  <Override PartName="/ppt/media/image2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1C19D-2EEA-45E6-A91A-3D3C1855A0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36774-22C3-48BB-85C6-47243E61D1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0A0-35E9-4E51-BBB9-87029379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EF8-45D4-4457-8B18-91FDB846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023-62CF-40B7-9128-EE515FC9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B35-80FB-481E-883E-85FA1B8B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BED-F624-4B93-B1F1-C1E381CA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D92-E1FD-438A-8A8D-7A704F72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73B-A6D0-4224-BE3B-31C17294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B16-AC75-49FC-B6FF-0574EE35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6A2-A695-438F-906C-70C3339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5B6-5D74-4F71-92C5-A2C7194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CD1-0BFD-40AD-A9BD-1CB5AEE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1A9-26A4-4F5E-BEB7-FD5E6FA2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B9E01-B5D7-4800-80D1-A44C87C351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2000160" y="2077920"/>
            <a:ext cx="5156280" cy="35416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15920" y="5640480"/>
            <a:ext cx="7140600" cy="717480"/>
            <a:chOff x="1015920" y="5640480"/>
            <a:chExt cx="714060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15920" y="5640480"/>
              <a:ext cx="1892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55080" y="5640480"/>
              <a:ext cx="1892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500360" y="5640480"/>
              <a:ext cx="1892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63640" y="5640480"/>
              <a:ext cx="18928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6624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9784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6364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625840" y="905040"/>
            <a:ext cx="4819680" cy="1180800"/>
            <a:chOff x="262584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88476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豆腐颂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625840" y="905040"/>
              <a:ext cx="1180800" cy="1180800"/>
              <a:chOff x="262584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62584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63664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2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885960" y="1568520"/>
            <a:ext cx="768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到豆腐就想到我们中国的饮食文化。还有哪些物品也能代表中国文化？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24" descr="花盆.png"/>
          <p:cNvPicPr/>
          <p:nvPr/>
        </p:nvPicPr>
        <p:blipFill>
          <a:blip r:embed="rId1"/>
          <a:stretch/>
        </p:blipFill>
        <p:spPr>
          <a:xfrm>
            <a:off x="642960" y="172260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5" name="矩形 2"/>
          <p:cNvSpPr/>
          <p:nvPr/>
        </p:nvSpPr>
        <p:spPr>
          <a:xfrm>
            <a:off x="887400" y="317988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国结、龙图腾、筷子、饺子、瓷器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07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物品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977760" y="37180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搭配、营养价值、发展历史、相关文化和麻婆豆腐五个方面赞颂豆腐。作者赋予它的象征意义是贫苦、老实、勤劳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是从哪几个方面来赞颂豆腐的？赋予了豆腐什么象征意义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豆腐的美体现在哪些方面？文中哪句话集中表达了作者对豆腐的赞美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1197000" y="3619440"/>
            <a:ext cx="72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洁白，是视觉美；柔软，是触觉美；香淡，是味觉美。集中表达了作者对豆腐的赞美 的句子是：它是平民的，但并不平凡，我们的“中国豆腐”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625320" y="124308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豆腐与其他食品搭配的效果 如何？文章从哪些方面来写豆腐的营养价值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976320" y="23893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豆腐能与许多食品搭配，且色香味更佳。文章从三个方面来写豆腐的营养价值，一是和肉类所含的动物性脂肪进行对比，突出豆腐富含的植物性脂肪对人体的益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会引起血管硬化或心脏病等毛病。二是运用因果关系的复句，写豆腐含极少量的碳水化合物，是很好的减肥食品。三是把豆腐与牛奶相比较，说明豆腐钙质含量高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内容占位符 2"/>
          <p:cNvSpPr/>
          <p:nvPr/>
        </p:nvSpPr>
        <p:spPr>
          <a:xfrm>
            <a:off x="804960" y="132876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豆腐的发展过程是怎样的？ 豆腐与中华文化有哪些联系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1104840" y="256212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豆腐是公元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6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年左右汉文帝时代淮南王刘安发明的；宋朝时逐渐普及，成为平民食品；清代开始扩及于上层社会。豆腐常出现在我国章回小说与旧剧中；美貌的贫家女的称呼与豆腐有关、廉洁的官员的称呼与豆腐有关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内容占位符 2"/>
          <p:cNvSpPr/>
          <p:nvPr/>
        </p:nvSpPr>
        <p:spPr>
          <a:xfrm>
            <a:off x="790560" y="938160"/>
            <a:ext cx="76453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从哪里能看出豆腐是平民的？ 从哪里能看出豆腐是不平凡的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1076400" y="1751040"/>
            <a:ext cx="72532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普遍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有中国人的地方就有豆腐；易于搭配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豆腐可和各种鲜艳的颜色、奇异的香味相配 合，与许多食品结缘。豆腐是最早的平民百姓食品。豆腐在中国社会是贫苦、老实和勤劳的象征。 麻婆豆腐的发明者是中国普通的百姓。这些都说明了豆腐的平民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豆腐可与多种食品搭配成味道更佳的菜肴，却傲然保持着本体。豆腐具有较高的营养价值，是 老幼皆宜的食品。豆腐的历史与文化渊源更体现出它的不平凡。我们中国地域辽阔，人口众多， 豆腐却家喻户晓，尽人皆知，深受欢迎。这些都说明了豆腐的不平凡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文本框 26"/>
          <p:cNvSpPr/>
          <p:nvPr/>
        </p:nvSpPr>
        <p:spPr>
          <a:xfrm>
            <a:off x="373320" y="3476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豆腐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1693800" y="2181240"/>
            <a:ext cx="8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总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左大括号 13"/>
          <p:cNvSpPr/>
          <p:nvPr/>
        </p:nvSpPr>
        <p:spPr>
          <a:xfrm>
            <a:off x="1492200" y="2362320"/>
            <a:ext cx="312840" cy="287964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2316240" y="2171880"/>
            <a:ext cx="34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美</a:t>
            </a: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视觉、触觉、味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左大括号 15"/>
          <p:cNvSpPr/>
          <p:nvPr/>
        </p:nvSpPr>
        <p:spPr>
          <a:xfrm flipH="1">
            <a:off x="6531840" y="2398680"/>
            <a:ext cx="314280" cy="2879640"/>
          </a:xfrm>
          <a:custGeom>
            <a:avLst/>
            <a:gdLst>
              <a:gd name="textAreaLeft" fmla="*/ 200520 w 314280"/>
              <a:gd name="textAreaRight" fmla="*/ 314280 w 3142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6"/>
          <p:cNvSpPr/>
          <p:nvPr/>
        </p:nvSpPr>
        <p:spPr>
          <a:xfrm>
            <a:off x="7192080" y="3594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平民但不平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1693800" y="3602160"/>
            <a:ext cx="9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分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8"/>
          <p:cNvSpPr/>
          <p:nvPr/>
        </p:nvSpPr>
        <p:spPr>
          <a:xfrm>
            <a:off x="2492280" y="2585880"/>
            <a:ext cx="31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做法：七十二变 本体不变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左大括号 20"/>
          <p:cNvSpPr/>
          <p:nvPr/>
        </p:nvSpPr>
        <p:spPr>
          <a:xfrm>
            <a:off x="2306520" y="2698920"/>
            <a:ext cx="249480" cy="1995480"/>
          </a:xfrm>
          <a:custGeom>
            <a:avLst/>
            <a:gdLst>
              <a:gd name="textAreaLeft" fmla="*/ 159480 w 249480"/>
              <a:gd name="textAreaRight" fmla="*/ 249840 w 249480"/>
              <a:gd name="textAreaTop" fmla="*/ 6480 h 1995480"/>
              <a:gd name="textAreaBottom" fmla="*/ 1989000 h 19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2492280" y="2984400"/>
            <a:ext cx="42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6760" indent="-116676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营养价值：植物性脂肪好 碳水化合物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66760" indent="-116676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钙质含量高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2"/>
          <p:cNvSpPr/>
          <p:nvPr/>
        </p:nvSpPr>
        <p:spPr>
          <a:xfrm>
            <a:off x="2492280" y="3662280"/>
            <a:ext cx="39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发展历史：汉文帝时代 宋代 清代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3"/>
          <p:cNvSpPr/>
          <p:nvPr/>
        </p:nvSpPr>
        <p:spPr>
          <a:xfrm>
            <a:off x="2492280" y="4056120"/>
            <a:ext cx="40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相关文化：贫苦 老实 勤劳 廉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2492280" y="4427640"/>
            <a:ext cx="40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烹调高手麻婆：名传遐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5"/>
          <p:cNvSpPr/>
          <p:nvPr/>
        </p:nvSpPr>
        <p:spPr>
          <a:xfrm>
            <a:off x="1693800" y="4954680"/>
            <a:ext cx="8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总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2715120" y="49863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平民但不平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介绍了平民化的食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豆腐，通过对豆腐的颜色、味道、搭配、营养价值、发展历史、相关文化、代表人物等方面的介绍，突出了豆腐平民但不平凡的特点，表达了作者对豆腐的赞美和喜爱之情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9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豆腐（节选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其实，只有放低音量，才能真正引起他人的注意，而在一片喧哗里提高音量，无非是增加了噪音的分贝而已。这正如在一堆绚烂的颜色里，唯有素朴的颜色才能让人心仪一般，而我们在一日复一日的喧哗中，又与多少美好的事物擦肩而过了呢？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蒙台梭利说：物质世界的秩序，可以导致心灵的优雅宁静。这或许可以用来解释，处处井井有条、同时又是快节奏的东京，为什么依然可以在行色匆匆里保留一份难得的安宁。因为，和干净相比邻的，是安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唯有安静了，才能专注地用心。让人感受到这份用心的，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课文在说明事物特点的同时，表达赞美之意的写法，练习运用这种方法来写一段话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内容占位符 2"/>
          <p:cNvSpPr/>
          <p:nvPr/>
        </p:nvSpPr>
        <p:spPr>
          <a:xfrm>
            <a:off x="996840" y="9000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有位于东京铁塔下的东京芝豆腐屋，据说这是最好的日本料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料理店所在地本身就是一处绝好的日式庭院。弹丸之地，曲折萦回，水榭亭台，花鸟园艺，每一处都是一幅精妙的画，令人叫绝的还不是这景致，而是这里的“灵魂”——豆腐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无论是餐前冷盘先付，还是进肴煎豆腐，抑或锅仕立豆浆煮豆腐，那些盛于精美器皿里嫩白之物，几乎令你忘记了这就是我们平日里熟悉得不能再熟悉的豆腐。它们保持了豆腐的原味，却又提炼了其中的精华，凝脂一般，入口绵长而清醇，甘香沁鼻。在这里品尝豆腐，你会感觉这是一种仪式，是一种文化，也是一种享受。料理店门外的庭院里，专门出售豆腐屋出品的各类豆制品。它们如艺术品一般被摆放在冰柜里或者货架上，意犹未尽的食客临走时，都会不忘提走一袋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内容占位符 2"/>
          <p:cNvSpPr/>
          <p:nvPr/>
        </p:nvSpPr>
        <p:spPr>
          <a:xfrm>
            <a:off x="808200" y="1301760"/>
            <a:ext cx="75006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这样的豆腐料理，我在国内是没有见过的。豆腐在我们的菜系里，朴素、家常、充满了烟火气，因其清淡，往往需要浓郁的肉汁和海鲜来调味，于是，豆腐的本味被忽略了，而制作豆腐的工艺似也失去了精益求精的必要。即便是在各色素食饭店里，豆制品也仅仅是作为以假乱真模仿荤食的替代品，大同小异，多食则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豆腐源自中国，公元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75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年，鉴真东渡日本时，才带去了豆腐的制作方法。历经千年，日本不仅将中国的豆腐文化发扬光大，甚至做到了极致，还保持了“高贵”的格调，以致西方误以为日本才是豆腐的故乡。何以至此？我想还是因为那份用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936720" y="1976400"/>
            <a:ext cx="7450200" cy="428328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>
            <a:off x="1074600" y="2008080"/>
            <a:ext cx="7234200" cy="2223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骑红尘妃子笑，无人知是荔枝来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过华清宫绝句三首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其一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杜牧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啖荔枝三百颗，不辞长作岭南人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荔枝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苏轼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酒新熟山中归，黄鸡啄黍秋正肥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南陵别儿童入京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白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江上往来人，但爱鲈鱼美。君看一叶舟，出没风波里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江上渔者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范仲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8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1634760" y="2095560"/>
            <a:ext cx="16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关于豆腐的歇后语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1265400" y="2562120"/>
            <a:ext cx="705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咸菜拌豆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有言（盐）在先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咸菜煮豆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不 用多言（盐）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豆腐干煮肉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有分有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豆腐乳煮菜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哪敢多言（盐）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黄豆煮豆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都是自己人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.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毛豆子烧豆 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都是自己人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7.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清水煮豆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淡而无味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四两豆腐半斤盐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贤惠（咸味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4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8" name="矩形 11"/>
          <p:cNvSpPr/>
          <p:nvPr/>
        </p:nvSpPr>
        <p:spPr>
          <a:xfrm>
            <a:off x="1017720" y="2268360"/>
            <a:ext cx="73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篇课文以“赞颂”为文章的基调，介绍了平民化的食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豆腐。文章首先以“有中国人的地方就有豆腐”一句开头，概括地介绍了豆腐可“做汤做菜”，可“配荤配素”，可“苦辣酸甜，随心所欲”。文章以“它洁白，是视觉上的美；它柔软，是触觉上的美；它香淡，是味觉上的美”的排比句式一气呵成，具体写出了豆腐的特点，表现出赞美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909720" y="3762360"/>
            <a:ext cx="74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课文是从豆腐的搭配、豆腐的营养 价值、豆腐的发展历史、与豆腐有关的文化、 麻婆豆腐等五个方面来赞颂豆腐的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71" name="圆角矩形 14"/>
          <p:cNvSpPr/>
          <p:nvPr/>
        </p:nvSpPr>
        <p:spPr>
          <a:xfrm>
            <a:off x="814320" y="2493720"/>
            <a:ext cx="766152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默读课文，想一想，课文是从哪几个方面来赞颂豆腐的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任意多边形 8"/>
          <p:cNvSpPr/>
          <p:nvPr/>
        </p:nvSpPr>
        <p:spPr>
          <a:xfrm>
            <a:off x="1174680" y="1754280"/>
            <a:ext cx="2263680" cy="509400"/>
          </a:xfrm>
          <a:prstGeom prst="pie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2080" rIns="170640" tIns="91440" bIns="9144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思考与交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804960" y="1639800"/>
            <a:ext cx="8046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 7"/>
          <p:cNvSpPr/>
          <p:nvPr/>
        </p:nvSpPr>
        <p:spPr>
          <a:xfrm>
            <a:off x="814320" y="2095920"/>
            <a:ext cx="7661520" cy="63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课文的结尾说：“它是平民的，但并不平凡，我们的‘中国豆腐’！”在课文中找一找，作者列举了哪些实例来说明这一观点？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909720" y="3537000"/>
            <a:ext cx="74833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普遍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——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有中国人的地方就有豆腐； 易于搭配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——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豆腐可和各种鲜艳的颜色、奇异 的香味相配合，与许多食品结缘。豆腐是最早 的平民百姓食品。豆腐在中国社会是贫苦、老 实和勤劳的象征。麻婆豆腐的发明者是中国普 通的百姓。这些都说明了豆腐的平民性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任意多边形 4"/>
          <p:cNvSpPr/>
          <p:nvPr/>
        </p:nvSpPr>
        <p:spPr>
          <a:xfrm>
            <a:off x="1174680" y="1116000"/>
            <a:ext cx="2263680" cy="509760"/>
          </a:xfrm>
          <a:prstGeom prst="pie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2080" rIns="170640" tIns="91440" bIns="9144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思考与交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804960" y="1000080"/>
            <a:ext cx="8046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圆角矩形 7"/>
          <p:cNvSpPr/>
          <p:nvPr/>
        </p:nvSpPr>
        <p:spPr>
          <a:xfrm>
            <a:off x="814320" y="2047320"/>
            <a:ext cx="7661520" cy="635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讨论：认真阅读课文第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自然段，看看 在表达内容与写法上有什么特点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909720" y="3162240"/>
            <a:ext cx="74833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课文的第 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3 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自然段都是先概括出 豆腐的特点，然后用具体的事例来说明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任意多边形 4"/>
          <p:cNvSpPr/>
          <p:nvPr/>
        </p:nvSpPr>
        <p:spPr>
          <a:xfrm>
            <a:off x="1174680" y="1247760"/>
            <a:ext cx="2263680" cy="509760"/>
          </a:xfrm>
          <a:prstGeom prst="pie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2080" rIns="170640" tIns="91440" bIns="9144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思考与交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804960" y="1127160"/>
            <a:ext cx="80460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814320" y="1405080"/>
            <a:ext cx="7661520" cy="2195640"/>
            <a:chOff x="814320" y="1405080"/>
            <a:chExt cx="7661520" cy="2195640"/>
          </a:xfrm>
        </p:grpSpPr>
        <p:grpSp>
          <p:nvGrpSpPr>
            <p:cNvPr id="183" name="组合 6"/>
            <p:cNvGrpSpPr/>
            <p:nvPr/>
          </p:nvGrpSpPr>
          <p:grpSpPr>
            <a:xfrm>
              <a:off x="814320" y="1496880"/>
              <a:ext cx="7661520" cy="2103840"/>
              <a:chOff x="814320" y="1496880"/>
              <a:chExt cx="7661520" cy="2103840"/>
            </a:xfrm>
          </p:grpSpPr>
          <p:sp>
            <p:nvSpPr>
              <p:cNvPr id="184" name="圆角矩形 7"/>
              <p:cNvSpPr/>
              <p:nvPr/>
            </p:nvSpPr>
            <p:spPr>
              <a:xfrm>
                <a:off x="814320" y="2280600"/>
                <a:ext cx="7661520" cy="1320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268200" indent="-268200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有句谚语叫“冬吃萝卜夏吃姜，不用大夫开 药方”，你能搜集萝卜或姜的相关资料，再仿 照课文第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3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自然段的写法说明这则谚语吗？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任意多边形 9"/>
              <p:cNvSpPr/>
              <p:nvPr/>
            </p:nvSpPr>
            <p:spPr>
              <a:xfrm>
                <a:off x="1069920" y="1496880"/>
                <a:ext cx="254484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6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405080"/>
              <a:ext cx="749520" cy="65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2"/>
          <p:cNvSpPr/>
          <p:nvPr/>
        </p:nvSpPr>
        <p:spPr>
          <a:xfrm>
            <a:off x="971640" y="121932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句谚语叫“冬吃萝卜夏吃姜，不用大夫开药方”。冬天阳气内收，内脏反而是燥热的，要吃萝卜清胃。姜在炎热时节有使兴奋、排汗降温、提神等作用，可缓解疲劳、乏力、厌食、失眠、腹胀、腹痛等症状。生姜还有健胃增进食欲的作用。夏令气候炎热，唾液、胃液的分泌会减少，因而影响人的食欲，如果在吃饭时食用几片生姜，会增进食欲。生姜对胃痛亦有缓解或止痛作用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角矩形 7"/>
          <p:cNvSpPr/>
          <p:nvPr/>
        </p:nvSpPr>
        <p:spPr>
          <a:xfrm>
            <a:off x="814320" y="2036520"/>
            <a:ext cx="766152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268200" indent="-268200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请你展开调查，了解与豆腐有关的菜肴以及 做法，体会“有中国人的地方就有豆腐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830160" y="3198960"/>
            <a:ext cx="72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葱拌豆腐、皮蛋豆腐、麻婆豆腐、臭豆腐、豆腐鲫鱼、八珍豆腐、鱼头豆腐汤等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任意多边形 4"/>
          <p:cNvSpPr/>
          <p:nvPr/>
        </p:nvSpPr>
        <p:spPr>
          <a:xfrm>
            <a:off x="1069920" y="1208160"/>
            <a:ext cx="2544840" cy="509400"/>
          </a:xfrm>
          <a:prstGeom prst="pie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2080" rIns="170640" tIns="91440" bIns="9144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与运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878040" y="1116000"/>
            <a:ext cx="7491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圆角矩形 7"/>
          <p:cNvSpPr/>
          <p:nvPr/>
        </p:nvSpPr>
        <p:spPr>
          <a:xfrm>
            <a:off x="814320" y="2271240"/>
            <a:ext cx="766152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268200" indent="-268200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百尝不厌”一词中的“尝”可以换成“看” 或“听”，组成另外一个词语。请你换一换，并用它写一句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955800" y="3814920"/>
            <a:ext cx="75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百看不厌：节日里，各个景区种植的花草让人百看不厌。百听不厌：这首曲子的旋律特别优美，令人百听不厌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任意多边形 4"/>
          <p:cNvSpPr/>
          <p:nvPr/>
        </p:nvSpPr>
        <p:spPr>
          <a:xfrm>
            <a:off x="1069920" y="1208160"/>
            <a:ext cx="2544840" cy="509400"/>
          </a:xfrm>
          <a:prstGeom prst="pie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2080" rIns="170640" tIns="91440" bIns="9144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与运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878040" y="1116000"/>
            <a:ext cx="7491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6"/>
          <p:cNvGrpSpPr/>
          <p:nvPr/>
        </p:nvGrpSpPr>
        <p:grpSpPr>
          <a:xfrm>
            <a:off x="814320" y="1162080"/>
            <a:ext cx="7661520" cy="4392000"/>
            <a:chOff x="814320" y="1162080"/>
            <a:chExt cx="7661520" cy="4392000"/>
          </a:xfrm>
        </p:grpSpPr>
        <p:grpSp>
          <p:nvGrpSpPr>
            <p:cNvPr id="197" name="组合 2"/>
            <p:cNvGrpSpPr/>
            <p:nvPr/>
          </p:nvGrpSpPr>
          <p:grpSpPr>
            <a:xfrm>
              <a:off x="814320" y="1292760"/>
              <a:ext cx="7661520" cy="4261320"/>
              <a:chOff x="814320" y="1292760"/>
              <a:chExt cx="7661520" cy="4261320"/>
            </a:xfrm>
          </p:grpSpPr>
          <p:sp>
            <p:nvSpPr>
              <p:cNvPr id="198" name="圆角矩形 4"/>
              <p:cNvSpPr/>
              <p:nvPr/>
            </p:nvSpPr>
            <p:spPr>
              <a:xfrm>
                <a:off x="814320" y="1687680"/>
                <a:ext cx="7661520" cy="38664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抄写下面的词语和句子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麻辣烫  脂肪  随心所欲  孤苦无依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孕 妇   钙质  百尝不厌  想方设法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）它洁白，是视觉上的美；它柔软，是触觉 上的美；它香淡，是味觉上的美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仿宋"/>
                    <a:ea typeface="仿宋"/>
                  </a:rPr>
                  <a:t>）豆腐可和各种鲜艳的颜色、奇异的香味相 配合，能使樱桃更红，木耳更黑，菠菜更绿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任意多边形 5"/>
              <p:cNvSpPr/>
              <p:nvPr/>
            </p:nvSpPr>
            <p:spPr>
              <a:xfrm>
                <a:off x="1214280" y="1292760"/>
                <a:ext cx="1436760" cy="5083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椭圆 7"/>
            <p:cNvGrpSpPr/>
            <p:nvPr/>
          </p:nvGrpSpPr>
          <p:grpSpPr>
            <a:xfrm>
              <a:off x="889920" y="1162080"/>
              <a:ext cx="755640" cy="717480"/>
              <a:chOff x="889920" y="1162080"/>
              <a:chExt cx="755640" cy="717480"/>
            </a:xfrm>
          </p:grpSpPr>
          <p:pic>
            <p:nvPicPr>
              <p:cNvPr id="201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162080"/>
                <a:ext cx="7556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1007640" y="1273680"/>
                <a:ext cx="5184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833400" y="1589040"/>
            <a:ext cx="77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抄写时要注意“孤苦无依”的“孤”右 边是“瓜”，不是“爪”；“孕妇”的“孕”，“乃”要写得宽一些，“子”的上部要写在“乃”的里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05" name=""/>
          <p:cNvGraphicFramePr/>
          <p:nvPr/>
        </p:nvGraphicFramePr>
        <p:xfrm>
          <a:off x="3325680" y="327168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140440" y="484992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496880" y="3271680"/>
          <a:ext cx="144000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311640" y="484992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矩形 23"/>
          <p:cNvSpPr/>
          <p:nvPr/>
        </p:nvSpPr>
        <p:spPr>
          <a:xfrm>
            <a:off x="835200" y="1992240"/>
            <a:ext cx="76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īng    tɑo        dòu    fu         fèng    jǐ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ūn    cài         yùn     yù         zhī    fáng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4"/>
          <p:cNvSpPr/>
          <p:nvPr/>
        </p:nvSpPr>
        <p:spPr>
          <a:xfrm>
            <a:off x="170784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樱 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5"/>
          <p:cNvSpPr/>
          <p:nvPr/>
        </p:nvSpPr>
        <p:spPr>
          <a:xfrm>
            <a:off x="3522960" y="4892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孕 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6"/>
          <p:cNvSpPr/>
          <p:nvPr/>
        </p:nvSpPr>
        <p:spPr>
          <a:xfrm>
            <a:off x="354600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豆 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27"/>
          <p:cNvSpPr/>
          <p:nvPr/>
        </p:nvSpPr>
        <p:spPr>
          <a:xfrm>
            <a:off x="5361480" y="4892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脂 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447920" y="488160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矩形 29"/>
          <p:cNvSpPr/>
          <p:nvPr/>
        </p:nvSpPr>
        <p:spPr>
          <a:xfrm>
            <a:off x="1660320" y="4925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荤 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27760" y="3271680"/>
          <a:ext cx="1439640" cy="7336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矩形 31"/>
          <p:cNvSpPr/>
          <p:nvPr/>
        </p:nvSpPr>
        <p:spPr>
          <a:xfrm>
            <a:off x="5248080" y="3316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俸 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3"/>
          <p:cNvSpPr/>
          <p:nvPr/>
        </p:nvSpPr>
        <p:spPr>
          <a:xfrm>
            <a:off x="2247840" y="1820880"/>
            <a:ext cx="604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下列汉字加上偏旁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春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椿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香椿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炭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丐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3595680" y="29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5397120" y="28130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烫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"/>
          <p:cNvSpPr/>
          <p:nvPr/>
        </p:nvSpPr>
        <p:spPr>
          <a:xfrm>
            <a:off x="3595680" y="348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"/>
          <p:cNvSpPr/>
          <p:nvPr/>
        </p:nvSpPr>
        <p:spPr>
          <a:xfrm>
            <a:off x="5397120" y="3510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碳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9"/>
          <p:cNvSpPr/>
          <p:nvPr/>
        </p:nvSpPr>
        <p:spPr>
          <a:xfrm>
            <a:off x="3595680" y="402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23"/>
          <p:cNvSpPr/>
          <p:nvPr/>
        </p:nvSpPr>
        <p:spPr>
          <a:xfrm>
            <a:off x="5397120" y="402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膳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24"/>
          <p:cNvSpPr/>
          <p:nvPr/>
        </p:nvSpPr>
        <p:spPr>
          <a:xfrm>
            <a:off x="3595680" y="45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27"/>
          <p:cNvSpPr/>
          <p:nvPr/>
        </p:nvSpPr>
        <p:spPr>
          <a:xfrm>
            <a:off x="5397120" y="460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补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"/>
          <p:cNvSpPr/>
          <p:nvPr/>
        </p:nvSpPr>
        <p:spPr>
          <a:xfrm>
            <a:off x="1106640" y="1063800"/>
            <a:ext cx="756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写出下列带点词语的反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豆腐在中国社会中，是贫苦、老实和勤劳的象征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豆腐官”是廉洁的官，因为俸给微薄，只可以吃豆腐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她做的臊子豆腐，经过众口宣扬，名传遐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宋时，豆腐渐见普及，在江南，已成为普通的食品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4268160" y="174132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2261880" y="226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富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3215880" y="3359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腐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2359800" y="4451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默默无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2369880" y="55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特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1"/>
          <p:cNvSpPr/>
          <p:nvPr/>
        </p:nvSpPr>
        <p:spPr>
          <a:xfrm>
            <a:off x="3056760" y="283356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2"/>
          <p:cNvSpPr/>
          <p:nvPr/>
        </p:nvSpPr>
        <p:spPr>
          <a:xfrm>
            <a:off x="5967360" y="3960720"/>
            <a:ext cx="20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3"/>
          <p:cNvSpPr/>
          <p:nvPr/>
        </p:nvSpPr>
        <p:spPr>
          <a:xfrm>
            <a:off x="6387480" y="504828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3"/>
          <p:cNvSpPr/>
          <p:nvPr/>
        </p:nvSpPr>
        <p:spPr>
          <a:xfrm>
            <a:off x="674640" y="145260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写出下列各句运用的修辞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它洁白，是视觉上的美；它柔软，是触觉上的美；它香淡，是味觉上的美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豆腐像孙大圣，七十二变，却傲然保持着本体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江苏有句谚语：“吃肉不如吃豆腐，又省钱又滋补。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229000" y="2556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排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2269440" y="362412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、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2768400" y="47498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引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3"/>
          <p:cNvSpPr/>
          <p:nvPr/>
        </p:nvSpPr>
        <p:spPr>
          <a:xfrm>
            <a:off x="674640" y="1452600"/>
            <a:ext cx="756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豆腐是含有深远哲学意味的食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缩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豆腐是中国人喜欢的食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反问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3004920" y="254016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豆腐是食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3964680" y="36133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豆腐不正是中国人喜欢的食品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931200"/>
              <a:ext cx="3207600" cy="71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豆腐的美体现在哪些方面？ 文中哪句话集中表达了作者对豆腐的赞美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011840"/>
              <a:ext cx="3456000" cy="71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画：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豆腐与其他食品搭配的效果如何？文章从哪些方面来写豆腐的营养价值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197680"/>
              <a:ext cx="3468600" cy="71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从哪里能看出豆腐是平民的？ 从哪里能看出豆腐是不平凡的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146200"/>
              <a:ext cx="3207600" cy="71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豆腐的发展过程是怎样的？ 豆腐与中华文化有哪些联系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1906920"/>
                <a:ext cx="4219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者是从哪几个方面来赞颂豆腐的？赋予了豆腐什么象征意义？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5168520" y="133560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平民的、不平凡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"/>
          <p:cNvSpPr/>
          <p:nvPr/>
        </p:nvSpPr>
        <p:spPr>
          <a:xfrm>
            <a:off x="735120" y="9669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做汤做菜，配荤配素，无不适宜。苦辣 酸甜，随心所欲。“它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洁白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视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的美；它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柔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触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的美；它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香淡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味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的美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3"/>
          <p:cNvGrpSpPr/>
          <p:nvPr/>
        </p:nvGrpSpPr>
        <p:grpSpPr>
          <a:xfrm>
            <a:off x="793800" y="2827440"/>
            <a:ext cx="7699320" cy="884160"/>
            <a:chOff x="793800" y="2827440"/>
            <a:chExt cx="7699320" cy="884160"/>
          </a:xfrm>
        </p:grpSpPr>
        <p:sp>
          <p:nvSpPr>
            <p:cNvPr id="85" name="直接连接符 4"/>
            <p:cNvSpPr/>
            <p:nvPr/>
          </p:nvSpPr>
          <p:spPr>
            <a:xfrm>
              <a:off x="793800" y="371160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任意多边形 5"/>
            <p:cNvSpPr/>
            <p:nvPr/>
          </p:nvSpPr>
          <p:spPr>
            <a:xfrm>
              <a:off x="809640" y="2827440"/>
              <a:ext cx="7683480" cy="88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0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（重点）：这句话分别从哪几个方面来概括豆腐的特点？表达了作者的什么感情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1"/>
          <p:cNvSpPr/>
          <p:nvPr/>
        </p:nvSpPr>
        <p:spPr>
          <a:xfrm>
            <a:off x="885960" y="384192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 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引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女作家孟瑶的话，从视觉（洁白）、 触觉（柔软）、味觉（香淡）三个方面来介绍豆腐的特点。运用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排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， 表达了作者对豆腐的喜爱与赞美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750960" y="130968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江苏有句谚语：“吃肉不如吃豆腐， 又省钱又滋补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"/>
          <p:cNvGrpSpPr/>
          <p:nvPr/>
        </p:nvGrpSpPr>
        <p:grpSpPr>
          <a:xfrm>
            <a:off x="873000" y="2395440"/>
            <a:ext cx="7683480" cy="900360"/>
            <a:chOff x="873000" y="2395440"/>
            <a:chExt cx="7683480" cy="900360"/>
          </a:xfrm>
        </p:grpSpPr>
        <p:sp>
          <p:nvSpPr>
            <p:cNvPr id="90" name="直接连接符 4"/>
            <p:cNvSpPr/>
            <p:nvPr/>
          </p:nvSpPr>
          <p:spPr>
            <a:xfrm>
              <a:off x="873000" y="329580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任意多边形 5"/>
            <p:cNvSpPr/>
            <p:nvPr/>
          </p:nvSpPr>
          <p:spPr>
            <a:xfrm>
              <a:off x="873000" y="2395440"/>
              <a:ext cx="7683480" cy="881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引用谚语有什么作用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矩形 1"/>
          <p:cNvSpPr/>
          <p:nvPr/>
        </p:nvSpPr>
        <p:spPr>
          <a:xfrm>
            <a:off x="885960" y="35542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引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谚语既生动形象地告诉我们豆腐的营养价值高，又增强了文章的说服力和趣味性，并引出下面的事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735120" y="1609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豆腐在中国社会中，是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贫苦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老实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勤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象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885960" y="238428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贫苦”“老实”“勤劳”三个并列关系的词语，从对豆腐自身的介绍转向对其象征意义的揭示，这是作者的写作主旨。作者在借豆腐赞美我们的民族，我们的人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735120" y="1309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豆腐原是很平民化的食品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我，它不只是这样，它是含有深远哲学意味的食品。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它是平民的但并不平凡我们的“中国豆腐”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云形 1"/>
          <p:cNvGrpSpPr/>
          <p:nvPr/>
        </p:nvGrpSpPr>
        <p:grpSpPr>
          <a:xfrm>
            <a:off x="5218200" y="2286000"/>
            <a:ext cx="3870360" cy="993600"/>
            <a:chOff x="5218200" y="2286000"/>
            <a:chExt cx="3870360" cy="993600"/>
          </a:xfrm>
        </p:grpSpPr>
        <p:pic>
          <p:nvPicPr>
            <p:cNvPr id="97" name="云形 1" descr=""/>
            <p:cNvPicPr/>
            <p:nvPr/>
          </p:nvPicPr>
          <p:blipFill>
            <a:blip r:embed="rId1"/>
            <a:stretch/>
          </p:blipFill>
          <p:spPr>
            <a:xfrm>
              <a:off x="5218200" y="2286000"/>
              <a:ext cx="38703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859440" y="25160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本文的中心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矩形 4"/>
          <p:cNvSpPr/>
          <p:nvPr/>
        </p:nvSpPr>
        <p:spPr>
          <a:xfrm>
            <a:off x="876240" y="3141720"/>
            <a:ext cx="76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豆腐是平民的，因为它是大众化的食品。 但它并不平凡，它能与许多食品搭配成味道更佳的菜肴；它以极高的营养价值，成为老幼皆宜的食品；豆腐的历史与文化渊源更体现出它的不平凡；我们中国地域辽阔，人口众多，豆腐却家喻户晓，尽人皆知，深受欢迎。这句话是本文的</a:t>
            </a:r>
            <a:r>
              <a:rPr b="1" lang="zh-CN" sz="2200" spc="-1" strike="noStrike" u="sng">
                <a:solidFill>
                  <a:srgbClr val="ff00ff"/>
                </a:solidFill>
                <a:uFillTx/>
                <a:latin typeface="宋体"/>
              </a:rPr>
              <a:t>中心句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点明了文章的主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21"/>
          <p:cNvSpPr/>
          <p:nvPr/>
        </p:nvSpPr>
        <p:spPr>
          <a:xfrm>
            <a:off x="831960" y="963720"/>
            <a:ext cx="7569000" cy="101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辨中心句的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3"/>
          <p:cNvSpPr/>
          <p:nvPr/>
        </p:nvSpPr>
        <p:spPr>
          <a:xfrm>
            <a:off x="903240" y="1846440"/>
            <a:ext cx="734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中心句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心句是能概括文章或段落大意，对文 章或段落起统领或总结作用的句子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找中心句的方法有哪些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在文章或段落的开头，也有的在 文章或段落的结尾，能概括文章或段落的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5:06:04Z</dcterms:modified>
  <cp:revision>4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