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66E6-B3E5-4FCE-80F0-BDF9821CE8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3EC-4122-4B40-AA10-CA4E1DA7E7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EC9-1399-4522-AC7C-E600FD7F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5D0-0EA6-44E3-87E0-7E4507F3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BE8-A5F4-4980-B7C5-C0C7F48C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145-C946-44A9-8845-C4C95A66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126-27C2-4FD5-98F9-ADAA90B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39C-CC27-48B5-BB55-227E57C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CD1-8166-4084-9651-F19B5E28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29D-89A9-4533-971C-1A0DA140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33C-6FAB-433D-8C15-6B4B9942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699-3B91-44E9-9FFC-75DCAE1A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FBF-2A03-4D80-A511-D8E30AC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97E-E300-4D02-ABDE-F46D91A8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8859-D1A3-4989-AB8A-7EEEFDB644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组合 20" descr=""/>
          <p:cNvPicPr/>
          <p:nvPr/>
        </p:nvPicPr>
        <p:blipFill>
          <a:blip r:embed="rId1"/>
          <a:stretch/>
        </p:blipFill>
        <p:spPr>
          <a:xfrm>
            <a:off x="1006560" y="2560680"/>
            <a:ext cx="71308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矩形 2" descr=""/>
          <p:cNvPicPr/>
          <p:nvPr/>
        </p:nvPicPr>
        <p:blipFill>
          <a:blip r:embed="rId1"/>
          <a:stretch/>
        </p:blipFill>
        <p:spPr>
          <a:xfrm>
            <a:off x="828720" y="1841400"/>
            <a:ext cx="7718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2"/>
          <p:cNvSpPr/>
          <p:nvPr/>
        </p:nvSpPr>
        <p:spPr>
          <a:xfrm>
            <a:off x="1403280" y="184464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列加点字注音，并给多音字注音、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顷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音字：妙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另一个读音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组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644200" y="2421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g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5569920" y="24210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2868840" y="2997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ǐ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5374440" y="299736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4085280" y="35575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3"/>
          <p:cNvSpPr/>
          <p:nvPr/>
        </p:nvSpPr>
        <p:spPr>
          <a:xfrm>
            <a:off x="7534800" y="35575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426204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1569600" y="2533680"/>
            <a:ext cx="7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6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1"/>
          <p:cNvSpPr/>
          <p:nvPr/>
        </p:nvSpPr>
        <p:spPr>
          <a:xfrm>
            <a:off x="4451040" y="2533680"/>
            <a:ext cx="7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6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1572840" y="3110040"/>
            <a:ext cx="7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6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3"/>
          <p:cNvSpPr/>
          <p:nvPr/>
        </p:nvSpPr>
        <p:spPr>
          <a:xfrm>
            <a:off x="4485960" y="3073320"/>
            <a:ext cx="7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6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5"/>
          <p:cNvSpPr/>
          <p:nvPr/>
        </p:nvSpPr>
        <p:spPr>
          <a:xfrm>
            <a:off x="3085920" y="3646440"/>
            <a:ext cx="7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6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2"/>
          <p:cNvSpPr/>
          <p:nvPr/>
        </p:nvSpPr>
        <p:spPr>
          <a:xfrm>
            <a:off x="900000" y="1989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结合课文理解下列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定稿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亦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顷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环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皆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凡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2900880" y="2637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修改并确定稿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6316560" y="2649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1"/>
          <p:cNvSpPr/>
          <p:nvPr/>
        </p:nvSpPr>
        <p:spPr>
          <a:xfrm>
            <a:off x="2749320" y="31827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短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435720" y="31827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围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427480" y="3716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6468840" y="37227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总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矩形 1" descr=""/>
          <p:cNvPicPr/>
          <p:nvPr/>
        </p:nvPicPr>
        <p:blipFill>
          <a:blip r:embed="rId1"/>
          <a:stretch/>
        </p:blipFill>
        <p:spPr>
          <a:xfrm>
            <a:off x="768240" y="1768320"/>
            <a:ext cx="807084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723960" y="1149480"/>
            <a:ext cx="78566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本文讲述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代著名文学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醉翁亭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中“滁州四面有山”等数十字改为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五个字的故事，表现了他字斟句酌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写作精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“环滁皆山也”的意思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本文第一句在结构上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后面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这样使文章结构清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学习了本文，你认为写作时要怎么做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3224520" y="124452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5925600" y="12445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欧阳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6848640" y="1774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环滁皆山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6117840" y="224316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精益求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8"/>
          <p:cNvSpPr/>
          <p:nvPr/>
        </p:nvSpPr>
        <p:spPr>
          <a:xfrm>
            <a:off x="4982760" y="323676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围绕滁州的都是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0"/>
          <p:cNvSpPr/>
          <p:nvPr/>
        </p:nvSpPr>
        <p:spPr>
          <a:xfrm>
            <a:off x="4631400" y="376380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总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1"/>
          <p:cNvSpPr/>
          <p:nvPr/>
        </p:nvSpPr>
        <p:spPr>
          <a:xfrm>
            <a:off x="7462080" y="375120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事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2"/>
          <p:cNvSpPr/>
          <p:nvPr/>
        </p:nvSpPr>
        <p:spPr>
          <a:xfrm>
            <a:off x="1165320" y="5157720"/>
            <a:ext cx="705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写作的时候，要对词句进行反复推敲，做到语句精练，不说废话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1" descr=""/>
          <p:cNvPicPr/>
          <p:nvPr/>
        </p:nvPicPr>
        <p:blipFill>
          <a:blip r:embed="rId1"/>
          <a:stretch/>
        </p:blipFill>
        <p:spPr>
          <a:xfrm>
            <a:off x="933480" y="1596960"/>
            <a:ext cx="76438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7-11-22T05:09:42Z</dcterms:modified>
  <cp:revision>57</cp:revision>
  <dc:subject/>
  <dc:title>PowerPoint 演示文稿</dc:title>
</cp:coreProperties>
</file>