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6C569-FF17-4916-B35F-8DAA8EC4CF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131B6-4729-4D47-9367-83ACCDE6D7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B9812-6759-4048-B1DD-0577B4B0D7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6AF-FAAC-4B2C-9E53-A91CBAA8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A24-F68C-4092-84EC-2E846A99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B7C-A981-4A8C-A12B-BD3AC71A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A5A-B43F-48F4-BB59-CAC3E83F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2DF-78DC-4E25-ABAF-63E992BA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135-1A87-4F14-BF9A-ACA0AA89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593-2C11-4DD5-BED0-E29E7F52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190-83E2-4107-84A9-738C9C9A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BE3-14E2-4CA8-8C12-7808BBBF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650-A219-4BF8-9F11-14594CA7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8AF-4FB1-44A6-958E-C440CA21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3F4-5AA3-4703-BC87-8639863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CBE52-337E-4EF3-9909-9DE5D30C89A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176560" y="2139840"/>
            <a:ext cx="4956120" cy="329724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2874960" y="1011240"/>
            <a:ext cx="356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常昊学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887400" y="164628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追随名师，脱颖而出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常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岁开始跟随名师学习围棋，很快就脱颖而出，成为全班最好的棋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时间角度赞美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战高手，不断进取。写常昊作为一个出色的棋手的成长历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5"/>
          <p:cNvSpPr/>
          <p:nvPr/>
        </p:nvSpPr>
        <p:spPr>
          <a:xfrm>
            <a:off x="882720" y="1627200"/>
            <a:ext cx="7311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一说常昊在围棋班的表现和其他孩子有什么不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330200" y="3112920"/>
            <a:ext cx="678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岁正是小孩爱动爱玩的时候，这个年龄的小孩儿很少能安静下来。而常昊却能专心致志地观棋不语，老师顾不上他，他就自己看自己琢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7"/>
          <p:cNvSpPr/>
          <p:nvPr/>
        </p:nvSpPr>
        <p:spPr>
          <a:xfrm>
            <a:off x="915840" y="2111400"/>
            <a:ext cx="3237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示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国象棋、国际象棋、五子棋、跳棋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2"/>
          <p:cNvGrpSpPr/>
          <p:nvPr/>
        </p:nvGrpSpPr>
        <p:grpSpPr>
          <a:xfrm>
            <a:off x="4152960" y="1768320"/>
            <a:ext cx="3946320" cy="3502080"/>
            <a:chOff x="4152960" y="1768320"/>
            <a:chExt cx="3946320" cy="3502080"/>
          </a:xfrm>
        </p:grpSpPr>
        <p:sp>
          <p:nvSpPr>
            <p:cNvPr id="139" name="云形标注 4"/>
            <p:cNvSpPr/>
            <p:nvPr/>
          </p:nvSpPr>
          <p:spPr>
            <a:xfrm>
              <a:off x="4152960" y="1768320"/>
              <a:ext cx="3946320" cy="2544840"/>
            </a:xfrm>
            <a:prstGeom prst="cloudCallout">
              <a:avLst>
                <a:gd name="adj1" fmla="val 24824"/>
                <a:gd name="adj2" fmla="val 55953"/>
              </a:avLst>
            </a:prstGeom>
            <a:solidFill>
              <a:srgbClr val="ffffff"/>
            </a:solidFill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除了围棋你还了解哪些棋类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" name="Picture 5" descr="https://timgsa.baidu.com/timg?image&amp;quality=80&amp;size=b9999_10000&amp;sec=1492580636370&amp;di=bdc3dce87615abae23f895891dfd0168&amp;imgtype=0&amp;src=http%3A%2F%2Fwww.qqtu8.com%2Ff%2F20141014215328.gif"/>
            <p:cNvPicPr/>
            <p:nvPr/>
          </p:nvPicPr>
          <p:blipFill>
            <a:blip r:embed="rId1"/>
            <a:stretch/>
          </p:blipFill>
          <p:spPr>
            <a:xfrm>
              <a:off x="7062840" y="4413240"/>
              <a:ext cx="83772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1"/>
          <p:cNvSpPr/>
          <p:nvPr/>
        </p:nvSpPr>
        <p:spPr>
          <a:xfrm>
            <a:off x="825480" y="231768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课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1235160" y="3206880"/>
            <a:ext cx="6816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昊从小就迷上了围棋，而且敢与国内外高手安永一、聂卫平、藤泽秀行对弈，最终成为出色的围棋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5" name="矩形 13"/>
          <p:cNvSpPr/>
          <p:nvPr/>
        </p:nvSpPr>
        <p:spPr>
          <a:xfrm>
            <a:off x="1333440" y="2536920"/>
            <a:ext cx="704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边加点字注音全部正确的一项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邱老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擅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奋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ǒ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脱颖而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ǐ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方正姚体"/>
              </a:rPr>
              <a:t>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方正姚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方正姚体"/>
              </a:rPr>
              <a:t>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漏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方正姚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ò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邪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恭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ǒ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2038320" y="32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6115680" y="331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4149720" y="330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6"/>
          <p:cNvSpPr/>
          <p:nvPr/>
        </p:nvSpPr>
        <p:spPr>
          <a:xfrm>
            <a:off x="6180120" y="386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7"/>
          <p:cNvSpPr/>
          <p:nvPr/>
        </p:nvSpPr>
        <p:spPr>
          <a:xfrm>
            <a:off x="2365200" y="38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1"/>
          <p:cNvSpPr/>
          <p:nvPr/>
        </p:nvSpPr>
        <p:spPr>
          <a:xfrm>
            <a:off x="4881600" y="386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2"/>
          <p:cNvSpPr/>
          <p:nvPr/>
        </p:nvSpPr>
        <p:spPr>
          <a:xfrm>
            <a:off x="5749920" y="44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3"/>
          <p:cNvSpPr/>
          <p:nvPr/>
        </p:nvSpPr>
        <p:spPr>
          <a:xfrm>
            <a:off x="2038320" y="44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4"/>
          <p:cNvSpPr/>
          <p:nvPr/>
        </p:nvSpPr>
        <p:spPr>
          <a:xfrm>
            <a:off x="4425840" y="44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8"/>
          <p:cNvSpPr/>
          <p:nvPr/>
        </p:nvSpPr>
        <p:spPr>
          <a:xfrm>
            <a:off x="6553800" y="265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1"/>
          <p:cNvSpPr/>
          <p:nvPr/>
        </p:nvSpPr>
        <p:spPr>
          <a:xfrm>
            <a:off x="1359000" y="2133720"/>
            <a:ext cx="679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专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出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颜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5"/>
          <p:cNvSpPr/>
          <p:nvPr/>
        </p:nvSpPr>
        <p:spPr>
          <a:xfrm>
            <a:off x="6711840" y="3786120"/>
            <a:ext cx="5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6"/>
          <p:cNvSpPr/>
          <p:nvPr/>
        </p:nvSpPr>
        <p:spPr>
          <a:xfrm>
            <a:off x="2493720" y="280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27"/>
          <p:cNvSpPr/>
          <p:nvPr/>
        </p:nvSpPr>
        <p:spPr>
          <a:xfrm>
            <a:off x="3413160" y="2776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8"/>
          <p:cNvSpPr/>
          <p:nvPr/>
        </p:nvSpPr>
        <p:spPr>
          <a:xfrm>
            <a:off x="5240160" y="279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9"/>
          <p:cNvSpPr/>
          <p:nvPr/>
        </p:nvSpPr>
        <p:spPr>
          <a:xfrm>
            <a:off x="6149880" y="279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30"/>
          <p:cNvSpPr/>
          <p:nvPr/>
        </p:nvSpPr>
        <p:spPr>
          <a:xfrm>
            <a:off x="2179440" y="334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1"/>
          <p:cNvSpPr/>
          <p:nvPr/>
        </p:nvSpPr>
        <p:spPr>
          <a:xfrm>
            <a:off x="3413160" y="333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2"/>
          <p:cNvSpPr/>
          <p:nvPr/>
        </p:nvSpPr>
        <p:spPr>
          <a:xfrm>
            <a:off x="5271840" y="334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33"/>
          <p:cNvSpPr/>
          <p:nvPr/>
        </p:nvSpPr>
        <p:spPr>
          <a:xfrm>
            <a:off x="6464160" y="334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4"/>
          <p:cNvSpPr/>
          <p:nvPr/>
        </p:nvSpPr>
        <p:spPr>
          <a:xfrm>
            <a:off x="2496960" y="37861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35"/>
          <p:cNvSpPr/>
          <p:nvPr/>
        </p:nvSpPr>
        <p:spPr>
          <a:xfrm>
            <a:off x="3413160" y="38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6"/>
          <p:cNvSpPr/>
          <p:nvPr/>
        </p:nvSpPr>
        <p:spPr>
          <a:xfrm>
            <a:off x="5551200" y="3903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9"/>
          <p:cNvSpPr/>
          <p:nvPr/>
        </p:nvSpPr>
        <p:spPr>
          <a:xfrm>
            <a:off x="468360" y="1790640"/>
            <a:ext cx="874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字选择正确的解释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填序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直：①不弯曲。  ②一个劲儿地。  ③爽快，坦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条公路笔直地伸向远方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听“嘣”的一声响，那只大雁直往上飞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马大婶心直口快，乐于助人，在这一带非常有名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2662200" y="3127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9"/>
          <p:cNvSpPr/>
          <p:nvPr/>
        </p:nvSpPr>
        <p:spPr>
          <a:xfrm>
            <a:off x="2351880" y="421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5425920" y="366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7"/>
          <p:cNvSpPr/>
          <p:nvPr/>
        </p:nvSpPr>
        <p:spPr>
          <a:xfrm>
            <a:off x="4962240" y="30099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8"/>
          <p:cNvSpPr/>
          <p:nvPr/>
        </p:nvSpPr>
        <p:spPr>
          <a:xfrm>
            <a:off x="7120800" y="35751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9"/>
          <p:cNvSpPr/>
          <p:nvPr/>
        </p:nvSpPr>
        <p:spPr>
          <a:xfrm>
            <a:off x="8055720" y="40971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8"/>
          <p:cNvSpPr/>
          <p:nvPr/>
        </p:nvSpPr>
        <p:spPr>
          <a:xfrm>
            <a:off x="1306440" y="2222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擅长　　善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画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都要有一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现的眼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4403880" y="3849840"/>
            <a:ext cx="8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善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2730240" y="33256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擅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9"/>
          <p:cNvSpPr/>
          <p:nvPr/>
        </p:nvSpPr>
        <p:spPr>
          <a:xfrm>
            <a:off x="755640" y="14256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爸爸妈妈慕名把他送进了上海很有名的教练邱百瑞的围棋班里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成“被”字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昊那种专注投入的神情却深深地打动了邱老师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1266840" y="5265720"/>
            <a:ext cx="34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神情打动了邱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1"/>
          <p:cNvSpPr/>
          <p:nvPr/>
        </p:nvSpPr>
        <p:spPr>
          <a:xfrm>
            <a:off x="1258920" y="30621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他被爸爸妈妈慕名送进了上海很有名的教练邱百瑞的围棋班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9"/>
          <p:cNvSpPr/>
          <p:nvPr/>
        </p:nvSpPr>
        <p:spPr>
          <a:xfrm>
            <a:off x="611280" y="1884240"/>
            <a:ext cx="78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邱老师对常昊说：“日本有个老棋手叫安永一，来到了上海，你去跟他下一盘。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成转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昊学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文，让我深受启发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0"/>
          <p:cNvSpPr/>
          <p:nvPr/>
        </p:nvSpPr>
        <p:spPr>
          <a:xfrm>
            <a:off x="1071720" y="463392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b10f4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学习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常昊学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文，我深受启发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1060560" y="2960640"/>
            <a:ext cx="73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邱老师对常昊说，日本有个老棋手叫安永一，来到了上海，让常昊去跟他下一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866880" y="2365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积累文中的好词佳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正确、流利、有感情地朗读课文，了解常昊成为中国围棋队主力的经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4"/>
          <p:cNvSpPr/>
          <p:nvPr/>
        </p:nvSpPr>
        <p:spPr>
          <a:xfrm>
            <a:off x="677880" y="1601640"/>
            <a:ext cx="78516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常昊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籍贯上海，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976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日生。中国围棋名将。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岁学棋，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岁进上海队，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岁入选国家少年集训队。曾获第一、第三届全国棋童杯围棋赛冠军，第五届世界青少年围棋锦标赛冠军，第十二届世界业余围棋锦标赛冠军。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年在中韩新锐对抗赛中取得二连胜。在第十届中日围棋擂台赛中，连胜日本五员大将，为中国队取胜立下战功。第十届至第十四届天元赛冠军，首届乐百氏杯围棋赛冠军，第三届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杯围棋赛冠军，第十一届富士通杯围棋赛亚军。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999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年连续获得乐百氏杯、天元、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CCTV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杯及首届棋圣赛冠军，成为四冠王。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986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年定为初段，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年升为八段，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999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年晋升九段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" name="组合 2"/>
          <p:cNvGrpSpPr/>
          <p:nvPr/>
        </p:nvGrpSpPr>
        <p:grpSpPr>
          <a:xfrm>
            <a:off x="647640" y="990720"/>
            <a:ext cx="2905200" cy="666720"/>
            <a:chOff x="647640" y="990720"/>
            <a:chExt cx="2905200" cy="666720"/>
          </a:xfrm>
        </p:grpSpPr>
        <p:sp>
          <p:nvSpPr>
            <p:cNvPr id="70" name="圆角矩形 7"/>
            <p:cNvSpPr/>
            <p:nvPr/>
          </p:nvSpPr>
          <p:spPr>
            <a:xfrm>
              <a:off x="1463400" y="11286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9907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文本框 16"/>
            <p:cNvSpPr/>
            <p:nvPr/>
          </p:nvSpPr>
          <p:spPr>
            <a:xfrm>
              <a:off x="1722960" y="11476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任意多边形 8"/>
          <p:cNvSpPr/>
          <p:nvPr/>
        </p:nvSpPr>
        <p:spPr>
          <a:xfrm>
            <a:off x="1111320" y="2793960"/>
            <a:ext cx="751824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邱  擅  颖  弈  邪  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1047240" y="2541600"/>
            <a:ext cx="9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100240" y="253512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3428280" y="25099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ǐ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0"/>
          <p:cNvSpPr/>
          <p:nvPr/>
        </p:nvSpPr>
        <p:spPr>
          <a:xfrm>
            <a:off x="4881240" y="251460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5955480" y="25192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0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3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84" name="矩形 18"/>
          <p:cNvSpPr/>
          <p:nvPr/>
        </p:nvSpPr>
        <p:spPr>
          <a:xfrm>
            <a:off x="7275240" y="2502000"/>
            <a:ext cx="7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聪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颖　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常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2028600" y="2592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204080" y="261612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ǐ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0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9"/>
          <p:cNvSpPr/>
          <p:nvPr/>
        </p:nvSpPr>
        <p:spPr>
          <a:xfrm>
            <a:off x="6203880" y="262260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à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2238480" y="31528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4"/>
          <p:cNvGrpSpPr/>
          <p:nvPr/>
        </p:nvGrpSpPr>
        <p:grpSpPr>
          <a:xfrm>
            <a:off x="2844720" y="2368440"/>
            <a:ext cx="3845160" cy="2013120"/>
            <a:chOff x="2844720" y="2368440"/>
            <a:chExt cx="3845160" cy="2013120"/>
          </a:xfrm>
        </p:grpSpPr>
        <p:sp>
          <p:nvSpPr>
            <p:cNvPr id="96" name="左大括号 2"/>
            <p:cNvSpPr/>
            <p:nvPr/>
          </p:nvSpPr>
          <p:spPr>
            <a:xfrm>
              <a:off x="2844720" y="2611080"/>
              <a:ext cx="303120" cy="1606680"/>
            </a:xfrm>
            <a:custGeom>
              <a:avLst/>
              <a:gdLst>
                <a:gd name="textAreaLeft" fmla="*/ 193680 w 303120"/>
                <a:gd name="textAreaRight" fmla="*/ 303480 w 303120"/>
                <a:gd name="textAreaTop" fmla="*/ 5400 h 1606680"/>
                <a:gd name="textAreaBottom" fmla="*/ 1601280 h 160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3"/>
                    <a:pt x="10800" y="245"/>
                  </a:cubicBezTo>
                  <a:lnTo>
                    <a:pt x="10800" y="10555"/>
                  </a:lnTo>
                  <a:cubicBezTo>
                    <a:pt x="10800" y="10678"/>
                    <a:pt x="5400" y="10800"/>
                    <a:pt x="0" y="10800"/>
                  </a:cubicBezTo>
                  <a:cubicBezTo>
                    <a:pt x="5400" y="10800"/>
                    <a:pt x="10800" y="10923"/>
                    <a:pt x="10800" y="11045"/>
                  </a:cubicBezTo>
                  <a:lnTo>
                    <a:pt x="10800" y="21355"/>
                  </a:lnTo>
                  <a:cubicBezTo>
                    <a:pt x="10800" y="2147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3"/>
            <p:cNvSpPr/>
            <p:nvPr/>
          </p:nvSpPr>
          <p:spPr>
            <a:xfrm>
              <a:off x="3076200" y="2368440"/>
              <a:ext cx="361368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uò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落叶　村落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落下　丢三落四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à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落枕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TextBox 13"/>
          <p:cNvSpPr/>
          <p:nvPr/>
        </p:nvSpPr>
        <p:spPr>
          <a:xfrm>
            <a:off x="2322360" y="490068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组合 5"/>
          <p:cNvGrpSpPr/>
          <p:nvPr/>
        </p:nvGrpSpPr>
        <p:grpSpPr>
          <a:xfrm>
            <a:off x="2857680" y="4481640"/>
            <a:ext cx="3525480" cy="1373400"/>
            <a:chOff x="2857680" y="4481640"/>
            <a:chExt cx="3525480" cy="1373400"/>
          </a:xfrm>
        </p:grpSpPr>
        <p:sp>
          <p:nvSpPr>
            <p:cNvPr id="100" name="左大括号 14"/>
            <p:cNvSpPr/>
            <p:nvPr/>
          </p:nvSpPr>
          <p:spPr>
            <a:xfrm>
              <a:off x="2857680" y="4700520"/>
              <a:ext cx="274680" cy="950760"/>
            </a:xfrm>
            <a:custGeom>
              <a:avLst/>
              <a:gdLst>
                <a:gd name="textAreaLeft" fmla="*/ 175680 w 274680"/>
                <a:gd name="textAreaRight" fmla="*/ 275040 w 274680"/>
                <a:gd name="textAreaTop" fmla="*/ 5400 h 950760"/>
                <a:gd name="textAreaBottom" fmla="*/ 9453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05"/>
                    <a:pt x="10800" y="409"/>
                  </a:cubicBezTo>
                  <a:lnTo>
                    <a:pt x="10800" y="10391"/>
                  </a:lnTo>
                  <a:cubicBezTo>
                    <a:pt x="10800" y="10596"/>
                    <a:pt x="5400" y="10800"/>
                    <a:pt x="0" y="10800"/>
                  </a:cubicBezTo>
                  <a:cubicBezTo>
                    <a:pt x="5400" y="10800"/>
                    <a:pt x="10800" y="11005"/>
                    <a:pt x="10800" y="11209"/>
                  </a:cubicBezTo>
                  <a:lnTo>
                    <a:pt x="10800" y="21191"/>
                  </a:lnTo>
                  <a:cubicBezTo>
                    <a:pt x="10800" y="2139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15"/>
            <p:cNvSpPr/>
            <p:nvPr/>
          </p:nvSpPr>
          <p:spPr>
            <a:xfrm>
              <a:off x="3067200" y="4481640"/>
              <a:ext cx="33159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tiǎ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挑战　挑拨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tiā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挑选　挑水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03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738360" y="1619280"/>
            <a:ext cx="745632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慕名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对弈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惧色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松懈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怯生生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558720" y="1001880"/>
            <a:ext cx="2594160" cy="666720"/>
            <a:chOff x="558720" y="1001880"/>
            <a:chExt cx="2594160" cy="666720"/>
          </a:xfrm>
        </p:grpSpPr>
        <p:sp>
          <p:nvSpPr>
            <p:cNvPr id="108" name="圆角矩形 5"/>
            <p:cNvSpPr/>
            <p:nvPr/>
          </p:nvSpPr>
          <p:spPr>
            <a:xfrm>
              <a:off x="1374840" y="11397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00188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634040" y="115884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1"/>
          <p:cNvSpPr/>
          <p:nvPr/>
        </p:nvSpPr>
        <p:spPr>
          <a:xfrm>
            <a:off x="1596960" y="1641600"/>
            <a:ext cx="70423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仰慕别人的名气。文中指常昊的爸爸妈妈仰慕围棋教练邱百瑞的名气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造句：大家都是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</a:rPr>
              <a:t>慕名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而来跟杨老师学书法的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下棋。文中指常昊与同学下棋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造句：和爷爷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</a:rPr>
              <a:t>对弈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，我胜多负少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畏惧的神色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造句：面对歹徒的匕首，警察叔叔面无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</a:rPr>
              <a:t>惧色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精神松弛、懈怠。②使放松；使懈怠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形容胆怯畏缩的样子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造句：他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</a:rPr>
              <a:t>怯生生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地走到老师面前，低下了头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436680" y="197964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专心致志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脱颖而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身经百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全力以赴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1"/>
          <p:cNvSpPr/>
          <p:nvPr/>
        </p:nvSpPr>
        <p:spPr>
          <a:xfrm>
            <a:off x="1801800" y="2003400"/>
            <a:ext cx="6964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一心一意；集中精神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课堂上，大家都在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专心致志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听老师讲课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比喻人的才能全部显示出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在这次歌咏比赛中，小丽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脱颖而出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亲身经历过许多次战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我爷爷是一位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身经百战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老公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把全部力量或精力都投入进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次校运动会，为了班级荣誉，我会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全力以赴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3963240" y="1841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擅长　善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2162160" y="2381400"/>
            <a:ext cx="62578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擅长”和“善于”都有对某一技能具有特长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擅长”一般只用于某一技能，有专长；“善于”泛指在某一方面具有特长，也可以用于某一技能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爸爸</a:t>
            </a:r>
            <a:r>
              <a:rPr b="1" lang="zh-CN" sz="2300" spc="-1" strike="noStrike">
                <a:solidFill>
                  <a:srgbClr val="ff00ff"/>
                </a:solidFill>
                <a:latin typeface="宋体"/>
              </a:rPr>
              <a:t>擅长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滑冰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小王</a:t>
            </a:r>
            <a:r>
              <a:rPr b="1" lang="zh-CN" sz="2300" spc="-1" strike="noStrike">
                <a:solidFill>
                  <a:srgbClr val="ff00ff"/>
                </a:solidFill>
                <a:latin typeface="宋体"/>
              </a:rPr>
              <a:t>善于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和孩子们打交道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1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4"/>
          <p:cNvGrpSpPr/>
          <p:nvPr/>
        </p:nvGrpSpPr>
        <p:grpSpPr>
          <a:xfrm>
            <a:off x="723960" y="2436840"/>
            <a:ext cx="1670040" cy="459720"/>
            <a:chOff x="723960" y="2436840"/>
            <a:chExt cx="1670040" cy="459720"/>
          </a:xfrm>
        </p:grpSpPr>
        <p:pic>
          <p:nvPicPr>
            <p:cNvPr id="125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723960" y="24912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3"/>
            <p:cNvSpPr/>
            <p:nvPr/>
          </p:nvSpPr>
          <p:spPr>
            <a:xfrm>
              <a:off x="1067040" y="24368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20"/>
          <p:cNvGrpSpPr/>
          <p:nvPr/>
        </p:nvGrpSpPr>
        <p:grpSpPr>
          <a:xfrm>
            <a:off x="665280" y="3564000"/>
            <a:ext cx="1670040" cy="459720"/>
            <a:chOff x="665280" y="3564000"/>
            <a:chExt cx="1670040" cy="459720"/>
          </a:xfrm>
        </p:grpSpPr>
        <p:pic>
          <p:nvPicPr>
            <p:cNvPr id="128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65280" y="36183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22"/>
            <p:cNvSpPr/>
            <p:nvPr/>
          </p:nvSpPr>
          <p:spPr>
            <a:xfrm>
              <a:off x="1008360" y="35640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23"/>
          <p:cNvGrpSpPr/>
          <p:nvPr/>
        </p:nvGrpSpPr>
        <p:grpSpPr>
          <a:xfrm>
            <a:off x="646200" y="5230800"/>
            <a:ext cx="1670040" cy="459720"/>
            <a:chOff x="646200" y="5230800"/>
            <a:chExt cx="1670040" cy="459720"/>
          </a:xfrm>
        </p:grpSpPr>
        <p:pic>
          <p:nvPicPr>
            <p:cNvPr id="131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46200" y="52851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25"/>
            <p:cNvSpPr/>
            <p:nvPr/>
          </p:nvSpPr>
          <p:spPr>
            <a:xfrm>
              <a:off x="989280" y="52308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5:10:13Z</dcterms:modified>
  <cp:revision>4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