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5.png" ContentType="image/png"/>
  <Override PartName="/ppt/media/image22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C094A-E578-4F04-95FB-788272265DC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B69F4-9EF9-4C43-B5D7-EFD71001C0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5F3A3-DB3D-44F6-BEFC-22CD0B9DDED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78C7B-6FD3-4C6A-A522-427B2F9820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745BB-376D-49AC-9639-49AF393280E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F2D8D-C113-4AA5-A2C3-72529FFAC6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D1C40-C7FD-4B7C-B87C-D7394D88D1B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BFD-7FFB-45CC-8D3B-F6050662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032-6C8B-474B-87E6-417AA72A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0D6-477F-46D7-B6A0-58DF1CBA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1B7-08F5-436B-BA6D-53B3F948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F87-E287-4311-B4FD-7224808F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B61-52EC-490F-80C0-C7E8EF02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EA9-C016-4B6F-A435-40F45E11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6A7-6EFD-4DB0-A6C1-78187C3A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69E-3F46-48DB-B981-7EDF0947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78B-87F2-4A98-A1E5-C15FA9B5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878-A4F3-4778-96D2-55DA20C6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B24-0FF1-45FF-9046-3CB8E564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B14F1-E15D-4BE6-B91A-B6E21662EFA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9" descr=""/>
          <p:cNvPicPr/>
          <p:nvPr/>
        </p:nvPicPr>
        <p:blipFill>
          <a:blip r:embed="rId1"/>
          <a:stretch/>
        </p:blipFill>
        <p:spPr>
          <a:xfrm>
            <a:off x="3228840" y="2151000"/>
            <a:ext cx="2686320" cy="337176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4480" y="3186000"/>
            <a:ext cx="2830680" cy="1150920"/>
            <a:chOff x="3084480" y="3186000"/>
            <a:chExt cx="283068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278880" y="3186000"/>
              <a:ext cx="2435040" cy="115092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886920" y="3274920"/>
              <a:ext cx="812520" cy="10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4480" y="3255120"/>
              <a:ext cx="2830680" cy="103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"/>
          <p:cNvSpPr/>
          <p:nvPr/>
        </p:nvSpPr>
        <p:spPr>
          <a:xfrm>
            <a:off x="2184480" y="1011240"/>
            <a:ext cx="477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海瑞当知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6"/>
          <p:cNvGrpSpPr/>
          <p:nvPr/>
        </p:nvGrpSpPr>
        <p:grpSpPr>
          <a:xfrm>
            <a:off x="763560" y="1876320"/>
            <a:ext cx="7751880" cy="587520"/>
            <a:chOff x="763560" y="1876320"/>
            <a:chExt cx="7751880" cy="587520"/>
          </a:xfrm>
        </p:grpSpPr>
        <p:sp>
          <p:nvSpPr>
            <p:cNvPr id="109" name="直接连接符 7"/>
            <p:cNvSpPr/>
            <p:nvPr/>
          </p:nvSpPr>
          <p:spPr>
            <a:xfrm>
              <a:off x="790200" y="2463840"/>
              <a:ext cx="752184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任意多边形 8"/>
            <p:cNvSpPr/>
            <p:nvPr/>
          </p:nvSpPr>
          <p:spPr>
            <a:xfrm>
              <a:off x="763560" y="1876320"/>
              <a:ext cx="77518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海瑞给鄢懋卿写信有何用意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矩形 4"/>
          <p:cNvSpPr/>
          <p:nvPr/>
        </p:nvSpPr>
        <p:spPr>
          <a:xfrm>
            <a:off x="819000" y="2649600"/>
            <a:ext cx="750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方面告诉鄢懋卿自己不能违背上级“招待从简”的通知要求，另一方面直截了当地揭穿了他每到一处便“花天酒地”的奢侈生活，令鄢懋卿尴尬难堪，足见海瑞的胆量和机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"/>
          <p:cNvSpPr/>
          <p:nvPr/>
        </p:nvSpPr>
        <p:spPr>
          <a:xfrm>
            <a:off x="885960" y="1881360"/>
            <a:ext cx="768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假如给海瑞送一副对联表示敬意，你会写什么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24" descr="花盆.png"/>
          <p:cNvPicPr/>
          <p:nvPr/>
        </p:nvPicPr>
        <p:blipFill>
          <a:blip r:embed="rId1"/>
          <a:stretch/>
        </p:blipFill>
        <p:spPr>
          <a:xfrm>
            <a:off x="642960" y="20350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14" name="矩形 2"/>
          <p:cNvSpPr/>
          <p:nvPr/>
        </p:nvSpPr>
        <p:spPr>
          <a:xfrm>
            <a:off x="982800" y="2971800"/>
            <a:ext cx="68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上联：一代清官树正气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下联：贪官污吏生惧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116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写出更多这样的对联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内容占位符 2"/>
          <p:cNvSpPr/>
          <p:nvPr/>
        </p:nvSpPr>
        <p:spPr>
          <a:xfrm>
            <a:off x="635040" y="1981080"/>
            <a:ext cx="22035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963720" y="3268800"/>
            <a:ext cx="7424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因为海瑞被调到浙江淳安之前，县里官吏审理案件大多是让平民百姓含冤受屈，而让有权有势的人逍遥法外。海瑞到了淳安以后，不管什么样的疑难案件，他都一件件调查得水落石出，从不冤枉好人，也不放过坏人。例如他敢于用计惩办胡公子，还让贪婪狠毒的鄢懋卿取消了到淳安视察的计划。所以，当地百姓都称他是“青天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879480" y="262584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百姓为什么称海瑞为“青天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内容占位符 2"/>
          <p:cNvSpPr/>
          <p:nvPr/>
        </p:nvSpPr>
        <p:spPr>
          <a:xfrm>
            <a:off x="782640" y="229068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海瑞是什么时期当的县官，当时的社会背景怎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1182600" y="352440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故事发生在明朝中期，当时社会不良风气盛行。严嵩把持朝政，气焰熏天。他手下的同党及其亲属，都依仗严嵩的势力，作威作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内容占位符 2"/>
          <p:cNvSpPr/>
          <p:nvPr/>
        </p:nvSpPr>
        <p:spPr>
          <a:xfrm>
            <a:off x="635040" y="156996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内容占位符 2"/>
          <p:cNvSpPr/>
          <p:nvPr/>
        </p:nvSpPr>
        <p:spPr>
          <a:xfrm>
            <a:off x="625320" y="1893960"/>
            <a:ext cx="78472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主要讲了海瑞当知县时的哪几件事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888840" y="2820960"/>
            <a:ext cx="76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主要记叙了海瑞在淳安当知县时“智办胡公子”和“巧治鄢懋卿”两个小故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内容占位符 2"/>
          <p:cNvSpPr/>
          <p:nvPr/>
        </p:nvSpPr>
        <p:spPr>
          <a:xfrm>
            <a:off x="750960" y="142560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中所写的事情，哪些事详写？哪些事略写？这样写有什么好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1065240" y="273996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详写了智办胡公子，略写巧治鄢懋卿。这样安排，能更好地表现海瑞的正直、机智、不畏权贵，增强了表达效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内容占位符 2"/>
          <p:cNvSpPr/>
          <p:nvPr/>
        </p:nvSpPr>
        <p:spPr>
          <a:xfrm>
            <a:off x="585720" y="1360440"/>
            <a:ext cx="80805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四悟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你认为海瑞是个这样的人？结合文中相关语句谈谈你的看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870120" y="1887480"/>
            <a:ext cx="75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海瑞是个正直、机智、不畏权贵的人。课文中有直接描写他机智、正直、不畏权贵的句子，如：“有一个小小的知县，却不惧怕他们。他的名字叫海瑞”“海瑞知道胡公子招摇过境，本来已经感到厌烦；现在竟打起驿吏来，就觉得非管不可了”；也有从侧面衬托他优秀品质的句子，如：“胡宗宪看到儿子被押回来的狼狈样子，问明事情的来龙去脉，心里又惊又怒，却不敢发作：他知道海瑞官职虽小，却不是好惹的”“但是他早听说海瑞是个铁面无私的硬汉，又知道胡宗宪的儿子刚在淳安吃过大亏，有点害怕，就改变了主意，绕过淳安，到别处去了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7"/>
          <p:cNvSpPr/>
          <p:nvPr/>
        </p:nvSpPr>
        <p:spPr>
          <a:xfrm>
            <a:off x="2233440" y="25272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时代背景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不良风气盛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8"/>
          <p:cNvSpPr/>
          <p:nvPr/>
        </p:nvSpPr>
        <p:spPr>
          <a:xfrm>
            <a:off x="1288440" y="1987920"/>
            <a:ext cx="109440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海瑞当知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6554880" y="3056040"/>
            <a:ext cx="213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公正无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机智无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4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5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矩形 1"/>
          <p:cNvSpPr/>
          <p:nvPr/>
        </p:nvSpPr>
        <p:spPr>
          <a:xfrm>
            <a:off x="3789360" y="3605040"/>
            <a:ext cx="33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被称为“青天”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智办胡公子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巧治鄢懋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"/>
          <p:cNvSpPr/>
          <p:nvPr/>
        </p:nvSpPr>
        <p:spPr>
          <a:xfrm>
            <a:off x="2233440" y="4203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为官清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左大括号 4"/>
          <p:cNvSpPr/>
          <p:nvPr/>
        </p:nvSpPr>
        <p:spPr>
          <a:xfrm>
            <a:off x="2097000" y="2722680"/>
            <a:ext cx="219240" cy="2170080"/>
          </a:xfrm>
          <a:custGeom>
            <a:avLst/>
            <a:gdLst>
              <a:gd name="textAreaLeft" fmla="*/ 140040 w 219240"/>
              <a:gd name="textAreaRight" fmla="*/ 219600 w 219240"/>
              <a:gd name="textAreaTop" fmla="*/ 5400 h 2170080"/>
              <a:gd name="textAreaBottom" fmla="*/ 2164680 h 21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1"/>
                  <a:pt x="10800" y="182"/>
                </a:cubicBezTo>
                <a:lnTo>
                  <a:pt x="10800" y="10618"/>
                </a:lnTo>
                <a:cubicBezTo>
                  <a:pt x="10800" y="10709"/>
                  <a:pt x="5400" y="10800"/>
                  <a:pt x="0" y="10800"/>
                </a:cubicBezTo>
                <a:cubicBezTo>
                  <a:pt x="5400" y="10800"/>
                  <a:pt x="10800" y="10891"/>
                  <a:pt x="10800" y="10982"/>
                </a:cubicBezTo>
                <a:lnTo>
                  <a:pt x="10800" y="21418"/>
                </a:lnTo>
                <a:cubicBezTo>
                  <a:pt x="10800" y="2150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左大括号 16"/>
          <p:cNvSpPr/>
          <p:nvPr/>
        </p:nvSpPr>
        <p:spPr>
          <a:xfrm>
            <a:off x="3659040" y="3719520"/>
            <a:ext cx="257400" cy="1601640"/>
          </a:xfrm>
          <a:custGeom>
            <a:avLst/>
            <a:gdLst>
              <a:gd name="textAreaLeft" fmla="*/ 164520 w 257400"/>
              <a:gd name="textAreaRight" fmla="*/ 257760 w 257400"/>
              <a:gd name="textAreaTop" fmla="*/ 6480 h 1601640"/>
              <a:gd name="textAreaBottom" fmla="*/ 1595160 h 16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5"/>
                  <a:pt x="10800" y="289"/>
                </a:cubicBezTo>
                <a:lnTo>
                  <a:pt x="10800" y="10511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5"/>
                  <a:pt x="10800" y="11089"/>
                </a:cubicBezTo>
                <a:lnTo>
                  <a:pt x="10800" y="21311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左大括号 17"/>
          <p:cNvSpPr/>
          <p:nvPr/>
        </p:nvSpPr>
        <p:spPr>
          <a:xfrm flipH="1">
            <a:off x="6183360" y="2554200"/>
            <a:ext cx="341280" cy="2808360"/>
          </a:xfrm>
          <a:custGeom>
            <a:avLst/>
            <a:gdLst>
              <a:gd name="textAreaLeft" fmla="*/ 218520 w 341280"/>
              <a:gd name="textAreaRight" fmla="*/ 342000 w 341280"/>
              <a:gd name="textAreaTop" fmla="*/ 8640 h 2808360"/>
              <a:gd name="textAreaBottom" fmla="*/ 279972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"/>
                  <a:pt x="10800" y="219"/>
                </a:cubicBezTo>
                <a:lnTo>
                  <a:pt x="10800" y="10581"/>
                </a:lnTo>
                <a:cubicBezTo>
                  <a:pt x="10800" y="10691"/>
                  <a:pt x="5400" y="10800"/>
                  <a:pt x="0" y="10800"/>
                </a:cubicBezTo>
                <a:cubicBezTo>
                  <a:pt x="5400" y="10800"/>
                  <a:pt x="10800" y="10910"/>
                  <a:pt x="10800" y="11019"/>
                </a:cubicBezTo>
                <a:lnTo>
                  <a:pt x="10800" y="21381"/>
                </a:lnTo>
                <a:cubicBezTo>
                  <a:pt x="10800" y="2149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内容占位符 2"/>
          <p:cNvSpPr/>
          <p:nvPr/>
        </p:nvSpPr>
        <p:spPr>
          <a:xfrm>
            <a:off x="949320" y="2454120"/>
            <a:ext cx="74167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主要记叙了海瑞在淳安当知县时“智办胡公子”和“巧治鄢懋卿”两个小故事，表现了海瑞和不良风气作斗争的聪明才智和英勇无畏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5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9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0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内容占位符 2"/>
          <p:cNvSpPr/>
          <p:nvPr/>
        </p:nvSpPr>
        <p:spPr>
          <a:xfrm>
            <a:off x="928800" y="1843200"/>
            <a:ext cx="7423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海瑞冒死谏皇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明世宗为人猜忌刻薄，凡是敢于说真话，如杨继盛这样爱提意见的官员，不是被杀头、监禁，就是被革职、充军。因此，后来没有人再敢批评他。但是到嘉靖四十五年，晚年的明世宗遇到一个不怕死，敢于揭他痛处的官员——海南琼山人海瑞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此时，严嵩父子虽然倒了台，但贪污腐化、吏治败坏的风气没有丝毫改变，明世宗仍然沉溺在求仙问药之中。老百姓越来越穷困。海瑞当时任户部主事，他要上一道奏章，希望皇帝从迷信中醒悟过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6"/>
          <p:cNvSpPr/>
          <p:nvPr/>
        </p:nvSpPr>
        <p:spPr>
          <a:xfrm>
            <a:off x="811080" y="262728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朗读课文，认识海瑞的正直、机智与果断，学习海瑞不畏权贵、追求人格平等的品质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领悟详略得当的表达方法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内容占位符 2"/>
          <p:cNvSpPr/>
          <p:nvPr/>
        </p:nvSpPr>
        <p:spPr>
          <a:xfrm>
            <a:off x="874800" y="1255680"/>
            <a:ext cx="755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他知道，奏章呈上去，就会有杀身之祸。但他决心已下，就事先遣散了家人，安排好后事，又给自己买了棺材，诀别了妻子，才将他的奏章呈进宫去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明世宗倒是耐着性子读完了他的奏章。可是他越看越气。那上面写道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陛下即位之初确做过些好事，可是后来却沉溺在神仙和仙药中，追求长生不老。可是尧、舜、禹、汤、文、武这些古圣贤，还有秦、汉那些自称有仙术的方士，至今还有在的吗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陛下叫人到处采购炼丹的药材，又大兴土木，修建道宫，耗尽了民脂民膏，弄得民穷财尽。怪不得现今老百姓都说：陛下年号叫“嘉靖”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内容占位符 2"/>
          <p:cNvSpPr/>
          <p:nvPr/>
        </p:nvSpPr>
        <p:spPr>
          <a:xfrm>
            <a:off x="874800" y="1255680"/>
            <a:ext cx="755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是家家户户干干净净的意思。陛下二十多年不上朝，滥派官职，跟亲人、官员不见面，猜忌、杀戮臣下，弄得国弱民穷，君道不正，臣职不明，形势非常严重。陛下自比为尧、舜，臣下以为连汉文帝都不如……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明世宗气得七窍生烟，将奏章狠狠地摔在地上，大喊道：“赶快把这个家伙抓起来，别让他逃跑了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宦官黄锦说：“听说这个人不怕死，做官清廉。他自知触犯陛下，活不成了，已经安排好后事，准备好棺材，不会逃跑的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明世宗沉默半晌，再将奏章拾起反复阅读，觉得海瑞的话多少有些道理，自言自语连声叹息说：“这个人倒像比干，只是朕还没有商纣王那么坏吧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他好几个月没有作批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内容占位符 2"/>
          <p:cNvSpPr/>
          <p:nvPr/>
        </p:nvSpPr>
        <p:spPr>
          <a:xfrm>
            <a:off x="874800" y="1255680"/>
            <a:ext cx="755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但明世宗后来还是下旨将海瑞抓了起来。不过，才过了两个月，明世宗就死了。他的儿子明穆宗即位，才将海瑞放出监狱，恢复了官职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E:\分类文件\冀教、北师、长春、教科共用文件\课件制作所需文件\JK\JK6上\JK六上推荐阅读图片\海瑞冒死谏皇帝.jpg"/>
          <p:cNvPicPr/>
          <p:nvPr/>
        </p:nvPicPr>
        <p:blipFill>
          <a:blip r:embed="rId1"/>
          <a:stretch/>
        </p:blipFill>
        <p:spPr>
          <a:xfrm>
            <a:off x="2523960" y="3008160"/>
            <a:ext cx="39531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9" descr="https://timgsa.baidu.com/timg?image&amp;quality=80&amp;size=b9999_10000&amp;sec=1493872230934&amp;di=9577f480f02ddcb8250e52b3a10ef6a7&amp;imgtype=0&amp;src=http%3A%2F%2F1861.img.pp.sohu.com.cn%2Fimages%2Fblog%2F2012%2F1%2F4%2F10%2F16%2Fu115243949_135657e6c07g215.jpg"/>
          <p:cNvPicPr/>
          <p:nvPr/>
        </p:nvPicPr>
        <p:blipFill>
          <a:blip r:embed="rId1"/>
          <a:stretch/>
        </p:blipFill>
        <p:spPr>
          <a:xfrm>
            <a:off x="1925640" y="2041560"/>
            <a:ext cx="5688000" cy="4176720"/>
          </a:xfrm>
          <a:prstGeom prst="rect">
            <a:avLst/>
          </a:prstGeom>
          <a:ln w="0">
            <a:noFill/>
          </a:ln>
        </p:spPr>
      </p:pic>
      <p:sp>
        <p:nvSpPr>
          <p:cNvPr id="159" name="矩形 1"/>
          <p:cNvSpPr/>
          <p:nvPr/>
        </p:nvSpPr>
        <p:spPr>
          <a:xfrm>
            <a:off x="2092320" y="3081240"/>
            <a:ext cx="5413320" cy="1739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千锤万凿出深山，烈火焚烧若等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粉骨碎身全不怕，要留清白在人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石灰吟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于谦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1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1"/>
          <p:cNvSpPr/>
          <p:nvPr/>
        </p:nvSpPr>
        <p:spPr>
          <a:xfrm>
            <a:off x="1357200" y="2068560"/>
            <a:ext cx="100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强项令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"/>
          <p:cNvSpPr/>
          <p:nvPr/>
        </p:nvSpPr>
        <p:spPr>
          <a:xfrm>
            <a:off x="1278000" y="2451240"/>
            <a:ext cx="705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光武帝姐湖阳公主府中男仆，受公主指使杀人后藏进主人府中。洛阳令董宣设计把他抓住，并当着公主面斩决。公主到御前告状，皇帝怒，召来董宣命他向公主叩头认错。董宣不依，两手撑住地面，侍臣强按他的头，他也不肯叩头。光武帝无奈，说：“强项令出！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7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矩形 1"/>
          <p:cNvSpPr/>
          <p:nvPr/>
        </p:nvSpPr>
        <p:spPr>
          <a:xfrm>
            <a:off x="1278000" y="5584680"/>
            <a:ext cx="705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海瑞、狄仁杰、包拯、于谦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1810800" y="5140440"/>
            <a:ext cx="235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我国古代清正廉洁的官吏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1"/>
          <p:cNvSpPr/>
          <p:nvPr/>
        </p:nvSpPr>
        <p:spPr>
          <a:xfrm>
            <a:off x="1058760" y="224172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记叙了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海瑞在淳安当知县是惩治贪官污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故事，作者通过对海瑞语言和动作的描写，生动形象的表现了海瑞的聪明机智，以及贪官污吏的丑恶行径。生活中也有像海瑞那样的人，他们不畏权贵、刚正不阿，敢于同不良风气做斗争，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追求公平与正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我们应积极向这些品质高尚的人学习，努力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提高个人修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不与恶势力同流合污，勇敢追求社会的和谐正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7167"/>
          <p:cNvSpPr/>
          <p:nvPr/>
        </p:nvSpPr>
        <p:spPr>
          <a:xfrm>
            <a:off x="865080" y="2565360"/>
            <a:ext cx="817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加点字正确的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官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ǐ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朝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í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冤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iǎ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uā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铺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ū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宪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à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ā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怠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á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à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5002920" y="4464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6"/>
          <p:cNvSpPr/>
          <p:nvPr/>
        </p:nvSpPr>
        <p:spPr>
          <a:xfrm>
            <a:off x="1644480" y="392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7"/>
          <p:cNvSpPr/>
          <p:nvPr/>
        </p:nvSpPr>
        <p:spPr>
          <a:xfrm>
            <a:off x="1631880" y="4467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28"/>
          <p:cNvSpPr/>
          <p:nvPr/>
        </p:nvSpPr>
        <p:spPr>
          <a:xfrm>
            <a:off x="5341680" y="3363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9"/>
          <p:cNvSpPr/>
          <p:nvPr/>
        </p:nvSpPr>
        <p:spPr>
          <a:xfrm>
            <a:off x="5021280" y="393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30"/>
          <p:cNvSpPr/>
          <p:nvPr/>
        </p:nvSpPr>
        <p:spPr>
          <a:xfrm>
            <a:off x="1957320" y="3362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5"/>
          <p:cNvSpPr/>
          <p:nvPr/>
        </p:nvSpPr>
        <p:spPr>
          <a:xfrm>
            <a:off x="6277680" y="432756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31"/>
          <p:cNvSpPr/>
          <p:nvPr/>
        </p:nvSpPr>
        <p:spPr>
          <a:xfrm>
            <a:off x="2312280" y="433080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32"/>
          <p:cNvSpPr/>
          <p:nvPr/>
        </p:nvSpPr>
        <p:spPr>
          <a:xfrm>
            <a:off x="5640120" y="379872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33"/>
          <p:cNvSpPr/>
          <p:nvPr/>
        </p:nvSpPr>
        <p:spPr>
          <a:xfrm>
            <a:off x="3251880" y="381312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34"/>
          <p:cNvSpPr/>
          <p:nvPr/>
        </p:nvSpPr>
        <p:spPr>
          <a:xfrm>
            <a:off x="5711040" y="324180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35"/>
          <p:cNvSpPr/>
          <p:nvPr/>
        </p:nvSpPr>
        <p:spPr>
          <a:xfrm>
            <a:off x="2238840" y="323064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3"/>
          <p:cNvSpPr/>
          <p:nvPr/>
        </p:nvSpPr>
        <p:spPr>
          <a:xfrm>
            <a:off x="1731960" y="1893960"/>
            <a:ext cx="712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选字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浙　逝　　 　　柱　枉　　 　　兼　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）江     （　　）法     清（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）世　 　  圆（　　）  （ 　　）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"/>
          <p:cNvSpPr/>
          <p:nvPr/>
        </p:nvSpPr>
        <p:spPr>
          <a:xfrm>
            <a:off x="2151000" y="3094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4"/>
          <p:cNvSpPr/>
          <p:nvPr/>
        </p:nvSpPr>
        <p:spPr>
          <a:xfrm>
            <a:off x="2119320" y="364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440240" y="3094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027760" y="365760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7"/>
          <p:cNvSpPr/>
          <p:nvPr/>
        </p:nvSpPr>
        <p:spPr>
          <a:xfrm>
            <a:off x="7053840" y="3094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8"/>
          <p:cNvSpPr/>
          <p:nvPr/>
        </p:nvSpPr>
        <p:spPr>
          <a:xfrm>
            <a:off x="6672240" y="3662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左大括号 9"/>
          <p:cNvSpPr/>
          <p:nvPr/>
        </p:nvSpPr>
        <p:spPr>
          <a:xfrm>
            <a:off x="1731960" y="31478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左大括号 18"/>
          <p:cNvSpPr/>
          <p:nvPr/>
        </p:nvSpPr>
        <p:spPr>
          <a:xfrm>
            <a:off x="3995640" y="31478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左大括号 19"/>
          <p:cNvSpPr/>
          <p:nvPr/>
        </p:nvSpPr>
        <p:spPr>
          <a:xfrm>
            <a:off x="6156360" y="31478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3"/>
          <p:cNvSpPr/>
          <p:nvPr/>
        </p:nvSpPr>
        <p:spPr>
          <a:xfrm>
            <a:off x="1044720" y="157464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选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仗势　依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他们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嵩的势力，作威作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胡公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欺人，把驿吏吊在梁上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批阅　翻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这一天，海瑞正在官衙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他正在图书馆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书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"/>
          <p:cNvSpPr/>
          <p:nvPr/>
        </p:nvSpPr>
        <p:spPr>
          <a:xfrm>
            <a:off x="2869200" y="2805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依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2"/>
          <p:cNvSpPr/>
          <p:nvPr/>
        </p:nvSpPr>
        <p:spPr>
          <a:xfrm>
            <a:off x="2874600" y="33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仗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4"/>
          <p:cNvSpPr/>
          <p:nvPr/>
        </p:nvSpPr>
        <p:spPr>
          <a:xfrm>
            <a:off x="5346360" y="44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批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4128840" y="4956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翻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3"/>
          <p:cNvSpPr/>
          <p:nvPr/>
        </p:nvSpPr>
        <p:spPr>
          <a:xfrm>
            <a:off x="1655640" y="174132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补充词语并分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奉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褒义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贬义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1"/>
          <p:cNvSpPr/>
          <p:nvPr/>
        </p:nvSpPr>
        <p:spPr>
          <a:xfrm>
            <a:off x="2251080" y="2405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3484440" y="241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5478480" y="236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0"/>
          <p:cNvSpPr/>
          <p:nvPr/>
        </p:nvSpPr>
        <p:spPr>
          <a:xfrm>
            <a:off x="6735600" y="240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1"/>
          <p:cNvSpPr/>
          <p:nvPr/>
        </p:nvSpPr>
        <p:spPr>
          <a:xfrm>
            <a:off x="2565360" y="2948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3493800" y="2946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3"/>
          <p:cNvSpPr/>
          <p:nvPr/>
        </p:nvSpPr>
        <p:spPr>
          <a:xfrm>
            <a:off x="5473440" y="296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4"/>
          <p:cNvSpPr/>
          <p:nvPr/>
        </p:nvSpPr>
        <p:spPr>
          <a:xfrm>
            <a:off x="6421320" y="29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5"/>
          <p:cNvSpPr/>
          <p:nvPr/>
        </p:nvSpPr>
        <p:spPr>
          <a:xfrm>
            <a:off x="2265120" y="3503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6"/>
          <p:cNvSpPr/>
          <p:nvPr/>
        </p:nvSpPr>
        <p:spPr>
          <a:xfrm>
            <a:off x="3498840" y="3475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7"/>
          <p:cNvSpPr/>
          <p:nvPr/>
        </p:nvSpPr>
        <p:spPr>
          <a:xfrm>
            <a:off x="5505480" y="3505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8"/>
          <p:cNvSpPr/>
          <p:nvPr/>
        </p:nvSpPr>
        <p:spPr>
          <a:xfrm>
            <a:off x="6404760" y="353052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20"/>
          <p:cNvSpPr/>
          <p:nvPr/>
        </p:nvSpPr>
        <p:spPr>
          <a:xfrm>
            <a:off x="2689200" y="4006800"/>
            <a:ext cx="30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奉公守法　铁面无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21"/>
          <p:cNvSpPr/>
          <p:nvPr/>
        </p:nvSpPr>
        <p:spPr>
          <a:xfrm>
            <a:off x="2679840" y="4570560"/>
            <a:ext cx="49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气焰熏天　招摇过境　胡作非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8"/>
          <p:cNvGrpSpPr/>
          <p:nvPr/>
        </p:nvGrpSpPr>
        <p:grpSpPr>
          <a:xfrm>
            <a:off x="574560" y="932040"/>
            <a:ext cx="8105760" cy="5510160"/>
            <a:chOff x="574560" y="932040"/>
            <a:chExt cx="8105760" cy="5510160"/>
          </a:xfrm>
        </p:grpSpPr>
        <p:sp>
          <p:nvSpPr>
            <p:cNvPr id="70" name="圆角矩形 4"/>
            <p:cNvSpPr/>
            <p:nvPr/>
          </p:nvSpPr>
          <p:spPr>
            <a:xfrm>
              <a:off x="628200" y="3794400"/>
              <a:ext cx="320688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读课文，说说海瑞是什么时期当的县官，当时的社会背景怎样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圆角矩形 5"/>
            <p:cNvSpPr/>
            <p:nvPr/>
          </p:nvSpPr>
          <p:spPr>
            <a:xfrm>
              <a:off x="5224320" y="3984840"/>
              <a:ext cx="34560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课文主要讲了海瑞当知县时的哪几件事情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圆角矩形 6"/>
            <p:cNvSpPr/>
            <p:nvPr/>
          </p:nvSpPr>
          <p:spPr>
            <a:xfrm>
              <a:off x="5211720" y="5089680"/>
              <a:ext cx="34686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悟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你认为海瑞是个这样的人？结合文中相关语句谈谈你的看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圆角矩形 7"/>
            <p:cNvSpPr/>
            <p:nvPr/>
          </p:nvSpPr>
          <p:spPr>
            <a:xfrm>
              <a:off x="574560" y="5050080"/>
              <a:ext cx="323352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文中所写的事情，哪些事详写？哪些事略写？这样写有什么好处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" name="组合 3"/>
            <p:cNvGrpSpPr/>
            <p:nvPr/>
          </p:nvGrpSpPr>
          <p:grpSpPr>
            <a:xfrm>
              <a:off x="2188080" y="932040"/>
              <a:ext cx="4767480" cy="5510160"/>
              <a:chOff x="2188080" y="932040"/>
              <a:chExt cx="4767480" cy="5510160"/>
            </a:xfrm>
          </p:grpSpPr>
          <p:pic>
            <p:nvPicPr>
              <p:cNvPr id="7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932040"/>
                <a:ext cx="4767480" cy="551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矩形 1"/>
              <p:cNvSpPr/>
              <p:nvPr/>
            </p:nvSpPr>
            <p:spPr>
              <a:xfrm>
                <a:off x="2393640" y="1794600"/>
                <a:ext cx="4219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老百姓为什么称海瑞为“青天”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矩形 2"/>
              <p:cNvSpPr/>
              <p:nvPr/>
            </p:nvSpPr>
            <p:spPr>
              <a:xfrm>
                <a:off x="4586400" y="120888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青 天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3"/>
          <p:cNvSpPr/>
          <p:nvPr/>
        </p:nvSpPr>
        <p:spPr>
          <a:xfrm>
            <a:off x="914400" y="128124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海瑞不冤枉好人。海瑞不放过坏人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用关联词语连成一句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像你这样衣着华丽、大讲排场、骄横无理的花花公子，怎么会是胡总督的儿子呢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陈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1482840" y="3032280"/>
            <a:ext cx="52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海瑞既不冤枉好人，也不放过坏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1442880" y="4548240"/>
            <a:ext cx="69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像你这样衣着华丽、大讲排场、骄横无理的花花公子，不会是胡总督的儿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2"/>
          <p:cNvSpPr/>
          <p:nvPr/>
        </p:nvSpPr>
        <p:spPr>
          <a:xfrm>
            <a:off x="722160" y="1828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可是在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江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ún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安县，有一个小小的知县，却不惧怕他们。他的名字叫海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817560" y="3322800"/>
            <a:ext cx="77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理解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重点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有一个小小的知县，却不惧怕他们”与前文“没有不惧怕他们的”形成鲜明的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对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突出了海瑞正直、不畏权贵的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接连接符 7"/>
          <p:cNvSpPr/>
          <p:nvPr/>
        </p:nvSpPr>
        <p:spPr>
          <a:xfrm flipV="1">
            <a:off x="588960" y="2914560"/>
            <a:ext cx="2443320" cy="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接连接符 8"/>
          <p:cNvSpPr/>
          <p:nvPr/>
        </p:nvSpPr>
        <p:spPr>
          <a:xfrm flipV="1">
            <a:off x="5803920" y="2381040"/>
            <a:ext cx="2625840" cy="6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2"/>
          <p:cNvSpPr/>
          <p:nvPr/>
        </p:nvSpPr>
        <p:spPr>
          <a:xfrm>
            <a:off x="735120" y="1636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海瑞到了淳安以后，不管什么样的疑难案件，他都一件件调查得水落石出，从不冤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wǎng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好人，也不放过坏人。当地百姓都称他是“青天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817560" y="3486240"/>
            <a:ext cx="77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理解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重点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两句主要写了海瑞到淳安后的表现，以及老百姓对他的评价：称他是“青天”。这个评价从侧面表现了海瑞是有口皆碑的清官、智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2"/>
          <p:cNvSpPr/>
          <p:nvPr/>
        </p:nvSpPr>
        <p:spPr>
          <a:xfrm>
            <a:off x="735120" y="14050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本公子的父亲正是胡总督！严大人还是我父亲的朋友！这能有假吗？”胡公子神态骄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782640" y="3809880"/>
            <a:ext cx="76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胡公子连用两个感叹句、一个反问句，可以看出他的嚣张气焰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神态骄横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更是写出了他完全不把海瑞这个知县放在眼里，也从侧面写出了其靠山严嵩的势力之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线形标注 2 5"/>
          <p:cNvSpPr/>
          <p:nvPr/>
        </p:nvSpPr>
        <p:spPr>
          <a:xfrm>
            <a:off x="3305880" y="2519280"/>
            <a:ext cx="546480" cy="4597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7601"/>
              <a:gd name="adj6" fmla="val -998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反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线形标注 2 6"/>
          <p:cNvSpPr/>
          <p:nvPr/>
        </p:nvSpPr>
        <p:spPr>
          <a:xfrm>
            <a:off x="6808320" y="2257560"/>
            <a:ext cx="729360" cy="459720"/>
          </a:xfrm>
          <a:prstGeom prst="borderCallout2">
            <a:avLst>
              <a:gd name="adj1" fmla="val 18750"/>
              <a:gd name="adj2" fmla="val -8333"/>
              <a:gd name="adj3" fmla="val -1944"/>
              <a:gd name="adj4" fmla="val 48333"/>
              <a:gd name="adj5" fmla="val -79967"/>
              <a:gd name="adj6" fmla="val -34030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叹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8"/>
          <p:cNvGrpSpPr/>
          <p:nvPr/>
        </p:nvGrpSpPr>
        <p:grpSpPr>
          <a:xfrm>
            <a:off x="763560" y="3119400"/>
            <a:ext cx="7751880" cy="587520"/>
            <a:chOff x="763560" y="3119400"/>
            <a:chExt cx="7751880" cy="587520"/>
          </a:xfrm>
        </p:grpSpPr>
        <p:sp>
          <p:nvSpPr>
            <p:cNvPr id="90" name="直接连接符 9"/>
            <p:cNvSpPr/>
            <p:nvPr/>
          </p:nvSpPr>
          <p:spPr>
            <a:xfrm>
              <a:off x="790200" y="3706920"/>
              <a:ext cx="752184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任意多边形 10"/>
            <p:cNvSpPr/>
            <p:nvPr/>
          </p:nvSpPr>
          <p:spPr>
            <a:xfrm>
              <a:off x="763560" y="3119400"/>
              <a:ext cx="77518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对胡公子的语言描写和神态描写有什么作用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组合 6"/>
          <p:cNvGrpSpPr/>
          <p:nvPr/>
        </p:nvGrpSpPr>
        <p:grpSpPr>
          <a:xfrm>
            <a:off x="763560" y="1876320"/>
            <a:ext cx="7751880" cy="587520"/>
            <a:chOff x="763560" y="1876320"/>
            <a:chExt cx="7751880" cy="587520"/>
          </a:xfrm>
        </p:grpSpPr>
        <p:sp>
          <p:nvSpPr>
            <p:cNvPr id="93" name="直接连接符 7"/>
            <p:cNvSpPr/>
            <p:nvPr/>
          </p:nvSpPr>
          <p:spPr>
            <a:xfrm>
              <a:off x="790200" y="2463840"/>
              <a:ext cx="752184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任意多边形 8"/>
            <p:cNvSpPr/>
            <p:nvPr/>
          </p:nvSpPr>
          <p:spPr>
            <a:xfrm>
              <a:off x="763560" y="1876320"/>
              <a:ext cx="77518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探究：海瑞为什么明知这人就是胡公子，还把他交给胡总督查办？从中看出海瑞的什么特点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矩形 4"/>
          <p:cNvSpPr/>
          <p:nvPr/>
        </p:nvSpPr>
        <p:spPr>
          <a:xfrm>
            <a:off x="900000" y="2730600"/>
            <a:ext cx="750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把人交给胡总督，胡总督如果偏袒此人，就等于承认了自己的儿子骄横无理、招摇撞骗；如果查办此人，必然会心疼儿子。海瑞的做法使胡总督陷入两难境地，让父子俩受到教训。从中可见海瑞的聪明，也体现了海瑞不畏权贵的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"/>
          <p:cNvSpPr/>
          <p:nvPr/>
        </p:nvSpPr>
        <p:spPr>
          <a:xfrm>
            <a:off x="708120" y="11192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还有一次，京城的御史鄢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ān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懋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ào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卿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īng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要来浙江视察。鄢懋卿是严嵩的干儿子，敲诈勒索的手段十分狠毒。各地官吏听到鄢懋卿要来视察的消息，都犯了愁。而鄢懋卿偏又要装出一副奉公守法的样子，他通知各地，说他向来喜欢简单朴素，不喜欢奉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795240" y="390528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品析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鄢懋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手段十分狠毒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直接写出了鄢懋卿的贪婪狠毒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各地官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都犯了愁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又通过官吏的表现从侧面写出了他的贪婪狠毒非同一般。这是一种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正面描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与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侧面描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相结合的方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圆角矩形 5"/>
          <p:cNvSpPr/>
          <p:nvPr/>
        </p:nvSpPr>
        <p:spPr>
          <a:xfrm>
            <a:off x="6370200" y="3409920"/>
            <a:ext cx="962640" cy="5094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面描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圆角矩形 16"/>
          <p:cNvSpPr/>
          <p:nvPr/>
        </p:nvSpPr>
        <p:spPr>
          <a:xfrm>
            <a:off x="7102080" y="2793960"/>
            <a:ext cx="962640" cy="5094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侧面描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左中括号 13"/>
          <p:cNvSpPr/>
          <p:nvPr/>
        </p:nvSpPr>
        <p:spPr>
          <a:xfrm>
            <a:off x="2579760" y="1706400"/>
            <a:ext cx="204840" cy="559080"/>
          </a:xfrm>
          <a:custGeom>
            <a:avLst/>
            <a:gdLst>
              <a:gd name="textAreaLeft" fmla="*/ 60120 w 204840"/>
              <a:gd name="textAreaRight" fmla="*/ 205200 w 204840"/>
              <a:gd name="textAreaTop" fmla="*/ 8280 h 559080"/>
              <a:gd name="textAreaBottom" fmla="*/ 550800 h 55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30"/>
                  <a:pt x="0" y="660"/>
                </a:cubicBezTo>
                <a:lnTo>
                  <a:pt x="0" y="20940"/>
                </a:lnTo>
                <a:cubicBezTo>
                  <a:pt x="0" y="2127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左中括号 19"/>
          <p:cNvSpPr/>
          <p:nvPr/>
        </p:nvSpPr>
        <p:spPr>
          <a:xfrm>
            <a:off x="771480" y="2835360"/>
            <a:ext cx="204840" cy="560160"/>
          </a:xfrm>
          <a:custGeom>
            <a:avLst/>
            <a:gdLst>
              <a:gd name="textAreaLeft" fmla="*/ 60120 w 204840"/>
              <a:gd name="textAreaRight" fmla="*/ 205200 w 204840"/>
              <a:gd name="textAreaTop" fmla="*/ 8280 h 560160"/>
              <a:gd name="textAreaBottom" fmla="*/ 551880 h 56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29"/>
                  <a:pt x="0" y="658"/>
                </a:cubicBezTo>
                <a:lnTo>
                  <a:pt x="0" y="20942"/>
                </a:lnTo>
                <a:cubicBezTo>
                  <a:pt x="0" y="21271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右中括号 15"/>
          <p:cNvSpPr/>
          <p:nvPr/>
        </p:nvSpPr>
        <p:spPr>
          <a:xfrm>
            <a:off x="1814400" y="2265480"/>
            <a:ext cx="192240" cy="528480"/>
          </a:xfrm>
          <a:custGeom>
            <a:avLst/>
            <a:gdLst>
              <a:gd name="textAreaLeft" fmla="*/ 0 w 192240"/>
              <a:gd name="textAreaRight" fmla="*/ 135000 w 192240"/>
              <a:gd name="textAreaTop" fmla="*/ 7920 h 528480"/>
              <a:gd name="textAreaBottom" fmla="*/ 52056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7"/>
                  <a:pt x="21600" y="654"/>
                </a:cubicBezTo>
                <a:lnTo>
                  <a:pt x="21600" y="20946"/>
                </a:lnTo>
                <a:cubicBezTo>
                  <a:pt x="21600" y="21273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右中括号 21"/>
          <p:cNvSpPr/>
          <p:nvPr/>
        </p:nvSpPr>
        <p:spPr>
          <a:xfrm>
            <a:off x="5761080" y="3376440"/>
            <a:ext cx="191880" cy="528840"/>
          </a:xfrm>
          <a:custGeom>
            <a:avLst/>
            <a:gdLst>
              <a:gd name="textAreaLeft" fmla="*/ 0 w 191880"/>
              <a:gd name="textAreaRight" fmla="*/ 134640 w 191880"/>
              <a:gd name="textAreaTop" fmla="*/ 7920 h 528840"/>
              <a:gd name="textAreaBottom" fmla="*/ 520920 h 5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7"/>
                  <a:pt x="21600" y="654"/>
                </a:cubicBezTo>
                <a:lnTo>
                  <a:pt x="21600" y="20946"/>
                </a:lnTo>
                <a:cubicBezTo>
                  <a:pt x="21600" y="21273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20"/>
          <p:cNvSpPr/>
          <p:nvPr/>
        </p:nvSpPr>
        <p:spPr>
          <a:xfrm>
            <a:off x="2006640" y="2766960"/>
            <a:ext cx="645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21"/>
          <p:cNvSpPr/>
          <p:nvPr/>
        </p:nvSpPr>
        <p:spPr>
          <a:xfrm>
            <a:off x="831960" y="100476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侧面描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23"/>
          <p:cNvSpPr/>
          <p:nvPr/>
        </p:nvSpPr>
        <p:spPr>
          <a:xfrm>
            <a:off x="808200" y="1996920"/>
            <a:ext cx="75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什么是侧面描写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侧面描写又叫间接描写，指在文学创作中，通过对其他人物或环境的描绘来表现所要描写的对象，以使其鲜明突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侧面描写有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正面描写做有益的补充，更能激发读者的想象，衬托所描写对象的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线连接符 7"/>
          <p:cNvSpPr/>
          <p:nvPr/>
        </p:nvSpPr>
        <p:spPr>
          <a:xfrm>
            <a:off x="914400" y="19288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9T03:17:23Z</dcterms:modified>
  <cp:revision>4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