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E666B-6F2F-45B6-9E15-03628C9FF0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415E8-FAA2-479E-A36F-22547ACC04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85A-A49E-44ED-9806-F2D40E41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96C-6D2E-4AC7-9DA5-65816F29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23E-AE35-4D70-AD82-DA9051D3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EB1-F464-489C-B722-1706D1B7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629-413E-4B28-B403-6641D0F0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36D-9CEA-430A-8D55-5DF7B298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1A9-62E8-42A9-B2D5-13C8B1AA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1A7-0B52-4351-AFAC-22AE5517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D8E-0422-4627-B183-646D1347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6AE-FCA6-4A44-8E2F-0F898AA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AFA-13B1-435E-A9A7-2F730B7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011-1396-4FAD-AA6C-326FE6B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4FE82-17A7-4370-8B29-E5E18A5F7F4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540160" y="2170080"/>
            <a:ext cx="4063680" cy="32623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349360" y="1011240"/>
            <a:ext cx="433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上将与下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7"/>
          <p:cNvSpPr/>
          <p:nvPr/>
        </p:nvSpPr>
        <p:spPr>
          <a:xfrm>
            <a:off x="2008080" y="365436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等待人、身先士卒、与下属同甘共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882720" y="1282680"/>
            <a:ext cx="731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快速阅读课文，说一说“上将”与“下士”分别指的是谁？他们身上表现出什么特点和品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5"/>
          <p:cNvGrpSpPr/>
          <p:nvPr/>
        </p:nvGrpSpPr>
        <p:grpSpPr>
          <a:xfrm>
            <a:off x="1825920" y="2832120"/>
            <a:ext cx="6319440" cy="642600"/>
            <a:chOff x="1825920" y="2832120"/>
            <a:chExt cx="6319440" cy="642600"/>
          </a:xfrm>
        </p:grpSpPr>
        <p:sp>
          <p:nvSpPr>
            <p:cNvPr id="120" name="矩形 2"/>
            <p:cNvSpPr/>
            <p:nvPr/>
          </p:nvSpPr>
          <p:spPr>
            <a:xfrm>
              <a:off x="2582280" y="2832120"/>
              <a:ext cx="556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乔治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·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华盛顿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美国第一任总统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3"/>
            <p:cNvSpPr/>
            <p:nvPr/>
          </p:nvSpPr>
          <p:spPr>
            <a:xfrm>
              <a:off x="1825920" y="2887560"/>
              <a:ext cx="607320" cy="52056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上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4"/>
          <p:cNvSpPr/>
          <p:nvPr/>
        </p:nvSpPr>
        <p:spPr>
          <a:xfrm>
            <a:off x="1825920" y="4479840"/>
            <a:ext cx="6073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下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2008080" y="5129280"/>
            <a:ext cx="62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傲慢无礼、高高在上，只知道指挥人做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25" name="矩形 11"/>
          <p:cNvSpPr/>
          <p:nvPr/>
        </p:nvSpPr>
        <p:spPr>
          <a:xfrm>
            <a:off x="892080" y="2295360"/>
            <a:ext cx="779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主要讲了士兵们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用石块筑街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下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华盛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不同表现，用这件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华盛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力行地教育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下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事，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告诉我们真正伟大的人决不会强迫别人尊重自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歌颂了华盛顿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与人为善、不倨傲、尊重他人、关心下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高贵品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7167"/>
          <p:cNvSpPr/>
          <p:nvPr/>
        </p:nvSpPr>
        <p:spPr>
          <a:xfrm>
            <a:off x="826920" y="184464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择没有错别字的一组，打上“√”，有错误的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出错别字并在括号里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的参予很及时，石块终于放好了。士兵们转过身，拥抱华盛顿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时，华盛顿疾步跑上前去，用他强劲的臂膀盯住石块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真正伟大的人决不会强迫别人尊重自己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7324200" y="53085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3646440" y="36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7031160" y="4076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5"/>
          <p:cNvSpPr/>
          <p:nvPr/>
        </p:nvSpPr>
        <p:spPr>
          <a:xfrm>
            <a:off x="1794600" y="2989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2732040" y="473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167"/>
          <p:cNvSpPr/>
          <p:nvPr/>
        </p:nvSpPr>
        <p:spPr>
          <a:xfrm>
            <a:off x="2338560" y="1719360"/>
            <a:ext cx="661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殖（　　　　）         欲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（　　　　）         浴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尊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遵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左大括号 2"/>
          <p:cNvSpPr/>
          <p:nvPr/>
        </p:nvSpPr>
        <p:spPr>
          <a:xfrm>
            <a:off x="2154240" y="2556000"/>
            <a:ext cx="142920" cy="704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04880"/>
              <a:gd name="textAreaBottom" fmla="*/ 70128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左大括号 8"/>
          <p:cNvSpPr/>
          <p:nvPr/>
        </p:nvSpPr>
        <p:spPr>
          <a:xfrm>
            <a:off x="5646600" y="2540160"/>
            <a:ext cx="144720" cy="70452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704520"/>
              <a:gd name="textAreaBottom" fmla="*/ 700920 h 70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9"/>
          <p:cNvSpPr/>
          <p:nvPr/>
        </p:nvSpPr>
        <p:spPr>
          <a:xfrm>
            <a:off x="2155680" y="3639960"/>
            <a:ext cx="142920" cy="703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03440"/>
              <a:gd name="textAreaBottom" fmla="*/ 699840 h 70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6"/>
                </a:cubicBezTo>
                <a:lnTo>
                  <a:pt x="10800" y="10434"/>
                </a:lnTo>
                <a:cubicBezTo>
                  <a:pt x="10800" y="10617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6"/>
                </a:cubicBezTo>
                <a:lnTo>
                  <a:pt x="10800" y="21234"/>
                </a:lnTo>
                <a:cubicBezTo>
                  <a:pt x="10800" y="2141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3147480" y="236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殖民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3238200" y="295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值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6771960" y="2363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欲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6"/>
          <p:cNvSpPr/>
          <p:nvPr/>
        </p:nvSpPr>
        <p:spPr>
          <a:xfrm>
            <a:off x="6786360" y="29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洗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3238200" y="34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尊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9"/>
          <p:cNvSpPr/>
          <p:nvPr/>
        </p:nvSpPr>
        <p:spPr>
          <a:xfrm>
            <a:off x="323820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遵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7167"/>
          <p:cNvSpPr/>
          <p:nvPr/>
        </p:nvSpPr>
        <p:spPr>
          <a:xfrm>
            <a:off x="743040" y="12682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情”字组成恰当的词语填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下士知道面前的人就是华盛顿本人时，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很不平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星期天，我和爸爸妈妈去姑姑家做客，姑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招待了我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华盛顿为美国人民的独立自由作出了巨大的贡献，人们对他有着深厚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忆起小时候的事情，他十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1771200" y="247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心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827000" y="356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热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420660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感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5776560" y="5224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动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"/>
          <p:cNvSpPr/>
          <p:nvPr/>
        </p:nvSpPr>
        <p:spPr>
          <a:xfrm>
            <a:off x="1332000" y="2111400"/>
            <a:ext cx="47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应该看得出我是这里的下士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1344600" y="3398760"/>
            <a:ext cx="7021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b10f4"/>
                </a:solidFill>
                <a:latin typeface="黑体"/>
                <a:ea typeface="黑体"/>
              </a:rPr>
              <a:t>示例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这里的山和家乡的山颇为相似，一样的高耸入云、一样的奇石遍布、一样的绿意满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1325520" y="5210280"/>
            <a:ext cx="6962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下士看到站在自己面前的正是华盛顿本人时，怎能不非常羞愧呢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1"/>
          <p:cNvGrpSpPr/>
          <p:nvPr/>
        </p:nvGrpSpPr>
        <p:grpSpPr>
          <a:xfrm>
            <a:off x="885960" y="1125360"/>
            <a:ext cx="7416720" cy="4208760"/>
            <a:chOff x="885960" y="1125360"/>
            <a:chExt cx="7416720" cy="4208760"/>
          </a:xfrm>
        </p:grpSpPr>
        <p:sp>
          <p:nvSpPr>
            <p:cNvPr id="152" name="矩形 7167"/>
            <p:cNvSpPr/>
            <p:nvPr/>
          </p:nvSpPr>
          <p:spPr>
            <a:xfrm>
              <a:off x="885960" y="1125360"/>
              <a:ext cx="74167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．按要求写句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难道你看不出我是这里的下士吗？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改成陈述句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____________________________________________________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(2)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他普通得就和你一样，一样的诚实、一样的热情、一样的与人为善。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用加点的词仿写一句话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____________________________________________________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____________________________________________________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(3)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下士看到站在自己面前的正是华盛顿本人时，非常羞愧。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改为反问句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________________________________________________________________________________________________________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7"/>
            <p:cNvSpPr/>
            <p:nvPr/>
          </p:nvSpPr>
          <p:spPr>
            <a:xfrm>
              <a:off x="3984840" y="28184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•     •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 8"/>
            <p:cNvSpPr/>
            <p:nvPr/>
          </p:nvSpPr>
          <p:spPr>
            <a:xfrm>
              <a:off x="5499360" y="28008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•     •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矩形 9"/>
            <p:cNvSpPr/>
            <p:nvPr/>
          </p:nvSpPr>
          <p:spPr>
            <a:xfrm>
              <a:off x="7038360" y="28008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•     •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930240" y="2711520"/>
            <a:ext cx="74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“殖、哦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积累文中富有启发意义的句子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4"/>
          <p:cNvSpPr/>
          <p:nvPr/>
        </p:nvSpPr>
        <p:spPr>
          <a:xfrm>
            <a:off x="4557600" y="2011320"/>
            <a:ext cx="40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乔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华盛顿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7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9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美国首任总统，被尊为“美国国父”，又称“合众国之父”。学者们则将他和亚伯拉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林肯、富兰克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罗斯福并列为美国历史上最伟大的总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0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1420920" y="2419200"/>
            <a:ext cx="238896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任意多边形 8"/>
          <p:cNvSpPr/>
          <p:nvPr/>
        </p:nvSpPr>
        <p:spPr>
          <a:xfrm>
            <a:off x="2754360" y="3032280"/>
            <a:ext cx="4167000" cy="1460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殖     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2690640" y="273384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81" name="矩形 9"/>
          <p:cNvSpPr/>
          <p:nvPr/>
        </p:nvSpPr>
        <p:spPr>
          <a:xfrm>
            <a:off x="5106960" y="270972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434960" y="3416400"/>
            <a:ext cx="70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殖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民地   使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劲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露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1434240" y="30337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4276800" y="303516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7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矩形 9"/>
          <p:cNvSpPr/>
          <p:nvPr/>
        </p:nvSpPr>
        <p:spPr>
          <a:xfrm>
            <a:off x="6350400" y="303372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38280" y="2752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4"/>
          <p:cNvGrpSpPr/>
          <p:nvPr/>
        </p:nvGrpSpPr>
        <p:grpSpPr>
          <a:xfrm>
            <a:off x="2063880" y="2320920"/>
            <a:ext cx="4113000" cy="1373400"/>
            <a:chOff x="2063880" y="2320920"/>
            <a:chExt cx="4113000" cy="1373400"/>
          </a:xfrm>
        </p:grpSpPr>
        <p:sp>
          <p:nvSpPr>
            <p:cNvPr id="93" name="左大括号 2"/>
            <p:cNvSpPr/>
            <p:nvPr/>
          </p:nvSpPr>
          <p:spPr>
            <a:xfrm>
              <a:off x="2063880" y="2563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"/>
            <p:cNvSpPr/>
            <p:nvPr/>
          </p:nvSpPr>
          <p:spPr>
            <a:xfrm>
              <a:off x="2230560" y="2320920"/>
              <a:ext cx="39463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á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朝鲜　朝廷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ā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朝阳　朝霞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TextBox 13"/>
          <p:cNvSpPr/>
          <p:nvPr/>
        </p:nvSpPr>
        <p:spPr>
          <a:xfrm>
            <a:off x="1601640" y="446868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2095560" y="3760920"/>
            <a:ext cx="3579840" cy="2013120"/>
            <a:chOff x="2095560" y="3760920"/>
            <a:chExt cx="3579840" cy="2013120"/>
          </a:xfrm>
        </p:grpSpPr>
        <p:sp>
          <p:nvSpPr>
            <p:cNvPr id="97" name="左大括号 14"/>
            <p:cNvSpPr/>
            <p:nvPr/>
          </p:nvSpPr>
          <p:spPr>
            <a:xfrm>
              <a:off x="2095560" y="3979800"/>
              <a:ext cx="187200" cy="1554120"/>
            </a:xfrm>
            <a:custGeom>
              <a:avLst/>
              <a:gdLst>
                <a:gd name="textAreaLeft" fmla="*/ 119520 w 187200"/>
                <a:gd name="textAreaRight" fmla="*/ 187560 w 187200"/>
                <a:gd name="textAreaTop" fmla="*/ 4680 h 1554120"/>
                <a:gd name="textAreaBottom" fmla="*/ 1549440 h 155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"/>
                    <a:pt x="10800" y="217"/>
                  </a:cubicBezTo>
                  <a:lnTo>
                    <a:pt x="10800" y="10583"/>
                  </a:lnTo>
                  <a:cubicBezTo>
                    <a:pt x="10800" y="10692"/>
                    <a:pt x="5400" y="10800"/>
                    <a:pt x="0" y="10800"/>
                  </a:cubicBezTo>
                  <a:cubicBezTo>
                    <a:pt x="5400" y="10800"/>
                    <a:pt x="10800" y="10909"/>
                    <a:pt x="10800" y="11017"/>
                  </a:cubicBezTo>
                  <a:lnTo>
                    <a:pt x="10800" y="21383"/>
                  </a:lnTo>
                  <a:cubicBezTo>
                    <a:pt x="10800" y="21492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15"/>
            <p:cNvSpPr/>
            <p:nvPr/>
          </p:nvSpPr>
          <p:spPr>
            <a:xfrm>
              <a:off x="2230200" y="3760920"/>
              <a:ext cx="34452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ě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解放　解决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解送　押解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浑身解数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0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1069920" y="18241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军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羞愧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迫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"/>
          <p:cNvSpPr/>
          <p:nvPr/>
        </p:nvSpPr>
        <p:spPr>
          <a:xfrm>
            <a:off x="1827360" y="1841400"/>
            <a:ext cx="671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快步。文中指华盛顿快步跑上前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开完会，老师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疾步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走出教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指军衔的等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感到羞耻和惭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听了老师的批评，小华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羞愧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地低下了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施加压力使服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我不能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强迫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他接受这种决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1069920" y="1824120"/>
            <a:ext cx="769608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浴血奋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与人为善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独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1"/>
          <p:cNvSpPr/>
          <p:nvPr/>
        </p:nvSpPr>
        <p:spPr>
          <a:xfrm>
            <a:off x="1841400" y="1825560"/>
            <a:ext cx="65455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形容顽强地坚持战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战士们在这段时间，不是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浴血奋战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就是急行军转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指善意对待、帮助别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我们要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与人为善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个国家或一个政权不受别的国家或别的政权的统治而自主地存在。②不依靠他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我国是一个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独立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、自由、民主的国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他不再依靠父母，而是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独立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工作和生活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887400" y="189864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伟大的人物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点明华盛顿在美国历史上的地位和为美国独立做出的贡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真正伟大的人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华盛顿用自己的行动教育了下士：真正伟大的人决不会强迫别人尊重自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3:19:36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