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930F6-B4DF-4FF8-B5E1-BDC7ABFC2A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4A7BB-A958-4E40-A5CD-AB8D997C75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A92FF-0B1B-4390-8843-A833908258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008-8B05-4A10-BFE9-D916CD5C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0C3-46D8-498B-B477-118FB9A9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3D1-F167-4D13-A557-479EE254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2E7-C873-4469-BAA8-D41C9174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901-45B0-4957-8B2F-12F75E7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DB9-9D9D-41D7-AA64-5E2DDE8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B5F-0B2D-465E-ABCE-91FD6F1E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06C-74F1-4CC1-B903-EAC4E02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4FC-462F-4D1E-8C01-050E196A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EC7-D4EF-43E6-907C-BD20ADF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C3F-D08B-43AA-9887-C450356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D76-7899-4A44-B7FE-FA92E23F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3D411-EECE-4F9F-B3D6-9F0F3B1204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51200" y="2212920"/>
            <a:ext cx="5241600" cy="34545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2443320" y="2585880"/>
            <a:ext cx="4257360" cy="2468880"/>
            <a:chOff x="2443320" y="2585880"/>
            <a:chExt cx="4257360" cy="2468880"/>
          </a:xfrm>
        </p:grpSpPr>
        <p:sp>
          <p:nvSpPr>
            <p:cNvPr id="53" name="矩形 13324"/>
            <p:cNvSpPr/>
            <p:nvPr/>
          </p:nvSpPr>
          <p:spPr>
            <a:xfrm>
              <a:off x="2455920" y="2585880"/>
              <a:ext cx="4244760" cy="24688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47"/>
            <p:cNvSpPr/>
            <p:nvPr/>
          </p:nvSpPr>
          <p:spPr>
            <a:xfrm>
              <a:off x="2443320" y="3321360"/>
              <a:ext cx="4257360" cy="1069200"/>
            </a:xfrm>
            <a:prstGeom prst="rect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早梅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唐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]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张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 Box 2"/>
          <p:cNvSpPr/>
          <p:nvPr/>
        </p:nvSpPr>
        <p:spPr>
          <a:xfrm>
            <a:off x="2792520" y="930240"/>
            <a:ext cx="35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古诗三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5661000" y="2606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第一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1027080" y="5681520"/>
            <a:ext cx="7089840" cy="579600"/>
            <a:chOff x="1027080" y="5681520"/>
            <a:chExt cx="7089840" cy="579600"/>
          </a:xfrm>
        </p:grpSpPr>
        <p:pic>
          <p:nvPicPr>
            <p:cNvPr id="58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2708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41344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525312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383040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6688080" y="5681520"/>
              <a:ext cx="1428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流程图: 摘录 25"/>
            <p:cNvSpPr/>
            <p:nvPr/>
          </p:nvSpPr>
          <p:spPr>
            <a:xfrm rot="5400000">
              <a:off x="235404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流程图: 摘录 40"/>
            <p:cNvSpPr/>
            <p:nvPr/>
          </p:nvSpPr>
          <p:spPr>
            <a:xfrm rot="5400000">
              <a:off x="375912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流程图: 摘录 27"/>
            <p:cNvSpPr/>
            <p:nvPr/>
          </p:nvSpPr>
          <p:spPr>
            <a:xfrm rot="5400000">
              <a:off x="5177880" y="5852880"/>
              <a:ext cx="127800" cy="1897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6624000" y="5832720"/>
              <a:ext cx="126360" cy="2196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07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6"/>
          <p:cNvSpPr/>
          <p:nvPr/>
        </p:nvSpPr>
        <p:spPr>
          <a:xfrm>
            <a:off x="1289160" y="2308320"/>
            <a:ext cx="71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树寒梅白玉条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村路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溪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11"/>
          <p:cNvSpPr/>
          <p:nvPr/>
        </p:nvSpPr>
        <p:spPr>
          <a:xfrm>
            <a:off x="3718080" y="3263760"/>
            <a:ext cx="2154240" cy="452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迥：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jiǒng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，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100160" y="4006800"/>
            <a:ext cx="697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有一树梅花凌寒开放，枝条洁白如玉，它远离人来车往的村路，临近溪水桥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16"/>
          <p:cNvSpPr/>
          <p:nvPr/>
        </p:nvSpPr>
        <p:spPr>
          <a:xfrm>
            <a:off x="5938920" y="3301920"/>
            <a:ext cx="2154240" cy="452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傍：临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"/>
          <p:cNvSpPr/>
          <p:nvPr/>
        </p:nvSpPr>
        <p:spPr>
          <a:xfrm>
            <a:off x="1231920" y="1882800"/>
            <a:ext cx="69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知近水花先发，疑是经冬雪未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31840" y="3340080"/>
            <a:ext cx="681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人们不知道寒梅靠近溪水而提早开放，以为那是经过冬天而尚未消融的白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18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1"/>
          <p:cNvSpPr/>
          <p:nvPr/>
        </p:nvSpPr>
        <p:spPr>
          <a:xfrm>
            <a:off x="941400" y="2239920"/>
            <a:ext cx="73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古诗人以梅花入诗者不乏佳篇，有人咏梅的风姿，有人颂梅的神韵；这首咏梅诗，则侧重写一个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“早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写了冬末春初之际，为世界带来生机和希望的早梅的形象，表现了其凌寒独放的高洁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988920" y="1665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树寒梅白玉条，迥临村路傍溪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4" name="矩形 1"/>
          <p:cNvSpPr/>
          <p:nvPr/>
        </p:nvSpPr>
        <p:spPr>
          <a:xfrm>
            <a:off x="882720" y="253692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树寒梅白玉条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描写早梅开花的娇美姿态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一树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实为满树，形容花开之密集而缤纷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寒梅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花开之早，还在冬末春初的寒冷季节，紧扣“早”字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白玉条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用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Calibri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生动地写出梅花洁白娇美的姿韵。这是对梅花外形的描写，有形有神，令人陶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1116000" y="1571760"/>
            <a:ext cx="781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不知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近水花先发，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疑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经冬雪未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017720" y="2336760"/>
            <a:ext cx="73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不知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上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疑是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写出诗人远望早梅似雪非雪的迷离恍惚之境。诗人并不敢相信自己的眼睛所看到的是梅花，而怀疑是未融化的冬雪压在枝头。这就与首句的“白玉条”呼应，从而含蓄婉转地把梅花的洁白和凛然不屈的品格这一诗意落到实处，使诗的主题得到进一步深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925560" y="2602080"/>
            <a:ext cx="74134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描写了什么植物？表达了诗人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诗人通过描写似玉如雪的早梅，表现了自己与早梅在傲寒独发的高洁品质上的契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内容占位符 2"/>
          <p:cNvSpPr/>
          <p:nvPr/>
        </p:nvSpPr>
        <p:spPr>
          <a:xfrm>
            <a:off x="587520" y="1971720"/>
            <a:ext cx="2203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706320" y="2203560"/>
            <a:ext cx="7664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古诗，说说这首诗的题目突出了植物的什么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题目中侧重一个“早”字，点明寒冬刚过，百花未开，为世界带来生机的只有一树寒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内容占位符 2"/>
          <p:cNvSpPr/>
          <p:nvPr/>
        </p:nvSpPr>
        <p:spPr>
          <a:xfrm>
            <a:off x="635040" y="14968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内容占位符 2"/>
          <p:cNvSpPr/>
          <p:nvPr/>
        </p:nvSpPr>
        <p:spPr>
          <a:xfrm>
            <a:off x="709560" y="2065320"/>
            <a:ext cx="7900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中描写的景物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早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中的早梅似玉如雪、凌寒早开，让人怀疑是冬天未化的积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677880" y="2001960"/>
            <a:ext cx="79009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仅仅是在写“早梅”的美丽吗？这在写法上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首诗表面都是在写植物，其实寄托着作者的情感，或咏叹、或寄情、或言志，以此表达自己的闲情雅致和高洁的人生操守。这是托物言志、寄情于景的写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内容占位符 2"/>
          <p:cNvSpPr/>
          <p:nvPr/>
        </p:nvSpPr>
        <p:spPr>
          <a:xfrm>
            <a:off x="677880" y="2143080"/>
            <a:ext cx="79009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从诗中读出了诗人怎样的心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读出了诗人张谓对早梅凌寒开放的高洁品质的赞美，以及作者内心高洁不屈的志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797040" y="1917720"/>
            <a:ext cx="749916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　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张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树寒梅白玉条，迥临村路傍溪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知近水花先发，疑是经冬雪未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1501920" y="2602080"/>
            <a:ext cx="5889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早开的风姿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凌寒独放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洁白如玉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独开的环境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远离村路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傍桥开放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早发的原因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临近水源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最先绽放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诗人的疑惑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疑是白雪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经冬未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7161120" y="317484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开之梅韵味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高洁品质蕴其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467640" y="3004200"/>
            <a:ext cx="109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早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右大括号 8"/>
          <p:cNvSpPr/>
          <p:nvPr/>
        </p:nvSpPr>
        <p:spPr>
          <a:xfrm rot="10800000">
            <a:off x="1351080" y="2751120"/>
            <a:ext cx="188640" cy="1952640"/>
          </a:xfrm>
          <a:custGeom>
            <a:avLst/>
            <a:gdLst>
              <a:gd name="textAreaLeft" fmla="*/ 0 w 188640"/>
              <a:gd name="textAreaRight" fmla="*/ 68040 w 188640"/>
              <a:gd name="textAreaTop" fmla="*/ 4680 h 1952640"/>
              <a:gd name="textAreaBottom" fmla="*/ 1947960 h 19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7"/>
                  <a:pt x="10800" y="174"/>
                </a:cubicBezTo>
                <a:lnTo>
                  <a:pt x="10800" y="10626"/>
                </a:lnTo>
                <a:cubicBezTo>
                  <a:pt x="10800" y="10713"/>
                  <a:pt x="16200" y="10800"/>
                  <a:pt x="21600" y="10800"/>
                </a:cubicBezTo>
                <a:cubicBezTo>
                  <a:pt x="16200" y="10800"/>
                  <a:pt x="10800" y="10887"/>
                  <a:pt x="10800" y="10974"/>
                </a:cubicBezTo>
                <a:lnTo>
                  <a:pt x="10800" y="21426"/>
                </a:lnTo>
                <a:cubicBezTo>
                  <a:pt x="10800" y="2151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右大括号 9"/>
          <p:cNvSpPr/>
          <p:nvPr/>
        </p:nvSpPr>
        <p:spPr>
          <a:xfrm flipH="1" rot="10800000">
            <a:off x="6509160" y="2703600"/>
            <a:ext cx="243000" cy="2146320"/>
          </a:xfrm>
          <a:custGeom>
            <a:avLst/>
            <a:gdLst>
              <a:gd name="textAreaLeft" fmla="*/ -360 w 243000"/>
              <a:gd name="textAreaRight" fmla="*/ 87480 w 243000"/>
              <a:gd name="textAreaTop" fmla="*/ 6120 h 2146320"/>
              <a:gd name="textAreaBottom" fmla="*/ 2140200 h 21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"/>
                  <a:pt x="10800" y="204"/>
                </a:cubicBezTo>
                <a:lnTo>
                  <a:pt x="10800" y="10596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2"/>
                  <a:pt x="10800" y="11004"/>
                </a:cubicBezTo>
                <a:lnTo>
                  <a:pt x="10800" y="21396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1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1"/>
          <p:cNvSpPr/>
          <p:nvPr/>
        </p:nvSpPr>
        <p:spPr>
          <a:xfrm>
            <a:off x="1374840" y="6630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42840" y="2643120"/>
            <a:ext cx="741708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诗人通过描绘似玉如雪的早梅，赞扬了早梅傲寒独放的高洁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1"/>
          <p:cNvSpPr/>
          <p:nvPr/>
        </p:nvSpPr>
        <p:spPr>
          <a:xfrm>
            <a:off x="1003320" y="2790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立意咏赞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早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高洁，但作者并没有发一句议论和赞语，却将早梅的高洁品格和诗人的赞美之情清晰地刻画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1062000" y="2397240"/>
            <a:ext cx="704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“迥”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朗读古诗并熟读成诵。结合注释弄懂古诗大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诗歌的意境，感受诗人笔下的早梅的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1427040" y="2495520"/>
            <a:ext cx="65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张谓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－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7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河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河南沁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唐代诗人。其诗多为宴饮送别之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早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邵陵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送裴侍御归上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3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任意多边形 8"/>
          <p:cNvSpPr/>
          <p:nvPr/>
        </p:nvSpPr>
        <p:spPr>
          <a:xfrm>
            <a:off x="3656160" y="2932200"/>
            <a:ext cx="974520" cy="11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3464280" y="26179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ǒ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9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028960" y="3232080"/>
            <a:ext cx="657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临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　　  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949040" y="284328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ǒ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4469400" y="285912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à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8" name="圆角矩形 12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365200" y="348444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4"/>
          <p:cNvGrpSpPr/>
          <p:nvPr/>
        </p:nvGrpSpPr>
        <p:grpSpPr>
          <a:xfrm>
            <a:off x="2879640" y="2922480"/>
            <a:ext cx="3540240" cy="1373400"/>
            <a:chOff x="2879640" y="2922480"/>
            <a:chExt cx="3540240" cy="1373400"/>
          </a:xfrm>
        </p:grpSpPr>
        <p:sp>
          <p:nvSpPr>
            <p:cNvPr id="93" name="左大括号 2"/>
            <p:cNvSpPr/>
            <p:nvPr/>
          </p:nvSpPr>
          <p:spPr>
            <a:xfrm>
              <a:off x="2879640" y="3036600"/>
              <a:ext cx="279360" cy="1130400"/>
            </a:xfrm>
            <a:custGeom>
              <a:avLst/>
              <a:gdLst>
                <a:gd name="textAreaLeft" fmla="*/ 178560 w 279360"/>
                <a:gd name="textAreaRight" fmla="*/ 279720 w 279360"/>
                <a:gd name="textAreaTop" fmla="*/ 5400 h 1130400"/>
                <a:gd name="textAreaBottom" fmla="*/ 112500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5"/>
                    <a:pt x="10800" y="349"/>
                  </a:cubicBezTo>
                  <a:lnTo>
                    <a:pt x="10800" y="10451"/>
                  </a:lnTo>
                  <a:cubicBezTo>
                    <a:pt x="10800" y="10626"/>
                    <a:pt x="5400" y="10800"/>
                    <a:pt x="0" y="10800"/>
                  </a:cubicBezTo>
                  <a:cubicBezTo>
                    <a:pt x="5400" y="10800"/>
                    <a:pt x="10800" y="10975"/>
                    <a:pt x="10800" y="11149"/>
                  </a:cubicBezTo>
                  <a:lnTo>
                    <a:pt x="10800" y="21251"/>
                  </a:lnTo>
                  <a:cubicBezTo>
                    <a:pt x="10800" y="2142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3092040" y="2922480"/>
              <a:ext cx="33278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发现　发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毛发　头发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6" name="圆角矩形 13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725480" y="2808360"/>
            <a:ext cx="74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"/>
          <p:cNvSpPr/>
          <p:nvPr/>
        </p:nvSpPr>
        <p:spPr>
          <a:xfrm>
            <a:off x="2301840" y="2808360"/>
            <a:ext cx="29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临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920880" y="2055960"/>
            <a:ext cx="754848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首诗描写了什么植物？表达了诗人怎样的思想感情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古诗，说说这首诗的题目突出了植物的什么特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首诗中描写的景物有什么特点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诗人仅仅是在写“早梅”的美丽吗？这在写法上有什么特点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你从诗中读出了诗人怎样的心声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7:04:08Z</dcterms:modified>
  <cp:revision>4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