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6F61A-7C2D-470E-B5FC-303385C0AA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1DD8C-0B2F-4464-821B-D0E14255BD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F2A-9A9E-4974-B251-16F45864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999-60AD-43DE-BB04-9B2FE9A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4D4-FAD0-4220-AF53-6619A921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D7E-DE03-4A7E-BC17-4EBE2F19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18B-3FD8-4BCC-A811-BB296580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81D-899A-4C63-98C1-B4E0277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ECA-22C9-46F2-8E00-4F19A992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5D4-C91E-4F10-B743-7B02C1CB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977-34DF-40C0-97DA-346DEB0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23C-94F8-4703-A157-5F3A91B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577-D328-4854-85DE-CAB17FC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439-B645-414D-86C7-C235EBB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36D4A-5259-4B5D-AD7D-6ADD8A7C668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3164040" y="2182680"/>
            <a:ext cx="2815920" cy="32846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1403280" y="1011240"/>
            <a:ext cx="636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爱因斯坦和小女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3963240" y="19350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温柔　温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2146320" y="2381400"/>
            <a:ext cx="61452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柔顺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温柔”适用范围小，多用于形容女性柔顺。“温和”适用范围大，既可用于形容人，也可用于形容天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是一个特别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温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人，大家都喜欢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昆明是一个适合居住的城市，四季如春，  气候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温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4"/>
          <p:cNvGrpSpPr/>
          <p:nvPr/>
        </p:nvGrpSpPr>
        <p:grpSpPr>
          <a:xfrm>
            <a:off x="681120" y="2492280"/>
            <a:ext cx="1670040" cy="459720"/>
            <a:chOff x="681120" y="2492280"/>
            <a:chExt cx="1670040" cy="459720"/>
          </a:xfrm>
        </p:grpSpPr>
        <p:pic>
          <p:nvPicPr>
            <p:cNvPr id="135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5466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3"/>
            <p:cNvSpPr/>
            <p:nvPr/>
          </p:nvSpPr>
          <p:spPr>
            <a:xfrm>
              <a:off x="1024200" y="24922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0"/>
          <p:cNvGrpSpPr/>
          <p:nvPr/>
        </p:nvGrpSpPr>
        <p:grpSpPr>
          <a:xfrm>
            <a:off x="681120" y="3108240"/>
            <a:ext cx="1670040" cy="459720"/>
            <a:chOff x="681120" y="3108240"/>
            <a:chExt cx="1670040" cy="459720"/>
          </a:xfrm>
        </p:grpSpPr>
        <p:pic>
          <p:nvPicPr>
            <p:cNvPr id="138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1626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22"/>
            <p:cNvSpPr/>
            <p:nvPr/>
          </p:nvSpPr>
          <p:spPr>
            <a:xfrm>
              <a:off x="1024200" y="31082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23"/>
          <p:cNvGrpSpPr/>
          <p:nvPr/>
        </p:nvGrpSpPr>
        <p:grpSpPr>
          <a:xfrm>
            <a:off x="681120" y="4843440"/>
            <a:ext cx="1670040" cy="459720"/>
            <a:chOff x="681120" y="4843440"/>
            <a:chExt cx="1670040" cy="459720"/>
          </a:xfrm>
        </p:grpSpPr>
        <p:pic>
          <p:nvPicPr>
            <p:cNvPr id="141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8978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25"/>
            <p:cNvSpPr/>
            <p:nvPr/>
          </p:nvSpPr>
          <p:spPr>
            <a:xfrm>
              <a:off x="1024200" y="48434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887400" y="10954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初次相遇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爱因斯坦和小女孩儿第一次相遇，给小女孩儿的印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再次相遇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爱因斯坦和小女孩儿第二次相遇，小女孩儿教他如何穿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热情相邀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爱因斯坦邀请小女孩儿到他那里做客，小女孩儿教他如何布置房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四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真诚夸赞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爱因斯坦向小女孩儿的妈妈夸赞小女孩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7"/>
          <p:cNvSpPr/>
          <p:nvPr/>
        </p:nvSpPr>
        <p:spPr>
          <a:xfrm>
            <a:off x="1244520" y="2784600"/>
            <a:ext cx="69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章讲述了爱因斯坦与小女孩儿的三次碰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1087560" y="199224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讲述了什么事？请简要概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7"/>
          <p:cNvSpPr/>
          <p:nvPr/>
        </p:nvSpPr>
        <p:spPr>
          <a:xfrm>
            <a:off x="3214800" y="3192480"/>
            <a:ext cx="3057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间顺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1087560" y="199224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是按照什么顺序来写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这一顺序可以将课文分为几个部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1560600" y="4079880"/>
            <a:ext cx="111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相撞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6927480" y="4079880"/>
            <a:ext cx="60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相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5175360" y="418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想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470400" y="420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相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右箭头 5"/>
          <p:cNvSpPr/>
          <p:nvPr/>
        </p:nvSpPr>
        <p:spPr>
          <a:xfrm>
            <a:off x="2459160" y="4430880"/>
            <a:ext cx="973080" cy="80640"/>
          </a:xfrm>
          <a:prstGeom prst="rightArrow">
            <a:avLst>
              <a:gd name="adj1" fmla="val 50000"/>
              <a:gd name="adj2" fmla="val 5022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右箭头 9"/>
          <p:cNvSpPr/>
          <p:nvPr/>
        </p:nvSpPr>
        <p:spPr>
          <a:xfrm>
            <a:off x="4146480" y="4408560"/>
            <a:ext cx="973080" cy="81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右箭头 10"/>
          <p:cNvSpPr/>
          <p:nvPr/>
        </p:nvSpPr>
        <p:spPr>
          <a:xfrm>
            <a:off x="5884920" y="4410000"/>
            <a:ext cx="971640" cy="81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1017720" y="25480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按时间先后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时间先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序，写了爱因斯坦和小女孩儿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不期而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再次相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真诚相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成为朋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往过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7167"/>
          <p:cNvSpPr/>
          <p:nvPr/>
        </p:nvSpPr>
        <p:spPr>
          <a:xfrm>
            <a:off x="1182600" y="2370240"/>
            <a:ext cx="703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词选择正确的读音，画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ō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ō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色　　憔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iáo cu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áo su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d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uó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        咖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kāo fē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ā fē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889560" y="361332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889560" y="306720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4657320" y="370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7"/>
          <p:cNvSpPr/>
          <p:nvPr/>
        </p:nvSpPr>
        <p:spPr>
          <a:xfrm>
            <a:off x="4659120" y="324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6380280" y="3622680"/>
            <a:ext cx="1904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2"/>
          <p:cNvSpPr/>
          <p:nvPr/>
        </p:nvSpPr>
        <p:spPr>
          <a:xfrm>
            <a:off x="2037600" y="3600360"/>
            <a:ext cx="148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5022720" y="3067200"/>
            <a:ext cx="2115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4"/>
          <p:cNvSpPr/>
          <p:nvPr/>
        </p:nvSpPr>
        <p:spPr>
          <a:xfrm>
            <a:off x="1398600" y="3054240"/>
            <a:ext cx="158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1116000" y="203508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左大括号 2"/>
          <p:cNvSpPr/>
          <p:nvPr/>
        </p:nvSpPr>
        <p:spPr>
          <a:xfrm>
            <a:off x="1938240" y="280512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左大括号 15"/>
          <p:cNvSpPr/>
          <p:nvPr/>
        </p:nvSpPr>
        <p:spPr>
          <a:xfrm>
            <a:off x="5307120" y="28274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62468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4967280" y="299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2261880" y="26748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mē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闷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2274480" y="32306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mè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郁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5516640" y="2701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ò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冲着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5457240" y="3206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ō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冲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2"/>
          <p:cNvSpPr/>
          <p:nvPr/>
        </p:nvSpPr>
        <p:spPr>
          <a:xfrm>
            <a:off x="1352520" y="182088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脸庞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心情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影子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眨眼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嘶叫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解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介绍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绘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处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2037960" y="245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清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555120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兴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2036520" y="305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5551200" y="306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2066760" y="359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5617800" y="361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认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968200" y="410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详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6"/>
          <p:cNvSpPr/>
          <p:nvPr/>
        </p:nvSpPr>
        <p:spPr>
          <a:xfrm>
            <a:off x="6486120" y="412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生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2984040" y="467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融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511200" y="1419120"/>
            <a:ext cx="8632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寂静　　安静　　平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夜深了，山村一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孩子们在床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地睡着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教室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得很，连一声咳嗽都没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阅览室里，同学们都在聚精会神地看书，显得格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战争过后，这个小村庄恢复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比赛结束了，可是我的心总难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病房里要保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不要高声谈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3598560" y="252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寂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6694200" y="252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2184120" y="3038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7497360" y="351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501624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平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5267880" y="454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平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3053880" y="50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"/>
          <p:cNvSpPr/>
          <p:nvPr/>
        </p:nvSpPr>
        <p:spPr>
          <a:xfrm>
            <a:off x="826920" y="1341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瞧您，衣服还不会穿呢，怎么谈得上伟大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抬起头，友好地冲小女孩儿一笑：“对不起，小姑娘，是我不小心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1332000" y="3071880"/>
            <a:ext cx="51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瞧您，衣服还不会穿呢，谈不上伟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1220760" y="4626000"/>
            <a:ext cx="71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抬起头，友好地冲小女孩儿一笑，说，对不起，小姑娘，是他不小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1023840" y="2995560"/>
            <a:ext cx="74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联系具体语境，理解词句的含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"/>
          <p:cNvSpPr/>
          <p:nvPr/>
        </p:nvSpPr>
        <p:spPr>
          <a:xfrm>
            <a:off x="4367160" y="2154240"/>
            <a:ext cx="398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爱因斯坦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87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5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物理学家，生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德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提出光子假设，成功解释了光电效应，因此获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诺贝尔物理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0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584360" y="2139840"/>
            <a:ext cx="1841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任意多边形 8"/>
          <p:cNvSpPr/>
          <p:nvPr/>
        </p:nvSpPr>
        <p:spPr>
          <a:xfrm>
            <a:off x="1771560" y="2481120"/>
            <a:ext cx="5805720" cy="2864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20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棕   嘿   踱   憔  悴   咖   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570680" y="256068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ō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81" name="矩形 9"/>
          <p:cNvSpPr/>
          <p:nvPr/>
        </p:nvSpPr>
        <p:spPr>
          <a:xfrm>
            <a:off x="3202560" y="254484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4643640" y="254484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u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6135120" y="2535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689120" y="39956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3284280" y="399564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785120" y="3995640"/>
            <a:ext cx="7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003400" y="2408400"/>
            <a:ext cx="704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趿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拉　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嘿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踱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2062080" y="24354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041000" y="24368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9"/>
          <p:cNvSpPr/>
          <p:nvPr/>
        </p:nvSpPr>
        <p:spPr>
          <a:xfrm>
            <a:off x="5487840" y="24354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u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2457360" y="35989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4093200" y="35989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100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ē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闷热　闷头儿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è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沉闷　闷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13"/>
          <p:cNvSpPr/>
          <p:nvPr/>
        </p:nvSpPr>
        <p:spPr>
          <a:xfrm>
            <a:off x="1569960" y="4200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2095560" y="3760920"/>
            <a:ext cx="3579840" cy="1373400"/>
            <a:chOff x="2095560" y="3760920"/>
            <a:chExt cx="3579840" cy="1373400"/>
          </a:xfrm>
        </p:grpSpPr>
        <p:sp>
          <p:nvSpPr>
            <p:cNvPr id="104" name="左大括号 14"/>
            <p:cNvSpPr/>
            <p:nvPr/>
          </p:nvSpPr>
          <p:spPr>
            <a:xfrm>
              <a:off x="2095560" y="397980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15"/>
            <p:cNvSpPr/>
            <p:nvPr/>
          </p:nvSpPr>
          <p:spPr>
            <a:xfrm>
              <a:off x="2230200" y="3760920"/>
              <a:ext cx="3445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吓人　吓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恐吓　恫吓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07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1069920" y="18241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茫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趿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憔悴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1"/>
          <p:cNvSpPr/>
          <p:nvPr/>
        </p:nvSpPr>
        <p:spPr>
          <a:xfrm>
            <a:off x="1900080" y="1851120"/>
            <a:ext cx="686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完全不知道的样子。文中形容爱因斯坦完全不记得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听了小明的话，小华一副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茫然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把鞋后帮踩在脚后跟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丽丽在家里时喜欢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趿拉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着鞋走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人瘦弱，面色不好看。文中指爱因斯坦很瘦弱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王东病了，看起来非常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憔悴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1069920" y="1824120"/>
            <a:ext cx="76960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洋溢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布置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要领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1"/>
          <p:cNvSpPr/>
          <p:nvPr/>
        </p:nvSpPr>
        <p:spPr>
          <a:xfrm>
            <a:off x="1835280" y="1841400"/>
            <a:ext cx="68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情绪、气氛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充分流露。文中指爱因斯坦憔悴的脸上露出了笑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节日里，家里每个人脸上都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洋溢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着快乐的笑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在一个地方安排和陈列各种物件使这个地方适合某种需要。②对活动做出安排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</a:t>
            </a:r>
            <a:r>
              <a:rPr b="1" lang="en-US" sz="2200" spc="-1" strike="noStrike">
                <a:solidFill>
                  <a:srgbClr val="1a210d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他们正在按照要求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布置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会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老师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布置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的作业要按时完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要点。文中指小女孩儿掌握的穿戴要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1069920" y="1824120"/>
            <a:ext cx="7696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训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冷不丁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字不差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塌糊涂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1"/>
          <p:cNvSpPr/>
          <p:nvPr/>
        </p:nvSpPr>
        <p:spPr>
          <a:xfrm>
            <a:off x="1793880" y="1819440"/>
            <a:ext cx="68659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教育训诫。文中指小女孩儿的妈妈教育小女孩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冷不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爸爸正在做报表，妈妈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冷不丁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拍了他的背一下，把他吓了一大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字也没有错，形容背得准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张明把整篇课文背得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一字不差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形容乱到极点，糟到不可收拾的程度。本文形容爱因斯坦的办公桌上杂乱无章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他把事情弄得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一塌糊涂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36:58Z</dcterms:modified>
  <cp:revision>4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