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A716C-7058-4F3F-A3F1-4DA6C8F563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82566-FBEB-4B5C-AF27-3C38515AE6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E96-C254-4587-8BEF-07D0CDDC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E06-719A-4B44-823F-B113D24B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464-6FBC-49BB-8F58-B194D5F7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0A0-4C9B-4F75-8D12-9310A08A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8C1-6BE2-4CF9-BD11-4237D00B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ABA-3D16-4211-9504-CAF15DA3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67F-5E6E-4C8B-97B5-0DF82830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139-553B-4A3C-9ABB-10B933BE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B54-4562-4AA5-BA87-06072E60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718-FABC-47AA-AF73-2E76055F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3D4-23F2-4AFA-B2E7-41D6446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38C-35DE-4819-B75D-DE656D9C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BD414-2222-4C49-BBB0-D233D4BB08E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9" descr=""/>
          <p:cNvPicPr/>
          <p:nvPr/>
        </p:nvPicPr>
        <p:blipFill>
          <a:blip r:embed="rId1"/>
          <a:stretch/>
        </p:blipFill>
        <p:spPr>
          <a:xfrm>
            <a:off x="3164040" y="2130480"/>
            <a:ext cx="2815920" cy="32860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1055520" y="1011240"/>
            <a:ext cx="714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爱因斯坦和小女孩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2"/>
          <p:cNvSpPr/>
          <p:nvPr/>
        </p:nvSpPr>
        <p:spPr>
          <a:xfrm>
            <a:off x="1093680" y="1305000"/>
            <a:ext cx="77392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她教我怎样穿戴，怎样放东西和布置房间。这些天，她还常带些小甜饼给我，不知道她是如何了解到我爱吃这东西的。我呢，简直什么也帮不了她，只能给她辅导辅导数学作业。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873000" y="3618000"/>
            <a:ext cx="76834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什么也帮不了她”“只能”进一步说明了爱因斯坦的谦逊。爱因斯坦是一个真正“伟大的人”，不仅因为他对科学的巨大贡献，还因为他人格上闪现出的谦逊平和的品质。课文以爱因斯坦的回答收束全文，说明友谊本没有身份的区别，只要以诚相待，便可成为朋友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11"/>
          <p:cNvGrpSpPr/>
          <p:nvPr/>
        </p:nvGrpSpPr>
        <p:grpSpPr>
          <a:xfrm>
            <a:off x="873000" y="2930400"/>
            <a:ext cx="7959960" cy="538200"/>
            <a:chOff x="873000" y="2930400"/>
            <a:chExt cx="7959960" cy="538200"/>
          </a:xfrm>
        </p:grpSpPr>
        <p:sp>
          <p:nvSpPr>
            <p:cNvPr id="104" name="直接连接符 12"/>
            <p:cNvSpPr/>
            <p:nvPr/>
          </p:nvSpPr>
          <p:spPr>
            <a:xfrm>
              <a:off x="873000" y="3468600"/>
              <a:ext cx="795996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任意多边形 13"/>
            <p:cNvSpPr/>
            <p:nvPr/>
          </p:nvSpPr>
          <p:spPr>
            <a:xfrm>
              <a:off x="873000" y="2930400"/>
              <a:ext cx="7959960" cy="53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913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1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</a:t>
              </a:r>
              <a:r>
                <a:rPr b="1" lang="en-US" sz="21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1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重点</a:t>
              </a:r>
              <a:r>
                <a:rPr b="1" lang="en-US" sz="21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1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你从课文结尾爱因斯坦的语言中体会到了什么？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977760" y="3718080"/>
            <a:ext cx="7425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女孩儿和爱因斯坦的交往经历了“相撞”“相遇”“相邀”“成为朋友”四个阶段。从中可以感受到小女孩儿的天真可爱，真诚负责，更体现出爱因斯坦的和蔼可亲、平易近人和童心未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女孩儿和爱因斯坦的相处经历了哪些阶段？爱因斯坦和小女孩儿是怎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内容占位符 2"/>
          <p:cNvSpPr/>
          <p:nvPr/>
        </p:nvSpPr>
        <p:spPr>
          <a:xfrm>
            <a:off x="677880" y="1728720"/>
            <a:ext cx="76453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小女孩儿初次见到爱因斯坦时他是什么样子的，说明他是个怎样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071720" y="2862360"/>
            <a:ext cx="7315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副不修边幅的样子：“老人留着一撮短而硬的小胡子，一双棕褐色的眼睛深陷在眼窝里，一头灰白的头发乱蓬蓬的。”“小女孩儿望着老人，只见他穿的衣服又肥又长，整个人就像裹在一张大被单里，脚下趿拉着一双拖鞋。”“嘿！这个人简直就是从我的童话故事书里走出来的。”说明了他是个不修边幅、不拘小节的老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635040" y="1071720"/>
            <a:ext cx="2203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内容占位符 2"/>
          <p:cNvSpPr/>
          <p:nvPr/>
        </p:nvSpPr>
        <p:spPr>
          <a:xfrm>
            <a:off x="452520" y="1128600"/>
            <a:ext cx="784692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他们第二次相遇时，小女孩儿是如何支出爱因斯坦的不足并帮助他的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当时，爱因斯坦有何表现？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55640" y="2241720"/>
            <a:ext cx="7851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在谈话中，当老人承认自己就是爱因斯坦，却不认为自己伟大的时候，小女孩儿天真地反问他：“我说也是嘛，瞧您，衣服还不会穿呢，怎么谈得上伟大呢？”从而让爱因斯坦意识到自己的不修边幅。小女孩儿将平日里妈妈教给她的穿戴要领一口气全说了出来，用以教给爱因斯坦。对于小女孩儿的意见，爱因斯坦调皮又谦虚地接受了，对小女孩儿教授的方法，他认真地学习，能一字不差地背下来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内容占位符 2"/>
          <p:cNvSpPr/>
          <p:nvPr/>
        </p:nvSpPr>
        <p:spPr>
          <a:xfrm>
            <a:off x="804960" y="111276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次见面时爱因斯坦发生了怎样的变化？说明了什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1041480" y="2168640"/>
            <a:ext cx="74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71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三天下午，爱因斯坦在路边等待放学回家的小女孩儿。小女孩儿看见他的时候简直吓了一跳：他整个变了一个人，按小女孩儿说的那样穿戴得整整齐齐！”从这里可以看出，爱因斯坦十分谦虚，他接受了小女孩儿的“指导”，穿戴得整整齐齐。他能把一个小女孩儿当成平等的朋友对待，这更能衬出他人格的伟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774720" y="1465200"/>
            <a:ext cx="76453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他们的交往中你能体会到他们的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071720" y="2182680"/>
            <a:ext cx="73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后来，爱因斯坦邀请小女孩儿去做客，并向小女孩儿学习如何整理办公室，他们成了忘年交，小女孩儿每天都要到爱因斯坦的办公室里坐坐，他们互相学习，相处得很好。从中可以看出爱因斯坦富有童心，感受到他对小女孩儿的亲切和蔼，真诚细致。还可以看出小女孩儿的天真可爱，真诚认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0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"/>
          <p:cNvSpPr/>
          <p:nvPr/>
        </p:nvSpPr>
        <p:spPr>
          <a:xfrm>
            <a:off x="1744560" y="2662200"/>
            <a:ext cx="516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相撞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不修边幅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真诚道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相遇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衣衫不整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听取意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相邀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整整齐齐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真诚邀请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友谊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虚心求教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真诚以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-30960" y="2081160"/>
            <a:ext cx="182628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爱因斯坦和小女孩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6281640" y="3141720"/>
            <a:ext cx="2957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事业：执着追求             生活：谦和慈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左大括号 4"/>
          <p:cNvSpPr/>
          <p:nvPr/>
        </p:nvSpPr>
        <p:spPr>
          <a:xfrm>
            <a:off x="1617840" y="2782800"/>
            <a:ext cx="288720" cy="20988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098800"/>
              <a:gd name="textAreaBottom" fmla="*/ 2091600 h 209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左大括号 11"/>
          <p:cNvSpPr/>
          <p:nvPr/>
        </p:nvSpPr>
        <p:spPr>
          <a:xfrm flipH="1">
            <a:off x="6193800" y="2766960"/>
            <a:ext cx="204840" cy="2098800"/>
          </a:xfrm>
          <a:custGeom>
            <a:avLst/>
            <a:gdLst>
              <a:gd name="textAreaLeft" fmla="*/ 130680 w 204840"/>
              <a:gd name="textAreaRight" fmla="*/ 204840 w 204840"/>
              <a:gd name="textAreaTop" fmla="*/ 5040 h 2098800"/>
              <a:gd name="textAreaBottom" fmla="*/ 2093760 h 209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内容占位符 2"/>
          <p:cNvSpPr/>
          <p:nvPr/>
        </p:nvSpPr>
        <p:spPr>
          <a:xfrm>
            <a:off x="966960" y="2289240"/>
            <a:ext cx="74167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按时间先后顺序，记叙了爱因斯坦与一个小女孩儿从相遇到相识，直至相交的过程，表现了爱因斯坦为了科学事业而不拘生活小节的品格，和喜爱孩子、乐于和孩子相处的一颗童心，同时也反映出爱因斯坦对科学事业执着追求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0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矩形 1"/>
          <p:cNvSpPr/>
          <p:nvPr/>
        </p:nvSpPr>
        <p:spPr>
          <a:xfrm>
            <a:off x="725400" y="1857240"/>
            <a:ext cx="783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个改变爱因斯坦的故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爱因斯坦小时候十分贪玩。他的母亲常常为此忧心忡忡，再三告诫他应该怎样怎样，然而对他来讲如同耳边风。这样，一直到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岁的那年秋天，一天上午，父亲将正要去河边钓鱼的爱因斯坦拦住，并给他讲了一个故事，正是这个故事改变了爱因斯坦的一生。故事是这样的：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昨天，”爱因斯坦的父亲说，“我和咱们的邻居杰克大叔清扫南边工厂的一个大烟囱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cōng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。那烟囱只有踩着里边的钢筋踏梯才能上去。你杰克大叔在前面，我在后面。我们抓着扶手，一阶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725400" y="1274760"/>
            <a:ext cx="783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阶地终于爬上去了。下来时，你杰克大叔依旧走在前面，我还是跟在他的后面。后来，钻出烟囱，我发现一个奇怪的事情：你杰克大叔的后背、脸上全都被烟囱里的烟灰蹭黑了，而我身上竟连一点烟灰也没有。”爱因斯坦的父亲继续微笑着说：“我看见你杰克大叔的模样，心想我肯定和他一样，脸脏得像个小丑，于是我就到附近的小河里去洗了又洗。而你杰克大叔呢，他看见我钻出烟囱时干干净净的，就以为他也和我一样干净呢，于是就只草草洗了洗手就大模大样上街了。结果，街上的人都笑痛了肚子，还以为你杰克大叔是个疯子呢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爱因斯坦听罢，忍不住和父亲一起大笑起来。父亲笑完了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826920" y="2522520"/>
            <a:ext cx="758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理解人物语言、动作和外貌描写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受爱因斯坦平易近人、谦和慈祥、虚心好学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"/>
          <p:cNvSpPr/>
          <p:nvPr/>
        </p:nvSpPr>
        <p:spPr>
          <a:xfrm>
            <a:off x="725400" y="1274760"/>
            <a:ext cx="783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郑重地对他说，“其实，别人谁也不能做你的镜子，只有自己才是自己的镜子。拿别人做镜子，白痴或许会把自己照成天才的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爱因斯坦听了，顿时满脸愧色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爱因斯坦从此离开了那群顽皮的孩子们。他时时用自己做镜子来审视和映照自己，终于映照出生命中的熠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yì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熠光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盲目地与别人相比较，以为自己比身边的人聪明就满足了，或者觉得自己不如别人就沮丧了。这多么愚蠢啊！每一个人都有其不同的人生目标和生活方式，自己才是自己在这个世界上最可靠的人生向导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https://timgsa.baidu.com/timg?image&amp;quality=80&amp;size=b9999_10000&amp;sec=1494493398404&amp;di=30eb3b0482a7e30ed60732e130b4c95a&amp;imgtype=0&amp;src=http%3A%2F%2Fwww.zzstep.com%2Fbbs%2Fad%2Fimages%2F1418982764.jpg"/>
          <p:cNvPicPr/>
          <p:nvPr/>
        </p:nvPicPr>
        <p:blipFill>
          <a:blip r:embed="rId1"/>
          <a:srcRect l="0" t="0" r="39290" b="0"/>
          <a:stretch/>
        </p:blipFill>
        <p:spPr>
          <a:xfrm>
            <a:off x="998640" y="2133720"/>
            <a:ext cx="7494480" cy="39322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"/>
          <p:cNvSpPr/>
          <p:nvPr/>
        </p:nvSpPr>
        <p:spPr>
          <a:xfrm>
            <a:off x="1200240" y="2133720"/>
            <a:ext cx="7292880" cy="183024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昔仲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(zhòng)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尼，师项橐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(tuó)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。古圣贤，尚勤学。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三字经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仿宋"/>
                <a:ea typeface="仿宋"/>
              </a:rPr>
              <a:t>理解：从前，孔子是个十分好学的人，当时鲁国有一位七岁神童名叫项橐，孔子就曾向他学习。像孔子这样伟大的圣贤，尚不忘勤学，何况我们普通人呢？　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草长莺飞二月天，拂堤杨柳醉春烟。儿童散学归来早，忙趁东风放纸鸢。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村居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高鼎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4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2"/>
          <p:cNvSpPr/>
          <p:nvPr/>
        </p:nvSpPr>
        <p:spPr>
          <a:xfrm>
            <a:off x="1249200" y="2577960"/>
            <a:ext cx="69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旧俗中意指新年时孩子说话不必忌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huì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即使说了不吉利的话也无妨。还指孩子说出的语言幽默生动，常让人捧腹大笑。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49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矩形 1"/>
          <p:cNvSpPr/>
          <p:nvPr/>
        </p:nvSpPr>
        <p:spPr>
          <a:xfrm>
            <a:off x="1359000" y="48798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汉服无扣，系带，宽衣大袖，线条柔美流畅。汉服的领子以交领右衽为主，兼有圆领、直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1439280" y="4352760"/>
            <a:ext cx="9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汉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1549800" y="21366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童言无忌</a:t>
            </a:r>
            <a:r>
              <a:rPr b="1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6" name="矩形 11"/>
          <p:cNvSpPr/>
          <p:nvPr/>
        </p:nvSpPr>
        <p:spPr>
          <a:xfrm>
            <a:off x="1017720" y="21891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爱因斯坦首先是一个伟大的科学家，但作者并没有从这一角度去进行描写，而着重记叙了他与小女孩儿的交往过程，从中我们可以看出他在生活中不拘小节。但这也从另一个方面反映出他对科学事业执着追求的精神，他是一个真正“伟大的人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7167"/>
          <p:cNvSpPr/>
          <p:nvPr/>
        </p:nvSpPr>
        <p:spPr>
          <a:xfrm>
            <a:off x="1552680" y="2414520"/>
            <a:ext cx="712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用“√”给加点字选择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xià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ǎng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撮胡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zu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uǒ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陷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iàn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zō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ó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埋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má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án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踱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du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4435200" y="419904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8"/>
          <p:cNvSpPr/>
          <p:nvPr/>
        </p:nvSpPr>
        <p:spPr>
          <a:xfrm>
            <a:off x="1042920" y="417816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9"/>
          <p:cNvSpPr/>
          <p:nvPr/>
        </p:nvSpPr>
        <p:spPr>
          <a:xfrm>
            <a:off x="4434480" y="36180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0"/>
          <p:cNvSpPr/>
          <p:nvPr/>
        </p:nvSpPr>
        <p:spPr>
          <a:xfrm>
            <a:off x="1062000" y="36306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1"/>
          <p:cNvSpPr/>
          <p:nvPr/>
        </p:nvSpPr>
        <p:spPr>
          <a:xfrm>
            <a:off x="4751280" y="307656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2"/>
          <p:cNvSpPr/>
          <p:nvPr/>
        </p:nvSpPr>
        <p:spPr>
          <a:xfrm>
            <a:off x="1363680" y="306396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2479320" y="3209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7219440" y="3279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3258720" y="3762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5878080" y="3798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2361600" y="4317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5789160" y="4359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3"/>
          <p:cNvSpPr/>
          <p:nvPr/>
        </p:nvSpPr>
        <p:spPr>
          <a:xfrm>
            <a:off x="1428840" y="1474920"/>
            <a:ext cx="683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选字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菲　匪　翡　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翠   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在括号内填上合适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衣服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望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目光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眼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小甜饼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说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2266200" y="270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3989160" y="26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5367240" y="268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7373880" y="268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2020320" y="378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又肥又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5276520" y="375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茫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2149200" y="4324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温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9"/>
          <p:cNvSpPr/>
          <p:nvPr/>
        </p:nvSpPr>
        <p:spPr>
          <a:xfrm>
            <a:off x="5267160" y="433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深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2"/>
          <p:cNvSpPr/>
          <p:nvPr/>
        </p:nvSpPr>
        <p:spPr>
          <a:xfrm>
            <a:off x="1846800" y="48610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香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5"/>
          <p:cNvSpPr/>
          <p:nvPr/>
        </p:nvSpPr>
        <p:spPr>
          <a:xfrm>
            <a:off x="5294160" y="484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诚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3"/>
          <p:cNvSpPr/>
          <p:nvPr/>
        </p:nvSpPr>
        <p:spPr>
          <a:xfrm>
            <a:off x="900000" y="161928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选择恰当的关联词语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不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虽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但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只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爱因斯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低头走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像是在思考着什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自己严格要求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取得更大的进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3039840" y="33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5829120" y="33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2458080" y="4464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只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0"/>
          <p:cNvSpPr/>
          <p:nvPr/>
        </p:nvSpPr>
        <p:spPr>
          <a:xfrm>
            <a:off x="6246720" y="447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3"/>
          <p:cNvSpPr/>
          <p:nvPr/>
        </p:nvSpPr>
        <p:spPr>
          <a:xfrm>
            <a:off x="755640" y="1989000"/>
            <a:ext cx="756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改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衣服还不会穿呢，怎么谈得上伟大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听了这个笑话，我不约而同地笑了起来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1203480" y="3170160"/>
            <a:ext cx="52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衣服还不会穿呢，谈不上伟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4"/>
          <p:cNvSpPr/>
          <p:nvPr/>
        </p:nvSpPr>
        <p:spPr>
          <a:xfrm>
            <a:off x="1219320" y="4264200"/>
            <a:ext cx="73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听了这个笑话，我们不约而同地笑了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0" name="圆角矩形 4"/>
            <p:cNvSpPr/>
            <p:nvPr/>
          </p:nvSpPr>
          <p:spPr>
            <a:xfrm>
              <a:off x="600120" y="3734640"/>
              <a:ext cx="3207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小女孩儿初次见到爱因斯坦时他是什么样子的，说明他是个怎样的人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圆角矩形 5"/>
            <p:cNvSpPr/>
            <p:nvPr/>
          </p:nvSpPr>
          <p:spPr>
            <a:xfrm>
              <a:off x="5224320" y="3778200"/>
              <a:ext cx="3456000" cy="1117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他们第二次相遇时，小女孩儿是如何指出爱因斯坦的不足并帮助他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当时，爱因斯坦有何表现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5211720" y="5270760"/>
              <a:ext cx="3468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悟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从他们的交往中你能体会到他们的什么特点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圆角矩形 7"/>
            <p:cNvSpPr/>
            <p:nvPr/>
          </p:nvSpPr>
          <p:spPr>
            <a:xfrm>
              <a:off x="600120" y="521424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第三次见面时爱因斯坦发生了怎样的变化？说明了什么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矩形 1"/>
              <p:cNvSpPr/>
              <p:nvPr/>
            </p:nvSpPr>
            <p:spPr>
              <a:xfrm>
                <a:off x="2434320" y="1906920"/>
                <a:ext cx="4219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小女孩儿和爱因斯坦的相处经历了哪些阶段？爱因斯坦和小女孩儿是怎样的人？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矩形 2"/>
              <p:cNvSpPr/>
              <p:nvPr/>
            </p:nvSpPr>
            <p:spPr>
              <a:xfrm>
                <a:off x="4534560" y="13356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忘年之谊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2"/>
          <p:cNvSpPr/>
          <p:nvPr/>
        </p:nvSpPr>
        <p:spPr>
          <a:xfrm>
            <a:off x="735120" y="13780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人留着一撮短而硬的小胡子，一双棕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zōng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褐色的眼睛深陷在眼窝里，一头灰白的头发乱蓬蓬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6"/>
          <p:cNvGrpSpPr/>
          <p:nvPr/>
        </p:nvGrpSpPr>
        <p:grpSpPr>
          <a:xfrm>
            <a:off x="873000" y="2830680"/>
            <a:ext cx="7683480" cy="560160"/>
            <a:chOff x="873000" y="2830680"/>
            <a:chExt cx="7683480" cy="560160"/>
          </a:xfrm>
        </p:grpSpPr>
        <p:sp>
          <p:nvSpPr>
            <p:cNvPr id="80" name="直接连接符 7"/>
            <p:cNvSpPr/>
            <p:nvPr/>
          </p:nvSpPr>
          <p:spPr>
            <a:xfrm>
              <a:off x="873000" y="33908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8"/>
            <p:cNvSpPr/>
            <p:nvPr/>
          </p:nvSpPr>
          <p:spPr>
            <a:xfrm>
              <a:off x="873000" y="2830680"/>
              <a:ext cx="7683480" cy="560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个句子是什么描写？有什么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矩形 4"/>
          <p:cNvSpPr/>
          <p:nvPr/>
        </p:nvSpPr>
        <p:spPr>
          <a:xfrm>
            <a:off x="892080" y="356400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此句是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外貌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从“短而硬的小胡子”“头发乱蓬蓬的”可以看出他很不注重打理自己，说明了他是个不修边幅、不拘小节的老人。为下文写小姑娘产生教老人穿戴的想法埋下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伏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21"/>
          <p:cNvSpPr/>
          <p:nvPr/>
        </p:nvSpPr>
        <p:spPr>
          <a:xfrm>
            <a:off x="831960" y="83808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伏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903240" y="1720800"/>
            <a:ext cx="73468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伏笔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上文看似无关紧要的事或者物，对下文将要出现的人物或事件预先作的某种提示或暗示，或前文为后文情节埋伏的线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伏笔的作用是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文章结构严密、紧凑，有助于全文达到结构严谨、情节发展合理的效果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伏笔有什么答题技巧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此处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描写，为下文中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埋下了伏笔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7"/>
          <p:cNvSpPr/>
          <p:nvPr/>
        </p:nvSpPr>
        <p:spPr>
          <a:xfrm>
            <a:off x="914400" y="176220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885960" y="2987640"/>
            <a:ext cx="74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主要描写了老人的衣着，用一个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句形象地写出了他的衣服宽大，再一次突出了他的穿着很不讲究。为下文写小姑娘产生教老人穿戴的想法再次埋下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伏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676440" y="1541520"/>
            <a:ext cx="77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女孩儿望着老人，只见他穿的衣服又肥又长，整个人就像裹在一张大被单里，脚下趿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(tā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拉着一双拖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844560" y="15476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二天，小女孩儿又遇上那位老人。他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仍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衣衫不整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仍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一面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duó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步一面埋头沉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873000" y="294012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爱因斯坦的穿戴与小女孩儿第一次见到他时完全一样，也和后面第三次见面时的穿戴整齐形成对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3"/>
          <p:cNvGrpSpPr/>
          <p:nvPr/>
        </p:nvGrpSpPr>
        <p:grpSpPr>
          <a:xfrm>
            <a:off x="777960" y="1555920"/>
            <a:ext cx="7683480" cy="982440"/>
            <a:chOff x="777960" y="1555920"/>
            <a:chExt cx="7683480" cy="982440"/>
          </a:xfrm>
        </p:grpSpPr>
        <p:sp>
          <p:nvSpPr>
            <p:cNvPr id="92" name="直接连接符 4"/>
            <p:cNvSpPr/>
            <p:nvPr/>
          </p:nvSpPr>
          <p:spPr>
            <a:xfrm>
              <a:off x="777960" y="25383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任意多边形 5"/>
            <p:cNvSpPr/>
            <p:nvPr/>
          </p:nvSpPr>
          <p:spPr>
            <a:xfrm>
              <a:off x="777960" y="1555920"/>
              <a:ext cx="7683480" cy="982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0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：通过第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7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自然段中对爱因斯坦神态、动作、语言等的描写，你对他又有了怎样的了解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1"/>
          <p:cNvSpPr/>
          <p:nvPr/>
        </p:nvSpPr>
        <p:spPr>
          <a:xfrm>
            <a:off x="743040" y="287028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温柔的目光”可以看出他对小女孩儿的喜欢，“两手一摊”“肩膀一耸”“做了个鬼脸儿”这些连续的动作以及他的语言表现出了爱因斯坦同样有一颗童心，也表现了他的亲切和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838080" y="160668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仿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像这样对一个人连续动作的描写，能很好地表现人物形象，请试着写一个表现人物连续动作的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24" descr="花盆.png"/>
          <p:cNvPicPr/>
          <p:nvPr/>
        </p:nvPicPr>
        <p:blipFill>
          <a:blip r:embed="rId1"/>
          <a:stretch/>
        </p:blipFill>
        <p:spPr>
          <a:xfrm>
            <a:off x="595440" y="1760400"/>
            <a:ext cx="322200" cy="36828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98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1"/>
          <p:cNvSpPr/>
          <p:nvPr/>
        </p:nvSpPr>
        <p:spPr>
          <a:xfrm>
            <a:off x="917640" y="3225960"/>
            <a:ext cx="76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她急匆匆地跑进教室，放下书包，快步走到“卫生角”，拿起一把笤帚，向卫生区跑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14:55:04Z</dcterms:modified>
  <cp:revision>4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