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0.gif" ContentType="image/gif"/>
  <Override PartName="/ppt/media/image13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B11ED-64BD-4EA2-860E-3249FAFABE9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67284-EE21-4DA0-AFFE-AB9F16EEE32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A109-4EA2-4615-95DC-1D53342B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419F-1A9E-467B-9723-76F785B6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49BB-4117-4622-935A-D820B7DE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B2B1-3B8C-4234-AD38-24B04BED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145E-EE49-4D17-A4C2-7A11693D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7EBE-F696-4A16-B956-3C650849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1E69-FD76-4360-BA98-B0D23A11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3893-98CF-46D1-8E5C-09E69E78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2B59-B7DF-4667-AF25-D6CE80F2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3CE9-DE49-42DC-BF24-0212B8EF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9874-66A7-4A77-9E53-66AC1CB4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8BEE-0FC4-4D51-BD99-13CC9E0C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9E58D1-511F-4607-BA31-001E9DA6395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5" descr=""/>
          <p:cNvPicPr/>
          <p:nvPr/>
        </p:nvPicPr>
        <p:blipFill>
          <a:blip r:embed="rId1"/>
          <a:stretch/>
        </p:blipFill>
        <p:spPr>
          <a:xfrm>
            <a:off x="2914560" y="2279520"/>
            <a:ext cx="3284640" cy="293220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897200" y="5640480"/>
            <a:ext cx="5349600" cy="717480"/>
            <a:chOff x="1897200" y="5640480"/>
            <a:chExt cx="5349600" cy="717480"/>
          </a:xfrm>
        </p:grpSpPr>
        <p:pic>
          <p:nvPicPr>
            <p:cNvPr id="53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1897200" y="5640480"/>
              <a:ext cx="18748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8" descr=""/>
            <p:cNvPicPr/>
            <p:nvPr/>
          </p:nvPicPr>
          <p:blipFill>
            <a:blip r:embed="rId5"/>
            <a:stretch/>
          </p:blipFill>
          <p:spPr>
            <a:xfrm>
              <a:off x="3625560" y="5640480"/>
              <a:ext cx="18748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19" descr=""/>
            <p:cNvPicPr/>
            <p:nvPr/>
          </p:nvPicPr>
          <p:blipFill>
            <a:blip r:embed="rId6"/>
            <a:stretch/>
          </p:blipFill>
          <p:spPr>
            <a:xfrm>
              <a:off x="5371920" y="5640480"/>
              <a:ext cx="187488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流程图: 摘录 40"/>
            <p:cNvSpPr/>
            <p:nvPr/>
          </p:nvSpPr>
          <p:spPr>
            <a:xfrm rot="5400000">
              <a:off x="3621240" y="5871240"/>
              <a:ext cx="15192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流程图: 摘录 41"/>
            <p:cNvSpPr/>
            <p:nvPr/>
          </p:nvSpPr>
          <p:spPr>
            <a:xfrm rot="5400000">
              <a:off x="5369760" y="5871240"/>
              <a:ext cx="15192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59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0" name="图片 46" descr="枫叶副本"/>
            <p:cNvPicPr/>
            <p:nvPr/>
          </p:nvPicPr>
          <p:blipFill>
            <a:blip r:embed="rId7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矩形 47" descr=""/>
            <p:cNvPicPr/>
            <p:nvPr/>
          </p:nvPicPr>
          <p:blipFill>
            <a:blip r:embed="rId8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 Box 2"/>
          <p:cNvSpPr/>
          <p:nvPr/>
        </p:nvSpPr>
        <p:spPr>
          <a:xfrm>
            <a:off x="1308240" y="1168560"/>
            <a:ext cx="6605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500" spc="-1" strike="noStrike">
                <a:solidFill>
                  <a:srgbClr val="cc0000"/>
                </a:solidFill>
                <a:latin typeface="Calibri"/>
                <a:ea typeface="黑体"/>
              </a:rPr>
              <a:t>从杂货店走出来的数学家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1"/>
          <p:cNvSpPr/>
          <p:nvPr/>
        </p:nvSpPr>
        <p:spPr>
          <a:xfrm>
            <a:off x="887400" y="1930320"/>
            <a:ext cx="743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自学成才。</a:t>
            </a: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概括介绍华罗庚是靠自学成才的数学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成长历程。</a:t>
            </a: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写华罗庚的成长历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7"/>
          <p:cNvSpPr/>
          <p:nvPr/>
        </p:nvSpPr>
        <p:spPr>
          <a:xfrm>
            <a:off x="1060560" y="2263680"/>
            <a:ext cx="723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三件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中学时代解开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孙子算经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上的难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在上海中华职业学校巧解数学题，却被老师训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华罗庚从杂货店走出来，成为著名数学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5"/>
          <p:cNvSpPr/>
          <p:nvPr/>
        </p:nvSpPr>
        <p:spPr>
          <a:xfrm>
            <a:off x="550800" y="1574640"/>
            <a:ext cx="78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本文写了华罗庚的几件事？按什么顺序写的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1"/>
          <p:cNvSpPr/>
          <p:nvPr/>
        </p:nvSpPr>
        <p:spPr>
          <a:xfrm>
            <a:off x="3530520" y="4767480"/>
            <a:ext cx="1712880" cy="642600"/>
          </a:xfrm>
          <a:prstGeom prst="rect">
            <a:avLst/>
          </a:prstGeom>
          <a:solidFill>
            <a:srgbClr val="333399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1800" indent="-361800"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时间顺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33" name="矩形 11"/>
          <p:cNvSpPr/>
          <p:nvPr/>
        </p:nvSpPr>
        <p:spPr>
          <a:xfrm>
            <a:off x="1017720" y="2436840"/>
            <a:ext cx="7380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课文通过讲述华罗庚从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杂货店“小掌柜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数学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成长经历，赞扬了他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刻苦学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忘我奋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勇攀高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精神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7167"/>
          <p:cNvSpPr/>
          <p:nvPr/>
        </p:nvSpPr>
        <p:spPr>
          <a:xfrm>
            <a:off x="1328760" y="2384280"/>
            <a:ext cx="716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给加点的字选择正确的读音，用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画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hu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kuài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不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xi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xiāo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喜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hǎ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hào)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供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gōn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góng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差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zh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hà)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jī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ìn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1"/>
          <p:cNvSpPr/>
          <p:nvPr/>
        </p:nvSpPr>
        <p:spPr>
          <a:xfrm>
            <a:off x="4609080" y="4146480"/>
            <a:ext cx="8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1064160" y="4175280"/>
            <a:ext cx="8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351440" y="3591000"/>
            <a:ext cx="8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336200" y="3594240"/>
            <a:ext cx="8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4624920" y="3043080"/>
            <a:ext cx="8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16"/>
          <p:cNvSpPr/>
          <p:nvPr/>
        </p:nvSpPr>
        <p:spPr>
          <a:xfrm>
            <a:off x="1056240" y="3060720"/>
            <a:ext cx="8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2430360" y="4095720"/>
            <a:ext cx="113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21"/>
          <p:cNvSpPr/>
          <p:nvPr/>
        </p:nvSpPr>
        <p:spPr>
          <a:xfrm>
            <a:off x="4977000" y="3568680"/>
            <a:ext cx="113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22"/>
          <p:cNvSpPr/>
          <p:nvPr/>
        </p:nvSpPr>
        <p:spPr>
          <a:xfrm>
            <a:off x="2449440" y="3557520"/>
            <a:ext cx="113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23"/>
          <p:cNvSpPr/>
          <p:nvPr/>
        </p:nvSpPr>
        <p:spPr>
          <a:xfrm>
            <a:off x="4927680" y="3002040"/>
            <a:ext cx="113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24"/>
          <p:cNvSpPr/>
          <p:nvPr/>
        </p:nvSpPr>
        <p:spPr>
          <a:xfrm>
            <a:off x="4953240" y="4108320"/>
            <a:ext cx="113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25"/>
          <p:cNvSpPr/>
          <p:nvPr/>
        </p:nvSpPr>
        <p:spPr>
          <a:xfrm>
            <a:off x="2478240" y="2997360"/>
            <a:ext cx="113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3"/>
          <p:cNvSpPr/>
          <p:nvPr/>
        </p:nvSpPr>
        <p:spPr>
          <a:xfrm>
            <a:off x="1419120" y="2128680"/>
            <a:ext cx="727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补充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寒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忘　　  声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扬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4"/>
          <p:cNvSpPr/>
          <p:nvPr/>
        </p:nvSpPr>
        <p:spPr>
          <a:xfrm>
            <a:off x="2725560" y="277956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呼　  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5"/>
          <p:cNvSpPr/>
          <p:nvPr/>
        </p:nvSpPr>
        <p:spPr>
          <a:xfrm>
            <a:off x="5653800" y="279396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终　  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6"/>
          <p:cNvSpPr/>
          <p:nvPr/>
        </p:nvSpPr>
        <p:spPr>
          <a:xfrm>
            <a:off x="2719080" y="33368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俱　  厉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7"/>
          <p:cNvSpPr/>
          <p:nvPr/>
        </p:nvSpPr>
        <p:spPr>
          <a:xfrm>
            <a:off x="6177600" y="332424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直　    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10"/>
          <p:cNvSpPr/>
          <p:nvPr/>
        </p:nvSpPr>
        <p:spPr>
          <a:xfrm>
            <a:off x="2193120" y="386712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趾　    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2"/>
          <p:cNvSpPr/>
          <p:nvPr/>
        </p:nvSpPr>
        <p:spPr>
          <a:xfrm>
            <a:off x="971640" y="1855800"/>
            <a:ext cx="74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把不是一类的词语用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\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划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木床   桌子   茶具   沙发   家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北京   太原   重庆   武汉   长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华罗庚   苏步青   陈景润   爱迪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棉衣   衣服   衬衫   背心   裤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4"/>
          <p:cNvSpPr/>
          <p:nvPr/>
        </p:nvSpPr>
        <p:spPr>
          <a:xfrm>
            <a:off x="5968440" y="2968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4"/>
          <p:cNvSpPr/>
          <p:nvPr/>
        </p:nvSpPr>
        <p:spPr>
          <a:xfrm>
            <a:off x="2716560" y="4030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15"/>
          <p:cNvSpPr/>
          <p:nvPr/>
        </p:nvSpPr>
        <p:spPr>
          <a:xfrm>
            <a:off x="6000120" y="3443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16"/>
          <p:cNvSpPr/>
          <p:nvPr/>
        </p:nvSpPr>
        <p:spPr>
          <a:xfrm>
            <a:off x="5968440" y="23637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1"/>
          <p:cNvSpPr/>
          <p:nvPr/>
        </p:nvSpPr>
        <p:spPr>
          <a:xfrm>
            <a:off x="755640" y="136692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下列句子中的引号有什么作用？把正确答案的字母填在句子后面的括号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．表示引用。       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表示特殊称谓或着重指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表示讽刺，否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老师，我没解错。我这样解题是有理由的。”华罗庚不服气地说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个早年杂货店里的“小掌柜”，终于成了一位举世闻名的大数学家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2"/>
          <p:cNvSpPr/>
          <p:nvPr/>
        </p:nvSpPr>
        <p:spPr>
          <a:xfrm>
            <a:off x="3871800" y="420696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4215600" y="53164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1"/>
          <p:cNvSpPr/>
          <p:nvPr/>
        </p:nvSpPr>
        <p:spPr>
          <a:xfrm>
            <a:off x="720720" y="1459080"/>
            <a:ext cx="7626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按要求写句子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华罗庚是从杂货店里走出来的自学成才的数学家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缩写句子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华罗庚失学了。华罗庚坚持刻苦自学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用关联词语连成一句话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华罗庚成了数学家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把句子写得更具体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同学们踏着泥泞的道路和坚定的步伐前进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修改病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2"/>
          <p:cNvSpPr/>
          <p:nvPr/>
        </p:nvSpPr>
        <p:spPr>
          <a:xfrm>
            <a:off x="2136240" y="244152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华罗庚是数学家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1187280" y="3354480"/>
            <a:ext cx="53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华罗庚虽然失学了，但是坚持刻苦自学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4"/>
          <p:cNvSpPr/>
          <p:nvPr/>
        </p:nvSpPr>
        <p:spPr>
          <a:xfrm>
            <a:off x="1185840" y="4272120"/>
            <a:ext cx="53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刻苦自学的华罗庚成了闻名世界的数学家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10"/>
          <p:cNvSpPr/>
          <p:nvPr/>
        </p:nvSpPr>
        <p:spPr>
          <a:xfrm>
            <a:off x="1157400" y="5167440"/>
            <a:ext cx="56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同学们踏着泥泞的道路，迈着坚定的步伐前进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6"/>
          <p:cNvSpPr/>
          <p:nvPr/>
        </p:nvSpPr>
        <p:spPr>
          <a:xfrm>
            <a:off x="898560" y="2633760"/>
            <a:ext cx="74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，积累课文中的好词佳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，理解课文内容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任意多边形 8"/>
          <p:cNvSpPr/>
          <p:nvPr/>
        </p:nvSpPr>
        <p:spPr>
          <a:xfrm>
            <a:off x="3247920" y="2859120"/>
            <a:ext cx="4540320" cy="1460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会    屑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3"/>
          <p:cNvSpPr/>
          <p:nvPr/>
        </p:nvSpPr>
        <p:spPr>
          <a:xfrm>
            <a:off x="3047400" y="2560680"/>
            <a:ext cx="118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kuà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68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  <p:sp>
        <p:nvSpPr>
          <p:cNvPr id="72" name="矩形 9"/>
          <p:cNvSpPr/>
          <p:nvPr/>
        </p:nvSpPr>
        <p:spPr>
          <a:xfrm>
            <a:off x="5114880" y="256068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xi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图片 10" descr=""/>
          <p:cNvPicPr/>
          <p:nvPr/>
        </p:nvPicPr>
        <p:blipFill>
          <a:blip r:embed="rId3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1592280" y="3351240"/>
            <a:ext cx="704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华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罗庚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乾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坤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骨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2"/>
          <p:cNvSpPr/>
          <p:nvPr/>
        </p:nvSpPr>
        <p:spPr>
          <a:xfrm>
            <a:off x="1595520" y="2968560"/>
            <a:ext cx="8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4"/>
          <p:cNvSpPr/>
          <p:nvPr/>
        </p:nvSpPr>
        <p:spPr>
          <a:xfrm>
            <a:off x="4032000" y="297036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qiá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78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矩形 9"/>
          <p:cNvSpPr/>
          <p:nvPr/>
        </p:nvSpPr>
        <p:spPr>
          <a:xfrm>
            <a:off x="5932800" y="2968560"/>
            <a:ext cx="6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g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1538280" y="27525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组合 4"/>
          <p:cNvGrpSpPr/>
          <p:nvPr/>
        </p:nvGrpSpPr>
        <p:grpSpPr>
          <a:xfrm>
            <a:off x="2063880" y="2320920"/>
            <a:ext cx="4113000" cy="1373400"/>
            <a:chOff x="2063880" y="2320920"/>
            <a:chExt cx="4113000" cy="1373400"/>
          </a:xfrm>
        </p:grpSpPr>
        <p:sp>
          <p:nvSpPr>
            <p:cNvPr id="84" name="左大括号 2"/>
            <p:cNvSpPr/>
            <p:nvPr/>
          </p:nvSpPr>
          <p:spPr>
            <a:xfrm>
              <a:off x="2063880" y="2563560"/>
              <a:ext cx="218880" cy="9288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Box 3"/>
            <p:cNvSpPr/>
            <p:nvPr/>
          </p:nvSpPr>
          <p:spPr>
            <a:xfrm>
              <a:off x="2230560" y="2320920"/>
              <a:ext cx="39463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uì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开会　会见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kuài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会计　会计师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TextBox 13"/>
          <p:cNvSpPr/>
          <p:nvPr/>
        </p:nvSpPr>
        <p:spPr>
          <a:xfrm>
            <a:off x="1633680" y="420048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5"/>
          <p:cNvGrpSpPr/>
          <p:nvPr/>
        </p:nvGrpSpPr>
        <p:grpSpPr>
          <a:xfrm>
            <a:off x="2095560" y="3760920"/>
            <a:ext cx="4081320" cy="1373400"/>
            <a:chOff x="2095560" y="3760920"/>
            <a:chExt cx="4081320" cy="1373400"/>
          </a:xfrm>
        </p:grpSpPr>
        <p:sp>
          <p:nvSpPr>
            <p:cNvPr id="88" name="左大括号 14"/>
            <p:cNvSpPr/>
            <p:nvPr/>
          </p:nvSpPr>
          <p:spPr>
            <a:xfrm>
              <a:off x="2095560" y="3979800"/>
              <a:ext cx="171720" cy="950760"/>
            </a:xfrm>
            <a:custGeom>
              <a:avLst/>
              <a:gdLst>
                <a:gd name="textAreaLeft" fmla="*/ 109800 w 171720"/>
                <a:gd name="textAreaRight" fmla="*/ 172080 w 171720"/>
                <a:gd name="textAreaTop" fmla="*/ 3600 h 950760"/>
                <a:gd name="textAreaBottom" fmla="*/ 947160 h 95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5"/>
                  </a:cubicBezTo>
                  <a:lnTo>
                    <a:pt x="10800" y="10515"/>
                  </a:lnTo>
                  <a:cubicBezTo>
                    <a:pt x="10800" y="10658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5"/>
                  </a:cubicBezTo>
                  <a:lnTo>
                    <a:pt x="10800" y="21315"/>
                  </a:lnTo>
                  <a:cubicBezTo>
                    <a:pt x="10800" y="2145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Box 15"/>
            <p:cNvSpPr/>
            <p:nvPr/>
          </p:nvSpPr>
          <p:spPr>
            <a:xfrm>
              <a:off x="2249280" y="3760920"/>
              <a:ext cx="392760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jīn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禁受　情不自禁）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jìn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禁止　严禁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91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"/>
          <p:cNvSpPr/>
          <p:nvPr/>
        </p:nvSpPr>
        <p:spPr>
          <a:xfrm>
            <a:off x="1069920" y="182412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费解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诧异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脑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96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矩形 1"/>
          <p:cNvSpPr/>
          <p:nvPr/>
        </p:nvSpPr>
        <p:spPr>
          <a:xfrm>
            <a:off x="1847880" y="1832040"/>
            <a:ext cx="6838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好理解，不好懂。文中指题目很难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造句：他的做法太令人</a:t>
            </a:r>
            <a:r>
              <a:rPr b="1" lang="zh-CN" sz="2400" spc="-1" strike="noStrike" u="sng">
                <a:solidFill>
                  <a:srgbClr val="1a210d"/>
                </a:solidFill>
                <a:uFillTx/>
                <a:latin typeface="宋体"/>
              </a:rPr>
              <a:t>费解</a:t>
            </a: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觉得十分奇怪。文中指华罗庚算出难题的结果让老师觉得奇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造句：倔强的小明能主动道歉，大家很</a:t>
            </a:r>
            <a:r>
              <a:rPr b="1" lang="zh-CN" sz="2400" spc="-1" strike="noStrike" u="sng">
                <a:solidFill>
                  <a:srgbClr val="1a210d"/>
                </a:solidFill>
                <a:uFillTx/>
                <a:latin typeface="宋体"/>
              </a:rPr>
              <a:t>诧异</a:t>
            </a: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脑筋；思维能力。②头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造句：不要让胜利冲昏了</a:t>
            </a:r>
            <a:r>
              <a:rPr b="1" lang="zh-CN" sz="2400" spc="-1" strike="noStrike" u="sng">
                <a:solidFill>
                  <a:srgbClr val="1a210d"/>
                </a:solidFill>
                <a:uFillTx/>
                <a:latin typeface="宋体"/>
              </a:rPr>
              <a:t>头脑</a:t>
            </a: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这件事令他摸不着</a:t>
            </a:r>
            <a:r>
              <a:rPr b="1" lang="zh-CN" sz="2400" spc="-1" strike="noStrike" u="sng">
                <a:solidFill>
                  <a:srgbClr val="1a210d"/>
                </a:solidFill>
                <a:uFillTx/>
                <a:latin typeface="宋体"/>
              </a:rPr>
              <a:t>头脑</a:t>
            </a: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"/>
          <p:cNvSpPr/>
          <p:nvPr/>
        </p:nvSpPr>
        <p:spPr>
          <a:xfrm>
            <a:off x="1069920" y="182412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质疑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权威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声色俱厉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02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矩形 1"/>
          <p:cNvSpPr/>
          <p:nvPr/>
        </p:nvSpPr>
        <p:spPr>
          <a:xfrm>
            <a:off x="1852560" y="184788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提出疑问。文中指华罗庚对著名教授的理论文章提出疑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在某种范围内最有威望、地位的人或事物。文中指那些在数学方面很有威望的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说话时的脸色和声音都很严厉。文中指华罗庚的老师很严厉的样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造句：爸爸</a:t>
            </a:r>
            <a:r>
              <a:rPr b="1" lang="zh-CN" sz="2400" spc="-1" strike="noStrike" u="sng">
                <a:solidFill>
                  <a:srgbClr val="1a210d"/>
                </a:solidFill>
                <a:uFillTx/>
                <a:latin typeface="宋体"/>
              </a:rPr>
              <a:t>声色俱厉</a:t>
            </a: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地喊道：“不要再说了，快走吧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"/>
          <p:cNvSpPr/>
          <p:nvPr/>
        </p:nvSpPr>
        <p:spPr>
          <a:xfrm>
            <a:off x="1069920" y="1824120"/>
            <a:ext cx="7696080" cy="56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趾高气扬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理直气壮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举世闻名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08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矩形 1"/>
          <p:cNvSpPr/>
          <p:nvPr/>
        </p:nvSpPr>
        <p:spPr>
          <a:xfrm>
            <a:off x="2441520" y="1847880"/>
            <a:ext cx="63244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高高举步，神气十足，形容骄傲自满，得意忘形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造句：大公鸡斗胜了，</a:t>
            </a:r>
            <a:r>
              <a:rPr b="1" lang="zh-CN" sz="2200" spc="-1" strike="noStrike" u="sng">
                <a:solidFill>
                  <a:srgbClr val="1a210d"/>
                </a:solidFill>
                <a:uFillTx/>
                <a:latin typeface="宋体"/>
              </a:rPr>
              <a:t>趾高气扬</a:t>
            </a: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地走了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理由充分，因而说话有气势。文中指华罗庚认为自己理由充分而有气势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造句：小明</a:t>
            </a:r>
            <a:r>
              <a:rPr b="1" lang="zh-CN" sz="2200" spc="-1" strike="noStrike" u="sng">
                <a:solidFill>
                  <a:srgbClr val="1a210d"/>
                </a:solidFill>
                <a:uFillTx/>
                <a:latin typeface="宋体"/>
              </a:rPr>
              <a:t>理直气壮</a:t>
            </a: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地走出教室，大家后悔冤枉了他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全世界都知道他的名字。文中指华罗庚成为全世界都知道的数学家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造句：中国的万里长城</a:t>
            </a:r>
            <a:r>
              <a:rPr b="1" lang="zh-CN" sz="2200" spc="-1" strike="noStrike" u="sng">
                <a:solidFill>
                  <a:srgbClr val="1a210d"/>
                </a:solidFill>
                <a:uFillTx/>
                <a:latin typeface="宋体"/>
              </a:rPr>
              <a:t>举世闻名</a:t>
            </a: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1"/>
          <p:cNvSpPr/>
          <p:nvPr/>
        </p:nvSpPr>
        <p:spPr>
          <a:xfrm>
            <a:off x="3963240" y="193500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疑惑　困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2"/>
          <p:cNvSpPr/>
          <p:nvPr/>
        </p:nvSpPr>
        <p:spPr>
          <a:xfrm>
            <a:off x="2209680" y="2459160"/>
            <a:ext cx="61452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都有心里感觉疑难，不明白、不清楚的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疑惑”表示心理活动，侧重于怀疑，含有猜测的意思。“困惑”还有使困惑的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虽然老师又讲解了一次，可是他对这个问题还是</a:t>
            </a: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疑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个问题一直</a:t>
            </a: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困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着她，她感到很苦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1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15" name="圆角矩形 1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组合 4"/>
          <p:cNvGrpSpPr/>
          <p:nvPr/>
        </p:nvGrpSpPr>
        <p:grpSpPr>
          <a:xfrm>
            <a:off x="681120" y="2523960"/>
            <a:ext cx="1670040" cy="459720"/>
            <a:chOff x="681120" y="2523960"/>
            <a:chExt cx="1670040" cy="459720"/>
          </a:xfrm>
        </p:grpSpPr>
        <p:pic>
          <p:nvPicPr>
            <p:cNvPr id="119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681120" y="257832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Box 3"/>
            <p:cNvSpPr/>
            <p:nvPr/>
          </p:nvSpPr>
          <p:spPr>
            <a:xfrm>
              <a:off x="1024200" y="252396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组合 20"/>
          <p:cNvGrpSpPr/>
          <p:nvPr/>
        </p:nvGrpSpPr>
        <p:grpSpPr>
          <a:xfrm>
            <a:off x="681120" y="3154320"/>
            <a:ext cx="1670040" cy="459720"/>
            <a:chOff x="681120" y="3154320"/>
            <a:chExt cx="1670040" cy="459720"/>
          </a:xfrm>
        </p:grpSpPr>
        <p:pic>
          <p:nvPicPr>
            <p:cNvPr id="122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681120" y="320868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Box 22"/>
            <p:cNvSpPr/>
            <p:nvPr/>
          </p:nvSpPr>
          <p:spPr>
            <a:xfrm>
              <a:off x="1024200" y="31543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组合 23"/>
          <p:cNvGrpSpPr/>
          <p:nvPr/>
        </p:nvGrpSpPr>
        <p:grpSpPr>
          <a:xfrm>
            <a:off x="681120" y="4322880"/>
            <a:ext cx="1670040" cy="459720"/>
            <a:chOff x="681120" y="4322880"/>
            <a:chExt cx="1670040" cy="459720"/>
          </a:xfrm>
        </p:grpSpPr>
        <p:pic>
          <p:nvPicPr>
            <p:cNvPr id="125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681120" y="437724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Box 25"/>
            <p:cNvSpPr/>
            <p:nvPr/>
          </p:nvSpPr>
          <p:spPr>
            <a:xfrm>
              <a:off x="1024200" y="432288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9T14:58:15Z</dcterms:modified>
  <cp:revision>45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