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2304B-EE03-48EB-9618-D5D4DAE62C0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C82A8-A629-4E11-B051-627A1CA03D3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7393-E593-45E8-A4F6-E6C06B21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C73-1B44-4F7C-948F-F6E84329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6A1-B276-4FD6-9C7A-66006728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58B2-ADFA-41A6-BCDC-74E5829C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887F-DCE4-426D-9D30-5D7660EE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4AD-327A-414F-8FCF-AA309A63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45F-28E7-490B-B736-4363D575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924B-1189-4593-AB51-69F915DC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5D18-429A-4FCE-B3EC-98DFD1B3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60E1-F94D-4A26-A9B5-B61754CC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F42-1D73-4EC8-B76E-E255EA1B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F41-6236-4713-8BC4-C041C5D8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4F943-6921-415D-BD2F-7C7A48ED448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5" descr=""/>
          <p:cNvPicPr/>
          <p:nvPr/>
        </p:nvPicPr>
        <p:blipFill>
          <a:blip r:embed="rId1"/>
          <a:stretch/>
        </p:blipFill>
        <p:spPr>
          <a:xfrm>
            <a:off x="2914560" y="2279520"/>
            <a:ext cx="3284640" cy="293220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2"/>
          <p:cNvSpPr/>
          <p:nvPr/>
        </p:nvSpPr>
        <p:spPr>
          <a:xfrm>
            <a:off x="1069920" y="1147680"/>
            <a:ext cx="718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Calibri"/>
                <a:ea typeface="黑体"/>
              </a:rPr>
              <a:t>从杂货店走出来的数学家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21"/>
          <p:cNvSpPr/>
          <p:nvPr/>
        </p:nvSpPr>
        <p:spPr>
          <a:xfrm>
            <a:off x="831960" y="963720"/>
            <a:ext cx="756900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析首尾呼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23"/>
          <p:cNvSpPr/>
          <p:nvPr/>
        </p:nvSpPr>
        <p:spPr>
          <a:xfrm>
            <a:off x="903240" y="1846440"/>
            <a:ext cx="73468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什么是首尾呼应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指文章开头和结尾有着极其密切的联系，是对同一情况做出解释和说明。在文章开头提到一次相应内容，结尾时再呼应一次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首尾呼应的作用是什么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可使结构更加紧密、严谨，内容更加完整。强调主题，加深印象，引起共鸣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怎样才算是首尾呼应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开头和结尾有一些相互照应的词语或句子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线连接符 7"/>
          <p:cNvSpPr/>
          <p:nvPr/>
        </p:nvSpPr>
        <p:spPr>
          <a:xfrm>
            <a:off x="914400" y="188748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内容占位符 2"/>
          <p:cNvSpPr/>
          <p:nvPr/>
        </p:nvSpPr>
        <p:spPr>
          <a:xfrm>
            <a:off x="635040" y="1814400"/>
            <a:ext cx="22035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977760" y="2882880"/>
            <a:ext cx="742500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华罗庚出生在杂货店里，他从小头脑灵活，特别喜好算术。中学时，他就能答出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孙子算经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上“物不知其数”的问题。后来，他在上海中华职业学校时成绩被老师否定。失学后，他回到杂货店，一面干活儿、记账，一面顽强地自学。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岁时，他在上海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科学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杂志上发表了质疑一位著名教授的理论的文章，被请进了清华园，当上了清华大学唯一一位没有大学文凭的大学教师。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31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岁时他完成影响巨大的数学论著，成为举世闻名的数学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836640" y="2355840"/>
            <a:ext cx="742464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华罗庚是怎样从杂货店走出来，成为著名的数学家的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内容占位符 2"/>
          <p:cNvSpPr/>
          <p:nvPr/>
        </p:nvSpPr>
        <p:spPr>
          <a:xfrm>
            <a:off x="851040" y="2454120"/>
            <a:ext cx="764532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说说这位从杂货店走出来的数学家出生在怎样的家庭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1260360" y="3651120"/>
            <a:ext cx="71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他出生在金坛县城一间名为“乾生泰”的小杂货店里，家庭的贫困让他后来失学在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内容占位符 2"/>
          <p:cNvSpPr/>
          <p:nvPr/>
        </p:nvSpPr>
        <p:spPr>
          <a:xfrm>
            <a:off x="625320" y="1765440"/>
            <a:ext cx="784728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主要写了华罗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前成长过程中的哪几件事情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"/>
          <p:cNvSpPr/>
          <p:nvPr/>
        </p:nvSpPr>
        <p:spPr>
          <a:xfrm>
            <a:off x="1039680" y="279396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课文主要写了华罗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岁前成长过程中的三件事情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中学时，答出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孙子算经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上的难题，成为奇闻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职业学校受到老师否定，立志证明自己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失学后，废寝忘食地坚持自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内容占位符 2"/>
          <p:cNvSpPr/>
          <p:nvPr/>
        </p:nvSpPr>
        <p:spPr>
          <a:xfrm>
            <a:off x="804960" y="191628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华罗庚最后取得了怎样的成就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1"/>
          <p:cNvSpPr/>
          <p:nvPr/>
        </p:nvSpPr>
        <p:spPr>
          <a:xfrm>
            <a:off x="1230480" y="2625840"/>
            <a:ext cx="70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成为清华大学讲台上唯一一位没有大学文凭的大学教师。完成了在国内外产生巨大影响的数学论著，得到了国内外数学界权威的认可，成为举世闻名的数学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内容占位符 2"/>
          <p:cNvSpPr/>
          <p:nvPr/>
        </p:nvSpPr>
        <p:spPr>
          <a:xfrm>
            <a:off x="790560" y="1843200"/>
            <a:ext cx="76453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悟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过学习，你认为华罗庚是个怎样的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有怎样的收获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1166760" y="301788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62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华罗庚是一个热爱数学、为了理想坚持不懈、刻苦钻研、执着追求的人。我要向他学习，为着自己的理想和目标，执着追求，不懈努力，实现梦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2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13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矩形 2"/>
          <p:cNvSpPr/>
          <p:nvPr/>
        </p:nvSpPr>
        <p:spPr>
          <a:xfrm>
            <a:off x="487440" y="2092320"/>
            <a:ext cx="10335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从杂货店走出来的数学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3"/>
          <p:cNvSpPr/>
          <p:nvPr/>
        </p:nvSpPr>
        <p:spPr>
          <a:xfrm>
            <a:off x="2695680" y="3762360"/>
            <a:ext cx="315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出生地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杂货店里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中学时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出难题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职校里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老师否定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失学后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刻苦自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4"/>
          <p:cNvSpPr/>
          <p:nvPr/>
        </p:nvSpPr>
        <p:spPr>
          <a:xfrm>
            <a:off x="6338880" y="3230640"/>
            <a:ext cx="30099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天道酬勤怀壮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苦尽甘来成大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1"/>
          <p:cNvSpPr/>
          <p:nvPr/>
        </p:nvSpPr>
        <p:spPr>
          <a:xfrm>
            <a:off x="1717560" y="26589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总写：介绍华罗庚</a:t>
            </a:r>
            <a:r>
              <a:rPr b="1" lang="en-US" sz="24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1846080" y="4673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分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4451400" y="22813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著名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自学成才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数学家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左大括号 14"/>
          <p:cNvSpPr/>
          <p:nvPr/>
        </p:nvSpPr>
        <p:spPr>
          <a:xfrm>
            <a:off x="1468440" y="2643120"/>
            <a:ext cx="301680" cy="2508480"/>
          </a:xfrm>
          <a:custGeom>
            <a:avLst/>
            <a:gdLst>
              <a:gd name="textAreaLeft" fmla="*/ 192960 w 301680"/>
              <a:gd name="textAreaRight" fmla="*/ 302040 w 301680"/>
              <a:gd name="textAreaTop" fmla="*/ 7560 h 2508480"/>
              <a:gd name="textAreaBottom" fmla="*/ 2500920 h 250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8"/>
                  <a:pt x="10800" y="216"/>
                </a:cubicBezTo>
                <a:lnTo>
                  <a:pt x="10800" y="10584"/>
                </a:lnTo>
                <a:cubicBezTo>
                  <a:pt x="10800" y="10692"/>
                  <a:pt x="5400" y="10800"/>
                  <a:pt x="0" y="10800"/>
                </a:cubicBezTo>
                <a:cubicBezTo>
                  <a:pt x="5400" y="10800"/>
                  <a:pt x="10800" y="10908"/>
                  <a:pt x="10800" y="11016"/>
                </a:cubicBezTo>
                <a:lnTo>
                  <a:pt x="10800" y="21384"/>
                </a:lnTo>
                <a:cubicBezTo>
                  <a:pt x="10800" y="2149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左大括号 21"/>
          <p:cNvSpPr/>
          <p:nvPr/>
        </p:nvSpPr>
        <p:spPr>
          <a:xfrm>
            <a:off x="2455920" y="3979800"/>
            <a:ext cx="303120" cy="1884600"/>
          </a:xfrm>
          <a:custGeom>
            <a:avLst/>
            <a:gdLst>
              <a:gd name="textAreaLeft" fmla="*/ 193680 w 303120"/>
              <a:gd name="textAreaRight" fmla="*/ 303480 w 303120"/>
              <a:gd name="textAreaTop" fmla="*/ 7920 h 1884600"/>
              <a:gd name="textAreaBottom" fmla="*/ 1876680 h 188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5"/>
                  <a:pt x="10800" y="290"/>
                </a:cubicBezTo>
                <a:lnTo>
                  <a:pt x="10800" y="10510"/>
                </a:lnTo>
                <a:cubicBezTo>
                  <a:pt x="10800" y="10655"/>
                  <a:pt x="5400" y="10800"/>
                  <a:pt x="0" y="10800"/>
                </a:cubicBezTo>
                <a:cubicBezTo>
                  <a:pt x="5400" y="10800"/>
                  <a:pt x="10800" y="10945"/>
                  <a:pt x="10800" y="11090"/>
                </a:cubicBezTo>
                <a:lnTo>
                  <a:pt x="10800" y="21310"/>
                </a:lnTo>
                <a:cubicBezTo>
                  <a:pt x="10800" y="2145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左大括号 22"/>
          <p:cNvSpPr/>
          <p:nvPr/>
        </p:nvSpPr>
        <p:spPr>
          <a:xfrm flipH="1">
            <a:off x="6213600" y="2338560"/>
            <a:ext cx="196560" cy="3338280"/>
          </a:xfrm>
          <a:custGeom>
            <a:avLst/>
            <a:gdLst>
              <a:gd name="textAreaLeft" fmla="*/ 125640 w 196560"/>
              <a:gd name="textAreaRight" fmla="*/ 196920 w 196560"/>
              <a:gd name="textAreaTop" fmla="*/ 5040 h 3338280"/>
              <a:gd name="textAreaBottom" fmla="*/ 3333240 h 33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"/>
                  <a:pt x="10800" y="106"/>
                </a:cubicBezTo>
                <a:lnTo>
                  <a:pt x="10800" y="10694"/>
                </a:lnTo>
                <a:cubicBezTo>
                  <a:pt x="10800" y="10747"/>
                  <a:pt x="5400" y="10800"/>
                  <a:pt x="0" y="10800"/>
                </a:cubicBezTo>
                <a:cubicBezTo>
                  <a:pt x="5400" y="10800"/>
                  <a:pt x="10800" y="10853"/>
                  <a:pt x="10800" y="10906"/>
                </a:cubicBezTo>
                <a:lnTo>
                  <a:pt x="10800" y="21494"/>
                </a:lnTo>
                <a:cubicBezTo>
                  <a:pt x="10800" y="215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内容占位符 2"/>
          <p:cNvSpPr/>
          <p:nvPr/>
        </p:nvSpPr>
        <p:spPr>
          <a:xfrm>
            <a:off x="950760" y="241632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介绍了华罗庚从杂货店“小掌柜”到数学家的成长经历，赞扬了他刻苦学习、忘我奋斗、勇攀高峰的精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7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8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1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2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3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矩形 1"/>
          <p:cNvSpPr/>
          <p:nvPr/>
        </p:nvSpPr>
        <p:spPr>
          <a:xfrm>
            <a:off x="819000" y="1857240"/>
            <a:ext cx="764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报效祖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同学们都知道，华罗庚是一位靠自学成才的世界一流的数学家。他仅有初中文凭，因一篇论文在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科学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杂志上发表，得到数学家熊庆来的赏识，从此华罗庚北上清华园，开始了他的数学生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936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年，经熊庆来教授推荐，华罗庚前往英国，留学剑桥。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世纪声名显赫的数学家哈代，早就听说华罗庚很有才气，他说：“你可以在两年之内获得博士学位。”可是华罗庚却说：“我不想获得博士学位，我只要求做一个访问者。”“我来剑桥是求学问的，不是为了学位。”两年中，他集中精力研究堆垒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lěi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素数论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"/>
          <p:cNvSpPr/>
          <p:nvPr/>
        </p:nvSpPr>
        <p:spPr>
          <a:xfrm>
            <a:off x="803160" y="1258920"/>
            <a:ext cx="76471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并就华林问题、他利问题、奇数哥德巴赫问题发表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篇论文，得出了著名的“华氏定理”，向全世界显示了中国数学家出众的智慧与能力。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946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年，华罗庚应邀去美国讲学，后被伊利诺伊大学高薪聘为终身教授，他的家属也随同到美国定居，有洋房和汽车，生活十分优裕。当时，不少人认为华罗庚是不会回来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　新中国的诞生，牵动着热爱祖国的华罗庚的心。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950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年，他毅然放弃在美国的优裕生活，回到了祖国，而且还给留美的中国学生写了一封公开信，动员大家回国参加社会主义建设。他在信中坦露出了一颗爱中华的赤子之心：“朋友们！梁园虽好，非久居之乡。归去来兮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为了国家民族，我们应当回去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……”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虽然数学没有国界，但数学家却有自己的祖国。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6"/>
          <p:cNvSpPr/>
          <p:nvPr/>
        </p:nvSpPr>
        <p:spPr>
          <a:xfrm>
            <a:off x="826920" y="2649600"/>
            <a:ext cx="758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会华罗庚刻苦、勤奋、顽强的学习精神，激发刻苦学习、执着追求的欲望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过学习课文，培养从小刻苦学习，执着追求的精神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"/>
          <p:cNvSpPr/>
          <p:nvPr/>
        </p:nvSpPr>
        <p:spPr>
          <a:xfrm>
            <a:off x="725400" y="1163520"/>
            <a:ext cx="764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　华罗庚从海外归来，受到党和人民的热烈欢迎，他回到清华园，被委任为数学系主任，不久又被任命为中国科学院数学研究所所长。从此，开始了他数学研究真正的黄金时期。他不但连续做出了令世界瞩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zh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目的突出成绩，同时满腔热情地关心、培养了一大批数学人才。为摘取数学王冠上的明珠，为应用数学研究、试验和推广，他倾注了大量心血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据不完全统计，数十年间，华罗庚共发表了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50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多篇重要的数学论文，出版了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部数学著作，还有一些数学科普著作。他还被选为美国科学院外籍院士和第三世界科学院院士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从初中毕业到人民数学家，华罗庚走过了一条曲折而辉煌的人生道路，为祖国争得了极大的荣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1"/>
          <p:cNvSpPr/>
          <p:nvPr/>
        </p:nvSpPr>
        <p:spPr>
          <a:xfrm>
            <a:off x="1263600" y="2449440"/>
            <a:ext cx="685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业精于勤，荒于嬉；行成于思，毁于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进学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韩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仿宋"/>
                <a:ea typeface="仿宋"/>
              </a:rPr>
              <a:t>理解：学业由于勤奋而精通，却能荒废在玩乐中；事情由于反复思考而成功，却能毁灭于随随便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0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2"/>
          <p:cNvSpPr/>
          <p:nvPr/>
        </p:nvSpPr>
        <p:spPr>
          <a:xfrm>
            <a:off x="1201680" y="2546280"/>
            <a:ext cx="70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髀算经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九章算术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孙子算经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缀术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数书九章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测圆海镜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详解九章算法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45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矩形 2"/>
          <p:cNvSpPr/>
          <p:nvPr/>
        </p:nvSpPr>
        <p:spPr>
          <a:xfrm>
            <a:off x="1282680" y="4255920"/>
            <a:ext cx="70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贾宪、秦九韶、祖冲之、李冶、杨辉、李善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2733120" y="5443560"/>
            <a:ext cx="10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礼、乐、射、御、书、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"/>
          <p:cNvSpPr/>
          <p:nvPr/>
        </p:nvSpPr>
        <p:spPr>
          <a:xfrm>
            <a:off x="1157400" y="4805280"/>
            <a:ext cx="11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六艺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2"/>
          <p:cNvSpPr/>
          <p:nvPr/>
        </p:nvSpPr>
        <p:spPr>
          <a:xfrm>
            <a:off x="1157400" y="3692520"/>
            <a:ext cx="45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我国古代有名的数学家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1157400" y="1979640"/>
            <a:ext cx="62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我国古代的数学著作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54" name="矩形 11"/>
          <p:cNvSpPr/>
          <p:nvPr/>
        </p:nvSpPr>
        <p:spPr>
          <a:xfrm>
            <a:off x="969840" y="2252520"/>
            <a:ext cx="75438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从杂货店走出来的数学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华罗庚从小就热爱数学，再加上勤奋好学，成就了他的数学梦，也给世人创造出一个神话般的故事。他的成长经历使我们认识到知识面前人人平等，只要刻苦学习，执着追求，坚持不懈，无论你地位多么地位、渺小，终究会有成才的那一天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7167"/>
          <p:cNvSpPr/>
          <p:nvPr/>
        </p:nvSpPr>
        <p:spPr>
          <a:xfrm>
            <a:off x="1814400" y="2432160"/>
            <a:ext cx="683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给加点的多音字注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学　　（　　　）     会计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落　　（　　　）     开会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见不鲜（　　　）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左大括号 2"/>
          <p:cNvSpPr/>
          <p:nvPr/>
        </p:nvSpPr>
        <p:spPr>
          <a:xfrm>
            <a:off x="1677960" y="3173400"/>
            <a:ext cx="155520" cy="14400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1440000"/>
              <a:gd name="textAreaBottom" fmla="*/ 143604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"/>
                  <a:pt x="10800" y="194"/>
                </a:cubicBezTo>
                <a:lnTo>
                  <a:pt x="10800" y="10606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7"/>
                  <a:pt x="10800" y="10994"/>
                </a:cubicBezTo>
                <a:lnTo>
                  <a:pt x="10800" y="21406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左大括号 18"/>
          <p:cNvSpPr/>
          <p:nvPr/>
        </p:nvSpPr>
        <p:spPr>
          <a:xfrm>
            <a:off x="5232240" y="3220920"/>
            <a:ext cx="155880" cy="914400"/>
          </a:xfrm>
          <a:custGeom>
            <a:avLst/>
            <a:gdLst>
              <a:gd name="textAreaLeft" fmla="*/ 99720 w 155880"/>
              <a:gd name="textAreaRight" fmla="*/ 15624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1920600" y="4335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19"/>
          <p:cNvSpPr/>
          <p:nvPr/>
        </p:nvSpPr>
        <p:spPr>
          <a:xfrm>
            <a:off x="1919160" y="3786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20"/>
          <p:cNvSpPr/>
          <p:nvPr/>
        </p:nvSpPr>
        <p:spPr>
          <a:xfrm>
            <a:off x="5462280" y="3255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21"/>
          <p:cNvSpPr/>
          <p:nvPr/>
        </p:nvSpPr>
        <p:spPr>
          <a:xfrm>
            <a:off x="5792760" y="3774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22"/>
          <p:cNvSpPr/>
          <p:nvPr/>
        </p:nvSpPr>
        <p:spPr>
          <a:xfrm>
            <a:off x="1920600" y="324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6"/>
          <p:cNvSpPr/>
          <p:nvPr/>
        </p:nvSpPr>
        <p:spPr>
          <a:xfrm>
            <a:off x="3476520" y="309240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sh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7"/>
          <p:cNvSpPr/>
          <p:nvPr/>
        </p:nvSpPr>
        <p:spPr>
          <a:xfrm>
            <a:off x="3485880" y="362736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sh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8"/>
          <p:cNvSpPr/>
          <p:nvPr/>
        </p:nvSpPr>
        <p:spPr>
          <a:xfrm>
            <a:off x="3410640" y="417024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shu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9"/>
          <p:cNvSpPr/>
          <p:nvPr/>
        </p:nvSpPr>
        <p:spPr>
          <a:xfrm>
            <a:off x="6368040" y="311148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kuà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0"/>
          <p:cNvSpPr/>
          <p:nvPr/>
        </p:nvSpPr>
        <p:spPr>
          <a:xfrm>
            <a:off x="6439320" y="36432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hu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3"/>
          <p:cNvSpPr/>
          <p:nvPr/>
        </p:nvSpPr>
        <p:spPr>
          <a:xfrm>
            <a:off x="900000" y="194940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用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出下列句中的错别字，并改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这到费解之题，不知难为了多少古人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在这以前他即没有听说过也没看过这本书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虽然失学回家，但华罗庚对数学的兴趣丝豪末减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1"/>
          <p:cNvSpPr/>
          <p:nvPr/>
        </p:nvSpPr>
        <p:spPr>
          <a:xfrm>
            <a:off x="7013520" y="26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2"/>
          <p:cNvSpPr/>
          <p:nvPr/>
        </p:nvSpPr>
        <p:spPr>
          <a:xfrm>
            <a:off x="7599240" y="3147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1566720" y="425448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毫　未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5"/>
          <p:cNvSpPr/>
          <p:nvPr/>
        </p:nvSpPr>
        <p:spPr>
          <a:xfrm>
            <a:off x="6975360" y="3605040"/>
            <a:ext cx="68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2913120" y="3051000"/>
            <a:ext cx="5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0"/>
          <p:cNvSpPr/>
          <p:nvPr/>
        </p:nvSpPr>
        <p:spPr>
          <a:xfrm>
            <a:off x="1652400" y="2509920"/>
            <a:ext cx="5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3"/>
          <p:cNvSpPr/>
          <p:nvPr/>
        </p:nvSpPr>
        <p:spPr>
          <a:xfrm>
            <a:off x="900000" y="1719360"/>
            <a:ext cx="72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选词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疑惑　困惑　疑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他用自己的实际行动消除了我心中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老师说完之后，扫视了一遍学生紧张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面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明明是哥哥的不对，可妈妈光批评我，这让我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6716520" y="296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疑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7016400" y="3475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疑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9"/>
          <p:cNvSpPr/>
          <p:nvPr/>
        </p:nvSpPr>
        <p:spPr>
          <a:xfrm>
            <a:off x="1796760" y="5108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困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3"/>
          <p:cNvSpPr/>
          <p:nvPr/>
        </p:nvSpPr>
        <p:spPr>
          <a:xfrm>
            <a:off x="1106640" y="2060640"/>
            <a:ext cx="756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根据意思写出相应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借指事物第一次出现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章的词句、说的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好懂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觉得奇怪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2"/>
          <p:cNvSpPr/>
          <p:nvPr/>
        </p:nvSpPr>
        <p:spPr>
          <a:xfrm>
            <a:off x="5136840" y="270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破天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6495840" y="3260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费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8"/>
          <p:cNvSpPr/>
          <p:nvPr/>
        </p:nvSpPr>
        <p:spPr>
          <a:xfrm>
            <a:off x="3670920" y="378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诧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3"/>
          <p:cNvSpPr/>
          <p:nvPr/>
        </p:nvSpPr>
        <p:spPr>
          <a:xfrm>
            <a:off x="819000" y="1557360"/>
            <a:ext cx="756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华罗庚是从杂货店里走出来的自学成才的数学家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缩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华罗庚失学在家。　  华罗庚自学成才。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用关联词语连成一句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6"/>
          <p:cNvSpPr/>
          <p:nvPr/>
        </p:nvSpPr>
        <p:spPr>
          <a:xfrm>
            <a:off x="1419120" y="492444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华罗庚虽然失学在家，但是他自学成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1419120" y="3271680"/>
            <a:ext cx="33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华罗庚是数学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8"/>
          <p:cNvGrpSpPr/>
          <p:nvPr/>
        </p:nvGrpSpPr>
        <p:grpSpPr>
          <a:xfrm>
            <a:off x="600120" y="1014480"/>
            <a:ext cx="8080200" cy="5508720"/>
            <a:chOff x="600120" y="1014480"/>
            <a:chExt cx="8080200" cy="5508720"/>
          </a:xfrm>
        </p:grpSpPr>
        <p:sp>
          <p:nvSpPr>
            <p:cNvPr id="70" name="圆角矩形 4"/>
            <p:cNvSpPr/>
            <p:nvPr/>
          </p:nvSpPr>
          <p:spPr>
            <a:xfrm>
              <a:off x="600120" y="3876480"/>
              <a:ext cx="3207600" cy="44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读课文，说说这位从杂货店走出来的数学家出生在怎样的家庭里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圆角矩形 5"/>
            <p:cNvSpPr/>
            <p:nvPr/>
          </p:nvSpPr>
          <p:spPr>
            <a:xfrm>
              <a:off x="5224320" y="3889440"/>
              <a:ext cx="345600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课文主要写了华罗庚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岁前成长过程中的哪几件事情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圆角矩形 6"/>
            <p:cNvSpPr/>
            <p:nvPr/>
          </p:nvSpPr>
          <p:spPr>
            <a:xfrm>
              <a:off x="5211720" y="5143680"/>
              <a:ext cx="346860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悟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通过学习，你认为华罗庚是个怎样的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?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你有怎样的收获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圆角矩形 7"/>
            <p:cNvSpPr/>
            <p:nvPr/>
          </p:nvSpPr>
          <p:spPr>
            <a:xfrm>
              <a:off x="600120" y="5214240"/>
              <a:ext cx="3207600" cy="44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华罗庚最后取得了怎样的成就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75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矩形 1"/>
              <p:cNvSpPr/>
              <p:nvPr/>
            </p:nvSpPr>
            <p:spPr>
              <a:xfrm>
                <a:off x="2513160" y="1843920"/>
                <a:ext cx="3934440" cy="10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2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华罗庚是怎样从杂货店走出来，成为著名的数学家的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?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矩形 2"/>
              <p:cNvSpPr/>
              <p:nvPr/>
            </p:nvSpPr>
            <p:spPr>
              <a:xfrm>
                <a:off x="4575960" y="124092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学成才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组合 3"/>
          <p:cNvGrpSpPr/>
          <p:nvPr/>
        </p:nvGrpSpPr>
        <p:grpSpPr>
          <a:xfrm>
            <a:off x="825480" y="1854360"/>
            <a:ext cx="7683480" cy="968040"/>
            <a:chOff x="825480" y="1854360"/>
            <a:chExt cx="7683480" cy="968040"/>
          </a:xfrm>
        </p:grpSpPr>
        <p:sp>
          <p:nvSpPr>
            <p:cNvPr id="79" name="直接连接符 4"/>
            <p:cNvSpPr/>
            <p:nvPr/>
          </p:nvSpPr>
          <p:spPr>
            <a:xfrm>
              <a:off x="825480" y="282240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任意多边形 5"/>
            <p:cNvSpPr/>
            <p:nvPr/>
          </p:nvSpPr>
          <p:spPr>
            <a:xfrm>
              <a:off x="825480" y="1854360"/>
              <a:ext cx="7683480" cy="968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0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从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－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7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自然段王老师和华罗庚的对话中你能体会到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矩形 1"/>
          <p:cNvSpPr/>
          <p:nvPr/>
        </p:nvSpPr>
        <p:spPr>
          <a:xfrm>
            <a:off x="809640" y="3002040"/>
            <a:ext cx="782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王老师连连发问，可以看出王老师对华罗庚答出难题的惊讶，突出了华罗庚的数学才能。华罗庚镇定自若、干脆利落又条理清楚的回答，可以体现出他令人叹服的数学才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"/>
          <p:cNvSpPr/>
          <p:nvPr/>
        </p:nvSpPr>
        <p:spPr>
          <a:xfrm>
            <a:off x="885960" y="1512720"/>
            <a:ext cx="7683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想象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的华罗庚解出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孙子算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里的难题，王老师给了他适时的鼓励。想象一下，王老师会怎样鼓励他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图片 24" descr="花盆.png"/>
          <p:cNvPicPr/>
          <p:nvPr/>
        </p:nvPicPr>
        <p:blipFill>
          <a:blip r:embed="rId1"/>
          <a:stretch/>
        </p:blipFill>
        <p:spPr>
          <a:xfrm>
            <a:off x="642960" y="166680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965160" y="3144960"/>
            <a:ext cx="745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你在数学上很有天赋，只要认真学习，一定能在数学方面有大的成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6"/>
          <p:cNvSpPr/>
          <p:nvPr/>
        </p:nvSpPr>
        <p:spPr>
          <a:xfrm>
            <a:off x="730080" y="2419200"/>
            <a:ext cx="76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只有一间门面的杂货店”“微弱的油灯下”说明华罗庚学习的环境非常艰苦。就是在这样艰苦的环境下，他“一面干活儿、记账，一面顽强地自学”。白天只能趁没有顾客的时候，站在柜台边学习，晚上学到深夜。有时半夜醒来研究难题，直到“东方泛白”。淋漓尽致地表现了华罗庚勤奋刻苦、坚忍不拔的学习精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11"/>
          <p:cNvGrpSpPr/>
          <p:nvPr/>
        </p:nvGrpSpPr>
        <p:grpSpPr>
          <a:xfrm>
            <a:off x="714240" y="1647720"/>
            <a:ext cx="7683480" cy="560520"/>
            <a:chOff x="714240" y="1647720"/>
            <a:chExt cx="7683480" cy="560520"/>
          </a:xfrm>
        </p:grpSpPr>
        <p:sp>
          <p:nvSpPr>
            <p:cNvPr id="88" name="直接连接符 12"/>
            <p:cNvSpPr/>
            <p:nvPr/>
          </p:nvSpPr>
          <p:spPr>
            <a:xfrm>
              <a:off x="714240" y="220824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任意多边形 13"/>
            <p:cNvSpPr/>
            <p:nvPr/>
          </p:nvSpPr>
          <p:spPr>
            <a:xfrm>
              <a:off x="714240" y="1647720"/>
              <a:ext cx="768348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0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重点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)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：华罗庚在怎样的环境里坚持自学？他是怎样自学的？从中表现了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"/>
          <p:cNvSpPr/>
          <p:nvPr/>
        </p:nvSpPr>
        <p:spPr>
          <a:xfrm>
            <a:off x="880920" y="3554280"/>
            <a:ext cx="764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句中的“小掌柜”指的是华罗庚，面对同学的“不屑”，华罗庚“默默”承受；面对生活的巨大落差，他“咬紧牙关”，就是为了证明自己、为了自己对数学的热爱、为了自己执着的追求。可见，他的坚毅和执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"/>
          <p:cNvSpPr/>
          <p:nvPr/>
        </p:nvSpPr>
        <p:spPr>
          <a:xfrm>
            <a:off x="880920" y="1131840"/>
            <a:ext cx="74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店门前偶尔有华罗庚初中时代的同学经过，他们有的上了大学，有的谋到了好差事，都趾高气扬，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不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xiè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看店铺里的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“小掌柜”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眼。对此，华罗庚只是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默默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地咬紧牙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2"/>
          <p:cNvSpPr/>
          <p:nvPr/>
        </p:nvSpPr>
        <p:spPr>
          <a:xfrm>
            <a:off x="798480" y="2039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华罗庚从小好动，头脑灵活，特别喜好算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687240" y="2854440"/>
            <a:ext cx="766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此句概括写华罗庚小时候的特点。“特别喜好”表明华罗庚对算术很感兴趣，为下文写他的刻苦自学和取得成就做了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铺垫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"/>
          <p:cNvSpPr/>
          <p:nvPr/>
        </p:nvSpPr>
        <p:spPr>
          <a:xfrm>
            <a:off x="939960" y="1755720"/>
            <a:ext cx="75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华罗庚这个早年杂货店里的“小掌柜”，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终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成了一位举世闻名的大数学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"/>
          <p:cNvSpPr/>
          <p:nvPr/>
        </p:nvSpPr>
        <p:spPr>
          <a:xfrm>
            <a:off x="870120" y="3233880"/>
            <a:ext cx="77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话既回扣题目，又照应开头。“终于”一词说明华罗庚取得的成就是来之不易的，是靠日日夜夜不懈地刻苦努力得来的，是靠立志奋进的精神得来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9T14:59:56Z</dcterms:modified>
  <cp:revision>4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