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applause.wav" ContentType="audio/x-wav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90AF61-5D99-4934-8989-4E54800ADA0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624BA-75D4-4349-9973-D31A588B3B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4ED4D-16A0-43D5-BE51-E43401F4A1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70A-0B43-482A-85A2-A050BAF9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F95-057A-4E17-81B9-C63C8280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3557-F50F-4640-BBD9-FAB026E0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47F-7603-4D46-A425-2FC8DD3B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93A-930C-48F1-8827-509E29AB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3B5-522F-4A97-990B-0EF3679A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C27-5935-434F-AC06-B2727E51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53F-B917-4664-8DC7-127C18B7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F1E-E3C2-460F-A242-ECBAF2BE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D04-BDAC-4513-8112-11932FA5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A34-0F6B-4088-AD53-32E0E5A3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E24-99C5-4FBE-88FE-FD078694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2D3F8-0FAF-43DA-B827-CC84D35FA4F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7" descr=""/>
          <p:cNvPicPr/>
          <p:nvPr/>
        </p:nvPicPr>
        <p:blipFill>
          <a:blip r:embed="rId1"/>
          <a:stretch/>
        </p:blipFill>
        <p:spPr>
          <a:xfrm>
            <a:off x="2432160" y="2157480"/>
            <a:ext cx="4402080" cy="329256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749600"/>
            <a:ext cx="722664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36"/>
          <p:cNvGrpSpPr/>
          <p:nvPr/>
        </p:nvGrpSpPr>
        <p:grpSpPr>
          <a:xfrm>
            <a:off x="2443320" y="2585880"/>
            <a:ext cx="4302000" cy="2522520"/>
            <a:chOff x="2443320" y="2585880"/>
            <a:chExt cx="4302000" cy="2522520"/>
          </a:xfrm>
        </p:grpSpPr>
        <p:sp>
          <p:nvSpPr>
            <p:cNvPr id="53" name="矩形 13324"/>
            <p:cNvSpPr/>
            <p:nvPr/>
          </p:nvSpPr>
          <p:spPr>
            <a:xfrm>
              <a:off x="2455920" y="2585880"/>
              <a:ext cx="4289400" cy="252252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矩形 47"/>
            <p:cNvSpPr/>
            <p:nvPr/>
          </p:nvSpPr>
          <p:spPr>
            <a:xfrm>
              <a:off x="2443320" y="3369240"/>
              <a:ext cx="4257360" cy="1069200"/>
            </a:xfrm>
            <a:prstGeom prst="rect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望大陆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于右任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 Box 2"/>
          <p:cNvSpPr/>
          <p:nvPr/>
        </p:nvSpPr>
        <p:spPr>
          <a:xfrm>
            <a:off x="2747880" y="868320"/>
            <a:ext cx="356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诗二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1"/>
          <p:cNvSpPr/>
          <p:nvPr/>
        </p:nvSpPr>
        <p:spPr>
          <a:xfrm>
            <a:off x="5749920" y="2781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第一课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组合 2"/>
          <p:cNvGrpSpPr/>
          <p:nvPr/>
        </p:nvGrpSpPr>
        <p:grpSpPr>
          <a:xfrm>
            <a:off x="363600" y="5681520"/>
            <a:ext cx="8493120" cy="579600"/>
            <a:chOff x="363600" y="5681520"/>
            <a:chExt cx="8493120" cy="579600"/>
          </a:xfrm>
        </p:grpSpPr>
        <p:pic>
          <p:nvPicPr>
            <p:cNvPr id="58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363600" y="5681520"/>
              <a:ext cx="140652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1746000" y="5681520"/>
              <a:ext cx="140652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577040" y="5681520"/>
              <a:ext cx="140652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任意多边形 26" descr=""/>
            <p:cNvPicPr/>
            <p:nvPr/>
          </p:nvPicPr>
          <p:blipFill>
            <a:blip r:embed="rId7"/>
            <a:stretch/>
          </p:blipFill>
          <p:spPr>
            <a:xfrm>
              <a:off x="3158640" y="5681520"/>
              <a:ext cx="140652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任意多边形 19" descr=""/>
            <p:cNvPicPr/>
            <p:nvPr/>
          </p:nvPicPr>
          <p:blipFill>
            <a:blip r:embed="rId8"/>
            <a:stretch/>
          </p:blipFill>
          <p:spPr>
            <a:xfrm>
              <a:off x="7450200" y="5681520"/>
              <a:ext cx="140652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24" descr=""/>
            <p:cNvPicPr/>
            <p:nvPr/>
          </p:nvPicPr>
          <p:blipFill>
            <a:blip r:embed="rId9"/>
            <a:stretch/>
          </p:blipFill>
          <p:spPr>
            <a:xfrm>
              <a:off x="6007680" y="5681520"/>
              <a:ext cx="1424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流程图: 摘录 25"/>
            <p:cNvSpPr/>
            <p:nvPr/>
          </p:nvSpPr>
          <p:spPr>
            <a:xfrm rot="5400000">
              <a:off x="1687680" y="5854680"/>
              <a:ext cx="129240" cy="16416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流程图: 摘录 40"/>
            <p:cNvSpPr/>
            <p:nvPr/>
          </p:nvSpPr>
          <p:spPr>
            <a:xfrm rot="5400000">
              <a:off x="3088440" y="5854680"/>
              <a:ext cx="129240" cy="16416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27"/>
            <p:cNvSpPr/>
            <p:nvPr/>
          </p:nvSpPr>
          <p:spPr>
            <a:xfrm rot="5400000">
              <a:off x="4502880" y="5852880"/>
              <a:ext cx="127800" cy="18936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558e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1"/>
            <p:cNvSpPr/>
            <p:nvPr/>
          </p:nvSpPr>
          <p:spPr>
            <a:xfrm rot="5400000">
              <a:off x="5944320" y="5833080"/>
              <a:ext cx="126360" cy="2188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28"/>
            <p:cNvSpPr/>
            <p:nvPr/>
          </p:nvSpPr>
          <p:spPr>
            <a:xfrm rot="5400000">
              <a:off x="7380360" y="5837760"/>
              <a:ext cx="171000" cy="2080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"/>
          <p:cNvSpPr/>
          <p:nvPr/>
        </p:nvSpPr>
        <p:spPr>
          <a:xfrm>
            <a:off x="1519200" y="1930320"/>
            <a:ext cx="5973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葬我于高山上兮，望我故乡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故乡不可见兮，永不能忘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939960" y="3683160"/>
            <a:ext cx="71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诗人希望死后葬在高山上，以便能时时望见故乡。虽然看不见故乡，但心里永远不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2"/>
          <p:cNvSpPr/>
          <p:nvPr/>
        </p:nvSpPr>
        <p:spPr>
          <a:xfrm>
            <a:off x="1685880" y="1822320"/>
            <a:ext cx="597384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天苍苍，野茫茫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山之上，国有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1120680" y="3732120"/>
            <a:ext cx="68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诗人看到眼前壮阔的景象，表达要在高山上实现以身许国的愿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13" name="圆角矩形 9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矩形 1"/>
          <p:cNvSpPr/>
          <p:nvPr/>
        </p:nvSpPr>
        <p:spPr>
          <a:xfrm>
            <a:off x="1068480" y="2482920"/>
            <a:ext cx="70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第一部分（第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句）写诗人重病时的嘱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第二部分（第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句）写诗人看到眼前壮阔的景象，表达要在高山上实现以身许国的愿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286080" y="254160"/>
            <a:ext cx="2571840" cy="672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8" name="组合 9"/>
          <p:cNvGrpSpPr/>
          <p:nvPr/>
        </p:nvGrpSpPr>
        <p:grpSpPr>
          <a:xfrm>
            <a:off x="871560" y="2390760"/>
            <a:ext cx="7683480" cy="558720"/>
            <a:chOff x="871560" y="2390760"/>
            <a:chExt cx="7683480" cy="558720"/>
          </a:xfrm>
        </p:grpSpPr>
        <p:sp>
          <p:nvSpPr>
            <p:cNvPr id="119" name="直接连接符 12"/>
            <p:cNvSpPr/>
            <p:nvPr/>
          </p:nvSpPr>
          <p:spPr>
            <a:xfrm>
              <a:off x="871560" y="29494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任意多边形 13"/>
            <p:cNvSpPr/>
            <p:nvPr/>
          </p:nvSpPr>
          <p:spPr>
            <a:xfrm>
              <a:off x="871560" y="239076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15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难点</a:t>
              </a:r>
              <a:r>
                <a:rPr b="1" lang="en-US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) </a:t>
              </a: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诗歌的第一、二句在内容上有什么相同点？从中能感受到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14"/>
          <p:cNvSpPr/>
          <p:nvPr/>
        </p:nvSpPr>
        <p:spPr>
          <a:xfrm>
            <a:off x="816120" y="324972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诗歌第一、二句采用了同一句式反复呈现的写法，这种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重章复沓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写法，反复咏唱，抒发了对大陆、对故乡深切向往、眷恋的情怀，是诗人真情实感的强烈表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2"/>
          <p:cNvSpPr/>
          <p:nvPr/>
        </p:nvSpPr>
        <p:spPr>
          <a:xfrm>
            <a:off x="1033560" y="24969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苍苍，野茫茫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1033560" y="3247920"/>
            <a:ext cx="71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借用北朝民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敕勒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的诗句，运用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对偶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写出了诗人看到的景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885960" y="2205000"/>
            <a:ext cx="768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记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敕勒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内容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24" descr="花盆.png"/>
          <p:cNvPicPr/>
          <p:nvPr/>
        </p:nvPicPr>
        <p:blipFill>
          <a:blip r:embed="rId1"/>
          <a:stretch/>
        </p:blipFill>
        <p:spPr>
          <a:xfrm>
            <a:off x="642960" y="2359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26" name="矩形 9"/>
          <p:cNvSpPr/>
          <p:nvPr/>
        </p:nvSpPr>
        <p:spPr>
          <a:xfrm>
            <a:off x="863640" y="3287880"/>
            <a:ext cx="724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敕勒川，阴山下。天似穹庐，笼盖四野。天苍苍，野茫茫。风吹草低见牛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内容占位符 2"/>
          <p:cNvSpPr/>
          <p:nvPr/>
        </p:nvSpPr>
        <p:spPr>
          <a:xfrm>
            <a:off x="925560" y="2602080"/>
            <a:ext cx="74134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诗人在诗中表达了怎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望大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诗表现出诗人强烈期望两岸统一的情感和渴望回归大陆的心情，也表现出他在有生之年未能实现心中期望的失望情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内容占位符 2"/>
          <p:cNvSpPr/>
          <p:nvPr/>
        </p:nvSpPr>
        <p:spPr>
          <a:xfrm>
            <a:off x="587520" y="1971720"/>
            <a:ext cx="2203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内容占位符 2"/>
          <p:cNvSpPr/>
          <p:nvPr/>
        </p:nvSpPr>
        <p:spPr>
          <a:xfrm>
            <a:off x="674640" y="2124000"/>
            <a:ext cx="78692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望大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达诗人怎样的感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望大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诗中，于右任先生以“骚体”为样，多用“兮”字的古风诗体，增添了诗歌的感染力，并借用屈原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九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“国殇”一词，表达自己以身许国的深深爱国情怀，也表现出凝望苍茫大地、归期无日的深切悲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内容占位符 2"/>
          <p:cNvSpPr/>
          <p:nvPr/>
        </p:nvSpPr>
        <p:spPr>
          <a:xfrm>
            <a:off x="635040" y="149688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内容占位符 2"/>
          <p:cNvSpPr/>
          <p:nvPr/>
        </p:nvSpPr>
        <p:spPr>
          <a:xfrm>
            <a:off x="819000" y="1733400"/>
            <a:ext cx="752004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望大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了什么表现形式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望大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用了重章复沓的写法，来深化主题，渲染气氛，增强了诗歌的音乐性和节奏感。诗人句句抒情，以两个感叹句配以“兮”字的古风诗体，来组织全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4" name="圆角矩形 13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文本框 26"/>
          <p:cNvSpPr/>
          <p:nvPr/>
        </p:nvSpPr>
        <p:spPr>
          <a:xfrm>
            <a:off x="812880" y="2781360"/>
            <a:ext cx="1546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望大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—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葬我于高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16"/>
          <p:cNvSpPr/>
          <p:nvPr/>
        </p:nvSpPr>
        <p:spPr>
          <a:xfrm>
            <a:off x="3051000" y="2847960"/>
            <a:ext cx="27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望大陆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痛哭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望故乡</a:t>
            </a:r>
            <a:r>
              <a:rPr b="1" lang="en-US" sz="2400" spc="-1" strike="noStrike">
                <a:solidFill>
                  <a:srgbClr val="00965a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不能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左大括号 17"/>
          <p:cNvSpPr/>
          <p:nvPr/>
        </p:nvSpPr>
        <p:spPr>
          <a:xfrm>
            <a:off x="2776680" y="2860560"/>
            <a:ext cx="150840" cy="1135080"/>
          </a:xfrm>
          <a:custGeom>
            <a:avLst/>
            <a:gdLst>
              <a:gd name="textAreaLeft" fmla="*/ 96480 w 150840"/>
              <a:gd name="textAreaRight" fmla="*/ 151200 w 150840"/>
              <a:gd name="textAreaTop" fmla="*/ 3600 h 1135080"/>
              <a:gd name="textAreaBottom" fmla="*/ 1131480 h 113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39"/>
                </a:cubicBezTo>
                <a:lnTo>
                  <a:pt x="10800" y="10561"/>
                </a:lnTo>
                <a:cubicBezTo>
                  <a:pt x="10800" y="10681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39"/>
                </a:cubicBezTo>
                <a:lnTo>
                  <a:pt x="10800" y="21361"/>
                </a:lnTo>
                <a:cubicBezTo>
                  <a:pt x="10800" y="2148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左大括号 18"/>
          <p:cNvSpPr/>
          <p:nvPr/>
        </p:nvSpPr>
        <p:spPr>
          <a:xfrm flipH="1">
            <a:off x="5944320" y="2892600"/>
            <a:ext cx="203400" cy="1085760"/>
          </a:xfrm>
          <a:custGeom>
            <a:avLst/>
            <a:gdLst>
              <a:gd name="textAreaLeft" fmla="*/ 129960 w 203400"/>
              <a:gd name="textAreaRight" fmla="*/ 203760 w 203400"/>
              <a:gd name="textAreaTop" fmla="*/ 5040 h 1085760"/>
              <a:gd name="textAreaBottom" fmla="*/ 1080720 h 108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9"/>
                  <a:pt x="10800" y="337"/>
                </a:cubicBezTo>
                <a:lnTo>
                  <a:pt x="10800" y="10463"/>
                </a:lnTo>
                <a:cubicBezTo>
                  <a:pt x="10800" y="10632"/>
                  <a:pt x="5400" y="10800"/>
                  <a:pt x="0" y="10800"/>
                </a:cubicBezTo>
                <a:cubicBezTo>
                  <a:pt x="5400" y="10800"/>
                  <a:pt x="10800" y="10969"/>
                  <a:pt x="10800" y="11137"/>
                </a:cubicBezTo>
                <a:lnTo>
                  <a:pt x="10800" y="21263"/>
                </a:lnTo>
                <a:cubicBezTo>
                  <a:pt x="10800" y="21432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9"/>
          <p:cNvSpPr/>
          <p:nvPr/>
        </p:nvSpPr>
        <p:spPr>
          <a:xfrm>
            <a:off x="6132600" y="3065400"/>
            <a:ext cx="2833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国有殇 盼回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687240" y="1397160"/>
            <a:ext cx="7499520" cy="46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望大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于右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葬我于高山上兮，望我大陆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陆不可见兮，只有痛哭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葬我于高山上兮，望我故乡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故乡不可见兮，永不能忘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苍苍，野茫茫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山之上，国有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内容占位符 2"/>
          <p:cNvSpPr/>
          <p:nvPr/>
        </p:nvSpPr>
        <p:spPr>
          <a:xfrm>
            <a:off x="895320" y="2343240"/>
            <a:ext cx="741672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望大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诗人希望死后葬在高山上，以便能时时望见大陆、故乡，表达自己以身许国的深深爱国情怀和归期无日的深切悲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48" name="矩形 11"/>
          <p:cNvSpPr/>
          <p:nvPr/>
        </p:nvSpPr>
        <p:spPr>
          <a:xfrm>
            <a:off x="890640" y="2333520"/>
            <a:ext cx="73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望大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作者的一首绝唱，表达出诗人强烈期望祖国统一的情感和渴望回归大陆的心情，也表现出他在有生之年未能实现夙愿的失望情绪，更感痛彻骨髓的是他终未能回到故乡，与故乡亲人相见。这首诗也道出了无数他乡游子的心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"/>
          <p:cNvSpPr/>
          <p:nvPr/>
        </p:nvSpPr>
        <p:spPr>
          <a:xfrm>
            <a:off x="857160" y="2508120"/>
            <a:ext cx="758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、背诵诗歌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理解诗的内容，想象诗的意境，体会诗歌所表达的台湾游子对大陆的思念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73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74" name="圆角矩形 12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矩形 8"/>
          <p:cNvSpPr/>
          <p:nvPr/>
        </p:nvSpPr>
        <p:spPr>
          <a:xfrm>
            <a:off x="1035000" y="2306520"/>
            <a:ext cx="730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右任：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7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陕西三原人。原名伯循，字诱人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国近代书法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所创“标准草书”深受海内外学人欢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于右任诗词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标准草书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右任诗存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任意多边形 8"/>
          <p:cNvSpPr/>
          <p:nvPr/>
        </p:nvSpPr>
        <p:spPr>
          <a:xfrm>
            <a:off x="2700360" y="2593800"/>
            <a:ext cx="1950840" cy="129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2836800" y="2270160"/>
            <a:ext cx="67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1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4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7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TextBox 1"/>
          <p:cNvSpPr/>
          <p:nvPr/>
        </p:nvSpPr>
        <p:spPr>
          <a:xfrm>
            <a:off x="1765440" y="3409920"/>
            <a:ext cx="624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兮　　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殇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葬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1765080" y="2909880"/>
            <a:ext cx="5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x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3769200" y="2905200"/>
            <a:ext cx="14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ā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6132600" y="2909880"/>
            <a:ext cx="107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à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9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矩形 1"/>
          <p:cNvSpPr/>
          <p:nvPr/>
        </p:nvSpPr>
        <p:spPr>
          <a:xfrm>
            <a:off x="1006560" y="2535120"/>
            <a:ext cx="745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殇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苍苍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茫茫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1658880" y="2556000"/>
            <a:ext cx="629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没有到成年就死去。诗中指战死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广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没有边际，看不清楚。诗中指旷野无边无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茫茫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大海上，几只海鸥在盘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内容占位符 2"/>
          <p:cNvSpPr/>
          <p:nvPr/>
        </p:nvSpPr>
        <p:spPr>
          <a:xfrm>
            <a:off x="888840" y="1976400"/>
            <a:ext cx="786132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诗人在诗中表达了怎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读课文，说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望大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表达诗人怎样的感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望大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Adobe 黑体 Std R"/>
              </a:rPr>
              <a:t>用了什么表现形式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4"/>
          <p:cNvGrpSpPr/>
          <p:nvPr/>
        </p:nvGrpSpPr>
        <p:grpSpPr>
          <a:xfrm>
            <a:off x="730080" y="1200240"/>
            <a:ext cx="2722680" cy="666720"/>
            <a:chOff x="730080" y="1200240"/>
            <a:chExt cx="2722680" cy="666720"/>
          </a:xfrm>
        </p:grpSpPr>
        <p:sp>
          <p:nvSpPr>
            <p:cNvPr id="102" name="圆角矩形 3"/>
            <p:cNvSpPr/>
            <p:nvPr/>
          </p:nvSpPr>
          <p:spPr>
            <a:xfrm>
              <a:off x="1545840" y="1338120"/>
              <a:ext cx="178920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文本框 16"/>
            <p:cNvSpPr/>
            <p:nvPr/>
          </p:nvSpPr>
          <p:spPr>
            <a:xfrm>
              <a:off x="1791720" y="1357200"/>
              <a:ext cx="166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矩形 6"/>
          <p:cNvSpPr/>
          <p:nvPr/>
        </p:nvSpPr>
        <p:spPr>
          <a:xfrm>
            <a:off x="1703520" y="2308320"/>
            <a:ext cx="71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葬我于高山上兮，望我大陆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陆不可见兮，只有痛哭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1116000" y="3932280"/>
            <a:ext cx="68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诗人希望死后葬在高山上，以便能时时望见大陆。看不见大陆，是最痛苦的事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335400" y="290520"/>
            <a:ext cx="2473200" cy="649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07:26:58Z</dcterms:modified>
  <cp:revision>45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