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png" ContentType="image/png"/>
  <Override PartName="/ppt/media/image9.gif" ContentType="image/gif"/>
  <Override PartName="/ppt/media/image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3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3F03D-F94F-4214-A5F2-B74DF462EB5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E7ECC-0138-4F8D-81DF-CD36C6764B5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56A-126B-4E0E-83D2-F343E488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30E5-CF15-4C0F-A7AE-3073EA45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932-C510-492C-A665-8B8898CE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B63-2CED-4D2D-BA80-9876AC2A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69B-88C9-41E7-BB5C-FAE976E0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2B5-0E11-417D-B3F4-5F79FDDA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E4D-696A-4071-B00A-C6EA6B95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196F-83C4-4BC8-BEBF-608D097A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D35-BD14-4A9C-A5A6-9714034F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CE90-9F9A-475D-8A24-89DE7A0A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76B0-FEF8-4D96-B807-F834E242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0CA-4844-425A-9DAE-CB05D71D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CD1CE-44E1-49E3-8360-ACF5713DAD6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1" name="组合 13322"/>
          <p:cNvGrpSpPr/>
          <p:nvPr/>
        </p:nvGrpSpPr>
        <p:grpSpPr>
          <a:xfrm>
            <a:off x="2104920" y="5703840"/>
            <a:ext cx="5349960" cy="717480"/>
            <a:chOff x="2104920" y="5703840"/>
            <a:chExt cx="5349960" cy="717480"/>
          </a:xfrm>
        </p:grpSpPr>
        <p:pic>
          <p:nvPicPr>
            <p:cNvPr id="52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2104920" y="5703840"/>
              <a:ext cx="187524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任意多边形 8" descr=""/>
            <p:cNvPicPr/>
            <p:nvPr/>
          </p:nvPicPr>
          <p:blipFill>
            <a:blip r:embed="rId4"/>
            <a:stretch/>
          </p:blipFill>
          <p:spPr>
            <a:xfrm>
              <a:off x="3833640" y="5703840"/>
              <a:ext cx="187524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19" descr=""/>
            <p:cNvPicPr/>
            <p:nvPr/>
          </p:nvPicPr>
          <p:blipFill>
            <a:blip r:embed="rId5"/>
            <a:stretch/>
          </p:blipFill>
          <p:spPr>
            <a:xfrm>
              <a:off x="5579640" y="5703840"/>
              <a:ext cx="187524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流程图: 摘录 40"/>
            <p:cNvSpPr/>
            <p:nvPr/>
          </p:nvSpPr>
          <p:spPr>
            <a:xfrm rot="5400000">
              <a:off x="3829680" y="593676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流程图: 摘录 41"/>
            <p:cNvSpPr/>
            <p:nvPr/>
          </p:nvSpPr>
          <p:spPr>
            <a:xfrm rot="5400000">
              <a:off x="5578560" y="593676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 Box 2"/>
          <p:cNvSpPr/>
          <p:nvPr/>
        </p:nvSpPr>
        <p:spPr>
          <a:xfrm>
            <a:off x="1442880" y="101124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两岸民众亲如一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9" descr="F:\1冀教+教科+长春\教科\课件【定】\教科6年级上册\课件（2017秋，上册）：6语教科 第4单元\快乐读书屋 四\两岸民众亲如一家\备课资料包\备课图片\台湾2.jpg"/>
          <p:cNvPicPr/>
          <p:nvPr/>
        </p:nvPicPr>
        <p:blipFill>
          <a:blip r:embed="rId6"/>
          <a:stretch/>
        </p:blipFill>
        <p:spPr>
          <a:xfrm>
            <a:off x="3754440" y="2066760"/>
            <a:ext cx="1920960" cy="3492720"/>
          </a:xfrm>
          <a:prstGeom prst="rect">
            <a:avLst/>
          </a:prstGeom>
          <a:ln w="0">
            <a:noFill/>
          </a:ln>
        </p:spPr>
      </p:pic>
      <p:grpSp>
        <p:nvGrpSpPr>
          <p:cNvPr id="59" name="组合 13336"/>
          <p:cNvGrpSpPr/>
          <p:nvPr/>
        </p:nvGrpSpPr>
        <p:grpSpPr>
          <a:xfrm>
            <a:off x="3122640" y="3187800"/>
            <a:ext cx="3186000" cy="1150920"/>
            <a:chOff x="3122640" y="3187800"/>
            <a:chExt cx="3186000" cy="1150920"/>
          </a:xfrm>
        </p:grpSpPr>
        <p:sp>
          <p:nvSpPr>
            <p:cNvPr id="60" name="矩形 17"/>
            <p:cNvSpPr/>
            <p:nvPr/>
          </p:nvSpPr>
          <p:spPr>
            <a:xfrm>
              <a:off x="3122640" y="3187800"/>
              <a:ext cx="3175200" cy="115092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3915360" y="3276720"/>
              <a:ext cx="1059840" cy="10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矩形 20"/>
            <p:cNvSpPr/>
            <p:nvPr/>
          </p:nvSpPr>
          <p:spPr>
            <a:xfrm>
              <a:off x="3122640" y="3384360"/>
              <a:ext cx="31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方正黑体简体"/>
                  <a:ea typeface="方正黑体简体"/>
                </a:rPr>
                <a:t>第 一 课时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5"/>
          <p:cNvSpPr/>
          <p:nvPr/>
        </p:nvSpPr>
        <p:spPr>
          <a:xfrm>
            <a:off x="882720" y="1646280"/>
            <a:ext cx="73119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一说文中叙述了哪些事体现了台湾民众对大陆的好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1393920" y="3200400"/>
            <a:ext cx="6627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陆记者在台北问路，有人会为记者“细心指路”；乘计程车时司机常常“主动攀谈”；购物时店员主动“聊天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7"/>
          <p:cNvSpPr/>
          <p:nvPr/>
        </p:nvSpPr>
        <p:spPr>
          <a:xfrm>
            <a:off x="246240" y="1422360"/>
            <a:ext cx="459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讲了三件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一是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位台湾教授携太太、儿子陪同大陆记者采访客家民居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二是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位台湾妇女拉记者到她家做客，全家人热情款待记者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三是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位做生意的蔡先生撇下生意，陪同记者四处转一转、看一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组合 2"/>
          <p:cNvGrpSpPr/>
          <p:nvPr/>
        </p:nvGrpSpPr>
        <p:grpSpPr>
          <a:xfrm>
            <a:off x="4862520" y="2357280"/>
            <a:ext cx="4037040" cy="3502080"/>
            <a:chOff x="4862520" y="2357280"/>
            <a:chExt cx="4037040" cy="3502080"/>
          </a:xfrm>
        </p:grpSpPr>
        <p:sp>
          <p:nvSpPr>
            <p:cNvPr id="130" name="云形标注 4"/>
            <p:cNvSpPr/>
            <p:nvPr/>
          </p:nvSpPr>
          <p:spPr>
            <a:xfrm>
              <a:off x="4862520" y="2357280"/>
              <a:ext cx="4037040" cy="2544840"/>
            </a:xfrm>
            <a:prstGeom prst="cloudCallout">
              <a:avLst>
                <a:gd name="adj1" fmla="val 24824"/>
                <a:gd name="adj2" fmla="val 55953"/>
              </a:avLst>
            </a:prstGeom>
            <a:solidFill>
              <a:srgbClr val="ffffff"/>
            </a:solidFill>
            <a:ln w="25560">
              <a:solidFill>
                <a:srgbClr val="632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者围绕两岸民众骨肉之情和手足之爱讲了那几件事情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Picture 5" descr="https://timgsa.baidu.com/timg?image&amp;quality=80&amp;size=b9999_10000&amp;sec=1492580636370&amp;di=bdc3dce87615abae23f895891dfd0168&amp;imgtype=0&amp;src=http%3A%2F%2Fwww.qqtu8.com%2Ff%2F20141014215328.gif"/>
            <p:cNvPicPr/>
            <p:nvPr/>
          </p:nvPicPr>
          <p:blipFill>
            <a:blip r:embed="rId1"/>
            <a:stretch/>
          </p:blipFill>
          <p:spPr>
            <a:xfrm>
              <a:off x="7839360" y="5002200"/>
              <a:ext cx="85716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示 7" descr=""/>
          <p:cNvPicPr/>
          <p:nvPr/>
        </p:nvPicPr>
        <p:blipFill>
          <a:blip r:embed="rId1"/>
          <a:stretch/>
        </p:blipFill>
        <p:spPr>
          <a:xfrm>
            <a:off x="785880" y="944640"/>
            <a:ext cx="3084480" cy="1474560"/>
          </a:xfrm>
          <a:prstGeom prst="rect">
            <a:avLst/>
          </a:prstGeom>
          <a:ln w="0">
            <a:noFill/>
          </a:ln>
        </p:spPr>
      </p:pic>
      <p:sp>
        <p:nvSpPr>
          <p:cNvPr id="133" name="矩形 11"/>
          <p:cNvSpPr/>
          <p:nvPr/>
        </p:nvSpPr>
        <p:spPr>
          <a:xfrm>
            <a:off x="765000" y="2104920"/>
            <a:ext cx="775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读课文，说一说课文的主要内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1"/>
          <p:cNvSpPr/>
          <p:nvPr/>
        </p:nvSpPr>
        <p:spPr>
          <a:xfrm>
            <a:off x="1174680" y="276876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主要讲述了大陆记者在台北问路，有人会为记者“细心指路”，乘计程车时司机常常“主动攀谈”，购物时店员主动“聊天”，偶遇妇女“邀请记者做客”，以及商人“带记者参观”等感人的事。通过这些日常生活中的小事，记叙了两岸民众亲如一家的亲情和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6" name="矩形 13"/>
          <p:cNvSpPr/>
          <p:nvPr/>
        </p:nvSpPr>
        <p:spPr>
          <a:xfrm>
            <a:off x="1523880" y="2519280"/>
            <a:ext cx="71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加点的字选择正确的读音，画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à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叮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í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í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相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ò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婚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ī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ī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假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ǎ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频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í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í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41"/>
          <p:cNvSpPr/>
          <p:nvPr/>
        </p:nvSpPr>
        <p:spPr>
          <a:xfrm>
            <a:off x="1878840" y="3360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41"/>
          <p:cNvSpPr/>
          <p:nvPr/>
        </p:nvSpPr>
        <p:spPr>
          <a:xfrm>
            <a:off x="5142600" y="3346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41"/>
          <p:cNvSpPr/>
          <p:nvPr/>
        </p:nvSpPr>
        <p:spPr>
          <a:xfrm>
            <a:off x="1904040" y="3922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41"/>
          <p:cNvSpPr/>
          <p:nvPr/>
        </p:nvSpPr>
        <p:spPr>
          <a:xfrm>
            <a:off x="5141160" y="3916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41"/>
          <p:cNvSpPr/>
          <p:nvPr/>
        </p:nvSpPr>
        <p:spPr>
          <a:xfrm>
            <a:off x="1596240" y="4479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41"/>
          <p:cNvSpPr/>
          <p:nvPr/>
        </p:nvSpPr>
        <p:spPr>
          <a:xfrm>
            <a:off x="4785480" y="4471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接连接符 23"/>
          <p:cNvSpPr/>
          <p:nvPr/>
        </p:nvSpPr>
        <p:spPr>
          <a:xfrm>
            <a:off x="2333520" y="3622680"/>
            <a:ext cx="608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接连接符 24"/>
          <p:cNvSpPr/>
          <p:nvPr/>
        </p:nvSpPr>
        <p:spPr>
          <a:xfrm>
            <a:off x="2886120" y="4195800"/>
            <a:ext cx="5112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直接连接符 25"/>
          <p:cNvSpPr/>
          <p:nvPr/>
        </p:nvSpPr>
        <p:spPr>
          <a:xfrm>
            <a:off x="5572080" y="4195800"/>
            <a:ext cx="606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接连接符 26"/>
          <p:cNvSpPr/>
          <p:nvPr/>
        </p:nvSpPr>
        <p:spPr>
          <a:xfrm>
            <a:off x="5477040" y="4754520"/>
            <a:ext cx="606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直接连接符 27"/>
          <p:cNvSpPr/>
          <p:nvPr/>
        </p:nvSpPr>
        <p:spPr>
          <a:xfrm>
            <a:off x="2857680" y="4754520"/>
            <a:ext cx="606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直接连接符 28"/>
          <p:cNvSpPr/>
          <p:nvPr/>
        </p:nvSpPr>
        <p:spPr>
          <a:xfrm>
            <a:off x="6405480" y="3660840"/>
            <a:ext cx="719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21"/>
          <p:cNvSpPr/>
          <p:nvPr/>
        </p:nvSpPr>
        <p:spPr>
          <a:xfrm>
            <a:off x="1819440" y="2235240"/>
            <a:ext cx="69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辨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 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 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 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 （　 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左大括号 25"/>
          <p:cNvSpPr/>
          <p:nvPr/>
        </p:nvSpPr>
        <p:spPr>
          <a:xfrm>
            <a:off x="1906560" y="3070080"/>
            <a:ext cx="144360" cy="792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792360"/>
              <a:gd name="textAreaBottom" fmla="*/ 7887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8"/>
                </a:cubicBezTo>
                <a:lnTo>
                  <a:pt x="10800" y="10472"/>
                </a:lnTo>
                <a:cubicBezTo>
                  <a:pt x="10800" y="10636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8"/>
                </a:cubicBezTo>
                <a:lnTo>
                  <a:pt x="10800" y="21272"/>
                </a:lnTo>
                <a:cubicBezTo>
                  <a:pt x="10800" y="214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左大括号 26"/>
          <p:cNvSpPr/>
          <p:nvPr/>
        </p:nvSpPr>
        <p:spPr>
          <a:xfrm>
            <a:off x="5437080" y="305424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360"/>
              <a:gd name="textAreaBottom" fmla="*/ 7887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4"/>
          <p:cNvSpPr/>
          <p:nvPr/>
        </p:nvSpPr>
        <p:spPr>
          <a:xfrm>
            <a:off x="4937760" y="3219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5"/>
          <p:cNvSpPr/>
          <p:nvPr/>
        </p:nvSpPr>
        <p:spPr>
          <a:xfrm>
            <a:off x="1390680" y="3219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29"/>
          <p:cNvSpPr/>
          <p:nvPr/>
        </p:nvSpPr>
        <p:spPr>
          <a:xfrm>
            <a:off x="3532320" y="3324240"/>
            <a:ext cx="8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0"/>
          <p:cNvSpPr/>
          <p:nvPr/>
        </p:nvSpPr>
        <p:spPr>
          <a:xfrm>
            <a:off x="2468880" y="2855880"/>
            <a:ext cx="5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jǐ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31"/>
          <p:cNvSpPr/>
          <p:nvPr/>
        </p:nvSpPr>
        <p:spPr>
          <a:xfrm>
            <a:off x="3660480" y="2882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尽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32"/>
          <p:cNvSpPr/>
          <p:nvPr/>
        </p:nvSpPr>
        <p:spPr>
          <a:xfrm>
            <a:off x="2483280" y="3451320"/>
            <a:ext cx="5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33"/>
          <p:cNvSpPr/>
          <p:nvPr/>
        </p:nvSpPr>
        <p:spPr>
          <a:xfrm>
            <a:off x="7058160" y="3332160"/>
            <a:ext cx="8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露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34"/>
          <p:cNvSpPr/>
          <p:nvPr/>
        </p:nvSpPr>
        <p:spPr>
          <a:xfrm>
            <a:off x="5923440" y="289728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ò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35"/>
          <p:cNvSpPr/>
          <p:nvPr/>
        </p:nvSpPr>
        <p:spPr>
          <a:xfrm>
            <a:off x="7160760" y="2882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露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36"/>
          <p:cNvSpPr/>
          <p:nvPr/>
        </p:nvSpPr>
        <p:spPr>
          <a:xfrm>
            <a:off x="6048360" y="3465360"/>
            <a:ext cx="4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9"/>
          <p:cNvSpPr/>
          <p:nvPr/>
        </p:nvSpPr>
        <p:spPr>
          <a:xfrm>
            <a:off x="971640" y="164160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照样子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冉冉升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AA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潮起潮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ABA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心翼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ABC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6242040" y="49150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气喘吁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2121120" y="2843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欣欣向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6"/>
          <p:cNvSpPr/>
          <p:nvPr/>
        </p:nvSpPr>
        <p:spPr>
          <a:xfrm>
            <a:off x="4250520" y="2843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代代相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7"/>
          <p:cNvSpPr/>
          <p:nvPr/>
        </p:nvSpPr>
        <p:spPr>
          <a:xfrm>
            <a:off x="6046560" y="2738520"/>
            <a:ext cx="18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亭亭玉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18"/>
          <p:cNvSpPr/>
          <p:nvPr/>
        </p:nvSpPr>
        <p:spPr>
          <a:xfrm>
            <a:off x="2018520" y="394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自言自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19"/>
          <p:cNvSpPr/>
          <p:nvPr/>
        </p:nvSpPr>
        <p:spPr>
          <a:xfrm>
            <a:off x="4250520" y="394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声不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0"/>
          <p:cNvSpPr/>
          <p:nvPr/>
        </p:nvSpPr>
        <p:spPr>
          <a:xfrm>
            <a:off x="6136200" y="3824280"/>
            <a:ext cx="16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五一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1"/>
          <p:cNvSpPr/>
          <p:nvPr/>
        </p:nvSpPr>
        <p:spPr>
          <a:xfrm>
            <a:off x="2034360" y="5016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千里迢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2"/>
          <p:cNvSpPr/>
          <p:nvPr/>
        </p:nvSpPr>
        <p:spPr>
          <a:xfrm>
            <a:off x="4287240" y="50292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得意洋洋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8"/>
          <p:cNvSpPr/>
          <p:nvPr/>
        </p:nvSpPr>
        <p:spPr>
          <a:xfrm>
            <a:off x="731880" y="1197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在括号里填上恰当的关联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陆和台湾隔着一道海峡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岸同胞的心永远连在一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野蛮的英国侵略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动了海盗式的鸦片战争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迫使清政府永久割让香港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隔多久，血缘中注定的亲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让两岸民众一见如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台湾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方发现你是从大陆来的，马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显露出惊喜的表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9"/>
          <p:cNvSpPr/>
          <p:nvPr/>
        </p:nvSpPr>
        <p:spPr>
          <a:xfrm>
            <a:off x="1714320" y="1844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虽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10"/>
          <p:cNvSpPr/>
          <p:nvPr/>
        </p:nvSpPr>
        <p:spPr>
          <a:xfrm>
            <a:off x="6788880" y="183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但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1"/>
          <p:cNvSpPr/>
          <p:nvPr/>
        </p:nvSpPr>
        <p:spPr>
          <a:xfrm>
            <a:off x="4124160" y="2946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2475720" y="3510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3"/>
          <p:cNvSpPr/>
          <p:nvPr/>
        </p:nvSpPr>
        <p:spPr>
          <a:xfrm>
            <a:off x="1734840" y="4067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无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14"/>
          <p:cNvSpPr/>
          <p:nvPr/>
        </p:nvSpPr>
        <p:spPr>
          <a:xfrm>
            <a:off x="7076880" y="4067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还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5"/>
          <p:cNvSpPr/>
          <p:nvPr/>
        </p:nvSpPr>
        <p:spPr>
          <a:xfrm>
            <a:off x="3033360" y="515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如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6"/>
          <p:cNvSpPr/>
          <p:nvPr/>
        </p:nvSpPr>
        <p:spPr>
          <a:xfrm>
            <a:off x="1954080" y="573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9"/>
          <p:cNvSpPr/>
          <p:nvPr/>
        </p:nvSpPr>
        <p:spPr>
          <a:xfrm>
            <a:off x="611280" y="1197000"/>
            <a:ext cx="78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轻的店员问：“你觉得我们台湾怎么样？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改成第三人称转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台湾同胞的热情、友好、礼貌时时让人觉得如沐春风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缩写句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这次主题教育活动，受益匪浅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修改病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0"/>
          <p:cNvSpPr/>
          <p:nvPr/>
        </p:nvSpPr>
        <p:spPr>
          <a:xfrm>
            <a:off x="1154160" y="5683320"/>
            <a:ext cx="59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通过这次主题教育活动，我们受益匪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1"/>
          <p:cNvSpPr/>
          <p:nvPr/>
        </p:nvSpPr>
        <p:spPr>
          <a:xfrm>
            <a:off x="1116000" y="2919240"/>
            <a:ext cx="57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年轻的店员问我觉得他们台湾怎么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2"/>
          <p:cNvSpPr/>
          <p:nvPr/>
        </p:nvSpPr>
        <p:spPr>
          <a:xfrm>
            <a:off x="1154160" y="4560840"/>
            <a:ext cx="59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热情、友好、礼貌让人觉得如沐春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6"/>
          <p:cNvSpPr/>
          <p:nvPr/>
        </p:nvSpPr>
        <p:spPr>
          <a:xfrm>
            <a:off x="866880" y="258588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；理解“千叮咛，万嘱咐”等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学习作者运用的“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总”结构写法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8"/>
          <p:cNvSpPr/>
          <p:nvPr/>
        </p:nvSpPr>
        <p:spPr>
          <a:xfrm>
            <a:off x="2489040" y="2981160"/>
            <a:ext cx="6337440" cy="316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咛   簿   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2370960" y="268272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ín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4001760" y="272268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476680" y="2728800"/>
            <a:ext cx="8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ī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0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0" descr=""/>
          <p:cNvPicPr/>
          <p:nvPr/>
        </p:nvPicPr>
        <p:blipFill>
          <a:blip r:embed="rId3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76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Box 1"/>
          <p:cNvSpPr/>
          <p:nvPr/>
        </p:nvSpPr>
        <p:spPr>
          <a:xfrm>
            <a:off x="952560" y="3073320"/>
            <a:ext cx="81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叮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咛　 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繁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照相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簿   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缘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10"/>
          <p:cNvSpPr/>
          <p:nvPr/>
        </p:nvSpPr>
        <p:spPr>
          <a:xfrm>
            <a:off x="1151280" y="248904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í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330640" y="2489040"/>
            <a:ext cx="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í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3"/>
          <p:cNvSpPr/>
          <p:nvPr/>
        </p:nvSpPr>
        <p:spPr>
          <a:xfrm>
            <a:off x="4537800" y="2506680"/>
            <a:ext cx="7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5491080" y="2506680"/>
            <a:ext cx="9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xu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7423200" y="2506680"/>
            <a:ext cx="6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g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86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TextBox 1"/>
          <p:cNvSpPr/>
          <p:nvPr/>
        </p:nvSpPr>
        <p:spPr>
          <a:xfrm>
            <a:off x="1514520" y="3359160"/>
            <a:ext cx="5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18"/>
          <p:cNvGrpSpPr/>
          <p:nvPr/>
        </p:nvGrpSpPr>
        <p:grpSpPr>
          <a:xfrm>
            <a:off x="1960560" y="3006720"/>
            <a:ext cx="2757600" cy="1191240"/>
            <a:chOff x="1960560" y="3006720"/>
            <a:chExt cx="2757600" cy="1191240"/>
          </a:xfrm>
        </p:grpSpPr>
        <p:sp>
          <p:nvSpPr>
            <p:cNvPr id="91" name="左大括号 19"/>
            <p:cNvSpPr/>
            <p:nvPr/>
          </p:nvSpPr>
          <p:spPr>
            <a:xfrm>
              <a:off x="1960560" y="31701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20"/>
            <p:cNvSpPr/>
            <p:nvPr/>
          </p:nvSpPr>
          <p:spPr>
            <a:xfrm>
              <a:off x="2111040" y="3006720"/>
              <a:ext cx="260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ǐn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尽管　尽快）</a:t>
              </a: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ìn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尽是　尽头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TextBox 13"/>
          <p:cNvSpPr/>
          <p:nvPr/>
        </p:nvSpPr>
        <p:spPr>
          <a:xfrm>
            <a:off x="4932360" y="3382920"/>
            <a:ext cx="5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组合 22"/>
          <p:cNvGrpSpPr/>
          <p:nvPr/>
        </p:nvGrpSpPr>
        <p:grpSpPr>
          <a:xfrm>
            <a:off x="5394240" y="3014640"/>
            <a:ext cx="3000600" cy="1191240"/>
            <a:chOff x="5394240" y="3014640"/>
            <a:chExt cx="3000600" cy="1191240"/>
          </a:xfrm>
        </p:grpSpPr>
        <p:sp>
          <p:nvSpPr>
            <p:cNvPr id="95" name="左大括号 23"/>
            <p:cNvSpPr/>
            <p:nvPr/>
          </p:nvSpPr>
          <p:spPr>
            <a:xfrm>
              <a:off x="5394240" y="3170160"/>
              <a:ext cx="163800" cy="951120"/>
            </a:xfrm>
            <a:custGeom>
              <a:avLst/>
              <a:gdLst>
                <a:gd name="textAreaLeft" fmla="*/ 104760 w 163800"/>
                <a:gd name="textAreaRight" fmla="*/ 164160 w 163800"/>
                <a:gd name="textAreaTop" fmla="*/ 3600 h 951120"/>
                <a:gd name="textAreaBottom" fmla="*/ 947520 h 95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6"/>
                  </a:cubicBezTo>
                  <a:lnTo>
                    <a:pt x="10800" y="10514"/>
                  </a:lnTo>
                  <a:cubicBezTo>
                    <a:pt x="10800" y="10657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6"/>
                  </a:cubicBezTo>
                  <a:lnTo>
                    <a:pt x="10800" y="21314"/>
                  </a:lnTo>
                  <a:cubicBezTo>
                    <a:pt x="10800" y="2145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24"/>
            <p:cNvSpPr/>
            <p:nvPr/>
          </p:nvSpPr>
          <p:spPr>
            <a:xfrm>
              <a:off x="5557680" y="3014640"/>
              <a:ext cx="2837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òu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露脸　露底）</a:t>
              </a:r>
              <a:r>
                <a:rPr b="1" lang="en-US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lù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露水　雨露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"/>
          <p:cNvSpPr/>
          <p:nvPr/>
        </p:nvSpPr>
        <p:spPr>
          <a:xfrm>
            <a:off x="958680" y="2028960"/>
            <a:ext cx="7456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驻点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叮咛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攀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阻隔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脉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99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矩形 1"/>
          <p:cNvSpPr/>
          <p:nvPr/>
        </p:nvSpPr>
        <p:spPr>
          <a:xfrm>
            <a:off x="1817640" y="2035080"/>
            <a:ext cx="6645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停留在一处；蹲点。文中指停留在台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反复地嘱咐。文中指台湾同胞反复地嘱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早上上学时，妈妈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叮咛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我路上注意安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拉扯闲谈。文中指司机和记者闲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晚饭后，街坊邻居在树下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攀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两地之间不能相通或不易来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中医指人体内的血管或血液循环。②血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"/>
          <p:cNvSpPr/>
          <p:nvPr/>
        </p:nvSpPr>
        <p:spPr>
          <a:xfrm>
            <a:off x="644400" y="1808280"/>
            <a:ext cx="7456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如沐春风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眉飞色舞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沉默寡言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淋漓尽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见如故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05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矩形 1"/>
          <p:cNvSpPr/>
          <p:nvPr/>
        </p:nvSpPr>
        <p:spPr>
          <a:xfrm>
            <a:off x="1913040" y="1814400"/>
            <a:ext cx="6645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就像沐浴在春风里面，形容心情愉快舒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造句：听了他的讲座，我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如沐春风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形容喜悦或得意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造句：说到得意的地方，他不禁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眉飞色舞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指不爱说笑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造句：小明平时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沉默寡言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，大家都不太了解他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形容文章或谈话详尽透彻，也指暴露得很彻底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造句：诗人在字里行间把自己的思念之情表达得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淋漓尽致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初次见面就很相投，像老朋友一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造句：我跟伟东真是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Calibri"/>
              </a:rPr>
              <a:t>一见如故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，特别能谈得来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0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矩形 1"/>
          <p:cNvSpPr/>
          <p:nvPr/>
        </p:nvSpPr>
        <p:spPr>
          <a:xfrm>
            <a:off x="3998160" y="18162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热情　热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8"/>
          <p:cNvSpPr/>
          <p:nvPr/>
        </p:nvSpPr>
        <p:spPr>
          <a:xfrm>
            <a:off x="2197080" y="2355840"/>
            <a:ext cx="625788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都有感情热烈的意思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热情”侧重于对待人的热烈的情意。“热心”侧重于对事情有兴趣，肯尽力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大年初三我和弟弟去姑姑家拜年，姑姑一家人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热情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地接待了我们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他功成名就后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热心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于公益事业，给好多地方送去了无偿援助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组合 4"/>
          <p:cNvGrpSpPr/>
          <p:nvPr/>
        </p:nvGrpSpPr>
        <p:grpSpPr>
          <a:xfrm>
            <a:off x="716040" y="2421000"/>
            <a:ext cx="1670040" cy="459720"/>
            <a:chOff x="716040" y="2421000"/>
            <a:chExt cx="1670040" cy="459720"/>
          </a:xfrm>
        </p:grpSpPr>
        <p:pic>
          <p:nvPicPr>
            <p:cNvPr id="116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716040" y="247536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3"/>
            <p:cNvSpPr/>
            <p:nvPr/>
          </p:nvSpPr>
          <p:spPr>
            <a:xfrm>
              <a:off x="1059120" y="242100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组合 20"/>
          <p:cNvGrpSpPr/>
          <p:nvPr/>
        </p:nvGrpSpPr>
        <p:grpSpPr>
          <a:xfrm>
            <a:off x="716040" y="3051000"/>
            <a:ext cx="1670040" cy="459720"/>
            <a:chOff x="716040" y="3051000"/>
            <a:chExt cx="1670040" cy="459720"/>
          </a:xfrm>
        </p:grpSpPr>
        <p:pic>
          <p:nvPicPr>
            <p:cNvPr id="119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716040" y="310536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Box 22"/>
            <p:cNvSpPr/>
            <p:nvPr/>
          </p:nvSpPr>
          <p:spPr>
            <a:xfrm>
              <a:off x="1059120" y="305100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组合 23"/>
          <p:cNvGrpSpPr/>
          <p:nvPr/>
        </p:nvGrpSpPr>
        <p:grpSpPr>
          <a:xfrm>
            <a:off x="716040" y="4172040"/>
            <a:ext cx="1670040" cy="459720"/>
            <a:chOff x="716040" y="4172040"/>
            <a:chExt cx="1670040" cy="459720"/>
          </a:xfrm>
        </p:grpSpPr>
        <p:pic>
          <p:nvPicPr>
            <p:cNvPr id="122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716040" y="42264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25"/>
            <p:cNvSpPr/>
            <p:nvPr/>
          </p:nvSpPr>
          <p:spPr>
            <a:xfrm>
              <a:off x="1059120" y="41720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3"/>
          <p:cNvSpPr/>
          <p:nvPr/>
        </p:nvSpPr>
        <p:spPr>
          <a:xfrm>
            <a:off x="736560" y="1692360"/>
            <a:ext cx="76993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2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2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200" spc="-1" strike="noStrike">
                <a:solidFill>
                  <a:srgbClr val="c00000"/>
                </a:solidFill>
                <a:latin typeface="Calibri"/>
              </a:rPr>
              <a:t>常遇感动。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写作者在台湾采访时感受到了台湾同胞的热情、友好、礼貌和尽在不言中的亲情、友爱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2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2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200" spc="-1" strike="noStrike">
                <a:solidFill>
                  <a:srgbClr val="00b0f0"/>
                </a:solidFill>
                <a:latin typeface="黑体"/>
                <a:ea typeface="黑体"/>
              </a:rPr>
              <a:t>5</a:t>
            </a:r>
            <a:r>
              <a:rPr b="1" lang="zh-CN" sz="22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200" spc="-1" strike="noStrike">
                <a:solidFill>
                  <a:srgbClr val="c00000"/>
                </a:solidFill>
                <a:latin typeface="Calibri"/>
              </a:rPr>
              <a:t>充满好奇。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通过几件事表现台湾民众对大陆充满了好奇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b0f0"/>
                </a:solidFill>
                <a:latin typeface="黑体"/>
                <a:ea typeface="黑体"/>
              </a:rPr>
              <a:t>第三部分（第</a:t>
            </a:r>
            <a:r>
              <a:rPr b="1" lang="en-US" sz="2200" spc="-1" strike="noStrike">
                <a:solidFill>
                  <a:srgbClr val="00b0f0"/>
                </a:solidFill>
                <a:latin typeface="黑体"/>
                <a:ea typeface="黑体"/>
              </a:rPr>
              <a:t>6</a:t>
            </a:r>
            <a:r>
              <a:rPr b="1" lang="zh-CN" sz="22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200" spc="-1" strike="noStrike">
                <a:solidFill>
                  <a:srgbClr val="00b0f0"/>
                </a:solidFill>
                <a:latin typeface="黑体"/>
                <a:ea typeface="黑体"/>
              </a:rPr>
              <a:t>8</a:t>
            </a:r>
            <a:r>
              <a:rPr b="1" lang="zh-CN" sz="22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200" spc="-1" strike="noStrike">
                <a:solidFill>
                  <a:srgbClr val="c00000"/>
                </a:solidFill>
                <a:latin typeface="Calibri"/>
              </a:rPr>
              <a:t>热情待客。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写台湾民众对记者的热情接待和真诚陪伴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b0f0"/>
                </a:solidFill>
                <a:latin typeface="黑体"/>
                <a:ea typeface="黑体"/>
              </a:rPr>
              <a:t>第四部分（第</a:t>
            </a:r>
            <a:r>
              <a:rPr b="1" lang="en-US" sz="2200" spc="-1" strike="noStrike">
                <a:solidFill>
                  <a:srgbClr val="00b0f0"/>
                </a:solidFill>
                <a:latin typeface="黑体"/>
                <a:ea typeface="黑体"/>
              </a:rPr>
              <a:t>9</a:t>
            </a:r>
            <a:r>
              <a:rPr b="1" lang="zh-CN" sz="22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200" spc="-1" strike="noStrike">
                <a:solidFill>
                  <a:srgbClr val="c00000"/>
                </a:solidFill>
                <a:latin typeface="Calibri"/>
              </a:rPr>
              <a:t>亲如一家。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总写两岸亲情隔不断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30T07:33:42Z</dcterms:modified>
  <cp:revision>4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