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86278-D544-41E3-9179-D3E5DDF2E8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4559C-A881-43F9-8D5A-A281032328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0A1FE-F36E-4F22-9661-9CA959E087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15824-7621-4A7E-B251-BD43DCA6AC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A91-4222-420C-93C8-4E488735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35B-E51D-43D8-A5D6-6AE3C945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565-86D4-48F6-B994-14FC34F1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6CA-E019-45F8-962F-5566B534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7D1-E6A0-43F7-9F92-5BFEBB5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7D9-6819-4595-B096-F199A1F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97D-6BF5-4EDF-A53D-8187222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9D0-4088-47EB-9AEA-9D359DD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21D-0858-4DE5-B29F-39900C6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3C7-A870-44F5-B6AF-3B651D30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DCB-2E21-4D5B-BE45-07CF68EE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81E-AFC6-4C60-9A68-CC7BD21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7936E-35F4-4745-8DBE-56F24EE443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https://timgsa.baidu.com/timg?image&amp;quality=80&amp;size=b9999_10000&amp;sec=1495960348360&amp;di=a1289561ab8724eb4c5b886e67555dd7&amp;imgtype=0&amp;src=http%3A%2F%2Fepaper.file.routeryun.com%2Fjrla%2F2016-10-31%2F5815f8ac2caa3.jpg"/>
          <p:cNvPicPr/>
          <p:nvPr/>
        </p:nvPicPr>
        <p:blipFill>
          <a:blip r:embed="rId1"/>
          <a:stretch/>
        </p:blipFill>
        <p:spPr>
          <a:xfrm>
            <a:off x="2109960" y="2189160"/>
            <a:ext cx="4924080" cy="32734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900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18000" y="5640480"/>
              <a:ext cx="189000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56800" y="5640480"/>
              <a:ext cx="189000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18360" y="5915160"/>
              <a:ext cx="166320" cy="2124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59320" y="5915160"/>
              <a:ext cx="166320" cy="2124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2979720" y="3159000"/>
            <a:ext cx="3186000" cy="1150920"/>
            <a:chOff x="297972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203640" y="3159000"/>
              <a:ext cx="2724840" cy="11509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883680" y="3247920"/>
              <a:ext cx="90972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2979720" y="3206160"/>
              <a:ext cx="3186000" cy="86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"/>
          <p:cNvSpPr/>
          <p:nvPr/>
        </p:nvSpPr>
        <p:spPr>
          <a:xfrm>
            <a:off x="2349360" y="1011240"/>
            <a:ext cx="44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悠悠的小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示 7" descr=""/>
          <p:cNvPicPr/>
          <p:nvPr/>
        </p:nvPicPr>
        <p:blipFill>
          <a:blip r:embed="rId1"/>
          <a:stretch/>
        </p:blipFill>
        <p:spPr>
          <a:xfrm>
            <a:off x="871560" y="1096920"/>
            <a:ext cx="3097080" cy="105588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"/>
          <p:cNvSpPr/>
          <p:nvPr/>
        </p:nvSpPr>
        <p:spPr>
          <a:xfrm>
            <a:off x="1017720" y="289404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悠悠的小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文主人公是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王老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课文按事情发展的顺序写了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免费摆渡、收费摆渡、捐钱修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件事，赞美了王老五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默默无闻，为民造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优秀品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835200" y="231948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着说一下本文的主要内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7167"/>
          <p:cNvSpPr/>
          <p:nvPr/>
        </p:nvSpPr>
        <p:spPr>
          <a:xfrm>
            <a:off x="911160" y="239544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面加点字注音全部正确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潺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娴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轻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í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嘁嘁喳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夙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三两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6476760" y="236844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357280" y="3627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6392880" y="30672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8"/>
          <p:cNvSpPr/>
          <p:nvPr/>
        </p:nvSpPr>
        <p:spPr>
          <a:xfrm>
            <a:off x="4255920" y="3070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9"/>
          <p:cNvSpPr/>
          <p:nvPr/>
        </p:nvSpPr>
        <p:spPr>
          <a:xfrm>
            <a:off x="2085840" y="3068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0"/>
          <p:cNvSpPr/>
          <p:nvPr/>
        </p:nvSpPr>
        <p:spPr>
          <a:xfrm>
            <a:off x="2054880" y="4157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1"/>
          <p:cNvSpPr/>
          <p:nvPr/>
        </p:nvSpPr>
        <p:spPr>
          <a:xfrm>
            <a:off x="5248080" y="3638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2"/>
          <p:cNvSpPr/>
          <p:nvPr/>
        </p:nvSpPr>
        <p:spPr>
          <a:xfrm>
            <a:off x="5202000" y="4199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8"/>
          <p:cNvSpPr/>
          <p:nvPr/>
        </p:nvSpPr>
        <p:spPr>
          <a:xfrm>
            <a:off x="1166760" y="25588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浪花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河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议论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身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963440" y="321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轻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5347800" y="3240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哗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1780560" y="375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七嘴八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5330520" y="36669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忙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8"/>
          <p:cNvSpPr/>
          <p:nvPr/>
        </p:nvSpPr>
        <p:spPr>
          <a:xfrm>
            <a:off x="1150920" y="23511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打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幸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1989360" y="299736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风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621400" y="29973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2268720" y="357336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嘴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207120" y="344484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乐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"/>
          <p:cNvSpPr/>
          <p:nvPr/>
        </p:nvSpPr>
        <p:spPr>
          <a:xfrm>
            <a:off x="611280" y="127944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字选择正确的解释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快：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跟“慢”相对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赶紧，从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将，就要，接近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高兴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锋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快黑了，你们回家去吧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师卫生部长要求白求恩赶快离开阵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小刀可真快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议论很快便过去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宁十分喜欢这三只欢快的灰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4340160" y="456732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5227920" y="30272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787800" y="3562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4042440" y="4105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8"/>
          <p:cNvSpPr/>
          <p:nvPr/>
        </p:nvSpPr>
        <p:spPr>
          <a:xfrm>
            <a:off x="6200640" y="514044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1595160" y="3068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4636800" y="3624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3124800" y="4157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189160" y="4716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4282920" y="52768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287280" y="1149480"/>
            <a:ext cx="8388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水牛镇被一条月牙形的小河拦腰截断，分成了两半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“把”字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潺潺的河水总是倒映着一条小船繁忙的身影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缩写句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人说，王老五掉进钱眼儿里去了；有人说，不出两年，王老五准成万元户；也有人说，过河收钱太不讲道德了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仿写句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806400" y="5119560"/>
            <a:ext cx="681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自习课上，有人在静静地练字，有人在用心地读书，也有人在无聊地发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797040" y="2616120"/>
            <a:ext cx="759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条月牙形的小河把水牛镇拦腰截断，分成了两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828720" y="3610080"/>
            <a:ext cx="284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河水倒映着身影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163160" y="430380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3404520" y="480384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888480" y="428616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5668560" y="430704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5392080" y="428940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134880" y="480528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2858400" y="478800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1055520" y="2506680"/>
            <a:ext cx="74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掌握多音字“喳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课文的主要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1560" y="1096920"/>
            <a:ext cx="30970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2163600" y="2852640"/>
            <a:ext cx="5026320" cy="13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娴  盈  嘁  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2073240" y="255420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284640" y="259380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664520" y="260028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5713200" y="260496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085840" y="3070080"/>
            <a:ext cx="578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潺　　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嘁嘁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喳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055960" y="2544840"/>
            <a:ext cx="10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4572000" y="254484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0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9"/>
          <p:cNvSpPr/>
          <p:nvPr/>
        </p:nvSpPr>
        <p:spPr>
          <a:xfrm>
            <a:off x="3090960" y="3738600"/>
            <a:ext cx="10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4690440" y="37386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22544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1751040" y="2927520"/>
            <a:ext cx="3274920" cy="1373400"/>
            <a:chOff x="1751040" y="2927520"/>
            <a:chExt cx="3274920" cy="1373400"/>
          </a:xfrm>
        </p:grpSpPr>
        <p:sp>
          <p:nvSpPr>
            <p:cNvPr id="87" name="左大括号 2"/>
            <p:cNvSpPr/>
            <p:nvPr/>
          </p:nvSpPr>
          <p:spPr>
            <a:xfrm>
              <a:off x="1751040" y="3170160"/>
              <a:ext cx="258480" cy="928440"/>
            </a:xfrm>
            <a:custGeom>
              <a:avLst/>
              <a:gdLst>
                <a:gd name="textAreaLeft" fmla="*/ 165240 w 258480"/>
                <a:gd name="textAreaRight" fmla="*/ 258840 w 258480"/>
                <a:gd name="textAreaTop" fmla="*/ 5400 h 928440"/>
                <a:gd name="textAreaBottom" fmla="*/ 9230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"/>
            <p:cNvSpPr/>
            <p:nvPr/>
          </p:nvSpPr>
          <p:spPr>
            <a:xfrm>
              <a:off x="1947600" y="2927520"/>
              <a:ext cx="3078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嘁嘁喳喳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喳喳叫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Box 13"/>
          <p:cNvSpPr/>
          <p:nvPr/>
        </p:nvSpPr>
        <p:spPr>
          <a:xfrm>
            <a:off x="4564080" y="33908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5025960" y="2951280"/>
            <a:ext cx="3549600" cy="1373400"/>
            <a:chOff x="5025960" y="2951280"/>
            <a:chExt cx="3549600" cy="1373400"/>
          </a:xfrm>
        </p:grpSpPr>
        <p:sp>
          <p:nvSpPr>
            <p:cNvPr id="91" name="左大括号 14"/>
            <p:cNvSpPr/>
            <p:nvPr/>
          </p:nvSpPr>
          <p:spPr>
            <a:xfrm>
              <a:off x="5025960" y="317016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5"/>
            <p:cNvSpPr/>
            <p:nvPr/>
          </p:nvSpPr>
          <p:spPr>
            <a:xfrm>
              <a:off x="5160600" y="2951280"/>
              <a:ext cx="34149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答理　答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回答　答谢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1227240" y="183996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娴熟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悠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轻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闭塞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1"/>
          <p:cNvSpPr/>
          <p:nvPr/>
        </p:nvSpPr>
        <p:spPr>
          <a:xfrm>
            <a:off x="2133720" y="1865160"/>
            <a:ext cx="65498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熟练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妈妈编织的手法是那样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娴熟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真令人佩服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悠闲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羊群在草地上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悠然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走来走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身材苗条，动作轻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丽丽在舞台上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轻盈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舞蹈，赢得一阵阵掌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交通不便；偏僻；风气不开。②消息不灵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住在偏远的山区，那里十分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闭塞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老人久不出门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闭塞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得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1258920" y="212400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夙愿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愿以偿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幸灾乐祸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2513160" y="2124000"/>
            <a:ext cx="663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向怀着的愿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考上北京大学是我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夙愿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愿望得以实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暑假，我终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如愿以偿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登上了万里长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对别人遭遇的灾祸感到高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887400" y="16462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辛苦摆渡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王老五常年免费摆渡，水牛镇离不开王老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开始收费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王老五摆渡开始收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为民修桥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人们终于明白了王老五收费的意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3"/>
          <p:cNvSpPr/>
          <p:nvPr/>
        </p:nvSpPr>
        <p:spPr>
          <a:xfrm>
            <a:off x="2873520" y="2519280"/>
            <a:ext cx="3322440" cy="60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图名，不为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4"/>
          <p:cNvSpPr/>
          <p:nvPr/>
        </p:nvSpPr>
        <p:spPr>
          <a:xfrm>
            <a:off x="2873520" y="3192480"/>
            <a:ext cx="3322440" cy="60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默默无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5"/>
          <p:cNvSpPr/>
          <p:nvPr/>
        </p:nvSpPr>
        <p:spPr>
          <a:xfrm>
            <a:off x="2873520" y="3865680"/>
            <a:ext cx="3322440" cy="60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助人为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6"/>
          <p:cNvSpPr/>
          <p:nvPr/>
        </p:nvSpPr>
        <p:spPr>
          <a:xfrm>
            <a:off x="2873520" y="4538520"/>
            <a:ext cx="3322440" cy="60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120960" bIns="1209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私奉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，你认为王老五是一个什么样的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dreamsummit</cp:lastModifiedBy>
  <dcterms:modified xsi:type="dcterms:W3CDTF">2017-12-04T08:28:54Z</dcterms:modified>
  <cp:revision>4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