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gif" ContentType="image/gif"/>
  <Override PartName="/ppt/media/image13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E34FC-DBA3-42C1-87F5-FBCC50C0147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B973B-D7EC-4732-A487-F9381A3BE4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939-5DC9-4EBB-9D90-1562655A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DCC-5D0A-4D35-96AF-C5BE4EBA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12A3-80A1-4A9F-91F2-650B56D9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6CF0-6E9A-4464-AF91-12D7B163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EED6-982A-4761-91C0-7DB5F0D1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C90-8A7A-46D2-BCF0-3B9D3A7A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91D-C2AD-4140-A29C-E4519689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029-65E2-4ED5-8422-AD5E4F5F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B0C-7B64-468D-96C8-66B76A3A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1D2-2ED0-4D44-801F-620935C8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70E-A427-4147-A0DA-631DED49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E82-202C-49F8-B1F0-AF2733BF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C6FCD-BDC0-4E8C-8D16-3168FE0F4CF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1932120" y="2328840"/>
            <a:ext cx="5279760" cy="30718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897200" y="5640480"/>
            <a:ext cx="5349600" cy="717480"/>
            <a:chOff x="1897200" y="5640480"/>
            <a:chExt cx="5349600" cy="717480"/>
          </a:xfrm>
        </p:grpSpPr>
        <p:pic>
          <p:nvPicPr>
            <p:cNvPr id="53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189720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362556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537192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流程图: 摘录 40"/>
            <p:cNvSpPr/>
            <p:nvPr/>
          </p:nvSpPr>
          <p:spPr>
            <a:xfrm rot="5400000">
              <a:off x="362124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流程图: 摘录 41"/>
            <p:cNvSpPr/>
            <p:nvPr/>
          </p:nvSpPr>
          <p:spPr>
            <a:xfrm rot="5400000">
              <a:off x="536976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59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矩形 47" descr=""/>
            <p:cNvPicPr/>
            <p:nvPr/>
          </p:nvPicPr>
          <p:blipFill>
            <a:blip r:embed="rId8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2"/>
          <p:cNvSpPr/>
          <p:nvPr/>
        </p:nvSpPr>
        <p:spPr>
          <a:xfrm>
            <a:off x="2792520" y="1011240"/>
            <a:ext cx="35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黄山云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本框 13"/>
          <p:cNvSpPr/>
          <p:nvPr/>
        </p:nvSpPr>
        <p:spPr>
          <a:xfrm>
            <a:off x="2417760" y="985680"/>
            <a:ext cx="18432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"/>
          <p:cNvSpPr/>
          <p:nvPr/>
        </p:nvSpPr>
        <p:spPr>
          <a:xfrm>
            <a:off x="3963240" y="19828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震撼　震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2162160" y="2522520"/>
            <a:ext cx="625788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都有因受外力作用而动摇不定的意思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震撼”着重指剧烈地大幅度地震动，既可以用于事物，也可以用于人或人心。“震动”侧重指脱离静止状态，程度比“震撼”轻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他无私助人的精神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震撼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了大家的心灵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火车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震动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了一下，就开走了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4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组合 4"/>
          <p:cNvGrpSpPr/>
          <p:nvPr/>
        </p:nvGrpSpPr>
        <p:grpSpPr>
          <a:xfrm>
            <a:off x="681120" y="2587680"/>
            <a:ext cx="1670040" cy="459720"/>
            <a:chOff x="681120" y="2587680"/>
            <a:chExt cx="1670040" cy="459720"/>
          </a:xfrm>
        </p:grpSpPr>
        <p:pic>
          <p:nvPicPr>
            <p:cNvPr id="128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6420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3"/>
            <p:cNvSpPr/>
            <p:nvPr/>
          </p:nvSpPr>
          <p:spPr>
            <a:xfrm>
              <a:off x="1024200" y="25876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20"/>
          <p:cNvGrpSpPr/>
          <p:nvPr/>
        </p:nvGrpSpPr>
        <p:grpSpPr>
          <a:xfrm>
            <a:off x="681120" y="3218040"/>
            <a:ext cx="1670040" cy="459720"/>
            <a:chOff x="681120" y="3218040"/>
            <a:chExt cx="1670040" cy="459720"/>
          </a:xfrm>
        </p:grpSpPr>
        <p:pic>
          <p:nvPicPr>
            <p:cNvPr id="131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2724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22"/>
            <p:cNvSpPr/>
            <p:nvPr/>
          </p:nvSpPr>
          <p:spPr>
            <a:xfrm>
              <a:off x="1024200" y="32180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组合 23"/>
          <p:cNvGrpSpPr/>
          <p:nvPr/>
        </p:nvGrpSpPr>
        <p:grpSpPr>
          <a:xfrm>
            <a:off x="681120" y="4827600"/>
            <a:ext cx="1670040" cy="459720"/>
            <a:chOff x="681120" y="4827600"/>
            <a:chExt cx="1670040" cy="459720"/>
          </a:xfrm>
        </p:grpSpPr>
        <p:pic>
          <p:nvPicPr>
            <p:cNvPr id="134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81120" y="488196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25"/>
            <p:cNvSpPr/>
            <p:nvPr/>
          </p:nvSpPr>
          <p:spPr>
            <a:xfrm>
              <a:off x="1024200" y="482760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"/>
          <p:cNvSpPr/>
          <p:nvPr/>
        </p:nvSpPr>
        <p:spPr>
          <a:xfrm>
            <a:off x="887400" y="1898640"/>
            <a:ext cx="74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小节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印象中的黄山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“我”对黄山的印象：除了画卷和照片上的美景之外，其他都是空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-9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亲见黄山云海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“我”所见到的黄山云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7"/>
          <p:cNvSpPr/>
          <p:nvPr/>
        </p:nvSpPr>
        <p:spPr>
          <a:xfrm>
            <a:off x="1295280" y="2720880"/>
            <a:ext cx="7083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它时而如风平浪静的湖水，时而像波涛诡谲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(jué)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大海，时而轻如丝绢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(juàn)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时而气冲霄汉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5"/>
          <p:cNvSpPr/>
          <p:nvPr/>
        </p:nvSpPr>
        <p:spPr>
          <a:xfrm>
            <a:off x="882720" y="1282680"/>
            <a:ext cx="73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举例说一说文中的那些语句表现了黄山云海的神奇和壮美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41" name="矩形 11"/>
          <p:cNvSpPr/>
          <p:nvPr/>
        </p:nvSpPr>
        <p:spPr>
          <a:xfrm>
            <a:off x="890640" y="2473200"/>
            <a:ext cx="73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者在文中写到了黄山的奇松、怪石和奇幻云海以及云海笼罩下的日出，抒发了作者对黄山美景由衷的赞美和喜爱之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3" name="矩形 13"/>
          <p:cNvSpPr/>
          <p:nvPr/>
        </p:nvSpPr>
        <p:spPr>
          <a:xfrm>
            <a:off x="1393920" y="2327400"/>
            <a:ext cx="71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下列加点字选择正确的读音，画上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头攒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cuá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ǎn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震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hà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gǎn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婀娜多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ā)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巍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ǒ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妩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w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ǔ)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丝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juā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uà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41"/>
          <p:cNvSpPr/>
          <p:nvPr/>
        </p:nvSpPr>
        <p:spPr>
          <a:xfrm>
            <a:off x="2081880" y="316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5"/>
          <p:cNvSpPr/>
          <p:nvPr/>
        </p:nvSpPr>
        <p:spPr>
          <a:xfrm>
            <a:off x="2847240" y="304956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41"/>
          <p:cNvSpPr/>
          <p:nvPr/>
        </p:nvSpPr>
        <p:spPr>
          <a:xfrm>
            <a:off x="5299920" y="3152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41"/>
          <p:cNvSpPr/>
          <p:nvPr/>
        </p:nvSpPr>
        <p:spPr>
          <a:xfrm>
            <a:off x="1459800" y="4262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41"/>
          <p:cNvSpPr/>
          <p:nvPr/>
        </p:nvSpPr>
        <p:spPr>
          <a:xfrm>
            <a:off x="5285520" y="4262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41"/>
          <p:cNvSpPr/>
          <p:nvPr/>
        </p:nvSpPr>
        <p:spPr>
          <a:xfrm>
            <a:off x="1472400" y="371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41"/>
          <p:cNvSpPr/>
          <p:nvPr/>
        </p:nvSpPr>
        <p:spPr>
          <a:xfrm>
            <a:off x="5280840" y="371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24"/>
          <p:cNvSpPr/>
          <p:nvPr/>
        </p:nvSpPr>
        <p:spPr>
          <a:xfrm>
            <a:off x="5742000" y="304956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25"/>
          <p:cNvSpPr/>
          <p:nvPr/>
        </p:nvSpPr>
        <p:spPr>
          <a:xfrm>
            <a:off x="2806200" y="3575160"/>
            <a:ext cx="3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26"/>
          <p:cNvSpPr/>
          <p:nvPr/>
        </p:nvSpPr>
        <p:spPr>
          <a:xfrm>
            <a:off x="5709600" y="3575160"/>
            <a:ext cx="3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27"/>
          <p:cNvSpPr/>
          <p:nvPr/>
        </p:nvSpPr>
        <p:spPr>
          <a:xfrm>
            <a:off x="2189880" y="4157640"/>
            <a:ext cx="4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28"/>
          <p:cNvSpPr/>
          <p:nvPr/>
        </p:nvSpPr>
        <p:spPr>
          <a:xfrm>
            <a:off x="6692040" y="414828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21"/>
          <p:cNvSpPr/>
          <p:nvPr/>
        </p:nvSpPr>
        <p:spPr>
          <a:xfrm>
            <a:off x="1198440" y="1574640"/>
            <a:ext cx="72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在括号里填上恰当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画卷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韵味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大海   消失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显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25"/>
          <p:cNvSpPr/>
          <p:nvPr/>
        </p:nvSpPr>
        <p:spPr>
          <a:xfrm>
            <a:off x="1898280" y="2219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美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26"/>
          <p:cNvSpPr/>
          <p:nvPr/>
        </p:nvSpPr>
        <p:spPr>
          <a:xfrm>
            <a:off x="4963680" y="2219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悠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27"/>
          <p:cNvSpPr/>
          <p:nvPr/>
        </p:nvSpPr>
        <p:spPr>
          <a:xfrm>
            <a:off x="1797840" y="277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波涛汹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28"/>
          <p:cNvSpPr/>
          <p:nvPr/>
        </p:nvSpPr>
        <p:spPr>
          <a:xfrm>
            <a:off x="5780880" y="277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无影无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29"/>
          <p:cNvSpPr/>
          <p:nvPr/>
        </p:nvSpPr>
        <p:spPr>
          <a:xfrm>
            <a:off x="2393280" y="3341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异常清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9"/>
          <p:cNvSpPr/>
          <p:nvPr/>
        </p:nvSpPr>
        <p:spPr>
          <a:xfrm>
            <a:off x="1550880" y="142560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补充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俊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而降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定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风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婀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人    瞬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绝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2400120" y="2019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3309840" y="2019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6"/>
          <p:cNvSpPr/>
          <p:nvPr/>
        </p:nvSpPr>
        <p:spPr>
          <a:xfrm>
            <a:off x="4830480" y="2019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7"/>
          <p:cNvSpPr/>
          <p:nvPr/>
        </p:nvSpPr>
        <p:spPr>
          <a:xfrm>
            <a:off x="5757840" y="2019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8"/>
          <p:cNvSpPr/>
          <p:nvPr/>
        </p:nvSpPr>
        <p:spPr>
          <a:xfrm>
            <a:off x="2081160" y="2593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19"/>
          <p:cNvSpPr/>
          <p:nvPr/>
        </p:nvSpPr>
        <p:spPr>
          <a:xfrm>
            <a:off x="3309840" y="2593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0"/>
          <p:cNvSpPr/>
          <p:nvPr/>
        </p:nvSpPr>
        <p:spPr>
          <a:xfrm>
            <a:off x="4830480" y="2593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1"/>
          <p:cNvSpPr/>
          <p:nvPr/>
        </p:nvSpPr>
        <p:spPr>
          <a:xfrm>
            <a:off x="5757840" y="2593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2"/>
          <p:cNvSpPr/>
          <p:nvPr/>
        </p:nvSpPr>
        <p:spPr>
          <a:xfrm>
            <a:off x="2400120" y="3133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3"/>
          <p:cNvSpPr/>
          <p:nvPr/>
        </p:nvSpPr>
        <p:spPr>
          <a:xfrm>
            <a:off x="3309840" y="3133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4"/>
          <p:cNvSpPr/>
          <p:nvPr/>
        </p:nvSpPr>
        <p:spPr>
          <a:xfrm>
            <a:off x="5483160" y="3133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25"/>
          <p:cNvSpPr/>
          <p:nvPr/>
        </p:nvSpPr>
        <p:spPr>
          <a:xfrm>
            <a:off x="6374520" y="3133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6"/>
          <p:cNvSpPr/>
          <p:nvPr/>
        </p:nvSpPr>
        <p:spPr>
          <a:xfrm>
            <a:off x="1776240" y="3679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7"/>
          <p:cNvSpPr/>
          <p:nvPr/>
        </p:nvSpPr>
        <p:spPr>
          <a:xfrm>
            <a:off x="2709720" y="3679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28"/>
          <p:cNvSpPr/>
          <p:nvPr/>
        </p:nvSpPr>
        <p:spPr>
          <a:xfrm>
            <a:off x="5483160" y="3679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29"/>
          <p:cNvSpPr/>
          <p:nvPr/>
        </p:nvSpPr>
        <p:spPr>
          <a:xfrm>
            <a:off x="6374520" y="3679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0"/>
          <p:cNvSpPr/>
          <p:nvPr/>
        </p:nvSpPr>
        <p:spPr>
          <a:xfrm>
            <a:off x="1776240" y="422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31"/>
          <p:cNvSpPr/>
          <p:nvPr/>
        </p:nvSpPr>
        <p:spPr>
          <a:xfrm>
            <a:off x="2709720" y="422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8"/>
          <p:cNvSpPr/>
          <p:nvPr/>
        </p:nvSpPr>
        <p:spPr>
          <a:xfrm>
            <a:off x="755640" y="1171440"/>
            <a:ext cx="777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选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变化多端　　变幻不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云海以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身影赋予这座名山以神奇的色彩，使它显得更加妩媚动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猫的叫声丰富多腔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震撼　　震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更为日出时那滔滔的云海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声炮响，大地剧烈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起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9"/>
          <p:cNvSpPr/>
          <p:nvPr/>
        </p:nvSpPr>
        <p:spPr>
          <a:xfrm>
            <a:off x="3171240" y="23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变幻不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0"/>
          <p:cNvSpPr/>
          <p:nvPr/>
        </p:nvSpPr>
        <p:spPr>
          <a:xfrm>
            <a:off x="5042880" y="3462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变化多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5779800" y="456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震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2"/>
          <p:cNvSpPr/>
          <p:nvPr/>
        </p:nvSpPr>
        <p:spPr>
          <a:xfrm>
            <a:off x="4916160" y="5148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震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9"/>
          <p:cNvSpPr/>
          <p:nvPr/>
        </p:nvSpPr>
        <p:spPr>
          <a:xfrm>
            <a:off x="826920" y="1069920"/>
            <a:ext cx="756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按要求改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美丽的黄山多了几分神秘的韵味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缩写句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人都说黄山是人间仙境，仙境怎能离得开浩瀚的云海呢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成陈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黄山云雾浮动着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成拟人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2318400" y="22971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黄山多了韵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1"/>
          <p:cNvSpPr/>
          <p:nvPr/>
        </p:nvSpPr>
        <p:spPr>
          <a:xfrm>
            <a:off x="1308240" y="3816360"/>
            <a:ext cx="63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人人都说黄山是人间仙境，仙境离不开浩瀚的云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2"/>
          <p:cNvSpPr/>
          <p:nvPr/>
        </p:nvSpPr>
        <p:spPr>
          <a:xfrm>
            <a:off x="1308240" y="5576760"/>
            <a:ext cx="49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黄山云雾扭动着婀娜多姿的身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6"/>
          <p:cNvSpPr/>
          <p:nvPr/>
        </p:nvSpPr>
        <p:spPr>
          <a:xfrm>
            <a:off x="866880" y="25020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认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要求会认的生字，理解“盘曲、陶醉、巍峨、苍劲、妩媚、婀娜多姿”等词语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任意多边形 8"/>
          <p:cNvSpPr/>
          <p:nvPr/>
        </p:nvSpPr>
        <p:spPr>
          <a:xfrm>
            <a:off x="1706400" y="25686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攒       绢      婀撼       峨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3"/>
          <p:cNvSpPr/>
          <p:nvPr/>
        </p:nvSpPr>
        <p:spPr>
          <a:xfrm>
            <a:off x="1518120" y="2270160"/>
            <a:ext cx="12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á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260600" y="230976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uà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7167240" y="2381400"/>
            <a:ext cx="4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0"/>
          <p:cNvSpPr/>
          <p:nvPr/>
        </p:nvSpPr>
        <p:spPr>
          <a:xfrm>
            <a:off x="1672560" y="3438360"/>
            <a:ext cx="10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à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11"/>
          <p:cNvSpPr/>
          <p:nvPr/>
        </p:nvSpPr>
        <p:spPr>
          <a:xfrm>
            <a:off x="4714560" y="3532320"/>
            <a:ext cx="4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12"/>
          <p:cNvSpPr/>
          <p:nvPr/>
        </p:nvSpPr>
        <p:spPr>
          <a:xfrm>
            <a:off x="6955920" y="3564000"/>
            <a:ext cx="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w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4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0" descr=""/>
          <p:cNvPicPr/>
          <p:nvPr/>
        </p:nvPicPr>
        <p:blipFill>
          <a:blip r:embed="rId3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1108080" y="3008160"/>
            <a:ext cx="758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苍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劲　　　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人头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攒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动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　　诧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波涛诡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谲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巍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1598400" y="25290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4"/>
          <p:cNvSpPr/>
          <p:nvPr/>
        </p:nvSpPr>
        <p:spPr>
          <a:xfrm>
            <a:off x="4566240" y="2560680"/>
            <a:ext cx="11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83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矩形 9"/>
          <p:cNvSpPr/>
          <p:nvPr/>
        </p:nvSpPr>
        <p:spPr>
          <a:xfrm>
            <a:off x="6629400" y="255600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10"/>
          <p:cNvSpPr/>
          <p:nvPr/>
        </p:nvSpPr>
        <p:spPr>
          <a:xfrm>
            <a:off x="2682000" y="3763800"/>
            <a:ext cx="8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u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5257080" y="374004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820880" y="3359160"/>
            <a:ext cx="5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4"/>
          <p:cNvGrpSpPr/>
          <p:nvPr/>
        </p:nvGrpSpPr>
        <p:grpSpPr>
          <a:xfrm>
            <a:off x="2346480" y="2770200"/>
            <a:ext cx="4302000" cy="1556280"/>
            <a:chOff x="2346480" y="2770200"/>
            <a:chExt cx="4302000" cy="1556280"/>
          </a:xfrm>
        </p:grpSpPr>
        <p:sp>
          <p:nvSpPr>
            <p:cNvPr id="91" name="左大括号 2"/>
            <p:cNvSpPr/>
            <p:nvPr/>
          </p:nvSpPr>
          <p:spPr>
            <a:xfrm>
              <a:off x="2346480" y="31701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"/>
            <p:cNvSpPr/>
            <p:nvPr/>
          </p:nvSpPr>
          <p:spPr>
            <a:xfrm>
              <a:off x="2560680" y="2770200"/>
              <a:ext cx="4087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fú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（仿佛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fó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（大佛　佛经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94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"/>
          <p:cNvSpPr/>
          <p:nvPr/>
        </p:nvSpPr>
        <p:spPr>
          <a:xfrm>
            <a:off x="1274760" y="1824120"/>
            <a:ext cx="74563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盘曲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陶醉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巍峨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99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矩形 1"/>
          <p:cNvSpPr/>
          <p:nvPr/>
        </p:nvSpPr>
        <p:spPr>
          <a:xfrm>
            <a:off x="2085840" y="1830240"/>
            <a:ext cx="59547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环绕弯曲。文中指黄山松环绕弯曲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一条山路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盘曲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而上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很满意地沉浸在某种境界或思想活动中。文中指作者为黄山的奇丽景色所吸引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听众们都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陶醉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在他那优美的钢琴声中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山或建筑物高大雄伟。文中指黄山高大而雄伟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泰山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巍峨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挺拔，吸引着中外游客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"/>
          <p:cNvSpPr/>
          <p:nvPr/>
        </p:nvSpPr>
        <p:spPr>
          <a:xfrm>
            <a:off x="1258920" y="1808280"/>
            <a:ext cx="745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苍劲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妩媚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05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矩形 1"/>
          <p:cNvSpPr/>
          <p:nvPr/>
        </p:nvSpPr>
        <p:spPr>
          <a:xfrm>
            <a:off x="2070000" y="1830240"/>
            <a:ext cx="629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①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树木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苍老挺拔。②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书法、绘画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老练而雄健有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①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苍劲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古松屹立在山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他的字写得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苍劲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有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女子、花木等姿态美好可爱。文中指黄山的姿态美好可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在灯光的照射下，她更加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妩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动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"/>
          <p:cNvSpPr/>
          <p:nvPr/>
        </p:nvSpPr>
        <p:spPr>
          <a:xfrm>
            <a:off x="942840" y="1808280"/>
            <a:ext cx="745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婀娜多姿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姿态万千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1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矩形 1"/>
          <p:cNvSpPr/>
          <p:nvPr/>
        </p:nvSpPr>
        <p:spPr>
          <a:xfrm>
            <a:off x="2419200" y="1809720"/>
            <a:ext cx="629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女子或花木轻盈柔美的姿态。文中指黄山的云海轻柔而美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舞蹈演员们个个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婀娜多姿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指有各种各样的姿态，形容姿态多。文中指黄山石的姿态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花园里的花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姿态万千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五光十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"/>
          <p:cNvSpPr/>
          <p:nvPr/>
        </p:nvSpPr>
        <p:spPr>
          <a:xfrm>
            <a:off x="942840" y="1808280"/>
            <a:ext cx="745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头攒动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秘莫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7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矩形 1"/>
          <p:cNvSpPr/>
          <p:nvPr/>
        </p:nvSpPr>
        <p:spPr>
          <a:xfrm>
            <a:off x="2419200" y="1857240"/>
            <a:ext cx="629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人很多，且频繁地在移动。文中指半山寺门口的人特别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春运期间，火车站候车厅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人头攒动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非常神秘，不可推测。文中指黄山的云海变化神速，不可推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雅鲁藏布大峡谷，映衬着雪山冰川和郁郁苍苍的原始林海，云遮雾绕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神秘莫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30T11:32:29Z</dcterms:modified>
  <cp:revision>4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