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A030E-A45C-4616-B660-64C1A6F8EF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B4087-C649-40FA-8A21-61ACEDDFF9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1CD03-F836-4CE2-8C63-7849475960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21A2E-5EB2-4180-86F0-4EA7A21271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97F2C-51F9-45BB-8DBD-68094B5084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9DD-0343-453B-AE51-FC8A5C7C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6BB-8FFC-480D-8759-8BDFF84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620-6BD4-42E6-BE7D-B61DCFC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982-940A-41D6-9D55-799008E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A60-FBB3-4DCA-A0FE-80F98B8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FE7-A33C-4501-B277-EACACE21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654-40E4-4FF3-9F87-00E2B21B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660-FA8A-4483-A958-06CA9D36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EC1-FC55-4952-AA11-B6B36099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E0F-FE1F-4D71-9573-5D6BAAD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A85-7283-4A84-996F-91F268A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6D3-D5C4-48B4-A8C5-4683723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3DDCB-259D-49F8-8C92-4A0D6B7CDE3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540160" y="2170080"/>
            <a:ext cx="4063680" cy="3262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2979720" y="3159000"/>
            <a:ext cx="3186000" cy="1150920"/>
            <a:chOff x="297972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20400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88548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297972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184480" y="1011240"/>
            <a:ext cx="477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上将与下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782640" y="229068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面对士兵抬石块这件事，下士是怎么做的，可见他是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182600" y="352440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士的表现是：只是空喊口号，自己的双手连石块的边儿都没碰一下。可以看出他是一个高高在上、等级观念严重、只会指挥他人而不肯以身作则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内容占位符 2"/>
          <p:cNvSpPr/>
          <p:nvPr/>
        </p:nvSpPr>
        <p:spPr>
          <a:xfrm>
            <a:off x="635040" y="156996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625320" y="1579680"/>
            <a:ext cx="7847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对士兵抬石块这件事，华盛顿是怎样做的？可见他是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903240" y="2820960"/>
            <a:ext cx="76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盛顿的做法是：疾步跑上前去，用他强劲的臂膀顶住石块，帮助士兵克服困难。可以看出他是一个身先士卒、以身作则、关心士兵、与下属同甘共苦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内容占位符 2"/>
          <p:cNvSpPr/>
          <p:nvPr/>
        </p:nvSpPr>
        <p:spPr>
          <a:xfrm>
            <a:off x="750960" y="142560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文章运用对比写“上将”与“下士”在处理事情方式上的不同有什么作用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1065240" y="2440080"/>
            <a:ext cx="71643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下士的袖手旁观与华盛顿的主动相助形成鲜明的对比，更加衬托出华盛顿身先士卒、关心士兵、与下属同甘共苦的高贵品质。下士的语言表现了他当时的傲慢无礼、目中无人，而华盛顿虽然对下士的做法不满，但还是用委婉幽默的语言对下士进行了教育，两者态度的对比，表现了华盛顿高超的领导才能，以及对别人的尊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内容占位符 2"/>
          <p:cNvSpPr/>
          <p:nvPr/>
        </p:nvSpPr>
        <p:spPr>
          <a:xfrm>
            <a:off x="790560" y="1701720"/>
            <a:ext cx="7645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学习这篇文章，你得到了怎样的启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157400" y="2365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学习这篇文章我明白了：不论我们身处怎样的位置，只有学会与人为善、尊重别人，才能得到他人发自内心的尊重，如果只是靠权势强迫别人尊重自己，只会得到别人的嘲笑和“虚伪”的尊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7"/>
          <p:cNvSpPr/>
          <p:nvPr/>
        </p:nvSpPr>
        <p:spPr>
          <a:xfrm>
            <a:off x="1469880" y="24591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简介华盛顿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功绩卓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524880" y="1919520"/>
            <a:ext cx="109440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上将与下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6554880" y="3056040"/>
            <a:ext cx="21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真正伟大的人决不会强迫别人尊重自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1"/>
          <p:cNvSpPr/>
          <p:nvPr/>
        </p:nvSpPr>
        <p:spPr>
          <a:xfrm>
            <a:off x="3162240" y="3687840"/>
            <a:ext cx="33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华盛顿和普通人一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华盛顿帮助士兵顶石块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下士受到教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1469880" y="39844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华盛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教育下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左大括号 4"/>
          <p:cNvSpPr/>
          <p:nvPr/>
        </p:nvSpPr>
        <p:spPr>
          <a:xfrm>
            <a:off x="1333440" y="2654280"/>
            <a:ext cx="219240" cy="2170080"/>
          </a:xfrm>
          <a:custGeom>
            <a:avLst/>
            <a:gdLst>
              <a:gd name="textAreaLeft" fmla="*/ 140040 w 219240"/>
              <a:gd name="textAreaRight" fmla="*/ 219600 w 219240"/>
              <a:gd name="textAreaTop" fmla="*/ 5400 h 2170080"/>
              <a:gd name="textAreaBottom" fmla="*/ 216468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"/>
                  <a:pt x="10800" y="182"/>
                </a:cubicBezTo>
                <a:lnTo>
                  <a:pt x="10800" y="10618"/>
                </a:lnTo>
                <a:cubicBezTo>
                  <a:pt x="10800" y="10709"/>
                  <a:pt x="5400" y="10800"/>
                  <a:pt x="0" y="10800"/>
                </a:cubicBezTo>
                <a:cubicBezTo>
                  <a:pt x="5400" y="10800"/>
                  <a:pt x="10800" y="10891"/>
                  <a:pt x="10800" y="10982"/>
                </a:cubicBezTo>
                <a:lnTo>
                  <a:pt x="10800" y="21418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大括号 16"/>
          <p:cNvSpPr/>
          <p:nvPr/>
        </p:nvSpPr>
        <p:spPr>
          <a:xfrm>
            <a:off x="3032280" y="3801960"/>
            <a:ext cx="257040" cy="160200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602000"/>
              <a:gd name="textAreaBottom" fmla="*/ 1595520 h 160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"/>
                  <a:pt x="10800" y="289"/>
                </a:cubicBezTo>
                <a:lnTo>
                  <a:pt x="10800" y="10511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5"/>
                  <a:pt x="10800" y="11089"/>
                </a:cubicBezTo>
                <a:lnTo>
                  <a:pt x="10800" y="21311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左大括号 17"/>
          <p:cNvSpPr/>
          <p:nvPr/>
        </p:nvSpPr>
        <p:spPr>
          <a:xfrm flipH="1">
            <a:off x="6277680" y="2401920"/>
            <a:ext cx="341640" cy="3111480"/>
          </a:xfrm>
          <a:custGeom>
            <a:avLst/>
            <a:gdLst>
              <a:gd name="textAreaLeft" fmla="*/ 217800 w 341640"/>
              <a:gd name="textAreaRight" fmla="*/ 341640 w 341640"/>
              <a:gd name="textAreaTop" fmla="*/ 8640 h 3111480"/>
              <a:gd name="textAreaBottom" fmla="*/ 3102840 h 31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949320" y="2303640"/>
            <a:ext cx="741672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主要讲了士兵们用石块筑街垒时，上将华盛顿和下士表现不同，华盛顿借此身体力行地教育下士的事，从而告诉我们：真正伟大的人决不会强迫别人尊重自己。歌颂了华盛顿与人为善、不倨傲、尊重他人、体贴下属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华盛顿小时候的故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美国开国大总统华盛顿小的时候，是个诚实的孩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一天，父亲送给他一把小斧头。那小斧头新崭崭的，小巧锋利。华盛顿可高兴啦！他想：父亲的大斧头能砍倒大树，我的小斧头能不能砍倒小树呢？我要试一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他看到花园边上有一棵小樱桃树，微风吹得它一摆一摆的，好像在向他招手：“来吧，小华盛顿，在我身上试试你的小斧头吧！”华盛顿高兴地跑过去，举起小斧头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内容占位符 2"/>
          <p:cNvSpPr/>
          <p:nvPr/>
        </p:nvSpPr>
        <p:spPr>
          <a:xfrm>
            <a:off x="996840" y="12286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樱桃树砍去，只听“咯嚓”一声，小树成了两截，躺倒在地上。他又用小斧头将小树的枝叶削去，把小树棍往两腿间一夹，一手举着小斧头，一手扶着小树根，在花园里玩起了骑马打仗的游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一会儿，父亲回来了，看到心爱的樱桃树倒在地上，很生气。他回头问华盛顿：“是谁砍倒了我的树？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华盛顿这才明白自己闯了祸，心想：今天准得挨爸爸揍啦！可他从来不说谎，就对父亲说：“爸爸！是我砍倒了你的樱桃树。我想试一试小斧头快不快。”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内容占位符 2"/>
          <p:cNvSpPr/>
          <p:nvPr/>
        </p:nvSpPr>
        <p:spPr>
          <a:xfrm>
            <a:off x="942840" y="1228680"/>
            <a:ext cx="7518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父亲听了华盛顿的话，不仅没有打他，还一下把他抱起来，高兴地说：“我的好儿子，爸爸宁愿损失一千株樱桃树，也不愿你说一句谎话。爸爸原谅诚实的孩子。不过，以后再也不能随便砍树了。”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这件事过去不久，秋天到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一个早晨，鸟儿在树上唱歌，树叶和花草上的露珠在初升的太阳光中闪烁。华盛顿的爸爸一手拉着小华盛顿，一手拉着他的表哥走进了一片苹果园中，只见一株株苹果树果实累累，压满枝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96840" y="12286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华盛顿的爸爸说：“嗨，儿子，”他指了指满园的果树，“瞧这儿，我的孩子，这许许多多的苹果都是你的。”华盛顿一听高兴地拍起了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爸爸低下头对他说：“你还记得春天表哥来时带来的那个又大又红的苹果吗？”华盛顿一听低下了头，他用脚在松软的泥土上划来划去，不知说什么好。过了一会儿，他抬起头，泪水晶莹地望着爸爸，柔声说：“爸爸，就原谅我这一次吧，我今后再也不那么小气了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25480" y="249084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读课文，积累文中富有启发意义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抓住上将与下士的不同表现，感悟人人平等的道理，学习乔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盛顿平等待人的高尚品质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01800" y="1214280"/>
            <a:ext cx="755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这是怎么回事呢？原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华盛顿的表哥在春天时到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家来做客，带给小华盛顿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个大苹果，爸爸告诉他要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给兄弟姐妹们吃，可华盛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怎么也不肯。爸爸给他讲了许多道理，可华盛顿还是不听，直到后来爸爸对他保证说：“只要你愿意把苹果分给大家一起吃，作为奖赏，万能的上帝就会在秋天送给你许许多多的苹果。”他才将苹果分给了别人。今天，爸爸带他到这儿来，就是要小华盛顿明白一个道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E:\分类文件\冀教、北师、长春、教科共用文件\课件制作所需文件\JK\JK6上\JK六上推荐阅读图片\华盛顿小时候的故事.jpg"/>
          <p:cNvPicPr/>
          <p:nvPr/>
        </p:nvPicPr>
        <p:blipFill>
          <a:blip r:embed="rId1"/>
          <a:stretch/>
        </p:blipFill>
        <p:spPr>
          <a:xfrm>
            <a:off x="4651200" y="1487520"/>
            <a:ext cx="3687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1060560" y="1920960"/>
            <a:ext cx="72342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令率人，不若身先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欧阳修集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欧阳修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仿宋"/>
                <a:ea typeface="仿宋"/>
              </a:rPr>
              <a:t>理解：用命令来统率别人不如以身作则，用行动的力量来统率人。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身教者从，以言教者讼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后汉书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范晔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仿宋"/>
                <a:ea typeface="仿宋"/>
              </a:rPr>
              <a:t>大意：以自己的模范行动教导百姓，百姓就接受你的教化；若只流于言论，说一套做一套，百姓就不接受你的教化，反而生出是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0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1762920" y="239544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以身作则的谚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278000" y="303840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梁不正下梁歪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傅不明徒弟拙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正人先正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6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0" name="矩形 11"/>
          <p:cNvSpPr/>
          <p:nvPr/>
        </p:nvSpPr>
        <p:spPr>
          <a:xfrm>
            <a:off x="1071720" y="2363760"/>
            <a:ext cx="73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以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“上将与下士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题，讲述了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乔治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华盛顿帮士兵抬石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故事。作者抓住上将与下士的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不同表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告诉我们尊重不是强迫得来的，尊重是相互的，只有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尊重别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人才会赢得别人的尊重，无论什么人都不应该强迫别人尊重自己。我们应当以此为信条，不断提高自身修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167"/>
          <p:cNvSpPr/>
          <p:nvPr/>
        </p:nvSpPr>
        <p:spPr>
          <a:xfrm>
            <a:off x="1689120" y="2616120"/>
            <a:ext cx="681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多音字注音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 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1577880" y="38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4670280" y="38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左大括号 17"/>
          <p:cNvSpPr/>
          <p:nvPr/>
        </p:nvSpPr>
        <p:spPr>
          <a:xfrm>
            <a:off x="5099040" y="3387600"/>
            <a:ext cx="155520" cy="13892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389240"/>
              <a:gd name="textAreaBottom" fmla="*/ 1385280 h 138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左大括号 18"/>
          <p:cNvSpPr/>
          <p:nvPr/>
        </p:nvSpPr>
        <p:spPr>
          <a:xfrm>
            <a:off x="2027160" y="3387600"/>
            <a:ext cx="168480" cy="1389240"/>
          </a:xfrm>
          <a:custGeom>
            <a:avLst/>
            <a:gdLst>
              <a:gd name="textAreaLeft" fmla="*/ 107640 w 168480"/>
              <a:gd name="textAreaRight" fmla="*/ 168840 w 168480"/>
              <a:gd name="textAreaTop" fmla="*/ 4320 h 1389240"/>
              <a:gd name="textAreaBottom" fmla="*/ 1384920 h 138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2144520" y="32529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ng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44520" y="38116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ǎng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2151360" y="435600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ng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5371200" y="32796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 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9"/>
          <p:cNvSpPr/>
          <p:nvPr/>
        </p:nvSpPr>
        <p:spPr>
          <a:xfrm>
            <a:off x="5301000" y="3825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ēn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5396400" y="438300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ēn 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矩形 1"/>
          <p:cNvSpPr/>
          <p:nvPr/>
        </p:nvSpPr>
        <p:spPr>
          <a:xfrm>
            <a:off x="3562200" y="32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强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3562200" y="385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勉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3557160" y="439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倔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6646680" y="32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参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6646680" y="385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6673680" y="438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0000" y="189396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下列句子中的错别字，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领导美国人民为了自由，为了独立，浴血愤战，赶走了值民者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的参于很及时，石块终于放好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士明白了：真正伟大的人决不会强迫别人遵重自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6784560" y="4270320"/>
            <a:ext cx="13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1863360" y="3189240"/>
            <a:ext cx="13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1879920" y="3711600"/>
            <a:ext cx="13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6772680" y="2619360"/>
            <a:ext cx="13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3906720" y="3112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奋 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6786360" y="367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17720" y="475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"/>
          <p:cNvSpPr/>
          <p:nvPr/>
        </p:nvSpPr>
        <p:spPr>
          <a:xfrm>
            <a:off x="1044720" y="1341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热情　热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乔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华盛顿普通得和你一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成功与其说取决于人的才能，不如说取决于人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尊重　尊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人是一种美好的品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张老师是一个受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6202080" y="25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热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35000" y="362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热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1954080" y="4753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尊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360680" y="531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尊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3"/>
          <p:cNvSpPr/>
          <p:nvPr/>
        </p:nvSpPr>
        <p:spPr>
          <a:xfrm>
            <a:off x="914400" y="200664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难道你看不出我是这里的下士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华盛顿是美利坚合众国的第一任总统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1363680" y="318600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应该看得出我是这里的下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2364480" y="43164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华盛顿是总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574560" y="932040"/>
            <a:ext cx="8105760" cy="5509800"/>
            <a:chOff x="574560" y="932040"/>
            <a:chExt cx="8105760" cy="5509800"/>
          </a:xfrm>
        </p:grpSpPr>
        <p:sp>
          <p:nvSpPr>
            <p:cNvPr id="70" name="圆角矩形 4"/>
            <p:cNvSpPr/>
            <p:nvPr/>
          </p:nvSpPr>
          <p:spPr>
            <a:xfrm>
              <a:off x="628200" y="3616560"/>
              <a:ext cx="320688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面对士兵抬石块这件事，下士是怎么做的，可见他是个怎样的人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388944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面对士兵抬石块这件事，华盛顿是怎样做的？可见他是个怎样的人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23872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通过学习这篇文章，你得到了怎样的启示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574560" y="5050080"/>
              <a:ext cx="323352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文章运用对比写“上将”与“下士”在处理事情方式上的不同有什么作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080" y="932040"/>
              <a:ext cx="4767480" cy="5509800"/>
              <a:chOff x="2188080" y="932040"/>
              <a:chExt cx="4767480" cy="550980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932040"/>
                <a:ext cx="4767480" cy="55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421000" y="171252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本文通过一件什么事来表现华盛顿的平凡以及对他人的尊重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586400" y="12088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尊 重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708120" y="10778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乔治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盛顿是个伟人，但并非后人所想象的那样，专做伟大的事，把不伟大的事都留给普通人去做。实际上，他若在你面前，你会觉得他普通得就和你一样，一样的诚实、一样的热情、一样的与人为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"/>
          <p:cNvGrpSpPr/>
          <p:nvPr/>
        </p:nvGrpSpPr>
        <p:grpSpPr>
          <a:xfrm>
            <a:off x="804960" y="3417840"/>
            <a:ext cx="7683480" cy="558720"/>
            <a:chOff x="804960" y="3417840"/>
            <a:chExt cx="7683480" cy="558720"/>
          </a:xfrm>
        </p:grpSpPr>
        <p:sp>
          <p:nvSpPr>
            <p:cNvPr id="80" name="直接连接符 4"/>
            <p:cNvSpPr/>
            <p:nvPr/>
          </p:nvSpPr>
          <p:spPr>
            <a:xfrm>
              <a:off x="804960" y="39765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5"/>
            <p:cNvSpPr/>
            <p:nvPr/>
          </p:nvSpPr>
          <p:spPr>
            <a:xfrm>
              <a:off x="804960" y="34178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在文中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矩形 1"/>
          <p:cNvSpPr/>
          <p:nvPr/>
        </p:nvSpPr>
        <p:spPr>
          <a:xfrm>
            <a:off x="817560" y="403236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个伟人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紧承上文对华盛顿作出的评价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但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转折，强调了华盛顿是伟人，但不只做伟大的事，引出下面他做的平凡小事。这一段是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过渡段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起承上启下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7"/>
          <p:cNvSpPr/>
          <p:nvPr/>
        </p:nvSpPr>
        <p:spPr>
          <a:xfrm flipV="1">
            <a:off x="754200" y="3255840"/>
            <a:ext cx="476064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8"/>
          <p:cNvSpPr/>
          <p:nvPr/>
        </p:nvSpPr>
        <p:spPr>
          <a:xfrm flipV="1">
            <a:off x="7189920" y="2695320"/>
            <a:ext cx="1347480" cy="6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圆角矩形 10"/>
          <p:cNvGrpSpPr/>
          <p:nvPr/>
        </p:nvGrpSpPr>
        <p:grpSpPr>
          <a:xfrm>
            <a:off x="5529240" y="2706840"/>
            <a:ext cx="1139760" cy="804600"/>
            <a:chOff x="5529240" y="2706840"/>
            <a:chExt cx="1139760" cy="804600"/>
          </a:xfrm>
        </p:grpSpPr>
        <p:pic>
          <p:nvPicPr>
            <p:cNvPr id="86" name="圆角矩形 10" descr=""/>
            <p:cNvPicPr/>
            <p:nvPr/>
          </p:nvPicPr>
          <p:blipFill>
            <a:blip r:embed="rId1"/>
            <a:stretch/>
          </p:blipFill>
          <p:spPr>
            <a:xfrm>
              <a:off x="5529240" y="2706840"/>
              <a:ext cx="1139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24080" y="2855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排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1"/>
          <p:cNvSpPr/>
          <p:nvPr/>
        </p:nvSpPr>
        <p:spPr>
          <a:xfrm>
            <a:off x="831960" y="100476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过渡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3"/>
          <p:cNvSpPr/>
          <p:nvPr/>
        </p:nvSpPr>
        <p:spPr>
          <a:xfrm>
            <a:off x="808200" y="2092320"/>
            <a:ext cx="75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什么是过渡段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的段落之间有一些承上启下性的简短自然段出现，而且有些段落的开头或末尾常有过渡性的句子，这些起承上启下作用的段落就是过渡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过渡段有什么作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承上启下，使文章连贯、结构严谨，文章的各部分是靠过渡来连缀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7"/>
          <p:cNvSpPr/>
          <p:nvPr/>
        </p:nvSpPr>
        <p:spPr>
          <a:xfrm>
            <a:off x="914400" y="19288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35120" y="1677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时，华盛顿疾步跑上前去，用他强劲的臂膀顶住石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831960" y="3144960"/>
            <a:ext cx="779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品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疾步跑上前去，用他强劲的臂膀顶住石块”是对华盛顿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他主动帮助士兵的行为，体现了他身先士卒、关心士兵、与下属同甘共苦的人格魅力，与上文下士的行为形成鲜明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云形 8"/>
          <p:cNvGrpSpPr/>
          <p:nvPr/>
        </p:nvGrpSpPr>
        <p:grpSpPr>
          <a:xfrm>
            <a:off x="5486400" y="2225520"/>
            <a:ext cx="2457360" cy="987480"/>
            <a:chOff x="5486400" y="2225520"/>
            <a:chExt cx="2457360" cy="987480"/>
          </a:xfrm>
        </p:grpSpPr>
        <p:pic>
          <p:nvPicPr>
            <p:cNvPr id="95" name="云形 8" descr=""/>
            <p:cNvPicPr/>
            <p:nvPr/>
          </p:nvPicPr>
          <p:blipFill>
            <a:blip r:embed="rId1"/>
            <a:stretch/>
          </p:blipFill>
          <p:spPr>
            <a:xfrm>
              <a:off x="5486400" y="2225520"/>
              <a:ext cx="24573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183360" y="2452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735120" y="212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问我？难道你看不出我是这里的下士吗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878040" y="326376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品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里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反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语气突出了下士的傲慢无礼、目中无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云形 5"/>
          <p:cNvGrpSpPr/>
          <p:nvPr/>
        </p:nvGrpSpPr>
        <p:grpSpPr>
          <a:xfrm>
            <a:off x="6486480" y="1305000"/>
            <a:ext cx="1511280" cy="987480"/>
            <a:chOff x="6486480" y="1305000"/>
            <a:chExt cx="1511280" cy="987480"/>
          </a:xfrm>
        </p:grpSpPr>
        <p:pic>
          <p:nvPicPr>
            <p:cNvPr id="100" name="云形 5" descr=""/>
            <p:cNvPicPr/>
            <p:nvPr/>
          </p:nvPicPr>
          <p:blipFill>
            <a:blip r:embed="rId1"/>
            <a:stretch/>
          </p:blipFill>
          <p:spPr>
            <a:xfrm>
              <a:off x="6486480" y="1305000"/>
              <a:ext cx="15112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925320" y="1531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反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720720" y="143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但至此他也懂得了：真正伟大的人决不会强迫别人尊重自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6"/>
          <p:cNvGrpSpPr/>
          <p:nvPr/>
        </p:nvGrpSpPr>
        <p:grpSpPr>
          <a:xfrm>
            <a:off x="763560" y="2763720"/>
            <a:ext cx="7751880" cy="587520"/>
            <a:chOff x="763560" y="2763720"/>
            <a:chExt cx="7751880" cy="587520"/>
          </a:xfrm>
        </p:grpSpPr>
        <p:sp>
          <p:nvSpPr>
            <p:cNvPr id="104" name="直接连接符 7"/>
            <p:cNvSpPr/>
            <p:nvPr/>
          </p:nvSpPr>
          <p:spPr>
            <a:xfrm>
              <a:off x="790200" y="3351240"/>
              <a:ext cx="752184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任意多边形 8"/>
            <p:cNvSpPr/>
            <p:nvPr/>
          </p:nvSpPr>
          <p:spPr>
            <a:xfrm>
              <a:off x="763560" y="2763720"/>
              <a:ext cx="77518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最后一句有什么深刻含义？在文中起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4"/>
          <p:cNvSpPr/>
          <p:nvPr/>
        </p:nvSpPr>
        <p:spPr>
          <a:xfrm>
            <a:off x="768240" y="354960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是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中心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点出了华盛顿的伟大之处。“决不会强迫别人尊重自己”道出了“尊重是相互的，只有尊重别人的人才会赢得别人的尊重”这一真理。这句话起到点明中心、总结全文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635040" y="1981080"/>
            <a:ext cx="2203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963720" y="3841920"/>
            <a:ext cx="74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通过写“华盛顿帮助士兵将石块放到正确位置上，并用这件小事身体力行地教育袖手旁观的下士”这件事来表现华盛顿的平凡以及对他人的尊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879480" y="26114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通过一件什么事来表现华盛顿的平凡以及对他人的尊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3:21:07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