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D6669-14FF-4AE4-BDFA-BC1A87D0F5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3BFAE-1F15-4867-9AEE-7FC4D47821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EBC-8771-4CF6-989A-92371883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986-4FFD-412D-9484-7B211DA4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641-D936-48E4-9B41-8FBA6693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A35-DF10-4F51-BCE5-FFC43E31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313-867D-4A15-8A17-34544213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904-BAAB-48A8-889E-391407AD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F5B-10AE-4FBC-AF8F-EB829649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3C8-925C-474F-9734-0332533F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AAA-832F-4203-B2E2-B6474F0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662-AECE-4B47-A2A4-FDA3440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69D-943D-4F40-AF7A-0327CC95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65D-B605-45B3-ABDE-3BA06390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40083-B43C-433F-8EB4-ADC8B1D2D5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0" descr=""/>
          <p:cNvPicPr/>
          <p:nvPr/>
        </p:nvPicPr>
        <p:blipFill>
          <a:blip r:embed="rId1"/>
          <a:stretch/>
        </p:blipFill>
        <p:spPr>
          <a:xfrm>
            <a:off x="2857680" y="2324160"/>
            <a:ext cx="3429000" cy="271440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979720" y="1011240"/>
            <a:ext cx="356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米芾学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684360" y="3222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矛盾，因为“一模一样”，说明米芾对字的“形”把握得很准，间架和笔锋模仿得准确到位；而“好像不一样”，则说明米芾用心琢磨之后，对字有了自己独特的理解，他写出的字有了自己独特的风格与气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3"/>
          <p:cNvGrpSpPr/>
          <p:nvPr/>
        </p:nvGrpSpPr>
        <p:grpSpPr>
          <a:xfrm>
            <a:off x="601560" y="2341440"/>
            <a:ext cx="7848720" cy="560520"/>
            <a:chOff x="601560" y="2341440"/>
            <a:chExt cx="7848720" cy="560520"/>
          </a:xfrm>
        </p:grpSpPr>
        <p:sp>
          <p:nvSpPr>
            <p:cNvPr id="109" name="直接连接符 4"/>
            <p:cNvSpPr/>
            <p:nvPr/>
          </p:nvSpPr>
          <p:spPr>
            <a:xfrm>
              <a:off x="766440" y="2901960"/>
              <a:ext cx="7683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任意多边形 5"/>
            <p:cNvSpPr/>
            <p:nvPr/>
          </p:nvSpPr>
          <p:spPr>
            <a:xfrm>
              <a:off x="601560" y="2341440"/>
              <a:ext cx="768384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：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20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中“一模一样”和“好像不一样”矛盾吗？为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"/>
          <p:cNvSpPr/>
          <p:nvPr/>
        </p:nvSpPr>
        <p:spPr>
          <a:xfrm>
            <a:off x="646200" y="4060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过去只是比着字帖写，没有用心，而这次却是“先把字琢磨透了”，这是米芾练好字的关键，也正是秀才教米芾写字的真正用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3"/>
          <p:cNvGrpSpPr/>
          <p:nvPr/>
        </p:nvGrpSpPr>
        <p:grpSpPr>
          <a:xfrm>
            <a:off x="668160" y="3360600"/>
            <a:ext cx="7848720" cy="560520"/>
            <a:chOff x="668160" y="3360600"/>
            <a:chExt cx="7848720" cy="560520"/>
          </a:xfrm>
        </p:grpSpPr>
        <p:sp>
          <p:nvSpPr>
            <p:cNvPr id="113" name="直接连接符 4"/>
            <p:cNvSpPr/>
            <p:nvPr/>
          </p:nvSpPr>
          <p:spPr>
            <a:xfrm>
              <a:off x="833040" y="3921120"/>
              <a:ext cx="7683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5"/>
            <p:cNvSpPr/>
            <p:nvPr/>
          </p:nvSpPr>
          <p:spPr>
            <a:xfrm>
              <a:off x="668160" y="3360600"/>
              <a:ext cx="768384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重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米芾这一次为什么能把字练好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矩形 1"/>
          <p:cNvSpPr/>
          <p:nvPr/>
        </p:nvSpPr>
        <p:spPr>
          <a:xfrm>
            <a:off x="668160" y="1477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秀才问米芾：“你说，为什么现在能写好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过去虽然写字，没有用心，因此总写得不好。这次因为纸贵，我怕浪费了纸，先把字琢磨透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2"/>
          <p:cNvSpPr/>
          <p:nvPr/>
        </p:nvSpPr>
        <p:spPr>
          <a:xfrm>
            <a:off x="630360" y="3887640"/>
            <a:ext cx="7848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这是本文的中心句，告诉人们写好字的秘诀是“动笔动心，观其形悟其神”。任何一门技艺的练成都离不开“用心”这个诀窍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630360" y="2529000"/>
            <a:ext cx="7848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楷体"/>
                <a:ea typeface="楷体"/>
              </a:rPr>
              <a:t>对，”秀才捋着胡子说，“学字不只是动笔，还要动心。不但是观其形，而且要悟其神，心领神会，才能写好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云形 6"/>
          <p:cNvGrpSpPr/>
          <p:nvPr/>
        </p:nvGrpSpPr>
        <p:grpSpPr>
          <a:xfrm>
            <a:off x="4773600" y="1494000"/>
            <a:ext cx="3584520" cy="987120"/>
            <a:chOff x="4773600" y="1494000"/>
            <a:chExt cx="3584520" cy="987120"/>
          </a:xfrm>
        </p:grpSpPr>
        <p:pic>
          <p:nvPicPr>
            <p:cNvPr id="119" name="云形 6" descr=""/>
            <p:cNvPicPr/>
            <p:nvPr/>
          </p:nvPicPr>
          <p:blipFill>
            <a:blip r:embed="rId1"/>
            <a:stretch/>
          </p:blipFill>
          <p:spPr>
            <a:xfrm>
              <a:off x="4773600" y="1494000"/>
              <a:ext cx="35845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370480" y="1719360"/>
              <a:ext cx="21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本文的中心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977760" y="3718080"/>
            <a:ext cx="7425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通过“米芾学书”的故事，告诉我们学习技艺要用心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通过“米芾学书”的故事，告诉我们一个什么道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私塾先生是怎样教米芾写字的，效果怎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1197000" y="369900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私塾先生教米芾写字的方法是天天照着字帖写。米芾虽很刻苦地练字，但写的字却没有什么长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秀才是怎样教米芾学写字的？结果怎么样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976320" y="26989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秀才教米芾练字的方法很特别，他让米芾用五两纹银买了他一张纸，就走了。米芾得到五两纹银一张的纸后，舍不得在纸上写，所以就反复用心地琢磨每个字的间架和笔锋，把字帖上每一个字都印在了心里，终于练好了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怎样把米芾这个人物写好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135080" y="262584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主要抓住了米芾的神态、动作、语言和心理等进行描写，把他的好学上进、刻苦用心表现得淋漓尽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觉得米芾是个怎样的人？你从中学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1103400" y="2419200"/>
            <a:ext cx="72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芾是一个有上进心、热爱书法、刻苦的孩子。我要像米芾一样积极刻苦地学习，不断寻找更好的学习方法，争取取得好的成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>
            <a:off x="1147680" y="2374920"/>
            <a:ext cx="51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起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绘画有名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书法有造诣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-40320" y="2511720"/>
            <a:ext cx="10944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米芾学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710400" y="3164040"/>
            <a:ext cx="167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动笔动心悟形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心领神会笔如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右大括号 10"/>
          <p:cNvSpPr/>
          <p:nvPr/>
        </p:nvSpPr>
        <p:spPr>
          <a:xfrm rot="10800000">
            <a:off x="746280" y="2374560"/>
            <a:ext cx="528480" cy="3110040"/>
          </a:xfrm>
          <a:custGeom>
            <a:avLst/>
            <a:gdLst>
              <a:gd name="textAreaLeft" fmla="*/ 0 w 528480"/>
              <a:gd name="textAreaRight" fmla="*/ 190800 w 528480"/>
              <a:gd name="textAreaTop" fmla="*/ 13680 h 3110040"/>
              <a:gd name="textAreaBottom" fmla="*/ 3096360 h 31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9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矩形 1"/>
          <p:cNvSpPr/>
          <p:nvPr/>
        </p:nvSpPr>
        <p:spPr>
          <a:xfrm>
            <a:off x="1272960" y="356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叙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2350440" y="4049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求教秀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1154160" y="4862520"/>
            <a:ext cx="46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结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成为著名画家和书法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7"/>
          <p:cNvSpPr/>
          <p:nvPr/>
        </p:nvSpPr>
        <p:spPr>
          <a:xfrm>
            <a:off x="3668760" y="370368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两纹银一张纸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琢磨字帖得窍门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2103480" y="3152880"/>
            <a:ext cx="39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照帖写三年　没有长进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右大括号 17"/>
          <p:cNvSpPr/>
          <p:nvPr/>
        </p:nvSpPr>
        <p:spPr>
          <a:xfrm rot="10800000">
            <a:off x="1900080" y="3292560"/>
            <a:ext cx="263520" cy="1139760"/>
          </a:xfrm>
          <a:custGeom>
            <a:avLst/>
            <a:gdLst>
              <a:gd name="textAreaLeft" fmla="*/ 0 w 263520"/>
              <a:gd name="textAreaRight" fmla="*/ 95040 w 263520"/>
              <a:gd name="textAreaTop" fmla="*/ 6840 h 1139760"/>
              <a:gd name="textAreaBottom" fmla="*/ 11329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6"/>
                </a:cubicBezTo>
                <a:lnTo>
                  <a:pt x="10800" y="10384"/>
                </a:lnTo>
                <a:cubicBezTo>
                  <a:pt x="10800" y="10592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6"/>
                </a:cubicBezTo>
                <a:lnTo>
                  <a:pt x="10800" y="21184"/>
                </a:lnTo>
                <a:cubicBezTo>
                  <a:pt x="10800" y="2139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右大括号 18"/>
          <p:cNvSpPr/>
          <p:nvPr/>
        </p:nvSpPr>
        <p:spPr>
          <a:xfrm rot="10800000">
            <a:off x="3517560" y="3835080"/>
            <a:ext cx="227160" cy="974520"/>
          </a:xfrm>
          <a:custGeom>
            <a:avLst/>
            <a:gdLst>
              <a:gd name="textAreaLeft" fmla="*/ 0 w 227160"/>
              <a:gd name="textAreaRight" fmla="*/ 82080 w 227160"/>
              <a:gd name="textAreaTop" fmla="*/ 5760 h 974520"/>
              <a:gd name="textAreaBottom" fmla="*/ 968760 h 9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0"/>
                  <a:pt x="10800" y="419"/>
                </a:cubicBezTo>
                <a:lnTo>
                  <a:pt x="10800" y="10381"/>
                </a:lnTo>
                <a:cubicBezTo>
                  <a:pt x="10800" y="10591"/>
                  <a:pt x="16200" y="10800"/>
                  <a:pt x="21600" y="10800"/>
                </a:cubicBezTo>
                <a:cubicBezTo>
                  <a:pt x="16200" y="10800"/>
                  <a:pt x="10800" y="11010"/>
                  <a:pt x="10800" y="11219"/>
                </a:cubicBezTo>
                <a:lnTo>
                  <a:pt x="10800" y="21181"/>
                </a:lnTo>
                <a:cubicBezTo>
                  <a:pt x="10800" y="213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右大括号 19"/>
          <p:cNvSpPr/>
          <p:nvPr/>
        </p:nvSpPr>
        <p:spPr>
          <a:xfrm flipH="1" rot="10800000">
            <a:off x="5870520" y="2330280"/>
            <a:ext cx="417600" cy="3111840"/>
          </a:xfrm>
          <a:custGeom>
            <a:avLst/>
            <a:gdLst>
              <a:gd name="textAreaLeft" fmla="*/ 360 w 417600"/>
              <a:gd name="textAreaRight" fmla="*/ 151200 w 417600"/>
              <a:gd name="textAreaTop" fmla="*/ 10800 h 3111840"/>
              <a:gd name="textAreaBottom" fmla="*/ 3101040 h 311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1"/>
                  <a:pt x="10800" y="242"/>
                </a:cubicBezTo>
                <a:lnTo>
                  <a:pt x="10800" y="10558"/>
                </a:lnTo>
                <a:cubicBezTo>
                  <a:pt x="10800" y="10679"/>
                  <a:pt x="16200" y="10800"/>
                  <a:pt x="21600" y="10800"/>
                </a:cubicBezTo>
                <a:cubicBezTo>
                  <a:pt x="16200" y="10800"/>
                  <a:pt x="10800" y="10921"/>
                  <a:pt x="10800" y="11042"/>
                </a:cubicBezTo>
                <a:lnTo>
                  <a:pt x="10800" y="21358"/>
                </a:lnTo>
                <a:cubicBezTo>
                  <a:pt x="10800" y="2147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2"/>
          <p:cNvSpPr/>
          <p:nvPr/>
        </p:nvSpPr>
        <p:spPr>
          <a:xfrm>
            <a:off x="934920" y="2541600"/>
            <a:ext cx="7089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讲述了宋代画家和书法家米芾小时候学习书法的故事，说明了学习技艺要用心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“米芾学书”这个故事，懂得“学字不只是动笔，还要动心。不但是观其形，而且要悟其神，心领神会，才能写好。”这一道理，能结合自己学习实际谈读这个故事后的体会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搜集名人学习书法的故事，从故事中感悟道理，激发学习书法的兴趣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难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矩形 1"/>
          <p:cNvSpPr/>
          <p:nvPr/>
        </p:nvSpPr>
        <p:spPr>
          <a:xfrm>
            <a:off x="866880" y="1857240"/>
            <a:ext cx="77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孔子学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孔子是我国历史上伟大的思想家、教育家。他有多方面的兴趣和特长，还精通音乐。如弹琴、鼓瑟、吹笙、击磬，他样样都会，尤其弹得一手好琴。但孔子从不满足。他五十岁那年，还特意向鲁国的著名音乐家师襄学弹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师襄将一首曲子教给孔子练习。一晃十天过去了，师襄还不见孔子来学新的曲子，感到有些奇怪，便去看望。他踏着琴声来到孔子的窗前，只见孔子正毕恭毕敬地弹那首曲子，弹完一遍又弹一遍，丝毫没有厌倦的样子。师襄轻轻地走进屋里，对孔子说：“你已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851040" y="1320840"/>
            <a:ext cx="77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练了整整十天，这首曲子也会弹了，可以再学一首新的曲子了。”孔子连忙站起来，诚恳地说：“我只学会了曲谱，还没有真正掌握弹奏的技巧呢！”说完，又席地而坐，继续弹奏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过了几天，师襄又来看孔子练琴。他看到孔子的手指运用自如，乐曲弹奏得像小溪流水一样顺畅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chàng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自然、悦耳动听，便说：“你已经掌握了弹奏的技巧，可以学一首新的曲子了。”孔子摇摇头，说：“我还没有真正领会这首曲子的思想内容，这样弹奏怎么会使人感动呢？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又过了些时候，师襄再次来到孔子的住处。刚一进门，他就被激情洋溢的乐曲声迷住了。师襄听得如醉如痴，仿佛被带到了一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851040" y="1289160"/>
            <a:ext cx="7740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从未到过的境地。一曲弹完，好半天师襄才醒悟过来。他快步走了过去，激动地说：“你已经弹出了乐曲的思想感情，领会了音乐的精神，可以学一首新曲子了！”孔子又摇摇头，认真地回答：“不行啊，我还没体会出作曲者是一位怎样的人呢！”说完，又沉浸在琴声里，似乎想得很远很远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不知又过了多少天，师襄又来听孔子弹琴。他静静地坐在孔子身旁，感情随着琴声抑扬起伏。突然，琴声戛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jiá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然停止，孔子激动得站起来，大声说：“我已经知道作曲者是谁了。他就是行善百姓、胸怀博大的周文王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师襄一听，既惊异，又佩服。他站起身来，向孔子深深地行了一礼，说：“你的琴艺真是炉火纯青啊！我的老师讲过，这首乐曲的名字就叫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文王操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236000" cy="3706560"/>
          </a:xfrm>
          <a:prstGeom prst="rect">
            <a:avLst/>
          </a:prstGeom>
          <a:ln w="0">
            <a:noFill/>
          </a:ln>
        </p:spPr>
      </p:pic>
      <p:sp>
        <p:nvSpPr>
          <p:cNvPr id="164" name="矩形 1"/>
          <p:cNvSpPr/>
          <p:nvPr/>
        </p:nvSpPr>
        <p:spPr>
          <a:xfrm>
            <a:off x="1042920" y="2403360"/>
            <a:ext cx="723420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窗竹影摇书案上，野泉声入砚池中。少年辛苦终身事，莫向光阴惰寸功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题弟侄书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杜荀鹤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年上人号怀素，草书天下称独步。墨池飞出北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íng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鱼，笔锋杀尽中山兔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草书歌行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白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1489680" y="415764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文人四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374840" y="46069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琴、棋、书、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2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矩形 1"/>
          <p:cNvSpPr/>
          <p:nvPr/>
        </p:nvSpPr>
        <p:spPr>
          <a:xfrm>
            <a:off x="1869120" y="2276640"/>
            <a:ext cx="23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国古代著名的书法家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"/>
          <p:cNvSpPr/>
          <p:nvPr/>
        </p:nvSpPr>
        <p:spPr>
          <a:xfrm>
            <a:off x="1266840" y="2835360"/>
            <a:ext cx="66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王羲之、王献之、柳公权、怀素、颜真卿、张旭、欧阳询、米芾、黄庭坚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8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矩形 2"/>
          <p:cNvSpPr/>
          <p:nvPr/>
        </p:nvSpPr>
        <p:spPr>
          <a:xfrm>
            <a:off x="665280" y="213192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书法字体和著名的书法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书法字体传统上分行书、草书、隶书、篆书和楷书五大类。中国古代有许多著名的书法家，他们在书法上有着不同的造诣。王羲之被尊为“书圣”；欧阳询创立的字体被称为“欧体”；颜真卿创立“颜体”楷书，与创立“柳体”的柳公权并称“颜筋柳骨”；张旭被誉为“草圣”；怀素以狂草闻名于世，与张旭合称“颠张狂素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83" name="矩形 11"/>
          <p:cNvSpPr/>
          <p:nvPr/>
        </p:nvSpPr>
        <p:spPr>
          <a:xfrm>
            <a:off x="828720" y="2662200"/>
            <a:ext cx="73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篇课文通过讲述米芾跟着秀才学书法的事，告诉了我们无论是学东西还是做事情，都必须用心去领悟，掌握事情的要领，这样才会有较快的进步和提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5" name="矩形 19"/>
          <p:cNvSpPr/>
          <p:nvPr/>
        </p:nvSpPr>
        <p:spPr>
          <a:xfrm>
            <a:off x="1747800" y="2741760"/>
            <a:ext cx="69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下列加点字注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诣　　　字帖　　　私塾　　　窍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166480" y="393696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8"/>
          <p:cNvSpPr/>
          <p:nvPr/>
        </p:nvSpPr>
        <p:spPr>
          <a:xfrm>
            <a:off x="6455160" y="393552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9"/>
          <p:cNvSpPr/>
          <p:nvPr/>
        </p:nvSpPr>
        <p:spPr>
          <a:xfrm>
            <a:off x="5243760" y="394668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0"/>
          <p:cNvSpPr/>
          <p:nvPr/>
        </p:nvSpPr>
        <p:spPr>
          <a:xfrm>
            <a:off x="3695040" y="394956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4"/>
          <p:cNvSpPr/>
          <p:nvPr/>
        </p:nvSpPr>
        <p:spPr>
          <a:xfrm>
            <a:off x="6254640" y="3289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à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5"/>
          <p:cNvSpPr/>
          <p:nvPr/>
        </p:nvSpPr>
        <p:spPr>
          <a:xfrm>
            <a:off x="1947240" y="34020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6"/>
          <p:cNvSpPr/>
          <p:nvPr/>
        </p:nvSpPr>
        <p:spPr>
          <a:xfrm>
            <a:off x="3210480" y="340848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tiè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7"/>
          <p:cNvSpPr/>
          <p:nvPr/>
        </p:nvSpPr>
        <p:spPr>
          <a:xfrm>
            <a:off x="4770000" y="342576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0"/>
          <p:cNvSpPr/>
          <p:nvPr/>
        </p:nvSpPr>
        <p:spPr>
          <a:xfrm>
            <a:off x="684360" y="18129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下面句中的错别字，并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米芾感到莫名奇妙，但还是顺从地答应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米芾急了，拨腿往家里跑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米芾拿着五两文银卖的那张纸，左看右看，觉得不过是一张普通的纸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秀才要走了，米芾衣衣不舍地送别老师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12"/>
          <p:cNvSpPr/>
          <p:nvPr/>
        </p:nvSpPr>
        <p:spPr>
          <a:xfrm>
            <a:off x="3108240" y="288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3068640" y="3981600"/>
            <a:ext cx="43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17"/>
          <p:cNvSpPr/>
          <p:nvPr/>
        </p:nvSpPr>
        <p:spPr>
          <a:xfrm>
            <a:off x="2735280" y="3460680"/>
            <a:ext cx="43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20"/>
          <p:cNvSpPr/>
          <p:nvPr/>
        </p:nvSpPr>
        <p:spPr>
          <a:xfrm>
            <a:off x="3676680" y="3981600"/>
            <a:ext cx="43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 21"/>
          <p:cNvSpPr/>
          <p:nvPr/>
        </p:nvSpPr>
        <p:spPr>
          <a:xfrm>
            <a:off x="3763800" y="5089680"/>
            <a:ext cx="648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2"/>
          <p:cNvSpPr/>
          <p:nvPr/>
        </p:nvSpPr>
        <p:spPr>
          <a:xfrm>
            <a:off x="7504920" y="248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3"/>
          <p:cNvSpPr/>
          <p:nvPr/>
        </p:nvSpPr>
        <p:spPr>
          <a:xfrm>
            <a:off x="5357520" y="29131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4"/>
          <p:cNvSpPr/>
          <p:nvPr/>
        </p:nvSpPr>
        <p:spPr>
          <a:xfrm>
            <a:off x="3563640" y="412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7"/>
          <p:cNvSpPr/>
          <p:nvPr/>
        </p:nvSpPr>
        <p:spPr>
          <a:xfrm>
            <a:off x="4239360" y="41292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买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8"/>
          <p:cNvSpPr/>
          <p:nvPr/>
        </p:nvSpPr>
        <p:spPr>
          <a:xfrm>
            <a:off x="7143480" y="467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依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4"/>
          <p:cNvSpPr/>
          <p:nvPr/>
        </p:nvSpPr>
        <p:spPr>
          <a:xfrm>
            <a:off x="1042920" y="2276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根据意思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用明说，心里领悟其中的意思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费尽心思钻研或经营，达到别人达不到的境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6"/>
          <p:cNvSpPr/>
          <p:nvPr/>
        </p:nvSpPr>
        <p:spPr>
          <a:xfrm>
            <a:off x="6443640" y="2843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心领神会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921960" y="3930480"/>
            <a:ext cx="18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苦心孤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0" name="圆角矩形 4"/>
            <p:cNvSpPr/>
            <p:nvPr/>
          </p:nvSpPr>
          <p:spPr>
            <a:xfrm>
              <a:off x="600120" y="3876840"/>
              <a:ext cx="320832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课文，说说私塾先生是怎样教米芾写字的，效果怎样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 5"/>
            <p:cNvSpPr/>
            <p:nvPr/>
          </p:nvSpPr>
          <p:spPr>
            <a:xfrm>
              <a:off x="5224320" y="40118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秀才是怎样教米芾学写字的？结果怎么样</a:t>
              </a: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5211720" y="5185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你觉得米芾是个怎样的人？你从中学到了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7"/>
            <p:cNvSpPr/>
            <p:nvPr/>
          </p:nvSpPr>
          <p:spPr>
            <a:xfrm>
              <a:off x="600120" y="5215320"/>
              <a:ext cx="320832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是怎样把米芾这个人物写好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矩形 1"/>
              <p:cNvSpPr/>
              <p:nvPr/>
            </p:nvSpPr>
            <p:spPr>
              <a:xfrm>
                <a:off x="2530080" y="1797840"/>
                <a:ext cx="4048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文通过“米芾学书”的故事，告诉我们一个什么道理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矩形 2"/>
              <p:cNvSpPr/>
              <p:nvPr/>
            </p:nvSpPr>
            <p:spPr>
              <a:xfrm>
                <a:off x="4575960" y="12808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动笔动心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7"/>
          <p:cNvSpPr/>
          <p:nvPr/>
        </p:nvSpPr>
        <p:spPr>
          <a:xfrm>
            <a:off x="755640" y="206064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给句中加点词语换个说法，写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母亲经不住米芾的百般央求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先生拿着戒尺指着他的脑袋责备说：“笨小子，还是回家放牛吧。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你已经懂得写字的窍门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3933000" y="270828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4538160" y="326232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8"/>
          <p:cNvSpPr/>
          <p:nvPr/>
        </p:nvSpPr>
        <p:spPr>
          <a:xfrm>
            <a:off x="3293280" y="433692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5636880" y="272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乞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4167000" y="3805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责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3"/>
          <p:cNvSpPr/>
          <p:nvPr/>
        </p:nvSpPr>
        <p:spPr>
          <a:xfrm>
            <a:off x="4747320" y="423072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秘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6"/>
          <p:cNvSpPr/>
          <p:nvPr/>
        </p:nvSpPr>
        <p:spPr>
          <a:xfrm>
            <a:off x="611280" y="1700280"/>
            <a:ext cx="807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听秀才说算了，米芾急了，忙说：“我找钱去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可他家并不富裕，哪里舍得买这么贵的纸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1238400" y="330840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听秀才说算了，米芾急了，忙说，他找钱去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1273320" y="4965840"/>
            <a:ext cx="59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可他家并不富裕，不舍得买这么贵的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4695840" y="2436840"/>
            <a:ext cx="689040" cy="353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6850080" y="2444760"/>
            <a:ext cx="689040" cy="353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638280" y="2292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米芾是宋代著名画家。他不但绘画有名，而且书法也很有造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701640" y="3417840"/>
            <a:ext cx="75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段中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话是个递进关系的句子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不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且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出了米芾是著名画家，在书法艺术上也很有成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885960" y="151128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你也用“不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且”写一个表示递进关系的句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24" descr="花盆.png"/>
          <p:cNvPicPr/>
          <p:nvPr/>
        </p:nvPicPr>
        <p:blipFill>
          <a:blip r:embed="rId1"/>
          <a:stretch/>
        </p:blipFill>
        <p:spPr>
          <a:xfrm>
            <a:off x="642960" y="166536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982800" y="2600280"/>
            <a:ext cx="74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锻炼身体不但能增强体质，提高免疫力，而且能使人精神抖擞，容光焕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3"/>
          <p:cNvGrpSpPr/>
          <p:nvPr/>
        </p:nvGrpSpPr>
        <p:grpSpPr>
          <a:xfrm>
            <a:off x="5259240" y="3398760"/>
            <a:ext cx="3683160" cy="2718000"/>
            <a:chOff x="5259240" y="3398760"/>
            <a:chExt cx="3683160" cy="2718000"/>
          </a:xfrm>
        </p:grpSpPr>
        <p:pic>
          <p:nvPicPr>
            <p:cNvPr id="87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398760"/>
              <a:ext cx="3683160" cy="27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1"/>
            <p:cNvSpPr/>
            <p:nvPr/>
          </p:nvSpPr>
          <p:spPr>
            <a:xfrm>
              <a:off x="5549040" y="359892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733320" y="1735200"/>
            <a:ext cx="76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米芾按原先的办法，照着字帖写了一通，写了厚厚一沓子纸。一清早，就当见面礼送给秀才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谁知秀才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随便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翻了翻，把纸一放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冷冷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793800" y="3587760"/>
            <a:ext cx="7683480" cy="558720"/>
            <a:chOff x="793800" y="3587760"/>
            <a:chExt cx="7683480" cy="558720"/>
          </a:xfrm>
        </p:grpSpPr>
        <p:sp>
          <p:nvSpPr>
            <p:cNvPr id="91" name="直接连接符 4"/>
            <p:cNvSpPr/>
            <p:nvPr/>
          </p:nvSpPr>
          <p:spPr>
            <a:xfrm>
              <a:off x="793800" y="4146480"/>
              <a:ext cx="74818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任意多边形 5"/>
            <p:cNvSpPr/>
            <p:nvPr/>
          </p:nvSpPr>
          <p:spPr>
            <a:xfrm>
              <a:off x="793800" y="358776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从对秀才的神态描写中，你能感受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1"/>
          <p:cNvSpPr/>
          <p:nvPr/>
        </p:nvSpPr>
        <p:spPr>
          <a:xfrm>
            <a:off x="747720" y="435924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随便”“冷冷地”可以感受到秀才对米芾这种练字方法的不认同、不屑一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21"/>
          <p:cNvSpPr/>
          <p:nvPr/>
        </p:nvSpPr>
        <p:spPr>
          <a:xfrm>
            <a:off x="800280" y="124776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神态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23"/>
          <p:cNvSpPr/>
          <p:nvPr/>
        </p:nvSpPr>
        <p:spPr>
          <a:xfrm>
            <a:off x="698400" y="2335320"/>
            <a:ext cx="77994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神态描写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专指描写脸部表情，描写时要用形容表情、神态的词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生态描写有什么样的表达效果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以刻画人物性格，反映人物品质，展示人物的内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答题技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了神态描写，突出了人物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形象，表现了人物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心理，展现了人物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性格品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精神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线连接符 7"/>
          <p:cNvSpPr/>
          <p:nvPr/>
        </p:nvSpPr>
        <p:spPr>
          <a:xfrm>
            <a:off x="882720" y="21718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695160" y="4059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急了”“边说，边拔腿往家里跑”的动作和“我找钱去”的语言可以看出米芾对写字有着浓厚的兴趣，学习写字的欲望很强烈，也十分想把字练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3"/>
          <p:cNvGrpSpPr/>
          <p:nvPr/>
        </p:nvGrpSpPr>
        <p:grpSpPr>
          <a:xfrm>
            <a:off x="777960" y="3351240"/>
            <a:ext cx="7683480" cy="560520"/>
            <a:chOff x="777960" y="3351240"/>
            <a:chExt cx="7683480" cy="560520"/>
          </a:xfrm>
        </p:grpSpPr>
        <p:sp>
          <p:nvSpPr>
            <p:cNvPr id="99" name="直接连接符 4"/>
            <p:cNvSpPr/>
            <p:nvPr/>
          </p:nvSpPr>
          <p:spPr>
            <a:xfrm>
              <a:off x="777960" y="39117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任意多边形 5"/>
            <p:cNvSpPr/>
            <p:nvPr/>
          </p:nvSpPr>
          <p:spPr>
            <a:xfrm>
              <a:off x="777960" y="335124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从米芾的动作和语言中可以看出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1"/>
          <p:cNvSpPr/>
          <p:nvPr/>
        </p:nvSpPr>
        <p:spPr>
          <a:xfrm>
            <a:off x="695160" y="1581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买我的纸，就算了。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听秀才说算了，米芾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急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忙说：“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我找钱去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”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边说，边拔腿往家里跑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458640" y="4216320"/>
            <a:ext cx="82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米芾家里并不富裕，为了学写字，母亲把从娘家带来的首饰拿去当了五两纹银，用来买纸。这么珍贵的纸，他怕写不好浪费了，所以特别珍惜，不敢轻易下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"/>
          <p:cNvGrpSpPr/>
          <p:nvPr/>
        </p:nvGrpSpPr>
        <p:grpSpPr>
          <a:xfrm>
            <a:off x="541440" y="3508200"/>
            <a:ext cx="7988040" cy="560520"/>
            <a:chOff x="541440" y="3508200"/>
            <a:chExt cx="7988040" cy="560520"/>
          </a:xfrm>
        </p:grpSpPr>
        <p:sp>
          <p:nvSpPr>
            <p:cNvPr id="104" name="直接连接符 4"/>
            <p:cNvSpPr/>
            <p:nvPr/>
          </p:nvSpPr>
          <p:spPr>
            <a:xfrm>
              <a:off x="588960" y="4068720"/>
              <a:ext cx="794052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任意多边形 5"/>
            <p:cNvSpPr/>
            <p:nvPr/>
          </p:nvSpPr>
          <p:spPr>
            <a:xfrm>
              <a:off x="541440" y="3508200"/>
              <a:ext cx="794052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米芾为什么不敢轻易在五两纹银买的那张纸上下笔写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矩形 1"/>
          <p:cNvSpPr/>
          <p:nvPr/>
        </p:nvSpPr>
        <p:spPr>
          <a:xfrm>
            <a:off x="458640" y="1260360"/>
            <a:ext cx="82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米芾拿着五两纹银买的那张纸，左看右看，觉得不过是一张普通的纸。可他再也不敢轻易下笔写，只是在那里认真地琢磨字帖，用手在书案上画来画去，想着每个字的间架和笔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5:33:24Z</dcterms:modified>
  <cp:revision>4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