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image10.gif" ContentType="image/gif"/>
  <Override PartName="/ppt/media/image13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49F120-064A-4AF5-8612-7E4A8CDF0BA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89B55C-1329-4487-850B-A657500867C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6D06-8850-42F7-B63A-F52142B8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91BD-732A-4E41-B635-1F0D26A8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F35E-CE8B-4202-A40D-AE40A7DD6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A7ED-5A1D-49A9-B8F6-FA86D9BB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4A37-DCF7-49CD-95B2-AD734D5D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159F-CB8E-4B1A-985D-43CAC8C0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14C8-6333-4B1E-8276-38B7CD32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6192-7EBB-4C2F-8853-0A722D29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CC95-B9FD-47ED-BAD9-981669E6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10D3-01A6-428B-9433-6EC72699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800C-5DBB-4F3C-847F-CD44F570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4E3A-F46E-4F1A-934B-CB06F710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0C639E-C86F-42FE-B768-B7D5E1FE5D7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5335560" cy="313848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897200" y="5640480"/>
            <a:ext cx="5349600" cy="717480"/>
            <a:chOff x="1897200" y="5640480"/>
            <a:chExt cx="5349600" cy="717480"/>
          </a:xfrm>
        </p:grpSpPr>
        <p:pic>
          <p:nvPicPr>
            <p:cNvPr id="53" name="任意多边形 6" descr=""/>
            <p:cNvPicPr/>
            <p:nvPr/>
          </p:nvPicPr>
          <p:blipFill>
            <a:blip r:embed="rId4"/>
            <a:stretch/>
          </p:blipFill>
          <p:spPr>
            <a:xfrm>
              <a:off x="1897200" y="5640480"/>
              <a:ext cx="18748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8" descr=""/>
            <p:cNvPicPr/>
            <p:nvPr/>
          </p:nvPicPr>
          <p:blipFill>
            <a:blip r:embed="rId5"/>
            <a:stretch/>
          </p:blipFill>
          <p:spPr>
            <a:xfrm>
              <a:off x="3625560" y="5640480"/>
              <a:ext cx="18748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19" descr=""/>
            <p:cNvPicPr/>
            <p:nvPr/>
          </p:nvPicPr>
          <p:blipFill>
            <a:blip r:embed="rId6"/>
            <a:stretch/>
          </p:blipFill>
          <p:spPr>
            <a:xfrm>
              <a:off x="5371920" y="5640480"/>
              <a:ext cx="187488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流程图: 摘录 40"/>
            <p:cNvSpPr/>
            <p:nvPr/>
          </p:nvSpPr>
          <p:spPr>
            <a:xfrm rot="5400000">
              <a:off x="3621240" y="5871240"/>
              <a:ext cx="151920" cy="21348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流程图: 摘录 41"/>
            <p:cNvSpPr/>
            <p:nvPr/>
          </p:nvSpPr>
          <p:spPr>
            <a:xfrm rot="5400000">
              <a:off x="5369760" y="5871240"/>
              <a:ext cx="151920" cy="21348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59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0" name="图片 46" descr="枫叶副本"/>
            <p:cNvPicPr/>
            <p:nvPr/>
          </p:nvPicPr>
          <p:blipFill>
            <a:blip r:embed="rId7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矩形 47" descr=""/>
            <p:cNvPicPr/>
            <p:nvPr/>
          </p:nvPicPr>
          <p:blipFill>
            <a:blip r:embed="rId8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组合 13338"/>
          <p:cNvGrpSpPr/>
          <p:nvPr/>
        </p:nvGrpSpPr>
        <p:grpSpPr>
          <a:xfrm>
            <a:off x="2290680" y="985680"/>
            <a:ext cx="4562640" cy="1033560"/>
            <a:chOff x="2290680" y="985680"/>
            <a:chExt cx="4562640" cy="1033560"/>
          </a:xfrm>
        </p:grpSpPr>
        <p:sp>
          <p:nvSpPr>
            <p:cNvPr id="63" name="Text Box 2"/>
            <p:cNvSpPr/>
            <p:nvPr/>
          </p:nvSpPr>
          <p:spPr>
            <a:xfrm>
              <a:off x="3294000" y="1010880"/>
              <a:ext cx="355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鸟音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文本框 13"/>
            <p:cNvSpPr/>
            <p:nvPr/>
          </p:nvSpPr>
          <p:spPr>
            <a:xfrm>
              <a:off x="2290680" y="985680"/>
              <a:ext cx="184680" cy="101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7"/>
          <p:cNvSpPr/>
          <p:nvPr/>
        </p:nvSpPr>
        <p:spPr>
          <a:xfrm>
            <a:off x="906480" y="2859120"/>
            <a:ext cx="73566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本文通过“我”的经历讲述了笼中鸟儿和林中鸟儿鸣叫的不同，告诉人们，鸟儿是大自然的精灵，应该自由自在地飞翔和歌唱的道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5"/>
          <p:cNvSpPr/>
          <p:nvPr/>
        </p:nvSpPr>
        <p:spPr>
          <a:xfrm>
            <a:off x="882720" y="1819440"/>
            <a:ext cx="731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说一说这篇文章中体现了什么道理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32" name="矩形 11"/>
          <p:cNvSpPr/>
          <p:nvPr/>
        </p:nvSpPr>
        <p:spPr>
          <a:xfrm>
            <a:off x="811080" y="2316240"/>
            <a:ext cx="750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6300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课文写了“我”喜欢百灵鸟是因为百灵鸟飞得高，声音好听，我把它们捕来养在家里，爷爷听到我的鸟叫，总是面带愠色，后来，爷爷带“我”到树林中感受林中鸟与笼中鸟鸟音的不同。我知道了：鸟儿只为终生保持自己的本色和特性而自由地活着，便放飞了笼中所有的鸟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34" name="矩形 13"/>
          <p:cNvSpPr/>
          <p:nvPr/>
        </p:nvSpPr>
        <p:spPr>
          <a:xfrm>
            <a:off x="1359000" y="2413080"/>
            <a:ext cx="754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给下列加点的字选择正确的读音，画上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酣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ā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gā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愠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ù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wē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娱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wú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赋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fù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ī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鹌鹑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ā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ā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着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uó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áo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41"/>
          <p:cNvSpPr/>
          <p:nvPr/>
        </p:nvSpPr>
        <p:spPr>
          <a:xfrm>
            <a:off x="1434240" y="3295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41"/>
          <p:cNvSpPr/>
          <p:nvPr/>
        </p:nvSpPr>
        <p:spPr>
          <a:xfrm>
            <a:off x="4195080" y="3281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41"/>
          <p:cNvSpPr/>
          <p:nvPr/>
        </p:nvSpPr>
        <p:spPr>
          <a:xfrm>
            <a:off x="1451880" y="3841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41"/>
          <p:cNvSpPr/>
          <p:nvPr/>
        </p:nvSpPr>
        <p:spPr>
          <a:xfrm>
            <a:off x="4213800" y="3830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21"/>
          <p:cNvSpPr/>
          <p:nvPr/>
        </p:nvSpPr>
        <p:spPr>
          <a:xfrm>
            <a:off x="2198520" y="314640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41"/>
          <p:cNvSpPr/>
          <p:nvPr/>
        </p:nvSpPr>
        <p:spPr>
          <a:xfrm>
            <a:off x="1424880" y="439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41"/>
          <p:cNvSpPr/>
          <p:nvPr/>
        </p:nvSpPr>
        <p:spPr>
          <a:xfrm>
            <a:off x="4215600" y="439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24"/>
          <p:cNvSpPr/>
          <p:nvPr/>
        </p:nvSpPr>
        <p:spPr>
          <a:xfrm>
            <a:off x="4975200" y="314640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25"/>
          <p:cNvSpPr/>
          <p:nvPr/>
        </p:nvSpPr>
        <p:spPr>
          <a:xfrm>
            <a:off x="2784960" y="3713040"/>
            <a:ext cx="4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26"/>
          <p:cNvSpPr/>
          <p:nvPr/>
        </p:nvSpPr>
        <p:spPr>
          <a:xfrm>
            <a:off x="4964760" y="3713040"/>
            <a:ext cx="4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27"/>
          <p:cNvSpPr/>
          <p:nvPr/>
        </p:nvSpPr>
        <p:spPr>
          <a:xfrm>
            <a:off x="2183400" y="4259160"/>
            <a:ext cx="4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28"/>
          <p:cNvSpPr/>
          <p:nvPr/>
        </p:nvSpPr>
        <p:spPr>
          <a:xfrm>
            <a:off x="5900040" y="425916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21"/>
          <p:cNvSpPr/>
          <p:nvPr/>
        </p:nvSpPr>
        <p:spPr>
          <a:xfrm>
            <a:off x="1628640" y="1749600"/>
            <a:ext cx="727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括号里填上恰当的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树林　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鸟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百灵鸟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地鸣叫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劲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地放飞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叫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跑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看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25"/>
          <p:cNvSpPr/>
          <p:nvPr/>
        </p:nvSpPr>
        <p:spPr>
          <a:xfrm>
            <a:off x="2193480" y="2379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茂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26"/>
          <p:cNvSpPr/>
          <p:nvPr/>
        </p:nvSpPr>
        <p:spPr>
          <a:xfrm>
            <a:off x="5393880" y="2379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动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27"/>
          <p:cNvSpPr/>
          <p:nvPr/>
        </p:nvSpPr>
        <p:spPr>
          <a:xfrm>
            <a:off x="2193480" y="2995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小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28"/>
          <p:cNvSpPr/>
          <p:nvPr/>
        </p:nvSpPr>
        <p:spPr>
          <a:xfrm>
            <a:off x="5393880" y="2995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高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29"/>
          <p:cNvSpPr/>
          <p:nvPr/>
        </p:nvSpPr>
        <p:spPr>
          <a:xfrm>
            <a:off x="3133440" y="3532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奔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30"/>
          <p:cNvSpPr/>
          <p:nvPr/>
        </p:nvSpPr>
        <p:spPr>
          <a:xfrm>
            <a:off x="5211000" y="3532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心甘情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31"/>
          <p:cNvSpPr/>
          <p:nvPr/>
        </p:nvSpPr>
        <p:spPr>
          <a:xfrm>
            <a:off x="2754000" y="4062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响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32"/>
          <p:cNvSpPr/>
          <p:nvPr/>
        </p:nvSpPr>
        <p:spPr>
          <a:xfrm>
            <a:off x="6041880" y="4062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飞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33"/>
          <p:cNvSpPr/>
          <p:nvPr/>
        </p:nvSpPr>
        <p:spPr>
          <a:xfrm>
            <a:off x="2754000" y="4597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认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矩形 9"/>
          <p:cNvSpPr/>
          <p:nvPr/>
        </p:nvSpPr>
        <p:spPr>
          <a:xfrm>
            <a:off x="971640" y="1730520"/>
            <a:ext cx="741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给下列句子中加点的字选择正确的解释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填序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．经过某个空间或时间。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过错。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表示完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现在的日子越过越好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明经老师一翻教育后，已经悔过了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杏花和桃花都已经开过了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14"/>
          <p:cNvSpPr/>
          <p:nvPr/>
        </p:nvSpPr>
        <p:spPr>
          <a:xfrm>
            <a:off x="5051160" y="288756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15"/>
          <p:cNvSpPr/>
          <p:nvPr/>
        </p:nvSpPr>
        <p:spPr>
          <a:xfrm>
            <a:off x="7142040" y="3448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16"/>
          <p:cNvSpPr/>
          <p:nvPr/>
        </p:nvSpPr>
        <p:spPr>
          <a:xfrm>
            <a:off x="5654880" y="404496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8"/>
          <p:cNvSpPr/>
          <p:nvPr/>
        </p:nvSpPr>
        <p:spPr>
          <a:xfrm>
            <a:off x="946080" y="192240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选词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美丽　　美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百灵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声音深深地打动了我的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杭州是一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旅游城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9"/>
          <p:cNvSpPr/>
          <p:nvPr/>
        </p:nvSpPr>
        <p:spPr>
          <a:xfrm>
            <a:off x="2946240" y="3144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美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10"/>
          <p:cNvSpPr/>
          <p:nvPr/>
        </p:nvSpPr>
        <p:spPr>
          <a:xfrm>
            <a:off x="3555720" y="3683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美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矩形 9"/>
          <p:cNvSpPr/>
          <p:nvPr/>
        </p:nvSpPr>
        <p:spPr>
          <a:xfrm>
            <a:off x="920880" y="1235160"/>
            <a:ext cx="7227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按要求改写句子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我放飞了笼中所有的鸟儿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改为“把”字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荒野、林子里飞来飞去的鸟儿，谁也不属于，叫得再婉转动听，也无人欣赏、品评，有什么价值呢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改成陈述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孩子说：“我也说不清，像是音色不同。”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改成第三人称转述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10"/>
          <p:cNvSpPr/>
          <p:nvPr/>
        </p:nvSpPr>
        <p:spPr>
          <a:xfrm>
            <a:off x="1380960" y="2259000"/>
            <a:ext cx="379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我把笼中所有的鸟儿放飞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11"/>
          <p:cNvSpPr/>
          <p:nvPr/>
        </p:nvSpPr>
        <p:spPr>
          <a:xfrm>
            <a:off x="1380960" y="3522600"/>
            <a:ext cx="6624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在荒野、林子里飞来飞去的鸟儿，谁也不属于，叫得再婉转动听，也无人欣赏、品评，没有什么价值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12"/>
          <p:cNvSpPr/>
          <p:nvPr/>
        </p:nvSpPr>
        <p:spPr>
          <a:xfrm>
            <a:off x="1380960" y="5454720"/>
            <a:ext cx="49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孩子说，他也说不清，像是音色不同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6"/>
          <p:cNvSpPr/>
          <p:nvPr/>
        </p:nvSpPr>
        <p:spPr>
          <a:xfrm>
            <a:off x="866880" y="2365200"/>
            <a:ext cx="749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会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，积累文中佳句。理解“酣睡、愠色、韵色、赋予、天性、可怜、遮天蔽日、杂乱无章”等词语的意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任意多边形 8"/>
          <p:cNvSpPr/>
          <p:nvPr/>
        </p:nvSpPr>
        <p:spPr>
          <a:xfrm>
            <a:off x="1392120" y="2579760"/>
            <a:ext cx="6337440" cy="31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酣    婶    娱    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矩形 3"/>
          <p:cNvSpPr/>
          <p:nvPr/>
        </p:nvSpPr>
        <p:spPr>
          <a:xfrm>
            <a:off x="1220400" y="2301840"/>
            <a:ext cx="10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hā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3023280" y="2309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ě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5121360" y="231624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矩形 10"/>
          <p:cNvSpPr/>
          <p:nvPr/>
        </p:nvSpPr>
        <p:spPr>
          <a:xfrm>
            <a:off x="6964920" y="2286000"/>
            <a:ext cx="6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f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73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6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6853320" y="4807080"/>
            <a:ext cx="1752480" cy="1477800"/>
          </a:xfrm>
          <a:prstGeom prst="rect">
            <a:avLst/>
          </a:prstGeom>
          <a:ln w="0">
            <a:noFill/>
          </a:ln>
        </p:spPr>
      </p:pic>
      <p:pic>
        <p:nvPicPr>
          <p:cNvPr id="77" name="图片 10" descr=""/>
          <p:cNvPicPr/>
          <p:nvPr/>
        </p:nvPicPr>
        <p:blipFill>
          <a:blip r:embed="rId3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79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TextBox 1"/>
          <p:cNvSpPr/>
          <p:nvPr/>
        </p:nvSpPr>
        <p:spPr>
          <a:xfrm>
            <a:off x="1709640" y="2695680"/>
            <a:ext cx="631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酣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睡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          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愠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色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自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娱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自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鹌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鹑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          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赋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10"/>
          <p:cNvSpPr/>
          <p:nvPr/>
        </p:nvSpPr>
        <p:spPr>
          <a:xfrm>
            <a:off x="1549440" y="2155680"/>
            <a:ext cx="10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hā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3470040" y="2141640"/>
            <a:ext cx="12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ùn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13"/>
          <p:cNvSpPr/>
          <p:nvPr/>
        </p:nvSpPr>
        <p:spPr>
          <a:xfrm>
            <a:off x="6073200" y="214164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ú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14"/>
          <p:cNvSpPr/>
          <p:nvPr/>
        </p:nvSpPr>
        <p:spPr>
          <a:xfrm>
            <a:off x="1719360" y="3782880"/>
            <a:ext cx="15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ún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3662280" y="3782880"/>
            <a:ext cx="8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fù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89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TextBox 1"/>
          <p:cNvSpPr/>
          <p:nvPr/>
        </p:nvSpPr>
        <p:spPr>
          <a:xfrm>
            <a:off x="1873080" y="2739960"/>
            <a:ext cx="107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组合 26"/>
          <p:cNvGrpSpPr/>
          <p:nvPr/>
        </p:nvGrpSpPr>
        <p:grpSpPr>
          <a:xfrm>
            <a:off x="2476440" y="2157480"/>
            <a:ext cx="5934240" cy="1556280"/>
            <a:chOff x="2476440" y="2157480"/>
            <a:chExt cx="5934240" cy="1556280"/>
          </a:xfrm>
        </p:grpSpPr>
        <p:sp>
          <p:nvSpPr>
            <p:cNvPr id="94" name="左大括号 27"/>
            <p:cNvSpPr/>
            <p:nvPr/>
          </p:nvSpPr>
          <p:spPr>
            <a:xfrm>
              <a:off x="2476440" y="2403360"/>
              <a:ext cx="411120" cy="1258920"/>
            </a:xfrm>
            <a:custGeom>
              <a:avLst/>
              <a:gdLst>
                <a:gd name="textAreaLeft" fmla="*/ 262800 w 411120"/>
                <a:gd name="textAreaRight" fmla="*/ 411480 w 411120"/>
                <a:gd name="textAreaTop" fmla="*/ 5400 h 1258920"/>
                <a:gd name="textAreaBottom" fmla="*/ 125352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57"/>
                    <a:pt x="10800" y="313"/>
                  </a:cubicBezTo>
                  <a:lnTo>
                    <a:pt x="10800" y="10487"/>
                  </a:lnTo>
                  <a:cubicBezTo>
                    <a:pt x="10800" y="10644"/>
                    <a:pt x="5400" y="10800"/>
                    <a:pt x="0" y="10800"/>
                  </a:cubicBezTo>
                  <a:cubicBezTo>
                    <a:pt x="5400" y="10800"/>
                    <a:pt x="10800" y="10957"/>
                    <a:pt x="10800" y="11113"/>
                  </a:cubicBezTo>
                  <a:lnTo>
                    <a:pt x="10800" y="21287"/>
                  </a:lnTo>
                  <a:cubicBezTo>
                    <a:pt x="10800" y="21444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Box 28"/>
            <p:cNvSpPr/>
            <p:nvPr/>
          </p:nvSpPr>
          <p:spPr>
            <a:xfrm>
              <a:off x="2844720" y="2157480"/>
              <a:ext cx="55659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zuān</a:t>
              </a:r>
              <a:r>
                <a:rPr b="1" lang="zh-CN" sz="3200" spc="-1" strike="noStrike">
                  <a:solidFill>
                    <a:srgbClr val="ff0000"/>
                  </a:solidFill>
                  <a:latin typeface="宋体"/>
                </a:rPr>
                <a:t>（钻研　钻心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zuàn</a:t>
              </a:r>
              <a:r>
                <a:rPr b="1" lang="zh-CN" sz="3200" spc="-1" strike="noStrike">
                  <a:solidFill>
                    <a:srgbClr val="ff0000"/>
                  </a:solidFill>
                  <a:latin typeface="宋体"/>
                </a:rPr>
                <a:t>（钻石　钢钻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TextBox 13"/>
          <p:cNvSpPr/>
          <p:nvPr/>
        </p:nvSpPr>
        <p:spPr>
          <a:xfrm>
            <a:off x="1878120" y="4275000"/>
            <a:ext cx="5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组合 30"/>
          <p:cNvGrpSpPr/>
          <p:nvPr/>
        </p:nvGrpSpPr>
        <p:grpSpPr>
          <a:xfrm>
            <a:off x="2496960" y="3751200"/>
            <a:ext cx="4875480" cy="1556280"/>
            <a:chOff x="2496960" y="3751200"/>
            <a:chExt cx="4875480" cy="1556280"/>
          </a:xfrm>
        </p:grpSpPr>
        <p:sp>
          <p:nvSpPr>
            <p:cNvPr id="98" name="左大括号 31"/>
            <p:cNvSpPr/>
            <p:nvPr/>
          </p:nvSpPr>
          <p:spPr>
            <a:xfrm>
              <a:off x="2496960" y="3933720"/>
              <a:ext cx="446040" cy="1259280"/>
            </a:xfrm>
            <a:custGeom>
              <a:avLst/>
              <a:gdLst>
                <a:gd name="textAreaLeft" fmla="*/ 285120 w 446040"/>
                <a:gd name="textAreaRight" fmla="*/ 446400 w 446040"/>
                <a:gd name="textAreaTop" fmla="*/ 3960 h 1259280"/>
                <a:gd name="textAreaBottom" fmla="*/ 1255320 h 125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11"/>
                    <a:pt x="10800" y="221"/>
                  </a:cubicBezTo>
                  <a:lnTo>
                    <a:pt x="10800" y="10579"/>
                  </a:lnTo>
                  <a:cubicBezTo>
                    <a:pt x="10800" y="10690"/>
                    <a:pt x="5400" y="10800"/>
                    <a:pt x="0" y="10800"/>
                  </a:cubicBezTo>
                  <a:cubicBezTo>
                    <a:pt x="5400" y="10800"/>
                    <a:pt x="10800" y="10911"/>
                    <a:pt x="10800" y="11021"/>
                  </a:cubicBezTo>
                  <a:lnTo>
                    <a:pt x="10800" y="21379"/>
                  </a:lnTo>
                  <a:cubicBezTo>
                    <a:pt x="10800" y="2149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TextBox 32"/>
            <p:cNvSpPr/>
            <p:nvPr/>
          </p:nvSpPr>
          <p:spPr>
            <a:xfrm>
              <a:off x="2869920" y="3751200"/>
              <a:ext cx="45025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dǎi</a:t>
              </a:r>
              <a:r>
                <a:rPr b="1" lang="zh-CN" sz="3200" spc="-1" strike="noStrike">
                  <a:solidFill>
                    <a:srgbClr val="ff0000"/>
                  </a:solidFill>
                  <a:latin typeface="宋体"/>
                </a:rPr>
                <a:t>（逮住　逮老鼠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dài</a:t>
              </a:r>
              <a:r>
                <a:rPr b="1" lang="zh-CN" sz="3200" spc="-1" strike="noStrike">
                  <a:solidFill>
                    <a:srgbClr val="ff0000"/>
                  </a:solidFill>
                  <a:latin typeface="宋体"/>
                </a:rPr>
                <a:t>（逮捕　力有未逮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"/>
          <p:cNvSpPr/>
          <p:nvPr/>
        </p:nvSpPr>
        <p:spPr>
          <a:xfrm>
            <a:off x="1343160" y="2043000"/>
            <a:ext cx="7456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酣睡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愠色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韵色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赋予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02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矩形 1"/>
          <p:cNvSpPr/>
          <p:nvPr/>
        </p:nvSpPr>
        <p:spPr>
          <a:xfrm>
            <a:off x="2154240" y="2049480"/>
            <a:ext cx="6521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熟睡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恼怒的脸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他看上去面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愠色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文中指鸟鸣声婉转而各具特色，音色各有不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古琴和古筝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韵色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是不同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交给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重大任务、使命等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大自然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赋予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万物神奇的力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"/>
          <p:cNvSpPr/>
          <p:nvPr/>
        </p:nvSpPr>
        <p:spPr>
          <a:xfrm>
            <a:off x="1258920" y="1776240"/>
            <a:ext cx="74563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天性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可怜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遮天蔽日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杂乱无章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08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矩形 1"/>
          <p:cNvSpPr/>
          <p:nvPr/>
        </p:nvSpPr>
        <p:spPr>
          <a:xfrm>
            <a:off x="2498760" y="1809720"/>
            <a:ext cx="66452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人先天具有的品质或性情。文中指鸟儿先天具有的品质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①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值得怜悯。②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数量少或质量坏到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不值得一提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 ①他刚七岁时父母就去世了，真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可怜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他得到的工资少得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可怜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遮住天空，挡住阳光。文中形容树林非常茂盛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又多又乱，没有条理。文中指林中鸟儿的鸣叫没有条理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屋子里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杂乱无章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地摆着书本和衣服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1"/>
          <p:cNvSpPr/>
          <p:nvPr/>
        </p:nvSpPr>
        <p:spPr>
          <a:xfrm>
            <a:off x="3963240" y="198288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嘹亮　响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18"/>
          <p:cNvSpPr/>
          <p:nvPr/>
        </p:nvSpPr>
        <p:spPr>
          <a:xfrm>
            <a:off x="2298600" y="2631960"/>
            <a:ext cx="625788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都有声音大的意思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嘹亮”侧重于声音清晰而响亮，往往包含着优美动听的意思。“响亮”只指声音洪亮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同学们歌声</a:t>
            </a:r>
            <a:r>
              <a:rPr b="1" lang="zh-CN" sz="2300" spc="-1" strike="noStrike">
                <a:solidFill>
                  <a:srgbClr val="ff00ff"/>
                </a:solidFill>
                <a:latin typeface="宋体"/>
              </a:rPr>
              <a:t>嘹亮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，十分动听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他们用</a:t>
            </a:r>
            <a:r>
              <a:rPr b="1" lang="zh-CN" sz="2300" spc="-1" strike="noStrike">
                <a:solidFill>
                  <a:srgbClr val="ff00ff"/>
                </a:solidFill>
                <a:latin typeface="宋体"/>
              </a:rPr>
              <a:t>响亮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的声音高喊着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组合 1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15" name="圆角矩形 20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辨析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组合 4"/>
          <p:cNvGrpSpPr/>
          <p:nvPr/>
        </p:nvGrpSpPr>
        <p:grpSpPr>
          <a:xfrm>
            <a:off x="817560" y="2697120"/>
            <a:ext cx="1670040" cy="459720"/>
            <a:chOff x="817560" y="2697120"/>
            <a:chExt cx="1670040" cy="459720"/>
          </a:xfrm>
        </p:grpSpPr>
        <p:pic>
          <p:nvPicPr>
            <p:cNvPr id="119" name="Picture 9" descr="E:\各版本共用文件\0未分类文件\图片\课件制作所需图片\星星.jpg"/>
            <p:cNvPicPr/>
            <p:nvPr/>
          </p:nvPicPr>
          <p:blipFill>
            <a:blip r:embed="rId2"/>
            <a:stretch/>
          </p:blipFill>
          <p:spPr>
            <a:xfrm>
              <a:off x="817560" y="275148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Box 3"/>
            <p:cNvSpPr/>
            <p:nvPr/>
          </p:nvSpPr>
          <p:spPr>
            <a:xfrm>
              <a:off x="1160640" y="26971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相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组合 20"/>
          <p:cNvGrpSpPr/>
          <p:nvPr/>
        </p:nvGrpSpPr>
        <p:grpSpPr>
          <a:xfrm>
            <a:off x="817560" y="3327480"/>
            <a:ext cx="1670040" cy="459720"/>
            <a:chOff x="817560" y="3327480"/>
            <a:chExt cx="1670040" cy="459720"/>
          </a:xfrm>
        </p:grpSpPr>
        <p:pic>
          <p:nvPicPr>
            <p:cNvPr id="122" name="Picture 9" descr="E:\各版本共用文件\0未分类文件\图片\课件制作所需图片\星星.jpg"/>
            <p:cNvPicPr/>
            <p:nvPr/>
          </p:nvPicPr>
          <p:blipFill>
            <a:blip r:embed="rId3"/>
            <a:stretch/>
          </p:blipFill>
          <p:spPr>
            <a:xfrm>
              <a:off x="817560" y="338184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Box 22"/>
            <p:cNvSpPr/>
            <p:nvPr/>
          </p:nvSpPr>
          <p:spPr>
            <a:xfrm>
              <a:off x="1160640" y="332748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组合 23"/>
          <p:cNvGrpSpPr/>
          <p:nvPr/>
        </p:nvGrpSpPr>
        <p:grpSpPr>
          <a:xfrm>
            <a:off x="817560" y="4448160"/>
            <a:ext cx="1670040" cy="459720"/>
            <a:chOff x="817560" y="4448160"/>
            <a:chExt cx="1670040" cy="459720"/>
          </a:xfrm>
        </p:grpSpPr>
        <p:pic>
          <p:nvPicPr>
            <p:cNvPr id="125" name="Picture 9" descr="E:\各版本共用文件\0未分类文件\图片\课件制作所需图片\星星.jpg"/>
            <p:cNvPicPr/>
            <p:nvPr/>
          </p:nvPicPr>
          <p:blipFill>
            <a:blip r:embed="rId4"/>
            <a:stretch/>
          </p:blipFill>
          <p:spPr>
            <a:xfrm>
              <a:off x="817560" y="450252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Box 25"/>
            <p:cNvSpPr/>
            <p:nvPr/>
          </p:nvSpPr>
          <p:spPr>
            <a:xfrm>
              <a:off x="1160640" y="444816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造  句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3"/>
          <p:cNvSpPr/>
          <p:nvPr/>
        </p:nvSpPr>
        <p:spPr>
          <a:xfrm>
            <a:off x="969840" y="1357200"/>
            <a:ext cx="743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捕鸟儿，听鸟鸣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“我”从小爱听百灵的叫声，就捕了许多百灵鸟，它们在院子里开起了音乐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爷爷不喜“我”养鸟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爷爷不喜欢“我”养鸟，让“我”感到很奇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三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－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9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明道理，放鸟儿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爷爷带“我”到大自然中去，让“我”明白了鸟儿是大自然的精灵，应该自由自在飞翔和鸣叫的道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C:\Users\Administrator\Desktop\3333\初读感知.png"/>
          <p:cNvPicPr/>
          <p:nvPr/>
        </p:nvPicPr>
        <p:blipFill>
          <a:blip r:embed="rId1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30T10:58:54Z</dcterms:modified>
  <cp:revision>44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