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gif" ContentType="image/gif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937D6-062E-4AD2-A4D7-3BCC93BF6F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E85C3-F750-41D6-8F4E-C2E899C932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F5A-A3D0-41C5-B706-38F326EB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8A3-4D8E-4431-9F71-11F69EF8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338-23F5-4020-9678-93938068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4D1-D870-4195-9027-EE1A3C3E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013-0433-40D4-B408-FB0EAD95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425-2C0E-4FD6-8E72-36C699D8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58F-9C48-4A8B-B502-FB109CB9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EC5-5070-486B-9438-13C61165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D65B-CB21-4781-B631-41F8E32A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C2C-A405-42F8-9045-59C3D14A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8C5-C5F1-4B99-BEC1-B1292EAA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893-82AE-4A6A-A978-4CBFB9B3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16ACA-99EE-4241-BCE8-74663385F04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63600" y="2328840"/>
            <a:ext cx="4919760" cy="30718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897200" y="5640480"/>
            <a:ext cx="5349600" cy="717480"/>
            <a:chOff x="1897200" y="5640480"/>
            <a:chExt cx="5349600" cy="717480"/>
          </a:xfrm>
        </p:grpSpPr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89720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2556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37192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40"/>
            <p:cNvSpPr/>
            <p:nvPr/>
          </p:nvSpPr>
          <p:spPr>
            <a:xfrm rot="5400000">
              <a:off x="362124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1"/>
            <p:cNvSpPr/>
            <p:nvPr/>
          </p:nvSpPr>
          <p:spPr>
            <a:xfrm rot="5400000">
              <a:off x="536976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9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2"/>
          <p:cNvSpPr/>
          <p:nvPr/>
        </p:nvSpPr>
        <p:spPr>
          <a:xfrm>
            <a:off x="2792520" y="1011240"/>
            <a:ext cx="35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奴隶英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7167"/>
          <p:cNvSpPr/>
          <p:nvPr/>
        </p:nvSpPr>
        <p:spPr>
          <a:xfrm>
            <a:off x="1368360" y="2395440"/>
            <a:ext cx="68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加点的字词选择正确的读音，画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奴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ú l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ú l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ī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ǐ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41"/>
          <p:cNvSpPr/>
          <p:nvPr/>
        </p:nvSpPr>
        <p:spPr>
          <a:xfrm>
            <a:off x="143424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3062520" y="3079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1"/>
          <p:cNvSpPr/>
          <p:nvPr/>
        </p:nvSpPr>
        <p:spPr>
          <a:xfrm>
            <a:off x="1438920" y="429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41"/>
          <p:cNvSpPr/>
          <p:nvPr/>
        </p:nvSpPr>
        <p:spPr>
          <a:xfrm>
            <a:off x="1438920" y="3747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41"/>
          <p:cNvSpPr/>
          <p:nvPr/>
        </p:nvSpPr>
        <p:spPr>
          <a:xfrm>
            <a:off x="175176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2334240" y="364500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2694600" y="418140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3"/>
          <p:cNvSpPr/>
          <p:nvPr/>
        </p:nvSpPr>
        <p:spPr>
          <a:xfrm>
            <a:off x="1720800" y="1574640"/>
            <a:ext cx="613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下面的多音字注音并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左大括号 2"/>
          <p:cNvSpPr/>
          <p:nvPr/>
        </p:nvSpPr>
        <p:spPr>
          <a:xfrm>
            <a:off x="2021040" y="236700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472"/>
                </a:lnTo>
                <a:cubicBezTo>
                  <a:pt x="10800" y="10636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8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左大括号 16"/>
          <p:cNvSpPr/>
          <p:nvPr/>
        </p:nvSpPr>
        <p:spPr>
          <a:xfrm>
            <a:off x="2021040" y="3465360"/>
            <a:ext cx="142560" cy="79236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1646280" y="253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1663560" y="3630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2267280" y="2205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dā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267280" y="27795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à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0"/>
          <p:cNvSpPr/>
          <p:nvPr/>
        </p:nvSpPr>
        <p:spPr>
          <a:xfrm>
            <a:off x="4113000" y="2232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1"/>
          <p:cNvSpPr/>
          <p:nvPr/>
        </p:nvSpPr>
        <p:spPr>
          <a:xfrm>
            <a:off x="4113000" y="2795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169360" y="33195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ǎ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4113000" y="3341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场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2169360" y="38656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4144320" y="3889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场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1557360" y="157788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珊（　　　　）      幕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栅（　　　　）      慕（　　　　）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拌（　　　　）      虏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绊（　　　　）      虑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竟（　　　　）      奏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竞（　　　　）      秦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左大括号 8"/>
          <p:cNvSpPr/>
          <p:nvPr/>
        </p:nvSpPr>
        <p:spPr>
          <a:xfrm>
            <a:off x="1557360" y="234468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左大括号 9"/>
          <p:cNvSpPr/>
          <p:nvPr/>
        </p:nvSpPr>
        <p:spPr>
          <a:xfrm>
            <a:off x="1557360" y="342576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左大括号 14"/>
          <p:cNvSpPr/>
          <p:nvPr/>
        </p:nvSpPr>
        <p:spPr>
          <a:xfrm>
            <a:off x="1557360" y="450540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左大括号 15"/>
          <p:cNvSpPr/>
          <p:nvPr/>
        </p:nvSpPr>
        <p:spPr>
          <a:xfrm>
            <a:off x="4653000" y="235908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左大括号 16"/>
          <p:cNvSpPr/>
          <p:nvPr/>
        </p:nvSpPr>
        <p:spPr>
          <a:xfrm>
            <a:off x="4653000" y="34401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左大括号 17"/>
          <p:cNvSpPr/>
          <p:nvPr/>
        </p:nvSpPr>
        <p:spPr>
          <a:xfrm>
            <a:off x="4653000" y="45194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268092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珊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2680920" y="2771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栅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566856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独幕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7"/>
          <p:cNvSpPr/>
          <p:nvPr/>
        </p:nvSpPr>
        <p:spPr>
          <a:xfrm>
            <a:off x="5760720" y="2771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羡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8"/>
          <p:cNvSpPr/>
          <p:nvPr/>
        </p:nvSpPr>
        <p:spPr>
          <a:xfrm>
            <a:off x="2680920" y="335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搅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9"/>
          <p:cNvSpPr/>
          <p:nvPr/>
        </p:nvSpPr>
        <p:spPr>
          <a:xfrm>
            <a:off x="2680920" y="387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绊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0"/>
          <p:cNvSpPr/>
          <p:nvPr/>
        </p:nvSpPr>
        <p:spPr>
          <a:xfrm>
            <a:off x="5760720" y="335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俘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1"/>
          <p:cNvSpPr/>
          <p:nvPr/>
        </p:nvSpPr>
        <p:spPr>
          <a:xfrm>
            <a:off x="5760720" y="3865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考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2"/>
          <p:cNvSpPr/>
          <p:nvPr/>
        </p:nvSpPr>
        <p:spPr>
          <a:xfrm>
            <a:off x="2680920" y="4427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竟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3"/>
          <p:cNvSpPr/>
          <p:nvPr/>
        </p:nvSpPr>
        <p:spPr>
          <a:xfrm>
            <a:off x="2680920" y="4971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竞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4"/>
          <p:cNvSpPr/>
          <p:nvPr/>
        </p:nvSpPr>
        <p:spPr>
          <a:xfrm>
            <a:off x="5760720" y="4427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弹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5"/>
          <p:cNvSpPr/>
          <p:nvPr/>
        </p:nvSpPr>
        <p:spPr>
          <a:xfrm>
            <a:off x="5760720" y="4971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秦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1"/>
          <p:cNvSpPr/>
          <p:nvPr/>
        </p:nvSpPr>
        <p:spPr>
          <a:xfrm>
            <a:off x="1366920" y="167004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怒　　奴　　弩　　努　　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力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隶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剑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张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1852560" y="287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4309920" y="287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213984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487656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9"/>
          <p:cNvSpPr/>
          <p:nvPr/>
        </p:nvSpPr>
        <p:spPr>
          <a:xfrm>
            <a:off x="1852560" y="3978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"/>
          <p:cNvSpPr/>
          <p:nvPr/>
        </p:nvSpPr>
        <p:spPr>
          <a:xfrm>
            <a:off x="800280" y="188604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下列句子填上合适的关联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罗马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的主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的仇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们拿我们不当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天逼我们做苦工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叫我们互相残杀，给他们当把戏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2801520" y="2538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6144840" y="2538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而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4635360" y="36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9"/>
          <p:cNvSpPr/>
          <p:nvPr/>
        </p:nvSpPr>
        <p:spPr>
          <a:xfrm>
            <a:off x="2488320" y="4202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758880" y="1249200"/>
            <a:ext cx="77058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难道你们愿意跟我拼命，给他们看着好玩儿吗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成陈述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斯巴达克赤手空拳打死了一头狮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改成“把”字句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改成“被”字句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狮子真被他打死了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成感叹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1263600" y="2736720"/>
            <a:ext cx="554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你们不愿意跟我拼命，给他们看着好玩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3595680" y="3755880"/>
            <a:ext cx="4984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斯巴达克赤手空拳把一头狮子打死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3595680" y="4262400"/>
            <a:ext cx="504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一头狮子被斯巴达克赤手空拳打死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1263600" y="5257800"/>
            <a:ext cx="3765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啊！狮子真被他打死了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6"/>
          <p:cNvSpPr/>
          <p:nvPr/>
        </p:nvSpPr>
        <p:spPr>
          <a:xfrm>
            <a:off x="890640" y="298296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角色朗读课文，理解课文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8"/>
          <p:cNvSpPr/>
          <p:nvPr/>
        </p:nvSpPr>
        <p:spPr>
          <a:xfrm>
            <a:off x="2389320" y="3019320"/>
            <a:ext cx="6337080" cy="316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奴  隶  乙  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2401200" y="272088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888000" y="276084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889880" y="2766960"/>
            <a:ext cx="5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5932440" y="2771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ì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1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7380360" y="469908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77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Box 1"/>
          <p:cNvSpPr/>
          <p:nvPr/>
        </p:nvSpPr>
        <p:spPr>
          <a:xfrm>
            <a:off x="1709640" y="3208320"/>
            <a:ext cx="65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奴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隶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栏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抛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0"/>
          <p:cNvSpPr/>
          <p:nvPr/>
        </p:nvSpPr>
        <p:spPr>
          <a:xfrm>
            <a:off x="1629720" y="266544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908160" y="2679840"/>
            <a:ext cx="12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6344280" y="2670120"/>
            <a:ext cx="12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ā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85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TextBox 1"/>
          <p:cNvSpPr/>
          <p:nvPr/>
        </p:nvSpPr>
        <p:spPr>
          <a:xfrm>
            <a:off x="1573200" y="27446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18"/>
          <p:cNvGrpSpPr/>
          <p:nvPr/>
        </p:nvGrpSpPr>
        <p:grpSpPr>
          <a:xfrm>
            <a:off x="2019240" y="2270160"/>
            <a:ext cx="3924360" cy="1373400"/>
            <a:chOff x="2019240" y="2270160"/>
            <a:chExt cx="3924360" cy="1373400"/>
          </a:xfrm>
        </p:grpSpPr>
        <p:sp>
          <p:nvSpPr>
            <p:cNvPr id="90" name="左大括号 19"/>
            <p:cNvSpPr/>
            <p:nvPr/>
          </p:nvSpPr>
          <p:spPr>
            <a:xfrm>
              <a:off x="2019240" y="2555640"/>
              <a:ext cx="308520" cy="928800"/>
            </a:xfrm>
            <a:custGeom>
              <a:avLst/>
              <a:gdLst>
                <a:gd name="textAreaLeft" fmla="*/ 197280 w 308520"/>
                <a:gd name="textAreaRight" fmla="*/ 308880 w 30852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20"/>
            <p:cNvSpPr/>
            <p:nvPr/>
          </p:nvSpPr>
          <p:spPr>
            <a:xfrm>
              <a:off x="2277720" y="2270160"/>
              <a:ext cx="36658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kōnɡ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天空　空气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kònɡ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空白　空缺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extBox 13"/>
          <p:cNvSpPr/>
          <p:nvPr/>
        </p:nvSpPr>
        <p:spPr>
          <a:xfrm>
            <a:off x="1590840" y="435600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22"/>
          <p:cNvGrpSpPr/>
          <p:nvPr/>
        </p:nvGrpSpPr>
        <p:grpSpPr>
          <a:xfrm>
            <a:off x="2108160" y="3902040"/>
            <a:ext cx="3835440" cy="1373400"/>
            <a:chOff x="2108160" y="3902040"/>
            <a:chExt cx="3835440" cy="1373400"/>
          </a:xfrm>
        </p:grpSpPr>
        <p:sp>
          <p:nvSpPr>
            <p:cNvPr id="94" name="左大括号 23"/>
            <p:cNvSpPr/>
            <p:nvPr/>
          </p:nvSpPr>
          <p:spPr>
            <a:xfrm>
              <a:off x="2108160" y="4167000"/>
              <a:ext cx="211680" cy="951120"/>
            </a:xfrm>
            <a:custGeom>
              <a:avLst/>
              <a:gdLst>
                <a:gd name="textAreaLeft" fmla="*/ 135360 w 211680"/>
                <a:gd name="textAreaRight" fmla="*/ 212040 w 21168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24"/>
            <p:cNvSpPr/>
            <p:nvPr/>
          </p:nvSpPr>
          <p:spPr>
            <a:xfrm>
              <a:off x="2269800" y="3902040"/>
              <a:ext cx="36738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ɡ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上当　恰当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ɡ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当心　当中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1274760" y="1714680"/>
            <a:ext cx="745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奴隶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反抗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俘虏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激烈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558720" y="1152360"/>
            <a:ext cx="2594160" cy="667080"/>
            <a:chOff x="558720" y="1152360"/>
            <a:chExt cx="2594160" cy="667080"/>
          </a:xfrm>
        </p:grpSpPr>
        <p:sp>
          <p:nvSpPr>
            <p:cNvPr id="98" name="圆角矩形 5"/>
            <p:cNvSpPr/>
            <p:nvPr/>
          </p:nvSpPr>
          <p:spPr>
            <a:xfrm>
              <a:off x="1374840" y="1290600"/>
              <a:ext cx="1778040" cy="44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52360"/>
              <a:ext cx="1087560" cy="6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16"/>
            <p:cNvSpPr/>
            <p:nvPr/>
          </p:nvSpPr>
          <p:spPr>
            <a:xfrm>
              <a:off x="1634040" y="13096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矩形 1"/>
          <p:cNvSpPr/>
          <p:nvPr/>
        </p:nvSpPr>
        <p:spPr>
          <a:xfrm>
            <a:off x="2085840" y="1720800"/>
            <a:ext cx="664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为奴隶主劳动而没有人身自由的人，常常被奴隶主任意买卖或杀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用行动反对；抵抗。文中指奴隶们一起抵抗奴隶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哪里有压迫哪里就有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反抗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打仗时捉住敌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这次战役，我军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俘虏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了很多敌人，大获全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动作、言论等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剧烈。②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性情、情怀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激奋刚烈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①篮球场上的比赛越来越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激烈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岳飞写下的情真意切、壮怀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激烈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满江红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至今仍被人们传诵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3"/>
          <p:cNvSpPr/>
          <p:nvPr/>
        </p:nvSpPr>
        <p:spPr>
          <a:xfrm>
            <a:off x="968400" y="963720"/>
            <a:ext cx="760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从开头至男说“斯巴达克”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威名相传。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通过两个男女观众的对话，反映了当时的社会情况，交代了斯巴达克的身份和特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从“这时司令官陪着贵妇人上场”到女说“这才好看”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斗猛狮。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讲斯巴达克打死了狮子，司令官又下令让他跟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奴隶拿着武器角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从“武官把一支标枪丢进栅栏里去”到斯巴达克说“弟兄们！动手！”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唤醒奴隶。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讲斯巴达克启发奴隶弟兄们诉说苦难，激起他们对奴隶主贵族的仇恨，鼓动他们起来反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第四部分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从“一个奴隶用斧子把锁着的铁门砍开”至“幕落”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奋起反抗。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讲奴隶们在斯巴达克带领下冲出铁门，举行起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7"/>
          <p:cNvSpPr/>
          <p:nvPr/>
        </p:nvSpPr>
        <p:spPr>
          <a:xfrm>
            <a:off x="1351080" y="2424240"/>
            <a:ext cx="689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奴隶主派“一百多人围着他打。从早到晚，把他打乏了，才用绳子把他绊倒捉了来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中可以了解到斯巴达克是一个奴隶，是角斗士。他很勇猛，是个大力士。还可以感受到他具有强烈的反抗精神，一百多人对付他一个人，虽然把他捉了来，但是被他打死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9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731880" y="1282680"/>
            <a:ext cx="77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课文，说说斯巴达克是怎样被捉住的，你对斯巴达克有什么初步印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07" name="矩形 11"/>
          <p:cNvSpPr/>
          <p:nvPr/>
        </p:nvSpPr>
        <p:spPr>
          <a:xfrm>
            <a:off x="984240" y="2446200"/>
            <a:ext cx="7380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课讲的是两千多年前在罗马城斗兽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发生奴隶起义的故事，揭露了奴隶主贵族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罪恶和奴隶社会的黑暗，歌颂了奴隶英雄斯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达克的反抗精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0:50:35Z</dcterms:modified>
  <cp:revision>4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