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D0FD-DFC0-4C46-92FB-D65AE33D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51D-A8C2-4D7E-85DE-8CC2FFAB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3306-DFF9-4ED5-9919-D1E144A1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08D4-4340-49E8-BF5B-AB732DE2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7E0-06FE-4F39-B6C5-3F85A454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1661-C1E6-4EB8-AA68-682363FE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080-CC60-4DAE-A211-F97F7D06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537-3A54-4445-8D34-67B3BA3D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DFB-E401-4D32-8314-D10A2DD0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965-0217-4B71-A176-B2141079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65A-0085-4A96-AF8E-5A2BCECC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6D7C-9F0D-4479-B383-020C3F84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12B1-469E-40E4-A621-30BC29365C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Arial"/>
                <a:ea typeface="楷体_GB2312"/>
              </a:rPr>
              <a:t>15.</a:t>
            </a:r>
            <a:r>
              <a:rPr b="0" lang="zh-CN" sz="8000" spc="-1" strike="noStrike">
                <a:solidFill>
                  <a:srgbClr val="ff3300"/>
                </a:solidFill>
                <a:latin typeface="Arial"/>
                <a:ea typeface="楷体_GB2312"/>
              </a:rPr>
              <a:t>仙人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11640" cy="3716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3683160"/>
            <a:ext cx="4211640" cy="3174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18900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墨西哥国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3141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716360" y="3141720"/>
            <a:ext cx="44276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55640" y="285264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做人应像仙人掌那样坚韧顽强，默默奉献，才能拥有独特的美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 rot="21017400">
            <a:off x="611280" y="1052640"/>
            <a:ext cx="23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206064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从本文中得到什么启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596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24808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427640" y="333360"/>
            <a:ext cx="41860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张海迪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95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秋天在济南出生。５岁患脊髓病、高位截瘫。从那时起，张海迪开始了她独到的人生。她无法上学，便在家自学完中学课程。她还自学针灸医术，为乡亲们无偿治疗。后来，张海迪自学多门外语，还当过无线电修理工。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在残酷的命运挑战面前，张海迪没有沮丧和沉沦，她以顽强的毅力和恒心与疾病做斗争，经受了严峻的考验，对人生充满了信心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她虽然没有机会走进校园，却发愤学习，学完了小学、中学全部课程，自学了大学英语、日语和德语，并攻读了大学和硕士研究生的课程。编著了《向天空敞开的窗口》、《生命的追问》、《轮椅上的梦》等书籍。张海迪名噪中华，获得两个美誉，一个是“八十年代新雷锋”，一个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"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当代保尔”。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张海迪怀着“活着就要做个对社会有益的人”的信念，以保尔为榜样，勇于把自己的光和热献给人民。她以自己的言行，回答了亿万青年非常关心的人生观、价值观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787640" y="475920"/>
            <a:ext cx="367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约翰•库缇斯一出生，腿就是畸形。医生预言，这个孩子不可能活过一个月，但是，小约翰活过了一个月；医生再次预言，这个孩子不可能活过一年，但是直到今天，这个叫约翰•库缇斯的孩子还活着。１７岁时做了腿部的切除手术，成了一个真正的“半”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１９９４年约翰•库缇斯成为了澳大利亚残疾人网球赛的冠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来他又有了上千场的国际演讲经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为了国际著名的演讲大师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   </a:t>
            </a:r>
            <a:br>
              <a:rPr sz="1000"/>
            </a:br>
            <a:br>
              <a:rPr sz="8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13725" t="0" r="15683" b="0"/>
          <a:stretch/>
        </p:blipFill>
        <p:spPr>
          <a:xfrm>
            <a:off x="0" y="0"/>
            <a:ext cx="48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 rot="417000">
            <a:off x="468360" y="260280"/>
            <a:ext cx="29512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写一写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2997360"/>
            <a:ext cx="88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联系生活实际写写自己的感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生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34920" y="1557360"/>
            <a:ext cx="69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茎秆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贮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zh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ù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椭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tu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ǒ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发酵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jià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胭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脂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zh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炙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zhì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灼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zhuó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茁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zhuó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酿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ni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à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典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di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供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ng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给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j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貌不惊人     摇曳多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坚忍顽强      默默奉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0122840" y="1790640"/>
            <a:ext cx="1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u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568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050920" y="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0"/>
            <a:ext cx="50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明确阅读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阅读是积累知识获得审美体验从而认识世界改造世界的过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205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阅读一要把握文章的主要内容，二要体会     作者的思想感情，三要品悟作者的写作方法达到学以致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83640" y="3645000"/>
            <a:ext cx="82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阅读是对语言文字的吸收，是积累；作文是对语言文字的应用，是表达。学习语文如能将阅读和作文结合起来，把知识和技能联系起来，把吸收和探究联系起来，等于开辟了一条语文学习的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速公路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64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0360" y="-360"/>
            <a:ext cx="324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仙人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628640"/>
            <a:ext cx="22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181080" y="4437000"/>
            <a:ext cx="27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用途广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0000" y="2421000"/>
            <a:ext cx="63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68360" y="2421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1549440" y="292428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27280" y="3573360"/>
            <a:ext cx="65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果实  可食用炼糖酿酒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71640" y="458136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茎片  可做饲料、燃料、建筑材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84360" y="1341360"/>
            <a:ext cx="287280" cy="1513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4360" y="3500280"/>
            <a:ext cx="287280" cy="2565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66600 h 2565720"/>
              <a:gd name="textAreaBottom" fmla="*/ 2499120 h 256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5573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生命顽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1052640"/>
            <a:ext cx="6156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根：有很强的吸水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茎：又大又粗，而且肉质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叶：为减少水分蒸发严重退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48000" y="602136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71640" y="4327560"/>
            <a:ext cx="6121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根须  发达可防水土流失、固定流沙、保护农田，还可观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2043000"/>
            <a:ext cx="4859280" cy="5616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716360" cy="3645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859280" y="3500280"/>
            <a:ext cx="4284720" cy="3357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716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4:16:39Z</dcterms:created>
  <dc:creator>Lenovo User</dc:creator>
  <dc:description/>
  <dc:language>en-US</dc:language>
  <cp:lastModifiedBy>User</cp:lastModifiedBy>
  <dcterms:modified xsi:type="dcterms:W3CDTF">2017-10-17T01:49:24Z</dcterms:modified>
  <cp:revision>29</cp:revision>
  <dc:subject/>
  <dc:title>幻灯片 1</dc:title>
</cp:coreProperties>
</file>