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chimes.wav" ContentType="audio/x-wav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BD0-D05A-4BA8-BA18-0FE815B0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9B1-43BC-48EC-AA85-F6A06CF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7D5-ADF2-493E-BFA0-3813DB3B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095-8444-4917-8259-5B54B188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4B2-B478-4EC2-AF02-339FEA52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51DD-DAD2-4730-90CA-A7F83B4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EDB-5B1D-48E3-9615-8FC8D96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6243-FA9D-4F6A-90EE-1A6DB68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53F9-683E-4153-9007-EC814FBB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86F-012A-4A51-A365-DAD3F4E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6FEE-D698-4065-885B-6A6C168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C27-7CF3-4509-AF95-7FEF27C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C075-0727-4261-A853-C2DAD47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242-7CA7-42B4-8EF1-667035D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5D6-BA32-449E-8F40-32871B4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189-DE9F-4AD9-BA67-029D438C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EC8-C53F-49B2-B27D-D36A333E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52E-E72A-4CED-AE1E-1E987518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EF0-7A67-4E09-881F-F8DD95CD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73D-CCE7-4AA3-8D30-C01A409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EA4-2823-4E7D-AFD3-782722F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B7A-2463-4AA0-8502-FFCDBA1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F62-5D0B-4C45-88D1-A724202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87F-782F-46BC-95CD-D17D7ECF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0721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56988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2206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74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-3682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-368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-368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1A6-A3BC-4F7A-BDFB-797E5348988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组合 30727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椭圆 30728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椭圆 30729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椭圆 30730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椭圆 30731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椭圆 30732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椭圆 30733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椭圆 30734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椭圆 30735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椭圆 30736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椭圆 30737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椭圆 30738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椭圆 30739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椭圆 30740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椭圆 30741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椭圆 30742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椭圆 30743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椭圆 30744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椭圆 30745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椭圆 30746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椭圆 30747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椭圆 30748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椭圆 30749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椭圆 30750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椭圆 30751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椭圆 30752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椭圆 30753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椭圆 30754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椭圆 30755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椭圆 30756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椭圆 30757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椭圆 30758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直接连接符 31745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1751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椭圆 31752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1753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1754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31755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31756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31757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31758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31759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31760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31761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31762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31763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31764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31765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1766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1767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1768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1769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1770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1771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1772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31773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31774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1775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31776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1777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1778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31779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31780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31781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1782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31783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56988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2206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74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-3682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-368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-368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F98A-0595-4E16-9D66-17518C2D1F9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3075" descr=""/>
          <p:cNvPicPr/>
          <p:nvPr/>
        </p:nvPicPr>
        <p:blipFill>
          <a:blip r:embed="rId1"/>
          <a:stretch/>
        </p:blipFill>
        <p:spPr>
          <a:xfrm>
            <a:off x="388800" y="61920"/>
            <a:ext cx="4859640" cy="40194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080" descr="723684-1_o"/>
          <p:cNvPicPr/>
          <p:nvPr/>
        </p:nvPicPr>
        <p:blipFill>
          <a:blip r:embed="rId2"/>
          <a:stretch/>
        </p:blipFill>
        <p:spPr>
          <a:xfrm>
            <a:off x="5508720" y="2997360"/>
            <a:ext cx="3635280" cy="386064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78"/>
          <p:cNvSpPr txBox="1"/>
          <p:nvPr/>
        </p:nvSpPr>
        <p:spPr>
          <a:xfrm>
            <a:off x="1476360" y="2192400"/>
            <a:ext cx="7083360" cy="11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1 </a:t>
            </a: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一本男孩子必读的书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6385"/>
          <p:cNvSpPr/>
          <p:nvPr/>
        </p:nvSpPr>
        <p:spPr>
          <a:xfrm>
            <a:off x="152280" y="45720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6386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6387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263520" y="14605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208" name="直接连接符 16388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6389"/>
          <p:cNvSpPr/>
          <p:nvPr/>
        </p:nvSpPr>
        <p:spPr>
          <a:xfrm>
            <a:off x="263520" y="87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汇报交流，理解鲁滨逊的聪明机智、坚强毅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6390"/>
          <p:cNvSpPr/>
          <p:nvPr/>
        </p:nvSpPr>
        <p:spPr>
          <a:xfrm>
            <a:off x="1066680" y="194616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３）鲁滨逊在岛上的生活怎样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6391"/>
          <p:cNvSpPr/>
          <p:nvPr/>
        </p:nvSpPr>
        <p:spPr>
          <a:xfrm>
            <a:off x="628560" y="462276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隶书"/>
              </a:rPr>
              <a:t>鲁滨逊的生活从一开始的孤独、艰难到后来战胜恐惧，战胜孤独变得充实而幸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"/>
          <p:cNvSpPr/>
          <p:nvPr/>
        </p:nvSpPr>
        <p:spPr>
          <a:xfrm>
            <a:off x="628560" y="342432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养鹦鹉作伴，还做了家具，救下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"/>
          <p:cNvSpPr/>
          <p:nvPr/>
        </p:nvSpPr>
        <p:spPr>
          <a:xfrm>
            <a:off x="628560" y="271152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座小岛荒无人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5550840" y="252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荒凉与孤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7409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17410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直接连接符 17411"/>
          <p:cNvSpPr/>
          <p:nvPr/>
        </p:nvSpPr>
        <p:spPr>
          <a:xfrm>
            <a:off x="990720" y="236232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7412"/>
          <p:cNvSpPr/>
          <p:nvPr/>
        </p:nvSpPr>
        <p:spPr>
          <a:xfrm>
            <a:off x="609480" y="2819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读到这里，你们觉得这部小说的内容有吸引力吗？你喜欢这本书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7413"/>
          <p:cNvSpPr/>
          <p:nvPr/>
        </p:nvSpPr>
        <p:spPr>
          <a:xfrm>
            <a:off x="517680" y="4441680"/>
            <a:ext cx="51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414"/>
          <p:cNvSpPr/>
          <p:nvPr/>
        </p:nvSpPr>
        <p:spPr>
          <a:xfrm>
            <a:off x="1143000" y="4768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同学们说说自己的感受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7415"/>
          <p:cNvSpPr txBox="1"/>
          <p:nvPr/>
        </p:nvSpPr>
        <p:spPr>
          <a:xfrm>
            <a:off x="3124080" y="1523880"/>
            <a:ext cx="2895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集体交流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222" name="图片 17416" descr="讨论"/>
          <p:cNvPicPr/>
          <p:nvPr/>
        </p:nvPicPr>
        <p:blipFill>
          <a:blip r:embed="rId2"/>
          <a:stretch/>
        </p:blipFill>
        <p:spPr>
          <a:xfrm>
            <a:off x="1523880" y="1447920"/>
            <a:ext cx="14479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8433"/>
          <p:cNvSpPr/>
          <p:nvPr/>
        </p:nvSpPr>
        <p:spPr>
          <a:xfrm>
            <a:off x="260280" y="32544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8434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8435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226" name="直接连接符 18436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8437"/>
          <p:cNvSpPr/>
          <p:nvPr/>
        </p:nvSpPr>
        <p:spPr>
          <a:xfrm>
            <a:off x="755640" y="457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吴缅喜欢上了书中的一句名言，这句名言的内容是什么？怎么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8438"/>
          <p:cNvSpPr/>
          <p:nvPr/>
        </p:nvSpPr>
        <p:spPr>
          <a:xfrm>
            <a:off x="1012680" y="2560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8439"/>
          <p:cNvSpPr/>
          <p:nvPr/>
        </p:nvSpPr>
        <p:spPr>
          <a:xfrm>
            <a:off x="1400040" y="18288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害怕危险的心理比危险本身还要可怕一万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665280" y="3313080"/>
            <a:ext cx="70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具有大无畏冒险进取精神的人，即使在恶劣的环境中，也终将会成为一个成功者，一个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矩形 2" descr=""/>
          <p:cNvPicPr/>
          <p:nvPr/>
        </p:nvPicPr>
        <p:blipFill>
          <a:blip r:embed="rId3"/>
          <a:stretch/>
        </p:blipFill>
        <p:spPr>
          <a:xfrm>
            <a:off x="665280" y="5238720"/>
            <a:ext cx="5938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生活中我们每个人都会遇到很多困难，如果我们能够勇敢的去面对，就会觉得困难并不可怕。但是，如果一味害怕困难，就会被困难打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66"/>
                </a:solidFill>
                <a:latin typeface="Arial"/>
              </a:rPr>
              <a:t>一个具有大无畏冒险进取精神的人，即使在恶劣的环境中，也终将成为一个成功者，一个英雄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1505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21506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1507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直接连接符 21508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1509"/>
          <p:cNvSpPr/>
          <p:nvPr/>
        </p:nvSpPr>
        <p:spPr>
          <a:xfrm>
            <a:off x="685800" y="1844640"/>
            <a:ext cx="73915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会读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读书除了理解一些名言的意思外，老师觉得读书的时候还要能发挥想象力，想象出人物的形象，吴缅在读书的过程中慢慢勾画出鲁滨逊的样子，让我们来读读课文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第十四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段。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20481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20482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20483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04920" y="91440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242" name="直接连接符 20484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0485"/>
          <p:cNvSpPr/>
          <p:nvPr/>
        </p:nvSpPr>
        <p:spPr>
          <a:xfrm>
            <a:off x="685800" y="1828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书要读出自己的感受，课文中的吴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滨逊漂流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有什么感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0486"/>
          <p:cNvSpPr/>
          <p:nvPr/>
        </p:nvSpPr>
        <p:spPr>
          <a:xfrm>
            <a:off x="609480" y="3429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很喜欢笛福在书中的一句名言。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0487"/>
          <p:cNvSpPr/>
          <p:nvPr/>
        </p:nvSpPr>
        <p:spPr>
          <a:xfrm>
            <a:off x="609480" y="4129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非常喜欢鲁滨逊这个人物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0488"/>
          <p:cNvSpPr/>
          <p:nvPr/>
        </p:nvSpPr>
        <p:spPr>
          <a:xfrm>
            <a:off x="609480" y="48150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要把这本书珍藏起来，传给儿子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探究交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爷爷和爸爸送我的仅仅是一本书么？这本书是不是还寄托着他们的希望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58760" y="271440"/>
            <a:ext cx="8229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他们想让他们的子孙都像鲁滨逊一样聪明，一样坚强；像鲁滨逊一样会独立生活。简单的说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不怕困难   学会生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"/>
          <p:cNvSpPr/>
          <p:nvPr/>
        </p:nvSpPr>
        <p:spPr>
          <a:xfrm>
            <a:off x="196920" y="265752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爷爷和爸爸读过书以后认识到这本书对孩子，尤其是男孩子有深刻的教育意义，教会孩子们生存，吃苦耐劳的精神，学会坚强，学会战胜自己恐惧的心理，因此才会一代传一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3794760" y="4719600"/>
            <a:ext cx="155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传承鲁滨逊一种精神，一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怕困难、勇敢顽强的精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65" fill="hold"/>
                                  <p:tgtEl>
                                    <p:spTgt spid="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23553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3554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3555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23556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3557"/>
          <p:cNvSpPr/>
          <p:nvPr/>
        </p:nvSpPr>
        <p:spPr>
          <a:xfrm>
            <a:off x="563400" y="17845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对于我们来说，培养正确的人生观、价值观，是非常重要的，而这些宝贵的知识财富，很多都在前人所留下的名著中。名著中，有着引人入胜的环境描写，有着令人深思的人生道理，有着积极向上的精神观念等等。所以，读名著能使我们学到很多东西。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24577"/>
          <p:cNvSpPr/>
          <p:nvPr/>
        </p:nvSpPr>
        <p:spPr>
          <a:xfrm>
            <a:off x="152280" y="53352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4578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直接连接符 24579"/>
          <p:cNvSpPr/>
          <p:nvPr/>
        </p:nvSpPr>
        <p:spPr>
          <a:xfrm>
            <a:off x="914400" y="2209680"/>
            <a:ext cx="70866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4580"/>
          <p:cNvSpPr/>
          <p:nvPr/>
        </p:nvSpPr>
        <p:spPr>
          <a:xfrm>
            <a:off x="250920" y="2349360"/>
            <a:ext cx="82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在作者眼里，鲁滨逊是个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---------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而又具有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-------------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的人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个四字短语填空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582"/>
          <p:cNvSpPr txBox="1"/>
          <p:nvPr/>
        </p:nvSpPr>
        <p:spPr>
          <a:xfrm>
            <a:off x="2514600" y="1371600"/>
            <a:ext cx="2438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当堂作业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262" name="图片 24583" descr="复件 书"/>
          <p:cNvPicPr/>
          <p:nvPr/>
        </p:nvPicPr>
        <p:blipFill>
          <a:blip r:embed="rId2"/>
          <a:stretch/>
        </p:blipFill>
        <p:spPr>
          <a:xfrm>
            <a:off x="1614600" y="1295280"/>
            <a:ext cx="671400" cy="743040"/>
          </a:xfrm>
          <a:prstGeom prst="rect">
            <a:avLst/>
          </a:prstGeom>
          <a:ln w="0">
            <a:noFill/>
          </a:ln>
        </p:spPr>
      </p:pic>
      <p:sp>
        <p:nvSpPr>
          <p:cNvPr id="263" name="矩形 1"/>
          <p:cNvSpPr/>
          <p:nvPr/>
        </p:nvSpPr>
        <p:spPr>
          <a:xfrm>
            <a:off x="6580440" y="53352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怕困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吃苦耐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机智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矩形 2" descr=""/>
          <p:cNvPicPr/>
          <p:nvPr/>
        </p:nvPicPr>
        <p:blipFill>
          <a:blip r:embed="rId3"/>
          <a:stretch/>
        </p:blipFill>
        <p:spPr>
          <a:xfrm>
            <a:off x="1890720" y="3895560"/>
            <a:ext cx="3036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2529"/>
          <p:cNvSpPr/>
          <p:nvPr/>
        </p:nvSpPr>
        <p:spPr>
          <a:xfrm>
            <a:off x="0" y="620640"/>
            <a:ext cx="88390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2530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2531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155" name="直接连接符 22532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2533"/>
          <p:cNvSpPr/>
          <p:nvPr/>
        </p:nvSpPr>
        <p:spPr>
          <a:xfrm>
            <a:off x="1066680" y="1739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这篇课文不仅是日记，而且是一篇优秀的读书笔记，学了课文你能不能说出这篇读书笔记主要围绕哪些方面展开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2534"/>
          <p:cNvSpPr/>
          <p:nvPr/>
        </p:nvSpPr>
        <p:spPr>
          <a:xfrm>
            <a:off x="1692360" y="3294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书的来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2535"/>
          <p:cNvSpPr/>
          <p:nvPr/>
        </p:nvSpPr>
        <p:spPr>
          <a:xfrm>
            <a:off x="1692360" y="38829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书的主要内容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2536"/>
          <p:cNvSpPr/>
          <p:nvPr/>
        </p:nvSpPr>
        <p:spPr>
          <a:xfrm>
            <a:off x="1692360" y="4597560"/>
            <a:ext cx="58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读书的感受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与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的想法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24577"/>
          <p:cNvSpPr/>
          <p:nvPr/>
        </p:nvSpPr>
        <p:spPr>
          <a:xfrm>
            <a:off x="152280" y="53352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3555" descr="101920823"/>
          <p:cNvPicPr/>
          <p:nvPr/>
        </p:nvPicPr>
        <p:blipFill>
          <a:blip r:embed="rId1"/>
          <a:srcRect l="5008" t="6411" r="9993" b="3992"/>
          <a:stretch/>
        </p:blipFill>
        <p:spPr>
          <a:xfrm>
            <a:off x="-407880" y="-34920"/>
            <a:ext cx="1815840" cy="140796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24584"/>
          <p:cNvSpPr/>
          <p:nvPr/>
        </p:nvSpPr>
        <p:spPr>
          <a:xfrm>
            <a:off x="266760" y="533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一本男孩子必读的书，女孩子要不要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"/>
          <p:cNvSpPr/>
          <p:nvPr/>
        </p:nvSpPr>
        <p:spPr>
          <a:xfrm>
            <a:off x="3197160" y="11667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由二：无论是男孩子还是女孩子，都应该做一个聪明机智又具有坚强意志的人。而这本书能够让我们懂得这个道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"/>
          <p:cNvSpPr/>
          <p:nvPr/>
        </p:nvSpPr>
        <p:spPr>
          <a:xfrm>
            <a:off x="6359400" y="1224000"/>
            <a:ext cx="22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理由三：不管男孩还是女孩都应该学习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鲁滨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怕困难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吃苦耐劳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勇敢顽强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"/>
          <p:cNvSpPr/>
          <p:nvPr/>
        </p:nvSpPr>
        <p:spPr>
          <a:xfrm>
            <a:off x="266760" y="1224000"/>
            <a:ext cx="293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由一：这本书是一本世界名著，宣扬的是一种学会生存、学会独立、在困难面前永不低头的精神。这种精神不仅男孩子需要有，女孩子也需要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45059"/>
          <p:cNvSpPr/>
          <p:nvPr/>
        </p:nvSpPr>
        <p:spPr>
          <a:xfrm>
            <a:off x="611280" y="2781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收集有关激励人心的名言或警句。写在课本中适当的地方，然后与其他同学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25601" descr="200701261104393988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75" name="矩形 25602"/>
          <p:cNvSpPr txBox="1"/>
          <p:nvPr/>
        </p:nvSpPr>
        <p:spPr>
          <a:xfrm>
            <a:off x="1143000" y="182880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r>
              <a:rPr b="1" lang="en-US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0241"/>
          <p:cNvSpPr/>
          <p:nvPr/>
        </p:nvSpPr>
        <p:spPr>
          <a:xfrm>
            <a:off x="76320" y="351000"/>
            <a:ext cx="88390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0242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243" descr=""/>
          <p:cNvPicPr/>
          <p:nvPr/>
        </p:nvPicPr>
        <p:blipFill>
          <a:blip r:embed="rId2"/>
          <a:stretch/>
        </p:blipFill>
        <p:spPr>
          <a:xfrm>
            <a:off x="162000" y="106668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直接连接符 10244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0245"/>
          <p:cNvSpPr/>
          <p:nvPr/>
        </p:nvSpPr>
        <p:spPr>
          <a:xfrm>
            <a:off x="1184400" y="409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请同学们读课文，思考：主人公得到的是一本怎样的书？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0246"/>
          <p:cNvSpPr/>
          <p:nvPr/>
        </p:nvSpPr>
        <p:spPr>
          <a:xfrm>
            <a:off x="685800" y="2306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⒈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这本书是爷爷赠给爸爸，爸爸又赠给了“我”的一本三代相传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旧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书。（思考：怎么理解这个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旧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”字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247"/>
          <p:cNvSpPr/>
          <p:nvPr/>
        </p:nvSpPr>
        <p:spPr>
          <a:xfrm>
            <a:off x="723960" y="4067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⒉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这是一本扉页上写有爷爷给爸爸的赠言“这是一本男孩子必读的书”和爸爸写给“我”的赠言“学会生存”的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1265"/>
          <p:cNvSpPr/>
          <p:nvPr/>
        </p:nvSpPr>
        <p:spPr>
          <a:xfrm>
            <a:off x="152280" y="37296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1266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1267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268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1269"/>
          <p:cNvSpPr/>
          <p:nvPr/>
        </p:nvSpPr>
        <p:spPr>
          <a:xfrm>
            <a:off x="1166760" y="50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请同学们读课文，思考：主人公得到的是一本怎样的书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270"/>
          <p:cNvSpPr/>
          <p:nvPr/>
        </p:nvSpPr>
        <p:spPr>
          <a:xfrm>
            <a:off x="609480" y="2254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宋体"/>
              </a:rPr>
              <a:t>⒊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这是一本历险小说，主人公鲁滨逊是一个聪明机智而又具有坚强毅力的人，他在一座荒芜人烟的小岛上有一段长达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的历险生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1271"/>
          <p:cNvSpPr/>
          <p:nvPr/>
        </p:nvSpPr>
        <p:spPr>
          <a:xfrm>
            <a:off x="609480" y="39877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⒋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这是一本让“我”非常喜欢的书，给了“我”启迪和希望的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2291" descr="一本男孩子必读的书2"/>
          <p:cNvPicPr/>
          <p:nvPr/>
        </p:nvPicPr>
        <p:blipFill>
          <a:blip r:embed="rId1"/>
          <a:srcRect l="0" t="0" r="102" b="27"/>
          <a:stretch/>
        </p:blipFill>
        <p:spPr>
          <a:xfrm>
            <a:off x="6516720" y="4394160"/>
            <a:ext cx="2627280" cy="2463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2292" descr="101920823"/>
          <p:cNvPicPr/>
          <p:nvPr/>
        </p:nvPicPr>
        <p:blipFill>
          <a:blip r:embed="rId2"/>
          <a:stretch/>
        </p:blipFill>
        <p:spPr>
          <a:xfrm>
            <a:off x="250920" y="33336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76" name="矩形 12293"/>
          <p:cNvSpPr txBox="1"/>
          <p:nvPr/>
        </p:nvSpPr>
        <p:spPr>
          <a:xfrm>
            <a:off x="1979640" y="404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这是一本什么样的书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?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177" name="文本框 12294"/>
          <p:cNvSpPr/>
          <p:nvPr/>
        </p:nvSpPr>
        <p:spPr>
          <a:xfrm>
            <a:off x="755640" y="1268280"/>
            <a:ext cx="813744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本书是爷爷赠给爸爸，爸爸又赠给了“我”的一本三代相传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本扉页上写有爷爷给爸爸的赠言“这是一本男孩子必读的书”和爸爸写给“我”的赠言“学会生存”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本名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滨逊漂流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本历险小说，主人公鲁滨逊是一个聪明机智而又具有坚强毅力的人，他在一座荒芜人烟的小岛上有一段长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的历险生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本让“我”非常喜欢的书，给了“我”启迪和希望的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2289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2290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2291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181" name="直接连接符 12292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293"/>
          <p:cNvSpPr/>
          <p:nvPr/>
        </p:nvSpPr>
        <p:spPr>
          <a:xfrm>
            <a:off x="106668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《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鲁滨逊漂流记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》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这部历险小说究竟写的是什么内容？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2294"/>
          <p:cNvSpPr/>
          <p:nvPr/>
        </p:nvSpPr>
        <p:spPr>
          <a:xfrm>
            <a:off x="685800" y="3581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小说描写了鲁滨逊在一座荒芜人烟的小岛上有一段长达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的历险生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3313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3314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3315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80880" y="1066680"/>
            <a:ext cx="1295640" cy="1067040"/>
          </a:xfrm>
          <a:prstGeom prst="rect">
            <a:avLst/>
          </a:prstGeom>
          <a:ln w="0">
            <a:noFill/>
          </a:ln>
        </p:spPr>
      </p:pic>
      <p:sp>
        <p:nvSpPr>
          <p:cNvPr id="187" name="直接连接符 13316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3317"/>
          <p:cNvSpPr/>
          <p:nvPr/>
        </p:nvSpPr>
        <p:spPr>
          <a:xfrm>
            <a:off x="609480" y="2362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要能在一座孤岛上生活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年需要什么？这些东西都是现成的吗？想想鲁滨逊在岛上会遇到哪些困难呢？请同学们仔细阅读课文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自然段，用笔画出遇到困难的句子，体会鲁滨逊是一个聪明机智而又具有坚强毅力的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4337"/>
          <p:cNvSpPr/>
          <p:nvPr/>
        </p:nvSpPr>
        <p:spPr>
          <a:xfrm>
            <a:off x="152280" y="457200"/>
            <a:ext cx="88394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4338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4339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52560" y="128412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192" name="直接连接符 14340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4341"/>
          <p:cNvSpPr/>
          <p:nvPr/>
        </p:nvSpPr>
        <p:spPr>
          <a:xfrm>
            <a:off x="609480" y="704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汇报交流，理解鲁滨逊的聪明机智、坚强毅力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4342"/>
          <p:cNvSpPr/>
          <p:nvPr/>
        </p:nvSpPr>
        <p:spPr>
          <a:xfrm>
            <a:off x="762120" y="1808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开始鲁滨逊靠什么为生，他做了些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4343"/>
          <p:cNvSpPr/>
          <p:nvPr/>
        </p:nvSpPr>
        <p:spPr>
          <a:xfrm>
            <a:off x="1347840" y="2874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隶书"/>
              </a:rPr>
              <a:t>　　做木筏，把食物等一一送到岛上，搭帐篷，靠剩下的食物生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矩形 1" descr=""/>
          <p:cNvPicPr/>
          <p:nvPr/>
        </p:nvPicPr>
        <p:blipFill>
          <a:blip r:embed="rId3"/>
          <a:stretch/>
        </p:blipFill>
        <p:spPr>
          <a:xfrm>
            <a:off x="387360" y="4613400"/>
            <a:ext cx="86090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5361"/>
          <p:cNvSpPr/>
          <p:nvPr/>
        </p:nvSpPr>
        <p:spPr>
          <a:xfrm>
            <a:off x="231840" y="358920"/>
            <a:ext cx="88390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5362" descr="一本男孩子必读的书2"/>
          <p:cNvPicPr/>
          <p:nvPr/>
        </p:nvPicPr>
        <p:blipFill>
          <a:blip r:embed="rId1"/>
          <a:srcRect l="20974" t="48470" r="0" b="0"/>
          <a:stretch/>
        </p:blipFill>
        <p:spPr>
          <a:xfrm>
            <a:off x="64771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5363" descr="101920823"/>
          <p:cNvPicPr/>
          <p:nvPr/>
        </p:nvPicPr>
        <p:blipFill>
          <a:blip r:embed="rId2"/>
          <a:srcRect l="5008" t="6411" r="9993" b="3992"/>
          <a:stretch/>
        </p:blipFill>
        <p:spPr>
          <a:xfrm>
            <a:off x="341280" y="138276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200" name="直接连接符 15364"/>
          <p:cNvSpPr/>
          <p:nvPr/>
        </p:nvSpPr>
        <p:spPr>
          <a:xfrm>
            <a:off x="1905120" y="160020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5365"/>
          <p:cNvSpPr/>
          <p:nvPr/>
        </p:nvSpPr>
        <p:spPr>
          <a:xfrm>
            <a:off x="45720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汇报交流，理解鲁滨逊的聪明机智、坚强毅力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5366"/>
          <p:cNvSpPr/>
          <p:nvPr/>
        </p:nvSpPr>
        <p:spPr>
          <a:xfrm>
            <a:off x="990720" y="1860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些食物非常有限，为了维持生活鲁滨逊又做了些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367"/>
          <p:cNvSpPr/>
          <p:nvPr/>
        </p:nvSpPr>
        <p:spPr>
          <a:xfrm>
            <a:off x="853920" y="30765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隶书"/>
                <a:ea typeface="隶书"/>
              </a:rPr>
              <a:t>　　种植大麦和水稻，制作粗糙的面包，捕捉并驯养山羊作为肉食来源，养鹦鹉做伴，做家具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矩形 1" descr=""/>
          <p:cNvPicPr/>
          <p:nvPr/>
        </p:nvPicPr>
        <p:blipFill>
          <a:blip r:embed="rId3"/>
          <a:stretch/>
        </p:blipFill>
        <p:spPr>
          <a:xfrm>
            <a:off x="990720" y="4632480"/>
            <a:ext cx="71913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7:26:00Z</dcterms:created>
  <dc:creator>21世纪教育网</dc:creator>
  <dc:description/>
  <dc:language>en-US</dc:language>
  <cp:lastModifiedBy>Administrator</cp:lastModifiedBy>
  <dcterms:modified xsi:type="dcterms:W3CDTF">2017-10-11T11:11:27Z</dcterms:modified>
  <cp:revision>16</cp:revision>
  <dc:subject>21世纪教育网</dc:subject>
  <dc:title>www.21cn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