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008-B976-4B9D-92B6-71486CCA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287-6BEB-490E-AA3F-2B1CF5E6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DCC-5DA2-4B27-A00D-0F2C4D0C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D67-7588-4AD7-ACCB-9FA1A503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E3D-03E3-4FAE-892E-EB8D4783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048-7FF5-479C-899E-51A3ED55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513-82CA-496D-A265-E0F4AF63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B795-5A98-43CD-9290-B1A26103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C51-3F71-4148-9DBA-52A999AE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457-A9B6-4CAB-84F2-04E10749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DE89-74A0-4E5F-81D3-3951D345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DF0-6468-4BDA-B5FB-B49060A3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8930-3281-4590-BD38-20DD615B12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示 3" descr=""/>
          <p:cNvPicPr/>
          <p:nvPr/>
        </p:nvPicPr>
        <p:blipFill>
          <a:blip r:embed="rId1"/>
          <a:stretch/>
        </p:blipFill>
        <p:spPr>
          <a:xfrm>
            <a:off x="378000" y="2152800"/>
            <a:ext cx="838800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34"/>
          <p:cNvSpPr/>
          <p:nvPr/>
        </p:nvSpPr>
        <p:spPr>
          <a:xfrm>
            <a:off x="865080" y="1003320"/>
            <a:ext cx="755496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按时间先后顺序排列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对一些错乱的句子，我们可以找出表示时间概念的词语，如，早晨、上午、中午、下午等词，然后按时间先后顺序进行排列句子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按先总述后分述的顺序排列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根据这段话的特点，找出这句话是个中心句，其他句子都是围绕着这句话来说的。显而易见，我们可按先总后分的顺序来排列句子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按空间推移的顺序排列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所谓空间推移，就是由地点的转移，表达出不同的内容。排列时，要十分注意，不要与其他的方法相混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矩形 34" descr=""/>
          <p:cNvPicPr/>
          <p:nvPr/>
        </p:nvPicPr>
        <p:blipFill>
          <a:blip r:embed="rId1"/>
          <a:stretch/>
        </p:blipFill>
        <p:spPr>
          <a:xfrm>
            <a:off x="781200" y="1305000"/>
            <a:ext cx="76802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4"/>
          <p:cNvSpPr/>
          <p:nvPr/>
        </p:nvSpPr>
        <p:spPr>
          <a:xfrm>
            <a:off x="903240" y="1305000"/>
            <a:ext cx="75549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细读找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地读几遍，根据其意找出是按什么顺序写的（如事情的发展顺序、时间顺序、方位顺序）。仔细地寻找句子中相关的词语来确定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34"/>
          <p:cNvSpPr/>
          <p:nvPr/>
        </p:nvSpPr>
        <p:spPr>
          <a:xfrm>
            <a:off x="903240" y="1305000"/>
            <a:ext cx="7554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精读巧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读句子时，要理解每句话的意思，从而来巧妙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巧，就是找句子中是按什么顺序写的，找出相关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巧，就是从句子中间寻找它们之间有联系或相同的词语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34"/>
          <p:cNvSpPr/>
          <p:nvPr/>
        </p:nvSpPr>
        <p:spPr>
          <a:xfrm>
            <a:off x="903240" y="1305000"/>
            <a:ext cx="75549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朗读细审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要将排列好的句子朗读几遍，边读边想：句子大意是否通畅、顺序是否正确、是否还有其它排列方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34"/>
          <p:cNvSpPr/>
          <p:nvPr/>
        </p:nvSpPr>
        <p:spPr>
          <a:xfrm>
            <a:off x="903240" y="1305000"/>
            <a:ext cx="75549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、品读活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最后我们要有感情地朗读，找出作者按顺序来表达主要内容的方法以及表达的思想感情。此外，可根据这种方法来仿写，想想是否还有比这种顺序来表达主要内容的其它更好的方法。这样将读与写有机地联系起来，从而真正掌握排列句子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矩形 34" descr=""/>
          <p:cNvPicPr/>
          <p:nvPr/>
        </p:nvPicPr>
        <p:blipFill>
          <a:blip r:embed="rId1"/>
          <a:stretch/>
        </p:blipFill>
        <p:spPr>
          <a:xfrm>
            <a:off x="811080" y="1305000"/>
            <a:ext cx="774252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4"/>
          <p:cNvSpPr/>
          <p:nvPr/>
        </p:nvSpPr>
        <p:spPr>
          <a:xfrm>
            <a:off x="903240" y="1305000"/>
            <a:ext cx="75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步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想全段的内容按什么顺序排列好，即找出排列顺序的依据，如，是按事情发展顺序，还是时间顺序，或方位，还是“总分”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步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按确定的排列依据排列顺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步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按排好的顺序仔细读两遍，看排得对不对，如发现有的句子排得位置不对，就进行调整，直到这段话排得通顺连贯为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4"/>
          <p:cNvSpPr/>
          <p:nvPr/>
        </p:nvSpPr>
        <p:spPr>
          <a:xfrm>
            <a:off x="903240" y="1305000"/>
            <a:ext cx="755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错乱的句子排列好，这是小学阶段语文练习中的一个重要形式，必须好好掌握。学会排列句子，不仅能提高我们的思维能力，还能提高我们的写作能力。那么，如何学会排列好句子呢？我们可以按下列方法进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按事情发展的顺序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些错乱的句子，我们在排列时，应仔细分析句与句之间的联系。常见的错乱句子，往往叙述了一件完整的事，或者活动的具体过程。那么，我们就可以按事情发展的顺序来排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5T18:44:14Z</dcterms:created>
  <dc:creator>荣德基; Administrator</dc:creator>
  <dc:description/>
  <dc:language>en-US</dc:language>
  <cp:lastModifiedBy>Administrator</cp:lastModifiedBy>
  <dcterms:modified xsi:type="dcterms:W3CDTF">2017-11-30T15:37:4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