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B6590-44BF-4A6E-A85F-4E7B4EFBB8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8E058-A9A8-48E7-8FB8-97A6284E60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0A95E-0DD8-419B-9071-A9BEC7752E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07807-DDBD-45FE-B918-A7D190E2FC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2AB4D-31C0-4FD3-87EB-B39FA74085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D93B0-9087-4BDE-94CC-79BFEB2880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98B5B-D1B5-4BA0-8D0D-E04687B19A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CC2EF-6354-4281-8589-B3D3728D65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39B15-9972-4F67-BCFF-C365265F9C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3C1-DCA6-4101-8E77-1602DBB5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09C-DC56-44EE-827D-E1938BB3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D03-EF7A-4564-AB17-76E00700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687-D7AB-4467-AE75-8C310911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C6A-8D9C-4DFE-934B-0CF4DC1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552-C1BD-4188-8E11-529491F3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73E-A659-4A8A-A526-4F3F452E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049-5446-401F-86FF-3A34BE2F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863-F1EE-48D7-8C66-1C397335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99A-CC24-4169-B5AC-A161ECF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73C-21A7-422B-858C-993D138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3DD-105B-4FC1-AFE6-A5E9290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AD3E0-F6E6-440B-AC63-EDF02E1D80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365640" y="3781080"/>
            <a:ext cx="4848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豆腐”是汉文帝时代淮南王刘安发明的绿色健康食品。时至今日，已有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2100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多年的历史，深受世界人民的喜爱。那么，课文中那句话最集中地表达了作者对豆腐的赞美呢？让我们打开课本一起去了解了解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9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0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204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乃”的 中下部留出空间，“子” 的上部要写在里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矩形 3"/>
          <p:cNvSpPr/>
          <p:nvPr/>
        </p:nvSpPr>
        <p:spPr>
          <a:xfrm>
            <a:off x="2108160" y="1868400"/>
            <a:ext cx="126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50"/>
          <p:cNvSpPr/>
          <p:nvPr/>
        </p:nvSpPr>
        <p:spPr>
          <a:xfrm>
            <a:off x="6280200" y="3794040"/>
            <a:ext cx="546120" cy="1189080"/>
          </a:xfrm>
          <a:custGeom>
            <a:avLst/>
            <a:gdLst/>
            <a:ahLst/>
            <a:rect l="l" t="t" r="r" b="b"/>
            <a:pathLst>
              <a:path w="687" h="1497">
                <a:moveTo>
                  <a:pt x="512" y="153"/>
                </a:moveTo>
                <a:lnTo>
                  <a:pt x="524" y="165"/>
                </a:lnTo>
                <a:lnTo>
                  <a:pt x="535" y="176"/>
                </a:lnTo>
                <a:lnTo>
                  <a:pt x="547" y="190"/>
                </a:lnTo>
                <a:lnTo>
                  <a:pt x="556" y="203"/>
                </a:lnTo>
                <a:lnTo>
                  <a:pt x="566" y="217"/>
                </a:lnTo>
                <a:lnTo>
                  <a:pt x="577" y="232"/>
                </a:lnTo>
                <a:lnTo>
                  <a:pt x="585" y="246"/>
                </a:lnTo>
                <a:lnTo>
                  <a:pt x="595" y="261"/>
                </a:lnTo>
                <a:lnTo>
                  <a:pt x="604" y="278"/>
                </a:lnTo>
                <a:lnTo>
                  <a:pt x="612" y="294"/>
                </a:lnTo>
                <a:lnTo>
                  <a:pt x="620" y="311"/>
                </a:lnTo>
                <a:lnTo>
                  <a:pt x="627" y="328"/>
                </a:lnTo>
                <a:lnTo>
                  <a:pt x="633" y="347"/>
                </a:lnTo>
                <a:lnTo>
                  <a:pt x="639" y="366"/>
                </a:lnTo>
                <a:lnTo>
                  <a:pt x="645" y="386"/>
                </a:lnTo>
                <a:lnTo>
                  <a:pt x="650" y="405"/>
                </a:lnTo>
                <a:lnTo>
                  <a:pt x="654" y="447"/>
                </a:lnTo>
                <a:lnTo>
                  <a:pt x="658" y="489"/>
                </a:lnTo>
                <a:lnTo>
                  <a:pt x="662" y="510"/>
                </a:lnTo>
                <a:lnTo>
                  <a:pt x="664" y="533"/>
                </a:lnTo>
                <a:lnTo>
                  <a:pt x="666" y="557"/>
                </a:lnTo>
                <a:lnTo>
                  <a:pt x="668" y="580"/>
                </a:lnTo>
                <a:lnTo>
                  <a:pt x="671" y="603"/>
                </a:lnTo>
                <a:lnTo>
                  <a:pt x="673" y="628"/>
                </a:lnTo>
                <a:lnTo>
                  <a:pt x="675" y="652"/>
                </a:lnTo>
                <a:lnTo>
                  <a:pt x="677" y="677"/>
                </a:lnTo>
                <a:lnTo>
                  <a:pt x="679" y="704"/>
                </a:lnTo>
                <a:lnTo>
                  <a:pt x="683" y="731"/>
                </a:lnTo>
                <a:lnTo>
                  <a:pt x="685" y="760"/>
                </a:lnTo>
                <a:lnTo>
                  <a:pt x="687" y="789"/>
                </a:lnTo>
                <a:lnTo>
                  <a:pt x="687" y="818"/>
                </a:lnTo>
                <a:lnTo>
                  <a:pt x="687" y="846"/>
                </a:lnTo>
                <a:lnTo>
                  <a:pt x="685" y="873"/>
                </a:lnTo>
                <a:lnTo>
                  <a:pt x="685" y="902"/>
                </a:lnTo>
                <a:lnTo>
                  <a:pt x="683" y="927"/>
                </a:lnTo>
                <a:lnTo>
                  <a:pt x="681" y="954"/>
                </a:lnTo>
                <a:lnTo>
                  <a:pt x="679" y="979"/>
                </a:lnTo>
                <a:lnTo>
                  <a:pt x="677" y="1004"/>
                </a:lnTo>
                <a:lnTo>
                  <a:pt x="675" y="1027"/>
                </a:lnTo>
                <a:lnTo>
                  <a:pt x="671" y="1050"/>
                </a:lnTo>
                <a:lnTo>
                  <a:pt x="669" y="1073"/>
                </a:lnTo>
                <a:lnTo>
                  <a:pt x="666" y="1094"/>
                </a:lnTo>
                <a:lnTo>
                  <a:pt x="662" y="1115"/>
                </a:lnTo>
                <a:lnTo>
                  <a:pt x="658" y="1134"/>
                </a:lnTo>
                <a:lnTo>
                  <a:pt x="654" y="1153"/>
                </a:lnTo>
                <a:lnTo>
                  <a:pt x="650" y="1173"/>
                </a:lnTo>
                <a:lnTo>
                  <a:pt x="635" y="1207"/>
                </a:lnTo>
                <a:lnTo>
                  <a:pt x="621" y="1242"/>
                </a:lnTo>
                <a:lnTo>
                  <a:pt x="606" y="1274"/>
                </a:lnTo>
                <a:lnTo>
                  <a:pt x="593" y="1305"/>
                </a:lnTo>
                <a:lnTo>
                  <a:pt x="575" y="1336"/>
                </a:lnTo>
                <a:lnTo>
                  <a:pt x="560" y="1363"/>
                </a:lnTo>
                <a:lnTo>
                  <a:pt x="552" y="1376"/>
                </a:lnTo>
                <a:lnTo>
                  <a:pt x="543" y="1388"/>
                </a:lnTo>
                <a:lnTo>
                  <a:pt x="533" y="1401"/>
                </a:lnTo>
                <a:lnTo>
                  <a:pt x="526" y="1413"/>
                </a:lnTo>
                <a:lnTo>
                  <a:pt x="516" y="1422"/>
                </a:lnTo>
                <a:lnTo>
                  <a:pt x="506" y="1434"/>
                </a:lnTo>
                <a:lnTo>
                  <a:pt x="499" y="1443"/>
                </a:lnTo>
                <a:lnTo>
                  <a:pt x="489" y="1451"/>
                </a:lnTo>
                <a:lnTo>
                  <a:pt x="481" y="1459"/>
                </a:lnTo>
                <a:lnTo>
                  <a:pt x="474" y="1464"/>
                </a:lnTo>
                <a:lnTo>
                  <a:pt x="466" y="1472"/>
                </a:lnTo>
                <a:lnTo>
                  <a:pt x="458" y="1476"/>
                </a:lnTo>
                <a:lnTo>
                  <a:pt x="451" y="1482"/>
                </a:lnTo>
                <a:lnTo>
                  <a:pt x="443" y="1486"/>
                </a:lnTo>
                <a:lnTo>
                  <a:pt x="435" y="1489"/>
                </a:lnTo>
                <a:lnTo>
                  <a:pt x="430" y="1491"/>
                </a:lnTo>
                <a:lnTo>
                  <a:pt x="422" y="1493"/>
                </a:lnTo>
                <a:lnTo>
                  <a:pt x="414" y="1495"/>
                </a:lnTo>
                <a:lnTo>
                  <a:pt x="406" y="1495"/>
                </a:lnTo>
                <a:lnTo>
                  <a:pt x="401" y="1497"/>
                </a:lnTo>
                <a:lnTo>
                  <a:pt x="393" y="1495"/>
                </a:lnTo>
                <a:lnTo>
                  <a:pt x="387" y="1495"/>
                </a:lnTo>
                <a:lnTo>
                  <a:pt x="382" y="1493"/>
                </a:lnTo>
                <a:lnTo>
                  <a:pt x="374" y="1491"/>
                </a:lnTo>
                <a:lnTo>
                  <a:pt x="370" y="1489"/>
                </a:lnTo>
                <a:lnTo>
                  <a:pt x="364" y="1486"/>
                </a:lnTo>
                <a:lnTo>
                  <a:pt x="359" y="1482"/>
                </a:lnTo>
                <a:lnTo>
                  <a:pt x="355" y="1478"/>
                </a:lnTo>
                <a:lnTo>
                  <a:pt x="351" y="1474"/>
                </a:lnTo>
                <a:lnTo>
                  <a:pt x="347" y="1468"/>
                </a:lnTo>
                <a:lnTo>
                  <a:pt x="345" y="1462"/>
                </a:lnTo>
                <a:lnTo>
                  <a:pt x="343" y="1455"/>
                </a:lnTo>
                <a:lnTo>
                  <a:pt x="341" y="1449"/>
                </a:lnTo>
                <a:lnTo>
                  <a:pt x="339" y="1441"/>
                </a:lnTo>
                <a:lnTo>
                  <a:pt x="337" y="1434"/>
                </a:lnTo>
                <a:lnTo>
                  <a:pt x="337" y="1424"/>
                </a:lnTo>
                <a:lnTo>
                  <a:pt x="335" y="1413"/>
                </a:lnTo>
                <a:lnTo>
                  <a:pt x="332" y="1401"/>
                </a:lnTo>
                <a:lnTo>
                  <a:pt x="326" y="1390"/>
                </a:lnTo>
                <a:lnTo>
                  <a:pt x="320" y="1378"/>
                </a:lnTo>
                <a:lnTo>
                  <a:pt x="312" y="1368"/>
                </a:lnTo>
                <a:lnTo>
                  <a:pt x="303" y="1355"/>
                </a:lnTo>
                <a:lnTo>
                  <a:pt x="293" y="1343"/>
                </a:lnTo>
                <a:lnTo>
                  <a:pt x="282" y="1332"/>
                </a:lnTo>
                <a:lnTo>
                  <a:pt x="270" y="1319"/>
                </a:lnTo>
                <a:lnTo>
                  <a:pt x="257" y="1307"/>
                </a:lnTo>
                <a:lnTo>
                  <a:pt x="241" y="1294"/>
                </a:lnTo>
                <a:lnTo>
                  <a:pt x="226" y="1280"/>
                </a:lnTo>
                <a:lnTo>
                  <a:pt x="209" y="1267"/>
                </a:lnTo>
                <a:lnTo>
                  <a:pt x="192" y="1251"/>
                </a:lnTo>
                <a:lnTo>
                  <a:pt x="172" y="1236"/>
                </a:lnTo>
                <a:lnTo>
                  <a:pt x="151" y="1221"/>
                </a:lnTo>
                <a:lnTo>
                  <a:pt x="132" y="1205"/>
                </a:lnTo>
                <a:lnTo>
                  <a:pt x="113" y="1192"/>
                </a:lnTo>
                <a:lnTo>
                  <a:pt x="96" y="1178"/>
                </a:lnTo>
                <a:lnTo>
                  <a:pt x="78" y="1165"/>
                </a:lnTo>
                <a:lnTo>
                  <a:pt x="65" y="1155"/>
                </a:lnTo>
                <a:lnTo>
                  <a:pt x="51" y="1144"/>
                </a:lnTo>
                <a:lnTo>
                  <a:pt x="40" y="1136"/>
                </a:lnTo>
                <a:lnTo>
                  <a:pt x="30" y="1127"/>
                </a:lnTo>
                <a:lnTo>
                  <a:pt x="21" y="1121"/>
                </a:lnTo>
                <a:lnTo>
                  <a:pt x="15" y="1113"/>
                </a:lnTo>
                <a:lnTo>
                  <a:pt x="9" y="1107"/>
                </a:lnTo>
                <a:lnTo>
                  <a:pt x="5" y="1102"/>
                </a:lnTo>
                <a:lnTo>
                  <a:pt x="2" y="1098"/>
                </a:lnTo>
                <a:lnTo>
                  <a:pt x="0" y="1094"/>
                </a:lnTo>
                <a:lnTo>
                  <a:pt x="0" y="1092"/>
                </a:lnTo>
                <a:lnTo>
                  <a:pt x="2" y="1088"/>
                </a:lnTo>
                <a:lnTo>
                  <a:pt x="5" y="1086"/>
                </a:lnTo>
                <a:lnTo>
                  <a:pt x="9" y="1086"/>
                </a:lnTo>
                <a:lnTo>
                  <a:pt x="13" y="1084"/>
                </a:lnTo>
                <a:lnTo>
                  <a:pt x="19" y="1084"/>
                </a:lnTo>
                <a:lnTo>
                  <a:pt x="25" y="1084"/>
                </a:lnTo>
                <a:lnTo>
                  <a:pt x="32" y="1084"/>
                </a:lnTo>
                <a:lnTo>
                  <a:pt x="42" y="1086"/>
                </a:lnTo>
                <a:lnTo>
                  <a:pt x="51" y="1088"/>
                </a:lnTo>
                <a:lnTo>
                  <a:pt x="63" y="1090"/>
                </a:lnTo>
                <a:lnTo>
                  <a:pt x="74" y="1094"/>
                </a:lnTo>
                <a:lnTo>
                  <a:pt x="88" y="1098"/>
                </a:lnTo>
                <a:lnTo>
                  <a:pt x="103" y="1102"/>
                </a:lnTo>
                <a:lnTo>
                  <a:pt x="121" y="1107"/>
                </a:lnTo>
                <a:lnTo>
                  <a:pt x="138" y="1113"/>
                </a:lnTo>
                <a:lnTo>
                  <a:pt x="155" y="1119"/>
                </a:lnTo>
                <a:lnTo>
                  <a:pt x="176" y="1125"/>
                </a:lnTo>
                <a:lnTo>
                  <a:pt x="197" y="1129"/>
                </a:lnTo>
                <a:lnTo>
                  <a:pt x="216" y="1132"/>
                </a:lnTo>
                <a:lnTo>
                  <a:pt x="234" y="1136"/>
                </a:lnTo>
                <a:lnTo>
                  <a:pt x="251" y="1140"/>
                </a:lnTo>
                <a:lnTo>
                  <a:pt x="266" y="1144"/>
                </a:lnTo>
                <a:lnTo>
                  <a:pt x="282" y="1148"/>
                </a:lnTo>
                <a:lnTo>
                  <a:pt x="295" y="1150"/>
                </a:lnTo>
                <a:lnTo>
                  <a:pt x="309" y="1152"/>
                </a:lnTo>
                <a:lnTo>
                  <a:pt x="320" y="1153"/>
                </a:lnTo>
                <a:lnTo>
                  <a:pt x="332" y="1155"/>
                </a:lnTo>
                <a:lnTo>
                  <a:pt x="341" y="1157"/>
                </a:lnTo>
                <a:lnTo>
                  <a:pt x="349" y="1159"/>
                </a:lnTo>
                <a:lnTo>
                  <a:pt x="357" y="1159"/>
                </a:lnTo>
                <a:lnTo>
                  <a:pt x="364" y="1159"/>
                </a:lnTo>
                <a:lnTo>
                  <a:pt x="370" y="1161"/>
                </a:lnTo>
                <a:lnTo>
                  <a:pt x="376" y="1161"/>
                </a:lnTo>
                <a:lnTo>
                  <a:pt x="382" y="1155"/>
                </a:lnTo>
                <a:lnTo>
                  <a:pt x="387" y="1152"/>
                </a:lnTo>
                <a:lnTo>
                  <a:pt x="395" y="1146"/>
                </a:lnTo>
                <a:lnTo>
                  <a:pt x="403" y="1140"/>
                </a:lnTo>
                <a:lnTo>
                  <a:pt x="410" y="1132"/>
                </a:lnTo>
                <a:lnTo>
                  <a:pt x="420" y="1123"/>
                </a:lnTo>
                <a:lnTo>
                  <a:pt x="424" y="1119"/>
                </a:lnTo>
                <a:lnTo>
                  <a:pt x="428" y="1113"/>
                </a:lnTo>
                <a:lnTo>
                  <a:pt x="433" y="1107"/>
                </a:lnTo>
                <a:lnTo>
                  <a:pt x="437" y="1102"/>
                </a:lnTo>
                <a:lnTo>
                  <a:pt x="443" y="1094"/>
                </a:lnTo>
                <a:lnTo>
                  <a:pt x="447" y="1086"/>
                </a:lnTo>
                <a:lnTo>
                  <a:pt x="451" y="1077"/>
                </a:lnTo>
                <a:lnTo>
                  <a:pt x="456" y="1069"/>
                </a:lnTo>
                <a:lnTo>
                  <a:pt x="460" y="1059"/>
                </a:lnTo>
                <a:lnTo>
                  <a:pt x="464" y="1048"/>
                </a:lnTo>
                <a:lnTo>
                  <a:pt x="470" y="1038"/>
                </a:lnTo>
                <a:lnTo>
                  <a:pt x="474" y="1025"/>
                </a:lnTo>
                <a:lnTo>
                  <a:pt x="478" y="1013"/>
                </a:lnTo>
                <a:lnTo>
                  <a:pt x="481" y="1000"/>
                </a:lnTo>
                <a:lnTo>
                  <a:pt x="485" y="985"/>
                </a:lnTo>
                <a:lnTo>
                  <a:pt x="489" y="969"/>
                </a:lnTo>
                <a:lnTo>
                  <a:pt x="491" y="952"/>
                </a:lnTo>
                <a:lnTo>
                  <a:pt x="495" y="935"/>
                </a:lnTo>
                <a:lnTo>
                  <a:pt x="497" y="917"/>
                </a:lnTo>
                <a:lnTo>
                  <a:pt x="501" y="896"/>
                </a:lnTo>
                <a:lnTo>
                  <a:pt x="504" y="856"/>
                </a:lnTo>
                <a:lnTo>
                  <a:pt x="506" y="818"/>
                </a:lnTo>
                <a:lnTo>
                  <a:pt x="510" y="779"/>
                </a:lnTo>
                <a:lnTo>
                  <a:pt x="510" y="741"/>
                </a:lnTo>
                <a:lnTo>
                  <a:pt x="512" y="702"/>
                </a:lnTo>
                <a:lnTo>
                  <a:pt x="512" y="664"/>
                </a:lnTo>
                <a:lnTo>
                  <a:pt x="512" y="626"/>
                </a:lnTo>
                <a:lnTo>
                  <a:pt x="512" y="585"/>
                </a:lnTo>
                <a:lnTo>
                  <a:pt x="508" y="545"/>
                </a:lnTo>
                <a:lnTo>
                  <a:pt x="502" y="507"/>
                </a:lnTo>
                <a:lnTo>
                  <a:pt x="499" y="468"/>
                </a:lnTo>
                <a:lnTo>
                  <a:pt x="493" y="432"/>
                </a:lnTo>
                <a:lnTo>
                  <a:pt x="485" y="397"/>
                </a:lnTo>
                <a:lnTo>
                  <a:pt x="479" y="363"/>
                </a:lnTo>
                <a:lnTo>
                  <a:pt x="472" y="330"/>
                </a:lnTo>
                <a:lnTo>
                  <a:pt x="462" y="297"/>
                </a:lnTo>
                <a:lnTo>
                  <a:pt x="456" y="282"/>
                </a:lnTo>
                <a:lnTo>
                  <a:pt x="449" y="267"/>
                </a:lnTo>
                <a:lnTo>
                  <a:pt x="441" y="253"/>
                </a:lnTo>
                <a:lnTo>
                  <a:pt x="435" y="238"/>
                </a:lnTo>
                <a:lnTo>
                  <a:pt x="428" y="226"/>
                </a:lnTo>
                <a:lnTo>
                  <a:pt x="420" y="213"/>
                </a:lnTo>
                <a:lnTo>
                  <a:pt x="403" y="188"/>
                </a:lnTo>
                <a:lnTo>
                  <a:pt x="385" y="165"/>
                </a:lnTo>
                <a:lnTo>
                  <a:pt x="368" y="144"/>
                </a:lnTo>
                <a:lnTo>
                  <a:pt x="359" y="134"/>
                </a:lnTo>
                <a:lnTo>
                  <a:pt x="347" y="125"/>
                </a:lnTo>
                <a:lnTo>
                  <a:pt x="337" y="115"/>
                </a:lnTo>
                <a:lnTo>
                  <a:pt x="326" y="105"/>
                </a:lnTo>
                <a:lnTo>
                  <a:pt x="314" y="96"/>
                </a:lnTo>
                <a:lnTo>
                  <a:pt x="305" y="88"/>
                </a:lnTo>
                <a:lnTo>
                  <a:pt x="295" y="80"/>
                </a:lnTo>
                <a:lnTo>
                  <a:pt x="286" y="71"/>
                </a:lnTo>
                <a:lnTo>
                  <a:pt x="278" y="65"/>
                </a:lnTo>
                <a:lnTo>
                  <a:pt x="272" y="57"/>
                </a:lnTo>
                <a:lnTo>
                  <a:pt x="266" y="50"/>
                </a:lnTo>
                <a:lnTo>
                  <a:pt x="261" y="44"/>
                </a:lnTo>
                <a:lnTo>
                  <a:pt x="257" y="38"/>
                </a:lnTo>
                <a:lnTo>
                  <a:pt x="253" y="32"/>
                </a:lnTo>
                <a:lnTo>
                  <a:pt x="251" y="27"/>
                </a:lnTo>
                <a:lnTo>
                  <a:pt x="249" y="23"/>
                </a:lnTo>
                <a:lnTo>
                  <a:pt x="247" y="19"/>
                </a:lnTo>
                <a:lnTo>
                  <a:pt x="249" y="15"/>
                </a:lnTo>
                <a:lnTo>
                  <a:pt x="249" y="11"/>
                </a:lnTo>
                <a:lnTo>
                  <a:pt x="251" y="9"/>
                </a:lnTo>
                <a:lnTo>
                  <a:pt x="257" y="6"/>
                </a:lnTo>
                <a:lnTo>
                  <a:pt x="263" y="4"/>
                </a:lnTo>
                <a:lnTo>
                  <a:pt x="266" y="2"/>
                </a:lnTo>
                <a:lnTo>
                  <a:pt x="272" y="2"/>
                </a:lnTo>
                <a:lnTo>
                  <a:pt x="276" y="0"/>
                </a:lnTo>
                <a:lnTo>
                  <a:pt x="282" y="0"/>
                </a:lnTo>
                <a:lnTo>
                  <a:pt x="287" y="0"/>
                </a:lnTo>
                <a:lnTo>
                  <a:pt x="295" y="2"/>
                </a:lnTo>
                <a:lnTo>
                  <a:pt x="303" y="2"/>
                </a:lnTo>
                <a:lnTo>
                  <a:pt x="311" y="4"/>
                </a:lnTo>
                <a:lnTo>
                  <a:pt x="320" y="4"/>
                </a:lnTo>
                <a:lnTo>
                  <a:pt x="330" y="6"/>
                </a:lnTo>
                <a:lnTo>
                  <a:pt x="339" y="8"/>
                </a:lnTo>
                <a:lnTo>
                  <a:pt x="351" y="9"/>
                </a:lnTo>
                <a:lnTo>
                  <a:pt x="360" y="15"/>
                </a:lnTo>
                <a:lnTo>
                  <a:pt x="370" y="19"/>
                </a:lnTo>
                <a:lnTo>
                  <a:pt x="378" y="25"/>
                </a:lnTo>
                <a:lnTo>
                  <a:pt x="387" y="32"/>
                </a:lnTo>
                <a:lnTo>
                  <a:pt x="397" y="38"/>
                </a:lnTo>
                <a:lnTo>
                  <a:pt x="406" y="46"/>
                </a:lnTo>
                <a:lnTo>
                  <a:pt x="418" y="56"/>
                </a:lnTo>
                <a:lnTo>
                  <a:pt x="428" y="63"/>
                </a:lnTo>
                <a:lnTo>
                  <a:pt x="437" y="73"/>
                </a:lnTo>
                <a:lnTo>
                  <a:pt x="447" y="82"/>
                </a:lnTo>
                <a:lnTo>
                  <a:pt x="458" y="92"/>
                </a:lnTo>
                <a:lnTo>
                  <a:pt x="468" y="104"/>
                </a:lnTo>
                <a:lnTo>
                  <a:pt x="479" y="115"/>
                </a:lnTo>
                <a:lnTo>
                  <a:pt x="489" y="127"/>
                </a:lnTo>
                <a:lnTo>
                  <a:pt x="501" y="140"/>
                </a:lnTo>
                <a:lnTo>
                  <a:pt x="512" y="1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1"/>
          <p:cNvSpPr/>
          <p:nvPr/>
        </p:nvSpPr>
        <p:spPr>
          <a:xfrm>
            <a:off x="5502240" y="3863880"/>
            <a:ext cx="2270160" cy="319320"/>
          </a:xfrm>
          <a:custGeom>
            <a:avLst/>
            <a:gdLst/>
            <a:ahLst/>
            <a:rect l="l" t="t" r="r" b="b"/>
            <a:pathLst>
              <a:path w="2860" h="401">
                <a:moveTo>
                  <a:pt x="397" y="378"/>
                </a:moveTo>
                <a:lnTo>
                  <a:pt x="378" y="380"/>
                </a:lnTo>
                <a:lnTo>
                  <a:pt x="359" y="382"/>
                </a:lnTo>
                <a:lnTo>
                  <a:pt x="339" y="384"/>
                </a:lnTo>
                <a:lnTo>
                  <a:pt x="322" y="386"/>
                </a:lnTo>
                <a:lnTo>
                  <a:pt x="307" y="388"/>
                </a:lnTo>
                <a:lnTo>
                  <a:pt x="292" y="390"/>
                </a:lnTo>
                <a:lnTo>
                  <a:pt x="278" y="392"/>
                </a:lnTo>
                <a:lnTo>
                  <a:pt x="265" y="394"/>
                </a:lnTo>
                <a:lnTo>
                  <a:pt x="253" y="396"/>
                </a:lnTo>
                <a:lnTo>
                  <a:pt x="244" y="397"/>
                </a:lnTo>
                <a:lnTo>
                  <a:pt x="234" y="397"/>
                </a:lnTo>
                <a:lnTo>
                  <a:pt x="224" y="399"/>
                </a:lnTo>
                <a:lnTo>
                  <a:pt x="217" y="399"/>
                </a:lnTo>
                <a:lnTo>
                  <a:pt x="209" y="401"/>
                </a:lnTo>
                <a:lnTo>
                  <a:pt x="203" y="401"/>
                </a:lnTo>
                <a:lnTo>
                  <a:pt x="199" y="401"/>
                </a:lnTo>
                <a:lnTo>
                  <a:pt x="194" y="401"/>
                </a:lnTo>
                <a:lnTo>
                  <a:pt x="188" y="399"/>
                </a:lnTo>
                <a:lnTo>
                  <a:pt x="184" y="399"/>
                </a:lnTo>
                <a:lnTo>
                  <a:pt x="178" y="397"/>
                </a:lnTo>
                <a:lnTo>
                  <a:pt x="171" y="394"/>
                </a:lnTo>
                <a:lnTo>
                  <a:pt x="165" y="392"/>
                </a:lnTo>
                <a:lnTo>
                  <a:pt x="159" y="388"/>
                </a:lnTo>
                <a:lnTo>
                  <a:pt x="151" y="384"/>
                </a:lnTo>
                <a:lnTo>
                  <a:pt x="144" y="378"/>
                </a:lnTo>
                <a:lnTo>
                  <a:pt x="136" y="373"/>
                </a:lnTo>
                <a:lnTo>
                  <a:pt x="128" y="367"/>
                </a:lnTo>
                <a:lnTo>
                  <a:pt x="121" y="361"/>
                </a:lnTo>
                <a:lnTo>
                  <a:pt x="113" y="353"/>
                </a:lnTo>
                <a:lnTo>
                  <a:pt x="103" y="346"/>
                </a:lnTo>
                <a:lnTo>
                  <a:pt x="96" y="338"/>
                </a:lnTo>
                <a:lnTo>
                  <a:pt x="86" y="330"/>
                </a:lnTo>
                <a:lnTo>
                  <a:pt x="75" y="323"/>
                </a:lnTo>
                <a:lnTo>
                  <a:pt x="65" y="315"/>
                </a:lnTo>
                <a:lnTo>
                  <a:pt x="55" y="309"/>
                </a:lnTo>
                <a:lnTo>
                  <a:pt x="46" y="303"/>
                </a:lnTo>
                <a:lnTo>
                  <a:pt x="38" y="296"/>
                </a:lnTo>
                <a:lnTo>
                  <a:pt x="30" y="290"/>
                </a:lnTo>
                <a:lnTo>
                  <a:pt x="25" y="284"/>
                </a:lnTo>
                <a:lnTo>
                  <a:pt x="19" y="278"/>
                </a:lnTo>
                <a:lnTo>
                  <a:pt x="15" y="273"/>
                </a:lnTo>
                <a:lnTo>
                  <a:pt x="9" y="267"/>
                </a:lnTo>
                <a:lnTo>
                  <a:pt x="7" y="263"/>
                </a:lnTo>
                <a:lnTo>
                  <a:pt x="4" y="259"/>
                </a:lnTo>
                <a:lnTo>
                  <a:pt x="2" y="255"/>
                </a:lnTo>
                <a:lnTo>
                  <a:pt x="0" y="252"/>
                </a:lnTo>
                <a:lnTo>
                  <a:pt x="0" y="248"/>
                </a:lnTo>
                <a:lnTo>
                  <a:pt x="0" y="246"/>
                </a:lnTo>
                <a:lnTo>
                  <a:pt x="17" y="246"/>
                </a:lnTo>
                <a:lnTo>
                  <a:pt x="34" y="244"/>
                </a:lnTo>
                <a:lnTo>
                  <a:pt x="55" y="244"/>
                </a:lnTo>
                <a:lnTo>
                  <a:pt x="78" y="244"/>
                </a:lnTo>
                <a:lnTo>
                  <a:pt x="101" y="242"/>
                </a:lnTo>
                <a:lnTo>
                  <a:pt x="128" y="240"/>
                </a:lnTo>
                <a:lnTo>
                  <a:pt x="155" y="238"/>
                </a:lnTo>
                <a:lnTo>
                  <a:pt x="184" y="236"/>
                </a:lnTo>
                <a:lnTo>
                  <a:pt x="215" y="234"/>
                </a:lnTo>
                <a:lnTo>
                  <a:pt x="247" y="232"/>
                </a:lnTo>
                <a:lnTo>
                  <a:pt x="280" y="229"/>
                </a:lnTo>
                <a:lnTo>
                  <a:pt x="316" y="225"/>
                </a:lnTo>
                <a:lnTo>
                  <a:pt x="353" y="221"/>
                </a:lnTo>
                <a:lnTo>
                  <a:pt x="391" y="217"/>
                </a:lnTo>
                <a:lnTo>
                  <a:pt x="432" y="213"/>
                </a:lnTo>
                <a:lnTo>
                  <a:pt x="472" y="209"/>
                </a:lnTo>
                <a:lnTo>
                  <a:pt x="493" y="207"/>
                </a:lnTo>
                <a:lnTo>
                  <a:pt x="514" y="206"/>
                </a:lnTo>
                <a:lnTo>
                  <a:pt x="535" y="202"/>
                </a:lnTo>
                <a:lnTo>
                  <a:pt x="558" y="200"/>
                </a:lnTo>
                <a:lnTo>
                  <a:pt x="583" y="198"/>
                </a:lnTo>
                <a:lnTo>
                  <a:pt x="606" y="194"/>
                </a:lnTo>
                <a:lnTo>
                  <a:pt x="633" y="192"/>
                </a:lnTo>
                <a:lnTo>
                  <a:pt x="658" y="188"/>
                </a:lnTo>
                <a:lnTo>
                  <a:pt x="687" y="186"/>
                </a:lnTo>
                <a:lnTo>
                  <a:pt x="714" y="183"/>
                </a:lnTo>
                <a:lnTo>
                  <a:pt x="743" y="181"/>
                </a:lnTo>
                <a:lnTo>
                  <a:pt x="773" y="177"/>
                </a:lnTo>
                <a:lnTo>
                  <a:pt x="802" y="175"/>
                </a:lnTo>
                <a:lnTo>
                  <a:pt x="835" y="171"/>
                </a:lnTo>
                <a:lnTo>
                  <a:pt x="865" y="167"/>
                </a:lnTo>
                <a:lnTo>
                  <a:pt x="898" y="165"/>
                </a:lnTo>
                <a:lnTo>
                  <a:pt x="933" y="161"/>
                </a:lnTo>
                <a:lnTo>
                  <a:pt x="967" y="158"/>
                </a:lnTo>
                <a:lnTo>
                  <a:pt x="1002" y="154"/>
                </a:lnTo>
                <a:lnTo>
                  <a:pt x="1038" y="150"/>
                </a:lnTo>
                <a:lnTo>
                  <a:pt x="1075" y="148"/>
                </a:lnTo>
                <a:lnTo>
                  <a:pt x="1113" y="144"/>
                </a:lnTo>
                <a:lnTo>
                  <a:pt x="1151" y="140"/>
                </a:lnTo>
                <a:lnTo>
                  <a:pt x="1190" y="136"/>
                </a:lnTo>
                <a:lnTo>
                  <a:pt x="1230" y="131"/>
                </a:lnTo>
                <a:lnTo>
                  <a:pt x="1270" y="127"/>
                </a:lnTo>
                <a:lnTo>
                  <a:pt x="1313" y="123"/>
                </a:lnTo>
                <a:lnTo>
                  <a:pt x="1355" y="119"/>
                </a:lnTo>
                <a:lnTo>
                  <a:pt x="1397" y="115"/>
                </a:lnTo>
                <a:lnTo>
                  <a:pt x="1441" y="110"/>
                </a:lnTo>
                <a:lnTo>
                  <a:pt x="1485" y="106"/>
                </a:lnTo>
                <a:lnTo>
                  <a:pt x="1531" y="102"/>
                </a:lnTo>
                <a:lnTo>
                  <a:pt x="1576" y="96"/>
                </a:lnTo>
                <a:lnTo>
                  <a:pt x="1620" y="92"/>
                </a:lnTo>
                <a:lnTo>
                  <a:pt x="1662" y="88"/>
                </a:lnTo>
                <a:lnTo>
                  <a:pt x="1704" y="85"/>
                </a:lnTo>
                <a:lnTo>
                  <a:pt x="1745" y="79"/>
                </a:lnTo>
                <a:lnTo>
                  <a:pt x="1785" y="75"/>
                </a:lnTo>
                <a:lnTo>
                  <a:pt x="1823" y="71"/>
                </a:lnTo>
                <a:lnTo>
                  <a:pt x="1860" y="67"/>
                </a:lnTo>
                <a:lnTo>
                  <a:pt x="1896" y="63"/>
                </a:lnTo>
                <a:lnTo>
                  <a:pt x="1931" y="60"/>
                </a:lnTo>
                <a:lnTo>
                  <a:pt x="1965" y="56"/>
                </a:lnTo>
                <a:lnTo>
                  <a:pt x="1998" y="52"/>
                </a:lnTo>
                <a:lnTo>
                  <a:pt x="2031" y="50"/>
                </a:lnTo>
                <a:lnTo>
                  <a:pt x="2061" y="46"/>
                </a:lnTo>
                <a:lnTo>
                  <a:pt x="2090" y="42"/>
                </a:lnTo>
                <a:lnTo>
                  <a:pt x="2119" y="40"/>
                </a:lnTo>
                <a:lnTo>
                  <a:pt x="2148" y="37"/>
                </a:lnTo>
                <a:lnTo>
                  <a:pt x="2173" y="35"/>
                </a:lnTo>
                <a:lnTo>
                  <a:pt x="2197" y="31"/>
                </a:lnTo>
                <a:lnTo>
                  <a:pt x="2222" y="29"/>
                </a:lnTo>
                <a:lnTo>
                  <a:pt x="2245" y="25"/>
                </a:lnTo>
                <a:lnTo>
                  <a:pt x="2269" y="23"/>
                </a:lnTo>
                <a:lnTo>
                  <a:pt x="2288" y="21"/>
                </a:lnTo>
                <a:lnTo>
                  <a:pt x="2309" y="19"/>
                </a:lnTo>
                <a:lnTo>
                  <a:pt x="2328" y="17"/>
                </a:lnTo>
                <a:lnTo>
                  <a:pt x="2345" y="16"/>
                </a:lnTo>
                <a:lnTo>
                  <a:pt x="2361" y="14"/>
                </a:lnTo>
                <a:lnTo>
                  <a:pt x="2376" y="12"/>
                </a:lnTo>
                <a:lnTo>
                  <a:pt x="2391" y="10"/>
                </a:lnTo>
                <a:lnTo>
                  <a:pt x="2405" y="8"/>
                </a:lnTo>
                <a:lnTo>
                  <a:pt x="2416" y="6"/>
                </a:lnTo>
                <a:lnTo>
                  <a:pt x="2428" y="6"/>
                </a:lnTo>
                <a:lnTo>
                  <a:pt x="2449" y="4"/>
                </a:lnTo>
                <a:lnTo>
                  <a:pt x="2468" y="2"/>
                </a:lnTo>
                <a:lnTo>
                  <a:pt x="2487" y="0"/>
                </a:lnTo>
                <a:lnTo>
                  <a:pt x="2507" y="0"/>
                </a:lnTo>
                <a:lnTo>
                  <a:pt x="2526" y="0"/>
                </a:lnTo>
                <a:lnTo>
                  <a:pt x="2543" y="0"/>
                </a:lnTo>
                <a:lnTo>
                  <a:pt x="2560" y="2"/>
                </a:lnTo>
                <a:lnTo>
                  <a:pt x="2578" y="2"/>
                </a:lnTo>
                <a:lnTo>
                  <a:pt x="2593" y="4"/>
                </a:lnTo>
                <a:lnTo>
                  <a:pt x="2608" y="6"/>
                </a:lnTo>
                <a:lnTo>
                  <a:pt x="2624" y="8"/>
                </a:lnTo>
                <a:lnTo>
                  <a:pt x="2637" y="10"/>
                </a:lnTo>
                <a:lnTo>
                  <a:pt x="2650" y="12"/>
                </a:lnTo>
                <a:lnTo>
                  <a:pt x="2664" y="14"/>
                </a:lnTo>
                <a:lnTo>
                  <a:pt x="2677" y="16"/>
                </a:lnTo>
                <a:lnTo>
                  <a:pt x="2689" y="17"/>
                </a:lnTo>
                <a:lnTo>
                  <a:pt x="2708" y="27"/>
                </a:lnTo>
                <a:lnTo>
                  <a:pt x="2725" y="39"/>
                </a:lnTo>
                <a:lnTo>
                  <a:pt x="2745" y="50"/>
                </a:lnTo>
                <a:lnTo>
                  <a:pt x="2762" y="62"/>
                </a:lnTo>
                <a:lnTo>
                  <a:pt x="2779" y="77"/>
                </a:lnTo>
                <a:lnTo>
                  <a:pt x="2796" y="92"/>
                </a:lnTo>
                <a:lnTo>
                  <a:pt x="2812" y="108"/>
                </a:lnTo>
                <a:lnTo>
                  <a:pt x="2825" y="125"/>
                </a:lnTo>
                <a:lnTo>
                  <a:pt x="2833" y="136"/>
                </a:lnTo>
                <a:lnTo>
                  <a:pt x="2839" y="146"/>
                </a:lnTo>
                <a:lnTo>
                  <a:pt x="2844" y="156"/>
                </a:lnTo>
                <a:lnTo>
                  <a:pt x="2848" y="163"/>
                </a:lnTo>
                <a:lnTo>
                  <a:pt x="2852" y="173"/>
                </a:lnTo>
                <a:lnTo>
                  <a:pt x="2856" y="179"/>
                </a:lnTo>
                <a:lnTo>
                  <a:pt x="2858" y="186"/>
                </a:lnTo>
                <a:lnTo>
                  <a:pt x="2860" y="192"/>
                </a:lnTo>
                <a:lnTo>
                  <a:pt x="2860" y="198"/>
                </a:lnTo>
                <a:lnTo>
                  <a:pt x="2860" y="202"/>
                </a:lnTo>
                <a:lnTo>
                  <a:pt x="2860" y="206"/>
                </a:lnTo>
                <a:lnTo>
                  <a:pt x="2858" y="209"/>
                </a:lnTo>
                <a:lnTo>
                  <a:pt x="2854" y="213"/>
                </a:lnTo>
                <a:lnTo>
                  <a:pt x="2850" y="217"/>
                </a:lnTo>
                <a:lnTo>
                  <a:pt x="2844" y="219"/>
                </a:lnTo>
                <a:lnTo>
                  <a:pt x="2839" y="221"/>
                </a:lnTo>
                <a:lnTo>
                  <a:pt x="2831" y="223"/>
                </a:lnTo>
                <a:lnTo>
                  <a:pt x="2823" y="225"/>
                </a:lnTo>
                <a:lnTo>
                  <a:pt x="2814" y="227"/>
                </a:lnTo>
                <a:lnTo>
                  <a:pt x="2806" y="229"/>
                </a:lnTo>
                <a:lnTo>
                  <a:pt x="2794" y="229"/>
                </a:lnTo>
                <a:lnTo>
                  <a:pt x="2785" y="230"/>
                </a:lnTo>
                <a:lnTo>
                  <a:pt x="2773" y="230"/>
                </a:lnTo>
                <a:lnTo>
                  <a:pt x="2760" y="230"/>
                </a:lnTo>
                <a:lnTo>
                  <a:pt x="2746" y="230"/>
                </a:lnTo>
                <a:lnTo>
                  <a:pt x="2733" y="230"/>
                </a:lnTo>
                <a:lnTo>
                  <a:pt x="2718" y="229"/>
                </a:lnTo>
                <a:lnTo>
                  <a:pt x="2702" y="229"/>
                </a:lnTo>
                <a:lnTo>
                  <a:pt x="2685" y="227"/>
                </a:lnTo>
                <a:lnTo>
                  <a:pt x="2666" y="225"/>
                </a:lnTo>
                <a:lnTo>
                  <a:pt x="2647" y="223"/>
                </a:lnTo>
                <a:lnTo>
                  <a:pt x="2627" y="221"/>
                </a:lnTo>
                <a:lnTo>
                  <a:pt x="2616" y="221"/>
                </a:lnTo>
                <a:lnTo>
                  <a:pt x="2604" y="219"/>
                </a:lnTo>
                <a:lnTo>
                  <a:pt x="2593" y="219"/>
                </a:lnTo>
                <a:lnTo>
                  <a:pt x="2579" y="217"/>
                </a:lnTo>
                <a:lnTo>
                  <a:pt x="2566" y="217"/>
                </a:lnTo>
                <a:lnTo>
                  <a:pt x="2553" y="215"/>
                </a:lnTo>
                <a:lnTo>
                  <a:pt x="2539" y="215"/>
                </a:lnTo>
                <a:lnTo>
                  <a:pt x="2524" y="215"/>
                </a:lnTo>
                <a:lnTo>
                  <a:pt x="2508" y="213"/>
                </a:lnTo>
                <a:lnTo>
                  <a:pt x="2493" y="213"/>
                </a:lnTo>
                <a:lnTo>
                  <a:pt x="2476" y="213"/>
                </a:lnTo>
                <a:lnTo>
                  <a:pt x="2459" y="213"/>
                </a:lnTo>
                <a:lnTo>
                  <a:pt x="2441" y="211"/>
                </a:lnTo>
                <a:lnTo>
                  <a:pt x="2424" y="211"/>
                </a:lnTo>
                <a:lnTo>
                  <a:pt x="2405" y="211"/>
                </a:lnTo>
                <a:lnTo>
                  <a:pt x="2386" y="211"/>
                </a:lnTo>
                <a:lnTo>
                  <a:pt x="2366" y="211"/>
                </a:lnTo>
                <a:lnTo>
                  <a:pt x="2345" y="211"/>
                </a:lnTo>
                <a:lnTo>
                  <a:pt x="2324" y="209"/>
                </a:lnTo>
                <a:lnTo>
                  <a:pt x="2303" y="209"/>
                </a:lnTo>
                <a:lnTo>
                  <a:pt x="2280" y="209"/>
                </a:lnTo>
                <a:lnTo>
                  <a:pt x="2259" y="209"/>
                </a:lnTo>
                <a:lnTo>
                  <a:pt x="2236" y="209"/>
                </a:lnTo>
                <a:lnTo>
                  <a:pt x="2211" y="209"/>
                </a:lnTo>
                <a:lnTo>
                  <a:pt x="2188" y="209"/>
                </a:lnTo>
                <a:lnTo>
                  <a:pt x="2163" y="209"/>
                </a:lnTo>
                <a:lnTo>
                  <a:pt x="2138" y="209"/>
                </a:lnTo>
                <a:lnTo>
                  <a:pt x="2113" y="209"/>
                </a:lnTo>
                <a:lnTo>
                  <a:pt x="2086" y="209"/>
                </a:lnTo>
                <a:lnTo>
                  <a:pt x="2059" y="209"/>
                </a:lnTo>
                <a:lnTo>
                  <a:pt x="2032" y="209"/>
                </a:lnTo>
                <a:lnTo>
                  <a:pt x="2004" y="209"/>
                </a:lnTo>
                <a:lnTo>
                  <a:pt x="1946" y="211"/>
                </a:lnTo>
                <a:lnTo>
                  <a:pt x="1890" y="213"/>
                </a:lnTo>
                <a:lnTo>
                  <a:pt x="1835" y="217"/>
                </a:lnTo>
                <a:lnTo>
                  <a:pt x="1781" y="219"/>
                </a:lnTo>
                <a:lnTo>
                  <a:pt x="1729" y="221"/>
                </a:lnTo>
                <a:lnTo>
                  <a:pt x="1679" y="223"/>
                </a:lnTo>
                <a:lnTo>
                  <a:pt x="1629" y="227"/>
                </a:lnTo>
                <a:lnTo>
                  <a:pt x="1581" y="229"/>
                </a:lnTo>
                <a:lnTo>
                  <a:pt x="1533" y="232"/>
                </a:lnTo>
                <a:lnTo>
                  <a:pt x="1487" y="234"/>
                </a:lnTo>
                <a:lnTo>
                  <a:pt x="1441" y="238"/>
                </a:lnTo>
                <a:lnTo>
                  <a:pt x="1399" y="242"/>
                </a:lnTo>
                <a:lnTo>
                  <a:pt x="1355" y="246"/>
                </a:lnTo>
                <a:lnTo>
                  <a:pt x="1313" y="250"/>
                </a:lnTo>
                <a:lnTo>
                  <a:pt x="1272" y="254"/>
                </a:lnTo>
                <a:lnTo>
                  <a:pt x="1232" y="257"/>
                </a:lnTo>
                <a:lnTo>
                  <a:pt x="1194" y="261"/>
                </a:lnTo>
                <a:lnTo>
                  <a:pt x="1155" y="267"/>
                </a:lnTo>
                <a:lnTo>
                  <a:pt x="1119" y="271"/>
                </a:lnTo>
                <a:lnTo>
                  <a:pt x="1082" y="275"/>
                </a:lnTo>
                <a:lnTo>
                  <a:pt x="1048" y="280"/>
                </a:lnTo>
                <a:lnTo>
                  <a:pt x="1015" y="284"/>
                </a:lnTo>
                <a:lnTo>
                  <a:pt x="983" y="288"/>
                </a:lnTo>
                <a:lnTo>
                  <a:pt x="952" y="292"/>
                </a:lnTo>
                <a:lnTo>
                  <a:pt x="921" y="296"/>
                </a:lnTo>
                <a:lnTo>
                  <a:pt x="894" y="300"/>
                </a:lnTo>
                <a:lnTo>
                  <a:pt x="865" y="303"/>
                </a:lnTo>
                <a:lnTo>
                  <a:pt x="840" y="305"/>
                </a:lnTo>
                <a:lnTo>
                  <a:pt x="814" y="309"/>
                </a:lnTo>
                <a:lnTo>
                  <a:pt x="791" y="313"/>
                </a:lnTo>
                <a:lnTo>
                  <a:pt x="768" y="315"/>
                </a:lnTo>
                <a:lnTo>
                  <a:pt x="746" y="317"/>
                </a:lnTo>
                <a:lnTo>
                  <a:pt x="704" y="323"/>
                </a:lnTo>
                <a:lnTo>
                  <a:pt x="660" y="328"/>
                </a:lnTo>
                <a:lnTo>
                  <a:pt x="616" y="336"/>
                </a:lnTo>
                <a:lnTo>
                  <a:pt x="572" y="342"/>
                </a:lnTo>
                <a:lnTo>
                  <a:pt x="528" y="351"/>
                </a:lnTo>
                <a:lnTo>
                  <a:pt x="483" y="359"/>
                </a:lnTo>
                <a:lnTo>
                  <a:pt x="439" y="369"/>
                </a:lnTo>
                <a:lnTo>
                  <a:pt x="397" y="3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52"/>
          <p:cNvSpPr/>
          <p:nvPr/>
        </p:nvSpPr>
        <p:spPr>
          <a:xfrm>
            <a:off x="6154560" y="3394080"/>
            <a:ext cx="770040" cy="453960"/>
          </a:xfrm>
          <a:custGeom>
            <a:avLst/>
            <a:gdLst/>
            <a:ahLst/>
            <a:rect l="l" t="t" r="r" b="b"/>
            <a:pathLst>
              <a:path w="971" h="574">
                <a:moveTo>
                  <a:pt x="536" y="574"/>
                </a:moveTo>
                <a:lnTo>
                  <a:pt x="511" y="551"/>
                </a:lnTo>
                <a:lnTo>
                  <a:pt x="486" y="526"/>
                </a:lnTo>
                <a:lnTo>
                  <a:pt x="497" y="505"/>
                </a:lnTo>
                <a:lnTo>
                  <a:pt x="509" y="486"/>
                </a:lnTo>
                <a:lnTo>
                  <a:pt x="520" y="465"/>
                </a:lnTo>
                <a:lnTo>
                  <a:pt x="532" y="445"/>
                </a:lnTo>
                <a:lnTo>
                  <a:pt x="543" y="426"/>
                </a:lnTo>
                <a:lnTo>
                  <a:pt x="553" y="409"/>
                </a:lnTo>
                <a:lnTo>
                  <a:pt x="563" y="390"/>
                </a:lnTo>
                <a:lnTo>
                  <a:pt x="572" y="374"/>
                </a:lnTo>
                <a:lnTo>
                  <a:pt x="580" y="357"/>
                </a:lnTo>
                <a:lnTo>
                  <a:pt x="588" y="342"/>
                </a:lnTo>
                <a:lnTo>
                  <a:pt x="595" y="326"/>
                </a:lnTo>
                <a:lnTo>
                  <a:pt x="603" y="311"/>
                </a:lnTo>
                <a:lnTo>
                  <a:pt x="611" y="298"/>
                </a:lnTo>
                <a:lnTo>
                  <a:pt x="616" y="284"/>
                </a:lnTo>
                <a:lnTo>
                  <a:pt x="622" y="271"/>
                </a:lnTo>
                <a:lnTo>
                  <a:pt x="628" y="259"/>
                </a:lnTo>
                <a:lnTo>
                  <a:pt x="634" y="248"/>
                </a:lnTo>
                <a:lnTo>
                  <a:pt x="638" y="238"/>
                </a:lnTo>
                <a:lnTo>
                  <a:pt x="641" y="227"/>
                </a:lnTo>
                <a:lnTo>
                  <a:pt x="645" y="217"/>
                </a:lnTo>
                <a:lnTo>
                  <a:pt x="649" y="209"/>
                </a:lnTo>
                <a:lnTo>
                  <a:pt x="653" y="200"/>
                </a:lnTo>
                <a:lnTo>
                  <a:pt x="655" y="192"/>
                </a:lnTo>
                <a:lnTo>
                  <a:pt x="657" y="186"/>
                </a:lnTo>
                <a:lnTo>
                  <a:pt x="659" y="180"/>
                </a:lnTo>
                <a:lnTo>
                  <a:pt x="661" y="175"/>
                </a:lnTo>
                <a:lnTo>
                  <a:pt x="661" y="169"/>
                </a:lnTo>
                <a:lnTo>
                  <a:pt x="662" y="165"/>
                </a:lnTo>
                <a:lnTo>
                  <a:pt x="662" y="161"/>
                </a:lnTo>
                <a:lnTo>
                  <a:pt x="662" y="159"/>
                </a:lnTo>
                <a:lnTo>
                  <a:pt x="661" y="157"/>
                </a:lnTo>
                <a:lnTo>
                  <a:pt x="661" y="156"/>
                </a:lnTo>
                <a:lnTo>
                  <a:pt x="657" y="154"/>
                </a:lnTo>
                <a:lnTo>
                  <a:pt x="653" y="152"/>
                </a:lnTo>
                <a:lnTo>
                  <a:pt x="647" y="152"/>
                </a:lnTo>
                <a:lnTo>
                  <a:pt x="639" y="150"/>
                </a:lnTo>
                <a:lnTo>
                  <a:pt x="630" y="150"/>
                </a:lnTo>
                <a:lnTo>
                  <a:pt x="620" y="152"/>
                </a:lnTo>
                <a:lnTo>
                  <a:pt x="609" y="154"/>
                </a:lnTo>
                <a:lnTo>
                  <a:pt x="595" y="156"/>
                </a:lnTo>
                <a:lnTo>
                  <a:pt x="580" y="157"/>
                </a:lnTo>
                <a:lnTo>
                  <a:pt x="565" y="159"/>
                </a:lnTo>
                <a:lnTo>
                  <a:pt x="545" y="163"/>
                </a:lnTo>
                <a:lnTo>
                  <a:pt x="526" y="169"/>
                </a:lnTo>
                <a:lnTo>
                  <a:pt x="507" y="173"/>
                </a:lnTo>
                <a:lnTo>
                  <a:pt x="484" y="179"/>
                </a:lnTo>
                <a:lnTo>
                  <a:pt x="461" y="184"/>
                </a:lnTo>
                <a:lnTo>
                  <a:pt x="436" y="192"/>
                </a:lnTo>
                <a:lnTo>
                  <a:pt x="411" y="198"/>
                </a:lnTo>
                <a:lnTo>
                  <a:pt x="388" y="204"/>
                </a:lnTo>
                <a:lnTo>
                  <a:pt x="365" y="209"/>
                </a:lnTo>
                <a:lnTo>
                  <a:pt x="344" y="215"/>
                </a:lnTo>
                <a:lnTo>
                  <a:pt x="325" y="221"/>
                </a:lnTo>
                <a:lnTo>
                  <a:pt x="307" y="227"/>
                </a:lnTo>
                <a:lnTo>
                  <a:pt x="290" y="230"/>
                </a:lnTo>
                <a:lnTo>
                  <a:pt x="275" y="234"/>
                </a:lnTo>
                <a:lnTo>
                  <a:pt x="259" y="238"/>
                </a:lnTo>
                <a:lnTo>
                  <a:pt x="246" y="242"/>
                </a:lnTo>
                <a:lnTo>
                  <a:pt x="233" y="244"/>
                </a:lnTo>
                <a:lnTo>
                  <a:pt x="223" y="248"/>
                </a:lnTo>
                <a:lnTo>
                  <a:pt x="211" y="250"/>
                </a:lnTo>
                <a:lnTo>
                  <a:pt x="202" y="250"/>
                </a:lnTo>
                <a:lnTo>
                  <a:pt x="194" y="251"/>
                </a:lnTo>
                <a:lnTo>
                  <a:pt x="186" y="251"/>
                </a:lnTo>
                <a:lnTo>
                  <a:pt x="179" y="251"/>
                </a:lnTo>
                <a:lnTo>
                  <a:pt x="171" y="250"/>
                </a:lnTo>
                <a:lnTo>
                  <a:pt x="163" y="248"/>
                </a:lnTo>
                <a:lnTo>
                  <a:pt x="154" y="244"/>
                </a:lnTo>
                <a:lnTo>
                  <a:pt x="144" y="240"/>
                </a:lnTo>
                <a:lnTo>
                  <a:pt x="135" y="236"/>
                </a:lnTo>
                <a:lnTo>
                  <a:pt x="123" y="230"/>
                </a:lnTo>
                <a:lnTo>
                  <a:pt x="112" y="223"/>
                </a:lnTo>
                <a:lnTo>
                  <a:pt x="100" y="215"/>
                </a:lnTo>
                <a:lnTo>
                  <a:pt x="87" y="205"/>
                </a:lnTo>
                <a:lnTo>
                  <a:pt x="73" y="196"/>
                </a:lnTo>
                <a:lnTo>
                  <a:pt x="60" y="186"/>
                </a:lnTo>
                <a:lnTo>
                  <a:pt x="46" y="173"/>
                </a:lnTo>
                <a:lnTo>
                  <a:pt x="31" y="161"/>
                </a:lnTo>
                <a:lnTo>
                  <a:pt x="16" y="146"/>
                </a:lnTo>
                <a:lnTo>
                  <a:pt x="0" y="131"/>
                </a:lnTo>
                <a:lnTo>
                  <a:pt x="42" y="131"/>
                </a:lnTo>
                <a:lnTo>
                  <a:pt x="87" y="129"/>
                </a:lnTo>
                <a:lnTo>
                  <a:pt x="133" y="125"/>
                </a:lnTo>
                <a:lnTo>
                  <a:pt x="179" y="121"/>
                </a:lnTo>
                <a:lnTo>
                  <a:pt x="229" y="115"/>
                </a:lnTo>
                <a:lnTo>
                  <a:pt x="254" y="109"/>
                </a:lnTo>
                <a:lnTo>
                  <a:pt x="279" y="106"/>
                </a:lnTo>
                <a:lnTo>
                  <a:pt x="305" y="102"/>
                </a:lnTo>
                <a:lnTo>
                  <a:pt x="330" y="96"/>
                </a:lnTo>
                <a:lnTo>
                  <a:pt x="359" y="90"/>
                </a:lnTo>
                <a:lnTo>
                  <a:pt x="386" y="83"/>
                </a:lnTo>
                <a:lnTo>
                  <a:pt x="411" y="79"/>
                </a:lnTo>
                <a:lnTo>
                  <a:pt x="436" y="75"/>
                </a:lnTo>
                <a:lnTo>
                  <a:pt x="457" y="69"/>
                </a:lnTo>
                <a:lnTo>
                  <a:pt x="480" y="65"/>
                </a:lnTo>
                <a:lnTo>
                  <a:pt x="499" y="61"/>
                </a:lnTo>
                <a:lnTo>
                  <a:pt x="519" y="56"/>
                </a:lnTo>
                <a:lnTo>
                  <a:pt x="536" y="52"/>
                </a:lnTo>
                <a:lnTo>
                  <a:pt x="553" y="48"/>
                </a:lnTo>
                <a:lnTo>
                  <a:pt x="568" y="44"/>
                </a:lnTo>
                <a:lnTo>
                  <a:pt x="582" y="40"/>
                </a:lnTo>
                <a:lnTo>
                  <a:pt x="593" y="38"/>
                </a:lnTo>
                <a:lnTo>
                  <a:pt x="605" y="35"/>
                </a:lnTo>
                <a:lnTo>
                  <a:pt x="614" y="31"/>
                </a:lnTo>
                <a:lnTo>
                  <a:pt x="622" y="29"/>
                </a:lnTo>
                <a:lnTo>
                  <a:pt x="630" y="25"/>
                </a:lnTo>
                <a:lnTo>
                  <a:pt x="636" y="23"/>
                </a:lnTo>
                <a:lnTo>
                  <a:pt x="641" y="19"/>
                </a:lnTo>
                <a:lnTo>
                  <a:pt x="647" y="13"/>
                </a:lnTo>
                <a:lnTo>
                  <a:pt x="655" y="10"/>
                </a:lnTo>
                <a:lnTo>
                  <a:pt x="662" y="6"/>
                </a:lnTo>
                <a:lnTo>
                  <a:pt x="674" y="4"/>
                </a:lnTo>
                <a:lnTo>
                  <a:pt x="684" y="2"/>
                </a:lnTo>
                <a:lnTo>
                  <a:pt x="697" y="0"/>
                </a:lnTo>
                <a:lnTo>
                  <a:pt x="710" y="0"/>
                </a:lnTo>
                <a:lnTo>
                  <a:pt x="716" y="0"/>
                </a:lnTo>
                <a:lnTo>
                  <a:pt x="724" y="0"/>
                </a:lnTo>
                <a:lnTo>
                  <a:pt x="732" y="2"/>
                </a:lnTo>
                <a:lnTo>
                  <a:pt x="741" y="4"/>
                </a:lnTo>
                <a:lnTo>
                  <a:pt x="749" y="6"/>
                </a:lnTo>
                <a:lnTo>
                  <a:pt x="758" y="10"/>
                </a:lnTo>
                <a:lnTo>
                  <a:pt x="768" y="13"/>
                </a:lnTo>
                <a:lnTo>
                  <a:pt x="778" y="19"/>
                </a:lnTo>
                <a:lnTo>
                  <a:pt x="787" y="23"/>
                </a:lnTo>
                <a:lnTo>
                  <a:pt x="797" y="31"/>
                </a:lnTo>
                <a:lnTo>
                  <a:pt x="808" y="37"/>
                </a:lnTo>
                <a:lnTo>
                  <a:pt x="820" y="44"/>
                </a:lnTo>
                <a:lnTo>
                  <a:pt x="833" y="54"/>
                </a:lnTo>
                <a:lnTo>
                  <a:pt x="845" y="61"/>
                </a:lnTo>
                <a:lnTo>
                  <a:pt x="858" y="73"/>
                </a:lnTo>
                <a:lnTo>
                  <a:pt x="872" y="83"/>
                </a:lnTo>
                <a:lnTo>
                  <a:pt x="883" y="94"/>
                </a:lnTo>
                <a:lnTo>
                  <a:pt x="893" y="104"/>
                </a:lnTo>
                <a:lnTo>
                  <a:pt x="904" y="115"/>
                </a:lnTo>
                <a:lnTo>
                  <a:pt x="914" y="123"/>
                </a:lnTo>
                <a:lnTo>
                  <a:pt x="922" y="132"/>
                </a:lnTo>
                <a:lnTo>
                  <a:pt x="929" y="140"/>
                </a:lnTo>
                <a:lnTo>
                  <a:pt x="937" y="148"/>
                </a:lnTo>
                <a:lnTo>
                  <a:pt x="945" y="156"/>
                </a:lnTo>
                <a:lnTo>
                  <a:pt x="950" y="161"/>
                </a:lnTo>
                <a:lnTo>
                  <a:pt x="956" y="167"/>
                </a:lnTo>
                <a:lnTo>
                  <a:pt x="960" y="173"/>
                </a:lnTo>
                <a:lnTo>
                  <a:pt x="964" y="179"/>
                </a:lnTo>
                <a:lnTo>
                  <a:pt x="968" y="182"/>
                </a:lnTo>
                <a:lnTo>
                  <a:pt x="970" y="186"/>
                </a:lnTo>
                <a:lnTo>
                  <a:pt x="971" y="188"/>
                </a:lnTo>
                <a:lnTo>
                  <a:pt x="971" y="192"/>
                </a:lnTo>
                <a:lnTo>
                  <a:pt x="966" y="196"/>
                </a:lnTo>
                <a:lnTo>
                  <a:pt x="960" y="200"/>
                </a:lnTo>
                <a:lnTo>
                  <a:pt x="952" y="204"/>
                </a:lnTo>
                <a:lnTo>
                  <a:pt x="943" y="209"/>
                </a:lnTo>
                <a:lnTo>
                  <a:pt x="933" y="213"/>
                </a:lnTo>
                <a:lnTo>
                  <a:pt x="922" y="217"/>
                </a:lnTo>
                <a:lnTo>
                  <a:pt x="910" y="223"/>
                </a:lnTo>
                <a:lnTo>
                  <a:pt x="897" y="227"/>
                </a:lnTo>
                <a:lnTo>
                  <a:pt x="893" y="228"/>
                </a:lnTo>
                <a:lnTo>
                  <a:pt x="889" y="230"/>
                </a:lnTo>
                <a:lnTo>
                  <a:pt x="883" y="232"/>
                </a:lnTo>
                <a:lnTo>
                  <a:pt x="879" y="236"/>
                </a:lnTo>
                <a:lnTo>
                  <a:pt x="874" y="240"/>
                </a:lnTo>
                <a:lnTo>
                  <a:pt x="866" y="244"/>
                </a:lnTo>
                <a:lnTo>
                  <a:pt x="860" y="250"/>
                </a:lnTo>
                <a:lnTo>
                  <a:pt x="852" y="253"/>
                </a:lnTo>
                <a:lnTo>
                  <a:pt x="845" y="261"/>
                </a:lnTo>
                <a:lnTo>
                  <a:pt x="835" y="267"/>
                </a:lnTo>
                <a:lnTo>
                  <a:pt x="828" y="275"/>
                </a:lnTo>
                <a:lnTo>
                  <a:pt x="818" y="282"/>
                </a:lnTo>
                <a:lnTo>
                  <a:pt x="808" y="290"/>
                </a:lnTo>
                <a:lnTo>
                  <a:pt x="799" y="299"/>
                </a:lnTo>
                <a:lnTo>
                  <a:pt x="787" y="309"/>
                </a:lnTo>
                <a:lnTo>
                  <a:pt x="776" y="319"/>
                </a:lnTo>
                <a:lnTo>
                  <a:pt x="764" y="330"/>
                </a:lnTo>
                <a:lnTo>
                  <a:pt x="753" y="342"/>
                </a:lnTo>
                <a:lnTo>
                  <a:pt x="739" y="353"/>
                </a:lnTo>
                <a:lnTo>
                  <a:pt x="726" y="367"/>
                </a:lnTo>
                <a:lnTo>
                  <a:pt x="712" y="380"/>
                </a:lnTo>
                <a:lnTo>
                  <a:pt x="699" y="395"/>
                </a:lnTo>
                <a:lnTo>
                  <a:pt x="686" y="409"/>
                </a:lnTo>
                <a:lnTo>
                  <a:pt x="670" y="424"/>
                </a:lnTo>
                <a:lnTo>
                  <a:pt x="655" y="442"/>
                </a:lnTo>
                <a:lnTo>
                  <a:pt x="639" y="459"/>
                </a:lnTo>
                <a:lnTo>
                  <a:pt x="622" y="476"/>
                </a:lnTo>
                <a:lnTo>
                  <a:pt x="607" y="493"/>
                </a:lnTo>
                <a:lnTo>
                  <a:pt x="590" y="513"/>
                </a:lnTo>
                <a:lnTo>
                  <a:pt x="572" y="534"/>
                </a:lnTo>
                <a:lnTo>
                  <a:pt x="553" y="553"/>
                </a:lnTo>
                <a:lnTo>
                  <a:pt x="536" y="5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53"/>
          <p:cNvSpPr/>
          <p:nvPr/>
        </p:nvSpPr>
        <p:spPr>
          <a:xfrm>
            <a:off x="5916600" y="2698920"/>
            <a:ext cx="1513080" cy="1076040"/>
          </a:xfrm>
          <a:custGeom>
            <a:avLst/>
            <a:gdLst/>
            <a:ahLst/>
            <a:rect l="l" t="t" r="r" b="b"/>
            <a:pathLst>
              <a:path w="1906" h="1357">
                <a:moveTo>
                  <a:pt x="1906" y="706"/>
                </a:moveTo>
                <a:lnTo>
                  <a:pt x="1904" y="714"/>
                </a:lnTo>
                <a:lnTo>
                  <a:pt x="1904" y="721"/>
                </a:lnTo>
                <a:lnTo>
                  <a:pt x="1900" y="727"/>
                </a:lnTo>
                <a:lnTo>
                  <a:pt x="1896" y="733"/>
                </a:lnTo>
                <a:lnTo>
                  <a:pt x="1890" y="737"/>
                </a:lnTo>
                <a:lnTo>
                  <a:pt x="1885" y="741"/>
                </a:lnTo>
                <a:lnTo>
                  <a:pt x="1877" y="741"/>
                </a:lnTo>
                <a:lnTo>
                  <a:pt x="1867" y="743"/>
                </a:lnTo>
                <a:lnTo>
                  <a:pt x="1864" y="745"/>
                </a:lnTo>
                <a:lnTo>
                  <a:pt x="1858" y="748"/>
                </a:lnTo>
                <a:lnTo>
                  <a:pt x="1854" y="752"/>
                </a:lnTo>
                <a:lnTo>
                  <a:pt x="1850" y="756"/>
                </a:lnTo>
                <a:lnTo>
                  <a:pt x="1844" y="762"/>
                </a:lnTo>
                <a:lnTo>
                  <a:pt x="1841" y="768"/>
                </a:lnTo>
                <a:lnTo>
                  <a:pt x="1837" y="773"/>
                </a:lnTo>
                <a:lnTo>
                  <a:pt x="1833" y="779"/>
                </a:lnTo>
                <a:lnTo>
                  <a:pt x="1827" y="787"/>
                </a:lnTo>
                <a:lnTo>
                  <a:pt x="1823" y="796"/>
                </a:lnTo>
                <a:lnTo>
                  <a:pt x="1821" y="804"/>
                </a:lnTo>
                <a:lnTo>
                  <a:pt x="1818" y="816"/>
                </a:lnTo>
                <a:lnTo>
                  <a:pt x="1814" y="825"/>
                </a:lnTo>
                <a:lnTo>
                  <a:pt x="1812" y="837"/>
                </a:lnTo>
                <a:lnTo>
                  <a:pt x="1808" y="848"/>
                </a:lnTo>
                <a:lnTo>
                  <a:pt x="1806" y="862"/>
                </a:lnTo>
                <a:lnTo>
                  <a:pt x="1796" y="894"/>
                </a:lnTo>
                <a:lnTo>
                  <a:pt x="1785" y="925"/>
                </a:lnTo>
                <a:lnTo>
                  <a:pt x="1773" y="956"/>
                </a:lnTo>
                <a:lnTo>
                  <a:pt x="1760" y="988"/>
                </a:lnTo>
                <a:lnTo>
                  <a:pt x="1747" y="1019"/>
                </a:lnTo>
                <a:lnTo>
                  <a:pt x="1733" y="1052"/>
                </a:lnTo>
                <a:lnTo>
                  <a:pt x="1706" y="1115"/>
                </a:lnTo>
                <a:lnTo>
                  <a:pt x="1687" y="1146"/>
                </a:lnTo>
                <a:lnTo>
                  <a:pt x="1670" y="1174"/>
                </a:lnTo>
                <a:lnTo>
                  <a:pt x="1660" y="1188"/>
                </a:lnTo>
                <a:lnTo>
                  <a:pt x="1651" y="1201"/>
                </a:lnTo>
                <a:lnTo>
                  <a:pt x="1641" y="1215"/>
                </a:lnTo>
                <a:lnTo>
                  <a:pt x="1629" y="1228"/>
                </a:lnTo>
                <a:lnTo>
                  <a:pt x="1620" y="1240"/>
                </a:lnTo>
                <a:lnTo>
                  <a:pt x="1610" y="1251"/>
                </a:lnTo>
                <a:lnTo>
                  <a:pt x="1599" y="1263"/>
                </a:lnTo>
                <a:lnTo>
                  <a:pt x="1589" y="1272"/>
                </a:lnTo>
                <a:lnTo>
                  <a:pt x="1578" y="1282"/>
                </a:lnTo>
                <a:lnTo>
                  <a:pt x="1566" y="1292"/>
                </a:lnTo>
                <a:lnTo>
                  <a:pt x="1556" y="1299"/>
                </a:lnTo>
                <a:lnTo>
                  <a:pt x="1545" y="1307"/>
                </a:lnTo>
                <a:lnTo>
                  <a:pt x="1522" y="1318"/>
                </a:lnTo>
                <a:lnTo>
                  <a:pt x="1501" y="1330"/>
                </a:lnTo>
                <a:lnTo>
                  <a:pt x="1489" y="1336"/>
                </a:lnTo>
                <a:lnTo>
                  <a:pt x="1480" y="1340"/>
                </a:lnTo>
                <a:lnTo>
                  <a:pt x="1470" y="1345"/>
                </a:lnTo>
                <a:lnTo>
                  <a:pt x="1462" y="1347"/>
                </a:lnTo>
                <a:lnTo>
                  <a:pt x="1453" y="1351"/>
                </a:lnTo>
                <a:lnTo>
                  <a:pt x="1445" y="1353"/>
                </a:lnTo>
                <a:lnTo>
                  <a:pt x="1437" y="1355"/>
                </a:lnTo>
                <a:lnTo>
                  <a:pt x="1430" y="1357"/>
                </a:lnTo>
                <a:lnTo>
                  <a:pt x="1424" y="1357"/>
                </a:lnTo>
                <a:lnTo>
                  <a:pt x="1418" y="1357"/>
                </a:lnTo>
                <a:lnTo>
                  <a:pt x="1413" y="1355"/>
                </a:lnTo>
                <a:lnTo>
                  <a:pt x="1407" y="1353"/>
                </a:lnTo>
                <a:lnTo>
                  <a:pt x="1403" y="1351"/>
                </a:lnTo>
                <a:lnTo>
                  <a:pt x="1399" y="1349"/>
                </a:lnTo>
                <a:lnTo>
                  <a:pt x="1395" y="1345"/>
                </a:lnTo>
                <a:lnTo>
                  <a:pt x="1393" y="1341"/>
                </a:lnTo>
                <a:lnTo>
                  <a:pt x="1391" y="1340"/>
                </a:lnTo>
                <a:lnTo>
                  <a:pt x="1389" y="1336"/>
                </a:lnTo>
                <a:lnTo>
                  <a:pt x="1388" y="1326"/>
                </a:lnTo>
                <a:lnTo>
                  <a:pt x="1388" y="1317"/>
                </a:lnTo>
                <a:lnTo>
                  <a:pt x="1388" y="1307"/>
                </a:lnTo>
                <a:lnTo>
                  <a:pt x="1391" y="1295"/>
                </a:lnTo>
                <a:lnTo>
                  <a:pt x="1395" y="1282"/>
                </a:lnTo>
                <a:lnTo>
                  <a:pt x="1397" y="1274"/>
                </a:lnTo>
                <a:lnTo>
                  <a:pt x="1397" y="1269"/>
                </a:lnTo>
                <a:lnTo>
                  <a:pt x="1397" y="1261"/>
                </a:lnTo>
                <a:lnTo>
                  <a:pt x="1397" y="1255"/>
                </a:lnTo>
                <a:lnTo>
                  <a:pt x="1395" y="1247"/>
                </a:lnTo>
                <a:lnTo>
                  <a:pt x="1393" y="1240"/>
                </a:lnTo>
                <a:lnTo>
                  <a:pt x="1389" y="1232"/>
                </a:lnTo>
                <a:lnTo>
                  <a:pt x="1388" y="1224"/>
                </a:lnTo>
                <a:lnTo>
                  <a:pt x="1382" y="1217"/>
                </a:lnTo>
                <a:lnTo>
                  <a:pt x="1378" y="1209"/>
                </a:lnTo>
                <a:lnTo>
                  <a:pt x="1370" y="1199"/>
                </a:lnTo>
                <a:lnTo>
                  <a:pt x="1365" y="1192"/>
                </a:lnTo>
                <a:lnTo>
                  <a:pt x="1357" y="1182"/>
                </a:lnTo>
                <a:lnTo>
                  <a:pt x="1349" y="1171"/>
                </a:lnTo>
                <a:lnTo>
                  <a:pt x="1342" y="1161"/>
                </a:lnTo>
                <a:lnTo>
                  <a:pt x="1332" y="1150"/>
                </a:lnTo>
                <a:lnTo>
                  <a:pt x="1322" y="1140"/>
                </a:lnTo>
                <a:lnTo>
                  <a:pt x="1311" y="1128"/>
                </a:lnTo>
                <a:lnTo>
                  <a:pt x="1303" y="1119"/>
                </a:lnTo>
                <a:lnTo>
                  <a:pt x="1295" y="1111"/>
                </a:lnTo>
                <a:lnTo>
                  <a:pt x="1288" y="1103"/>
                </a:lnTo>
                <a:lnTo>
                  <a:pt x="1282" y="1096"/>
                </a:lnTo>
                <a:lnTo>
                  <a:pt x="1278" y="1090"/>
                </a:lnTo>
                <a:lnTo>
                  <a:pt x="1274" y="1084"/>
                </a:lnTo>
                <a:lnTo>
                  <a:pt x="1270" y="1079"/>
                </a:lnTo>
                <a:lnTo>
                  <a:pt x="1269" y="1075"/>
                </a:lnTo>
                <a:lnTo>
                  <a:pt x="1267" y="1069"/>
                </a:lnTo>
                <a:lnTo>
                  <a:pt x="1267" y="1065"/>
                </a:lnTo>
                <a:lnTo>
                  <a:pt x="1267" y="1063"/>
                </a:lnTo>
                <a:lnTo>
                  <a:pt x="1267" y="1059"/>
                </a:lnTo>
                <a:lnTo>
                  <a:pt x="1269" y="1057"/>
                </a:lnTo>
                <a:lnTo>
                  <a:pt x="1270" y="1054"/>
                </a:lnTo>
                <a:lnTo>
                  <a:pt x="1272" y="1052"/>
                </a:lnTo>
                <a:lnTo>
                  <a:pt x="1276" y="1050"/>
                </a:lnTo>
                <a:lnTo>
                  <a:pt x="1278" y="1050"/>
                </a:lnTo>
                <a:lnTo>
                  <a:pt x="1282" y="1050"/>
                </a:lnTo>
                <a:lnTo>
                  <a:pt x="1286" y="1050"/>
                </a:lnTo>
                <a:lnTo>
                  <a:pt x="1292" y="1050"/>
                </a:lnTo>
                <a:lnTo>
                  <a:pt x="1295" y="1052"/>
                </a:lnTo>
                <a:lnTo>
                  <a:pt x="1301" y="1052"/>
                </a:lnTo>
                <a:lnTo>
                  <a:pt x="1307" y="1054"/>
                </a:lnTo>
                <a:lnTo>
                  <a:pt x="1315" y="1057"/>
                </a:lnTo>
                <a:lnTo>
                  <a:pt x="1322" y="1059"/>
                </a:lnTo>
                <a:lnTo>
                  <a:pt x="1330" y="1063"/>
                </a:lnTo>
                <a:lnTo>
                  <a:pt x="1340" y="1065"/>
                </a:lnTo>
                <a:lnTo>
                  <a:pt x="1349" y="1069"/>
                </a:lnTo>
                <a:lnTo>
                  <a:pt x="1359" y="1073"/>
                </a:lnTo>
                <a:lnTo>
                  <a:pt x="1370" y="1079"/>
                </a:lnTo>
                <a:lnTo>
                  <a:pt x="1380" y="1084"/>
                </a:lnTo>
                <a:lnTo>
                  <a:pt x="1388" y="1090"/>
                </a:lnTo>
                <a:lnTo>
                  <a:pt x="1397" y="1094"/>
                </a:lnTo>
                <a:lnTo>
                  <a:pt x="1405" y="1098"/>
                </a:lnTo>
                <a:lnTo>
                  <a:pt x="1413" y="1102"/>
                </a:lnTo>
                <a:lnTo>
                  <a:pt x="1420" y="1103"/>
                </a:lnTo>
                <a:lnTo>
                  <a:pt x="1428" y="1105"/>
                </a:lnTo>
                <a:lnTo>
                  <a:pt x="1436" y="1105"/>
                </a:lnTo>
                <a:lnTo>
                  <a:pt x="1441" y="1105"/>
                </a:lnTo>
                <a:lnTo>
                  <a:pt x="1449" y="1103"/>
                </a:lnTo>
                <a:lnTo>
                  <a:pt x="1455" y="1102"/>
                </a:lnTo>
                <a:lnTo>
                  <a:pt x="1461" y="1098"/>
                </a:lnTo>
                <a:lnTo>
                  <a:pt x="1466" y="1094"/>
                </a:lnTo>
                <a:lnTo>
                  <a:pt x="1472" y="1090"/>
                </a:lnTo>
                <a:lnTo>
                  <a:pt x="1478" y="1084"/>
                </a:lnTo>
                <a:lnTo>
                  <a:pt x="1482" y="1079"/>
                </a:lnTo>
                <a:lnTo>
                  <a:pt x="1487" y="1071"/>
                </a:lnTo>
                <a:lnTo>
                  <a:pt x="1491" y="1063"/>
                </a:lnTo>
                <a:lnTo>
                  <a:pt x="1497" y="1054"/>
                </a:lnTo>
                <a:lnTo>
                  <a:pt x="1503" y="1044"/>
                </a:lnTo>
                <a:lnTo>
                  <a:pt x="1509" y="1034"/>
                </a:lnTo>
                <a:lnTo>
                  <a:pt x="1514" y="1023"/>
                </a:lnTo>
                <a:lnTo>
                  <a:pt x="1520" y="1009"/>
                </a:lnTo>
                <a:lnTo>
                  <a:pt x="1528" y="996"/>
                </a:lnTo>
                <a:lnTo>
                  <a:pt x="1533" y="983"/>
                </a:lnTo>
                <a:lnTo>
                  <a:pt x="1541" y="969"/>
                </a:lnTo>
                <a:lnTo>
                  <a:pt x="1547" y="952"/>
                </a:lnTo>
                <a:lnTo>
                  <a:pt x="1555" y="936"/>
                </a:lnTo>
                <a:lnTo>
                  <a:pt x="1560" y="919"/>
                </a:lnTo>
                <a:lnTo>
                  <a:pt x="1568" y="900"/>
                </a:lnTo>
                <a:lnTo>
                  <a:pt x="1574" y="883"/>
                </a:lnTo>
                <a:lnTo>
                  <a:pt x="1581" y="862"/>
                </a:lnTo>
                <a:lnTo>
                  <a:pt x="1587" y="842"/>
                </a:lnTo>
                <a:lnTo>
                  <a:pt x="1595" y="823"/>
                </a:lnTo>
                <a:lnTo>
                  <a:pt x="1601" y="806"/>
                </a:lnTo>
                <a:lnTo>
                  <a:pt x="1604" y="791"/>
                </a:lnTo>
                <a:lnTo>
                  <a:pt x="1608" y="775"/>
                </a:lnTo>
                <a:lnTo>
                  <a:pt x="1612" y="760"/>
                </a:lnTo>
                <a:lnTo>
                  <a:pt x="1616" y="746"/>
                </a:lnTo>
                <a:lnTo>
                  <a:pt x="1618" y="735"/>
                </a:lnTo>
                <a:lnTo>
                  <a:pt x="1622" y="723"/>
                </a:lnTo>
                <a:lnTo>
                  <a:pt x="1622" y="714"/>
                </a:lnTo>
                <a:lnTo>
                  <a:pt x="1624" y="704"/>
                </a:lnTo>
                <a:lnTo>
                  <a:pt x="1624" y="695"/>
                </a:lnTo>
                <a:lnTo>
                  <a:pt x="1624" y="687"/>
                </a:lnTo>
                <a:lnTo>
                  <a:pt x="1622" y="681"/>
                </a:lnTo>
                <a:lnTo>
                  <a:pt x="1622" y="675"/>
                </a:lnTo>
                <a:lnTo>
                  <a:pt x="1620" y="670"/>
                </a:lnTo>
                <a:lnTo>
                  <a:pt x="1616" y="668"/>
                </a:lnTo>
                <a:lnTo>
                  <a:pt x="1612" y="666"/>
                </a:lnTo>
                <a:lnTo>
                  <a:pt x="1608" y="664"/>
                </a:lnTo>
                <a:lnTo>
                  <a:pt x="1603" y="662"/>
                </a:lnTo>
                <a:lnTo>
                  <a:pt x="1597" y="660"/>
                </a:lnTo>
                <a:lnTo>
                  <a:pt x="1591" y="658"/>
                </a:lnTo>
                <a:lnTo>
                  <a:pt x="1583" y="656"/>
                </a:lnTo>
                <a:lnTo>
                  <a:pt x="1576" y="654"/>
                </a:lnTo>
                <a:lnTo>
                  <a:pt x="1566" y="652"/>
                </a:lnTo>
                <a:lnTo>
                  <a:pt x="1558" y="650"/>
                </a:lnTo>
                <a:lnTo>
                  <a:pt x="1549" y="649"/>
                </a:lnTo>
                <a:lnTo>
                  <a:pt x="1539" y="649"/>
                </a:lnTo>
                <a:lnTo>
                  <a:pt x="1518" y="647"/>
                </a:lnTo>
                <a:lnTo>
                  <a:pt x="1495" y="647"/>
                </a:lnTo>
                <a:lnTo>
                  <a:pt x="1484" y="647"/>
                </a:lnTo>
                <a:lnTo>
                  <a:pt x="1470" y="647"/>
                </a:lnTo>
                <a:lnTo>
                  <a:pt x="1457" y="647"/>
                </a:lnTo>
                <a:lnTo>
                  <a:pt x="1443" y="649"/>
                </a:lnTo>
                <a:lnTo>
                  <a:pt x="1430" y="650"/>
                </a:lnTo>
                <a:lnTo>
                  <a:pt x="1414" y="650"/>
                </a:lnTo>
                <a:lnTo>
                  <a:pt x="1384" y="654"/>
                </a:lnTo>
                <a:lnTo>
                  <a:pt x="1351" y="660"/>
                </a:lnTo>
                <a:lnTo>
                  <a:pt x="1318" y="666"/>
                </a:lnTo>
                <a:lnTo>
                  <a:pt x="1282" y="673"/>
                </a:lnTo>
                <a:lnTo>
                  <a:pt x="1246" y="683"/>
                </a:lnTo>
                <a:lnTo>
                  <a:pt x="1228" y="689"/>
                </a:lnTo>
                <a:lnTo>
                  <a:pt x="1211" y="695"/>
                </a:lnTo>
                <a:lnTo>
                  <a:pt x="1196" y="698"/>
                </a:lnTo>
                <a:lnTo>
                  <a:pt x="1180" y="704"/>
                </a:lnTo>
                <a:lnTo>
                  <a:pt x="1167" y="706"/>
                </a:lnTo>
                <a:lnTo>
                  <a:pt x="1153" y="710"/>
                </a:lnTo>
                <a:lnTo>
                  <a:pt x="1142" y="712"/>
                </a:lnTo>
                <a:lnTo>
                  <a:pt x="1132" y="712"/>
                </a:lnTo>
                <a:lnTo>
                  <a:pt x="1123" y="714"/>
                </a:lnTo>
                <a:lnTo>
                  <a:pt x="1113" y="714"/>
                </a:lnTo>
                <a:lnTo>
                  <a:pt x="1107" y="714"/>
                </a:lnTo>
                <a:lnTo>
                  <a:pt x="1100" y="714"/>
                </a:lnTo>
                <a:lnTo>
                  <a:pt x="1094" y="712"/>
                </a:lnTo>
                <a:lnTo>
                  <a:pt x="1090" y="710"/>
                </a:lnTo>
                <a:lnTo>
                  <a:pt x="1086" y="708"/>
                </a:lnTo>
                <a:lnTo>
                  <a:pt x="1084" y="706"/>
                </a:lnTo>
                <a:lnTo>
                  <a:pt x="1079" y="700"/>
                </a:lnTo>
                <a:lnTo>
                  <a:pt x="1075" y="695"/>
                </a:lnTo>
                <a:lnTo>
                  <a:pt x="1069" y="687"/>
                </a:lnTo>
                <a:lnTo>
                  <a:pt x="1065" y="679"/>
                </a:lnTo>
                <a:lnTo>
                  <a:pt x="1059" y="670"/>
                </a:lnTo>
                <a:lnTo>
                  <a:pt x="1056" y="660"/>
                </a:lnTo>
                <a:lnTo>
                  <a:pt x="1050" y="647"/>
                </a:lnTo>
                <a:lnTo>
                  <a:pt x="1046" y="635"/>
                </a:lnTo>
                <a:lnTo>
                  <a:pt x="1042" y="622"/>
                </a:lnTo>
                <a:lnTo>
                  <a:pt x="1040" y="610"/>
                </a:lnTo>
                <a:lnTo>
                  <a:pt x="1038" y="604"/>
                </a:lnTo>
                <a:lnTo>
                  <a:pt x="1038" y="599"/>
                </a:lnTo>
                <a:lnTo>
                  <a:pt x="1038" y="593"/>
                </a:lnTo>
                <a:lnTo>
                  <a:pt x="1040" y="587"/>
                </a:lnTo>
                <a:lnTo>
                  <a:pt x="1042" y="583"/>
                </a:lnTo>
                <a:lnTo>
                  <a:pt x="1044" y="578"/>
                </a:lnTo>
                <a:lnTo>
                  <a:pt x="1046" y="574"/>
                </a:lnTo>
                <a:lnTo>
                  <a:pt x="1050" y="568"/>
                </a:lnTo>
                <a:lnTo>
                  <a:pt x="1054" y="564"/>
                </a:lnTo>
                <a:lnTo>
                  <a:pt x="1059" y="560"/>
                </a:lnTo>
                <a:lnTo>
                  <a:pt x="1065" y="554"/>
                </a:lnTo>
                <a:lnTo>
                  <a:pt x="1071" y="551"/>
                </a:lnTo>
                <a:lnTo>
                  <a:pt x="1077" y="545"/>
                </a:lnTo>
                <a:lnTo>
                  <a:pt x="1082" y="539"/>
                </a:lnTo>
                <a:lnTo>
                  <a:pt x="1088" y="533"/>
                </a:lnTo>
                <a:lnTo>
                  <a:pt x="1094" y="526"/>
                </a:lnTo>
                <a:lnTo>
                  <a:pt x="1102" y="518"/>
                </a:lnTo>
                <a:lnTo>
                  <a:pt x="1109" y="508"/>
                </a:lnTo>
                <a:lnTo>
                  <a:pt x="1117" y="497"/>
                </a:lnTo>
                <a:lnTo>
                  <a:pt x="1127" y="485"/>
                </a:lnTo>
                <a:lnTo>
                  <a:pt x="1134" y="474"/>
                </a:lnTo>
                <a:lnTo>
                  <a:pt x="1144" y="460"/>
                </a:lnTo>
                <a:lnTo>
                  <a:pt x="1153" y="447"/>
                </a:lnTo>
                <a:lnTo>
                  <a:pt x="1165" y="432"/>
                </a:lnTo>
                <a:lnTo>
                  <a:pt x="1175" y="414"/>
                </a:lnTo>
                <a:lnTo>
                  <a:pt x="1186" y="397"/>
                </a:lnTo>
                <a:lnTo>
                  <a:pt x="1198" y="378"/>
                </a:lnTo>
                <a:lnTo>
                  <a:pt x="1209" y="359"/>
                </a:lnTo>
                <a:lnTo>
                  <a:pt x="1219" y="341"/>
                </a:lnTo>
                <a:lnTo>
                  <a:pt x="1230" y="324"/>
                </a:lnTo>
                <a:lnTo>
                  <a:pt x="1240" y="309"/>
                </a:lnTo>
                <a:lnTo>
                  <a:pt x="1247" y="293"/>
                </a:lnTo>
                <a:lnTo>
                  <a:pt x="1255" y="280"/>
                </a:lnTo>
                <a:lnTo>
                  <a:pt x="1263" y="267"/>
                </a:lnTo>
                <a:lnTo>
                  <a:pt x="1269" y="255"/>
                </a:lnTo>
                <a:lnTo>
                  <a:pt x="1272" y="244"/>
                </a:lnTo>
                <a:lnTo>
                  <a:pt x="1278" y="232"/>
                </a:lnTo>
                <a:lnTo>
                  <a:pt x="1280" y="224"/>
                </a:lnTo>
                <a:lnTo>
                  <a:pt x="1284" y="215"/>
                </a:lnTo>
                <a:lnTo>
                  <a:pt x="1284" y="209"/>
                </a:lnTo>
                <a:lnTo>
                  <a:pt x="1286" y="203"/>
                </a:lnTo>
                <a:lnTo>
                  <a:pt x="1286" y="197"/>
                </a:lnTo>
                <a:lnTo>
                  <a:pt x="1284" y="194"/>
                </a:lnTo>
                <a:lnTo>
                  <a:pt x="1282" y="192"/>
                </a:lnTo>
                <a:lnTo>
                  <a:pt x="1280" y="188"/>
                </a:lnTo>
                <a:lnTo>
                  <a:pt x="1276" y="186"/>
                </a:lnTo>
                <a:lnTo>
                  <a:pt x="1272" y="184"/>
                </a:lnTo>
                <a:lnTo>
                  <a:pt x="1267" y="182"/>
                </a:lnTo>
                <a:lnTo>
                  <a:pt x="1261" y="180"/>
                </a:lnTo>
                <a:lnTo>
                  <a:pt x="1253" y="178"/>
                </a:lnTo>
                <a:lnTo>
                  <a:pt x="1246" y="176"/>
                </a:lnTo>
                <a:lnTo>
                  <a:pt x="1238" y="176"/>
                </a:lnTo>
                <a:lnTo>
                  <a:pt x="1228" y="174"/>
                </a:lnTo>
                <a:lnTo>
                  <a:pt x="1219" y="174"/>
                </a:lnTo>
                <a:lnTo>
                  <a:pt x="1209" y="174"/>
                </a:lnTo>
                <a:lnTo>
                  <a:pt x="1198" y="174"/>
                </a:lnTo>
                <a:lnTo>
                  <a:pt x="1186" y="174"/>
                </a:lnTo>
                <a:lnTo>
                  <a:pt x="1173" y="174"/>
                </a:lnTo>
                <a:lnTo>
                  <a:pt x="1159" y="176"/>
                </a:lnTo>
                <a:lnTo>
                  <a:pt x="1146" y="178"/>
                </a:lnTo>
                <a:lnTo>
                  <a:pt x="1138" y="180"/>
                </a:lnTo>
                <a:lnTo>
                  <a:pt x="1130" y="182"/>
                </a:lnTo>
                <a:lnTo>
                  <a:pt x="1123" y="182"/>
                </a:lnTo>
                <a:lnTo>
                  <a:pt x="1113" y="184"/>
                </a:lnTo>
                <a:lnTo>
                  <a:pt x="1104" y="186"/>
                </a:lnTo>
                <a:lnTo>
                  <a:pt x="1094" y="188"/>
                </a:lnTo>
                <a:lnTo>
                  <a:pt x="1082" y="190"/>
                </a:lnTo>
                <a:lnTo>
                  <a:pt x="1071" y="192"/>
                </a:lnTo>
                <a:lnTo>
                  <a:pt x="1059" y="194"/>
                </a:lnTo>
                <a:lnTo>
                  <a:pt x="1046" y="197"/>
                </a:lnTo>
                <a:lnTo>
                  <a:pt x="1034" y="199"/>
                </a:lnTo>
                <a:lnTo>
                  <a:pt x="1021" y="201"/>
                </a:lnTo>
                <a:lnTo>
                  <a:pt x="1006" y="205"/>
                </a:lnTo>
                <a:lnTo>
                  <a:pt x="992" y="207"/>
                </a:lnTo>
                <a:lnTo>
                  <a:pt x="977" y="211"/>
                </a:lnTo>
                <a:lnTo>
                  <a:pt x="960" y="213"/>
                </a:lnTo>
                <a:lnTo>
                  <a:pt x="944" y="217"/>
                </a:lnTo>
                <a:lnTo>
                  <a:pt x="927" y="219"/>
                </a:lnTo>
                <a:lnTo>
                  <a:pt x="910" y="222"/>
                </a:lnTo>
                <a:lnTo>
                  <a:pt x="892" y="226"/>
                </a:lnTo>
                <a:lnTo>
                  <a:pt x="873" y="230"/>
                </a:lnTo>
                <a:lnTo>
                  <a:pt x="854" y="234"/>
                </a:lnTo>
                <a:lnTo>
                  <a:pt x="835" y="238"/>
                </a:lnTo>
                <a:lnTo>
                  <a:pt x="816" y="242"/>
                </a:lnTo>
                <a:lnTo>
                  <a:pt x="794" y="245"/>
                </a:lnTo>
                <a:lnTo>
                  <a:pt x="773" y="249"/>
                </a:lnTo>
                <a:lnTo>
                  <a:pt x="752" y="253"/>
                </a:lnTo>
                <a:lnTo>
                  <a:pt x="729" y="257"/>
                </a:lnTo>
                <a:lnTo>
                  <a:pt x="706" y="261"/>
                </a:lnTo>
                <a:lnTo>
                  <a:pt x="683" y="267"/>
                </a:lnTo>
                <a:lnTo>
                  <a:pt x="660" y="270"/>
                </a:lnTo>
                <a:lnTo>
                  <a:pt x="635" y="274"/>
                </a:lnTo>
                <a:lnTo>
                  <a:pt x="610" y="280"/>
                </a:lnTo>
                <a:lnTo>
                  <a:pt x="587" y="286"/>
                </a:lnTo>
                <a:lnTo>
                  <a:pt x="564" y="292"/>
                </a:lnTo>
                <a:lnTo>
                  <a:pt x="543" y="295"/>
                </a:lnTo>
                <a:lnTo>
                  <a:pt x="520" y="301"/>
                </a:lnTo>
                <a:lnTo>
                  <a:pt x="501" y="305"/>
                </a:lnTo>
                <a:lnTo>
                  <a:pt x="480" y="309"/>
                </a:lnTo>
                <a:lnTo>
                  <a:pt x="461" y="315"/>
                </a:lnTo>
                <a:lnTo>
                  <a:pt x="441" y="318"/>
                </a:lnTo>
                <a:lnTo>
                  <a:pt x="422" y="320"/>
                </a:lnTo>
                <a:lnTo>
                  <a:pt x="405" y="324"/>
                </a:lnTo>
                <a:lnTo>
                  <a:pt x="388" y="328"/>
                </a:lnTo>
                <a:lnTo>
                  <a:pt x="372" y="332"/>
                </a:lnTo>
                <a:lnTo>
                  <a:pt x="357" y="334"/>
                </a:lnTo>
                <a:lnTo>
                  <a:pt x="341" y="338"/>
                </a:lnTo>
                <a:lnTo>
                  <a:pt x="326" y="340"/>
                </a:lnTo>
                <a:lnTo>
                  <a:pt x="313" y="341"/>
                </a:lnTo>
                <a:lnTo>
                  <a:pt x="299" y="343"/>
                </a:lnTo>
                <a:lnTo>
                  <a:pt x="288" y="347"/>
                </a:lnTo>
                <a:lnTo>
                  <a:pt x="276" y="349"/>
                </a:lnTo>
                <a:lnTo>
                  <a:pt x="265" y="349"/>
                </a:lnTo>
                <a:lnTo>
                  <a:pt x="255" y="351"/>
                </a:lnTo>
                <a:lnTo>
                  <a:pt x="246" y="353"/>
                </a:lnTo>
                <a:lnTo>
                  <a:pt x="236" y="355"/>
                </a:lnTo>
                <a:lnTo>
                  <a:pt x="228" y="355"/>
                </a:lnTo>
                <a:lnTo>
                  <a:pt x="221" y="357"/>
                </a:lnTo>
                <a:lnTo>
                  <a:pt x="213" y="357"/>
                </a:lnTo>
                <a:lnTo>
                  <a:pt x="205" y="357"/>
                </a:lnTo>
                <a:lnTo>
                  <a:pt x="199" y="359"/>
                </a:lnTo>
                <a:lnTo>
                  <a:pt x="196" y="359"/>
                </a:lnTo>
                <a:lnTo>
                  <a:pt x="190" y="359"/>
                </a:lnTo>
                <a:lnTo>
                  <a:pt x="188" y="359"/>
                </a:lnTo>
                <a:lnTo>
                  <a:pt x="180" y="359"/>
                </a:lnTo>
                <a:lnTo>
                  <a:pt x="173" y="357"/>
                </a:lnTo>
                <a:lnTo>
                  <a:pt x="163" y="355"/>
                </a:lnTo>
                <a:lnTo>
                  <a:pt x="153" y="351"/>
                </a:lnTo>
                <a:lnTo>
                  <a:pt x="144" y="347"/>
                </a:lnTo>
                <a:lnTo>
                  <a:pt x="134" y="343"/>
                </a:lnTo>
                <a:lnTo>
                  <a:pt x="123" y="338"/>
                </a:lnTo>
                <a:lnTo>
                  <a:pt x="111" y="330"/>
                </a:lnTo>
                <a:lnTo>
                  <a:pt x="100" y="322"/>
                </a:lnTo>
                <a:lnTo>
                  <a:pt x="88" y="315"/>
                </a:lnTo>
                <a:lnTo>
                  <a:pt x="75" y="305"/>
                </a:lnTo>
                <a:lnTo>
                  <a:pt x="59" y="293"/>
                </a:lnTo>
                <a:lnTo>
                  <a:pt x="46" y="282"/>
                </a:lnTo>
                <a:lnTo>
                  <a:pt x="31" y="268"/>
                </a:lnTo>
                <a:lnTo>
                  <a:pt x="15" y="255"/>
                </a:lnTo>
                <a:lnTo>
                  <a:pt x="0" y="240"/>
                </a:lnTo>
                <a:lnTo>
                  <a:pt x="44" y="234"/>
                </a:lnTo>
                <a:lnTo>
                  <a:pt x="86" y="230"/>
                </a:lnTo>
                <a:lnTo>
                  <a:pt x="128" y="224"/>
                </a:lnTo>
                <a:lnTo>
                  <a:pt x="171" y="220"/>
                </a:lnTo>
                <a:lnTo>
                  <a:pt x="211" y="217"/>
                </a:lnTo>
                <a:lnTo>
                  <a:pt x="251" y="211"/>
                </a:lnTo>
                <a:lnTo>
                  <a:pt x="290" y="207"/>
                </a:lnTo>
                <a:lnTo>
                  <a:pt x="326" y="203"/>
                </a:lnTo>
                <a:lnTo>
                  <a:pt x="365" y="197"/>
                </a:lnTo>
                <a:lnTo>
                  <a:pt x="401" y="194"/>
                </a:lnTo>
                <a:lnTo>
                  <a:pt x="436" y="190"/>
                </a:lnTo>
                <a:lnTo>
                  <a:pt x="470" y="186"/>
                </a:lnTo>
                <a:lnTo>
                  <a:pt x="503" y="180"/>
                </a:lnTo>
                <a:lnTo>
                  <a:pt x="537" y="176"/>
                </a:lnTo>
                <a:lnTo>
                  <a:pt x="568" y="173"/>
                </a:lnTo>
                <a:lnTo>
                  <a:pt x="599" y="169"/>
                </a:lnTo>
                <a:lnTo>
                  <a:pt x="629" y="165"/>
                </a:lnTo>
                <a:lnTo>
                  <a:pt x="658" y="159"/>
                </a:lnTo>
                <a:lnTo>
                  <a:pt x="687" y="155"/>
                </a:lnTo>
                <a:lnTo>
                  <a:pt x="716" y="151"/>
                </a:lnTo>
                <a:lnTo>
                  <a:pt x="743" y="148"/>
                </a:lnTo>
                <a:lnTo>
                  <a:pt x="768" y="144"/>
                </a:lnTo>
                <a:lnTo>
                  <a:pt x="794" y="140"/>
                </a:lnTo>
                <a:lnTo>
                  <a:pt x="818" y="136"/>
                </a:lnTo>
                <a:lnTo>
                  <a:pt x="842" y="132"/>
                </a:lnTo>
                <a:lnTo>
                  <a:pt x="864" y="128"/>
                </a:lnTo>
                <a:lnTo>
                  <a:pt x="887" y="125"/>
                </a:lnTo>
                <a:lnTo>
                  <a:pt x="908" y="121"/>
                </a:lnTo>
                <a:lnTo>
                  <a:pt x="929" y="117"/>
                </a:lnTo>
                <a:lnTo>
                  <a:pt x="948" y="113"/>
                </a:lnTo>
                <a:lnTo>
                  <a:pt x="965" y="111"/>
                </a:lnTo>
                <a:lnTo>
                  <a:pt x="985" y="107"/>
                </a:lnTo>
                <a:lnTo>
                  <a:pt x="1002" y="103"/>
                </a:lnTo>
                <a:lnTo>
                  <a:pt x="1017" y="100"/>
                </a:lnTo>
                <a:lnTo>
                  <a:pt x="1034" y="98"/>
                </a:lnTo>
                <a:lnTo>
                  <a:pt x="1050" y="94"/>
                </a:lnTo>
                <a:lnTo>
                  <a:pt x="1065" y="90"/>
                </a:lnTo>
                <a:lnTo>
                  <a:pt x="1080" y="88"/>
                </a:lnTo>
                <a:lnTo>
                  <a:pt x="1094" y="84"/>
                </a:lnTo>
                <a:lnTo>
                  <a:pt x="1107" y="82"/>
                </a:lnTo>
                <a:lnTo>
                  <a:pt x="1134" y="77"/>
                </a:lnTo>
                <a:lnTo>
                  <a:pt x="1159" y="71"/>
                </a:lnTo>
                <a:lnTo>
                  <a:pt x="1180" y="65"/>
                </a:lnTo>
                <a:lnTo>
                  <a:pt x="1201" y="61"/>
                </a:lnTo>
                <a:lnTo>
                  <a:pt x="1221" y="55"/>
                </a:lnTo>
                <a:lnTo>
                  <a:pt x="1238" y="50"/>
                </a:lnTo>
                <a:lnTo>
                  <a:pt x="1253" y="46"/>
                </a:lnTo>
                <a:lnTo>
                  <a:pt x="1267" y="42"/>
                </a:lnTo>
                <a:lnTo>
                  <a:pt x="1280" y="36"/>
                </a:lnTo>
                <a:lnTo>
                  <a:pt x="1290" y="32"/>
                </a:lnTo>
                <a:lnTo>
                  <a:pt x="1299" y="27"/>
                </a:lnTo>
                <a:lnTo>
                  <a:pt x="1307" y="23"/>
                </a:lnTo>
                <a:lnTo>
                  <a:pt x="1326" y="13"/>
                </a:lnTo>
                <a:lnTo>
                  <a:pt x="1336" y="9"/>
                </a:lnTo>
                <a:lnTo>
                  <a:pt x="1347" y="6"/>
                </a:lnTo>
                <a:lnTo>
                  <a:pt x="1357" y="4"/>
                </a:lnTo>
                <a:lnTo>
                  <a:pt x="1368" y="2"/>
                </a:lnTo>
                <a:lnTo>
                  <a:pt x="1382" y="0"/>
                </a:lnTo>
                <a:lnTo>
                  <a:pt x="1395" y="0"/>
                </a:lnTo>
                <a:lnTo>
                  <a:pt x="1405" y="4"/>
                </a:lnTo>
                <a:lnTo>
                  <a:pt x="1416" y="9"/>
                </a:lnTo>
                <a:lnTo>
                  <a:pt x="1428" y="17"/>
                </a:lnTo>
                <a:lnTo>
                  <a:pt x="1443" y="27"/>
                </a:lnTo>
                <a:lnTo>
                  <a:pt x="1459" y="36"/>
                </a:lnTo>
                <a:lnTo>
                  <a:pt x="1468" y="40"/>
                </a:lnTo>
                <a:lnTo>
                  <a:pt x="1478" y="46"/>
                </a:lnTo>
                <a:lnTo>
                  <a:pt x="1487" y="52"/>
                </a:lnTo>
                <a:lnTo>
                  <a:pt x="1497" y="57"/>
                </a:lnTo>
                <a:lnTo>
                  <a:pt x="1509" y="65"/>
                </a:lnTo>
                <a:lnTo>
                  <a:pt x="1520" y="71"/>
                </a:lnTo>
                <a:lnTo>
                  <a:pt x="1528" y="80"/>
                </a:lnTo>
                <a:lnTo>
                  <a:pt x="1537" y="88"/>
                </a:lnTo>
                <a:lnTo>
                  <a:pt x="1545" y="96"/>
                </a:lnTo>
                <a:lnTo>
                  <a:pt x="1553" y="105"/>
                </a:lnTo>
                <a:lnTo>
                  <a:pt x="1558" y="113"/>
                </a:lnTo>
                <a:lnTo>
                  <a:pt x="1564" y="119"/>
                </a:lnTo>
                <a:lnTo>
                  <a:pt x="1570" y="126"/>
                </a:lnTo>
                <a:lnTo>
                  <a:pt x="1576" y="132"/>
                </a:lnTo>
                <a:lnTo>
                  <a:pt x="1580" y="138"/>
                </a:lnTo>
                <a:lnTo>
                  <a:pt x="1583" y="144"/>
                </a:lnTo>
                <a:lnTo>
                  <a:pt x="1587" y="149"/>
                </a:lnTo>
                <a:lnTo>
                  <a:pt x="1589" y="153"/>
                </a:lnTo>
                <a:lnTo>
                  <a:pt x="1591" y="157"/>
                </a:lnTo>
                <a:lnTo>
                  <a:pt x="1593" y="161"/>
                </a:lnTo>
                <a:lnTo>
                  <a:pt x="1593" y="165"/>
                </a:lnTo>
                <a:lnTo>
                  <a:pt x="1595" y="167"/>
                </a:lnTo>
                <a:lnTo>
                  <a:pt x="1593" y="174"/>
                </a:lnTo>
                <a:lnTo>
                  <a:pt x="1591" y="182"/>
                </a:lnTo>
                <a:lnTo>
                  <a:pt x="1587" y="190"/>
                </a:lnTo>
                <a:lnTo>
                  <a:pt x="1583" y="196"/>
                </a:lnTo>
                <a:lnTo>
                  <a:pt x="1576" y="201"/>
                </a:lnTo>
                <a:lnTo>
                  <a:pt x="1572" y="203"/>
                </a:lnTo>
                <a:lnTo>
                  <a:pt x="1568" y="205"/>
                </a:lnTo>
                <a:lnTo>
                  <a:pt x="1562" y="207"/>
                </a:lnTo>
                <a:lnTo>
                  <a:pt x="1556" y="211"/>
                </a:lnTo>
                <a:lnTo>
                  <a:pt x="1551" y="213"/>
                </a:lnTo>
                <a:lnTo>
                  <a:pt x="1545" y="215"/>
                </a:lnTo>
                <a:lnTo>
                  <a:pt x="1537" y="217"/>
                </a:lnTo>
                <a:lnTo>
                  <a:pt x="1528" y="220"/>
                </a:lnTo>
                <a:lnTo>
                  <a:pt x="1520" y="226"/>
                </a:lnTo>
                <a:lnTo>
                  <a:pt x="1510" y="230"/>
                </a:lnTo>
                <a:lnTo>
                  <a:pt x="1499" y="238"/>
                </a:lnTo>
                <a:lnTo>
                  <a:pt x="1487" y="245"/>
                </a:lnTo>
                <a:lnTo>
                  <a:pt x="1476" y="253"/>
                </a:lnTo>
                <a:lnTo>
                  <a:pt x="1462" y="263"/>
                </a:lnTo>
                <a:lnTo>
                  <a:pt x="1449" y="272"/>
                </a:lnTo>
                <a:lnTo>
                  <a:pt x="1436" y="286"/>
                </a:lnTo>
                <a:lnTo>
                  <a:pt x="1422" y="297"/>
                </a:lnTo>
                <a:lnTo>
                  <a:pt x="1407" y="313"/>
                </a:lnTo>
                <a:lnTo>
                  <a:pt x="1391" y="328"/>
                </a:lnTo>
                <a:lnTo>
                  <a:pt x="1376" y="345"/>
                </a:lnTo>
                <a:lnTo>
                  <a:pt x="1361" y="363"/>
                </a:lnTo>
                <a:lnTo>
                  <a:pt x="1345" y="384"/>
                </a:lnTo>
                <a:lnTo>
                  <a:pt x="1328" y="403"/>
                </a:lnTo>
                <a:lnTo>
                  <a:pt x="1311" y="422"/>
                </a:lnTo>
                <a:lnTo>
                  <a:pt x="1295" y="439"/>
                </a:lnTo>
                <a:lnTo>
                  <a:pt x="1282" y="455"/>
                </a:lnTo>
                <a:lnTo>
                  <a:pt x="1270" y="470"/>
                </a:lnTo>
                <a:lnTo>
                  <a:pt x="1259" y="483"/>
                </a:lnTo>
                <a:lnTo>
                  <a:pt x="1249" y="497"/>
                </a:lnTo>
                <a:lnTo>
                  <a:pt x="1242" y="508"/>
                </a:lnTo>
                <a:lnTo>
                  <a:pt x="1234" y="520"/>
                </a:lnTo>
                <a:lnTo>
                  <a:pt x="1228" y="530"/>
                </a:lnTo>
                <a:lnTo>
                  <a:pt x="1224" y="537"/>
                </a:lnTo>
                <a:lnTo>
                  <a:pt x="1221" y="545"/>
                </a:lnTo>
                <a:lnTo>
                  <a:pt x="1219" y="551"/>
                </a:lnTo>
                <a:lnTo>
                  <a:pt x="1219" y="556"/>
                </a:lnTo>
                <a:lnTo>
                  <a:pt x="1219" y="560"/>
                </a:lnTo>
                <a:lnTo>
                  <a:pt x="1221" y="562"/>
                </a:lnTo>
                <a:lnTo>
                  <a:pt x="1223" y="564"/>
                </a:lnTo>
                <a:lnTo>
                  <a:pt x="1226" y="566"/>
                </a:lnTo>
                <a:lnTo>
                  <a:pt x="1232" y="568"/>
                </a:lnTo>
                <a:lnTo>
                  <a:pt x="1238" y="570"/>
                </a:lnTo>
                <a:lnTo>
                  <a:pt x="1244" y="570"/>
                </a:lnTo>
                <a:lnTo>
                  <a:pt x="1251" y="572"/>
                </a:lnTo>
                <a:lnTo>
                  <a:pt x="1261" y="572"/>
                </a:lnTo>
                <a:lnTo>
                  <a:pt x="1270" y="572"/>
                </a:lnTo>
                <a:lnTo>
                  <a:pt x="1282" y="572"/>
                </a:lnTo>
                <a:lnTo>
                  <a:pt x="1294" y="572"/>
                </a:lnTo>
                <a:lnTo>
                  <a:pt x="1307" y="570"/>
                </a:lnTo>
                <a:lnTo>
                  <a:pt x="1322" y="570"/>
                </a:lnTo>
                <a:lnTo>
                  <a:pt x="1338" y="568"/>
                </a:lnTo>
                <a:lnTo>
                  <a:pt x="1355" y="566"/>
                </a:lnTo>
                <a:lnTo>
                  <a:pt x="1374" y="564"/>
                </a:lnTo>
                <a:lnTo>
                  <a:pt x="1395" y="562"/>
                </a:lnTo>
                <a:lnTo>
                  <a:pt x="1414" y="560"/>
                </a:lnTo>
                <a:lnTo>
                  <a:pt x="1436" y="558"/>
                </a:lnTo>
                <a:lnTo>
                  <a:pt x="1453" y="556"/>
                </a:lnTo>
                <a:lnTo>
                  <a:pt x="1470" y="553"/>
                </a:lnTo>
                <a:lnTo>
                  <a:pt x="1485" y="551"/>
                </a:lnTo>
                <a:lnTo>
                  <a:pt x="1501" y="549"/>
                </a:lnTo>
                <a:lnTo>
                  <a:pt x="1514" y="545"/>
                </a:lnTo>
                <a:lnTo>
                  <a:pt x="1528" y="543"/>
                </a:lnTo>
                <a:lnTo>
                  <a:pt x="1539" y="541"/>
                </a:lnTo>
                <a:lnTo>
                  <a:pt x="1551" y="537"/>
                </a:lnTo>
                <a:lnTo>
                  <a:pt x="1560" y="533"/>
                </a:lnTo>
                <a:lnTo>
                  <a:pt x="1568" y="531"/>
                </a:lnTo>
                <a:lnTo>
                  <a:pt x="1576" y="528"/>
                </a:lnTo>
                <a:lnTo>
                  <a:pt x="1583" y="524"/>
                </a:lnTo>
                <a:lnTo>
                  <a:pt x="1589" y="520"/>
                </a:lnTo>
                <a:lnTo>
                  <a:pt x="1595" y="514"/>
                </a:lnTo>
                <a:lnTo>
                  <a:pt x="1599" y="510"/>
                </a:lnTo>
                <a:lnTo>
                  <a:pt x="1606" y="506"/>
                </a:lnTo>
                <a:lnTo>
                  <a:pt x="1612" y="501"/>
                </a:lnTo>
                <a:lnTo>
                  <a:pt x="1620" y="499"/>
                </a:lnTo>
                <a:lnTo>
                  <a:pt x="1629" y="495"/>
                </a:lnTo>
                <a:lnTo>
                  <a:pt x="1637" y="493"/>
                </a:lnTo>
                <a:lnTo>
                  <a:pt x="1647" y="491"/>
                </a:lnTo>
                <a:lnTo>
                  <a:pt x="1656" y="491"/>
                </a:lnTo>
                <a:lnTo>
                  <a:pt x="1662" y="493"/>
                </a:lnTo>
                <a:lnTo>
                  <a:pt x="1668" y="495"/>
                </a:lnTo>
                <a:lnTo>
                  <a:pt x="1674" y="499"/>
                </a:lnTo>
                <a:lnTo>
                  <a:pt x="1679" y="503"/>
                </a:lnTo>
                <a:lnTo>
                  <a:pt x="1687" y="506"/>
                </a:lnTo>
                <a:lnTo>
                  <a:pt x="1695" y="510"/>
                </a:lnTo>
                <a:lnTo>
                  <a:pt x="1704" y="514"/>
                </a:lnTo>
                <a:lnTo>
                  <a:pt x="1712" y="520"/>
                </a:lnTo>
                <a:lnTo>
                  <a:pt x="1722" y="526"/>
                </a:lnTo>
                <a:lnTo>
                  <a:pt x="1733" y="533"/>
                </a:lnTo>
                <a:lnTo>
                  <a:pt x="1743" y="539"/>
                </a:lnTo>
                <a:lnTo>
                  <a:pt x="1754" y="547"/>
                </a:lnTo>
                <a:lnTo>
                  <a:pt x="1766" y="556"/>
                </a:lnTo>
                <a:lnTo>
                  <a:pt x="1779" y="566"/>
                </a:lnTo>
                <a:lnTo>
                  <a:pt x="1793" y="576"/>
                </a:lnTo>
                <a:lnTo>
                  <a:pt x="1806" y="587"/>
                </a:lnTo>
                <a:lnTo>
                  <a:pt x="1818" y="599"/>
                </a:lnTo>
                <a:lnTo>
                  <a:pt x="1827" y="608"/>
                </a:lnTo>
                <a:lnTo>
                  <a:pt x="1839" y="618"/>
                </a:lnTo>
                <a:lnTo>
                  <a:pt x="1848" y="627"/>
                </a:lnTo>
                <a:lnTo>
                  <a:pt x="1856" y="637"/>
                </a:lnTo>
                <a:lnTo>
                  <a:pt x="1864" y="645"/>
                </a:lnTo>
                <a:lnTo>
                  <a:pt x="1871" y="652"/>
                </a:lnTo>
                <a:lnTo>
                  <a:pt x="1879" y="660"/>
                </a:lnTo>
                <a:lnTo>
                  <a:pt x="1885" y="668"/>
                </a:lnTo>
                <a:lnTo>
                  <a:pt x="1890" y="673"/>
                </a:lnTo>
                <a:lnTo>
                  <a:pt x="1894" y="679"/>
                </a:lnTo>
                <a:lnTo>
                  <a:pt x="1898" y="685"/>
                </a:lnTo>
                <a:lnTo>
                  <a:pt x="1902" y="691"/>
                </a:lnTo>
                <a:lnTo>
                  <a:pt x="1904" y="697"/>
                </a:lnTo>
                <a:lnTo>
                  <a:pt x="1906" y="702"/>
                </a:lnTo>
                <a:lnTo>
                  <a:pt x="1906" y="7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54"/>
          <p:cNvSpPr/>
          <p:nvPr/>
        </p:nvSpPr>
        <p:spPr>
          <a:xfrm>
            <a:off x="5727600" y="2917800"/>
            <a:ext cx="763560" cy="914400"/>
          </a:xfrm>
          <a:custGeom>
            <a:avLst/>
            <a:gdLst/>
            <a:ahLst/>
            <a:rect l="l" t="t" r="r" b="b"/>
            <a:pathLst>
              <a:path w="961" h="1152">
                <a:moveTo>
                  <a:pt x="213" y="1042"/>
                </a:moveTo>
                <a:lnTo>
                  <a:pt x="188" y="1058"/>
                </a:lnTo>
                <a:lnTo>
                  <a:pt x="165" y="1071"/>
                </a:lnTo>
                <a:lnTo>
                  <a:pt x="144" y="1085"/>
                </a:lnTo>
                <a:lnTo>
                  <a:pt x="123" y="1096"/>
                </a:lnTo>
                <a:lnTo>
                  <a:pt x="103" y="1108"/>
                </a:lnTo>
                <a:lnTo>
                  <a:pt x="86" y="1117"/>
                </a:lnTo>
                <a:lnTo>
                  <a:pt x="71" y="1125"/>
                </a:lnTo>
                <a:lnTo>
                  <a:pt x="55" y="1133"/>
                </a:lnTo>
                <a:lnTo>
                  <a:pt x="44" y="1138"/>
                </a:lnTo>
                <a:lnTo>
                  <a:pt x="32" y="1142"/>
                </a:lnTo>
                <a:lnTo>
                  <a:pt x="23" y="1146"/>
                </a:lnTo>
                <a:lnTo>
                  <a:pt x="15" y="1150"/>
                </a:lnTo>
                <a:lnTo>
                  <a:pt x="9" y="1152"/>
                </a:lnTo>
                <a:lnTo>
                  <a:pt x="6" y="1152"/>
                </a:lnTo>
                <a:lnTo>
                  <a:pt x="2" y="1152"/>
                </a:lnTo>
                <a:lnTo>
                  <a:pt x="2" y="1150"/>
                </a:lnTo>
                <a:lnTo>
                  <a:pt x="0" y="1146"/>
                </a:lnTo>
                <a:lnTo>
                  <a:pt x="0" y="1142"/>
                </a:lnTo>
                <a:lnTo>
                  <a:pt x="2" y="1138"/>
                </a:lnTo>
                <a:lnTo>
                  <a:pt x="6" y="1133"/>
                </a:lnTo>
                <a:lnTo>
                  <a:pt x="11" y="1125"/>
                </a:lnTo>
                <a:lnTo>
                  <a:pt x="17" y="1115"/>
                </a:lnTo>
                <a:lnTo>
                  <a:pt x="27" y="1106"/>
                </a:lnTo>
                <a:lnTo>
                  <a:pt x="36" y="1096"/>
                </a:lnTo>
                <a:lnTo>
                  <a:pt x="48" y="1085"/>
                </a:lnTo>
                <a:lnTo>
                  <a:pt x="59" y="1071"/>
                </a:lnTo>
                <a:lnTo>
                  <a:pt x="75" y="1058"/>
                </a:lnTo>
                <a:lnTo>
                  <a:pt x="90" y="1042"/>
                </a:lnTo>
                <a:lnTo>
                  <a:pt x="105" y="1025"/>
                </a:lnTo>
                <a:lnTo>
                  <a:pt x="125" y="1008"/>
                </a:lnTo>
                <a:lnTo>
                  <a:pt x="144" y="991"/>
                </a:lnTo>
                <a:lnTo>
                  <a:pt x="163" y="969"/>
                </a:lnTo>
                <a:lnTo>
                  <a:pt x="184" y="952"/>
                </a:lnTo>
                <a:lnTo>
                  <a:pt x="205" y="933"/>
                </a:lnTo>
                <a:lnTo>
                  <a:pt x="226" y="914"/>
                </a:lnTo>
                <a:lnTo>
                  <a:pt x="247" y="893"/>
                </a:lnTo>
                <a:lnTo>
                  <a:pt x="269" y="874"/>
                </a:lnTo>
                <a:lnTo>
                  <a:pt x="290" y="852"/>
                </a:lnTo>
                <a:lnTo>
                  <a:pt x="311" y="829"/>
                </a:lnTo>
                <a:lnTo>
                  <a:pt x="332" y="808"/>
                </a:lnTo>
                <a:lnTo>
                  <a:pt x="353" y="785"/>
                </a:lnTo>
                <a:lnTo>
                  <a:pt x="374" y="762"/>
                </a:lnTo>
                <a:lnTo>
                  <a:pt x="395" y="737"/>
                </a:lnTo>
                <a:lnTo>
                  <a:pt x="416" y="714"/>
                </a:lnTo>
                <a:lnTo>
                  <a:pt x="437" y="689"/>
                </a:lnTo>
                <a:lnTo>
                  <a:pt x="459" y="662"/>
                </a:lnTo>
                <a:lnTo>
                  <a:pt x="478" y="637"/>
                </a:lnTo>
                <a:lnTo>
                  <a:pt x="499" y="611"/>
                </a:lnTo>
                <a:lnTo>
                  <a:pt x="518" y="584"/>
                </a:lnTo>
                <a:lnTo>
                  <a:pt x="535" y="557"/>
                </a:lnTo>
                <a:lnTo>
                  <a:pt x="553" y="532"/>
                </a:lnTo>
                <a:lnTo>
                  <a:pt x="568" y="507"/>
                </a:lnTo>
                <a:lnTo>
                  <a:pt x="585" y="482"/>
                </a:lnTo>
                <a:lnTo>
                  <a:pt x="601" y="459"/>
                </a:lnTo>
                <a:lnTo>
                  <a:pt x="614" y="434"/>
                </a:lnTo>
                <a:lnTo>
                  <a:pt x="629" y="413"/>
                </a:lnTo>
                <a:lnTo>
                  <a:pt x="641" y="390"/>
                </a:lnTo>
                <a:lnTo>
                  <a:pt x="654" y="369"/>
                </a:lnTo>
                <a:lnTo>
                  <a:pt x="666" y="348"/>
                </a:lnTo>
                <a:lnTo>
                  <a:pt x="677" y="326"/>
                </a:lnTo>
                <a:lnTo>
                  <a:pt x="687" y="307"/>
                </a:lnTo>
                <a:lnTo>
                  <a:pt x="697" y="288"/>
                </a:lnTo>
                <a:lnTo>
                  <a:pt x="704" y="269"/>
                </a:lnTo>
                <a:lnTo>
                  <a:pt x="712" y="252"/>
                </a:lnTo>
                <a:lnTo>
                  <a:pt x="718" y="232"/>
                </a:lnTo>
                <a:lnTo>
                  <a:pt x="723" y="215"/>
                </a:lnTo>
                <a:lnTo>
                  <a:pt x="729" y="200"/>
                </a:lnTo>
                <a:lnTo>
                  <a:pt x="733" y="183"/>
                </a:lnTo>
                <a:lnTo>
                  <a:pt x="735" y="167"/>
                </a:lnTo>
                <a:lnTo>
                  <a:pt x="739" y="152"/>
                </a:lnTo>
                <a:lnTo>
                  <a:pt x="741" y="138"/>
                </a:lnTo>
                <a:lnTo>
                  <a:pt x="743" y="125"/>
                </a:lnTo>
                <a:lnTo>
                  <a:pt x="743" y="111"/>
                </a:lnTo>
                <a:lnTo>
                  <a:pt x="743" y="98"/>
                </a:lnTo>
                <a:lnTo>
                  <a:pt x="743" y="87"/>
                </a:lnTo>
                <a:lnTo>
                  <a:pt x="743" y="75"/>
                </a:lnTo>
                <a:lnTo>
                  <a:pt x="741" y="64"/>
                </a:lnTo>
                <a:lnTo>
                  <a:pt x="741" y="54"/>
                </a:lnTo>
                <a:lnTo>
                  <a:pt x="739" y="44"/>
                </a:lnTo>
                <a:lnTo>
                  <a:pt x="737" y="35"/>
                </a:lnTo>
                <a:lnTo>
                  <a:pt x="733" y="29"/>
                </a:lnTo>
                <a:lnTo>
                  <a:pt x="729" y="23"/>
                </a:lnTo>
                <a:lnTo>
                  <a:pt x="729" y="17"/>
                </a:lnTo>
                <a:lnTo>
                  <a:pt x="729" y="12"/>
                </a:lnTo>
                <a:lnTo>
                  <a:pt x="731" y="8"/>
                </a:lnTo>
                <a:lnTo>
                  <a:pt x="733" y="6"/>
                </a:lnTo>
                <a:lnTo>
                  <a:pt x="739" y="4"/>
                </a:lnTo>
                <a:lnTo>
                  <a:pt x="745" y="2"/>
                </a:lnTo>
                <a:lnTo>
                  <a:pt x="750" y="0"/>
                </a:lnTo>
                <a:lnTo>
                  <a:pt x="760" y="0"/>
                </a:lnTo>
                <a:lnTo>
                  <a:pt x="770" y="2"/>
                </a:lnTo>
                <a:lnTo>
                  <a:pt x="781" y="4"/>
                </a:lnTo>
                <a:lnTo>
                  <a:pt x="793" y="8"/>
                </a:lnTo>
                <a:lnTo>
                  <a:pt x="806" y="12"/>
                </a:lnTo>
                <a:lnTo>
                  <a:pt x="819" y="17"/>
                </a:lnTo>
                <a:lnTo>
                  <a:pt x="837" y="23"/>
                </a:lnTo>
                <a:lnTo>
                  <a:pt x="852" y="29"/>
                </a:lnTo>
                <a:lnTo>
                  <a:pt x="865" y="37"/>
                </a:lnTo>
                <a:lnTo>
                  <a:pt x="879" y="42"/>
                </a:lnTo>
                <a:lnTo>
                  <a:pt x="892" y="48"/>
                </a:lnTo>
                <a:lnTo>
                  <a:pt x="904" y="54"/>
                </a:lnTo>
                <a:lnTo>
                  <a:pt x="913" y="60"/>
                </a:lnTo>
                <a:lnTo>
                  <a:pt x="923" y="65"/>
                </a:lnTo>
                <a:lnTo>
                  <a:pt x="931" y="71"/>
                </a:lnTo>
                <a:lnTo>
                  <a:pt x="938" y="77"/>
                </a:lnTo>
                <a:lnTo>
                  <a:pt x="944" y="83"/>
                </a:lnTo>
                <a:lnTo>
                  <a:pt x="950" y="88"/>
                </a:lnTo>
                <a:lnTo>
                  <a:pt x="954" y="94"/>
                </a:lnTo>
                <a:lnTo>
                  <a:pt x="956" y="100"/>
                </a:lnTo>
                <a:lnTo>
                  <a:pt x="960" y="106"/>
                </a:lnTo>
                <a:lnTo>
                  <a:pt x="960" y="111"/>
                </a:lnTo>
                <a:lnTo>
                  <a:pt x="961" y="119"/>
                </a:lnTo>
                <a:lnTo>
                  <a:pt x="958" y="127"/>
                </a:lnTo>
                <a:lnTo>
                  <a:pt x="956" y="135"/>
                </a:lnTo>
                <a:lnTo>
                  <a:pt x="952" y="142"/>
                </a:lnTo>
                <a:lnTo>
                  <a:pt x="948" y="152"/>
                </a:lnTo>
                <a:lnTo>
                  <a:pt x="944" y="161"/>
                </a:lnTo>
                <a:lnTo>
                  <a:pt x="940" y="173"/>
                </a:lnTo>
                <a:lnTo>
                  <a:pt x="937" y="184"/>
                </a:lnTo>
                <a:lnTo>
                  <a:pt x="931" y="196"/>
                </a:lnTo>
                <a:lnTo>
                  <a:pt x="925" y="209"/>
                </a:lnTo>
                <a:lnTo>
                  <a:pt x="919" y="223"/>
                </a:lnTo>
                <a:lnTo>
                  <a:pt x="913" y="236"/>
                </a:lnTo>
                <a:lnTo>
                  <a:pt x="906" y="250"/>
                </a:lnTo>
                <a:lnTo>
                  <a:pt x="898" y="265"/>
                </a:lnTo>
                <a:lnTo>
                  <a:pt x="890" y="280"/>
                </a:lnTo>
                <a:lnTo>
                  <a:pt x="883" y="296"/>
                </a:lnTo>
                <a:lnTo>
                  <a:pt x="873" y="311"/>
                </a:lnTo>
                <a:lnTo>
                  <a:pt x="864" y="328"/>
                </a:lnTo>
                <a:lnTo>
                  <a:pt x="852" y="348"/>
                </a:lnTo>
                <a:lnTo>
                  <a:pt x="842" y="367"/>
                </a:lnTo>
                <a:lnTo>
                  <a:pt x="829" y="388"/>
                </a:lnTo>
                <a:lnTo>
                  <a:pt x="816" y="407"/>
                </a:lnTo>
                <a:lnTo>
                  <a:pt x="802" y="428"/>
                </a:lnTo>
                <a:lnTo>
                  <a:pt x="787" y="449"/>
                </a:lnTo>
                <a:lnTo>
                  <a:pt x="771" y="472"/>
                </a:lnTo>
                <a:lnTo>
                  <a:pt x="756" y="495"/>
                </a:lnTo>
                <a:lnTo>
                  <a:pt x="739" y="518"/>
                </a:lnTo>
                <a:lnTo>
                  <a:pt x="722" y="541"/>
                </a:lnTo>
                <a:lnTo>
                  <a:pt x="702" y="566"/>
                </a:lnTo>
                <a:lnTo>
                  <a:pt x="685" y="591"/>
                </a:lnTo>
                <a:lnTo>
                  <a:pt x="664" y="616"/>
                </a:lnTo>
                <a:lnTo>
                  <a:pt x="645" y="643"/>
                </a:lnTo>
                <a:lnTo>
                  <a:pt x="624" y="670"/>
                </a:lnTo>
                <a:lnTo>
                  <a:pt x="601" y="699"/>
                </a:lnTo>
                <a:lnTo>
                  <a:pt x="578" y="728"/>
                </a:lnTo>
                <a:lnTo>
                  <a:pt x="553" y="755"/>
                </a:lnTo>
                <a:lnTo>
                  <a:pt x="530" y="781"/>
                </a:lnTo>
                <a:lnTo>
                  <a:pt x="505" y="806"/>
                </a:lnTo>
                <a:lnTo>
                  <a:pt x="480" y="831"/>
                </a:lnTo>
                <a:lnTo>
                  <a:pt x="455" y="854"/>
                </a:lnTo>
                <a:lnTo>
                  <a:pt x="428" y="879"/>
                </a:lnTo>
                <a:lnTo>
                  <a:pt x="403" y="900"/>
                </a:lnTo>
                <a:lnTo>
                  <a:pt x="376" y="923"/>
                </a:lnTo>
                <a:lnTo>
                  <a:pt x="349" y="945"/>
                </a:lnTo>
                <a:lnTo>
                  <a:pt x="322" y="966"/>
                </a:lnTo>
                <a:lnTo>
                  <a:pt x="295" y="985"/>
                </a:lnTo>
                <a:lnTo>
                  <a:pt x="269" y="1004"/>
                </a:lnTo>
                <a:lnTo>
                  <a:pt x="242" y="1023"/>
                </a:lnTo>
                <a:lnTo>
                  <a:pt x="213" y="10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2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中的 两个“木”要短小， 末笔均为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3"/>
          <p:cNvSpPr/>
          <p:nvPr/>
        </p:nvSpPr>
        <p:spPr>
          <a:xfrm>
            <a:off x="1998720" y="1868400"/>
            <a:ext cx="13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69"/>
          <p:cNvSpPr/>
          <p:nvPr/>
        </p:nvSpPr>
        <p:spPr>
          <a:xfrm>
            <a:off x="6362640" y="4067280"/>
            <a:ext cx="414360" cy="1030320"/>
          </a:xfrm>
          <a:custGeom>
            <a:avLst/>
            <a:gdLst/>
            <a:ahLst/>
            <a:rect l="l" t="t" r="r" b="b"/>
            <a:pathLst>
              <a:path w="522" h="1298">
                <a:moveTo>
                  <a:pt x="520" y="855"/>
                </a:moveTo>
                <a:lnTo>
                  <a:pt x="520" y="883"/>
                </a:lnTo>
                <a:lnTo>
                  <a:pt x="518" y="912"/>
                </a:lnTo>
                <a:lnTo>
                  <a:pt x="516" y="939"/>
                </a:lnTo>
                <a:lnTo>
                  <a:pt x="514" y="966"/>
                </a:lnTo>
                <a:lnTo>
                  <a:pt x="512" y="991"/>
                </a:lnTo>
                <a:lnTo>
                  <a:pt x="510" y="1014"/>
                </a:lnTo>
                <a:lnTo>
                  <a:pt x="507" y="1037"/>
                </a:lnTo>
                <a:lnTo>
                  <a:pt x="501" y="1058"/>
                </a:lnTo>
                <a:lnTo>
                  <a:pt x="497" y="1079"/>
                </a:lnTo>
                <a:lnTo>
                  <a:pt x="491" y="1098"/>
                </a:lnTo>
                <a:lnTo>
                  <a:pt x="485" y="1118"/>
                </a:lnTo>
                <a:lnTo>
                  <a:pt x="480" y="1135"/>
                </a:lnTo>
                <a:lnTo>
                  <a:pt x="472" y="1152"/>
                </a:lnTo>
                <a:lnTo>
                  <a:pt x="466" y="1168"/>
                </a:lnTo>
                <a:lnTo>
                  <a:pt x="457" y="1183"/>
                </a:lnTo>
                <a:lnTo>
                  <a:pt x="449" y="1196"/>
                </a:lnTo>
                <a:lnTo>
                  <a:pt x="441" y="1208"/>
                </a:lnTo>
                <a:lnTo>
                  <a:pt x="432" y="1219"/>
                </a:lnTo>
                <a:lnTo>
                  <a:pt x="424" y="1231"/>
                </a:lnTo>
                <a:lnTo>
                  <a:pt x="416" y="1240"/>
                </a:lnTo>
                <a:lnTo>
                  <a:pt x="409" y="1250"/>
                </a:lnTo>
                <a:lnTo>
                  <a:pt x="401" y="1258"/>
                </a:lnTo>
                <a:lnTo>
                  <a:pt x="393" y="1265"/>
                </a:lnTo>
                <a:lnTo>
                  <a:pt x="386" y="1273"/>
                </a:lnTo>
                <a:lnTo>
                  <a:pt x="378" y="1279"/>
                </a:lnTo>
                <a:lnTo>
                  <a:pt x="372" y="1285"/>
                </a:lnTo>
                <a:lnTo>
                  <a:pt x="364" y="1288"/>
                </a:lnTo>
                <a:lnTo>
                  <a:pt x="359" y="1292"/>
                </a:lnTo>
                <a:lnTo>
                  <a:pt x="351" y="1294"/>
                </a:lnTo>
                <a:lnTo>
                  <a:pt x="343" y="1296"/>
                </a:lnTo>
                <a:lnTo>
                  <a:pt x="338" y="1298"/>
                </a:lnTo>
                <a:lnTo>
                  <a:pt x="332" y="1298"/>
                </a:lnTo>
                <a:lnTo>
                  <a:pt x="324" y="1298"/>
                </a:lnTo>
                <a:lnTo>
                  <a:pt x="318" y="1296"/>
                </a:lnTo>
                <a:lnTo>
                  <a:pt x="313" y="1296"/>
                </a:lnTo>
                <a:lnTo>
                  <a:pt x="309" y="1294"/>
                </a:lnTo>
                <a:lnTo>
                  <a:pt x="305" y="1292"/>
                </a:lnTo>
                <a:lnTo>
                  <a:pt x="299" y="1288"/>
                </a:lnTo>
                <a:lnTo>
                  <a:pt x="295" y="1285"/>
                </a:lnTo>
                <a:lnTo>
                  <a:pt x="293" y="1281"/>
                </a:lnTo>
                <a:lnTo>
                  <a:pt x="290" y="1277"/>
                </a:lnTo>
                <a:lnTo>
                  <a:pt x="286" y="1271"/>
                </a:lnTo>
                <a:lnTo>
                  <a:pt x="284" y="1265"/>
                </a:lnTo>
                <a:lnTo>
                  <a:pt x="282" y="1260"/>
                </a:lnTo>
                <a:lnTo>
                  <a:pt x="278" y="1252"/>
                </a:lnTo>
                <a:lnTo>
                  <a:pt x="276" y="1246"/>
                </a:lnTo>
                <a:lnTo>
                  <a:pt x="274" y="1239"/>
                </a:lnTo>
                <a:lnTo>
                  <a:pt x="272" y="1229"/>
                </a:lnTo>
                <a:lnTo>
                  <a:pt x="268" y="1221"/>
                </a:lnTo>
                <a:lnTo>
                  <a:pt x="267" y="1212"/>
                </a:lnTo>
                <a:lnTo>
                  <a:pt x="261" y="1204"/>
                </a:lnTo>
                <a:lnTo>
                  <a:pt x="257" y="1194"/>
                </a:lnTo>
                <a:lnTo>
                  <a:pt x="251" y="1187"/>
                </a:lnTo>
                <a:lnTo>
                  <a:pt x="244" y="1177"/>
                </a:lnTo>
                <a:lnTo>
                  <a:pt x="236" y="1169"/>
                </a:lnTo>
                <a:lnTo>
                  <a:pt x="228" y="1160"/>
                </a:lnTo>
                <a:lnTo>
                  <a:pt x="219" y="1150"/>
                </a:lnTo>
                <a:lnTo>
                  <a:pt x="209" y="1143"/>
                </a:lnTo>
                <a:lnTo>
                  <a:pt x="197" y="1133"/>
                </a:lnTo>
                <a:lnTo>
                  <a:pt x="186" y="1123"/>
                </a:lnTo>
                <a:lnTo>
                  <a:pt x="173" y="1112"/>
                </a:lnTo>
                <a:lnTo>
                  <a:pt x="159" y="1102"/>
                </a:lnTo>
                <a:lnTo>
                  <a:pt x="146" y="1093"/>
                </a:lnTo>
                <a:lnTo>
                  <a:pt x="130" y="1081"/>
                </a:lnTo>
                <a:lnTo>
                  <a:pt x="113" y="1072"/>
                </a:lnTo>
                <a:lnTo>
                  <a:pt x="98" y="1062"/>
                </a:lnTo>
                <a:lnTo>
                  <a:pt x="82" y="1052"/>
                </a:lnTo>
                <a:lnTo>
                  <a:pt x="69" y="1045"/>
                </a:lnTo>
                <a:lnTo>
                  <a:pt x="57" y="1037"/>
                </a:lnTo>
                <a:lnTo>
                  <a:pt x="46" y="1031"/>
                </a:lnTo>
                <a:lnTo>
                  <a:pt x="34" y="1025"/>
                </a:lnTo>
                <a:lnTo>
                  <a:pt x="27" y="1020"/>
                </a:lnTo>
                <a:lnTo>
                  <a:pt x="19" y="1014"/>
                </a:lnTo>
                <a:lnTo>
                  <a:pt x="11" y="1010"/>
                </a:lnTo>
                <a:lnTo>
                  <a:pt x="7" y="1006"/>
                </a:lnTo>
                <a:lnTo>
                  <a:pt x="4" y="1002"/>
                </a:lnTo>
                <a:lnTo>
                  <a:pt x="0" y="999"/>
                </a:lnTo>
                <a:lnTo>
                  <a:pt x="0" y="997"/>
                </a:lnTo>
                <a:lnTo>
                  <a:pt x="0" y="993"/>
                </a:lnTo>
                <a:lnTo>
                  <a:pt x="2" y="991"/>
                </a:lnTo>
                <a:lnTo>
                  <a:pt x="4" y="989"/>
                </a:lnTo>
                <a:lnTo>
                  <a:pt x="7" y="987"/>
                </a:lnTo>
                <a:lnTo>
                  <a:pt x="11" y="985"/>
                </a:lnTo>
                <a:lnTo>
                  <a:pt x="17" y="985"/>
                </a:lnTo>
                <a:lnTo>
                  <a:pt x="23" y="983"/>
                </a:lnTo>
                <a:lnTo>
                  <a:pt x="30" y="983"/>
                </a:lnTo>
                <a:lnTo>
                  <a:pt x="38" y="983"/>
                </a:lnTo>
                <a:lnTo>
                  <a:pt x="48" y="983"/>
                </a:lnTo>
                <a:lnTo>
                  <a:pt x="59" y="985"/>
                </a:lnTo>
                <a:lnTo>
                  <a:pt x="71" y="985"/>
                </a:lnTo>
                <a:lnTo>
                  <a:pt x="82" y="987"/>
                </a:lnTo>
                <a:lnTo>
                  <a:pt x="98" y="989"/>
                </a:lnTo>
                <a:lnTo>
                  <a:pt x="113" y="991"/>
                </a:lnTo>
                <a:lnTo>
                  <a:pt x="128" y="995"/>
                </a:lnTo>
                <a:lnTo>
                  <a:pt x="148" y="999"/>
                </a:lnTo>
                <a:lnTo>
                  <a:pt x="167" y="1002"/>
                </a:lnTo>
                <a:lnTo>
                  <a:pt x="184" y="1006"/>
                </a:lnTo>
                <a:lnTo>
                  <a:pt x="199" y="1010"/>
                </a:lnTo>
                <a:lnTo>
                  <a:pt x="215" y="1012"/>
                </a:lnTo>
                <a:lnTo>
                  <a:pt x="230" y="1016"/>
                </a:lnTo>
                <a:lnTo>
                  <a:pt x="244" y="1018"/>
                </a:lnTo>
                <a:lnTo>
                  <a:pt x="257" y="1020"/>
                </a:lnTo>
                <a:lnTo>
                  <a:pt x="268" y="1020"/>
                </a:lnTo>
                <a:lnTo>
                  <a:pt x="280" y="1022"/>
                </a:lnTo>
                <a:lnTo>
                  <a:pt x="290" y="1022"/>
                </a:lnTo>
                <a:lnTo>
                  <a:pt x="299" y="1022"/>
                </a:lnTo>
                <a:lnTo>
                  <a:pt x="307" y="1022"/>
                </a:lnTo>
                <a:lnTo>
                  <a:pt x="313" y="1020"/>
                </a:lnTo>
                <a:lnTo>
                  <a:pt x="320" y="1018"/>
                </a:lnTo>
                <a:lnTo>
                  <a:pt x="324" y="1018"/>
                </a:lnTo>
                <a:lnTo>
                  <a:pt x="328" y="1016"/>
                </a:lnTo>
                <a:lnTo>
                  <a:pt x="332" y="1014"/>
                </a:lnTo>
                <a:lnTo>
                  <a:pt x="334" y="1010"/>
                </a:lnTo>
                <a:lnTo>
                  <a:pt x="336" y="1008"/>
                </a:lnTo>
                <a:lnTo>
                  <a:pt x="340" y="1004"/>
                </a:lnTo>
                <a:lnTo>
                  <a:pt x="341" y="999"/>
                </a:lnTo>
                <a:lnTo>
                  <a:pt x="345" y="993"/>
                </a:lnTo>
                <a:lnTo>
                  <a:pt x="347" y="987"/>
                </a:lnTo>
                <a:lnTo>
                  <a:pt x="351" y="979"/>
                </a:lnTo>
                <a:lnTo>
                  <a:pt x="355" y="972"/>
                </a:lnTo>
                <a:lnTo>
                  <a:pt x="359" y="964"/>
                </a:lnTo>
                <a:lnTo>
                  <a:pt x="361" y="954"/>
                </a:lnTo>
                <a:lnTo>
                  <a:pt x="364" y="945"/>
                </a:lnTo>
                <a:lnTo>
                  <a:pt x="368" y="935"/>
                </a:lnTo>
                <a:lnTo>
                  <a:pt x="370" y="924"/>
                </a:lnTo>
                <a:lnTo>
                  <a:pt x="374" y="912"/>
                </a:lnTo>
                <a:lnTo>
                  <a:pt x="376" y="901"/>
                </a:lnTo>
                <a:lnTo>
                  <a:pt x="378" y="889"/>
                </a:lnTo>
                <a:lnTo>
                  <a:pt x="382" y="862"/>
                </a:lnTo>
                <a:lnTo>
                  <a:pt x="386" y="835"/>
                </a:lnTo>
                <a:lnTo>
                  <a:pt x="386" y="807"/>
                </a:lnTo>
                <a:lnTo>
                  <a:pt x="388" y="776"/>
                </a:lnTo>
                <a:lnTo>
                  <a:pt x="386" y="745"/>
                </a:lnTo>
                <a:lnTo>
                  <a:pt x="386" y="711"/>
                </a:lnTo>
                <a:lnTo>
                  <a:pt x="384" y="693"/>
                </a:lnTo>
                <a:lnTo>
                  <a:pt x="382" y="676"/>
                </a:lnTo>
                <a:lnTo>
                  <a:pt x="380" y="657"/>
                </a:lnTo>
                <a:lnTo>
                  <a:pt x="378" y="638"/>
                </a:lnTo>
                <a:lnTo>
                  <a:pt x="361" y="501"/>
                </a:lnTo>
                <a:lnTo>
                  <a:pt x="343" y="365"/>
                </a:lnTo>
                <a:lnTo>
                  <a:pt x="340" y="348"/>
                </a:lnTo>
                <a:lnTo>
                  <a:pt x="338" y="331"/>
                </a:lnTo>
                <a:lnTo>
                  <a:pt x="334" y="311"/>
                </a:lnTo>
                <a:lnTo>
                  <a:pt x="330" y="292"/>
                </a:lnTo>
                <a:lnTo>
                  <a:pt x="324" y="273"/>
                </a:lnTo>
                <a:lnTo>
                  <a:pt x="320" y="254"/>
                </a:lnTo>
                <a:lnTo>
                  <a:pt x="313" y="233"/>
                </a:lnTo>
                <a:lnTo>
                  <a:pt x="307" y="214"/>
                </a:lnTo>
                <a:lnTo>
                  <a:pt x="301" y="192"/>
                </a:lnTo>
                <a:lnTo>
                  <a:pt x="293" y="171"/>
                </a:lnTo>
                <a:lnTo>
                  <a:pt x="284" y="148"/>
                </a:lnTo>
                <a:lnTo>
                  <a:pt x="276" y="127"/>
                </a:lnTo>
                <a:lnTo>
                  <a:pt x="267" y="104"/>
                </a:lnTo>
                <a:lnTo>
                  <a:pt x="257" y="81"/>
                </a:lnTo>
                <a:lnTo>
                  <a:pt x="247" y="58"/>
                </a:lnTo>
                <a:lnTo>
                  <a:pt x="238" y="35"/>
                </a:lnTo>
                <a:lnTo>
                  <a:pt x="301" y="18"/>
                </a:lnTo>
                <a:lnTo>
                  <a:pt x="366" y="0"/>
                </a:lnTo>
                <a:lnTo>
                  <a:pt x="370" y="8"/>
                </a:lnTo>
                <a:lnTo>
                  <a:pt x="376" y="18"/>
                </a:lnTo>
                <a:lnTo>
                  <a:pt x="382" y="29"/>
                </a:lnTo>
                <a:lnTo>
                  <a:pt x="386" y="41"/>
                </a:lnTo>
                <a:lnTo>
                  <a:pt x="391" y="56"/>
                </a:lnTo>
                <a:lnTo>
                  <a:pt x="397" y="73"/>
                </a:lnTo>
                <a:lnTo>
                  <a:pt x="405" y="91"/>
                </a:lnTo>
                <a:lnTo>
                  <a:pt x="411" y="110"/>
                </a:lnTo>
                <a:lnTo>
                  <a:pt x="418" y="133"/>
                </a:lnTo>
                <a:lnTo>
                  <a:pt x="424" y="156"/>
                </a:lnTo>
                <a:lnTo>
                  <a:pt x="432" y="181"/>
                </a:lnTo>
                <a:lnTo>
                  <a:pt x="439" y="208"/>
                </a:lnTo>
                <a:lnTo>
                  <a:pt x="447" y="237"/>
                </a:lnTo>
                <a:lnTo>
                  <a:pt x="455" y="265"/>
                </a:lnTo>
                <a:lnTo>
                  <a:pt x="464" y="298"/>
                </a:lnTo>
                <a:lnTo>
                  <a:pt x="472" y="331"/>
                </a:lnTo>
                <a:lnTo>
                  <a:pt x="485" y="400"/>
                </a:lnTo>
                <a:lnTo>
                  <a:pt x="497" y="465"/>
                </a:lnTo>
                <a:lnTo>
                  <a:pt x="507" y="532"/>
                </a:lnTo>
                <a:lnTo>
                  <a:pt x="510" y="565"/>
                </a:lnTo>
                <a:lnTo>
                  <a:pt x="514" y="597"/>
                </a:lnTo>
                <a:lnTo>
                  <a:pt x="516" y="630"/>
                </a:lnTo>
                <a:lnTo>
                  <a:pt x="518" y="661"/>
                </a:lnTo>
                <a:lnTo>
                  <a:pt x="520" y="693"/>
                </a:lnTo>
                <a:lnTo>
                  <a:pt x="522" y="726"/>
                </a:lnTo>
                <a:lnTo>
                  <a:pt x="522" y="759"/>
                </a:lnTo>
                <a:lnTo>
                  <a:pt x="522" y="789"/>
                </a:lnTo>
                <a:lnTo>
                  <a:pt x="522" y="822"/>
                </a:lnTo>
                <a:lnTo>
                  <a:pt x="520" y="8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70"/>
          <p:cNvSpPr/>
          <p:nvPr/>
        </p:nvSpPr>
        <p:spPr>
          <a:xfrm>
            <a:off x="6026040" y="4392720"/>
            <a:ext cx="1274760" cy="252360"/>
          </a:xfrm>
          <a:custGeom>
            <a:avLst/>
            <a:gdLst/>
            <a:ahLst/>
            <a:rect l="l" t="t" r="r" b="b"/>
            <a:pathLst>
              <a:path w="1604" h="319">
                <a:moveTo>
                  <a:pt x="71" y="284"/>
                </a:moveTo>
                <a:lnTo>
                  <a:pt x="63" y="280"/>
                </a:lnTo>
                <a:lnTo>
                  <a:pt x="55" y="275"/>
                </a:lnTo>
                <a:lnTo>
                  <a:pt x="48" y="271"/>
                </a:lnTo>
                <a:lnTo>
                  <a:pt x="40" y="267"/>
                </a:lnTo>
                <a:lnTo>
                  <a:pt x="34" y="263"/>
                </a:lnTo>
                <a:lnTo>
                  <a:pt x="28" y="257"/>
                </a:lnTo>
                <a:lnTo>
                  <a:pt x="23" y="254"/>
                </a:lnTo>
                <a:lnTo>
                  <a:pt x="19" y="250"/>
                </a:lnTo>
                <a:lnTo>
                  <a:pt x="13" y="246"/>
                </a:lnTo>
                <a:lnTo>
                  <a:pt x="11" y="242"/>
                </a:lnTo>
                <a:lnTo>
                  <a:pt x="7" y="236"/>
                </a:lnTo>
                <a:lnTo>
                  <a:pt x="5" y="232"/>
                </a:lnTo>
                <a:lnTo>
                  <a:pt x="3" y="229"/>
                </a:lnTo>
                <a:lnTo>
                  <a:pt x="1" y="225"/>
                </a:lnTo>
                <a:lnTo>
                  <a:pt x="0" y="219"/>
                </a:lnTo>
                <a:lnTo>
                  <a:pt x="0" y="215"/>
                </a:lnTo>
                <a:lnTo>
                  <a:pt x="0" y="213"/>
                </a:lnTo>
                <a:lnTo>
                  <a:pt x="1" y="211"/>
                </a:lnTo>
                <a:lnTo>
                  <a:pt x="3" y="209"/>
                </a:lnTo>
                <a:lnTo>
                  <a:pt x="5" y="208"/>
                </a:lnTo>
                <a:lnTo>
                  <a:pt x="7" y="206"/>
                </a:lnTo>
                <a:lnTo>
                  <a:pt x="11" y="204"/>
                </a:lnTo>
                <a:lnTo>
                  <a:pt x="13" y="202"/>
                </a:lnTo>
                <a:lnTo>
                  <a:pt x="19" y="200"/>
                </a:lnTo>
                <a:lnTo>
                  <a:pt x="23" y="198"/>
                </a:lnTo>
                <a:lnTo>
                  <a:pt x="28" y="198"/>
                </a:lnTo>
                <a:lnTo>
                  <a:pt x="34" y="196"/>
                </a:lnTo>
                <a:lnTo>
                  <a:pt x="40" y="196"/>
                </a:lnTo>
                <a:lnTo>
                  <a:pt x="48" y="194"/>
                </a:lnTo>
                <a:lnTo>
                  <a:pt x="55" y="194"/>
                </a:lnTo>
                <a:lnTo>
                  <a:pt x="63" y="194"/>
                </a:lnTo>
                <a:lnTo>
                  <a:pt x="71" y="194"/>
                </a:lnTo>
                <a:lnTo>
                  <a:pt x="78" y="192"/>
                </a:lnTo>
                <a:lnTo>
                  <a:pt x="88" y="192"/>
                </a:lnTo>
                <a:lnTo>
                  <a:pt x="97" y="192"/>
                </a:lnTo>
                <a:lnTo>
                  <a:pt x="109" y="190"/>
                </a:lnTo>
                <a:lnTo>
                  <a:pt x="122" y="190"/>
                </a:lnTo>
                <a:lnTo>
                  <a:pt x="136" y="188"/>
                </a:lnTo>
                <a:lnTo>
                  <a:pt x="151" y="186"/>
                </a:lnTo>
                <a:lnTo>
                  <a:pt x="168" y="185"/>
                </a:lnTo>
                <a:lnTo>
                  <a:pt x="188" y="183"/>
                </a:lnTo>
                <a:lnTo>
                  <a:pt x="207" y="181"/>
                </a:lnTo>
                <a:lnTo>
                  <a:pt x="228" y="177"/>
                </a:lnTo>
                <a:lnTo>
                  <a:pt x="251" y="175"/>
                </a:lnTo>
                <a:lnTo>
                  <a:pt x="274" y="171"/>
                </a:lnTo>
                <a:lnTo>
                  <a:pt x="299" y="167"/>
                </a:lnTo>
                <a:lnTo>
                  <a:pt x="326" y="163"/>
                </a:lnTo>
                <a:lnTo>
                  <a:pt x="355" y="160"/>
                </a:lnTo>
                <a:lnTo>
                  <a:pt x="382" y="156"/>
                </a:lnTo>
                <a:lnTo>
                  <a:pt x="410" y="154"/>
                </a:lnTo>
                <a:lnTo>
                  <a:pt x="439" y="150"/>
                </a:lnTo>
                <a:lnTo>
                  <a:pt x="470" y="146"/>
                </a:lnTo>
                <a:lnTo>
                  <a:pt x="501" y="142"/>
                </a:lnTo>
                <a:lnTo>
                  <a:pt x="533" y="137"/>
                </a:lnTo>
                <a:lnTo>
                  <a:pt x="568" y="133"/>
                </a:lnTo>
                <a:lnTo>
                  <a:pt x="602" y="127"/>
                </a:lnTo>
                <a:lnTo>
                  <a:pt x="637" y="121"/>
                </a:lnTo>
                <a:lnTo>
                  <a:pt x="675" y="113"/>
                </a:lnTo>
                <a:lnTo>
                  <a:pt x="714" y="108"/>
                </a:lnTo>
                <a:lnTo>
                  <a:pt x="752" y="100"/>
                </a:lnTo>
                <a:lnTo>
                  <a:pt x="792" y="92"/>
                </a:lnTo>
                <a:lnTo>
                  <a:pt x="835" y="85"/>
                </a:lnTo>
                <a:lnTo>
                  <a:pt x="877" y="77"/>
                </a:lnTo>
                <a:lnTo>
                  <a:pt x="921" y="67"/>
                </a:lnTo>
                <a:lnTo>
                  <a:pt x="942" y="64"/>
                </a:lnTo>
                <a:lnTo>
                  <a:pt x="963" y="60"/>
                </a:lnTo>
                <a:lnTo>
                  <a:pt x="984" y="56"/>
                </a:lnTo>
                <a:lnTo>
                  <a:pt x="1005" y="52"/>
                </a:lnTo>
                <a:lnTo>
                  <a:pt x="1025" y="48"/>
                </a:lnTo>
                <a:lnTo>
                  <a:pt x="1044" y="44"/>
                </a:lnTo>
                <a:lnTo>
                  <a:pt x="1063" y="41"/>
                </a:lnTo>
                <a:lnTo>
                  <a:pt x="1080" y="37"/>
                </a:lnTo>
                <a:lnTo>
                  <a:pt x="1099" y="35"/>
                </a:lnTo>
                <a:lnTo>
                  <a:pt x="1117" y="31"/>
                </a:lnTo>
                <a:lnTo>
                  <a:pt x="1134" y="29"/>
                </a:lnTo>
                <a:lnTo>
                  <a:pt x="1149" y="25"/>
                </a:lnTo>
                <a:lnTo>
                  <a:pt x="1167" y="23"/>
                </a:lnTo>
                <a:lnTo>
                  <a:pt x="1182" y="21"/>
                </a:lnTo>
                <a:lnTo>
                  <a:pt x="1195" y="19"/>
                </a:lnTo>
                <a:lnTo>
                  <a:pt x="1211" y="16"/>
                </a:lnTo>
                <a:lnTo>
                  <a:pt x="1224" y="14"/>
                </a:lnTo>
                <a:lnTo>
                  <a:pt x="1238" y="12"/>
                </a:lnTo>
                <a:lnTo>
                  <a:pt x="1251" y="10"/>
                </a:lnTo>
                <a:lnTo>
                  <a:pt x="1263" y="10"/>
                </a:lnTo>
                <a:lnTo>
                  <a:pt x="1274" y="8"/>
                </a:lnTo>
                <a:lnTo>
                  <a:pt x="1286" y="6"/>
                </a:lnTo>
                <a:lnTo>
                  <a:pt x="1297" y="4"/>
                </a:lnTo>
                <a:lnTo>
                  <a:pt x="1307" y="4"/>
                </a:lnTo>
                <a:lnTo>
                  <a:pt x="1316" y="2"/>
                </a:lnTo>
                <a:lnTo>
                  <a:pt x="1326" y="2"/>
                </a:lnTo>
                <a:lnTo>
                  <a:pt x="1334" y="2"/>
                </a:lnTo>
                <a:lnTo>
                  <a:pt x="1341" y="0"/>
                </a:lnTo>
                <a:lnTo>
                  <a:pt x="1349" y="0"/>
                </a:lnTo>
                <a:lnTo>
                  <a:pt x="1357" y="0"/>
                </a:lnTo>
                <a:lnTo>
                  <a:pt x="1362" y="0"/>
                </a:lnTo>
                <a:lnTo>
                  <a:pt x="1368" y="0"/>
                </a:lnTo>
                <a:lnTo>
                  <a:pt x="1389" y="0"/>
                </a:lnTo>
                <a:lnTo>
                  <a:pt x="1410" y="2"/>
                </a:lnTo>
                <a:lnTo>
                  <a:pt x="1431" y="4"/>
                </a:lnTo>
                <a:lnTo>
                  <a:pt x="1451" y="8"/>
                </a:lnTo>
                <a:lnTo>
                  <a:pt x="1472" y="14"/>
                </a:lnTo>
                <a:lnTo>
                  <a:pt x="1491" y="19"/>
                </a:lnTo>
                <a:lnTo>
                  <a:pt x="1512" y="25"/>
                </a:lnTo>
                <a:lnTo>
                  <a:pt x="1533" y="35"/>
                </a:lnTo>
                <a:lnTo>
                  <a:pt x="1541" y="41"/>
                </a:lnTo>
                <a:lnTo>
                  <a:pt x="1550" y="46"/>
                </a:lnTo>
                <a:lnTo>
                  <a:pt x="1558" y="52"/>
                </a:lnTo>
                <a:lnTo>
                  <a:pt x="1564" y="58"/>
                </a:lnTo>
                <a:lnTo>
                  <a:pt x="1570" y="64"/>
                </a:lnTo>
                <a:lnTo>
                  <a:pt x="1575" y="67"/>
                </a:lnTo>
                <a:lnTo>
                  <a:pt x="1581" y="71"/>
                </a:lnTo>
                <a:lnTo>
                  <a:pt x="1587" y="77"/>
                </a:lnTo>
                <a:lnTo>
                  <a:pt x="1591" y="81"/>
                </a:lnTo>
                <a:lnTo>
                  <a:pt x="1595" y="85"/>
                </a:lnTo>
                <a:lnTo>
                  <a:pt x="1597" y="89"/>
                </a:lnTo>
                <a:lnTo>
                  <a:pt x="1600" y="90"/>
                </a:lnTo>
                <a:lnTo>
                  <a:pt x="1602" y="94"/>
                </a:lnTo>
                <a:lnTo>
                  <a:pt x="1602" y="98"/>
                </a:lnTo>
                <a:lnTo>
                  <a:pt x="1604" y="100"/>
                </a:lnTo>
                <a:lnTo>
                  <a:pt x="1604" y="102"/>
                </a:lnTo>
                <a:lnTo>
                  <a:pt x="1604" y="110"/>
                </a:lnTo>
                <a:lnTo>
                  <a:pt x="1602" y="117"/>
                </a:lnTo>
                <a:lnTo>
                  <a:pt x="1598" y="123"/>
                </a:lnTo>
                <a:lnTo>
                  <a:pt x="1595" y="129"/>
                </a:lnTo>
                <a:lnTo>
                  <a:pt x="1587" y="135"/>
                </a:lnTo>
                <a:lnTo>
                  <a:pt x="1583" y="137"/>
                </a:lnTo>
                <a:lnTo>
                  <a:pt x="1579" y="138"/>
                </a:lnTo>
                <a:lnTo>
                  <a:pt x="1574" y="140"/>
                </a:lnTo>
                <a:lnTo>
                  <a:pt x="1570" y="144"/>
                </a:lnTo>
                <a:lnTo>
                  <a:pt x="1564" y="146"/>
                </a:lnTo>
                <a:lnTo>
                  <a:pt x="1556" y="148"/>
                </a:lnTo>
                <a:lnTo>
                  <a:pt x="1550" y="150"/>
                </a:lnTo>
                <a:lnTo>
                  <a:pt x="1543" y="152"/>
                </a:lnTo>
                <a:lnTo>
                  <a:pt x="1535" y="154"/>
                </a:lnTo>
                <a:lnTo>
                  <a:pt x="1526" y="154"/>
                </a:lnTo>
                <a:lnTo>
                  <a:pt x="1516" y="156"/>
                </a:lnTo>
                <a:lnTo>
                  <a:pt x="1506" y="156"/>
                </a:lnTo>
                <a:lnTo>
                  <a:pt x="1495" y="156"/>
                </a:lnTo>
                <a:lnTo>
                  <a:pt x="1483" y="156"/>
                </a:lnTo>
                <a:lnTo>
                  <a:pt x="1470" y="156"/>
                </a:lnTo>
                <a:lnTo>
                  <a:pt x="1456" y="156"/>
                </a:lnTo>
                <a:lnTo>
                  <a:pt x="1443" y="156"/>
                </a:lnTo>
                <a:lnTo>
                  <a:pt x="1428" y="154"/>
                </a:lnTo>
                <a:lnTo>
                  <a:pt x="1412" y="154"/>
                </a:lnTo>
                <a:lnTo>
                  <a:pt x="1395" y="152"/>
                </a:lnTo>
                <a:lnTo>
                  <a:pt x="1376" y="150"/>
                </a:lnTo>
                <a:lnTo>
                  <a:pt x="1357" y="148"/>
                </a:lnTo>
                <a:lnTo>
                  <a:pt x="1336" y="146"/>
                </a:lnTo>
                <a:lnTo>
                  <a:pt x="1314" y="144"/>
                </a:lnTo>
                <a:lnTo>
                  <a:pt x="1291" y="144"/>
                </a:lnTo>
                <a:lnTo>
                  <a:pt x="1268" y="142"/>
                </a:lnTo>
                <a:lnTo>
                  <a:pt x="1243" y="144"/>
                </a:lnTo>
                <a:lnTo>
                  <a:pt x="1218" y="144"/>
                </a:lnTo>
                <a:lnTo>
                  <a:pt x="1192" y="146"/>
                </a:lnTo>
                <a:lnTo>
                  <a:pt x="1163" y="148"/>
                </a:lnTo>
                <a:lnTo>
                  <a:pt x="1134" y="150"/>
                </a:lnTo>
                <a:lnTo>
                  <a:pt x="1105" y="152"/>
                </a:lnTo>
                <a:lnTo>
                  <a:pt x="1074" y="156"/>
                </a:lnTo>
                <a:lnTo>
                  <a:pt x="1044" y="160"/>
                </a:lnTo>
                <a:lnTo>
                  <a:pt x="1011" y="165"/>
                </a:lnTo>
                <a:lnTo>
                  <a:pt x="977" y="169"/>
                </a:lnTo>
                <a:lnTo>
                  <a:pt x="944" y="175"/>
                </a:lnTo>
                <a:lnTo>
                  <a:pt x="909" y="183"/>
                </a:lnTo>
                <a:lnTo>
                  <a:pt x="873" y="188"/>
                </a:lnTo>
                <a:lnTo>
                  <a:pt x="838" y="194"/>
                </a:lnTo>
                <a:lnTo>
                  <a:pt x="806" y="200"/>
                </a:lnTo>
                <a:lnTo>
                  <a:pt x="771" y="206"/>
                </a:lnTo>
                <a:lnTo>
                  <a:pt x="739" y="211"/>
                </a:lnTo>
                <a:lnTo>
                  <a:pt x="706" y="217"/>
                </a:lnTo>
                <a:lnTo>
                  <a:pt x="675" y="221"/>
                </a:lnTo>
                <a:lnTo>
                  <a:pt x="643" y="227"/>
                </a:lnTo>
                <a:lnTo>
                  <a:pt x="612" y="232"/>
                </a:lnTo>
                <a:lnTo>
                  <a:pt x="583" y="238"/>
                </a:lnTo>
                <a:lnTo>
                  <a:pt x="552" y="244"/>
                </a:lnTo>
                <a:lnTo>
                  <a:pt x="524" y="248"/>
                </a:lnTo>
                <a:lnTo>
                  <a:pt x="495" y="254"/>
                </a:lnTo>
                <a:lnTo>
                  <a:pt x="468" y="259"/>
                </a:lnTo>
                <a:lnTo>
                  <a:pt x="439" y="267"/>
                </a:lnTo>
                <a:lnTo>
                  <a:pt x="414" y="273"/>
                </a:lnTo>
                <a:lnTo>
                  <a:pt x="385" y="279"/>
                </a:lnTo>
                <a:lnTo>
                  <a:pt x="359" y="284"/>
                </a:lnTo>
                <a:lnTo>
                  <a:pt x="334" y="290"/>
                </a:lnTo>
                <a:lnTo>
                  <a:pt x="311" y="294"/>
                </a:lnTo>
                <a:lnTo>
                  <a:pt x="289" y="298"/>
                </a:lnTo>
                <a:lnTo>
                  <a:pt x="270" y="302"/>
                </a:lnTo>
                <a:lnTo>
                  <a:pt x="253" y="305"/>
                </a:lnTo>
                <a:lnTo>
                  <a:pt x="236" y="309"/>
                </a:lnTo>
                <a:lnTo>
                  <a:pt x="222" y="311"/>
                </a:lnTo>
                <a:lnTo>
                  <a:pt x="209" y="313"/>
                </a:lnTo>
                <a:lnTo>
                  <a:pt x="197" y="315"/>
                </a:lnTo>
                <a:lnTo>
                  <a:pt x="188" y="315"/>
                </a:lnTo>
                <a:lnTo>
                  <a:pt x="180" y="317"/>
                </a:lnTo>
                <a:lnTo>
                  <a:pt x="174" y="317"/>
                </a:lnTo>
                <a:lnTo>
                  <a:pt x="168" y="317"/>
                </a:lnTo>
                <a:lnTo>
                  <a:pt x="167" y="319"/>
                </a:lnTo>
                <a:lnTo>
                  <a:pt x="163" y="317"/>
                </a:lnTo>
                <a:lnTo>
                  <a:pt x="161" y="317"/>
                </a:lnTo>
                <a:lnTo>
                  <a:pt x="157" y="317"/>
                </a:lnTo>
                <a:lnTo>
                  <a:pt x="153" y="315"/>
                </a:lnTo>
                <a:lnTo>
                  <a:pt x="147" y="315"/>
                </a:lnTo>
                <a:lnTo>
                  <a:pt x="144" y="313"/>
                </a:lnTo>
                <a:lnTo>
                  <a:pt x="132" y="309"/>
                </a:lnTo>
                <a:lnTo>
                  <a:pt x="119" y="305"/>
                </a:lnTo>
                <a:lnTo>
                  <a:pt x="103" y="300"/>
                </a:lnTo>
                <a:lnTo>
                  <a:pt x="88" y="292"/>
                </a:lnTo>
                <a:lnTo>
                  <a:pt x="71" y="2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271"/>
          <p:cNvSpPr/>
          <p:nvPr/>
        </p:nvSpPr>
        <p:spPr>
          <a:xfrm>
            <a:off x="6299280" y="4184640"/>
            <a:ext cx="701640" cy="171360"/>
          </a:xfrm>
          <a:custGeom>
            <a:avLst/>
            <a:gdLst/>
            <a:ahLst/>
            <a:rect l="l" t="t" r="r" b="b"/>
            <a:pathLst>
              <a:path w="883" h="217">
                <a:moveTo>
                  <a:pt x="424" y="183"/>
                </a:moveTo>
                <a:lnTo>
                  <a:pt x="399" y="186"/>
                </a:lnTo>
                <a:lnTo>
                  <a:pt x="376" y="190"/>
                </a:lnTo>
                <a:lnTo>
                  <a:pt x="353" y="194"/>
                </a:lnTo>
                <a:lnTo>
                  <a:pt x="332" y="198"/>
                </a:lnTo>
                <a:lnTo>
                  <a:pt x="309" y="202"/>
                </a:lnTo>
                <a:lnTo>
                  <a:pt x="288" y="204"/>
                </a:lnTo>
                <a:lnTo>
                  <a:pt x="269" y="206"/>
                </a:lnTo>
                <a:lnTo>
                  <a:pt x="248" y="209"/>
                </a:lnTo>
                <a:lnTo>
                  <a:pt x="229" y="211"/>
                </a:lnTo>
                <a:lnTo>
                  <a:pt x="211" y="213"/>
                </a:lnTo>
                <a:lnTo>
                  <a:pt x="194" y="213"/>
                </a:lnTo>
                <a:lnTo>
                  <a:pt x="177" y="215"/>
                </a:lnTo>
                <a:lnTo>
                  <a:pt x="161" y="215"/>
                </a:lnTo>
                <a:lnTo>
                  <a:pt x="146" y="217"/>
                </a:lnTo>
                <a:lnTo>
                  <a:pt x="131" y="217"/>
                </a:lnTo>
                <a:lnTo>
                  <a:pt x="117" y="217"/>
                </a:lnTo>
                <a:lnTo>
                  <a:pt x="102" y="217"/>
                </a:lnTo>
                <a:lnTo>
                  <a:pt x="88" y="217"/>
                </a:lnTo>
                <a:lnTo>
                  <a:pt x="75" y="215"/>
                </a:lnTo>
                <a:lnTo>
                  <a:pt x="63" y="215"/>
                </a:lnTo>
                <a:lnTo>
                  <a:pt x="54" y="213"/>
                </a:lnTo>
                <a:lnTo>
                  <a:pt x="44" y="213"/>
                </a:lnTo>
                <a:lnTo>
                  <a:pt x="35" y="211"/>
                </a:lnTo>
                <a:lnTo>
                  <a:pt x="27" y="209"/>
                </a:lnTo>
                <a:lnTo>
                  <a:pt x="21" y="206"/>
                </a:lnTo>
                <a:lnTo>
                  <a:pt x="16" y="204"/>
                </a:lnTo>
                <a:lnTo>
                  <a:pt x="10" y="202"/>
                </a:lnTo>
                <a:lnTo>
                  <a:pt x="6" y="198"/>
                </a:lnTo>
                <a:lnTo>
                  <a:pt x="4" y="194"/>
                </a:lnTo>
                <a:lnTo>
                  <a:pt x="0" y="190"/>
                </a:lnTo>
                <a:lnTo>
                  <a:pt x="0" y="186"/>
                </a:lnTo>
                <a:lnTo>
                  <a:pt x="0" y="183"/>
                </a:lnTo>
                <a:lnTo>
                  <a:pt x="0" y="181"/>
                </a:lnTo>
                <a:lnTo>
                  <a:pt x="0" y="179"/>
                </a:lnTo>
                <a:lnTo>
                  <a:pt x="2" y="177"/>
                </a:lnTo>
                <a:lnTo>
                  <a:pt x="4" y="175"/>
                </a:lnTo>
                <a:lnTo>
                  <a:pt x="8" y="171"/>
                </a:lnTo>
                <a:lnTo>
                  <a:pt x="12" y="169"/>
                </a:lnTo>
                <a:lnTo>
                  <a:pt x="16" y="167"/>
                </a:lnTo>
                <a:lnTo>
                  <a:pt x="21" y="163"/>
                </a:lnTo>
                <a:lnTo>
                  <a:pt x="27" y="161"/>
                </a:lnTo>
                <a:lnTo>
                  <a:pt x="35" y="158"/>
                </a:lnTo>
                <a:lnTo>
                  <a:pt x="42" y="156"/>
                </a:lnTo>
                <a:lnTo>
                  <a:pt x="50" y="152"/>
                </a:lnTo>
                <a:lnTo>
                  <a:pt x="58" y="150"/>
                </a:lnTo>
                <a:lnTo>
                  <a:pt x="67" y="146"/>
                </a:lnTo>
                <a:lnTo>
                  <a:pt x="79" y="142"/>
                </a:lnTo>
                <a:lnTo>
                  <a:pt x="88" y="138"/>
                </a:lnTo>
                <a:lnTo>
                  <a:pt x="100" y="137"/>
                </a:lnTo>
                <a:lnTo>
                  <a:pt x="113" y="133"/>
                </a:lnTo>
                <a:lnTo>
                  <a:pt x="127" y="129"/>
                </a:lnTo>
                <a:lnTo>
                  <a:pt x="140" y="125"/>
                </a:lnTo>
                <a:lnTo>
                  <a:pt x="156" y="121"/>
                </a:lnTo>
                <a:lnTo>
                  <a:pt x="171" y="117"/>
                </a:lnTo>
                <a:lnTo>
                  <a:pt x="186" y="112"/>
                </a:lnTo>
                <a:lnTo>
                  <a:pt x="204" y="108"/>
                </a:lnTo>
                <a:lnTo>
                  <a:pt x="221" y="104"/>
                </a:lnTo>
                <a:lnTo>
                  <a:pt x="240" y="100"/>
                </a:lnTo>
                <a:lnTo>
                  <a:pt x="257" y="94"/>
                </a:lnTo>
                <a:lnTo>
                  <a:pt x="278" y="90"/>
                </a:lnTo>
                <a:lnTo>
                  <a:pt x="300" y="85"/>
                </a:lnTo>
                <a:lnTo>
                  <a:pt x="321" y="79"/>
                </a:lnTo>
                <a:lnTo>
                  <a:pt x="342" y="75"/>
                </a:lnTo>
                <a:lnTo>
                  <a:pt x="365" y="69"/>
                </a:lnTo>
                <a:lnTo>
                  <a:pt x="386" y="66"/>
                </a:lnTo>
                <a:lnTo>
                  <a:pt x="407" y="62"/>
                </a:lnTo>
                <a:lnTo>
                  <a:pt x="428" y="58"/>
                </a:lnTo>
                <a:lnTo>
                  <a:pt x="447" y="54"/>
                </a:lnTo>
                <a:lnTo>
                  <a:pt x="469" y="50"/>
                </a:lnTo>
                <a:lnTo>
                  <a:pt x="486" y="46"/>
                </a:lnTo>
                <a:lnTo>
                  <a:pt x="505" y="42"/>
                </a:lnTo>
                <a:lnTo>
                  <a:pt x="522" y="39"/>
                </a:lnTo>
                <a:lnTo>
                  <a:pt x="540" y="37"/>
                </a:lnTo>
                <a:lnTo>
                  <a:pt x="555" y="33"/>
                </a:lnTo>
                <a:lnTo>
                  <a:pt x="570" y="29"/>
                </a:lnTo>
                <a:lnTo>
                  <a:pt x="586" y="27"/>
                </a:lnTo>
                <a:lnTo>
                  <a:pt x="599" y="25"/>
                </a:lnTo>
                <a:lnTo>
                  <a:pt x="614" y="21"/>
                </a:lnTo>
                <a:lnTo>
                  <a:pt x="626" y="19"/>
                </a:lnTo>
                <a:lnTo>
                  <a:pt x="639" y="18"/>
                </a:lnTo>
                <a:lnTo>
                  <a:pt x="651" y="16"/>
                </a:lnTo>
                <a:lnTo>
                  <a:pt x="662" y="14"/>
                </a:lnTo>
                <a:lnTo>
                  <a:pt x="672" y="12"/>
                </a:lnTo>
                <a:lnTo>
                  <a:pt x="683" y="10"/>
                </a:lnTo>
                <a:lnTo>
                  <a:pt x="691" y="8"/>
                </a:lnTo>
                <a:lnTo>
                  <a:pt x="701" y="8"/>
                </a:lnTo>
                <a:lnTo>
                  <a:pt x="708" y="6"/>
                </a:lnTo>
                <a:lnTo>
                  <a:pt x="716" y="4"/>
                </a:lnTo>
                <a:lnTo>
                  <a:pt x="724" y="4"/>
                </a:lnTo>
                <a:lnTo>
                  <a:pt x="730" y="2"/>
                </a:lnTo>
                <a:lnTo>
                  <a:pt x="735" y="2"/>
                </a:lnTo>
                <a:lnTo>
                  <a:pt x="741" y="2"/>
                </a:lnTo>
                <a:lnTo>
                  <a:pt x="745" y="2"/>
                </a:lnTo>
                <a:lnTo>
                  <a:pt x="749" y="0"/>
                </a:lnTo>
                <a:lnTo>
                  <a:pt x="751" y="0"/>
                </a:lnTo>
                <a:lnTo>
                  <a:pt x="755" y="0"/>
                </a:lnTo>
                <a:lnTo>
                  <a:pt x="772" y="0"/>
                </a:lnTo>
                <a:lnTo>
                  <a:pt x="781" y="2"/>
                </a:lnTo>
                <a:lnTo>
                  <a:pt x="791" y="2"/>
                </a:lnTo>
                <a:lnTo>
                  <a:pt x="801" y="4"/>
                </a:lnTo>
                <a:lnTo>
                  <a:pt x="812" y="6"/>
                </a:lnTo>
                <a:lnTo>
                  <a:pt x="824" y="8"/>
                </a:lnTo>
                <a:lnTo>
                  <a:pt x="837" y="12"/>
                </a:lnTo>
                <a:lnTo>
                  <a:pt x="843" y="14"/>
                </a:lnTo>
                <a:lnTo>
                  <a:pt x="849" y="18"/>
                </a:lnTo>
                <a:lnTo>
                  <a:pt x="854" y="19"/>
                </a:lnTo>
                <a:lnTo>
                  <a:pt x="858" y="23"/>
                </a:lnTo>
                <a:lnTo>
                  <a:pt x="864" y="25"/>
                </a:lnTo>
                <a:lnTo>
                  <a:pt x="868" y="29"/>
                </a:lnTo>
                <a:lnTo>
                  <a:pt x="874" y="35"/>
                </a:lnTo>
                <a:lnTo>
                  <a:pt x="877" y="41"/>
                </a:lnTo>
                <a:lnTo>
                  <a:pt x="881" y="48"/>
                </a:lnTo>
                <a:lnTo>
                  <a:pt x="883" y="54"/>
                </a:lnTo>
                <a:lnTo>
                  <a:pt x="883" y="58"/>
                </a:lnTo>
                <a:lnTo>
                  <a:pt x="883" y="60"/>
                </a:lnTo>
                <a:lnTo>
                  <a:pt x="881" y="64"/>
                </a:lnTo>
                <a:lnTo>
                  <a:pt x="879" y="66"/>
                </a:lnTo>
                <a:lnTo>
                  <a:pt x="875" y="67"/>
                </a:lnTo>
                <a:lnTo>
                  <a:pt x="870" y="71"/>
                </a:lnTo>
                <a:lnTo>
                  <a:pt x="864" y="75"/>
                </a:lnTo>
                <a:lnTo>
                  <a:pt x="858" y="77"/>
                </a:lnTo>
                <a:lnTo>
                  <a:pt x="850" y="81"/>
                </a:lnTo>
                <a:lnTo>
                  <a:pt x="841" y="85"/>
                </a:lnTo>
                <a:lnTo>
                  <a:pt x="831" y="87"/>
                </a:lnTo>
                <a:lnTo>
                  <a:pt x="820" y="90"/>
                </a:lnTo>
                <a:lnTo>
                  <a:pt x="808" y="92"/>
                </a:lnTo>
                <a:lnTo>
                  <a:pt x="797" y="96"/>
                </a:lnTo>
                <a:lnTo>
                  <a:pt x="783" y="98"/>
                </a:lnTo>
                <a:lnTo>
                  <a:pt x="770" y="102"/>
                </a:lnTo>
                <a:lnTo>
                  <a:pt x="755" y="104"/>
                </a:lnTo>
                <a:lnTo>
                  <a:pt x="737" y="108"/>
                </a:lnTo>
                <a:lnTo>
                  <a:pt x="722" y="112"/>
                </a:lnTo>
                <a:lnTo>
                  <a:pt x="705" y="115"/>
                </a:lnTo>
                <a:lnTo>
                  <a:pt x="685" y="121"/>
                </a:lnTo>
                <a:lnTo>
                  <a:pt x="666" y="125"/>
                </a:lnTo>
                <a:lnTo>
                  <a:pt x="647" y="129"/>
                </a:lnTo>
                <a:lnTo>
                  <a:pt x="628" y="135"/>
                </a:lnTo>
                <a:lnTo>
                  <a:pt x="607" y="138"/>
                </a:lnTo>
                <a:lnTo>
                  <a:pt x="586" y="144"/>
                </a:lnTo>
                <a:lnTo>
                  <a:pt x="564" y="148"/>
                </a:lnTo>
                <a:lnTo>
                  <a:pt x="541" y="154"/>
                </a:lnTo>
                <a:lnTo>
                  <a:pt x="518" y="160"/>
                </a:lnTo>
                <a:lnTo>
                  <a:pt x="472" y="171"/>
                </a:lnTo>
                <a:lnTo>
                  <a:pt x="424" y="1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272"/>
          <p:cNvSpPr/>
          <p:nvPr/>
        </p:nvSpPr>
        <p:spPr>
          <a:xfrm>
            <a:off x="6362640" y="3940200"/>
            <a:ext cx="544680" cy="206280"/>
          </a:xfrm>
          <a:custGeom>
            <a:avLst/>
            <a:gdLst/>
            <a:ahLst/>
            <a:rect l="l" t="t" r="r" b="b"/>
            <a:pathLst>
              <a:path w="685" h="259">
                <a:moveTo>
                  <a:pt x="449" y="194"/>
                </a:moveTo>
                <a:lnTo>
                  <a:pt x="420" y="200"/>
                </a:lnTo>
                <a:lnTo>
                  <a:pt x="393" y="206"/>
                </a:lnTo>
                <a:lnTo>
                  <a:pt x="366" y="211"/>
                </a:lnTo>
                <a:lnTo>
                  <a:pt x="341" y="217"/>
                </a:lnTo>
                <a:lnTo>
                  <a:pt x="316" y="221"/>
                </a:lnTo>
                <a:lnTo>
                  <a:pt x="293" y="225"/>
                </a:lnTo>
                <a:lnTo>
                  <a:pt x="270" y="229"/>
                </a:lnTo>
                <a:lnTo>
                  <a:pt x="249" y="230"/>
                </a:lnTo>
                <a:lnTo>
                  <a:pt x="228" y="234"/>
                </a:lnTo>
                <a:lnTo>
                  <a:pt x="209" y="238"/>
                </a:lnTo>
                <a:lnTo>
                  <a:pt x="190" y="240"/>
                </a:lnTo>
                <a:lnTo>
                  <a:pt x="174" y="242"/>
                </a:lnTo>
                <a:lnTo>
                  <a:pt x="157" y="244"/>
                </a:lnTo>
                <a:lnTo>
                  <a:pt x="144" y="248"/>
                </a:lnTo>
                <a:lnTo>
                  <a:pt x="130" y="250"/>
                </a:lnTo>
                <a:lnTo>
                  <a:pt x="119" y="252"/>
                </a:lnTo>
                <a:lnTo>
                  <a:pt x="105" y="254"/>
                </a:lnTo>
                <a:lnTo>
                  <a:pt x="94" y="255"/>
                </a:lnTo>
                <a:lnTo>
                  <a:pt x="82" y="257"/>
                </a:lnTo>
                <a:lnTo>
                  <a:pt x="73" y="257"/>
                </a:lnTo>
                <a:lnTo>
                  <a:pt x="63" y="259"/>
                </a:lnTo>
                <a:lnTo>
                  <a:pt x="54" y="259"/>
                </a:lnTo>
                <a:lnTo>
                  <a:pt x="46" y="259"/>
                </a:lnTo>
                <a:lnTo>
                  <a:pt x="38" y="259"/>
                </a:lnTo>
                <a:lnTo>
                  <a:pt x="30" y="259"/>
                </a:lnTo>
                <a:lnTo>
                  <a:pt x="25" y="259"/>
                </a:lnTo>
                <a:lnTo>
                  <a:pt x="19" y="259"/>
                </a:lnTo>
                <a:lnTo>
                  <a:pt x="13" y="257"/>
                </a:lnTo>
                <a:lnTo>
                  <a:pt x="9" y="257"/>
                </a:lnTo>
                <a:lnTo>
                  <a:pt x="6" y="255"/>
                </a:lnTo>
                <a:lnTo>
                  <a:pt x="4" y="254"/>
                </a:lnTo>
                <a:lnTo>
                  <a:pt x="2" y="252"/>
                </a:lnTo>
                <a:lnTo>
                  <a:pt x="0" y="250"/>
                </a:lnTo>
                <a:lnTo>
                  <a:pt x="0" y="248"/>
                </a:lnTo>
                <a:lnTo>
                  <a:pt x="2" y="246"/>
                </a:lnTo>
                <a:lnTo>
                  <a:pt x="4" y="244"/>
                </a:lnTo>
                <a:lnTo>
                  <a:pt x="6" y="242"/>
                </a:lnTo>
                <a:lnTo>
                  <a:pt x="7" y="240"/>
                </a:lnTo>
                <a:lnTo>
                  <a:pt x="11" y="238"/>
                </a:lnTo>
                <a:lnTo>
                  <a:pt x="15" y="236"/>
                </a:lnTo>
                <a:lnTo>
                  <a:pt x="21" y="234"/>
                </a:lnTo>
                <a:lnTo>
                  <a:pt x="25" y="232"/>
                </a:lnTo>
                <a:lnTo>
                  <a:pt x="30" y="229"/>
                </a:lnTo>
                <a:lnTo>
                  <a:pt x="38" y="227"/>
                </a:lnTo>
                <a:lnTo>
                  <a:pt x="44" y="223"/>
                </a:lnTo>
                <a:lnTo>
                  <a:pt x="52" y="221"/>
                </a:lnTo>
                <a:lnTo>
                  <a:pt x="59" y="217"/>
                </a:lnTo>
                <a:lnTo>
                  <a:pt x="69" y="213"/>
                </a:lnTo>
                <a:lnTo>
                  <a:pt x="78" y="211"/>
                </a:lnTo>
                <a:lnTo>
                  <a:pt x="88" y="207"/>
                </a:lnTo>
                <a:lnTo>
                  <a:pt x="98" y="204"/>
                </a:lnTo>
                <a:lnTo>
                  <a:pt x="109" y="200"/>
                </a:lnTo>
                <a:lnTo>
                  <a:pt x="119" y="196"/>
                </a:lnTo>
                <a:lnTo>
                  <a:pt x="132" y="192"/>
                </a:lnTo>
                <a:lnTo>
                  <a:pt x="144" y="188"/>
                </a:lnTo>
                <a:lnTo>
                  <a:pt x="157" y="182"/>
                </a:lnTo>
                <a:lnTo>
                  <a:pt x="171" y="179"/>
                </a:lnTo>
                <a:lnTo>
                  <a:pt x="184" y="175"/>
                </a:lnTo>
                <a:lnTo>
                  <a:pt x="197" y="169"/>
                </a:lnTo>
                <a:lnTo>
                  <a:pt x="213" y="165"/>
                </a:lnTo>
                <a:lnTo>
                  <a:pt x="228" y="159"/>
                </a:lnTo>
                <a:lnTo>
                  <a:pt x="244" y="154"/>
                </a:lnTo>
                <a:lnTo>
                  <a:pt x="261" y="150"/>
                </a:lnTo>
                <a:lnTo>
                  <a:pt x="276" y="144"/>
                </a:lnTo>
                <a:lnTo>
                  <a:pt x="292" y="138"/>
                </a:lnTo>
                <a:lnTo>
                  <a:pt x="307" y="133"/>
                </a:lnTo>
                <a:lnTo>
                  <a:pt x="322" y="129"/>
                </a:lnTo>
                <a:lnTo>
                  <a:pt x="336" y="123"/>
                </a:lnTo>
                <a:lnTo>
                  <a:pt x="349" y="117"/>
                </a:lnTo>
                <a:lnTo>
                  <a:pt x="363" y="113"/>
                </a:lnTo>
                <a:lnTo>
                  <a:pt x="376" y="108"/>
                </a:lnTo>
                <a:lnTo>
                  <a:pt x="388" y="104"/>
                </a:lnTo>
                <a:lnTo>
                  <a:pt x="399" y="98"/>
                </a:lnTo>
                <a:lnTo>
                  <a:pt x="411" y="94"/>
                </a:lnTo>
                <a:lnTo>
                  <a:pt x="420" y="90"/>
                </a:lnTo>
                <a:lnTo>
                  <a:pt x="430" y="85"/>
                </a:lnTo>
                <a:lnTo>
                  <a:pt x="439" y="81"/>
                </a:lnTo>
                <a:lnTo>
                  <a:pt x="447" y="77"/>
                </a:lnTo>
                <a:lnTo>
                  <a:pt x="457" y="73"/>
                </a:lnTo>
                <a:lnTo>
                  <a:pt x="464" y="69"/>
                </a:lnTo>
                <a:lnTo>
                  <a:pt x="472" y="65"/>
                </a:lnTo>
                <a:lnTo>
                  <a:pt x="478" y="62"/>
                </a:lnTo>
                <a:lnTo>
                  <a:pt x="483" y="58"/>
                </a:lnTo>
                <a:lnTo>
                  <a:pt x="489" y="54"/>
                </a:lnTo>
                <a:lnTo>
                  <a:pt x="495" y="52"/>
                </a:lnTo>
                <a:lnTo>
                  <a:pt x="499" y="48"/>
                </a:lnTo>
                <a:lnTo>
                  <a:pt x="505" y="44"/>
                </a:lnTo>
                <a:lnTo>
                  <a:pt x="508" y="42"/>
                </a:lnTo>
                <a:lnTo>
                  <a:pt x="510" y="39"/>
                </a:lnTo>
                <a:lnTo>
                  <a:pt x="514" y="37"/>
                </a:lnTo>
                <a:lnTo>
                  <a:pt x="516" y="33"/>
                </a:lnTo>
                <a:lnTo>
                  <a:pt x="518" y="31"/>
                </a:lnTo>
                <a:lnTo>
                  <a:pt x="518" y="29"/>
                </a:lnTo>
                <a:lnTo>
                  <a:pt x="520" y="25"/>
                </a:lnTo>
                <a:lnTo>
                  <a:pt x="520" y="23"/>
                </a:lnTo>
                <a:lnTo>
                  <a:pt x="520" y="19"/>
                </a:lnTo>
                <a:lnTo>
                  <a:pt x="522" y="15"/>
                </a:lnTo>
                <a:lnTo>
                  <a:pt x="524" y="12"/>
                </a:lnTo>
                <a:lnTo>
                  <a:pt x="528" y="8"/>
                </a:lnTo>
                <a:lnTo>
                  <a:pt x="533" y="4"/>
                </a:lnTo>
                <a:lnTo>
                  <a:pt x="539" y="2"/>
                </a:lnTo>
                <a:lnTo>
                  <a:pt x="547" y="2"/>
                </a:lnTo>
                <a:lnTo>
                  <a:pt x="554" y="0"/>
                </a:lnTo>
                <a:lnTo>
                  <a:pt x="574" y="10"/>
                </a:lnTo>
                <a:lnTo>
                  <a:pt x="581" y="14"/>
                </a:lnTo>
                <a:lnTo>
                  <a:pt x="593" y="19"/>
                </a:lnTo>
                <a:lnTo>
                  <a:pt x="602" y="25"/>
                </a:lnTo>
                <a:lnTo>
                  <a:pt x="614" y="31"/>
                </a:lnTo>
                <a:lnTo>
                  <a:pt x="626" y="39"/>
                </a:lnTo>
                <a:lnTo>
                  <a:pt x="637" y="46"/>
                </a:lnTo>
                <a:lnTo>
                  <a:pt x="645" y="52"/>
                </a:lnTo>
                <a:lnTo>
                  <a:pt x="650" y="58"/>
                </a:lnTo>
                <a:lnTo>
                  <a:pt x="654" y="63"/>
                </a:lnTo>
                <a:lnTo>
                  <a:pt x="660" y="69"/>
                </a:lnTo>
                <a:lnTo>
                  <a:pt x="668" y="81"/>
                </a:lnTo>
                <a:lnTo>
                  <a:pt x="674" y="88"/>
                </a:lnTo>
                <a:lnTo>
                  <a:pt x="679" y="98"/>
                </a:lnTo>
                <a:lnTo>
                  <a:pt x="683" y="104"/>
                </a:lnTo>
                <a:lnTo>
                  <a:pt x="683" y="110"/>
                </a:lnTo>
                <a:lnTo>
                  <a:pt x="685" y="115"/>
                </a:lnTo>
                <a:lnTo>
                  <a:pt x="685" y="117"/>
                </a:lnTo>
                <a:lnTo>
                  <a:pt x="683" y="119"/>
                </a:lnTo>
                <a:lnTo>
                  <a:pt x="681" y="123"/>
                </a:lnTo>
                <a:lnTo>
                  <a:pt x="675" y="127"/>
                </a:lnTo>
                <a:lnTo>
                  <a:pt x="670" y="133"/>
                </a:lnTo>
                <a:lnTo>
                  <a:pt x="660" y="136"/>
                </a:lnTo>
                <a:lnTo>
                  <a:pt x="650" y="140"/>
                </a:lnTo>
                <a:lnTo>
                  <a:pt x="639" y="146"/>
                </a:lnTo>
                <a:lnTo>
                  <a:pt x="624" y="150"/>
                </a:lnTo>
                <a:lnTo>
                  <a:pt x="608" y="156"/>
                </a:lnTo>
                <a:lnTo>
                  <a:pt x="591" y="159"/>
                </a:lnTo>
                <a:lnTo>
                  <a:pt x="572" y="165"/>
                </a:lnTo>
                <a:lnTo>
                  <a:pt x="551" y="171"/>
                </a:lnTo>
                <a:lnTo>
                  <a:pt x="528" y="177"/>
                </a:lnTo>
                <a:lnTo>
                  <a:pt x="503" y="182"/>
                </a:lnTo>
                <a:lnTo>
                  <a:pt x="478" y="188"/>
                </a:lnTo>
                <a:lnTo>
                  <a:pt x="449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273"/>
          <p:cNvSpPr/>
          <p:nvPr/>
        </p:nvSpPr>
        <p:spPr>
          <a:xfrm>
            <a:off x="6748560" y="3778200"/>
            <a:ext cx="1123920" cy="565200"/>
          </a:xfrm>
          <a:custGeom>
            <a:avLst/>
            <a:gdLst/>
            <a:ahLst/>
            <a:rect l="l" t="t" r="r" b="b"/>
            <a:pathLst>
              <a:path w="1415" h="712">
                <a:moveTo>
                  <a:pt x="1214" y="693"/>
                </a:moveTo>
                <a:lnTo>
                  <a:pt x="1190" y="696"/>
                </a:lnTo>
                <a:lnTo>
                  <a:pt x="1167" y="700"/>
                </a:lnTo>
                <a:lnTo>
                  <a:pt x="1144" y="704"/>
                </a:lnTo>
                <a:lnTo>
                  <a:pt x="1121" y="706"/>
                </a:lnTo>
                <a:lnTo>
                  <a:pt x="1100" y="708"/>
                </a:lnTo>
                <a:lnTo>
                  <a:pt x="1079" y="710"/>
                </a:lnTo>
                <a:lnTo>
                  <a:pt x="1058" y="712"/>
                </a:lnTo>
                <a:lnTo>
                  <a:pt x="1039" y="712"/>
                </a:lnTo>
                <a:lnTo>
                  <a:pt x="1020" y="712"/>
                </a:lnTo>
                <a:lnTo>
                  <a:pt x="1000" y="712"/>
                </a:lnTo>
                <a:lnTo>
                  <a:pt x="983" y="712"/>
                </a:lnTo>
                <a:lnTo>
                  <a:pt x="966" y="710"/>
                </a:lnTo>
                <a:lnTo>
                  <a:pt x="951" y="710"/>
                </a:lnTo>
                <a:lnTo>
                  <a:pt x="935" y="708"/>
                </a:lnTo>
                <a:lnTo>
                  <a:pt x="922" y="706"/>
                </a:lnTo>
                <a:lnTo>
                  <a:pt x="908" y="704"/>
                </a:lnTo>
                <a:lnTo>
                  <a:pt x="899" y="702"/>
                </a:lnTo>
                <a:lnTo>
                  <a:pt x="889" y="700"/>
                </a:lnTo>
                <a:lnTo>
                  <a:pt x="878" y="695"/>
                </a:lnTo>
                <a:lnTo>
                  <a:pt x="866" y="691"/>
                </a:lnTo>
                <a:lnTo>
                  <a:pt x="853" y="683"/>
                </a:lnTo>
                <a:lnTo>
                  <a:pt x="837" y="675"/>
                </a:lnTo>
                <a:lnTo>
                  <a:pt x="822" y="666"/>
                </a:lnTo>
                <a:lnTo>
                  <a:pt x="805" y="656"/>
                </a:lnTo>
                <a:lnTo>
                  <a:pt x="785" y="645"/>
                </a:lnTo>
                <a:lnTo>
                  <a:pt x="766" y="631"/>
                </a:lnTo>
                <a:lnTo>
                  <a:pt x="745" y="616"/>
                </a:lnTo>
                <a:lnTo>
                  <a:pt x="722" y="600"/>
                </a:lnTo>
                <a:lnTo>
                  <a:pt x="699" y="583"/>
                </a:lnTo>
                <a:lnTo>
                  <a:pt x="674" y="566"/>
                </a:lnTo>
                <a:lnTo>
                  <a:pt x="647" y="545"/>
                </a:lnTo>
                <a:lnTo>
                  <a:pt x="620" y="524"/>
                </a:lnTo>
                <a:lnTo>
                  <a:pt x="592" y="503"/>
                </a:lnTo>
                <a:lnTo>
                  <a:pt x="561" y="478"/>
                </a:lnTo>
                <a:lnTo>
                  <a:pt x="528" y="453"/>
                </a:lnTo>
                <a:lnTo>
                  <a:pt x="496" y="426"/>
                </a:lnTo>
                <a:lnTo>
                  <a:pt x="461" y="399"/>
                </a:lnTo>
                <a:lnTo>
                  <a:pt x="427" y="370"/>
                </a:lnTo>
                <a:lnTo>
                  <a:pt x="390" y="339"/>
                </a:lnTo>
                <a:lnTo>
                  <a:pt x="352" y="307"/>
                </a:lnTo>
                <a:lnTo>
                  <a:pt x="311" y="274"/>
                </a:lnTo>
                <a:lnTo>
                  <a:pt x="271" y="238"/>
                </a:lnTo>
                <a:lnTo>
                  <a:pt x="229" y="203"/>
                </a:lnTo>
                <a:lnTo>
                  <a:pt x="187" y="165"/>
                </a:lnTo>
                <a:lnTo>
                  <a:pt x="141" y="124"/>
                </a:lnTo>
                <a:lnTo>
                  <a:pt x="96" y="84"/>
                </a:lnTo>
                <a:lnTo>
                  <a:pt x="48" y="42"/>
                </a:lnTo>
                <a:lnTo>
                  <a:pt x="0" y="0"/>
                </a:lnTo>
                <a:lnTo>
                  <a:pt x="129" y="0"/>
                </a:lnTo>
                <a:lnTo>
                  <a:pt x="183" y="40"/>
                </a:lnTo>
                <a:lnTo>
                  <a:pt x="236" y="78"/>
                </a:lnTo>
                <a:lnTo>
                  <a:pt x="286" y="115"/>
                </a:lnTo>
                <a:lnTo>
                  <a:pt x="336" y="149"/>
                </a:lnTo>
                <a:lnTo>
                  <a:pt x="384" y="182"/>
                </a:lnTo>
                <a:lnTo>
                  <a:pt x="430" y="213"/>
                </a:lnTo>
                <a:lnTo>
                  <a:pt x="475" y="243"/>
                </a:lnTo>
                <a:lnTo>
                  <a:pt x="517" y="270"/>
                </a:lnTo>
                <a:lnTo>
                  <a:pt x="559" y="295"/>
                </a:lnTo>
                <a:lnTo>
                  <a:pt x="599" y="318"/>
                </a:lnTo>
                <a:lnTo>
                  <a:pt x="618" y="330"/>
                </a:lnTo>
                <a:lnTo>
                  <a:pt x="636" y="341"/>
                </a:lnTo>
                <a:lnTo>
                  <a:pt x="655" y="351"/>
                </a:lnTo>
                <a:lnTo>
                  <a:pt x="672" y="361"/>
                </a:lnTo>
                <a:lnTo>
                  <a:pt x="689" y="370"/>
                </a:lnTo>
                <a:lnTo>
                  <a:pt x="707" y="378"/>
                </a:lnTo>
                <a:lnTo>
                  <a:pt x="724" y="387"/>
                </a:lnTo>
                <a:lnTo>
                  <a:pt x="741" y="395"/>
                </a:lnTo>
                <a:lnTo>
                  <a:pt x="757" y="401"/>
                </a:lnTo>
                <a:lnTo>
                  <a:pt x="772" y="409"/>
                </a:lnTo>
                <a:lnTo>
                  <a:pt x="787" y="414"/>
                </a:lnTo>
                <a:lnTo>
                  <a:pt x="801" y="420"/>
                </a:lnTo>
                <a:lnTo>
                  <a:pt x="858" y="441"/>
                </a:lnTo>
                <a:lnTo>
                  <a:pt x="914" y="460"/>
                </a:lnTo>
                <a:lnTo>
                  <a:pt x="968" y="480"/>
                </a:lnTo>
                <a:lnTo>
                  <a:pt x="1022" y="495"/>
                </a:lnTo>
                <a:lnTo>
                  <a:pt x="1075" y="510"/>
                </a:lnTo>
                <a:lnTo>
                  <a:pt x="1125" y="524"/>
                </a:lnTo>
                <a:lnTo>
                  <a:pt x="1177" y="535"/>
                </a:lnTo>
                <a:lnTo>
                  <a:pt x="1202" y="541"/>
                </a:lnTo>
                <a:lnTo>
                  <a:pt x="1225" y="545"/>
                </a:lnTo>
                <a:lnTo>
                  <a:pt x="1250" y="552"/>
                </a:lnTo>
                <a:lnTo>
                  <a:pt x="1271" y="558"/>
                </a:lnTo>
                <a:lnTo>
                  <a:pt x="1290" y="564"/>
                </a:lnTo>
                <a:lnTo>
                  <a:pt x="1309" y="570"/>
                </a:lnTo>
                <a:lnTo>
                  <a:pt x="1327" y="574"/>
                </a:lnTo>
                <a:lnTo>
                  <a:pt x="1342" y="579"/>
                </a:lnTo>
                <a:lnTo>
                  <a:pt x="1356" y="583"/>
                </a:lnTo>
                <a:lnTo>
                  <a:pt x="1369" y="589"/>
                </a:lnTo>
                <a:lnTo>
                  <a:pt x="1380" y="593"/>
                </a:lnTo>
                <a:lnTo>
                  <a:pt x="1388" y="597"/>
                </a:lnTo>
                <a:lnTo>
                  <a:pt x="1398" y="600"/>
                </a:lnTo>
                <a:lnTo>
                  <a:pt x="1404" y="602"/>
                </a:lnTo>
                <a:lnTo>
                  <a:pt x="1407" y="606"/>
                </a:lnTo>
                <a:lnTo>
                  <a:pt x="1411" y="608"/>
                </a:lnTo>
                <a:lnTo>
                  <a:pt x="1413" y="612"/>
                </a:lnTo>
                <a:lnTo>
                  <a:pt x="1415" y="614"/>
                </a:lnTo>
                <a:lnTo>
                  <a:pt x="1413" y="618"/>
                </a:lnTo>
                <a:lnTo>
                  <a:pt x="1411" y="622"/>
                </a:lnTo>
                <a:lnTo>
                  <a:pt x="1407" y="625"/>
                </a:lnTo>
                <a:lnTo>
                  <a:pt x="1402" y="631"/>
                </a:lnTo>
                <a:lnTo>
                  <a:pt x="1394" y="635"/>
                </a:lnTo>
                <a:lnTo>
                  <a:pt x="1386" y="639"/>
                </a:lnTo>
                <a:lnTo>
                  <a:pt x="1375" y="645"/>
                </a:lnTo>
                <a:lnTo>
                  <a:pt x="1363" y="648"/>
                </a:lnTo>
                <a:lnTo>
                  <a:pt x="1350" y="654"/>
                </a:lnTo>
                <a:lnTo>
                  <a:pt x="1334" y="658"/>
                </a:lnTo>
                <a:lnTo>
                  <a:pt x="1317" y="664"/>
                </a:lnTo>
                <a:lnTo>
                  <a:pt x="1300" y="670"/>
                </a:lnTo>
                <a:lnTo>
                  <a:pt x="1281" y="675"/>
                </a:lnTo>
                <a:lnTo>
                  <a:pt x="1260" y="681"/>
                </a:lnTo>
                <a:lnTo>
                  <a:pt x="1238" y="687"/>
                </a:lnTo>
                <a:lnTo>
                  <a:pt x="1214" y="6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4"/>
          <p:cNvSpPr/>
          <p:nvPr/>
        </p:nvSpPr>
        <p:spPr>
          <a:xfrm>
            <a:off x="5595840" y="3675240"/>
            <a:ext cx="974880" cy="809280"/>
          </a:xfrm>
          <a:custGeom>
            <a:avLst/>
            <a:gdLst/>
            <a:ahLst/>
            <a:rect l="l" t="t" r="r" b="b"/>
            <a:pathLst>
              <a:path w="1229" h="1019">
                <a:moveTo>
                  <a:pt x="745" y="505"/>
                </a:moveTo>
                <a:lnTo>
                  <a:pt x="768" y="482"/>
                </a:lnTo>
                <a:lnTo>
                  <a:pt x="791" y="459"/>
                </a:lnTo>
                <a:lnTo>
                  <a:pt x="814" y="436"/>
                </a:lnTo>
                <a:lnTo>
                  <a:pt x="835" y="413"/>
                </a:lnTo>
                <a:lnTo>
                  <a:pt x="855" y="392"/>
                </a:lnTo>
                <a:lnTo>
                  <a:pt x="874" y="371"/>
                </a:lnTo>
                <a:lnTo>
                  <a:pt x="893" y="349"/>
                </a:lnTo>
                <a:lnTo>
                  <a:pt x="910" y="328"/>
                </a:lnTo>
                <a:lnTo>
                  <a:pt x="926" y="309"/>
                </a:lnTo>
                <a:lnTo>
                  <a:pt x="941" y="290"/>
                </a:lnTo>
                <a:lnTo>
                  <a:pt x="954" y="271"/>
                </a:lnTo>
                <a:lnTo>
                  <a:pt x="968" y="254"/>
                </a:lnTo>
                <a:lnTo>
                  <a:pt x="979" y="234"/>
                </a:lnTo>
                <a:lnTo>
                  <a:pt x="989" y="219"/>
                </a:lnTo>
                <a:lnTo>
                  <a:pt x="997" y="202"/>
                </a:lnTo>
                <a:lnTo>
                  <a:pt x="1004" y="186"/>
                </a:lnTo>
                <a:lnTo>
                  <a:pt x="1010" y="173"/>
                </a:lnTo>
                <a:lnTo>
                  <a:pt x="1016" y="159"/>
                </a:lnTo>
                <a:lnTo>
                  <a:pt x="1022" y="146"/>
                </a:lnTo>
                <a:lnTo>
                  <a:pt x="1025" y="133"/>
                </a:lnTo>
                <a:lnTo>
                  <a:pt x="1029" y="121"/>
                </a:lnTo>
                <a:lnTo>
                  <a:pt x="1033" y="111"/>
                </a:lnTo>
                <a:lnTo>
                  <a:pt x="1035" y="100"/>
                </a:lnTo>
                <a:lnTo>
                  <a:pt x="1037" y="90"/>
                </a:lnTo>
                <a:lnTo>
                  <a:pt x="1039" y="81"/>
                </a:lnTo>
                <a:lnTo>
                  <a:pt x="1041" y="73"/>
                </a:lnTo>
                <a:lnTo>
                  <a:pt x="1039" y="63"/>
                </a:lnTo>
                <a:lnTo>
                  <a:pt x="1039" y="56"/>
                </a:lnTo>
                <a:lnTo>
                  <a:pt x="1037" y="48"/>
                </a:lnTo>
                <a:lnTo>
                  <a:pt x="1035" y="40"/>
                </a:lnTo>
                <a:lnTo>
                  <a:pt x="1031" y="35"/>
                </a:lnTo>
                <a:lnTo>
                  <a:pt x="1027" y="27"/>
                </a:lnTo>
                <a:lnTo>
                  <a:pt x="1023" y="23"/>
                </a:lnTo>
                <a:lnTo>
                  <a:pt x="1022" y="19"/>
                </a:lnTo>
                <a:lnTo>
                  <a:pt x="1020" y="15"/>
                </a:lnTo>
                <a:lnTo>
                  <a:pt x="1020" y="14"/>
                </a:lnTo>
                <a:lnTo>
                  <a:pt x="1020" y="10"/>
                </a:lnTo>
                <a:lnTo>
                  <a:pt x="1022" y="8"/>
                </a:lnTo>
                <a:lnTo>
                  <a:pt x="1025" y="6"/>
                </a:lnTo>
                <a:lnTo>
                  <a:pt x="1029" y="4"/>
                </a:lnTo>
                <a:lnTo>
                  <a:pt x="1035" y="2"/>
                </a:lnTo>
                <a:lnTo>
                  <a:pt x="1043" y="2"/>
                </a:lnTo>
                <a:lnTo>
                  <a:pt x="1050" y="0"/>
                </a:lnTo>
                <a:lnTo>
                  <a:pt x="1060" y="0"/>
                </a:lnTo>
                <a:lnTo>
                  <a:pt x="1070" y="0"/>
                </a:lnTo>
                <a:lnTo>
                  <a:pt x="1083" y="2"/>
                </a:lnTo>
                <a:lnTo>
                  <a:pt x="1096" y="4"/>
                </a:lnTo>
                <a:lnTo>
                  <a:pt x="1110" y="6"/>
                </a:lnTo>
                <a:lnTo>
                  <a:pt x="1125" y="8"/>
                </a:lnTo>
                <a:lnTo>
                  <a:pt x="1139" y="10"/>
                </a:lnTo>
                <a:lnTo>
                  <a:pt x="1152" y="12"/>
                </a:lnTo>
                <a:lnTo>
                  <a:pt x="1164" y="15"/>
                </a:lnTo>
                <a:lnTo>
                  <a:pt x="1175" y="19"/>
                </a:lnTo>
                <a:lnTo>
                  <a:pt x="1185" y="21"/>
                </a:lnTo>
                <a:lnTo>
                  <a:pt x="1192" y="25"/>
                </a:lnTo>
                <a:lnTo>
                  <a:pt x="1200" y="29"/>
                </a:lnTo>
                <a:lnTo>
                  <a:pt x="1208" y="33"/>
                </a:lnTo>
                <a:lnTo>
                  <a:pt x="1213" y="37"/>
                </a:lnTo>
                <a:lnTo>
                  <a:pt x="1217" y="40"/>
                </a:lnTo>
                <a:lnTo>
                  <a:pt x="1221" y="44"/>
                </a:lnTo>
                <a:lnTo>
                  <a:pt x="1225" y="50"/>
                </a:lnTo>
                <a:lnTo>
                  <a:pt x="1227" y="54"/>
                </a:lnTo>
                <a:lnTo>
                  <a:pt x="1229" y="58"/>
                </a:lnTo>
                <a:lnTo>
                  <a:pt x="1229" y="62"/>
                </a:lnTo>
                <a:lnTo>
                  <a:pt x="1227" y="75"/>
                </a:lnTo>
                <a:lnTo>
                  <a:pt x="1227" y="87"/>
                </a:lnTo>
                <a:lnTo>
                  <a:pt x="1223" y="96"/>
                </a:lnTo>
                <a:lnTo>
                  <a:pt x="1221" y="108"/>
                </a:lnTo>
                <a:lnTo>
                  <a:pt x="1217" y="117"/>
                </a:lnTo>
                <a:lnTo>
                  <a:pt x="1213" y="129"/>
                </a:lnTo>
                <a:lnTo>
                  <a:pt x="1210" y="140"/>
                </a:lnTo>
                <a:lnTo>
                  <a:pt x="1206" y="154"/>
                </a:lnTo>
                <a:lnTo>
                  <a:pt x="1200" y="159"/>
                </a:lnTo>
                <a:lnTo>
                  <a:pt x="1194" y="167"/>
                </a:lnTo>
                <a:lnTo>
                  <a:pt x="1189" y="175"/>
                </a:lnTo>
                <a:lnTo>
                  <a:pt x="1183" y="184"/>
                </a:lnTo>
                <a:lnTo>
                  <a:pt x="1175" y="194"/>
                </a:lnTo>
                <a:lnTo>
                  <a:pt x="1167" y="206"/>
                </a:lnTo>
                <a:lnTo>
                  <a:pt x="1160" y="217"/>
                </a:lnTo>
                <a:lnTo>
                  <a:pt x="1152" y="229"/>
                </a:lnTo>
                <a:lnTo>
                  <a:pt x="1142" y="240"/>
                </a:lnTo>
                <a:lnTo>
                  <a:pt x="1133" y="254"/>
                </a:lnTo>
                <a:lnTo>
                  <a:pt x="1121" y="267"/>
                </a:lnTo>
                <a:lnTo>
                  <a:pt x="1112" y="282"/>
                </a:lnTo>
                <a:lnTo>
                  <a:pt x="1100" y="298"/>
                </a:lnTo>
                <a:lnTo>
                  <a:pt x="1089" y="313"/>
                </a:lnTo>
                <a:lnTo>
                  <a:pt x="1075" y="328"/>
                </a:lnTo>
                <a:lnTo>
                  <a:pt x="1064" y="346"/>
                </a:lnTo>
                <a:lnTo>
                  <a:pt x="1050" y="365"/>
                </a:lnTo>
                <a:lnTo>
                  <a:pt x="1035" y="384"/>
                </a:lnTo>
                <a:lnTo>
                  <a:pt x="1022" y="403"/>
                </a:lnTo>
                <a:lnTo>
                  <a:pt x="1006" y="421"/>
                </a:lnTo>
                <a:lnTo>
                  <a:pt x="991" y="440"/>
                </a:lnTo>
                <a:lnTo>
                  <a:pt x="974" y="457"/>
                </a:lnTo>
                <a:lnTo>
                  <a:pt x="956" y="476"/>
                </a:lnTo>
                <a:lnTo>
                  <a:pt x="939" y="493"/>
                </a:lnTo>
                <a:lnTo>
                  <a:pt x="922" y="513"/>
                </a:lnTo>
                <a:lnTo>
                  <a:pt x="903" y="530"/>
                </a:lnTo>
                <a:lnTo>
                  <a:pt x="883" y="549"/>
                </a:lnTo>
                <a:lnTo>
                  <a:pt x="864" y="566"/>
                </a:lnTo>
                <a:lnTo>
                  <a:pt x="843" y="586"/>
                </a:lnTo>
                <a:lnTo>
                  <a:pt x="824" y="603"/>
                </a:lnTo>
                <a:lnTo>
                  <a:pt x="803" y="622"/>
                </a:lnTo>
                <a:lnTo>
                  <a:pt x="780" y="641"/>
                </a:lnTo>
                <a:lnTo>
                  <a:pt x="759" y="660"/>
                </a:lnTo>
                <a:lnTo>
                  <a:pt x="734" y="680"/>
                </a:lnTo>
                <a:lnTo>
                  <a:pt x="711" y="699"/>
                </a:lnTo>
                <a:lnTo>
                  <a:pt x="686" y="716"/>
                </a:lnTo>
                <a:lnTo>
                  <a:pt x="659" y="735"/>
                </a:lnTo>
                <a:lnTo>
                  <a:pt x="632" y="753"/>
                </a:lnTo>
                <a:lnTo>
                  <a:pt x="605" y="770"/>
                </a:lnTo>
                <a:lnTo>
                  <a:pt x="576" y="787"/>
                </a:lnTo>
                <a:lnTo>
                  <a:pt x="545" y="804"/>
                </a:lnTo>
                <a:lnTo>
                  <a:pt x="515" y="820"/>
                </a:lnTo>
                <a:lnTo>
                  <a:pt x="482" y="837"/>
                </a:lnTo>
                <a:lnTo>
                  <a:pt x="450" y="852"/>
                </a:lnTo>
                <a:lnTo>
                  <a:pt x="417" y="868"/>
                </a:lnTo>
                <a:lnTo>
                  <a:pt x="382" y="883"/>
                </a:lnTo>
                <a:lnTo>
                  <a:pt x="346" y="900"/>
                </a:lnTo>
                <a:lnTo>
                  <a:pt x="309" y="916"/>
                </a:lnTo>
                <a:lnTo>
                  <a:pt x="290" y="922"/>
                </a:lnTo>
                <a:lnTo>
                  <a:pt x="273" y="929"/>
                </a:lnTo>
                <a:lnTo>
                  <a:pt x="256" y="937"/>
                </a:lnTo>
                <a:lnTo>
                  <a:pt x="238" y="943"/>
                </a:lnTo>
                <a:lnTo>
                  <a:pt x="223" y="950"/>
                </a:lnTo>
                <a:lnTo>
                  <a:pt x="208" y="956"/>
                </a:lnTo>
                <a:lnTo>
                  <a:pt x="192" y="962"/>
                </a:lnTo>
                <a:lnTo>
                  <a:pt x="177" y="968"/>
                </a:lnTo>
                <a:lnTo>
                  <a:pt x="164" y="971"/>
                </a:lnTo>
                <a:lnTo>
                  <a:pt x="150" y="977"/>
                </a:lnTo>
                <a:lnTo>
                  <a:pt x="139" y="981"/>
                </a:lnTo>
                <a:lnTo>
                  <a:pt x="127" y="987"/>
                </a:lnTo>
                <a:lnTo>
                  <a:pt x="116" y="991"/>
                </a:lnTo>
                <a:lnTo>
                  <a:pt x="104" y="994"/>
                </a:lnTo>
                <a:lnTo>
                  <a:pt x="94" y="998"/>
                </a:lnTo>
                <a:lnTo>
                  <a:pt x="85" y="1000"/>
                </a:lnTo>
                <a:lnTo>
                  <a:pt x="75" y="1004"/>
                </a:lnTo>
                <a:lnTo>
                  <a:pt x="68" y="1006"/>
                </a:lnTo>
                <a:lnTo>
                  <a:pt x="58" y="1010"/>
                </a:lnTo>
                <a:lnTo>
                  <a:pt x="50" y="1012"/>
                </a:lnTo>
                <a:lnTo>
                  <a:pt x="45" y="1014"/>
                </a:lnTo>
                <a:lnTo>
                  <a:pt x="37" y="1016"/>
                </a:lnTo>
                <a:lnTo>
                  <a:pt x="31" y="1017"/>
                </a:lnTo>
                <a:lnTo>
                  <a:pt x="27" y="1017"/>
                </a:lnTo>
                <a:lnTo>
                  <a:pt x="21" y="1019"/>
                </a:lnTo>
                <a:lnTo>
                  <a:pt x="18" y="1019"/>
                </a:lnTo>
                <a:lnTo>
                  <a:pt x="14" y="1019"/>
                </a:lnTo>
                <a:lnTo>
                  <a:pt x="10" y="1019"/>
                </a:lnTo>
                <a:lnTo>
                  <a:pt x="8" y="1019"/>
                </a:lnTo>
                <a:lnTo>
                  <a:pt x="4" y="1019"/>
                </a:lnTo>
                <a:lnTo>
                  <a:pt x="2" y="1019"/>
                </a:lnTo>
                <a:lnTo>
                  <a:pt x="2" y="1017"/>
                </a:lnTo>
                <a:lnTo>
                  <a:pt x="0" y="1016"/>
                </a:lnTo>
                <a:lnTo>
                  <a:pt x="2" y="1014"/>
                </a:lnTo>
                <a:lnTo>
                  <a:pt x="2" y="1012"/>
                </a:lnTo>
                <a:lnTo>
                  <a:pt x="4" y="1010"/>
                </a:lnTo>
                <a:lnTo>
                  <a:pt x="6" y="1006"/>
                </a:lnTo>
                <a:lnTo>
                  <a:pt x="10" y="1004"/>
                </a:lnTo>
                <a:lnTo>
                  <a:pt x="14" y="1000"/>
                </a:lnTo>
                <a:lnTo>
                  <a:pt x="18" y="996"/>
                </a:lnTo>
                <a:lnTo>
                  <a:pt x="21" y="994"/>
                </a:lnTo>
                <a:lnTo>
                  <a:pt x="27" y="991"/>
                </a:lnTo>
                <a:lnTo>
                  <a:pt x="33" y="987"/>
                </a:lnTo>
                <a:lnTo>
                  <a:pt x="39" y="981"/>
                </a:lnTo>
                <a:lnTo>
                  <a:pt x="46" y="977"/>
                </a:lnTo>
                <a:lnTo>
                  <a:pt x="54" y="971"/>
                </a:lnTo>
                <a:lnTo>
                  <a:pt x="62" y="968"/>
                </a:lnTo>
                <a:lnTo>
                  <a:pt x="71" y="962"/>
                </a:lnTo>
                <a:lnTo>
                  <a:pt x="81" y="956"/>
                </a:lnTo>
                <a:lnTo>
                  <a:pt x="91" y="950"/>
                </a:lnTo>
                <a:lnTo>
                  <a:pt x="102" y="943"/>
                </a:lnTo>
                <a:lnTo>
                  <a:pt x="114" y="937"/>
                </a:lnTo>
                <a:lnTo>
                  <a:pt x="125" y="929"/>
                </a:lnTo>
                <a:lnTo>
                  <a:pt x="137" y="923"/>
                </a:lnTo>
                <a:lnTo>
                  <a:pt x="150" y="916"/>
                </a:lnTo>
                <a:lnTo>
                  <a:pt x="164" y="908"/>
                </a:lnTo>
                <a:lnTo>
                  <a:pt x="177" y="900"/>
                </a:lnTo>
                <a:lnTo>
                  <a:pt x="192" y="893"/>
                </a:lnTo>
                <a:lnTo>
                  <a:pt x="208" y="883"/>
                </a:lnTo>
                <a:lnTo>
                  <a:pt x="223" y="875"/>
                </a:lnTo>
                <a:lnTo>
                  <a:pt x="238" y="866"/>
                </a:lnTo>
                <a:lnTo>
                  <a:pt x="256" y="856"/>
                </a:lnTo>
                <a:lnTo>
                  <a:pt x="273" y="847"/>
                </a:lnTo>
                <a:lnTo>
                  <a:pt x="307" y="827"/>
                </a:lnTo>
                <a:lnTo>
                  <a:pt x="342" y="808"/>
                </a:lnTo>
                <a:lnTo>
                  <a:pt x="375" y="787"/>
                </a:lnTo>
                <a:lnTo>
                  <a:pt x="407" y="768"/>
                </a:lnTo>
                <a:lnTo>
                  <a:pt x="440" y="747"/>
                </a:lnTo>
                <a:lnTo>
                  <a:pt x="471" y="726"/>
                </a:lnTo>
                <a:lnTo>
                  <a:pt x="501" y="705"/>
                </a:lnTo>
                <a:lnTo>
                  <a:pt x="532" y="683"/>
                </a:lnTo>
                <a:lnTo>
                  <a:pt x="561" y="662"/>
                </a:lnTo>
                <a:lnTo>
                  <a:pt x="588" y="641"/>
                </a:lnTo>
                <a:lnTo>
                  <a:pt x="617" y="620"/>
                </a:lnTo>
                <a:lnTo>
                  <a:pt x="643" y="597"/>
                </a:lnTo>
                <a:lnTo>
                  <a:pt x="670" y="574"/>
                </a:lnTo>
                <a:lnTo>
                  <a:pt x="695" y="553"/>
                </a:lnTo>
                <a:lnTo>
                  <a:pt x="720" y="530"/>
                </a:lnTo>
                <a:lnTo>
                  <a:pt x="745" y="5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75"/>
          <p:cNvSpPr/>
          <p:nvPr/>
        </p:nvSpPr>
        <p:spPr>
          <a:xfrm>
            <a:off x="5850000" y="3652920"/>
            <a:ext cx="1496880" cy="287280"/>
          </a:xfrm>
          <a:custGeom>
            <a:avLst/>
            <a:gdLst/>
            <a:ahLst/>
            <a:rect l="l" t="t" r="r" b="b"/>
            <a:pathLst>
              <a:path w="1887" h="363">
                <a:moveTo>
                  <a:pt x="1309" y="79"/>
                </a:moveTo>
                <a:lnTo>
                  <a:pt x="1328" y="73"/>
                </a:lnTo>
                <a:lnTo>
                  <a:pt x="1349" y="69"/>
                </a:lnTo>
                <a:lnTo>
                  <a:pt x="1368" y="64"/>
                </a:lnTo>
                <a:lnTo>
                  <a:pt x="1388" y="60"/>
                </a:lnTo>
                <a:lnTo>
                  <a:pt x="1407" y="54"/>
                </a:lnTo>
                <a:lnTo>
                  <a:pt x="1424" y="50"/>
                </a:lnTo>
                <a:lnTo>
                  <a:pt x="1441" y="46"/>
                </a:lnTo>
                <a:lnTo>
                  <a:pt x="1459" y="43"/>
                </a:lnTo>
                <a:lnTo>
                  <a:pt x="1474" y="39"/>
                </a:lnTo>
                <a:lnTo>
                  <a:pt x="1491" y="35"/>
                </a:lnTo>
                <a:lnTo>
                  <a:pt x="1507" y="31"/>
                </a:lnTo>
                <a:lnTo>
                  <a:pt x="1520" y="29"/>
                </a:lnTo>
                <a:lnTo>
                  <a:pt x="1535" y="25"/>
                </a:lnTo>
                <a:lnTo>
                  <a:pt x="1549" y="23"/>
                </a:lnTo>
                <a:lnTo>
                  <a:pt x="1560" y="20"/>
                </a:lnTo>
                <a:lnTo>
                  <a:pt x="1574" y="18"/>
                </a:lnTo>
                <a:lnTo>
                  <a:pt x="1585" y="16"/>
                </a:lnTo>
                <a:lnTo>
                  <a:pt x="1597" y="14"/>
                </a:lnTo>
                <a:lnTo>
                  <a:pt x="1608" y="12"/>
                </a:lnTo>
                <a:lnTo>
                  <a:pt x="1618" y="10"/>
                </a:lnTo>
                <a:lnTo>
                  <a:pt x="1628" y="8"/>
                </a:lnTo>
                <a:lnTo>
                  <a:pt x="1637" y="6"/>
                </a:lnTo>
                <a:lnTo>
                  <a:pt x="1645" y="6"/>
                </a:lnTo>
                <a:lnTo>
                  <a:pt x="1653" y="4"/>
                </a:lnTo>
                <a:lnTo>
                  <a:pt x="1660" y="2"/>
                </a:lnTo>
                <a:lnTo>
                  <a:pt x="1668" y="2"/>
                </a:lnTo>
                <a:lnTo>
                  <a:pt x="1674" y="2"/>
                </a:lnTo>
                <a:lnTo>
                  <a:pt x="1679" y="0"/>
                </a:lnTo>
                <a:lnTo>
                  <a:pt x="1685" y="0"/>
                </a:lnTo>
                <a:lnTo>
                  <a:pt x="1689" y="0"/>
                </a:lnTo>
                <a:lnTo>
                  <a:pt x="1693" y="0"/>
                </a:lnTo>
                <a:lnTo>
                  <a:pt x="1697" y="0"/>
                </a:lnTo>
                <a:lnTo>
                  <a:pt x="1710" y="0"/>
                </a:lnTo>
                <a:lnTo>
                  <a:pt x="1726" y="2"/>
                </a:lnTo>
                <a:lnTo>
                  <a:pt x="1741" y="4"/>
                </a:lnTo>
                <a:lnTo>
                  <a:pt x="1758" y="6"/>
                </a:lnTo>
                <a:lnTo>
                  <a:pt x="1775" y="10"/>
                </a:lnTo>
                <a:lnTo>
                  <a:pt x="1793" y="14"/>
                </a:lnTo>
                <a:lnTo>
                  <a:pt x="1827" y="23"/>
                </a:lnTo>
                <a:lnTo>
                  <a:pt x="1841" y="31"/>
                </a:lnTo>
                <a:lnTo>
                  <a:pt x="1850" y="41"/>
                </a:lnTo>
                <a:lnTo>
                  <a:pt x="1862" y="48"/>
                </a:lnTo>
                <a:lnTo>
                  <a:pt x="1869" y="58"/>
                </a:lnTo>
                <a:lnTo>
                  <a:pt x="1877" y="68"/>
                </a:lnTo>
                <a:lnTo>
                  <a:pt x="1879" y="73"/>
                </a:lnTo>
                <a:lnTo>
                  <a:pt x="1881" y="79"/>
                </a:lnTo>
                <a:lnTo>
                  <a:pt x="1883" y="85"/>
                </a:lnTo>
                <a:lnTo>
                  <a:pt x="1885" y="91"/>
                </a:lnTo>
                <a:lnTo>
                  <a:pt x="1885" y="96"/>
                </a:lnTo>
                <a:lnTo>
                  <a:pt x="1887" y="102"/>
                </a:lnTo>
                <a:lnTo>
                  <a:pt x="1885" y="108"/>
                </a:lnTo>
                <a:lnTo>
                  <a:pt x="1883" y="114"/>
                </a:lnTo>
                <a:lnTo>
                  <a:pt x="1879" y="119"/>
                </a:lnTo>
                <a:lnTo>
                  <a:pt x="1875" y="123"/>
                </a:lnTo>
                <a:lnTo>
                  <a:pt x="1869" y="127"/>
                </a:lnTo>
                <a:lnTo>
                  <a:pt x="1862" y="131"/>
                </a:lnTo>
                <a:lnTo>
                  <a:pt x="1852" y="135"/>
                </a:lnTo>
                <a:lnTo>
                  <a:pt x="1843" y="139"/>
                </a:lnTo>
                <a:lnTo>
                  <a:pt x="1833" y="140"/>
                </a:lnTo>
                <a:lnTo>
                  <a:pt x="1820" y="142"/>
                </a:lnTo>
                <a:lnTo>
                  <a:pt x="1806" y="144"/>
                </a:lnTo>
                <a:lnTo>
                  <a:pt x="1791" y="146"/>
                </a:lnTo>
                <a:lnTo>
                  <a:pt x="1775" y="146"/>
                </a:lnTo>
                <a:lnTo>
                  <a:pt x="1758" y="146"/>
                </a:lnTo>
                <a:lnTo>
                  <a:pt x="1741" y="148"/>
                </a:lnTo>
                <a:lnTo>
                  <a:pt x="1722" y="148"/>
                </a:lnTo>
                <a:lnTo>
                  <a:pt x="1710" y="148"/>
                </a:lnTo>
                <a:lnTo>
                  <a:pt x="1697" y="148"/>
                </a:lnTo>
                <a:lnTo>
                  <a:pt x="1683" y="148"/>
                </a:lnTo>
                <a:lnTo>
                  <a:pt x="1670" y="150"/>
                </a:lnTo>
                <a:lnTo>
                  <a:pt x="1654" y="150"/>
                </a:lnTo>
                <a:lnTo>
                  <a:pt x="1637" y="152"/>
                </a:lnTo>
                <a:lnTo>
                  <a:pt x="1620" y="152"/>
                </a:lnTo>
                <a:lnTo>
                  <a:pt x="1601" y="154"/>
                </a:lnTo>
                <a:lnTo>
                  <a:pt x="1582" y="156"/>
                </a:lnTo>
                <a:lnTo>
                  <a:pt x="1562" y="158"/>
                </a:lnTo>
                <a:lnTo>
                  <a:pt x="1541" y="160"/>
                </a:lnTo>
                <a:lnTo>
                  <a:pt x="1520" y="162"/>
                </a:lnTo>
                <a:lnTo>
                  <a:pt x="1497" y="163"/>
                </a:lnTo>
                <a:lnTo>
                  <a:pt x="1472" y="167"/>
                </a:lnTo>
                <a:lnTo>
                  <a:pt x="1447" y="169"/>
                </a:lnTo>
                <a:lnTo>
                  <a:pt x="1422" y="173"/>
                </a:lnTo>
                <a:lnTo>
                  <a:pt x="1395" y="177"/>
                </a:lnTo>
                <a:lnTo>
                  <a:pt x="1367" y="179"/>
                </a:lnTo>
                <a:lnTo>
                  <a:pt x="1338" y="183"/>
                </a:lnTo>
                <a:lnTo>
                  <a:pt x="1309" y="187"/>
                </a:lnTo>
                <a:lnTo>
                  <a:pt x="1278" y="190"/>
                </a:lnTo>
                <a:lnTo>
                  <a:pt x="1248" y="196"/>
                </a:lnTo>
                <a:lnTo>
                  <a:pt x="1215" y="200"/>
                </a:lnTo>
                <a:lnTo>
                  <a:pt x="1182" y="204"/>
                </a:lnTo>
                <a:lnTo>
                  <a:pt x="1148" y="210"/>
                </a:lnTo>
                <a:lnTo>
                  <a:pt x="1113" y="215"/>
                </a:lnTo>
                <a:lnTo>
                  <a:pt x="1077" y="219"/>
                </a:lnTo>
                <a:lnTo>
                  <a:pt x="1040" y="225"/>
                </a:lnTo>
                <a:lnTo>
                  <a:pt x="1002" y="231"/>
                </a:lnTo>
                <a:lnTo>
                  <a:pt x="963" y="236"/>
                </a:lnTo>
                <a:lnTo>
                  <a:pt x="925" y="244"/>
                </a:lnTo>
                <a:lnTo>
                  <a:pt x="885" y="250"/>
                </a:lnTo>
                <a:lnTo>
                  <a:pt x="844" y="258"/>
                </a:lnTo>
                <a:lnTo>
                  <a:pt x="804" y="265"/>
                </a:lnTo>
                <a:lnTo>
                  <a:pt x="766" y="271"/>
                </a:lnTo>
                <a:lnTo>
                  <a:pt x="729" y="279"/>
                </a:lnTo>
                <a:lnTo>
                  <a:pt x="693" y="284"/>
                </a:lnTo>
                <a:lnTo>
                  <a:pt x="658" y="290"/>
                </a:lnTo>
                <a:lnTo>
                  <a:pt x="626" y="296"/>
                </a:lnTo>
                <a:lnTo>
                  <a:pt x="593" y="302"/>
                </a:lnTo>
                <a:lnTo>
                  <a:pt x="560" y="307"/>
                </a:lnTo>
                <a:lnTo>
                  <a:pt x="532" y="313"/>
                </a:lnTo>
                <a:lnTo>
                  <a:pt x="501" y="317"/>
                </a:lnTo>
                <a:lnTo>
                  <a:pt x="474" y="321"/>
                </a:lnTo>
                <a:lnTo>
                  <a:pt x="447" y="327"/>
                </a:lnTo>
                <a:lnTo>
                  <a:pt x="422" y="330"/>
                </a:lnTo>
                <a:lnTo>
                  <a:pt x="397" y="334"/>
                </a:lnTo>
                <a:lnTo>
                  <a:pt x="374" y="338"/>
                </a:lnTo>
                <a:lnTo>
                  <a:pt x="351" y="340"/>
                </a:lnTo>
                <a:lnTo>
                  <a:pt x="330" y="344"/>
                </a:lnTo>
                <a:lnTo>
                  <a:pt x="311" y="346"/>
                </a:lnTo>
                <a:lnTo>
                  <a:pt x="292" y="350"/>
                </a:lnTo>
                <a:lnTo>
                  <a:pt x="274" y="352"/>
                </a:lnTo>
                <a:lnTo>
                  <a:pt x="259" y="354"/>
                </a:lnTo>
                <a:lnTo>
                  <a:pt x="244" y="355"/>
                </a:lnTo>
                <a:lnTo>
                  <a:pt x="230" y="357"/>
                </a:lnTo>
                <a:lnTo>
                  <a:pt x="219" y="359"/>
                </a:lnTo>
                <a:lnTo>
                  <a:pt x="207" y="359"/>
                </a:lnTo>
                <a:lnTo>
                  <a:pt x="196" y="361"/>
                </a:lnTo>
                <a:lnTo>
                  <a:pt x="188" y="361"/>
                </a:lnTo>
                <a:lnTo>
                  <a:pt x="180" y="363"/>
                </a:lnTo>
                <a:lnTo>
                  <a:pt x="173" y="363"/>
                </a:lnTo>
                <a:lnTo>
                  <a:pt x="169" y="363"/>
                </a:lnTo>
                <a:lnTo>
                  <a:pt x="165" y="363"/>
                </a:lnTo>
                <a:lnTo>
                  <a:pt x="148" y="363"/>
                </a:lnTo>
                <a:lnTo>
                  <a:pt x="130" y="361"/>
                </a:lnTo>
                <a:lnTo>
                  <a:pt x="115" y="359"/>
                </a:lnTo>
                <a:lnTo>
                  <a:pt x="102" y="357"/>
                </a:lnTo>
                <a:lnTo>
                  <a:pt x="86" y="354"/>
                </a:lnTo>
                <a:lnTo>
                  <a:pt x="73" y="350"/>
                </a:lnTo>
                <a:lnTo>
                  <a:pt x="46" y="342"/>
                </a:lnTo>
                <a:lnTo>
                  <a:pt x="40" y="338"/>
                </a:lnTo>
                <a:lnTo>
                  <a:pt x="34" y="338"/>
                </a:lnTo>
                <a:lnTo>
                  <a:pt x="29" y="336"/>
                </a:lnTo>
                <a:lnTo>
                  <a:pt x="25" y="334"/>
                </a:lnTo>
                <a:lnTo>
                  <a:pt x="19" y="332"/>
                </a:lnTo>
                <a:lnTo>
                  <a:pt x="15" y="332"/>
                </a:lnTo>
                <a:lnTo>
                  <a:pt x="10" y="330"/>
                </a:lnTo>
                <a:lnTo>
                  <a:pt x="4" y="327"/>
                </a:lnTo>
                <a:lnTo>
                  <a:pt x="2" y="325"/>
                </a:lnTo>
                <a:lnTo>
                  <a:pt x="0" y="323"/>
                </a:lnTo>
                <a:lnTo>
                  <a:pt x="0" y="319"/>
                </a:lnTo>
                <a:lnTo>
                  <a:pt x="0" y="317"/>
                </a:lnTo>
                <a:lnTo>
                  <a:pt x="0" y="315"/>
                </a:lnTo>
                <a:lnTo>
                  <a:pt x="4" y="311"/>
                </a:lnTo>
                <a:lnTo>
                  <a:pt x="6" y="309"/>
                </a:lnTo>
                <a:lnTo>
                  <a:pt x="10" y="307"/>
                </a:lnTo>
                <a:lnTo>
                  <a:pt x="15" y="306"/>
                </a:lnTo>
                <a:lnTo>
                  <a:pt x="21" y="304"/>
                </a:lnTo>
                <a:lnTo>
                  <a:pt x="27" y="302"/>
                </a:lnTo>
                <a:lnTo>
                  <a:pt x="34" y="300"/>
                </a:lnTo>
                <a:lnTo>
                  <a:pt x="44" y="298"/>
                </a:lnTo>
                <a:lnTo>
                  <a:pt x="54" y="296"/>
                </a:lnTo>
                <a:lnTo>
                  <a:pt x="63" y="292"/>
                </a:lnTo>
                <a:lnTo>
                  <a:pt x="75" y="290"/>
                </a:lnTo>
                <a:lnTo>
                  <a:pt x="88" y="288"/>
                </a:lnTo>
                <a:lnTo>
                  <a:pt x="102" y="286"/>
                </a:lnTo>
                <a:lnTo>
                  <a:pt x="117" y="284"/>
                </a:lnTo>
                <a:lnTo>
                  <a:pt x="223" y="267"/>
                </a:lnTo>
                <a:lnTo>
                  <a:pt x="276" y="259"/>
                </a:lnTo>
                <a:lnTo>
                  <a:pt x="330" y="250"/>
                </a:lnTo>
                <a:lnTo>
                  <a:pt x="343" y="248"/>
                </a:lnTo>
                <a:lnTo>
                  <a:pt x="359" y="246"/>
                </a:lnTo>
                <a:lnTo>
                  <a:pt x="376" y="244"/>
                </a:lnTo>
                <a:lnTo>
                  <a:pt x="393" y="240"/>
                </a:lnTo>
                <a:lnTo>
                  <a:pt x="413" y="238"/>
                </a:lnTo>
                <a:lnTo>
                  <a:pt x="434" y="236"/>
                </a:lnTo>
                <a:lnTo>
                  <a:pt x="455" y="233"/>
                </a:lnTo>
                <a:lnTo>
                  <a:pt x="478" y="231"/>
                </a:lnTo>
                <a:lnTo>
                  <a:pt x="503" y="227"/>
                </a:lnTo>
                <a:lnTo>
                  <a:pt x="528" y="223"/>
                </a:lnTo>
                <a:lnTo>
                  <a:pt x="555" y="219"/>
                </a:lnTo>
                <a:lnTo>
                  <a:pt x="583" y="215"/>
                </a:lnTo>
                <a:lnTo>
                  <a:pt x="612" y="210"/>
                </a:lnTo>
                <a:lnTo>
                  <a:pt x="643" y="206"/>
                </a:lnTo>
                <a:lnTo>
                  <a:pt x="674" y="200"/>
                </a:lnTo>
                <a:lnTo>
                  <a:pt x="706" y="194"/>
                </a:lnTo>
                <a:lnTo>
                  <a:pt x="741" y="187"/>
                </a:lnTo>
                <a:lnTo>
                  <a:pt x="773" y="181"/>
                </a:lnTo>
                <a:lnTo>
                  <a:pt x="808" y="173"/>
                </a:lnTo>
                <a:lnTo>
                  <a:pt x="844" y="167"/>
                </a:lnTo>
                <a:lnTo>
                  <a:pt x="879" y="162"/>
                </a:lnTo>
                <a:lnTo>
                  <a:pt x="915" y="154"/>
                </a:lnTo>
                <a:lnTo>
                  <a:pt x="952" y="148"/>
                </a:lnTo>
                <a:lnTo>
                  <a:pt x="990" y="140"/>
                </a:lnTo>
                <a:lnTo>
                  <a:pt x="1027" y="133"/>
                </a:lnTo>
                <a:lnTo>
                  <a:pt x="1065" y="127"/>
                </a:lnTo>
                <a:lnTo>
                  <a:pt x="1106" y="119"/>
                </a:lnTo>
                <a:lnTo>
                  <a:pt x="1144" y="112"/>
                </a:lnTo>
                <a:lnTo>
                  <a:pt x="1184" y="104"/>
                </a:lnTo>
                <a:lnTo>
                  <a:pt x="1225" y="96"/>
                </a:lnTo>
                <a:lnTo>
                  <a:pt x="1267" y="89"/>
                </a:lnTo>
                <a:lnTo>
                  <a:pt x="1309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6"/>
          <p:cNvSpPr/>
          <p:nvPr/>
        </p:nvSpPr>
        <p:spPr>
          <a:xfrm>
            <a:off x="7121520" y="3290760"/>
            <a:ext cx="347760" cy="225720"/>
          </a:xfrm>
          <a:custGeom>
            <a:avLst/>
            <a:gdLst/>
            <a:ahLst/>
            <a:rect l="l" t="t" r="r" b="b"/>
            <a:pathLst>
              <a:path w="437" h="284">
                <a:moveTo>
                  <a:pt x="272" y="79"/>
                </a:moveTo>
                <a:lnTo>
                  <a:pt x="291" y="89"/>
                </a:lnTo>
                <a:lnTo>
                  <a:pt x="309" y="96"/>
                </a:lnTo>
                <a:lnTo>
                  <a:pt x="326" y="106"/>
                </a:lnTo>
                <a:lnTo>
                  <a:pt x="341" y="114"/>
                </a:lnTo>
                <a:lnTo>
                  <a:pt x="357" y="121"/>
                </a:lnTo>
                <a:lnTo>
                  <a:pt x="370" y="131"/>
                </a:lnTo>
                <a:lnTo>
                  <a:pt x="382" y="139"/>
                </a:lnTo>
                <a:lnTo>
                  <a:pt x="393" y="146"/>
                </a:lnTo>
                <a:lnTo>
                  <a:pt x="403" y="154"/>
                </a:lnTo>
                <a:lnTo>
                  <a:pt x="412" y="162"/>
                </a:lnTo>
                <a:lnTo>
                  <a:pt x="420" y="169"/>
                </a:lnTo>
                <a:lnTo>
                  <a:pt x="426" y="177"/>
                </a:lnTo>
                <a:lnTo>
                  <a:pt x="430" y="185"/>
                </a:lnTo>
                <a:lnTo>
                  <a:pt x="433" y="190"/>
                </a:lnTo>
                <a:lnTo>
                  <a:pt x="435" y="198"/>
                </a:lnTo>
                <a:lnTo>
                  <a:pt x="437" y="204"/>
                </a:lnTo>
                <a:lnTo>
                  <a:pt x="437" y="213"/>
                </a:lnTo>
                <a:lnTo>
                  <a:pt x="437" y="221"/>
                </a:lnTo>
                <a:lnTo>
                  <a:pt x="435" y="227"/>
                </a:lnTo>
                <a:lnTo>
                  <a:pt x="435" y="235"/>
                </a:lnTo>
                <a:lnTo>
                  <a:pt x="435" y="246"/>
                </a:lnTo>
                <a:lnTo>
                  <a:pt x="435" y="258"/>
                </a:lnTo>
                <a:lnTo>
                  <a:pt x="433" y="265"/>
                </a:lnTo>
                <a:lnTo>
                  <a:pt x="432" y="273"/>
                </a:lnTo>
                <a:lnTo>
                  <a:pt x="428" y="279"/>
                </a:lnTo>
                <a:lnTo>
                  <a:pt x="424" y="284"/>
                </a:lnTo>
                <a:lnTo>
                  <a:pt x="420" y="284"/>
                </a:lnTo>
                <a:lnTo>
                  <a:pt x="418" y="284"/>
                </a:lnTo>
                <a:lnTo>
                  <a:pt x="414" y="284"/>
                </a:lnTo>
                <a:lnTo>
                  <a:pt x="409" y="283"/>
                </a:lnTo>
                <a:lnTo>
                  <a:pt x="405" y="281"/>
                </a:lnTo>
                <a:lnTo>
                  <a:pt x="397" y="277"/>
                </a:lnTo>
                <a:lnTo>
                  <a:pt x="391" y="273"/>
                </a:lnTo>
                <a:lnTo>
                  <a:pt x="384" y="269"/>
                </a:lnTo>
                <a:lnTo>
                  <a:pt x="376" y="265"/>
                </a:lnTo>
                <a:lnTo>
                  <a:pt x="366" y="260"/>
                </a:lnTo>
                <a:lnTo>
                  <a:pt x="357" y="254"/>
                </a:lnTo>
                <a:lnTo>
                  <a:pt x="345" y="248"/>
                </a:lnTo>
                <a:lnTo>
                  <a:pt x="334" y="240"/>
                </a:lnTo>
                <a:lnTo>
                  <a:pt x="322" y="233"/>
                </a:lnTo>
                <a:lnTo>
                  <a:pt x="309" y="225"/>
                </a:lnTo>
                <a:lnTo>
                  <a:pt x="295" y="215"/>
                </a:lnTo>
                <a:lnTo>
                  <a:pt x="280" y="206"/>
                </a:lnTo>
                <a:lnTo>
                  <a:pt x="266" y="194"/>
                </a:lnTo>
                <a:lnTo>
                  <a:pt x="249" y="185"/>
                </a:lnTo>
                <a:lnTo>
                  <a:pt x="234" y="173"/>
                </a:lnTo>
                <a:lnTo>
                  <a:pt x="215" y="160"/>
                </a:lnTo>
                <a:lnTo>
                  <a:pt x="197" y="146"/>
                </a:lnTo>
                <a:lnTo>
                  <a:pt x="178" y="133"/>
                </a:lnTo>
                <a:lnTo>
                  <a:pt x="159" y="119"/>
                </a:lnTo>
                <a:lnTo>
                  <a:pt x="138" y="104"/>
                </a:lnTo>
                <a:lnTo>
                  <a:pt x="117" y="89"/>
                </a:lnTo>
                <a:lnTo>
                  <a:pt x="96" y="71"/>
                </a:lnTo>
                <a:lnTo>
                  <a:pt x="73" y="56"/>
                </a:lnTo>
                <a:lnTo>
                  <a:pt x="50" y="37"/>
                </a:lnTo>
                <a:lnTo>
                  <a:pt x="25" y="20"/>
                </a:lnTo>
                <a:lnTo>
                  <a:pt x="0" y="0"/>
                </a:lnTo>
                <a:lnTo>
                  <a:pt x="15" y="0"/>
                </a:lnTo>
                <a:lnTo>
                  <a:pt x="30" y="0"/>
                </a:lnTo>
                <a:lnTo>
                  <a:pt x="48" y="2"/>
                </a:lnTo>
                <a:lnTo>
                  <a:pt x="63" y="4"/>
                </a:lnTo>
                <a:lnTo>
                  <a:pt x="78" y="6"/>
                </a:lnTo>
                <a:lnTo>
                  <a:pt x="94" y="10"/>
                </a:lnTo>
                <a:lnTo>
                  <a:pt x="111" y="14"/>
                </a:lnTo>
                <a:lnTo>
                  <a:pt x="126" y="18"/>
                </a:lnTo>
                <a:lnTo>
                  <a:pt x="144" y="23"/>
                </a:lnTo>
                <a:lnTo>
                  <a:pt x="161" y="29"/>
                </a:lnTo>
                <a:lnTo>
                  <a:pt x="178" y="35"/>
                </a:lnTo>
                <a:lnTo>
                  <a:pt x="195" y="43"/>
                </a:lnTo>
                <a:lnTo>
                  <a:pt x="215" y="50"/>
                </a:lnTo>
                <a:lnTo>
                  <a:pt x="232" y="60"/>
                </a:lnTo>
                <a:lnTo>
                  <a:pt x="251" y="70"/>
                </a:lnTo>
                <a:lnTo>
                  <a:pt x="272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277"/>
          <p:cNvSpPr/>
          <p:nvPr/>
        </p:nvSpPr>
        <p:spPr>
          <a:xfrm>
            <a:off x="6729480" y="3201840"/>
            <a:ext cx="392040" cy="378000"/>
          </a:xfrm>
          <a:custGeom>
            <a:avLst/>
            <a:gdLst/>
            <a:ahLst/>
            <a:rect l="l" t="t" r="r" b="b"/>
            <a:pathLst>
              <a:path w="496" h="476">
                <a:moveTo>
                  <a:pt x="0" y="444"/>
                </a:moveTo>
                <a:lnTo>
                  <a:pt x="31" y="421"/>
                </a:lnTo>
                <a:lnTo>
                  <a:pt x="62" y="397"/>
                </a:lnTo>
                <a:lnTo>
                  <a:pt x="93" y="374"/>
                </a:lnTo>
                <a:lnTo>
                  <a:pt x="125" y="351"/>
                </a:lnTo>
                <a:lnTo>
                  <a:pt x="156" y="326"/>
                </a:lnTo>
                <a:lnTo>
                  <a:pt x="187" y="300"/>
                </a:lnTo>
                <a:lnTo>
                  <a:pt x="217" y="273"/>
                </a:lnTo>
                <a:lnTo>
                  <a:pt x="248" y="246"/>
                </a:lnTo>
                <a:lnTo>
                  <a:pt x="279" y="219"/>
                </a:lnTo>
                <a:lnTo>
                  <a:pt x="311" y="190"/>
                </a:lnTo>
                <a:lnTo>
                  <a:pt x="342" y="159"/>
                </a:lnTo>
                <a:lnTo>
                  <a:pt x="373" y="129"/>
                </a:lnTo>
                <a:lnTo>
                  <a:pt x="404" y="98"/>
                </a:lnTo>
                <a:lnTo>
                  <a:pt x="434" y="65"/>
                </a:lnTo>
                <a:lnTo>
                  <a:pt x="465" y="33"/>
                </a:lnTo>
                <a:lnTo>
                  <a:pt x="496" y="0"/>
                </a:lnTo>
                <a:lnTo>
                  <a:pt x="496" y="96"/>
                </a:lnTo>
                <a:lnTo>
                  <a:pt x="496" y="192"/>
                </a:lnTo>
                <a:lnTo>
                  <a:pt x="467" y="215"/>
                </a:lnTo>
                <a:lnTo>
                  <a:pt x="438" y="238"/>
                </a:lnTo>
                <a:lnTo>
                  <a:pt x="411" y="261"/>
                </a:lnTo>
                <a:lnTo>
                  <a:pt x="382" y="282"/>
                </a:lnTo>
                <a:lnTo>
                  <a:pt x="354" y="303"/>
                </a:lnTo>
                <a:lnTo>
                  <a:pt x="325" y="323"/>
                </a:lnTo>
                <a:lnTo>
                  <a:pt x="296" y="342"/>
                </a:lnTo>
                <a:lnTo>
                  <a:pt x="267" y="361"/>
                </a:lnTo>
                <a:lnTo>
                  <a:pt x="238" y="378"/>
                </a:lnTo>
                <a:lnTo>
                  <a:pt x="210" y="396"/>
                </a:lnTo>
                <a:lnTo>
                  <a:pt x="181" y="411"/>
                </a:lnTo>
                <a:lnTo>
                  <a:pt x="150" y="426"/>
                </a:lnTo>
                <a:lnTo>
                  <a:pt x="121" y="440"/>
                </a:lnTo>
                <a:lnTo>
                  <a:pt x="93" y="453"/>
                </a:lnTo>
                <a:lnTo>
                  <a:pt x="64" y="465"/>
                </a:lnTo>
                <a:lnTo>
                  <a:pt x="37" y="476"/>
                </a:lnTo>
                <a:lnTo>
                  <a:pt x="18" y="459"/>
                </a:lnTo>
                <a:lnTo>
                  <a:pt x="0" y="4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278"/>
          <p:cNvSpPr/>
          <p:nvPr/>
        </p:nvSpPr>
        <p:spPr>
          <a:xfrm>
            <a:off x="7015320" y="2817720"/>
            <a:ext cx="179280" cy="816120"/>
          </a:xfrm>
          <a:custGeom>
            <a:avLst/>
            <a:gdLst/>
            <a:ahLst/>
            <a:rect l="l" t="t" r="r" b="b"/>
            <a:pathLst>
              <a:path w="227" h="1029">
                <a:moveTo>
                  <a:pt x="183" y="279"/>
                </a:moveTo>
                <a:lnTo>
                  <a:pt x="183" y="294"/>
                </a:lnTo>
                <a:lnTo>
                  <a:pt x="183" y="309"/>
                </a:lnTo>
                <a:lnTo>
                  <a:pt x="183" y="327"/>
                </a:lnTo>
                <a:lnTo>
                  <a:pt x="183" y="344"/>
                </a:lnTo>
                <a:lnTo>
                  <a:pt x="183" y="363"/>
                </a:lnTo>
                <a:lnTo>
                  <a:pt x="183" y="384"/>
                </a:lnTo>
                <a:lnTo>
                  <a:pt x="183" y="404"/>
                </a:lnTo>
                <a:lnTo>
                  <a:pt x="183" y="427"/>
                </a:lnTo>
                <a:lnTo>
                  <a:pt x="183" y="450"/>
                </a:lnTo>
                <a:lnTo>
                  <a:pt x="183" y="473"/>
                </a:lnTo>
                <a:lnTo>
                  <a:pt x="183" y="498"/>
                </a:lnTo>
                <a:lnTo>
                  <a:pt x="183" y="524"/>
                </a:lnTo>
                <a:lnTo>
                  <a:pt x="183" y="553"/>
                </a:lnTo>
                <a:lnTo>
                  <a:pt x="183" y="582"/>
                </a:lnTo>
                <a:lnTo>
                  <a:pt x="183" y="611"/>
                </a:lnTo>
                <a:lnTo>
                  <a:pt x="183" y="643"/>
                </a:lnTo>
                <a:lnTo>
                  <a:pt x="183" y="674"/>
                </a:lnTo>
                <a:lnTo>
                  <a:pt x="181" y="705"/>
                </a:lnTo>
                <a:lnTo>
                  <a:pt x="181" y="734"/>
                </a:lnTo>
                <a:lnTo>
                  <a:pt x="181" y="764"/>
                </a:lnTo>
                <a:lnTo>
                  <a:pt x="179" y="791"/>
                </a:lnTo>
                <a:lnTo>
                  <a:pt x="177" y="818"/>
                </a:lnTo>
                <a:lnTo>
                  <a:pt x="177" y="845"/>
                </a:lnTo>
                <a:lnTo>
                  <a:pt x="175" y="870"/>
                </a:lnTo>
                <a:lnTo>
                  <a:pt x="173" y="893"/>
                </a:lnTo>
                <a:lnTo>
                  <a:pt x="171" y="916"/>
                </a:lnTo>
                <a:lnTo>
                  <a:pt x="169" y="939"/>
                </a:lnTo>
                <a:lnTo>
                  <a:pt x="167" y="958"/>
                </a:lnTo>
                <a:lnTo>
                  <a:pt x="165" y="977"/>
                </a:lnTo>
                <a:lnTo>
                  <a:pt x="163" y="997"/>
                </a:lnTo>
                <a:lnTo>
                  <a:pt x="162" y="1014"/>
                </a:lnTo>
                <a:lnTo>
                  <a:pt x="160" y="1029"/>
                </a:lnTo>
                <a:lnTo>
                  <a:pt x="152" y="1029"/>
                </a:lnTo>
                <a:lnTo>
                  <a:pt x="146" y="1029"/>
                </a:lnTo>
                <a:lnTo>
                  <a:pt x="140" y="1027"/>
                </a:lnTo>
                <a:lnTo>
                  <a:pt x="137" y="1027"/>
                </a:lnTo>
                <a:lnTo>
                  <a:pt x="127" y="1025"/>
                </a:lnTo>
                <a:lnTo>
                  <a:pt x="119" y="1022"/>
                </a:lnTo>
                <a:lnTo>
                  <a:pt x="114" y="1018"/>
                </a:lnTo>
                <a:lnTo>
                  <a:pt x="110" y="1014"/>
                </a:lnTo>
                <a:lnTo>
                  <a:pt x="104" y="1010"/>
                </a:lnTo>
                <a:lnTo>
                  <a:pt x="100" y="1006"/>
                </a:lnTo>
                <a:lnTo>
                  <a:pt x="98" y="1004"/>
                </a:lnTo>
                <a:lnTo>
                  <a:pt x="98" y="1002"/>
                </a:lnTo>
                <a:lnTo>
                  <a:pt x="96" y="999"/>
                </a:lnTo>
                <a:lnTo>
                  <a:pt x="96" y="995"/>
                </a:lnTo>
                <a:lnTo>
                  <a:pt x="94" y="991"/>
                </a:lnTo>
                <a:lnTo>
                  <a:pt x="92" y="985"/>
                </a:lnTo>
                <a:lnTo>
                  <a:pt x="92" y="979"/>
                </a:lnTo>
                <a:lnTo>
                  <a:pt x="91" y="972"/>
                </a:lnTo>
                <a:lnTo>
                  <a:pt x="91" y="964"/>
                </a:lnTo>
                <a:lnTo>
                  <a:pt x="89" y="954"/>
                </a:lnTo>
                <a:lnTo>
                  <a:pt x="89" y="945"/>
                </a:lnTo>
                <a:lnTo>
                  <a:pt x="87" y="935"/>
                </a:lnTo>
                <a:lnTo>
                  <a:pt x="87" y="924"/>
                </a:lnTo>
                <a:lnTo>
                  <a:pt x="85" y="910"/>
                </a:lnTo>
                <a:lnTo>
                  <a:pt x="85" y="899"/>
                </a:lnTo>
                <a:lnTo>
                  <a:pt x="83" y="883"/>
                </a:lnTo>
                <a:lnTo>
                  <a:pt x="83" y="870"/>
                </a:lnTo>
                <a:lnTo>
                  <a:pt x="83" y="853"/>
                </a:lnTo>
                <a:lnTo>
                  <a:pt x="81" y="837"/>
                </a:lnTo>
                <a:lnTo>
                  <a:pt x="81" y="820"/>
                </a:lnTo>
                <a:lnTo>
                  <a:pt x="79" y="801"/>
                </a:lnTo>
                <a:lnTo>
                  <a:pt x="79" y="782"/>
                </a:lnTo>
                <a:lnTo>
                  <a:pt x="79" y="762"/>
                </a:lnTo>
                <a:lnTo>
                  <a:pt x="79" y="741"/>
                </a:lnTo>
                <a:lnTo>
                  <a:pt x="77" y="718"/>
                </a:lnTo>
                <a:lnTo>
                  <a:pt x="77" y="695"/>
                </a:lnTo>
                <a:lnTo>
                  <a:pt x="77" y="672"/>
                </a:lnTo>
                <a:lnTo>
                  <a:pt x="77" y="647"/>
                </a:lnTo>
                <a:lnTo>
                  <a:pt x="77" y="622"/>
                </a:lnTo>
                <a:lnTo>
                  <a:pt x="77" y="595"/>
                </a:lnTo>
                <a:lnTo>
                  <a:pt x="77" y="569"/>
                </a:lnTo>
                <a:lnTo>
                  <a:pt x="77" y="540"/>
                </a:lnTo>
                <a:lnTo>
                  <a:pt x="77" y="511"/>
                </a:lnTo>
                <a:lnTo>
                  <a:pt x="75" y="484"/>
                </a:lnTo>
                <a:lnTo>
                  <a:pt x="75" y="457"/>
                </a:lnTo>
                <a:lnTo>
                  <a:pt x="75" y="432"/>
                </a:lnTo>
                <a:lnTo>
                  <a:pt x="75" y="407"/>
                </a:lnTo>
                <a:lnTo>
                  <a:pt x="75" y="382"/>
                </a:lnTo>
                <a:lnTo>
                  <a:pt x="75" y="359"/>
                </a:lnTo>
                <a:lnTo>
                  <a:pt x="73" y="336"/>
                </a:lnTo>
                <a:lnTo>
                  <a:pt x="73" y="315"/>
                </a:lnTo>
                <a:lnTo>
                  <a:pt x="73" y="296"/>
                </a:lnTo>
                <a:lnTo>
                  <a:pt x="71" y="275"/>
                </a:lnTo>
                <a:lnTo>
                  <a:pt x="71" y="258"/>
                </a:lnTo>
                <a:lnTo>
                  <a:pt x="69" y="238"/>
                </a:lnTo>
                <a:lnTo>
                  <a:pt x="69" y="221"/>
                </a:lnTo>
                <a:lnTo>
                  <a:pt x="67" y="206"/>
                </a:lnTo>
                <a:lnTo>
                  <a:pt x="67" y="190"/>
                </a:lnTo>
                <a:lnTo>
                  <a:pt x="66" y="175"/>
                </a:lnTo>
                <a:lnTo>
                  <a:pt x="66" y="162"/>
                </a:lnTo>
                <a:lnTo>
                  <a:pt x="64" y="150"/>
                </a:lnTo>
                <a:lnTo>
                  <a:pt x="62" y="137"/>
                </a:lnTo>
                <a:lnTo>
                  <a:pt x="62" y="127"/>
                </a:lnTo>
                <a:lnTo>
                  <a:pt x="60" y="116"/>
                </a:lnTo>
                <a:lnTo>
                  <a:pt x="58" y="108"/>
                </a:lnTo>
                <a:lnTo>
                  <a:pt x="56" y="98"/>
                </a:lnTo>
                <a:lnTo>
                  <a:pt x="54" y="91"/>
                </a:lnTo>
                <a:lnTo>
                  <a:pt x="52" y="85"/>
                </a:lnTo>
                <a:lnTo>
                  <a:pt x="50" y="79"/>
                </a:lnTo>
                <a:lnTo>
                  <a:pt x="48" y="73"/>
                </a:lnTo>
                <a:lnTo>
                  <a:pt x="46" y="70"/>
                </a:lnTo>
                <a:lnTo>
                  <a:pt x="44" y="66"/>
                </a:lnTo>
                <a:lnTo>
                  <a:pt x="43" y="64"/>
                </a:lnTo>
                <a:lnTo>
                  <a:pt x="41" y="62"/>
                </a:lnTo>
                <a:lnTo>
                  <a:pt x="35" y="60"/>
                </a:lnTo>
                <a:lnTo>
                  <a:pt x="29" y="58"/>
                </a:lnTo>
                <a:lnTo>
                  <a:pt x="23" y="54"/>
                </a:lnTo>
                <a:lnTo>
                  <a:pt x="19" y="52"/>
                </a:lnTo>
                <a:lnTo>
                  <a:pt x="14" y="48"/>
                </a:lnTo>
                <a:lnTo>
                  <a:pt x="12" y="47"/>
                </a:lnTo>
                <a:lnTo>
                  <a:pt x="8" y="43"/>
                </a:lnTo>
                <a:lnTo>
                  <a:pt x="6" y="39"/>
                </a:lnTo>
                <a:lnTo>
                  <a:pt x="4" y="37"/>
                </a:lnTo>
                <a:lnTo>
                  <a:pt x="2" y="33"/>
                </a:lnTo>
                <a:lnTo>
                  <a:pt x="0" y="29"/>
                </a:lnTo>
                <a:lnTo>
                  <a:pt x="0" y="27"/>
                </a:lnTo>
                <a:lnTo>
                  <a:pt x="0" y="23"/>
                </a:lnTo>
                <a:lnTo>
                  <a:pt x="2" y="22"/>
                </a:lnTo>
                <a:lnTo>
                  <a:pt x="4" y="20"/>
                </a:lnTo>
                <a:lnTo>
                  <a:pt x="6" y="18"/>
                </a:lnTo>
                <a:lnTo>
                  <a:pt x="10" y="12"/>
                </a:lnTo>
                <a:lnTo>
                  <a:pt x="18" y="8"/>
                </a:lnTo>
                <a:lnTo>
                  <a:pt x="21" y="6"/>
                </a:lnTo>
                <a:lnTo>
                  <a:pt x="25" y="4"/>
                </a:lnTo>
                <a:lnTo>
                  <a:pt x="29" y="4"/>
                </a:lnTo>
                <a:lnTo>
                  <a:pt x="35" y="2"/>
                </a:lnTo>
                <a:lnTo>
                  <a:pt x="41" y="2"/>
                </a:lnTo>
                <a:lnTo>
                  <a:pt x="46" y="0"/>
                </a:lnTo>
                <a:lnTo>
                  <a:pt x="54" y="0"/>
                </a:lnTo>
                <a:lnTo>
                  <a:pt x="62" y="0"/>
                </a:lnTo>
                <a:lnTo>
                  <a:pt x="69" y="0"/>
                </a:lnTo>
                <a:lnTo>
                  <a:pt x="79" y="2"/>
                </a:lnTo>
                <a:lnTo>
                  <a:pt x="89" y="4"/>
                </a:lnTo>
                <a:lnTo>
                  <a:pt x="100" y="6"/>
                </a:lnTo>
                <a:lnTo>
                  <a:pt x="110" y="8"/>
                </a:lnTo>
                <a:lnTo>
                  <a:pt x="121" y="10"/>
                </a:lnTo>
                <a:lnTo>
                  <a:pt x="131" y="12"/>
                </a:lnTo>
                <a:lnTo>
                  <a:pt x="140" y="16"/>
                </a:lnTo>
                <a:lnTo>
                  <a:pt x="148" y="18"/>
                </a:lnTo>
                <a:lnTo>
                  <a:pt x="158" y="22"/>
                </a:lnTo>
                <a:lnTo>
                  <a:pt x="171" y="27"/>
                </a:lnTo>
                <a:lnTo>
                  <a:pt x="186" y="35"/>
                </a:lnTo>
                <a:lnTo>
                  <a:pt x="198" y="41"/>
                </a:lnTo>
                <a:lnTo>
                  <a:pt x="208" y="47"/>
                </a:lnTo>
                <a:lnTo>
                  <a:pt x="217" y="50"/>
                </a:lnTo>
                <a:lnTo>
                  <a:pt x="221" y="60"/>
                </a:lnTo>
                <a:lnTo>
                  <a:pt x="225" y="68"/>
                </a:lnTo>
                <a:lnTo>
                  <a:pt x="225" y="77"/>
                </a:lnTo>
                <a:lnTo>
                  <a:pt x="227" y="85"/>
                </a:lnTo>
                <a:lnTo>
                  <a:pt x="225" y="94"/>
                </a:lnTo>
                <a:lnTo>
                  <a:pt x="225" y="102"/>
                </a:lnTo>
                <a:lnTo>
                  <a:pt x="221" y="110"/>
                </a:lnTo>
                <a:lnTo>
                  <a:pt x="217" y="119"/>
                </a:lnTo>
                <a:lnTo>
                  <a:pt x="215" y="123"/>
                </a:lnTo>
                <a:lnTo>
                  <a:pt x="213" y="129"/>
                </a:lnTo>
                <a:lnTo>
                  <a:pt x="211" y="135"/>
                </a:lnTo>
                <a:lnTo>
                  <a:pt x="210" y="142"/>
                </a:lnTo>
                <a:lnTo>
                  <a:pt x="208" y="150"/>
                </a:lnTo>
                <a:lnTo>
                  <a:pt x="204" y="158"/>
                </a:lnTo>
                <a:lnTo>
                  <a:pt x="202" y="167"/>
                </a:lnTo>
                <a:lnTo>
                  <a:pt x="200" y="177"/>
                </a:lnTo>
                <a:lnTo>
                  <a:pt x="198" y="189"/>
                </a:lnTo>
                <a:lnTo>
                  <a:pt x="196" y="198"/>
                </a:lnTo>
                <a:lnTo>
                  <a:pt x="194" y="212"/>
                </a:lnTo>
                <a:lnTo>
                  <a:pt x="190" y="223"/>
                </a:lnTo>
                <a:lnTo>
                  <a:pt x="188" y="237"/>
                </a:lnTo>
                <a:lnTo>
                  <a:pt x="186" y="250"/>
                </a:lnTo>
                <a:lnTo>
                  <a:pt x="185" y="263"/>
                </a:lnTo>
                <a:lnTo>
                  <a:pt x="183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279"/>
          <p:cNvSpPr/>
          <p:nvPr/>
        </p:nvSpPr>
        <p:spPr>
          <a:xfrm>
            <a:off x="6865920" y="3056040"/>
            <a:ext cx="630360" cy="176040"/>
          </a:xfrm>
          <a:custGeom>
            <a:avLst/>
            <a:gdLst/>
            <a:ahLst/>
            <a:rect l="l" t="t" r="r" b="b"/>
            <a:pathLst>
              <a:path w="795" h="221">
                <a:moveTo>
                  <a:pt x="630" y="136"/>
                </a:moveTo>
                <a:lnTo>
                  <a:pt x="593" y="148"/>
                </a:lnTo>
                <a:lnTo>
                  <a:pt x="557" y="159"/>
                </a:lnTo>
                <a:lnTo>
                  <a:pt x="518" y="169"/>
                </a:lnTo>
                <a:lnTo>
                  <a:pt x="478" y="178"/>
                </a:lnTo>
                <a:lnTo>
                  <a:pt x="436" y="186"/>
                </a:lnTo>
                <a:lnTo>
                  <a:pt x="415" y="190"/>
                </a:lnTo>
                <a:lnTo>
                  <a:pt x="392" y="194"/>
                </a:lnTo>
                <a:lnTo>
                  <a:pt x="371" y="196"/>
                </a:lnTo>
                <a:lnTo>
                  <a:pt x="348" y="199"/>
                </a:lnTo>
                <a:lnTo>
                  <a:pt x="325" y="201"/>
                </a:lnTo>
                <a:lnTo>
                  <a:pt x="300" y="203"/>
                </a:lnTo>
                <a:lnTo>
                  <a:pt x="277" y="207"/>
                </a:lnTo>
                <a:lnTo>
                  <a:pt x="254" y="211"/>
                </a:lnTo>
                <a:lnTo>
                  <a:pt x="232" y="215"/>
                </a:lnTo>
                <a:lnTo>
                  <a:pt x="211" y="217"/>
                </a:lnTo>
                <a:lnTo>
                  <a:pt x="192" y="219"/>
                </a:lnTo>
                <a:lnTo>
                  <a:pt x="173" y="221"/>
                </a:lnTo>
                <a:lnTo>
                  <a:pt x="156" y="221"/>
                </a:lnTo>
                <a:lnTo>
                  <a:pt x="140" y="221"/>
                </a:lnTo>
                <a:lnTo>
                  <a:pt x="125" y="221"/>
                </a:lnTo>
                <a:lnTo>
                  <a:pt x="112" y="221"/>
                </a:lnTo>
                <a:lnTo>
                  <a:pt x="98" y="219"/>
                </a:lnTo>
                <a:lnTo>
                  <a:pt x="87" y="217"/>
                </a:lnTo>
                <a:lnTo>
                  <a:pt x="77" y="215"/>
                </a:lnTo>
                <a:lnTo>
                  <a:pt x="67" y="211"/>
                </a:lnTo>
                <a:lnTo>
                  <a:pt x="60" y="207"/>
                </a:lnTo>
                <a:lnTo>
                  <a:pt x="52" y="203"/>
                </a:lnTo>
                <a:lnTo>
                  <a:pt x="42" y="201"/>
                </a:lnTo>
                <a:lnTo>
                  <a:pt x="35" y="199"/>
                </a:lnTo>
                <a:lnTo>
                  <a:pt x="29" y="196"/>
                </a:lnTo>
                <a:lnTo>
                  <a:pt x="23" y="194"/>
                </a:lnTo>
                <a:lnTo>
                  <a:pt x="17" y="190"/>
                </a:lnTo>
                <a:lnTo>
                  <a:pt x="14" y="188"/>
                </a:lnTo>
                <a:lnTo>
                  <a:pt x="10" y="184"/>
                </a:lnTo>
                <a:lnTo>
                  <a:pt x="6" y="180"/>
                </a:lnTo>
                <a:lnTo>
                  <a:pt x="4" y="178"/>
                </a:lnTo>
                <a:lnTo>
                  <a:pt x="2" y="174"/>
                </a:lnTo>
                <a:lnTo>
                  <a:pt x="0" y="171"/>
                </a:lnTo>
                <a:lnTo>
                  <a:pt x="0" y="169"/>
                </a:lnTo>
                <a:lnTo>
                  <a:pt x="0" y="165"/>
                </a:lnTo>
                <a:lnTo>
                  <a:pt x="2" y="163"/>
                </a:lnTo>
                <a:lnTo>
                  <a:pt x="2" y="161"/>
                </a:lnTo>
                <a:lnTo>
                  <a:pt x="4" y="159"/>
                </a:lnTo>
                <a:lnTo>
                  <a:pt x="6" y="157"/>
                </a:lnTo>
                <a:lnTo>
                  <a:pt x="8" y="155"/>
                </a:lnTo>
                <a:lnTo>
                  <a:pt x="10" y="155"/>
                </a:lnTo>
                <a:lnTo>
                  <a:pt x="14" y="153"/>
                </a:lnTo>
                <a:lnTo>
                  <a:pt x="17" y="151"/>
                </a:lnTo>
                <a:lnTo>
                  <a:pt x="21" y="151"/>
                </a:lnTo>
                <a:lnTo>
                  <a:pt x="27" y="150"/>
                </a:lnTo>
                <a:lnTo>
                  <a:pt x="31" y="148"/>
                </a:lnTo>
                <a:lnTo>
                  <a:pt x="37" y="146"/>
                </a:lnTo>
                <a:lnTo>
                  <a:pt x="44" y="144"/>
                </a:lnTo>
                <a:lnTo>
                  <a:pt x="50" y="142"/>
                </a:lnTo>
                <a:lnTo>
                  <a:pt x="58" y="140"/>
                </a:lnTo>
                <a:lnTo>
                  <a:pt x="67" y="138"/>
                </a:lnTo>
                <a:lnTo>
                  <a:pt x="75" y="136"/>
                </a:lnTo>
                <a:lnTo>
                  <a:pt x="85" y="132"/>
                </a:lnTo>
                <a:lnTo>
                  <a:pt x="94" y="130"/>
                </a:lnTo>
                <a:lnTo>
                  <a:pt x="106" y="126"/>
                </a:lnTo>
                <a:lnTo>
                  <a:pt x="117" y="125"/>
                </a:lnTo>
                <a:lnTo>
                  <a:pt x="129" y="121"/>
                </a:lnTo>
                <a:lnTo>
                  <a:pt x="140" y="119"/>
                </a:lnTo>
                <a:lnTo>
                  <a:pt x="154" y="115"/>
                </a:lnTo>
                <a:lnTo>
                  <a:pt x="167" y="111"/>
                </a:lnTo>
                <a:lnTo>
                  <a:pt x="181" y="107"/>
                </a:lnTo>
                <a:lnTo>
                  <a:pt x="196" y="103"/>
                </a:lnTo>
                <a:lnTo>
                  <a:pt x="211" y="100"/>
                </a:lnTo>
                <a:lnTo>
                  <a:pt x="227" y="96"/>
                </a:lnTo>
                <a:lnTo>
                  <a:pt x="244" y="92"/>
                </a:lnTo>
                <a:lnTo>
                  <a:pt x="259" y="88"/>
                </a:lnTo>
                <a:lnTo>
                  <a:pt x="279" y="82"/>
                </a:lnTo>
                <a:lnTo>
                  <a:pt x="296" y="79"/>
                </a:lnTo>
                <a:lnTo>
                  <a:pt x="315" y="73"/>
                </a:lnTo>
                <a:lnTo>
                  <a:pt x="334" y="67"/>
                </a:lnTo>
                <a:lnTo>
                  <a:pt x="353" y="63"/>
                </a:lnTo>
                <a:lnTo>
                  <a:pt x="371" y="59"/>
                </a:lnTo>
                <a:lnTo>
                  <a:pt x="390" y="55"/>
                </a:lnTo>
                <a:lnTo>
                  <a:pt x="405" y="52"/>
                </a:lnTo>
                <a:lnTo>
                  <a:pt x="422" y="48"/>
                </a:lnTo>
                <a:lnTo>
                  <a:pt x="438" y="44"/>
                </a:lnTo>
                <a:lnTo>
                  <a:pt x="455" y="40"/>
                </a:lnTo>
                <a:lnTo>
                  <a:pt x="469" y="36"/>
                </a:lnTo>
                <a:lnTo>
                  <a:pt x="484" y="34"/>
                </a:lnTo>
                <a:lnTo>
                  <a:pt x="497" y="31"/>
                </a:lnTo>
                <a:lnTo>
                  <a:pt x="513" y="29"/>
                </a:lnTo>
                <a:lnTo>
                  <a:pt x="524" y="25"/>
                </a:lnTo>
                <a:lnTo>
                  <a:pt x="538" y="23"/>
                </a:lnTo>
                <a:lnTo>
                  <a:pt x="549" y="21"/>
                </a:lnTo>
                <a:lnTo>
                  <a:pt x="561" y="17"/>
                </a:lnTo>
                <a:lnTo>
                  <a:pt x="572" y="15"/>
                </a:lnTo>
                <a:lnTo>
                  <a:pt x="582" y="13"/>
                </a:lnTo>
                <a:lnTo>
                  <a:pt x="593" y="11"/>
                </a:lnTo>
                <a:lnTo>
                  <a:pt x="603" y="9"/>
                </a:lnTo>
                <a:lnTo>
                  <a:pt x="611" y="7"/>
                </a:lnTo>
                <a:lnTo>
                  <a:pt x="620" y="7"/>
                </a:lnTo>
                <a:lnTo>
                  <a:pt x="628" y="6"/>
                </a:lnTo>
                <a:lnTo>
                  <a:pt x="636" y="4"/>
                </a:lnTo>
                <a:lnTo>
                  <a:pt x="641" y="4"/>
                </a:lnTo>
                <a:lnTo>
                  <a:pt x="647" y="2"/>
                </a:lnTo>
                <a:lnTo>
                  <a:pt x="653" y="2"/>
                </a:lnTo>
                <a:lnTo>
                  <a:pt x="659" y="0"/>
                </a:lnTo>
                <a:lnTo>
                  <a:pt x="664" y="0"/>
                </a:lnTo>
                <a:lnTo>
                  <a:pt x="668" y="0"/>
                </a:lnTo>
                <a:lnTo>
                  <a:pt x="672" y="0"/>
                </a:lnTo>
                <a:lnTo>
                  <a:pt x="674" y="0"/>
                </a:lnTo>
                <a:lnTo>
                  <a:pt x="678" y="0"/>
                </a:lnTo>
                <a:lnTo>
                  <a:pt x="682" y="0"/>
                </a:lnTo>
                <a:lnTo>
                  <a:pt x="687" y="0"/>
                </a:lnTo>
                <a:lnTo>
                  <a:pt x="695" y="0"/>
                </a:lnTo>
                <a:lnTo>
                  <a:pt x="703" y="0"/>
                </a:lnTo>
                <a:lnTo>
                  <a:pt x="712" y="2"/>
                </a:lnTo>
                <a:lnTo>
                  <a:pt x="724" y="4"/>
                </a:lnTo>
                <a:lnTo>
                  <a:pt x="735" y="7"/>
                </a:lnTo>
                <a:lnTo>
                  <a:pt x="747" y="11"/>
                </a:lnTo>
                <a:lnTo>
                  <a:pt x="755" y="13"/>
                </a:lnTo>
                <a:lnTo>
                  <a:pt x="760" y="15"/>
                </a:lnTo>
                <a:lnTo>
                  <a:pt x="764" y="17"/>
                </a:lnTo>
                <a:lnTo>
                  <a:pt x="770" y="21"/>
                </a:lnTo>
                <a:lnTo>
                  <a:pt x="774" y="23"/>
                </a:lnTo>
                <a:lnTo>
                  <a:pt x="778" y="27"/>
                </a:lnTo>
                <a:lnTo>
                  <a:pt x="785" y="32"/>
                </a:lnTo>
                <a:lnTo>
                  <a:pt x="789" y="40"/>
                </a:lnTo>
                <a:lnTo>
                  <a:pt x="793" y="46"/>
                </a:lnTo>
                <a:lnTo>
                  <a:pt x="795" y="52"/>
                </a:lnTo>
                <a:lnTo>
                  <a:pt x="795" y="55"/>
                </a:lnTo>
                <a:lnTo>
                  <a:pt x="793" y="59"/>
                </a:lnTo>
                <a:lnTo>
                  <a:pt x="789" y="61"/>
                </a:lnTo>
                <a:lnTo>
                  <a:pt x="783" y="65"/>
                </a:lnTo>
                <a:lnTo>
                  <a:pt x="780" y="69"/>
                </a:lnTo>
                <a:lnTo>
                  <a:pt x="772" y="73"/>
                </a:lnTo>
                <a:lnTo>
                  <a:pt x="766" y="77"/>
                </a:lnTo>
                <a:lnTo>
                  <a:pt x="756" y="82"/>
                </a:lnTo>
                <a:lnTo>
                  <a:pt x="747" y="86"/>
                </a:lnTo>
                <a:lnTo>
                  <a:pt x="737" y="92"/>
                </a:lnTo>
                <a:lnTo>
                  <a:pt x="726" y="98"/>
                </a:lnTo>
                <a:lnTo>
                  <a:pt x="712" y="103"/>
                </a:lnTo>
                <a:lnTo>
                  <a:pt x="699" y="109"/>
                </a:lnTo>
                <a:lnTo>
                  <a:pt x="684" y="117"/>
                </a:lnTo>
                <a:lnTo>
                  <a:pt x="666" y="123"/>
                </a:lnTo>
                <a:lnTo>
                  <a:pt x="649" y="128"/>
                </a:lnTo>
                <a:lnTo>
                  <a:pt x="630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280"/>
          <p:cNvSpPr/>
          <p:nvPr/>
        </p:nvSpPr>
        <p:spPr>
          <a:xfrm>
            <a:off x="6431040" y="3317760"/>
            <a:ext cx="347760" cy="317520"/>
          </a:xfrm>
          <a:custGeom>
            <a:avLst/>
            <a:gdLst/>
            <a:ahLst/>
            <a:rect l="l" t="t" r="r" b="b"/>
            <a:pathLst>
              <a:path w="440" h="399">
                <a:moveTo>
                  <a:pt x="424" y="397"/>
                </a:moveTo>
                <a:lnTo>
                  <a:pt x="421" y="399"/>
                </a:lnTo>
                <a:lnTo>
                  <a:pt x="419" y="399"/>
                </a:lnTo>
                <a:lnTo>
                  <a:pt x="415" y="399"/>
                </a:lnTo>
                <a:lnTo>
                  <a:pt x="411" y="397"/>
                </a:lnTo>
                <a:lnTo>
                  <a:pt x="405" y="395"/>
                </a:lnTo>
                <a:lnTo>
                  <a:pt x="399" y="392"/>
                </a:lnTo>
                <a:lnTo>
                  <a:pt x="394" y="386"/>
                </a:lnTo>
                <a:lnTo>
                  <a:pt x="386" y="380"/>
                </a:lnTo>
                <a:lnTo>
                  <a:pt x="380" y="374"/>
                </a:lnTo>
                <a:lnTo>
                  <a:pt x="371" y="365"/>
                </a:lnTo>
                <a:lnTo>
                  <a:pt x="361" y="357"/>
                </a:lnTo>
                <a:lnTo>
                  <a:pt x="351" y="345"/>
                </a:lnTo>
                <a:lnTo>
                  <a:pt x="342" y="336"/>
                </a:lnTo>
                <a:lnTo>
                  <a:pt x="330" y="322"/>
                </a:lnTo>
                <a:lnTo>
                  <a:pt x="319" y="309"/>
                </a:lnTo>
                <a:lnTo>
                  <a:pt x="305" y="296"/>
                </a:lnTo>
                <a:lnTo>
                  <a:pt x="275" y="265"/>
                </a:lnTo>
                <a:lnTo>
                  <a:pt x="242" y="232"/>
                </a:lnTo>
                <a:lnTo>
                  <a:pt x="225" y="217"/>
                </a:lnTo>
                <a:lnTo>
                  <a:pt x="208" y="200"/>
                </a:lnTo>
                <a:lnTo>
                  <a:pt x="188" y="182"/>
                </a:lnTo>
                <a:lnTo>
                  <a:pt x="171" y="165"/>
                </a:lnTo>
                <a:lnTo>
                  <a:pt x="152" y="146"/>
                </a:lnTo>
                <a:lnTo>
                  <a:pt x="131" y="127"/>
                </a:lnTo>
                <a:lnTo>
                  <a:pt x="112" y="107"/>
                </a:lnTo>
                <a:lnTo>
                  <a:pt x="90" y="86"/>
                </a:lnTo>
                <a:lnTo>
                  <a:pt x="69" y="67"/>
                </a:lnTo>
                <a:lnTo>
                  <a:pt x="46" y="44"/>
                </a:lnTo>
                <a:lnTo>
                  <a:pt x="23" y="23"/>
                </a:lnTo>
                <a:lnTo>
                  <a:pt x="0" y="0"/>
                </a:lnTo>
                <a:lnTo>
                  <a:pt x="6" y="0"/>
                </a:lnTo>
                <a:lnTo>
                  <a:pt x="16" y="0"/>
                </a:lnTo>
                <a:lnTo>
                  <a:pt x="23" y="2"/>
                </a:lnTo>
                <a:lnTo>
                  <a:pt x="35" y="6"/>
                </a:lnTo>
                <a:lnTo>
                  <a:pt x="46" y="10"/>
                </a:lnTo>
                <a:lnTo>
                  <a:pt x="58" y="13"/>
                </a:lnTo>
                <a:lnTo>
                  <a:pt x="71" y="19"/>
                </a:lnTo>
                <a:lnTo>
                  <a:pt x="87" y="25"/>
                </a:lnTo>
                <a:lnTo>
                  <a:pt x="102" y="33"/>
                </a:lnTo>
                <a:lnTo>
                  <a:pt x="119" y="42"/>
                </a:lnTo>
                <a:lnTo>
                  <a:pt x="137" y="50"/>
                </a:lnTo>
                <a:lnTo>
                  <a:pt x="154" y="61"/>
                </a:lnTo>
                <a:lnTo>
                  <a:pt x="173" y="73"/>
                </a:lnTo>
                <a:lnTo>
                  <a:pt x="192" y="84"/>
                </a:lnTo>
                <a:lnTo>
                  <a:pt x="213" y="98"/>
                </a:lnTo>
                <a:lnTo>
                  <a:pt x="236" y="113"/>
                </a:lnTo>
                <a:lnTo>
                  <a:pt x="257" y="129"/>
                </a:lnTo>
                <a:lnTo>
                  <a:pt x="277" y="142"/>
                </a:lnTo>
                <a:lnTo>
                  <a:pt x="296" y="157"/>
                </a:lnTo>
                <a:lnTo>
                  <a:pt x="315" y="171"/>
                </a:lnTo>
                <a:lnTo>
                  <a:pt x="332" y="184"/>
                </a:lnTo>
                <a:lnTo>
                  <a:pt x="348" y="198"/>
                </a:lnTo>
                <a:lnTo>
                  <a:pt x="361" y="209"/>
                </a:lnTo>
                <a:lnTo>
                  <a:pt x="375" y="221"/>
                </a:lnTo>
                <a:lnTo>
                  <a:pt x="388" y="232"/>
                </a:lnTo>
                <a:lnTo>
                  <a:pt x="398" y="244"/>
                </a:lnTo>
                <a:lnTo>
                  <a:pt x="407" y="253"/>
                </a:lnTo>
                <a:lnTo>
                  <a:pt x="417" y="263"/>
                </a:lnTo>
                <a:lnTo>
                  <a:pt x="423" y="273"/>
                </a:lnTo>
                <a:lnTo>
                  <a:pt x="428" y="280"/>
                </a:lnTo>
                <a:lnTo>
                  <a:pt x="432" y="288"/>
                </a:lnTo>
                <a:lnTo>
                  <a:pt x="436" y="296"/>
                </a:lnTo>
                <a:lnTo>
                  <a:pt x="438" y="303"/>
                </a:lnTo>
                <a:lnTo>
                  <a:pt x="440" y="311"/>
                </a:lnTo>
                <a:lnTo>
                  <a:pt x="440" y="319"/>
                </a:lnTo>
                <a:lnTo>
                  <a:pt x="440" y="326"/>
                </a:lnTo>
                <a:lnTo>
                  <a:pt x="440" y="342"/>
                </a:lnTo>
                <a:lnTo>
                  <a:pt x="438" y="355"/>
                </a:lnTo>
                <a:lnTo>
                  <a:pt x="436" y="367"/>
                </a:lnTo>
                <a:lnTo>
                  <a:pt x="432" y="378"/>
                </a:lnTo>
                <a:lnTo>
                  <a:pt x="428" y="388"/>
                </a:lnTo>
                <a:lnTo>
                  <a:pt x="424" y="3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281"/>
          <p:cNvSpPr/>
          <p:nvPr/>
        </p:nvSpPr>
        <p:spPr>
          <a:xfrm>
            <a:off x="6427800" y="3273480"/>
            <a:ext cx="357120" cy="387360"/>
          </a:xfrm>
          <a:custGeom>
            <a:avLst/>
            <a:gdLst/>
            <a:ahLst/>
            <a:rect l="l" t="t" r="r" b="b"/>
            <a:pathLst>
              <a:path w="451" h="490">
                <a:moveTo>
                  <a:pt x="87" y="377"/>
                </a:moveTo>
                <a:lnTo>
                  <a:pt x="108" y="354"/>
                </a:lnTo>
                <a:lnTo>
                  <a:pt x="129" y="331"/>
                </a:lnTo>
                <a:lnTo>
                  <a:pt x="152" y="307"/>
                </a:lnTo>
                <a:lnTo>
                  <a:pt x="173" y="283"/>
                </a:lnTo>
                <a:lnTo>
                  <a:pt x="194" y="258"/>
                </a:lnTo>
                <a:lnTo>
                  <a:pt x="213" y="233"/>
                </a:lnTo>
                <a:lnTo>
                  <a:pt x="233" y="208"/>
                </a:lnTo>
                <a:lnTo>
                  <a:pt x="252" y="183"/>
                </a:lnTo>
                <a:lnTo>
                  <a:pt x="260" y="169"/>
                </a:lnTo>
                <a:lnTo>
                  <a:pt x="267" y="158"/>
                </a:lnTo>
                <a:lnTo>
                  <a:pt x="273" y="146"/>
                </a:lnTo>
                <a:lnTo>
                  <a:pt x="279" y="135"/>
                </a:lnTo>
                <a:lnTo>
                  <a:pt x="284" y="125"/>
                </a:lnTo>
                <a:lnTo>
                  <a:pt x="290" y="116"/>
                </a:lnTo>
                <a:lnTo>
                  <a:pt x="294" y="106"/>
                </a:lnTo>
                <a:lnTo>
                  <a:pt x="296" y="98"/>
                </a:lnTo>
                <a:lnTo>
                  <a:pt x="300" y="91"/>
                </a:lnTo>
                <a:lnTo>
                  <a:pt x="300" y="83"/>
                </a:lnTo>
                <a:lnTo>
                  <a:pt x="302" y="77"/>
                </a:lnTo>
                <a:lnTo>
                  <a:pt x="302" y="71"/>
                </a:lnTo>
                <a:lnTo>
                  <a:pt x="302" y="68"/>
                </a:lnTo>
                <a:lnTo>
                  <a:pt x="302" y="64"/>
                </a:lnTo>
                <a:lnTo>
                  <a:pt x="300" y="60"/>
                </a:lnTo>
                <a:lnTo>
                  <a:pt x="298" y="58"/>
                </a:lnTo>
                <a:lnTo>
                  <a:pt x="294" y="54"/>
                </a:lnTo>
                <a:lnTo>
                  <a:pt x="290" y="52"/>
                </a:lnTo>
                <a:lnTo>
                  <a:pt x="288" y="50"/>
                </a:lnTo>
                <a:lnTo>
                  <a:pt x="284" y="46"/>
                </a:lnTo>
                <a:lnTo>
                  <a:pt x="283" y="45"/>
                </a:lnTo>
                <a:lnTo>
                  <a:pt x="281" y="41"/>
                </a:lnTo>
                <a:lnTo>
                  <a:pt x="279" y="35"/>
                </a:lnTo>
                <a:lnTo>
                  <a:pt x="279" y="27"/>
                </a:lnTo>
                <a:lnTo>
                  <a:pt x="281" y="21"/>
                </a:lnTo>
                <a:lnTo>
                  <a:pt x="283" y="16"/>
                </a:lnTo>
                <a:lnTo>
                  <a:pt x="286" y="12"/>
                </a:lnTo>
                <a:lnTo>
                  <a:pt x="290" y="8"/>
                </a:lnTo>
                <a:lnTo>
                  <a:pt x="296" y="4"/>
                </a:lnTo>
                <a:lnTo>
                  <a:pt x="302" y="2"/>
                </a:lnTo>
                <a:lnTo>
                  <a:pt x="308" y="2"/>
                </a:lnTo>
                <a:lnTo>
                  <a:pt x="313" y="0"/>
                </a:lnTo>
                <a:lnTo>
                  <a:pt x="323" y="0"/>
                </a:lnTo>
                <a:lnTo>
                  <a:pt x="329" y="0"/>
                </a:lnTo>
                <a:lnTo>
                  <a:pt x="332" y="0"/>
                </a:lnTo>
                <a:lnTo>
                  <a:pt x="338" y="0"/>
                </a:lnTo>
                <a:lnTo>
                  <a:pt x="346" y="0"/>
                </a:lnTo>
                <a:lnTo>
                  <a:pt x="354" y="0"/>
                </a:lnTo>
                <a:lnTo>
                  <a:pt x="363" y="2"/>
                </a:lnTo>
                <a:lnTo>
                  <a:pt x="373" y="4"/>
                </a:lnTo>
                <a:lnTo>
                  <a:pt x="380" y="8"/>
                </a:lnTo>
                <a:lnTo>
                  <a:pt x="390" y="14"/>
                </a:lnTo>
                <a:lnTo>
                  <a:pt x="398" y="20"/>
                </a:lnTo>
                <a:lnTo>
                  <a:pt x="407" y="25"/>
                </a:lnTo>
                <a:lnTo>
                  <a:pt x="417" y="35"/>
                </a:lnTo>
                <a:lnTo>
                  <a:pt x="425" y="50"/>
                </a:lnTo>
                <a:lnTo>
                  <a:pt x="428" y="60"/>
                </a:lnTo>
                <a:lnTo>
                  <a:pt x="434" y="68"/>
                </a:lnTo>
                <a:lnTo>
                  <a:pt x="438" y="73"/>
                </a:lnTo>
                <a:lnTo>
                  <a:pt x="442" y="81"/>
                </a:lnTo>
                <a:lnTo>
                  <a:pt x="448" y="87"/>
                </a:lnTo>
                <a:lnTo>
                  <a:pt x="451" y="91"/>
                </a:lnTo>
                <a:lnTo>
                  <a:pt x="451" y="96"/>
                </a:lnTo>
                <a:lnTo>
                  <a:pt x="450" y="102"/>
                </a:lnTo>
                <a:lnTo>
                  <a:pt x="448" y="108"/>
                </a:lnTo>
                <a:lnTo>
                  <a:pt x="444" y="116"/>
                </a:lnTo>
                <a:lnTo>
                  <a:pt x="440" y="123"/>
                </a:lnTo>
                <a:lnTo>
                  <a:pt x="436" y="131"/>
                </a:lnTo>
                <a:lnTo>
                  <a:pt x="428" y="148"/>
                </a:lnTo>
                <a:lnTo>
                  <a:pt x="419" y="162"/>
                </a:lnTo>
                <a:lnTo>
                  <a:pt x="407" y="175"/>
                </a:lnTo>
                <a:lnTo>
                  <a:pt x="396" y="190"/>
                </a:lnTo>
                <a:lnTo>
                  <a:pt x="382" y="208"/>
                </a:lnTo>
                <a:lnTo>
                  <a:pt x="367" y="225"/>
                </a:lnTo>
                <a:lnTo>
                  <a:pt x="350" y="244"/>
                </a:lnTo>
                <a:lnTo>
                  <a:pt x="340" y="254"/>
                </a:lnTo>
                <a:lnTo>
                  <a:pt x="331" y="263"/>
                </a:lnTo>
                <a:lnTo>
                  <a:pt x="321" y="273"/>
                </a:lnTo>
                <a:lnTo>
                  <a:pt x="309" y="284"/>
                </a:lnTo>
                <a:lnTo>
                  <a:pt x="288" y="306"/>
                </a:lnTo>
                <a:lnTo>
                  <a:pt x="263" y="327"/>
                </a:lnTo>
                <a:lnTo>
                  <a:pt x="238" y="348"/>
                </a:lnTo>
                <a:lnTo>
                  <a:pt x="213" y="369"/>
                </a:lnTo>
                <a:lnTo>
                  <a:pt x="188" y="388"/>
                </a:lnTo>
                <a:lnTo>
                  <a:pt x="162" y="407"/>
                </a:lnTo>
                <a:lnTo>
                  <a:pt x="137" y="427"/>
                </a:lnTo>
                <a:lnTo>
                  <a:pt x="110" y="444"/>
                </a:lnTo>
                <a:lnTo>
                  <a:pt x="94" y="451"/>
                </a:lnTo>
                <a:lnTo>
                  <a:pt x="81" y="459"/>
                </a:lnTo>
                <a:lnTo>
                  <a:pt x="68" y="467"/>
                </a:lnTo>
                <a:lnTo>
                  <a:pt x="56" y="473"/>
                </a:lnTo>
                <a:lnTo>
                  <a:pt x="46" y="476"/>
                </a:lnTo>
                <a:lnTo>
                  <a:pt x="37" y="480"/>
                </a:lnTo>
                <a:lnTo>
                  <a:pt x="29" y="484"/>
                </a:lnTo>
                <a:lnTo>
                  <a:pt x="22" y="486"/>
                </a:lnTo>
                <a:lnTo>
                  <a:pt x="16" y="488"/>
                </a:lnTo>
                <a:lnTo>
                  <a:pt x="10" y="490"/>
                </a:lnTo>
                <a:lnTo>
                  <a:pt x="6" y="490"/>
                </a:lnTo>
                <a:lnTo>
                  <a:pt x="4" y="488"/>
                </a:lnTo>
                <a:lnTo>
                  <a:pt x="2" y="488"/>
                </a:lnTo>
                <a:lnTo>
                  <a:pt x="0" y="484"/>
                </a:lnTo>
                <a:lnTo>
                  <a:pt x="2" y="482"/>
                </a:lnTo>
                <a:lnTo>
                  <a:pt x="4" y="478"/>
                </a:lnTo>
                <a:lnTo>
                  <a:pt x="4" y="476"/>
                </a:lnTo>
                <a:lnTo>
                  <a:pt x="4" y="473"/>
                </a:lnTo>
                <a:lnTo>
                  <a:pt x="6" y="469"/>
                </a:lnTo>
                <a:lnTo>
                  <a:pt x="8" y="465"/>
                </a:lnTo>
                <a:lnTo>
                  <a:pt x="10" y="461"/>
                </a:lnTo>
                <a:lnTo>
                  <a:pt x="14" y="455"/>
                </a:lnTo>
                <a:lnTo>
                  <a:pt x="18" y="450"/>
                </a:lnTo>
                <a:lnTo>
                  <a:pt x="23" y="444"/>
                </a:lnTo>
                <a:lnTo>
                  <a:pt x="27" y="438"/>
                </a:lnTo>
                <a:lnTo>
                  <a:pt x="35" y="430"/>
                </a:lnTo>
                <a:lnTo>
                  <a:pt x="41" y="423"/>
                </a:lnTo>
                <a:lnTo>
                  <a:pt x="48" y="415"/>
                </a:lnTo>
                <a:lnTo>
                  <a:pt x="56" y="405"/>
                </a:lnTo>
                <a:lnTo>
                  <a:pt x="66" y="396"/>
                </a:lnTo>
                <a:lnTo>
                  <a:pt x="75" y="386"/>
                </a:lnTo>
                <a:lnTo>
                  <a:pt x="87" y="3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282"/>
          <p:cNvSpPr/>
          <p:nvPr/>
        </p:nvSpPr>
        <p:spPr>
          <a:xfrm>
            <a:off x="6446880" y="3008160"/>
            <a:ext cx="376200" cy="255600"/>
          </a:xfrm>
          <a:custGeom>
            <a:avLst/>
            <a:gdLst/>
            <a:ahLst/>
            <a:rect l="l" t="t" r="r" b="b"/>
            <a:pathLst>
              <a:path w="474" h="323">
                <a:moveTo>
                  <a:pt x="167" y="50"/>
                </a:moveTo>
                <a:lnTo>
                  <a:pt x="187" y="58"/>
                </a:lnTo>
                <a:lnTo>
                  <a:pt x="206" y="68"/>
                </a:lnTo>
                <a:lnTo>
                  <a:pt x="223" y="75"/>
                </a:lnTo>
                <a:lnTo>
                  <a:pt x="240" y="85"/>
                </a:lnTo>
                <a:lnTo>
                  <a:pt x="258" y="93"/>
                </a:lnTo>
                <a:lnTo>
                  <a:pt x="273" y="100"/>
                </a:lnTo>
                <a:lnTo>
                  <a:pt x="288" y="110"/>
                </a:lnTo>
                <a:lnTo>
                  <a:pt x="304" y="117"/>
                </a:lnTo>
                <a:lnTo>
                  <a:pt x="317" y="127"/>
                </a:lnTo>
                <a:lnTo>
                  <a:pt x="330" y="135"/>
                </a:lnTo>
                <a:lnTo>
                  <a:pt x="344" y="144"/>
                </a:lnTo>
                <a:lnTo>
                  <a:pt x="355" y="152"/>
                </a:lnTo>
                <a:lnTo>
                  <a:pt x="380" y="169"/>
                </a:lnTo>
                <a:lnTo>
                  <a:pt x="403" y="187"/>
                </a:lnTo>
                <a:lnTo>
                  <a:pt x="411" y="196"/>
                </a:lnTo>
                <a:lnTo>
                  <a:pt x="419" y="206"/>
                </a:lnTo>
                <a:lnTo>
                  <a:pt x="426" y="215"/>
                </a:lnTo>
                <a:lnTo>
                  <a:pt x="434" y="225"/>
                </a:lnTo>
                <a:lnTo>
                  <a:pt x="440" y="233"/>
                </a:lnTo>
                <a:lnTo>
                  <a:pt x="446" y="240"/>
                </a:lnTo>
                <a:lnTo>
                  <a:pt x="451" y="248"/>
                </a:lnTo>
                <a:lnTo>
                  <a:pt x="455" y="254"/>
                </a:lnTo>
                <a:lnTo>
                  <a:pt x="459" y="261"/>
                </a:lnTo>
                <a:lnTo>
                  <a:pt x="463" y="267"/>
                </a:lnTo>
                <a:lnTo>
                  <a:pt x="467" y="271"/>
                </a:lnTo>
                <a:lnTo>
                  <a:pt x="469" y="275"/>
                </a:lnTo>
                <a:lnTo>
                  <a:pt x="471" y="281"/>
                </a:lnTo>
                <a:lnTo>
                  <a:pt x="473" y="283"/>
                </a:lnTo>
                <a:lnTo>
                  <a:pt x="473" y="286"/>
                </a:lnTo>
                <a:lnTo>
                  <a:pt x="474" y="288"/>
                </a:lnTo>
                <a:lnTo>
                  <a:pt x="473" y="296"/>
                </a:lnTo>
                <a:lnTo>
                  <a:pt x="471" y="304"/>
                </a:lnTo>
                <a:lnTo>
                  <a:pt x="469" y="309"/>
                </a:lnTo>
                <a:lnTo>
                  <a:pt x="463" y="315"/>
                </a:lnTo>
                <a:lnTo>
                  <a:pt x="457" y="317"/>
                </a:lnTo>
                <a:lnTo>
                  <a:pt x="453" y="319"/>
                </a:lnTo>
                <a:lnTo>
                  <a:pt x="449" y="321"/>
                </a:lnTo>
                <a:lnTo>
                  <a:pt x="444" y="321"/>
                </a:lnTo>
                <a:lnTo>
                  <a:pt x="438" y="323"/>
                </a:lnTo>
                <a:lnTo>
                  <a:pt x="432" y="323"/>
                </a:lnTo>
                <a:lnTo>
                  <a:pt x="426" y="323"/>
                </a:lnTo>
                <a:lnTo>
                  <a:pt x="419" y="323"/>
                </a:lnTo>
                <a:lnTo>
                  <a:pt x="411" y="321"/>
                </a:lnTo>
                <a:lnTo>
                  <a:pt x="403" y="319"/>
                </a:lnTo>
                <a:lnTo>
                  <a:pt x="392" y="315"/>
                </a:lnTo>
                <a:lnTo>
                  <a:pt x="382" y="309"/>
                </a:lnTo>
                <a:lnTo>
                  <a:pt x="371" y="304"/>
                </a:lnTo>
                <a:lnTo>
                  <a:pt x="357" y="296"/>
                </a:lnTo>
                <a:lnTo>
                  <a:pt x="344" y="288"/>
                </a:lnTo>
                <a:lnTo>
                  <a:pt x="329" y="279"/>
                </a:lnTo>
                <a:lnTo>
                  <a:pt x="313" y="267"/>
                </a:lnTo>
                <a:lnTo>
                  <a:pt x="296" y="256"/>
                </a:lnTo>
                <a:lnTo>
                  <a:pt x="277" y="242"/>
                </a:lnTo>
                <a:lnTo>
                  <a:pt x="258" y="227"/>
                </a:lnTo>
                <a:lnTo>
                  <a:pt x="236" y="212"/>
                </a:lnTo>
                <a:lnTo>
                  <a:pt x="213" y="194"/>
                </a:lnTo>
                <a:lnTo>
                  <a:pt x="190" y="175"/>
                </a:lnTo>
                <a:lnTo>
                  <a:pt x="167" y="156"/>
                </a:lnTo>
                <a:lnTo>
                  <a:pt x="144" y="139"/>
                </a:lnTo>
                <a:lnTo>
                  <a:pt x="125" y="121"/>
                </a:lnTo>
                <a:lnTo>
                  <a:pt x="106" y="106"/>
                </a:lnTo>
                <a:lnTo>
                  <a:pt x="87" y="91"/>
                </a:lnTo>
                <a:lnTo>
                  <a:pt x="71" y="79"/>
                </a:lnTo>
                <a:lnTo>
                  <a:pt x="56" y="66"/>
                </a:lnTo>
                <a:lnTo>
                  <a:pt x="44" y="54"/>
                </a:lnTo>
                <a:lnTo>
                  <a:pt x="33" y="45"/>
                </a:lnTo>
                <a:lnTo>
                  <a:pt x="23" y="37"/>
                </a:lnTo>
                <a:lnTo>
                  <a:pt x="14" y="27"/>
                </a:lnTo>
                <a:lnTo>
                  <a:pt x="8" y="21"/>
                </a:lnTo>
                <a:lnTo>
                  <a:pt x="4" y="16"/>
                </a:lnTo>
                <a:lnTo>
                  <a:pt x="2" y="10"/>
                </a:lnTo>
                <a:lnTo>
                  <a:pt x="0" y="6"/>
                </a:ln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12" y="0"/>
                </a:lnTo>
                <a:lnTo>
                  <a:pt x="18" y="0"/>
                </a:lnTo>
                <a:lnTo>
                  <a:pt x="23" y="0"/>
                </a:lnTo>
                <a:lnTo>
                  <a:pt x="31" y="2"/>
                </a:lnTo>
                <a:lnTo>
                  <a:pt x="41" y="2"/>
                </a:lnTo>
                <a:lnTo>
                  <a:pt x="48" y="6"/>
                </a:lnTo>
                <a:lnTo>
                  <a:pt x="60" y="8"/>
                </a:lnTo>
                <a:lnTo>
                  <a:pt x="71" y="12"/>
                </a:lnTo>
                <a:lnTo>
                  <a:pt x="85" y="16"/>
                </a:lnTo>
                <a:lnTo>
                  <a:pt x="98" y="21"/>
                </a:lnTo>
                <a:lnTo>
                  <a:pt x="114" y="27"/>
                </a:lnTo>
                <a:lnTo>
                  <a:pt x="131" y="35"/>
                </a:lnTo>
                <a:lnTo>
                  <a:pt x="148" y="41"/>
                </a:lnTo>
                <a:lnTo>
                  <a:pt x="167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283"/>
          <p:cNvSpPr/>
          <p:nvPr/>
        </p:nvSpPr>
        <p:spPr>
          <a:xfrm>
            <a:off x="6431040" y="2863800"/>
            <a:ext cx="420480" cy="45396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200" y="470"/>
                </a:moveTo>
                <a:lnTo>
                  <a:pt x="184" y="478"/>
                </a:lnTo>
                <a:lnTo>
                  <a:pt x="171" y="488"/>
                </a:lnTo>
                <a:lnTo>
                  <a:pt x="142" y="503"/>
                </a:lnTo>
                <a:lnTo>
                  <a:pt x="115" y="516"/>
                </a:lnTo>
                <a:lnTo>
                  <a:pt x="90" y="530"/>
                </a:lnTo>
                <a:lnTo>
                  <a:pt x="67" y="543"/>
                </a:lnTo>
                <a:lnTo>
                  <a:pt x="44" y="555"/>
                </a:lnTo>
                <a:lnTo>
                  <a:pt x="21" y="564"/>
                </a:lnTo>
                <a:lnTo>
                  <a:pt x="0" y="574"/>
                </a:lnTo>
                <a:lnTo>
                  <a:pt x="31" y="539"/>
                </a:lnTo>
                <a:lnTo>
                  <a:pt x="62" y="507"/>
                </a:lnTo>
                <a:lnTo>
                  <a:pt x="92" y="476"/>
                </a:lnTo>
                <a:lnTo>
                  <a:pt x="119" y="447"/>
                </a:lnTo>
                <a:lnTo>
                  <a:pt x="146" y="418"/>
                </a:lnTo>
                <a:lnTo>
                  <a:pt x="171" y="392"/>
                </a:lnTo>
                <a:lnTo>
                  <a:pt x="196" y="367"/>
                </a:lnTo>
                <a:lnTo>
                  <a:pt x="217" y="342"/>
                </a:lnTo>
                <a:lnTo>
                  <a:pt x="238" y="319"/>
                </a:lnTo>
                <a:lnTo>
                  <a:pt x="256" y="298"/>
                </a:lnTo>
                <a:lnTo>
                  <a:pt x="273" y="278"/>
                </a:lnTo>
                <a:lnTo>
                  <a:pt x="288" y="259"/>
                </a:lnTo>
                <a:lnTo>
                  <a:pt x="302" y="242"/>
                </a:lnTo>
                <a:lnTo>
                  <a:pt x="307" y="234"/>
                </a:lnTo>
                <a:lnTo>
                  <a:pt x="313" y="227"/>
                </a:lnTo>
                <a:lnTo>
                  <a:pt x="317" y="219"/>
                </a:lnTo>
                <a:lnTo>
                  <a:pt x="323" y="211"/>
                </a:lnTo>
                <a:lnTo>
                  <a:pt x="327" y="203"/>
                </a:lnTo>
                <a:lnTo>
                  <a:pt x="330" y="198"/>
                </a:lnTo>
                <a:lnTo>
                  <a:pt x="336" y="186"/>
                </a:lnTo>
                <a:lnTo>
                  <a:pt x="342" y="177"/>
                </a:lnTo>
                <a:lnTo>
                  <a:pt x="348" y="167"/>
                </a:lnTo>
                <a:lnTo>
                  <a:pt x="351" y="157"/>
                </a:lnTo>
                <a:lnTo>
                  <a:pt x="355" y="148"/>
                </a:lnTo>
                <a:lnTo>
                  <a:pt x="359" y="138"/>
                </a:lnTo>
                <a:lnTo>
                  <a:pt x="363" y="129"/>
                </a:lnTo>
                <a:lnTo>
                  <a:pt x="365" y="121"/>
                </a:lnTo>
                <a:lnTo>
                  <a:pt x="367" y="111"/>
                </a:lnTo>
                <a:lnTo>
                  <a:pt x="369" y="104"/>
                </a:lnTo>
                <a:lnTo>
                  <a:pt x="369" y="96"/>
                </a:lnTo>
                <a:lnTo>
                  <a:pt x="369" y="88"/>
                </a:lnTo>
                <a:lnTo>
                  <a:pt x="369" y="81"/>
                </a:lnTo>
                <a:lnTo>
                  <a:pt x="369" y="75"/>
                </a:lnTo>
                <a:lnTo>
                  <a:pt x="367" y="67"/>
                </a:lnTo>
                <a:lnTo>
                  <a:pt x="365" y="61"/>
                </a:lnTo>
                <a:lnTo>
                  <a:pt x="361" y="52"/>
                </a:lnTo>
                <a:lnTo>
                  <a:pt x="359" y="44"/>
                </a:lnTo>
                <a:lnTo>
                  <a:pt x="357" y="36"/>
                </a:lnTo>
                <a:lnTo>
                  <a:pt x="357" y="29"/>
                </a:lnTo>
                <a:lnTo>
                  <a:pt x="357" y="21"/>
                </a:lnTo>
                <a:lnTo>
                  <a:pt x="359" y="15"/>
                </a:lnTo>
                <a:lnTo>
                  <a:pt x="361" y="10"/>
                </a:lnTo>
                <a:lnTo>
                  <a:pt x="365" y="4"/>
                </a:lnTo>
                <a:lnTo>
                  <a:pt x="367" y="2"/>
                </a:lnTo>
                <a:lnTo>
                  <a:pt x="371" y="2"/>
                </a:lnTo>
                <a:lnTo>
                  <a:pt x="373" y="0"/>
                </a:lnTo>
                <a:lnTo>
                  <a:pt x="376" y="0"/>
                </a:lnTo>
                <a:lnTo>
                  <a:pt x="384" y="0"/>
                </a:lnTo>
                <a:lnTo>
                  <a:pt x="394" y="2"/>
                </a:lnTo>
                <a:lnTo>
                  <a:pt x="403" y="6"/>
                </a:lnTo>
                <a:lnTo>
                  <a:pt x="417" y="12"/>
                </a:lnTo>
                <a:lnTo>
                  <a:pt x="423" y="15"/>
                </a:lnTo>
                <a:lnTo>
                  <a:pt x="430" y="19"/>
                </a:lnTo>
                <a:lnTo>
                  <a:pt x="440" y="23"/>
                </a:lnTo>
                <a:lnTo>
                  <a:pt x="447" y="27"/>
                </a:lnTo>
                <a:lnTo>
                  <a:pt x="455" y="31"/>
                </a:lnTo>
                <a:lnTo>
                  <a:pt x="465" y="36"/>
                </a:lnTo>
                <a:lnTo>
                  <a:pt x="472" y="40"/>
                </a:lnTo>
                <a:lnTo>
                  <a:pt x="478" y="44"/>
                </a:lnTo>
                <a:lnTo>
                  <a:pt x="492" y="52"/>
                </a:lnTo>
                <a:lnTo>
                  <a:pt x="501" y="61"/>
                </a:lnTo>
                <a:lnTo>
                  <a:pt x="511" y="69"/>
                </a:lnTo>
                <a:lnTo>
                  <a:pt x="518" y="79"/>
                </a:lnTo>
                <a:lnTo>
                  <a:pt x="524" y="86"/>
                </a:lnTo>
                <a:lnTo>
                  <a:pt x="530" y="96"/>
                </a:lnTo>
                <a:lnTo>
                  <a:pt x="530" y="100"/>
                </a:lnTo>
                <a:lnTo>
                  <a:pt x="528" y="106"/>
                </a:lnTo>
                <a:lnTo>
                  <a:pt x="526" y="111"/>
                </a:lnTo>
                <a:lnTo>
                  <a:pt x="524" y="119"/>
                </a:lnTo>
                <a:lnTo>
                  <a:pt x="520" y="127"/>
                </a:lnTo>
                <a:lnTo>
                  <a:pt x="515" y="134"/>
                </a:lnTo>
                <a:lnTo>
                  <a:pt x="509" y="144"/>
                </a:lnTo>
                <a:lnTo>
                  <a:pt x="503" y="154"/>
                </a:lnTo>
                <a:lnTo>
                  <a:pt x="495" y="163"/>
                </a:lnTo>
                <a:lnTo>
                  <a:pt x="488" y="175"/>
                </a:lnTo>
                <a:lnTo>
                  <a:pt x="480" y="186"/>
                </a:lnTo>
                <a:lnTo>
                  <a:pt x="470" y="200"/>
                </a:lnTo>
                <a:lnTo>
                  <a:pt x="459" y="211"/>
                </a:lnTo>
                <a:lnTo>
                  <a:pt x="449" y="225"/>
                </a:lnTo>
                <a:lnTo>
                  <a:pt x="436" y="240"/>
                </a:lnTo>
                <a:lnTo>
                  <a:pt x="424" y="255"/>
                </a:lnTo>
                <a:lnTo>
                  <a:pt x="411" y="271"/>
                </a:lnTo>
                <a:lnTo>
                  <a:pt x="398" y="288"/>
                </a:lnTo>
                <a:lnTo>
                  <a:pt x="384" y="303"/>
                </a:lnTo>
                <a:lnTo>
                  <a:pt x="371" y="319"/>
                </a:lnTo>
                <a:lnTo>
                  <a:pt x="357" y="334"/>
                </a:lnTo>
                <a:lnTo>
                  <a:pt x="344" y="347"/>
                </a:lnTo>
                <a:lnTo>
                  <a:pt x="317" y="374"/>
                </a:lnTo>
                <a:lnTo>
                  <a:pt x="288" y="401"/>
                </a:lnTo>
                <a:lnTo>
                  <a:pt x="259" y="426"/>
                </a:lnTo>
                <a:lnTo>
                  <a:pt x="231" y="449"/>
                </a:lnTo>
                <a:lnTo>
                  <a:pt x="200" y="4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284"/>
          <p:cNvSpPr/>
          <p:nvPr/>
        </p:nvSpPr>
        <p:spPr>
          <a:xfrm>
            <a:off x="6205680" y="3390840"/>
            <a:ext cx="195120" cy="144360"/>
          </a:xfrm>
          <a:custGeom>
            <a:avLst/>
            <a:gdLst/>
            <a:ahLst/>
            <a:rect l="l" t="t" r="r" b="b"/>
            <a:pathLst>
              <a:path w="248" h="183">
                <a:moveTo>
                  <a:pt x="0" y="0"/>
                </a:moveTo>
                <a:lnTo>
                  <a:pt x="31" y="0"/>
                </a:lnTo>
                <a:lnTo>
                  <a:pt x="60" y="2"/>
                </a:lnTo>
                <a:lnTo>
                  <a:pt x="73" y="4"/>
                </a:lnTo>
                <a:lnTo>
                  <a:pt x="87" y="4"/>
                </a:lnTo>
                <a:lnTo>
                  <a:pt x="100" y="6"/>
                </a:lnTo>
                <a:lnTo>
                  <a:pt x="111" y="8"/>
                </a:lnTo>
                <a:lnTo>
                  <a:pt x="125" y="8"/>
                </a:lnTo>
                <a:lnTo>
                  <a:pt x="136" y="10"/>
                </a:lnTo>
                <a:lnTo>
                  <a:pt x="146" y="12"/>
                </a:lnTo>
                <a:lnTo>
                  <a:pt x="156" y="14"/>
                </a:lnTo>
                <a:lnTo>
                  <a:pt x="165" y="16"/>
                </a:lnTo>
                <a:lnTo>
                  <a:pt x="175" y="19"/>
                </a:lnTo>
                <a:lnTo>
                  <a:pt x="182" y="21"/>
                </a:lnTo>
                <a:lnTo>
                  <a:pt x="190" y="23"/>
                </a:lnTo>
                <a:lnTo>
                  <a:pt x="202" y="31"/>
                </a:lnTo>
                <a:lnTo>
                  <a:pt x="213" y="40"/>
                </a:lnTo>
                <a:lnTo>
                  <a:pt x="223" y="48"/>
                </a:lnTo>
                <a:lnTo>
                  <a:pt x="232" y="58"/>
                </a:lnTo>
                <a:lnTo>
                  <a:pt x="238" y="69"/>
                </a:lnTo>
                <a:lnTo>
                  <a:pt x="242" y="73"/>
                </a:lnTo>
                <a:lnTo>
                  <a:pt x="244" y="79"/>
                </a:lnTo>
                <a:lnTo>
                  <a:pt x="246" y="85"/>
                </a:lnTo>
                <a:lnTo>
                  <a:pt x="246" y="90"/>
                </a:lnTo>
                <a:lnTo>
                  <a:pt x="248" y="96"/>
                </a:lnTo>
                <a:lnTo>
                  <a:pt x="248" y="102"/>
                </a:lnTo>
                <a:lnTo>
                  <a:pt x="248" y="108"/>
                </a:lnTo>
                <a:lnTo>
                  <a:pt x="248" y="113"/>
                </a:lnTo>
                <a:lnTo>
                  <a:pt x="248" y="125"/>
                </a:lnTo>
                <a:lnTo>
                  <a:pt x="248" y="133"/>
                </a:lnTo>
                <a:lnTo>
                  <a:pt x="246" y="138"/>
                </a:lnTo>
                <a:lnTo>
                  <a:pt x="246" y="144"/>
                </a:lnTo>
                <a:lnTo>
                  <a:pt x="242" y="150"/>
                </a:lnTo>
                <a:lnTo>
                  <a:pt x="240" y="156"/>
                </a:lnTo>
                <a:lnTo>
                  <a:pt x="236" y="159"/>
                </a:lnTo>
                <a:lnTo>
                  <a:pt x="232" y="163"/>
                </a:lnTo>
                <a:lnTo>
                  <a:pt x="229" y="167"/>
                </a:lnTo>
                <a:lnTo>
                  <a:pt x="227" y="171"/>
                </a:lnTo>
                <a:lnTo>
                  <a:pt x="225" y="175"/>
                </a:lnTo>
                <a:lnTo>
                  <a:pt x="223" y="179"/>
                </a:lnTo>
                <a:lnTo>
                  <a:pt x="219" y="181"/>
                </a:lnTo>
                <a:lnTo>
                  <a:pt x="217" y="183"/>
                </a:lnTo>
                <a:lnTo>
                  <a:pt x="213" y="183"/>
                </a:lnTo>
                <a:lnTo>
                  <a:pt x="209" y="181"/>
                </a:lnTo>
                <a:lnTo>
                  <a:pt x="206" y="179"/>
                </a:lnTo>
                <a:lnTo>
                  <a:pt x="200" y="177"/>
                </a:lnTo>
                <a:lnTo>
                  <a:pt x="192" y="171"/>
                </a:lnTo>
                <a:lnTo>
                  <a:pt x="184" y="165"/>
                </a:lnTo>
                <a:lnTo>
                  <a:pt x="175" y="158"/>
                </a:lnTo>
                <a:lnTo>
                  <a:pt x="163" y="148"/>
                </a:lnTo>
                <a:lnTo>
                  <a:pt x="150" y="138"/>
                </a:lnTo>
                <a:lnTo>
                  <a:pt x="136" y="127"/>
                </a:lnTo>
                <a:lnTo>
                  <a:pt x="121" y="113"/>
                </a:lnTo>
                <a:lnTo>
                  <a:pt x="104" y="98"/>
                </a:lnTo>
                <a:lnTo>
                  <a:pt x="87" y="83"/>
                </a:lnTo>
                <a:lnTo>
                  <a:pt x="67" y="64"/>
                </a:lnTo>
                <a:lnTo>
                  <a:pt x="46" y="44"/>
                </a:lnTo>
                <a:lnTo>
                  <a:pt x="23" y="2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85"/>
          <p:cNvSpPr/>
          <p:nvPr/>
        </p:nvSpPr>
        <p:spPr>
          <a:xfrm>
            <a:off x="6089760" y="2863800"/>
            <a:ext cx="190440" cy="905040"/>
          </a:xfrm>
          <a:custGeom>
            <a:avLst/>
            <a:gdLst/>
            <a:ahLst/>
            <a:rect l="l" t="t" r="r" b="b"/>
            <a:pathLst>
              <a:path w="240" h="1140">
                <a:moveTo>
                  <a:pt x="52" y="847"/>
                </a:moveTo>
                <a:lnTo>
                  <a:pt x="56" y="800"/>
                </a:lnTo>
                <a:lnTo>
                  <a:pt x="62" y="754"/>
                </a:lnTo>
                <a:lnTo>
                  <a:pt x="66" y="708"/>
                </a:lnTo>
                <a:lnTo>
                  <a:pt x="69" y="664"/>
                </a:lnTo>
                <a:lnTo>
                  <a:pt x="75" y="620"/>
                </a:lnTo>
                <a:lnTo>
                  <a:pt x="79" y="574"/>
                </a:lnTo>
                <a:lnTo>
                  <a:pt x="83" y="528"/>
                </a:lnTo>
                <a:lnTo>
                  <a:pt x="89" y="482"/>
                </a:lnTo>
                <a:lnTo>
                  <a:pt x="89" y="459"/>
                </a:lnTo>
                <a:lnTo>
                  <a:pt x="89" y="436"/>
                </a:lnTo>
                <a:lnTo>
                  <a:pt x="89" y="415"/>
                </a:lnTo>
                <a:lnTo>
                  <a:pt x="89" y="394"/>
                </a:lnTo>
                <a:lnTo>
                  <a:pt x="89" y="374"/>
                </a:lnTo>
                <a:lnTo>
                  <a:pt x="89" y="355"/>
                </a:lnTo>
                <a:lnTo>
                  <a:pt x="89" y="336"/>
                </a:lnTo>
                <a:lnTo>
                  <a:pt x="89" y="319"/>
                </a:lnTo>
                <a:lnTo>
                  <a:pt x="89" y="301"/>
                </a:lnTo>
                <a:lnTo>
                  <a:pt x="89" y="284"/>
                </a:lnTo>
                <a:lnTo>
                  <a:pt x="89" y="269"/>
                </a:lnTo>
                <a:lnTo>
                  <a:pt x="89" y="253"/>
                </a:lnTo>
                <a:lnTo>
                  <a:pt x="89" y="238"/>
                </a:lnTo>
                <a:lnTo>
                  <a:pt x="89" y="225"/>
                </a:lnTo>
                <a:lnTo>
                  <a:pt x="89" y="211"/>
                </a:lnTo>
                <a:lnTo>
                  <a:pt x="89" y="198"/>
                </a:lnTo>
                <a:lnTo>
                  <a:pt x="85" y="184"/>
                </a:lnTo>
                <a:lnTo>
                  <a:pt x="83" y="173"/>
                </a:lnTo>
                <a:lnTo>
                  <a:pt x="81" y="161"/>
                </a:lnTo>
                <a:lnTo>
                  <a:pt x="79" y="152"/>
                </a:lnTo>
                <a:lnTo>
                  <a:pt x="75" y="140"/>
                </a:lnTo>
                <a:lnTo>
                  <a:pt x="73" y="131"/>
                </a:lnTo>
                <a:lnTo>
                  <a:pt x="71" y="123"/>
                </a:lnTo>
                <a:lnTo>
                  <a:pt x="67" y="113"/>
                </a:lnTo>
                <a:lnTo>
                  <a:pt x="66" y="106"/>
                </a:lnTo>
                <a:lnTo>
                  <a:pt x="62" y="100"/>
                </a:lnTo>
                <a:lnTo>
                  <a:pt x="60" y="92"/>
                </a:lnTo>
                <a:lnTo>
                  <a:pt x="56" y="86"/>
                </a:lnTo>
                <a:lnTo>
                  <a:pt x="52" y="83"/>
                </a:lnTo>
                <a:lnTo>
                  <a:pt x="48" y="79"/>
                </a:lnTo>
                <a:lnTo>
                  <a:pt x="44" y="75"/>
                </a:lnTo>
                <a:lnTo>
                  <a:pt x="41" y="73"/>
                </a:lnTo>
                <a:lnTo>
                  <a:pt x="33" y="71"/>
                </a:lnTo>
                <a:lnTo>
                  <a:pt x="27" y="67"/>
                </a:lnTo>
                <a:lnTo>
                  <a:pt x="23" y="65"/>
                </a:lnTo>
                <a:lnTo>
                  <a:pt x="18" y="61"/>
                </a:lnTo>
                <a:lnTo>
                  <a:pt x="14" y="60"/>
                </a:lnTo>
                <a:lnTo>
                  <a:pt x="10" y="56"/>
                </a:lnTo>
                <a:lnTo>
                  <a:pt x="8" y="52"/>
                </a:lnTo>
                <a:lnTo>
                  <a:pt x="4" y="48"/>
                </a:lnTo>
                <a:lnTo>
                  <a:pt x="2" y="44"/>
                </a:lnTo>
                <a:lnTo>
                  <a:pt x="2" y="40"/>
                </a:lnTo>
                <a:lnTo>
                  <a:pt x="0" y="36"/>
                </a:lnTo>
                <a:lnTo>
                  <a:pt x="0" y="33"/>
                </a:lnTo>
                <a:lnTo>
                  <a:pt x="0" y="29"/>
                </a:lnTo>
                <a:lnTo>
                  <a:pt x="2" y="23"/>
                </a:lnTo>
                <a:lnTo>
                  <a:pt x="2" y="19"/>
                </a:lnTo>
                <a:lnTo>
                  <a:pt x="4" y="15"/>
                </a:lnTo>
                <a:lnTo>
                  <a:pt x="10" y="12"/>
                </a:lnTo>
                <a:lnTo>
                  <a:pt x="16" y="8"/>
                </a:lnTo>
                <a:lnTo>
                  <a:pt x="19" y="6"/>
                </a:lnTo>
                <a:lnTo>
                  <a:pt x="23" y="4"/>
                </a:lnTo>
                <a:lnTo>
                  <a:pt x="29" y="2"/>
                </a:lnTo>
                <a:lnTo>
                  <a:pt x="35" y="2"/>
                </a:lnTo>
                <a:lnTo>
                  <a:pt x="41" y="0"/>
                </a:lnTo>
                <a:lnTo>
                  <a:pt x="46" y="0"/>
                </a:lnTo>
                <a:lnTo>
                  <a:pt x="54" y="0"/>
                </a:lnTo>
                <a:lnTo>
                  <a:pt x="62" y="0"/>
                </a:lnTo>
                <a:lnTo>
                  <a:pt x="69" y="0"/>
                </a:lnTo>
                <a:lnTo>
                  <a:pt x="79" y="2"/>
                </a:lnTo>
                <a:lnTo>
                  <a:pt x="89" y="2"/>
                </a:lnTo>
                <a:lnTo>
                  <a:pt x="100" y="4"/>
                </a:lnTo>
                <a:lnTo>
                  <a:pt x="115" y="10"/>
                </a:lnTo>
                <a:lnTo>
                  <a:pt x="133" y="15"/>
                </a:lnTo>
                <a:lnTo>
                  <a:pt x="148" y="21"/>
                </a:lnTo>
                <a:lnTo>
                  <a:pt x="162" y="27"/>
                </a:lnTo>
                <a:lnTo>
                  <a:pt x="173" y="33"/>
                </a:lnTo>
                <a:lnTo>
                  <a:pt x="185" y="38"/>
                </a:lnTo>
                <a:lnTo>
                  <a:pt x="196" y="44"/>
                </a:lnTo>
                <a:lnTo>
                  <a:pt x="206" y="50"/>
                </a:lnTo>
                <a:lnTo>
                  <a:pt x="213" y="58"/>
                </a:lnTo>
                <a:lnTo>
                  <a:pt x="221" y="67"/>
                </a:lnTo>
                <a:lnTo>
                  <a:pt x="227" y="75"/>
                </a:lnTo>
                <a:lnTo>
                  <a:pt x="233" y="83"/>
                </a:lnTo>
                <a:lnTo>
                  <a:pt x="236" y="90"/>
                </a:lnTo>
                <a:lnTo>
                  <a:pt x="238" y="96"/>
                </a:lnTo>
                <a:lnTo>
                  <a:pt x="240" y="102"/>
                </a:lnTo>
                <a:lnTo>
                  <a:pt x="240" y="108"/>
                </a:lnTo>
                <a:lnTo>
                  <a:pt x="240" y="123"/>
                </a:lnTo>
                <a:lnTo>
                  <a:pt x="240" y="132"/>
                </a:lnTo>
                <a:lnTo>
                  <a:pt x="238" y="142"/>
                </a:lnTo>
                <a:lnTo>
                  <a:pt x="238" y="152"/>
                </a:lnTo>
                <a:lnTo>
                  <a:pt x="236" y="163"/>
                </a:lnTo>
                <a:lnTo>
                  <a:pt x="233" y="175"/>
                </a:lnTo>
                <a:lnTo>
                  <a:pt x="229" y="186"/>
                </a:lnTo>
                <a:lnTo>
                  <a:pt x="227" y="194"/>
                </a:lnTo>
                <a:lnTo>
                  <a:pt x="225" y="202"/>
                </a:lnTo>
                <a:lnTo>
                  <a:pt x="223" y="211"/>
                </a:lnTo>
                <a:lnTo>
                  <a:pt x="219" y="221"/>
                </a:lnTo>
                <a:lnTo>
                  <a:pt x="217" y="232"/>
                </a:lnTo>
                <a:lnTo>
                  <a:pt x="215" y="244"/>
                </a:lnTo>
                <a:lnTo>
                  <a:pt x="213" y="257"/>
                </a:lnTo>
                <a:lnTo>
                  <a:pt x="211" y="271"/>
                </a:lnTo>
                <a:lnTo>
                  <a:pt x="209" y="288"/>
                </a:lnTo>
                <a:lnTo>
                  <a:pt x="208" y="303"/>
                </a:lnTo>
                <a:lnTo>
                  <a:pt x="204" y="321"/>
                </a:lnTo>
                <a:lnTo>
                  <a:pt x="202" y="340"/>
                </a:lnTo>
                <a:lnTo>
                  <a:pt x="200" y="359"/>
                </a:lnTo>
                <a:lnTo>
                  <a:pt x="198" y="380"/>
                </a:lnTo>
                <a:lnTo>
                  <a:pt x="196" y="403"/>
                </a:lnTo>
                <a:lnTo>
                  <a:pt x="194" y="426"/>
                </a:lnTo>
                <a:lnTo>
                  <a:pt x="185" y="528"/>
                </a:lnTo>
                <a:lnTo>
                  <a:pt x="181" y="578"/>
                </a:lnTo>
                <a:lnTo>
                  <a:pt x="177" y="630"/>
                </a:lnTo>
                <a:lnTo>
                  <a:pt x="175" y="681"/>
                </a:lnTo>
                <a:lnTo>
                  <a:pt x="173" y="731"/>
                </a:lnTo>
                <a:lnTo>
                  <a:pt x="171" y="783"/>
                </a:lnTo>
                <a:lnTo>
                  <a:pt x="171" y="835"/>
                </a:lnTo>
                <a:lnTo>
                  <a:pt x="169" y="862"/>
                </a:lnTo>
                <a:lnTo>
                  <a:pt x="169" y="887"/>
                </a:lnTo>
                <a:lnTo>
                  <a:pt x="169" y="912"/>
                </a:lnTo>
                <a:lnTo>
                  <a:pt x="167" y="935"/>
                </a:lnTo>
                <a:lnTo>
                  <a:pt x="167" y="956"/>
                </a:lnTo>
                <a:lnTo>
                  <a:pt x="165" y="977"/>
                </a:lnTo>
                <a:lnTo>
                  <a:pt x="163" y="996"/>
                </a:lnTo>
                <a:lnTo>
                  <a:pt x="163" y="1014"/>
                </a:lnTo>
                <a:lnTo>
                  <a:pt x="162" y="1031"/>
                </a:lnTo>
                <a:lnTo>
                  <a:pt x="160" y="1046"/>
                </a:lnTo>
                <a:lnTo>
                  <a:pt x="158" y="1060"/>
                </a:lnTo>
                <a:lnTo>
                  <a:pt x="156" y="1071"/>
                </a:lnTo>
                <a:lnTo>
                  <a:pt x="152" y="1083"/>
                </a:lnTo>
                <a:lnTo>
                  <a:pt x="150" y="1092"/>
                </a:lnTo>
                <a:lnTo>
                  <a:pt x="148" y="1100"/>
                </a:lnTo>
                <a:lnTo>
                  <a:pt x="146" y="1108"/>
                </a:lnTo>
                <a:lnTo>
                  <a:pt x="142" y="1115"/>
                </a:lnTo>
                <a:lnTo>
                  <a:pt x="137" y="1123"/>
                </a:lnTo>
                <a:lnTo>
                  <a:pt x="133" y="1129"/>
                </a:lnTo>
                <a:lnTo>
                  <a:pt x="129" y="1133"/>
                </a:lnTo>
                <a:lnTo>
                  <a:pt x="125" y="1136"/>
                </a:lnTo>
                <a:lnTo>
                  <a:pt x="119" y="1138"/>
                </a:lnTo>
                <a:lnTo>
                  <a:pt x="115" y="1140"/>
                </a:lnTo>
                <a:lnTo>
                  <a:pt x="112" y="1140"/>
                </a:lnTo>
                <a:lnTo>
                  <a:pt x="106" y="1138"/>
                </a:lnTo>
                <a:lnTo>
                  <a:pt x="102" y="1136"/>
                </a:lnTo>
                <a:lnTo>
                  <a:pt x="98" y="1133"/>
                </a:lnTo>
                <a:lnTo>
                  <a:pt x="92" y="1129"/>
                </a:lnTo>
                <a:lnTo>
                  <a:pt x="89" y="1123"/>
                </a:lnTo>
                <a:lnTo>
                  <a:pt x="85" y="1115"/>
                </a:lnTo>
                <a:lnTo>
                  <a:pt x="81" y="1106"/>
                </a:lnTo>
                <a:lnTo>
                  <a:pt x="75" y="1096"/>
                </a:lnTo>
                <a:lnTo>
                  <a:pt x="71" y="1086"/>
                </a:lnTo>
                <a:lnTo>
                  <a:pt x="67" y="1077"/>
                </a:lnTo>
                <a:lnTo>
                  <a:pt x="64" y="1067"/>
                </a:lnTo>
                <a:lnTo>
                  <a:pt x="60" y="1056"/>
                </a:lnTo>
                <a:lnTo>
                  <a:pt x="58" y="1042"/>
                </a:lnTo>
                <a:lnTo>
                  <a:pt x="56" y="1031"/>
                </a:lnTo>
                <a:lnTo>
                  <a:pt x="52" y="1015"/>
                </a:lnTo>
                <a:lnTo>
                  <a:pt x="50" y="1000"/>
                </a:lnTo>
                <a:lnTo>
                  <a:pt x="50" y="985"/>
                </a:lnTo>
                <a:lnTo>
                  <a:pt x="48" y="967"/>
                </a:lnTo>
                <a:lnTo>
                  <a:pt x="48" y="950"/>
                </a:lnTo>
                <a:lnTo>
                  <a:pt x="48" y="931"/>
                </a:lnTo>
                <a:lnTo>
                  <a:pt x="48" y="912"/>
                </a:lnTo>
                <a:lnTo>
                  <a:pt x="48" y="891"/>
                </a:lnTo>
                <a:lnTo>
                  <a:pt x="50" y="870"/>
                </a:lnTo>
                <a:lnTo>
                  <a:pt x="52" y="8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286"/>
          <p:cNvSpPr/>
          <p:nvPr/>
        </p:nvSpPr>
        <p:spPr>
          <a:xfrm>
            <a:off x="5762520" y="3244680"/>
            <a:ext cx="443160" cy="482760"/>
          </a:xfrm>
          <a:custGeom>
            <a:avLst/>
            <a:gdLst/>
            <a:ahLst/>
            <a:rect l="l" t="t" r="r" b="b"/>
            <a:pathLst>
              <a:path w="557" h="606">
                <a:moveTo>
                  <a:pt x="167" y="524"/>
                </a:moveTo>
                <a:lnTo>
                  <a:pt x="148" y="535"/>
                </a:lnTo>
                <a:lnTo>
                  <a:pt x="131" y="547"/>
                </a:lnTo>
                <a:lnTo>
                  <a:pt x="116" y="556"/>
                </a:lnTo>
                <a:lnTo>
                  <a:pt x="100" y="566"/>
                </a:lnTo>
                <a:lnTo>
                  <a:pt x="85" y="576"/>
                </a:lnTo>
                <a:lnTo>
                  <a:pt x="73" y="581"/>
                </a:lnTo>
                <a:lnTo>
                  <a:pt x="62" y="589"/>
                </a:lnTo>
                <a:lnTo>
                  <a:pt x="50" y="593"/>
                </a:lnTo>
                <a:lnTo>
                  <a:pt x="41" y="599"/>
                </a:lnTo>
                <a:lnTo>
                  <a:pt x="33" y="601"/>
                </a:lnTo>
                <a:lnTo>
                  <a:pt x="25" y="604"/>
                </a:lnTo>
                <a:lnTo>
                  <a:pt x="20" y="604"/>
                </a:lnTo>
                <a:lnTo>
                  <a:pt x="14" y="606"/>
                </a:lnTo>
                <a:lnTo>
                  <a:pt x="10" y="606"/>
                </a:lnTo>
                <a:lnTo>
                  <a:pt x="6" y="604"/>
                </a:lnTo>
                <a:lnTo>
                  <a:pt x="2" y="603"/>
                </a:lnTo>
                <a:lnTo>
                  <a:pt x="0" y="601"/>
                </a:lnTo>
                <a:lnTo>
                  <a:pt x="0" y="597"/>
                </a:lnTo>
                <a:lnTo>
                  <a:pt x="0" y="595"/>
                </a:lnTo>
                <a:lnTo>
                  <a:pt x="2" y="589"/>
                </a:lnTo>
                <a:lnTo>
                  <a:pt x="6" y="585"/>
                </a:lnTo>
                <a:lnTo>
                  <a:pt x="10" y="580"/>
                </a:lnTo>
                <a:lnTo>
                  <a:pt x="16" y="574"/>
                </a:lnTo>
                <a:lnTo>
                  <a:pt x="22" y="566"/>
                </a:lnTo>
                <a:lnTo>
                  <a:pt x="27" y="558"/>
                </a:lnTo>
                <a:lnTo>
                  <a:pt x="37" y="549"/>
                </a:lnTo>
                <a:lnTo>
                  <a:pt x="47" y="539"/>
                </a:lnTo>
                <a:lnTo>
                  <a:pt x="56" y="530"/>
                </a:lnTo>
                <a:lnTo>
                  <a:pt x="68" y="518"/>
                </a:lnTo>
                <a:lnTo>
                  <a:pt x="81" y="507"/>
                </a:lnTo>
                <a:lnTo>
                  <a:pt x="95" y="493"/>
                </a:lnTo>
                <a:lnTo>
                  <a:pt x="110" y="478"/>
                </a:lnTo>
                <a:lnTo>
                  <a:pt x="125" y="462"/>
                </a:lnTo>
                <a:lnTo>
                  <a:pt x="143" y="443"/>
                </a:lnTo>
                <a:lnTo>
                  <a:pt x="160" y="424"/>
                </a:lnTo>
                <a:lnTo>
                  <a:pt x="181" y="403"/>
                </a:lnTo>
                <a:lnTo>
                  <a:pt x="202" y="380"/>
                </a:lnTo>
                <a:lnTo>
                  <a:pt x="223" y="355"/>
                </a:lnTo>
                <a:lnTo>
                  <a:pt x="246" y="328"/>
                </a:lnTo>
                <a:lnTo>
                  <a:pt x="271" y="299"/>
                </a:lnTo>
                <a:lnTo>
                  <a:pt x="298" y="269"/>
                </a:lnTo>
                <a:lnTo>
                  <a:pt x="327" y="236"/>
                </a:lnTo>
                <a:lnTo>
                  <a:pt x="356" y="201"/>
                </a:lnTo>
                <a:lnTo>
                  <a:pt x="371" y="184"/>
                </a:lnTo>
                <a:lnTo>
                  <a:pt x="386" y="165"/>
                </a:lnTo>
                <a:lnTo>
                  <a:pt x="402" y="146"/>
                </a:lnTo>
                <a:lnTo>
                  <a:pt x="417" y="127"/>
                </a:lnTo>
                <a:lnTo>
                  <a:pt x="434" y="107"/>
                </a:lnTo>
                <a:lnTo>
                  <a:pt x="452" y="86"/>
                </a:lnTo>
                <a:lnTo>
                  <a:pt x="469" y="65"/>
                </a:lnTo>
                <a:lnTo>
                  <a:pt x="486" y="44"/>
                </a:lnTo>
                <a:lnTo>
                  <a:pt x="503" y="23"/>
                </a:lnTo>
                <a:lnTo>
                  <a:pt x="523" y="0"/>
                </a:lnTo>
                <a:lnTo>
                  <a:pt x="526" y="9"/>
                </a:lnTo>
                <a:lnTo>
                  <a:pt x="530" y="21"/>
                </a:lnTo>
                <a:lnTo>
                  <a:pt x="534" y="29"/>
                </a:lnTo>
                <a:lnTo>
                  <a:pt x="538" y="38"/>
                </a:lnTo>
                <a:lnTo>
                  <a:pt x="540" y="46"/>
                </a:lnTo>
                <a:lnTo>
                  <a:pt x="544" y="54"/>
                </a:lnTo>
                <a:lnTo>
                  <a:pt x="546" y="61"/>
                </a:lnTo>
                <a:lnTo>
                  <a:pt x="548" y="69"/>
                </a:lnTo>
                <a:lnTo>
                  <a:pt x="549" y="75"/>
                </a:lnTo>
                <a:lnTo>
                  <a:pt x="551" y="80"/>
                </a:lnTo>
                <a:lnTo>
                  <a:pt x="553" y="84"/>
                </a:lnTo>
                <a:lnTo>
                  <a:pt x="555" y="90"/>
                </a:lnTo>
                <a:lnTo>
                  <a:pt x="555" y="94"/>
                </a:lnTo>
                <a:lnTo>
                  <a:pt x="557" y="98"/>
                </a:lnTo>
                <a:lnTo>
                  <a:pt x="557" y="100"/>
                </a:lnTo>
                <a:lnTo>
                  <a:pt x="557" y="103"/>
                </a:lnTo>
                <a:lnTo>
                  <a:pt x="557" y="105"/>
                </a:lnTo>
                <a:lnTo>
                  <a:pt x="555" y="109"/>
                </a:lnTo>
                <a:lnTo>
                  <a:pt x="553" y="113"/>
                </a:lnTo>
                <a:lnTo>
                  <a:pt x="549" y="119"/>
                </a:lnTo>
                <a:lnTo>
                  <a:pt x="546" y="127"/>
                </a:lnTo>
                <a:lnTo>
                  <a:pt x="542" y="134"/>
                </a:lnTo>
                <a:lnTo>
                  <a:pt x="536" y="144"/>
                </a:lnTo>
                <a:lnTo>
                  <a:pt x="528" y="153"/>
                </a:lnTo>
                <a:lnTo>
                  <a:pt x="521" y="165"/>
                </a:lnTo>
                <a:lnTo>
                  <a:pt x="513" y="176"/>
                </a:lnTo>
                <a:lnTo>
                  <a:pt x="503" y="190"/>
                </a:lnTo>
                <a:lnTo>
                  <a:pt x="492" y="205"/>
                </a:lnTo>
                <a:lnTo>
                  <a:pt x="480" y="221"/>
                </a:lnTo>
                <a:lnTo>
                  <a:pt x="469" y="236"/>
                </a:lnTo>
                <a:lnTo>
                  <a:pt x="453" y="253"/>
                </a:lnTo>
                <a:lnTo>
                  <a:pt x="440" y="272"/>
                </a:lnTo>
                <a:lnTo>
                  <a:pt x="425" y="292"/>
                </a:lnTo>
                <a:lnTo>
                  <a:pt x="409" y="311"/>
                </a:lnTo>
                <a:lnTo>
                  <a:pt x="394" y="328"/>
                </a:lnTo>
                <a:lnTo>
                  <a:pt x="377" y="345"/>
                </a:lnTo>
                <a:lnTo>
                  <a:pt x="361" y="363"/>
                </a:lnTo>
                <a:lnTo>
                  <a:pt x="346" y="380"/>
                </a:lnTo>
                <a:lnTo>
                  <a:pt x="313" y="411"/>
                </a:lnTo>
                <a:lnTo>
                  <a:pt x="279" y="441"/>
                </a:lnTo>
                <a:lnTo>
                  <a:pt x="244" y="470"/>
                </a:lnTo>
                <a:lnTo>
                  <a:pt x="206" y="497"/>
                </a:lnTo>
                <a:lnTo>
                  <a:pt x="187" y="510"/>
                </a:lnTo>
                <a:lnTo>
                  <a:pt x="167" y="5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287"/>
          <p:cNvSpPr/>
          <p:nvPr/>
        </p:nvSpPr>
        <p:spPr>
          <a:xfrm>
            <a:off x="5802480" y="3173400"/>
            <a:ext cx="628560" cy="171360"/>
          </a:xfrm>
          <a:custGeom>
            <a:avLst/>
            <a:gdLst/>
            <a:ahLst/>
            <a:rect l="l" t="t" r="r" b="b"/>
            <a:pathLst>
              <a:path w="791" h="215">
                <a:moveTo>
                  <a:pt x="331" y="78"/>
                </a:moveTo>
                <a:lnTo>
                  <a:pt x="352" y="73"/>
                </a:lnTo>
                <a:lnTo>
                  <a:pt x="371" y="69"/>
                </a:lnTo>
                <a:lnTo>
                  <a:pt x="392" y="63"/>
                </a:lnTo>
                <a:lnTo>
                  <a:pt x="409" y="59"/>
                </a:lnTo>
                <a:lnTo>
                  <a:pt x="428" y="53"/>
                </a:lnTo>
                <a:lnTo>
                  <a:pt x="446" y="50"/>
                </a:lnTo>
                <a:lnTo>
                  <a:pt x="465" y="46"/>
                </a:lnTo>
                <a:lnTo>
                  <a:pt x="480" y="42"/>
                </a:lnTo>
                <a:lnTo>
                  <a:pt x="498" y="38"/>
                </a:lnTo>
                <a:lnTo>
                  <a:pt x="513" y="34"/>
                </a:lnTo>
                <a:lnTo>
                  <a:pt x="528" y="30"/>
                </a:lnTo>
                <a:lnTo>
                  <a:pt x="544" y="28"/>
                </a:lnTo>
                <a:lnTo>
                  <a:pt x="557" y="25"/>
                </a:lnTo>
                <a:lnTo>
                  <a:pt x="570" y="23"/>
                </a:lnTo>
                <a:lnTo>
                  <a:pt x="584" y="19"/>
                </a:lnTo>
                <a:lnTo>
                  <a:pt x="597" y="17"/>
                </a:lnTo>
                <a:lnTo>
                  <a:pt x="609" y="15"/>
                </a:lnTo>
                <a:lnTo>
                  <a:pt x="620" y="13"/>
                </a:lnTo>
                <a:lnTo>
                  <a:pt x="632" y="11"/>
                </a:lnTo>
                <a:lnTo>
                  <a:pt x="643" y="9"/>
                </a:lnTo>
                <a:lnTo>
                  <a:pt x="653" y="7"/>
                </a:lnTo>
                <a:lnTo>
                  <a:pt x="663" y="5"/>
                </a:lnTo>
                <a:lnTo>
                  <a:pt x="672" y="5"/>
                </a:lnTo>
                <a:lnTo>
                  <a:pt x="680" y="3"/>
                </a:lnTo>
                <a:lnTo>
                  <a:pt x="688" y="2"/>
                </a:lnTo>
                <a:lnTo>
                  <a:pt x="695" y="2"/>
                </a:lnTo>
                <a:lnTo>
                  <a:pt x="703" y="2"/>
                </a:lnTo>
                <a:lnTo>
                  <a:pt x="711" y="0"/>
                </a:lnTo>
                <a:lnTo>
                  <a:pt x="716" y="0"/>
                </a:lnTo>
                <a:lnTo>
                  <a:pt x="722" y="0"/>
                </a:lnTo>
                <a:lnTo>
                  <a:pt x="726" y="0"/>
                </a:lnTo>
                <a:lnTo>
                  <a:pt x="732" y="0"/>
                </a:lnTo>
                <a:lnTo>
                  <a:pt x="743" y="0"/>
                </a:lnTo>
                <a:lnTo>
                  <a:pt x="755" y="2"/>
                </a:lnTo>
                <a:lnTo>
                  <a:pt x="766" y="3"/>
                </a:lnTo>
                <a:lnTo>
                  <a:pt x="774" y="5"/>
                </a:lnTo>
                <a:lnTo>
                  <a:pt x="782" y="9"/>
                </a:lnTo>
                <a:lnTo>
                  <a:pt x="784" y="11"/>
                </a:lnTo>
                <a:lnTo>
                  <a:pt x="785" y="13"/>
                </a:lnTo>
                <a:lnTo>
                  <a:pt x="787" y="15"/>
                </a:lnTo>
                <a:lnTo>
                  <a:pt x="789" y="17"/>
                </a:lnTo>
                <a:lnTo>
                  <a:pt x="789" y="19"/>
                </a:lnTo>
                <a:lnTo>
                  <a:pt x="791" y="23"/>
                </a:lnTo>
                <a:lnTo>
                  <a:pt x="789" y="25"/>
                </a:lnTo>
                <a:lnTo>
                  <a:pt x="789" y="26"/>
                </a:lnTo>
                <a:lnTo>
                  <a:pt x="787" y="28"/>
                </a:lnTo>
                <a:lnTo>
                  <a:pt x="785" y="30"/>
                </a:lnTo>
                <a:lnTo>
                  <a:pt x="784" y="32"/>
                </a:lnTo>
                <a:lnTo>
                  <a:pt x="780" y="36"/>
                </a:lnTo>
                <a:lnTo>
                  <a:pt x="776" y="38"/>
                </a:lnTo>
                <a:lnTo>
                  <a:pt x="772" y="40"/>
                </a:lnTo>
                <a:lnTo>
                  <a:pt x="768" y="44"/>
                </a:lnTo>
                <a:lnTo>
                  <a:pt x="762" y="46"/>
                </a:lnTo>
                <a:lnTo>
                  <a:pt x="757" y="50"/>
                </a:lnTo>
                <a:lnTo>
                  <a:pt x="749" y="51"/>
                </a:lnTo>
                <a:lnTo>
                  <a:pt x="743" y="55"/>
                </a:lnTo>
                <a:lnTo>
                  <a:pt x="736" y="59"/>
                </a:lnTo>
                <a:lnTo>
                  <a:pt x="726" y="61"/>
                </a:lnTo>
                <a:lnTo>
                  <a:pt x="718" y="65"/>
                </a:lnTo>
                <a:lnTo>
                  <a:pt x="709" y="69"/>
                </a:lnTo>
                <a:lnTo>
                  <a:pt x="699" y="73"/>
                </a:lnTo>
                <a:lnTo>
                  <a:pt x="688" y="76"/>
                </a:lnTo>
                <a:lnTo>
                  <a:pt x="676" y="80"/>
                </a:lnTo>
                <a:lnTo>
                  <a:pt x="665" y="84"/>
                </a:lnTo>
                <a:lnTo>
                  <a:pt x="653" y="88"/>
                </a:lnTo>
                <a:lnTo>
                  <a:pt x="640" y="92"/>
                </a:lnTo>
                <a:lnTo>
                  <a:pt x="626" y="96"/>
                </a:lnTo>
                <a:lnTo>
                  <a:pt x="613" y="101"/>
                </a:lnTo>
                <a:lnTo>
                  <a:pt x="597" y="105"/>
                </a:lnTo>
                <a:lnTo>
                  <a:pt x="582" y="111"/>
                </a:lnTo>
                <a:lnTo>
                  <a:pt x="567" y="115"/>
                </a:lnTo>
                <a:lnTo>
                  <a:pt x="549" y="121"/>
                </a:lnTo>
                <a:lnTo>
                  <a:pt x="532" y="124"/>
                </a:lnTo>
                <a:lnTo>
                  <a:pt x="515" y="130"/>
                </a:lnTo>
                <a:lnTo>
                  <a:pt x="496" y="136"/>
                </a:lnTo>
                <a:lnTo>
                  <a:pt x="459" y="145"/>
                </a:lnTo>
                <a:lnTo>
                  <a:pt x="425" y="155"/>
                </a:lnTo>
                <a:lnTo>
                  <a:pt x="390" y="165"/>
                </a:lnTo>
                <a:lnTo>
                  <a:pt x="359" y="172"/>
                </a:lnTo>
                <a:lnTo>
                  <a:pt x="329" y="180"/>
                </a:lnTo>
                <a:lnTo>
                  <a:pt x="300" y="186"/>
                </a:lnTo>
                <a:lnTo>
                  <a:pt x="275" y="192"/>
                </a:lnTo>
                <a:lnTo>
                  <a:pt x="250" y="197"/>
                </a:lnTo>
                <a:lnTo>
                  <a:pt x="227" y="201"/>
                </a:lnTo>
                <a:lnTo>
                  <a:pt x="206" y="205"/>
                </a:lnTo>
                <a:lnTo>
                  <a:pt x="187" y="209"/>
                </a:lnTo>
                <a:lnTo>
                  <a:pt x="169" y="211"/>
                </a:lnTo>
                <a:lnTo>
                  <a:pt x="154" y="213"/>
                </a:lnTo>
                <a:lnTo>
                  <a:pt x="141" y="215"/>
                </a:lnTo>
                <a:lnTo>
                  <a:pt x="127" y="215"/>
                </a:lnTo>
                <a:lnTo>
                  <a:pt x="123" y="215"/>
                </a:lnTo>
                <a:lnTo>
                  <a:pt x="117" y="215"/>
                </a:lnTo>
                <a:lnTo>
                  <a:pt x="108" y="215"/>
                </a:lnTo>
                <a:lnTo>
                  <a:pt x="98" y="215"/>
                </a:lnTo>
                <a:lnTo>
                  <a:pt x="89" y="215"/>
                </a:lnTo>
                <a:lnTo>
                  <a:pt x="79" y="213"/>
                </a:lnTo>
                <a:lnTo>
                  <a:pt x="71" y="213"/>
                </a:lnTo>
                <a:lnTo>
                  <a:pt x="66" y="211"/>
                </a:lnTo>
                <a:lnTo>
                  <a:pt x="60" y="209"/>
                </a:lnTo>
                <a:lnTo>
                  <a:pt x="52" y="209"/>
                </a:lnTo>
                <a:lnTo>
                  <a:pt x="48" y="207"/>
                </a:lnTo>
                <a:lnTo>
                  <a:pt x="43" y="205"/>
                </a:lnTo>
                <a:lnTo>
                  <a:pt x="39" y="203"/>
                </a:lnTo>
                <a:lnTo>
                  <a:pt x="35" y="201"/>
                </a:lnTo>
                <a:lnTo>
                  <a:pt x="29" y="197"/>
                </a:lnTo>
                <a:lnTo>
                  <a:pt x="23" y="193"/>
                </a:lnTo>
                <a:lnTo>
                  <a:pt x="16" y="184"/>
                </a:lnTo>
                <a:lnTo>
                  <a:pt x="12" y="180"/>
                </a:lnTo>
                <a:lnTo>
                  <a:pt x="8" y="176"/>
                </a:lnTo>
                <a:lnTo>
                  <a:pt x="4" y="170"/>
                </a:lnTo>
                <a:lnTo>
                  <a:pt x="2" y="167"/>
                </a:lnTo>
                <a:lnTo>
                  <a:pt x="0" y="163"/>
                </a:lnTo>
                <a:lnTo>
                  <a:pt x="0" y="159"/>
                </a:lnTo>
                <a:lnTo>
                  <a:pt x="0" y="157"/>
                </a:lnTo>
                <a:lnTo>
                  <a:pt x="2" y="155"/>
                </a:lnTo>
                <a:lnTo>
                  <a:pt x="6" y="153"/>
                </a:lnTo>
                <a:lnTo>
                  <a:pt x="8" y="151"/>
                </a:lnTo>
                <a:lnTo>
                  <a:pt x="12" y="151"/>
                </a:lnTo>
                <a:lnTo>
                  <a:pt x="16" y="149"/>
                </a:lnTo>
                <a:lnTo>
                  <a:pt x="20" y="147"/>
                </a:lnTo>
                <a:lnTo>
                  <a:pt x="25" y="145"/>
                </a:lnTo>
                <a:lnTo>
                  <a:pt x="31" y="144"/>
                </a:lnTo>
                <a:lnTo>
                  <a:pt x="39" y="142"/>
                </a:lnTo>
                <a:lnTo>
                  <a:pt x="46" y="140"/>
                </a:lnTo>
                <a:lnTo>
                  <a:pt x="54" y="138"/>
                </a:lnTo>
                <a:lnTo>
                  <a:pt x="62" y="136"/>
                </a:lnTo>
                <a:lnTo>
                  <a:pt x="71" y="134"/>
                </a:lnTo>
                <a:lnTo>
                  <a:pt x="81" y="132"/>
                </a:lnTo>
                <a:lnTo>
                  <a:pt x="93" y="128"/>
                </a:lnTo>
                <a:lnTo>
                  <a:pt x="104" y="126"/>
                </a:lnTo>
                <a:lnTo>
                  <a:pt x="116" y="124"/>
                </a:lnTo>
                <a:lnTo>
                  <a:pt x="127" y="121"/>
                </a:lnTo>
                <a:lnTo>
                  <a:pt x="141" y="119"/>
                </a:lnTo>
                <a:lnTo>
                  <a:pt x="154" y="115"/>
                </a:lnTo>
                <a:lnTo>
                  <a:pt x="169" y="113"/>
                </a:lnTo>
                <a:lnTo>
                  <a:pt x="185" y="109"/>
                </a:lnTo>
                <a:lnTo>
                  <a:pt x="200" y="105"/>
                </a:lnTo>
                <a:lnTo>
                  <a:pt x="217" y="101"/>
                </a:lnTo>
                <a:lnTo>
                  <a:pt x="235" y="98"/>
                </a:lnTo>
                <a:lnTo>
                  <a:pt x="252" y="96"/>
                </a:lnTo>
                <a:lnTo>
                  <a:pt x="271" y="92"/>
                </a:lnTo>
                <a:lnTo>
                  <a:pt x="290" y="86"/>
                </a:lnTo>
                <a:lnTo>
                  <a:pt x="309" y="82"/>
                </a:lnTo>
                <a:lnTo>
                  <a:pt x="331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荤  椿  佐  碳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膳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俸  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1554840" y="22701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6"/>
          <p:cNvSpPr/>
          <p:nvPr/>
        </p:nvSpPr>
        <p:spPr>
          <a:xfrm>
            <a:off x="2660760" y="23097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4079520" y="231624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5330520" y="23209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1436760" y="36669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2792160" y="366696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è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3"/>
          <p:cNvSpPr/>
          <p:nvPr/>
        </p:nvSpPr>
        <p:spPr>
          <a:xfrm>
            <a:off x="4077360" y="36669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à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5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1425600" y="3149640"/>
            <a:ext cx="674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荤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菜    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脂肪    臊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子  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 佐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348560" y="2600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3093480" y="256860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矩形 9"/>
          <p:cNvSpPr/>
          <p:nvPr/>
        </p:nvSpPr>
        <p:spPr>
          <a:xfrm>
            <a:off x="4884480" y="26002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à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0"/>
          <p:cNvSpPr/>
          <p:nvPr/>
        </p:nvSpPr>
        <p:spPr>
          <a:xfrm>
            <a:off x="6475680" y="26002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"/>
          <p:cNvSpPr/>
          <p:nvPr/>
        </p:nvSpPr>
        <p:spPr>
          <a:xfrm>
            <a:off x="3740400" y="26161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á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3076560" y="2744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4"/>
          <p:cNvGrpSpPr/>
          <p:nvPr/>
        </p:nvGrpSpPr>
        <p:grpSpPr>
          <a:xfrm>
            <a:off x="3548160" y="1933560"/>
            <a:ext cx="3632040" cy="2013120"/>
            <a:chOff x="3548160" y="1933560"/>
            <a:chExt cx="3632040" cy="2013120"/>
          </a:xfrm>
        </p:grpSpPr>
        <p:sp>
          <p:nvSpPr>
            <p:cNvPr id="267" name="左大括号 2"/>
            <p:cNvSpPr/>
            <p:nvPr/>
          </p:nvSpPr>
          <p:spPr>
            <a:xfrm>
              <a:off x="3548160" y="2081160"/>
              <a:ext cx="380160" cy="1789200"/>
            </a:xfrm>
            <a:custGeom>
              <a:avLst/>
              <a:gdLst>
                <a:gd name="textAreaLeft" fmla="*/ 243000 w 380160"/>
                <a:gd name="textAreaRight" fmla="*/ 380520 w 380160"/>
                <a:gd name="textAreaTop" fmla="*/ 7560 h 1789200"/>
                <a:gd name="textAreaBottom" fmla="*/ 178164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7"/>
                    <a:pt x="10800" y="293"/>
                  </a:cubicBezTo>
                  <a:lnTo>
                    <a:pt x="10800" y="10507"/>
                  </a:lnTo>
                  <a:cubicBezTo>
                    <a:pt x="10800" y="10654"/>
                    <a:pt x="5400" y="10800"/>
                    <a:pt x="0" y="10800"/>
                  </a:cubicBezTo>
                  <a:cubicBezTo>
                    <a:pt x="5400" y="10800"/>
                    <a:pt x="10800" y="10947"/>
                    <a:pt x="10800" y="11093"/>
                  </a:cubicBezTo>
                  <a:lnTo>
                    <a:pt x="10800" y="21307"/>
                  </a:lnTo>
                  <a:cubicBezTo>
                    <a:pt x="10800" y="2145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3"/>
            <p:cNvSpPr/>
            <p:nvPr/>
          </p:nvSpPr>
          <p:spPr>
            <a:xfrm>
              <a:off x="3767040" y="1933560"/>
              <a:ext cx="341316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ó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薄利多销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不薄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  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ò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薄荷）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   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TextBox 13"/>
          <p:cNvSpPr/>
          <p:nvPr/>
        </p:nvSpPr>
        <p:spPr>
          <a:xfrm>
            <a:off x="3076560" y="46674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5"/>
          <p:cNvGrpSpPr/>
          <p:nvPr/>
        </p:nvGrpSpPr>
        <p:grpSpPr>
          <a:xfrm>
            <a:off x="3638520" y="4227480"/>
            <a:ext cx="2741760" cy="1373400"/>
            <a:chOff x="3638520" y="4227480"/>
            <a:chExt cx="2741760" cy="1373400"/>
          </a:xfrm>
        </p:grpSpPr>
        <p:sp>
          <p:nvSpPr>
            <p:cNvPr id="271" name="左大括号 14"/>
            <p:cNvSpPr/>
            <p:nvPr/>
          </p:nvSpPr>
          <p:spPr>
            <a:xfrm>
              <a:off x="3638520" y="4446360"/>
              <a:ext cx="150840" cy="95112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Box 15"/>
            <p:cNvSpPr/>
            <p:nvPr/>
          </p:nvSpPr>
          <p:spPr>
            <a:xfrm>
              <a:off x="3773160" y="422748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调解）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调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7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127476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随心所欲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滋补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孤苦无依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矩形 1"/>
          <p:cNvSpPr/>
          <p:nvPr/>
        </p:nvSpPr>
        <p:spPr>
          <a:xfrm>
            <a:off x="2085840" y="1830240"/>
            <a:ext cx="6296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一切都由着自己的心 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我们二人并坐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随心所 欲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聊天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供给身体需要的养分；补 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枸杞虽然有很好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滋补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和治疗作用，但也不是所有人都适 合服用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孤独困苦，无依无靠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在这饥寒交迫的夜晚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孤苦无依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我多么想找个人排解心中的 寂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1"/>
          <p:cNvSpPr/>
          <p:nvPr/>
        </p:nvSpPr>
        <p:spPr>
          <a:xfrm>
            <a:off x="1258920" y="18082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廉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传遐迩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方设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8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矩形 1"/>
          <p:cNvSpPr/>
          <p:nvPr/>
        </p:nvSpPr>
        <p:spPr>
          <a:xfrm>
            <a:off x="2070000" y="1830240"/>
            <a:ext cx="62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损公肥私；不贪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心里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廉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杆秤，做事就有准星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名声传播了很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兵马俑、长城、故宫都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名传遐迩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古迹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想尽办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把学生证丢了，正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想方设法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寻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3954960" y="1682640"/>
            <a:ext cx="18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随心所欲 为所欲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021040" y="2176560"/>
            <a:ext cx="64609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都有“想怎样就怎样”的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所欲为”以第一个“为”为骨干，所以“为所欲 为”的动作性比“随心所欲”强，是想干什么就干什么，清楚地表明“干”，是贬义词；“随心所欲”是想怎样就怎样，并不一定指“干”，是中性词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虽然贵为天子，可光绪帝就连娶亲大事都无权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随心所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只能听从西太后的摆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几个混混经常在这一带出没，他们欺行霸市，</a:t>
            </a:r>
            <a:r>
              <a:rPr b="1" lang="zh-CN" sz="2000" spc="-1" strike="noStrike">
                <a:solidFill>
                  <a:srgbClr val="ff33cc"/>
                </a:solidFill>
                <a:latin typeface="宋体"/>
              </a:rPr>
              <a:t>为所欲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13"/>
          <p:cNvGrpSpPr/>
          <p:nvPr/>
        </p:nvGrpSpPr>
        <p:grpSpPr>
          <a:xfrm>
            <a:off x="495360" y="969840"/>
            <a:ext cx="2593800" cy="666720"/>
            <a:chOff x="495360" y="969840"/>
            <a:chExt cx="2593800" cy="666720"/>
          </a:xfrm>
        </p:grpSpPr>
        <p:sp>
          <p:nvSpPr>
            <p:cNvPr id="292" name="圆角矩形 14"/>
            <p:cNvSpPr/>
            <p:nvPr/>
          </p:nvSpPr>
          <p:spPr>
            <a:xfrm>
              <a:off x="1311120" y="1107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95360" y="9698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文本框 16"/>
            <p:cNvSpPr/>
            <p:nvPr/>
          </p:nvSpPr>
          <p:spPr>
            <a:xfrm>
              <a:off x="1570680" y="11268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4"/>
          <p:cNvGrpSpPr/>
          <p:nvPr/>
        </p:nvGrpSpPr>
        <p:grpSpPr>
          <a:xfrm>
            <a:off x="523800" y="2178000"/>
            <a:ext cx="1670040" cy="429120"/>
            <a:chOff x="523800" y="2178000"/>
            <a:chExt cx="1670040" cy="429120"/>
          </a:xfrm>
        </p:grpSpPr>
        <p:pic>
          <p:nvPicPr>
            <p:cNvPr id="29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523800" y="223236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3"/>
            <p:cNvSpPr/>
            <p:nvPr/>
          </p:nvSpPr>
          <p:spPr>
            <a:xfrm>
              <a:off x="866880" y="217800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20"/>
          <p:cNvGrpSpPr/>
          <p:nvPr/>
        </p:nvGrpSpPr>
        <p:grpSpPr>
          <a:xfrm>
            <a:off x="523800" y="2776680"/>
            <a:ext cx="1670040" cy="429120"/>
            <a:chOff x="523800" y="2776680"/>
            <a:chExt cx="1670040" cy="429120"/>
          </a:xfrm>
        </p:grpSpPr>
        <p:pic>
          <p:nvPicPr>
            <p:cNvPr id="299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523800" y="283104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22"/>
            <p:cNvSpPr/>
            <p:nvPr/>
          </p:nvSpPr>
          <p:spPr>
            <a:xfrm>
              <a:off x="866880" y="277668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23"/>
          <p:cNvGrpSpPr/>
          <p:nvPr/>
        </p:nvGrpSpPr>
        <p:grpSpPr>
          <a:xfrm>
            <a:off x="523800" y="4481640"/>
            <a:ext cx="1670040" cy="429120"/>
            <a:chOff x="523800" y="4481640"/>
            <a:chExt cx="1670040" cy="429120"/>
          </a:xfrm>
        </p:grpSpPr>
        <p:pic>
          <p:nvPicPr>
            <p:cNvPr id="302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523800" y="453600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25"/>
            <p:cNvSpPr/>
            <p:nvPr/>
          </p:nvSpPr>
          <p:spPr>
            <a:xfrm>
              <a:off x="866880" y="4481640"/>
              <a:ext cx="132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1"/>
          <p:cNvSpPr/>
          <p:nvPr/>
        </p:nvSpPr>
        <p:spPr>
          <a:xfrm>
            <a:off x="887400" y="16462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色香味俱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豆腐的普及性和特点，流露出赞美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赞颂豆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从搭配、营养价值、 发展历史、相关文化和麻婆豆腐五个方面赞颂豆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 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平民但不平凡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作者对 豆腐的赞美，表达自己对 豆腐的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7"/>
          <p:cNvSpPr/>
          <p:nvPr/>
        </p:nvSpPr>
        <p:spPr>
          <a:xfrm>
            <a:off x="1324080" y="2760840"/>
            <a:ext cx="671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者“颂”豆腐，更重要的是赞颂豆腐具有中国文化精神的一个特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平易而脱俗、平实而深切、朴素而隽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898560" y="142416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作者为什么写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豆腐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这样一个题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2036880" y="2077920"/>
            <a:ext cx="5181480" cy="356076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2571840" y="905040"/>
            <a:ext cx="4819680" cy="1180800"/>
            <a:chOff x="2571840" y="905040"/>
            <a:chExt cx="4819680" cy="1180800"/>
          </a:xfrm>
        </p:grpSpPr>
        <p:sp>
          <p:nvSpPr>
            <p:cNvPr id="66" name="Text Box 2"/>
            <p:cNvSpPr/>
            <p:nvPr/>
          </p:nvSpPr>
          <p:spPr>
            <a:xfrm>
              <a:off x="383076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豆腐颂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2571840" y="905040"/>
              <a:ext cx="1180800" cy="1180800"/>
              <a:chOff x="2571840" y="905040"/>
              <a:chExt cx="118080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257184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261792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71" name="任意多边形 24" descr=""/>
            <p:cNvPicPr/>
            <p:nvPr/>
          </p:nvPicPr>
          <p:blipFill>
            <a:blip r:embed="rId6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任意多边形 27" descr=""/>
            <p:cNvPicPr/>
            <p:nvPr/>
          </p:nvPicPr>
          <p:blipFill>
            <a:blip r:embed="rId8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任意多边形 28" descr=""/>
            <p:cNvPicPr/>
            <p:nvPr/>
          </p:nvPicPr>
          <p:blipFill>
            <a:blip r:embed="rId9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流程图: 摘录 29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流程图: 摘录 3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流程图: 摘录 3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1017720" y="292572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充满浓郁的生活气息，风格平易朴实、亲切自然。关于豆腐的诸多知识、掌故和见闻，作家娓娓道来，如话家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312" name=""/>
          <p:cNvGraphicFramePr/>
          <p:nvPr/>
        </p:nvGraphicFramePr>
        <p:xfrm>
          <a:off x="33256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325680" y="4849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4968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496880" y="4849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矩形 17"/>
          <p:cNvSpPr/>
          <p:nvPr/>
        </p:nvSpPr>
        <p:spPr>
          <a:xfrm>
            <a:off x="835200" y="1992240"/>
            <a:ext cx="76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根据拼音写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òu     fu          yīnɡ   tɑo       tànɡ shǒu      zhī    fá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ài   piàn        yùn     fù        pān   dēnɡ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21"/>
          <p:cNvSpPr/>
          <p:nvPr/>
        </p:nvSpPr>
        <p:spPr>
          <a:xfrm>
            <a:off x="170784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豆 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22"/>
          <p:cNvSpPr/>
          <p:nvPr/>
        </p:nvSpPr>
        <p:spPr>
          <a:xfrm>
            <a:off x="1707840" y="489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钙 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23"/>
          <p:cNvSpPr/>
          <p:nvPr/>
        </p:nvSpPr>
        <p:spPr>
          <a:xfrm>
            <a:off x="354600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樱 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4"/>
          <p:cNvSpPr/>
          <p:nvPr/>
        </p:nvSpPr>
        <p:spPr>
          <a:xfrm>
            <a:off x="3546000" y="489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孕 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702480" y="327168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矩形 26"/>
          <p:cNvSpPr/>
          <p:nvPr/>
        </p:nvSpPr>
        <p:spPr>
          <a:xfrm>
            <a:off x="691488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脂 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027760" y="327168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矩形 28"/>
          <p:cNvSpPr/>
          <p:nvPr/>
        </p:nvSpPr>
        <p:spPr>
          <a:xfrm>
            <a:off x="524808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烫 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027760" y="48499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矩形 30"/>
          <p:cNvSpPr/>
          <p:nvPr/>
        </p:nvSpPr>
        <p:spPr>
          <a:xfrm>
            <a:off x="5248080" y="489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攀 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3"/>
          <p:cNvSpPr/>
          <p:nvPr/>
        </p:nvSpPr>
        <p:spPr>
          <a:xfrm>
            <a:off x="803160" y="1243080"/>
            <a:ext cx="772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充词语，并选择合适的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欲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苦无依　　 百尝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　　 苦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甜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亲叙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律面前人人平等，任何人都不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做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迪生想让晚上和白天一样亮，于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研究，发明了电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心是一首飘荡在夜空的歌谣，它会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人感到温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1884240" y="192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4016160" y="192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7548480" y="192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9"/>
          <p:cNvSpPr/>
          <p:nvPr/>
        </p:nvSpPr>
        <p:spPr>
          <a:xfrm>
            <a:off x="2188440" y="247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4771800" y="247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22"/>
          <p:cNvSpPr/>
          <p:nvPr/>
        </p:nvSpPr>
        <p:spPr>
          <a:xfrm>
            <a:off x="6481800" y="247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23"/>
          <p:cNvSpPr/>
          <p:nvPr/>
        </p:nvSpPr>
        <p:spPr>
          <a:xfrm>
            <a:off x="6533640" y="30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随心所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4"/>
          <p:cNvSpPr/>
          <p:nvPr/>
        </p:nvSpPr>
        <p:spPr>
          <a:xfrm>
            <a:off x="676116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想方设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21"/>
          <p:cNvSpPr/>
          <p:nvPr/>
        </p:nvSpPr>
        <p:spPr>
          <a:xfrm>
            <a:off x="7071480" y="521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孤苦无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797040" y="12445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是含有深远哲学意味的食品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在中国社会中，是贫苦、老实和勤劳的象征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6"/>
          <p:cNvSpPr/>
          <p:nvPr/>
        </p:nvSpPr>
        <p:spPr>
          <a:xfrm>
            <a:off x="1278000" y="2448000"/>
            <a:ext cx="70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难道豆腐不是含有深远哲学意味的食品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8"/>
          <p:cNvSpPr/>
          <p:nvPr/>
        </p:nvSpPr>
        <p:spPr>
          <a:xfrm>
            <a:off x="1278000" y="410040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豆腐是象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"/>
          <p:cNvSpPr/>
          <p:nvPr/>
        </p:nvSpPr>
        <p:spPr>
          <a:xfrm>
            <a:off x="797040" y="1197000"/>
            <a:ext cx="735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答应找小兰一起去看画展。你应该准时去找她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关联词连成一句话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洁白，是视觉上的美；它柔软，是触觉上的美；它香淡，是味觉上的美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仿写排比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1197000" y="2289240"/>
            <a:ext cx="68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如果你答应找小兰一起去看画展，就应该准时去找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8"/>
          <p:cNvSpPr/>
          <p:nvPr/>
        </p:nvSpPr>
        <p:spPr>
          <a:xfrm>
            <a:off x="1197000" y="447048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关爱是一缕阳光，温暖学生的心灵；关爱是一阵清风，吹散学生的忧愁；关爱是一场春雨，滋润学生的心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荤、碳”等生字，会写“腐、烫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了解课文是从哪几个方面来赞颂豆腐的，体会作者所表达的对豆腐的赞美之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817560" y="1622520"/>
            <a:ext cx="76662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豆腐的历史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我国是最早种植大豆的国家，也是最早利用大豆制成豆腐制品的国家。豆腐的起源，可以 追溯到汉代。两汉时，淮河流域的农民已使用石制水磨。农民把米、豆用水浸泡后放入装有漏 斗的水磨内，磨出糊糊，摊在锅里做煎饼吃。煎饼加上自制的豆浆，是淮河两岸农家的日常食物。 农民种豆、煮豆、磨豆、吃豆，积累了各种经验。后来，人们从豆浆久放变质凝结这一现象中 得到启发，终于用原始的自淀法创制了最早的豆腐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2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9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93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上部要 紧凑；右下部横画宜 长，托住右上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3"/>
          <p:cNvSpPr/>
          <p:nvPr/>
        </p:nvSpPr>
        <p:spPr>
          <a:xfrm>
            <a:off x="223524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59"/>
          <p:cNvSpPr/>
          <p:nvPr/>
        </p:nvSpPr>
        <p:spPr>
          <a:xfrm>
            <a:off x="6692760" y="4386240"/>
            <a:ext cx="376200" cy="209520"/>
          </a:xfrm>
          <a:custGeom>
            <a:avLst/>
            <a:gdLst/>
            <a:ahLst/>
            <a:rect l="l" t="t" r="r" b="b"/>
            <a:pathLst>
              <a:path w="474" h="265">
                <a:moveTo>
                  <a:pt x="271" y="25"/>
                </a:moveTo>
                <a:lnTo>
                  <a:pt x="284" y="29"/>
                </a:lnTo>
                <a:lnTo>
                  <a:pt x="296" y="31"/>
                </a:lnTo>
                <a:lnTo>
                  <a:pt x="307" y="34"/>
                </a:lnTo>
                <a:lnTo>
                  <a:pt x="317" y="36"/>
                </a:lnTo>
                <a:lnTo>
                  <a:pt x="329" y="40"/>
                </a:lnTo>
                <a:lnTo>
                  <a:pt x="338" y="44"/>
                </a:lnTo>
                <a:lnTo>
                  <a:pt x="355" y="54"/>
                </a:lnTo>
                <a:lnTo>
                  <a:pt x="373" y="63"/>
                </a:lnTo>
                <a:lnTo>
                  <a:pt x="390" y="75"/>
                </a:lnTo>
                <a:lnTo>
                  <a:pt x="405" y="86"/>
                </a:lnTo>
                <a:lnTo>
                  <a:pt x="421" y="100"/>
                </a:lnTo>
                <a:lnTo>
                  <a:pt x="428" y="107"/>
                </a:lnTo>
                <a:lnTo>
                  <a:pt x="434" y="113"/>
                </a:lnTo>
                <a:lnTo>
                  <a:pt x="440" y="119"/>
                </a:lnTo>
                <a:lnTo>
                  <a:pt x="446" y="127"/>
                </a:lnTo>
                <a:lnTo>
                  <a:pt x="451" y="132"/>
                </a:lnTo>
                <a:lnTo>
                  <a:pt x="455" y="138"/>
                </a:lnTo>
                <a:lnTo>
                  <a:pt x="459" y="144"/>
                </a:lnTo>
                <a:lnTo>
                  <a:pt x="463" y="150"/>
                </a:lnTo>
                <a:lnTo>
                  <a:pt x="469" y="161"/>
                </a:lnTo>
                <a:lnTo>
                  <a:pt x="472" y="173"/>
                </a:lnTo>
                <a:lnTo>
                  <a:pt x="474" y="186"/>
                </a:lnTo>
                <a:lnTo>
                  <a:pt x="474" y="199"/>
                </a:lnTo>
                <a:lnTo>
                  <a:pt x="474" y="205"/>
                </a:lnTo>
                <a:lnTo>
                  <a:pt x="474" y="211"/>
                </a:lnTo>
                <a:lnTo>
                  <a:pt x="474" y="217"/>
                </a:lnTo>
                <a:lnTo>
                  <a:pt x="474" y="222"/>
                </a:lnTo>
                <a:lnTo>
                  <a:pt x="474" y="232"/>
                </a:lnTo>
                <a:lnTo>
                  <a:pt x="472" y="240"/>
                </a:lnTo>
                <a:lnTo>
                  <a:pt x="471" y="246"/>
                </a:lnTo>
                <a:lnTo>
                  <a:pt x="469" y="251"/>
                </a:lnTo>
                <a:lnTo>
                  <a:pt x="465" y="257"/>
                </a:lnTo>
                <a:lnTo>
                  <a:pt x="461" y="261"/>
                </a:lnTo>
                <a:lnTo>
                  <a:pt x="457" y="263"/>
                </a:lnTo>
                <a:lnTo>
                  <a:pt x="453" y="265"/>
                </a:lnTo>
                <a:lnTo>
                  <a:pt x="449" y="265"/>
                </a:lnTo>
                <a:lnTo>
                  <a:pt x="444" y="265"/>
                </a:lnTo>
                <a:lnTo>
                  <a:pt x="436" y="263"/>
                </a:lnTo>
                <a:lnTo>
                  <a:pt x="428" y="261"/>
                </a:lnTo>
                <a:lnTo>
                  <a:pt x="421" y="259"/>
                </a:lnTo>
                <a:lnTo>
                  <a:pt x="411" y="255"/>
                </a:lnTo>
                <a:lnTo>
                  <a:pt x="401" y="251"/>
                </a:lnTo>
                <a:lnTo>
                  <a:pt x="392" y="247"/>
                </a:lnTo>
                <a:lnTo>
                  <a:pt x="380" y="242"/>
                </a:lnTo>
                <a:lnTo>
                  <a:pt x="367" y="238"/>
                </a:lnTo>
                <a:lnTo>
                  <a:pt x="355" y="232"/>
                </a:lnTo>
                <a:lnTo>
                  <a:pt x="340" y="224"/>
                </a:lnTo>
                <a:lnTo>
                  <a:pt x="327" y="219"/>
                </a:lnTo>
                <a:lnTo>
                  <a:pt x="311" y="211"/>
                </a:lnTo>
                <a:lnTo>
                  <a:pt x="294" y="205"/>
                </a:lnTo>
                <a:lnTo>
                  <a:pt x="277" y="198"/>
                </a:lnTo>
                <a:lnTo>
                  <a:pt x="261" y="190"/>
                </a:lnTo>
                <a:lnTo>
                  <a:pt x="246" y="184"/>
                </a:lnTo>
                <a:lnTo>
                  <a:pt x="231" y="176"/>
                </a:lnTo>
                <a:lnTo>
                  <a:pt x="215" y="169"/>
                </a:lnTo>
                <a:lnTo>
                  <a:pt x="202" y="163"/>
                </a:lnTo>
                <a:lnTo>
                  <a:pt x="188" y="155"/>
                </a:lnTo>
                <a:lnTo>
                  <a:pt x="162" y="142"/>
                </a:lnTo>
                <a:lnTo>
                  <a:pt x="138" y="128"/>
                </a:lnTo>
                <a:lnTo>
                  <a:pt x="115" y="113"/>
                </a:lnTo>
                <a:lnTo>
                  <a:pt x="94" y="100"/>
                </a:lnTo>
                <a:lnTo>
                  <a:pt x="83" y="92"/>
                </a:lnTo>
                <a:lnTo>
                  <a:pt x="71" y="86"/>
                </a:lnTo>
                <a:lnTo>
                  <a:pt x="62" y="80"/>
                </a:lnTo>
                <a:lnTo>
                  <a:pt x="52" y="75"/>
                </a:lnTo>
                <a:lnTo>
                  <a:pt x="43" y="69"/>
                </a:lnTo>
                <a:lnTo>
                  <a:pt x="35" y="63"/>
                </a:lnTo>
                <a:lnTo>
                  <a:pt x="27" y="57"/>
                </a:lnTo>
                <a:lnTo>
                  <a:pt x="21" y="54"/>
                </a:lnTo>
                <a:lnTo>
                  <a:pt x="18" y="48"/>
                </a:lnTo>
                <a:lnTo>
                  <a:pt x="12" y="44"/>
                </a:lnTo>
                <a:lnTo>
                  <a:pt x="8" y="40"/>
                </a:lnTo>
                <a:lnTo>
                  <a:pt x="6" y="36"/>
                </a:lnTo>
                <a:lnTo>
                  <a:pt x="2" y="34"/>
                </a:lnTo>
                <a:lnTo>
                  <a:pt x="0" y="31"/>
                </a:lnTo>
                <a:lnTo>
                  <a:pt x="0" y="29"/>
                </a:lnTo>
                <a:lnTo>
                  <a:pt x="0" y="25"/>
                </a:lnTo>
                <a:lnTo>
                  <a:pt x="0" y="23"/>
                </a:lnTo>
                <a:lnTo>
                  <a:pt x="0" y="21"/>
                </a:lnTo>
                <a:lnTo>
                  <a:pt x="2" y="19"/>
                </a:lnTo>
                <a:lnTo>
                  <a:pt x="6" y="17"/>
                </a:lnTo>
                <a:lnTo>
                  <a:pt x="8" y="17"/>
                </a:lnTo>
                <a:lnTo>
                  <a:pt x="12" y="15"/>
                </a:lnTo>
                <a:lnTo>
                  <a:pt x="18" y="13"/>
                </a:lnTo>
                <a:lnTo>
                  <a:pt x="21" y="13"/>
                </a:lnTo>
                <a:lnTo>
                  <a:pt x="27" y="11"/>
                </a:lnTo>
                <a:lnTo>
                  <a:pt x="35" y="11"/>
                </a:lnTo>
                <a:lnTo>
                  <a:pt x="43" y="9"/>
                </a:lnTo>
                <a:lnTo>
                  <a:pt x="52" y="8"/>
                </a:lnTo>
                <a:lnTo>
                  <a:pt x="62" y="6"/>
                </a:lnTo>
                <a:lnTo>
                  <a:pt x="71" y="6"/>
                </a:lnTo>
                <a:lnTo>
                  <a:pt x="83" y="2"/>
                </a:lnTo>
                <a:lnTo>
                  <a:pt x="94" y="0"/>
                </a:lnTo>
                <a:lnTo>
                  <a:pt x="115" y="2"/>
                </a:lnTo>
                <a:lnTo>
                  <a:pt x="137" y="2"/>
                </a:lnTo>
                <a:lnTo>
                  <a:pt x="156" y="6"/>
                </a:lnTo>
                <a:lnTo>
                  <a:pt x="179" y="8"/>
                </a:lnTo>
                <a:lnTo>
                  <a:pt x="200" y="11"/>
                </a:lnTo>
                <a:lnTo>
                  <a:pt x="223" y="15"/>
                </a:lnTo>
                <a:lnTo>
                  <a:pt x="246" y="21"/>
                </a:lnTo>
                <a:lnTo>
                  <a:pt x="271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60"/>
          <p:cNvSpPr/>
          <p:nvPr/>
        </p:nvSpPr>
        <p:spPr>
          <a:xfrm>
            <a:off x="6389640" y="4224240"/>
            <a:ext cx="399960" cy="430200"/>
          </a:xfrm>
          <a:custGeom>
            <a:avLst/>
            <a:gdLst/>
            <a:ahLst/>
            <a:rect l="l" t="t" r="r" b="b"/>
            <a:pathLst>
              <a:path w="503" h="542">
                <a:moveTo>
                  <a:pt x="423" y="267"/>
                </a:moveTo>
                <a:lnTo>
                  <a:pt x="413" y="279"/>
                </a:lnTo>
                <a:lnTo>
                  <a:pt x="401" y="290"/>
                </a:lnTo>
                <a:lnTo>
                  <a:pt x="390" y="302"/>
                </a:lnTo>
                <a:lnTo>
                  <a:pt x="377" y="313"/>
                </a:lnTo>
                <a:lnTo>
                  <a:pt x="363" y="325"/>
                </a:lnTo>
                <a:lnTo>
                  <a:pt x="350" y="336"/>
                </a:lnTo>
                <a:lnTo>
                  <a:pt x="336" y="348"/>
                </a:lnTo>
                <a:lnTo>
                  <a:pt x="321" y="359"/>
                </a:lnTo>
                <a:lnTo>
                  <a:pt x="306" y="371"/>
                </a:lnTo>
                <a:lnTo>
                  <a:pt x="288" y="382"/>
                </a:lnTo>
                <a:lnTo>
                  <a:pt x="273" y="394"/>
                </a:lnTo>
                <a:lnTo>
                  <a:pt x="254" y="405"/>
                </a:lnTo>
                <a:lnTo>
                  <a:pt x="236" y="417"/>
                </a:lnTo>
                <a:lnTo>
                  <a:pt x="217" y="428"/>
                </a:lnTo>
                <a:lnTo>
                  <a:pt x="198" y="440"/>
                </a:lnTo>
                <a:lnTo>
                  <a:pt x="179" y="453"/>
                </a:lnTo>
                <a:lnTo>
                  <a:pt x="160" y="463"/>
                </a:lnTo>
                <a:lnTo>
                  <a:pt x="140" y="474"/>
                </a:lnTo>
                <a:lnTo>
                  <a:pt x="123" y="484"/>
                </a:lnTo>
                <a:lnTo>
                  <a:pt x="108" y="494"/>
                </a:lnTo>
                <a:lnTo>
                  <a:pt x="92" y="503"/>
                </a:lnTo>
                <a:lnTo>
                  <a:pt x="79" y="511"/>
                </a:lnTo>
                <a:lnTo>
                  <a:pt x="66" y="519"/>
                </a:lnTo>
                <a:lnTo>
                  <a:pt x="54" y="524"/>
                </a:lnTo>
                <a:lnTo>
                  <a:pt x="44" y="530"/>
                </a:lnTo>
                <a:lnTo>
                  <a:pt x="35" y="534"/>
                </a:lnTo>
                <a:lnTo>
                  <a:pt x="27" y="538"/>
                </a:lnTo>
                <a:lnTo>
                  <a:pt x="20" y="540"/>
                </a:lnTo>
                <a:lnTo>
                  <a:pt x="14" y="542"/>
                </a:lnTo>
                <a:lnTo>
                  <a:pt x="8" y="542"/>
                </a:lnTo>
                <a:lnTo>
                  <a:pt x="4" y="542"/>
                </a:lnTo>
                <a:lnTo>
                  <a:pt x="2" y="540"/>
                </a:lnTo>
                <a:lnTo>
                  <a:pt x="0" y="536"/>
                </a:lnTo>
                <a:lnTo>
                  <a:pt x="0" y="532"/>
                </a:lnTo>
                <a:lnTo>
                  <a:pt x="0" y="528"/>
                </a:lnTo>
                <a:lnTo>
                  <a:pt x="2" y="522"/>
                </a:lnTo>
                <a:lnTo>
                  <a:pt x="6" y="517"/>
                </a:lnTo>
                <a:lnTo>
                  <a:pt x="10" y="509"/>
                </a:lnTo>
                <a:lnTo>
                  <a:pt x="16" y="501"/>
                </a:lnTo>
                <a:lnTo>
                  <a:pt x="23" y="494"/>
                </a:lnTo>
                <a:lnTo>
                  <a:pt x="31" y="484"/>
                </a:lnTo>
                <a:lnTo>
                  <a:pt x="41" y="473"/>
                </a:lnTo>
                <a:lnTo>
                  <a:pt x="52" y="461"/>
                </a:lnTo>
                <a:lnTo>
                  <a:pt x="64" y="450"/>
                </a:lnTo>
                <a:lnTo>
                  <a:pt x="77" y="436"/>
                </a:lnTo>
                <a:lnTo>
                  <a:pt x="91" y="421"/>
                </a:lnTo>
                <a:lnTo>
                  <a:pt x="108" y="407"/>
                </a:lnTo>
                <a:lnTo>
                  <a:pt x="125" y="390"/>
                </a:lnTo>
                <a:lnTo>
                  <a:pt x="140" y="375"/>
                </a:lnTo>
                <a:lnTo>
                  <a:pt x="158" y="359"/>
                </a:lnTo>
                <a:lnTo>
                  <a:pt x="173" y="344"/>
                </a:lnTo>
                <a:lnTo>
                  <a:pt x="188" y="329"/>
                </a:lnTo>
                <a:lnTo>
                  <a:pt x="202" y="315"/>
                </a:lnTo>
                <a:lnTo>
                  <a:pt x="213" y="302"/>
                </a:lnTo>
                <a:lnTo>
                  <a:pt x="227" y="288"/>
                </a:lnTo>
                <a:lnTo>
                  <a:pt x="238" y="275"/>
                </a:lnTo>
                <a:lnTo>
                  <a:pt x="248" y="263"/>
                </a:lnTo>
                <a:lnTo>
                  <a:pt x="258" y="250"/>
                </a:lnTo>
                <a:lnTo>
                  <a:pt x="267" y="238"/>
                </a:lnTo>
                <a:lnTo>
                  <a:pt x="275" y="227"/>
                </a:lnTo>
                <a:lnTo>
                  <a:pt x="282" y="215"/>
                </a:lnTo>
                <a:lnTo>
                  <a:pt x="288" y="204"/>
                </a:lnTo>
                <a:lnTo>
                  <a:pt x="296" y="192"/>
                </a:lnTo>
                <a:lnTo>
                  <a:pt x="300" y="181"/>
                </a:lnTo>
                <a:lnTo>
                  <a:pt x="306" y="171"/>
                </a:lnTo>
                <a:lnTo>
                  <a:pt x="309" y="162"/>
                </a:lnTo>
                <a:lnTo>
                  <a:pt x="313" y="154"/>
                </a:lnTo>
                <a:lnTo>
                  <a:pt x="315" y="144"/>
                </a:lnTo>
                <a:lnTo>
                  <a:pt x="319" y="137"/>
                </a:lnTo>
                <a:lnTo>
                  <a:pt x="319" y="129"/>
                </a:lnTo>
                <a:lnTo>
                  <a:pt x="321" y="121"/>
                </a:lnTo>
                <a:lnTo>
                  <a:pt x="323" y="116"/>
                </a:lnTo>
                <a:lnTo>
                  <a:pt x="323" y="102"/>
                </a:lnTo>
                <a:lnTo>
                  <a:pt x="321" y="89"/>
                </a:lnTo>
                <a:lnTo>
                  <a:pt x="319" y="77"/>
                </a:lnTo>
                <a:lnTo>
                  <a:pt x="315" y="68"/>
                </a:lnTo>
                <a:lnTo>
                  <a:pt x="309" y="58"/>
                </a:lnTo>
                <a:lnTo>
                  <a:pt x="307" y="50"/>
                </a:lnTo>
                <a:lnTo>
                  <a:pt x="306" y="41"/>
                </a:lnTo>
                <a:lnTo>
                  <a:pt x="306" y="33"/>
                </a:lnTo>
                <a:lnTo>
                  <a:pt x="307" y="29"/>
                </a:lnTo>
                <a:lnTo>
                  <a:pt x="307" y="25"/>
                </a:lnTo>
                <a:lnTo>
                  <a:pt x="309" y="21"/>
                </a:lnTo>
                <a:lnTo>
                  <a:pt x="313" y="18"/>
                </a:lnTo>
                <a:lnTo>
                  <a:pt x="315" y="14"/>
                </a:lnTo>
                <a:lnTo>
                  <a:pt x="319" y="12"/>
                </a:lnTo>
                <a:lnTo>
                  <a:pt x="323" y="8"/>
                </a:lnTo>
                <a:lnTo>
                  <a:pt x="329" y="6"/>
                </a:lnTo>
                <a:lnTo>
                  <a:pt x="330" y="4"/>
                </a:lnTo>
                <a:lnTo>
                  <a:pt x="334" y="2"/>
                </a:lnTo>
                <a:lnTo>
                  <a:pt x="338" y="2"/>
                </a:lnTo>
                <a:lnTo>
                  <a:pt x="342" y="0"/>
                </a:lnTo>
                <a:lnTo>
                  <a:pt x="348" y="0"/>
                </a:lnTo>
                <a:lnTo>
                  <a:pt x="354" y="2"/>
                </a:lnTo>
                <a:lnTo>
                  <a:pt x="359" y="2"/>
                </a:lnTo>
                <a:lnTo>
                  <a:pt x="367" y="4"/>
                </a:lnTo>
                <a:lnTo>
                  <a:pt x="382" y="8"/>
                </a:lnTo>
                <a:lnTo>
                  <a:pt x="398" y="14"/>
                </a:lnTo>
                <a:lnTo>
                  <a:pt x="417" y="21"/>
                </a:lnTo>
                <a:lnTo>
                  <a:pt x="436" y="31"/>
                </a:lnTo>
                <a:lnTo>
                  <a:pt x="451" y="45"/>
                </a:lnTo>
                <a:lnTo>
                  <a:pt x="463" y="56"/>
                </a:lnTo>
                <a:lnTo>
                  <a:pt x="474" y="68"/>
                </a:lnTo>
                <a:lnTo>
                  <a:pt x="486" y="79"/>
                </a:lnTo>
                <a:lnTo>
                  <a:pt x="490" y="85"/>
                </a:lnTo>
                <a:lnTo>
                  <a:pt x="494" y="89"/>
                </a:lnTo>
                <a:lnTo>
                  <a:pt x="496" y="94"/>
                </a:lnTo>
                <a:lnTo>
                  <a:pt x="499" y="98"/>
                </a:lnTo>
                <a:lnTo>
                  <a:pt x="501" y="104"/>
                </a:lnTo>
                <a:lnTo>
                  <a:pt x="503" y="108"/>
                </a:lnTo>
                <a:lnTo>
                  <a:pt x="503" y="114"/>
                </a:lnTo>
                <a:lnTo>
                  <a:pt x="503" y="117"/>
                </a:lnTo>
                <a:lnTo>
                  <a:pt x="503" y="123"/>
                </a:lnTo>
                <a:lnTo>
                  <a:pt x="503" y="129"/>
                </a:lnTo>
                <a:lnTo>
                  <a:pt x="501" y="135"/>
                </a:lnTo>
                <a:lnTo>
                  <a:pt x="499" y="141"/>
                </a:lnTo>
                <a:lnTo>
                  <a:pt x="496" y="148"/>
                </a:lnTo>
                <a:lnTo>
                  <a:pt x="492" y="156"/>
                </a:lnTo>
                <a:lnTo>
                  <a:pt x="488" y="164"/>
                </a:lnTo>
                <a:lnTo>
                  <a:pt x="484" y="173"/>
                </a:lnTo>
                <a:lnTo>
                  <a:pt x="478" y="183"/>
                </a:lnTo>
                <a:lnTo>
                  <a:pt x="473" y="192"/>
                </a:lnTo>
                <a:lnTo>
                  <a:pt x="465" y="204"/>
                </a:lnTo>
                <a:lnTo>
                  <a:pt x="457" y="215"/>
                </a:lnTo>
                <a:lnTo>
                  <a:pt x="449" y="227"/>
                </a:lnTo>
                <a:lnTo>
                  <a:pt x="442" y="240"/>
                </a:lnTo>
                <a:lnTo>
                  <a:pt x="432" y="254"/>
                </a:lnTo>
                <a:lnTo>
                  <a:pt x="423" y="2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61"/>
          <p:cNvSpPr/>
          <p:nvPr/>
        </p:nvSpPr>
        <p:spPr>
          <a:xfrm>
            <a:off x="6647040" y="4071960"/>
            <a:ext cx="390240" cy="196920"/>
          </a:xfrm>
          <a:custGeom>
            <a:avLst/>
            <a:gdLst/>
            <a:ahLst/>
            <a:rect l="l" t="t" r="r" b="b"/>
            <a:pathLst>
              <a:path w="491" h="248">
                <a:moveTo>
                  <a:pt x="4" y="37"/>
                </a:moveTo>
                <a:lnTo>
                  <a:pt x="7" y="33"/>
                </a:lnTo>
                <a:lnTo>
                  <a:pt x="15" y="27"/>
                </a:lnTo>
                <a:lnTo>
                  <a:pt x="25" y="23"/>
                </a:lnTo>
                <a:lnTo>
                  <a:pt x="34" y="18"/>
                </a:lnTo>
                <a:lnTo>
                  <a:pt x="40" y="16"/>
                </a:lnTo>
                <a:lnTo>
                  <a:pt x="48" y="14"/>
                </a:lnTo>
                <a:lnTo>
                  <a:pt x="53" y="12"/>
                </a:lnTo>
                <a:lnTo>
                  <a:pt x="61" y="10"/>
                </a:lnTo>
                <a:lnTo>
                  <a:pt x="71" y="6"/>
                </a:lnTo>
                <a:lnTo>
                  <a:pt x="78" y="4"/>
                </a:lnTo>
                <a:lnTo>
                  <a:pt x="88" y="2"/>
                </a:lnTo>
                <a:lnTo>
                  <a:pt x="98" y="0"/>
                </a:lnTo>
                <a:lnTo>
                  <a:pt x="119" y="0"/>
                </a:lnTo>
                <a:lnTo>
                  <a:pt x="140" y="0"/>
                </a:lnTo>
                <a:lnTo>
                  <a:pt x="163" y="0"/>
                </a:lnTo>
                <a:lnTo>
                  <a:pt x="188" y="0"/>
                </a:lnTo>
                <a:lnTo>
                  <a:pt x="213" y="2"/>
                </a:lnTo>
                <a:lnTo>
                  <a:pt x="238" y="4"/>
                </a:lnTo>
                <a:lnTo>
                  <a:pt x="263" y="8"/>
                </a:lnTo>
                <a:lnTo>
                  <a:pt x="288" y="12"/>
                </a:lnTo>
                <a:lnTo>
                  <a:pt x="299" y="14"/>
                </a:lnTo>
                <a:lnTo>
                  <a:pt x="313" y="18"/>
                </a:lnTo>
                <a:lnTo>
                  <a:pt x="322" y="20"/>
                </a:lnTo>
                <a:lnTo>
                  <a:pt x="334" y="23"/>
                </a:lnTo>
                <a:lnTo>
                  <a:pt x="353" y="31"/>
                </a:lnTo>
                <a:lnTo>
                  <a:pt x="372" y="41"/>
                </a:lnTo>
                <a:lnTo>
                  <a:pt x="389" y="50"/>
                </a:lnTo>
                <a:lnTo>
                  <a:pt x="407" y="60"/>
                </a:lnTo>
                <a:lnTo>
                  <a:pt x="422" y="73"/>
                </a:lnTo>
                <a:lnTo>
                  <a:pt x="437" y="87"/>
                </a:lnTo>
                <a:lnTo>
                  <a:pt x="443" y="93"/>
                </a:lnTo>
                <a:lnTo>
                  <a:pt x="451" y="100"/>
                </a:lnTo>
                <a:lnTo>
                  <a:pt x="457" y="108"/>
                </a:lnTo>
                <a:lnTo>
                  <a:pt x="462" y="114"/>
                </a:lnTo>
                <a:lnTo>
                  <a:pt x="466" y="121"/>
                </a:lnTo>
                <a:lnTo>
                  <a:pt x="472" y="129"/>
                </a:lnTo>
                <a:lnTo>
                  <a:pt x="476" y="135"/>
                </a:lnTo>
                <a:lnTo>
                  <a:pt x="480" y="142"/>
                </a:lnTo>
                <a:lnTo>
                  <a:pt x="483" y="156"/>
                </a:lnTo>
                <a:lnTo>
                  <a:pt x="487" y="169"/>
                </a:lnTo>
                <a:lnTo>
                  <a:pt x="489" y="185"/>
                </a:lnTo>
                <a:lnTo>
                  <a:pt x="491" y="198"/>
                </a:lnTo>
                <a:lnTo>
                  <a:pt x="491" y="206"/>
                </a:lnTo>
                <a:lnTo>
                  <a:pt x="491" y="212"/>
                </a:lnTo>
                <a:lnTo>
                  <a:pt x="491" y="217"/>
                </a:lnTo>
                <a:lnTo>
                  <a:pt x="491" y="221"/>
                </a:lnTo>
                <a:lnTo>
                  <a:pt x="491" y="227"/>
                </a:lnTo>
                <a:lnTo>
                  <a:pt x="489" y="231"/>
                </a:lnTo>
                <a:lnTo>
                  <a:pt x="489" y="237"/>
                </a:lnTo>
                <a:lnTo>
                  <a:pt x="487" y="242"/>
                </a:lnTo>
                <a:lnTo>
                  <a:pt x="485" y="244"/>
                </a:lnTo>
                <a:lnTo>
                  <a:pt x="481" y="246"/>
                </a:lnTo>
                <a:lnTo>
                  <a:pt x="478" y="248"/>
                </a:lnTo>
                <a:lnTo>
                  <a:pt x="474" y="248"/>
                </a:lnTo>
                <a:lnTo>
                  <a:pt x="470" y="246"/>
                </a:lnTo>
                <a:lnTo>
                  <a:pt x="466" y="246"/>
                </a:lnTo>
                <a:lnTo>
                  <a:pt x="460" y="246"/>
                </a:lnTo>
                <a:lnTo>
                  <a:pt x="453" y="244"/>
                </a:lnTo>
                <a:lnTo>
                  <a:pt x="445" y="242"/>
                </a:lnTo>
                <a:lnTo>
                  <a:pt x="437" y="240"/>
                </a:lnTo>
                <a:lnTo>
                  <a:pt x="428" y="237"/>
                </a:lnTo>
                <a:lnTo>
                  <a:pt x="418" y="235"/>
                </a:lnTo>
                <a:lnTo>
                  <a:pt x="407" y="231"/>
                </a:lnTo>
                <a:lnTo>
                  <a:pt x="395" y="227"/>
                </a:lnTo>
                <a:lnTo>
                  <a:pt x="384" y="221"/>
                </a:lnTo>
                <a:lnTo>
                  <a:pt x="370" y="217"/>
                </a:lnTo>
                <a:lnTo>
                  <a:pt x="357" y="212"/>
                </a:lnTo>
                <a:lnTo>
                  <a:pt x="343" y="206"/>
                </a:lnTo>
                <a:lnTo>
                  <a:pt x="328" y="198"/>
                </a:lnTo>
                <a:lnTo>
                  <a:pt x="297" y="189"/>
                </a:lnTo>
                <a:lnTo>
                  <a:pt x="267" y="177"/>
                </a:lnTo>
                <a:lnTo>
                  <a:pt x="238" y="166"/>
                </a:lnTo>
                <a:lnTo>
                  <a:pt x="207" y="154"/>
                </a:lnTo>
                <a:lnTo>
                  <a:pt x="178" y="141"/>
                </a:lnTo>
                <a:lnTo>
                  <a:pt x="151" y="127"/>
                </a:lnTo>
                <a:lnTo>
                  <a:pt x="123" y="114"/>
                </a:lnTo>
                <a:lnTo>
                  <a:pt x="98" y="98"/>
                </a:lnTo>
                <a:lnTo>
                  <a:pt x="86" y="93"/>
                </a:lnTo>
                <a:lnTo>
                  <a:pt x="73" y="87"/>
                </a:lnTo>
                <a:lnTo>
                  <a:pt x="63" y="81"/>
                </a:lnTo>
                <a:lnTo>
                  <a:pt x="52" y="75"/>
                </a:lnTo>
                <a:lnTo>
                  <a:pt x="44" y="70"/>
                </a:lnTo>
                <a:lnTo>
                  <a:pt x="34" y="66"/>
                </a:lnTo>
                <a:lnTo>
                  <a:pt x="27" y="62"/>
                </a:lnTo>
                <a:lnTo>
                  <a:pt x="19" y="58"/>
                </a:lnTo>
                <a:lnTo>
                  <a:pt x="13" y="56"/>
                </a:lnTo>
                <a:lnTo>
                  <a:pt x="9" y="52"/>
                </a:lnTo>
                <a:lnTo>
                  <a:pt x="5" y="48"/>
                </a:lnTo>
                <a:lnTo>
                  <a:pt x="2" y="47"/>
                </a:lnTo>
                <a:lnTo>
                  <a:pt x="0" y="45"/>
                </a:lnTo>
                <a:lnTo>
                  <a:pt x="0" y="41"/>
                </a:lnTo>
                <a:lnTo>
                  <a:pt x="2" y="39"/>
                </a:lnTo>
                <a:lnTo>
                  <a:pt x="4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62"/>
          <p:cNvSpPr/>
          <p:nvPr/>
        </p:nvSpPr>
        <p:spPr>
          <a:xfrm>
            <a:off x="6400800" y="3759120"/>
            <a:ext cx="411120" cy="531720"/>
          </a:xfrm>
          <a:custGeom>
            <a:avLst/>
            <a:gdLst/>
            <a:ahLst/>
            <a:rect l="l" t="t" r="r" b="b"/>
            <a:pathLst>
              <a:path w="518" h="672">
                <a:moveTo>
                  <a:pt x="476" y="209"/>
                </a:moveTo>
                <a:lnTo>
                  <a:pt x="466" y="228"/>
                </a:lnTo>
                <a:lnTo>
                  <a:pt x="453" y="248"/>
                </a:lnTo>
                <a:lnTo>
                  <a:pt x="441" y="271"/>
                </a:lnTo>
                <a:lnTo>
                  <a:pt x="428" y="292"/>
                </a:lnTo>
                <a:lnTo>
                  <a:pt x="412" y="317"/>
                </a:lnTo>
                <a:lnTo>
                  <a:pt x="397" y="342"/>
                </a:lnTo>
                <a:lnTo>
                  <a:pt x="384" y="367"/>
                </a:lnTo>
                <a:lnTo>
                  <a:pt x="368" y="395"/>
                </a:lnTo>
                <a:lnTo>
                  <a:pt x="357" y="411"/>
                </a:lnTo>
                <a:lnTo>
                  <a:pt x="347" y="426"/>
                </a:lnTo>
                <a:lnTo>
                  <a:pt x="336" y="442"/>
                </a:lnTo>
                <a:lnTo>
                  <a:pt x="324" y="455"/>
                </a:lnTo>
                <a:lnTo>
                  <a:pt x="301" y="484"/>
                </a:lnTo>
                <a:lnTo>
                  <a:pt x="274" y="509"/>
                </a:lnTo>
                <a:lnTo>
                  <a:pt x="261" y="522"/>
                </a:lnTo>
                <a:lnTo>
                  <a:pt x="247" y="534"/>
                </a:lnTo>
                <a:lnTo>
                  <a:pt x="232" y="547"/>
                </a:lnTo>
                <a:lnTo>
                  <a:pt x="217" y="559"/>
                </a:lnTo>
                <a:lnTo>
                  <a:pt x="201" y="570"/>
                </a:lnTo>
                <a:lnTo>
                  <a:pt x="186" y="582"/>
                </a:lnTo>
                <a:lnTo>
                  <a:pt x="169" y="593"/>
                </a:lnTo>
                <a:lnTo>
                  <a:pt x="151" y="607"/>
                </a:lnTo>
                <a:lnTo>
                  <a:pt x="134" y="616"/>
                </a:lnTo>
                <a:lnTo>
                  <a:pt x="119" y="628"/>
                </a:lnTo>
                <a:lnTo>
                  <a:pt x="103" y="635"/>
                </a:lnTo>
                <a:lnTo>
                  <a:pt x="90" y="643"/>
                </a:lnTo>
                <a:lnTo>
                  <a:pt x="77" y="651"/>
                </a:lnTo>
                <a:lnTo>
                  <a:pt x="65" y="656"/>
                </a:lnTo>
                <a:lnTo>
                  <a:pt x="55" y="660"/>
                </a:lnTo>
                <a:lnTo>
                  <a:pt x="46" y="664"/>
                </a:lnTo>
                <a:lnTo>
                  <a:pt x="38" y="668"/>
                </a:lnTo>
                <a:lnTo>
                  <a:pt x="30" y="670"/>
                </a:lnTo>
                <a:lnTo>
                  <a:pt x="23" y="672"/>
                </a:lnTo>
                <a:lnTo>
                  <a:pt x="17" y="672"/>
                </a:lnTo>
                <a:lnTo>
                  <a:pt x="13" y="672"/>
                </a:lnTo>
                <a:lnTo>
                  <a:pt x="7" y="672"/>
                </a:lnTo>
                <a:lnTo>
                  <a:pt x="6" y="670"/>
                </a:lnTo>
                <a:lnTo>
                  <a:pt x="2" y="668"/>
                </a:lnTo>
                <a:lnTo>
                  <a:pt x="0" y="664"/>
                </a:lnTo>
                <a:lnTo>
                  <a:pt x="0" y="660"/>
                </a:lnTo>
                <a:lnTo>
                  <a:pt x="0" y="656"/>
                </a:lnTo>
                <a:lnTo>
                  <a:pt x="2" y="651"/>
                </a:lnTo>
                <a:lnTo>
                  <a:pt x="6" y="645"/>
                </a:lnTo>
                <a:lnTo>
                  <a:pt x="9" y="637"/>
                </a:lnTo>
                <a:lnTo>
                  <a:pt x="15" y="630"/>
                </a:lnTo>
                <a:lnTo>
                  <a:pt x="23" y="620"/>
                </a:lnTo>
                <a:lnTo>
                  <a:pt x="30" y="610"/>
                </a:lnTo>
                <a:lnTo>
                  <a:pt x="40" y="599"/>
                </a:lnTo>
                <a:lnTo>
                  <a:pt x="52" y="585"/>
                </a:lnTo>
                <a:lnTo>
                  <a:pt x="63" y="572"/>
                </a:lnTo>
                <a:lnTo>
                  <a:pt x="77" y="557"/>
                </a:lnTo>
                <a:lnTo>
                  <a:pt x="90" y="541"/>
                </a:lnTo>
                <a:lnTo>
                  <a:pt x="107" y="524"/>
                </a:lnTo>
                <a:lnTo>
                  <a:pt x="125" y="507"/>
                </a:lnTo>
                <a:lnTo>
                  <a:pt x="140" y="488"/>
                </a:lnTo>
                <a:lnTo>
                  <a:pt x="157" y="468"/>
                </a:lnTo>
                <a:lnTo>
                  <a:pt x="173" y="451"/>
                </a:lnTo>
                <a:lnTo>
                  <a:pt x="188" y="432"/>
                </a:lnTo>
                <a:lnTo>
                  <a:pt x="201" y="413"/>
                </a:lnTo>
                <a:lnTo>
                  <a:pt x="213" y="395"/>
                </a:lnTo>
                <a:lnTo>
                  <a:pt x="226" y="376"/>
                </a:lnTo>
                <a:lnTo>
                  <a:pt x="238" y="359"/>
                </a:lnTo>
                <a:lnTo>
                  <a:pt x="247" y="342"/>
                </a:lnTo>
                <a:lnTo>
                  <a:pt x="257" y="323"/>
                </a:lnTo>
                <a:lnTo>
                  <a:pt x="267" y="305"/>
                </a:lnTo>
                <a:lnTo>
                  <a:pt x="274" y="288"/>
                </a:lnTo>
                <a:lnTo>
                  <a:pt x="282" y="271"/>
                </a:lnTo>
                <a:lnTo>
                  <a:pt x="290" y="255"/>
                </a:lnTo>
                <a:lnTo>
                  <a:pt x="295" y="238"/>
                </a:lnTo>
                <a:lnTo>
                  <a:pt x="301" y="221"/>
                </a:lnTo>
                <a:lnTo>
                  <a:pt x="303" y="205"/>
                </a:lnTo>
                <a:lnTo>
                  <a:pt x="305" y="190"/>
                </a:lnTo>
                <a:lnTo>
                  <a:pt x="307" y="177"/>
                </a:lnTo>
                <a:lnTo>
                  <a:pt x="307" y="163"/>
                </a:lnTo>
                <a:lnTo>
                  <a:pt x="309" y="150"/>
                </a:lnTo>
                <a:lnTo>
                  <a:pt x="309" y="138"/>
                </a:lnTo>
                <a:lnTo>
                  <a:pt x="311" y="129"/>
                </a:lnTo>
                <a:lnTo>
                  <a:pt x="311" y="117"/>
                </a:lnTo>
                <a:lnTo>
                  <a:pt x="311" y="108"/>
                </a:lnTo>
                <a:lnTo>
                  <a:pt x="309" y="100"/>
                </a:lnTo>
                <a:lnTo>
                  <a:pt x="309" y="90"/>
                </a:lnTo>
                <a:lnTo>
                  <a:pt x="307" y="84"/>
                </a:lnTo>
                <a:lnTo>
                  <a:pt x="307" y="77"/>
                </a:lnTo>
                <a:lnTo>
                  <a:pt x="305" y="71"/>
                </a:lnTo>
                <a:lnTo>
                  <a:pt x="303" y="65"/>
                </a:lnTo>
                <a:lnTo>
                  <a:pt x="301" y="60"/>
                </a:lnTo>
                <a:lnTo>
                  <a:pt x="295" y="58"/>
                </a:lnTo>
                <a:lnTo>
                  <a:pt x="292" y="56"/>
                </a:lnTo>
                <a:lnTo>
                  <a:pt x="288" y="52"/>
                </a:lnTo>
                <a:lnTo>
                  <a:pt x="284" y="48"/>
                </a:lnTo>
                <a:lnTo>
                  <a:pt x="282" y="46"/>
                </a:lnTo>
                <a:lnTo>
                  <a:pt x="280" y="42"/>
                </a:lnTo>
                <a:lnTo>
                  <a:pt x="278" y="38"/>
                </a:lnTo>
                <a:lnTo>
                  <a:pt x="278" y="35"/>
                </a:lnTo>
                <a:lnTo>
                  <a:pt x="278" y="29"/>
                </a:lnTo>
                <a:lnTo>
                  <a:pt x="278" y="21"/>
                </a:lnTo>
                <a:lnTo>
                  <a:pt x="282" y="15"/>
                </a:lnTo>
                <a:lnTo>
                  <a:pt x="286" y="12"/>
                </a:lnTo>
                <a:lnTo>
                  <a:pt x="290" y="8"/>
                </a:lnTo>
                <a:lnTo>
                  <a:pt x="293" y="6"/>
                </a:lnTo>
                <a:lnTo>
                  <a:pt x="297" y="4"/>
                </a:lnTo>
                <a:lnTo>
                  <a:pt x="301" y="4"/>
                </a:lnTo>
                <a:lnTo>
                  <a:pt x="307" y="2"/>
                </a:lnTo>
                <a:lnTo>
                  <a:pt x="313" y="2"/>
                </a:lnTo>
                <a:lnTo>
                  <a:pt x="320" y="2"/>
                </a:lnTo>
                <a:lnTo>
                  <a:pt x="328" y="0"/>
                </a:lnTo>
                <a:lnTo>
                  <a:pt x="336" y="2"/>
                </a:lnTo>
                <a:lnTo>
                  <a:pt x="343" y="2"/>
                </a:lnTo>
                <a:lnTo>
                  <a:pt x="353" y="2"/>
                </a:lnTo>
                <a:lnTo>
                  <a:pt x="363" y="4"/>
                </a:lnTo>
                <a:lnTo>
                  <a:pt x="374" y="4"/>
                </a:lnTo>
                <a:lnTo>
                  <a:pt x="384" y="6"/>
                </a:lnTo>
                <a:lnTo>
                  <a:pt x="397" y="8"/>
                </a:lnTo>
                <a:lnTo>
                  <a:pt x="409" y="12"/>
                </a:lnTo>
                <a:lnTo>
                  <a:pt x="420" y="15"/>
                </a:lnTo>
                <a:lnTo>
                  <a:pt x="432" y="19"/>
                </a:lnTo>
                <a:lnTo>
                  <a:pt x="443" y="25"/>
                </a:lnTo>
                <a:lnTo>
                  <a:pt x="453" y="29"/>
                </a:lnTo>
                <a:lnTo>
                  <a:pt x="460" y="35"/>
                </a:lnTo>
                <a:lnTo>
                  <a:pt x="470" y="38"/>
                </a:lnTo>
                <a:lnTo>
                  <a:pt x="476" y="42"/>
                </a:lnTo>
                <a:lnTo>
                  <a:pt x="483" y="48"/>
                </a:lnTo>
                <a:lnTo>
                  <a:pt x="489" y="52"/>
                </a:lnTo>
                <a:lnTo>
                  <a:pt x="495" y="58"/>
                </a:lnTo>
                <a:lnTo>
                  <a:pt x="499" y="61"/>
                </a:lnTo>
                <a:lnTo>
                  <a:pt x="505" y="67"/>
                </a:lnTo>
                <a:lnTo>
                  <a:pt x="508" y="71"/>
                </a:lnTo>
                <a:lnTo>
                  <a:pt x="512" y="75"/>
                </a:lnTo>
                <a:lnTo>
                  <a:pt x="518" y="84"/>
                </a:lnTo>
                <a:lnTo>
                  <a:pt x="516" y="94"/>
                </a:lnTo>
                <a:lnTo>
                  <a:pt x="514" y="106"/>
                </a:lnTo>
                <a:lnTo>
                  <a:pt x="510" y="119"/>
                </a:lnTo>
                <a:lnTo>
                  <a:pt x="506" y="132"/>
                </a:lnTo>
                <a:lnTo>
                  <a:pt x="505" y="140"/>
                </a:lnTo>
                <a:lnTo>
                  <a:pt x="501" y="148"/>
                </a:lnTo>
                <a:lnTo>
                  <a:pt x="497" y="157"/>
                </a:lnTo>
                <a:lnTo>
                  <a:pt x="493" y="167"/>
                </a:lnTo>
                <a:lnTo>
                  <a:pt x="489" y="177"/>
                </a:lnTo>
                <a:lnTo>
                  <a:pt x="485" y="186"/>
                </a:lnTo>
                <a:lnTo>
                  <a:pt x="482" y="198"/>
                </a:lnTo>
                <a:lnTo>
                  <a:pt x="476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63"/>
          <p:cNvSpPr/>
          <p:nvPr/>
        </p:nvSpPr>
        <p:spPr>
          <a:xfrm>
            <a:off x="6208560" y="3865680"/>
            <a:ext cx="1292400" cy="1141200"/>
          </a:xfrm>
          <a:custGeom>
            <a:avLst/>
            <a:gdLst/>
            <a:ahLst/>
            <a:rect l="l" t="t" r="r" b="b"/>
            <a:pathLst>
              <a:path w="1628" h="1438">
                <a:moveTo>
                  <a:pt x="1601" y="1129"/>
                </a:moveTo>
                <a:lnTo>
                  <a:pt x="1597" y="1144"/>
                </a:lnTo>
                <a:lnTo>
                  <a:pt x="1593" y="1160"/>
                </a:lnTo>
                <a:lnTo>
                  <a:pt x="1589" y="1177"/>
                </a:lnTo>
                <a:lnTo>
                  <a:pt x="1585" y="1190"/>
                </a:lnTo>
                <a:lnTo>
                  <a:pt x="1580" y="1206"/>
                </a:lnTo>
                <a:lnTo>
                  <a:pt x="1574" y="1221"/>
                </a:lnTo>
                <a:lnTo>
                  <a:pt x="1562" y="1250"/>
                </a:lnTo>
                <a:lnTo>
                  <a:pt x="1549" y="1277"/>
                </a:lnTo>
                <a:lnTo>
                  <a:pt x="1535" y="1304"/>
                </a:lnTo>
                <a:lnTo>
                  <a:pt x="1520" y="1329"/>
                </a:lnTo>
                <a:lnTo>
                  <a:pt x="1505" y="1352"/>
                </a:lnTo>
                <a:lnTo>
                  <a:pt x="1497" y="1363"/>
                </a:lnTo>
                <a:lnTo>
                  <a:pt x="1489" y="1373"/>
                </a:lnTo>
                <a:lnTo>
                  <a:pt x="1482" y="1382"/>
                </a:lnTo>
                <a:lnTo>
                  <a:pt x="1476" y="1392"/>
                </a:lnTo>
                <a:lnTo>
                  <a:pt x="1468" y="1400"/>
                </a:lnTo>
                <a:lnTo>
                  <a:pt x="1461" y="1407"/>
                </a:lnTo>
                <a:lnTo>
                  <a:pt x="1453" y="1413"/>
                </a:lnTo>
                <a:lnTo>
                  <a:pt x="1445" y="1419"/>
                </a:lnTo>
                <a:lnTo>
                  <a:pt x="1439" y="1423"/>
                </a:lnTo>
                <a:lnTo>
                  <a:pt x="1432" y="1428"/>
                </a:lnTo>
                <a:lnTo>
                  <a:pt x="1426" y="1430"/>
                </a:lnTo>
                <a:lnTo>
                  <a:pt x="1418" y="1434"/>
                </a:lnTo>
                <a:lnTo>
                  <a:pt x="1413" y="1436"/>
                </a:lnTo>
                <a:lnTo>
                  <a:pt x="1407" y="1438"/>
                </a:lnTo>
                <a:lnTo>
                  <a:pt x="1401" y="1438"/>
                </a:lnTo>
                <a:lnTo>
                  <a:pt x="1397" y="1438"/>
                </a:lnTo>
                <a:lnTo>
                  <a:pt x="1392" y="1438"/>
                </a:lnTo>
                <a:lnTo>
                  <a:pt x="1386" y="1438"/>
                </a:lnTo>
                <a:lnTo>
                  <a:pt x="1382" y="1436"/>
                </a:lnTo>
                <a:lnTo>
                  <a:pt x="1376" y="1434"/>
                </a:lnTo>
                <a:lnTo>
                  <a:pt x="1372" y="1430"/>
                </a:lnTo>
                <a:lnTo>
                  <a:pt x="1367" y="1428"/>
                </a:lnTo>
                <a:lnTo>
                  <a:pt x="1363" y="1423"/>
                </a:lnTo>
                <a:lnTo>
                  <a:pt x="1357" y="1419"/>
                </a:lnTo>
                <a:lnTo>
                  <a:pt x="1353" y="1413"/>
                </a:lnTo>
                <a:lnTo>
                  <a:pt x="1349" y="1407"/>
                </a:lnTo>
                <a:lnTo>
                  <a:pt x="1345" y="1400"/>
                </a:lnTo>
                <a:lnTo>
                  <a:pt x="1342" y="1392"/>
                </a:lnTo>
                <a:lnTo>
                  <a:pt x="1338" y="1382"/>
                </a:lnTo>
                <a:lnTo>
                  <a:pt x="1334" y="1373"/>
                </a:lnTo>
                <a:lnTo>
                  <a:pt x="1332" y="1363"/>
                </a:lnTo>
                <a:lnTo>
                  <a:pt x="1328" y="1352"/>
                </a:lnTo>
                <a:lnTo>
                  <a:pt x="1324" y="1340"/>
                </a:lnTo>
                <a:lnTo>
                  <a:pt x="1317" y="1329"/>
                </a:lnTo>
                <a:lnTo>
                  <a:pt x="1311" y="1319"/>
                </a:lnTo>
                <a:lnTo>
                  <a:pt x="1303" y="1308"/>
                </a:lnTo>
                <a:lnTo>
                  <a:pt x="1296" y="1298"/>
                </a:lnTo>
                <a:lnTo>
                  <a:pt x="1288" y="1286"/>
                </a:lnTo>
                <a:lnTo>
                  <a:pt x="1278" y="1277"/>
                </a:lnTo>
                <a:lnTo>
                  <a:pt x="1269" y="1267"/>
                </a:lnTo>
                <a:lnTo>
                  <a:pt x="1257" y="1258"/>
                </a:lnTo>
                <a:lnTo>
                  <a:pt x="1246" y="1248"/>
                </a:lnTo>
                <a:lnTo>
                  <a:pt x="1234" y="1238"/>
                </a:lnTo>
                <a:lnTo>
                  <a:pt x="1223" y="1229"/>
                </a:lnTo>
                <a:lnTo>
                  <a:pt x="1209" y="1219"/>
                </a:lnTo>
                <a:lnTo>
                  <a:pt x="1196" y="1210"/>
                </a:lnTo>
                <a:lnTo>
                  <a:pt x="1180" y="1200"/>
                </a:lnTo>
                <a:lnTo>
                  <a:pt x="1167" y="1190"/>
                </a:lnTo>
                <a:lnTo>
                  <a:pt x="1150" y="1181"/>
                </a:lnTo>
                <a:lnTo>
                  <a:pt x="1132" y="1173"/>
                </a:lnTo>
                <a:lnTo>
                  <a:pt x="1119" y="1164"/>
                </a:lnTo>
                <a:lnTo>
                  <a:pt x="1106" y="1156"/>
                </a:lnTo>
                <a:lnTo>
                  <a:pt x="1092" y="1148"/>
                </a:lnTo>
                <a:lnTo>
                  <a:pt x="1081" y="1141"/>
                </a:lnTo>
                <a:lnTo>
                  <a:pt x="1071" y="1133"/>
                </a:lnTo>
                <a:lnTo>
                  <a:pt x="1063" y="1127"/>
                </a:lnTo>
                <a:lnTo>
                  <a:pt x="1056" y="1121"/>
                </a:lnTo>
                <a:lnTo>
                  <a:pt x="1048" y="1116"/>
                </a:lnTo>
                <a:lnTo>
                  <a:pt x="1042" y="1110"/>
                </a:lnTo>
                <a:lnTo>
                  <a:pt x="1038" y="1106"/>
                </a:lnTo>
                <a:lnTo>
                  <a:pt x="1034" y="1100"/>
                </a:lnTo>
                <a:lnTo>
                  <a:pt x="1033" y="1098"/>
                </a:lnTo>
                <a:lnTo>
                  <a:pt x="1031" y="1094"/>
                </a:lnTo>
                <a:lnTo>
                  <a:pt x="1031" y="1093"/>
                </a:lnTo>
                <a:lnTo>
                  <a:pt x="1029" y="1089"/>
                </a:lnTo>
                <a:lnTo>
                  <a:pt x="1029" y="1087"/>
                </a:lnTo>
                <a:lnTo>
                  <a:pt x="1031" y="1087"/>
                </a:lnTo>
                <a:lnTo>
                  <a:pt x="1033" y="1085"/>
                </a:lnTo>
                <a:lnTo>
                  <a:pt x="1036" y="1083"/>
                </a:lnTo>
                <a:lnTo>
                  <a:pt x="1042" y="1083"/>
                </a:lnTo>
                <a:lnTo>
                  <a:pt x="1050" y="1083"/>
                </a:lnTo>
                <a:lnTo>
                  <a:pt x="1059" y="1083"/>
                </a:lnTo>
                <a:lnTo>
                  <a:pt x="1069" y="1083"/>
                </a:lnTo>
                <a:lnTo>
                  <a:pt x="1081" y="1083"/>
                </a:lnTo>
                <a:lnTo>
                  <a:pt x="1094" y="1083"/>
                </a:lnTo>
                <a:lnTo>
                  <a:pt x="1109" y="1085"/>
                </a:lnTo>
                <a:lnTo>
                  <a:pt x="1125" y="1087"/>
                </a:lnTo>
                <a:lnTo>
                  <a:pt x="1142" y="1087"/>
                </a:lnTo>
                <a:lnTo>
                  <a:pt x="1159" y="1089"/>
                </a:lnTo>
                <a:lnTo>
                  <a:pt x="1180" y="1093"/>
                </a:lnTo>
                <a:lnTo>
                  <a:pt x="1200" y="1094"/>
                </a:lnTo>
                <a:lnTo>
                  <a:pt x="1219" y="1096"/>
                </a:lnTo>
                <a:lnTo>
                  <a:pt x="1236" y="1096"/>
                </a:lnTo>
                <a:lnTo>
                  <a:pt x="1253" y="1098"/>
                </a:lnTo>
                <a:lnTo>
                  <a:pt x="1269" y="1100"/>
                </a:lnTo>
                <a:lnTo>
                  <a:pt x="1284" y="1100"/>
                </a:lnTo>
                <a:lnTo>
                  <a:pt x="1299" y="1100"/>
                </a:lnTo>
                <a:lnTo>
                  <a:pt x="1311" y="1100"/>
                </a:lnTo>
                <a:lnTo>
                  <a:pt x="1324" y="1098"/>
                </a:lnTo>
                <a:lnTo>
                  <a:pt x="1336" y="1098"/>
                </a:lnTo>
                <a:lnTo>
                  <a:pt x="1345" y="1096"/>
                </a:lnTo>
                <a:lnTo>
                  <a:pt x="1355" y="1093"/>
                </a:lnTo>
                <a:lnTo>
                  <a:pt x="1363" y="1091"/>
                </a:lnTo>
                <a:lnTo>
                  <a:pt x="1370" y="1087"/>
                </a:lnTo>
                <a:lnTo>
                  <a:pt x="1378" y="1083"/>
                </a:lnTo>
                <a:lnTo>
                  <a:pt x="1384" y="1079"/>
                </a:lnTo>
                <a:lnTo>
                  <a:pt x="1386" y="1073"/>
                </a:lnTo>
                <a:lnTo>
                  <a:pt x="1388" y="1066"/>
                </a:lnTo>
                <a:lnTo>
                  <a:pt x="1390" y="1058"/>
                </a:lnTo>
                <a:lnTo>
                  <a:pt x="1393" y="1046"/>
                </a:lnTo>
                <a:lnTo>
                  <a:pt x="1395" y="1033"/>
                </a:lnTo>
                <a:lnTo>
                  <a:pt x="1397" y="1020"/>
                </a:lnTo>
                <a:lnTo>
                  <a:pt x="1399" y="1002"/>
                </a:lnTo>
                <a:lnTo>
                  <a:pt x="1401" y="985"/>
                </a:lnTo>
                <a:lnTo>
                  <a:pt x="1403" y="964"/>
                </a:lnTo>
                <a:lnTo>
                  <a:pt x="1405" y="954"/>
                </a:lnTo>
                <a:lnTo>
                  <a:pt x="1405" y="943"/>
                </a:lnTo>
                <a:lnTo>
                  <a:pt x="1407" y="931"/>
                </a:lnTo>
                <a:lnTo>
                  <a:pt x="1407" y="918"/>
                </a:lnTo>
                <a:lnTo>
                  <a:pt x="1407" y="906"/>
                </a:lnTo>
                <a:lnTo>
                  <a:pt x="1409" y="893"/>
                </a:lnTo>
                <a:lnTo>
                  <a:pt x="1409" y="879"/>
                </a:lnTo>
                <a:lnTo>
                  <a:pt x="1409" y="864"/>
                </a:lnTo>
                <a:lnTo>
                  <a:pt x="1409" y="851"/>
                </a:lnTo>
                <a:lnTo>
                  <a:pt x="1409" y="835"/>
                </a:lnTo>
                <a:lnTo>
                  <a:pt x="1411" y="820"/>
                </a:lnTo>
                <a:lnTo>
                  <a:pt x="1411" y="803"/>
                </a:lnTo>
                <a:lnTo>
                  <a:pt x="1411" y="785"/>
                </a:lnTo>
                <a:lnTo>
                  <a:pt x="1411" y="770"/>
                </a:lnTo>
                <a:lnTo>
                  <a:pt x="1411" y="737"/>
                </a:lnTo>
                <a:lnTo>
                  <a:pt x="1409" y="705"/>
                </a:lnTo>
                <a:lnTo>
                  <a:pt x="1409" y="676"/>
                </a:lnTo>
                <a:lnTo>
                  <a:pt x="1409" y="645"/>
                </a:lnTo>
                <a:lnTo>
                  <a:pt x="1407" y="617"/>
                </a:lnTo>
                <a:lnTo>
                  <a:pt x="1405" y="590"/>
                </a:lnTo>
                <a:lnTo>
                  <a:pt x="1403" y="561"/>
                </a:lnTo>
                <a:lnTo>
                  <a:pt x="1401" y="536"/>
                </a:lnTo>
                <a:lnTo>
                  <a:pt x="1399" y="509"/>
                </a:lnTo>
                <a:lnTo>
                  <a:pt x="1397" y="484"/>
                </a:lnTo>
                <a:lnTo>
                  <a:pt x="1395" y="459"/>
                </a:lnTo>
                <a:lnTo>
                  <a:pt x="1393" y="436"/>
                </a:lnTo>
                <a:lnTo>
                  <a:pt x="1390" y="413"/>
                </a:lnTo>
                <a:lnTo>
                  <a:pt x="1388" y="390"/>
                </a:lnTo>
                <a:lnTo>
                  <a:pt x="1386" y="369"/>
                </a:lnTo>
                <a:lnTo>
                  <a:pt x="1384" y="348"/>
                </a:lnTo>
                <a:lnTo>
                  <a:pt x="1380" y="327"/>
                </a:lnTo>
                <a:lnTo>
                  <a:pt x="1376" y="308"/>
                </a:lnTo>
                <a:lnTo>
                  <a:pt x="1372" y="290"/>
                </a:lnTo>
                <a:lnTo>
                  <a:pt x="1368" y="273"/>
                </a:lnTo>
                <a:lnTo>
                  <a:pt x="1363" y="258"/>
                </a:lnTo>
                <a:lnTo>
                  <a:pt x="1357" y="242"/>
                </a:lnTo>
                <a:lnTo>
                  <a:pt x="1351" y="229"/>
                </a:lnTo>
                <a:lnTo>
                  <a:pt x="1345" y="217"/>
                </a:lnTo>
                <a:lnTo>
                  <a:pt x="1340" y="206"/>
                </a:lnTo>
                <a:lnTo>
                  <a:pt x="1332" y="196"/>
                </a:lnTo>
                <a:lnTo>
                  <a:pt x="1326" y="189"/>
                </a:lnTo>
                <a:lnTo>
                  <a:pt x="1319" y="181"/>
                </a:lnTo>
                <a:lnTo>
                  <a:pt x="1311" y="173"/>
                </a:lnTo>
                <a:lnTo>
                  <a:pt x="1303" y="169"/>
                </a:lnTo>
                <a:lnTo>
                  <a:pt x="1296" y="165"/>
                </a:lnTo>
                <a:lnTo>
                  <a:pt x="1288" y="162"/>
                </a:lnTo>
                <a:lnTo>
                  <a:pt x="1284" y="160"/>
                </a:lnTo>
                <a:lnTo>
                  <a:pt x="1278" y="160"/>
                </a:lnTo>
                <a:lnTo>
                  <a:pt x="1272" y="160"/>
                </a:lnTo>
                <a:lnTo>
                  <a:pt x="1265" y="158"/>
                </a:lnTo>
                <a:lnTo>
                  <a:pt x="1257" y="158"/>
                </a:lnTo>
                <a:lnTo>
                  <a:pt x="1248" y="158"/>
                </a:lnTo>
                <a:lnTo>
                  <a:pt x="1238" y="158"/>
                </a:lnTo>
                <a:lnTo>
                  <a:pt x="1226" y="160"/>
                </a:lnTo>
                <a:lnTo>
                  <a:pt x="1215" y="160"/>
                </a:lnTo>
                <a:lnTo>
                  <a:pt x="1203" y="160"/>
                </a:lnTo>
                <a:lnTo>
                  <a:pt x="1188" y="162"/>
                </a:lnTo>
                <a:lnTo>
                  <a:pt x="1175" y="162"/>
                </a:lnTo>
                <a:lnTo>
                  <a:pt x="1159" y="164"/>
                </a:lnTo>
                <a:lnTo>
                  <a:pt x="1142" y="164"/>
                </a:lnTo>
                <a:lnTo>
                  <a:pt x="1125" y="165"/>
                </a:lnTo>
                <a:lnTo>
                  <a:pt x="1107" y="167"/>
                </a:lnTo>
                <a:lnTo>
                  <a:pt x="1088" y="169"/>
                </a:lnTo>
                <a:lnTo>
                  <a:pt x="1067" y="171"/>
                </a:lnTo>
                <a:lnTo>
                  <a:pt x="1046" y="173"/>
                </a:lnTo>
                <a:lnTo>
                  <a:pt x="1025" y="175"/>
                </a:lnTo>
                <a:lnTo>
                  <a:pt x="1002" y="177"/>
                </a:lnTo>
                <a:lnTo>
                  <a:pt x="977" y="181"/>
                </a:lnTo>
                <a:lnTo>
                  <a:pt x="954" y="183"/>
                </a:lnTo>
                <a:lnTo>
                  <a:pt x="927" y="187"/>
                </a:lnTo>
                <a:lnTo>
                  <a:pt x="902" y="189"/>
                </a:lnTo>
                <a:lnTo>
                  <a:pt x="873" y="192"/>
                </a:lnTo>
                <a:lnTo>
                  <a:pt x="846" y="194"/>
                </a:lnTo>
                <a:lnTo>
                  <a:pt x="816" y="198"/>
                </a:lnTo>
                <a:lnTo>
                  <a:pt x="787" y="200"/>
                </a:lnTo>
                <a:lnTo>
                  <a:pt x="756" y="204"/>
                </a:lnTo>
                <a:lnTo>
                  <a:pt x="724" y="208"/>
                </a:lnTo>
                <a:lnTo>
                  <a:pt x="691" y="212"/>
                </a:lnTo>
                <a:lnTo>
                  <a:pt x="658" y="215"/>
                </a:lnTo>
                <a:lnTo>
                  <a:pt x="624" y="217"/>
                </a:lnTo>
                <a:lnTo>
                  <a:pt x="591" y="221"/>
                </a:lnTo>
                <a:lnTo>
                  <a:pt x="560" y="225"/>
                </a:lnTo>
                <a:lnTo>
                  <a:pt x="530" y="227"/>
                </a:lnTo>
                <a:lnTo>
                  <a:pt x="499" y="231"/>
                </a:lnTo>
                <a:lnTo>
                  <a:pt x="470" y="235"/>
                </a:lnTo>
                <a:lnTo>
                  <a:pt x="441" y="236"/>
                </a:lnTo>
                <a:lnTo>
                  <a:pt x="415" y="240"/>
                </a:lnTo>
                <a:lnTo>
                  <a:pt x="388" y="242"/>
                </a:lnTo>
                <a:lnTo>
                  <a:pt x="363" y="244"/>
                </a:lnTo>
                <a:lnTo>
                  <a:pt x="336" y="248"/>
                </a:lnTo>
                <a:lnTo>
                  <a:pt x="313" y="250"/>
                </a:lnTo>
                <a:lnTo>
                  <a:pt x="288" y="252"/>
                </a:lnTo>
                <a:lnTo>
                  <a:pt x="267" y="254"/>
                </a:lnTo>
                <a:lnTo>
                  <a:pt x="244" y="256"/>
                </a:lnTo>
                <a:lnTo>
                  <a:pt x="223" y="258"/>
                </a:lnTo>
                <a:lnTo>
                  <a:pt x="201" y="260"/>
                </a:lnTo>
                <a:lnTo>
                  <a:pt x="182" y="261"/>
                </a:lnTo>
                <a:lnTo>
                  <a:pt x="163" y="263"/>
                </a:lnTo>
                <a:lnTo>
                  <a:pt x="146" y="265"/>
                </a:lnTo>
                <a:lnTo>
                  <a:pt x="129" y="267"/>
                </a:lnTo>
                <a:lnTo>
                  <a:pt x="111" y="267"/>
                </a:lnTo>
                <a:lnTo>
                  <a:pt x="96" y="269"/>
                </a:lnTo>
                <a:lnTo>
                  <a:pt x="81" y="269"/>
                </a:lnTo>
                <a:lnTo>
                  <a:pt x="67" y="271"/>
                </a:lnTo>
                <a:lnTo>
                  <a:pt x="54" y="271"/>
                </a:lnTo>
                <a:lnTo>
                  <a:pt x="42" y="271"/>
                </a:lnTo>
                <a:lnTo>
                  <a:pt x="31" y="273"/>
                </a:lnTo>
                <a:lnTo>
                  <a:pt x="19" y="273"/>
                </a:lnTo>
                <a:lnTo>
                  <a:pt x="10" y="273"/>
                </a:lnTo>
                <a:lnTo>
                  <a:pt x="0" y="273"/>
                </a:lnTo>
                <a:lnTo>
                  <a:pt x="0" y="223"/>
                </a:lnTo>
                <a:lnTo>
                  <a:pt x="0" y="175"/>
                </a:lnTo>
                <a:lnTo>
                  <a:pt x="13" y="173"/>
                </a:lnTo>
                <a:lnTo>
                  <a:pt x="29" y="173"/>
                </a:lnTo>
                <a:lnTo>
                  <a:pt x="44" y="173"/>
                </a:lnTo>
                <a:lnTo>
                  <a:pt x="59" y="173"/>
                </a:lnTo>
                <a:lnTo>
                  <a:pt x="75" y="173"/>
                </a:lnTo>
                <a:lnTo>
                  <a:pt x="92" y="171"/>
                </a:lnTo>
                <a:lnTo>
                  <a:pt x="109" y="171"/>
                </a:lnTo>
                <a:lnTo>
                  <a:pt x="127" y="169"/>
                </a:lnTo>
                <a:lnTo>
                  <a:pt x="146" y="169"/>
                </a:lnTo>
                <a:lnTo>
                  <a:pt x="163" y="167"/>
                </a:lnTo>
                <a:lnTo>
                  <a:pt x="182" y="165"/>
                </a:lnTo>
                <a:lnTo>
                  <a:pt x="203" y="165"/>
                </a:lnTo>
                <a:lnTo>
                  <a:pt x="223" y="164"/>
                </a:lnTo>
                <a:lnTo>
                  <a:pt x="244" y="162"/>
                </a:lnTo>
                <a:lnTo>
                  <a:pt x="265" y="160"/>
                </a:lnTo>
                <a:lnTo>
                  <a:pt x="286" y="158"/>
                </a:lnTo>
                <a:lnTo>
                  <a:pt x="309" y="156"/>
                </a:lnTo>
                <a:lnTo>
                  <a:pt x="332" y="154"/>
                </a:lnTo>
                <a:lnTo>
                  <a:pt x="355" y="150"/>
                </a:lnTo>
                <a:lnTo>
                  <a:pt x="378" y="148"/>
                </a:lnTo>
                <a:lnTo>
                  <a:pt x="403" y="146"/>
                </a:lnTo>
                <a:lnTo>
                  <a:pt x="428" y="142"/>
                </a:lnTo>
                <a:lnTo>
                  <a:pt x="453" y="141"/>
                </a:lnTo>
                <a:lnTo>
                  <a:pt x="478" y="139"/>
                </a:lnTo>
                <a:lnTo>
                  <a:pt x="505" y="135"/>
                </a:lnTo>
                <a:lnTo>
                  <a:pt x="532" y="131"/>
                </a:lnTo>
                <a:lnTo>
                  <a:pt x="558" y="129"/>
                </a:lnTo>
                <a:lnTo>
                  <a:pt x="587" y="125"/>
                </a:lnTo>
                <a:lnTo>
                  <a:pt x="616" y="121"/>
                </a:lnTo>
                <a:lnTo>
                  <a:pt x="645" y="119"/>
                </a:lnTo>
                <a:lnTo>
                  <a:pt x="676" y="116"/>
                </a:lnTo>
                <a:lnTo>
                  <a:pt x="704" y="112"/>
                </a:lnTo>
                <a:lnTo>
                  <a:pt x="735" y="108"/>
                </a:lnTo>
                <a:lnTo>
                  <a:pt x="764" y="104"/>
                </a:lnTo>
                <a:lnTo>
                  <a:pt x="793" y="102"/>
                </a:lnTo>
                <a:lnTo>
                  <a:pt x="820" y="98"/>
                </a:lnTo>
                <a:lnTo>
                  <a:pt x="846" y="94"/>
                </a:lnTo>
                <a:lnTo>
                  <a:pt x="871" y="91"/>
                </a:lnTo>
                <a:lnTo>
                  <a:pt x="896" y="87"/>
                </a:lnTo>
                <a:lnTo>
                  <a:pt x="921" y="85"/>
                </a:lnTo>
                <a:lnTo>
                  <a:pt x="944" y="81"/>
                </a:lnTo>
                <a:lnTo>
                  <a:pt x="967" y="77"/>
                </a:lnTo>
                <a:lnTo>
                  <a:pt x="988" y="73"/>
                </a:lnTo>
                <a:lnTo>
                  <a:pt x="1010" y="71"/>
                </a:lnTo>
                <a:lnTo>
                  <a:pt x="1029" y="68"/>
                </a:lnTo>
                <a:lnTo>
                  <a:pt x="1048" y="66"/>
                </a:lnTo>
                <a:lnTo>
                  <a:pt x="1065" y="62"/>
                </a:lnTo>
                <a:lnTo>
                  <a:pt x="1082" y="60"/>
                </a:lnTo>
                <a:lnTo>
                  <a:pt x="1100" y="56"/>
                </a:lnTo>
                <a:lnTo>
                  <a:pt x="1115" y="54"/>
                </a:lnTo>
                <a:lnTo>
                  <a:pt x="1130" y="50"/>
                </a:lnTo>
                <a:lnTo>
                  <a:pt x="1144" y="48"/>
                </a:lnTo>
                <a:lnTo>
                  <a:pt x="1157" y="46"/>
                </a:lnTo>
                <a:lnTo>
                  <a:pt x="1169" y="43"/>
                </a:lnTo>
                <a:lnTo>
                  <a:pt x="1180" y="41"/>
                </a:lnTo>
                <a:lnTo>
                  <a:pt x="1192" y="39"/>
                </a:lnTo>
                <a:lnTo>
                  <a:pt x="1201" y="37"/>
                </a:lnTo>
                <a:lnTo>
                  <a:pt x="1211" y="35"/>
                </a:lnTo>
                <a:lnTo>
                  <a:pt x="1219" y="33"/>
                </a:lnTo>
                <a:lnTo>
                  <a:pt x="1226" y="31"/>
                </a:lnTo>
                <a:lnTo>
                  <a:pt x="1232" y="29"/>
                </a:lnTo>
                <a:lnTo>
                  <a:pt x="1238" y="27"/>
                </a:lnTo>
                <a:lnTo>
                  <a:pt x="1244" y="27"/>
                </a:lnTo>
                <a:lnTo>
                  <a:pt x="1248" y="25"/>
                </a:lnTo>
                <a:lnTo>
                  <a:pt x="1269" y="16"/>
                </a:lnTo>
                <a:lnTo>
                  <a:pt x="1278" y="12"/>
                </a:lnTo>
                <a:lnTo>
                  <a:pt x="1288" y="8"/>
                </a:lnTo>
                <a:lnTo>
                  <a:pt x="1297" y="4"/>
                </a:lnTo>
                <a:lnTo>
                  <a:pt x="1309" y="2"/>
                </a:lnTo>
                <a:lnTo>
                  <a:pt x="1319" y="0"/>
                </a:lnTo>
                <a:lnTo>
                  <a:pt x="1328" y="0"/>
                </a:lnTo>
                <a:lnTo>
                  <a:pt x="1334" y="2"/>
                </a:lnTo>
                <a:lnTo>
                  <a:pt x="1340" y="6"/>
                </a:lnTo>
                <a:lnTo>
                  <a:pt x="1347" y="8"/>
                </a:lnTo>
                <a:lnTo>
                  <a:pt x="1355" y="12"/>
                </a:lnTo>
                <a:lnTo>
                  <a:pt x="1363" y="16"/>
                </a:lnTo>
                <a:lnTo>
                  <a:pt x="1370" y="20"/>
                </a:lnTo>
                <a:lnTo>
                  <a:pt x="1382" y="23"/>
                </a:lnTo>
                <a:lnTo>
                  <a:pt x="1392" y="27"/>
                </a:lnTo>
                <a:lnTo>
                  <a:pt x="1403" y="33"/>
                </a:lnTo>
                <a:lnTo>
                  <a:pt x="1415" y="39"/>
                </a:lnTo>
                <a:lnTo>
                  <a:pt x="1428" y="43"/>
                </a:lnTo>
                <a:lnTo>
                  <a:pt x="1441" y="48"/>
                </a:lnTo>
                <a:lnTo>
                  <a:pt x="1457" y="54"/>
                </a:lnTo>
                <a:lnTo>
                  <a:pt x="1472" y="62"/>
                </a:lnTo>
                <a:lnTo>
                  <a:pt x="1487" y="68"/>
                </a:lnTo>
                <a:lnTo>
                  <a:pt x="1505" y="75"/>
                </a:lnTo>
                <a:lnTo>
                  <a:pt x="1520" y="85"/>
                </a:lnTo>
                <a:lnTo>
                  <a:pt x="1534" y="93"/>
                </a:lnTo>
                <a:lnTo>
                  <a:pt x="1547" y="102"/>
                </a:lnTo>
                <a:lnTo>
                  <a:pt x="1558" y="110"/>
                </a:lnTo>
                <a:lnTo>
                  <a:pt x="1570" y="117"/>
                </a:lnTo>
                <a:lnTo>
                  <a:pt x="1580" y="125"/>
                </a:lnTo>
                <a:lnTo>
                  <a:pt x="1589" y="133"/>
                </a:lnTo>
                <a:lnTo>
                  <a:pt x="1597" y="139"/>
                </a:lnTo>
                <a:lnTo>
                  <a:pt x="1605" y="144"/>
                </a:lnTo>
                <a:lnTo>
                  <a:pt x="1610" y="150"/>
                </a:lnTo>
                <a:lnTo>
                  <a:pt x="1616" y="156"/>
                </a:lnTo>
                <a:lnTo>
                  <a:pt x="1620" y="160"/>
                </a:lnTo>
                <a:lnTo>
                  <a:pt x="1624" y="165"/>
                </a:lnTo>
                <a:lnTo>
                  <a:pt x="1626" y="169"/>
                </a:lnTo>
                <a:lnTo>
                  <a:pt x="1628" y="171"/>
                </a:lnTo>
                <a:lnTo>
                  <a:pt x="1628" y="175"/>
                </a:lnTo>
                <a:lnTo>
                  <a:pt x="1626" y="183"/>
                </a:lnTo>
                <a:lnTo>
                  <a:pt x="1626" y="192"/>
                </a:lnTo>
                <a:lnTo>
                  <a:pt x="1622" y="202"/>
                </a:lnTo>
                <a:lnTo>
                  <a:pt x="1618" y="212"/>
                </a:lnTo>
                <a:lnTo>
                  <a:pt x="1614" y="221"/>
                </a:lnTo>
                <a:lnTo>
                  <a:pt x="1610" y="231"/>
                </a:lnTo>
                <a:lnTo>
                  <a:pt x="1601" y="248"/>
                </a:lnTo>
                <a:lnTo>
                  <a:pt x="1597" y="254"/>
                </a:lnTo>
                <a:lnTo>
                  <a:pt x="1595" y="261"/>
                </a:lnTo>
                <a:lnTo>
                  <a:pt x="1593" y="269"/>
                </a:lnTo>
                <a:lnTo>
                  <a:pt x="1591" y="279"/>
                </a:lnTo>
                <a:lnTo>
                  <a:pt x="1587" y="290"/>
                </a:lnTo>
                <a:lnTo>
                  <a:pt x="1585" y="302"/>
                </a:lnTo>
                <a:lnTo>
                  <a:pt x="1585" y="315"/>
                </a:lnTo>
                <a:lnTo>
                  <a:pt x="1583" y="331"/>
                </a:lnTo>
                <a:lnTo>
                  <a:pt x="1582" y="348"/>
                </a:lnTo>
                <a:lnTo>
                  <a:pt x="1582" y="365"/>
                </a:lnTo>
                <a:lnTo>
                  <a:pt x="1582" y="384"/>
                </a:lnTo>
                <a:lnTo>
                  <a:pt x="1582" y="403"/>
                </a:lnTo>
                <a:lnTo>
                  <a:pt x="1582" y="425"/>
                </a:lnTo>
                <a:lnTo>
                  <a:pt x="1583" y="448"/>
                </a:lnTo>
                <a:lnTo>
                  <a:pt x="1583" y="471"/>
                </a:lnTo>
                <a:lnTo>
                  <a:pt x="1587" y="498"/>
                </a:lnTo>
                <a:lnTo>
                  <a:pt x="1587" y="547"/>
                </a:lnTo>
                <a:lnTo>
                  <a:pt x="1589" y="595"/>
                </a:lnTo>
                <a:lnTo>
                  <a:pt x="1589" y="620"/>
                </a:lnTo>
                <a:lnTo>
                  <a:pt x="1591" y="643"/>
                </a:lnTo>
                <a:lnTo>
                  <a:pt x="1593" y="666"/>
                </a:lnTo>
                <a:lnTo>
                  <a:pt x="1595" y="689"/>
                </a:lnTo>
                <a:lnTo>
                  <a:pt x="1597" y="711"/>
                </a:lnTo>
                <a:lnTo>
                  <a:pt x="1599" y="732"/>
                </a:lnTo>
                <a:lnTo>
                  <a:pt x="1601" y="753"/>
                </a:lnTo>
                <a:lnTo>
                  <a:pt x="1605" y="772"/>
                </a:lnTo>
                <a:lnTo>
                  <a:pt x="1606" y="791"/>
                </a:lnTo>
                <a:lnTo>
                  <a:pt x="1608" y="808"/>
                </a:lnTo>
                <a:lnTo>
                  <a:pt x="1610" y="828"/>
                </a:lnTo>
                <a:lnTo>
                  <a:pt x="1614" y="843"/>
                </a:lnTo>
                <a:lnTo>
                  <a:pt x="1616" y="860"/>
                </a:lnTo>
                <a:lnTo>
                  <a:pt x="1618" y="878"/>
                </a:lnTo>
                <a:lnTo>
                  <a:pt x="1618" y="893"/>
                </a:lnTo>
                <a:lnTo>
                  <a:pt x="1618" y="910"/>
                </a:lnTo>
                <a:lnTo>
                  <a:pt x="1618" y="947"/>
                </a:lnTo>
                <a:lnTo>
                  <a:pt x="1616" y="981"/>
                </a:lnTo>
                <a:lnTo>
                  <a:pt x="1614" y="1018"/>
                </a:lnTo>
                <a:lnTo>
                  <a:pt x="1610" y="1054"/>
                </a:lnTo>
                <a:lnTo>
                  <a:pt x="1605" y="1091"/>
                </a:lnTo>
                <a:lnTo>
                  <a:pt x="1601" y="1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64"/>
          <p:cNvSpPr/>
          <p:nvPr/>
        </p:nvSpPr>
        <p:spPr>
          <a:xfrm>
            <a:off x="6132600" y="3979800"/>
            <a:ext cx="162000" cy="889200"/>
          </a:xfrm>
          <a:custGeom>
            <a:avLst/>
            <a:gdLst/>
            <a:ahLst/>
            <a:rect l="l" t="t" r="r" b="b"/>
            <a:pathLst>
              <a:path w="203" h="1121">
                <a:moveTo>
                  <a:pt x="42" y="613"/>
                </a:moveTo>
                <a:lnTo>
                  <a:pt x="46" y="584"/>
                </a:lnTo>
                <a:lnTo>
                  <a:pt x="50" y="555"/>
                </a:lnTo>
                <a:lnTo>
                  <a:pt x="52" y="522"/>
                </a:lnTo>
                <a:lnTo>
                  <a:pt x="54" y="490"/>
                </a:lnTo>
                <a:lnTo>
                  <a:pt x="54" y="455"/>
                </a:lnTo>
                <a:lnTo>
                  <a:pt x="54" y="438"/>
                </a:lnTo>
                <a:lnTo>
                  <a:pt x="54" y="419"/>
                </a:lnTo>
                <a:lnTo>
                  <a:pt x="54" y="400"/>
                </a:lnTo>
                <a:lnTo>
                  <a:pt x="56" y="380"/>
                </a:lnTo>
                <a:lnTo>
                  <a:pt x="56" y="361"/>
                </a:lnTo>
                <a:lnTo>
                  <a:pt x="56" y="340"/>
                </a:lnTo>
                <a:lnTo>
                  <a:pt x="54" y="319"/>
                </a:lnTo>
                <a:lnTo>
                  <a:pt x="54" y="300"/>
                </a:lnTo>
                <a:lnTo>
                  <a:pt x="54" y="281"/>
                </a:lnTo>
                <a:lnTo>
                  <a:pt x="52" y="263"/>
                </a:lnTo>
                <a:lnTo>
                  <a:pt x="52" y="246"/>
                </a:lnTo>
                <a:lnTo>
                  <a:pt x="50" y="229"/>
                </a:lnTo>
                <a:lnTo>
                  <a:pt x="48" y="213"/>
                </a:lnTo>
                <a:lnTo>
                  <a:pt x="46" y="198"/>
                </a:lnTo>
                <a:lnTo>
                  <a:pt x="44" y="185"/>
                </a:lnTo>
                <a:lnTo>
                  <a:pt x="42" y="171"/>
                </a:lnTo>
                <a:lnTo>
                  <a:pt x="40" y="158"/>
                </a:lnTo>
                <a:lnTo>
                  <a:pt x="38" y="146"/>
                </a:lnTo>
                <a:lnTo>
                  <a:pt x="35" y="135"/>
                </a:lnTo>
                <a:lnTo>
                  <a:pt x="33" y="125"/>
                </a:lnTo>
                <a:lnTo>
                  <a:pt x="31" y="114"/>
                </a:lnTo>
                <a:lnTo>
                  <a:pt x="29" y="104"/>
                </a:lnTo>
                <a:lnTo>
                  <a:pt x="23" y="94"/>
                </a:lnTo>
                <a:lnTo>
                  <a:pt x="19" y="87"/>
                </a:lnTo>
                <a:lnTo>
                  <a:pt x="15" y="77"/>
                </a:lnTo>
                <a:lnTo>
                  <a:pt x="11" y="69"/>
                </a:lnTo>
                <a:lnTo>
                  <a:pt x="10" y="62"/>
                </a:lnTo>
                <a:lnTo>
                  <a:pt x="8" y="54"/>
                </a:lnTo>
                <a:lnTo>
                  <a:pt x="6" y="48"/>
                </a:lnTo>
                <a:lnTo>
                  <a:pt x="6" y="41"/>
                </a:lnTo>
                <a:lnTo>
                  <a:pt x="6" y="29"/>
                </a:lnTo>
                <a:lnTo>
                  <a:pt x="6" y="23"/>
                </a:lnTo>
                <a:lnTo>
                  <a:pt x="6" y="20"/>
                </a:lnTo>
                <a:lnTo>
                  <a:pt x="8" y="14"/>
                </a:lnTo>
                <a:lnTo>
                  <a:pt x="10" y="12"/>
                </a:lnTo>
                <a:lnTo>
                  <a:pt x="11" y="8"/>
                </a:lnTo>
                <a:lnTo>
                  <a:pt x="13" y="6"/>
                </a:lnTo>
                <a:lnTo>
                  <a:pt x="17" y="2"/>
                </a:lnTo>
                <a:lnTo>
                  <a:pt x="21" y="2"/>
                </a:lnTo>
                <a:lnTo>
                  <a:pt x="27" y="0"/>
                </a:lnTo>
                <a:lnTo>
                  <a:pt x="35" y="0"/>
                </a:lnTo>
                <a:lnTo>
                  <a:pt x="42" y="0"/>
                </a:lnTo>
                <a:lnTo>
                  <a:pt x="52" y="0"/>
                </a:lnTo>
                <a:lnTo>
                  <a:pt x="61" y="2"/>
                </a:lnTo>
                <a:lnTo>
                  <a:pt x="73" y="4"/>
                </a:lnTo>
                <a:lnTo>
                  <a:pt x="86" y="6"/>
                </a:lnTo>
                <a:lnTo>
                  <a:pt x="100" y="8"/>
                </a:lnTo>
                <a:lnTo>
                  <a:pt x="115" y="10"/>
                </a:lnTo>
                <a:lnTo>
                  <a:pt x="130" y="14"/>
                </a:lnTo>
                <a:lnTo>
                  <a:pt x="148" y="18"/>
                </a:lnTo>
                <a:lnTo>
                  <a:pt x="165" y="21"/>
                </a:lnTo>
                <a:lnTo>
                  <a:pt x="184" y="25"/>
                </a:lnTo>
                <a:lnTo>
                  <a:pt x="203" y="31"/>
                </a:lnTo>
                <a:lnTo>
                  <a:pt x="203" y="83"/>
                </a:lnTo>
                <a:lnTo>
                  <a:pt x="203" y="137"/>
                </a:lnTo>
                <a:lnTo>
                  <a:pt x="203" y="188"/>
                </a:lnTo>
                <a:lnTo>
                  <a:pt x="203" y="238"/>
                </a:lnTo>
                <a:lnTo>
                  <a:pt x="203" y="290"/>
                </a:lnTo>
                <a:lnTo>
                  <a:pt x="203" y="340"/>
                </a:lnTo>
                <a:lnTo>
                  <a:pt x="203" y="388"/>
                </a:lnTo>
                <a:lnTo>
                  <a:pt x="201" y="436"/>
                </a:lnTo>
                <a:lnTo>
                  <a:pt x="201" y="484"/>
                </a:lnTo>
                <a:lnTo>
                  <a:pt x="201" y="530"/>
                </a:lnTo>
                <a:lnTo>
                  <a:pt x="200" y="574"/>
                </a:lnTo>
                <a:lnTo>
                  <a:pt x="198" y="620"/>
                </a:lnTo>
                <a:lnTo>
                  <a:pt x="198" y="663"/>
                </a:lnTo>
                <a:lnTo>
                  <a:pt x="196" y="705"/>
                </a:lnTo>
                <a:lnTo>
                  <a:pt x="194" y="747"/>
                </a:lnTo>
                <a:lnTo>
                  <a:pt x="190" y="787"/>
                </a:lnTo>
                <a:lnTo>
                  <a:pt x="190" y="807"/>
                </a:lnTo>
                <a:lnTo>
                  <a:pt x="188" y="828"/>
                </a:lnTo>
                <a:lnTo>
                  <a:pt x="186" y="847"/>
                </a:lnTo>
                <a:lnTo>
                  <a:pt x="186" y="864"/>
                </a:lnTo>
                <a:lnTo>
                  <a:pt x="184" y="883"/>
                </a:lnTo>
                <a:lnTo>
                  <a:pt x="184" y="901"/>
                </a:lnTo>
                <a:lnTo>
                  <a:pt x="184" y="916"/>
                </a:lnTo>
                <a:lnTo>
                  <a:pt x="182" y="933"/>
                </a:lnTo>
                <a:lnTo>
                  <a:pt x="182" y="949"/>
                </a:lnTo>
                <a:lnTo>
                  <a:pt x="180" y="964"/>
                </a:lnTo>
                <a:lnTo>
                  <a:pt x="180" y="977"/>
                </a:lnTo>
                <a:lnTo>
                  <a:pt x="180" y="991"/>
                </a:lnTo>
                <a:lnTo>
                  <a:pt x="178" y="1002"/>
                </a:lnTo>
                <a:lnTo>
                  <a:pt x="178" y="1016"/>
                </a:lnTo>
                <a:lnTo>
                  <a:pt x="178" y="1027"/>
                </a:lnTo>
                <a:lnTo>
                  <a:pt x="177" y="1037"/>
                </a:lnTo>
                <a:lnTo>
                  <a:pt x="177" y="1048"/>
                </a:lnTo>
                <a:lnTo>
                  <a:pt x="177" y="1058"/>
                </a:lnTo>
                <a:lnTo>
                  <a:pt x="175" y="1066"/>
                </a:lnTo>
                <a:lnTo>
                  <a:pt x="175" y="1073"/>
                </a:lnTo>
                <a:lnTo>
                  <a:pt x="175" y="1081"/>
                </a:lnTo>
                <a:lnTo>
                  <a:pt x="173" y="1089"/>
                </a:lnTo>
                <a:lnTo>
                  <a:pt x="173" y="1094"/>
                </a:lnTo>
                <a:lnTo>
                  <a:pt x="171" y="1100"/>
                </a:lnTo>
                <a:lnTo>
                  <a:pt x="171" y="1106"/>
                </a:lnTo>
                <a:lnTo>
                  <a:pt x="169" y="1110"/>
                </a:lnTo>
                <a:lnTo>
                  <a:pt x="169" y="1114"/>
                </a:lnTo>
                <a:lnTo>
                  <a:pt x="167" y="1116"/>
                </a:lnTo>
                <a:lnTo>
                  <a:pt x="167" y="1117"/>
                </a:lnTo>
                <a:lnTo>
                  <a:pt x="165" y="1119"/>
                </a:lnTo>
                <a:lnTo>
                  <a:pt x="165" y="1121"/>
                </a:lnTo>
                <a:lnTo>
                  <a:pt x="163" y="1121"/>
                </a:lnTo>
                <a:lnTo>
                  <a:pt x="161" y="1121"/>
                </a:lnTo>
                <a:lnTo>
                  <a:pt x="157" y="1119"/>
                </a:lnTo>
                <a:lnTo>
                  <a:pt x="154" y="1119"/>
                </a:lnTo>
                <a:lnTo>
                  <a:pt x="148" y="1117"/>
                </a:lnTo>
                <a:lnTo>
                  <a:pt x="144" y="1114"/>
                </a:lnTo>
                <a:lnTo>
                  <a:pt x="138" y="1112"/>
                </a:lnTo>
                <a:lnTo>
                  <a:pt x="132" y="1108"/>
                </a:lnTo>
                <a:lnTo>
                  <a:pt x="127" y="1102"/>
                </a:lnTo>
                <a:lnTo>
                  <a:pt x="119" y="1098"/>
                </a:lnTo>
                <a:lnTo>
                  <a:pt x="113" y="1093"/>
                </a:lnTo>
                <a:lnTo>
                  <a:pt x="106" y="1087"/>
                </a:lnTo>
                <a:lnTo>
                  <a:pt x="98" y="1079"/>
                </a:lnTo>
                <a:lnTo>
                  <a:pt x="90" y="1073"/>
                </a:lnTo>
                <a:lnTo>
                  <a:pt x="82" y="1064"/>
                </a:lnTo>
                <a:lnTo>
                  <a:pt x="75" y="1056"/>
                </a:lnTo>
                <a:lnTo>
                  <a:pt x="69" y="1046"/>
                </a:lnTo>
                <a:lnTo>
                  <a:pt x="54" y="1029"/>
                </a:lnTo>
                <a:lnTo>
                  <a:pt x="40" y="1012"/>
                </a:lnTo>
                <a:lnTo>
                  <a:pt x="29" y="997"/>
                </a:lnTo>
                <a:lnTo>
                  <a:pt x="19" y="981"/>
                </a:lnTo>
                <a:lnTo>
                  <a:pt x="15" y="975"/>
                </a:lnTo>
                <a:lnTo>
                  <a:pt x="11" y="968"/>
                </a:lnTo>
                <a:lnTo>
                  <a:pt x="8" y="962"/>
                </a:lnTo>
                <a:lnTo>
                  <a:pt x="6" y="956"/>
                </a:lnTo>
                <a:lnTo>
                  <a:pt x="4" y="950"/>
                </a:lnTo>
                <a:lnTo>
                  <a:pt x="2" y="945"/>
                </a:lnTo>
                <a:lnTo>
                  <a:pt x="0" y="941"/>
                </a:lnTo>
                <a:lnTo>
                  <a:pt x="0" y="935"/>
                </a:lnTo>
                <a:lnTo>
                  <a:pt x="0" y="929"/>
                </a:lnTo>
                <a:lnTo>
                  <a:pt x="2" y="926"/>
                </a:lnTo>
                <a:lnTo>
                  <a:pt x="2" y="918"/>
                </a:lnTo>
                <a:lnTo>
                  <a:pt x="4" y="912"/>
                </a:lnTo>
                <a:lnTo>
                  <a:pt x="4" y="904"/>
                </a:lnTo>
                <a:lnTo>
                  <a:pt x="6" y="897"/>
                </a:lnTo>
                <a:lnTo>
                  <a:pt x="10" y="881"/>
                </a:lnTo>
                <a:lnTo>
                  <a:pt x="13" y="862"/>
                </a:lnTo>
                <a:lnTo>
                  <a:pt x="17" y="843"/>
                </a:lnTo>
                <a:lnTo>
                  <a:pt x="23" y="822"/>
                </a:lnTo>
                <a:lnTo>
                  <a:pt x="29" y="799"/>
                </a:lnTo>
                <a:lnTo>
                  <a:pt x="33" y="776"/>
                </a:lnTo>
                <a:lnTo>
                  <a:pt x="35" y="753"/>
                </a:lnTo>
                <a:lnTo>
                  <a:pt x="38" y="730"/>
                </a:lnTo>
                <a:lnTo>
                  <a:pt x="40" y="705"/>
                </a:lnTo>
                <a:lnTo>
                  <a:pt x="40" y="682"/>
                </a:lnTo>
                <a:lnTo>
                  <a:pt x="40" y="659"/>
                </a:lnTo>
                <a:lnTo>
                  <a:pt x="42" y="6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65"/>
          <p:cNvSpPr/>
          <p:nvPr/>
        </p:nvSpPr>
        <p:spPr>
          <a:xfrm>
            <a:off x="6681960" y="3511440"/>
            <a:ext cx="198360" cy="15876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0" y="23"/>
                </a:moveTo>
                <a:lnTo>
                  <a:pt x="6" y="19"/>
                </a:lnTo>
                <a:lnTo>
                  <a:pt x="11" y="15"/>
                </a:lnTo>
                <a:lnTo>
                  <a:pt x="21" y="10"/>
                </a:lnTo>
                <a:lnTo>
                  <a:pt x="32" y="6"/>
                </a:lnTo>
                <a:lnTo>
                  <a:pt x="38" y="6"/>
                </a:lnTo>
                <a:lnTo>
                  <a:pt x="44" y="4"/>
                </a:lnTo>
                <a:lnTo>
                  <a:pt x="52" y="2"/>
                </a:lnTo>
                <a:lnTo>
                  <a:pt x="59" y="2"/>
                </a:lnTo>
                <a:lnTo>
                  <a:pt x="67" y="0"/>
                </a:lnTo>
                <a:lnTo>
                  <a:pt x="75" y="0"/>
                </a:lnTo>
                <a:lnTo>
                  <a:pt x="84" y="0"/>
                </a:lnTo>
                <a:lnTo>
                  <a:pt x="94" y="0"/>
                </a:lnTo>
                <a:lnTo>
                  <a:pt x="109" y="0"/>
                </a:lnTo>
                <a:lnTo>
                  <a:pt x="125" y="2"/>
                </a:lnTo>
                <a:lnTo>
                  <a:pt x="140" y="6"/>
                </a:lnTo>
                <a:lnTo>
                  <a:pt x="155" y="10"/>
                </a:lnTo>
                <a:lnTo>
                  <a:pt x="171" y="17"/>
                </a:lnTo>
                <a:lnTo>
                  <a:pt x="178" y="21"/>
                </a:lnTo>
                <a:lnTo>
                  <a:pt x="186" y="25"/>
                </a:lnTo>
                <a:lnTo>
                  <a:pt x="194" y="31"/>
                </a:lnTo>
                <a:lnTo>
                  <a:pt x="201" y="37"/>
                </a:lnTo>
                <a:lnTo>
                  <a:pt x="209" y="42"/>
                </a:lnTo>
                <a:lnTo>
                  <a:pt x="217" y="48"/>
                </a:lnTo>
                <a:lnTo>
                  <a:pt x="223" y="56"/>
                </a:lnTo>
                <a:lnTo>
                  <a:pt x="230" y="63"/>
                </a:lnTo>
                <a:lnTo>
                  <a:pt x="234" y="69"/>
                </a:lnTo>
                <a:lnTo>
                  <a:pt x="240" y="77"/>
                </a:lnTo>
                <a:lnTo>
                  <a:pt x="244" y="83"/>
                </a:lnTo>
                <a:lnTo>
                  <a:pt x="246" y="90"/>
                </a:lnTo>
                <a:lnTo>
                  <a:pt x="247" y="98"/>
                </a:lnTo>
                <a:lnTo>
                  <a:pt x="247" y="104"/>
                </a:lnTo>
                <a:lnTo>
                  <a:pt x="249" y="111"/>
                </a:lnTo>
                <a:lnTo>
                  <a:pt x="247" y="119"/>
                </a:lnTo>
                <a:lnTo>
                  <a:pt x="247" y="125"/>
                </a:lnTo>
                <a:lnTo>
                  <a:pt x="246" y="133"/>
                </a:lnTo>
                <a:lnTo>
                  <a:pt x="242" y="140"/>
                </a:lnTo>
                <a:lnTo>
                  <a:pt x="238" y="146"/>
                </a:lnTo>
                <a:lnTo>
                  <a:pt x="234" y="154"/>
                </a:lnTo>
                <a:lnTo>
                  <a:pt x="230" y="161"/>
                </a:lnTo>
                <a:lnTo>
                  <a:pt x="224" y="169"/>
                </a:lnTo>
                <a:lnTo>
                  <a:pt x="219" y="177"/>
                </a:lnTo>
                <a:lnTo>
                  <a:pt x="213" y="182"/>
                </a:lnTo>
                <a:lnTo>
                  <a:pt x="207" y="188"/>
                </a:lnTo>
                <a:lnTo>
                  <a:pt x="201" y="192"/>
                </a:lnTo>
                <a:lnTo>
                  <a:pt x="194" y="196"/>
                </a:lnTo>
                <a:lnTo>
                  <a:pt x="188" y="198"/>
                </a:lnTo>
                <a:lnTo>
                  <a:pt x="180" y="200"/>
                </a:lnTo>
                <a:lnTo>
                  <a:pt x="175" y="200"/>
                </a:lnTo>
                <a:lnTo>
                  <a:pt x="167" y="198"/>
                </a:lnTo>
                <a:lnTo>
                  <a:pt x="159" y="196"/>
                </a:lnTo>
                <a:lnTo>
                  <a:pt x="151" y="194"/>
                </a:lnTo>
                <a:lnTo>
                  <a:pt x="144" y="190"/>
                </a:lnTo>
                <a:lnTo>
                  <a:pt x="136" y="184"/>
                </a:lnTo>
                <a:lnTo>
                  <a:pt x="128" y="179"/>
                </a:lnTo>
                <a:lnTo>
                  <a:pt x="121" y="173"/>
                </a:lnTo>
                <a:lnTo>
                  <a:pt x="105" y="159"/>
                </a:lnTo>
                <a:lnTo>
                  <a:pt x="92" y="146"/>
                </a:lnTo>
                <a:lnTo>
                  <a:pt x="77" y="134"/>
                </a:lnTo>
                <a:lnTo>
                  <a:pt x="63" y="125"/>
                </a:lnTo>
                <a:lnTo>
                  <a:pt x="52" y="113"/>
                </a:lnTo>
                <a:lnTo>
                  <a:pt x="46" y="110"/>
                </a:lnTo>
                <a:lnTo>
                  <a:pt x="42" y="104"/>
                </a:lnTo>
                <a:lnTo>
                  <a:pt x="36" y="100"/>
                </a:lnTo>
                <a:lnTo>
                  <a:pt x="32" y="96"/>
                </a:lnTo>
                <a:lnTo>
                  <a:pt x="29" y="90"/>
                </a:lnTo>
                <a:lnTo>
                  <a:pt x="27" y="86"/>
                </a:lnTo>
                <a:lnTo>
                  <a:pt x="17" y="67"/>
                </a:lnTo>
                <a:lnTo>
                  <a:pt x="11" y="58"/>
                </a:lnTo>
                <a:lnTo>
                  <a:pt x="8" y="50"/>
                </a:lnTo>
                <a:lnTo>
                  <a:pt x="4" y="42"/>
                </a:lnTo>
                <a:lnTo>
                  <a:pt x="2" y="35"/>
                </a:lnTo>
                <a:lnTo>
                  <a:pt x="0" y="29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66"/>
          <p:cNvSpPr/>
          <p:nvPr/>
        </p:nvSpPr>
        <p:spPr>
          <a:xfrm>
            <a:off x="6948360" y="3043080"/>
            <a:ext cx="293760" cy="812880"/>
          </a:xfrm>
          <a:custGeom>
            <a:avLst/>
            <a:gdLst/>
            <a:ahLst/>
            <a:rect l="l" t="t" r="r" b="b"/>
            <a:pathLst>
              <a:path w="368" h="1023">
                <a:moveTo>
                  <a:pt x="71" y="898"/>
                </a:moveTo>
                <a:lnTo>
                  <a:pt x="61" y="894"/>
                </a:lnTo>
                <a:lnTo>
                  <a:pt x="52" y="889"/>
                </a:lnTo>
                <a:lnTo>
                  <a:pt x="42" y="885"/>
                </a:lnTo>
                <a:lnTo>
                  <a:pt x="34" y="879"/>
                </a:lnTo>
                <a:lnTo>
                  <a:pt x="29" y="875"/>
                </a:lnTo>
                <a:lnTo>
                  <a:pt x="21" y="871"/>
                </a:lnTo>
                <a:lnTo>
                  <a:pt x="15" y="867"/>
                </a:lnTo>
                <a:lnTo>
                  <a:pt x="11" y="862"/>
                </a:lnTo>
                <a:lnTo>
                  <a:pt x="7" y="858"/>
                </a:lnTo>
                <a:lnTo>
                  <a:pt x="4" y="854"/>
                </a:lnTo>
                <a:lnTo>
                  <a:pt x="2" y="850"/>
                </a:lnTo>
                <a:lnTo>
                  <a:pt x="0" y="848"/>
                </a:lnTo>
                <a:lnTo>
                  <a:pt x="0" y="844"/>
                </a:lnTo>
                <a:lnTo>
                  <a:pt x="0" y="841"/>
                </a:lnTo>
                <a:lnTo>
                  <a:pt x="0" y="839"/>
                </a:lnTo>
                <a:lnTo>
                  <a:pt x="2" y="837"/>
                </a:lnTo>
                <a:lnTo>
                  <a:pt x="2" y="835"/>
                </a:lnTo>
                <a:lnTo>
                  <a:pt x="4" y="833"/>
                </a:lnTo>
                <a:lnTo>
                  <a:pt x="6" y="831"/>
                </a:lnTo>
                <a:lnTo>
                  <a:pt x="7" y="829"/>
                </a:lnTo>
                <a:lnTo>
                  <a:pt x="9" y="827"/>
                </a:lnTo>
                <a:lnTo>
                  <a:pt x="13" y="827"/>
                </a:lnTo>
                <a:lnTo>
                  <a:pt x="17" y="825"/>
                </a:lnTo>
                <a:lnTo>
                  <a:pt x="23" y="825"/>
                </a:lnTo>
                <a:lnTo>
                  <a:pt x="29" y="825"/>
                </a:lnTo>
                <a:lnTo>
                  <a:pt x="34" y="825"/>
                </a:lnTo>
                <a:lnTo>
                  <a:pt x="40" y="823"/>
                </a:lnTo>
                <a:lnTo>
                  <a:pt x="48" y="823"/>
                </a:lnTo>
                <a:lnTo>
                  <a:pt x="55" y="823"/>
                </a:lnTo>
                <a:lnTo>
                  <a:pt x="65" y="823"/>
                </a:lnTo>
                <a:lnTo>
                  <a:pt x="75" y="823"/>
                </a:lnTo>
                <a:lnTo>
                  <a:pt x="84" y="823"/>
                </a:lnTo>
                <a:lnTo>
                  <a:pt x="103" y="823"/>
                </a:lnTo>
                <a:lnTo>
                  <a:pt x="123" y="821"/>
                </a:lnTo>
                <a:lnTo>
                  <a:pt x="138" y="819"/>
                </a:lnTo>
                <a:lnTo>
                  <a:pt x="153" y="816"/>
                </a:lnTo>
                <a:lnTo>
                  <a:pt x="161" y="814"/>
                </a:lnTo>
                <a:lnTo>
                  <a:pt x="167" y="812"/>
                </a:lnTo>
                <a:lnTo>
                  <a:pt x="173" y="810"/>
                </a:lnTo>
                <a:lnTo>
                  <a:pt x="176" y="808"/>
                </a:lnTo>
                <a:lnTo>
                  <a:pt x="182" y="806"/>
                </a:lnTo>
                <a:lnTo>
                  <a:pt x="186" y="804"/>
                </a:lnTo>
                <a:lnTo>
                  <a:pt x="190" y="800"/>
                </a:lnTo>
                <a:lnTo>
                  <a:pt x="192" y="798"/>
                </a:lnTo>
                <a:lnTo>
                  <a:pt x="197" y="794"/>
                </a:lnTo>
                <a:lnTo>
                  <a:pt x="201" y="787"/>
                </a:lnTo>
                <a:lnTo>
                  <a:pt x="207" y="779"/>
                </a:lnTo>
                <a:lnTo>
                  <a:pt x="211" y="770"/>
                </a:lnTo>
                <a:lnTo>
                  <a:pt x="215" y="758"/>
                </a:lnTo>
                <a:lnTo>
                  <a:pt x="217" y="752"/>
                </a:lnTo>
                <a:lnTo>
                  <a:pt x="217" y="745"/>
                </a:lnTo>
                <a:lnTo>
                  <a:pt x="219" y="737"/>
                </a:lnTo>
                <a:lnTo>
                  <a:pt x="219" y="729"/>
                </a:lnTo>
                <a:lnTo>
                  <a:pt x="219" y="722"/>
                </a:lnTo>
                <a:lnTo>
                  <a:pt x="220" y="712"/>
                </a:lnTo>
                <a:lnTo>
                  <a:pt x="220" y="704"/>
                </a:lnTo>
                <a:lnTo>
                  <a:pt x="219" y="695"/>
                </a:lnTo>
                <a:lnTo>
                  <a:pt x="219" y="685"/>
                </a:lnTo>
                <a:lnTo>
                  <a:pt x="219" y="674"/>
                </a:lnTo>
                <a:lnTo>
                  <a:pt x="219" y="660"/>
                </a:lnTo>
                <a:lnTo>
                  <a:pt x="219" y="645"/>
                </a:lnTo>
                <a:lnTo>
                  <a:pt x="219" y="629"/>
                </a:lnTo>
                <a:lnTo>
                  <a:pt x="219" y="612"/>
                </a:lnTo>
                <a:lnTo>
                  <a:pt x="217" y="595"/>
                </a:lnTo>
                <a:lnTo>
                  <a:pt x="217" y="576"/>
                </a:lnTo>
                <a:lnTo>
                  <a:pt x="215" y="556"/>
                </a:lnTo>
                <a:lnTo>
                  <a:pt x="213" y="533"/>
                </a:lnTo>
                <a:lnTo>
                  <a:pt x="213" y="512"/>
                </a:lnTo>
                <a:lnTo>
                  <a:pt x="211" y="489"/>
                </a:lnTo>
                <a:lnTo>
                  <a:pt x="209" y="464"/>
                </a:lnTo>
                <a:lnTo>
                  <a:pt x="205" y="439"/>
                </a:lnTo>
                <a:lnTo>
                  <a:pt x="203" y="414"/>
                </a:lnTo>
                <a:lnTo>
                  <a:pt x="201" y="391"/>
                </a:lnTo>
                <a:lnTo>
                  <a:pt x="197" y="368"/>
                </a:lnTo>
                <a:lnTo>
                  <a:pt x="196" y="345"/>
                </a:lnTo>
                <a:lnTo>
                  <a:pt x="194" y="326"/>
                </a:lnTo>
                <a:lnTo>
                  <a:pt x="190" y="307"/>
                </a:lnTo>
                <a:lnTo>
                  <a:pt x="188" y="290"/>
                </a:lnTo>
                <a:lnTo>
                  <a:pt x="186" y="272"/>
                </a:lnTo>
                <a:lnTo>
                  <a:pt x="182" y="257"/>
                </a:lnTo>
                <a:lnTo>
                  <a:pt x="180" y="242"/>
                </a:lnTo>
                <a:lnTo>
                  <a:pt x="178" y="228"/>
                </a:lnTo>
                <a:lnTo>
                  <a:pt x="174" y="217"/>
                </a:lnTo>
                <a:lnTo>
                  <a:pt x="173" y="205"/>
                </a:lnTo>
                <a:lnTo>
                  <a:pt x="171" y="196"/>
                </a:lnTo>
                <a:lnTo>
                  <a:pt x="169" y="186"/>
                </a:lnTo>
                <a:lnTo>
                  <a:pt x="165" y="178"/>
                </a:lnTo>
                <a:lnTo>
                  <a:pt x="159" y="165"/>
                </a:lnTo>
                <a:lnTo>
                  <a:pt x="153" y="153"/>
                </a:lnTo>
                <a:lnTo>
                  <a:pt x="146" y="142"/>
                </a:lnTo>
                <a:lnTo>
                  <a:pt x="138" y="130"/>
                </a:lnTo>
                <a:lnTo>
                  <a:pt x="130" y="121"/>
                </a:lnTo>
                <a:lnTo>
                  <a:pt x="123" y="111"/>
                </a:lnTo>
                <a:lnTo>
                  <a:pt x="117" y="102"/>
                </a:lnTo>
                <a:lnTo>
                  <a:pt x="111" y="92"/>
                </a:lnTo>
                <a:lnTo>
                  <a:pt x="105" y="90"/>
                </a:lnTo>
                <a:lnTo>
                  <a:pt x="101" y="86"/>
                </a:lnTo>
                <a:lnTo>
                  <a:pt x="98" y="84"/>
                </a:lnTo>
                <a:lnTo>
                  <a:pt x="96" y="80"/>
                </a:lnTo>
                <a:lnTo>
                  <a:pt x="94" y="77"/>
                </a:lnTo>
                <a:lnTo>
                  <a:pt x="92" y="73"/>
                </a:lnTo>
                <a:lnTo>
                  <a:pt x="90" y="69"/>
                </a:lnTo>
                <a:lnTo>
                  <a:pt x="88" y="65"/>
                </a:lnTo>
                <a:lnTo>
                  <a:pt x="88" y="57"/>
                </a:lnTo>
                <a:lnTo>
                  <a:pt x="90" y="48"/>
                </a:lnTo>
                <a:lnTo>
                  <a:pt x="92" y="40"/>
                </a:lnTo>
                <a:lnTo>
                  <a:pt x="98" y="31"/>
                </a:lnTo>
                <a:lnTo>
                  <a:pt x="103" y="21"/>
                </a:lnTo>
                <a:lnTo>
                  <a:pt x="109" y="13"/>
                </a:lnTo>
                <a:lnTo>
                  <a:pt x="119" y="8"/>
                </a:lnTo>
                <a:lnTo>
                  <a:pt x="128" y="4"/>
                </a:lnTo>
                <a:lnTo>
                  <a:pt x="138" y="2"/>
                </a:lnTo>
                <a:lnTo>
                  <a:pt x="144" y="0"/>
                </a:lnTo>
                <a:lnTo>
                  <a:pt x="151" y="0"/>
                </a:lnTo>
                <a:lnTo>
                  <a:pt x="157" y="0"/>
                </a:lnTo>
                <a:lnTo>
                  <a:pt x="165" y="2"/>
                </a:lnTo>
                <a:lnTo>
                  <a:pt x="171" y="4"/>
                </a:lnTo>
                <a:lnTo>
                  <a:pt x="178" y="6"/>
                </a:lnTo>
                <a:lnTo>
                  <a:pt x="194" y="9"/>
                </a:lnTo>
                <a:lnTo>
                  <a:pt x="207" y="15"/>
                </a:lnTo>
                <a:lnTo>
                  <a:pt x="220" y="21"/>
                </a:lnTo>
                <a:lnTo>
                  <a:pt x="234" y="27"/>
                </a:lnTo>
                <a:lnTo>
                  <a:pt x="245" y="34"/>
                </a:lnTo>
                <a:lnTo>
                  <a:pt x="259" y="44"/>
                </a:lnTo>
                <a:lnTo>
                  <a:pt x="267" y="48"/>
                </a:lnTo>
                <a:lnTo>
                  <a:pt x="272" y="54"/>
                </a:lnTo>
                <a:lnTo>
                  <a:pt x="280" y="61"/>
                </a:lnTo>
                <a:lnTo>
                  <a:pt x="288" y="67"/>
                </a:lnTo>
                <a:lnTo>
                  <a:pt x="295" y="75"/>
                </a:lnTo>
                <a:lnTo>
                  <a:pt x="301" y="80"/>
                </a:lnTo>
                <a:lnTo>
                  <a:pt x="307" y="86"/>
                </a:lnTo>
                <a:lnTo>
                  <a:pt x="313" y="94"/>
                </a:lnTo>
                <a:lnTo>
                  <a:pt x="316" y="100"/>
                </a:lnTo>
                <a:lnTo>
                  <a:pt x="322" y="105"/>
                </a:lnTo>
                <a:lnTo>
                  <a:pt x="324" y="111"/>
                </a:lnTo>
                <a:lnTo>
                  <a:pt x="328" y="117"/>
                </a:lnTo>
                <a:lnTo>
                  <a:pt x="330" y="123"/>
                </a:lnTo>
                <a:lnTo>
                  <a:pt x="332" y="128"/>
                </a:lnTo>
                <a:lnTo>
                  <a:pt x="332" y="134"/>
                </a:lnTo>
                <a:lnTo>
                  <a:pt x="334" y="140"/>
                </a:lnTo>
                <a:lnTo>
                  <a:pt x="332" y="146"/>
                </a:lnTo>
                <a:lnTo>
                  <a:pt x="332" y="153"/>
                </a:lnTo>
                <a:lnTo>
                  <a:pt x="330" y="159"/>
                </a:lnTo>
                <a:lnTo>
                  <a:pt x="328" y="167"/>
                </a:lnTo>
                <a:lnTo>
                  <a:pt x="326" y="175"/>
                </a:lnTo>
                <a:lnTo>
                  <a:pt x="324" y="184"/>
                </a:lnTo>
                <a:lnTo>
                  <a:pt x="322" y="196"/>
                </a:lnTo>
                <a:lnTo>
                  <a:pt x="320" y="207"/>
                </a:lnTo>
                <a:lnTo>
                  <a:pt x="320" y="222"/>
                </a:lnTo>
                <a:lnTo>
                  <a:pt x="320" y="238"/>
                </a:lnTo>
                <a:lnTo>
                  <a:pt x="320" y="255"/>
                </a:lnTo>
                <a:lnTo>
                  <a:pt x="320" y="274"/>
                </a:lnTo>
                <a:lnTo>
                  <a:pt x="320" y="295"/>
                </a:lnTo>
                <a:lnTo>
                  <a:pt x="322" y="317"/>
                </a:lnTo>
                <a:lnTo>
                  <a:pt x="324" y="341"/>
                </a:lnTo>
                <a:lnTo>
                  <a:pt x="326" y="365"/>
                </a:lnTo>
                <a:lnTo>
                  <a:pt x="330" y="391"/>
                </a:lnTo>
                <a:lnTo>
                  <a:pt x="332" y="418"/>
                </a:lnTo>
                <a:lnTo>
                  <a:pt x="338" y="447"/>
                </a:lnTo>
                <a:lnTo>
                  <a:pt x="341" y="476"/>
                </a:lnTo>
                <a:lnTo>
                  <a:pt x="343" y="507"/>
                </a:lnTo>
                <a:lnTo>
                  <a:pt x="347" y="535"/>
                </a:lnTo>
                <a:lnTo>
                  <a:pt x="349" y="562"/>
                </a:lnTo>
                <a:lnTo>
                  <a:pt x="351" y="587"/>
                </a:lnTo>
                <a:lnTo>
                  <a:pt x="353" y="612"/>
                </a:lnTo>
                <a:lnTo>
                  <a:pt x="357" y="637"/>
                </a:lnTo>
                <a:lnTo>
                  <a:pt x="359" y="658"/>
                </a:lnTo>
                <a:lnTo>
                  <a:pt x="361" y="679"/>
                </a:lnTo>
                <a:lnTo>
                  <a:pt x="363" y="699"/>
                </a:lnTo>
                <a:lnTo>
                  <a:pt x="364" y="718"/>
                </a:lnTo>
                <a:lnTo>
                  <a:pt x="364" y="735"/>
                </a:lnTo>
                <a:lnTo>
                  <a:pt x="366" y="750"/>
                </a:lnTo>
                <a:lnTo>
                  <a:pt x="368" y="764"/>
                </a:lnTo>
                <a:lnTo>
                  <a:pt x="368" y="777"/>
                </a:lnTo>
                <a:lnTo>
                  <a:pt x="368" y="789"/>
                </a:lnTo>
                <a:lnTo>
                  <a:pt x="368" y="798"/>
                </a:lnTo>
                <a:lnTo>
                  <a:pt x="368" y="821"/>
                </a:lnTo>
                <a:lnTo>
                  <a:pt x="366" y="842"/>
                </a:lnTo>
                <a:lnTo>
                  <a:pt x="363" y="864"/>
                </a:lnTo>
                <a:lnTo>
                  <a:pt x="359" y="883"/>
                </a:lnTo>
                <a:lnTo>
                  <a:pt x="353" y="900"/>
                </a:lnTo>
                <a:lnTo>
                  <a:pt x="345" y="917"/>
                </a:lnTo>
                <a:lnTo>
                  <a:pt x="338" y="933"/>
                </a:lnTo>
                <a:lnTo>
                  <a:pt x="328" y="948"/>
                </a:lnTo>
                <a:lnTo>
                  <a:pt x="320" y="956"/>
                </a:lnTo>
                <a:lnTo>
                  <a:pt x="313" y="965"/>
                </a:lnTo>
                <a:lnTo>
                  <a:pt x="307" y="973"/>
                </a:lnTo>
                <a:lnTo>
                  <a:pt x="301" y="981"/>
                </a:lnTo>
                <a:lnTo>
                  <a:pt x="293" y="986"/>
                </a:lnTo>
                <a:lnTo>
                  <a:pt x="288" y="992"/>
                </a:lnTo>
                <a:lnTo>
                  <a:pt x="282" y="998"/>
                </a:lnTo>
                <a:lnTo>
                  <a:pt x="278" y="1004"/>
                </a:lnTo>
                <a:lnTo>
                  <a:pt x="272" y="1008"/>
                </a:lnTo>
                <a:lnTo>
                  <a:pt x="268" y="1011"/>
                </a:lnTo>
                <a:lnTo>
                  <a:pt x="263" y="1015"/>
                </a:lnTo>
                <a:lnTo>
                  <a:pt x="259" y="1017"/>
                </a:lnTo>
                <a:lnTo>
                  <a:pt x="255" y="1019"/>
                </a:lnTo>
                <a:lnTo>
                  <a:pt x="251" y="1021"/>
                </a:lnTo>
                <a:lnTo>
                  <a:pt x="249" y="1021"/>
                </a:lnTo>
                <a:lnTo>
                  <a:pt x="247" y="1023"/>
                </a:lnTo>
                <a:lnTo>
                  <a:pt x="242" y="1021"/>
                </a:lnTo>
                <a:lnTo>
                  <a:pt x="234" y="1019"/>
                </a:lnTo>
                <a:lnTo>
                  <a:pt x="226" y="1015"/>
                </a:lnTo>
                <a:lnTo>
                  <a:pt x="219" y="1011"/>
                </a:lnTo>
                <a:lnTo>
                  <a:pt x="211" y="1004"/>
                </a:lnTo>
                <a:lnTo>
                  <a:pt x="209" y="1000"/>
                </a:lnTo>
                <a:lnTo>
                  <a:pt x="205" y="996"/>
                </a:lnTo>
                <a:lnTo>
                  <a:pt x="201" y="990"/>
                </a:lnTo>
                <a:lnTo>
                  <a:pt x="197" y="984"/>
                </a:lnTo>
                <a:lnTo>
                  <a:pt x="196" y="979"/>
                </a:lnTo>
                <a:lnTo>
                  <a:pt x="192" y="973"/>
                </a:lnTo>
                <a:lnTo>
                  <a:pt x="182" y="960"/>
                </a:lnTo>
                <a:lnTo>
                  <a:pt x="169" y="946"/>
                </a:lnTo>
                <a:lnTo>
                  <a:pt x="155" y="937"/>
                </a:lnTo>
                <a:lnTo>
                  <a:pt x="142" y="927"/>
                </a:lnTo>
                <a:lnTo>
                  <a:pt x="126" y="917"/>
                </a:lnTo>
                <a:lnTo>
                  <a:pt x="109" y="910"/>
                </a:lnTo>
                <a:lnTo>
                  <a:pt x="90" y="904"/>
                </a:lnTo>
                <a:lnTo>
                  <a:pt x="71" y="8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67"/>
          <p:cNvSpPr/>
          <p:nvPr/>
        </p:nvSpPr>
        <p:spPr>
          <a:xfrm>
            <a:off x="6550200" y="3244680"/>
            <a:ext cx="1104840" cy="208080"/>
          </a:xfrm>
          <a:custGeom>
            <a:avLst/>
            <a:gdLst/>
            <a:ahLst/>
            <a:rect l="l" t="t" r="r" b="b"/>
            <a:pathLst>
              <a:path w="1391" h="261">
                <a:moveTo>
                  <a:pt x="330" y="223"/>
                </a:moveTo>
                <a:lnTo>
                  <a:pt x="307" y="229"/>
                </a:lnTo>
                <a:lnTo>
                  <a:pt x="286" y="232"/>
                </a:lnTo>
                <a:lnTo>
                  <a:pt x="267" y="236"/>
                </a:lnTo>
                <a:lnTo>
                  <a:pt x="249" y="240"/>
                </a:lnTo>
                <a:lnTo>
                  <a:pt x="234" y="244"/>
                </a:lnTo>
                <a:lnTo>
                  <a:pt x="219" y="246"/>
                </a:lnTo>
                <a:lnTo>
                  <a:pt x="205" y="250"/>
                </a:lnTo>
                <a:lnTo>
                  <a:pt x="194" y="252"/>
                </a:lnTo>
                <a:lnTo>
                  <a:pt x="182" y="254"/>
                </a:lnTo>
                <a:lnTo>
                  <a:pt x="173" y="255"/>
                </a:lnTo>
                <a:lnTo>
                  <a:pt x="165" y="257"/>
                </a:lnTo>
                <a:lnTo>
                  <a:pt x="157" y="259"/>
                </a:lnTo>
                <a:lnTo>
                  <a:pt x="152" y="259"/>
                </a:lnTo>
                <a:lnTo>
                  <a:pt x="146" y="259"/>
                </a:lnTo>
                <a:lnTo>
                  <a:pt x="142" y="261"/>
                </a:lnTo>
                <a:lnTo>
                  <a:pt x="140" y="261"/>
                </a:lnTo>
                <a:lnTo>
                  <a:pt x="134" y="259"/>
                </a:lnTo>
                <a:lnTo>
                  <a:pt x="127" y="259"/>
                </a:lnTo>
                <a:lnTo>
                  <a:pt x="119" y="255"/>
                </a:lnTo>
                <a:lnTo>
                  <a:pt x="109" y="252"/>
                </a:lnTo>
                <a:lnTo>
                  <a:pt x="98" y="246"/>
                </a:lnTo>
                <a:lnTo>
                  <a:pt x="86" y="240"/>
                </a:lnTo>
                <a:lnTo>
                  <a:pt x="73" y="232"/>
                </a:lnTo>
                <a:lnTo>
                  <a:pt x="57" y="223"/>
                </a:lnTo>
                <a:lnTo>
                  <a:pt x="44" y="219"/>
                </a:lnTo>
                <a:lnTo>
                  <a:pt x="36" y="215"/>
                </a:lnTo>
                <a:lnTo>
                  <a:pt x="31" y="211"/>
                </a:lnTo>
                <a:lnTo>
                  <a:pt x="25" y="209"/>
                </a:lnTo>
                <a:lnTo>
                  <a:pt x="19" y="206"/>
                </a:lnTo>
                <a:lnTo>
                  <a:pt x="15" y="202"/>
                </a:lnTo>
                <a:lnTo>
                  <a:pt x="11" y="198"/>
                </a:lnTo>
                <a:lnTo>
                  <a:pt x="8" y="196"/>
                </a:lnTo>
                <a:lnTo>
                  <a:pt x="4" y="192"/>
                </a:lnTo>
                <a:lnTo>
                  <a:pt x="2" y="188"/>
                </a:lnTo>
                <a:lnTo>
                  <a:pt x="0" y="184"/>
                </a:lnTo>
                <a:lnTo>
                  <a:pt x="0" y="183"/>
                </a:lnTo>
                <a:lnTo>
                  <a:pt x="0" y="179"/>
                </a:lnTo>
                <a:lnTo>
                  <a:pt x="2" y="177"/>
                </a:lnTo>
                <a:lnTo>
                  <a:pt x="4" y="175"/>
                </a:lnTo>
                <a:lnTo>
                  <a:pt x="4" y="173"/>
                </a:lnTo>
                <a:lnTo>
                  <a:pt x="6" y="171"/>
                </a:lnTo>
                <a:lnTo>
                  <a:pt x="8" y="171"/>
                </a:lnTo>
                <a:lnTo>
                  <a:pt x="11" y="169"/>
                </a:lnTo>
                <a:lnTo>
                  <a:pt x="17" y="167"/>
                </a:lnTo>
                <a:lnTo>
                  <a:pt x="23" y="165"/>
                </a:lnTo>
                <a:lnTo>
                  <a:pt x="29" y="163"/>
                </a:lnTo>
                <a:lnTo>
                  <a:pt x="36" y="161"/>
                </a:lnTo>
                <a:lnTo>
                  <a:pt x="46" y="160"/>
                </a:lnTo>
                <a:lnTo>
                  <a:pt x="56" y="158"/>
                </a:lnTo>
                <a:lnTo>
                  <a:pt x="67" y="156"/>
                </a:lnTo>
                <a:lnTo>
                  <a:pt x="79" y="154"/>
                </a:lnTo>
                <a:lnTo>
                  <a:pt x="92" y="152"/>
                </a:lnTo>
                <a:lnTo>
                  <a:pt x="105" y="148"/>
                </a:lnTo>
                <a:lnTo>
                  <a:pt x="121" y="146"/>
                </a:lnTo>
                <a:lnTo>
                  <a:pt x="138" y="144"/>
                </a:lnTo>
                <a:lnTo>
                  <a:pt x="155" y="140"/>
                </a:lnTo>
                <a:lnTo>
                  <a:pt x="173" y="136"/>
                </a:lnTo>
                <a:lnTo>
                  <a:pt x="194" y="135"/>
                </a:lnTo>
                <a:lnTo>
                  <a:pt x="213" y="131"/>
                </a:lnTo>
                <a:lnTo>
                  <a:pt x="236" y="127"/>
                </a:lnTo>
                <a:lnTo>
                  <a:pt x="257" y="123"/>
                </a:lnTo>
                <a:lnTo>
                  <a:pt x="282" y="119"/>
                </a:lnTo>
                <a:lnTo>
                  <a:pt x="307" y="115"/>
                </a:lnTo>
                <a:lnTo>
                  <a:pt x="332" y="112"/>
                </a:lnTo>
                <a:lnTo>
                  <a:pt x="361" y="106"/>
                </a:lnTo>
                <a:lnTo>
                  <a:pt x="388" y="102"/>
                </a:lnTo>
                <a:lnTo>
                  <a:pt x="418" y="96"/>
                </a:lnTo>
                <a:lnTo>
                  <a:pt x="447" y="92"/>
                </a:lnTo>
                <a:lnTo>
                  <a:pt x="480" y="87"/>
                </a:lnTo>
                <a:lnTo>
                  <a:pt x="512" y="81"/>
                </a:lnTo>
                <a:lnTo>
                  <a:pt x="547" y="75"/>
                </a:lnTo>
                <a:lnTo>
                  <a:pt x="580" y="69"/>
                </a:lnTo>
                <a:lnTo>
                  <a:pt x="612" y="65"/>
                </a:lnTo>
                <a:lnTo>
                  <a:pt x="645" y="62"/>
                </a:lnTo>
                <a:lnTo>
                  <a:pt x="676" y="58"/>
                </a:lnTo>
                <a:lnTo>
                  <a:pt x="706" y="52"/>
                </a:lnTo>
                <a:lnTo>
                  <a:pt x="735" y="48"/>
                </a:lnTo>
                <a:lnTo>
                  <a:pt x="764" y="46"/>
                </a:lnTo>
                <a:lnTo>
                  <a:pt x="791" y="42"/>
                </a:lnTo>
                <a:lnTo>
                  <a:pt x="818" y="39"/>
                </a:lnTo>
                <a:lnTo>
                  <a:pt x="842" y="35"/>
                </a:lnTo>
                <a:lnTo>
                  <a:pt x="867" y="33"/>
                </a:lnTo>
                <a:lnTo>
                  <a:pt x="890" y="29"/>
                </a:lnTo>
                <a:lnTo>
                  <a:pt x="914" y="27"/>
                </a:lnTo>
                <a:lnTo>
                  <a:pt x="935" y="23"/>
                </a:lnTo>
                <a:lnTo>
                  <a:pt x="956" y="21"/>
                </a:lnTo>
                <a:lnTo>
                  <a:pt x="977" y="19"/>
                </a:lnTo>
                <a:lnTo>
                  <a:pt x="996" y="16"/>
                </a:lnTo>
                <a:lnTo>
                  <a:pt x="1015" y="14"/>
                </a:lnTo>
                <a:lnTo>
                  <a:pt x="1033" y="12"/>
                </a:lnTo>
                <a:lnTo>
                  <a:pt x="1048" y="10"/>
                </a:lnTo>
                <a:lnTo>
                  <a:pt x="1065" y="10"/>
                </a:lnTo>
                <a:lnTo>
                  <a:pt x="1079" y="8"/>
                </a:lnTo>
                <a:lnTo>
                  <a:pt x="1094" y="6"/>
                </a:lnTo>
                <a:lnTo>
                  <a:pt x="1107" y="4"/>
                </a:lnTo>
                <a:lnTo>
                  <a:pt x="1119" y="4"/>
                </a:lnTo>
                <a:lnTo>
                  <a:pt x="1130" y="2"/>
                </a:lnTo>
                <a:lnTo>
                  <a:pt x="1142" y="2"/>
                </a:lnTo>
                <a:lnTo>
                  <a:pt x="1152" y="2"/>
                </a:lnTo>
                <a:lnTo>
                  <a:pt x="1161" y="0"/>
                </a:lnTo>
                <a:lnTo>
                  <a:pt x="1169" y="0"/>
                </a:lnTo>
                <a:lnTo>
                  <a:pt x="1176" y="0"/>
                </a:lnTo>
                <a:lnTo>
                  <a:pt x="1184" y="0"/>
                </a:lnTo>
                <a:lnTo>
                  <a:pt x="1203" y="0"/>
                </a:lnTo>
                <a:lnTo>
                  <a:pt x="1224" y="2"/>
                </a:lnTo>
                <a:lnTo>
                  <a:pt x="1244" y="4"/>
                </a:lnTo>
                <a:lnTo>
                  <a:pt x="1263" y="8"/>
                </a:lnTo>
                <a:lnTo>
                  <a:pt x="1282" y="12"/>
                </a:lnTo>
                <a:lnTo>
                  <a:pt x="1299" y="16"/>
                </a:lnTo>
                <a:lnTo>
                  <a:pt x="1317" y="21"/>
                </a:lnTo>
                <a:lnTo>
                  <a:pt x="1334" y="25"/>
                </a:lnTo>
                <a:lnTo>
                  <a:pt x="1347" y="35"/>
                </a:lnTo>
                <a:lnTo>
                  <a:pt x="1361" y="44"/>
                </a:lnTo>
                <a:lnTo>
                  <a:pt x="1366" y="48"/>
                </a:lnTo>
                <a:lnTo>
                  <a:pt x="1372" y="54"/>
                </a:lnTo>
                <a:lnTo>
                  <a:pt x="1376" y="58"/>
                </a:lnTo>
                <a:lnTo>
                  <a:pt x="1380" y="62"/>
                </a:lnTo>
                <a:lnTo>
                  <a:pt x="1384" y="67"/>
                </a:lnTo>
                <a:lnTo>
                  <a:pt x="1386" y="71"/>
                </a:lnTo>
                <a:lnTo>
                  <a:pt x="1390" y="77"/>
                </a:lnTo>
                <a:lnTo>
                  <a:pt x="1390" y="81"/>
                </a:lnTo>
                <a:lnTo>
                  <a:pt x="1391" y="85"/>
                </a:lnTo>
                <a:lnTo>
                  <a:pt x="1390" y="90"/>
                </a:lnTo>
                <a:lnTo>
                  <a:pt x="1390" y="94"/>
                </a:lnTo>
                <a:lnTo>
                  <a:pt x="1388" y="100"/>
                </a:lnTo>
                <a:lnTo>
                  <a:pt x="1384" y="104"/>
                </a:lnTo>
                <a:lnTo>
                  <a:pt x="1378" y="108"/>
                </a:lnTo>
                <a:lnTo>
                  <a:pt x="1372" y="112"/>
                </a:lnTo>
                <a:lnTo>
                  <a:pt x="1365" y="115"/>
                </a:lnTo>
                <a:lnTo>
                  <a:pt x="1355" y="119"/>
                </a:lnTo>
                <a:lnTo>
                  <a:pt x="1343" y="123"/>
                </a:lnTo>
                <a:lnTo>
                  <a:pt x="1330" y="125"/>
                </a:lnTo>
                <a:lnTo>
                  <a:pt x="1317" y="127"/>
                </a:lnTo>
                <a:lnTo>
                  <a:pt x="1299" y="129"/>
                </a:lnTo>
                <a:lnTo>
                  <a:pt x="1282" y="131"/>
                </a:lnTo>
                <a:lnTo>
                  <a:pt x="1263" y="133"/>
                </a:lnTo>
                <a:lnTo>
                  <a:pt x="1242" y="135"/>
                </a:lnTo>
                <a:lnTo>
                  <a:pt x="1221" y="135"/>
                </a:lnTo>
                <a:lnTo>
                  <a:pt x="1196" y="136"/>
                </a:lnTo>
                <a:lnTo>
                  <a:pt x="1171" y="136"/>
                </a:lnTo>
                <a:lnTo>
                  <a:pt x="1144" y="136"/>
                </a:lnTo>
                <a:lnTo>
                  <a:pt x="1086" y="136"/>
                </a:lnTo>
                <a:lnTo>
                  <a:pt x="1031" y="136"/>
                </a:lnTo>
                <a:lnTo>
                  <a:pt x="977" y="136"/>
                </a:lnTo>
                <a:lnTo>
                  <a:pt x="923" y="138"/>
                </a:lnTo>
                <a:lnTo>
                  <a:pt x="869" y="140"/>
                </a:lnTo>
                <a:lnTo>
                  <a:pt x="844" y="140"/>
                </a:lnTo>
                <a:lnTo>
                  <a:pt x="819" y="142"/>
                </a:lnTo>
                <a:lnTo>
                  <a:pt x="795" y="144"/>
                </a:lnTo>
                <a:lnTo>
                  <a:pt x="770" y="144"/>
                </a:lnTo>
                <a:lnTo>
                  <a:pt x="747" y="146"/>
                </a:lnTo>
                <a:lnTo>
                  <a:pt x="723" y="150"/>
                </a:lnTo>
                <a:lnTo>
                  <a:pt x="672" y="154"/>
                </a:lnTo>
                <a:lnTo>
                  <a:pt x="622" y="161"/>
                </a:lnTo>
                <a:lnTo>
                  <a:pt x="570" y="167"/>
                </a:lnTo>
                <a:lnTo>
                  <a:pt x="520" y="177"/>
                </a:lnTo>
                <a:lnTo>
                  <a:pt x="472" y="186"/>
                </a:lnTo>
                <a:lnTo>
                  <a:pt x="422" y="198"/>
                </a:lnTo>
                <a:lnTo>
                  <a:pt x="376" y="209"/>
                </a:lnTo>
                <a:lnTo>
                  <a:pt x="330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68"/>
          <p:cNvSpPr/>
          <p:nvPr/>
        </p:nvSpPr>
        <p:spPr>
          <a:xfrm>
            <a:off x="6338880" y="3402000"/>
            <a:ext cx="131760" cy="503280"/>
          </a:xfrm>
          <a:custGeom>
            <a:avLst/>
            <a:gdLst/>
            <a:ahLst/>
            <a:rect l="l" t="t" r="r" b="b"/>
            <a:pathLst>
              <a:path w="167" h="633">
                <a:moveTo>
                  <a:pt x="27" y="572"/>
                </a:moveTo>
                <a:lnTo>
                  <a:pt x="17" y="543"/>
                </a:lnTo>
                <a:lnTo>
                  <a:pt x="12" y="530"/>
                </a:lnTo>
                <a:lnTo>
                  <a:pt x="8" y="514"/>
                </a:lnTo>
                <a:lnTo>
                  <a:pt x="4" y="501"/>
                </a:lnTo>
                <a:lnTo>
                  <a:pt x="2" y="487"/>
                </a:lnTo>
                <a:lnTo>
                  <a:pt x="0" y="474"/>
                </a:lnTo>
                <a:lnTo>
                  <a:pt x="0" y="461"/>
                </a:lnTo>
                <a:lnTo>
                  <a:pt x="0" y="455"/>
                </a:lnTo>
                <a:lnTo>
                  <a:pt x="0" y="449"/>
                </a:lnTo>
                <a:lnTo>
                  <a:pt x="0" y="443"/>
                </a:lnTo>
                <a:lnTo>
                  <a:pt x="2" y="436"/>
                </a:lnTo>
                <a:lnTo>
                  <a:pt x="2" y="430"/>
                </a:lnTo>
                <a:lnTo>
                  <a:pt x="4" y="422"/>
                </a:lnTo>
                <a:lnTo>
                  <a:pt x="8" y="405"/>
                </a:lnTo>
                <a:lnTo>
                  <a:pt x="12" y="388"/>
                </a:lnTo>
                <a:lnTo>
                  <a:pt x="17" y="367"/>
                </a:lnTo>
                <a:lnTo>
                  <a:pt x="21" y="345"/>
                </a:lnTo>
                <a:lnTo>
                  <a:pt x="27" y="322"/>
                </a:lnTo>
                <a:lnTo>
                  <a:pt x="29" y="311"/>
                </a:lnTo>
                <a:lnTo>
                  <a:pt x="31" y="297"/>
                </a:lnTo>
                <a:lnTo>
                  <a:pt x="31" y="282"/>
                </a:lnTo>
                <a:lnTo>
                  <a:pt x="31" y="267"/>
                </a:lnTo>
                <a:lnTo>
                  <a:pt x="31" y="251"/>
                </a:lnTo>
                <a:lnTo>
                  <a:pt x="31" y="232"/>
                </a:lnTo>
                <a:lnTo>
                  <a:pt x="31" y="215"/>
                </a:lnTo>
                <a:lnTo>
                  <a:pt x="29" y="194"/>
                </a:lnTo>
                <a:lnTo>
                  <a:pt x="29" y="173"/>
                </a:lnTo>
                <a:lnTo>
                  <a:pt x="27" y="152"/>
                </a:lnTo>
                <a:lnTo>
                  <a:pt x="25" y="129"/>
                </a:lnTo>
                <a:lnTo>
                  <a:pt x="23" y="105"/>
                </a:lnTo>
                <a:lnTo>
                  <a:pt x="19" y="81"/>
                </a:lnTo>
                <a:lnTo>
                  <a:pt x="17" y="54"/>
                </a:lnTo>
                <a:lnTo>
                  <a:pt x="15" y="29"/>
                </a:lnTo>
                <a:lnTo>
                  <a:pt x="14" y="0"/>
                </a:lnTo>
                <a:lnTo>
                  <a:pt x="27" y="2"/>
                </a:lnTo>
                <a:lnTo>
                  <a:pt x="42" y="4"/>
                </a:lnTo>
                <a:lnTo>
                  <a:pt x="56" y="6"/>
                </a:lnTo>
                <a:lnTo>
                  <a:pt x="69" y="9"/>
                </a:lnTo>
                <a:lnTo>
                  <a:pt x="81" y="15"/>
                </a:lnTo>
                <a:lnTo>
                  <a:pt x="92" y="23"/>
                </a:lnTo>
                <a:lnTo>
                  <a:pt x="104" y="31"/>
                </a:lnTo>
                <a:lnTo>
                  <a:pt x="113" y="40"/>
                </a:lnTo>
                <a:lnTo>
                  <a:pt x="123" y="50"/>
                </a:lnTo>
                <a:lnTo>
                  <a:pt x="131" y="61"/>
                </a:lnTo>
                <a:lnTo>
                  <a:pt x="138" y="75"/>
                </a:lnTo>
                <a:lnTo>
                  <a:pt x="144" y="90"/>
                </a:lnTo>
                <a:lnTo>
                  <a:pt x="150" y="105"/>
                </a:lnTo>
                <a:lnTo>
                  <a:pt x="156" y="123"/>
                </a:lnTo>
                <a:lnTo>
                  <a:pt x="159" y="142"/>
                </a:lnTo>
                <a:lnTo>
                  <a:pt x="161" y="161"/>
                </a:lnTo>
                <a:lnTo>
                  <a:pt x="163" y="182"/>
                </a:lnTo>
                <a:lnTo>
                  <a:pt x="165" y="203"/>
                </a:lnTo>
                <a:lnTo>
                  <a:pt x="167" y="224"/>
                </a:lnTo>
                <a:lnTo>
                  <a:pt x="167" y="246"/>
                </a:lnTo>
                <a:lnTo>
                  <a:pt x="167" y="286"/>
                </a:lnTo>
                <a:lnTo>
                  <a:pt x="165" y="328"/>
                </a:lnTo>
                <a:lnTo>
                  <a:pt x="161" y="368"/>
                </a:lnTo>
                <a:lnTo>
                  <a:pt x="157" y="407"/>
                </a:lnTo>
                <a:lnTo>
                  <a:pt x="154" y="447"/>
                </a:lnTo>
                <a:lnTo>
                  <a:pt x="148" y="484"/>
                </a:lnTo>
                <a:lnTo>
                  <a:pt x="144" y="503"/>
                </a:lnTo>
                <a:lnTo>
                  <a:pt x="138" y="518"/>
                </a:lnTo>
                <a:lnTo>
                  <a:pt x="134" y="535"/>
                </a:lnTo>
                <a:lnTo>
                  <a:pt x="129" y="549"/>
                </a:lnTo>
                <a:lnTo>
                  <a:pt x="123" y="562"/>
                </a:lnTo>
                <a:lnTo>
                  <a:pt x="119" y="576"/>
                </a:lnTo>
                <a:lnTo>
                  <a:pt x="113" y="585"/>
                </a:lnTo>
                <a:lnTo>
                  <a:pt x="109" y="595"/>
                </a:lnTo>
                <a:lnTo>
                  <a:pt x="106" y="605"/>
                </a:lnTo>
                <a:lnTo>
                  <a:pt x="102" y="612"/>
                </a:lnTo>
                <a:lnTo>
                  <a:pt x="98" y="618"/>
                </a:lnTo>
                <a:lnTo>
                  <a:pt x="94" y="624"/>
                </a:lnTo>
                <a:lnTo>
                  <a:pt x="90" y="628"/>
                </a:lnTo>
                <a:lnTo>
                  <a:pt x="86" y="631"/>
                </a:lnTo>
                <a:lnTo>
                  <a:pt x="83" y="631"/>
                </a:lnTo>
                <a:lnTo>
                  <a:pt x="81" y="633"/>
                </a:lnTo>
                <a:lnTo>
                  <a:pt x="79" y="633"/>
                </a:lnTo>
                <a:lnTo>
                  <a:pt x="75" y="631"/>
                </a:lnTo>
                <a:lnTo>
                  <a:pt x="71" y="629"/>
                </a:lnTo>
                <a:lnTo>
                  <a:pt x="67" y="628"/>
                </a:lnTo>
                <a:lnTo>
                  <a:pt x="65" y="626"/>
                </a:lnTo>
                <a:lnTo>
                  <a:pt x="61" y="624"/>
                </a:lnTo>
                <a:lnTo>
                  <a:pt x="54" y="616"/>
                </a:lnTo>
                <a:lnTo>
                  <a:pt x="46" y="606"/>
                </a:lnTo>
                <a:lnTo>
                  <a:pt x="38" y="597"/>
                </a:lnTo>
                <a:lnTo>
                  <a:pt x="33" y="585"/>
                </a:lnTo>
                <a:lnTo>
                  <a:pt x="27" y="5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69"/>
          <p:cNvSpPr/>
          <p:nvPr/>
        </p:nvSpPr>
        <p:spPr>
          <a:xfrm>
            <a:off x="6066000" y="3162240"/>
            <a:ext cx="507960" cy="498600"/>
          </a:xfrm>
          <a:custGeom>
            <a:avLst/>
            <a:gdLst/>
            <a:ahLst/>
            <a:rect l="l" t="t" r="r" b="b"/>
            <a:pathLst>
              <a:path w="642" h="627">
                <a:moveTo>
                  <a:pt x="4" y="623"/>
                </a:moveTo>
                <a:lnTo>
                  <a:pt x="2" y="621"/>
                </a:lnTo>
                <a:lnTo>
                  <a:pt x="0" y="618"/>
                </a:lnTo>
                <a:lnTo>
                  <a:pt x="2" y="614"/>
                </a:lnTo>
                <a:lnTo>
                  <a:pt x="4" y="608"/>
                </a:lnTo>
                <a:lnTo>
                  <a:pt x="6" y="602"/>
                </a:lnTo>
                <a:lnTo>
                  <a:pt x="10" y="596"/>
                </a:lnTo>
                <a:lnTo>
                  <a:pt x="16" y="589"/>
                </a:lnTo>
                <a:lnTo>
                  <a:pt x="22" y="581"/>
                </a:lnTo>
                <a:lnTo>
                  <a:pt x="27" y="572"/>
                </a:lnTo>
                <a:lnTo>
                  <a:pt x="35" y="564"/>
                </a:lnTo>
                <a:lnTo>
                  <a:pt x="45" y="554"/>
                </a:lnTo>
                <a:lnTo>
                  <a:pt x="54" y="545"/>
                </a:lnTo>
                <a:lnTo>
                  <a:pt x="64" y="533"/>
                </a:lnTo>
                <a:lnTo>
                  <a:pt x="75" y="524"/>
                </a:lnTo>
                <a:lnTo>
                  <a:pt x="87" y="512"/>
                </a:lnTo>
                <a:lnTo>
                  <a:pt x="98" y="501"/>
                </a:lnTo>
                <a:lnTo>
                  <a:pt x="150" y="453"/>
                </a:lnTo>
                <a:lnTo>
                  <a:pt x="175" y="430"/>
                </a:lnTo>
                <a:lnTo>
                  <a:pt x="200" y="405"/>
                </a:lnTo>
                <a:lnTo>
                  <a:pt x="227" y="382"/>
                </a:lnTo>
                <a:lnTo>
                  <a:pt x="252" y="355"/>
                </a:lnTo>
                <a:lnTo>
                  <a:pt x="277" y="330"/>
                </a:lnTo>
                <a:lnTo>
                  <a:pt x="302" y="301"/>
                </a:lnTo>
                <a:lnTo>
                  <a:pt x="315" y="287"/>
                </a:lnTo>
                <a:lnTo>
                  <a:pt x="327" y="274"/>
                </a:lnTo>
                <a:lnTo>
                  <a:pt x="338" y="263"/>
                </a:lnTo>
                <a:lnTo>
                  <a:pt x="348" y="249"/>
                </a:lnTo>
                <a:lnTo>
                  <a:pt x="358" y="238"/>
                </a:lnTo>
                <a:lnTo>
                  <a:pt x="367" y="228"/>
                </a:lnTo>
                <a:lnTo>
                  <a:pt x="375" y="216"/>
                </a:lnTo>
                <a:lnTo>
                  <a:pt x="384" y="207"/>
                </a:lnTo>
                <a:lnTo>
                  <a:pt x="390" y="197"/>
                </a:lnTo>
                <a:lnTo>
                  <a:pt x="398" y="188"/>
                </a:lnTo>
                <a:lnTo>
                  <a:pt x="404" y="180"/>
                </a:lnTo>
                <a:lnTo>
                  <a:pt x="409" y="170"/>
                </a:lnTo>
                <a:lnTo>
                  <a:pt x="415" y="163"/>
                </a:lnTo>
                <a:lnTo>
                  <a:pt x="419" y="155"/>
                </a:lnTo>
                <a:lnTo>
                  <a:pt x="423" y="147"/>
                </a:lnTo>
                <a:lnTo>
                  <a:pt x="425" y="142"/>
                </a:lnTo>
                <a:lnTo>
                  <a:pt x="430" y="128"/>
                </a:lnTo>
                <a:lnTo>
                  <a:pt x="434" y="115"/>
                </a:lnTo>
                <a:lnTo>
                  <a:pt x="438" y="103"/>
                </a:lnTo>
                <a:lnTo>
                  <a:pt x="442" y="92"/>
                </a:lnTo>
                <a:lnTo>
                  <a:pt x="444" y="82"/>
                </a:lnTo>
                <a:lnTo>
                  <a:pt x="444" y="72"/>
                </a:lnTo>
                <a:lnTo>
                  <a:pt x="444" y="69"/>
                </a:lnTo>
                <a:lnTo>
                  <a:pt x="442" y="63"/>
                </a:lnTo>
                <a:lnTo>
                  <a:pt x="440" y="59"/>
                </a:lnTo>
                <a:lnTo>
                  <a:pt x="438" y="53"/>
                </a:lnTo>
                <a:lnTo>
                  <a:pt x="434" y="48"/>
                </a:lnTo>
                <a:lnTo>
                  <a:pt x="430" y="42"/>
                </a:lnTo>
                <a:lnTo>
                  <a:pt x="429" y="36"/>
                </a:lnTo>
                <a:lnTo>
                  <a:pt x="429" y="28"/>
                </a:lnTo>
                <a:lnTo>
                  <a:pt x="429" y="23"/>
                </a:lnTo>
                <a:lnTo>
                  <a:pt x="430" y="15"/>
                </a:lnTo>
                <a:lnTo>
                  <a:pt x="434" y="9"/>
                </a:lnTo>
                <a:lnTo>
                  <a:pt x="438" y="3"/>
                </a:lnTo>
                <a:lnTo>
                  <a:pt x="442" y="1"/>
                </a:lnTo>
                <a:lnTo>
                  <a:pt x="444" y="0"/>
                </a:lnTo>
                <a:lnTo>
                  <a:pt x="448" y="0"/>
                </a:lnTo>
                <a:lnTo>
                  <a:pt x="453" y="0"/>
                </a:lnTo>
                <a:lnTo>
                  <a:pt x="459" y="0"/>
                </a:lnTo>
                <a:lnTo>
                  <a:pt x="465" y="0"/>
                </a:lnTo>
                <a:lnTo>
                  <a:pt x="471" y="1"/>
                </a:lnTo>
                <a:lnTo>
                  <a:pt x="477" y="1"/>
                </a:lnTo>
                <a:lnTo>
                  <a:pt x="492" y="7"/>
                </a:lnTo>
                <a:lnTo>
                  <a:pt x="509" y="13"/>
                </a:lnTo>
                <a:lnTo>
                  <a:pt x="526" y="21"/>
                </a:lnTo>
                <a:lnTo>
                  <a:pt x="548" y="28"/>
                </a:lnTo>
                <a:lnTo>
                  <a:pt x="557" y="36"/>
                </a:lnTo>
                <a:lnTo>
                  <a:pt x="565" y="42"/>
                </a:lnTo>
                <a:lnTo>
                  <a:pt x="574" y="49"/>
                </a:lnTo>
                <a:lnTo>
                  <a:pt x="582" y="55"/>
                </a:lnTo>
                <a:lnTo>
                  <a:pt x="590" y="61"/>
                </a:lnTo>
                <a:lnTo>
                  <a:pt x="597" y="67"/>
                </a:lnTo>
                <a:lnTo>
                  <a:pt x="603" y="72"/>
                </a:lnTo>
                <a:lnTo>
                  <a:pt x="609" y="76"/>
                </a:lnTo>
                <a:lnTo>
                  <a:pt x="620" y="88"/>
                </a:lnTo>
                <a:lnTo>
                  <a:pt x="628" y="97"/>
                </a:lnTo>
                <a:lnTo>
                  <a:pt x="636" y="107"/>
                </a:lnTo>
                <a:lnTo>
                  <a:pt x="642" y="117"/>
                </a:lnTo>
                <a:lnTo>
                  <a:pt x="642" y="120"/>
                </a:lnTo>
                <a:lnTo>
                  <a:pt x="640" y="126"/>
                </a:lnTo>
                <a:lnTo>
                  <a:pt x="636" y="134"/>
                </a:lnTo>
                <a:lnTo>
                  <a:pt x="632" y="142"/>
                </a:lnTo>
                <a:lnTo>
                  <a:pt x="626" y="149"/>
                </a:lnTo>
                <a:lnTo>
                  <a:pt x="619" y="159"/>
                </a:lnTo>
                <a:lnTo>
                  <a:pt x="611" y="168"/>
                </a:lnTo>
                <a:lnTo>
                  <a:pt x="603" y="180"/>
                </a:lnTo>
                <a:lnTo>
                  <a:pt x="592" y="193"/>
                </a:lnTo>
                <a:lnTo>
                  <a:pt x="580" y="205"/>
                </a:lnTo>
                <a:lnTo>
                  <a:pt x="569" y="218"/>
                </a:lnTo>
                <a:lnTo>
                  <a:pt x="555" y="234"/>
                </a:lnTo>
                <a:lnTo>
                  <a:pt x="542" y="249"/>
                </a:lnTo>
                <a:lnTo>
                  <a:pt x="526" y="266"/>
                </a:lnTo>
                <a:lnTo>
                  <a:pt x="509" y="284"/>
                </a:lnTo>
                <a:lnTo>
                  <a:pt x="492" y="301"/>
                </a:lnTo>
                <a:lnTo>
                  <a:pt x="452" y="337"/>
                </a:lnTo>
                <a:lnTo>
                  <a:pt x="411" y="374"/>
                </a:lnTo>
                <a:lnTo>
                  <a:pt x="371" y="406"/>
                </a:lnTo>
                <a:lnTo>
                  <a:pt x="331" y="439"/>
                </a:lnTo>
                <a:lnTo>
                  <a:pt x="292" y="470"/>
                </a:lnTo>
                <a:lnTo>
                  <a:pt x="254" y="499"/>
                </a:lnTo>
                <a:lnTo>
                  <a:pt x="235" y="512"/>
                </a:lnTo>
                <a:lnTo>
                  <a:pt x="217" y="525"/>
                </a:lnTo>
                <a:lnTo>
                  <a:pt x="198" y="537"/>
                </a:lnTo>
                <a:lnTo>
                  <a:pt x="181" y="550"/>
                </a:lnTo>
                <a:lnTo>
                  <a:pt x="162" y="560"/>
                </a:lnTo>
                <a:lnTo>
                  <a:pt x="143" y="572"/>
                </a:lnTo>
                <a:lnTo>
                  <a:pt x="125" y="581"/>
                </a:lnTo>
                <a:lnTo>
                  <a:pt x="110" y="589"/>
                </a:lnTo>
                <a:lnTo>
                  <a:pt x="95" y="596"/>
                </a:lnTo>
                <a:lnTo>
                  <a:pt x="81" y="604"/>
                </a:lnTo>
                <a:lnTo>
                  <a:pt x="68" y="610"/>
                </a:lnTo>
                <a:lnTo>
                  <a:pt x="56" y="616"/>
                </a:lnTo>
                <a:lnTo>
                  <a:pt x="47" y="620"/>
                </a:lnTo>
                <a:lnTo>
                  <a:pt x="37" y="623"/>
                </a:lnTo>
                <a:lnTo>
                  <a:pt x="29" y="625"/>
                </a:lnTo>
                <a:lnTo>
                  <a:pt x="22" y="627"/>
                </a:lnTo>
                <a:lnTo>
                  <a:pt x="16" y="627"/>
                </a:lnTo>
                <a:lnTo>
                  <a:pt x="10" y="627"/>
                </a:lnTo>
                <a:lnTo>
                  <a:pt x="6" y="625"/>
                </a:lnTo>
                <a:lnTo>
                  <a:pt x="4" y="6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70"/>
          <p:cNvSpPr/>
          <p:nvPr/>
        </p:nvSpPr>
        <p:spPr>
          <a:xfrm>
            <a:off x="5389560" y="3054240"/>
            <a:ext cx="722160" cy="1836720"/>
          </a:xfrm>
          <a:custGeom>
            <a:avLst/>
            <a:gdLst/>
            <a:ahLst/>
            <a:rect l="l" t="t" r="r" b="b"/>
            <a:pathLst>
              <a:path w="910" h="2313">
                <a:moveTo>
                  <a:pt x="2" y="2311"/>
                </a:moveTo>
                <a:lnTo>
                  <a:pt x="0" y="2307"/>
                </a:lnTo>
                <a:lnTo>
                  <a:pt x="0" y="2304"/>
                </a:lnTo>
                <a:lnTo>
                  <a:pt x="0" y="2298"/>
                </a:lnTo>
                <a:lnTo>
                  <a:pt x="2" y="2290"/>
                </a:lnTo>
                <a:lnTo>
                  <a:pt x="6" y="2281"/>
                </a:lnTo>
                <a:lnTo>
                  <a:pt x="10" y="2271"/>
                </a:lnTo>
                <a:lnTo>
                  <a:pt x="18" y="2259"/>
                </a:lnTo>
                <a:lnTo>
                  <a:pt x="23" y="2246"/>
                </a:lnTo>
                <a:lnTo>
                  <a:pt x="33" y="2233"/>
                </a:lnTo>
                <a:lnTo>
                  <a:pt x="44" y="2215"/>
                </a:lnTo>
                <a:lnTo>
                  <a:pt x="56" y="2198"/>
                </a:lnTo>
                <a:lnTo>
                  <a:pt x="69" y="2179"/>
                </a:lnTo>
                <a:lnTo>
                  <a:pt x="83" y="2158"/>
                </a:lnTo>
                <a:lnTo>
                  <a:pt x="100" y="2137"/>
                </a:lnTo>
                <a:lnTo>
                  <a:pt x="117" y="2114"/>
                </a:lnTo>
                <a:lnTo>
                  <a:pt x="137" y="2089"/>
                </a:lnTo>
                <a:lnTo>
                  <a:pt x="177" y="2035"/>
                </a:lnTo>
                <a:lnTo>
                  <a:pt x="215" y="1983"/>
                </a:lnTo>
                <a:lnTo>
                  <a:pt x="252" y="1929"/>
                </a:lnTo>
                <a:lnTo>
                  <a:pt x="288" y="1874"/>
                </a:lnTo>
                <a:lnTo>
                  <a:pt x="305" y="1845"/>
                </a:lnTo>
                <a:lnTo>
                  <a:pt x="321" y="1818"/>
                </a:lnTo>
                <a:lnTo>
                  <a:pt x="338" y="1789"/>
                </a:lnTo>
                <a:lnTo>
                  <a:pt x="353" y="1760"/>
                </a:lnTo>
                <a:lnTo>
                  <a:pt x="369" y="1732"/>
                </a:lnTo>
                <a:lnTo>
                  <a:pt x="382" y="1701"/>
                </a:lnTo>
                <a:lnTo>
                  <a:pt x="396" y="1672"/>
                </a:lnTo>
                <a:lnTo>
                  <a:pt x="409" y="1641"/>
                </a:lnTo>
                <a:lnTo>
                  <a:pt x="459" y="1520"/>
                </a:lnTo>
                <a:lnTo>
                  <a:pt x="484" y="1459"/>
                </a:lnTo>
                <a:lnTo>
                  <a:pt x="509" y="1398"/>
                </a:lnTo>
                <a:lnTo>
                  <a:pt x="532" y="1336"/>
                </a:lnTo>
                <a:lnTo>
                  <a:pt x="555" y="1273"/>
                </a:lnTo>
                <a:lnTo>
                  <a:pt x="578" y="1210"/>
                </a:lnTo>
                <a:lnTo>
                  <a:pt x="599" y="1146"/>
                </a:lnTo>
                <a:lnTo>
                  <a:pt x="605" y="1112"/>
                </a:lnTo>
                <a:lnTo>
                  <a:pt x="613" y="1079"/>
                </a:lnTo>
                <a:lnTo>
                  <a:pt x="620" y="1044"/>
                </a:lnTo>
                <a:lnTo>
                  <a:pt x="628" y="1008"/>
                </a:lnTo>
                <a:lnTo>
                  <a:pt x="636" y="971"/>
                </a:lnTo>
                <a:lnTo>
                  <a:pt x="643" y="935"/>
                </a:lnTo>
                <a:lnTo>
                  <a:pt x="651" y="897"/>
                </a:lnTo>
                <a:lnTo>
                  <a:pt x="659" y="858"/>
                </a:lnTo>
                <a:lnTo>
                  <a:pt x="664" y="820"/>
                </a:lnTo>
                <a:lnTo>
                  <a:pt x="672" y="780"/>
                </a:lnTo>
                <a:lnTo>
                  <a:pt x="678" y="739"/>
                </a:lnTo>
                <a:lnTo>
                  <a:pt x="684" y="697"/>
                </a:lnTo>
                <a:lnTo>
                  <a:pt x="691" y="655"/>
                </a:lnTo>
                <a:lnTo>
                  <a:pt x="697" y="613"/>
                </a:lnTo>
                <a:lnTo>
                  <a:pt x="703" y="568"/>
                </a:lnTo>
                <a:lnTo>
                  <a:pt x="707" y="526"/>
                </a:lnTo>
                <a:lnTo>
                  <a:pt x="709" y="503"/>
                </a:lnTo>
                <a:lnTo>
                  <a:pt x="709" y="482"/>
                </a:lnTo>
                <a:lnTo>
                  <a:pt x="710" y="461"/>
                </a:lnTo>
                <a:lnTo>
                  <a:pt x="710" y="442"/>
                </a:lnTo>
                <a:lnTo>
                  <a:pt x="712" y="423"/>
                </a:lnTo>
                <a:lnTo>
                  <a:pt x="712" y="403"/>
                </a:lnTo>
                <a:lnTo>
                  <a:pt x="714" y="384"/>
                </a:lnTo>
                <a:lnTo>
                  <a:pt x="714" y="367"/>
                </a:lnTo>
                <a:lnTo>
                  <a:pt x="714" y="350"/>
                </a:lnTo>
                <a:lnTo>
                  <a:pt x="716" y="334"/>
                </a:lnTo>
                <a:lnTo>
                  <a:pt x="716" y="317"/>
                </a:lnTo>
                <a:lnTo>
                  <a:pt x="716" y="302"/>
                </a:lnTo>
                <a:lnTo>
                  <a:pt x="716" y="288"/>
                </a:lnTo>
                <a:lnTo>
                  <a:pt x="716" y="273"/>
                </a:lnTo>
                <a:lnTo>
                  <a:pt x="716" y="259"/>
                </a:lnTo>
                <a:lnTo>
                  <a:pt x="716" y="246"/>
                </a:lnTo>
                <a:lnTo>
                  <a:pt x="716" y="234"/>
                </a:lnTo>
                <a:lnTo>
                  <a:pt x="716" y="223"/>
                </a:lnTo>
                <a:lnTo>
                  <a:pt x="716" y="211"/>
                </a:lnTo>
                <a:lnTo>
                  <a:pt x="716" y="200"/>
                </a:lnTo>
                <a:lnTo>
                  <a:pt x="716" y="190"/>
                </a:lnTo>
                <a:lnTo>
                  <a:pt x="716" y="181"/>
                </a:lnTo>
                <a:lnTo>
                  <a:pt x="714" y="171"/>
                </a:lnTo>
                <a:lnTo>
                  <a:pt x="714" y="163"/>
                </a:lnTo>
                <a:lnTo>
                  <a:pt x="714" y="156"/>
                </a:lnTo>
                <a:lnTo>
                  <a:pt x="712" y="148"/>
                </a:lnTo>
                <a:lnTo>
                  <a:pt x="712" y="140"/>
                </a:lnTo>
                <a:lnTo>
                  <a:pt x="710" y="135"/>
                </a:lnTo>
                <a:lnTo>
                  <a:pt x="710" y="129"/>
                </a:lnTo>
                <a:lnTo>
                  <a:pt x="709" y="125"/>
                </a:lnTo>
                <a:lnTo>
                  <a:pt x="709" y="119"/>
                </a:lnTo>
                <a:lnTo>
                  <a:pt x="707" y="117"/>
                </a:lnTo>
                <a:lnTo>
                  <a:pt x="697" y="102"/>
                </a:lnTo>
                <a:lnTo>
                  <a:pt x="689" y="90"/>
                </a:lnTo>
                <a:lnTo>
                  <a:pt x="684" y="79"/>
                </a:lnTo>
                <a:lnTo>
                  <a:pt x="678" y="67"/>
                </a:lnTo>
                <a:lnTo>
                  <a:pt x="676" y="64"/>
                </a:lnTo>
                <a:lnTo>
                  <a:pt x="676" y="58"/>
                </a:lnTo>
                <a:lnTo>
                  <a:pt x="674" y="54"/>
                </a:lnTo>
                <a:lnTo>
                  <a:pt x="674" y="48"/>
                </a:lnTo>
                <a:lnTo>
                  <a:pt x="676" y="44"/>
                </a:lnTo>
                <a:lnTo>
                  <a:pt x="676" y="39"/>
                </a:lnTo>
                <a:lnTo>
                  <a:pt x="678" y="35"/>
                </a:lnTo>
                <a:lnTo>
                  <a:pt x="680" y="29"/>
                </a:lnTo>
                <a:lnTo>
                  <a:pt x="680" y="25"/>
                </a:lnTo>
                <a:lnTo>
                  <a:pt x="682" y="21"/>
                </a:lnTo>
                <a:lnTo>
                  <a:pt x="682" y="18"/>
                </a:lnTo>
                <a:lnTo>
                  <a:pt x="686" y="14"/>
                </a:lnTo>
                <a:lnTo>
                  <a:pt x="687" y="10"/>
                </a:lnTo>
                <a:lnTo>
                  <a:pt x="691" y="8"/>
                </a:lnTo>
                <a:lnTo>
                  <a:pt x="695" y="4"/>
                </a:lnTo>
                <a:lnTo>
                  <a:pt x="699" y="2"/>
                </a:lnTo>
                <a:lnTo>
                  <a:pt x="709" y="0"/>
                </a:lnTo>
                <a:lnTo>
                  <a:pt x="714" y="0"/>
                </a:lnTo>
                <a:lnTo>
                  <a:pt x="720" y="0"/>
                </a:lnTo>
                <a:lnTo>
                  <a:pt x="726" y="0"/>
                </a:lnTo>
                <a:lnTo>
                  <a:pt x="733" y="0"/>
                </a:lnTo>
                <a:lnTo>
                  <a:pt x="739" y="2"/>
                </a:lnTo>
                <a:lnTo>
                  <a:pt x="747" y="4"/>
                </a:lnTo>
                <a:lnTo>
                  <a:pt x="764" y="10"/>
                </a:lnTo>
                <a:lnTo>
                  <a:pt x="781" y="14"/>
                </a:lnTo>
                <a:lnTo>
                  <a:pt x="799" y="19"/>
                </a:lnTo>
                <a:lnTo>
                  <a:pt x="818" y="23"/>
                </a:lnTo>
                <a:lnTo>
                  <a:pt x="839" y="27"/>
                </a:lnTo>
                <a:lnTo>
                  <a:pt x="862" y="33"/>
                </a:lnTo>
                <a:lnTo>
                  <a:pt x="885" y="37"/>
                </a:lnTo>
                <a:lnTo>
                  <a:pt x="910" y="42"/>
                </a:lnTo>
                <a:lnTo>
                  <a:pt x="910" y="75"/>
                </a:lnTo>
                <a:lnTo>
                  <a:pt x="910" y="106"/>
                </a:lnTo>
                <a:lnTo>
                  <a:pt x="910" y="138"/>
                </a:lnTo>
                <a:lnTo>
                  <a:pt x="910" y="169"/>
                </a:lnTo>
                <a:lnTo>
                  <a:pt x="910" y="198"/>
                </a:lnTo>
                <a:lnTo>
                  <a:pt x="910" y="227"/>
                </a:lnTo>
                <a:lnTo>
                  <a:pt x="910" y="240"/>
                </a:lnTo>
                <a:lnTo>
                  <a:pt x="910" y="254"/>
                </a:lnTo>
                <a:lnTo>
                  <a:pt x="910" y="265"/>
                </a:lnTo>
                <a:lnTo>
                  <a:pt x="910" y="279"/>
                </a:lnTo>
                <a:lnTo>
                  <a:pt x="908" y="290"/>
                </a:lnTo>
                <a:lnTo>
                  <a:pt x="906" y="304"/>
                </a:lnTo>
                <a:lnTo>
                  <a:pt x="902" y="319"/>
                </a:lnTo>
                <a:lnTo>
                  <a:pt x="900" y="336"/>
                </a:lnTo>
                <a:lnTo>
                  <a:pt x="899" y="353"/>
                </a:lnTo>
                <a:lnTo>
                  <a:pt x="895" y="373"/>
                </a:lnTo>
                <a:lnTo>
                  <a:pt x="893" y="394"/>
                </a:lnTo>
                <a:lnTo>
                  <a:pt x="891" y="415"/>
                </a:lnTo>
                <a:lnTo>
                  <a:pt x="887" y="438"/>
                </a:lnTo>
                <a:lnTo>
                  <a:pt x="885" y="463"/>
                </a:lnTo>
                <a:lnTo>
                  <a:pt x="883" y="490"/>
                </a:lnTo>
                <a:lnTo>
                  <a:pt x="879" y="517"/>
                </a:lnTo>
                <a:lnTo>
                  <a:pt x="877" y="545"/>
                </a:lnTo>
                <a:lnTo>
                  <a:pt x="876" y="574"/>
                </a:lnTo>
                <a:lnTo>
                  <a:pt x="872" y="605"/>
                </a:lnTo>
                <a:lnTo>
                  <a:pt x="870" y="638"/>
                </a:lnTo>
                <a:lnTo>
                  <a:pt x="868" y="672"/>
                </a:lnTo>
                <a:lnTo>
                  <a:pt x="864" y="707"/>
                </a:lnTo>
                <a:lnTo>
                  <a:pt x="860" y="741"/>
                </a:lnTo>
                <a:lnTo>
                  <a:pt x="854" y="774"/>
                </a:lnTo>
                <a:lnTo>
                  <a:pt x="851" y="808"/>
                </a:lnTo>
                <a:lnTo>
                  <a:pt x="845" y="841"/>
                </a:lnTo>
                <a:lnTo>
                  <a:pt x="831" y="906"/>
                </a:lnTo>
                <a:lnTo>
                  <a:pt x="818" y="971"/>
                </a:lnTo>
                <a:lnTo>
                  <a:pt x="805" y="1035"/>
                </a:lnTo>
                <a:lnTo>
                  <a:pt x="789" y="1096"/>
                </a:lnTo>
                <a:lnTo>
                  <a:pt x="776" y="1158"/>
                </a:lnTo>
                <a:lnTo>
                  <a:pt x="755" y="1223"/>
                </a:lnTo>
                <a:lnTo>
                  <a:pt x="732" y="1288"/>
                </a:lnTo>
                <a:lnTo>
                  <a:pt x="709" y="1353"/>
                </a:lnTo>
                <a:lnTo>
                  <a:pt x="684" y="1419"/>
                </a:lnTo>
                <a:lnTo>
                  <a:pt x="657" y="1482"/>
                </a:lnTo>
                <a:lnTo>
                  <a:pt x="630" y="1547"/>
                </a:lnTo>
                <a:lnTo>
                  <a:pt x="601" y="1613"/>
                </a:lnTo>
                <a:lnTo>
                  <a:pt x="572" y="1678"/>
                </a:lnTo>
                <a:lnTo>
                  <a:pt x="553" y="1710"/>
                </a:lnTo>
                <a:lnTo>
                  <a:pt x="536" y="1743"/>
                </a:lnTo>
                <a:lnTo>
                  <a:pt x="517" y="1774"/>
                </a:lnTo>
                <a:lnTo>
                  <a:pt x="497" y="1805"/>
                </a:lnTo>
                <a:lnTo>
                  <a:pt x="478" y="1833"/>
                </a:lnTo>
                <a:lnTo>
                  <a:pt x="459" y="1864"/>
                </a:lnTo>
                <a:lnTo>
                  <a:pt x="440" y="1893"/>
                </a:lnTo>
                <a:lnTo>
                  <a:pt x="419" y="1920"/>
                </a:lnTo>
                <a:lnTo>
                  <a:pt x="398" y="1948"/>
                </a:lnTo>
                <a:lnTo>
                  <a:pt x="376" y="1975"/>
                </a:lnTo>
                <a:lnTo>
                  <a:pt x="355" y="2000"/>
                </a:lnTo>
                <a:lnTo>
                  <a:pt x="334" y="2027"/>
                </a:lnTo>
                <a:lnTo>
                  <a:pt x="313" y="2052"/>
                </a:lnTo>
                <a:lnTo>
                  <a:pt x="290" y="2077"/>
                </a:lnTo>
                <a:lnTo>
                  <a:pt x="269" y="2102"/>
                </a:lnTo>
                <a:lnTo>
                  <a:pt x="246" y="2125"/>
                </a:lnTo>
                <a:lnTo>
                  <a:pt x="221" y="2150"/>
                </a:lnTo>
                <a:lnTo>
                  <a:pt x="198" y="2173"/>
                </a:lnTo>
                <a:lnTo>
                  <a:pt x="175" y="2194"/>
                </a:lnTo>
                <a:lnTo>
                  <a:pt x="154" y="2213"/>
                </a:lnTo>
                <a:lnTo>
                  <a:pt x="135" y="2233"/>
                </a:lnTo>
                <a:lnTo>
                  <a:pt x="117" y="2248"/>
                </a:lnTo>
                <a:lnTo>
                  <a:pt x="100" y="2261"/>
                </a:lnTo>
                <a:lnTo>
                  <a:pt x="83" y="2275"/>
                </a:lnTo>
                <a:lnTo>
                  <a:pt x="69" y="2284"/>
                </a:lnTo>
                <a:lnTo>
                  <a:pt x="56" y="2294"/>
                </a:lnTo>
                <a:lnTo>
                  <a:pt x="43" y="2302"/>
                </a:lnTo>
                <a:lnTo>
                  <a:pt x="33" y="2307"/>
                </a:lnTo>
                <a:lnTo>
                  <a:pt x="23" y="2309"/>
                </a:lnTo>
                <a:lnTo>
                  <a:pt x="14" y="2311"/>
                </a:lnTo>
                <a:lnTo>
                  <a:pt x="8" y="2313"/>
                </a:lnTo>
                <a:lnTo>
                  <a:pt x="2" y="23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71"/>
          <p:cNvSpPr/>
          <p:nvPr/>
        </p:nvSpPr>
        <p:spPr>
          <a:xfrm>
            <a:off x="6037200" y="2900520"/>
            <a:ext cx="1344600" cy="257040"/>
          </a:xfrm>
          <a:custGeom>
            <a:avLst/>
            <a:gdLst/>
            <a:ahLst/>
            <a:rect l="l" t="t" r="r" b="b"/>
            <a:pathLst>
              <a:path w="1695" h="325">
                <a:moveTo>
                  <a:pt x="0" y="236"/>
                </a:moveTo>
                <a:lnTo>
                  <a:pt x="13" y="236"/>
                </a:lnTo>
                <a:lnTo>
                  <a:pt x="29" y="236"/>
                </a:lnTo>
                <a:lnTo>
                  <a:pt x="44" y="235"/>
                </a:lnTo>
                <a:lnTo>
                  <a:pt x="61" y="235"/>
                </a:lnTo>
                <a:lnTo>
                  <a:pt x="79" y="233"/>
                </a:lnTo>
                <a:lnTo>
                  <a:pt x="96" y="233"/>
                </a:lnTo>
                <a:lnTo>
                  <a:pt x="115" y="231"/>
                </a:lnTo>
                <a:lnTo>
                  <a:pt x="134" y="229"/>
                </a:lnTo>
                <a:lnTo>
                  <a:pt x="154" y="227"/>
                </a:lnTo>
                <a:lnTo>
                  <a:pt x="175" y="225"/>
                </a:lnTo>
                <a:lnTo>
                  <a:pt x="198" y="223"/>
                </a:lnTo>
                <a:lnTo>
                  <a:pt x="219" y="219"/>
                </a:lnTo>
                <a:lnTo>
                  <a:pt x="242" y="217"/>
                </a:lnTo>
                <a:lnTo>
                  <a:pt x="265" y="213"/>
                </a:lnTo>
                <a:lnTo>
                  <a:pt x="290" y="212"/>
                </a:lnTo>
                <a:lnTo>
                  <a:pt x="315" y="208"/>
                </a:lnTo>
                <a:lnTo>
                  <a:pt x="342" y="204"/>
                </a:lnTo>
                <a:lnTo>
                  <a:pt x="367" y="200"/>
                </a:lnTo>
                <a:lnTo>
                  <a:pt x="395" y="194"/>
                </a:lnTo>
                <a:lnTo>
                  <a:pt x="422" y="190"/>
                </a:lnTo>
                <a:lnTo>
                  <a:pt x="451" y="185"/>
                </a:lnTo>
                <a:lnTo>
                  <a:pt x="480" y="181"/>
                </a:lnTo>
                <a:lnTo>
                  <a:pt x="511" y="175"/>
                </a:lnTo>
                <a:lnTo>
                  <a:pt x="541" y="169"/>
                </a:lnTo>
                <a:lnTo>
                  <a:pt x="572" y="162"/>
                </a:lnTo>
                <a:lnTo>
                  <a:pt x="605" y="156"/>
                </a:lnTo>
                <a:lnTo>
                  <a:pt x="637" y="150"/>
                </a:lnTo>
                <a:lnTo>
                  <a:pt x="672" y="142"/>
                </a:lnTo>
                <a:lnTo>
                  <a:pt x="706" y="135"/>
                </a:lnTo>
                <a:lnTo>
                  <a:pt x="741" y="127"/>
                </a:lnTo>
                <a:lnTo>
                  <a:pt x="777" y="119"/>
                </a:lnTo>
                <a:lnTo>
                  <a:pt x="814" y="112"/>
                </a:lnTo>
                <a:lnTo>
                  <a:pt x="850" y="104"/>
                </a:lnTo>
                <a:lnTo>
                  <a:pt x="885" y="98"/>
                </a:lnTo>
                <a:lnTo>
                  <a:pt x="919" y="91"/>
                </a:lnTo>
                <a:lnTo>
                  <a:pt x="954" y="85"/>
                </a:lnTo>
                <a:lnTo>
                  <a:pt x="987" y="79"/>
                </a:lnTo>
                <a:lnTo>
                  <a:pt x="1017" y="73"/>
                </a:lnTo>
                <a:lnTo>
                  <a:pt x="1048" y="68"/>
                </a:lnTo>
                <a:lnTo>
                  <a:pt x="1077" y="62"/>
                </a:lnTo>
                <a:lnTo>
                  <a:pt x="1106" y="58"/>
                </a:lnTo>
                <a:lnTo>
                  <a:pt x="1134" y="52"/>
                </a:lnTo>
                <a:lnTo>
                  <a:pt x="1161" y="48"/>
                </a:lnTo>
                <a:lnTo>
                  <a:pt x="1186" y="43"/>
                </a:lnTo>
                <a:lnTo>
                  <a:pt x="1211" y="39"/>
                </a:lnTo>
                <a:lnTo>
                  <a:pt x="1236" y="35"/>
                </a:lnTo>
                <a:lnTo>
                  <a:pt x="1259" y="31"/>
                </a:lnTo>
                <a:lnTo>
                  <a:pt x="1280" y="27"/>
                </a:lnTo>
                <a:lnTo>
                  <a:pt x="1301" y="23"/>
                </a:lnTo>
                <a:lnTo>
                  <a:pt x="1323" y="22"/>
                </a:lnTo>
                <a:lnTo>
                  <a:pt x="1342" y="18"/>
                </a:lnTo>
                <a:lnTo>
                  <a:pt x="1361" y="16"/>
                </a:lnTo>
                <a:lnTo>
                  <a:pt x="1378" y="14"/>
                </a:lnTo>
                <a:lnTo>
                  <a:pt x="1394" y="12"/>
                </a:lnTo>
                <a:lnTo>
                  <a:pt x="1409" y="8"/>
                </a:lnTo>
                <a:lnTo>
                  <a:pt x="1424" y="8"/>
                </a:lnTo>
                <a:lnTo>
                  <a:pt x="1438" y="6"/>
                </a:lnTo>
                <a:lnTo>
                  <a:pt x="1449" y="4"/>
                </a:lnTo>
                <a:lnTo>
                  <a:pt x="1461" y="2"/>
                </a:lnTo>
                <a:lnTo>
                  <a:pt x="1472" y="2"/>
                </a:lnTo>
                <a:lnTo>
                  <a:pt x="1482" y="2"/>
                </a:lnTo>
                <a:lnTo>
                  <a:pt x="1489" y="0"/>
                </a:lnTo>
                <a:lnTo>
                  <a:pt x="1497" y="0"/>
                </a:lnTo>
                <a:lnTo>
                  <a:pt x="1505" y="0"/>
                </a:lnTo>
                <a:lnTo>
                  <a:pt x="1524" y="0"/>
                </a:lnTo>
                <a:lnTo>
                  <a:pt x="1543" y="0"/>
                </a:lnTo>
                <a:lnTo>
                  <a:pt x="1561" y="0"/>
                </a:lnTo>
                <a:lnTo>
                  <a:pt x="1578" y="2"/>
                </a:lnTo>
                <a:lnTo>
                  <a:pt x="1593" y="2"/>
                </a:lnTo>
                <a:lnTo>
                  <a:pt x="1610" y="6"/>
                </a:lnTo>
                <a:lnTo>
                  <a:pt x="1626" y="8"/>
                </a:lnTo>
                <a:lnTo>
                  <a:pt x="1641" y="12"/>
                </a:lnTo>
                <a:lnTo>
                  <a:pt x="1649" y="16"/>
                </a:lnTo>
                <a:lnTo>
                  <a:pt x="1655" y="18"/>
                </a:lnTo>
                <a:lnTo>
                  <a:pt x="1660" y="22"/>
                </a:lnTo>
                <a:lnTo>
                  <a:pt x="1666" y="23"/>
                </a:lnTo>
                <a:lnTo>
                  <a:pt x="1672" y="27"/>
                </a:lnTo>
                <a:lnTo>
                  <a:pt x="1676" y="31"/>
                </a:lnTo>
                <a:lnTo>
                  <a:pt x="1680" y="35"/>
                </a:lnTo>
                <a:lnTo>
                  <a:pt x="1683" y="39"/>
                </a:lnTo>
                <a:lnTo>
                  <a:pt x="1689" y="48"/>
                </a:lnTo>
                <a:lnTo>
                  <a:pt x="1693" y="56"/>
                </a:lnTo>
                <a:lnTo>
                  <a:pt x="1695" y="66"/>
                </a:lnTo>
                <a:lnTo>
                  <a:pt x="1695" y="75"/>
                </a:lnTo>
                <a:lnTo>
                  <a:pt x="1695" y="77"/>
                </a:lnTo>
                <a:lnTo>
                  <a:pt x="1693" y="79"/>
                </a:lnTo>
                <a:lnTo>
                  <a:pt x="1689" y="83"/>
                </a:lnTo>
                <a:lnTo>
                  <a:pt x="1683" y="85"/>
                </a:lnTo>
                <a:lnTo>
                  <a:pt x="1678" y="89"/>
                </a:lnTo>
                <a:lnTo>
                  <a:pt x="1670" y="91"/>
                </a:lnTo>
                <a:lnTo>
                  <a:pt x="1660" y="94"/>
                </a:lnTo>
                <a:lnTo>
                  <a:pt x="1649" y="98"/>
                </a:lnTo>
                <a:lnTo>
                  <a:pt x="1637" y="102"/>
                </a:lnTo>
                <a:lnTo>
                  <a:pt x="1624" y="104"/>
                </a:lnTo>
                <a:lnTo>
                  <a:pt x="1609" y="108"/>
                </a:lnTo>
                <a:lnTo>
                  <a:pt x="1593" y="112"/>
                </a:lnTo>
                <a:lnTo>
                  <a:pt x="1576" y="117"/>
                </a:lnTo>
                <a:lnTo>
                  <a:pt x="1557" y="121"/>
                </a:lnTo>
                <a:lnTo>
                  <a:pt x="1536" y="125"/>
                </a:lnTo>
                <a:lnTo>
                  <a:pt x="1513" y="129"/>
                </a:lnTo>
                <a:lnTo>
                  <a:pt x="1489" y="135"/>
                </a:lnTo>
                <a:lnTo>
                  <a:pt x="1466" y="139"/>
                </a:lnTo>
                <a:lnTo>
                  <a:pt x="1440" y="144"/>
                </a:lnTo>
                <a:lnTo>
                  <a:pt x="1413" y="150"/>
                </a:lnTo>
                <a:lnTo>
                  <a:pt x="1384" y="156"/>
                </a:lnTo>
                <a:lnTo>
                  <a:pt x="1353" y="160"/>
                </a:lnTo>
                <a:lnTo>
                  <a:pt x="1321" y="165"/>
                </a:lnTo>
                <a:lnTo>
                  <a:pt x="1288" y="171"/>
                </a:lnTo>
                <a:lnTo>
                  <a:pt x="1253" y="177"/>
                </a:lnTo>
                <a:lnTo>
                  <a:pt x="1219" y="185"/>
                </a:lnTo>
                <a:lnTo>
                  <a:pt x="1182" y="190"/>
                </a:lnTo>
                <a:lnTo>
                  <a:pt x="1144" y="196"/>
                </a:lnTo>
                <a:lnTo>
                  <a:pt x="1104" y="204"/>
                </a:lnTo>
                <a:lnTo>
                  <a:pt x="1061" y="210"/>
                </a:lnTo>
                <a:lnTo>
                  <a:pt x="1019" y="217"/>
                </a:lnTo>
                <a:lnTo>
                  <a:pt x="977" y="223"/>
                </a:lnTo>
                <a:lnTo>
                  <a:pt x="933" y="231"/>
                </a:lnTo>
                <a:lnTo>
                  <a:pt x="889" y="236"/>
                </a:lnTo>
                <a:lnTo>
                  <a:pt x="846" y="244"/>
                </a:lnTo>
                <a:lnTo>
                  <a:pt x="804" y="250"/>
                </a:lnTo>
                <a:lnTo>
                  <a:pt x="764" y="256"/>
                </a:lnTo>
                <a:lnTo>
                  <a:pt x="726" y="261"/>
                </a:lnTo>
                <a:lnTo>
                  <a:pt x="685" y="267"/>
                </a:lnTo>
                <a:lnTo>
                  <a:pt x="649" y="273"/>
                </a:lnTo>
                <a:lnTo>
                  <a:pt x="610" y="279"/>
                </a:lnTo>
                <a:lnTo>
                  <a:pt x="574" y="283"/>
                </a:lnTo>
                <a:lnTo>
                  <a:pt x="539" y="286"/>
                </a:lnTo>
                <a:lnTo>
                  <a:pt x="505" y="292"/>
                </a:lnTo>
                <a:lnTo>
                  <a:pt x="472" y="296"/>
                </a:lnTo>
                <a:lnTo>
                  <a:pt x="440" y="300"/>
                </a:lnTo>
                <a:lnTo>
                  <a:pt x="407" y="304"/>
                </a:lnTo>
                <a:lnTo>
                  <a:pt x="376" y="306"/>
                </a:lnTo>
                <a:lnTo>
                  <a:pt x="346" y="309"/>
                </a:lnTo>
                <a:lnTo>
                  <a:pt x="317" y="311"/>
                </a:lnTo>
                <a:lnTo>
                  <a:pt x="288" y="315"/>
                </a:lnTo>
                <a:lnTo>
                  <a:pt x="261" y="317"/>
                </a:lnTo>
                <a:lnTo>
                  <a:pt x="234" y="319"/>
                </a:lnTo>
                <a:lnTo>
                  <a:pt x="209" y="321"/>
                </a:lnTo>
                <a:lnTo>
                  <a:pt x="184" y="323"/>
                </a:lnTo>
                <a:lnTo>
                  <a:pt x="159" y="323"/>
                </a:lnTo>
                <a:lnTo>
                  <a:pt x="136" y="325"/>
                </a:lnTo>
                <a:lnTo>
                  <a:pt x="115" y="325"/>
                </a:lnTo>
                <a:lnTo>
                  <a:pt x="92" y="325"/>
                </a:lnTo>
                <a:lnTo>
                  <a:pt x="73" y="325"/>
                </a:lnTo>
                <a:lnTo>
                  <a:pt x="54" y="325"/>
                </a:lnTo>
                <a:lnTo>
                  <a:pt x="35" y="325"/>
                </a:lnTo>
                <a:lnTo>
                  <a:pt x="17" y="323"/>
                </a:lnTo>
                <a:lnTo>
                  <a:pt x="0" y="323"/>
                </a:lnTo>
                <a:lnTo>
                  <a:pt x="0" y="2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72"/>
          <p:cNvSpPr/>
          <p:nvPr/>
        </p:nvSpPr>
        <p:spPr>
          <a:xfrm>
            <a:off x="6521400" y="2724120"/>
            <a:ext cx="311040" cy="219240"/>
          </a:xfrm>
          <a:custGeom>
            <a:avLst/>
            <a:gdLst/>
            <a:ahLst/>
            <a:rect l="l" t="t" r="r" b="b"/>
            <a:pathLst>
              <a:path w="394" h="276">
                <a:moveTo>
                  <a:pt x="0" y="25"/>
                </a:moveTo>
                <a:lnTo>
                  <a:pt x="0" y="21"/>
                </a:lnTo>
                <a:lnTo>
                  <a:pt x="0" y="19"/>
                </a:lnTo>
                <a:lnTo>
                  <a:pt x="2" y="17"/>
                </a:lnTo>
                <a:lnTo>
                  <a:pt x="6" y="15"/>
                </a:lnTo>
                <a:lnTo>
                  <a:pt x="8" y="13"/>
                </a:lnTo>
                <a:lnTo>
                  <a:pt x="12" y="11"/>
                </a:lnTo>
                <a:lnTo>
                  <a:pt x="16" y="9"/>
                </a:lnTo>
                <a:lnTo>
                  <a:pt x="22" y="7"/>
                </a:lnTo>
                <a:lnTo>
                  <a:pt x="27" y="6"/>
                </a:lnTo>
                <a:lnTo>
                  <a:pt x="35" y="4"/>
                </a:lnTo>
                <a:lnTo>
                  <a:pt x="43" y="2"/>
                </a:lnTo>
                <a:lnTo>
                  <a:pt x="52" y="2"/>
                </a:lnTo>
                <a:lnTo>
                  <a:pt x="62" y="0"/>
                </a:lnTo>
                <a:lnTo>
                  <a:pt x="71" y="0"/>
                </a:lnTo>
                <a:lnTo>
                  <a:pt x="83" y="0"/>
                </a:lnTo>
                <a:lnTo>
                  <a:pt x="94" y="0"/>
                </a:lnTo>
                <a:lnTo>
                  <a:pt x="119" y="0"/>
                </a:lnTo>
                <a:lnTo>
                  <a:pt x="142" y="2"/>
                </a:lnTo>
                <a:lnTo>
                  <a:pt x="165" y="4"/>
                </a:lnTo>
                <a:lnTo>
                  <a:pt x="187" y="7"/>
                </a:lnTo>
                <a:lnTo>
                  <a:pt x="206" y="11"/>
                </a:lnTo>
                <a:lnTo>
                  <a:pt x="225" y="15"/>
                </a:lnTo>
                <a:lnTo>
                  <a:pt x="242" y="19"/>
                </a:lnTo>
                <a:lnTo>
                  <a:pt x="258" y="25"/>
                </a:lnTo>
                <a:lnTo>
                  <a:pt x="273" y="29"/>
                </a:lnTo>
                <a:lnTo>
                  <a:pt x="286" y="34"/>
                </a:lnTo>
                <a:lnTo>
                  <a:pt x="298" y="42"/>
                </a:lnTo>
                <a:lnTo>
                  <a:pt x="309" y="50"/>
                </a:lnTo>
                <a:lnTo>
                  <a:pt x="321" y="59"/>
                </a:lnTo>
                <a:lnTo>
                  <a:pt x="332" y="67"/>
                </a:lnTo>
                <a:lnTo>
                  <a:pt x="354" y="86"/>
                </a:lnTo>
                <a:lnTo>
                  <a:pt x="361" y="100"/>
                </a:lnTo>
                <a:lnTo>
                  <a:pt x="371" y="113"/>
                </a:lnTo>
                <a:lnTo>
                  <a:pt x="377" y="128"/>
                </a:lnTo>
                <a:lnTo>
                  <a:pt x="382" y="142"/>
                </a:lnTo>
                <a:lnTo>
                  <a:pt x="388" y="155"/>
                </a:lnTo>
                <a:lnTo>
                  <a:pt x="390" y="169"/>
                </a:lnTo>
                <a:lnTo>
                  <a:pt x="392" y="184"/>
                </a:lnTo>
                <a:lnTo>
                  <a:pt x="394" y="197"/>
                </a:lnTo>
                <a:lnTo>
                  <a:pt x="394" y="211"/>
                </a:lnTo>
                <a:lnTo>
                  <a:pt x="392" y="222"/>
                </a:lnTo>
                <a:lnTo>
                  <a:pt x="392" y="234"/>
                </a:lnTo>
                <a:lnTo>
                  <a:pt x="392" y="244"/>
                </a:lnTo>
                <a:lnTo>
                  <a:pt x="390" y="253"/>
                </a:lnTo>
                <a:lnTo>
                  <a:pt x="388" y="261"/>
                </a:lnTo>
                <a:lnTo>
                  <a:pt x="384" y="267"/>
                </a:lnTo>
                <a:lnTo>
                  <a:pt x="380" y="272"/>
                </a:lnTo>
                <a:lnTo>
                  <a:pt x="377" y="274"/>
                </a:lnTo>
                <a:lnTo>
                  <a:pt x="373" y="276"/>
                </a:lnTo>
                <a:lnTo>
                  <a:pt x="367" y="276"/>
                </a:lnTo>
                <a:lnTo>
                  <a:pt x="361" y="276"/>
                </a:lnTo>
                <a:lnTo>
                  <a:pt x="355" y="276"/>
                </a:lnTo>
                <a:lnTo>
                  <a:pt x="348" y="274"/>
                </a:lnTo>
                <a:lnTo>
                  <a:pt x="338" y="272"/>
                </a:lnTo>
                <a:lnTo>
                  <a:pt x="329" y="270"/>
                </a:lnTo>
                <a:lnTo>
                  <a:pt x="317" y="267"/>
                </a:lnTo>
                <a:lnTo>
                  <a:pt x="306" y="263"/>
                </a:lnTo>
                <a:lnTo>
                  <a:pt x="294" y="259"/>
                </a:lnTo>
                <a:lnTo>
                  <a:pt x="281" y="253"/>
                </a:lnTo>
                <a:lnTo>
                  <a:pt x="265" y="247"/>
                </a:lnTo>
                <a:lnTo>
                  <a:pt x="250" y="240"/>
                </a:lnTo>
                <a:lnTo>
                  <a:pt x="235" y="232"/>
                </a:lnTo>
                <a:lnTo>
                  <a:pt x="217" y="222"/>
                </a:lnTo>
                <a:lnTo>
                  <a:pt x="200" y="213"/>
                </a:lnTo>
                <a:lnTo>
                  <a:pt x="183" y="203"/>
                </a:lnTo>
                <a:lnTo>
                  <a:pt x="167" y="194"/>
                </a:lnTo>
                <a:lnTo>
                  <a:pt x="154" y="186"/>
                </a:lnTo>
                <a:lnTo>
                  <a:pt x="139" y="176"/>
                </a:lnTo>
                <a:lnTo>
                  <a:pt x="127" y="167"/>
                </a:lnTo>
                <a:lnTo>
                  <a:pt x="114" y="157"/>
                </a:lnTo>
                <a:lnTo>
                  <a:pt x="104" y="149"/>
                </a:lnTo>
                <a:lnTo>
                  <a:pt x="93" y="140"/>
                </a:lnTo>
                <a:lnTo>
                  <a:pt x="83" y="132"/>
                </a:lnTo>
                <a:lnTo>
                  <a:pt x="73" y="125"/>
                </a:lnTo>
                <a:lnTo>
                  <a:pt x="66" y="115"/>
                </a:lnTo>
                <a:lnTo>
                  <a:pt x="58" y="107"/>
                </a:lnTo>
                <a:lnTo>
                  <a:pt x="52" y="100"/>
                </a:lnTo>
                <a:lnTo>
                  <a:pt x="46" y="92"/>
                </a:lnTo>
                <a:lnTo>
                  <a:pt x="41" y="86"/>
                </a:lnTo>
                <a:lnTo>
                  <a:pt x="35" y="78"/>
                </a:lnTo>
                <a:lnTo>
                  <a:pt x="31" y="73"/>
                </a:lnTo>
                <a:lnTo>
                  <a:pt x="27" y="67"/>
                </a:lnTo>
                <a:lnTo>
                  <a:pt x="23" y="61"/>
                </a:lnTo>
                <a:lnTo>
                  <a:pt x="16" y="54"/>
                </a:lnTo>
                <a:lnTo>
                  <a:pt x="10" y="46"/>
                </a:lnTo>
                <a:lnTo>
                  <a:pt x="6" y="38"/>
                </a:lnTo>
                <a:lnTo>
                  <a:pt x="2" y="34"/>
                </a:lnTo>
                <a:lnTo>
                  <a:pt x="0" y="29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4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18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上部要 紧凑；右下部横画宜 长，托住右上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2030400" y="1868400"/>
            <a:ext cx="13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65"/>
          <p:cNvSpPr/>
          <p:nvPr/>
        </p:nvSpPr>
        <p:spPr>
          <a:xfrm>
            <a:off x="6305400" y="4054320"/>
            <a:ext cx="870120" cy="833760"/>
          </a:xfrm>
          <a:custGeom>
            <a:avLst/>
            <a:gdLst/>
            <a:ahLst/>
            <a:rect l="l" t="t" r="r" b="b"/>
            <a:pathLst>
              <a:path w="1096" h="1050">
                <a:moveTo>
                  <a:pt x="247" y="1015"/>
                </a:moveTo>
                <a:lnTo>
                  <a:pt x="220" y="1023"/>
                </a:lnTo>
                <a:lnTo>
                  <a:pt x="193" y="1029"/>
                </a:lnTo>
                <a:lnTo>
                  <a:pt x="168" y="1034"/>
                </a:lnTo>
                <a:lnTo>
                  <a:pt x="145" y="1038"/>
                </a:lnTo>
                <a:lnTo>
                  <a:pt x="124" y="1042"/>
                </a:lnTo>
                <a:lnTo>
                  <a:pt x="105" y="1046"/>
                </a:lnTo>
                <a:lnTo>
                  <a:pt x="88" y="1048"/>
                </a:lnTo>
                <a:lnTo>
                  <a:pt x="71" y="1050"/>
                </a:lnTo>
                <a:lnTo>
                  <a:pt x="57" y="1050"/>
                </a:lnTo>
                <a:lnTo>
                  <a:pt x="44" y="1050"/>
                </a:lnTo>
                <a:lnTo>
                  <a:pt x="32" y="1050"/>
                </a:lnTo>
                <a:lnTo>
                  <a:pt x="23" y="1050"/>
                </a:lnTo>
                <a:lnTo>
                  <a:pt x="15" y="1048"/>
                </a:lnTo>
                <a:lnTo>
                  <a:pt x="9" y="1046"/>
                </a:lnTo>
                <a:lnTo>
                  <a:pt x="3" y="1044"/>
                </a:lnTo>
                <a:lnTo>
                  <a:pt x="1" y="1042"/>
                </a:lnTo>
                <a:lnTo>
                  <a:pt x="0" y="1040"/>
                </a:lnTo>
                <a:lnTo>
                  <a:pt x="0" y="1036"/>
                </a:lnTo>
                <a:lnTo>
                  <a:pt x="1" y="1034"/>
                </a:lnTo>
                <a:lnTo>
                  <a:pt x="3" y="1031"/>
                </a:lnTo>
                <a:lnTo>
                  <a:pt x="7" y="1027"/>
                </a:lnTo>
                <a:lnTo>
                  <a:pt x="13" y="1023"/>
                </a:lnTo>
                <a:lnTo>
                  <a:pt x="19" y="1017"/>
                </a:lnTo>
                <a:lnTo>
                  <a:pt x="28" y="1013"/>
                </a:lnTo>
                <a:lnTo>
                  <a:pt x="38" y="1007"/>
                </a:lnTo>
                <a:lnTo>
                  <a:pt x="48" y="1002"/>
                </a:lnTo>
                <a:lnTo>
                  <a:pt x="61" y="996"/>
                </a:lnTo>
                <a:lnTo>
                  <a:pt x="74" y="990"/>
                </a:lnTo>
                <a:lnTo>
                  <a:pt x="90" y="984"/>
                </a:lnTo>
                <a:lnTo>
                  <a:pt x="105" y="977"/>
                </a:lnTo>
                <a:lnTo>
                  <a:pt x="122" y="971"/>
                </a:lnTo>
                <a:lnTo>
                  <a:pt x="142" y="963"/>
                </a:lnTo>
                <a:lnTo>
                  <a:pt x="178" y="948"/>
                </a:lnTo>
                <a:lnTo>
                  <a:pt x="215" y="933"/>
                </a:lnTo>
                <a:lnTo>
                  <a:pt x="253" y="917"/>
                </a:lnTo>
                <a:lnTo>
                  <a:pt x="291" y="900"/>
                </a:lnTo>
                <a:lnTo>
                  <a:pt x="330" y="883"/>
                </a:lnTo>
                <a:lnTo>
                  <a:pt x="349" y="873"/>
                </a:lnTo>
                <a:lnTo>
                  <a:pt x="368" y="864"/>
                </a:lnTo>
                <a:lnTo>
                  <a:pt x="387" y="852"/>
                </a:lnTo>
                <a:lnTo>
                  <a:pt x="408" y="842"/>
                </a:lnTo>
                <a:lnTo>
                  <a:pt x="428" y="831"/>
                </a:lnTo>
                <a:lnTo>
                  <a:pt x="447" y="817"/>
                </a:lnTo>
                <a:lnTo>
                  <a:pt x="487" y="793"/>
                </a:lnTo>
                <a:lnTo>
                  <a:pt x="524" y="766"/>
                </a:lnTo>
                <a:lnTo>
                  <a:pt x="562" y="737"/>
                </a:lnTo>
                <a:lnTo>
                  <a:pt x="596" y="708"/>
                </a:lnTo>
                <a:lnTo>
                  <a:pt x="616" y="693"/>
                </a:lnTo>
                <a:lnTo>
                  <a:pt x="633" y="675"/>
                </a:lnTo>
                <a:lnTo>
                  <a:pt x="648" y="660"/>
                </a:lnTo>
                <a:lnTo>
                  <a:pt x="666" y="643"/>
                </a:lnTo>
                <a:lnTo>
                  <a:pt x="683" y="624"/>
                </a:lnTo>
                <a:lnTo>
                  <a:pt x="698" y="606"/>
                </a:lnTo>
                <a:lnTo>
                  <a:pt x="714" y="587"/>
                </a:lnTo>
                <a:lnTo>
                  <a:pt x="729" y="568"/>
                </a:lnTo>
                <a:lnTo>
                  <a:pt x="754" y="533"/>
                </a:lnTo>
                <a:lnTo>
                  <a:pt x="777" y="499"/>
                </a:lnTo>
                <a:lnTo>
                  <a:pt x="798" y="462"/>
                </a:lnTo>
                <a:lnTo>
                  <a:pt x="819" y="428"/>
                </a:lnTo>
                <a:lnTo>
                  <a:pt x="836" y="393"/>
                </a:lnTo>
                <a:lnTo>
                  <a:pt x="854" y="359"/>
                </a:lnTo>
                <a:lnTo>
                  <a:pt x="869" y="324"/>
                </a:lnTo>
                <a:lnTo>
                  <a:pt x="882" y="290"/>
                </a:lnTo>
                <a:lnTo>
                  <a:pt x="890" y="261"/>
                </a:lnTo>
                <a:lnTo>
                  <a:pt x="898" y="234"/>
                </a:lnTo>
                <a:lnTo>
                  <a:pt x="904" y="205"/>
                </a:lnTo>
                <a:lnTo>
                  <a:pt x="907" y="180"/>
                </a:lnTo>
                <a:lnTo>
                  <a:pt x="909" y="153"/>
                </a:lnTo>
                <a:lnTo>
                  <a:pt x="909" y="128"/>
                </a:lnTo>
                <a:lnTo>
                  <a:pt x="909" y="117"/>
                </a:lnTo>
                <a:lnTo>
                  <a:pt x="909" y="103"/>
                </a:lnTo>
                <a:lnTo>
                  <a:pt x="907" y="92"/>
                </a:lnTo>
                <a:lnTo>
                  <a:pt x="906" y="78"/>
                </a:lnTo>
                <a:lnTo>
                  <a:pt x="904" y="69"/>
                </a:lnTo>
                <a:lnTo>
                  <a:pt x="902" y="61"/>
                </a:lnTo>
                <a:lnTo>
                  <a:pt x="902" y="52"/>
                </a:lnTo>
                <a:lnTo>
                  <a:pt x="902" y="44"/>
                </a:lnTo>
                <a:lnTo>
                  <a:pt x="902" y="38"/>
                </a:lnTo>
                <a:lnTo>
                  <a:pt x="902" y="30"/>
                </a:lnTo>
                <a:lnTo>
                  <a:pt x="904" y="25"/>
                </a:lnTo>
                <a:lnTo>
                  <a:pt x="906" y="19"/>
                </a:lnTo>
                <a:lnTo>
                  <a:pt x="907" y="15"/>
                </a:lnTo>
                <a:lnTo>
                  <a:pt x="911" y="11"/>
                </a:lnTo>
                <a:lnTo>
                  <a:pt x="915" y="7"/>
                </a:lnTo>
                <a:lnTo>
                  <a:pt x="919" y="6"/>
                </a:lnTo>
                <a:lnTo>
                  <a:pt x="923" y="2"/>
                </a:lnTo>
                <a:lnTo>
                  <a:pt x="929" y="2"/>
                </a:lnTo>
                <a:lnTo>
                  <a:pt x="934" y="0"/>
                </a:lnTo>
                <a:lnTo>
                  <a:pt x="940" y="0"/>
                </a:lnTo>
                <a:lnTo>
                  <a:pt x="950" y="0"/>
                </a:lnTo>
                <a:lnTo>
                  <a:pt x="961" y="2"/>
                </a:lnTo>
                <a:lnTo>
                  <a:pt x="971" y="6"/>
                </a:lnTo>
                <a:lnTo>
                  <a:pt x="984" y="7"/>
                </a:lnTo>
                <a:lnTo>
                  <a:pt x="996" y="11"/>
                </a:lnTo>
                <a:lnTo>
                  <a:pt x="1009" y="17"/>
                </a:lnTo>
                <a:lnTo>
                  <a:pt x="1034" y="27"/>
                </a:lnTo>
                <a:lnTo>
                  <a:pt x="1042" y="30"/>
                </a:lnTo>
                <a:lnTo>
                  <a:pt x="1048" y="36"/>
                </a:lnTo>
                <a:lnTo>
                  <a:pt x="1057" y="46"/>
                </a:lnTo>
                <a:lnTo>
                  <a:pt x="1065" y="55"/>
                </a:lnTo>
                <a:lnTo>
                  <a:pt x="1073" y="65"/>
                </a:lnTo>
                <a:lnTo>
                  <a:pt x="1078" y="73"/>
                </a:lnTo>
                <a:lnTo>
                  <a:pt x="1084" y="80"/>
                </a:lnTo>
                <a:lnTo>
                  <a:pt x="1088" y="86"/>
                </a:lnTo>
                <a:lnTo>
                  <a:pt x="1094" y="92"/>
                </a:lnTo>
                <a:lnTo>
                  <a:pt x="1096" y="96"/>
                </a:lnTo>
                <a:lnTo>
                  <a:pt x="1096" y="100"/>
                </a:lnTo>
                <a:lnTo>
                  <a:pt x="1096" y="105"/>
                </a:lnTo>
                <a:lnTo>
                  <a:pt x="1096" y="113"/>
                </a:lnTo>
                <a:lnTo>
                  <a:pt x="1094" y="121"/>
                </a:lnTo>
                <a:lnTo>
                  <a:pt x="1092" y="130"/>
                </a:lnTo>
                <a:lnTo>
                  <a:pt x="1090" y="140"/>
                </a:lnTo>
                <a:lnTo>
                  <a:pt x="1088" y="151"/>
                </a:lnTo>
                <a:lnTo>
                  <a:pt x="1084" y="165"/>
                </a:lnTo>
                <a:lnTo>
                  <a:pt x="1080" y="178"/>
                </a:lnTo>
                <a:lnTo>
                  <a:pt x="1074" y="194"/>
                </a:lnTo>
                <a:lnTo>
                  <a:pt x="1071" y="211"/>
                </a:lnTo>
                <a:lnTo>
                  <a:pt x="1065" y="228"/>
                </a:lnTo>
                <a:lnTo>
                  <a:pt x="1059" y="247"/>
                </a:lnTo>
                <a:lnTo>
                  <a:pt x="1053" y="268"/>
                </a:lnTo>
                <a:lnTo>
                  <a:pt x="1046" y="290"/>
                </a:lnTo>
                <a:lnTo>
                  <a:pt x="1040" y="313"/>
                </a:lnTo>
                <a:lnTo>
                  <a:pt x="1032" y="334"/>
                </a:lnTo>
                <a:lnTo>
                  <a:pt x="1025" y="355"/>
                </a:lnTo>
                <a:lnTo>
                  <a:pt x="1017" y="374"/>
                </a:lnTo>
                <a:lnTo>
                  <a:pt x="998" y="414"/>
                </a:lnTo>
                <a:lnTo>
                  <a:pt x="978" y="451"/>
                </a:lnTo>
                <a:lnTo>
                  <a:pt x="957" y="487"/>
                </a:lnTo>
                <a:lnTo>
                  <a:pt x="936" y="524"/>
                </a:lnTo>
                <a:lnTo>
                  <a:pt x="915" y="558"/>
                </a:lnTo>
                <a:lnTo>
                  <a:pt x="894" y="595"/>
                </a:lnTo>
                <a:lnTo>
                  <a:pt x="882" y="612"/>
                </a:lnTo>
                <a:lnTo>
                  <a:pt x="871" y="629"/>
                </a:lnTo>
                <a:lnTo>
                  <a:pt x="858" y="645"/>
                </a:lnTo>
                <a:lnTo>
                  <a:pt x="846" y="662"/>
                </a:lnTo>
                <a:lnTo>
                  <a:pt x="833" y="679"/>
                </a:lnTo>
                <a:lnTo>
                  <a:pt x="817" y="697"/>
                </a:lnTo>
                <a:lnTo>
                  <a:pt x="804" y="712"/>
                </a:lnTo>
                <a:lnTo>
                  <a:pt x="788" y="729"/>
                </a:lnTo>
                <a:lnTo>
                  <a:pt x="773" y="745"/>
                </a:lnTo>
                <a:lnTo>
                  <a:pt x="756" y="760"/>
                </a:lnTo>
                <a:lnTo>
                  <a:pt x="739" y="775"/>
                </a:lnTo>
                <a:lnTo>
                  <a:pt x="721" y="791"/>
                </a:lnTo>
                <a:lnTo>
                  <a:pt x="704" y="804"/>
                </a:lnTo>
                <a:lnTo>
                  <a:pt x="685" y="817"/>
                </a:lnTo>
                <a:lnTo>
                  <a:pt x="666" y="831"/>
                </a:lnTo>
                <a:lnTo>
                  <a:pt x="646" y="844"/>
                </a:lnTo>
                <a:lnTo>
                  <a:pt x="627" y="858"/>
                </a:lnTo>
                <a:lnTo>
                  <a:pt x="606" y="869"/>
                </a:lnTo>
                <a:lnTo>
                  <a:pt x="585" y="881"/>
                </a:lnTo>
                <a:lnTo>
                  <a:pt x="564" y="894"/>
                </a:lnTo>
                <a:lnTo>
                  <a:pt x="541" y="906"/>
                </a:lnTo>
                <a:lnTo>
                  <a:pt x="518" y="917"/>
                </a:lnTo>
                <a:lnTo>
                  <a:pt x="495" y="929"/>
                </a:lnTo>
                <a:lnTo>
                  <a:pt x="470" y="940"/>
                </a:lnTo>
                <a:lnTo>
                  <a:pt x="445" y="950"/>
                </a:lnTo>
                <a:lnTo>
                  <a:pt x="418" y="961"/>
                </a:lnTo>
                <a:lnTo>
                  <a:pt x="391" y="971"/>
                </a:lnTo>
                <a:lnTo>
                  <a:pt x="364" y="981"/>
                </a:lnTo>
                <a:lnTo>
                  <a:pt x="337" y="990"/>
                </a:lnTo>
                <a:lnTo>
                  <a:pt x="309" y="1000"/>
                </a:lnTo>
                <a:lnTo>
                  <a:pt x="278" y="1007"/>
                </a:lnTo>
                <a:lnTo>
                  <a:pt x="247" y="10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66"/>
          <p:cNvSpPr/>
          <p:nvPr/>
        </p:nvSpPr>
        <p:spPr>
          <a:xfrm>
            <a:off x="6573960" y="3946680"/>
            <a:ext cx="915840" cy="977760"/>
          </a:xfrm>
          <a:custGeom>
            <a:avLst/>
            <a:gdLst/>
            <a:ahLst/>
            <a:rect l="l" t="t" r="r" b="b"/>
            <a:pathLst>
              <a:path w="1156" h="1233">
                <a:moveTo>
                  <a:pt x="52" y="467"/>
                </a:moveTo>
                <a:lnTo>
                  <a:pt x="69" y="432"/>
                </a:lnTo>
                <a:lnTo>
                  <a:pt x="85" y="400"/>
                </a:lnTo>
                <a:lnTo>
                  <a:pt x="98" y="367"/>
                </a:lnTo>
                <a:lnTo>
                  <a:pt x="112" y="336"/>
                </a:lnTo>
                <a:lnTo>
                  <a:pt x="123" y="306"/>
                </a:lnTo>
                <a:lnTo>
                  <a:pt x="129" y="290"/>
                </a:lnTo>
                <a:lnTo>
                  <a:pt x="133" y="275"/>
                </a:lnTo>
                <a:lnTo>
                  <a:pt x="137" y="262"/>
                </a:lnTo>
                <a:lnTo>
                  <a:pt x="140" y="246"/>
                </a:lnTo>
                <a:lnTo>
                  <a:pt x="142" y="231"/>
                </a:lnTo>
                <a:lnTo>
                  <a:pt x="146" y="215"/>
                </a:lnTo>
                <a:lnTo>
                  <a:pt x="148" y="202"/>
                </a:lnTo>
                <a:lnTo>
                  <a:pt x="150" y="187"/>
                </a:lnTo>
                <a:lnTo>
                  <a:pt x="152" y="175"/>
                </a:lnTo>
                <a:lnTo>
                  <a:pt x="154" y="162"/>
                </a:lnTo>
                <a:lnTo>
                  <a:pt x="156" y="150"/>
                </a:lnTo>
                <a:lnTo>
                  <a:pt x="158" y="139"/>
                </a:lnTo>
                <a:lnTo>
                  <a:pt x="160" y="127"/>
                </a:lnTo>
                <a:lnTo>
                  <a:pt x="160" y="118"/>
                </a:lnTo>
                <a:lnTo>
                  <a:pt x="162" y="108"/>
                </a:lnTo>
                <a:lnTo>
                  <a:pt x="162" y="98"/>
                </a:lnTo>
                <a:lnTo>
                  <a:pt x="162" y="91"/>
                </a:lnTo>
                <a:lnTo>
                  <a:pt x="162" y="83"/>
                </a:lnTo>
                <a:lnTo>
                  <a:pt x="162" y="75"/>
                </a:lnTo>
                <a:lnTo>
                  <a:pt x="160" y="70"/>
                </a:lnTo>
                <a:lnTo>
                  <a:pt x="160" y="64"/>
                </a:lnTo>
                <a:lnTo>
                  <a:pt x="158" y="58"/>
                </a:lnTo>
                <a:lnTo>
                  <a:pt x="154" y="48"/>
                </a:lnTo>
                <a:lnTo>
                  <a:pt x="152" y="41"/>
                </a:lnTo>
                <a:lnTo>
                  <a:pt x="150" y="33"/>
                </a:lnTo>
                <a:lnTo>
                  <a:pt x="150" y="29"/>
                </a:lnTo>
                <a:lnTo>
                  <a:pt x="152" y="27"/>
                </a:lnTo>
                <a:lnTo>
                  <a:pt x="154" y="24"/>
                </a:lnTo>
                <a:lnTo>
                  <a:pt x="156" y="20"/>
                </a:lnTo>
                <a:lnTo>
                  <a:pt x="158" y="18"/>
                </a:lnTo>
                <a:lnTo>
                  <a:pt x="162" y="16"/>
                </a:lnTo>
                <a:lnTo>
                  <a:pt x="165" y="12"/>
                </a:lnTo>
                <a:lnTo>
                  <a:pt x="169" y="10"/>
                </a:lnTo>
                <a:lnTo>
                  <a:pt x="175" y="8"/>
                </a:lnTo>
                <a:lnTo>
                  <a:pt x="181" y="6"/>
                </a:lnTo>
                <a:lnTo>
                  <a:pt x="185" y="2"/>
                </a:lnTo>
                <a:lnTo>
                  <a:pt x="190" y="2"/>
                </a:lnTo>
                <a:lnTo>
                  <a:pt x="196" y="0"/>
                </a:lnTo>
                <a:lnTo>
                  <a:pt x="200" y="0"/>
                </a:lnTo>
                <a:lnTo>
                  <a:pt x="206" y="0"/>
                </a:lnTo>
                <a:lnTo>
                  <a:pt x="212" y="0"/>
                </a:lnTo>
                <a:lnTo>
                  <a:pt x="217" y="2"/>
                </a:lnTo>
                <a:lnTo>
                  <a:pt x="223" y="4"/>
                </a:lnTo>
                <a:lnTo>
                  <a:pt x="229" y="8"/>
                </a:lnTo>
                <a:lnTo>
                  <a:pt x="236" y="12"/>
                </a:lnTo>
                <a:lnTo>
                  <a:pt x="242" y="16"/>
                </a:lnTo>
                <a:lnTo>
                  <a:pt x="248" y="20"/>
                </a:lnTo>
                <a:lnTo>
                  <a:pt x="256" y="25"/>
                </a:lnTo>
                <a:lnTo>
                  <a:pt x="261" y="31"/>
                </a:lnTo>
                <a:lnTo>
                  <a:pt x="269" y="37"/>
                </a:lnTo>
                <a:lnTo>
                  <a:pt x="275" y="45"/>
                </a:lnTo>
                <a:lnTo>
                  <a:pt x="286" y="58"/>
                </a:lnTo>
                <a:lnTo>
                  <a:pt x="298" y="72"/>
                </a:lnTo>
                <a:lnTo>
                  <a:pt x="309" y="85"/>
                </a:lnTo>
                <a:lnTo>
                  <a:pt x="317" y="96"/>
                </a:lnTo>
                <a:lnTo>
                  <a:pt x="325" y="106"/>
                </a:lnTo>
                <a:lnTo>
                  <a:pt x="327" y="112"/>
                </a:lnTo>
                <a:lnTo>
                  <a:pt x="329" y="118"/>
                </a:lnTo>
                <a:lnTo>
                  <a:pt x="331" y="121"/>
                </a:lnTo>
                <a:lnTo>
                  <a:pt x="332" y="127"/>
                </a:lnTo>
                <a:lnTo>
                  <a:pt x="332" y="131"/>
                </a:lnTo>
                <a:lnTo>
                  <a:pt x="334" y="137"/>
                </a:lnTo>
                <a:lnTo>
                  <a:pt x="331" y="143"/>
                </a:lnTo>
                <a:lnTo>
                  <a:pt x="329" y="148"/>
                </a:lnTo>
                <a:lnTo>
                  <a:pt x="325" y="156"/>
                </a:lnTo>
                <a:lnTo>
                  <a:pt x="323" y="164"/>
                </a:lnTo>
                <a:lnTo>
                  <a:pt x="319" y="173"/>
                </a:lnTo>
                <a:lnTo>
                  <a:pt x="313" y="185"/>
                </a:lnTo>
                <a:lnTo>
                  <a:pt x="309" y="196"/>
                </a:lnTo>
                <a:lnTo>
                  <a:pt x="304" y="208"/>
                </a:lnTo>
                <a:lnTo>
                  <a:pt x="298" y="221"/>
                </a:lnTo>
                <a:lnTo>
                  <a:pt x="292" y="237"/>
                </a:lnTo>
                <a:lnTo>
                  <a:pt x="284" y="252"/>
                </a:lnTo>
                <a:lnTo>
                  <a:pt x="277" y="269"/>
                </a:lnTo>
                <a:lnTo>
                  <a:pt x="269" y="286"/>
                </a:lnTo>
                <a:lnTo>
                  <a:pt x="259" y="306"/>
                </a:lnTo>
                <a:lnTo>
                  <a:pt x="250" y="327"/>
                </a:lnTo>
                <a:lnTo>
                  <a:pt x="240" y="348"/>
                </a:lnTo>
                <a:lnTo>
                  <a:pt x="229" y="369"/>
                </a:lnTo>
                <a:lnTo>
                  <a:pt x="219" y="390"/>
                </a:lnTo>
                <a:lnTo>
                  <a:pt x="210" y="407"/>
                </a:lnTo>
                <a:lnTo>
                  <a:pt x="202" y="425"/>
                </a:lnTo>
                <a:lnTo>
                  <a:pt x="194" y="442"/>
                </a:lnTo>
                <a:lnTo>
                  <a:pt x="188" y="455"/>
                </a:lnTo>
                <a:lnTo>
                  <a:pt x="183" y="469"/>
                </a:lnTo>
                <a:lnTo>
                  <a:pt x="179" y="480"/>
                </a:lnTo>
                <a:lnTo>
                  <a:pt x="175" y="490"/>
                </a:lnTo>
                <a:lnTo>
                  <a:pt x="171" y="500"/>
                </a:lnTo>
                <a:lnTo>
                  <a:pt x="169" y="507"/>
                </a:lnTo>
                <a:lnTo>
                  <a:pt x="167" y="515"/>
                </a:lnTo>
                <a:lnTo>
                  <a:pt x="165" y="521"/>
                </a:lnTo>
                <a:lnTo>
                  <a:pt x="165" y="526"/>
                </a:lnTo>
                <a:lnTo>
                  <a:pt x="167" y="530"/>
                </a:lnTo>
                <a:lnTo>
                  <a:pt x="169" y="532"/>
                </a:lnTo>
                <a:lnTo>
                  <a:pt x="171" y="534"/>
                </a:lnTo>
                <a:lnTo>
                  <a:pt x="173" y="536"/>
                </a:lnTo>
                <a:lnTo>
                  <a:pt x="175" y="538"/>
                </a:lnTo>
                <a:lnTo>
                  <a:pt x="179" y="540"/>
                </a:lnTo>
                <a:lnTo>
                  <a:pt x="185" y="542"/>
                </a:lnTo>
                <a:lnTo>
                  <a:pt x="188" y="546"/>
                </a:lnTo>
                <a:lnTo>
                  <a:pt x="194" y="549"/>
                </a:lnTo>
                <a:lnTo>
                  <a:pt x="202" y="551"/>
                </a:lnTo>
                <a:lnTo>
                  <a:pt x="210" y="555"/>
                </a:lnTo>
                <a:lnTo>
                  <a:pt x="217" y="559"/>
                </a:lnTo>
                <a:lnTo>
                  <a:pt x="227" y="565"/>
                </a:lnTo>
                <a:lnTo>
                  <a:pt x="236" y="569"/>
                </a:lnTo>
                <a:lnTo>
                  <a:pt x="246" y="574"/>
                </a:lnTo>
                <a:lnTo>
                  <a:pt x="258" y="578"/>
                </a:lnTo>
                <a:lnTo>
                  <a:pt x="269" y="584"/>
                </a:lnTo>
                <a:lnTo>
                  <a:pt x="281" y="590"/>
                </a:lnTo>
                <a:lnTo>
                  <a:pt x="294" y="596"/>
                </a:lnTo>
                <a:lnTo>
                  <a:pt x="307" y="601"/>
                </a:lnTo>
                <a:lnTo>
                  <a:pt x="323" y="609"/>
                </a:lnTo>
                <a:lnTo>
                  <a:pt x="336" y="615"/>
                </a:lnTo>
                <a:lnTo>
                  <a:pt x="354" y="622"/>
                </a:lnTo>
                <a:lnTo>
                  <a:pt x="369" y="630"/>
                </a:lnTo>
                <a:lnTo>
                  <a:pt x="386" y="638"/>
                </a:lnTo>
                <a:lnTo>
                  <a:pt x="403" y="645"/>
                </a:lnTo>
                <a:lnTo>
                  <a:pt x="423" y="653"/>
                </a:lnTo>
                <a:lnTo>
                  <a:pt x="442" y="661"/>
                </a:lnTo>
                <a:lnTo>
                  <a:pt x="461" y="670"/>
                </a:lnTo>
                <a:lnTo>
                  <a:pt x="482" y="680"/>
                </a:lnTo>
                <a:lnTo>
                  <a:pt x="501" y="688"/>
                </a:lnTo>
                <a:lnTo>
                  <a:pt x="524" y="697"/>
                </a:lnTo>
                <a:lnTo>
                  <a:pt x="545" y="707"/>
                </a:lnTo>
                <a:lnTo>
                  <a:pt x="569" y="718"/>
                </a:lnTo>
                <a:lnTo>
                  <a:pt x="592" y="728"/>
                </a:lnTo>
                <a:lnTo>
                  <a:pt x="613" y="738"/>
                </a:lnTo>
                <a:lnTo>
                  <a:pt x="636" y="747"/>
                </a:lnTo>
                <a:lnTo>
                  <a:pt x="657" y="757"/>
                </a:lnTo>
                <a:lnTo>
                  <a:pt x="678" y="766"/>
                </a:lnTo>
                <a:lnTo>
                  <a:pt x="697" y="776"/>
                </a:lnTo>
                <a:lnTo>
                  <a:pt x="716" y="786"/>
                </a:lnTo>
                <a:lnTo>
                  <a:pt x="736" y="795"/>
                </a:lnTo>
                <a:lnTo>
                  <a:pt x="755" y="805"/>
                </a:lnTo>
                <a:lnTo>
                  <a:pt x="772" y="812"/>
                </a:lnTo>
                <a:lnTo>
                  <a:pt x="789" y="822"/>
                </a:lnTo>
                <a:lnTo>
                  <a:pt x="807" y="830"/>
                </a:lnTo>
                <a:lnTo>
                  <a:pt x="824" y="839"/>
                </a:lnTo>
                <a:lnTo>
                  <a:pt x="839" y="847"/>
                </a:lnTo>
                <a:lnTo>
                  <a:pt x="856" y="857"/>
                </a:lnTo>
                <a:lnTo>
                  <a:pt x="870" y="864"/>
                </a:lnTo>
                <a:lnTo>
                  <a:pt x="885" y="874"/>
                </a:lnTo>
                <a:lnTo>
                  <a:pt x="899" y="882"/>
                </a:lnTo>
                <a:lnTo>
                  <a:pt x="927" y="897"/>
                </a:lnTo>
                <a:lnTo>
                  <a:pt x="952" y="912"/>
                </a:lnTo>
                <a:lnTo>
                  <a:pt x="975" y="928"/>
                </a:lnTo>
                <a:lnTo>
                  <a:pt x="997" y="941"/>
                </a:lnTo>
                <a:lnTo>
                  <a:pt x="1016" y="954"/>
                </a:lnTo>
                <a:lnTo>
                  <a:pt x="1033" y="968"/>
                </a:lnTo>
                <a:lnTo>
                  <a:pt x="1050" y="981"/>
                </a:lnTo>
                <a:lnTo>
                  <a:pt x="1062" y="995"/>
                </a:lnTo>
                <a:lnTo>
                  <a:pt x="1075" y="1006"/>
                </a:lnTo>
                <a:lnTo>
                  <a:pt x="1085" y="1018"/>
                </a:lnTo>
                <a:lnTo>
                  <a:pt x="1096" y="1031"/>
                </a:lnTo>
                <a:lnTo>
                  <a:pt x="1106" y="1043"/>
                </a:lnTo>
                <a:lnTo>
                  <a:pt x="1114" y="1054"/>
                </a:lnTo>
                <a:lnTo>
                  <a:pt x="1121" y="1068"/>
                </a:lnTo>
                <a:lnTo>
                  <a:pt x="1129" y="1079"/>
                </a:lnTo>
                <a:lnTo>
                  <a:pt x="1135" y="1091"/>
                </a:lnTo>
                <a:lnTo>
                  <a:pt x="1141" y="1102"/>
                </a:lnTo>
                <a:lnTo>
                  <a:pt x="1144" y="1114"/>
                </a:lnTo>
                <a:lnTo>
                  <a:pt x="1148" y="1125"/>
                </a:lnTo>
                <a:lnTo>
                  <a:pt x="1152" y="1135"/>
                </a:lnTo>
                <a:lnTo>
                  <a:pt x="1154" y="1146"/>
                </a:lnTo>
                <a:lnTo>
                  <a:pt x="1156" y="1156"/>
                </a:lnTo>
                <a:lnTo>
                  <a:pt x="1156" y="1166"/>
                </a:lnTo>
                <a:lnTo>
                  <a:pt x="1154" y="1181"/>
                </a:lnTo>
                <a:lnTo>
                  <a:pt x="1154" y="1192"/>
                </a:lnTo>
                <a:lnTo>
                  <a:pt x="1150" y="1204"/>
                </a:lnTo>
                <a:lnTo>
                  <a:pt x="1146" y="1214"/>
                </a:lnTo>
                <a:lnTo>
                  <a:pt x="1144" y="1217"/>
                </a:lnTo>
                <a:lnTo>
                  <a:pt x="1142" y="1221"/>
                </a:lnTo>
                <a:lnTo>
                  <a:pt x="1139" y="1225"/>
                </a:lnTo>
                <a:lnTo>
                  <a:pt x="1137" y="1227"/>
                </a:lnTo>
                <a:lnTo>
                  <a:pt x="1133" y="1229"/>
                </a:lnTo>
                <a:lnTo>
                  <a:pt x="1129" y="1231"/>
                </a:lnTo>
                <a:lnTo>
                  <a:pt x="1125" y="1231"/>
                </a:lnTo>
                <a:lnTo>
                  <a:pt x="1121" y="1233"/>
                </a:lnTo>
                <a:lnTo>
                  <a:pt x="1116" y="1231"/>
                </a:lnTo>
                <a:lnTo>
                  <a:pt x="1108" y="1229"/>
                </a:lnTo>
                <a:lnTo>
                  <a:pt x="1100" y="1227"/>
                </a:lnTo>
                <a:lnTo>
                  <a:pt x="1089" y="1221"/>
                </a:lnTo>
                <a:lnTo>
                  <a:pt x="1077" y="1217"/>
                </a:lnTo>
                <a:lnTo>
                  <a:pt x="1064" y="1210"/>
                </a:lnTo>
                <a:lnTo>
                  <a:pt x="1050" y="1202"/>
                </a:lnTo>
                <a:lnTo>
                  <a:pt x="1033" y="1192"/>
                </a:lnTo>
                <a:lnTo>
                  <a:pt x="1016" y="1183"/>
                </a:lnTo>
                <a:lnTo>
                  <a:pt x="997" y="1171"/>
                </a:lnTo>
                <a:lnTo>
                  <a:pt x="975" y="1158"/>
                </a:lnTo>
                <a:lnTo>
                  <a:pt x="952" y="1143"/>
                </a:lnTo>
                <a:lnTo>
                  <a:pt x="929" y="1127"/>
                </a:lnTo>
                <a:lnTo>
                  <a:pt x="904" y="1112"/>
                </a:lnTo>
                <a:lnTo>
                  <a:pt x="878" y="1093"/>
                </a:lnTo>
                <a:lnTo>
                  <a:pt x="851" y="1073"/>
                </a:lnTo>
                <a:lnTo>
                  <a:pt x="793" y="1035"/>
                </a:lnTo>
                <a:lnTo>
                  <a:pt x="734" y="997"/>
                </a:lnTo>
                <a:lnTo>
                  <a:pt x="674" y="960"/>
                </a:lnTo>
                <a:lnTo>
                  <a:pt x="615" y="924"/>
                </a:lnTo>
                <a:lnTo>
                  <a:pt x="555" y="889"/>
                </a:lnTo>
                <a:lnTo>
                  <a:pt x="496" y="853"/>
                </a:lnTo>
                <a:lnTo>
                  <a:pt x="438" y="818"/>
                </a:lnTo>
                <a:lnTo>
                  <a:pt x="380" y="784"/>
                </a:lnTo>
                <a:lnTo>
                  <a:pt x="352" y="768"/>
                </a:lnTo>
                <a:lnTo>
                  <a:pt x="325" y="755"/>
                </a:lnTo>
                <a:lnTo>
                  <a:pt x="300" y="743"/>
                </a:lnTo>
                <a:lnTo>
                  <a:pt x="275" y="732"/>
                </a:lnTo>
                <a:lnTo>
                  <a:pt x="252" y="720"/>
                </a:lnTo>
                <a:lnTo>
                  <a:pt x="231" y="711"/>
                </a:lnTo>
                <a:lnTo>
                  <a:pt x="210" y="701"/>
                </a:lnTo>
                <a:lnTo>
                  <a:pt x="190" y="693"/>
                </a:lnTo>
                <a:lnTo>
                  <a:pt x="171" y="686"/>
                </a:lnTo>
                <a:lnTo>
                  <a:pt x="156" y="678"/>
                </a:lnTo>
                <a:lnTo>
                  <a:pt x="140" y="672"/>
                </a:lnTo>
                <a:lnTo>
                  <a:pt x="125" y="667"/>
                </a:lnTo>
                <a:lnTo>
                  <a:pt x="114" y="663"/>
                </a:lnTo>
                <a:lnTo>
                  <a:pt x="104" y="659"/>
                </a:lnTo>
                <a:lnTo>
                  <a:pt x="94" y="655"/>
                </a:lnTo>
                <a:lnTo>
                  <a:pt x="87" y="651"/>
                </a:lnTo>
                <a:lnTo>
                  <a:pt x="73" y="647"/>
                </a:lnTo>
                <a:lnTo>
                  <a:pt x="60" y="642"/>
                </a:lnTo>
                <a:lnTo>
                  <a:pt x="48" y="636"/>
                </a:lnTo>
                <a:lnTo>
                  <a:pt x="37" y="632"/>
                </a:lnTo>
                <a:lnTo>
                  <a:pt x="27" y="626"/>
                </a:lnTo>
                <a:lnTo>
                  <a:pt x="18" y="622"/>
                </a:lnTo>
                <a:lnTo>
                  <a:pt x="14" y="619"/>
                </a:lnTo>
                <a:lnTo>
                  <a:pt x="10" y="617"/>
                </a:lnTo>
                <a:lnTo>
                  <a:pt x="8" y="615"/>
                </a:lnTo>
                <a:lnTo>
                  <a:pt x="4" y="613"/>
                </a:lnTo>
                <a:lnTo>
                  <a:pt x="2" y="609"/>
                </a:lnTo>
                <a:lnTo>
                  <a:pt x="2" y="605"/>
                </a:lnTo>
                <a:lnTo>
                  <a:pt x="0" y="601"/>
                </a:lnTo>
                <a:lnTo>
                  <a:pt x="0" y="596"/>
                </a:lnTo>
                <a:lnTo>
                  <a:pt x="0" y="588"/>
                </a:lnTo>
                <a:lnTo>
                  <a:pt x="2" y="580"/>
                </a:lnTo>
                <a:lnTo>
                  <a:pt x="4" y="572"/>
                </a:lnTo>
                <a:lnTo>
                  <a:pt x="6" y="565"/>
                </a:lnTo>
                <a:lnTo>
                  <a:pt x="10" y="555"/>
                </a:lnTo>
                <a:lnTo>
                  <a:pt x="14" y="544"/>
                </a:lnTo>
                <a:lnTo>
                  <a:pt x="18" y="534"/>
                </a:lnTo>
                <a:lnTo>
                  <a:pt x="23" y="521"/>
                </a:lnTo>
                <a:lnTo>
                  <a:pt x="29" y="509"/>
                </a:lnTo>
                <a:lnTo>
                  <a:pt x="37" y="496"/>
                </a:lnTo>
                <a:lnTo>
                  <a:pt x="43" y="482"/>
                </a:lnTo>
                <a:lnTo>
                  <a:pt x="52" y="4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67"/>
          <p:cNvSpPr/>
          <p:nvPr/>
        </p:nvSpPr>
        <p:spPr>
          <a:xfrm>
            <a:off x="6121440" y="4054320"/>
            <a:ext cx="1593720" cy="297000"/>
          </a:xfrm>
          <a:custGeom>
            <a:avLst/>
            <a:gdLst/>
            <a:ahLst/>
            <a:rect l="l" t="t" r="r" b="b"/>
            <a:pathLst>
              <a:path w="2008" h="374">
                <a:moveTo>
                  <a:pt x="927" y="251"/>
                </a:moveTo>
                <a:lnTo>
                  <a:pt x="899" y="253"/>
                </a:lnTo>
                <a:lnTo>
                  <a:pt x="868" y="257"/>
                </a:lnTo>
                <a:lnTo>
                  <a:pt x="839" y="259"/>
                </a:lnTo>
                <a:lnTo>
                  <a:pt x="808" y="263"/>
                </a:lnTo>
                <a:lnTo>
                  <a:pt x="747" y="270"/>
                </a:lnTo>
                <a:lnTo>
                  <a:pt x="684" y="280"/>
                </a:lnTo>
                <a:lnTo>
                  <a:pt x="618" y="292"/>
                </a:lnTo>
                <a:lnTo>
                  <a:pt x="553" y="303"/>
                </a:lnTo>
                <a:lnTo>
                  <a:pt x="488" y="316"/>
                </a:lnTo>
                <a:lnTo>
                  <a:pt x="423" y="330"/>
                </a:lnTo>
                <a:lnTo>
                  <a:pt x="405" y="334"/>
                </a:lnTo>
                <a:lnTo>
                  <a:pt x="388" y="338"/>
                </a:lnTo>
                <a:lnTo>
                  <a:pt x="371" y="341"/>
                </a:lnTo>
                <a:lnTo>
                  <a:pt x="355" y="343"/>
                </a:lnTo>
                <a:lnTo>
                  <a:pt x="340" y="347"/>
                </a:lnTo>
                <a:lnTo>
                  <a:pt x="325" y="349"/>
                </a:lnTo>
                <a:lnTo>
                  <a:pt x="311" y="353"/>
                </a:lnTo>
                <a:lnTo>
                  <a:pt x="296" y="355"/>
                </a:lnTo>
                <a:lnTo>
                  <a:pt x="282" y="357"/>
                </a:lnTo>
                <a:lnTo>
                  <a:pt x="271" y="359"/>
                </a:lnTo>
                <a:lnTo>
                  <a:pt x="257" y="363"/>
                </a:lnTo>
                <a:lnTo>
                  <a:pt x="246" y="364"/>
                </a:lnTo>
                <a:lnTo>
                  <a:pt x="234" y="366"/>
                </a:lnTo>
                <a:lnTo>
                  <a:pt x="223" y="366"/>
                </a:lnTo>
                <a:lnTo>
                  <a:pt x="213" y="368"/>
                </a:lnTo>
                <a:lnTo>
                  <a:pt x="204" y="370"/>
                </a:lnTo>
                <a:lnTo>
                  <a:pt x="194" y="370"/>
                </a:lnTo>
                <a:lnTo>
                  <a:pt x="185" y="372"/>
                </a:lnTo>
                <a:lnTo>
                  <a:pt x="177" y="372"/>
                </a:lnTo>
                <a:lnTo>
                  <a:pt x="169" y="374"/>
                </a:lnTo>
                <a:lnTo>
                  <a:pt x="162" y="374"/>
                </a:lnTo>
                <a:lnTo>
                  <a:pt x="154" y="374"/>
                </a:lnTo>
                <a:lnTo>
                  <a:pt x="148" y="374"/>
                </a:lnTo>
                <a:lnTo>
                  <a:pt x="142" y="374"/>
                </a:lnTo>
                <a:lnTo>
                  <a:pt x="138" y="374"/>
                </a:lnTo>
                <a:lnTo>
                  <a:pt x="133" y="374"/>
                </a:lnTo>
                <a:lnTo>
                  <a:pt x="129" y="374"/>
                </a:lnTo>
                <a:lnTo>
                  <a:pt x="125" y="374"/>
                </a:lnTo>
                <a:lnTo>
                  <a:pt x="123" y="372"/>
                </a:lnTo>
                <a:lnTo>
                  <a:pt x="119" y="372"/>
                </a:lnTo>
                <a:lnTo>
                  <a:pt x="117" y="370"/>
                </a:lnTo>
                <a:lnTo>
                  <a:pt x="112" y="368"/>
                </a:lnTo>
                <a:lnTo>
                  <a:pt x="108" y="368"/>
                </a:lnTo>
                <a:lnTo>
                  <a:pt x="102" y="364"/>
                </a:lnTo>
                <a:lnTo>
                  <a:pt x="96" y="363"/>
                </a:lnTo>
                <a:lnTo>
                  <a:pt x="90" y="359"/>
                </a:lnTo>
                <a:lnTo>
                  <a:pt x="85" y="353"/>
                </a:lnTo>
                <a:lnTo>
                  <a:pt x="77" y="347"/>
                </a:lnTo>
                <a:lnTo>
                  <a:pt x="71" y="340"/>
                </a:lnTo>
                <a:lnTo>
                  <a:pt x="64" y="332"/>
                </a:lnTo>
                <a:lnTo>
                  <a:pt x="56" y="324"/>
                </a:lnTo>
                <a:lnTo>
                  <a:pt x="46" y="313"/>
                </a:lnTo>
                <a:lnTo>
                  <a:pt x="39" y="303"/>
                </a:lnTo>
                <a:lnTo>
                  <a:pt x="29" y="292"/>
                </a:lnTo>
                <a:lnTo>
                  <a:pt x="19" y="278"/>
                </a:lnTo>
                <a:lnTo>
                  <a:pt x="10" y="265"/>
                </a:lnTo>
                <a:lnTo>
                  <a:pt x="0" y="251"/>
                </a:lnTo>
                <a:lnTo>
                  <a:pt x="41" y="245"/>
                </a:lnTo>
                <a:lnTo>
                  <a:pt x="79" y="242"/>
                </a:lnTo>
                <a:lnTo>
                  <a:pt x="117" y="236"/>
                </a:lnTo>
                <a:lnTo>
                  <a:pt x="156" y="232"/>
                </a:lnTo>
                <a:lnTo>
                  <a:pt x="194" y="226"/>
                </a:lnTo>
                <a:lnTo>
                  <a:pt x="231" y="222"/>
                </a:lnTo>
                <a:lnTo>
                  <a:pt x="265" y="219"/>
                </a:lnTo>
                <a:lnTo>
                  <a:pt x="302" y="213"/>
                </a:lnTo>
                <a:lnTo>
                  <a:pt x="336" y="209"/>
                </a:lnTo>
                <a:lnTo>
                  <a:pt x="369" y="205"/>
                </a:lnTo>
                <a:lnTo>
                  <a:pt x="401" y="201"/>
                </a:lnTo>
                <a:lnTo>
                  <a:pt x="434" y="197"/>
                </a:lnTo>
                <a:lnTo>
                  <a:pt x="465" y="192"/>
                </a:lnTo>
                <a:lnTo>
                  <a:pt x="496" y="188"/>
                </a:lnTo>
                <a:lnTo>
                  <a:pt x="524" y="184"/>
                </a:lnTo>
                <a:lnTo>
                  <a:pt x="555" y="182"/>
                </a:lnTo>
                <a:lnTo>
                  <a:pt x="582" y="178"/>
                </a:lnTo>
                <a:lnTo>
                  <a:pt x="611" y="174"/>
                </a:lnTo>
                <a:lnTo>
                  <a:pt x="638" y="171"/>
                </a:lnTo>
                <a:lnTo>
                  <a:pt x="662" y="167"/>
                </a:lnTo>
                <a:lnTo>
                  <a:pt x="687" y="163"/>
                </a:lnTo>
                <a:lnTo>
                  <a:pt x="712" y="161"/>
                </a:lnTo>
                <a:lnTo>
                  <a:pt x="735" y="157"/>
                </a:lnTo>
                <a:lnTo>
                  <a:pt x="758" y="153"/>
                </a:lnTo>
                <a:lnTo>
                  <a:pt x="782" y="151"/>
                </a:lnTo>
                <a:lnTo>
                  <a:pt x="803" y="148"/>
                </a:lnTo>
                <a:lnTo>
                  <a:pt x="824" y="146"/>
                </a:lnTo>
                <a:lnTo>
                  <a:pt x="843" y="142"/>
                </a:lnTo>
                <a:lnTo>
                  <a:pt x="862" y="140"/>
                </a:lnTo>
                <a:lnTo>
                  <a:pt x="881" y="136"/>
                </a:lnTo>
                <a:lnTo>
                  <a:pt x="899" y="134"/>
                </a:lnTo>
                <a:lnTo>
                  <a:pt x="916" y="132"/>
                </a:lnTo>
                <a:lnTo>
                  <a:pt x="977" y="126"/>
                </a:lnTo>
                <a:lnTo>
                  <a:pt x="1041" y="119"/>
                </a:lnTo>
                <a:lnTo>
                  <a:pt x="1106" y="111"/>
                </a:lnTo>
                <a:lnTo>
                  <a:pt x="1173" y="101"/>
                </a:lnTo>
                <a:lnTo>
                  <a:pt x="1240" y="92"/>
                </a:lnTo>
                <a:lnTo>
                  <a:pt x="1309" y="80"/>
                </a:lnTo>
                <a:lnTo>
                  <a:pt x="1346" y="75"/>
                </a:lnTo>
                <a:lnTo>
                  <a:pt x="1382" y="67"/>
                </a:lnTo>
                <a:lnTo>
                  <a:pt x="1419" y="59"/>
                </a:lnTo>
                <a:lnTo>
                  <a:pt x="1455" y="54"/>
                </a:lnTo>
                <a:lnTo>
                  <a:pt x="1474" y="50"/>
                </a:lnTo>
                <a:lnTo>
                  <a:pt x="1492" y="46"/>
                </a:lnTo>
                <a:lnTo>
                  <a:pt x="1509" y="42"/>
                </a:lnTo>
                <a:lnTo>
                  <a:pt x="1526" y="38"/>
                </a:lnTo>
                <a:lnTo>
                  <a:pt x="1542" y="36"/>
                </a:lnTo>
                <a:lnTo>
                  <a:pt x="1557" y="32"/>
                </a:lnTo>
                <a:lnTo>
                  <a:pt x="1572" y="30"/>
                </a:lnTo>
                <a:lnTo>
                  <a:pt x="1588" y="27"/>
                </a:lnTo>
                <a:lnTo>
                  <a:pt x="1601" y="25"/>
                </a:lnTo>
                <a:lnTo>
                  <a:pt x="1615" y="23"/>
                </a:lnTo>
                <a:lnTo>
                  <a:pt x="1628" y="21"/>
                </a:lnTo>
                <a:lnTo>
                  <a:pt x="1641" y="19"/>
                </a:lnTo>
                <a:lnTo>
                  <a:pt x="1653" y="17"/>
                </a:lnTo>
                <a:lnTo>
                  <a:pt x="1664" y="15"/>
                </a:lnTo>
                <a:lnTo>
                  <a:pt x="1676" y="13"/>
                </a:lnTo>
                <a:lnTo>
                  <a:pt x="1686" y="11"/>
                </a:lnTo>
                <a:lnTo>
                  <a:pt x="1695" y="9"/>
                </a:lnTo>
                <a:lnTo>
                  <a:pt x="1705" y="7"/>
                </a:lnTo>
                <a:lnTo>
                  <a:pt x="1714" y="7"/>
                </a:lnTo>
                <a:lnTo>
                  <a:pt x="1722" y="6"/>
                </a:lnTo>
                <a:lnTo>
                  <a:pt x="1730" y="6"/>
                </a:lnTo>
                <a:lnTo>
                  <a:pt x="1737" y="4"/>
                </a:lnTo>
                <a:lnTo>
                  <a:pt x="1745" y="4"/>
                </a:lnTo>
                <a:lnTo>
                  <a:pt x="1751" y="2"/>
                </a:lnTo>
                <a:lnTo>
                  <a:pt x="1757" y="2"/>
                </a:lnTo>
                <a:lnTo>
                  <a:pt x="1762" y="2"/>
                </a:lnTo>
                <a:lnTo>
                  <a:pt x="1768" y="2"/>
                </a:lnTo>
                <a:lnTo>
                  <a:pt x="1772" y="0"/>
                </a:lnTo>
                <a:lnTo>
                  <a:pt x="1776" y="0"/>
                </a:lnTo>
                <a:lnTo>
                  <a:pt x="1780" y="0"/>
                </a:lnTo>
                <a:lnTo>
                  <a:pt x="1782" y="0"/>
                </a:lnTo>
                <a:lnTo>
                  <a:pt x="1785" y="0"/>
                </a:lnTo>
                <a:lnTo>
                  <a:pt x="1789" y="0"/>
                </a:lnTo>
                <a:lnTo>
                  <a:pt x="1795" y="0"/>
                </a:lnTo>
                <a:lnTo>
                  <a:pt x="1801" y="2"/>
                </a:lnTo>
                <a:lnTo>
                  <a:pt x="1807" y="2"/>
                </a:lnTo>
                <a:lnTo>
                  <a:pt x="1812" y="4"/>
                </a:lnTo>
                <a:lnTo>
                  <a:pt x="1820" y="6"/>
                </a:lnTo>
                <a:lnTo>
                  <a:pt x="1835" y="11"/>
                </a:lnTo>
                <a:lnTo>
                  <a:pt x="1845" y="15"/>
                </a:lnTo>
                <a:lnTo>
                  <a:pt x="1853" y="19"/>
                </a:lnTo>
                <a:lnTo>
                  <a:pt x="1862" y="23"/>
                </a:lnTo>
                <a:lnTo>
                  <a:pt x="1872" y="27"/>
                </a:lnTo>
                <a:lnTo>
                  <a:pt x="1881" y="32"/>
                </a:lnTo>
                <a:lnTo>
                  <a:pt x="1893" y="38"/>
                </a:lnTo>
                <a:lnTo>
                  <a:pt x="1902" y="46"/>
                </a:lnTo>
                <a:lnTo>
                  <a:pt x="1914" y="54"/>
                </a:lnTo>
                <a:lnTo>
                  <a:pt x="1924" y="59"/>
                </a:lnTo>
                <a:lnTo>
                  <a:pt x="1935" y="67"/>
                </a:lnTo>
                <a:lnTo>
                  <a:pt x="1945" y="75"/>
                </a:lnTo>
                <a:lnTo>
                  <a:pt x="1952" y="80"/>
                </a:lnTo>
                <a:lnTo>
                  <a:pt x="1962" y="86"/>
                </a:lnTo>
                <a:lnTo>
                  <a:pt x="1970" y="94"/>
                </a:lnTo>
                <a:lnTo>
                  <a:pt x="1975" y="100"/>
                </a:lnTo>
                <a:lnTo>
                  <a:pt x="1983" y="105"/>
                </a:lnTo>
                <a:lnTo>
                  <a:pt x="1989" y="111"/>
                </a:lnTo>
                <a:lnTo>
                  <a:pt x="1993" y="119"/>
                </a:lnTo>
                <a:lnTo>
                  <a:pt x="1998" y="125"/>
                </a:lnTo>
                <a:lnTo>
                  <a:pt x="2000" y="130"/>
                </a:lnTo>
                <a:lnTo>
                  <a:pt x="2004" y="138"/>
                </a:lnTo>
                <a:lnTo>
                  <a:pt x="2006" y="144"/>
                </a:lnTo>
                <a:lnTo>
                  <a:pt x="2008" y="151"/>
                </a:lnTo>
                <a:lnTo>
                  <a:pt x="2008" y="159"/>
                </a:lnTo>
                <a:lnTo>
                  <a:pt x="2008" y="161"/>
                </a:lnTo>
                <a:lnTo>
                  <a:pt x="2006" y="165"/>
                </a:lnTo>
                <a:lnTo>
                  <a:pt x="2004" y="169"/>
                </a:lnTo>
                <a:lnTo>
                  <a:pt x="2000" y="173"/>
                </a:lnTo>
                <a:lnTo>
                  <a:pt x="1997" y="174"/>
                </a:lnTo>
                <a:lnTo>
                  <a:pt x="1993" y="178"/>
                </a:lnTo>
                <a:lnTo>
                  <a:pt x="1987" y="180"/>
                </a:lnTo>
                <a:lnTo>
                  <a:pt x="1981" y="184"/>
                </a:lnTo>
                <a:lnTo>
                  <a:pt x="1973" y="186"/>
                </a:lnTo>
                <a:lnTo>
                  <a:pt x="1966" y="188"/>
                </a:lnTo>
                <a:lnTo>
                  <a:pt x="1958" y="190"/>
                </a:lnTo>
                <a:lnTo>
                  <a:pt x="1949" y="192"/>
                </a:lnTo>
                <a:lnTo>
                  <a:pt x="1937" y="194"/>
                </a:lnTo>
                <a:lnTo>
                  <a:pt x="1927" y="196"/>
                </a:lnTo>
                <a:lnTo>
                  <a:pt x="1914" y="197"/>
                </a:lnTo>
                <a:lnTo>
                  <a:pt x="1902" y="199"/>
                </a:lnTo>
                <a:lnTo>
                  <a:pt x="1889" y="201"/>
                </a:lnTo>
                <a:lnTo>
                  <a:pt x="1874" y="203"/>
                </a:lnTo>
                <a:lnTo>
                  <a:pt x="1858" y="203"/>
                </a:lnTo>
                <a:lnTo>
                  <a:pt x="1843" y="205"/>
                </a:lnTo>
                <a:lnTo>
                  <a:pt x="1826" y="205"/>
                </a:lnTo>
                <a:lnTo>
                  <a:pt x="1808" y="207"/>
                </a:lnTo>
                <a:lnTo>
                  <a:pt x="1789" y="207"/>
                </a:lnTo>
                <a:lnTo>
                  <a:pt x="1770" y="209"/>
                </a:lnTo>
                <a:lnTo>
                  <a:pt x="1749" y="209"/>
                </a:lnTo>
                <a:lnTo>
                  <a:pt x="1728" y="209"/>
                </a:lnTo>
                <a:lnTo>
                  <a:pt x="1707" y="209"/>
                </a:lnTo>
                <a:lnTo>
                  <a:pt x="1684" y="211"/>
                </a:lnTo>
                <a:lnTo>
                  <a:pt x="1661" y="211"/>
                </a:lnTo>
                <a:lnTo>
                  <a:pt x="1636" y="211"/>
                </a:lnTo>
                <a:lnTo>
                  <a:pt x="1611" y="211"/>
                </a:lnTo>
                <a:lnTo>
                  <a:pt x="1586" y="211"/>
                </a:lnTo>
                <a:lnTo>
                  <a:pt x="1532" y="213"/>
                </a:lnTo>
                <a:lnTo>
                  <a:pt x="1482" y="217"/>
                </a:lnTo>
                <a:lnTo>
                  <a:pt x="1432" y="219"/>
                </a:lnTo>
                <a:lnTo>
                  <a:pt x="1384" y="221"/>
                </a:lnTo>
                <a:lnTo>
                  <a:pt x="1338" y="224"/>
                </a:lnTo>
                <a:lnTo>
                  <a:pt x="1292" y="226"/>
                </a:lnTo>
                <a:lnTo>
                  <a:pt x="1250" y="228"/>
                </a:lnTo>
                <a:lnTo>
                  <a:pt x="1208" y="230"/>
                </a:lnTo>
                <a:lnTo>
                  <a:pt x="1167" y="234"/>
                </a:lnTo>
                <a:lnTo>
                  <a:pt x="1127" y="236"/>
                </a:lnTo>
                <a:lnTo>
                  <a:pt x="1091" y="238"/>
                </a:lnTo>
                <a:lnTo>
                  <a:pt x="1054" y="242"/>
                </a:lnTo>
                <a:lnTo>
                  <a:pt x="1020" y="244"/>
                </a:lnTo>
                <a:lnTo>
                  <a:pt x="987" y="245"/>
                </a:lnTo>
                <a:lnTo>
                  <a:pt x="956" y="247"/>
                </a:lnTo>
                <a:lnTo>
                  <a:pt x="927" y="2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68"/>
          <p:cNvSpPr/>
          <p:nvPr/>
        </p:nvSpPr>
        <p:spPr>
          <a:xfrm>
            <a:off x="7143840" y="3656160"/>
            <a:ext cx="284040" cy="268200"/>
          </a:xfrm>
          <a:custGeom>
            <a:avLst/>
            <a:gdLst/>
            <a:ahLst/>
            <a:rect l="l" t="t" r="r" b="b"/>
            <a:pathLst>
              <a:path w="359" h="338">
                <a:moveTo>
                  <a:pt x="227" y="78"/>
                </a:moveTo>
                <a:lnTo>
                  <a:pt x="238" y="88"/>
                </a:lnTo>
                <a:lnTo>
                  <a:pt x="252" y="100"/>
                </a:lnTo>
                <a:lnTo>
                  <a:pt x="263" y="109"/>
                </a:lnTo>
                <a:lnTo>
                  <a:pt x="275" y="119"/>
                </a:lnTo>
                <a:lnTo>
                  <a:pt x="284" y="128"/>
                </a:lnTo>
                <a:lnTo>
                  <a:pt x="296" y="138"/>
                </a:lnTo>
                <a:lnTo>
                  <a:pt x="304" y="148"/>
                </a:lnTo>
                <a:lnTo>
                  <a:pt x="313" y="157"/>
                </a:lnTo>
                <a:lnTo>
                  <a:pt x="321" y="167"/>
                </a:lnTo>
                <a:lnTo>
                  <a:pt x="328" y="174"/>
                </a:lnTo>
                <a:lnTo>
                  <a:pt x="334" y="184"/>
                </a:lnTo>
                <a:lnTo>
                  <a:pt x="340" y="192"/>
                </a:lnTo>
                <a:lnTo>
                  <a:pt x="346" y="201"/>
                </a:lnTo>
                <a:lnTo>
                  <a:pt x="350" y="209"/>
                </a:lnTo>
                <a:lnTo>
                  <a:pt x="353" y="217"/>
                </a:lnTo>
                <a:lnTo>
                  <a:pt x="355" y="224"/>
                </a:lnTo>
                <a:lnTo>
                  <a:pt x="357" y="232"/>
                </a:lnTo>
                <a:lnTo>
                  <a:pt x="359" y="240"/>
                </a:lnTo>
                <a:lnTo>
                  <a:pt x="359" y="253"/>
                </a:lnTo>
                <a:lnTo>
                  <a:pt x="359" y="269"/>
                </a:lnTo>
                <a:lnTo>
                  <a:pt x="359" y="282"/>
                </a:lnTo>
                <a:lnTo>
                  <a:pt x="355" y="295"/>
                </a:lnTo>
                <a:lnTo>
                  <a:pt x="352" y="307"/>
                </a:lnTo>
                <a:lnTo>
                  <a:pt x="348" y="318"/>
                </a:lnTo>
                <a:lnTo>
                  <a:pt x="344" y="330"/>
                </a:lnTo>
                <a:lnTo>
                  <a:pt x="340" y="334"/>
                </a:lnTo>
                <a:lnTo>
                  <a:pt x="334" y="336"/>
                </a:lnTo>
                <a:lnTo>
                  <a:pt x="327" y="338"/>
                </a:lnTo>
                <a:lnTo>
                  <a:pt x="319" y="338"/>
                </a:lnTo>
                <a:lnTo>
                  <a:pt x="311" y="336"/>
                </a:lnTo>
                <a:lnTo>
                  <a:pt x="302" y="332"/>
                </a:lnTo>
                <a:lnTo>
                  <a:pt x="292" y="326"/>
                </a:lnTo>
                <a:lnTo>
                  <a:pt x="280" y="320"/>
                </a:lnTo>
                <a:lnTo>
                  <a:pt x="269" y="313"/>
                </a:lnTo>
                <a:lnTo>
                  <a:pt x="256" y="303"/>
                </a:lnTo>
                <a:lnTo>
                  <a:pt x="240" y="292"/>
                </a:lnTo>
                <a:lnTo>
                  <a:pt x="227" y="278"/>
                </a:lnTo>
                <a:lnTo>
                  <a:pt x="209" y="265"/>
                </a:lnTo>
                <a:lnTo>
                  <a:pt x="192" y="247"/>
                </a:lnTo>
                <a:lnTo>
                  <a:pt x="175" y="230"/>
                </a:lnTo>
                <a:lnTo>
                  <a:pt x="156" y="211"/>
                </a:lnTo>
                <a:lnTo>
                  <a:pt x="137" y="192"/>
                </a:lnTo>
                <a:lnTo>
                  <a:pt x="119" y="173"/>
                </a:lnTo>
                <a:lnTo>
                  <a:pt x="102" y="155"/>
                </a:lnTo>
                <a:lnTo>
                  <a:pt x="89" y="138"/>
                </a:lnTo>
                <a:lnTo>
                  <a:pt x="73" y="123"/>
                </a:lnTo>
                <a:lnTo>
                  <a:pt x="62" y="109"/>
                </a:lnTo>
                <a:lnTo>
                  <a:pt x="50" y="96"/>
                </a:lnTo>
                <a:lnTo>
                  <a:pt x="41" y="84"/>
                </a:lnTo>
                <a:lnTo>
                  <a:pt x="31" y="73"/>
                </a:lnTo>
                <a:lnTo>
                  <a:pt x="23" y="61"/>
                </a:lnTo>
                <a:lnTo>
                  <a:pt x="18" y="54"/>
                </a:lnTo>
                <a:lnTo>
                  <a:pt x="12" y="46"/>
                </a:lnTo>
                <a:lnTo>
                  <a:pt x="8" y="38"/>
                </a:lnTo>
                <a:lnTo>
                  <a:pt x="6" y="34"/>
                </a:lnTo>
                <a:lnTo>
                  <a:pt x="4" y="29"/>
                </a:lnTo>
                <a:lnTo>
                  <a:pt x="4" y="27"/>
                </a:lnTo>
                <a:lnTo>
                  <a:pt x="2" y="25"/>
                </a:lnTo>
                <a:lnTo>
                  <a:pt x="0" y="21"/>
                </a:lnTo>
                <a:lnTo>
                  <a:pt x="0" y="19"/>
                </a:lnTo>
                <a:lnTo>
                  <a:pt x="2" y="17"/>
                </a:lnTo>
                <a:lnTo>
                  <a:pt x="4" y="15"/>
                </a:lnTo>
                <a:lnTo>
                  <a:pt x="8" y="15"/>
                </a:lnTo>
                <a:lnTo>
                  <a:pt x="10" y="13"/>
                </a:lnTo>
                <a:lnTo>
                  <a:pt x="16" y="11"/>
                </a:lnTo>
                <a:lnTo>
                  <a:pt x="19" y="11"/>
                </a:lnTo>
                <a:lnTo>
                  <a:pt x="25" y="9"/>
                </a:lnTo>
                <a:lnTo>
                  <a:pt x="31" y="7"/>
                </a:lnTo>
                <a:lnTo>
                  <a:pt x="39" y="6"/>
                </a:lnTo>
                <a:lnTo>
                  <a:pt x="44" y="4"/>
                </a:lnTo>
                <a:lnTo>
                  <a:pt x="54" y="2"/>
                </a:lnTo>
                <a:lnTo>
                  <a:pt x="62" y="0"/>
                </a:lnTo>
                <a:lnTo>
                  <a:pt x="69" y="0"/>
                </a:lnTo>
                <a:lnTo>
                  <a:pt x="77" y="2"/>
                </a:lnTo>
                <a:lnTo>
                  <a:pt x="85" y="2"/>
                </a:lnTo>
                <a:lnTo>
                  <a:pt x="92" y="6"/>
                </a:lnTo>
                <a:lnTo>
                  <a:pt x="102" y="7"/>
                </a:lnTo>
                <a:lnTo>
                  <a:pt x="112" y="11"/>
                </a:lnTo>
                <a:lnTo>
                  <a:pt x="121" y="15"/>
                </a:lnTo>
                <a:lnTo>
                  <a:pt x="131" y="19"/>
                </a:lnTo>
                <a:lnTo>
                  <a:pt x="142" y="25"/>
                </a:lnTo>
                <a:lnTo>
                  <a:pt x="152" y="30"/>
                </a:lnTo>
                <a:lnTo>
                  <a:pt x="163" y="36"/>
                </a:lnTo>
                <a:lnTo>
                  <a:pt x="177" y="44"/>
                </a:lnTo>
                <a:lnTo>
                  <a:pt x="188" y="52"/>
                </a:lnTo>
                <a:lnTo>
                  <a:pt x="200" y="59"/>
                </a:lnTo>
                <a:lnTo>
                  <a:pt x="213" y="69"/>
                </a:lnTo>
                <a:lnTo>
                  <a:pt x="227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69"/>
          <p:cNvSpPr/>
          <p:nvPr/>
        </p:nvSpPr>
        <p:spPr>
          <a:xfrm>
            <a:off x="6873840" y="3054240"/>
            <a:ext cx="344520" cy="866880"/>
          </a:xfrm>
          <a:custGeom>
            <a:avLst/>
            <a:gdLst/>
            <a:ahLst/>
            <a:rect l="l" t="t" r="r" b="b"/>
            <a:pathLst>
              <a:path w="434" h="1092">
                <a:moveTo>
                  <a:pt x="2" y="1088"/>
                </a:moveTo>
                <a:lnTo>
                  <a:pt x="0" y="1084"/>
                </a:lnTo>
                <a:lnTo>
                  <a:pt x="0" y="1080"/>
                </a:lnTo>
                <a:lnTo>
                  <a:pt x="0" y="1074"/>
                </a:lnTo>
                <a:lnTo>
                  <a:pt x="2" y="1069"/>
                </a:lnTo>
                <a:lnTo>
                  <a:pt x="4" y="1061"/>
                </a:lnTo>
                <a:lnTo>
                  <a:pt x="8" y="1051"/>
                </a:lnTo>
                <a:lnTo>
                  <a:pt x="14" y="1042"/>
                </a:lnTo>
                <a:lnTo>
                  <a:pt x="20" y="1032"/>
                </a:lnTo>
                <a:lnTo>
                  <a:pt x="25" y="1021"/>
                </a:lnTo>
                <a:lnTo>
                  <a:pt x="33" y="1007"/>
                </a:lnTo>
                <a:lnTo>
                  <a:pt x="41" y="994"/>
                </a:lnTo>
                <a:lnTo>
                  <a:pt x="50" y="980"/>
                </a:lnTo>
                <a:lnTo>
                  <a:pt x="62" y="965"/>
                </a:lnTo>
                <a:lnTo>
                  <a:pt x="72" y="950"/>
                </a:lnTo>
                <a:lnTo>
                  <a:pt x="83" y="932"/>
                </a:lnTo>
                <a:lnTo>
                  <a:pt x="96" y="917"/>
                </a:lnTo>
                <a:lnTo>
                  <a:pt x="121" y="881"/>
                </a:lnTo>
                <a:lnTo>
                  <a:pt x="146" y="844"/>
                </a:lnTo>
                <a:lnTo>
                  <a:pt x="169" y="806"/>
                </a:lnTo>
                <a:lnTo>
                  <a:pt x="192" y="765"/>
                </a:lnTo>
                <a:lnTo>
                  <a:pt x="202" y="744"/>
                </a:lnTo>
                <a:lnTo>
                  <a:pt x="212" y="723"/>
                </a:lnTo>
                <a:lnTo>
                  <a:pt x="221" y="702"/>
                </a:lnTo>
                <a:lnTo>
                  <a:pt x="231" y="681"/>
                </a:lnTo>
                <a:lnTo>
                  <a:pt x="239" y="658"/>
                </a:lnTo>
                <a:lnTo>
                  <a:pt x="246" y="635"/>
                </a:lnTo>
                <a:lnTo>
                  <a:pt x="254" y="610"/>
                </a:lnTo>
                <a:lnTo>
                  <a:pt x="262" y="587"/>
                </a:lnTo>
                <a:lnTo>
                  <a:pt x="267" y="564"/>
                </a:lnTo>
                <a:lnTo>
                  <a:pt x="273" y="541"/>
                </a:lnTo>
                <a:lnTo>
                  <a:pt x="279" y="520"/>
                </a:lnTo>
                <a:lnTo>
                  <a:pt x="283" y="497"/>
                </a:lnTo>
                <a:lnTo>
                  <a:pt x="290" y="453"/>
                </a:lnTo>
                <a:lnTo>
                  <a:pt x="298" y="410"/>
                </a:lnTo>
                <a:lnTo>
                  <a:pt x="302" y="366"/>
                </a:lnTo>
                <a:lnTo>
                  <a:pt x="306" y="324"/>
                </a:lnTo>
                <a:lnTo>
                  <a:pt x="308" y="284"/>
                </a:lnTo>
                <a:lnTo>
                  <a:pt x="308" y="243"/>
                </a:lnTo>
                <a:lnTo>
                  <a:pt x="308" y="226"/>
                </a:lnTo>
                <a:lnTo>
                  <a:pt x="308" y="211"/>
                </a:lnTo>
                <a:lnTo>
                  <a:pt x="306" y="193"/>
                </a:lnTo>
                <a:lnTo>
                  <a:pt x="306" y="180"/>
                </a:lnTo>
                <a:lnTo>
                  <a:pt x="304" y="165"/>
                </a:lnTo>
                <a:lnTo>
                  <a:pt x="304" y="151"/>
                </a:lnTo>
                <a:lnTo>
                  <a:pt x="302" y="140"/>
                </a:lnTo>
                <a:lnTo>
                  <a:pt x="300" y="128"/>
                </a:lnTo>
                <a:lnTo>
                  <a:pt x="298" y="117"/>
                </a:lnTo>
                <a:lnTo>
                  <a:pt x="296" y="107"/>
                </a:lnTo>
                <a:lnTo>
                  <a:pt x="294" y="99"/>
                </a:lnTo>
                <a:lnTo>
                  <a:pt x="292" y="92"/>
                </a:lnTo>
                <a:lnTo>
                  <a:pt x="290" y="84"/>
                </a:lnTo>
                <a:lnTo>
                  <a:pt x="288" y="78"/>
                </a:lnTo>
                <a:lnTo>
                  <a:pt x="286" y="74"/>
                </a:lnTo>
                <a:lnTo>
                  <a:pt x="285" y="73"/>
                </a:lnTo>
                <a:lnTo>
                  <a:pt x="281" y="67"/>
                </a:lnTo>
                <a:lnTo>
                  <a:pt x="275" y="59"/>
                </a:lnTo>
                <a:lnTo>
                  <a:pt x="273" y="53"/>
                </a:lnTo>
                <a:lnTo>
                  <a:pt x="269" y="46"/>
                </a:lnTo>
                <a:lnTo>
                  <a:pt x="267" y="38"/>
                </a:lnTo>
                <a:lnTo>
                  <a:pt x="267" y="30"/>
                </a:lnTo>
                <a:lnTo>
                  <a:pt x="269" y="25"/>
                </a:lnTo>
                <a:lnTo>
                  <a:pt x="271" y="21"/>
                </a:lnTo>
                <a:lnTo>
                  <a:pt x="273" y="19"/>
                </a:lnTo>
                <a:lnTo>
                  <a:pt x="273" y="17"/>
                </a:lnTo>
                <a:lnTo>
                  <a:pt x="273" y="15"/>
                </a:lnTo>
                <a:lnTo>
                  <a:pt x="275" y="11"/>
                </a:lnTo>
                <a:lnTo>
                  <a:pt x="277" y="9"/>
                </a:lnTo>
                <a:lnTo>
                  <a:pt x="279" y="7"/>
                </a:lnTo>
                <a:lnTo>
                  <a:pt x="283" y="5"/>
                </a:lnTo>
                <a:lnTo>
                  <a:pt x="286" y="3"/>
                </a:lnTo>
                <a:lnTo>
                  <a:pt x="290" y="2"/>
                </a:lnTo>
                <a:lnTo>
                  <a:pt x="294" y="2"/>
                </a:lnTo>
                <a:lnTo>
                  <a:pt x="300" y="2"/>
                </a:lnTo>
                <a:lnTo>
                  <a:pt x="306" y="0"/>
                </a:lnTo>
                <a:lnTo>
                  <a:pt x="311" y="0"/>
                </a:lnTo>
                <a:lnTo>
                  <a:pt x="319" y="2"/>
                </a:lnTo>
                <a:lnTo>
                  <a:pt x="327" y="2"/>
                </a:lnTo>
                <a:lnTo>
                  <a:pt x="334" y="3"/>
                </a:lnTo>
                <a:lnTo>
                  <a:pt x="344" y="5"/>
                </a:lnTo>
                <a:lnTo>
                  <a:pt x="356" y="11"/>
                </a:lnTo>
                <a:lnTo>
                  <a:pt x="369" y="15"/>
                </a:lnTo>
                <a:lnTo>
                  <a:pt x="381" y="21"/>
                </a:lnTo>
                <a:lnTo>
                  <a:pt x="392" y="26"/>
                </a:lnTo>
                <a:lnTo>
                  <a:pt x="404" y="30"/>
                </a:lnTo>
                <a:lnTo>
                  <a:pt x="413" y="36"/>
                </a:lnTo>
                <a:lnTo>
                  <a:pt x="417" y="38"/>
                </a:lnTo>
                <a:lnTo>
                  <a:pt x="419" y="40"/>
                </a:lnTo>
                <a:lnTo>
                  <a:pt x="423" y="42"/>
                </a:lnTo>
                <a:lnTo>
                  <a:pt x="425" y="46"/>
                </a:lnTo>
                <a:lnTo>
                  <a:pt x="427" y="48"/>
                </a:lnTo>
                <a:lnTo>
                  <a:pt x="429" y="53"/>
                </a:lnTo>
                <a:lnTo>
                  <a:pt x="430" y="57"/>
                </a:lnTo>
                <a:lnTo>
                  <a:pt x="432" y="65"/>
                </a:lnTo>
                <a:lnTo>
                  <a:pt x="432" y="73"/>
                </a:lnTo>
                <a:lnTo>
                  <a:pt x="432" y="80"/>
                </a:lnTo>
                <a:lnTo>
                  <a:pt x="434" y="90"/>
                </a:lnTo>
                <a:lnTo>
                  <a:pt x="434" y="101"/>
                </a:lnTo>
                <a:lnTo>
                  <a:pt x="434" y="113"/>
                </a:lnTo>
                <a:lnTo>
                  <a:pt x="432" y="126"/>
                </a:lnTo>
                <a:lnTo>
                  <a:pt x="432" y="140"/>
                </a:lnTo>
                <a:lnTo>
                  <a:pt x="432" y="153"/>
                </a:lnTo>
                <a:lnTo>
                  <a:pt x="430" y="169"/>
                </a:lnTo>
                <a:lnTo>
                  <a:pt x="429" y="184"/>
                </a:lnTo>
                <a:lnTo>
                  <a:pt x="427" y="199"/>
                </a:lnTo>
                <a:lnTo>
                  <a:pt x="425" y="216"/>
                </a:lnTo>
                <a:lnTo>
                  <a:pt x="421" y="253"/>
                </a:lnTo>
                <a:lnTo>
                  <a:pt x="417" y="288"/>
                </a:lnTo>
                <a:lnTo>
                  <a:pt x="411" y="324"/>
                </a:lnTo>
                <a:lnTo>
                  <a:pt x="407" y="362"/>
                </a:lnTo>
                <a:lnTo>
                  <a:pt x="404" y="399"/>
                </a:lnTo>
                <a:lnTo>
                  <a:pt x="400" y="435"/>
                </a:lnTo>
                <a:lnTo>
                  <a:pt x="394" y="472"/>
                </a:lnTo>
                <a:lnTo>
                  <a:pt x="390" y="506"/>
                </a:lnTo>
                <a:lnTo>
                  <a:pt x="388" y="524"/>
                </a:lnTo>
                <a:lnTo>
                  <a:pt x="384" y="541"/>
                </a:lnTo>
                <a:lnTo>
                  <a:pt x="381" y="558"/>
                </a:lnTo>
                <a:lnTo>
                  <a:pt x="377" y="575"/>
                </a:lnTo>
                <a:lnTo>
                  <a:pt x="373" y="593"/>
                </a:lnTo>
                <a:lnTo>
                  <a:pt x="367" y="610"/>
                </a:lnTo>
                <a:lnTo>
                  <a:pt x="356" y="645"/>
                </a:lnTo>
                <a:lnTo>
                  <a:pt x="342" y="679"/>
                </a:lnTo>
                <a:lnTo>
                  <a:pt x="329" y="716"/>
                </a:lnTo>
                <a:lnTo>
                  <a:pt x="313" y="750"/>
                </a:lnTo>
                <a:lnTo>
                  <a:pt x="296" y="785"/>
                </a:lnTo>
                <a:lnTo>
                  <a:pt x="285" y="802"/>
                </a:lnTo>
                <a:lnTo>
                  <a:pt x="275" y="817"/>
                </a:lnTo>
                <a:lnTo>
                  <a:pt x="263" y="833"/>
                </a:lnTo>
                <a:lnTo>
                  <a:pt x="252" y="848"/>
                </a:lnTo>
                <a:lnTo>
                  <a:pt x="231" y="879"/>
                </a:lnTo>
                <a:lnTo>
                  <a:pt x="208" y="906"/>
                </a:lnTo>
                <a:lnTo>
                  <a:pt x="187" y="932"/>
                </a:lnTo>
                <a:lnTo>
                  <a:pt x="164" y="957"/>
                </a:lnTo>
                <a:lnTo>
                  <a:pt x="143" y="984"/>
                </a:lnTo>
                <a:lnTo>
                  <a:pt x="120" y="1009"/>
                </a:lnTo>
                <a:lnTo>
                  <a:pt x="110" y="1021"/>
                </a:lnTo>
                <a:lnTo>
                  <a:pt x="98" y="1032"/>
                </a:lnTo>
                <a:lnTo>
                  <a:pt x="89" y="1042"/>
                </a:lnTo>
                <a:lnTo>
                  <a:pt x="79" y="1051"/>
                </a:lnTo>
                <a:lnTo>
                  <a:pt x="70" y="1059"/>
                </a:lnTo>
                <a:lnTo>
                  <a:pt x="60" y="1067"/>
                </a:lnTo>
                <a:lnTo>
                  <a:pt x="52" y="1073"/>
                </a:lnTo>
                <a:lnTo>
                  <a:pt x="45" y="1078"/>
                </a:lnTo>
                <a:lnTo>
                  <a:pt x="37" y="1082"/>
                </a:lnTo>
                <a:lnTo>
                  <a:pt x="29" y="1086"/>
                </a:lnTo>
                <a:lnTo>
                  <a:pt x="24" y="1088"/>
                </a:lnTo>
                <a:lnTo>
                  <a:pt x="18" y="1090"/>
                </a:lnTo>
                <a:lnTo>
                  <a:pt x="12" y="1092"/>
                </a:lnTo>
                <a:lnTo>
                  <a:pt x="8" y="1090"/>
                </a:lnTo>
                <a:lnTo>
                  <a:pt x="4" y="1090"/>
                </a:lnTo>
                <a:lnTo>
                  <a:pt x="2" y="10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70"/>
          <p:cNvSpPr/>
          <p:nvPr/>
        </p:nvSpPr>
        <p:spPr>
          <a:xfrm>
            <a:off x="6940440" y="2766960"/>
            <a:ext cx="522360" cy="858960"/>
          </a:xfrm>
          <a:custGeom>
            <a:avLst/>
            <a:gdLst/>
            <a:ahLst/>
            <a:rect l="l" t="t" r="r" b="b"/>
            <a:pathLst>
              <a:path w="658" h="1082">
                <a:moveTo>
                  <a:pt x="459" y="198"/>
                </a:moveTo>
                <a:lnTo>
                  <a:pt x="455" y="190"/>
                </a:lnTo>
                <a:lnTo>
                  <a:pt x="451" y="184"/>
                </a:lnTo>
                <a:lnTo>
                  <a:pt x="445" y="178"/>
                </a:lnTo>
                <a:lnTo>
                  <a:pt x="438" y="174"/>
                </a:lnTo>
                <a:lnTo>
                  <a:pt x="430" y="171"/>
                </a:lnTo>
                <a:lnTo>
                  <a:pt x="420" y="169"/>
                </a:lnTo>
                <a:lnTo>
                  <a:pt x="409" y="167"/>
                </a:lnTo>
                <a:lnTo>
                  <a:pt x="397" y="165"/>
                </a:lnTo>
                <a:lnTo>
                  <a:pt x="384" y="165"/>
                </a:lnTo>
                <a:lnTo>
                  <a:pt x="370" y="167"/>
                </a:lnTo>
                <a:lnTo>
                  <a:pt x="353" y="167"/>
                </a:lnTo>
                <a:lnTo>
                  <a:pt x="338" y="169"/>
                </a:lnTo>
                <a:lnTo>
                  <a:pt x="319" y="173"/>
                </a:lnTo>
                <a:lnTo>
                  <a:pt x="299" y="174"/>
                </a:lnTo>
                <a:lnTo>
                  <a:pt x="280" y="180"/>
                </a:lnTo>
                <a:lnTo>
                  <a:pt x="259" y="184"/>
                </a:lnTo>
                <a:lnTo>
                  <a:pt x="236" y="192"/>
                </a:lnTo>
                <a:lnTo>
                  <a:pt x="215" y="198"/>
                </a:lnTo>
                <a:lnTo>
                  <a:pt x="196" y="203"/>
                </a:lnTo>
                <a:lnTo>
                  <a:pt x="177" y="209"/>
                </a:lnTo>
                <a:lnTo>
                  <a:pt x="157" y="215"/>
                </a:lnTo>
                <a:lnTo>
                  <a:pt x="140" y="219"/>
                </a:lnTo>
                <a:lnTo>
                  <a:pt x="123" y="222"/>
                </a:lnTo>
                <a:lnTo>
                  <a:pt x="107" y="226"/>
                </a:lnTo>
                <a:lnTo>
                  <a:pt x="92" y="228"/>
                </a:lnTo>
                <a:lnTo>
                  <a:pt x="77" y="230"/>
                </a:lnTo>
                <a:lnTo>
                  <a:pt x="61" y="232"/>
                </a:lnTo>
                <a:lnTo>
                  <a:pt x="48" y="234"/>
                </a:lnTo>
                <a:lnTo>
                  <a:pt x="35" y="236"/>
                </a:lnTo>
                <a:lnTo>
                  <a:pt x="23" y="236"/>
                </a:lnTo>
                <a:lnTo>
                  <a:pt x="11" y="236"/>
                </a:lnTo>
                <a:lnTo>
                  <a:pt x="0" y="238"/>
                </a:lnTo>
                <a:lnTo>
                  <a:pt x="0" y="190"/>
                </a:lnTo>
                <a:lnTo>
                  <a:pt x="0" y="144"/>
                </a:lnTo>
                <a:lnTo>
                  <a:pt x="11" y="144"/>
                </a:lnTo>
                <a:lnTo>
                  <a:pt x="23" y="144"/>
                </a:lnTo>
                <a:lnTo>
                  <a:pt x="36" y="144"/>
                </a:lnTo>
                <a:lnTo>
                  <a:pt x="50" y="142"/>
                </a:lnTo>
                <a:lnTo>
                  <a:pt x="65" y="140"/>
                </a:lnTo>
                <a:lnTo>
                  <a:pt x="79" y="138"/>
                </a:lnTo>
                <a:lnTo>
                  <a:pt x="96" y="136"/>
                </a:lnTo>
                <a:lnTo>
                  <a:pt x="111" y="134"/>
                </a:lnTo>
                <a:lnTo>
                  <a:pt x="129" y="132"/>
                </a:lnTo>
                <a:lnTo>
                  <a:pt x="146" y="128"/>
                </a:lnTo>
                <a:lnTo>
                  <a:pt x="182" y="123"/>
                </a:lnTo>
                <a:lnTo>
                  <a:pt x="219" y="115"/>
                </a:lnTo>
                <a:lnTo>
                  <a:pt x="259" y="105"/>
                </a:lnTo>
                <a:lnTo>
                  <a:pt x="278" y="100"/>
                </a:lnTo>
                <a:lnTo>
                  <a:pt x="296" y="96"/>
                </a:lnTo>
                <a:lnTo>
                  <a:pt x="313" y="90"/>
                </a:lnTo>
                <a:lnTo>
                  <a:pt x="328" y="84"/>
                </a:lnTo>
                <a:lnTo>
                  <a:pt x="344" y="80"/>
                </a:lnTo>
                <a:lnTo>
                  <a:pt x="357" y="75"/>
                </a:lnTo>
                <a:lnTo>
                  <a:pt x="370" y="71"/>
                </a:lnTo>
                <a:lnTo>
                  <a:pt x="382" y="65"/>
                </a:lnTo>
                <a:lnTo>
                  <a:pt x="392" y="59"/>
                </a:lnTo>
                <a:lnTo>
                  <a:pt x="401" y="55"/>
                </a:lnTo>
                <a:lnTo>
                  <a:pt x="409" y="50"/>
                </a:lnTo>
                <a:lnTo>
                  <a:pt x="416" y="46"/>
                </a:lnTo>
                <a:lnTo>
                  <a:pt x="422" y="40"/>
                </a:lnTo>
                <a:lnTo>
                  <a:pt x="428" y="36"/>
                </a:lnTo>
                <a:lnTo>
                  <a:pt x="432" y="31"/>
                </a:lnTo>
                <a:lnTo>
                  <a:pt x="434" y="27"/>
                </a:lnTo>
                <a:lnTo>
                  <a:pt x="443" y="15"/>
                </a:lnTo>
                <a:lnTo>
                  <a:pt x="447" y="11"/>
                </a:lnTo>
                <a:lnTo>
                  <a:pt x="453" y="7"/>
                </a:lnTo>
                <a:lnTo>
                  <a:pt x="459" y="4"/>
                </a:lnTo>
                <a:lnTo>
                  <a:pt x="466" y="2"/>
                </a:lnTo>
                <a:lnTo>
                  <a:pt x="472" y="0"/>
                </a:lnTo>
                <a:lnTo>
                  <a:pt x="482" y="0"/>
                </a:lnTo>
                <a:lnTo>
                  <a:pt x="491" y="4"/>
                </a:lnTo>
                <a:lnTo>
                  <a:pt x="501" y="9"/>
                </a:lnTo>
                <a:lnTo>
                  <a:pt x="512" y="15"/>
                </a:lnTo>
                <a:lnTo>
                  <a:pt x="526" y="23"/>
                </a:lnTo>
                <a:lnTo>
                  <a:pt x="539" y="31"/>
                </a:lnTo>
                <a:lnTo>
                  <a:pt x="555" y="40"/>
                </a:lnTo>
                <a:lnTo>
                  <a:pt x="562" y="46"/>
                </a:lnTo>
                <a:lnTo>
                  <a:pt x="570" y="52"/>
                </a:lnTo>
                <a:lnTo>
                  <a:pt x="578" y="57"/>
                </a:lnTo>
                <a:lnTo>
                  <a:pt x="587" y="65"/>
                </a:lnTo>
                <a:lnTo>
                  <a:pt x="595" y="73"/>
                </a:lnTo>
                <a:lnTo>
                  <a:pt x="603" y="80"/>
                </a:lnTo>
                <a:lnTo>
                  <a:pt x="610" y="86"/>
                </a:lnTo>
                <a:lnTo>
                  <a:pt x="618" y="92"/>
                </a:lnTo>
                <a:lnTo>
                  <a:pt x="624" y="100"/>
                </a:lnTo>
                <a:lnTo>
                  <a:pt x="630" y="105"/>
                </a:lnTo>
                <a:lnTo>
                  <a:pt x="635" y="109"/>
                </a:lnTo>
                <a:lnTo>
                  <a:pt x="639" y="115"/>
                </a:lnTo>
                <a:lnTo>
                  <a:pt x="643" y="119"/>
                </a:lnTo>
                <a:lnTo>
                  <a:pt x="647" y="125"/>
                </a:lnTo>
                <a:lnTo>
                  <a:pt x="651" y="128"/>
                </a:lnTo>
                <a:lnTo>
                  <a:pt x="653" y="132"/>
                </a:lnTo>
                <a:lnTo>
                  <a:pt x="654" y="136"/>
                </a:lnTo>
                <a:lnTo>
                  <a:pt x="656" y="138"/>
                </a:lnTo>
                <a:lnTo>
                  <a:pt x="656" y="142"/>
                </a:lnTo>
                <a:lnTo>
                  <a:pt x="658" y="144"/>
                </a:lnTo>
                <a:lnTo>
                  <a:pt x="656" y="153"/>
                </a:lnTo>
                <a:lnTo>
                  <a:pt x="654" y="165"/>
                </a:lnTo>
                <a:lnTo>
                  <a:pt x="653" y="174"/>
                </a:lnTo>
                <a:lnTo>
                  <a:pt x="651" y="184"/>
                </a:lnTo>
                <a:lnTo>
                  <a:pt x="647" y="194"/>
                </a:lnTo>
                <a:lnTo>
                  <a:pt x="643" y="203"/>
                </a:lnTo>
                <a:lnTo>
                  <a:pt x="633" y="224"/>
                </a:lnTo>
                <a:lnTo>
                  <a:pt x="630" y="230"/>
                </a:lnTo>
                <a:lnTo>
                  <a:pt x="626" y="238"/>
                </a:lnTo>
                <a:lnTo>
                  <a:pt x="622" y="247"/>
                </a:lnTo>
                <a:lnTo>
                  <a:pt x="620" y="253"/>
                </a:lnTo>
                <a:lnTo>
                  <a:pt x="618" y="259"/>
                </a:lnTo>
                <a:lnTo>
                  <a:pt x="618" y="265"/>
                </a:lnTo>
                <a:lnTo>
                  <a:pt x="616" y="272"/>
                </a:lnTo>
                <a:lnTo>
                  <a:pt x="614" y="280"/>
                </a:lnTo>
                <a:lnTo>
                  <a:pt x="612" y="288"/>
                </a:lnTo>
                <a:lnTo>
                  <a:pt x="612" y="295"/>
                </a:lnTo>
                <a:lnTo>
                  <a:pt x="610" y="305"/>
                </a:lnTo>
                <a:lnTo>
                  <a:pt x="608" y="315"/>
                </a:lnTo>
                <a:lnTo>
                  <a:pt x="608" y="324"/>
                </a:lnTo>
                <a:lnTo>
                  <a:pt x="607" y="334"/>
                </a:lnTo>
                <a:lnTo>
                  <a:pt x="607" y="345"/>
                </a:lnTo>
                <a:lnTo>
                  <a:pt x="605" y="357"/>
                </a:lnTo>
                <a:lnTo>
                  <a:pt x="605" y="368"/>
                </a:lnTo>
                <a:lnTo>
                  <a:pt x="603" y="382"/>
                </a:lnTo>
                <a:lnTo>
                  <a:pt x="603" y="395"/>
                </a:lnTo>
                <a:lnTo>
                  <a:pt x="601" y="409"/>
                </a:lnTo>
                <a:lnTo>
                  <a:pt x="601" y="422"/>
                </a:lnTo>
                <a:lnTo>
                  <a:pt x="601" y="437"/>
                </a:lnTo>
                <a:lnTo>
                  <a:pt x="601" y="453"/>
                </a:lnTo>
                <a:lnTo>
                  <a:pt x="599" y="468"/>
                </a:lnTo>
                <a:lnTo>
                  <a:pt x="599" y="484"/>
                </a:lnTo>
                <a:lnTo>
                  <a:pt x="599" y="501"/>
                </a:lnTo>
                <a:lnTo>
                  <a:pt x="599" y="518"/>
                </a:lnTo>
                <a:lnTo>
                  <a:pt x="599" y="535"/>
                </a:lnTo>
                <a:lnTo>
                  <a:pt x="599" y="555"/>
                </a:lnTo>
                <a:lnTo>
                  <a:pt x="599" y="589"/>
                </a:lnTo>
                <a:lnTo>
                  <a:pt x="599" y="626"/>
                </a:lnTo>
                <a:lnTo>
                  <a:pt x="599" y="658"/>
                </a:lnTo>
                <a:lnTo>
                  <a:pt x="599" y="689"/>
                </a:lnTo>
                <a:lnTo>
                  <a:pt x="599" y="720"/>
                </a:lnTo>
                <a:lnTo>
                  <a:pt x="599" y="748"/>
                </a:lnTo>
                <a:lnTo>
                  <a:pt x="597" y="775"/>
                </a:lnTo>
                <a:lnTo>
                  <a:pt x="597" y="800"/>
                </a:lnTo>
                <a:lnTo>
                  <a:pt x="597" y="825"/>
                </a:lnTo>
                <a:lnTo>
                  <a:pt x="595" y="846"/>
                </a:lnTo>
                <a:lnTo>
                  <a:pt x="595" y="867"/>
                </a:lnTo>
                <a:lnTo>
                  <a:pt x="593" y="887"/>
                </a:lnTo>
                <a:lnTo>
                  <a:pt x="593" y="906"/>
                </a:lnTo>
                <a:lnTo>
                  <a:pt x="591" y="921"/>
                </a:lnTo>
                <a:lnTo>
                  <a:pt x="589" y="937"/>
                </a:lnTo>
                <a:lnTo>
                  <a:pt x="587" y="950"/>
                </a:lnTo>
                <a:lnTo>
                  <a:pt x="585" y="963"/>
                </a:lnTo>
                <a:lnTo>
                  <a:pt x="582" y="977"/>
                </a:lnTo>
                <a:lnTo>
                  <a:pt x="580" y="990"/>
                </a:lnTo>
                <a:lnTo>
                  <a:pt x="578" y="1002"/>
                </a:lnTo>
                <a:lnTo>
                  <a:pt x="576" y="1011"/>
                </a:lnTo>
                <a:lnTo>
                  <a:pt x="572" y="1023"/>
                </a:lnTo>
                <a:lnTo>
                  <a:pt x="570" y="1031"/>
                </a:lnTo>
                <a:lnTo>
                  <a:pt x="566" y="1040"/>
                </a:lnTo>
                <a:lnTo>
                  <a:pt x="562" y="1048"/>
                </a:lnTo>
                <a:lnTo>
                  <a:pt x="559" y="1054"/>
                </a:lnTo>
                <a:lnTo>
                  <a:pt x="555" y="1061"/>
                </a:lnTo>
                <a:lnTo>
                  <a:pt x="551" y="1065"/>
                </a:lnTo>
                <a:lnTo>
                  <a:pt x="545" y="1071"/>
                </a:lnTo>
                <a:lnTo>
                  <a:pt x="541" y="1075"/>
                </a:lnTo>
                <a:lnTo>
                  <a:pt x="535" y="1079"/>
                </a:lnTo>
                <a:lnTo>
                  <a:pt x="528" y="1080"/>
                </a:lnTo>
                <a:lnTo>
                  <a:pt x="526" y="1082"/>
                </a:lnTo>
                <a:lnTo>
                  <a:pt x="522" y="1082"/>
                </a:lnTo>
                <a:lnTo>
                  <a:pt x="518" y="1080"/>
                </a:lnTo>
                <a:lnTo>
                  <a:pt x="516" y="1079"/>
                </a:lnTo>
                <a:lnTo>
                  <a:pt x="514" y="1077"/>
                </a:lnTo>
                <a:lnTo>
                  <a:pt x="511" y="1073"/>
                </a:lnTo>
                <a:lnTo>
                  <a:pt x="509" y="1067"/>
                </a:lnTo>
                <a:lnTo>
                  <a:pt x="507" y="1061"/>
                </a:lnTo>
                <a:lnTo>
                  <a:pt x="505" y="1056"/>
                </a:lnTo>
                <a:lnTo>
                  <a:pt x="503" y="1048"/>
                </a:lnTo>
                <a:lnTo>
                  <a:pt x="501" y="1040"/>
                </a:lnTo>
                <a:lnTo>
                  <a:pt x="499" y="1031"/>
                </a:lnTo>
                <a:lnTo>
                  <a:pt x="497" y="1021"/>
                </a:lnTo>
                <a:lnTo>
                  <a:pt x="495" y="1009"/>
                </a:lnTo>
                <a:lnTo>
                  <a:pt x="493" y="998"/>
                </a:lnTo>
                <a:lnTo>
                  <a:pt x="493" y="985"/>
                </a:lnTo>
                <a:lnTo>
                  <a:pt x="491" y="973"/>
                </a:lnTo>
                <a:lnTo>
                  <a:pt x="491" y="958"/>
                </a:lnTo>
                <a:lnTo>
                  <a:pt x="489" y="942"/>
                </a:lnTo>
                <a:lnTo>
                  <a:pt x="489" y="927"/>
                </a:lnTo>
                <a:lnTo>
                  <a:pt x="489" y="910"/>
                </a:lnTo>
                <a:lnTo>
                  <a:pt x="489" y="892"/>
                </a:lnTo>
                <a:lnTo>
                  <a:pt x="489" y="873"/>
                </a:lnTo>
                <a:lnTo>
                  <a:pt x="489" y="854"/>
                </a:lnTo>
                <a:lnTo>
                  <a:pt x="489" y="835"/>
                </a:lnTo>
                <a:lnTo>
                  <a:pt x="489" y="814"/>
                </a:lnTo>
                <a:lnTo>
                  <a:pt x="489" y="793"/>
                </a:lnTo>
                <a:lnTo>
                  <a:pt x="489" y="770"/>
                </a:lnTo>
                <a:lnTo>
                  <a:pt x="489" y="746"/>
                </a:lnTo>
                <a:lnTo>
                  <a:pt x="491" y="723"/>
                </a:lnTo>
                <a:lnTo>
                  <a:pt x="491" y="699"/>
                </a:lnTo>
                <a:lnTo>
                  <a:pt x="493" y="672"/>
                </a:lnTo>
                <a:lnTo>
                  <a:pt x="493" y="647"/>
                </a:lnTo>
                <a:lnTo>
                  <a:pt x="493" y="622"/>
                </a:lnTo>
                <a:lnTo>
                  <a:pt x="493" y="597"/>
                </a:lnTo>
                <a:lnTo>
                  <a:pt x="491" y="574"/>
                </a:lnTo>
                <a:lnTo>
                  <a:pt x="491" y="551"/>
                </a:lnTo>
                <a:lnTo>
                  <a:pt x="491" y="530"/>
                </a:lnTo>
                <a:lnTo>
                  <a:pt x="491" y="507"/>
                </a:lnTo>
                <a:lnTo>
                  <a:pt x="491" y="487"/>
                </a:lnTo>
                <a:lnTo>
                  <a:pt x="489" y="466"/>
                </a:lnTo>
                <a:lnTo>
                  <a:pt x="489" y="447"/>
                </a:lnTo>
                <a:lnTo>
                  <a:pt x="489" y="428"/>
                </a:lnTo>
                <a:lnTo>
                  <a:pt x="488" y="411"/>
                </a:lnTo>
                <a:lnTo>
                  <a:pt x="488" y="393"/>
                </a:lnTo>
                <a:lnTo>
                  <a:pt x="486" y="376"/>
                </a:lnTo>
                <a:lnTo>
                  <a:pt x="486" y="361"/>
                </a:lnTo>
                <a:lnTo>
                  <a:pt x="484" y="345"/>
                </a:lnTo>
                <a:lnTo>
                  <a:pt x="484" y="332"/>
                </a:lnTo>
                <a:lnTo>
                  <a:pt x="482" y="317"/>
                </a:lnTo>
                <a:lnTo>
                  <a:pt x="480" y="305"/>
                </a:lnTo>
                <a:lnTo>
                  <a:pt x="480" y="292"/>
                </a:lnTo>
                <a:lnTo>
                  <a:pt x="478" y="280"/>
                </a:lnTo>
                <a:lnTo>
                  <a:pt x="476" y="269"/>
                </a:lnTo>
                <a:lnTo>
                  <a:pt x="474" y="259"/>
                </a:lnTo>
                <a:lnTo>
                  <a:pt x="472" y="249"/>
                </a:lnTo>
                <a:lnTo>
                  <a:pt x="472" y="240"/>
                </a:lnTo>
                <a:lnTo>
                  <a:pt x="470" y="232"/>
                </a:lnTo>
                <a:lnTo>
                  <a:pt x="468" y="224"/>
                </a:lnTo>
                <a:lnTo>
                  <a:pt x="466" y="217"/>
                </a:lnTo>
                <a:lnTo>
                  <a:pt x="464" y="211"/>
                </a:lnTo>
                <a:lnTo>
                  <a:pt x="463" y="205"/>
                </a:lnTo>
                <a:lnTo>
                  <a:pt x="461" y="201"/>
                </a:lnTo>
                <a:lnTo>
                  <a:pt x="459" y="1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71"/>
          <p:cNvSpPr/>
          <p:nvPr/>
        </p:nvSpPr>
        <p:spPr>
          <a:xfrm>
            <a:off x="6878520" y="2854440"/>
            <a:ext cx="109800" cy="792000"/>
          </a:xfrm>
          <a:custGeom>
            <a:avLst/>
            <a:gdLst/>
            <a:ahLst/>
            <a:rect l="l" t="t" r="r" b="b"/>
            <a:pathLst>
              <a:path w="138" h="998">
                <a:moveTo>
                  <a:pt x="138" y="35"/>
                </a:moveTo>
                <a:lnTo>
                  <a:pt x="138" y="85"/>
                </a:lnTo>
                <a:lnTo>
                  <a:pt x="138" y="135"/>
                </a:lnTo>
                <a:lnTo>
                  <a:pt x="138" y="181"/>
                </a:lnTo>
                <a:lnTo>
                  <a:pt x="137" y="227"/>
                </a:lnTo>
                <a:lnTo>
                  <a:pt x="137" y="271"/>
                </a:lnTo>
                <a:lnTo>
                  <a:pt x="137" y="313"/>
                </a:lnTo>
                <a:lnTo>
                  <a:pt x="137" y="355"/>
                </a:lnTo>
                <a:lnTo>
                  <a:pt x="137" y="394"/>
                </a:lnTo>
                <a:lnTo>
                  <a:pt x="137" y="432"/>
                </a:lnTo>
                <a:lnTo>
                  <a:pt x="137" y="470"/>
                </a:lnTo>
                <a:lnTo>
                  <a:pt x="137" y="505"/>
                </a:lnTo>
                <a:lnTo>
                  <a:pt x="137" y="540"/>
                </a:lnTo>
                <a:lnTo>
                  <a:pt x="137" y="572"/>
                </a:lnTo>
                <a:lnTo>
                  <a:pt x="137" y="603"/>
                </a:lnTo>
                <a:lnTo>
                  <a:pt x="137" y="634"/>
                </a:lnTo>
                <a:lnTo>
                  <a:pt x="137" y="662"/>
                </a:lnTo>
                <a:lnTo>
                  <a:pt x="135" y="689"/>
                </a:lnTo>
                <a:lnTo>
                  <a:pt x="135" y="714"/>
                </a:lnTo>
                <a:lnTo>
                  <a:pt x="135" y="739"/>
                </a:lnTo>
                <a:lnTo>
                  <a:pt x="135" y="762"/>
                </a:lnTo>
                <a:lnTo>
                  <a:pt x="135" y="783"/>
                </a:lnTo>
                <a:lnTo>
                  <a:pt x="133" y="804"/>
                </a:lnTo>
                <a:lnTo>
                  <a:pt x="133" y="824"/>
                </a:lnTo>
                <a:lnTo>
                  <a:pt x="133" y="841"/>
                </a:lnTo>
                <a:lnTo>
                  <a:pt x="131" y="856"/>
                </a:lnTo>
                <a:lnTo>
                  <a:pt x="131" y="872"/>
                </a:lnTo>
                <a:lnTo>
                  <a:pt x="131" y="885"/>
                </a:lnTo>
                <a:lnTo>
                  <a:pt x="129" y="897"/>
                </a:lnTo>
                <a:lnTo>
                  <a:pt x="129" y="908"/>
                </a:lnTo>
                <a:lnTo>
                  <a:pt x="127" y="918"/>
                </a:lnTo>
                <a:lnTo>
                  <a:pt x="127" y="925"/>
                </a:lnTo>
                <a:lnTo>
                  <a:pt x="125" y="933"/>
                </a:lnTo>
                <a:lnTo>
                  <a:pt x="123" y="945"/>
                </a:lnTo>
                <a:lnTo>
                  <a:pt x="121" y="954"/>
                </a:lnTo>
                <a:lnTo>
                  <a:pt x="119" y="964"/>
                </a:lnTo>
                <a:lnTo>
                  <a:pt x="117" y="971"/>
                </a:lnTo>
                <a:lnTo>
                  <a:pt x="114" y="979"/>
                </a:lnTo>
                <a:lnTo>
                  <a:pt x="112" y="985"/>
                </a:lnTo>
                <a:lnTo>
                  <a:pt x="110" y="991"/>
                </a:lnTo>
                <a:lnTo>
                  <a:pt x="106" y="995"/>
                </a:lnTo>
                <a:lnTo>
                  <a:pt x="104" y="996"/>
                </a:lnTo>
                <a:lnTo>
                  <a:pt x="100" y="998"/>
                </a:lnTo>
                <a:lnTo>
                  <a:pt x="98" y="998"/>
                </a:lnTo>
                <a:lnTo>
                  <a:pt x="94" y="998"/>
                </a:lnTo>
                <a:lnTo>
                  <a:pt x="90" y="996"/>
                </a:lnTo>
                <a:lnTo>
                  <a:pt x="87" y="993"/>
                </a:lnTo>
                <a:lnTo>
                  <a:pt x="83" y="991"/>
                </a:lnTo>
                <a:lnTo>
                  <a:pt x="79" y="985"/>
                </a:lnTo>
                <a:lnTo>
                  <a:pt x="77" y="983"/>
                </a:lnTo>
                <a:lnTo>
                  <a:pt x="75" y="979"/>
                </a:lnTo>
                <a:lnTo>
                  <a:pt x="73" y="975"/>
                </a:lnTo>
                <a:lnTo>
                  <a:pt x="71" y="970"/>
                </a:lnTo>
                <a:lnTo>
                  <a:pt x="69" y="966"/>
                </a:lnTo>
                <a:lnTo>
                  <a:pt x="67" y="960"/>
                </a:lnTo>
                <a:lnTo>
                  <a:pt x="66" y="952"/>
                </a:lnTo>
                <a:lnTo>
                  <a:pt x="64" y="945"/>
                </a:lnTo>
                <a:lnTo>
                  <a:pt x="62" y="937"/>
                </a:lnTo>
                <a:lnTo>
                  <a:pt x="60" y="929"/>
                </a:lnTo>
                <a:lnTo>
                  <a:pt x="58" y="920"/>
                </a:lnTo>
                <a:lnTo>
                  <a:pt x="58" y="910"/>
                </a:lnTo>
                <a:lnTo>
                  <a:pt x="56" y="900"/>
                </a:lnTo>
                <a:lnTo>
                  <a:pt x="54" y="889"/>
                </a:lnTo>
                <a:lnTo>
                  <a:pt x="54" y="877"/>
                </a:lnTo>
                <a:lnTo>
                  <a:pt x="52" y="864"/>
                </a:lnTo>
                <a:lnTo>
                  <a:pt x="52" y="852"/>
                </a:lnTo>
                <a:lnTo>
                  <a:pt x="50" y="839"/>
                </a:lnTo>
                <a:lnTo>
                  <a:pt x="50" y="824"/>
                </a:lnTo>
                <a:lnTo>
                  <a:pt x="48" y="808"/>
                </a:lnTo>
                <a:lnTo>
                  <a:pt x="48" y="793"/>
                </a:lnTo>
                <a:lnTo>
                  <a:pt x="46" y="778"/>
                </a:lnTo>
                <a:lnTo>
                  <a:pt x="46" y="760"/>
                </a:lnTo>
                <a:lnTo>
                  <a:pt x="46" y="743"/>
                </a:lnTo>
                <a:lnTo>
                  <a:pt x="44" y="724"/>
                </a:lnTo>
                <a:lnTo>
                  <a:pt x="44" y="705"/>
                </a:lnTo>
                <a:lnTo>
                  <a:pt x="44" y="685"/>
                </a:lnTo>
                <a:lnTo>
                  <a:pt x="44" y="664"/>
                </a:lnTo>
                <a:lnTo>
                  <a:pt x="44" y="643"/>
                </a:lnTo>
                <a:lnTo>
                  <a:pt x="44" y="622"/>
                </a:lnTo>
                <a:lnTo>
                  <a:pt x="44" y="599"/>
                </a:lnTo>
                <a:lnTo>
                  <a:pt x="44" y="576"/>
                </a:lnTo>
                <a:lnTo>
                  <a:pt x="44" y="553"/>
                </a:lnTo>
                <a:lnTo>
                  <a:pt x="42" y="530"/>
                </a:lnTo>
                <a:lnTo>
                  <a:pt x="42" y="509"/>
                </a:lnTo>
                <a:lnTo>
                  <a:pt x="42" y="488"/>
                </a:lnTo>
                <a:lnTo>
                  <a:pt x="42" y="467"/>
                </a:lnTo>
                <a:lnTo>
                  <a:pt x="42" y="446"/>
                </a:lnTo>
                <a:lnTo>
                  <a:pt x="42" y="426"/>
                </a:lnTo>
                <a:lnTo>
                  <a:pt x="41" y="407"/>
                </a:lnTo>
                <a:lnTo>
                  <a:pt x="41" y="390"/>
                </a:lnTo>
                <a:lnTo>
                  <a:pt x="41" y="371"/>
                </a:lnTo>
                <a:lnTo>
                  <a:pt x="41" y="353"/>
                </a:lnTo>
                <a:lnTo>
                  <a:pt x="39" y="338"/>
                </a:lnTo>
                <a:lnTo>
                  <a:pt x="39" y="321"/>
                </a:lnTo>
                <a:lnTo>
                  <a:pt x="37" y="305"/>
                </a:lnTo>
                <a:lnTo>
                  <a:pt x="37" y="290"/>
                </a:lnTo>
                <a:lnTo>
                  <a:pt x="37" y="277"/>
                </a:lnTo>
                <a:lnTo>
                  <a:pt x="35" y="263"/>
                </a:lnTo>
                <a:lnTo>
                  <a:pt x="35" y="250"/>
                </a:lnTo>
                <a:lnTo>
                  <a:pt x="33" y="236"/>
                </a:lnTo>
                <a:lnTo>
                  <a:pt x="33" y="223"/>
                </a:lnTo>
                <a:lnTo>
                  <a:pt x="31" y="211"/>
                </a:lnTo>
                <a:lnTo>
                  <a:pt x="31" y="200"/>
                </a:lnTo>
                <a:lnTo>
                  <a:pt x="29" y="190"/>
                </a:lnTo>
                <a:lnTo>
                  <a:pt x="29" y="179"/>
                </a:lnTo>
                <a:lnTo>
                  <a:pt x="27" y="169"/>
                </a:lnTo>
                <a:lnTo>
                  <a:pt x="27" y="160"/>
                </a:lnTo>
                <a:lnTo>
                  <a:pt x="25" y="152"/>
                </a:lnTo>
                <a:lnTo>
                  <a:pt x="25" y="142"/>
                </a:lnTo>
                <a:lnTo>
                  <a:pt x="23" y="135"/>
                </a:lnTo>
                <a:lnTo>
                  <a:pt x="21" y="127"/>
                </a:lnTo>
                <a:lnTo>
                  <a:pt x="19" y="115"/>
                </a:lnTo>
                <a:lnTo>
                  <a:pt x="16" y="104"/>
                </a:lnTo>
                <a:lnTo>
                  <a:pt x="12" y="96"/>
                </a:lnTo>
                <a:lnTo>
                  <a:pt x="10" y="87"/>
                </a:lnTo>
                <a:lnTo>
                  <a:pt x="6" y="77"/>
                </a:lnTo>
                <a:lnTo>
                  <a:pt x="2" y="62"/>
                </a:lnTo>
                <a:lnTo>
                  <a:pt x="0" y="46"/>
                </a:lnTo>
                <a:lnTo>
                  <a:pt x="0" y="41"/>
                </a:lnTo>
                <a:lnTo>
                  <a:pt x="0" y="35"/>
                </a:lnTo>
                <a:lnTo>
                  <a:pt x="0" y="29"/>
                </a:lnTo>
                <a:lnTo>
                  <a:pt x="2" y="23"/>
                </a:lnTo>
                <a:lnTo>
                  <a:pt x="2" y="19"/>
                </a:lnTo>
                <a:lnTo>
                  <a:pt x="4" y="16"/>
                </a:lnTo>
                <a:lnTo>
                  <a:pt x="6" y="12"/>
                </a:lnTo>
                <a:lnTo>
                  <a:pt x="8" y="10"/>
                </a:lnTo>
                <a:lnTo>
                  <a:pt x="12" y="6"/>
                </a:lnTo>
                <a:lnTo>
                  <a:pt x="14" y="4"/>
                </a:lnTo>
                <a:lnTo>
                  <a:pt x="19" y="2"/>
                </a:lnTo>
                <a:lnTo>
                  <a:pt x="23" y="2"/>
                </a:lnTo>
                <a:lnTo>
                  <a:pt x="29" y="0"/>
                </a:lnTo>
                <a:lnTo>
                  <a:pt x="37" y="0"/>
                </a:lnTo>
                <a:lnTo>
                  <a:pt x="42" y="2"/>
                </a:lnTo>
                <a:lnTo>
                  <a:pt x="50" y="2"/>
                </a:lnTo>
                <a:lnTo>
                  <a:pt x="60" y="4"/>
                </a:lnTo>
                <a:lnTo>
                  <a:pt x="69" y="6"/>
                </a:lnTo>
                <a:lnTo>
                  <a:pt x="79" y="8"/>
                </a:lnTo>
                <a:lnTo>
                  <a:pt x="89" y="12"/>
                </a:lnTo>
                <a:lnTo>
                  <a:pt x="100" y="17"/>
                </a:lnTo>
                <a:lnTo>
                  <a:pt x="112" y="21"/>
                </a:lnTo>
                <a:lnTo>
                  <a:pt x="125" y="29"/>
                </a:lnTo>
                <a:lnTo>
                  <a:pt x="138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72"/>
          <p:cNvSpPr/>
          <p:nvPr/>
        </p:nvSpPr>
        <p:spPr>
          <a:xfrm>
            <a:off x="6545160" y="3740040"/>
            <a:ext cx="219240" cy="17784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92" y="54"/>
                </a:moveTo>
                <a:lnTo>
                  <a:pt x="201" y="58"/>
                </a:lnTo>
                <a:lnTo>
                  <a:pt x="211" y="64"/>
                </a:lnTo>
                <a:lnTo>
                  <a:pt x="221" y="69"/>
                </a:lnTo>
                <a:lnTo>
                  <a:pt x="228" y="75"/>
                </a:lnTo>
                <a:lnTo>
                  <a:pt x="236" y="81"/>
                </a:lnTo>
                <a:lnTo>
                  <a:pt x="244" y="89"/>
                </a:lnTo>
                <a:lnTo>
                  <a:pt x="249" y="94"/>
                </a:lnTo>
                <a:lnTo>
                  <a:pt x="255" y="100"/>
                </a:lnTo>
                <a:lnTo>
                  <a:pt x="259" y="108"/>
                </a:lnTo>
                <a:lnTo>
                  <a:pt x="263" y="116"/>
                </a:lnTo>
                <a:lnTo>
                  <a:pt x="267" y="121"/>
                </a:lnTo>
                <a:lnTo>
                  <a:pt x="269" y="129"/>
                </a:lnTo>
                <a:lnTo>
                  <a:pt x="270" y="137"/>
                </a:lnTo>
                <a:lnTo>
                  <a:pt x="272" y="144"/>
                </a:lnTo>
                <a:lnTo>
                  <a:pt x="272" y="152"/>
                </a:lnTo>
                <a:lnTo>
                  <a:pt x="274" y="160"/>
                </a:lnTo>
                <a:lnTo>
                  <a:pt x="269" y="173"/>
                </a:lnTo>
                <a:lnTo>
                  <a:pt x="265" y="187"/>
                </a:lnTo>
                <a:lnTo>
                  <a:pt x="259" y="196"/>
                </a:lnTo>
                <a:lnTo>
                  <a:pt x="255" y="206"/>
                </a:lnTo>
                <a:lnTo>
                  <a:pt x="251" y="210"/>
                </a:lnTo>
                <a:lnTo>
                  <a:pt x="249" y="213"/>
                </a:lnTo>
                <a:lnTo>
                  <a:pt x="246" y="217"/>
                </a:lnTo>
                <a:lnTo>
                  <a:pt x="242" y="219"/>
                </a:lnTo>
                <a:lnTo>
                  <a:pt x="238" y="221"/>
                </a:lnTo>
                <a:lnTo>
                  <a:pt x="234" y="223"/>
                </a:lnTo>
                <a:lnTo>
                  <a:pt x="230" y="225"/>
                </a:lnTo>
                <a:lnTo>
                  <a:pt x="226" y="225"/>
                </a:lnTo>
                <a:lnTo>
                  <a:pt x="221" y="225"/>
                </a:lnTo>
                <a:lnTo>
                  <a:pt x="213" y="223"/>
                </a:lnTo>
                <a:lnTo>
                  <a:pt x="207" y="221"/>
                </a:lnTo>
                <a:lnTo>
                  <a:pt x="199" y="219"/>
                </a:lnTo>
                <a:lnTo>
                  <a:pt x="192" y="217"/>
                </a:lnTo>
                <a:lnTo>
                  <a:pt x="186" y="213"/>
                </a:lnTo>
                <a:lnTo>
                  <a:pt x="178" y="210"/>
                </a:lnTo>
                <a:lnTo>
                  <a:pt x="171" y="206"/>
                </a:lnTo>
                <a:lnTo>
                  <a:pt x="163" y="200"/>
                </a:lnTo>
                <a:lnTo>
                  <a:pt x="155" y="194"/>
                </a:lnTo>
                <a:lnTo>
                  <a:pt x="146" y="187"/>
                </a:lnTo>
                <a:lnTo>
                  <a:pt x="136" y="181"/>
                </a:lnTo>
                <a:lnTo>
                  <a:pt x="128" y="173"/>
                </a:lnTo>
                <a:lnTo>
                  <a:pt x="119" y="164"/>
                </a:lnTo>
                <a:lnTo>
                  <a:pt x="107" y="156"/>
                </a:lnTo>
                <a:lnTo>
                  <a:pt x="98" y="146"/>
                </a:lnTo>
                <a:lnTo>
                  <a:pt x="86" y="135"/>
                </a:lnTo>
                <a:lnTo>
                  <a:pt x="77" y="125"/>
                </a:lnTo>
                <a:lnTo>
                  <a:pt x="67" y="117"/>
                </a:lnTo>
                <a:lnTo>
                  <a:pt x="57" y="108"/>
                </a:lnTo>
                <a:lnTo>
                  <a:pt x="50" y="100"/>
                </a:lnTo>
                <a:lnTo>
                  <a:pt x="42" y="92"/>
                </a:lnTo>
                <a:lnTo>
                  <a:pt x="34" y="85"/>
                </a:lnTo>
                <a:lnTo>
                  <a:pt x="29" y="77"/>
                </a:lnTo>
                <a:lnTo>
                  <a:pt x="23" y="71"/>
                </a:lnTo>
                <a:lnTo>
                  <a:pt x="17" y="66"/>
                </a:lnTo>
                <a:lnTo>
                  <a:pt x="13" y="60"/>
                </a:lnTo>
                <a:lnTo>
                  <a:pt x="9" y="54"/>
                </a:lnTo>
                <a:lnTo>
                  <a:pt x="7" y="50"/>
                </a:lnTo>
                <a:lnTo>
                  <a:pt x="6" y="46"/>
                </a:lnTo>
                <a:lnTo>
                  <a:pt x="4" y="43"/>
                </a:lnTo>
                <a:lnTo>
                  <a:pt x="4" y="41"/>
                </a:lnTo>
                <a:lnTo>
                  <a:pt x="2" y="37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2" y="27"/>
                </a:lnTo>
                <a:lnTo>
                  <a:pt x="4" y="25"/>
                </a:lnTo>
                <a:lnTo>
                  <a:pt x="7" y="23"/>
                </a:lnTo>
                <a:lnTo>
                  <a:pt x="11" y="20"/>
                </a:lnTo>
                <a:lnTo>
                  <a:pt x="15" y="18"/>
                </a:lnTo>
                <a:lnTo>
                  <a:pt x="19" y="16"/>
                </a:lnTo>
                <a:lnTo>
                  <a:pt x="25" y="12"/>
                </a:lnTo>
                <a:lnTo>
                  <a:pt x="32" y="10"/>
                </a:lnTo>
                <a:lnTo>
                  <a:pt x="38" y="8"/>
                </a:lnTo>
                <a:lnTo>
                  <a:pt x="46" y="6"/>
                </a:lnTo>
                <a:lnTo>
                  <a:pt x="54" y="2"/>
                </a:lnTo>
                <a:lnTo>
                  <a:pt x="63" y="0"/>
                </a:lnTo>
                <a:lnTo>
                  <a:pt x="77" y="0"/>
                </a:lnTo>
                <a:lnTo>
                  <a:pt x="90" y="2"/>
                </a:lnTo>
                <a:lnTo>
                  <a:pt x="105" y="6"/>
                </a:lnTo>
                <a:lnTo>
                  <a:pt x="123" y="12"/>
                </a:lnTo>
                <a:lnTo>
                  <a:pt x="130" y="16"/>
                </a:lnTo>
                <a:lnTo>
                  <a:pt x="140" y="20"/>
                </a:lnTo>
                <a:lnTo>
                  <a:pt x="148" y="23"/>
                </a:lnTo>
                <a:lnTo>
                  <a:pt x="157" y="27"/>
                </a:lnTo>
                <a:lnTo>
                  <a:pt x="165" y="33"/>
                </a:lnTo>
                <a:lnTo>
                  <a:pt x="174" y="39"/>
                </a:lnTo>
                <a:lnTo>
                  <a:pt x="182" y="46"/>
                </a:lnTo>
                <a:lnTo>
                  <a:pt x="192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3"/>
          <p:cNvSpPr/>
          <p:nvPr/>
        </p:nvSpPr>
        <p:spPr>
          <a:xfrm>
            <a:off x="6284880" y="3146400"/>
            <a:ext cx="311040" cy="920880"/>
          </a:xfrm>
          <a:custGeom>
            <a:avLst/>
            <a:gdLst/>
            <a:ahLst/>
            <a:rect l="l" t="t" r="r" b="b"/>
            <a:pathLst>
              <a:path w="391" h="1159">
                <a:moveTo>
                  <a:pt x="144" y="1038"/>
                </a:moveTo>
                <a:lnTo>
                  <a:pt x="128" y="1055"/>
                </a:lnTo>
                <a:lnTo>
                  <a:pt x="115" y="1071"/>
                </a:lnTo>
                <a:lnTo>
                  <a:pt x="101" y="1084"/>
                </a:lnTo>
                <a:lnTo>
                  <a:pt x="88" y="1098"/>
                </a:lnTo>
                <a:lnTo>
                  <a:pt x="76" y="1109"/>
                </a:lnTo>
                <a:lnTo>
                  <a:pt x="67" y="1121"/>
                </a:lnTo>
                <a:lnTo>
                  <a:pt x="55" y="1130"/>
                </a:lnTo>
                <a:lnTo>
                  <a:pt x="48" y="1138"/>
                </a:lnTo>
                <a:lnTo>
                  <a:pt x="38" y="1144"/>
                </a:lnTo>
                <a:lnTo>
                  <a:pt x="30" y="1150"/>
                </a:lnTo>
                <a:lnTo>
                  <a:pt x="25" y="1155"/>
                </a:lnTo>
                <a:lnTo>
                  <a:pt x="19" y="1157"/>
                </a:lnTo>
                <a:lnTo>
                  <a:pt x="13" y="1159"/>
                </a:lnTo>
                <a:lnTo>
                  <a:pt x="9" y="1159"/>
                </a:lnTo>
                <a:lnTo>
                  <a:pt x="5" y="1159"/>
                </a:lnTo>
                <a:lnTo>
                  <a:pt x="3" y="1157"/>
                </a:lnTo>
                <a:lnTo>
                  <a:pt x="2" y="1153"/>
                </a:lnTo>
                <a:lnTo>
                  <a:pt x="0" y="1150"/>
                </a:lnTo>
                <a:lnTo>
                  <a:pt x="0" y="1146"/>
                </a:lnTo>
                <a:lnTo>
                  <a:pt x="0" y="1140"/>
                </a:lnTo>
                <a:lnTo>
                  <a:pt x="2" y="1134"/>
                </a:lnTo>
                <a:lnTo>
                  <a:pt x="5" y="1126"/>
                </a:lnTo>
                <a:lnTo>
                  <a:pt x="7" y="1117"/>
                </a:lnTo>
                <a:lnTo>
                  <a:pt x="11" y="1107"/>
                </a:lnTo>
                <a:lnTo>
                  <a:pt x="17" y="1098"/>
                </a:lnTo>
                <a:lnTo>
                  <a:pt x="23" y="1086"/>
                </a:lnTo>
                <a:lnTo>
                  <a:pt x="28" y="1075"/>
                </a:lnTo>
                <a:lnTo>
                  <a:pt x="36" y="1061"/>
                </a:lnTo>
                <a:lnTo>
                  <a:pt x="44" y="1048"/>
                </a:lnTo>
                <a:lnTo>
                  <a:pt x="53" y="1032"/>
                </a:lnTo>
                <a:lnTo>
                  <a:pt x="63" y="1015"/>
                </a:lnTo>
                <a:lnTo>
                  <a:pt x="73" y="1000"/>
                </a:lnTo>
                <a:lnTo>
                  <a:pt x="96" y="963"/>
                </a:lnTo>
                <a:lnTo>
                  <a:pt x="117" y="929"/>
                </a:lnTo>
                <a:lnTo>
                  <a:pt x="138" y="894"/>
                </a:lnTo>
                <a:lnTo>
                  <a:pt x="159" y="858"/>
                </a:lnTo>
                <a:lnTo>
                  <a:pt x="178" y="819"/>
                </a:lnTo>
                <a:lnTo>
                  <a:pt x="195" y="781"/>
                </a:lnTo>
                <a:lnTo>
                  <a:pt x="203" y="760"/>
                </a:lnTo>
                <a:lnTo>
                  <a:pt x="211" y="739"/>
                </a:lnTo>
                <a:lnTo>
                  <a:pt x="218" y="718"/>
                </a:lnTo>
                <a:lnTo>
                  <a:pt x="226" y="697"/>
                </a:lnTo>
                <a:lnTo>
                  <a:pt x="232" y="673"/>
                </a:lnTo>
                <a:lnTo>
                  <a:pt x="238" y="650"/>
                </a:lnTo>
                <a:lnTo>
                  <a:pt x="247" y="604"/>
                </a:lnTo>
                <a:lnTo>
                  <a:pt x="257" y="556"/>
                </a:lnTo>
                <a:lnTo>
                  <a:pt x="264" y="507"/>
                </a:lnTo>
                <a:lnTo>
                  <a:pt x="270" y="457"/>
                </a:lnTo>
                <a:lnTo>
                  <a:pt x="276" y="407"/>
                </a:lnTo>
                <a:lnTo>
                  <a:pt x="280" y="353"/>
                </a:lnTo>
                <a:lnTo>
                  <a:pt x="286" y="299"/>
                </a:lnTo>
                <a:lnTo>
                  <a:pt x="284" y="272"/>
                </a:lnTo>
                <a:lnTo>
                  <a:pt x="284" y="247"/>
                </a:lnTo>
                <a:lnTo>
                  <a:pt x="284" y="224"/>
                </a:lnTo>
                <a:lnTo>
                  <a:pt x="282" y="203"/>
                </a:lnTo>
                <a:lnTo>
                  <a:pt x="282" y="182"/>
                </a:lnTo>
                <a:lnTo>
                  <a:pt x="280" y="165"/>
                </a:lnTo>
                <a:lnTo>
                  <a:pt x="278" y="148"/>
                </a:lnTo>
                <a:lnTo>
                  <a:pt x="278" y="132"/>
                </a:lnTo>
                <a:lnTo>
                  <a:pt x="276" y="117"/>
                </a:lnTo>
                <a:lnTo>
                  <a:pt x="274" y="105"/>
                </a:lnTo>
                <a:lnTo>
                  <a:pt x="272" y="94"/>
                </a:lnTo>
                <a:lnTo>
                  <a:pt x="270" y="84"/>
                </a:lnTo>
                <a:lnTo>
                  <a:pt x="268" y="77"/>
                </a:lnTo>
                <a:lnTo>
                  <a:pt x="266" y="71"/>
                </a:lnTo>
                <a:lnTo>
                  <a:pt x="263" y="65"/>
                </a:lnTo>
                <a:lnTo>
                  <a:pt x="261" y="63"/>
                </a:lnTo>
                <a:lnTo>
                  <a:pt x="257" y="57"/>
                </a:lnTo>
                <a:lnTo>
                  <a:pt x="253" y="52"/>
                </a:lnTo>
                <a:lnTo>
                  <a:pt x="249" y="46"/>
                </a:lnTo>
                <a:lnTo>
                  <a:pt x="247" y="40"/>
                </a:lnTo>
                <a:lnTo>
                  <a:pt x="245" y="34"/>
                </a:lnTo>
                <a:lnTo>
                  <a:pt x="245" y="27"/>
                </a:lnTo>
                <a:lnTo>
                  <a:pt x="245" y="19"/>
                </a:lnTo>
                <a:lnTo>
                  <a:pt x="247" y="15"/>
                </a:lnTo>
                <a:lnTo>
                  <a:pt x="249" y="9"/>
                </a:lnTo>
                <a:lnTo>
                  <a:pt x="255" y="6"/>
                </a:lnTo>
                <a:lnTo>
                  <a:pt x="261" y="2"/>
                </a:lnTo>
                <a:lnTo>
                  <a:pt x="268" y="0"/>
                </a:lnTo>
                <a:lnTo>
                  <a:pt x="278" y="0"/>
                </a:lnTo>
                <a:lnTo>
                  <a:pt x="288" y="0"/>
                </a:lnTo>
                <a:lnTo>
                  <a:pt x="301" y="2"/>
                </a:lnTo>
                <a:lnTo>
                  <a:pt x="307" y="4"/>
                </a:lnTo>
                <a:lnTo>
                  <a:pt x="314" y="6"/>
                </a:lnTo>
                <a:lnTo>
                  <a:pt x="322" y="7"/>
                </a:lnTo>
                <a:lnTo>
                  <a:pt x="332" y="9"/>
                </a:lnTo>
                <a:lnTo>
                  <a:pt x="337" y="15"/>
                </a:lnTo>
                <a:lnTo>
                  <a:pt x="343" y="21"/>
                </a:lnTo>
                <a:lnTo>
                  <a:pt x="349" y="27"/>
                </a:lnTo>
                <a:lnTo>
                  <a:pt x="355" y="34"/>
                </a:lnTo>
                <a:lnTo>
                  <a:pt x="360" y="42"/>
                </a:lnTo>
                <a:lnTo>
                  <a:pt x="366" y="50"/>
                </a:lnTo>
                <a:lnTo>
                  <a:pt x="370" y="57"/>
                </a:lnTo>
                <a:lnTo>
                  <a:pt x="374" y="67"/>
                </a:lnTo>
                <a:lnTo>
                  <a:pt x="382" y="86"/>
                </a:lnTo>
                <a:lnTo>
                  <a:pt x="383" y="98"/>
                </a:lnTo>
                <a:lnTo>
                  <a:pt x="385" y="107"/>
                </a:lnTo>
                <a:lnTo>
                  <a:pt x="387" y="119"/>
                </a:lnTo>
                <a:lnTo>
                  <a:pt x="389" y="130"/>
                </a:lnTo>
                <a:lnTo>
                  <a:pt x="389" y="142"/>
                </a:lnTo>
                <a:lnTo>
                  <a:pt x="391" y="155"/>
                </a:lnTo>
                <a:lnTo>
                  <a:pt x="389" y="180"/>
                </a:lnTo>
                <a:lnTo>
                  <a:pt x="389" y="207"/>
                </a:lnTo>
                <a:lnTo>
                  <a:pt x="389" y="234"/>
                </a:lnTo>
                <a:lnTo>
                  <a:pt x="389" y="263"/>
                </a:lnTo>
                <a:lnTo>
                  <a:pt x="387" y="293"/>
                </a:lnTo>
                <a:lnTo>
                  <a:pt x="385" y="326"/>
                </a:lnTo>
                <a:lnTo>
                  <a:pt x="382" y="359"/>
                </a:lnTo>
                <a:lnTo>
                  <a:pt x="378" y="391"/>
                </a:lnTo>
                <a:lnTo>
                  <a:pt x="374" y="428"/>
                </a:lnTo>
                <a:lnTo>
                  <a:pt x="370" y="464"/>
                </a:lnTo>
                <a:lnTo>
                  <a:pt x="364" y="501"/>
                </a:lnTo>
                <a:lnTo>
                  <a:pt x="359" y="541"/>
                </a:lnTo>
                <a:lnTo>
                  <a:pt x="351" y="581"/>
                </a:lnTo>
                <a:lnTo>
                  <a:pt x="341" y="622"/>
                </a:lnTo>
                <a:lnTo>
                  <a:pt x="332" y="664"/>
                </a:lnTo>
                <a:lnTo>
                  <a:pt x="326" y="687"/>
                </a:lnTo>
                <a:lnTo>
                  <a:pt x="320" y="708"/>
                </a:lnTo>
                <a:lnTo>
                  <a:pt x="312" y="731"/>
                </a:lnTo>
                <a:lnTo>
                  <a:pt x="305" y="752"/>
                </a:lnTo>
                <a:lnTo>
                  <a:pt x="297" y="775"/>
                </a:lnTo>
                <a:lnTo>
                  <a:pt x="289" y="796"/>
                </a:lnTo>
                <a:lnTo>
                  <a:pt x="280" y="819"/>
                </a:lnTo>
                <a:lnTo>
                  <a:pt x="270" y="840"/>
                </a:lnTo>
                <a:lnTo>
                  <a:pt x="261" y="862"/>
                </a:lnTo>
                <a:lnTo>
                  <a:pt x="249" y="883"/>
                </a:lnTo>
                <a:lnTo>
                  <a:pt x="238" y="904"/>
                </a:lnTo>
                <a:lnTo>
                  <a:pt x="226" y="925"/>
                </a:lnTo>
                <a:lnTo>
                  <a:pt x="213" y="944"/>
                </a:lnTo>
                <a:lnTo>
                  <a:pt x="201" y="963"/>
                </a:lnTo>
                <a:lnTo>
                  <a:pt x="188" y="983"/>
                </a:lnTo>
                <a:lnTo>
                  <a:pt x="172" y="1002"/>
                </a:lnTo>
                <a:lnTo>
                  <a:pt x="159" y="1021"/>
                </a:lnTo>
                <a:lnTo>
                  <a:pt x="144" y="10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74"/>
          <p:cNvSpPr/>
          <p:nvPr/>
        </p:nvSpPr>
        <p:spPr>
          <a:xfrm>
            <a:off x="6343560" y="2881440"/>
            <a:ext cx="474840" cy="807840"/>
          </a:xfrm>
          <a:custGeom>
            <a:avLst/>
            <a:gdLst/>
            <a:ahLst/>
            <a:rect l="l" t="t" r="r" b="b"/>
            <a:pathLst>
              <a:path w="598" h="1017">
                <a:moveTo>
                  <a:pt x="447" y="435"/>
                </a:moveTo>
                <a:lnTo>
                  <a:pt x="447" y="405"/>
                </a:lnTo>
                <a:lnTo>
                  <a:pt x="445" y="374"/>
                </a:lnTo>
                <a:lnTo>
                  <a:pt x="445" y="347"/>
                </a:lnTo>
                <a:lnTo>
                  <a:pt x="445" y="320"/>
                </a:lnTo>
                <a:lnTo>
                  <a:pt x="443" y="295"/>
                </a:lnTo>
                <a:lnTo>
                  <a:pt x="441" y="272"/>
                </a:lnTo>
                <a:lnTo>
                  <a:pt x="441" y="251"/>
                </a:lnTo>
                <a:lnTo>
                  <a:pt x="439" y="232"/>
                </a:lnTo>
                <a:lnTo>
                  <a:pt x="437" y="213"/>
                </a:lnTo>
                <a:lnTo>
                  <a:pt x="437" y="205"/>
                </a:lnTo>
                <a:lnTo>
                  <a:pt x="435" y="197"/>
                </a:lnTo>
                <a:lnTo>
                  <a:pt x="435" y="192"/>
                </a:lnTo>
                <a:lnTo>
                  <a:pt x="433" y="184"/>
                </a:lnTo>
                <a:lnTo>
                  <a:pt x="431" y="178"/>
                </a:lnTo>
                <a:lnTo>
                  <a:pt x="431" y="173"/>
                </a:lnTo>
                <a:lnTo>
                  <a:pt x="429" y="167"/>
                </a:lnTo>
                <a:lnTo>
                  <a:pt x="429" y="163"/>
                </a:lnTo>
                <a:lnTo>
                  <a:pt x="428" y="159"/>
                </a:lnTo>
                <a:lnTo>
                  <a:pt x="428" y="155"/>
                </a:lnTo>
                <a:lnTo>
                  <a:pt x="426" y="151"/>
                </a:lnTo>
                <a:lnTo>
                  <a:pt x="426" y="149"/>
                </a:lnTo>
                <a:lnTo>
                  <a:pt x="424" y="148"/>
                </a:lnTo>
                <a:lnTo>
                  <a:pt x="424" y="146"/>
                </a:lnTo>
                <a:lnTo>
                  <a:pt x="418" y="144"/>
                </a:lnTo>
                <a:lnTo>
                  <a:pt x="412" y="142"/>
                </a:lnTo>
                <a:lnTo>
                  <a:pt x="405" y="140"/>
                </a:lnTo>
                <a:lnTo>
                  <a:pt x="397" y="140"/>
                </a:lnTo>
                <a:lnTo>
                  <a:pt x="387" y="140"/>
                </a:lnTo>
                <a:lnTo>
                  <a:pt x="378" y="140"/>
                </a:lnTo>
                <a:lnTo>
                  <a:pt x="366" y="142"/>
                </a:lnTo>
                <a:lnTo>
                  <a:pt x="355" y="142"/>
                </a:lnTo>
                <a:lnTo>
                  <a:pt x="341" y="144"/>
                </a:lnTo>
                <a:lnTo>
                  <a:pt x="326" y="146"/>
                </a:lnTo>
                <a:lnTo>
                  <a:pt x="312" y="148"/>
                </a:lnTo>
                <a:lnTo>
                  <a:pt x="295" y="149"/>
                </a:lnTo>
                <a:lnTo>
                  <a:pt x="278" y="151"/>
                </a:lnTo>
                <a:lnTo>
                  <a:pt x="261" y="153"/>
                </a:lnTo>
                <a:lnTo>
                  <a:pt x="243" y="155"/>
                </a:lnTo>
                <a:lnTo>
                  <a:pt x="224" y="159"/>
                </a:lnTo>
                <a:lnTo>
                  <a:pt x="203" y="161"/>
                </a:lnTo>
                <a:lnTo>
                  <a:pt x="184" y="163"/>
                </a:lnTo>
                <a:lnTo>
                  <a:pt x="167" y="167"/>
                </a:lnTo>
                <a:lnTo>
                  <a:pt x="149" y="169"/>
                </a:lnTo>
                <a:lnTo>
                  <a:pt x="132" y="171"/>
                </a:lnTo>
                <a:lnTo>
                  <a:pt x="115" y="173"/>
                </a:lnTo>
                <a:lnTo>
                  <a:pt x="99" y="174"/>
                </a:lnTo>
                <a:lnTo>
                  <a:pt x="86" y="176"/>
                </a:lnTo>
                <a:lnTo>
                  <a:pt x="71" y="178"/>
                </a:lnTo>
                <a:lnTo>
                  <a:pt x="59" y="180"/>
                </a:lnTo>
                <a:lnTo>
                  <a:pt x="46" y="182"/>
                </a:lnTo>
                <a:lnTo>
                  <a:pt x="34" y="182"/>
                </a:lnTo>
                <a:lnTo>
                  <a:pt x="24" y="184"/>
                </a:lnTo>
                <a:lnTo>
                  <a:pt x="15" y="184"/>
                </a:lnTo>
                <a:lnTo>
                  <a:pt x="7" y="184"/>
                </a:lnTo>
                <a:lnTo>
                  <a:pt x="0" y="186"/>
                </a:lnTo>
                <a:lnTo>
                  <a:pt x="0" y="105"/>
                </a:lnTo>
                <a:lnTo>
                  <a:pt x="11" y="105"/>
                </a:lnTo>
                <a:lnTo>
                  <a:pt x="23" y="105"/>
                </a:lnTo>
                <a:lnTo>
                  <a:pt x="36" y="105"/>
                </a:lnTo>
                <a:lnTo>
                  <a:pt x="48" y="103"/>
                </a:lnTo>
                <a:lnTo>
                  <a:pt x="74" y="100"/>
                </a:lnTo>
                <a:lnTo>
                  <a:pt x="103" y="96"/>
                </a:lnTo>
                <a:lnTo>
                  <a:pt x="132" y="90"/>
                </a:lnTo>
                <a:lnTo>
                  <a:pt x="163" y="84"/>
                </a:lnTo>
                <a:lnTo>
                  <a:pt x="193" y="77"/>
                </a:lnTo>
                <a:lnTo>
                  <a:pt x="224" y="67"/>
                </a:lnTo>
                <a:lnTo>
                  <a:pt x="238" y="63"/>
                </a:lnTo>
                <a:lnTo>
                  <a:pt x="253" y="61"/>
                </a:lnTo>
                <a:lnTo>
                  <a:pt x="266" y="57"/>
                </a:lnTo>
                <a:lnTo>
                  <a:pt x="280" y="54"/>
                </a:lnTo>
                <a:lnTo>
                  <a:pt x="293" y="52"/>
                </a:lnTo>
                <a:lnTo>
                  <a:pt x="305" y="48"/>
                </a:lnTo>
                <a:lnTo>
                  <a:pt x="316" y="44"/>
                </a:lnTo>
                <a:lnTo>
                  <a:pt x="326" y="40"/>
                </a:lnTo>
                <a:lnTo>
                  <a:pt x="335" y="36"/>
                </a:lnTo>
                <a:lnTo>
                  <a:pt x="345" y="32"/>
                </a:lnTo>
                <a:lnTo>
                  <a:pt x="353" y="29"/>
                </a:lnTo>
                <a:lnTo>
                  <a:pt x="358" y="25"/>
                </a:lnTo>
                <a:lnTo>
                  <a:pt x="364" y="23"/>
                </a:lnTo>
                <a:lnTo>
                  <a:pt x="370" y="19"/>
                </a:lnTo>
                <a:lnTo>
                  <a:pt x="374" y="17"/>
                </a:lnTo>
                <a:lnTo>
                  <a:pt x="376" y="13"/>
                </a:lnTo>
                <a:lnTo>
                  <a:pt x="381" y="9"/>
                </a:lnTo>
                <a:lnTo>
                  <a:pt x="387" y="6"/>
                </a:lnTo>
                <a:lnTo>
                  <a:pt x="393" y="4"/>
                </a:lnTo>
                <a:lnTo>
                  <a:pt x="401" y="2"/>
                </a:lnTo>
                <a:lnTo>
                  <a:pt x="408" y="2"/>
                </a:lnTo>
                <a:lnTo>
                  <a:pt x="418" y="0"/>
                </a:lnTo>
                <a:lnTo>
                  <a:pt x="435" y="0"/>
                </a:lnTo>
                <a:lnTo>
                  <a:pt x="445" y="2"/>
                </a:lnTo>
                <a:lnTo>
                  <a:pt x="454" y="4"/>
                </a:lnTo>
                <a:lnTo>
                  <a:pt x="466" y="7"/>
                </a:lnTo>
                <a:lnTo>
                  <a:pt x="479" y="11"/>
                </a:lnTo>
                <a:lnTo>
                  <a:pt x="485" y="15"/>
                </a:lnTo>
                <a:lnTo>
                  <a:pt x="493" y="19"/>
                </a:lnTo>
                <a:lnTo>
                  <a:pt x="501" y="23"/>
                </a:lnTo>
                <a:lnTo>
                  <a:pt x="508" y="29"/>
                </a:lnTo>
                <a:lnTo>
                  <a:pt x="516" y="34"/>
                </a:lnTo>
                <a:lnTo>
                  <a:pt x="524" y="40"/>
                </a:lnTo>
                <a:lnTo>
                  <a:pt x="531" y="46"/>
                </a:lnTo>
                <a:lnTo>
                  <a:pt x="541" y="54"/>
                </a:lnTo>
                <a:lnTo>
                  <a:pt x="552" y="67"/>
                </a:lnTo>
                <a:lnTo>
                  <a:pt x="564" y="80"/>
                </a:lnTo>
                <a:lnTo>
                  <a:pt x="573" y="92"/>
                </a:lnTo>
                <a:lnTo>
                  <a:pt x="583" y="103"/>
                </a:lnTo>
                <a:lnTo>
                  <a:pt x="589" y="111"/>
                </a:lnTo>
                <a:lnTo>
                  <a:pt x="593" y="117"/>
                </a:lnTo>
                <a:lnTo>
                  <a:pt x="595" y="121"/>
                </a:lnTo>
                <a:lnTo>
                  <a:pt x="596" y="123"/>
                </a:lnTo>
                <a:lnTo>
                  <a:pt x="598" y="126"/>
                </a:lnTo>
                <a:lnTo>
                  <a:pt x="598" y="130"/>
                </a:lnTo>
                <a:lnTo>
                  <a:pt x="598" y="132"/>
                </a:lnTo>
                <a:lnTo>
                  <a:pt x="598" y="142"/>
                </a:lnTo>
                <a:lnTo>
                  <a:pt x="598" y="148"/>
                </a:lnTo>
                <a:lnTo>
                  <a:pt x="598" y="151"/>
                </a:lnTo>
                <a:lnTo>
                  <a:pt x="596" y="157"/>
                </a:lnTo>
                <a:lnTo>
                  <a:pt x="595" y="163"/>
                </a:lnTo>
                <a:lnTo>
                  <a:pt x="591" y="167"/>
                </a:lnTo>
                <a:lnTo>
                  <a:pt x="587" y="173"/>
                </a:lnTo>
                <a:lnTo>
                  <a:pt x="585" y="176"/>
                </a:lnTo>
                <a:lnTo>
                  <a:pt x="583" y="180"/>
                </a:lnTo>
                <a:lnTo>
                  <a:pt x="581" y="188"/>
                </a:lnTo>
                <a:lnTo>
                  <a:pt x="579" y="197"/>
                </a:lnTo>
                <a:lnTo>
                  <a:pt x="577" y="207"/>
                </a:lnTo>
                <a:lnTo>
                  <a:pt x="575" y="221"/>
                </a:lnTo>
                <a:lnTo>
                  <a:pt x="573" y="234"/>
                </a:lnTo>
                <a:lnTo>
                  <a:pt x="572" y="251"/>
                </a:lnTo>
                <a:lnTo>
                  <a:pt x="570" y="268"/>
                </a:lnTo>
                <a:lnTo>
                  <a:pt x="568" y="290"/>
                </a:lnTo>
                <a:lnTo>
                  <a:pt x="568" y="311"/>
                </a:lnTo>
                <a:lnTo>
                  <a:pt x="566" y="336"/>
                </a:lnTo>
                <a:lnTo>
                  <a:pt x="566" y="361"/>
                </a:lnTo>
                <a:lnTo>
                  <a:pt x="564" y="388"/>
                </a:lnTo>
                <a:lnTo>
                  <a:pt x="564" y="418"/>
                </a:lnTo>
                <a:lnTo>
                  <a:pt x="564" y="449"/>
                </a:lnTo>
                <a:lnTo>
                  <a:pt x="564" y="482"/>
                </a:lnTo>
                <a:lnTo>
                  <a:pt x="564" y="512"/>
                </a:lnTo>
                <a:lnTo>
                  <a:pt x="564" y="541"/>
                </a:lnTo>
                <a:lnTo>
                  <a:pt x="564" y="570"/>
                </a:lnTo>
                <a:lnTo>
                  <a:pt x="564" y="599"/>
                </a:lnTo>
                <a:lnTo>
                  <a:pt x="564" y="626"/>
                </a:lnTo>
                <a:lnTo>
                  <a:pt x="562" y="652"/>
                </a:lnTo>
                <a:lnTo>
                  <a:pt x="562" y="677"/>
                </a:lnTo>
                <a:lnTo>
                  <a:pt x="562" y="702"/>
                </a:lnTo>
                <a:lnTo>
                  <a:pt x="560" y="727"/>
                </a:lnTo>
                <a:lnTo>
                  <a:pt x="560" y="750"/>
                </a:lnTo>
                <a:lnTo>
                  <a:pt x="558" y="773"/>
                </a:lnTo>
                <a:lnTo>
                  <a:pt x="558" y="796"/>
                </a:lnTo>
                <a:lnTo>
                  <a:pt x="556" y="817"/>
                </a:lnTo>
                <a:lnTo>
                  <a:pt x="554" y="839"/>
                </a:lnTo>
                <a:lnTo>
                  <a:pt x="552" y="858"/>
                </a:lnTo>
                <a:lnTo>
                  <a:pt x="550" y="877"/>
                </a:lnTo>
                <a:lnTo>
                  <a:pt x="548" y="894"/>
                </a:lnTo>
                <a:lnTo>
                  <a:pt x="547" y="912"/>
                </a:lnTo>
                <a:lnTo>
                  <a:pt x="545" y="927"/>
                </a:lnTo>
                <a:lnTo>
                  <a:pt x="545" y="942"/>
                </a:lnTo>
                <a:lnTo>
                  <a:pt x="543" y="954"/>
                </a:lnTo>
                <a:lnTo>
                  <a:pt x="541" y="965"/>
                </a:lnTo>
                <a:lnTo>
                  <a:pt x="541" y="977"/>
                </a:lnTo>
                <a:lnTo>
                  <a:pt x="539" y="986"/>
                </a:lnTo>
                <a:lnTo>
                  <a:pt x="539" y="994"/>
                </a:lnTo>
                <a:lnTo>
                  <a:pt x="537" y="1000"/>
                </a:lnTo>
                <a:lnTo>
                  <a:pt x="535" y="1006"/>
                </a:lnTo>
                <a:lnTo>
                  <a:pt x="533" y="1011"/>
                </a:lnTo>
                <a:lnTo>
                  <a:pt x="533" y="1013"/>
                </a:lnTo>
                <a:lnTo>
                  <a:pt x="531" y="1015"/>
                </a:lnTo>
                <a:lnTo>
                  <a:pt x="529" y="1017"/>
                </a:lnTo>
                <a:lnTo>
                  <a:pt x="524" y="1015"/>
                </a:lnTo>
                <a:lnTo>
                  <a:pt x="518" y="1013"/>
                </a:lnTo>
                <a:lnTo>
                  <a:pt x="512" y="1011"/>
                </a:lnTo>
                <a:lnTo>
                  <a:pt x="504" y="1006"/>
                </a:lnTo>
                <a:lnTo>
                  <a:pt x="499" y="1002"/>
                </a:lnTo>
                <a:lnTo>
                  <a:pt x="493" y="994"/>
                </a:lnTo>
                <a:lnTo>
                  <a:pt x="487" y="986"/>
                </a:lnTo>
                <a:lnTo>
                  <a:pt x="481" y="977"/>
                </a:lnTo>
                <a:lnTo>
                  <a:pt x="474" y="967"/>
                </a:lnTo>
                <a:lnTo>
                  <a:pt x="466" y="958"/>
                </a:lnTo>
                <a:lnTo>
                  <a:pt x="460" y="948"/>
                </a:lnTo>
                <a:lnTo>
                  <a:pt x="454" y="938"/>
                </a:lnTo>
                <a:lnTo>
                  <a:pt x="451" y="931"/>
                </a:lnTo>
                <a:lnTo>
                  <a:pt x="449" y="923"/>
                </a:lnTo>
                <a:lnTo>
                  <a:pt x="447" y="915"/>
                </a:lnTo>
                <a:lnTo>
                  <a:pt x="447" y="912"/>
                </a:lnTo>
                <a:lnTo>
                  <a:pt x="447" y="908"/>
                </a:lnTo>
                <a:lnTo>
                  <a:pt x="447" y="904"/>
                </a:lnTo>
                <a:lnTo>
                  <a:pt x="447" y="900"/>
                </a:lnTo>
                <a:lnTo>
                  <a:pt x="447" y="896"/>
                </a:lnTo>
                <a:lnTo>
                  <a:pt x="447" y="890"/>
                </a:lnTo>
                <a:lnTo>
                  <a:pt x="447" y="885"/>
                </a:lnTo>
                <a:lnTo>
                  <a:pt x="447" y="879"/>
                </a:lnTo>
                <a:lnTo>
                  <a:pt x="449" y="871"/>
                </a:lnTo>
                <a:lnTo>
                  <a:pt x="449" y="864"/>
                </a:lnTo>
                <a:lnTo>
                  <a:pt x="449" y="856"/>
                </a:lnTo>
                <a:lnTo>
                  <a:pt x="451" y="846"/>
                </a:lnTo>
                <a:lnTo>
                  <a:pt x="451" y="837"/>
                </a:lnTo>
                <a:lnTo>
                  <a:pt x="453" y="827"/>
                </a:lnTo>
                <a:lnTo>
                  <a:pt x="454" y="816"/>
                </a:lnTo>
                <a:lnTo>
                  <a:pt x="456" y="804"/>
                </a:lnTo>
                <a:lnTo>
                  <a:pt x="458" y="793"/>
                </a:lnTo>
                <a:lnTo>
                  <a:pt x="458" y="779"/>
                </a:lnTo>
                <a:lnTo>
                  <a:pt x="458" y="766"/>
                </a:lnTo>
                <a:lnTo>
                  <a:pt x="458" y="748"/>
                </a:lnTo>
                <a:lnTo>
                  <a:pt x="458" y="733"/>
                </a:lnTo>
                <a:lnTo>
                  <a:pt x="458" y="714"/>
                </a:lnTo>
                <a:lnTo>
                  <a:pt x="456" y="695"/>
                </a:lnTo>
                <a:lnTo>
                  <a:pt x="456" y="675"/>
                </a:lnTo>
                <a:lnTo>
                  <a:pt x="456" y="654"/>
                </a:lnTo>
                <a:lnTo>
                  <a:pt x="456" y="631"/>
                </a:lnTo>
                <a:lnTo>
                  <a:pt x="454" y="606"/>
                </a:lnTo>
                <a:lnTo>
                  <a:pt x="454" y="581"/>
                </a:lnTo>
                <a:lnTo>
                  <a:pt x="453" y="555"/>
                </a:lnTo>
                <a:lnTo>
                  <a:pt x="453" y="528"/>
                </a:lnTo>
                <a:lnTo>
                  <a:pt x="451" y="497"/>
                </a:lnTo>
                <a:lnTo>
                  <a:pt x="449" y="468"/>
                </a:lnTo>
                <a:lnTo>
                  <a:pt x="447" y="4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75"/>
          <p:cNvSpPr/>
          <p:nvPr/>
        </p:nvSpPr>
        <p:spPr>
          <a:xfrm>
            <a:off x="6262560" y="2948040"/>
            <a:ext cx="128880" cy="741240"/>
          </a:xfrm>
          <a:custGeom>
            <a:avLst/>
            <a:gdLst/>
            <a:ahLst/>
            <a:rect l="l" t="t" r="r" b="b"/>
            <a:pathLst>
              <a:path w="161" h="933">
                <a:moveTo>
                  <a:pt x="161" y="21"/>
                </a:moveTo>
                <a:lnTo>
                  <a:pt x="161" y="71"/>
                </a:lnTo>
                <a:lnTo>
                  <a:pt x="161" y="119"/>
                </a:lnTo>
                <a:lnTo>
                  <a:pt x="161" y="167"/>
                </a:lnTo>
                <a:lnTo>
                  <a:pt x="161" y="213"/>
                </a:lnTo>
                <a:lnTo>
                  <a:pt x="161" y="256"/>
                </a:lnTo>
                <a:lnTo>
                  <a:pt x="161" y="298"/>
                </a:lnTo>
                <a:lnTo>
                  <a:pt x="161" y="340"/>
                </a:lnTo>
                <a:lnTo>
                  <a:pt x="161" y="378"/>
                </a:lnTo>
                <a:lnTo>
                  <a:pt x="161" y="417"/>
                </a:lnTo>
                <a:lnTo>
                  <a:pt x="161" y="453"/>
                </a:lnTo>
                <a:lnTo>
                  <a:pt x="161" y="488"/>
                </a:lnTo>
                <a:lnTo>
                  <a:pt x="159" y="520"/>
                </a:lnTo>
                <a:lnTo>
                  <a:pt x="159" y="553"/>
                </a:lnTo>
                <a:lnTo>
                  <a:pt x="159" y="582"/>
                </a:lnTo>
                <a:lnTo>
                  <a:pt x="159" y="611"/>
                </a:lnTo>
                <a:lnTo>
                  <a:pt x="159" y="639"/>
                </a:lnTo>
                <a:lnTo>
                  <a:pt x="159" y="664"/>
                </a:lnTo>
                <a:lnTo>
                  <a:pt x="159" y="689"/>
                </a:lnTo>
                <a:lnTo>
                  <a:pt x="159" y="712"/>
                </a:lnTo>
                <a:lnTo>
                  <a:pt x="157" y="733"/>
                </a:lnTo>
                <a:lnTo>
                  <a:pt x="157" y="753"/>
                </a:lnTo>
                <a:lnTo>
                  <a:pt x="157" y="772"/>
                </a:lnTo>
                <a:lnTo>
                  <a:pt x="157" y="789"/>
                </a:lnTo>
                <a:lnTo>
                  <a:pt x="155" y="804"/>
                </a:lnTo>
                <a:lnTo>
                  <a:pt x="155" y="820"/>
                </a:lnTo>
                <a:lnTo>
                  <a:pt x="155" y="831"/>
                </a:lnTo>
                <a:lnTo>
                  <a:pt x="153" y="843"/>
                </a:lnTo>
                <a:lnTo>
                  <a:pt x="153" y="852"/>
                </a:lnTo>
                <a:lnTo>
                  <a:pt x="151" y="862"/>
                </a:lnTo>
                <a:lnTo>
                  <a:pt x="151" y="870"/>
                </a:lnTo>
                <a:lnTo>
                  <a:pt x="150" y="876"/>
                </a:lnTo>
                <a:lnTo>
                  <a:pt x="150" y="879"/>
                </a:lnTo>
                <a:lnTo>
                  <a:pt x="148" y="887"/>
                </a:lnTo>
                <a:lnTo>
                  <a:pt x="146" y="893"/>
                </a:lnTo>
                <a:lnTo>
                  <a:pt x="142" y="899"/>
                </a:lnTo>
                <a:lnTo>
                  <a:pt x="140" y="904"/>
                </a:lnTo>
                <a:lnTo>
                  <a:pt x="138" y="910"/>
                </a:lnTo>
                <a:lnTo>
                  <a:pt x="136" y="914"/>
                </a:lnTo>
                <a:lnTo>
                  <a:pt x="134" y="918"/>
                </a:lnTo>
                <a:lnTo>
                  <a:pt x="132" y="922"/>
                </a:lnTo>
                <a:lnTo>
                  <a:pt x="126" y="925"/>
                </a:lnTo>
                <a:lnTo>
                  <a:pt x="123" y="929"/>
                </a:lnTo>
                <a:lnTo>
                  <a:pt x="119" y="931"/>
                </a:lnTo>
                <a:lnTo>
                  <a:pt x="113" y="933"/>
                </a:lnTo>
                <a:lnTo>
                  <a:pt x="111" y="931"/>
                </a:lnTo>
                <a:lnTo>
                  <a:pt x="109" y="931"/>
                </a:lnTo>
                <a:lnTo>
                  <a:pt x="107" y="929"/>
                </a:lnTo>
                <a:lnTo>
                  <a:pt x="105" y="927"/>
                </a:lnTo>
                <a:lnTo>
                  <a:pt x="103" y="923"/>
                </a:lnTo>
                <a:lnTo>
                  <a:pt x="100" y="920"/>
                </a:lnTo>
                <a:lnTo>
                  <a:pt x="98" y="916"/>
                </a:lnTo>
                <a:lnTo>
                  <a:pt x="96" y="910"/>
                </a:lnTo>
                <a:lnTo>
                  <a:pt x="94" y="904"/>
                </a:lnTo>
                <a:lnTo>
                  <a:pt x="92" y="899"/>
                </a:lnTo>
                <a:lnTo>
                  <a:pt x="90" y="891"/>
                </a:lnTo>
                <a:lnTo>
                  <a:pt x="88" y="881"/>
                </a:lnTo>
                <a:lnTo>
                  <a:pt x="84" y="874"/>
                </a:lnTo>
                <a:lnTo>
                  <a:pt x="82" y="862"/>
                </a:lnTo>
                <a:lnTo>
                  <a:pt x="80" y="852"/>
                </a:lnTo>
                <a:lnTo>
                  <a:pt x="78" y="841"/>
                </a:lnTo>
                <a:lnTo>
                  <a:pt x="77" y="829"/>
                </a:lnTo>
                <a:lnTo>
                  <a:pt x="75" y="816"/>
                </a:lnTo>
                <a:lnTo>
                  <a:pt x="73" y="803"/>
                </a:lnTo>
                <a:lnTo>
                  <a:pt x="71" y="785"/>
                </a:lnTo>
                <a:lnTo>
                  <a:pt x="69" y="768"/>
                </a:lnTo>
                <a:lnTo>
                  <a:pt x="67" y="747"/>
                </a:lnTo>
                <a:lnTo>
                  <a:pt x="65" y="726"/>
                </a:lnTo>
                <a:lnTo>
                  <a:pt x="63" y="701"/>
                </a:lnTo>
                <a:lnTo>
                  <a:pt x="61" y="676"/>
                </a:lnTo>
                <a:lnTo>
                  <a:pt x="59" y="649"/>
                </a:lnTo>
                <a:lnTo>
                  <a:pt x="57" y="618"/>
                </a:lnTo>
                <a:lnTo>
                  <a:pt x="57" y="588"/>
                </a:lnTo>
                <a:lnTo>
                  <a:pt x="55" y="555"/>
                </a:lnTo>
                <a:lnTo>
                  <a:pt x="55" y="520"/>
                </a:lnTo>
                <a:lnTo>
                  <a:pt x="55" y="482"/>
                </a:lnTo>
                <a:lnTo>
                  <a:pt x="55" y="444"/>
                </a:lnTo>
                <a:lnTo>
                  <a:pt x="55" y="424"/>
                </a:lnTo>
                <a:lnTo>
                  <a:pt x="55" y="405"/>
                </a:lnTo>
                <a:lnTo>
                  <a:pt x="55" y="388"/>
                </a:lnTo>
                <a:lnTo>
                  <a:pt x="54" y="369"/>
                </a:lnTo>
                <a:lnTo>
                  <a:pt x="54" y="351"/>
                </a:lnTo>
                <a:lnTo>
                  <a:pt x="54" y="334"/>
                </a:lnTo>
                <a:lnTo>
                  <a:pt x="54" y="319"/>
                </a:lnTo>
                <a:lnTo>
                  <a:pt x="54" y="304"/>
                </a:lnTo>
                <a:lnTo>
                  <a:pt x="52" y="288"/>
                </a:lnTo>
                <a:lnTo>
                  <a:pt x="52" y="273"/>
                </a:lnTo>
                <a:lnTo>
                  <a:pt x="52" y="259"/>
                </a:lnTo>
                <a:lnTo>
                  <a:pt x="50" y="244"/>
                </a:lnTo>
                <a:lnTo>
                  <a:pt x="50" y="232"/>
                </a:lnTo>
                <a:lnTo>
                  <a:pt x="48" y="219"/>
                </a:lnTo>
                <a:lnTo>
                  <a:pt x="48" y="208"/>
                </a:lnTo>
                <a:lnTo>
                  <a:pt x="46" y="196"/>
                </a:lnTo>
                <a:lnTo>
                  <a:pt x="46" y="184"/>
                </a:lnTo>
                <a:lnTo>
                  <a:pt x="44" y="173"/>
                </a:lnTo>
                <a:lnTo>
                  <a:pt x="42" y="163"/>
                </a:lnTo>
                <a:lnTo>
                  <a:pt x="42" y="154"/>
                </a:lnTo>
                <a:lnTo>
                  <a:pt x="40" y="144"/>
                </a:lnTo>
                <a:lnTo>
                  <a:pt x="38" y="135"/>
                </a:lnTo>
                <a:lnTo>
                  <a:pt x="36" y="127"/>
                </a:lnTo>
                <a:lnTo>
                  <a:pt x="34" y="119"/>
                </a:lnTo>
                <a:lnTo>
                  <a:pt x="34" y="112"/>
                </a:lnTo>
                <a:lnTo>
                  <a:pt x="32" y="106"/>
                </a:lnTo>
                <a:lnTo>
                  <a:pt x="29" y="92"/>
                </a:lnTo>
                <a:lnTo>
                  <a:pt x="25" y="83"/>
                </a:lnTo>
                <a:lnTo>
                  <a:pt x="21" y="75"/>
                </a:lnTo>
                <a:lnTo>
                  <a:pt x="15" y="69"/>
                </a:lnTo>
                <a:lnTo>
                  <a:pt x="11" y="65"/>
                </a:lnTo>
                <a:lnTo>
                  <a:pt x="9" y="60"/>
                </a:lnTo>
                <a:lnTo>
                  <a:pt x="7" y="56"/>
                </a:lnTo>
                <a:lnTo>
                  <a:pt x="4" y="50"/>
                </a:lnTo>
                <a:lnTo>
                  <a:pt x="4" y="46"/>
                </a:lnTo>
                <a:lnTo>
                  <a:pt x="2" y="37"/>
                </a:lnTo>
                <a:lnTo>
                  <a:pt x="0" y="29"/>
                </a:lnTo>
                <a:lnTo>
                  <a:pt x="2" y="21"/>
                </a:lnTo>
                <a:lnTo>
                  <a:pt x="4" y="14"/>
                </a:lnTo>
                <a:lnTo>
                  <a:pt x="7" y="10"/>
                </a:lnTo>
                <a:lnTo>
                  <a:pt x="11" y="6"/>
                </a:lnTo>
                <a:lnTo>
                  <a:pt x="15" y="4"/>
                </a:lnTo>
                <a:lnTo>
                  <a:pt x="19" y="2"/>
                </a:lnTo>
                <a:lnTo>
                  <a:pt x="25" y="2"/>
                </a:lnTo>
                <a:lnTo>
                  <a:pt x="32" y="0"/>
                </a:lnTo>
                <a:lnTo>
                  <a:pt x="40" y="0"/>
                </a:lnTo>
                <a:lnTo>
                  <a:pt x="48" y="0"/>
                </a:lnTo>
                <a:lnTo>
                  <a:pt x="57" y="0"/>
                </a:lnTo>
                <a:lnTo>
                  <a:pt x="69" y="0"/>
                </a:lnTo>
                <a:lnTo>
                  <a:pt x="78" y="2"/>
                </a:lnTo>
                <a:lnTo>
                  <a:pt x="92" y="4"/>
                </a:lnTo>
                <a:lnTo>
                  <a:pt x="103" y="6"/>
                </a:lnTo>
                <a:lnTo>
                  <a:pt x="117" y="10"/>
                </a:lnTo>
                <a:lnTo>
                  <a:pt x="130" y="14"/>
                </a:lnTo>
                <a:lnTo>
                  <a:pt x="146" y="18"/>
                </a:lnTo>
                <a:lnTo>
                  <a:pt x="161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76"/>
          <p:cNvSpPr/>
          <p:nvPr/>
        </p:nvSpPr>
        <p:spPr>
          <a:xfrm>
            <a:off x="5883120" y="2698920"/>
            <a:ext cx="225720" cy="2277720"/>
          </a:xfrm>
          <a:custGeom>
            <a:avLst/>
            <a:gdLst/>
            <a:ahLst/>
            <a:rect l="l" t="t" r="r" b="b"/>
            <a:pathLst>
              <a:path w="284" h="2870">
                <a:moveTo>
                  <a:pt x="86" y="271"/>
                </a:moveTo>
                <a:lnTo>
                  <a:pt x="84" y="252"/>
                </a:lnTo>
                <a:lnTo>
                  <a:pt x="82" y="233"/>
                </a:lnTo>
                <a:lnTo>
                  <a:pt x="80" y="215"/>
                </a:lnTo>
                <a:lnTo>
                  <a:pt x="79" y="200"/>
                </a:lnTo>
                <a:lnTo>
                  <a:pt x="77" y="185"/>
                </a:lnTo>
                <a:lnTo>
                  <a:pt x="73" y="169"/>
                </a:lnTo>
                <a:lnTo>
                  <a:pt x="71" y="156"/>
                </a:lnTo>
                <a:lnTo>
                  <a:pt x="69" y="144"/>
                </a:lnTo>
                <a:lnTo>
                  <a:pt x="67" y="133"/>
                </a:lnTo>
                <a:lnTo>
                  <a:pt x="65" y="123"/>
                </a:lnTo>
                <a:lnTo>
                  <a:pt x="63" y="114"/>
                </a:lnTo>
                <a:lnTo>
                  <a:pt x="61" y="106"/>
                </a:lnTo>
                <a:lnTo>
                  <a:pt x="57" y="100"/>
                </a:lnTo>
                <a:lnTo>
                  <a:pt x="56" y="94"/>
                </a:lnTo>
                <a:lnTo>
                  <a:pt x="54" y="89"/>
                </a:lnTo>
                <a:lnTo>
                  <a:pt x="52" y="87"/>
                </a:lnTo>
                <a:lnTo>
                  <a:pt x="44" y="81"/>
                </a:lnTo>
                <a:lnTo>
                  <a:pt x="36" y="73"/>
                </a:lnTo>
                <a:lnTo>
                  <a:pt x="31" y="66"/>
                </a:lnTo>
                <a:lnTo>
                  <a:pt x="27" y="58"/>
                </a:lnTo>
                <a:lnTo>
                  <a:pt x="25" y="48"/>
                </a:lnTo>
                <a:lnTo>
                  <a:pt x="23" y="41"/>
                </a:lnTo>
                <a:lnTo>
                  <a:pt x="25" y="35"/>
                </a:lnTo>
                <a:lnTo>
                  <a:pt x="25" y="29"/>
                </a:lnTo>
                <a:lnTo>
                  <a:pt x="27" y="25"/>
                </a:lnTo>
                <a:lnTo>
                  <a:pt x="29" y="20"/>
                </a:lnTo>
                <a:lnTo>
                  <a:pt x="29" y="16"/>
                </a:lnTo>
                <a:lnTo>
                  <a:pt x="31" y="12"/>
                </a:lnTo>
                <a:lnTo>
                  <a:pt x="32" y="8"/>
                </a:lnTo>
                <a:lnTo>
                  <a:pt x="34" y="6"/>
                </a:lnTo>
                <a:lnTo>
                  <a:pt x="38" y="2"/>
                </a:lnTo>
                <a:lnTo>
                  <a:pt x="44" y="2"/>
                </a:lnTo>
                <a:lnTo>
                  <a:pt x="50" y="0"/>
                </a:lnTo>
                <a:lnTo>
                  <a:pt x="56" y="0"/>
                </a:lnTo>
                <a:lnTo>
                  <a:pt x="63" y="0"/>
                </a:lnTo>
                <a:lnTo>
                  <a:pt x="73" y="0"/>
                </a:lnTo>
                <a:lnTo>
                  <a:pt x="82" y="2"/>
                </a:lnTo>
                <a:lnTo>
                  <a:pt x="92" y="4"/>
                </a:lnTo>
                <a:lnTo>
                  <a:pt x="103" y="8"/>
                </a:lnTo>
                <a:lnTo>
                  <a:pt x="117" y="12"/>
                </a:lnTo>
                <a:lnTo>
                  <a:pt x="130" y="16"/>
                </a:lnTo>
                <a:lnTo>
                  <a:pt x="146" y="20"/>
                </a:lnTo>
                <a:lnTo>
                  <a:pt x="159" y="25"/>
                </a:lnTo>
                <a:lnTo>
                  <a:pt x="171" y="29"/>
                </a:lnTo>
                <a:lnTo>
                  <a:pt x="182" y="35"/>
                </a:lnTo>
                <a:lnTo>
                  <a:pt x="194" y="41"/>
                </a:lnTo>
                <a:lnTo>
                  <a:pt x="205" y="45"/>
                </a:lnTo>
                <a:lnTo>
                  <a:pt x="215" y="50"/>
                </a:lnTo>
                <a:lnTo>
                  <a:pt x="224" y="54"/>
                </a:lnTo>
                <a:lnTo>
                  <a:pt x="232" y="60"/>
                </a:lnTo>
                <a:lnTo>
                  <a:pt x="240" y="66"/>
                </a:lnTo>
                <a:lnTo>
                  <a:pt x="247" y="70"/>
                </a:lnTo>
                <a:lnTo>
                  <a:pt x="253" y="75"/>
                </a:lnTo>
                <a:lnTo>
                  <a:pt x="259" y="79"/>
                </a:lnTo>
                <a:lnTo>
                  <a:pt x="265" y="85"/>
                </a:lnTo>
                <a:lnTo>
                  <a:pt x="269" y="89"/>
                </a:lnTo>
                <a:lnTo>
                  <a:pt x="272" y="94"/>
                </a:lnTo>
                <a:lnTo>
                  <a:pt x="274" y="100"/>
                </a:lnTo>
                <a:lnTo>
                  <a:pt x="278" y="114"/>
                </a:lnTo>
                <a:lnTo>
                  <a:pt x="282" y="127"/>
                </a:lnTo>
                <a:lnTo>
                  <a:pt x="282" y="141"/>
                </a:lnTo>
                <a:lnTo>
                  <a:pt x="284" y="152"/>
                </a:lnTo>
                <a:lnTo>
                  <a:pt x="282" y="166"/>
                </a:lnTo>
                <a:lnTo>
                  <a:pt x="282" y="177"/>
                </a:lnTo>
                <a:lnTo>
                  <a:pt x="278" y="190"/>
                </a:lnTo>
                <a:lnTo>
                  <a:pt x="274" y="206"/>
                </a:lnTo>
                <a:lnTo>
                  <a:pt x="270" y="221"/>
                </a:lnTo>
                <a:lnTo>
                  <a:pt x="267" y="237"/>
                </a:lnTo>
                <a:lnTo>
                  <a:pt x="261" y="256"/>
                </a:lnTo>
                <a:lnTo>
                  <a:pt x="257" y="275"/>
                </a:lnTo>
                <a:lnTo>
                  <a:pt x="253" y="294"/>
                </a:lnTo>
                <a:lnTo>
                  <a:pt x="247" y="317"/>
                </a:lnTo>
                <a:lnTo>
                  <a:pt x="244" y="338"/>
                </a:lnTo>
                <a:lnTo>
                  <a:pt x="240" y="363"/>
                </a:lnTo>
                <a:lnTo>
                  <a:pt x="238" y="371"/>
                </a:lnTo>
                <a:lnTo>
                  <a:pt x="238" y="379"/>
                </a:lnTo>
                <a:lnTo>
                  <a:pt x="236" y="390"/>
                </a:lnTo>
                <a:lnTo>
                  <a:pt x="236" y="402"/>
                </a:lnTo>
                <a:lnTo>
                  <a:pt x="234" y="417"/>
                </a:lnTo>
                <a:lnTo>
                  <a:pt x="232" y="432"/>
                </a:lnTo>
                <a:lnTo>
                  <a:pt x="232" y="450"/>
                </a:lnTo>
                <a:lnTo>
                  <a:pt x="230" y="469"/>
                </a:lnTo>
                <a:lnTo>
                  <a:pt x="230" y="492"/>
                </a:lnTo>
                <a:lnTo>
                  <a:pt x="228" y="515"/>
                </a:lnTo>
                <a:lnTo>
                  <a:pt x="228" y="540"/>
                </a:lnTo>
                <a:lnTo>
                  <a:pt x="226" y="565"/>
                </a:lnTo>
                <a:lnTo>
                  <a:pt x="224" y="594"/>
                </a:lnTo>
                <a:lnTo>
                  <a:pt x="224" y="624"/>
                </a:lnTo>
                <a:lnTo>
                  <a:pt x="223" y="657"/>
                </a:lnTo>
                <a:lnTo>
                  <a:pt x="223" y="690"/>
                </a:lnTo>
                <a:lnTo>
                  <a:pt x="221" y="726"/>
                </a:lnTo>
                <a:lnTo>
                  <a:pt x="219" y="762"/>
                </a:lnTo>
                <a:lnTo>
                  <a:pt x="219" y="801"/>
                </a:lnTo>
                <a:lnTo>
                  <a:pt x="217" y="843"/>
                </a:lnTo>
                <a:lnTo>
                  <a:pt x="217" y="885"/>
                </a:lnTo>
                <a:lnTo>
                  <a:pt x="215" y="929"/>
                </a:lnTo>
                <a:lnTo>
                  <a:pt x="215" y="976"/>
                </a:lnTo>
                <a:lnTo>
                  <a:pt x="213" y="1024"/>
                </a:lnTo>
                <a:lnTo>
                  <a:pt x="211" y="1073"/>
                </a:lnTo>
                <a:lnTo>
                  <a:pt x="211" y="1125"/>
                </a:lnTo>
                <a:lnTo>
                  <a:pt x="209" y="1179"/>
                </a:lnTo>
                <a:lnTo>
                  <a:pt x="209" y="1233"/>
                </a:lnTo>
                <a:lnTo>
                  <a:pt x="207" y="1290"/>
                </a:lnTo>
                <a:lnTo>
                  <a:pt x="207" y="1350"/>
                </a:lnTo>
                <a:lnTo>
                  <a:pt x="205" y="1409"/>
                </a:lnTo>
                <a:lnTo>
                  <a:pt x="205" y="1473"/>
                </a:lnTo>
                <a:lnTo>
                  <a:pt x="201" y="1534"/>
                </a:lnTo>
                <a:lnTo>
                  <a:pt x="199" y="1596"/>
                </a:lnTo>
                <a:lnTo>
                  <a:pt x="198" y="1653"/>
                </a:lnTo>
                <a:lnTo>
                  <a:pt x="196" y="1711"/>
                </a:lnTo>
                <a:lnTo>
                  <a:pt x="194" y="1766"/>
                </a:lnTo>
                <a:lnTo>
                  <a:pt x="192" y="1820"/>
                </a:lnTo>
                <a:lnTo>
                  <a:pt x="190" y="1874"/>
                </a:lnTo>
                <a:lnTo>
                  <a:pt x="186" y="1924"/>
                </a:lnTo>
                <a:lnTo>
                  <a:pt x="184" y="1974"/>
                </a:lnTo>
                <a:lnTo>
                  <a:pt x="182" y="2022"/>
                </a:lnTo>
                <a:lnTo>
                  <a:pt x="180" y="2068"/>
                </a:lnTo>
                <a:lnTo>
                  <a:pt x="178" y="2112"/>
                </a:lnTo>
                <a:lnTo>
                  <a:pt x="176" y="2156"/>
                </a:lnTo>
                <a:lnTo>
                  <a:pt x="175" y="2196"/>
                </a:lnTo>
                <a:lnTo>
                  <a:pt x="173" y="2237"/>
                </a:lnTo>
                <a:lnTo>
                  <a:pt x="171" y="2275"/>
                </a:lnTo>
                <a:lnTo>
                  <a:pt x="169" y="2311"/>
                </a:lnTo>
                <a:lnTo>
                  <a:pt x="167" y="2346"/>
                </a:lnTo>
                <a:lnTo>
                  <a:pt x="165" y="2381"/>
                </a:lnTo>
                <a:lnTo>
                  <a:pt x="163" y="2411"/>
                </a:lnTo>
                <a:lnTo>
                  <a:pt x="161" y="2442"/>
                </a:lnTo>
                <a:lnTo>
                  <a:pt x="159" y="2471"/>
                </a:lnTo>
                <a:lnTo>
                  <a:pt x="157" y="2498"/>
                </a:lnTo>
                <a:lnTo>
                  <a:pt x="155" y="2523"/>
                </a:lnTo>
                <a:lnTo>
                  <a:pt x="155" y="2548"/>
                </a:lnTo>
                <a:lnTo>
                  <a:pt x="153" y="2571"/>
                </a:lnTo>
                <a:lnTo>
                  <a:pt x="151" y="2590"/>
                </a:lnTo>
                <a:lnTo>
                  <a:pt x="150" y="2611"/>
                </a:lnTo>
                <a:lnTo>
                  <a:pt x="150" y="2628"/>
                </a:lnTo>
                <a:lnTo>
                  <a:pt x="148" y="2644"/>
                </a:lnTo>
                <a:lnTo>
                  <a:pt x="146" y="2659"/>
                </a:lnTo>
                <a:lnTo>
                  <a:pt x="146" y="2672"/>
                </a:lnTo>
                <a:lnTo>
                  <a:pt x="142" y="2695"/>
                </a:lnTo>
                <a:lnTo>
                  <a:pt x="136" y="2718"/>
                </a:lnTo>
                <a:lnTo>
                  <a:pt x="132" y="2740"/>
                </a:lnTo>
                <a:lnTo>
                  <a:pt x="128" y="2759"/>
                </a:lnTo>
                <a:lnTo>
                  <a:pt x="125" y="2776"/>
                </a:lnTo>
                <a:lnTo>
                  <a:pt x="119" y="2793"/>
                </a:lnTo>
                <a:lnTo>
                  <a:pt x="115" y="2807"/>
                </a:lnTo>
                <a:lnTo>
                  <a:pt x="111" y="2820"/>
                </a:lnTo>
                <a:lnTo>
                  <a:pt x="107" y="2832"/>
                </a:lnTo>
                <a:lnTo>
                  <a:pt x="105" y="2841"/>
                </a:lnTo>
                <a:lnTo>
                  <a:pt x="102" y="2851"/>
                </a:lnTo>
                <a:lnTo>
                  <a:pt x="98" y="2859"/>
                </a:lnTo>
                <a:lnTo>
                  <a:pt x="94" y="2862"/>
                </a:lnTo>
                <a:lnTo>
                  <a:pt x="92" y="2866"/>
                </a:lnTo>
                <a:lnTo>
                  <a:pt x="90" y="2870"/>
                </a:lnTo>
                <a:lnTo>
                  <a:pt x="86" y="2870"/>
                </a:lnTo>
                <a:lnTo>
                  <a:pt x="84" y="2870"/>
                </a:lnTo>
                <a:lnTo>
                  <a:pt x="82" y="2868"/>
                </a:lnTo>
                <a:lnTo>
                  <a:pt x="79" y="2864"/>
                </a:lnTo>
                <a:lnTo>
                  <a:pt x="77" y="2860"/>
                </a:lnTo>
                <a:lnTo>
                  <a:pt x="73" y="2855"/>
                </a:lnTo>
                <a:lnTo>
                  <a:pt x="69" y="2849"/>
                </a:lnTo>
                <a:lnTo>
                  <a:pt x="65" y="2841"/>
                </a:lnTo>
                <a:lnTo>
                  <a:pt x="61" y="2832"/>
                </a:lnTo>
                <a:lnTo>
                  <a:pt x="57" y="2822"/>
                </a:lnTo>
                <a:lnTo>
                  <a:pt x="54" y="2811"/>
                </a:lnTo>
                <a:lnTo>
                  <a:pt x="50" y="2799"/>
                </a:lnTo>
                <a:lnTo>
                  <a:pt x="46" y="2786"/>
                </a:lnTo>
                <a:lnTo>
                  <a:pt x="42" y="2772"/>
                </a:lnTo>
                <a:lnTo>
                  <a:pt x="36" y="2757"/>
                </a:lnTo>
                <a:lnTo>
                  <a:pt x="32" y="2741"/>
                </a:lnTo>
                <a:lnTo>
                  <a:pt x="29" y="2724"/>
                </a:lnTo>
                <a:lnTo>
                  <a:pt x="21" y="2692"/>
                </a:lnTo>
                <a:lnTo>
                  <a:pt x="13" y="2659"/>
                </a:lnTo>
                <a:lnTo>
                  <a:pt x="9" y="2644"/>
                </a:lnTo>
                <a:lnTo>
                  <a:pt x="8" y="2628"/>
                </a:lnTo>
                <a:lnTo>
                  <a:pt x="6" y="2613"/>
                </a:lnTo>
                <a:lnTo>
                  <a:pt x="4" y="2599"/>
                </a:lnTo>
                <a:lnTo>
                  <a:pt x="2" y="2586"/>
                </a:lnTo>
                <a:lnTo>
                  <a:pt x="2" y="2574"/>
                </a:lnTo>
                <a:lnTo>
                  <a:pt x="0" y="2561"/>
                </a:lnTo>
                <a:lnTo>
                  <a:pt x="0" y="2549"/>
                </a:lnTo>
                <a:lnTo>
                  <a:pt x="0" y="2540"/>
                </a:lnTo>
                <a:lnTo>
                  <a:pt x="2" y="2530"/>
                </a:lnTo>
                <a:lnTo>
                  <a:pt x="4" y="2521"/>
                </a:lnTo>
                <a:lnTo>
                  <a:pt x="6" y="2513"/>
                </a:lnTo>
                <a:lnTo>
                  <a:pt x="6" y="2509"/>
                </a:lnTo>
                <a:lnTo>
                  <a:pt x="6" y="2505"/>
                </a:lnTo>
                <a:lnTo>
                  <a:pt x="6" y="2500"/>
                </a:lnTo>
                <a:lnTo>
                  <a:pt x="6" y="2494"/>
                </a:lnTo>
                <a:lnTo>
                  <a:pt x="6" y="2488"/>
                </a:lnTo>
                <a:lnTo>
                  <a:pt x="6" y="2482"/>
                </a:lnTo>
                <a:lnTo>
                  <a:pt x="8" y="2475"/>
                </a:lnTo>
                <a:lnTo>
                  <a:pt x="8" y="2467"/>
                </a:lnTo>
                <a:lnTo>
                  <a:pt x="8" y="2459"/>
                </a:lnTo>
                <a:lnTo>
                  <a:pt x="9" y="2450"/>
                </a:lnTo>
                <a:lnTo>
                  <a:pt x="9" y="2440"/>
                </a:lnTo>
                <a:lnTo>
                  <a:pt x="11" y="2430"/>
                </a:lnTo>
                <a:lnTo>
                  <a:pt x="11" y="2421"/>
                </a:lnTo>
                <a:lnTo>
                  <a:pt x="13" y="2409"/>
                </a:lnTo>
                <a:lnTo>
                  <a:pt x="13" y="2398"/>
                </a:lnTo>
                <a:lnTo>
                  <a:pt x="15" y="2386"/>
                </a:lnTo>
                <a:lnTo>
                  <a:pt x="17" y="2375"/>
                </a:lnTo>
                <a:lnTo>
                  <a:pt x="19" y="2361"/>
                </a:lnTo>
                <a:lnTo>
                  <a:pt x="19" y="2348"/>
                </a:lnTo>
                <a:lnTo>
                  <a:pt x="21" y="2335"/>
                </a:lnTo>
                <a:lnTo>
                  <a:pt x="23" y="2321"/>
                </a:lnTo>
                <a:lnTo>
                  <a:pt x="25" y="2306"/>
                </a:lnTo>
                <a:lnTo>
                  <a:pt x="27" y="2290"/>
                </a:lnTo>
                <a:lnTo>
                  <a:pt x="31" y="2275"/>
                </a:lnTo>
                <a:lnTo>
                  <a:pt x="32" y="2258"/>
                </a:lnTo>
                <a:lnTo>
                  <a:pt x="34" y="2240"/>
                </a:lnTo>
                <a:lnTo>
                  <a:pt x="40" y="2206"/>
                </a:lnTo>
                <a:lnTo>
                  <a:pt x="46" y="2169"/>
                </a:lnTo>
                <a:lnTo>
                  <a:pt x="52" y="2131"/>
                </a:lnTo>
                <a:lnTo>
                  <a:pt x="54" y="2112"/>
                </a:lnTo>
                <a:lnTo>
                  <a:pt x="56" y="2091"/>
                </a:lnTo>
                <a:lnTo>
                  <a:pt x="57" y="2068"/>
                </a:lnTo>
                <a:lnTo>
                  <a:pt x="59" y="2047"/>
                </a:lnTo>
                <a:lnTo>
                  <a:pt x="61" y="2022"/>
                </a:lnTo>
                <a:lnTo>
                  <a:pt x="63" y="1999"/>
                </a:lnTo>
                <a:lnTo>
                  <a:pt x="65" y="1974"/>
                </a:lnTo>
                <a:lnTo>
                  <a:pt x="67" y="1949"/>
                </a:lnTo>
                <a:lnTo>
                  <a:pt x="69" y="1922"/>
                </a:lnTo>
                <a:lnTo>
                  <a:pt x="71" y="1895"/>
                </a:lnTo>
                <a:lnTo>
                  <a:pt x="73" y="1868"/>
                </a:lnTo>
                <a:lnTo>
                  <a:pt x="73" y="1839"/>
                </a:lnTo>
                <a:lnTo>
                  <a:pt x="75" y="1809"/>
                </a:lnTo>
                <a:lnTo>
                  <a:pt x="77" y="1780"/>
                </a:lnTo>
                <a:lnTo>
                  <a:pt x="79" y="1749"/>
                </a:lnTo>
                <a:lnTo>
                  <a:pt x="80" y="1716"/>
                </a:lnTo>
                <a:lnTo>
                  <a:pt x="80" y="1686"/>
                </a:lnTo>
                <a:lnTo>
                  <a:pt x="82" y="1651"/>
                </a:lnTo>
                <a:lnTo>
                  <a:pt x="84" y="1619"/>
                </a:lnTo>
                <a:lnTo>
                  <a:pt x="84" y="1584"/>
                </a:lnTo>
                <a:lnTo>
                  <a:pt x="86" y="1549"/>
                </a:lnTo>
                <a:lnTo>
                  <a:pt x="88" y="1513"/>
                </a:lnTo>
                <a:lnTo>
                  <a:pt x="88" y="1477"/>
                </a:lnTo>
                <a:lnTo>
                  <a:pt x="90" y="1440"/>
                </a:lnTo>
                <a:lnTo>
                  <a:pt x="90" y="1402"/>
                </a:lnTo>
                <a:lnTo>
                  <a:pt x="92" y="1363"/>
                </a:lnTo>
                <a:lnTo>
                  <a:pt x="94" y="1323"/>
                </a:lnTo>
                <a:lnTo>
                  <a:pt x="94" y="1283"/>
                </a:lnTo>
                <a:lnTo>
                  <a:pt x="96" y="1242"/>
                </a:lnTo>
                <a:lnTo>
                  <a:pt x="96" y="1200"/>
                </a:lnTo>
                <a:lnTo>
                  <a:pt x="98" y="1158"/>
                </a:lnTo>
                <a:lnTo>
                  <a:pt x="100" y="1116"/>
                </a:lnTo>
                <a:lnTo>
                  <a:pt x="100" y="1072"/>
                </a:lnTo>
                <a:lnTo>
                  <a:pt x="102" y="1031"/>
                </a:lnTo>
                <a:lnTo>
                  <a:pt x="102" y="989"/>
                </a:lnTo>
                <a:lnTo>
                  <a:pt x="102" y="951"/>
                </a:lnTo>
                <a:lnTo>
                  <a:pt x="102" y="912"/>
                </a:lnTo>
                <a:lnTo>
                  <a:pt x="103" y="874"/>
                </a:lnTo>
                <a:lnTo>
                  <a:pt x="103" y="837"/>
                </a:lnTo>
                <a:lnTo>
                  <a:pt x="103" y="801"/>
                </a:lnTo>
                <a:lnTo>
                  <a:pt x="103" y="766"/>
                </a:lnTo>
                <a:lnTo>
                  <a:pt x="103" y="734"/>
                </a:lnTo>
                <a:lnTo>
                  <a:pt x="103" y="701"/>
                </a:lnTo>
                <a:lnTo>
                  <a:pt x="103" y="670"/>
                </a:lnTo>
                <a:lnTo>
                  <a:pt x="103" y="640"/>
                </a:lnTo>
                <a:lnTo>
                  <a:pt x="102" y="611"/>
                </a:lnTo>
                <a:lnTo>
                  <a:pt x="102" y="582"/>
                </a:lnTo>
                <a:lnTo>
                  <a:pt x="102" y="555"/>
                </a:lnTo>
                <a:lnTo>
                  <a:pt x="102" y="528"/>
                </a:lnTo>
                <a:lnTo>
                  <a:pt x="100" y="503"/>
                </a:lnTo>
                <a:lnTo>
                  <a:pt x="100" y="480"/>
                </a:lnTo>
                <a:lnTo>
                  <a:pt x="98" y="457"/>
                </a:lnTo>
                <a:lnTo>
                  <a:pt x="98" y="436"/>
                </a:lnTo>
                <a:lnTo>
                  <a:pt x="98" y="415"/>
                </a:lnTo>
                <a:lnTo>
                  <a:pt x="96" y="396"/>
                </a:lnTo>
                <a:lnTo>
                  <a:pt x="96" y="377"/>
                </a:lnTo>
                <a:lnTo>
                  <a:pt x="94" y="359"/>
                </a:lnTo>
                <a:lnTo>
                  <a:pt x="94" y="344"/>
                </a:lnTo>
                <a:lnTo>
                  <a:pt x="92" y="329"/>
                </a:lnTo>
                <a:lnTo>
                  <a:pt x="92" y="315"/>
                </a:lnTo>
                <a:lnTo>
                  <a:pt x="90" y="302"/>
                </a:lnTo>
                <a:lnTo>
                  <a:pt x="88" y="290"/>
                </a:lnTo>
                <a:lnTo>
                  <a:pt x="88" y="281"/>
                </a:lnTo>
                <a:lnTo>
                  <a:pt x="86" y="2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7"/>
          <p:cNvSpPr/>
          <p:nvPr/>
        </p:nvSpPr>
        <p:spPr>
          <a:xfrm>
            <a:off x="5999040" y="3835440"/>
            <a:ext cx="225720" cy="174600"/>
          </a:xfrm>
          <a:custGeom>
            <a:avLst/>
            <a:gdLst/>
            <a:ahLst/>
            <a:rect l="l" t="t" r="r" b="b"/>
            <a:pathLst>
              <a:path w="284" h="221">
                <a:moveTo>
                  <a:pt x="259" y="92"/>
                </a:moveTo>
                <a:lnTo>
                  <a:pt x="265" y="102"/>
                </a:lnTo>
                <a:lnTo>
                  <a:pt x="268" y="112"/>
                </a:lnTo>
                <a:lnTo>
                  <a:pt x="274" y="121"/>
                </a:lnTo>
                <a:lnTo>
                  <a:pt x="278" y="129"/>
                </a:lnTo>
                <a:lnTo>
                  <a:pt x="280" y="139"/>
                </a:lnTo>
                <a:lnTo>
                  <a:pt x="282" y="146"/>
                </a:lnTo>
                <a:lnTo>
                  <a:pt x="284" y="154"/>
                </a:lnTo>
                <a:lnTo>
                  <a:pt x="284" y="162"/>
                </a:lnTo>
                <a:lnTo>
                  <a:pt x="284" y="169"/>
                </a:lnTo>
                <a:lnTo>
                  <a:pt x="282" y="175"/>
                </a:lnTo>
                <a:lnTo>
                  <a:pt x="280" y="183"/>
                </a:lnTo>
                <a:lnTo>
                  <a:pt x="278" y="188"/>
                </a:lnTo>
                <a:lnTo>
                  <a:pt x="274" y="194"/>
                </a:lnTo>
                <a:lnTo>
                  <a:pt x="268" y="200"/>
                </a:lnTo>
                <a:lnTo>
                  <a:pt x="265" y="206"/>
                </a:lnTo>
                <a:lnTo>
                  <a:pt x="259" y="212"/>
                </a:lnTo>
                <a:lnTo>
                  <a:pt x="255" y="215"/>
                </a:lnTo>
                <a:lnTo>
                  <a:pt x="251" y="217"/>
                </a:lnTo>
                <a:lnTo>
                  <a:pt x="247" y="219"/>
                </a:lnTo>
                <a:lnTo>
                  <a:pt x="242" y="221"/>
                </a:lnTo>
                <a:lnTo>
                  <a:pt x="238" y="221"/>
                </a:lnTo>
                <a:lnTo>
                  <a:pt x="234" y="221"/>
                </a:lnTo>
                <a:lnTo>
                  <a:pt x="228" y="221"/>
                </a:lnTo>
                <a:lnTo>
                  <a:pt x="222" y="219"/>
                </a:lnTo>
                <a:lnTo>
                  <a:pt x="217" y="217"/>
                </a:lnTo>
                <a:lnTo>
                  <a:pt x="211" y="215"/>
                </a:lnTo>
                <a:lnTo>
                  <a:pt x="205" y="212"/>
                </a:lnTo>
                <a:lnTo>
                  <a:pt x="197" y="208"/>
                </a:lnTo>
                <a:lnTo>
                  <a:pt x="190" y="202"/>
                </a:lnTo>
                <a:lnTo>
                  <a:pt x="184" y="198"/>
                </a:lnTo>
                <a:lnTo>
                  <a:pt x="176" y="192"/>
                </a:lnTo>
                <a:lnTo>
                  <a:pt x="169" y="185"/>
                </a:lnTo>
                <a:lnTo>
                  <a:pt x="159" y="179"/>
                </a:lnTo>
                <a:lnTo>
                  <a:pt x="151" y="171"/>
                </a:lnTo>
                <a:lnTo>
                  <a:pt x="142" y="162"/>
                </a:lnTo>
                <a:lnTo>
                  <a:pt x="134" y="154"/>
                </a:lnTo>
                <a:lnTo>
                  <a:pt x="124" y="144"/>
                </a:lnTo>
                <a:lnTo>
                  <a:pt x="115" y="133"/>
                </a:lnTo>
                <a:lnTo>
                  <a:pt x="103" y="123"/>
                </a:lnTo>
                <a:lnTo>
                  <a:pt x="94" y="112"/>
                </a:lnTo>
                <a:lnTo>
                  <a:pt x="82" y="100"/>
                </a:lnTo>
                <a:lnTo>
                  <a:pt x="73" y="87"/>
                </a:lnTo>
                <a:lnTo>
                  <a:pt x="61" y="73"/>
                </a:lnTo>
                <a:lnTo>
                  <a:pt x="50" y="60"/>
                </a:lnTo>
                <a:lnTo>
                  <a:pt x="36" y="46"/>
                </a:lnTo>
                <a:lnTo>
                  <a:pt x="25" y="31"/>
                </a:lnTo>
                <a:lnTo>
                  <a:pt x="13" y="16"/>
                </a:lnTo>
                <a:lnTo>
                  <a:pt x="0" y="0"/>
                </a:lnTo>
                <a:lnTo>
                  <a:pt x="25" y="0"/>
                </a:lnTo>
                <a:lnTo>
                  <a:pt x="50" y="0"/>
                </a:lnTo>
                <a:lnTo>
                  <a:pt x="73" y="2"/>
                </a:lnTo>
                <a:lnTo>
                  <a:pt x="94" y="4"/>
                </a:lnTo>
                <a:lnTo>
                  <a:pt x="115" y="8"/>
                </a:lnTo>
                <a:lnTo>
                  <a:pt x="134" y="12"/>
                </a:lnTo>
                <a:lnTo>
                  <a:pt x="151" y="16"/>
                </a:lnTo>
                <a:lnTo>
                  <a:pt x="169" y="21"/>
                </a:lnTo>
                <a:lnTo>
                  <a:pt x="184" y="27"/>
                </a:lnTo>
                <a:lnTo>
                  <a:pt x="197" y="33"/>
                </a:lnTo>
                <a:lnTo>
                  <a:pt x="211" y="41"/>
                </a:lnTo>
                <a:lnTo>
                  <a:pt x="222" y="50"/>
                </a:lnTo>
                <a:lnTo>
                  <a:pt x="234" y="60"/>
                </a:lnTo>
                <a:lnTo>
                  <a:pt x="243" y="69"/>
                </a:lnTo>
                <a:lnTo>
                  <a:pt x="251" y="81"/>
                </a:lnTo>
                <a:lnTo>
                  <a:pt x="259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8"/>
          <p:cNvSpPr/>
          <p:nvPr/>
        </p:nvSpPr>
        <p:spPr>
          <a:xfrm>
            <a:off x="5437080" y="3467160"/>
            <a:ext cx="579600" cy="1039680"/>
          </a:xfrm>
          <a:custGeom>
            <a:avLst/>
            <a:gdLst/>
            <a:ahLst/>
            <a:rect l="l" t="t" r="r" b="b"/>
            <a:pathLst>
              <a:path w="732" h="1309">
                <a:moveTo>
                  <a:pt x="427" y="871"/>
                </a:moveTo>
                <a:lnTo>
                  <a:pt x="411" y="896"/>
                </a:lnTo>
                <a:lnTo>
                  <a:pt x="396" y="919"/>
                </a:lnTo>
                <a:lnTo>
                  <a:pt x="379" y="942"/>
                </a:lnTo>
                <a:lnTo>
                  <a:pt x="363" y="965"/>
                </a:lnTo>
                <a:lnTo>
                  <a:pt x="346" y="988"/>
                </a:lnTo>
                <a:lnTo>
                  <a:pt x="331" y="1009"/>
                </a:lnTo>
                <a:lnTo>
                  <a:pt x="313" y="1031"/>
                </a:lnTo>
                <a:lnTo>
                  <a:pt x="296" y="1050"/>
                </a:lnTo>
                <a:lnTo>
                  <a:pt x="261" y="1090"/>
                </a:lnTo>
                <a:lnTo>
                  <a:pt x="227" y="1128"/>
                </a:lnTo>
                <a:lnTo>
                  <a:pt x="192" y="1165"/>
                </a:lnTo>
                <a:lnTo>
                  <a:pt x="156" y="1201"/>
                </a:lnTo>
                <a:lnTo>
                  <a:pt x="139" y="1217"/>
                </a:lnTo>
                <a:lnTo>
                  <a:pt x="123" y="1232"/>
                </a:lnTo>
                <a:lnTo>
                  <a:pt x="108" y="1246"/>
                </a:lnTo>
                <a:lnTo>
                  <a:pt x="94" y="1259"/>
                </a:lnTo>
                <a:lnTo>
                  <a:pt x="83" y="1269"/>
                </a:lnTo>
                <a:lnTo>
                  <a:pt x="70" y="1278"/>
                </a:lnTo>
                <a:lnTo>
                  <a:pt x="60" y="1286"/>
                </a:lnTo>
                <a:lnTo>
                  <a:pt x="50" y="1293"/>
                </a:lnTo>
                <a:lnTo>
                  <a:pt x="41" y="1299"/>
                </a:lnTo>
                <a:lnTo>
                  <a:pt x="33" y="1303"/>
                </a:lnTo>
                <a:lnTo>
                  <a:pt x="25" y="1307"/>
                </a:lnTo>
                <a:lnTo>
                  <a:pt x="20" y="1309"/>
                </a:lnTo>
                <a:lnTo>
                  <a:pt x="14" y="1309"/>
                </a:lnTo>
                <a:lnTo>
                  <a:pt x="10" y="1309"/>
                </a:lnTo>
                <a:lnTo>
                  <a:pt x="6" y="1309"/>
                </a:lnTo>
                <a:lnTo>
                  <a:pt x="4" y="1307"/>
                </a:lnTo>
                <a:lnTo>
                  <a:pt x="2" y="1303"/>
                </a:lnTo>
                <a:lnTo>
                  <a:pt x="0" y="1299"/>
                </a:lnTo>
                <a:lnTo>
                  <a:pt x="0" y="1295"/>
                </a:lnTo>
                <a:lnTo>
                  <a:pt x="2" y="1290"/>
                </a:lnTo>
                <a:lnTo>
                  <a:pt x="4" y="1282"/>
                </a:lnTo>
                <a:lnTo>
                  <a:pt x="6" y="1276"/>
                </a:lnTo>
                <a:lnTo>
                  <a:pt x="8" y="1267"/>
                </a:lnTo>
                <a:lnTo>
                  <a:pt x="14" y="1259"/>
                </a:lnTo>
                <a:lnTo>
                  <a:pt x="18" y="1249"/>
                </a:lnTo>
                <a:lnTo>
                  <a:pt x="23" y="1238"/>
                </a:lnTo>
                <a:lnTo>
                  <a:pt x="29" y="1228"/>
                </a:lnTo>
                <a:lnTo>
                  <a:pt x="37" y="1215"/>
                </a:lnTo>
                <a:lnTo>
                  <a:pt x="45" y="1203"/>
                </a:lnTo>
                <a:lnTo>
                  <a:pt x="54" y="1190"/>
                </a:lnTo>
                <a:lnTo>
                  <a:pt x="64" y="1176"/>
                </a:lnTo>
                <a:lnTo>
                  <a:pt x="75" y="1161"/>
                </a:lnTo>
                <a:lnTo>
                  <a:pt x="85" y="1148"/>
                </a:lnTo>
                <a:lnTo>
                  <a:pt x="96" y="1134"/>
                </a:lnTo>
                <a:lnTo>
                  <a:pt x="108" y="1121"/>
                </a:lnTo>
                <a:lnTo>
                  <a:pt x="119" y="1105"/>
                </a:lnTo>
                <a:lnTo>
                  <a:pt x="131" y="1088"/>
                </a:lnTo>
                <a:lnTo>
                  <a:pt x="142" y="1071"/>
                </a:lnTo>
                <a:lnTo>
                  <a:pt x="154" y="1054"/>
                </a:lnTo>
                <a:lnTo>
                  <a:pt x="166" y="1036"/>
                </a:lnTo>
                <a:lnTo>
                  <a:pt x="177" y="1017"/>
                </a:lnTo>
                <a:lnTo>
                  <a:pt x="190" y="998"/>
                </a:lnTo>
                <a:lnTo>
                  <a:pt x="204" y="977"/>
                </a:lnTo>
                <a:lnTo>
                  <a:pt x="217" y="958"/>
                </a:lnTo>
                <a:lnTo>
                  <a:pt x="231" y="936"/>
                </a:lnTo>
                <a:lnTo>
                  <a:pt x="244" y="915"/>
                </a:lnTo>
                <a:lnTo>
                  <a:pt x="260" y="892"/>
                </a:lnTo>
                <a:lnTo>
                  <a:pt x="275" y="871"/>
                </a:lnTo>
                <a:lnTo>
                  <a:pt x="281" y="860"/>
                </a:lnTo>
                <a:lnTo>
                  <a:pt x="288" y="846"/>
                </a:lnTo>
                <a:lnTo>
                  <a:pt x="296" y="833"/>
                </a:lnTo>
                <a:lnTo>
                  <a:pt x="304" y="817"/>
                </a:lnTo>
                <a:lnTo>
                  <a:pt x="311" y="802"/>
                </a:lnTo>
                <a:lnTo>
                  <a:pt x="321" y="787"/>
                </a:lnTo>
                <a:lnTo>
                  <a:pt x="331" y="768"/>
                </a:lnTo>
                <a:lnTo>
                  <a:pt x="340" y="750"/>
                </a:lnTo>
                <a:lnTo>
                  <a:pt x="350" y="729"/>
                </a:lnTo>
                <a:lnTo>
                  <a:pt x="361" y="710"/>
                </a:lnTo>
                <a:lnTo>
                  <a:pt x="373" y="687"/>
                </a:lnTo>
                <a:lnTo>
                  <a:pt x="382" y="666"/>
                </a:lnTo>
                <a:lnTo>
                  <a:pt x="396" y="641"/>
                </a:lnTo>
                <a:lnTo>
                  <a:pt x="407" y="616"/>
                </a:lnTo>
                <a:lnTo>
                  <a:pt x="421" y="591"/>
                </a:lnTo>
                <a:lnTo>
                  <a:pt x="434" y="564"/>
                </a:lnTo>
                <a:lnTo>
                  <a:pt x="448" y="537"/>
                </a:lnTo>
                <a:lnTo>
                  <a:pt x="461" y="508"/>
                </a:lnTo>
                <a:lnTo>
                  <a:pt x="475" y="478"/>
                </a:lnTo>
                <a:lnTo>
                  <a:pt x="490" y="447"/>
                </a:lnTo>
                <a:lnTo>
                  <a:pt x="505" y="416"/>
                </a:lnTo>
                <a:lnTo>
                  <a:pt x="521" y="384"/>
                </a:lnTo>
                <a:lnTo>
                  <a:pt x="536" y="349"/>
                </a:lnTo>
                <a:lnTo>
                  <a:pt x="553" y="315"/>
                </a:lnTo>
                <a:lnTo>
                  <a:pt x="569" y="280"/>
                </a:lnTo>
                <a:lnTo>
                  <a:pt x="586" y="242"/>
                </a:lnTo>
                <a:lnTo>
                  <a:pt x="603" y="205"/>
                </a:lnTo>
                <a:lnTo>
                  <a:pt x="622" y="165"/>
                </a:lnTo>
                <a:lnTo>
                  <a:pt x="640" y="126"/>
                </a:lnTo>
                <a:lnTo>
                  <a:pt x="659" y="84"/>
                </a:lnTo>
                <a:lnTo>
                  <a:pt x="678" y="44"/>
                </a:lnTo>
                <a:lnTo>
                  <a:pt x="697" y="0"/>
                </a:lnTo>
                <a:lnTo>
                  <a:pt x="714" y="126"/>
                </a:lnTo>
                <a:lnTo>
                  <a:pt x="732" y="251"/>
                </a:lnTo>
                <a:lnTo>
                  <a:pt x="713" y="301"/>
                </a:lnTo>
                <a:lnTo>
                  <a:pt x="693" y="351"/>
                </a:lnTo>
                <a:lnTo>
                  <a:pt x="672" y="399"/>
                </a:lnTo>
                <a:lnTo>
                  <a:pt x="653" y="445"/>
                </a:lnTo>
                <a:lnTo>
                  <a:pt x="634" y="489"/>
                </a:lnTo>
                <a:lnTo>
                  <a:pt x="615" y="531"/>
                </a:lnTo>
                <a:lnTo>
                  <a:pt x="595" y="572"/>
                </a:lnTo>
                <a:lnTo>
                  <a:pt x="574" y="610"/>
                </a:lnTo>
                <a:lnTo>
                  <a:pt x="555" y="649"/>
                </a:lnTo>
                <a:lnTo>
                  <a:pt x="536" y="683"/>
                </a:lnTo>
                <a:lnTo>
                  <a:pt x="517" y="718"/>
                </a:lnTo>
                <a:lnTo>
                  <a:pt x="499" y="752"/>
                </a:lnTo>
                <a:lnTo>
                  <a:pt x="480" y="783"/>
                </a:lnTo>
                <a:lnTo>
                  <a:pt x="461" y="814"/>
                </a:lnTo>
                <a:lnTo>
                  <a:pt x="444" y="842"/>
                </a:lnTo>
                <a:lnTo>
                  <a:pt x="427" y="8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79"/>
          <p:cNvSpPr/>
          <p:nvPr/>
        </p:nvSpPr>
        <p:spPr>
          <a:xfrm>
            <a:off x="5495760" y="3416400"/>
            <a:ext cx="773280" cy="261720"/>
          </a:xfrm>
          <a:custGeom>
            <a:avLst/>
            <a:gdLst/>
            <a:ahLst/>
            <a:rect l="l" t="t" r="r" b="b"/>
            <a:pathLst>
              <a:path w="973" h="330">
                <a:moveTo>
                  <a:pt x="46" y="289"/>
                </a:moveTo>
                <a:lnTo>
                  <a:pt x="41" y="284"/>
                </a:lnTo>
                <a:lnTo>
                  <a:pt x="35" y="280"/>
                </a:lnTo>
                <a:lnTo>
                  <a:pt x="29" y="274"/>
                </a:lnTo>
                <a:lnTo>
                  <a:pt x="23" y="270"/>
                </a:lnTo>
                <a:lnTo>
                  <a:pt x="16" y="261"/>
                </a:lnTo>
                <a:lnTo>
                  <a:pt x="10" y="249"/>
                </a:lnTo>
                <a:lnTo>
                  <a:pt x="4" y="239"/>
                </a:lnTo>
                <a:lnTo>
                  <a:pt x="2" y="230"/>
                </a:lnTo>
                <a:lnTo>
                  <a:pt x="0" y="220"/>
                </a:lnTo>
                <a:lnTo>
                  <a:pt x="0" y="211"/>
                </a:lnTo>
                <a:lnTo>
                  <a:pt x="43" y="197"/>
                </a:lnTo>
                <a:lnTo>
                  <a:pt x="83" y="184"/>
                </a:lnTo>
                <a:lnTo>
                  <a:pt x="123" y="170"/>
                </a:lnTo>
                <a:lnTo>
                  <a:pt x="162" y="159"/>
                </a:lnTo>
                <a:lnTo>
                  <a:pt x="200" y="147"/>
                </a:lnTo>
                <a:lnTo>
                  <a:pt x="236" y="136"/>
                </a:lnTo>
                <a:lnTo>
                  <a:pt x="273" y="124"/>
                </a:lnTo>
                <a:lnTo>
                  <a:pt x="307" y="115"/>
                </a:lnTo>
                <a:lnTo>
                  <a:pt x="340" y="105"/>
                </a:lnTo>
                <a:lnTo>
                  <a:pt x="373" y="95"/>
                </a:lnTo>
                <a:lnTo>
                  <a:pt x="403" y="88"/>
                </a:lnTo>
                <a:lnTo>
                  <a:pt x="434" y="78"/>
                </a:lnTo>
                <a:lnTo>
                  <a:pt x="463" y="71"/>
                </a:lnTo>
                <a:lnTo>
                  <a:pt x="490" y="63"/>
                </a:lnTo>
                <a:lnTo>
                  <a:pt x="517" y="55"/>
                </a:lnTo>
                <a:lnTo>
                  <a:pt x="542" y="49"/>
                </a:lnTo>
                <a:lnTo>
                  <a:pt x="567" y="44"/>
                </a:lnTo>
                <a:lnTo>
                  <a:pt x="590" y="38"/>
                </a:lnTo>
                <a:lnTo>
                  <a:pt x="611" y="32"/>
                </a:lnTo>
                <a:lnTo>
                  <a:pt x="632" y="26"/>
                </a:lnTo>
                <a:lnTo>
                  <a:pt x="651" y="23"/>
                </a:lnTo>
                <a:lnTo>
                  <a:pt x="670" y="19"/>
                </a:lnTo>
                <a:lnTo>
                  <a:pt x="687" y="15"/>
                </a:lnTo>
                <a:lnTo>
                  <a:pt x="703" y="11"/>
                </a:lnTo>
                <a:lnTo>
                  <a:pt x="718" y="9"/>
                </a:lnTo>
                <a:lnTo>
                  <a:pt x="732" y="5"/>
                </a:lnTo>
                <a:lnTo>
                  <a:pt x="743" y="3"/>
                </a:lnTo>
                <a:lnTo>
                  <a:pt x="755" y="1"/>
                </a:lnTo>
                <a:lnTo>
                  <a:pt x="764" y="1"/>
                </a:lnTo>
                <a:lnTo>
                  <a:pt x="772" y="0"/>
                </a:lnTo>
                <a:lnTo>
                  <a:pt x="780" y="0"/>
                </a:lnTo>
                <a:lnTo>
                  <a:pt x="787" y="0"/>
                </a:lnTo>
                <a:lnTo>
                  <a:pt x="808" y="0"/>
                </a:lnTo>
                <a:lnTo>
                  <a:pt x="828" y="0"/>
                </a:lnTo>
                <a:lnTo>
                  <a:pt x="847" y="0"/>
                </a:lnTo>
                <a:lnTo>
                  <a:pt x="866" y="1"/>
                </a:lnTo>
                <a:lnTo>
                  <a:pt x="883" y="1"/>
                </a:lnTo>
                <a:lnTo>
                  <a:pt x="899" y="5"/>
                </a:lnTo>
                <a:lnTo>
                  <a:pt x="914" y="7"/>
                </a:lnTo>
                <a:lnTo>
                  <a:pt x="927" y="13"/>
                </a:lnTo>
                <a:lnTo>
                  <a:pt x="933" y="15"/>
                </a:lnTo>
                <a:lnTo>
                  <a:pt x="939" y="19"/>
                </a:lnTo>
                <a:lnTo>
                  <a:pt x="945" y="21"/>
                </a:lnTo>
                <a:lnTo>
                  <a:pt x="949" y="24"/>
                </a:lnTo>
                <a:lnTo>
                  <a:pt x="954" y="28"/>
                </a:lnTo>
                <a:lnTo>
                  <a:pt x="958" y="32"/>
                </a:lnTo>
                <a:lnTo>
                  <a:pt x="964" y="40"/>
                </a:lnTo>
                <a:lnTo>
                  <a:pt x="968" y="46"/>
                </a:lnTo>
                <a:lnTo>
                  <a:pt x="972" y="53"/>
                </a:lnTo>
                <a:lnTo>
                  <a:pt x="973" y="59"/>
                </a:lnTo>
                <a:lnTo>
                  <a:pt x="973" y="65"/>
                </a:lnTo>
                <a:lnTo>
                  <a:pt x="973" y="69"/>
                </a:lnTo>
                <a:lnTo>
                  <a:pt x="973" y="71"/>
                </a:lnTo>
                <a:lnTo>
                  <a:pt x="972" y="74"/>
                </a:lnTo>
                <a:lnTo>
                  <a:pt x="970" y="76"/>
                </a:lnTo>
                <a:lnTo>
                  <a:pt x="966" y="80"/>
                </a:lnTo>
                <a:lnTo>
                  <a:pt x="964" y="84"/>
                </a:lnTo>
                <a:lnTo>
                  <a:pt x="960" y="88"/>
                </a:lnTo>
                <a:lnTo>
                  <a:pt x="954" y="92"/>
                </a:lnTo>
                <a:lnTo>
                  <a:pt x="950" y="95"/>
                </a:lnTo>
                <a:lnTo>
                  <a:pt x="943" y="99"/>
                </a:lnTo>
                <a:lnTo>
                  <a:pt x="937" y="103"/>
                </a:lnTo>
                <a:lnTo>
                  <a:pt x="929" y="105"/>
                </a:lnTo>
                <a:lnTo>
                  <a:pt x="922" y="109"/>
                </a:lnTo>
                <a:lnTo>
                  <a:pt x="912" y="113"/>
                </a:lnTo>
                <a:lnTo>
                  <a:pt x="902" y="115"/>
                </a:lnTo>
                <a:lnTo>
                  <a:pt x="893" y="119"/>
                </a:lnTo>
                <a:lnTo>
                  <a:pt x="879" y="122"/>
                </a:lnTo>
                <a:lnTo>
                  <a:pt x="866" y="128"/>
                </a:lnTo>
                <a:lnTo>
                  <a:pt x="851" y="134"/>
                </a:lnTo>
                <a:lnTo>
                  <a:pt x="835" y="140"/>
                </a:lnTo>
                <a:lnTo>
                  <a:pt x="816" y="147"/>
                </a:lnTo>
                <a:lnTo>
                  <a:pt x="795" y="153"/>
                </a:lnTo>
                <a:lnTo>
                  <a:pt x="772" y="161"/>
                </a:lnTo>
                <a:lnTo>
                  <a:pt x="760" y="165"/>
                </a:lnTo>
                <a:lnTo>
                  <a:pt x="749" y="167"/>
                </a:lnTo>
                <a:lnTo>
                  <a:pt x="735" y="170"/>
                </a:lnTo>
                <a:lnTo>
                  <a:pt x="722" y="174"/>
                </a:lnTo>
                <a:lnTo>
                  <a:pt x="709" y="178"/>
                </a:lnTo>
                <a:lnTo>
                  <a:pt x="693" y="182"/>
                </a:lnTo>
                <a:lnTo>
                  <a:pt x="678" y="186"/>
                </a:lnTo>
                <a:lnTo>
                  <a:pt x="663" y="191"/>
                </a:lnTo>
                <a:lnTo>
                  <a:pt x="647" y="195"/>
                </a:lnTo>
                <a:lnTo>
                  <a:pt x="632" y="199"/>
                </a:lnTo>
                <a:lnTo>
                  <a:pt x="615" y="203"/>
                </a:lnTo>
                <a:lnTo>
                  <a:pt x="597" y="209"/>
                </a:lnTo>
                <a:lnTo>
                  <a:pt x="578" y="213"/>
                </a:lnTo>
                <a:lnTo>
                  <a:pt x="561" y="216"/>
                </a:lnTo>
                <a:lnTo>
                  <a:pt x="542" y="222"/>
                </a:lnTo>
                <a:lnTo>
                  <a:pt x="520" y="226"/>
                </a:lnTo>
                <a:lnTo>
                  <a:pt x="501" y="232"/>
                </a:lnTo>
                <a:lnTo>
                  <a:pt x="480" y="238"/>
                </a:lnTo>
                <a:lnTo>
                  <a:pt x="461" y="243"/>
                </a:lnTo>
                <a:lnTo>
                  <a:pt x="440" y="249"/>
                </a:lnTo>
                <a:lnTo>
                  <a:pt x="421" y="255"/>
                </a:lnTo>
                <a:lnTo>
                  <a:pt x="401" y="261"/>
                </a:lnTo>
                <a:lnTo>
                  <a:pt x="384" y="264"/>
                </a:lnTo>
                <a:lnTo>
                  <a:pt x="367" y="270"/>
                </a:lnTo>
                <a:lnTo>
                  <a:pt x="350" y="274"/>
                </a:lnTo>
                <a:lnTo>
                  <a:pt x="334" y="280"/>
                </a:lnTo>
                <a:lnTo>
                  <a:pt x="317" y="284"/>
                </a:lnTo>
                <a:lnTo>
                  <a:pt x="304" y="287"/>
                </a:lnTo>
                <a:lnTo>
                  <a:pt x="288" y="291"/>
                </a:lnTo>
                <a:lnTo>
                  <a:pt x="275" y="295"/>
                </a:lnTo>
                <a:lnTo>
                  <a:pt x="261" y="299"/>
                </a:lnTo>
                <a:lnTo>
                  <a:pt x="248" y="303"/>
                </a:lnTo>
                <a:lnTo>
                  <a:pt x="236" y="305"/>
                </a:lnTo>
                <a:lnTo>
                  <a:pt x="225" y="309"/>
                </a:lnTo>
                <a:lnTo>
                  <a:pt x="215" y="310"/>
                </a:lnTo>
                <a:lnTo>
                  <a:pt x="204" y="312"/>
                </a:lnTo>
                <a:lnTo>
                  <a:pt x="194" y="316"/>
                </a:lnTo>
                <a:lnTo>
                  <a:pt x="186" y="318"/>
                </a:lnTo>
                <a:lnTo>
                  <a:pt x="179" y="320"/>
                </a:lnTo>
                <a:lnTo>
                  <a:pt x="171" y="322"/>
                </a:lnTo>
                <a:lnTo>
                  <a:pt x="163" y="322"/>
                </a:lnTo>
                <a:lnTo>
                  <a:pt x="158" y="324"/>
                </a:lnTo>
                <a:lnTo>
                  <a:pt x="152" y="326"/>
                </a:lnTo>
                <a:lnTo>
                  <a:pt x="146" y="326"/>
                </a:lnTo>
                <a:lnTo>
                  <a:pt x="142" y="328"/>
                </a:lnTo>
                <a:lnTo>
                  <a:pt x="138" y="328"/>
                </a:lnTo>
                <a:lnTo>
                  <a:pt x="135" y="328"/>
                </a:lnTo>
                <a:lnTo>
                  <a:pt x="133" y="330"/>
                </a:lnTo>
                <a:lnTo>
                  <a:pt x="129" y="330"/>
                </a:lnTo>
                <a:lnTo>
                  <a:pt x="125" y="330"/>
                </a:lnTo>
                <a:lnTo>
                  <a:pt x="123" y="328"/>
                </a:lnTo>
                <a:lnTo>
                  <a:pt x="115" y="326"/>
                </a:lnTo>
                <a:lnTo>
                  <a:pt x="106" y="324"/>
                </a:lnTo>
                <a:lnTo>
                  <a:pt x="96" y="320"/>
                </a:lnTo>
                <a:lnTo>
                  <a:pt x="85" y="314"/>
                </a:lnTo>
                <a:lnTo>
                  <a:pt x="73" y="307"/>
                </a:lnTo>
                <a:lnTo>
                  <a:pt x="60" y="299"/>
                </a:lnTo>
                <a:lnTo>
                  <a:pt x="46" y="2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4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44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汤”略扁； “火”撇、捺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3"/>
          <p:cNvSpPr/>
          <p:nvPr/>
        </p:nvSpPr>
        <p:spPr>
          <a:xfrm>
            <a:off x="2014560" y="186840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95"/>
          <p:cNvSpPr/>
          <p:nvPr/>
        </p:nvSpPr>
        <p:spPr>
          <a:xfrm>
            <a:off x="6630840" y="4054320"/>
            <a:ext cx="547920" cy="379440"/>
          </a:xfrm>
          <a:custGeom>
            <a:avLst/>
            <a:gdLst/>
            <a:ahLst/>
            <a:rect l="l" t="t" r="r" b="b"/>
            <a:pathLst>
              <a:path w="689" h="478">
                <a:moveTo>
                  <a:pt x="424" y="67"/>
                </a:moveTo>
                <a:lnTo>
                  <a:pt x="420" y="61"/>
                </a:lnTo>
                <a:lnTo>
                  <a:pt x="418" y="54"/>
                </a:lnTo>
                <a:lnTo>
                  <a:pt x="416" y="48"/>
                </a:lnTo>
                <a:lnTo>
                  <a:pt x="416" y="44"/>
                </a:lnTo>
                <a:lnTo>
                  <a:pt x="414" y="35"/>
                </a:lnTo>
                <a:lnTo>
                  <a:pt x="414" y="27"/>
                </a:lnTo>
                <a:lnTo>
                  <a:pt x="416" y="23"/>
                </a:lnTo>
                <a:lnTo>
                  <a:pt x="416" y="19"/>
                </a:lnTo>
                <a:lnTo>
                  <a:pt x="418" y="17"/>
                </a:lnTo>
                <a:lnTo>
                  <a:pt x="420" y="13"/>
                </a:lnTo>
                <a:lnTo>
                  <a:pt x="424" y="12"/>
                </a:lnTo>
                <a:lnTo>
                  <a:pt x="428" y="10"/>
                </a:lnTo>
                <a:lnTo>
                  <a:pt x="432" y="6"/>
                </a:lnTo>
                <a:lnTo>
                  <a:pt x="435" y="4"/>
                </a:lnTo>
                <a:lnTo>
                  <a:pt x="439" y="2"/>
                </a:lnTo>
                <a:lnTo>
                  <a:pt x="443" y="0"/>
                </a:lnTo>
                <a:lnTo>
                  <a:pt x="447" y="0"/>
                </a:lnTo>
                <a:lnTo>
                  <a:pt x="453" y="2"/>
                </a:lnTo>
                <a:lnTo>
                  <a:pt x="460" y="2"/>
                </a:lnTo>
                <a:lnTo>
                  <a:pt x="468" y="4"/>
                </a:lnTo>
                <a:lnTo>
                  <a:pt x="476" y="8"/>
                </a:lnTo>
                <a:lnTo>
                  <a:pt x="483" y="10"/>
                </a:lnTo>
                <a:lnTo>
                  <a:pt x="493" y="13"/>
                </a:lnTo>
                <a:lnTo>
                  <a:pt x="505" y="19"/>
                </a:lnTo>
                <a:lnTo>
                  <a:pt x="516" y="23"/>
                </a:lnTo>
                <a:lnTo>
                  <a:pt x="528" y="29"/>
                </a:lnTo>
                <a:lnTo>
                  <a:pt x="541" y="35"/>
                </a:lnTo>
                <a:lnTo>
                  <a:pt x="553" y="42"/>
                </a:lnTo>
                <a:lnTo>
                  <a:pt x="568" y="48"/>
                </a:lnTo>
                <a:lnTo>
                  <a:pt x="581" y="56"/>
                </a:lnTo>
                <a:lnTo>
                  <a:pt x="595" y="65"/>
                </a:lnTo>
                <a:lnTo>
                  <a:pt x="604" y="75"/>
                </a:lnTo>
                <a:lnTo>
                  <a:pt x="616" y="83"/>
                </a:lnTo>
                <a:lnTo>
                  <a:pt x="625" y="92"/>
                </a:lnTo>
                <a:lnTo>
                  <a:pt x="635" y="100"/>
                </a:lnTo>
                <a:lnTo>
                  <a:pt x="645" y="108"/>
                </a:lnTo>
                <a:lnTo>
                  <a:pt x="652" y="115"/>
                </a:lnTo>
                <a:lnTo>
                  <a:pt x="660" y="123"/>
                </a:lnTo>
                <a:lnTo>
                  <a:pt x="666" y="129"/>
                </a:lnTo>
                <a:lnTo>
                  <a:pt x="672" y="136"/>
                </a:lnTo>
                <a:lnTo>
                  <a:pt x="677" y="142"/>
                </a:lnTo>
                <a:lnTo>
                  <a:pt x="681" y="148"/>
                </a:lnTo>
                <a:lnTo>
                  <a:pt x="683" y="156"/>
                </a:lnTo>
                <a:lnTo>
                  <a:pt x="687" y="159"/>
                </a:lnTo>
                <a:lnTo>
                  <a:pt x="687" y="165"/>
                </a:lnTo>
                <a:lnTo>
                  <a:pt x="689" y="171"/>
                </a:lnTo>
                <a:lnTo>
                  <a:pt x="687" y="175"/>
                </a:lnTo>
                <a:lnTo>
                  <a:pt x="685" y="180"/>
                </a:lnTo>
                <a:lnTo>
                  <a:pt x="683" y="186"/>
                </a:lnTo>
                <a:lnTo>
                  <a:pt x="677" y="192"/>
                </a:lnTo>
                <a:lnTo>
                  <a:pt x="672" y="198"/>
                </a:lnTo>
                <a:lnTo>
                  <a:pt x="666" y="203"/>
                </a:lnTo>
                <a:lnTo>
                  <a:pt x="658" y="211"/>
                </a:lnTo>
                <a:lnTo>
                  <a:pt x="649" y="217"/>
                </a:lnTo>
                <a:lnTo>
                  <a:pt x="637" y="225"/>
                </a:lnTo>
                <a:lnTo>
                  <a:pt x="625" y="232"/>
                </a:lnTo>
                <a:lnTo>
                  <a:pt x="612" y="240"/>
                </a:lnTo>
                <a:lnTo>
                  <a:pt x="599" y="250"/>
                </a:lnTo>
                <a:lnTo>
                  <a:pt x="583" y="257"/>
                </a:lnTo>
                <a:lnTo>
                  <a:pt x="566" y="267"/>
                </a:lnTo>
                <a:lnTo>
                  <a:pt x="549" y="276"/>
                </a:lnTo>
                <a:lnTo>
                  <a:pt x="530" y="286"/>
                </a:lnTo>
                <a:lnTo>
                  <a:pt x="506" y="296"/>
                </a:lnTo>
                <a:lnTo>
                  <a:pt x="483" y="305"/>
                </a:lnTo>
                <a:lnTo>
                  <a:pt x="458" y="315"/>
                </a:lnTo>
                <a:lnTo>
                  <a:pt x="432" y="326"/>
                </a:lnTo>
                <a:lnTo>
                  <a:pt x="405" y="338"/>
                </a:lnTo>
                <a:lnTo>
                  <a:pt x="378" y="347"/>
                </a:lnTo>
                <a:lnTo>
                  <a:pt x="349" y="359"/>
                </a:lnTo>
                <a:lnTo>
                  <a:pt x="320" y="370"/>
                </a:lnTo>
                <a:lnTo>
                  <a:pt x="290" y="384"/>
                </a:lnTo>
                <a:lnTo>
                  <a:pt x="259" y="395"/>
                </a:lnTo>
                <a:lnTo>
                  <a:pt x="226" y="409"/>
                </a:lnTo>
                <a:lnTo>
                  <a:pt x="194" y="422"/>
                </a:lnTo>
                <a:lnTo>
                  <a:pt x="159" y="434"/>
                </a:lnTo>
                <a:lnTo>
                  <a:pt x="124" y="449"/>
                </a:lnTo>
                <a:lnTo>
                  <a:pt x="88" y="463"/>
                </a:lnTo>
                <a:lnTo>
                  <a:pt x="52" y="478"/>
                </a:lnTo>
                <a:lnTo>
                  <a:pt x="25" y="459"/>
                </a:lnTo>
                <a:lnTo>
                  <a:pt x="0" y="440"/>
                </a:lnTo>
                <a:lnTo>
                  <a:pt x="30" y="417"/>
                </a:lnTo>
                <a:lnTo>
                  <a:pt x="61" y="397"/>
                </a:lnTo>
                <a:lnTo>
                  <a:pt x="90" y="378"/>
                </a:lnTo>
                <a:lnTo>
                  <a:pt x="117" y="359"/>
                </a:lnTo>
                <a:lnTo>
                  <a:pt x="144" y="340"/>
                </a:lnTo>
                <a:lnTo>
                  <a:pt x="171" y="324"/>
                </a:lnTo>
                <a:lnTo>
                  <a:pt x="194" y="307"/>
                </a:lnTo>
                <a:lnTo>
                  <a:pt x="217" y="292"/>
                </a:lnTo>
                <a:lnTo>
                  <a:pt x="240" y="276"/>
                </a:lnTo>
                <a:lnTo>
                  <a:pt x="259" y="261"/>
                </a:lnTo>
                <a:lnTo>
                  <a:pt x="280" y="248"/>
                </a:lnTo>
                <a:lnTo>
                  <a:pt x="297" y="234"/>
                </a:lnTo>
                <a:lnTo>
                  <a:pt x="315" y="221"/>
                </a:lnTo>
                <a:lnTo>
                  <a:pt x="330" y="207"/>
                </a:lnTo>
                <a:lnTo>
                  <a:pt x="343" y="196"/>
                </a:lnTo>
                <a:lnTo>
                  <a:pt x="357" y="182"/>
                </a:lnTo>
                <a:lnTo>
                  <a:pt x="368" y="173"/>
                </a:lnTo>
                <a:lnTo>
                  <a:pt x="380" y="163"/>
                </a:lnTo>
                <a:lnTo>
                  <a:pt x="389" y="156"/>
                </a:lnTo>
                <a:lnTo>
                  <a:pt x="397" y="146"/>
                </a:lnTo>
                <a:lnTo>
                  <a:pt x="405" y="138"/>
                </a:lnTo>
                <a:lnTo>
                  <a:pt x="410" y="131"/>
                </a:lnTo>
                <a:lnTo>
                  <a:pt x="414" y="123"/>
                </a:lnTo>
                <a:lnTo>
                  <a:pt x="420" y="115"/>
                </a:lnTo>
                <a:lnTo>
                  <a:pt x="422" y="109"/>
                </a:lnTo>
                <a:lnTo>
                  <a:pt x="426" y="102"/>
                </a:lnTo>
                <a:lnTo>
                  <a:pt x="426" y="96"/>
                </a:lnTo>
                <a:lnTo>
                  <a:pt x="428" y="90"/>
                </a:lnTo>
                <a:lnTo>
                  <a:pt x="428" y="84"/>
                </a:lnTo>
                <a:lnTo>
                  <a:pt x="426" y="79"/>
                </a:lnTo>
                <a:lnTo>
                  <a:pt x="426" y="73"/>
                </a:lnTo>
                <a:lnTo>
                  <a:pt x="424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96"/>
          <p:cNvSpPr/>
          <p:nvPr/>
        </p:nvSpPr>
        <p:spPr>
          <a:xfrm>
            <a:off x="6410160" y="4210200"/>
            <a:ext cx="1389240" cy="771480"/>
          </a:xfrm>
          <a:custGeom>
            <a:avLst/>
            <a:gdLst/>
            <a:ahLst/>
            <a:rect l="l" t="t" r="r" b="b"/>
            <a:pathLst>
              <a:path w="1749" h="971">
                <a:moveTo>
                  <a:pt x="981" y="971"/>
                </a:moveTo>
                <a:lnTo>
                  <a:pt x="972" y="969"/>
                </a:lnTo>
                <a:lnTo>
                  <a:pt x="964" y="963"/>
                </a:lnTo>
                <a:lnTo>
                  <a:pt x="954" y="960"/>
                </a:lnTo>
                <a:lnTo>
                  <a:pt x="943" y="952"/>
                </a:lnTo>
                <a:lnTo>
                  <a:pt x="931" y="944"/>
                </a:lnTo>
                <a:lnTo>
                  <a:pt x="918" y="935"/>
                </a:lnTo>
                <a:lnTo>
                  <a:pt x="904" y="925"/>
                </a:lnTo>
                <a:lnTo>
                  <a:pt x="889" y="913"/>
                </a:lnTo>
                <a:lnTo>
                  <a:pt x="872" y="900"/>
                </a:lnTo>
                <a:lnTo>
                  <a:pt x="855" y="885"/>
                </a:lnTo>
                <a:lnTo>
                  <a:pt x="837" y="869"/>
                </a:lnTo>
                <a:lnTo>
                  <a:pt x="818" y="852"/>
                </a:lnTo>
                <a:lnTo>
                  <a:pt x="797" y="833"/>
                </a:lnTo>
                <a:lnTo>
                  <a:pt x="776" y="812"/>
                </a:lnTo>
                <a:lnTo>
                  <a:pt x="753" y="791"/>
                </a:lnTo>
                <a:lnTo>
                  <a:pt x="728" y="768"/>
                </a:lnTo>
                <a:lnTo>
                  <a:pt x="714" y="754"/>
                </a:lnTo>
                <a:lnTo>
                  <a:pt x="701" y="741"/>
                </a:lnTo>
                <a:lnTo>
                  <a:pt x="686" y="727"/>
                </a:lnTo>
                <a:lnTo>
                  <a:pt x="670" y="714"/>
                </a:lnTo>
                <a:lnTo>
                  <a:pt x="653" y="698"/>
                </a:lnTo>
                <a:lnTo>
                  <a:pt x="638" y="683"/>
                </a:lnTo>
                <a:lnTo>
                  <a:pt x="620" y="668"/>
                </a:lnTo>
                <a:lnTo>
                  <a:pt x="601" y="651"/>
                </a:lnTo>
                <a:lnTo>
                  <a:pt x="584" y="635"/>
                </a:lnTo>
                <a:lnTo>
                  <a:pt x="565" y="616"/>
                </a:lnTo>
                <a:lnTo>
                  <a:pt x="544" y="599"/>
                </a:lnTo>
                <a:lnTo>
                  <a:pt x="524" y="579"/>
                </a:lnTo>
                <a:lnTo>
                  <a:pt x="503" y="560"/>
                </a:lnTo>
                <a:lnTo>
                  <a:pt x="482" y="539"/>
                </a:lnTo>
                <a:lnTo>
                  <a:pt x="461" y="518"/>
                </a:lnTo>
                <a:lnTo>
                  <a:pt x="438" y="497"/>
                </a:lnTo>
                <a:lnTo>
                  <a:pt x="415" y="476"/>
                </a:lnTo>
                <a:lnTo>
                  <a:pt x="390" y="453"/>
                </a:lnTo>
                <a:lnTo>
                  <a:pt x="367" y="430"/>
                </a:lnTo>
                <a:lnTo>
                  <a:pt x="342" y="405"/>
                </a:lnTo>
                <a:lnTo>
                  <a:pt x="317" y="380"/>
                </a:lnTo>
                <a:lnTo>
                  <a:pt x="290" y="355"/>
                </a:lnTo>
                <a:lnTo>
                  <a:pt x="263" y="330"/>
                </a:lnTo>
                <a:lnTo>
                  <a:pt x="237" y="303"/>
                </a:lnTo>
                <a:lnTo>
                  <a:pt x="210" y="274"/>
                </a:lnTo>
                <a:lnTo>
                  <a:pt x="181" y="247"/>
                </a:lnTo>
                <a:lnTo>
                  <a:pt x="152" y="219"/>
                </a:lnTo>
                <a:lnTo>
                  <a:pt x="123" y="188"/>
                </a:lnTo>
                <a:lnTo>
                  <a:pt x="93" y="159"/>
                </a:lnTo>
                <a:lnTo>
                  <a:pt x="62" y="128"/>
                </a:lnTo>
                <a:lnTo>
                  <a:pt x="31" y="96"/>
                </a:lnTo>
                <a:lnTo>
                  <a:pt x="0" y="63"/>
                </a:lnTo>
                <a:lnTo>
                  <a:pt x="25" y="32"/>
                </a:lnTo>
                <a:lnTo>
                  <a:pt x="52" y="0"/>
                </a:lnTo>
                <a:lnTo>
                  <a:pt x="81" y="23"/>
                </a:lnTo>
                <a:lnTo>
                  <a:pt x="108" y="46"/>
                </a:lnTo>
                <a:lnTo>
                  <a:pt x="137" y="67"/>
                </a:lnTo>
                <a:lnTo>
                  <a:pt x="164" y="88"/>
                </a:lnTo>
                <a:lnTo>
                  <a:pt x="190" y="109"/>
                </a:lnTo>
                <a:lnTo>
                  <a:pt x="215" y="128"/>
                </a:lnTo>
                <a:lnTo>
                  <a:pt x="267" y="169"/>
                </a:lnTo>
                <a:lnTo>
                  <a:pt x="317" y="205"/>
                </a:lnTo>
                <a:lnTo>
                  <a:pt x="365" y="242"/>
                </a:lnTo>
                <a:lnTo>
                  <a:pt x="413" y="276"/>
                </a:lnTo>
                <a:lnTo>
                  <a:pt x="457" y="307"/>
                </a:lnTo>
                <a:lnTo>
                  <a:pt x="501" y="338"/>
                </a:lnTo>
                <a:lnTo>
                  <a:pt x="544" y="366"/>
                </a:lnTo>
                <a:lnTo>
                  <a:pt x="582" y="391"/>
                </a:lnTo>
                <a:lnTo>
                  <a:pt x="620" y="416"/>
                </a:lnTo>
                <a:lnTo>
                  <a:pt x="657" y="439"/>
                </a:lnTo>
                <a:lnTo>
                  <a:pt x="691" y="460"/>
                </a:lnTo>
                <a:lnTo>
                  <a:pt x="724" y="480"/>
                </a:lnTo>
                <a:lnTo>
                  <a:pt x="739" y="489"/>
                </a:lnTo>
                <a:lnTo>
                  <a:pt x="755" y="499"/>
                </a:lnTo>
                <a:lnTo>
                  <a:pt x="785" y="516"/>
                </a:lnTo>
                <a:lnTo>
                  <a:pt x="816" y="532"/>
                </a:lnTo>
                <a:lnTo>
                  <a:pt x="849" y="547"/>
                </a:lnTo>
                <a:lnTo>
                  <a:pt x="883" y="564"/>
                </a:lnTo>
                <a:lnTo>
                  <a:pt x="918" y="579"/>
                </a:lnTo>
                <a:lnTo>
                  <a:pt x="954" y="595"/>
                </a:lnTo>
                <a:lnTo>
                  <a:pt x="993" y="608"/>
                </a:lnTo>
                <a:lnTo>
                  <a:pt x="1031" y="624"/>
                </a:lnTo>
                <a:lnTo>
                  <a:pt x="1071" y="637"/>
                </a:lnTo>
                <a:lnTo>
                  <a:pt x="1112" y="651"/>
                </a:lnTo>
                <a:lnTo>
                  <a:pt x="1154" y="664"/>
                </a:lnTo>
                <a:lnTo>
                  <a:pt x="1196" y="677"/>
                </a:lnTo>
                <a:lnTo>
                  <a:pt x="1240" y="691"/>
                </a:lnTo>
                <a:lnTo>
                  <a:pt x="1285" y="704"/>
                </a:lnTo>
                <a:lnTo>
                  <a:pt x="1331" y="716"/>
                </a:lnTo>
                <a:lnTo>
                  <a:pt x="1379" y="729"/>
                </a:lnTo>
                <a:lnTo>
                  <a:pt x="1402" y="735"/>
                </a:lnTo>
                <a:lnTo>
                  <a:pt x="1423" y="741"/>
                </a:lnTo>
                <a:lnTo>
                  <a:pt x="1446" y="746"/>
                </a:lnTo>
                <a:lnTo>
                  <a:pt x="1465" y="752"/>
                </a:lnTo>
                <a:lnTo>
                  <a:pt x="1486" y="756"/>
                </a:lnTo>
                <a:lnTo>
                  <a:pt x="1505" y="762"/>
                </a:lnTo>
                <a:lnTo>
                  <a:pt x="1524" y="768"/>
                </a:lnTo>
                <a:lnTo>
                  <a:pt x="1542" y="771"/>
                </a:lnTo>
                <a:lnTo>
                  <a:pt x="1559" y="777"/>
                </a:lnTo>
                <a:lnTo>
                  <a:pt x="1574" y="781"/>
                </a:lnTo>
                <a:lnTo>
                  <a:pt x="1592" y="787"/>
                </a:lnTo>
                <a:lnTo>
                  <a:pt x="1605" y="791"/>
                </a:lnTo>
                <a:lnTo>
                  <a:pt x="1620" y="794"/>
                </a:lnTo>
                <a:lnTo>
                  <a:pt x="1634" y="798"/>
                </a:lnTo>
                <a:lnTo>
                  <a:pt x="1645" y="802"/>
                </a:lnTo>
                <a:lnTo>
                  <a:pt x="1657" y="806"/>
                </a:lnTo>
                <a:lnTo>
                  <a:pt x="1668" y="810"/>
                </a:lnTo>
                <a:lnTo>
                  <a:pt x="1680" y="812"/>
                </a:lnTo>
                <a:lnTo>
                  <a:pt x="1690" y="816"/>
                </a:lnTo>
                <a:lnTo>
                  <a:pt x="1697" y="819"/>
                </a:lnTo>
                <a:lnTo>
                  <a:pt x="1707" y="821"/>
                </a:lnTo>
                <a:lnTo>
                  <a:pt x="1714" y="825"/>
                </a:lnTo>
                <a:lnTo>
                  <a:pt x="1720" y="827"/>
                </a:lnTo>
                <a:lnTo>
                  <a:pt x="1726" y="829"/>
                </a:lnTo>
                <a:lnTo>
                  <a:pt x="1732" y="831"/>
                </a:lnTo>
                <a:lnTo>
                  <a:pt x="1736" y="833"/>
                </a:lnTo>
                <a:lnTo>
                  <a:pt x="1739" y="837"/>
                </a:lnTo>
                <a:lnTo>
                  <a:pt x="1743" y="837"/>
                </a:lnTo>
                <a:lnTo>
                  <a:pt x="1745" y="839"/>
                </a:lnTo>
                <a:lnTo>
                  <a:pt x="1747" y="841"/>
                </a:lnTo>
                <a:lnTo>
                  <a:pt x="1749" y="842"/>
                </a:lnTo>
                <a:lnTo>
                  <a:pt x="1749" y="844"/>
                </a:lnTo>
                <a:lnTo>
                  <a:pt x="1749" y="846"/>
                </a:lnTo>
                <a:lnTo>
                  <a:pt x="1747" y="848"/>
                </a:lnTo>
                <a:lnTo>
                  <a:pt x="1743" y="850"/>
                </a:lnTo>
                <a:lnTo>
                  <a:pt x="1739" y="854"/>
                </a:lnTo>
                <a:lnTo>
                  <a:pt x="1734" y="856"/>
                </a:lnTo>
                <a:lnTo>
                  <a:pt x="1726" y="858"/>
                </a:lnTo>
                <a:lnTo>
                  <a:pt x="1718" y="862"/>
                </a:lnTo>
                <a:lnTo>
                  <a:pt x="1707" y="864"/>
                </a:lnTo>
                <a:lnTo>
                  <a:pt x="1697" y="867"/>
                </a:lnTo>
                <a:lnTo>
                  <a:pt x="1684" y="871"/>
                </a:lnTo>
                <a:lnTo>
                  <a:pt x="1670" y="873"/>
                </a:lnTo>
                <a:lnTo>
                  <a:pt x="1653" y="877"/>
                </a:lnTo>
                <a:lnTo>
                  <a:pt x="1638" y="881"/>
                </a:lnTo>
                <a:lnTo>
                  <a:pt x="1619" y="885"/>
                </a:lnTo>
                <a:lnTo>
                  <a:pt x="1597" y="890"/>
                </a:lnTo>
                <a:lnTo>
                  <a:pt x="1576" y="894"/>
                </a:lnTo>
                <a:lnTo>
                  <a:pt x="1488" y="913"/>
                </a:lnTo>
                <a:lnTo>
                  <a:pt x="1442" y="923"/>
                </a:lnTo>
                <a:lnTo>
                  <a:pt x="1398" y="931"/>
                </a:lnTo>
                <a:lnTo>
                  <a:pt x="1354" y="940"/>
                </a:lnTo>
                <a:lnTo>
                  <a:pt x="1308" y="946"/>
                </a:lnTo>
                <a:lnTo>
                  <a:pt x="1263" y="954"/>
                </a:lnTo>
                <a:lnTo>
                  <a:pt x="1219" y="960"/>
                </a:lnTo>
                <a:lnTo>
                  <a:pt x="1196" y="961"/>
                </a:lnTo>
                <a:lnTo>
                  <a:pt x="1175" y="963"/>
                </a:lnTo>
                <a:lnTo>
                  <a:pt x="1156" y="965"/>
                </a:lnTo>
                <a:lnTo>
                  <a:pt x="1137" y="965"/>
                </a:lnTo>
                <a:lnTo>
                  <a:pt x="1119" y="967"/>
                </a:lnTo>
                <a:lnTo>
                  <a:pt x="1102" y="969"/>
                </a:lnTo>
                <a:lnTo>
                  <a:pt x="1085" y="969"/>
                </a:lnTo>
                <a:lnTo>
                  <a:pt x="1070" y="969"/>
                </a:lnTo>
                <a:lnTo>
                  <a:pt x="1056" y="971"/>
                </a:lnTo>
                <a:lnTo>
                  <a:pt x="1043" y="971"/>
                </a:lnTo>
                <a:lnTo>
                  <a:pt x="1029" y="971"/>
                </a:lnTo>
                <a:lnTo>
                  <a:pt x="1018" y="971"/>
                </a:lnTo>
                <a:lnTo>
                  <a:pt x="1006" y="971"/>
                </a:lnTo>
                <a:lnTo>
                  <a:pt x="997" y="971"/>
                </a:lnTo>
                <a:lnTo>
                  <a:pt x="989" y="971"/>
                </a:lnTo>
                <a:lnTo>
                  <a:pt x="981" y="9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97"/>
          <p:cNvSpPr/>
          <p:nvPr/>
        </p:nvSpPr>
        <p:spPr>
          <a:xfrm>
            <a:off x="5516640" y="3941640"/>
            <a:ext cx="1050840" cy="1030320"/>
          </a:xfrm>
          <a:custGeom>
            <a:avLst/>
            <a:gdLst/>
            <a:ahLst/>
            <a:rect l="l" t="t" r="r" b="b"/>
            <a:pathLst>
              <a:path w="1324" h="1298">
                <a:moveTo>
                  <a:pt x="648" y="952"/>
                </a:moveTo>
                <a:lnTo>
                  <a:pt x="670" y="935"/>
                </a:lnTo>
                <a:lnTo>
                  <a:pt x="693" y="917"/>
                </a:lnTo>
                <a:lnTo>
                  <a:pt x="735" y="879"/>
                </a:lnTo>
                <a:lnTo>
                  <a:pt x="756" y="860"/>
                </a:lnTo>
                <a:lnTo>
                  <a:pt x="775" y="841"/>
                </a:lnTo>
                <a:lnTo>
                  <a:pt x="794" y="822"/>
                </a:lnTo>
                <a:lnTo>
                  <a:pt x="814" y="800"/>
                </a:lnTo>
                <a:lnTo>
                  <a:pt x="833" y="781"/>
                </a:lnTo>
                <a:lnTo>
                  <a:pt x="850" y="760"/>
                </a:lnTo>
                <a:lnTo>
                  <a:pt x="867" y="739"/>
                </a:lnTo>
                <a:lnTo>
                  <a:pt x="883" y="718"/>
                </a:lnTo>
                <a:lnTo>
                  <a:pt x="898" y="697"/>
                </a:lnTo>
                <a:lnTo>
                  <a:pt x="913" y="676"/>
                </a:lnTo>
                <a:lnTo>
                  <a:pt x="927" y="655"/>
                </a:lnTo>
                <a:lnTo>
                  <a:pt x="940" y="631"/>
                </a:lnTo>
                <a:lnTo>
                  <a:pt x="963" y="587"/>
                </a:lnTo>
                <a:lnTo>
                  <a:pt x="986" y="543"/>
                </a:lnTo>
                <a:lnTo>
                  <a:pt x="996" y="520"/>
                </a:lnTo>
                <a:lnTo>
                  <a:pt x="1007" y="499"/>
                </a:lnTo>
                <a:lnTo>
                  <a:pt x="1017" y="476"/>
                </a:lnTo>
                <a:lnTo>
                  <a:pt x="1027" y="453"/>
                </a:lnTo>
                <a:lnTo>
                  <a:pt x="1034" y="430"/>
                </a:lnTo>
                <a:lnTo>
                  <a:pt x="1042" y="407"/>
                </a:lnTo>
                <a:lnTo>
                  <a:pt x="1050" y="384"/>
                </a:lnTo>
                <a:lnTo>
                  <a:pt x="1055" y="363"/>
                </a:lnTo>
                <a:lnTo>
                  <a:pt x="1061" y="340"/>
                </a:lnTo>
                <a:lnTo>
                  <a:pt x="1065" y="317"/>
                </a:lnTo>
                <a:lnTo>
                  <a:pt x="1069" y="296"/>
                </a:lnTo>
                <a:lnTo>
                  <a:pt x="1073" y="274"/>
                </a:lnTo>
                <a:lnTo>
                  <a:pt x="1075" y="253"/>
                </a:lnTo>
                <a:lnTo>
                  <a:pt x="1077" y="234"/>
                </a:lnTo>
                <a:lnTo>
                  <a:pt x="1078" y="215"/>
                </a:lnTo>
                <a:lnTo>
                  <a:pt x="1080" y="198"/>
                </a:lnTo>
                <a:lnTo>
                  <a:pt x="1080" y="180"/>
                </a:lnTo>
                <a:lnTo>
                  <a:pt x="1082" y="165"/>
                </a:lnTo>
                <a:lnTo>
                  <a:pt x="1082" y="152"/>
                </a:lnTo>
                <a:lnTo>
                  <a:pt x="1082" y="138"/>
                </a:lnTo>
                <a:lnTo>
                  <a:pt x="1082" y="127"/>
                </a:lnTo>
                <a:lnTo>
                  <a:pt x="1082" y="115"/>
                </a:lnTo>
                <a:lnTo>
                  <a:pt x="1080" y="106"/>
                </a:lnTo>
                <a:lnTo>
                  <a:pt x="1080" y="96"/>
                </a:lnTo>
                <a:lnTo>
                  <a:pt x="1078" y="88"/>
                </a:lnTo>
                <a:lnTo>
                  <a:pt x="1077" y="81"/>
                </a:lnTo>
                <a:lnTo>
                  <a:pt x="1075" y="75"/>
                </a:lnTo>
                <a:lnTo>
                  <a:pt x="1073" y="69"/>
                </a:lnTo>
                <a:lnTo>
                  <a:pt x="1069" y="65"/>
                </a:lnTo>
                <a:lnTo>
                  <a:pt x="1065" y="60"/>
                </a:lnTo>
                <a:lnTo>
                  <a:pt x="1061" y="56"/>
                </a:lnTo>
                <a:lnTo>
                  <a:pt x="1057" y="50"/>
                </a:lnTo>
                <a:lnTo>
                  <a:pt x="1055" y="46"/>
                </a:lnTo>
                <a:lnTo>
                  <a:pt x="1055" y="40"/>
                </a:lnTo>
                <a:lnTo>
                  <a:pt x="1053" y="36"/>
                </a:lnTo>
                <a:lnTo>
                  <a:pt x="1053" y="33"/>
                </a:lnTo>
                <a:lnTo>
                  <a:pt x="1055" y="29"/>
                </a:lnTo>
                <a:lnTo>
                  <a:pt x="1057" y="25"/>
                </a:lnTo>
                <a:lnTo>
                  <a:pt x="1059" y="21"/>
                </a:lnTo>
                <a:lnTo>
                  <a:pt x="1063" y="17"/>
                </a:lnTo>
                <a:lnTo>
                  <a:pt x="1067" y="13"/>
                </a:lnTo>
                <a:lnTo>
                  <a:pt x="1073" y="12"/>
                </a:lnTo>
                <a:lnTo>
                  <a:pt x="1078" y="8"/>
                </a:lnTo>
                <a:lnTo>
                  <a:pt x="1086" y="6"/>
                </a:lnTo>
                <a:lnTo>
                  <a:pt x="1092" y="4"/>
                </a:lnTo>
                <a:lnTo>
                  <a:pt x="1098" y="2"/>
                </a:lnTo>
                <a:lnTo>
                  <a:pt x="1103" y="0"/>
                </a:lnTo>
                <a:lnTo>
                  <a:pt x="1111" y="0"/>
                </a:lnTo>
                <a:lnTo>
                  <a:pt x="1119" y="0"/>
                </a:lnTo>
                <a:lnTo>
                  <a:pt x="1126" y="2"/>
                </a:lnTo>
                <a:lnTo>
                  <a:pt x="1134" y="4"/>
                </a:lnTo>
                <a:lnTo>
                  <a:pt x="1144" y="6"/>
                </a:lnTo>
                <a:lnTo>
                  <a:pt x="1153" y="8"/>
                </a:lnTo>
                <a:lnTo>
                  <a:pt x="1163" y="12"/>
                </a:lnTo>
                <a:lnTo>
                  <a:pt x="1174" y="15"/>
                </a:lnTo>
                <a:lnTo>
                  <a:pt x="1184" y="19"/>
                </a:lnTo>
                <a:lnTo>
                  <a:pt x="1196" y="25"/>
                </a:lnTo>
                <a:lnTo>
                  <a:pt x="1207" y="31"/>
                </a:lnTo>
                <a:lnTo>
                  <a:pt x="1219" y="36"/>
                </a:lnTo>
                <a:lnTo>
                  <a:pt x="1232" y="44"/>
                </a:lnTo>
                <a:lnTo>
                  <a:pt x="1243" y="52"/>
                </a:lnTo>
                <a:lnTo>
                  <a:pt x="1255" y="58"/>
                </a:lnTo>
                <a:lnTo>
                  <a:pt x="1265" y="65"/>
                </a:lnTo>
                <a:lnTo>
                  <a:pt x="1274" y="73"/>
                </a:lnTo>
                <a:lnTo>
                  <a:pt x="1282" y="79"/>
                </a:lnTo>
                <a:lnTo>
                  <a:pt x="1290" y="86"/>
                </a:lnTo>
                <a:lnTo>
                  <a:pt x="1297" y="92"/>
                </a:lnTo>
                <a:lnTo>
                  <a:pt x="1303" y="98"/>
                </a:lnTo>
                <a:lnTo>
                  <a:pt x="1307" y="104"/>
                </a:lnTo>
                <a:lnTo>
                  <a:pt x="1313" y="109"/>
                </a:lnTo>
                <a:lnTo>
                  <a:pt x="1316" y="115"/>
                </a:lnTo>
                <a:lnTo>
                  <a:pt x="1318" y="119"/>
                </a:lnTo>
                <a:lnTo>
                  <a:pt x="1322" y="123"/>
                </a:lnTo>
                <a:lnTo>
                  <a:pt x="1322" y="127"/>
                </a:lnTo>
                <a:lnTo>
                  <a:pt x="1324" y="131"/>
                </a:lnTo>
                <a:lnTo>
                  <a:pt x="1324" y="134"/>
                </a:lnTo>
                <a:lnTo>
                  <a:pt x="1324" y="138"/>
                </a:lnTo>
                <a:lnTo>
                  <a:pt x="1324" y="146"/>
                </a:lnTo>
                <a:lnTo>
                  <a:pt x="1322" y="154"/>
                </a:lnTo>
                <a:lnTo>
                  <a:pt x="1322" y="161"/>
                </a:lnTo>
                <a:lnTo>
                  <a:pt x="1320" y="173"/>
                </a:lnTo>
                <a:lnTo>
                  <a:pt x="1318" y="182"/>
                </a:lnTo>
                <a:lnTo>
                  <a:pt x="1315" y="196"/>
                </a:lnTo>
                <a:lnTo>
                  <a:pt x="1313" y="209"/>
                </a:lnTo>
                <a:lnTo>
                  <a:pt x="1309" y="223"/>
                </a:lnTo>
                <a:lnTo>
                  <a:pt x="1305" y="238"/>
                </a:lnTo>
                <a:lnTo>
                  <a:pt x="1301" y="253"/>
                </a:lnTo>
                <a:lnTo>
                  <a:pt x="1295" y="273"/>
                </a:lnTo>
                <a:lnTo>
                  <a:pt x="1291" y="290"/>
                </a:lnTo>
                <a:lnTo>
                  <a:pt x="1286" y="309"/>
                </a:lnTo>
                <a:lnTo>
                  <a:pt x="1278" y="330"/>
                </a:lnTo>
                <a:lnTo>
                  <a:pt x="1272" y="351"/>
                </a:lnTo>
                <a:lnTo>
                  <a:pt x="1255" y="395"/>
                </a:lnTo>
                <a:lnTo>
                  <a:pt x="1240" y="440"/>
                </a:lnTo>
                <a:lnTo>
                  <a:pt x="1220" y="486"/>
                </a:lnTo>
                <a:lnTo>
                  <a:pt x="1199" y="532"/>
                </a:lnTo>
                <a:lnTo>
                  <a:pt x="1178" y="578"/>
                </a:lnTo>
                <a:lnTo>
                  <a:pt x="1167" y="601"/>
                </a:lnTo>
                <a:lnTo>
                  <a:pt x="1153" y="626"/>
                </a:lnTo>
                <a:lnTo>
                  <a:pt x="1140" y="649"/>
                </a:lnTo>
                <a:lnTo>
                  <a:pt x="1126" y="674"/>
                </a:lnTo>
                <a:lnTo>
                  <a:pt x="1113" y="697"/>
                </a:lnTo>
                <a:lnTo>
                  <a:pt x="1100" y="722"/>
                </a:lnTo>
                <a:lnTo>
                  <a:pt x="1084" y="745"/>
                </a:lnTo>
                <a:lnTo>
                  <a:pt x="1069" y="768"/>
                </a:lnTo>
                <a:lnTo>
                  <a:pt x="1052" y="791"/>
                </a:lnTo>
                <a:lnTo>
                  <a:pt x="1034" y="814"/>
                </a:lnTo>
                <a:lnTo>
                  <a:pt x="1017" y="835"/>
                </a:lnTo>
                <a:lnTo>
                  <a:pt x="998" y="856"/>
                </a:lnTo>
                <a:lnTo>
                  <a:pt x="979" y="877"/>
                </a:lnTo>
                <a:lnTo>
                  <a:pt x="957" y="896"/>
                </a:lnTo>
                <a:lnTo>
                  <a:pt x="936" y="917"/>
                </a:lnTo>
                <a:lnTo>
                  <a:pt x="915" y="937"/>
                </a:lnTo>
                <a:lnTo>
                  <a:pt x="892" y="956"/>
                </a:lnTo>
                <a:lnTo>
                  <a:pt x="869" y="977"/>
                </a:lnTo>
                <a:lnTo>
                  <a:pt x="844" y="996"/>
                </a:lnTo>
                <a:lnTo>
                  <a:pt x="819" y="1015"/>
                </a:lnTo>
                <a:lnTo>
                  <a:pt x="794" y="1035"/>
                </a:lnTo>
                <a:lnTo>
                  <a:pt x="767" y="1054"/>
                </a:lnTo>
                <a:lnTo>
                  <a:pt x="741" y="1071"/>
                </a:lnTo>
                <a:lnTo>
                  <a:pt x="712" y="1086"/>
                </a:lnTo>
                <a:lnTo>
                  <a:pt x="685" y="1102"/>
                </a:lnTo>
                <a:lnTo>
                  <a:pt x="656" y="1117"/>
                </a:lnTo>
                <a:lnTo>
                  <a:pt x="627" y="1131"/>
                </a:lnTo>
                <a:lnTo>
                  <a:pt x="597" y="1144"/>
                </a:lnTo>
                <a:lnTo>
                  <a:pt x="568" y="1157"/>
                </a:lnTo>
                <a:lnTo>
                  <a:pt x="537" y="1171"/>
                </a:lnTo>
                <a:lnTo>
                  <a:pt x="506" y="1182"/>
                </a:lnTo>
                <a:lnTo>
                  <a:pt x="476" y="1194"/>
                </a:lnTo>
                <a:lnTo>
                  <a:pt x="443" y="1205"/>
                </a:lnTo>
                <a:lnTo>
                  <a:pt x="412" y="1217"/>
                </a:lnTo>
                <a:lnTo>
                  <a:pt x="378" y="1228"/>
                </a:lnTo>
                <a:lnTo>
                  <a:pt x="345" y="1238"/>
                </a:lnTo>
                <a:lnTo>
                  <a:pt x="311" y="1248"/>
                </a:lnTo>
                <a:lnTo>
                  <a:pt x="278" y="1259"/>
                </a:lnTo>
                <a:lnTo>
                  <a:pt x="261" y="1261"/>
                </a:lnTo>
                <a:lnTo>
                  <a:pt x="243" y="1265"/>
                </a:lnTo>
                <a:lnTo>
                  <a:pt x="228" y="1269"/>
                </a:lnTo>
                <a:lnTo>
                  <a:pt x="213" y="1273"/>
                </a:lnTo>
                <a:lnTo>
                  <a:pt x="197" y="1274"/>
                </a:lnTo>
                <a:lnTo>
                  <a:pt x="182" y="1278"/>
                </a:lnTo>
                <a:lnTo>
                  <a:pt x="169" y="1280"/>
                </a:lnTo>
                <a:lnTo>
                  <a:pt x="155" y="1282"/>
                </a:lnTo>
                <a:lnTo>
                  <a:pt x="144" y="1284"/>
                </a:lnTo>
                <a:lnTo>
                  <a:pt x="130" y="1286"/>
                </a:lnTo>
                <a:lnTo>
                  <a:pt x="119" y="1288"/>
                </a:lnTo>
                <a:lnTo>
                  <a:pt x="107" y="1290"/>
                </a:lnTo>
                <a:lnTo>
                  <a:pt x="98" y="1292"/>
                </a:lnTo>
                <a:lnTo>
                  <a:pt x="86" y="1294"/>
                </a:lnTo>
                <a:lnTo>
                  <a:pt x="78" y="1294"/>
                </a:lnTo>
                <a:lnTo>
                  <a:pt x="69" y="1296"/>
                </a:lnTo>
                <a:lnTo>
                  <a:pt x="59" y="1296"/>
                </a:lnTo>
                <a:lnTo>
                  <a:pt x="52" y="1298"/>
                </a:lnTo>
                <a:lnTo>
                  <a:pt x="46" y="1298"/>
                </a:lnTo>
                <a:lnTo>
                  <a:pt x="38" y="1298"/>
                </a:lnTo>
                <a:lnTo>
                  <a:pt x="32" y="1298"/>
                </a:lnTo>
                <a:lnTo>
                  <a:pt x="27" y="1298"/>
                </a:lnTo>
                <a:lnTo>
                  <a:pt x="21" y="1298"/>
                </a:lnTo>
                <a:lnTo>
                  <a:pt x="17" y="1296"/>
                </a:lnTo>
                <a:lnTo>
                  <a:pt x="11" y="1296"/>
                </a:lnTo>
                <a:lnTo>
                  <a:pt x="9" y="1294"/>
                </a:lnTo>
                <a:lnTo>
                  <a:pt x="5" y="1294"/>
                </a:lnTo>
                <a:lnTo>
                  <a:pt x="4" y="1292"/>
                </a:lnTo>
                <a:lnTo>
                  <a:pt x="2" y="1290"/>
                </a:lnTo>
                <a:lnTo>
                  <a:pt x="0" y="1288"/>
                </a:lnTo>
                <a:lnTo>
                  <a:pt x="0" y="1286"/>
                </a:lnTo>
                <a:lnTo>
                  <a:pt x="0" y="1284"/>
                </a:lnTo>
                <a:lnTo>
                  <a:pt x="0" y="1278"/>
                </a:lnTo>
                <a:lnTo>
                  <a:pt x="2" y="1274"/>
                </a:lnTo>
                <a:lnTo>
                  <a:pt x="7" y="1269"/>
                </a:lnTo>
                <a:lnTo>
                  <a:pt x="13" y="1263"/>
                </a:lnTo>
                <a:lnTo>
                  <a:pt x="23" y="1255"/>
                </a:lnTo>
                <a:lnTo>
                  <a:pt x="32" y="1250"/>
                </a:lnTo>
                <a:lnTo>
                  <a:pt x="44" y="1244"/>
                </a:lnTo>
                <a:lnTo>
                  <a:pt x="59" y="1236"/>
                </a:lnTo>
                <a:lnTo>
                  <a:pt x="75" y="1228"/>
                </a:lnTo>
                <a:lnTo>
                  <a:pt x="92" y="1221"/>
                </a:lnTo>
                <a:lnTo>
                  <a:pt x="111" y="1213"/>
                </a:lnTo>
                <a:lnTo>
                  <a:pt x="134" y="1205"/>
                </a:lnTo>
                <a:lnTo>
                  <a:pt x="157" y="1196"/>
                </a:lnTo>
                <a:lnTo>
                  <a:pt x="182" y="1188"/>
                </a:lnTo>
                <a:lnTo>
                  <a:pt x="209" y="1179"/>
                </a:lnTo>
                <a:lnTo>
                  <a:pt x="238" y="1169"/>
                </a:lnTo>
                <a:lnTo>
                  <a:pt x="291" y="1144"/>
                </a:lnTo>
                <a:lnTo>
                  <a:pt x="347" y="1121"/>
                </a:lnTo>
                <a:lnTo>
                  <a:pt x="401" y="1096"/>
                </a:lnTo>
                <a:lnTo>
                  <a:pt x="453" y="1069"/>
                </a:lnTo>
                <a:lnTo>
                  <a:pt x="504" y="1042"/>
                </a:lnTo>
                <a:lnTo>
                  <a:pt x="529" y="1029"/>
                </a:lnTo>
                <a:lnTo>
                  <a:pt x="554" y="1015"/>
                </a:lnTo>
                <a:lnTo>
                  <a:pt x="579" y="1000"/>
                </a:lnTo>
                <a:lnTo>
                  <a:pt x="602" y="985"/>
                </a:lnTo>
                <a:lnTo>
                  <a:pt x="625" y="967"/>
                </a:lnTo>
                <a:lnTo>
                  <a:pt x="648" y="9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8"/>
          <p:cNvSpPr/>
          <p:nvPr/>
        </p:nvSpPr>
        <p:spPr>
          <a:xfrm>
            <a:off x="5799240" y="4210200"/>
            <a:ext cx="293760" cy="263520"/>
          </a:xfrm>
          <a:custGeom>
            <a:avLst/>
            <a:gdLst/>
            <a:ahLst/>
            <a:rect l="l" t="t" r="r" b="b"/>
            <a:pathLst>
              <a:path w="368" h="332">
                <a:moveTo>
                  <a:pt x="291" y="332"/>
                </a:moveTo>
                <a:lnTo>
                  <a:pt x="288" y="332"/>
                </a:lnTo>
                <a:lnTo>
                  <a:pt x="284" y="330"/>
                </a:lnTo>
                <a:lnTo>
                  <a:pt x="280" y="328"/>
                </a:lnTo>
                <a:lnTo>
                  <a:pt x="274" y="322"/>
                </a:lnTo>
                <a:lnTo>
                  <a:pt x="267" y="318"/>
                </a:lnTo>
                <a:lnTo>
                  <a:pt x="259" y="311"/>
                </a:lnTo>
                <a:lnTo>
                  <a:pt x="251" y="305"/>
                </a:lnTo>
                <a:lnTo>
                  <a:pt x="242" y="295"/>
                </a:lnTo>
                <a:lnTo>
                  <a:pt x="230" y="286"/>
                </a:lnTo>
                <a:lnTo>
                  <a:pt x="220" y="276"/>
                </a:lnTo>
                <a:lnTo>
                  <a:pt x="207" y="265"/>
                </a:lnTo>
                <a:lnTo>
                  <a:pt x="194" y="251"/>
                </a:lnTo>
                <a:lnTo>
                  <a:pt x="180" y="238"/>
                </a:lnTo>
                <a:lnTo>
                  <a:pt x="165" y="224"/>
                </a:lnTo>
                <a:lnTo>
                  <a:pt x="149" y="209"/>
                </a:lnTo>
                <a:lnTo>
                  <a:pt x="132" y="192"/>
                </a:lnTo>
                <a:lnTo>
                  <a:pt x="115" y="174"/>
                </a:lnTo>
                <a:lnTo>
                  <a:pt x="100" y="159"/>
                </a:lnTo>
                <a:lnTo>
                  <a:pt x="86" y="144"/>
                </a:lnTo>
                <a:lnTo>
                  <a:pt x="73" y="128"/>
                </a:lnTo>
                <a:lnTo>
                  <a:pt x="61" y="115"/>
                </a:lnTo>
                <a:lnTo>
                  <a:pt x="50" y="102"/>
                </a:lnTo>
                <a:lnTo>
                  <a:pt x="40" y="88"/>
                </a:lnTo>
                <a:lnTo>
                  <a:pt x="32" y="77"/>
                </a:lnTo>
                <a:lnTo>
                  <a:pt x="25" y="65"/>
                </a:lnTo>
                <a:lnTo>
                  <a:pt x="17" y="54"/>
                </a:lnTo>
                <a:lnTo>
                  <a:pt x="11" y="44"/>
                </a:lnTo>
                <a:lnTo>
                  <a:pt x="7" y="32"/>
                </a:lnTo>
                <a:lnTo>
                  <a:pt x="4" y="25"/>
                </a:lnTo>
                <a:lnTo>
                  <a:pt x="2" y="15"/>
                </a:lnTo>
                <a:lnTo>
                  <a:pt x="0" y="7"/>
                </a:lnTo>
                <a:lnTo>
                  <a:pt x="0" y="0"/>
                </a:lnTo>
                <a:lnTo>
                  <a:pt x="21" y="0"/>
                </a:lnTo>
                <a:lnTo>
                  <a:pt x="42" y="0"/>
                </a:lnTo>
                <a:lnTo>
                  <a:pt x="63" y="2"/>
                </a:lnTo>
                <a:lnTo>
                  <a:pt x="82" y="2"/>
                </a:lnTo>
                <a:lnTo>
                  <a:pt x="101" y="4"/>
                </a:lnTo>
                <a:lnTo>
                  <a:pt x="119" y="4"/>
                </a:lnTo>
                <a:lnTo>
                  <a:pt x="134" y="6"/>
                </a:lnTo>
                <a:lnTo>
                  <a:pt x="151" y="7"/>
                </a:lnTo>
                <a:lnTo>
                  <a:pt x="167" y="9"/>
                </a:lnTo>
                <a:lnTo>
                  <a:pt x="180" y="11"/>
                </a:lnTo>
                <a:lnTo>
                  <a:pt x="194" y="13"/>
                </a:lnTo>
                <a:lnTo>
                  <a:pt x="207" y="15"/>
                </a:lnTo>
                <a:lnTo>
                  <a:pt x="219" y="19"/>
                </a:lnTo>
                <a:lnTo>
                  <a:pt x="230" y="21"/>
                </a:lnTo>
                <a:lnTo>
                  <a:pt x="242" y="23"/>
                </a:lnTo>
                <a:lnTo>
                  <a:pt x="251" y="25"/>
                </a:lnTo>
                <a:lnTo>
                  <a:pt x="267" y="36"/>
                </a:lnTo>
                <a:lnTo>
                  <a:pt x="282" y="46"/>
                </a:lnTo>
                <a:lnTo>
                  <a:pt x="295" y="59"/>
                </a:lnTo>
                <a:lnTo>
                  <a:pt x="309" y="71"/>
                </a:lnTo>
                <a:lnTo>
                  <a:pt x="322" y="84"/>
                </a:lnTo>
                <a:lnTo>
                  <a:pt x="336" y="100"/>
                </a:lnTo>
                <a:lnTo>
                  <a:pt x="347" y="113"/>
                </a:lnTo>
                <a:lnTo>
                  <a:pt x="359" y="128"/>
                </a:lnTo>
                <a:lnTo>
                  <a:pt x="362" y="146"/>
                </a:lnTo>
                <a:lnTo>
                  <a:pt x="364" y="163"/>
                </a:lnTo>
                <a:lnTo>
                  <a:pt x="366" y="180"/>
                </a:lnTo>
                <a:lnTo>
                  <a:pt x="368" y="196"/>
                </a:lnTo>
                <a:lnTo>
                  <a:pt x="366" y="211"/>
                </a:lnTo>
                <a:lnTo>
                  <a:pt x="364" y="226"/>
                </a:lnTo>
                <a:lnTo>
                  <a:pt x="362" y="242"/>
                </a:lnTo>
                <a:lnTo>
                  <a:pt x="359" y="255"/>
                </a:lnTo>
                <a:lnTo>
                  <a:pt x="347" y="269"/>
                </a:lnTo>
                <a:lnTo>
                  <a:pt x="338" y="282"/>
                </a:lnTo>
                <a:lnTo>
                  <a:pt x="328" y="293"/>
                </a:lnTo>
                <a:lnTo>
                  <a:pt x="320" y="303"/>
                </a:lnTo>
                <a:lnTo>
                  <a:pt x="311" y="313"/>
                </a:lnTo>
                <a:lnTo>
                  <a:pt x="303" y="320"/>
                </a:lnTo>
                <a:lnTo>
                  <a:pt x="297" y="326"/>
                </a:lnTo>
                <a:lnTo>
                  <a:pt x="291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99"/>
          <p:cNvSpPr/>
          <p:nvPr/>
        </p:nvSpPr>
        <p:spPr>
          <a:xfrm>
            <a:off x="6480000" y="3214800"/>
            <a:ext cx="551160" cy="663480"/>
          </a:xfrm>
          <a:custGeom>
            <a:avLst/>
            <a:gdLst/>
            <a:ahLst/>
            <a:rect l="l" t="t" r="r" b="b"/>
            <a:pathLst>
              <a:path w="693" h="835">
                <a:moveTo>
                  <a:pt x="136" y="782"/>
                </a:moveTo>
                <a:lnTo>
                  <a:pt x="121" y="787"/>
                </a:lnTo>
                <a:lnTo>
                  <a:pt x="107" y="795"/>
                </a:lnTo>
                <a:lnTo>
                  <a:pt x="96" y="801"/>
                </a:lnTo>
                <a:lnTo>
                  <a:pt x="84" y="807"/>
                </a:lnTo>
                <a:lnTo>
                  <a:pt x="73" y="812"/>
                </a:lnTo>
                <a:lnTo>
                  <a:pt x="63" y="818"/>
                </a:lnTo>
                <a:lnTo>
                  <a:pt x="53" y="822"/>
                </a:lnTo>
                <a:lnTo>
                  <a:pt x="44" y="826"/>
                </a:lnTo>
                <a:lnTo>
                  <a:pt x="36" y="830"/>
                </a:lnTo>
                <a:lnTo>
                  <a:pt x="30" y="832"/>
                </a:lnTo>
                <a:lnTo>
                  <a:pt x="25" y="833"/>
                </a:lnTo>
                <a:lnTo>
                  <a:pt x="19" y="835"/>
                </a:lnTo>
                <a:lnTo>
                  <a:pt x="13" y="835"/>
                </a:lnTo>
                <a:lnTo>
                  <a:pt x="9" y="835"/>
                </a:lnTo>
                <a:lnTo>
                  <a:pt x="5" y="833"/>
                </a:lnTo>
                <a:lnTo>
                  <a:pt x="4" y="832"/>
                </a:lnTo>
                <a:lnTo>
                  <a:pt x="2" y="830"/>
                </a:lnTo>
                <a:lnTo>
                  <a:pt x="0" y="826"/>
                </a:lnTo>
                <a:lnTo>
                  <a:pt x="0" y="824"/>
                </a:lnTo>
                <a:lnTo>
                  <a:pt x="0" y="820"/>
                </a:lnTo>
                <a:lnTo>
                  <a:pt x="2" y="816"/>
                </a:lnTo>
                <a:lnTo>
                  <a:pt x="5" y="812"/>
                </a:lnTo>
                <a:lnTo>
                  <a:pt x="7" y="807"/>
                </a:lnTo>
                <a:lnTo>
                  <a:pt x="11" y="801"/>
                </a:lnTo>
                <a:lnTo>
                  <a:pt x="17" y="797"/>
                </a:lnTo>
                <a:lnTo>
                  <a:pt x="23" y="789"/>
                </a:lnTo>
                <a:lnTo>
                  <a:pt x="28" y="784"/>
                </a:lnTo>
                <a:lnTo>
                  <a:pt x="34" y="776"/>
                </a:lnTo>
                <a:lnTo>
                  <a:pt x="42" y="768"/>
                </a:lnTo>
                <a:lnTo>
                  <a:pt x="52" y="761"/>
                </a:lnTo>
                <a:lnTo>
                  <a:pt x="59" y="751"/>
                </a:lnTo>
                <a:lnTo>
                  <a:pt x="69" y="743"/>
                </a:lnTo>
                <a:lnTo>
                  <a:pt x="80" y="732"/>
                </a:lnTo>
                <a:lnTo>
                  <a:pt x="90" y="722"/>
                </a:lnTo>
                <a:lnTo>
                  <a:pt x="101" y="709"/>
                </a:lnTo>
                <a:lnTo>
                  <a:pt x="115" y="697"/>
                </a:lnTo>
                <a:lnTo>
                  <a:pt x="126" y="684"/>
                </a:lnTo>
                <a:lnTo>
                  <a:pt x="140" y="670"/>
                </a:lnTo>
                <a:lnTo>
                  <a:pt x="153" y="655"/>
                </a:lnTo>
                <a:lnTo>
                  <a:pt x="167" y="640"/>
                </a:lnTo>
                <a:lnTo>
                  <a:pt x="182" y="622"/>
                </a:lnTo>
                <a:lnTo>
                  <a:pt x="197" y="605"/>
                </a:lnTo>
                <a:lnTo>
                  <a:pt x="213" y="588"/>
                </a:lnTo>
                <a:lnTo>
                  <a:pt x="228" y="569"/>
                </a:lnTo>
                <a:lnTo>
                  <a:pt x="245" y="549"/>
                </a:lnTo>
                <a:lnTo>
                  <a:pt x="261" y="528"/>
                </a:lnTo>
                <a:lnTo>
                  <a:pt x="278" y="507"/>
                </a:lnTo>
                <a:lnTo>
                  <a:pt x="295" y="486"/>
                </a:lnTo>
                <a:lnTo>
                  <a:pt x="313" y="465"/>
                </a:lnTo>
                <a:lnTo>
                  <a:pt x="328" y="440"/>
                </a:lnTo>
                <a:lnTo>
                  <a:pt x="345" y="417"/>
                </a:lnTo>
                <a:lnTo>
                  <a:pt x="361" y="390"/>
                </a:lnTo>
                <a:lnTo>
                  <a:pt x="378" y="363"/>
                </a:lnTo>
                <a:lnTo>
                  <a:pt x="393" y="336"/>
                </a:lnTo>
                <a:lnTo>
                  <a:pt x="409" y="308"/>
                </a:lnTo>
                <a:lnTo>
                  <a:pt x="422" y="277"/>
                </a:lnTo>
                <a:lnTo>
                  <a:pt x="437" y="246"/>
                </a:lnTo>
                <a:lnTo>
                  <a:pt x="451" y="213"/>
                </a:lnTo>
                <a:lnTo>
                  <a:pt x="462" y="181"/>
                </a:lnTo>
                <a:lnTo>
                  <a:pt x="476" y="146"/>
                </a:lnTo>
                <a:lnTo>
                  <a:pt x="487" y="112"/>
                </a:lnTo>
                <a:lnTo>
                  <a:pt x="499" y="75"/>
                </a:lnTo>
                <a:lnTo>
                  <a:pt x="510" y="39"/>
                </a:lnTo>
                <a:lnTo>
                  <a:pt x="520" y="0"/>
                </a:lnTo>
                <a:lnTo>
                  <a:pt x="541" y="14"/>
                </a:lnTo>
                <a:lnTo>
                  <a:pt x="562" y="25"/>
                </a:lnTo>
                <a:lnTo>
                  <a:pt x="579" y="35"/>
                </a:lnTo>
                <a:lnTo>
                  <a:pt x="597" y="47"/>
                </a:lnTo>
                <a:lnTo>
                  <a:pt x="612" y="56"/>
                </a:lnTo>
                <a:lnTo>
                  <a:pt x="627" y="66"/>
                </a:lnTo>
                <a:lnTo>
                  <a:pt x="639" y="75"/>
                </a:lnTo>
                <a:lnTo>
                  <a:pt x="650" y="85"/>
                </a:lnTo>
                <a:lnTo>
                  <a:pt x="660" y="93"/>
                </a:lnTo>
                <a:lnTo>
                  <a:pt x="670" y="100"/>
                </a:lnTo>
                <a:lnTo>
                  <a:pt x="675" y="106"/>
                </a:lnTo>
                <a:lnTo>
                  <a:pt x="681" y="112"/>
                </a:lnTo>
                <a:lnTo>
                  <a:pt x="687" y="118"/>
                </a:lnTo>
                <a:lnTo>
                  <a:pt x="689" y="121"/>
                </a:lnTo>
                <a:lnTo>
                  <a:pt x="691" y="125"/>
                </a:lnTo>
                <a:lnTo>
                  <a:pt x="693" y="129"/>
                </a:lnTo>
                <a:lnTo>
                  <a:pt x="693" y="133"/>
                </a:lnTo>
                <a:lnTo>
                  <a:pt x="691" y="139"/>
                </a:lnTo>
                <a:lnTo>
                  <a:pt x="689" y="146"/>
                </a:lnTo>
                <a:lnTo>
                  <a:pt x="687" y="152"/>
                </a:lnTo>
                <a:lnTo>
                  <a:pt x="685" y="160"/>
                </a:lnTo>
                <a:lnTo>
                  <a:pt x="681" y="169"/>
                </a:lnTo>
                <a:lnTo>
                  <a:pt x="677" y="179"/>
                </a:lnTo>
                <a:lnTo>
                  <a:pt x="673" y="189"/>
                </a:lnTo>
                <a:lnTo>
                  <a:pt x="670" y="198"/>
                </a:lnTo>
                <a:lnTo>
                  <a:pt x="664" y="210"/>
                </a:lnTo>
                <a:lnTo>
                  <a:pt x="658" y="221"/>
                </a:lnTo>
                <a:lnTo>
                  <a:pt x="652" y="235"/>
                </a:lnTo>
                <a:lnTo>
                  <a:pt x="647" y="248"/>
                </a:lnTo>
                <a:lnTo>
                  <a:pt x="641" y="263"/>
                </a:lnTo>
                <a:lnTo>
                  <a:pt x="633" y="279"/>
                </a:lnTo>
                <a:lnTo>
                  <a:pt x="625" y="296"/>
                </a:lnTo>
                <a:lnTo>
                  <a:pt x="606" y="329"/>
                </a:lnTo>
                <a:lnTo>
                  <a:pt x="583" y="361"/>
                </a:lnTo>
                <a:lnTo>
                  <a:pt x="560" y="396"/>
                </a:lnTo>
                <a:lnTo>
                  <a:pt x="535" y="428"/>
                </a:lnTo>
                <a:lnTo>
                  <a:pt x="522" y="446"/>
                </a:lnTo>
                <a:lnTo>
                  <a:pt x="508" y="463"/>
                </a:lnTo>
                <a:lnTo>
                  <a:pt x="493" y="478"/>
                </a:lnTo>
                <a:lnTo>
                  <a:pt x="478" y="496"/>
                </a:lnTo>
                <a:lnTo>
                  <a:pt x="462" y="513"/>
                </a:lnTo>
                <a:lnTo>
                  <a:pt x="447" y="530"/>
                </a:lnTo>
                <a:lnTo>
                  <a:pt x="432" y="546"/>
                </a:lnTo>
                <a:lnTo>
                  <a:pt x="414" y="563"/>
                </a:lnTo>
                <a:lnTo>
                  <a:pt x="380" y="597"/>
                </a:lnTo>
                <a:lnTo>
                  <a:pt x="345" y="628"/>
                </a:lnTo>
                <a:lnTo>
                  <a:pt x="311" y="659"/>
                </a:lnTo>
                <a:lnTo>
                  <a:pt x="274" y="686"/>
                </a:lnTo>
                <a:lnTo>
                  <a:pt x="240" y="713"/>
                </a:lnTo>
                <a:lnTo>
                  <a:pt x="222" y="726"/>
                </a:lnTo>
                <a:lnTo>
                  <a:pt x="205" y="737"/>
                </a:lnTo>
                <a:lnTo>
                  <a:pt x="188" y="749"/>
                </a:lnTo>
                <a:lnTo>
                  <a:pt x="171" y="761"/>
                </a:lnTo>
                <a:lnTo>
                  <a:pt x="153" y="770"/>
                </a:lnTo>
                <a:lnTo>
                  <a:pt x="136" y="7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00"/>
          <p:cNvSpPr/>
          <p:nvPr/>
        </p:nvSpPr>
        <p:spPr>
          <a:xfrm>
            <a:off x="6145200" y="3267000"/>
            <a:ext cx="517680" cy="588960"/>
          </a:xfrm>
          <a:custGeom>
            <a:avLst/>
            <a:gdLst/>
            <a:ahLst/>
            <a:rect l="l" t="t" r="r" b="b"/>
            <a:pathLst>
              <a:path w="651" h="743">
                <a:moveTo>
                  <a:pt x="2" y="741"/>
                </a:moveTo>
                <a:lnTo>
                  <a:pt x="0" y="737"/>
                </a:lnTo>
                <a:lnTo>
                  <a:pt x="0" y="733"/>
                </a:lnTo>
                <a:lnTo>
                  <a:pt x="2" y="727"/>
                </a:lnTo>
                <a:lnTo>
                  <a:pt x="4" y="721"/>
                </a:lnTo>
                <a:lnTo>
                  <a:pt x="10" y="714"/>
                </a:lnTo>
                <a:lnTo>
                  <a:pt x="16" y="704"/>
                </a:lnTo>
                <a:lnTo>
                  <a:pt x="23" y="695"/>
                </a:lnTo>
                <a:lnTo>
                  <a:pt x="33" y="683"/>
                </a:lnTo>
                <a:lnTo>
                  <a:pt x="43" y="671"/>
                </a:lnTo>
                <a:lnTo>
                  <a:pt x="56" y="656"/>
                </a:lnTo>
                <a:lnTo>
                  <a:pt x="70" y="643"/>
                </a:lnTo>
                <a:lnTo>
                  <a:pt x="85" y="625"/>
                </a:lnTo>
                <a:lnTo>
                  <a:pt x="102" y="608"/>
                </a:lnTo>
                <a:lnTo>
                  <a:pt x="119" y="589"/>
                </a:lnTo>
                <a:lnTo>
                  <a:pt x="141" y="570"/>
                </a:lnTo>
                <a:lnTo>
                  <a:pt x="162" y="549"/>
                </a:lnTo>
                <a:lnTo>
                  <a:pt x="183" y="526"/>
                </a:lnTo>
                <a:lnTo>
                  <a:pt x="206" y="503"/>
                </a:lnTo>
                <a:lnTo>
                  <a:pt x="229" y="478"/>
                </a:lnTo>
                <a:lnTo>
                  <a:pt x="250" y="451"/>
                </a:lnTo>
                <a:lnTo>
                  <a:pt x="273" y="422"/>
                </a:lnTo>
                <a:lnTo>
                  <a:pt x="296" y="391"/>
                </a:lnTo>
                <a:lnTo>
                  <a:pt x="317" y="361"/>
                </a:lnTo>
                <a:lnTo>
                  <a:pt x="340" y="326"/>
                </a:lnTo>
                <a:lnTo>
                  <a:pt x="363" y="291"/>
                </a:lnTo>
                <a:lnTo>
                  <a:pt x="386" y="255"/>
                </a:lnTo>
                <a:lnTo>
                  <a:pt x="407" y="217"/>
                </a:lnTo>
                <a:lnTo>
                  <a:pt x="430" y="176"/>
                </a:lnTo>
                <a:lnTo>
                  <a:pt x="453" y="134"/>
                </a:lnTo>
                <a:lnTo>
                  <a:pt x="475" y="92"/>
                </a:lnTo>
                <a:lnTo>
                  <a:pt x="498" y="46"/>
                </a:lnTo>
                <a:lnTo>
                  <a:pt x="519" y="0"/>
                </a:lnTo>
                <a:lnTo>
                  <a:pt x="536" y="11"/>
                </a:lnTo>
                <a:lnTo>
                  <a:pt x="551" y="23"/>
                </a:lnTo>
                <a:lnTo>
                  <a:pt x="565" y="34"/>
                </a:lnTo>
                <a:lnTo>
                  <a:pt x="578" y="44"/>
                </a:lnTo>
                <a:lnTo>
                  <a:pt x="592" y="55"/>
                </a:lnTo>
                <a:lnTo>
                  <a:pt x="601" y="65"/>
                </a:lnTo>
                <a:lnTo>
                  <a:pt x="611" y="75"/>
                </a:lnTo>
                <a:lnTo>
                  <a:pt x="620" y="82"/>
                </a:lnTo>
                <a:lnTo>
                  <a:pt x="628" y="90"/>
                </a:lnTo>
                <a:lnTo>
                  <a:pt x="634" y="98"/>
                </a:lnTo>
                <a:lnTo>
                  <a:pt x="640" y="105"/>
                </a:lnTo>
                <a:lnTo>
                  <a:pt x="643" y="111"/>
                </a:lnTo>
                <a:lnTo>
                  <a:pt x="647" y="115"/>
                </a:lnTo>
                <a:lnTo>
                  <a:pt x="649" y="121"/>
                </a:lnTo>
                <a:lnTo>
                  <a:pt x="651" y="124"/>
                </a:lnTo>
                <a:lnTo>
                  <a:pt x="651" y="126"/>
                </a:lnTo>
                <a:lnTo>
                  <a:pt x="651" y="132"/>
                </a:lnTo>
                <a:lnTo>
                  <a:pt x="649" y="138"/>
                </a:lnTo>
                <a:lnTo>
                  <a:pt x="645" y="146"/>
                </a:lnTo>
                <a:lnTo>
                  <a:pt x="642" y="155"/>
                </a:lnTo>
                <a:lnTo>
                  <a:pt x="636" y="165"/>
                </a:lnTo>
                <a:lnTo>
                  <a:pt x="630" y="176"/>
                </a:lnTo>
                <a:lnTo>
                  <a:pt x="622" y="188"/>
                </a:lnTo>
                <a:lnTo>
                  <a:pt x="613" y="201"/>
                </a:lnTo>
                <a:lnTo>
                  <a:pt x="603" y="217"/>
                </a:lnTo>
                <a:lnTo>
                  <a:pt x="592" y="232"/>
                </a:lnTo>
                <a:lnTo>
                  <a:pt x="580" y="247"/>
                </a:lnTo>
                <a:lnTo>
                  <a:pt x="567" y="265"/>
                </a:lnTo>
                <a:lnTo>
                  <a:pt x="553" y="284"/>
                </a:lnTo>
                <a:lnTo>
                  <a:pt x="538" y="303"/>
                </a:lnTo>
                <a:lnTo>
                  <a:pt x="523" y="322"/>
                </a:lnTo>
                <a:lnTo>
                  <a:pt x="505" y="345"/>
                </a:lnTo>
                <a:lnTo>
                  <a:pt x="486" y="368"/>
                </a:lnTo>
                <a:lnTo>
                  <a:pt x="467" y="391"/>
                </a:lnTo>
                <a:lnTo>
                  <a:pt x="446" y="414"/>
                </a:lnTo>
                <a:lnTo>
                  <a:pt x="427" y="435"/>
                </a:lnTo>
                <a:lnTo>
                  <a:pt x="407" y="457"/>
                </a:lnTo>
                <a:lnTo>
                  <a:pt x="386" y="476"/>
                </a:lnTo>
                <a:lnTo>
                  <a:pt x="367" y="497"/>
                </a:lnTo>
                <a:lnTo>
                  <a:pt x="348" y="514"/>
                </a:lnTo>
                <a:lnTo>
                  <a:pt x="327" y="533"/>
                </a:lnTo>
                <a:lnTo>
                  <a:pt x="308" y="551"/>
                </a:lnTo>
                <a:lnTo>
                  <a:pt x="286" y="568"/>
                </a:lnTo>
                <a:lnTo>
                  <a:pt x="267" y="583"/>
                </a:lnTo>
                <a:lnTo>
                  <a:pt x="248" y="599"/>
                </a:lnTo>
                <a:lnTo>
                  <a:pt x="227" y="612"/>
                </a:lnTo>
                <a:lnTo>
                  <a:pt x="208" y="625"/>
                </a:lnTo>
                <a:lnTo>
                  <a:pt x="189" y="639"/>
                </a:lnTo>
                <a:lnTo>
                  <a:pt x="167" y="652"/>
                </a:lnTo>
                <a:lnTo>
                  <a:pt x="150" y="666"/>
                </a:lnTo>
                <a:lnTo>
                  <a:pt x="133" y="677"/>
                </a:lnTo>
                <a:lnTo>
                  <a:pt x="116" y="689"/>
                </a:lnTo>
                <a:lnTo>
                  <a:pt x="100" y="698"/>
                </a:lnTo>
                <a:lnTo>
                  <a:pt x="87" y="708"/>
                </a:lnTo>
                <a:lnTo>
                  <a:pt x="73" y="716"/>
                </a:lnTo>
                <a:lnTo>
                  <a:pt x="60" y="723"/>
                </a:lnTo>
                <a:lnTo>
                  <a:pt x="48" y="729"/>
                </a:lnTo>
                <a:lnTo>
                  <a:pt x="39" y="735"/>
                </a:lnTo>
                <a:lnTo>
                  <a:pt x="29" y="739"/>
                </a:lnTo>
                <a:lnTo>
                  <a:pt x="22" y="741"/>
                </a:lnTo>
                <a:lnTo>
                  <a:pt x="16" y="743"/>
                </a:lnTo>
                <a:lnTo>
                  <a:pt x="10" y="743"/>
                </a:lnTo>
                <a:lnTo>
                  <a:pt x="6" y="743"/>
                </a:lnTo>
                <a:lnTo>
                  <a:pt x="2" y="7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1"/>
          <p:cNvSpPr/>
          <p:nvPr/>
        </p:nvSpPr>
        <p:spPr>
          <a:xfrm>
            <a:off x="6280200" y="2698920"/>
            <a:ext cx="1203120" cy="1298520"/>
          </a:xfrm>
          <a:custGeom>
            <a:avLst/>
            <a:gdLst/>
            <a:ahLst/>
            <a:rect l="l" t="t" r="r" b="b"/>
            <a:pathLst>
              <a:path w="1517" h="1635">
                <a:moveTo>
                  <a:pt x="1279" y="1136"/>
                </a:moveTo>
                <a:lnTo>
                  <a:pt x="1269" y="1157"/>
                </a:lnTo>
                <a:lnTo>
                  <a:pt x="1261" y="1178"/>
                </a:lnTo>
                <a:lnTo>
                  <a:pt x="1252" y="1199"/>
                </a:lnTo>
                <a:lnTo>
                  <a:pt x="1244" y="1219"/>
                </a:lnTo>
                <a:lnTo>
                  <a:pt x="1236" y="1238"/>
                </a:lnTo>
                <a:lnTo>
                  <a:pt x="1229" y="1257"/>
                </a:lnTo>
                <a:lnTo>
                  <a:pt x="1221" y="1274"/>
                </a:lnTo>
                <a:lnTo>
                  <a:pt x="1213" y="1293"/>
                </a:lnTo>
                <a:lnTo>
                  <a:pt x="1206" y="1309"/>
                </a:lnTo>
                <a:lnTo>
                  <a:pt x="1198" y="1326"/>
                </a:lnTo>
                <a:lnTo>
                  <a:pt x="1190" y="1343"/>
                </a:lnTo>
                <a:lnTo>
                  <a:pt x="1183" y="1359"/>
                </a:lnTo>
                <a:lnTo>
                  <a:pt x="1177" y="1372"/>
                </a:lnTo>
                <a:lnTo>
                  <a:pt x="1169" y="1387"/>
                </a:lnTo>
                <a:lnTo>
                  <a:pt x="1162" y="1401"/>
                </a:lnTo>
                <a:lnTo>
                  <a:pt x="1156" y="1414"/>
                </a:lnTo>
                <a:lnTo>
                  <a:pt x="1148" y="1428"/>
                </a:lnTo>
                <a:lnTo>
                  <a:pt x="1142" y="1439"/>
                </a:lnTo>
                <a:lnTo>
                  <a:pt x="1135" y="1453"/>
                </a:lnTo>
                <a:lnTo>
                  <a:pt x="1129" y="1464"/>
                </a:lnTo>
                <a:lnTo>
                  <a:pt x="1121" y="1474"/>
                </a:lnTo>
                <a:lnTo>
                  <a:pt x="1116" y="1485"/>
                </a:lnTo>
                <a:lnTo>
                  <a:pt x="1110" y="1495"/>
                </a:lnTo>
                <a:lnTo>
                  <a:pt x="1102" y="1503"/>
                </a:lnTo>
                <a:lnTo>
                  <a:pt x="1096" y="1512"/>
                </a:lnTo>
                <a:lnTo>
                  <a:pt x="1091" y="1520"/>
                </a:lnTo>
                <a:lnTo>
                  <a:pt x="1083" y="1528"/>
                </a:lnTo>
                <a:lnTo>
                  <a:pt x="1077" y="1535"/>
                </a:lnTo>
                <a:lnTo>
                  <a:pt x="1071" y="1541"/>
                </a:lnTo>
                <a:lnTo>
                  <a:pt x="1064" y="1549"/>
                </a:lnTo>
                <a:lnTo>
                  <a:pt x="1058" y="1554"/>
                </a:lnTo>
                <a:lnTo>
                  <a:pt x="1052" y="1558"/>
                </a:lnTo>
                <a:lnTo>
                  <a:pt x="1041" y="1568"/>
                </a:lnTo>
                <a:lnTo>
                  <a:pt x="1027" y="1578"/>
                </a:lnTo>
                <a:lnTo>
                  <a:pt x="1016" y="1585"/>
                </a:lnTo>
                <a:lnTo>
                  <a:pt x="1006" y="1593"/>
                </a:lnTo>
                <a:lnTo>
                  <a:pt x="995" y="1599"/>
                </a:lnTo>
                <a:lnTo>
                  <a:pt x="983" y="1606"/>
                </a:lnTo>
                <a:lnTo>
                  <a:pt x="974" y="1612"/>
                </a:lnTo>
                <a:lnTo>
                  <a:pt x="964" y="1616"/>
                </a:lnTo>
                <a:lnTo>
                  <a:pt x="952" y="1622"/>
                </a:lnTo>
                <a:lnTo>
                  <a:pt x="945" y="1626"/>
                </a:lnTo>
                <a:lnTo>
                  <a:pt x="935" y="1627"/>
                </a:lnTo>
                <a:lnTo>
                  <a:pt x="926" y="1631"/>
                </a:lnTo>
                <a:lnTo>
                  <a:pt x="918" y="1633"/>
                </a:lnTo>
                <a:lnTo>
                  <a:pt x="908" y="1633"/>
                </a:lnTo>
                <a:lnTo>
                  <a:pt x="901" y="1635"/>
                </a:lnTo>
                <a:lnTo>
                  <a:pt x="893" y="1635"/>
                </a:lnTo>
                <a:lnTo>
                  <a:pt x="887" y="1635"/>
                </a:lnTo>
                <a:lnTo>
                  <a:pt x="879" y="1633"/>
                </a:lnTo>
                <a:lnTo>
                  <a:pt x="874" y="1633"/>
                </a:lnTo>
                <a:lnTo>
                  <a:pt x="868" y="1631"/>
                </a:lnTo>
                <a:lnTo>
                  <a:pt x="864" y="1627"/>
                </a:lnTo>
                <a:lnTo>
                  <a:pt x="860" y="1626"/>
                </a:lnTo>
                <a:lnTo>
                  <a:pt x="856" y="1622"/>
                </a:lnTo>
                <a:lnTo>
                  <a:pt x="854" y="1618"/>
                </a:lnTo>
                <a:lnTo>
                  <a:pt x="851" y="1614"/>
                </a:lnTo>
                <a:lnTo>
                  <a:pt x="851" y="1608"/>
                </a:lnTo>
                <a:lnTo>
                  <a:pt x="849" y="1602"/>
                </a:lnTo>
                <a:lnTo>
                  <a:pt x="849" y="1597"/>
                </a:lnTo>
                <a:lnTo>
                  <a:pt x="849" y="1591"/>
                </a:lnTo>
                <a:lnTo>
                  <a:pt x="851" y="1585"/>
                </a:lnTo>
                <a:lnTo>
                  <a:pt x="851" y="1578"/>
                </a:lnTo>
                <a:lnTo>
                  <a:pt x="854" y="1572"/>
                </a:lnTo>
                <a:lnTo>
                  <a:pt x="856" y="1564"/>
                </a:lnTo>
                <a:lnTo>
                  <a:pt x="856" y="1556"/>
                </a:lnTo>
                <a:lnTo>
                  <a:pt x="856" y="1547"/>
                </a:lnTo>
                <a:lnTo>
                  <a:pt x="856" y="1539"/>
                </a:lnTo>
                <a:lnTo>
                  <a:pt x="854" y="1530"/>
                </a:lnTo>
                <a:lnTo>
                  <a:pt x="851" y="1520"/>
                </a:lnTo>
                <a:lnTo>
                  <a:pt x="849" y="1508"/>
                </a:lnTo>
                <a:lnTo>
                  <a:pt x="843" y="1499"/>
                </a:lnTo>
                <a:lnTo>
                  <a:pt x="837" y="1487"/>
                </a:lnTo>
                <a:lnTo>
                  <a:pt x="831" y="1476"/>
                </a:lnTo>
                <a:lnTo>
                  <a:pt x="824" y="1464"/>
                </a:lnTo>
                <a:lnTo>
                  <a:pt x="816" y="1453"/>
                </a:lnTo>
                <a:lnTo>
                  <a:pt x="807" y="1441"/>
                </a:lnTo>
                <a:lnTo>
                  <a:pt x="797" y="1430"/>
                </a:lnTo>
                <a:lnTo>
                  <a:pt x="785" y="1418"/>
                </a:lnTo>
                <a:lnTo>
                  <a:pt x="774" y="1405"/>
                </a:lnTo>
                <a:lnTo>
                  <a:pt x="762" y="1393"/>
                </a:lnTo>
                <a:lnTo>
                  <a:pt x="751" y="1382"/>
                </a:lnTo>
                <a:lnTo>
                  <a:pt x="741" y="1370"/>
                </a:lnTo>
                <a:lnTo>
                  <a:pt x="732" y="1361"/>
                </a:lnTo>
                <a:lnTo>
                  <a:pt x="724" y="1349"/>
                </a:lnTo>
                <a:lnTo>
                  <a:pt x="716" y="1340"/>
                </a:lnTo>
                <a:lnTo>
                  <a:pt x="711" y="1330"/>
                </a:lnTo>
                <a:lnTo>
                  <a:pt x="705" y="1322"/>
                </a:lnTo>
                <a:lnTo>
                  <a:pt x="701" y="1315"/>
                </a:lnTo>
                <a:lnTo>
                  <a:pt x="697" y="1307"/>
                </a:lnTo>
                <a:lnTo>
                  <a:pt x="693" y="1299"/>
                </a:lnTo>
                <a:lnTo>
                  <a:pt x="691" y="1293"/>
                </a:lnTo>
                <a:lnTo>
                  <a:pt x="691" y="1288"/>
                </a:lnTo>
                <a:lnTo>
                  <a:pt x="691" y="1284"/>
                </a:lnTo>
                <a:lnTo>
                  <a:pt x="693" y="1280"/>
                </a:lnTo>
                <a:lnTo>
                  <a:pt x="695" y="1278"/>
                </a:lnTo>
                <a:lnTo>
                  <a:pt x="697" y="1276"/>
                </a:lnTo>
                <a:lnTo>
                  <a:pt x="701" y="1274"/>
                </a:lnTo>
                <a:lnTo>
                  <a:pt x="705" y="1272"/>
                </a:lnTo>
                <a:lnTo>
                  <a:pt x="711" y="1272"/>
                </a:lnTo>
                <a:lnTo>
                  <a:pt x="714" y="1272"/>
                </a:lnTo>
                <a:lnTo>
                  <a:pt x="722" y="1274"/>
                </a:lnTo>
                <a:lnTo>
                  <a:pt x="728" y="1274"/>
                </a:lnTo>
                <a:lnTo>
                  <a:pt x="735" y="1278"/>
                </a:lnTo>
                <a:lnTo>
                  <a:pt x="745" y="1280"/>
                </a:lnTo>
                <a:lnTo>
                  <a:pt x="755" y="1284"/>
                </a:lnTo>
                <a:lnTo>
                  <a:pt x="764" y="1288"/>
                </a:lnTo>
                <a:lnTo>
                  <a:pt x="776" y="1292"/>
                </a:lnTo>
                <a:lnTo>
                  <a:pt x="787" y="1297"/>
                </a:lnTo>
                <a:lnTo>
                  <a:pt x="799" y="1303"/>
                </a:lnTo>
                <a:lnTo>
                  <a:pt x="812" y="1309"/>
                </a:lnTo>
                <a:lnTo>
                  <a:pt x="828" y="1316"/>
                </a:lnTo>
                <a:lnTo>
                  <a:pt x="839" y="1322"/>
                </a:lnTo>
                <a:lnTo>
                  <a:pt x="851" y="1328"/>
                </a:lnTo>
                <a:lnTo>
                  <a:pt x="862" y="1334"/>
                </a:lnTo>
                <a:lnTo>
                  <a:pt x="874" y="1338"/>
                </a:lnTo>
                <a:lnTo>
                  <a:pt x="885" y="1341"/>
                </a:lnTo>
                <a:lnTo>
                  <a:pt x="897" y="1343"/>
                </a:lnTo>
                <a:lnTo>
                  <a:pt x="906" y="1345"/>
                </a:lnTo>
                <a:lnTo>
                  <a:pt x="916" y="1345"/>
                </a:lnTo>
                <a:lnTo>
                  <a:pt x="926" y="1345"/>
                </a:lnTo>
                <a:lnTo>
                  <a:pt x="935" y="1343"/>
                </a:lnTo>
                <a:lnTo>
                  <a:pt x="945" y="1341"/>
                </a:lnTo>
                <a:lnTo>
                  <a:pt x="954" y="1338"/>
                </a:lnTo>
                <a:lnTo>
                  <a:pt x="962" y="1334"/>
                </a:lnTo>
                <a:lnTo>
                  <a:pt x="970" y="1328"/>
                </a:lnTo>
                <a:lnTo>
                  <a:pt x="979" y="1322"/>
                </a:lnTo>
                <a:lnTo>
                  <a:pt x="987" y="1316"/>
                </a:lnTo>
                <a:lnTo>
                  <a:pt x="991" y="1307"/>
                </a:lnTo>
                <a:lnTo>
                  <a:pt x="997" y="1299"/>
                </a:lnTo>
                <a:lnTo>
                  <a:pt x="1002" y="1288"/>
                </a:lnTo>
                <a:lnTo>
                  <a:pt x="1008" y="1276"/>
                </a:lnTo>
                <a:lnTo>
                  <a:pt x="1016" y="1265"/>
                </a:lnTo>
                <a:lnTo>
                  <a:pt x="1021" y="1251"/>
                </a:lnTo>
                <a:lnTo>
                  <a:pt x="1029" y="1236"/>
                </a:lnTo>
                <a:lnTo>
                  <a:pt x="1039" y="1219"/>
                </a:lnTo>
                <a:lnTo>
                  <a:pt x="1046" y="1199"/>
                </a:lnTo>
                <a:lnTo>
                  <a:pt x="1054" y="1180"/>
                </a:lnTo>
                <a:lnTo>
                  <a:pt x="1064" y="1161"/>
                </a:lnTo>
                <a:lnTo>
                  <a:pt x="1073" y="1138"/>
                </a:lnTo>
                <a:lnTo>
                  <a:pt x="1085" y="1115"/>
                </a:lnTo>
                <a:lnTo>
                  <a:pt x="1094" y="1090"/>
                </a:lnTo>
                <a:lnTo>
                  <a:pt x="1106" y="1063"/>
                </a:lnTo>
                <a:lnTo>
                  <a:pt x="1119" y="1034"/>
                </a:lnTo>
                <a:lnTo>
                  <a:pt x="1127" y="1009"/>
                </a:lnTo>
                <a:lnTo>
                  <a:pt x="1137" y="984"/>
                </a:lnTo>
                <a:lnTo>
                  <a:pt x="1146" y="959"/>
                </a:lnTo>
                <a:lnTo>
                  <a:pt x="1154" y="936"/>
                </a:lnTo>
                <a:lnTo>
                  <a:pt x="1160" y="913"/>
                </a:lnTo>
                <a:lnTo>
                  <a:pt x="1167" y="892"/>
                </a:lnTo>
                <a:lnTo>
                  <a:pt x="1173" y="873"/>
                </a:lnTo>
                <a:lnTo>
                  <a:pt x="1179" y="854"/>
                </a:lnTo>
                <a:lnTo>
                  <a:pt x="1185" y="837"/>
                </a:lnTo>
                <a:lnTo>
                  <a:pt x="1190" y="819"/>
                </a:lnTo>
                <a:lnTo>
                  <a:pt x="1194" y="802"/>
                </a:lnTo>
                <a:lnTo>
                  <a:pt x="1198" y="789"/>
                </a:lnTo>
                <a:lnTo>
                  <a:pt x="1202" y="775"/>
                </a:lnTo>
                <a:lnTo>
                  <a:pt x="1206" y="762"/>
                </a:lnTo>
                <a:lnTo>
                  <a:pt x="1210" y="750"/>
                </a:lnTo>
                <a:lnTo>
                  <a:pt x="1212" y="741"/>
                </a:lnTo>
                <a:lnTo>
                  <a:pt x="1212" y="733"/>
                </a:lnTo>
                <a:lnTo>
                  <a:pt x="1210" y="727"/>
                </a:lnTo>
                <a:lnTo>
                  <a:pt x="1210" y="720"/>
                </a:lnTo>
                <a:lnTo>
                  <a:pt x="1206" y="714"/>
                </a:lnTo>
                <a:lnTo>
                  <a:pt x="1204" y="708"/>
                </a:lnTo>
                <a:lnTo>
                  <a:pt x="1200" y="702"/>
                </a:lnTo>
                <a:lnTo>
                  <a:pt x="1196" y="698"/>
                </a:lnTo>
                <a:lnTo>
                  <a:pt x="1192" y="693"/>
                </a:lnTo>
                <a:lnTo>
                  <a:pt x="1187" y="689"/>
                </a:lnTo>
                <a:lnTo>
                  <a:pt x="1181" y="683"/>
                </a:lnTo>
                <a:lnTo>
                  <a:pt x="1173" y="679"/>
                </a:lnTo>
                <a:lnTo>
                  <a:pt x="1167" y="675"/>
                </a:lnTo>
                <a:lnTo>
                  <a:pt x="1160" y="673"/>
                </a:lnTo>
                <a:lnTo>
                  <a:pt x="1150" y="670"/>
                </a:lnTo>
                <a:lnTo>
                  <a:pt x="1142" y="666"/>
                </a:lnTo>
                <a:lnTo>
                  <a:pt x="1133" y="664"/>
                </a:lnTo>
                <a:lnTo>
                  <a:pt x="1127" y="662"/>
                </a:lnTo>
                <a:lnTo>
                  <a:pt x="1121" y="662"/>
                </a:lnTo>
                <a:lnTo>
                  <a:pt x="1116" y="662"/>
                </a:lnTo>
                <a:lnTo>
                  <a:pt x="1108" y="660"/>
                </a:lnTo>
                <a:lnTo>
                  <a:pt x="1100" y="660"/>
                </a:lnTo>
                <a:lnTo>
                  <a:pt x="1093" y="660"/>
                </a:lnTo>
                <a:lnTo>
                  <a:pt x="1083" y="660"/>
                </a:lnTo>
                <a:lnTo>
                  <a:pt x="1075" y="660"/>
                </a:lnTo>
                <a:lnTo>
                  <a:pt x="1066" y="662"/>
                </a:lnTo>
                <a:lnTo>
                  <a:pt x="1054" y="662"/>
                </a:lnTo>
                <a:lnTo>
                  <a:pt x="1045" y="664"/>
                </a:lnTo>
                <a:lnTo>
                  <a:pt x="1033" y="664"/>
                </a:lnTo>
                <a:lnTo>
                  <a:pt x="1021" y="666"/>
                </a:lnTo>
                <a:lnTo>
                  <a:pt x="1008" y="666"/>
                </a:lnTo>
                <a:lnTo>
                  <a:pt x="995" y="668"/>
                </a:lnTo>
                <a:lnTo>
                  <a:pt x="981" y="670"/>
                </a:lnTo>
                <a:lnTo>
                  <a:pt x="968" y="672"/>
                </a:lnTo>
                <a:lnTo>
                  <a:pt x="952" y="673"/>
                </a:lnTo>
                <a:lnTo>
                  <a:pt x="937" y="675"/>
                </a:lnTo>
                <a:lnTo>
                  <a:pt x="920" y="677"/>
                </a:lnTo>
                <a:lnTo>
                  <a:pt x="904" y="681"/>
                </a:lnTo>
                <a:lnTo>
                  <a:pt x="887" y="683"/>
                </a:lnTo>
                <a:lnTo>
                  <a:pt x="870" y="685"/>
                </a:lnTo>
                <a:lnTo>
                  <a:pt x="851" y="689"/>
                </a:lnTo>
                <a:lnTo>
                  <a:pt x="831" y="691"/>
                </a:lnTo>
                <a:lnTo>
                  <a:pt x="812" y="695"/>
                </a:lnTo>
                <a:lnTo>
                  <a:pt x="791" y="698"/>
                </a:lnTo>
                <a:lnTo>
                  <a:pt x="770" y="700"/>
                </a:lnTo>
                <a:lnTo>
                  <a:pt x="749" y="704"/>
                </a:lnTo>
                <a:lnTo>
                  <a:pt x="728" y="708"/>
                </a:lnTo>
                <a:lnTo>
                  <a:pt x="705" y="712"/>
                </a:lnTo>
                <a:lnTo>
                  <a:pt x="682" y="716"/>
                </a:lnTo>
                <a:lnTo>
                  <a:pt x="659" y="718"/>
                </a:lnTo>
                <a:lnTo>
                  <a:pt x="636" y="721"/>
                </a:lnTo>
                <a:lnTo>
                  <a:pt x="613" y="725"/>
                </a:lnTo>
                <a:lnTo>
                  <a:pt x="592" y="729"/>
                </a:lnTo>
                <a:lnTo>
                  <a:pt x="570" y="733"/>
                </a:lnTo>
                <a:lnTo>
                  <a:pt x="549" y="737"/>
                </a:lnTo>
                <a:lnTo>
                  <a:pt x="530" y="741"/>
                </a:lnTo>
                <a:lnTo>
                  <a:pt x="509" y="744"/>
                </a:lnTo>
                <a:lnTo>
                  <a:pt x="492" y="748"/>
                </a:lnTo>
                <a:lnTo>
                  <a:pt x="473" y="750"/>
                </a:lnTo>
                <a:lnTo>
                  <a:pt x="455" y="754"/>
                </a:lnTo>
                <a:lnTo>
                  <a:pt x="438" y="758"/>
                </a:lnTo>
                <a:lnTo>
                  <a:pt x="421" y="762"/>
                </a:lnTo>
                <a:lnTo>
                  <a:pt x="403" y="766"/>
                </a:lnTo>
                <a:lnTo>
                  <a:pt x="388" y="769"/>
                </a:lnTo>
                <a:lnTo>
                  <a:pt x="373" y="773"/>
                </a:lnTo>
                <a:lnTo>
                  <a:pt x="359" y="775"/>
                </a:lnTo>
                <a:lnTo>
                  <a:pt x="344" y="779"/>
                </a:lnTo>
                <a:lnTo>
                  <a:pt x="330" y="783"/>
                </a:lnTo>
                <a:lnTo>
                  <a:pt x="317" y="787"/>
                </a:lnTo>
                <a:lnTo>
                  <a:pt x="306" y="791"/>
                </a:lnTo>
                <a:lnTo>
                  <a:pt x="294" y="794"/>
                </a:lnTo>
                <a:lnTo>
                  <a:pt x="282" y="798"/>
                </a:lnTo>
                <a:lnTo>
                  <a:pt x="271" y="800"/>
                </a:lnTo>
                <a:lnTo>
                  <a:pt x="261" y="804"/>
                </a:lnTo>
                <a:lnTo>
                  <a:pt x="252" y="808"/>
                </a:lnTo>
                <a:lnTo>
                  <a:pt x="242" y="812"/>
                </a:lnTo>
                <a:lnTo>
                  <a:pt x="233" y="816"/>
                </a:lnTo>
                <a:lnTo>
                  <a:pt x="225" y="819"/>
                </a:lnTo>
                <a:lnTo>
                  <a:pt x="217" y="823"/>
                </a:lnTo>
                <a:lnTo>
                  <a:pt x="211" y="827"/>
                </a:lnTo>
                <a:lnTo>
                  <a:pt x="204" y="831"/>
                </a:lnTo>
                <a:lnTo>
                  <a:pt x="192" y="837"/>
                </a:lnTo>
                <a:lnTo>
                  <a:pt x="181" y="842"/>
                </a:lnTo>
                <a:lnTo>
                  <a:pt x="169" y="850"/>
                </a:lnTo>
                <a:lnTo>
                  <a:pt x="158" y="854"/>
                </a:lnTo>
                <a:lnTo>
                  <a:pt x="146" y="860"/>
                </a:lnTo>
                <a:lnTo>
                  <a:pt x="137" y="863"/>
                </a:lnTo>
                <a:lnTo>
                  <a:pt x="127" y="867"/>
                </a:lnTo>
                <a:lnTo>
                  <a:pt x="117" y="869"/>
                </a:lnTo>
                <a:lnTo>
                  <a:pt x="110" y="873"/>
                </a:lnTo>
                <a:lnTo>
                  <a:pt x="102" y="875"/>
                </a:lnTo>
                <a:lnTo>
                  <a:pt x="94" y="877"/>
                </a:lnTo>
                <a:lnTo>
                  <a:pt x="89" y="879"/>
                </a:lnTo>
                <a:lnTo>
                  <a:pt x="83" y="881"/>
                </a:lnTo>
                <a:lnTo>
                  <a:pt x="79" y="881"/>
                </a:lnTo>
                <a:lnTo>
                  <a:pt x="75" y="881"/>
                </a:lnTo>
                <a:lnTo>
                  <a:pt x="71" y="881"/>
                </a:lnTo>
                <a:lnTo>
                  <a:pt x="62" y="881"/>
                </a:lnTo>
                <a:lnTo>
                  <a:pt x="54" y="879"/>
                </a:lnTo>
                <a:lnTo>
                  <a:pt x="46" y="875"/>
                </a:lnTo>
                <a:lnTo>
                  <a:pt x="41" y="869"/>
                </a:lnTo>
                <a:lnTo>
                  <a:pt x="37" y="867"/>
                </a:lnTo>
                <a:lnTo>
                  <a:pt x="35" y="863"/>
                </a:lnTo>
                <a:lnTo>
                  <a:pt x="31" y="860"/>
                </a:lnTo>
                <a:lnTo>
                  <a:pt x="29" y="854"/>
                </a:lnTo>
                <a:lnTo>
                  <a:pt x="25" y="848"/>
                </a:lnTo>
                <a:lnTo>
                  <a:pt x="23" y="842"/>
                </a:lnTo>
                <a:lnTo>
                  <a:pt x="21" y="837"/>
                </a:lnTo>
                <a:lnTo>
                  <a:pt x="20" y="831"/>
                </a:lnTo>
                <a:lnTo>
                  <a:pt x="14" y="821"/>
                </a:lnTo>
                <a:lnTo>
                  <a:pt x="10" y="810"/>
                </a:lnTo>
                <a:lnTo>
                  <a:pt x="6" y="800"/>
                </a:lnTo>
                <a:lnTo>
                  <a:pt x="2" y="791"/>
                </a:lnTo>
                <a:lnTo>
                  <a:pt x="0" y="779"/>
                </a:lnTo>
                <a:lnTo>
                  <a:pt x="0" y="768"/>
                </a:lnTo>
                <a:lnTo>
                  <a:pt x="0" y="762"/>
                </a:lnTo>
                <a:lnTo>
                  <a:pt x="2" y="754"/>
                </a:lnTo>
                <a:lnTo>
                  <a:pt x="4" y="748"/>
                </a:lnTo>
                <a:lnTo>
                  <a:pt x="6" y="741"/>
                </a:lnTo>
                <a:lnTo>
                  <a:pt x="6" y="735"/>
                </a:lnTo>
                <a:lnTo>
                  <a:pt x="6" y="731"/>
                </a:lnTo>
                <a:lnTo>
                  <a:pt x="8" y="725"/>
                </a:lnTo>
                <a:lnTo>
                  <a:pt x="10" y="721"/>
                </a:lnTo>
                <a:lnTo>
                  <a:pt x="14" y="716"/>
                </a:lnTo>
                <a:lnTo>
                  <a:pt x="18" y="712"/>
                </a:lnTo>
                <a:lnTo>
                  <a:pt x="21" y="708"/>
                </a:lnTo>
                <a:lnTo>
                  <a:pt x="27" y="702"/>
                </a:lnTo>
                <a:lnTo>
                  <a:pt x="33" y="698"/>
                </a:lnTo>
                <a:lnTo>
                  <a:pt x="41" y="693"/>
                </a:lnTo>
                <a:lnTo>
                  <a:pt x="48" y="689"/>
                </a:lnTo>
                <a:lnTo>
                  <a:pt x="56" y="683"/>
                </a:lnTo>
                <a:lnTo>
                  <a:pt x="66" y="679"/>
                </a:lnTo>
                <a:lnTo>
                  <a:pt x="75" y="673"/>
                </a:lnTo>
                <a:lnTo>
                  <a:pt x="87" y="670"/>
                </a:lnTo>
                <a:lnTo>
                  <a:pt x="98" y="664"/>
                </a:lnTo>
                <a:lnTo>
                  <a:pt x="110" y="660"/>
                </a:lnTo>
                <a:lnTo>
                  <a:pt x="121" y="656"/>
                </a:lnTo>
                <a:lnTo>
                  <a:pt x="135" y="650"/>
                </a:lnTo>
                <a:lnTo>
                  <a:pt x="148" y="643"/>
                </a:lnTo>
                <a:lnTo>
                  <a:pt x="163" y="633"/>
                </a:lnTo>
                <a:lnTo>
                  <a:pt x="181" y="624"/>
                </a:lnTo>
                <a:lnTo>
                  <a:pt x="200" y="610"/>
                </a:lnTo>
                <a:lnTo>
                  <a:pt x="219" y="597"/>
                </a:lnTo>
                <a:lnTo>
                  <a:pt x="240" y="581"/>
                </a:lnTo>
                <a:lnTo>
                  <a:pt x="263" y="566"/>
                </a:lnTo>
                <a:lnTo>
                  <a:pt x="288" y="547"/>
                </a:lnTo>
                <a:lnTo>
                  <a:pt x="313" y="528"/>
                </a:lnTo>
                <a:lnTo>
                  <a:pt x="340" y="506"/>
                </a:lnTo>
                <a:lnTo>
                  <a:pt x="369" y="483"/>
                </a:lnTo>
                <a:lnTo>
                  <a:pt x="398" y="460"/>
                </a:lnTo>
                <a:lnTo>
                  <a:pt x="430" y="434"/>
                </a:lnTo>
                <a:lnTo>
                  <a:pt x="457" y="411"/>
                </a:lnTo>
                <a:lnTo>
                  <a:pt x="484" y="387"/>
                </a:lnTo>
                <a:lnTo>
                  <a:pt x="509" y="366"/>
                </a:lnTo>
                <a:lnTo>
                  <a:pt x="534" y="347"/>
                </a:lnTo>
                <a:lnTo>
                  <a:pt x="544" y="338"/>
                </a:lnTo>
                <a:lnTo>
                  <a:pt x="555" y="328"/>
                </a:lnTo>
                <a:lnTo>
                  <a:pt x="565" y="320"/>
                </a:lnTo>
                <a:lnTo>
                  <a:pt x="574" y="311"/>
                </a:lnTo>
                <a:lnTo>
                  <a:pt x="582" y="303"/>
                </a:lnTo>
                <a:lnTo>
                  <a:pt x="592" y="295"/>
                </a:lnTo>
                <a:lnTo>
                  <a:pt x="599" y="288"/>
                </a:lnTo>
                <a:lnTo>
                  <a:pt x="607" y="282"/>
                </a:lnTo>
                <a:lnTo>
                  <a:pt x="613" y="274"/>
                </a:lnTo>
                <a:lnTo>
                  <a:pt x="620" y="268"/>
                </a:lnTo>
                <a:lnTo>
                  <a:pt x="626" y="263"/>
                </a:lnTo>
                <a:lnTo>
                  <a:pt x="630" y="257"/>
                </a:lnTo>
                <a:lnTo>
                  <a:pt x="636" y="251"/>
                </a:lnTo>
                <a:lnTo>
                  <a:pt x="640" y="245"/>
                </a:lnTo>
                <a:lnTo>
                  <a:pt x="643" y="242"/>
                </a:lnTo>
                <a:lnTo>
                  <a:pt x="647" y="238"/>
                </a:lnTo>
                <a:lnTo>
                  <a:pt x="651" y="234"/>
                </a:lnTo>
                <a:lnTo>
                  <a:pt x="653" y="230"/>
                </a:lnTo>
                <a:lnTo>
                  <a:pt x="655" y="226"/>
                </a:lnTo>
                <a:lnTo>
                  <a:pt x="655" y="224"/>
                </a:lnTo>
                <a:lnTo>
                  <a:pt x="657" y="222"/>
                </a:lnTo>
                <a:lnTo>
                  <a:pt x="657" y="219"/>
                </a:lnTo>
                <a:lnTo>
                  <a:pt x="657" y="217"/>
                </a:lnTo>
                <a:lnTo>
                  <a:pt x="655" y="217"/>
                </a:lnTo>
                <a:lnTo>
                  <a:pt x="653" y="215"/>
                </a:lnTo>
                <a:lnTo>
                  <a:pt x="649" y="213"/>
                </a:lnTo>
                <a:lnTo>
                  <a:pt x="643" y="211"/>
                </a:lnTo>
                <a:lnTo>
                  <a:pt x="638" y="211"/>
                </a:lnTo>
                <a:lnTo>
                  <a:pt x="632" y="211"/>
                </a:lnTo>
                <a:lnTo>
                  <a:pt x="624" y="211"/>
                </a:lnTo>
                <a:lnTo>
                  <a:pt x="616" y="213"/>
                </a:lnTo>
                <a:lnTo>
                  <a:pt x="607" y="213"/>
                </a:lnTo>
                <a:lnTo>
                  <a:pt x="597" y="215"/>
                </a:lnTo>
                <a:lnTo>
                  <a:pt x="588" y="217"/>
                </a:lnTo>
                <a:lnTo>
                  <a:pt x="576" y="219"/>
                </a:lnTo>
                <a:lnTo>
                  <a:pt x="563" y="220"/>
                </a:lnTo>
                <a:lnTo>
                  <a:pt x="551" y="222"/>
                </a:lnTo>
                <a:lnTo>
                  <a:pt x="538" y="224"/>
                </a:lnTo>
                <a:lnTo>
                  <a:pt x="524" y="226"/>
                </a:lnTo>
                <a:lnTo>
                  <a:pt x="509" y="230"/>
                </a:lnTo>
                <a:lnTo>
                  <a:pt x="480" y="238"/>
                </a:lnTo>
                <a:lnTo>
                  <a:pt x="449" y="245"/>
                </a:lnTo>
                <a:lnTo>
                  <a:pt x="421" y="253"/>
                </a:lnTo>
                <a:lnTo>
                  <a:pt x="392" y="259"/>
                </a:lnTo>
                <a:lnTo>
                  <a:pt x="363" y="263"/>
                </a:lnTo>
                <a:lnTo>
                  <a:pt x="336" y="265"/>
                </a:lnTo>
                <a:lnTo>
                  <a:pt x="309" y="267"/>
                </a:lnTo>
                <a:lnTo>
                  <a:pt x="284" y="268"/>
                </a:lnTo>
                <a:lnTo>
                  <a:pt x="259" y="267"/>
                </a:lnTo>
                <a:lnTo>
                  <a:pt x="236" y="265"/>
                </a:lnTo>
                <a:lnTo>
                  <a:pt x="215" y="263"/>
                </a:lnTo>
                <a:lnTo>
                  <a:pt x="196" y="259"/>
                </a:lnTo>
                <a:lnTo>
                  <a:pt x="187" y="255"/>
                </a:lnTo>
                <a:lnTo>
                  <a:pt x="179" y="253"/>
                </a:lnTo>
                <a:lnTo>
                  <a:pt x="169" y="249"/>
                </a:lnTo>
                <a:lnTo>
                  <a:pt x="162" y="245"/>
                </a:lnTo>
                <a:lnTo>
                  <a:pt x="156" y="242"/>
                </a:lnTo>
                <a:lnTo>
                  <a:pt x="148" y="238"/>
                </a:lnTo>
                <a:lnTo>
                  <a:pt x="142" y="234"/>
                </a:lnTo>
                <a:lnTo>
                  <a:pt x="139" y="230"/>
                </a:lnTo>
                <a:lnTo>
                  <a:pt x="129" y="224"/>
                </a:lnTo>
                <a:lnTo>
                  <a:pt x="121" y="219"/>
                </a:lnTo>
                <a:lnTo>
                  <a:pt x="116" y="215"/>
                </a:lnTo>
                <a:lnTo>
                  <a:pt x="110" y="211"/>
                </a:lnTo>
                <a:lnTo>
                  <a:pt x="108" y="207"/>
                </a:lnTo>
                <a:lnTo>
                  <a:pt x="108" y="205"/>
                </a:lnTo>
                <a:lnTo>
                  <a:pt x="106" y="203"/>
                </a:lnTo>
                <a:lnTo>
                  <a:pt x="106" y="201"/>
                </a:lnTo>
                <a:lnTo>
                  <a:pt x="108" y="197"/>
                </a:lnTo>
                <a:lnTo>
                  <a:pt x="108" y="196"/>
                </a:lnTo>
                <a:lnTo>
                  <a:pt x="110" y="194"/>
                </a:lnTo>
                <a:lnTo>
                  <a:pt x="112" y="192"/>
                </a:lnTo>
                <a:lnTo>
                  <a:pt x="117" y="186"/>
                </a:lnTo>
                <a:lnTo>
                  <a:pt x="125" y="184"/>
                </a:lnTo>
                <a:lnTo>
                  <a:pt x="129" y="182"/>
                </a:lnTo>
                <a:lnTo>
                  <a:pt x="133" y="180"/>
                </a:lnTo>
                <a:lnTo>
                  <a:pt x="139" y="180"/>
                </a:lnTo>
                <a:lnTo>
                  <a:pt x="144" y="178"/>
                </a:lnTo>
                <a:lnTo>
                  <a:pt x="152" y="176"/>
                </a:lnTo>
                <a:lnTo>
                  <a:pt x="158" y="176"/>
                </a:lnTo>
                <a:lnTo>
                  <a:pt x="165" y="174"/>
                </a:lnTo>
                <a:lnTo>
                  <a:pt x="175" y="173"/>
                </a:lnTo>
                <a:lnTo>
                  <a:pt x="185" y="171"/>
                </a:lnTo>
                <a:lnTo>
                  <a:pt x="194" y="171"/>
                </a:lnTo>
                <a:lnTo>
                  <a:pt x="206" y="167"/>
                </a:lnTo>
                <a:lnTo>
                  <a:pt x="217" y="165"/>
                </a:lnTo>
                <a:lnTo>
                  <a:pt x="231" y="165"/>
                </a:lnTo>
                <a:lnTo>
                  <a:pt x="244" y="165"/>
                </a:lnTo>
                <a:lnTo>
                  <a:pt x="258" y="165"/>
                </a:lnTo>
                <a:lnTo>
                  <a:pt x="273" y="163"/>
                </a:lnTo>
                <a:lnTo>
                  <a:pt x="288" y="161"/>
                </a:lnTo>
                <a:lnTo>
                  <a:pt x="304" y="159"/>
                </a:lnTo>
                <a:lnTo>
                  <a:pt x="321" y="157"/>
                </a:lnTo>
                <a:lnTo>
                  <a:pt x="338" y="155"/>
                </a:lnTo>
                <a:lnTo>
                  <a:pt x="357" y="151"/>
                </a:lnTo>
                <a:lnTo>
                  <a:pt x="377" y="148"/>
                </a:lnTo>
                <a:lnTo>
                  <a:pt x="396" y="144"/>
                </a:lnTo>
                <a:lnTo>
                  <a:pt x="417" y="138"/>
                </a:lnTo>
                <a:lnTo>
                  <a:pt x="438" y="134"/>
                </a:lnTo>
                <a:lnTo>
                  <a:pt x="461" y="128"/>
                </a:lnTo>
                <a:lnTo>
                  <a:pt x="484" y="121"/>
                </a:lnTo>
                <a:lnTo>
                  <a:pt x="509" y="115"/>
                </a:lnTo>
                <a:lnTo>
                  <a:pt x="530" y="109"/>
                </a:lnTo>
                <a:lnTo>
                  <a:pt x="551" y="103"/>
                </a:lnTo>
                <a:lnTo>
                  <a:pt x="572" y="100"/>
                </a:lnTo>
                <a:lnTo>
                  <a:pt x="592" y="94"/>
                </a:lnTo>
                <a:lnTo>
                  <a:pt x="609" y="90"/>
                </a:lnTo>
                <a:lnTo>
                  <a:pt x="626" y="84"/>
                </a:lnTo>
                <a:lnTo>
                  <a:pt x="641" y="80"/>
                </a:lnTo>
                <a:lnTo>
                  <a:pt x="657" y="77"/>
                </a:lnTo>
                <a:lnTo>
                  <a:pt x="670" y="71"/>
                </a:lnTo>
                <a:lnTo>
                  <a:pt x="684" y="67"/>
                </a:lnTo>
                <a:lnTo>
                  <a:pt x="695" y="61"/>
                </a:lnTo>
                <a:lnTo>
                  <a:pt x="705" y="57"/>
                </a:lnTo>
                <a:lnTo>
                  <a:pt x="714" y="52"/>
                </a:lnTo>
                <a:lnTo>
                  <a:pt x="722" y="48"/>
                </a:lnTo>
                <a:lnTo>
                  <a:pt x="730" y="42"/>
                </a:lnTo>
                <a:lnTo>
                  <a:pt x="735" y="38"/>
                </a:lnTo>
                <a:lnTo>
                  <a:pt x="745" y="29"/>
                </a:lnTo>
                <a:lnTo>
                  <a:pt x="755" y="21"/>
                </a:lnTo>
                <a:lnTo>
                  <a:pt x="764" y="13"/>
                </a:lnTo>
                <a:lnTo>
                  <a:pt x="772" y="7"/>
                </a:lnTo>
                <a:lnTo>
                  <a:pt x="782" y="4"/>
                </a:lnTo>
                <a:lnTo>
                  <a:pt x="789" y="2"/>
                </a:lnTo>
                <a:lnTo>
                  <a:pt x="795" y="0"/>
                </a:lnTo>
                <a:lnTo>
                  <a:pt x="801" y="0"/>
                </a:lnTo>
                <a:lnTo>
                  <a:pt x="803" y="0"/>
                </a:lnTo>
                <a:lnTo>
                  <a:pt x="807" y="0"/>
                </a:lnTo>
                <a:lnTo>
                  <a:pt x="810" y="0"/>
                </a:lnTo>
                <a:lnTo>
                  <a:pt x="816" y="2"/>
                </a:lnTo>
                <a:lnTo>
                  <a:pt x="820" y="4"/>
                </a:lnTo>
                <a:lnTo>
                  <a:pt x="828" y="6"/>
                </a:lnTo>
                <a:lnTo>
                  <a:pt x="833" y="7"/>
                </a:lnTo>
                <a:lnTo>
                  <a:pt x="841" y="9"/>
                </a:lnTo>
                <a:lnTo>
                  <a:pt x="849" y="13"/>
                </a:lnTo>
                <a:lnTo>
                  <a:pt x="856" y="17"/>
                </a:lnTo>
                <a:lnTo>
                  <a:pt x="866" y="21"/>
                </a:lnTo>
                <a:lnTo>
                  <a:pt x="876" y="27"/>
                </a:lnTo>
                <a:lnTo>
                  <a:pt x="885" y="30"/>
                </a:lnTo>
                <a:lnTo>
                  <a:pt x="897" y="36"/>
                </a:lnTo>
                <a:lnTo>
                  <a:pt x="908" y="44"/>
                </a:lnTo>
                <a:lnTo>
                  <a:pt x="920" y="50"/>
                </a:lnTo>
                <a:lnTo>
                  <a:pt x="931" y="57"/>
                </a:lnTo>
                <a:lnTo>
                  <a:pt x="943" y="65"/>
                </a:lnTo>
                <a:lnTo>
                  <a:pt x="954" y="71"/>
                </a:lnTo>
                <a:lnTo>
                  <a:pt x="964" y="77"/>
                </a:lnTo>
                <a:lnTo>
                  <a:pt x="974" y="82"/>
                </a:lnTo>
                <a:lnTo>
                  <a:pt x="983" y="88"/>
                </a:lnTo>
                <a:lnTo>
                  <a:pt x="991" y="94"/>
                </a:lnTo>
                <a:lnTo>
                  <a:pt x="998" y="98"/>
                </a:lnTo>
                <a:lnTo>
                  <a:pt x="1004" y="103"/>
                </a:lnTo>
                <a:lnTo>
                  <a:pt x="1010" y="107"/>
                </a:lnTo>
                <a:lnTo>
                  <a:pt x="1014" y="111"/>
                </a:lnTo>
                <a:lnTo>
                  <a:pt x="1018" y="115"/>
                </a:lnTo>
                <a:lnTo>
                  <a:pt x="1021" y="119"/>
                </a:lnTo>
                <a:lnTo>
                  <a:pt x="1023" y="121"/>
                </a:lnTo>
                <a:lnTo>
                  <a:pt x="1025" y="125"/>
                </a:lnTo>
                <a:lnTo>
                  <a:pt x="1025" y="126"/>
                </a:lnTo>
                <a:lnTo>
                  <a:pt x="1025" y="132"/>
                </a:lnTo>
                <a:lnTo>
                  <a:pt x="1025" y="136"/>
                </a:lnTo>
                <a:lnTo>
                  <a:pt x="1023" y="142"/>
                </a:lnTo>
                <a:lnTo>
                  <a:pt x="1021" y="146"/>
                </a:lnTo>
                <a:lnTo>
                  <a:pt x="1018" y="149"/>
                </a:lnTo>
                <a:lnTo>
                  <a:pt x="1016" y="155"/>
                </a:lnTo>
                <a:lnTo>
                  <a:pt x="1012" y="159"/>
                </a:lnTo>
                <a:lnTo>
                  <a:pt x="1008" y="163"/>
                </a:lnTo>
                <a:lnTo>
                  <a:pt x="998" y="173"/>
                </a:lnTo>
                <a:lnTo>
                  <a:pt x="987" y="178"/>
                </a:lnTo>
                <a:lnTo>
                  <a:pt x="974" y="186"/>
                </a:lnTo>
                <a:lnTo>
                  <a:pt x="960" y="192"/>
                </a:lnTo>
                <a:lnTo>
                  <a:pt x="952" y="196"/>
                </a:lnTo>
                <a:lnTo>
                  <a:pt x="941" y="203"/>
                </a:lnTo>
                <a:lnTo>
                  <a:pt x="931" y="211"/>
                </a:lnTo>
                <a:lnTo>
                  <a:pt x="918" y="219"/>
                </a:lnTo>
                <a:lnTo>
                  <a:pt x="902" y="230"/>
                </a:lnTo>
                <a:lnTo>
                  <a:pt x="887" y="242"/>
                </a:lnTo>
                <a:lnTo>
                  <a:pt x="870" y="253"/>
                </a:lnTo>
                <a:lnTo>
                  <a:pt x="851" y="267"/>
                </a:lnTo>
                <a:lnTo>
                  <a:pt x="830" y="282"/>
                </a:lnTo>
                <a:lnTo>
                  <a:pt x="807" y="297"/>
                </a:lnTo>
                <a:lnTo>
                  <a:pt x="783" y="315"/>
                </a:lnTo>
                <a:lnTo>
                  <a:pt x="759" y="334"/>
                </a:lnTo>
                <a:lnTo>
                  <a:pt x="732" y="355"/>
                </a:lnTo>
                <a:lnTo>
                  <a:pt x="703" y="376"/>
                </a:lnTo>
                <a:lnTo>
                  <a:pt x="672" y="397"/>
                </a:lnTo>
                <a:lnTo>
                  <a:pt x="641" y="422"/>
                </a:lnTo>
                <a:lnTo>
                  <a:pt x="626" y="434"/>
                </a:lnTo>
                <a:lnTo>
                  <a:pt x="611" y="445"/>
                </a:lnTo>
                <a:lnTo>
                  <a:pt x="595" y="457"/>
                </a:lnTo>
                <a:lnTo>
                  <a:pt x="582" y="466"/>
                </a:lnTo>
                <a:lnTo>
                  <a:pt x="568" y="478"/>
                </a:lnTo>
                <a:lnTo>
                  <a:pt x="555" y="487"/>
                </a:lnTo>
                <a:lnTo>
                  <a:pt x="542" y="497"/>
                </a:lnTo>
                <a:lnTo>
                  <a:pt x="530" y="506"/>
                </a:lnTo>
                <a:lnTo>
                  <a:pt x="519" y="514"/>
                </a:lnTo>
                <a:lnTo>
                  <a:pt x="507" y="524"/>
                </a:lnTo>
                <a:lnTo>
                  <a:pt x="497" y="531"/>
                </a:lnTo>
                <a:lnTo>
                  <a:pt x="488" y="539"/>
                </a:lnTo>
                <a:lnTo>
                  <a:pt x="478" y="547"/>
                </a:lnTo>
                <a:lnTo>
                  <a:pt x="469" y="554"/>
                </a:lnTo>
                <a:lnTo>
                  <a:pt x="461" y="560"/>
                </a:lnTo>
                <a:lnTo>
                  <a:pt x="453" y="566"/>
                </a:lnTo>
                <a:lnTo>
                  <a:pt x="446" y="574"/>
                </a:lnTo>
                <a:lnTo>
                  <a:pt x="440" y="579"/>
                </a:lnTo>
                <a:lnTo>
                  <a:pt x="434" y="583"/>
                </a:lnTo>
                <a:lnTo>
                  <a:pt x="428" y="589"/>
                </a:lnTo>
                <a:lnTo>
                  <a:pt x="423" y="595"/>
                </a:lnTo>
                <a:lnTo>
                  <a:pt x="419" y="599"/>
                </a:lnTo>
                <a:lnTo>
                  <a:pt x="415" y="602"/>
                </a:lnTo>
                <a:lnTo>
                  <a:pt x="411" y="606"/>
                </a:lnTo>
                <a:lnTo>
                  <a:pt x="407" y="610"/>
                </a:lnTo>
                <a:lnTo>
                  <a:pt x="405" y="612"/>
                </a:lnTo>
                <a:lnTo>
                  <a:pt x="403" y="616"/>
                </a:lnTo>
                <a:lnTo>
                  <a:pt x="403" y="618"/>
                </a:lnTo>
                <a:lnTo>
                  <a:pt x="402" y="620"/>
                </a:lnTo>
                <a:lnTo>
                  <a:pt x="402" y="622"/>
                </a:lnTo>
                <a:lnTo>
                  <a:pt x="402" y="624"/>
                </a:lnTo>
                <a:lnTo>
                  <a:pt x="403" y="625"/>
                </a:lnTo>
                <a:lnTo>
                  <a:pt x="405" y="627"/>
                </a:lnTo>
                <a:lnTo>
                  <a:pt x="411" y="629"/>
                </a:lnTo>
                <a:lnTo>
                  <a:pt x="417" y="631"/>
                </a:lnTo>
                <a:lnTo>
                  <a:pt x="425" y="633"/>
                </a:lnTo>
                <a:lnTo>
                  <a:pt x="434" y="633"/>
                </a:lnTo>
                <a:lnTo>
                  <a:pt x="446" y="633"/>
                </a:lnTo>
                <a:lnTo>
                  <a:pt x="459" y="635"/>
                </a:lnTo>
                <a:lnTo>
                  <a:pt x="473" y="633"/>
                </a:lnTo>
                <a:lnTo>
                  <a:pt x="488" y="633"/>
                </a:lnTo>
                <a:lnTo>
                  <a:pt x="505" y="631"/>
                </a:lnTo>
                <a:lnTo>
                  <a:pt x="524" y="629"/>
                </a:lnTo>
                <a:lnTo>
                  <a:pt x="545" y="627"/>
                </a:lnTo>
                <a:lnTo>
                  <a:pt x="567" y="625"/>
                </a:lnTo>
                <a:lnTo>
                  <a:pt x="590" y="622"/>
                </a:lnTo>
                <a:lnTo>
                  <a:pt x="615" y="618"/>
                </a:lnTo>
                <a:lnTo>
                  <a:pt x="641" y="612"/>
                </a:lnTo>
                <a:lnTo>
                  <a:pt x="691" y="602"/>
                </a:lnTo>
                <a:lnTo>
                  <a:pt x="739" y="593"/>
                </a:lnTo>
                <a:lnTo>
                  <a:pt x="785" y="585"/>
                </a:lnTo>
                <a:lnTo>
                  <a:pt x="830" y="576"/>
                </a:lnTo>
                <a:lnTo>
                  <a:pt x="874" y="568"/>
                </a:lnTo>
                <a:lnTo>
                  <a:pt x="918" y="560"/>
                </a:lnTo>
                <a:lnTo>
                  <a:pt x="958" y="554"/>
                </a:lnTo>
                <a:lnTo>
                  <a:pt x="1000" y="549"/>
                </a:lnTo>
                <a:lnTo>
                  <a:pt x="1016" y="547"/>
                </a:lnTo>
                <a:lnTo>
                  <a:pt x="1033" y="543"/>
                </a:lnTo>
                <a:lnTo>
                  <a:pt x="1048" y="541"/>
                </a:lnTo>
                <a:lnTo>
                  <a:pt x="1064" y="539"/>
                </a:lnTo>
                <a:lnTo>
                  <a:pt x="1079" y="537"/>
                </a:lnTo>
                <a:lnTo>
                  <a:pt x="1093" y="533"/>
                </a:lnTo>
                <a:lnTo>
                  <a:pt x="1106" y="531"/>
                </a:lnTo>
                <a:lnTo>
                  <a:pt x="1119" y="528"/>
                </a:lnTo>
                <a:lnTo>
                  <a:pt x="1131" y="526"/>
                </a:lnTo>
                <a:lnTo>
                  <a:pt x="1142" y="522"/>
                </a:lnTo>
                <a:lnTo>
                  <a:pt x="1154" y="518"/>
                </a:lnTo>
                <a:lnTo>
                  <a:pt x="1164" y="514"/>
                </a:lnTo>
                <a:lnTo>
                  <a:pt x="1173" y="510"/>
                </a:lnTo>
                <a:lnTo>
                  <a:pt x="1183" y="506"/>
                </a:lnTo>
                <a:lnTo>
                  <a:pt x="1190" y="503"/>
                </a:lnTo>
                <a:lnTo>
                  <a:pt x="1198" y="497"/>
                </a:lnTo>
                <a:lnTo>
                  <a:pt x="1217" y="487"/>
                </a:lnTo>
                <a:lnTo>
                  <a:pt x="1227" y="483"/>
                </a:lnTo>
                <a:lnTo>
                  <a:pt x="1236" y="480"/>
                </a:lnTo>
                <a:lnTo>
                  <a:pt x="1244" y="476"/>
                </a:lnTo>
                <a:lnTo>
                  <a:pt x="1252" y="474"/>
                </a:lnTo>
                <a:lnTo>
                  <a:pt x="1260" y="472"/>
                </a:lnTo>
                <a:lnTo>
                  <a:pt x="1265" y="472"/>
                </a:lnTo>
                <a:lnTo>
                  <a:pt x="1267" y="474"/>
                </a:lnTo>
                <a:lnTo>
                  <a:pt x="1271" y="478"/>
                </a:lnTo>
                <a:lnTo>
                  <a:pt x="1277" y="482"/>
                </a:lnTo>
                <a:lnTo>
                  <a:pt x="1283" y="483"/>
                </a:lnTo>
                <a:lnTo>
                  <a:pt x="1288" y="489"/>
                </a:lnTo>
                <a:lnTo>
                  <a:pt x="1296" y="493"/>
                </a:lnTo>
                <a:lnTo>
                  <a:pt x="1304" y="499"/>
                </a:lnTo>
                <a:lnTo>
                  <a:pt x="1313" y="505"/>
                </a:lnTo>
                <a:lnTo>
                  <a:pt x="1323" y="510"/>
                </a:lnTo>
                <a:lnTo>
                  <a:pt x="1332" y="516"/>
                </a:lnTo>
                <a:lnTo>
                  <a:pt x="1344" y="524"/>
                </a:lnTo>
                <a:lnTo>
                  <a:pt x="1355" y="533"/>
                </a:lnTo>
                <a:lnTo>
                  <a:pt x="1369" y="541"/>
                </a:lnTo>
                <a:lnTo>
                  <a:pt x="1382" y="553"/>
                </a:lnTo>
                <a:lnTo>
                  <a:pt x="1396" y="562"/>
                </a:lnTo>
                <a:lnTo>
                  <a:pt x="1411" y="574"/>
                </a:lnTo>
                <a:lnTo>
                  <a:pt x="1423" y="587"/>
                </a:lnTo>
                <a:lnTo>
                  <a:pt x="1434" y="599"/>
                </a:lnTo>
                <a:lnTo>
                  <a:pt x="1444" y="608"/>
                </a:lnTo>
                <a:lnTo>
                  <a:pt x="1455" y="620"/>
                </a:lnTo>
                <a:lnTo>
                  <a:pt x="1465" y="629"/>
                </a:lnTo>
                <a:lnTo>
                  <a:pt x="1473" y="639"/>
                </a:lnTo>
                <a:lnTo>
                  <a:pt x="1480" y="649"/>
                </a:lnTo>
                <a:lnTo>
                  <a:pt x="1488" y="658"/>
                </a:lnTo>
                <a:lnTo>
                  <a:pt x="1494" y="666"/>
                </a:lnTo>
                <a:lnTo>
                  <a:pt x="1499" y="673"/>
                </a:lnTo>
                <a:lnTo>
                  <a:pt x="1505" y="679"/>
                </a:lnTo>
                <a:lnTo>
                  <a:pt x="1509" y="685"/>
                </a:lnTo>
                <a:lnTo>
                  <a:pt x="1513" y="691"/>
                </a:lnTo>
                <a:lnTo>
                  <a:pt x="1515" y="697"/>
                </a:lnTo>
                <a:lnTo>
                  <a:pt x="1517" y="700"/>
                </a:lnTo>
                <a:lnTo>
                  <a:pt x="1517" y="702"/>
                </a:lnTo>
                <a:lnTo>
                  <a:pt x="1515" y="708"/>
                </a:lnTo>
                <a:lnTo>
                  <a:pt x="1513" y="714"/>
                </a:lnTo>
                <a:lnTo>
                  <a:pt x="1509" y="720"/>
                </a:lnTo>
                <a:lnTo>
                  <a:pt x="1505" y="727"/>
                </a:lnTo>
                <a:lnTo>
                  <a:pt x="1501" y="731"/>
                </a:lnTo>
                <a:lnTo>
                  <a:pt x="1498" y="735"/>
                </a:lnTo>
                <a:lnTo>
                  <a:pt x="1494" y="739"/>
                </a:lnTo>
                <a:lnTo>
                  <a:pt x="1488" y="741"/>
                </a:lnTo>
                <a:lnTo>
                  <a:pt x="1482" y="744"/>
                </a:lnTo>
                <a:lnTo>
                  <a:pt x="1476" y="748"/>
                </a:lnTo>
                <a:lnTo>
                  <a:pt x="1471" y="750"/>
                </a:lnTo>
                <a:lnTo>
                  <a:pt x="1463" y="754"/>
                </a:lnTo>
                <a:lnTo>
                  <a:pt x="1459" y="756"/>
                </a:lnTo>
                <a:lnTo>
                  <a:pt x="1455" y="760"/>
                </a:lnTo>
                <a:lnTo>
                  <a:pt x="1451" y="764"/>
                </a:lnTo>
                <a:lnTo>
                  <a:pt x="1448" y="768"/>
                </a:lnTo>
                <a:lnTo>
                  <a:pt x="1444" y="773"/>
                </a:lnTo>
                <a:lnTo>
                  <a:pt x="1440" y="779"/>
                </a:lnTo>
                <a:lnTo>
                  <a:pt x="1434" y="785"/>
                </a:lnTo>
                <a:lnTo>
                  <a:pt x="1430" y="792"/>
                </a:lnTo>
                <a:lnTo>
                  <a:pt x="1427" y="798"/>
                </a:lnTo>
                <a:lnTo>
                  <a:pt x="1421" y="808"/>
                </a:lnTo>
                <a:lnTo>
                  <a:pt x="1417" y="816"/>
                </a:lnTo>
                <a:lnTo>
                  <a:pt x="1411" y="825"/>
                </a:lnTo>
                <a:lnTo>
                  <a:pt x="1405" y="835"/>
                </a:lnTo>
                <a:lnTo>
                  <a:pt x="1402" y="846"/>
                </a:lnTo>
                <a:lnTo>
                  <a:pt x="1396" y="856"/>
                </a:lnTo>
                <a:lnTo>
                  <a:pt x="1390" y="867"/>
                </a:lnTo>
                <a:lnTo>
                  <a:pt x="1384" y="881"/>
                </a:lnTo>
                <a:lnTo>
                  <a:pt x="1379" y="894"/>
                </a:lnTo>
                <a:lnTo>
                  <a:pt x="1373" y="908"/>
                </a:lnTo>
                <a:lnTo>
                  <a:pt x="1367" y="921"/>
                </a:lnTo>
                <a:lnTo>
                  <a:pt x="1359" y="936"/>
                </a:lnTo>
                <a:lnTo>
                  <a:pt x="1354" y="950"/>
                </a:lnTo>
                <a:lnTo>
                  <a:pt x="1346" y="967"/>
                </a:lnTo>
                <a:lnTo>
                  <a:pt x="1340" y="983"/>
                </a:lnTo>
                <a:lnTo>
                  <a:pt x="1332" y="1000"/>
                </a:lnTo>
                <a:lnTo>
                  <a:pt x="1325" y="1017"/>
                </a:lnTo>
                <a:lnTo>
                  <a:pt x="1317" y="1036"/>
                </a:lnTo>
                <a:lnTo>
                  <a:pt x="1309" y="1055"/>
                </a:lnTo>
                <a:lnTo>
                  <a:pt x="1302" y="1075"/>
                </a:lnTo>
                <a:lnTo>
                  <a:pt x="1294" y="1094"/>
                </a:lnTo>
                <a:lnTo>
                  <a:pt x="1286" y="1115"/>
                </a:lnTo>
                <a:lnTo>
                  <a:pt x="1279" y="1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02"/>
          <p:cNvSpPr/>
          <p:nvPr/>
        </p:nvSpPr>
        <p:spPr>
          <a:xfrm>
            <a:off x="5691240" y="3355920"/>
            <a:ext cx="468360" cy="652680"/>
          </a:xfrm>
          <a:custGeom>
            <a:avLst/>
            <a:gdLst/>
            <a:ahLst/>
            <a:rect l="l" t="t" r="r" b="b"/>
            <a:pathLst>
              <a:path w="590" h="821">
                <a:moveTo>
                  <a:pt x="58" y="729"/>
                </a:moveTo>
                <a:lnTo>
                  <a:pt x="50" y="714"/>
                </a:lnTo>
                <a:lnTo>
                  <a:pt x="43" y="699"/>
                </a:lnTo>
                <a:lnTo>
                  <a:pt x="37" y="683"/>
                </a:lnTo>
                <a:lnTo>
                  <a:pt x="31" y="670"/>
                </a:lnTo>
                <a:lnTo>
                  <a:pt x="25" y="656"/>
                </a:lnTo>
                <a:lnTo>
                  <a:pt x="20" y="645"/>
                </a:lnTo>
                <a:lnTo>
                  <a:pt x="16" y="633"/>
                </a:lnTo>
                <a:lnTo>
                  <a:pt x="12" y="622"/>
                </a:lnTo>
                <a:lnTo>
                  <a:pt x="8" y="612"/>
                </a:lnTo>
                <a:lnTo>
                  <a:pt x="4" y="605"/>
                </a:lnTo>
                <a:lnTo>
                  <a:pt x="2" y="595"/>
                </a:lnTo>
                <a:lnTo>
                  <a:pt x="2" y="587"/>
                </a:lnTo>
                <a:lnTo>
                  <a:pt x="0" y="582"/>
                </a:lnTo>
                <a:lnTo>
                  <a:pt x="0" y="574"/>
                </a:lnTo>
                <a:lnTo>
                  <a:pt x="2" y="568"/>
                </a:lnTo>
                <a:lnTo>
                  <a:pt x="4" y="564"/>
                </a:lnTo>
                <a:lnTo>
                  <a:pt x="4" y="555"/>
                </a:lnTo>
                <a:lnTo>
                  <a:pt x="6" y="547"/>
                </a:lnTo>
                <a:lnTo>
                  <a:pt x="10" y="539"/>
                </a:lnTo>
                <a:lnTo>
                  <a:pt x="16" y="535"/>
                </a:lnTo>
                <a:lnTo>
                  <a:pt x="20" y="532"/>
                </a:lnTo>
                <a:lnTo>
                  <a:pt x="23" y="530"/>
                </a:lnTo>
                <a:lnTo>
                  <a:pt x="27" y="528"/>
                </a:lnTo>
                <a:lnTo>
                  <a:pt x="33" y="528"/>
                </a:lnTo>
                <a:lnTo>
                  <a:pt x="37" y="526"/>
                </a:lnTo>
                <a:lnTo>
                  <a:pt x="43" y="526"/>
                </a:lnTo>
                <a:lnTo>
                  <a:pt x="50" y="526"/>
                </a:lnTo>
                <a:lnTo>
                  <a:pt x="58" y="526"/>
                </a:lnTo>
                <a:lnTo>
                  <a:pt x="62" y="528"/>
                </a:lnTo>
                <a:lnTo>
                  <a:pt x="68" y="528"/>
                </a:lnTo>
                <a:lnTo>
                  <a:pt x="71" y="530"/>
                </a:lnTo>
                <a:lnTo>
                  <a:pt x="77" y="530"/>
                </a:lnTo>
                <a:lnTo>
                  <a:pt x="87" y="530"/>
                </a:lnTo>
                <a:lnTo>
                  <a:pt x="94" y="528"/>
                </a:lnTo>
                <a:lnTo>
                  <a:pt x="104" y="526"/>
                </a:lnTo>
                <a:lnTo>
                  <a:pt x="112" y="522"/>
                </a:lnTo>
                <a:lnTo>
                  <a:pt x="118" y="518"/>
                </a:lnTo>
                <a:lnTo>
                  <a:pt x="123" y="512"/>
                </a:lnTo>
                <a:lnTo>
                  <a:pt x="127" y="509"/>
                </a:lnTo>
                <a:lnTo>
                  <a:pt x="131" y="505"/>
                </a:lnTo>
                <a:lnTo>
                  <a:pt x="139" y="497"/>
                </a:lnTo>
                <a:lnTo>
                  <a:pt x="146" y="489"/>
                </a:lnTo>
                <a:lnTo>
                  <a:pt x="156" y="478"/>
                </a:lnTo>
                <a:lnTo>
                  <a:pt x="167" y="466"/>
                </a:lnTo>
                <a:lnTo>
                  <a:pt x="179" y="453"/>
                </a:lnTo>
                <a:lnTo>
                  <a:pt x="194" y="436"/>
                </a:lnTo>
                <a:lnTo>
                  <a:pt x="210" y="418"/>
                </a:lnTo>
                <a:lnTo>
                  <a:pt x="227" y="399"/>
                </a:lnTo>
                <a:lnTo>
                  <a:pt x="246" y="378"/>
                </a:lnTo>
                <a:lnTo>
                  <a:pt x="265" y="355"/>
                </a:lnTo>
                <a:lnTo>
                  <a:pt x="288" y="330"/>
                </a:lnTo>
                <a:lnTo>
                  <a:pt x="311" y="303"/>
                </a:lnTo>
                <a:lnTo>
                  <a:pt x="336" y="274"/>
                </a:lnTo>
                <a:lnTo>
                  <a:pt x="363" y="244"/>
                </a:lnTo>
                <a:lnTo>
                  <a:pt x="386" y="213"/>
                </a:lnTo>
                <a:lnTo>
                  <a:pt x="398" y="200"/>
                </a:lnTo>
                <a:lnTo>
                  <a:pt x="409" y="184"/>
                </a:lnTo>
                <a:lnTo>
                  <a:pt x="419" y="171"/>
                </a:lnTo>
                <a:lnTo>
                  <a:pt x="430" y="157"/>
                </a:lnTo>
                <a:lnTo>
                  <a:pt x="440" y="146"/>
                </a:lnTo>
                <a:lnTo>
                  <a:pt x="451" y="132"/>
                </a:lnTo>
                <a:lnTo>
                  <a:pt x="461" y="121"/>
                </a:lnTo>
                <a:lnTo>
                  <a:pt x="469" y="111"/>
                </a:lnTo>
                <a:lnTo>
                  <a:pt x="478" y="100"/>
                </a:lnTo>
                <a:lnTo>
                  <a:pt x="488" y="90"/>
                </a:lnTo>
                <a:lnTo>
                  <a:pt x="496" y="81"/>
                </a:lnTo>
                <a:lnTo>
                  <a:pt x="503" y="71"/>
                </a:lnTo>
                <a:lnTo>
                  <a:pt x="511" y="63"/>
                </a:lnTo>
                <a:lnTo>
                  <a:pt x="519" y="56"/>
                </a:lnTo>
                <a:lnTo>
                  <a:pt x="526" y="48"/>
                </a:lnTo>
                <a:lnTo>
                  <a:pt x="532" y="40"/>
                </a:lnTo>
                <a:lnTo>
                  <a:pt x="540" y="34"/>
                </a:lnTo>
                <a:lnTo>
                  <a:pt x="546" y="29"/>
                </a:lnTo>
                <a:lnTo>
                  <a:pt x="551" y="23"/>
                </a:lnTo>
                <a:lnTo>
                  <a:pt x="555" y="17"/>
                </a:lnTo>
                <a:lnTo>
                  <a:pt x="561" y="13"/>
                </a:lnTo>
                <a:lnTo>
                  <a:pt x="565" y="10"/>
                </a:lnTo>
                <a:lnTo>
                  <a:pt x="569" y="8"/>
                </a:lnTo>
                <a:lnTo>
                  <a:pt x="572" y="4"/>
                </a:lnTo>
                <a:lnTo>
                  <a:pt x="576" y="2"/>
                </a:lnTo>
                <a:lnTo>
                  <a:pt x="580" y="0"/>
                </a:lnTo>
                <a:lnTo>
                  <a:pt x="582" y="0"/>
                </a:lnTo>
                <a:lnTo>
                  <a:pt x="584" y="0"/>
                </a:lnTo>
                <a:lnTo>
                  <a:pt x="586" y="0"/>
                </a:lnTo>
                <a:lnTo>
                  <a:pt x="588" y="2"/>
                </a:lnTo>
                <a:lnTo>
                  <a:pt x="590" y="4"/>
                </a:lnTo>
                <a:lnTo>
                  <a:pt x="590" y="8"/>
                </a:lnTo>
                <a:lnTo>
                  <a:pt x="590" y="11"/>
                </a:lnTo>
                <a:lnTo>
                  <a:pt x="588" y="15"/>
                </a:lnTo>
                <a:lnTo>
                  <a:pt x="588" y="21"/>
                </a:lnTo>
                <a:lnTo>
                  <a:pt x="586" y="27"/>
                </a:lnTo>
                <a:lnTo>
                  <a:pt x="584" y="33"/>
                </a:lnTo>
                <a:lnTo>
                  <a:pt x="582" y="38"/>
                </a:lnTo>
                <a:lnTo>
                  <a:pt x="580" y="46"/>
                </a:lnTo>
                <a:lnTo>
                  <a:pt x="576" y="56"/>
                </a:lnTo>
                <a:lnTo>
                  <a:pt x="574" y="65"/>
                </a:lnTo>
                <a:lnTo>
                  <a:pt x="571" y="75"/>
                </a:lnTo>
                <a:lnTo>
                  <a:pt x="567" y="84"/>
                </a:lnTo>
                <a:lnTo>
                  <a:pt x="561" y="96"/>
                </a:lnTo>
                <a:lnTo>
                  <a:pt x="557" y="107"/>
                </a:lnTo>
                <a:lnTo>
                  <a:pt x="551" y="121"/>
                </a:lnTo>
                <a:lnTo>
                  <a:pt x="546" y="134"/>
                </a:lnTo>
                <a:lnTo>
                  <a:pt x="540" y="148"/>
                </a:lnTo>
                <a:lnTo>
                  <a:pt x="534" y="163"/>
                </a:lnTo>
                <a:lnTo>
                  <a:pt x="526" y="178"/>
                </a:lnTo>
                <a:lnTo>
                  <a:pt x="521" y="194"/>
                </a:lnTo>
                <a:lnTo>
                  <a:pt x="513" y="211"/>
                </a:lnTo>
                <a:lnTo>
                  <a:pt x="505" y="228"/>
                </a:lnTo>
                <a:lnTo>
                  <a:pt x="496" y="248"/>
                </a:lnTo>
                <a:lnTo>
                  <a:pt x="488" y="267"/>
                </a:lnTo>
                <a:lnTo>
                  <a:pt x="478" y="286"/>
                </a:lnTo>
                <a:lnTo>
                  <a:pt x="469" y="307"/>
                </a:lnTo>
                <a:lnTo>
                  <a:pt x="459" y="328"/>
                </a:lnTo>
                <a:lnTo>
                  <a:pt x="450" y="351"/>
                </a:lnTo>
                <a:lnTo>
                  <a:pt x="440" y="374"/>
                </a:lnTo>
                <a:lnTo>
                  <a:pt x="428" y="397"/>
                </a:lnTo>
                <a:lnTo>
                  <a:pt x="417" y="422"/>
                </a:lnTo>
                <a:lnTo>
                  <a:pt x="407" y="447"/>
                </a:lnTo>
                <a:lnTo>
                  <a:pt x="396" y="470"/>
                </a:lnTo>
                <a:lnTo>
                  <a:pt x="386" y="491"/>
                </a:lnTo>
                <a:lnTo>
                  <a:pt x="377" y="514"/>
                </a:lnTo>
                <a:lnTo>
                  <a:pt x="367" y="535"/>
                </a:lnTo>
                <a:lnTo>
                  <a:pt x="357" y="555"/>
                </a:lnTo>
                <a:lnTo>
                  <a:pt x="348" y="576"/>
                </a:lnTo>
                <a:lnTo>
                  <a:pt x="338" y="593"/>
                </a:lnTo>
                <a:lnTo>
                  <a:pt x="329" y="612"/>
                </a:lnTo>
                <a:lnTo>
                  <a:pt x="321" y="630"/>
                </a:lnTo>
                <a:lnTo>
                  <a:pt x="311" y="645"/>
                </a:lnTo>
                <a:lnTo>
                  <a:pt x="304" y="662"/>
                </a:lnTo>
                <a:lnTo>
                  <a:pt x="296" y="676"/>
                </a:lnTo>
                <a:lnTo>
                  <a:pt x="288" y="691"/>
                </a:lnTo>
                <a:lnTo>
                  <a:pt x="281" y="704"/>
                </a:lnTo>
                <a:lnTo>
                  <a:pt x="273" y="718"/>
                </a:lnTo>
                <a:lnTo>
                  <a:pt x="265" y="729"/>
                </a:lnTo>
                <a:lnTo>
                  <a:pt x="258" y="741"/>
                </a:lnTo>
                <a:lnTo>
                  <a:pt x="252" y="750"/>
                </a:lnTo>
                <a:lnTo>
                  <a:pt x="246" y="760"/>
                </a:lnTo>
                <a:lnTo>
                  <a:pt x="238" y="770"/>
                </a:lnTo>
                <a:lnTo>
                  <a:pt x="233" y="777"/>
                </a:lnTo>
                <a:lnTo>
                  <a:pt x="227" y="785"/>
                </a:lnTo>
                <a:lnTo>
                  <a:pt x="221" y="793"/>
                </a:lnTo>
                <a:lnTo>
                  <a:pt x="217" y="798"/>
                </a:lnTo>
                <a:lnTo>
                  <a:pt x="212" y="804"/>
                </a:lnTo>
                <a:lnTo>
                  <a:pt x="206" y="808"/>
                </a:lnTo>
                <a:lnTo>
                  <a:pt x="202" y="812"/>
                </a:lnTo>
                <a:lnTo>
                  <a:pt x="198" y="816"/>
                </a:lnTo>
                <a:lnTo>
                  <a:pt x="194" y="818"/>
                </a:lnTo>
                <a:lnTo>
                  <a:pt x="190" y="820"/>
                </a:lnTo>
                <a:lnTo>
                  <a:pt x="183" y="821"/>
                </a:lnTo>
                <a:lnTo>
                  <a:pt x="175" y="821"/>
                </a:lnTo>
                <a:lnTo>
                  <a:pt x="167" y="821"/>
                </a:lnTo>
                <a:lnTo>
                  <a:pt x="160" y="821"/>
                </a:lnTo>
                <a:lnTo>
                  <a:pt x="152" y="820"/>
                </a:lnTo>
                <a:lnTo>
                  <a:pt x="144" y="818"/>
                </a:lnTo>
                <a:lnTo>
                  <a:pt x="137" y="814"/>
                </a:lnTo>
                <a:lnTo>
                  <a:pt x="129" y="808"/>
                </a:lnTo>
                <a:lnTo>
                  <a:pt x="119" y="802"/>
                </a:lnTo>
                <a:lnTo>
                  <a:pt x="112" y="795"/>
                </a:lnTo>
                <a:lnTo>
                  <a:pt x="102" y="787"/>
                </a:lnTo>
                <a:lnTo>
                  <a:pt x="94" y="777"/>
                </a:lnTo>
                <a:lnTo>
                  <a:pt x="85" y="768"/>
                </a:lnTo>
                <a:lnTo>
                  <a:pt x="75" y="756"/>
                </a:lnTo>
                <a:lnTo>
                  <a:pt x="68" y="743"/>
                </a:lnTo>
                <a:lnTo>
                  <a:pt x="58" y="7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03"/>
          <p:cNvSpPr/>
          <p:nvPr/>
        </p:nvSpPr>
        <p:spPr>
          <a:xfrm>
            <a:off x="5610240" y="3133800"/>
            <a:ext cx="351000" cy="225360"/>
          </a:xfrm>
          <a:custGeom>
            <a:avLst/>
            <a:gdLst/>
            <a:ahLst/>
            <a:rect l="l" t="t" r="r" b="b"/>
            <a:pathLst>
              <a:path w="441" h="284">
                <a:moveTo>
                  <a:pt x="437" y="205"/>
                </a:moveTo>
                <a:lnTo>
                  <a:pt x="432" y="219"/>
                </a:lnTo>
                <a:lnTo>
                  <a:pt x="428" y="230"/>
                </a:lnTo>
                <a:lnTo>
                  <a:pt x="426" y="242"/>
                </a:lnTo>
                <a:lnTo>
                  <a:pt x="424" y="251"/>
                </a:lnTo>
                <a:lnTo>
                  <a:pt x="420" y="261"/>
                </a:lnTo>
                <a:lnTo>
                  <a:pt x="418" y="268"/>
                </a:lnTo>
                <a:lnTo>
                  <a:pt x="414" y="276"/>
                </a:lnTo>
                <a:lnTo>
                  <a:pt x="410" y="282"/>
                </a:lnTo>
                <a:lnTo>
                  <a:pt x="407" y="284"/>
                </a:lnTo>
                <a:lnTo>
                  <a:pt x="403" y="284"/>
                </a:lnTo>
                <a:lnTo>
                  <a:pt x="395" y="284"/>
                </a:lnTo>
                <a:lnTo>
                  <a:pt x="387" y="284"/>
                </a:lnTo>
                <a:lnTo>
                  <a:pt x="380" y="282"/>
                </a:lnTo>
                <a:lnTo>
                  <a:pt x="368" y="278"/>
                </a:lnTo>
                <a:lnTo>
                  <a:pt x="357" y="274"/>
                </a:lnTo>
                <a:lnTo>
                  <a:pt x="343" y="270"/>
                </a:lnTo>
                <a:lnTo>
                  <a:pt x="330" y="265"/>
                </a:lnTo>
                <a:lnTo>
                  <a:pt x="314" y="257"/>
                </a:lnTo>
                <a:lnTo>
                  <a:pt x="297" y="249"/>
                </a:lnTo>
                <a:lnTo>
                  <a:pt x="280" y="240"/>
                </a:lnTo>
                <a:lnTo>
                  <a:pt x="261" y="230"/>
                </a:lnTo>
                <a:lnTo>
                  <a:pt x="240" y="219"/>
                </a:lnTo>
                <a:lnTo>
                  <a:pt x="220" y="205"/>
                </a:lnTo>
                <a:lnTo>
                  <a:pt x="197" y="192"/>
                </a:lnTo>
                <a:lnTo>
                  <a:pt x="174" y="178"/>
                </a:lnTo>
                <a:lnTo>
                  <a:pt x="151" y="163"/>
                </a:lnTo>
                <a:lnTo>
                  <a:pt x="130" y="151"/>
                </a:lnTo>
                <a:lnTo>
                  <a:pt x="111" y="138"/>
                </a:lnTo>
                <a:lnTo>
                  <a:pt x="94" y="126"/>
                </a:lnTo>
                <a:lnTo>
                  <a:pt x="76" y="117"/>
                </a:lnTo>
                <a:lnTo>
                  <a:pt x="63" y="105"/>
                </a:lnTo>
                <a:lnTo>
                  <a:pt x="50" y="98"/>
                </a:lnTo>
                <a:lnTo>
                  <a:pt x="38" y="88"/>
                </a:lnTo>
                <a:lnTo>
                  <a:pt x="27" y="80"/>
                </a:lnTo>
                <a:lnTo>
                  <a:pt x="19" y="73"/>
                </a:lnTo>
                <a:lnTo>
                  <a:pt x="11" y="67"/>
                </a:lnTo>
                <a:lnTo>
                  <a:pt x="5" y="61"/>
                </a:lnTo>
                <a:lnTo>
                  <a:pt x="2" y="57"/>
                </a:lnTo>
                <a:lnTo>
                  <a:pt x="0" y="53"/>
                </a:lnTo>
                <a:lnTo>
                  <a:pt x="0" y="52"/>
                </a:lnTo>
                <a:lnTo>
                  <a:pt x="0" y="46"/>
                </a:lnTo>
                <a:lnTo>
                  <a:pt x="2" y="42"/>
                </a:lnTo>
                <a:lnTo>
                  <a:pt x="5" y="36"/>
                </a:lnTo>
                <a:lnTo>
                  <a:pt x="11" y="32"/>
                </a:lnTo>
                <a:lnTo>
                  <a:pt x="15" y="30"/>
                </a:lnTo>
                <a:lnTo>
                  <a:pt x="19" y="27"/>
                </a:lnTo>
                <a:lnTo>
                  <a:pt x="23" y="25"/>
                </a:lnTo>
                <a:lnTo>
                  <a:pt x="27" y="23"/>
                </a:lnTo>
                <a:lnTo>
                  <a:pt x="32" y="21"/>
                </a:lnTo>
                <a:lnTo>
                  <a:pt x="38" y="17"/>
                </a:lnTo>
                <a:lnTo>
                  <a:pt x="46" y="15"/>
                </a:lnTo>
                <a:lnTo>
                  <a:pt x="52" y="13"/>
                </a:lnTo>
                <a:lnTo>
                  <a:pt x="67" y="7"/>
                </a:lnTo>
                <a:lnTo>
                  <a:pt x="84" y="5"/>
                </a:lnTo>
                <a:lnTo>
                  <a:pt x="103" y="4"/>
                </a:lnTo>
                <a:lnTo>
                  <a:pt x="123" y="2"/>
                </a:lnTo>
                <a:lnTo>
                  <a:pt x="134" y="2"/>
                </a:lnTo>
                <a:lnTo>
                  <a:pt x="146" y="0"/>
                </a:lnTo>
                <a:lnTo>
                  <a:pt x="157" y="0"/>
                </a:lnTo>
                <a:lnTo>
                  <a:pt x="171" y="0"/>
                </a:lnTo>
                <a:lnTo>
                  <a:pt x="182" y="0"/>
                </a:lnTo>
                <a:lnTo>
                  <a:pt x="195" y="0"/>
                </a:lnTo>
                <a:lnTo>
                  <a:pt x="211" y="0"/>
                </a:lnTo>
                <a:lnTo>
                  <a:pt x="224" y="0"/>
                </a:lnTo>
                <a:lnTo>
                  <a:pt x="249" y="5"/>
                </a:lnTo>
                <a:lnTo>
                  <a:pt x="274" y="11"/>
                </a:lnTo>
                <a:lnTo>
                  <a:pt x="297" y="19"/>
                </a:lnTo>
                <a:lnTo>
                  <a:pt x="320" y="29"/>
                </a:lnTo>
                <a:lnTo>
                  <a:pt x="343" y="38"/>
                </a:lnTo>
                <a:lnTo>
                  <a:pt x="362" y="50"/>
                </a:lnTo>
                <a:lnTo>
                  <a:pt x="372" y="55"/>
                </a:lnTo>
                <a:lnTo>
                  <a:pt x="382" y="63"/>
                </a:lnTo>
                <a:lnTo>
                  <a:pt x="389" y="69"/>
                </a:lnTo>
                <a:lnTo>
                  <a:pt x="397" y="76"/>
                </a:lnTo>
                <a:lnTo>
                  <a:pt x="405" y="84"/>
                </a:lnTo>
                <a:lnTo>
                  <a:pt x="410" y="92"/>
                </a:lnTo>
                <a:lnTo>
                  <a:pt x="416" y="100"/>
                </a:lnTo>
                <a:lnTo>
                  <a:pt x="422" y="107"/>
                </a:lnTo>
                <a:lnTo>
                  <a:pt x="426" y="115"/>
                </a:lnTo>
                <a:lnTo>
                  <a:pt x="430" y="124"/>
                </a:lnTo>
                <a:lnTo>
                  <a:pt x="433" y="132"/>
                </a:lnTo>
                <a:lnTo>
                  <a:pt x="437" y="140"/>
                </a:lnTo>
                <a:lnTo>
                  <a:pt x="439" y="149"/>
                </a:lnTo>
                <a:lnTo>
                  <a:pt x="441" y="157"/>
                </a:lnTo>
                <a:lnTo>
                  <a:pt x="441" y="165"/>
                </a:lnTo>
                <a:lnTo>
                  <a:pt x="441" y="174"/>
                </a:lnTo>
                <a:lnTo>
                  <a:pt x="441" y="182"/>
                </a:lnTo>
                <a:lnTo>
                  <a:pt x="439" y="190"/>
                </a:lnTo>
                <a:lnTo>
                  <a:pt x="439" y="197"/>
                </a:lnTo>
                <a:lnTo>
                  <a:pt x="437" y="2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04"/>
          <p:cNvSpPr/>
          <p:nvPr/>
        </p:nvSpPr>
        <p:spPr>
          <a:xfrm>
            <a:off x="5799240" y="2809800"/>
            <a:ext cx="339480" cy="244440"/>
          </a:xfrm>
          <a:custGeom>
            <a:avLst/>
            <a:gdLst/>
            <a:ahLst/>
            <a:rect l="l" t="t" r="r" b="b"/>
            <a:pathLst>
              <a:path w="428" h="309">
                <a:moveTo>
                  <a:pt x="159" y="178"/>
                </a:moveTo>
                <a:lnTo>
                  <a:pt x="140" y="161"/>
                </a:lnTo>
                <a:lnTo>
                  <a:pt x="123" y="146"/>
                </a:lnTo>
                <a:lnTo>
                  <a:pt x="105" y="130"/>
                </a:lnTo>
                <a:lnTo>
                  <a:pt x="90" y="117"/>
                </a:lnTo>
                <a:lnTo>
                  <a:pt x="75" y="102"/>
                </a:lnTo>
                <a:lnTo>
                  <a:pt x="63" y="90"/>
                </a:lnTo>
                <a:lnTo>
                  <a:pt x="50" y="77"/>
                </a:lnTo>
                <a:lnTo>
                  <a:pt x="40" y="67"/>
                </a:lnTo>
                <a:lnTo>
                  <a:pt x="30" y="56"/>
                </a:lnTo>
                <a:lnTo>
                  <a:pt x="23" y="46"/>
                </a:lnTo>
                <a:lnTo>
                  <a:pt x="15" y="38"/>
                </a:lnTo>
                <a:lnTo>
                  <a:pt x="9" y="31"/>
                </a:lnTo>
                <a:lnTo>
                  <a:pt x="5" y="25"/>
                </a:lnTo>
                <a:lnTo>
                  <a:pt x="2" y="19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  <a:lnTo>
                  <a:pt x="2" y="8"/>
                </a:lnTo>
                <a:lnTo>
                  <a:pt x="5" y="6"/>
                </a:lnTo>
                <a:lnTo>
                  <a:pt x="9" y="6"/>
                </a:lnTo>
                <a:lnTo>
                  <a:pt x="15" y="4"/>
                </a:lnTo>
                <a:lnTo>
                  <a:pt x="21" y="2"/>
                </a:lnTo>
                <a:lnTo>
                  <a:pt x="28" y="2"/>
                </a:lnTo>
                <a:lnTo>
                  <a:pt x="38" y="2"/>
                </a:lnTo>
                <a:lnTo>
                  <a:pt x="48" y="0"/>
                </a:lnTo>
                <a:lnTo>
                  <a:pt x="59" y="0"/>
                </a:lnTo>
                <a:lnTo>
                  <a:pt x="71" y="0"/>
                </a:lnTo>
                <a:lnTo>
                  <a:pt x="84" y="0"/>
                </a:lnTo>
                <a:lnTo>
                  <a:pt x="98" y="0"/>
                </a:lnTo>
                <a:lnTo>
                  <a:pt x="113" y="0"/>
                </a:lnTo>
                <a:lnTo>
                  <a:pt x="128" y="0"/>
                </a:lnTo>
                <a:lnTo>
                  <a:pt x="146" y="0"/>
                </a:lnTo>
                <a:lnTo>
                  <a:pt x="163" y="0"/>
                </a:lnTo>
                <a:lnTo>
                  <a:pt x="180" y="0"/>
                </a:lnTo>
                <a:lnTo>
                  <a:pt x="195" y="2"/>
                </a:lnTo>
                <a:lnTo>
                  <a:pt x="211" y="2"/>
                </a:lnTo>
                <a:lnTo>
                  <a:pt x="240" y="6"/>
                </a:lnTo>
                <a:lnTo>
                  <a:pt x="268" y="11"/>
                </a:lnTo>
                <a:lnTo>
                  <a:pt x="282" y="13"/>
                </a:lnTo>
                <a:lnTo>
                  <a:pt x="295" y="17"/>
                </a:lnTo>
                <a:lnTo>
                  <a:pt x="309" y="21"/>
                </a:lnTo>
                <a:lnTo>
                  <a:pt x="320" y="27"/>
                </a:lnTo>
                <a:lnTo>
                  <a:pt x="334" y="33"/>
                </a:lnTo>
                <a:lnTo>
                  <a:pt x="345" y="38"/>
                </a:lnTo>
                <a:lnTo>
                  <a:pt x="359" y="44"/>
                </a:lnTo>
                <a:lnTo>
                  <a:pt x="370" y="52"/>
                </a:lnTo>
                <a:lnTo>
                  <a:pt x="380" y="57"/>
                </a:lnTo>
                <a:lnTo>
                  <a:pt x="389" y="65"/>
                </a:lnTo>
                <a:lnTo>
                  <a:pt x="397" y="75"/>
                </a:lnTo>
                <a:lnTo>
                  <a:pt x="403" y="82"/>
                </a:lnTo>
                <a:lnTo>
                  <a:pt x="409" y="90"/>
                </a:lnTo>
                <a:lnTo>
                  <a:pt x="414" y="100"/>
                </a:lnTo>
                <a:lnTo>
                  <a:pt x="418" y="109"/>
                </a:lnTo>
                <a:lnTo>
                  <a:pt x="422" y="119"/>
                </a:lnTo>
                <a:lnTo>
                  <a:pt x="424" y="128"/>
                </a:lnTo>
                <a:lnTo>
                  <a:pt x="426" y="138"/>
                </a:lnTo>
                <a:lnTo>
                  <a:pt x="428" y="148"/>
                </a:lnTo>
                <a:lnTo>
                  <a:pt x="428" y="159"/>
                </a:lnTo>
                <a:lnTo>
                  <a:pt x="428" y="169"/>
                </a:lnTo>
                <a:lnTo>
                  <a:pt x="428" y="180"/>
                </a:lnTo>
                <a:lnTo>
                  <a:pt x="426" y="192"/>
                </a:lnTo>
                <a:lnTo>
                  <a:pt x="424" y="205"/>
                </a:lnTo>
                <a:lnTo>
                  <a:pt x="418" y="217"/>
                </a:lnTo>
                <a:lnTo>
                  <a:pt x="414" y="226"/>
                </a:lnTo>
                <a:lnTo>
                  <a:pt x="409" y="238"/>
                </a:lnTo>
                <a:lnTo>
                  <a:pt x="405" y="247"/>
                </a:lnTo>
                <a:lnTo>
                  <a:pt x="399" y="257"/>
                </a:lnTo>
                <a:lnTo>
                  <a:pt x="395" y="265"/>
                </a:lnTo>
                <a:lnTo>
                  <a:pt x="391" y="272"/>
                </a:lnTo>
                <a:lnTo>
                  <a:pt x="386" y="280"/>
                </a:lnTo>
                <a:lnTo>
                  <a:pt x="382" y="286"/>
                </a:lnTo>
                <a:lnTo>
                  <a:pt x="378" y="292"/>
                </a:lnTo>
                <a:lnTo>
                  <a:pt x="374" y="295"/>
                </a:lnTo>
                <a:lnTo>
                  <a:pt x="370" y="299"/>
                </a:lnTo>
                <a:lnTo>
                  <a:pt x="366" y="303"/>
                </a:lnTo>
                <a:lnTo>
                  <a:pt x="362" y="305"/>
                </a:lnTo>
                <a:lnTo>
                  <a:pt x="361" y="307"/>
                </a:lnTo>
                <a:lnTo>
                  <a:pt x="359" y="307"/>
                </a:lnTo>
                <a:lnTo>
                  <a:pt x="355" y="309"/>
                </a:lnTo>
                <a:lnTo>
                  <a:pt x="351" y="309"/>
                </a:lnTo>
                <a:lnTo>
                  <a:pt x="345" y="307"/>
                </a:lnTo>
                <a:lnTo>
                  <a:pt x="338" y="305"/>
                </a:lnTo>
                <a:lnTo>
                  <a:pt x="330" y="301"/>
                </a:lnTo>
                <a:lnTo>
                  <a:pt x="320" y="295"/>
                </a:lnTo>
                <a:lnTo>
                  <a:pt x="309" y="290"/>
                </a:lnTo>
                <a:lnTo>
                  <a:pt x="297" y="282"/>
                </a:lnTo>
                <a:lnTo>
                  <a:pt x="284" y="272"/>
                </a:lnTo>
                <a:lnTo>
                  <a:pt x="270" y="263"/>
                </a:lnTo>
                <a:lnTo>
                  <a:pt x="255" y="251"/>
                </a:lnTo>
                <a:lnTo>
                  <a:pt x="238" y="238"/>
                </a:lnTo>
                <a:lnTo>
                  <a:pt x="220" y="224"/>
                </a:lnTo>
                <a:lnTo>
                  <a:pt x="201" y="211"/>
                </a:lnTo>
                <a:lnTo>
                  <a:pt x="180" y="196"/>
                </a:lnTo>
                <a:lnTo>
                  <a:pt x="159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6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8"/>
          <p:cNvGrpSpPr/>
          <p:nvPr/>
        </p:nvGrpSpPr>
        <p:grpSpPr>
          <a:xfrm>
            <a:off x="1400040" y="3975120"/>
            <a:ext cx="2840040" cy="1575000"/>
            <a:chOff x="1400040" y="3975120"/>
            <a:chExt cx="2840040" cy="1575000"/>
          </a:xfrm>
        </p:grpSpPr>
        <p:pic>
          <p:nvPicPr>
            <p:cNvPr id="16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矩形 2"/>
            <p:cNvSpPr/>
            <p:nvPr/>
          </p:nvSpPr>
          <p:spPr>
            <a:xfrm>
              <a:off x="1444680" y="4587840"/>
              <a:ext cx="2766600" cy="962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19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月”撇 为竖撇；“方”横折 钩向内收。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矩形 3"/>
          <p:cNvSpPr/>
          <p:nvPr/>
        </p:nvSpPr>
        <p:spPr>
          <a:xfrm>
            <a:off x="1982880" y="1868400"/>
            <a:ext cx="13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93"/>
          <p:cNvSpPr/>
          <p:nvPr/>
        </p:nvSpPr>
        <p:spPr>
          <a:xfrm>
            <a:off x="6821640" y="2800440"/>
            <a:ext cx="344160" cy="414360"/>
          </a:xfrm>
          <a:custGeom>
            <a:avLst/>
            <a:gdLst/>
            <a:ahLst/>
            <a:rect l="l" t="t" r="r" b="b"/>
            <a:pathLst>
              <a:path w="433" h="522">
                <a:moveTo>
                  <a:pt x="305" y="111"/>
                </a:moveTo>
                <a:lnTo>
                  <a:pt x="318" y="119"/>
                </a:lnTo>
                <a:lnTo>
                  <a:pt x="330" y="126"/>
                </a:lnTo>
                <a:lnTo>
                  <a:pt x="341" y="136"/>
                </a:lnTo>
                <a:lnTo>
                  <a:pt x="353" y="145"/>
                </a:lnTo>
                <a:lnTo>
                  <a:pt x="362" y="153"/>
                </a:lnTo>
                <a:lnTo>
                  <a:pt x="370" y="163"/>
                </a:lnTo>
                <a:lnTo>
                  <a:pt x="380" y="172"/>
                </a:lnTo>
                <a:lnTo>
                  <a:pt x="387" y="182"/>
                </a:lnTo>
                <a:lnTo>
                  <a:pt x="395" y="190"/>
                </a:lnTo>
                <a:lnTo>
                  <a:pt x="401" y="199"/>
                </a:lnTo>
                <a:lnTo>
                  <a:pt x="407" y="209"/>
                </a:lnTo>
                <a:lnTo>
                  <a:pt x="410" y="218"/>
                </a:lnTo>
                <a:lnTo>
                  <a:pt x="416" y="226"/>
                </a:lnTo>
                <a:lnTo>
                  <a:pt x="420" y="236"/>
                </a:lnTo>
                <a:lnTo>
                  <a:pt x="422" y="243"/>
                </a:lnTo>
                <a:lnTo>
                  <a:pt x="426" y="253"/>
                </a:lnTo>
                <a:lnTo>
                  <a:pt x="428" y="274"/>
                </a:lnTo>
                <a:lnTo>
                  <a:pt x="432" y="295"/>
                </a:lnTo>
                <a:lnTo>
                  <a:pt x="433" y="316"/>
                </a:lnTo>
                <a:lnTo>
                  <a:pt x="433" y="337"/>
                </a:lnTo>
                <a:lnTo>
                  <a:pt x="433" y="359"/>
                </a:lnTo>
                <a:lnTo>
                  <a:pt x="432" y="380"/>
                </a:lnTo>
                <a:lnTo>
                  <a:pt x="428" y="401"/>
                </a:lnTo>
                <a:lnTo>
                  <a:pt x="426" y="422"/>
                </a:lnTo>
                <a:lnTo>
                  <a:pt x="422" y="435"/>
                </a:lnTo>
                <a:lnTo>
                  <a:pt x="420" y="447"/>
                </a:lnTo>
                <a:lnTo>
                  <a:pt x="418" y="456"/>
                </a:lnTo>
                <a:lnTo>
                  <a:pt x="416" y="468"/>
                </a:lnTo>
                <a:lnTo>
                  <a:pt x="412" y="476"/>
                </a:lnTo>
                <a:lnTo>
                  <a:pt x="410" y="483"/>
                </a:lnTo>
                <a:lnTo>
                  <a:pt x="407" y="491"/>
                </a:lnTo>
                <a:lnTo>
                  <a:pt x="405" y="499"/>
                </a:lnTo>
                <a:lnTo>
                  <a:pt x="401" y="502"/>
                </a:lnTo>
                <a:lnTo>
                  <a:pt x="397" y="508"/>
                </a:lnTo>
                <a:lnTo>
                  <a:pt x="391" y="512"/>
                </a:lnTo>
                <a:lnTo>
                  <a:pt x="387" y="516"/>
                </a:lnTo>
                <a:lnTo>
                  <a:pt x="382" y="518"/>
                </a:lnTo>
                <a:lnTo>
                  <a:pt x="378" y="520"/>
                </a:lnTo>
                <a:lnTo>
                  <a:pt x="370" y="520"/>
                </a:lnTo>
                <a:lnTo>
                  <a:pt x="364" y="522"/>
                </a:lnTo>
                <a:lnTo>
                  <a:pt x="357" y="520"/>
                </a:lnTo>
                <a:lnTo>
                  <a:pt x="349" y="518"/>
                </a:lnTo>
                <a:lnTo>
                  <a:pt x="341" y="514"/>
                </a:lnTo>
                <a:lnTo>
                  <a:pt x="332" y="508"/>
                </a:lnTo>
                <a:lnTo>
                  <a:pt x="322" y="501"/>
                </a:lnTo>
                <a:lnTo>
                  <a:pt x="313" y="491"/>
                </a:lnTo>
                <a:lnTo>
                  <a:pt x="301" y="481"/>
                </a:lnTo>
                <a:lnTo>
                  <a:pt x="290" y="468"/>
                </a:lnTo>
                <a:lnTo>
                  <a:pt x="276" y="455"/>
                </a:lnTo>
                <a:lnTo>
                  <a:pt x="263" y="439"/>
                </a:lnTo>
                <a:lnTo>
                  <a:pt x="247" y="422"/>
                </a:lnTo>
                <a:lnTo>
                  <a:pt x="232" y="403"/>
                </a:lnTo>
                <a:lnTo>
                  <a:pt x="215" y="382"/>
                </a:lnTo>
                <a:lnTo>
                  <a:pt x="197" y="359"/>
                </a:lnTo>
                <a:lnTo>
                  <a:pt x="180" y="334"/>
                </a:lnTo>
                <a:lnTo>
                  <a:pt x="161" y="309"/>
                </a:lnTo>
                <a:lnTo>
                  <a:pt x="140" y="282"/>
                </a:lnTo>
                <a:lnTo>
                  <a:pt x="123" y="259"/>
                </a:lnTo>
                <a:lnTo>
                  <a:pt x="105" y="234"/>
                </a:lnTo>
                <a:lnTo>
                  <a:pt x="90" y="213"/>
                </a:lnTo>
                <a:lnTo>
                  <a:pt x="76" y="192"/>
                </a:lnTo>
                <a:lnTo>
                  <a:pt x="63" y="174"/>
                </a:lnTo>
                <a:lnTo>
                  <a:pt x="52" y="155"/>
                </a:lnTo>
                <a:lnTo>
                  <a:pt x="42" y="140"/>
                </a:lnTo>
                <a:lnTo>
                  <a:pt x="32" y="126"/>
                </a:lnTo>
                <a:lnTo>
                  <a:pt x="25" y="113"/>
                </a:lnTo>
                <a:lnTo>
                  <a:pt x="19" y="101"/>
                </a:lnTo>
                <a:lnTo>
                  <a:pt x="13" y="92"/>
                </a:lnTo>
                <a:lnTo>
                  <a:pt x="9" y="84"/>
                </a:lnTo>
                <a:lnTo>
                  <a:pt x="5" y="76"/>
                </a:lnTo>
                <a:lnTo>
                  <a:pt x="4" y="71"/>
                </a:lnTo>
                <a:lnTo>
                  <a:pt x="4" y="69"/>
                </a:lnTo>
                <a:lnTo>
                  <a:pt x="2" y="65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1"/>
                </a:lnTo>
                <a:lnTo>
                  <a:pt x="0" y="48"/>
                </a:lnTo>
                <a:lnTo>
                  <a:pt x="2" y="40"/>
                </a:lnTo>
                <a:lnTo>
                  <a:pt x="5" y="32"/>
                </a:lnTo>
                <a:lnTo>
                  <a:pt x="11" y="25"/>
                </a:lnTo>
                <a:lnTo>
                  <a:pt x="19" y="17"/>
                </a:lnTo>
                <a:lnTo>
                  <a:pt x="28" y="11"/>
                </a:lnTo>
                <a:lnTo>
                  <a:pt x="30" y="9"/>
                </a:lnTo>
                <a:lnTo>
                  <a:pt x="32" y="7"/>
                </a:lnTo>
                <a:lnTo>
                  <a:pt x="36" y="5"/>
                </a:lnTo>
                <a:lnTo>
                  <a:pt x="42" y="3"/>
                </a:lnTo>
                <a:lnTo>
                  <a:pt x="46" y="2"/>
                </a:lnTo>
                <a:lnTo>
                  <a:pt x="52" y="2"/>
                </a:lnTo>
                <a:lnTo>
                  <a:pt x="57" y="0"/>
                </a:lnTo>
                <a:lnTo>
                  <a:pt x="63" y="0"/>
                </a:lnTo>
                <a:lnTo>
                  <a:pt x="71" y="0"/>
                </a:lnTo>
                <a:lnTo>
                  <a:pt x="78" y="2"/>
                </a:lnTo>
                <a:lnTo>
                  <a:pt x="86" y="2"/>
                </a:lnTo>
                <a:lnTo>
                  <a:pt x="96" y="3"/>
                </a:lnTo>
                <a:lnTo>
                  <a:pt x="105" y="5"/>
                </a:lnTo>
                <a:lnTo>
                  <a:pt x="115" y="7"/>
                </a:lnTo>
                <a:lnTo>
                  <a:pt x="124" y="9"/>
                </a:lnTo>
                <a:lnTo>
                  <a:pt x="136" y="11"/>
                </a:lnTo>
                <a:lnTo>
                  <a:pt x="146" y="15"/>
                </a:lnTo>
                <a:lnTo>
                  <a:pt x="155" y="17"/>
                </a:lnTo>
                <a:lnTo>
                  <a:pt x="165" y="23"/>
                </a:lnTo>
                <a:lnTo>
                  <a:pt x="174" y="26"/>
                </a:lnTo>
                <a:lnTo>
                  <a:pt x="184" y="32"/>
                </a:lnTo>
                <a:lnTo>
                  <a:pt x="195" y="38"/>
                </a:lnTo>
                <a:lnTo>
                  <a:pt x="217" y="50"/>
                </a:lnTo>
                <a:lnTo>
                  <a:pt x="238" y="63"/>
                </a:lnTo>
                <a:lnTo>
                  <a:pt x="259" y="78"/>
                </a:lnTo>
                <a:lnTo>
                  <a:pt x="282" y="94"/>
                </a:lnTo>
                <a:lnTo>
                  <a:pt x="305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94"/>
          <p:cNvSpPr/>
          <p:nvPr/>
        </p:nvSpPr>
        <p:spPr>
          <a:xfrm>
            <a:off x="6796080" y="3900600"/>
            <a:ext cx="650880" cy="1171440"/>
          </a:xfrm>
          <a:custGeom>
            <a:avLst/>
            <a:gdLst/>
            <a:ahLst/>
            <a:rect l="l" t="t" r="r" b="b"/>
            <a:pathLst>
              <a:path w="820" h="1477">
                <a:moveTo>
                  <a:pt x="530" y="43"/>
                </a:moveTo>
                <a:lnTo>
                  <a:pt x="543" y="33"/>
                </a:lnTo>
                <a:lnTo>
                  <a:pt x="555" y="23"/>
                </a:lnTo>
                <a:lnTo>
                  <a:pt x="566" y="16"/>
                </a:lnTo>
                <a:lnTo>
                  <a:pt x="576" y="10"/>
                </a:lnTo>
                <a:lnTo>
                  <a:pt x="587" y="6"/>
                </a:lnTo>
                <a:lnTo>
                  <a:pt x="597" y="2"/>
                </a:lnTo>
                <a:lnTo>
                  <a:pt x="605" y="0"/>
                </a:lnTo>
                <a:lnTo>
                  <a:pt x="614" y="0"/>
                </a:lnTo>
                <a:lnTo>
                  <a:pt x="624" y="6"/>
                </a:lnTo>
                <a:lnTo>
                  <a:pt x="635" y="14"/>
                </a:lnTo>
                <a:lnTo>
                  <a:pt x="647" y="23"/>
                </a:lnTo>
                <a:lnTo>
                  <a:pt x="655" y="27"/>
                </a:lnTo>
                <a:lnTo>
                  <a:pt x="660" y="33"/>
                </a:lnTo>
                <a:lnTo>
                  <a:pt x="668" y="39"/>
                </a:lnTo>
                <a:lnTo>
                  <a:pt x="676" y="47"/>
                </a:lnTo>
                <a:lnTo>
                  <a:pt x="685" y="54"/>
                </a:lnTo>
                <a:lnTo>
                  <a:pt x="695" y="62"/>
                </a:lnTo>
                <a:lnTo>
                  <a:pt x="703" y="70"/>
                </a:lnTo>
                <a:lnTo>
                  <a:pt x="714" y="79"/>
                </a:lnTo>
                <a:lnTo>
                  <a:pt x="724" y="89"/>
                </a:lnTo>
                <a:lnTo>
                  <a:pt x="735" y="98"/>
                </a:lnTo>
                <a:lnTo>
                  <a:pt x="745" y="110"/>
                </a:lnTo>
                <a:lnTo>
                  <a:pt x="756" y="119"/>
                </a:lnTo>
                <a:lnTo>
                  <a:pt x="764" y="129"/>
                </a:lnTo>
                <a:lnTo>
                  <a:pt x="774" y="139"/>
                </a:lnTo>
                <a:lnTo>
                  <a:pt x="781" y="148"/>
                </a:lnTo>
                <a:lnTo>
                  <a:pt x="787" y="156"/>
                </a:lnTo>
                <a:lnTo>
                  <a:pt x="793" y="164"/>
                </a:lnTo>
                <a:lnTo>
                  <a:pt x="799" y="171"/>
                </a:lnTo>
                <a:lnTo>
                  <a:pt x="804" y="179"/>
                </a:lnTo>
                <a:lnTo>
                  <a:pt x="808" y="185"/>
                </a:lnTo>
                <a:lnTo>
                  <a:pt x="812" y="190"/>
                </a:lnTo>
                <a:lnTo>
                  <a:pt x="814" y="196"/>
                </a:lnTo>
                <a:lnTo>
                  <a:pt x="816" y="202"/>
                </a:lnTo>
                <a:lnTo>
                  <a:pt x="818" y="206"/>
                </a:lnTo>
                <a:lnTo>
                  <a:pt x="818" y="210"/>
                </a:lnTo>
                <a:lnTo>
                  <a:pt x="820" y="212"/>
                </a:lnTo>
                <a:lnTo>
                  <a:pt x="810" y="233"/>
                </a:lnTo>
                <a:lnTo>
                  <a:pt x="804" y="244"/>
                </a:lnTo>
                <a:lnTo>
                  <a:pt x="799" y="254"/>
                </a:lnTo>
                <a:lnTo>
                  <a:pt x="793" y="262"/>
                </a:lnTo>
                <a:lnTo>
                  <a:pt x="787" y="269"/>
                </a:lnTo>
                <a:lnTo>
                  <a:pt x="779" y="277"/>
                </a:lnTo>
                <a:lnTo>
                  <a:pt x="772" y="283"/>
                </a:lnTo>
                <a:lnTo>
                  <a:pt x="768" y="286"/>
                </a:lnTo>
                <a:lnTo>
                  <a:pt x="764" y="290"/>
                </a:lnTo>
                <a:lnTo>
                  <a:pt x="760" y="294"/>
                </a:lnTo>
                <a:lnTo>
                  <a:pt x="756" y="298"/>
                </a:lnTo>
                <a:lnTo>
                  <a:pt x="754" y="304"/>
                </a:lnTo>
                <a:lnTo>
                  <a:pt x="751" y="309"/>
                </a:lnTo>
                <a:lnTo>
                  <a:pt x="747" y="315"/>
                </a:lnTo>
                <a:lnTo>
                  <a:pt x="743" y="323"/>
                </a:lnTo>
                <a:lnTo>
                  <a:pt x="741" y="331"/>
                </a:lnTo>
                <a:lnTo>
                  <a:pt x="737" y="338"/>
                </a:lnTo>
                <a:lnTo>
                  <a:pt x="733" y="348"/>
                </a:lnTo>
                <a:lnTo>
                  <a:pt x="729" y="357"/>
                </a:lnTo>
                <a:lnTo>
                  <a:pt x="728" y="367"/>
                </a:lnTo>
                <a:lnTo>
                  <a:pt x="724" y="377"/>
                </a:lnTo>
                <a:lnTo>
                  <a:pt x="720" y="388"/>
                </a:lnTo>
                <a:lnTo>
                  <a:pt x="716" y="400"/>
                </a:lnTo>
                <a:lnTo>
                  <a:pt x="712" y="413"/>
                </a:lnTo>
                <a:lnTo>
                  <a:pt x="710" y="425"/>
                </a:lnTo>
                <a:lnTo>
                  <a:pt x="706" y="438"/>
                </a:lnTo>
                <a:lnTo>
                  <a:pt x="703" y="452"/>
                </a:lnTo>
                <a:lnTo>
                  <a:pt x="699" y="467"/>
                </a:lnTo>
                <a:lnTo>
                  <a:pt x="697" y="482"/>
                </a:lnTo>
                <a:lnTo>
                  <a:pt x="693" y="498"/>
                </a:lnTo>
                <a:lnTo>
                  <a:pt x="689" y="515"/>
                </a:lnTo>
                <a:lnTo>
                  <a:pt x="685" y="530"/>
                </a:lnTo>
                <a:lnTo>
                  <a:pt x="681" y="549"/>
                </a:lnTo>
                <a:lnTo>
                  <a:pt x="680" y="567"/>
                </a:lnTo>
                <a:lnTo>
                  <a:pt x="676" y="586"/>
                </a:lnTo>
                <a:lnTo>
                  <a:pt x="672" y="605"/>
                </a:lnTo>
                <a:lnTo>
                  <a:pt x="668" y="624"/>
                </a:lnTo>
                <a:lnTo>
                  <a:pt x="666" y="645"/>
                </a:lnTo>
                <a:lnTo>
                  <a:pt x="662" y="667"/>
                </a:lnTo>
                <a:lnTo>
                  <a:pt x="655" y="707"/>
                </a:lnTo>
                <a:lnTo>
                  <a:pt x="649" y="747"/>
                </a:lnTo>
                <a:lnTo>
                  <a:pt x="641" y="787"/>
                </a:lnTo>
                <a:lnTo>
                  <a:pt x="633" y="824"/>
                </a:lnTo>
                <a:lnTo>
                  <a:pt x="626" y="860"/>
                </a:lnTo>
                <a:lnTo>
                  <a:pt x="616" y="897"/>
                </a:lnTo>
                <a:lnTo>
                  <a:pt x="609" y="929"/>
                </a:lnTo>
                <a:lnTo>
                  <a:pt x="599" y="962"/>
                </a:lnTo>
                <a:lnTo>
                  <a:pt x="589" y="995"/>
                </a:lnTo>
                <a:lnTo>
                  <a:pt x="580" y="1024"/>
                </a:lnTo>
                <a:lnTo>
                  <a:pt x="570" y="1052"/>
                </a:lnTo>
                <a:lnTo>
                  <a:pt x="561" y="1079"/>
                </a:lnTo>
                <a:lnTo>
                  <a:pt x="551" y="1106"/>
                </a:lnTo>
                <a:lnTo>
                  <a:pt x="539" y="1129"/>
                </a:lnTo>
                <a:lnTo>
                  <a:pt x="530" y="1154"/>
                </a:lnTo>
                <a:lnTo>
                  <a:pt x="518" y="1175"/>
                </a:lnTo>
                <a:lnTo>
                  <a:pt x="507" y="1196"/>
                </a:lnTo>
                <a:lnTo>
                  <a:pt x="495" y="1217"/>
                </a:lnTo>
                <a:lnTo>
                  <a:pt x="484" y="1237"/>
                </a:lnTo>
                <a:lnTo>
                  <a:pt x="472" y="1256"/>
                </a:lnTo>
                <a:lnTo>
                  <a:pt x="463" y="1273"/>
                </a:lnTo>
                <a:lnTo>
                  <a:pt x="451" y="1290"/>
                </a:lnTo>
                <a:lnTo>
                  <a:pt x="440" y="1308"/>
                </a:lnTo>
                <a:lnTo>
                  <a:pt x="428" y="1323"/>
                </a:lnTo>
                <a:lnTo>
                  <a:pt x="417" y="1336"/>
                </a:lnTo>
                <a:lnTo>
                  <a:pt x="405" y="1352"/>
                </a:lnTo>
                <a:lnTo>
                  <a:pt x="394" y="1363"/>
                </a:lnTo>
                <a:lnTo>
                  <a:pt x="382" y="1377"/>
                </a:lnTo>
                <a:lnTo>
                  <a:pt x="371" y="1388"/>
                </a:lnTo>
                <a:lnTo>
                  <a:pt x="359" y="1398"/>
                </a:lnTo>
                <a:lnTo>
                  <a:pt x="349" y="1407"/>
                </a:lnTo>
                <a:lnTo>
                  <a:pt x="338" y="1417"/>
                </a:lnTo>
                <a:lnTo>
                  <a:pt x="315" y="1432"/>
                </a:lnTo>
                <a:lnTo>
                  <a:pt x="305" y="1438"/>
                </a:lnTo>
                <a:lnTo>
                  <a:pt x="296" y="1446"/>
                </a:lnTo>
                <a:lnTo>
                  <a:pt x="284" y="1452"/>
                </a:lnTo>
                <a:lnTo>
                  <a:pt x="276" y="1457"/>
                </a:lnTo>
                <a:lnTo>
                  <a:pt x="267" y="1461"/>
                </a:lnTo>
                <a:lnTo>
                  <a:pt x="257" y="1467"/>
                </a:lnTo>
                <a:lnTo>
                  <a:pt x="250" y="1469"/>
                </a:lnTo>
                <a:lnTo>
                  <a:pt x="242" y="1473"/>
                </a:lnTo>
                <a:lnTo>
                  <a:pt x="234" y="1475"/>
                </a:lnTo>
                <a:lnTo>
                  <a:pt x="227" y="1477"/>
                </a:lnTo>
                <a:lnTo>
                  <a:pt x="221" y="1477"/>
                </a:lnTo>
                <a:lnTo>
                  <a:pt x="215" y="1477"/>
                </a:lnTo>
                <a:lnTo>
                  <a:pt x="209" y="1475"/>
                </a:lnTo>
                <a:lnTo>
                  <a:pt x="205" y="1473"/>
                </a:lnTo>
                <a:lnTo>
                  <a:pt x="198" y="1471"/>
                </a:lnTo>
                <a:lnTo>
                  <a:pt x="194" y="1467"/>
                </a:lnTo>
                <a:lnTo>
                  <a:pt x="188" y="1463"/>
                </a:lnTo>
                <a:lnTo>
                  <a:pt x="184" y="1459"/>
                </a:lnTo>
                <a:lnTo>
                  <a:pt x="180" y="1453"/>
                </a:lnTo>
                <a:lnTo>
                  <a:pt x="179" y="1450"/>
                </a:lnTo>
                <a:lnTo>
                  <a:pt x="177" y="1444"/>
                </a:lnTo>
                <a:lnTo>
                  <a:pt x="175" y="1438"/>
                </a:lnTo>
                <a:lnTo>
                  <a:pt x="175" y="1430"/>
                </a:lnTo>
                <a:lnTo>
                  <a:pt x="175" y="1423"/>
                </a:lnTo>
                <a:lnTo>
                  <a:pt x="175" y="1415"/>
                </a:lnTo>
                <a:lnTo>
                  <a:pt x="175" y="1406"/>
                </a:lnTo>
                <a:lnTo>
                  <a:pt x="175" y="1396"/>
                </a:lnTo>
                <a:lnTo>
                  <a:pt x="177" y="1384"/>
                </a:lnTo>
                <a:lnTo>
                  <a:pt x="179" y="1373"/>
                </a:lnTo>
                <a:lnTo>
                  <a:pt x="180" y="1359"/>
                </a:lnTo>
                <a:lnTo>
                  <a:pt x="182" y="1346"/>
                </a:lnTo>
                <a:lnTo>
                  <a:pt x="182" y="1333"/>
                </a:lnTo>
                <a:lnTo>
                  <a:pt x="182" y="1321"/>
                </a:lnTo>
                <a:lnTo>
                  <a:pt x="180" y="1310"/>
                </a:lnTo>
                <a:lnTo>
                  <a:pt x="179" y="1296"/>
                </a:lnTo>
                <a:lnTo>
                  <a:pt x="175" y="1285"/>
                </a:lnTo>
                <a:lnTo>
                  <a:pt x="171" y="1273"/>
                </a:lnTo>
                <a:lnTo>
                  <a:pt x="165" y="1260"/>
                </a:lnTo>
                <a:lnTo>
                  <a:pt x="159" y="1248"/>
                </a:lnTo>
                <a:lnTo>
                  <a:pt x="152" y="1237"/>
                </a:lnTo>
                <a:lnTo>
                  <a:pt x="144" y="1225"/>
                </a:lnTo>
                <a:lnTo>
                  <a:pt x="136" y="1212"/>
                </a:lnTo>
                <a:lnTo>
                  <a:pt x="127" y="1200"/>
                </a:lnTo>
                <a:lnTo>
                  <a:pt x="117" y="1187"/>
                </a:lnTo>
                <a:lnTo>
                  <a:pt x="108" y="1175"/>
                </a:lnTo>
                <a:lnTo>
                  <a:pt x="96" y="1162"/>
                </a:lnTo>
                <a:lnTo>
                  <a:pt x="86" y="1148"/>
                </a:lnTo>
                <a:lnTo>
                  <a:pt x="75" y="1137"/>
                </a:lnTo>
                <a:lnTo>
                  <a:pt x="65" y="1123"/>
                </a:lnTo>
                <a:lnTo>
                  <a:pt x="56" y="1114"/>
                </a:lnTo>
                <a:lnTo>
                  <a:pt x="48" y="1102"/>
                </a:lnTo>
                <a:lnTo>
                  <a:pt x="40" y="1093"/>
                </a:lnTo>
                <a:lnTo>
                  <a:pt x="33" y="1085"/>
                </a:lnTo>
                <a:lnTo>
                  <a:pt x="27" y="1075"/>
                </a:lnTo>
                <a:lnTo>
                  <a:pt x="19" y="1068"/>
                </a:lnTo>
                <a:lnTo>
                  <a:pt x="15" y="1062"/>
                </a:lnTo>
                <a:lnTo>
                  <a:pt x="10" y="1056"/>
                </a:lnTo>
                <a:lnTo>
                  <a:pt x="8" y="1050"/>
                </a:lnTo>
                <a:lnTo>
                  <a:pt x="4" y="1045"/>
                </a:lnTo>
                <a:lnTo>
                  <a:pt x="2" y="1041"/>
                </a:lnTo>
                <a:lnTo>
                  <a:pt x="0" y="1037"/>
                </a:lnTo>
                <a:lnTo>
                  <a:pt x="0" y="1033"/>
                </a:lnTo>
                <a:lnTo>
                  <a:pt x="0" y="1031"/>
                </a:lnTo>
                <a:lnTo>
                  <a:pt x="2" y="1029"/>
                </a:lnTo>
                <a:lnTo>
                  <a:pt x="6" y="1027"/>
                </a:lnTo>
                <a:lnTo>
                  <a:pt x="10" y="1025"/>
                </a:lnTo>
                <a:lnTo>
                  <a:pt x="13" y="1025"/>
                </a:lnTo>
                <a:lnTo>
                  <a:pt x="21" y="1025"/>
                </a:lnTo>
                <a:lnTo>
                  <a:pt x="27" y="1024"/>
                </a:lnTo>
                <a:lnTo>
                  <a:pt x="37" y="1025"/>
                </a:lnTo>
                <a:lnTo>
                  <a:pt x="46" y="1025"/>
                </a:lnTo>
                <a:lnTo>
                  <a:pt x="56" y="1027"/>
                </a:lnTo>
                <a:lnTo>
                  <a:pt x="69" y="1029"/>
                </a:lnTo>
                <a:lnTo>
                  <a:pt x="81" y="1031"/>
                </a:lnTo>
                <a:lnTo>
                  <a:pt x="96" y="1035"/>
                </a:lnTo>
                <a:lnTo>
                  <a:pt x="111" y="1039"/>
                </a:lnTo>
                <a:lnTo>
                  <a:pt x="127" y="1043"/>
                </a:lnTo>
                <a:lnTo>
                  <a:pt x="144" y="1048"/>
                </a:lnTo>
                <a:lnTo>
                  <a:pt x="161" y="1056"/>
                </a:lnTo>
                <a:lnTo>
                  <a:pt x="179" y="1062"/>
                </a:lnTo>
                <a:lnTo>
                  <a:pt x="196" y="1068"/>
                </a:lnTo>
                <a:lnTo>
                  <a:pt x="209" y="1072"/>
                </a:lnTo>
                <a:lnTo>
                  <a:pt x="225" y="1075"/>
                </a:lnTo>
                <a:lnTo>
                  <a:pt x="238" y="1079"/>
                </a:lnTo>
                <a:lnTo>
                  <a:pt x="251" y="1079"/>
                </a:lnTo>
                <a:lnTo>
                  <a:pt x="263" y="1081"/>
                </a:lnTo>
                <a:lnTo>
                  <a:pt x="275" y="1079"/>
                </a:lnTo>
                <a:lnTo>
                  <a:pt x="286" y="1077"/>
                </a:lnTo>
                <a:lnTo>
                  <a:pt x="296" y="1075"/>
                </a:lnTo>
                <a:lnTo>
                  <a:pt x="305" y="1072"/>
                </a:lnTo>
                <a:lnTo>
                  <a:pt x="315" y="1068"/>
                </a:lnTo>
                <a:lnTo>
                  <a:pt x="323" y="1062"/>
                </a:lnTo>
                <a:lnTo>
                  <a:pt x="330" y="1056"/>
                </a:lnTo>
                <a:lnTo>
                  <a:pt x="338" y="1048"/>
                </a:lnTo>
                <a:lnTo>
                  <a:pt x="342" y="1045"/>
                </a:lnTo>
                <a:lnTo>
                  <a:pt x="344" y="1039"/>
                </a:lnTo>
                <a:lnTo>
                  <a:pt x="347" y="1033"/>
                </a:lnTo>
                <a:lnTo>
                  <a:pt x="351" y="1027"/>
                </a:lnTo>
                <a:lnTo>
                  <a:pt x="355" y="1022"/>
                </a:lnTo>
                <a:lnTo>
                  <a:pt x="357" y="1014"/>
                </a:lnTo>
                <a:lnTo>
                  <a:pt x="361" y="1008"/>
                </a:lnTo>
                <a:lnTo>
                  <a:pt x="365" y="1001"/>
                </a:lnTo>
                <a:lnTo>
                  <a:pt x="369" y="991"/>
                </a:lnTo>
                <a:lnTo>
                  <a:pt x="372" y="983"/>
                </a:lnTo>
                <a:lnTo>
                  <a:pt x="374" y="974"/>
                </a:lnTo>
                <a:lnTo>
                  <a:pt x="378" y="964"/>
                </a:lnTo>
                <a:lnTo>
                  <a:pt x="382" y="953"/>
                </a:lnTo>
                <a:lnTo>
                  <a:pt x="386" y="943"/>
                </a:lnTo>
                <a:lnTo>
                  <a:pt x="390" y="931"/>
                </a:lnTo>
                <a:lnTo>
                  <a:pt x="394" y="918"/>
                </a:lnTo>
                <a:lnTo>
                  <a:pt x="397" y="906"/>
                </a:lnTo>
                <a:lnTo>
                  <a:pt x="401" y="893"/>
                </a:lnTo>
                <a:lnTo>
                  <a:pt x="405" y="880"/>
                </a:lnTo>
                <a:lnTo>
                  <a:pt x="409" y="864"/>
                </a:lnTo>
                <a:lnTo>
                  <a:pt x="413" y="851"/>
                </a:lnTo>
                <a:lnTo>
                  <a:pt x="417" y="835"/>
                </a:lnTo>
                <a:lnTo>
                  <a:pt x="420" y="820"/>
                </a:lnTo>
                <a:lnTo>
                  <a:pt x="424" y="803"/>
                </a:lnTo>
                <a:lnTo>
                  <a:pt x="428" y="786"/>
                </a:lnTo>
                <a:lnTo>
                  <a:pt x="432" y="768"/>
                </a:lnTo>
                <a:lnTo>
                  <a:pt x="436" y="751"/>
                </a:lnTo>
                <a:lnTo>
                  <a:pt x="440" y="732"/>
                </a:lnTo>
                <a:lnTo>
                  <a:pt x="445" y="713"/>
                </a:lnTo>
                <a:lnTo>
                  <a:pt x="449" y="693"/>
                </a:lnTo>
                <a:lnTo>
                  <a:pt x="453" y="672"/>
                </a:lnTo>
                <a:lnTo>
                  <a:pt x="459" y="651"/>
                </a:lnTo>
                <a:lnTo>
                  <a:pt x="463" y="630"/>
                </a:lnTo>
                <a:lnTo>
                  <a:pt x="466" y="611"/>
                </a:lnTo>
                <a:lnTo>
                  <a:pt x="470" y="590"/>
                </a:lnTo>
                <a:lnTo>
                  <a:pt x="474" y="571"/>
                </a:lnTo>
                <a:lnTo>
                  <a:pt x="478" y="551"/>
                </a:lnTo>
                <a:lnTo>
                  <a:pt x="482" y="534"/>
                </a:lnTo>
                <a:lnTo>
                  <a:pt x="486" y="517"/>
                </a:lnTo>
                <a:lnTo>
                  <a:pt x="490" y="500"/>
                </a:lnTo>
                <a:lnTo>
                  <a:pt x="491" y="484"/>
                </a:lnTo>
                <a:lnTo>
                  <a:pt x="495" y="467"/>
                </a:lnTo>
                <a:lnTo>
                  <a:pt x="499" y="452"/>
                </a:lnTo>
                <a:lnTo>
                  <a:pt x="501" y="438"/>
                </a:lnTo>
                <a:lnTo>
                  <a:pt x="505" y="423"/>
                </a:lnTo>
                <a:lnTo>
                  <a:pt x="507" y="409"/>
                </a:lnTo>
                <a:lnTo>
                  <a:pt x="509" y="396"/>
                </a:lnTo>
                <a:lnTo>
                  <a:pt x="511" y="384"/>
                </a:lnTo>
                <a:lnTo>
                  <a:pt x="514" y="373"/>
                </a:lnTo>
                <a:lnTo>
                  <a:pt x="516" y="361"/>
                </a:lnTo>
                <a:lnTo>
                  <a:pt x="518" y="350"/>
                </a:lnTo>
                <a:lnTo>
                  <a:pt x="520" y="340"/>
                </a:lnTo>
                <a:lnTo>
                  <a:pt x="520" y="329"/>
                </a:lnTo>
                <a:lnTo>
                  <a:pt x="522" y="321"/>
                </a:lnTo>
                <a:lnTo>
                  <a:pt x="524" y="311"/>
                </a:lnTo>
                <a:lnTo>
                  <a:pt x="526" y="304"/>
                </a:lnTo>
                <a:lnTo>
                  <a:pt x="526" y="296"/>
                </a:lnTo>
                <a:lnTo>
                  <a:pt x="528" y="288"/>
                </a:lnTo>
                <a:lnTo>
                  <a:pt x="528" y="281"/>
                </a:lnTo>
                <a:lnTo>
                  <a:pt x="528" y="275"/>
                </a:lnTo>
                <a:lnTo>
                  <a:pt x="530" y="269"/>
                </a:lnTo>
                <a:lnTo>
                  <a:pt x="530" y="263"/>
                </a:lnTo>
                <a:lnTo>
                  <a:pt x="530" y="260"/>
                </a:lnTo>
                <a:lnTo>
                  <a:pt x="530" y="256"/>
                </a:lnTo>
                <a:lnTo>
                  <a:pt x="528" y="246"/>
                </a:lnTo>
                <a:lnTo>
                  <a:pt x="522" y="240"/>
                </a:lnTo>
                <a:lnTo>
                  <a:pt x="516" y="233"/>
                </a:lnTo>
                <a:lnTo>
                  <a:pt x="509" y="225"/>
                </a:lnTo>
                <a:lnTo>
                  <a:pt x="501" y="219"/>
                </a:lnTo>
                <a:lnTo>
                  <a:pt x="491" y="214"/>
                </a:lnTo>
                <a:lnTo>
                  <a:pt x="478" y="208"/>
                </a:lnTo>
                <a:lnTo>
                  <a:pt x="465" y="202"/>
                </a:lnTo>
                <a:lnTo>
                  <a:pt x="451" y="196"/>
                </a:lnTo>
                <a:lnTo>
                  <a:pt x="434" y="192"/>
                </a:lnTo>
                <a:lnTo>
                  <a:pt x="417" y="187"/>
                </a:lnTo>
                <a:lnTo>
                  <a:pt x="397" y="183"/>
                </a:lnTo>
                <a:lnTo>
                  <a:pt x="374" y="179"/>
                </a:lnTo>
                <a:lnTo>
                  <a:pt x="351" y="175"/>
                </a:lnTo>
                <a:lnTo>
                  <a:pt x="328" y="173"/>
                </a:lnTo>
                <a:lnTo>
                  <a:pt x="301" y="169"/>
                </a:lnTo>
                <a:lnTo>
                  <a:pt x="286" y="169"/>
                </a:lnTo>
                <a:lnTo>
                  <a:pt x="273" y="167"/>
                </a:lnTo>
                <a:lnTo>
                  <a:pt x="259" y="166"/>
                </a:lnTo>
                <a:lnTo>
                  <a:pt x="246" y="162"/>
                </a:lnTo>
                <a:lnTo>
                  <a:pt x="234" y="160"/>
                </a:lnTo>
                <a:lnTo>
                  <a:pt x="223" y="158"/>
                </a:lnTo>
                <a:lnTo>
                  <a:pt x="211" y="154"/>
                </a:lnTo>
                <a:lnTo>
                  <a:pt x="200" y="152"/>
                </a:lnTo>
                <a:lnTo>
                  <a:pt x="190" y="148"/>
                </a:lnTo>
                <a:lnTo>
                  <a:pt x="179" y="144"/>
                </a:lnTo>
                <a:lnTo>
                  <a:pt x="169" y="141"/>
                </a:lnTo>
                <a:lnTo>
                  <a:pt x="161" y="137"/>
                </a:lnTo>
                <a:lnTo>
                  <a:pt x="152" y="133"/>
                </a:lnTo>
                <a:lnTo>
                  <a:pt x="144" y="129"/>
                </a:lnTo>
                <a:lnTo>
                  <a:pt x="136" y="125"/>
                </a:lnTo>
                <a:lnTo>
                  <a:pt x="131" y="119"/>
                </a:lnTo>
                <a:lnTo>
                  <a:pt x="123" y="116"/>
                </a:lnTo>
                <a:lnTo>
                  <a:pt x="117" y="110"/>
                </a:lnTo>
                <a:lnTo>
                  <a:pt x="111" y="106"/>
                </a:lnTo>
                <a:lnTo>
                  <a:pt x="106" y="100"/>
                </a:lnTo>
                <a:lnTo>
                  <a:pt x="102" y="95"/>
                </a:lnTo>
                <a:lnTo>
                  <a:pt x="98" y="89"/>
                </a:lnTo>
                <a:lnTo>
                  <a:pt x="94" y="83"/>
                </a:lnTo>
                <a:lnTo>
                  <a:pt x="92" y="77"/>
                </a:lnTo>
                <a:lnTo>
                  <a:pt x="88" y="71"/>
                </a:lnTo>
                <a:lnTo>
                  <a:pt x="86" y="66"/>
                </a:lnTo>
                <a:lnTo>
                  <a:pt x="85" y="60"/>
                </a:lnTo>
                <a:lnTo>
                  <a:pt x="85" y="54"/>
                </a:lnTo>
                <a:lnTo>
                  <a:pt x="83" y="48"/>
                </a:lnTo>
                <a:lnTo>
                  <a:pt x="83" y="41"/>
                </a:lnTo>
                <a:lnTo>
                  <a:pt x="85" y="35"/>
                </a:lnTo>
                <a:lnTo>
                  <a:pt x="85" y="29"/>
                </a:lnTo>
                <a:lnTo>
                  <a:pt x="109" y="31"/>
                </a:lnTo>
                <a:lnTo>
                  <a:pt x="134" y="33"/>
                </a:lnTo>
                <a:lnTo>
                  <a:pt x="159" y="35"/>
                </a:lnTo>
                <a:lnTo>
                  <a:pt x="182" y="37"/>
                </a:lnTo>
                <a:lnTo>
                  <a:pt x="205" y="39"/>
                </a:lnTo>
                <a:lnTo>
                  <a:pt x="227" y="41"/>
                </a:lnTo>
                <a:lnTo>
                  <a:pt x="248" y="43"/>
                </a:lnTo>
                <a:lnTo>
                  <a:pt x="267" y="45"/>
                </a:lnTo>
                <a:lnTo>
                  <a:pt x="286" y="47"/>
                </a:lnTo>
                <a:lnTo>
                  <a:pt x="305" y="47"/>
                </a:lnTo>
                <a:lnTo>
                  <a:pt x="324" y="48"/>
                </a:lnTo>
                <a:lnTo>
                  <a:pt x="342" y="48"/>
                </a:lnTo>
                <a:lnTo>
                  <a:pt x="357" y="50"/>
                </a:lnTo>
                <a:lnTo>
                  <a:pt x="372" y="50"/>
                </a:lnTo>
                <a:lnTo>
                  <a:pt x="388" y="50"/>
                </a:lnTo>
                <a:lnTo>
                  <a:pt x="401" y="52"/>
                </a:lnTo>
                <a:lnTo>
                  <a:pt x="415" y="52"/>
                </a:lnTo>
                <a:lnTo>
                  <a:pt x="428" y="52"/>
                </a:lnTo>
                <a:lnTo>
                  <a:pt x="440" y="52"/>
                </a:lnTo>
                <a:lnTo>
                  <a:pt x="451" y="52"/>
                </a:lnTo>
                <a:lnTo>
                  <a:pt x="463" y="52"/>
                </a:lnTo>
                <a:lnTo>
                  <a:pt x="472" y="50"/>
                </a:lnTo>
                <a:lnTo>
                  <a:pt x="480" y="50"/>
                </a:lnTo>
                <a:lnTo>
                  <a:pt x="490" y="50"/>
                </a:lnTo>
                <a:lnTo>
                  <a:pt x="497" y="50"/>
                </a:lnTo>
                <a:lnTo>
                  <a:pt x="503" y="48"/>
                </a:lnTo>
                <a:lnTo>
                  <a:pt x="511" y="48"/>
                </a:lnTo>
                <a:lnTo>
                  <a:pt x="514" y="47"/>
                </a:lnTo>
                <a:lnTo>
                  <a:pt x="520" y="47"/>
                </a:lnTo>
                <a:lnTo>
                  <a:pt x="524" y="45"/>
                </a:lnTo>
                <a:lnTo>
                  <a:pt x="528" y="43"/>
                </a:lnTo>
                <a:lnTo>
                  <a:pt x="53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95"/>
          <p:cNvSpPr/>
          <p:nvPr/>
        </p:nvSpPr>
        <p:spPr>
          <a:xfrm>
            <a:off x="6354720" y="3546360"/>
            <a:ext cx="690480" cy="1255680"/>
          </a:xfrm>
          <a:custGeom>
            <a:avLst/>
            <a:gdLst/>
            <a:ahLst/>
            <a:rect l="l" t="t" r="r" b="b"/>
            <a:pathLst>
              <a:path w="872" h="1582">
                <a:moveTo>
                  <a:pt x="666" y="6"/>
                </a:moveTo>
                <a:lnTo>
                  <a:pt x="672" y="4"/>
                </a:lnTo>
                <a:lnTo>
                  <a:pt x="680" y="2"/>
                </a:lnTo>
                <a:lnTo>
                  <a:pt x="686" y="0"/>
                </a:lnTo>
                <a:lnTo>
                  <a:pt x="693" y="0"/>
                </a:lnTo>
                <a:lnTo>
                  <a:pt x="699" y="0"/>
                </a:lnTo>
                <a:lnTo>
                  <a:pt x="707" y="0"/>
                </a:lnTo>
                <a:lnTo>
                  <a:pt x="714" y="2"/>
                </a:lnTo>
                <a:lnTo>
                  <a:pt x="722" y="4"/>
                </a:lnTo>
                <a:lnTo>
                  <a:pt x="728" y="6"/>
                </a:lnTo>
                <a:lnTo>
                  <a:pt x="736" y="10"/>
                </a:lnTo>
                <a:lnTo>
                  <a:pt x="753" y="15"/>
                </a:lnTo>
                <a:lnTo>
                  <a:pt x="768" y="25"/>
                </a:lnTo>
                <a:lnTo>
                  <a:pt x="785" y="35"/>
                </a:lnTo>
                <a:lnTo>
                  <a:pt x="799" y="50"/>
                </a:lnTo>
                <a:lnTo>
                  <a:pt x="812" y="63"/>
                </a:lnTo>
                <a:lnTo>
                  <a:pt x="826" y="77"/>
                </a:lnTo>
                <a:lnTo>
                  <a:pt x="837" y="87"/>
                </a:lnTo>
                <a:lnTo>
                  <a:pt x="847" y="98"/>
                </a:lnTo>
                <a:lnTo>
                  <a:pt x="856" y="106"/>
                </a:lnTo>
                <a:lnTo>
                  <a:pt x="860" y="110"/>
                </a:lnTo>
                <a:lnTo>
                  <a:pt x="864" y="113"/>
                </a:lnTo>
                <a:lnTo>
                  <a:pt x="868" y="117"/>
                </a:lnTo>
                <a:lnTo>
                  <a:pt x="870" y="119"/>
                </a:lnTo>
                <a:lnTo>
                  <a:pt x="872" y="123"/>
                </a:lnTo>
                <a:lnTo>
                  <a:pt x="872" y="127"/>
                </a:lnTo>
                <a:lnTo>
                  <a:pt x="872" y="131"/>
                </a:lnTo>
                <a:lnTo>
                  <a:pt x="872" y="136"/>
                </a:lnTo>
                <a:lnTo>
                  <a:pt x="870" y="142"/>
                </a:lnTo>
                <a:lnTo>
                  <a:pt x="870" y="148"/>
                </a:lnTo>
                <a:lnTo>
                  <a:pt x="868" y="156"/>
                </a:lnTo>
                <a:lnTo>
                  <a:pt x="866" y="163"/>
                </a:lnTo>
                <a:lnTo>
                  <a:pt x="864" y="173"/>
                </a:lnTo>
                <a:lnTo>
                  <a:pt x="860" y="182"/>
                </a:lnTo>
                <a:lnTo>
                  <a:pt x="858" y="194"/>
                </a:lnTo>
                <a:lnTo>
                  <a:pt x="855" y="206"/>
                </a:lnTo>
                <a:lnTo>
                  <a:pt x="851" y="217"/>
                </a:lnTo>
                <a:lnTo>
                  <a:pt x="845" y="229"/>
                </a:lnTo>
                <a:lnTo>
                  <a:pt x="841" y="242"/>
                </a:lnTo>
                <a:lnTo>
                  <a:pt x="835" y="257"/>
                </a:lnTo>
                <a:lnTo>
                  <a:pt x="832" y="273"/>
                </a:lnTo>
                <a:lnTo>
                  <a:pt x="826" y="288"/>
                </a:lnTo>
                <a:lnTo>
                  <a:pt x="820" y="303"/>
                </a:lnTo>
                <a:lnTo>
                  <a:pt x="812" y="321"/>
                </a:lnTo>
                <a:lnTo>
                  <a:pt x="807" y="340"/>
                </a:lnTo>
                <a:lnTo>
                  <a:pt x="799" y="357"/>
                </a:lnTo>
                <a:lnTo>
                  <a:pt x="793" y="378"/>
                </a:lnTo>
                <a:lnTo>
                  <a:pt x="785" y="397"/>
                </a:lnTo>
                <a:lnTo>
                  <a:pt x="778" y="419"/>
                </a:lnTo>
                <a:lnTo>
                  <a:pt x="768" y="440"/>
                </a:lnTo>
                <a:lnTo>
                  <a:pt x="761" y="463"/>
                </a:lnTo>
                <a:lnTo>
                  <a:pt x="751" y="486"/>
                </a:lnTo>
                <a:lnTo>
                  <a:pt x="743" y="511"/>
                </a:lnTo>
                <a:lnTo>
                  <a:pt x="734" y="536"/>
                </a:lnTo>
                <a:lnTo>
                  <a:pt x="724" y="561"/>
                </a:lnTo>
                <a:lnTo>
                  <a:pt x="714" y="587"/>
                </a:lnTo>
                <a:lnTo>
                  <a:pt x="705" y="612"/>
                </a:lnTo>
                <a:lnTo>
                  <a:pt x="693" y="639"/>
                </a:lnTo>
                <a:lnTo>
                  <a:pt x="684" y="664"/>
                </a:lnTo>
                <a:lnTo>
                  <a:pt x="674" y="689"/>
                </a:lnTo>
                <a:lnTo>
                  <a:pt x="665" y="714"/>
                </a:lnTo>
                <a:lnTo>
                  <a:pt x="655" y="737"/>
                </a:lnTo>
                <a:lnTo>
                  <a:pt x="645" y="760"/>
                </a:lnTo>
                <a:lnTo>
                  <a:pt x="636" y="783"/>
                </a:lnTo>
                <a:lnTo>
                  <a:pt x="626" y="806"/>
                </a:lnTo>
                <a:lnTo>
                  <a:pt x="617" y="827"/>
                </a:lnTo>
                <a:lnTo>
                  <a:pt x="607" y="849"/>
                </a:lnTo>
                <a:lnTo>
                  <a:pt x="597" y="870"/>
                </a:lnTo>
                <a:lnTo>
                  <a:pt x="588" y="891"/>
                </a:lnTo>
                <a:lnTo>
                  <a:pt x="578" y="910"/>
                </a:lnTo>
                <a:lnTo>
                  <a:pt x="570" y="929"/>
                </a:lnTo>
                <a:lnTo>
                  <a:pt x="561" y="948"/>
                </a:lnTo>
                <a:lnTo>
                  <a:pt x="551" y="966"/>
                </a:lnTo>
                <a:lnTo>
                  <a:pt x="542" y="985"/>
                </a:lnTo>
                <a:lnTo>
                  <a:pt x="534" y="1002"/>
                </a:lnTo>
                <a:lnTo>
                  <a:pt x="524" y="1017"/>
                </a:lnTo>
                <a:lnTo>
                  <a:pt x="517" y="1035"/>
                </a:lnTo>
                <a:lnTo>
                  <a:pt x="507" y="1050"/>
                </a:lnTo>
                <a:lnTo>
                  <a:pt x="499" y="1065"/>
                </a:lnTo>
                <a:lnTo>
                  <a:pt x="490" y="1081"/>
                </a:lnTo>
                <a:lnTo>
                  <a:pt x="482" y="1094"/>
                </a:lnTo>
                <a:lnTo>
                  <a:pt x="473" y="1110"/>
                </a:lnTo>
                <a:lnTo>
                  <a:pt x="465" y="1121"/>
                </a:lnTo>
                <a:lnTo>
                  <a:pt x="457" y="1135"/>
                </a:lnTo>
                <a:lnTo>
                  <a:pt x="448" y="1148"/>
                </a:lnTo>
                <a:lnTo>
                  <a:pt x="440" y="1159"/>
                </a:lnTo>
                <a:lnTo>
                  <a:pt x="432" y="1171"/>
                </a:lnTo>
                <a:lnTo>
                  <a:pt x="425" y="1183"/>
                </a:lnTo>
                <a:lnTo>
                  <a:pt x="394" y="1223"/>
                </a:lnTo>
                <a:lnTo>
                  <a:pt x="361" y="1263"/>
                </a:lnTo>
                <a:lnTo>
                  <a:pt x="331" y="1303"/>
                </a:lnTo>
                <a:lnTo>
                  <a:pt x="298" y="1340"/>
                </a:lnTo>
                <a:lnTo>
                  <a:pt x="267" y="1376"/>
                </a:lnTo>
                <a:lnTo>
                  <a:pt x="235" y="1413"/>
                </a:lnTo>
                <a:lnTo>
                  <a:pt x="204" y="1446"/>
                </a:lnTo>
                <a:lnTo>
                  <a:pt x="173" y="1478"/>
                </a:lnTo>
                <a:lnTo>
                  <a:pt x="154" y="1493"/>
                </a:lnTo>
                <a:lnTo>
                  <a:pt x="139" y="1509"/>
                </a:lnTo>
                <a:lnTo>
                  <a:pt x="121" y="1520"/>
                </a:lnTo>
                <a:lnTo>
                  <a:pt x="108" y="1532"/>
                </a:lnTo>
                <a:lnTo>
                  <a:pt x="93" y="1543"/>
                </a:lnTo>
                <a:lnTo>
                  <a:pt x="79" y="1551"/>
                </a:lnTo>
                <a:lnTo>
                  <a:pt x="68" y="1559"/>
                </a:lnTo>
                <a:lnTo>
                  <a:pt x="56" y="1566"/>
                </a:lnTo>
                <a:lnTo>
                  <a:pt x="46" y="1572"/>
                </a:lnTo>
                <a:lnTo>
                  <a:pt x="37" y="1576"/>
                </a:lnTo>
                <a:lnTo>
                  <a:pt x="29" y="1578"/>
                </a:lnTo>
                <a:lnTo>
                  <a:pt x="22" y="1580"/>
                </a:lnTo>
                <a:lnTo>
                  <a:pt x="16" y="1582"/>
                </a:lnTo>
                <a:lnTo>
                  <a:pt x="10" y="1582"/>
                </a:lnTo>
                <a:lnTo>
                  <a:pt x="6" y="1580"/>
                </a:lnTo>
                <a:lnTo>
                  <a:pt x="4" y="1578"/>
                </a:lnTo>
                <a:lnTo>
                  <a:pt x="2" y="1574"/>
                </a:lnTo>
                <a:lnTo>
                  <a:pt x="0" y="1570"/>
                </a:lnTo>
                <a:lnTo>
                  <a:pt x="2" y="1565"/>
                </a:lnTo>
                <a:lnTo>
                  <a:pt x="4" y="1557"/>
                </a:lnTo>
                <a:lnTo>
                  <a:pt x="6" y="1549"/>
                </a:lnTo>
                <a:lnTo>
                  <a:pt x="12" y="1540"/>
                </a:lnTo>
                <a:lnTo>
                  <a:pt x="18" y="1528"/>
                </a:lnTo>
                <a:lnTo>
                  <a:pt x="23" y="1517"/>
                </a:lnTo>
                <a:lnTo>
                  <a:pt x="31" y="1503"/>
                </a:lnTo>
                <a:lnTo>
                  <a:pt x="41" y="1490"/>
                </a:lnTo>
                <a:lnTo>
                  <a:pt x="52" y="1474"/>
                </a:lnTo>
                <a:lnTo>
                  <a:pt x="64" y="1457"/>
                </a:lnTo>
                <a:lnTo>
                  <a:pt x="77" y="1440"/>
                </a:lnTo>
                <a:lnTo>
                  <a:pt x="91" y="1421"/>
                </a:lnTo>
                <a:lnTo>
                  <a:pt x="106" y="1401"/>
                </a:lnTo>
                <a:lnTo>
                  <a:pt x="123" y="1380"/>
                </a:lnTo>
                <a:lnTo>
                  <a:pt x="142" y="1357"/>
                </a:lnTo>
                <a:lnTo>
                  <a:pt x="160" y="1334"/>
                </a:lnTo>
                <a:lnTo>
                  <a:pt x="177" y="1309"/>
                </a:lnTo>
                <a:lnTo>
                  <a:pt x="196" y="1284"/>
                </a:lnTo>
                <a:lnTo>
                  <a:pt x="213" y="1257"/>
                </a:lnTo>
                <a:lnTo>
                  <a:pt x="233" y="1229"/>
                </a:lnTo>
                <a:lnTo>
                  <a:pt x="252" y="1200"/>
                </a:lnTo>
                <a:lnTo>
                  <a:pt x="269" y="1169"/>
                </a:lnTo>
                <a:lnTo>
                  <a:pt x="288" y="1136"/>
                </a:lnTo>
                <a:lnTo>
                  <a:pt x="308" y="1104"/>
                </a:lnTo>
                <a:lnTo>
                  <a:pt x="327" y="1071"/>
                </a:lnTo>
                <a:lnTo>
                  <a:pt x="346" y="1035"/>
                </a:lnTo>
                <a:lnTo>
                  <a:pt x="365" y="998"/>
                </a:lnTo>
                <a:lnTo>
                  <a:pt x="384" y="962"/>
                </a:lnTo>
                <a:lnTo>
                  <a:pt x="405" y="923"/>
                </a:lnTo>
                <a:lnTo>
                  <a:pt x="425" y="885"/>
                </a:lnTo>
                <a:lnTo>
                  <a:pt x="442" y="845"/>
                </a:lnTo>
                <a:lnTo>
                  <a:pt x="459" y="806"/>
                </a:lnTo>
                <a:lnTo>
                  <a:pt x="475" y="768"/>
                </a:lnTo>
                <a:lnTo>
                  <a:pt x="490" y="730"/>
                </a:lnTo>
                <a:lnTo>
                  <a:pt x="505" y="693"/>
                </a:lnTo>
                <a:lnTo>
                  <a:pt x="519" y="659"/>
                </a:lnTo>
                <a:lnTo>
                  <a:pt x="530" y="624"/>
                </a:lnTo>
                <a:lnTo>
                  <a:pt x="544" y="589"/>
                </a:lnTo>
                <a:lnTo>
                  <a:pt x="555" y="557"/>
                </a:lnTo>
                <a:lnTo>
                  <a:pt x="567" y="526"/>
                </a:lnTo>
                <a:lnTo>
                  <a:pt x="576" y="495"/>
                </a:lnTo>
                <a:lnTo>
                  <a:pt x="586" y="467"/>
                </a:lnTo>
                <a:lnTo>
                  <a:pt x="595" y="438"/>
                </a:lnTo>
                <a:lnTo>
                  <a:pt x="603" y="411"/>
                </a:lnTo>
                <a:lnTo>
                  <a:pt x="611" y="384"/>
                </a:lnTo>
                <a:lnTo>
                  <a:pt x="618" y="361"/>
                </a:lnTo>
                <a:lnTo>
                  <a:pt x="622" y="336"/>
                </a:lnTo>
                <a:lnTo>
                  <a:pt x="626" y="313"/>
                </a:lnTo>
                <a:lnTo>
                  <a:pt x="630" y="292"/>
                </a:lnTo>
                <a:lnTo>
                  <a:pt x="634" y="271"/>
                </a:lnTo>
                <a:lnTo>
                  <a:pt x="636" y="250"/>
                </a:lnTo>
                <a:lnTo>
                  <a:pt x="640" y="230"/>
                </a:lnTo>
                <a:lnTo>
                  <a:pt x="642" y="211"/>
                </a:lnTo>
                <a:lnTo>
                  <a:pt x="643" y="194"/>
                </a:lnTo>
                <a:lnTo>
                  <a:pt x="643" y="177"/>
                </a:lnTo>
                <a:lnTo>
                  <a:pt x="645" y="161"/>
                </a:lnTo>
                <a:lnTo>
                  <a:pt x="645" y="146"/>
                </a:lnTo>
                <a:lnTo>
                  <a:pt x="645" y="133"/>
                </a:lnTo>
                <a:lnTo>
                  <a:pt x="645" y="121"/>
                </a:lnTo>
                <a:lnTo>
                  <a:pt x="645" y="110"/>
                </a:lnTo>
                <a:lnTo>
                  <a:pt x="643" y="100"/>
                </a:lnTo>
                <a:lnTo>
                  <a:pt x="642" y="90"/>
                </a:lnTo>
                <a:lnTo>
                  <a:pt x="640" y="83"/>
                </a:lnTo>
                <a:lnTo>
                  <a:pt x="638" y="75"/>
                </a:lnTo>
                <a:lnTo>
                  <a:pt x="638" y="69"/>
                </a:lnTo>
                <a:lnTo>
                  <a:pt x="638" y="62"/>
                </a:lnTo>
                <a:lnTo>
                  <a:pt x="638" y="56"/>
                </a:lnTo>
                <a:lnTo>
                  <a:pt x="638" y="48"/>
                </a:lnTo>
                <a:lnTo>
                  <a:pt x="640" y="39"/>
                </a:lnTo>
                <a:lnTo>
                  <a:pt x="643" y="27"/>
                </a:lnTo>
                <a:lnTo>
                  <a:pt x="649" y="19"/>
                </a:lnTo>
                <a:lnTo>
                  <a:pt x="657" y="12"/>
                </a:lnTo>
                <a:lnTo>
                  <a:pt x="666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96"/>
          <p:cNvSpPr/>
          <p:nvPr/>
        </p:nvSpPr>
        <p:spPr>
          <a:xfrm>
            <a:off x="6281640" y="3311640"/>
            <a:ext cx="1479600" cy="352440"/>
          </a:xfrm>
          <a:custGeom>
            <a:avLst/>
            <a:gdLst/>
            <a:ahLst/>
            <a:rect l="l" t="t" r="r" b="b"/>
            <a:pathLst>
              <a:path w="1866" h="443">
                <a:moveTo>
                  <a:pt x="1252" y="74"/>
                </a:moveTo>
                <a:lnTo>
                  <a:pt x="1286" y="65"/>
                </a:lnTo>
                <a:lnTo>
                  <a:pt x="1321" y="53"/>
                </a:lnTo>
                <a:lnTo>
                  <a:pt x="1353" y="46"/>
                </a:lnTo>
                <a:lnTo>
                  <a:pt x="1384" y="36"/>
                </a:lnTo>
                <a:lnTo>
                  <a:pt x="1415" y="30"/>
                </a:lnTo>
                <a:lnTo>
                  <a:pt x="1444" y="23"/>
                </a:lnTo>
                <a:lnTo>
                  <a:pt x="1471" y="17"/>
                </a:lnTo>
                <a:lnTo>
                  <a:pt x="1496" y="11"/>
                </a:lnTo>
                <a:lnTo>
                  <a:pt x="1520" y="7"/>
                </a:lnTo>
                <a:lnTo>
                  <a:pt x="1545" y="3"/>
                </a:lnTo>
                <a:lnTo>
                  <a:pt x="1567" y="1"/>
                </a:lnTo>
                <a:lnTo>
                  <a:pt x="1588" y="0"/>
                </a:lnTo>
                <a:lnTo>
                  <a:pt x="1609" y="0"/>
                </a:lnTo>
                <a:lnTo>
                  <a:pt x="1626" y="0"/>
                </a:lnTo>
                <a:lnTo>
                  <a:pt x="1643" y="1"/>
                </a:lnTo>
                <a:lnTo>
                  <a:pt x="1661" y="3"/>
                </a:lnTo>
                <a:lnTo>
                  <a:pt x="1674" y="7"/>
                </a:lnTo>
                <a:lnTo>
                  <a:pt x="1687" y="9"/>
                </a:lnTo>
                <a:lnTo>
                  <a:pt x="1699" y="13"/>
                </a:lnTo>
                <a:lnTo>
                  <a:pt x="1710" y="17"/>
                </a:lnTo>
                <a:lnTo>
                  <a:pt x="1722" y="21"/>
                </a:lnTo>
                <a:lnTo>
                  <a:pt x="1732" y="24"/>
                </a:lnTo>
                <a:lnTo>
                  <a:pt x="1753" y="36"/>
                </a:lnTo>
                <a:lnTo>
                  <a:pt x="1770" y="46"/>
                </a:lnTo>
                <a:lnTo>
                  <a:pt x="1787" y="59"/>
                </a:lnTo>
                <a:lnTo>
                  <a:pt x="1803" y="72"/>
                </a:lnTo>
                <a:lnTo>
                  <a:pt x="1818" y="88"/>
                </a:lnTo>
                <a:lnTo>
                  <a:pt x="1824" y="96"/>
                </a:lnTo>
                <a:lnTo>
                  <a:pt x="1829" y="103"/>
                </a:lnTo>
                <a:lnTo>
                  <a:pt x="1835" y="109"/>
                </a:lnTo>
                <a:lnTo>
                  <a:pt x="1839" y="115"/>
                </a:lnTo>
                <a:lnTo>
                  <a:pt x="1845" y="120"/>
                </a:lnTo>
                <a:lnTo>
                  <a:pt x="1849" y="126"/>
                </a:lnTo>
                <a:lnTo>
                  <a:pt x="1854" y="134"/>
                </a:lnTo>
                <a:lnTo>
                  <a:pt x="1858" y="142"/>
                </a:lnTo>
                <a:lnTo>
                  <a:pt x="1862" y="147"/>
                </a:lnTo>
                <a:lnTo>
                  <a:pt x="1864" y="153"/>
                </a:lnTo>
                <a:lnTo>
                  <a:pt x="1866" y="159"/>
                </a:lnTo>
                <a:lnTo>
                  <a:pt x="1866" y="165"/>
                </a:lnTo>
                <a:lnTo>
                  <a:pt x="1864" y="168"/>
                </a:lnTo>
                <a:lnTo>
                  <a:pt x="1864" y="170"/>
                </a:lnTo>
                <a:lnTo>
                  <a:pt x="1864" y="174"/>
                </a:lnTo>
                <a:lnTo>
                  <a:pt x="1862" y="176"/>
                </a:lnTo>
                <a:lnTo>
                  <a:pt x="1860" y="180"/>
                </a:lnTo>
                <a:lnTo>
                  <a:pt x="1856" y="184"/>
                </a:lnTo>
                <a:lnTo>
                  <a:pt x="1853" y="188"/>
                </a:lnTo>
                <a:lnTo>
                  <a:pt x="1851" y="190"/>
                </a:lnTo>
                <a:lnTo>
                  <a:pt x="1847" y="193"/>
                </a:lnTo>
                <a:lnTo>
                  <a:pt x="1841" y="195"/>
                </a:lnTo>
                <a:lnTo>
                  <a:pt x="1835" y="197"/>
                </a:lnTo>
                <a:lnTo>
                  <a:pt x="1828" y="201"/>
                </a:lnTo>
                <a:lnTo>
                  <a:pt x="1820" y="203"/>
                </a:lnTo>
                <a:lnTo>
                  <a:pt x="1810" y="205"/>
                </a:lnTo>
                <a:lnTo>
                  <a:pt x="1799" y="207"/>
                </a:lnTo>
                <a:lnTo>
                  <a:pt x="1787" y="209"/>
                </a:lnTo>
                <a:lnTo>
                  <a:pt x="1774" y="211"/>
                </a:lnTo>
                <a:lnTo>
                  <a:pt x="1760" y="213"/>
                </a:lnTo>
                <a:lnTo>
                  <a:pt x="1745" y="213"/>
                </a:lnTo>
                <a:lnTo>
                  <a:pt x="1728" y="215"/>
                </a:lnTo>
                <a:lnTo>
                  <a:pt x="1710" y="215"/>
                </a:lnTo>
                <a:lnTo>
                  <a:pt x="1693" y="216"/>
                </a:lnTo>
                <a:lnTo>
                  <a:pt x="1672" y="216"/>
                </a:lnTo>
                <a:lnTo>
                  <a:pt x="1663" y="216"/>
                </a:lnTo>
                <a:lnTo>
                  <a:pt x="1651" y="216"/>
                </a:lnTo>
                <a:lnTo>
                  <a:pt x="1638" y="216"/>
                </a:lnTo>
                <a:lnTo>
                  <a:pt x="1624" y="218"/>
                </a:lnTo>
                <a:lnTo>
                  <a:pt x="1611" y="218"/>
                </a:lnTo>
                <a:lnTo>
                  <a:pt x="1595" y="220"/>
                </a:lnTo>
                <a:lnTo>
                  <a:pt x="1578" y="222"/>
                </a:lnTo>
                <a:lnTo>
                  <a:pt x="1563" y="224"/>
                </a:lnTo>
                <a:lnTo>
                  <a:pt x="1544" y="226"/>
                </a:lnTo>
                <a:lnTo>
                  <a:pt x="1524" y="228"/>
                </a:lnTo>
                <a:lnTo>
                  <a:pt x="1505" y="230"/>
                </a:lnTo>
                <a:lnTo>
                  <a:pt x="1484" y="232"/>
                </a:lnTo>
                <a:lnTo>
                  <a:pt x="1463" y="236"/>
                </a:lnTo>
                <a:lnTo>
                  <a:pt x="1440" y="239"/>
                </a:lnTo>
                <a:lnTo>
                  <a:pt x="1417" y="241"/>
                </a:lnTo>
                <a:lnTo>
                  <a:pt x="1392" y="245"/>
                </a:lnTo>
                <a:lnTo>
                  <a:pt x="1367" y="249"/>
                </a:lnTo>
                <a:lnTo>
                  <a:pt x="1342" y="253"/>
                </a:lnTo>
                <a:lnTo>
                  <a:pt x="1313" y="257"/>
                </a:lnTo>
                <a:lnTo>
                  <a:pt x="1286" y="263"/>
                </a:lnTo>
                <a:lnTo>
                  <a:pt x="1258" y="266"/>
                </a:lnTo>
                <a:lnTo>
                  <a:pt x="1227" y="270"/>
                </a:lnTo>
                <a:lnTo>
                  <a:pt x="1196" y="276"/>
                </a:lnTo>
                <a:lnTo>
                  <a:pt x="1165" y="282"/>
                </a:lnTo>
                <a:lnTo>
                  <a:pt x="1133" y="286"/>
                </a:lnTo>
                <a:lnTo>
                  <a:pt x="1098" y="291"/>
                </a:lnTo>
                <a:lnTo>
                  <a:pt x="1064" y="297"/>
                </a:lnTo>
                <a:lnTo>
                  <a:pt x="1029" y="303"/>
                </a:lnTo>
                <a:lnTo>
                  <a:pt x="993" y="310"/>
                </a:lnTo>
                <a:lnTo>
                  <a:pt x="954" y="316"/>
                </a:lnTo>
                <a:lnTo>
                  <a:pt x="918" y="322"/>
                </a:lnTo>
                <a:lnTo>
                  <a:pt x="877" y="330"/>
                </a:lnTo>
                <a:lnTo>
                  <a:pt x="839" y="335"/>
                </a:lnTo>
                <a:lnTo>
                  <a:pt x="801" y="343"/>
                </a:lnTo>
                <a:lnTo>
                  <a:pt x="762" y="349"/>
                </a:lnTo>
                <a:lnTo>
                  <a:pt x="726" y="355"/>
                </a:lnTo>
                <a:lnTo>
                  <a:pt x="689" y="360"/>
                </a:lnTo>
                <a:lnTo>
                  <a:pt x="655" y="366"/>
                </a:lnTo>
                <a:lnTo>
                  <a:pt x="620" y="372"/>
                </a:lnTo>
                <a:lnTo>
                  <a:pt x="588" y="378"/>
                </a:lnTo>
                <a:lnTo>
                  <a:pt x="553" y="382"/>
                </a:lnTo>
                <a:lnTo>
                  <a:pt x="522" y="387"/>
                </a:lnTo>
                <a:lnTo>
                  <a:pt x="490" y="393"/>
                </a:lnTo>
                <a:lnTo>
                  <a:pt x="459" y="397"/>
                </a:lnTo>
                <a:lnTo>
                  <a:pt x="430" y="401"/>
                </a:lnTo>
                <a:lnTo>
                  <a:pt x="400" y="405"/>
                </a:lnTo>
                <a:lnTo>
                  <a:pt x="373" y="408"/>
                </a:lnTo>
                <a:lnTo>
                  <a:pt x="344" y="412"/>
                </a:lnTo>
                <a:lnTo>
                  <a:pt x="317" y="416"/>
                </a:lnTo>
                <a:lnTo>
                  <a:pt x="290" y="420"/>
                </a:lnTo>
                <a:lnTo>
                  <a:pt x="265" y="422"/>
                </a:lnTo>
                <a:lnTo>
                  <a:pt x="240" y="426"/>
                </a:lnTo>
                <a:lnTo>
                  <a:pt x="217" y="428"/>
                </a:lnTo>
                <a:lnTo>
                  <a:pt x="192" y="431"/>
                </a:lnTo>
                <a:lnTo>
                  <a:pt x="171" y="433"/>
                </a:lnTo>
                <a:lnTo>
                  <a:pt x="148" y="435"/>
                </a:lnTo>
                <a:lnTo>
                  <a:pt x="127" y="437"/>
                </a:lnTo>
                <a:lnTo>
                  <a:pt x="108" y="439"/>
                </a:lnTo>
                <a:lnTo>
                  <a:pt x="87" y="439"/>
                </a:lnTo>
                <a:lnTo>
                  <a:pt x="67" y="441"/>
                </a:lnTo>
                <a:lnTo>
                  <a:pt x="50" y="441"/>
                </a:lnTo>
                <a:lnTo>
                  <a:pt x="33" y="443"/>
                </a:lnTo>
                <a:lnTo>
                  <a:pt x="16" y="443"/>
                </a:lnTo>
                <a:lnTo>
                  <a:pt x="0" y="443"/>
                </a:lnTo>
                <a:lnTo>
                  <a:pt x="0" y="380"/>
                </a:lnTo>
                <a:lnTo>
                  <a:pt x="0" y="314"/>
                </a:lnTo>
                <a:lnTo>
                  <a:pt x="25" y="314"/>
                </a:lnTo>
                <a:lnTo>
                  <a:pt x="52" y="314"/>
                </a:lnTo>
                <a:lnTo>
                  <a:pt x="81" y="312"/>
                </a:lnTo>
                <a:lnTo>
                  <a:pt x="110" y="310"/>
                </a:lnTo>
                <a:lnTo>
                  <a:pt x="140" y="307"/>
                </a:lnTo>
                <a:lnTo>
                  <a:pt x="173" y="303"/>
                </a:lnTo>
                <a:lnTo>
                  <a:pt x="208" y="299"/>
                </a:lnTo>
                <a:lnTo>
                  <a:pt x="244" y="293"/>
                </a:lnTo>
                <a:lnTo>
                  <a:pt x="281" y="289"/>
                </a:lnTo>
                <a:lnTo>
                  <a:pt x="319" y="282"/>
                </a:lnTo>
                <a:lnTo>
                  <a:pt x="357" y="276"/>
                </a:lnTo>
                <a:lnTo>
                  <a:pt x="400" y="268"/>
                </a:lnTo>
                <a:lnTo>
                  <a:pt x="442" y="259"/>
                </a:lnTo>
                <a:lnTo>
                  <a:pt x="486" y="251"/>
                </a:lnTo>
                <a:lnTo>
                  <a:pt x="530" y="241"/>
                </a:lnTo>
                <a:lnTo>
                  <a:pt x="578" y="230"/>
                </a:lnTo>
                <a:lnTo>
                  <a:pt x="624" y="222"/>
                </a:lnTo>
                <a:lnTo>
                  <a:pt x="670" y="213"/>
                </a:lnTo>
                <a:lnTo>
                  <a:pt x="716" y="205"/>
                </a:lnTo>
                <a:lnTo>
                  <a:pt x="762" y="195"/>
                </a:lnTo>
                <a:lnTo>
                  <a:pt x="806" y="186"/>
                </a:lnTo>
                <a:lnTo>
                  <a:pt x="851" y="176"/>
                </a:lnTo>
                <a:lnTo>
                  <a:pt x="895" y="167"/>
                </a:lnTo>
                <a:lnTo>
                  <a:pt x="937" y="157"/>
                </a:lnTo>
                <a:lnTo>
                  <a:pt x="979" y="147"/>
                </a:lnTo>
                <a:lnTo>
                  <a:pt x="1020" y="138"/>
                </a:lnTo>
                <a:lnTo>
                  <a:pt x="1060" y="128"/>
                </a:lnTo>
                <a:lnTo>
                  <a:pt x="1100" y="117"/>
                </a:lnTo>
                <a:lnTo>
                  <a:pt x="1139" y="107"/>
                </a:lnTo>
                <a:lnTo>
                  <a:pt x="1177" y="96"/>
                </a:lnTo>
                <a:lnTo>
                  <a:pt x="1215" y="86"/>
                </a:lnTo>
                <a:lnTo>
                  <a:pt x="1252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97"/>
          <p:cNvSpPr/>
          <p:nvPr/>
        </p:nvSpPr>
        <p:spPr>
          <a:xfrm>
            <a:off x="5840280" y="2876400"/>
            <a:ext cx="573120" cy="2114640"/>
          </a:xfrm>
          <a:custGeom>
            <a:avLst/>
            <a:gdLst/>
            <a:ahLst/>
            <a:rect l="l" t="t" r="r" b="b"/>
            <a:pathLst>
              <a:path w="721" h="2664">
                <a:moveTo>
                  <a:pt x="276" y="2309"/>
                </a:moveTo>
                <a:lnTo>
                  <a:pt x="266" y="2295"/>
                </a:lnTo>
                <a:lnTo>
                  <a:pt x="255" y="2282"/>
                </a:lnTo>
                <a:lnTo>
                  <a:pt x="247" y="2270"/>
                </a:lnTo>
                <a:lnTo>
                  <a:pt x="238" y="2259"/>
                </a:lnTo>
                <a:lnTo>
                  <a:pt x="232" y="2247"/>
                </a:lnTo>
                <a:lnTo>
                  <a:pt x="224" y="2236"/>
                </a:lnTo>
                <a:lnTo>
                  <a:pt x="218" y="2226"/>
                </a:lnTo>
                <a:lnTo>
                  <a:pt x="213" y="2217"/>
                </a:lnTo>
                <a:lnTo>
                  <a:pt x="209" y="2207"/>
                </a:lnTo>
                <a:lnTo>
                  <a:pt x="207" y="2199"/>
                </a:lnTo>
                <a:lnTo>
                  <a:pt x="203" y="2192"/>
                </a:lnTo>
                <a:lnTo>
                  <a:pt x="201" y="2186"/>
                </a:lnTo>
                <a:lnTo>
                  <a:pt x="201" y="2180"/>
                </a:lnTo>
                <a:lnTo>
                  <a:pt x="201" y="2174"/>
                </a:lnTo>
                <a:lnTo>
                  <a:pt x="203" y="2170"/>
                </a:lnTo>
                <a:lnTo>
                  <a:pt x="205" y="2167"/>
                </a:lnTo>
                <a:lnTo>
                  <a:pt x="205" y="2165"/>
                </a:lnTo>
                <a:lnTo>
                  <a:pt x="205" y="2163"/>
                </a:lnTo>
                <a:lnTo>
                  <a:pt x="209" y="2163"/>
                </a:lnTo>
                <a:lnTo>
                  <a:pt x="211" y="2161"/>
                </a:lnTo>
                <a:lnTo>
                  <a:pt x="215" y="2161"/>
                </a:lnTo>
                <a:lnTo>
                  <a:pt x="220" y="2163"/>
                </a:lnTo>
                <a:lnTo>
                  <a:pt x="226" y="2163"/>
                </a:lnTo>
                <a:lnTo>
                  <a:pt x="232" y="2165"/>
                </a:lnTo>
                <a:lnTo>
                  <a:pt x="241" y="2167"/>
                </a:lnTo>
                <a:lnTo>
                  <a:pt x="249" y="2170"/>
                </a:lnTo>
                <a:lnTo>
                  <a:pt x="259" y="2172"/>
                </a:lnTo>
                <a:lnTo>
                  <a:pt x="270" y="2176"/>
                </a:lnTo>
                <a:lnTo>
                  <a:pt x="282" y="2180"/>
                </a:lnTo>
                <a:lnTo>
                  <a:pt x="295" y="2186"/>
                </a:lnTo>
                <a:lnTo>
                  <a:pt x="309" y="2190"/>
                </a:lnTo>
                <a:lnTo>
                  <a:pt x="324" y="2195"/>
                </a:lnTo>
                <a:lnTo>
                  <a:pt x="339" y="2199"/>
                </a:lnTo>
                <a:lnTo>
                  <a:pt x="355" y="2203"/>
                </a:lnTo>
                <a:lnTo>
                  <a:pt x="368" y="2205"/>
                </a:lnTo>
                <a:lnTo>
                  <a:pt x="382" y="2207"/>
                </a:lnTo>
                <a:lnTo>
                  <a:pt x="393" y="2205"/>
                </a:lnTo>
                <a:lnTo>
                  <a:pt x="405" y="2203"/>
                </a:lnTo>
                <a:lnTo>
                  <a:pt x="414" y="2199"/>
                </a:lnTo>
                <a:lnTo>
                  <a:pt x="424" y="2194"/>
                </a:lnTo>
                <a:lnTo>
                  <a:pt x="433" y="2188"/>
                </a:lnTo>
                <a:lnTo>
                  <a:pt x="441" y="2178"/>
                </a:lnTo>
                <a:lnTo>
                  <a:pt x="447" y="2169"/>
                </a:lnTo>
                <a:lnTo>
                  <a:pt x="453" y="2157"/>
                </a:lnTo>
                <a:lnTo>
                  <a:pt x="458" y="2146"/>
                </a:lnTo>
                <a:lnTo>
                  <a:pt x="462" y="2130"/>
                </a:lnTo>
                <a:lnTo>
                  <a:pt x="466" y="2115"/>
                </a:lnTo>
                <a:lnTo>
                  <a:pt x="470" y="2096"/>
                </a:lnTo>
                <a:lnTo>
                  <a:pt x="470" y="2088"/>
                </a:lnTo>
                <a:lnTo>
                  <a:pt x="472" y="2078"/>
                </a:lnTo>
                <a:lnTo>
                  <a:pt x="472" y="2067"/>
                </a:lnTo>
                <a:lnTo>
                  <a:pt x="474" y="2053"/>
                </a:lnTo>
                <a:lnTo>
                  <a:pt x="474" y="2038"/>
                </a:lnTo>
                <a:lnTo>
                  <a:pt x="476" y="2023"/>
                </a:lnTo>
                <a:lnTo>
                  <a:pt x="478" y="2005"/>
                </a:lnTo>
                <a:lnTo>
                  <a:pt x="478" y="1988"/>
                </a:lnTo>
                <a:lnTo>
                  <a:pt x="479" y="1967"/>
                </a:lnTo>
                <a:lnTo>
                  <a:pt x="479" y="1946"/>
                </a:lnTo>
                <a:lnTo>
                  <a:pt x="481" y="1923"/>
                </a:lnTo>
                <a:lnTo>
                  <a:pt x="481" y="1900"/>
                </a:lnTo>
                <a:lnTo>
                  <a:pt x="483" y="1875"/>
                </a:lnTo>
                <a:lnTo>
                  <a:pt x="483" y="1848"/>
                </a:lnTo>
                <a:lnTo>
                  <a:pt x="485" y="1819"/>
                </a:lnTo>
                <a:lnTo>
                  <a:pt x="485" y="1790"/>
                </a:lnTo>
                <a:lnTo>
                  <a:pt x="487" y="1760"/>
                </a:lnTo>
                <a:lnTo>
                  <a:pt x="487" y="1727"/>
                </a:lnTo>
                <a:lnTo>
                  <a:pt x="487" y="1693"/>
                </a:lnTo>
                <a:lnTo>
                  <a:pt x="489" y="1658"/>
                </a:lnTo>
                <a:lnTo>
                  <a:pt x="489" y="1622"/>
                </a:lnTo>
                <a:lnTo>
                  <a:pt x="489" y="1583"/>
                </a:lnTo>
                <a:lnTo>
                  <a:pt x="491" y="1545"/>
                </a:lnTo>
                <a:lnTo>
                  <a:pt x="491" y="1504"/>
                </a:lnTo>
                <a:lnTo>
                  <a:pt x="491" y="1462"/>
                </a:lnTo>
                <a:lnTo>
                  <a:pt x="491" y="1420"/>
                </a:lnTo>
                <a:lnTo>
                  <a:pt x="493" y="1376"/>
                </a:lnTo>
                <a:lnTo>
                  <a:pt x="493" y="1330"/>
                </a:lnTo>
                <a:lnTo>
                  <a:pt x="493" y="1282"/>
                </a:lnTo>
                <a:lnTo>
                  <a:pt x="493" y="1234"/>
                </a:lnTo>
                <a:lnTo>
                  <a:pt x="493" y="1184"/>
                </a:lnTo>
                <a:lnTo>
                  <a:pt x="493" y="1134"/>
                </a:lnTo>
                <a:lnTo>
                  <a:pt x="493" y="1082"/>
                </a:lnTo>
                <a:lnTo>
                  <a:pt x="493" y="1032"/>
                </a:lnTo>
                <a:lnTo>
                  <a:pt x="493" y="984"/>
                </a:lnTo>
                <a:lnTo>
                  <a:pt x="493" y="938"/>
                </a:lnTo>
                <a:lnTo>
                  <a:pt x="493" y="892"/>
                </a:lnTo>
                <a:lnTo>
                  <a:pt x="491" y="850"/>
                </a:lnTo>
                <a:lnTo>
                  <a:pt x="491" y="808"/>
                </a:lnTo>
                <a:lnTo>
                  <a:pt x="491" y="767"/>
                </a:lnTo>
                <a:lnTo>
                  <a:pt x="489" y="727"/>
                </a:lnTo>
                <a:lnTo>
                  <a:pt x="489" y="691"/>
                </a:lnTo>
                <a:lnTo>
                  <a:pt x="489" y="654"/>
                </a:lnTo>
                <a:lnTo>
                  <a:pt x="487" y="620"/>
                </a:lnTo>
                <a:lnTo>
                  <a:pt x="487" y="587"/>
                </a:lnTo>
                <a:lnTo>
                  <a:pt x="485" y="554"/>
                </a:lnTo>
                <a:lnTo>
                  <a:pt x="485" y="524"/>
                </a:lnTo>
                <a:lnTo>
                  <a:pt x="483" y="497"/>
                </a:lnTo>
                <a:lnTo>
                  <a:pt x="483" y="468"/>
                </a:lnTo>
                <a:lnTo>
                  <a:pt x="481" y="443"/>
                </a:lnTo>
                <a:lnTo>
                  <a:pt x="479" y="420"/>
                </a:lnTo>
                <a:lnTo>
                  <a:pt x="479" y="397"/>
                </a:lnTo>
                <a:lnTo>
                  <a:pt x="478" y="376"/>
                </a:lnTo>
                <a:lnTo>
                  <a:pt x="476" y="355"/>
                </a:lnTo>
                <a:lnTo>
                  <a:pt x="474" y="337"/>
                </a:lnTo>
                <a:lnTo>
                  <a:pt x="472" y="320"/>
                </a:lnTo>
                <a:lnTo>
                  <a:pt x="470" y="305"/>
                </a:lnTo>
                <a:lnTo>
                  <a:pt x="470" y="291"/>
                </a:lnTo>
                <a:lnTo>
                  <a:pt x="468" y="280"/>
                </a:lnTo>
                <a:lnTo>
                  <a:pt x="466" y="268"/>
                </a:lnTo>
                <a:lnTo>
                  <a:pt x="464" y="261"/>
                </a:lnTo>
                <a:lnTo>
                  <a:pt x="460" y="251"/>
                </a:lnTo>
                <a:lnTo>
                  <a:pt x="458" y="245"/>
                </a:lnTo>
                <a:lnTo>
                  <a:pt x="456" y="241"/>
                </a:lnTo>
                <a:lnTo>
                  <a:pt x="453" y="234"/>
                </a:lnTo>
                <a:lnTo>
                  <a:pt x="447" y="226"/>
                </a:lnTo>
                <a:lnTo>
                  <a:pt x="439" y="222"/>
                </a:lnTo>
                <a:lnTo>
                  <a:pt x="431" y="216"/>
                </a:lnTo>
                <a:lnTo>
                  <a:pt x="424" y="213"/>
                </a:lnTo>
                <a:lnTo>
                  <a:pt x="414" y="209"/>
                </a:lnTo>
                <a:lnTo>
                  <a:pt x="405" y="207"/>
                </a:lnTo>
                <a:lnTo>
                  <a:pt x="393" y="205"/>
                </a:lnTo>
                <a:lnTo>
                  <a:pt x="382" y="205"/>
                </a:lnTo>
                <a:lnTo>
                  <a:pt x="370" y="205"/>
                </a:lnTo>
                <a:lnTo>
                  <a:pt x="357" y="205"/>
                </a:lnTo>
                <a:lnTo>
                  <a:pt x="341" y="205"/>
                </a:lnTo>
                <a:lnTo>
                  <a:pt x="326" y="207"/>
                </a:lnTo>
                <a:lnTo>
                  <a:pt x="311" y="209"/>
                </a:lnTo>
                <a:lnTo>
                  <a:pt x="293" y="211"/>
                </a:lnTo>
                <a:lnTo>
                  <a:pt x="276" y="213"/>
                </a:lnTo>
                <a:lnTo>
                  <a:pt x="205" y="222"/>
                </a:lnTo>
                <a:lnTo>
                  <a:pt x="168" y="228"/>
                </a:lnTo>
                <a:lnTo>
                  <a:pt x="134" y="232"/>
                </a:lnTo>
                <a:lnTo>
                  <a:pt x="99" y="236"/>
                </a:lnTo>
                <a:lnTo>
                  <a:pt x="65" y="240"/>
                </a:lnTo>
                <a:lnTo>
                  <a:pt x="32" y="240"/>
                </a:lnTo>
                <a:lnTo>
                  <a:pt x="0" y="241"/>
                </a:lnTo>
                <a:lnTo>
                  <a:pt x="5" y="184"/>
                </a:lnTo>
                <a:lnTo>
                  <a:pt x="11" y="128"/>
                </a:lnTo>
                <a:lnTo>
                  <a:pt x="36" y="128"/>
                </a:lnTo>
                <a:lnTo>
                  <a:pt x="59" y="126"/>
                </a:lnTo>
                <a:lnTo>
                  <a:pt x="82" y="126"/>
                </a:lnTo>
                <a:lnTo>
                  <a:pt x="105" y="126"/>
                </a:lnTo>
                <a:lnTo>
                  <a:pt x="126" y="124"/>
                </a:lnTo>
                <a:lnTo>
                  <a:pt x="145" y="122"/>
                </a:lnTo>
                <a:lnTo>
                  <a:pt x="167" y="120"/>
                </a:lnTo>
                <a:lnTo>
                  <a:pt x="184" y="119"/>
                </a:lnTo>
                <a:lnTo>
                  <a:pt x="203" y="117"/>
                </a:lnTo>
                <a:lnTo>
                  <a:pt x="220" y="115"/>
                </a:lnTo>
                <a:lnTo>
                  <a:pt x="238" y="113"/>
                </a:lnTo>
                <a:lnTo>
                  <a:pt x="253" y="109"/>
                </a:lnTo>
                <a:lnTo>
                  <a:pt x="270" y="107"/>
                </a:lnTo>
                <a:lnTo>
                  <a:pt x="284" y="105"/>
                </a:lnTo>
                <a:lnTo>
                  <a:pt x="299" y="101"/>
                </a:lnTo>
                <a:lnTo>
                  <a:pt x="312" y="99"/>
                </a:lnTo>
                <a:lnTo>
                  <a:pt x="334" y="94"/>
                </a:lnTo>
                <a:lnTo>
                  <a:pt x="355" y="88"/>
                </a:lnTo>
                <a:lnTo>
                  <a:pt x="376" y="82"/>
                </a:lnTo>
                <a:lnTo>
                  <a:pt x="393" y="76"/>
                </a:lnTo>
                <a:lnTo>
                  <a:pt x="410" y="69"/>
                </a:lnTo>
                <a:lnTo>
                  <a:pt x="428" y="61"/>
                </a:lnTo>
                <a:lnTo>
                  <a:pt x="443" y="53"/>
                </a:lnTo>
                <a:lnTo>
                  <a:pt x="456" y="44"/>
                </a:lnTo>
                <a:lnTo>
                  <a:pt x="466" y="32"/>
                </a:lnTo>
                <a:lnTo>
                  <a:pt x="476" y="25"/>
                </a:lnTo>
                <a:lnTo>
                  <a:pt x="483" y="17"/>
                </a:lnTo>
                <a:lnTo>
                  <a:pt x="493" y="11"/>
                </a:lnTo>
                <a:lnTo>
                  <a:pt x="502" y="5"/>
                </a:lnTo>
                <a:lnTo>
                  <a:pt x="512" y="3"/>
                </a:lnTo>
                <a:lnTo>
                  <a:pt x="520" y="1"/>
                </a:lnTo>
                <a:lnTo>
                  <a:pt x="529" y="0"/>
                </a:lnTo>
                <a:lnTo>
                  <a:pt x="531" y="3"/>
                </a:lnTo>
                <a:lnTo>
                  <a:pt x="535" y="5"/>
                </a:lnTo>
                <a:lnTo>
                  <a:pt x="539" y="9"/>
                </a:lnTo>
                <a:lnTo>
                  <a:pt x="543" y="11"/>
                </a:lnTo>
                <a:lnTo>
                  <a:pt x="547" y="15"/>
                </a:lnTo>
                <a:lnTo>
                  <a:pt x="552" y="17"/>
                </a:lnTo>
                <a:lnTo>
                  <a:pt x="558" y="21"/>
                </a:lnTo>
                <a:lnTo>
                  <a:pt x="566" y="25"/>
                </a:lnTo>
                <a:lnTo>
                  <a:pt x="572" y="28"/>
                </a:lnTo>
                <a:lnTo>
                  <a:pt x="579" y="34"/>
                </a:lnTo>
                <a:lnTo>
                  <a:pt x="589" y="38"/>
                </a:lnTo>
                <a:lnTo>
                  <a:pt x="597" y="44"/>
                </a:lnTo>
                <a:lnTo>
                  <a:pt x="606" y="49"/>
                </a:lnTo>
                <a:lnTo>
                  <a:pt x="616" y="57"/>
                </a:lnTo>
                <a:lnTo>
                  <a:pt x="627" y="63"/>
                </a:lnTo>
                <a:lnTo>
                  <a:pt x="637" y="71"/>
                </a:lnTo>
                <a:lnTo>
                  <a:pt x="648" y="78"/>
                </a:lnTo>
                <a:lnTo>
                  <a:pt x="658" y="88"/>
                </a:lnTo>
                <a:lnTo>
                  <a:pt x="668" y="96"/>
                </a:lnTo>
                <a:lnTo>
                  <a:pt x="675" y="103"/>
                </a:lnTo>
                <a:lnTo>
                  <a:pt x="683" y="111"/>
                </a:lnTo>
                <a:lnTo>
                  <a:pt x="691" y="117"/>
                </a:lnTo>
                <a:lnTo>
                  <a:pt x="696" y="124"/>
                </a:lnTo>
                <a:lnTo>
                  <a:pt x="702" y="132"/>
                </a:lnTo>
                <a:lnTo>
                  <a:pt x="706" y="138"/>
                </a:lnTo>
                <a:lnTo>
                  <a:pt x="712" y="144"/>
                </a:lnTo>
                <a:lnTo>
                  <a:pt x="714" y="149"/>
                </a:lnTo>
                <a:lnTo>
                  <a:pt x="717" y="155"/>
                </a:lnTo>
                <a:lnTo>
                  <a:pt x="719" y="159"/>
                </a:lnTo>
                <a:lnTo>
                  <a:pt x="721" y="163"/>
                </a:lnTo>
                <a:lnTo>
                  <a:pt x="721" y="167"/>
                </a:lnTo>
                <a:lnTo>
                  <a:pt x="721" y="170"/>
                </a:lnTo>
                <a:lnTo>
                  <a:pt x="721" y="180"/>
                </a:lnTo>
                <a:lnTo>
                  <a:pt x="719" y="192"/>
                </a:lnTo>
                <a:lnTo>
                  <a:pt x="717" y="201"/>
                </a:lnTo>
                <a:lnTo>
                  <a:pt x="714" y="211"/>
                </a:lnTo>
                <a:lnTo>
                  <a:pt x="708" y="220"/>
                </a:lnTo>
                <a:lnTo>
                  <a:pt x="702" y="228"/>
                </a:lnTo>
                <a:lnTo>
                  <a:pt x="694" y="236"/>
                </a:lnTo>
                <a:lnTo>
                  <a:pt x="687" y="241"/>
                </a:lnTo>
                <a:lnTo>
                  <a:pt x="677" y="253"/>
                </a:lnTo>
                <a:lnTo>
                  <a:pt x="669" y="264"/>
                </a:lnTo>
                <a:lnTo>
                  <a:pt x="664" y="278"/>
                </a:lnTo>
                <a:lnTo>
                  <a:pt x="658" y="293"/>
                </a:lnTo>
                <a:lnTo>
                  <a:pt x="654" y="311"/>
                </a:lnTo>
                <a:lnTo>
                  <a:pt x="652" y="328"/>
                </a:lnTo>
                <a:lnTo>
                  <a:pt x="650" y="347"/>
                </a:lnTo>
                <a:lnTo>
                  <a:pt x="650" y="368"/>
                </a:lnTo>
                <a:lnTo>
                  <a:pt x="646" y="382"/>
                </a:lnTo>
                <a:lnTo>
                  <a:pt x="646" y="397"/>
                </a:lnTo>
                <a:lnTo>
                  <a:pt x="645" y="414"/>
                </a:lnTo>
                <a:lnTo>
                  <a:pt x="643" y="433"/>
                </a:lnTo>
                <a:lnTo>
                  <a:pt x="641" y="453"/>
                </a:lnTo>
                <a:lnTo>
                  <a:pt x="641" y="474"/>
                </a:lnTo>
                <a:lnTo>
                  <a:pt x="639" y="497"/>
                </a:lnTo>
                <a:lnTo>
                  <a:pt x="639" y="520"/>
                </a:lnTo>
                <a:lnTo>
                  <a:pt x="639" y="547"/>
                </a:lnTo>
                <a:lnTo>
                  <a:pt x="639" y="575"/>
                </a:lnTo>
                <a:lnTo>
                  <a:pt x="639" y="604"/>
                </a:lnTo>
                <a:lnTo>
                  <a:pt x="637" y="635"/>
                </a:lnTo>
                <a:lnTo>
                  <a:pt x="637" y="668"/>
                </a:lnTo>
                <a:lnTo>
                  <a:pt x="637" y="704"/>
                </a:lnTo>
                <a:lnTo>
                  <a:pt x="637" y="721"/>
                </a:lnTo>
                <a:lnTo>
                  <a:pt x="637" y="740"/>
                </a:lnTo>
                <a:lnTo>
                  <a:pt x="637" y="760"/>
                </a:lnTo>
                <a:lnTo>
                  <a:pt x="637" y="779"/>
                </a:lnTo>
                <a:lnTo>
                  <a:pt x="637" y="819"/>
                </a:lnTo>
                <a:lnTo>
                  <a:pt x="637" y="861"/>
                </a:lnTo>
                <a:lnTo>
                  <a:pt x="637" y="906"/>
                </a:lnTo>
                <a:lnTo>
                  <a:pt x="637" y="952"/>
                </a:lnTo>
                <a:lnTo>
                  <a:pt x="639" y="1000"/>
                </a:lnTo>
                <a:lnTo>
                  <a:pt x="639" y="1048"/>
                </a:lnTo>
                <a:lnTo>
                  <a:pt x="639" y="1099"/>
                </a:lnTo>
                <a:lnTo>
                  <a:pt x="639" y="1151"/>
                </a:lnTo>
                <a:lnTo>
                  <a:pt x="639" y="1205"/>
                </a:lnTo>
                <a:lnTo>
                  <a:pt x="641" y="1261"/>
                </a:lnTo>
                <a:lnTo>
                  <a:pt x="641" y="1318"/>
                </a:lnTo>
                <a:lnTo>
                  <a:pt x="643" y="1376"/>
                </a:lnTo>
                <a:lnTo>
                  <a:pt x="645" y="1437"/>
                </a:lnTo>
                <a:lnTo>
                  <a:pt x="646" y="1499"/>
                </a:lnTo>
                <a:lnTo>
                  <a:pt x="646" y="1564"/>
                </a:lnTo>
                <a:lnTo>
                  <a:pt x="650" y="1629"/>
                </a:lnTo>
                <a:lnTo>
                  <a:pt x="648" y="1662"/>
                </a:lnTo>
                <a:lnTo>
                  <a:pt x="648" y="1694"/>
                </a:lnTo>
                <a:lnTo>
                  <a:pt x="648" y="1725"/>
                </a:lnTo>
                <a:lnTo>
                  <a:pt x="648" y="1758"/>
                </a:lnTo>
                <a:lnTo>
                  <a:pt x="648" y="1789"/>
                </a:lnTo>
                <a:lnTo>
                  <a:pt x="646" y="1819"/>
                </a:lnTo>
                <a:lnTo>
                  <a:pt x="646" y="1848"/>
                </a:lnTo>
                <a:lnTo>
                  <a:pt x="645" y="1879"/>
                </a:lnTo>
                <a:lnTo>
                  <a:pt x="643" y="1908"/>
                </a:lnTo>
                <a:lnTo>
                  <a:pt x="643" y="1934"/>
                </a:lnTo>
                <a:lnTo>
                  <a:pt x="641" y="1963"/>
                </a:lnTo>
                <a:lnTo>
                  <a:pt x="639" y="1990"/>
                </a:lnTo>
                <a:lnTo>
                  <a:pt x="637" y="2017"/>
                </a:lnTo>
                <a:lnTo>
                  <a:pt x="635" y="2042"/>
                </a:lnTo>
                <a:lnTo>
                  <a:pt x="631" y="2067"/>
                </a:lnTo>
                <a:lnTo>
                  <a:pt x="629" y="2092"/>
                </a:lnTo>
                <a:lnTo>
                  <a:pt x="627" y="2117"/>
                </a:lnTo>
                <a:lnTo>
                  <a:pt x="623" y="2140"/>
                </a:lnTo>
                <a:lnTo>
                  <a:pt x="621" y="2163"/>
                </a:lnTo>
                <a:lnTo>
                  <a:pt x="618" y="2186"/>
                </a:lnTo>
                <a:lnTo>
                  <a:pt x="614" y="2207"/>
                </a:lnTo>
                <a:lnTo>
                  <a:pt x="612" y="2230"/>
                </a:lnTo>
                <a:lnTo>
                  <a:pt x="608" y="2249"/>
                </a:lnTo>
                <a:lnTo>
                  <a:pt x="604" y="2270"/>
                </a:lnTo>
                <a:lnTo>
                  <a:pt x="598" y="2290"/>
                </a:lnTo>
                <a:lnTo>
                  <a:pt x="595" y="2309"/>
                </a:lnTo>
                <a:lnTo>
                  <a:pt x="591" y="2326"/>
                </a:lnTo>
                <a:lnTo>
                  <a:pt x="585" y="2343"/>
                </a:lnTo>
                <a:lnTo>
                  <a:pt x="581" y="2361"/>
                </a:lnTo>
                <a:lnTo>
                  <a:pt x="575" y="2378"/>
                </a:lnTo>
                <a:lnTo>
                  <a:pt x="572" y="2393"/>
                </a:lnTo>
                <a:lnTo>
                  <a:pt x="566" y="2409"/>
                </a:lnTo>
                <a:lnTo>
                  <a:pt x="560" y="2424"/>
                </a:lnTo>
                <a:lnTo>
                  <a:pt x="554" y="2439"/>
                </a:lnTo>
                <a:lnTo>
                  <a:pt x="549" y="2453"/>
                </a:lnTo>
                <a:lnTo>
                  <a:pt x="545" y="2468"/>
                </a:lnTo>
                <a:lnTo>
                  <a:pt x="539" y="2481"/>
                </a:lnTo>
                <a:lnTo>
                  <a:pt x="535" y="2495"/>
                </a:lnTo>
                <a:lnTo>
                  <a:pt x="529" y="2506"/>
                </a:lnTo>
                <a:lnTo>
                  <a:pt x="526" y="2520"/>
                </a:lnTo>
                <a:lnTo>
                  <a:pt x="520" y="2531"/>
                </a:lnTo>
                <a:lnTo>
                  <a:pt x="516" y="2543"/>
                </a:lnTo>
                <a:lnTo>
                  <a:pt x="512" y="2552"/>
                </a:lnTo>
                <a:lnTo>
                  <a:pt x="506" y="2564"/>
                </a:lnTo>
                <a:lnTo>
                  <a:pt x="502" y="2574"/>
                </a:lnTo>
                <a:lnTo>
                  <a:pt x="499" y="2581"/>
                </a:lnTo>
                <a:lnTo>
                  <a:pt x="495" y="2591"/>
                </a:lnTo>
                <a:lnTo>
                  <a:pt x="491" y="2599"/>
                </a:lnTo>
                <a:lnTo>
                  <a:pt x="487" y="2606"/>
                </a:lnTo>
                <a:lnTo>
                  <a:pt x="483" y="2614"/>
                </a:lnTo>
                <a:lnTo>
                  <a:pt x="479" y="2622"/>
                </a:lnTo>
                <a:lnTo>
                  <a:pt x="476" y="2627"/>
                </a:lnTo>
                <a:lnTo>
                  <a:pt x="472" y="2633"/>
                </a:lnTo>
                <a:lnTo>
                  <a:pt x="468" y="2639"/>
                </a:lnTo>
                <a:lnTo>
                  <a:pt x="464" y="2643"/>
                </a:lnTo>
                <a:lnTo>
                  <a:pt x="460" y="2647"/>
                </a:lnTo>
                <a:lnTo>
                  <a:pt x="456" y="2650"/>
                </a:lnTo>
                <a:lnTo>
                  <a:pt x="453" y="2654"/>
                </a:lnTo>
                <a:lnTo>
                  <a:pt x="451" y="2656"/>
                </a:lnTo>
                <a:lnTo>
                  <a:pt x="447" y="2658"/>
                </a:lnTo>
                <a:lnTo>
                  <a:pt x="443" y="2660"/>
                </a:lnTo>
                <a:lnTo>
                  <a:pt x="439" y="2662"/>
                </a:lnTo>
                <a:lnTo>
                  <a:pt x="437" y="2662"/>
                </a:lnTo>
                <a:lnTo>
                  <a:pt x="433" y="2664"/>
                </a:lnTo>
                <a:lnTo>
                  <a:pt x="426" y="2662"/>
                </a:lnTo>
                <a:lnTo>
                  <a:pt x="420" y="2660"/>
                </a:lnTo>
                <a:lnTo>
                  <a:pt x="414" y="2658"/>
                </a:lnTo>
                <a:lnTo>
                  <a:pt x="410" y="2654"/>
                </a:lnTo>
                <a:lnTo>
                  <a:pt x="406" y="2650"/>
                </a:lnTo>
                <a:lnTo>
                  <a:pt x="403" y="2645"/>
                </a:lnTo>
                <a:lnTo>
                  <a:pt x="399" y="2639"/>
                </a:lnTo>
                <a:lnTo>
                  <a:pt x="395" y="2631"/>
                </a:lnTo>
                <a:lnTo>
                  <a:pt x="393" y="2622"/>
                </a:lnTo>
                <a:lnTo>
                  <a:pt x="391" y="2614"/>
                </a:lnTo>
                <a:lnTo>
                  <a:pt x="389" y="2602"/>
                </a:lnTo>
                <a:lnTo>
                  <a:pt x="387" y="2591"/>
                </a:lnTo>
                <a:lnTo>
                  <a:pt x="385" y="2579"/>
                </a:lnTo>
                <a:lnTo>
                  <a:pt x="385" y="2566"/>
                </a:lnTo>
                <a:lnTo>
                  <a:pt x="385" y="2551"/>
                </a:lnTo>
                <a:lnTo>
                  <a:pt x="385" y="2535"/>
                </a:lnTo>
                <a:lnTo>
                  <a:pt x="382" y="2522"/>
                </a:lnTo>
                <a:lnTo>
                  <a:pt x="380" y="2508"/>
                </a:lnTo>
                <a:lnTo>
                  <a:pt x="376" y="2495"/>
                </a:lnTo>
                <a:lnTo>
                  <a:pt x="372" y="2480"/>
                </a:lnTo>
                <a:lnTo>
                  <a:pt x="366" y="2466"/>
                </a:lnTo>
                <a:lnTo>
                  <a:pt x="360" y="2451"/>
                </a:lnTo>
                <a:lnTo>
                  <a:pt x="355" y="2437"/>
                </a:lnTo>
                <a:lnTo>
                  <a:pt x="349" y="2422"/>
                </a:lnTo>
                <a:lnTo>
                  <a:pt x="341" y="2409"/>
                </a:lnTo>
                <a:lnTo>
                  <a:pt x="334" y="2393"/>
                </a:lnTo>
                <a:lnTo>
                  <a:pt x="326" y="2378"/>
                </a:lnTo>
                <a:lnTo>
                  <a:pt x="316" y="2364"/>
                </a:lnTo>
                <a:lnTo>
                  <a:pt x="307" y="2351"/>
                </a:lnTo>
                <a:lnTo>
                  <a:pt x="297" y="2336"/>
                </a:lnTo>
                <a:lnTo>
                  <a:pt x="287" y="2322"/>
                </a:lnTo>
                <a:lnTo>
                  <a:pt x="276" y="23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98"/>
          <p:cNvSpPr/>
          <p:nvPr/>
        </p:nvSpPr>
        <p:spPr>
          <a:xfrm>
            <a:off x="5484960" y="2944800"/>
            <a:ext cx="449280" cy="2048040"/>
          </a:xfrm>
          <a:custGeom>
            <a:avLst/>
            <a:gdLst/>
            <a:ahLst/>
            <a:rect l="l" t="t" r="r" b="b"/>
            <a:pathLst>
              <a:path w="567" h="2580">
                <a:moveTo>
                  <a:pt x="221" y="2054"/>
                </a:moveTo>
                <a:lnTo>
                  <a:pt x="235" y="2017"/>
                </a:lnTo>
                <a:lnTo>
                  <a:pt x="246" y="1983"/>
                </a:lnTo>
                <a:lnTo>
                  <a:pt x="258" y="1946"/>
                </a:lnTo>
                <a:lnTo>
                  <a:pt x="271" y="1910"/>
                </a:lnTo>
                <a:lnTo>
                  <a:pt x="281" y="1873"/>
                </a:lnTo>
                <a:lnTo>
                  <a:pt x="292" y="1835"/>
                </a:lnTo>
                <a:lnTo>
                  <a:pt x="311" y="1758"/>
                </a:lnTo>
                <a:lnTo>
                  <a:pt x="331" y="1681"/>
                </a:lnTo>
                <a:lnTo>
                  <a:pt x="348" y="1603"/>
                </a:lnTo>
                <a:lnTo>
                  <a:pt x="363" y="1524"/>
                </a:lnTo>
                <a:lnTo>
                  <a:pt x="377" y="1443"/>
                </a:lnTo>
                <a:lnTo>
                  <a:pt x="382" y="1403"/>
                </a:lnTo>
                <a:lnTo>
                  <a:pt x="386" y="1363"/>
                </a:lnTo>
                <a:lnTo>
                  <a:pt x="390" y="1321"/>
                </a:lnTo>
                <a:lnTo>
                  <a:pt x="392" y="1276"/>
                </a:lnTo>
                <a:lnTo>
                  <a:pt x="396" y="1232"/>
                </a:lnTo>
                <a:lnTo>
                  <a:pt x="400" y="1188"/>
                </a:lnTo>
                <a:lnTo>
                  <a:pt x="402" y="1142"/>
                </a:lnTo>
                <a:lnTo>
                  <a:pt x="404" y="1096"/>
                </a:lnTo>
                <a:lnTo>
                  <a:pt x="405" y="1048"/>
                </a:lnTo>
                <a:lnTo>
                  <a:pt x="407" y="1000"/>
                </a:lnTo>
                <a:lnTo>
                  <a:pt x="409" y="950"/>
                </a:lnTo>
                <a:lnTo>
                  <a:pt x="411" y="900"/>
                </a:lnTo>
                <a:lnTo>
                  <a:pt x="411" y="850"/>
                </a:lnTo>
                <a:lnTo>
                  <a:pt x="413" y="798"/>
                </a:lnTo>
                <a:lnTo>
                  <a:pt x="413" y="747"/>
                </a:lnTo>
                <a:lnTo>
                  <a:pt x="413" y="693"/>
                </a:lnTo>
                <a:lnTo>
                  <a:pt x="411" y="666"/>
                </a:lnTo>
                <a:lnTo>
                  <a:pt x="411" y="641"/>
                </a:lnTo>
                <a:lnTo>
                  <a:pt x="409" y="616"/>
                </a:lnTo>
                <a:lnTo>
                  <a:pt x="409" y="591"/>
                </a:lnTo>
                <a:lnTo>
                  <a:pt x="407" y="568"/>
                </a:lnTo>
                <a:lnTo>
                  <a:pt x="407" y="545"/>
                </a:lnTo>
                <a:lnTo>
                  <a:pt x="405" y="524"/>
                </a:lnTo>
                <a:lnTo>
                  <a:pt x="404" y="501"/>
                </a:lnTo>
                <a:lnTo>
                  <a:pt x="404" y="480"/>
                </a:lnTo>
                <a:lnTo>
                  <a:pt x="402" y="461"/>
                </a:lnTo>
                <a:lnTo>
                  <a:pt x="400" y="441"/>
                </a:lnTo>
                <a:lnTo>
                  <a:pt x="400" y="422"/>
                </a:lnTo>
                <a:lnTo>
                  <a:pt x="398" y="403"/>
                </a:lnTo>
                <a:lnTo>
                  <a:pt x="396" y="386"/>
                </a:lnTo>
                <a:lnTo>
                  <a:pt x="396" y="368"/>
                </a:lnTo>
                <a:lnTo>
                  <a:pt x="394" y="351"/>
                </a:lnTo>
                <a:lnTo>
                  <a:pt x="392" y="336"/>
                </a:lnTo>
                <a:lnTo>
                  <a:pt x="390" y="320"/>
                </a:lnTo>
                <a:lnTo>
                  <a:pt x="390" y="305"/>
                </a:lnTo>
                <a:lnTo>
                  <a:pt x="388" y="292"/>
                </a:lnTo>
                <a:lnTo>
                  <a:pt x="386" y="278"/>
                </a:lnTo>
                <a:lnTo>
                  <a:pt x="384" y="265"/>
                </a:lnTo>
                <a:lnTo>
                  <a:pt x="382" y="253"/>
                </a:lnTo>
                <a:lnTo>
                  <a:pt x="380" y="242"/>
                </a:lnTo>
                <a:lnTo>
                  <a:pt x="379" y="230"/>
                </a:lnTo>
                <a:lnTo>
                  <a:pt x="377" y="219"/>
                </a:lnTo>
                <a:lnTo>
                  <a:pt x="375" y="209"/>
                </a:lnTo>
                <a:lnTo>
                  <a:pt x="373" y="200"/>
                </a:lnTo>
                <a:lnTo>
                  <a:pt x="371" y="192"/>
                </a:lnTo>
                <a:lnTo>
                  <a:pt x="369" y="184"/>
                </a:lnTo>
                <a:lnTo>
                  <a:pt x="367" y="177"/>
                </a:lnTo>
                <a:lnTo>
                  <a:pt x="365" y="169"/>
                </a:lnTo>
                <a:lnTo>
                  <a:pt x="361" y="155"/>
                </a:lnTo>
                <a:lnTo>
                  <a:pt x="357" y="144"/>
                </a:lnTo>
                <a:lnTo>
                  <a:pt x="354" y="132"/>
                </a:lnTo>
                <a:lnTo>
                  <a:pt x="350" y="121"/>
                </a:lnTo>
                <a:lnTo>
                  <a:pt x="346" y="109"/>
                </a:lnTo>
                <a:lnTo>
                  <a:pt x="344" y="100"/>
                </a:lnTo>
                <a:lnTo>
                  <a:pt x="342" y="90"/>
                </a:lnTo>
                <a:lnTo>
                  <a:pt x="340" y="82"/>
                </a:lnTo>
                <a:lnTo>
                  <a:pt x="338" y="73"/>
                </a:lnTo>
                <a:lnTo>
                  <a:pt x="336" y="65"/>
                </a:lnTo>
                <a:lnTo>
                  <a:pt x="336" y="58"/>
                </a:lnTo>
                <a:lnTo>
                  <a:pt x="336" y="52"/>
                </a:lnTo>
                <a:lnTo>
                  <a:pt x="336" y="44"/>
                </a:lnTo>
                <a:lnTo>
                  <a:pt x="338" y="38"/>
                </a:lnTo>
                <a:lnTo>
                  <a:pt x="338" y="33"/>
                </a:lnTo>
                <a:lnTo>
                  <a:pt x="342" y="27"/>
                </a:lnTo>
                <a:lnTo>
                  <a:pt x="342" y="23"/>
                </a:lnTo>
                <a:lnTo>
                  <a:pt x="344" y="17"/>
                </a:lnTo>
                <a:lnTo>
                  <a:pt x="346" y="11"/>
                </a:lnTo>
                <a:lnTo>
                  <a:pt x="352" y="8"/>
                </a:lnTo>
                <a:lnTo>
                  <a:pt x="357" y="4"/>
                </a:lnTo>
                <a:lnTo>
                  <a:pt x="361" y="2"/>
                </a:lnTo>
                <a:lnTo>
                  <a:pt x="367" y="2"/>
                </a:lnTo>
                <a:lnTo>
                  <a:pt x="371" y="0"/>
                </a:lnTo>
                <a:lnTo>
                  <a:pt x="377" y="0"/>
                </a:lnTo>
                <a:lnTo>
                  <a:pt x="382" y="0"/>
                </a:lnTo>
                <a:lnTo>
                  <a:pt x="390" y="0"/>
                </a:lnTo>
                <a:lnTo>
                  <a:pt x="394" y="0"/>
                </a:lnTo>
                <a:lnTo>
                  <a:pt x="400" y="0"/>
                </a:lnTo>
                <a:lnTo>
                  <a:pt x="407" y="0"/>
                </a:lnTo>
                <a:lnTo>
                  <a:pt x="413" y="2"/>
                </a:lnTo>
                <a:lnTo>
                  <a:pt x="423" y="4"/>
                </a:lnTo>
                <a:lnTo>
                  <a:pt x="430" y="6"/>
                </a:lnTo>
                <a:lnTo>
                  <a:pt x="440" y="8"/>
                </a:lnTo>
                <a:lnTo>
                  <a:pt x="451" y="10"/>
                </a:lnTo>
                <a:lnTo>
                  <a:pt x="461" y="11"/>
                </a:lnTo>
                <a:lnTo>
                  <a:pt x="475" y="15"/>
                </a:lnTo>
                <a:lnTo>
                  <a:pt x="486" y="19"/>
                </a:lnTo>
                <a:lnTo>
                  <a:pt x="499" y="23"/>
                </a:lnTo>
                <a:lnTo>
                  <a:pt x="513" y="27"/>
                </a:lnTo>
                <a:lnTo>
                  <a:pt x="528" y="33"/>
                </a:lnTo>
                <a:lnTo>
                  <a:pt x="542" y="36"/>
                </a:lnTo>
                <a:lnTo>
                  <a:pt x="559" y="42"/>
                </a:lnTo>
                <a:lnTo>
                  <a:pt x="561" y="113"/>
                </a:lnTo>
                <a:lnTo>
                  <a:pt x="561" y="182"/>
                </a:lnTo>
                <a:lnTo>
                  <a:pt x="563" y="251"/>
                </a:lnTo>
                <a:lnTo>
                  <a:pt x="565" y="319"/>
                </a:lnTo>
                <a:lnTo>
                  <a:pt x="565" y="384"/>
                </a:lnTo>
                <a:lnTo>
                  <a:pt x="567" y="447"/>
                </a:lnTo>
                <a:lnTo>
                  <a:pt x="567" y="511"/>
                </a:lnTo>
                <a:lnTo>
                  <a:pt x="567" y="572"/>
                </a:lnTo>
                <a:lnTo>
                  <a:pt x="567" y="633"/>
                </a:lnTo>
                <a:lnTo>
                  <a:pt x="567" y="693"/>
                </a:lnTo>
                <a:lnTo>
                  <a:pt x="565" y="750"/>
                </a:lnTo>
                <a:lnTo>
                  <a:pt x="565" y="806"/>
                </a:lnTo>
                <a:lnTo>
                  <a:pt x="563" y="862"/>
                </a:lnTo>
                <a:lnTo>
                  <a:pt x="561" y="916"/>
                </a:lnTo>
                <a:lnTo>
                  <a:pt x="561" y="967"/>
                </a:lnTo>
                <a:lnTo>
                  <a:pt x="559" y="1019"/>
                </a:lnTo>
                <a:lnTo>
                  <a:pt x="555" y="1069"/>
                </a:lnTo>
                <a:lnTo>
                  <a:pt x="553" y="1117"/>
                </a:lnTo>
                <a:lnTo>
                  <a:pt x="551" y="1165"/>
                </a:lnTo>
                <a:lnTo>
                  <a:pt x="549" y="1213"/>
                </a:lnTo>
                <a:lnTo>
                  <a:pt x="546" y="1257"/>
                </a:lnTo>
                <a:lnTo>
                  <a:pt x="544" y="1301"/>
                </a:lnTo>
                <a:lnTo>
                  <a:pt x="540" y="1345"/>
                </a:lnTo>
                <a:lnTo>
                  <a:pt x="536" y="1388"/>
                </a:lnTo>
                <a:lnTo>
                  <a:pt x="532" y="1428"/>
                </a:lnTo>
                <a:lnTo>
                  <a:pt x="528" y="1466"/>
                </a:lnTo>
                <a:lnTo>
                  <a:pt x="524" y="1505"/>
                </a:lnTo>
                <a:lnTo>
                  <a:pt x="521" y="1541"/>
                </a:lnTo>
                <a:lnTo>
                  <a:pt x="515" y="1576"/>
                </a:lnTo>
                <a:lnTo>
                  <a:pt x="509" y="1608"/>
                </a:lnTo>
                <a:lnTo>
                  <a:pt x="503" y="1641"/>
                </a:lnTo>
                <a:lnTo>
                  <a:pt x="498" y="1670"/>
                </a:lnTo>
                <a:lnTo>
                  <a:pt x="484" y="1729"/>
                </a:lnTo>
                <a:lnTo>
                  <a:pt x="469" y="1787"/>
                </a:lnTo>
                <a:lnTo>
                  <a:pt x="451" y="1845"/>
                </a:lnTo>
                <a:lnTo>
                  <a:pt x="434" y="1900"/>
                </a:lnTo>
                <a:lnTo>
                  <a:pt x="415" y="1956"/>
                </a:lnTo>
                <a:lnTo>
                  <a:pt x="396" y="2010"/>
                </a:lnTo>
                <a:lnTo>
                  <a:pt x="386" y="2035"/>
                </a:lnTo>
                <a:lnTo>
                  <a:pt x="375" y="2060"/>
                </a:lnTo>
                <a:lnTo>
                  <a:pt x="363" y="2084"/>
                </a:lnTo>
                <a:lnTo>
                  <a:pt x="354" y="2109"/>
                </a:lnTo>
                <a:lnTo>
                  <a:pt x="331" y="2157"/>
                </a:lnTo>
                <a:lnTo>
                  <a:pt x="306" y="2202"/>
                </a:lnTo>
                <a:lnTo>
                  <a:pt x="281" y="2248"/>
                </a:lnTo>
                <a:lnTo>
                  <a:pt x="254" y="2290"/>
                </a:lnTo>
                <a:lnTo>
                  <a:pt x="227" y="2332"/>
                </a:lnTo>
                <a:lnTo>
                  <a:pt x="196" y="2372"/>
                </a:lnTo>
                <a:lnTo>
                  <a:pt x="167" y="2411"/>
                </a:lnTo>
                <a:lnTo>
                  <a:pt x="137" y="2449"/>
                </a:lnTo>
                <a:lnTo>
                  <a:pt x="121" y="2466"/>
                </a:lnTo>
                <a:lnTo>
                  <a:pt x="108" y="2484"/>
                </a:lnTo>
                <a:lnTo>
                  <a:pt x="94" y="2499"/>
                </a:lnTo>
                <a:lnTo>
                  <a:pt x="83" y="2513"/>
                </a:lnTo>
                <a:lnTo>
                  <a:pt x="71" y="2526"/>
                </a:lnTo>
                <a:lnTo>
                  <a:pt x="62" y="2537"/>
                </a:lnTo>
                <a:lnTo>
                  <a:pt x="52" y="2547"/>
                </a:lnTo>
                <a:lnTo>
                  <a:pt x="43" y="2555"/>
                </a:lnTo>
                <a:lnTo>
                  <a:pt x="37" y="2562"/>
                </a:lnTo>
                <a:lnTo>
                  <a:pt x="29" y="2568"/>
                </a:lnTo>
                <a:lnTo>
                  <a:pt x="23" y="2574"/>
                </a:lnTo>
                <a:lnTo>
                  <a:pt x="18" y="2578"/>
                </a:lnTo>
                <a:lnTo>
                  <a:pt x="14" y="2580"/>
                </a:lnTo>
                <a:lnTo>
                  <a:pt x="10" y="2580"/>
                </a:lnTo>
                <a:lnTo>
                  <a:pt x="6" y="2580"/>
                </a:lnTo>
                <a:lnTo>
                  <a:pt x="4" y="2578"/>
                </a:lnTo>
                <a:lnTo>
                  <a:pt x="2" y="2574"/>
                </a:lnTo>
                <a:lnTo>
                  <a:pt x="0" y="2570"/>
                </a:lnTo>
                <a:lnTo>
                  <a:pt x="0" y="2566"/>
                </a:lnTo>
                <a:lnTo>
                  <a:pt x="0" y="2561"/>
                </a:lnTo>
                <a:lnTo>
                  <a:pt x="0" y="2555"/>
                </a:lnTo>
                <a:lnTo>
                  <a:pt x="2" y="2549"/>
                </a:lnTo>
                <a:lnTo>
                  <a:pt x="4" y="2541"/>
                </a:lnTo>
                <a:lnTo>
                  <a:pt x="6" y="2532"/>
                </a:lnTo>
                <a:lnTo>
                  <a:pt x="10" y="2524"/>
                </a:lnTo>
                <a:lnTo>
                  <a:pt x="14" y="2514"/>
                </a:lnTo>
                <a:lnTo>
                  <a:pt x="18" y="2503"/>
                </a:lnTo>
                <a:lnTo>
                  <a:pt x="23" y="2491"/>
                </a:lnTo>
                <a:lnTo>
                  <a:pt x="29" y="2478"/>
                </a:lnTo>
                <a:lnTo>
                  <a:pt x="37" y="2465"/>
                </a:lnTo>
                <a:lnTo>
                  <a:pt x="45" y="2451"/>
                </a:lnTo>
                <a:lnTo>
                  <a:pt x="52" y="2436"/>
                </a:lnTo>
                <a:lnTo>
                  <a:pt x="60" y="2420"/>
                </a:lnTo>
                <a:lnTo>
                  <a:pt x="68" y="2405"/>
                </a:lnTo>
                <a:lnTo>
                  <a:pt x="75" y="2390"/>
                </a:lnTo>
                <a:lnTo>
                  <a:pt x="83" y="2370"/>
                </a:lnTo>
                <a:lnTo>
                  <a:pt x="93" y="2351"/>
                </a:lnTo>
                <a:lnTo>
                  <a:pt x="102" y="2332"/>
                </a:lnTo>
                <a:lnTo>
                  <a:pt x="112" y="2309"/>
                </a:lnTo>
                <a:lnTo>
                  <a:pt x="123" y="2286"/>
                </a:lnTo>
                <a:lnTo>
                  <a:pt x="135" y="2261"/>
                </a:lnTo>
                <a:lnTo>
                  <a:pt x="146" y="2236"/>
                </a:lnTo>
                <a:lnTo>
                  <a:pt x="158" y="2209"/>
                </a:lnTo>
                <a:lnTo>
                  <a:pt x="169" y="2180"/>
                </a:lnTo>
                <a:lnTo>
                  <a:pt x="183" y="2150"/>
                </a:lnTo>
                <a:lnTo>
                  <a:pt x="194" y="2119"/>
                </a:lnTo>
                <a:lnTo>
                  <a:pt x="208" y="2086"/>
                </a:lnTo>
                <a:lnTo>
                  <a:pt x="221" y="20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99"/>
          <p:cNvSpPr/>
          <p:nvPr/>
        </p:nvSpPr>
        <p:spPr>
          <a:xfrm>
            <a:off x="5850000" y="3400560"/>
            <a:ext cx="306360" cy="117360"/>
          </a:xfrm>
          <a:custGeom>
            <a:avLst/>
            <a:gdLst/>
            <a:ahLst/>
            <a:rect l="l" t="t" r="r" b="b"/>
            <a:pathLst>
              <a:path w="386" h="148">
                <a:moveTo>
                  <a:pt x="242" y="21"/>
                </a:moveTo>
                <a:lnTo>
                  <a:pt x="255" y="15"/>
                </a:lnTo>
                <a:lnTo>
                  <a:pt x="267" y="9"/>
                </a:lnTo>
                <a:lnTo>
                  <a:pt x="278" y="6"/>
                </a:lnTo>
                <a:lnTo>
                  <a:pt x="290" y="2"/>
                </a:lnTo>
                <a:lnTo>
                  <a:pt x="301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4" y="2"/>
                </a:lnTo>
                <a:lnTo>
                  <a:pt x="330" y="4"/>
                </a:lnTo>
                <a:lnTo>
                  <a:pt x="338" y="6"/>
                </a:lnTo>
                <a:lnTo>
                  <a:pt x="344" y="8"/>
                </a:lnTo>
                <a:lnTo>
                  <a:pt x="349" y="11"/>
                </a:lnTo>
                <a:lnTo>
                  <a:pt x="355" y="13"/>
                </a:lnTo>
                <a:lnTo>
                  <a:pt x="361" y="17"/>
                </a:lnTo>
                <a:lnTo>
                  <a:pt x="365" y="19"/>
                </a:lnTo>
                <a:lnTo>
                  <a:pt x="369" y="21"/>
                </a:lnTo>
                <a:lnTo>
                  <a:pt x="374" y="27"/>
                </a:lnTo>
                <a:lnTo>
                  <a:pt x="380" y="33"/>
                </a:lnTo>
                <a:lnTo>
                  <a:pt x="384" y="38"/>
                </a:lnTo>
                <a:lnTo>
                  <a:pt x="386" y="42"/>
                </a:lnTo>
                <a:lnTo>
                  <a:pt x="386" y="48"/>
                </a:lnTo>
                <a:lnTo>
                  <a:pt x="386" y="54"/>
                </a:lnTo>
                <a:lnTo>
                  <a:pt x="384" y="59"/>
                </a:lnTo>
                <a:lnTo>
                  <a:pt x="382" y="65"/>
                </a:lnTo>
                <a:lnTo>
                  <a:pt x="378" y="71"/>
                </a:lnTo>
                <a:lnTo>
                  <a:pt x="374" y="79"/>
                </a:lnTo>
                <a:lnTo>
                  <a:pt x="371" y="86"/>
                </a:lnTo>
                <a:lnTo>
                  <a:pt x="367" y="96"/>
                </a:lnTo>
                <a:lnTo>
                  <a:pt x="361" y="105"/>
                </a:lnTo>
                <a:lnTo>
                  <a:pt x="359" y="107"/>
                </a:lnTo>
                <a:lnTo>
                  <a:pt x="355" y="109"/>
                </a:lnTo>
                <a:lnTo>
                  <a:pt x="351" y="113"/>
                </a:lnTo>
                <a:lnTo>
                  <a:pt x="348" y="115"/>
                </a:lnTo>
                <a:lnTo>
                  <a:pt x="344" y="117"/>
                </a:lnTo>
                <a:lnTo>
                  <a:pt x="338" y="119"/>
                </a:lnTo>
                <a:lnTo>
                  <a:pt x="332" y="121"/>
                </a:lnTo>
                <a:lnTo>
                  <a:pt x="326" y="123"/>
                </a:lnTo>
                <a:lnTo>
                  <a:pt x="319" y="125"/>
                </a:lnTo>
                <a:lnTo>
                  <a:pt x="311" y="127"/>
                </a:lnTo>
                <a:lnTo>
                  <a:pt x="303" y="128"/>
                </a:lnTo>
                <a:lnTo>
                  <a:pt x="294" y="130"/>
                </a:lnTo>
                <a:lnTo>
                  <a:pt x="284" y="132"/>
                </a:lnTo>
                <a:lnTo>
                  <a:pt x="275" y="134"/>
                </a:lnTo>
                <a:lnTo>
                  <a:pt x="265" y="136"/>
                </a:lnTo>
                <a:lnTo>
                  <a:pt x="253" y="136"/>
                </a:lnTo>
                <a:lnTo>
                  <a:pt x="242" y="138"/>
                </a:lnTo>
                <a:lnTo>
                  <a:pt x="230" y="140"/>
                </a:lnTo>
                <a:lnTo>
                  <a:pt x="217" y="140"/>
                </a:lnTo>
                <a:lnTo>
                  <a:pt x="204" y="142"/>
                </a:lnTo>
                <a:lnTo>
                  <a:pt x="190" y="142"/>
                </a:lnTo>
                <a:lnTo>
                  <a:pt x="175" y="144"/>
                </a:lnTo>
                <a:lnTo>
                  <a:pt x="161" y="144"/>
                </a:lnTo>
                <a:lnTo>
                  <a:pt x="144" y="144"/>
                </a:lnTo>
                <a:lnTo>
                  <a:pt x="129" y="146"/>
                </a:lnTo>
                <a:lnTo>
                  <a:pt x="111" y="146"/>
                </a:lnTo>
                <a:lnTo>
                  <a:pt x="94" y="146"/>
                </a:lnTo>
                <a:lnTo>
                  <a:pt x="77" y="146"/>
                </a:lnTo>
                <a:lnTo>
                  <a:pt x="60" y="148"/>
                </a:lnTo>
                <a:lnTo>
                  <a:pt x="40" y="148"/>
                </a:lnTo>
                <a:lnTo>
                  <a:pt x="21" y="148"/>
                </a:lnTo>
                <a:lnTo>
                  <a:pt x="0" y="148"/>
                </a:lnTo>
                <a:lnTo>
                  <a:pt x="0" y="90"/>
                </a:lnTo>
                <a:lnTo>
                  <a:pt x="0" y="34"/>
                </a:lnTo>
                <a:lnTo>
                  <a:pt x="25" y="34"/>
                </a:lnTo>
                <a:lnTo>
                  <a:pt x="48" y="34"/>
                </a:lnTo>
                <a:lnTo>
                  <a:pt x="69" y="34"/>
                </a:lnTo>
                <a:lnTo>
                  <a:pt x="88" y="34"/>
                </a:lnTo>
                <a:lnTo>
                  <a:pt x="108" y="34"/>
                </a:lnTo>
                <a:lnTo>
                  <a:pt x="125" y="33"/>
                </a:lnTo>
                <a:lnTo>
                  <a:pt x="142" y="33"/>
                </a:lnTo>
                <a:lnTo>
                  <a:pt x="157" y="33"/>
                </a:lnTo>
                <a:lnTo>
                  <a:pt x="171" y="33"/>
                </a:lnTo>
                <a:lnTo>
                  <a:pt x="184" y="31"/>
                </a:lnTo>
                <a:lnTo>
                  <a:pt x="196" y="31"/>
                </a:lnTo>
                <a:lnTo>
                  <a:pt x="207" y="29"/>
                </a:lnTo>
                <a:lnTo>
                  <a:pt x="217" y="27"/>
                </a:lnTo>
                <a:lnTo>
                  <a:pt x="227" y="25"/>
                </a:lnTo>
                <a:lnTo>
                  <a:pt x="234" y="23"/>
                </a:lnTo>
                <a:lnTo>
                  <a:pt x="242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00"/>
          <p:cNvSpPr/>
          <p:nvPr/>
        </p:nvSpPr>
        <p:spPr>
          <a:xfrm>
            <a:off x="5850000" y="3843360"/>
            <a:ext cx="306360" cy="131760"/>
          </a:xfrm>
          <a:custGeom>
            <a:avLst/>
            <a:gdLst/>
            <a:ahLst/>
            <a:rect l="l" t="t" r="r" b="b"/>
            <a:pathLst>
              <a:path w="386" h="166">
                <a:moveTo>
                  <a:pt x="181" y="29"/>
                </a:moveTo>
                <a:lnTo>
                  <a:pt x="194" y="23"/>
                </a:lnTo>
                <a:lnTo>
                  <a:pt x="209" y="18"/>
                </a:lnTo>
                <a:lnTo>
                  <a:pt x="223" y="14"/>
                </a:lnTo>
                <a:lnTo>
                  <a:pt x="238" y="8"/>
                </a:lnTo>
                <a:lnTo>
                  <a:pt x="255" y="4"/>
                </a:lnTo>
                <a:lnTo>
                  <a:pt x="273" y="2"/>
                </a:lnTo>
                <a:lnTo>
                  <a:pt x="282" y="0"/>
                </a:lnTo>
                <a:lnTo>
                  <a:pt x="292" y="0"/>
                </a:lnTo>
                <a:lnTo>
                  <a:pt x="303" y="0"/>
                </a:lnTo>
                <a:lnTo>
                  <a:pt x="313" y="0"/>
                </a:lnTo>
                <a:lnTo>
                  <a:pt x="323" y="0"/>
                </a:lnTo>
                <a:lnTo>
                  <a:pt x="330" y="0"/>
                </a:lnTo>
                <a:lnTo>
                  <a:pt x="338" y="2"/>
                </a:lnTo>
                <a:lnTo>
                  <a:pt x="346" y="2"/>
                </a:lnTo>
                <a:lnTo>
                  <a:pt x="351" y="4"/>
                </a:lnTo>
                <a:lnTo>
                  <a:pt x="357" y="6"/>
                </a:lnTo>
                <a:lnTo>
                  <a:pt x="363" y="10"/>
                </a:lnTo>
                <a:lnTo>
                  <a:pt x="369" y="12"/>
                </a:lnTo>
                <a:lnTo>
                  <a:pt x="372" y="16"/>
                </a:lnTo>
                <a:lnTo>
                  <a:pt x="376" y="20"/>
                </a:lnTo>
                <a:lnTo>
                  <a:pt x="378" y="25"/>
                </a:lnTo>
                <a:lnTo>
                  <a:pt x="382" y="29"/>
                </a:lnTo>
                <a:lnTo>
                  <a:pt x="384" y="35"/>
                </a:lnTo>
                <a:lnTo>
                  <a:pt x="384" y="43"/>
                </a:lnTo>
                <a:lnTo>
                  <a:pt x="386" y="48"/>
                </a:lnTo>
                <a:lnTo>
                  <a:pt x="386" y="56"/>
                </a:lnTo>
                <a:lnTo>
                  <a:pt x="386" y="64"/>
                </a:lnTo>
                <a:lnTo>
                  <a:pt x="384" y="71"/>
                </a:lnTo>
                <a:lnTo>
                  <a:pt x="382" y="79"/>
                </a:lnTo>
                <a:lnTo>
                  <a:pt x="380" y="87"/>
                </a:lnTo>
                <a:lnTo>
                  <a:pt x="376" y="93"/>
                </a:lnTo>
                <a:lnTo>
                  <a:pt x="371" y="98"/>
                </a:lnTo>
                <a:lnTo>
                  <a:pt x="367" y="104"/>
                </a:lnTo>
                <a:lnTo>
                  <a:pt x="361" y="110"/>
                </a:lnTo>
                <a:lnTo>
                  <a:pt x="353" y="116"/>
                </a:lnTo>
                <a:lnTo>
                  <a:pt x="346" y="119"/>
                </a:lnTo>
                <a:lnTo>
                  <a:pt x="338" y="123"/>
                </a:lnTo>
                <a:lnTo>
                  <a:pt x="330" y="129"/>
                </a:lnTo>
                <a:lnTo>
                  <a:pt x="321" y="133"/>
                </a:lnTo>
                <a:lnTo>
                  <a:pt x="311" y="135"/>
                </a:lnTo>
                <a:lnTo>
                  <a:pt x="300" y="139"/>
                </a:lnTo>
                <a:lnTo>
                  <a:pt x="290" y="142"/>
                </a:lnTo>
                <a:lnTo>
                  <a:pt x="278" y="146"/>
                </a:lnTo>
                <a:lnTo>
                  <a:pt x="265" y="150"/>
                </a:lnTo>
                <a:lnTo>
                  <a:pt x="252" y="154"/>
                </a:lnTo>
                <a:lnTo>
                  <a:pt x="238" y="158"/>
                </a:lnTo>
                <a:lnTo>
                  <a:pt x="223" y="160"/>
                </a:lnTo>
                <a:lnTo>
                  <a:pt x="207" y="162"/>
                </a:lnTo>
                <a:lnTo>
                  <a:pt x="190" y="164"/>
                </a:lnTo>
                <a:lnTo>
                  <a:pt x="173" y="166"/>
                </a:lnTo>
                <a:lnTo>
                  <a:pt x="154" y="166"/>
                </a:lnTo>
                <a:lnTo>
                  <a:pt x="134" y="166"/>
                </a:lnTo>
                <a:lnTo>
                  <a:pt x="113" y="166"/>
                </a:lnTo>
                <a:lnTo>
                  <a:pt x="94" y="164"/>
                </a:lnTo>
                <a:lnTo>
                  <a:pt x="71" y="162"/>
                </a:lnTo>
                <a:lnTo>
                  <a:pt x="48" y="160"/>
                </a:lnTo>
                <a:lnTo>
                  <a:pt x="25" y="158"/>
                </a:lnTo>
                <a:lnTo>
                  <a:pt x="0" y="156"/>
                </a:lnTo>
                <a:lnTo>
                  <a:pt x="0" y="98"/>
                </a:lnTo>
                <a:lnTo>
                  <a:pt x="0" y="43"/>
                </a:lnTo>
                <a:lnTo>
                  <a:pt x="15" y="43"/>
                </a:lnTo>
                <a:lnTo>
                  <a:pt x="31" y="43"/>
                </a:lnTo>
                <a:lnTo>
                  <a:pt x="46" y="43"/>
                </a:lnTo>
                <a:lnTo>
                  <a:pt x="60" y="43"/>
                </a:lnTo>
                <a:lnTo>
                  <a:pt x="73" y="43"/>
                </a:lnTo>
                <a:lnTo>
                  <a:pt x="85" y="43"/>
                </a:lnTo>
                <a:lnTo>
                  <a:pt x="98" y="41"/>
                </a:lnTo>
                <a:lnTo>
                  <a:pt x="110" y="41"/>
                </a:lnTo>
                <a:lnTo>
                  <a:pt x="119" y="41"/>
                </a:lnTo>
                <a:lnTo>
                  <a:pt x="131" y="39"/>
                </a:lnTo>
                <a:lnTo>
                  <a:pt x="140" y="39"/>
                </a:lnTo>
                <a:lnTo>
                  <a:pt x="150" y="37"/>
                </a:lnTo>
                <a:lnTo>
                  <a:pt x="157" y="35"/>
                </a:lnTo>
                <a:lnTo>
                  <a:pt x="167" y="33"/>
                </a:lnTo>
                <a:lnTo>
                  <a:pt x="175" y="31"/>
                </a:lnTo>
                <a:lnTo>
                  <a:pt x="181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钙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8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4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紧凑。 “丐”竖折折钩向 内收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矩形 3"/>
          <p:cNvSpPr/>
          <p:nvPr/>
        </p:nvSpPr>
        <p:spPr>
          <a:xfrm>
            <a:off x="210816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84"/>
          <p:cNvSpPr/>
          <p:nvPr/>
        </p:nvSpPr>
        <p:spPr>
          <a:xfrm>
            <a:off x="6518160" y="3525840"/>
            <a:ext cx="1146240" cy="1506600"/>
          </a:xfrm>
          <a:custGeom>
            <a:avLst/>
            <a:gdLst/>
            <a:ahLst/>
            <a:rect l="l" t="t" r="r" b="b"/>
            <a:pathLst>
              <a:path w="1443" h="1896">
                <a:moveTo>
                  <a:pt x="228" y="17"/>
                </a:moveTo>
                <a:lnTo>
                  <a:pt x="241" y="23"/>
                </a:lnTo>
                <a:lnTo>
                  <a:pt x="255" y="28"/>
                </a:lnTo>
                <a:lnTo>
                  <a:pt x="268" y="36"/>
                </a:lnTo>
                <a:lnTo>
                  <a:pt x="282" y="44"/>
                </a:lnTo>
                <a:lnTo>
                  <a:pt x="295" y="51"/>
                </a:lnTo>
                <a:lnTo>
                  <a:pt x="307" y="61"/>
                </a:lnTo>
                <a:lnTo>
                  <a:pt x="318" y="71"/>
                </a:lnTo>
                <a:lnTo>
                  <a:pt x="328" y="80"/>
                </a:lnTo>
                <a:lnTo>
                  <a:pt x="330" y="84"/>
                </a:lnTo>
                <a:lnTo>
                  <a:pt x="332" y="90"/>
                </a:lnTo>
                <a:lnTo>
                  <a:pt x="334" y="98"/>
                </a:lnTo>
                <a:lnTo>
                  <a:pt x="336" y="103"/>
                </a:lnTo>
                <a:lnTo>
                  <a:pt x="336" y="111"/>
                </a:lnTo>
                <a:lnTo>
                  <a:pt x="337" y="119"/>
                </a:lnTo>
                <a:lnTo>
                  <a:pt x="337" y="128"/>
                </a:lnTo>
                <a:lnTo>
                  <a:pt x="337" y="136"/>
                </a:lnTo>
                <a:lnTo>
                  <a:pt x="337" y="145"/>
                </a:lnTo>
                <a:lnTo>
                  <a:pt x="337" y="157"/>
                </a:lnTo>
                <a:lnTo>
                  <a:pt x="336" y="169"/>
                </a:lnTo>
                <a:lnTo>
                  <a:pt x="336" y="180"/>
                </a:lnTo>
                <a:lnTo>
                  <a:pt x="334" y="192"/>
                </a:lnTo>
                <a:lnTo>
                  <a:pt x="332" y="203"/>
                </a:lnTo>
                <a:lnTo>
                  <a:pt x="330" y="217"/>
                </a:lnTo>
                <a:lnTo>
                  <a:pt x="328" y="232"/>
                </a:lnTo>
                <a:lnTo>
                  <a:pt x="318" y="261"/>
                </a:lnTo>
                <a:lnTo>
                  <a:pt x="309" y="289"/>
                </a:lnTo>
                <a:lnTo>
                  <a:pt x="299" y="322"/>
                </a:lnTo>
                <a:lnTo>
                  <a:pt x="289" y="355"/>
                </a:lnTo>
                <a:lnTo>
                  <a:pt x="280" y="387"/>
                </a:lnTo>
                <a:lnTo>
                  <a:pt x="270" y="424"/>
                </a:lnTo>
                <a:lnTo>
                  <a:pt x="263" y="458"/>
                </a:lnTo>
                <a:lnTo>
                  <a:pt x="253" y="497"/>
                </a:lnTo>
                <a:lnTo>
                  <a:pt x="247" y="514"/>
                </a:lnTo>
                <a:lnTo>
                  <a:pt x="243" y="531"/>
                </a:lnTo>
                <a:lnTo>
                  <a:pt x="241" y="549"/>
                </a:lnTo>
                <a:lnTo>
                  <a:pt x="238" y="562"/>
                </a:lnTo>
                <a:lnTo>
                  <a:pt x="236" y="575"/>
                </a:lnTo>
                <a:lnTo>
                  <a:pt x="234" y="589"/>
                </a:lnTo>
                <a:lnTo>
                  <a:pt x="234" y="600"/>
                </a:lnTo>
                <a:lnTo>
                  <a:pt x="232" y="612"/>
                </a:lnTo>
                <a:lnTo>
                  <a:pt x="232" y="622"/>
                </a:lnTo>
                <a:lnTo>
                  <a:pt x="232" y="629"/>
                </a:lnTo>
                <a:lnTo>
                  <a:pt x="232" y="637"/>
                </a:lnTo>
                <a:lnTo>
                  <a:pt x="234" y="643"/>
                </a:lnTo>
                <a:lnTo>
                  <a:pt x="234" y="648"/>
                </a:lnTo>
                <a:lnTo>
                  <a:pt x="236" y="654"/>
                </a:lnTo>
                <a:lnTo>
                  <a:pt x="238" y="658"/>
                </a:lnTo>
                <a:lnTo>
                  <a:pt x="240" y="660"/>
                </a:lnTo>
                <a:lnTo>
                  <a:pt x="241" y="662"/>
                </a:lnTo>
                <a:lnTo>
                  <a:pt x="245" y="664"/>
                </a:lnTo>
                <a:lnTo>
                  <a:pt x="249" y="666"/>
                </a:lnTo>
                <a:lnTo>
                  <a:pt x="253" y="668"/>
                </a:lnTo>
                <a:lnTo>
                  <a:pt x="259" y="668"/>
                </a:lnTo>
                <a:lnTo>
                  <a:pt x="265" y="668"/>
                </a:lnTo>
                <a:lnTo>
                  <a:pt x="270" y="670"/>
                </a:lnTo>
                <a:lnTo>
                  <a:pt x="278" y="668"/>
                </a:lnTo>
                <a:lnTo>
                  <a:pt x="286" y="668"/>
                </a:lnTo>
                <a:lnTo>
                  <a:pt x="293" y="666"/>
                </a:lnTo>
                <a:lnTo>
                  <a:pt x="301" y="664"/>
                </a:lnTo>
                <a:lnTo>
                  <a:pt x="311" y="662"/>
                </a:lnTo>
                <a:lnTo>
                  <a:pt x="320" y="660"/>
                </a:lnTo>
                <a:lnTo>
                  <a:pt x="332" y="656"/>
                </a:lnTo>
                <a:lnTo>
                  <a:pt x="341" y="652"/>
                </a:lnTo>
                <a:lnTo>
                  <a:pt x="355" y="648"/>
                </a:lnTo>
                <a:lnTo>
                  <a:pt x="366" y="645"/>
                </a:lnTo>
                <a:lnTo>
                  <a:pt x="380" y="643"/>
                </a:lnTo>
                <a:lnTo>
                  <a:pt x="397" y="639"/>
                </a:lnTo>
                <a:lnTo>
                  <a:pt x="412" y="635"/>
                </a:lnTo>
                <a:lnTo>
                  <a:pt x="432" y="631"/>
                </a:lnTo>
                <a:lnTo>
                  <a:pt x="453" y="627"/>
                </a:lnTo>
                <a:lnTo>
                  <a:pt x="474" y="623"/>
                </a:lnTo>
                <a:lnTo>
                  <a:pt x="497" y="620"/>
                </a:lnTo>
                <a:lnTo>
                  <a:pt x="522" y="614"/>
                </a:lnTo>
                <a:lnTo>
                  <a:pt x="547" y="610"/>
                </a:lnTo>
                <a:lnTo>
                  <a:pt x="574" y="604"/>
                </a:lnTo>
                <a:lnTo>
                  <a:pt x="602" y="598"/>
                </a:lnTo>
                <a:lnTo>
                  <a:pt x="633" y="593"/>
                </a:lnTo>
                <a:lnTo>
                  <a:pt x="666" y="585"/>
                </a:lnTo>
                <a:lnTo>
                  <a:pt x="698" y="579"/>
                </a:lnTo>
                <a:lnTo>
                  <a:pt x="735" y="572"/>
                </a:lnTo>
                <a:lnTo>
                  <a:pt x="752" y="568"/>
                </a:lnTo>
                <a:lnTo>
                  <a:pt x="769" y="564"/>
                </a:lnTo>
                <a:lnTo>
                  <a:pt x="785" y="562"/>
                </a:lnTo>
                <a:lnTo>
                  <a:pt x="802" y="558"/>
                </a:lnTo>
                <a:lnTo>
                  <a:pt x="817" y="554"/>
                </a:lnTo>
                <a:lnTo>
                  <a:pt x="831" y="552"/>
                </a:lnTo>
                <a:lnTo>
                  <a:pt x="846" y="549"/>
                </a:lnTo>
                <a:lnTo>
                  <a:pt x="860" y="545"/>
                </a:lnTo>
                <a:lnTo>
                  <a:pt x="873" y="543"/>
                </a:lnTo>
                <a:lnTo>
                  <a:pt x="886" y="539"/>
                </a:lnTo>
                <a:lnTo>
                  <a:pt x="911" y="535"/>
                </a:lnTo>
                <a:lnTo>
                  <a:pt x="934" y="529"/>
                </a:lnTo>
                <a:lnTo>
                  <a:pt x="956" y="524"/>
                </a:lnTo>
                <a:lnTo>
                  <a:pt x="975" y="520"/>
                </a:lnTo>
                <a:lnTo>
                  <a:pt x="992" y="516"/>
                </a:lnTo>
                <a:lnTo>
                  <a:pt x="1009" y="512"/>
                </a:lnTo>
                <a:lnTo>
                  <a:pt x="1023" y="508"/>
                </a:lnTo>
                <a:lnTo>
                  <a:pt x="1036" y="504"/>
                </a:lnTo>
                <a:lnTo>
                  <a:pt x="1046" y="503"/>
                </a:lnTo>
                <a:lnTo>
                  <a:pt x="1055" y="499"/>
                </a:lnTo>
                <a:lnTo>
                  <a:pt x="1063" y="497"/>
                </a:lnTo>
                <a:lnTo>
                  <a:pt x="1076" y="491"/>
                </a:lnTo>
                <a:lnTo>
                  <a:pt x="1090" y="487"/>
                </a:lnTo>
                <a:lnTo>
                  <a:pt x="1101" y="483"/>
                </a:lnTo>
                <a:lnTo>
                  <a:pt x="1113" y="479"/>
                </a:lnTo>
                <a:lnTo>
                  <a:pt x="1123" y="476"/>
                </a:lnTo>
                <a:lnTo>
                  <a:pt x="1132" y="474"/>
                </a:lnTo>
                <a:lnTo>
                  <a:pt x="1142" y="472"/>
                </a:lnTo>
                <a:lnTo>
                  <a:pt x="1151" y="472"/>
                </a:lnTo>
                <a:lnTo>
                  <a:pt x="1155" y="472"/>
                </a:lnTo>
                <a:lnTo>
                  <a:pt x="1159" y="472"/>
                </a:lnTo>
                <a:lnTo>
                  <a:pt x="1165" y="474"/>
                </a:lnTo>
                <a:lnTo>
                  <a:pt x="1170" y="476"/>
                </a:lnTo>
                <a:lnTo>
                  <a:pt x="1178" y="478"/>
                </a:lnTo>
                <a:lnTo>
                  <a:pt x="1186" y="481"/>
                </a:lnTo>
                <a:lnTo>
                  <a:pt x="1195" y="485"/>
                </a:lnTo>
                <a:lnTo>
                  <a:pt x="1207" y="489"/>
                </a:lnTo>
                <a:lnTo>
                  <a:pt x="1217" y="495"/>
                </a:lnTo>
                <a:lnTo>
                  <a:pt x="1230" y="501"/>
                </a:lnTo>
                <a:lnTo>
                  <a:pt x="1242" y="506"/>
                </a:lnTo>
                <a:lnTo>
                  <a:pt x="1255" y="514"/>
                </a:lnTo>
                <a:lnTo>
                  <a:pt x="1270" y="520"/>
                </a:lnTo>
                <a:lnTo>
                  <a:pt x="1286" y="529"/>
                </a:lnTo>
                <a:lnTo>
                  <a:pt x="1301" y="537"/>
                </a:lnTo>
                <a:lnTo>
                  <a:pt x="1316" y="547"/>
                </a:lnTo>
                <a:lnTo>
                  <a:pt x="1334" y="556"/>
                </a:lnTo>
                <a:lnTo>
                  <a:pt x="1347" y="566"/>
                </a:lnTo>
                <a:lnTo>
                  <a:pt x="1361" y="574"/>
                </a:lnTo>
                <a:lnTo>
                  <a:pt x="1374" y="583"/>
                </a:lnTo>
                <a:lnTo>
                  <a:pt x="1385" y="591"/>
                </a:lnTo>
                <a:lnTo>
                  <a:pt x="1395" y="598"/>
                </a:lnTo>
                <a:lnTo>
                  <a:pt x="1405" y="604"/>
                </a:lnTo>
                <a:lnTo>
                  <a:pt x="1414" y="612"/>
                </a:lnTo>
                <a:lnTo>
                  <a:pt x="1420" y="618"/>
                </a:lnTo>
                <a:lnTo>
                  <a:pt x="1428" y="623"/>
                </a:lnTo>
                <a:lnTo>
                  <a:pt x="1432" y="629"/>
                </a:lnTo>
                <a:lnTo>
                  <a:pt x="1435" y="633"/>
                </a:lnTo>
                <a:lnTo>
                  <a:pt x="1439" y="639"/>
                </a:lnTo>
                <a:lnTo>
                  <a:pt x="1441" y="641"/>
                </a:lnTo>
                <a:lnTo>
                  <a:pt x="1443" y="645"/>
                </a:lnTo>
                <a:lnTo>
                  <a:pt x="1443" y="648"/>
                </a:lnTo>
                <a:lnTo>
                  <a:pt x="1443" y="656"/>
                </a:lnTo>
                <a:lnTo>
                  <a:pt x="1441" y="666"/>
                </a:lnTo>
                <a:lnTo>
                  <a:pt x="1439" y="675"/>
                </a:lnTo>
                <a:lnTo>
                  <a:pt x="1435" y="685"/>
                </a:lnTo>
                <a:lnTo>
                  <a:pt x="1432" y="694"/>
                </a:lnTo>
                <a:lnTo>
                  <a:pt x="1428" y="704"/>
                </a:lnTo>
                <a:lnTo>
                  <a:pt x="1418" y="723"/>
                </a:lnTo>
                <a:lnTo>
                  <a:pt x="1408" y="739"/>
                </a:lnTo>
                <a:lnTo>
                  <a:pt x="1401" y="754"/>
                </a:lnTo>
                <a:lnTo>
                  <a:pt x="1395" y="771"/>
                </a:lnTo>
                <a:lnTo>
                  <a:pt x="1389" y="790"/>
                </a:lnTo>
                <a:lnTo>
                  <a:pt x="1385" y="810"/>
                </a:lnTo>
                <a:lnTo>
                  <a:pt x="1384" y="829"/>
                </a:lnTo>
                <a:lnTo>
                  <a:pt x="1382" y="852"/>
                </a:lnTo>
                <a:lnTo>
                  <a:pt x="1380" y="875"/>
                </a:lnTo>
                <a:lnTo>
                  <a:pt x="1378" y="886"/>
                </a:lnTo>
                <a:lnTo>
                  <a:pt x="1376" y="900"/>
                </a:lnTo>
                <a:lnTo>
                  <a:pt x="1374" y="913"/>
                </a:lnTo>
                <a:lnTo>
                  <a:pt x="1370" y="927"/>
                </a:lnTo>
                <a:lnTo>
                  <a:pt x="1368" y="942"/>
                </a:lnTo>
                <a:lnTo>
                  <a:pt x="1364" y="956"/>
                </a:lnTo>
                <a:lnTo>
                  <a:pt x="1362" y="973"/>
                </a:lnTo>
                <a:lnTo>
                  <a:pt x="1359" y="988"/>
                </a:lnTo>
                <a:lnTo>
                  <a:pt x="1357" y="1005"/>
                </a:lnTo>
                <a:lnTo>
                  <a:pt x="1353" y="1023"/>
                </a:lnTo>
                <a:lnTo>
                  <a:pt x="1349" y="1040"/>
                </a:lnTo>
                <a:lnTo>
                  <a:pt x="1345" y="1059"/>
                </a:lnTo>
                <a:lnTo>
                  <a:pt x="1341" y="1078"/>
                </a:lnTo>
                <a:lnTo>
                  <a:pt x="1337" y="1098"/>
                </a:lnTo>
                <a:lnTo>
                  <a:pt x="1334" y="1119"/>
                </a:lnTo>
                <a:lnTo>
                  <a:pt x="1330" y="1140"/>
                </a:lnTo>
                <a:lnTo>
                  <a:pt x="1320" y="1182"/>
                </a:lnTo>
                <a:lnTo>
                  <a:pt x="1309" y="1224"/>
                </a:lnTo>
                <a:lnTo>
                  <a:pt x="1297" y="1268"/>
                </a:lnTo>
                <a:lnTo>
                  <a:pt x="1284" y="1311"/>
                </a:lnTo>
                <a:lnTo>
                  <a:pt x="1270" y="1355"/>
                </a:lnTo>
                <a:lnTo>
                  <a:pt x="1257" y="1401"/>
                </a:lnTo>
                <a:lnTo>
                  <a:pt x="1242" y="1447"/>
                </a:lnTo>
                <a:lnTo>
                  <a:pt x="1228" y="1493"/>
                </a:lnTo>
                <a:lnTo>
                  <a:pt x="1218" y="1518"/>
                </a:lnTo>
                <a:lnTo>
                  <a:pt x="1209" y="1543"/>
                </a:lnTo>
                <a:lnTo>
                  <a:pt x="1199" y="1568"/>
                </a:lnTo>
                <a:lnTo>
                  <a:pt x="1188" y="1591"/>
                </a:lnTo>
                <a:lnTo>
                  <a:pt x="1176" y="1612"/>
                </a:lnTo>
                <a:lnTo>
                  <a:pt x="1167" y="1633"/>
                </a:lnTo>
                <a:lnTo>
                  <a:pt x="1155" y="1654"/>
                </a:lnTo>
                <a:lnTo>
                  <a:pt x="1142" y="1673"/>
                </a:lnTo>
                <a:lnTo>
                  <a:pt x="1130" y="1691"/>
                </a:lnTo>
                <a:lnTo>
                  <a:pt x="1119" y="1708"/>
                </a:lnTo>
                <a:lnTo>
                  <a:pt x="1105" y="1725"/>
                </a:lnTo>
                <a:lnTo>
                  <a:pt x="1092" y="1741"/>
                </a:lnTo>
                <a:lnTo>
                  <a:pt x="1080" y="1756"/>
                </a:lnTo>
                <a:lnTo>
                  <a:pt x="1065" y="1769"/>
                </a:lnTo>
                <a:lnTo>
                  <a:pt x="1051" y="1783"/>
                </a:lnTo>
                <a:lnTo>
                  <a:pt x="1038" y="1796"/>
                </a:lnTo>
                <a:lnTo>
                  <a:pt x="1025" y="1808"/>
                </a:lnTo>
                <a:lnTo>
                  <a:pt x="1011" y="1819"/>
                </a:lnTo>
                <a:lnTo>
                  <a:pt x="998" y="1829"/>
                </a:lnTo>
                <a:lnTo>
                  <a:pt x="986" y="1838"/>
                </a:lnTo>
                <a:lnTo>
                  <a:pt x="975" y="1848"/>
                </a:lnTo>
                <a:lnTo>
                  <a:pt x="965" y="1856"/>
                </a:lnTo>
                <a:lnTo>
                  <a:pt x="954" y="1863"/>
                </a:lnTo>
                <a:lnTo>
                  <a:pt x="944" y="1869"/>
                </a:lnTo>
                <a:lnTo>
                  <a:pt x="936" y="1877"/>
                </a:lnTo>
                <a:lnTo>
                  <a:pt x="929" y="1881"/>
                </a:lnTo>
                <a:lnTo>
                  <a:pt x="921" y="1886"/>
                </a:lnTo>
                <a:lnTo>
                  <a:pt x="915" y="1890"/>
                </a:lnTo>
                <a:lnTo>
                  <a:pt x="909" y="1892"/>
                </a:lnTo>
                <a:lnTo>
                  <a:pt x="906" y="1894"/>
                </a:lnTo>
                <a:lnTo>
                  <a:pt x="902" y="1896"/>
                </a:lnTo>
                <a:lnTo>
                  <a:pt x="898" y="1896"/>
                </a:lnTo>
                <a:lnTo>
                  <a:pt x="894" y="1896"/>
                </a:lnTo>
                <a:lnTo>
                  <a:pt x="888" y="1896"/>
                </a:lnTo>
                <a:lnTo>
                  <a:pt x="884" y="1894"/>
                </a:lnTo>
                <a:lnTo>
                  <a:pt x="879" y="1892"/>
                </a:lnTo>
                <a:lnTo>
                  <a:pt x="875" y="1888"/>
                </a:lnTo>
                <a:lnTo>
                  <a:pt x="871" y="1886"/>
                </a:lnTo>
                <a:lnTo>
                  <a:pt x="865" y="1883"/>
                </a:lnTo>
                <a:lnTo>
                  <a:pt x="861" y="1877"/>
                </a:lnTo>
                <a:lnTo>
                  <a:pt x="858" y="1873"/>
                </a:lnTo>
                <a:lnTo>
                  <a:pt x="854" y="1867"/>
                </a:lnTo>
                <a:lnTo>
                  <a:pt x="850" y="1861"/>
                </a:lnTo>
                <a:lnTo>
                  <a:pt x="846" y="1854"/>
                </a:lnTo>
                <a:lnTo>
                  <a:pt x="844" y="1846"/>
                </a:lnTo>
                <a:lnTo>
                  <a:pt x="840" y="1838"/>
                </a:lnTo>
                <a:lnTo>
                  <a:pt x="838" y="1831"/>
                </a:lnTo>
                <a:lnTo>
                  <a:pt x="835" y="1821"/>
                </a:lnTo>
                <a:lnTo>
                  <a:pt x="833" y="1812"/>
                </a:lnTo>
                <a:lnTo>
                  <a:pt x="829" y="1802"/>
                </a:lnTo>
                <a:lnTo>
                  <a:pt x="825" y="1790"/>
                </a:lnTo>
                <a:lnTo>
                  <a:pt x="819" y="1781"/>
                </a:lnTo>
                <a:lnTo>
                  <a:pt x="812" y="1769"/>
                </a:lnTo>
                <a:lnTo>
                  <a:pt x="806" y="1760"/>
                </a:lnTo>
                <a:lnTo>
                  <a:pt x="798" y="1748"/>
                </a:lnTo>
                <a:lnTo>
                  <a:pt x="789" y="1737"/>
                </a:lnTo>
                <a:lnTo>
                  <a:pt x="779" y="1727"/>
                </a:lnTo>
                <a:lnTo>
                  <a:pt x="769" y="1716"/>
                </a:lnTo>
                <a:lnTo>
                  <a:pt x="760" y="1704"/>
                </a:lnTo>
                <a:lnTo>
                  <a:pt x="748" y="1691"/>
                </a:lnTo>
                <a:lnTo>
                  <a:pt x="735" y="1679"/>
                </a:lnTo>
                <a:lnTo>
                  <a:pt x="723" y="1668"/>
                </a:lnTo>
                <a:lnTo>
                  <a:pt x="710" y="1656"/>
                </a:lnTo>
                <a:lnTo>
                  <a:pt x="696" y="1645"/>
                </a:lnTo>
                <a:lnTo>
                  <a:pt x="679" y="1633"/>
                </a:lnTo>
                <a:lnTo>
                  <a:pt x="666" y="1622"/>
                </a:lnTo>
                <a:lnTo>
                  <a:pt x="652" y="1610"/>
                </a:lnTo>
                <a:lnTo>
                  <a:pt x="639" y="1599"/>
                </a:lnTo>
                <a:lnTo>
                  <a:pt x="627" y="1589"/>
                </a:lnTo>
                <a:lnTo>
                  <a:pt x="618" y="1579"/>
                </a:lnTo>
                <a:lnTo>
                  <a:pt x="608" y="1570"/>
                </a:lnTo>
                <a:lnTo>
                  <a:pt x="600" y="1562"/>
                </a:lnTo>
                <a:lnTo>
                  <a:pt x="593" y="1554"/>
                </a:lnTo>
                <a:lnTo>
                  <a:pt x="587" y="1547"/>
                </a:lnTo>
                <a:lnTo>
                  <a:pt x="581" y="1541"/>
                </a:lnTo>
                <a:lnTo>
                  <a:pt x="577" y="1533"/>
                </a:lnTo>
                <a:lnTo>
                  <a:pt x="574" y="1529"/>
                </a:lnTo>
                <a:lnTo>
                  <a:pt x="572" y="1524"/>
                </a:lnTo>
                <a:lnTo>
                  <a:pt x="570" y="1522"/>
                </a:lnTo>
                <a:lnTo>
                  <a:pt x="570" y="1518"/>
                </a:lnTo>
                <a:lnTo>
                  <a:pt x="568" y="1516"/>
                </a:lnTo>
                <a:lnTo>
                  <a:pt x="568" y="1514"/>
                </a:lnTo>
                <a:lnTo>
                  <a:pt x="568" y="1512"/>
                </a:lnTo>
                <a:lnTo>
                  <a:pt x="572" y="1510"/>
                </a:lnTo>
                <a:lnTo>
                  <a:pt x="575" y="1510"/>
                </a:lnTo>
                <a:lnTo>
                  <a:pt x="581" y="1508"/>
                </a:lnTo>
                <a:lnTo>
                  <a:pt x="587" y="1508"/>
                </a:lnTo>
                <a:lnTo>
                  <a:pt x="595" y="1508"/>
                </a:lnTo>
                <a:lnTo>
                  <a:pt x="604" y="1508"/>
                </a:lnTo>
                <a:lnTo>
                  <a:pt x="614" y="1508"/>
                </a:lnTo>
                <a:lnTo>
                  <a:pt x="625" y="1510"/>
                </a:lnTo>
                <a:lnTo>
                  <a:pt x="637" y="1510"/>
                </a:lnTo>
                <a:lnTo>
                  <a:pt x="650" y="1512"/>
                </a:lnTo>
                <a:lnTo>
                  <a:pt x="664" y="1514"/>
                </a:lnTo>
                <a:lnTo>
                  <a:pt x="679" y="1516"/>
                </a:lnTo>
                <a:lnTo>
                  <a:pt x="696" y="1518"/>
                </a:lnTo>
                <a:lnTo>
                  <a:pt x="712" y="1522"/>
                </a:lnTo>
                <a:lnTo>
                  <a:pt x="727" y="1528"/>
                </a:lnTo>
                <a:lnTo>
                  <a:pt x="742" y="1531"/>
                </a:lnTo>
                <a:lnTo>
                  <a:pt x="756" y="1535"/>
                </a:lnTo>
                <a:lnTo>
                  <a:pt x="769" y="1539"/>
                </a:lnTo>
                <a:lnTo>
                  <a:pt x="781" y="1541"/>
                </a:lnTo>
                <a:lnTo>
                  <a:pt x="792" y="1545"/>
                </a:lnTo>
                <a:lnTo>
                  <a:pt x="804" y="1547"/>
                </a:lnTo>
                <a:lnTo>
                  <a:pt x="813" y="1549"/>
                </a:lnTo>
                <a:lnTo>
                  <a:pt x="823" y="1551"/>
                </a:lnTo>
                <a:lnTo>
                  <a:pt x="833" y="1552"/>
                </a:lnTo>
                <a:lnTo>
                  <a:pt x="842" y="1554"/>
                </a:lnTo>
                <a:lnTo>
                  <a:pt x="858" y="1554"/>
                </a:lnTo>
                <a:lnTo>
                  <a:pt x="873" y="1556"/>
                </a:lnTo>
                <a:lnTo>
                  <a:pt x="886" y="1554"/>
                </a:lnTo>
                <a:lnTo>
                  <a:pt x="900" y="1552"/>
                </a:lnTo>
                <a:lnTo>
                  <a:pt x="911" y="1551"/>
                </a:lnTo>
                <a:lnTo>
                  <a:pt x="925" y="1545"/>
                </a:lnTo>
                <a:lnTo>
                  <a:pt x="931" y="1543"/>
                </a:lnTo>
                <a:lnTo>
                  <a:pt x="936" y="1539"/>
                </a:lnTo>
                <a:lnTo>
                  <a:pt x="942" y="1533"/>
                </a:lnTo>
                <a:lnTo>
                  <a:pt x="948" y="1529"/>
                </a:lnTo>
                <a:lnTo>
                  <a:pt x="956" y="1524"/>
                </a:lnTo>
                <a:lnTo>
                  <a:pt x="961" y="1518"/>
                </a:lnTo>
                <a:lnTo>
                  <a:pt x="967" y="1512"/>
                </a:lnTo>
                <a:lnTo>
                  <a:pt x="975" y="1506"/>
                </a:lnTo>
                <a:lnTo>
                  <a:pt x="982" y="1497"/>
                </a:lnTo>
                <a:lnTo>
                  <a:pt x="988" y="1489"/>
                </a:lnTo>
                <a:lnTo>
                  <a:pt x="996" y="1478"/>
                </a:lnTo>
                <a:lnTo>
                  <a:pt x="1004" y="1466"/>
                </a:lnTo>
                <a:lnTo>
                  <a:pt x="1011" y="1455"/>
                </a:lnTo>
                <a:lnTo>
                  <a:pt x="1017" y="1439"/>
                </a:lnTo>
                <a:lnTo>
                  <a:pt x="1025" y="1424"/>
                </a:lnTo>
                <a:lnTo>
                  <a:pt x="1032" y="1407"/>
                </a:lnTo>
                <a:lnTo>
                  <a:pt x="1038" y="1389"/>
                </a:lnTo>
                <a:lnTo>
                  <a:pt x="1046" y="1368"/>
                </a:lnTo>
                <a:lnTo>
                  <a:pt x="1053" y="1347"/>
                </a:lnTo>
                <a:lnTo>
                  <a:pt x="1061" y="1324"/>
                </a:lnTo>
                <a:lnTo>
                  <a:pt x="1067" y="1299"/>
                </a:lnTo>
                <a:lnTo>
                  <a:pt x="1075" y="1272"/>
                </a:lnTo>
                <a:lnTo>
                  <a:pt x="1082" y="1245"/>
                </a:lnTo>
                <a:lnTo>
                  <a:pt x="1088" y="1215"/>
                </a:lnTo>
                <a:lnTo>
                  <a:pt x="1096" y="1184"/>
                </a:lnTo>
                <a:lnTo>
                  <a:pt x="1101" y="1155"/>
                </a:lnTo>
                <a:lnTo>
                  <a:pt x="1109" y="1126"/>
                </a:lnTo>
                <a:lnTo>
                  <a:pt x="1115" y="1099"/>
                </a:lnTo>
                <a:lnTo>
                  <a:pt x="1121" y="1073"/>
                </a:lnTo>
                <a:lnTo>
                  <a:pt x="1126" y="1046"/>
                </a:lnTo>
                <a:lnTo>
                  <a:pt x="1130" y="1021"/>
                </a:lnTo>
                <a:lnTo>
                  <a:pt x="1136" y="998"/>
                </a:lnTo>
                <a:lnTo>
                  <a:pt x="1140" y="975"/>
                </a:lnTo>
                <a:lnTo>
                  <a:pt x="1146" y="952"/>
                </a:lnTo>
                <a:lnTo>
                  <a:pt x="1149" y="931"/>
                </a:lnTo>
                <a:lnTo>
                  <a:pt x="1153" y="909"/>
                </a:lnTo>
                <a:lnTo>
                  <a:pt x="1157" y="890"/>
                </a:lnTo>
                <a:lnTo>
                  <a:pt x="1159" y="871"/>
                </a:lnTo>
                <a:lnTo>
                  <a:pt x="1163" y="854"/>
                </a:lnTo>
                <a:lnTo>
                  <a:pt x="1165" y="836"/>
                </a:lnTo>
                <a:lnTo>
                  <a:pt x="1165" y="821"/>
                </a:lnTo>
                <a:lnTo>
                  <a:pt x="1165" y="804"/>
                </a:lnTo>
                <a:lnTo>
                  <a:pt x="1163" y="790"/>
                </a:lnTo>
                <a:lnTo>
                  <a:pt x="1163" y="775"/>
                </a:lnTo>
                <a:lnTo>
                  <a:pt x="1161" y="762"/>
                </a:lnTo>
                <a:lnTo>
                  <a:pt x="1161" y="748"/>
                </a:lnTo>
                <a:lnTo>
                  <a:pt x="1159" y="737"/>
                </a:lnTo>
                <a:lnTo>
                  <a:pt x="1157" y="725"/>
                </a:lnTo>
                <a:lnTo>
                  <a:pt x="1155" y="714"/>
                </a:lnTo>
                <a:lnTo>
                  <a:pt x="1153" y="704"/>
                </a:lnTo>
                <a:lnTo>
                  <a:pt x="1151" y="694"/>
                </a:lnTo>
                <a:lnTo>
                  <a:pt x="1149" y="687"/>
                </a:lnTo>
                <a:lnTo>
                  <a:pt x="1146" y="677"/>
                </a:lnTo>
                <a:lnTo>
                  <a:pt x="1144" y="671"/>
                </a:lnTo>
                <a:lnTo>
                  <a:pt x="1142" y="666"/>
                </a:lnTo>
                <a:lnTo>
                  <a:pt x="1140" y="660"/>
                </a:lnTo>
                <a:lnTo>
                  <a:pt x="1130" y="656"/>
                </a:lnTo>
                <a:lnTo>
                  <a:pt x="1119" y="650"/>
                </a:lnTo>
                <a:lnTo>
                  <a:pt x="1105" y="646"/>
                </a:lnTo>
                <a:lnTo>
                  <a:pt x="1094" y="643"/>
                </a:lnTo>
                <a:lnTo>
                  <a:pt x="1080" y="639"/>
                </a:lnTo>
                <a:lnTo>
                  <a:pt x="1067" y="637"/>
                </a:lnTo>
                <a:lnTo>
                  <a:pt x="1051" y="635"/>
                </a:lnTo>
                <a:lnTo>
                  <a:pt x="1038" y="635"/>
                </a:lnTo>
                <a:lnTo>
                  <a:pt x="1028" y="635"/>
                </a:lnTo>
                <a:lnTo>
                  <a:pt x="1017" y="635"/>
                </a:lnTo>
                <a:lnTo>
                  <a:pt x="1004" y="637"/>
                </a:lnTo>
                <a:lnTo>
                  <a:pt x="988" y="637"/>
                </a:lnTo>
                <a:lnTo>
                  <a:pt x="973" y="639"/>
                </a:lnTo>
                <a:lnTo>
                  <a:pt x="956" y="641"/>
                </a:lnTo>
                <a:lnTo>
                  <a:pt x="936" y="643"/>
                </a:lnTo>
                <a:lnTo>
                  <a:pt x="915" y="646"/>
                </a:lnTo>
                <a:lnTo>
                  <a:pt x="894" y="648"/>
                </a:lnTo>
                <a:lnTo>
                  <a:pt x="871" y="652"/>
                </a:lnTo>
                <a:lnTo>
                  <a:pt x="848" y="656"/>
                </a:lnTo>
                <a:lnTo>
                  <a:pt x="823" y="662"/>
                </a:lnTo>
                <a:lnTo>
                  <a:pt x="796" y="666"/>
                </a:lnTo>
                <a:lnTo>
                  <a:pt x="767" y="671"/>
                </a:lnTo>
                <a:lnTo>
                  <a:pt x="739" y="679"/>
                </a:lnTo>
                <a:lnTo>
                  <a:pt x="708" y="685"/>
                </a:lnTo>
                <a:lnTo>
                  <a:pt x="677" y="693"/>
                </a:lnTo>
                <a:lnTo>
                  <a:pt x="648" y="698"/>
                </a:lnTo>
                <a:lnTo>
                  <a:pt x="620" y="706"/>
                </a:lnTo>
                <a:lnTo>
                  <a:pt x="593" y="712"/>
                </a:lnTo>
                <a:lnTo>
                  <a:pt x="566" y="717"/>
                </a:lnTo>
                <a:lnTo>
                  <a:pt x="541" y="723"/>
                </a:lnTo>
                <a:lnTo>
                  <a:pt x="516" y="727"/>
                </a:lnTo>
                <a:lnTo>
                  <a:pt x="493" y="733"/>
                </a:lnTo>
                <a:lnTo>
                  <a:pt x="472" y="737"/>
                </a:lnTo>
                <a:lnTo>
                  <a:pt x="451" y="742"/>
                </a:lnTo>
                <a:lnTo>
                  <a:pt x="432" y="746"/>
                </a:lnTo>
                <a:lnTo>
                  <a:pt x="412" y="750"/>
                </a:lnTo>
                <a:lnTo>
                  <a:pt x="395" y="752"/>
                </a:lnTo>
                <a:lnTo>
                  <a:pt x="380" y="756"/>
                </a:lnTo>
                <a:lnTo>
                  <a:pt x="366" y="758"/>
                </a:lnTo>
                <a:lnTo>
                  <a:pt x="355" y="762"/>
                </a:lnTo>
                <a:lnTo>
                  <a:pt x="326" y="771"/>
                </a:lnTo>
                <a:lnTo>
                  <a:pt x="299" y="781"/>
                </a:lnTo>
                <a:lnTo>
                  <a:pt x="274" y="789"/>
                </a:lnTo>
                <a:lnTo>
                  <a:pt x="251" y="798"/>
                </a:lnTo>
                <a:lnTo>
                  <a:pt x="240" y="802"/>
                </a:lnTo>
                <a:lnTo>
                  <a:pt x="230" y="806"/>
                </a:lnTo>
                <a:lnTo>
                  <a:pt x="218" y="810"/>
                </a:lnTo>
                <a:lnTo>
                  <a:pt x="209" y="812"/>
                </a:lnTo>
                <a:lnTo>
                  <a:pt x="201" y="815"/>
                </a:lnTo>
                <a:lnTo>
                  <a:pt x="192" y="819"/>
                </a:lnTo>
                <a:lnTo>
                  <a:pt x="184" y="821"/>
                </a:lnTo>
                <a:lnTo>
                  <a:pt x="176" y="825"/>
                </a:lnTo>
                <a:lnTo>
                  <a:pt x="167" y="829"/>
                </a:lnTo>
                <a:lnTo>
                  <a:pt x="159" y="833"/>
                </a:lnTo>
                <a:lnTo>
                  <a:pt x="151" y="836"/>
                </a:lnTo>
                <a:lnTo>
                  <a:pt x="144" y="840"/>
                </a:lnTo>
                <a:lnTo>
                  <a:pt x="136" y="844"/>
                </a:lnTo>
                <a:lnTo>
                  <a:pt x="130" y="846"/>
                </a:lnTo>
                <a:lnTo>
                  <a:pt x="117" y="852"/>
                </a:lnTo>
                <a:lnTo>
                  <a:pt x="113" y="852"/>
                </a:lnTo>
                <a:lnTo>
                  <a:pt x="107" y="854"/>
                </a:lnTo>
                <a:lnTo>
                  <a:pt x="103" y="854"/>
                </a:lnTo>
                <a:lnTo>
                  <a:pt x="99" y="854"/>
                </a:lnTo>
                <a:lnTo>
                  <a:pt x="96" y="854"/>
                </a:lnTo>
                <a:lnTo>
                  <a:pt x="94" y="854"/>
                </a:lnTo>
                <a:lnTo>
                  <a:pt x="90" y="852"/>
                </a:lnTo>
                <a:lnTo>
                  <a:pt x="88" y="850"/>
                </a:lnTo>
                <a:lnTo>
                  <a:pt x="84" y="850"/>
                </a:lnTo>
                <a:lnTo>
                  <a:pt x="82" y="848"/>
                </a:lnTo>
                <a:lnTo>
                  <a:pt x="78" y="846"/>
                </a:lnTo>
                <a:lnTo>
                  <a:pt x="76" y="844"/>
                </a:lnTo>
                <a:lnTo>
                  <a:pt x="73" y="842"/>
                </a:lnTo>
                <a:lnTo>
                  <a:pt x="69" y="840"/>
                </a:lnTo>
                <a:lnTo>
                  <a:pt x="65" y="836"/>
                </a:lnTo>
                <a:lnTo>
                  <a:pt x="63" y="833"/>
                </a:lnTo>
                <a:lnTo>
                  <a:pt x="55" y="823"/>
                </a:lnTo>
                <a:lnTo>
                  <a:pt x="48" y="812"/>
                </a:lnTo>
                <a:lnTo>
                  <a:pt x="42" y="800"/>
                </a:lnTo>
                <a:lnTo>
                  <a:pt x="38" y="787"/>
                </a:lnTo>
                <a:lnTo>
                  <a:pt x="28" y="771"/>
                </a:lnTo>
                <a:lnTo>
                  <a:pt x="21" y="758"/>
                </a:lnTo>
                <a:lnTo>
                  <a:pt x="13" y="744"/>
                </a:lnTo>
                <a:lnTo>
                  <a:pt x="9" y="733"/>
                </a:lnTo>
                <a:lnTo>
                  <a:pt x="3" y="721"/>
                </a:lnTo>
                <a:lnTo>
                  <a:pt x="2" y="712"/>
                </a:lnTo>
                <a:lnTo>
                  <a:pt x="0" y="708"/>
                </a:lnTo>
                <a:lnTo>
                  <a:pt x="0" y="704"/>
                </a:lnTo>
                <a:lnTo>
                  <a:pt x="0" y="700"/>
                </a:lnTo>
                <a:lnTo>
                  <a:pt x="0" y="698"/>
                </a:lnTo>
                <a:lnTo>
                  <a:pt x="0" y="693"/>
                </a:lnTo>
                <a:lnTo>
                  <a:pt x="2" y="687"/>
                </a:lnTo>
                <a:lnTo>
                  <a:pt x="5" y="679"/>
                </a:lnTo>
                <a:lnTo>
                  <a:pt x="9" y="671"/>
                </a:lnTo>
                <a:lnTo>
                  <a:pt x="17" y="662"/>
                </a:lnTo>
                <a:lnTo>
                  <a:pt x="21" y="658"/>
                </a:lnTo>
                <a:lnTo>
                  <a:pt x="27" y="654"/>
                </a:lnTo>
                <a:lnTo>
                  <a:pt x="30" y="648"/>
                </a:lnTo>
                <a:lnTo>
                  <a:pt x="36" y="645"/>
                </a:lnTo>
                <a:lnTo>
                  <a:pt x="42" y="641"/>
                </a:lnTo>
                <a:lnTo>
                  <a:pt x="50" y="635"/>
                </a:lnTo>
                <a:lnTo>
                  <a:pt x="55" y="631"/>
                </a:lnTo>
                <a:lnTo>
                  <a:pt x="59" y="627"/>
                </a:lnTo>
                <a:lnTo>
                  <a:pt x="63" y="620"/>
                </a:lnTo>
                <a:lnTo>
                  <a:pt x="69" y="612"/>
                </a:lnTo>
                <a:lnTo>
                  <a:pt x="73" y="600"/>
                </a:lnTo>
                <a:lnTo>
                  <a:pt x="78" y="589"/>
                </a:lnTo>
                <a:lnTo>
                  <a:pt x="82" y="575"/>
                </a:lnTo>
                <a:lnTo>
                  <a:pt x="88" y="560"/>
                </a:lnTo>
                <a:lnTo>
                  <a:pt x="92" y="541"/>
                </a:lnTo>
                <a:lnTo>
                  <a:pt x="98" y="522"/>
                </a:lnTo>
                <a:lnTo>
                  <a:pt x="101" y="503"/>
                </a:lnTo>
                <a:lnTo>
                  <a:pt x="107" y="479"/>
                </a:lnTo>
                <a:lnTo>
                  <a:pt x="111" y="455"/>
                </a:lnTo>
                <a:lnTo>
                  <a:pt x="117" y="428"/>
                </a:lnTo>
                <a:lnTo>
                  <a:pt x="121" y="401"/>
                </a:lnTo>
                <a:lnTo>
                  <a:pt x="126" y="370"/>
                </a:lnTo>
                <a:lnTo>
                  <a:pt x="130" y="339"/>
                </a:lnTo>
                <a:lnTo>
                  <a:pt x="134" y="312"/>
                </a:lnTo>
                <a:lnTo>
                  <a:pt x="138" y="286"/>
                </a:lnTo>
                <a:lnTo>
                  <a:pt x="140" y="261"/>
                </a:lnTo>
                <a:lnTo>
                  <a:pt x="142" y="238"/>
                </a:lnTo>
                <a:lnTo>
                  <a:pt x="144" y="217"/>
                </a:lnTo>
                <a:lnTo>
                  <a:pt x="146" y="195"/>
                </a:lnTo>
                <a:lnTo>
                  <a:pt x="146" y="178"/>
                </a:lnTo>
                <a:lnTo>
                  <a:pt x="146" y="161"/>
                </a:lnTo>
                <a:lnTo>
                  <a:pt x="146" y="145"/>
                </a:lnTo>
                <a:lnTo>
                  <a:pt x="146" y="130"/>
                </a:lnTo>
                <a:lnTo>
                  <a:pt x="146" y="119"/>
                </a:lnTo>
                <a:lnTo>
                  <a:pt x="144" y="107"/>
                </a:lnTo>
                <a:lnTo>
                  <a:pt x="142" y="96"/>
                </a:lnTo>
                <a:lnTo>
                  <a:pt x="140" y="88"/>
                </a:lnTo>
                <a:lnTo>
                  <a:pt x="138" y="80"/>
                </a:lnTo>
                <a:lnTo>
                  <a:pt x="134" y="73"/>
                </a:lnTo>
                <a:lnTo>
                  <a:pt x="130" y="67"/>
                </a:lnTo>
                <a:lnTo>
                  <a:pt x="126" y="59"/>
                </a:lnTo>
                <a:lnTo>
                  <a:pt x="124" y="53"/>
                </a:lnTo>
                <a:lnTo>
                  <a:pt x="122" y="48"/>
                </a:lnTo>
                <a:lnTo>
                  <a:pt x="121" y="42"/>
                </a:lnTo>
                <a:lnTo>
                  <a:pt x="121" y="38"/>
                </a:lnTo>
                <a:lnTo>
                  <a:pt x="119" y="32"/>
                </a:lnTo>
                <a:lnTo>
                  <a:pt x="121" y="28"/>
                </a:lnTo>
                <a:lnTo>
                  <a:pt x="121" y="25"/>
                </a:lnTo>
                <a:lnTo>
                  <a:pt x="122" y="19"/>
                </a:lnTo>
                <a:lnTo>
                  <a:pt x="124" y="17"/>
                </a:lnTo>
                <a:lnTo>
                  <a:pt x="126" y="13"/>
                </a:lnTo>
                <a:lnTo>
                  <a:pt x="130" y="9"/>
                </a:lnTo>
                <a:lnTo>
                  <a:pt x="134" y="7"/>
                </a:lnTo>
                <a:lnTo>
                  <a:pt x="138" y="3"/>
                </a:lnTo>
                <a:lnTo>
                  <a:pt x="144" y="2"/>
                </a:lnTo>
                <a:lnTo>
                  <a:pt x="147" y="0"/>
                </a:lnTo>
                <a:lnTo>
                  <a:pt x="153" y="0"/>
                </a:lnTo>
                <a:lnTo>
                  <a:pt x="157" y="0"/>
                </a:lnTo>
                <a:lnTo>
                  <a:pt x="167" y="0"/>
                </a:lnTo>
                <a:lnTo>
                  <a:pt x="178" y="2"/>
                </a:lnTo>
                <a:lnTo>
                  <a:pt x="190" y="3"/>
                </a:lnTo>
                <a:lnTo>
                  <a:pt x="201" y="7"/>
                </a:lnTo>
                <a:lnTo>
                  <a:pt x="213" y="11"/>
                </a:lnTo>
                <a:lnTo>
                  <a:pt x="228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85"/>
          <p:cNvSpPr/>
          <p:nvPr/>
        </p:nvSpPr>
        <p:spPr>
          <a:xfrm>
            <a:off x="6929280" y="3189240"/>
            <a:ext cx="216000" cy="852480"/>
          </a:xfrm>
          <a:custGeom>
            <a:avLst/>
            <a:gdLst/>
            <a:ahLst/>
            <a:rect l="l" t="t" r="r" b="b"/>
            <a:pathLst>
              <a:path w="272" h="1073">
                <a:moveTo>
                  <a:pt x="0" y="0"/>
                </a:moveTo>
                <a:lnTo>
                  <a:pt x="23" y="0"/>
                </a:lnTo>
                <a:lnTo>
                  <a:pt x="46" y="0"/>
                </a:lnTo>
                <a:lnTo>
                  <a:pt x="67" y="0"/>
                </a:lnTo>
                <a:lnTo>
                  <a:pt x="88" y="2"/>
                </a:lnTo>
                <a:lnTo>
                  <a:pt x="107" y="2"/>
                </a:lnTo>
                <a:lnTo>
                  <a:pt x="127" y="6"/>
                </a:lnTo>
                <a:lnTo>
                  <a:pt x="146" y="8"/>
                </a:lnTo>
                <a:lnTo>
                  <a:pt x="165" y="14"/>
                </a:lnTo>
                <a:lnTo>
                  <a:pt x="173" y="16"/>
                </a:lnTo>
                <a:lnTo>
                  <a:pt x="178" y="20"/>
                </a:lnTo>
                <a:lnTo>
                  <a:pt x="186" y="22"/>
                </a:lnTo>
                <a:lnTo>
                  <a:pt x="194" y="27"/>
                </a:lnTo>
                <a:lnTo>
                  <a:pt x="207" y="37"/>
                </a:lnTo>
                <a:lnTo>
                  <a:pt x="219" y="48"/>
                </a:lnTo>
                <a:lnTo>
                  <a:pt x="230" y="60"/>
                </a:lnTo>
                <a:lnTo>
                  <a:pt x="240" y="73"/>
                </a:lnTo>
                <a:lnTo>
                  <a:pt x="244" y="79"/>
                </a:lnTo>
                <a:lnTo>
                  <a:pt x="247" y="87"/>
                </a:lnTo>
                <a:lnTo>
                  <a:pt x="251" y="94"/>
                </a:lnTo>
                <a:lnTo>
                  <a:pt x="253" y="102"/>
                </a:lnTo>
                <a:lnTo>
                  <a:pt x="255" y="110"/>
                </a:lnTo>
                <a:lnTo>
                  <a:pt x="259" y="117"/>
                </a:lnTo>
                <a:lnTo>
                  <a:pt x="261" y="127"/>
                </a:lnTo>
                <a:lnTo>
                  <a:pt x="263" y="139"/>
                </a:lnTo>
                <a:lnTo>
                  <a:pt x="265" y="150"/>
                </a:lnTo>
                <a:lnTo>
                  <a:pt x="267" y="164"/>
                </a:lnTo>
                <a:lnTo>
                  <a:pt x="269" y="177"/>
                </a:lnTo>
                <a:lnTo>
                  <a:pt x="271" y="192"/>
                </a:lnTo>
                <a:lnTo>
                  <a:pt x="271" y="208"/>
                </a:lnTo>
                <a:lnTo>
                  <a:pt x="271" y="225"/>
                </a:lnTo>
                <a:lnTo>
                  <a:pt x="272" y="242"/>
                </a:lnTo>
                <a:lnTo>
                  <a:pt x="272" y="261"/>
                </a:lnTo>
                <a:lnTo>
                  <a:pt x="271" y="279"/>
                </a:lnTo>
                <a:lnTo>
                  <a:pt x="271" y="300"/>
                </a:lnTo>
                <a:lnTo>
                  <a:pt x="269" y="319"/>
                </a:lnTo>
                <a:lnTo>
                  <a:pt x="267" y="340"/>
                </a:lnTo>
                <a:lnTo>
                  <a:pt x="265" y="354"/>
                </a:lnTo>
                <a:lnTo>
                  <a:pt x="265" y="365"/>
                </a:lnTo>
                <a:lnTo>
                  <a:pt x="263" y="379"/>
                </a:lnTo>
                <a:lnTo>
                  <a:pt x="263" y="394"/>
                </a:lnTo>
                <a:lnTo>
                  <a:pt x="261" y="407"/>
                </a:lnTo>
                <a:lnTo>
                  <a:pt x="259" y="423"/>
                </a:lnTo>
                <a:lnTo>
                  <a:pt x="259" y="440"/>
                </a:lnTo>
                <a:lnTo>
                  <a:pt x="257" y="457"/>
                </a:lnTo>
                <a:lnTo>
                  <a:pt x="255" y="475"/>
                </a:lnTo>
                <a:lnTo>
                  <a:pt x="255" y="492"/>
                </a:lnTo>
                <a:lnTo>
                  <a:pt x="253" y="511"/>
                </a:lnTo>
                <a:lnTo>
                  <a:pt x="253" y="530"/>
                </a:lnTo>
                <a:lnTo>
                  <a:pt x="251" y="549"/>
                </a:lnTo>
                <a:lnTo>
                  <a:pt x="249" y="570"/>
                </a:lnTo>
                <a:lnTo>
                  <a:pt x="249" y="592"/>
                </a:lnTo>
                <a:lnTo>
                  <a:pt x="247" y="613"/>
                </a:lnTo>
                <a:lnTo>
                  <a:pt x="246" y="636"/>
                </a:lnTo>
                <a:lnTo>
                  <a:pt x="246" y="659"/>
                </a:lnTo>
                <a:lnTo>
                  <a:pt x="244" y="684"/>
                </a:lnTo>
                <a:lnTo>
                  <a:pt x="242" y="707"/>
                </a:lnTo>
                <a:lnTo>
                  <a:pt x="242" y="732"/>
                </a:lnTo>
                <a:lnTo>
                  <a:pt x="240" y="759"/>
                </a:lnTo>
                <a:lnTo>
                  <a:pt x="240" y="784"/>
                </a:lnTo>
                <a:lnTo>
                  <a:pt x="238" y="810"/>
                </a:lnTo>
                <a:lnTo>
                  <a:pt x="236" y="839"/>
                </a:lnTo>
                <a:lnTo>
                  <a:pt x="236" y="866"/>
                </a:lnTo>
                <a:lnTo>
                  <a:pt x="234" y="895"/>
                </a:lnTo>
                <a:lnTo>
                  <a:pt x="232" y="924"/>
                </a:lnTo>
                <a:lnTo>
                  <a:pt x="232" y="954"/>
                </a:lnTo>
                <a:lnTo>
                  <a:pt x="230" y="985"/>
                </a:lnTo>
                <a:lnTo>
                  <a:pt x="230" y="1016"/>
                </a:lnTo>
                <a:lnTo>
                  <a:pt x="228" y="1048"/>
                </a:lnTo>
                <a:lnTo>
                  <a:pt x="159" y="1060"/>
                </a:lnTo>
                <a:lnTo>
                  <a:pt x="90" y="1073"/>
                </a:lnTo>
                <a:lnTo>
                  <a:pt x="88" y="1016"/>
                </a:lnTo>
                <a:lnTo>
                  <a:pt x="88" y="962"/>
                </a:lnTo>
                <a:lnTo>
                  <a:pt x="88" y="908"/>
                </a:lnTo>
                <a:lnTo>
                  <a:pt x="88" y="856"/>
                </a:lnTo>
                <a:lnTo>
                  <a:pt x="86" y="807"/>
                </a:lnTo>
                <a:lnTo>
                  <a:pt x="86" y="759"/>
                </a:lnTo>
                <a:lnTo>
                  <a:pt x="84" y="711"/>
                </a:lnTo>
                <a:lnTo>
                  <a:pt x="84" y="665"/>
                </a:lnTo>
                <a:lnTo>
                  <a:pt x="82" y="620"/>
                </a:lnTo>
                <a:lnTo>
                  <a:pt x="81" y="578"/>
                </a:lnTo>
                <a:lnTo>
                  <a:pt x="79" y="538"/>
                </a:lnTo>
                <a:lnTo>
                  <a:pt x="77" y="498"/>
                </a:lnTo>
                <a:lnTo>
                  <a:pt x="75" y="459"/>
                </a:lnTo>
                <a:lnTo>
                  <a:pt x="73" y="421"/>
                </a:lnTo>
                <a:lnTo>
                  <a:pt x="71" y="386"/>
                </a:lnTo>
                <a:lnTo>
                  <a:pt x="69" y="352"/>
                </a:lnTo>
                <a:lnTo>
                  <a:pt x="65" y="319"/>
                </a:lnTo>
                <a:lnTo>
                  <a:pt x="63" y="288"/>
                </a:lnTo>
                <a:lnTo>
                  <a:pt x="59" y="258"/>
                </a:lnTo>
                <a:lnTo>
                  <a:pt x="56" y="231"/>
                </a:lnTo>
                <a:lnTo>
                  <a:pt x="52" y="202"/>
                </a:lnTo>
                <a:lnTo>
                  <a:pt x="48" y="177"/>
                </a:lnTo>
                <a:lnTo>
                  <a:pt x="44" y="154"/>
                </a:lnTo>
                <a:lnTo>
                  <a:pt x="40" y="131"/>
                </a:lnTo>
                <a:lnTo>
                  <a:pt x="36" y="110"/>
                </a:lnTo>
                <a:lnTo>
                  <a:pt x="33" y="89"/>
                </a:lnTo>
                <a:lnTo>
                  <a:pt x="27" y="71"/>
                </a:lnTo>
                <a:lnTo>
                  <a:pt x="23" y="54"/>
                </a:lnTo>
                <a:lnTo>
                  <a:pt x="17" y="39"/>
                </a:lnTo>
                <a:lnTo>
                  <a:pt x="11" y="23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86"/>
          <p:cNvSpPr/>
          <p:nvPr/>
        </p:nvSpPr>
        <p:spPr>
          <a:xfrm>
            <a:off x="7070760" y="3470400"/>
            <a:ext cx="533520" cy="160200"/>
          </a:xfrm>
          <a:custGeom>
            <a:avLst/>
            <a:gdLst/>
            <a:ahLst/>
            <a:rect l="l" t="t" r="r" b="b"/>
            <a:pathLst>
              <a:path w="672" h="201">
                <a:moveTo>
                  <a:pt x="0" y="113"/>
                </a:moveTo>
                <a:lnTo>
                  <a:pt x="66" y="94"/>
                </a:lnTo>
                <a:lnTo>
                  <a:pt x="133" y="74"/>
                </a:lnTo>
                <a:lnTo>
                  <a:pt x="200" y="55"/>
                </a:lnTo>
                <a:lnTo>
                  <a:pt x="265" y="38"/>
                </a:lnTo>
                <a:lnTo>
                  <a:pt x="298" y="28"/>
                </a:lnTo>
                <a:lnTo>
                  <a:pt x="331" y="21"/>
                </a:lnTo>
                <a:lnTo>
                  <a:pt x="361" y="13"/>
                </a:lnTo>
                <a:lnTo>
                  <a:pt x="390" y="9"/>
                </a:lnTo>
                <a:lnTo>
                  <a:pt x="417" y="5"/>
                </a:lnTo>
                <a:lnTo>
                  <a:pt x="444" y="2"/>
                </a:lnTo>
                <a:lnTo>
                  <a:pt x="471" y="0"/>
                </a:lnTo>
                <a:lnTo>
                  <a:pt x="494" y="0"/>
                </a:lnTo>
                <a:lnTo>
                  <a:pt x="513" y="0"/>
                </a:lnTo>
                <a:lnTo>
                  <a:pt x="530" y="2"/>
                </a:lnTo>
                <a:lnTo>
                  <a:pt x="546" y="3"/>
                </a:lnTo>
                <a:lnTo>
                  <a:pt x="563" y="7"/>
                </a:lnTo>
                <a:lnTo>
                  <a:pt x="578" y="11"/>
                </a:lnTo>
                <a:lnTo>
                  <a:pt x="592" y="15"/>
                </a:lnTo>
                <a:lnTo>
                  <a:pt x="620" y="25"/>
                </a:lnTo>
                <a:lnTo>
                  <a:pt x="628" y="26"/>
                </a:lnTo>
                <a:lnTo>
                  <a:pt x="634" y="30"/>
                </a:lnTo>
                <a:lnTo>
                  <a:pt x="640" y="32"/>
                </a:lnTo>
                <a:lnTo>
                  <a:pt x="645" y="36"/>
                </a:lnTo>
                <a:lnTo>
                  <a:pt x="649" y="40"/>
                </a:lnTo>
                <a:lnTo>
                  <a:pt x="653" y="44"/>
                </a:lnTo>
                <a:lnTo>
                  <a:pt x="657" y="46"/>
                </a:lnTo>
                <a:lnTo>
                  <a:pt x="661" y="49"/>
                </a:lnTo>
                <a:lnTo>
                  <a:pt x="665" y="57"/>
                </a:lnTo>
                <a:lnTo>
                  <a:pt x="668" y="63"/>
                </a:lnTo>
                <a:lnTo>
                  <a:pt x="670" y="71"/>
                </a:lnTo>
                <a:lnTo>
                  <a:pt x="672" y="74"/>
                </a:lnTo>
                <a:lnTo>
                  <a:pt x="670" y="78"/>
                </a:lnTo>
                <a:lnTo>
                  <a:pt x="670" y="80"/>
                </a:lnTo>
                <a:lnTo>
                  <a:pt x="666" y="84"/>
                </a:lnTo>
                <a:lnTo>
                  <a:pt x="665" y="86"/>
                </a:lnTo>
                <a:lnTo>
                  <a:pt x="661" y="90"/>
                </a:lnTo>
                <a:lnTo>
                  <a:pt x="655" y="94"/>
                </a:lnTo>
                <a:lnTo>
                  <a:pt x="649" y="97"/>
                </a:lnTo>
                <a:lnTo>
                  <a:pt x="643" y="101"/>
                </a:lnTo>
                <a:lnTo>
                  <a:pt x="636" y="105"/>
                </a:lnTo>
                <a:lnTo>
                  <a:pt x="626" y="111"/>
                </a:lnTo>
                <a:lnTo>
                  <a:pt x="618" y="115"/>
                </a:lnTo>
                <a:lnTo>
                  <a:pt x="607" y="119"/>
                </a:lnTo>
                <a:lnTo>
                  <a:pt x="595" y="124"/>
                </a:lnTo>
                <a:lnTo>
                  <a:pt x="584" y="128"/>
                </a:lnTo>
                <a:lnTo>
                  <a:pt x="570" y="134"/>
                </a:lnTo>
                <a:lnTo>
                  <a:pt x="557" y="138"/>
                </a:lnTo>
                <a:lnTo>
                  <a:pt x="549" y="142"/>
                </a:lnTo>
                <a:lnTo>
                  <a:pt x="542" y="144"/>
                </a:lnTo>
                <a:lnTo>
                  <a:pt x="534" y="145"/>
                </a:lnTo>
                <a:lnTo>
                  <a:pt x="524" y="147"/>
                </a:lnTo>
                <a:lnTo>
                  <a:pt x="513" y="149"/>
                </a:lnTo>
                <a:lnTo>
                  <a:pt x="503" y="153"/>
                </a:lnTo>
                <a:lnTo>
                  <a:pt x="492" y="155"/>
                </a:lnTo>
                <a:lnTo>
                  <a:pt x="480" y="157"/>
                </a:lnTo>
                <a:lnTo>
                  <a:pt x="467" y="159"/>
                </a:lnTo>
                <a:lnTo>
                  <a:pt x="453" y="161"/>
                </a:lnTo>
                <a:lnTo>
                  <a:pt x="440" y="165"/>
                </a:lnTo>
                <a:lnTo>
                  <a:pt x="425" y="167"/>
                </a:lnTo>
                <a:lnTo>
                  <a:pt x="409" y="169"/>
                </a:lnTo>
                <a:lnTo>
                  <a:pt x="394" y="170"/>
                </a:lnTo>
                <a:lnTo>
                  <a:pt x="377" y="172"/>
                </a:lnTo>
                <a:lnTo>
                  <a:pt x="359" y="174"/>
                </a:lnTo>
                <a:lnTo>
                  <a:pt x="342" y="176"/>
                </a:lnTo>
                <a:lnTo>
                  <a:pt x="323" y="178"/>
                </a:lnTo>
                <a:lnTo>
                  <a:pt x="304" y="180"/>
                </a:lnTo>
                <a:lnTo>
                  <a:pt x="284" y="182"/>
                </a:lnTo>
                <a:lnTo>
                  <a:pt x="263" y="184"/>
                </a:lnTo>
                <a:lnTo>
                  <a:pt x="242" y="186"/>
                </a:lnTo>
                <a:lnTo>
                  <a:pt x="221" y="188"/>
                </a:lnTo>
                <a:lnTo>
                  <a:pt x="200" y="190"/>
                </a:lnTo>
                <a:lnTo>
                  <a:pt x="177" y="192"/>
                </a:lnTo>
                <a:lnTo>
                  <a:pt x="154" y="193"/>
                </a:lnTo>
                <a:lnTo>
                  <a:pt x="129" y="193"/>
                </a:lnTo>
                <a:lnTo>
                  <a:pt x="104" y="195"/>
                </a:lnTo>
                <a:lnTo>
                  <a:pt x="79" y="197"/>
                </a:lnTo>
                <a:lnTo>
                  <a:pt x="54" y="199"/>
                </a:lnTo>
                <a:lnTo>
                  <a:pt x="27" y="199"/>
                </a:lnTo>
                <a:lnTo>
                  <a:pt x="0" y="201"/>
                </a:lnTo>
                <a:lnTo>
                  <a:pt x="0" y="157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87"/>
          <p:cNvSpPr/>
          <p:nvPr/>
        </p:nvSpPr>
        <p:spPr>
          <a:xfrm>
            <a:off x="6620040" y="3029040"/>
            <a:ext cx="954000" cy="253800"/>
          </a:xfrm>
          <a:custGeom>
            <a:avLst/>
            <a:gdLst/>
            <a:ahLst/>
            <a:rect l="l" t="t" r="r" b="b"/>
            <a:pathLst>
              <a:path w="1202" h="318">
                <a:moveTo>
                  <a:pt x="10" y="276"/>
                </a:moveTo>
                <a:lnTo>
                  <a:pt x="6" y="269"/>
                </a:lnTo>
                <a:lnTo>
                  <a:pt x="4" y="259"/>
                </a:lnTo>
                <a:lnTo>
                  <a:pt x="2" y="253"/>
                </a:lnTo>
                <a:lnTo>
                  <a:pt x="0" y="247"/>
                </a:lnTo>
                <a:lnTo>
                  <a:pt x="2" y="242"/>
                </a:lnTo>
                <a:lnTo>
                  <a:pt x="4" y="236"/>
                </a:lnTo>
                <a:lnTo>
                  <a:pt x="6" y="230"/>
                </a:lnTo>
                <a:lnTo>
                  <a:pt x="10" y="226"/>
                </a:lnTo>
                <a:lnTo>
                  <a:pt x="12" y="226"/>
                </a:lnTo>
                <a:lnTo>
                  <a:pt x="14" y="226"/>
                </a:lnTo>
                <a:lnTo>
                  <a:pt x="18" y="226"/>
                </a:lnTo>
                <a:lnTo>
                  <a:pt x="21" y="224"/>
                </a:lnTo>
                <a:lnTo>
                  <a:pt x="27" y="224"/>
                </a:lnTo>
                <a:lnTo>
                  <a:pt x="33" y="223"/>
                </a:lnTo>
                <a:lnTo>
                  <a:pt x="39" y="221"/>
                </a:lnTo>
                <a:lnTo>
                  <a:pt x="46" y="219"/>
                </a:lnTo>
                <a:lnTo>
                  <a:pt x="54" y="217"/>
                </a:lnTo>
                <a:lnTo>
                  <a:pt x="64" y="215"/>
                </a:lnTo>
                <a:lnTo>
                  <a:pt x="73" y="213"/>
                </a:lnTo>
                <a:lnTo>
                  <a:pt x="83" y="211"/>
                </a:lnTo>
                <a:lnTo>
                  <a:pt x="94" y="207"/>
                </a:lnTo>
                <a:lnTo>
                  <a:pt x="108" y="205"/>
                </a:lnTo>
                <a:lnTo>
                  <a:pt x="119" y="201"/>
                </a:lnTo>
                <a:lnTo>
                  <a:pt x="135" y="198"/>
                </a:lnTo>
                <a:lnTo>
                  <a:pt x="148" y="196"/>
                </a:lnTo>
                <a:lnTo>
                  <a:pt x="163" y="192"/>
                </a:lnTo>
                <a:lnTo>
                  <a:pt x="181" y="186"/>
                </a:lnTo>
                <a:lnTo>
                  <a:pt x="198" y="182"/>
                </a:lnTo>
                <a:lnTo>
                  <a:pt x="215" y="178"/>
                </a:lnTo>
                <a:lnTo>
                  <a:pt x="234" y="173"/>
                </a:lnTo>
                <a:lnTo>
                  <a:pt x="254" y="169"/>
                </a:lnTo>
                <a:lnTo>
                  <a:pt x="275" y="163"/>
                </a:lnTo>
                <a:lnTo>
                  <a:pt x="296" y="157"/>
                </a:lnTo>
                <a:lnTo>
                  <a:pt x="317" y="151"/>
                </a:lnTo>
                <a:lnTo>
                  <a:pt x="340" y="146"/>
                </a:lnTo>
                <a:lnTo>
                  <a:pt x="365" y="140"/>
                </a:lnTo>
                <a:lnTo>
                  <a:pt x="388" y="134"/>
                </a:lnTo>
                <a:lnTo>
                  <a:pt x="413" y="127"/>
                </a:lnTo>
                <a:lnTo>
                  <a:pt x="440" y="119"/>
                </a:lnTo>
                <a:lnTo>
                  <a:pt x="467" y="113"/>
                </a:lnTo>
                <a:lnTo>
                  <a:pt x="494" y="105"/>
                </a:lnTo>
                <a:lnTo>
                  <a:pt x="520" y="98"/>
                </a:lnTo>
                <a:lnTo>
                  <a:pt x="545" y="92"/>
                </a:lnTo>
                <a:lnTo>
                  <a:pt x="570" y="86"/>
                </a:lnTo>
                <a:lnTo>
                  <a:pt x="595" y="79"/>
                </a:lnTo>
                <a:lnTo>
                  <a:pt x="618" y="73"/>
                </a:lnTo>
                <a:lnTo>
                  <a:pt x="641" y="67"/>
                </a:lnTo>
                <a:lnTo>
                  <a:pt x="664" y="63"/>
                </a:lnTo>
                <a:lnTo>
                  <a:pt x="685" y="57"/>
                </a:lnTo>
                <a:lnTo>
                  <a:pt x="707" y="52"/>
                </a:lnTo>
                <a:lnTo>
                  <a:pt x="726" y="48"/>
                </a:lnTo>
                <a:lnTo>
                  <a:pt x="747" y="42"/>
                </a:lnTo>
                <a:lnTo>
                  <a:pt x="766" y="38"/>
                </a:lnTo>
                <a:lnTo>
                  <a:pt x="783" y="34"/>
                </a:lnTo>
                <a:lnTo>
                  <a:pt x="801" y="31"/>
                </a:lnTo>
                <a:lnTo>
                  <a:pt x="818" y="27"/>
                </a:lnTo>
                <a:lnTo>
                  <a:pt x="835" y="23"/>
                </a:lnTo>
                <a:lnTo>
                  <a:pt x="851" y="21"/>
                </a:lnTo>
                <a:lnTo>
                  <a:pt x="866" y="17"/>
                </a:lnTo>
                <a:lnTo>
                  <a:pt x="879" y="15"/>
                </a:lnTo>
                <a:lnTo>
                  <a:pt x="893" y="13"/>
                </a:lnTo>
                <a:lnTo>
                  <a:pt x="906" y="9"/>
                </a:lnTo>
                <a:lnTo>
                  <a:pt x="918" y="8"/>
                </a:lnTo>
                <a:lnTo>
                  <a:pt x="929" y="6"/>
                </a:lnTo>
                <a:lnTo>
                  <a:pt x="941" y="4"/>
                </a:lnTo>
                <a:lnTo>
                  <a:pt x="950" y="4"/>
                </a:lnTo>
                <a:lnTo>
                  <a:pt x="960" y="2"/>
                </a:lnTo>
                <a:lnTo>
                  <a:pt x="970" y="2"/>
                </a:lnTo>
                <a:lnTo>
                  <a:pt x="977" y="0"/>
                </a:lnTo>
                <a:lnTo>
                  <a:pt x="985" y="0"/>
                </a:lnTo>
                <a:lnTo>
                  <a:pt x="993" y="0"/>
                </a:lnTo>
                <a:lnTo>
                  <a:pt x="998" y="0"/>
                </a:lnTo>
                <a:lnTo>
                  <a:pt x="1021" y="0"/>
                </a:lnTo>
                <a:lnTo>
                  <a:pt x="1044" y="0"/>
                </a:lnTo>
                <a:lnTo>
                  <a:pt x="1066" y="0"/>
                </a:lnTo>
                <a:lnTo>
                  <a:pt x="1085" y="0"/>
                </a:lnTo>
                <a:lnTo>
                  <a:pt x="1102" y="2"/>
                </a:lnTo>
                <a:lnTo>
                  <a:pt x="1119" y="4"/>
                </a:lnTo>
                <a:lnTo>
                  <a:pt x="1137" y="8"/>
                </a:lnTo>
                <a:lnTo>
                  <a:pt x="1152" y="11"/>
                </a:lnTo>
                <a:lnTo>
                  <a:pt x="1158" y="15"/>
                </a:lnTo>
                <a:lnTo>
                  <a:pt x="1163" y="17"/>
                </a:lnTo>
                <a:lnTo>
                  <a:pt x="1169" y="21"/>
                </a:lnTo>
                <a:lnTo>
                  <a:pt x="1175" y="23"/>
                </a:lnTo>
                <a:lnTo>
                  <a:pt x="1179" y="27"/>
                </a:lnTo>
                <a:lnTo>
                  <a:pt x="1185" y="31"/>
                </a:lnTo>
                <a:lnTo>
                  <a:pt x="1186" y="34"/>
                </a:lnTo>
                <a:lnTo>
                  <a:pt x="1190" y="36"/>
                </a:lnTo>
                <a:lnTo>
                  <a:pt x="1196" y="44"/>
                </a:lnTo>
                <a:lnTo>
                  <a:pt x="1198" y="52"/>
                </a:lnTo>
                <a:lnTo>
                  <a:pt x="1200" y="57"/>
                </a:lnTo>
                <a:lnTo>
                  <a:pt x="1202" y="63"/>
                </a:lnTo>
                <a:lnTo>
                  <a:pt x="1200" y="67"/>
                </a:lnTo>
                <a:lnTo>
                  <a:pt x="1200" y="71"/>
                </a:lnTo>
                <a:lnTo>
                  <a:pt x="1196" y="77"/>
                </a:lnTo>
                <a:lnTo>
                  <a:pt x="1192" y="80"/>
                </a:lnTo>
                <a:lnTo>
                  <a:pt x="1186" y="86"/>
                </a:lnTo>
                <a:lnTo>
                  <a:pt x="1179" y="92"/>
                </a:lnTo>
                <a:lnTo>
                  <a:pt x="1171" y="96"/>
                </a:lnTo>
                <a:lnTo>
                  <a:pt x="1161" y="102"/>
                </a:lnTo>
                <a:lnTo>
                  <a:pt x="1152" y="107"/>
                </a:lnTo>
                <a:lnTo>
                  <a:pt x="1138" y="113"/>
                </a:lnTo>
                <a:lnTo>
                  <a:pt x="1125" y="119"/>
                </a:lnTo>
                <a:lnTo>
                  <a:pt x="1110" y="125"/>
                </a:lnTo>
                <a:lnTo>
                  <a:pt x="1094" y="130"/>
                </a:lnTo>
                <a:lnTo>
                  <a:pt x="1077" y="136"/>
                </a:lnTo>
                <a:lnTo>
                  <a:pt x="1058" y="144"/>
                </a:lnTo>
                <a:lnTo>
                  <a:pt x="1037" y="151"/>
                </a:lnTo>
                <a:lnTo>
                  <a:pt x="1016" y="157"/>
                </a:lnTo>
                <a:lnTo>
                  <a:pt x="991" y="165"/>
                </a:lnTo>
                <a:lnTo>
                  <a:pt x="966" y="173"/>
                </a:lnTo>
                <a:lnTo>
                  <a:pt x="941" y="178"/>
                </a:lnTo>
                <a:lnTo>
                  <a:pt x="912" y="186"/>
                </a:lnTo>
                <a:lnTo>
                  <a:pt x="883" y="194"/>
                </a:lnTo>
                <a:lnTo>
                  <a:pt x="852" y="199"/>
                </a:lnTo>
                <a:lnTo>
                  <a:pt x="822" y="207"/>
                </a:lnTo>
                <a:lnTo>
                  <a:pt x="789" y="215"/>
                </a:lnTo>
                <a:lnTo>
                  <a:pt x="755" y="221"/>
                </a:lnTo>
                <a:lnTo>
                  <a:pt x="720" y="228"/>
                </a:lnTo>
                <a:lnTo>
                  <a:pt x="684" y="236"/>
                </a:lnTo>
                <a:lnTo>
                  <a:pt x="647" y="242"/>
                </a:lnTo>
                <a:lnTo>
                  <a:pt x="609" y="249"/>
                </a:lnTo>
                <a:lnTo>
                  <a:pt x="570" y="257"/>
                </a:lnTo>
                <a:lnTo>
                  <a:pt x="530" y="265"/>
                </a:lnTo>
                <a:lnTo>
                  <a:pt x="509" y="269"/>
                </a:lnTo>
                <a:lnTo>
                  <a:pt x="488" y="271"/>
                </a:lnTo>
                <a:lnTo>
                  <a:pt x="469" y="274"/>
                </a:lnTo>
                <a:lnTo>
                  <a:pt x="449" y="278"/>
                </a:lnTo>
                <a:lnTo>
                  <a:pt x="430" y="282"/>
                </a:lnTo>
                <a:lnTo>
                  <a:pt x="411" y="284"/>
                </a:lnTo>
                <a:lnTo>
                  <a:pt x="394" y="288"/>
                </a:lnTo>
                <a:lnTo>
                  <a:pt x="376" y="290"/>
                </a:lnTo>
                <a:lnTo>
                  <a:pt x="359" y="294"/>
                </a:lnTo>
                <a:lnTo>
                  <a:pt x="342" y="295"/>
                </a:lnTo>
                <a:lnTo>
                  <a:pt x="327" y="297"/>
                </a:lnTo>
                <a:lnTo>
                  <a:pt x="311" y="301"/>
                </a:lnTo>
                <a:lnTo>
                  <a:pt x="298" y="303"/>
                </a:lnTo>
                <a:lnTo>
                  <a:pt x="282" y="305"/>
                </a:lnTo>
                <a:lnTo>
                  <a:pt x="269" y="307"/>
                </a:lnTo>
                <a:lnTo>
                  <a:pt x="256" y="309"/>
                </a:lnTo>
                <a:lnTo>
                  <a:pt x="244" y="311"/>
                </a:lnTo>
                <a:lnTo>
                  <a:pt x="232" y="313"/>
                </a:lnTo>
                <a:lnTo>
                  <a:pt x="221" y="313"/>
                </a:lnTo>
                <a:lnTo>
                  <a:pt x="209" y="315"/>
                </a:lnTo>
                <a:lnTo>
                  <a:pt x="200" y="315"/>
                </a:lnTo>
                <a:lnTo>
                  <a:pt x="190" y="317"/>
                </a:lnTo>
                <a:lnTo>
                  <a:pt x="181" y="317"/>
                </a:lnTo>
                <a:lnTo>
                  <a:pt x="171" y="318"/>
                </a:lnTo>
                <a:lnTo>
                  <a:pt x="163" y="318"/>
                </a:lnTo>
                <a:lnTo>
                  <a:pt x="156" y="318"/>
                </a:lnTo>
                <a:lnTo>
                  <a:pt x="150" y="318"/>
                </a:lnTo>
                <a:lnTo>
                  <a:pt x="144" y="318"/>
                </a:lnTo>
                <a:lnTo>
                  <a:pt x="138" y="317"/>
                </a:lnTo>
                <a:lnTo>
                  <a:pt x="133" y="317"/>
                </a:lnTo>
                <a:lnTo>
                  <a:pt x="129" y="317"/>
                </a:lnTo>
                <a:lnTo>
                  <a:pt x="125" y="315"/>
                </a:lnTo>
                <a:lnTo>
                  <a:pt x="106" y="315"/>
                </a:lnTo>
                <a:lnTo>
                  <a:pt x="89" y="313"/>
                </a:lnTo>
                <a:lnTo>
                  <a:pt x="73" y="309"/>
                </a:lnTo>
                <a:lnTo>
                  <a:pt x="58" y="305"/>
                </a:lnTo>
                <a:lnTo>
                  <a:pt x="44" y="299"/>
                </a:lnTo>
                <a:lnTo>
                  <a:pt x="31" y="294"/>
                </a:lnTo>
                <a:lnTo>
                  <a:pt x="19" y="286"/>
                </a:lnTo>
                <a:lnTo>
                  <a:pt x="10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88"/>
          <p:cNvSpPr/>
          <p:nvPr/>
        </p:nvSpPr>
        <p:spPr>
          <a:xfrm>
            <a:off x="5641920" y="3938760"/>
            <a:ext cx="774720" cy="236520"/>
          </a:xfrm>
          <a:custGeom>
            <a:avLst/>
            <a:gdLst/>
            <a:ahLst/>
            <a:rect l="l" t="t" r="r" b="b"/>
            <a:pathLst>
              <a:path w="977" h="297">
                <a:moveTo>
                  <a:pt x="38" y="280"/>
                </a:moveTo>
                <a:lnTo>
                  <a:pt x="29" y="274"/>
                </a:lnTo>
                <a:lnTo>
                  <a:pt x="21" y="269"/>
                </a:lnTo>
                <a:lnTo>
                  <a:pt x="15" y="263"/>
                </a:lnTo>
                <a:lnTo>
                  <a:pt x="10" y="257"/>
                </a:lnTo>
                <a:lnTo>
                  <a:pt x="6" y="249"/>
                </a:lnTo>
                <a:lnTo>
                  <a:pt x="4" y="240"/>
                </a:lnTo>
                <a:lnTo>
                  <a:pt x="2" y="234"/>
                </a:lnTo>
                <a:lnTo>
                  <a:pt x="2" y="228"/>
                </a:lnTo>
                <a:lnTo>
                  <a:pt x="0" y="222"/>
                </a:lnTo>
                <a:lnTo>
                  <a:pt x="0" y="217"/>
                </a:lnTo>
                <a:lnTo>
                  <a:pt x="54" y="201"/>
                </a:lnTo>
                <a:lnTo>
                  <a:pt x="106" y="186"/>
                </a:lnTo>
                <a:lnTo>
                  <a:pt x="157" y="173"/>
                </a:lnTo>
                <a:lnTo>
                  <a:pt x="205" y="157"/>
                </a:lnTo>
                <a:lnTo>
                  <a:pt x="253" y="146"/>
                </a:lnTo>
                <a:lnTo>
                  <a:pt x="299" y="132"/>
                </a:lnTo>
                <a:lnTo>
                  <a:pt x="344" y="121"/>
                </a:lnTo>
                <a:lnTo>
                  <a:pt x="386" y="109"/>
                </a:lnTo>
                <a:lnTo>
                  <a:pt x="426" y="100"/>
                </a:lnTo>
                <a:lnTo>
                  <a:pt x="464" y="90"/>
                </a:lnTo>
                <a:lnTo>
                  <a:pt x="503" y="80"/>
                </a:lnTo>
                <a:lnTo>
                  <a:pt x="539" y="71"/>
                </a:lnTo>
                <a:lnTo>
                  <a:pt x="574" y="63"/>
                </a:lnTo>
                <a:lnTo>
                  <a:pt x="607" y="55"/>
                </a:lnTo>
                <a:lnTo>
                  <a:pt x="637" y="48"/>
                </a:lnTo>
                <a:lnTo>
                  <a:pt x="668" y="40"/>
                </a:lnTo>
                <a:lnTo>
                  <a:pt x="695" y="34"/>
                </a:lnTo>
                <a:lnTo>
                  <a:pt x="722" y="29"/>
                </a:lnTo>
                <a:lnTo>
                  <a:pt x="747" y="25"/>
                </a:lnTo>
                <a:lnTo>
                  <a:pt x="770" y="19"/>
                </a:lnTo>
                <a:lnTo>
                  <a:pt x="791" y="15"/>
                </a:lnTo>
                <a:lnTo>
                  <a:pt x="812" y="11"/>
                </a:lnTo>
                <a:lnTo>
                  <a:pt x="829" y="9"/>
                </a:lnTo>
                <a:lnTo>
                  <a:pt x="846" y="6"/>
                </a:lnTo>
                <a:lnTo>
                  <a:pt x="862" y="4"/>
                </a:lnTo>
                <a:lnTo>
                  <a:pt x="875" y="2"/>
                </a:lnTo>
                <a:lnTo>
                  <a:pt x="889" y="0"/>
                </a:lnTo>
                <a:lnTo>
                  <a:pt x="898" y="0"/>
                </a:lnTo>
                <a:lnTo>
                  <a:pt x="908" y="0"/>
                </a:lnTo>
                <a:lnTo>
                  <a:pt x="916" y="0"/>
                </a:lnTo>
                <a:lnTo>
                  <a:pt x="921" y="0"/>
                </a:lnTo>
                <a:lnTo>
                  <a:pt x="925" y="2"/>
                </a:lnTo>
                <a:lnTo>
                  <a:pt x="933" y="6"/>
                </a:lnTo>
                <a:lnTo>
                  <a:pt x="939" y="11"/>
                </a:lnTo>
                <a:lnTo>
                  <a:pt x="944" y="15"/>
                </a:lnTo>
                <a:lnTo>
                  <a:pt x="950" y="21"/>
                </a:lnTo>
                <a:lnTo>
                  <a:pt x="954" y="25"/>
                </a:lnTo>
                <a:lnTo>
                  <a:pt x="958" y="29"/>
                </a:lnTo>
                <a:lnTo>
                  <a:pt x="965" y="38"/>
                </a:lnTo>
                <a:lnTo>
                  <a:pt x="969" y="46"/>
                </a:lnTo>
                <a:lnTo>
                  <a:pt x="973" y="54"/>
                </a:lnTo>
                <a:lnTo>
                  <a:pt x="975" y="59"/>
                </a:lnTo>
                <a:lnTo>
                  <a:pt x="977" y="65"/>
                </a:lnTo>
                <a:lnTo>
                  <a:pt x="975" y="69"/>
                </a:lnTo>
                <a:lnTo>
                  <a:pt x="973" y="75"/>
                </a:lnTo>
                <a:lnTo>
                  <a:pt x="969" y="78"/>
                </a:lnTo>
                <a:lnTo>
                  <a:pt x="964" y="84"/>
                </a:lnTo>
                <a:lnTo>
                  <a:pt x="958" y="88"/>
                </a:lnTo>
                <a:lnTo>
                  <a:pt x="950" y="94"/>
                </a:lnTo>
                <a:lnTo>
                  <a:pt x="940" y="98"/>
                </a:lnTo>
                <a:lnTo>
                  <a:pt x="931" y="103"/>
                </a:lnTo>
                <a:lnTo>
                  <a:pt x="917" y="109"/>
                </a:lnTo>
                <a:lnTo>
                  <a:pt x="904" y="115"/>
                </a:lnTo>
                <a:lnTo>
                  <a:pt x="891" y="121"/>
                </a:lnTo>
                <a:lnTo>
                  <a:pt x="875" y="126"/>
                </a:lnTo>
                <a:lnTo>
                  <a:pt x="858" y="132"/>
                </a:lnTo>
                <a:lnTo>
                  <a:pt x="839" y="140"/>
                </a:lnTo>
                <a:lnTo>
                  <a:pt x="820" y="146"/>
                </a:lnTo>
                <a:lnTo>
                  <a:pt x="798" y="153"/>
                </a:lnTo>
                <a:lnTo>
                  <a:pt x="750" y="167"/>
                </a:lnTo>
                <a:lnTo>
                  <a:pt x="702" y="180"/>
                </a:lnTo>
                <a:lnTo>
                  <a:pt x="653" y="192"/>
                </a:lnTo>
                <a:lnTo>
                  <a:pt x="601" y="203"/>
                </a:lnTo>
                <a:lnTo>
                  <a:pt x="549" y="215"/>
                </a:lnTo>
                <a:lnTo>
                  <a:pt x="497" y="226"/>
                </a:lnTo>
                <a:lnTo>
                  <a:pt x="445" y="240"/>
                </a:lnTo>
                <a:lnTo>
                  <a:pt x="393" y="253"/>
                </a:lnTo>
                <a:lnTo>
                  <a:pt x="367" y="261"/>
                </a:lnTo>
                <a:lnTo>
                  <a:pt x="340" y="267"/>
                </a:lnTo>
                <a:lnTo>
                  <a:pt x="315" y="272"/>
                </a:lnTo>
                <a:lnTo>
                  <a:pt x="292" y="278"/>
                </a:lnTo>
                <a:lnTo>
                  <a:pt x="269" y="282"/>
                </a:lnTo>
                <a:lnTo>
                  <a:pt x="250" y="286"/>
                </a:lnTo>
                <a:lnTo>
                  <a:pt x="230" y="290"/>
                </a:lnTo>
                <a:lnTo>
                  <a:pt x="213" y="292"/>
                </a:lnTo>
                <a:lnTo>
                  <a:pt x="198" y="293"/>
                </a:lnTo>
                <a:lnTo>
                  <a:pt x="182" y="295"/>
                </a:lnTo>
                <a:lnTo>
                  <a:pt x="169" y="295"/>
                </a:lnTo>
                <a:lnTo>
                  <a:pt x="157" y="297"/>
                </a:lnTo>
                <a:lnTo>
                  <a:pt x="148" y="295"/>
                </a:lnTo>
                <a:lnTo>
                  <a:pt x="140" y="295"/>
                </a:lnTo>
                <a:lnTo>
                  <a:pt x="132" y="293"/>
                </a:lnTo>
                <a:lnTo>
                  <a:pt x="127" y="292"/>
                </a:lnTo>
                <a:lnTo>
                  <a:pt x="113" y="292"/>
                </a:lnTo>
                <a:lnTo>
                  <a:pt x="102" y="292"/>
                </a:lnTo>
                <a:lnTo>
                  <a:pt x="88" y="292"/>
                </a:lnTo>
                <a:lnTo>
                  <a:pt x="79" y="290"/>
                </a:lnTo>
                <a:lnTo>
                  <a:pt x="67" y="288"/>
                </a:lnTo>
                <a:lnTo>
                  <a:pt x="58" y="286"/>
                </a:lnTo>
                <a:lnTo>
                  <a:pt x="48" y="284"/>
                </a:lnTo>
                <a:lnTo>
                  <a:pt x="38" y="2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89"/>
          <p:cNvSpPr/>
          <p:nvPr/>
        </p:nvSpPr>
        <p:spPr>
          <a:xfrm>
            <a:off x="5773680" y="3610080"/>
            <a:ext cx="593640" cy="183960"/>
          </a:xfrm>
          <a:custGeom>
            <a:avLst/>
            <a:gdLst/>
            <a:ahLst/>
            <a:rect l="l" t="t" r="r" b="b"/>
            <a:pathLst>
              <a:path w="749" h="232">
                <a:moveTo>
                  <a:pt x="0" y="127"/>
                </a:moveTo>
                <a:lnTo>
                  <a:pt x="35" y="117"/>
                </a:lnTo>
                <a:lnTo>
                  <a:pt x="67" y="110"/>
                </a:lnTo>
                <a:lnTo>
                  <a:pt x="98" y="102"/>
                </a:lnTo>
                <a:lnTo>
                  <a:pt x="129" y="94"/>
                </a:lnTo>
                <a:lnTo>
                  <a:pt x="159" y="88"/>
                </a:lnTo>
                <a:lnTo>
                  <a:pt x="188" y="81"/>
                </a:lnTo>
                <a:lnTo>
                  <a:pt x="215" y="75"/>
                </a:lnTo>
                <a:lnTo>
                  <a:pt x="242" y="69"/>
                </a:lnTo>
                <a:lnTo>
                  <a:pt x="269" y="62"/>
                </a:lnTo>
                <a:lnTo>
                  <a:pt x="294" y="58"/>
                </a:lnTo>
                <a:lnTo>
                  <a:pt x="317" y="52"/>
                </a:lnTo>
                <a:lnTo>
                  <a:pt x="340" y="46"/>
                </a:lnTo>
                <a:lnTo>
                  <a:pt x="361" y="42"/>
                </a:lnTo>
                <a:lnTo>
                  <a:pt x="382" y="37"/>
                </a:lnTo>
                <a:lnTo>
                  <a:pt x="403" y="33"/>
                </a:lnTo>
                <a:lnTo>
                  <a:pt x="420" y="29"/>
                </a:lnTo>
                <a:lnTo>
                  <a:pt x="440" y="25"/>
                </a:lnTo>
                <a:lnTo>
                  <a:pt x="457" y="21"/>
                </a:lnTo>
                <a:lnTo>
                  <a:pt x="472" y="19"/>
                </a:lnTo>
                <a:lnTo>
                  <a:pt x="488" y="16"/>
                </a:lnTo>
                <a:lnTo>
                  <a:pt x="501" y="14"/>
                </a:lnTo>
                <a:lnTo>
                  <a:pt x="514" y="12"/>
                </a:lnTo>
                <a:lnTo>
                  <a:pt x="526" y="8"/>
                </a:lnTo>
                <a:lnTo>
                  <a:pt x="537" y="6"/>
                </a:lnTo>
                <a:lnTo>
                  <a:pt x="549" y="6"/>
                </a:lnTo>
                <a:lnTo>
                  <a:pt x="559" y="4"/>
                </a:lnTo>
                <a:lnTo>
                  <a:pt x="566" y="2"/>
                </a:lnTo>
                <a:lnTo>
                  <a:pt x="574" y="2"/>
                </a:lnTo>
                <a:lnTo>
                  <a:pt x="582" y="0"/>
                </a:lnTo>
                <a:lnTo>
                  <a:pt x="587" y="0"/>
                </a:lnTo>
                <a:lnTo>
                  <a:pt x="591" y="0"/>
                </a:lnTo>
                <a:lnTo>
                  <a:pt x="595" y="0"/>
                </a:lnTo>
                <a:lnTo>
                  <a:pt x="609" y="0"/>
                </a:lnTo>
                <a:lnTo>
                  <a:pt x="622" y="2"/>
                </a:lnTo>
                <a:lnTo>
                  <a:pt x="635" y="4"/>
                </a:lnTo>
                <a:lnTo>
                  <a:pt x="647" y="8"/>
                </a:lnTo>
                <a:lnTo>
                  <a:pt x="658" y="12"/>
                </a:lnTo>
                <a:lnTo>
                  <a:pt x="670" y="16"/>
                </a:lnTo>
                <a:lnTo>
                  <a:pt x="683" y="21"/>
                </a:lnTo>
                <a:lnTo>
                  <a:pt x="697" y="25"/>
                </a:lnTo>
                <a:lnTo>
                  <a:pt x="704" y="27"/>
                </a:lnTo>
                <a:lnTo>
                  <a:pt x="710" y="31"/>
                </a:lnTo>
                <a:lnTo>
                  <a:pt x="716" y="33"/>
                </a:lnTo>
                <a:lnTo>
                  <a:pt x="722" y="37"/>
                </a:lnTo>
                <a:lnTo>
                  <a:pt x="726" y="40"/>
                </a:lnTo>
                <a:lnTo>
                  <a:pt x="729" y="44"/>
                </a:lnTo>
                <a:lnTo>
                  <a:pt x="733" y="46"/>
                </a:lnTo>
                <a:lnTo>
                  <a:pt x="737" y="50"/>
                </a:lnTo>
                <a:lnTo>
                  <a:pt x="741" y="58"/>
                </a:lnTo>
                <a:lnTo>
                  <a:pt x="745" y="64"/>
                </a:lnTo>
                <a:lnTo>
                  <a:pt x="747" y="71"/>
                </a:lnTo>
                <a:lnTo>
                  <a:pt x="749" y="75"/>
                </a:lnTo>
                <a:lnTo>
                  <a:pt x="747" y="81"/>
                </a:lnTo>
                <a:lnTo>
                  <a:pt x="747" y="85"/>
                </a:lnTo>
                <a:lnTo>
                  <a:pt x="745" y="90"/>
                </a:lnTo>
                <a:lnTo>
                  <a:pt x="743" y="94"/>
                </a:lnTo>
                <a:lnTo>
                  <a:pt x="741" y="98"/>
                </a:lnTo>
                <a:lnTo>
                  <a:pt x="737" y="104"/>
                </a:lnTo>
                <a:lnTo>
                  <a:pt x="733" y="108"/>
                </a:lnTo>
                <a:lnTo>
                  <a:pt x="729" y="112"/>
                </a:lnTo>
                <a:lnTo>
                  <a:pt x="724" y="115"/>
                </a:lnTo>
                <a:lnTo>
                  <a:pt x="718" y="119"/>
                </a:lnTo>
                <a:lnTo>
                  <a:pt x="712" y="123"/>
                </a:lnTo>
                <a:lnTo>
                  <a:pt x="704" y="127"/>
                </a:lnTo>
                <a:lnTo>
                  <a:pt x="697" y="131"/>
                </a:lnTo>
                <a:lnTo>
                  <a:pt x="689" y="133"/>
                </a:lnTo>
                <a:lnTo>
                  <a:pt x="681" y="136"/>
                </a:lnTo>
                <a:lnTo>
                  <a:pt x="672" y="138"/>
                </a:lnTo>
                <a:lnTo>
                  <a:pt x="660" y="142"/>
                </a:lnTo>
                <a:lnTo>
                  <a:pt x="647" y="144"/>
                </a:lnTo>
                <a:lnTo>
                  <a:pt x="632" y="148"/>
                </a:lnTo>
                <a:lnTo>
                  <a:pt x="618" y="150"/>
                </a:lnTo>
                <a:lnTo>
                  <a:pt x="601" y="154"/>
                </a:lnTo>
                <a:lnTo>
                  <a:pt x="584" y="158"/>
                </a:lnTo>
                <a:lnTo>
                  <a:pt x="566" y="161"/>
                </a:lnTo>
                <a:lnTo>
                  <a:pt x="549" y="165"/>
                </a:lnTo>
                <a:lnTo>
                  <a:pt x="528" y="169"/>
                </a:lnTo>
                <a:lnTo>
                  <a:pt x="509" y="175"/>
                </a:lnTo>
                <a:lnTo>
                  <a:pt x="488" y="179"/>
                </a:lnTo>
                <a:lnTo>
                  <a:pt x="465" y="183"/>
                </a:lnTo>
                <a:lnTo>
                  <a:pt x="442" y="188"/>
                </a:lnTo>
                <a:lnTo>
                  <a:pt x="418" y="192"/>
                </a:lnTo>
                <a:lnTo>
                  <a:pt x="394" y="198"/>
                </a:lnTo>
                <a:lnTo>
                  <a:pt x="369" y="202"/>
                </a:lnTo>
                <a:lnTo>
                  <a:pt x="340" y="206"/>
                </a:lnTo>
                <a:lnTo>
                  <a:pt x="313" y="211"/>
                </a:lnTo>
                <a:lnTo>
                  <a:pt x="288" y="215"/>
                </a:lnTo>
                <a:lnTo>
                  <a:pt x="265" y="219"/>
                </a:lnTo>
                <a:lnTo>
                  <a:pt x="244" y="221"/>
                </a:lnTo>
                <a:lnTo>
                  <a:pt x="223" y="225"/>
                </a:lnTo>
                <a:lnTo>
                  <a:pt x="204" y="227"/>
                </a:lnTo>
                <a:lnTo>
                  <a:pt x="186" y="229"/>
                </a:lnTo>
                <a:lnTo>
                  <a:pt x="169" y="231"/>
                </a:lnTo>
                <a:lnTo>
                  <a:pt x="154" y="232"/>
                </a:lnTo>
                <a:lnTo>
                  <a:pt x="140" y="232"/>
                </a:lnTo>
                <a:lnTo>
                  <a:pt x="127" y="232"/>
                </a:lnTo>
                <a:lnTo>
                  <a:pt x="115" y="232"/>
                </a:lnTo>
                <a:lnTo>
                  <a:pt x="106" y="231"/>
                </a:lnTo>
                <a:lnTo>
                  <a:pt x="96" y="229"/>
                </a:lnTo>
                <a:lnTo>
                  <a:pt x="88" y="227"/>
                </a:lnTo>
                <a:lnTo>
                  <a:pt x="75" y="221"/>
                </a:lnTo>
                <a:lnTo>
                  <a:pt x="61" y="215"/>
                </a:lnTo>
                <a:lnTo>
                  <a:pt x="54" y="211"/>
                </a:lnTo>
                <a:lnTo>
                  <a:pt x="48" y="206"/>
                </a:lnTo>
                <a:lnTo>
                  <a:pt x="40" y="202"/>
                </a:lnTo>
                <a:lnTo>
                  <a:pt x="35" y="196"/>
                </a:lnTo>
                <a:lnTo>
                  <a:pt x="29" y="190"/>
                </a:lnTo>
                <a:lnTo>
                  <a:pt x="23" y="183"/>
                </a:lnTo>
                <a:lnTo>
                  <a:pt x="19" y="175"/>
                </a:lnTo>
                <a:lnTo>
                  <a:pt x="13" y="167"/>
                </a:lnTo>
                <a:lnTo>
                  <a:pt x="10" y="158"/>
                </a:lnTo>
                <a:lnTo>
                  <a:pt x="6" y="148"/>
                </a:lnTo>
                <a:lnTo>
                  <a:pt x="2" y="136"/>
                </a:lnTo>
                <a:lnTo>
                  <a:pt x="0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90"/>
          <p:cNvSpPr/>
          <p:nvPr/>
        </p:nvSpPr>
        <p:spPr>
          <a:xfrm>
            <a:off x="5859360" y="3719520"/>
            <a:ext cx="658800" cy="1101600"/>
          </a:xfrm>
          <a:custGeom>
            <a:avLst/>
            <a:gdLst/>
            <a:ahLst/>
            <a:rect l="l" t="t" r="r" b="b"/>
            <a:pathLst>
              <a:path w="830" h="1388">
                <a:moveTo>
                  <a:pt x="133" y="1388"/>
                </a:moveTo>
                <a:lnTo>
                  <a:pt x="123" y="1382"/>
                </a:lnTo>
                <a:lnTo>
                  <a:pt x="112" y="1377"/>
                </a:lnTo>
                <a:lnTo>
                  <a:pt x="102" y="1369"/>
                </a:lnTo>
                <a:lnTo>
                  <a:pt x="93" y="1359"/>
                </a:lnTo>
                <a:lnTo>
                  <a:pt x="81" y="1350"/>
                </a:lnTo>
                <a:lnTo>
                  <a:pt x="70" y="1338"/>
                </a:lnTo>
                <a:lnTo>
                  <a:pt x="56" y="1327"/>
                </a:lnTo>
                <a:lnTo>
                  <a:pt x="43" y="1313"/>
                </a:lnTo>
                <a:lnTo>
                  <a:pt x="37" y="1306"/>
                </a:lnTo>
                <a:lnTo>
                  <a:pt x="31" y="1300"/>
                </a:lnTo>
                <a:lnTo>
                  <a:pt x="25" y="1292"/>
                </a:lnTo>
                <a:lnTo>
                  <a:pt x="20" y="1286"/>
                </a:lnTo>
                <a:lnTo>
                  <a:pt x="16" y="1281"/>
                </a:lnTo>
                <a:lnTo>
                  <a:pt x="12" y="1275"/>
                </a:lnTo>
                <a:lnTo>
                  <a:pt x="8" y="1267"/>
                </a:lnTo>
                <a:lnTo>
                  <a:pt x="6" y="1261"/>
                </a:lnTo>
                <a:lnTo>
                  <a:pt x="4" y="1256"/>
                </a:lnTo>
                <a:lnTo>
                  <a:pt x="2" y="1250"/>
                </a:lnTo>
                <a:lnTo>
                  <a:pt x="0" y="1244"/>
                </a:lnTo>
                <a:lnTo>
                  <a:pt x="0" y="1238"/>
                </a:lnTo>
                <a:lnTo>
                  <a:pt x="0" y="1233"/>
                </a:lnTo>
                <a:lnTo>
                  <a:pt x="2" y="1225"/>
                </a:lnTo>
                <a:lnTo>
                  <a:pt x="2" y="1219"/>
                </a:lnTo>
                <a:lnTo>
                  <a:pt x="6" y="1212"/>
                </a:lnTo>
                <a:lnTo>
                  <a:pt x="6" y="1208"/>
                </a:lnTo>
                <a:lnTo>
                  <a:pt x="6" y="1202"/>
                </a:lnTo>
                <a:lnTo>
                  <a:pt x="8" y="1196"/>
                </a:lnTo>
                <a:lnTo>
                  <a:pt x="10" y="1190"/>
                </a:lnTo>
                <a:lnTo>
                  <a:pt x="12" y="1185"/>
                </a:lnTo>
                <a:lnTo>
                  <a:pt x="16" y="1179"/>
                </a:lnTo>
                <a:lnTo>
                  <a:pt x="20" y="1171"/>
                </a:lnTo>
                <a:lnTo>
                  <a:pt x="25" y="1166"/>
                </a:lnTo>
                <a:lnTo>
                  <a:pt x="29" y="1158"/>
                </a:lnTo>
                <a:lnTo>
                  <a:pt x="35" y="1150"/>
                </a:lnTo>
                <a:lnTo>
                  <a:pt x="41" y="1142"/>
                </a:lnTo>
                <a:lnTo>
                  <a:pt x="48" y="1135"/>
                </a:lnTo>
                <a:lnTo>
                  <a:pt x="56" y="1125"/>
                </a:lnTo>
                <a:lnTo>
                  <a:pt x="64" y="1118"/>
                </a:lnTo>
                <a:lnTo>
                  <a:pt x="71" y="1108"/>
                </a:lnTo>
                <a:lnTo>
                  <a:pt x="81" y="1098"/>
                </a:lnTo>
                <a:lnTo>
                  <a:pt x="89" y="1091"/>
                </a:lnTo>
                <a:lnTo>
                  <a:pt x="95" y="1083"/>
                </a:lnTo>
                <a:lnTo>
                  <a:pt x="100" y="1073"/>
                </a:lnTo>
                <a:lnTo>
                  <a:pt x="108" y="1062"/>
                </a:lnTo>
                <a:lnTo>
                  <a:pt x="114" y="1052"/>
                </a:lnTo>
                <a:lnTo>
                  <a:pt x="119" y="1039"/>
                </a:lnTo>
                <a:lnTo>
                  <a:pt x="123" y="1027"/>
                </a:lnTo>
                <a:lnTo>
                  <a:pt x="129" y="1014"/>
                </a:lnTo>
                <a:lnTo>
                  <a:pt x="133" y="999"/>
                </a:lnTo>
                <a:lnTo>
                  <a:pt x="139" y="983"/>
                </a:lnTo>
                <a:lnTo>
                  <a:pt x="142" y="966"/>
                </a:lnTo>
                <a:lnTo>
                  <a:pt x="146" y="949"/>
                </a:lnTo>
                <a:lnTo>
                  <a:pt x="148" y="931"/>
                </a:lnTo>
                <a:lnTo>
                  <a:pt x="152" y="912"/>
                </a:lnTo>
                <a:lnTo>
                  <a:pt x="154" y="893"/>
                </a:lnTo>
                <a:lnTo>
                  <a:pt x="158" y="872"/>
                </a:lnTo>
                <a:lnTo>
                  <a:pt x="162" y="830"/>
                </a:lnTo>
                <a:lnTo>
                  <a:pt x="166" y="785"/>
                </a:lnTo>
                <a:lnTo>
                  <a:pt x="167" y="743"/>
                </a:lnTo>
                <a:lnTo>
                  <a:pt x="169" y="701"/>
                </a:lnTo>
                <a:lnTo>
                  <a:pt x="173" y="659"/>
                </a:lnTo>
                <a:lnTo>
                  <a:pt x="175" y="617"/>
                </a:lnTo>
                <a:lnTo>
                  <a:pt x="179" y="572"/>
                </a:lnTo>
                <a:lnTo>
                  <a:pt x="183" y="530"/>
                </a:lnTo>
                <a:lnTo>
                  <a:pt x="183" y="509"/>
                </a:lnTo>
                <a:lnTo>
                  <a:pt x="183" y="486"/>
                </a:lnTo>
                <a:lnTo>
                  <a:pt x="183" y="459"/>
                </a:lnTo>
                <a:lnTo>
                  <a:pt x="183" y="434"/>
                </a:lnTo>
                <a:lnTo>
                  <a:pt x="183" y="405"/>
                </a:lnTo>
                <a:lnTo>
                  <a:pt x="183" y="377"/>
                </a:lnTo>
                <a:lnTo>
                  <a:pt x="181" y="346"/>
                </a:lnTo>
                <a:lnTo>
                  <a:pt x="181" y="313"/>
                </a:lnTo>
                <a:lnTo>
                  <a:pt x="181" y="279"/>
                </a:lnTo>
                <a:lnTo>
                  <a:pt x="179" y="244"/>
                </a:lnTo>
                <a:lnTo>
                  <a:pt x="179" y="208"/>
                </a:lnTo>
                <a:lnTo>
                  <a:pt x="177" y="169"/>
                </a:lnTo>
                <a:lnTo>
                  <a:pt x="175" y="129"/>
                </a:lnTo>
                <a:lnTo>
                  <a:pt x="173" y="89"/>
                </a:lnTo>
                <a:lnTo>
                  <a:pt x="171" y="45"/>
                </a:lnTo>
                <a:lnTo>
                  <a:pt x="169" y="0"/>
                </a:lnTo>
                <a:lnTo>
                  <a:pt x="260" y="0"/>
                </a:lnTo>
                <a:lnTo>
                  <a:pt x="348" y="0"/>
                </a:lnTo>
                <a:lnTo>
                  <a:pt x="346" y="45"/>
                </a:lnTo>
                <a:lnTo>
                  <a:pt x="342" y="87"/>
                </a:lnTo>
                <a:lnTo>
                  <a:pt x="340" y="127"/>
                </a:lnTo>
                <a:lnTo>
                  <a:pt x="338" y="167"/>
                </a:lnTo>
                <a:lnTo>
                  <a:pt x="336" y="206"/>
                </a:lnTo>
                <a:lnTo>
                  <a:pt x="334" y="244"/>
                </a:lnTo>
                <a:lnTo>
                  <a:pt x="333" y="281"/>
                </a:lnTo>
                <a:lnTo>
                  <a:pt x="331" y="315"/>
                </a:lnTo>
                <a:lnTo>
                  <a:pt x="329" y="350"/>
                </a:lnTo>
                <a:lnTo>
                  <a:pt x="327" y="382"/>
                </a:lnTo>
                <a:lnTo>
                  <a:pt x="327" y="415"/>
                </a:lnTo>
                <a:lnTo>
                  <a:pt x="325" y="446"/>
                </a:lnTo>
                <a:lnTo>
                  <a:pt x="323" y="476"/>
                </a:lnTo>
                <a:lnTo>
                  <a:pt x="321" y="505"/>
                </a:lnTo>
                <a:lnTo>
                  <a:pt x="321" y="532"/>
                </a:lnTo>
                <a:lnTo>
                  <a:pt x="319" y="559"/>
                </a:lnTo>
                <a:lnTo>
                  <a:pt x="317" y="584"/>
                </a:lnTo>
                <a:lnTo>
                  <a:pt x="317" y="609"/>
                </a:lnTo>
                <a:lnTo>
                  <a:pt x="315" y="632"/>
                </a:lnTo>
                <a:lnTo>
                  <a:pt x="315" y="655"/>
                </a:lnTo>
                <a:lnTo>
                  <a:pt x="313" y="676"/>
                </a:lnTo>
                <a:lnTo>
                  <a:pt x="313" y="695"/>
                </a:lnTo>
                <a:lnTo>
                  <a:pt x="313" y="714"/>
                </a:lnTo>
                <a:lnTo>
                  <a:pt x="311" y="732"/>
                </a:lnTo>
                <a:lnTo>
                  <a:pt x="311" y="749"/>
                </a:lnTo>
                <a:lnTo>
                  <a:pt x="311" y="764"/>
                </a:lnTo>
                <a:lnTo>
                  <a:pt x="311" y="778"/>
                </a:lnTo>
                <a:lnTo>
                  <a:pt x="309" y="791"/>
                </a:lnTo>
                <a:lnTo>
                  <a:pt x="309" y="803"/>
                </a:lnTo>
                <a:lnTo>
                  <a:pt x="309" y="814"/>
                </a:lnTo>
                <a:lnTo>
                  <a:pt x="309" y="824"/>
                </a:lnTo>
                <a:lnTo>
                  <a:pt x="309" y="833"/>
                </a:lnTo>
                <a:lnTo>
                  <a:pt x="309" y="849"/>
                </a:lnTo>
                <a:lnTo>
                  <a:pt x="309" y="864"/>
                </a:lnTo>
                <a:lnTo>
                  <a:pt x="311" y="879"/>
                </a:lnTo>
                <a:lnTo>
                  <a:pt x="311" y="893"/>
                </a:lnTo>
                <a:lnTo>
                  <a:pt x="313" y="904"/>
                </a:lnTo>
                <a:lnTo>
                  <a:pt x="313" y="916"/>
                </a:lnTo>
                <a:lnTo>
                  <a:pt x="315" y="927"/>
                </a:lnTo>
                <a:lnTo>
                  <a:pt x="317" y="937"/>
                </a:lnTo>
                <a:lnTo>
                  <a:pt x="319" y="947"/>
                </a:lnTo>
                <a:lnTo>
                  <a:pt x="321" y="954"/>
                </a:lnTo>
                <a:lnTo>
                  <a:pt x="323" y="962"/>
                </a:lnTo>
                <a:lnTo>
                  <a:pt x="325" y="968"/>
                </a:lnTo>
                <a:lnTo>
                  <a:pt x="329" y="974"/>
                </a:lnTo>
                <a:lnTo>
                  <a:pt x="331" y="979"/>
                </a:lnTo>
                <a:lnTo>
                  <a:pt x="333" y="983"/>
                </a:lnTo>
                <a:lnTo>
                  <a:pt x="334" y="985"/>
                </a:lnTo>
                <a:lnTo>
                  <a:pt x="338" y="987"/>
                </a:lnTo>
                <a:lnTo>
                  <a:pt x="342" y="989"/>
                </a:lnTo>
                <a:lnTo>
                  <a:pt x="350" y="989"/>
                </a:lnTo>
                <a:lnTo>
                  <a:pt x="357" y="987"/>
                </a:lnTo>
                <a:lnTo>
                  <a:pt x="365" y="985"/>
                </a:lnTo>
                <a:lnTo>
                  <a:pt x="377" y="983"/>
                </a:lnTo>
                <a:lnTo>
                  <a:pt x="390" y="979"/>
                </a:lnTo>
                <a:lnTo>
                  <a:pt x="405" y="975"/>
                </a:lnTo>
                <a:lnTo>
                  <a:pt x="421" y="972"/>
                </a:lnTo>
                <a:lnTo>
                  <a:pt x="440" y="964"/>
                </a:lnTo>
                <a:lnTo>
                  <a:pt x="459" y="958"/>
                </a:lnTo>
                <a:lnTo>
                  <a:pt x="471" y="954"/>
                </a:lnTo>
                <a:lnTo>
                  <a:pt x="480" y="951"/>
                </a:lnTo>
                <a:lnTo>
                  <a:pt x="492" y="947"/>
                </a:lnTo>
                <a:lnTo>
                  <a:pt x="505" y="941"/>
                </a:lnTo>
                <a:lnTo>
                  <a:pt x="517" y="937"/>
                </a:lnTo>
                <a:lnTo>
                  <a:pt x="530" y="931"/>
                </a:lnTo>
                <a:lnTo>
                  <a:pt x="544" y="926"/>
                </a:lnTo>
                <a:lnTo>
                  <a:pt x="559" y="922"/>
                </a:lnTo>
                <a:lnTo>
                  <a:pt x="572" y="916"/>
                </a:lnTo>
                <a:lnTo>
                  <a:pt x="588" y="910"/>
                </a:lnTo>
                <a:lnTo>
                  <a:pt x="617" y="899"/>
                </a:lnTo>
                <a:lnTo>
                  <a:pt x="642" y="887"/>
                </a:lnTo>
                <a:lnTo>
                  <a:pt x="666" y="878"/>
                </a:lnTo>
                <a:lnTo>
                  <a:pt x="688" y="870"/>
                </a:lnTo>
                <a:lnTo>
                  <a:pt x="709" y="864"/>
                </a:lnTo>
                <a:lnTo>
                  <a:pt x="728" y="858"/>
                </a:lnTo>
                <a:lnTo>
                  <a:pt x="745" y="853"/>
                </a:lnTo>
                <a:lnTo>
                  <a:pt x="761" y="849"/>
                </a:lnTo>
                <a:lnTo>
                  <a:pt x="774" y="845"/>
                </a:lnTo>
                <a:lnTo>
                  <a:pt x="787" y="843"/>
                </a:lnTo>
                <a:lnTo>
                  <a:pt x="799" y="843"/>
                </a:lnTo>
                <a:lnTo>
                  <a:pt x="807" y="841"/>
                </a:lnTo>
                <a:lnTo>
                  <a:pt x="814" y="841"/>
                </a:lnTo>
                <a:lnTo>
                  <a:pt x="822" y="843"/>
                </a:lnTo>
                <a:lnTo>
                  <a:pt x="826" y="843"/>
                </a:lnTo>
                <a:lnTo>
                  <a:pt x="830" y="847"/>
                </a:lnTo>
                <a:lnTo>
                  <a:pt x="828" y="847"/>
                </a:lnTo>
                <a:lnTo>
                  <a:pt x="828" y="849"/>
                </a:lnTo>
                <a:lnTo>
                  <a:pt x="826" y="851"/>
                </a:lnTo>
                <a:lnTo>
                  <a:pt x="824" y="855"/>
                </a:lnTo>
                <a:lnTo>
                  <a:pt x="822" y="856"/>
                </a:lnTo>
                <a:lnTo>
                  <a:pt x="820" y="860"/>
                </a:lnTo>
                <a:lnTo>
                  <a:pt x="816" y="862"/>
                </a:lnTo>
                <a:lnTo>
                  <a:pt x="812" y="866"/>
                </a:lnTo>
                <a:lnTo>
                  <a:pt x="807" y="872"/>
                </a:lnTo>
                <a:lnTo>
                  <a:pt x="803" y="876"/>
                </a:lnTo>
                <a:lnTo>
                  <a:pt x="797" y="879"/>
                </a:lnTo>
                <a:lnTo>
                  <a:pt x="791" y="885"/>
                </a:lnTo>
                <a:lnTo>
                  <a:pt x="784" y="891"/>
                </a:lnTo>
                <a:lnTo>
                  <a:pt x="778" y="897"/>
                </a:lnTo>
                <a:lnTo>
                  <a:pt x="770" y="903"/>
                </a:lnTo>
                <a:lnTo>
                  <a:pt x="762" y="908"/>
                </a:lnTo>
                <a:lnTo>
                  <a:pt x="753" y="916"/>
                </a:lnTo>
                <a:lnTo>
                  <a:pt x="743" y="922"/>
                </a:lnTo>
                <a:lnTo>
                  <a:pt x="734" y="929"/>
                </a:lnTo>
                <a:lnTo>
                  <a:pt x="724" y="937"/>
                </a:lnTo>
                <a:lnTo>
                  <a:pt x="714" y="945"/>
                </a:lnTo>
                <a:lnTo>
                  <a:pt x="703" y="952"/>
                </a:lnTo>
                <a:lnTo>
                  <a:pt x="691" y="960"/>
                </a:lnTo>
                <a:lnTo>
                  <a:pt x="678" y="970"/>
                </a:lnTo>
                <a:lnTo>
                  <a:pt x="666" y="979"/>
                </a:lnTo>
                <a:lnTo>
                  <a:pt x="653" y="987"/>
                </a:lnTo>
                <a:lnTo>
                  <a:pt x="640" y="997"/>
                </a:lnTo>
                <a:lnTo>
                  <a:pt x="624" y="1006"/>
                </a:lnTo>
                <a:lnTo>
                  <a:pt x="611" y="1016"/>
                </a:lnTo>
                <a:lnTo>
                  <a:pt x="595" y="1027"/>
                </a:lnTo>
                <a:lnTo>
                  <a:pt x="578" y="1037"/>
                </a:lnTo>
                <a:lnTo>
                  <a:pt x="563" y="1048"/>
                </a:lnTo>
                <a:lnTo>
                  <a:pt x="546" y="1060"/>
                </a:lnTo>
                <a:lnTo>
                  <a:pt x="528" y="1071"/>
                </a:lnTo>
                <a:lnTo>
                  <a:pt x="511" y="1083"/>
                </a:lnTo>
                <a:lnTo>
                  <a:pt x="496" y="1094"/>
                </a:lnTo>
                <a:lnTo>
                  <a:pt x="480" y="1104"/>
                </a:lnTo>
                <a:lnTo>
                  <a:pt x="465" y="1116"/>
                </a:lnTo>
                <a:lnTo>
                  <a:pt x="452" y="1125"/>
                </a:lnTo>
                <a:lnTo>
                  <a:pt x="436" y="1137"/>
                </a:lnTo>
                <a:lnTo>
                  <a:pt x="411" y="1156"/>
                </a:lnTo>
                <a:lnTo>
                  <a:pt x="386" y="1175"/>
                </a:lnTo>
                <a:lnTo>
                  <a:pt x="363" y="1192"/>
                </a:lnTo>
                <a:lnTo>
                  <a:pt x="342" y="1210"/>
                </a:lnTo>
                <a:lnTo>
                  <a:pt x="323" y="1225"/>
                </a:lnTo>
                <a:lnTo>
                  <a:pt x="304" y="1240"/>
                </a:lnTo>
                <a:lnTo>
                  <a:pt x="288" y="1254"/>
                </a:lnTo>
                <a:lnTo>
                  <a:pt x="275" y="1267"/>
                </a:lnTo>
                <a:lnTo>
                  <a:pt x="261" y="1281"/>
                </a:lnTo>
                <a:lnTo>
                  <a:pt x="250" y="1292"/>
                </a:lnTo>
                <a:lnTo>
                  <a:pt x="240" y="1304"/>
                </a:lnTo>
                <a:lnTo>
                  <a:pt x="233" y="1313"/>
                </a:lnTo>
                <a:lnTo>
                  <a:pt x="227" y="1323"/>
                </a:lnTo>
                <a:lnTo>
                  <a:pt x="219" y="1331"/>
                </a:lnTo>
                <a:lnTo>
                  <a:pt x="212" y="1338"/>
                </a:lnTo>
                <a:lnTo>
                  <a:pt x="206" y="1346"/>
                </a:lnTo>
                <a:lnTo>
                  <a:pt x="198" y="1354"/>
                </a:lnTo>
                <a:lnTo>
                  <a:pt x="192" y="1359"/>
                </a:lnTo>
                <a:lnTo>
                  <a:pt x="185" y="1365"/>
                </a:lnTo>
                <a:lnTo>
                  <a:pt x="179" y="1369"/>
                </a:lnTo>
                <a:lnTo>
                  <a:pt x="171" y="1375"/>
                </a:lnTo>
                <a:lnTo>
                  <a:pt x="166" y="1379"/>
                </a:lnTo>
                <a:lnTo>
                  <a:pt x="160" y="1380"/>
                </a:lnTo>
                <a:lnTo>
                  <a:pt x="154" y="1384"/>
                </a:lnTo>
                <a:lnTo>
                  <a:pt x="148" y="1386"/>
                </a:lnTo>
                <a:lnTo>
                  <a:pt x="142" y="1388"/>
                </a:lnTo>
                <a:lnTo>
                  <a:pt x="137" y="1388"/>
                </a:lnTo>
                <a:lnTo>
                  <a:pt x="133" y="13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91"/>
          <p:cNvSpPr/>
          <p:nvPr/>
        </p:nvSpPr>
        <p:spPr>
          <a:xfrm>
            <a:off x="5943600" y="3228840"/>
            <a:ext cx="563400" cy="171720"/>
          </a:xfrm>
          <a:custGeom>
            <a:avLst/>
            <a:gdLst/>
            <a:ahLst/>
            <a:rect l="l" t="t" r="r" b="b"/>
            <a:pathLst>
              <a:path w="710" h="215">
                <a:moveTo>
                  <a:pt x="710" y="89"/>
                </a:moveTo>
                <a:lnTo>
                  <a:pt x="710" y="94"/>
                </a:lnTo>
                <a:lnTo>
                  <a:pt x="708" y="98"/>
                </a:lnTo>
                <a:lnTo>
                  <a:pt x="704" y="104"/>
                </a:lnTo>
                <a:lnTo>
                  <a:pt x="699" y="108"/>
                </a:lnTo>
                <a:lnTo>
                  <a:pt x="693" y="112"/>
                </a:lnTo>
                <a:lnTo>
                  <a:pt x="687" y="115"/>
                </a:lnTo>
                <a:lnTo>
                  <a:pt x="683" y="117"/>
                </a:lnTo>
                <a:lnTo>
                  <a:pt x="678" y="119"/>
                </a:lnTo>
                <a:lnTo>
                  <a:pt x="672" y="121"/>
                </a:lnTo>
                <a:lnTo>
                  <a:pt x="666" y="125"/>
                </a:lnTo>
                <a:lnTo>
                  <a:pt x="660" y="127"/>
                </a:lnTo>
                <a:lnTo>
                  <a:pt x="653" y="129"/>
                </a:lnTo>
                <a:lnTo>
                  <a:pt x="643" y="133"/>
                </a:lnTo>
                <a:lnTo>
                  <a:pt x="633" y="135"/>
                </a:lnTo>
                <a:lnTo>
                  <a:pt x="622" y="139"/>
                </a:lnTo>
                <a:lnTo>
                  <a:pt x="608" y="142"/>
                </a:lnTo>
                <a:lnTo>
                  <a:pt x="595" y="144"/>
                </a:lnTo>
                <a:lnTo>
                  <a:pt x="580" y="148"/>
                </a:lnTo>
                <a:lnTo>
                  <a:pt x="562" y="152"/>
                </a:lnTo>
                <a:lnTo>
                  <a:pt x="545" y="156"/>
                </a:lnTo>
                <a:lnTo>
                  <a:pt x="526" y="160"/>
                </a:lnTo>
                <a:lnTo>
                  <a:pt x="505" y="162"/>
                </a:lnTo>
                <a:lnTo>
                  <a:pt x="484" y="165"/>
                </a:lnTo>
                <a:lnTo>
                  <a:pt x="459" y="169"/>
                </a:lnTo>
                <a:lnTo>
                  <a:pt x="434" y="171"/>
                </a:lnTo>
                <a:lnTo>
                  <a:pt x="409" y="175"/>
                </a:lnTo>
                <a:lnTo>
                  <a:pt x="380" y="177"/>
                </a:lnTo>
                <a:lnTo>
                  <a:pt x="349" y="183"/>
                </a:lnTo>
                <a:lnTo>
                  <a:pt x="321" y="187"/>
                </a:lnTo>
                <a:lnTo>
                  <a:pt x="292" y="190"/>
                </a:lnTo>
                <a:lnTo>
                  <a:pt x="265" y="194"/>
                </a:lnTo>
                <a:lnTo>
                  <a:pt x="238" y="198"/>
                </a:lnTo>
                <a:lnTo>
                  <a:pt x="211" y="200"/>
                </a:lnTo>
                <a:lnTo>
                  <a:pt x="186" y="204"/>
                </a:lnTo>
                <a:lnTo>
                  <a:pt x="161" y="206"/>
                </a:lnTo>
                <a:lnTo>
                  <a:pt x="138" y="208"/>
                </a:lnTo>
                <a:lnTo>
                  <a:pt x="117" y="210"/>
                </a:lnTo>
                <a:lnTo>
                  <a:pt x="94" y="211"/>
                </a:lnTo>
                <a:lnTo>
                  <a:pt x="75" y="213"/>
                </a:lnTo>
                <a:lnTo>
                  <a:pt x="54" y="213"/>
                </a:lnTo>
                <a:lnTo>
                  <a:pt x="36" y="213"/>
                </a:lnTo>
                <a:lnTo>
                  <a:pt x="17" y="215"/>
                </a:lnTo>
                <a:lnTo>
                  <a:pt x="0" y="215"/>
                </a:lnTo>
                <a:lnTo>
                  <a:pt x="0" y="114"/>
                </a:lnTo>
                <a:lnTo>
                  <a:pt x="44" y="110"/>
                </a:lnTo>
                <a:lnTo>
                  <a:pt x="86" y="104"/>
                </a:lnTo>
                <a:lnTo>
                  <a:pt x="129" y="98"/>
                </a:lnTo>
                <a:lnTo>
                  <a:pt x="171" y="92"/>
                </a:lnTo>
                <a:lnTo>
                  <a:pt x="211" y="85"/>
                </a:lnTo>
                <a:lnTo>
                  <a:pt x="251" y="75"/>
                </a:lnTo>
                <a:lnTo>
                  <a:pt x="273" y="69"/>
                </a:lnTo>
                <a:lnTo>
                  <a:pt x="292" y="64"/>
                </a:lnTo>
                <a:lnTo>
                  <a:pt x="311" y="58"/>
                </a:lnTo>
                <a:lnTo>
                  <a:pt x="330" y="52"/>
                </a:lnTo>
                <a:lnTo>
                  <a:pt x="363" y="43"/>
                </a:lnTo>
                <a:lnTo>
                  <a:pt x="394" y="35"/>
                </a:lnTo>
                <a:lnTo>
                  <a:pt x="424" y="27"/>
                </a:lnTo>
                <a:lnTo>
                  <a:pt x="451" y="21"/>
                </a:lnTo>
                <a:lnTo>
                  <a:pt x="478" y="16"/>
                </a:lnTo>
                <a:lnTo>
                  <a:pt x="491" y="12"/>
                </a:lnTo>
                <a:lnTo>
                  <a:pt x="503" y="10"/>
                </a:lnTo>
                <a:lnTo>
                  <a:pt x="514" y="8"/>
                </a:lnTo>
                <a:lnTo>
                  <a:pt x="526" y="6"/>
                </a:lnTo>
                <a:lnTo>
                  <a:pt x="536" y="2"/>
                </a:lnTo>
                <a:lnTo>
                  <a:pt x="545" y="0"/>
                </a:lnTo>
                <a:lnTo>
                  <a:pt x="560" y="0"/>
                </a:lnTo>
                <a:lnTo>
                  <a:pt x="574" y="2"/>
                </a:lnTo>
                <a:lnTo>
                  <a:pt x="587" y="4"/>
                </a:lnTo>
                <a:lnTo>
                  <a:pt x="603" y="8"/>
                </a:lnTo>
                <a:lnTo>
                  <a:pt x="616" y="12"/>
                </a:lnTo>
                <a:lnTo>
                  <a:pt x="632" y="16"/>
                </a:lnTo>
                <a:lnTo>
                  <a:pt x="660" y="25"/>
                </a:lnTo>
                <a:lnTo>
                  <a:pt x="666" y="31"/>
                </a:lnTo>
                <a:lnTo>
                  <a:pt x="672" y="35"/>
                </a:lnTo>
                <a:lnTo>
                  <a:pt x="678" y="41"/>
                </a:lnTo>
                <a:lnTo>
                  <a:pt x="683" y="44"/>
                </a:lnTo>
                <a:lnTo>
                  <a:pt x="687" y="48"/>
                </a:lnTo>
                <a:lnTo>
                  <a:pt x="693" y="54"/>
                </a:lnTo>
                <a:lnTo>
                  <a:pt x="699" y="62"/>
                </a:lnTo>
                <a:lnTo>
                  <a:pt x="704" y="69"/>
                </a:lnTo>
                <a:lnTo>
                  <a:pt x="708" y="77"/>
                </a:lnTo>
                <a:lnTo>
                  <a:pt x="710" y="83"/>
                </a:lnTo>
                <a:lnTo>
                  <a:pt x="710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92"/>
          <p:cNvSpPr/>
          <p:nvPr/>
        </p:nvSpPr>
        <p:spPr>
          <a:xfrm>
            <a:off x="5389560" y="2755800"/>
            <a:ext cx="868320" cy="1276560"/>
          </a:xfrm>
          <a:custGeom>
            <a:avLst/>
            <a:gdLst/>
            <a:ahLst/>
            <a:rect l="l" t="t" r="r" b="b"/>
            <a:pathLst>
              <a:path w="1094" h="1609">
                <a:moveTo>
                  <a:pt x="1093" y="169"/>
                </a:moveTo>
                <a:lnTo>
                  <a:pt x="1094" y="177"/>
                </a:lnTo>
                <a:lnTo>
                  <a:pt x="1094" y="187"/>
                </a:lnTo>
                <a:lnTo>
                  <a:pt x="1093" y="198"/>
                </a:lnTo>
                <a:lnTo>
                  <a:pt x="1089" y="211"/>
                </a:lnTo>
                <a:lnTo>
                  <a:pt x="1085" y="219"/>
                </a:lnTo>
                <a:lnTo>
                  <a:pt x="1083" y="227"/>
                </a:lnTo>
                <a:lnTo>
                  <a:pt x="1079" y="235"/>
                </a:lnTo>
                <a:lnTo>
                  <a:pt x="1075" y="244"/>
                </a:lnTo>
                <a:lnTo>
                  <a:pt x="1071" y="254"/>
                </a:lnTo>
                <a:lnTo>
                  <a:pt x="1068" y="263"/>
                </a:lnTo>
                <a:lnTo>
                  <a:pt x="1062" y="275"/>
                </a:lnTo>
                <a:lnTo>
                  <a:pt x="1056" y="284"/>
                </a:lnTo>
                <a:lnTo>
                  <a:pt x="1052" y="296"/>
                </a:lnTo>
                <a:lnTo>
                  <a:pt x="1045" y="309"/>
                </a:lnTo>
                <a:lnTo>
                  <a:pt x="1039" y="321"/>
                </a:lnTo>
                <a:lnTo>
                  <a:pt x="1033" y="334"/>
                </a:lnTo>
                <a:lnTo>
                  <a:pt x="1025" y="348"/>
                </a:lnTo>
                <a:lnTo>
                  <a:pt x="1018" y="361"/>
                </a:lnTo>
                <a:lnTo>
                  <a:pt x="1010" y="377"/>
                </a:lnTo>
                <a:lnTo>
                  <a:pt x="1002" y="392"/>
                </a:lnTo>
                <a:lnTo>
                  <a:pt x="995" y="407"/>
                </a:lnTo>
                <a:lnTo>
                  <a:pt x="985" y="425"/>
                </a:lnTo>
                <a:lnTo>
                  <a:pt x="977" y="442"/>
                </a:lnTo>
                <a:lnTo>
                  <a:pt x="968" y="459"/>
                </a:lnTo>
                <a:lnTo>
                  <a:pt x="958" y="476"/>
                </a:lnTo>
                <a:lnTo>
                  <a:pt x="949" y="496"/>
                </a:lnTo>
                <a:lnTo>
                  <a:pt x="939" y="515"/>
                </a:lnTo>
                <a:lnTo>
                  <a:pt x="927" y="534"/>
                </a:lnTo>
                <a:lnTo>
                  <a:pt x="906" y="574"/>
                </a:lnTo>
                <a:lnTo>
                  <a:pt x="885" y="615"/>
                </a:lnTo>
                <a:lnTo>
                  <a:pt x="862" y="653"/>
                </a:lnTo>
                <a:lnTo>
                  <a:pt x="841" y="691"/>
                </a:lnTo>
                <a:lnTo>
                  <a:pt x="818" y="728"/>
                </a:lnTo>
                <a:lnTo>
                  <a:pt x="795" y="764"/>
                </a:lnTo>
                <a:lnTo>
                  <a:pt x="772" y="801"/>
                </a:lnTo>
                <a:lnTo>
                  <a:pt x="747" y="837"/>
                </a:lnTo>
                <a:lnTo>
                  <a:pt x="724" y="872"/>
                </a:lnTo>
                <a:lnTo>
                  <a:pt x="699" y="906"/>
                </a:lnTo>
                <a:lnTo>
                  <a:pt x="674" y="941"/>
                </a:lnTo>
                <a:lnTo>
                  <a:pt x="649" y="974"/>
                </a:lnTo>
                <a:lnTo>
                  <a:pt x="624" y="1006"/>
                </a:lnTo>
                <a:lnTo>
                  <a:pt x="599" y="1039"/>
                </a:lnTo>
                <a:lnTo>
                  <a:pt x="572" y="1071"/>
                </a:lnTo>
                <a:lnTo>
                  <a:pt x="547" y="1102"/>
                </a:lnTo>
                <a:lnTo>
                  <a:pt x="522" y="1133"/>
                </a:lnTo>
                <a:lnTo>
                  <a:pt x="497" y="1164"/>
                </a:lnTo>
                <a:lnTo>
                  <a:pt x="473" y="1192"/>
                </a:lnTo>
                <a:lnTo>
                  <a:pt x="448" y="1221"/>
                </a:lnTo>
                <a:lnTo>
                  <a:pt x="425" y="1248"/>
                </a:lnTo>
                <a:lnTo>
                  <a:pt x="400" y="1275"/>
                </a:lnTo>
                <a:lnTo>
                  <a:pt x="377" y="1302"/>
                </a:lnTo>
                <a:lnTo>
                  <a:pt x="355" y="1327"/>
                </a:lnTo>
                <a:lnTo>
                  <a:pt x="332" y="1350"/>
                </a:lnTo>
                <a:lnTo>
                  <a:pt x="309" y="1375"/>
                </a:lnTo>
                <a:lnTo>
                  <a:pt x="288" y="1396"/>
                </a:lnTo>
                <a:lnTo>
                  <a:pt x="265" y="1417"/>
                </a:lnTo>
                <a:lnTo>
                  <a:pt x="244" y="1438"/>
                </a:lnTo>
                <a:lnTo>
                  <a:pt x="223" y="1457"/>
                </a:lnTo>
                <a:lnTo>
                  <a:pt x="202" y="1476"/>
                </a:lnTo>
                <a:lnTo>
                  <a:pt x="181" y="1494"/>
                </a:lnTo>
                <a:lnTo>
                  <a:pt x="160" y="1509"/>
                </a:lnTo>
                <a:lnTo>
                  <a:pt x="140" y="1524"/>
                </a:lnTo>
                <a:lnTo>
                  <a:pt x="123" y="1538"/>
                </a:lnTo>
                <a:lnTo>
                  <a:pt x="106" y="1551"/>
                </a:lnTo>
                <a:lnTo>
                  <a:pt x="91" y="1563"/>
                </a:lnTo>
                <a:lnTo>
                  <a:pt x="77" y="1572"/>
                </a:lnTo>
                <a:lnTo>
                  <a:pt x="66" y="1580"/>
                </a:lnTo>
                <a:lnTo>
                  <a:pt x="54" y="1588"/>
                </a:lnTo>
                <a:lnTo>
                  <a:pt x="45" y="1595"/>
                </a:lnTo>
                <a:lnTo>
                  <a:pt x="35" y="1599"/>
                </a:lnTo>
                <a:lnTo>
                  <a:pt x="27" y="1605"/>
                </a:lnTo>
                <a:lnTo>
                  <a:pt x="20" y="1607"/>
                </a:lnTo>
                <a:lnTo>
                  <a:pt x="14" y="1609"/>
                </a:lnTo>
                <a:lnTo>
                  <a:pt x="10" y="1609"/>
                </a:lnTo>
                <a:lnTo>
                  <a:pt x="6" y="1609"/>
                </a:lnTo>
                <a:lnTo>
                  <a:pt x="2" y="1607"/>
                </a:lnTo>
                <a:lnTo>
                  <a:pt x="0" y="1603"/>
                </a:lnTo>
                <a:lnTo>
                  <a:pt x="0" y="1599"/>
                </a:lnTo>
                <a:lnTo>
                  <a:pt x="2" y="1594"/>
                </a:lnTo>
                <a:lnTo>
                  <a:pt x="6" y="1586"/>
                </a:lnTo>
                <a:lnTo>
                  <a:pt x="10" y="1578"/>
                </a:lnTo>
                <a:lnTo>
                  <a:pt x="16" y="1569"/>
                </a:lnTo>
                <a:lnTo>
                  <a:pt x="21" y="1557"/>
                </a:lnTo>
                <a:lnTo>
                  <a:pt x="29" y="1544"/>
                </a:lnTo>
                <a:lnTo>
                  <a:pt x="39" y="1530"/>
                </a:lnTo>
                <a:lnTo>
                  <a:pt x="50" y="1517"/>
                </a:lnTo>
                <a:lnTo>
                  <a:pt x="62" y="1499"/>
                </a:lnTo>
                <a:lnTo>
                  <a:pt x="75" y="1482"/>
                </a:lnTo>
                <a:lnTo>
                  <a:pt x="91" y="1465"/>
                </a:lnTo>
                <a:lnTo>
                  <a:pt x="106" y="1446"/>
                </a:lnTo>
                <a:lnTo>
                  <a:pt x="123" y="1427"/>
                </a:lnTo>
                <a:lnTo>
                  <a:pt x="142" y="1405"/>
                </a:lnTo>
                <a:lnTo>
                  <a:pt x="160" y="1382"/>
                </a:lnTo>
                <a:lnTo>
                  <a:pt x="177" y="1361"/>
                </a:lnTo>
                <a:lnTo>
                  <a:pt x="194" y="1336"/>
                </a:lnTo>
                <a:lnTo>
                  <a:pt x="213" y="1313"/>
                </a:lnTo>
                <a:lnTo>
                  <a:pt x="233" y="1288"/>
                </a:lnTo>
                <a:lnTo>
                  <a:pt x="252" y="1261"/>
                </a:lnTo>
                <a:lnTo>
                  <a:pt x="273" y="1235"/>
                </a:lnTo>
                <a:lnTo>
                  <a:pt x="294" y="1206"/>
                </a:lnTo>
                <a:lnTo>
                  <a:pt x="317" y="1177"/>
                </a:lnTo>
                <a:lnTo>
                  <a:pt x="338" y="1148"/>
                </a:lnTo>
                <a:lnTo>
                  <a:pt x="361" y="1117"/>
                </a:lnTo>
                <a:lnTo>
                  <a:pt x="384" y="1087"/>
                </a:lnTo>
                <a:lnTo>
                  <a:pt x="409" y="1054"/>
                </a:lnTo>
                <a:lnTo>
                  <a:pt x="434" y="1020"/>
                </a:lnTo>
                <a:lnTo>
                  <a:pt x="459" y="987"/>
                </a:lnTo>
                <a:lnTo>
                  <a:pt x="484" y="950"/>
                </a:lnTo>
                <a:lnTo>
                  <a:pt x="507" y="916"/>
                </a:lnTo>
                <a:lnTo>
                  <a:pt x="530" y="879"/>
                </a:lnTo>
                <a:lnTo>
                  <a:pt x="551" y="845"/>
                </a:lnTo>
                <a:lnTo>
                  <a:pt x="574" y="808"/>
                </a:lnTo>
                <a:lnTo>
                  <a:pt x="595" y="774"/>
                </a:lnTo>
                <a:lnTo>
                  <a:pt x="615" y="737"/>
                </a:lnTo>
                <a:lnTo>
                  <a:pt x="634" y="703"/>
                </a:lnTo>
                <a:lnTo>
                  <a:pt x="653" y="668"/>
                </a:lnTo>
                <a:lnTo>
                  <a:pt x="672" y="634"/>
                </a:lnTo>
                <a:lnTo>
                  <a:pt x="689" y="599"/>
                </a:lnTo>
                <a:lnTo>
                  <a:pt x="707" y="565"/>
                </a:lnTo>
                <a:lnTo>
                  <a:pt x="722" y="530"/>
                </a:lnTo>
                <a:lnTo>
                  <a:pt x="737" y="496"/>
                </a:lnTo>
                <a:lnTo>
                  <a:pt x="751" y="463"/>
                </a:lnTo>
                <a:lnTo>
                  <a:pt x="764" y="428"/>
                </a:lnTo>
                <a:lnTo>
                  <a:pt x="776" y="396"/>
                </a:lnTo>
                <a:lnTo>
                  <a:pt x="787" y="365"/>
                </a:lnTo>
                <a:lnTo>
                  <a:pt x="797" y="336"/>
                </a:lnTo>
                <a:lnTo>
                  <a:pt x="807" y="309"/>
                </a:lnTo>
                <a:lnTo>
                  <a:pt x="814" y="283"/>
                </a:lnTo>
                <a:lnTo>
                  <a:pt x="820" y="258"/>
                </a:lnTo>
                <a:lnTo>
                  <a:pt x="826" y="235"/>
                </a:lnTo>
                <a:lnTo>
                  <a:pt x="830" y="211"/>
                </a:lnTo>
                <a:lnTo>
                  <a:pt x="833" y="190"/>
                </a:lnTo>
                <a:lnTo>
                  <a:pt x="835" y="171"/>
                </a:lnTo>
                <a:lnTo>
                  <a:pt x="837" y="154"/>
                </a:lnTo>
                <a:lnTo>
                  <a:pt x="837" y="137"/>
                </a:lnTo>
                <a:lnTo>
                  <a:pt x="837" y="123"/>
                </a:lnTo>
                <a:lnTo>
                  <a:pt x="835" y="110"/>
                </a:lnTo>
                <a:lnTo>
                  <a:pt x="833" y="98"/>
                </a:lnTo>
                <a:lnTo>
                  <a:pt x="830" y="89"/>
                </a:lnTo>
                <a:lnTo>
                  <a:pt x="826" y="81"/>
                </a:lnTo>
                <a:lnTo>
                  <a:pt x="822" y="73"/>
                </a:lnTo>
                <a:lnTo>
                  <a:pt x="818" y="66"/>
                </a:lnTo>
                <a:lnTo>
                  <a:pt x="814" y="60"/>
                </a:lnTo>
                <a:lnTo>
                  <a:pt x="812" y="54"/>
                </a:lnTo>
                <a:lnTo>
                  <a:pt x="810" y="48"/>
                </a:lnTo>
                <a:lnTo>
                  <a:pt x="808" y="43"/>
                </a:lnTo>
                <a:lnTo>
                  <a:pt x="808" y="37"/>
                </a:lnTo>
                <a:lnTo>
                  <a:pt x="808" y="33"/>
                </a:lnTo>
                <a:lnTo>
                  <a:pt x="810" y="29"/>
                </a:lnTo>
                <a:lnTo>
                  <a:pt x="812" y="23"/>
                </a:lnTo>
                <a:lnTo>
                  <a:pt x="814" y="20"/>
                </a:lnTo>
                <a:lnTo>
                  <a:pt x="818" y="16"/>
                </a:lnTo>
                <a:lnTo>
                  <a:pt x="822" y="14"/>
                </a:lnTo>
                <a:lnTo>
                  <a:pt x="828" y="10"/>
                </a:lnTo>
                <a:lnTo>
                  <a:pt x="833" y="8"/>
                </a:lnTo>
                <a:lnTo>
                  <a:pt x="839" y="4"/>
                </a:lnTo>
                <a:lnTo>
                  <a:pt x="847" y="2"/>
                </a:lnTo>
                <a:lnTo>
                  <a:pt x="854" y="2"/>
                </a:lnTo>
                <a:lnTo>
                  <a:pt x="862" y="0"/>
                </a:lnTo>
                <a:lnTo>
                  <a:pt x="870" y="2"/>
                </a:lnTo>
                <a:lnTo>
                  <a:pt x="879" y="2"/>
                </a:lnTo>
                <a:lnTo>
                  <a:pt x="887" y="4"/>
                </a:lnTo>
                <a:lnTo>
                  <a:pt x="897" y="8"/>
                </a:lnTo>
                <a:lnTo>
                  <a:pt x="906" y="10"/>
                </a:lnTo>
                <a:lnTo>
                  <a:pt x="916" y="14"/>
                </a:lnTo>
                <a:lnTo>
                  <a:pt x="926" y="20"/>
                </a:lnTo>
                <a:lnTo>
                  <a:pt x="935" y="23"/>
                </a:lnTo>
                <a:lnTo>
                  <a:pt x="947" y="29"/>
                </a:lnTo>
                <a:lnTo>
                  <a:pt x="968" y="41"/>
                </a:lnTo>
                <a:lnTo>
                  <a:pt x="991" y="56"/>
                </a:lnTo>
                <a:lnTo>
                  <a:pt x="1002" y="62"/>
                </a:lnTo>
                <a:lnTo>
                  <a:pt x="1014" y="69"/>
                </a:lnTo>
                <a:lnTo>
                  <a:pt x="1023" y="77"/>
                </a:lnTo>
                <a:lnTo>
                  <a:pt x="1033" y="83"/>
                </a:lnTo>
                <a:lnTo>
                  <a:pt x="1043" y="91"/>
                </a:lnTo>
                <a:lnTo>
                  <a:pt x="1050" y="98"/>
                </a:lnTo>
                <a:lnTo>
                  <a:pt x="1058" y="106"/>
                </a:lnTo>
                <a:lnTo>
                  <a:pt x="1066" y="112"/>
                </a:lnTo>
                <a:lnTo>
                  <a:pt x="1071" y="119"/>
                </a:lnTo>
                <a:lnTo>
                  <a:pt x="1077" y="127"/>
                </a:lnTo>
                <a:lnTo>
                  <a:pt x="1081" y="133"/>
                </a:lnTo>
                <a:lnTo>
                  <a:pt x="1085" y="140"/>
                </a:lnTo>
                <a:lnTo>
                  <a:pt x="1089" y="148"/>
                </a:lnTo>
                <a:lnTo>
                  <a:pt x="1091" y="154"/>
                </a:lnTo>
                <a:lnTo>
                  <a:pt x="1093" y="162"/>
                </a:lnTo>
                <a:lnTo>
                  <a:pt x="1093" y="1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5:03:44Z</dcterms:modified>
  <cp:revision>4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