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7DBD-0CE3-4F0C-BC28-E35407E9F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39F7-2BB2-4919-A07A-7AFE97BC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53AF-3B3D-4552-A42C-BEBDA3243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A58-22C9-4E87-A1AF-2821C8764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DC22-B584-41A7-9EB5-9EEFEAB7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CF0-663D-4ABC-ABA2-00204D3C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CE76-3509-42D4-904D-1D7356BF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3505-ABB9-4EE0-85F4-E316CF98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C4A-11CA-40C0-BAC6-0F13520E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F4FA-70C5-4115-AE61-8E29AF98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D7E-FA34-4F2A-A7C8-9BDC558A1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928-FAC6-46B2-9B66-55166CCA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E7C98-1A5A-4D91-BAFF-38DF951B81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47920" y="160020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北师大版四年级上册数学总复习数与代数（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905120" y="297180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第一单元复习（认识更大的数复习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46591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4"/>
          <p:cNvSpPr/>
          <p:nvPr/>
        </p:nvSpPr>
        <p:spPr>
          <a:xfrm>
            <a:off x="380880" y="228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、课内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0" y="1295280"/>
            <a:ext cx="9043920" cy="48769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380880" y="2286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、课内作业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990720" y="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重点知识归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609480"/>
          <a:ext cx="8458200" cy="5880240"/>
        </p:xfrm>
        <a:graphic>
          <a:graphicData uri="http://schemas.openxmlformats.org/drawingml/2006/table">
            <a:tbl>
              <a:tblPr/>
              <a:tblGrid>
                <a:gridCol w="1447560"/>
                <a:gridCol w="7010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具体内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重点知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数的读、写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数的读法：先读亿级，再读万级，最后读个级；每级末尾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都不读，中间不管有连续几个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只读一个“零”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数的写法：从高位写起，那一位上是几就写几，没有的写“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”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占位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比较数的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比较数大小的方法。 多位数比较大小，如果位数不同，那么位数多的这个数就大，位数少的这个数就小。如果位数相同，从左起第一位开始比起，哪个数字大，哪个数就大。如果左起第一位上的数相同，就开始比第二位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直到比出大小为止。</a:t>
                      </a: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数的改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用“万”作单位的数，把万位后面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去掉，改写成“万”字。用“亿”作单位的数，把亿位后面的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去掉，改写成“亿”字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求近似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省略万位或亿位后面的尾数求近似数，先看被省略尾数最高位上的数字，再按四舍五入法求近似数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60948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数位顺序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1676520"/>
          <a:ext cx="7925040" cy="314460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457200"/>
                <a:gridCol w="457200"/>
                <a:gridCol w="457200"/>
                <a:gridCol w="533520"/>
                <a:gridCol w="457200"/>
                <a:gridCol w="533160"/>
                <a:gridCol w="457200"/>
                <a:gridCol w="457200"/>
                <a:gridCol w="457200"/>
                <a:gridCol w="457200"/>
                <a:gridCol w="53352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亿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亿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计数单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ff0066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0066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个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595"/>
          <p:cNvSpPr/>
          <p:nvPr/>
        </p:nvSpPr>
        <p:spPr>
          <a:xfrm>
            <a:off x="533520" y="52578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十进制计数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邻 两个计数单位之间的进率是十，也就是十进制关系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1596"/>
          <p:cNvSpPr/>
          <p:nvPr/>
        </p:nvSpPr>
        <p:spPr>
          <a:xfrm>
            <a:off x="2590920" y="5257800"/>
            <a:ext cx="76176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611280" y="1700280"/>
            <a:ext cx="792144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会读：例：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382  0000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读作：一千三百八十二万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会写：例：四十七万四千 写作：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7 400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比较数的大小 ：  位数多的数比较大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位数相同，从高位开始比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改写：改写成“万”或“亿”为单位的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例：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60 0000=96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万；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00 0000 0000=100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、近似数：“四舍五入”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例：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750 8000≈751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万 ；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94 2000 0000≈94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971640" y="476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99"/>
                </a:solidFill>
                <a:latin typeface="Arial"/>
              </a:rPr>
              <a:t>数与代数</a:t>
            </a: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0099"/>
                </a:solidFill>
                <a:latin typeface="Arial"/>
              </a:rPr>
              <a:t>一、认识更大的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0"/>
          <p:cNvSpPr/>
          <p:nvPr/>
        </p:nvSpPr>
        <p:spPr>
          <a:xfrm>
            <a:off x="2819520" y="13716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>
            <a:off x="4648320" y="17524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>
            <a:off x="2666880" y="34034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4648320" y="34034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0"/>
          <p:cNvSpPr/>
          <p:nvPr/>
        </p:nvSpPr>
        <p:spPr>
          <a:xfrm>
            <a:off x="5181480" y="34034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2666880" y="41655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5105520" y="42418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>
            <a:off x="4572000" y="42418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533520" y="7621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数的读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33520" y="16002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数的读法：先读亿级，再读万级，最后读个级；每级末尾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都不读，中间不管有连续几个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只读一个“零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09480" y="2590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62120" y="3124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7809 4325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62120" y="37339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30 2500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62120" y="4343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4900 0000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762120" y="4952880"/>
            <a:ext cx="31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0609 0500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读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1"/>
          <p:cNvSpPr/>
          <p:nvPr/>
        </p:nvSpPr>
        <p:spPr>
          <a:xfrm>
            <a:off x="3581280" y="350532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2"/>
          <p:cNvSpPr/>
          <p:nvPr/>
        </p:nvSpPr>
        <p:spPr>
          <a:xfrm>
            <a:off x="3581280" y="4114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3"/>
          <p:cNvSpPr/>
          <p:nvPr/>
        </p:nvSpPr>
        <p:spPr>
          <a:xfrm>
            <a:off x="3581280" y="4724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4"/>
          <p:cNvSpPr/>
          <p:nvPr/>
        </p:nvSpPr>
        <p:spPr>
          <a:xfrm>
            <a:off x="3581280" y="53341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3733920" y="3124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六亿七千八百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九万四千三百二十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3733920" y="37339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四千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三十万二千五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3657600" y="4343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五十六亿四千九百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3657600" y="4876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三亿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六百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九万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零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五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1828800" y="2870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1066680" y="27939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0"/>
          <p:cNvSpPr/>
          <p:nvPr/>
        </p:nvSpPr>
        <p:spPr>
          <a:xfrm>
            <a:off x="1600200" y="34797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1219320" y="40892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0"/>
          <p:cNvSpPr/>
          <p:nvPr/>
        </p:nvSpPr>
        <p:spPr>
          <a:xfrm>
            <a:off x="1981080" y="4013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1066680" y="49276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>
            <a:off x="1828800" y="49276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762120" y="914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数的写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762120" y="1600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数的写法：从高位写起，那一位上是几就写几，没有的写“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”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占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62120" y="2514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62120" y="3048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十万零七百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7621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十五万       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762120" y="4343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三千零一十万零二百 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762120" y="495288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五百七十万四千九百八十六 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36576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3657600" y="41148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4648320" y="4724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5562720" y="53341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65760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0 0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3657600" y="3657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5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4648320" y="42670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010 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562720" y="4876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70 4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62120" y="55627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十二亿九千五百三十三万    写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0"/>
          <p:cNvSpPr/>
          <p:nvPr/>
        </p:nvSpPr>
        <p:spPr>
          <a:xfrm>
            <a:off x="5257800" y="5943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1"/>
          <p:cNvSpPr/>
          <p:nvPr/>
        </p:nvSpPr>
        <p:spPr>
          <a:xfrm>
            <a:off x="525780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2 9533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>
            <a:off x="4114800" y="281952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0"/>
          <p:cNvSpPr/>
          <p:nvPr/>
        </p:nvSpPr>
        <p:spPr>
          <a:xfrm>
            <a:off x="4114800" y="34034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486400" y="39369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>
            <a:off x="6172200" y="45464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0"/>
          <p:cNvSpPr/>
          <p:nvPr/>
        </p:nvSpPr>
        <p:spPr>
          <a:xfrm>
            <a:off x="5715000" y="5156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477120" y="5156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57200" y="17222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多位数比较大小，如果位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那么位数多的这个数就大，位数少的这个数就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如果位数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相同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，从左起第一位开始比起，哪个数字大，哪个数就大。如果左起第一位上的数相同，就开始比第二位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直到比出大小为止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80880" y="5335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三、比较数的大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533520" y="3352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3520" y="380988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在   里填上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”“&gt;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或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8"/>
          <p:cNvSpPr/>
          <p:nvPr/>
        </p:nvSpPr>
        <p:spPr>
          <a:xfrm>
            <a:off x="1371600" y="3886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0948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万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4343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 1111     9 9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533520" y="49528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4 0067     54 06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3886200" y="49528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99 9998     1 0000 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3"/>
          <p:cNvSpPr/>
          <p:nvPr/>
        </p:nvSpPr>
        <p:spPr>
          <a:xfrm>
            <a:off x="5486400" y="5029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1752480" y="5029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51814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137160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1371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5181480" y="4343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548640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4952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2133720" y="41148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0"/>
          <p:cNvSpPr/>
          <p:nvPr/>
        </p:nvSpPr>
        <p:spPr>
          <a:xfrm>
            <a:off x="5715000" y="4013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419720" y="4013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>
            <a:off x="2514600" y="46227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990720" y="46227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4724280" y="46990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6781680" y="46990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6019920" y="47242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80880" y="60948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数的改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80880" y="137160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用“万”作单位的数，把万位后面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去掉，改写成“万”字。用“亿”作单位的数，把亿位后面的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去掉，改写成“亿”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57200" y="26668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533520" y="32004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将下面的各数改写成以“万”为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762120" y="365760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6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495680" y="36576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685800" y="41911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4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4724280" y="41911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8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3520" y="46483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将下面各数改写成以“亿”为单位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09480" y="51814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000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10 000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09480" y="57150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28 000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724280" y="5715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0 0000 0000=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2514600" y="3657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62485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2590920" y="41911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2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6553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7"/>
          <p:cNvSpPr/>
          <p:nvPr/>
        </p:nvSpPr>
        <p:spPr>
          <a:xfrm>
            <a:off x="1219320" y="3809880"/>
            <a:ext cx="76176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1523880" y="4343400"/>
            <a:ext cx="762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9"/>
          <p:cNvSpPr/>
          <p:nvPr/>
        </p:nvSpPr>
        <p:spPr>
          <a:xfrm>
            <a:off x="5105520" y="3809880"/>
            <a:ext cx="76176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5410080" y="4343400"/>
            <a:ext cx="762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1676520" y="53341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914400" y="5334120"/>
            <a:ext cx="762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048120" y="5181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34"/>
          <p:cNvSpPr/>
          <p:nvPr/>
        </p:nvSpPr>
        <p:spPr>
          <a:xfrm>
            <a:off x="1295280" y="5867280"/>
            <a:ext cx="7621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35"/>
          <p:cNvSpPr/>
          <p:nvPr/>
        </p:nvSpPr>
        <p:spPr>
          <a:xfrm>
            <a:off x="2057400" y="5867280"/>
            <a:ext cx="7621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6"/>
          <p:cNvSpPr/>
          <p:nvPr/>
        </p:nvSpPr>
        <p:spPr>
          <a:xfrm>
            <a:off x="5334120" y="5867280"/>
            <a:ext cx="76176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6095880" y="5867280"/>
            <a:ext cx="762120" cy="152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5257800" y="5334120"/>
            <a:ext cx="7621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>
            <a:off x="6019920" y="5334120"/>
            <a:ext cx="76176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7238880" y="51814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1"/>
          <p:cNvSpPr/>
          <p:nvPr/>
        </p:nvSpPr>
        <p:spPr>
          <a:xfrm>
            <a:off x="32004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2"/>
          <p:cNvSpPr/>
          <p:nvPr/>
        </p:nvSpPr>
        <p:spPr>
          <a:xfrm>
            <a:off x="73152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"/>
          <p:cNvSpPr/>
          <p:nvPr/>
        </p:nvSpPr>
        <p:spPr>
          <a:xfrm>
            <a:off x="1219320" y="34290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0"/>
          <p:cNvSpPr/>
          <p:nvPr/>
        </p:nvSpPr>
        <p:spPr>
          <a:xfrm>
            <a:off x="5105520" y="350532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"/>
          <p:cNvSpPr/>
          <p:nvPr/>
        </p:nvSpPr>
        <p:spPr>
          <a:xfrm>
            <a:off x="1523880" y="40384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5334120" y="396252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914400" y="50292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1676520" y="49276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5257800" y="48513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6095880" y="477504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0"/>
          <p:cNvSpPr/>
          <p:nvPr/>
        </p:nvSpPr>
        <p:spPr>
          <a:xfrm>
            <a:off x="1219320" y="53848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0"/>
          <p:cNvSpPr/>
          <p:nvPr/>
        </p:nvSpPr>
        <p:spPr>
          <a:xfrm>
            <a:off x="1981080" y="53848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>
            <a:off x="5334120" y="53848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0"/>
          <p:cNvSpPr/>
          <p:nvPr/>
        </p:nvSpPr>
        <p:spPr>
          <a:xfrm>
            <a:off x="6095880" y="533412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609480" y="8380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、求近似数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533520" y="1752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省略万位或亿位后面的尾数求近似数，先看千位或千万位上的数字，再按四舍五入法求近似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09480" y="2819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巩固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762120" y="3581280"/>
            <a:ext cx="32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 2000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4191120" y="3581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3 4999 0000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）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62120" y="41911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5400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4267080" y="41911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 3257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 ）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685800" y="4800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4900 0000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        ）千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666880" y="35812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6934320" y="3581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2514600" y="41911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6172200" y="4191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3276720" y="4800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8"/>
          <p:cNvSpPr/>
          <p:nvPr/>
        </p:nvSpPr>
        <p:spPr>
          <a:xfrm>
            <a:off x="1295280" y="396252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9"/>
          <p:cNvSpPr/>
          <p:nvPr/>
        </p:nvSpPr>
        <p:spPr>
          <a:xfrm>
            <a:off x="4876920" y="39625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>
            <a:off x="11430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1"/>
          <p:cNvSpPr/>
          <p:nvPr/>
        </p:nvSpPr>
        <p:spPr>
          <a:xfrm>
            <a:off x="4800600" y="4572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2"/>
          <p:cNvSpPr/>
          <p:nvPr/>
        </p:nvSpPr>
        <p:spPr>
          <a:xfrm>
            <a:off x="1371600" y="5181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0"/>
          <p:cNvSpPr/>
          <p:nvPr/>
        </p:nvSpPr>
        <p:spPr>
          <a:xfrm>
            <a:off x="1219320" y="34290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4876920" y="33526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5638680" y="335268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"/>
          <p:cNvSpPr/>
          <p:nvPr/>
        </p:nvSpPr>
        <p:spPr>
          <a:xfrm>
            <a:off x="1066680" y="396252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724280" y="39369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"/>
          <p:cNvSpPr/>
          <p:nvPr/>
        </p:nvSpPr>
        <p:spPr>
          <a:xfrm>
            <a:off x="1143000" y="462276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0"/>
          <p:cNvSpPr/>
          <p:nvPr/>
        </p:nvSpPr>
        <p:spPr>
          <a:xfrm>
            <a:off x="1905120" y="4572000"/>
            <a:ext cx="0" cy="863640"/>
          </a:xfrm>
          <a:prstGeom prst="line">
            <a:avLst/>
          </a:prstGeom>
          <a:ln w="3816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5-03-01T22:55:4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