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7.jpeg" ContentType="image/jpeg"/>
  <Override PartName="/ppt/media/image14.jpeg" ContentType="image/jpeg"/>
  <Override PartName="/ppt/media/image2.png" ContentType="image/png"/>
  <Override PartName="/ppt/media/image1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png" ContentType="image/png"/>
  <Override PartName="/ppt/media/click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CE3-FA2D-46CB-BDA1-C7E63FB7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A8E-01FD-4BEE-AA09-2B0E379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B04-64FA-4CE2-85AE-2E20F2D4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65A-A6CE-41CD-BE1E-52FC3B0D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A5C-D0F8-4CD7-A69D-2A6E1859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64C-9A8D-4FC2-83F9-386233B5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8ED-A08E-4437-8518-1FBE1886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276-A444-4D98-823A-B6A8799F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4F4-65BC-4810-95F2-AB50CCFB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854-93A3-4A14-962A-A501218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314-FF8B-4B1B-975A-1C910ADD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DE5-CE56-4580-BFD0-6ED22DB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FCBD-36F3-41BA-8E3E-C68CC83904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505320" y="2743200"/>
            <a:ext cx="4419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神奇的计算工具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2" name="Picture 3" descr="ElectronicCalculators14"/>
          <p:cNvPicPr/>
          <p:nvPr/>
        </p:nvPicPr>
        <p:blipFill>
          <a:blip r:embed="rId1"/>
          <a:stretch/>
        </p:blipFill>
        <p:spPr>
          <a:xfrm>
            <a:off x="533520" y="2209680"/>
            <a:ext cx="2730240" cy="288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0087"/>
          <p:cNvPicPr/>
          <p:nvPr/>
        </p:nvPicPr>
        <p:blipFill>
          <a:blip r:embed="rId2"/>
          <a:stretch/>
        </p:blipFill>
        <p:spPr>
          <a:xfrm>
            <a:off x="7315200" y="4952880"/>
            <a:ext cx="1655640" cy="1538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765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北师大版四年级数学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345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9×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66320" y="2331720"/>
            <a:ext cx="80773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先计算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9×2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+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将第一步的答案储存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345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－，再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R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或按一下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RC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将储存的答案提取，再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计算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342864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0655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7×45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图片3"/>
          <p:cNvPicPr/>
          <p:nvPr/>
        </p:nvPicPr>
        <p:blipFill>
          <a:blip r:embed="rId1"/>
          <a:stretch/>
        </p:blipFill>
        <p:spPr>
          <a:xfrm>
            <a:off x="7620120" y="990720"/>
            <a:ext cx="12380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s知识应用"/>
          <p:cNvPicPr/>
          <p:nvPr/>
        </p:nvPicPr>
        <p:blipFill>
          <a:blip r:embed="rId1"/>
          <a:stretch/>
        </p:blipFill>
        <p:spPr>
          <a:xfrm>
            <a:off x="6858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900000" y="1484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先估计下列算式中一个乘数的范围，然后用计算器检验你的每一个估计，如果你的估计不在预设的范围内，用另一个数再试一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87280" y="2971800"/>
          <a:ext cx="4464360" cy="2595600"/>
        </p:xfrm>
        <a:graphic>
          <a:graphicData uri="http://schemas.openxmlformats.org/drawingml/2006/table">
            <a:tbl>
              <a:tblPr/>
              <a:tblGrid>
                <a:gridCol w="2160720"/>
                <a:gridCol w="230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" name="Group 24"/>
          <p:cNvGrpSpPr/>
          <p:nvPr/>
        </p:nvGrpSpPr>
        <p:grpSpPr>
          <a:xfrm>
            <a:off x="1258920" y="2997360"/>
            <a:ext cx="4249800" cy="2593080"/>
            <a:chOff x="1258920" y="2997360"/>
            <a:chExt cx="4249800" cy="2593080"/>
          </a:xfrm>
        </p:grpSpPr>
        <p:sp>
          <p:nvSpPr>
            <p:cNvPr id="86" name="Text Box 25"/>
            <p:cNvSpPr/>
            <p:nvPr/>
          </p:nvSpPr>
          <p:spPr>
            <a:xfrm>
              <a:off x="1763640" y="2997360"/>
              <a:ext cx="936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算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6"/>
            <p:cNvSpPr/>
            <p:nvPr/>
          </p:nvSpPr>
          <p:spPr>
            <a:xfrm>
              <a:off x="1403280" y="3500280"/>
              <a:ext cx="180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8×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7"/>
            <p:cNvSpPr/>
            <p:nvPr/>
          </p:nvSpPr>
          <p:spPr>
            <a:xfrm>
              <a:off x="1403280" y="4019400"/>
              <a:ext cx="180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3×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8"/>
            <p:cNvSpPr/>
            <p:nvPr/>
          </p:nvSpPr>
          <p:spPr>
            <a:xfrm>
              <a:off x="1258920" y="4524480"/>
              <a:ext cx="18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92×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9"/>
            <p:cNvSpPr/>
            <p:nvPr/>
          </p:nvSpPr>
          <p:spPr>
            <a:xfrm>
              <a:off x="1258920" y="5100480"/>
              <a:ext cx="18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5×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）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0"/>
            <p:cNvSpPr/>
            <p:nvPr/>
          </p:nvSpPr>
          <p:spPr>
            <a:xfrm>
              <a:off x="3708360" y="2997360"/>
              <a:ext cx="180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积的范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1"/>
            <p:cNvSpPr/>
            <p:nvPr/>
          </p:nvSpPr>
          <p:spPr>
            <a:xfrm>
              <a:off x="3635280" y="3500280"/>
              <a:ext cx="180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0-34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2"/>
            <p:cNvSpPr/>
            <p:nvPr/>
          </p:nvSpPr>
          <p:spPr>
            <a:xfrm>
              <a:off x="3635280" y="4076640"/>
              <a:ext cx="180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0-42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3"/>
            <p:cNvSpPr/>
            <p:nvPr/>
          </p:nvSpPr>
          <p:spPr>
            <a:xfrm>
              <a:off x="3635280" y="4524480"/>
              <a:ext cx="180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500-60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34"/>
            <p:cNvSpPr/>
            <p:nvPr/>
          </p:nvSpPr>
          <p:spPr>
            <a:xfrm>
              <a:off x="3635280" y="5100480"/>
              <a:ext cx="180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800-82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35" descr="计算器"/>
          <p:cNvPicPr/>
          <p:nvPr/>
        </p:nvPicPr>
        <p:blipFill>
          <a:blip r:embed="rId2"/>
          <a:stretch/>
        </p:blipFill>
        <p:spPr>
          <a:xfrm>
            <a:off x="5867280" y="2924280"/>
            <a:ext cx="229392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用计算器计算，然后找找规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160" y="152352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×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×5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2×55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22×555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2222222×5555555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828800" y="1600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0" y="2133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2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666880" y="2743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232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35268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23432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800600" y="5105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2345678765432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5"/>
          <p:cNvSpPr/>
          <p:nvPr/>
        </p:nvSpPr>
        <p:spPr>
          <a:xfrm>
            <a:off x="3898800" y="1650960"/>
            <a:ext cx="34290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2222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555555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057400" y="2514600"/>
            <a:ext cx="464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114800" y="2514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111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3848040" y="29084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111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3632040" y="3314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111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3390840" y="3708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111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3137040" y="4102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111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2882880" y="4495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111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2641680" y="4851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111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2400480" y="5219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1111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5"/>
          <p:cNvSpPr/>
          <p:nvPr/>
        </p:nvSpPr>
        <p:spPr>
          <a:xfrm>
            <a:off x="1905120" y="5791320"/>
            <a:ext cx="464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2400480" y="576576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2345678765432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229600" cy="423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1981080" y="4724280"/>
            <a:ext cx="46198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3520" y="5028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两千多年前，中国人用算筹计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457200" y="457200"/>
            <a:ext cx="4000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计算工具的演变</a:t>
            </a:r>
            <a:endParaRPr b="0" lang="en-US" sz="4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9" name="Picture 5" descr="2010022541068197_conew1"/>
          <p:cNvPicPr/>
          <p:nvPr/>
        </p:nvPicPr>
        <p:blipFill>
          <a:blip r:embed="rId1"/>
          <a:stretch/>
        </p:blipFill>
        <p:spPr>
          <a:xfrm>
            <a:off x="533520" y="1600200"/>
            <a:ext cx="3695760" cy="286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461ng39iqr33"/>
          <p:cNvPicPr/>
          <p:nvPr/>
        </p:nvPicPr>
        <p:blipFill>
          <a:blip r:embed="rId2"/>
          <a:stretch/>
        </p:blipFill>
        <p:spPr>
          <a:xfrm>
            <a:off x="4572000" y="1600200"/>
            <a:ext cx="37339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409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多年前，中国人又广泛使用算盘，使计算速度快很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457200" y="457200"/>
            <a:ext cx="4000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计算工具的演变</a:t>
            </a:r>
            <a:endParaRPr b="0" lang="en-US" sz="4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3" name="Picture 5" descr="0911171635a0aa0d05d203edd1"/>
          <p:cNvPicPr/>
          <p:nvPr/>
        </p:nvPicPr>
        <p:blipFill>
          <a:blip r:embed="rId1"/>
          <a:stretch/>
        </p:blipFill>
        <p:spPr>
          <a:xfrm>
            <a:off x="2057400" y="14479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409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4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法国数学家发明了第一台机器演算的工具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457200" y="457200"/>
            <a:ext cx="4000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计算工具的演变</a:t>
            </a:r>
            <a:endParaRPr b="0" lang="en-US" sz="44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6" name="Picture 4" descr="1262829814JfmZAJBS"/>
          <p:cNvPicPr/>
          <p:nvPr/>
        </p:nvPicPr>
        <p:blipFill>
          <a:blip r:embed="rId1"/>
          <a:stretch/>
        </p:blipFill>
        <p:spPr>
          <a:xfrm>
            <a:off x="2000160" y="1866960"/>
            <a:ext cx="5141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22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第一台能按一定程序自动控制的计算机诞生了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457200" y="304920"/>
            <a:ext cx="4000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计算工具的演变</a:t>
            </a:r>
            <a:endParaRPr b="0" lang="en-US" sz="44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9" name="Picture 4" descr="1238910186yvuqTnRK"/>
          <p:cNvPicPr/>
          <p:nvPr/>
        </p:nvPicPr>
        <p:blipFill>
          <a:blip r:embed="rId1"/>
          <a:stretch/>
        </p:blipFill>
        <p:spPr>
          <a:xfrm>
            <a:off x="1905120" y="1143000"/>
            <a:ext cx="48765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4097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美国人发明了世界上第一台电子计算机，每秒可以运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457200" y="457200"/>
            <a:ext cx="4000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计算工具的演变</a:t>
            </a:r>
            <a:endParaRPr b="0" lang="en-US" sz="44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62" name="Picture 4" descr="yuzhou870694c8715e3e6e"/>
          <p:cNvPicPr/>
          <p:nvPr/>
        </p:nvPicPr>
        <p:blipFill>
          <a:blip r:embed="rId1"/>
          <a:stretch/>
        </p:blipFill>
        <p:spPr>
          <a:xfrm>
            <a:off x="1447920" y="1295280"/>
            <a:ext cx="61722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409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世界上运算最快的计算机每秒可以运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万亿次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457200" y="457200"/>
            <a:ext cx="4000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计算工具的演变</a:t>
            </a:r>
            <a:endParaRPr b="0" lang="en-US" sz="44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65" name="Picture 5" descr="1_201101260048331rgkK"/>
          <p:cNvPicPr/>
          <p:nvPr/>
        </p:nvPicPr>
        <p:blipFill>
          <a:blip r:embed="rId1"/>
          <a:stretch/>
        </p:blipFill>
        <p:spPr>
          <a:xfrm>
            <a:off x="1752480" y="1371600"/>
            <a:ext cx="52578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95360" y="2730600"/>
            <a:ext cx="1447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714680" y="2806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235+286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762440" y="28065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714680" y="34923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÷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076640" y="34923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714680" y="41781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×12×1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4686480" y="417816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7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638360" y="48639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34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×21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143680" y="486396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57200" y="838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Arial"/>
                <a:ea typeface="楷体_GB2312"/>
              </a:rPr>
              <a:t>计算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图片3"/>
          <p:cNvPicPr/>
          <p:nvPr/>
        </p:nvPicPr>
        <p:blipFill>
          <a:blip r:embed="rId1"/>
          <a:stretch/>
        </p:blipFill>
        <p:spPr>
          <a:xfrm>
            <a:off x="7620120" y="990720"/>
            <a:ext cx="12380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3-01T15:33:41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