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lick.wav" ContentType="audio/x-wav"/>
  <Override PartName="/ppt/media/image2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%E6%8C%89%E9%94%AE%E5%A3%B0.wav" ContentType="audio/x-wav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304920" y="640080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505320" y="640080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&#25353;&#38190;&#22768;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8"/>
          <p:cNvSpPr/>
          <p:nvPr/>
        </p:nvSpPr>
        <p:spPr>
          <a:xfrm>
            <a:off x="2700360" y="2565360"/>
            <a:ext cx="5327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华文行楷"/>
              </a:rPr>
              <a:t>正负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Text Box 11"/>
          <p:cNvSpPr/>
          <p:nvPr/>
        </p:nvSpPr>
        <p:spPr>
          <a:xfrm>
            <a:off x="900000" y="1125360"/>
            <a:ext cx="518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北师大版四年级数学上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rcRect l="11985" t="0" r="0" b="58635"/>
          <a:stretch/>
        </p:blipFill>
        <p:spPr>
          <a:xfrm>
            <a:off x="468360" y="4654440"/>
            <a:ext cx="2519280" cy="1727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988200" y="260280"/>
            <a:ext cx="1258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130560" y="4940280"/>
            <a:ext cx="3170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℃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3130560" y="5732640"/>
            <a:ext cx="331308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203640" y="2492280"/>
            <a:ext cx="23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5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3203640" y="3284640"/>
            <a:ext cx="24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3640" y="4005360"/>
            <a:ext cx="2305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7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1" descr=""/>
          <p:cNvPicPr/>
          <p:nvPr/>
        </p:nvPicPr>
        <p:blipFill>
          <a:blip r:embed="rId2"/>
          <a:srcRect l="11985" t="43122" r="0" b="0"/>
          <a:stretch/>
        </p:blipFill>
        <p:spPr>
          <a:xfrm>
            <a:off x="539640" y="2494080"/>
            <a:ext cx="2519640" cy="2374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3"/>
          <p:cNvSpPr/>
          <p:nvPr/>
        </p:nvSpPr>
        <p:spPr>
          <a:xfrm>
            <a:off x="611280" y="907920"/>
            <a:ext cx="619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我国部分城市天气预报，以下城市的温差 （最高气温减最低气温）是多少？（单位： ℃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7020000" y="523800"/>
            <a:ext cx="1728720" cy="5997600"/>
            <a:chOff x="7020000" y="523800"/>
            <a:chExt cx="1728720" cy="5997600"/>
          </a:xfrm>
        </p:grpSpPr>
        <p:sp>
          <p:nvSpPr>
            <p:cNvPr id="190" name="Line 25"/>
            <p:cNvSpPr/>
            <p:nvPr/>
          </p:nvSpPr>
          <p:spPr>
            <a:xfrm>
              <a:off x="8169480" y="1139760"/>
              <a:ext cx="0" cy="538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6"/>
            <p:cNvSpPr/>
            <p:nvPr/>
          </p:nvSpPr>
          <p:spPr>
            <a:xfrm>
              <a:off x="7991640" y="122868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7"/>
            <p:cNvSpPr/>
            <p:nvPr/>
          </p:nvSpPr>
          <p:spPr>
            <a:xfrm>
              <a:off x="7988400" y="1628640"/>
              <a:ext cx="1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8"/>
            <p:cNvSpPr/>
            <p:nvPr/>
          </p:nvSpPr>
          <p:spPr>
            <a:xfrm>
              <a:off x="7991640" y="206064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>
              <a:off x="7991640" y="249228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0"/>
            <p:cNvSpPr/>
            <p:nvPr/>
          </p:nvSpPr>
          <p:spPr>
            <a:xfrm>
              <a:off x="7991640" y="292428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 flipV="1">
              <a:off x="7631280" y="3357720"/>
              <a:ext cx="5396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7991640" y="422100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33"/>
            <p:cNvSpPr/>
            <p:nvPr/>
          </p:nvSpPr>
          <p:spPr>
            <a:xfrm>
              <a:off x="7991640" y="378936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988400" y="4653000"/>
              <a:ext cx="1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7991640" y="508464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6"/>
            <p:cNvSpPr/>
            <p:nvPr/>
          </p:nvSpPr>
          <p:spPr>
            <a:xfrm>
              <a:off x="7991640" y="5516640"/>
              <a:ext cx="17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37"/>
            <p:cNvSpPr/>
            <p:nvPr/>
          </p:nvSpPr>
          <p:spPr>
            <a:xfrm>
              <a:off x="7182000" y="105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7182000" y="31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39"/>
            <p:cNvSpPr/>
            <p:nvPr/>
          </p:nvSpPr>
          <p:spPr>
            <a:xfrm>
              <a:off x="7182000" y="22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18200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41"/>
            <p:cNvSpPr/>
            <p:nvPr/>
          </p:nvSpPr>
          <p:spPr>
            <a:xfrm>
              <a:off x="7182000" y="141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718200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43"/>
            <p:cNvSpPr/>
            <p:nvPr/>
          </p:nvSpPr>
          <p:spPr>
            <a:xfrm>
              <a:off x="7091640" y="40053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44"/>
            <p:cNvSpPr/>
            <p:nvPr/>
          </p:nvSpPr>
          <p:spPr>
            <a:xfrm>
              <a:off x="7093080" y="356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45"/>
            <p:cNvSpPr/>
            <p:nvPr/>
          </p:nvSpPr>
          <p:spPr>
            <a:xfrm>
              <a:off x="7093080" y="494172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6"/>
            <p:cNvSpPr/>
            <p:nvPr/>
          </p:nvSpPr>
          <p:spPr>
            <a:xfrm>
              <a:off x="7093080" y="45021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7"/>
            <p:cNvSpPr/>
            <p:nvPr/>
          </p:nvSpPr>
          <p:spPr>
            <a:xfrm>
              <a:off x="7093080" y="5300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49"/>
            <p:cNvSpPr/>
            <p:nvPr/>
          </p:nvSpPr>
          <p:spPr>
            <a:xfrm>
              <a:off x="7020000" y="5238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单位： 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0"/>
            <p:cNvSpPr/>
            <p:nvPr/>
          </p:nvSpPr>
          <p:spPr>
            <a:xfrm>
              <a:off x="7993080" y="595008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1"/>
            <p:cNvSpPr/>
            <p:nvPr/>
          </p:nvSpPr>
          <p:spPr>
            <a:xfrm>
              <a:off x="7993080" y="638172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53"/>
            <p:cNvSpPr/>
            <p:nvPr/>
          </p:nvSpPr>
          <p:spPr>
            <a:xfrm>
              <a:off x="7091640" y="57276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54"/>
            <p:cNvSpPr/>
            <p:nvPr/>
          </p:nvSpPr>
          <p:spPr>
            <a:xfrm>
              <a:off x="7091640" y="6093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Freeform 86"/>
          <p:cNvSpPr/>
          <p:nvPr/>
        </p:nvSpPr>
        <p:spPr>
          <a:xfrm flipH="1" rot="16233000">
            <a:off x="8120880" y="5598360"/>
            <a:ext cx="358560" cy="287280"/>
          </a:xfrm>
          <a:custGeom>
            <a:avLst/>
            <a:gdLst>
              <a:gd name="textAreaLeft" fmla="*/ 360 w 358560"/>
              <a:gd name="textAreaRight" fmla="*/ 359280 w 358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87"/>
          <p:cNvSpPr/>
          <p:nvPr/>
        </p:nvSpPr>
        <p:spPr>
          <a:xfrm flipH="1" rot="16233000">
            <a:off x="8136360" y="5120280"/>
            <a:ext cx="358920" cy="28728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88"/>
          <p:cNvSpPr/>
          <p:nvPr/>
        </p:nvSpPr>
        <p:spPr>
          <a:xfrm flipH="1" rot="16233000">
            <a:off x="8136720" y="4688640"/>
            <a:ext cx="358560" cy="287280"/>
          </a:xfrm>
          <a:custGeom>
            <a:avLst/>
            <a:gdLst>
              <a:gd name="textAreaLeft" fmla="*/ 360 w 358560"/>
              <a:gd name="textAreaRight" fmla="*/ 359280 w 358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89"/>
          <p:cNvSpPr/>
          <p:nvPr/>
        </p:nvSpPr>
        <p:spPr>
          <a:xfrm flipH="1" rot="16233000">
            <a:off x="8136360" y="4256640"/>
            <a:ext cx="358920" cy="28728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90"/>
          <p:cNvSpPr/>
          <p:nvPr/>
        </p:nvSpPr>
        <p:spPr>
          <a:xfrm flipH="1" rot="16233000">
            <a:off x="8136360" y="3825000"/>
            <a:ext cx="358920" cy="28728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91"/>
          <p:cNvSpPr/>
          <p:nvPr/>
        </p:nvSpPr>
        <p:spPr>
          <a:xfrm flipH="1" rot="16233000">
            <a:off x="8132400" y="3393000"/>
            <a:ext cx="358560" cy="287640"/>
          </a:xfrm>
          <a:custGeom>
            <a:avLst/>
            <a:gdLst>
              <a:gd name="textAreaLeft" fmla="*/ 360 w 358560"/>
              <a:gd name="textAreaRight" fmla="*/ 359280 w 3585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92"/>
          <p:cNvSpPr/>
          <p:nvPr/>
        </p:nvSpPr>
        <p:spPr>
          <a:xfrm flipH="1" rot="16233000">
            <a:off x="8136720" y="2959920"/>
            <a:ext cx="358560" cy="287280"/>
          </a:xfrm>
          <a:custGeom>
            <a:avLst/>
            <a:gdLst>
              <a:gd name="textAreaLeft" fmla="*/ 360 w 358560"/>
              <a:gd name="textAreaRight" fmla="*/ 359280 w 358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93"/>
          <p:cNvSpPr/>
          <p:nvPr/>
        </p:nvSpPr>
        <p:spPr>
          <a:xfrm flipH="1" rot="16233000">
            <a:off x="8136360" y="2527920"/>
            <a:ext cx="358920" cy="28728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94"/>
          <p:cNvSpPr/>
          <p:nvPr/>
        </p:nvSpPr>
        <p:spPr>
          <a:xfrm flipH="1" rot="16233000">
            <a:off x="8136720" y="2096280"/>
            <a:ext cx="358560" cy="287280"/>
          </a:xfrm>
          <a:custGeom>
            <a:avLst/>
            <a:gdLst>
              <a:gd name="textAreaLeft" fmla="*/ 360 w 358560"/>
              <a:gd name="textAreaRight" fmla="*/ 359280 w 358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95"/>
          <p:cNvSpPr/>
          <p:nvPr/>
        </p:nvSpPr>
        <p:spPr>
          <a:xfrm flipH="1" rot="16233000">
            <a:off x="8136360" y="1664280"/>
            <a:ext cx="358920" cy="28728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96"/>
          <p:cNvSpPr/>
          <p:nvPr/>
        </p:nvSpPr>
        <p:spPr>
          <a:xfrm flipH="1" rot="16233000">
            <a:off x="8136360" y="1303920"/>
            <a:ext cx="358920" cy="28728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133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5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159123_321213"/>
          <p:cNvPicPr/>
          <p:nvPr/>
        </p:nvPicPr>
        <p:blipFill>
          <a:blip r:embed="rId2"/>
          <a:srcRect l="0" t="0" r="-671" b="2811"/>
          <a:stretch/>
        </p:blipFill>
        <p:spPr>
          <a:xfrm>
            <a:off x="1332000" y="3573360"/>
            <a:ext cx="1985760" cy="2835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20056721415243"/>
          <p:cNvPicPr/>
          <p:nvPr/>
        </p:nvPicPr>
        <p:blipFill>
          <a:blip r:embed="rId3"/>
          <a:stretch/>
        </p:blipFill>
        <p:spPr>
          <a:xfrm>
            <a:off x="3780000" y="692280"/>
            <a:ext cx="4464000" cy="31017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3780000" y="400536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刘翔在第十届世界田径锦标赛半决赛中，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栏的成绩是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3.4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，当时赛场风速为每秒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0.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4360" y="134136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179280" y="836640"/>
            <a:ext cx="3240360" cy="1368360"/>
            <a:chOff x="179280" y="836640"/>
            <a:chExt cx="3240360" cy="1368360"/>
          </a:xfrm>
        </p:grpSpPr>
        <p:sp>
          <p:nvSpPr>
            <p:cNvPr id="235" name="AutoShape 8"/>
            <p:cNvSpPr/>
            <p:nvPr/>
          </p:nvSpPr>
          <p:spPr>
            <a:xfrm>
              <a:off x="179280" y="836640"/>
              <a:ext cx="3240360" cy="1368360"/>
            </a:xfrm>
            <a:prstGeom prst="wedgeEllipseCallout">
              <a:avLst>
                <a:gd name="adj1" fmla="val 17273"/>
                <a:gd name="adj2" fmla="val 139675"/>
              </a:avLst>
            </a:prstGeom>
            <a:solidFill>
              <a:srgbClr val="cc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539640" y="126540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讨论：风速怎么会有负的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4%A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41"/>
          <p:cNvPicPr/>
          <p:nvPr/>
        </p:nvPicPr>
        <p:blipFill>
          <a:blip r:embed="rId1"/>
          <a:stretch/>
        </p:blipFill>
        <p:spPr>
          <a:xfrm>
            <a:off x="179280" y="620640"/>
            <a:ext cx="8790120" cy="5900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900000" y="1197000"/>
            <a:ext cx="20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玉山最高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海拔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950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0" y="1557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玉山最高峰是海平面以上（    ）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859280" y="3933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台湾海峡最深处是海平面以（    ）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00000" y="3886200"/>
            <a:ext cx="3748320" cy="16002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900000" y="3860640"/>
            <a:ext cx="3748320" cy="25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411280" y="4292640"/>
            <a:ext cx="266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台湾海峡最深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海拔：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23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116000" y="321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海平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258920" y="39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大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059280" y="3284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陆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2"/>
          <p:cNvSpPr/>
          <p:nvPr/>
        </p:nvSpPr>
        <p:spPr>
          <a:xfrm>
            <a:off x="1116000" y="1676520"/>
            <a:ext cx="3600360" cy="353052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530520"/>
              <a:gd name="textAreaBottom" fmla="*/ 3530880 h 3530520"/>
            </a:gdLst>
            <a:ahLst/>
            <a:rect l="textAreaLeft" t="textAreaTop" r="textAreaRight" b="textAreaBottom"/>
            <a:pathLst>
              <a:path w="2652" h="2224">
                <a:moveTo>
                  <a:pt x="0" y="1594"/>
                </a:moveTo>
                <a:cubicBezTo>
                  <a:pt x="32" y="1602"/>
                  <a:pt x="71" y="1598"/>
                  <a:pt x="94" y="1621"/>
                </a:cubicBezTo>
                <a:cubicBezTo>
                  <a:pt x="104" y="1631"/>
                  <a:pt x="98" y="1650"/>
                  <a:pt x="107" y="1661"/>
                </a:cubicBezTo>
                <a:cubicBezTo>
                  <a:pt x="117" y="1674"/>
                  <a:pt x="134" y="1679"/>
                  <a:pt x="147" y="1688"/>
                </a:cubicBezTo>
                <a:cubicBezTo>
                  <a:pt x="203" y="1771"/>
                  <a:pt x="249" y="1835"/>
                  <a:pt x="281" y="1929"/>
                </a:cubicBezTo>
                <a:cubicBezTo>
                  <a:pt x="291" y="1960"/>
                  <a:pt x="335" y="2010"/>
                  <a:pt x="335" y="2010"/>
                </a:cubicBezTo>
                <a:cubicBezTo>
                  <a:pt x="352" y="2063"/>
                  <a:pt x="389" y="2140"/>
                  <a:pt x="442" y="2170"/>
                </a:cubicBezTo>
                <a:cubicBezTo>
                  <a:pt x="498" y="2202"/>
                  <a:pt x="580" y="2213"/>
                  <a:pt x="643" y="2224"/>
                </a:cubicBezTo>
                <a:cubicBezTo>
                  <a:pt x="688" y="2219"/>
                  <a:pt x="733" y="2217"/>
                  <a:pt x="777" y="2210"/>
                </a:cubicBezTo>
                <a:cubicBezTo>
                  <a:pt x="791" y="2208"/>
                  <a:pt x="807" y="2207"/>
                  <a:pt x="817" y="2197"/>
                </a:cubicBezTo>
                <a:cubicBezTo>
                  <a:pt x="853" y="2161"/>
                  <a:pt x="875" y="2112"/>
                  <a:pt x="911" y="2076"/>
                </a:cubicBezTo>
                <a:cubicBezTo>
                  <a:pt x="928" y="2005"/>
                  <a:pt x="925" y="1995"/>
                  <a:pt x="978" y="1943"/>
                </a:cubicBezTo>
                <a:cubicBezTo>
                  <a:pt x="1011" y="1841"/>
                  <a:pt x="987" y="1884"/>
                  <a:pt x="1045" y="1809"/>
                </a:cubicBezTo>
                <a:cubicBezTo>
                  <a:pt x="1069" y="1733"/>
                  <a:pt x="1103" y="1678"/>
                  <a:pt x="1138" y="1608"/>
                </a:cubicBezTo>
                <a:cubicBezTo>
                  <a:pt x="1189" y="1504"/>
                  <a:pt x="1108" y="1632"/>
                  <a:pt x="1179" y="1527"/>
                </a:cubicBezTo>
                <a:cubicBezTo>
                  <a:pt x="1212" y="1425"/>
                  <a:pt x="1261" y="1319"/>
                  <a:pt x="1326" y="1233"/>
                </a:cubicBezTo>
                <a:cubicBezTo>
                  <a:pt x="1358" y="1137"/>
                  <a:pt x="1337" y="1176"/>
                  <a:pt x="1379" y="1112"/>
                </a:cubicBezTo>
                <a:cubicBezTo>
                  <a:pt x="1418" y="960"/>
                  <a:pt x="1364" y="1144"/>
                  <a:pt x="1420" y="1018"/>
                </a:cubicBezTo>
                <a:cubicBezTo>
                  <a:pt x="1483" y="875"/>
                  <a:pt x="1412" y="989"/>
                  <a:pt x="1473" y="898"/>
                </a:cubicBezTo>
                <a:cubicBezTo>
                  <a:pt x="1487" y="833"/>
                  <a:pt x="1506" y="786"/>
                  <a:pt x="1527" y="724"/>
                </a:cubicBezTo>
                <a:cubicBezTo>
                  <a:pt x="1547" y="662"/>
                  <a:pt x="1537" y="649"/>
                  <a:pt x="1554" y="576"/>
                </a:cubicBezTo>
                <a:cubicBezTo>
                  <a:pt x="1570" y="505"/>
                  <a:pt x="1608" y="435"/>
                  <a:pt x="1647" y="375"/>
                </a:cubicBezTo>
                <a:cubicBezTo>
                  <a:pt x="1670" y="289"/>
                  <a:pt x="1718" y="208"/>
                  <a:pt x="1768" y="134"/>
                </a:cubicBezTo>
                <a:cubicBezTo>
                  <a:pt x="1792" y="63"/>
                  <a:pt x="1788" y="26"/>
                  <a:pt x="1862" y="0"/>
                </a:cubicBezTo>
                <a:cubicBezTo>
                  <a:pt x="1924" y="22"/>
                  <a:pt x="1987" y="33"/>
                  <a:pt x="2049" y="54"/>
                </a:cubicBezTo>
                <a:cubicBezTo>
                  <a:pt x="2062" y="58"/>
                  <a:pt x="2089" y="67"/>
                  <a:pt x="2089" y="67"/>
                </a:cubicBezTo>
                <a:cubicBezTo>
                  <a:pt x="2210" y="147"/>
                  <a:pt x="2216" y="301"/>
                  <a:pt x="2290" y="415"/>
                </a:cubicBezTo>
                <a:cubicBezTo>
                  <a:pt x="2313" y="548"/>
                  <a:pt x="2305" y="685"/>
                  <a:pt x="2331" y="817"/>
                </a:cubicBezTo>
                <a:cubicBezTo>
                  <a:pt x="2349" y="908"/>
                  <a:pt x="2376" y="995"/>
                  <a:pt x="2398" y="1085"/>
                </a:cubicBezTo>
                <a:cubicBezTo>
                  <a:pt x="2400" y="1092"/>
                  <a:pt x="2416" y="1167"/>
                  <a:pt x="2424" y="1179"/>
                </a:cubicBezTo>
                <a:cubicBezTo>
                  <a:pt x="2460" y="1233"/>
                  <a:pt x="2583" y="1273"/>
                  <a:pt x="2652" y="12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2484360" y="83664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课小结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050920" y="2852640"/>
            <a:ext cx="504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本节课我们主要学习了正负数，同学们要理解为什么会有负数，能够运用我们学习的知识解释生活中常用的一些负数的含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3132000" y="907920"/>
            <a:ext cx="30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908000" y="2781360"/>
            <a:ext cx="540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本节课我们来学习正负数，同学们结合日常生活中的一些实际的例子来理解负数的概念，能够运用本节课学习的知识解释生活中的一些负数的含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3"/>
          <p:cNvGraphicFramePr/>
          <p:nvPr/>
        </p:nvGraphicFramePr>
        <p:xfrm>
          <a:off x="1332000" y="2637000"/>
          <a:ext cx="691200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637000"/>
                    <a:ext cx="691200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WordArt 4"/>
          <p:cNvSpPr txBox="1"/>
          <p:nvPr/>
        </p:nvSpPr>
        <p:spPr>
          <a:xfrm>
            <a:off x="1258920" y="765000"/>
            <a:ext cx="64944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天气预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5437080" y="522360"/>
            <a:ext cx="1079280" cy="5573160"/>
            <a:chOff x="5437080" y="522360"/>
            <a:chExt cx="1079280" cy="5573160"/>
          </a:xfrm>
        </p:grpSpPr>
        <p:sp>
          <p:nvSpPr>
            <p:cNvPr id="46" name="Line 3"/>
            <p:cNvSpPr/>
            <p:nvPr/>
          </p:nvSpPr>
          <p:spPr>
            <a:xfrm>
              <a:off x="6514560" y="609480"/>
              <a:ext cx="0" cy="538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Line 4"/>
            <p:cNvSpPr/>
            <p:nvPr/>
          </p:nvSpPr>
          <p:spPr>
            <a:xfrm>
              <a:off x="6336720" y="69912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6334560" y="1227960"/>
              <a:ext cx="18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6336720" y="175716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>
              <a:off x="6336720" y="228600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6336720" y="281556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5976720" y="3344400"/>
              <a:ext cx="539640" cy="2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6336720" y="440424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6336720" y="387540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6334560" y="4933440"/>
              <a:ext cx="18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6336720" y="546228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6336720" y="5904000"/>
              <a:ext cx="1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5527800" y="522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5527800" y="3161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5527800" y="21092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552780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5527800" y="10512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5527800" y="15804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21"/>
            <p:cNvSpPr/>
            <p:nvPr/>
          </p:nvSpPr>
          <p:spPr>
            <a:xfrm>
              <a:off x="5437080" y="42274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22"/>
            <p:cNvSpPr/>
            <p:nvPr/>
          </p:nvSpPr>
          <p:spPr>
            <a:xfrm>
              <a:off x="5439240" y="36907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23"/>
            <p:cNvSpPr/>
            <p:nvPr/>
          </p:nvSpPr>
          <p:spPr>
            <a:xfrm>
              <a:off x="5439240" y="5285520"/>
              <a:ext cx="62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4"/>
            <p:cNvSpPr/>
            <p:nvPr/>
          </p:nvSpPr>
          <p:spPr>
            <a:xfrm>
              <a:off x="5439240" y="48456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5"/>
            <p:cNvSpPr/>
            <p:nvPr/>
          </p:nvSpPr>
          <p:spPr>
            <a:xfrm>
              <a:off x="5439240" y="57272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26"/>
          <p:cNvSpPr/>
          <p:nvPr/>
        </p:nvSpPr>
        <p:spPr>
          <a:xfrm>
            <a:off x="3421080" y="1413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正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492360" y="4581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负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29"/>
          <p:cNvSpPr/>
          <p:nvPr/>
        </p:nvSpPr>
        <p:spPr>
          <a:xfrm>
            <a:off x="4871880" y="404640"/>
            <a:ext cx="420840" cy="2953080"/>
          </a:xfrm>
          <a:custGeom>
            <a:avLst/>
            <a:gdLst>
              <a:gd name="textAreaLeft" fmla="*/ 0 w 420840"/>
              <a:gd name="textAreaRight" fmla="*/ 421200 w 420840"/>
              <a:gd name="textAreaTop" fmla="*/ 0 h 2953080"/>
              <a:gd name="textAreaBottom" fmla="*/ 2953440 h 2953080"/>
            </a:gdLst>
            <a:ahLst/>
            <a:rect l="textAreaLeft" t="textAreaTop" r="textAreaRight" b="textAreaBottom"/>
            <a:pathLst>
              <a:path w="265" h="1860">
                <a:moveTo>
                  <a:pt x="265" y="1860"/>
                </a:moveTo>
                <a:cubicBezTo>
                  <a:pt x="170" y="1678"/>
                  <a:pt x="76" y="1497"/>
                  <a:pt x="38" y="1270"/>
                </a:cubicBezTo>
                <a:cubicBezTo>
                  <a:pt x="0" y="1043"/>
                  <a:pt x="30" y="711"/>
                  <a:pt x="38" y="499"/>
                </a:cubicBezTo>
                <a:cubicBezTo>
                  <a:pt x="46" y="287"/>
                  <a:pt x="65" y="143"/>
                  <a:pt x="84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30"/>
          <p:cNvSpPr/>
          <p:nvPr/>
        </p:nvSpPr>
        <p:spPr>
          <a:xfrm flipV="1">
            <a:off x="4871880" y="3428280"/>
            <a:ext cx="420840" cy="2592360"/>
          </a:xfrm>
          <a:custGeom>
            <a:avLst/>
            <a:gdLst>
              <a:gd name="textAreaLeft" fmla="*/ 0 w 420840"/>
              <a:gd name="textAreaRight" fmla="*/ 421200 w 420840"/>
              <a:gd name="textAreaTop" fmla="*/ -360 h 2592360"/>
              <a:gd name="textAreaBottom" fmla="*/ 2592360 h 2592360"/>
            </a:gdLst>
            <a:ahLst/>
            <a:rect l="textAreaLeft" t="textAreaTop" r="textAreaRight" b="textAreaBottom"/>
            <a:pathLst>
              <a:path w="265" h="1860">
                <a:moveTo>
                  <a:pt x="265" y="1860"/>
                </a:moveTo>
                <a:cubicBezTo>
                  <a:pt x="170" y="1678"/>
                  <a:pt x="76" y="1497"/>
                  <a:pt x="38" y="1270"/>
                </a:cubicBezTo>
                <a:cubicBezTo>
                  <a:pt x="0" y="1043"/>
                  <a:pt x="30" y="711"/>
                  <a:pt x="38" y="499"/>
                </a:cubicBezTo>
                <a:cubicBezTo>
                  <a:pt x="46" y="287"/>
                  <a:pt x="65" y="143"/>
                  <a:pt x="84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5"/>
          <p:cNvSpPr/>
          <p:nvPr/>
        </p:nvSpPr>
        <p:spPr>
          <a:xfrm>
            <a:off x="755640" y="292428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既不是正数也不是负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3527280" cy="9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记分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26920" y="2997000"/>
            <a:ext cx="48243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胜一局，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  局，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负一局，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916360" y="5493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检查宇航员的体重控制情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表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宇航员的体重记录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708360" y="242100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479760" y="1611360"/>
          <a:ext cx="5075280" cy="1569960"/>
        </p:xfrm>
        <a:graphic>
          <a:graphicData uri="http://schemas.openxmlformats.org/drawingml/2006/table">
            <a:tbl>
              <a:tblPr/>
              <a:tblGrid>
                <a:gridCol w="1162080"/>
                <a:gridCol w="843120"/>
                <a:gridCol w="711000"/>
                <a:gridCol w="774720"/>
                <a:gridCol w="777960"/>
                <a:gridCol w="80640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标准体重多多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公斤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8"/>
          <p:cNvSpPr/>
          <p:nvPr/>
        </p:nvSpPr>
        <p:spPr>
          <a:xfrm>
            <a:off x="900000" y="3789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宇航员与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宇航员的总体重是多少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宇航员与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971640" y="4941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宇航员的总体重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7236000" y="38606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公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4643280" y="4365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8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5435640" y="50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公斤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539640" y="1052640"/>
            <a:ext cx="2087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宇航员标准体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 flipH="1">
            <a:off x="539640" y="2565360"/>
            <a:ext cx="7632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87" name="Line 4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5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3352320" y="1844640"/>
            <a:ext cx="1508760" cy="2808360"/>
            <a:chOff x="3352320" y="1844640"/>
            <a:chExt cx="1508760" cy="2808360"/>
          </a:xfrm>
        </p:grpSpPr>
        <p:sp>
          <p:nvSpPr>
            <p:cNvPr id="91" name="Line 8"/>
            <p:cNvSpPr/>
            <p:nvPr/>
          </p:nvSpPr>
          <p:spPr>
            <a:xfrm>
              <a:off x="4641840" y="2349360"/>
              <a:ext cx="0" cy="1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3583080" y="2382840"/>
              <a:ext cx="0" cy="1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50072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3384720" y="1844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335232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进入太空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440640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修正航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2822040" y="1844640"/>
            <a:ext cx="2613600" cy="2808360"/>
            <a:chOff x="2822040" y="1844640"/>
            <a:chExt cx="2613600" cy="2808360"/>
          </a:xfrm>
        </p:grpSpPr>
        <p:sp>
          <p:nvSpPr>
            <p:cNvPr id="98" name="Line 15"/>
            <p:cNvSpPr/>
            <p:nvPr/>
          </p:nvSpPr>
          <p:spPr>
            <a:xfrm>
              <a:off x="5172120" y="2349360"/>
              <a:ext cx="0" cy="1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3052800" y="2382840"/>
              <a:ext cx="0" cy="1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500364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2843280" y="1844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282204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穿太空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498096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进餐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2272680" y="1838160"/>
            <a:ext cx="3667680" cy="2814840"/>
            <a:chOff x="2272680" y="1838160"/>
            <a:chExt cx="3667680" cy="2814840"/>
          </a:xfrm>
        </p:grpSpPr>
        <p:sp>
          <p:nvSpPr>
            <p:cNvPr id="105" name="Line 22"/>
            <p:cNvSpPr/>
            <p:nvPr/>
          </p:nvSpPr>
          <p:spPr>
            <a:xfrm>
              <a:off x="5700600" y="2349360"/>
              <a:ext cx="0" cy="1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3"/>
            <p:cNvSpPr/>
            <p:nvPr/>
          </p:nvSpPr>
          <p:spPr>
            <a:xfrm>
              <a:off x="2523960" y="2379600"/>
              <a:ext cx="0" cy="18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>
              <a:off x="5508720" y="1838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303640" y="1844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27268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进餐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548568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拍摄资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28"/>
          <p:cNvGrpSpPr/>
          <p:nvPr/>
        </p:nvGrpSpPr>
        <p:grpSpPr>
          <a:xfrm>
            <a:off x="1767960" y="1844640"/>
            <a:ext cx="4702680" cy="2808360"/>
            <a:chOff x="1767960" y="1844640"/>
            <a:chExt cx="4702680" cy="2808360"/>
          </a:xfrm>
        </p:grpSpPr>
        <p:sp>
          <p:nvSpPr>
            <p:cNvPr id="112" name="Line 29"/>
            <p:cNvSpPr/>
            <p:nvPr/>
          </p:nvSpPr>
          <p:spPr>
            <a:xfrm>
              <a:off x="6227640" y="2349360"/>
              <a:ext cx="0" cy="18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0"/>
            <p:cNvSpPr/>
            <p:nvPr/>
          </p:nvSpPr>
          <p:spPr>
            <a:xfrm>
              <a:off x="1995480" y="2382840"/>
              <a:ext cx="0" cy="1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608328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32"/>
            <p:cNvSpPr/>
            <p:nvPr/>
          </p:nvSpPr>
          <p:spPr>
            <a:xfrm>
              <a:off x="1782720" y="184464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33"/>
            <p:cNvSpPr/>
            <p:nvPr/>
          </p:nvSpPr>
          <p:spPr>
            <a:xfrm>
              <a:off x="176796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接受命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601596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做太空实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35"/>
          <p:cNvGrpSpPr/>
          <p:nvPr/>
        </p:nvGrpSpPr>
        <p:grpSpPr>
          <a:xfrm>
            <a:off x="1224000" y="1836720"/>
            <a:ext cx="5751360" cy="2816280"/>
            <a:chOff x="1224000" y="1836720"/>
            <a:chExt cx="5751360" cy="2816280"/>
          </a:xfrm>
        </p:grpSpPr>
        <p:sp>
          <p:nvSpPr>
            <p:cNvPr id="119" name="Line 36"/>
            <p:cNvSpPr/>
            <p:nvPr/>
          </p:nvSpPr>
          <p:spPr>
            <a:xfrm>
              <a:off x="6759720" y="2349360"/>
              <a:ext cx="0" cy="1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1476360" y="2382840"/>
              <a:ext cx="0" cy="1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6588000" y="1836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1224000" y="1844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40"/>
            <p:cNvSpPr/>
            <p:nvPr/>
          </p:nvSpPr>
          <p:spPr>
            <a:xfrm>
              <a:off x="123768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全体集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41"/>
            <p:cNvSpPr/>
            <p:nvPr/>
          </p:nvSpPr>
          <p:spPr>
            <a:xfrm>
              <a:off x="652068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睡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42"/>
          <p:cNvGrpSpPr/>
          <p:nvPr/>
        </p:nvGrpSpPr>
        <p:grpSpPr>
          <a:xfrm>
            <a:off x="7070040" y="1844640"/>
            <a:ext cx="454680" cy="2808360"/>
            <a:chOff x="7070040" y="1844640"/>
            <a:chExt cx="454680" cy="2808360"/>
          </a:xfrm>
        </p:grpSpPr>
        <p:sp>
          <p:nvSpPr>
            <p:cNvPr id="126" name="Line 43"/>
            <p:cNvSpPr/>
            <p:nvPr/>
          </p:nvSpPr>
          <p:spPr>
            <a:xfrm>
              <a:off x="7308720" y="2349360"/>
              <a:ext cx="0" cy="1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44"/>
            <p:cNvSpPr/>
            <p:nvPr/>
          </p:nvSpPr>
          <p:spPr>
            <a:xfrm>
              <a:off x="716436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45"/>
            <p:cNvSpPr/>
            <p:nvPr/>
          </p:nvSpPr>
          <p:spPr>
            <a:xfrm>
              <a:off x="707004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检查身体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Group 46"/>
          <p:cNvGrpSpPr/>
          <p:nvPr/>
        </p:nvGrpSpPr>
        <p:grpSpPr>
          <a:xfrm>
            <a:off x="7600320" y="1844640"/>
            <a:ext cx="454680" cy="2808360"/>
            <a:chOff x="7600320" y="1844640"/>
            <a:chExt cx="454680" cy="2808360"/>
          </a:xfrm>
        </p:grpSpPr>
        <p:sp>
          <p:nvSpPr>
            <p:cNvPr id="130" name="Line 47"/>
            <p:cNvSpPr/>
            <p:nvPr/>
          </p:nvSpPr>
          <p:spPr>
            <a:xfrm>
              <a:off x="7812000" y="2349360"/>
              <a:ext cx="0" cy="1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766908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49"/>
            <p:cNvSpPr/>
            <p:nvPr/>
          </p:nvSpPr>
          <p:spPr>
            <a:xfrm>
              <a:off x="7600320" y="2925720"/>
              <a:ext cx="4546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准备返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50"/>
          <p:cNvSpPr/>
          <p:nvPr/>
        </p:nvSpPr>
        <p:spPr>
          <a:xfrm>
            <a:off x="2914560" y="54936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太空人模拟训练时间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1332000" y="45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太空人什么时候穿上太空衣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表示什么意思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1546200" y="522936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一说太空人的活动安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1690560" y="5877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太空人两餐之间相隔多长时间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Freeform 54"/>
          <p:cNvSpPr/>
          <p:nvPr/>
        </p:nvSpPr>
        <p:spPr>
          <a:xfrm>
            <a:off x="2516040" y="2565360"/>
            <a:ext cx="505080" cy="144360"/>
          </a:xfrm>
          <a:custGeom>
            <a:avLst/>
            <a:gdLst>
              <a:gd name="textAreaLeft" fmla="*/ 0 w 505080"/>
              <a:gd name="textAreaRight" fmla="*/ 505440 w 5050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55"/>
          <p:cNvSpPr/>
          <p:nvPr/>
        </p:nvSpPr>
        <p:spPr>
          <a:xfrm>
            <a:off x="3059280" y="25765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reeform 56"/>
          <p:cNvSpPr/>
          <p:nvPr/>
        </p:nvSpPr>
        <p:spPr>
          <a:xfrm>
            <a:off x="3591000" y="259236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57"/>
          <p:cNvSpPr/>
          <p:nvPr/>
        </p:nvSpPr>
        <p:spPr>
          <a:xfrm>
            <a:off x="4140360" y="25909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58"/>
          <p:cNvSpPr/>
          <p:nvPr/>
        </p:nvSpPr>
        <p:spPr>
          <a:xfrm>
            <a:off x="4645080" y="256536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63" h="91">
                <a:moveTo>
                  <a:pt x="0" y="0"/>
                </a:moveTo>
                <a:cubicBezTo>
                  <a:pt x="60" y="45"/>
                  <a:pt x="121" y="91"/>
                  <a:pt x="181" y="91"/>
                </a:cubicBezTo>
                <a:cubicBezTo>
                  <a:pt x="241" y="91"/>
                  <a:pt x="302" y="45"/>
                  <a:pt x="363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8176680" y="2421000"/>
            <a:ext cx="454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60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44" name="Line 61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64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48" name="Line 65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67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Group 68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52" name="Line 69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70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71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72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56" name="Line 73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4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75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76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60" name="Line 77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78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79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80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64" name="Line 81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82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3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84"/>
          <p:cNvGrpSpPr/>
          <p:nvPr/>
        </p:nvGrpSpPr>
        <p:grpSpPr>
          <a:xfrm>
            <a:off x="3872160" y="1557360"/>
            <a:ext cx="555120" cy="3095640"/>
            <a:chOff x="3872160" y="1557360"/>
            <a:chExt cx="555120" cy="3095640"/>
          </a:xfrm>
        </p:grpSpPr>
        <p:sp>
          <p:nvSpPr>
            <p:cNvPr id="168" name="Line 85"/>
            <p:cNvSpPr/>
            <p:nvPr/>
          </p:nvSpPr>
          <p:spPr>
            <a:xfrm>
              <a:off x="4111560" y="2021760"/>
              <a:ext cx="1440" cy="53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86"/>
            <p:cNvSpPr/>
            <p:nvPr/>
          </p:nvSpPr>
          <p:spPr>
            <a:xfrm>
              <a:off x="3924000" y="1557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87"/>
            <p:cNvSpPr/>
            <p:nvPr/>
          </p:nvSpPr>
          <p:spPr>
            <a:xfrm>
              <a:off x="3872160" y="2925720"/>
              <a:ext cx="48528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发射火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71640" y="1268280"/>
            <a:ext cx="6624720" cy="474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练一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梯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楼下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楼，经过了（   ）层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在银行存入２０００元的存单，用（      ）来表示，那么支出１００元表示为（  　），存单上还剩（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8172360" y="1268280"/>
            <a:ext cx="184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132000" y="4005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+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364000" y="44370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-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85128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+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87708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395280" y="1052640"/>
            <a:ext cx="2232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68360" y="1844640"/>
            <a:ext cx="7993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村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水稻实验田，每块实验田今年的收成与去年相比情况如下（增产为正，减产为负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年水稻实验田的总产量与去年相比情况如何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2987640" y="4724280"/>
            <a:ext cx="295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增产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3:04:56Z</dcterms:created>
  <dc:creator>asus</dc:creator>
  <dc:description/>
  <dc:language>en-US</dc:language>
  <cp:lastModifiedBy>Administrator</cp:lastModifiedBy>
  <dcterms:modified xsi:type="dcterms:W3CDTF">2017-10-23T10:52:07Z</dcterms:modified>
  <cp:revision>30</cp:revision>
  <dc:subject/>
  <dc:title>（三）在尊重差异的学科教学中培养求异思维,塑造良好的个性品质  学科组 组长：张慧 组员：刘亦婷、伊健、杨晓文、唐娟、王欣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