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8.jpeg" ContentType="image/jpeg"/>
  <Override PartName="/ppt/media/image10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chimes.wav" ContentType="audio/x-wav"/>
  <Override PartName="/ppt/media/image18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13.jpeg" ContentType="image/jpeg"/>
  <Override PartName="/ppt/media/image12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suction.wav" ContentType="audio/x-wav"/>
  <Override PartName="/ppt/media/CHIMES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AC9-722F-44FB-99F6-8C8FDAC0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C4B-2E39-4EC5-B6D1-A258AAE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329-B06A-49DC-935F-EF6BC4F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563-1112-4176-924E-85BFF466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E26-B22A-4C21-9463-CD0F615F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47A-281D-483C-86D9-0619C07F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4F5-7BDE-4A9A-9D78-DE1A6433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DD5-E80B-4FEC-832E-28D59D7F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328-07F1-47A4-8ABF-F1190496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324-7BA7-47A2-82EB-0C497641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673-396C-49C7-A26D-E919856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75B-4074-4E4F-851D-72BCADF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59A-4F08-4939-8FBC-C9B7FFF08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38280" y="2209680"/>
            <a:ext cx="4496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线的认识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6444-110H019425076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200491320394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278520" y="30492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819520" y="1371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直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1219320"/>
            <a:ext cx="306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762120" y="121932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486400" y="1219320"/>
            <a:ext cx="317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54864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3429000" y="1143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3505320" y="12193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3202200" y="198108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505320" y="2895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射线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3202200" y="365760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A           B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429000" y="45720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线段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WordArt 22"/>
          <p:cNvSpPr txBox="1"/>
          <p:nvPr/>
        </p:nvSpPr>
        <p:spPr>
          <a:xfrm>
            <a:off x="990720" y="5334120"/>
            <a:ext cx="6067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射线和线段都是直线的一部分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3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3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222 E">
                                      <p:cBhvr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5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46666 E">
                                      <p:cBhvr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182400" y="54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同桌交流，理解后完成下表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320" y="1447920"/>
          <a:ext cx="8991360" cy="42145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2057400"/>
                <a:gridCol w="1752480"/>
                <a:gridCol w="2743200"/>
              </a:tblGrid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形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点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同点</a:t>
                      </a: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  B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 B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 B</a:t>
                      </a: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Group 35"/>
          <p:cNvGrpSpPr/>
          <p:nvPr/>
        </p:nvGrpSpPr>
        <p:grpSpPr>
          <a:xfrm>
            <a:off x="304920" y="2819520"/>
            <a:ext cx="609120" cy="75960"/>
            <a:chOff x="304920" y="2819520"/>
            <a:chExt cx="609120" cy="75960"/>
          </a:xfrm>
        </p:grpSpPr>
        <p:sp>
          <p:nvSpPr>
            <p:cNvPr id="127" name="Oval 36"/>
            <p:cNvSpPr/>
            <p:nvPr/>
          </p:nvSpPr>
          <p:spPr>
            <a:xfrm flipV="1" rot="10800000">
              <a:off x="901080" y="2819160"/>
              <a:ext cx="12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8" name="Oval 37"/>
            <p:cNvSpPr/>
            <p:nvPr/>
          </p:nvSpPr>
          <p:spPr>
            <a:xfrm flipV="1" rot="10800000">
              <a:off x="304920" y="2819160"/>
              <a:ext cx="129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9" name="Line 38"/>
            <p:cNvSpPr/>
            <p:nvPr/>
          </p:nvSpPr>
          <p:spPr>
            <a:xfrm flipH="1">
              <a:off x="317880" y="2895480"/>
              <a:ext cx="58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0" name="Group 39"/>
          <p:cNvGrpSpPr/>
          <p:nvPr/>
        </p:nvGrpSpPr>
        <p:grpSpPr>
          <a:xfrm>
            <a:off x="304920" y="3962520"/>
            <a:ext cx="838080" cy="75960"/>
            <a:chOff x="304920" y="3962520"/>
            <a:chExt cx="838080" cy="75960"/>
          </a:xfrm>
        </p:grpSpPr>
        <p:sp>
          <p:nvSpPr>
            <p:cNvPr id="131" name="Oval 40"/>
            <p:cNvSpPr/>
            <p:nvPr/>
          </p:nvSpPr>
          <p:spPr>
            <a:xfrm>
              <a:off x="304920" y="3962520"/>
              <a:ext cx="111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2" name="Oval 41"/>
            <p:cNvSpPr/>
            <p:nvPr/>
          </p:nvSpPr>
          <p:spPr>
            <a:xfrm>
              <a:off x="814680" y="3962520"/>
              <a:ext cx="111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3" name="Line 42"/>
            <p:cNvSpPr/>
            <p:nvPr/>
          </p:nvSpPr>
          <p:spPr>
            <a:xfrm>
              <a:off x="316080" y="4038480"/>
              <a:ext cx="48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4" name="Line 43"/>
            <p:cNvSpPr/>
            <p:nvPr/>
          </p:nvSpPr>
          <p:spPr>
            <a:xfrm>
              <a:off x="814680" y="4038480"/>
              <a:ext cx="32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35" name="Group 44"/>
          <p:cNvGrpSpPr/>
          <p:nvPr/>
        </p:nvGrpSpPr>
        <p:grpSpPr>
          <a:xfrm>
            <a:off x="228600" y="5029200"/>
            <a:ext cx="914040" cy="76320"/>
            <a:chOff x="228600" y="5029200"/>
            <a:chExt cx="914040" cy="76320"/>
          </a:xfrm>
        </p:grpSpPr>
        <p:sp>
          <p:nvSpPr>
            <p:cNvPr id="136" name="Oval 45"/>
            <p:cNvSpPr/>
            <p:nvPr/>
          </p:nvSpPr>
          <p:spPr>
            <a:xfrm>
              <a:off x="522000" y="5029200"/>
              <a:ext cx="111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7" name="Oval 46"/>
            <p:cNvSpPr/>
            <p:nvPr/>
          </p:nvSpPr>
          <p:spPr>
            <a:xfrm>
              <a:off x="838080" y="5029200"/>
              <a:ext cx="111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8" name="Line 47"/>
            <p:cNvSpPr/>
            <p:nvPr/>
          </p:nvSpPr>
          <p:spPr>
            <a:xfrm>
              <a:off x="533160" y="5105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39" name="Line 48"/>
            <p:cNvSpPr/>
            <p:nvPr/>
          </p:nvSpPr>
          <p:spPr>
            <a:xfrm>
              <a:off x="228600" y="5105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40" name="Line 49"/>
            <p:cNvSpPr/>
            <p:nvPr/>
          </p:nvSpPr>
          <p:spPr>
            <a:xfrm>
              <a:off x="838080" y="51055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41" name="Rectangle 50"/>
          <p:cNvSpPr/>
          <p:nvPr/>
        </p:nvSpPr>
        <p:spPr>
          <a:xfrm>
            <a:off x="146088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线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Rectangle 51"/>
          <p:cNvSpPr/>
          <p:nvPr/>
        </p:nvSpPr>
        <p:spPr>
          <a:xfrm>
            <a:off x="1460880" y="3605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射线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Rectangle 52"/>
          <p:cNvSpPr/>
          <p:nvPr/>
        </p:nvSpPr>
        <p:spPr>
          <a:xfrm>
            <a:off x="1460880" y="4672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直线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Rectangle 53"/>
          <p:cNvSpPr/>
          <p:nvPr/>
        </p:nvSpPr>
        <p:spPr>
          <a:xfrm>
            <a:off x="2201760" y="2570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Rectangle 54"/>
          <p:cNvSpPr/>
          <p:nvPr/>
        </p:nvSpPr>
        <p:spPr>
          <a:xfrm>
            <a:off x="4724280" y="3505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都是直的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Rectangle 55"/>
          <p:cNvSpPr/>
          <p:nvPr/>
        </p:nvSpPr>
        <p:spPr>
          <a:xfrm>
            <a:off x="6400800" y="23623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线段有两个端点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线段不能向两端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Rectangle 56"/>
          <p:cNvSpPr/>
          <p:nvPr/>
        </p:nvSpPr>
        <p:spPr>
          <a:xfrm>
            <a:off x="6400800" y="3429000"/>
            <a:ext cx="299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射线有一个端点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射线可以向一端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Rectangle 57"/>
          <p:cNvSpPr/>
          <p:nvPr/>
        </p:nvSpPr>
        <p:spPr>
          <a:xfrm>
            <a:off x="6400800" y="45720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1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直线没有端点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(2)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直线可以向两端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无限延伸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58"/>
          <p:cNvSpPr/>
          <p:nvPr/>
        </p:nvSpPr>
        <p:spPr>
          <a:xfrm>
            <a:off x="2819520" y="144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作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Text Box 59"/>
          <p:cNvSpPr/>
          <p:nvPr/>
        </p:nvSpPr>
        <p:spPr>
          <a:xfrm>
            <a:off x="251460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线段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AB(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或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BA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281952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射线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 Box 61"/>
          <p:cNvSpPr/>
          <p:nvPr/>
        </p:nvSpPr>
        <p:spPr>
          <a:xfrm>
            <a:off x="236232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直线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AB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（或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黑体"/>
              </a:rPr>
              <a:t>BA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2"/>
          <p:cNvGraphicFramePr/>
          <p:nvPr/>
        </p:nvGraphicFramePr>
        <p:xfrm>
          <a:off x="6934320" y="4952880"/>
          <a:ext cx="11080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4952880"/>
                    <a:ext cx="11080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3"/>
          <p:cNvSpPr/>
          <p:nvPr/>
        </p:nvSpPr>
        <p:spPr>
          <a:xfrm>
            <a:off x="3310920" y="533520"/>
            <a:ext cx="8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第一关：猜谜语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743200" y="4648320"/>
            <a:ext cx="3352680" cy="914400"/>
          </a:xfrm>
          <a:prstGeom prst="cloudCallout">
            <a:avLst>
              <a:gd name="adj1" fmla="val 72157"/>
              <a:gd name="adj2" fmla="val 63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你猜对了吗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24720" y="15238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什么东西有始有终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24720" y="259092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什么东西有始无终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24720" y="35812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什么东西无始无终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1523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线段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012720" y="25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射线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012720" y="351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直线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3343320" y="4581360"/>
            <a:ext cx="24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东说：线段是直线的一部分  （       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816120" cy="846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2282040" y="3786120"/>
            <a:ext cx="47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丽说：我画的直线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。（        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373480" y="3808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关：他们谁说的对了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309040" y="1844640"/>
            <a:ext cx="47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说：我画的线段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。（        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082960" y="2708280"/>
            <a:ext cx="54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红说：我画的射线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。   （         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7308720" y="1628640"/>
            <a:ext cx="816120" cy="84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3"/>
          <a:stretch/>
        </p:blipFill>
        <p:spPr>
          <a:xfrm>
            <a:off x="7162920" y="2590920"/>
            <a:ext cx="815760" cy="84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4"/>
          <a:stretch/>
        </p:blipFill>
        <p:spPr>
          <a:xfrm>
            <a:off x="7086600" y="3581280"/>
            <a:ext cx="81612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28600" y="1600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一点，你能画出多少条直线？试试看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4419720" y="3809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V="1">
            <a:off x="2666880" y="3809880"/>
            <a:ext cx="3353040" cy="152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2743200" y="2971800"/>
            <a:ext cx="2971800" cy="16002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4038480" y="2514600"/>
            <a:ext cx="990720" cy="28954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3657600" y="2666880"/>
            <a:ext cx="144792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29760" y="56386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过一点，能画出无数条直线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75248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三关：画一画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18288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两点，你能画出多少条直线？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试看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2286000" y="68580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隶书"/>
              </a:rPr>
              <a:t>再来画一画！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2286000" y="3581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853800" y="457200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过两点，只能画出一条直线。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057400" y="3657600"/>
            <a:ext cx="342900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" action="ppaction://hlinkshowjump?jump=previousslide"/>
          </p:cNvPr>
          <p:cNvSpPr/>
          <p:nvPr/>
        </p:nvSpPr>
        <p:spPr>
          <a:xfrm>
            <a:off x="4343400" y="6316560"/>
            <a:ext cx="1981080" cy="53352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66" h="21600">
                <a:moveTo>
                  <a:pt x="0" y="0"/>
                </a:moveTo>
                <a:lnTo>
                  <a:pt x="80166" y="0"/>
                </a:lnTo>
                <a:lnTo>
                  <a:pt x="80166" y="21600"/>
                </a:lnTo>
                <a:lnTo>
                  <a:pt x="0" y="21600"/>
                </a:lnTo>
                <a:close/>
              </a:path>
              <a:path fill="lightenLess" w="80166" h="21600">
                <a:moveTo>
                  <a:pt x="0" y="0"/>
                </a:moveTo>
                <a:lnTo>
                  <a:pt x="80166" y="0"/>
                </a:lnTo>
                <a:lnTo>
                  <a:pt x="78766" y="1400"/>
                </a:lnTo>
                <a:lnTo>
                  <a:pt x="1400" y="1400"/>
                </a:lnTo>
                <a:close/>
              </a:path>
              <a:path fill="darken" w="80166" h="21600">
                <a:moveTo>
                  <a:pt x="80166" y="0"/>
                </a:moveTo>
                <a:lnTo>
                  <a:pt x="80166" y="21600"/>
                </a:lnTo>
                <a:lnTo>
                  <a:pt x="78766" y="20200"/>
                </a:lnTo>
                <a:lnTo>
                  <a:pt x="78766" y="1400"/>
                </a:lnTo>
                <a:close/>
              </a:path>
              <a:path fill="darkenLess" w="80166" h="21600">
                <a:moveTo>
                  <a:pt x="8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66" y="20200"/>
                </a:lnTo>
                <a:close/>
              </a:path>
              <a:path fill="lighten" w="8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66" h="21600">
                <a:moveTo>
                  <a:pt x="33077" y="10800"/>
                </a:moveTo>
                <a:lnTo>
                  <a:pt x="47090" y="3794"/>
                </a:lnTo>
                <a:lnTo>
                  <a:pt x="47090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AutoShape 3">
            <a:hlinkClick r:id="" action="ppaction://hlinkshowjump?jump=nextslide"/>
          </p:cNvPr>
          <p:cNvSpPr/>
          <p:nvPr/>
        </p:nvSpPr>
        <p:spPr>
          <a:xfrm>
            <a:off x="6324480" y="6316560"/>
            <a:ext cx="1981440" cy="533520"/>
          </a:xfrm>
          <a:custGeom>
            <a:avLst/>
            <a:gdLst>
              <a:gd name="textAreaLeft" fmla="*/ 34560 w 1981440"/>
              <a:gd name="textAreaRight" fmla="*/ 1946880 w 1981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81" h="21600">
                <a:moveTo>
                  <a:pt x="0" y="0"/>
                </a:moveTo>
                <a:lnTo>
                  <a:pt x="80181" y="0"/>
                </a:lnTo>
                <a:lnTo>
                  <a:pt x="80181" y="21600"/>
                </a:lnTo>
                <a:lnTo>
                  <a:pt x="0" y="21600"/>
                </a:lnTo>
                <a:close/>
              </a:path>
              <a:path fill="lightenLess" w="80181" h="21600">
                <a:moveTo>
                  <a:pt x="0" y="0"/>
                </a:moveTo>
                <a:lnTo>
                  <a:pt x="80181" y="0"/>
                </a:lnTo>
                <a:lnTo>
                  <a:pt x="78781" y="1400"/>
                </a:lnTo>
                <a:lnTo>
                  <a:pt x="1400" y="1400"/>
                </a:lnTo>
                <a:close/>
              </a:path>
              <a:path fill="darken" w="80181" h="21600">
                <a:moveTo>
                  <a:pt x="80181" y="0"/>
                </a:moveTo>
                <a:lnTo>
                  <a:pt x="80181" y="21600"/>
                </a:lnTo>
                <a:lnTo>
                  <a:pt x="78781" y="20200"/>
                </a:lnTo>
                <a:lnTo>
                  <a:pt x="78781" y="1400"/>
                </a:lnTo>
                <a:close/>
              </a:path>
              <a:path fill="darkenLess" w="80181" h="21600">
                <a:moveTo>
                  <a:pt x="8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1" y="20200"/>
                </a:lnTo>
                <a:close/>
              </a:path>
              <a:path fill="lighten" w="8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1" h="21600">
                <a:moveTo>
                  <a:pt x="33084" y="3794"/>
                </a:moveTo>
                <a:lnTo>
                  <a:pt x="47097" y="10800"/>
                </a:lnTo>
                <a:lnTo>
                  <a:pt x="33084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4284720" cy="2930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759600" y="4437000"/>
            <a:ext cx="32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两点之间</a:t>
            </a: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线段最短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2050920" y="2565360"/>
            <a:ext cx="4033800" cy="7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3818160" y="1125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4465800" y="1989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097440" y="227664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4313520" y="3200400"/>
            <a:ext cx="5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6019920" y="25146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0199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19051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762120" y="2209680"/>
            <a:ext cx="761976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这节课你学到了什么？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4"/>
          <p:cNvSpPr/>
          <p:nvPr/>
        </p:nvSpPr>
        <p:spPr>
          <a:xfrm flipV="1">
            <a:off x="6172200" y="2133000"/>
            <a:ext cx="915840" cy="649080"/>
          </a:xfrm>
          <a:prstGeom prst="wedgeRoundRectCallout">
            <a:avLst>
              <a:gd name="adj1" fmla="val -75347"/>
              <a:gd name="adj2" fmla="val -1074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端点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533520" y="2286000"/>
            <a:ext cx="1099800" cy="719280"/>
            <a:chOff x="533520" y="2286000"/>
            <a:chExt cx="1099800" cy="719280"/>
          </a:xfrm>
        </p:grpSpPr>
        <p:sp>
          <p:nvSpPr>
            <p:cNvPr id="44" name="AutoShape 16"/>
            <p:cNvSpPr/>
            <p:nvPr/>
          </p:nvSpPr>
          <p:spPr>
            <a:xfrm flipV="1">
              <a:off x="533520" y="2286000"/>
              <a:ext cx="914040" cy="719280"/>
            </a:xfrm>
            <a:prstGeom prst="wedgeRoundRectCallout">
              <a:avLst>
                <a:gd name="adj1" fmla="val 143402"/>
                <a:gd name="adj2" fmla="val -7268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45" name="Text Box 17"/>
            <p:cNvSpPr/>
            <p:nvPr/>
          </p:nvSpPr>
          <p:spPr>
            <a:xfrm>
              <a:off x="552960" y="2407680"/>
              <a:ext cx="10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端点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46" name="Line 6"/>
          <p:cNvSpPr/>
          <p:nvPr/>
        </p:nvSpPr>
        <p:spPr>
          <a:xfrm>
            <a:off x="2438280" y="3276720"/>
            <a:ext cx="324036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 flipH="1" flipV="1">
            <a:off x="2437560" y="3276720"/>
            <a:ext cx="71640" cy="69840"/>
          </a:xfrm>
          <a:prstGeom prst="ellipse">
            <a:avLst/>
          </a:prstGeom>
          <a:solidFill>
            <a:srgbClr val="ff0000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Oval 12"/>
          <p:cNvSpPr/>
          <p:nvPr/>
        </p:nvSpPr>
        <p:spPr>
          <a:xfrm flipH="1" flipV="1">
            <a:off x="5637960" y="3276720"/>
            <a:ext cx="71640" cy="69840"/>
          </a:xfrm>
          <a:prstGeom prst="ellipse">
            <a:avLst/>
          </a:prstGeom>
          <a:solidFill>
            <a:srgbClr val="ff0000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21184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8856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295280" y="4724280"/>
            <a:ext cx="5924520" cy="719280"/>
          </a:xfrm>
          <a:prstGeom prst="flowChartAlternateProcess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作：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 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666880" y="685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画线段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1"/>
          <p:cNvPicPr/>
          <p:nvPr/>
        </p:nvPicPr>
        <p:blipFill>
          <a:blip r:embed="rId1"/>
          <a:stretch/>
        </p:blipFill>
        <p:spPr>
          <a:xfrm>
            <a:off x="612720" y="106668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ruler"/>
          <p:cNvPicPr/>
          <p:nvPr/>
        </p:nvPicPr>
        <p:blipFill>
          <a:blip r:embed="rId2"/>
          <a:stretch/>
        </p:blipFill>
        <p:spPr>
          <a:xfrm>
            <a:off x="4500720" y="1052640"/>
            <a:ext cx="3554280" cy="266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20100623080049715"/>
          <p:cNvPicPr/>
          <p:nvPr/>
        </p:nvPicPr>
        <p:blipFill>
          <a:blip r:embed="rId3"/>
          <a:stretch/>
        </p:blipFill>
        <p:spPr>
          <a:xfrm>
            <a:off x="611280" y="3948120"/>
            <a:ext cx="3673440" cy="25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3023640" y="380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谁能说说我们身边哪里有线段？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7" name="Picture 6" descr="W020100525608448391676"/>
          <p:cNvPicPr/>
          <p:nvPr/>
        </p:nvPicPr>
        <p:blipFill>
          <a:blip r:embed="rId4"/>
          <a:stretch/>
        </p:blipFill>
        <p:spPr>
          <a:xfrm>
            <a:off x="4500720" y="3860640"/>
            <a:ext cx="3456000" cy="259416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1981080" y="29718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6248520" y="1828800"/>
            <a:ext cx="167616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990720" y="4800600"/>
            <a:ext cx="3047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724280" y="411480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s994ty"/>
          <p:cNvPicPr/>
          <p:nvPr/>
        </p:nvPicPr>
        <p:blipFill>
          <a:blip r:embed="rId1"/>
          <a:stretch/>
        </p:blipFill>
        <p:spPr>
          <a:xfrm>
            <a:off x="0" y="3048120"/>
            <a:ext cx="4368960" cy="3809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无标题"/>
          <p:cNvPicPr/>
          <p:nvPr/>
        </p:nvPicPr>
        <p:blipFill>
          <a:blip r:embed="rId2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射灯1"/>
          <p:cNvPicPr/>
          <p:nvPr/>
        </p:nvPicPr>
        <p:blipFill>
          <a:blip r:embed="rId3"/>
          <a:stretch/>
        </p:blipFill>
        <p:spPr>
          <a:xfrm>
            <a:off x="4343400" y="3048120"/>
            <a:ext cx="480060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092613O29-0"/>
          <p:cNvPicPr/>
          <p:nvPr/>
        </p:nvPicPr>
        <p:blipFill>
          <a:blip r:embed="rId4"/>
          <a:stretch/>
        </p:blipFill>
        <p:spPr>
          <a:xfrm>
            <a:off x="4573440" y="0"/>
            <a:ext cx="45705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533520" y="609120"/>
            <a:ext cx="1218960" cy="776520"/>
            <a:chOff x="533520" y="609120"/>
            <a:chExt cx="1218960" cy="776520"/>
          </a:xfrm>
        </p:grpSpPr>
        <p:sp>
          <p:nvSpPr>
            <p:cNvPr id="68" name="AutoShape 16"/>
            <p:cNvSpPr/>
            <p:nvPr/>
          </p:nvSpPr>
          <p:spPr>
            <a:xfrm flipV="1">
              <a:off x="533520" y="608400"/>
              <a:ext cx="1013040" cy="776520"/>
            </a:xfrm>
            <a:prstGeom prst="wedgeRoundRectCallout">
              <a:avLst>
                <a:gd name="adj1" fmla="val 143402"/>
                <a:gd name="adj2" fmla="val -7268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552960" y="740880"/>
              <a:ext cx="11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端点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70" name="Line 5"/>
          <p:cNvSpPr/>
          <p:nvPr/>
        </p:nvSpPr>
        <p:spPr>
          <a:xfrm>
            <a:off x="2286000" y="1523880"/>
            <a:ext cx="32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 flipH="1" flipV="1">
            <a:off x="4647600" y="1447200"/>
            <a:ext cx="75960" cy="1458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 flipH="1" flipV="1">
            <a:off x="2208960" y="1447200"/>
            <a:ext cx="228600" cy="1458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98324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574160" y="1752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371600" y="2362320"/>
            <a:ext cx="4352760" cy="649080"/>
          </a:xfrm>
          <a:prstGeom prst="flowChartAlternateProcess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作：射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362320" y="3581280"/>
            <a:ext cx="32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Oval 12"/>
          <p:cNvSpPr/>
          <p:nvPr/>
        </p:nvSpPr>
        <p:spPr>
          <a:xfrm flipH="1" flipV="1">
            <a:off x="5485680" y="3504600"/>
            <a:ext cx="152280" cy="22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 flipH="1" flipV="1">
            <a:off x="3200400" y="3504600"/>
            <a:ext cx="147600" cy="1458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0502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294880" y="369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1295280" y="4343400"/>
            <a:ext cx="4427640" cy="649440"/>
          </a:xfrm>
          <a:prstGeom prst="flowChartAlternateProcess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作：射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82" name="Group 20"/>
          <p:cNvGrpSpPr/>
          <p:nvPr/>
        </p:nvGrpSpPr>
        <p:grpSpPr>
          <a:xfrm>
            <a:off x="6324120" y="2514240"/>
            <a:ext cx="1219320" cy="873000"/>
            <a:chOff x="6324120" y="2514240"/>
            <a:chExt cx="1219320" cy="873000"/>
          </a:xfrm>
        </p:grpSpPr>
        <p:sp>
          <p:nvSpPr>
            <p:cNvPr id="83" name="AutoShape 16"/>
            <p:cNvSpPr/>
            <p:nvPr/>
          </p:nvSpPr>
          <p:spPr>
            <a:xfrm flipH="1" flipV="1">
              <a:off x="6510960" y="2513880"/>
              <a:ext cx="1032120" cy="873000"/>
            </a:xfrm>
            <a:prstGeom prst="wedgeRoundRectCallout">
              <a:avLst>
                <a:gd name="adj1" fmla="val 143402"/>
                <a:gd name="adj2" fmla="val -7268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 flipH="1">
              <a:off x="6323760" y="26622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端点</a:t>
              </a: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7c6db0b720e96fe030add12b"/>
          <p:cNvPicPr/>
          <p:nvPr/>
        </p:nvPicPr>
        <p:blipFill>
          <a:blip r:embed="rId1"/>
          <a:stretch/>
        </p:blipFill>
        <p:spPr>
          <a:xfrm>
            <a:off x="457200" y="12193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86" name="Line 6"/>
          <p:cNvSpPr/>
          <p:nvPr/>
        </p:nvSpPr>
        <p:spPr>
          <a:xfrm flipV="1">
            <a:off x="6553080" y="838080"/>
            <a:ext cx="2133720" cy="9144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990360" y="3581280"/>
            <a:ext cx="15238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c6db0b720e96fe030add12b"/>
          <p:cNvPicPr/>
          <p:nvPr/>
        </p:nvPicPr>
        <p:blipFill>
          <a:blip r:embed="rId1"/>
          <a:stretch/>
        </p:blipFill>
        <p:spPr>
          <a:xfrm>
            <a:off x="457200" y="121932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 flipH="1">
            <a:off x="990360" y="3581280"/>
            <a:ext cx="15238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6629400" y="17524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 flipV="1">
            <a:off x="6553080" y="685440"/>
            <a:ext cx="2210040" cy="106668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304560" y="3505320"/>
            <a:ext cx="2361960" cy="114300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6"/>
          <p:cNvSpPr/>
          <p:nvPr/>
        </p:nvSpPr>
        <p:spPr>
          <a:xfrm flipV="1">
            <a:off x="1371600" y="2819160"/>
            <a:ext cx="5410080" cy="7596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 flipH="1" flipV="1">
            <a:off x="2437560" y="2819520"/>
            <a:ext cx="71640" cy="69840"/>
          </a:xfrm>
          <a:prstGeom prst="ellipse">
            <a:avLst/>
          </a:prstGeom>
          <a:solidFill>
            <a:srgbClr val="ff0000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 flipH="1" flipV="1">
            <a:off x="5637960" y="2819520"/>
            <a:ext cx="71640" cy="69840"/>
          </a:xfrm>
          <a:prstGeom prst="ellipse">
            <a:avLst/>
          </a:prstGeom>
          <a:solidFill>
            <a:srgbClr val="ff0000"/>
          </a:solidFill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211840" y="3048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501160" y="289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1600200" y="3809880"/>
            <a:ext cx="5256360" cy="719280"/>
          </a:xfrm>
          <a:prstGeom prst="flowChartAlternateProcess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作：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 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828800" y="914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桌交流讨论：直线怎么画，怎么读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0130107003428_t4J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15:11:08Z</dcterms:modified>
  <cp:revision>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