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60A-90CA-43C8-9D6E-ADD4627C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3B4-4F59-4975-8630-0CD04ADB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157-2542-417D-ADEF-7CEAF8F2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8D1-D229-45FB-91F7-D536C3C9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8AC-A4C2-453B-A70A-3A3B28CE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587-44CF-4BE3-AE21-CF98B8D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0BE-77BC-4038-8EBF-B64FB67C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5F7-00CB-499D-9D1A-7BA0A9FC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244-0FCB-44ED-BC73-8876D13F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F70-EA09-425C-9EED-724FE53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70E-606B-44F1-ADF4-5BE8B53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DEA-88CF-4EF2-9F48-2152DAD4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B530-6F74-4068-A0F5-1F0C021275A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484360" y="2708280"/>
            <a:ext cx="417672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那棵高山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40328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西师大版  六年级  语文  上册  第二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19240" y="24177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青山、蓝天、白云、碧水，烘托出一片宁静而开阔的世界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773360" y="3514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高山榕的葱郁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凡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616840" y="49150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高山榕与天地、山水之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谐相处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细读"/>
          <p:cNvPicPr/>
          <p:nvPr/>
        </p:nvPicPr>
        <p:blipFill>
          <a:blip r:embed="rId1"/>
          <a:stretch/>
        </p:blipFill>
        <p:spPr>
          <a:xfrm>
            <a:off x="684360" y="836640"/>
            <a:ext cx="1643040" cy="528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991160" y="425988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华文中宋"/>
                <a:ea typeface="华文中宋"/>
              </a:rPr>
              <a:t>没有</a:t>
            </a:r>
            <a:r>
              <a:rPr b="1" lang="en-US" sz="24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……</a:t>
            </a:r>
            <a:r>
              <a:rPr b="1" lang="zh-CN" sz="2400" spc="-1" strike="noStrike">
                <a:solidFill>
                  <a:srgbClr val="008000"/>
                </a:solidFill>
                <a:latin typeface="华文中宋"/>
                <a:ea typeface="华文中宋"/>
              </a:rPr>
              <a:t>没有</a:t>
            </a:r>
            <a:r>
              <a:rPr b="1" lang="en-US" sz="24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729440" y="1735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高山榕所处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675160" y="88740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—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072400" y="887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读懂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900000" y="1844640"/>
            <a:ext cx="705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思考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确，这是一颗普普通通的高山榕，然而，它为什么又是那样的不同寻常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议和说"/>
          <p:cNvPicPr/>
          <p:nvPr/>
        </p:nvPicPr>
        <p:blipFill>
          <a:blip r:embed="rId1"/>
          <a:stretch/>
        </p:blipFill>
        <p:spPr>
          <a:xfrm>
            <a:off x="900000" y="907920"/>
            <a:ext cx="2109960" cy="527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900000" y="42210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--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，勾画出直接描写邓小平同志的相关语句，读一读，你体会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150920" y="2062080"/>
            <a:ext cx="7993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是中国人民的儿子，我深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地爱着我的祖国和人民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0014224766c609bc715508"/>
          <p:cNvPicPr/>
          <p:nvPr/>
        </p:nvPicPr>
        <p:blipFill>
          <a:blip r:embed="rId1"/>
          <a:stretch/>
        </p:blipFill>
        <p:spPr>
          <a:xfrm>
            <a:off x="469800" y="404640"/>
            <a:ext cx="1360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 flipH="1">
            <a:off x="1212120" y="11397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棵高山榕葱茏耀眼，华盖如伞，生命勃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889640" y="2603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读懂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971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邓小平同志所开创的改革开放的伟大事业取得了巨大成就，祖国将更加繁荣昌盛，就如同那高山榕一样越来越葱茏耀眼，生命勃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春天的故事.mp3" descr=""/>
          <p:cNvPicPr/>
          <p:nvPr/>
        </p:nvPicPr>
        <p:blipFill>
          <a:blip r:embed="rId1"/>
          <a:stretch/>
        </p:blipFill>
        <p:spPr>
          <a:xfrm>
            <a:off x="7164360" y="554364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32561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dArt 5" descr=""/>
          <p:cNvPicPr/>
          <p:nvPr/>
        </p:nvPicPr>
        <p:blipFill>
          <a:blip r:embed="rId1"/>
          <a:stretch/>
        </p:blipFill>
        <p:spPr>
          <a:xfrm>
            <a:off x="2298600" y="1620720"/>
            <a:ext cx="4383360" cy="903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15e24295567eae499250a89"/>
          <p:cNvPicPr/>
          <p:nvPr/>
        </p:nvPicPr>
        <p:blipFill>
          <a:blip r:embed="rId2"/>
          <a:stretch/>
        </p:blipFill>
        <p:spPr>
          <a:xfrm>
            <a:off x="2535120" y="2925720"/>
            <a:ext cx="40672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826920" y="2492280"/>
            <a:ext cx="720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伟大的马克思主义者，无产阶级革命家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政治家、军事家、外交家，中国共产党、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人民解放军、中华人民共和国的主要领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之一，中国社会主义改革开放和现代化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设的总设计师，邓小平理论的创立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cc506c8bef99b308c8fc7a80"/>
          <p:cNvPicPr/>
          <p:nvPr/>
        </p:nvPicPr>
        <p:blipFill>
          <a:blip r:embed="rId1"/>
          <a:stretch/>
        </p:blipFill>
        <p:spPr>
          <a:xfrm>
            <a:off x="684360" y="765000"/>
            <a:ext cx="1139760" cy="1368720"/>
          </a:xfrm>
          <a:prstGeom prst="rect">
            <a:avLst/>
          </a:prstGeom>
          <a:ln w="0">
            <a:noFill/>
          </a:ln>
        </p:spPr>
      </p:pic>
      <p:sp>
        <p:nvSpPr>
          <p:cNvPr id="48" name="Line 7"/>
          <p:cNvSpPr/>
          <p:nvPr/>
        </p:nvSpPr>
        <p:spPr>
          <a:xfrm>
            <a:off x="684360" y="2349360"/>
            <a:ext cx="720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979640" y="112536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邓小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初读感知"/>
          <p:cNvPicPr/>
          <p:nvPr/>
        </p:nvPicPr>
        <p:blipFill>
          <a:blip r:embed="rId1"/>
          <a:stretch/>
        </p:blipFill>
        <p:spPr>
          <a:xfrm>
            <a:off x="900000" y="981000"/>
            <a:ext cx="1800360" cy="434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557360" y="2492280"/>
            <a:ext cx="676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听课文朗读并思考：课文讲了一件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么事情？勾出自己不认识或不理解的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和句子，同桌讨论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979280" y="1844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690720" y="1844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233680" y="1844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6922800" y="1844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979280" y="3727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690720" y="3727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233680" y="3727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6922800" y="3727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641960" y="3017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妩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808640" y="5040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镌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580920" y="3017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姿态美好可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2685960" y="5024520"/>
            <a:ext cx="57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雕的意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字连在一起便是雕刻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254600" y="1017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227600" y="220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伟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254600" y="32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亮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227600" y="4540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沐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513160" y="1041480"/>
            <a:ext cx="60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往。心中向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指对某物或某人有好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455280" y="2235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魁梧高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3441960" y="321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亮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1"/>
          <p:cNvSpPr/>
          <p:nvPr/>
        </p:nvSpPr>
        <p:spPr>
          <a:xfrm>
            <a:off x="2513160" y="4540320"/>
            <a:ext cx="54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意是洗澡，洗浴。这里比喻比喻沉浸在某种环境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187280" y="1557360"/>
            <a:ext cx="691200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用自己喜欢的方式阅读课文，看看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文是按照怎样的顺序写的。</a:t>
            </a:r>
            <a:r>
              <a:rPr b="0" lang="zh-CN" sz="1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细读"/>
          <p:cNvPicPr/>
          <p:nvPr/>
        </p:nvPicPr>
        <p:blipFill>
          <a:blip r:embed="rId1"/>
          <a:stretch/>
        </p:blipFill>
        <p:spPr>
          <a:xfrm>
            <a:off x="684360" y="836640"/>
            <a:ext cx="1643040" cy="528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971640" y="3267000"/>
            <a:ext cx="748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作者是由眼前看到的这棵枝繁叶茂的高山榕，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想到伟大的邓小平同志，联想到他是改革开放的总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计师，联想到他在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92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南巡深圳时，种下的那棵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山榕，特别是联想到他对祖国和人民深沉的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6012000" y="2106720"/>
            <a:ext cx="9363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倒叙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539640" y="549360"/>
            <a:ext cx="8136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倒叙的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一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是为了表现文章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Arial"/>
              </a:rPr>
              <a:t>中心思想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的需要，把最能表现中心思想的部分提到前面，加以突出；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二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是为了使文章结构富于变化，避免平铺直叙；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是为了表现效果的需要，使文章曲折有致，造成悬念，引人入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586320" y="119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颗什么样的高山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042920" y="263700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这是一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普普通通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的高山榕，同成千上万棵高山榕一样普通。然而，它又是那样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同寻常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03:01:38Z</dcterms:created>
  <dc:creator/>
  <dc:description/>
  <dc:language>en-US</dc:language>
  <cp:lastModifiedBy>微软用户</cp:lastModifiedBy>
  <dcterms:modified xsi:type="dcterms:W3CDTF">2016-12-12T13:03:37Z</dcterms:modified>
  <cp:revision>3</cp:revision>
  <dc:subject/>
  <dc:title/>
</cp:coreProperties>
</file>