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11E0-7B5D-42AB-8D33-D52B65954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7765-0986-4EE3-9FC4-4169F7BDA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BCED-EB62-4DEC-91F7-46430B1A4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2EA3-D21C-477C-A1AD-DDEA9A3A7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654F-899E-4716-8072-CE260FBBA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0702-3E64-48F1-AB3D-243484B5B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D075-FDC7-4A08-8DC0-31941CDEA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1E77-B9E9-4EC7-A377-16556C35D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4280-4606-47A1-ADE7-4325C5C0A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15C8-079D-4DEA-937A-4DDE92C99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D8A6-BEAB-4BC3-A8E4-E2EEEE8C2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8DA6-AEE4-44D0-98C4-8FF939F3B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A74E7-8D09-4398-A440-A4823F966832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zhidao.baidu.com/search?word=&#26126;&#20142;&#30340;&#26143;&amp;fr=qb_search_exp&amp;ie=gbk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张钰哲"/>
          <p:cNvPicPr/>
          <p:nvPr/>
        </p:nvPicPr>
        <p:blipFill>
          <a:blip r:embed="rId1"/>
          <a:stretch/>
        </p:blipFill>
        <p:spPr>
          <a:xfrm>
            <a:off x="2914560" y="2060640"/>
            <a:ext cx="4838760" cy="37908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3"/>
          <p:cNvSpPr/>
          <p:nvPr/>
        </p:nvSpPr>
        <p:spPr>
          <a:xfrm>
            <a:off x="3419640" y="836640"/>
            <a:ext cx="81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中华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alibri Light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Calibri Light"/>
              </a:rPr>
              <a:t>）</a:t>
            </a: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.</a:t>
            </a:r>
            <a:r>
              <a:rPr b="0" lang="zh-CN" sz="3600" spc="-1" strike="noStrike">
                <a:solidFill>
                  <a:srgbClr val="000000"/>
                </a:solidFill>
                <a:latin typeface="Calibri Light"/>
              </a:rPr>
              <a:t>请根据意思，写出相应词语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（             ）：目前为止；到现在为止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（            ）：一向的做法；常规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（            ）：抑制不住自己的感情。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（            ）：授予名称。 （         ）：平常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（            ）：坚定的相信。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（            ）：高大的石碑，借指不朽的杰作或伟大的功绩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719280" y="170640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楷体_GB2312"/>
              </a:rPr>
              <a:t>迄今为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1114560" y="234792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楷体_GB2312"/>
              </a:rPr>
              <a:t>惯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873000" y="291456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楷体_GB2312"/>
              </a:rPr>
              <a:t>情不自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1268280" y="346536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楷体_GB2312"/>
              </a:rPr>
              <a:t>命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6227640" y="3613320"/>
            <a:ext cx="122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楷体_GB2312"/>
              </a:rPr>
              <a:t>寻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1144440" y="458964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楷体_GB2312"/>
              </a:rPr>
              <a:t>确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0"/>
          <p:cNvSpPr/>
          <p:nvPr/>
        </p:nvSpPr>
        <p:spPr>
          <a:xfrm>
            <a:off x="1224000" y="522288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楷体_GB2312"/>
              </a:rPr>
              <a:t>丰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324000" y="981000"/>
            <a:ext cx="849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157320" indent="-1573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）根据课文划分段落，并写出各部分主要内容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57320" indent="-1573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第一部分（</a:t>
            </a:r>
            <a:r>
              <a:rPr b="1" lang="en-US" sz="32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）总领全文，提出关于</a:t>
            </a:r>
            <a:r>
              <a:rPr b="1" lang="zh-CN" sz="3200" spc="-1" strike="noStrike">
                <a:solidFill>
                  <a:srgbClr val="006600"/>
                </a:solidFill>
                <a:latin typeface="Calibri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中华星</a:t>
            </a:r>
            <a:r>
              <a:rPr b="1" lang="zh-CN" sz="3200" spc="-1" strike="noStrike">
                <a:solidFill>
                  <a:srgbClr val="006600"/>
                </a:solidFill>
                <a:latin typeface="Calibri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和</a:t>
            </a:r>
            <a:r>
              <a:rPr b="1" lang="zh-CN" sz="3200" spc="-1" strike="noStrike">
                <a:solidFill>
                  <a:srgbClr val="006600"/>
                </a:solidFill>
                <a:latin typeface="Calibri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张星</a:t>
            </a:r>
            <a:r>
              <a:rPr b="1" lang="zh-CN" sz="3200" spc="-1" strike="noStrike">
                <a:solidFill>
                  <a:srgbClr val="006600"/>
                </a:solidFill>
                <a:latin typeface="Calibri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 名字来历的问题。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Calibri"/>
              </a:rPr>
              <a:t>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57320" indent="-1573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第二部分（</a:t>
            </a:r>
            <a:r>
              <a:rPr b="1" lang="en-US" sz="32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2--6</a:t>
            </a:r>
            <a:r>
              <a:rPr b="1" lang="zh-CN" sz="32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）介绍了张钰哲发现并命名</a:t>
            </a:r>
            <a:r>
              <a:rPr b="1" lang="zh-CN" sz="3200" spc="-1" strike="noStrike">
                <a:solidFill>
                  <a:srgbClr val="006600"/>
                </a:solidFill>
                <a:latin typeface="Calibri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中华星</a:t>
            </a:r>
            <a:r>
              <a:rPr b="1" lang="zh-CN" sz="3200" spc="-1" strike="noStrike">
                <a:solidFill>
                  <a:srgbClr val="006600"/>
                </a:solidFill>
                <a:latin typeface="Calibri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的过程。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   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57320" indent="-1573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第三部分（</a:t>
            </a:r>
            <a:r>
              <a:rPr b="1" lang="en-US" sz="32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7--9</a:t>
            </a:r>
            <a:r>
              <a:rPr b="1" lang="zh-CN" sz="32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）写新中国成立后，张钰哲在天文学方面的成就贡献，</a:t>
            </a:r>
            <a:r>
              <a:rPr b="1" lang="en-US" sz="32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国际小行星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57320" indent="-1573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报</a:t>
            </a:r>
            <a:r>
              <a:rPr b="1" lang="en-US" sz="32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把</a:t>
            </a:r>
            <a:r>
              <a:rPr b="1" lang="en-US" sz="32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2051</a:t>
            </a:r>
            <a:r>
              <a:rPr b="1" lang="zh-CN" sz="32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号小行星命名为</a:t>
            </a:r>
            <a:r>
              <a:rPr b="1" lang="zh-CN" sz="3200" spc="-1" strike="noStrike">
                <a:solidFill>
                  <a:srgbClr val="006600"/>
                </a:solidFill>
                <a:latin typeface="Calibri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张星</a:t>
            </a:r>
            <a:r>
              <a:rPr b="1" lang="zh-CN" sz="3200" spc="-1" strike="noStrike">
                <a:solidFill>
                  <a:srgbClr val="006600"/>
                </a:solidFill>
                <a:latin typeface="Calibri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。</a:t>
            </a:r>
            <a:r>
              <a:rPr b="1" lang="zh-CN" sz="3200" spc="-1" strike="noStrike">
                <a:solidFill>
                  <a:srgbClr val="0066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二、合作探究（集体展示）、（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分钟）（三个臭皮匠，顶个诸葛亮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本文在写法的突出特点是</a:t>
            </a:r>
            <a:r>
              <a:rPr b="1" lang="zh-CN" sz="3200" spc="-1" strike="noStrike" u="sng">
                <a:solidFill>
                  <a:srgbClr val="006600"/>
                </a:solidFill>
                <a:uFillTx/>
                <a:latin typeface="楷体_GB2312"/>
                <a:ea typeface="楷体_GB2312"/>
              </a:rPr>
              <a:t>         </a:t>
            </a:r>
            <a:r>
              <a:rPr b="1" lang="zh-CN" sz="32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如张钰哲发现新星并命名为</a:t>
            </a:r>
            <a:r>
              <a:rPr b="1" lang="zh-CN" sz="3200" spc="-1" strike="noStrike">
                <a:solidFill>
                  <a:srgbClr val="006600"/>
                </a:solidFill>
                <a:latin typeface="Calibri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中华星</a:t>
            </a:r>
            <a:r>
              <a:rPr b="1" lang="zh-CN" sz="3200" spc="-1" strike="noStrike">
                <a:solidFill>
                  <a:srgbClr val="006600"/>
                </a:solidFill>
                <a:latin typeface="Calibri"/>
                <a:ea typeface="楷体_GB2312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的过程为</a:t>
            </a:r>
            <a:r>
              <a:rPr b="1" lang="zh-CN" sz="3200" spc="-1" strike="noStrike" u="sng">
                <a:solidFill>
                  <a:srgbClr val="006600"/>
                </a:solidFill>
                <a:uFillTx/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；</a:t>
            </a:r>
            <a:r>
              <a:rPr b="1" lang="en-US" sz="32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国际小行星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报</a:t>
            </a:r>
            <a:r>
              <a:rPr b="1" lang="en-US" sz="32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宣布以张钰哲名字命名</a:t>
            </a:r>
            <a:r>
              <a:rPr b="1" lang="zh-CN" sz="3200" spc="-1" strike="noStrike">
                <a:solidFill>
                  <a:srgbClr val="006600"/>
                </a:solidFill>
                <a:latin typeface="Calibri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张星</a:t>
            </a:r>
            <a:r>
              <a:rPr b="1" lang="zh-CN" sz="3200" spc="-1" strike="noStrike">
                <a:solidFill>
                  <a:srgbClr val="006600"/>
                </a:solidFill>
                <a:latin typeface="Calibri"/>
                <a:ea typeface="楷体_GB2312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的事为</a:t>
            </a:r>
            <a:r>
              <a:rPr b="1" lang="zh-CN" sz="3200" spc="-1" strike="noStrike" u="sng">
                <a:solidFill>
                  <a:srgbClr val="006600"/>
                </a:solidFill>
                <a:uFillTx/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5219640" y="263700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cc"/>
                </a:solidFill>
                <a:latin typeface="Arial"/>
                <a:ea typeface="黑体"/>
              </a:rPr>
              <a:t>详略得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2556000" y="386064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cc"/>
                </a:solidFill>
                <a:latin typeface="Arial"/>
                <a:ea typeface="黑体"/>
              </a:rPr>
              <a:t>详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1979640" y="479736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cc"/>
                </a:solidFill>
                <a:latin typeface="Arial"/>
                <a:ea typeface="黑体"/>
              </a:rPr>
              <a:t>略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>
              <a:lnSpc>
                <a:spcPct val="90000"/>
              </a:lnSpc>
              <a:buNone/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Calibri Light"/>
              </a:rPr>
              <a:t>当堂检测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116000" y="1690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zhēn  yù      zhé  rén     kǎi  xuán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Calibri"/>
              </a:rPr>
              <a:t>   </a:t>
            </a:r>
            <a:r>
              <a:rPr b="1" lang="zh-CN" sz="4000" spc="-1" strike="noStrike">
                <a:solidFill>
                  <a:srgbClr val="006600"/>
                </a:solidFill>
                <a:latin typeface="Calibri"/>
              </a:rPr>
              <a:t>珍钰        哲人         凯旋</a:t>
            </a:r>
            <a:r>
              <a:rPr b="0" lang="zh-CN" sz="21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qì jīn        xǐ yuè         fēng bē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4000" spc="-1" strike="noStrike">
                <a:solidFill>
                  <a:srgbClr val="006600"/>
                </a:solidFill>
                <a:latin typeface="Calibri"/>
              </a:rPr>
              <a:t>迄今      喜悦         丰碑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28200" y="1825200"/>
            <a:ext cx="91998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给下列近、反义词找朋友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证实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—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证明    抑制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—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压制     确信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—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确定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凝神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—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专注    诞生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—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出生    闪烁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—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闪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敏锐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—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迟钝     亲切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—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严厉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情不自禁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—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无动于衷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971280" y="90756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多音字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载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zǎi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Calibri"/>
              </a:rPr>
              <a:t>记载 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       尽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ìn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Calibri"/>
              </a:rPr>
              <a:t>尽头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Zài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Calibri"/>
              </a:rPr>
              <a:t>载重 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ǐn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Calibri"/>
              </a:rPr>
              <a:t>尽管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中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zhōng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Calibri"/>
              </a:rPr>
              <a:t>中国 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     为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éi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Calibri"/>
              </a:rPr>
              <a:t>为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zhòng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Calibri"/>
              </a:rPr>
              <a:t>中奖 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èi 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Calibri"/>
              </a:rPr>
              <a:t>因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张钰哲2"/>
          <p:cNvPicPr/>
          <p:nvPr/>
        </p:nvPicPr>
        <p:blipFill>
          <a:blip r:embed="rId1"/>
          <a:stretch/>
        </p:blipFill>
        <p:spPr>
          <a:xfrm>
            <a:off x="1328760" y="476280"/>
            <a:ext cx="4035240" cy="479088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3"/>
          <p:cNvSpPr/>
          <p:nvPr/>
        </p:nvSpPr>
        <p:spPr>
          <a:xfrm>
            <a:off x="5867280" y="1125360"/>
            <a:ext cx="1297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6600"/>
                </a:solidFill>
                <a:latin typeface="Arial"/>
                <a:ea typeface="楷体_GB2312"/>
              </a:rPr>
              <a:t>张钰哲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1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2"/>
          <p:cNvPicPr/>
          <p:nvPr/>
        </p:nvPicPr>
        <p:blipFill>
          <a:blip r:embed="rId2"/>
          <a:stretch/>
        </p:blipFill>
        <p:spPr>
          <a:xfrm>
            <a:off x="1981080" y="1054080"/>
            <a:ext cx="5724720" cy="30970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4"/>
          <p:cNvSpPr/>
          <p:nvPr/>
        </p:nvSpPr>
        <p:spPr>
          <a:xfrm>
            <a:off x="2124000" y="436572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ff"/>
                </a:solidFill>
                <a:latin typeface="Arial"/>
                <a:ea typeface="楷体_GB2312"/>
              </a:rPr>
              <a:t>你知道哪些星星的名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539640" y="1125360"/>
            <a:ext cx="7886880" cy="435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夜空中</a:t>
            </a:r>
            <a:r>
              <a:rPr b="0" lang="zh-CN" sz="3200" spc="-1" strike="noStrike" u="sng">
                <a:solidFill>
                  <a:srgbClr val="0563c1"/>
                </a:solidFill>
                <a:uFillTx/>
                <a:latin typeface="楷体_GB2312"/>
                <a:ea typeface="楷体_GB2312"/>
                <a:hlinkClick r:id="rId1"/>
              </a:rPr>
              <a:t>明亮的星</a:t>
            </a:r>
            <a:r>
              <a:rPr b="1" lang="zh-CN" sz="3200" spc="-1" strike="noStrike" u="sng">
                <a:solidFill>
                  <a:srgbClr val="0563c1"/>
                </a:solidFill>
                <a:uFillTx/>
                <a:latin typeface="楷体_GB2312"/>
                <a:ea typeface="楷体_GB2312"/>
              </a:rPr>
              <a:t>星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得无法计数，为了区别它们，古代各民族皆对星星加以命名，如我国古代的叁垣二十八宿中的星，以帝王、百官、人物、器具、动植物等名称命名，如天皇大帝、九卿、织女、贯索、瓠瓜、天狼星，织女星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北斗七星，从勺尾到勺柄排列的星星名字分别是：</a:t>
            </a:r>
            <a:r>
              <a:rPr b="1" lang="zh-CN" sz="32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天枢 天璇 天玑 天权 玉衡 开阳 摇光。。。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6600"/>
                </a:solidFill>
                <a:latin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Calibri Light"/>
              </a:rPr>
              <a:t>一、自主学习（小组质疑）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900000" y="148392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1.</a:t>
            </a:r>
            <a:r>
              <a:rPr b="1" lang="zh-CN" sz="3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知识准备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张钰哲，天文学家，曾任中科院紫金山天文台台长，在国际天文界享有盛名。在中国天文史留下许多</a:t>
            </a:r>
            <a:r>
              <a:rPr b="1" lang="zh-CN" sz="3600" spc="-1" strike="noStrike">
                <a:solidFill>
                  <a:srgbClr val="006600"/>
                </a:solidFill>
                <a:latin typeface="Calibri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第一</a:t>
            </a:r>
            <a:r>
              <a:rPr b="1" lang="zh-CN" sz="3600" spc="-1" strike="noStrike">
                <a:solidFill>
                  <a:srgbClr val="006600"/>
                </a:solidFill>
                <a:latin typeface="Calibri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：</a:t>
            </a:r>
            <a:r>
              <a:rPr b="1" lang="en-US" sz="3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1928</a:t>
            </a:r>
            <a:r>
              <a:rPr b="1" lang="zh-CN" sz="3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年他发现一颗小行星并命名为</a:t>
            </a:r>
            <a:r>
              <a:rPr b="1" lang="zh-CN" sz="3600" spc="-1" strike="noStrike">
                <a:solidFill>
                  <a:srgbClr val="006600"/>
                </a:solidFill>
                <a:latin typeface="Calibri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中华</a:t>
            </a:r>
            <a:r>
              <a:rPr b="1" lang="zh-CN" sz="3600" spc="-1" strike="noStrike">
                <a:solidFill>
                  <a:srgbClr val="006600"/>
                </a:solidFill>
                <a:latin typeface="Calibri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；</a:t>
            </a:r>
            <a:r>
              <a:rPr b="1" lang="en-US" sz="3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1941</a:t>
            </a:r>
            <a:r>
              <a:rPr b="1" lang="zh-CN" sz="3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年中国境内第一张日全食照片是他组织拍摄的。国际组织将第</a:t>
            </a:r>
            <a:r>
              <a:rPr b="1" lang="en-US" sz="3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2051</a:t>
            </a:r>
            <a:r>
              <a:rPr b="1" lang="zh-CN" sz="3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号星定名</a:t>
            </a:r>
            <a:r>
              <a:rPr b="1" lang="zh-CN" sz="3600" spc="-1" strike="noStrike">
                <a:solidFill>
                  <a:srgbClr val="006600"/>
                </a:solidFill>
                <a:latin typeface="Calibri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张</a:t>
            </a:r>
            <a:r>
              <a:rPr b="1" lang="zh-CN" sz="3600" spc="-1" strike="noStrike">
                <a:solidFill>
                  <a:srgbClr val="006600"/>
                </a:solidFill>
                <a:latin typeface="Calibri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3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学目标：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28240" y="1557360"/>
            <a:ext cx="828684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）初读课文，认识本课的生字和新词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）有感情地朗读课文，了解课文的主要内容。学习作者详略得当的表达方法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920" y="71748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 Light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Calibri Light"/>
              </a:rPr>
              <a:t>自学内容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请试着写几个带“星”的成语：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971640" y="278136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大步流星  披星戴月  星移斗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971640" y="3573360"/>
            <a:ext cx="662472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月明星稀  众星拱月  福星高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群星璀璨      星罗棋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仔细听课文朗读，给生字注音，认真在方格内写两遍，并各组两个词语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钰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y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ù</a:t>
            </a:r>
            <a:r>
              <a:rPr b="1" lang="en-US" sz="4000" spc="-1" strike="noStrike" u="sng">
                <a:solidFill>
                  <a:srgbClr val="006600"/>
                </a:solidFill>
                <a:uFillTx/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哲</a:t>
            </a:r>
            <a:r>
              <a:rPr b="1" lang="zh-CN" sz="4000" spc="-1" strike="noStrike" u="sng">
                <a:solidFill>
                  <a:srgbClr val="006600"/>
                </a:solidFill>
                <a:uFillTx/>
                <a:latin typeface="楷体_GB2312"/>
                <a:ea typeface="楷体_GB2312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zh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é  </a:t>
            </a:r>
            <a:r>
              <a:rPr b="1" lang="zh-CN" sz="4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芝</a:t>
            </a:r>
            <a:r>
              <a:rPr b="1" lang="zh-CN" sz="4000" spc="-1" strike="noStrike" u="sng">
                <a:solidFill>
                  <a:srgbClr val="006600"/>
                </a:solidFill>
                <a:uFillTx/>
                <a:latin typeface="楷体_GB2312"/>
                <a:ea typeface="楷体_GB2312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zh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ī </a:t>
            </a:r>
            <a:r>
              <a:rPr b="1" lang="zh-CN" sz="4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凯</a:t>
            </a:r>
            <a:r>
              <a:rPr b="1" lang="zh-CN" sz="4000" spc="-1" strike="noStrike" u="sng">
                <a:solidFill>
                  <a:srgbClr val="006600"/>
                </a:solidFill>
                <a:uFillTx/>
                <a:latin typeface="楷体_GB2312"/>
                <a:ea typeface="楷体_GB2312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k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ǎ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i </a:t>
            </a:r>
            <a:r>
              <a:rPr b="1" lang="zh-CN" sz="4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迄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q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ì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395280" y="4076640"/>
            <a:ext cx="8893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珍钰   哲理    灵芝   凯旋   迄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钰石   哲学    芝麻   凯歌   迄未见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Calibri Light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Calibri Light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Calibri Light"/>
              </a:rPr>
              <a:t>）积累下列词语，并把它们认真，工整地抄写一遍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000" y="1447560"/>
            <a:ext cx="867564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繁星点点  张钰哲  芝加哥  叶凯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凝神  敏锐  惊喜万分  激动  惯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000" spc="-1" strike="noStrike">
                <a:solidFill>
                  <a:srgbClr val="0563c1"/>
                </a:solidFill>
                <a:latin typeface="楷体_GB2312"/>
                <a:ea typeface="楷体_GB2312"/>
              </a:rPr>
              <a:t>辽阔兴奋  证实  抑制  确信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000" spc="-1" strike="noStrike">
                <a:solidFill>
                  <a:srgbClr val="0563c1"/>
                </a:solidFill>
                <a:latin typeface="楷体_GB2312"/>
                <a:ea typeface="楷体_GB2312"/>
              </a:rPr>
              <a:t>满怀喜悦  迄今为止 永载 情不自禁  中华星  诞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陆续  张衡星  祖冲之星  北京星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南京星 台湾星  哈佛  张星  敬意 丰碑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12:17:00Z</dcterms:created>
  <dc:creator/>
  <dc:description/>
  <dc:language>en-US</dc:language>
  <cp:lastModifiedBy>微软用户</cp:lastModifiedBy>
  <dcterms:modified xsi:type="dcterms:W3CDTF">2016-12-12T13:15:31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047</vt:lpwstr>
  </property>
</Properties>
</file>