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media/image1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B69-F6B4-44B8-97BD-D791ED32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11F-4F9A-4003-8D09-D2DAC82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6926-9522-4EDB-848D-AB1E53C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FF7C0-84F6-469C-ABD2-D971062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AD601-58DE-462B-BFDD-A67C091D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A24A5-95E7-49B5-B9DF-A53B3D0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2407-7A48-4CA2-B5F3-62178F7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23223-2B2E-4CF0-A1F8-B3B2E8B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69D5-62F5-48DC-B43F-D7340D98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9C548-8850-4C2E-B72D-B6F4E455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BB1F4-DD48-47EF-BA04-7D963260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E8A2B-F4B2-4F2B-8FAC-A867060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1B3-3646-4184-A8B0-51C9323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19B05-C06F-49A2-B3A2-BAF78490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3D7A-99AB-4A2B-8640-626A38E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93146-49AC-4615-B681-96CD3AEC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813C4-7679-4F12-8E37-2AFB823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9AE26-801E-4F0F-A756-9E4B9FAE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1B5A0-E2DB-41D6-9C6C-5E2B056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39388-3B35-4D90-80ED-DDC2B37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BC747-5DB6-479E-BE80-D67E870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E4A54-C220-4660-A182-FCCB0517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F1ACD-A532-4BF2-9E2C-97466ACC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5AE-4AF2-49A9-A41C-866E7614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16476-2888-4385-B217-379CE523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9726-B0DE-4982-B57E-54F6C5EA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401B-FBE5-4573-9156-EAC6E9DB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8F461-7C04-4AEF-9848-A11F879F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EFCE3-31DF-4D6B-9862-1FEBD701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02D8-7CCD-4813-B793-F6822AE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9DDB0-8998-416A-9012-41DA9FB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3784-F960-47F4-90DD-AAA5B05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E1FAD-8A59-4E75-9BF5-2FBEFC8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B6AD6-1117-4C3F-9355-33985AD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1C79-8333-4BB8-B293-F180A7AB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3FD83-5781-4109-82BA-7B3F07B8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7D19-BB79-4B5D-9029-F108464B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BDF1-BADB-4EF5-B39E-65FB2004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C94EA-CDBC-4448-820B-61EB3532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B376B-C2D2-4B97-A111-A396A63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5CD50-EB3D-4F25-BE9D-C2A96F49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0E4C5-4471-4940-8F01-1767739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221ED-D0DD-4242-B8EF-82C54B94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A6582-9483-4C31-8D0D-A119C417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32D77-6906-4E54-A7BE-854E5B6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311E-1C83-42A7-BDC9-59E5769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ED5E1-7FEC-47B4-890A-1D8BAF6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D6109-3F68-473C-9FA4-1671BD2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6E0F0-8EBC-4B80-9F3B-551B770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ABCAA-78EA-45AE-A250-596A9A17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4C7EB-BD67-4620-8EDA-B9F7C3A0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3786-9A9A-4EB1-B2D0-736B9C7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5FE6-9139-43F2-B759-12CE484D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177-CF89-405D-B97B-1D739A8D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36C-2E0D-4AE3-958E-D6A7946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105-051D-406C-B44A-CBC3E19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CD3-1230-42ED-81E8-5ACB9CAA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F66A-1D39-408E-8914-78F25F21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1194-E305-4170-82BF-43F09404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8B6-6204-4344-8AF4-1A53E2A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74F-51FD-444C-B4A9-14DCBB8A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7AAD-E814-42B0-B5D6-43DDB0F8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9295-C5F4-4462-953B-2607029E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D78E-AC6F-4738-97C3-9F1C188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1C36-F43A-4E6F-B6B5-1A9698CF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D289-94D7-4884-B425-55787023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CB11-B3DA-4883-8F81-A9C01320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411-D5B7-49B9-96DC-C5BFABF9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2C60-4B8B-41AC-A461-F8856331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DD5E-BD86-4109-BA96-2BAAE17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D00B-0899-4B1B-9891-5DFC9B5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3743-C0B3-44D8-8CA3-1E81A16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0B98-30D7-431C-912D-9222808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B557-1E68-49BC-BE48-B23C2127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67CD-3625-4B13-8DB2-64E7D38A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84F93-A904-4C3D-B7F2-CA037285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64C0-D061-4449-AAC3-7B38E4D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7BC9-4A9A-406D-9703-6349ECF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7AA-C770-4B4A-9D4D-714ABA8F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B8D4-FBE2-4A0C-A884-9907D16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A518-7C3F-4A73-ACD5-E81858C4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7571-EC8E-4C90-9711-BAE28600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8C7C-D6A8-436A-B547-E694C70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CDA1-D518-4C7C-85F1-9BA78B8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B2F0-9C69-48B5-8FD3-4294517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642F-0585-4812-BE89-CD5EEF20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890E-4201-4115-BB01-24A9AF7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4079-C59E-44CF-8B78-5D7FE2BD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7DB4-D4F4-406C-B3D1-23ADCEDD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6E2-C833-4F97-957D-9F08E47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4CE7-359B-495C-91B8-34C236B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91A9-4ADF-4D25-9EFA-4C813A98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38A9-E4CA-4E27-9930-41EB1A47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C9D9-7D09-4F48-BACF-146A2A2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56B2F-D1D7-41E8-81F7-692D3F7E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9054-D500-46DF-A6EE-803C810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C6D5-C0D7-44F2-8242-B7D16DB3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E634-4F63-4B49-B6F0-644DC1F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382F-AAF1-4356-B743-2517787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FD19-DDE3-4C5A-A300-8A1BE157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A90-80F4-4D23-B98C-9614026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722B-AFEF-4824-9BA2-3D6A6F4B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69FF-EE3C-47BB-81DB-473CA883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914C-3A4E-40A2-84BC-1ECD6EED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8CBF4-D44D-4EFC-9946-F7893238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1AC3B-E974-44C8-B429-9F9B3BC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9F60-441E-46FC-AE42-EFC3154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5108-1C59-4DA4-B3F1-6AC2B90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3CAD-6DD1-453E-A9F1-00748F0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2C559-3985-4735-B25F-33406F66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65C8B-049E-43F3-AFA0-0DF8C22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CB9-81B1-4AEC-A456-10B7C53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41A3-D880-4B5D-87C6-518C20D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A715-DEAC-4691-9C04-19E2DAFF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1B51A-72A8-4EB4-9AD1-7CD24A37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4E35-464B-4B0E-B50A-84DE9547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39FF-1D7A-4DEE-9555-2BF77DCA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7F88-A213-4484-81B3-23804519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A246-DD4C-4385-874B-5DA9AF7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49BA-502B-489F-9963-E3C49B3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5258-2A26-49CF-9CDD-206D462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8B74-F9B0-4C73-AC89-AC2CC16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035-F46D-4CA3-8415-D986410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A81C-1E89-47AA-BE12-B25CA72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B195-F933-4E4F-AD88-D5CF3B6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0394-CCFB-459D-A253-0A80438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1B0A-FC49-4B47-912F-F17974D3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A86E-D1F5-46C7-A74E-3BEFD5E2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396B0-37BD-445F-88AC-E8913743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302C-E8C4-41C9-BB3F-2C35D3E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198B-61F3-4999-8CBA-69AC9B6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6D52-EF05-4EB9-9BF5-F9DFE235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F5D56-9E14-4171-8726-B801DCA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963-A763-4FC7-AB0A-067160C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68BED-6064-48C3-8F47-00475A7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77BDE-3C6E-465F-8A57-4543C50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115B-546A-4C7E-B823-5769041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1F96-2AEA-428D-BBA6-B16A4ED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324E-86BE-4D8C-B1B9-0A552AD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615A5-461D-443E-8880-4A0097D0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66BA-09AF-450D-9F41-24A7CFAA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528A7-368C-4321-A7A0-E28DA3DF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47175-1AD4-4330-B605-266378B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D7641-3B44-45FD-B767-EC07630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810-FB6C-413F-B64B-0215F3958BD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8CA-F22D-43A9-B530-22B567D58CC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B8CB-2046-4DA0-9799-1FC2472A12E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044-ACB0-4B46-97EE-C9171C1D257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77B8-001A-4744-BE05-77A529E076C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0427-6916-4DC0-BB39-D6DB0C8EA01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843-3AC8-4CF3-BBE6-661D88E8D32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826-DC9D-4C30-8583-351BFF2C3D2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9D3E-85ED-4CF4-A30F-2D89D740CE3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AAA-95E9-4078-943D-3651D2A9911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201-5A41-4D4C-82ED-F0FAF37CA01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rcRect l="0" t="6325" r="0" b="14724"/>
          <a:stretch/>
        </p:blipFill>
        <p:spPr>
          <a:xfrm>
            <a:off x="0" y="-46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3A5-4FC9-414B-A03D-4904B61B193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4"/>
          <p:cNvSpPr txBox="1"/>
          <p:nvPr/>
        </p:nvSpPr>
        <p:spPr>
          <a:xfrm>
            <a:off x="2556000" y="1916280"/>
            <a:ext cx="44244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零”的突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5" name="Picture 6" descr="3"/>
          <p:cNvPicPr/>
          <p:nvPr/>
        </p:nvPicPr>
        <p:blipFill>
          <a:blip r:embed="rId1"/>
          <a:stretch/>
        </p:blipFill>
        <p:spPr>
          <a:xfrm>
            <a:off x="5364000" y="4076640"/>
            <a:ext cx="2808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读文思考课文可以分为几部分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—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：写许海峰在比赛中表现突出，从小酷爱运动，并进行了长期的艰苦训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—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：写许海峰在比赛中沉着冷静、不负众望，以优异成绩夺下了中国奥运史上的第一枚金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：写中国奥运史上金牌“零”的突破，不仅让中华儿女热血沸腾，也让全世界华人为之欢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学习目标</a:t>
            </a: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体会现场的观众和许海峰当时心情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理解课文内容，体会运动员的顽强意志和为国争光的壮志豪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503280" y="785520"/>
            <a:ext cx="79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（一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始比赛时赛场上的气氛怎样？许海峰的表现如何？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射击技术为何如此高超？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场上的气氛紧张。而许海峰格外的沉着、冷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2798640" y="3861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令人瞩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5052960" y="3832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酷爱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6648120" y="382104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咬咬牙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2816280" y="472536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许海峰的精湛技术是长期的艰苦训练换来的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6"/>
          <p:cNvSpPr/>
          <p:nvPr/>
        </p:nvSpPr>
        <p:spPr>
          <a:xfrm>
            <a:off x="900000" y="1217160"/>
            <a:ext cx="698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当比赛中出现了什么意外情况？场上的气氛怎样？许海峰又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做的？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出现刺眼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环。场上气氛仍是紧张，他仍是沉默，坚定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3153600" y="4174200"/>
            <a:ext cx="511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他仿佛看到了</a:t>
            </a:r>
            <a:r>
              <a:rPr b="1" lang="en-US" sz="3200" spc="-1" strike="noStrike">
                <a:solidFill>
                  <a:srgbClr val="44546a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他猛地清醒</a:t>
            </a:r>
            <a:r>
              <a:rPr b="1" lang="en-US" sz="3200" spc="-1" strike="noStrike">
                <a:solidFill>
                  <a:srgbClr val="44546a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此时，周围的空气仿佛已经凝固</a:t>
            </a:r>
            <a:r>
              <a:rPr b="1" lang="en-US" sz="3200" spc="-1" strike="noStrike">
                <a:solidFill>
                  <a:srgbClr val="44546a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44546a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916360" y="0"/>
            <a:ext cx="605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重点句子分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在国家集训队中，他进行了长期艰苦的训练。多少次瞄准，射击，再瞄准，再射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许海峰夺得金牌的关键在于什么？从哪些语句可以看出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运用了反复的修辞手法，突出表现了许海峰顽强的意志和不怕吃苦的精神，这也是他夺得金牌的关键所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1187280" y="686160"/>
            <a:ext cx="7201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二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许海峰取得自选手枪慢射比赛奥运冠军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有什么历史意义？</a:t>
            </a:r>
            <a:r>
              <a:rPr b="0" lang="zh-CN" sz="2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792000" y="836640"/>
            <a:ext cx="8352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许海峰的枪声不但 为新中国夺得了奥运会的第一块金牌，也向世界宣告奥林匹克的舞台上，从此出现了一个新的体育大国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这句话说明“零”的突破既是奥运会上金牌的突破，又是中国走向体育大国的突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1581120" y="1417680"/>
            <a:ext cx="75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8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中国夺得奥运史上第一枚金牌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承办奥林匹克运动会，说明了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3" name="Picture 5" descr="拓展延伸"/>
          <p:cNvPicPr/>
          <p:nvPr/>
        </p:nvPicPr>
        <p:blipFill>
          <a:blip r:embed="rId1"/>
          <a:stretch/>
        </p:blipFill>
        <p:spPr>
          <a:xfrm>
            <a:off x="539640" y="34920"/>
            <a:ext cx="2535480" cy="1670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1"/>
          <p:cNvPicPr/>
          <p:nvPr/>
        </p:nvPicPr>
        <p:blipFill>
          <a:blip r:embed="rId2"/>
          <a:stretch/>
        </p:blipFill>
        <p:spPr>
          <a:xfrm>
            <a:off x="2727360" y="2852640"/>
            <a:ext cx="1871640" cy="1643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"/>
          <p:cNvSpPr/>
          <p:nvPr/>
        </p:nvSpPr>
        <p:spPr>
          <a:xfrm>
            <a:off x="2954880" y="479664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奥运会标志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10" descr="Img214068870"/>
          <p:cNvPicPr/>
          <p:nvPr/>
        </p:nvPicPr>
        <p:blipFill>
          <a:blip r:embed="rId3"/>
          <a:stretch/>
        </p:blipFill>
        <p:spPr>
          <a:xfrm>
            <a:off x="5796000" y="281304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1"/>
          <p:cNvSpPr/>
          <p:nvPr/>
        </p:nvSpPr>
        <p:spPr>
          <a:xfrm>
            <a:off x="6050520" y="482652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奥运会标志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076720" y="259560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2627280" y="13032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读词语，注意带点字的读音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uò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杉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jī)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ǎ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    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ān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锻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   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ǎo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z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奋人心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5" descr="练习或作业"/>
          <p:cNvPicPr/>
          <p:nvPr/>
        </p:nvPicPr>
        <p:blipFill>
          <a:blip r:embed="rId1"/>
          <a:stretch/>
        </p:blipFill>
        <p:spPr>
          <a:xfrm>
            <a:off x="403200" y="114480"/>
            <a:ext cx="1000080" cy="7617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6"/>
          <p:cNvSpPr/>
          <p:nvPr/>
        </p:nvSpPr>
        <p:spPr>
          <a:xfrm>
            <a:off x="1403280" y="842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539640" y="907920"/>
            <a:ext cx="87886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读课文，说说从下列句子中你体会到了什么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次瞄准，射击，再瞄准，再射击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举起，放下，放下，举起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你还知道哪些中国运动员在奥运会上夺得金牌？选其中一个讲给同学听听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3" name="Picture 5" descr="练习或作业"/>
          <p:cNvPicPr/>
          <p:nvPr/>
        </p:nvPicPr>
        <p:blipFill>
          <a:blip r:embed="rId1"/>
          <a:stretch/>
        </p:blipFill>
        <p:spPr>
          <a:xfrm>
            <a:off x="184320" y="38412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684360" y="32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 Light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812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正确、流利、有感情地朗读课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理清文章的脉络，感受体育大国的崛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24000" y="-22680"/>
            <a:ext cx="313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文章主旨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19320" y="126828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本文通过写许海峰经过长期的艰苦训练，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届奥运会上，以优异的成绩为中国夺得奥运史上的第一枚金牌，实现了中国奥运会金牌“零”的突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 Light"/>
              </a:rPr>
              <a:t>自学指导（一）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零的突破”具体指的是什么？是谁取得了“零的突破”？这个“零的突破”有何意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新中国夺得了奥运会的第一块金牌，既是奥运会上金牌的突破，又是中国体育史的突破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许海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他的胜利不是他一个人的胜利，而是一个民族的胜利，一个新的体育大国的崛起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755640" y="12682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有哪些中国体育运动员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运会上夺得过金牌？谁第一次在奥运会上夺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牌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6" descr="小蜜蜂"/>
          <p:cNvPicPr/>
          <p:nvPr/>
        </p:nvPicPr>
        <p:blipFill>
          <a:blip r:embed="rId1"/>
          <a:stretch/>
        </p:blipFill>
        <p:spPr>
          <a:xfrm>
            <a:off x="5580000" y="357336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xinsrc_2420205281540953263225"/>
          <p:cNvPicPr/>
          <p:nvPr/>
        </p:nvPicPr>
        <p:blipFill>
          <a:blip r:embed="rId1"/>
          <a:srcRect l="0" t="0" r="-27" b="10704"/>
          <a:stretch/>
        </p:blipFill>
        <p:spPr>
          <a:xfrm>
            <a:off x="2268360" y="836640"/>
            <a:ext cx="4788000" cy="34923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8"/>
          <p:cNvSpPr/>
          <p:nvPr/>
        </p:nvSpPr>
        <p:spPr>
          <a:xfrm>
            <a:off x="2700360" y="5229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萨马兰奇为许海峰颁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4211640" y="836640"/>
            <a:ext cx="43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姓名：许海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性别：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出生日期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57-8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出生地：福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运动项目：射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最好成绩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84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在洛杉矶奥运会上夺得射击男子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手枪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发金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Picture 7" descr="xinsrc_57207042815427962518142"/>
          <p:cNvPicPr/>
          <p:nvPr/>
        </p:nvPicPr>
        <p:blipFill>
          <a:blip r:embed="rId1"/>
          <a:stretch/>
        </p:blipFill>
        <p:spPr>
          <a:xfrm>
            <a:off x="396720" y="1341360"/>
            <a:ext cx="34070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755640" y="62064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自学指导二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4340520" y="2492280"/>
            <a:ext cx="121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掌握生字、新词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梳清调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2771640" y="24922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洛杉矶  瞄准   扳机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3191040" y="4076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锻铸    搞好   关键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0" name="Picture 7" descr="生字学习"/>
          <p:cNvPicPr/>
          <p:nvPr/>
        </p:nvPicPr>
        <p:blipFill>
          <a:blip r:embed="rId1"/>
          <a:stretch/>
        </p:blipFill>
        <p:spPr>
          <a:xfrm>
            <a:off x="541440" y="198360"/>
            <a:ext cx="2028600" cy="17398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2698920" y="1916280"/>
            <a:ext cx="17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uò      j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714920" y="191628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á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515280" y="19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ā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2627280" y="3571920"/>
            <a:ext cx="15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uà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4788000" y="350028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ǎ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091280" y="3571920"/>
            <a:ext cx="10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2410920" y="620280"/>
            <a:ext cx="9178920" cy="66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举世瞩目：全世界的人都注视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锻铸：锻造和浇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坚忍：（在艰苦困难的情况下）坚持而不动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沉着：镇静；不慌不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冷静：沉着而不感情用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凝固：比喻固定不变；停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屏息以待：屏气等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此一举：指事情的成败就决定于这一次的行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振奋人心：使人们的精神振作奋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雄浑：雄健浑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豪放：气魄大而无所拘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热血沸腾：比喻情绪高涨、激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豪情：豪迈的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9:26:26Z</dcterms:created>
  <dc:creator/>
  <dc:description/>
  <dc:language>en-US</dc:language>
  <cp:lastModifiedBy>微软用户</cp:lastModifiedBy>
  <dcterms:modified xsi:type="dcterms:W3CDTF">2016-12-12T13:35:0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