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6B4-4B96-4868-A7D7-8AA3C03B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FEA-2DE7-447E-8AFC-B0FCB68F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DF8-4DA4-4AA1-B007-F590ADE6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BCE-5740-4ECD-8439-174C6550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77A4-F8A0-4F39-A7EE-409FFCAE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4D6F-3191-4AF9-BF01-605AEDB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E04C-DF9A-4A90-A4D1-C3D1E78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0C41-0AF0-46F1-A472-2E8D395B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3CD9-CF95-493D-A457-F2E7A930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FBE0-3F88-4084-98AC-654873C8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5D62-C7A7-4F4F-BD22-13D12D24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CB1-2F25-4DEF-B575-69BC4984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F8C3-AD42-4C6A-A669-6874A6D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EBD8-5A0C-4E6D-AFFE-50BC3F4C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2741-4765-43F9-BFC2-4BB557EF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AE97-3D2E-4D88-8C54-034B7E9D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DA07-89F2-42A1-9B7D-A5B55249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42CCC-6E45-49E7-ADB8-250EB4B071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63DD9-B486-4654-89BD-591ED9625A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7378DD-4F62-4C7E-9F8C-F3FD54B7C6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3F57A-E37A-4AD2-ABC8-6221CCF8C1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6CFF1-EE68-4E36-9918-84C9A2C86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EF9-8A3D-42C6-939F-CD43B3FB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A0FE4-8FF8-4F5A-B07B-4A4736E96E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6A24E-581C-4154-A73A-BA7EF1EA7B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9742E-A116-4360-BD07-3D29A88BB2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091FFB-4D10-4780-ADF3-6F39E5EDDB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8B82D-C74A-4119-B379-5391B2B54C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A76F5-997E-42BC-AE10-14E06D4847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CEDC9-CB11-4641-9854-8E76941BF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C4B-57EF-42E7-8ED4-DCEE04A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C5D-643B-4BE1-A3E8-86D13E47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E1B-C362-4D34-B852-6C7696FE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3C0-48A6-467A-B70A-55C337B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75E-A5C0-485D-9832-7C56BFAD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70B-0676-4037-9AF7-4DF84CB1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2853-F77C-40DC-A29D-3C8551B355E3}" type="slidenum">
              <a:rPr b="0" lang="ko-KR" sz="9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7269-975E-4F91-9D06-4CF7E046EDE0}" type="slidenum">
              <a:rPr b="0" lang="ko-KR" sz="9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33D2-D0C9-42AD-B2AF-D20A0396CDD1}" type="slidenum">
              <a:rPr b="0" lang="ko-KR" sz="9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2"/>
          <p:cNvSpPr/>
          <p:nvPr/>
        </p:nvSpPr>
        <p:spPr>
          <a:xfrm>
            <a:off x="1192680" y="330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师大版小学语文六年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2627280" y="2000160"/>
            <a:ext cx="396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数字图书馆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24000" y="907920"/>
            <a:ext cx="822960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请同学们结合自己的亲身经历，谈谈传统图书馆还存在哪些不足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695160" y="234936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藏的书目有限、借还都比较麻烦、还不能在书上勾画作记号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4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学习第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段，自学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95280" y="1484280"/>
            <a:ext cx="82296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什么是数字图书馆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什么是电子图书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③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传统图书比较，电子图书有什么优点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468360" y="14000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字图书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是用数字技术处理和存储各种文献的图书馆，实质上它是一种多媒体制作的分布式信息系统，把各种不同载体、不同地理位置的信息资源用数字技术存贮，以跨越区域面向对象的网络查询和传播的一个大型信息系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矩形 1"/>
          <p:cNvSpPr/>
          <p:nvPr/>
        </p:nvSpPr>
        <p:spPr>
          <a:xfrm>
            <a:off x="2117520" y="754200"/>
            <a:ext cx="31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①</a:t>
            </a:r>
            <a:r>
              <a:rPr b="0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什么是数字图书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971640" y="549360"/>
            <a:ext cx="69134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9640" y="14414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子图书，就是利用现代信息技术对传统的文字、图像和声音进行压缩处理，使它转化为数字，然后，通过计算机技术进行储存，通过网络技术进行传播和接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1796760" y="671400"/>
            <a:ext cx="28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②</a:t>
            </a:r>
            <a:r>
              <a:rPr b="0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什么是电子图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1476360" y="2565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能得到更大范围的传播和更持久的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00000" y="98100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③</a:t>
            </a:r>
            <a:r>
              <a:rPr b="0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和传统图书比较，电子图书有什么好处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3792cb39ba3600e03a87ceee"/>
          <p:cNvPicPr/>
          <p:nvPr/>
        </p:nvPicPr>
        <p:blipFill>
          <a:blip r:embed="rId1"/>
          <a:stretch/>
        </p:blipFill>
        <p:spPr>
          <a:xfrm>
            <a:off x="1619280" y="2421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2528640" y="105264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二者之间是什么关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pic"/>
          <p:cNvPicPr/>
          <p:nvPr/>
        </p:nvPicPr>
        <p:blipFill>
          <a:blip r:embed="rId2"/>
          <a:stretch/>
        </p:blipFill>
        <p:spPr>
          <a:xfrm>
            <a:off x="5219640" y="213372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156" name="Line 7"/>
          <p:cNvSpPr/>
          <p:nvPr/>
        </p:nvSpPr>
        <p:spPr>
          <a:xfrm>
            <a:off x="4462560" y="2060640"/>
            <a:ext cx="0" cy="25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008000" y="105264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年过去了，我的身上布满了灰尘，我的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们的容颜也发生了很大的变化，有的身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甚至是伤痕累累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028880" y="321300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由纸装订的图书容易毁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不利用更大范围的传播和更持久的保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971640" y="981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图书馆业的一场革命。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11280" y="1844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把传统图书变为电子图书，是图书馆业的一场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</a:rPr>
              <a:t>革命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。也就是说，以前的图书馆收藏的是传统的图书，数字图书馆储存的是电子图书，实现了由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印刷时代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向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信息时代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的跨越。文章到这儿，把数字图书馆的实质和好处都介绍清楚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11280" y="177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电子图书可以无成本任意复制，便于传播和扩散，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合大家共享。当然也带来了版权保护等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419640" y="9079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电子图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19280" y="3068640"/>
            <a:ext cx="83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电子图书有方便快捷的查找功能，可以迅速找到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内容，大大提高了资料检索的效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电子图书支持剪切、拷贝等功能，对读者有用的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马上可以复制，节省了大量的抄写时间和精力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拓展学习"/>
          <p:cNvPicPr/>
          <p:nvPr/>
        </p:nvPicPr>
        <p:blipFill>
          <a:blip r:embed="rId1"/>
          <a:stretch/>
        </p:blipFill>
        <p:spPr>
          <a:xfrm>
            <a:off x="539640" y="549360"/>
            <a:ext cx="2295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232640" y="1214280"/>
            <a:ext cx="492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学习课文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8—1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975760" y="2714760"/>
            <a:ext cx="166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宋体"/>
                <a:ea typeface="宋体"/>
              </a:rPr>
              <a:t>五湖四海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宋体"/>
                <a:ea typeface="宋体"/>
              </a:rPr>
              <a:t>成千上万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宋体"/>
                <a:ea typeface="宋体"/>
              </a:rPr>
              <a:t>不可估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"/>
          <p:cNvPicPr/>
          <p:nvPr/>
        </p:nvPicPr>
        <p:blipFill>
          <a:blip r:embed="rId1"/>
          <a:stretch/>
        </p:blipFill>
        <p:spPr>
          <a:xfrm>
            <a:off x="6516720" y="5815080"/>
            <a:ext cx="2359080" cy="834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03"/>
          <p:cNvPicPr/>
          <p:nvPr/>
        </p:nvPicPr>
        <p:blipFill>
          <a:blip r:embed="rId2"/>
          <a:stretch/>
        </p:blipFill>
        <p:spPr>
          <a:xfrm>
            <a:off x="901800" y="1474920"/>
            <a:ext cx="2878200" cy="2219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04"/>
          <p:cNvPicPr/>
          <p:nvPr/>
        </p:nvPicPr>
        <p:blipFill>
          <a:blip r:embed="rId3"/>
          <a:stretch/>
        </p:blipFill>
        <p:spPr>
          <a:xfrm>
            <a:off x="907920" y="3724200"/>
            <a:ext cx="3310200" cy="209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01"/>
          <p:cNvPicPr/>
          <p:nvPr/>
        </p:nvPicPr>
        <p:blipFill>
          <a:blip r:embed="rId4"/>
          <a:stretch/>
        </p:blipFill>
        <p:spPr>
          <a:xfrm>
            <a:off x="3852720" y="1554120"/>
            <a:ext cx="3200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571680" y="13572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如果不是数字图书馆，我就只能被少数人阅读，哪能像现在这样被全世界的人共享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1403280" y="184464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听课文朗读，说说课文主要讲了什么内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50760" y="1050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整整齐齐   人来人往    跃跃欲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伤痕累累   疲惫不堪    忐忑不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愿以偿   五湖四海    情不自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90480" y="260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读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细读感悟"/>
          <p:cNvPicPr/>
          <p:nvPr/>
        </p:nvPicPr>
        <p:blipFill>
          <a:blip r:embed="rId1"/>
          <a:stretch/>
        </p:blipFill>
        <p:spPr>
          <a:xfrm>
            <a:off x="539640" y="519120"/>
            <a:ext cx="2619360" cy="701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1187280" y="143676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1--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段大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116000" y="2168640"/>
            <a:ext cx="6985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了解传统图书馆的情况以及图书“我”和、“我”所见的景况。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826920" y="620640"/>
            <a:ext cx="7428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结合生活实际谈谈图书馆在我们生活中的作用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684360" y="2133720"/>
            <a:ext cx="72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  <a:ea typeface="宋体"/>
              </a:rPr>
              <a:t>可以给我们提供许多书籍，更广泛的阅读，读书还能使我们的知识变得更丰富，和好书交朋友，会使我们的心灵变得更纯洁，让我们的生活变得更美好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……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4" descr="01"/>
          <p:cNvPicPr/>
          <p:nvPr/>
        </p:nvPicPr>
        <p:blipFill>
          <a:blip r:embed="rId1"/>
          <a:stretch/>
        </p:blipFill>
        <p:spPr>
          <a:xfrm>
            <a:off x="6767640" y="260280"/>
            <a:ext cx="2376360" cy="936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826920" y="155736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黑体"/>
                <a:ea typeface="黑体"/>
              </a:rPr>
              <a:t>3. </a:t>
            </a:r>
            <a:r>
              <a:rPr b="1" lang="zh-CN" sz="4800" spc="-1" strike="noStrike">
                <a:solidFill>
                  <a:srgbClr val="800000"/>
                </a:solidFill>
                <a:latin typeface="黑体"/>
                <a:ea typeface="黑体"/>
              </a:rPr>
              <a:t>自读课文，找出文中描写传统图书馆不足的地方并作上记号。</a:t>
            </a:r>
            <a:br>
              <a:rPr sz="2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50920" y="1035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00000"/>
                </a:solidFill>
                <a:latin typeface="Verdana"/>
                <a:ea typeface="黑体"/>
              </a:rPr>
              <a:t>传统图书不足之一</a:t>
            </a:r>
            <a:r>
              <a:rPr b="0" lang="zh-CN" sz="2800" spc="-1" strike="noStrike">
                <a:solidFill>
                  <a:srgbClr val="800000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00000"/>
                </a:solidFill>
                <a:latin typeface="Verdana"/>
                <a:ea typeface="黑体"/>
              </a:rPr>
              <a:t>功能局限</a:t>
            </a:r>
            <a:r>
              <a:rPr b="0" lang="zh-CN" sz="2800" spc="-1" strike="noStrike">
                <a:solidFill>
                  <a:srgbClr val="800000"/>
                </a:solidFill>
                <a:latin typeface="Verdana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读者需要的图书已经被其他人借走时，我们就会听到图书管理员歉意的解释，看到读者失望的神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当这个时候我们就会很难过，恨不得自己有分身术，可以让更多的读者阅读。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684360" y="765000"/>
            <a:ext cx="77752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传统图书不足之二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图书容易毁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的伙伴们的容颜也发生了很大的变化，有的身上甚至是伤痕累累。虽然我们已经疲惫不堪，可是我们为人们奉献知识的热情并没有减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容颜变化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伤痕累累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疲惫不堪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3T01:08:02Z</dcterms:modified>
  <cp:revision>3</cp:revision>
  <dc:subject/>
  <dc:title/>
</cp:coreProperties>
</file>