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3479-B525-4C97-BF07-1DA2A587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BBDD-471C-4C50-9CE2-F316CBD6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3ACE-FC3B-49ED-8C27-D6A89671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D23E-7085-421A-913B-2A440AE4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6484-5453-4984-9A8D-7C126724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0351-767F-4E60-8D2A-56FB4A35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A369-5460-4517-BBB8-A78AC16A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ADDB-3E20-495F-AEDF-6687944F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7CB4-A449-4ED2-B680-157329F1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3923-82CE-4E18-8206-29BC0CAE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15FC-F1E4-4A8C-80D7-D7D04A7A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84C5-760B-4825-B0CE-A7E14D95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更多全套课件免费下载：绿色圃中小学教育网</a:t>
            </a: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http://www.lspjy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8E80-B92F-4C13-A861-3B7132555605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2"/>
          <p:cNvSpPr/>
          <p:nvPr/>
        </p:nvSpPr>
        <p:spPr>
          <a:xfrm>
            <a:off x="3102480" y="1125360"/>
            <a:ext cx="325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古诗两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9000"/>
            <a:ext cx="19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 Light"/>
              </a:rPr>
              <a:t>点播归纳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979280" y="13410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默写古诗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芙蓉楼送辛渐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——————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——————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——————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——————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78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 Light"/>
              </a:rPr>
              <a:t>创新反思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我还会背诵其他的送别诗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____________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___________,____________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——————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——————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 Light"/>
              </a:rPr>
              <a:t>轻松演练 一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、说出下列词语的意思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冰心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——        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平明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——    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玉壶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——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、写出诗句的意思：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洛阳亲友如相问，一片冰心在玉壶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————————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————————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。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、这首诗所写的时间是（         ），地点是（        ）   事情是（        ），  表达了作者（            ）的感情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 Light"/>
              </a:rPr>
              <a:t>轻松演练 二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四、判断题。（对的打“√”，错的打“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×”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芙蓉楼送辛渐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是唐朝的王维写的。 （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“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平明”指清晨天刚亮；“冰心”比喻心的纯洁。 （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“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劝君更尽一杯酒，西出阳关无故人”写出了依依       惜别之情。 （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一首诗送别的时间是在夜晚，第二首诗是在早晨。 （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826920" y="14842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学会生字词，理解词语意思</a:t>
            </a:r>
            <a:r>
              <a:rPr b="1" lang="zh-CN" sz="32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31960" y="20797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正确、流利、有感情地朗读诗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920" y="2720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了解课文内容，知道诗句大意。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822120" y="4809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芙蓉楼送辛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19"/>
          <p:cNvSpPr/>
          <p:nvPr/>
        </p:nvSpPr>
        <p:spPr>
          <a:xfrm>
            <a:off x="1835280" y="537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2"/>
          <p:cNvSpPr/>
          <p:nvPr/>
        </p:nvSpPr>
        <p:spPr>
          <a:xfrm>
            <a:off x="4211640" y="530064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学检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8000" y="333360"/>
          <a:ext cx="7020000" cy="4097520"/>
        </p:xfrm>
        <a:graphic>
          <a:graphicData uri="http://schemas.openxmlformats.org/drawingml/2006/table">
            <a:tbl>
              <a:tblPr/>
              <a:tblGrid>
                <a:gridCol w="7020000"/>
              </a:tblGrid>
              <a:tr h="409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根据拼音写词语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ū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r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ó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g   w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ā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g ch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ā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g l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í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g   lu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ò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y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g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           )  (                         )      (            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形近字组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渐（     ）     洛 （     ）  壶（    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惭（     ）     落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       )    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虚（    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24000" y="501480"/>
          <a:ext cx="7921440" cy="3017880"/>
        </p:xfrm>
        <a:graphic>
          <a:graphicData uri="http://schemas.openxmlformats.org/drawingml/2006/table">
            <a:tbl>
              <a:tblPr/>
              <a:tblGrid>
                <a:gridCol w="7921440"/>
              </a:tblGrid>
              <a:tr h="301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说说诗句“洛阳亲友如相问，一片冰心              在玉壶”的意思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从这首诗中你能看到什么景物？体现什么心情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这首诗表达了诗人什么情感？从哪儿可以看出来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20"/>
          <p:cNvSpPr/>
          <p:nvPr/>
        </p:nvSpPr>
        <p:spPr>
          <a:xfrm>
            <a:off x="3519720" y="55897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合作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92720" y="34560"/>
            <a:ext cx="194292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 Light"/>
              </a:rPr>
              <a:t>精彩展示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000" y="902880"/>
            <a:ext cx="77706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说说诗句“洛阳亲友如相问，一片冰心在玉壶”的意思。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从这首诗中你能看到什么景物？体现什么心情？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这首诗表达了诗人什么情感？从哪儿可以看出来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92720" y="34560"/>
            <a:ext cx="194292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 Light"/>
              </a:rPr>
              <a:t>精彩展示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1008000" y="54936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寒雨</a:t>
            </a: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连江</a:t>
            </a: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夜入吴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50920" y="1484280"/>
            <a:ext cx="741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昨天晚上，透着寒意的雨洒落大地，迷蒙的烟雨笼罩着吴地江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92720" y="34560"/>
            <a:ext cx="194292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 Light"/>
              </a:rPr>
              <a:t>精彩展示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187280" y="1494000"/>
            <a:ext cx="741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楷体_GB2312"/>
              </a:rPr>
              <a:t>清晨当我送别友人的时候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楷体_GB2312"/>
              </a:rPr>
              <a:t>感到自己就像楚山一样孤独寂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187280" y="62064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平明</a:t>
            </a: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送客</a:t>
            </a: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楚山孤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92720" y="34560"/>
            <a:ext cx="194292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 Light"/>
              </a:rPr>
              <a:t>精彩展示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177920" y="191628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楷体_GB2312"/>
              </a:rPr>
              <a:t>洛阳的亲朋好友如果向你问起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1187280" y="779400"/>
            <a:ext cx="813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洛阳亲友</a:t>
            </a: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如相问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92720" y="34560"/>
            <a:ext cx="194292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 Light"/>
              </a:rPr>
              <a:t>精彩展示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177920" y="191628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就请转告他们：我的心仍如晶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剔透的冰，清正廉明，贮藏在玉壶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143000" y="92088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一片</a:t>
            </a: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冰心</a:t>
            </a: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在玉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08:45:18Z</dcterms:created>
  <dc:creator/>
  <dc:description/>
  <dc:language>en-US</dc:language>
  <cp:lastModifiedBy>Administrator</cp:lastModifiedBy>
  <dcterms:modified xsi:type="dcterms:W3CDTF">2016-12-13T01:52:35Z</dcterms:modified>
  <cp:revision>2</cp:revision>
  <dc:subject/>
  <dc:title/>
</cp:coreProperties>
</file>