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303-BAA5-4FE6-8EE1-9E87718E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78A-B3E6-4813-8AAC-57167BAA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1F6-8E02-4B5D-B407-6D19CF9D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C55A-4479-48D6-983C-BF926C4C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F1CD-B632-444C-984E-3BC1C1B5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9704-715E-4794-9848-E51773F1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4E97-2F84-4D67-954C-E4A6590B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BC8-0C6B-4842-8FC7-BADD66A0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4A78-086A-49CE-AAF6-A5246F89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341-E8C0-4263-8756-7BE371BF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F551-2D6D-4733-9E05-ECD7F8CA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1825-EF34-414D-A4FE-99443297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ACBA-53D1-44FD-A93C-CAEE1FAEFD15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7088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 Light"/>
              </a:rPr>
              <a:t>18</a:t>
            </a:r>
            <a:r>
              <a:rPr b="1" lang="zh-CN" sz="4400" spc="-1" strike="noStrike">
                <a:solidFill>
                  <a:srgbClr val="000000"/>
                </a:solidFill>
                <a:latin typeface="Calibri Light"/>
              </a:rPr>
              <a:t>、永远记住您，老师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shaliwen"/>
          <p:cNvPicPr/>
          <p:nvPr/>
        </p:nvPicPr>
        <p:blipFill>
          <a:blip r:embed="rId1"/>
          <a:stretch/>
        </p:blipFill>
        <p:spPr>
          <a:xfrm>
            <a:off x="828720" y="2157480"/>
            <a:ext cx="47736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200" y="364680"/>
            <a:ext cx="20718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2060"/>
                </a:solidFill>
                <a:latin typeface="Calibri Light"/>
              </a:rPr>
              <a:t>课文理解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37920" y="12474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Calibri"/>
              </a:rPr>
              <a:t>全文共</a:t>
            </a:r>
            <a:r>
              <a:rPr b="1" lang="zh-CN" sz="3000" spc="-1" strike="noStrike">
                <a:solidFill>
                  <a:srgbClr val="002060"/>
                </a:solidFill>
                <a:latin typeface="Calibri"/>
              </a:rPr>
              <a:t>14</a:t>
            </a:r>
            <a:r>
              <a:rPr b="1" lang="zh-CN" sz="3000" spc="-1" strike="noStrike">
                <a:solidFill>
                  <a:srgbClr val="002060"/>
                </a:solidFill>
                <a:latin typeface="Calibri"/>
              </a:rPr>
              <a:t>个自然段，可分为三部分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Calibri"/>
              </a:rPr>
              <a:t>第一部分（</a:t>
            </a:r>
            <a:r>
              <a:rPr b="1" lang="zh-CN" sz="30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zh-CN" sz="3000" spc="-1" strike="noStrike">
                <a:solidFill>
                  <a:srgbClr val="002060"/>
                </a:solidFill>
                <a:latin typeface="Calibri"/>
              </a:rPr>
              <a:t>）：写“我”因又聋又哑而生活在沉寂和黑暗的世界里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Calibri"/>
              </a:rPr>
              <a:t>第二部分（</a:t>
            </a:r>
            <a:r>
              <a:rPr b="1" lang="zh-CN" sz="3000" spc="-1" strike="noStrike">
                <a:solidFill>
                  <a:srgbClr val="002060"/>
                </a:solidFill>
                <a:latin typeface="Calibri"/>
              </a:rPr>
              <a:t>2-13</a:t>
            </a:r>
            <a:r>
              <a:rPr b="1" lang="zh-CN" sz="3000" spc="-1" strike="noStrike">
                <a:solidFill>
                  <a:srgbClr val="002060"/>
                </a:solidFill>
                <a:latin typeface="Calibri"/>
              </a:rPr>
              <a:t>）：写安妮</a:t>
            </a:r>
            <a:r>
              <a:rPr b="1" lang="zh-CN" sz="3000" spc="-1" strike="noStrike">
                <a:solidFill>
                  <a:srgbClr val="002060"/>
                </a:solidFill>
                <a:latin typeface="Calibri"/>
              </a:rPr>
              <a:t>·</a:t>
            </a:r>
            <a:r>
              <a:rPr b="1" lang="zh-CN" sz="3000" spc="-1" strike="noStrike">
                <a:solidFill>
                  <a:srgbClr val="002060"/>
                </a:solidFill>
                <a:latin typeface="Calibri"/>
              </a:rPr>
              <a:t>沙利文老师对“我”的教育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Calibri"/>
              </a:rPr>
              <a:t>第三部分（</a:t>
            </a:r>
            <a:r>
              <a:rPr b="1" lang="zh-CN" sz="3000" spc="-1" strike="noStrike">
                <a:solidFill>
                  <a:srgbClr val="002060"/>
                </a:solidFill>
                <a:latin typeface="Calibri"/>
              </a:rPr>
              <a:t>14</a:t>
            </a:r>
            <a:r>
              <a:rPr b="1" lang="zh-CN" sz="3000" spc="-1" strike="noStrike">
                <a:solidFill>
                  <a:srgbClr val="002060"/>
                </a:solidFill>
                <a:latin typeface="Calibri"/>
              </a:rPr>
              <a:t>）：写安妮</a:t>
            </a:r>
            <a:r>
              <a:rPr b="1" lang="zh-CN" sz="3000" spc="-1" strike="noStrike">
                <a:solidFill>
                  <a:srgbClr val="002060"/>
                </a:solidFill>
                <a:latin typeface="Calibri"/>
              </a:rPr>
              <a:t>·</a:t>
            </a:r>
            <a:r>
              <a:rPr b="1" lang="zh-CN" sz="3000" spc="-1" strike="noStrike">
                <a:solidFill>
                  <a:srgbClr val="002060"/>
                </a:solidFill>
                <a:latin typeface="Calibri"/>
              </a:rPr>
              <a:t>沙利文老师的教育令“我”终身受益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3"/>
          <p:cNvSpPr/>
          <p:nvPr/>
        </p:nvSpPr>
        <p:spPr>
          <a:xfrm>
            <a:off x="324000" y="260280"/>
            <a:ext cx="433080" cy="432000"/>
          </a:xfrm>
          <a:custGeom>
            <a:avLst/>
            <a:gdLst/>
            <a:ahLst/>
            <a:rect l="l" t="t" r="r" b="b"/>
            <a:pathLst>
              <a:path w="433388" h="431800">
                <a:moveTo>
                  <a:pt x="0" y="164933"/>
                </a:moveTo>
                <a:lnTo>
                  <a:pt x="165540" y="164934"/>
                </a:lnTo>
                <a:lnTo>
                  <a:pt x="216694" y="0"/>
                </a:lnTo>
                <a:lnTo>
                  <a:pt x="267848" y="164934"/>
                </a:lnTo>
                <a:lnTo>
                  <a:pt x="433388" y="164933"/>
                </a:lnTo>
                <a:lnTo>
                  <a:pt x="299462" y="266866"/>
                </a:lnTo>
                <a:lnTo>
                  <a:pt x="350618" y="431799"/>
                </a:lnTo>
                <a:lnTo>
                  <a:pt x="216694" y="329864"/>
                </a:lnTo>
                <a:lnTo>
                  <a:pt x="82770" y="431799"/>
                </a:lnTo>
                <a:lnTo>
                  <a:pt x="133926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971640" y="18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课堂小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42920" y="1052640"/>
            <a:ext cx="8640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在你的生活中有像安妮老师一样具有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心、耐心和智慧的老师吗？他曾经给你留下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怎样的印象，给你什么样的人生启迪？把你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心深处的话说出来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42920" y="38988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请你也写下你和老师之间的故事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每当轻轻走过老师的窗前.mp3" descr=""/>
          <p:cNvPicPr/>
          <p:nvPr/>
        </p:nvPicPr>
        <p:blipFill>
          <a:blip r:embed="rId1"/>
          <a:stretch/>
        </p:blipFill>
        <p:spPr>
          <a:xfrm>
            <a:off x="8604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23137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2" name="Picture 3" descr="u=1133867939,231675129&amp;fm=23&amp;gp=0"/>
          <p:cNvPicPr/>
          <p:nvPr/>
        </p:nvPicPr>
        <p:blipFill>
          <a:blip r:embed="rId1"/>
          <a:stretch/>
        </p:blipFill>
        <p:spPr>
          <a:xfrm>
            <a:off x="469800" y="1554120"/>
            <a:ext cx="482148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-100080"/>
            <a:ext cx="2143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 Light"/>
              </a:rPr>
              <a:t>背景知识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9640" y="8362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zh-CN" sz="3000" spc="-1" strike="noStrike">
                <a:solidFill>
                  <a:srgbClr val="002060"/>
                </a:solidFill>
                <a:latin typeface="Calibri"/>
              </a:rPr>
              <a:t>安妮</a:t>
            </a:r>
            <a:r>
              <a:rPr b="1" lang="zh-CN" sz="3000" spc="-1" strike="noStrike">
                <a:solidFill>
                  <a:srgbClr val="002060"/>
                </a:solidFill>
                <a:latin typeface="Calibri"/>
              </a:rPr>
              <a:t>·</a:t>
            </a:r>
            <a:r>
              <a:rPr b="1" lang="zh-CN" sz="3000" spc="-1" strike="noStrike">
                <a:solidFill>
                  <a:srgbClr val="002060"/>
                </a:solidFill>
                <a:latin typeface="Calibri"/>
              </a:rPr>
              <a:t>沙利文是海伦</a:t>
            </a:r>
            <a:r>
              <a:rPr b="1" lang="zh-CN" sz="3000" spc="-1" strike="noStrike">
                <a:solidFill>
                  <a:srgbClr val="002060"/>
                </a:solidFill>
                <a:latin typeface="Calibri"/>
              </a:rPr>
              <a:t>·</a:t>
            </a:r>
            <a:r>
              <a:rPr b="1" lang="zh-CN" sz="3000" spc="-1" strike="noStrike">
                <a:solidFill>
                  <a:srgbClr val="002060"/>
                </a:solidFill>
                <a:latin typeface="Calibri"/>
              </a:rPr>
              <a:t>凯勒的老师。她陪伴海伦走过了</a:t>
            </a:r>
            <a:r>
              <a:rPr b="1" lang="zh-CN" sz="3000" spc="-1" strike="noStrike">
                <a:solidFill>
                  <a:srgbClr val="002060"/>
                </a:solidFill>
                <a:latin typeface="Calibri"/>
              </a:rPr>
              <a:t>50</a:t>
            </a:r>
            <a:r>
              <a:rPr b="1" lang="zh-CN" sz="3000" spc="-1" strike="noStrike">
                <a:solidFill>
                  <a:srgbClr val="002060"/>
                </a:solidFill>
                <a:latin typeface="Calibri"/>
              </a:rPr>
              <a:t>年，她用自己的关怀和爱心排解了海伦学习道路上的一个一个障碍。海伦是安妮一生中唯一的学生，安妮在她身上倾注了大半生的精力。没有安妮的关怀，海伦不可能取得巨大的成功。海伦是安妮的骄傲，也是世界文学史上的奇迹，而安妮就是创造奇迹的人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25034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2060"/>
                </a:solidFill>
                <a:latin typeface="Calibri Light"/>
              </a:rPr>
              <a:t>生字、词语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640" y="11268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pà        yē               mǐn         qī        fèi f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手帕     拉耶文     怜悯          欺骗   肺腑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无拘无束      清晰     蕴藏      怜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智慧        肺腑       颤动      哽咽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6880" y="259920"/>
            <a:ext cx="214488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2060"/>
                </a:solidFill>
                <a:latin typeface="Calibri Light"/>
              </a:rPr>
              <a:t>词语理解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55640" y="107136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清晰：本课义为清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无拘无束：不受任何约束，形容自由自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智慧：辨析判断、发明创造的能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怜悯：对遭遇不幸的人表示同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蕴藏：蓄积而未显露或发掘。本课指没有被发掘的才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肺腑：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肺脏。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比喻内心。本课指发自内心的话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149544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2060"/>
                </a:solidFill>
                <a:latin typeface="Calibri Light"/>
              </a:rPr>
              <a:t>近义词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98320" y="10522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沉寂——寂静  清晰——清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怜悯——同情  颤动——颤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恢复——复原  顽强——坚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反义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清晰——模糊   快乐——悲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沉寂——喧闹   贫穷——富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繁花似锦——百花凋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20703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002060"/>
                </a:solidFill>
                <a:latin typeface="Calibri Light"/>
              </a:rPr>
              <a:t>重点问题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000" y="1125360"/>
            <a:ext cx="788652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1.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安妮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·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沙利文老师对海伦的教育有哪些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教“我”学字词；教“我”玩耍；教“我”喂鸽子感受空气的存在；陪“我”上大学；教“我”说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2.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安妮老师为海伦作出了那些牺牲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每天陪伴海伦并用特殊的方式给她上课。在海伦上学的几年里，安妮每堂课都坐在她的旁边，并帮海伦速记，一字一词的教。在自己视力严重受损的情况下，仍然每天为她拼写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5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个小时以上的单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Calibri Light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Calibri Light"/>
              </a:rPr>
              <a:t>.</a:t>
            </a:r>
            <a:r>
              <a:rPr b="1" lang="zh-CN" sz="2800" spc="-1" strike="noStrike">
                <a:solidFill>
                  <a:srgbClr val="002060"/>
                </a:solidFill>
                <a:latin typeface="Calibri Light"/>
              </a:rPr>
              <a:t>掌握本课生字、新词。</a:t>
            </a:r>
            <a:br>
              <a:rPr sz="2800"/>
            </a:br>
            <a:r>
              <a:rPr b="1" lang="zh-CN" sz="2800" spc="-1" strike="noStrike">
                <a:solidFill>
                  <a:srgbClr val="002060"/>
                </a:solidFill>
                <a:latin typeface="Calibri Light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Calibri Light"/>
              </a:rPr>
              <a:t>.</a:t>
            </a:r>
            <a:r>
              <a:rPr b="1" lang="zh-CN" sz="2800" spc="-1" strike="noStrike">
                <a:solidFill>
                  <a:srgbClr val="002060"/>
                </a:solidFill>
                <a:latin typeface="Calibri Light"/>
              </a:rPr>
              <a:t>会理解这些词语：清晰、蕴藏、怜悯、肺腑、智慧等。</a:t>
            </a:r>
            <a:br>
              <a:rPr sz="2800"/>
            </a:br>
            <a:r>
              <a:rPr b="1" lang="zh-CN" sz="2800" spc="-1" strike="noStrike">
                <a:solidFill>
                  <a:srgbClr val="002060"/>
                </a:solidFill>
                <a:latin typeface="Calibri Light"/>
              </a:rPr>
              <a:t>3</a:t>
            </a:r>
            <a:r>
              <a:rPr b="1" lang="en-US" sz="2800" spc="-1" strike="noStrike">
                <a:solidFill>
                  <a:srgbClr val="002060"/>
                </a:solidFill>
                <a:latin typeface="Calibri Light"/>
              </a:rPr>
              <a:t>.</a:t>
            </a:r>
            <a:r>
              <a:rPr b="1" lang="zh-CN" sz="2800" spc="-1" strike="noStrike">
                <a:solidFill>
                  <a:srgbClr val="002060"/>
                </a:solidFill>
                <a:latin typeface="Calibri Light"/>
              </a:rPr>
              <a:t>文章写了作者对安妮老师的感激、热爱之情。文中作者是如何表达这种感情的？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755640" y="692280"/>
            <a:ext cx="770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宋体"/>
              </a:rPr>
              <a:t>       </a:t>
            </a:r>
            <a:r>
              <a:rPr b="0" lang="zh-CN" sz="3600" spc="-1" strike="noStrike">
                <a:solidFill>
                  <a:srgbClr val="002060"/>
                </a:solidFill>
                <a:latin typeface="Arial"/>
                <a:ea typeface="宋体"/>
              </a:rPr>
              <a:t>不管发生什么事，都必须继续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Arial"/>
                <a:ea typeface="宋体"/>
              </a:rPr>
              <a:t>力，在哪儿失败的就在哪儿重新开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Arial"/>
                <a:ea typeface="宋体"/>
              </a:rPr>
              <a:t>一旦完成了一个目标，你就会觉得自己更加强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u=268863811,3103735449&amp;fm=51&amp;gp=0"/>
          <p:cNvPicPr/>
          <p:nvPr/>
        </p:nvPicPr>
        <p:blipFill>
          <a:blip r:embed="rId1"/>
          <a:stretch/>
        </p:blipFill>
        <p:spPr>
          <a:xfrm>
            <a:off x="828720" y="476280"/>
            <a:ext cx="5310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179280" y="620640"/>
            <a:ext cx="86425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她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梦想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着有一天把一个又聋又瞎的孩子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养成一个有用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79280" y="2205000"/>
            <a:ext cx="878544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对这位年轻老师来说，这是一个多么大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挑战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79280" y="414972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楷体_GB2312"/>
              </a:rPr>
              <a:t>思考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安妮老师为了教育我，她面临了哪些挑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324000" y="54936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教我识字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324000" y="692280"/>
            <a:ext cx="433080" cy="431640"/>
          </a:xfrm>
          <a:custGeom>
            <a:avLst/>
            <a:gdLst/>
            <a:ahLst/>
            <a:rect l="l" t="t" r="r" b="b"/>
            <a:pathLst>
              <a:path w="433388" h="431800">
                <a:moveTo>
                  <a:pt x="0" y="164933"/>
                </a:moveTo>
                <a:lnTo>
                  <a:pt x="165540" y="164934"/>
                </a:lnTo>
                <a:lnTo>
                  <a:pt x="216694" y="0"/>
                </a:lnTo>
                <a:lnTo>
                  <a:pt x="267848" y="164934"/>
                </a:lnTo>
                <a:lnTo>
                  <a:pt x="433388" y="164933"/>
                </a:lnTo>
                <a:lnTo>
                  <a:pt x="299462" y="266866"/>
                </a:lnTo>
                <a:lnTo>
                  <a:pt x="350618" y="431799"/>
                </a:lnTo>
                <a:lnTo>
                  <a:pt x="216694" y="329864"/>
                </a:lnTo>
                <a:lnTo>
                  <a:pt x="82770" y="431799"/>
                </a:lnTo>
                <a:lnTo>
                  <a:pt x="133926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50920" y="1413000"/>
            <a:ext cx="87138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我清清晰地记得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多少次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她在我的小手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拼写单词，但是我都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毫无反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79280" y="2997360"/>
            <a:ext cx="878544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那天安妮带我去井边打水，她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不停地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水，当水贱到我手上时，我感到了水的凉意。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就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不停地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在我另一只手上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一笔一画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地写，我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终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明白了“水”这个单词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3"/>
          <p:cNvSpPr/>
          <p:nvPr/>
        </p:nvSpPr>
        <p:spPr>
          <a:xfrm>
            <a:off x="250920" y="333360"/>
            <a:ext cx="433440" cy="431640"/>
          </a:xfrm>
          <a:custGeom>
            <a:avLst/>
            <a:gdLst/>
            <a:ahLst/>
            <a:rect l="l" t="t" r="r" b="b"/>
            <a:pathLst>
              <a:path w="433388" h="431800">
                <a:moveTo>
                  <a:pt x="0" y="164933"/>
                </a:moveTo>
                <a:lnTo>
                  <a:pt x="165540" y="164934"/>
                </a:lnTo>
                <a:lnTo>
                  <a:pt x="216694" y="0"/>
                </a:lnTo>
                <a:lnTo>
                  <a:pt x="267848" y="164934"/>
                </a:lnTo>
                <a:lnTo>
                  <a:pt x="433388" y="164933"/>
                </a:lnTo>
                <a:lnTo>
                  <a:pt x="299462" y="266866"/>
                </a:lnTo>
                <a:lnTo>
                  <a:pt x="350618" y="431799"/>
                </a:lnTo>
                <a:lnTo>
                  <a:pt x="216694" y="329864"/>
                </a:lnTo>
                <a:lnTo>
                  <a:pt x="82770" y="431799"/>
                </a:lnTo>
                <a:lnTo>
                  <a:pt x="133926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900000" y="18900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陪我上大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50920" y="1268280"/>
            <a:ext cx="86421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安妮老师的眼睛越来越糟了。一次她对我 说，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连一英寸前的东西都看不清了。当医生得知安妮每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要为我拼写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宋体"/>
              </a:rPr>
              <a:t>个小时以上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的单词时，他震惊了！他叫道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沙利文小姐，你这是在干蠢事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50920" y="4292640"/>
            <a:ext cx="889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为此，我常常谎称已认得书上的字母，其实我连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思都不懂，我知道这是在欺骗自己，但为了她少重复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次，我愿意这样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3"/>
          <p:cNvSpPr/>
          <p:nvPr/>
        </p:nvSpPr>
        <p:spPr>
          <a:xfrm>
            <a:off x="324000" y="620640"/>
            <a:ext cx="433080" cy="432000"/>
          </a:xfrm>
          <a:custGeom>
            <a:avLst/>
            <a:gdLst/>
            <a:ahLst/>
            <a:rect l="l" t="t" r="r" b="b"/>
            <a:pathLst>
              <a:path w="433388" h="431800">
                <a:moveTo>
                  <a:pt x="0" y="164933"/>
                </a:moveTo>
                <a:lnTo>
                  <a:pt x="165540" y="164934"/>
                </a:lnTo>
                <a:lnTo>
                  <a:pt x="216694" y="0"/>
                </a:lnTo>
                <a:lnTo>
                  <a:pt x="267848" y="164934"/>
                </a:lnTo>
                <a:lnTo>
                  <a:pt x="433388" y="164933"/>
                </a:lnTo>
                <a:lnTo>
                  <a:pt x="299462" y="266866"/>
                </a:lnTo>
                <a:lnTo>
                  <a:pt x="350618" y="431799"/>
                </a:lnTo>
                <a:lnTo>
                  <a:pt x="216694" y="329864"/>
                </a:lnTo>
                <a:lnTo>
                  <a:pt x="82770" y="431799"/>
                </a:lnTo>
                <a:lnTo>
                  <a:pt x="133926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971640" y="549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我学说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79280" y="1341360"/>
            <a:ext cx="8640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教我说话也使安妮费了不少心。说话时，她把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的双手放在我的脸上，让我仔细体会嘴唇、咽喉的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动。我跟着她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宋体"/>
              </a:rPr>
              <a:t>一次又一次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重复单词和句子。开始我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发音含混不清、南腔北调，但是经过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宋体"/>
              </a:rPr>
              <a:t>不断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的练习，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宋体"/>
              </a:rPr>
              <a:t>总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能说一些大家可以听懂的话。感谢安妮给我这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宝贵的物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说话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3255840" y="350676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403280" y="162864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79280" y="1628640"/>
            <a:ext cx="849636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不管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发生什么事，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都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必须继续努力，在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儿失败的就在哪儿重新开始，一旦完成了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目标，你就会觉得自己更加强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4T06:48:15Z</dcterms:created>
  <dc:creator/>
  <dc:description/>
  <dc:language>en-US</dc:language>
  <cp:lastModifiedBy>Administrator</cp:lastModifiedBy>
  <cp:lastPrinted>1899-12-30T00:00:00Z</cp:lastPrinted>
  <dcterms:modified xsi:type="dcterms:W3CDTF">2016-12-13T02:05:2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66</vt:lpwstr>
  </property>
</Properties>
</file>