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C90D-41DA-4EF2-8480-8F1B68B89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43B1-2990-4D62-9BB0-4654DB84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A8B3-3CFF-454B-BD87-F0C5E66D0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A7E3-A2C0-4188-853A-34967BCF7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CC76-0167-448F-A8B4-821F1CDC9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5742-9071-4EDD-9926-4465F3D62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9EBF-02C1-4F8C-88F5-821713E6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08D4-1F24-446D-9D82-447516A6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BD73-672B-4033-97D1-A0E25420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12B9-2363-405B-A59C-CB7A572B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1E10-5388-4ACE-ADBB-01190B14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DEE7-0EE8-40DB-AF5E-85287FCB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8F32-B23C-4AE3-A802-FF9D22C96D71}" type="slidenum">
              <a:rPr b="0" lang="en-US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5"/>
          <p:cNvSpPr/>
          <p:nvPr/>
        </p:nvSpPr>
        <p:spPr>
          <a:xfrm>
            <a:off x="395280" y="26028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华文中宋"/>
                <a:ea typeface="华文中宋"/>
              </a:rPr>
              <a:t>西师大版  六年级  语文 上册  第五单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3059280" y="2565360"/>
            <a:ext cx="4968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206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韦德的心愿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206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Calibri Light"/>
                <a:ea typeface="楷体_GB2312"/>
              </a:rPr>
              <a:t>韦德的心愿是什么？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4000" y="836640"/>
            <a:ext cx="86407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Calibri"/>
                <a:ea typeface="楷体_GB2312"/>
              </a:rPr>
              <a:t>那我想要一双棉手套和一双棉鞋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0" y="1700280"/>
            <a:ext cx="88930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2060"/>
                </a:solidFill>
                <a:latin typeface="Calibri Light"/>
                <a:ea typeface="楷体_GB2312"/>
              </a:rPr>
              <a:t>如果你们当时听到韦德的这个心愿，心里会怎么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1765440" y="26370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的，当时的孩子们和你们一样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一声笑开了，因为这愿望太微不足道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539640" y="90792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            </a:t>
            </a:r>
            <a:r>
              <a:rPr b="1" lang="zh-CN" sz="3200" spc="-1" strike="noStrike">
                <a:solidFill>
                  <a:srgbClr val="002060"/>
                </a:solidFill>
                <a:latin typeface="Calibri"/>
                <a:ea typeface="楷体_GB2312"/>
              </a:rPr>
              <a:t>但是，老师要告诉你们，当同学们了解了韦德心愿的由来后，顿时安静了下来。这到底是为什么呢？请同学们默读课文，找出韦德心愿的由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503280" y="1052280"/>
            <a:ext cx="8640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800" spc="-1" strike="noStrike">
                <a:solidFill>
                  <a:srgbClr val="ed7d31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老师的手很冰，有了棉手套就暖和了；奶奶的脚生冻疮，穿上棉鞋就会好了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2268360" y="3755880"/>
            <a:ext cx="946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韦德是一个为他人着想的孩子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84360" y="333360"/>
            <a:ext cx="78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韦德为什么会有这样的心愿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619280" y="256536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2060"/>
                </a:solidFill>
                <a:latin typeface="Arial"/>
                <a:ea typeface="楷体_GB2312"/>
              </a:rPr>
              <a:t>了解了韦德心愿的由来，你觉得他是一个怎样的孩子？</a:t>
            </a:r>
            <a:r>
              <a:rPr b="0" lang="zh-CN" sz="1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1609200" y="1125000"/>
            <a:ext cx="7534440" cy="54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zh-CN" sz="3600" spc="-1" strike="noStrike">
                <a:solidFill>
                  <a:srgbClr val="002060"/>
                </a:solidFill>
                <a:latin typeface="Calibri"/>
                <a:ea typeface="楷体_GB2312"/>
              </a:rPr>
              <a:t>是啊，韦德是一个为他人着想的孩子。老师的手冰，他想给老师一双棉手套；看到奶奶脚生冻疮，他想送奶奶一双棉鞋。多么懂事、体贴的孩子啊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763640" y="2565360"/>
            <a:ext cx="712944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1834920" y="549000"/>
            <a:ext cx="9396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可爱  忧伤  懂事  无所不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真挚  纯洁  稚嫩  充满爱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贫寒  调皮  善良  天真烂漫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2195640" y="2637000"/>
            <a:ext cx="662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你觉得可以把哪些词语送给韦德？为什么？</a:t>
            </a:r>
            <a:r>
              <a:rPr b="0" lang="zh-CN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763640" y="260280"/>
            <a:ext cx="712944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zh-CN" sz="36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是的，韦德可爱、纯洁、善良，他充满着爱心，对待每一个人都是那么的真挚。可是有那么一段时间，他是忧伤的。请同学们读课文</a:t>
            </a:r>
            <a:r>
              <a:rPr b="1" lang="en-US" sz="36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3--5</a:t>
            </a:r>
            <a:r>
              <a:rPr b="1" lang="zh-CN" sz="36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自然段，把有关的语句画出来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2700360" y="486864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ed7d31"/>
                </a:solidFill>
                <a:latin typeface="楷体_GB2312"/>
                <a:ea typeface="楷体_GB2312"/>
              </a:rPr>
              <a:t>韦德为什么忧伤 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611280" y="549360"/>
            <a:ext cx="820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2060"/>
                </a:solidFill>
                <a:latin typeface="Arial"/>
                <a:ea typeface="楷体_GB2312"/>
              </a:rPr>
              <a:t>一个叫韦德的男孩，静静地坐在座位上，似乎没有被这热闹的场面所感染。可最近几个星期，他时不时在课堂上低着头。韦德慢慢站起来，依旧垂着眼睛。他低低的语调含着忧伤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3964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4400" spc="-1" strike="noStrike">
                <a:solidFill>
                  <a:srgbClr val="000099"/>
                </a:solidFill>
                <a:latin typeface="Calibri"/>
                <a:ea typeface="楷体_GB2312"/>
              </a:rPr>
              <a:t>圣诞节就要到了，想到圣诞老人不能进他们家，想到想送给老师和奶奶的礼物得不到，韦德是多么的忧伤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56944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 Light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ed7d31"/>
                </a:solidFill>
                <a:latin typeface="Calibri Light"/>
                <a:ea typeface="楷体_GB2312"/>
              </a:rPr>
              <a:t>为了突出韦德这一高尚品质，作者除了细致地描写人物的动作、神态和语言，还运用了什么表达方法呢？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24000" y="2349000"/>
            <a:ext cx="83628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）把韦德与其他孩子的心愿以及表现作比较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（</a:t>
            </a:r>
            <a:r>
              <a:rPr b="1" lang="en-US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）先描写其家境不好，愿望微不足道，再揭示其心灵的美好，这种先抑后扬的方法烘托、展示了人物形象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齐读课文第</a:t>
            </a:r>
            <a:r>
              <a:rPr b="1" lang="en-US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11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自然段：是什么</a:t>
            </a:r>
            <a:r>
              <a:rPr b="1" lang="zh-CN" sz="3200" spc="-1" strike="noStrike">
                <a:solidFill>
                  <a:srgbClr val="000099"/>
                </a:solidFill>
                <a:latin typeface="Calibri Light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敲中了</a:t>
            </a:r>
            <a:r>
              <a:rPr b="1" lang="zh-CN" sz="3200" spc="-1" strike="noStrike">
                <a:solidFill>
                  <a:srgbClr val="000099"/>
                </a:solidFill>
                <a:latin typeface="Calibri Light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孩子们的心灵？</a:t>
            </a:r>
            <a:r>
              <a:rPr b="0" lang="zh-CN" sz="36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95280" y="1628640"/>
            <a:ext cx="835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韦德善良真挚、充满爱心的美好心灵、为他人着想的品质“敲中了”孩子们的心灵，让他们感到惭愧，受到了震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330200" y="2492280"/>
            <a:ext cx="7848720" cy="39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  </a:t>
            </a:r>
            <a:r>
              <a:rPr b="1" lang="en-US" sz="28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．学习本课生字，学会课文中的生词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　  </a:t>
            </a:r>
            <a:r>
              <a:rPr b="1" lang="en-US" sz="28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．有感情地朗读课文，理清文章顺序，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解韦德的心愿，从中感悟韦德纯洁、善良的品质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　  </a:t>
            </a:r>
            <a:r>
              <a:rPr b="1" lang="en-US" sz="28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．学习课文运用比较、先抑后扬的表达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法表现人物品质的写法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学习目标"/>
          <p:cNvPicPr/>
          <p:nvPr/>
        </p:nvPicPr>
        <p:blipFill>
          <a:blip r:embed="rId1"/>
          <a:stretch/>
        </p:blipFill>
        <p:spPr>
          <a:xfrm>
            <a:off x="2268360" y="836640"/>
            <a:ext cx="15336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Calibri Light"/>
                <a:ea typeface="楷体_GB2312"/>
              </a:rPr>
              <a:t>       </a:t>
            </a:r>
            <a:r>
              <a:rPr b="1" lang="zh-CN" sz="3300" spc="-1" strike="noStrike">
                <a:solidFill>
                  <a:srgbClr val="ff0000"/>
                </a:solidFill>
                <a:latin typeface="Calibri Light"/>
                <a:ea typeface="楷体_GB2312"/>
              </a:rPr>
              <a:t>模糊的泪光中，我感到有一双温暖的小手正拿起我冰冷的手，贴在他暖暖的小脸上。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160720" y="253692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4546a"/>
                </a:solidFill>
                <a:latin typeface="Arial"/>
                <a:ea typeface="楷体_GB2312"/>
              </a:rPr>
              <a:t>我也被孩子们的行为感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9280" y="2276280"/>
            <a:ext cx="626436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ed7d31"/>
                </a:solidFill>
                <a:latin typeface="Calibri Light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99"/>
                </a:solidFill>
                <a:latin typeface="Calibri Light"/>
                <a:ea typeface="楷体_GB2312"/>
              </a:rPr>
              <a:t>同学们，读完课文，你从韦德的心愿中想到了些什么？</a:t>
            </a: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28560" y="1825200"/>
            <a:ext cx="788688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84000" y="469440"/>
            <a:ext cx="82090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900" spc="-1" strike="noStrike">
                <a:solidFill>
                  <a:srgbClr val="ff0000"/>
                </a:solidFill>
                <a:latin typeface="Calibri Light"/>
                <a:ea typeface="楷体_GB2312"/>
              </a:rPr>
              <a:t> </a:t>
            </a:r>
            <a:r>
              <a:rPr b="1" lang="zh-CN" sz="4900" spc="-1" strike="noStrike">
                <a:solidFill>
                  <a:srgbClr val="ff0000"/>
                </a:solidFill>
                <a:latin typeface="Calibri Light"/>
                <a:ea typeface="楷体_GB2312"/>
              </a:rPr>
              <a:t>爱心是什么？</a:t>
            </a:r>
            <a:endParaRPr b="0" lang="en-US" sz="4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556000" y="1267920"/>
            <a:ext cx="6121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2060"/>
                </a:solidFill>
                <a:latin typeface="宋体"/>
              </a:rPr>
              <a:t>爱心是一首飘荡在夜空里的歌谣</a:t>
            </a:r>
            <a:r>
              <a:rPr b="1" lang="en-US" sz="3600" spc="-1" strike="noStrike">
                <a:solidFill>
                  <a:srgbClr val="00206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2060"/>
                </a:solidFill>
                <a:latin typeface="宋体"/>
              </a:rPr>
              <a:t>使孤苦无依的人获得心灵的慰藉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2060"/>
                </a:solidFill>
                <a:latin typeface="宋体"/>
              </a:rPr>
              <a:t>爱心是一场洒落在久旱的土地上的甘露</a:t>
            </a:r>
            <a:r>
              <a:rPr b="1" lang="en-US" sz="3600" spc="-1" strike="noStrike">
                <a:solidFill>
                  <a:srgbClr val="00206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2060"/>
                </a:solidFill>
                <a:latin typeface="宋体"/>
              </a:rPr>
              <a:t>使心灵枯萎的人感到感情的滋润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11280" y="34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Calibri Light"/>
                <a:ea typeface="楷体_GB2312"/>
              </a:rPr>
              <a:t>作业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835280" y="1479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Calibri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摘抄文中你深受感动的语句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1692000" y="1915920"/>
            <a:ext cx="725796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600" spc="-1" strike="noStrike">
                <a:solidFill>
                  <a:srgbClr val="000099"/>
                </a:solidFill>
                <a:latin typeface="Calibri"/>
                <a:ea typeface="楷体_GB2312"/>
              </a:rPr>
              <a:t>同学们，你们了解圣诞节吗？</a:t>
            </a:r>
            <a:r>
              <a:rPr b="0" lang="zh-CN" sz="3600" spc="-1" strike="noStrike">
                <a:solidFill>
                  <a:srgbClr val="000099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7" descr="200812162591099132"/>
          <p:cNvPicPr/>
          <p:nvPr/>
        </p:nvPicPr>
        <p:blipFill>
          <a:blip r:embed="rId1"/>
          <a:stretch/>
        </p:blipFill>
        <p:spPr>
          <a:xfrm>
            <a:off x="3708360" y="3213000"/>
            <a:ext cx="45752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340000" y="1413000"/>
            <a:ext cx="66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圣诞节</a:t>
            </a:r>
            <a:r>
              <a:rPr b="1" lang="en-US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(Christmas)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是基督教的一个重要的节日，定于每年</a:t>
            </a:r>
            <a:r>
              <a:rPr b="1" lang="en-US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月</a:t>
            </a:r>
            <a:r>
              <a:rPr b="1" lang="en-US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25</a:t>
            </a: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日，纪念耶稣基督的诞生，同时也是普遍庆祝的世俗节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20080515164624圣诞节2"/>
          <p:cNvPicPr/>
          <p:nvPr/>
        </p:nvPicPr>
        <p:blipFill>
          <a:blip r:embed="rId1"/>
          <a:stretch/>
        </p:blipFill>
        <p:spPr>
          <a:xfrm>
            <a:off x="4932360" y="3882960"/>
            <a:ext cx="3492360" cy="23274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6869160" y="428760"/>
            <a:ext cx="230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圣诞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8"/>
          <p:cNvSpPr/>
          <p:nvPr/>
        </p:nvSpPr>
        <p:spPr>
          <a:xfrm>
            <a:off x="755640" y="1241280"/>
            <a:ext cx="784872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图片1"/>
          <p:cNvPicPr/>
          <p:nvPr/>
        </p:nvPicPr>
        <p:blipFill>
          <a:blip r:embed="rId1"/>
          <a:stretch/>
        </p:blipFill>
        <p:spPr>
          <a:xfrm>
            <a:off x="7740720" y="5084640"/>
            <a:ext cx="1179360" cy="1641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3203640" y="189000"/>
            <a:ext cx="5832360" cy="28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对于西方国家的孩子来说，圣诞节是个快乐和充满祝福的日子，在这一天，他们可以收到各种礼物。他们在圣诞夜临睡之前，要在壁炉前或枕头旁放上一只袜子，等候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诞老人在他们入睡后把礼物放在袜子内。在西方，扮演圣诞老人也是一种习俗。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如果圣诞老人来到中国，在圣诞夜给大家送礼物，你们希望得到什么呢？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2230560" y="981000"/>
            <a:ext cx="69134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有一个孩子的心愿很特别，他就是韦德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095640" y="162864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你们最想知道什么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3095640" y="242100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  <a:ea typeface="楷体_GB2312"/>
              </a:rPr>
              <a:t>韦德的心愿是什么？</a:t>
            </a:r>
            <a:r>
              <a:rPr b="0" lang="zh-CN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1835280" y="1311480"/>
            <a:ext cx="6877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阅读要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）学习生字、新词，把课文读准、读通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）联系上下文或借助工具理解下列词语的意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）思考：韦德的心愿是什么？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0" y="-36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cōng        zhèng                zhì          chuā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烟囱      怔住     真挚     冻疮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            </a:t>
            </a:r>
            <a:r>
              <a:rPr b="1" lang="en-US" sz="36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w</a:t>
            </a: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éi                   qí       mǐn     w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            </a:t>
            </a:r>
            <a:r>
              <a:rPr b="1" lang="zh-CN" sz="36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韦编三绝 冰淇淋 抿嘴 袜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            </a:t>
            </a:r>
            <a:r>
              <a:rPr b="1" lang="zh-CN" sz="36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无所不能 抑制不住 微不足道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            </a:t>
            </a:r>
            <a:r>
              <a:rPr b="1" lang="zh-CN" sz="36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若有所思 天真烂漫 争先恐后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3T06:37:32Z</dcterms:created>
  <dc:creator/>
  <dc:description/>
  <dc:language>en-US</dc:language>
  <cp:lastModifiedBy>Administrator</cp:lastModifiedBy>
  <dcterms:modified xsi:type="dcterms:W3CDTF">2016-12-13T02:22:50Z</dcterms:modified>
  <cp:revision>2</cp:revision>
  <dc:subject/>
  <dc:title/>
</cp:coreProperties>
</file>