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302-47F0-4239-A275-1291998E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714-D579-4A1C-BC69-3C54AD89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164-81BA-4C87-B6E7-52CEB23A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7F4-D431-42DD-B901-9112C6D7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D4A-3A72-44F5-843A-44D72DB0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E54-E967-46B0-A219-4466F7E1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DC7-D53F-4F17-8548-E2FDC3EE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6AD-AAA7-42BE-8A5B-AF083851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CE2-63A5-4DDE-8599-72D638ED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C3C-812D-454D-916F-46424FC2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DDC-5D20-4B80-91AB-E5B2B19F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4EA-C2FB-424B-979E-0B73644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783E-4ED1-4DB9-B068-64EFB65C0E2A}" type="slidenum">
              <a:rPr b="1" lang="zh-CN" sz="9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900" spc="-1" strike="noStrike">
              <a:solidFill>
                <a:srgbClr val="008000"/>
              </a:solidFill>
              <a:latin typeface="楷体_GB2312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-39600" y="0"/>
            <a:ext cx="93456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2556000" y="1413000"/>
            <a:ext cx="424800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回    家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57400" y="65880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仿宋_GB2312"/>
              </a:rPr>
              <a:t>赤脚回家</a:t>
            </a: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065480" y="1341360"/>
            <a:ext cx="43228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8360" y="21333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通过文章的学习，你认为海子身上具有哪些优秀品质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3300"/>
                </a:solidFill>
                <a:latin typeface="Calibri"/>
              </a:rPr>
              <a:t>海子具有爱岗敬业、爱国爱家、为大家舍小家的高尚品质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3"/>
          <p:cNvSpPr/>
          <p:nvPr/>
        </p:nvSpPr>
        <p:spPr>
          <a:xfrm>
            <a:off x="611280" y="260280"/>
            <a:ext cx="1727280" cy="93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合作探究</a:t>
            </a:r>
            <a:endParaRPr b="1" lang="en-US" sz="4400" spc="-1" strike="noStrike">
              <a:solidFill>
                <a:srgbClr val="008000"/>
              </a:solidFill>
              <a:latin typeface="楷体_GB2312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2"/>
          <p:cNvSpPr/>
          <p:nvPr/>
        </p:nvSpPr>
        <p:spPr>
          <a:xfrm>
            <a:off x="611280" y="260280"/>
            <a:ext cx="1727280" cy="93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探究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隶书"/>
              </a:rPr>
              <a:t>4</a:t>
            </a:r>
            <a:endParaRPr b="1" lang="en-US" sz="44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050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海子走的时候是鲜花簇拥，身上盖着国旗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从这句话中你体会到了什么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3300"/>
                </a:solidFill>
                <a:latin typeface="Calibri"/>
              </a:rPr>
              <a:t>海子是为了保护人民群众生命财产安全而光荣牺牲的，他生的伟大，死的光荣，祖国和人民永远不会忘记他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回家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一课以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--------------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为线索，记叙了少年海子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----------------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，中年海子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----------------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，从而赞美了海子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-----------------------------------------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的精神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我知道的具有舍小家顾大家精神的人还有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--------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-----------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------------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关于表现“舍小家顾大家”精神的名言警句有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------------------------------------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我知道的关于家的俗语有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----------------------------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17560" y="1197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300" spc="-1" strike="noStrike">
                <a:solidFill>
                  <a:srgbClr val="002060"/>
                </a:solidFill>
                <a:latin typeface="Calibri"/>
              </a:rPr>
              <a:t>海子牺牲后，为什么海子爹说海子再也回不了家了，海子娘却说海子回家了，再也不走了？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900000" y="2565360"/>
            <a:ext cx="806472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海子因公殉职当然回不了家了，海子娘说海子回家了，再也不走了。意思是说海子虽然死了，可他对家的热爱之情却永远铭记在家人心中。海子的精神将永远活在人们的心中。</a:t>
            </a:r>
            <a:endParaRPr b="1" lang="en-US" sz="2800" spc="-1" strike="noStrike">
              <a:solidFill>
                <a:srgbClr val="008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楷体_GB2312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755640" y="1091520"/>
            <a:ext cx="7777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爹呜咽</a:t>
            </a:r>
            <a:r>
              <a:rPr b="1" lang="en-US" sz="40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:</a:t>
            </a:r>
            <a:r>
              <a:rPr b="1" lang="en-US" sz="4000" spc="-1" strike="noStrike">
                <a:solidFill>
                  <a:srgbClr val="002060"/>
                </a:solidFill>
                <a:latin typeface="华文中宋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海子是好样的！可海子再也回不了家了</a:t>
            </a:r>
            <a:r>
              <a:rPr b="1" lang="en-US" sz="4000" spc="-1" strike="noStrike">
                <a:solidFill>
                  <a:srgbClr val="002060"/>
                </a:solidFill>
                <a:latin typeface="华文中宋"/>
                <a:ea typeface="仿宋_GB2312"/>
              </a:rPr>
              <a:t>……”</a:t>
            </a: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娘却说</a:t>
            </a:r>
            <a:r>
              <a:rPr b="1" lang="zh-CN" sz="40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：</a:t>
            </a:r>
            <a:r>
              <a:rPr b="1" lang="zh-CN" sz="4000" spc="-1" strike="noStrike">
                <a:solidFill>
                  <a:srgbClr val="002060"/>
                </a:solidFill>
                <a:latin typeface="华文中宋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海子回家了，再也不走了</a:t>
            </a:r>
            <a:r>
              <a:rPr b="1" lang="en-US" sz="4000" spc="-1" strike="noStrike">
                <a:solidFill>
                  <a:srgbClr val="002060"/>
                </a:solidFill>
                <a:latin typeface="华文中宋"/>
                <a:ea typeface="仿宋_GB2312"/>
              </a:rPr>
              <a:t>……”</a:t>
            </a: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539080" y="69156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如此爱家的海子，为何在中年时却很少回家？ </a:t>
            </a:r>
            <a:endParaRPr b="1" lang="en-US" sz="28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68360" y="1341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娘就忍不住对爹说</a:t>
            </a:r>
            <a:r>
              <a:rPr b="1" lang="zh-CN" sz="28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：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原先天再冷，光着脚跑再远的路，海子也要回家。可如今生活好了，海子怎么就不回来了呢？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仿宋_GB2312"/>
              </a:rPr>
              <a:t>”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　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爹就会对娘说</a:t>
            </a:r>
            <a:r>
              <a:rPr b="1" lang="zh-CN" sz="28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：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你又不是不晓得，海子是警察，工作忙哩。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仿宋_GB2312"/>
              </a:rPr>
              <a:t>”</a:t>
            </a:r>
            <a:endParaRPr b="1" lang="en-US" sz="2800" spc="-1" strike="noStrike">
              <a:solidFill>
                <a:srgbClr val="008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916360" y="49356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</a:rPr>
              <a:t>家是成长的摇篮</a:t>
            </a: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916360" y="11095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</a:rPr>
              <a:t>家是避风的港湾</a:t>
            </a: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916360" y="172548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</a:rPr>
              <a:t>家是情感的栖息地</a:t>
            </a: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619280" y="2330280"/>
            <a:ext cx="68421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</a:rPr>
              <a:t>     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</a:rPr>
              <a:t>家是物质生活的后盾</a:t>
            </a:r>
            <a:r>
              <a:rPr b="1" lang="en-US" sz="4000" spc="-1" strike="noStrike">
                <a:solidFill>
                  <a:srgbClr val="002060"/>
                </a:solidFill>
                <a:latin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</a:rPr>
              <a:t>是安全健康的保障，是我们的娱乐天地，是天然学校和今后发展的大本营。我们在家中享受</a:t>
            </a: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</a:rPr>
              <a:t>亲情和温暖，我爱我家。</a:t>
            </a: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50920" y="38592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家是什么</a:t>
            </a: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159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导学提纲</a:t>
            </a:r>
            <a:endParaRPr b="1" lang="en-US" sz="48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17520" y="1125360"/>
            <a:ext cx="8532720" cy="59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听读课文，了解课文内容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本文主要写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事，先写了少年海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再写了中年海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最后写了海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联系上下文解释下列词语：</a:t>
            </a:r>
            <a:endParaRPr b="1" lang="en-US" sz="32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风雨无阻    威风凛凛     洋溢    其乐融融    </a:t>
            </a:r>
            <a:endParaRPr b="1" lang="en-US" sz="32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簇拥            呜咽</a:t>
            </a:r>
            <a:endParaRPr b="1" lang="en-US" sz="32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50920" y="493560"/>
            <a:ext cx="82278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探究性问题</a:t>
            </a:r>
            <a:endParaRPr b="1" lang="en-US" sz="48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1628640"/>
            <a:ext cx="82198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细读课文第一部分，填表体会情感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14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楷体_GB2312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2286000"/>
          <a:ext cx="7850160" cy="2079720"/>
        </p:xfrm>
        <a:graphic>
          <a:graphicData uri="http://schemas.openxmlformats.org/drawingml/2006/table">
            <a:tbl>
              <a:tblPr/>
              <a:tblGrid>
                <a:gridCol w="754200"/>
                <a:gridCol w="1566720"/>
                <a:gridCol w="2081160"/>
                <a:gridCol w="2143440"/>
                <a:gridCol w="1304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回家方式</a:t>
                      </a:r>
                      <a:endParaRPr b="1" lang="en-US" sz="2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爹娘表现</a:t>
                      </a:r>
                      <a:endParaRPr b="1" lang="en-US" sz="2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用一个词语概括</a:t>
                      </a:r>
                      <a:endParaRPr b="1" lang="en-US" sz="2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感受</a:t>
                      </a:r>
                      <a:endParaRPr b="1" lang="en-US" sz="2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少年海子</a:t>
                      </a:r>
                      <a:endParaRPr b="1" lang="en-US" sz="2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8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Rectangle 30"/>
          <p:cNvSpPr/>
          <p:nvPr/>
        </p:nvSpPr>
        <p:spPr>
          <a:xfrm>
            <a:off x="-320760" y="4305240"/>
            <a:ext cx="899316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55640" y="692280"/>
            <a:ext cx="82202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再读课文体会海子小时候再大的困难也挡不住海子回家的路，为什么长大后海子却很少回家？</a:t>
            </a:r>
            <a:endParaRPr b="1" lang="en-US" sz="24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候海子无论怎样也要回家，长大后却很少回家，这采用了什么手法来写？从中你体会到了什么？</a:t>
            </a:r>
            <a:endParaRPr b="1" lang="en-US" sz="24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海子走的时候是鲜花簇拥，身上盖着国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这句话中你体会到了什么？</a:t>
            </a:r>
            <a:endParaRPr b="1" lang="en-US" sz="24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海子牺牲后，为什么海子爹说海子再也回不了家了，海子娘却说海子回家了，再也不走了？</a:t>
            </a:r>
            <a:endParaRPr b="1" lang="en-US" sz="24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通过文章的学习，你认为海子身上具有哪些优秀品质？</a:t>
            </a:r>
            <a:endParaRPr b="1" lang="en-US" sz="24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468360" y="61956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你想对海子说点什么？</a:t>
            </a:r>
            <a:r>
              <a:rPr b="1" lang="zh-CN" sz="2800" spc="-1" strike="noStrike">
                <a:solidFill>
                  <a:srgbClr val="008000"/>
                </a:solidFill>
                <a:latin typeface="仿宋_GB2312"/>
                <a:ea typeface="仿宋_GB2312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420920" y="1960560"/>
            <a:ext cx="65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_GB2312"/>
              </a:rPr>
              <a:t>我知道的具有舍小家顾大家精神的人还有</a:t>
            </a:r>
            <a:r>
              <a:rPr b="1" lang="en-US" sz="3600" spc="-1" strike="noStrike">
                <a:solidFill>
                  <a:srgbClr val="002060"/>
                </a:solidFill>
                <a:latin typeface="楷体_GB2312"/>
              </a:rPr>
              <a:t>---------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</a:rPr>
              <a:t>，</a:t>
            </a:r>
            <a:r>
              <a:rPr b="1" lang="en-US" sz="3600" spc="-1" strike="noStrike">
                <a:solidFill>
                  <a:srgbClr val="002060"/>
                </a:solidFill>
                <a:latin typeface="楷体_GB2312"/>
              </a:rPr>
              <a:t>------------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</a:rPr>
              <a:t>，</a:t>
            </a:r>
            <a:r>
              <a:rPr b="1" lang="en-US" sz="3600" spc="-1" strike="noStrike">
                <a:solidFill>
                  <a:srgbClr val="002060"/>
                </a:solidFill>
                <a:latin typeface="楷体_GB2312"/>
              </a:rPr>
              <a:t>-------------</a:t>
            </a:r>
            <a:endParaRPr b="1" lang="en-US" sz="3600" spc="-1" strike="noStrike">
              <a:solidFill>
                <a:srgbClr val="008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0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导学归纳：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561680"/>
            <a:ext cx="8540640" cy="41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乘车回</a:t>
            </a: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浪费车费，不许常回   风雨无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少年时代   跑着回       浪费鞋子，不让常回    爱家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舍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赤脚回        心疼愧疚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回家    中年时代      工作忙，难回家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海子牺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4"/>
          <p:cNvSpPr/>
          <p:nvPr/>
        </p:nvSpPr>
        <p:spPr>
          <a:xfrm flipH="1">
            <a:off x="1258200" y="2709720"/>
            <a:ext cx="360360" cy="2303640"/>
          </a:xfrm>
          <a:custGeom>
            <a:avLst/>
            <a:gdLst>
              <a:gd name="textAreaLeft" fmla="*/ 230040 w 360360"/>
              <a:gd name="textAreaRight" fmla="*/ 360360 w 36036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61" name="AutoShape 5"/>
          <p:cNvSpPr/>
          <p:nvPr/>
        </p:nvSpPr>
        <p:spPr>
          <a:xfrm flipH="1">
            <a:off x="2770920" y="2637000"/>
            <a:ext cx="360360" cy="2304720"/>
          </a:xfrm>
          <a:custGeom>
            <a:avLst/>
            <a:gdLst>
              <a:gd name="textAreaLeft" fmla="*/ 230040 w 360360"/>
              <a:gd name="textAreaRight" fmla="*/ 360360 w 360360"/>
              <a:gd name="textAreaTop" fmla="*/ 59760 h 2304720"/>
              <a:gd name="textAreaBottom" fmla="*/ 2244960 h 23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63"/>
                </a:lnTo>
                <a:cubicBezTo>
                  <a:pt x="10800" y="8463"/>
                  <a:pt x="5400" y="9363"/>
                  <a:pt x="0" y="9363"/>
                </a:cubicBezTo>
                <a:cubicBezTo>
                  <a:pt x="5400" y="9363"/>
                  <a:pt x="10800" y="10263"/>
                  <a:pt x="10800" y="1116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801720" y="2492280"/>
            <a:ext cx="457200" cy="2305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480 h 2305080"/>
              <a:gd name="textAreaBottom" fmla="*/ 218160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3"/>
                  <a:pt x="10800" y="3706"/>
                </a:cubicBezTo>
                <a:lnTo>
                  <a:pt x="10800" y="7094"/>
                </a:lnTo>
                <a:cubicBezTo>
                  <a:pt x="10800" y="8947"/>
                  <a:pt x="5400" y="10800"/>
                  <a:pt x="0" y="10800"/>
                </a:cubicBezTo>
                <a:cubicBezTo>
                  <a:pt x="5400" y="10800"/>
                  <a:pt x="10800" y="12653"/>
                  <a:pt x="10800" y="14506"/>
                </a:cubicBezTo>
                <a:lnTo>
                  <a:pt x="10800" y="17894"/>
                </a:lnTo>
                <a:cubicBezTo>
                  <a:pt x="10800" y="197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2193840" y="1809720"/>
            <a:ext cx="216000" cy="180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6480 h 1800360"/>
              <a:gd name="textAreaBottom" fmla="*/ 170388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3"/>
                  <a:pt x="10800" y="3706"/>
                </a:cubicBezTo>
                <a:lnTo>
                  <a:pt x="10800" y="7094"/>
                </a:lnTo>
                <a:cubicBezTo>
                  <a:pt x="10800" y="8947"/>
                  <a:pt x="5400" y="10800"/>
                  <a:pt x="0" y="10800"/>
                </a:cubicBezTo>
                <a:cubicBezTo>
                  <a:pt x="5400" y="10800"/>
                  <a:pt x="10800" y="12653"/>
                  <a:pt x="10800" y="14506"/>
                </a:cubicBezTo>
                <a:lnTo>
                  <a:pt x="10800" y="17894"/>
                </a:lnTo>
                <a:cubicBezTo>
                  <a:pt x="10800" y="197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64" name="AutoShape 8"/>
          <p:cNvSpPr/>
          <p:nvPr/>
        </p:nvSpPr>
        <p:spPr>
          <a:xfrm rot="10860000">
            <a:off x="6814800" y="1763280"/>
            <a:ext cx="361800" cy="1657440"/>
          </a:xfrm>
          <a:custGeom>
            <a:avLst/>
            <a:gdLst>
              <a:gd name="textAreaLeft" fmla="*/ 231120 w 361800"/>
              <a:gd name="textAreaRight" fmla="*/ 362160 w 361800"/>
              <a:gd name="textAreaTop" fmla="*/ 104400 h 1657440"/>
              <a:gd name="textAreaBottom" fmla="*/ 15530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78"/>
                  <a:pt x="10800" y="4356"/>
                </a:cubicBezTo>
                <a:lnTo>
                  <a:pt x="10800" y="6212"/>
                </a:lnTo>
                <a:cubicBezTo>
                  <a:pt x="10800" y="8390"/>
                  <a:pt x="5400" y="10568"/>
                  <a:pt x="0" y="10568"/>
                </a:cubicBezTo>
                <a:cubicBezTo>
                  <a:pt x="5400" y="10568"/>
                  <a:pt x="10800" y="12746"/>
                  <a:pt x="10800" y="14924"/>
                </a:cubicBezTo>
                <a:lnTo>
                  <a:pt x="10800" y="17244"/>
                </a:lnTo>
                <a:cubicBezTo>
                  <a:pt x="10800" y="1942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65" name="AutoShape 9"/>
          <p:cNvSpPr/>
          <p:nvPr/>
        </p:nvSpPr>
        <p:spPr>
          <a:xfrm rot="10860000">
            <a:off x="7541640" y="1762920"/>
            <a:ext cx="360360" cy="2305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5640 h 2305080"/>
              <a:gd name="textAreaBottom" fmla="*/ 217944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4"/>
                  <a:pt x="10800" y="3767"/>
                </a:cubicBezTo>
                <a:lnTo>
                  <a:pt x="10800" y="7033"/>
                </a:lnTo>
                <a:cubicBezTo>
                  <a:pt x="10800" y="8917"/>
                  <a:pt x="5400" y="10800"/>
                  <a:pt x="0" y="10800"/>
                </a:cubicBezTo>
                <a:cubicBezTo>
                  <a:pt x="5400" y="10800"/>
                  <a:pt x="10800" y="12684"/>
                  <a:pt x="10800" y="14567"/>
                </a:cubicBezTo>
                <a:lnTo>
                  <a:pt x="10800" y="17833"/>
                </a:lnTo>
                <a:cubicBezTo>
                  <a:pt x="10800" y="1971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7451640" y="184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爱岗敬业</a:t>
            </a:r>
            <a:endParaRPr b="1" lang="en-US" sz="18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904880" y="2155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</a:rPr>
              <a:t>爱国爱家</a:t>
            </a:r>
            <a:endParaRPr b="1" lang="en-US" sz="16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7915320" y="30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家顾</a:t>
            </a:r>
            <a:endParaRPr b="1" lang="en-US" sz="2000" spc="-1" strike="noStrike">
              <a:solidFill>
                <a:srgbClr val="008000"/>
              </a:solidFill>
              <a:latin typeface="楷体_GB2312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7884720" y="3573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</a:rPr>
              <a:t>大 家</a:t>
            </a:r>
            <a:endParaRPr b="1" lang="en-US" sz="1600" spc="-1" strike="noStrike">
              <a:solidFill>
                <a:srgbClr val="008000"/>
              </a:solidFill>
              <a:latin typeface="楷体_GB2312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回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课以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-----------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为线索，记叙了少年海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-------------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中年海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-------------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从而赞美了海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--------------------------------------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精神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知道的具有舍小家顾大家精神的人还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-----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--------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---------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关于表现“舍小家顾大家”精神的名言警句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---------------------------------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知道的关于家的俗语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-------------------------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省略号的用法有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表示话语的省略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．表示说话断断续续。Ｃ．表示说话迟疑。Ｄ．表示含义深刻意犹未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　试判断下列语句中的省略号各属于那种用法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　ａ．“我想回家，看我　　　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三个多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…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　ｂ．娘却说：“海子回家了，再也不走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…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　ｃ．爹呜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海子是好样的！可海子再也回不了家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…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　ｄ．一天，爹对海子说：“海子，你……以后不到过节或放长假，就不要回来了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3133800" y="1176480"/>
            <a:ext cx="5613480" cy="3889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11280" y="47628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坐车回家</a:t>
            </a:r>
            <a:endParaRPr b="1" lang="en-US" sz="4000" spc="-1" strike="noStrike">
              <a:solidFill>
                <a:srgbClr val="008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09:46:54Z</dcterms:created>
  <dc:creator/>
  <dc:description/>
  <dc:language>en-US</dc:language>
  <cp:lastModifiedBy>Administrator</cp:lastModifiedBy>
  <cp:lastPrinted>1899-12-30T00:00:00Z</cp:lastPrinted>
  <dcterms:modified xsi:type="dcterms:W3CDTF">2016-12-13T02:52:3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