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10CC9-D77F-47DE-A35F-F15D7DC6BDB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674DD-0093-4F38-BBB5-EBA6A777BD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F2520-EF82-4B5A-875E-8273FD0185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0A6C-37F4-415E-8400-458E15F31B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我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4780-DB0E-42BD-AD22-FDA634018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726E-37A7-4E87-8080-19FF3702E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0DC72-0127-4AAC-A72E-A3F6D5512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3F12-A549-47BC-BAF6-36E58D3F4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879-7417-41BC-B429-AAA7EF5E4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333-6F9D-42C4-B285-47581211F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7B602-E7EF-48D7-8216-9429EA047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61203-2070-4E1D-8132-7C72F9A4C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D0F1-EE49-42AD-9FC9-338B5BA4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AC23-7A72-4099-9475-D7552103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1512-F819-41F2-9E9B-6B6E2E972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80AB-3F4B-46A8-A1BE-281470AE2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DF0B4-DCA4-48AD-8863-F10F7DBA361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26560" y="2204640"/>
            <a:ext cx="597708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Bookman Old Style"/>
              </a:rPr>
              <a:t>21.</a:t>
            </a:r>
            <a:r>
              <a:rPr b="1" lang="zh-CN" sz="6000" spc="-1" strike="noStrike">
                <a:solidFill>
                  <a:srgbClr val="002060"/>
                </a:solidFill>
                <a:latin typeface="Bookman Old Style"/>
              </a:rPr>
              <a:t>匆 匆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684360" y="2565360"/>
            <a:ext cx="410184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燕子可再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杨柳可再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花儿可再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5943600" y="281952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逝去的日子不再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581280" y="3581280"/>
            <a:ext cx="2362320" cy="533520"/>
          </a:xfrm>
          <a:prstGeom prst="leftRightArrow">
            <a:avLst>
              <a:gd name="adj1" fmla="val 50000"/>
              <a:gd name="adj2" fmla="val 88146"/>
            </a:avLst>
          </a:prstGeom>
          <a:solidFill>
            <a:srgbClr val="d6009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4140360" y="2924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  <a:ea typeface="黑体"/>
              </a:rPr>
              <a:t>对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6"/>
          <p:cNvSpPr/>
          <p:nvPr/>
        </p:nvSpPr>
        <p:spPr>
          <a:xfrm>
            <a:off x="4645080" y="692280"/>
            <a:ext cx="4103640" cy="1584360"/>
          </a:xfrm>
          <a:prstGeom prst="cloudCallout">
            <a:avLst>
              <a:gd name="adj1" fmla="val -49574"/>
              <a:gd name="adj2" fmla="val 9238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用形象化的对比有什么作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1547640" y="5084640"/>
            <a:ext cx="626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e0024"/>
                </a:solidFill>
                <a:latin typeface="Times New Roman"/>
                <a:ea typeface="楷体_GB2312"/>
              </a:rPr>
              <a:t>表现出日子一去不复返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6"/>
          <p:cNvSpPr/>
          <p:nvPr/>
        </p:nvSpPr>
        <p:spPr>
          <a:xfrm>
            <a:off x="179280" y="692280"/>
            <a:ext cx="4103640" cy="1584360"/>
          </a:xfrm>
          <a:prstGeom prst="cloudCallout">
            <a:avLst>
              <a:gd name="adj1" fmla="val -49574"/>
              <a:gd name="adj2" fmla="val 92384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Times New Roman"/>
                <a:ea typeface="黑体"/>
              </a:rPr>
              <a:t>运用了排比的修辞手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14" dur="1" fill="hold"/>
                                  <p:tgtEl>
                                    <p:spTgt spid="7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23640" y="1773360"/>
            <a:ext cx="835164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黑体"/>
              </a:rPr>
              <a:t>    </a:t>
            </a:r>
            <a:r>
              <a:rPr b="1" lang="zh-CN" sz="3200" spc="-1" strike="noStrike">
                <a:solidFill>
                  <a:srgbClr val="002060"/>
                </a:solidFill>
                <a:latin typeface="黑体"/>
              </a:rPr>
              <a:t>读课文最后一段：文章的结尾有什么特点</a:t>
            </a:r>
            <a:r>
              <a:rPr b="1" lang="en-US" sz="3200" spc="-1" strike="noStrike">
                <a:solidFill>
                  <a:srgbClr val="002060"/>
                </a:solidFill>
                <a:latin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33280" y="33577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500" spc="-1" strike="noStrike">
                <a:solidFill>
                  <a:srgbClr val="008000"/>
                </a:solidFill>
                <a:latin typeface="Calibri"/>
                <a:ea typeface="楷体_GB2312"/>
              </a:rPr>
              <a:t>           </a:t>
            </a:r>
            <a:r>
              <a:rPr b="1" lang="zh-CN" sz="2400" spc="-1" strike="noStrike">
                <a:solidFill>
                  <a:srgbClr val="008000"/>
                </a:solidFill>
                <a:latin typeface="Calibri"/>
                <a:ea typeface="楷体_GB2312"/>
              </a:rPr>
              <a:t>聪明的你告诉我，我们的日子为什么一去不复返呢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Calibri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Calibri"/>
                <a:ea typeface="楷体_GB2312"/>
              </a:rPr>
              <a:t>首尾呼应，作者发出时光匆  匆的感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1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1190160"/>
            <a:ext cx="7786800" cy="14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8000"/>
                </a:solidFill>
                <a:latin typeface="Calibri Light"/>
              </a:rPr>
              <a:t>读第二段，你怎样理解段中的句子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95280" y="2408040"/>
            <a:ext cx="856944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</a:rPr>
              <a:t>　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我不知道他们给了我多少日子；但我的手确乎是渐渐空虚了。在默默里算着，八千多日子已经从中溜去；像针尖上一滴水滴在大海里，我的日子滴在时间的流里，没有声音，也没有影子。我不禁头涔涔而泪潸潸了。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95280" y="484812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作者面对逝去的日子，觉得自己光阴虚度而无所作为，不禁流泪的悔恨之情；也体会到作者十分在意时间，才能感受到时间的无情流逝，才会觉得时间不够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52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 Light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Calibri Light"/>
              </a:rPr>
              <a:t>在默默里算着</a:t>
            </a:r>
            <a:r>
              <a:rPr b="1" lang="en-US" sz="3200" spc="-1" strike="noStrike">
                <a:solidFill>
                  <a:srgbClr val="ff0000"/>
                </a:solidFill>
                <a:latin typeface="Calibri Light"/>
              </a:rPr>
              <a:t>……</a:t>
            </a:r>
            <a:r>
              <a:rPr b="1" lang="zh-CN" sz="3200" spc="-1" strike="noStrike">
                <a:solidFill>
                  <a:srgbClr val="ff0000"/>
                </a:solidFill>
                <a:latin typeface="Calibri Light"/>
              </a:rPr>
              <a:t>也没有影子”一句运用了什么修辞？作用是什么？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50560" y="3357720"/>
            <a:ext cx="6049800" cy="32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Arial"/>
              </a:rPr>
              <a:t>作者运用新奇巧妙的比喻，把自己过去的八千多个日子比作极小极小的针尖上的水滴，把时间的流比作浩瀚的大海，由此可见时间的渺小，而它无声无息，无影无踪的消逝之势，更加深了作者万般无奈的愁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285920" y="1952640"/>
            <a:ext cx="257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八千多日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3613320" y="202716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像针尖上一滴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382760" y="321804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2131920" y="321804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流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大海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6"/>
          <p:cNvSpPr/>
          <p:nvPr/>
        </p:nvSpPr>
        <p:spPr>
          <a:xfrm>
            <a:off x="6475320" y="2030400"/>
            <a:ext cx="304920" cy="1828800"/>
          </a:xfrm>
          <a:custGeom>
            <a:avLst/>
            <a:gdLst>
              <a:gd name="textAreaLeft" fmla="*/ 0 w 304920"/>
              <a:gd name="textAreaRight" fmla="*/ 110160 w 3049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6781680" y="2060640"/>
            <a:ext cx="685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99"/>
                </a:solidFill>
                <a:latin typeface="Times New Roman"/>
                <a:ea typeface="黑体"/>
              </a:rPr>
              <a:t>对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266760" y="4170240"/>
            <a:ext cx="7154640" cy="212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99"/>
                </a:solidFill>
                <a:latin typeface="Times New Roman"/>
                <a:ea typeface="隶书"/>
              </a:rPr>
              <a:t>    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时间就是这样无声无息地溜走的。那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请同学们计算一下一天中又从我们手中溜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了多少时间呢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9"/>
          <p:cNvSpPr/>
          <p:nvPr/>
        </p:nvSpPr>
        <p:spPr>
          <a:xfrm>
            <a:off x="7467480" y="2852640"/>
            <a:ext cx="1281240" cy="2633760"/>
          </a:xfrm>
          <a:custGeom>
            <a:avLst/>
            <a:gdLst>
              <a:gd name="textAreaLeft" fmla="*/ 171360 w 1281240"/>
              <a:gd name="textAreaRight" fmla="*/ 1109880 w 1281240"/>
              <a:gd name="textAreaTop" fmla="*/ 466560 h 2633760"/>
              <a:gd name="textAreaBottom" fmla="*/ 1640880 h 2633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3528389"/>
                <a:lnTo>
                  <a:pt x="4530" y="21430"/>
                </a:lnTo>
                <a:lnTo>
                  <a:pt x="0" y="16293"/>
                </a:lnTo>
                <a:lnTo>
                  <a:pt x="4530" y="10816"/>
                </a:lnTo>
                <a:lnTo>
                  <a:pt x="4530" y="15134"/>
                </a:lnTo>
                <a:arcTo wR="21600" hR="7652" stAng="3528389" swAng="-3369766"/>
                <a:lnTo>
                  <a:pt x="21419" y="8641"/>
                </a:lnTo>
                <a:arcTo wR="21600" hR="7652" stAng="-158623" swAng="-5241377"/>
                <a:close/>
              </a:path>
              <a:path fill="darkenLess" w="21600" h="21600">
                <a:moveTo>
                  <a:pt x="0" y="0"/>
                </a:moveTo>
                <a:arcTo wR="21600" hR="7652" stAng="-5400000" swAng="5400000"/>
                <a:lnTo>
                  <a:pt x="21600" y="9630"/>
                </a:lnTo>
                <a:arcTo wR="21600" hR="7652" stAng="0" swAng="-158623"/>
                <a:lnTo>
                  <a:pt x="21419" y="8641"/>
                </a:lnTo>
                <a:arcTo wR="21600" hR="7652" stAng="-158623" swAng="-5241377"/>
                <a:close/>
              </a:path>
            </a:pathLst>
          </a:custGeom>
          <a:solidFill>
            <a:srgbClr val="0563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0"/>
          <p:cNvSpPr/>
          <p:nvPr/>
        </p:nvSpPr>
        <p:spPr>
          <a:xfrm>
            <a:off x="3170160" y="27162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e0024"/>
                </a:solidFill>
                <a:latin typeface="Times New Roman"/>
                <a:ea typeface="黑体"/>
              </a:rPr>
              <a:t>比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250920" y="836640"/>
          <a:ext cx="8532720" cy="5210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836640"/>
                    <a:ext cx="8532720" cy="52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4360" y="1915920"/>
            <a:ext cx="8642160" cy="113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2060"/>
                </a:solidFill>
                <a:latin typeface="Calibri Light"/>
              </a:rPr>
              <a:t>读第三段，作者是怎样具体描述日子去来的匆匆的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3141360"/>
            <a:ext cx="651672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　　</a:t>
            </a:r>
            <a:r>
              <a:rPr b="0" lang="zh-CN" sz="21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zh-CN" sz="2100" spc="-1" strike="noStrike">
                <a:solidFill>
                  <a:srgbClr val="002060"/>
                </a:solidFill>
                <a:latin typeface="Calibri"/>
                <a:ea typeface="楷体_GB2312"/>
              </a:rPr>
              <a:t>去的尽管去了，来的尽管来着；去来的中间，又怎样地匆匆呢？早上我起来的时候，小屋里射进两三方斜斜的太阳。太阳他有脚啊，轻轻悄悄地挪移了；我也茫茫然跟着旋转。于是</a:t>
            </a:r>
            <a:r>
              <a:rPr b="1" lang="en-US" sz="2100" spc="-1" strike="noStrike">
                <a:solidFill>
                  <a:srgbClr val="002060"/>
                </a:solidFill>
                <a:latin typeface="Calibri"/>
                <a:ea typeface="楷体_GB2312"/>
              </a:rPr>
              <a:t>——</a:t>
            </a:r>
            <a:r>
              <a:rPr b="1" lang="zh-CN" sz="2100" spc="-1" strike="noStrike">
                <a:solidFill>
                  <a:srgbClr val="c00000"/>
                </a:solidFill>
                <a:latin typeface="Calibri"/>
                <a:ea typeface="楷体_GB2312"/>
              </a:rPr>
              <a:t>洗衣的时候，日子从水盆里过去；吃饭的时候，日子从饭碗里过去；默默时，便从凝然的双眼前过去。我觉察他去的匆匆了，伸出手遮挽时，它又从遮挽着的手边过去，天黑时，我躺在床上，它便伶伶俐俐地从我身上跨过，从我脚边飞去了。</a:t>
            </a:r>
            <a:r>
              <a:rPr b="1" lang="zh-CN" sz="2100" spc="-1" strike="noStrike">
                <a:solidFill>
                  <a:srgbClr val="002060"/>
                </a:solidFill>
                <a:latin typeface="Calibri"/>
                <a:ea typeface="楷体_GB2312"/>
              </a:rPr>
              <a:t>等我睁开眼和太阳再见，这算又溜走了一日。我掩着面叹息。但是新来的日子的影儿又开始在叹息里闪过了。</a:t>
            </a:r>
            <a:br>
              <a:rPr sz="2800"/>
            </a:b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458640" y="1916280"/>
            <a:ext cx="76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洗手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的时候，日子从水盆里过去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吃饭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的时候，日子从饭碗里过去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默默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时，便从凝然的双眼前过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453960" y="2836800"/>
            <a:ext cx="83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运用一系列的排比句描写人们日常生活的细节，充分说明了日子在生活的不经意间来去匆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6"/>
          <p:cNvSpPr/>
          <p:nvPr/>
        </p:nvSpPr>
        <p:spPr>
          <a:xfrm>
            <a:off x="453960" y="3790800"/>
            <a:ext cx="635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天黑时，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躺在床上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，它便伶伶俐俐地从我身上跨过，从我脚边飞去了。等我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睁开眼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和太阳再见，这算又溜走了一日。我掩着面叹息。但是新来的日子的影儿又开始在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叹息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里闪过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594160" y="5516640"/>
            <a:ext cx="437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跨过”“溜走”“闪过”时间逝去的步伐之快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2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2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2133720"/>
            <a:ext cx="8435880" cy="12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alibri Light"/>
                <a:ea typeface="楷体_GB2312"/>
              </a:rPr>
              <a:t>早上我起来的时候，小屋里射进两三方斜斜的太阳。太阳他有脚啊，轻轻悄悄地挪移了；我也茫茫然跟着旋转。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79280" y="35730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作者用拟人的修辞手法，赋予象征时光的太阳以生命，说太阳在自己身旁悄悄的挪移，伶俐地跨过，轻盈的飞去，作者为此感到茫然和惶恐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2060280"/>
            <a:ext cx="86392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Calibri Light"/>
              </a:rPr>
              <a:t>读第四段，从中你体会到作者怎样的思想感情？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2924280"/>
            <a:ext cx="6227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954f72"/>
                </a:solidFill>
                <a:latin typeface="Calibri"/>
              </a:rPr>
              <a:t>　</a:t>
            </a:r>
            <a:r>
              <a:rPr b="1" lang="zh-CN" sz="2100" spc="-1" strike="noStrike">
                <a:solidFill>
                  <a:srgbClr val="954f72"/>
                </a:solidFill>
                <a:latin typeface="Calibri"/>
              </a:rPr>
              <a:t>   </a:t>
            </a:r>
            <a:r>
              <a:rPr b="1" lang="zh-CN" sz="2100" spc="-1" strike="noStrike">
                <a:solidFill>
                  <a:srgbClr val="954f72"/>
                </a:solidFill>
                <a:latin typeface="Calibri"/>
                <a:ea typeface="楷体_GB2312"/>
              </a:rPr>
              <a:t>在逃去如飞的日子里，在千门万户的世界里的我能做些什么呢？只有徘徊罢了，只有匆匆罢了；在八千多日的匆匆里，除徘徊外，又剩些什么呢？过去的日子如轻烟，被微风吹散了，如薄雾，被初阳蒸融了；我留着些什么痕迹呢？我何曾留着像游丝样的痕迹呢？我赤裸裸来到这世界，转眼间也将赤裸裸的回去罢？但不能平的，为什么偏要白白走这一遭啊？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nodeType="clickEffect" fill="hold">
                      <p:stCondLst>
                        <p:cond delay="0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42760" y="620640"/>
            <a:ext cx="7599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Calibri Light"/>
              </a:rPr>
              <a:t>学习目标：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826920" y="213336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了解朱自清，初读课文，掌握本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课的生字，新词，积累好词佳句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引导学生自读自悟，感叹时间匆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匆，体会作者的感伤情怀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初步有感情地朗读课文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500" spc="-1" strike="noStrike">
                <a:solidFill>
                  <a:srgbClr val="ff0066"/>
                </a:solidFill>
                <a:latin typeface="Calibri Light"/>
                <a:ea typeface="楷体_GB2312"/>
              </a:rPr>
              <a:t>过去的日子如轻烟，被微风吹散了，如薄雾，被初阳蒸融了；我留着些什么痕迹呢？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5280" y="1123560"/>
            <a:ext cx="8291520" cy="11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Calibri"/>
              </a:rPr>
              <a:t>作者把自己匆匆而去的时间形象化为“轻烟”“薄雾”，比喻独特，联想新奇，概括凝练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4"/>
          <p:cNvSpPr/>
          <p:nvPr/>
        </p:nvSpPr>
        <p:spPr>
          <a:xfrm>
            <a:off x="395280" y="2276640"/>
            <a:ext cx="85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Arial"/>
                <a:ea typeface="楷体_GB2312"/>
              </a:rPr>
              <a:t>我赤裸裸来到这世界，转眼间也将赤裸裸的回去罢？但不能平的，为什么偏要白白走这一遭啊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468360" y="3284640"/>
            <a:ext cx="84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第一个“赤裸裸”指出生时光着身子什么都没有，第二个“赤裸裸”表示生命结束时一事无成，空着两只手。说明不珍惜时间，不利用好时间，将一事无成，什么也得不到，劝诫人们不能虚度年华，要活得有价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395280" y="2060640"/>
            <a:ext cx="73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我们每个人都不能虚度光阴。要好好珍惜时间。要多做一些有意义的事情，实现自己的人生价值，让自己的一生无怨无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601200"/>
            <a:ext cx="1621080" cy="102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4400" spc="-1" strike="noStrike">
                <a:solidFill>
                  <a:srgbClr val="c00000"/>
                </a:solidFill>
                <a:latin typeface="宋体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539640" y="1844640"/>
            <a:ext cx="54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         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作者一开始就向我们提出问题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但并没有直接作出回答</a:t>
            </a:r>
            <a:r>
              <a:rPr b="1" lang="en-US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002060"/>
                </a:solidFill>
                <a:latin typeface="楷体_GB2312"/>
                <a:ea typeface="楷体_GB2312"/>
              </a:rPr>
              <a:t>而是通过具体例子向我们描述了日子来去匆匆。</a:t>
            </a:r>
            <a:r>
              <a:rPr b="1" lang="zh-CN" sz="3600" spc="-1" strike="noStrike">
                <a:solidFill>
                  <a:srgbClr val="002060"/>
                </a:solidFill>
                <a:latin typeface="Arial"/>
                <a:ea typeface="楷体_GB2312"/>
              </a:rPr>
              <a:t>最后照应开头，发出时光匆匆的感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395280" y="620640"/>
            <a:ext cx="8043840" cy="19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.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燕子去了，有再来的时候；杨柳枯了，有再青的时候；桃花谢了，有再开的时候。但是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聪明的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你告诉我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们的日子为什么一去不复返呢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2627280" y="333360"/>
            <a:ext cx="280836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0"/>
          <p:cNvSpPr/>
          <p:nvPr/>
        </p:nvSpPr>
        <p:spPr>
          <a:xfrm>
            <a:off x="1197000" y="-205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美文赏析，师生品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11"/>
          <p:cNvSpPr/>
          <p:nvPr/>
        </p:nvSpPr>
        <p:spPr>
          <a:xfrm>
            <a:off x="468360" y="3284640"/>
            <a:ext cx="8424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这段话运用了那些修辞手法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燕子去了再来、杨柳枯了再青、桃花谢了再开表明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段中的问句表达了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179280" y="725400"/>
            <a:ext cx="864072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.“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在默默里算着，八千多日子已经从我手中溜去；像针尖上一滴水滴在大海里，我的日子滴在时间的流里，没有声音，也没有影子。我不禁头涔涔而泪潸潸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539640" y="-380880"/>
            <a:ext cx="439272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美文赏析，师生品味</a:t>
            </a:r>
            <a:r>
              <a:rPr b="1" lang="zh-CN" sz="8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24000" y="3284640"/>
            <a:ext cx="85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你能算出作者多大年龄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找出段中的比喻句，并说出把什么比喻成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3.</a:t>
            </a: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这样的比喻表达了作者怎样的心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0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0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0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1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1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1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2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50920" y="932040"/>
            <a:ext cx="88930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于是洗手的时候，日子从水盆里过去</a:t>
            </a: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;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吃饭的时候，日子从饭碗里过去；默默时，便从凝然的双眼前过去。我觉察他去的匆匆了伸出手遮挽时，他又从遮挽的手边过去，天黑时，我躺在床上，他便伶伶俐俐地从我身上跨过，从我脚边飞去了。等我睁开眼和太阳再见这算又溜走了一日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4"/>
          <p:cNvSpPr/>
          <p:nvPr/>
        </p:nvSpPr>
        <p:spPr>
          <a:xfrm>
            <a:off x="1332000" y="-1652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美文赏析，师生品味</a:t>
            </a:r>
            <a:r>
              <a:rPr b="1" lang="zh-CN" sz="8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289080" y="4051440"/>
            <a:ext cx="90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思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1.</a:t>
            </a: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段中运用了怎样的修辞手法</a:t>
            </a: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2.</a:t>
            </a:r>
            <a:r>
              <a:rPr b="1" lang="zh-CN" sz="36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找出段中的拟人句，说说它有什么作用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5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250920" y="268200"/>
            <a:ext cx="8712000" cy="28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①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洗手的时候，日子从水盆里过去；吃饭的时候，日子从饭碗里过去；默默时，便从凝然的双眼前过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44546a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句话运用了排比的修辞方法，既增强了文章的气势，又形象地写出了时间的匆匆流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②</a:t>
            </a:r>
            <a:r>
              <a:rPr b="1" lang="zh-CN" sz="4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天黑时，我躺在床上，他便伶伶俐俐地从我脚边飞去了。等我和太阳说再见，这又算溜走了一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这句话运用了拟人的修辞方法，把时间的匆匆流逝写得有形有声，可见可闻非常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in"/>
  </p:transition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50920" y="839880"/>
            <a:ext cx="8893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“过去的日子如轻烟，被微风吹散了，如薄雾，被初阳蒸融了；我留着些什么痕迹呢？我何曾留着像游丝样的痕迹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62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692360" y="-165240"/>
            <a:ext cx="2808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美文赏析，师生品味</a:t>
            </a:r>
            <a:r>
              <a:rPr b="1" lang="zh-CN" sz="8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89080" y="3716280"/>
            <a:ext cx="903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找出段中的比喻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2.“</a:t>
            </a:r>
            <a:r>
              <a:rPr b="1" lang="zh-CN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轻烟”、“薄雾”说明了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ed7d31"/>
                </a:solidFill>
                <a:latin typeface="楷体_GB2312"/>
                <a:ea typeface="楷体_GB2312"/>
              </a:rPr>
              <a:t>作者为什么会产生这样的疑问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0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8000" y="-668520"/>
            <a:ext cx="9036000" cy="65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2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珍惜时间的名言警句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黑发不知勤学早，白首方悔读书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一寸光阴一寸金，寸金难买寸光阴。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少年易老学难成，一寸光阴不可轻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少壮不努力，老大徒伤悲。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莫等闲，白了少年头，空悲切。</a:t>
            </a:r>
            <a:r>
              <a:rPr b="0" lang="zh-CN" sz="16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08000" y="-668520"/>
            <a:ext cx="9036000" cy="65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20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5400" spc="-1" strike="noStrike">
                <a:solidFill>
                  <a:srgbClr val="ff0066"/>
                </a:solidFill>
                <a:latin typeface="华文新魏"/>
                <a:ea typeface="华文新魏"/>
              </a:rPr>
              <a:t>珍惜时间的名言警句：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黑发不知勤学早，白首方悔读书迟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一寸光阴一寸金，寸金难买寸光阴。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少年易老学难成，一寸光阴不可轻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少壮不努力，老大徒伤悲。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ts val="5499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0563c1"/>
                </a:solidFill>
                <a:latin typeface="Calibri"/>
                <a:ea typeface="楷体_GB2312"/>
              </a:rPr>
              <a:t>莫等闲，白了少年头，空悲切。</a:t>
            </a:r>
            <a:r>
              <a:rPr b="0" lang="zh-CN" sz="1600" spc="-1" strike="noStrike">
                <a:solidFill>
                  <a:srgbClr val="0563c1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7" descr="朱自清"/>
          <p:cNvPicPr/>
          <p:nvPr/>
        </p:nvPicPr>
        <p:blipFill>
          <a:blip r:embed="rId1"/>
          <a:stretch/>
        </p:blipFill>
        <p:spPr>
          <a:xfrm>
            <a:off x="6138720" y="762120"/>
            <a:ext cx="2797200" cy="6126120"/>
          </a:xfrm>
          <a:prstGeom prst="rect">
            <a:avLst/>
          </a:prstGeom>
          <a:ln w="0">
            <a:noFill/>
          </a:ln>
        </p:spPr>
      </p:pic>
      <p:sp>
        <p:nvSpPr>
          <p:cNvPr id="53" name="Text Box 18"/>
          <p:cNvSpPr/>
          <p:nvPr/>
        </p:nvSpPr>
        <p:spPr>
          <a:xfrm>
            <a:off x="581040" y="1484280"/>
            <a:ext cx="5580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d7d31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ed7d31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朱自清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(1898</a:t>
            </a:r>
            <a:r>
              <a:rPr b="1" lang="en-US" sz="2400" spc="-1" strike="noStrike">
                <a:solidFill>
                  <a:srgbClr val="002060"/>
                </a:solidFill>
                <a:latin typeface="Times New Roman"/>
              </a:rPr>
              <a:t>—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948)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原名自华，字佩弦。中国现代著名诗人、散文家、学者、民主战士。中国著名的诗人和杰出的散文家。他的著作十分有特色，影响很大。朱自清是在 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“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五四</a:t>
            </a:r>
            <a:r>
              <a:rPr b="1" lang="zh-CN" sz="2400" spc="-1" strike="noStrike">
                <a:solidFill>
                  <a:srgbClr val="00206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浪潮的推动下，开始文学生涯的，直至逝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朱自清有著作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27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种，共约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190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万字，包括诗歌、散文、文艺批评、学术研究等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背影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春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、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荷塘月色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2060"/>
                </a:solidFill>
                <a:latin typeface="Arial"/>
              </a:rPr>
              <a:t>，是我们在中学时代要学习到的作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9"/>
          <p:cNvSpPr/>
          <p:nvPr/>
        </p:nvSpPr>
        <p:spPr>
          <a:xfrm>
            <a:off x="588960" y="54936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作者简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438624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 Light"/>
              </a:rPr>
              <a:t>朗读课文：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371520" y="1773360"/>
            <a:ext cx="78706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4"/>
          <p:cNvSpPr/>
          <p:nvPr/>
        </p:nvSpPr>
        <p:spPr>
          <a:xfrm>
            <a:off x="395280" y="0"/>
            <a:ext cx="5113440" cy="34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文章层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8000"/>
                </a:solidFill>
                <a:latin typeface="Arial"/>
                <a:ea typeface="楷体_GB2312"/>
              </a:rPr>
              <a:t>      </a:t>
            </a: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一、用对比的手法写出了日子 一去不复返的特点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Calibri Light"/>
              </a:rPr>
              <a:t>      </a:t>
            </a: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二、写时间在我们身边悄悄逝去，令人感慨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2060"/>
                </a:solidFill>
                <a:latin typeface="Calibri Light"/>
              </a:rPr>
              <a:t>      </a:t>
            </a:r>
            <a:r>
              <a:rPr b="1" lang="zh-CN" sz="3300" spc="-1" strike="noStrike">
                <a:solidFill>
                  <a:srgbClr val="002060"/>
                </a:solidFill>
                <a:latin typeface="Calibri Light"/>
              </a:rPr>
              <a:t>三、照应了开头，突出了作者关于时光匆匆的感慨，引人深思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8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801720" y="0"/>
            <a:ext cx="7054920" cy="77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生字新词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00"/>
                </a:solidFill>
                <a:latin typeface="Arial"/>
                <a:ea typeface="隶书"/>
              </a:rPr>
              <a:t>涔涔             潸潸               赤裸裸         徘徊             遮挽            蒸融                            伶伶俐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2268360" y="1916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cén  cé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6012000" y="1916280"/>
            <a:ext cx="2514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shān sh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5"/>
          <p:cNvSpPr/>
          <p:nvPr/>
        </p:nvSpPr>
        <p:spPr>
          <a:xfrm>
            <a:off x="2967120" y="2781360"/>
            <a:ext cx="16761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luǒ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6084720" y="2708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pái  huá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195640" y="3573360"/>
            <a:ext cx="21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zhē  w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6012000" y="3625920"/>
            <a:ext cx="291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zhēng ró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9"/>
          <p:cNvSpPr/>
          <p:nvPr/>
        </p:nvSpPr>
        <p:spPr>
          <a:xfrm>
            <a:off x="3635280" y="4443480"/>
            <a:ext cx="426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Arial"/>
              </a:rPr>
              <a:t>líng líng  lì l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Calibri"/>
              </a:rPr>
              <a:t>段落大意：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一（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）：提出问题，我们的日子为什么一去不复返呢？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二（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2—4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）：主要写时光在我们身边悄悄地逝去，令人感慨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三（</a:t>
            </a:r>
            <a:r>
              <a:rPr b="1" lang="en-US" sz="33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1" lang="zh-CN" sz="3300" spc="-1" strike="noStrike">
                <a:solidFill>
                  <a:srgbClr val="000000"/>
                </a:solidFill>
                <a:latin typeface="Calibri"/>
              </a:rPr>
              <a:t>）：照应开头，再次提出“我们的日子为什么一去不复返呢？”这一问题。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0160" y="6206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ff0000"/>
                </a:solidFill>
                <a:latin typeface="Calibri Light"/>
              </a:rPr>
              <a:t>课堂作业</a:t>
            </a:r>
            <a:r>
              <a:rPr b="1" lang="zh-CN" sz="3300" spc="-1" strike="noStrike">
                <a:solidFill>
                  <a:srgbClr val="000000"/>
                </a:solidFill>
                <a:latin typeface="Calibri Light"/>
              </a:rPr>
              <a:t>：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8560" y="2060640"/>
            <a:ext cx="8291520" cy="20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有感情地朗读课文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同桌互相默写本课生字词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69640" y="1506240"/>
            <a:ext cx="8135640" cy="16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8000"/>
                </a:solidFill>
                <a:latin typeface="黑体"/>
              </a:rPr>
              <a:t>读课文第一段：文章的开头有什么特色</a:t>
            </a:r>
            <a:r>
              <a:rPr b="1" lang="en-US" sz="3300" spc="-1" strike="noStrike">
                <a:solidFill>
                  <a:srgbClr val="008000"/>
                </a:solidFill>
                <a:latin typeface="黑体"/>
              </a:rPr>
              <a:t>?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-360" y="3357720"/>
            <a:ext cx="86756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8000"/>
                </a:solidFill>
                <a:latin typeface="Calibri"/>
              </a:rPr>
              <a:t>         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燕子去了，有再来的时候；杨柳枯了，有再青的时候；桃花谢了，有再开的时候。但是，聪明的，你告诉我，我们的日子为什么一去不复返呢？</a:t>
            </a:r>
            <a:r>
              <a:rPr b="1" lang="en-US" sz="3600" spc="-1" strike="noStrike">
                <a:solidFill>
                  <a:srgbClr val="008000"/>
                </a:solidFill>
                <a:latin typeface="Calibri"/>
                <a:ea typeface="楷体_GB2312"/>
              </a:rPr>
              <a:t>——</a:t>
            </a:r>
            <a:r>
              <a:rPr b="1" lang="zh-CN" sz="36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是有人偷了他们罢：那是谁？又藏在何处呢？是他们自己逃走了罢：现在又到了哪里呢？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9T07:05:20Z</dcterms:created>
  <dc:creator/>
  <dc:description/>
  <dc:language>en-US</dc:language>
  <cp:lastModifiedBy>Administrator</cp:lastModifiedBy>
  <dcterms:modified xsi:type="dcterms:W3CDTF">2016-12-13T03:11:23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