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2.png" ContentType="image/pn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931-E40C-4DFB-8D63-1801B67C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B4D-779F-492E-B9AA-6C2A65FF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09AD-B8D6-46EE-8171-72872342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514-DB75-4A93-8C70-21F4B803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CE7-1F75-4389-96B2-E2051279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1AAD-F87B-4A23-921E-962BC89F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3AA3-3784-4AFF-830F-8E2E94E8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10A3-7246-4339-8496-655A247B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0917-30ED-45BA-B913-980E9FA5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D292-3241-4924-B90E-AC9A13D9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8D65-C3F3-47E1-8F03-CED647E7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2E56-EF14-4FE9-AF63-1FF4B481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2212-AEBC-4B29-993C-8A311800AB02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2556000" y="2708280"/>
            <a:ext cx="417348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85723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收藏阳光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85723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95280" y="40464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西师大版  六年级  语文  上册  第六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6875640" y="3789360"/>
            <a:ext cx="16333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755640" y="1916280"/>
            <a:ext cx="7920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搜集有关“收藏阳光”的名人故事和名人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言，并把自己最喜欢的一句写下来，作为自己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座右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拓展延伸"/>
          <p:cNvPicPr/>
          <p:nvPr/>
        </p:nvPicPr>
        <p:blipFill>
          <a:blip r:embed="rId1"/>
          <a:stretch/>
        </p:blipFill>
        <p:spPr>
          <a:xfrm>
            <a:off x="514440" y="404640"/>
            <a:ext cx="2066760" cy="13622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1547640" y="3718080"/>
            <a:ext cx="79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笑，就是阳光，它能消除你脸上的冬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往事像落日映照的河面，我拣闪光的珍藏在心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　　　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莎士比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3132000" y="2565360"/>
            <a:ext cx="3508560" cy="18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611280" y="1989000"/>
            <a:ext cx="84247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学会本课生字，抓住重点词句，理解课文内容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分角色朗读课文，从朗读中理解田鼠们态度的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及其原因。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联系生活实际，感悟文章包含的深刻道理，树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极乐观的人生态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学习目标"/>
          <p:cNvPicPr/>
          <p:nvPr/>
        </p:nvPicPr>
        <p:blipFill>
          <a:blip r:embed="rId1"/>
          <a:stretch/>
        </p:blipFill>
        <p:spPr>
          <a:xfrm>
            <a:off x="468360" y="189000"/>
            <a:ext cx="2243160" cy="1579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398680" y="2781360"/>
            <a:ext cx="5256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谁收藏阳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为什么收藏阳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收藏阳光有什么好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2411280" y="981000"/>
            <a:ext cx="417384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收藏阳光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6875640" y="3789360"/>
            <a:ext cx="1633320" cy="1987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116000" y="1989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思考：当其他田鼠们都在休息时，尼克还在干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阅读思考"/>
          <p:cNvPicPr/>
          <p:nvPr/>
        </p:nvPicPr>
        <p:blipFill>
          <a:blip r:embed="rId1"/>
          <a:stretch/>
        </p:blipFill>
        <p:spPr>
          <a:xfrm>
            <a:off x="250920" y="115920"/>
            <a:ext cx="2017440" cy="14414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938160" y="2935800"/>
            <a:ext cx="820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田鼠们听了尼克的回答后，表现如何？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从中体会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9806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尼克收藏的阳光、颜色和单词分别是什么？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文中画出有关的句子读一读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细读"/>
          <p:cNvPicPr/>
          <p:nvPr/>
        </p:nvPicPr>
        <p:blipFill>
          <a:blip r:embed="rId1"/>
          <a:stretch/>
        </p:blipFill>
        <p:spPr>
          <a:xfrm>
            <a:off x="250920" y="333360"/>
            <a:ext cx="1498680" cy="4809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154160" y="2104920"/>
            <a:ext cx="79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阳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颜色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单词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863640" y="3919680"/>
            <a:ext cx="77058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总之，阳光、颜色和单词指收藏的精神生活。我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仅储备物质不行，还应该储备精神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4971960" y="20908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指让人感到温暖、振奋高兴的精神动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3395880" y="27241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指对生活各种颜色中景色的观察和描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4249800" y="33130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指讲述的美丽动人的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468360" y="169956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田鼠们睁开眼睛，昏暗的洞穴顿时变得明亮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阅读思考"/>
          <p:cNvPicPr/>
          <p:nvPr/>
        </p:nvPicPr>
        <p:blipFill>
          <a:blip r:embed="rId1"/>
          <a:stretch/>
        </p:blipFill>
        <p:spPr>
          <a:xfrm>
            <a:off x="250920" y="115920"/>
            <a:ext cx="2017440" cy="1441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304920" y="2419200"/>
            <a:ext cx="2414520" cy="3591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611280" y="4221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金色的阳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3114720" y="2419200"/>
            <a:ext cx="2627280" cy="34815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9"/>
          <p:cNvSpPr/>
          <p:nvPr/>
        </p:nvSpPr>
        <p:spPr>
          <a:xfrm>
            <a:off x="3708360" y="42210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红的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4"/>
          <a:stretch/>
        </p:blipFill>
        <p:spPr>
          <a:xfrm>
            <a:off x="6066000" y="2494080"/>
            <a:ext cx="2700000" cy="3321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1"/>
          <p:cNvSpPr/>
          <p:nvPr/>
        </p:nvSpPr>
        <p:spPr>
          <a:xfrm>
            <a:off x="6588000" y="42210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绿的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5"/>
          <a:stretch/>
        </p:blipFill>
        <p:spPr>
          <a:xfrm>
            <a:off x="2103480" y="4724280"/>
            <a:ext cx="2760480" cy="3943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3"/>
          <p:cNvSpPr/>
          <p:nvPr/>
        </p:nvSpPr>
        <p:spPr>
          <a:xfrm>
            <a:off x="1494360" y="5084640"/>
            <a:ext cx="48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稻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4" descr=""/>
          <p:cNvPicPr/>
          <p:nvPr/>
        </p:nvPicPr>
        <p:blipFill>
          <a:blip r:embed="rId6"/>
          <a:stretch/>
        </p:blipFill>
        <p:spPr>
          <a:xfrm>
            <a:off x="5492880" y="4870440"/>
            <a:ext cx="2358720" cy="29685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5"/>
          <p:cNvSpPr/>
          <p:nvPr/>
        </p:nvSpPr>
        <p:spPr>
          <a:xfrm>
            <a:off x="7960320" y="5157720"/>
            <a:ext cx="485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田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755640" y="1844640"/>
            <a:ext cx="77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从田鼠尼克的行为中，作者有什么感受？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出有关的句子读一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细读感悟"/>
          <p:cNvPicPr/>
          <p:nvPr/>
        </p:nvPicPr>
        <p:blipFill>
          <a:blip r:embed="rId1"/>
          <a:stretch/>
        </p:blipFill>
        <p:spPr>
          <a:xfrm>
            <a:off x="539640" y="620640"/>
            <a:ext cx="2233800" cy="596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971640" y="33570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精神储备”和“物质收藏”分别指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11280" y="4365720"/>
            <a:ext cx="835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对于生存，精神储备和物质收藏同等重要”这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话，你是怎么理解的？举一个生活中的例子来说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971640" y="1916280"/>
            <a:ext cx="7130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结合自己的感受，仿照课文最后一段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写法，写几句话，表达自己对生活的理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对快乐的理解，对困难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练习或作业"/>
          <p:cNvPicPr/>
          <p:nvPr/>
        </p:nvPicPr>
        <p:blipFill>
          <a:blip r:embed="rId1"/>
          <a:stretch/>
        </p:blipFill>
        <p:spPr>
          <a:xfrm>
            <a:off x="395280" y="620640"/>
            <a:ext cx="1000080" cy="762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547640" y="692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写一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6875640" y="3789360"/>
            <a:ext cx="1633320" cy="198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3T10:54:47Z</dcterms:created>
  <dc:creator/>
  <dc:description/>
  <dc:language>en-US</dc:language>
  <cp:lastModifiedBy>Administrator</cp:lastModifiedBy>
  <dcterms:modified xsi:type="dcterms:W3CDTF">2016-12-12T09:57:45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15000000000001024120</vt:lpwstr>
  </property>
</Properties>
</file>