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BE0-12B3-4CF4-9EA7-82326CAA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D01-E94C-467C-B678-76804DC8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035-F5A7-4509-9D3E-4E716381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AC8-0057-48A4-9511-73420B08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483-773D-4CCC-9E88-85B368D2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68F-D3DF-49C0-A499-DC33DCE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13D-B4C5-4FB8-9FB9-D6D3368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E7F-8153-449B-A113-07892A06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D18-180D-4E5B-B05B-492DC522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AD9-5D35-4B65-938B-6293BAF4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3BD-D6D5-4F64-B9AA-7A8941A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100-87FA-4642-BC74-5EA4FBE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238-A885-471B-ADC3-911EDCA3ECF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85800" y="16765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3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沙漠玫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267080" y="360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62120" y="8380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905120" y="25146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画词语各写两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2057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能学会本课的生字、新词，理解词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通过朗读课文，我能初步感知课文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会用自己喜欢的符号标出沙漠玫瑰绽放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685800" y="9144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指导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66680" y="2133720"/>
            <a:ext cx="7315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自己掌握的方法自主学习本课的生字、新词，联系上下文或利用工具书理解词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 Light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360" y="19807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玫瑰   枯萎   地衣    潮湿   边缘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舒展   青苔   展现    丰满   倔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积蓄   收缩   蕴藏    欣赏   极其难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28600" y="533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948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自由朗读课文，想一想文章的主要内容是什么？然后在小组交流。看看作者所要表达什么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04920" y="1219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文以“一把枯萎了的干草”写起，写了自己按照说明书的要求，把它整个泡在水里，用八天的时间观察到了沙漠玫瑰的复活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8088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朴实的语言，明快的节奏，从观察生活具体的事件开始，穿透事件表象，归纳其中反映的问题，再深入分析问题的形成，由此告诉我们知道一个事物的发生、发展过程，对全面理解问题是多么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hezhi200912211361"/>
          <p:cNvPicPr/>
          <p:nvPr/>
        </p:nvPicPr>
        <p:blipFill>
          <a:blip r:embed="rId1"/>
          <a:stretch/>
        </p:blipFill>
        <p:spPr>
          <a:xfrm>
            <a:off x="3498840" y="2724120"/>
            <a:ext cx="5632560" cy="4299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29ab53088bf0b8900b7b82c3"/>
          <p:cNvPicPr/>
          <p:nvPr/>
        </p:nvPicPr>
        <p:blipFill>
          <a:blip r:embed="rId2"/>
          <a:stretch/>
        </p:blipFill>
        <p:spPr>
          <a:xfrm>
            <a:off x="66600" y="152280"/>
            <a:ext cx="53164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69fa2a2ae081b53d5243c1e9"/>
          <p:cNvPicPr/>
          <p:nvPr/>
        </p:nvPicPr>
        <p:blipFill>
          <a:blip r:embed="rId1"/>
          <a:stretch/>
        </p:blipFill>
        <p:spPr>
          <a:xfrm>
            <a:off x="-158760" y="2755800"/>
            <a:ext cx="3591000" cy="36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2b5a109678553216a60fbf2"/>
          <p:cNvPicPr/>
          <p:nvPr/>
        </p:nvPicPr>
        <p:blipFill>
          <a:blip r:embed="rId2"/>
          <a:stretch/>
        </p:blipFill>
        <p:spPr>
          <a:xfrm>
            <a:off x="2365200" y="66600"/>
            <a:ext cx="3975120" cy="367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b679ca3997ea9ff63b87cefe"/>
          <p:cNvPicPr/>
          <p:nvPr/>
        </p:nvPicPr>
        <p:blipFill>
          <a:blip r:embed="rId3"/>
          <a:stretch/>
        </p:blipFill>
        <p:spPr>
          <a:xfrm>
            <a:off x="5194440" y="2901960"/>
            <a:ext cx="4114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9:49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