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FF2-0E70-42EA-A3E3-AE7C928F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13F-A18F-438C-ACAF-7CBDA769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289-4E27-411D-BC64-ACA78444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40A-D444-4DBC-A288-62F12BDC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D1F-C66D-4E13-91C7-FBDC713A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C5F-32AE-4A60-A9AC-BF4B5EA7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720-6E97-4C48-9D2C-8852C7B6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38A-C8EB-4CD6-AE11-42B5FF6B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7DA-2B95-40D4-88B2-F596BC4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35B-EBC6-45FD-895A-53CF871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F61-E552-4E77-A6A7-C08221AC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FD9-77F6-45D1-B76A-C1CC97C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EA1B-FA9D-4180-BC4F-039BFAF13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rcRect l="0" t="7162" r="0" b="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908000" y="1700280"/>
            <a:ext cx="59788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大海中的灯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134136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信一开头，冰心奶奶就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来谈友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友谊是什么？用信中的语言来说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306864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友谊是人我关系中最可宝贵的一种情缘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强调友谊有“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826920" y="4869000"/>
            <a:ext cx="792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肯耕种的才有收获，能贡献的才配接受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对朋友要有付出，有奉献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708960" y="247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指导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484280"/>
            <a:ext cx="86040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使你堕落，消沉的，不是你的好朋友。同时也要警惕，你是否在使你的朋友积极向上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交友要交挚友，互相帮助，共同进步的才是真正的朋友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要只想你能从朋友那里得到什么，也要想你的朋友能从你这里得到什么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朋友之间有索取，更要有奉献。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50920" y="1341360"/>
            <a:ext cx="867564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各种不同的人格，如同琴瑟上不同的弦子，和谐合奏，就能发出天乐般悦耳的共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每个人的性格不一，朋友之间要做到性格互补，取长补短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友谊是大海中的灯塔，沙漠里的绿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朋友之间的真诚帮助，犹如雪中送炭。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说友谊是人我关系中最可宝贵的一种情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6389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开篇点题，指出友谊是一种情缘，这个“情”就是“理想相同、兴趣相近、情感相洽、意气相投”。友谊可以填满空虚，补足缺憾，充实心灵。所以说“友谊是人我关系中最可宝贵的一种情缘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第三段那些句子可以体会到友谊是没有界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“朋友是不分国籍、不分年龄、不拘性别的”可以体会到友谊是没有界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4000" y="2637000"/>
            <a:ext cx="83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理解第四段中“各种不同的人格，如同琴瑟上不同的弦子，和谐合奏，就能发出天籁般悦耳的共鸣”这句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5280" y="4508640"/>
            <a:ext cx="829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以琴瑟上不同的弦子比喻性格不一的每个人，生动形象的说明了朋友之间要做到性格互补，取长补短，这样才能奏出天乐般悦耳的“人生之曲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1960" y="441360"/>
            <a:ext cx="79200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段中的“你自己率直豪爽┉┉你更羡慕你朋友的健硕欢欣”这句话运用的修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6200" y="1916280"/>
            <a:ext cx="8147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比句写出了不同性格的朋友之间性格可以互补，取长补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760760" y="320688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五段运用的什么修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98320" y="4005360"/>
            <a:ext cx="78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运用了两个生动的比喻，说明具有好品质、好性格的人对别人的吸引力就很大，就能交到更多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880" y="85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播种的才有收获，能贡献的才配接受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820880"/>
            <a:ext cx="87948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朋友要有付出、有贡献，而不能只是一味的索取，只有这样才能从容的接受朋友的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694880" y="3575160"/>
            <a:ext cx="26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难风雨故人来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8000" y="422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难得的是一个人在风雨交加的时候有朋友来探望，文中指在心里困顿，迷茫的时候有朋友来和你沟通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1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理解“海内存知己，天涯若比邻”这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话出自唐代诗人王勃的《送杜少府之任蜀州》意思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海之内有知己朋友，即使远在天边，也感觉像邻居一样近，这里作者借助名人名言抒发了自己的情感，说明“友谊是不因离别而断隔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4560" y="1196640"/>
            <a:ext cx="748980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中“这种关系，这段情缘”是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84265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的朋友之间真挚深厚的友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篇文章主要向小朋友谈了友谊的重要性，交友的艺术。让同学们懂得友谊的珍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280" y="14176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本课的生字，理解新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，流利，有感情地朗读课文，抓住优美词句，增进对友谊的理解，培养团结友爱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运用多种修辞手法表情达意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课文内容，并说说自己从中获得的启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71640" y="213372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　  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在生活中，你一定有许多小朋友，甚至有大朋友，说说你是怎样与他们相处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小蜜蜂"/>
          <p:cNvPicPr/>
          <p:nvPr/>
        </p:nvPicPr>
        <p:blipFill>
          <a:blip r:embed="rId1"/>
          <a:stretch/>
        </p:blipFill>
        <p:spPr>
          <a:xfrm>
            <a:off x="6804000" y="4941720"/>
            <a:ext cx="1355760" cy="141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议和说"/>
          <p:cNvPicPr/>
          <p:nvPr/>
        </p:nvPicPr>
        <p:blipFill>
          <a:blip r:embed="rId2"/>
          <a:stretch/>
        </p:blipFill>
        <p:spPr>
          <a:xfrm>
            <a:off x="611280" y="981000"/>
            <a:ext cx="2109600" cy="52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395280" y="4724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友情在我过去的生活里就像一盏明灯，照彻了我的灵魂，使我的生存有了一点点光彩。               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巴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01300000199483122055849198263_s"/>
          <p:cNvPicPr/>
          <p:nvPr/>
        </p:nvPicPr>
        <p:blipFill>
          <a:blip r:embed="rId1"/>
          <a:stretch/>
        </p:blipFill>
        <p:spPr>
          <a:xfrm>
            <a:off x="2895480" y="549360"/>
            <a:ext cx="3462480" cy="7504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55640" y="24922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4365720"/>
            <a:ext cx="770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生离不开友谊，但要得到真正的友谊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容易；友谊总需要忠诚去播种，用热情去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溉，用原则去培养，用谅解去护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马克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2008021418"/>
          <p:cNvPicPr/>
          <p:nvPr/>
        </p:nvPicPr>
        <p:blipFill>
          <a:blip r:embed="rId1"/>
          <a:stretch/>
        </p:blipFill>
        <p:spPr>
          <a:xfrm>
            <a:off x="3348000" y="693720"/>
            <a:ext cx="3168720" cy="359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95280" y="19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心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）享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人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老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福建长乐人，原名为谢婉莹，笔名为冰心 。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片冰心在玉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意。现代著名诗人，翻译家，作家，儿童文学家，崇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的哲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母爱，童真，自然是其作品的主旋律。她非常爱小孩，把小孩看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神圣的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深受人民的敬仰。她的作品中充满了对大自然的热爱，以及对母爱与童真的歌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869080" y="69228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冰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dc15484e09402528b3de051f"/>
          <p:cNvPicPr/>
          <p:nvPr/>
        </p:nvPicPr>
        <p:blipFill>
          <a:blip r:embed="rId1"/>
          <a:stretch/>
        </p:blipFill>
        <p:spPr>
          <a:xfrm>
            <a:off x="203040" y="0"/>
            <a:ext cx="2843280" cy="1871640"/>
          </a:xfrm>
          <a:prstGeom prst="rect">
            <a:avLst/>
          </a:prstGeom>
          <a:ln w="0">
            <a:noFill/>
          </a:ln>
        </p:spPr>
      </p:pic>
      <p:sp>
        <p:nvSpPr>
          <p:cNvPr id="48" name="Line 8"/>
          <p:cNvSpPr/>
          <p:nvPr/>
        </p:nvSpPr>
        <p:spPr>
          <a:xfrm>
            <a:off x="179280" y="184464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219971044463"/>
          <p:cNvPicPr/>
          <p:nvPr/>
        </p:nvPicPr>
        <p:blipFill>
          <a:blip r:embed="rId1"/>
          <a:stretch/>
        </p:blipFill>
        <p:spPr>
          <a:xfrm>
            <a:off x="-34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211640" y="220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灯 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8287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指导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2349000"/>
            <a:ext cx="872316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课文从文章中找出生字词语，并会写。（五分钟后交流自学情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比谁写得工整、正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476360" y="2276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切磋  谦虚  琴瑟  堕落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215440" y="414972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柴扉  卸却  拭去  崎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050920" y="1773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132000" y="17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ā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435640" y="1773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516720" y="1773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u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124000" y="36450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ē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203640" y="364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i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788000" y="3645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443640" y="364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í   q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生字学习"/>
          <p:cNvPicPr/>
          <p:nvPr/>
        </p:nvPicPr>
        <p:blipFill>
          <a:blip r:embed="rId1"/>
          <a:stretch/>
        </p:blipFill>
        <p:spPr>
          <a:xfrm>
            <a:off x="179280" y="0"/>
            <a:ext cx="20289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拘：不拘泥，不计较，不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气相投：指志趣和性格相投的人，彼此投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崇高：最高的；最高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志同道合：志向相同，意见相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切磋：切磋琢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憾：不够完美，令人感到遗憾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愁善感：形容人感情脆弱，容易发愁或伤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健硕：坚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鸣：由别人的某种情绪引起相同的情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堕落：（思想、行为）往坏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沉：情绪低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柴扉：柴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伤逝：悲伤地怀念去世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险峻：指山势高而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崎岖：形容山路高低不平，也比喻处境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疲乏：疲劳；困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劳顿：劳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率直：直爽而诚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豪爽：豪放直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落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—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写友谊的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—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写交友的艺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—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写冰心对小朋友的期望与祝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2:33:46Z</dcterms:created>
  <dc:creator/>
  <dc:description/>
  <dc:language>en-US</dc:language>
  <cp:lastModifiedBy>Administrator</cp:lastModifiedBy>
  <dcterms:modified xsi:type="dcterms:W3CDTF">2016-12-12T07:12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