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gif" ContentType="image/gif"/>
  <Override PartName="/ppt/media/image9.gif" ContentType="image/gif"/>
  <Override PartName="/ppt/media/image17.wmf" ContentType="image/x-wmf"/>
  <Override PartName="/ppt/media/image15.jpeg" ContentType="image/jpeg"/>
  <Override PartName="/ppt/media/image16.png" ContentType="image/png"/>
  <Override PartName="/ppt/media/image14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4.gif" ContentType="image/gif"/>
  <Override PartName="/ppt/media/image7.png" ContentType="image/png"/>
  <Override PartName="/ppt/media/image8.gif" ContentType="image/gi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A97-7092-425C-ADE8-EFA56793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BC0-DB73-4443-80D3-8D619FAB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B7325-3A6C-455E-8A21-5EE8E6DB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D32ED-2843-4C36-8357-75A9B228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44D6B-0754-409C-ACB8-26A79B41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E6DA4-4B32-4EFA-A7E7-765F2262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CCA79-F8B1-4CE9-9D0B-4A91E7CD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52688-6D6F-4654-9187-9DBFBE1D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07528-B265-446A-9E7F-35171EC4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62494-FB18-4746-9614-756F0623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9E6DA-81C4-4B80-A2D8-1B623791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6C7AA-104F-4617-9F9A-F35C3E68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475-7637-4114-B7F6-F4AA3F46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64082-0250-4564-8AE6-9EB3F8C1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D6C01-3060-4AC4-B39F-C47DDE5D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78F6F-FB33-4354-834F-398E5D8F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9D56A-8CA5-4D6A-B037-DF4F60F4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3A7DA-CEAF-4ADB-8EDF-28CC32EB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930A2-6A46-4720-B2E2-2517A983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F624D-4981-4E29-8EE0-1510C607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8FE96-6A3C-485A-9A29-56E6E889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C7A6E-1FF9-445D-8E4B-1EA33F4D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75B5B-5406-4D17-BF8D-C7D5FF2E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1F9-A5EB-4581-86AD-0E857817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9AF95-3A07-4AD5-998A-92B54A71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E657D-BD70-4CEE-85E1-FFB957E3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CFCEB-B94A-4B42-A7D4-D482E0F5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9DDFA-2ED3-4BB5-A2DC-0C37253A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CF640-1D64-40CD-8FD6-3AFE66F9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E5F37-B7A0-481C-B208-C73E0351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41CD2-CDA9-44FB-9198-DD3E903E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51662-8DA6-42E9-80E9-DDACA409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953AC-8423-44B5-B846-6288368B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7B1D6-6B22-4083-BC03-FD7BDA80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48DC-AF48-4F60-B89F-2E478581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8992B-86F9-46C1-ADE8-C19D155F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1824B-0576-441D-AE93-7090E00A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11535-525E-4732-9CD7-0E8026AD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EE9B4-DE4C-4B12-9475-173FF5F1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11738-9764-4FC3-BD61-B7DB217E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2A969-61AD-49B2-ABE6-BD57BA40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369C3-4BDA-490C-9409-6723E829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3C86A-41AA-4F54-A30C-924737A1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F298C-8079-4885-AD97-16E3AD9B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AE17A-2B3B-492C-9932-C6384465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08D6-1200-4921-8C5B-9507C45B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0AC08-7C1C-49C2-BB5F-109F476E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E4653-161D-4EC1-82AA-D907DB5F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146E6-1AC4-4242-A65B-BA0DC342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4D6FD-C985-46B1-BF76-61CCA925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70C6C-AD37-4C3B-A114-F9E6DBD6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16A79-28BD-4ECB-B80D-525D78C0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D92D3-B83D-4D54-8139-4B4A6580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B3A0B-31C0-4BBC-8F07-694FB01D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C02DD-3E05-46C1-B14F-C13A2155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984BB-F200-4E6C-A4B1-3AD71ADA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50BD-E802-4F15-813D-E9C19326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11C30-3835-4BDF-BD61-A7E3CE6E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D42D3-8F52-492B-A3A5-BFC1EEDA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DA8F7-444A-46DD-B8D0-02610B7D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E8740-4306-418F-9C5F-EBCD369C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C3980-4C7F-42E6-83F6-243B40EE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39552-096B-48A9-969B-CB7AB74A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0A149-85B7-4BDF-854B-50DA0E66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F995C-E36A-4522-99FE-B89E4445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90060-4D6E-4ED7-8C5C-9AA3E62C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CFEBA-68ED-40A6-9446-11DAA687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6F1F-19D1-472D-B868-B31B6E48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B42FE-A122-4DB7-AB50-5E5BD1CB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4DBB6-FBE1-48B0-B0CC-BEAC8992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AD685-9DB4-4603-B7CF-EDBCDF00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B57F0-4101-46C2-9181-94C813C3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F1917-208D-424E-AC03-E8EA4310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EFF60-FC38-44AC-8793-ADB69291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C4A56-BB9E-49A2-8CCD-EA800639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0EBEEC-F8ED-4CD0-A0AF-07F84C57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D7C64-85D2-4CF8-A8EC-8AFF2009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5DB992-3AA7-4E8C-90AE-69230C59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52C5-BFBB-4287-90C3-ABC4F3CC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88199-31CD-435C-814D-E2AFC35B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42B0F-8804-4F58-BDA7-0C04758A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85C93-64D4-4154-B821-297DF207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B49085-C605-4095-8594-1E882E59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C46B9C-F690-4952-BC63-8131A852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FF1AA-08AD-41DA-8E41-68638F49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3990D7-1CCE-47F2-9E37-27D917DB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E49845-9D2A-415D-82D7-AC95CCEB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06FB29-C5F0-4A76-B439-87E68479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787069-AF3E-4577-B9A2-DC9034FF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E08D-1697-42CB-B08D-BEA5D046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20B4F-28EF-459C-8F59-C82A7AF8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8F2DD6-8DED-4A72-BE0C-968490E8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08011C-C11D-4857-A123-953B33F6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8B7D1E-2E87-4634-9763-D728FED2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AE799-05C1-4360-96EA-9DFF09EC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40F14A-AF30-4D58-A1B0-6A1F6F7C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500BD-8398-4271-ADE2-07DD09AE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7E167-1521-4E05-8E12-22E1BD87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9CC8C-8C78-47F2-ABB0-FAB2D35F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C4C76-C77C-406C-A85B-D9421D34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3F72-295E-43C6-8B2E-EA7280C3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347E1-81E0-4297-B35B-DC790561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8008A5-1345-4650-85FC-5830621D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7BE889-17DB-4DF1-8FAC-AE841665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FFB18-6CC6-4409-AD8C-47009510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366B03-76C5-4874-A87F-93547476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CC8FD2-AAB9-473E-B88F-34949687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E52BA3-29C5-4C84-8742-B37F1481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2B328-E6A8-45F9-B97B-E44BA2DC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E53D47-1148-404F-A36F-6F26BB70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6043A0-2CA8-4249-AA7D-189FD2FF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9DE-096D-4A42-A98A-FB58DA3A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77AD-92CF-406C-A0DC-4C009B45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2F22F1-C9C9-4A87-8A33-A9C0ED6E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61FF49-205E-46AF-96C9-C84C5A2F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19D9F3-F70D-4959-B57F-1F609BE6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181002-90B7-4761-BC7C-998D6366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56EF1-2020-4617-995B-1C2A9EA7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27C304-6B15-4D9F-AF4E-BEB54EA2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DB35EF-D164-4F26-8ED6-B30F23B1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EB996A-7E09-48FA-8318-B6D1EB18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63E1F-6DA7-417A-89FE-29D54FD9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E7953E-1032-4D00-B5FF-4479B543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DA40-477D-4821-8D53-377B6EDB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094966-9C7A-42A4-BCDC-60E09230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66B518-A3F8-43E8-8B25-31376948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844810-A545-4B21-B3EC-187CDCFC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ABD823-731F-4140-85A4-466B93FB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D530C3-436B-436D-96B5-4CE4D331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2570F3-E1A2-4631-8528-B352FB43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AB133-111B-4AAE-932A-89F5F4CF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D922-B784-42B9-9E29-0AD473F8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DCA7-96FE-40C2-B531-837DC87C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F611-84D8-4837-AC76-289828C1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9180A-51BB-48E8-A516-583A44CF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AE110-0191-4EFC-8AD1-16F46308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C0B5-EFBA-45BF-9201-BDDDDC1D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6F38-0F28-4ABA-B879-2B4C4DC9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C827E-3DD2-43F2-A3C7-E025BCF6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DBF-FEE7-4F82-82A1-CA7E3F73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9DAB-0F86-405E-BB77-2456F114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A15D7-3FD1-4873-9198-BBE8AA68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05AD-9BC0-44DD-A9E0-185D2F7F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F9CF0-9089-4369-ACA5-B717222C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FF967-BE5B-49BC-8466-233BE924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3DBE6-64C6-45F1-8A6E-649B9081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42D59-5B5C-4DB5-9866-BA6A04AC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C914E-41F1-442D-A2C6-F7EC28EC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7DAF8-62FC-4F4A-9E1F-8325FCF6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1B2F-5817-411C-9B73-8E64CFD8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344-B38B-48F1-AA4E-486596AF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71C31-D886-428C-AC19-D52436D9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AC0C6-1A00-4401-8664-A0DFD847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A6A4F-51DE-4747-8F89-5EC44D6A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2B724-070C-420B-85B8-1B5C481D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A7C5-FFC5-40AF-914F-85F35D8B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1DA3B-636A-47A1-8EDC-531D6598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667FF-9E20-425A-BCB6-06D84D30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129EA-F40E-4417-9F3E-523C0486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709C9-1154-4B01-88B9-70212C0A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60338-4A8F-482A-963C-849BD898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469-488C-4C68-AFAF-C2F80EE5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CBB3F-EBEE-4D0D-A329-65DD54A2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D8DA7-3797-4E87-B746-F1252099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65C5B-C00D-4D7D-8404-9F10541E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460E6-63B1-46CB-B313-E193B207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A67DD-268C-4DC0-A276-E904955D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D5C1F-7450-470C-A352-7A762D2B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D975A-85BF-4EC4-AFD1-C9C95886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97636-420E-44F7-ACA4-A80E89F7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1017A-5A0C-4484-9D70-658B2E31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9CA72-7877-44AA-8FB0-A0717CEC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E8D-E777-427C-B65A-59B78A34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B7F6A-CE29-4607-B7FA-B9CFBD3C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A4081-2094-4547-94D2-BB9749E9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1AEFC-2E03-4A2B-9748-3DB74EA1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8654A-29F2-4068-9292-AB27F1E6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9120B-96D3-4926-9E7A-43F0B2D2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EDE39-E893-46EE-8C39-A1021DB5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1C163-2283-459D-B1D7-555AFE55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A005D-AED6-4B9A-A72F-D7B8C21B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365D6-8B2D-45C4-A4F9-1B9C4884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28733-9AF0-427C-8F00-AD6800C0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7D1-2C3D-4321-8AE6-639B6B72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0C733-FA46-405C-8CD1-1F8F7AF0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A307D-5ABF-4946-9E96-06B10E2E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B2699-6C22-489F-AD1D-76331237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394D5-DFDA-43F7-8C37-2EBBE450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30E51-37EC-488D-A148-6A3DFABD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4665C-13B8-48E7-84E9-C10DE604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7CD5D-F42B-4A19-8F53-9FDE1F76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C74FB-28F8-4535-9727-927BC85F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D9350-45F1-4202-AE30-3E25F852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D1012-9303-41EF-8B9F-1494D785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EFB-3BBA-4240-AFF0-CB573E60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6C31C-8A50-417F-BC06-A37597E0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E14E4-FE14-465D-8171-7C980B4F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7AB3E-3499-49B6-BE10-BE2A6907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B10CE-25C9-40ED-ADD9-1AE41A4C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27F4E-FA07-479C-BD85-B0F6F07D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034D3-8B12-4877-A0CD-AAA96B35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57004-5847-4944-97DE-14ED8366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C95BC-6DB3-45AA-9BF3-EDA9A30D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1574A-9241-41B1-A42D-DA43A2CB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00A06-1A5A-4D0A-8B7B-661BF895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80B-65EE-46CC-B5F4-6880B44F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63EE8-4FAA-42D8-93AC-06A361F0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189CD-4453-4772-820B-D85E2C95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571E9-E5A8-4FDB-BB6D-FF0F9DB4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96EF3-E3D4-4D40-A218-45C8C5AC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D0C6A-BC55-4B85-A937-D79BD5C2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0ADD2-87C5-4E19-86AF-5FE9AB78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D3CFD-226A-400B-9916-C2E4EC28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D43D5-AA66-430C-8489-EACB8D67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3E241-455B-4E68-AAA0-A2B95689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CEBD7-7AF5-40D3-A157-4BFBA5C9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DD4C-905D-4953-B190-C15ACFF1960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B93C-2D65-447F-B975-1F3B81579D9F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E26F-6DCB-48A7-A360-EC860F423AC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00EF-1305-4299-A192-246715B90659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75A6-B04B-4BCD-AFD5-9FA0CC770E8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E0EF-DE40-4A5A-A9D0-29EE8A4AAFF2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4A60-A7E8-492B-80B4-D513D1C0195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F511-8F2E-4788-BA32-0A14C933B1B7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C37E-F365-4C7D-9631-6C5B49636B9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303B-5896-460E-A253-50F9D7435906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67F5-BAE7-49B4-B9CA-5CF040D2553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2A30-F581-48CE-8DEF-C063CF7AD40E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379F-CC6B-405B-AB70-1B5D1FB9551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DFAC-09CC-448E-9B7C-5BDCD469AD07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A3D5-88A0-4370-9522-67E1E6AA1DB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75E9-8205-4F8A-B79D-9D026DFD0150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B2BC-17D4-40CA-A7D7-10865B8E52E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90D3-CBE3-4CEA-BA13-482FBF8BC19C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456840" y="650196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4DBF-D1BC-4A25-A2EF-64EBF2A15D8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3124080" y="6501960"/>
            <a:ext cx="28958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6552720" y="650196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CD16-3B74-485E-880E-F979F145E8A4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250E-B2D7-4EF8-AA96-50515541462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28EC-13FD-4C88-96A1-1005EF82BBBF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1220-A3CA-4F9D-A741-6E9F9BD836B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5A0F-8214-4B34-8D94-2CDCCD448F56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9603-84A1-4EAB-9CB0-AE96749BF65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A79B-2DF9-4396-AD9B-10BCAD80649E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4B1F-D999-436C-BBA7-EFACFE49692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B85F-8DB0-43D5-8E0C-5873E8CE58DF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3662-1A96-4403-94DC-D7F08473361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0DEB-E7FE-4DA6-B39A-58386FE9E770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D1A3-0E18-45C3-A94A-DFEE37E2E38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70E0-38AA-436F-A3B9-D9412A4A3735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54D5-36F6-4EB4-B895-1E23FB2912C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0501-1748-4CC5-8C11-6D9829A6A522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B6C9-45A0-4DB5-BE01-008F7C3222B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779E-A74C-4B68-AD6D-9FD98193040F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4" name="Picture 2" descr="29"/>
          <p:cNvPicPr/>
          <p:nvPr/>
        </p:nvPicPr>
        <p:blipFill>
          <a:blip r:embed="rId1"/>
          <a:stretch/>
        </p:blipFill>
        <p:spPr>
          <a:xfrm>
            <a:off x="2627280" y="620640"/>
            <a:ext cx="3959280" cy="4896000"/>
          </a:xfrm>
          <a:prstGeom prst="rect">
            <a:avLst/>
          </a:prstGeom>
          <a:ln w="0">
            <a:noFill/>
          </a:ln>
        </p:spPr>
      </p:pic>
      <p:sp>
        <p:nvSpPr>
          <p:cNvPr id="1245" name="日期占位符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00E9-9CFF-48C6-AD14-4DAF3816866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3"/>
          <p:cNvSpPr/>
          <p:nvPr/>
        </p:nvSpPr>
        <p:spPr>
          <a:xfrm>
            <a:off x="3995640" y="55911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鲁 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日期占位符 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5FE0-A982-42D4-917A-ED27AC7D657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2"/>
          <p:cNvSpPr/>
          <p:nvPr/>
        </p:nvSpPr>
        <p:spPr>
          <a:xfrm>
            <a:off x="468360" y="3357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AutoShape 3"/>
          <p:cNvSpPr/>
          <p:nvPr/>
        </p:nvSpPr>
        <p:spPr>
          <a:xfrm>
            <a:off x="971640" y="2421000"/>
            <a:ext cx="288720" cy="2736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4"/>
          <p:cNvSpPr/>
          <p:nvPr/>
        </p:nvSpPr>
        <p:spPr>
          <a:xfrm>
            <a:off x="2340000" y="227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差不多、差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2411280" y="2924280"/>
            <a:ext cx="12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差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2411280" y="3645000"/>
            <a:ext cx="12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出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2411280" y="4221000"/>
            <a:ext cx="12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参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2340000" y="486900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大病差后 、久病出差（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1042920" y="3645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1187280" y="29242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971640" y="4797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1187280" y="227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1187280" y="42228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ī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539640" y="342900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AutoShape 15"/>
          <p:cNvSpPr/>
          <p:nvPr/>
        </p:nvSpPr>
        <p:spPr>
          <a:xfrm>
            <a:off x="5651640" y="2708280"/>
            <a:ext cx="215640" cy="1440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WordArt 16"/>
          <p:cNvSpPr txBox="1"/>
          <p:nvPr/>
        </p:nvSpPr>
        <p:spPr>
          <a:xfrm>
            <a:off x="1258920" y="907920"/>
            <a:ext cx="158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华文新魏"/>
              </a:rPr>
              <a:t>多音字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6804000" y="2708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堵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6804000" y="3429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边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6877080" y="39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活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5580000" y="2708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5651640" y="342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5724360" y="3933720"/>
            <a:ext cx="14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5148360" y="328608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24"/>
          <p:cNvSpPr/>
          <p:nvPr/>
        </p:nvSpPr>
        <p:spPr>
          <a:xfrm>
            <a:off x="5087520" y="3213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4" name="Object 2"/>
              <p:cNvSpPr txBox="1"/>
              <p:nvPr/>
            </p:nvSpPr>
            <p:spPr>
              <a:xfrm>
                <a:off x="2017800" y="2585880"/>
                <a:ext cx="915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Object 3"/>
              <p:cNvSpPr txBox="1"/>
              <p:nvPr/>
            </p:nvSpPr>
            <p:spPr>
              <a:xfrm>
                <a:off x="6208560" y="2585880"/>
                <a:ext cx="9162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6" name=""/>
          <p:cNvSpPr txBox="1"/>
          <p:nvPr/>
        </p:nvSpPr>
        <p:spPr>
          <a:xfrm>
            <a:off x="6013440" y="3573360"/>
            <a:ext cx="35337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entury Gothic"/>
              </a:rPr>
              <a:t>zhu</a:t>
            </a:r>
            <a:r>
              <a:rPr b="1" lang="en-US" sz="3200" spc="-1" strike="noStrike">
                <a:solidFill>
                  <a:srgbClr val="404040"/>
                </a:solidFill>
                <a:latin typeface="Century Gothic"/>
              </a:rPr>
              <a:t>ǎ</a:t>
            </a:r>
            <a:r>
              <a:rPr b="1" lang="zh-CN" sz="3200" spc="-1" strike="noStrike">
                <a:solidFill>
                  <a:srgbClr val="000000"/>
                </a:solidFill>
                <a:latin typeface="Century Gothic"/>
              </a:rPr>
              <a:t>n  (</a:t>
            </a:r>
            <a:r>
              <a:rPr b="1" lang="zh-CN" sz="3200" spc="-1" strike="noStrike">
                <a:solidFill>
                  <a:srgbClr val="000000"/>
                </a:solidFill>
                <a:latin typeface="Century Gothic"/>
              </a:rPr>
              <a:t>转动</a:t>
            </a:r>
            <a:r>
              <a:rPr b="1" lang="zh-CN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7" name="日期占位符 6"/>
          <p:cNvSpPr/>
          <p:nvPr/>
        </p:nvSpPr>
        <p:spPr>
          <a:xfrm>
            <a:off x="457200" y="6502320"/>
            <a:ext cx="2133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8BF2-37A9-45F2-BC7A-D7E356DFA76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AutoShape 5"/>
          <p:cNvSpPr/>
          <p:nvPr/>
        </p:nvSpPr>
        <p:spPr>
          <a:xfrm>
            <a:off x="1763640" y="2276640"/>
            <a:ext cx="216000" cy="172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6"/>
          <p:cNvSpPr/>
          <p:nvPr/>
        </p:nvSpPr>
        <p:spPr>
          <a:xfrm>
            <a:off x="1044720" y="2852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7"/>
          <p:cNvSpPr/>
          <p:nvPr/>
        </p:nvSpPr>
        <p:spPr>
          <a:xfrm>
            <a:off x="2006640" y="1989000"/>
            <a:ext cx="33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   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8"/>
          <p:cNvSpPr/>
          <p:nvPr/>
        </p:nvSpPr>
        <p:spPr>
          <a:xfrm>
            <a:off x="2052720" y="3645000"/>
            <a:ext cx="37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   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校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9"/>
          <p:cNvSpPr/>
          <p:nvPr/>
        </p:nvSpPr>
        <p:spPr>
          <a:xfrm>
            <a:off x="4888080" y="2911320"/>
            <a:ext cx="6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AutoShape 10"/>
          <p:cNvSpPr/>
          <p:nvPr/>
        </p:nvSpPr>
        <p:spPr>
          <a:xfrm>
            <a:off x="5796000" y="2276640"/>
            <a:ext cx="144360" cy="1635120"/>
          </a:xfrm>
          <a:custGeom>
            <a:avLst/>
            <a:gdLst>
              <a:gd name="textAreaLeft" fmla="*/ 92160 w 144360"/>
              <a:gd name="textAreaRight" fmla="*/ 144360 w 144360"/>
              <a:gd name="textAreaTop" fmla="*/ 42480 h 1635120"/>
              <a:gd name="textAreaBottom" fmla="*/ 1592640 h 163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11"/>
          <p:cNvSpPr/>
          <p:nvPr/>
        </p:nvSpPr>
        <p:spPr>
          <a:xfrm>
            <a:off x="6192720" y="1989000"/>
            <a:ext cx="25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zh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日期占位符 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84D7-4F56-4B2F-9E48-1E884480069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2"/>
          <p:cNvSpPr/>
          <p:nvPr/>
        </p:nvSpPr>
        <p:spPr>
          <a:xfrm>
            <a:off x="684360" y="2133720"/>
            <a:ext cx="856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4329"/>
                </a:solidFill>
                <a:latin typeface="宋体"/>
              </a:rPr>
              <a:t>请同学们快速浏览课文，完成以下三个任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4329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394329"/>
                </a:solidFill>
                <a:latin typeface="宋体"/>
              </a:rPr>
              <a:t>标明各个小节序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432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94329"/>
                </a:solidFill>
                <a:latin typeface="宋体"/>
              </a:rPr>
              <a:t>作者回忆了鲁迅先生的哪几件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7" name="Picture 3" descr="0007"/>
          <p:cNvPicPr/>
          <p:nvPr/>
        </p:nvPicPr>
        <p:blipFill>
          <a:blip r:embed="rId1"/>
          <a:stretch/>
        </p:blipFill>
        <p:spPr>
          <a:xfrm>
            <a:off x="4643280" y="5950080"/>
            <a:ext cx="2089440" cy="895320"/>
          </a:xfrm>
          <a:prstGeom prst="rect">
            <a:avLst/>
          </a:prstGeom>
          <a:ln w="0">
            <a:noFill/>
          </a:ln>
        </p:spPr>
      </p:pic>
      <p:pic>
        <p:nvPicPr>
          <p:cNvPr id="1338" name="Picture 4" descr="整体感知"/>
          <p:cNvPicPr/>
          <p:nvPr/>
        </p:nvPicPr>
        <p:blipFill>
          <a:blip r:embed="rId2"/>
          <a:stretch/>
        </p:blipFill>
        <p:spPr>
          <a:xfrm>
            <a:off x="684360" y="549360"/>
            <a:ext cx="2017440" cy="417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547640" y="127764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394329"/>
                </a:solidFill>
                <a:latin typeface="宋体"/>
                <a:ea typeface="宋体"/>
              </a:rPr>
              <a:t>研读课文 重点赏析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日期占位符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4444-1D5E-45D0-AB41-3E844475F92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3"/>
          <p:cNvSpPr/>
          <p:nvPr/>
        </p:nvSpPr>
        <p:spPr>
          <a:xfrm>
            <a:off x="826920" y="2421000"/>
            <a:ext cx="792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你认为哪一个生活场景给你留下最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刻的印象？最能看出他的什么性格特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日期占位符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8207-51E8-4C4E-994D-031E0D8792D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2"/>
          <p:cNvSpPr/>
          <p:nvPr/>
        </p:nvSpPr>
        <p:spPr>
          <a:xfrm>
            <a:off x="539640" y="62064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394329"/>
                </a:solidFill>
                <a:latin typeface="Times New Roman"/>
              </a:rPr>
              <a:t>本文前三段反映了鲁迅是怎么样的一个人？从哪些地方体现出来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3"/>
          <p:cNvSpPr/>
          <p:nvPr/>
        </p:nvSpPr>
        <p:spPr>
          <a:xfrm>
            <a:off x="684360" y="206208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段：开门见山的写了鲁迅先生的笑。这真诚、明朗的笑确实是鲁迅先生独一无二的，反映了他性格率直开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4"/>
          <p:cNvSpPr/>
          <p:nvPr/>
        </p:nvSpPr>
        <p:spPr>
          <a:xfrm>
            <a:off x="973080" y="364500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段：写鲁迅先生的走路特点是轻捷快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5"/>
          <p:cNvSpPr/>
          <p:nvPr/>
        </p:nvSpPr>
        <p:spPr>
          <a:xfrm>
            <a:off x="685800" y="4508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鲁迅先生不注意人的衣着，是说明鲁迅先生不以外表看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日期占位符 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194F-3856-483B-96D3-5B5828808D2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2"/>
          <p:cNvSpPr/>
          <p:nvPr/>
        </p:nvSpPr>
        <p:spPr>
          <a:xfrm>
            <a:off x="3132000" y="123840"/>
            <a:ext cx="62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e7e18"/>
                </a:solidFill>
                <a:latin typeface="Times New Roman"/>
                <a:ea typeface="华文行楷"/>
              </a:rPr>
              <a:t>笑声明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3"/>
          <p:cNvSpPr/>
          <p:nvPr/>
        </p:nvSpPr>
        <p:spPr>
          <a:xfrm>
            <a:off x="793800" y="1584360"/>
            <a:ext cx="774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乐观爽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平易近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坦白真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鲁迅形象便跃然纸上，跟一些人心目中“多疑善怒”、“冷酷无情”的鲁迅形成了鲜明对照。 这里，他不再是神情严峻横眉冷对千夫指的斗士，而是一位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慈爱的长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一个普通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可亲可爱的老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从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拉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了读者与伟人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距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5"/>
          <p:cNvSpPr/>
          <p:nvPr/>
        </p:nvSpPr>
        <p:spPr>
          <a:xfrm>
            <a:off x="787320" y="3860640"/>
            <a:ext cx="86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使人感受到鲁迅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率真、质朴、毫不做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性格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6"/>
          <p:cNvSpPr/>
          <p:nvPr/>
        </p:nvSpPr>
        <p:spPr>
          <a:xfrm>
            <a:off x="1116000" y="97632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笑开头有何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日期占位符 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4F62-19C1-461E-9F79-AD95A6DA135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2"/>
          <p:cNvSpPr/>
          <p:nvPr/>
        </p:nvSpPr>
        <p:spPr>
          <a:xfrm>
            <a:off x="1116000" y="577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中有多处提到了鲁迅的笑声，请找一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5"/>
          <p:cNvSpPr/>
          <p:nvPr/>
        </p:nvSpPr>
        <p:spPr>
          <a:xfrm>
            <a:off x="971640" y="126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鲁迅说 “好久不见，好久不见”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才自己笑起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6"/>
          <p:cNvSpPr/>
          <p:nvPr/>
        </p:nvSpPr>
        <p:spPr>
          <a:xfrm>
            <a:off x="1042920" y="1913040"/>
            <a:ext cx="777708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校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海上述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间隙，鲁迅见萧红进来，对着几乎天天见面的她，居然说 出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“好久不见，好久不见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样随便，这样孩子化的语言，透着风趣，透着玩笑；表现了他的幽默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11"/>
          <p:cNvSpPr/>
          <p:nvPr/>
        </p:nvSpPr>
        <p:spPr>
          <a:xfrm>
            <a:off x="826920" y="4365720"/>
            <a:ext cx="691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 txBox="1"/>
          <p:nvPr/>
        </p:nvSpPr>
        <p:spPr>
          <a:xfrm>
            <a:off x="1258920" y="836280"/>
            <a:ext cx="763416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我说：“天晴啦，太阳出来啦”。鲁迅先生和他的夫人都笑了，一种对于冲破忧郁心境的崭然会意的笑。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404040"/>
                </a:solidFill>
                <a:latin typeface="宋体"/>
                <a:ea typeface="宋体"/>
              </a:rPr>
              <a:t>忧郁心境”是作者隐晦地告诉我们，当时的社会是黑暗的让人压抑。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404040"/>
                </a:solidFill>
                <a:latin typeface="宋体"/>
                <a:ea typeface="宋体"/>
              </a:rPr>
              <a:t>天晴啦，太阳出来啦“是一语双关，暗含对光明的社会向往。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宋体"/>
                <a:ea typeface="宋体"/>
              </a:rPr>
              <a:t>鲁迅先生和许广平先生的崭然的会意的笑，说明他们懂得作者这句话的意思，他们也有同感。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日期占位符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4D9F-4A55-458B-96A7-EE3C80CF9D8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日期占位符 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AA72-E2FD-4100-A8F6-81D4BE81430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2"/>
          <p:cNvSpPr/>
          <p:nvPr/>
        </p:nvSpPr>
        <p:spPr>
          <a:xfrm>
            <a:off x="3276720" y="609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e7e18"/>
                </a:solidFill>
                <a:latin typeface="Times New Roman"/>
                <a:ea typeface="华文行楷"/>
              </a:rPr>
              <a:t>走路轻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3"/>
          <p:cNvSpPr/>
          <p:nvPr/>
        </p:nvSpPr>
        <p:spPr>
          <a:xfrm>
            <a:off x="108000" y="1773360"/>
            <a:ext cx="98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4329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94329"/>
                </a:solidFill>
                <a:latin typeface="Times New Roman"/>
              </a:rPr>
              <a:t>刚抓起帽子来往头上一扣，同时左腿就伸出去了”</a:t>
            </a:r>
            <a:r>
              <a:rPr b="1" lang="zh-CN" sz="2400" spc="-1" strike="noStrike">
                <a:solidFill>
                  <a:srgbClr val="394329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4"/>
          <p:cNvSpPr/>
          <p:nvPr/>
        </p:nvSpPr>
        <p:spPr>
          <a:xfrm>
            <a:off x="684360" y="2781360"/>
            <a:ext cx="799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94329"/>
                </a:solidFill>
                <a:latin typeface="Times New Roman"/>
              </a:rPr>
              <a:t>这些动作表现出鲁迅精干敏捷的性格特征，和一往无前、义无返顾的大无畏精神。淡淡几笔，就画龙点睛般地勾画出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独一无二、鲜灵生动的“活的鲁迅”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日期占位符 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4ECE-B95B-4169-AF4E-76D62D0A6AA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2"/>
          <p:cNvSpPr/>
          <p:nvPr/>
        </p:nvSpPr>
        <p:spPr>
          <a:xfrm>
            <a:off x="1069920" y="1413000"/>
            <a:ext cx="251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鲁迅先生的笑声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明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，是从心里的欢喜，若有人说了什么可笑的话，鲁迅先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笑得连烟卷都拿不住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常常是笑得咳嗽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3"/>
          <p:cNvSpPr/>
          <p:nvPr/>
        </p:nvSpPr>
        <p:spPr>
          <a:xfrm>
            <a:off x="3589200" y="1820880"/>
            <a:ext cx="36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鲁迅先生走路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轻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……他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抓起帽子拉往头上一扣，同时左腿就伸出去了，仿佛不顾一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走去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4"/>
          <p:cNvSpPr/>
          <p:nvPr/>
        </p:nvSpPr>
        <p:spPr>
          <a:xfrm>
            <a:off x="1332000" y="7714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灵动传神的细节，质朴浅白的语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5"/>
          <p:cNvSpPr/>
          <p:nvPr/>
        </p:nvSpPr>
        <p:spPr>
          <a:xfrm>
            <a:off x="2408400" y="53341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爽朗乐观、率真可亲、平易近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6"/>
          <p:cNvSpPr/>
          <p:nvPr/>
        </p:nvSpPr>
        <p:spPr>
          <a:xfrm>
            <a:off x="7524720" y="1413000"/>
            <a:ext cx="100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8"/>
          <p:cNvSpPr/>
          <p:nvPr/>
        </p:nvSpPr>
        <p:spPr>
          <a:xfrm>
            <a:off x="7431120" y="2054160"/>
            <a:ext cx="124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敏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性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坚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-360" y="75060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3b675a"/>
                </a:solidFill>
                <a:latin typeface="Century Gothic"/>
              </a:rPr>
              <a:t>关于鲁迅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48" name="Picture 3" descr="027a45b5ef36099d37d3ca14"/>
          <p:cNvPicPr/>
          <p:nvPr/>
        </p:nvPicPr>
        <p:blipFill>
          <a:blip r:embed="rId1"/>
          <a:stretch/>
        </p:blipFill>
        <p:spPr>
          <a:xfrm>
            <a:off x="514440" y="1614600"/>
            <a:ext cx="2305080" cy="3228840"/>
          </a:xfrm>
          <a:prstGeom prst="rect">
            <a:avLst/>
          </a:prstGeom>
          <a:ln w="0">
            <a:noFill/>
          </a:ln>
        </p:spPr>
      </p:pic>
      <p:sp>
        <p:nvSpPr>
          <p:cNvPr id="1249" name="Text Box 4"/>
          <p:cNvSpPr/>
          <p:nvPr/>
        </p:nvSpPr>
        <p:spPr>
          <a:xfrm>
            <a:off x="3059280" y="1484280"/>
            <a:ext cx="5688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　</a:t>
            </a:r>
            <a:r>
              <a:rPr b="0" lang="en-US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鲁迅，浙江绍兴人，原名周树人</a:t>
            </a:r>
            <a:r>
              <a:rPr b="1" lang="en-US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世纪中国伟大的思想家和文学家，也是</a:t>
            </a:r>
            <a:r>
              <a:rPr b="1" lang="en-US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世纪的文化巨人之一，鲁迅堪称现代中国的“民族魂”，文学不过是他传播思想的武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毛主席评价他是伟大的无产阶级的文学家、思想家、革命家，是中国文化革命的主将。也被人民称为“民族魂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代表作品：</a:t>
            </a:r>
            <a:r>
              <a:rPr b="1" lang="en-US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《</a:t>
            </a:r>
            <a:r>
              <a:rPr b="1" lang="zh-CN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呐喊</a:t>
            </a:r>
            <a:r>
              <a:rPr b="1" lang="en-US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》《</a:t>
            </a:r>
            <a:r>
              <a:rPr b="1" lang="zh-CN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彷徨</a:t>
            </a:r>
            <a:r>
              <a:rPr b="1" lang="en-US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》《</a:t>
            </a:r>
            <a:r>
              <a:rPr b="1" lang="zh-CN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故事新编</a:t>
            </a:r>
            <a:r>
              <a:rPr b="1" lang="en-US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》《</a:t>
            </a:r>
            <a:r>
              <a:rPr b="1" lang="zh-CN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狂人日记</a:t>
            </a:r>
            <a:r>
              <a:rPr b="1" lang="en-US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》《</a:t>
            </a:r>
            <a:r>
              <a:rPr b="1" lang="zh-CN" sz="2400" spc="-1" strike="noStrike" u="sng">
                <a:solidFill>
                  <a:srgbClr val="394329"/>
                </a:solidFill>
                <a:uFillTx/>
                <a:latin typeface="Times New Roman"/>
                <a:ea typeface="宋体"/>
              </a:rPr>
              <a:t>朝花夕拾</a:t>
            </a:r>
            <a:r>
              <a:rPr b="1" lang="en-US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》《</a:t>
            </a:r>
            <a:r>
              <a:rPr b="1" lang="zh-CN" sz="2400" spc="-1" strike="noStrike">
                <a:solidFill>
                  <a:srgbClr val="394329"/>
                </a:solidFill>
                <a:latin typeface="Times New Roman"/>
                <a:ea typeface="宋体"/>
              </a:rPr>
              <a:t>孔乙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5"/>
          <p:cNvSpPr/>
          <p:nvPr/>
        </p:nvSpPr>
        <p:spPr>
          <a:xfrm>
            <a:off x="826920" y="508464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675a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7f3365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7f3365"/>
                </a:solidFill>
                <a:latin typeface="Times New Roman"/>
                <a:ea typeface="宋体"/>
              </a:rPr>
              <a:t>鲁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3365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7f3365"/>
                </a:solidFill>
                <a:latin typeface="Times New Roman"/>
                <a:ea typeface="宋体"/>
              </a:rPr>
              <a:t>1881</a:t>
            </a:r>
            <a:r>
              <a:rPr b="0" lang="zh-CN" sz="2400" spc="-1" strike="noStrike">
                <a:solidFill>
                  <a:srgbClr val="7f3365"/>
                </a:solidFill>
                <a:latin typeface="Times New Roman"/>
                <a:ea typeface="宋体"/>
              </a:rPr>
              <a:t>～</a:t>
            </a:r>
            <a:r>
              <a:rPr b="0" lang="zh-CN" sz="2400" spc="-1" strike="noStrike">
                <a:solidFill>
                  <a:srgbClr val="7f3365"/>
                </a:solidFill>
                <a:latin typeface="Times New Roman"/>
                <a:ea typeface="宋体"/>
              </a:rPr>
              <a:t>1936</a:t>
            </a:r>
            <a:r>
              <a:rPr b="0" lang="zh-CN" sz="2400" spc="-1" strike="noStrike">
                <a:solidFill>
                  <a:srgbClr val="7f3365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1" name="图片 5" descr="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29760" y="6343560"/>
            <a:ext cx="26172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日期占位符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CF40-3659-45DB-8F6B-BB2753EE49B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"/>
          <p:cNvSpPr/>
          <p:nvPr/>
        </p:nvSpPr>
        <p:spPr>
          <a:xfrm>
            <a:off x="828720" y="1917720"/>
            <a:ext cx="775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章第二部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-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主要写了作者两次到鲁迅家中做客的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3"/>
          <p:cNvSpPr/>
          <p:nvPr/>
        </p:nvSpPr>
        <p:spPr>
          <a:xfrm>
            <a:off x="901800" y="32860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章第三部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-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写了鲁迅先生怎样对待青年人的来信这件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4"/>
          <p:cNvSpPr/>
          <p:nvPr/>
        </p:nvSpPr>
        <p:spPr>
          <a:xfrm>
            <a:off x="971640" y="46544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章第四部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-3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写了鲁迅先生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故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5"/>
          <p:cNvSpPr/>
          <p:nvPr/>
        </p:nvSpPr>
        <p:spPr>
          <a:xfrm>
            <a:off x="324000" y="3333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本文主要讲了几件事？从哪些段落可以看出来的？找出这件事的起止段落，小组讨论，组长发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日期占位符 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5F19-CCD9-4EBA-881F-A0B6D1408F0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5"/>
          <p:cNvSpPr/>
          <p:nvPr/>
        </p:nvSpPr>
        <p:spPr>
          <a:xfrm>
            <a:off x="3419640" y="6922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e7e18"/>
                </a:solidFill>
                <a:latin typeface="Times New Roman"/>
                <a:ea typeface="华文行楷"/>
              </a:rPr>
              <a:t>回复来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6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青年人写信，写得太草率，鲁迅先生是深恶痛绝之的。”“但他还是展读着每封由不同角落里的青年的信，眼睛不济时，便戴起眼镜来看，常常看到夜里很深的时光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7"/>
          <p:cNvSpPr/>
          <p:nvPr/>
        </p:nvSpPr>
        <p:spPr>
          <a:xfrm>
            <a:off x="179280" y="3284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强烈地要求着别人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严格地约束着自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却仍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宽容地对待别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表现了鲁迅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更让我们感受到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于青年人的关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微不至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日期占位符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B703-4652-4CFD-A629-C6DAA9865CD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2"/>
          <p:cNvSpPr/>
          <p:nvPr/>
        </p:nvSpPr>
        <p:spPr>
          <a:xfrm>
            <a:off x="716040" y="795240"/>
            <a:ext cx="82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文最后一自然段的鬼是指的什么样的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"/>
          <p:cNvSpPr/>
          <p:nvPr/>
        </p:nvSpPr>
        <p:spPr>
          <a:xfrm>
            <a:off x="396720" y="213372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里是作者借题发挥的一句话，这里的鬼是指那些品格低下，思想落后或者是立场错误的文化人。这些人由于生活在黑暗的旧社会，因循守旧、思想落后。而鲁迅代表了中国新文化运动的方向，他不但是伟大的作家，而且是一位坚强的战士，他利用文化为武器，与反动派作斗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6548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262626"/>
                </a:solidFill>
                <a:latin typeface="Century Gothic"/>
              </a:rPr>
              <a:t>鲁迅先生是一位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Century Gothic"/>
              </a:rPr>
              <a:t>                                      </a:t>
            </a:r>
            <a:r>
              <a:rPr b="1" lang="en-US" sz="37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3700" spc="-1" strike="noStrike">
                <a:solidFill>
                  <a:srgbClr val="ff0000"/>
                </a:solidFill>
                <a:latin typeface="Century Gothic"/>
              </a:rPr>
              <a:t>的人</a:t>
            </a:r>
            <a:endParaRPr b="0" lang="en-US" sz="3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4" name="日期占位符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7E81-F5EB-4894-A1E0-7BC97C2FA17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5" name="Picture 4" descr="0014"/>
          <p:cNvPicPr/>
          <p:nvPr/>
        </p:nvPicPr>
        <p:blipFill>
          <a:blip r:embed="rId1"/>
          <a:stretch/>
        </p:blipFill>
        <p:spPr>
          <a:xfrm>
            <a:off x="6732720" y="981000"/>
            <a:ext cx="1008000" cy="74628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5" descr="29"/>
          <p:cNvPicPr/>
          <p:nvPr/>
        </p:nvPicPr>
        <p:blipFill>
          <a:blip r:embed="rId2"/>
          <a:stretch/>
        </p:blipFill>
        <p:spPr>
          <a:xfrm>
            <a:off x="2987640" y="2492280"/>
            <a:ext cx="23241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日期占位符 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E7D5-C729-4A54-BBB2-2DD0830AA80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2"/>
          <p:cNvSpPr/>
          <p:nvPr/>
        </p:nvSpPr>
        <p:spPr>
          <a:xfrm>
            <a:off x="826920" y="248112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乐观爽朗、平易近人、豁达随和、幽默、博爱（宽厚仁爱）、倔强、关爱他人、待友全心全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3"/>
          <p:cNvSpPr/>
          <p:nvPr/>
        </p:nvSpPr>
        <p:spPr>
          <a:xfrm>
            <a:off x="684360" y="1193760"/>
            <a:ext cx="61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鲁迅的形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Text Box 2"/>
          <p:cNvSpPr/>
          <p:nvPr/>
        </p:nvSpPr>
        <p:spPr>
          <a:xfrm>
            <a:off x="7470720" y="380880"/>
            <a:ext cx="546120" cy="69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3"/>
          <p:cNvSpPr/>
          <p:nvPr/>
        </p:nvSpPr>
        <p:spPr>
          <a:xfrm>
            <a:off x="6399360" y="4495680"/>
            <a:ext cx="610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Picture 4" descr="26"/>
          <p:cNvPicPr/>
          <p:nvPr/>
        </p:nvPicPr>
        <p:blipFill>
          <a:blip r:embed="rId1"/>
          <a:stretch/>
        </p:blipFill>
        <p:spPr>
          <a:xfrm>
            <a:off x="3132000" y="1359000"/>
            <a:ext cx="4764240" cy="3571920"/>
          </a:xfrm>
          <a:prstGeom prst="rect">
            <a:avLst/>
          </a:prstGeom>
          <a:ln w="0">
            <a:noFill/>
          </a:ln>
        </p:spPr>
      </p:pic>
      <p:sp>
        <p:nvSpPr>
          <p:cNvPr id="1393" name="Text Box 5"/>
          <p:cNvSpPr/>
          <p:nvPr/>
        </p:nvSpPr>
        <p:spPr>
          <a:xfrm>
            <a:off x="8207640" y="0"/>
            <a:ext cx="14094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6"/>
          <p:cNvSpPr/>
          <p:nvPr/>
        </p:nvSpPr>
        <p:spPr>
          <a:xfrm>
            <a:off x="1187280" y="5272200"/>
            <a:ext cx="921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193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年在上海，和宋庆龄蔡元培等在一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日期占位符 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0311-CC50-4956-A21C-B33972ACA37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6" name="Picture 2" descr="20"/>
          <p:cNvPicPr/>
          <p:nvPr/>
        </p:nvPicPr>
        <p:blipFill>
          <a:blip r:embed="rId1"/>
          <a:stretch/>
        </p:blipFill>
        <p:spPr>
          <a:xfrm>
            <a:off x="2627280" y="1403280"/>
            <a:ext cx="4124520" cy="3200400"/>
          </a:xfrm>
          <a:prstGeom prst="rect">
            <a:avLst/>
          </a:prstGeom>
          <a:ln w="0">
            <a:noFill/>
          </a:ln>
        </p:spPr>
      </p:pic>
      <p:sp>
        <p:nvSpPr>
          <p:cNvPr id="1397" name="Text Box 3"/>
          <p:cNvSpPr/>
          <p:nvPr/>
        </p:nvSpPr>
        <p:spPr>
          <a:xfrm>
            <a:off x="2209680" y="2666880"/>
            <a:ext cx="3276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4"/>
          <p:cNvSpPr/>
          <p:nvPr/>
        </p:nvSpPr>
        <p:spPr>
          <a:xfrm>
            <a:off x="2133720" y="6477120"/>
            <a:ext cx="4343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"/>
          <p:cNvSpPr/>
          <p:nvPr/>
        </p:nvSpPr>
        <p:spPr>
          <a:xfrm>
            <a:off x="4114800" y="5181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93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年在全国木刻展览会上和青年在一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6"/>
          <p:cNvSpPr/>
          <p:nvPr/>
        </p:nvSpPr>
        <p:spPr>
          <a:xfrm>
            <a:off x="5791320" y="2666880"/>
            <a:ext cx="3124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1" name="Picture 2" descr="25"/>
          <p:cNvPicPr/>
          <p:nvPr/>
        </p:nvPicPr>
        <p:blipFill>
          <a:blip r:embed="rId1"/>
          <a:stretch/>
        </p:blipFill>
        <p:spPr>
          <a:xfrm>
            <a:off x="2268360" y="1916280"/>
            <a:ext cx="4667400" cy="3501720"/>
          </a:xfrm>
          <a:prstGeom prst="rect">
            <a:avLst/>
          </a:prstGeom>
          <a:ln w="0">
            <a:noFill/>
          </a:ln>
        </p:spPr>
      </p:pic>
      <p:sp>
        <p:nvSpPr>
          <p:cNvPr id="1402" name="Text Box 3"/>
          <p:cNvSpPr/>
          <p:nvPr/>
        </p:nvSpPr>
        <p:spPr>
          <a:xfrm>
            <a:off x="1660680" y="295200"/>
            <a:ext cx="611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193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年在北京师范大学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日期占位符 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220D-2504-4BCF-BFFE-7710A5F011F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Picture 2" descr="24"/>
          <p:cNvPicPr/>
          <p:nvPr/>
        </p:nvPicPr>
        <p:blipFill>
          <a:blip r:embed="rId1"/>
          <a:stretch/>
        </p:blipFill>
        <p:spPr>
          <a:xfrm>
            <a:off x="3276720" y="1557360"/>
            <a:ext cx="5530680" cy="4148280"/>
          </a:xfrm>
          <a:prstGeom prst="rect">
            <a:avLst/>
          </a:prstGeom>
          <a:ln w="0">
            <a:noFill/>
          </a:ln>
        </p:spPr>
      </p:pic>
      <p:sp>
        <p:nvSpPr>
          <p:cNvPr id="1405" name="Text Box 3"/>
          <p:cNvSpPr/>
          <p:nvPr/>
        </p:nvSpPr>
        <p:spPr>
          <a:xfrm>
            <a:off x="324000" y="121608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d22"/>
                </a:solidFill>
                <a:latin typeface="宋体"/>
              </a:rPr>
              <a:t>1936</a:t>
            </a:r>
            <a:r>
              <a:rPr b="1" lang="zh-CN" sz="2800" spc="-1" strike="noStrike">
                <a:solidFill>
                  <a:srgbClr val="424d22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424d22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424d22"/>
                </a:solidFill>
                <a:latin typeface="宋体"/>
              </a:rPr>
              <a:t>月</a:t>
            </a:r>
            <a:r>
              <a:rPr b="1" lang="zh-CN" sz="2800" spc="-1" strike="noStrike">
                <a:solidFill>
                  <a:srgbClr val="424d22"/>
                </a:solidFill>
                <a:latin typeface="宋体"/>
              </a:rPr>
              <a:t>19</a:t>
            </a:r>
            <a:r>
              <a:rPr b="1" lang="zh-CN" sz="2800" spc="-1" strike="noStrike">
                <a:solidFill>
                  <a:srgbClr val="424d22"/>
                </a:solidFill>
                <a:latin typeface="宋体"/>
              </a:rPr>
              <a:t>日鲁迅在上海逝世。广大群众争相奔赴万国殡仪馆瞻仰遗容，中共中央也来电吊唁。</a:t>
            </a:r>
            <a:r>
              <a:rPr b="1" lang="zh-CN" sz="2800" spc="-1" strike="noStrike">
                <a:solidFill>
                  <a:srgbClr val="424d22"/>
                </a:solidFill>
                <a:latin typeface="宋体"/>
              </a:rPr>
              <a:t>22</a:t>
            </a:r>
            <a:r>
              <a:rPr b="1" lang="zh-CN" sz="2800" spc="-1" strike="noStrike">
                <a:solidFill>
                  <a:srgbClr val="424d22"/>
                </a:solidFill>
                <a:latin typeface="宋体"/>
              </a:rPr>
              <a:t>日，送葬群众多达数万人。鲁迅遗体覆盖着上海民众所献</a:t>
            </a:r>
            <a:r>
              <a:rPr b="1" lang="zh-CN" sz="2800" spc="-1" strike="noStrike">
                <a:solidFill>
                  <a:srgbClr val="424d22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424d22"/>
                </a:solidFill>
                <a:latin typeface="宋体"/>
              </a:rPr>
              <a:t>民族魂</a:t>
            </a:r>
            <a:r>
              <a:rPr b="1" lang="zh-CN" sz="2800" spc="-1" strike="noStrike">
                <a:solidFill>
                  <a:srgbClr val="424d22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424d22"/>
                </a:solidFill>
                <a:latin typeface="宋体"/>
              </a:rPr>
              <a:t>的旗子，安葬于虹桥万国公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4"/>
          <p:cNvSpPr/>
          <p:nvPr/>
        </p:nvSpPr>
        <p:spPr>
          <a:xfrm>
            <a:off x="5029200" y="5943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 迅 遗 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日期占位符 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FA99-B8BD-4659-A694-6B283448159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2" descr="图片1"/>
          <p:cNvPicPr/>
          <p:nvPr/>
        </p:nvPicPr>
        <p:blipFill>
          <a:blip r:embed="rId1"/>
          <a:stretch/>
        </p:blipFill>
        <p:spPr>
          <a:xfrm>
            <a:off x="1889280" y="1341360"/>
            <a:ext cx="3809880" cy="6211800"/>
          </a:xfrm>
          <a:prstGeom prst="rect">
            <a:avLst/>
          </a:prstGeom>
          <a:ln w="0">
            <a:noFill/>
          </a:ln>
        </p:spPr>
      </p:pic>
      <p:sp>
        <p:nvSpPr>
          <p:cNvPr id="1409" name="Text Box 3"/>
          <p:cNvSpPr/>
          <p:nvPr/>
        </p:nvSpPr>
        <p:spPr>
          <a:xfrm>
            <a:off x="5940360" y="234936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4d22"/>
                </a:solidFill>
                <a:latin typeface="Times New Roman"/>
              </a:rPr>
              <a:t>1956</a:t>
            </a:r>
            <a:r>
              <a:rPr b="1" lang="zh-CN" sz="2400" spc="-1" strike="noStrike">
                <a:solidFill>
                  <a:srgbClr val="424d22"/>
                </a:solidFill>
                <a:latin typeface="Times New Roman"/>
              </a:rPr>
              <a:t>年，鲁迅墓迁到上海虹口公园，由毛泽东题署墓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Text Box 2"/>
          <p:cNvSpPr/>
          <p:nvPr/>
        </p:nvSpPr>
        <p:spPr>
          <a:xfrm>
            <a:off x="324000" y="2060640"/>
            <a:ext cx="8748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94329"/>
                </a:solidFill>
                <a:latin typeface="Times New Roman"/>
              </a:rPr>
              <a:t>提起鲁迅，总会想起很多词语：深邃、沉重、严厉、倔强、勇毅、果敢……浓黑的一字须，根根向上的头发，吸着烟斗、面目严肃冷峻，这是鲁迅通常留给我们的印象，他似乎“对一切人都怀有忧虑和敌意”，但那却不是他的全部，他活着的时候，周围有许多文学青年愿意“亲近”他，萧红就是其中的一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日期占位符 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2DA4-B8F3-473D-8589-4DDF9827F90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2"/>
          <p:cNvSpPr/>
          <p:nvPr/>
        </p:nvSpPr>
        <p:spPr>
          <a:xfrm>
            <a:off x="826920" y="1413000"/>
            <a:ext cx="7086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布置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背会鲁迅先生写的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自嘲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和纪念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迅逝世三十周年臧克家写的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有的人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积累鲁迅先生的名言警句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2" name="Picture 3" descr="MCj04379900000[1]"/>
          <p:cNvPicPr/>
          <p:nvPr/>
        </p:nvPicPr>
        <p:blipFill>
          <a:blip r:embed="rId1"/>
          <a:stretch/>
        </p:blipFill>
        <p:spPr>
          <a:xfrm>
            <a:off x="6300720" y="4697280"/>
            <a:ext cx="1584360" cy="1508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日期占位符 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AB49-458C-4A9D-B313-26A1572CF4B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4" name="Picture 2" descr="12"/>
          <p:cNvPicPr/>
          <p:nvPr/>
        </p:nvPicPr>
        <p:blipFill>
          <a:blip r:embed="rId1"/>
          <a:stretch/>
        </p:blipFill>
        <p:spPr>
          <a:xfrm>
            <a:off x="2395440" y="1773360"/>
            <a:ext cx="2712960" cy="6834240"/>
          </a:xfrm>
          <a:prstGeom prst="rect">
            <a:avLst/>
          </a:prstGeom>
          <a:ln w="0">
            <a:noFill/>
          </a:ln>
        </p:spPr>
      </p:pic>
      <p:sp>
        <p:nvSpPr>
          <p:cNvPr id="1255" name="Text Box 3"/>
          <p:cNvSpPr/>
          <p:nvPr/>
        </p:nvSpPr>
        <p:spPr>
          <a:xfrm>
            <a:off x="6495840" y="380880"/>
            <a:ext cx="1521000" cy="69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回  忆  鲁  迅  先   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4"/>
          <p:cNvSpPr/>
          <p:nvPr/>
        </p:nvSpPr>
        <p:spPr>
          <a:xfrm>
            <a:off x="6403320" y="4495680"/>
            <a:ext cx="606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萧    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-360" y="663120"/>
            <a:ext cx="8209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203831"/>
                </a:solidFill>
                <a:latin typeface="Century Gothic"/>
              </a:rPr>
              <a:t>关于萧红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58" name="Picture 3" descr="9"/>
          <p:cNvPicPr/>
          <p:nvPr/>
        </p:nvPicPr>
        <p:blipFill>
          <a:blip r:embed="rId1"/>
          <a:stretch/>
        </p:blipFill>
        <p:spPr>
          <a:xfrm>
            <a:off x="755640" y="1592280"/>
            <a:ext cx="2030400" cy="3056040"/>
          </a:xfrm>
          <a:prstGeom prst="rect">
            <a:avLst/>
          </a:prstGeom>
          <a:ln w="0">
            <a:noFill/>
          </a:ln>
        </p:spPr>
      </p:pic>
      <p:sp>
        <p:nvSpPr>
          <p:cNvPr id="1259" name="Text Box 4"/>
          <p:cNvSpPr/>
          <p:nvPr/>
        </p:nvSpPr>
        <p:spPr>
          <a:xfrm>
            <a:off x="2857680" y="1628640"/>
            <a:ext cx="5715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4824a"/>
                </a:solidFill>
                <a:latin typeface="Times New Roman"/>
                <a:ea typeface="宋体"/>
              </a:rPr>
              <a:t>原名张乃莹，“萧红”是她发表</a:t>
            </a:r>
            <a:r>
              <a:rPr b="1" lang="en-US" sz="2000" spc="-1" strike="noStrike">
                <a:solidFill>
                  <a:srgbClr val="44824a"/>
                </a:solidFill>
                <a:latin typeface="Times New Roman"/>
                <a:ea typeface="宋体"/>
              </a:rPr>
              <a:t>《</a:t>
            </a:r>
            <a:r>
              <a:rPr b="1" lang="zh-CN" sz="2000" spc="-1" strike="noStrike">
                <a:solidFill>
                  <a:srgbClr val="44824a"/>
                </a:solidFill>
                <a:latin typeface="Times New Roman"/>
                <a:ea typeface="宋体"/>
              </a:rPr>
              <a:t>生死场</a:t>
            </a:r>
            <a:r>
              <a:rPr b="1" lang="en-US" sz="2000" spc="-1" strike="noStrike">
                <a:solidFill>
                  <a:srgbClr val="44824a"/>
                </a:solidFill>
                <a:latin typeface="Times New Roman"/>
                <a:ea typeface="宋体"/>
              </a:rPr>
              <a:t>》</a:t>
            </a:r>
            <a:r>
              <a:rPr b="1" lang="zh-CN" sz="2000" spc="-1" strike="noStrike">
                <a:solidFill>
                  <a:srgbClr val="44824a"/>
                </a:solidFill>
                <a:latin typeface="Times New Roman"/>
                <a:ea typeface="宋体"/>
              </a:rPr>
              <a:t>时使用的笔名。被誉为“</a:t>
            </a:r>
            <a:r>
              <a:rPr b="1" lang="en-US" sz="2000" spc="-1" strike="noStrike">
                <a:solidFill>
                  <a:srgbClr val="44824a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44824a"/>
                </a:solidFill>
                <a:latin typeface="Times New Roman"/>
                <a:ea typeface="宋体"/>
              </a:rPr>
              <a:t>年代的文学洛神”的萧红，是民国四大才女中命运最为悲苦的女性，也是一位传奇性人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汉仪综艺体简"/>
                <a:ea typeface="汉仪综艺体简"/>
              </a:rPr>
              <a:t>萧红小说的特点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4824a"/>
                </a:solidFill>
                <a:latin typeface="Times New Roman"/>
                <a:ea typeface="宋体"/>
              </a:rPr>
              <a:t>以抒情笔调写自我主观感受；散文化的小说结构；重文化风俗和自然景物的描写，不重人物性格的刻画；无完整的故事情节，然而韵味深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5"/>
          <p:cNvSpPr/>
          <p:nvPr/>
        </p:nvSpPr>
        <p:spPr>
          <a:xfrm>
            <a:off x="826920" y="4983120"/>
            <a:ext cx="23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e190e2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7f3365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7f3365"/>
                </a:solidFill>
                <a:latin typeface="Times New Roman"/>
                <a:ea typeface="宋体"/>
              </a:rPr>
              <a:t>萧      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3365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7f3365"/>
                </a:solidFill>
                <a:latin typeface="Times New Roman"/>
                <a:ea typeface="宋体"/>
              </a:rPr>
              <a:t>1911—1942</a:t>
            </a:r>
            <a:r>
              <a:rPr b="1" lang="zh-CN" sz="2400" spc="-1" strike="noStrike">
                <a:solidFill>
                  <a:srgbClr val="7f3365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1" name="图片 5" descr="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29760" y="6343560"/>
            <a:ext cx="261720" cy="314280"/>
          </a:xfrm>
          <a:prstGeom prst="rect">
            <a:avLst/>
          </a:prstGeom>
          <a:ln w="0">
            <a:noFill/>
          </a:ln>
        </p:spPr>
      </p:pic>
      <p:sp>
        <p:nvSpPr>
          <p:cNvPr id="1262" name="TextBox 6"/>
          <p:cNvSpPr/>
          <p:nvPr/>
        </p:nvSpPr>
        <p:spPr>
          <a:xfrm>
            <a:off x="2857680" y="5143680"/>
            <a:ext cx="55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4824a"/>
                </a:solidFill>
                <a:latin typeface="宋体"/>
                <a:ea typeface="宋体"/>
              </a:rPr>
              <a:t>主要作品：《生死场》、《马伯乐》、《呼兰河传》、《小城三月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Picture 2" descr="9"/>
          <p:cNvPicPr/>
          <p:nvPr/>
        </p:nvPicPr>
        <p:blipFill>
          <a:blip r:embed="rId1"/>
          <a:stretch/>
        </p:blipFill>
        <p:spPr>
          <a:xfrm>
            <a:off x="414360" y="1341360"/>
            <a:ext cx="2030400" cy="5918400"/>
          </a:xfrm>
          <a:prstGeom prst="rect">
            <a:avLst/>
          </a:prstGeom>
          <a:ln w="0">
            <a:noFill/>
          </a:ln>
        </p:spPr>
      </p:pic>
      <p:sp>
        <p:nvSpPr>
          <p:cNvPr id="1264" name="Text Box 3"/>
          <p:cNvSpPr/>
          <p:nvPr/>
        </p:nvSpPr>
        <p:spPr>
          <a:xfrm>
            <a:off x="4572000" y="685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"/>
          <p:cNvSpPr/>
          <p:nvPr/>
        </p:nvSpPr>
        <p:spPr>
          <a:xfrm>
            <a:off x="2484360" y="476280"/>
            <a:ext cx="60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1911</a:t>
            </a:r>
            <a:r>
              <a:rPr b="1" lang="zh-CN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年出生于黑龙江省呼兰县一个地主家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5"/>
          <p:cNvSpPr/>
          <p:nvPr/>
        </p:nvSpPr>
        <p:spPr>
          <a:xfrm>
            <a:off x="2411280" y="1341360"/>
            <a:ext cx="590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1930</a:t>
            </a:r>
            <a:r>
              <a:rPr b="1" lang="zh-CN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年为了反抗父母包办的婚姻离家出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6"/>
          <p:cNvSpPr/>
          <p:nvPr/>
        </p:nvSpPr>
        <p:spPr>
          <a:xfrm>
            <a:off x="2484360" y="22050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1932</a:t>
            </a:r>
            <a:r>
              <a:rPr b="1" lang="zh-CN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年认识萧军并与之结为志同道合的伴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2411280" y="307008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1934</a:t>
            </a:r>
            <a:r>
              <a:rPr b="1" lang="zh-CN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年在鲁迅的帮助下和萧军一起来到上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8"/>
          <p:cNvSpPr/>
          <p:nvPr/>
        </p:nvSpPr>
        <p:spPr>
          <a:xfrm>
            <a:off x="2435400" y="4024440"/>
            <a:ext cx="59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抗战爆发后，上海沦陷，萧红到了香港，</a:t>
            </a:r>
            <a:r>
              <a:rPr b="1" lang="en-US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1942</a:t>
            </a:r>
            <a:r>
              <a:rPr b="1" lang="zh-CN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年病逝于香港九龙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9"/>
          <p:cNvSpPr/>
          <p:nvPr/>
        </p:nvSpPr>
        <p:spPr>
          <a:xfrm>
            <a:off x="108000" y="42372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萧      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1911—1942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10"/>
          <p:cNvSpPr/>
          <p:nvPr/>
        </p:nvSpPr>
        <p:spPr>
          <a:xfrm>
            <a:off x="2346480" y="5068800"/>
            <a:ext cx="59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主要作品：</a:t>
            </a:r>
            <a:r>
              <a:rPr b="1" lang="en-US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生死场</a:t>
            </a:r>
            <a:r>
              <a:rPr b="1" lang="en-US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马伯乐</a:t>
            </a:r>
            <a:r>
              <a:rPr b="1" lang="en-US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呼兰河传</a:t>
            </a:r>
            <a:r>
              <a:rPr b="1" lang="en-US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小城三月</a:t>
            </a:r>
            <a:r>
              <a:rPr b="1" lang="en-US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9432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2000" y="1052280"/>
            <a:ext cx="4389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学习目标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53964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宋体"/>
                <a:ea typeface="宋体"/>
              </a:rPr>
              <a:t>1. </a:t>
            </a:r>
            <a:r>
              <a:rPr b="0" lang="zh-CN" sz="2800" spc="-1" strike="noStrike">
                <a:solidFill>
                  <a:srgbClr val="404040"/>
                </a:solidFill>
                <a:latin typeface="宋体"/>
                <a:ea typeface="宋体"/>
              </a:rPr>
              <a:t>体会伟人鲁迅日常生活中平易温和的一面。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宋体"/>
                <a:ea typeface="宋体"/>
              </a:rPr>
              <a:t>2. </a:t>
            </a:r>
            <a:r>
              <a:rPr b="0" lang="zh-CN" sz="2800" spc="-1" strike="noStrike">
                <a:solidFill>
                  <a:srgbClr val="404040"/>
                </a:solidFill>
                <a:latin typeface="宋体"/>
                <a:ea typeface="宋体"/>
              </a:rPr>
              <a:t>学习本文善于从撷取生活琐事中去展现人物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宋体"/>
                <a:ea typeface="宋体"/>
              </a:rPr>
              <a:t>性格的写作方法。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日期占位符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905D-2613-4D19-9C18-D882986CD48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日期占位符 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30AC-204D-4A0B-BC9B-0384BA4408E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2"/>
          <p:cNvSpPr/>
          <p:nvPr/>
        </p:nvSpPr>
        <p:spPr>
          <a:xfrm>
            <a:off x="2067120" y="981000"/>
            <a:ext cx="491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自学提示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由朗读课文，标出读不准的字音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理解的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entury Gothic"/>
                <a:ea typeface="黑体"/>
              </a:rPr>
              <a:t>你能读准下列加点字的音吗？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1042920" y="193968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咳嗽      不济     解剖     踌躇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遭殃      校对    崭然    草率 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深恶痛绝           噢的一声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Century Gothic"/>
              </a:rPr>
              <a:t>                                        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9" name="日期占位符 3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847A-3684-44D9-8B0B-3A507E3B583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4"/>
          <p:cNvSpPr/>
          <p:nvPr/>
        </p:nvSpPr>
        <p:spPr>
          <a:xfrm>
            <a:off x="2141640" y="211464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5"/>
          <p:cNvSpPr/>
          <p:nvPr/>
        </p:nvSpPr>
        <p:spPr>
          <a:xfrm>
            <a:off x="7423200" y="328464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6"/>
          <p:cNvSpPr/>
          <p:nvPr/>
        </p:nvSpPr>
        <p:spPr>
          <a:xfrm>
            <a:off x="4140360" y="203688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7"/>
          <p:cNvSpPr/>
          <p:nvPr/>
        </p:nvSpPr>
        <p:spPr>
          <a:xfrm>
            <a:off x="7386480" y="2087640"/>
            <a:ext cx="2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8"/>
          <p:cNvSpPr/>
          <p:nvPr/>
        </p:nvSpPr>
        <p:spPr>
          <a:xfrm>
            <a:off x="2141640" y="3313080"/>
            <a:ext cx="36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9"/>
          <p:cNvSpPr/>
          <p:nvPr/>
        </p:nvSpPr>
        <p:spPr>
          <a:xfrm>
            <a:off x="3776760" y="338292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10"/>
          <p:cNvSpPr/>
          <p:nvPr/>
        </p:nvSpPr>
        <p:spPr>
          <a:xfrm>
            <a:off x="5369040" y="331308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11"/>
          <p:cNvSpPr/>
          <p:nvPr/>
        </p:nvSpPr>
        <p:spPr>
          <a:xfrm>
            <a:off x="7840800" y="207648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12"/>
          <p:cNvSpPr/>
          <p:nvPr/>
        </p:nvSpPr>
        <p:spPr>
          <a:xfrm>
            <a:off x="2028960" y="1596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ò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13"/>
          <p:cNvSpPr/>
          <p:nvPr/>
        </p:nvSpPr>
        <p:spPr>
          <a:xfrm>
            <a:off x="4172040" y="159084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14"/>
          <p:cNvSpPr/>
          <p:nvPr/>
        </p:nvSpPr>
        <p:spPr>
          <a:xfrm>
            <a:off x="7074000" y="16714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óu  ch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15"/>
          <p:cNvSpPr/>
          <p:nvPr/>
        </p:nvSpPr>
        <p:spPr>
          <a:xfrm>
            <a:off x="5886360" y="16257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ō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16"/>
          <p:cNvSpPr/>
          <p:nvPr/>
        </p:nvSpPr>
        <p:spPr>
          <a:xfrm>
            <a:off x="1944720" y="284328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ā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17"/>
          <p:cNvSpPr/>
          <p:nvPr/>
        </p:nvSpPr>
        <p:spPr>
          <a:xfrm>
            <a:off x="5599080" y="457992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18"/>
          <p:cNvSpPr/>
          <p:nvPr/>
        </p:nvSpPr>
        <p:spPr>
          <a:xfrm>
            <a:off x="2173320" y="456876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19"/>
          <p:cNvSpPr/>
          <p:nvPr/>
        </p:nvSpPr>
        <p:spPr>
          <a:xfrm>
            <a:off x="5630760" y="40831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6" name="Picture 20" descr="0000"/>
          <p:cNvPicPr/>
          <p:nvPr/>
        </p:nvPicPr>
        <p:blipFill>
          <a:blip r:embed="rId1"/>
          <a:stretch/>
        </p:blipFill>
        <p:spPr>
          <a:xfrm>
            <a:off x="7093080" y="450864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297" name="Text Box 21"/>
          <p:cNvSpPr/>
          <p:nvPr/>
        </p:nvSpPr>
        <p:spPr>
          <a:xfrm>
            <a:off x="5237280" y="280044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hǎ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22"/>
          <p:cNvSpPr/>
          <p:nvPr/>
        </p:nvSpPr>
        <p:spPr>
          <a:xfrm rot="21480000">
            <a:off x="2033280" y="4044600"/>
            <a:ext cx="7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23"/>
          <p:cNvSpPr/>
          <p:nvPr/>
        </p:nvSpPr>
        <p:spPr>
          <a:xfrm>
            <a:off x="3718080" y="27525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à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3:24:55Z</dcterms:created>
  <dc:creator/>
  <dc:description/>
  <dc:language>en-US</dc:language>
  <cp:lastModifiedBy>Administrator</cp:lastModifiedBy>
  <dcterms:modified xsi:type="dcterms:W3CDTF">2016-12-12T06:40:4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